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69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269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1676520"/>
            <a:ext cx="8763120" cy="495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5e6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1880" y="-763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 - </a:t>
            </a:r>
            <a:fld id="{20C2D94A-6AC0-419A-A2E2-8B2E30B096B0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304920"/>
            <a:ext cx="876312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5e6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601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spcBef>
                <a:spcPts val="601"/>
              </a:spcBef>
              <a:buClr>
                <a:srgbClr val="c4884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2480">
              <a:spcBef>
                <a:spcPts val="601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5520" indent="-222480">
              <a:spcBef>
                <a:spcPts val="601"/>
              </a:spcBef>
              <a:buClr>
                <a:srgbClr val="c4884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4160" indent="-223920">
              <a:spcBef>
                <a:spcPts val="601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4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4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cc"/>
                </a:solidFill>
                <a:latin typeface="Times New Roman"/>
              </a:rPr>
              <a:t>Click to edit the title text format</a:t>
            </a:r>
            <a:endParaRPr b="1" lang="en-US" sz="8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cc"/>
                </a:solidFill>
                <a:latin typeface="Times New Roman"/>
              </a:rPr>
              <a:t>Click to edit the outline text format</a:t>
            </a:r>
            <a:endParaRPr b="0" lang="en-US" sz="7200" spc="-1" strike="noStrike">
              <a:solidFill>
                <a:srgbClr val="0099cc"/>
              </a:solidFill>
              <a:latin typeface="Times New Roman"/>
            </a:endParaRPr>
          </a:p>
          <a:p>
            <a:pPr lvl="1" marL="270360" indent="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539640" indent="192960" algn="ctr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819000" indent="279360" algn="ctr">
              <a:spcBef>
                <a:spcPts val="451"/>
              </a:spcBef>
              <a:buClr>
                <a:srgbClr val="c4884c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098360" indent="365760" algn="ctr">
              <a:spcBef>
                <a:spcPts val="451"/>
              </a:spcBef>
              <a:buClr>
                <a:srgbClr val="c4884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098360" indent="365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098360" indent="365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inessweek.com/magazine/content/05_36/b3949096_mz056.ht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1ToddMcFarlane.wm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inessweek.com/mediacenter/list/index001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etblue.com/havefun/media/media.asp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asons52.co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1VSBIABWTVDESTINATIONCEO320.wmv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-bradford-delong.net/multimedia/circular3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14600" y="609480"/>
            <a:ext cx="4635360" cy="5639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ctors of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four productive factors or resources of land, labor, capital and enterprise that are needed to profit from business and are  limited in supply (scar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any must use them efficiently and effectively to produce good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ether, the cost of acquiring and using these four resources to make and sell goods and services determines a company’s operat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ners/managers are the enterprise of the business, while the people are the labor and the capital buys materials, machin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nd may provide a specific location or a URL in cyberspace. The land may provide a specific location or a URL in cyber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resources allow for the creation of a product and/or service that customers value a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2"/>
              </a:rPr>
              <a:t>busines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schools redefining their niche and relate to the definitions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at is Busines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any’s business model not only outlines the plan for these resources but creates a competitive advantage in the value of its product and generates profitable sales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investing the profits the business increases its capital and contributes to the wealth of the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business activity is self-interested and competitive, and  this competition may benefit people and society when it leads resources to be employed in their most profitabl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pply and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ces of supply and demand determine a product’s market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601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urn, supply and demand are the result of peoples’ subjective judgment of the value or utility they will receive from supplying or consuming a particular 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w of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s the usefulness or utility from th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e price of a product or service, we generally demand less quantity  of it as the price increases and demand more of it as the prices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w of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ers are more willing to supply a product as the price increases and less willing to supply as the price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rule of business that says all people need profit from business commerce, nor they will profit equally from the busines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Business?</a:t>
            </a:r>
            <a:endParaRPr b="1" lang="en-US" sz="60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6172200"/>
            <a:ext cx="8915400" cy="609480"/>
            <a:chOff x="304920" y="6172200"/>
            <a:chExt cx="8915400" cy="609480"/>
          </a:xfrm>
        </p:grpSpPr>
        <p:sp>
          <p:nvSpPr>
            <p:cNvPr id="82" name=""/>
            <p:cNvSpPr/>
            <p:nvPr/>
          </p:nvSpPr>
          <p:spPr>
            <a:xfrm>
              <a:off x="4724640" y="6437160"/>
              <a:ext cx="4495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60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Book Antiqua"/>
                </a:rPr>
                <a:t>© 2007  The McGraw-Hill Companies, Inc., All Rights Reserv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61722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4280" anchor="b">
              <a:no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</a:rPr>
                <a:t>McGraw-Hill/Irw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</a:rPr>
                <a:t>Introduction to Busi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666880" y="12193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hapter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eople or companies will always ruthlessly pursue their self-interest and try to cheat and defrau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the process of specialization and the division of labor, business occupations develop and increase the amount of goods and services people can produce and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specialization, through the invisible hand of the market, leads to increasing profitability and the generating of more capital and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this “invisible hand” of the market, the interaction of business commerce and occupation determines the standard of living, wealth, and prosperity of people, groups, and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determines how profit will be shared between people and groups in a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organizations are created to reduce transaction costs, the costs that arise from business commerce and from the process of specialization and the division of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organizations develop an organizational structure, a set of task and authority relationships, to reduce transaction costs and increase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601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ules exist that specify how the profit created from business commerce or occupations will be distributed or even who will receive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chance of pursuing a profitable occupation that allows you to accumulate capital depends on your ability to take part in the “great game of busin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666880"/>
            <a:ext cx="670536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Verdana"/>
                <a:hlinkClick r:id="rId2"/>
              </a:rPr>
              <a:t>Todd McFarlan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and relate to Business as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 the three meanings of business as commerce, occupation and organization and identify the four main kinds of producti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forces of supply and demand determine fair or market p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ciate how a company’s business model is the source of its competitive advantage and the difference between profit and prof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the way specialization and the division of labor through the “invisible had of the market” lead to increasing profit and weal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reasons why business organizations are created to structure business exchanges and facilitate business comme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nitions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has three dimensions of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spcBef>
                <a:spcPts val="524"/>
              </a:spcBef>
              <a:buClr>
                <a:srgbClr val="c4884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spcBef>
                <a:spcPts val="524"/>
              </a:spcBef>
              <a:buClr>
                <a:srgbClr val="c4884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ccup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spcBef>
                <a:spcPts val="524"/>
              </a:spcBef>
              <a:buClr>
                <a:srgbClr val="c4884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video on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2"/>
              </a:rPr>
              <a:t>Business Week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relate to definitions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finitions of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as a commerce is the process that people produce, exchange and trade good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a new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2"/>
              </a:rPr>
              <a:t>airlin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relate the three definitions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nitions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as an occupation is the acquired set of specialized skills and abilities that allows people to create valuable good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601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a new theme </a:t>
            </a:r>
            <a:r>
              <a:rPr b="0" lang="en-US" sz="3200" spc="-1" strike="noStrike" u="sng">
                <a:solidFill>
                  <a:srgbClr val="969696"/>
                </a:solidFill>
                <a:uFillTx/>
                <a:latin typeface="Times New Roman"/>
                <a:hlinkClick r:id="rId2"/>
              </a:rPr>
              <a:t>restaura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and relate the three definitions of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nitions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as an organization is the system of task and authority relationship that coordinates and controls the interactions between people so that they work toward a common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“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2"/>
              </a:rPr>
              <a:t>Destination CE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” Video and relate to Business as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finitions of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601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as a system is a combination of business commerce, occupations, and organizations that produces and distributes the goods and services that create value for people in a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usines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ctors of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meaning there are four crucial ingredients or productive factors or resources of land, labor, capital and enterprise that are needed to profit from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524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illustration of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2"/>
              </a:rPr>
              <a:t>circular flow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relate to all factors of production.  Which factor is not illustrated? 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21:04:11Z</dcterms:created>
  <dc:creator>Ray Polchow</dc:creator>
  <dc:description/>
  <dc:language>en-US</dc:language>
  <cp:lastModifiedBy>Administrator</cp:lastModifiedBy>
  <dcterms:modified xsi:type="dcterms:W3CDTF">2006-01-18T21:26:54Z</dcterms:modified>
  <cp:revision>40</cp:revision>
  <dc:subject/>
  <dc:title>Chapter 1 What is Business?</dc:title>
</cp:coreProperties>
</file>