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.wmf" ContentType="image/x-wmf"/>
  <Override PartName="/ppt/media/image26.wmf" ContentType="image/x-wmf"/>
  <Override PartName="/ppt/media/image3.wmf" ContentType="image/x-wmf"/>
  <Override PartName="/ppt/media/image7.gif" ContentType="image/gi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47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42.png" ContentType="image/png"/>
  <Override PartName="/ppt/media/image43.wmf" ContentType="image/x-wmf"/>
  <Override PartName="/ppt/media/image51.jpeg" ContentType="image/jpeg"/>
  <Override PartName="/ppt/media/image34.png" ContentType="image/png"/>
  <Override PartName="/ppt/media/image45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46.wmf" ContentType="image/x-wmf"/>
  <Override PartName="/ppt/media/image49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44.wmf" ContentType="image/x-wmf"/>
  <Override PartName="/ppt/media/image32.png" ContentType="image/png"/>
  <Override PartName="/ppt/media/image31.wmf" ContentType="image/x-wmf"/>
  <Override PartName="/ppt/media/image33.jpeg" ContentType="image/jpeg"/>
  <Override PartName="/ppt/media/image30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-</a:t>
            </a:r>
            <a:fld id="{89E2CB3E-DA9D-4017-AB61-CE2B0A798AA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3AC6BF77-EE10-49E6-8E97-3CB5B0AFD94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164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st-Volume-Profit Relationship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tribution Approac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8600" y="1447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need to prepare an income statement to estimate profits at a particular sales volume. Simply multiply the number of units sold above break-even by the contribution margin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j0284137"/>
          <p:cNvPicPr/>
          <p:nvPr/>
        </p:nvPicPr>
        <p:blipFill>
          <a:blip r:embed="rId1"/>
          <a:stretch/>
        </p:blipFill>
        <p:spPr>
          <a:xfrm>
            <a:off x="3733920" y="5334120"/>
            <a:ext cx="1828800" cy="1495440"/>
          </a:xfrm>
          <a:prstGeom prst="rect">
            <a:avLst/>
          </a:prstGeom>
          <a:ln w="0">
            <a:noFill/>
          </a:ln>
        </p:spPr>
      </p:pic>
      <p:sp>
        <p:nvSpPr>
          <p:cNvPr id="147" name="Cloud Callout 5"/>
          <p:cNvSpPr/>
          <p:nvPr/>
        </p:nvSpPr>
        <p:spPr>
          <a:xfrm>
            <a:off x="3352680" y="3276720"/>
            <a:ext cx="464832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ef5fa"/>
          </a:solidFill>
          <a:ln w="19080">
            <a:solidFill>
              <a:srgbClr val="1e76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639d"/>
                </a:solidFill>
                <a:latin typeface="Arial"/>
              </a:rPr>
              <a:t>If Racing sells 430 bikes, its net operating income will be $6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92000" y="1684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ibution format income statement can be expressed in the following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442800" y="2784600"/>
            <a:ext cx="822960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a6a6a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t = (Sales – Variable expenses) – Fixed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2133720" y="3714840"/>
          <a:ext cx="480060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714840"/>
                    <a:ext cx="48006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85800" y="1981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quation can be used to show the profit RBC earns if it sells 401. Notice, the answer of $200 mirrors our earlie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80880" y="3235320"/>
            <a:ext cx="822960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a6a6a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t = (Sales – Variable expenses) – Fixed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6"/>
          <p:cNvGrpSpPr/>
          <p:nvPr/>
        </p:nvGrpSpPr>
        <p:grpSpPr>
          <a:xfrm>
            <a:off x="846000" y="3783960"/>
            <a:ext cx="2070360" cy="1009080"/>
            <a:chOff x="846000" y="3783960"/>
            <a:chExt cx="2070360" cy="1009080"/>
          </a:xfrm>
        </p:grpSpPr>
        <p:sp>
          <p:nvSpPr>
            <p:cNvPr id="159" name="TextBox 17"/>
            <p:cNvSpPr/>
            <p:nvPr/>
          </p:nvSpPr>
          <p:spPr>
            <a:xfrm>
              <a:off x="846000" y="4394160"/>
              <a:ext cx="207036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878bb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01 units × $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Straight Arrow Connector 21"/>
            <p:cNvCxnSpPr>
              <a:stCxn id="159" idx="0"/>
            </p:cNvCxnSpPr>
            <p:nvPr/>
          </p:nvCxnSpPr>
          <p:spPr>
            <a:xfrm flipV="1">
              <a:off x="1880280" y="3783960"/>
              <a:ext cx="253080" cy="610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1" name="Group 27"/>
          <p:cNvGrpSpPr/>
          <p:nvPr/>
        </p:nvGrpSpPr>
        <p:grpSpPr>
          <a:xfrm>
            <a:off x="3560400" y="3809520"/>
            <a:ext cx="2070360" cy="1313640"/>
            <a:chOff x="3560400" y="3809520"/>
            <a:chExt cx="2070360" cy="1313640"/>
          </a:xfrm>
        </p:grpSpPr>
        <p:sp>
          <p:nvSpPr>
            <p:cNvPr id="162" name="TextBox 18"/>
            <p:cNvSpPr/>
            <p:nvPr/>
          </p:nvSpPr>
          <p:spPr>
            <a:xfrm>
              <a:off x="3560400" y="4724280"/>
              <a:ext cx="207036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878bb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01 units × $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Straight Arrow Connector 23"/>
            <p:cNvCxnSpPr>
              <a:stCxn id="162" idx="0"/>
            </p:cNvCxnSpPr>
            <p:nvPr/>
          </p:nvCxnSpPr>
          <p:spPr>
            <a:xfrm flipH="1" flipV="1">
              <a:off x="4418640" y="3809520"/>
              <a:ext cx="176760" cy="91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4" name="Group 28"/>
          <p:cNvGrpSpPr/>
          <p:nvPr/>
        </p:nvGrpSpPr>
        <p:grpSpPr>
          <a:xfrm>
            <a:off x="6786720" y="3809520"/>
            <a:ext cx="1101240" cy="856440"/>
            <a:chOff x="6786720" y="3809520"/>
            <a:chExt cx="1101240" cy="856440"/>
          </a:xfrm>
        </p:grpSpPr>
        <p:sp>
          <p:nvSpPr>
            <p:cNvPr id="165" name="TextBox 19"/>
            <p:cNvSpPr/>
            <p:nvPr/>
          </p:nvSpPr>
          <p:spPr>
            <a:xfrm>
              <a:off x="6786720" y="4267080"/>
              <a:ext cx="1101240" cy="398880"/>
            </a:xfrm>
            <a:prstGeom prst="rect">
              <a:avLst/>
            </a:prstGeom>
            <a:solidFill>
              <a:srgbClr val="35385a"/>
            </a:solidFill>
            <a:ln w="9360">
              <a:solidFill>
                <a:srgbClr val="878bb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$8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Straight Arrow Connector 25"/>
            <p:cNvCxnSpPr>
              <a:stCxn id="165" idx="0"/>
            </p:cNvCxnSpPr>
            <p:nvPr/>
          </p:nvCxnSpPr>
          <p:spPr>
            <a:xfrm flipH="1" flipV="1">
              <a:off x="7314480" y="3809520"/>
              <a:ext cx="22680" cy="4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67" name="TextBox 31"/>
          <p:cNvSpPr/>
          <p:nvPr/>
        </p:nvSpPr>
        <p:spPr>
          <a:xfrm>
            <a:off x="609480" y="5908680"/>
            <a:ext cx="82296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00,500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Variable expenses) – Fix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0"/>
          <p:cNvSpPr/>
          <p:nvPr/>
        </p:nvSpPr>
        <p:spPr>
          <a:xfrm>
            <a:off x="609480" y="5908680"/>
            <a:ext cx="82296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= ($200,500 – $120,300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Fixed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609480" y="5908680"/>
            <a:ext cx="82296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= ($200,500 – $120,300) – $8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4"/>
          <p:cNvSpPr/>
          <p:nvPr/>
        </p:nvSpPr>
        <p:spPr>
          <a:xfrm>
            <a:off x="628560" y="5908680"/>
            <a:ext cx="668664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$2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($200,500 – $120,300) – $8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84360" y="18543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mpany has only one product we can further refine this equation as shown on this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79440" y="2844720"/>
            <a:ext cx="822960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a6a6a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t = (Sales – Variable expenses) – Fixed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303120" y="3378960"/>
            <a:ext cx="3749760" cy="1658160"/>
            <a:chOff x="303120" y="3378960"/>
            <a:chExt cx="3749760" cy="1658160"/>
          </a:xfrm>
        </p:grpSpPr>
        <p:graphicFrame>
          <p:nvGraphicFramePr>
            <p:cNvPr id="176" name="Object 2"/>
            <p:cNvGraphicFramePr/>
            <p:nvPr/>
          </p:nvGraphicFramePr>
          <p:xfrm>
            <a:off x="303120" y="3993120"/>
            <a:ext cx="3749760" cy="104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120" y="3993120"/>
                      <a:ext cx="3749760" cy="104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78" name="Straight Arrow Connector 9"/>
            <p:cNvCxnSpPr/>
            <p:nvPr/>
          </p:nvCxnSpPr>
          <p:spPr>
            <a:xfrm flipV="1">
              <a:off x="2206440" y="3378960"/>
              <a:ext cx="2160" cy="610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9" name="Group 13"/>
          <p:cNvGrpSpPr/>
          <p:nvPr/>
        </p:nvGrpSpPr>
        <p:grpSpPr>
          <a:xfrm>
            <a:off x="4368960" y="3377520"/>
            <a:ext cx="4620960" cy="1677240"/>
            <a:chOff x="4368960" y="3377520"/>
            <a:chExt cx="4620960" cy="1677240"/>
          </a:xfrm>
        </p:grpSpPr>
        <p:graphicFrame>
          <p:nvGraphicFramePr>
            <p:cNvPr id="180" name="Object 4"/>
            <p:cNvGraphicFramePr/>
            <p:nvPr/>
          </p:nvGraphicFramePr>
          <p:xfrm>
            <a:off x="4368960" y="3987720"/>
            <a:ext cx="4620960" cy="106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68960" y="3987720"/>
                      <a:ext cx="462096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82" name="Straight Arrow Connector 11"/>
            <p:cNvCxnSpPr/>
            <p:nvPr/>
          </p:nvCxnSpPr>
          <p:spPr>
            <a:xfrm flipH="1" flipV="1">
              <a:off x="5103000" y="3377520"/>
              <a:ext cx="1143720" cy="610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3" name="TextBox 14"/>
          <p:cNvSpPr/>
          <p:nvPr/>
        </p:nvSpPr>
        <p:spPr>
          <a:xfrm>
            <a:off x="455760" y="5435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(P × Q – V × Q)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5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685800" y="1612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quation can also be used to show the $200 profit RBC earns if it sells 401 bi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0880" y="2603520"/>
            <a:ext cx="822960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a6a6a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t = (Sales – Variable expenses) – Fixed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457200" y="331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(P × Q – V × Q)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76320" y="4140360"/>
            <a:ext cx="8915400" cy="581400"/>
          </a:xfrm>
          <a:prstGeom prst="rect">
            <a:avLst/>
          </a:prstGeom>
          <a:solidFill>
            <a:srgbClr val="1faecd"/>
          </a:solidFill>
          <a:ln w="9360">
            <a:solidFill>
              <a:srgbClr val="10576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fit = ($500 × 401 – $300 × 401) –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96840" y="4135320"/>
            <a:ext cx="8915400" cy="581400"/>
          </a:xfrm>
          <a:prstGeom prst="rect">
            <a:avLst/>
          </a:prstGeom>
          <a:solidFill>
            <a:srgbClr val="1faecd"/>
          </a:solidFill>
          <a:ln w="9360">
            <a:solidFill>
              <a:srgbClr val="10576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$200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= ($500 × 401 – $300 × 401) –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Documents and Settings\Jon A. Booker\Local Settings\Temporary Internet Files\Content.IE5\EU4PW6E4\MCj03108160000[1].wmf"/>
          <p:cNvPicPr/>
          <p:nvPr/>
        </p:nvPicPr>
        <p:blipFill>
          <a:blip r:embed="rId1"/>
          <a:stretch/>
        </p:blipFill>
        <p:spPr>
          <a:xfrm>
            <a:off x="3657600" y="5140440"/>
            <a:ext cx="1843200" cy="1336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380880" y="2438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t C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lling price per unit – Variable expenses p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52280" y="1531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t is often useful to express the simple profit equation in terms of the unit contribution margin (Unit CM)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solidFill>
            <a:srgbClr val="a8bfdf"/>
          </a:solidFill>
          <a:ln w="9360">
            <a:solidFill>
              <a:srgbClr val="2b4a7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P × Q – V × Q)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P – V) × Q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it C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Q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380880" y="2824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t C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 –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Documents and Settings\Jon A. Booker\Local Settings\Temporary Internet Files\Content.IE5\EU4PW6E4\MCj03108160000[1].wmf"/>
          <p:cNvPicPr/>
          <p:nvPr/>
        </p:nvPicPr>
        <p:blipFill>
          <a:blip r:embed="rId1"/>
          <a:stretch/>
        </p:blipFill>
        <p:spPr>
          <a:xfrm>
            <a:off x="3657600" y="5140440"/>
            <a:ext cx="1843200" cy="1336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Equation Form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57200" y="1587600"/>
            <a:ext cx="8229600" cy="1373760"/>
          </a:xfrm>
          <a:prstGeom prst="rect">
            <a:avLst/>
          </a:prstGeom>
          <a:solidFill>
            <a:srgbClr val="a8bfdf"/>
          </a:solidFill>
          <a:ln w="9360">
            <a:solidFill>
              <a:srgbClr val="2b4a7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P × Q – V × Q)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P – V) × Q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it C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Q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33520" y="32893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$500 – $300) × 401 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$200 × 401 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$80,200 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248520" y="4048200"/>
            <a:ext cx="25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his equation can also be  used to compute RBC’s $200 profit if it sells 401 bik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Jon A. Booker\Local Settings\Temporary Internet Files\Content.IE5\EU4PW6E4\MCj03108160000[1].wmf"/>
          <p:cNvPicPr/>
          <p:nvPr/>
        </p:nvPicPr>
        <p:blipFill>
          <a:blip r:embed="rId1"/>
          <a:stretch/>
        </p:blipFill>
        <p:spPr>
          <a:xfrm>
            <a:off x="3657600" y="5140440"/>
            <a:ext cx="1843200" cy="1336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905120" y="253656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Prepare and interpret a cost-volume-profit (CVP) graph and a profit grap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Arial"/>
                <a:ea typeface="Arial"/>
              </a:rPr>
              <a:t>CVP Relationships in Graphic Form</a:t>
            </a:r>
            <a:endParaRPr b="0" lang="en-US" sz="3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s among revenue, cost, profit, and volume can be expressed graphically by preparing a CVP graph. Racing Bicycle developed contribution margin income statements at 0, 200, 400, and 600 units sold. We will use this information to prepare the CVP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304920" y="3587760"/>
          <a:ext cx="8678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87760"/>
                    <a:ext cx="8678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hart 11" descr=""/>
          <p:cNvPicPr/>
          <p:nvPr/>
        </p:nvPicPr>
        <p:blipFill>
          <a:blip r:embed="rId1"/>
          <a:stretch/>
        </p:blipFill>
        <p:spPr>
          <a:xfrm>
            <a:off x="1195560" y="1511280"/>
            <a:ext cx="6960960" cy="46767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70680" y="611028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 rot="16260000">
            <a:off x="524160" y="3434400"/>
            <a:ext cx="102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05120" y="4361040"/>
            <a:ext cx="6172200" cy="12819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a CVP graph, unit volume is usually represented on the horizontal (X) axis and dollars on the vertical (Y) ax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Key Assumptions of CVP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7560" indent="-547560">
              <a:spcBef>
                <a:spcPts val="300"/>
              </a:spcBef>
              <a:buClr>
                <a:srgbClr val="39639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lling price is cons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spcBef>
                <a:spcPts val="300"/>
              </a:spcBef>
              <a:buClr>
                <a:srgbClr val="39639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s are linear and can be accurately divided into variable (constant per unit) and fixed (constant in total) ele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spcBef>
                <a:spcPts val="300"/>
              </a:spcBef>
              <a:buClr>
                <a:srgbClr val="39639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multiproduct companies, the sales mix is cons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spcBef>
                <a:spcPts val="300"/>
              </a:spcBef>
              <a:buClr>
                <a:srgbClr val="39639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manufacturing companies, inventories do not change (units produced = units sol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C:\Users\jonbooker\AppData\Local\Microsoft\Windows\Temporary Internet Files\Content.IE5\ICNRLO95\MCj04395930000[1].png"/>
          <p:cNvPicPr/>
          <p:nvPr/>
        </p:nvPicPr>
        <p:blipFill>
          <a:blip r:embed="rId1"/>
          <a:stretch/>
        </p:blipFill>
        <p:spPr>
          <a:xfrm>
            <a:off x="3352680" y="5410080"/>
            <a:ext cx="1981440" cy="12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Chart 13" descr=""/>
          <p:cNvPicPr/>
          <p:nvPr/>
        </p:nvPicPr>
        <p:blipFill>
          <a:blip r:embed="rId1"/>
          <a:stretch/>
        </p:blipFill>
        <p:spPr>
          <a:xfrm>
            <a:off x="1195560" y="1523880"/>
            <a:ext cx="6960960" cy="46753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332600" y="612144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 rot="16260000">
            <a:off x="439920" y="3597840"/>
            <a:ext cx="102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2286000" y="1523880"/>
            <a:ext cx="4572000" cy="1008720"/>
          </a:xfrm>
          <a:prstGeom prst="rect">
            <a:avLst/>
          </a:prstGeom>
          <a:solidFill>
            <a:srgbClr val="1057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 a line parallel to the volume axis to represent total fixed expe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Chart 20" descr=""/>
          <p:cNvPicPr/>
          <p:nvPr/>
        </p:nvPicPr>
        <p:blipFill>
          <a:blip r:embed="rId1"/>
          <a:stretch/>
        </p:blipFill>
        <p:spPr>
          <a:xfrm>
            <a:off x="1195560" y="1511280"/>
            <a:ext cx="6960960" cy="4676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332600" y="611028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 rot="16260000">
            <a:off x="439920" y="3586680"/>
            <a:ext cx="102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304920" y="1461960"/>
            <a:ext cx="8534160" cy="1313640"/>
          </a:xfrm>
          <a:prstGeom prst="rect">
            <a:avLst/>
          </a:prstGeom>
          <a:solidFill>
            <a:srgbClr val="1057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ose some sales volume, say 400 units, and plot the point representing total expenses (fixed and variable). Draw a line through the data point back to where the fixed expenses line intersects the dollar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hart 20" descr=""/>
          <p:cNvPicPr/>
          <p:nvPr/>
        </p:nvPicPr>
        <p:blipFill>
          <a:blip r:embed="rId1"/>
          <a:stretch/>
        </p:blipFill>
        <p:spPr>
          <a:xfrm>
            <a:off x="1195560" y="1511280"/>
            <a:ext cx="6960960" cy="4676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332600" y="611028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 rot="16260000">
            <a:off x="439920" y="3586680"/>
            <a:ext cx="102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304920" y="1461960"/>
            <a:ext cx="8534160" cy="1008720"/>
          </a:xfrm>
          <a:prstGeom prst="rect">
            <a:avLst/>
          </a:prstGeom>
          <a:solidFill>
            <a:srgbClr val="1057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ose some sales volume, say 400 units, and plot the point representing total sales. Draw a line through the data point back to the point of orig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hart 17" descr=""/>
          <p:cNvPicPr/>
          <p:nvPr/>
        </p:nvPicPr>
        <p:blipFill>
          <a:blip r:embed="rId1"/>
          <a:stretch/>
        </p:blipFill>
        <p:spPr>
          <a:xfrm>
            <a:off x="1238400" y="1511280"/>
            <a:ext cx="6960960" cy="4676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334960" y="1386000"/>
            <a:ext cx="4655880" cy="1904400"/>
            <a:chOff x="2334960" y="1386000"/>
            <a:chExt cx="4655880" cy="1904400"/>
          </a:xfrm>
        </p:grpSpPr>
        <p:sp>
          <p:nvSpPr>
            <p:cNvPr id="240" name="Rectangle 9"/>
            <p:cNvSpPr/>
            <p:nvPr/>
          </p:nvSpPr>
          <p:spPr>
            <a:xfrm>
              <a:off x="2334960" y="1386000"/>
              <a:ext cx="4655880" cy="82044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reak-even point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400 units or $200,000 in sal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>
              <a:off x="4667040" y="2224080"/>
              <a:ext cx="304920" cy="106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4"/>
          <p:cNvSpPr/>
          <p:nvPr/>
        </p:nvSpPr>
        <p:spPr>
          <a:xfrm>
            <a:off x="4377240" y="611028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6260000">
            <a:off x="484560" y="3586680"/>
            <a:ext cx="102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18"/>
          <p:cNvCxnSpPr/>
          <p:nvPr/>
        </p:nvCxnSpPr>
        <p:spPr>
          <a:xfrm flipH="1">
            <a:off x="4996800" y="3444840"/>
            <a:ext cx="5400" cy="2208960"/>
          </a:xfrm>
          <a:prstGeom prst="straightConnector1">
            <a:avLst/>
          </a:prstGeom>
          <a:ln w="28440">
            <a:solidFill>
              <a:srgbClr val="23263c"/>
            </a:solidFill>
            <a:prstDash val="sysDash"/>
            <a:miter/>
            <a:tailEnd len="med" type="arrow" w="med"/>
          </a:ln>
        </p:spPr>
      </p:cxnSp>
      <p:cxnSp>
        <p:nvCxnSpPr>
          <p:cNvPr id="245" name="Straight Arrow Connector 20"/>
          <p:cNvCxnSpPr/>
          <p:nvPr/>
        </p:nvCxnSpPr>
        <p:spPr>
          <a:xfrm flipH="1" flipV="1">
            <a:off x="1949040" y="3384360"/>
            <a:ext cx="3124800" cy="2160"/>
          </a:xfrm>
          <a:prstGeom prst="straightConnector1">
            <a:avLst/>
          </a:prstGeom>
          <a:ln w="28440">
            <a:solidFill>
              <a:srgbClr val="23263c"/>
            </a:solidFill>
            <a:prstDash val="sysDash"/>
            <a:miter/>
            <a:tailEnd len="med" type="arrow" w="med"/>
          </a:ln>
        </p:spPr>
      </p:cxnSp>
      <p:grpSp>
        <p:nvGrpSpPr>
          <p:cNvPr id="246" name="Group 23"/>
          <p:cNvGrpSpPr/>
          <p:nvPr/>
        </p:nvGrpSpPr>
        <p:grpSpPr>
          <a:xfrm>
            <a:off x="577800" y="5043240"/>
            <a:ext cx="1752840" cy="1313640"/>
            <a:chOff x="577800" y="5043240"/>
            <a:chExt cx="1752840" cy="1313640"/>
          </a:xfrm>
        </p:grpSpPr>
        <p:sp>
          <p:nvSpPr>
            <p:cNvPr id="247" name="TextBox 21"/>
            <p:cNvSpPr/>
            <p:nvPr/>
          </p:nvSpPr>
          <p:spPr>
            <a:xfrm>
              <a:off x="577800" y="5958000"/>
              <a:ext cx="1523880" cy="398880"/>
            </a:xfrm>
            <a:prstGeom prst="rect">
              <a:avLst/>
            </a:prstGeom>
            <a:solidFill>
              <a:srgbClr val="23263c"/>
            </a:solidFill>
            <a:ln w="9360">
              <a:solidFill>
                <a:srgbClr val="35385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oss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Straight Arrow Connector 24"/>
            <p:cNvCxnSpPr>
              <a:stCxn id="247" idx="0"/>
            </p:cNvCxnSpPr>
            <p:nvPr/>
          </p:nvCxnSpPr>
          <p:spPr>
            <a:xfrm flipV="1">
              <a:off x="1339560" y="5043240"/>
              <a:ext cx="991440" cy="91512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249" name="Group 19"/>
          <p:cNvGrpSpPr/>
          <p:nvPr/>
        </p:nvGrpSpPr>
        <p:grpSpPr>
          <a:xfrm>
            <a:off x="6215760" y="1919160"/>
            <a:ext cx="2743920" cy="762480"/>
            <a:chOff x="6215760" y="1919160"/>
            <a:chExt cx="2743920" cy="762480"/>
          </a:xfrm>
        </p:grpSpPr>
        <p:sp>
          <p:nvSpPr>
            <p:cNvPr id="250" name="TextBox 22"/>
            <p:cNvSpPr/>
            <p:nvPr/>
          </p:nvSpPr>
          <p:spPr>
            <a:xfrm>
              <a:off x="7435800" y="1919160"/>
              <a:ext cx="1523880" cy="398880"/>
            </a:xfrm>
            <a:prstGeom prst="rect">
              <a:avLst/>
            </a:prstGeom>
            <a:solidFill>
              <a:srgbClr val="23263c"/>
            </a:solidFill>
            <a:ln w="9360">
              <a:solidFill>
                <a:srgbClr val="35385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fit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Straight Arrow Connector 26"/>
            <p:cNvCxnSpPr>
              <a:stCxn id="250" idx="1"/>
            </p:cNvCxnSpPr>
            <p:nvPr/>
          </p:nvCxnSpPr>
          <p:spPr>
            <a:xfrm flipH="1">
              <a:off x="6215760" y="2118960"/>
              <a:ext cx="1220040" cy="56304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</p:cxnSp>
      </p:grpSp>
      <p:pic>
        <p:nvPicPr>
          <p:cNvPr id="252" name="Picture 19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34"/>
          <p:cNvGraphicFramePr/>
          <p:nvPr/>
        </p:nvGraphicFramePr>
        <p:xfrm>
          <a:off x="457200" y="1600200"/>
          <a:ext cx="81961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961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4586760" y="1600200"/>
            <a:ext cx="3701160" cy="1371600"/>
            <a:chOff x="4586760" y="1600200"/>
            <a:chExt cx="3701160" cy="1371600"/>
          </a:xfrm>
        </p:grpSpPr>
        <p:cxnSp>
          <p:nvCxnSpPr>
            <p:cNvPr id="257" name="Straight Arrow Connector 7"/>
            <p:cNvCxnSpPr>
              <a:stCxn id="258" idx="2"/>
            </p:cNvCxnSpPr>
            <p:nvPr/>
          </p:nvCxnSpPr>
          <p:spPr>
            <a:xfrm>
              <a:off x="6437520" y="1969560"/>
              <a:ext cx="265680" cy="1002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58" name="TextBox 5"/>
            <p:cNvSpPr/>
            <p:nvPr/>
          </p:nvSpPr>
          <p:spPr>
            <a:xfrm>
              <a:off x="4586760" y="1600200"/>
              <a:ext cx="3701160" cy="368280"/>
            </a:xfrm>
            <a:prstGeom prst="rect">
              <a:avLst/>
            </a:prstGeom>
            <a:solidFill>
              <a:srgbClr val="105766"/>
            </a:solidFill>
            <a:ln w="9360">
              <a:solidFill>
                <a:srgbClr val="1faec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fit = Unit CM × Q – Fixed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3"/>
          <p:cNvSpPr/>
          <p:nvPr/>
        </p:nvSpPr>
        <p:spPr>
          <a:xfrm>
            <a:off x="5334120" y="4038480"/>
            <a:ext cx="3733560" cy="1295640"/>
          </a:xfrm>
          <a:prstGeom prst="rect">
            <a:avLst/>
          </a:prstGeom>
          <a:solidFill>
            <a:srgbClr val="def5fa"/>
          </a:solidFill>
          <a:ln w="9360">
            <a:solidFill>
              <a:srgbClr val="6d101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101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An even simpler form of the CVP graph is called   the profit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10"/>
          <p:cNvGraphicFramePr/>
          <p:nvPr/>
        </p:nvGraphicFramePr>
        <p:xfrm>
          <a:off x="461880" y="1600200"/>
          <a:ext cx="8196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600200"/>
                    <a:ext cx="8196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eparing the CVP Grap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350520" y="2260440"/>
            <a:ext cx="2652480" cy="1371600"/>
            <a:chOff x="3350520" y="2260440"/>
            <a:chExt cx="2652480" cy="1371600"/>
          </a:xfrm>
        </p:grpSpPr>
        <p:cxnSp>
          <p:nvCxnSpPr>
            <p:cNvPr id="265" name="Straight Arrow Connector 7"/>
            <p:cNvCxnSpPr>
              <a:stCxn id="266" idx="2"/>
            </p:cNvCxnSpPr>
            <p:nvPr/>
          </p:nvCxnSpPr>
          <p:spPr>
            <a:xfrm>
              <a:off x="4676760" y="3184200"/>
              <a:ext cx="791280" cy="448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66" name="TextBox 5"/>
            <p:cNvSpPr/>
            <p:nvPr/>
          </p:nvSpPr>
          <p:spPr>
            <a:xfrm>
              <a:off x="3350520" y="2260440"/>
              <a:ext cx="2652480" cy="916920"/>
            </a:xfrm>
            <a:prstGeom prst="rect">
              <a:avLst/>
            </a:prstGeom>
            <a:solidFill>
              <a:srgbClr val="105766"/>
            </a:solidFill>
            <a:ln w="9360">
              <a:solidFill>
                <a:srgbClr val="1faec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eak-even point, where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fit is zero, is 400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ts sol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7" name="Straight Arrow Connector 11"/>
          <p:cNvCxnSpPr/>
          <p:nvPr/>
        </p:nvCxnSpPr>
        <p:spPr>
          <a:xfrm flipH="1">
            <a:off x="5503680" y="3905280"/>
            <a:ext cx="2160" cy="1753200"/>
          </a:xfrm>
          <a:prstGeom prst="straightConnector1">
            <a:avLst/>
          </a:prstGeom>
          <a:ln w="28440">
            <a:solidFill>
              <a:srgbClr val="23263c"/>
            </a:solidFill>
            <a:prstDash val="dash"/>
            <a:miter/>
            <a:tailEnd len="med" type="arrow" w="med"/>
          </a:ln>
        </p:spPr>
      </p:cxnSp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905120" y="2057400"/>
            <a:ext cx="5333760" cy="3717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Use the contribution margin ration (CM ratio) to compute changes in contribution margin and net operating income resulting from changes in sales volu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ntribution Margin Ratio (CM Ratio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609480" y="2438280"/>
          <a:ext cx="798516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9851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Box 7"/>
          <p:cNvSpPr/>
          <p:nvPr/>
        </p:nvSpPr>
        <p:spPr>
          <a:xfrm>
            <a:off x="2903400" y="5486400"/>
            <a:ext cx="4016520" cy="459720"/>
          </a:xfrm>
          <a:prstGeom prst="rect">
            <a:avLst/>
          </a:prstGeom>
          <a:solidFill>
            <a:srgbClr val="1d314e"/>
          </a:solidFill>
          <a:ln w="9360">
            <a:solidFill>
              <a:srgbClr val="1d314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,000 ÷ $250,000 =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9"/>
          <p:cNvCxnSpPr>
            <a:stCxn id="274" idx="3"/>
          </p:cNvCxnSpPr>
          <p:nvPr/>
        </p:nvCxnSpPr>
        <p:spPr>
          <a:xfrm flipV="1">
            <a:off x="6927480" y="4572000"/>
            <a:ext cx="997560" cy="1148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6" name="TextBox 7"/>
          <p:cNvSpPr/>
          <p:nvPr/>
        </p:nvSpPr>
        <p:spPr>
          <a:xfrm>
            <a:off x="457200" y="1523880"/>
            <a:ext cx="8305920" cy="825480"/>
          </a:xfrm>
          <a:prstGeom prst="rect">
            <a:avLst/>
          </a:prstGeom>
          <a:solidFill>
            <a:srgbClr val="b54a10"/>
          </a:solidFill>
          <a:ln w="9360">
            <a:solidFill>
              <a:srgbClr val="29434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M ratio is calculated by dividing the total contribution margin by total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0"/>
          <p:cNvSpPr/>
          <p:nvPr/>
        </p:nvSpPr>
        <p:spPr>
          <a:xfrm>
            <a:off x="609480" y="5943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$1 increase in sales results in a total contribution margin increase of 40¢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ntribution Margin Ratio (CM Ratio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63200"/>
            <a:ext cx="807696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027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ribution margin ratio at Racing Bicycl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1066680" y="4027320"/>
            <a:ext cx="7010640" cy="1373760"/>
          </a:xfrm>
          <a:prstGeom prst="rect">
            <a:avLst/>
          </a:prstGeom>
          <a:solidFill>
            <a:srgbClr val="a8bfdf"/>
          </a:solidFill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</a:rPr>
              <a:t>The CM ratio can also be calculated by dividing the contribution margin per unit by the selling price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6"/>
          <p:cNvGrpSpPr/>
          <p:nvPr/>
        </p:nvGrpSpPr>
        <p:grpSpPr>
          <a:xfrm>
            <a:off x="989280" y="2590920"/>
            <a:ext cx="7265160" cy="912600"/>
            <a:chOff x="989280" y="2590920"/>
            <a:chExt cx="7265160" cy="912600"/>
          </a:xfrm>
        </p:grpSpPr>
        <p:grpSp>
          <p:nvGrpSpPr>
            <p:cNvPr id="283" name="Group 4"/>
            <p:cNvGrpSpPr/>
            <p:nvPr/>
          </p:nvGrpSpPr>
          <p:grpSpPr>
            <a:xfrm>
              <a:off x="989280" y="2622600"/>
              <a:ext cx="4039920" cy="880920"/>
              <a:chOff x="989280" y="2622600"/>
              <a:chExt cx="4039920" cy="880920"/>
            </a:xfrm>
          </p:grpSpPr>
          <p:grpSp>
            <p:nvGrpSpPr>
              <p:cNvPr id="284" name="Group 5"/>
              <p:cNvGrpSpPr/>
              <p:nvPr/>
            </p:nvGrpSpPr>
            <p:grpSpPr>
              <a:xfrm>
                <a:off x="989280" y="2622600"/>
                <a:ext cx="4029120" cy="880920"/>
                <a:chOff x="989280" y="2622600"/>
                <a:chExt cx="4029120" cy="880920"/>
              </a:xfrm>
            </p:grpSpPr>
            <p:sp>
              <p:nvSpPr>
                <p:cNvPr id="285" name="Rectangle 6"/>
                <p:cNvSpPr/>
                <p:nvPr/>
              </p:nvSpPr>
              <p:spPr>
                <a:xfrm>
                  <a:off x="3017160" y="2622600"/>
                  <a:ext cx="200124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CM per uni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SP per uni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7"/>
                <p:cNvSpPr/>
                <p:nvPr/>
              </p:nvSpPr>
              <p:spPr>
                <a:xfrm>
                  <a:off x="989280" y="2809800"/>
                  <a:ext cx="217476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CM Ratio  =</a:t>
                  </a:r>
                  <a:r>
                    <a:rPr b="1" lang="en-US" sz="2600" spc="-1" strike="noStrike">
                      <a:solidFill>
                        <a:srgbClr val="cc9900"/>
                      </a:solidFill>
                      <a:latin typeface="Arial"/>
                    </a:rPr>
                    <a:t> 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Line 8"/>
              <p:cNvSpPr/>
              <p:nvPr/>
            </p:nvSpPr>
            <p:spPr>
              <a:xfrm>
                <a:off x="3048120" y="3048120"/>
                <a:ext cx="19810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1"/>
            <p:cNvGrpSpPr/>
            <p:nvPr/>
          </p:nvGrpSpPr>
          <p:grpSpPr>
            <a:xfrm>
              <a:off x="5577120" y="2590920"/>
              <a:ext cx="2677320" cy="880920"/>
              <a:chOff x="5577120" y="2590920"/>
              <a:chExt cx="2677320" cy="880920"/>
            </a:xfrm>
          </p:grpSpPr>
          <p:sp>
            <p:nvSpPr>
              <p:cNvPr id="289" name="Rectangle 12"/>
              <p:cNvSpPr/>
              <p:nvPr/>
            </p:nvSpPr>
            <p:spPr>
              <a:xfrm>
                <a:off x="7124760" y="2773440"/>
                <a:ext cx="11296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Arial"/>
                  </a:rPr>
                  <a:t>= </a:t>
                </a:r>
                <a:r>
                  <a:rPr b="1" lang="en-US" sz="2600" spc="-1" strike="noStrike">
                    <a:solidFill>
                      <a:srgbClr val="ff0000"/>
                    </a:solidFill>
                    <a:latin typeface="Arial"/>
                  </a:rPr>
                  <a:t>40%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13"/>
              <p:cNvGrpSpPr/>
              <p:nvPr/>
            </p:nvGrpSpPr>
            <p:grpSpPr>
              <a:xfrm>
                <a:off x="5577120" y="2590920"/>
                <a:ext cx="1447560" cy="880920"/>
                <a:chOff x="5577120" y="2590920"/>
                <a:chExt cx="1447560" cy="880920"/>
              </a:xfrm>
            </p:grpSpPr>
            <p:sp>
              <p:nvSpPr>
                <p:cNvPr id="291" name="Rectangle 14"/>
                <p:cNvSpPr/>
                <p:nvPr/>
              </p:nvSpPr>
              <p:spPr>
                <a:xfrm>
                  <a:off x="5855400" y="2590920"/>
                  <a:ext cx="91908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$200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Arial"/>
                    </a:rPr>
                    <a:t>$500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5"/>
                <p:cNvSpPr/>
                <p:nvPr/>
              </p:nvSpPr>
              <p:spPr>
                <a:xfrm>
                  <a:off x="5577120" y="303552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Rectangle 12"/>
            <p:cNvSpPr/>
            <p:nvPr/>
          </p:nvSpPr>
          <p:spPr>
            <a:xfrm>
              <a:off x="5112360" y="2793960"/>
              <a:ext cx="375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1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228600" y="2743200"/>
          <a:ext cx="853452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534520" cy="2666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ntribution Margin Ratio (CM Ratio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409680" y="4252680"/>
            <a:ext cx="8582040" cy="2136960"/>
            <a:chOff x="409680" y="4252680"/>
            <a:chExt cx="8582040" cy="2136960"/>
          </a:xfrm>
        </p:grpSpPr>
        <p:sp>
          <p:nvSpPr>
            <p:cNvPr id="299" name="Line 5"/>
            <p:cNvSpPr/>
            <p:nvPr/>
          </p:nvSpPr>
          <p:spPr>
            <a:xfrm flipH="1" flipV="1">
              <a:off x="6015240" y="4252680"/>
              <a:ext cx="457200" cy="1544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"/>
            <p:cNvSpPr/>
            <p:nvPr/>
          </p:nvSpPr>
          <p:spPr>
            <a:xfrm flipV="1">
              <a:off x="6320160" y="4285800"/>
              <a:ext cx="685800" cy="1523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409680" y="5569200"/>
              <a:ext cx="8582040" cy="82044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 $50,000 increase in sales revenue results in a $20,000 increase in CM ($50,000 × 40% = $20,000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7"/>
          <p:cNvSpPr/>
          <p:nvPr/>
        </p:nvSpPr>
        <p:spPr>
          <a:xfrm>
            <a:off x="-12600" y="1406520"/>
            <a:ext cx="91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acing Bicycle increases sales from 400 to 500 bikes ($50,000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margin will increase by $20,000 ($50,000 × 40%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905120" y="247284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Explain how changes in activity affect contribution margin and net operating inco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8520" y="1599840"/>
            <a:ext cx="8153640" cy="445788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CM Ratio for Coffee Klatch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a. 1.319</a:t>
            </a:r>
            <a:endParaRPr b="0" lang="en-US" sz="25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b. 0.758</a:t>
            </a:r>
            <a:endParaRPr b="0" lang="en-US" sz="25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c. 0.242</a:t>
            </a:r>
            <a:endParaRPr b="0" lang="en-US" sz="25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d. 4.139</a:t>
            </a:r>
            <a:endParaRPr b="0" lang="en-US" sz="25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306" name="Picture 4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30524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488880" y="1600200"/>
            <a:ext cx="8153640" cy="445788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CM Ratio for Coffee Klatch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a4a7"/>
                </a:solidFill>
                <a:latin typeface="Arial"/>
                <a:ea typeface="Arial"/>
              </a:rPr>
              <a:t>a. 1.31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33f32"/>
                </a:solidFill>
                <a:latin typeface="Arial"/>
                <a:ea typeface="Arial"/>
              </a:rPr>
              <a:t>b. 0.7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a4a7"/>
                </a:solidFill>
                <a:latin typeface="Arial"/>
                <a:ea typeface="Arial"/>
              </a:rPr>
              <a:t>c. 0.2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a4a7"/>
                </a:solidFill>
                <a:latin typeface="Arial"/>
                <a:ea typeface="Arial"/>
              </a:rPr>
              <a:t>d. 4.13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30524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812880" y="4362480"/>
            <a:ext cx="482400" cy="485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"/>
          <p:cNvGrpSpPr/>
          <p:nvPr/>
        </p:nvGrpSpPr>
        <p:grpSpPr>
          <a:xfrm>
            <a:off x="3200400" y="4038480"/>
            <a:ext cx="5638680" cy="2667240"/>
            <a:chOff x="3200400" y="4038480"/>
            <a:chExt cx="5638680" cy="2667240"/>
          </a:xfrm>
        </p:grpSpPr>
        <p:sp>
          <p:nvSpPr>
            <p:cNvPr id="312" name="Rectangle 6"/>
            <p:cNvSpPr/>
            <p:nvPr/>
          </p:nvSpPr>
          <p:spPr>
            <a:xfrm>
              <a:off x="3200400" y="4038480"/>
              <a:ext cx="5638680" cy="26672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7"/>
            <p:cNvSpPr/>
            <p:nvPr/>
          </p:nvSpPr>
          <p:spPr>
            <a:xfrm>
              <a:off x="4952880" y="4038480"/>
              <a:ext cx="381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 contribution mar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 selling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5105520" y="4454640"/>
              <a:ext cx="3504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9"/>
            <p:cNvSpPr/>
            <p:nvPr/>
          </p:nvSpPr>
          <p:spPr>
            <a:xfrm>
              <a:off x="3200400" y="42084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M Rati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0"/>
            <p:cNvSpPr/>
            <p:nvPr/>
          </p:nvSpPr>
          <p:spPr>
            <a:xfrm>
              <a:off x="4495680" y="5083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4724280" y="48769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$1.49 - $0.3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.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2"/>
            <p:cNvSpPr/>
            <p:nvPr/>
          </p:nvSpPr>
          <p:spPr>
            <a:xfrm>
              <a:off x="4572000" y="597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3"/>
            <p:cNvSpPr/>
            <p:nvPr/>
          </p:nvSpPr>
          <p:spPr>
            <a:xfrm>
              <a:off x="4800600" y="580716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.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.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4"/>
            <p:cNvSpPr/>
            <p:nvPr/>
          </p:nvSpPr>
          <p:spPr>
            <a:xfrm>
              <a:off x="6019920" y="5978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0.7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5"/>
            <p:cNvSpPr/>
            <p:nvPr/>
          </p:nvSpPr>
          <p:spPr>
            <a:xfrm>
              <a:off x="5105520" y="53164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6"/>
            <p:cNvSpPr/>
            <p:nvPr/>
          </p:nvSpPr>
          <p:spPr>
            <a:xfrm>
              <a:off x="5105520" y="622476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ontribution Margin Ratio (CM Ratio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457200" y="1568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profit and the CM ratio can be expressed using the following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80880" y="2695680"/>
            <a:ext cx="8534520" cy="581400"/>
          </a:xfrm>
          <a:prstGeom prst="rect">
            <a:avLst/>
          </a:prstGeom>
          <a:solidFill>
            <a:srgbClr val="a8bfdf"/>
          </a:solidFill>
          <a:ln w="9360">
            <a:solidFill>
              <a:srgbClr val="3f1e2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Profit = (CM ratio × Sales)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812240" y="4981680"/>
            <a:ext cx="59414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(40% ×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250,000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$100,000 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20,00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TextBox 5"/>
          <p:cNvGrpSpPr/>
          <p:nvPr/>
        </p:nvGrpSpPr>
        <p:grpSpPr>
          <a:xfrm>
            <a:off x="36360" y="3432240"/>
            <a:ext cx="9064800" cy="1530360"/>
            <a:chOff x="36360" y="3432240"/>
            <a:chExt cx="9064800" cy="1530360"/>
          </a:xfrm>
        </p:grpSpPr>
        <p:pic>
          <p:nvPicPr>
            <p:cNvPr id="328" name="TextBox 5" descr=""/>
            <p:cNvPicPr/>
            <p:nvPr/>
          </p:nvPicPr>
          <p:blipFill>
            <a:blip r:embed="rId1"/>
            <a:stretch/>
          </p:blipFill>
          <p:spPr>
            <a:xfrm>
              <a:off x="36360" y="3432240"/>
              <a:ext cx="90648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11240" y="3503520"/>
              <a:ext cx="8915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2f2f2"/>
                  </a:solidFill>
                  <a:latin typeface="Arial"/>
                </a:rPr>
                <a:t>If Racing Bicycle increased its sales volume to 500 bikes, what would management expect profit or net operating income to b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7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4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1905120" y="2320920"/>
            <a:ext cx="5333760" cy="320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Show the effects on net operating income of changes in variable costs, fixed costs, selling price, and volu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Variable Expense Ratio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533520" y="16002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variable expense ratio is the ratio of variable expenses to sales. It can be computed by dividing the total variable expenses by the total sales, or in a single product analysis, it can be computed by dividing the variable expenses per unit by the unit selling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2"/>
          <p:cNvGraphicFramePr/>
          <p:nvPr/>
        </p:nvGraphicFramePr>
        <p:xfrm>
          <a:off x="1371600" y="3675240"/>
          <a:ext cx="630864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75240"/>
                    <a:ext cx="630864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7" name="Picture 6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s in Fixed Costs 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24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at is the profit impact if Racing Bicycle can increase unit sales from 500 to 540 by increasing the monthly advertising budget by $10,000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3922560" y="4495680"/>
            <a:ext cx="1298880" cy="18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Object 8"/>
          <p:cNvGraphicFramePr/>
          <p:nvPr/>
        </p:nvGraphicFramePr>
        <p:xfrm>
          <a:off x="533520" y="2597040"/>
          <a:ext cx="80643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7040"/>
                    <a:ext cx="80643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s in Fixed Costs 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45" name="Group 8"/>
          <p:cNvGrpSpPr/>
          <p:nvPr/>
        </p:nvGrpSpPr>
        <p:grpSpPr>
          <a:xfrm>
            <a:off x="464040" y="1825560"/>
            <a:ext cx="6927480" cy="2676600"/>
            <a:chOff x="464040" y="1825560"/>
            <a:chExt cx="6927480" cy="2676600"/>
          </a:xfrm>
        </p:grpSpPr>
        <p:sp>
          <p:nvSpPr>
            <p:cNvPr id="346" name="Rectangle 5"/>
            <p:cNvSpPr/>
            <p:nvPr/>
          </p:nvSpPr>
          <p:spPr>
            <a:xfrm>
              <a:off x="464040" y="1825560"/>
              <a:ext cx="5891760" cy="45468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80,000 + $10,000 advertising = $9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3809880" y="2292120"/>
              <a:ext cx="3581640" cy="2210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609480" y="5721480"/>
            <a:ext cx="7925040" cy="820440"/>
          </a:xfrm>
          <a:prstGeom prst="rect">
            <a:avLst/>
          </a:prstGeom>
          <a:solidFill>
            <a:srgbClr val="a3171e"/>
          </a:solidFill>
          <a:ln w="12600">
            <a:solidFill>
              <a:srgbClr val="1faec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20,000,  but net operating incom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creas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2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s in Fixed Costs 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A shortcut solution using  increment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"/>
          <p:cNvGraphicFramePr/>
          <p:nvPr/>
        </p:nvGraphicFramePr>
        <p:xfrm>
          <a:off x="457200" y="2895480"/>
          <a:ext cx="8288280" cy="17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88280" cy="1754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40186" dir="4303641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pic>
        <p:nvPicPr>
          <p:cNvPr id="354" name="Picture 7" descr="G:\FILES\PFILES\MSOFFICE\MEDIA\CNTCD1\ClipArt1\j0198114.wmf"/>
          <p:cNvPicPr/>
          <p:nvPr/>
        </p:nvPicPr>
        <p:blipFill>
          <a:blip r:embed="rId3"/>
          <a:stretch/>
        </p:blipFill>
        <p:spPr>
          <a:xfrm>
            <a:off x="4114800" y="4800600"/>
            <a:ext cx="10159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Picture 6" descr=""/>
          <p:cNvPicPr/>
          <p:nvPr/>
        </p:nvPicPr>
        <p:blipFill>
          <a:blip r:embed="rId4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Variable Costs 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533520" y="1746360"/>
            <a:ext cx="80769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Arial"/>
              </a:rPr>
              <a:t>What is the profit impact if Racing Bicycle can use higher quality raw materials, thus increasing variable costs per unit by $10, to generate an increase in unit sales from 500 to 580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3922560" y="4495680"/>
            <a:ext cx="1298880" cy="1820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Object 8"/>
          <p:cNvGraphicFramePr/>
          <p:nvPr/>
        </p:nvGraphicFramePr>
        <p:xfrm>
          <a:off x="685800" y="2666880"/>
          <a:ext cx="78580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8580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Variable Costs 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1125360" y="1743120"/>
            <a:ext cx="6740640" cy="1837800"/>
            <a:chOff x="1125360" y="1743120"/>
            <a:chExt cx="6740640" cy="1837800"/>
          </a:xfrm>
        </p:grpSpPr>
        <p:sp>
          <p:nvSpPr>
            <p:cNvPr id="364" name="Line 6"/>
            <p:cNvSpPr/>
            <p:nvPr/>
          </p:nvSpPr>
          <p:spPr>
            <a:xfrm>
              <a:off x="4235760" y="1981080"/>
              <a:ext cx="3080520" cy="159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>
              <a:off x="1125360" y="1743120"/>
              <a:ext cx="6740640" cy="45468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80 unit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×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$310 variable cost/unit = $179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7"/>
          <p:cNvSpPr/>
          <p:nvPr/>
        </p:nvSpPr>
        <p:spPr>
          <a:xfrm>
            <a:off x="609480" y="5721480"/>
            <a:ext cx="7925040" cy="820440"/>
          </a:xfrm>
          <a:prstGeom prst="rect">
            <a:avLst/>
          </a:prstGeom>
          <a:solidFill>
            <a:srgbClr val="a3171e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40,000 and net operating incom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10,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asics of Cost-Volume-Profit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320" y="5486400"/>
            <a:ext cx="8991360" cy="880920"/>
          </a:xfrm>
          <a:prstGeom prst="rect">
            <a:avLst/>
          </a:prstGeom>
          <a:solidFill>
            <a:srgbClr val="b54a10"/>
          </a:solidFill>
          <a:ln w="12600">
            <a:solidFill>
              <a:srgbClr val="78d6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Margin (CM) is the amount remaining from sales revenue after variable expenses have been deduc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2286000" y="2733840"/>
          <a:ext cx="449568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33840"/>
                    <a:ext cx="4495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4"/>
          <p:cNvSpPr/>
          <p:nvPr/>
        </p:nvSpPr>
        <p:spPr>
          <a:xfrm>
            <a:off x="152280" y="1371600"/>
            <a:ext cx="8915400" cy="1186200"/>
          </a:xfrm>
          <a:prstGeom prst="rect">
            <a:avLst/>
          </a:prstGeom>
          <a:solidFill>
            <a:srgbClr val="b54a10"/>
          </a:solidFill>
          <a:ln w="12600">
            <a:solidFill>
              <a:srgbClr val="78d6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tribution income statement is helpful to managers in judging the impact on profits of changes in selling price, cost, or volume. The emphasis is on cost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Fixed Cost, Sales Price,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nd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228600" y="1746360"/>
            <a:ext cx="87631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Arial"/>
              </a:rPr>
              <a:t>What is the profit impact if RBC: (1) cuts its selling price $20 per unit, (2) increases its advertising budget by $15,000 per month, and (3) increases sales from 500 to 650 units per month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3922560" y="4495680"/>
            <a:ext cx="1298880" cy="1820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5721480"/>
            <a:ext cx="8305920" cy="820440"/>
          </a:xfrm>
          <a:prstGeom prst="rect">
            <a:avLst/>
          </a:prstGeom>
          <a:solidFill>
            <a:srgbClr val="a3171e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62,000,  fixed costs increase by $15,000, and net operating incom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2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Fixed Cost, Sales Price,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nd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74" name="Object 5"/>
          <p:cNvGraphicFramePr/>
          <p:nvPr/>
        </p:nvGraphicFramePr>
        <p:xfrm>
          <a:off x="965160" y="2597040"/>
          <a:ext cx="718812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597040"/>
                    <a:ext cx="718812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Group 4"/>
          <p:cNvGrpSpPr/>
          <p:nvPr/>
        </p:nvGrpSpPr>
        <p:grpSpPr>
          <a:xfrm>
            <a:off x="991080" y="1825560"/>
            <a:ext cx="5637960" cy="1298160"/>
            <a:chOff x="991080" y="1825560"/>
            <a:chExt cx="5637960" cy="1298160"/>
          </a:xfrm>
        </p:grpSpPr>
        <p:sp>
          <p:nvSpPr>
            <p:cNvPr id="377" name="Line 6"/>
            <p:cNvSpPr/>
            <p:nvPr/>
          </p:nvSpPr>
          <p:spPr>
            <a:xfrm>
              <a:off x="4122000" y="2050560"/>
              <a:ext cx="2507040" cy="107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"/>
            <p:cNvSpPr/>
            <p:nvPr/>
          </p:nvSpPr>
          <p:spPr>
            <a:xfrm>
              <a:off x="991080" y="1825560"/>
              <a:ext cx="4146480" cy="45468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50 unit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×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$480 = $31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Variable Cost, Fixed Cost,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52280" y="1670040"/>
            <a:ext cx="87631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Arial"/>
              </a:rPr>
              <a:t>What is the profit impact if RBC: (1) pays a $15 sales commission per bike sold instead of paying salespersons flat salaries that currently total $6,000 per month, and (2) increases unit sales from 500 to 575 bike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3922560" y="4495680"/>
            <a:ext cx="1298880" cy="1820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Change in Variable Cost, Fixed Cost,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nd Sales Volum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80880" y="5797440"/>
            <a:ext cx="8305920" cy="820440"/>
          </a:xfrm>
          <a:prstGeom prst="rect">
            <a:avLst/>
          </a:prstGeom>
          <a:solidFill>
            <a:srgbClr val="a3171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37,500, fixed expens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6,000, and net operating incom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$12,3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6"/>
          <p:cNvGraphicFramePr/>
          <p:nvPr/>
        </p:nvGraphicFramePr>
        <p:xfrm>
          <a:off x="457200" y="2301840"/>
          <a:ext cx="8229600" cy="33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01840"/>
                    <a:ext cx="822960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Group 4"/>
          <p:cNvGrpSpPr/>
          <p:nvPr/>
        </p:nvGrpSpPr>
        <p:grpSpPr>
          <a:xfrm>
            <a:off x="1629000" y="1758960"/>
            <a:ext cx="5609520" cy="1670040"/>
            <a:chOff x="1629000" y="1758960"/>
            <a:chExt cx="5609520" cy="1670040"/>
          </a:xfrm>
        </p:grpSpPr>
        <p:sp>
          <p:nvSpPr>
            <p:cNvPr id="389" name="Line 6"/>
            <p:cNvSpPr/>
            <p:nvPr/>
          </p:nvSpPr>
          <p:spPr>
            <a:xfrm>
              <a:off x="4773960" y="1997280"/>
              <a:ext cx="2464560" cy="1431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"/>
            <p:cNvSpPr/>
            <p:nvPr/>
          </p:nvSpPr>
          <p:spPr>
            <a:xfrm>
              <a:off x="1629000" y="1758960"/>
              <a:ext cx="4146480" cy="454680"/>
            </a:xfrm>
            <a:prstGeom prst="rect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75 unit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×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$315 = $181,1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9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hange in Regular Sales Pri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33520" y="1670040"/>
            <a:ext cx="80769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Arial"/>
              </a:rPr>
              <a:t>If RBC has an opportunity to sell 150 bikes to a wholesaler without disturbing sales to other customers or fixed expenses, what price would it quote to the wholesaler if it wants to increase monthly profits by $3,000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3922560" y="4884840"/>
            <a:ext cx="1298880" cy="1820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hange in Regular Sales Pri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397" name="Object 2"/>
          <p:cNvGraphicFramePr/>
          <p:nvPr/>
        </p:nvGraphicFramePr>
        <p:xfrm>
          <a:off x="309600" y="1811160"/>
          <a:ext cx="715320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811160"/>
                    <a:ext cx="7153200" cy="1600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99" name="Object 3"/>
          <p:cNvGraphicFramePr/>
          <p:nvPr/>
        </p:nvGraphicFramePr>
        <p:xfrm>
          <a:off x="84240" y="3843360"/>
          <a:ext cx="8907480" cy="18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240" y="3843360"/>
                    <a:ext cx="8907480" cy="187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pic>
        <p:nvPicPr>
          <p:cNvPr id="401" name="Picture 5" descr=""/>
          <p:cNvPicPr/>
          <p:nvPr/>
        </p:nvPicPr>
        <p:blipFill>
          <a:blip r:embed="rId5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1905120" y="2900520"/>
            <a:ext cx="5333760" cy="112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Determine the break-even poi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Break-even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304920" y="16477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and formula methods can be used to determine the unit sales and dollar sales needed to achieve a target profit of zero. Let’s use the RBC information to complete the break-even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3"/>
          <p:cNvGraphicFramePr/>
          <p:nvPr/>
        </p:nvGraphicFramePr>
        <p:xfrm>
          <a:off x="990720" y="3355920"/>
          <a:ext cx="70707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5920"/>
                    <a:ext cx="70707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Picture 5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Unit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929240" y="4361040"/>
            <a:ext cx="515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  =  $200 × Q  + 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590400" y="1895400"/>
            <a:ext cx="794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s  =  Unit CM × Q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"/>
          <p:cNvSpPr/>
          <p:nvPr/>
        </p:nvSpPr>
        <p:spPr>
          <a:xfrm>
            <a:off x="533520" y="26478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RBC wants to know how many bikes must be sold to break-even                 (earn a target profit of $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Group 18" descr=""/>
          <p:cNvPicPr/>
          <p:nvPr/>
        </p:nvPicPr>
        <p:blipFill>
          <a:blip r:embed="rId1"/>
          <a:stretch/>
        </p:blipFill>
        <p:spPr>
          <a:xfrm>
            <a:off x="1255680" y="4572000"/>
            <a:ext cx="6504120" cy="152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Unit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327320" y="2705040"/>
            <a:ext cx="51588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  =  $200 × Q  + 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00 × Q =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  =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40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590400" y="1905120"/>
            <a:ext cx="794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s  =  Unit CM × Q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asics of Cost-Volume-Profit Analysi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523880"/>
            <a:ext cx="8534160" cy="963360"/>
          </a:xfrm>
          <a:prstGeom prst="rect">
            <a:avLst/>
          </a:prstGeom>
          <a:solidFill>
            <a:srgbClr val="b54a10"/>
          </a:solidFill>
          <a:ln w="12600">
            <a:solidFill>
              <a:srgbClr val="78d6ea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M is used first to cover fixed expense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remaining CM contributes to net operating inc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2286000" y="2733840"/>
          <a:ext cx="449568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33840"/>
                    <a:ext cx="4495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Unit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Formula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a3171e"/>
                </a:solidFill>
                <a:latin typeface="Arial"/>
                <a:ea typeface="Arial"/>
              </a:rPr>
              <a:t>Let’s apply the formula method to solve for the break-eve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1"/>
          <p:cNvSpPr/>
          <p:nvPr/>
        </p:nvSpPr>
        <p:spPr>
          <a:xfrm>
            <a:off x="1784880" y="52671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sales =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0"/>
          <p:cNvGrpSpPr/>
          <p:nvPr/>
        </p:nvGrpSpPr>
        <p:grpSpPr>
          <a:xfrm>
            <a:off x="1752480" y="4357800"/>
            <a:ext cx="4953240" cy="947160"/>
            <a:chOff x="1752480" y="4357800"/>
            <a:chExt cx="4953240" cy="947160"/>
          </a:xfrm>
        </p:grpSpPr>
        <p:sp>
          <p:nvSpPr>
            <p:cNvPr id="423" name="TextBox 11"/>
            <p:cNvSpPr/>
            <p:nvPr/>
          </p:nvSpPr>
          <p:spPr>
            <a:xfrm>
              <a:off x="3276360" y="4357800"/>
              <a:ext cx="342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8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12"/>
            <p:cNvSpPr/>
            <p:nvPr/>
          </p:nvSpPr>
          <p:spPr>
            <a:xfrm>
              <a:off x="1752480" y="4596480"/>
              <a:ext cx="28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nit sale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traight Connector 25"/>
            <p:cNvSpPr/>
            <p:nvPr/>
          </p:nvSpPr>
          <p:spPr>
            <a:xfrm>
              <a:off x="3962520" y="4815000"/>
              <a:ext cx="2057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0"/>
          <p:cNvGrpSpPr/>
          <p:nvPr/>
        </p:nvGrpSpPr>
        <p:grpSpPr>
          <a:xfrm>
            <a:off x="1523880" y="2909880"/>
            <a:ext cx="6019920" cy="1066680"/>
            <a:chOff x="1523880" y="2909880"/>
            <a:chExt cx="6019920" cy="1066680"/>
          </a:xfrm>
        </p:grpSpPr>
        <p:grpSp>
          <p:nvGrpSpPr>
            <p:cNvPr id="427" name="Group 15"/>
            <p:cNvGrpSpPr/>
            <p:nvPr/>
          </p:nvGrpSpPr>
          <p:grpSpPr>
            <a:xfrm>
              <a:off x="1523880" y="2909880"/>
              <a:ext cx="6019920" cy="1066680"/>
              <a:chOff x="1523880" y="2909880"/>
              <a:chExt cx="6019920" cy="1066680"/>
            </a:xfrm>
          </p:grpSpPr>
          <p:sp>
            <p:nvSpPr>
              <p:cNvPr id="428" name="Rounded Rectangle 16"/>
              <p:cNvSpPr/>
              <p:nvPr/>
            </p:nvSpPr>
            <p:spPr>
              <a:xfrm>
                <a:off x="1523880" y="2909880"/>
                <a:ext cx="601992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d4dfef"/>
              </a:solidFill>
              <a:ln w="19080">
                <a:solidFill>
                  <a:srgbClr val="23263c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6"/>
              <p:cNvSpPr/>
              <p:nvPr/>
            </p:nvSpPr>
            <p:spPr>
              <a:xfrm>
                <a:off x="4624560" y="3036600"/>
                <a:ext cx="2449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Fixed expenses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CM </a:t>
                </a: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per unit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7"/>
              <p:cNvSpPr/>
              <p:nvPr/>
            </p:nvSpPr>
            <p:spPr>
              <a:xfrm>
                <a:off x="4076640" y="321948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8"/>
              <p:cNvSpPr/>
              <p:nvPr/>
            </p:nvSpPr>
            <p:spPr>
              <a:xfrm>
                <a:off x="1989000" y="3036600"/>
                <a:ext cx="20804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Arial"/>
                  </a:rPr>
                  <a:t>Unit sales </a:t>
                </a: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to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break ev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Straight Connector 19"/>
            <p:cNvSpPr/>
            <p:nvPr/>
          </p:nvSpPr>
          <p:spPr>
            <a:xfrm flipV="1">
              <a:off x="4610880" y="3451320"/>
              <a:ext cx="2475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Picture 1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Dollar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609480" y="1828800"/>
            <a:ext cx="7925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Racing Bicycle wants to compute the sales dollars required to break-even (earn a target profit of $0). Let’s use the equation method to solve thi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59280" y="4060800"/>
            <a:ext cx="855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  =  CM ratio × Sales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4"/>
          <p:cNvSpPr/>
          <p:nvPr/>
        </p:nvSpPr>
        <p:spPr>
          <a:xfrm>
            <a:off x="533520" y="5481720"/>
            <a:ext cx="4419360" cy="459720"/>
          </a:xfrm>
          <a:prstGeom prst="rect">
            <a:avLst/>
          </a:prstGeom>
          <a:solidFill>
            <a:srgbClr val="23263c"/>
          </a:solidFill>
          <a:ln w="9360">
            <a:solidFill>
              <a:srgbClr val="c07b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 for the unknown “Sa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Straight Arrow Connector 16"/>
          <p:cNvCxnSpPr>
            <a:stCxn id="437" idx="0"/>
            <a:endCxn id="436" idx="2"/>
          </p:cNvCxnSpPr>
          <p:nvPr/>
        </p:nvCxnSpPr>
        <p:spPr>
          <a:xfrm flipV="1">
            <a:off x="2742120" y="4642560"/>
            <a:ext cx="1894680" cy="839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39" name="Picture 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Dollar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03480" y="1903320"/>
            <a:ext cx="855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  =  CM ratio ×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a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316520" y="2714760"/>
            <a:ext cx="501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0  =  40% × Sales –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1312560" y="3552840"/>
            <a:ext cx="402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× Sales =  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295280" y="4484520"/>
            <a:ext cx="4114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= $80,000 ÷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=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$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Break-even in Dollar Sal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Formula Method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457200" y="19191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’s use the formula method to calculate the dollar sales at the break-eve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1791720" y="55720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 sales =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1752480" y="4662360"/>
            <a:ext cx="5181840" cy="947160"/>
            <a:chOff x="1752480" y="4662360"/>
            <a:chExt cx="5181840" cy="947160"/>
          </a:xfrm>
        </p:grpSpPr>
        <p:sp>
          <p:nvSpPr>
            <p:cNvPr id="450" name="TextBox 15"/>
            <p:cNvSpPr/>
            <p:nvPr/>
          </p:nvSpPr>
          <p:spPr>
            <a:xfrm>
              <a:off x="3504960" y="4662360"/>
              <a:ext cx="342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8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16"/>
            <p:cNvSpPr/>
            <p:nvPr/>
          </p:nvSpPr>
          <p:spPr>
            <a:xfrm>
              <a:off x="1752480" y="4901040"/>
              <a:ext cx="28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ollar sale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13"/>
            <p:cNvSpPr/>
            <p:nvPr/>
          </p:nvSpPr>
          <p:spPr>
            <a:xfrm>
              <a:off x="4114800" y="5119560"/>
              <a:ext cx="2286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7"/>
          <p:cNvGrpSpPr/>
          <p:nvPr/>
        </p:nvGrpSpPr>
        <p:grpSpPr>
          <a:xfrm>
            <a:off x="1676520" y="3138480"/>
            <a:ext cx="5715000" cy="1143000"/>
            <a:chOff x="1676520" y="3138480"/>
            <a:chExt cx="5715000" cy="1143000"/>
          </a:xfrm>
        </p:grpSpPr>
        <p:grpSp>
          <p:nvGrpSpPr>
            <p:cNvPr id="454" name="Group 7"/>
            <p:cNvGrpSpPr/>
            <p:nvPr/>
          </p:nvGrpSpPr>
          <p:grpSpPr>
            <a:xfrm>
              <a:off x="1676520" y="3138480"/>
              <a:ext cx="5715000" cy="1143000"/>
              <a:chOff x="1676520" y="3138480"/>
              <a:chExt cx="5715000" cy="1143000"/>
            </a:xfrm>
          </p:grpSpPr>
          <p:sp>
            <p:nvSpPr>
              <p:cNvPr id="455" name="Rounded Rectangle 3"/>
              <p:cNvSpPr/>
              <p:nvPr/>
            </p:nvSpPr>
            <p:spPr>
              <a:xfrm>
                <a:off x="1676520" y="3138480"/>
                <a:ext cx="571500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7c1a4"/>
              </a:solidFill>
              <a:ln w="19080">
                <a:solidFill>
                  <a:srgbClr val="23263c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1"/>
              <p:cNvSpPr/>
              <p:nvPr/>
            </p:nvSpPr>
            <p:spPr>
              <a:xfrm>
                <a:off x="4696560" y="3309840"/>
                <a:ext cx="2449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Fixed expen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CM 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rat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2"/>
              <p:cNvSpPr/>
              <p:nvPr/>
            </p:nvSpPr>
            <p:spPr>
              <a:xfrm>
                <a:off x="4343040" y="348876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3"/>
              <p:cNvSpPr/>
              <p:nvPr/>
            </p:nvSpPr>
            <p:spPr>
              <a:xfrm>
                <a:off x="2067120" y="3300480"/>
                <a:ext cx="22662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Arial"/>
                  </a:rPr>
                  <a:t>Dollar sales </a:t>
                </a: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to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464646"/>
                    </a:solidFill>
                    <a:latin typeface="Arial"/>
                  </a:rPr>
                  <a:t>break ev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Straight Connector 16"/>
            <p:cNvSpPr/>
            <p:nvPr/>
          </p:nvSpPr>
          <p:spPr>
            <a:xfrm>
              <a:off x="4800600" y="3727440"/>
              <a:ext cx="22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1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solidFill>
            <a:srgbClr val="a8bfd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break-even sales dolla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$1,3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$1,7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$1,7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$3,12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95680"/>
            <a:ext cx="183672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solidFill>
            <a:srgbClr val="a8bfd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01480" indent="-50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break-even sales dolla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57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a. $1,3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57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$1,7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57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c. $1,7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57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d. $3,12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5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95680"/>
            <a:ext cx="183672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7" name="Oval 4"/>
          <p:cNvSpPr/>
          <p:nvPr/>
        </p:nvSpPr>
        <p:spPr>
          <a:xfrm>
            <a:off x="914400" y="4437000"/>
            <a:ext cx="515880" cy="515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3276720" y="4100400"/>
            <a:ext cx="5333760" cy="2224080"/>
            <a:chOff x="3276720" y="4100400"/>
            <a:chExt cx="5333760" cy="2224080"/>
          </a:xfrm>
        </p:grpSpPr>
        <p:sp>
          <p:nvSpPr>
            <p:cNvPr id="469" name="Rectangle 6"/>
            <p:cNvSpPr/>
            <p:nvPr/>
          </p:nvSpPr>
          <p:spPr>
            <a:xfrm>
              <a:off x="3276720" y="4114800"/>
              <a:ext cx="5333760" cy="2209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5867280" y="4100400"/>
              <a:ext cx="259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xed expe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M 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6095880" y="4530600"/>
              <a:ext cx="220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3428640" y="41022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reak-even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a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5562360" y="4800600"/>
              <a:ext cx="182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,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7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5410080" y="5715000"/>
              <a:ext cx="175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 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$1,7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>
              <a:off x="6095880" y="5240160"/>
              <a:ext cx="837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3"/>
            <p:cNvSpPr/>
            <p:nvPr/>
          </p:nvSpPr>
          <p:spPr>
            <a:xfrm>
              <a:off x="5410080" y="5006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4"/>
            <p:cNvSpPr/>
            <p:nvPr/>
          </p:nvSpPr>
          <p:spPr>
            <a:xfrm>
              <a:off x="5409720" y="4282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solidFill>
            <a:srgbClr val="a8bfdf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break-even sales in uni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. 872 c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. 3,611 c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. 1,200 c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. 1,150 c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95680"/>
            <a:ext cx="183672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solidFill>
            <a:srgbClr val="a8bfd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break-even sales in uni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3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a. 872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3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b. 3,611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3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dfef"/>
                </a:solidFill>
                <a:latin typeface="Arial"/>
                <a:ea typeface="Arial"/>
              </a:rPr>
              <a:t>c. 1,20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3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1,15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3" name="Oval 1028"/>
          <p:cNvSpPr/>
          <p:nvPr/>
        </p:nvSpPr>
        <p:spPr>
          <a:xfrm>
            <a:off x="685800" y="5334120"/>
            <a:ext cx="533520" cy="5331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029"/>
          <p:cNvGrpSpPr/>
          <p:nvPr/>
        </p:nvGrpSpPr>
        <p:grpSpPr>
          <a:xfrm>
            <a:off x="3352680" y="2971800"/>
            <a:ext cx="5486400" cy="3504960"/>
            <a:chOff x="3352680" y="2971800"/>
            <a:chExt cx="5486400" cy="3504960"/>
          </a:xfrm>
        </p:grpSpPr>
        <p:sp>
          <p:nvSpPr>
            <p:cNvPr id="485" name="Rectangle 1030"/>
            <p:cNvSpPr/>
            <p:nvPr/>
          </p:nvSpPr>
          <p:spPr>
            <a:xfrm>
              <a:off x="3352680" y="2971800"/>
              <a:ext cx="5181480" cy="3504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031"/>
            <p:cNvSpPr/>
            <p:nvPr/>
          </p:nvSpPr>
          <p:spPr>
            <a:xfrm>
              <a:off x="5028840" y="3047760"/>
              <a:ext cx="381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xed expe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M per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32"/>
            <p:cNvSpPr/>
            <p:nvPr/>
          </p:nvSpPr>
          <p:spPr>
            <a:xfrm flipV="1">
              <a:off x="5638680" y="3471480"/>
              <a:ext cx="2590560" cy="3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033"/>
            <p:cNvSpPr/>
            <p:nvPr/>
          </p:nvSpPr>
          <p:spPr>
            <a:xfrm>
              <a:off x="3443040" y="3262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reak-even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034"/>
            <p:cNvSpPr/>
            <p:nvPr/>
          </p:nvSpPr>
          <p:spPr>
            <a:xfrm>
              <a:off x="3962160" y="388620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,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.49/cup - $0.36/c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035"/>
            <p:cNvSpPr/>
            <p:nvPr/>
          </p:nvSpPr>
          <p:spPr>
            <a:xfrm>
              <a:off x="4114440" y="498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036"/>
            <p:cNvSpPr/>
            <p:nvPr/>
          </p:nvSpPr>
          <p:spPr>
            <a:xfrm>
              <a:off x="4038480" y="481644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,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$1.13/c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37"/>
            <p:cNvSpPr/>
            <p:nvPr/>
          </p:nvSpPr>
          <p:spPr>
            <a:xfrm>
              <a:off x="4114440" y="579096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1,150 c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38"/>
            <p:cNvSpPr/>
            <p:nvPr/>
          </p:nvSpPr>
          <p:spPr>
            <a:xfrm>
              <a:off x="4571640" y="4311360"/>
              <a:ext cx="335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039"/>
            <p:cNvSpPr/>
            <p:nvPr/>
          </p:nvSpPr>
          <p:spPr>
            <a:xfrm>
              <a:off x="4586040" y="5243400"/>
              <a:ext cx="144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040"/>
            <p:cNvSpPr/>
            <p:nvPr/>
          </p:nvSpPr>
          <p:spPr>
            <a:xfrm>
              <a:off x="4038480" y="409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6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1905120" y="266688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Determine the level of sales needed to achieve a desired target prof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arget Profit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We can compute the number of units that must be sold to attain a target profit using eith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00000"/>
                </a:solidFill>
                <a:latin typeface="Arial"/>
                <a:ea typeface="Arial"/>
              </a:rPr>
              <a:t>(1) Equation method, or</a:t>
            </a:r>
            <a:endParaRPr b="0" lang="en-US" sz="3800" spc="-1" strike="noStrike">
              <a:solidFill>
                <a:srgbClr val="da1f28"/>
              </a:solidFill>
              <a:latin typeface="Arial"/>
            </a:endParaRPr>
          </a:p>
          <a:p>
            <a:pPr lvl="1" marL="990720" indent="-533520" algn="ctr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00000"/>
                </a:solidFill>
                <a:latin typeface="Arial"/>
                <a:ea typeface="Arial"/>
              </a:rPr>
              <a:t>(2) Formula method.</a:t>
            </a:r>
            <a:endParaRPr b="0" lang="en-US" sz="38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3603600" y="4943520"/>
            <a:ext cx="1936800" cy="1380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11"/>
          <p:cNvGraphicFramePr/>
          <p:nvPr/>
        </p:nvGraphicFramePr>
        <p:xfrm>
          <a:off x="1447920" y="3276720"/>
          <a:ext cx="64609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76720"/>
                    <a:ext cx="6460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tribution Approac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1563840"/>
            <a:ext cx="883944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es, variable expenses, and contribution margin can also be expressed on a per unit basis. If Racing sells an additional bicycle, $200 additional CM will be generated to cover fixed expenses and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952880" y="2286000"/>
            <a:ext cx="2362320" cy="3048120"/>
            <a:chOff x="4952880" y="2286000"/>
            <a:chExt cx="2362320" cy="3048120"/>
          </a:xfrm>
        </p:grpSpPr>
        <p:sp>
          <p:nvSpPr>
            <p:cNvPr id="117" name="Oval 6"/>
            <p:cNvSpPr/>
            <p:nvPr/>
          </p:nvSpPr>
          <p:spPr>
            <a:xfrm>
              <a:off x="4952880" y="2286000"/>
              <a:ext cx="939960" cy="53316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5422680" y="2819160"/>
              <a:ext cx="1892520" cy="25149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892800" y="1600200"/>
            <a:ext cx="772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  =  Unit CM × Q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533520" y="2563920"/>
            <a:ext cx="8153280" cy="1373760"/>
          </a:xfrm>
          <a:prstGeom prst="rect">
            <a:avLst/>
          </a:prstGeom>
          <a:solidFill>
            <a:srgbClr val="2b4a76"/>
          </a:solidFill>
          <a:ln w="9360">
            <a:solidFill>
              <a:srgbClr val="1d314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oal is to solve  for the unknown “Q” which represents the quantity of units that must be sold to attain the target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3603600" y="4943520"/>
            <a:ext cx="19368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arget Profit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53680" y="1703160"/>
            <a:ext cx="8001000" cy="1523880"/>
          </a:xfrm>
          <a:prstGeom prst="rect">
            <a:avLst/>
          </a:prstGeom>
          <a:solidFill>
            <a:srgbClr val="105766"/>
          </a:solidFill>
          <a:ln w="9360">
            <a:solidFill>
              <a:srgbClr val="6d1014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se RBC’s management wants to know how many bikes must be sold to earn a target profit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80040" y="3303720"/>
            <a:ext cx="772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  =  Unit CM × Q – 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37560" y="3913200"/>
            <a:ext cx="6162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  =  $200 ×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37560" y="4491000"/>
            <a:ext cx="616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00 ×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$100,000 – $8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31440" y="5070600"/>
            <a:ext cx="643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($100,000 + $80,000) ÷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17040" y="5665680"/>
            <a:ext cx="186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Formula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formula uses the following eq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5"/>
          <p:cNvGrpSpPr/>
          <p:nvPr/>
        </p:nvGrpSpPr>
        <p:grpSpPr>
          <a:xfrm>
            <a:off x="304920" y="2743200"/>
            <a:ext cx="8534160" cy="1066680"/>
            <a:chOff x="304920" y="2743200"/>
            <a:chExt cx="8534160" cy="1066680"/>
          </a:xfrm>
        </p:grpSpPr>
        <p:sp>
          <p:nvSpPr>
            <p:cNvPr id="518" name="Rounded Rectangle 14"/>
            <p:cNvSpPr/>
            <p:nvPr/>
          </p:nvSpPr>
          <p:spPr>
            <a:xfrm>
              <a:off x="304920" y="2743200"/>
              <a:ext cx="8534160" cy="1066680"/>
            </a:xfrm>
            <a:prstGeom prst="roundRect">
              <a:avLst>
                <a:gd name="adj" fmla="val 16667"/>
              </a:avLst>
            </a:prstGeom>
            <a:solidFill>
              <a:srgbClr val="d4dfef"/>
            </a:solidFill>
            <a:ln w="1908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3896640" y="2869920"/>
              <a:ext cx="4595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arget profit + Fixed 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M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per unit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3466800" y="305280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676800" y="2869920"/>
              <a:ext cx="2894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Unit sales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o attain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 target pro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9"/>
            <p:cNvSpPr/>
            <p:nvPr/>
          </p:nvSpPr>
          <p:spPr>
            <a:xfrm>
              <a:off x="3887640" y="3301920"/>
              <a:ext cx="457200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Picture 19" descr="C:\Users\jonbooker\AppData\Local\Microsoft\Windows\Temporary Internet Files\Content.IE5\ICNRLO95\MCj04395930000[1].png"/>
          <p:cNvPicPr/>
          <p:nvPr/>
        </p:nvPicPr>
        <p:blipFill>
          <a:blip r:embed="rId1"/>
          <a:stretch/>
        </p:blipFill>
        <p:spPr>
          <a:xfrm>
            <a:off x="3200400" y="4267080"/>
            <a:ext cx="2943360" cy="18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4" name="Picture 11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Target Profit Analysis in Terms of 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Unit Sale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b4a76"/>
                </a:solidFill>
                <a:latin typeface="Arial"/>
                <a:ea typeface="Arial"/>
              </a:rPr>
              <a:t>Suppose Racing Bicycle Company wants to know how many bikes must be sold to earn a profit of $10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304920" y="3443400"/>
            <a:ext cx="8534160" cy="1066680"/>
            <a:chOff x="304920" y="3443400"/>
            <a:chExt cx="8534160" cy="1066680"/>
          </a:xfrm>
        </p:grpSpPr>
        <p:sp>
          <p:nvSpPr>
            <p:cNvPr id="528" name="Rounded Rectangle 6"/>
            <p:cNvSpPr/>
            <p:nvPr/>
          </p:nvSpPr>
          <p:spPr>
            <a:xfrm>
              <a:off x="304920" y="3443400"/>
              <a:ext cx="8534160" cy="1066680"/>
            </a:xfrm>
            <a:prstGeom prst="roundRect">
              <a:avLst>
                <a:gd name="adj" fmla="val 16667"/>
              </a:avLst>
            </a:prstGeom>
            <a:solidFill>
              <a:srgbClr val="d4dfef"/>
            </a:solidFill>
            <a:ln w="1908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6"/>
            <p:cNvSpPr/>
            <p:nvPr/>
          </p:nvSpPr>
          <p:spPr>
            <a:xfrm>
              <a:off x="3896640" y="3570120"/>
              <a:ext cx="4595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arget profit + Fixed 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M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per unit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3466800" y="375300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676800" y="3570120"/>
              <a:ext cx="2894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Unit sales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o attain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 target pro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3887640" y="4002120"/>
              <a:ext cx="457200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Box 15"/>
          <p:cNvSpPr/>
          <p:nvPr/>
        </p:nvSpPr>
        <p:spPr>
          <a:xfrm>
            <a:off x="1784160" y="57243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sales =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0"/>
          <p:cNvGrpSpPr/>
          <p:nvPr/>
        </p:nvGrpSpPr>
        <p:grpSpPr>
          <a:xfrm>
            <a:off x="1752480" y="4815000"/>
            <a:ext cx="6172200" cy="947160"/>
            <a:chOff x="1752480" y="4815000"/>
            <a:chExt cx="6172200" cy="947160"/>
          </a:xfrm>
        </p:grpSpPr>
        <p:sp>
          <p:nvSpPr>
            <p:cNvPr id="535" name="TextBox 11"/>
            <p:cNvSpPr/>
            <p:nvPr/>
          </p:nvSpPr>
          <p:spPr>
            <a:xfrm>
              <a:off x="3504960" y="4815000"/>
              <a:ext cx="441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100,000 + $8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1752480" y="5053680"/>
              <a:ext cx="286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nit sale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traight Connector 19"/>
            <p:cNvSpPr/>
            <p:nvPr/>
          </p:nvSpPr>
          <p:spPr>
            <a:xfrm>
              <a:off x="3962160" y="527220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Picture 16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arget Profit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685800" y="167940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 can also compute the target profit in terms of sales dollars using either the equation method or the formula meth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gular Pentagon 3"/>
          <p:cNvSpPr/>
          <p:nvPr/>
        </p:nvSpPr>
        <p:spPr>
          <a:xfrm>
            <a:off x="914400" y="3027240"/>
            <a:ext cx="3352680" cy="2535480"/>
          </a:xfrm>
          <a:prstGeom prst="pentagon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u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gular Pentagon 4"/>
          <p:cNvSpPr/>
          <p:nvPr/>
        </p:nvSpPr>
        <p:spPr>
          <a:xfrm>
            <a:off x="4952880" y="3027240"/>
            <a:ext cx="3353040" cy="2535480"/>
          </a:xfrm>
          <a:prstGeom prst="pentagon">
            <a:avLst/>
          </a:prstGeom>
          <a:solidFill>
            <a:srgbClr val="1faecd"/>
          </a:solidFill>
          <a:ln w="19080">
            <a:solidFill>
              <a:srgbClr val="1e768c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427104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Equation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864360" y="1620720"/>
            <a:ext cx="7515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  =  CM ratio × Sales – Fixe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609480" y="2136600"/>
            <a:ext cx="8001000" cy="2743200"/>
          </a:xfrm>
          <a:prstGeom prst="rect">
            <a:avLst/>
          </a:prstGeom>
          <a:solidFill>
            <a:srgbClr val="1faecd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oal is to solve for the unknown “Sales,” which represents the dollar amount of sales that must be sold to attain the target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ppose RBC management wants to know the sales volume that must be generated to earn a target profit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738080" y="4956120"/>
            <a:ext cx="516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0,000  =  40% × Sales – $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1738440" y="5337000"/>
            <a:ext cx="500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 × Sales = $100,000 + $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738080" y="5734080"/>
            <a:ext cx="519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= ($100,000 + $80,000) ÷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=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$4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Formula Method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SzPct val="2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 can calculate the dollar sales needed to attain a target profit (net operating profit) of $100,000 at Racing Bi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7"/>
          <p:cNvGrpSpPr/>
          <p:nvPr/>
        </p:nvGrpSpPr>
        <p:grpSpPr>
          <a:xfrm>
            <a:off x="457200" y="3205080"/>
            <a:ext cx="8229600" cy="1143000"/>
            <a:chOff x="457200" y="3205080"/>
            <a:chExt cx="8229600" cy="1143000"/>
          </a:xfrm>
        </p:grpSpPr>
        <p:sp>
          <p:nvSpPr>
            <p:cNvPr id="555" name="Rounded Rectangle 8"/>
            <p:cNvSpPr/>
            <p:nvPr/>
          </p:nvSpPr>
          <p:spPr>
            <a:xfrm>
              <a:off x="457200" y="3205080"/>
              <a:ext cx="8229600" cy="1143000"/>
            </a:xfrm>
            <a:prstGeom prst="roundRect">
              <a:avLst>
                <a:gd name="adj" fmla="val 16667"/>
              </a:avLst>
            </a:prstGeom>
            <a:solidFill>
              <a:srgbClr val="f7c1a4"/>
            </a:solidFill>
            <a:ln w="1908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4006440" y="3376440"/>
              <a:ext cx="4595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arget profit + Fixed expe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M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657240" y="355536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46120" y="3367080"/>
              <a:ext cx="31654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Dollar sales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o attain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he target profi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4"/>
            <p:cNvSpPr/>
            <p:nvPr/>
          </p:nvSpPr>
          <p:spPr>
            <a:xfrm>
              <a:off x="4114800" y="3797640"/>
              <a:ext cx="426708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Box 13"/>
          <p:cNvSpPr/>
          <p:nvPr/>
        </p:nvSpPr>
        <p:spPr>
          <a:xfrm>
            <a:off x="1772640" y="56530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 sales =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4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4"/>
          <p:cNvGrpSpPr/>
          <p:nvPr/>
        </p:nvGrpSpPr>
        <p:grpSpPr>
          <a:xfrm>
            <a:off x="1752480" y="4653000"/>
            <a:ext cx="6172200" cy="947160"/>
            <a:chOff x="1752480" y="4653000"/>
            <a:chExt cx="6172200" cy="947160"/>
          </a:xfrm>
        </p:grpSpPr>
        <p:sp>
          <p:nvSpPr>
            <p:cNvPr id="562" name="TextBox 15"/>
            <p:cNvSpPr/>
            <p:nvPr/>
          </p:nvSpPr>
          <p:spPr>
            <a:xfrm>
              <a:off x="3504960" y="4653000"/>
              <a:ext cx="441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100,000 + $8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16"/>
            <p:cNvSpPr/>
            <p:nvPr/>
          </p:nvSpPr>
          <p:spPr>
            <a:xfrm>
              <a:off x="1752480" y="4890960"/>
              <a:ext cx="28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ollar sale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traight Connector 17"/>
            <p:cNvSpPr/>
            <p:nvPr/>
          </p:nvSpPr>
          <p:spPr>
            <a:xfrm>
              <a:off x="4035240" y="5110200"/>
              <a:ext cx="3432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15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solidFill>
            <a:srgbClr val="edecd2"/>
          </a:solidFill>
          <a:ln w="12600">
            <a:solidFill>
              <a:srgbClr val="23263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 Use the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rmul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determin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ow many cu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coffee would have to be sold to attain target profits of $2,500 per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3,363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2,212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1,15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4,20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568" name="Picture 3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989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3"/>
          <p:cNvSpPr/>
          <p:nvPr/>
        </p:nvSpPr>
        <p:spPr>
          <a:xfrm>
            <a:off x="228600" y="1447920"/>
            <a:ext cx="8686800" cy="4876560"/>
          </a:xfrm>
          <a:prstGeom prst="rect">
            <a:avLst/>
          </a:prstGeom>
          <a:solidFill>
            <a:srgbClr val="edecd2"/>
          </a:solidFill>
          <a:ln w="1260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 Use the 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formula meth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determine how many cups of coffee would have to be sold to attain target profits of $2,500 per mon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3,363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b. 2,212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c. 1,15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d. 4,20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0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1911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2" name="Oval 1028"/>
          <p:cNvSpPr/>
          <p:nvPr/>
        </p:nvSpPr>
        <p:spPr>
          <a:xfrm>
            <a:off x="338040" y="4267080"/>
            <a:ext cx="558720" cy="559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029"/>
          <p:cNvGrpSpPr/>
          <p:nvPr/>
        </p:nvGrpSpPr>
        <p:grpSpPr>
          <a:xfrm>
            <a:off x="1828800" y="2590920"/>
            <a:ext cx="7162560" cy="3733200"/>
            <a:chOff x="1828800" y="2590920"/>
            <a:chExt cx="7162560" cy="3733200"/>
          </a:xfrm>
        </p:grpSpPr>
        <p:sp>
          <p:nvSpPr>
            <p:cNvPr id="574" name="Rectangle 1030"/>
            <p:cNvSpPr/>
            <p:nvPr/>
          </p:nvSpPr>
          <p:spPr>
            <a:xfrm>
              <a:off x="1905840" y="2590920"/>
              <a:ext cx="7085520" cy="3733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031"/>
            <p:cNvSpPr/>
            <p:nvPr/>
          </p:nvSpPr>
          <p:spPr>
            <a:xfrm>
              <a:off x="4139280" y="2770200"/>
              <a:ext cx="485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arget profit + Fixed expe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32"/>
            <p:cNvSpPr/>
            <p:nvPr/>
          </p:nvSpPr>
          <p:spPr>
            <a:xfrm>
              <a:off x="4293000" y="3197880"/>
              <a:ext cx="4544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033"/>
            <p:cNvSpPr/>
            <p:nvPr/>
          </p:nvSpPr>
          <p:spPr>
            <a:xfrm>
              <a:off x="1828800" y="2607480"/>
              <a:ext cx="215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 sales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 attain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arget profi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034"/>
            <p:cNvSpPr/>
            <p:nvPr/>
          </p:nvSpPr>
          <p:spPr>
            <a:xfrm>
              <a:off x="3831120" y="5756040"/>
              <a:ext cx="21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3,363 c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1035"/>
            <p:cNvGrpSpPr/>
            <p:nvPr/>
          </p:nvGrpSpPr>
          <p:grpSpPr>
            <a:xfrm>
              <a:off x="3831120" y="4798800"/>
              <a:ext cx="1771200" cy="825480"/>
              <a:chOff x="3831120" y="4798800"/>
              <a:chExt cx="1771200" cy="825480"/>
            </a:xfrm>
          </p:grpSpPr>
          <p:sp>
            <p:nvSpPr>
              <p:cNvPr id="580" name="Text Box 1036"/>
              <p:cNvSpPr/>
              <p:nvPr/>
            </p:nvSpPr>
            <p:spPr>
              <a:xfrm>
                <a:off x="3831120" y="4981320"/>
                <a:ext cx="38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1037"/>
              <p:cNvSpPr/>
              <p:nvPr/>
            </p:nvSpPr>
            <p:spPr>
              <a:xfrm>
                <a:off x="4139280" y="4798800"/>
                <a:ext cx="146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$3,8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$1.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038"/>
              <p:cNvSpPr/>
              <p:nvPr/>
            </p:nvSpPr>
            <p:spPr>
              <a:xfrm>
                <a:off x="4447440" y="5226120"/>
                <a:ext cx="9241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039"/>
            <p:cNvGrpSpPr/>
            <p:nvPr/>
          </p:nvGrpSpPr>
          <p:grpSpPr>
            <a:xfrm>
              <a:off x="3754080" y="3825000"/>
              <a:ext cx="3080160" cy="825480"/>
              <a:chOff x="3754080" y="3825000"/>
              <a:chExt cx="3080160" cy="825480"/>
            </a:xfrm>
          </p:grpSpPr>
          <p:sp>
            <p:nvSpPr>
              <p:cNvPr id="584" name="Text Box 1040"/>
              <p:cNvSpPr/>
              <p:nvPr/>
            </p:nvSpPr>
            <p:spPr>
              <a:xfrm>
                <a:off x="4138920" y="3825000"/>
                <a:ext cx="2695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$2,500 + $1,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$1.49 - $0.36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041"/>
              <p:cNvSpPr/>
              <p:nvPr/>
            </p:nvSpPr>
            <p:spPr>
              <a:xfrm>
                <a:off x="4425840" y="4260960"/>
                <a:ext cx="2156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042"/>
              <p:cNvSpPr/>
              <p:nvPr/>
            </p:nvSpPr>
            <p:spPr>
              <a:xfrm>
                <a:off x="3754080" y="4044600"/>
                <a:ext cx="46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043"/>
            <p:cNvSpPr/>
            <p:nvPr/>
          </p:nvSpPr>
          <p:spPr>
            <a:xfrm>
              <a:off x="3754080" y="299484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solidFill>
            <a:srgbClr val="edecd2"/>
          </a:solidFill>
          <a:ln w="12600">
            <a:solidFill>
              <a:srgbClr val="23263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 Use the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rmul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les doll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must be generated to attain target profits of $2,500 per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$2,550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$5,013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$8,458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$10,555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590" name="Picture 3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57524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1"/>
          <p:cNvGraphicFramePr/>
          <p:nvPr/>
        </p:nvGraphicFramePr>
        <p:xfrm>
          <a:off x="1447920" y="3276720"/>
          <a:ext cx="64609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76720"/>
                    <a:ext cx="6460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tribution Approac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560" y="1563840"/>
            <a:ext cx="84582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month, RBC must generate at least     $80,000 in total contribution margin to break-even (which is the level of sales at which profit is z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685800" y="1947960"/>
            <a:ext cx="4862520" cy="3843360"/>
            <a:chOff x="685800" y="1947960"/>
            <a:chExt cx="4862520" cy="3843360"/>
          </a:xfrm>
        </p:grpSpPr>
        <p:sp>
          <p:nvSpPr>
            <p:cNvPr id="125" name="Rectangle 7"/>
            <p:cNvSpPr/>
            <p:nvPr/>
          </p:nvSpPr>
          <p:spPr>
            <a:xfrm>
              <a:off x="685800" y="1947960"/>
              <a:ext cx="1447560" cy="414360"/>
            </a:xfrm>
            <a:prstGeom prst="rect">
              <a:avLst/>
            </a:prstGeom>
            <a:noFill/>
            <a:ln w="50760">
              <a:solidFill>
                <a:srgbClr val="fc012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2133360" y="2362320"/>
              <a:ext cx="3414960" cy="3429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228600" y="1371600"/>
            <a:ext cx="8686800" cy="4876920"/>
          </a:xfrm>
          <a:prstGeom prst="rect">
            <a:avLst/>
          </a:prstGeom>
          <a:solidFill>
            <a:srgbClr val="edecd2"/>
          </a:solidFill>
          <a:ln w="1260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 Use the 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formula meth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ales dollar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at must be generated to attain target profits of $2,500 per mon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a. $2,5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$5,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c. $8,4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Arial"/>
              </a:rPr>
              <a:t>d. $10,5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8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477120" y="4267080"/>
            <a:ext cx="183672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3" name="Picture 20" descr="G:\FILES\PFILES\MSOFFICE\MEDIA\CNTCD1\ClipArt2\j0217302.wmf"/>
          <p:cNvPicPr/>
          <p:nvPr/>
        </p:nvPicPr>
        <p:blipFill>
          <a:blip r:embed="rId2"/>
          <a:stretch/>
        </p:blipFill>
        <p:spPr>
          <a:xfrm>
            <a:off x="6324480" y="411480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5" name="Oval 1028"/>
          <p:cNvSpPr/>
          <p:nvPr/>
        </p:nvSpPr>
        <p:spPr>
          <a:xfrm>
            <a:off x="380880" y="4648320"/>
            <a:ext cx="559080" cy="558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Group 1029" descr=""/>
          <p:cNvPicPr/>
          <p:nvPr/>
        </p:nvPicPr>
        <p:blipFill>
          <a:blip r:embed="rId3"/>
          <a:stretch/>
        </p:blipFill>
        <p:spPr>
          <a:xfrm>
            <a:off x="2054160" y="3041640"/>
            <a:ext cx="709632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7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1905120" y="2681280"/>
            <a:ext cx="5333760" cy="164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margin of safety and explain its significan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Margin of Safety in Dolla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argin of safety in dollars is the excess of budgeted (or actual) sales over the break-even volume of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04040" y="3281400"/>
            <a:ext cx="8965800" cy="484920"/>
          </a:xfrm>
          <a:prstGeom prst="rect">
            <a:avLst/>
          </a:prstGeom>
          <a:solidFill>
            <a:srgbClr val="474b78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argin of safety in dollars = Total sales  -  Break-eve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457200" y="417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Racing Bicycle Company and determine the margin of saf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Margin of Safety in Dolla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we assume that RBC has actual sales of            $250,000, given that we have already determined  the break-even sales to be $200,000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argin of safe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$50,000 a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Object 2"/>
          <p:cNvGraphicFramePr/>
          <p:nvPr/>
        </p:nvGraphicFramePr>
        <p:xfrm>
          <a:off x="838080" y="3876840"/>
          <a:ext cx="76201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76840"/>
                    <a:ext cx="7620120" cy="2752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08" name="Group 1029"/>
          <p:cNvGrpSpPr/>
          <p:nvPr/>
        </p:nvGrpSpPr>
        <p:grpSpPr>
          <a:xfrm>
            <a:off x="5638680" y="3352680"/>
            <a:ext cx="1143000" cy="1524240"/>
            <a:chOff x="5638680" y="3352680"/>
            <a:chExt cx="1143000" cy="1524240"/>
          </a:xfrm>
        </p:grpSpPr>
        <p:sp>
          <p:nvSpPr>
            <p:cNvPr id="609" name="Line 1030"/>
            <p:cNvSpPr/>
            <p:nvPr/>
          </p:nvSpPr>
          <p:spPr>
            <a:xfrm>
              <a:off x="5638680" y="3352680"/>
              <a:ext cx="7596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31"/>
            <p:cNvSpPr/>
            <p:nvPr/>
          </p:nvSpPr>
          <p:spPr>
            <a:xfrm>
              <a:off x="5638680" y="3352680"/>
              <a:ext cx="114300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1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Margin of Safety Percentag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BC’s margin of safety can be expressed 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0%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sal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$50,000 ÷ $250,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Object 2"/>
          <p:cNvGraphicFramePr/>
          <p:nvPr/>
        </p:nvGraphicFramePr>
        <p:xfrm>
          <a:off x="838080" y="3429000"/>
          <a:ext cx="76201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429000"/>
                    <a:ext cx="7620120" cy="2752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616" name="Picture 5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Margin of Safe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argin of safety can be expressed in terms of the number of units sold. The margin of safety at RBC is $50,000, and each bike sells for $500; hence, RBC’s margin of safety is 100 b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Group 5" descr=""/>
          <p:cNvPicPr/>
          <p:nvPr/>
        </p:nvPicPr>
        <p:blipFill>
          <a:blip r:embed="rId1"/>
          <a:stretch/>
        </p:blipFill>
        <p:spPr>
          <a:xfrm>
            <a:off x="907920" y="3730680"/>
            <a:ext cx="7358040" cy="1334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"/>
          <p:cNvPicPr/>
          <p:nvPr/>
        </p:nvPicPr>
        <p:blipFill>
          <a:blip r:embed="rId2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563840"/>
            <a:ext cx="8229600" cy="483696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margin of safety expressed in c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. 3,25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 95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. 1,15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. 2,100 cups</a:t>
            </a:r>
            <a:endParaRPr b="0" lang="en-US" sz="26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623" name="Picture 3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989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margin of safety expressed in cup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bb8"/>
                </a:solidFill>
                <a:latin typeface="Arial"/>
                <a:ea typeface="Arial"/>
              </a:rPr>
              <a:t>a. 3,25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.    95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bb8"/>
                </a:solidFill>
                <a:latin typeface="Arial"/>
                <a:ea typeface="Arial"/>
              </a:rPr>
              <a:t>c. 1,15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bb8"/>
                </a:solidFill>
                <a:latin typeface="Arial"/>
                <a:ea typeface="Arial"/>
              </a:rPr>
              <a:t>d. 2,100 c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6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324480" y="44197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7" name="Oval 4"/>
          <p:cNvSpPr/>
          <p:nvPr/>
        </p:nvSpPr>
        <p:spPr>
          <a:xfrm>
            <a:off x="609480" y="4952880"/>
            <a:ext cx="482760" cy="533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5"/>
          <p:cNvGrpSpPr/>
          <p:nvPr/>
        </p:nvGrpSpPr>
        <p:grpSpPr>
          <a:xfrm>
            <a:off x="1066680" y="2666880"/>
            <a:ext cx="7389720" cy="1524240"/>
            <a:chOff x="1066680" y="2666880"/>
            <a:chExt cx="7389720" cy="1524240"/>
          </a:xfrm>
        </p:grpSpPr>
        <p:sp>
          <p:nvSpPr>
            <p:cNvPr id="629" name="Rectangle 6"/>
            <p:cNvSpPr/>
            <p:nvPr/>
          </p:nvSpPr>
          <p:spPr>
            <a:xfrm>
              <a:off x="1144440" y="2666880"/>
              <a:ext cx="7311960" cy="15242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1066680" y="2836800"/>
              <a:ext cx="73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rgin of safety = Total sales – Break-even s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3611520" y="3603600"/>
              <a:ext cx="21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950 c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9"/>
            <p:cNvSpPr/>
            <p:nvPr/>
          </p:nvSpPr>
          <p:spPr>
            <a:xfrm>
              <a:off x="3608280" y="32004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 2,100 cups – 1,150 c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st Structure and Profit S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304920" y="1900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st structure refers to the relative proportion of fixed and variable costs in an organization. Managers often have some latitude in determining their organization’s cost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7" descr="G:\FILES\PFILES\MSOFFICE\MEDIA\CNTCD1\ClipArt3\j0237982.wmf"/>
          <p:cNvPicPr/>
          <p:nvPr/>
        </p:nvPicPr>
        <p:blipFill>
          <a:blip r:embed="rId1"/>
          <a:stretch/>
        </p:blipFill>
        <p:spPr>
          <a:xfrm>
            <a:off x="3276720" y="4375080"/>
            <a:ext cx="251460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st Structure and Profit S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304920" y="1600200"/>
            <a:ext cx="8534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re are advantages and disadvantages to high fixed cost (or low variable cost) and low fixed cost (or high variable cost) structu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380880" y="2863800"/>
            <a:ext cx="4343400" cy="2286000"/>
          </a:xfrm>
          <a:prstGeom prst="rect">
            <a:avLst/>
          </a:prstGeom>
          <a:solidFill>
            <a:srgbClr val="1057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antage of a high fix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structure is that inco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higher in good yea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compan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ower propor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4648320" y="3321000"/>
            <a:ext cx="4190760" cy="2286000"/>
          </a:xfrm>
          <a:prstGeom prst="rect">
            <a:avLst/>
          </a:prstGeom>
          <a:solidFill>
            <a:srgbClr val="d4dfef"/>
          </a:solidFill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A disadvantage of a high fixed</a:t>
            </a:r>
            <a:br>
              <a:rPr sz="2400"/>
            </a:b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cost structure is that income</a:t>
            </a:r>
            <a:br>
              <a:rPr sz="2400"/>
            </a:b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will be lower in bad years</a:t>
            </a:r>
            <a:br>
              <a:rPr sz="2400"/>
            </a:b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compared to companies</a:t>
            </a:r>
            <a:br>
              <a:rPr sz="2400"/>
            </a:b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with lower proportion of</a:t>
            </a:r>
            <a:br>
              <a:rPr sz="2400"/>
            </a:br>
            <a:r>
              <a:rPr b="0" lang="en-US" sz="2400" spc="-1" strike="noStrike">
                <a:solidFill>
                  <a:srgbClr val="23263c"/>
                </a:solidFill>
                <a:latin typeface="Arial"/>
              </a:rPr>
              <a:t>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04920" y="5759280"/>
            <a:ext cx="8534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anies with low fixed cost structures enjoy greater stability in income across good and bad yea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8"/>
          <p:cNvGraphicFramePr/>
          <p:nvPr/>
        </p:nvGraphicFramePr>
        <p:xfrm>
          <a:off x="1447920" y="2666880"/>
          <a:ext cx="64609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4609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tribution Approac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RBC sel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00 units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month, it will be operating at the </a:t>
            </a:r>
            <a:r>
              <a:rPr b="0" i="1" lang="en-US" sz="3200" spc="-1" strike="noStrike">
                <a:solidFill>
                  <a:srgbClr val="528693"/>
                </a:solidFill>
                <a:latin typeface="Arial"/>
                <a:ea typeface="Arial"/>
              </a:rPr>
              <a:t>break-even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2590920" y="2057400"/>
            <a:ext cx="9144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248160" y="2590920"/>
            <a:ext cx="817560" cy="2895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8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905120" y="2057400"/>
            <a:ext cx="5333760" cy="3717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degree of operating leverage at a particular level of sales and explain how it can be used to predict changes in net operating inco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Operating Leverag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ing leverage is a measure of how sensitive net operating income is to percentage changes in sales. It is a measure, at any given level of sales, of how a percentage change in sales volume will affect prof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9"/>
          <p:cNvGrpSpPr/>
          <p:nvPr/>
        </p:nvGrpSpPr>
        <p:grpSpPr>
          <a:xfrm>
            <a:off x="551520" y="3505320"/>
            <a:ext cx="8101440" cy="942120"/>
            <a:chOff x="551520" y="3505320"/>
            <a:chExt cx="8101440" cy="942120"/>
          </a:xfrm>
        </p:grpSpPr>
        <p:sp>
          <p:nvSpPr>
            <p:cNvPr id="646" name="Rectangle 10"/>
            <p:cNvSpPr/>
            <p:nvPr/>
          </p:nvSpPr>
          <p:spPr>
            <a:xfrm>
              <a:off x="4641480" y="3505320"/>
              <a:ext cx="38145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ontribution marg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Net operating inco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1"/>
            <p:cNvSpPr/>
            <p:nvPr/>
          </p:nvSpPr>
          <p:spPr>
            <a:xfrm>
              <a:off x="551520" y="3505320"/>
              <a:ext cx="3343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Degree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perating leve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12"/>
            <p:cNvSpPr/>
            <p:nvPr/>
          </p:nvSpPr>
          <p:spPr>
            <a:xfrm>
              <a:off x="4097160" y="37321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3"/>
            <p:cNvSpPr/>
            <p:nvPr/>
          </p:nvSpPr>
          <p:spPr>
            <a:xfrm>
              <a:off x="4614840" y="4013280"/>
              <a:ext cx="40381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0" name="Picture 14" descr="G:\FILES\PFILES\MSOFFICE\MEDIA\CNTCD1\ClipArt1\j0149677.wmf"/>
          <p:cNvPicPr/>
          <p:nvPr/>
        </p:nvPicPr>
        <p:blipFill>
          <a:blip r:embed="rId1"/>
          <a:stretch/>
        </p:blipFill>
        <p:spPr>
          <a:xfrm>
            <a:off x="3595680" y="4592520"/>
            <a:ext cx="1967040" cy="18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Operating Leverag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1752480" y="2558880"/>
          <a:ext cx="550728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58880"/>
                    <a:ext cx="5507280" cy="251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54" name="Group 11"/>
          <p:cNvGrpSpPr/>
          <p:nvPr/>
        </p:nvGrpSpPr>
        <p:grpSpPr>
          <a:xfrm>
            <a:off x="1752480" y="5181480"/>
            <a:ext cx="5092200" cy="1191240"/>
            <a:chOff x="1752480" y="5181480"/>
            <a:chExt cx="5092200" cy="1191240"/>
          </a:xfrm>
        </p:grpSpPr>
        <p:grpSp>
          <p:nvGrpSpPr>
            <p:cNvPr id="655" name="Group 4"/>
            <p:cNvGrpSpPr/>
            <p:nvPr/>
          </p:nvGrpSpPr>
          <p:grpSpPr>
            <a:xfrm>
              <a:off x="4428360" y="5409720"/>
              <a:ext cx="2416320" cy="820440"/>
              <a:chOff x="4428360" y="5409720"/>
              <a:chExt cx="2416320" cy="820440"/>
            </a:xfrm>
          </p:grpSpPr>
          <p:sp>
            <p:nvSpPr>
              <p:cNvPr id="656" name="Rectangle 5"/>
              <p:cNvSpPr/>
              <p:nvPr/>
            </p:nvSpPr>
            <p:spPr>
              <a:xfrm>
                <a:off x="4428360" y="5409720"/>
                <a:ext cx="15361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100,00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20,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6"/>
              <p:cNvSpPr/>
              <p:nvPr/>
            </p:nvSpPr>
            <p:spPr>
              <a:xfrm>
                <a:off x="6018480" y="5638320"/>
                <a:ext cx="826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US" sz="2800" spc="-1" strike="noStrike">
                    <a:solidFill>
                      <a:srgbClr val="0000cc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c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TextBox 9"/>
            <p:cNvSpPr/>
            <p:nvPr/>
          </p:nvSpPr>
          <p:spPr>
            <a:xfrm>
              <a:off x="1752480" y="51814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gree of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ve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10"/>
            <p:cNvSpPr/>
            <p:nvPr/>
          </p:nvSpPr>
          <p:spPr>
            <a:xfrm>
              <a:off x="3962160" y="563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3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llustrate, let’s revisit the contribution income statement for RB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1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Operating Leverag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an operating leverage of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if RBC increases its sales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net operating income would increase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5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Object 2"/>
          <p:cNvGraphicFramePr/>
          <p:nvPr/>
        </p:nvGraphicFramePr>
        <p:xfrm>
          <a:off x="838080" y="3200400"/>
          <a:ext cx="74678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7467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AutoShape 5"/>
          <p:cNvSpPr/>
          <p:nvPr/>
        </p:nvSpPr>
        <p:spPr>
          <a:xfrm>
            <a:off x="2362320" y="5410080"/>
            <a:ext cx="5410080" cy="91440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ere’s the verifica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Operating Leverag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669" name="Object 2"/>
          <p:cNvGraphicFramePr/>
          <p:nvPr/>
        </p:nvGraphicFramePr>
        <p:xfrm>
          <a:off x="685800" y="1600200"/>
          <a:ext cx="7924680" cy="296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924680" cy="2968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1" name="Rectangle 1028"/>
          <p:cNvSpPr/>
          <p:nvPr/>
        </p:nvSpPr>
        <p:spPr>
          <a:xfrm>
            <a:off x="533520" y="4419720"/>
            <a:ext cx="449568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10% increase in sal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$250,000 to $275,000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29"/>
          <p:cNvSpPr/>
          <p:nvPr/>
        </p:nvSpPr>
        <p:spPr>
          <a:xfrm>
            <a:off x="3733920" y="5410080"/>
            <a:ext cx="5181480" cy="1067040"/>
          </a:xfrm>
          <a:prstGeom prst="rect">
            <a:avLst/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. . . results in a 50% increas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ncome from $20,000 to $30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563480"/>
            <a:ext cx="8229600" cy="453204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def5fa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operating lever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2.21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0.45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0.34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 2.92</a:t>
            </a:r>
            <a:endParaRPr b="0" lang="en-US" sz="28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676" name="Picture 3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095880" y="42703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457200" y="1638360"/>
            <a:ext cx="8153280" cy="4686120"/>
          </a:xfrm>
          <a:prstGeom prst="rect">
            <a:avLst/>
          </a:prstGeom>
          <a:solidFill>
            <a:srgbClr val="edecd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ffee Klatch is an espresso stand in a downtown office building. The average selling price of a cup of coffee is $1.49 and the average variable expense per cup is $0.36. The average fixed expense per month is $1,300. An average of 2,100 cups are sold each month. What is the operating lever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2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bb8"/>
                </a:solidFill>
                <a:latin typeface="Arial"/>
                <a:ea typeface="Arial"/>
              </a:rPr>
              <a:t>b. 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bb8"/>
                </a:solidFill>
                <a:latin typeface="Arial"/>
                <a:ea typeface="Arial"/>
              </a:rPr>
              <a:t>c. 0.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bb8"/>
                </a:solidFill>
                <a:latin typeface="Arial"/>
                <a:ea typeface="Arial"/>
              </a:rPr>
              <a:t>d. 2.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17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019920" y="441972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0" name="Oval 4"/>
          <p:cNvSpPr/>
          <p:nvPr/>
        </p:nvSpPr>
        <p:spPr>
          <a:xfrm>
            <a:off x="609480" y="4343400"/>
            <a:ext cx="533520" cy="482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0" y="0"/>
          <a:ext cx="91440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Group 6"/>
          <p:cNvGrpSpPr/>
          <p:nvPr/>
        </p:nvGrpSpPr>
        <p:grpSpPr>
          <a:xfrm>
            <a:off x="3352680" y="4876920"/>
            <a:ext cx="5410080" cy="1828800"/>
            <a:chOff x="3352680" y="4876920"/>
            <a:chExt cx="5410080" cy="1828800"/>
          </a:xfrm>
        </p:grpSpPr>
        <p:sp>
          <p:nvSpPr>
            <p:cNvPr id="684" name="Rectangle 7"/>
            <p:cNvSpPr/>
            <p:nvPr/>
          </p:nvSpPr>
          <p:spPr>
            <a:xfrm>
              <a:off x="3352680" y="4876920"/>
              <a:ext cx="5410080" cy="18288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8"/>
            <p:cNvSpPr/>
            <p:nvPr/>
          </p:nvSpPr>
          <p:spPr>
            <a:xfrm>
              <a:off x="5181480" y="495324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Contribution mar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Net operating inc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5410080" y="5369040"/>
              <a:ext cx="312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0"/>
            <p:cNvSpPr/>
            <p:nvPr/>
          </p:nvSpPr>
          <p:spPr>
            <a:xfrm>
              <a:off x="3504960" y="49356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Operating leverag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1"/>
            <p:cNvSpPr/>
            <p:nvPr/>
          </p:nvSpPr>
          <p:spPr>
            <a:xfrm>
              <a:off x="5029200" y="5181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2"/>
            <p:cNvSpPr/>
            <p:nvPr/>
          </p:nvSpPr>
          <p:spPr>
            <a:xfrm>
              <a:off x="5181480" y="580716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$2,3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$1,0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5410080" y="622296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4"/>
            <p:cNvSpPr/>
            <p:nvPr/>
          </p:nvSpPr>
          <p:spPr>
            <a:xfrm>
              <a:off x="4952880" y="6035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5"/>
            <p:cNvSpPr/>
            <p:nvPr/>
          </p:nvSpPr>
          <p:spPr>
            <a:xfrm>
              <a:off x="6400800" y="60375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5ff"/>
                  </a:solidFill>
                  <a:latin typeface="Arial"/>
                </a:rPr>
                <a:t>=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2.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Object 3"/>
          <p:cNvGraphicFramePr/>
          <p:nvPr/>
        </p:nvGraphicFramePr>
        <p:xfrm>
          <a:off x="4267080" y="1600200"/>
          <a:ext cx="4692600" cy="2558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1600200"/>
                    <a:ext cx="4692600" cy="2558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457200" y="1600200"/>
            <a:ext cx="8153280" cy="4686480"/>
          </a:xfrm>
          <a:prstGeom prst="rect">
            <a:avLst/>
          </a:prstGeom>
          <a:solidFill>
            <a:srgbClr val="fbe0d1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offee Klatch the average selling price of a cup of coffee is $1.49, the average variable expense per cup is $0.36, the average fixed expense per month is $1,300, and an average of 2,100 cups are sold each mon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ales increase by 20%, by how much should net operating income increa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a. 30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b. 20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c. 22.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d. 44.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095880" y="4114800"/>
            <a:ext cx="183672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4"/>
          <p:cNvSpPr/>
          <p:nvPr/>
        </p:nvSpPr>
        <p:spPr>
          <a:xfrm>
            <a:off x="533520" y="1562040"/>
            <a:ext cx="8153280" cy="4686480"/>
          </a:xfrm>
          <a:prstGeom prst="rect">
            <a:avLst/>
          </a:prstGeom>
          <a:solidFill>
            <a:srgbClr val="fbe0d1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offee Klatch the average selling price of a cup of coffee is $1.49, the average variable expense per cup is $0.36, the average fixed expense per month is $1,300, and an average of 2,100 cups are sold each mon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ales increase by 20%, by how much should net operating income increa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MS PGothic"/>
              </a:rPr>
              <a:t>a. 30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MS PGothic"/>
              </a:rPr>
              <a:t>b. 20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  <a:ea typeface="MS PGothic"/>
              </a:rPr>
              <a:t>c. 22.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d. 44.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Quick Check </a:t>
            </a:r>
            <a:r>
              <a:rPr b="0" lang="en-US" sz="4000" spc="-1" strike="noStrike">
                <a:solidFill>
                  <a:srgbClr val="464646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0" name="Oval 4"/>
          <p:cNvSpPr/>
          <p:nvPr/>
        </p:nvSpPr>
        <p:spPr>
          <a:xfrm>
            <a:off x="700200" y="5529240"/>
            <a:ext cx="519120" cy="490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G:\FILES\PFILES\MSOFFICE\MEDIA\CNTCD1\ClipArt2\j0217302.wmf"/>
          <p:cNvPicPr/>
          <p:nvPr/>
        </p:nvPicPr>
        <p:blipFill>
          <a:blip r:embed="rId1"/>
          <a:stretch/>
        </p:blipFill>
        <p:spPr>
          <a:xfrm>
            <a:off x="6095880" y="4267080"/>
            <a:ext cx="183672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702" name="Object 2"/>
          <p:cNvGraphicFramePr/>
          <p:nvPr/>
        </p:nvGraphicFramePr>
        <p:xfrm>
          <a:off x="2657520" y="4491000"/>
          <a:ext cx="5508720" cy="129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57520" y="4491000"/>
                    <a:ext cx="55087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erify Increase in Profi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05" name="Object 2"/>
          <p:cNvGraphicFramePr/>
          <p:nvPr/>
        </p:nvGraphicFramePr>
        <p:xfrm>
          <a:off x="533520" y="1563840"/>
          <a:ext cx="81532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63840"/>
                    <a:ext cx="8153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10"/>
          <p:cNvGraphicFramePr/>
          <p:nvPr/>
        </p:nvGraphicFramePr>
        <p:xfrm>
          <a:off x="1422360" y="2616120"/>
          <a:ext cx="612144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2616120"/>
                    <a:ext cx="61214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tribution Approach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RBC sells one more bike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401 bik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ing income will increase by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$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6019560" y="2057400"/>
            <a:ext cx="1752840" cy="3352680"/>
            <a:chOff x="6019560" y="2057400"/>
            <a:chExt cx="1752840" cy="3352680"/>
          </a:xfrm>
        </p:grpSpPr>
        <p:sp>
          <p:nvSpPr>
            <p:cNvPr id="140" name="Line 7"/>
            <p:cNvSpPr/>
            <p:nvPr/>
          </p:nvSpPr>
          <p:spPr>
            <a:xfrm flipH="1">
              <a:off x="6019560" y="2514600"/>
              <a:ext cx="1143000" cy="28954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6782040" y="2057400"/>
              <a:ext cx="99036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9"/>
          <p:cNvSpPr/>
          <p:nvPr/>
        </p:nvSpPr>
        <p:spPr>
          <a:xfrm flipH="1">
            <a:off x="2514240" y="2057400"/>
            <a:ext cx="34290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tructuring Sales Commis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04920" y="1673280"/>
            <a:ext cx="85341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nies generally compensate salespeople by paying them either a commission based on sales or a salary plus a sales commission. Commissions based on sales dollars can lead to </a:t>
            </a:r>
            <a:r>
              <a:rPr b="0" i="1" lang="en-US" sz="3000" spc="-1" strike="noStrike">
                <a:solidFill>
                  <a:srgbClr val="0000ff"/>
                </a:solidFill>
                <a:latin typeface="Arial"/>
              </a:rPr>
              <a:t>lower profit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company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et’s look at an ex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G:\FILES\PFILES\MSOFFICE\MEDIA\CNTCD1\ClipArt2\j0228977.wmf"/>
          <p:cNvPicPr/>
          <p:nvPr/>
        </p:nvPicPr>
        <p:blipFill>
          <a:blip r:embed="rId1"/>
          <a:stretch/>
        </p:blipFill>
        <p:spPr>
          <a:xfrm>
            <a:off x="457200" y="4950000"/>
            <a:ext cx="1442880" cy="129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tructuring Sales Commis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304920" y="1523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Unlimited produces two types of surfboards, the XR7 and the Turbo. The XR7 sells for $100 and generates a contribution margin per unit of $25. The Turbo sells for $150 and earns a contribution margin per unit of $18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5" descr="G:\FILES\PFILES\MSOFFICE\MEDIA\CNTCD1\ClipArt4\j0250685.wmf"/>
          <p:cNvPicPr/>
          <p:nvPr/>
        </p:nvPicPr>
        <p:blipFill>
          <a:blip r:embed="rId1"/>
          <a:stretch/>
        </p:blipFill>
        <p:spPr>
          <a:xfrm>
            <a:off x="3733920" y="3809880"/>
            <a:ext cx="1550880" cy="121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3" name="Text Box 3"/>
          <p:cNvSpPr/>
          <p:nvPr/>
        </p:nvSpPr>
        <p:spPr>
          <a:xfrm>
            <a:off x="22860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les force at Pipeline Unlimited is compensated based on sales commi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tructuring Sales Commis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04920" y="1523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on the sales force at Pipeline, you would push hard to sell the Turbo even though the XR7 earns a higher contribution margin per uni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liminate this type of conflict, commissions can be based on contribution margin rather than on selling pric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5" descr="G:\FILES\PFILES\MSOFFICE\MEDIA\CNTCD1\ClipArt4\j0250685.wmf"/>
          <p:cNvPicPr/>
          <p:nvPr/>
        </p:nvPicPr>
        <p:blipFill>
          <a:blip r:embed="rId1"/>
          <a:stretch/>
        </p:blipFill>
        <p:spPr>
          <a:xfrm>
            <a:off x="3733920" y="4876920"/>
            <a:ext cx="1550880" cy="121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9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905120" y="1752480"/>
            <a:ext cx="5333760" cy="3717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break-even point for a multiproduct company and explain the effects of shifts in the sales mix on contribution margin and the break-even poi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The Concept of Sales Mix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3040" y="1599840"/>
            <a:ext cx="8001000" cy="4876920"/>
          </a:xfrm>
          <a:prstGeom prst="rect">
            <a:avLst/>
          </a:prstGeom>
          <a:solidFill>
            <a:srgbClr val="f7c1a4"/>
          </a:solidFill>
          <a:ln w="9360">
            <a:solidFill>
              <a:srgbClr val="23263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Sales mix is the relative proportion in which a company’s products ar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Different products have different selling prices, cost structures, and contribution mar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3f32"/>
                </a:solidFill>
                <a:latin typeface="Arial"/>
                <a:ea typeface="Arial"/>
              </a:rPr>
              <a:t>When a company sells more than one product, break-even analysis becomes more complex as the following example illustrates.</a:t>
            </a:r>
            <a:br>
              <a:rPr sz="2800"/>
            </a:br>
            <a:r>
              <a:rPr b="0" lang="en-US" sz="2800" spc="-1" strike="noStrike">
                <a:solidFill>
                  <a:srgbClr val="633f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639d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9639d"/>
                </a:solidFill>
                <a:latin typeface="Arial"/>
                <a:ea typeface="Arial"/>
              </a:rPr>
              <a:t>Let’s assume Racing Bicycle Company sells bikes and carts and that the sales mix between the two products remain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"/>
          <p:cNvPicPr/>
          <p:nvPr/>
        </p:nvPicPr>
        <p:blipFill>
          <a:blip r:embed="rId1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Object 9"/>
          <p:cNvGraphicFramePr/>
          <p:nvPr/>
        </p:nvGraphicFramePr>
        <p:xfrm>
          <a:off x="50760" y="2754360"/>
          <a:ext cx="893124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2754360"/>
                    <a:ext cx="89312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ulti-Product Break-Even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kes comprise 45% of RBC’s total sales revenue and the carts comprise the remaining 55%. RBC provide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4876200" y="3752640"/>
            <a:ext cx="4270320" cy="2420640"/>
            <a:chOff x="4876200" y="3752640"/>
            <a:chExt cx="4270320" cy="2420640"/>
          </a:xfrm>
        </p:grpSpPr>
        <p:sp>
          <p:nvSpPr>
            <p:cNvPr id="727" name="Rectangle 6"/>
            <p:cNvSpPr/>
            <p:nvPr/>
          </p:nvSpPr>
          <p:spPr>
            <a:xfrm>
              <a:off x="4876200" y="5352840"/>
              <a:ext cx="1536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$265,00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$5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6244560" y="5505480"/>
              <a:ext cx="290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 48.2% (round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 flipV="1">
              <a:off x="7389720" y="3752640"/>
              <a:ext cx="914400" cy="182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Picture 8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Multi-Product Break-Even Analysi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32" name="Group 7"/>
          <p:cNvGrpSpPr/>
          <p:nvPr/>
        </p:nvGrpSpPr>
        <p:grpSpPr>
          <a:xfrm>
            <a:off x="838080" y="1523880"/>
            <a:ext cx="7620120" cy="1143000"/>
            <a:chOff x="838080" y="1523880"/>
            <a:chExt cx="7620120" cy="1143000"/>
          </a:xfrm>
        </p:grpSpPr>
        <p:sp>
          <p:nvSpPr>
            <p:cNvPr id="733" name="Rounded Rectangle 14"/>
            <p:cNvSpPr/>
            <p:nvPr/>
          </p:nvSpPr>
          <p:spPr>
            <a:xfrm>
              <a:off x="838080" y="1523880"/>
              <a:ext cx="7620120" cy="1143000"/>
            </a:xfrm>
            <a:prstGeom prst="roundRect">
              <a:avLst>
                <a:gd name="adj" fmla="val 16667"/>
              </a:avLst>
            </a:prstGeom>
            <a:solidFill>
              <a:srgbClr val="f7c1a4"/>
            </a:solidFill>
            <a:ln w="19080">
              <a:solidFill>
                <a:srgbClr val="23263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1"/>
            <p:cNvSpPr/>
            <p:nvPr/>
          </p:nvSpPr>
          <p:spPr>
            <a:xfrm>
              <a:off x="4391280" y="1695240"/>
              <a:ext cx="2449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Fixed expe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CM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rat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2"/>
            <p:cNvSpPr/>
            <p:nvPr/>
          </p:nvSpPr>
          <p:spPr>
            <a:xfrm>
              <a:off x="4038120" y="187416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3"/>
            <p:cNvSpPr/>
            <p:nvPr/>
          </p:nvSpPr>
          <p:spPr>
            <a:xfrm>
              <a:off x="1677240" y="1685880"/>
              <a:ext cx="235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Dollar sales </a:t>
              </a: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to </a:t>
              </a:r>
              <a:br>
                <a:rPr sz="2400"/>
              </a:br>
              <a:r>
                <a:rPr b="1" lang="en-US" sz="2400" spc="-1" strike="noStrike">
                  <a:solidFill>
                    <a:srgbClr val="464646"/>
                  </a:solidFill>
                  <a:latin typeface="Arial"/>
                </a:rPr>
                <a:t>break 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838080" y="2819520"/>
            <a:ext cx="7612200" cy="1143000"/>
            <a:chOff x="838080" y="2819520"/>
            <a:chExt cx="7612200" cy="1143000"/>
          </a:xfrm>
        </p:grpSpPr>
        <p:sp>
          <p:nvSpPr>
            <p:cNvPr id="738" name="Rounded Rectangle 27"/>
            <p:cNvSpPr/>
            <p:nvPr/>
          </p:nvSpPr>
          <p:spPr>
            <a:xfrm>
              <a:off x="838080" y="2819520"/>
              <a:ext cx="7612200" cy="1143000"/>
            </a:xfrm>
            <a:prstGeom prst="roundRect">
              <a:avLst>
                <a:gd name="adj" fmla="val 16667"/>
              </a:avLst>
            </a:prstGeom>
            <a:solidFill>
              <a:srgbClr val="f7c1a4"/>
            </a:solidFill>
            <a:ln w="19080">
              <a:solidFill>
                <a:srgbClr val="1e768c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Box 20"/>
            <p:cNvSpPr/>
            <p:nvPr/>
          </p:nvSpPr>
          <p:spPr>
            <a:xfrm>
              <a:off x="838080" y="2971800"/>
              <a:ext cx="281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Dollar sales </a:t>
              </a:r>
              <a:r>
                <a:rPr b="1" lang="en-US" sz="2400" spc="-1" strike="noStrike">
                  <a:solidFill>
                    <a:srgbClr val="404040"/>
                  </a:solidFill>
                  <a:latin typeface="Arial"/>
                </a:rPr>
                <a:t>to</a:t>
              </a:r>
              <a:br>
                <a:rPr sz="2400"/>
              </a:br>
              <a:r>
                <a:rPr b="1" lang="en-US" sz="2400" spc="-1" strike="noStrike">
                  <a:solidFill>
                    <a:srgbClr val="404040"/>
                  </a:solidFill>
                  <a:latin typeface="Arial"/>
                </a:rPr>
                <a:t>break 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Box 21"/>
            <p:cNvSpPr/>
            <p:nvPr/>
          </p:nvSpPr>
          <p:spPr>
            <a:xfrm>
              <a:off x="4145040" y="2954880"/>
              <a:ext cx="201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70,000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8.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Box 22"/>
            <p:cNvSpPr/>
            <p:nvPr/>
          </p:nvSpPr>
          <p:spPr>
            <a:xfrm>
              <a:off x="3573360" y="31240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Box 26"/>
            <p:cNvSpPr/>
            <p:nvPr/>
          </p:nvSpPr>
          <p:spPr>
            <a:xfrm>
              <a:off x="6278760" y="3107160"/>
              <a:ext cx="20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$352,6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32"/>
          <p:cNvGrpSpPr/>
          <p:nvPr/>
        </p:nvGrpSpPr>
        <p:grpSpPr>
          <a:xfrm>
            <a:off x="228600" y="4114800"/>
            <a:ext cx="8593200" cy="2438280"/>
            <a:chOff x="228600" y="4114800"/>
            <a:chExt cx="8593200" cy="2438280"/>
          </a:xfrm>
        </p:grpSpPr>
        <p:graphicFrame>
          <p:nvGraphicFramePr>
            <p:cNvPr id="744" name="Object 14"/>
            <p:cNvGraphicFramePr/>
            <p:nvPr/>
          </p:nvGraphicFramePr>
          <p:xfrm>
            <a:off x="228600" y="4114800"/>
            <a:ext cx="8593200" cy="243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5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4114800"/>
                      <a:ext cx="859320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46" name="Straight Arrow Connector 31"/>
            <p:cNvCxnSpPr/>
            <p:nvPr/>
          </p:nvCxnSpPr>
          <p:spPr>
            <a:xfrm>
              <a:off x="5790960" y="5605560"/>
              <a:ext cx="68652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747" name="Straight Connector 19"/>
          <p:cNvSpPr/>
          <p:nvPr/>
        </p:nvSpPr>
        <p:spPr>
          <a:xfrm flipV="1">
            <a:off x="4495680" y="2090880"/>
            <a:ext cx="23576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25"/>
          <p:cNvSpPr/>
          <p:nvPr/>
        </p:nvSpPr>
        <p:spPr>
          <a:xfrm>
            <a:off x="4229280" y="3354480"/>
            <a:ext cx="20192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29"/>
          <p:cNvCxnSpPr/>
          <p:nvPr/>
        </p:nvCxnSpPr>
        <p:spPr>
          <a:xfrm flipH="1">
            <a:off x="7086240" y="3504960"/>
            <a:ext cx="240480" cy="8514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0" name="Rounded Rectangle 1"/>
          <p:cNvSpPr/>
          <p:nvPr/>
        </p:nvSpPr>
        <p:spPr>
          <a:xfrm>
            <a:off x="152280" y="5943600"/>
            <a:ext cx="876312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20" descr=""/>
          <p:cNvPicPr/>
          <p:nvPr/>
        </p:nvPicPr>
        <p:blipFill>
          <a:blip r:embed="rId3"/>
          <a:stretch/>
        </p:blipFill>
        <p:spPr>
          <a:xfrm>
            <a:off x="8259840" y="492120"/>
            <a:ext cx="853920" cy="87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53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13T12:36:21Z</dcterms:modified>
  <cp:revision>285</cp:revision>
  <dc:subject/>
  <dc:title>Chapter Title</dc:title>
</cp:coreProperties>
</file>