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-</a:t>
            </a:r>
            <a:fld id="{FE5649F0-320F-4480-BD17-75BB8B500C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-</a:t>
            </a:r>
            <a:fld id="{CC3DCF28-4BAA-4985-A90E-012F4C1F27C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64400" y="6611760"/>
            <a:ext cx="821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ast-Squares Regression Computation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219320" y="5429160"/>
            <a:ext cx="7238880" cy="119124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your cursor in cell F5 and press the = key. Click on the pull down menu and scroll down to “Statistical” and scroll until you see “Intercep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Intercept 1.PNG"/>
          <p:cNvPicPr/>
          <p:nvPr/>
        </p:nvPicPr>
        <p:blipFill>
          <a:blip r:embed="rId1"/>
          <a:stretch/>
        </p:blipFill>
        <p:spPr>
          <a:xfrm>
            <a:off x="990720" y="1371600"/>
            <a:ext cx="732132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90720" y="5691240"/>
            <a:ext cx="6553080" cy="86256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Known_y’s box, enter D4:D19 for th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Known_x’s box, enter C4:C19 for the ra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27" name="Picture 8" descr="intercept 2.PNG"/>
          <p:cNvPicPr/>
          <p:nvPr/>
        </p:nvPicPr>
        <p:blipFill>
          <a:blip r:embed="rId1"/>
          <a:stretch/>
        </p:blipFill>
        <p:spPr>
          <a:xfrm>
            <a:off x="351000" y="1469880"/>
            <a:ext cx="8442000" cy="391824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6400800" y="37339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>
            <a:off x="7467480" y="2514600"/>
            <a:ext cx="1526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1314360"/>
            <a:ext cx="2819520" cy="1191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estimate of the fix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solidFill>
            <a:srgbClr val="23263c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we will determine the 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goodness of f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,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y using th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S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nction. Move your cursor to Cell F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33" name="Picture 6" descr="RSQ 1.PNG"/>
          <p:cNvPicPr/>
          <p:nvPr/>
        </p:nvPicPr>
        <p:blipFill>
          <a:blip r:embed="rId1"/>
          <a:stretch/>
        </p:blipFill>
        <p:spPr>
          <a:xfrm>
            <a:off x="304920" y="1752480"/>
            <a:ext cx="8146800" cy="397836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2819520" y="3048120"/>
            <a:ext cx="22860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685800" y="5486400"/>
            <a:ext cx="6400800" cy="86256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Known_y’s box, enter D4:D19 for th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Known_x’s box, enter C4:C19 for the ra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37" name="Picture 8" descr="RSQ 2.PNG"/>
          <p:cNvPicPr/>
          <p:nvPr/>
        </p:nvPicPr>
        <p:blipFill>
          <a:blip r:embed="rId1"/>
          <a:stretch/>
        </p:blipFill>
        <p:spPr>
          <a:xfrm>
            <a:off x="0" y="1371600"/>
            <a:ext cx="8139240" cy="3940200"/>
          </a:xfrm>
          <a:prstGeom prst="rect">
            <a:avLst/>
          </a:prstGeom>
          <a:ln w="0">
            <a:noFill/>
          </a:ln>
        </p:spPr>
      </p:pic>
      <p:sp>
        <p:nvSpPr>
          <p:cNvPr id="138" name="Oval 7"/>
          <p:cNvSpPr/>
          <p:nvPr/>
        </p:nvSpPr>
        <p:spPr>
          <a:xfrm>
            <a:off x="5638680" y="3124080"/>
            <a:ext cx="11430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095880" y="3733920"/>
            <a:ext cx="2819520" cy="825480"/>
          </a:xfrm>
          <a:prstGeom prst="rect">
            <a:avLst/>
          </a:prstGeom>
          <a:solidFill>
            <a:srgbClr val="2b4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estimate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6781320" y="3428640"/>
            <a:ext cx="129564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42" name="Picture 10" descr="Final Simple Regression.PNG"/>
          <p:cNvPicPr/>
          <p:nvPr/>
        </p:nvPicPr>
        <p:blipFill>
          <a:blip r:embed="rId1"/>
          <a:stretch/>
        </p:blipFill>
        <p:spPr>
          <a:xfrm>
            <a:off x="609480" y="1447920"/>
            <a:ext cx="5105520" cy="3957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733920" y="3276720"/>
            <a:ext cx="5029200" cy="100872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ice that Excel depicts its least-squares regression equation as Y = bX + a. We can easily rearrange with eq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jon\AppData\Local\Microsoft\Windows\Temporary Internet Files\Content.IE5\0UW7EI1L\MC900299753[1].wmf"/>
          <p:cNvPicPr/>
          <p:nvPr/>
        </p:nvPicPr>
        <p:blipFill>
          <a:blip r:embed="rId2"/>
          <a:stretch/>
        </p:blipFill>
        <p:spPr>
          <a:xfrm>
            <a:off x="5029200" y="4572000"/>
            <a:ext cx="1549440" cy="182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2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46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Learning Objective 8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228600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Analyze a mixed cost using a scattergraph plot and the least-squares regression meth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Data Se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1371600"/>
            <a:ext cx="4114800" cy="52225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rix, Inc. wants to know its average fixed cost and variable cost per meals ser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data to the right, let’s see how to do a Scattergraph plot using Microsoft Exc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5Reg1"/>
          <p:cNvPicPr/>
          <p:nvPr/>
        </p:nvPicPr>
        <p:blipFill>
          <a:blip r:embed="rId1"/>
          <a:stretch/>
        </p:blipFill>
        <p:spPr>
          <a:xfrm>
            <a:off x="4600440" y="1371600"/>
            <a:ext cx="4238640" cy="5486400"/>
          </a:xfrm>
          <a:prstGeom prst="rect">
            <a:avLst/>
          </a:prstGeom>
          <a:ln w="9360">
            <a:solidFill>
              <a:srgbClr val="def5fa"/>
            </a:solidFill>
            <a:miter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cattergraph Plo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2" name="Picture 2" descr="Scatter 1.PNG"/>
          <p:cNvPicPr/>
          <p:nvPr/>
        </p:nvPicPr>
        <p:blipFill>
          <a:blip r:embed="rId1"/>
          <a:stretch/>
        </p:blipFill>
        <p:spPr>
          <a:xfrm>
            <a:off x="3124080" y="1523880"/>
            <a:ext cx="579132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8600" y="1905120"/>
            <a:ext cx="2971800" cy="314316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ight Cells C4 through D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Insert Menu in Excel, 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. and the Scattergraph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lines. You should produce a graph that looks similar to the one shown on 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cattergraph Plo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57200" y="2286000"/>
            <a:ext cx="2362320" cy="253332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 click on any of the grid values and enter the text as shown. The X axis should read “Units (Meals), and the Y axis should read Total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Scatter 1.PNG"/>
          <p:cNvPicPr/>
          <p:nvPr/>
        </p:nvPicPr>
        <p:blipFill>
          <a:blip r:embed="rId1"/>
          <a:stretch/>
        </p:blipFill>
        <p:spPr>
          <a:xfrm>
            <a:off x="3124080" y="1523880"/>
            <a:ext cx="57913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cattergraph Plo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8" name="Picture 6" descr="C:\Users\jon\AppData\Local\Microsoft\Windows\Temporary Internet Files\Content.IE5\M080T5EQ\MC900382613[1].jpg"/>
          <p:cNvPicPr/>
          <p:nvPr/>
        </p:nvPicPr>
        <p:blipFill>
          <a:blip r:embed="rId1"/>
          <a:stretch/>
        </p:blipFill>
        <p:spPr>
          <a:xfrm>
            <a:off x="54864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Scatter 2.PNG"/>
          <p:cNvPicPr/>
          <p:nvPr/>
        </p:nvPicPr>
        <p:blipFill>
          <a:blip r:embed="rId2"/>
          <a:stretch/>
        </p:blipFill>
        <p:spPr>
          <a:xfrm>
            <a:off x="3505320" y="1523880"/>
            <a:ext cx="5189400" cy="3665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228600" y="1676520"/>
            <a:ext cx="2971800" cy="314316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 click on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point in the scattergraph plot and selecting “Add Trendline” from the graph submenu. The relationship appears to be linear, so we can apply the regression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7200" y="1447920"/>
            <a:ext cx="3962520" cy="2622240"/>
          </a:xfrm>
          <a:prstGeom prst="rect">
            <a:avLst/>
          </a:prstGeom>
          <a:solidFill>
            <a:srgbClr val="a8bfdf"/>
          </a:solidFill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ed three pieces of information from your regression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Variable Cost Per Unit (line s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Fixed Costs (line inter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ness of fit, or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33520" y="4191120"/>
            <a:ext cx="3809880" cy="2082240"/>
          </a:xfrm>
          <a:prstGeom prst="rect">
            <a:avLst/>
          </a:prstGeom>
          <a:solidFill>
            <a:srgbClr val="227a8f"/>
          </a:solidFill>
          <a:ln w="0">
            <a:noFill/>
          </a:ln>
          <a:effectLst>
            <a:outerShdw dist="63504" dir="2216091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get these three pieces information we will need to use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thre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el functions in the Statistical Group of speci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, INTERCEPT, and RS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tat Pic 1.PNG"/>
          <p:cNvPicPr/>
          <p:nvPr/>
        </p:nvPicPr>
        <p:blipFill>
          <a:blip r:embed="rId1"/>
          <a:stretch/>
        </p:blipFill>
        <p:spPr>
          <a:xfrm>
            <a:off x="5029200" y="1447920"/>
            <a:ext cx="3276720" cy="527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19320" y="5429160"/>
            <a:ext cx="7238880" cy="119124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your cursor in cell F4 and press the = key. Click on the pull down menu and scroll down to “Statistical” and scroll until you see “Slop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lope 1.PNG"/>
          <p:cNvPicPr/>
          <p:nvPr/>
        </p:nvPicPr>
        <p:blipFill>
          <a:blip r:embed="rId1"/>
          <a:stretch/>
        </p:blipFill>
        <p:spPr>
          <a:xfrm>
            <a:off x="457200" y="1523880"/>
            <a:ext cx="7994520" cy="37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imple Regression Using Exce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219320" y="5429160"/>
            <a:ext cx="7238880" cy="1191240"/>
          </a:xfrm>
          <a:prstGeom prst="rect">
            <a:avLst/>
          </a:prstGeom>
          <a:solidFill>
            <a:srgbClr val="5e2d37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“Known_y’s” highlight cells D4 through D19, and for “Known_x’s” highlight cells C4 through C19. Notice the Slope is calculated at 2.76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Slope 2.PNG"/>
          <p:cNvPicPr/>
          <p:nvPr/>
        </p:nvPicPr>
        <p:blipFill>
          <a:blip r:embed="rId1"/>
          <a:stretch/>
        </p:blipFill>
        <p:spPr>
          <a:xfrm>
            <a:off x="460440" y="1481040"/>
            <a:ext cx="8223120" cy="3895920"/>
          </a:xfrm>
          <a:prstGeom prst="rect">
            <a:avLst/>
          </a:prstGeom>
          <a:ln w="0">
            <a:noFill/>
          </a:ln>
        </p:spPr>
      </p:pic>
      <p:sp>
        <p:nvSpPr>
          <p:cNvPr id="121" name="Oval 6"/>
          <p:cNvSpPr/>
          <p:nvPr/>
        </p:nvSpPr>
        <p:spPr>
          <a:xfrm>
            <a:off x="6248520" y="3276720"/>
            <a:ext cx="99036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05T08:02:59Z</dcterms:modified>
  <cp:revision>258</cp:revision>
  <dc:subject/>
  <dc:title>Chapter Title</dc:title>
</cp:coreProperties>
</file>