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8.png" ContentType="image/png"/>
  <Override PartName="/ppt/media/image4.png" ContentType="image/png"/>
  <Override PartName="/ppt/media/image12.wmf" ContentType="image/x-wmf"/>
  <Override PartName="/ppt/media/image11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30.wmf" ContentType="image/x-wmf"/>
  <Override PartName="/ppt/media/image28.wmf" ContentType="image/x-wmf"/>
  <Override PartName="/ppt/media/image34.wmf" ContentType="image/x-wmf"/>
  <Override PartName="/ppt/media/image19.jpeg" ContentType="image/jpeg"/>
  <Override PartName="/ppt/media/image42.jpeg" ContentType="image/jpeg"/>
  <Override PartName="/ppt/media/image3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0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4BA70DA3-D315-4994-B4CF-958948C081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</a:t>
            </a:r>
            <a:fld id="{99822FBF-968C-4597-9DFD-32087914565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4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tivity-Based Cost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Tool to Aid Decision Making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"/>
          <p:cNvGrpSpPr/>
          <p:nvPr/>
        </p:nvGrpSpPr>
        <p:grpSpPr>
          <a:xfrm>
            <a:off x="482760" y="2948040"/>
            <a:ext cx="3429000" cy="3452760"/>
            <a:chOff x="482760" y="2948040"/>
            <a:chExt cx="3429000" cy="3452760"/>
          </a:xfrm>
        </p:grpSpPr>
        <p:sp>
          <p:nvSpPr>
            <p:cNvPr id="171" name="AutoShape 4"/>
            <p:cNvSpPr/>
            <p:nvPr/>
          </p:nvSpPr>
          <p:spPr>
            <a:xfrm>
              <a:off x="482760" y="4038840"/>
              <a:ext cx="3429000" cy="2361960"/>
            </a:xfrm>
            <a:prstGeom prst="hexagon">
              <a:avLst>
                <a:gd name="adj" fmla="val 36294"/>
                <a:gd name="vf" fmla="val 115470"/>
              </a:avLst>
            </a:prstGeom>
            <a:solidFill>
              <a:srgbClr val="4646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imple count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f the number of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mes an activity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ccur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1046160" y="2948040"/>
              <a:ext cx="2303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ac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"/>
          <p:cNvGrpSpPr/>
          <p:nvPr/>
        </p:nvGrpSpPr>
        <p:grpSpPr>
          <a:xfrm>
            <a:off x="5207040" y="2948040"/>
            <a:ext cx="3429000" cy="3452760"/>
            <a:chOff x="5207040" y="2948040"/>
            <a:chExt cx="3429000" cy="3452760"/>
          </a:xfrm>
        </p:grpSpPr>
        <p:sp>
          <p:nvSpPr>
            <p:cNvPr id="174" name="AutoShape 7"/>
            <p:cNvSpPr/>
            <p:nvPr/>
          </p:nvSpPr>
          <p:spPr>
            <a:xfrm>
              <a:off x="5207040" y="4038840"/>
              <a:ext cx="3429000" cy="2361960"/>
            </a:xfrm>
            <a:prstGeom prst="hexagon">
              <a:avLst>
                <a:gd name="adj" fmla="val 36294"/>
                <a:gd name="vf" fmla="val 11547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 measure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f the amount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f time needed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or an activi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6063840" y="2948040"/>
              <a:ext cx="1715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a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0"/>
          <p:cNvGrpSpPr/>
          <p:nvPr/>
        </p:nvGrpSpPr>
        <p:grpSpPr>
          <a:xfrm>
            <a:off x="2196720" y="2209320"/>
            <a:ext cx="4723920" cy="816480"/>
            <a:chOff x="2196720" y="2209320"/>
            <a:chExt cx="4723920" cy="816480"/>
          </a:xfrm>
        </p:grpSpPr>
        <p:cxnSp>
          <p:nvCxnSpPr>
            <p:cNvPr id="177" name="AutoShape 11"/>
            <p:cNvCxnSpPr>
              <a:stCxn id="178" idx="2"/>
              <a:endCxn id="172" idx="0"/>
            </p:cNvCxnSpPr>
            <p:nvPr/>
          </p:nvCxnSpPr>
          <p:spPr>
            <a:xfrm rot="5400000">
              <a:off x="2982600" y="1423440"/>
              <a:ext cx="814680" cy="23868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AutoShape 12"/>
            <p:cNvCxnSpPr>
              <a:stCxn id="178" idx="2"/>
              <a:endCxn id="175" idx="0"/>
            </p:cNvCxnSpPr>
            <p:nvPr/>
          </p:nvCxnSpPr>
          <p:spPr>
            <a:xfrm flipH="1" rot="16200000">
              <a:off x="5344560" y="1449360"/>
              <a:ext cx="814320" cy="2338920"/>
            </a:xfrm>
            <a:prstGeom prst="bentConnector3">
              <a:avLst>
                <a:gd name="adj1" fmla="val 499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488880" y="1600200"/>
            <a:ext cx="8189640" cy="644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common types of activity mea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82" name="Picture 7" descr="WATCHRPR"/>
          <p:cNvPicPr/>
          <p:nvPr/>
        </p:nvPicPr>
        <p:blipFill>
          <a:blip r:embed="rId1"/>
          <a:stretch/>
        </p:blipFill>
        <p:spPr>
          <a:xfrm>
            <a:off x="914400" y="2666880"/>
            <a:ext cx="2666880" cy="2438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8"/>
          <p:cNvSpPr/>
          <p:nvPr/>
        </p:nvSpPr>
        <p:spPr>
          <a:xfrm>
            <a:off x="228600" y="5029200"/>
            <a:ext cx="8686800" cy="1447920"/>
          </a:xfrm>
          <a:prstGeom prst="rect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Traditional cost systems usually rely on volume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measures such as direct labor hours and/or machine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hours to allocate all overhead cos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4267080" y="1600200"/>
            <a:ext cx="4496040" cy="31240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ABC defines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five levels of activity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that largely do not relate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to the volume of units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"/>
          <p:cNvGrpSpPr/>
          <p:nvPr/>
        </p:nvGrpSpPr>
        <p:grpSpPr>
          <a:xfrm>
            <a:off x="673200" y="1535040"/>
            <a:ext cx="7787880" cy="5159520"/>
            <a:chOff x="673200" y="1535040"/>
            <a:chExt cx="7787880" cy="5159520"/>
          </a:xfrm>
        </p:grpSpPr>
        <p:sp>
          <p:nvSpPr>
            <p:cNvPr id="186" name="Oval 4"/>
            <p:cNvSpPr/>
            <p:nvPr/>
          </p:nvSpPr>
          <p:spPr>
            <a:xfrm>
              <a:off x="1198440" y="2617560"/>
              <a:ext cx="6426360" cy="2311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1913040" y="2898720"/>
              <a:ext cx="51206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 typically combin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ir activities into fiv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ica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923040" y="1535040"/>
              <a:ext cx="1655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Unit-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199200" y="1535040"/>
              <a:ext cx="1993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Batch-Lev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673200" y="5230800"/>
              <a:ext cx="2212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Product-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5976720" y="5230800"/>
              <a:ext cx="248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Customer-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478560" y="2412720"/>
              <a:ext cx="368280" cy="470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 flipH="1">
              <a:off x="1893600" y="4711680"/>
              <a:ext cx="469800" cy="4442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 flipH="1" flipV="1">
              <a:off x="1817280" y="2342520"/>
              <a:ext cx="469800" cy="546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6554880" y="4635360"/>
              <a:ext cx="603000" cy="5335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421080" y="5508360"/>
              <a:ext cx="21474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Organization-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sust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  <a:ea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4414680" y="494028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haracteristics of Successful ABC Implement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00" name="Group 14"/>
          <p:cNvGrpSpPr/>
          <p:nvPr/>
        </p:nvGrpSpPr>
        <p:grpSpPr>
          <a:xfrm>
            <a:off x="171000" y="1432080"/>
            <a:ext cx="3021480" cy="2732760"/>
            <a:chOff x="171000" y="1432080"/>
            <a:chExt cx="3021480" cy="2732760"/>
          </a:xfrm>
        </p:grpSpPr>
        <p:pic>
          <p:nvPicPr>
            <p:cNvPr id="201" name="Picture 1" descr=""/>
            <p:cNvPicPr/>
            <p:nvPr/>
          </p:nvPicPr>
          <p:blipFill>
            <a:blip r:embed="rId1"/>
            <a:stretch/>
          </p:blipFill>
          <p:spPr>
            <a:xfrm>
              <a:off x="731160" y="1432080"/>
              <a:ext cx="2011680" cy="20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5"/>
            <p:cNvSpPr/>
            <p:nvPr/>
          </p:nvSpPr>
          <p:spPr>
            <a:xfrm>
              <a:off x="171000" y="3400560"/>
              <a:ext cx="3021480" cy="7642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trong top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anagement suppo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9"/>
          <p:cNvGrpSpPr/>
          <p:nvPr/>
        </p:nvGrpSpPr>
        <p:grpSpPr>
          <a:xfrm>
            <a:off x="6067440" y="1800360"/>
            <a:ext cx="2924280" cy="2821680"/>
            <a:chOff x="6067440" y="1800360"/>
            <a:chExt cx="2924280" cy="2821680"/>
          </a:xfrm>
        </p:grpSpPr>
        <p:pic>
          <p:nvPicPr>
            <p:cNvPr id="204" name="Picture 10" descr="bd04972_"/>
            <p:cNvPicPr/>
            <p:nvPr/>
          </p:nvPicPr>
          <p:blipFill>
            <a:blip r:embed="rId2"/>
            <a:stretch/>
          </p:blipFill>
          <p:spPr>
            <a:xfrm>
              <a:off x="6067440" y="1800360"/>
              <a:ext cx="2924280" cy="21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1"/>
            <p:cNvSpPr/>
            <p:nvPr/>
          </p:nvSpPr>
          <p:spPr>
            <a:xfrm>
              <a:off x="6094800" y="3857760"/>
              <a:ext cx="2712240" cy="7642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ink to evaluation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nd rewar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3"/>
          <p:cNvGrpSpPr/>
          <p:nvPr/>
        </p:nvGrpSpPr>
        <p:grpSpPr>
          <a:xfrm>
            <a:off x="3345120" y="3780000"/>
            <a:ext cx="2399760" cy="2945520"/>
            <a:chOff x="3345120" y="3780000"/>
            <a:chExt cx="2399760" cy="2945520"/>
          </a:xfrm>
        </p:grpSpPr>
        <p:pic>
          <p:nvPicPr>
            <p:cNvPr id="207" name="Picture 2" descr=""/>
            <p:cNvPicPr/>
            <p:nvPr/>
          </p:nvPicPr>
          <p:blipFill>
            <a:blip r:embed="rId3"/>
            <a:stretch/>
          </p:blipFill>
          <p:spPr>
            <a:xfrm>
              <a:off x="3458880" y="3780000"/>
              <a:ext cx="220716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8"/>
            <p:cNvSpPr/>
            <p:nvPr/>
          </p:nvSpPr>
          <p:spPr>
            <a:xfrm>
              <a:off x="3345120" y="5961240"/>
              <a:ext cx="2399760" cy="7642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ross-functional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volvem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Baxter Battery – An ABC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10" name="Object 2" descr=""/>
          <p:cNvPicPr/>
          <p:nvPr/>
        </p:nvPicPr>
        <p:blipFill>
          <a:blip r:embed="rId1"/>
          <a:stretch/>
        </p:blipFill>
        <p:spPr>
          <a:xfrm>
            <a:off x="625320" y="1494000"/>
            <a:ext cx="7863120" cy="430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1" name="Text Box 6"/>
          <p:cNvSpPr/>
          <p:nvPr/>
        </p:nvSpPr>
        <p:spPr>
          <a:xfrm>
            <a:off x="1181520" y="5899320"/>
            <a:ext cx="6778080" cy="703800"/>
          </a:xfrm>
          <a:prstGeom prst="rect">
            <a:avLst/>
          </a:prstGeom>
          <a:solidFill>
            <a:srgbClr val="7da0d0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overhead is allocated to product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plantwide overhead rate based on machine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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efine Activities, Activity Cost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   Pools, and Activity Measur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599840"/>
            <a:ext cx="8610480" cy="480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t Baxter Battery, the ABC team selected the followi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tivity cost pools and activity meas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705360" cy="2340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C:\Documents and Settings\CWC\Favorites\My Documents\My Pictures\Microsoft Clip Organizer\in00476_.wmf"/>
          <p:cNvPicPr/>
          <p:nvPr/>
        </p:nvPicPr>
        <p:blipFill>
          <a:blip r:embed="rId2"/>
          <a:stretch/>
        </p:blipFill>
        <p:spPr>
          <a:xfrm>
            <a:off x="2286000" y="4876920"/>
            <a:ext cx="1368360" cy="1581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C:\Documents and Settings\CWC\Favorites\My Documents\My Pictures\Microsoft Clip Organizer\j0334698.wmf"/>
          <p:cNvPicPr/>
          <p:nvPr/>
        </p:nvPicPr>
        <p:blipFill>
          <a:blip r:embed="rId3"/>
          <a:stretch/>
        </p:blipFill>
        <p:spPr>
          <a:xfrm>
            <a:off x="5867280" y="4876920"/>
            <a:ext cx="1832040" cy="1536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ustomer Or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assigned all costs of resources that are consumed by taking and processing customer 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sign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assigned all costs of resources consumed by customer requested desig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rder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assigned all costs of resources consumed as a consequence of the number of units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ustomer Rel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assigned all costs associated with maintaining relations with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assigned all organization-sustaining costs and unused capacit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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efine Activities, Activity Cost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   Pools, and Activity Measur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905120" y="246204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Assign costs to cost pools using a first-stage alloc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ject 2" descr=""/>
          <p:cNvPicPr/>
          <p:nvPr/>
        </p:nvPicPr>
        <p:blipFill>
          <a:blip r:embed="rId1"/>
          <a:stretch/>
        </p:blipFill>
        <p:spPr>
          <a:xfrm>
            <a:off x="593640" y="1660680"/>
            <a:ext cx="7940880" cy="512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Wingdings"/>
                <a:ea typeface="Wingdings"/>
              </a:rPr>
              <a:t>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ssign Overhead Costs to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   Activity Cost Poo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ject 2" descr=""/>
          <p:cNvPicPr/>
          <p:nvPr/>
        </p:nvPicPr>
        <p:blipFill>
          <a:blip r:embed="rId1"/>
          <a:stretch/>
        </p:blipFill>
        <p:spPr>
          <a:xfrm>
            <a:off x="593640" y="1660680"/>
            <a:ext cx="7940880" cy="512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24" name="Rectangle 4"/>
          <p:cNvSpPr/>
          <p:nvPr/>
        </p:nvSpPr>
        <p:spPr>
          <a:xfrm>
            <a:off x="579600" y="5430960"/>
            <a:ext cx="795492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d5"/>
                </a:solidFill>
                <a:latin typeface="Arial"/>
              </a:rPr>
              <a:t>Direct materials, direct labor, and shipping are excluded</a:t>
            </a:r>
            <a:br>
              <a:rPr sz="2400"/>
            </a:br>
            <a:r>
              <a:rPr b="0" lang="en-US" sz="2400" spc="-1" strike="noStrike">
                <a:solidFill>
                  <a:srgbClr val="ffffd5"/>
                </a:solidFill>
                <a:latin typeface="Arial"/>
              </a:rPr>
              <a:t>because Baxter Battery’s existing cost system can directly</a:t>
            </a:r>
            <a:br>
              <a:rPr sz="2400"/>
            </a:br>
            <a:r>
              <a:rPr b="0" lang="en-US" sz="2400" spc="-1" strike="noStrike">
                <a:solidFill>
                  <a:srgbClr val="ffffd5"/>
                </a:solidFill>
                <a:latin typeface="Arial"/>
              </a:rPr>
              <a:t>trace these costs to products or customer 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Wingdings"/>
                <a:ea typeface="Wingdings"/>
              </a:rPr>
              <a:t>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ssign Overhead Costs to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   Activity Cost Poo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rcRect l="0" t="0" r="0" b="48256"/>
          <a:stretch/>
        </p:blipFill>
        <p:spPr>
          <a:xfrm>
            <a:off x="4627440" y="3581280"/>
            <a:ext cx="4059360" cy="2819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 (ABC)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538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C is designed to provide managers with cost information for strategic and other decisions that potentially affect capacity, and therefore, affect “fixed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well as variable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4572000" y="2514600"/>
            <a:ext cx="2797200" cy="1600200"/>
            <a:chOff x="4572000" y="2514600"/>
            <a:chExt cx="2797200" cy="1600200"/>
          </a:xfrm>
        </p:grpSpPr>
        <p:pic>
          <p:nvPicPr>
            <p:cNvPr id="100" name="Object 4" descr=""/>
            <p:cNvPicPr/>
            <p:nvPr/>
          </p:nvPicPr>
          <p:blipFill>
            <a:blip r:embed="rId2"/>
            <a:stretch/>
          </p:blipFill>
          <p:spPr>
            <a:xfrm>
              <a:off x="4572000" y="2514600"/>
              <a:ext cx="27972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8"/>
            <p:cNvSpPr/>
            <p:nvPr/>
          </p:nvSpPr>
          <p:spPr>
            <a:xfrm>
              <a:off x="4736160" y="2599560"/>
              <a:ext cx="2286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ABC is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good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pplement </a:t>
              </a:r>
              <a:r>
                <a:rPr b="1" lang="en-US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to our traditional cost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7391520" y="3581280"/>
            <a:ext cx="1189080" cy="990720"/>
            <a:chOff x="7391520" y="3581280"/>
            <a:chExt cx="1189080" cy="990720"/>
          </a:xfrm>
        </p:grpSpPr>
        <p:pic>
          <p:nvPicPr>
            <p:cNvPr id="103" name="Object 3" descr=""/>
            <p:cNvPicPr/>
            <p:nvPr/>
          </p:nvPicPr>
          <p:blipFill>
            <a:blip r:embed="rId3"/>
            <a:stretch/>
          </p:blipFill>
          <p:spPr>
            <a:xfrm>
              <a:off x="7391520" y="3581280"/>
              <a:ext cx="11890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7419600" y="3720960"/>
              <a:ext cx="1086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  <a:ea typeface="Arial"/>
                </a:rPr>
                <a:t>I agre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44280" y="2673360"/>
            <a:ext cx="9039240" cy="3860640"/>
          </a:xfrm>
          <a:prstGeom prst="rect">
            <a:avLst/>
          </a:prstGeom>
          <a:ln w="38160">
            <a:solidFill>
              <a:srgbClr val="464646"/>
            </a:solidFill>
            <a:miter/>
          </a:ln>
        </p:spPr>
      </p:pic>
      <p:sp>
        <p:nvSpPr>
          <p:cNvPr id="227" name="Text Box 4"/>
          <p:cNvSpPr/>
          <p:nvPr/>
        </p:nvSpPr>
        <p:spPr>
          <a:xfrm>
            <a:off x="509760" y="1731960"/>
            <a:ext cx="8115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t Baxter Battery the following distribution of resource consumption across activity cost pools is determ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Wingdings"/>
                <a:ea typeface="Wingdings"/>
              </a:rPr>
              <a:t>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ssign Overhead Costs to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   Activity Cost Poo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Wingdings"/>
                <a:ea typeface="Wingdings"/>
              </a:rPr>
              <a:t>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ssign Overhead Costs to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   Activity Cost Poo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30" name="Object 2" descr=""/>
          <p:cNvPicPr/>
          <p:nvPr/>
        </p:nvPicPr>
        <p:blipFill>
          <a:blip r:embed="rId1"/>
          <a:stretch/>
        </p:blipFill>
        <p:spPr>
          <a:xfrm>
            <a:off x="46080" y="2077920"/>
            <a:ext cx="905184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Object 3" descr=""/>
          <p:cNvPicPr/>
          <p:nvPr/>
        </p:nvPicPr>
        <p:blipFill>
          <a:blip r:embed="rId2"/>
          <a:stretch/>
        </p:blipFill>
        <p:spPr>
          <a:xfrm>
            <a:off x="4067280" y="1046160"/>
            <a:ext cx="4937040" cy="31845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grpSp>
        <p:nvGrpSpPr>
          <p:cNvPr id="232" name="Group 16"/>
          <p:cNvGrpSpPr/>
          <p:nvPr/>
        </p:nvGrpSpPr>
        <p:grpSpPr>
          <a:xfrm>
            <a:off x="2133720" y="5283360"/>
            <a:ext cx="6095880" cy="1066680"/>
            <a:chOff x="2133720" y="5283360"/>
            <a:chExt cx="6095880" cy="1066680"/>
          </a:xfrm>
        </p:grpSpPr>
        <p:sp>
          <p:nvSpPr>
            <p:cNvPr id="233" name="Rectangle 3"/>
            <p:cNvSpPr/>
            <p:nvPr/>
          </p:nvSpPr>
          <p:spPr>
            <a:xfrm>
              <a:off x="2133720" y="5283360"/>
              <a:ext cx="6095880" cy="1066680"/>
            </a:xfrm>
            <a:prstGeom prst="rect">
              <a:avLst/>
            </a:prstGeom>
            <a:solidFill>
              <a:srgbClr val="afb2d0"/>
            </a:soli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direct factory wages                             $6,0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ent consumed by customer orders             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$1,8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13"/>
            <p:cNvSpPr/>
            <p:nvPr/>
          </p:nvSpPr>
          <p:spPr>
            <a:xfrm>
              <a:off x="6934320" y="5934240"/>
              <a:ext cx="121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14"/>
            <p:cNvSpPr/>
            <p:nvPr/>
          </p:nvSpPr>
          <p:spPr>
            <a:xfrm>
              <a:off x="6934320" y="6307200"/>
              <a:ext cx="121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15"/>
            <p:cNvSpPr/>
            <p:nvPr/>
          </p:nvSpPr>
          <p:spPr>
            <a:xfrm>
              <a:off x="6934320" y="6272280"/>
              <a:ext cx="121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7" name="AutoShape 7"/>
          <p:cNvCxnSpPr/>
          <p:nvPr/>
        </p:nvCxnSpPr>
        <p:spPr>
          <a:xfrm>
            <a:off x="7775280" y="1976400"/>
            <a:ext cx="378360" cy="3525120"/>
          </a:xfrm>
          <a:prstGeom prst="bentConnector3">
            <a:avLst>
              <a:gd name="adj1" fmla="val 283142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8" name="AutoShape 8"/>
          <p:cNvCxnSpPr/>
          <p:nvPr/>
        </p:nvCxnSpPr>
        <p:spPr>
          <a:xfrm rot="10800000">
            <a:off x="3139200" y="2923560"/>
            <a:ext cx="3658320" cy="3255120"/>
          </a:xfrm>
          <a:prstGeom prst="bentConnector3">
            <a:avLst>
              <a:gd name="adj1" fmla="val 132152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slow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Wingdings"/>
                <a:ea typeface="Wingdings"/>
              </a:rPr>
              <a:t>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ssign Overhead Costs to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   Activity Cost Poo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40" name="Object 2" descr=""/>
          <p:cNvPicPr/>
          <p:nvPr/>
        </p:nvPicPr>
        <p:blipFill>
          <a:blip r:embed="rId1"/>
          <a:stretch/>
        </p:blipFill>
        <p:spPr>
          <a:xfrm>
            <a:off x="46080" y="2077920"/>
            <a:ext cx="905184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1" name="Rectangle 3"/>
          <p:cNvSpPr/>
          <p:nvPr/>
        </p:nvSpPr>
        <p:spPr>
          <a:xfrm>
            <a:off x="2133720" y="5283360"/>
            <a:ext cx="60958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da1f28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y equipment depreciation             $3,5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consumed by customer orders           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7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6"/>
          <p:cNvCxnSpPr/>
          <p:nvPr/>
        </p:nvCxnSpPr>
        <p:spPr>
          <a:xfrm rot="10800000">
            <a:off x="3278880" y="3110760"/>
            <a:ext cx="3350520" cy="3018600"/>
          </a:xfrm>
          <a:prstGeom prst="bentConnector3">
            <a:avLst>
              <a:gd name="adj1" fmla="val 14166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3" name="Straight Connector 11"/>
          <p:cNvSpPr/>
          <p:nvPr/>
        </p:nvSpPr>
        <p:spPr>
          <a:xfrm>
            <a:off x="6934320" y="5934240"/>
            <a:ext cx="1218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ject 3" descr=""/>
          <p:cNvPicPr/>
          <p:nvPr/>
        </p:nvPicPr>
        <p:blipFill>
          <a:blip r:embed="rId2"/>
          <a:stretch/>
        </p:blipFill>
        <p:spPr>
          <a:xfrm>
            <a:off x="4067280" y="1046160"/>
            <a:ext cx="4937040" cy="31845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45" name="Straight Connector 12"/>
          <p:cNvSpPr/>
          <p:nvPr/>
        </p:nvSpPr>
        <p:spPr>
          <a:xfrm>
            <a:off x="6934320" y="6272280"/>
            <a:ext cx="1218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3"/>
          <p:cNvSpPr/>
          <p:nvPr/>
        </p:nvSpPr>
        <p:spPr>
          <a:xfrm>
            <a:off x="6937200" y="6308640"/>
            <a:ext cx="1219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8"/>
          <p:cNvCxnSpPr/>
          <p:nvPr/>
        </p:nvCxnSpPr>
        <p:spPr>
          <a:xfrm>
            <a:off x="7848720" y="2172960"/>
            <a:ext cx="327600" cy="3361320"/>
          </a:xfrm>
          <a:prstGeom prst="bentConnector3">
            <a:avLst>
              <a:gd name="adj1" fmla="val 16985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ject 2" descr=""/>
          <p:cNvPicPr/>
          <p:nvPr/>
        </p:nvPicPr>
        <p:blipFill>
          <a:blip r:embed="rId1"/>
          <a:stretch/>
        </p:blipFill>
        <p:spPr>
          <a:xfrm>
            <a:off x="46080" y="2077920"/>
            <a:ext cx="905184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Wingdings"/>
                <a:ea typeface="Wingdings"/>
              </a:rPr>
              <a:t>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ssign Overhead Costs to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    Activity Cost Poo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3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905120" y="2462040"/>
            <a:ext cx="5333760" cy="112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activity</a:t>
            </a:r>
            <a:br>
              <a:rPr sz="3400"/>
            </a:b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rates for cost poo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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alculate Activity Rat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509480"/>
            <a:ext cx="8686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C team determines that Baxter Battery will have these total activities for each activity cost p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Arial"/>
              </a:rPr>
              <a:t>10,000 customer orders,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Arial"/>
              </a:rPr>
              <a:t>4,000 design changes,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Arial"/>
              </a:rPr>
              <a:t>800,000 machine-hours,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Arial"/>
              </a:rPr>
              <a:t>2,000 customers served.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685800" y="4998960"/>
            <a:ext cx="7772400" cy="1373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89604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w the team can compute the individual activity rates by dividing the total cost for each activity by the total activit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1"/>
          <a:srcRect l="0" t="0" r="0" b="9227"/>
          <a:stretch/>
        </p:blipFill>
        <p:spPr>
          <a:xfrm>
            <a:off x="5791320" y="2622600"/>
            <a:ext cx="2651040" cy="2254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ject 2" descr=""/>
          <p:cNvPicPr/>
          <p:nvPr/>
        </p:nvPicPr>
        <p:blipFill>
          <a:blip r:embed="rId1"/>
          <a:stretch/>
        </p:blipFill>
        <p:spPr>
          <a:xfrm>
            <a:off x="96840" y="1523880"/>
            <a:ext cx="8966160" cy="30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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alculate Activity Rat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58" name="Picture 9" descr="C:\Documents and Settings\CWC\Favorites\My Documents\My Pictures\Microsoft Clip Organizer\j0334698.wmf"/>
          <p:cNvPicPr/>
          <p:nvPr/>
        </p:nvPicPr>
        <p:blipFill>
          <a:blip r:embed="rId2"/>
          <a:stretch/>
        </p:blipFill>
        <p:spPr>
          <a:xfrm>
            <a:off x="3657600" y="4800600"/>
            <a:ext cx="1832040" cy="153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787320" y="2362320"/>
            <a:ext cx="4496040" cy="3581280"/>
            <a:chOff x="787320" y="2362320"/>
            <a:chExt cx="4496040" cy="3581280"/>
          </a:xfrm>
        </p:grpSpPr>
        <p:sp>
          <p:nvSpPr>
            <p:cNvPr id="260" name="Line 3"/>
            <p:cNvSpPr/>
            <p:nvPr/>
          </p:nvSpPr>
          <p:spPr>
            <a:xfrm>
              <a:off x="3048120" y="2362320"/>
              <a:ext cx="0" cy="358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"/>
            <p:cNvSpPr/>
            <p:nvPr/>
          </p:nvSpPr>
          <p:spPr>
            <a:xfrm>
              <a:off x="4572000" y="2362320"/>
              <a:ext cx="0" cy="358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523880" y="2362320"/>
              <a:ext cx="0" cy="358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787320" y="3504960"/>
              <a:ext cx="144792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ra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2311560" y="3504960"/>
              <a:ext cx="144756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ra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>
              <a:off x="3835440" y="3504960"/>
              <a:ext cx="144792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ra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10"/>
          <p:cNvSpPr/>
          <p:nvPr/>
        </p:nvSpPr>
        <p:spPr>
          <a:xfrm>
            <a:off x="838080" y="1676520"/>
            <a:ext cx="144792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2362320" y="1676520"/>
            <a:ext cx="144756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3886200" y="1676520"/>
            <a:ext cx="144792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5410080" y="1676520"/>
            <a:ext cx="358164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hea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838080" y="5943600"/>
            <a:ext cx="655344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ost Ob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ducts, Customer Orders,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–Based Costing at Baxter Battery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838080" y="1676520"/>
            <a:ext cx="144792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362320" y="1676520"/>
            <a:ext cx="144756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3886200" y="1676520"/>
            <a:ext cx="144792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838080" y="5943600"/>
            <a:ext cx="655344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ost Ob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ducts, Customer Orders,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AutoShape 13"/>
          <p:cNvCxnSpPr>
            <a:stCxn id="277" idx="2"/>
          </p:cNvCxnSpPr>
          <p:nvPr/>
        </p:nvCxnSpPr>
        <p:spPr>
          <a:xfrm rot="5400000">
            <a:off x="3999960" y="380880"/>
            <a:ext cx="1219680" cy="518256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8" name="Line 14"/>
          <p:cNvSpPr/>
          <p:nvPr/>
        </p:nvSpPr>
        <p:spPr>
          <a:xfrm>
            <a:off x="3581280" y="2971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5143680" y="2971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6"/>
          <p:cNvSpPr/>
          <p:nvPr/>
        </p:nvSpPr>
        <p:spPr>
          <a:xfrm>
            <a:off x="6629400" y="2971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AutoShape 17"/>
          <p:cNvCxnSpPr>
            <a:stCxn id="277" idx="2"/>
          </p:cNvCxnSpPr>
          <p:nvPr/>
        </p:nvCxnSpPr>
        <p:spPr>
          <a:xfrm flipH="1" rot="16200000">
            <a:off x="7112160" y="2450880"/>
            <a:ext cx="1219680" cy="104184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" name="Text Box 18"/>
          <p:cNvSpPr/>
          <p:nvPr/>
        </p:nvSpPr>
        <p:spPr>
          <a:xfrm>
            <a:off x="3581280" y="2557440"/>
            <a:ext cx="44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irst-Stage Al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129528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39416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594360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51824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2867040" y="359100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–Based Costing at Baxter Battery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5410080" y="1676520"/>
            <a:ext cx="358164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hea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1981080" y="429264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3581280" y="429264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5143680" y="429264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6629400" y="429264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8229600" y="4292640"/>
            <a:ext cx="0" cy="180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838080" y="1676520"/>
            <a:ext cx="144792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362320" y="1676520"/>
            <a:ext cx="144756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3886200" y="1676520"/>
            <a:ext cx="144792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838080" y="5943600"/>
            <a:ext cx="655344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ost Ob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ducts, Customer Orders,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129528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439416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94360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7518240" y="358128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AutoShape 18"/>
          <p:cNvCxnSpPr>
            <a:stCxn id="303" idx="2"/>
            <a:endCxn id="298" idx="0"/>
          </p:cNvCxnSpPr>
          <p:nvPr/>
        </p:nvCxnSpPr>
        <p:spPr>
          <a:xfrm rot="5400000">
            <a:off x="3999960" y="380880"/>
            <a:ext cx="1219680" cy="518256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4" name="Line 19"/>
          <p:cNvSpPr/>
          <p:nvPr/>
        </p:nvSpPr>
        <p:spPr>
          <a:xfrm>
            <a:off x="3581280" y="2971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5143680" y="2971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6629400" y="2971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22"/>
          <p:cNvCxnSpPr>
            <a:stCxn id="303" idx="2"/>
            <a:endCxn id="301" idx="0"/>
          </p:cNvCxnSpPr>
          <p:nvPr/>
        </p:nvCxnSpPr>
        <p:spPr>
          <a:xfrm flipH="1" rot="16200000">
            <a:off x="7112160" y="2450880"/>
            <a:ext cx="1219680" cy="104184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8" name="Text Box 23"/>
          <p:cNvSpPr/>
          <p:nvPr/>
        </p:nvSpPr>
        <p:spPr>
          <a:xfrm>
            <a:off x="3581280" y="2557440"/>
            <a:ext cx="44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irst-Stage Al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1371600" y="4495680"/>
            <a:ext cx="7543800" cy="457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-Stage Allo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1244520" y="5181480"/>
            <a:ext cx="14479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$/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2844720" y="5181480"/>
            <a:ext cx="14479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$/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7"/>
          <p:cNvSpPr/>
          <p:nvPr/>
        </p:nvSpPr>
        <p:spPr>
          <a:xfrm>
            <a:off x="4394160" y="5181480"/>
            <a:ext cx="14479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$/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8"/>
          <p:cNvSpPr/>
          <p:nvPr/>
        </p:nvSpPr>
        <p:spPr>
          <a:xfrm>
            <a:off x="5931000" y="5181480"/>
            <a:ext cx="144756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$/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7493040" y="6146640"/>
            <a:ext cx="14479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n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0"/>
          <p:cNvSpPr/>
          <p:nvPr/>
        </p:nvSpPr>
        <p:spPr>
          <a:xfrm>
            <a:off x="2867040" y="3591000"/>
            <a:ext cx="144792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–Based Costing at Baxter Battery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5410080" y="1676520"/>
            <a:ext cx="358164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hea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82720" y="2309760"/>
            <a:ext cx="556272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nderstand activity-based costing and how it differs from a traditional costing syste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4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905120" y="246204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Assign costs to a cost object using a second-stage alloc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5800" y="14414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xter Batte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457200" y="1981080"/>
            <a:ext cx="678168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u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new design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0,000 batteries ordered with 4,000 separate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reStart requires 36 minutes of mach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for a total of 480,000 machine-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905120" y="4038480"/>
            <a:ext cx="6858000" cy="2362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Long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ew design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,000 batteries ordered with 6,000 separate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000 cust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ongLife requires 48 minutes of mach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for a total of 320,000 machine-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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ssigning Overhead to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Object 2" descr=""/>
          <p:cNvPicPr/>
          <p:nvPr/>
        </p:nvPicPr>
        <p:blipFill>
          <a:blip r:embed="rId1"/>
          <a:stretch/>
        </p:blipFill>
        <p:spPr>
          <a:xfrm>
            <a:off x="223920" y="1523880"/>
            <a:ext cx="5438520" cy="158760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3" descr=""/>
          <p:cNvPicPr/>
          <p:nvPr/>
        </p:nvPicPr>
        <p:blipFill>
          <a:blip r:embed="rId2"/>
          <a:stretch/>
        </p:blipFill>
        <p:spPr>
          <a:xfrm>
            <a:off x="3352680" y="3770280"/>
            <a:ext cx="5534280" cy="1587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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ssigning Overhead to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26" name="Picture 9" descr="C:\Documents and Settings\CWC\Favorites\My Documents\My Pictures\Microsoft Clip Organizer\j0334698.wmf"/>
          <p:cNvPicPr/>
          <p:nvPr/>
        </p:nvPicPr>
        <p:blipFill>
          <a:blip r:embed="rId3"/>
          <a:stretch/>
        </p:blipFill>
        <p:spPr>
          <a:xfrm>
            <a:off x="228600" y="4724280"/>
            <a:ext cx="1832040" cy="153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90680" y="1517760"/>
            <a:ext cx="8153280" cy="11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how Baxter Battery’s system works for just one of the 2,000 customers – Acme Auto Parts who placed a total of twelve orders. Note that the four orders for LongLifes required a desig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457200" y="2873520"/>
            <a:ext cx="6400800" cy="124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ht orders for 60 SureStarts pe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ders for 50 LongLifes pe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371600" y="4572000"/>
            <a:ext cx="7467480" cy="1447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chine-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80 SureStarts required 288 machine-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00 LongLifes required 160 machine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ssigning Overhead to Customer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ssigning Overhead to Customer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32" name="Object 2" descr=""/>
          <p:cNvPicPr/>
          <p:nvPr/>
        </p:nvPicPr>
        <p:blipFill>
          <a:blip r:embed="rId1"/>
          <a:stretch/>
        </p:blipFill>
        <p:spPr>
          <a:xfrm>
            <a:off x="401760" y="1523880"/>
            <a:ext cx="8356320" cy="3160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C:\Documents and Settings\CWC\Favorites\My Documents\My Pictures\Microsoft Clip Organizer\j0334698.wmf"/>
          <p:cNvPicPr/>
          <p:nvPr/>
        </p:nvPicPr>
        <p:blipFill>
          <a:blip r:embed="rId2"/>
          <a:stretch/>
        </p:blipFill>
        <p:spPr>
          <a:xfrm>
            <a:off x="3657600" y="5016600"/>
            <a:ext cx="1832040" cy="1536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1905120" y="246204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se activity-based costing to compute product and customer margi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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pare Management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37" name="Object 2" descr=""/>
          <p:cNvPicPr/>
          <p:nvPr/>
        </p:nvPicPr>
        <p:blipFill>
          <a:blip r:embed="rId1"/>
          <a:stretch/>
        </p:blipFill>
        <p:spPr>
          <a:xfrm>
            <a:off x="289080" y="2973240"/>
            <a:ext cx="8565840" cy="21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8" name="Text Box 6"/>
          <p:cNvSpPr/>
          <p:nvPr/>
        </p:nvSpPr>
        <p:spPr>
          <a:xfrm>
            <a:off x="644040" y="1359000"/>
            <a:ext cx="78480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 Margi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computing product margins is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ther each product’s sales and direct cos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9" descr="C:\Documents and Settings\CWC\Favorites\My Documents\My Pictures\Microsoft Clip Organizer\j0334698.wmf"/>
          <p:cNvPicPr/>
          <p:nvPr/>
        </p:nvPicPr>
        <p:blipFill>
          <a:blip r:embed="rId2"/>
          <a:stretch/>
        </p:blipFill>
        <p:spPr>
          <a:xfrm>
            <a:off x="3962520" y="5259240"/>
            <a:ext cx="1450800" cy="1217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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pare Management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97080" y="1360440"/>
            <a:ext cx="8338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 Margi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cond step in computing product margins is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orporate the previously computed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activity-based</a:t>
            </a:r>
            <a:br>
              <a:rPr sz="2800"/>
            </a:b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cost assign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ertaining to each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Object 2" descr=""/>
          <p:cNvPicPr/>
          <p:nvPr/>
        </p:nvPicPr>
        <p:blipFill>
          <a:blip r:embed="rId1"/>
          <a:stretch/>
        </p:blipFill>
        <p:spPr>
          <a:xfrm>
            <a:off x="641520" y="3247920"/>
            <a:ext cx="7812000" cy="30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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pare Management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43080" y="1353960"/>
            <a:ext cx="84582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 Margi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ird step in computing product margi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o deduct each product’s direct and indirect costs   from 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1"/>
          <a:stretch/>
        </p:blipFill>
        <p:spPr>
          <a:xfrm>
            <a:off x="209520" y="3314880"/>
            <a:ext cx="8648640" cy="3238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Object 2" descr=""/>
          <p:cNvPicPr/>
          <p:nvPr/>
        </p:nvPicPr>
        <p:blipFill>
          <a:blip r:embed="rId1"/>
          <a:stretch/>
        </p:blipFill>
        <p:spPr>
          <a:xfrm>
            <a:off x="81000" y="3156120"/>
            <a:ext cx="8966160" cy="3016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7" name="Text Box 4"/>
          <p:cNvSpPr/>
          <p:nvPr/>
        </p:nvSpPr>
        <p:spPr>
          <a:xfrm>
            <a:off x="406440" y="1357200"/>
            <a:ext cx="830592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 Margi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duct margins can be reconciled with the company’s net operating income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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pare Management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72400" y="1647720"/>
            <a:ext cx="79912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differs from traditional cost accounting in three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990720" y="2438280"/>
            <a:ext cx="2819160" cy="914400"/>
          </a:xfrm>
          <a:prstGeom prst="roundRect">
            <a:avLst>
              <a:gd name="adj" fmla="val 16667"/>
            </a:avLst>
          </a:prstGeom>
          <a:solidFill>
            <a:srgbClr val="a8bf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5410080" y="243828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manufact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279080" y="5915160"/>
            <a:ext cx="65934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 assigns both types of costs to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31"/>
          <p:cNvSpPr/>
          <p:nvPr/>
        </p:nvSpPr>
        <p:spPr>
          <a:xfrm>
            <a:off x="762120" y="4343400"/>
            <a:ext cx="3276360" cy="1295280"/>
          </a:xfrm>
          <a:prstGeom prst="ellipse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32"/>
          <p:cNvSpPr/>
          <p:nvPr/>
        </p:nvSpPr>
        <p:spPr>
          <a:xfrm>
            <a:off x="5181480" y="4343400"/>
            <a:ext cx="3276720" cy="129528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033"/>
          <p:cNvCxnSpPr/>
          <p:nvPr/>
        </p:nvCxnSpPr>
        <p:spPr>
          <a:xfrm flipH="1">
            <a:off x="2400120" y="3367080"/>
            <a:ext cx="2160" cy="978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AutoShape 1034"/>
          <p:cNvCxnSpPr/>
          <p:nvPr/>
        </p:nvCxnSpPr>
        <p:spPr>
          <a:xfrm>
            <a:off x="2400480" y="3366720"/>
            <a:ext cx="3015360" cy="12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AutoShape 1033"/>
          <p:cNvCxnSpPr/>
          <p:nvPr/>
        </p:nvCxnSpPr>
        <p:spPr>
          <a:xfrm flipH="1">
            <a:off x="6804720" y="3352320"/>
            <a:ext cx="2520" cy="978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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pare Management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0" y="1397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 Margin Analys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computing Acme Auto Parts’ customer margin is to gather its sales and direct cost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Object 2" descr=""/>
          <p:cNvPicPr/>
          <p:nvPr/>
        </p:nvPicPr>
        <p:blipFill>
          <a:blip r:embed="rId1"/>
          <a:stretch/>
        </p:blipFill>
        <p:spPr>
          <a:xfrm>
            <a:off x="1587600" y="2963880"/>
            <a:ext cx="5935680" cy="3208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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pare Management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139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 Margin Analys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cond step is to incorporate Acme Auto Parts’ previously computed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activity-based cost assign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2" descr=""/>
          <p:cNvPicPr/>
          <p:nvPr/>
        </p:nvPicPr>
        <p:blipFill>
          <a:blip r:embed="rId1"/>
          <a:stretch/>
        </p:blipFill>
        <p:spPr>
          <a:xfrm>
            <a:off x="1878120" y="2895480"/>
            <a:ext cx="535608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checke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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epare Management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0" y="13971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 Margin Analysis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ird step is to compute Acme Auto Parts’ customer margin of $384 by deducting all its direct and indirect costs from its 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ject 2" descr=""/>
          <p:cNvPicPr/>
          <p:nvPr/>
        </p:nvPicPr>
        <p:blipFill>
          <a:blip r:embed="rId1"/>
          <a:stretch/>
        </p:blipFill>
        <p:spPr>
          <a:xfrm>
            <a:off x="1084320" y="3146400"/>
            <a:ext cx="6956280" cy="362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Product Margins Computed Using the Traditional Cost Syste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59" name="Object 2" descr=""/>
          <p:cNvPicPr/>
          <p:nvPr/>
        </p:nvPicPr>
        <p:blipFill>
          <a:blip r:embed="rId1"/>
          <a:stretch/>
        </p:blipFill>
        <p:spPr>
          <a:xfrm>
            <a:off x="385920" y="2867040"/>
            <a:ext cx="8421480" cy="17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60" name="Text Box 4"/>
          <p:cNvSpPr/>
          <p:nvPr/>
        </p:nvSpPr>
        <p:spPr>
          <a:xfrm>
            <a:off x="631440" y="172080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computing product margins is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ther each product’s sales and direct cos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2"/>
          <a:srcRect l="0" t="22841" r="0" b="0"/>
          <a:stretch/>
        </p:blipFill>
        <p:spPr>
          <a:xfrm>
            <a:off x="2933640" y="4765680"/>
            <a:ext cx="3292560" cy="2057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10"/>
          <p:cNvGrpSpPr/>
          <p:nvPr/>
        </p:nvGrpSpPr>
        <p:grpSpPr>
          <a:xfrm>
            <a:off x="571680" y="4692600"/>
            <a:ext cx="8337240" cy="642600"/>
            <a:chOff x="571680" y="4692600"/>
            <a:chExt cx="8337240" cy="642600"/>
          </a:xfrm>
        </p:grpSpPr>
        <p:sp>
          <p:nvSpPr>
            <p:cNvPr id="363" name="Text Box 6"/>
            <p:cNvSpPr/>
            <p:nvPr/>
          </p:nvSpPr>
          <p:spPr>
            <a:xfrm>
              <a:off x="571680" y="4692600"/>
              <a:ext cx="29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Plantwide manufa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overhead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"/>
            <p:cNvSpPr/>
            <p:nvPr/>
          </p:nvSpPr>
          <p:spPr>
            <a:xfrm>
              <a:off x="4143600" y="46926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cc"/>
                  </a:solidFill>
                  <a:uFillTx/>
                  <a:latin typeface="Arial"/>
                  <a:ea typeface="Arial"/>
                </a:rPr>
                <a:t>$14,000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800,000 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8"/>
            <p:cNvSpPr/>
            <p:nvPr/>
          </p:nvSpPr>
          <p:spPr>
            <a:xfrm>
              <a:off x="5774760" y="4829040"/>
              <a:ext cx="31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=  $17.50 per machine-h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9"/>
            <p:cNvSpPr/>
            <p:nvPr/>
          </p:nvSpPr>
          <p:spPr>
            <a:xfrm>
              <a:off x="3658680" y="48290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 Box 13"/>
          <p:cNvSpPr/>
          <p:nvPr/>
        </p:nvSpPr>
        <p:spPr>
          <a:xfrm>
            <a:off x="457200" y="1492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cond step in computing product margins is to compute the plantwide overhead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Object 2" descr=""/>
          <p:cNvPicPr/>
          <p:nvPr/>
        </p:nvPicPr>
        <p:blipFill>
          <a:blip r:embed="rId1"/>
          <a:stretch/>
        </p:blipFill>
        <p:spPr>
          <a:xfrm>
            <a:off x="2036880" y="2443320"/>
            <a:ext cx="5133960" cy="205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369" name="AutoShape 23"/>
          <p:cNvCxnSpPr/>
          <p:nvPr/>
        </p:nvCxnSpPr>
        <p:spPr>
          <a:xfrm flipV="1" rot="10800000">
            <a:off x="5104800" y="4232880"/>
            <a:ext cx="610200" cy="477000"/>
          </a:xfrm>
          <a:prstGeom prst="bent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370" name="Object 3" descr=""/>
          <p:cNvPicPr/>
          <p:nvPr/>
        </p:nvPicPr>
        <p:blipFill>
          <a:blip r:embed="rId2"/>
          <a:stretch/>
        </p:blipFill>
        <p:spPr>
          <a:xfrm>
            <a:off x="1676520" y="5554800"/>
            <a:ext cx="5583240" cy="122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371" name="AutoShape 32"/>
          <p:cNvCxnSpPr/>
          <p:nvPr/>
        </p:nvCxnSpPr>
        <p:spPr>
          <a:xfrm rot="10800000">
            <a:off x="5104800" y="5257080"/>
            <a:ext cx="876960" cy="1253160"/>
          </a:xfrm>
          <a:prstGeom prst="bent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Product Margins Computed Using the Traditional Cost Syste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028"/>
          <p:cNvSpPr/>
          <p:nvPr/>
        </p:nvSpPr>
        <p:spPr>
          <a:xfrm>
            <a:off x="559080" y="1657440"/>
            <a:ext cx="80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ird step in computing product margin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cate manufacturing overhead to each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Object 2" descr=""/>
          <p:cNvPicPr/>
          <p:nvPr/>
        </p:nvPicPr>
        <p:blipFill>
          <a:blip r:embed="rId1"/>
          <a:stretch/>
        </p:blipFill>
        <p:spPr>
          <a:xfrm>
            <a:off x="92160" y="2830680"/>
            <a:ext cx="8967600" cy="173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375" name="Group 1033"/>
          <p:cNvGrpSpPr/>
          <p:nvPr/>
        </p:nvGrpSpPr>
        <p:grpSpPr>
          <a:xfrm>
            <a:off x="1944720" y="3673080"/>
            <a:ext cx="6629400" cy="1676880"/>
            <a:chOff x="1944720" y="3673080"/>
            <a:chExt cx="6629400" cy="1676880"/>
          </a:xfrm>
        </p:grpSpPr>
        <p:sp>
          <p:nvSpPr>
            <p:cNvPr id="376" name="Line 1032"/>
            <p:cNvSpPr/>
            <p:nvPr/>
          </p:nvSpPr>
          <p:spPr>
            <a:xfrm flipV="1">
              <a:off x="6288120" y="3673080"/>
              <a:ext cx="1447920" cy="1219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031"/>
            <p:cNvSpPr/>
            <p:nvPr/>
          </p:nvSpPr>
          <p:spPr>
            <a:xfrm>
              <a:off x="1944720" y="4816440"/>
              <a:ext cx="6629400" cy="533520"/>
            </a:xfrm>
            <a:prstGeom prst="rect">
              <a:avLst/>
            </a:prstGeom>
            <a:solidFill>
              <a:srgbClr val="7acbe0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0,000 hour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 $17.50 per hour = $8,4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Product Margins Computed Using the Traditional Cost Syste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2"/>
          <a:srcRect l="0" t="26587" r="0" b="0"/>
          <a:stretch/>
        </p:blipFill>
        <p:spPr>
          <a:xfrm>
            <a:off x="3459240" y="5486400"/>
            <a:ext cx="2209680" cy="129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027"/>
          <p:cNvSpPr/>
          <p:nvPr/>
        </p:nvSpPr>
        <p:spPr>
          <a:xfrm>
            <a:off x="762120" y="1644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urth step is to actually compute the product mar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Object 2" descr=""/>
          <p:cNvPicPr/>
          <p:nvPr/>
        </p:nvPicPr>
        <p:blipFill>
          <a:blip r:embed="rId1"/>
          <a:stretch/>
        </p:blipFill>
        <p:spPr>
          <a:xfrm>
            <a:off x="93600" y="2695680"/>
            <a:ext cx="8962920" cy="216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2" name="Object 3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5213520" cy="1219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383" name="AutoShape 1034"/>
          <p:cNvCxnSpPr/>
          <p:nvPr/>
        </p:nvCxnSpPr>
        <p:spPr>
          <a:xfrm flipV="1">
            <a:off x="5943240" y="4411440"/>
            <a:ext cx="2134440" cy="1737360"/>
          </a:xfrm>
          <a:prstGeom prst="bentConnector3">
            <a:avLst>
              <a:gd name="adj1" fmla="val 50000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Product Margins Computed Using the Traditional Cost Syste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ject 2" descr=""/>
          <p:cNvPicPr/>
          <p:nvPr/>
        </p:nvPicPr>
        <p:blipFill>
          <a:blip r:embed="rId1"/>
          <a:stretch/>
        </p:blipFill>
        <p:spPr>
          <a:xfrm>
            <a:off x="585720" y="1604880"/>
            <a:ext cx="7947000" cy="189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6" name="Rectangle 1029"/>
          <p:cNvSpPr/>
          <p:nvPr/>
        </p:nvSpPr>
        <p:spPr>
          <a:xfrm>
            <a:off x="609480" y="3962520"/>
            <a:ext cx="3353040" cy="2286000"/>
          </a:xfrm>
          <a:prstGeom prst="rect">
            <a:avLst/>
          </a:prstGeom>
          <a:solidFill>
            <a:srgbClr val="d4df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ditional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ver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eStarts and re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w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 for this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32"/>
          <p:cNvSpPr/>
          <p:nvPr/>
        </p:nvSpPr>
        <p:spPr>
          <a:xfrm>
            <a:off x="5181480" y="3962520"/>
            <a:ext cx="3353040" cy="2286000"/>
          </a:xfrm>
          <a:prstGeom prst="rect">
            <a:avLst/>
          </a:prstGeom>
          <a:solidFill>
            <a:srgbClr val="d4df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ditional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der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fes and re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 for this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ifferences Between ABC and Traditional Product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ifferences Between ABC and Traditional Product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28600" y="3505320"/>
            <a:ext cx="8686800" cy="2361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costing allocates all manufactu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overhead to products.  ABC costing only assig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manufacturing overhead costs consum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products to tho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29"/>
          <p:cNvSpPr/>
          <p:nvPr/>
        </p:nvSpPr>
        <p:spPr>
          <a:xfrm>
            <a:off x="228600" y="1600200"/>
            <a:ext cx="8686800" cy="1371600"/>
          </a:xfrm>
          <a:prstGeom prst="rect">
            <a:avLst/>
          </a:prstGeom>
          <a:solidFill>
            <a:srgbClr val="afb2d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reasons wh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product margins for the tw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systems differ from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ifferences Between ABC and Traditional Product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3" name="Rectangle 1028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f3a27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costing allocates all manufactu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verhead costs using a volume-related allo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base.  ABC costing also uses non-volume rela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allocation ba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29"/>
          <p:cNvSpPr/>
          <p:nvPr/>
        </p:nvSpPr>
        <p:spPr>
          <a:xfrm>
            <a:off x="228600" y="1600200"/>
            <a:ext cx="8686800" cy="1371600"/>
          </a:xfrm>
          <a:prstGeom prst="rect">
            <a:avLst/>
          </a:prstGeom>
          <a:solidFill>
            <a:srgbClr val="afb2d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reasons wh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product margins for the tw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systems differ from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429840" y="5838840"/>
            <a:ext cx="8265240" cy="459720"/>
          </a:xfrm>
          <a:prstGeom prst="rect">
            <a:avLst/>
          </a:prstGeom>
          <a:solidFill>
            <a:srgbClr val="d5a7b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does not assign all manufacturing costs to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28"/>
          <p:cNvSpPr/>
          <p:nvPr/>
        </p:nvSpPr>
        <p:spPr>
          <a:xfrm>
            <a:off x="990720" y="2438280"/>
            <a:ext cx="2819160" cy="914400"/>
          </a:xfrm>
          <a:prstGeom prst="roundRect">
            <a:avLst>
              <a:gd name="adj" fmla="val 16667"/>
            </a:avLst>
          </a:prstGeom>
          <a:solidFill>
            <a:srgbClr val="a8bf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29"/>
          <p:cNvSpPr/>
          <p:nvPr/>
        </p:nvSpPr>
        <p:spPr>
          <a:xfrm>
            <a:off x="5410080" y="243828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manufact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31"/>
          <p:cNvSpPr/>
          <p:nvPr/>
        </p:nvSpPr>
        <p:spPr>
          <a:xfrm>
            <a:off x="762120" y="4343400"/>
            <a:ext cx="3276360" cy="1295280"/>
          </a:xfrm>
          <a:prstGeom prst="ellipse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32"/>
          <p:cNvSpPr/>
          <p:nvPr/>
        </p:nvSpPr>
        <p:spPr>
          <a:xfrm>
            <a:off x="5181480" y="4343400"/>
            <a:ext cx="3276720" cy="129528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033"/>
          <p:cNvCxnSpPr>
            <a:endCxn id="121" idx="0"/>
          </p:cNvCxnSpPr>
          <p:nvPr/>
        </p:nvCxnSpPr>
        <p:spPr>
          <a:xfrm flipH="1">
            <a:off x="2400120" y="3367080"/>
            <a:ext cx="2160" cy="978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4" name="AutoShape 1034"/>
          <p:cNvCxnSpPr/>
          <p:nvPr/>
        </p:nvCxnSpPr>
        <p:spPr>
          <a:xfrm>
            <a:off x="2400480" y="3366720"/>
            <a:ext cx="3015360" cy="120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5" name="Text Box 1036"/>
          <p:cNvSpPr/>
          <p:nvPr/>
        </p:nvSpPr>
        <p:spPr>
          <a:xfrm rot="16200000">
            <a:off x="1951920" y="361944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37"/>
          <p:cNvSpPr/>
          <p:nvPr/>
        </p:nvSpPr>
        <p:spPr>
          <a:xfrm rot="1308600">
            <a:off x="3301200" y="3591000"/>
            <a:ext cx="143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st, but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38"/>
          <p:cNvSpPr/>
          <p:nvPr/>
        </p:nvSpPr>
        <p:spPr>
          <a:xfrm rot="16200000">
            <a:off x="6142320" y="36050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72400" y="1647720"/>
            <a:ext cx="79912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differs from traditional cost accounting in three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1033"/>
          <p:cNvCxnSpPr/>
          <p:nvPr/>
        </p:nvCxnSpPr>
        <p:spPr>
          <a:xfrm flipH="1">
            <a:off x="6804720" y="3352320"/>
            <a:ext cx="2520" cy="978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ifferences Between ABC and Traditional Product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6" name="Rectangle 1028"/>
          <p:cNvSpPr/>
          <p:nvPr/>
        </p:nvSpPr>
        <p:spPr>
          <a:xfrm>
            <a:off x="228600" y="3124080"/>
            <a:ext cx="8686800" cy="3353040"/>
          </a:xfrm>
          <a:prstGeom prst="rect">
            <a:avLst/>
          </a:prstGeom>
          <a:solidFill>
            <a:srgbClr val="c07b8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costing disregards selling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administrative expenses because they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assumed to be period expenses. ABC cos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directly traces shipping costs to products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includes nonmanufacturing overhead costs caus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by products in the activity cost pools that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assigned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29"/>
          <p:cNvSpPr/>
          <p:nvPr/>
        </p:nvSpPr>
        <p:spPr>
          <a:xfrm>
            <a:off x="228600" y="1600200"/>
            <a:ext cx="8686800" cy="1371600"/>
          </a:xfrm>
          <a:prstGeom prst="rect">
            <a:avLst/>
          </a:prstGeom>
          <a:solidFill>
            <a:srgbClr val="afb2d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reasons wh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product margins for the tw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systems differ from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argeting Process Improvemen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425760" y="1371600"/>
            <a:ext cx="5032440" cy="2654280"/>
          </a:xfrm>
          <a:prstGeom prst="rect">
            <a:avLst/>
          </a:prstGeom>
          <a:solidFill>
            <a:srgbClr val="6d101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9f4"/>
                </a:solidFill>
                <a:latin typeface="Arial"/>
              </a:rPr>
              <a:t>Activity-based management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s used in conjunction with ABC to identify areas that would benefit from process improvements by focusing on activities to eliminate waste, decrease processing time, and reduce de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685800" y="5410080"/>
            <a:ext cx="7696080" cy="119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chmark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used to compare activity cost information with standards of performance achieved by other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651400" cy="19875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52280" y="4343400"/>
            <a:ext cx="8686800" cy="838080"/>
          </a:xfrm>
          <a:prstGeom prst="rect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rat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provide valuable clues concerning where there is waste and the opportunity for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-Based Costing and External Reporting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2133720" y="2190600"/>
            <a:ext cx="4876560" cy="825480"/>
          </a:xfrm>
          <a:prstGeom prst="rect">
            <a:avLst/>
          </a:prstGeom>
          <a:solidFill>
            <a:srgbClr val="f3a27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anies do not use AB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ternal reporting because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914400" y="3049560"/>
            <a:ext cx="7315200" cy="2963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reports are less detailed than internal re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may be difficult to make changes to the company’s accounting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C does not conform to GA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ors may be suspect of the subjective allocation process based on interviews with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BC Limit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533520" y="1828800"/>
            <a:ext cx="3276360" cy="1143000"/>
          </a:xfrm>
          <a:prstGeom prst="roundRect">
            <a:avLst>
              <a:gd name="adj" fmla="val 16667"/>
            </a:avLst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tial resourc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d to impl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5257800" y="1828800"/>
            <a:ext cx="3276720" cy="1143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stanc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amiliar numb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533520" y="3657600"/>
            <a:ext cx="3276360" cy="114300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e to fu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 all cos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6"/>
          <p:cNvSpPr/>
          <p:nvPr/>
        </p:nvSpPr>
        <p:spPr>
          <a:xfrm>
            <a:off x="5257800" y="3657600"/>
            <a:ext cx="3276720" cy="1143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interpretation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amiliar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2743200" y="5257800"/>
            <a:ext cx="3657600" cy="114300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conform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AP.  Two cos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may b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0" descr="C:\Users\jonbooker\AppData\Local\Microsoft\Windows\Temporary Internet Files\Content.IE5\ICNRLO95\MCj03842820000[1].wmf"/>
          <p:cNvPicPr/>
          <p:nvPr/>
        </p:nvPicPr>
        <p:blipFill>
          <a:blip r:embed="rId1"/>
          <a:stretch/>
        </p:blipFill>
        <p:spPr>
          <a:xfrm>
            <a:off x="7391520" y="5105520"/>
            <a:ext cx="1123920" cy="11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7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15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56800" y="4589640"/>
            <a:ext cx="1648800" cy="1003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lantwi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584880" y="3522600"/>
            <a:ext cx="1809000" cy="1003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epart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565600" y="2658960"/>
            <a:ext cx="2008800" cy="6987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1676520" y="2362320"/>
            <a:ext cx="0" cy="33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1676520" y="573264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878200" y="579600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cost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 rot="16200000">
            <a:off x="-132120" y="3704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l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454480" y="6202440"/>
            <a:ext cx="42188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 uses more cost p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2400" y="1647720"/>
            <a:ext cx="79912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differs from traditional cost accounting in three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" name="Rectangle 1029"/>
          <p:cNvSpPr/>
          <p:nvPr/>
        </p:nvSpPr>
        <p:spPr>
          <a:xfrm>
            <a:off x="228600" y="2610000"/>
            <a:ext cx="5562720" cy="1066680"/>
          </a:xfrm>
          <a:prstGeom prst="rect">
            <a:avLst/>
          </a:prstGeom>
          <a:solidFill>
            <a:srgbClr val="def5fa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BC cost pool has 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 unique measure of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31"/>
          <p:cNvSpPr/>
          <p:nvPr/>
        </p:nvSpPr>
        <p:spPr>
          <a:xfrm>
            <a:off x="2209680" y="3962520"/>
            <a:ext cx="6705720" cy="1828800"/>
          </a:xfrm>
          <a:prstGeom prst="rect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Traditional cost systems usually rely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on volume measures such as direct labor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hours and/or machine hours to allocate</a:t>
            </a:r>
            <a:br>
              <a:rPr sz="2800"/>
            </a:br>
            <a:r>
              <a:rPr b="0" lang="en-US" sz="2800" spc="-1" strike="noStrike">
                <a:solidFill>
                  <a:srgbClr val="ffffd5"/>
                </a:solidFill>
                <a:latin typeface="Arial"/>
              </a:rPr>
              <a:t>all overhead costs t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72400" y="1647720"/>
            <a:ext cx="79912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differs from traditional cost accounting in three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54480" y="6202440"/>
            <a:ext cx="42188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 uses more cost p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1026"/>
          <p:cNvSpPr/>
          <p:nvPr/>
        </p:nvSpPr>
        <p:spPr>
          <a:xfrm>
            <a:off x="685800" y="1774800"/>
            <a:ext cx="2438280" cy="1143000"/>
          </a:xfrm>
          <a:prstGeom prst="ellipse">
            <a:avLst/>
          </a:prstGeom>
          <a:solidFill>
            <a:srgbClr val="d7d8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27"/>
          <p:cNvSpPr/>
          <p:nvPr/>
        </p:nvSpPr>
        <p:spPr>
          <a:xfrm>
            <a:off x="5105520" y="1736640"/>
            <a:ext cx="3429000" cy="1219320"/>
          </a:xfrm>
          <a:prstGeom prst="rect">
            <a:avLst/>
          </a:prstGeom>
          <a:solidFill>
            <a:srgbClr val="d7d8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vent that causes the consumption of overhead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028"/>
          <p:cNvCxnSpPr>
            <a:stCxn id="145" idx="6"/>
            <a:endCxn id="146" idx="1"/>
          </p:cNvCxnSpPr>
          <p:nvPr/>
        </p:nvCxnSpPr>
        <p:spPr>
          <a:xfrm>
            <a:off x="3124080" y="2346120"/>
            <a:ext cx="1982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Oval 1041"/>
          <p:cNvSpPr/>
          <p:nvPr/>
        </p:nvSpPr>
        <p:spPr>
          <a:xfrm>
            <a:off x="685800" y="3146400"/>
            <a:ext cx="2438280" cy="1143000"/>
          </a:xfrm>
          <a:prstGeom prst="ellipse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Cos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42"/>
          <p:cNvSpPr/>
          <p:nvPr/>
        </p:nvSpPr>
        <p:spPr>
          <a:xfrm>
            <a:off x="5105520" y="3108240"/>
            <a:ext cx="3429000" cy="1219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cost bucket” in which costs related to a single activity measure are accum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AutoShape 1043"/>
          <p:cNvCxnSpPr>
            <a:stCxn id="148" idx="6"/>
            <a:endCxn id="149" idx="1"/>
          </p:cNvCxnSpPr>
          <p:nvPr/>
        </p:nvCxnSpPr>
        <p:spPr>
          <a:xfrm>
            <a:off x="3124080" y="3717720"/>
            <a:ext cx="1982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1" name="Group 18"/>
          <p:cNvGrpSpPr/>
          <p:nvPr/>
        </p:nvGrpSpPr>
        <p:grpSpPr>
          <a:xfrm>
            <a:off x="3123720" y="3870360"/>
            <a:ext cx="1600200" cy="1389960"/>
            <a:chOff x="3123720" y="3870360"/>
            <a:chExt cx="1600200" cy="1389960"/>
          </a:xfrm>
        </p:grpSpPr>
        <p:sp>
          <p:nvSpPr>
            <p:cNvPr id="152" name="AutoShape 1045"/>
            <p:cNvSpPr/>
            <p:nvPr/>
          </p:nvSpPr>
          <p:spPr>
            <a:xfrm rot="5400000">
              <a:off x="3237840" y="3755880"/>
              <a:ext cx="1371600" cy="160020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46"/>
            <p:cNvSpPr/>
            <p:nvPr/>
          </p:nvSpPr>
          <p:spPr>
            <a:xfrm>
              <a:off x="375120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7a8f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47"/>
            <p:cNvSpPr/>
            <p:nvPr/>
          </p:nvSpPr>
          <p:spPr>
            <a:xfrm>
              <a:off x="3530520" y="409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7a8f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48"/>
            <p:cNvSpPr/>
            <p:nvPr/>
          </p:nvSpPr>
          <p:spPr>
            <a:xfrm>
              <a:off x="3473280" y="463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7a8f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49"/>
            <p:cNvSpPr/>
            <p:nvPr/>
          </p:nvSpPr>
          <p:spPr>
            <a:xfrm>
              <a:off x="4030920" y="458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7a8f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50"/>
            <p:cNvSpPr/>
            <p:nvPr/>
          </p:nvSpPr>
          <p:spPr>
            <a:xfrm>
              <a:off x="380844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7a8f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51"/>
            <p:cNvSpPr/>
            <p:nvPr/>
          </p:nvSpPr>
          <p:spPr>
            <a:xfrm>
              <a:off x="3751200" y="4379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7a8f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840040" y="5413320"/>
            <a:ext cx="21956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4"/>
          <p:cNvGrpSpPr/>
          <p:nvPr/>
        </p:nvGrpSpPr>
        <p:grpSpPr>
          <a:xfrm>
            <a:off x="533520" y="1924200"/>
            <a:ext cx="3657600" cy="3257280"/>
            <a:chOff x="533520" y="1924200"/>
            <a:chExt cx="3657600" cy="3257280"/>
          </a:xfrm>
        </p:grpSpPr>
        <p:sp>
          <p:nvSpPr>
            <p:cNvPr id="162" name="Oval 10"/>
            <p:cNvSpPr/>
            <p:nvPr/>
          </p:nvSpPr>
          <p:spPr>
            <a:xfrm>
              <a:off x="1143000" y="1924200"/>
              <a:ext cx="2438280" cy="1143000"/>
            </a:xfrm>
            <a:prstGeom prst="ellipse">
              <a:avLst/>
            </a:prstGeom>
            <a:solidFill>
              <a:srgbClr val="d7d8e7"/>
            </a:soli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tivity Meas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533520" y="3695760"/>
              <a:ext cx="3657600" cy="148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 allocation bas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 an activity-based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sting system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How Costs are Treated Under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–Based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165" name="AutoShape 17"/>
          <p:cNvCxnSpPr>
            <a:stCxn id="162" idx="4"/>
            <a:endCxn id="163" idx="0"/>
          </p:cNvCxnSpPr>
          <p:nvPr/>
        </p:nvCxnSpPr>
        <p:spPr>
          <a:xfrm>
            <a:off x="2361960" y="3067200"/>
            <a:ext cx="1080" cy="629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6" name="Group 25"/>
          <p:cNvGrpSpPr/>
          <p:nvPr/>
        </p:nvGrpSpPr>
        <p:grpSpPr>
          <a:xfrm>
            <a:off x="3580560" y="1752480"/>
            <a:ext cx="5211000" cy="1486080"/>
            <a:chOff x="3580560" y="1752480"/>
            <a:chExt cx="5211000" cy="1486080"/>
          </a:xfrm>
        </p:grpSpPr>
        <p:sp>
          <p:nvSpPr>
            <p:cNvPr id="167" name="Rectangle 16"/>
            <p:cNvSpPr/>
            <p:nvPr/>
          </p:nvSpPr>
          <p:spPr>
            <a:xfrm>
              <a:off x="5057640" y="1752480"/>
              <a:ext cx="3733920" cy="148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term cost driver is also used to refer to an activity measu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3"/>
            <p:cNvCxnSpPr>
              <a:stCxn id="167" idx="1"/>
              <a:endCxn id="162" idx="6"/>
            </p:cNvCxnSpPr>
            <p:nvPr/>
          </p:nvCxnSpPr>
          <p:spPr>
            <a:xfrm flipH="1">
              <a:off x="3580560" y="2495160"/>
              <a:ext cx="1477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69" name="Picture 1" descr=""/>
          <p:cNvPicPr/>
          <p:nvPr/>
        </p:nvPicPr>
        <p:blipFill>
          <a:blip r:embed="rId1"/>
          <a:srcRect l="8334" t="0" r="0" b="0"/>
          <a:stretch/>
        </p:blipFill>
        <p:spPr>
          <a:xfrm>
            <a:off x="6019920" y="3962520"/>
            <a:ext cx="251460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9:19:18Z</dcterms:modified>
  <cp:revision>173</cp:revision>
  <dc:subject/>
  <dc:title>Chapter Title</dc:title>
</cp:coreProperties>
</file>