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jpeg" ContentType="image/jpeg"/>
  <Override PartName="/ppt/media/image4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7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9"/>
          <p:cNvSpPr/>
          <p:nvPr/>
        </p:nvSpPr>
        <p:spPr>
          <a:xfrm>
            <a:off x="7772400" y="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-</a:t>
            </a:r>
            <a:fld id="{69DA8291-76D6-4326-AD1D-A7B9D813EC9C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57200" y="530532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PowerPoint Auth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Susan Coomer Galbreath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harles W. Caldwell, D.B.A., 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Jon A. Booker, Ph.D.,</a:t>
            </a:r>
            <a:r>
              <a:rPr b="0" lang="en-US" sz="1600" spc="-1" strike="noStrike">
                <a:solidFill>
                  <a:srgbClr val="78310b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PA, 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ynthia J. Rooney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474120" y="6611760"/>
            <a:ext cx="81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540a"/>
                </a:solidFill>
                <a:latin typeface="Times New Roman"/>
              </a:rPr>
              <a:t>Copyright © 2015 McGraw-Hill Education. All rights reserved. No reproduction or distribution without the prior written consent of McGraw-Hill Edu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O Method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endix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Equivalent Units: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Weighted-Average vs. FIFO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158" name="Object 2"/>
          <p:cNvGraphicFramePr/>
          <p:nvPr/>
        </p:nvGraphicFramePr>
        <p:xfrm>
          <a:off x="108000" y="3344760"/>
          <a:ext cx="8924760" cy="245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3344760"/>
                    <a:ext cx="8924760" cy="2454480"/>
                  </a:xfrm>
                  <a:prstGeom prst="rect">
                    <a:avLst/>
                  </a:prstGeom>
                  <a:ln w="76320">
                    <a:solidFill>
                      <a:srgbClr val="99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0" name="Text Box 4"/>
          <p:cNvSpPr/>
          <p:nvPr/>
        </p:nvSpPr>
        <p:spPr>
          <a:xfrm>
            <a:off x="179280" y="1600200"/>
            <a:ext cx="8763120" cy="1557000"/>
          </a:xfrm>
          <a:prstGeom prst="rect">
            <a:avLst/>
          </a:prstGeom>
          <a:solidFill>
            <a:srgbClr val="6d1014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shown below, the equivalent units in beginning inventory are subtracted from the equivalent units of production per the weighted-average method to obtain the equivalent units of production under the FIFO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7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905120" y="2320920"/>
            <a:ext cx="5333760" cy="164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Compute the cost per equivalent unit using the FIFO metho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1257480" y="2209680"/>
            <a:ext cx="6629400" cy="434340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ginning work in process:                     400 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Materials:     40% complete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    $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6,1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Conversion: 20% complete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    $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3,9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ction started during Ju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,000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ction completed during Ju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,400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s added to production in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Materials cost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$  118,6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Conversion cost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$    81,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ding work in proc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900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erial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60%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s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30%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ost per Equivalent Unit - FIFO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80880" y="132408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’s revisit the Smith Company Assembly Department for the month of June to prepare our production repor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ost per Equivalent Unit - FIFO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28600" y="13399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rmula for computing the cost per equivalent unit  under FIFO metho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Group 15" descr=""/>
          <p:cNvPicPr/>
          <p:nvPr/>
        </p:nvPicPr>
        <p:blipFill>
          <a:blip r:embed="rId1"/>
          <a:stretch/>
        </p:blipFill>
        <p:spPr>
          <a:xfrm>
            <a:off x="208080" y="2408400"/>
            <a:ext cx="8802720" cy="1828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G:\FILES\PFILES\MSOFFICE\MEDIA\CNTCD1\ClipArt1\j0174133.wmf"/>
          <p:cNvPicPr/>
          <p:nvPr/>
        </p:nvPicPr>
        <p:blipFill>
          <a:blip r:embed="rId2"/>
          <a:stretch/>
        </p:blipFill>
        <p:spPr>
          <a:xfrm>
            <a:off x="3809880" y="4419720"/>
            <a:ext cx="1822680" cy="180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ost per Equivalent Unit - FIFO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171" name="Object 2"/>
          <p:cNvGraphicFramePr/>
          <p:nvPr/>
        </p:nvGraphicFramePr>
        <p:xfrm>
          <a:off x="311040" y="1600200"/>
          <a:ext cx="8542440" cy="272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600200"/>
                    <a:ext cx="8542440" cy="2722680"/>
                  </a:xfrm>
                  <a:prstGeom prst="rect">
                    <a:avLst/>
                  </a:prstGeom>
                  <a:ln w="76320">
                    <a:solidFill>
                      <a:srgbClr val="00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TextBox 5"/>
          <p:cNvSpPr/>
          <p:nvPr/>
        </p:nvSpPr>
        <p:spPr>
          <a:xfrm>
            <a:off x="457200" y="5284800"/>
            <a:ext cx="8229600" cy="429120"/>
          </a:xfrm>
          <a:prstGeom prst="rect">
            <a:avLst/>
          </a:prstGeom>
          <a:solidFill>
            <a:srgbClr val="6d1014"/>
          </a:solidFill>
          <a:ln w="9360">
            <a:solidFill>
              <a:srgbClr val="227a8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tal cost per equivalent unit = $20.3816 + $14.4617 =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$34.843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2"/>
          <p:cNvGrpSpPr/>
          <p:nvPr/>
        </p:nvGrpSpPr>
        <p:grpSpPr>
          <a:xfrm>
            <a:off x="3284640" y="3804840"/>
            <a:ext cx="3048120" cy="1217520"/>
            <a:chOff x="3284640" y="3804840"/>
            <a:chExt cx="3048120" cy="1217520"/>
          </a:xfrm>
        </p:grpSpPr>
        <p:sp>
          <p:nvSpPr>
            <p:cNvPr id="175" name="TextBox 6"/>
            <p:cNvSpPr/>
            <p:nvPr/>
          </p:nvSpPr>
          <p:spPr>
            <a:xfrm>
              <a:off x="3284640" y="4562640"/>
              <a:ext cx="2735280" cy="459720"/>
            </a:xfrm>
            <a:prstGeom prst="rect">
              <a:avLst/>
            </a:prstGeom>
            <a:solidFill>
              <a:srgbClr val="7da0d0"/>
            </a:solidFill>
            <a:ln w="9360">
              <a:solidFill>
                <a:srgbClr val="1d314e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118,621 ÷ 5,8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Straight Arrow Connector 9"/>
            <p:cNvCxnSpPr>
              <a:stCxn id="175" idx="0"/>
            </p:cNvCxnSpPr>
            <p:nvPr/>
          </p:nvCxnSpPr>
          <p:spPr>
            <a:xfrm flipV="1">
              <a:off x="4651200" y="3804840"/>
              <a:ext cx="1681920" cy="7581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77" name="Group 13"/>
          <p:cNvGrpSpPr/>
          <p:nvPr/>
        </p:nvGrpSpPr>
        <p:grpSpPr>
          <a:xfrm>
            <a:off x="6345720" y="3804480"/>
            <a:ext cx="2381400" cy="1222560"/>
            <a:chOff x="6345720" y="3804480"/>
            <a:chExt cx="2381400" cy="1222560"/>
          </a:xfrm>
        </p:grpSpPr>
        <p:sp>
          <p:nvSpPr>
            <p:cNvPr id="178" name="TextBox 7"/>
            <p:cNvSpPr/>
            <p:nvPr/>
          </p:nvSpPr>
          <p:spPr>
            <a:xfrm>
              <a:off x="6345720" y="4567320"/>
              <a:ext cx="2381400" cy="459720"/>
            </a:xfrm>
            <a:prstGeom prst="rect">
              <a:avLst/>
            </a:prstGeom>
            <a:solidFill>
              <a:srgbClr val="7da0d0"/>
            </a:solidFill>
            <a:ln w="9360">
              <a:solidFill>
                <a:srgbClr val="1d314e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81,130 ÷ 5,6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9" name="Straight Arrow Connector 11"/>
            <p:cNvCxnSpPr>
              <a:stCxn id="178" idx="0"/>
            </p:cNvCxnSpPr>
            <p:nvPr/>
          </p:nvCxnSpPr>
          <p:spPr>
            <a:xfrm flipV="1">
              <a:off x="7536960" y="3804480"/>
              <a:ext cx="602280" cy="7628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8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905120" y="2320920"/>
            <a:ext cx="5333760" cy="112932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Assign costs to units using the FIFO metho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10"/>
          <p:cNvGraphicFramePr/>
          <p:nvPr/>
        </p:nvGraphicFramePr>
        <p:xfrm>
          <a:off x="228600" y="2362320"/>
          <a:ext cx="878364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62320"/>
                    <a:ext cx="878364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pplying Costs - FIFO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0" y="1327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cord the equivalent units of production in 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end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cess Inven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1"/>
          <p:cNvGrpSpPr/>
          <p:nvPr/>
        </p:nvGrpSpPr>
        <p:grpSpPr>
          <a:xfrm>
            <a:off x="3200400" y="3809160"/>
            <a:ext cx="4495680" cy="914040"/>
            <a:chOff x="3200400" y="3809160"/>
            <a:chExt cx="4495680" cy="914040"/>
          </a:xfrm>
        </p:grpSpPr>
        <p:sp>
          <p:nvSpPr>
            <p:cNvPr id="187" name="TextBox 5"/>
            <p:cNvSpPr/>
            <p:nvPr/>
          </p:nvSpPr>
          <p:spPr>
            <a:xfrm>
              <a:off x="3200400" y="4324320"/>
              <a:ext cx="2206440" cy="398880"/>
            </a:xfrm>
            <a:prstGeom prst="rect">
              <a:avLst/>
            </a:prstGeom>
            <a:solidFill>
              <a:srgbClr val="35385a"/>
            </a:solidFill>
            <a:ln w="9360">
              <a:solidFill>
                <a:srgbClr val="23263c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900 units × 6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6"/>
            <p:cNvSpPr/>
            <p:nvPr/>
          </p:nvSpPr>
          <p:spPr>
            <a:xfrm>
              <a:off x="5489640" y="4324320"/>
              <a:ext cx="2206440" cy="398880"/>
            </a:xfrm>
            <a:prstGeom prst="rect">
              <a:avLst/>
            </a:prstGeom>
            <a:solidFill>
              <a:srgbClr val="35385a"/>
            </a:solidFill>
            <a:ln w="9360">
              <a:solidFill>
                <a:srgbClr val="23263c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900 units × 3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9" name="Straight Arrow Connector 8"/>
            <p:cNvCxnSpPr>
              <a:stCxn id="187" idx="0"/>
            </p:cNvCxnSpPr>
            <p:nvPr/>
          </p:nvCxnSpPr>
          <p:spPr>
            <a:xfrm flipV="1">
              <a:off x="4303080" y="3809160"/>
              <a:ext cx="1183320" cy="5151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0" name="Straight Arrow Connector 10"/>
            <p:cNvCxnSpPr>
              <a:stCxn id="188" idx="0"/>
            </p:cNvCxnSpPr>
            <p:nvPr/>
          </p:nvCxnSpPr>
          <p:spPr>
            <a:xfrm flipV="1">
              <a:off x="6592680" y="3809160"/>
              <a:ext cx="494280" cy="5151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pplying Costs - FIFO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0" y="1523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cord the cost per equivalent u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5"/>
          <p:cNvGraphicFramePr/>
          <p:nvPr/>
        </p:nvGraphicFramePr>
        <p:xfrm>
          <a:off x="228600" y="2362320"/>
          <a:ext cx="878364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62320"/>
                    <a:ext cx="878364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10"/>
          <p:cNvGraphicFramePr/>
          <p:nvPr/>
        </p:nvGraphicFramePr>
        <p:xfrm>
          <a:off x="228600" y="2362320"/>
          <a:ext cx="878364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62320"/>
                    <a:ext cx="878364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pplying Costs - FIFO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0" y="1523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mpute the cost of ending Work in Process Inven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5"/>
          <p:cNvGrpSpPr/>
          <p:nvPr/>
        </p:nvGrpSpPr>
        <p:grpSpPr>
          <a:xfrm>
            <a:off x="2971800" y="4419000"/>
            <a:ext cx="4343400" cy="914040"/>
            <a:chOff x="2971800" y="4419000"/>
            <a:chExt cx="4343400" cy="914040"/>
          </a:xfrm>
        </p:grpSpPr>
        <p:sp>
          <p:nvSpPr>
            <p:cNvPr id="200" name="TextBox 6"/>
            <p:cNvSpPr/>
            <p:nvPr/>
          </p:nvSpPr>
          <p:spPr>
            <a:xfrm>
              <a:off x="2971800" y="4934160"/>
              <a:ext cx="2171880" cy="398880"/>
            </a:xfrm>
            <a:prstGeom prst="rect">
              <a:avLst/>
            </a:prstGeom>
            <a:solidFill>
              <a:srgbClr val="35385a"/>
            </a:solidFill>
            <a:ln w="9360">
              <a:solidFill>
                <a:srgbClr val="23263c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40 × $20.38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7"/>
            <p:cNvSpPr/>
            <p:nvPr/>
          </p:nvSpPr>
          <p:spPr>
            <a:xfrm>
              <a:off x="5224320" y="4934160"/>
              <a:ext cx="2090880" cy="398880"/>
            </a:xfrm>
            <a:prstGeom prst="rect">
              <a:avLst/>
            </a:prstGeom>
            <a:solidFill>
              <a:srgbClr val="35385a"/>
            </a:solidFill>
            <a:ln w="9360">
              <a:solidFill>
                <a:srgbClr val="23263c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70 × 14.46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Straight Arrow Connector 8"/>
            <p:cNvCxnSpPr>
              <a:stCxn id="200" idx="0"/>
            </p:cNvCxnSpPr>
            <p:nvPr/>
          </p:nvCxnSpPr>
          <p:spPr>
            <a:xfrm flipV="1">
              <a:off x="4057560" y="4419000"/>
              <a:ext cx="1200960" cy="5151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03" name="Straight Arrow Connector 9"/>
            <p:cNvCxnSpPr>
              <a:stCxn id="201" idx="0"/>
            </p:cNvCxnSpPr>
            <p:nvPr/>
          </p:nvCxnSpPr>
          <p:spPr>
            <a:xfrm flipV="1">
              <a:off x="6267960" y="4476240"/>
              <a:ext cx="564120" cy="4579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ost of Units Transferred Ou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1327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cord the cost in 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begin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cess Inven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5"/>
          <p:cNvGraphicFramePr/>
          <p:nvPr/>
        </p:nvGraphicFramePr>
        <p:xfrm>
          <a:off x="46080" y="2154240"/>
          <a:ext cx="905184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2154240"/>
                    <a:ext cx="905184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FIFO vs. Weighted-Average Method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30120" y="18162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FO method (generally considered more accurate than the weighted-average method) differs from the weighted-average method in two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143000" y="3505320"/>
            <a:ext cx="7086600" cy="1595880"/>
          </a:xfrm>
          <a:prstGeom prst="rect">
            <a:avLst/>
          </a:prstGeom>
          <a:solidFill>
            <a:srgbClr val="595959"/>
          </a:solidFill>
          <a:ln w="57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utation of equivalent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ay in which the costs of beginning inventory are t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ost of Units Transferred Ou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0" y="1227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mpute the 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cost to comple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s in begin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cess Inven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5"/>
          <p:cNvGraphicFramePr/>
          <p:nvPr/>
        </p:nvGraphicFramePr>
        <p:xfrm>
          <a:off x="46080" y="2154240"/>
          <a:ext cx="905184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2154240"/>
                    <a:ext cx="905184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ost of Units Transferred Ou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0" y="1227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mpute the cost of units 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started and comple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080" y="2154240"/>
          <a:ext cx="905184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2154240"/>
                    <a:ext cx="905184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ost of Units Transferred Ou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0" y="1327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Step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mpute the total cost of 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units transferred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5"/>
          <p:cNvGraphicFramePr/>
          <p:nvPr/>
        </p:nvGraphicFramePr>
        <p:xfrm>
          <a:off x="46080" y="2147760"/>
          <a:ext cx="9051840" cy="41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2147760"/>
                    <a:ext cx="9051840" cy="41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9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828800" y="1981080"/>
            <a:ext cx="533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e a cost reconciliation report using the FIFO method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905120" y="2320920"/>
            <a:ext cx="5333760" cy="164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Prepare a cost reconciliation report using the FIFO metho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Reconciling Cos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31680" y="1874880"/>
          <a:ext cx="9078840" cy="39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80" y="1874880"/>
                    <a:ext cx="907884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Reconciling Cos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6080" y="1874880"/>
          <a:ext cx="9077400" cy="39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1874880"/>
                    <a:ext cx="907740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29" name="Elbow Connector 6"/>
          <p:cNvCxnSpPr/>
          <p:nvPr/>
        </p:nvCxnSpPr>
        <p:spPr>
          <a:xfrm>
            <a:off x="8748720" y="3725640"/>
            <a:ext cx="15120" cy="1608840"/>
          </a:xfrm>
          <a:prstGeom prst="bentConnector3">
            <a:avLst>
              <a:gd name="adj1" fmla="val 2282926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0" name="TextBox 4"/>
          <p:cNvSpPr/>
          <p:nvPr/>
        </p:nvSpPr>
        <p:spPr>
          <a:xfrm>
            <a:off x="152280" y="5867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$1 rounding err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 Comparison of Costing Method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52600" y="1371600"/>
            <a:ext cx="8191440" cy="1556280"/>
          </a:xfrm>
          <a:prstGeom prst="rect">
            <a:avLst/>
          </a:prstGeom>
          <a:solidFill>
            <a:srgbClr val="ffffd5"/>
          </a:solidFill>
          <a:ln w="9360">
            <a:solidFill>
              <a:srgbClr val="2326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In a lean production environment, FIFO and weighted-average methods yield similar </a:t>
            </a: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unit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3520" y="3124080"/>
            <a:ext cx="8229600" cy="2043720"/>
          </a:xfrm>
          <a:prstGeom prst="rect">
            <a:avLst/>
          </a:prstGeom>
          <a:solidFill>
            <a:srgbClr val="35385a"/>
          </a:solidFill>
          <a:ln w="9360">
            <a:solidFill>
              <a:srgbClr val="878bb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considering cost control, FIFO is superior to weighted-average because it does not mix costs of the current period with costs of the prior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7" descr="j0240351"/>
          <p:cNvPicPr/>
          <p:nvPr/>
        </p:nvPicPr>
        <p:blipFill>
          <a:blip r:embed="rId1"/>
          <a:stretch/>
        </p:blipFill>
        <p:spPr>
          <a:xfrm>
            <a:off x="3733920" y="5257800"/>
            <a:ext cx="1942920" cy="1103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nd of Appendix 4A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236" name="Picture 9" descr="C:\Users\DoddandSusan\AppData\Local\Microsoft\Windows\Temporary Internet Files\Content.IE5\0O2E4X0N\MP900442212[1].jpg"/>
          <p:cNvPicPr/>
          <p:nvPr/>
        </p:nvPicPr>
        <p:blipFill>
          <a:blip r:embed="rId1"/>
          <a:stretch/>
        </p:blipFill>
        <p:spPr>
          <a:xfrm>
            <a:off x="2819520" y="16002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6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1905120" y="2320920"/>
            <a:ext cx="5333760" cy="164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Compute the equivalent units of production using the FIFO metho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quivalent Units – FIFO Method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04920" y="129528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revisit the Smith Company example. Here is information concerning the Assembly Department for the month of Ju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2"/>
          <p:cNvGraphicFramePr/>
          <p:nvPr/>
        </p:nvGraphicFramePr>
        <p:xfrm>
          <a:off x="457200" y="2685960"/>
          <a:ext cx="8305920" cy="340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85960"/>
                    <a:ext cx="8305920" cy="3409920"/>
                  </a:xfrm>
                  <a:prstGeom prst="rect">
                    <a:avLst/>
                  </a:prstGeom>
                  <a:ln w="76320">
                    <a:solidFill>
                      <a:srgbClr val="0066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quivalent Units – FIFO Method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2" name="Text Box 1028"/>
          <p:cNvSpPr/>
          <p:nvPr/>
        </p:nvSpPr>
        <p:spPr>
          <a:xfrm>
            <a:off x="76320" y="137160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Step 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 equivalent units needed to </a:t>
            </a: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complete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Work in Process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2"/>
          <p:cNvGraphicFramePr/>
          <p:nvPr/>
        </p:nvGraphicFramePr>
        <p:xfrm>
          <a:off x="182520" y="2665440"/>
          <a:ext cx="8751960" cy="37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665440"/>
                    <a:ext cx="8751960" cy="3787920"/>
                  </a:xfrm>
                  <a:prstGeom prst="rect">
                    <a:avLst/>
                  </a:prstGeom>
                  <a:ln w="76320">
                    <a:solidFill>
                      <a:srgbClr val="99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quivalent Units – FIFO Method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76320" y="137160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Step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 units </a:t>
            </a: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started and comple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2"/>
          <p:cNvGraphicFramePr/>
          <p:nvPr/>
        </p:nvGraphicFramePr>
        <p:xfrm>
          <a:off x="182520" y="2665440"/>
          <a:ext cx="8751960" cy="37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665440"/>
                    <a:ext cx="8751960" cy="3787920"/>
                  </a:xfrm>
                  <a:prstGeom prst="rect">
                    <a:avLst/>
                  </a:prstGeom>
                  <a:ln w="76320">
                    <a:solidFill>
                      <a:srgbClr val="99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quivalent Units – FIFO Method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6320" y="137160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Step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d the equivalent units in ending Work in Process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2"/>
          <p:cNvGraphicFramePr/>
          <p:nvPr/>
        </p:nvGraphicFramePr>
        <p:xfrm>
          <a:off x="182520" y="2665440"/>
          <a:ext cx="8751960" cy="381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665440"/>
                    <a:ext cx="8751960" cy="3813120"/>
                  </a:xfrm>
                  <a:prstGeom prst="rect">
                    <a:avLst/>
                  </a:prstGeom>
                  <a:ln w="76320">
                    <a:solidFill>
                      <a:srgbClr val="99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2"/>
          <p:cNvSpPr/>
          <p:nvPr/>
        </p:nvSpPr>
        <p:spPr>
          <a:xfrm flipV="1">
            <a:off x="1143000" y="408636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33520" y="2720880"/>
            <a:ext cx="8292960" cy="1447920"/>
          </a:xfrm>
          <a:prstGeom prst="rect">
            <a:avLst/>
          </a:prstGeom>
          <a:solidFill>
            <a:srgbClr val="a8bfdf"/>
          </a:solidFill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84120" y="2841480"/>
            <a:ext cx="2664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Beginning</a:t>
            </a:r>
            <a:br>
              <a:rPr sz="2000"/>
            </a:b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Work in Process</a:t>
            </a:r>
            <a:br>
              <a:rPr sz="2000"/>
            </a:b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00 Units</a:t>
            </a:r>
            <a:br>
              <a:rPr sz="2000"/>
            </a:b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40%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2895480" y="2733840"/>
            <a:ext cx="0" cy="143496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6326280" y="2787480"/>
            <a:ext cx="2587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Ending</a:t>
            </a:r>
            <a:br>
              <a:rPr sz="2000"/>
            </a:b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Work in Process</a:t>
            </a:r>
            <a:br>
              <a:rPr sz="2000"/>
            </a:b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900 Units</a:t>
            </a:r>
            <a:br>
              <a:rPr sz="2000"/>
            </a:b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60%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6248520" y="2733840"/>
            <a:ext cx="0" cy="1434960"/>
          </a:xfrm>
          <a:prstGeom prst="line">
            <a:avLst/>
          </a:prstGeom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4268880" y="1515960"/>
            <a:ext cx="296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000 Units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743200" y="3162240"/>
            <a:ext cx="3578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5,100 Units Started</a:t>
            </a:r>
            <a:br>
              <a:rPr sz="2000"/>
            </a:b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nd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0"/>
          <p:cNvSpPr/>
          <p:nvPr/>
        </p:nvSpPr>
        <p:spPr>
          <a:xfrm>
            <a:off x="2895480" y="1987560"/>
            <a:ext cx="5945400" cy="593640"/>
          </a:xfrm>
          <a:custGeom>
            <a:avLst/>
            <a:gdLst/>
            <a:ahLst/>
            <a:rect l="l" t="t" r="r" b="b"/>
            <a:pathLst>
              <a:path w="3745" h="374">
                <a:moveTo>
                  <a:pt x="703" y="126"/>
                </a:moveTo>
                <a:lnTo>
                  <a:pt x="634" y="129"/>
                </a:lnTo>
                <a:lnTo>
                  <a:pt x="565" y="133"/>
                </a:lnTo>
                <a:lnTo>
                  <a:pt x="496" y="139"/>
                </a:lnTo>
                <a:lnTo>
                  <a:pt x="428" y="148"/>
                </a:lnTo>
                <a:lnTo>
                  <a:pt x="364" y="159"/>
                </a:lnTo>
                <a:lnTo>
                  <a:pt x="304" y="173"/>
                </a:lnTo>
                <a:lnTo>
                  <a:pt x="247" y="188"/>
                </a:lnTo>
                <a:lnTo>
                  <a:pt x="197" y="205"/>
                </a:lnTo>
                <a:lnTo>
                  <a:pt x="151" y="224"/>
                </a:lnTo>
                <a:lnTo>
                  <a:pt x="110" y="244"/>
                </a:lnTo>
                <a:lnTo>
                  <a:pt x="75" y="266"/>
                </a:lnTo>
                <a:lnTo>
                  <a:pt x="46" y="288"/>
                </a:lnTo>
                <a:lnTo>
                  <a:pt x="26" y="312"/>
                </a:lnTo>
                <a:lnTo>
                  <a:pt x="9" y="337"/>
                </a:lnTo>
                <a:lnTo>
                  <a:pt x="3" y="361"/>
                </a:lnTo>
                <a:lnTo>
                  <a:pt x="0" y="373"/>
                </a:lnTo>
                <a:lnTo>
                  <a:pt x="4" y="353"/>
                </a:lnTo>
                <a:lnTo>
                  <a:pt x="15" y="333"/>
                </a:lnTo>
                <a:lnTo>
                  <a:pt x="35" y="312"/>
                </a:lnTo>
                <a:lnTo>
                  <a:pt x="58" y="294"/>
                </a:lnTo>
                <a:lnTo>
                  <a:pt x="88" y="275"/>
                </a:lnTo>
                <a:lnTo>
                  <a:pt x="127" y="259"/>
                </a:lnTo>
                <a:lnTo>
                  <a:pt x="168" y="244"/>
                </a:lnTo>
                <a:lnTo>
                  <a:pt x="215" y="232"/>
                </a:lnTo>
                <a:lnTo>
                  <a:pt x="265" y="221"/>
                </a:lnTo>
                <a:lnTo>
                  <a:pt x="321" y="212"/>
                </a:lnTo>
                <a:lnTo>
                  <a:pt x="376" y="206"/>
                </a:lnTo>
                <a:lnTo>
                  <a:pt x="433" y="202"/>
                </a:lnTo>
                <a:lnTo>
                  <a:pt x="491" y="200"/>
                </a:lnTo>
                <a:lnTo>
                  <a:pt x="1448" y="200"/>
                </a:lnTo>
                <a:lnTo>
                  <a:pt x="1503" y="199"/>
                </a:lnTo>
                <a:lnTo>
                  <a:pt x="1556" y="195"/>
                </a:lnTo>
                <a:lnTo>
                  <a:pt x="1607" y="188"/>
                </a:lnTo>
                <a:lnTo>
                  <a:pt x="1656" y="180"/>
                </a:lnTo>
                <a:lnTo>
                  <a:pt x="1702" y="169"/>
                </a:lnTo>
                <a:lnTo>
                  <a:pt x="1743" y="156"/>
                </a:lnTo>
                <a:lnTo>
                  <a:pt x="1780" y="142"/>
                </a:lnTo>
                <a:lnTo>
                  <a:pt x="1811" y="126"/>
                </a:lnTo>
                <a:lnTo>
                  <a:pt x="1835" y="109"/>
                </a:lnTo>
                <a:lnTo>
                  <a:pt x="1852" y="90"/>
                </a:lnTo>
                <a:lnTo>
                  <a:pt x="1863" y="71"/>
                </a:lnTo>
                <a:lnTo>
                  <a:pt x="1870" y="52"/>
                </a:lnTo>
                <a:lnTo>
                  <a:pt x="1874" y="50"/>
                </a:lnTo>
                <a:lnTo>
                  <a:pt x="1874" y="52"/>
                </a:lnTo>
                <a:lnTo>
                  <a:pt x="1879" y="71"/>
                </a:lnTo>
                <a:lnTo>
                  <a:pt x="1890" y="90"/>
                </a:lnTo>
                <a:lnTo>
                  <a:pt x="1908" y="109"/>
                </a:lnTo>
                <a:lnTo>
                  <a:pt x="1933" y="126"/>
                </a:lnTo>
                <a:lnTo>
                  <a:pt x="1964" y="142"/>
                </a:lnTo>
                <a:lnTo>
                  <a:pt x="2000" y="156"/>
                </a:lnTo>
                <a:lnTo>
                  <a:pt x="2041" y="169"/>
                </a:lnTo>
                <a:lnTo>
                  <a:pt x="2087" y="180"/>
                </a:lnTo>
                <a:lnTo>
                  <a:pt x="2135" y="188"/>
                </a:lnTo>
                <a:lnTo>
                  <a:pt x="2186" y="195"/>
                </a:lnTo>
                <a:lnTo>
                  <a:pt x="2240" y="199"/>
                </a:lnTo>
                <a:lnTo>
                  <a:pt x="2296" y="200"/>
                </a:lnTo>
                <a:lnTo>
                  <a:pt x="3252" y="200"/>
                </a:lnTo>
                <a:lnTo>
                  <a:pt x="3308" y="202"/>
                </a:lnTo>
                <a:lnTo>
                  <a:pt x="3368" y="206"/>
                </a:lnTo>
                <a:lnTo>
                  <a:pt x="3424" y="212"/>
                </a:lnTo>
                <a:lnTo>
                  <a:pt x="3478" y="221"/>
                </a:lnTo>
                <a:lnTo>
                  <a:pt x="3527" y="232"/>
                </a:lnTo>
                <a:lnTo>
                  <a:pt x="3574" y="244"/>
                </a:lnTo>
                <a:lnTo>
                  <a:pt x="3616" y="259"/>
                </a:lnTo>
                <a:lnTo>
                  <a:pt x="3654" y="275"/>
                </a:lnTo>
                <a:lnTo>
                  <a:pt x="3684" y="294"/>
                </a:lnTo>
                <a:lnTo>
                  <a:pt x="3708" y="312"/>
                </a:lnTo>
                <a:lnTo>
                  <a:pt x="3727" y="333"/>
                </a:lnTo>
                <a:lnTo>
                  <a:pt x="3739" y="353"/>
                </a:lnTo>
                <a:lnTo>
                  <a:pt x="3744" y="373"/>
                </a:lnTo>
                <a:lnTo>
                  <a:pt x="3741" y="361"/>
                </a:lnTo>
                <a:lnTo>
                  <a:pt x="3733" y="337"/>
                </a:lnTo>
                <a:lnTo>
                  <a:pt x="3719" y="312"/>
                </a:lnTo>
                <a:lnTo>
                  <a:pt x="3696" y="288"/>
                </a:lnTo>
                <a:lnTo>
                  <a:pt x="3668" y="266"/>
                </a:lnTo>
                <a:lnTo>
                  <a:pt x="3631" y="244"/>
                </a:lnTo>
                <a:lnTo>
                  <a:pt x="3591" y="224"/>
                </a:lnTo>
                <a:lnTo>
                  <a:pt x="3546" y="205"/>
                </a:lnTo>
                <a:lnTo>
                  <a:pt x="3495" y="188"/>
                </a:lnTo>
                <a:lnTo>
                  <a:pt x="3439" y="173"/>
                </a:lnTo>
                <a:lnTo>
                  <a:pt x="3380" y="159"/>
                </a:lnTo>
                <a:lnTo>
                  <a:pt x="3315" y="148"/>
                </a:lnTo>
                <a:lnTo>
                  <a:pt x="3248" y="139"/>
                </a:lnTo>
                <a:lnTo>
                  <a:pt x="3179" y="133"/>
                </a:lnTo>
                <a:lnTo>
                  <a:pt x="3111" y="129"/>
                </a:lnTo>
                <a:lnTo>
                  <a:pt x="3039" y="126"/>
                </a:lnTo>
                <a:lnTo>
                  <a:pt x="2225" y="126"/>
                </a:lnTo>
                <a:lnTo>
                  <a:pt x="2174" y="125"/>
                </a:lnTo>
                <a:lnTo>
                  <a:pt x="2125" y="122"/>
                </a:lnTo>
                <a:lnTo>
                  <a:pt x="2082" y="115"/>
                </a:lnTo>
                <a:lnTo>
                  <a:pt x="2036" y="107"/>
                </a:lnTo>
                <a:lnTo>
                  <a:pt x="1998" y="97"/>
                </a:lnTo>
                <a:lnTo>
                  <a:pt x="1961" y="84"/>
                </a:lnTo>
                <a:lnTo>
                  <a:pt x="1933" y="70"/>
                </a:lnTo>
                <a:lnTo>
                  <a:pt x="1908" y="54"/>
                </a:lnTo>
                <a:lnTo>
                  <a:pt x="1890" y="38"/>
                </a:lnTo>
                <a:lnTo>
                  <a:pt x="1879" y="20"/>
                </a:lnTo>
                <a:lnTo>
                  <a:pt x="1874" y="2"/>
                </a:lnTo>
                <a:lnTo>
                  <a:pt x="1874" y="0"/>
                </a:lnTo>
                <a:lnTo>
                  <a:pt x="1868" y="18"/>
                </a:lnTo>
                <a:lnTo>
                  <a:pt x="1857" y="36"/>
                </a:lnTo>
                <a:lnTo>
                  <a:pt x="1839" y="52"/>
                </a:lnTo>
                <a:lnTo>
                  <a:pt x="1817" y="68"/>
                </a:lnTo>
                <a:lnTo>
                  <a:pt x="1786" y="82"/>
                </a:lnTo>
                <a:lnTo>
                  <a:pt x="1751" y="95"/>
                </a:lnTo>
                <a:lnTo>
                  <a:pt x="1714" y="106"/>
                </a:lnTo>
                <a:lnTo>
                  <a:pt x="1668" y="115"/>
                </a:lnTo>
                <a:lnTo>
                  <a:pt x="1624" y="121"/>
                </a:lnTo>
                <a:lnTo>
                  <a:pt x="1576" y="125"/>
                </a:lnTo>
                <a:lnTo>
                  <a:pt x="1528" y="126"/>
                </a:lnTo>
                <a:lnTo>
                  <a:pt x="1522" y="126"/>
                </a:lnTo>
                <a:lnTo>
                  <a:pt x="703" y="126"/>
                </a:lnTo>
              </a:path>
            </a:pathLst>
          </a:custGeom>
          <a:solidFill>
            <a:srgbClr val="ff3300"/>
          </a:solidFill>
          <a:ln cap="rnd" w="12600">
            <a:solidFill>
              <a:srgbClr val="ff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FIFO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533520" y="1438200"/>
            <a:ext cx="2819160" cy="685800"/>
          </a:xfrm>
          <a:prstGeom prst="rect">
            <a:avLst/>
          </a:prstGeom>
          <a:solidFill>
            <a:srgbClr val="35385a"/>
          </a:solidFill>
          <a:ln w="9360">
            <a:solidFill>
              <a:srgbClr val="2326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f"/>
                </a:solidFill>
                <a:latin typeface="Times New Roman"/>
              </a:rPr>
              <a:t>Mate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2289240" y="5019840"/>
            <a:ext cx="350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100 Unit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7543800" y="4216320"/>
            <a:ext cx="0" cy="1346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6248160" y="5553000"/>
            <a:ext cx="1307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2289240" y="5324400"/>
            <a:ext cx="4035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40 Equivalent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6308640" y="5248440"/>
            <a:ext cx="1292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900 ×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2289240" y="5648400"/>
            <a:ext cx="3502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5,820 Equivalent units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of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370240" y="570564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0"/>
          <p:cNvSpPr/>
          <p:nvPr/>
        </p:nvSpPr>
        <p:spPr>
          <a:xfrm>
            <a:off x="379440" y="4105440"/>
            <a:ext cx="5945040" cy="593640"/>
          </a:xfrm>
          <a:custGeom>
            <a:avLst/>
            <a:gdLst/>
            <a:ahLst/>
            <a:rect l="l" t="t" r="r" b="b"/>
            <a:pathLst>
              <a:path w="3745" h="374">
                <a:moveTo>
                  <a:pt x="703" y="247"/>
                </a:moveTo>
                <a:lnTo>
                  <a:pt x="634" y="244"/>
                </a:lnTo>
                <a:lnTo>
                  <a:pt x="565" y="240"/>
                </a:lnTo>
                <a:lnTo>
                  <a:pt x="496" y="234"/>
                </a:lnTo>
                <a:lnTo>
                  <a:pt x="428" y="225"/>
                </a:lnTo>
                <a:lnTo>
                  <a:pt x="364" y="214"/>
                </a:lnTo>
                <a:lnTo>
                  <a:pt x="304" y="200"/>
                </a:lnTo>
                <a:lnTo>
                  <a:pt x="247" y="185"/>
                </a:lnTo>
                <a:lnTo>
                  <a:pt x="197" y="168"/>
                </a:lnTo>
                <a:lnTo>
                  <a:pt x="151" y="149"/>
                </a:lnTo>
                <a:lnTo>
                  <a:pt x="110" y="129"/>
                </a:lnTo>
                <a:lnTo>
                  <a:pt x="75" y="107"/>
                </a:lnTo>
                <a:lnTo>
                  <a:pt x="46" y="85"/>
                </a:lnTo>
                <a:lnTo>
                  <a:pt x="26" y="61"/>
                </a:lnTo>
                <a:lnTo>
                  <a:pt x="9" y="36"/>
                </a:lnTo>
                <a:lnTo>
                  <a:pt x="3" y="12"/>
                </a:lnTo>
                <a:lnTo>
                  <a:pt x="0" y="0"/>
                </a:lnTo>
                <a:lnTo>
                  <a:pt x="4" y="20"/>
                </a:lnTo>
                <a:lnTo>
                  <a:pt x="15" y="40"/>
                </a:lnTo>
                <a:lnTo>
                  <a:pt x="35" y="61"/>
                </a:lnTo>
                <a:lnTo>
                  <a:pt x="58" y="79"/>
                </a:lnTo>
                <a:lnTo>
                  <a:pt x="88" y="98"/>
                </a:lnTo>
                <a:lnTo>
                  <a:pt x="127" y="114"/>
                </a:lnTo>
                <a:lnTo>
                  <a:pt x="168" y="129"/>
                </a:lnTo>
                <a:lnTo>
                  <a:pt x="215" y="141"/>
                </a:lnTo>
                <a:lnTo>
                  <a:pt x="265" y="152"/>
                </a:lnTo>
                <a:lnTo>
                  <a:pt x="321" y="161"/>
                </a:lnTo>
                <a:lnTo>
                  <a:pt x="376" y="167"/>
                </a:lnTo>
                <a:lnTo>
                  <a:pt x="433" y="171"/>
                </a:lnTo>
                <a:lnTo>
                  <a:pt x="491" y="173"/>
                </a:lnTo>
                <a:lnTo>
                  <a:pt x="1448" y="173"/>
                </a:lnTo>
                <a:lnTo>
                  <a:pt x="1503" y="174"/>
                </a:lnTo>
                <a:lnTo>
                  <a:pt x="1556" y="178"/>
                </a:lnTo>
                <a:lnTo>
                  <a:pt x="1607" y="185"/>
                </a:lnTo>
                <a:lnTo>
                  <a:pt x="1656" y="193"/>
                </a:lnTo>
                <a:lnTo>
                  <a:pt x="1702" y="204"/>
                </a:lnTo>
                <a:lnTo>
                  <a:pt x="1743" y="217"/>
                </a:lnTo>
                <a:lnTo>
                  <a:pt x="1780" y="231"/>
                </a:lnTo>
                <a:lnTo>
                  <a:pt x="1811" y="247"/>
                </a:lnTo>
                <a:lnTo>
                  <a:pt x="1835" y="264"/>
                </a:lnTo>
                <a:lnTo>
                  <a:pt x="1852" y="283"/>
                </a:lnTo>
                <a:lnTo>
                  <a:pt x="1863" y="302"/>
                </a:lnTo>
                <a:lnTo>
                  <a:pt x="1870" y="321"/>
                </a:lnTo>
                <a:lnTo>
                  <a:pt x="1874" y="323"/>
                </a:lnTo>
                <a:lnTo>
                  <a:pt x="1874" y="321"/>
                </a:lnTo>
                <a:lnTo>
                  <a:pt x="1879" y="302"/>
                </a:lnTo>
                <a:lnTo>
                  <a:pt x="1890" y="283"/>
                </a:lnTo>
                <a:lnTo>
                  <a:pt x="1908" y="264"/>
                </a:lnTo>
                <a:lnTo>
                  <a:pt x="1933" y="247"/>
                </a:lnTo>
                <a:lnTo>
                  <a:pt x="1964" y="231"/>
                </a:lnTo>
                <a:lnTo>
                  <a:pt x="2000" y="217"/>
                </a:lnTo>
                <a:lnTo>
                  <a:pt x="2041" y="204"/>
                </a:lnTo>
                <a:lnTo>
                  <a:pt x="2087" y="193"/>
                </a:lnTo>
                <a:lnTo>
                  <a:pt x="2135" y="185"/>
                </a:lnTo>
                <a:lnTo>
                  <a:pt x="2186" y="178"/>
                </a:lnTo>
                <a:lnTo>
                  <a:pt x="2240" y="174"/>
                </a:lnTo>
                <a:lnTo>
                  <a:pt x="2296" y="173"/>
                </a:lnTo>
                <a:lnTo>
                  <a:pt x="3252" y="173"/>
                </a:lnTo>
                <a:lnTo>
                  <a:pt x="3308" y="171"/>
                </a:lnTo>
                <a:lnTo>
                  <a:pt x="3368" y="167"/>
                </a:lnTo>
                <a:lnTo>
                  <a:pt x="3424" y="161"/>
                </a:lnTo>
                <a:lnTo>
                  <a:pt x="3478" y="152"/>
                </a:lnTo>
                <a:lnTo>
                  <a:pt x="3527" y="141"/>
                </a:lnTo>
                <a:lnTo>
                  <a:pt x="3574" y="129"/>
                </a:lnTo>
                <a:lnTo>
                  <a:pt x="3616" y="114"/>
                </a:lnTo>
                <a:lnTo>
                  <a:pt x="3654" y="98"/>
                </a:lnTo>
                <a:lnTo>
                  <a:pt x="3684" y="79"/>
                </a:lnTo>
                <a:lnTo>
                  <a:pt x="3708" y="61"/>
                </a:lnTo>
                <a:lnTo>
                  <a:pt x="3727" y="40"/>
                </a:lnTo>
                <a:lnTo>
                  <a:pt x="3739" y="20"/>
                </a:lnTo>
                <a:lnTo>
                  <a:pt x="3744" y="0"/>
                </a:lnTo>
                <a:lnTo>
                  <a:pt x="3741" y="12"/>
                </a:lnTo>
                <a:lnTo>
                  <a:pt x="3733" y="36"/>
                </a:lnTo>
                <a:lnTo>
                  <a:pt x="3719" y="61"/>
                </a:lnTo>
                <a:lnTo>
                  <a:pt x="3696" y="85"/>
                </a:lnTo>
                <a:lnTo>
                  <a:pt x="3668" y="107"/>
                </a:lnTo>
                <a:lnTo>
                  <a:pt x="3631" y="129"/>
                </a:lnTo>
                <a:lnTo>
                  <a:pt x="3591" y="149"/>
                </a:lnTo>
                <a:lnTo>
                  <a:pt x="3546" y="168"/>
                </a:lnTo>
                <a:lnTo>
                  <a:pt x="3495" y="185"/>
                </a:lnTo>
                <a:lnTo>
                  <a:pt x="3439" y="200"/>
                </a:lnTo>
                <a:lnTo>
                  <a:pt x="3380" y="214"/>
                </a:lnTo>
                <a:lnTo>
                  <a:pt x="3315" y="225"/>
                </a:lnTo>
                <a:lnTo>
                  <a:pt x="3248" y="234"/>
                </a:lnTo>
                <a:lnTo>
                  <a:pt x="3179" y="240"/>
                </a:lnTo>
                <a:lnTo>
                  <a:pt x="3111" y="244"/>
                </a:lnTo>
                <a:lnTo>
                  <a:pt x="3039" y="247"/>
                </a:lnTo>
                <a:lnTo>
                  <a:pt x="2225" y="247"/>
                </a:lnTo>
                <a:lnTo>
                  <a:pt x="2174" y="248"/>
                </a:lnTo>
                <a:lnTo>
                  <a:pt x="2125" y="251"/>
                </a:lnTo>
                <a:lnTo>
                  <a:pt x="2082" y="258"/>
                </a:lnTo>
                <a:lnTo>
                  <a:pt x="2036" y="266"/>
                </a:lnTo>
                <a:lnTo>
                  <a:pt x="1998" y="276"/>
                </a:lnTo>
                <a:lnTo>
                  <a:pt x="1961" y="289"/>
                </a:lnTo>
                <a:lnTo>
                  <a:pt x="1933" y="303"/>
                </a:lnTo>
                <a:lnTo>
                  <a:pt x="1908" y="319"/>
                </a:lnTo>
                <a:lnTo>
                  <a:pt x="1890" y="335"/>
                </a:lnTo>
                <a:lnTo>
                  <a:pt x="1879" y="353"/>
                </a:lnTo>
                <a:lnTo>
                  <a:pt x="1874" y="371"/>
                </a:lnTo>
                <a:lnTo>
                  <a:pt x="1874" y="373"/>
                </a:lnTo>
                <a:lnTo>
                  <a:pt x="1868" y="355"/>
                </a:lnTo>
                <a:lnTo>
                  <a:pt x="1857" y="337"/>
                </a:lnTo>
                <a:lnTo>
                  <a:pt x="1839" y="321"/>
                </a:lnTo>
                <a:lnTo>
                  <a:pt x="1817" y="305"/>
                </a:lnTo>
                <a:lnTo>
                  <a:pt x="1786" y="291"/>
                </a:lnTo>
                <a:lnTo>
                  <a:pt x="1751" y="278"/>
                </a:lnTo>
                <a:lnTo>
                  <a:pt x="1714" y="267"/>
                </a:lnTo>
                <a:lnTo>
                  <a:pt x="1668" y="258"/>
                </a:lnTo>
                <a:lnTo>
                  <a:pt x="1624" y="252"/>
                </a:lnTo>
                <a:lnTo>
                  <a:pt x="1576" y="248"/>
                </a:lnTo>
                <a:lnTo>
                  <a:pt x="1528" y="247"/>
                </a:lnTo>
                <a:lnTo>
                  <a:pt x="1522" y="247"/>
                </a:lnTo>
                <a:lnTo>
                  <a:pt x="703" y="247"/>
                </a:lnTo>
              </a:path>
            </a:pathLst>
          </a:custGeom>
          <a:solidFill>
            <a:srgbClr val="ff3300"/>
          </a:solidFill>
          <a:ln cap="rnd" w="12600">
            <a:solidFill>
              <a:srgbClr val="ff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2438280" y="4734000"/>
            <a:ext cx="388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 Equivalent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1146240" y="4683240"/>
            <a:ext cx="129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300 ×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1123920" y="498312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24"/>
          <p:cNvSpPr/>
          <p:nvPr/>
        </p:nvSpPr>
        <p:spPr>
          <a:xfrm flipV="1">
            <a:off x="1143000" y="408636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533520" y="2720880"/>
            <a:ext cx="8292960" cy="1447920"/>
          </a:xfrm>
          <a:prstGeom prst="rect">
            <a:avLst/>
          </a:prstGeom>
          <a:solidFill>
            <a:srgbClr val="6d1014"/>
          </a:solidFill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84120" y="2841480"/>
            <a:ext cx="2664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ginning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 in Proce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0 Uni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%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895480" y="2733840"/>
            <a:ext cx="0" cy="1434960"/>
          </a:xfrm>
          <a:prstGeom prst="line">
            <a:avLst/>
          </a:prstGeom>
          <a:ln w="28440">
            <a:solidFill>
              <a:srgbClr val="ec76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326280" y="2787480"/>
            <a:ext cx="2587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ing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 in Proce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00 Uni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%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6248520" y="2733840"/>
            <a:ext cx="0" cy="1434960"/>
          </a:xfrm>
          <a:prstGeom prst="line">
            <a:avLst/>
          </a:prstGeom>
          <a:ln w="28440">
            <a:solidFill>
              <a:srgbClr val="ec76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268880" y="1515960"/>
            <a:ext cx="296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000 Units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743200" y="3162240"/>
            <a:ext cx="3578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,100 Units Started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nd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9"/>
          <p:cNvSpPr/>
          <p:nvPr/>
        </p:nvSpPr>
        <p:spPr>
          <a:xfrm>
            <a:off x="2895480" y="1987560"/>
            <a:ext cx="5945400" cy="593640"/>
          </a:xfrm>
          <a:custGeom>
            <a:avLst/>
            <a:gdLst/>
            <a:ahLst/>
            <a:rect l="l" t="t" r="r" b="b"/>
            <a:pathLst>
              <a:path w="3745" h="374">
                <a:moveTo>
                  <a:pt x="703" y="126"/>
                </a:moveTo>
                <a:lnTo>
                  <a:pt x="634" y="129"/>
                </a:lnTo>
                <a:lnTo>
                  <a:pt x="565" y="133"/>
                </a:lnTo>
                <a:lnTo>
                  <a:pt x="496" y="139"/>
                </a:lnTo>
                <a:lnTo>
                  <a:pt x="428" y="148"/>
                </a:lnTo>
                <a:lnTo>
                  <a:pt x="364" y="159"/>
                </a:lnTo>
                <a:lnTo>
                  <a:pt x="304" y="173"/>
                </a:lnTo>
                <a:lnTo>
                  <a:pt x="247" y="188"/>
                </a:lnTo>
                <a:lnTo>
                  <a:pt x="197" y="205"/>
                </a:lnTo>
                <a:lnTo>
                  <a:pt x="151" y="224"/>
                </a:lnTo>
                <a:lnTo>
                  <a:pt x="110" y="244"/>
                </a:lnTo>
                <a:lnTo>
                  <a:pt x="75" y="266"/>
                </a:lnTo>
                <a:lnTo>
                  <a:pt x="46" y="288"/>
                </a:lnTo>
                <a:lnTo>
                  <a:pt x="26" y="312"/>
                </a:lnTo>
                <a:lnTo>
                  <a:pt x="9" y="337"/>
                </a:lnTo>
                <a:lnTo>
                  <a:pt x="3" y="361"/>
                </a:lnTo>
                <a:lnTo>
                  <a:pt x="0" y="373"/>
                </a:lnTo>
                <a:lnTo>
                  <a:pt x="4" y="353"/>
                </a:lnTo>
                <a:lnTo>
                  <a:pt x="15" y="333"/>
                </a:lnTo>
                <a:lnTo>
                  <a:pt x="35" y="312"/>
                </a:lnTo>
                <a:lnTo>
                  <a:pt x="58" y="294"/>
                </a:lnTo>
                <a:lnTo>
                  <a:pt x="88" y="275"/>
                </a:lnTo>
                <a:lnTo>
                  <a:pt x="127" y="259"/>
                </a:lnTo>
                <a:lnTo>
                  <a:pt x="168" y="244"/>
                </a:lnTo>
                <a:lnTo>
                  <a:pt x="215" y="232"/>
                </a:lnTo>
                <a:lnTo>
                  <a:pt x="265" y="221"/>
                </a:lnTo>
                <a:lnTo>
                  <a:pt x="321" y="212"/>
                </a:lnTo>
                <a:lnTo>
                  <a:pt x="376" y="206"/>
                </a:lnTo>
                <a:lnTo>
                  <a:pt x="433" y="202"/>
                </a:lnTo>
                <a:lnTo>
                  <a:pt x="491" y="200"/>
                </a:lnTo>
                <a:lnTo>
                  <a:pt x="1448" y="200"/>
                </a:lnTo>
                <a:lnTo>
                  <a:pt x="1503" y="199"/>
                </a:lnTo>
                <a:lnTo>
                  <a:pt x="1556" y="195"/>
                </a:lnTo>
                <a:lnTo>
                  <a:pt x="1607" y="188"/>
                </a:lnTo>
                <a:lnTo>
                  <a:pt x="1656" y="180"/>
                </a:lnTo>
                <a:lnTo>
                  <a:pt x="1702" y="169"/>
                </a:lnTo>
                <a:lnTo>
                  <a:pt x="1743" y="156"/>
                </a:lnTo>
                <a:lnTo>
                  <a:pt x="1780" y="142"/>
                </a:lnTo>
                <a:lnTo>
                  <a:pt x="1811" y="126"/>
                </a:lnTo>
                <a:lnTo>
                  <a:pt x="1835" y="109"/>
                </a:lnTo>
                <a:lnTo>
                  <a:pt x="1852" y="90"/>
                </a:lnTo>
                <a:lnTo>
                  <a:pt x="1863" y="71"/>
                </a:lnTo>
                <a:lnTo>
                  <a:pt x="1870" y="52"/>
                </a:lnTo>
                <a:lnTo>
                  <a:pt x="1874" y="50"/>
                </a:lnTo>
                <a:lnTo>
                  <a:pt x="1874" y="52"/>
                </a:lnTo>
                <a:lnTo>
                  <a:pt x="1879" y="71"/>
                </a:lnTo>
                <a:lnTo>
                  <a:pt x="1890" y="90"/>
                </a:lnTo>
                <a:lnTo>
                  <a:pt x="1908" y="109"/>
                </a:lnTo>
                <a:lnTo>
                  <a:pt x="1933" y="126"/>
                </a:lnTo>
                <a:lnTo>
                  <a:pt x="1964" y="142"/>
                </a:lnTo>
                <a:lnTo>
                  <a:pt x="2000" y="156"/>
                </a:lnTo>
                <a:lnTo>
                  <a:pt x="2041" y="169"/>
                </a:lnTo>
                <a:lnTo>
                  <a:pt x="2087" y="180"/>
                </a:lnTo>
                <a:lnTo>
                  <a:pt x="2135" y="188"/>
                </a:lnTo>
                <a:lnTo>
                  <a:pt x="2186" y="195"/>
                </a:lnTo>
                <a:lnTo>
                  <a:pt x="2240" y="199"/>
                </a:lnTo>
                <a:lnTo>
                  <a:pt x="2296" y="200"/>
                </a:lnTo>
                <a:lnTo>
                  <a:pt x="3252" y="200"/>
                </a:lnTo>
                <a:lnTo>
                  <a:pt x="3308" y="202"/>
                </a:lnTo>
                <a:lnTo>
                  <a:pt x="3368" y="206"/>
                </a:lnTo>
                <a:lnTo>
                  <a:pt x="3424" y="212"/>
                </a:lnTo>
                <a:lnTo>
                  <a:pt x="3478" y="221"/>
                </a:lnTo>
                <a:lnTo>
                  <a:pt x="3527" y="232"/>
                </a:lnTo>
                <a:lnTo>
                  <a:pt x="3574" y="244"/>
                </a:lnTo>
                <a:lnTo>
                  <a:pt x="3616" y="259"/>
                </a:lnTo>
                <a:lnTo>
                  <a:pt x="3654" y="275"/>
                </a:lnTo>
                <a:lnTo>
                  <a:pt x="3684" y="294"/>
                </a:lnTo>
                <a:lnTo>
                  <a:pt x="3708" y="312"/>
                </a:lnTo>
                <a:lnTo>
                  <a:pt x="3727" y="333"/>
                </a:lnTo>
                <a:lnTo>
                  <a:pt x="3739" y="353"/>
                </a:lnTo>
                <a:lnTo>
                  <a:pt x="3744" y="373"/>
                </a:lnTo>
                <a:lnTo>
                  <a:pt x="3741" y="361"/>
                </a:lnTo>
                <a:lnTo>
                  <a:pt x="3733" y="337"/>
                </a:lnTo>
                <a:lnTo>
                  <a:pt x="3719" y="312"/>
                </a:lnTo>
                <a:lnTo>
                  <a:pt x="3696" y="288"/>
                </a:lnTo>
                <a:lnTo>
                  <a:pt x="3668" y="266"/>
                </a:lnTo>
                <a:lnTo>
                  <a:pt x="3631" y="244"/>
                </a:lnTo>
                <a:lnTo>
                  <a:pt x="3591" y="224"/>
                </a:lnTo>
                <a:lnTo>
                  <a:pt x="3546" y="205"/>
                </a:lnTo>
                <a:lnTo>
                  <a:pt x="3495" y="188"/>
                </a:lnTo>
                <a:lnTo>
                  <a:pt x="3439" y="173"/>
                </a:lnTo>
                <a:lnTo>
                  <a:pt x="3380" y="159"/>
                </a:lnTo>
                <a:lnTo>
                  <a:pt x="3315" y="148"/>
                </a:lnTo>
                <a:lnTo>
                  <a:pt x="3248" y="139"/>
                </a:lnTo>
                <a:lnTo>
                  <a:pt x="3179" y="133"/>
                </a:lnTo>
                <a:lnTo>
                  <a:pt x="3111" y="129"/>
                </a:lnTo>
                <a:lnTo>
                  <a:pt x="3039" y="126"/>
                </a:lnTo>
                <a:lnTo>
                  <a:pt x="2225" y="126"/>
                </a:lnTo>
                <a:lnTo>
                  <a:pt x="2174" y="125"/>
                </a:lnTo>
                <a:lnTo>
                  <a:pt x="2125" y="122"/>
                </a:lnTo>
                <a:lnTo>
                  <a:pt x="2082" y="115"/>
                </a:lnTo>
                <a:lnTo>
                  <a:pt x="2036" y="107"/>
                </a:lnTo>
                <a:lnTo>
                  <a:pt x="1998" y="97"/>
                </a:lnTo>
                <a:lnTo>
                  <a:pt x="1961" y="84"/>
                </a:lnTo>
                <a:lnTo>
                  <a:pt x="1933" y="70"/>
                </a:lnTo>
                <a:lnTo>
                  <a:pt x="1908" y="54"/>
                </a:lnTo>
                <a:lnTo>
                  <a:pt x="1890" y="38"/>
                </a:lnTo>
                <a:lnTo>
                  <a:pt x="1879" y="20"/>
                </a:lnTo>
                <a:lnTo>
                  <a:pt x="1874" y="2"/>
                </a:lnTo>
                <a:lnTo>
                  <a:pt x="1874" y="0"/>
                </a:lnTo>
                <a:lnTo>
                  <a:pt x="1868" y="18"/>
                </a:lnTo>
                <a:lnTo>
                  <a:pt x="1857" y="36"/>
                </a:lnTo>
                <a:lnTo>
                  <a:pt x="1839" y="52"/>
                </a:lnTo>
                <a:lnTo>
                  <a:pt x="1817" y="68"/>
                </a:lnTo>
                <a:lnTo>
                  <a:pt x="1786" y="82"/>
                </a:lnTo>
                <a:lnTo>
                  <a:pt x="1751" y="95"/>
                </a:lnTo>
                <a:lnTo>
                  <a:pt x="1714" y="106"/>
                </a:lnTo>
                <a:lnTo>
                  <a:pt x="1668" y="115"/>
                </a:lnTo>
                <a:lnTo>
                  <a:pt x="1624" y="121"/>
                </a:lnTo>
                <a:lnTo>
                  <a:pt x="1576" y="125"/>
                </a:lnTo>
                <a:lnTo>
                  <a:pt x="1528" y="126"/>
                </a:lnTo>
                <a:lnTo>
                  <a:pt x="1522" y="126"/>
                </a:lnTo>
                <a:lnTo>
                  <a:pt x="703" y="126"/>
                </a:lnTo>
              </a:path>
            </a:pathLst>
          </a:custGeom>
          <a:solidFill>
            <a:srgbClr val="ff3300"/>
          </a:solidFill>
          <a:ln cap="rnd" w="12600">
            <a:solidFill>
              <a:srgbClr val="ff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FIFO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533520" y="1438200"/>
            <a:ext cx="2819160" cy="685800"/>
          </a:xfrm>
          <a:prstGeom prst="rect">
            <a:avLst/>
          </a:prstGeom>
          <a:solidFill>
            <a:srgbClr val="7da0d0"/>
          </a:solidFill>
          <a:ln w="9360">
            <a:solidFill>
              <a:srgbClr val="1d314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3263c"/>
                </a:solidFill>
                <a:latin typeface="Times New Roman"/>
              </a:rPr>
              <a:t>Conv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2271600" y="5019840"/>
            <a:ext cx="350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100 Unit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7543800" y="4194000"/>
            <a:ext cx="0" cy="1346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 flipH="1">
            <a:off x="6248160" y="5553000"/>
            <a:ext cx="1307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2289240" y="5324400"/>
            <a:ext cx="388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0 Equivalent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6308640" y="5248440"/>
            <a:ext cx="1292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900 ×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2289240" y="5648400"/>
            <a:ext cx="3502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5,610 Equivalent units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of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8"/>
          <p:cNvSpPr/>
          <p:nvPr/>
        </p:nvSpPr>
        <p:spPr>
          <a:xfrm>
            <a:off x="2370240" y="570564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9"/>
          <p:cNvSpPr/>
          <p:nvPr/>
        </p:nvSpPr>
        <p:spPr>
          <a:xfrm>
            <a:off x="379440" y="4105440"/>
            <a:ext cx="5945040" cy="593640"/>
          </a:xfrm>
          <a:custGeom>
            <a:avLst/>
            <a:gdLst/>
            <a:ahLst/>
            <a:rect l="l" t="t" r="r" b="b"/>
            <a:pathLst>
              <a:path w="3745" h="374">
                <a:moveTo>
                  <a:pt x="703" y="247"/>
                </a:moveTo>
                <a:lnTo>
                  <a:pt x="634" y="244"/>
                </a:lnTo>
                <a:lnTo>
                  <a:pt x="565" y="240"/>
                </a:lnTo>
                <a:lnTo>
                  <a:pt x="496" y="234"/>
                </a:lnTo>
                <a:lnTo>
                  <a:pt x="428" y="225"/>
                </a:lnTo>
                <a:lnTo>
                  <a:pt x="364" y="214"/>
                </a:lnTo>
                <a:lnTo>
                  <a:pt x="304" y="200"/>
                </a:lnTo>
                <a:lnTo>
                  <a:pt x="247" y="185"/>
                </a:lnTo>
                <a:lnTo>
                  <a:pt x="197" y="168"/>
                </a:lnTo>
                <a:lnTo>
                  <a:pt x="151" y="149"/>
                </a:lnTo>
                <a:lnTo>
                  <a:pt x="110" y="129"/>
                </a:lnTo>
                <a:lnTo>
                  <a:pt x="75" y="107"/>
                </a:lnTo>
                <a:lnTo>
                  <a:pt x="46" y="85"/>
                </a:lnTo>
                <a:lnTo>
                  <a:pt x="26" y="61"/>
                </a:lnTo>
                <a:lnTo>
                  <a:pt x="9" y="36"/>
                </a:lnTo>
                <a:lnTo>
                  <a:pt x="3" y="12"/>
                </a:lnTo>
                <a:lnTo>
                  <a:pt x="0" y="0"/>
                </a:lnTo>
                <a:lnTo>
                  <a:pt x="4" y="20"/>
                </a:lnTo>
                <a:lnTo>
                  <a:pt x="15" y="40"/>
                </a:lnTo>
                <a:lnTo>
                  <a:pt x="35" y="61"/>
                </a:lnTo>
                <a:lnTo>
                  <a:pt x="58" y="79"/>
                </a:lnTo>
                <a:lnTo>
                  <a:pt x="88" y="98"/>
                </a:lnTo>
                <a:lnTo>
                  <a:pt x="127" y="114"/>
                </a:lnTo>
                <a:lnTo>
                  <a:pt x="168" y="129"/>
                </a:lnTo>
                <a:lnTo>
                  <a:pt x="215" y="141"/>
                </a:lnTo>
                <a:lnTo>
                  <a:pt x="265" y="152"/>
                </a:lnTo>
                <a:lnTo>
                  <a:pt x="321" y="161"/>
                </a:lnTo>
                <a:lnTo>
                  <a:pt x="376" y="167"/>
                </a:lnTo>
                <a:lnTo>
                  <a:pt x="433" y="171"/>
                </a:lnTo>
                <a:lnTo>
                  <a:pt x="491" y="173"/>
                </a:lnTo>
                <a:lnTo>
                  <a:pt x="1448" y="173"/>
                </a:lnTo>
                <a:lnTo>
                  <a:pt x="1503" y="174"/>
                </a:lnTo>
                <a:lnTo>
                  <a:pt x="1556" y="178"/>
                </a:lnTo>
                <a:lnTo>
                  <a:pt x="1607" y="185"/>
                </a:lnTo>
                <a:lnTo>
                  <a:pt x="1656" y="193"/>
                </a:lnTo>
                <a:lnTo>
                  <a:pt x="1702" y="204"/>
                </a:lnTo>
                <a:lnTo>
                  <a:pt x="1743" y="217"/>
                </a:lnTo>
                <a:lnTo>
                  <a:pt x="1780" y="231"/>
                </a:lnTo>
                <a:lnTo>
                  <a:pt x="1811" y="247"/>
                </a:lnTo>
                <a:lnTo>
                  <a:pt x="1835" y="264"/>
                </a:lnTo>
                <a:lnTo>
                  <a:pt x="1852" y="283"/>
                </a:lnTo>
                <a:lnTo>
                  <a:pt x="1863" y="302"/>
                </a:lnTo>
                <a:lnTo>
                  <a:pt x="1870" y="321"/>
                </a:lnTo>
                <a:lnTo>
                  <a:pt x="1874" y="323"/>
                </a:lnTo>
                <a:lnTo>
                  <a:pt x="1874" y="321"/>
                </a:lnTo>
                <a:lnTo>
                  <a:pt x="1879" y="302"/>
                </a:lnTo>
                <a:lnTo>
                  <a:pt x="1890" y="283"/>
                </a:lnTo>
                <a:lnTo>
                  <a:pt x="1908" y="264"/>
                </a:lnTo>
                <a:lnTo>
                  <a:pt x="1933" y="247"/>
                </a:lnTo>
                <a:lnTo>
                  <a:pt x="1964" y="231"/>
                </a:lnTo>
                <a:lnTo>
                  <a:pt x="2000" y="217"/>
                </a:lnTo>
                <a:lnTo>
                  <a:pt x="2041" y="204"/>
                </a:lnTo>
                <a:lnTo>
                  <a:pt x="2087" y="193"/>
                </a:lnTo>
                <a:lnTo>
                  <a:pt x="2135" y="185"/>
                </a:lnTo>
                <a:lnTo>
                  <a:pt x="2186" y="178"/>
                </a:lnTo>
                <a:lnTo>
                  <a:pt x="2240" y="174"/>
                </a:lnTo>
                <a:lnTo>
                  <a:pt x="2296" y="173"/>
                </a:lnTo>
                <a:lnTo>
                  <a:pt x="3252" y="173"/>
                </a:lnTo>
                <a:lnTo>
                  <a:pt x="3308" y="171"/>
                </a:lnTo>
                <a:lnTo>
                  <a:pt x="3368" y="167"/>
                </a:lnTo>
                <a:lnTo>
                  <a:pt x="3424" y="161"/>
                </a:lnTo>
                <a:lnTo>
                  <a:pt x="3478" y="152"/>
                </a:lnTo>
                <a:lnTo>
                  <a:pt x="3527" y="141"/>
                </a:lnTo>
                <a:lnTo>
                  <a:pt x="3574" y="129"/>
                </a:lnTo>
                <a:lnTo>
                  <a:pt x="3616" y="114"/>
                </a:lnTo>
                <a:lnTo>
                  <a:pt x="3654" y="98"/>
                </a:lnTo>
                <a:lnTo>
                  <a:pt x="3684" y="79"/>
                </a:lnTo>
                <a:lnTo>
                  <a:pt x="3708" y="61"/>
                </a:lnTo>
                <a:lnTo>
                  <a:pt x="3727" y="40"/>
                </a:lnTo>
                <a:lnTo>
                  <a:pt x="3739" y="20"/>
                </a:lnTo>
                <a:lnTo>
                  <a:pt x="3744" y="0"/>
                </a:lnTo>
                <a:lnTo>
                  <a:pt x="3741" y="12"/>
                </a:lnTo>
                <a:lnTo>
                  <a:pt x="3733" y="36"/>
                </a:lnTo>
                <a:lnTo>
                  <a:pt x="3719" y="61"/>
                </a:lnTo>
                <a:lnTo>
                  <a:pt x="3696" y="85"/>
                </a:lnTo>
                <a:lnTo>
                  <a:pt x="3668" y="107"/>
                </a:lnTo>
                <a:lnTo>
                  <a:pt x="3631" y="129"/>
                </a:lnTo>
                <a:lnTo>
                  <a:pt x="3591" y="149"/>
                </a:lnTo>
                <a:lnTo>
                  <a:pt x="3546" y="168"/>
                </a:lnTo>
                <a:lnTo>
                  <a:pt x="3495" y="185"/>
                </a:lnTo>
                <a:lnTo>
                  <a:pt x="3439" y="200"/>
                </a:lnTo>
                <a:lnTo>
                  <a:pt x="3380" y="214"/>
                </a:lnTo>
                <a:lnTo>
                  <a:pt x="3315" y="225"/>
                </a:lnTo>
                <a:lnTo>
                  <a:pt x="3248" y="234"/>
                </a:lnTo>
                <a:lnTo>
                  <a:pt x="3179" y="240"/>
                </a:lnTo>
                <a:lnTo>
                  <a:pt x="3111" y="244"/>
                </a:lnTo>
                <a:lnTo>
                  <a:pt x="3039" y="247"/>
                </a:lnTo>
                <a:lnTo>
                  <a:pt x="2225" y="247"/>
                </a:lnTo>
                <a:lnTo>
                  <a:pt x="2174" y="248"/>
                </a:lnTo>
                <a:lnTo>
                  <a:pt x="2125" y="251"/>
                </a:lnTo>
                <a:lnTo>
                  <a:pt x="2082" y="258"/>
                </a:lnTo>
                <a:lnTo>
                  <a:pt x="2036" y="266"/>
                </a:lnTo>
                <a:lnTo>
                  <a:pt x="1998" y="276"/>
                </a:lnTo>
                <a:lnTo>
                  <a:pt x="1961" y="289"/>
                </a:lnTo>
                <a:lnTo>
                  <a:pt x="1933" y="303"/>
                </a:lnTo>
                <a:lnTo>
                  <a:pt x="1908" y="319"/>
                </a:lnTo>
                <a:lnTo>
                  <a:pt x="1890" y="335"/>
                </a:lnTo>
                <a:lnTo>
                  <a:pt x="1879" y="353"/>
                </a:lnTo>
                <a:lnTo>
                  <a:pt x="1874" y="371"/>
                </a:lnTo>
                <a:lnTo>
                  <a:pt x="1874" y="373"/>
                </a:lnTo>
                <a:lnTo>
                  <a:pt x="1868" y="355"/>
                </a:lnTo>
                <a:lnTo>
                  <a:pt x="1857" y="337"/>
                </a:lnTo>
                <a:lnTo>
                  <a:pt x="1839" y="321"/>
                </a:lnTo>
                <a:lnTo>
                  <a:pt x="1817" y="305"/>
                </a:lnTo>
                <a:lnTo>
                  <a:pt x="1786" y="291"/>
                </a:lnTo>
                <a:lnTo>
                  <a:pt x="1751" y="278"/>
                </a:lnTo>
                <a:lnTo>
                  <a:pt x="1714" y="267"/>
                </a:lnTo>
                <a:lnTo>
                  <a:pt x="1668" y="258"/>
                </a:lnTo>
                <a:lnTo>
                  <a:pt x="1624" y="252"/>
                </a:lnTo>
                <a:lnTo>
                  <a:pt x="1576" y="248"/>
                </a:lnTo>
                <a:lnTo>
                  <a:pt x="1528" y="247"/>
                </a:lnTo>
                <a:lnTo>
                  <a:pt x="1522" y="247"/>
                </a:lnTo>
                <a:lnTo>
                  <a:pt x="703" y="247"/>
                </a:lnTo>
              </a:path>
            </a:pathLst>
          </a:custGeom>
          <a:solidFill>
            <a:srgbClr val="ff3300"/>
          </a:solidFill>
          <a:ln cap="rnd" w="12600">
            <a:solidFill>
              <a:srgbClr val="ff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2287440" y="4714920"/>
            <a:ext cx="380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0 Equivalent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2"/>
          <p:cNvSpPr/>
          <p:nvPr/>
        </p:nvSpPr>
        <p:spPr>
          <a:xfrm>
            <a:off x="1146240" y="4665600"/>
            <a:ext cx="129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300 × 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"/>
          <p:cNvSpPr/>
          <p:nvPr/>
        </p:nvSpPr>
        <p:spPr>
          <a:xfrm>
            <a:off x="1123920" y="498312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3:55:57Z</dcterms:created>
  <dc:creator>Jon A. Booker</dc:creator>
  <dc:description/>
  <dc:language>en-US</dc:language>
  <cp:lastModifiedBy>Balaji Venkatrao</cp:lastModifiedBy>
  <dcterms:modified xsi:type="dcterms:W3CDTF">2013-11-05T08:25:01Z</dcterms:modified>
  <cp:revision>239</cp:revision>
  <dc:subject/>
  <dc:title>Chapter Title</dc:title>
</cp:coreProperties>
</file>