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A-</a:t>
            </a:r>
            <a:fld id="{6757B8AE-C657-4FC2-B452-8D4A3BAF026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A-</a:t>
            </a:r>
            <a:fld id="{09431A00-04CB-4987-9F81-E674106B30D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rect Method of Determining the Net Cash Provided by Operating Activities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1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4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05120" y="228600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Use the direct method to determine the net cash provided by operating activiti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Computing Net Cash Provided by Operating Activiti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9" name="Oval 1027"/>
          <p:cNvSpPr/>
          <p:nvPr/>
        </p:nvSpPr>
        <p:spPr>
          <a:xfrm>
            <a:off x="1219320" y="1752480"/>
            <a:ext cx="6705360" cy="2819520"/>
          </a:xfrm>
          <a:prstGeom prst="ellipse">
            <a:avLst/>
          </a:prstGeom>
          <a:solidFill>
            <a:srgbClr val="efefef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The direct method computes net cash provided by operating activities by reconstructing the income statement on a cash basis from top to bot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28"/>
          <p:cNvSpPr/>
          <p:nvPr/>
        </p:nvSpPr>
        <p:spPr>
          <a:xfrm>
            <a:off x="1638360" y="4800600"/>
            <a:ext cx="5867280" cy="1905120"/>
          </a:xfrm>
          <a:prstGeom prst="rect">
            <a:avLst/>
          </a:prstGeom>
          <a:solidFill>
            <a:srgbClr val="efefe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Net cash provided by operating activities under the direct metho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ll always agree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with the amount computed using the indirect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imilarities and Differences in the Handling Data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880" y="1981080"/>
            <a:ext cx="4114800" cy="198144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ments for accounts that affect revenue are the same in the direct and indirect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80880" y="4191120"/>
            <a:ext cx="4114800" cy="19810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ments for accounts that affect expenses are handled in opposite ways for the direct and indirect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4648320" y="1600200"/>
            <a:ext cx="4267080" cy="4952880"/>
            <a:chOff x="4648320" y="1600200"/>
            <a:chExt cx="4267080" cy="4952880"/>
          </a:xfrm>
        </p:grpSpPr>
        <p:pic>
          <p:nvPicPr>
            <p:cNvPr id="105" name="Picture 6" descr="Exhibit_14A-1.jpg"/>
            <p:cNvPicPr/>
            <p:nvPr/>
          </p:nvPicPr>
          <p:blipFill>
            <a:blip r:embed="rId1"/>
            <a:srcRect l="2873" t="14180" r="58051" b="5225"/>
            <a:stretch/>
          </p:blipFill>
          <p:spPr>
            <a:xfrm>
              <a:off x="4648320" y="1600200"/>
              <a:ext cx="2792520" cy="49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Exhibit_14A-1.jpg"/>
            <p:cNvPicPr/>
            <p:nvPr/>
          </p:nvPicPr>
          <p:blipFill>
            <a:blip r:embed="rId2"/>
            <a:srcRect l="50003" t="14180" r="28162" b="5225"/>
            <a:stretch/>
          </p:blipFill>
          <p:spPr>
            <a:xfrm>
              <a:off x="7354800" y="1600200"/>
              <a:ext cx="1560600" cy="495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icture 7" descr="Exhibit_14A-1.jpg"/>
          <p:cNvPicPr/>
          <p:nvPr/>
        </p:nvPicPr>
        <p:blipFill>
          <a:blip r:embed="rId3"/>
          <a:srcRect l="61178" t="91059" r="28162" b="5225"/>
          <a:stretch/>
        </p:blipFill>
        <p:spPr>
          <a:xfrm>
            <a:off x="6846840" y="4114800"/>
            <a:ext cx="762120" cy="2286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28"/>
          <p:cNvGrpSpPr/>
          <p:nvPr/>
        </p:nvGrpSpPr>
        <p:grpSpPr>
          <a:xfrm>
            <a:off x="6802560" y="4191120"/>
            <a:ext cx="839520" cy="228240"/>
            <a:chOff x="6802560" y="4191120"/>
            <a:chExt cx="839520" cy="228240"/>
          </a:xfrm>
        </p:grpSpPr>
        <p:pic>
          <p:nvPicPr>
            <p:cNvPr id="109" name="Picture 6" descr="Exhibit_14A-1.jpg"/>
            <p:cNvPicPr/>
            <p:nvPr/>
          </p:nvPicPr>
          <p:blipFill>
            <a:blip r:embed="rId4"/>
            <a:srcRect l="18870" t="37040" r="69405" b="59787"/>
            <a:stretch/>
          </p:blipFill>
          <p:spPr>
            <a:xfrm>
              <a:off x="6802920" y="4191120"/>
              <a:ext cx="83916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Exhibit_14A-1.jpg"/>
            <p:cNvPicPr/>
            <p:nvPr/>
          </p:nvPicPr>
          <p:blipFill>
            <a:blip r:embed="rId5"/>
            <a:srcRect l="61177" t="91076" r="28161" b="5232"/>
            <a:stretch/>
          </p:blipFill>
          <p:spPr>
            <a:xfrm>
              <a:off x="6802920" y="4343400"/>
              <a:ext cx="762840" cy="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7" descr="Exhibit_14A-1.jpg"/>
            <p:cNvPicPr/>
            <p:nvPr/>
          </p:nvPicPr>
          <p:blipFill>
            <a:blip r:embed="rId6"/>
            <a:srcRect l="61180" t="90719" r="38185" b="4649"/>
            <a:stretch/>
          </p:blipFill>
          <p:spPr>
            <a:xfrm>
              <a:off x="6802560" y="4191120"/>
              <a:ext cx="45720" cy="95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imilarities and Differences in the Handling Data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1219320" y="1714680"/>
            <a:ext cx="6705360" cy="2819160"/>
          </a:xfrm>
          <a:prstGeom prst="ellipse">
            <a:avLst/>
          </a:prstGeom>
          <a:solidFill>
            <a:srgbClr val="efefef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Under the direct method, no adjustments for gains and losses on the sale of assets are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257800" y="4533840"/>
            <a:ext cx="304812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pecial Rules—Direct and Indirect Method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762120" y="1981080"/>
            <a:ext cx="3428640" cy="3644280"/>
            <a:chOff x="762120" y="1981080"/>
            <a:chExt cx="3428640" cy="3644280"/>
          </a:xfrm>
        </p:grpSpPr>
        <p:sp>
          <p:nvSpPr>
            <p:cNvPr id="117" name="Text Box 5"/>
            <p:cNvSpPr/>
            <p:nvPr/>
          </p:nvSpPr>
          <p:spPr>
            <a:xfrm>
              <a:off x="762120" y="2971800"/>
              <a:ext cx="3428640" cy="2653560"/>
            </a:xfrm>
            <a:prstGeom prst="rect">
              <a:avLst/>
            </a:prstGeom>
            <a:solidFill>
              <a:srgbClr val="e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quires a reconciliation between net income and the net cash provided by operating activiti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AutoShape 7"/>
            <p:cNvCxnSpPr>
              <a:stCxn id="119" idx="2"/>
              <a:endCxn id="117" idx="0"/>
            </p:cNvCxnSpPr>
            <p:nvPr/>
          </p:nvCxnSpPr>
          <p:spPr>
            <a:xfrm flipH="1">
              <a:off x="2473920" y="2505960"/>
              <a:ext cx="2880" cy="467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" name="Text Box 8"/>
            <p:cNvSpPr/>
            <p:nvPr/>
          </p:nvSpPr>
          <p:spPr>
            <a:xfrm>
              <a:off x="762120" y="1981080"/>
              <a:ext cx="3428640" cy="520560"/>
            </a:xfrm>
            <a:prstGeom prst="rect">
              <a:avLst/>
            </a:prstGeom>
            <a:solidFill>
              <a:srgbClr val="eb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irect Metho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9"/>
          <p:cNvGrpSpPr/>
          <p:nvPr/>
        </p:nvGrpSpPr>
        <p:grpSpPr>
          <a:xfrm>
            <a:off x="5105520" y="1981080"/>
            <a:ext cx="3428640" cy="3638880"/>
            <a:chOff x="5105520" y="1981080"/>
            <a:chExt cx="3428640" cy="3638880"/>
          </a:xfrm>
        </p:grpSpPr>
        <p:sp>
          <p:nvSpPr>
            <p:cNvPr id="121" name="Text Box 10"/>
            <p:cNvSpPr/>
            <p:nvPr/>
          </p:nvSpPr>
          <p:spPr>
            <a:xfrm>
              <a:off x="5105520" y="2966400"/>
              <a:ext cx="3428640" cy="2653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quires disclosure of amount of interest and income taxes paid during the ye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AutoShape 12"/>
            <p:cNvCxnSpPr>
              <a:stCxn id="123" idx="2"/>
              <a:endCxn id="121" idx="0"/>
            </p:cNvCxnSpPr>
            <p:nvPr/>
          </p:nvCxnSpPr>
          <p:spPr>
            <a:xfrm flipH="1">
              <a:off x="6817320" y="2507760"/>
              <a:ext cx="2520" cy="460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Text Box 13"/>
            <p:cNvSpPr/>
            <p:nvPr/>
          </p:nvSpPr>
          <p:spPr>
            <a:xfrm>
              <a:off x="5105520" y="1981080"/>
              <a:ext cx="3428640" cy="520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direct Metho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14A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25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13:17:26Z</dcterms:modified>
  <cp:revision>160</cp:revision>
  <dc:subject/>
  <dc:title>Chapter Title</dc:title>
</cp:coreProperties>
</file>