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A-</a:t>
            </a:r>
            <a:fld id="{E5E837A4-8FBF-4940-87B5-A7C18CA8346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-Based Absorption Costing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y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914400" y="1843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alculate the following activity 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68400" y="2597040"/>
          <a:ext cx="9021600" cy="22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2597040"/>
                    <a:ext cx="902160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5"/>
          <p:cNvSpPr/>
          <p:nvPr/>
        </p:nvSpPr>
        <p:spPr>
          <a:xfrm>
            <a:off x="380880" y="5029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new activity rates, let’s assign overh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two products based upon expected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y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282600" y="1819440"/>
          <a:ext cx="8694720" cy="22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1819440"/>
                    <a:ext cx="8694720" cy="2295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3228120" y="14428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lux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276120" y="4483080"/>
          <a:ext cx="8653680" cy="229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120" y="4483080"/>
                    <a:ext cx="8653680" cy="2298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Text Box 6"/>
          <p:cNvSpPr/>
          <p:nvPr/>
        </p:nvSpPr>
        <p:spPr>
          <a:xfrm>
            <a:off x="3206880" y="41022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ndar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y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838800" y="1676520"/>
            <a:ext cx="7483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-based unit product costs for both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139680" y="2452680"/>
          <a:ext cx="8842320" cy="19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452680"/>
                    <a:ext cx="8842320" cy="198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pic>
        <p:nvPicPr>
          <p:cNvPr id="149" name="Picture 3" descr="C:\Users\jon\AppData\Local\Microsoft\Windows\Temporary Internet Files\Content.IE5\0UW7EI1L\MC900237709[2].wmf"/>
          <p:cNvPicPr/>
          <p:nvPr/>
        </p:nvPicPr>
        <p:blipFill>
          <a:blip r:embed="rId3"/>
          <a:stretch/>
        </p:blipFill>
        <p:spPr>
          <a:xfrm>
            <a:off x="3733920" y="4876920"/>
            <a:ext cx="1454040" cy="15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39680" y="2452680"/>
          <a:ext cx="8842320" cy="19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452680"/>
                    <a:ext cx="8842320" cy="198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y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38800" y="1676520"/>
            <a:ext cx="7483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-based unit product costs for both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62120" y="3733560"/>
            <a:ext cx="5638680" cy="1447560"/>
            <a:chOff x="762120" y="3733560"/>
            <a:chExt cx="5638680" cy="1447560"/>
          </a:xfrm>
        </p:grpSpPr>
        <p:sp>
          <p:nvSpPr>
            <p:cNvPr id="155" name="Line 7"/>
            <p:cNvSpPr/>
            <p:nvPr/>
          </p:nvSpPr>
          <p:spPr>
            <a:xfrm flipV="1">
              <a:off x="3886200" y="3733560"/>
              <a:ext cx="2514600" cy="99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762120" y="4724280"/>
              <a:ext cx="4267080" cy="4568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$1,130,000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÷ 100,000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3"/>
          <p:cNvGrpSpPr/>
          <p:nvPr/>
        </p:nvGrpSpPr>
        <p:grpSpPr>
          <a:xfrm>
            <a:off x="3429000" y="3733560"/>
            <a:ext cx="4667400" cy="2286360"/>
            <a:chOff x="3429000" y="3733560"/>
            <a:chExt cx="4667400" cy="2286360"/>
          </a:xfrm>
        </p:grpSpPr>
        <p:sp>
          <p:nvSpPr>
            <p:cNvPr id="158" name="Line 4"/>
            <p:cNvSpPr/>
            <p:nvPr/>
          </p:nvSpPr>
          <p:spPr>
            <a:xfrm flipV="1">
              <a:off x="5429160" y="3733560"/>
              <a:ext cx="2667240" cy="2057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"/>
            <p:cNvSpPr/>
            <p:nvPr/>
          </p:nvSpPr>
          <p:spPr>
            <a:xfrm>
              <a:off x="3429000" y="5562720"/>
              <a:ext cx="380988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$670,000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÷ 200,000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aring the Two Approach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Text Box 2051"/>
          <p:cNvSpPr/>
          <p:nvPr/>
        </p:nvSpPr>
        <p:spPr>
          <a:xfrm>
            <a:off x="609480" y="4502160"/>
            <a:ext cx="7925040" cy="825480"/>
          </a:xfrm>
          <a:prstGeom prst="rect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ote that the unit product cost of a Standard uni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creased from $44.50 to $43.35 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52"/>
          <p:cNvSpPr/>
          <p:nvPr/>
        </p:nvSpPr>
        <p:spPr>
          <a:xfrm>
            <a:off x="609480" y="5645160"/>
            <a:ext cx="792504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. . . . . while the unit cost of a Deluxe unit increased from $71.00 to $73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257040" y="1600200"/>
          <a:ext cx="8686800" cy="25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600200"/>
                    <a:ext cx="8686800" cy="2541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</p:spTree>
  </p:cSld>
  <p:transition>
    <p:cover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mparing the Two Approach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Text Box 2051"/>
          <p:cNvSpPr/>
          <p:nvPr/>
        </p:nvSpPr>
        <p:spPr>
          <a:xfrm>
            <a:off x="609480" y="1378080"/>
            <a:ext cx="7925040" cy="825480"/>
          </a:xfrm>
          <a:prstGeom prst="rect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ote that the unit product cost of a Standard uni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creased from $44.50 to $43.35 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52"/>
          <p:cNvSpPr/>
          <p:nvPr/>
        </p:nvSpPr>
        <p:spPr>
          <a:xfrm>
            <a:off x="609480" y="2521080"/>
            <a:ext cx="792504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. . . . . while the unit cost of a Deluxe unit increased from $71.00 to $73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6"/>
          <p:cNvSpPr/>
          <p:nvPr/>
        </p:nvSpPr>
        <p:spPr>
          <a:xfrm>
            <a:off x="533520" y="3581280"/>
            <a:ext cx="8153280" cy="3048120"/>
          </a:xfrm>
          <a:prstGeom prst="roundRect">
            <a:avLst>
              <a:gd name="adj" fmla="val 16667"/>
            </a:avLst>
          </a:prstGeom>
          <a:solidFill>
            <a:srgbClr val="2b4a76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ctivity-based approach contains two non-volume-related cost pools 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setting up machines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a batch-level activity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parts administration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a product-leve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ctivity–based approach assigned these costs to products in a way tha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ifted co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 volume produ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) to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w volume produ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lux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3 – Appendix 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70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8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905120" y="2462040"/>
            <a:ext cx="5333760" cy="295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(Appendix 3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se activity-based absorption costing to compute unit product cos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457200" y="1752480"/>
            <a:ext cx="8305920" cy="2667240"/>
          </a:xfrm>
          <a:prstGeom prst="roundRect">
            <a:avLst>
              <a:gd name="adj" fmla="val 16667"/>
            </a:avLst>
          </a:prstGeom>
          <a:solidFill>
            <a:srgbClr val="f3a276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-based absorption costing as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nufacturing overhead costs to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ctivity cost pools instea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wide or department cost p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:\Users\jon\AppData\Local\Microsoft\Windows\Temporary Internet Files\Content.IE5\0UW7EI1L\MC900237709[1].wmf"/>
          <p:cNvPicPr/>
          <p:nvPr/>
        </p:nvPicPr>
        <p:blipFill>
          <a:blip r:embed="rId1"/>
          <a:stretch/>
        </p:blipFill>
        <p:spPr>
          <a:xfrm>
            <a:off x="3429000" y="4572000"/>
            <a:ext cx="1911240" cy="206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3352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efinition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TextBox 4"/>
          <p:cNvGrpSpPr/>
          <p:nvPr/>
        </p:nvGrpSpPr>
        <p:grpSpPr>
          <a:xfrm>
            <a:off x="317520" y="1884240"/>
            <a:ext cx="8540640" cy="3864240"/>
            <a:chOff x="317520" y="1884240"/>
            <a:chExt cx="8540640" cy="3864240"/>
          </a:xfrm>
        </p:grpSpPr>
        <p:pic>
          <p:nvPicPr>
            <p:cNvPr id="100" name="TextBox 4" descr=""/>
            <p:cNvPicPr/>
            <p:nvPr/>
          </p:nvPicPr>
          <p:blipFill>
            <a:blip r:embed="rId1"/>
            <a:stretch/>
          </p:blipFill>
          <p:spPr>
            <a:xfrm>
              <a:off x="317520" y="1884240"/>
              <a:ext cx="854064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57200" y="1981080"/>
              <a:ext cx="83059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 activity is an event that causes the consumption of overhead resour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n activity cost pool is a “bucket” in which costs are accumulated that relate to a single activi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 activity measure is an allocation that is used as the denominator for an activity cost poo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n activity rate is used to assign costs from an activity cost pool to product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" descr="C:\Users\jon\AppData\Local\Microsoft\Windows\Temporary Internet Files\Content.IE5\HGBS96WI\MC900290031[1].wmf"/>
          <p:cNvPicPr/>
          <p:nvPr/>
        </p:nvPicPr>
        <p:blipFill>
          <a:blip r:embed="rId2"/>
          <a:stretch/>
        </p:blipFill>
        <p:spPr>
          <a:xfrm>
            <a:off x="4038480" y="5608800"/>
            <a:ext cx="997200" cy="118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tivity-Based Adsorption Cos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33520" y="1447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-based absorption costing differs from traditional absorption costing in two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33520" y="2631960"/>
            <a:ext cx="8305560" cy="350676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ivity based approac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more cost pool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 a traditional appr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ivity-based approach includes som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tch-level and product-level activ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ctivity measures that do not relate to the volume of units produced, whereas the traditional approach relies exclusively on volume-related overhead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ies – a traditional approach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649440" y="3343320"/>
          <a:ext cx="782460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3343320"/>
                    <a:ext cx="7824600" cy="2914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09" name="Rectangle 4"/>
          <p:cNvSpPr/>
          <p:nvPr/>
        </p:nvSpPr>
        <p:spPr>
          <a:xfrm>
            <a:off x="380880" y="1600200"/>
            <a:ext cx="8382240" cy="119124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Industries provides the following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ompany as a whole and for its only tw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—deluxe and standard hedge trim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733320" y="1905120"/>
            <a:ext cx="7662960" cy="2226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Assuming that Simmons’ traditional cost system relies on one predetermined plantwide overhead rate with direct labor-hours (DLHs) as the allocation base, then its plantwide overhead rate is compu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152280" y="4540320"/>
            <a:ext cx="8839080" cy="947160"/>
            <a:chOff x="152280" y="4540320"/>
            <a:chExt cx="8839080" cy="947160"/>
          </a:xfrm>
        </p:grpSpPr>
        <p:sp>
          <p:nvSpPr>
            <p:cNvPr id="112" name="Text Box 9"/>
            <p:cNvSpPr/>
            <p:nvPr/>
          </p:nvSpPr>
          <p:spPr>
            <a:xfrm>
              <a:off x="152280" y="454032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edetermined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verhead r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6019560" y="476892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  $4.50 per DL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2819160" y="4768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2"/>
            <p:cNvGrpSpPr/>
            <p:nvPr/>
          </p:nvGrpSpPr>
          <p:grpSpPr>
            <a:xfrm>
              <a:off x="3200040" y="4540320"/>
              <a:ext cx="2819520" cy="947160"/>
              <a:chOff x="3200040" y="4540320"/>
              <a:chExt cx="2819520" cy="947160"/>
            </a:xfrm>
          </p:grpSpPr>
          <p:sp>
            <p:nvSpPr>
              <p:cNvPr id="116" name="Text Box 13"/>
              <p:cNvSpPr/>
              <p:nvPr/>
            </p:nvSpPr>
            <p:spPr>
              <a:xfrm>
                <a:off x="3200040" y="4540320"/>
                <a:ext cx="2819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$1,800,000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00,000 DLH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4"/>
              <p:cNvSpPr/>
              <p:nvPr/>
            </p:nvSpPr>
            <p:spPr>
              <a:xfrm>
                <a:off x="3428640" y="502596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ies – a traditional approach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485640" y="2895480"/>
          <a:ext cx="8201160" cy="184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2895480"/>
                    <a:ext cx="8201160" cy="1844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121" name="Rectangle 4"/>
          <p:cNvSpPr/>
          <p:nvPr/>
        </p:nvSpPr>
        <p:spPr>
          <a:xfrm>
            <a:off x="1930320" y="1600200"/>
            <a:ext cx="5497920" cy="825480"/>
          </a:xfrm>
          <a:prstGeom prst="rect">
            <a:avLst/>
          </a:prstGeom>
          <a:solidFill>
            <a:srgbClr val="227a8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mons’ traditional cost system wou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unit product cost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762120" y="4114800"/>
            <a:ext cx="5638680" cy="1447920"/>
            <a:chOff x="762120" y="4114800"/>
            <a:chExt cx="5638680" cy="1447920"/>
          </a:xfrm>
        </p:grpSpPr>
        <p:sp>
          <p:nvSpPr>
            <p:cNvPr id="123" name="Line 7"/>
            <p:cNvSpPr/>
            <p:nvPr/>
          </p:nvSpPr>
          <p:spPr>
            <a:xfrm flipV="1">
              <a:off x="3886200" y="4114800"/>
              <a:ext cx="2514600" cy="99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762120" y="5105520"/>
              <a:ext cx="380988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2.0 DLH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×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$4.50 per DL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572000" y="4114440"/>
            <a:ext cx="3809880" cy="2134080"/>
            <a:chOff x="4572000" y="4114440"/>
            <a:chExt cx="3809880" cy="2134080"/>
          </a:xfrm>
        </p:grpSpPr>
        <p:sp>
          <p:nvSpPr>
            <p:cNvPr id="126" name="Line 8"/>
            <p:cNvSpPr/>
            <p:nvPr/>
          </p:nvSpPr>
          <p:spPr>
            <a:xfrm flipV="1">
              <a:off x="5257800" y="4114440"/>
              <a:ext cx="2666880" cy="1676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4572000" y="5791320"/>
              <a:ext cx="380988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.0 DLH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×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$4.50 per DL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ies – a traditional approach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immons Industry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tivity-Based Absorption Costing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92240" y="168264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C project team at Simmons h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the following basic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271440" y="2919240"/>
          <a:ext cx="872316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919240"/>
                    <a:ext cx="8723160" cy="2490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8:26:19Z</dcterms:modified>
  <cp:revision>260</cp:revision>
  <dc:subject/>
  <dc:title>Chapter Title</dc:title>
</cp:coreProperties>
</file>