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019920" y="0"/>
            <a:ext cx="8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C-</a:t>
            </a:r>
            <a:fld id="{B4708530-DA8C-4898-8169-BC3996F4673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C-</a:t>
            </a:r>
            <a:fld id="{A10FC318-6D42-46B3-9561-CD4E05DA581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7412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e Taxes in Capital Budgeting Decisions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13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Holland Company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696080" y="5786280"/>
            <a:ext cx="1447920" cy="1071720"/>
          </a:xfrm>
          <a:prstGeom prst="rect">
            <a:avLst/>
          </a:prstGeom>
          <a:ln w="0">
            <a:noFill/>
          </a:ln>
        </p:spPr>
      </p:pic>
      <p:pic>
        <p:nvPicPr>
          <p:cNvPr id="120" name="Diagram 5" descr=""/>
          <p:cNvPicPr/>
          <p:nvPr/>
        </p:nvPicPr>
        <p:blipFill>
          <a:blip r:embed="rId2"/>
          <a:stretch/>
        </p:blipFill>
        <p:spPr>
          <a:xfrm>
            <a:off x="1749600" y="1444680"/>
            <a:ext cx="5352840" cy="174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" descr="image003"/>
          <p:cNvPicPr/>
          <p:nvPr/>
        </p:nvPicPr>
        <p:blipFill>
          <a:blip r:embed="rId3"/>
          <a:srcRect l="0" t="0" r="0" b="59008"/>
          <a:stretch/>
        </p:blipFill>
        <p:spPr>
          <a:xfrm>
            <a:off x="500040" y="3276720"/>
            <a:ext cx="8034480" cy="24336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762120" y="4952880"/>
            <a:ext cx="739116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Holland Company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7696080" y="5786280"/>
            <a:ext cx="1447920" cy="1071720"/>
          </a:xfrm>
          <a:prstGeom prst="rect">
            <a:avLst/>
          </a:prstGeom>
          <a:ln w="0">
            <a:noFill/>
          </a:ln>
        </p:spPr>
      </p:pic>
      <p:pic>
        <p:nvPicPr>
          <p:cNvPr id="125" name="Diagram 5" descr=""/>
          <p:cNvPicPr/>
          <p:nvPr/>
        </p:nvPicPr>
        <p:blipFill>
          <a:blip r:embed="rId2"/>
          <a:stretch/>
        </p:blipFill>
        <p:spPr>
          <a:xfrm>
            <a:off x="1749600" y="1444680"/>
            <a:ext cx="5400360" cy="1695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image003"/>
          <p:cNvPicPr/>
          <p:nvPr/>
        </p:nvPicPr>
        <p:blipFill>
          <a:blip r:embed="rId3"/>
          <a:srcRect l="0" t="0" r="0" b="59008"/>
          <a:stretch/>
        </p:blipFill>
        <p:spPr>
          <a:xfrm>
            <a:off x="500040" y="3276720"/>
            <a:ext cx="8034480" cy="2433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7"/>
          <p:cNvSpPr/>
          <p:nvPr/>
        </p:nvSpPr>
        <p:spPr>
          <a:xfrm>
            <a:off x="762120" y="5370480"/>
            <a:ext cx="739116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Holland Company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7696080" y="5786280"/>
            <a:ext cx="1447920" cy="10717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533520" y="1447920"/>
            <a:ext cx="7772400" cy="825480"/>
          </a:xfrm>
          <a:prstGeom prst="rect">
            <a:avLst/>
          </a:prstGeom>
          <a:solidFill>
            <a:srgbClr val="b5e9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 present value compu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image003"/>
          <p:cNvPicPr/>
          <p:nvPr/>
        </p:nvPicPr>
        <p:blipFill>
          <a:blip r:embed="rId2"/>
          <a:stretch/>
        </p:blipFill>
        <p:spPr>
          <a:xfrm>
            <a:off x="1371600" y="2390760"/>
            <a:ext cx="5943600" cy="43909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1550880" y="4267080"/>
            <a:ext cx="5486400" cy="152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Holland Company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7696080" y="5786280"/>
            <a:ext cx="1447920" cy="1071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46080" y="1447920"/>
            <a:ext cx="9051840" cy="825480"/>
          </a:xfrm>
          <a:prstGeom prst="rect">
            <a:avLst/>
          </a:prstGeom>
          <a:solidFill>
            <a:srgbClr val="b5e9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year’s total cash flows are multiplied by the appropriate discount factor for 12% to compute their lesser present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image003"/>
          <p:cNvPicPr/>
          <p:nvPr/>
        </p:nvPicPr>
        <p:blipFill>
          <a:blip r:embed="rId2"/>
          <a:stretch/>
        </p:blipFill>
        <p:spPr>
          <a:xfrm>
            <a:off x="1371600" y="2390760"/>
            <a:ext cx="5943600" cy="4390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1550880" y="5715000"/>
            <a:ext cx="5486400" cy="15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Holland Company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080" y="1371600"/>
            <a:ext cx="9051840" cy="825480"/>
          </a:xfrm>
          <a:prstGeom prst="rect">
            <a:avLst/>
          </a:prstGeom>
          <a:solidFill>
            <a:srgbClr val="b5e9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t values in cell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2 through G2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ombined to determine the project’s net present valu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7696080" y="5786280"/>
            <a:ext cx="1447920" cy="1071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image003"/>
          <p:cNvPicPr/>
          <p:nvPr/>
        </p:nvPicPr>
        <p:blipFill>
          <a:blip r:embed="rId2"/>
          <a:stretch/>
        </p:blipFill>
        <p:spPr>
          <a:xfrm>
            <a:off x="1371600" y="2390760"/>
            <a:ext cx="5943600" cy="4390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8"/>
          <p:cNvSpPr/>
          <p:nvPr/>
        </p:nvSpPr>
        <p:spPr>
          <a:xfrm>
            <a:off x="1550880" y="6019920"/>
            <a:ext cx="5486400" cy="15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6080" y="2209680"/>
            <a:ext cx="9051840" cy="825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sitive net present value indicates that Holland Company should proceed with the mining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Appendix 13C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45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8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905120" y="2201760"/>
            <a:ext cx="5333760" cy="243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(Appendix 13C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Include income taxes in a net present value analy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Simplifying Assumpt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9" name="Diagram 5" descr=""/>
          <p:cNvPicPr/>
          <p:nvPr/>
        </p:nvPicPr>
        <p:blipFill>
          <a:blip r:embed="rId1"/>
          <a:stretch/>
        </p:blipFill>
        <p:spPr>
          <a:xfrm>
            <a:off x="987480" y="1579680"/>
            <a:ext cx="7083360" cy="4760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Simplifying Assumpt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1" name="Diagram 5" descr=""/>
          <p:cNvPicPr/>
          <p:nvPr/>
        </p:nvPicPr>
        <p:blipFill>
          <a:blip r:embed="rId1"/>
          <a:stretch/>
        </p:blipFill>
        <p:spPr>
          <a:xfrm>
            <a:off x="987480" y="1584360"/>
            <a:ext cx="7022880" cy="4755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Key Concep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1600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alculate the amount of income tax expense associated with a capital budgeting project, we’ll be us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step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Diagram 7" descr=""/>
          <p:cNvPicPr/>
          <p:nvPr/>
        </p:nvPicPr>
        <p:blipFill>
          <a:blip r:embed="rId1"/>
          <a:stretch/>
        </p:blipFill>
        <p:spPr>
          <a:xfrm>
            <a:off x="1517760" y="2511360"/>
            <a:ext cx="6121440" cy="4078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Key Concep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6080" y="1717560"/>
            <a:ext cx="9051840" cy="35060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pital budgeting project’s incremental net income computations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cl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nual reven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nual cash operating exp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nual depreciation exp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-time expenses related to repairs and mainten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Key Concep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6080" y="1484280"/>
            <a:ext cx="9051840" cy="399348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pital budgeting project’s incremental net income computations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excl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401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mmediate investments in equipment, other assets, and installation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401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vestments in working ca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401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release of working ca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401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proceeds from selling a noncurrent asset when no gain or loss is realized on the s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Holland Company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0" name="Rectangle 1027"/>
          <p:cNvSpPr/>
          <p:nvPr/>
        </p:nvSpPr>
        <p:spPr>
          <a:xfrm>
            <a:off x="533520" y="1600200"/>
            <a:ext cx="8153280" cy="3886200"/>
          </a:xfrm>
          <a:prstGeom prst="rect">
            <a:avLst/>
          </a:prstGeom>
          <a:solidFill>
            <a:srgbClr val="ffffcc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olland Company owns the mineral rights to land that has a deposit of ore.  The company is deciding whether to purchase equipment and open a mine on the property.  The mine would be depleted and closed in 5 years and the equipment would be sold for its salvage valu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28" descr=""/>
          <p:cNvPicPr/>
          <p:nvPr/>
        </p:nvPicPr>
        <p:blipFill>
          <a:blip r:embed="rId1"/>
          <a:stretch/>
        </p:blipFill>
        <p:spPr>
          <a:xfrm>
            <a:off x="7451640" y="5392800"/>
            <a:ext cx="1463760" cy="1084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29"/>
          <p:cNvSpPr/>
          <p:nvPr/>
        </p:nvSpPr>
        <p:spPr>
          <a:xfrm>
            <a:off x="533520" y="5745240"/>
            <a:ext cx="670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More information is provided on the next sl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Holland Company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" name="Text Box 1028"/>
          <p:cNvSpPr/>
          <p:nvPr/>
        </p:nvSpPr>
        <p:spPr>
          <a:xfrm>
            <a:off x="6477120" y="1905120"/>
            <a:ext cx="2590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Holland open a mine on the prop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29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2286000" cy="169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Object 6"/>
          <p:cNvGraphicFramePr/>
          <p:nvPr/>
        </p:nvGraphicFramePr>
        <p:xfrm>
          <a:off x="407880" y="1447920"/>
          <a:ext cx="5612040" cy="5257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7880" y="1447920"/>
                    <a:ext cx="56120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05T13:12:40Z</dcterms:modified>
  <cp:revision>169</cp:revision>
  <dc:subject/>
  <dc:title>Chapter Title</dc:title>
</cp:coreProperties>
</file>