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6.wmf" ContentType="image/x-wmf"/>
  <Override PartName="/ppt/media/image36.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32.png" ContentType="image/png"/>
  <Override PartName="/ppt/media/image53.wmf" ContentType="image/x-wmf"/>
  <Override PartName="/ppt/media/image33.png" ContentType="image/png"/>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5.wmf" ContentType="image/x-wmf"/>
  <Override PartName="/ppt/media/image57.jpeg" ContentType="image/jpe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000" spc="-1" strike="noStrike">
                <a:solidFill>
                  <a:srgbClr val="464646"/>
                </a:solidFill>
                <a:latin typeface="Arial"/>
              </a:rPr>
              <a:t>Click to move the slide</a:t>
            </a:r>
            <a:endParaRPr b="0" lang="en-US" sz="4000" spc="-1" strike="noStrike">
              <a:solidFill>
                <a:srgbClr val="464646"/>
              </a:solidFill>
              <a:latin typeface="Arial"/>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TextBox 7"/>
          <p:cNvSpPr/>
          <p:nvPr/>
        </p:nvSpPr>
        <p:spPr>
          <a:xfrm>
            <a:off x="6019920" y="0"/>
            <a:ext cx="8380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8EDD9087-15D9-4A2B-B0FD-24480EA2AC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fld id="{A327D4A0-AD19-4CAC-9CF8-DDA0C3E8E82C}"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61164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package" Target="../embeddings/oleObject2.xlsx"/><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1.xml"/><Relationship Id="rId8"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image" Target="../media/image48.wmf"/><Relationship Id="rId4" Type="http://schemas.openxmlformats.org/officeDocument/2006/relationships/image" Target="../media/image48.wmf"/><Relationship Id="rId5" Type="http://schemas.openxmlformats.org/officeDocument/2006/relationships/image" Target="../media/image51.wmf"/><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48.wmf"/><Relationship Id="rId4" Type="http://schemas.openxmlformats.org/officeDocument/2006/relationships/image" Target="../media/image48.wmf"/><Relationship Id="rId5" Type="http://schemas.openxmlformats.org/officeDocument/2006/relationships/image" Target="../media/image53.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8.wmf"/><Relationship Id="rId4" Type="http://schemas.openxmlformats.org/officeDocument/2006/relationships/image" Target="../media/image48.wmf"/><Relationship Id="rId5" Type="http://schemas.openxmlformats.org/officeDocument/2006/relationships/image" Target="../media/image55.wmf"/><Relationship Id="rId6" Type="http://schemas.openxmlformats.org/officeDocument/2006/relationships/slideLayout" Target="../slideLayouts/slideLayout1.xml"/><Relationship Id="rId7"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8.wmf"/><Relationship Id="rId3" Type="http://schemas.openxmlformats.org/officeDocument/2006/relationships/package" Target="../embeddings/oleObject1.xlsx"/><Relationship Id="rId4" Type="http://schemas.openxmlformats.org/officeDocument/2006/relationships/image" Target="../media/image54.wmf"/><Relationship Id="rId5" Type="http://schemas.openxmlformats.org/officeDocument/2006/relationships/slideLayout" Target="../slideLayouts/slideLayout1.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9680"/>
            <a:ext cx="84582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fferential Analysis: The Key to Decision Making</a:t>
            </a:r>
            <a:endParaRPr b="0" lang="en-US" sz="4400" spc="-1" strike="noStrike">
              <a:solidFill>
                <a:srgbClr val="464646"/>
              </a:solidFill>
              <a:latin typeface="Arial"/>
            </a:endParaRPr>
          </a:p>
        </p:txBody>
      </p:sp>
      <p:sp>
        <p:nvSpPr>
          <p:cNvPr id="9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2</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39" name="Text Box 3"/>
          <p:cNvSpPr/>
          <p:nvPr/>
        </p:nvSpPr>
        <p:spPr>
          <a:xfrm>
            <a:off x="638280" y="1676520"/>
            <a:ext cx="7848360" cy="825480"/>
          </a:xfrm>
          <a:prstGeom prst="rect">
            <a:avLst/>
          </a:prstGeom>
          <a:solidFill>
            <a:srgbClr val="227a8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costs and benefits are relevant in Cynthia’s decision?</a:t>
            </a:r>
            <a:endParaRPr b="0" lang="en-US" sz="2400" spc="-1" strike="noStrike">
              <a:solidFill>
                <a:srgbClr val="000000"/>
              </a:solidFill>
              <a:latin typeface="Arial"/>
            </a:endParaRPr>
          </a:p>
        </p:txBody>
      </p:sp>
      <p:sp>
        <p:nvSpPr>
          <p:cNvPr id="140" name="Text Box 4"/>
          <p:cNvSpPr/>
          <p:nvPr/>
        </p:nvSpPr>
        <p:spPr>
          <a:xfrm>
            <a:off x="942840" y="2982960"/>
            <a:ext cx="3581640" cy="228852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cost of maintenance and repairs is </a:t>
            </a:r>
            <a:r>
              <a:rPr b="1" lang="en-US" sz="2400" spc="-1" strike="noStrike">
                <a:solidFill>
                  <a:srgbClr val="ff0000"/>
                </a:solidFill>
                <a:latin typeface="Arial"/>
              </a:rPr>
              <a:t>relevant</a:t>
            </a:r>
            <a:r>
              <a:rPr b="1" lang="en-US" sz="2400" spc="-1" strike="noStrike">
                <a:solidFill>
                  <a:srgbClr val="165160"/>
                </a:solidFill>
                <a:latin typeface="Arial"/>
              </a:rPr>
              <a:t>. In the long-run these costs depend upon miles driven. </a:t>
            </a:r>
            <a:endParaRPr b="0" lang="en-US" sz="2400" spc="-1" strike="noStrike">
              <a:solidFill>
                <a:srgbClr val="000000"/>
              </a:solidFill>
              <a:latin typeface="Arial"/>
            </a:endParaRPr>
          </a:p>
        </p:txBody>
      </p:sp>
      <p:sp>
        <p:nvSpPr>
          <p:cNvPr id="141" name="Text Box 5"/>
          <p:cNvSpPr/>
          <p:nvPr/>
        </p:nvSpPr>
        <p:spPr>
          <a:xfrm>
            <a:off x="4753080" y="2989440"/>
            <a:ext cx="3581280" cy="2288520"/>
          </a:xfrm>
          <a:prstGeom prst="rect">
            <a:avLst/>
          </a:prstGeom>
          <a:solidFill>
            <a:srgbClr val="fbe0d1"/>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1014"/>
                </a:solidFill>
                <a:latin typeface="Arial"/>
              </a:rPr>
              <a:t>The monthly school parking fee is </a:t>
            </a:r>
            <a:r>
              <a:rPr b="1" lang="en-US" sz="2400" spc="-1" strike="noStrike">
                <a:solidFill>
                  <a:srgbClr val="ff0000"/>
                </a:solidFill>
                <a:latin typeface="Arial"/>
              </a:rPr>
              <a:t>not relevant</a:t>
            </a:r>
            <a:r>
              <a:rPr b="1" lang="en-US" sz="2400" spc="-1" strike="noStrike">
                <a:solidFill>
                  <a:srgbClr val="6d1014"/>
                </a:solidFill>
                <a:latin typeface="Arial"/>
              </a:rPr>
              <a:t> because it must be paid if Cynthia drives or takes the train.</a:t>
            </a:r>
            <a:endParaRPr b="0" lang="en-US" sz="2400" spc="-1" strike="noStrike">
              <a:solidFill>
                <a:srgbClr val="000000"/>
              </a:solidFill>
              <a:latin typeface="Arial"/>
            </a:endParaRPr>
          </a:p>
        </p:txBody>
      </p:sp>
      <p:sp>
        <p:nvSpPr>
          <p:cNvPr id="142" name="Text Box 6"/>
          <p:cNvSpPr/>
          <p:nvPr/>
        </p:nvSpPr>
        <p:spPr>
          <a:xfrm>
            <a:off x="485640" y="5722920"/>
            <a:ext cx="8229600" cy="825480"/>
          </a:xfrm>
          <a:prstGeom prst="rect">
            <a:avLst/>
          </a:prstGeom>
          <a:solidFill>
            <a:srgbClr val="da1f28"/>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is point, we can see that some of the average cost of $0.619 per mile are relevant and others are not.</a:t>
            </a:r>
            <a:endParaRPr b="0" lang="en-US" sz="2400" spc="-1" strike="noStrike">
              <a:solidFill>
                <a:srgbClr val="000000"/>
              </a:solidFill>
              <a:latin typeface="Arial"/>
            </a:endParaRPr>
          </a:p>
        </p:txBody>
      </p:sp>
    </p:spTree>
  </p:cSld>
  <p:transition>
    <p:wipe dir="r"/>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7" presetSubtype="10">
                                  <p:stCondLst>
                                    <p:cond delay="0"/>
                                  </p:stCondLst>
                                  <p:childTnLst>
                                    <p:set>
                                      <p:cBhvr>
                                        <p:cTn id="28" dur="1" fill="hold">
                                          <p:stCondLst>
                                            <p:cond delay="0"/>
                                          </p:stCondLst>
                                        </p:cTn>
                                        <p:tgtEl>
                                          <p:spTgt spid="142"/>
                                        </p:tgtEl>
                                        <p:attrNameLst>
                                          <p:attrName>style.visibility</p:attrName>
                                        </p:attrNameLst>
                                      </p:cBhvr>
                                      <p:to>
                                        <p:strVal val="visible"/>
                                      </p:to>
                                    </p:set>
                                    <p:anim calcmode="lin" valueType="num">
                                      <p:cBhvr additive="repl">
                                        <p:cTn id="29" dur="500" fill="hold"/>
                                        <p:tgtEl>
                                          <p:spTgt spid="142"/>
                                        </p:tgtEl>
                                        <p:attrNameLst>
                                          <p:attrName>ppt_w</p:attrName>
                                        </p:attrNameLst>
                                      </p:cBhvr>
                                      <p:tavLst>
                                        <p:tav tm="0">
                                          <p:val>
                                            <p:fltVal val="0"/>
                                          </p:val>
                                        </p:tav>
                                        <p:tav tm="100000">
                                          <p:val>
                                            <p:strVal val="#ppt_w"/>
                                          </p:val>
                                        </p:tav>
                                      </p:tavLst>
                                    </p:anim>
                                    <p:anim calcmode="lin" valueType="num">
                                      <p:cBhvr additive="repl">
                                        <p:cTn id="30" dur="5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44" name="Text Box 4"/>
          <p:cNvSpPr/>
          <p:nvPr/>
        </p:nvSpPr>
        <p:spPr>
          <a:xfrm>
            <a:off x="946080" y="2781360"/>
            <a:ext cx="3581640" cy="155700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decline in resale value due to additional miles is a </a:t>
            </a:r>
            <a:r>
              <a:rPr b="1" lang="en-US" sz="2400" spc="-1" strike="noStrike">
                <a:solidFill>
                  <a:srgbClr val="ff0000"/>
                </a:solidFill>
                <a:latin typeface="Arial"/>
              </a:rPr>
              <a:t>relevant</a:t>
            </a:r>
            <a:r>
              <a:rPr b="1" lang="en-US" sz="2400" spc="-1" strike="noStrike">
                <a:solidFill>
                  <a:srgbClr val="165160"/>
                </a:solidFill>
                <a:latin typeface="Arial"/>
              </a:rPr>
              <a:t> cost. </a:t>
            </a:r>
            <a:endParaRPr b="0" lang="en-US" sz="2400" spc="-1" strike="noStrike">
              <a:solidFill>
                <a:srgbClr val="000000"/>
              </a:solidFill>
              <a:latin typeface="Arial"/>
            </a:endParaRPr>
          </a:p>
        </p:txBody>
      </p:sp>
      <p:sp>
        <p:nvSpPr>
          <p:cNvPr id="145" name="Text Box 5"/>
          <p:cNvSpPr/>
          <p:nvPr/>
        </p:nvSpPr>
        <p:spPr>
          <a:xfrm>
            <a:off x="4756320" y="2781360"/>
            <a:ext cx="3581280" cy="155700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round-trip train fare is clearly </a:t>
            </a:r>
            <a:r>
              <a:rPr b="1" lang="en-US" sz="2400" spc="-1" strike="noStrike">
                <a:solidFill>
                  <a:srgbClr val="ff0000"/>
                </a:solidFill>
                <a:latin typeface="Arial"/>
              </a:rPr>
              <a:t>relevant</a:t>
            </a:r>
            <a:r>
              <a:rPr b="1" lang="en-US" sz="2400" spc="-1" strike="noStrike">
                <a:solidFill>
                  <a:srgbClr val="165160"/>
                </a:solidFill>
                <a:latin typeface="Arial"/>
              </a:rPr>
              <a:t>. If she drives the cost can be avoided. </a:t>
            </a:r>
            <a:endParaRPr b="0" lang="en-US" sz="2400" spc="-1" strike="noStrike">
              <a:solidFill>
                <a:srgbClr val="000000"/>
              </a:solidFill>
              <a:latin typeface="Arial"/>
            </a:endParaRPr>
          </a:p>
        </p:txBody>
      </p:sp>
      <p:sp>
        <p:nvSpPr>
          <p:cNvPr id="146" name="Text Box 6"/>
          <p:cNvSpPr/>
          <p:nvPr/>
        </p:nvSpPr>
        <p:spPr>
          <a:xfrm>
            <a:off x="870120" y="4610160"/>
            <a:ext cx="3581280" cy="192276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Relaxing on the train is </a:t>
            </a:r>
            <a:r>
              <a:rPr b="1" lang="en-US" sz="2400" spc="-1" strike="noStrike">
                <a:solidFill>
                  <a:srgbClr val="ff0000"/>
                </a:solidFill>
                <a:latin typeface="Arial"/>
              </a:rPr>
              <a:t>relevant</a:t>
            </a:r>
            <a:r>
              <a:rPr b="1" lang="en-US" sz="2400" spc="-1" strike="noStrike">
                <a:solidFill>
                  <a:srgbClr val="165160"/>
                </a:solidFill>
                <a:latin typeface="Arial"/>
              </a:rPr>
              <a:t> even though it is difficult to assign a dollar value to the benefit. </a:t>
            </a:r>
            <a:endParaRPr b="0" lang="en-US" sz="2400" spc="-1" strike="noStrike">
              <a:solidFill>
                <a:srgbClr val="000000"/>
              </a:solidFill>
              <a:latin typeface="Arial"/>
            </a:endParaRPr>
          </a:p>
        </p:txBody>
      </p:sp>
      <p:sp>
        <p:nvSpPr>
          <p:cNvPr id="147" name="Text Box 7"/>
          <p:cNvSpPr/>
          <p:nvPr/>
        </p:nvSpPr>
        <p:spPr>
          <a:xfrm>
            <a:off x="4756320" y="4610160"/>
            <a:ext cx="3581280" cy="1922760"/>
          </a:xfrm>
          <a:prstGeom prst="rect">
            <a:avLst/>
          </a:prstGeom>
          <a:solidFill>
            <a:srgbClr val="fbe0d1"/>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1014"/>
                </a:solidFill>
                <a:latin typeface="Arial"/>
              </a:rPr>
              <a:t>The kennel cost is </a:t>
            </a:r>
            <a:r>
              <a:rPr b="1" lang="en-US" sz="2400" spc="-1" strike="noStrike">
                <a:solidFill>
                  <a:srgbClr val="ff0000"/>
                </a:solidFill>
                <a:latin typeface="Arial"/>
              </a:rPr>
              <a:t>not relevant</a:t>
            </a:r>
            <a:r>
              <a:rPr b="1" lang="en-US" sz="2400" spc="-1" strike="noStrike">
                <a:solidFill>
                  <a:srgbClr val="6d1014"/>
                </a:solidFill>
                <a:latin typeface="Arial"/>
              </a:rPr>
              <a:t> because Cynthia will incur the cost if she drives or takes the train.</a:t>
            </a:r>
            <a:endParaRPr b="0" lang="en-US" sz="2400" spc="-1" strike="noStrike">
              <a:solidFill>
                <a:srgbClr val="000000"/>
              </a:solidFill>
              <a:latin typeface="Arial"/>
            </a:endParaRPr>
          </a:p>
        </p:txBody>
      </p:sp>
      <p:sp>
        <p:nvSpPr>
          <p:cNvPr id="148" name="Text Box 3"/>
          <p:cNvSpPr/>
          <p:nvPr/>
        </p:nvSpPr>
        <p:spPr>
          <a:xfrm>
            <a:off x="638280" y="1676520"/>
            <a:ext cx="7848360" cy="825480"/>
          </a:xfrm>
          <a:prstGeom prst="rect">
            <a:avLst/>
          </a:prstGeom>
          <a:solidFill>
            <a:srgbClr val="227a8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costs and benefits are relevant in Cynthia’s decision?</a:t>
            </a:r>
            <a:endParaRPr b="0" lang="en-US" sz="2400" spc="-1" strike="noStrike">
              <a:solidFill>
                <a:srgbClr val="000000"/>
              </a:solidFill>
              <a:latin typeface="Arial"/>
            </a:endParaRPr>
          </a:p>
        </p:txBody>
      </p:sp>
    </p:spTree>
  </p:cSld>
  <p:transition spd="med">
    <p:blinds dir="vert"/>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9">
                                  <p:stCondLst>
                                    <p:cond delay="0"/>
                                  </p:stCondLst>
                                  <p:childTnLst>
                                    <p:set>
                                      <p:cBhvr>
                                        <p:cTn id="36" dur="1" fill="hold">
                                          <p:stCondLst>
                                            <p:cond delay="0"/>
                                          </p:stCondLst>
                                        </p:cTn>
                                        <p:tgtEl>
                                          <p:spTgt spid="147"/>
                                        </p:tgtEl>
                                        <p:attrNameLst>
                                          <p:attrName>style.visibility</p:attrName>
                                        </p:attrNameLst>
                                      </p:cBhvr>
                                      <p:to>
                                        <p:strVal val="visible"/>
                                      </p:to>
                                    </p:set>
                                    <p:animEffect filter="dissolve" transition="in">
                                      <p:cBhvr additive="repl">
                                        <p:cTn id="3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50" name="Text Box 4"/>
          <p:cNvSpPr/>
          <p:nvPr/>
        </p:nvSpPr>
        <p:spPr>
          <a:xfrm>
            <a:off x="2698920" y="2743200"/>
            <a:ext cx="3581280" cy="192276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d54"/>
                </a:solidFill>
                <a:latin typeface="Arial"/>
              </a:rPr>
              <a:t>The cost of parking in New York is </a:t>
            </a:r>
            <a:r>
              <a:rPr b="1" lang="en-US" sz="2400" spc="-1" strike="noStrike">
                <a:solidFill>
                  <a:srgbClr val="ff0000"/>
                </a:solidFill>
                <a:latin typeface="Arial"/>
              </a:rPr>
              <a:t>relevant</a:t>
            </a:r>
            <a:r>
              <a:rPr b="1" lang="en-US" sz="2400" spc="-1" strike="noStrike">
                <a:solidFill>
                  <a:srgbClr val="373d54"/>
                </a:solidFill>
                <a:latin typeface="Arial"/>
              </a:rPr>
              <a:t> because it can be avoided if she takes the train. </a:t>
            </a:r>
            <a:endParaRPr b="0" lang="en-US" sz="2400" spc="-1" strike="noStrike">
              <a:solidFill>
                <a:srgbClr val="000000"/>
              </a:solidFill>
              <a:latin typeface="Arial"/>
            </a:endParaRPr>
          </a:p>
        </p:txBody>
      </p:sp>
      <p:sp>
        <p:nvSpPr>
          <p:cNvPr id="151" name="Text Box 5"/>
          <p:cNvSpPr/>
          <p:nvPr/>
        </p:nvSpPr>
        <p:spPr>
          <a:xfrm>
            <a:off x="1174680" y="4915080"/>
            <a:ext cx="6782040" cy="155700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The benefits of having a car in New York and the problems of finding a parking space are both </a:t>
            </a:r>
            <a:r>
              <a:rPr b="1" lang="en-US" sz="2400" spc="-1" strike="noStrike">
                <a:solidFill>
                  <a:srgbClr val="ff0000"/>
                </a:solidFill>
                <a:latin typeface="Arial"/>
              </a:rPr>
              <a:t>relevant</a:t>
            </a:r>
            <a:r>
              <a:rPr b="1" lang="en-US" sz="2400" spc="-1" strike="noStrike">
                <a:solidFill>
                  <a:srgbClr val="165160"/>
                </a:solidFill>
                <a:latin typeface="Arial"/>
              </a:rPr>
              <a:t> but are difficult to assign a dollar amount.</a:t>
            </a:r>
            <a:endParaRPr b="0" lang="en-US" sz="2400" spc="-1" strike="noStrike">
              <a:solidFill>
                <a:srgbClr val="000000"/>
              </a:solidFill>
              <a:latin typeface="Arial"/>
            </a:endParaRPr>
          </a:p>
        </p:txBody>
      </p:sp>
      <p:sp>
        <p:nvSpPr>
          <p:cNvPr id="152" name="Text Box 3"/>
          <p:cNvSpPr/>
          <p:nvPr/>
        </p:nvSpPr>
        <p:spPr>
          <a:xfrm>
            <a:off x="638280" y="1676520"/>
            <a:ext cx="7848360" cy="825480"/>
          </a:xfrm>
          <a:prstGeom prst="rect">
            <a:avLst/>
          </a:prstGeom>
          <a:solidFill>
            <a:srgbClr val="227a8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costs and benefits are relevant in Cynthia’s decision?</a:t>
            </a:r>
            <a:endParaRPr b="0"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54" name="Text Box 1027"/>
          <p:cNvSpPr/>
          <p:nvPr/>
        </p:nvSpPr>
        <p:spPr>
          <a:xfrm>
            <a:off x="533520" y="1600200"/>
            <a:ext cx="8047080" cy="1191240"/>
          </a:xfrm>
          <a:prstGeom prst="rect">
            <a:avLst/>
          </a:prstGeom>
          <a:solidFill>
            <a:srgbClr val="227a8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a financial standpoint, Cynthia would be better off taking the train to visit her friend. Some of the non-financial factors may influence her final decision.</a:t>
            </a:r>
            <a:endParaRPr b="0" lang="en-US" sz="2400" spc="-1" strike="noStrike">
              <a:solidFill>
                <a:srgbClr val="000000"/>
              </a:solidFill>
              <a:latin typeface="Arial"/>
            </a:endParaRPr>
          </a:p>
        </p:txBody>
      </p:sp>
      <p:graphicFrame>
        <p:nvGraphicFramePr>
          <p:cNvPr id="155" name="Object 2"/>
          <p:cNvGraphicFramePr/>
          <p:nvPr/>
        </p:nvGraphicFramePr>
        <p:xfrm>
          <a:off x="1382760" y="3041640"/>
          <a:ext cx="6507000" cy="1976400"/>
        </p:xfrm>
        <a:graphic>
          <a:graphicData uri="http://schemas.openxmlformats.org/presentationml/2006/ole">
            <p:oleObj progId="Excel.Sheet.12" r:id="rId1" spid="">
              <p:embed/>
              <p:pic>
                <p:nvPicPr>
                  <p:cNvPr id="156" name="Object 2" descr=""/>
                  <p:cNvPicPr/>
                  <p:nvPr/>
                </p:nvPicPr>
                <p:blipFill>
                  <a:blip r:embed="rId2"/>
                  <a:stretch/>
                </p:blipFill>
                <p:spPr>
                  <a:xfrm>
                    <a:off x="1382760" y="3041640"/>
                    <a:ext cx="6507000" cy="1976400"/>
                  </a:xfrm>
                  <a:prstGeom prst="rect">
                    <a:avLst/>
                  </a:prstGeom>
                  <a:ln w="0">
                    <a:noFill/>
                  </a:ln>
                </p:spPr>
              </p:pic>
            </p:oleObj>
          </a:graphicData>
        </a:graphic>
      </p:graphicFrame>
      <p:graphicFrame>
        <p:nvGraphicFramePr>
          <p:cNvPr id="157" name="Object 3"/>
          <p:cNvGraphicFramePr/>
          <p:nvPr/>
        </p:nvGraphicFramePr>
        <p:xfrm>
          <a:off x="1143000" y="5257800"/>
          <a:ext cx="6940440" cy="905040"/>
        </p:xfrm>
        <a:graphic>
          <a:graphicData uri="http://schemas.openxmlformats.org/presentationml/2006/ole">
            <p:oleObj progId="Excel.Sheet.12" r:id="rId3" spid="">
              <p:embed/>
              <p:pic>
                <p:nvPicPr>
                  <p:cNvPr id="158" name="Object 3" descr=""/>
                  <p:cNvPicPr/>
                  <p:nvPr/>
                </p:nvPicPr>
                <p:blipFill>
                  <a:blip r:embed="rId4"/>
                  <a:stretch/>
                </p:blipFill>
                <p:spPr>
                  <a:xfrm>
                    <a:off x="1143000" y="5257800"/>
                    <a:ext cx="6940440" cy="905040"/>
                  </a:xfrm>
                  <a:prstGeom prst="rect">
                    <a:avLst/>
                  </a:prstGeom>
                  <a:ln w="0">
                    <a:noFill/>
                  </a:ln>
                </p:spPr>
              </p:pic>
            </p:oleObj>
          </a:graphicData>
        </a:graphic>
      </p:graphicFrame>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otal and Differential Cost Approaches</a:t>
            </a:r>
            <a:endParaRPr b="0" lang="en-US" sz="3600" spc="-1" strike="noStrike">
              <a:solidFill>
                <a:srgbClr val="464646"/>
              </a:solidFill>
              <a:latin typeface="Arial"/>
            </a:endParaRPr>
          </a:p>
        </p:txBody>
      </p:sp>
      <p:sp>
        <p:nvSpPr>
          <p:cNvPr id="160" name="Text Box 3"/>
          <p:cNvSpPr/>
          <p:nvPr/>
        </p:nvSpPr>
        <p:spPr>
          <a:xfrm>
            <a:off x="380880" y="1523880"/>
            <a:ext cx="8382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3535"/>
                </a:solidFill>
                <a:latin typeface="Arial"/>
              </a:rPr>
              <a:t>The management of a company is considering a new labor saving machine that rents for $3,000 per year. Data about the company’s annual sales and costs with and without the new machine are:</a:t>
            </a:r>
            <a:endParaRPr b="0" lang="en-US" sz="2000" spc="-1" strike="noStrike">
              <a:solidFill>
                <a:srgbClr val="000000"/>
              </a:solidFill>
              <a:latin typeface="Arial"/>
            </a:endParaRPr>
          </a:p>
        </p:txBody>
      </p:sp>
      <p:graphicFrame>
        <p:nvGraphicFramePr>
          <p:cNvPr id="161" name="Object 2"/>
          <p:cNvGraphicFramePr/>
          <p:nvPr/>
        </p:nvGraphicFramePr>
        <p:xfrm>
          <a:off x="228600" y="2625840"/>
          <a:ext cx="8686800" cy="4079880"/>
        </p:xfrm>
        <a:graphic>
          <a:graphicData uri="http://schemas.openxmlformats.org/presentationml/2006/ole">
            <p:oleObj progId="Excel.Sheet.12" r:id="rId1" spid="">
              <p:embed/>
              <p:pic>
                <p:nvPicPr>
                  <p:cNvPr id="162" name="Object 2" descr=""/>
                  <p:cNvPicPr/>
                  <p:nvPr/>
                </p:nvPicPr>
                <p:blipFill>
                  <a:blip r:embed="rId2"/>
                  <a:stretch/>
                </p:blipFill>
                <p:spPr>
                  <a:xfrm>
                    <a:off x="228600" y="2625840"/>
                    <a:ext cx="8686800" cy="4079880"/>
                  </a:xfrm>
                  <a:prstGeom prst="rect">
                    <a:avLst/>
                  </a:prstGeom>
                  <a:ln w="0">
                    <a:noFill/>
                  </a:ln>
                </p:spPr>
              </p:pic>
            </p:oleObj>
          </a:graphicData>
        </a:graphic>
      </p:graphicFrame>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otal and Differential Cost Approaches</a:t>
            </a:r>
            <a:endParaRPr b="0" lang="en-US" sz="3600" spc="-1" strike="noStrike">
              <a:solidFill>
                <a:srgbClr val="464646"/>
              </a:solidFill>
              <a:latin typeface="Arial"/>
            </a:endParaRPr>
          </a:p>
        </p:txBody>
      </p:sp>
      <p:sp>
        <p:nvSpPr>
          <p:cNvPr id="164" name="Text Box 4"/>
          <p:cNvSpPr/>
          <p:nvPr/>
        </p:nvSpPr>
        <p:spPr>
          <a:xfrm>
            <a:off x="228600" y="144792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you can see, the only costs that differ between the alternatives are the direct labor costs savings and the increase in fixed rental costs.</a:t>
            </a:r>
            <a:endParaRPr b="0" lang="en-US" sz="2400" spc="-1" strike="noStrike">
              <a:solidFill>
                <a:srgbClr val="000000"/>
              </a:solidFill>
              <a:latin typeface="Arial"/>
            </a:endParaRPr>
          </a:p>
        </p:txBody>
      </p:sp>
      <p:graphicFrame>
        <p:nvGraphicFramePr>
          <p:cNvPr id="165" name="Object 4"/>
          <p:cNvGraphicFramePr/>
          <p:nvPr/>
        </p:nvGraphicFramePr>
        <p:xfrm>
          <a:off x="228600" y="2625840"/>
          <a:ext cx="8686800" cy="4079880"/>
        </p:xfrm>
        <a:graphic>
          <a:graphicData uri="http://schemas.openxmlformats.org/presentationml/2006/ole">
            <p:oleObj progId="Excel.Sheet.12" r:id="rId1" spid="">
              <p:embed/>
              <p:pic>
                <p:nvPicPr>
                  <p:cNvPr id="166" name="Object 4" descr=""/>
                  <p:cNvPicPr/>
                  <p:nvPr/>
                </p:nvPicPr>
                <p:blipFill>
                  <a:blip r:embed="rId2"/>
                  <a:stretch/>
                </p:blipFill>
                <p:spPr>
                  <a:xfrm>
                    <a:off x="228600" y="2625840"/>
                    <a:ext cx="8686800" cy="4079880"/>
                  </a:xfrm>
                  <a:prstGeom prst="rect">
                    <a:avLst/>
                  </a:prstGeom>
                  <a:ln w="0">
                    <a:noFill/>
                  </a:ln>
                </p:spPr>
              </p:pic>
            </p:oleObj>
          </a:graphicData>
        </a:graphic>
      </p:graphicFrame>
      <p:grpSp>
        <p:nvGrpSpPr>
          <p:cNvPr id="167" name="Group 5"/>
          <p:cNvGrpSpPr/>
          <p:nvPr/>
        </p:nvGrpSpPr>
        <p:grpSpPr>
          <a:xfrm>
            <a:off x="1371600" y="3809880"/>
            <a:ext cx="6324480" cy="2590920"/>
            <a:chOff x="1371600" y="3809880"/>
            <a:chExt cx="6324480" cy="2590920"/>
          </a:xfrm>
        </p:grpSpPr>
        <p:sp>
          <p:nvSpPr>
            <p:cNvPr id="168" name="Rectangle 6"/>
            <p:cNvSpPr/>
            <p:nvPr/>
          </p:nvSpPr>
          <p:spPr>
            <a:xfrm>
              <a:off x="1371600" y="3809880"/>
              <a:ext cx="6324480" cy="2590920"/>
            </a:xfrm>
            <a:prstGeom prst="rect">
              <a:avLst/>
            </a:prstGeom>
            <a:solidFill>
              <a:srgbClr val="f7c1a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Arial"/>
                </a:rPr>
                <a:t>We can efficiently analyze the decision by</a:t>
              </a:r>
              <a:br>
                <a:rPr sz="2200"/>
              </a:br>
              <a:r>
                <a:rPr b="1" lang="en-US" sz="2200" spc="-1" strike="noStrike">
                  <a:solidFill>
                    <a:srgbClr val="663300"/>
                  </a:solidFill>
                  <a:latin typeface="Arial"/>
                </a:rPr>
                <a:t>looking at the different costs and revenues </a:t>
              </a:r>
              <a:br>
                <a:rPr sz="2200"/>
              </a:br>
              <a:r>
                <a:rPr b="1" lang="en-US" sz="2200" spc="-1" strike="noStrike">
                  <a:solidFill>
                    <a:srgbClr val="663300"/>
                  </a:solidFill>
                  <a:latin typeface="Arial"/>
                </a:rPr>
                <a:t>and arrive at the same solution</a:t>
              </a:r>
              <a:r>
                <a:rPr b="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Object 3"/>
            <p:cNvGraphicFramePr/>
            <p:nvPr/>
          </p:nvGraphicFramePr>
          <p:xfrm>
            <a:off x="1530360" y="5037120"/>
            <a:ext cx="6018120" cy="1211040"/>
          </p:xfrm>
          <a:graphic>
            <a:graphicData uri="http://schemas.openxmlformats.org/presentationml/2006/ole">
              <p:oleObj progId="Excel.Sheet.12" r:id="rId3" spid="">
                <p:embed/>
                <p:pic>
                  <p:nvPicPr>
                    <p:cNvPr id="170" name="Object 3" descr=""/>
                    <p:cNvPicPr/>
                    <p:nvPr/>
                  </p:nvPicPr>
                  <p:blipFill>
                    <a:blip r:embed="rId4"/>
                    <a:stretch/>
                  </p:blipFill>
                  <p:spPr>
                    <a:xfrm>
                      <a:off x="1530360" y="5037120"/>
                      <a:ext cx="6018120" cy="1211040"/>
                    </a:xfrm>
                    <a:prstGeom prst="rect">
                      <a:avLst/>
                    </a:prstGeom>
                    <a:ln w="0">
                      <a:noFill/>
                    </a:ln>
                  </p:spPr>
                </p:pic>
              </p:oleObj>
            </a:graphicData>
          </a:graphic>
        </p:graphicFrame>
      </p:grpSp>
    </p:spTree>
  </p:cSld>
  <p:transition>
    <p:zoom dir="ou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167"/>
                                        </p:tgtEl>
                                        <p:attrNameLst>
                                          <p:attrName>style.visibility</p:attrName>
                                        </p:attrNameLst>
                                      </p:cBhvr>
                                      <p:to>
                                        <p:strVal val="visible"/>
                                      </p:to>
                                    </p:set>
                                    <p:animEffect filter="fade" transition="in">
                                      <p:cBhvr additive="repl">
                                        <p:cTn id="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otal and Differential Cost Approaches</a:t>
            </a:r>
            <a:endParaRPr b="0" lang="en-US" sz="3600" spc="-1" strike="noStrike">
              <a:solidFill>
                <a:srgbClr val="464646"/>
              </a:solidFill>
              <a:latin typeface="Arial"/>
            </a:endParaRPr>
          </a:p>
        </p:txBody>
      </p:sp>
      <p:sp>
        <p:nvSpPr>
          <p:cNvPr id="172" name="Text Box 3"/>
          <p:cNvSpPr/>
          <p:nvPr/>
        </p:nvSpPr>
        <p:spPr>
          <a:xfrm>
            <a:off x="457200" y="1676520"/>
            <a:ext cx="8153280" cy="437760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Using the differential approach is desirable for two reasons:</a:t>
            </a:r>
            <a:endParaRPr b="0" lang="en-US" sz="2800" spc="-1" strike="noStrike">
              <a:solidFill>
                <a:srgbClr val="000000"/>
              </a:solidFill>
              <a:latin typeface="Arial"/>
            </a:endParaRPr>
          </a:p>
          <a:p>
            <a:pPr marL="457200" indent="-457200">
              <a:spcBef>
                <a:spcPts val="1749"/>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Only rarely will enough information be available to prepare detailed income statements for both alternatives.</a:t>
            </a:r>
            <a:endParaRPr b="0" lang="en-US" sz="2800" spc="-1" strike="noStrike">
              <a:solidFill>
                <a:srgbClr val="000000"/>
              </a:solidFill>
              <a:latin typeface="Arial"/>
            </a:endParaRPr>
          </a:p>
          <a:p>
            <a:pPr marL="457200" indent="-457200">
              <a:spcBef>
                <a:spcPts val="1749"/>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Mingling irrelevant costs with relevant costs may cause confusion and distract attention away from the information that is really critical.</a:t>
            </a:r>
            <a:endParaRPr b="0"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174" name="Text Box 13"/>
          <p:cNvSpPr/>
          <p:nvPr/>
        </p:nvSpPr>
        <p:spPr>
          <a:xfrm>
            <a:off x="1905120" y="2057400"/>
            <a:ext cx="5333760" cy="32000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n analysis showing whether a product line or other business segment should be added or dropped.</a:t>
            </a:r>
            <a:endParaRPr b="0" lang="en-US" sz="34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ding/Dropping Segments</a:t>
            </a:r>
            <a:endParaRPr b="0" lang="en-US" sz="4000" spc="-1" strike="noStrike">
              <a:solidFill>
                <a:srgbClr val="464646"/>
              </a:solidFill>
              <a:latin typeface="Arial"/>
            </a:endParaRPr>
          </a:p>
        </p:txBody>
      </p:sp>
      <p:sp>
        <p:nvSpPr>
          <p:cNvPr id="176" name="PlaceHolder 2"/>
          <p:cNvSpPr>
            <a:spLocks noGrp="1"/>
          </p:cNvSpPr>
          <p:nvPr>
            <p:ph/>
          </p:nvPr>
        </p:nvSpPr>
        <p:spPr>
          <a:xfrm>
            <a:off x="304560" y="1752120"/>
            <a:ext cx="4800600" cy="4496040"/>
          </a:xfrm>
          <a:prstGeom prst="rect">
            <a:avLst/>
          </a:prstGeom>
          <a:solidFill>
            <a:srgbClr val="f9d1d3"/>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 of the most important decisions managers make is whether to add or drop a business segment. Ultimately, a decision  to drop an old segment or add a new one is going to hinge primarily on the impact the decision will have on net operating income. </a:t>
            </a:r>
            <a:endParaRPr b="0" lang="en-US" sz="2600" spc="-1" strike="noStrike">
              <a:solidFill>
                <a:srgbClr val="000000"/>
              </a:solidFill>
              <a:latin typeface="Arial"/>
            </a:endParaRPr>
          </a:p>
        </p:txBody>
      </p:sp>
      <p:pic>
        <p:nvPicPr>
          <p:cNvPr id="177" name="Picture 2" descr="C:\Documents and Settings\Dodd and Susan\Local Settings\Temporary Internet Files\Content.IE5\9MR6B6R4\MCj04114980000[1].wmf"/>
          <p:cNvPicPr/>
          <p:nvPr/>
        </p:nvPicPr>
        <p:blipFill>
          <a:blip r:embed="rId1"/>
          <a:stretch/>
        </p:blipFill>
        <p:spPr>
          <a:xfrm>
            <a:off x="6037200" y="1623960"/>
            <a:ext cx="2268720" cy="2643120"/>
          </a:xfrm>
          <a:prstGeom prst="rect">
            <a:avLst/>
          </a:prstGeom>
          <a:ln w="0">
            <a:noFill/>
          </a:ln>
        </p:spPr>
      </p:pic>
      <p:sp>
        <p:nvSpPr>
          <p:cNvPr id="178" name="PlaceHolder 3"/>
          <p:cNvSpPr>
            <a:spLocks noGrp="1"/>
          </p:cNvSpPr>
          <p:nvPr>
            <p:ph/>
          </p:nvPr>
        </p:nvSpPr>
        <p:spPr>
          <a:xfrm>
            <a:off x="5257800" y="4571640"/>
            <a:ext cx="3581280" cy="2057400"/>
          </a:xfrm>
          <a:prstGeom prst="rect">
            <a:avLst/>
          </a:prstGeom>
          <a:solidFill>
            <a:srgbClr val="fbe0d1"/>
          </a:solidFill>
          <a:ln w="12600">
            <a:solidFill>
              <a:srgbClr val="000000"/>
            </a:solidFill>
            <a:miter/>
          </a:ln>
          <a:effectLst>
            <a:outerShdw dist="36147" dir="2700000" blurRad="0" rotWithShape="0">
              <a:srgbClr val="000000"/>
            </a:outerShdw>
          </a:effectLst>
        </p:spPr>
        <p:txBody>
          <a:bodyPr lIns="90360" rIns="90360" tIns="44280" bIns="44280" anchor="t">
            <a:normAutofit fontScale="99000"/>
          </a:bodyPr>
          <a:p>
            <a:pPr marL="36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To assess this impact, it is necessary to carefully analyze   the costs.</a:t>
            </a:r>
            <a:endParaRPr b="0" lang="en-US" sz="26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ding/Dropping Segments</a:t>
            </a:r>
            <a:endParaRPr b="0" lang="en-US" sz="4000" spc="-1" strike="noStrike">
              <a:solidFill>
                <a:srgbClr val="464646"/>
              </a:solidFill>
              <a:latin typeface="Arial"/>
            </a:endParaRPr>
          </a:p>
        </p:txBody>
      </p:sp>
      <p:sp>
        <p:nvSpPr>
          <p:cNvPr id="180" name="PlaceHolder 2"/>
          <p:cNvSpPr>
            <a:spLocks noGrp="1"/>
          </p:cNvSpPr>
          <p:nvPr>
            <p:ph/>
          </p:nvPr>
        </p:nvSpPr>
        <p:spPr>
          <a:xfrm>
            <a:off x="533160" y="2514600"/>
            <a:ext cx="8001000" cy="3124080"/>
          </a:xfrm>
          <a:prstGeom prst="rect">
            <a:avLst/>
          </a:prstGeom>
          <a:solidFill>
            <a:srgbClr val="d4dfe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rPr>
              <a:t>Due to the declining popularity of digital watches, Lovell Company’s digital watch line has not reported a profit for several years.  Lovell is considering discontinuing this product line.</a:t>
            </a:r>
            <a:endParaRPr b="0" lang="en-US" sz="3200" spc="-1" strike="noStrike">
              <a:solidFill>
                <a:srgbClr val="000000"/>
              </a:solidFill>
              <a:latin typeface="Arial"/>
            </a:endParaRPr>
          </a:p>
        </p:txBody>
      </p:sp>
      <p:pic>
        <p:nvPicPr>
          <p:cNvPr id="181" name="Picture 1" descr=""/>
          <p:cNvPicPr/>
          <p:nvPr/>
        </p:nvPicPr>
        <p:blipFill>
          <a:blip r:embed="rId1"/>
          <a:stretch/>
        </p:blipFill>
        <p:spPr>
          <a:xfrm>
            <a:off x="8388360" y="571680"/>
            <a:ext cx="596880" cy="83808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97" name="Text Box 13"/>
          <p:cNvSpPr/>
          <p:nvPr/>
        </p:nvSpPr>
        <p:spPr>
          <a:xfrm>
            <a:off x="1905120" y="259092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Identify relevant and irrelevant costs and benefits in a decision.</a:t>
            </a:r>
            <a:endParaRPr b="0" lang="en-US" sz="34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 Contribution Margin Approach</a:t>
            </a:r>
            <a:endParaRPr b="0" lang="en-US" sz="4000" spc="-1" strike="noStrike">
              <a:solidFill>
                <a:srgbClr val="464646"/>
              </a:solidFill>
              <a:latin typeface="Arial"/>
            </a:endParaRPr>
          </a:p>
        </p:txBody>
      </p:sp>
      <p:sp>
        <p:nvSpPr>
          <p:cNvPr id="183" name=""/>
          <p:cNvSpPr txBox="1"/>
          <p:nvPr/>
        </p:nvSpPr>
        <p:spPr>
          <a:xfrm>
            <a:off x="457200" y="1563840"/>
            <a:ext cx="8229600" cy="4913280"/>
          </a:xfrm>
          <a:prstGeom prst="rect">
            <a:avLst/>
          </a:prstGeom>
          <a:solidFill>
            <a:srgbClr val="ccecff"/>
          </a:solidFill>
          <a:ln w="12600">
            <a:solidFill>
              <a:srgbClr val="000000"/>
            </a:solidFill>
            <a:miter/>
          </a:ln>
          <a:effectLst>
            <a:outerShdw dist="53966" dir="2700000" blurRad="0" rotWithShape="0">
              <a:srgbClr val="000000"/>
            </a:outerShdw>
          </a:effectLst>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639d"/>
                </a:solidFill>
                <a:latin typeface="Arial"/>
              </a:rPr>
              <a:t>DECISION RULE</a:t>
            </a:r>
            <a:endParaRPr b="0" lang="en-US" sz="32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vell should drop the digital watch segment only if its profit would increase.</a:t>
            </a:r>
            <a:endParaRPr b="0" lang="en-US" sz="32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vell will compare the contribution margin that would be lost to the costs  that would be avoided if the line was to be dropped. </a:t>
            </a:r>
            <a:endParaRPr b="0" lang="en-US" sz="3200" spc="-1" strike="noStrike">
              <a:solidFill>
                <a:srgbClr val="000000"/>
              </a:solidFill>
              <a:latin typeface="Arial"/>
            </a:endParaRPr>
          </a:p>
        </p:txBody>
      </p:sp>
      <p:pic>
        <p:nvPicPr>
          <p:cNvPr id="184" name="Picture 4" descr=""/>
          <p:cNvPicPr/>
          <p:nvPr/>
        </p:nvPicPr>
        <p:blipFill>
          <a:blip r:embed="rId1"/>
          <a:stretch/>
        </p:blipFill>
        <p:spPr>
          <a:xfrm>
            <a:off x="8388360" y="571680"/>
            <a:ext cx="596880" cy="8380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ding/Dropping Segments</a:t>
            </a:r>
            <a:endParaRPr b="0" lang="en-US" sz="4000" spc="-1" strike="noStrike">
              <a:solidFill>
                <a:srgbClr val="464646"/>
              </a:solidFill>
              <a:latin typeface="Arial"/>
            </a:endParaRPr>
          </a:p>
        </p:txBody>
      </p:sp>
      <p:graphicFrame>
        <p:nvGraphicFramePr>
          <p:cNvPr id="186" name="Object 2"/>
          <p:cNvGraphicFramePr/>
          <p:nvPr/>
        </p:nvGraphicFramePr>
        <p:xfrm>
          <a:off x="228600" y="1523880"/>
          <a:ext cx="8690040" cy="5181840"/>
        </p:xfrm>
        <a:graphic>
          <a:graphicData uri="http://schemas.openxmlformats.org/presentationml/2006/ole">
            <p:oleObj progId="Excel.Sheet.12" r:id="rId1" spid="">
              <p:embed/>
              <p:pic>
                <p:nvPicPr>
                  <p:cNvPr id="187" name="Object 2" descr=""/>
                  <p:cNvPicPr/>
                  <p:nvPr/>
                </p:nvPicPr>
                <p:blipFill>
                  <a:blip r:embed="rId2"/>
                  <a:stretch/>
                </p:blipFill>
                <p:spPr>
                  <a:xfrm>
                    <a:off x="228600" y="1523880"/>
                    <a:ext cx="8690040" cy="5181840"/>
                  </a:xfrm>
                  <a:prstGeom prst="rect">
                    <a:avLst/>
                  </a:prstGeom>
                  <a:ln w="0">
                    <a:noFill/>
                  </a:ln>
                </p:spPr>
              </p:pic>
            </p:oleObj>
          </a:graphicData>
        </a:graphic>
      </p:graphicFrame>
      <p:pic>
        <p:nvPicPr>
          <p:cNvPr id="188" name="Picture 4" descr=""/>
          <p:cNvPicPr/>
          <p:nvPr/>
        </p:nvPicPr>
        <p:blipFill>
          <a:blip r:embed="rId3"/>
          <a:stretch/>
        </p:blipFill>
        <p:spPr>
          <a:xfrm>
            <a:off x="8388360" y="571680"/>
            <a:ext cx="596880" cy="8380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Object 3"/>
          <p:cNvGraphicFramePr/>
          <p:nvPr/>
        </p:nvGraphicFramePr>
        <p:xfrm>
          <a:off x="228600" y="1523880"/>
          <a:ext cx="8690040" cy="5181840"/>
        </p:xfrm>
        <a:graphic>
          <a:graphicData uri="http://schemas.openxmlformats.org/presentationml/2006/ole">
            <p:oleObj progId="Excel.Sheet.12" r:id="rId1" spid="">
              <p:embed/>
              <p:pic>
                <p:nvPicPr>
                  <p:cNvPr id="190" name="Object 3" descr=""/>
                  <p:cNvPicPr/>
                  <p:nvPr/>
                </p:nvPicPr>
                <p:blipFill>
                  <a:blip r:embed="rId2"/>
                  <a:stretch/>
                </p:blipFill>
                <p:spPr>
                  <a:xfrm>
                    <a:off x="228600" y="1523880"/>
                    <a:ext cx="8690040" cy="5181840"/>
                  </a:xfrm>
                  <a:prstGeom prst="rect">
                    <a:avLst/>
                  </a:prstGeom>
                  <a:ln w="0">
                    <a:noFill/>
                  </a:ln>
                </p:spPr>
              </p:pic>
            </p:oleObj>
          </a:graphicData>
        </a:graphic>
      </p:graphicFrame>
      <p:sp>
        <p:nvSpPr>
          <p:cNvPr id="19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ding/Dropping Segments</a:t>
            </a:r>
            <a:endParaRPr b="0" lang="en-US" sz="4000" spc="-1" strike="noStrike">
              <a:solidFill>
                <a:srgbClr val="464646"/>
              </a:solidFill>
              <a:latin typeface="Arial"/>
            </a:endParaRPr>
          </a:p>
        </p:txBody>
      </p:sp>
      <p:sp>
        <p:nvSpPr>
          <p:cNvPr id="192" name="Rectangle 4"/>
          <p:cNvSpPr/>
          <p:nvPr/>
        </p:nvSpPr>
        <p:spPr>
          <a:xfrm>
            <a:off x="609480" y="2354400"/>
            <a:ext cx="7696440" cy="2969280"/>
          </a:xfrm>
          <a:prstGeom prst="rect">
            <a:avLst/>
          </a:prstGeom>
          <a:solidFill>
            <a:srgbClr val="1faecd"/>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a1f28"/>
                </a:solidFill>
                <a:latin typeface="Arial"/>
              </a:rPr>
              <a:t>An investigation has revealed that </a:t>
            </a:r>
            <a:r>
              <a:rPr b="0" lang="en-US" sz="2700" spc="-1" strike="noStrike">
                <a:solidFill>
                  <a:srgbClr val="ffffff"/>
                </a:solidFill>
                <a:latin typeface="Arial"/>
              </a:rPr>
              <a:t>the fixed general factory overhead</a:t>
            </a:r>
            <a:r>
              <a:rPr b="0" lang="en-US" sz="2700" spc="-1" strike="noStrike">
                <a:solidFill>
                  <a:srgbClr val="ffff00"/>
                </a:solidFill>
                <a:latin typeface="Arial"/>
              </a:rPr>
              <a:t> </a:t>
            </a:r>
            <a:r>
              <a:rPr b="0" lang="en-US" sz="2700" spc="-1" strike="noStrike">
                <a:solidFill>
                  <a:srgbClr val="da1f28"/>
                </a:solidFill>
                <a:latin typeface="Arial"/>
              </a:rPr>
              <a:t>and</a:t>
            </a:r>
            <a:r>
              <a:rPr b="0" lang="en-US" sz="2700" spc="-1" strike="noStrike">
                <a:solidFill>
                  <a:srgbClr val="ffff00"/>
                </a:solidFill>
                <a:latin typeface="Arial"/>
              </a:rPr>
              <a:t> </a:t>
            </a:r>
            <a:r>
              <a:rPr b="0" lang="en-US" sz="2700" spc="-1" strike="noStrike">
                <a:solidFill>
                  <a:srgbClr val="ffffff"/>
                </a:solidFill>
                <a:latin typeface="Arial"/>
              </a:rPr>
              <a:t>fixed general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ministrative expenses</a:t>
            </a:r>
            <a:r>
              <a:rPr b="0" lang="en-US" sz="2700" spc="-1" strike="noStrike">
                <a:solidFill>
                  <a:srgbClr val="ffff00"/>
                </a:solidFill>
                <a:latin typeface="Arial"/>
              </a:rPr>
              <a:t> </a:t>
            </a:r>
            <a:r>
              <a:rPr b="0" lang="en-US" sz="2700" spc="-1" strike="noStrike">
                <a:solidFill>
                  <a:srgbClr val="da1f28"/>
                </a:solidFill>
                <a:latin typeface="Arial"/>
              </a:rPr>
              <a:t>will not be affected by dropping the digital watch line. The fixed general factory overhead and general administrative expenses assigned to this product would be reallocated to other product lines.</a:t>
            </a:r>
            <a:endParaRPr b="0" lang="en-US" sz="2700" spc="-1" strike="noStrike">
              <a:solidFill>
                <a:srgbClr val="000000"/>
              </a:solidFill>
              <a:latin typeface="Arial"/>
            </a:endParaRPr>
          </a:p>
        </p:txBody>
      </p:sp>
      <p:pic>
        <p:nvPicPr>
          <p:cNvPr id="193" name="Picture 5" descr=""/>
          <p:cNvPicPr/>
          <p:nvPr/>
        </p:nvPicPr>
        <p:blipFill>
          <a:blip r:embed="rId3"/>
          <a:stretch/>
        </p:blipFill>
        <p:spPr>
          <a:xfrm>
            <a:off x="8388360" y="571680"/>
            <a:ext cx="596880" cy="83808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Object 3"/>
          <p:cNvGraphicFramePr/>
          <p:nvPr/>
        </p:nvGraphicFramePr>
        <p:xfrm>
          <a:off x="228600" y="1523880"/>
          <a:ext cx="8690040" cy="5181840"/>
        </p:xfrm>
        <a:graphic>
          <a:graphicData uri="http://schemas.openxmlformats.org/presentationml/2006/ole">
            <p:oleObj progId="Excel.Sheet.12" r:id="rId1" spid="">
              <p:embed/>
              <p:pic>
                <p:nvPicPr>
                  <p:cNvPr id="195" name="Object 3" descr=""/>
                  <p:cNvPicPr/>
                  <p:nvPr/>
                </p:nvPicPr>
                <p:blipFill>
                  <a:blip r:embed="rId2"/>
                  <a:stretch/>
                </p:blipFill>
                <p:spPr>
                  <a:xfrm>
                    <a:off x="228600" y="1523880"/>
                    <a:ext cx="8690040" cy="5181840"/>
                  </a:xfrm>
                  <a:prstGeom prst="rect">
                    <a:avLst/>
                  </a:prstGeom>
                  <a:ln w="0">
                    <a:noFill/>
                  </a:ln>
                </p:spPr>
              </p:pic>
            </p:oleObj>
          </a:graphicData>
        </a:graphic>
      </p:graphicFrame>
      <p:sp>
        <p:nvSpPr>
          <p:cNvPr id="19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dding/Dropping Segments</a:t>
            </a:r>
            <a:endParaRPr b="0" lang="en-US" sz="4000" spc="-1" strike="noStrike">
              <a:solidFill>
                <a:srgbClr val="464646"/>
              </a:solidFill>
              <a:latin typeface="Arial"/>
            </a:endParaRPr>
          </a:p>
        </p:txBody>
      </p:sp>
      <p:sp>
        <p:nvSpPr>
          <p:cNvPr id="197" name="Rectangle 4"/>
          <p:cNvSpPr/>
          <p:nvPr/>
        </p:nvSpPr>
        <p:spPr>
          <a:xfrm>
            <a:off x="854280" y="2541600"/>
            <a:ext cx="5692320" cy="1323360"/>
          </a:xfrm>
          <a:prstGeom prst="rect">
            <a:avLst/>
          </a:prstGeom>
          <a:solidFill>
            <a:srgbClr val="90909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equipment used to manufacture</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gital watches has no resale</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alue or alternative use.</a:t>
            </a:r>
            <a:endParaRPr b="0" lang="en-US" sz="2700" spc="-1" strike="noStrike">
              <a:solidFill>
                <a:srgbClr val="000000"/>
              </a:solidFill>
              <a:latin typeface="Arial"/>
            </a:endParaRPr>
          </a:p>
        </p:txBody>
      </p:sp>
      <p:sp>
        <p:nvSpPr>
          <p:cNvPr id="198" name="Rectangle 5"/>
          <p:cNvSpPr/>
          <p:nvPr/>
        </p:nvSpPr>
        <p:spPr>
          <a:xfrm>
            <a:off x="3435120" y="4822920"/>
            <a:ext cx="4753440" cy="911880"/>
          </a:xfrm>
          <a:prstGeom prst="rect">
            <a:avLst/>
          </a:prstGeom>
          <a:solidFill>
            <a:srgbClr val="a6ddea"/>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Arial"/>
              </a:rPr>
              <a:t>Should Lovell retain or drop</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Arial"/>
              </a:rPr>
              <a:t>the digital watch segment?</a:t>
            </a:r>
            <a:endParaRPr b="0" lang="en-US" sz="2700" spc="-1" strike="noStrike">
              <a:solidFill>
                <a:srgbClr val="000000"/>
              </a:solidFill>
              <a:latin typeface="Arial"/>
            </a:endParaRPr>
          </a:p>
        </p:txBody>
      </p:sp>
      <p:pic>
        <p:nvPicPr>
          <p:cNvPr id="199" name="Picture 6" descr=""/>
          <p:cNvPicPr/>
          <p:nvPr/>
        </p:nvPicPr>
        <p:blipFill>
          <a:blip r:embed="rId3"/>
          <a:stretch/>
        </p:blipFill>
        <p:spPr>
          <a:xfrm>
            <a:off x="8388360" y="571680"/>
            <a:ext cx="596880" cy="838080"/>
          </a:xfrm>
          <a:prstGeom prst="rect">
            <a:avLst/>
          </a:prstGeom>
          <a:ln w="0">
            <a:noFill/>
          </a:ln>
        </p:spPr>
      </p:pic>
    </p:spTree>
  </p:cSld>
  <p:transition>
    <p:zoom dir="in"/>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198"/>
                                        </p:tgtEl>
                                        <p:attrNameLst>
                                          <p:attrName>style.visibility</p:attrName>
                                        </p:attrNameLst>
                                      </p:cBhvr>
                                      <p:to>
                                        <p:strVal val="visible"/>
                                      </p:to>
                                    </p:set>
                                    <p:anim calcmode="lin" valueType="num">
                                      <p:cBhvr additive="base">
                                        <p:cTn id="51" dur="500" fill="hold"/>
                                        <p:tgtEl>
                                          <p:spTgt spid="198"/>
                                        </p:tgtEl>
                                        <p:attrNameLst>
                                          <p:attrName>ppt_x</p:attrName>
                                        </p:attrNameLst>
                                      </p:cBhvr>
                                      <p:tavLst>
                                        <p:tav tm="0">
                                          <p:val>
                                            <p:strVal val="0-#ppt_w/2"/>
                                          </p:val>
                                        </p:tav>
                                        <p:tav tm="100000">
                                          <p:val>
                                            <p:strVal val="#ppt_x"/>
                                          </p:val>
                                        </p:tav>
                                      </p:tavLst>
                                    </p:anim>
                                    <p:anim calcmode="lin" valueType="num">
                                      <p:cBhvr additive="base">
                                        <p:cTn id="5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A Contribution Margin Approach</a:t>
            </a:r>
            <a:endParaRPr b="0" lang="en-US" sz="4000" spc="-1" strike="noStrike">
              <a:solidFill>
                <a:srgbClr val="464646"/>
              </a:solidFill>
              <a:latin typeface="Arial"/>
            </a:endParaRPr>
          </a:p>
        </p:txBody>
      </p:sp>
      <p:graphicFrame>
        <p:nvGraphicFramePr>
          <p:cNvPr id="201" name="Object 2"/>
          <p:cNvGraphicFramePr/>
          <p:nvPr/>
        </p:nvGraphicFramePr>
        <p:xfrm>
          <a:off x="228600" y="1523880"/>
          <a:ext cx="8686800" cy="2971800"/>
        </p:xfrm>
        <a:graphic>
          <a:graphicData uri="http://schemas.openxmlformats.org/presentationml/2006/ole">
            <p:oleObj progId="Excel.Sheet.12" r:id="rId1" spid="">
              <p:embed/>
              <p:pic>
                <p:nvPicPr>
                  <p:cNvPr id="202" name="Object 2" descr=""/>
                  <p:cNvPicPr/>
                  <p:nvPr/>
                </p:nvPicPr>
                <p:blipFill>
                  <a:blip r:embed="rId2"/>
                  <a:stretch/>
                </p:blipFill>
                <p:spPr>
                  <a:xfrm>
                    <a:off x="228600" y="1523880"/>
                    <a:ext cx="8686800" cy="2971800"/>
                  </a:xfrm>
                  <a:prstGeom prst="rect">
                    <a:avLst/>
                  </a:prstGeom>
                  <a:ln w="0">
                    <a:noFill/>
                  </a:ln>
                </p:spPr>
              </p:pic>
            </p:oleObj>
          </a:graphicData>
        </a:graphic>
      </p:graphicFrame>
      <p:pic>
        <p:nvPicPr>
          <p:cNvPr id="203" name="Picture 12" descr="MCPE03040_0000[1]"/>
          <p:cNvPicPr/>
          <p:nvPr/>
        </p:nvPicPr>
        <p:blipFill>
          <a:blip r:embed="rId3"/>
          <a:stretch/>
        </p:blipFill>
        <p:spPr>
          <a:xfrm>
            <a:off x="3678120" y="4653000"/>
            <a:ext cx="1787760" cy="2030400"/>
          </a:xfrm>
          <a:prstGeom prst="rect">
            <a:avLst/>
          </a:prstGeom>
          <a:ln w="0">
            <a:noFill/>
          </a:ln>
        </p:spPr>
      </p:pic>
      <p:sp>
        <p:nvSpPr>
          <p:cNvPr id="204" name="Rectangle 13"/>
          <p:cNvSpPr/>
          <p:nvPr/>
        </p:nvSpPr>
        <p:spPr>
          <a:xfrm rot="1588800">
            <a:off x="4828680" y="4783320"/>
            <a:ext cx="847440" cy="302040"/>
          </a:xfrm>
          <a:prstGeom prst="rect">
            <a:avLst/>
          </a:prstGeom>
          <a:solidFill>
            <a:srgbClr val="ccec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tain</a:t>
            </a:r>
            <a:endParaRPr b="0" lang="en-US" sz="1400" spc="-1" strike="noStrike">
              <a:solidFill>
                <a:srgbClr val="000000"/>
              </a:solidFill>
              <a:latin typeface="Arial"/>
            </a:endParaRPr>
          </a:p>
        </p:txBody>
      </p:sp>
      <p:pic>
        <p:nvPicPr>
          <p:cNvPr id="205" name="Picture 6" descr=""/>
          <p:cNvPicPr/>
          <p:nvPr/>
        </p:nvPicPr>
        <p:blipFill>
          <a:blip r:embed="rId4"/>
          <a:stretch/>
        </p:blipFill>
        <p:spPr>
          <a:xfrm>
            <a:off x="8388360" y="571680"/>
            <a:ext cx="596880" cy="838080"/>
          </a:xfrm>
          <a:prstGeom prst="rect">
            <a:avLst/>
          </a:prstGeom>
          <a:ln w="0">
            <a:noFill/>
          </a:ln>
        </p:spPr>
      </p:pic>
    </p:spTree>
  </p:cSld>
  <p:transition>
    <p:wipe dir="u"/>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 presetSubtype="8">
                                  <p:stCondLst>
                                    <p:cond delay="0"/>
                                  </p:stCondLst>
                                  <p:childTnLst>
                                    <p:set>
                                      <p:cBhvr>
                                        <p:cTn id="58" dur="1" fill="hold">
                                          <p:stCondLst>
                                            <p:cond delay="0"/>
                                          </p:stCondLst>
                                        </p:cTn>
                                        <p:tgtEl>
                                          <p:spTgt spid="204"/>
                                        </p:tgtEl>
                                        <p:attrNameLst>
                                          <p:attrName>style.visibility</p:attrName>
                                        </p:attrNameLst>
                                      </p:cBhvr>
                                      <p:to>
                                        <p:strVal val="visible"/>
                                      </p:to>
                                    </p:set>
                                    <p:anim calcmode="lin" valueType="num">
                                      <p:cBhvr additive="base">
                                        <p:cTn id="59" dur="500" fill="hold"/>
                                        <p:tgtEl>
                                          <p:spTgt spid="204"/>
                                        </p:tgtEl>
                                        <p:attrNameLst>
                                          <p:attrName>ppt_x</p:attrName>
                                        </p:attrNameLst>
                                      </p:cBhvr>
                                      <p:tavLst>
                                        <p:tav tm="0">
                                          <p:val>
                                            <p:strVal val="0-#ppt_w/2"/>
                                          </p:val>
                                        </p:tav>
                                        <p:tav tm="100000">
                                          <p:val>
                                            <p:strVal val="#ppt_x"/>
                                          </p:val>
                                        </p:tav>
                                      </p:tavLst>
                                    </p:anim>
                                    <p:anim calcmode="lin" valueType="num">
                                      <p:cBhvr additive="base">
                                        <p:cTn id="6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omparative Income Approach</a:t>
            </a:r>
            <a:endParaRPr b="0" lang="en-US" sz="4000" spc="-1" strike="noStrike">
              <a:solidFill>
                <a:srgbClr val="464646"/>
              </a:solidFill>
              <a:latin typeface="Arial"/>
            </a:endParaRPr>
          </a:p>
        </p:txBody>
      </p:sp>
      <p:sp>
        <p:nvSpPr>
          <p:cNvPr id="207" name="PlaceHolder 2"/>
          <p:cNvSpPr>
            <a:spLocks noGrp="1"/>
          </p:cNvSpPr>
          <p:nvPr>
            <p:ph/>
          </p:nvPr>
        </p:nvSpPr>
        <p:spPr>
          <a:xfrm>
            <a:off x="228600" y="1828440"/>
            <a:ext cx="8686800" cy="3352680"/>
          </a:xfrm>
          <a:prstGeom prst="rect">
            <a:avLst/>
          </a:prstGeom>
          <a:solidFill>
            <a:srgbClr val="fbe0d1"/>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vell solution can also be obtained by preparing comparative income statements showing results with and without the digital watch segment.</a:t>
            </a:r>
            <a:br>
              <a:rPr sz="3200"/>
            </a:br>
            <a:endParaRPr b="0" lang="en-US" sz="3200" spc="-1" strike="noStrike">
              <a:solidFill>
                <a:srgbClr val="000000"/>
              </a:solidFill>
              <a:latin typeface="Arial"/>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4a76"/>
                </a:solidFill>
                <a:latin typeface="Arial"/>
              </a:rPr>
              <a:t>Let’s look at this second approach.</a:t>
            </a:r>
            <a:endParaRPr b="0" lang="en-US" sz="3200" spc="-1" strike="noStrike">
              <a:solidFill>
                <a:srgbClr val="000000"/>
              </a:solidFill>
              <a:latin typeface="Arial"/>
            </a:endParaRPr>
          </a:p>
        </p:txBody>
      </p:sp>
      <p:pic>
        <p:nvPicPr>
          <p:cNvPr id="208" name="Picture 4" descr=""/>
          <p:cNvPicPr/>
          <p:nvPr/>
        </p:nvPicPr>
        <p:blipFill>
          <a:blip r:embed="rId1"/>
          <a:stretch/>
        </p:blipFill>
        <p:spPr>
          <a:xfrm>
            <a:off x="8388360" y="571680"/>
            <a:ext cx="596880" cy="838080"/>
          </a:xfrm>
          <a:prstGeom prst="rect">
            <a:avLst/>
          </a:prstGeom>
          <a:ln w="0">
            <a:noFill/>
          </a:ln>
        </p:spPr>
      </p:pic>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2"/>
          <p:cNvGraphicFramePr/>
          <p:nvPr/>
        </p:nvGraphicFramePr>
        <p:xfrm>
          <a:off x="46080" y="838080"/>
          <a:ext cx="9051840" cy="5867640"/>
        </p:xfrm>
        <a:graphic>
          <a:graphicData uri="http://schemas.openxmlformats.org/presentationml/2006/ole">
            <p:oleObj progId="Excel.Sheet.12" r:id="rId1" spid="">
              <p:embed/>
              <p:pic>
                <p:nvPicPr>
                  <p:cNvPr id="210" name="Object 2" descr=""/>
                  <p:cNvPicPr/>
                  <p:nvPr/>
                </p:nvPicPr>
                <p:blipFill>
                  <a:blip r:embed="rId2"/>
                  <a:stretch/>
                </p:blipFill>
                <p:spPr>
                  <a:xfrm>
                    <a:off x="46080" y="838080"/>
                    <a:ext cx="9051840" cy="5867640"/>
                  </a:xfrm>
                  <a:prstGeom prst="rect">
                    <a:avLst/>
                  </a:prstGeom>
                  <a:ln w="0">
                    <a:noFill/>
                  </a:ln>
                </p:spPr>
              </p:pic>
            </p:oleObj>
          </a:graphicData>
        </a:graphic>
      </p:graphicFrame>
      <p:sp>
        <p:nvSpPr>
          <p:cNvPr id="211" name="Line 3"/>
          <p:cNvSpPr/>
          <p:nvPr/>
        </p:nvSpPr>
        <p:spPr>
          <a:xfrm flipV="1">
            <a:off x="7696080" y="3962160"/>
            <a:ext cx="30492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4"/>
          <p:cNvSpPr/>
          <p:nvPr/>
        </p:nvSpPr>
        <p:spPr>
          <a:xfrm>
            <a:off x="5715000" y="4724280"/>
            <a:ext cx="3200400" cy="1917720"/>
          </a:xfrm>
          <a:prstGeom prst="rect">
            <a:avLst/>
          </a:prstGeom>
          <a:solidFill>
            <a:srgbClr val="ffc58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If the digital watch line is dropped, the company loses $300,000 in contribution margin.</a:t>
            </a:r>
            <a:r>
              <a:rPr b="0" lang="en-US" sz="2400" spc="-1" strike="noStrike">
                <a:solidFill>
                  <a:srgbClr val="464646"/>
                </a:solidFill>
                <a:latin typeface="Arial"/>
              </a:rPr>
              <a:t> </a:t>
            </a:r>
            <a:endParaRPr b="0" lang="en-US" sz="2400" spc="-1" strike="noStrike">
              <a:solidFill>
                <a:srgbClr val="000000"/>
              </a:solidFill>
              <a:latin typeface="Arial"/>
            </a:endParaRPr>
          </a:p>
        </p:txBody>
      </p:sp>
      <p:pic>
        <p:nvPicPr>
          <p:cNvPr id="213" name="Picture 5"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Object 2"/>
          <p:cNvGraphicFramePr/>
          <p:nvPr/>
        </p:nvGraphicFramePr>
        <p:xfrm>
          <a:off x="46080" y="838080"/>
          <a:ext cx="9051840" cy="5867640"/>
        </p:xfrm>
        <a:graphic>
          <a:graphicData uri="http://schemas.openxmlformats.org/presentationml/2006/ole">
            <p:oleObj progId="Excel.Sheet.12" r:id="rId1" spid="">
              <p:embed/>
              <p:pic>
                <p:nvPicPr>
                  <p:cNvPr id="215" name="Object 2" descr=""/>
                  <p:cNvPicPr/>
                  <p:nvPr/>
                </p:nvPicPr>
                <p:blipFill>
                  <a:blip r:embed="rId2"/>
                  <a:stretch/>
                </p:blipFill>
                <p:spPr>
                  <a:xfrm>
                    <a:off x="46080" y="838080"/>
                    <a:ext cx="9051840" cy="5867640"/>
                  </a:xfrm>
                  <a:prstGeom prst="rect">
                    <a:avLst/>
                  </a:prstGeom>
                  <a:ln w="0">
                    <a:noFill/>
                  </a:ln>
                </p:spPr>
              </p:pic>
            </p:oleObj>
          </a:graphicData>
        </a:graphic>
      </p:graphicFrame>
      <p:sp>
        <p:nvSpPr>
          <p:cNvPr id="216" name="Line 3"/>
          <p:cNvSpPr/>
          <p:nvPr/>
        </p:nvSpPr>
        <p:spPr>
          <a:xfrm flipH="1" flipV="1">
            <a:off x="6781680" y="4495680"/>
            <a:ext cx="5335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Rectangle 4"/>
          <p:cNvSpPr/>
          <p:nvPr/>
        </p:nvSpPr>
        <p:spPr>
          <a:xfrm>
            <a:off x="4114800" y="4876920"/>
            <a:ext cx="4648320" cy="1551960"/>
          </a:xfrm>
          <a:prstGeom prst="rect">
            <a:avLst/>
          </a:prstGeom>
          <a:solidFill>
            <a:srgbClr val="ffc58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On the other hand, the general factory overhead would be the same under both alternatives, so it is irrelevant.</a:t>
            </a:r>
            <a:endParaRPr b="0" lang="en-US" sz="2400" spc="-1" strike="noStrike">
              <a:solidFill>
                <a:srgbClr val="000000"/>
              </a:solidFill>
              <a:latin typeface="Arial"/>
            </a:endParaRPr>
          </a:p>
        </p:txBody>
      </p:sp>
      <p:pic>
        <p:nvPicPr>
          <p:cNvPr id="218" name="Picture 5"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46080" y="838080"/>
          <a:ext cx="9051840" cy="5867640"/>
        </p:xfrm>
        <a:graphic>
          <a:graphicData uri="http://schemas.openxmlformats.org/presentationml/2006/ole">
            <p:oleObj progId="Excel.Sheet.12" r:id="rId1" spid="">
              <p:embed/>
              <p:pic>
                <p:nvPicPr>
                  <p:cNvPr id="220" name="Object 2" descr=""/>
                  <p:cNvPicPr/>
                  <p:nvPr/>
                </p:nvPicPr>
                <p:blipFill>
                  <a:blip r:embed="rId2"/>
                  <a:stretch/>
                </p:blipFill>
                <p:spPr>
                  <a:xfrm>
                    <a:off x="46080" y="838080"/>
                    <a:ext cx="9051840" cy="5867640"/>
                  </a:xfrm>
                  <a:prstGeom prst="rect">
                    <a:avLst/>
                  </a:prstGeom>
                  <a:ln w="0">
                    <a:noFill/>
                  </a:ln>
                </p:spPr>
              </p:pic>
            </p:oleObj>
          </a:graphicData>
        </a:graphic>
      </p:graphicFrame>
      <p:sp>
        <p:nvSpPr>
          <p:cNvPr id="221" name="Line 3"/>
          <p:cNvSpPr/>
          <p:nvPr/>
        </p:nvSpPr>
        <p:spPr>
          <a:xfrm>
            <a:off x="6553080" y="3276720"/>
            <a:ext cx="22860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Rectangle 4"/>
          <p:cNvSpPr/>
          <p:nvPr/>
        </p:nvSpPr>
        <p:spPr>
          <a:xfrm>
            <a:off x="2971800" y="2444760"/>
            <a:ext cx="4648320" cy="1186200"/>
          </a:xfrm>
          <a:prstGeom prst="rect">
            <a:avLst/>
          </a:prstGeom>
          <a:solidFill>
            <a:srgbClr val="ffc58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he salary of the product line manager would disappear, so it is relevant to the decision.</a:t>
            </a:r>
            <a:endParaRPr b="0" lang="en-US" sz="2400" spc="-1" strike="noStrike">
              <a:solidFill>
                <a:srgbClr val="000000"/>
              </a:solidFill>
              <a:latin typeface="Arial"/>
            </a:endParaRPr>
          </a:p>
        </p:txBody>
      </p:sp>
      <p:pic>
        <p:nvPicPr>
          <p:cNvPr id="223" name="Picture 5"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Object 2"/>
          <p:cNvGraphicFramePr/>
          <p:nvPr/>
        </p:nvGraphicFramePr>
        <p:xfrm>
          <a:off x="46080" y="838080"/>
          <a:ext cx="9051840" cy="5867640"/>
        </p:xfrm>
        <a:graphic>
          <a:graphicData uri="http://schemas.openxmlformats.org/presentationml/2006/ole">
            <p:oleObj progId="Excel.Sheet.12" r:id="rId1" spid="">
              <p:embed/>
              <p:pic>
                <p:nvPicPr>
                  <p:cNvPr id="225" name="Object 2" descr=""/>
                  <p:cNvPicPr/>
                  <p:nvPr/>
                </p:nvPicPr>
                <p:blipFill>
                  <a:blip r:embed="rId2"/>
                  <a:stretch/>
                </p:blipFill>
                <p:spPr>
                  <a:xfrm>
                    <a:off x="46080" y="838080"/>
                    <a:ext cx="9051840" cy="5867640"/>
                  </a:xfrm>
                  <a:prstGeom prst="rect">
                    <a:avLst/>
                  </a:prstGeom>
                  <a:ln w="0">
                    <a:noFill/>
                  </a:ln>
                </p:spPr>
              </p:pic>
            </p:oleObj>
          </a:graphicData>
        </a:graphic>
      </p:graphicFrame>
      <p:sp>
        <p:nvSpPr>
          <p:cNvPr id="226" name="Line 3"/>
          <p:cNvSpPr/>
          <p:nvPr/>
        </p:nvSpPr>
        <p:spPr>
          <a:xfrm flipH="1">
            <a:off x="6781680" y="3809880"/>
            <a:ext cx="15264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Rectangle 4"/>
          <p:cNvSpPr/>
          <p:nvPr/>
        </p:nvSpPr>
        <p:spPr>
          <a:xfrm>
            <a:off x="457200" y="2286000"/>
            <a:ext cx="8210520" cy="1551960"/>
          </a:xfrm>
          <a:prstGeom prst="rect">
            <a:avLst/>
          </a:prstGeom>
          <a:solidFill>
            <a:srgbClr val="ffc58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he depreciation is a sunk cost.  Also, remember that the equipment has no resale value or alternative use, so the equipment and the depreciation expense associated with it are irrelevant to the decision. </a:t>
            </a:r>
            <a:endParaRPr b="0" lang="en-US" sz="2400" spc="-1" strike="noStrike">
              <a:solidFill>
                <a:srgbClr val="000000"/>
              </a:solidFill>
              <a:latin typeface="Arial"/>
            </a:endParaRPr>
          </a:p>
        </p:txBody>
      </p:sp>
      <p:pic>
        <p:nvPicPr>
          <p:cNvPr id="228" name="Picture 5"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levant Costs and Benefits</a:t>
            </a:r>
            <a:endParaRPr b="0" lang="en-US" sz="4000" spc="-1" strike="noStrike">
              <a:solidFill>
                <a:srgbClr val="464646"/>
              </a:solidFill>
              <a:latin typeface="Arial"/>
            </a:endParaRPr>
          </a:p>
        </p:txBody>
      </p:sp>
      <p:sp>
        <p:nvSpPr>
          <p:cNvPr id="99" name=""/>
          <p:cNvSpPr txBox="1"/>
          <p:nvPr/>
        </p:nvSpPr>
        <p:spPr>
          <a:xfrm>
            <a:off x="457200" y="1828800"/>
            <a:ext cx="8229600" cy="1295280"/>
          </a:xfrm>
          <a:prstGeom prst="rect">
            <a:avLst/>
          </a:prstGeom>
          <a:solidFill>
            <a:srgbClr val="f9d1d3"/>
          </a:solidFill>
          <a:ln w="9360">
            <a:solidFill>
              <a:srgbClr val="227a8f"/>
            </a:solidFill>
            <a:miter/>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 </a:t>
            </a:r>
            <a:r>
              <a:rPr b="1" lang="en-US" sz="3400" spc="-1" strike="noStrike">
                <a:solidFill>
                  <a:srgbClr val="0000cc"/>
                </a:solidFill>
                <a:latin typeface="Arial"/>
              </a:rPr>
              <a:t>relevant cost</a:t>
            </a:r>
            <a:r>
              <a:rPr b="0" lang="en-US" sz="3400" spc="-1" strike="noStrike">
                <a:solidFill>
                  <a:srgbClr val="da1f28"/>
                </a:solidFill>
                <a:latin typeface="Arial"/>
              </a:rPr>
              <a:t> </a:t>
            </a:r>
            <a:r>
              <a:rPr b="0" lang="en-US" sz="3400" spc="-1" strike="noStrike">
                <a:solidFill>
                  <a:srgbClr val="000000"/>
                </a:solidFill>
                <a:latin typeface="Arial"/>
              </a:rPr>
              <a:t>is a cost that differs between alternatives.</a:t>
            </a:r>
            <a:endParaRPr b="0" lang="en-US" sz="3400" spc="-1" strike="noStrike">
              <a:solidFill>
                <a:srgbClr val="000000"/>
              </a:solidFill>
              <a:latin typeface="Arial"/>
            </a:endParaRPr>
          </a:p>
        </p:txBody>
      </p:sp>
      <p:sp>
        <p:nvSpPr>
          <p:cNvPr id="100" name="Rectangle 3"/>
          <p:cNvSpPr/>
          <p:nvPr/>
        </p:nvSpPr>
        <p:spPr>
          <a:xfrm>
            <a:off x="457200" y="3429000"/>
            <a:ext cx="8229600" cy="1295280"/>
          </a:xfrm>
          <a:prstGeom prst="rect">
            <a:avLst/>
          </a:prstGeom>
          <a:solidFill>
            <a:srgbClr val="7acbe0"/>
          </a:solidFill>
          <a:ln w="9360">
            <a:solidFill>
              <a:srgbClr val="23263c"/>
            </a:solidFill>
            <a:miter/>
          </a:ln>
        </p:spPr>
        <p:style>
          <a:lnRef idx="0"/>
          <a:fillRef idx="0"/>
          <a:effectRef idx="0"/>
          <a:fontRef idx="minor"/>
        </p:style>
        <p:txBody>
          <a:bodyPr lIns="90360" rIns="90360" tIns="44280" bIns="44280" anchor="t">
            <a:no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 </a:t>
            </a:r>
            <a:r>
              <a:rPr b="1" lang="en-US" sz="3400" spc="-1" strike="noStrike">
                <a:solidFill>
                  <a:srgbClr val="0000cc"/>
                </a:solidFill>
                <a:latin typeface="Arial"/>
              </a:rPr>
              <a:t>relevant benefit</a:t>
            </a:r>
            <a:r>
              <a:rPr b="0" lang="en-US" sz="3400" spc="-1" strike="noStrike">
                <a:solidFill>
                  <a:srgbClr val="da1f28"/>
                </a:solidFill>
                <a:latin typeface="Arial"/>
              </a:rPr>
              <a:t> </a:t>
            </a:r>
            <a:r>
              <a:rPr b="0" lang="en-US" sz="3400" spc="-1" strike="noStrike">
                <a:solidFill>
                  <a:srgbClr val="000000"/>
                </a:solidFill>
                <a:latin typeface="Arial"/>
              </a:rPr>
              <a:t>is a benefit that differs between alternatives.</a:t>
            </a:r>
            <a:endParaRPr b="0" lang="en-US" sz="3400" spc="-1" strike="noStrike">
              <a:solidFill>
                <a:srgbClr val="000000"/>
              </a:solidFill>
              <a:latin typeface="Arial"/>
            </a:endParaRPr>
          </a:p>
        </p:txBody>
      </p:sp>
      <p:pic>
        <p:nvPicPr>
          <p:cNvPr id="101" name="Picture 5" descr=""/>
          <p:cNvPicPr/>
          <p:nvPr/>
        </p:nvPicPr>
        <p:blipFill>
          <a:blip r:embed="rId1"/>
          <a:stretch/>
        </p:blipFill>
        <p:spPr>
          <a:xfrm rot="745200">
            <a:off x="3276360" y="4946400"/>
            <a:ext cx="2246040" cy="16621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Object 2"/>
          <p:cNvGraphicFramePr/>
          <p:nvPr/>
        </p:nvGraphicFramePr>
        <p:xfrm>
          <a:off x="46080" y="838080"/>
          <a:ext cx="9051840" cy="5867640"/>
        </p:xfrm>
        <a:graphic>
          <a:graphicData uri="http://schemas.openxmlformats.org/presentationml/2006/ole">
            <p:oleObj progId="Excel.Sheet.12" r:id="rId1" spid="">
              <p:embed/>
              <p:pic>
                <p:nvPicPr>
                  <p:cNvPr id="230" name="Object 2" descr=""/>
                  <p:cNvPicPr/>
                  <p:nvPr/>
                </p:nvPicPr>
                <p:blipFill>
                  <a:blip r:embed="rId2"/>
                  <a:stretch/>
                </p:blipFill>
                <p:spPr>
                  <a:xfrm>
                    <a:off x="46080" y="838080"/>
                    <a:ext cx="9051840" cy="5867640"/>
                  </a:xfrm>
                  <a:prstGeom prst="rect">
                    <a:avLst/>
                  </a:prstGeom>
                  <a:ln w="0">
                    <a:noFill/>
                  </a:ln>
                </p:spPr>
              </p:pic>
            </p:oleObj>
          </a:graphicData>
        </a:graphic>
      </p:graphicFrame>
      <p:sp>
        <p:nvSpPr>
          <p:cNvPr id="231" name="Rectangle 4"/>
          <p:cNvSpPr/>
          <p:nvPr/>
        </p:nvSpPr>
        <p:spPr>
          <a:xfrm>
            <a:off x="3048120" y="2797200"/>
            <a:ext cx="5029200" cy="1917720"/>
          </a:xfrm>
          <a:prstGeom prst="rect">
            <a:avLst/>
          </a:prstGeom>
          <a:solidFill>
            <a:srgbClr val="ffc585"/>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he complete comparative income statements reveal that Lovell would earn $40,000 of additional profit by retaining the digital watch line. </a:t>
            </a:r>
            <a:endParaRPr b="0" lang="en-US" sz="2400" spc="-1" strike="noStrike">
              <a:solidFill>
                <a:srgbClr val="000000"/>
              </a:solidFill>
              <a:latin typeface="Arial"/>
            </a:endParaRPr>
          </a:p>
        </p:txBody>
      </p:sp>
      <p:sp>
        <p:nvSpPr>
          <p:cNvPr id="232" name="Line 3"/>
          <p:cNvSpPr/>
          <p:nvPr/>
        </p:nvSpPr>
        <p:spPr>
          <a:xfrm>
            <a:off x="7315200" y="4724280"/>
            <a:ext cx="60948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Picture 5"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64646"/>
                </a:solidFill>
                <a:latin typeface="Arial"/>
              </a:rPr>
              <a:t>Beware of Allocated Fixed Costs</a:t>
            </a:r>
            <a:endParaRPr b="0" lang="en-US" sz="3400" spc="-1" strike="noStrike">
              <a:solidFill>
                <a:srgbClr val="464646"/>
              </a:solidFill>
              <a:latin typeface="Arial"/>
            </a:endParaRPr>
          </a:p>
        </p:txBody>
      </p:sp>
      <p:graphicFrame>
        <p:nvGraphicFramePr>
          <p:cNvPr id="235" name="Object 2"/>
          <p:cNvGraphicFramePr/>
          <p:nvPr/>
        </p:nvGraphicFramePr>
        <p:xfrm>
          <a:off x="1676520" y="1447920"/>
          <a:ext cx="4114800" cy="2585880"/>
        </p:xfrm>
        <a:graphic>
          <a:graphicData uri="http://schemas.openxmlformats.org/presentationml/2006/ole">
            <p:oleObj r:id="rId1" spid="">
              <p:embed/>
              <p:pic>
                <p:nvPicPr>
                  <p:cNvPr id="236" name="Object 2" descr=""/>
                  <p:cNvPicPr/>
                  <p:nvPr/>
                </p:nvPicPr>
                <p:blipFill>
                  <a:blip r:embed="rId2"/>
                  <a:stretch/>
                </p:blipFill>
                <p:spPr>
                  <a:xfrm>
                    <a:off x="1676520" y="1447920"/>
                    <a:ext cx="4114800" cy="2585880"/>
                  </a:xfrm>
                  <a:prstGeom prst="rect">
                    <a:avLst/>
                  </a:prstGeom>
                  <a:ln w="0">
                    <a:noFill/>
                  </a:ln>
                </p:spPr>
              </p:pic>
            </p:oleObj>
          </a:graphicData>
        </a:graphic>
      </p:graphicFrame>
      <p:sp>
        <p:nvSpPr>
          <p:cNvPr id="237" name="Rectangle 141"/>
          <p:cNvSpPr/>
          <p:nvPr/>
        </p:nvSpPr>
        <p:spPr>
          <a:xfrm>
            <a:off x="1712880" y="1600200"/>
            <a:ext cx="380988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we keep the digital watch segment when it’s showing a </a:t>
            </a:r>
            <a:r>
              <a:rPr b="1" lang="en-US" sz="2400" spc="-1" strike="noStrike">
                <a:solidFill>
                  <a:srgbClr val="ff0000"/>
                </a:solidFill>
                <a:latin typeface="Arial"/>
              </a:rPr>
              <a:t>$100,000</a:t>
            </a:r>
            <a:r>
              <a:rPr b="1" lang="en-US" sz="2400" spc="-1" strike="noStrike">
                <a:solidFill>
                  <a:srgbClr val="000000"/>
                </a:solidFill>
                <a:latin typeface="Arial"/>
              </a:rPr>
              <a:t> </a:t>
            </a:r>
            <a:r>
              <a:rPr b="1" lang="en-US" sz="2400" spc="-1" strike="noStrike">
                <a:solidFill>
                  <a:srgbClr val="ff0000"/>
                </a:solidFill>
                <a:latin typeface="Arial"/>
              </a:rPr>
              <a:t>loss</a:t>
            </a:r>
            <a:r>
              <a:rPr b="1"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38" name="Group 3"/>
          <p:cNvGrpSpPr/>
          <p:nvPr/>
        </p:nvGrpSpPr>
        <p:grpSpPr>
          <a:xfrm>
            <a:off x="1600200" y="3733920"/>
            <a:ext cx="5806800" cy="2877480"/>
            <a:chOff x="1600200" y="3733920"/>
            <a:chExt cx="5806800" cy="2877480"/>
          </a:xfrm>
        </p:grpSpPr>
        <p:grpSp>
          <p:nvGrpSpPr>
            <p:cNvPr id="239" name="Group 4"/>
            <p:cNvGrpSpPr/>
            <p:nvPr/>
          </p:nvGrpSpPr>
          <p:grpSpPr>
            <a:xfrm>
              <a:off x="3612960" y="3979800"/>
              <a:ext cx="1768680" cy="1711440"/>
              <a:chOff x="3612960" y="3979800"/>
              <a:chExt cx="1768680" cy="1711440"/>
            </a:xfrm>
          </p:grpSpPr>
          <p:grpSp>
            <p:nvGrpSpPr>
              <p:cNvPr id="240" name="Group 5"/>
              <p:cNvGrpSpPr/>
              <p:nvPr/>
            </p:nvGrpSpPr>
            <p:grpSpPr>
              <a:xfrm>
                <a:off x="3612960" y="4501440"/>
                <a:ext cx="1768680" cy="1189800"/>
                <a:chOff x="3612960" y="4501440"/>
                <a:chExt cx="1768680" cy="1189800"/>
              </a:xfrm>
            </p:grpSpPr>
            <p:grpSp>
              <p:nvGrpSpPr>
                <p:cNvPr id="241" name="Group 6"/>
                <p:cNvGrpSpPr/>
                <p:nvPr/>
              </p:nvGrpSpPr>
              <p:grpSpPr>
                <a:xfrm>
                  <a:off x="4125960" y="4553640"/>
                  <a:ext cx="671400" cy="1114200"/>
                  <a:chOff x="4125960" y="4553640"/>
                  <a:chExt cx="671400" cy="1114200"/>
                </a:xfrm>
              </p:grpSpPr>
              <p:sp>
                <p:nvSpPr>
                  <p:cNvPr id="242" name="Freeform 7"/>
                  <p:cNvSpPr/>
                  <p:nvPr/>
                </p:nvSpPr>
                <p:spPr>
                  <a:xfrm>
                    <a:off x="4125960" y="4553640"/>
                    <a:ext cx="671400" cy="1114200"/>
                  </a:xfrm>
                  <a:custGeom>
                    <a:avLst/>
                    <a:gdLst>
                      <a:gd name="textAreaLeft" fmla="*/ 0 w 671400"/>
                      <a:gd name="textAreaRight" fmla="*/ 671760 w 671400"/>
                      <a:gd name="textAreaTop" fmla="*/ 0 h 1114200"/>
                      <a:gd name="textAreaBottom" fmla="*/ 1114200 h 1114200"/>
                    </a:gdLst>
                    <a:ahLst/>
                    <a:rect l="textAreaLeft" t="textAreaTop" r="textAreaRight" b="textAreaBottom"/>
                    <a:pathLst>
                      <a:path w="846" h="1405">
                        <a:moveTo>
                          <a:pt x="263" y="0"/>
                        </a:moveTo>
                        <a:lnTo>
                          <a:pt x="499" y="185"/>
                        </a:lnTo>
                        <a:lnTo>
                          <a:pt x="691" y="30"/>
                        </a:lnTo>
                        <a:lnTo>
                          <a:pt x="738" y="705"/>
                        </a:lnTo>
                        <a:lnTo>
                          <a:pt x="792" y="1100"/>
                        </a:lnTo>
                        <a:lnTo>
                          <a:pt x="846" y="1405"/>
                        </a:lnTo>
                        <a:lnTo>
                          <a:pt x="0" y="1405"/>
                        </a:lnTo>
                        <a:lnTo>
                          <a:pt x="120" y="1022"/>
                        </a:lnTo>
                        <a:lnTo>
                          <a:pt x="198" y="544"/>
                        </a:lnTo>
                        <a:lnTo>
                          <a:pt x="263"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
                  <p:cNvSpPr/>
                  <p:nvPr/>
                </p:nvSpPr>
                <p:spPr>
                  <a:xfrm>
                    <a:off x="4543200" y="4638960"/>
                    <a:ext cx="160560" cy="201240"/>
                  </a:xfrm>
                  <a:custGeom>
                    <a:avLst/>
                    <a:gdLst>
                      <a:gd name="textAreaLeft" fmla="*/ 0 w 160560"/>
                      <a:gd name="textAreaRight" fmla="*/ 160920 w 160560"/>
                      <a:gd name="textAreaTop" fmla="*/ 0 h 201240"/>
                      <a:gd name="textAreaBottom" fmla="*/ 201600 h 201240"/>
                    </a:gdLst>
                    <a:ahLst/>
                    <a:rect l="textAreaLeft" t="textAreaTop" r="textAreaRight" b="textAreaBottom"/>
                    <a:pathLst>
                      <a:path w="202" h="255">
                        <a:moveTo>
                          <a:pt x="0" y="93"/>
                        </a:moveTo>
                        <a:lnTo>
                          <a:pt x="28" y="123"/>
                        </a:lnTo>
                        <a:lnTo>
                          <a:pt x="44" y="141"/>
                        </a:lnTo>
                        <a:lnTo>
                          <a:pt x="54" y="165"/>
                        </a:lnTo>
                        <a:lnTo>
                          <a:pt x="62" y="201"/>
                        </a:lnTo>
                        <a:lnTo>
                          <a:pt x="66" y="239"/>
                        </a:lnTo>
                        <a:lnTo>
                          <a:pt x="86" y="255"/>
                        </a:lnTo>
                        <a:lnTo>
                          <a:pt x="202" y="107"/>
                        </a:lnTo>
                        <a:lnTo>
                          <a:pt x="146" y="0"/>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9"/>
                  <p:cNvSpPr/>
                  <p:nvPr/>
                </p:nvSpPr>
                <p:spPr>
                  <a:xfrm>
                    <a:off x="4311720" y="4567680"/>
                    <a:ext cx="137880" cy="280440"/>
                  </a:xfrm>
                  <a:custGeom>
                    <a:avLst/>
                    <a:gdLst>
                      <a:gd name="textAreaLeft" fmla="*/ 0 w 137880"/>
                      <a:gd name="textAreaRight" fmla="*/ 138240 w 137880"/>
                      <a:gd name="textAreaTop" fmla="*/ 0 h 280440"/>
                      <a:gd name="textAreaBottom" fmla="*/ 280800 h 280440"/>
                    </a:gdLst>
                    <a:ahLst/>
                    <a:rect l="textAreaLeft" t="textAreaTop" r="textAreaRight" b="textAreaBottom"/>
                    <a:pathLst>
                      <a:path w="174" h="355">
                        <a:moveTo>
                          <a:pt x="174" y="165"/>
                        </a:moveTo>
                        <a:lnTo>
                          <a:pt x="160" y="181"/>
                        </a:lnTo>
                        <a:lnTo>
                          <a:pt x="144" y="231"/>
                        </a:lnTo>
                        <a:lnTo>
                          <a:pt x="120" y="291"/>
                        </a:lnTo>
                        <a:lnTo>
                          <a:pt x="96" y="355"/>
                        </a:lnTo>
                        <a:lnTo>
                          <a:pt x="42" y="247"/>
                        </a:lnTo>
                        <a:lnTo>
                          <a:pt x="12" y="137"/>
                        </a:lnTo>
                        <a:lnTo>
                          <a:pt x="0" y="32"/>
                        </a:lnTo>
                        <a:lnTo>
                          <a:pt x="0" y="0"/>
                        </a:lnTo>
                        <a:lnTo>
                          <a:pt x="42" y="0"/>
                        </a:lnTo>
                        <a:lnTo>
                          <a:pt x="174"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10"/>
                  <p:cNvGrpSpPr/>
                  <p:nvPr/>
                </p:nvGrpSpPr>
                <p:grpSpPr>
                  <a:xfrm>
                    <a:off x="4267080" y="5023080"/>
                    <a:ext cx="439920" cy="582120"/>
                    <a:chOff x="4267080" y="5023080"/>
                    <a:chExt cx="439920" cy="582120"/>
                  </a:xfrm>
                </p:grpSpPr>
                <p:sp>
                  <p:nvSpPr>
                    <p:cNvPr id="246" name="Freeform 11"/>
                    <p:cNvSpPr/>
                    <p:nvPr/>
                  </p:nvSpPr>
                  <p:spPr>
                    <a:xfrm>
                      <a:off x="4314600" y="5023080"/>
                      <a:ext cx="330480" cy="323640"/>
                    </a:xfrm>
                    <a:custGeom>
                      <a:avLst/>
                      <a:gdLst>
                        <a:gd name="textAreaLeft" fmla="*/ 0 w 330480"/>
                        <a:gd name="textAreaRight" fmla="*/ 330840 w 330480"/>
                        <a:gd name="textAreaTop" fmla="*/ 0 h 323640"/>
                        <a:gd name="textAreaBottom" fmla="*/ 324000 h 323640"/>
                      </a:gdLst>
                      <a:ahLst/>
                      <a:rect l="textAreaLeft" t="textAreaTop" r="textAreaRight" b="textAreaBottom"/>
                      <a:pathLst>
                        <a:path w="418" h="408">
                          <a:moveTo>
                            <a:pt x="418" y="0"/>
                          </a:moveTo>
                          <a:lnTo>
                            <a:pt x="362" y="6"/>
                          </a:lnTo>
                          <a:lnTo>
                            <a:pt x="314" y="20"/>
                          </a:lnTo>
                          <a:lnTo>
                            <a:pt x="228" y="61"/>
                          </a:lnTo>
                          <a:lnTo>
                            <a:pt x="134" y="139"/>
                          </a:lnTo>
                          <a:lnTo>
                            <a:pt x="96" y="175"/>
                          </a:lnTo>
                          <a:lnTo>
                            <a:pt x="72" y="223"/>
                          </a:lnTo>
                          <a:lnTo>
                            <a:pt x="38" y="269"/>
                          </a:lnTo>
                          <a:lnTo>
                            <a:pt x="20" y="301"/>
                          </a:lnTo>
                          <a:lnTo>
                            <a:pt x="8" y="352"/>
                          </a:lnTo>
                          <a:lnTo>
                            <a:pt x="0" y="390"/>
                          </a:lnTo>
                          <a:lnTo>
                            <a:pt x="8" y="408"/>
                          </a:lnTo>
                          <a:lnTo>
                            <a:pt x="24" y="408"/>
                          </a:lnTo>
                          <a:lnTo>
                            <a:pt x="32" y="384"/>
                          </a:lnTo>
                          <a:lnTo>
                            <a:pt x="66" y="342"/>
                          </a:lnTo>
                          <a:lnTo>
                            <a:pt x="90" y="277"/>
                          </a:lnTo>
                          <a:lnTo>
                            <a:pt x="110" y="241"/>
                          </a:lnTo>
                          <a:lnTo>
                            <a:pt x="144" y="183"/>
                          </a:lnTo>
                          <a:lnTo>
                            <a:pt x="192" y="119"/>
                          </a:lnTo>
                          <a:lnTo>
                            <a:pt x="286" y="56"/>
                          </a:lnTo>
                          <a:lnTo>
                            <a:pt x="344" y="26"/>
                          </a:lnTo>
                          <a:lnTo>
                            <a:pt x="41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2"/>
                    <p:cNvSpPr/>
                    <p:nvPr/>
                  </p:nvSpPr>
                  <p:spPr>
                    <a:xfrm>
                      <a:off x="4267080" y="5173560"/>
                      <a:ext cx="439920" cy="431640"/>
                    </a:xfrm>
                    <a:custGeom>
                      <a:avLst/>
                      <a:gdLst>
                        <a:gd name="textAreaLeft" fmla="*/ 0 w 439920"/>
                        <a:gd name="textAreaRight" fmla="*/ 440280 w 439920"/>
                        <a:gd name="textAreaTop" fmla="*/ 0 h 431640"/>
                        <a:gd name="textAreaBottom" fmla="*/ 432000 h 431640"/>
                      </a:gdLst>
                      <a:ahLst/>
                      <a:rect l="textAreaLeft" t="textAreaTop" r="textAreaRight" b="textAreaBottom"/>
                      <a:pathLst>
                        <a:path w="555" h="544">
                          <a:moveTo>
                            <a:pt x="549" y="0"/>
                          </a:moveTo>
                          <a:lnTo>
                            <a:pt x="477" y="78"/>
                          </a:lnTo>
                          <a:lnTo>
                            <a:pt x="433" y="102"/>
                          </a:lnTo>
                          <a:lnTo>
                            <a:pt x="397" y="114"/>
                          </a:lnTo>
                          <a:lnTo>
                            <a:pt x="351" y="145"/>
                          </a:lnTo>
                          <a:lnTo>
                            <a:pt x="191" y="253"/>
                          </a:lnTo>
                          <a:lnTo>
                            <a:pt x="157" y="289"/>
                          </a:lnTo>
                          <a:lnTo>
                            <a:pt x="107" y="325"/>
                          </a:lnTo>
                          <a:lnTo>
                            <a:pt x="71" y="349"/>
                          </a:lnTo>
                          <a:lnTo>
                            <a:pt x="36" y="373"/>
                          </a:lnTo>
                          <a:lnTo>
                            <a:pt x="6" y="394"/>
                          </a:lnTo>
                          <a:lnTo>
                            <a:pt x="0" y="412"/>
                          </a:lnTo>
                          <a:lnTo>
                            <a:pt x="2" y="430"/>
                          </a:lnTo>
                          <a:lnTo>
                            <a:pt x="20" y="430"/>
                          </a:lnTo>
                          <a:lnTo>
                            <a:pt x="49" y="412"/>
                          </a:lnTo>
                          <a:lnTo>
                            <a:pt x="83" y="390"/>
                          </a:lnTo>
                          <a:lnTo>
                            <a:pt x="113" y="371"/>
                          </a:lnTo>
                          <a:lnTo>
                            <a:pt x="109" y="402"/>
                          </a:lnTo>
                          <a:lnTo>
                            <a:pt x="85" y="438"/>
                          </a:lnTo>
                          <a:lnTo>
                            <a:pt x="65" y="454"/>
                          </a:lnTo>
                          <a:lnTo>
                            <a:pt x="59" y="468"/>
                          </a:lnTo>
                          <a:lnTo>
                            <a:pt x="36" y="490"/>
                          </a:lnTo>
                          <a:lnTo>
                            <a:pt x="14" y="520"/>
                          </a:lnTo>
                          <a:lnTo>
                            <a:pt x="18" y="544"/>
                          </a:lnTo>
                          <a:lnTo>
                            <a:pt x="83" y="538"/>
                          </a:lnTo>
                          <a:lnTo>
                            <a:pt x="101" y="498"/>
                          </a:lnTo>
                          <a:lnTo>
                            <a:pt x="143" y="456"/>
                          </a:lnTo>
                          <a:lnTo>
                            <a:pt x="137" y="426"/>
                          </a:lnTo>
                          <a:lnTo>
                            <a:pt x="191" y="383"/>
                          </a:lnTo>
                          <a:lnTo>
                            <a:pt x="487" y="179"/>
                          </a:lnTo>
                          <a:lnTo>
                            <a:pt x="435" y="173"/>
                          </a:lnTo>
                          <a:lnTo>
                            <a:pt x="417" y="133"/>
                          </a:lnTo>
                          <a:lnTo>
                            <a:pt x="463" y="120"/>
                          </a:lnTo>
                          <a:lnTo>
                            <a:pt x="477" y="108"/>
                          </a:lnTo>
                          <a:lnTo>
                            <a:pt x="493" y="108"/>
                          </a:lnTo>
                          <a:lnTo>
                            <a:pt x="555" y="26"/>
                          </a:lnTo>
                          <a:lnTo>
                            <a:pt x="54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Freeform 13"/>
                  <p:cNvSpPr/>
                  <p:nvPr/>
                </p:nvSpPr>
                <p:spPr>
                  <a:xfrm>
                    <a:off x="4414680" y="4700880"/>
                    <a:ext cx="200160" cy="904680"/>
                  </a:xfrm>
                  <a:custGeom>
                    <a:avLst/>
                    <a:gdLst>
                      <a:gd name="textAreaLeft" fmla="*/ 0 w 200160"/>
                      <a:gd name="textAreaRight" fmla="*/ 200520 w 200160"/>
                      <a:gd name="textAreaTop" fmla="*/ 0 h 904680"/>
                      <a:gd name="textAreaBottom" fmla="*/ 905040 h 904680"/>
                    </a:gdLst>
                    <a:ahLst/>
                    <a:rect l="textAreaLeft" t="textAreaTop" r="textAreaRight" b="textAreaBottom"/>
                    <a:pathLst>
                      <a:path w="254" h="1142">
                        <a:moveTo>
                          <a:pt x="42" y="0"/>
                        </a:moveTo>
                        <a:lnTo>
                          <a:pt x="72" y="30"/>
                        </a:lnTo>
                        <a:lnTo>
                          <a:pt x="98" y="42"/>
                        </a:lnTo>
                        <a:lnTo>
                          <a:pt x="140" y="38"/>
                        </a:lnTo>
                        <a:lnTo>
                          <a:pt x="172" y="26"/>
                        </a:lnTo>
                        <a:lnTo>
                          <a:pt x="184" y="50"/>
                        </a:lnTo>
                        <a:lnTo>
                          <a:pt x="184" y="80"/>
                        </a:lnTo>
                        <a:lnTo>
                          <a:pt x="176" y="102"/>
                        </a:lnTo>
                        <a:lnTo>
                          <a:pt x="164" y="114"/>
                        </a:lnTo>
                        <a:lnTo>
                          <a:pt x="136" y="138"/>
                        </a:lnTo>
                        <a:lnTo>
                          <a:pt x="184" y="200"/>
                        </a:lnTo>
                        <a:lnTo>
                          <a:pt x="206" y="239"/>
                        </a:lnTo>
                        <a:lnTo>
                          <a:pt x="218" y="275"/>
                        </a:lnTo>
                        <a:lnTo>
                          <a:pt x="224" y="365"/>
                        </a:lnTo>
                        <a:lnTo>
                          <a:pt x="244" y="562"/>
                        </a:lnTo>
                        <a:lnTo>
                          <a:pt x="254" y="676"/>
                        </a:lnTo>
                        <a:lnTo>
                          <a:pt x="254" y="813"/>
                        </a:lnTo>
                        <a:lnTo>
                          <a:pt x="250" y="969"/>
                        </a:lnTo>
                        <a:lnTo>
                          <a:pt x="246" y="1142"/>
                        </a:lnTo>
                        <a:lnTo>
                          <a:pt x="6" y="1140"/>
                        </a:lnTo>
                        <a:lnTo>
                          <a:pt x="0" y="965"/>
                        </a:lnTo>
                        <a:lnTo>
                          <a:pt x="6" y="863"/>
                        </a:lnTo>
                        <a:lnTo>
                          <a:pt x="14" y="737"/>
                        </a:lnTo>
                        <a:lnTo>
                          <a:pt x="14" y="526"/>
                        </a:lnTo>
                        <a:lnTo>
                          <a:pt x="14" y="457"/>
                        </a:lnTo>
                        <a:lnTo>
                          <a:pt x="20" y="287"/>
                        </a:lnTo>
                        <a:lnTo>
                          <a:pt x="32" y="235"/>
                        </a:lnTo>
                        <a:lnTo>
                          <a:pt x="60" y="144"/>
                        </a:lnTo>
                        <a:lnTo>
                          <a:pt x="26" y="98"/>
                        </a:lnTo>
                        <a:lnTo>
                          <a:pt x="12" y="74"/>
                        </a:lnTo>
                        <a:lnTo>
                          <a:pt x="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14"/>
                <p:cNvGrpSpPr/>
                <p:nvPr/>
              </p:nvGrpSpPr>
              <p:grpSpPr>
                <a:xfrm>
                  <a:off x="3612960" y="4501440"/>
                  <a:ext cx="1768680" cy="1189800"/>
                  <a:chOff x="3612960" y="4501440"/>
                  <a:chExt cx="1768680" cy="1189800"/>
                </a:xfrm>
              </p:grpSpPr>
              <p:grpSp>
                <p:nvGrpSpPr>
                  <p:cNvPr id="250" name="Group 15"/>
                  <p:cNvGrpSpPr/>
                  <p:nvPr/>
                </p:nvGrpSpPr>
                <p:grpSpPr>
                  <a:xfrm>
                    <a:off x="3612960" y="4531320"/>
                    <a:ext cx="750960" cy="1159920"/>
                    <a:chOff x="3612960" y="4531320"/>
                    <a:chExt cx="750960" cy="1159920"/>
                  </a:xfrm>
                </p:grpSpPr>
                <p:sp>
                  <p:nvSpPr>
                    <p:cNvPr id="251" name="Freeform 16"/>
                    <p:cNvSpPr/>
                    <p:nvPr/>
                  </p:nvSpPr>
                  <p:spPr>
                    <a:xfrm>
                      <a:off x="3612960" y="4545360"/>
                      <a:ext cx="741600" cy="1145880"/>
                    </a:xfrm>
                    <a:custGeom>
                      <a:avLst/>
                      <a:gdLst>
                        <a:gd name="textAreaLeft" fmla="*/ 0 w 741600"/>
                        <a:gd name="textAreaRight" fmla="*/ 741960 w 741600"/>
                        <a:gd name="textAreaTop" fmla="*/ 0 h 1145880"/>
                        <a:gd name="textAreaBottom" fmla="*/ 1145880 h 1145880"/>
                      </a:gdLst>
                      <a:ahLst/>
                      <a:rect l="textAreaLeft" t="textAreaTop" r="textAreaRight" b="textAreaBottom"/>
                      <a:pathLst>
                        <a:path w="934" h="1444">
                          <a:moveTo>
                            <a:pt x="829" y="0"/>
                          </a:moveTo>
                          <a:lnTo>
                            <a:pt x="795" y="46"/>
                          </a:lnTo>
                          <a:lnTo>
                            <a:pt x="705" y="76"/>
                          </a:lnTo>
                          <a:lnTo>
                            <a:pt x="631" y="94"/>
                          </a:lnTo>
                          <a:lnTo>
                            <a:pt x="567" y="102"/>
                          </a:lnTo>
                          <a:lnTo>
                            <a:pt x="453" y="120"/>
                          </a:lnTo>
                          <a:lnTo>
                            <a:pt x="413" y="136"/>
                          </a:lnTo>
                          <a:lnTo>
                            <a:pt x="399" y="143"/>
                          </a:lnTo>
                          <a:lnTo>
                            <a:pt x="389" y="155"/>
                          </a:lnTo>
                          <a:lnTo>
                            <a:pt x="359" y="299"/>
                          </a:lnTo>
                          <a:lnTo>
                            <a:pt x="339" y="375"/>
                          </a:lnTo>
                          <a:lnTo>
                            <a:pt x="316" y="452"/>
                          </a:lnTo>
                          <a:lnTo>
                            <a:pt x="304" y="494"/>
                          </a:lnTo>
                          <a:lnTo>
                            <a:pt x="294" y="500"/>
                          </a:lnTo>
                          <a:lnTo>
                            <a:pt x="272" y="514"/>
                          </a:lnTo>
                          <a:lnTo>
                            <a:pt x="266" y="534"/>
                          </a:lnTo>
                          <a:lnTo>
                            <a:pt x="250" y="566"/>
                          </a:lnTo>
                          <a:lnTo>
                            <a:pt x="196" y="707"/>
                          </a:lnTo>
                          <a:lnTo>
                            <a:pt x="188" y="761"/>
                          </a:lnTo>
                          <a:lnTo>
                            <a:pt x="174" y="795"/>
                          </a:lnTo>
                          <a:lnTo>
                            <a:pt x="108" y="865"/>
                          </a:lnTo>
                          <a:lnTo>
                            <a:pt x="94" y="899"/>
                          </a:lnTo>
                          <a:lnTo>
                            <a:pt x="76" y="928"/>
                          </a:lnTo>
                          <a:lnTo>
                            <a:pt x="62" y="954"/>
                          </a:lnTo>
                          <a:lnTo>
                            <a:pt x="48" y="984"/>
                          </a:lnTo>
                          <a:lnTo>
                            <a:pt x="28" y="1040"/>
                          </a:lnTo>
                          <a:lnTo>
                            <a:pt x="8" y="1088"/>
                          </a:lnTo>
                          <a:lnTo>
                            <a:pt x="0" y="1118"/>
                          </a:lnTo>
                          <a:lnTo>
                            <a:pt x="4" y="1154"/>
                          </a:lnTo>
                          <a:lnTo>
                            <a:pt x="6" y="1185"/>
                          </a:lnTo>
                          <a:lnTo>
                            <a:pt x="16" y="1225"/>
                          </a:lnTo>
                          <a:lnTo>
                            <a:pt x="32" y="1255"/>
                          </a:lnTo>
                          <a:lnTo>
                            <a:pt x="44" y="1285"/>
                          </a:lnTo>
                          <a:lnTo>
                            <a:pt x="80" y="1317"/>
                          </a:lnTo>
                          <a:lnTo>
                            <a:pt x="381" y="1325"/>
                          </a:lnTo>
                          <a:lnTo>
                            <a:pt x="447" y="1142"/>
                          </a:lnTo>
                          <a:lnTo>
                            <a:pt x="501" y="1054"/>
                          </a:lnTo>
                          <a:lnTo>
                            <a:pt x="533" y="928"/>
                          </a:lnTo>
                          <a:lnTo>
                            <a:pt x="483" y="1176"/>
                          </a:lnTo>
                          <a:lnTo>
                            <a:pt x="463" y="1261"/>
                          </a:lnTo>
                          <a:lnTo>
                            <a:pt x="445" y="1357"/>
                          </a:lnTo>
                          <a:lnTo>
                            <a:pt x="411" y="1444"/>
                          </a:lnTo>
                          <a:lnTo>
                            <a:pt x="645" y="1444"/>
                          </a:lnTo>
                          <a:lnTo>
                            <a:pt x="723" y="1307"/>
                          </a:lnTo>
                          <a:lnTo>
                            <a:pt x="767" y="1239"/>
                          </a:lnTo>
                          <a:lnTo>
                            <a:pt x="803" y="1158"/>
                          </a:lnTo>
                          <a:lnTo>
                            <a:pt x="845" y="1054"/>
                          </a:lnTo>
                          <a:lnTo>
                            <a:pt x="862" y="954"/>
                          </a:lnTo>
                          <a:lnTo>
                            <a:pt x="882" y="867"/>
                          </a:lnTo>
                          <a:lnTo>
                            <a:pt x="904" y="767"/>
                          </a:lnTo>
                          <a:lnTo>
                            <a:pt x="920" y="669"/>
                          </a:lnTo>
                          <a:lnTo>
                            <a:pt x="934" y="558"/>
                          </a:lnTo>
                          <a:lnTo>
                            <a:pt x="934" y="482"/>
                          </a:lnTo>
                          <a:lnTo>
                            <a:pt x="934" y="410"/>
                          </a:lnTo>
                          <a:lnTo>
                            <a:pt x="934" y="307"/>
                          </a:lnTo>
                          <a:lnTo>
                            <a:pt x="934" y="243"/>
                          </a:lnTo>
                          <a:lnTo>
                            <a:pt x="902" y="26"/>
                          </a:lnTo>
                          <a:lnTo>
                            <a:pt x="82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3797280" y="5085000"/>
                      <a:ext cx="315720" cy="271080"/>
                    </a:xfrm>
                    <a:custGeom>
                      <a:avLst/>
                      <a:gdLst>
                        <a:gd name="textAreaLeft" fmla="*/ 0 w 315720"/>
                        <a:gd name="textAreaRight" fmla="*/ 316080 w 315720"/>
                        <a:gd name="textAreaTop" fmla="*/ 0 h 271080"/>
                        <a:gd name="textAreaBottom" fmla="*/ 271440 h 271080"/>
                      </a:gdLst>
                      <a:ahLst/>
                      <a:rect l="textAreaLeft" t="textAreaTop" r="textAreaRight" b="textAreaBottom"/>
                      <a:pathLst>
                        <a:path w="397" h="343">
                          <a:moveTo>
                            <a:pt x="133" y="0"/>
                          </a:moveTo>
                          <a:lnTo>
                            <a:pt x="175" y="12"/>
                          </a:lnTo>
                          <a:lnTo>
                            <a:pt x="205" y="20"/>
                          </a:lnTo>
                          <a:lnTo>
                            <a:pt x="223" y="36"/>
                          </a:lnTo>
                          <a:lnTo>
                            <a:pt x="245" y="48"/>
                          </a:lnTo>
                          <a:lnTo>
                            <a:pt x="263" y="60"/>
                          </a:lnTo>
                          <a:lnTo>
                            <a:pt x="283" y="74"/>
                          </a:lnTo>
                          <a:lnTo>
                            <a:pt x="311" y="32"/>
                          </a:lnTo>
                          <a:lnTo>
                            <a:pt x="313" y="86"/>
                          </a:lnTo>
                          <a:lnTo>
                            <a:pt x="323" y="122"/>
                          </a:lnTo>
                          <a:lnTo>
                            <a:pt x="355" y="90"/>
                          </a:lnTo>
                          <a:lnTo>
                            <a:pt x="379" y="62"/>
                          </a:lnTo>
                          <a:lnTo>
                            <a:pt x="397" y="42"/>
                          </a:lnTo>
                          <a:lnTo>
                            <a:pt x="397" y="84"/>
                          </a:lnTo>
                          <a:lnTo>
                            <a:pt x="379" y="132"/>
                          </a:lnTo>
                          <a:lnTo>
                            <a:pt x="361" y="174"/>
                          </a:lnTo>
                          <a:lnTo>
                            <a:pt x="335" y="200"/>
                          </a:lnTo>
                          <a:lnTo>
                            <a:pt x="319" y="218"/>
                          </a:lnTo>
                          <a:lnTo>
                            <a:pt x="295" y="218"/>
                          </a:lnTo>
                          <a:lnTo>
                            <a:pt x="259" y="341"/>
                          </a:lnTo>
                          <a:lnTo>
                            <a:pt x="221" y="343"/>
                          </a:lnTo>
                          <a:lnTo>
                            <a:pt x="185" y="331"/>
                          </a:lnTo>
                          <a:lnTo>
                            <a:pt x="157" y="317"/>
                          </a:lnTo>
                          <a:lnTo>
                            <a:pt x="193" y="299"/>
                          </a:lnTo>
                          <a:lnTo>
                            <a:pt x="203" y="293"/>
                          </a:lnTo>
                          <a:lnTo>
                            <a:pt x="125" y="218"/>
                          </a:lnTo>
                          <a:lnTo>
                            <a:pt x="84" y="210"/>
                          </a:lnTo>
                          <a:lnTo>
                            <a:pt x="26" y="212"/>
                          </a:lnTo>
                          <a:lnTo>
                            <a:pt x="14" y="212"/>
                          </a:lnTo>
                          <a:lnTo>
                            <a:pt x="0" y="198"/>
                          </a:lnTo>
                          <a:lnTo>
                            <a:pt x="0" y="174"/>
                          </a:lnTo>
                          <a:lnTo>
                            <a:pt x="78" y="174"/>
                          </a:lnTo>
                          <a:lnTo>
                            <a:pt x="102" y="176"/>
                          </a:lnTo>
                          <a:lnTo>
                            <a:pt x="96" y="182"/>
                          </a:lnTo>
                          <a:lnTo>
                            <a:pt x="131" y="206"/>
                          </a:lnTo>
                          <a:lnTo>
                            <a:pt x="173" y="241"/>
                          </a:lnTo>
                          <a:lnTo>
                            <a:pt x="203" y="265"/>
                          </a:lnTo>
                          <a:lnTo>
                            <a:pt x="235" y="212"/>
                          </a:lnTo>
                          <a:lnTo>
                            <a:pt x="235" y="194"/>
                          </a:lnTo>
                          <a:lnTo>
                            <a:pt x="229" y="146"/>
                          </a:lnTo>
                          <a:lnTo>
                            <a:pt x="259" y="156"/>
                          </a:lnTo>
                          <a:lnTo>
                            <a:pt x="275" y="138"/>
                          </a:lnTo>
                          <a:lnTo>
                            <a:pt x="251" y="114"/>
                          </a:lnTo>
                          <a:lnTo>
                            <a:pt x="227" y="90"/>
                          </a:lnTo>
                          <a:lnTo>
                            <a:pt x="187" y="62"/>
                          </a:lnTo>
                          <a:lnTo>
                            <a:pt x="167" y="30"/>
                          </a:lnTo>
                          <a:lnTo>
                            <a:pt x="133"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
                    <p:cNvSpPr/>
                    <p:nvPr/>
                  </p:nvSpPr>
                  <p:spPr>
                    <a:xfrm>
                      <a:off x="3903480" y="4702320"/>
                      <a:ext cx="141480" cy="365040"/>
                    </a:xfrm>
                    <a:custGeom>
                      <a:avLst/>
                      <a:gdLst>
                        <a:gd name="textAreaLeft" fmla="*/ 0 w 141480"/>
                        <a:gd name="textAreaRight" fmla="*/ 141840 w 141480"/>
                        <a:gd name="textAreaTop" fmla="*/ 0 h 365040"/>
                        <a:gd name="textAreaBottom" fmla="*/ 365400 h 365040"/>
                      </a:gdLst>
                      <a:ahLst/>
                      <a:rect l="textAreaLeft" t="textAreaTop" r="textAreaRight" b="textAreaBottom"/>
                      <a:pathLst>
                        <a:path w="178" h="461">
                          <a:moveTo>
                            <a:pt x="60" y="0"/>
                          </a:moveTo>
                          <a:lnTo>
                            <a:pt x="132" y="142"/>
                          </a:lnTo>
                          <a:lnTo>
                            <a:pt x="154" y="215"/>
                          </a:lnTo>
                          <a:lnTo>
                            <a:pt x="172" y="287"/>
                          </a:lnTo>
                          <a:lnTo>
                            <a:pt x="178" y="347"/>
                          </a:lnTo>
                          <a:lnTo>
                            <a:pt x="178" y="461"/>
                          </a:lnTo>
                          <a:lnTo>
                            <a:pt x="166" y="423"/>
                          </a:lnTo>
                          <a:lnTo>
                            <a:pt x="100" y="389"/>
                          </a:lnTo>
                          <a:lnTo>
                            <a:pt x="72" y="381"/>
                          </a:lnTo>
                          <a:lnTo>
                            <a:pt x="18" y="341"/>
                          </a:lnTo>
                          <a:lnTo>
                            <a:pt x="0" y="287"/>
                          </a:lnTo>
                          <a:lnTo>
                            <a:pt x="16" y="263"/>
                          </a:lnTo>
                          <a:lnTo>
                            <a:pt x="64" y="333"/>
                          </a:lnTo>
                          <a:lnTo>
                            <a:pt x="90" y="363"/>
                          </a:lnTo>
                          <a:lnTo>
                            <a:pt x="136" y="389"/>
                          </a:lnTo>
                          <a:lnTo>
                            <a:pt x="150" y="389"/>
                          </a:lnTo>
                          <a:lnTo>
                            <a:pt x="166" y="407"/>
                          </a:lnTo>
                          <a:lnTo>
                            <a:pt x="154" y="263"/>
                          </a:lnTo>
                          <a:lnTo>
                            <a:pt x="112" y="156"/>
                          </a:lnTo>
                          <a:lnTo>
                            <a:pt x="88" y="102"/>
                          </a:lnTo>
                          <a:lnTo>
                            <a:pt x="6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19"/>
                    <p:cNvGrpSpPr/>
                    <p:nvPr/>
                  </p:nvGrpSpPr>
                  <p:grpSpPr>
                    <a:xfrm>
                      <a:off x="4032000" y="4531320"/>
                      <a:ext cx="331920" cy="1159920"/>
                      <a:chOff x="4032000" y="4531320"/>
                      <a:chExt cx="331920" cy="1159920"/>
                    </a:xfrm>
                  </p:grpSpPr>
                  <p:sp>
                    <p:nvSpPr>
                      <p:cNvPr id="255" name="Freeform 20"/>
                      <p:cNvSpPr/>
                      <p:nvPr/>
                    </p:nvSpPr>
                    <p:spPr>
                      <a:xfrm>
                        <a:off x="4032000" y="4545360"/>
                        <a:ext cx="322560" cy="1145880"/>
                      </a:xfrm>
                      <a:custGeom>
                        <a:avLst/>
                        <a:gdLst>
                          <a:gd name="textAreaLeft" fmla="*/ 0 w 322560"/>
                          <a:gd name="textAreaRight" fmla="*/ 322920 w 322560"/>
                          <a:gd name="textAreaTop" fmla="*/ 0 h 1145880"/>
                          <a:gd name="textAreaBottom" fmla="*/ 1145880 h 1145880"/>
                        </a:gdLst>
                        <a:ahLst/>
                        <a:rect l="textAreaLeft" t="textAreaTop" r="textAreaRight" b="textAreaBottom"/>
                        <a:pathLst>
                          <a:path w="405" h="1444">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69"/>
                            </a:lnTo>
                            <a:lnTo>
                              <a:pt x="164" y="723"/>
                            </a:lnTo>
                            <a:lnTo>
                              <a:pt x="182" y="789"/>
                            </a:lnTo>
                            <a:lnTo>
                              <a:pt x="192" y="829"/>
                            </a:lnTo>
                            <a:lnTo>
                              <a:pt x="200" y="887"/>
                            </a:lnTo>
                            <a:lnTo>
                              <a:pt x="202" y="938"/>
                            </a:lnTo>
                            <a:lnTo>
                              <a:pt x="192" y="1000"/>
                            </a:lnTo>
                            <a:lnTo>
                              <a:pt x="182" y="1054"/>
                            </a:lnTo>
                            <a:lnTo>
                              <a:pt x="166" y="1108"/>
                            </a:lnTo>
                            <a:lnTo>
                              <a:pt x="140" y="1176"/>
                            </a:lnTo>
                            <a:lnTo>
                              <a:pt x="112" y="1247"/>
                            </a:lnTo>
                            <a:lnTo>
                              <a:pt x="72" y="1317"/>
                            </a:lnTo>
                            <a:lnTo>
                              <a:pt x="0" y="1444"/>
                            </a:lnTo>
                            <a:lnTo>
                              <a:pt x="116" y="1444"/>
                            </a:lnTo>
                            <a:lnTo>
                              <a:pt x="194" y="1307"/>
                            </a:lnTo>
                            <a:lnTo>
                              <a:pt x="238" y="1239"/>
                            </a:lnTo>
                            <a:lnTo>
                              <a:pt x="274" y="1158"/>
                            </a:lnTo>
                            <a:lnTo>
                              <a:pt x="316" y="1054"/>
                            </a:lnTo>
                            <a:lnTo>
                              <a:pt x="333" y="954"/>
                            </a:lnTo>
                            <a:lnTo>
                              <a:pt x="353" y="867"/>
                            </a:lnTo>
                            <a:lnTo>
                              <a:pt x="375" y="767"/>
                            </a:lnTo>
                            <a:lnTo>
                              <a:pt x="391" y="669"/>
                            </a:lnTo>
                            <a:lnTo>
                              <a:pt x="405" y="558"/>
                            </a:lnTo>
                            <a:lnTo>
                              <a:pt x="405" y="482"/>
                            </a:lnTo>
                            <a:lnTo>
                              <a:pt x="405" y="410"/>
                            </a:lnTo>
                            <a:lnTo>
                              <a:pt x="405" y="307"/>
                            </a:lnTo>
                            <a:lnTo>
                              <a:pt x="405" y="243"/>
                            </a:lnTo>
                            <a:lnTo>
                              <a:pt x="373" y="26"/>
                            </a:lnTo>
                            <a:lnTo>
                              <a:pt x="30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4041720" y="4531320"/>
                        <a:ext cx="322200" cy="1145880"/>
                      </a:xfrm>
                      <a:custGeom>
                        <a:avLst/>
                        <a:gdLst>
                          <a:gd name="textAreaLeft" fmla="*/ 0 w 322200"/>
                          <a:gd name="textAreaRight" fmla="*/ 322200 w 322200"/>
                          <a:gd name="textAreaTop" fmla="*/ 0 h 1145880"/>
                          <a:gd name="textAreaBottom" fmla="*/ 1146240 h 1145880"/>
                        </a:gdLst>
                        <a:ahLst/>
                        <a:rect l="textAreaLeft" t="textAreaTop" r="textAreaRight" b="textAreaBottom"/>
                        <a:pathLst>
                          <a:path w="405" h="1445">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70"/>
                            </a:lnTo>
                            <a:lnTo>
                              <a:pt x="164" y="723"/>
                            </a:lnTo>
                            <a:lnTo>
                              <a:pt x="182" y="783"/>
                            </a:lnTo>
                            <a:lnTo>
                              <a:pt x="192" y="829"/>
                            </a:lnTo>
                            <a:lnTo>
                              <a:pt x="200" y="887"/>
                            </a:lnTo>
                            <a:lnTo>
                              <a:pt x="202" y="938"/>
                            </a:lnTo>
                            <a:lnTo>
                              <a:pt x="192" y="1000"/>
                            </a:lnTo>
                            <a:lnTo>
                              <a:pt x="182" y="1054"/>
                            </a:lnTo>
                            <a:lnTo>
                              <a:pt x="166" y="1108"/>
                            </a:lnTo>
                            <a:lnTo>
                              <a:pt x="140" y="1176"/>
                            </a:lnTo>
                            <a:lnTo>
                              <a:pt x="112" y="1247"/>
                            </a:lnTo>
                            <a:lnTo>
                              <a:pt x="72" y="1317"/>
                            </a:lnTo>
                            <a:lnTo>
                              <a:pt x="0" y="1445"/>
                            </a:lnTo>
                            <a:lnTo>
                              <a:pt x="116" y="1445"/>
                            </a:lnTo>
                            <a:lnTo>
                              <a:pt x="194" y="1307"/>
                            </a:lnTo>
                            <a:lnTo>
                              <a:pt x="238" y="1239"/>
                            </a:lnTo>
                            <a:lnTo>
                              <a:pt x="274" y="1158"/>
                            </a:lnTo>
                            <a:lnTo>
                              <a:pt x="316" y="1054"/>
                            </a:lnTo>
                            <a:lnTo>
                              <a:pt x="333" y="954"/>
                            </a:lnTo>
                            <a:lnTo>
                              <a:pt x="353" y="867"/>
                            </a:lnTo>
                            <a:lnTo>
                              <a:pt x="375" y="767"/>
                            </a:lnTo>
                            <a:lnTo>
                              <a:pt x="391" y="670"/>
                            </a:lnTo>
                            <a:lnTo>
                              <a:pt x="405" y="558"/>
                            </a:lnTo>
                            <a:lnTo>
                              <a:pt x="405" y="482"/>
                            </a:lnTo>
                            <a:lnTo>
                              <a:pt x="405" y="411"/>
                            </a:lnTo>
                            <a:lnTo>
                              <a:pt x="405" y="307"/>
                            </a:lnTo>
                            <a:lnTo>
                              <a:pt x="405" y="243"/>
                            </a:lnTo>
                            <a:lnTo>
                              <a:pt x="373" y="26"/>
                            </a:lnTo>
                            <a:lnTo>
                              <a:pt x="30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7" name="Group 22"/>
                  <p:cNvGrpSpPr/>
                  <p:nvPr/>
                </p:nvGrpSpPr>
                <p:grpSpPr>
                  <a:xfrm>
                    <a:off x="4624200" y="4501440"/>
                    <a:ext cx="757440" cy="1142280"/>
                    <a:chOff x="4624200" y="4501440"/>
                    <a:chExt cx="757440" cy="1142280"/>
                  </a:xfrm>
                </p:grpSpPr>
                <p:sp>
                  <p:nvSpPr>
                    <p:cNvPr id="258" name="Freeform 23"/>
                    <p:cNvSpPr/>
                    <p:nvPr/>
                  </p:nvSpPr>
                  <p:spPr>
                    <a:xfrm>
                      <a:off x="4633920" y="4515480"/>
                      <a:ext cx="747720" cy="1128240"/>
                    </a:xfrm>
                    <a:custGeom>
                      <a:avLst/>
                      <a:gdLst>
                        <a:gd name="textAreaLeft" fmla="*/ 0 w 747720"/>
                        <a:gd name="textAreaRight" fmla="*/ 748080 w 747720"/>
                        <a:gd name="textAreaTop" fmla="*/ 0 h 1128240"/>
                        <a:gd name="textAreaBottom" fmla="*/ 1128600 h 1128240"/>
                      </a:gdLst>
                      <a:ahLst/>
                      <a:rect l="textAreaLeft" t="textAreaTop" r="textAreaRight" b="textAreaBottom"/>
                      <a:pathLst>
                        <a:path w="942"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874" y="1423"/>
                          </a:lnTo>
                          <a:lnTo>
                            <a:pt x="942" y="1385"/>
                          </a:lnTo>
                          <a:lnTo>
                            <a:pt x="900" y="1080"/>
                          </a:lnTo>
                          <a:lnTo>
                            <a:pt x="870" y="972"/>
                          </a:lnTo>
                          <a:lnTo>
                            <a:pt x="870" y="897"/>
                          </a:lnTo>
                          <a:lnTo>
                            <a:pt x="862" y="871"/>
                          </a:lnTo>
                          <a:lnTo>
                            <a:pt x="856" y="843"/>
                          </a:lnTo>
                          <a:lnTo>
                            <a:pt x="842" y="827"/>
                          </a:lnTo>
                          <a:lnTo>
                            <a:pt x="810" y="789"/>
                          </a:lnTo>
                          <a:lnTo>
                            <a:pt x="800" y="757"/>
                          </a:lnTo>
                          <a:lnTo>
                            <a:pt x="788" y="711"/>
                          </a:lnTo>
                          <a:lnTo>
                            <a:pt x="776" y="670"/>
                          </a:lnTo>
                          <a:lnTo>
                            <a:pt x="748" y="616"/>
                          </a:lnTo>
                          <a:lnTo>
                            <a:pt x="712" y="472"/>
                          </a:lnTo>
                          <a:lnTo>
                            <a:pt x="690" y="440"/>
                          </a:lnTo>
                          <a:lnTo>
                            <a:pt x="668" y="427"/>
                          </a:lnTo>
                          <a:lnTo>
                            <a:pt x="644" y="409"/>
                          </a:lnTo>
                          <a:lnTo>
                            <a:pt x="654" y="369"/>
                          </a:lnTo>
                          <a:lnTo>
                            <a:pt x="646" y="353"/>
                          </a:lnTo>
                          <a:lnTo>
                            <a:pt x="613" y="301"/>
                          </a:lnTo>
                          <a:lnTo>
                            <a:pt x="628" y="269"/>
                          </a:lnTo>
                          <a:lnTo>
                            <a:pt x="632" y="247"/>
                          </a:lnTo>
                          <a:lnTo>
                            <a:pt x="630" y="225"/>
                          </a:lnTo>
                          <a:lnTo>
                            <a:pt x="622" y="201"/>
                          </a:lnTo>
                          <a:lnTo>
                            <a:pt x="611" y="166"/>
                          </a:lnTo>
                          <a:lnTo>
                            <a:pt x="601" y="144"/>
                          </a:lnTo>
                          <a:lnTo>
                            <a:pt x="589" y="136"/>
                          </a:lnTo>
                          <a:lnTo>
                            <a:pt x="571" y="128"/>
                          </a:lnTo>
                          <a:lnTo>
                            <a:pt x="547" y="122"/>
                          </a:lnTo>
                          <a:lnTo>
                            <a:pt x="471" y="120"/>
                          </a:lnTo>
                          <a:lnTo>
                            <a:pt x="387" y="108"/>
                          </a:lnTo>
                          <a:lnTo>
                            <a:pt x="299" y="86"/>
                          </a:lnTo>
                          <a:lnTo>
                            <a:pt x="219" y="62"/>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4913280" y="4644000"/>
                      <a:ext cx="360360" cy="779040"/>
                    </a:xfrm>
                    <a:custGeom>
                      <a:avLst/>
                      <a:gdLst>
                        <a:gd name="textAreaLeft" fmla="*/ 0 w 360360"/>
                        <a:gd name="textAreaRight" fmla="*/ 360720 w 360360"/>
                        <a:gd name="textAreaTop" fmla="*/ 0 h 779040"/>
                        <a:gd name="textAreaBottom" fmla="*/ 779400 h 779040"/>
                      </a:gdLst>
                      <a:ahLst/>
                      <a:rect l="textAreaLeft" t="textAreaTop" r="textAreaRight" b="textAreaBottom"/>
                      <a:pathLst>
                        <a:path w="453" h="982">
                          <a:moveTo>
                            <a:pt x="172" y="0"/>
                          </a:moveTo>
                          <a:lnTo>
                            <a:pt x="210" y="35"/>
                          </a:lnTo>
                          <a:lnTo>
                            <a:pt x="184" y="71"/>
                          </a:lnTo>
                          <a:lnTo>
                            <a:pt x="172" y="107"/>
                          </a:lnTo>
                          <a:lnTo>
                            <a:pt x="160" y="155"/>
                          </a:lnTo>
                          <a:lnTo>
                            <a:pt x="150" y="227"/>
                          </a:lnTo>
                          <a:lnTo>
                            <a:pt x="190" y="211"/>
                          </a:lnTo>
                          <a:lnTo>
                            <a:pt x="220" y="199"/>
                          </a:lnTo>
                          <a:lnTo>
                            <a:pt x="244" y="217"/>
                          </a:lnTo>
                          <a:lnTo>
                            <a:pt x="178" y="275"/>
                          </a:lnTo>
                          <a:lnTo>
                            <a:pt x="150" y="306"/>
                          </a:lnTo>
                          <a:lnTo>
                            <a:pt x="150" y="394"/>
                          </a:lnTo>
                          <a:lnTo>
                            <a:pt x="160" y="402"/>
                          </a:lnTo>
                          <a:lnTo>
                            <a:pt x="226" y="348"/>
                          </a:lnTo>
                          <a:lnTo>
                            <a:pt x="258" y="330"/>
                          </a:lnTo>
                          <a:lnTo>
                            <a:pt x="297" y="316"/>
                          </a:lnTo>
                          <a:lnTo>
                            <a:pt x="317" y="316"/>
                          </a:lnTo>
                          <a:lnTo>
                            <a:pt x="299" y="348"/>
                          </a:lnTo>
                          <a:lnTo>
                            <a:pt x="275" y="378"/>
                          </a:lnTo>
                          <a:lnTo>
                            <a:pt x="244" y="400"/>
                          </a:lnTo>
                          <a:lnTo>
                            <a:pt x="210" y="412"/>
                          </a:lnTo>
                          <a:lnTo>
                            <a:pt x="184" y="426"/>
                          </a:lnTo>
                          <a:lnTo>
                            <a:pt x="154" y="456"/>
                          </a:lnTo>
                          <a:lnTo>
                            <a:pt x="148" y="516"/>
                          </a:lnTo>
                          <a:lnTo>
                            <a:pt x="132" y="551"/>
                          </a:lnTo>
                          <a:lnTo>
                            <a:pt x="138" y="611"/>
                          </a:lnTo>
                          <a:lnTo>
                            <a:pt x="136" y="661"/>
                          </a:lnTo>
                          <a:lnTo>
                            <a:pt x="156" y="651"/>
                          </a:lnTo>
                          <a:lnTo>
                            <a:pt x="174" y="651"/>
                          </a:lnTo>
                          <a:lnTo>
                            <a:pt x="160" y="695"/>
                          </a:lnTo>
                          <a:lnTo>
                            <a:pt x="130" y="725"/>
                          </a:lnTo>
                          <a:lnTo>
                            <a:pt x="132" y="749"/>
                          </a:lnTo>
                          <a:lnTo>
                            <a:pt x="148" y="802"/>
                          </a:lnTo>
                          <a:lnTo>
                            <a:pt x="156" y="842"/>
                          </a:lnTo>
                          <a:lnTo>
                            <a:pt x="208" y="892"/>
                          </a:lnTo>
                          <a:lnTo>
                            <a:pt x="264" y="880"/>
                          </a:lnTo>
                          <a:lnTo>
                            <a:pt x="341" y="872"/>
                          </a:lnTo>
                          <a:lnTo>
                            <a:pt x="377" y="868"/>
                          </a:lnTo>
                          <a:lnTo>
                            <a:pt x="411" y="874"/>
                          </a:lnTo>
                          <a:lnTo>
                            <a:pt x="435" y="886"/>
                          </a:lnTo>
                          <a:lnTo>
                            <a:pt x="453" y="908"/>
                          </a:lnTo>
                          <a:lnTo>
                            <a:pt x="399" y="902"/>
                          </a:lnTo>
                          <a:lnTo>
                            <a:pt x="347" y="898"/>
                          </a:lnTo>
                          <a:lnTo>
                            <a:pt x="299" y="898"/>
                          </a:lnTo>
                          <a:lnTo>
                            <a:pt x="264" y="902"/>
                          </a:lnTo>
                          <a:lnTo>
                            <a:pt x="240" y="938"/>
                          </a:lnTo>
                          <a:lnTo>
                            <a:pt x="323" y="958"/>
                          </a:lnTo>
                          <a:lnTo>
                            <a:pt x="184" y="976"/>
                          </a:lnTo>
                          <a:lnTo>
                            <a:pt x="94" y="982"/>
                          </a:lnTo>
                          <a:lnTo>
                            <a:pt x="148" y="938"/>
                          </a:lnTo>
                          <a:lnTo>
                            <a:pt x="148" y="902"/>
                          </a:lnTo>
                          <a:lnTo>
                            <a:pt x="108" y="832"/>
                          </a:lnTo>
                          <a:lnTo>
                            <a:pt x="100" y="743"/>
                          </a:lnTo>
                          <a:lnTo>
                            <a:pt x="114" y="653"/>
                          </a:lnTo>
                          <a:lnTo>
                            <a:pt x="94" y="633"/>
                          </a:lnTo>
                          <a:lnTo>
                            <a:pt x="106" y="597"/>
                          </a:lnTo>
                          <a:lnTo>
                            <a:pt x="0" y="591"/>
                          </a:lnTo>
                          <a:lnTo>
                            <a:pt x="34" y="557"/>
                          </a:lnTo>
                          <a:lnTo>
                            <a:pt x="84" y="561"/>
                          </a:lnTo>
                          <a:lnTo>
                            <a:pt x="130" y="520"/>
                          </a:lnTo>
                          <a:lnTo>
                            <a:pt x="112" y="490"/>
                          </a:lnTo>
                          <a:lnTo>
                            <a:pt x="130" y="442"/>
                          </a:lnTo>
                          <a:lnTo>
                            <a:pt x="136" y="280"/>
                          </a:lnTo>
                          <a:lnTo>
                            <a:pt x="142" y="185"/>
                          </a:lnTo>
                          <a:lnTo>
                            <a:pt x="166" y="35"/>
                          </a:lnTo>
                          <a:lnTo>
                            <a:pt x="172"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5"/>
                    <p:cNvSpPr/>
                    <p:nvPr/>
                  </p:nvSpPr>
                  <p:spPr>
                    <a:xfrm>
                      <a:off x="4827600" y="502020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196" h="40">
                          <a:moveTo>
                            <a:pt x="196" y="0"/>
                          </a:moveTo>
                          <a:lnTo>
                            <a:pt x="0" y="34"/>
                          </a:lnTo>
                          <a:lnTo>
                            <a:pt x="108" y="40"/>
                          </a:lnTo>
                          <a:lnTo>
                            <a:pt x="196" y="0"/>
                          </a:lnTo>
                          <a:close/>
                        </a:path>
                      </a:pathLst>
                    </a:custGeom>
                    <a:solidFill>
                      <a:srgbClr val="5f5f5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nvGrpSpPr>
                    <p:cNvPr id="261" name="Group 26"/>
                    <p:cNvGrpSpPr/>
                    <p:nvPr/>
                  </p:nvGrpSpPr>
                  <p:grpSpPr>
                    <a:xfrm>
                      <a:off x="4624200" y="4501440"/>
                      <a:ext cx="268200" cy="1142280"/>
                      <a:chOff x="4624200" y="4501440"/>
                      <a:chExt cx="268200" cy="1142280"/>
                    </a:xfrm>
                  </p:grpSpPr>
                  <p:sp>
                    <p:nvSpPr>
                      <p:cNvPr id="262" name="Freeform 27"/>
                      <p:cNvSpPr/>
                      <p:nvPr/>
                    </p:nvSpPr>
                    <p:spPr>
                      <a:xfrm>
                        <a:off x="4633920" y="4515480"/>
                        <a:ext cx="258480" cy="1128240"/>
                      </a:xfrm>
                      <a:custGeom>
                        <a:avLst/>
                        <a:gdLst>
                          <a:gd name="textAreaLeft" fmla="*/ 0 w 258480"/>
                          <a:gd name="textAreaRight" fmla="*/ 258480 w 258480"/>
                          <a:gd name="textAreaTop" fmla="*/ 0 h 1128240"/>
                          <a:gd name="textAreaBottom" fmla="*/ 1128600 h 112824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7"/>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8"/>
                      <p:cNvSpPr/>
                      <p:nvPr/>
                    </p:nvSpPr>
                    <p:spPr>
                      <a:xfrm>
                        <a:off x="4624200" y="4501440"/>
                        <a:ext cx="258840" cy="1128600"/>
                      </a:xfrm>
                      <a:custGeom>
                        <a:avLst/>
                        <a:gdLst>
                          <a:gd name="textAreaLeft" fmla="*/ 0 w 258840"/>
                          <a:gd name="textAreaRight" fmla="*/ 259200 w 258840"/>
                          <a:gd name="textAreaTop" fmla="*/ 0 h 1128600"/>
                          <a:gd name="textAreaBottom" fmla="*/ 1128960 h 112860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8"/>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64" name="Group 29"/>
              <p:cNvGrpSpPr/>
              <p:nvPr/>
            </p:nvGrpSpPr>
            <p:grpSpPr>
              <a:xfrm>
                <a:off x="4154400" y="3979800"/>
                <a:ext cx="592200" cy="754920"/>
                <a:chOff x="4154400" y="3979800"/>
                <a:chExt cx="592200" cy="754920"/>
              </a:xfrm>
            </p:grpSpPr>
            <p:sp>
              <p:nvSpPr>
                <p:cNvPr id="265" name="Freeform 30"/>
                <p:cNvSpPr/>
                <p:nvPr/>
              </p:nvSpPr>
              <p:spPr>
                <a:xfrm>
                  <a:off x="4174920" y="4003200"/>
                  <a:ext cx="571680" cy="731520"/>
                </a:xfrm>
                <a:custGeom>
                  <a:avLst/>
                  <a:gdLst>
                    <a:gd name="textAreaLeft" fmla="*/ 0 w 571680"/>
                    <a:gd name="textAreaRight" fmla="*/ 572040 w 571680"/>
                    <a:gd name="textAreaTop" fmla="*/ 0 h 731520"/>
                    <a:gd name="textAreaBottom" fmla="*/ 731880 h 731520"/>
                  </a:gdLst>
                  <a:ahLst/>
                  <a:rect l="textAreaLeft" t="textAreaTop" r="textAreaRight" b="textAreaBottom"/>
                  <a:pathLst>
                    <a:path w="720" h="920">
                      <a:moveTo>
                        <a:pt x="24" y="466"/>
                      </a:moveTo>
                      <a:lnTo>
                        <a:pt x="6" y="474"/>
                      </a:lnTo>
                      <a:lnTo>
                        <a:pt x="0" y="492"/>
                      </a:lnTo>
                      <a:lnTo>
                        <a:pt x="4" y="534"/>
                      </a:lnTo>
                      <a:lnTo>
                        <a:pt x="22" y="589"/>
                      </a:lnTo>
                      <a:lnTo>
                        <a:pt x="40" y="623"/>
                      </a:lnTo>
                      <a:lnTo>
                        <a:pt x="72" y="655"/>
                      </a:lnTo>
                      <a:lnTo>
                        <a:pt x="114" y="685"/>
                      </a:lnTo>
                      <a:lnTo>
                        <a:pt x="142" y="701"/>
                      </a:lnTo>
                      <a:lnTo>
                        <a:pt x="173" y="713"/>
                      </a:lnTo>
                      <a:lnTo>
                        <a:pt x="191" y="711"/>
                      </a:lnTo>
                      <a:lnTo>
                        <a:pt x="203" y="715"/>
                      </a:lnTo>
                      <a:lnTo>
                        <a:pt x="209" y="739"/>
                      </a:lnTo>
                      <a:lnTo>
                        <a:pt x="217" y="763"/>
                      </a:lnTo>
                      <a:lnTo>
                        <a:pt x="227" y="785"/>
                      </a:lnTo>
                      <a:lnTo>
                        <a:pt x="241" y="799"/>
                      </a:lnTo>
                      <a:lnTo>
                        <a:pt x="257" y="815"/>
                      </a:lnTo>
                      <a:lnTo>
                        <a:pt x="283" y="834"/>
                      </a:lnTo>
                      <a:lnTo>
                        <a:pt x="315" y="852"/>
                      </a:lnTo>
                      <a:lnTo>
                        <a:pt x="357" y="894"/>
                      </a:lnTo>
                      <a:lnTo>
                        <a:pt x="379" y="910"/>
                      </a:lnTo>
                      <a:lnTo>
                        <a:pt x="397" y="918"/>
                      </a:lnTo>
                      <a:lnTo>
                        <a:pt x="427" y="920"/>
                      </a:lnTo>
                      <a:lnTo>
                        <a:pt x="451" y="918"/>
                      </a:lnTo>
                      <a:lnTo>
                        <a:pt x="475" y="912"/>
                      </a:lnTo>
                      <a:lnTo>
                        <a:pt x="495" y="904"/>
                      </a:lnTo>
                      <a:lnTo>
                        <a:pt x="523" y="888"/>
                      </a:lnTo>
                      <a:lnTo>
                        <a:pt x="547" y="874"/>
                      </a:lnTo>
                      <a:lnTo>
                        <a:pt x="571" y="852"/>
                      </a:lnTo>
                      <a:lnTo>
                        <a:pt x="607" y="852"/>
                      </a:lnTo>
                      <a:lnTo>
                        <a:pt x="637" y="832"/>
                      </a:lnTo>
                      <a:lnTo>
                        <a:pt x="665" y="781"/>
                      </a:lnTo>
                      <a:lnTo>
                        <a:pt x="688" y="751"/>
                      </a:lnTo>
                      <a:lnTo>
                        <a:pt x="708" y="713"/>
                      </a:lnTo>
                      <a:lnTo>
                        <a:pt x="718" y="659"/>
                      </a:lnTo>
                      <a:lnTo>
                        <a:pt x="720" y="611"/>
                      </a:lnTo>
                      <a:lnTo>
                        <a:pt x="714" y="562"/>
                      </a:lnTo>
                      <a:lnTo>
                        <a:pt x="700" y="526"/>
                      </a:lnTo>
                      <a:lnTo>
                        <a:pt x="694" y="490"/>
                      </a:lnTo>
                      <a:lnTo>
                        <a:pt x="690" y="436"/>
                      </a:lnTo>
                      <a:lnTo>
                        <a:pt x="676" y="372"/>
                      </a:lnTo>
                      <a:lnTo>
                        <a:pt x="655" y="322"/>
                      </a:lnTo>
                      <a:lnTo>
                        <a:pt x="635" y="293"/>
                      </a:lnTo>
                      <a:lnTo>
                        <a:pt x="625" y="259"/>
                      </a:lnTo>
                      <a:lnTo>
                        <a:pt x="601" y="205"/>
                      </a:lnTo>
                      <a:lnTo>
                        <a:pt x="569" y="149"/>
                      </a:lnTo>
                      <a:lnTo>
                        <a:pt x="533" y="101"/>
                      </a:lnTo>
                      <a:lnTo>
                        <a:pt x="497" y="61"/>
                      </a:lnTo>
                      <a:lnTo>
                        <a:pt x="451" y="30"/>
                      </a:lnTo>
                      <a:lnTo>
                        <a:pt x="399" y="8"/>
                      </a:lnTo>
                      <a:lnTo>
                        <a:pt x="351" y="0"/>
                      </a:lnTo>
                      <a:lnTo>
                        <a:pt x="309" y="0"/>
                      </a:lnTo>
                      <a:lnTo>
                        <a:pt x="245" y="8"/>
                      </a:lnTo>
                      <a:lnTo>
                        <a:pt x="243" y="12"/>
                      </a:lnTo>
                      <a:lnTo>
                        <a:pt x="197" y="26"/>
                      </a:lnTo>
                      <a:lnTo>
                        <a:pt x="142" y="53"/>
                      </a:lnTo>
                      <a:lnTo>
                        <a:pt x="90" y="83"/>
                      </a:lnTo>
                      <a:lnTo>
                        <a:pt x="60" y="113"/>
                      </a:lnTo>
                      <a:lnTo>
                        <a:pt x="36" y="145"/>
                      </a:lnTo>
                      <a:lnTo>
                        <a:pt x="22" y="187"/>
                      </a:lnTo>
                      <a:lnTo>
                        <a:pt x="6" y="259"/>
                      </a:lnTo>
                      <a:lnTo>
                        <a:pt x="6" y="322"/>
                      </a:lnTo>
                      <a:lnTo>
                        <a:pt x="12" y="388"/>
                      </a:lnTo>
                      <a:lnTo>
                        <a:pt x="24" y="46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31"/>
                <p:cNvGrpSpPr/>
                <p:nvPr/>
              </p:nvGrpSpPr>
              <p:grpSpPr>
                <a:xfrm>
                  <a:off x="4259160" y="4231800"/>
                  <a:ext cx="452520" cy="446760"/>
                  <a:chOff x="4259160" y="4231800"/>
                  <a:chExt cx="452520" cy="446760"/>
                </a:xfrm>
              </p:grpSpPr>
              <p:grpSp>
                <p:nvGrpSpPr>
                  <p:cNvPr id="267" name="Group 32"/>
                  <p:cNvGrpSpPr/>
                  <p:nvPr/>
                </p:nvGrpSpPr>
                <p:grpSpPr>
                  <a:xfrm>
                    <a:off x="4259160" y="4231800"/>
                    <a:ext cx="452520" cy="446760"/>
                    <a:chOff x="4259160" y="4231800"/>
                    <a:chExt cx="452520" cy="446760"/>
                  </a:xfrm>
                </p:grpSpPr>
                <p:sp>
                  <p:nvSpPr>
                    <p:cNvPr id="268" name="Freeform 33"/>
                    <p:cNvSpPr/>
                    <p:nvPr/>
                  </p:nvSpPr>
                  <p:spPr>
                    <a:xfrm>
                      <a:off x="4552920" y="4231800"/>
                      <a:ext cx="125280" cy="207360"/>
                    </a:xfrm>
                    <a:custGeom>
                      <a:avLst/>
                      <a:gdLst>
                        <a:gd name="textAreaLeft" fmla="*/ 0 w 125280"/>
                        <a:gd name="textAreaRight" fmla="*/ 125280 w 125280"/>
                        <a:gd name="textAreaTop" fmla="*/ 0 h 207360"/>
                        <a:gd name="textAreaBottom" fmla="*/ 207720 h 207360"/>
                      </a:gdLst>
                      <a:ahLst/>
                      <a:rect l="textAreaLeft" t="textAreaTop" r="textAreaRight" b="textAreaBottom"/>
                      <a:pathLst>
                        <a:path w="158" h="263">
                          <a:moveTo>
                            <a:pt x="104" y="0"/>
                          </a:moveTo>
                          <a:lnTo>
                            <a:pt x="104" y="20"/>
                          </a:lnTo>
                          <a:lnTo>
                            <a:pt x="100" y="35"/>
                          </a:lnTo>
                          <a:lnTo>
                            <a:pt x="88" y="43"/>
                          </a:lnTo>
                          <a:lnTo>
                            <a:pt x="68" y="61"/>
                          </a:lnTo>
                          <a:lnTo>
                            <a:pt x="46" y="83"/>
                          </a:lnTo>
                          <a:lnTo>
                            <a:pt x="146" y="63"/>
                          </a:lnTo>
                          <a:lnTo>
                            <a:pt x="156" y="67"/>
                          </a:lnTo>
                          <a:lnTo>
                            <a:pt x="136" y="77"/>
                          </a:lnTo>
                          <a:lnTo>
                            <a:pt x="122" y="91"/>
                          </a:lnTo>
                          <a:lnTo>
                            <a:pt x="108" y="103"/>
                          </a:lnTo>
                          <a:lnTo>
                            <a:pt x="96" y="109"/>
                          </a:lnTo>
                          <a:lnTo>
                            <a:pt x="78" y="109"/>
                          </a:lnTo>
                          <a:lnTo>
                            <a:pt x="50" y="107"/>
                          </a:lnTo>
                          <a:lnTo>
                            <a:pt x="80" y="115"/>
                          </a:lnTo>
                          <a:lnTo>
                            <a:pt x="90" y="121"/>
                          </a:lnTo>
                          <a:lnTo>
                            <a:pt x="110" y="121"/>
                          </a:lnTo>
                          <a:lnTo>
                            <a:pt x="126" y="115"/>
                          </a:lnTo>
                          <a:lnTo>
                            <a:pt x="144" y="105"/>
                          </a:lnTo>
                          <a:lnTo>
                            <a:pt x="158" y="91"/>
                          </a:lnTo>
                          <a:lnTo>
                            <a:pt x="124" y="125"/>
                          </a:lnTo>
                          <a:lnTo>
                            <a:pt x="106" y="129"/>
                          </a:lnTo>
                          <a:lnTo>
                            <a:pt x="90" y="129"/>
                          </a:lnTo>
                          <a:lnTo>
                            <a:pt x="76" y="125"/>
                          </a:lnTo>
                          <a:lnTo>
                            <a:pt x="64" y="121"/>
                          </a:lnTo>
                          <a:lnTo>
                            <a:pt x="52" y="121"/>
                          </a:lnTo>
                          <a:lnTo>
                            <a:pt x="40" y="121"/>
                          </a:lnTo>
                          <a:lnTo>
                            <a:pt x="48" y="157"/>
                          </a:lnTo>
                          <a:lnTo>
                            <a:pt x="62" y="181"/>
                          </a:lnTo>
                          <a:lnTo>
                            <a:pt x="74" y="193"/>
                          </a:lnTo>
                          <a:lnTo>
                            <a:pt x="86" y="203"/>
                          </a:lnTo>
                          <a:lnTo>
                            <a:pt x="96" y="215"/>
                          </a:lnTo>
                          <a:lnTo>
                            <a:pt x="102" y="229"/>
                          </a:lnTo>
                          <a:lnTo>
                            <a:pt x="104" y="249"/>
                          </a:lnTo>
                          <a:lnTo>
                            <a:pt x="96" y="263"/>
                          </a:lnTo>
                          <a:lnTo>
                            <a:pt x="92" y="233"/>
                          </a:lnTo>
                          <a:lnTo>
                            <a:pt x="86" y="217"/>
                          </a:lnTo>
                          <a:lnTo>
                            <a:pt x="74" y="211"/>
                          </a:lnTo>
                          <a:lnTo>
                            <a:pt x="56" y="203"/>
                          </a:lnTo>
                          <a:lnTo>
                            <a:pt x="44" y="197"/>
                          </a:lnTo>
                          <a:lnTo>
                            <a:pt x="32" y="187"/>
                          </a:lnTo>
                          <a:lnTo>
                            <a:pt x="18" y="173"/>
                          </a:lnTo>
                          <a:lnTo>
                            <a:pt x="8" y="157"/>
                          </a:lnTo>
                          <a:lnTo>
                            <a:pt x="2" y="139"/>
                          </a:lnTo>
                          <a:lnTo>
                            <a:pt x="0" y="117"/>
                          </a:lnTo>
                          <a:lnTo>
                            <a:pt x="2" y="97"/>
                          </a:lnTo>
                          <a:lnTo>
                            <a:pt x="8" y="73"/>
                          </a:lnTo>
                          <a:lnTo>
                            <a:pt x="104"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Group 34"/>
                    <p:cNvGrpSpPr/>
                    <p:nvPr/>
                  </p:nvGrpSpPr>
                  <p:grpSpPr>
                    <a:xfrm>
                      <a:off x="4259160" y="4369320"/>
                      <a:ext cx="452520" cy="309240"/>
                      <a:chOff x="4259160" y="4369320"/>
                      <a:chExt cx="452520" cy="309240"/>
                    </a:xfrm>
                  </p:grpSpPr>
                  <p:sp>
                    <p:nvSpPr>
                      <p:cNvPr id="270" name="Freeform 35"/>
                      <p:cNvSpPr/>
                      <p:nvPr/>
                    </p:nvSpPr>
                    <p:spPr>
                      <a:xfrm>
                        <a:off x="4259160" y="4369320"/>
                        <a:ext cx="368280" cy="309240"/>
                      </a:xfrm>
                      <a:custGeom>
                        <a:avLst/>
                        <a:gdLst>
                          <a:gd name="textAreaLeft" fmla="*/ 0 w 368280"/>
                          <a:gd name="textAreaRight" fmla="*/ 368640 w 368280"/>
                          <a:gd name="textAreaTop" fmla="*/ 0 h 309240"/>
                          <a:gd name="textAreaBottom" fmla="*/ 309600 h 309240"/>
                        </a:gdLst>
                        <a:ahLst/>
                        <a:rect l="textAreaLeft" t="textAreaTop" r="textAreaRight" b="textAreaBottom"/>
                        <a:pathLst>
                          <a:path w="465" h="388">
                            <a:moveTo>
                              <a:pt x="20" y="0"/>
                            </a:moveTo>
                            <a:lnTo>
                              <a:pt x="26" y="38"/>
                            </a:lnTo>
                            <a:lnTo>
                              <a:pt x="42" y="72"/>
                            </a:lnTo>
                            <a:lnTo>
                              <a:pt x="71" y="107"/>
                            </a:lnTo>
                            <a:lnTo>
                              <a:pt x="89" y="125"/>
                            </a:lnTo>
                            <a:lnTo>
                              <a:pt x="111" y="139"/>
                            </a:lnTo>
                            <a:lnTo>
                              <a:pt x="141" y="139"/>
                            </a:lnTo>
                            <a:lnTo>
                              <a:pt x="183" y="133"/>
                            </a:lnTo>
                            <a:lnTo>
                              <a:pt x="223" y="133"/>
                            </a:lnTo>
                            <a:lnTo>
                              <a:pt x="245" y="125"/>
                            </a:lnTo>
                            <a:lnTo>
                              <a:pt x="265" y="127"/>
                            </a:lnTo>
                            <a:lnTo>
                              <a:pt x="263" y="153"/>
                            </a:lnTo>
                            <a:lnTo>
                              <a:pt x="269" y="181"/>
                            </a:lnTo>
                            <a:lnTo>
                              <a:pt x="249" y="183"/>
                            </a:lnTo>
                            <a:lnTo>
                              <a:pt x="225" y="187"/>
                            </a:lnTo>
                            <a:lnTo>
                              <a:pt x="223" y="207"/>
                            </a:lnTo>
                            <a:lnTo>
                              <a:pt x="227" y="231"/>
                            </a:lnTo>
                            <a:lnTo>
                              <a:pt x="235" y="257"/>
                            </a:lnTo>
                            <a:lnTo>
                              <a:pt x="253" y="277"/>
                            </a:lnTo>
                            <a:lnTo>
                              <a:pt x="279" y="285"/>
                            </a:lnTo>
                            <a:lnTo>
                              <a:pt x="313" y="283"/>
                            </a:lnTo>
                            <a:lnTo>
                              <a:pt x="331" y="283"/>
                            </a:lnTo>
                            <a:lnTo>
                              <a:pt x="349" y="301"/>
                            </a:lnTo>
                            <a:lnTo>
                              <a:pt x="371" y="319"/>
                            </a:lnTo>
                            <a:lnTo>
                              <a:pt x="399" y="329"/>
                            </a:lnTo>
                            <a:lnTo>
                              <a:pt x="427" y="329"/>
                            </a:lnTo>
                            <a:lnTo>
                              <a:pt x="441" y="327"/>
                            </a:lnTo>
                            <a:lnTo>
                              <a:pt x="453" y="349"/>
                            </a:lnTo>
                            <a:lnTo>
                              <a:pt x="465" y="364"/>
                            </a:lnTo>
                            <a:lnTo>
                              <a:pt x="443" y="378"/>
                            </a:lnTo>
                            <a:lnTo>
                              <a:pt x="419" y="388"/>
                            </a:lnTo>
                            <a:lnTo>
                              <a:pt x="387" y="388"/>
                            </a:lnTo>
                            <a:lnTo>
                              <a:pt x="355" y="388"/>
                            </a:lnTo>
                            <a:lnTo>
                              <a:pt x="351" y="388"/>
                            </a:lnTo>
                            <a:lnTo>
                              <a:pt x="295" y="380"/>
                            </a:lnTo>
                            <a:lnTo>
                              <a:pt x="265" y="370"/>
                            </a:lnTo>
                            <a:lnTo>
                              <a:pt x="227" y="347"/>
                            </a:lnTo>
                            <a:lnTo>
                              <a:pt x="179" y="301"/>
                            </a:lnTo>
                            <a:lnTo>
                              <a:pt x="111" y="241"/>
                            </a:lnTo>
                            <a:lnTo>
                              <a:pt x="47" y="175"/>
                            </a:lnTo>
                            <a:lnTo>
                              <a:pt x="20" y="139"/>
                            </a:lnTo>
                            <a:lnTo>
                              <a:pt x="2" y="104"/>
                            </a:lnTo>
                            <a:lnTo>
                              <a:pt x="0" y="76"/>
                            </a:lnTo>
                            <a:lnTo>
                              <a:pt x="2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36"/>
                      <p:cNvSpPr/>
                      <p:nvPr/>
                    </p:nvSpPr>
                    <p:spPr>
                      <a:xfrm>
                        <a:off x="4495680" y="4421520"/>
                        <a:ext cx="61920" cy="163080"/>
                      </a:xfrm>
                      <a:custGeom>
                        <a:avLst/>
                        <a:gdLst>
                          <a:gd name="textAreaLeft" fmla="*/ 0 w 61920"/>
                          <a:gd name="textAreaRight" fmla="*/ 62280 w 61920"/>
                          <a:gd name="textAreaTop" fmla="*/ 0 h 163080"/>
                          <a:gd name="textAreaBottom" fmla="*/ 163440 h 163080"/>
                        </a:gdLst>
                        <a:ahLst/>
                        <a:rect l="textAreaLeft" t="textAreaTop" r="textAreaRight" b="textAreaBottom"/>
                        <a:pathLst>
                          <a:path w="80" h="205">
                            <a:moveTo>
                              <a:pt x="80" y="6"/>
                            </a:moveTo>
                            <a:lnTo>
                              <a:pt x="60" y="0"/>
                            </a:lnTo>
                            <a:lnTo>
                              <a:pt x="46" y="2"/>
                            </a:lnTo>
                            <a:lnTo>
                              <a:pt x="34" y="12"/>
                            </a:lnTo>
                            <a:lnTo>
                              <a:pt x="24" y="24"/>
                            </a:lnTo>
                            <a:lnTo>
                              <a:pt x="16" y="43"/>
                            </a:lnTo>
                            <a:lnTo>
                              <a:pt x="16" y="65"/>
                            </a:lnTo>
                            <a:lnTo>
                              <a:pt x="12" y="107"/>
                            </a:lnTo>
                            <a:lnTo>
                              <a:pt x="0" y="145"/>
                            </a:lnTo>
                            <a:lnTo>
                              <a:pt x="12" y="163"/>
                            </a:lnTo>
                            <a:lnTo>
                              <a:pt x="22" y="205"/>
                            </a:lnTo>
                            <a:lnTo>
                              <a:pt x="18" y="149"/>
                            </a:lnTo>
                            <a:lnTo>
                              <a:pt x="22" y="115"/>
                            </a:lnTo>
                            <a:lnTo>
                              <a:pt x="22" y="85"/>
                            </a:lnTo>
                            <a:lnTo>
                              <a:pt x="24" y="71"/>
                            </a:lnTo>
                            <a:lnTo>
                              <a:pt x="32" y="65"/>
                            </a:lnTo>
                            <a:lnTo>
                              <a:pt x="46" y="67"/>
                            </a:lnTo>
                            <a:lnTo>
                              <a:pt x="56" y="67"/>
                            </a:lnTo>
                            <a:lnTo>
                              <a:pt x="40" y="57"/>
                            </a:lnTo>
                            <a:lnTo>
                              <a:pt x="36" y="45"/>
                            </a:lnTo>
                            <a:lnTo>
                              <a:pt x="34" y="32"/>
                            </a:lnTo>
                            <a:lnTo>
                              <a:pt x="42" y="18"/>
                            </a:lnTo>
                            <a:lnTo>
                              <a:pt x="58" y="10"/>
                            </a:lnTo>
                            <a:lnTo>
                              <a:pt x="80" y="6"/>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37"/>
                      <p:cNvSpPr/>
                      <p:nvPr/>
                    </p:nvSpPr>
                    <p:spPr>
                      <a:xfrm>
                        <a:off x="4541760" y="4440600"/>
                        <a:ext cx="41400" cy="29880"/>
                      </a:xfrm>
                      <a:custGeom>
                        <a:avLst/>
                        <a:gdLst>
                          <a:gd name="textAreaLeft" fmla="*/ 0 w 41400"/>
                          <a:gd name="textAreaRight" fmla="*/ 41760 w 41400"/>
                          <a:gd name="textAreaTop" fmla="*/ 0 h 29880"/>
                          <a:gd name="textAreaBottom" fmla="*/ 30240 h 29880"/>
                        </a:gdLst>
                        <a:ahLst/>
                        <a:rect l="textAreaLeft" t="textAreaTop" r="textAreaRight" b="textAreaBottom"/>
                        <a:pathLst>
                          <a:path w="52" h="37">
                            <a:moveTo>
                              <a:pt x="0" y="37"/>
                            </a:moveTo>
                            <a:lnTo>
                              <a:pt x="12" y="25"/>
                            </a:lnTo>
                            <a:lnTo>
                              <a:pt x="18" y="14"/>
                            </a:lnTo>
                            <a:lnTo>
                              <a:pt x="28" y="0"/>
                            </a:lnTo>
                            <a:lnTo>
                              <a:pt x="28" y="19"/>
                            </a:lnTo>
                            <a:lnTo>
                              <a:pt x="36" y="31"/>
                            </a:lnTo>
                            <a:lnTo>
                              <a:pt x="52" y="35"/>
                            </a:lnTo>
                            <a:lnTo>
                              <a:pt x="28" y="35"/>
                            </a:lnTo>
                            <a:lnTo>
                              <a:pt x="0" y="37"/>
                            </a:lnTo>
                            <a:close/>
                          </a:path>
                        </a:pathLst>
                      </a:custGeom>
                      <a:solidFill>
                        <a:srgbClr val="df9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Freeform 38"/>
                      <p:cNvSpPr/>
                      <p:nvPr/>
                    </p:nvSpPr>
                    <p:spPr>
                      <a:xfrm>
                        <a:off x="4578120" y="4451760"/>
                        <a:ext cx="47880" cy="16920"/>
                      </a:xfrm>
                      <a:custGeom>
                        <a:avLst/>
                        <a:gdLst>
                          <a:gd name="textAreaLeft" fmla="*/ 0 w 47880"/>
                          <a:gd name="textAreaRight" fmla="*/ 48240 w 47880"/>
                          <a:gd name="textAreaTop" fmla="*/ 0 h 16920"/>
                          <a:gd name="textAreaBottom" fmla="*/ 17280 h 16920"/>
                        </a:gdLst>
                        <a:ahLst/>
                        <a:rect l="textAreaLeft" t="textAreaTop" r="textAreaRight" b="textAreaBottom"/>
                        <a:pathLst>
                          <a:path w="60" h="21">
                            <a:moveTo>
                              <a:pt x="0" y="21"/>
                            </a:moveTo>
                            <a:lnTo>
                              <a:pt x="36" y="15"/>
                            </a:lnTo>
                            <a:lnTo>
                              <a:pt x="48" y="9"/>
                            </a:lnTo>
                            <a:lnTo>
                              <a:pt x="60" y="0"/>
                            </a:lnTo>
                            <a:lnTo>
                              <a:pt x="54" y="15"/>
                            </a:lnTo>
                            <a:lnTo>
                              <a:pt x="40" y="21"/>
                            </a:lnTo>
                            <a:lnTo>
                              <a:pt x="0" y="21"/>
                            </a:lnTo>
                            <a:close/>
                          </a:path>
                        </a:pathLst>
                      </a:custGeom>
                      <a:solidFill>
                        <a:srgbClr val="df9f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4" name="Freeform 39"/>
                      <p:cNvSpPr/>
                      <p:nvPr/>
                    </p:nvSpPr>
                    <p:spPr>
                      <a:xfrm>
                        <a:off x="4630680" y="4451760"/>
                        <a:ext cx="81000" cy="58320"/>
                      </a:xfrm>
                      <a:custGeom>
                        <a:avLst/>
                        <a:gdLst>
                          <a:gd name="textAreaLeft" fmla="*/ 0 w 81000"/>
                          <a:gd name="textAreaRight" fmla="*/ 81360 w 81000"/>
                          <a:gd name="textAreaTop" fmla="*/ 0 h 58320"/>
                          <a:gd name="textAreaBottom" fmla="*/ 58680 h 58320"/>
                        </a:gdLst>
                        <a:ahLst/>
                        <a:rect l="textAreaLeft" t="textAreaTop" r="textAreaRight" b="textAreaBottom"/>
                        <a:pathLst>
                          <a:path w="101" h="73">
                            <a:moveTo>
                              <a:pt x="0" y="3"/>
                            </a:moveTo>
                            <a:lnTo>
                              <a:pt x="22" y="11"/>
                            </a:lnTo>
                            <a:lnTo>
                              <a:pt x="40" y="17"/>
                            </a:lnTo>
                            <a:lnTo>
                              <a:pt x="60" y="29"/>
                            </a:lnTo>
                            <a:lnTo>
                              <a:pt x="78" y="49"/>
                            </a:lnTo>
                            <a:lnTo>
                              <a:pt x="101" y="73"/>
                            </a:lnTo>
                            <a:lnTo>
                              <a:pt x="90" y="47"/>
                            </a:lnTo>
                            <a:lnTo>
                              <a:pt x="76" y="29"/>
                            </a:lnTo>
                            <a:lnTo>
                              <a:pt x="62" y="15"/>
                            </a:lnTo>
                            <a:lnTo>
                              <a:pt x="46" y="7"/>
                            </a:lnTo>
                            <a:lnTo>
                              <a:pt x="26" y="0"/>
                            </a:lnTo>
                            <a:lnTo>
                              <a:pt x="0" y="3"/>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5" name="Freeform 40"/>
                      <p:cNvSpPr/>
                      <p:nvPr/>
                    </p:nvSpPr>
                    <p:spPr>
                      <a:xfrm>
                        <a:off x="4599000" y="4480200"/>
                        <a:ext cx="14040" cy="33120"/>
                      </a:xfrm>
                      <a:custGeom>
                        <a:avLst/>
                        <a:gdLst>
                          <a:gd name="textAreaLeft" fmla="*/ 0 w 14040"/>
                          <a:gd name="textAreaRight" fmla="*/ 14400 w 14040"/>
                          <a:gd name="textAreaTop" fmla="*/ 0 h 33120"/>
                          <a:gd name="textAreaBottom" fmla="*/ 33480 h 33120"/>
                        </a:gdLst>
                        <a:ahLst/>
                        <a:rect l="textAreaLeft" t="textAreaTop" r="textAreaRight" b="textAreaBottom"/>
                        <a:pathLst>
                          <a:path w="18" h="42">
                            <a:moveTo>
                              <a:pt x="0" y="0"/>
                            </a:moveTo>
                            <a:lnTo>
                              <a:pt x="18" y="24"/>
                            </a:lnTo>
                            <a:lnTo>
                              <a:pt x="16" y="42"/>
                            </a:lnTo>
                            <a:lnTo>
                              <a:pt x="4" y="22"/>
                            </a:lnTo>
                            <a:lnTo>
                              <a:pt x="0" y="0"/>
                            </a:lnTo>
                            <a:close/>
                          </a:path>
                        </a:pathLst>
                      </a:custGeom>
                      <a:solidFill>
                        <a:srgbClr val="df9f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6" name="Freeform 41"/>
                      <p:cNvSpPr/>
                      <p:nvPr/>
                    </p:nvSpPr>
                    <p:spPr>
                      <a:xfrm>
                        <a:off x="4533840" y="4497840"/>
                        <a:ext cx="146160" cy="58320"/>
                      </a:xfrm>
                      <a:custGeom>
                        <a:avLst/>
                        <a:gdLst>
                          <a:gd name="textAreaLeft" fmla="*/ 0 w 146160"/>
                          <a:gd name="textAreaRight" fmla="*/ 146520 w 146160"/>
                          <a:gd name="textAreaTop" fmla="*/ 0 h 58320"/>
                          <a:gd name="textAreaBottom" fmla="*/ 58680 h 58320"/>
                        </a:gdLst>
                        <a:ahLst/>
                        <a:rect l="textAreaLeft" t="textAreaTop" r="textAreaRight" b="textAreaBottom"/>
                        <a:pathLst>
                          <a:path w="184" h="74">
                            <a:moveTo>
                              <a:pt x="0" y="74"/>
                            </a:moveTo>
                            <a:lnTo>
                              <a:pt x="26" y="66"/>
                            </a:lnTo>
                            <a:lnTo>
                              <a:pt x="46" y="58"/>
                            </a:lnTo>
                            <a:lnTo>
                              <a:pt x="68" y="42"/>
                            </a:lnTo>
                            <a:lnTo>
                              <a:pt x="88" y="30"/>
                            </a:lnTo>
                            <a:lnTo>
                              <a:pt x="110" y="30"/>
                            </a:lnTo>
                            <a:lnTo>
                              <a:pt x="116" y="14"/>
                            </a:lnTo>
                            <a:lnTo>
                              <a:pt x="132" y="8"/>
                            </a:lnTo>
                            <a:lnTo>
                              <a:pt x="154" y="6"/>
                            </a:lnTo>
                            <a:lnTo>
                              <a:pt x="172" y="6"/>
                            </a:lnTo>
                            <a:lnTo>
                              <a:pt x="184" y="0"/>
                            </a:lnTo>
                            <a:lnTo>
                              <a:pt x="156" y="18"/>
                            </a:lnTo>
                            <a:lnTo>
                              <a:pt x="140" y="24"/>
                            </a:lnTo>
                            <a:lnTo>
                              <a:pt x="122" y="36"/>
                            </a:lnTo>
                            <a:lnTo>
                              <a:pt x="110" y="48"/>
                            </a:lnTo>
                            <a:lnTo>
                              <a:pt x="92" y="50"/>
                            </a:lnTo>
                            <a:lnTo>
                              <a:pt x="74" y="58"/>
                            </a:lnTo>
                            <a:lnTo>
                              <a:pt x="52" y="68"/>
                            </a:lnTo>
                            <a:lnTo>
                              <a:pt x="34" y="74"/>
                            </a:lnTo>
                            <a:lnTo>
                              <a:pt x="0" y="74"/>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Freeform 42"/>
                      <p:cNvSpPr/>
                      <p:nvPr/>
                    </p:nvSpPr>
                    <p:spPr>
                      <a:xfrm>
                        <a:off x="4548240" y="4535640"/>
                        <a:ext cx="123840" cy="39600"/>
                      </a:xfrm>
                      <a:custGeom>
                        <a:avLst/>
                        <a:gdLst>
                          <a:gd name="textAreaLeft" fmla="*/ 0 w 123840"/>
                          <a:gd name="textAreaRight" fmla="*/ 124200 w 123840"/>
                          <a:gd name="textAreaTop" fmla="*/ 0 h 39600"/>
                          <a:gd name="textAreaBottom" fmla="*/ 39960 h 39600"/>
                        </a:gdLst>
                        <a:ahLst/>
                        <a:rect l="textAreaLeft" t="textAreaTop" r="textAreaRight" b="textAreaBottom"/>
                        <a:pathLst>
                          <a:path w="156" h="50">
                            <a:moveTo>
                              <a:pt x="0" y="40"/>
                            </a:moveTo>
                            <a:lnTo>
                              <a:pt x="38" y="44"/>
                            </a:lnTo>
                            <a:lnTo>
                              <a:pt x="74" y="38"/>
                            </a:lnTo>
                            <a:lnTo>
                              <a:pt x="88" y="30"/>
                            </a:lnTo>
                            <a:lnTo>
                              <a:pt x="104" y="20"/>
                            </a:lnTo>
                            <a:lnTo>
                              <a:pt x="118" y="10"/>
                            </a:lnTo>
                            <a:lnTo>
                              <a:pt x="134" y="8"/>
                            </a:lnTo>
                            <a:lnTo>
                              <a:pt x="156" y="0"/>
                            </a:lnTo>
                            <a:lnTo>
                              <a:pt x="138" y="14"/>
                            </a:lnTo>
                            <a:lnTo>
                              <a:pt x="118" y="16"/>
                            </a:lnTo>
                            <a:lnTo>
                              <a:pt x="104" y="28"/>
                            </a:lnTo>
                            <a:lnTo>
                              <a:pt x="86" y="42"/>
                            </a:lnTo>
                            <a:lnTo>
                              <a:pt x="72" y="50"/>
                            </a:lnTo>
                            <a:lnTo>
                              <a:pt x="50" y="50"/>
                            </a:lnTo>
                            <a:lnTo>
                              <a:pt x="26" y="46"/>
                            </a:lnTo>
                            <a:lnTo>
                              <a:pt x="0" y="40"/>
                            </a:lnTo>
                            <a:close/>
                          </a:path>
                        </a:pathLst>
                      </a:custGeom>
                      <a:solidFill>
                        <a:srgbClr val="df9f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278" name="Freeform 43"/>
                    <p:cNvSpPr/>
                    <p:nvPr/>
                  </p:nvSpPr>
                  <p:spPr>
                    <a:xfrm>
                      <a:off x="4375080" y="4364640"/>
                      <a:ext cx="98280" cy="74160"/>
                    </a:xfrm>
                    <a:custGeom>
                      <a:avLst/>
                      <a:gdLst>
                        <a:gd name="textAreaLeft" fmla="*/ 0 w 98280"/>
                        <a:gd name="textAreaRight" fmla="*/ 98640 w 98280"/>
                        <a:gd name="textAreaTop" fmla="*/ 0 h 74160"/>
                        <a:gd name="textAreaBottom" fmla="*/ 74160 h 74160"/>
                      </a:gdLst>
                      <a:ahLst/>
                      <a:rect l="textAreaLeft" t="textAreaTop" r="textAreaRight" b="textAreaBottom"/>
                      <a:pathLst>
                        <a:path w="124" h="94">
                          <a:moveTo>
                            <a:pt x="122" y="0"/>
                          </a:moveTo>
                          <a:lnTo>
                            <a:pt x="124" y="38"/>
                          </a:lnTo>
                          <a:lnTo>
                            <a:pt x="118" y="60"/>
                          </a:lnTo>
                          <a:lnTo>
                            <a:pt x="106" y="80"/>
                          </a:lnTo>
                          <a:lnTo>
                            <a:pt x="84" y="90"/>
                          </a:lnTo>
                          <a:lnTo>
                            <a:pt x="54" y="94"/>
                          </a:lnTo>
                          <a:lnTo>
                            <a:pt x="34" y="92"/>
                          </a:lnTo>
                          <a:lnTo>
                            <a:pt x="18" y="84"/>
                          </a:lnTo>
                          <a:lnTo>
                            <a:pt x="8" y="76"/>
                          </a:lnTo>
                          <a:lnTo>
                            <a:pt x="0" y="66"/>
                          </a:lnTo>
                          <a:lnTo>
                            <a:pt x="6" y="58"/>
                          </a:lnTo>
                          <a:lnTo>
                            <a:pt x="22" y="76"/>
                          </a:lnTo>
                          <a:lnTo>
                            <a:pt x="36" y="86"/>
                          </a:lnTo>
                          <a:lnTo>
                            <a:pt x="58" y="90"/>
                          </a:lnTo>
                          <a:lnTo>
                            <a:pt x="82" y="86"/>
                          </a:lnTo>
                          <a:lnTo>
                            <a:pt x="96" y="72"/>
                          </a:lnTo>
                          <a:lnTo>
                            <a:pt x="106" y="54"/>
                          </a:lnTo>
                          <a:lnTo>
                            <a:pt x="114" y="40"/>
                          </a:lnTo>
                          <a:lnTo>
                            <a:pt x="118" y="24"/>
                          </a:lnTo>
                          <a:lnTo>
                            <a:pt x="100" y="36"/>
                          </a:lnTo>
                          <a:lnTo>
                            <a:pt x="84" y="42"/>
                          </a:lnTo>
                          <a:lnTo>
                            <a:pt x="62" y="42"/>
                          </a:lnTo>
                          <a:lnTo>
                            <a:pt x="40" y="42"/>
                          </a:lnTo>
                          <a:lnTo>
                            <a:pt x="100" y="22"/>
                          </a:lnTo>
                          <a:lnTo>
                            <a:pt x="122" y="0"/>
                          </a:lnTo>
                          <a:close/>
                        </a:path>
                      </a:pathLst>
                    </a:custGeom>
                    <a:solidFill>
                      <a:srgbClr val="df9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279" name="Group 44"/>
                  <p:cNvGrpSpPr/>
                  <p:nvPr/>
                </p:nvGrpSpPr>
                <p:grpSpPr>
                  <a:xfrm>
                    <a:off x="4581360" y="4275720"/>
                    <a:ext cx="92160" cy="39240"/>
                    <a:chOff x="4581360" y="4275720"/>
                    <a:chExt cx="92160" cy="39240"/>
                  </a:xfrm>
                </p:grpSpPr>
                <p:sp>
                  <p:nvSpPr>
                    <p:cNvPr id="280" name="Freeform 45"/>
                    <p:cNvSpPr/>
                    <p:nvPr/>
                  </p:nvSpPr>
                  <p:spPr>
                    <a:xfrm>
                      <a:off x="4583160" y="4277160"/>
                      <a:ext cx="90360" cy="37440"/>
                    </a:xfrm>
                    <a:custGeom>
                      <a:avLst/>
                      <a:gdLst>
                        <a:gd name="textAreaLeft" fmla="*/ 0 w 90360"/>
                        <a:gd name="textAreaRight" fmla="*/ 90720 w 90360"/>
                        <a:gd name="textAreaTop" fmla="*/ 0 h 37440"/>
                        <a:gd name="textAreaBottom" fmla="*/ 37800 h 37440"/>
                      </a:gdLst>
                      <a:ahLst/>
                      <a:rect l="textAreaLeft" t="textAreaTop" r="textAreaRight" b="textAreaBottom"/>
                      <a:pathLst>
                        <a:path w="114" h="48">
                          <a:moveTo>
                            <a:pt x="0" y="44"/>
                          </a:moveTo>
                          <a:lnTo>
                            <a:pt x="10" y="28"/>
                          </a:lnTo>
                          <a:lnTo>
                            <a:pt x="22" y="18"/>
                          </a:lnTo>
                          <a:lnTo>
                            <a:pt x="36" y="8"/>
                          </a:lnTo>
                          <a:lnTo>
                            <a:pt x="54" y="2"/>
                          </a:lnTo>
                          <a:lnTo>
                            <a:pt x="72" y="0"/>
                          </a:lnTo>
                          <a:lnTo>
                            <a:pt x="90" y="2"/>
                          </a:lnTo>
                          <a:lnTo>
                            <a:pt x="114" y="10"/>
                          </a:lnTo>
                          <a:lnTo>
                            <a:pt x="86" y="16"/>
                          </a:lnTo>
                          <a:lnTo>
                            <a:pt x="74" y="28"/>
                          </a:lnTo>
                          <a:lnTo>
                            <a:pt x="62" y="40"/>
                          </a:lnTo>
                          <a:lnTo>
                            <a:pt x="50" y="46"/>
                          </a:lnTo>
                          <a:lnTo>
                            <a:pt x="36" y="48"/>
                          </a:lnTo>
                          <a:lnTo>
                            <a:pt x="0" y="4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1" name="Freeform 46"/>
                    <p:cNvSpPr/>
                    <p:nvPr/>
                  </p:nvSpPr>
                  <p:spPr>
                    <a:xfrm>
                      <a:off x="4581360" y="4275720"/>
                      <a:ext cx="90720" cy="39240"/>
                    </a:xfrm>
                    <a:custGeom>
                      <a:avLst/>
                      <a:gdLst>
                        <a:gd name="textAreaLeft" fmla="*/ 0 w 90720"/>
                        <a:gd name="textAreaRight" fmla="*/ 91080 w 90720"/>
                        <a:gd name="textAreaTop" fmla="*/ 0 h 39240"/>
                        <a:gd name="textAreaBottom" fmla="*/ 39600 h 39240"/>
                      </a:gdLst>
                      <a:ahLst/>
                      <a:rect l="textAreaLeft" t="textAreaTop" r="textAreaRight" b="textAreaBottom"/>
                      <a:pathLst>
                        <a:path w="114" h="50">
                          <a:moveTo>
                            <a:pt x="0" y="44"/>
                          </a:moveTo>
                          <a:lnTo>
                            <a:pt x="10" y="28"/>
                          </a:lnTo>
                          <a:lnTo>
                            <a:pt x="22" y="18"/>
                          </a:lnTo>
                          <a:lnTo>
                            <a:pt x="36" y="8"/>
                          </a:lnTo>
                          <a:lnTo>
                            <a:pt x="54" y="2"/>
                          </a:lnTo>
                          <a:lnTo>
                            <a:pt x="72" y="0"/>
                          </a:lnTo>
                          <a:lnTo>
                            <a:pt x="90" y="2"/>
                          </a:lnTo>
                          <a:lnTo>
                            <a:pt x="114" y="10"/>
                          </a:lnTo>
                          <a:lnTo>
                            <a:pt x="80" y="8"/>
                          </a:lnTo>
                          <a:lnTo>
                            <a:pt x="80" y="20"/>
                          </a:lnTo>
                          <a:lnTo>
                            <a:pt x="76" y="34"/>
                          </a:lnTo>
                          <a:lnTo>
                            <a:pt x="58" y="46"/>
                          </a:lnTo>
                          <a:lnTo>
                            <a:pt x="44" y="50"/>
                          </a:lnTo>
                          <a:lnTo>
                            <a:pt x="34" y="42"/>
                          </a:lnTo>
                          <a:lnTo>
                            <a:pt x="28" y="32"/>
                          </a:lnTo>
                          <a:lnTo>
                            <a:pt x="24" y="22"/>
                          </a:lnTo>
                          <a:lnTo>
                            <a:pt x="0" y="44"/>
                          </a:lnTo>
                          <a:close/>
                        </a:path>
                      </a:pathLst>
                    </a:custGeom>
                    <a:solidFill>
                      <a:srgbClr val="7f3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282" name="Group 47"/>
                  <p:cNvGrpSpPr/>
                  <p:nvPr/>
                </p:nvGrpSpPr>
                <p:grpSpPr>
                  <a:xfrm>
                    <a:off x="4365360" y="4355280"/>
                    <a:ext cx="106560" cy="47160"/>
                    <a:chOff x="4365360" y="4355280"/>
                    <a:chExt cx="106560" cy="47160"/>
                  </a:xfrm>
                </p:grpSpPr>
                <p:sp>
                  <p:nvSpPr>
                    <p:cNvPr id="283" name="Freeform 48"/>
                    <p:cNvSpPr/>
                    <p:nvPr/>
                  </p:nvSpPr>
                  <p:spPr>
                    <a:xfrm>
                      <a:off x="4367160" y="4355280"/>
                      <a:ext cx="104760" cy="47160"/>
                    </a:xfrm>
                    <a:custGeom>
                      <a:avLst/>
                      <a:gdLst>
                        <a:gd name="textAreaLeft" fmla="*/ 0 w 104760"/>
                        <a:gd name="textAreaRight" fmla="*/ 105120 w 104760"/>
                        <a:gd name="textAreaTop" fmla="*/ 0 h 47160"/>
                        <a:gd name="textAreaBottom" fmla="*/ 47520 h 47160"/>
                      </a:gdLst>
                      <a:ahLst/>
                      <a:rect l="textAreaLeft" t="textAreaTop" r="textAreaRight" b="textAreaBottom"/>
                      <a:pathLst>
                        <a:path w="132" h="60">
                          <a:moveTo>
                            <a:pt x="0" y="58"/>
                          </a:moveTo>
                          <a:lnTo>
                            <a:pt x="40" y="42"/>
                          </a:lnTo>
                          <a:lnTo>
                            <a:pt x="64" y="30"/>
                          </a:lnTo>
                          <a:lnTo>
                            <a:pt x="92" y="14"/>
                          </a:lnTo>
                          <a:lnTo>
                            <a:pt x="112" y="2"/>
                          </a:lnTo>
                          <a:lnTo>
                            <a:pt x="122" y="0"/>
                          </a:lnTo>
                          <a:lnTo>
                            <a:pt x="132" y="8"/>
                          </a:lnTo>
                          <a:lnTo>
                            <a:pt x="132" y="24"/>
                          </a:lnTo>
                          <a:lnTo>
                            <a:pt x="122" y="40"/>
                          </a:lnTo>
                          <a:lnTo>
                            <a:pt x="120" y="42"/>
                          </a:lnTo>
                          <a:lnTo>
                            <a:pt x="104" y="50"/>
                          </a:lnTo>
                          <a:lnTo>
                            <a:pt x="102" y="52"/>
                          </a:lnTo>
                          <a:lnTo>
                            <a:pt x="70" y="58"/>
                          </a:lnTo>
                          <a:lnTo>
                            <a:pt x="26" y="60"/>
                          </a:lnTo>
                          <a:lnTo>
                            <a:pt x="0" y="5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 name="Freeform 49"/>
                    <p:cNvSpPr/>
                    <p:nvPr/>
                  </p:nvSpPr>
                  <p:spPr>
                    <a:xfrm>
                      <a:off x="4365360" y="4355280"/>
                      <a:ext cx="105120" cy="45720"/>
                    </a:xfrm>
                    <a:custGeom>
                      <a:avLst/>
                      <a:gdLst>
                        <a:gd name="textAreaLeft" fmla="*/ 0 w 105120"/>
                        <a:gd name="textAreaRight" fmla="*/ 105480 w 105120"/>
                        <a:gd name="textAreaTop" fmla="*/ 0 h 45720"/>
                        <a:gd name="textAreaBottom" fmla="*/ 46080 h 45720"/>
                      </a:gdLst>
                      <a:ahLst/>
                      <a:rect l="textAreaLeft" t="textAreaTop" r="textAreaRight" b="textAreaBottom"/>
                      <a:pathLst>
                        <a:path w="132" h="58">
                          <a:moveTo>
                            <a:pt x="0" y="58"/>
                          </a:moveTo>
                          <a:lnTo>
                            <a:pt x="40" y="42"/>
                          </a:lnTo>
                          <a:lnTo>
                            <a:pt x="64" y="30"/>
                          </a:lnTo>
                          <a:lnTo>
                            <a:pt x="92" y="14"/>
                          </a:lnTo>
                          <a:lnTo>
                            <a:pt x="112" y="2"/>
                          </a:lnTo>
                          <a:lnTo>
                            <a:pt x="122" y="0"/>
                          </a:lnTo>
                          <a:lnTo>
                            <a:pt x="132" y="4"/>
                          </a:lnTo>
                          <a:lnTo>
                            <a:pt x="116" y="8"/>
                          </a:lnTo>
                          <a:lnTo>
                            <a:pt x="124" y="16"/>
                          </a:lnTo>
                          <a:lnTo>
                            <a:pt x="126" y="28"/>
                          </a:lnTo>
                          <a:lnTo>
                            <a:pt x="118" y="48"/>
                          </a:lnTo>
                          <a:lnTo>
                            <a:pt x="102" y="54"/>
                          </a:lnTo>
                          <a:lnTo>
                            <a:pt x="82" y="58"/>
                          </a:lnTo>
                          <a:lnTo>
                            <a:pt x="66" y="50"/>
                          </a:lnTo>
                          <a:lnTo>
                            <a:pt x="56" y="40"/>
                          </a:lnTo>
                          <a:lnTo>
                            <a:pt x="30" y="50"/>
                          </a:lnTo>
                          <a:lnTo>
                            <a:pt x="0" y="58"/>
                          </a:lnTo>
                          <a:close/>
                        </a:path>
                      </a:pathLst>
                    </a:custGeom>
                    <a:solidFill>
                      <a:srgbClr val="7f3f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grpSp>
              <p:nvGrpSpPr>
                <p:cNvPr id="285" name="Group 50"/>
                <p:cNvGrpSpPr/>
                <p:nvPr/>
              </p:nvGrpSpPr>
              <p:grpSpPr>
                <a:xfrm>
                  <a:off x="4154400" y="3979800"/>
                  <a:ext cx="538200" cy="469440"/>
                  <a:chOff x="4154400" y="3979800"/>
                  <a:chExt cx="538200" cy="469440"/>
                </a:xfrm>
              </p:grpSpPr>
              <p:grpSp>
                <p:nvGrpSpPr>
                  <p:cNvPr id="286" name="Group 51"/>
                  <p:cNvGrpSpPr/>
                  <p:nvPr/>
                </p:nvGrpSpPr>
                <p:grpSpPr>
                  <a:xfrm>
                    <a:off x="4335480" y="4204800"/>
                    <a:ext cx="309600" cy="180000"/>
                    <a:chOff x="4335480" y="4204800"/>
                    <a:chExt cx="309600" cy="180000"/>
                  </a:xfrm>
                </p:grpSpPr>
                <p:sp>
                  <p:nvSpPr>
                    <p:cNvPr id="287" name="Freeform 52"/>
                    <p:cNvSpPr/>
                    <p:nvPr/>
                  </p:nvSpPr>
                  <p:spPr>
                    <a:xfrm>
                      <a:off x="4335480" y="4318560"/>
                      <a:ext cx="147600" cy="66240"/>
                    </a:xfrm>
                    <a:custGeom>
                      <a:avLst/>
                      <a:gdLst/>
                      <a:ahLst/>
                      <a:rect l="l" t="t" r="r" b="b"/>
                      <a:pathLst>
                        <a:path w="186" h="86">
                          <a:moveTo>
                            <a:pt x="186" y="10"/>
                          </a:moveTo>
                          <a:lnTo>
                            <a:pt x="172" y="6"/>
                          </a:lnTo>
                          <a:lnTo>
                            <a:pt x="162" y="0"/>
                          </a:lnTo>
                          <a:lnTo>
                            <a:pt x="140" y="6"/>
                          </a:lnTo>
                          <a:lnTo>
                            <a:pt x="114" y="6"/>
                          </a:lnTo>
                          <a:lnTo>
                            <a:pt x="82" y="8"/>
                          </a:lnTo>
                          <a:lnTo>
                            <a:pt x="54" y="8"/>
                          </a:lnTo>
                          <a:lnTo>
                            <a:pt x="44" y="0"/>
                          </a:lnTo>
                          <a:lnTo>
                            <a:pt x="30" y="0"/>
                          </a:lnTo>
                          <a:lnTo>
                            <a:pt x="24" y="10"/>
                          </a:lnTo>
                          <a:lnTo>
                            <a:pt x="22" y="22"/>
                          </a:lnTo>
                          <a:lnTo>
                            <a:pt x="16" y="38"/>
                          </a:lnTo>
                          <a:lnTo>
                            <a:pt x="10" y="54"/>
                          </a:lnTo>
                          <a:lnTo>
                            <a:pt x="0" y="66"/>
                          </a:lnTo>
                          <a:lnTo>
                            <a:pt x="10" y="78"/>
                          </a:lnTo>
                          <a:lnTo>
                            <a:pt x="12" y="86"/>
                          </a:lnTo>
                          <a:lnTo>
                            <a:pt x="22" y="72"/>
                          </a:lnTo>
                          <a:lnTo>
                            <a:pt x="40" y="54"/>
                          </a:lnTo>
                          <a:lnTo>
                            <a:pt x="50" y="44"/>
                          </a:lnTo>
                          <a:lnTo>
                            <a:pt x="66" y="36"/>
                          </a:lnTo>
                          <a:lnTo>
                            <a:pt x="82" y="32"/>
                          </a:lnTo>
                          <a:lnTo>
                            <a:pt x="102" y="30"/>
                          </a:lnTo>
                          <a:lnTo>
                            <a:pt x="126" y="28"/>
                          </a:lnTo>
                          <a:lnTo>
                            <a:pt x="144" y="26"/>
                          </a:lnTo>
                          <a:lnTo>
                            <a:pt x="160" y="26"/>
                          </a:lnTo>
                          <a:lnTo>
                            <a:pt x="168" y="18"/>
                          </a:lnTo>
                          <a:lnTo>
                            <a:pt x="186" y="10"/>
                          </a:lnTo>
                          <a:close/>
                        </a:path>
                      </a:pathLst>
                    </a:custGeom>
                    <a:solidFill>
                      <a:srgbClr val="5f5f5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88" name="Freeform 53"/>
                    <p:cNvSpPr/>
                    <p:nvPr/>
                  </p:nvSpPr>
                  <p:spPr>
                    <a:xfrm>
                      <a:off x="4545000" y="4204800"/>
                      <a:ext cx="100080" cy="113760"/>
                    </a:xfrm>
                    <a:custGeom>
                      <a:avLst/>
                      <a:gdLst>
                        <a:gd name="textAreaLeft" fmla="*/ 0 w 100080"/>
                        <a:gd name="textAreaRight" fmla="*/ 100440 w 100080"/>
                        <a:gd name="textAreaTop" fmla="*/ 0 h 113760"/>
                        <a:gd name="textAreaBottom" fmla="*/ 114120 h 113760"/>
                      </a:gdLst>
                      <a:ahLst/>
                      <a:rect l="textAreaLeft" t="textAreaTop" r="textAreaRight" b="textAreaBottom"/>
                      <a:pathLst>
                        <a:path w="126" h="143">
                          <a:moveTo>
                            <a:pt x="0" y="143"/>
                          </a:moveTo>
                          <a:lnTo>
                            <a:pt x="30" y="99"/>
                          </a:lnTo>
                          <a:lnTo>
                            <a:pt x="58" y="83"/>
                          </a:lnTo>
                          <a:lnTo>
                            <a:pt x="80" y="73"/>
                          </a:lnTo>
                          <a:lnTo>
                            <a:pt x="96" y="55"/>
                          </a:lnTo>
                          <a:lnTo>
                            <a:pt x="110" y="42"/>
                          </a:lnTo>
                          <a:lnTo>
                            <a:pt x="122" y="30"/>
                          </a:lnTo>
                          <a:lnTo>
                            <a:pt x="120" y="30"/>
                          </a:lnTo>
                          <a:lnTo>
                            <a:pt x="126" y="14"/>
                          </a:lnTo>
                          <a:lnTo>
                            <a:pt x="122" y="6"/>
                          </a:lnTo>
                          <a:lnTo>
                            <a:pt x="114" y="0"/>
                          </a:lnTo>
                          <a:lnTo>
                            <a:pt x="112" y="0"/>
                          </a:lnTo>
                          <a:lnTo>
                            <a:pt x="96" y="4"/>
                          </a:lnTo>
                          <a:lnTo>
                            <a:pt x="90" y="18"/>
                          </a:lnTo>
                          <a:lnTo>
                            <a:pt x="82" y="30"/>
                          </a:lnTo>
                          <a:lnTo>
                            <a:pt x="68" y="40"/>
                          </a:lnTo>
                          <a:lnTo>
                            <a:pt x="48" y="55"/>
                          </a:lnTo>
                          <a:lnTo>
                            <a:pt x="36" y="79"/>
                          </a:lnTo>
                          <a:lnTo>
                            <a:pt x="22" y="103"/>
                          </a:lnTo>
                          <a:lnTo>
                            <a:pt x="12" y="119"/>
                          </a:lnTo>
                          <a:lnTo>
                            <a:pt x="0" y="1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54"/>
                  <p:cNvGrpSpPr/>
                  <p:nvPr/>
                </p:nvGrpSpPr>
                <p:grpSpPr>
                  <a:xfrm>
                    <a:off x="4154400" y="3979800"/>
                    <a:ext cx="538200" cy="469440"/>
                    <a:chOff x="4154400" y="3979800"/>
                    <a:chExt cx="538200" cy="469440"/>
                  </a:xfrm>
                </p:grpSpPr>
                <p:grpSp>
                  <p:nvGrpSpPr>
                    <p:cNvPr id="290" name="Group 55"/>
                    <p:cNvGrpSpPr/>
                    <p:nvPr/>
                  </p:nvGrpSpPr>
                  <p:grpSpPr>
                    <a:xfrm>
                      <a:off x="4154400" y="3979800"/>
                      <a:ext cx="538200" cy="469440"/>
                      <a:chOff x="4154400" y="3979800"/>
                      <a:chExt cx="538200" cy="469440"/>
                    </a:xfrm>
                  </p:grpSpPr>
                  <p:sp>
                    <p:nvSpPr>
                      <p:cNvPr id="291" name="Freeform 56"/>
                      <p:cNvSpPr/>
                      <p:nvPr/>
                    </p:nvSpPr>
                    <p:spPr>
                      <a:xfrm>
                        <a:off x="4154400" y="3979800"/>
                        <a:ext cx="538200" cy="469440"/>
                      </a:xfrm>
                      <a:custGeom>
                        <a:avLst/>
                        <a:gdLst>
                          <a:gd name="textAreaLeft" fmla="*/ 0 w 538200"/>
                          <a:gd name="textAreaRight" fmla="*/ 538560 w 538200"/>
                          <a:gd name="textAreaTop" fmla="*/ 0 h 469440"/>
                          <a:gd name="textAreaBottom" fmla="*/ 469800 h 469440"/>
                        </a:gdLst>
                        <a:ahLst/>
                        <a:rect l="textAreaLeft" t="textAreaTop" r="textAreaRight" b="textAreaBottom"/>
                        <a:pathLst>
                          <a:path w="679" h="592">
                            <a:moveTo>
                              <a:pt x="38" y="500"/>
                            </a:moveTo>
                            <a:lnTo>
                              <a:pt x="68" y="530"/>
                            </a:lnTo>
                            <a:lnTo>
                              <a:pt x="92" y="560"/>
                            </a:lnTo>
                            <a:lnTo>
                              <a:pt x="126" y="578"/>
                            </a:lnTo>
                            <a:lnTo>
                              <a:pt x="140" y="592"/>
                            </a:lnTo>
                            <a:lnTo>
                              <a:pt x="146" y="536"/>
                            </a:lnTo>
                            <a:lnTo>
                              <a:pt x="158" y="484"/>
                            </a:lnTo>
                            <a:lnTo>
                              <a:pt x="168" y="440"/>
                            </a:lnTo>
                            <a:lnTo>
                              <a:pt x="174" y="404"/>
                            </a:lnTo>
                            <a:lnTo>
                              <a:pt x="170" y="358"/>
                            </a:lnTo>
                            <a:lnTo>
                              <a:pt x="156" y="329"/>
                            </a:lnTo>
                            <a:lnTo>
                              <a:pt x="140" y="315"/>
                            </a:lnTo>
                            <a:lnTo>
                              <a:pt x="181" y="321"/>
                            </a:lnTo>
                            <a:lnTo>
                              <a:pt x="233" y="309"/>
                            </a:lnTo>
                            <a:lnTo>
                              <a:pt x="265" y="293"/>
                            </a:lnTo>
                            <a:lnTo>
                              <a:pt x="301" y="279"/>
                            </a:lnTo>
                            <a:lnTo>
                              <a:pt x="341" y="263"/>
                            </a:lnTo>
                            <a:lnTo>
                              <a:pt x="377" y="249"/>
                            </a:lnTo>
                            <a:lnTo>
                              <a:pt x="403" y="231"/>
                            </a:lnTo>
                            <a:lnTo>
                              <a:pt x="441" y="197"/>
                            </a:lnTo>
                            <a:lnTo>
                              <a:pt x="441" y="195"/>
                            </a:lnTo>
                            <a:lnTo>
                              <a:pt x="459" y="159"/>
                            </a:lnTo>
                            <a:lnTo>
                              <a:pt x="475" y="129"/>
                            </a:lnTo>
                            <a:lnTo>
                              <a:pt x="507" y="137"/>
                            </a:lnTo>
                            <a:lnTo>
                              <a:pt x="547" y="159"/>
                            </a:lnTo>
                            <a:lnTo>
                              <a:pt x="585" y="185"/>
                            </a:lnTo>
                            <a:lnTo>
                              <a:pt x="613" y="215"/>
                            </a:lnTo>
                            <a:lnTo>
                              <a:pt x="633" y="251"/>
                            </a:lnTo>
                            <a:lnTo>
                              <a:pt x="649" y="285"/>
                            </a:lnTo>
                            <a:lnTo>
                              <a:pt x="657" y="321"/>
                            </a:lnTo>
                            <a:lnTo>
                              <a:pt x="679" y="350"/>
                            </a:lnTo>
                            <a:lnTo>
                              <a:pt x="673" y="291"/>
                            </a:lnTo>
                            <a:lnTo>
                              <a:pt x="661" y="255"/>
                            </a:lnTo>
                            <a:lnTo>
                              <a:pt x="645" y="215"/>
                            </a:lnTo>
                            <a:lnTo>
                              <a:pt x="637" y="171"/>
                            </a:lnTo>
                            <a:lnTo>
                              <a:pt x="603" y="129"/>
                            </a:lnTo>
                            <a:lnTo>
                              <a:pt x="555" y="76"/>
                            </a:lnTo>
                            <a:lnTo>
                              <a:pt x="525" y="46"/>
                            </a:lnTo>
                            <a:lnTo>
                              <a:pt x="501" y="24"/>
                            </a:lnTo>
                            <a:lnTo>
                              <a:pt x="475" y="12"/>
                            </a:lnTo>
                            <a:lnTo>
                              <a:pt x="451" y="4"/>
                            </a:lnTo>
                            <a:lnTo>
                              <a:pt x="415" y="4"/>
                            </a:lnTo>
                            <a:lnTo>
                              <a:pt x="401" y="4"/>
                            </a:lnTo>
                            <a:lnTo>
                              <a:pt x="355" y="0"/>
                            </a:lnTo>
                            <a:lnTo>
                              <a:pt x="293" y="0"/>
                            </a:lnTo>
                            <a:lnTo>
                              <a:pt x="235" y="16"/>
                            </a:lnTo>
                            <a:lnTo>
                              <a:pt x="187" y="34"/>
                            </a:lnTo>
                            <a:lnTo>
                              <a:pt x="144" y="48"/>
                            </a:lnTo>
                            <a:lnTo>
                              <a:pt x="110" y="64"/>
                            </a:lnTo>
                            <a:lnTo>
                              <a:pt x="86" y="81"/>
                            </a:lnTo>
                            <a:lnTo>
                              <a:pt x="66" y="99"/>
                            </a:lnTo>
                            <a:lnTo>
                              <a:pt x="44" y="123"/>
                            </a:lnTo>
                            <a:lnTo>
                              <a:pt x="24" y="153"/>
                            </a:lnTo>
                            <a:lnTo>
                              <a:pt x="8" y="177"/>
                            </a:lnTo>
                            <a:lnTo>
                              <a:pt x="0" y="209"/>
                            </a:lnTo>
                            <a:lnTo>
                              <a:pt x="0" y="255"/>
                            </a:lnTo>
                            <a:lnTo>
                              <a:pt x="0" y="297"/>
                            </a:lnTo>
                            <a:lnTo>
                              <a:pt x="6" y="338"/>
                            </a:lnTo>
                            <a:lnTo>
                              <a:pt x="6" y="388"/>
                            </a:lnTo>
                            <a:lnTo>
                              <a:pt x="8" y="428"/>
                            </a:lnTo>
                            <a:lnTo>
                              <a:pt x="18" y="454"/>
                            </a:lnTo>
                            <a:lnTo>
                              <a:pt x="38" y="5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57"/>
                      <p:cNvSpPr/>
                      <p:nvPr/>
                    </p:nvSpPr>
                    <p:spPr>
                      <a:xfrm>
                        <a:off x="4178160" y="3990240"/>
                        <a:ext cx="328680" cy="417240"/>
                      </a:xfrm>
                      <a:custGeom>
                        <a:avLst/>
                        <a:gdLst>
                          <a:gd name="textAreaLeft" fmla="*/ 0 w 328680"/>
                          <a:gd name="textAreaRight" fmla="*/ 329040 w 328680"/>
                          <a:gd name="textAreaTop" fmla="*/ 0 h 417240"/>
                          <a:gd name="textAreaBottom" fmla="*/ 417600 h 417240"/>
                        </a:gdLst>
                        <a:ahLst/>
                        <a:rect l="textAreaLeft" t="textAreaTop" r="textAreaRight" b="textAreaBottom"/>
                        <a:pathLst>
                          <a:path w="415" h="526">
                            <a:moveTo>
                              <a:pt x="257" y="16"/>
                            </a:moveTo>
                            <a:lnTo>
                              <a:pt x="281" y="4"/>
                            </a:lnTo>
                            <a:lnTo>
                              <a:pt x="305" y="0"/>
                            </a:lnTo>
                            <a:lnTo>
                              <a:pt x="327" y="0"/>
                            </a:lnTo>
                            <a:lnTo>
                              <a:pt x="359" y="6"/>
                            </a:lnTo>
                            <a:lnTo>
                              <a:pt x="375" y="12"/>
                            </a:lnTo>
                            <a:lnTo>
                              <a:pt x="389" y="30"/>
                            </a:lnTo>
                            <a:lnTo>
                              <a:pt x="403" y="56"/>
                            </a:lnTo>
                            <a:lnTo>
                              <a:pt x="415" y="73"/>
                            </a:lnTo>
                            <a:lnTo>
                              <a:pt x="415" y="93"/>
                            </a:lnTo>
                            <a:lnTo>
                              <a:pt x="413" y="115"/>
                            </a:lnTo>
                            <a:lnTo>
                              <a:pt x="395" y="143"/>
                            </a:lnTo>
                            <a:lnTo>
                              <a:pt x="379" y="167"/>
                            </a:lnTo>
                            <a:lnTo>
                              <a:pt x="359" y="187"/>
                            </a:lnTo>
                            <a:lnTo>
                              <a:pt x="335" y="205"/>
                            </a:lnTo>
                            <a:lnTo>
                              <a:pt x="317" y="219"/>
                            </a:lnTo>
                            <a:lnTo>
                              <a:pt x="287" y="227"/>
                            </a:lnTo>
                            <a:lnTo>
                              <a:pt x="257" y="239"/>
                            </a:lnTo>
                            <a:lnTo>
                              <a:pt x="231" y="249"/>
                            </a:lnTo>
                            <a:lnTo>
                              <a:pt x="209" y="257"/>
                            </a:lnTo>
                            <a:lnTo>
                              <a:pt x="191" y="257"/>
                            </a:lnTo>
                            <a:lnTo>
                              <a:pt x="179" y="263"/>
                            </a:lnTo>
                            <a:lnTo>
                              <a:pt x="173" y="269"/>
                            </a:lnTo>
                            <a:lnTo>
                              <a:pt x="201" y="269"/>
                            </a:lnTo>
                            <a:lnTo>
                              <a:pt x="183" y="279"/>
                            </a:lnTo>
                            <a:lnTo>
                              <a:pt x="159" y="287"/>
                            </a:lnTo>
                            <a:lnTo>
                              <a:pt x="126" y="287"/>
                            </a:lnTo>
                            <a:lnTo>
                              <a:pt x="102" y="287"/>
                            </a:lnTo>
                            <a:lnTo>
                              <a:pt x="94" y="293"/>
                            </a:lnTo>
                            <a:lnTo>
                              <a:pt x="108" y="326"/>
                            </a:lnTo>
                            <a:lnTo>
                              <a:pt x="116" y="362"/>
                            </a:lnTo>
                            <a:lnTo>
                              <a:pt x="116" y="394"/>
                            </a:lnTo>
                            <a:lnTo>
                              <a:pt x="116" y="428"/>
                            </a:lnTo>
                            <a:lnTo>
                              <a:pt x="122" y="452"/>
                            </a:lnTo>
                            <a:lnTo>
                              <a:pt x="114" y="484"/>
                            </a:lnTo>
                            <a:lnTo>
                              <a:pt x="102" y="522"/>
                            </a:lnTo>
                            <a:lnTo>
                              <a:pt x="90" y="526"/>
                            </a:lnTo>
                            <a:lnTo>
                              <a:pt x="80" y="512"/>
                            </a:lnTo>
                            <a:lnTo>
                              <a:pt x="46" y="476"/>
                            </a:lnTo>
                            <a:lnTo>
                              <a:pt x="12" y="456"/>
                            </a:lnTo>
                            <a:lnTo>
                              <a:pt x="50" y="456"/>
                            </a:lnTo>
                            <a:lnTo>
                              <a:pt x="34" y="416"/>
                            </a:lnTo>
                            <a:lnTo>
                              <a:pt x="14" y="398"/>
                            </a:lnTo>
                            <a:lnTo>
                              <a:pt x="30" y="368"/>
                            </a:lnTo>
                            <a:lnTo>
                              <a:pt x="20" y="358"/>
                            </a:lnTo>
                            <a:lnTo>
                              <a:pt x="36" y="362"/>
                            </a:lnTo>
                            <a:lnTo>
                              <a:pt x="18" y="326"/>
                            </a:lnTo>
                            <a:lnTo>
                              <a:pt x="40" y="328"/>
                            </a:lnTo>
                            <a:lnTo>
                              <a:pt x="4" y="283"/>
                            </a:lnTo>
                            <a:lnTo>
                              <a:pt x="0" y="243"/>
                            </a:lnTo>
                            <a:lnTo>
                              <a:pt x="18" y="257"/>
                            </a:lnTo>
                            <a:lnTo>
                              <a:pt x="6" y="229"/>
                            </a:lnTo>
                            <a:lnTo>
                              <a:pt x="48" y="233"/>
                            </a:lnTo>
                            <a:lnTo>
                              <a:pt x="64" y="225"/>
                            </a:lnTo>
                            <a:lnTo>
                              <a:pt x="46" y="203"/>
                            </a:lnTo>
                            <a:lnTo>
                              <a:pt x="76" y="199"/>
                            </a:lnTo>
                            <a:lnTo>
                              <a:pt x="48" y="183"/>
                            </a:lnTo>
                            <a:lnTo>
                              <a:pt x="24" y="165"/>
                            </a:lnTo>
                            <a:lnTo>
                              <a:pt x="72" y="179"/>
                            </a:lnTo>
                            <a:lnTo>
                              <a:pt x="104" y="187"/>
                            </a:lnTo>
                            <a:lnTo>
                              <a:pt x="132" y="189"/>
                            </a:lnTo>
                            <a:lnTo>
                              <a:pt x="167" y="193"/>
                            </a:lnTo>
                            <a:lnTo>
                              <a:pt x="201" y="191"/>
                            </a:lnTo>
                            <a:lnTo>
                              <a:pt x="213" y="185"/>
                            </a:lnTo>
                            <a:lnTo>
                              <a:pt x="203" y="171"/>
                            </a:lnTo>
                            <a:lnTo>
                              <a:pt x="243" y="165"/>
                            </a:lnTo>
                            <a:lnTo>
                              <a:pt x="209" y="159"/>
                            </a:lnTo>
                            <a:lnTo>
                              <a:pt x="177" y="155"/>
                            </a:lnTo>
                            <a:lnTo>
                              <a:pt x="142" y="155"/>
                            </a:lnTo>
                            <a:lnTo>
                              <a:pt x="106" y="155"/>
                            </a:lnTo>
                            <a:lnTo>
                              <a:pt x="132" y="135"/>
                            </a:lnTo>
                            <a:lnTo>
                              <a:pt x="100" y="143"/>
                            </a:lnTo>
                            <a:lnTo>
                              <a:pt x="72" y="139"/>
                            </a:lnTo>
                            <a:lnTo>
                              <a:pt x="48" y="135"/>
                            </a:lnTo>
                            <a:lnTo>
                              <a:pt x="34" y="133"/>
                            </a:lnTo>
                            <a:lnTo>
                              <a:pt x="66" y="125"/>
                            </a:lnTo>
                            <a:lnTo>
                              <a:pt x="90" y="119"/>
                            </a:lnTo>
                            <a:lnTo>
                              <a:pt x="108" y="111"/>
                            </a:lnTo>
                            <a:lnTo>
                              <a:pt x="118" y="107"/>
                            </a:lnTo>
                            <a:lnTo>
                              <a:pt x="96" y="107"/>
                            </a:lnTo>
                            <a:lnTo>
                              <a:pt x="136" y="87"/>
                            </a:lnTo>
                            <a:lnTo>
                              <a:pt x="114" y="81"/>
                            </a:lnTo>
                            <a:lnTo>
                              <a:pt x="96" y="81"/>
                            </a:lnTo>
                            <a:lnTo>
                              <a:pt x="132" y="75"/>
                            </a:lnTo>
                            <a:lnTo>
                              <a:pt x="173" y="79"/>
                            </a:lnTo>
                            <a:lnTo>
                              <a:pt x="193" y="87"/>
                            </a:lnTo>
                            <a:lnTo>
                              <a:pt x="217" y="89"/>
                            </a:lnTo>
                            <a:lnTo>
                              <a:pt x="239" y="89"/>
                            </a:lnTo>
                            <a:lnTo>
                              <a:pt x="263" y="87"/>
                            </a:lnTo>
                            <a:lnTo>
                              <a:pt x="279" y="79"/>
                            </a:lnTo>
                            <a:lnTo>
                              <a:pt x="295" y="71"/>
                            </a:lnTo>
                            <a:lnTo>
                              <a:pt x="305" y="65"/>
                            </a:lnTo>
                            <a:lnTo>
                              <a:pt x="281" y="65"/>
                            </a:lnTo>
                            <a:lnTo>
                              <a:pt x="253" y="62"/>
                            </a:lnTo>
                            <a:lnTo>
                              <a:pt x="215" y="60"/>
                            </a:lnTo>
                            <a:lnTo>
                              <a:pt x="267" y="54"/>
                            </a:lnTo>
                            <a:lnTo>
                              <a:pt x="295" y="48"/>
                            </a:lnTo>
                            <a:lnTo>
                              <a:pt x="315" y="44"/>
                            </a:lnTo>
                            <a:lnTo>
                              <a:pt x="329" y="34"/>
                            </a:lnTo>
                            <a:lnTo>
                              <a:pt x="305" y="36"/>
                            </a:lnTo>
                            <a:lnTo>
                              <a:pt x="317" y="20"/>
                            </a:lnTo>
                            <a:lnTo>
                              <a:pt x="329" y="16"/>
                            </a:lnTo>
                            <a:lnTo>
                              <a:pt x="299" y="16"/>
                            </a:lnTo>
                            <a:lnTo>
                              <a:pt x="275" y="18"/>
                            </a:lnTo>
                            <a:lnTo>
                              <a:pt x="257" y="16"/>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58"/>
                    <p:cNvSpPr/>
                    <p:nvPr/>
                  </p:nvSpPr>
                  <p:spPr>
                    <a:xfrm>
                      <a:off x="4511520" y="3987360"/>
                      <a:ext cx="92160" cy="107280"/>
                    </a:xfrm>
                    <a:custGeom>
                      <a:avLst/>
                      <a:gdLst>
                        <a:gd name="textAreaLeft" fmla="*/ 0 w 92160"/>
                        <a:gd name="textAreaRight" fmla="*/ 92520 w 92160"/>
                        <a:gd name="textAreaTop" fmla="*/ 0 h 107280"/>
                        <a:gd name="textAreaBottom" fmla="*/ 107640 h 107280"/>
                      </a:gdLst>
                      <a:ahLst/>
                      <a:rect l="textAreaLeft" t="textAreaTop" r="textAreaRight" b="textAreaBottom"/>
                      <a:pathLst>
                        <a:path w="116" h="135">
                          <a:moveTo>
                            <a:pt x="0" y="0"/>
                          </a:moveTo>
                          <a:lnTo>
                            <a:pt x="24" y="28"/>
                          </a:lnTo>
                          <a:lnTo>
                            <a:pt x="38" y="38"/>
                          </a:lnTo>
                          <a:lnTo>
                            <a:pt x="54" y="52"/>
                          </a:lnTo>
                          <a:lnTo>
                            <a:pt x="72" y="60"/>
                          </a:lnTo>
                          <a:lnTo>
                            <a:pt x="94" y="69"/>
                          </a:lnTo>
                          <a:lnTo>
                            <a:pt x="66" y="64"/>
                          </a:lnTo>
                          <a:lnTo>
                            <a:pt x="46" y="58"/>
                          </a:lnTo>
                          <a:lnTo>
                            <a:pt x="38" y="62"/>
                          </a:lnTo>
                          <a:lnTo>
                            <a:pt x="52" y="79"/>
                          </a:lnTo>
                          <a:lnTo>
                            <a:pt x="62" y="99"/>
                          </a:lnTo>
                          <a:lnTo>
                            <a:pt x="86" y="113"/>
                          </a:lnTo>
                          <a:lnTo>
                            <a:pt x="116" y="135"/>
                          </a:lnTo>
                          <a:lnTo>
                            <a:pt x="76" y="115"/>
                          </a:lnTo>
                          <a:lnTo>
                            <a:pt x="54" y="103"/>
                          </a:lnTo>
                          <a:lnTo>
                            <a:pt x="32" y="95"/>
                          </a:lnTo>
                          <a:lnTo>
                            <a:pt x="18" y="77"/>
                          </a:lnTo>
                          <a:lnTo>
                            <a:pt x="18" y="54"/>
                          </a:lnTo>
                          <a:lnTo>
                            <a:pt x="6" y="32"/>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94" name="Freeform 59"/>
            <p:cNvSpPr/>
            <p:nvPr/>
          </p:nvSpPr>
          <p:spPr>
            <a:xfrm>
              <a:off x="1600200" y="5581440"/>
              <a:ext cx="5806800" cy="1029960"/>
            </a:xfrm>
            <a:custGeom>
              <a:avLst/>
              <a:gdLst>
                <a:gd name="textAreaLeft" fmla="*/ 0 w 5806800"/>
                <a:gd name="textAreaRight" fmla="*/ 5807160 w 5806800"/>
                <a:gd name="textAreaTop" fmla="*/ 0 h 1029960"/>
                <a:gd name="textAreaBottom" fmla="*/ 1029960 h 1029960"/>
              </a:gdLst>
              <a:ahLst/>
              <a:rect l="textAreaLeft" t="textAreaTop" r="textAreaRight" b="textAreaBottom"/>
              <a:pathLst>
                <a:path w="7316" h="1299">
                  <a:moveTo>
                    <a:pt x="926" y="0"/>
                  </a:moveTo>
                  <a:lnTo>
                    <a:pt x="0" y="1299"/>
                  </a:lnTo>
                  <a:lnTo>
                    <a:pt x="7316" y="1299"/>
                  </a:lnTo>
                  <a:lnTo>
                    <a:pt x="6655" y="0"/>
                  </a:lnTo>
                  <a:lnTo>
                    <a:pt x="926"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Group 60"/>
            <p:cNvGrpSpPr/>
            <p:nvPr/>
          </p:nvGrpSpPr>
          <p:grpSpPr>
            <a:xfrm>
              <a:off x="3636720" y="5332320"/>
              <a:ext cx="279720" cy="286920"/>
              <a:chOff x="3636720" y="5332320"/>
              <a:chExt cx="279720" cy="286920"/>
            </a:xfrm>
          </p:grpSpPr>
          <p:sp>
            <p:nvSpPr>
              <p:cNvPr id="296" name="Freeform 61"/>
              <p:cNvSpPr/>
              <p:nvPr/>
            </p:nvSpPr>
            <p:spPr>
              <a:xfrm>
                <a:off x="3636720" y="5332320"/>
                <a:ext cx="277920" cy="286920"/>
              </a:xfrm>
              <a:custGeom>
                <a:avLst/>
                <a:gdLst>
                  <a:gd name="textAreaLeft" fmla="*/ 0 w 277920"/>
                  <a:gd name="textAreaRight" fmla="*/ 278280 w 277920"/>
                  <a:gd name="textAreaTop" fmla="*/ 0 h 286920"/>
                  <a:gd name="textAreaBottom" fmla="*/ 286920 h 286920"/>
                </a:gdLst>
                <a:ahLst/>
                <a:rect l="textAreaLeft" t="textAreaTop" r="textAreaRight" b="textAreaBottom"/>
                <a:pathLst>
                  <a:path w="351" h="363">
                    <a:moveTo>
                      <a:pt x="58" y="56"/>
                    </a:moveTo>
                    <a:lnTo>
                      <a:pt x="110" y="8"/>
                    </a:lnTo>
                    <a:lnTo>
                      <a:pt x="140" y="0"/>
                    </a:lnTo>
                    <a:lnTo>
                      <a:pt x="202" y="8"/>
                    </a:lnTo>
                    <a:lnTo>
                      <a:pt x="266" y="18"/>
                    </a:lnTo>
                    <a:lnTo>
                      <a:pt x="308" y="28"/>
                    </a:lnTo>
                    <a:lnTo>
                      <a:pt x="321" y="38"/>
                    </a:lnTo>
                    <a:lnTo>
                      <a:pt x="329" y="60"/>
                    </a:lnTo>
                    <a:lnTo>
                      <a:pt x="331" y="74"/>
                    </a:lnTo>
                    <a:lnTo>
                      <a:pt x="321" y="88"/>
                    </a:lnTo>
                    <a:lnTo>
                      <a:pt x="333" y="102"/>
                    </a:lnTo>
                    <a:lnTo>
                      <a:pt x="339" y="122"/>
                    </a:lnTo>
                    <a:lnTo>
                      <a:pt x="335" y="134"/>
                    </a:lnTo>
                    <a:lnTo>
                      <a:pt x="345" y="148"/>
                    </a:lnTo>
                    <a:lnTo>
                      <a:pt x="349" y="164"/>
                    </a:lnTo>
                    <a:lnTo>
                      <a:pt x="347" y="182"/>
                    </a:lnTo>
                    <a:lnTo>
                      <a:pt x="335" y="201"/>
                    </a:lnTo>
                    <a:lnTo>
                      <a:pt x="345" y="221"/>
                    </a:lnTo>
                    <a:lnTo>
                      <a:pt x="351" y="245"/>
                    </a:lnTo>
                    <a:lnTo>
                      <a:pt x="343" y="269"/>
                    </a:lnTo>
                    <a:lnTo>
                      <a:pt x="329" y="281"/>
                    </a:lnTo>
                    <a:lnTo>
                      <a:pt x="329" y="321"/>
                    </a:lnTo>
                    <a:lnTo>
                      <a:pt x="315" y="343"/>
                    </a:lnTo>
                    <a:lnTo>
                      <a:pt x="286" y="353"/>
                    </a:lnTo>
                    <a:lnTo>
                      <a:pt x="156" y="363"/>
                    </a:lnTo>
                    <a:lnTo>
                      <a:pt x="92" y="339"/>
                    </a:lnTo>
                    <a:lnTo>
                      <a:pt x="14" y="251"/>
                    </a:lnTo>
                    <a:lnTo>
                      <a:pt x="2" y="213"/>
                    </a:lnTo>
                    <a:lnTo>
                      <a:pt x="0" y="184"/>
                    </a:lnTo>
                    <a:lnTo>
                      <a:pt x="4" y="156"/>
                    </a:lnTo>
                    <a:lnTo>
                      <a:pt x="16" y="112"/>
                    </a:lnTo>
                    <a:lnTo>
                      <a:pt x="30" y="90"/>
                    </a:lnTo>
                    <a:lnTo>
                      <a:pt x="58" y="5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62"/>
              <p:cNvGrpSpPr/>
              <p:nvPr/>
            </p:nvGrpSpPr>
            <p:grpSpPr>
              <a:xfrm>
                <a:off x="3705120" y="5368320"/>
                <a:ext cx="211320" cy="250200"/>
                <a:chOff x="3705120" y="5368320"/>
                <a:chExt cx="211320" cy="250200"/>
              </a:xfrm>
            </p:grpSpPr>
            <p:sp>
              <p:nvSpPr>
                <p:cNvPr id="298" name="Freeform 63"/>
                <p:cNvSpPr/>
                <p:nvPr/>
              </p:nvSpPr>
              <p:spPr>
                <a:xfrm>
                  <a:off x="3705120" y="5426640"/>
                  <a:ext cx="211320" cy="191880"/>
                </a:xfrm>
                <a:custGeom>
                  <a:avLst/>
                  <a:gdLst>
                    <a:gd name="textAreaLeft" fmla="*/ 0 w 211320"/>
                    <a:gd name="textAreaRight" fmla="*/ 211680 w 211320"/>
                    <a:gd name="textAreaTop" fmla="*/ 0 h 191880"/>
                    <a:gd name="textAreaBottom" fmla="*/ 192240 h 191880"/>
                  </a:gdLst>
                  <a:ahLst/>
                  <a:rect l="textAreaLeft" t="textAreaTop" r="textAreaRight" b="textAreaBottom"/>
                  <a:pathLst>
                    <a:path w="265" h="243">
                      <a:moveTo>
                        <a:pt x="78" y="34"/>
                      </a:moveTo>
                      <a:lnTo>
                        <a:pt x="110" y="36"/>
                      </a:lnTo>
                      <a:lnTo>
                        <a:pt x="130" y="36"/>
                      </a:lnTo>
                      <a:lnTo>
                        <a:pt x="128" y="0"/>
                      </a:lnTo>
                      <a:lnTo>
                        <a:pt x="142" y="20"/>
                      </a:lnTo>
                      <a:lnTo>
                        <a:pt x="152" y="30"/>
                      </a:lnTo>
                      <a:lnTo>
                        <a:pt x="166" y="34"/>
                      </a:lnTo>
                      <a:lnTo>
                        <a:pt x="194" y="30"/>
                      </a:lnTo>
                      <a:lnTo>
                        <a:pt x="214" y="22"/>
                      </a:lnTo>
                      <a:lnTo>
                        <a:pt x="231" y="14"/>
                      </a:lnTo>
                      <a:lnTo>
                        <a:pt x="247" y="10"/>
                      </a:lnTo>
                      <a:lnTo>
                        <a:pt x="253" y="2"/>
                      </a:lnTo>
                      <a:lnTo>
                        <a:pt x="249" y="14"/>
                      </a:lnTo>
                      <a:lnTo>
                        <a:pt x="259" y="28"/>
                      </a:lnTo>
                      <a:lnTo>
                        <a:pt x="263" y="44"/>
                      </a:lnTo>
                      <a:lnTo>
                        <a:pt x="261" y="62"/>
                      </a:lnTo>
                      <a:lnTo>
                        <a:pt x="249" y="81"/>
                      </a:lnTo>
                      <a:lnTo>
                        <a:pt x="259" y="101"/>
                      </a:lnTo>
                      <a:lnTo>
                        <a:pt x="265" y="125"/>
                      </a:lnTo>
                      <a:lnTo>
                        <a:pt x="257" y="149"/>
                      </a:lnTo>
                      <a:lnTo>
                        <a:pt x="243" y="161"/>
                      </a:lnTo>
                      <a:lnTo>
                        <a:pt x="243" y="201"/>
                      </a:lnTo>
                      <a:lnTo>
                        <a:pt x="229" y="223"/>
                      </a:lnTo>
                      <a:lnTo>
                        <a:pt x="200" y="233"/>
                      </a:lnTo>
                      <a:lnTo>
                        <a:pt x="70" y="243"/>
                      </a:lnTo>
                      <a:lnTo>
                        <a:pt x="6" y="219"/>
                      </a:lnTo>
                      <a:lnTo>
                        <a:pt x="44" y="231"/>
                      </a:lnTo>
                      <a:lnTo>
                        <a:pt x="78" y="237"/>
                      </a:lnTo>
                      <a:lnTo>
                        <a:pt x="104" y="235"/>
                      </a:lnTo>
                      <a:lnTo>
                        <a:pt x="124" y="229"/>
                      </a:lnTo>
                      <a:lnTo>
                        <a:pt x="132" y="209"/>
                      </a:lnTo>
                      <a:lnTo>
                        <a:pt x="132" y="235"/>
                      </a:lnTo>
                      <a:lnTo>
                        <a:pt x="162" y="231"/>
                      </a:lnTo>
                      <a:lnTo>
                        <a:pt x="202" y="229"/>
                      </a:lnTo>
                      <a:lnTo>
                        <a:pt x="221" y="219"/>
                      </a:lnTo>
                      <a:lnTo>
                        <a:pt x="229" y="203"/>
                      </a:lnTo>
                      <a:lnTo>
                        <a:pt x="237" y="183"/>
                      </a:lnTo>
                      <a:lnTo>
                        <a:pt x="239" y="169"/>
                      </a:lnTo>
                      <a:lnTo>
                        <a:pt x="218" y="173"/>
                      </a:lnTo>
                      <a:lnTo>
                        <a:pt x="194" y="179"/>
                      </a:lnTo>
                      <a:lnTo>
                        <a:pt x="166" y="181"/>
                      </a:lnTo>
                      <a:lnTo>
                        <a:pt x="136" y="183"/>
                      </a:lnTo>
                      <a:lnTo>
                        <a:pt x="114" y="181"/>
                      </a:lnTo>
                      <a:lnTo>
                        <a:pt x="90" y="179"/>
                      </a:lnTo>
                      <a:lnTo>
                        <a:pt x="64" y="171"/>
                      </a:lnTo>
                      <a:lnTo>
                        <a:pt x="34" y="161"/>
                      </a:lnTo>
                      <a:lnTo>
                        <a:pt x="16" y="145"/>
                      </a:lnTo>
                      <a:lnTo>
                        <a:pt x="42" y="159"/>
                      </a:lnTo>
                      <a:lnTo>
                        <a:pt x="60" y="161"/>
                      </a:lnTo>
                      <a:lnTo>
                        <a:pt x="84" y="165"/>
                      </a:lnTo>
                      <a:lnTo>
                        <a:pt x="108" y="169"/>
                      </a:lnTo>
                      <a:lnTo>
                        <a:pt x="136" y="171"/>
                      </a:lnTo>
                      <a:lnTo>
                        <a:pt x="156" y="163"/>
                      </a:lnTo>
                      <a:lnTo>
                        <a:pt x="174" y="153"/>
                      </a:lnTo>
                      <a:lnTo>
                        <a:pt x="178" y="169"/>
                      </a:lnTo>
                      <a:lnTo>
                        <a:pt x="190" y="167"/>
                      </a:lnTo>
                      <a:lnTo>
                        <a:pt x="212" y="165"/>
                      </a:lnTo>
                      <a:lnTo>
                        <a:pt x="229" y="163"/>
                      </a:lnTo>
                      <a:lnTo>
                        <a:pt x="237" y="157"/>
                      </a:lnTo>
                      <a:lnTo>
                        <a:pt x="243" y="147"/>
                      </a:lnTo>
                      <a:lnTo>
                        <a:pt x="249" y="137"/>
                      </a:lnTo>
                      <a:lnTo>
                        <a:pt x="253" y="125"/>
                      </a:lnTo>
                      <a:lnTo>
                        <a:pt x="251" y="113"/>
                      </a:lnTo>
                      <a:lnTo>
                        <a:pt x="247" y="103"/>
                      </a:lnTo>
                      <a:lnTo>
                        <a:pt x="235" y="103"/>
                      </a:lnTo>
                      <a:lnTo>
                        <a:pt x="210" y="109"/>
                      </a:lnTo>
                      <a:lnTo>
                        <a:pt x="186" y="117"/>
                      </a:lnTo>
                      <a:lnTo>
                        <a:pt x="160" y="121"/>
                      </a:lnTo>
                      <a:lnTo>
                        <a:pt x="132" y="123"/>
                      </a:lnTo>
                      <a:lnTo>
                        <a:pt x="106" y="125"/>
                      </a:lnTo>
                      <a:lnTo>
                        <a:pt x="74" y="125"/>
                      </a:lnTo>
                      <a:lnTo>
                        <a:pt x="46" y="117"/>
                      </a:lnTo>
                      <a:lnTo>
                        <a:pt x="24" y="109"/>
                      </a:lnTo>
                      <a:lnTo>
                        <a:pt x="0" y="91"/>
                      </a:lnTo>
                      <a:lnTo>
                        <a:pt x="40" y="105"/>
                      </a:lnTo>
                      <a:lnTo>
                        <a:pt x="60" y="111"/>
                      </a:lnTo>
                      <a:lnTo>
                        <a:pt x="84" y="117"/>
                      </a:lnTo>
                      <a:lnTo>
                        <a:pt x="108" y="115"/>
                      </a:lnTo>
                      <a:lnTo>
                        <a:pt x="126" y="113"/>
                      </a:lnTo>
                      <a:lnTo>
                        <a:pt x="144" y="107"/>
                      </a:lnTo>
                      <a:lnTo>
                        <a:pt x="158" y="93"/>
                      </a:lnTo>
                      <a:lnTo>
                        <a:pt x="174" y="83"/>
                      </a:lnTo>
                      <a:lnTo>
                        <a:pt x="164" y="99"/>
                      </a:lnTo>
                      <a:lnTo>
                        <a:pt x="172" y="107"/>
                      </a:lnTo>
                      <a:lnTo>
                        <a:pt x="180" y="105"/>
                      </a:lnTo>
                      <a:lnTo>
                        <a:pt x="202" y="101"/>
                      </a:lnTo>
                      <a:lnTo>
                        <a:pt x="221" y="95"/>
                      </a:lnTo>
                      <a:lnTo>
                        <a:pt x="239" y="81"/>
                      </a:lnTo>
                      <a:lnTo>
                        <a:pt x="253" y="68"/>
                      </a:lnTo>
                      <a:lnTo>
                        <a:pt x="255" y="54"/>
                      </a:lnTo>
                      <a:lnTo>
                        <a:pt x="253" y="38"/>
                      </a:lnTo>
                      <a:lnTo>
                        <a:pt x="251" y="18"/>
                      </a:lnTo>
                      <a:lnTo>
                        <a:pt x="233" y="24"/>
                      </a:lnTo>
                      <a:lnTo>
                        <a:pt x="210" y="36"/>
                      </a:lnTo>
                      <a:lnTo>
                        <a:pt x="176" y="46"/>
                      </a:lnTo>
                      <a:lnTo>
                        <a:pt x="138" y="48"/>
                      </a:lnTo>
                      <a:lnTo>
                        <a:pt x="100" y="46"/>
                      </a:lnTo>
                      <a:lnTo>
                        <a:pt x="66" y="40"/>
                      </a:lnTo>
                      <a:lnTo>
                        <a:pt x="34" y="28"/>
                      </a:lnTo>
                      <a:lnTo>
                        <a:pt x="78" y="34"/>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4"/>
                <p:cNvSpPr/>
                <p:nvPr/>
              </p:nvSpPr>
              <p:spPr>
                <a:xfrm>
                  <a:off x="3713040" y="5368320"/>
                  <a:ext cx="141480" cy="23400"/>
                </a:xfrm>
                <a:custGeom>
                  <a:avLst/>
                  <a:gdLst>
                    <a:gd name="textAreaLeft" fmla="*/ 0 w 141480"/>
                    <a:gd name="textAreaRight" fmla="*/ 141840 w 141480"/>
                    <a:gd name="textAreaTop" fmla="*/ 0 h 23400"/>
                    <a:gd name="textAreaBottom" fmla="*/ 23760 h 23400"/>
                  </a:gdLst>
                  <a:ahLst/>
                  <a:rect l="textAreaLeft" t="textAreaTop" r="textAreaRight" b="textAreaBottom"/>
                  <a:pathLst>
                    <a:path w="178" h="30">
                      <a:moveTo>
                        <a:pt x="178" y="0"/>
                      </a:moveTo>
                      <a:lnTo>
                        <a:pt x="160" y="12"/>
                      </a:lnTo>
                      <a:lnTo>
                        <a:pt x="146" y="28"/>
                      </a:lnTo>
                      <a:lnTo>
                        <a:pt x="128" y="24"/>
                      </a:lnTo>
                      <a:lnTo>
                        <a:pt x="110" y="14"/>
                      </a:lnTo>
                      <a:lnTo>
                        <a:pt x="92" y="14"/>
                      </a:lnTo>
                      <a:lnTo>
                        <a:pt x="62" y="22"/>
                      </a:lnTo>
                      <a:lnTo>
                        <a:pt x="40" y="30"/>
                      </a:lnTo>
                      <a:lnTo>
                        <a:pt x="56" y="18"/>
                      </a:lnTo>
                      <a:lnTo>
                        <a:pt x="26" y="14"/>
                      </a:lnTo>
                      <a:lnTo>
                        <a:pt x="0" y="10"/>
                      </a:lnTo>
                      <a:lnTo>
                        <a:pt x="34" y="8"/>
                      </a:lnTo>
                      <a:lnTo>
                        <a:pt x="62" y="12"/>
                      </a:lnTo>
                      <a:lnTo>
                        <a:pt x="84" y="12"/>
                      </a:lnTo>
                      <a:lnTo>
                        <a:pt x="100" y="8"/>
                      </a:lnTo>
                      <a:lnTo>
                        <a:pt x="116" y="8"/>
                      </a:lnTo>
                      <a:lnTo>
                        <a:pt x="128" y="14"/>
                      </a:lnTo>
                      <a:lnTo>
                        <a:pt x="146" y="20"/>
                      </a:lnTo>
                      <a:lnTo>
                        <a:pt x="178" y="0"/>
                      </a:lnTo>
                      <a:close/>
                    </a:path>
                  </a:pathLst>
                </a:custGeom>
                <a:solidFill>
                  <a:srgbClr val="df9f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300" name="Group 65"/>
            <p:cNvGrpSpPr/>
            <p:nvPr/>
          </p:nvGrpSpPr>
          <p:grpSpPr>
            <a:xfrm>
              <a:off x="3836880" y="5597280"/>
              <a:ext cx="1855800" cy="618480"/>
              <a:chOff x="3836880" y="5597280"/>
              <a:chExt cx="1855800" cy="618480"/>
            </a:xfrm>
          </p:grpSpPr>
          <p:sp>
            <p:nvSpPr>
              <p:cNvPr id="301" name="Freeform 66"/>
              <p:cNvSpPr/>
              <p:nvPr/>
            </p:nvSpPr>
            <p:spPr>
              <a:xfrm>
                <a:off x="3836880" y="5620680"/>
                <a:ext cx="690480" cy="595080"/>
              </a:xfrm>
              <a:custGeom>
                <a:avLst/>
                <a:gdLst>
                  <a:gd name="textAreaLeft" fmla="*/ 0 w 690480"/>
                  <a:gd name="textAreaRight" fmla="*/ 690840 w 690480"/>
                  <a:gd name="textAreaTop" fmla="*/ 0 h 595080"/>
                  <a:gd name="textAreaBottom" fmla="*/ 595080 h 595080"/>
                </a:gdLst>
                <a:ahLst/>
                <a:rect l="textAreaLeft" t="textAreaTop" r="textAreaRight" b="textAreaBottom"/>
                <a:pathLst>
                  <a:path w="870" h="749">
                    <a:moveTo>
                      <a:pt x="185" y="0"/>
                    </a:moveTo>
                    <a:lnTo>
                      <a:pt x="0" y="671"/>
                    </a:lnTo>
                    <a:lnTo>
                      <a:pt x="700" y="749"/>
                    </a:lnTo>
                    <a:lnTo>
                      <a:pt x="870" y="54"/>
                    </a:lnTo>
                    <a:lnTo>
                      <a:pt x="18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7"/>
              <p:cNvSpPr/>
              <p:nvPr/>
            </p:nvSpPr>
            <p:spPr>
              <a:xfrm>
                <a:off x="4136760" y="5597280"/>
                <a:ext cx="824040" cy="456840"/>
              </a:xfrm>
              <a:custGeom>
                <a:avLst/>
                <a:gdLst>
                  <a:gd name="textAreaLeft" fmla="*/ 0 w 824040"/>
                  <a:gd name="textAreaRight" fmla="*/ 824400 w 824040"/>
                  <a:gd name="textAreaTop" fmla="*/ 0 h 456840"/>
                  <a:gd name="textAreaBottom" fmla="*/ 457200 h 456840"/>
                </a:gdLst>
                <a:ahLst/>
                <a:rect l="textAreaLeft" t="textAreaTop" r="textAreaRight" b="textAreaBottom"/>
                <a:pathLst>
                  <a:path w="1038" h="576">
                    <a:moveTo>
                      <a:pt x="0" y="125"/>
                    </a:moveTo>
                    <a:lnTo>
                      <a:pt x="323" y="576"/>
                    </a:lnTo>
                    <a:lnTo>
                      <a:pt x="1038" y="359"/>
                    </a:lnTo>
                    <a:lnTo>
                      <a:pt x="685" y="0"/>
                    </a:lnTo>
                    <a:lnTo>
                      <a:pt x="0" y="125"/>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68"/>
              <p:cNvSpPr/>
              <p:nvPr/>
            </p:nvSpPr>
            <p:spPr>
              <a:xfrm>
                <a:off x="4708440" y="5616000"/>
                <a:ext cx="984240" cy="390240"/>
              </a:xfrm>
              <a:custGeom>
                <a:avLst/>
                <a:gdLst>
                  <a:gd name="textAreaLeft" fmla="*/ 0 w 984240"/>
                  <a:gd name="textAreaRight" fmla="*/ 984600 w 984240"/>
                  <a:gd name="textAreaTop" fmla="*/ 0 h 390240"/>
                  <a:gd name="textAreaBottom" fmla="*/ 390600 h 390240"/>
                </a:gdLst>
                <a:ahLst/>
                <a:rect l="textAreaLeft" t="textAreaTop" r="textAreaRight" b="textAreaBottom"/>
                <a:pathLst>
                  <a:path w="1239" h="492">
                    <a:moveTo>
                      <a:pt x="0" y="54"/>
                    </a:moveTo>
                    <a:lnTo>
                      <a:pt x="862" y="0"/>
                    </a:lnTo>
                    <a:lnTo>
                      <a:pt x="1239" y="348"/>
                    </a:lnTo>
                    <a:lnTo>
                      <a:pt x="245" y="492"/>
                    </a:lnTo>
                    <a:lnTo>
                      <a:pt x="0" y="54"/>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69"/>
            <p:cNvGrpSpPr/>
            <p:nvPr/>
          </p:nvGrpSpPr>
          <p:grpSpPr>
            <a:xfrm>
              <a:off x="4927680" y="3733920"/>
              <a:ext cx="1923840" cy="1950480"/>
              <a:chOff x="4927680" y="3733920"/>
              <a:chExt cx="1923840" cy="1950480"/>
            </a:xfrm>
          </p:grpSpPr>
          <p:grpSp>
            <p:nvGrpSpPr>
              <p:cNvPr id="305" name="Group 70"/>
              <p:cNvGrpSpPr/>
              <p:nvPr/>
            </p:nvGrpSpPr>
            <p:grpSpPr>
              <a:xfrm>
                <a:off x="5176800" y="3733920"/>
                <a:ext cx="1674720" cy="1896480"/>
                <a:chOff x="5176800" y="3733920"/>
                <a:chExt cx="1674720" cy="1896480"/>
              </a:xfrm>
            </p:grpSpPr>
            <p:sp>
              <p:nvSpPr>
                <p:cNvPr id="306" name="Freeform 71"/>
                <p:cNvSpPr/>
                <p:nvPr/>
              </p:nvSpPr>
              <p:spPr>
                <a:xfrm>
                  <a:off x="5176800" y="4443120"/>
                  <a:ext cx="1674720" cy="1187280"/>
                </a:xfrm>
                <a:custGeom>
                  <a:avLst/>
                  <a:gdLst>
                    <a:gd name="textAreaLeft" fmla="*/ 0 w 1674720"/>
                    <a:gd name="textAreaRight" fmla="*/ 1675080 w 1674720"/>
                    <a:gd name="textAreaTop" fmla="*/ 0 h 1187280"/>
                    <a:gd name="textAreaBottom" fmla="*/ 1187640 h 1187280"/>
                  </a:gdLst>
                  <a:ahLst/>
                  <a:rect l="textAreaLeft" t="textAreaTop" r="textAreaRight" b="textAreaBottom"/>
                  <a:pathLst>
                    <a:path w="2110" h="1496">
                      <a:moveTo>
                        <a:pt x="1254" y="13"/>
                      </a:moveTo>
                      <a:lnTo>
                        <a:pt x="1362" y="0"/>
                      </a:lnTo>
                      <a:lnTo>
                        <a:pt x="1470" y="13"/>
                      </a:lnTo>
                      <a:lnTo>
                        <a:pt x="1523" y="37"/>
                      </a:lnTo>
                      <a:lnTo>
                        <a:pt x="1649" y="133"/>
                      </a:lnTo>
                      <a:lnTo>
                        <a:pt x="1727" y="211"/>
                      </a:lnTo>
                      <a:lnTo>
                        <a:pt x="1811" y="324"/>
                      </a:lnTo>
                      <a:lnTo>
                        <a:pt x="1883" y="438"/>
                      </a:lnTo>
                      <a:lnTo>
                        <a:pt x="1937" y="528"/>
                      </a:lnTo>
                      <a:lnTo>
                        <a:pt x="1961" y="575"/>
                      </a:lnTo>
                      <a:lnTo>
                        <a:pt x="1997" y="719"/>
                      </a:lnTo>
                      <a:lnTo>
                        <a:pt x="2044" y="940"/>
                      </a:lnTo>
                      <a:lnTo>
                        <a:pt x="2074" y="1095"/>
                      </a:lnTo>
                      <a:lnTo>
                        <a:pt x="2092" y="1299"/>
                      </a:lnTo>
                      <a:lnTo>
                        <a:pt x="2110" y="1466"/>
                      </a:lnTo>
                      <a:lnTo>
                        <a:pt x="1661" y="1472"/>
                      </a:lnTo>
                      <a:lnTo>
                        <a:pt x="1386" y="1490"/>
                      </a:lnTo>
                      <a:lnTo>
                        <a:pt x="1170" y="1496"/>
                      </a:lnTo>
                      <a:lnTo>
                        <a:pt x="563" y="1466"/>
                      </a:lnTo>
                      <a:lnTo>
                        <a:pt x="324" y="1454"/>
                      </a:lnTo>
                      <a:lnTo>
                        <a:pt x="126" y="1442"/>
                      </a:lnTo>
                      <a:lnTo>
                        <a:pt x="132" y="1376"/>
                      </a:lnTo>
                      <a:lnTo>
                        <a:pt x="108" y="1305"/>
                      </a:lnTo>
                      <a:lnTo>
                        <a:pt x="48" y="1257"/>
                      </a:lnTo>
                      <a:lnTo>
                        <a:pt x="0" y="1227"/>
                      </a:lnTo>
                      <a:lnTo>
                        <a:pt x="252" y="1137"/>
                      </a:lnTo>
                      <a:lnTo>
                        <a:pt x="461" y="1053"/>
                      </a:lnTo>
                      <a:lnTo>
                        <a:pt x="551" y="1012"/>
                      </a:lnTo>
                      <a:lnTo>
                        <a:pt x="629" y="976"/>
                      </a:lnTo>
                      <a:lnTo>
                        <a:pt x="683" y="898"/>
                      </a:lnTo>
                      <a:lnTo>
                        <a:pt x="695" y="868"/>
                      </a:lnTo>
                      <a:lnTo>
                        <a:pt x="701" y="802"/>
                      </a:lnTo>
                      <a:lnTo>
                        <a:pt x="707" y="761"/>
                      </a:lnTo>
                      <a:lnTo>
                        <a:pt x="731" y="683"/>
                      </a:lnTo>
                      <a:lnTo>
                        <a:pt x="743" y="647"/>
                      </a:lnTo>
                      <a:lnTo>
                        <a:pt x="749" y="587"/>
                      </a:lnTo>
                      <a:lnTo>
                        <a:pt x="761" y="498"/>
                      </a:lnTo>
                      <a:lnTo>
                        <a:pt x="791" y="444"/>
                      </a:lnTo>
                      <a:lnTo>
                        <a:pt x="791" y="384"/>
                      </a:lnTo>
                      <a:lnTo>
                        <a:pt x="941" y="211"/>
                      </a:lnTo>
                      <a:lnTo>
                        <a:pt x="971" y="241"/>
                      </a:lnTo>
                      <a:lnTo>
                        <a:pt x="1254" y="1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72"/>
                <p:cNvSpPr/>
                <p:nvPr/>
              </p:nvSpPr>
              <p:spPr>
                <a:xfrm>
                  <a:off x="6284880" y="4725720"/>
                  <a:ext cx="328680" cy="899640"/>
                </a:xfrm>
                <a:custGeom>
                  <a:avLst/>
                  <a:gdLst>
                    <a:gd name="textAreaLeft" fmla="*/ 0 w 328680"/>
                    <a:gd name="textAreaRight" fmla="*/ 329040 w 328680"/>
                    <a:gd name="textAreaTop" fmla="*/ 0 h 899640"/>
                    <a:gd name="textAreaBottom" fmla="*/ 900000 h 899640"/>
                  </a:gdLst>
                  <a:ahLst/>
                  <a:rect l="textAreaLeft" t="textAreaTop" r="textAreaRight" b="textAreaBottom"/>
                  <a:pathLst>
                    <a:path w="413" h="1136">
                      <a:moveTo>
                        <a:pt x="323" y="0"/>
                      </a:moveTo>
                      <a:lnTo>
                        <a:pt x="365" y="42"/>
                      </a:lnTo>
                      <a:lnTo>
                        <a:pt x="377" y="138"/>
                      </a:lnTo>
                      <a:lnTo>
                        <a:pt x="377" y="239"/>
                      </a:lnTo>
                      <a:lnTo>
                        <a:pt x="377" y="305"/>
                      </a:lnTo>
                      <a:lnTo>
                        <a:pt x="413" y="341"/>
                      </a:lnTo>
                      <a:lnTo>
                        <a:pt x="383" y="359"/>
                      </a:lnTo>
                      <a:lnTo>
                        <a:pt x="377" y="425"/>
                      </a:lnTo>
                      <a:lnTo>
                        <a:pt x="359" y="460"/>
                      </a:lnTo>
                      <a:lnTo>
                        <a:pt x="347" y="514"/>
                      </a:lnTo>
                      <a:lnTo>
                        <a:pt x="329" y="538"/>
                      </a:lnTo>
                      <a:lnTo>
                        <a:pt x="329" y="598"/>
                      </a:lnTo>
                      <a:lnTo>
                        <a:pt x="305" y="658"/>
                      </a:lnTo>
                      <a:lnTo>
                        <a:pt x="299" y="759"/>
                      </a:lnTo>
                      <a:lnTo>
                        <a:pt x="281" y="861"/>
                      </a:lnTo>
                      <a:lnTo>
                        <a:pt x="269" y="885"/>
                      </a:lnTo>
                      <a:lnTo>
                        <a:pt x="269" y="921"/>
                      </a:lnTo>
                      <a:lnTo>
                        <a:pt x="239" y="927"/>
                      </a:lnTo>
                      <a:lnTo>
                        <a:pt x="239" y="951"/>
                      </a:lnTo>
                      <a:lnTo>
                        <a:pt x="227" y="986"/>
                      </a:lnTo>
                      <a:lnTo>
                        <a:pt x="191" y="1028"/>
                      </a:lnTo>
                      <a:lnTo>
                        <a:pt x="155" y="1076"/>
                      </a:lnTo>
                      <a:lnTo>
                        <a:pt x="131" y="1136"/>
                      </a:lnTo>
                      <a:lnTo>
                        <a:pt x="30" y="1136"/>
                      </a:lnTo>
                      <a:lnTo>
                        <a:pt x="191" y="992"/>
                      </a:lnTo>
                      <a:lnTo>
                        <a:pt x="221" y="933"/>
                      </a:lnTo>
                      <a:lnTo>
                        <a:pt x="209" y="873"/>
                      </a:lnTo>
                      <a:lnTo>
                        <a:pt x="245" y="843"/>
                      </a:lnTo>
                      <a:lnTo>
                        <a:pt x="245" y="658"/>
                      </a:lnTo>
                      <a:lnTo>
                        <a:pt x="137" y="640"/>
                      </a:lnTo>
                      <a:lnTo>
                        <a:pt x="72" y="622"/>
                      </a:lnTo>
                      <a:lnTo>
                        <a:pt x="0" y="598"/>
                      </a:lnTo>
                      <a:lnTo>
                        <a:pt x="227" y="592"/>
                      </a:lnTo>
                      <a:lnTo>
                        <a:pt x="263" y="574"/>
                      </a:lnTo>
                      <a:lnTo>
                        <a:pt x="257" y="538"/>
                      </a:lnTo>
                      <a:lnTo>
                        <a:pt x="191" y="526"/>
                      </a:lnTo>
                      <a:lnTo>
                        <a:pt x="119" y="520"/>
                      </a:lnTo>
                      <a:lnTo>
                        <a:pt x="215" y="496"/>
                      </a:lnTo>
                      <a:lnTo>
                        <a:pt x="239" y="478"/>
                      </a:lnTo>
                      <a:lnTo>
                        <a:pt x="155" y="395"/>
                      </a:lnTo>
                      <a:lnTo>
                        <a:pt x="78" y="353"/>
                      </a:lnTo>
                      <a:lnTo>
                        <a:pt x="30" y="299"/>
                      </a:lnTo>
                      <a:lnTo>
                        <a:pt x="12" y="287"/>
                      </a:lnTo>
                      <a:lnTo>
                        <a:pt x="66" y="281"/>
                      </a:lnTo>
                      <a:lnTo>
                        <a:pt x="131" y="311"/>
                      </a:lnTo>
                      <a:lnTo>
                        <a:pt x="215" y="359"/>
                      </a:lnTo>
                      <a:lnTo>
                        <a:pt x="287" y="389"/>
                      </a:lnTo>
                      <a:lnTo>
                        <a:pt x="329" y="377"/>
                      </a:lnTo>
                      <a:lnTo>
                        <a:pt x="353" y="329"/>
                      </a:lnTo>
                      <a:lnTo>
                        <a:pt x="353" y="227"/>
                      </a:lnTo>
                      <a:lnTo>
                        <a:pt x="32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3"/>
                <p:cNvSpPr/>
                <p:nvPr/>
              </p:nvSpPr>
              <p:spPr>
                <a:xfrm>
                  <a:off x="5365800" y="4962240"/>
                  <a:ext cx="653760" cy="622080"/>
                </a:xfrm>
                <a:custGeom>
                  <a:avLst/>
                  <a:gdLst>
                    <a:gd name="textAreaLeft" fmla="*/ 0 w 653760"/>
                    <a:gd name="textAreaRight" fmla="*/ 654120 w 653760"/>
                    <a:gd name="textAreaTop" fmla="*/ 0 h 622080"/>
                    <a:gd name="textAreaBottom" fmla="*/ 622440 h 622080"/>
                  </a:gdLst>
                  <a:ahLst/>
                  <a:rect l="textAreaLeft" t="textAreaTop" r="textAreaRight" b="textAreaBottom"/>
                  <a:pathLst>
                    <a:path w="822" h="783">
                      <a:moveTo>
                        <a:pt x="0" y="783"/>
                      </a:moveTo>
                      <a:lnTo>
                        <a:pt x="515" y="604"/>
                      </a:lnTo>
                      <a:lnTo>
                        <a:pt x="557" y="568"/>
                      </a:lnTo>
                      <a:lnTo>
                        <a:pt x="599" y="508"/>
                      </a:lnTo>
                      <a:lnTo>
                        <a:pt x="605" y="448"/>
                      </a:lnTo>
                      <a:lnTo>
                        <a:pt x="611" y="275"/>
                      </a:lnTo>
                      <a:lnTo>
                        <a:pt x="629" y="395"/>
                      </a:lnTo>
                      <a:lnTo>
                        <a:pt x="665" y="424"/>
                      </a:lnTo>
                      <a:lnTo>
                        <a:pt x="689" y="329"/>
                      </a:lnTo>
                      <a:lnTo>
                        <a:pt x="713" y="239"/>
                      </a:lnTo>
                      <a:lnTo>
                        <a:pt x="798" y="0"/>
                      </a:lnTo>
                      <a:lnTo>
                        <a:pt x="744" y="203"/>
                      </a:lnTo>
                      <a:lnTo>
                        <a:pt x="713" y="329"/>
                      </a:lnTo>
                      <a:lnTo>
                        <a:pt x="695" y="424"/>
                      </a:lnTo>
                      <a:lnTo>
                        <a:pt x="665" y="484"/>
                      </a:lnTo>
                      <a:lnTo>
                        <a:pt x="629" y="532"/>
                      </a:lnTo>
                      <a:lnTo>
                        <a:pt x="671" y="568"/>
                      </a:lnTo>
                      <a:lnTo>
                        <a:pt x="725" y="562"/>
                      </a:lnTo>
                      <a:lnTo>
                        <a:pt x="822" y="478"/>
                      </a:lnTo>
                      <a:lnTo>
                        <a:pt x="695" y="628"/>
                      </a:lnTo>
                      <a:lnTo>
                        <a:pt x="563" y="657"/>
                      </a:lnTo>
                      <a:lnTo>
                        <a:pt x="413" y="687"/>
                      </a:lnTo>
                      <a:lnTo>
                        <a:pt x="269" y="717"/>
                      </a:lnTo>
                      <a:lnTo>
                        <a:pt x="108" y="753"/>
                      </a:lnTo>
                      <a:lnTo>
                        <a:pt x="0" y="78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74"/>
                <p:cNvSpPr/>
                <p:nvPr/>
              </p:nvSpPr>
              <p:spPr>
                <a:xfrm>
                  <a:off x="5946840" y="4535280"/>
                  <a:ext cx="509400" cy="1034640"/>
                </a:xfrm>
                <a:custGeom>
                  <a:avLst/>
                  <a:gdLst>
                    <a:gd name="textAreaLeft" fmla="*/ 0 w 509400"/>
                    <a:gd name="textAreaRight" fmla="*/ 509400 w 509400"/>
                    <a:gd name="textAreaTop" fmla="*/ 0 h 1034640"/>
                    <a:gd name="textAreaBottom" fmla="*/ 1035000 h 1034640"/>
                  </a:gdLst>
                  <a:ahLst/>
                  <a:rect l="textAreaLeft" t="textAreaTop" r="textAreaRight" b="textAreaBottom"/>
                  <a:pathLst>
                    <a:path w="642" h="1303">
                      <a:moveTo>
                        <a:pt x="642" y="12"/>
                      </a:moveTo>
                      <a:lnTo>
                        <a:pt x="511" y="0"/>
                      </a:lnTo>
                      <a:lnTo>
                        <a:pt x="439" y="12"/>
                      </a:lnTo>
                      <a:lnTo>
                        <a:pt x="319" y="132"/>
                      </a:lnTo>
                      <a:lnTo>
                        <a:pt x="205" y="275"/>
                      </a:lnTo>
                      <a:lnTo>
                        <a:pt x="139" y="556"/>
                      </a:lnTo>
                      <a:lnTo>
                        <a:pt x="115" y="634"/>
                      </a:lnTo>
                      <a:lnTo>
                        <a:pt x="91" y="861"/>
                      </a:lnTo>
                      <a:lnTo>
                        <a:pt x="79" y="1022"/>
                      </a:lnTo>
                      <a:lnTo>
                        <a:pt x="0" y="1124"/>
                      </a:lnTo>
                      <a:lnTo>
                        <a:pt x="175" y="1303"/>
                      </a:lnTo>
                      <a:lnTo>
                        <a:pt x="91" y="1172"/>
                      </a:lnTo>
                      <a:lnTo>
                        <a:pt x="109" y="1160"/>
                      </a:lnTo>
                      <a:lnTo>
                        <a:pt x="229" y="1225"/>
                      </a:lnTo>
                      <a:lnTo>
                        <a:pt x="373" y="1261"/>
                      </a:lnTo>
                      <a:lnTo>
                        <a:pt x="181" y="1184"/>
                      </a:lnTo>
                      <a:lnTo>
                        <a:pt x="109" y="1118"/>
                      </a:lnTo>
                      <a:lnTo>
                        <a:pt x="109" y="1052"/>
                      </a:lnTo>
                      <a:lnTo>
                        <a:pt x="229" y="1046"/>
                      </a:lnTo>
                      <a:lnTo>
                        <a:pt x="103" y="1016"/>
                      </a:lnTo>
                      <a:lnTo>
                        <a:pt x="115" y="861"/>
                      </a:lnTo>
                      <a:lnTo>
                        <a:pt x="145" y="604"/>
                      </a:lnTo>
                      <a:lnTo>
                        <a:pt x="241" y="281"/>
                      </a:lnTo>
                      <a:lnTo>
                        <a:pt x="307" y="179"/>
                      </a:lnTo>
                      <a:lnTo>
                        <a:pt x="439" y="48"/>
                      </a:lnTo>
                      <a:lnTo>
                        <a:pt x="511" y="30"/>
                      </a:lnTo>
                      <a:lnTo>
                        <a:pt x="642" y="1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Group 75"/>
                <p:cNvGrpSpPr/>
                <p:nvPr/>
              </p:nvGrpSpPr>
              <p:grpSpPr>
                <a:xfrm>
                  <a:off x="5521320" y="3733920"/>
                  <a:ext cx="833400" cy="1304280"/>
                  <a:chOff x="5521320" y="3733920"/>
                  <a:chExt cx="833400" cy="1304280"/>
                </a:xfrm>
              </p:grpSpPr>
              <p:sp>
                <p:nvSpPr>
                  <p:cNvPr id="311" name="Freeform 76"/>
                  <p:cNvSpPr/>
                  <p:nvPr/>
                </p:nvSpPr>
                <p:spPr>
                  <a:xfrm>
                    <a:off x="5877000" y="4437000"/>
                    <a:ext cx="299880" cy="308880"/>
                  </a:xfrm>
                  <a:custGeom>
                    <a:avLst/>
                    <a:gdLst>
                      <a:gd name="textAreaLeft" fmla="*/ 0 w 299880"/>
                      <a:gd name="textAreaRight" fmla="*/ 300240 w 299880"/>
                      <a:gd name="textAreaTop" fmla="*/ 0 h 308880"/>
                      <a:gd name="textAreaBottom" fmla="*/ 309240 h 308880"/>
                    </a:gdLst>
                    <a:ahLst/>
                    <a:rect l="textAreaLeft" t="textAreaTop" r="textAreaRight" b="textAreaBottom"/>
                    <a:pathLst>
                      <a:path w="379" h="388">
                        <a:moveTo>
                          <a:pt x="331" y="0"/>
                        </a:moveTo>
                        <a:lnTo>
                          <a:pt x="72" y="229"/>
                        </a:lnTo>
                        <a:lnTo>
                          <a:pt x="54" y="199"/>
                        </a:lnTo>
                        <a:lnTo>
                          <a:pt x="14" y="294"/>
                        </a:lnTo>
                        <a:lnTo>
                          <a:pt x="0" y="348"/>
                        </a:lnTo>
                        <a:lnTo>
                          <a:pt x="30" y="318"/>
                        </a:lnTo>
                        <a:lnTo>
                          <a:pt x="58" y="255"/>
                        </a:lnTo>
                        <a:lnTo>
                          <a:pt x="113" y="388"/>
                        </a:lnTo>
                        <a:lnTo>
                          <a:pt x="199" y="286"/>
                        </a:lnTo>
                        <a:lnTo>
                          <a:pt x="295" y="127"/>
                        </a:lnTo>
                        <a:lnTo>
                          <a:pt x="379" y="25"/>
                        </a:lnTo>
                        <a:lnTo>
                          <a:pt x="3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77"/>
                  <p:cNvSpPr/>
                  <p:nvPr/>
                </p:nvSpPr>
                <p:spPr>
                  <a:xfrm>
                    <a:off x="5873760" y="4640040"/>
                    <a:ext cx="85680" cy="385560"/>
                  </a:xfrm>
                  <a:custGeom>
                    <a:avLst/>
                    <a:gdLst>
                      <a:gd name="textAreaLeft" fmla="*/ 0 w 85680"/>
                      <a:gd name="textAreaRight" fmla="*/ 86040 w 85680"/>
                      <a:gd name="textAreaTop" fmla="*/ 0 h 385560"/>
                      <a:gd name="textAreaBottom" fmla="*/ 385920 h 385560"/>
                    </a:gdLst>
                    <a:ahLst/>
                    <a:rect l="textAreaLeft" t="textAreaTop" r="textAreaRight" b="textAreaBottom"/>
                    <a:pathLst>
                      <a:path w="107" h="486">
                        <a:moveTo>
                          <a:pt x="60" y="0"/>
                        </a:moveTo>
                        <a:lnTo>
                          <a:pt x="42" y="22"/>
                        </a:lnTo>
                        <a:lnTo>
                          <a:pt x="30" y="39"/>
                        </a:lnTo>
                        <a:lnTo>
                          <a:pt x="20" y="63"/>
                        </a:lnTo>
                        <a:lnTo>
                          <a:pt x="10" y="101"/>
                        </a:lnTo>
                        <a:lnTo>
                          <a:pt x="6" y="141"/>
                        </a:lnTo>
                        <a:lnTo>
                          <a:pt x="10" y="179"/>
                        </a:lnTo>
                        <a:lnTo>
                          <a:pt x="16" y="219"/>
                        </a:lnTo>
                        <a:lnTo>
                          <a:pt x="22" y="241"/>
                        </a:lnTo>
                        <a:lnTo>
                          <a:pt x="2" y="330"/>
                        </a:lnTo>
                        <a:lnTo>
                          <a:pt x="0" y="370"/>
                        </a:lnTo>
                        <a:lnTo>
                          <a:pt x="0" y="420"/>
                        </a:lnTo>
                        <a:lnTo>
                          <a:pt x="6" y="486"/>
                        </a:lnTo>
                        <a:lnTo>
                          <a:pt x="40" y="336"/>
                        </a:lnTo>
                        <a:lnTo>
                          <a:pt x="58" y="237"/>
                        </a:lnTo>
                        <a:lnTo>
                          <a:pt x="107" y="111"/>
                        </a:lnTo>
                        <a:lnTo>
                          <a:pt x="6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78"/>
                  <p:cNvSpPr/>
                  <p:nvPr/>
                </p:nvSpPr>
                <p:spPr>
                  <a:xfrm>
                    <a:off x="5877000" y="4641480"/>
                    <a:ext cx="80640" cy="203040"/>
                  </a:xfrm>
                  <a:custGeom>
                    <a:avLst/>
                    <a:gdLst>
                      <a:gd name="textAreaLeft" fmla="*/ 0 w 80640"/>
                      <a:gd name="textAreaRight" fmla="*/ 81000 w 80640"/>
                      <a:gd name="textAreaTop" fmla="*/ 0 h 203040"/>
                      <a:gd name="textAreaBottom" fmla="*/ 203400 h 203040"/>
                    </a:gdLst>
                    <a:ahLst/>
                    <a:rect l="textAreaLeft" t="textAreaTop" r="textAreaRight" b="textAreaBottom"/>
                    <a:pathLst>
                      <a:path w="101" h="257">
                        <a:moveTo>
                          <a:pt x="54" y="0"/>
                        </a:moveTo>
                        <a:lnTo>
                          <a:pt x="36" y="22"/>
                        </a:lnTo>
                        <a:lnTo>
                          <a:pt x="24" y="39"/>
                        </a:lnTo>
                        <a:lnTo>
                          <a:pt x="14" y="63"/>
                        </a:lnTo>
                        <a:lnTo>
                          <a:pt x="4" y="101"/>
                        </a:lnTo>
                        <a:lnTo>
                          <a:pt x="0" y="141"/>
                        </a:lnTo>
                        <a:lnTo>
                          <a:pt x="4" y="179"/>
                        </a:lnTo>
                        <a:lnTo>
                          <a:pt x="10" y="219"/>
                        </a:lnTo>
                        <a:lnTo>
                          <a:pt x="16" y="241"/>
                        </a:lnTo>
                        <a:lnTo>
                          <a:pt x="44" y="257"/>
                        </a:lnTo>
                        <a:lnTo>
                          <a:pt x="52" y="231"/>
                        </a:lnTo>
                        <a:lnTo>
                          <a:pt x="101" y="111"/>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79"/>
                  <p:cNvGrpSpPr/>
                  <p:nvPr/>
                </p:nvGrpSpPr>
                <p:grpSpPr>
                  <a:xfrm>
                    <a:off x="5521320" y="3733920"/>
                    <a:ext cx="833400" cy="906120"/>
                    <a:chOff x="5521320" y="3733920"/>
                    <a:chExt cx="833400" cy="906120"/>
                  </a:xfrm>
                </p:grpSpPr>
                <p:grpSp>
                  <p:nvGrpSpPr>
                    <p:cNvPr id="315" name="Group 80"/>
                    <p:cNvGrpSpPr/>
                    <p:nvPr/>
                  </p:nvGrpSpPr>
                  <p:grpSpPr>
                    <a:xfrm>
                      <a:off x="5610240" y="3833640"/>
                      <a:ext cx="615960" cy="804600"/>
                      <a:chOff x="5610240" y="3833640"/>
                      <a:chExt cx="615960" cy="804600"/>
                    </a:xfrm>
                  </p:grpSpPr>
                  <p:sp>
                    <p:nvSpPr>
                      <p:cNvPr id="316" name="Freeform 81"/>
                      <p:cNvSpPr/>
                      <p:nvPr/>
                    </p:nvSpPr>
                    <p:spPr>
                      <a:xfrm>
                        <a:off x="5610240" y="3833640"/>
                        <a:ext cx="615960" cy="804600"/>
                      </a:xfrm>
                      <a:custGeom>
                        <a:avLst/>
                        <a:gdLst>
                          <a:gd name="textAreaLeft" fmla="*/ 0 w 615960"/>
                          <a:gd name="textAreaRight" fmla="*/ 616320 w 615960"/>
                          <a:gd name="textAreaTop" fmla="*/ 0 h 804600"/>
                          <a:gd name="textAreaBottom" fmla="*/ 804960 h 804600"/>
                        </a:gdLst>
                        <a:ahLst/>
                        <a:rect l="textAreaLeft" t="textAreaTop" r="textAreaRight" b="textAreaBottom"/>
                        <a:pathLst>
                          <a:path w="777" h="1014">
                            <a:moveTo>
                              <a:pt x="242" y="29"/>
                            </a:moveTo>
                            <a:lnTo>
                              <a:pt x="186" y="61"/>
                            </a:lnTo>
                            <a:lnTo>
                              <a:pt x="134" y="95"/>
                            </a:lnTo>
                            <a:lnTo>
                              <a:pt x="96" y="127"/>
                            </a:lnTo>
                            <a:lnTo>
                              <a:pt x="60" y="161"/>
                            </a:lnTo>
                            <a:lnTo>
                              <a:pt x="32" y="197"/>
                            </a:lnTo>
                            <a:lnTo>
                              <a:pt x="14" y="235"/>
                            </a:lnTo>
                            <a:lnTo>
                              <a:pt x="8" y="274"/>
                            </a:lnTo>
                            <a:lnTo>
                              <a:pt x="2" y="318"/>
                            </a:lnTo>
                            <a:lnTo>
                              <a:pt x="0" y="372"/>
                            </a:lnTo>
                            <a:lnTo>
                              <a:pt x="6" y="420"/>
                            </a:lnTo>
                            <a:lnTo>
                              <a:pt x="0" y="486"/>
                            </a:lnTo>
                            <a:lnTo>
                              <a:pt x="26" y="504"/>
                            </a:lnTo>
                            <a:lnTo>
                              <a:pt x="48" y="522"/>
                            </a:lnTo>
                            <a:lnTo>
                              <a:pt x="50" y="537"/>
                            </a:lnTo>
                            <a:lnTo>
                              <a:pt x="50" y="563"/>
                            </a:lnTo>
                            <a:lnTo>
                              <a:pt x="42" y="593"/>
                            </a:lnTo>
                            <a:lnTo>
                              <a:pt x="18" y="675"/>
                            </a:lnTo>
                            <a:lnTo>
                              <a:pt x="18" y="711"/>
                            </a:lnTo>
                            <a:lnTo>
                              <a:pt x="38" y="719"/>
                            </a:lnTo>
                            <a:lnTo>
                              <a:pt x="68" y="719"/>
                            </a:lnTo>
                            <a:lnTo>
                              <a:pt x="90" y="719"/>
                            </a:lnTo>
                            <a:lnTo>
                              <a:pt x="126" y="816"/>
                            </a:lnTo>
                            <a:lnTo>
                              <a:pt x="128" y="852"/>
                            </a:lnTo>
                            <a:lnTo>
                              <a:pt x="140" y="868"/>
                            </a:lnTo>
                            <a:lnTo>
                              <a:pt x="156" y="874"/>
                            </a:lnTo>
                            <a:lnTo>
                              <a:pt x="158" y="894"/>
                            </a:lnTo>
                            <a:lnTo>
                              <a:pt x="156" y="922"/>
                            </a:lnTo>
                            <a:lnTo>
                              <a:pt x="170" y="966"/>
                            </a:lnTo>
                            <a:lnTo>
                              <a:pt x="188" y="994"/>
                            </a:lnTo>
                            <a:lnTo>
                              <a:pt x="206" y="1006"/>
                            </a:lnTo>
                            <a:lnTo>
                              <a:pt x="248" y="1014"/>
                            </a:lnTo>
                            <a:lnTo>
                              <a:pt x="282" y="1012"/>
                            </a:lnTo>
                            <a:lnTo>
                              <a:pt x="330" y="990"/>
                            </a:lnTo>
                            <a:lnTo>
                              <a:pt x="386" y="958"/>
                            </a:lnTo>
                            <a:lnTo>
                              <a:pt x="410" y="988"/>
                            </a:lnTo>
                            <a:lnTo>
                              <a:pt x="747" y="717"/>
                            </a:lnTo>
                            <a:lnTo>
                              <a:pt x="727" y="671"/>
                            </a:lnTo>
                            <a:lnTo>
                              <a:pt x="747" y="609"/>
                            </a:lnTo>
                            <a:lnTo>
                              <a:pt x="769" y="527"/>
                            </a:lnTo>
                            <a:lnTo>
                              <a:pt x="777" y="424"/>
                            </a:lnTo>
                            <a:lnTo>
                              <a:pt x="775" y="346"/>
                            </a:lnTo>
                            <a:lnTo>
                              <a:pt x="753" y="217"/>
                            </a:lnTo>
                            <a:lnTo>
                              <a:pt x="721" y="101"/>
                            </a:lnTo>
                            <a:lnTo>
                              <a:pt x="685" y="17"/>
                            </a:lnTo>
                            <a:lnTo>
                              <a:pt x="549" y="0"/>
                            </a:lnTo>
                            <a:lnTo>
                              <a:pt x="342" y="2"/>
                            </a:lnTo>
                            <a:lnTo>
                              <a:pt x="242" y="29"/>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82"/>
                      <p:cNvGrpSpPr/>
                      <p:nvPr/>
                    </p:nvGrpSpPr>
                    <p:grpSpPr>
                      <a:xfrm>
                        <a:off x="5856120" y="4239720"/>
                        <a:ext cx="104760" cy="188280"/>
                        <a:chOff x="5856120" y="4239720"/>
                        <a:chExt cx="104760" cy="188280"/>
                      </a:xfrm>
                    </p:grpSpPr>
                    <p:sp>
                      <p:nvSpPr>
                        <p:cNvPr id="318" name="Freeform 83"/>
                        <p:cNvSpPr/>
                        <p:nvPr/>
                      </p:nvSpPr>
                      <p:spPr>
                        <a:xfrm>
                          <a:off x="5856120" y="4239720"/>
                          <a:ext cx="79560" cy="118800"/>
                        </a:xfrm>
                        <a:custGeom>
                          <a:avLst/>
                          <a:gdLst>
                            <a:gd name="textAreaLeft" fmla="*/ 0 w 79560"/>
                            <a:gd name="textAreaRight" fmla="*/ 79920 w 79560"/>
                            <a:gd name="textAreaTop" fmla="*/ 0 h 118800"/>
                            <a:gd name="textAreaBottom" fmla="*/ 119160 h 118800"/>
                          </a:gdLst>
                          <a:ahLst/>
                          <a:rect l="textAreaLeft" t="textAreaTop" r="textAreaRight" b="textAreaBottom"/>
                          <a:pathLst>
                            <a:path w="100" h="151">
                              <a:moveTo>
                                <a:pt x="0" y="63"/>
                              </a:moveTo>
                              <a:lnTo>
                                <a:pt x="10" y="31"/>
                              </a:lnTo>
                              <a:lnTo>
                                <a:pt x="18" y="10"/>
                              </a:lnTo>
                              <a:lnTo>
                                <a:pt x="26" y="4"/>
                              </a:lnTo>
                              <a:lnTo>
                                <a:pt x="40" y="0"/>
                              </a:lnTo>
                              <a:lnTo>
                                <a:pt x="56" y="0"/>
                              </a:lnTo>
                              <a:lnTo>
                                <a:pt x="72" y="4"/>
                              </a:lnTo>
                              <a:lnTo>
                                <a:pt x="84" y="11"/>
                              </a:lnTo>
                              <a:lnTo>
                                <a:pt x="92" y="27"/>
                              </a:lnTo>
                              <a:lnTo>
                                <a:pt x="98" y="53"/>
                              </a:lnTo>
                              <a:lnTo>
                                <a:pt x="100" y="75"/>
                              </a:lnTo>
                              <a:lnTo>
                                <a:pt x="96" y="105"/>
                              </a:lnTo>
                              <a:lnTo>
                                <a:pt x="90" y="133"/>
                              </a:lnTo>
                              <a:lnTo>
                                <a:pt x="78" y="151"/>
                              </a:lnTo>
                              <a:lnTo>
                                <a:pt x="72" y="129"/>
                              </a:lnTo>
                              <a:lnTo>
                                <a:pt x="84" y="109"/>
                              </a:lnTo>
                              <a:lnTo>
                                <a:pt x="76" y="83"/>
                              </a:lnTo>
                              <a:lnTo>
                                <a:pt x="66" y="93"/>
                              </a:lnTo>
                              <a:lnTo>
                                <a:pt x="44" y="103"/>
                              </a:lnTo>
                              <a:lnTo>
                                <a:pt x="36" y="81"/>
                              </a:lnTo>
                              <a:lnTo>
                                <a:pt x="54" y="73"/>
                              </a:lnTo>
                              <a:lnTo>
                                <a:pt x="72" y="69"/>
                              </a:lnTo>
                              <a:lnTo>
                                <a:pt x="72" y="55"/>
                              </a:lnTo>
                              <a:lnTo>
                                <a:pt x="70" y="37"/>
                              </a:lnTo>
                              <a:lnTo>
                                <a:pt x="80" y="39"/>
                              </a:lnTo>
                              <a:lnTo>
                                <a:pt x="78" y="17"/>
                              </a:lnTo>
                              <a:lnTo>
                                <a:pt x="74" y="11"/>
                              </a:lnTo>
                              <a:lnTo>
                                <a:pt x="58" y="10"/>
                              </a:lnTo>
                              <a:lnTo>
                                <a:pt x="30" y="11"/>
                              </a:lnTo>
                              <a:lnTo>
                                <a:pt x="16" y="33"/>
                              </a:lnTo>
                              <a:lnTo>
                                <a:pt x="0" y="63"/>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84"/>
                        <p:cNvSpPr/>
                        <p:nvPr/>
                      </p:nvSpPr>
                      <p:spPr>
                        <a:xfrm>
                          <a:off x="5889600" y="4361400"/>
                          <a:ext cx="71280" cy="66600"/>
                        </a:xfrm>
                        <a:custGeom>
                          <a:avLst/>
                          <a:gdLst>
                            <a:gd name="textAreaLeft" fmla="*/ 0 w 71280"/>
                            <a:gd name="textAreaRight" fmla="*/ 71640 w 71280"/>
                            <a:gd name="textAreaTop" fmla="*/ 0 h 66600"/>
                            <a:gd name="textAreaBottom" fmla="*/ 66960 h 66600"/>
                          </a:gdLst>
                          <a:ahLst/>
                          <a:rect l="textAreaLeft" t="textAreaTop" r="textAreaRight" b="textAreaBottom"/>
                          <a:pathLst>
                            <a:path w="89" h="84">
                              <a:moveTo>
                                <a:pt x="66" y="0"/>
                              </a:moveTo>
                              <a:lnTo>
                                <a:pt x="54" y="28"/>
                              </a:lnTo>
                              <a:lnTo>
                                <a:pt x="48" y="42"/>
                              </a:lnTo>
                              <a:lnTo>
                                <a:pt x="36" y="52"/>
                              </a:lnTo>
                              <a:lnTo>
                                <a:pt x="20" y="54"/>
                              </a:lnTo>
                              <a:lnTo>
                                <a:pt x="0" y="54"/>
                              </a:lnTo>
                              <a:lnTo>
                                <a:pt x="44" y="60"/>
                              </a:lnTo>
                              <a:lnTo>
                                <a:pt x="70" y="72"/>
                              </a:lnTo>
                              <a:lnTo>
                                <a:pt x="89" y="84"/>
                              </a:lnTo>
                              <a:lnTo>
                                <a:pt x="72" y="56"/>
                              </a:lnTo>
                              <a:lnTo>
                                <a:pt x="68" y="28"/>
                              </a:lnTo>
                              <a:lnTo>
                                <a:pt x="66" y="0"/>
                              </a:lnTo>
                              <a:close/>
                            </a:path>
                          </a:pathLst>
                        </a:custGeom>
                        <a:solidFill>
                          <a:srgbClr val="df9f7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320" name="Freeform 85"/>
                      <p:cNvSpPr/>
                      <p:nvPr/>
                    </p:nvSpPr>
                    <p:spPr>
                      <a:xfrm>
                        <a:off x="5713200" y="4350600"/>
                        <a:ext cx="60480" cy="90360"/>
                      </a:xfrm>
                      <a:custGeom>
                        <a:avLst/>
                        <a:gdLst>
                          <a:gd name="textAreaLeft" fmla="*/ 0 w 60480"/>
                          <a:gd name="textAreaRight" fmla="*/ 60840 w 60480"/>
                          <a:gd name="textAreaTop" fmla="*/ 0 h 90360"/>
                          <a:gd name="textAreaBottom" fmla="*/ 90720 h 90360"/>
                        </a:gdLst>
                        <a:ahLst/>
                        <a:rect l="textAreaLeft" t="textAreaTop" r="textAreaRight" b="textAreaBottom"/>
                        <a:pathLst>
                          <a:path w="76" h="114">
                            <a:moveTo>
                              <a:pt x="12" y="0"/>
                            </a:moveTo>
                            <a:lnTo>
                              <a:pt x="22" y="10"/>
                            </a:lnTo>
                            <a:lnTo>
                              <a:pt x="24" y="22"/>
                            </a:lnTo>
                            <a:lnTo>
                              <a:pt x="20" y="32"/>
                            </a:lnTo>
                            <a:lnTo>
                              <a:pt x="12" y="42"/>
                            </a:lnTo>
                            <a:lnTo>
                              <a:pt x="0" y="52"/>
                            </a:lnTo>
                            <a:lnTo>
                              <a:pt x="10" y="60"/>
                            </a:lnTo>
                            <a:lnTo>
                              <a:pt x="28" y="64"/>
                            </a:lnTo>
                            <a:lnTo>
                              <a:pt x="44" y="74"/>
                            </a:lnTo>
                            <a:lnTo>
                              <a:pt x="76" y="114"/>
                            </a:lnTo>
                            <a:lnTo>
                              <a:pt x="36" y="50"/>
                            </a:lnTo>
                            <a:lnTo>
                              <a:pt x="30" y="36"/>
                            </a:lnTo>
                            <a:lnTo>
                              <a:pt x="30" y="20"/>
                            </a:lnTo>
                            <a:lnTo>
                              <a:pt x="34" y="12"/>
                            </a:lnTo>
                            <a:lnTo>
                              <a:pt x="12" y="0"/>
                            </a:lnTo>
                            <a:close/>
                          </a:path>
                        </a:pathLst>
                      </a:custGeom>
                      <a:solidFill>
                        <a:srgbClr val="df9f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321" name="Group 86"/>
                    <p:cNvGrpSpPr/>
                    <p:nvPr/>
                  </p:nvGrpSpPr>
                  <p:grpSpPr>
                    <a:xfrm>
                      <a:off x="5521320" y="3733920"/>
                      <a:ext cx="833400" cy="906120"/>
                      <a:chOff x="5521320" y="3733920"/>
                      <a:chExt cx="833400" cy="906120"/>
                    </a:xfrm>
                  </p:grpSpPr>
                  <p:sp>
                    <p:nvSpPr>
                      <p:cNvPr id="322" name="Freeform 87"/>
                      <p:cNvSpPr/>
                      <p:nvPr/>
                    </p:nvSpPr>
                    <p:spPr>
                      <a:xfrm>
                        <a:off x="5521320" y="3733920"/>
                        <a:ext cx="833400" cy="906120"/>
                      </a:xfrm>
                      <a:custGeom>
                        <a:avLst/>
                        <a:gdLst>
                          <a:gd name="textAreaLeft" fmla="*/ 0 w 833400"/>
                          <a:gd name="textAreaRight" fmla="*/ 833760 w 833400"/>
                          <a:gd name="textAreaTop" fmla="*/ 0 h 906120"/>
                          <a:gd name="textAreaBottom" fmla="*/ 906480 h 906120"/>
                        </a:gdLst>
                        <a:ahLst/>
                        <a:rect l="textAreaLeft" t="textAreaTop" r="textAreaRight" b="textAreaBottom"/>
                        <a:pathLst>
                          <a:path w="1050" h="1142">
                            <a:moveTo>
                              <a:pt x="503" y="0"/>
                            </a:moveTo>
                            <a:lnTo>
                              <a:pt x="455" y="2"/>
                            </a:lnTo>
                            <a:lnTo>
                              <a:pt x="419" y="8"/>
                            </a:lnTo>
                            <a:lnTo>
                              <a:pt x="379" y="18"/>
                            </a:lnTo>
                            <a:lnTo>
                              <a:pt x="333" y="34"/>
                            </a:lnTo>
                            <a:lnTo>
                              <a:pt x="295" y="50"/>
                            </a:lnTo>
                            <a:lnTo>
                              <a:pt x="251" y="88"/>
                            </a:lnTo>
                            <a:lnTo>
                              <a:pt x="211" y="126"/>
                            </a:lnTo>
                            <a:lnTo>
                              <a:pt x="173" y="167"/>
                            </a:lnTo>
                            <a:lnTo>
                              <a:pt x="89" y="221"/>
                            </a:lnTo>
                            <a:lnTo>
                              <a:pt x="59" y="241"/>
                            </a:lnTo>
                            <a:lnTo>
                              <a:pt x="37" y="263"/>
                            </a:lnTo>
                            <a:lnTo>
                              <a:pt x="24" y="283"/>
                            </a:lnTo>
                            <a:lnTo>
                              <a:pt x="8" y="307"/>
                            </a:lnTo>
                            <a:lnTo>
                              <a:pt x="2" y="331"/>
                            </a:lnTo>
                            <a:lnTo>
                              <a:pt x="0" y="357"/>
                            </a:lnTo>
                            <a:lnTo>
                              <a:pt x="0" y="383"/>
                            </a:lnTo>
                            <a:lnTo>
                              <a:pt x="6" y="412"/>
                            </a:lnTo>
                            <a:lnTo>
                              <a:pt x="22" y="446"/>
                            </a:lnTo>
                            <a:lnTo>
                              <a:pt x="35" y="464"/>
                            </a:lnTo>
                            <a:lnTo>
                              <a:pt x="53" y="478"/>
                            </a:lnTo>
                            <a:lnTo>
                              <a:pt x="79" y="486"/>
                            </a:lnTo>
                            <a:lnTo>
                              <a:pt x="107" y="492"/>
                            </a:lnTo>
                            <a:lnTo>
                              <a:pt x="147" y="500"/>
                            </a:lnTo>
                            <a:lnTo>
                              <a:pt x="123" y="468"/>
                            </a:lnTo>
                            <a:lnTo>
                              <a:pt x="115" y="438"/>
                            </a:lnTo>
                            <a:lnTo>
                              <a:pt x="117" y="402"/>
                            </a:lnTo>
                            <a:lnTo>
                              <a:pt x="125" y="367"/>
                            </a:lnTo>
                            <a:lnTo>
                              <a:pt x="137" y="345"/>
                            </a:lnTo>
                            <a:lnTo>
                              <a:pt x="153" y="321"/>
                            </a:lnTo>
                            <a:lnTo>
                              <a:pt x="173" y="301"/>
                            </a:lnTo>
                            <a:lnTo>
                              <a:pt x="197" y="283"/>
                            </a:lnTo>
                            <a:lnTo>
                              <a:pt x="227" y="267"/>
                            </a:lnTo>
                            <a:lnTo>
                              <a:pt x="323" y="237"/>
                            </a:lnTo>
                            <a:lnTo>
                              <a:pt x="305" y="257"/>
                            </a:lnTo>
                            <a:lnTo>
                              <a:pt x="291" y="269"/>
                            </a:lnTo>
                            <a:lnTo>
                              <a:pt x="271" y="277"/>
                            </a:lnTo>
                            <a:lnTo>
                              <a:pt x="241" y="287"/>
                            </a:lnTo>
                            <a:lnTo>
                              <a:pt x="221" y="293"/>
                            </a:lnTo>
                            <a:lnTo>
                              <a:pt x="199" y="307"/>
                            </a:lnTo>
                            <a:lnTo>
                              <a:pt x="189" y="325"/>
                            </a:lnTo>
                            <a:lnTo>
                              <a:pt x="181" y="343"/>
                            </a:lnTo>
                            <a:lnTo>
                              <a:pt x="177" y="363"/>
                            </a:lnTo>
                            <a:lnTo>
                              <a:pt x="177" y="385"/>
                            </a:lnTo>
                            <a:lnTo>
                              <a:pt x="185" y="408"/>
                            </a:lnTo>
                            <a:lnTo>
                              <a:pt x="191" y="444"/>
                            </a:lnTo>
                            <a:lnTo>
                              <a:pt x="207" y="476"/>
                            </a:lnTo>
                            <a:lnTo>
                              <a:pt x="231" y="528"/>
                            </a:lnTo>
                            <a:lnTo>
                              <a:pt x="273" y="630"/>
                            </a:lnTo>
                            <a:lnTo>
                              <a:pt x="303" y="685"/>
                            </a:lnTo>
                            <a:lnTo>
                              <a:pt x="337" y="699"/>
                            </a:lnTo>
                            <a:lnTo>
                              <a:pt x="345" y="749"/>
                            </a:lnTo>
                            <a:lnTo>
                              <a:pt x="351" y="875"/>
                            </a:lnTo>
                            <a:lnTo>
                              <a:pt x="357" y="910"/>
                            </a:lnTo>
                            <a:lnTo>
                              <a:pt x="361" y="940"/>
                            </a:lnTo>
                            <a:lnTo>
                              <a:pt x="361" y="960"/>
                            </a:lnTo>
                            <a:lnTo>
                              <a:pt x="343" y="982"/>
                            </a:lnTo>
                            <a:lnTo>
                              <a:pt x="321" y="996"/>
                            </a:lnTo>
                            <a:lnTo>
                              <a:pt x="293" y="1012"/>
                            </a:lnTo>
                            <a:lnTo>
                              <a:pt x="271" y="1030"/>
                            </a:lnTo>
                            <a:lnTo>
                              <a:pt x="267" y="1042"/>
                            </a:lnTo>
                            <a:lnTo>
                              <a:pt x="267" y="1060"/>
                            </a:lnTo>
                            <a:lnTo>
                              <a:pt x="271" y="1074"/>
                            </a:lnTo>
                            <a:lnTo>
                              <a:pt x="277" y="1086"/>
                            </a:lnTo>
                            <a:lnTo>
                              <a:pt x="283" y="1102"/>
                            </a:lnTo>
                            <a:lnTo>
                              <a:pt x="297" y="1120"/>
                            </a:lnTo>
                            <a:lnTo>
                              <a:pt x="311" y="1130"/>
                            </a:lnTo>
                            <a:lnTo>
                              <a:pt x="327" y="1136"/>
                            </a:lnTo>
                            <a:lnTo>
                              <a:pt x="345" y="1140"/>
                            </a:lnTo>
                            <a:lnTo>
                              <a:pt x="369" y="1142"/>
                            </a:lnTo>
                            <a:lnTo>
                              <a:pt x="387" y="1140"/>
                            </a:lnTo>
                            <a:lnTo>
                              <a:pt x="409" y="1134"/>
                            </a:lnTo>
                            <a:lnTo>
                              <a:pt x="427" y="1128"/>
                            </a:lnTo>
                            <a:lnTo>
                              <a:pt x="447" y="1116"/>
                            </a:lnTo>
                            <a:lnTo>
                              <a:pt x="471" y="1100"/>
                            </a:lnTo>
                            <a:lnTo>
                              <a:pt x="485" y="1090"/>
                            </a:lnTo>
                            <a:lnTo>
                              <a:pt x="483" y="1040"/>
                            </a:lnTo>
                            <a:lnTo>
                              <a:pt x="467" y="873"/>
                            </a:lnTo>
                            <a:lnTo>
                              <a:pt x="415" y="777"/>
                            </a:lnTo>
                            <a:lnTo>
                              <a:pt x="401" y="737"/>
                            </a:lnTo>
                            <a:lnTo>
                              <a:pt x="393" y="697"/>
                            </a:lnTo>
                            <a:lnTo>
                              <a:pt x="403" y="675"/>
                            </a:lnTo>
                            <a:lnTo>
                              <a:pt x="415" y="649"/>
                            </a:lnTo>
                            <a:lnTo>
                              <a:pt x="431" y="634"/>
                            </a:lnTo>
                            <a:lnTo>
                              <a:pt x="455" y="624"/>
                            </a:lnTo>
                            <a:lnTo>
                              <a:pt x="477" y="626"/>
                            </a:lnTo>
                            <a:lnTo>
                              <a:pt x="503" y="634"/>
                            </a:lnTo>
                            <a:lnTo>
                              <a:pt x="529" y="653"/>
                            </a:lnTo>
                            <a:lnTo>
                              <a:pt x="539" y="671"/>
                            </a:lnTo>
                            <a:lnTo>
                              <a:pt x="547" y="701"/>
                            </a:lnTo>
                            <a:lnTo>
                              <a:pt x="548" y="729"/>
                            </a:lnTo>
                            <a:lnTo>
                              <a:pt x="543" y="757"/>
                            </a:lnTo>
                            <a:lnTo>
                              <a:pt x="537" y="781"/>
                            </a:lnTo>
                            <a:lnTo>
                              <a:pt x="537" y="799"/>
                            </a:lnTo>
                            <a:lnTo>
                              <a:pt x="548" y="815"/>
                            </a:lnTo>
                            <a:lnTo>
                              <a:pt x="744" y="948"/>
                            </a:lnTo>
                            <a:lnTo>
                              <a:pt x="818" y="940"/>
                            </a:lnTo>
                            <a:lnTo>
                              <a:pt x="904" y="934"/>
                            </a:lnTo>
                            <a:lnTo>
                              <a:pt x="980" y="914"/>
                            </a:lnTo>
                            <a:lnTo>
                              <a:pt x="1012" y="883"/>
                            </a:lnTo>
                            <a:lnTo>
                              <a:pt x="1030" y="865"/>
                            </a:lnTo>
                            <a:lnTo>
                              <a:pt x="1038" y="835"/>
                            </a:lnTo>
                            <a:lnTo>
                              <a:pt x="1044" y="801"/>
                            </a:lnTo>
                            <a:lnTo>
                              <a:pt x="1050" y="743"/>
                            </a:lnTo>
                            <a:lnTo>
                              <a:pt x="1032" y="705"/>
                            </a:lnTo>
                            <a:lnTo>
                              <a:pt x="1024" y="610"/>
                            </a:lnTo>
                            <a:lnTo>
                              <a:pt x="994" y="478"/>
                            </a:lnTo>
                            <a:lnTo>
                              <a:pt x="970" y="377"/>
                            </a:lnTo>
                            <a:lnTo>
                              <a:pt x="922" y="277"/>
                            </a:lnTo>
                            <a:lnTo>
                              <a:pt x="880" y="191"/>
                            </a:lnTo>
                            <a:lnTo>
                              <a:pt x="856" y="149"/>
                            </a:lnTo>
                            <a:lnTo>
                              <a:pt x="820" y="100"/>
                            </a:lnTo>
                            <a:lnTo>
                              <a:pt x="790" y="74"/>
                            </a:lnTo>
                            <a:lnTo>
                              <a:pt x="728" y="42"/>
                            </a:lnTo>
                            <a:lnTo>
                              <a:pt x="674" y="18"/>
                            </a:lnTo>
                            <a:lnTo>
                              <a:pt x="614" y="4"/>
                            </a:lnTo>
                            <a:lnTo>
                              <a:pt x="556" y="0"/>
                            </a:lnTo>
                            <a:lnTo>
                              <a:pt x="503"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88"/>
                      <p:cNvSpPr/>
                      <p:nvPr/>
                    </p:nvSpPr>
                    <p:spPr>
                      <a:xfrm>
                        <a:off x="5607000" y="4194000"/>
                        <a:ext cx="71280" cy="50400"/>
                      </a:xfrm>
                      <a:custGeom>
                        <a:avLst/>
                        <a:gdLst>
                          <a:gd name="textAreaLeft" fmla="*/ 0 w 71280"/>
                          <a:gd name="textAreaRight" fmla="*/ 71640 w 71280"/>
                          <a:gd name="textAreaTop" fmla="*/ 0 h 50400"/>
                          <a:gd name="textAreaBottom" fmla="*/ 50760 h 50400"/>
                        </a:gdLst>
                        <a:ahLst/>
                        <a:rect l="textAreaLeft" t="textAreaTop" r="textAreaRight" b="textAreaBottom"/>
                        <a:pathLst>
                          <a:path w="90" h="64">
                            <a:moveTo>
                              <a:pt x="4" y="0"/>
                            </a:moveTo>
                            <a:lnTo>
                              <a:pt x="2" y="12"/>
                            </a:lnTo>
                            <a:lnTo>
                              <a:pt x="0" y="30"/>
                            </a:lnTo>
                            <a:lnTo>
                              <a:pt x="6" y="40"/>
                            </a:lnTo>
                            <a:lnTo>
                              <a:pt x="18" y="48"/>
                            </a:lnTo>
                            <a:lnTo>
                              <a:pt x="38" y="52"/>
                            </a:lnTo>
                            <a:lnTo>
                              <a:pt x="58" y="54"/>
                            </a:lnTo>
                            <a:lnTo>
                              <a:pt x="80" y="60"/>
                            </a:lnTo>
                            <a:lnTo>
                              <a:pt x="90" y="64"/>
                            </a:lnTo>
                            <a:lnTo>
                              <a:pt x="90" y="50"/>
                            </a:lnTo>
                            <a:lnTo>
                              <a:pt x="70" y="32"/>
                            </a:lnTo>
                            <a:lnTo>
                              <a:pt x="52" y="20"/>
                            </a:lnTo>
                            <a:lnTo>
                              <a:pt x="32" y="10"/>
                            </a:lnTo>
                            <a:lnTo>
                              <a:pt x="22" y="6"/>
                            </a:lnTo>
                            <a:lnTo>
                              <a:pt x="4" y="0"/>
                            </a:lnTo>
                            <a:close/>
                          </a:path>
                        </a:pathLst>
                      </a:custGeom>
                      <a:solidFill>
                        <a:srgbClr val="5f3f1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Freeform 89"/>
                      <p:cNvSpPr/>
                      <p:nvPr/>
                    </p:nvSpPr>
                    <p:spPr>
                      <a:xfrm>
                        <a:off x="5634000" y="4252680"/>
                        <a:ext cx="42840" cy="17280"/>
                      </a:xfrm>
                      <a:custGeom>
                        <a:avLst/>
                        <a:gdLst>
                          <a:gd name="textAreaLeft" fmla="*/ 0 w 42840"/>
                          <a:gd name="textAreaRight" fmla="*/ 43200 w 42840"/>
                          <a:gd name="textAreaTop" fmla="*/ 0 h 17280"/>
                          <a:gd name="textAreaBottom" fmla="*/ 17280 h 17280"/>
                        </a:gdLst>
                        <a:ahLst/>
                        <a:rect l="textAreaLeft" t="textAreaTop" r="textAreaRight" b="textAreaBottom"/>
                        <a:pathLst>
                          <a:path w="54" h="22">
                            <a:moveTo>
                              <a:pt x="30" y="0"/>
                            </a:moveTo>
                            <a:lnTo>
                              <a:pt x="24" y="10"/>
                            </a:lnTo>
                            <a:lnTo>
                              <a:pt x="14" y="14"/>
                            </a:lnTo>
                            <a:lnTo>
                              <a:pt x="0" y="16"/>
                            </a:lnTo>
                            <a:lnTo>
                              <a:pt x="16" y="22"/>
                            </a:lnTo>
                            <a:lnTo>
                              <a:pt x="40" y="22"/>
                            </a:lnTo>
                            <a:lnTo>
                              <a:pt x="54" y="22"/>
                            </a:lnTo>
                            <a:lnTo>
                              <a:pt x="30" y="0"/>
                            </a:lnTo>
                            <a:close/>
                          </a:path>
                        </a:pathLst>
                      </a:custGeom>
                      <a:solidFill>
                        <a:srgbClr val="5f3f1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5" name="Freeform 90"/>
                      <p:cNvSpPr/>
                      <p:nvPr/>
                    </p:nvSpPr>
                    <p:spPr>
                      <a:xfrm>
                        <a:off x="5670360" y="4395600"/>
                        <a:ext cx="79560" cy="93240"/>
                      </a:xfrm>
                      <a:custGeom>
                        <a:avLst/>
                        <a:gdLst>
                          <a:gd name="textAreaLeft" fmla="*/ 0 w 79560"/>
                          <a:gd name="textAreaRight" fmla="*/ 79920 w 79560"/>
                          <a:gd name="textAreaTop" fmla="*/ 0 h 93240"/>
                          <a:gd name="textAreaBottom" fmla="*/ 93600 h 93240"/>
                        </a:gdLst>
                        <a:ahLst/>
                        <a:rect l="textAreaLeft" t="textAreaTop" r="textAreaRight" b="textAreaBottom"/>
                        <a:pathLst>
                          <a:path w="100" h="117">
                            <a:moveTo>
                              <a:pt x="16" y="2"/>
                            </a:moveTo>
                            <a:lnTo>
                              <a:pt x="6" y="18"/>
                            </a:lnTo>
                            <a:lnTo>
                              <a:pt x="2" y="30"/>
                            </a:lnTo>
                            <a:lnTo>
                              <a:pt x="0" y="44"/>
                            </a:lnTo>
                            <a:lnTo>
                              <a:pt x="0" y="58"/>
                            </a:lnTo>
                            <a:lnTo>
                              <a:pt x="4" y="75"/>
                            </a:lnTo>
                            <a:lnTo>
                              <a:pt x="8" y="89"/>
                            </a:lnTo>
                            <a:lnTo>
                              <a:pt x="16" y="97"/>
                            </a:lnTo>
                            <a:lnTo>
                              <a:pt x="24" y="103"/>
                            </a:lnTo>
                            <a:lnTo>
                              <a:pt x="36" y="103"/>
                            </a:lnTo>
                            <a:lnTo>
                              <a:pt x="50" y="103"/>
                            </a:lnTo>
                            <a:lnTo>
                              <a:pt x="74" y="107"/>
                            </a:lnTo>
                            <a:lnTo>
                              <a:pt x="100" y="117"/>
                            </a:lnTo>
                            <a:lnTo>
                              <a:pt x="100" y="103"/>
                            </a:lnTo>
                            <a:lnTo>
                              <a:pt x="92" y="85"/>
                            </a:lnTo>
                            <a:lnTo>
                              <a:pt x="90" y="66"/>
                            </a:lnTo>
                            <a:lnTo>
                              <a:pt x="78" y="48"/>
                            </a:lnTo>
                            <a:lnTo>
                              <a:pt x="70" y="38"/>
                            </a:lnTo>
                            <a:lnTo>
                              <a:pt x="58" y="26"/>
                            </a:lnTo>
                            <a:lnTo>
                              <a:pt x="48" y="16"/>
                            </a:lnTo>
                            <a:lnTo>
                              <a:pt x="40" y="8"/>
                            </a:lnTo>
                            <a:lnTo>
                              <a:pt x="34" y="0"/>
                            </a:lnTo>
                            <a:lnTo>
                              <a:pt x="16" y="2"/>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91"/>
                      <p:cNvSpPr/>
                      <p:nvPr/>
                    </p:nvSpPr>
                    <p:spPr>
                      <a:xfrm>
                        <a:off x="5537160" y="3892320"/>
                        <a:ext cx="190440" cy="194760"/>
                      </a:xfrm>
                      <a:custGeom>
                        <a:avLst/>
                        <a:gdLst>
                          <a:gd name="textAreaLeft" fmla="*/ 0 w 190440"/>
                          <a:gd name="textAreaRight" fmla="*/ 190800 w 190440"/>
                          <a:gd name="textAreaTop" fmla="*/ 0 h 194760"/>
                          <a:gd name="textAreaBottom" fmla="*/ 195120 h 194760"/>
                        </a:gdLst>
                        <a:ahLst/>
                        <a:rect l="textAreaLeft" t="textAreaTop" r="textAreaRight" b="textAreaBottom"/>
                        <a:pathLst>
                          <a:path w="239" h="247">
                            <a:moveTo>
                              <a:pt x="239" y="0"/>
                            </a:moveTo>
                            <a:lnTo>
                              <a:pt x="197" y="18"/>
                            </a:lnTo>
                            <a:lnTo>
                              <a:pt x="163" y="24"/>
                            </a:lnTo>
                            <a:lnTo>
                              <a:pt x="129" y="34"/>
                            </a:lnTo>
                            <a:lnTo>
                              <a:pt x="99" y="46"/>
                            </a:lnTo>
                            <a:lnTo>
                              <a:pt x="69" y="60"/>
                            </a:lnTo>
                            <a:lnTo>
                              <a:pt x="45" y="80"/>
                            </a:lnTo>
                            <a:lnTo>
                              <a:pt x="29" y="100"/>
                            </a:lnTo>
                            <a:lnTo>
                              <a:pt x="17" y="118"/>
                            </a:lnTo>
                            <a:lnTo>
                              <a:pt x="7" y="136"/>
                            </a:lnTo>
                            <a:lnTo>
                              <a:pt x="0" y="156"/>
                            </a:lnTo>
                            <a:lnTo>
                              <a:pt x="11" y="142"/>
                            </a:lnTo>
                            <a:lnTo>
                              <a:pt x="11" y="166"/>
                            </a:lnTo>
                            <a:lnTo>
                              <a:pt x="11" y="201"/>
                            </a:lnTo>
                            <a:lnTo>
                              <a:pt x="17" y="221"/>
                            </a:lnTo>
                            <a:lnTo>
                              <a:pt x="29" y="247"/>
                            </a:lnTo>
                            <a:lnTo>
                              <a:pt x="41" y="203"/>
                            </a:lnTo>
                            <a:lnTo>
                              <a:pt x="53" y="162"/>
                            </a:lnTo>
                            <a:lnTo>
                              <a:pt x="69" y="124"/>
                            </a:lnTo>
                            <a:lnTo>
                              <a:pt x="89" y="90"/>
                            </a:lnTo>
                            <a:lnTo>
                              <a:pt x="113" y="68"/>
                            </a:lnTo>
                            <a:lnTo>
                              <a:pt x="135" y="50"/>
                            </a:lnTo>
                            <a:lnTo>
                              <a:pt x="165" y="36"/>
                            </a:lnTo>
                            <a:lnTo>
                              <a:pt x="239"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7" name="Freeform 92"/>
                  <p:cNvSpPr/>
                  <p:nvPr/>
                </p:nvSpPr>
                <p:spPr>
                  <a:xfrm>
                    <a:off x="5986440" y="4454280"/>
                    <a:ext cx="236520" cy="512280"/>
                  </a:xfrm>
                  <a:custGeom>
                    <a:avLst/>
                    <a:gdLst>
                      <a:gd name="textAreaLeft" fmla="*/ 0 w 236520"/>
                      <a:gd name="textAreaRight" fmla="*/ 236880 w 236520"/>
                      <a:gd name="textAreaTop" fmla="*/ 0 h 512280"/>
                      <a:gd name="textAreaBottom" fmla="*/ 512640 h 512280"/>
                    </a:gdLst>
                    <a:ahLst/>
                    <a:rect l="textAreaLeft" t="textAreaTop" r="textAreaRight" b="textAreaBottom"/>
                    <a:pathLst>
                      <a:path w="300" h="646">
                        <a:moveTo>
                          <a:pt x="300" y="0"/>
                        </a:moveTo>
                        <a:lnTo>
                          <a:pt x="66" y="419"/>
                        </a:lnTo>
                        <a:lnTo>
                          <a:pt x="0" y="646"/>
                        </a:lnTo>
                        <a:lnTo>
                          <a:pt x="102" y="395"/>
                        </a:lnTo>
                        <a:lnTo>
                          <a:pt x="30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93"/>
                  <p:cNvSpPr/>
                  <p:nvPr/>
                </p:nvSpPr>
                <p:spPr>
                  <a:xfrm>
                    <a:off x="5748120" y="4811400"/>
                    <a:ext cx="90720" cy="226800"/>
                  </a:xfrm>
                  <a:custGeom>
                    <a:avLst/>
                    <a:gdLst>
                      <a:gd name="textAreaLeft" fmla="*/ 0 w 90720"/>
                      <a:gd name="textAreaRight" fmla="*/ 91080 w 90720"/>
                      <a:gd name="textAreaTop" fmla="*/ 0 h 226800"/>
                      <a:gd name="textAreaBottom" fmla="*/ 227160 h 226800"/>
                    </a:gdLst>
                    <a:ahLst/>
                    <a:rect l="textAreaLeft" t="textAreaTop" r="textAreaRight" b="textAreaBottom"/>
                    <a:pathLst>
                      <a:path w="114" h="285">
                        <a:moveTo>
                          <a:pt x="60" y="0"/>
                        </a:moveTo>
                        <a:lnTo>
                          <a:pt x="62" y="219"/>
                        </a:lnTo>
                        <a:lnTo>
                          <a:pt x="114" y="285"/>
                        </a:lnTo>
                        <a:lnTo>
                          <a:pt x="38" y="227"/>
                        </a:lnTo>
                        <a:lnTo>
                          <a:pt x="0" y="261"/>
                        </a:lnTo>
                        <a:lnTo>
                          <a:pt x="24" y="179"/>
                        </a:lnTo>
                        <a:lnTo>
                          <a:pt x="36" y="46"/>
                        </a:lnTo>
                        <a:lnTo>
                          <a:pt x="6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94"/>
                <p:cNvSpPr/>
                <p:nvPr/>
              </p:nvSpPr>
              <p:spPr>
                <a:xfrm>
                  <a:off x="5648400" y="5132160"/>
                  <a:ext cx="137880" cy="242640"/>
                </a:xfrm>
                <a:custGeom>
                  <a:avLst/>
                  <a:gdLst>
                    <a:gd name="textAreaLeft" fmla="*/ 0 w 137880"/>
                    <a:gd name="textAreaRight" fmla="*/ 138240 w 137880"/>
                    <a:gd name="textAreaTop" fmla="*/ 0 h 242640"/>
                    <a:gd name="textAreaBottom" fmla="*/ 243000 h 242640"/>
                  </a:gdLst>
                  <a:ahLst/>
                  <a:rect l="textAreaLeft" t="textAreaTop" r="textAreaRight" b="textAreaBottom"/>
                  <a:pathLst>
                    <a:path w="174" h="307">
                      <a:moveTo>
                        <a:pt x="104" y="0"/>
                      </a:moveTo>
                      <a:lnTo>
                        <a:pt x="170" y="158"/>
                      </a:lnTo>
                      <a:lnTo>
                        <a:pt x="174" y="307"/>
                      </a:lnTo>
                      <a:lnTo>
                        <a:pt x="144" y="140"/>
                      </a:lnTo>
                      <a:lnTo>
                        <a:pt x="102" y="68"/>
                      </a:lnTo>
                      <a:lnTo>
                        <a:pt x="0" y="130"/>
                      </a:lnTo>
                      <a:lnTo>
                        <a:pt x="62" y="76"/>
                      </a:lnTo>
                      <a:lnTo>
                        <a:pt x="104"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Freeform 95"/>
              <p:cNvSpPr/>
              <p:nvPr/>
            </p:nvSpPr>
            <p:spPr>
              <a:xfrm>
                <a:off x="4933800" y="5524200"/>
                <a:ext cx="98640" cy="160200"/>
              </a:xfrm>
              <a:custGeom>
                <a:avLst/>
                <a:gdLst>
                  <a:gd name="textAreaLeft" fmla="*/ 0 w 98640"/>
                  <a:gd name="textAreaRight" fmla="*/ 99000 w 98640"/>
                  <a:gd name="textAreaTop" fmla="*/ 0 h 160200"/>
                  <a:gd name="textAreaBottom" fmla="*/ 160200 h 160200"/>
                </a:gdLst>
                <a:ahLst/>
                <a:rect l="textAreaLeft" t="textAreaTop" r="textAreaRight" b="textAreaBottom"/>
                <a:pathLst>
                  <a:path w="124" h="204">
                    <a:moveTo>
                      <a:pt x="88" y="0"/>
                    </a:moveTo>
                    <a:lnTo>
                      <a:pt x="4" y="166"/>
                    </a:lnTo>
                    <a:lnTo>
                      <a:pt x="0" y="204"/>
                    </a:lnTo>
                    <a:lnTo>
                      <a:pt x="30" y="178"/>
                    </a:lnTo>
                    <a:lnTo>
                      <a:pt x="124" y="10"/>
                    </a:lnTo>
                    <a:lnTo>
                      <a:pt x="110" y="8"/>
                    </a:lnTo>
                    <a:lnTo>
                      <a:pt x="96" y="4"/>
                    </a:lnTo>
                    <a:lnTo>
                      <a:pt x="88"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Group 96"/>
              <p:cNvGrpSpPr/>
              <p:nvPr/>
            </p:nvGrpSpPr>
            <p:grpSpPr>
              <a:xfrm>
                <a:off x="4927680" y="5356080"/>
                <a:ext cx="368280" cy="315000"/>
                <a:chOff x="4927680" y="5356080"/>
                <a:chExt cx="368280" cy="315000"/>
              </a:xfrm>
            </p:grpSpPr>
            <p:grpSp>
              <p:nvGrpSpPr>
                <p:cNvPr id="332" name="Group 97"/>
                <p:cNvGrpSpPr/>
                <p:nvPr/>
              </p:nvGrpSpPr>
              <p:grpSpPr>
                <a:xfrm>
                  <a:off x="4927680" y="5356080"/>
                  <a:ext cx="347400" cy="315000"/>
                  <a:chOff x="4927680" y="5356080"/>
                  <a:chExt cx="347400" cy="315000"/>
                </a:xfrm>
              </p:grpSpPr>
              <p:sp>
                <p:nvSpPr>
                  <p:cNvPr id="333" name="Freeform 98"/>
                  <p:cNvSpPr/>
                  <p:nvPr/>
                </p:nvSpPr>
                <p:spPr>
                  <a:xfrm>
                    <a:off x="4927680" y="5390640"/>
                    <a:ext cx="347400" cy="280440"/>
                  </a:xfrm>
                  <a:custGeom>
                    <a:avLst/>
                    <a:gdLst>
                      <a:gd name="textAreaLeft" fmla="*/ 0 w 347400"/>
                      <a:gd name="textAreaRight" fmla="*/ 347760 w 347400"/>
                      <a:gd name="textAreaTop" fmla="*/ 0 h 280440"/>
                      <a:gd name="textAreaBottom" fmla="*/ 280800 h 280440"/>
                    </a:gdLst>
                    <a:ahLst/>
                    <a:rect l="textAreaLeft" t="textAreaTop" r="textAreaRight" b="textAreaBottom"/>
                    <a:pathLst>
                      <a:path w="437" h="355">
                        <a:moveTo>
                          <a:pt x="323" y="48"/>
                        </a:moveTo>
                        <a:lnTo>
                          <a:pt x="297" y="54"/>
                        </a:lnTo>
                        <a:lnTo>
                          <a:pt x="275" y="42"/>
                        </a:lnTo>
                        <a:lnTo>
                          <a:pt x="248" y="28"/>
                        </a:lnTo>
                        <a:lnTo>
                          <a:pt x="220" y="18"/>
                        </a:lnTo>
                        <a:lnTo>
                          <a:pt x="176" y="6"/>
                        </a:lnTo>
                        <a:lnTo>
                          <a:pt x="152" y="0"/>
                        </a:lnTo>
                        <a:lnTo>
                          <a:pt x="68" y="20"/>
                        </a:lnTo>
                        <a:lnTo>
                          <a:pt x="54" y="28"/>
                        </a:lnTo>
                        <a:lnTo>
                          <a:pt x="42" y="36"/>
                        </a:lnTo>
                        <a:lnTo>
                          <a:pt x="32" y="52"/>
                        </a:lnTo>
                        <a:lnTo>
                          <a:pt x="24" y="74"/>
                        </a:lnTo>
                        <a:lnTo>
                          <a:pt x="16" y="108"/>
                        </a:lnTo>
                        <a:lnTo>
                          <a:pt x="8" y="151"/>
                        </a:lnTo>
                        <a:lnTo>
                          <a:pt x="6" y="191"/>
                        </a:lnTo>
                        <a:lnTo>
                          <a:pt x="0" y="219"/>
                        </a:lnTo>
                        <a:lnTo>
                          <a:pt x="0" y="237"/>
                        </a:lnTo>
                        <a:lnTo>
                          <a:pt x="6" y="251"/>
                        </a:lnTo>
                        <a:lnTo>
                          <a:pt x="8" y="263"/>
                        </a:lnTo>
                        <a:lnTo>
                          <a:pt x="18" y="279"/>
                        </a:lnTo>
                        <a:lnTo>
                          <a:pt x="56" y="319"/>
                        </a:lnTo>
                        <a:lnTo>
                          <a:pt x="74" y="329"/>
                        </a:lnTo>
                        <a:lnTo>
                          <a:pt x="106" y="345"/>
                        </a:lnTo>
                        <a:lnTo>
                          <a:pt x="126" y="355"/>
                        </a:lnTo>
                        <a:lnTo>
                          <a:pt x="142" y="347"/>
                        </a:lnTo>
                        <a:lnTo>
                          <a:pt x="146" y="335"/>
                        </a:lnTo>
                        <a:lnTo>
                          <a:pt x="164" y="335"/>
                        </a:lnTo>
                        <a:lnTo>
                          <a:pt x="182" y="335"/>
                        </a:lnTo>
                        <a:lnTo>
                          <a:pt x="206" y="341"/>
                        </a:lnTo>
                        <a:lnTo>
                          <a:pt x="220" y="343"/>
                        </a:lnTo>
                        <a:lnTo>
                          <a:pt x="226" y="329"/>
                        </a:lnTo>
                        <a:lnTo>
                          <a:pt x="230" y="319"/>
                        </a:lnTo>
                        <a:lnTo>
                          <a:pt x="244" y="323"/>
                        </a:lnTo>
                        <a:lnTo>
                          <a:pt x="259" y="323"/>
                        </a:lnTo>
                        <a:lnTo>
                          <a:pt x="265" y="313"/>
                        </a:lnTo>
                        <a:lnTo>
                          <a:pt x="271" y="301"/>
                        </a:lnTo>
                        <a:lnTo>
                          <a:pt x="275" y="285"/>
                        </a:lnTo>
                        <a:lnTo>
                          <a:pt x="301" y="287"/>
                        </a:lnTo>
                        <a:lnTo>
                          <a:pt x="325" y="287"/>
                        </a:lnTo>
                        <a:lnTo>
                          <a:pt x="341" y="281"/>
                        </a:lnTo>
                        <a:lnTo>
                          <a:pt x="357" y="273"/>
                        </a:lnTo>
                        <a:lnTo>
                          <a:pt x="369" y="261"/>
                        </a:lnTo>
                        <a:lnTo>
                          <a:pt x="383" y="245"/>
                        </a:lnTo>
                        <a:lnTo>
                          <a:pt x="427" y="235"/>
                        </a:lnTo>
                        <a:lnTo>
                          <a:pt x="435" y="181"/>
                        </a:lnTo>
                        <a:lnTo>
                          <a:pt x="437" y="145"/>
                        </a:lnTo>
                        <a:lnTo>
                          <a:pt x="425" y="104"/>
                        </a:lnTo>
                        <a:lnTo>
                          <a:pt x="411" y="80"/>
                        </a:lnTo>
                        <a:lnTo>
                          <a:pt x="395" y="66"/>
                        </a:lnTo>
                        <a:lnTo>
                          <a:pt x="371" y="52"/>
                        </a:lnTo>
                        <a:lnTo>
                          <a:pt x="341" y="42"/>
                        </a:lnTo>
                        <a:lnTo>
                          <a:pt x="323" y="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99"/>
                  <p:cNvSpPr/>
                  <p:nvPr/>
                </p:nvSpPr>
                <p:spPr>
                  <a:xfrm>
                    <a:off x="4954320" y="5447880"/>
                    <a:ext cx="236880" cy="202680"/>
                  </a:xfrm>
                  <a:custGeom>
                    <a:avLst/>
                    <a:gdLst>
                      <a:gd name="textAreaLeft" fmla="*/ 0 w 236880"/>
                      <a:gd name="textAreaRight" fmla="*/ 237240 w 236880"/>
                      <a:gd name="textAreaTop" fmla="*/ 0 h 202680"/>
                      <a:gd name="textAreaBottom" fmla="*/ 203040 h 202680"/>
                    </a:gdLst>
                    <a:ahLst/>
                    <a:rect l="textAreaLeft" t="textAreaTop" r="textAreaRight" b="textAreaBottom"/>
                    <a:pathLst>
                      <a:path w="297" h="257">
                        <a:moveTo>
                          <a:pt x="297" y="85"/>
                        </a:moveTo>
                        <a:lnTo>
                          <a:pt x="273" y="101"/>
                        </a:lnTo>
                        <a:lnTo>
                          <a:pt x="251" y="101"/>
                        </a:lnTo>
                        <a:lnTo>
                          <a:pt x="231" y="95"/>
                        </a:lnTo>
                        <a:lnTo>
                          <a:pt x="219" y="87"/>
                        </a:lnTo>
                        <a:lnTo>
                          <a:pt x="208" y="79"/>
                        </a:lnTo>
                        <a:lnTo>
                          <a:pt x="196" y="79"/>
                        </a:lnTo>
                        <a:lnTo>
                          <a:pt x="180" y="89"/>
                        </a:lnTo>
                        <a:lnTo>
                          <a:pt x="156" y="97"/>
                        </a:lnTo>
                        <a:lnTo>
                          <a:pt x="132" y="103"/>
                        </a:lnTo>
                        <a:lnTo>
                          <a:pt x="116" y="105"/>
                        </a:lnTo>
                        <a:lnTo>
                          <a:pt x="96" y="105"/>
                        </a:lnTo>
                        <a:lnTo>
                          <a:pt x="76" y="101"/>
                        </a:lnTo>
                        <a:lnTo>
                          <a:pt x="64" y="95"/>
                        </a:lnTo>
                        <a:lnTo>
                          <a:pt x="58" y="87"/>
                        </a:lnTo>
                        <a:lnTo>
                          <a:pt x="54" y="71"/>
                        </a:lnTo>
                        <a:lnTo>
                          <a:pt x="54" y="59"/>
                        </a:lnTo>
                        <a:lnTo>
                          <a:pt x="60" y="49"/>
                        </a:lnTo>
                        <a:lnTo>
                          <a:pt x="72" y="43"/>
                        </a:lnTo>
                        <a:lnTo>
                          <a:pt x="92" y="40"/>
                        </a:lnTo>
                        <a:lnTo>
                          <a:pt x="116" y="36"/>
                        </a:lnTo>
                        <a:lnTo>
                          <a:pt x="134" y="36"/>
                        </a:lnTo>
                        <a:lnTo>
                          <a:pt x="154" y="24"/>
                        </a:lnTo>
                        <a:lnTo>
                          <a:pt x="174" y="12"/>
                        </a:lnTo>
                        <a:lnTo>
                          <a:pt x="146" y="12"/>
                        </a:lnTo>
                        <a:lnTo>
                          <a:pt x="128" y="2"/>
                        </a:lnTo>
                        <a:lnTo>
                          <a:pt x="106" y="0"/>
                        </a:lnTo>
                        <a:lnTo>
                          <a:pt x="90" y="6"/>
                        </a:lnTo>
                        <a:lnTo>
                          <a:pt x="70" y="18"/>
                        </a:lnTo>
                        <a:lnTo>
                          <a:pt x="62" y="24"/>
                        </a:lnTo>
                        <a:lnTo>
                          <a:pt x="34" y="4"/>
                        </a:lnTo>
                        <a:lnTo>
                          <a:pt x="46" y="18"/>
                        </a:lnTo>
                        <a:lnTo>
                          <a:pt x="50" y="30"/>
                        </a:lnTo>
                        <a:lnTo>
                          <a:pt x="36" y="32"/>
                        </a:lnTo>
                        <a:lnTo>
                          <a:pt x="50" y="36"/>
                        </a:lnTo>
                        <a:lnTo>
                          <a:pt x="38" y="95"/>
                        </a:lnTo>
                        <a:lnTo>
                          <a:pt x="30" y="107"/>
                        </a:lnTo>
                        <a:lnTo>
                          <a:pt x="22" y="115"/>
                        </a:lnTo>
                        <a:lnTo>
                          <a:pt x="0" y="119"/>
                        </a:lnTo>
                        <a:lnTo>
                          <a:pt x="16" y="125"/>
                        </a:lnTo>
                        <a:lnTo>
                          <a:pt x="22" y="141"/>
                        </a:lnTo>
                        <a:lnTo>
                          <a:pt x="10" y="173"/>
                        </a:lnTo>
                        <a:lnTo>
                          <a:pt x="6" y="195"/>
                        </a:lnTo>
                        <a:lnTo>
                          <a:pt x="40" y="159"/>
                        </a:lnTo>
                        <a:lnTo>
                          <a:pt x="58" y="169"/>
                        </a:lnTo>
                        <a:lnTo>
                          <a:pt x="64" y="189"/>
                        </a:lnTo>
                        <a:lnTo>
                          <a:pt x="38" y="203"/>
                        </a:lnTo>
                        <a:lnTo>
                          <a:pt x="68" y="201"/>
                        </a:lnTo>
                        <a:lnTo>
                          <a:pt x="82" y="201"/>
                        </a:lnTo>
                        <a:lnTo>
                          <a:pt x="90" y="209"/>
                        </a:lnTo>
                        <a:lnTo>
                          <a:pt x="100" y="225"/>
                        </a:lnTo>
                        <a:lnTo>
                          <a:pt x="108" y="243"/>
                        </a:lnTo>
                        <a:lnTo>
                          <a:pt x="118" y="257"/>
                        </a:lnTo>
                        <a:lnTo>
                          <a:pt x="118" y="233"/>
                        </a:lnTo>
                        <a:lnTo>
                          <a:pt x="108" y="215"/>
                        </a:lnTo>
                        <a:lnTo>
                          <a:pt x="98" y="201"/>
                        </a:lnTo>
                        <a:lnTo>
                          <a:pt x="106" y="191"/>
                        </a:lnTo>
                        <a:lnTo>
                          <a:pt x="120" y="187"/>
                        </a:lnTo>
                        <a:lnTo>
                          <a:pt x="134" y="189"/>
                        </a:lnTo>
                        <a:lnTo>
                          <a:pt x="156" y="191"/>
                        </a:lnTo>
                        <a:lnTo>
                          <a:pt x="174" y="179"/>
                        </a:lnTo>
                        <a:lnTo>
                          <a:pt x="196" y="173"/>
                        </a:lnTo>
                        <a:lnTo>
                          <a:pt x="214" y="169"/>
                        </a:lnTo>
                        <a:lnTo>
                          <a:pt x="223" y="167"/>
                        </a:lnTo>
                        <a:lnTo>
                          <a:pt x="229" y="161"/>
                        </a:lnTo>
                        <a:lnTo>
                          <a:pt x="245" y="173"/>
                        </a:lnTo>
                        <a:lnTo>
                          <a:pt x="239" y="153"/>
                        </a:lnTo>
                        <a:lnTo>
                          <a:pt x="279" y="179"/>
                        </a:lnTo>
                        <a:lnTo>
                          <a:pt x="273" y="161"/>
                        </a:lnTo>
                        <a:lnTo>
                          <a:pt x="241" y="139"/>
                        </a:lnTo>
                        <a:lnTo>
                          <a:pt x="247" y="123"/>
                        </a:lnTo>
                        <a:lnTo>
                          <a:pt x="259" y="107"/>
                        </a:lnTo>
                        <a:lnTo>
                          <a:pt x="277" y="105"/>
                        </a:lnTo>
                        <a:lnTo>
                          <a:pt x="297" y="85"/>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0"/>
                  <p:cNvSpPr/>
                  <p:nvPr/>
                </p:nvSpPr>
                <p:spPr>
                  <a:xfrm>
                    <a:off x="5029200" y="5356080"/>
                    <a:ext cx="83880" cy="121680"/>
                  </a:xfrm>
                  <a:custGeom>
                    <a:avLst/>
                    <a:gdLst>
                      <a:gd name="textAreaLeft" fmla="*/ 0 w 83880"/>
                      <a:gd name="textAreaRight" fmla="*/ 84240 w 83880"/>
                      <a:gd name="textAreaTop" fmla="*/ 0 h 121680"/>
                      <a:gd name="textAreaBottom" fmla="*/ 122040 h 121680"/>
                    </a:gdLst>
                    <a:ahLst/>
                    <a:rect l="textAreaLeft" t="textAreaTop" r="textAreaRight" b="textAreaBottom"/>
                    <a:pathLst>
                      <a:path w="106" h="154">
                        <a:moveTo>
                          <a:pt x="92" y="0"/>
                        </a:moveTo>
                        <a:lnTo>
                          <a:pt x="72" y="6"/>
                        </a:lnTo>
                        <a:lnTo>
                          <a:pt x="68" y="18"/>
                        </a:lnTo>
                        <a:lnTo>
                          <a:pt x="0" y="154"/>
                        </a:lnTo>
                        <a:lnTo>
                          <a:pt x="36" y="150"/>
                        </a:lnTo>
                        <a:lnTo>
                          <a:pt x="104" y="28"/>
                        </a:lnTo>
                        <a:lnTo>
                          <a:pt x="106" y="8"/>
                        </a:lnTo>
                        <a:lnTo>
                          <a:pt x="9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1"/>
                  <p:cNvSpPr/>
                  <p:nvPr/>
                </p:nvSpPr>
                <p:spPr>
                  <a:xfrm>
                    <a:off x="5194080" y="5458680"/>
                    <a:ext cx="58680" cy="112680"/>
                  </a:xfrm>
                  <a:custGeom>
                    <a:avLst/>
                    <a:gdLst>
                      <a:gd name="textAreaLeft" fmla="*/ 0 w 58680"/>
                      <a:gd name="textAreaRight" fmla="*/ 59040 w 58680"/>
                      <a:gd name="textAreaTop" fmla="*/ 0 h 112680"/>
                      <a:gd name="textAreaBottom" fmla="*/ 113040 h 112680"/>
                    </a:gdLst>
                    <a:ahLst/>
                    <a:rect l="textAreaLeft" t="textAreaTop" r="textAreaRight" b="textAreaBottom"/>
                    <a:pathLst>
                      <a:path w="74" h="141">
                        <a:moveTo>
                          <a:pt x="0" y="0"/>
                        </a:moveTo>
                        <a:lnTo>
                          <a:pt x="14" y="20"/>
                        </a:lnTo>
                        <a:lnTo>
                          <a:pt x="22" y="37"/>
                        </a:lnTo>
                        <a:lnTo>
                          <a:pt x="28" y="59"/>
                        </a:lnTo>
                        <a:lnTo>
                          <a:pt x="30" y="81"/>
                        </a:lnTo>
                        <a:lnTo>
                          <a:pt x="28" y="105"/>
                        </a:lnTo>
                        <a:lnTo>
                          <a:pt x="20" y="141"/>
                        </a:lnTo>
                        <a:lnTo>
                          <a:pt x="46" y="75"/>
                        </a:lnTo>
                        <a:lnTo>
                          <a:pt x="62" y="55"/>
                        </a:lnTo>
                        <a:lnTo>
                          <a:pt x="74" y="37"/>
                        </a:lnTo>
                        <a:lnTo>
                          <a:pt x="54" y="29"/>
                        </a:lnTo>
                        <a:lnTo>
                          <a:pt x="34" y="16"/>
                        </a:lnTo>
                        <a:lnTo>
                          <a:pt x="20" y="4"/>
                        </a:lnTo>
                        <a:lnTo>
                          <a:pt x="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2"/>
                  <p:cNvSpPr/>
                  <p:nvPr/>
                </p:nvSpPr>
                <p:spPr>
                  <a:xfrm>
                    <a:off x="5060880" y="5366880"/>
                    <a:ext cx="49320" cy="113760"/>
                  </a:xfrm>
                  <a:custGeom>
                    <a:avLst/>
                    <a:gdLst>
                      <a:gd name="textAreaLeft" fmla="*/ 0 w 49320"/>
                      <a:gd name="textAreaRight" fmla="*/ 49680 w 49320"/>
                      <a:gd name="textAreaTop" fmla="*/ 0 h 113760"/>
                      <a:gd name="textAreaBottom" fmla="*/ 114120 h 113760"/>
                    </a:gdLst>
                    <a:ahLst/>
                    <a:rect l="textAreaLeft" t="textAreaTop" r="textAreaRight" b="textAreaBottom"/>
                    <a:pathLst>
                      <a:path w="62" h="144">
                        <a:moveTo>
                          <a:pt x="60" y="12"/>
                        </a:moveTo>
                        <a:lnTo>
                          <a:pt x="62" y="18"/>
                        </a:lnTo>
                        <a:lnTo>
                          <a:pt x="6" y="144"/>
                        </a:lnTo>
                        <a:lnTo>
                          <a:pt x="0" y="130"/>
                        </a:lnTo>
                        <a:lnTo>
                          <a:pt x="4" y="118"/>
                        </a:lnTo>
                        <a:lnTo>
                          <a:pt x="10" y="108"/>
                        </a:lnTo>
                        <a:lnTo>
                          <a:pt x="20" y="104"/>
                        </a:lnTo>
                        <a:lnTo>
                          <a:pt x="58" y="18"/>
                        </a:lnTo>
                        <a:lnTo>
                          <a:pt x="30" y="4"/>
                        </a:lnTo>
                        <a:lnTo>
                          <a:pt x="30" y="0"/>
                        </a:lnTo>
                        <a:lnTo>
                          <a:pt x="60" y="1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Freeform 103"/>
                <p:cNvSpPr/>
                <p:nvPr/>
              </p:nvSpPr>
              <p:spPr>
                <a:xfrm>
                  <a:off x="5162400" y="5417640"/>
                  <a:ext cx="133560" cy="175680"/>
                </a:xfrm>
                <a:custGeom>
                  <a:avLst/>
                  <a:gdLst>
                    <a:gd name="textAreaLeft" fmla="*/ 0 w 133560"/>
                    <a:gd name="textAreaRight" fmla="*/ 133920 w 133560"/>
                    <a:gd name="textAreaTop" fmla="*/ 0 h 175680"/>
                    <a:gd name="textAreaBottom" fmla="*/ 176040 h 175680"/>
                  </a:gdLst>
                  <a:ahLst/>
                  <a:rect l="textAreaLeft" t="textAreaTop" r="textAreaRight" b="textAreaBottom"/>
                  <a:pathLst>
                    <a:path w="168" h="223">
                      <a:moveTo>
                        <a:pt x="0" y="12"/>
                      </a:moveTo>
                      <a:lnTo>
                        <a:pt x="30" y="24"/>
                      </a:lnTo>
                      <a:lnTo>
                        <a:pt x="62" y="44"/>
                      </a:lnTo>
                      <a:lnTo>
                        <a:pt x="78" y="58"/>
                      </a:lnTo>
                      <a:lnTo>
                        <a:pt x="92" y="80"/>
                      </a:lnTo>
                      <a:lnTo>
                        <a:pt x="104" y="97"/>
                      </a:lnTo>
                      <a:lnTo>
                        <a:pt x="112" y="123"/>
                      </a:lnTo>
                      <a:lnTo>
                        <a:pt x="118" y="161"/>
                      </a:lnTo>
                      <a:lnTo>
                        <a:pt x="116" y="197"/>
                      </a:lnTo>
                      <a:lnTo>
                        <a:pt x="108" y="223"/>
                      </a:lnTo>
                      <a:lnTo>
                        <a:pt x="160" y="219"/>
                      </a:lnTo>
                      <a:lnTo>
                        <a:pt x="168" y="177"/>
                      </a:lnTo>
                      <a:lnTo>
                        <a:pt x="168" y="145"/>
                      </a:lnTo>
                      <a:lnTo>
                        <a:pt x="164" y="109"/>
                      </a:lnTo>
                      <a:lnTo>
                        <a:pt x="154" y="81"/>
                      </a:lnTo>
                      <a:lnTo>
                        <a:pt x="134" y="48"/>
                      </a:lnTo>
                      <a:lnTo>
                        <a:pt x="116" y="32"/>
                      </a:lnTo>
                      <a:lnTo>
                        <a:pt x="86" y="14"/>
                      </a:lnTo>
                      <a:lnTo>
                        <a:pt x="52" y="0"/>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9" name="Group 104"/>
            <p:cNvGrpSpPr/>
            <p:nvPr/>
          </p:nvGrpSpPr>
          <p:grpSpPr>
            <a:xfrm>
              <a:off x="2087640" y="3922560"/>
              <a:ext cx="1725480" cy="2018160"/>
              <a:chOff x="2087640" y="3922560"/>
              <a:chExt cx="1725480" cy="2018160"/>
            </a:xfrm>
          </p:grpSpPr>
          <p:grpSp>
            <p:nvGrpSpPr>
              <p:cNvPr id="340" name="Group 105"/>
              <p:cNvGrpSpPr/>
              <p:nvPr/>
            </p:nvGrpSpPr>
            <p:grpSpPr>
              <a:xfrm>
                <a:off x="2646360" y="4966560"/>
                <a:ext cx="352440" cy="699480"/>
                <a:chOff x="2646360" y="4966560"/>
                <a:chExt cx="352440" cy="699480"/>
              </a:xfrm>
            </p:grpSpPr>
            <p:sp>
              <p:nvSpPr>
                <p:cNvPr id="341" name="Freeform 106"/>
                <p:cNvSpPr/>
                <p:nvPr/>
              </p:nvSpPr>
              <p:spPr>
                <a:xfrm>
                  <a:off x="2646360" y="4966560"/>
                  <a:ext cx="352440" cy="690480"/>
                </a:xfrm>
                <a:custGeom>
                  <a:avLst/>
                  <a:gdLst>
                    <a:gd name="textAreaLeft" fmla="*/ 0 w 352440"/>
                    <a:gd name="textAreaRight" fmla="*/ 352800 w 352440"/>
                    <a:gd name="textAreaTop" fmla="*/ 0 h 690480"/>
                    <a:gd name="textAreaBottom" fmla="*/ 690840 h 690480"/>
                  </a:gdLst>
                  <a:ahLst/>
                  <a:rect l="textAreaLeft" t="textAreaTop" r="textAreaRight" b="textAreaBottom"/>
                  <a:pathLst>
                    <a:path w="446" h="871">
                      <a:moveTo>
                        <a:pt x="0" y="0"/>
                      </a:moveTo>
                      <a:lnTo>
                        <a:pt x="44" y="24"/>
                      </a:lnTo>
                      <a:lnTo>
                        <a:pt x="92" y="40"/>
                      </a:lnTo>
                      <a:lnTo>
                        <a:pt x="150" y="52"/>
                      </a:lnTo>
                      <a:lnTo>
                        <a:pt x="212" y="64"/>
                      </a:lnTo>
                      <a:lnTo>
                        <a:pt x="254" y="60"/>
                      </a:lnTo>
                      <a:lnTo>
                        <a:pt x="302" y="48"/>
                      </a:lnTo>
                      <a:lnTo>
                        <a:pt x="342" y="34"/>
                      </a:lnTo>
                      <a:lnTo>
                        <a:pt x="386" y="6"/>
                      </a:lnTo>
                      <a:lnTo>
                        <a:pt x="432" y="213"/>
                      </a:lnTo>
                      <a:lnTo>
                        <a:pt x="440" y="345"/>
                      </a:lnTo>
                      <a:lnTo>
                        <a:pt x="446" y="404"/>
                      </a:lnTo>
                      <a:lnTo>
                        <a:pt x="446" y="518"/>
                      </a:lnTo>
                      <a:lnTo>
                        <a:pt x="440" y="614"/>
                      </a:lnTo>
                      <a:lnTo>
                        <a:pt x="426" y="729"/>
                      </a:lnTo>
                      <a:lnTo>
                        <a:pt x="404" y="835"/>
                      </a:lnTo>
                      <a:lnTo>
                        <a:pt x="110" y="871"/>
                      </a:lnTo>
                      <a:lnTo>
                        <a:pt x="68" y="490"/>
                      </a:lnTo>
                      <a:lnTo>
                        <a:pt x="36" y="23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07"/>
                <p:cNvSpPr/>
                <p:nvPr/>
              </p:nvSpPr>
              <p:spPr>
                <a:xfrm>
                  <a:off x="2695320" y="5142600"/>
                  <a:ext cx="301680" cy="523440"/>
                </a:xfrm>
                <a:custGeom>
                  <a:avLst/>
                  <a:gdLst>
                    <a:gd name="textAreaLeft" fmla="*/ 0 w 301680"/>
                    <a:gd name="textAreaRight" fmla="*/ 301680 w 301680"/>
                    <a:gd name="textAreaTop" fmla="*/ 0 h 523440"/>
                    <a:gd name="textAreaBottom" fmla="*/ 523800 h 523440"/>
                  </a:gdLst>
                  <a:ahLst/>
                  <a:rect l="textAreaLeft" t="textAreaTop" r="textAreaRight" b="textAreaBottom"/>
                  <a:pathLst>
                    <a:path w="382" h="662">
                      <a:moveTo>
                        <a:pt x="0" y="46"/>
                      </a:moveTo>
                      <a:lnTo>
                        <a:pt x="160" y="46"/>
                      </a:lnTo>
                      <a:lnTo>
                        <a:pt x="240" y="40"/>
                      </a:lnTo>
                      <a:lnTo>
                        <a:pt x="322" y="24"/>
                      </a:lnTo>
                      <a:lnTo>
                        <a:pt x="376" y="0"/>
                      </a:lnTo>
                      <a:lnTo>
                        <a:pt x="382" y="556"/>
                      </a:lnTo>
                      <a:lnTo>
                        <a:pt x="108" y="662"/>
                      </a:lnTo>
                      <a:lnTo>
                        <a:pt x="0" y="46"/>
                      </a:lnTo>
                      <a:close/>
                    </a:path>
                  </a:pathLst>
                </a:custGeom>
                <a:solidFill>
                  <a:srgbClr val="ffb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108"/>
              <p:cNvGrpSpPr/>
              <p:nvPr/>
            </p:nvGrpSpPr>
            <p:grpSpPr>
              <a:xfrm>
                <a:off x="2857320" y="4789080"/>
                <a:ext cx="711360" cy="867960"/>
                <a:chOff x="2857320" y="4789080"/>
                <a:chExt cx="711360" cy="867960"/>
              </a:xfrm>
            </p:grpSpPr>
            <p:sp>
              <p:nvSpPr>
                <p:cNvPr id="344" name="Freeform 109"/>
                <p:cNvSpPr/>
                <p:nvPr/>
              </p:nvSpPr>
              <p:spPr>
                <a:xfrm>
                  <a:off x="2857320" y="4789080"/>
                  <a:ext cx="711360" cy="867960"/>
                </a:xfrm>
                <a:custGeom>
                  <a:avLst/>
                  <a:gdLst>
                    <a:gd name="textAreaLeft" fmla="*/ 0 w 711360"/>
                    <a:gd name="textAreaRight" fmla="*/ 711720 w 711360"/>
                    <a:gd name="textAreaTop" fmla="*/ 0 h 867960"/>
                    <a:gd name="textAreaBottom" fmla="*/ 868320 h 867960"/>
                  </a:gdLst>
                  <a:ahLst/>
                  <a:rect l="textAreaLeft" t="textAreaTop" r="textAreaRight" b="textAreaBottom"/>
                  <a:pathLst>
                    <a:path w="894" h="1094">
                      <a:moveTo>
                        <a:pt x="36" y="0"/>
                      </a:moveTo>
                      <a:lnTo>
                        <a:pt x="90" y="24"/>
                      </a:lnTo>
                      <a:lnTo>
                        <a:pt x="150" y="90"/>
                      </a:lnTo>
                      <a:lnTo>
                        <a:pt x="367" y="167"/>
                      </a:lnTo>
                      <a:lnTo>
                        <a:pt x="427" y="203"/>
                      </a:lnTo>
                      <a:lnTo>
                        <a:pt x="493" y="323"/>
                      </a:lnTo>
                      <a:lnTo>
                        <a:pt x="493" y="400"/>
                      </a:lnTo>
                      <a:lnTo>
                        <a:pt x="505" y="460"/>
                      </a:lnTo>
                      <a:lnTo>
                        <a:pt x="541" y="562"/>
                      </a:lnTo>
                      <a:lnTo>
                        <a:pt x="643" y="735"/>
                      </a:lnTo>
                      <a:lnTo>
                        <a:pt x="715" y="855"/>
                      </a:lnTo>
                      <a:lnTo>
                        <a:pt x="792" y="956"/>
                      </a:lnTo>
                      <a:lnTo>
                        <a:pt x="894" y="1076"/>
                      </a:lnTo>
                      <a:lnTo>
                        <a:pt x="48" y="1094"/>
                      </a:lnTo>
                      <a:lnTo>
                        <a:pt x="102" y="980"/>
                      </a:lnTo>
                      <a:lnTo>
                        <a:pt x="126" y="896"/>
                      </a:lnTo>
                      <a:lnTo>
                        <a:pt x="138" y="747"/>
                      </a:lnTo>
                      <a:lnTo>
                        <a:pt x="132" y="496"/>
                      </a:lnTo>
                      <a:lnTo>
                        <a:pt x="108" y="311"/>
                      </a:lnTo>
                      <a:lnTo>
                        <a:pt x="72" y="179"/>
                      </a:lnTo>
                      <a:lnTo>
                        <a:pt x="0" y="60"/>
                      </a:lnTo>
                      <a:lnTo>
                        <a:pt x="36"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10"/>
                <p:cNvSpPr/>
                <p:nvPr/>
              </p:nvSpPr>
              <p:spPr>
                <a:xfrm>
                  <a:off x="3036960" y="4898160"/>
                  <a:ext cx="152280" cy="455040"/>
                </a:xfrm>
                <a:custGeom>
                  <a:avLst/>
                  <a:gdLst>
                    <a:gd name="textAreaLeft" fmla="*/ 0 w 152280"/>
                    <a:gd name="textAreaRight" fmla="*/ 152640 w 152280"/>
                    <a:gd name="textAreaTop" fmla="*/ 0 h 455040"/>
                    <a:gd name="textAreaBottom" fmla="*/ 455400 h 455040"/>
                  </a:gdLst>
                  <a:ahLst/>
                  <a:rect l="textAreaLeft" t="textAreaTop" r="textAreaRight" b="textAreaBottom"/>
                  <a:pathLst>
                    <a:path w="191" h="574">
                      <a:moveTo>
                        <a:pt x="0" y="0"/>
                      </a:moveTo>
                      <a:lnTo>
                        <a:pt x="71" y="54"/>
                      </a:lnTo>
                      <a:lnTo>
                        <a:pt x="109" y="114"/>
                      </a:lnTo>
                      <a:lnTo>
                        <a:pt x="133" y="174"/>
                      </a:lnTo>
                      <a:lnTo>
                        <a:pt x="155" y="239"/>
                      </a:lnTo>
                      <a:lnTo>
                        <a:pt x="179" y="317"/>
                      </a:lnTo>
                      <a:lnTo>
                        <a:pt x="191" y="401"/>
                      </a:lnTo>
                      <a:lnTo>
                        <a:pt x="191" y="508"/>
                      </a:lnTo>
                      <a:lnTo>
                        <a:pt x="179" y="574"/>
                      </a:lnTo>
                      <a:lnTo>
                        <a:pt x="161" y="449"/>
                      </a:lnTo>
                      <a:lnTo>
                        <a:pt x="145" y="373"/>
                      </a:lnTo>
                      <a:lnTo>
                        <a:pt x="119" y="329"/>
                      </a:lnTo>
                      <a:lnTo>
                        <a:pt x="85" y="307"/>
                      </a:lnTo>
                      <a:lnTo>
                        <a:pt x="103" y="263"/>
                      </a:lnTo>
                      <a:lnTo>
                        <a:pt x="109" y="194"/>
                      </a:lnTo>
                      <a:lnTo>
                        <a:pt x="83" y="132"/>
                      </a:lnTo>
                      <a:lnTo>
                        <a:pt x="47" y="66"/>
                      </a:lnTo>
                      <a:lnTo>
                        <a:pt x="0"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Freeform 111"/>
              <p:cNvSpPr/>
              <p:nvPr/>
            </p:nvSpPr>
            <p:spPr>
              <a:xfrm>
                <a:off x="2795400" y="5538240"/>
                <a:ext cx="206640" cy="167760"/>
              </a:xfrm>
              <a:custGeom>
                <a:avLst/>
                <a:gdLst>
                  <a:gd name="textAreaLeft" fmla="*/ 0 w 206640"/>
                  <a:gd name="textAreaRight" fmla="*/ 207000 w 206640"/>
                  <a:gd name="textAreaTop" fmla="*/ 0 h 167760"/>
                  <a:gd name="textAreaBottom" fmla="*/ 168120 h 167760"/>
                </a:gdLst>
                <a:ahLst/>
                <a:rect l="textAreaLeft" t="textAreaTop" r="textAreaRight" b="textAreaBottom"/>
                <a:pathLst>
                  <a:path w="262" h="213">
                    <a:moveTo>
                      <a:pt x="222" y="36"/>
                    </a:moveTo>
                    <a:lnTo>
                      <a:pt x="180" y="0"/>
                    </a:lnTo>
                    <a:lnTo>
                      <a:pt x="118" y="16"/>
                    </a:lnTo>
                    <a:lnTo>
                      <a:pt x="66" y="36"/>
                    </a:lnTo>
                    <a:lnTo>
                      <a:pt x="12" y="58"/>
                    </a:lnTo>
                    <a:lnTo>
                      <a:pt x="0" y="78"/>
                    </a:lnTo>
                    <a:lnTo>
                      <a:pt x="30" y="106"/>
                    </a:lnTo>
                    <a:lnTo>
                      <a:pt x="40" y="142"/>
                    </a:lnTo>
                    <a:lnTo>
                      <a:pt x="64" y="168"/>
                    </a:lnTo>
                    <a:lnTo>
                      <a:pt x="88" y="184"/>
                    </a:lnTo>
                    <a:lnTo>
                      <a:pt x="124" y="195"/>
                    </a:lnTo>
                    <a:lnTo>
                      <a:pt x="150" y="213"/>
                    </a:lnTo>
                    <a:lnTo>
                      <a:pt x="192" y="213"/>
                    </a:lnTo>
                    <a:lnTo>
                      <a:pt x="214" y="213"/>
                    </a:lnTo>
                    <a:lnTo>
                      <a:pt x="228" y="195"/>
                    </a:lnTo>
                    <a:lnTo>
                      <a:pt x="226" y="166"/>
                    </a:lnTo>
                    <a:lnTo>
                      <a:pt x="262" y="168"/>
                    </a:lnTo>
                    <a:lnTo>
                      <a:pt x="222" y="154"/>
                    </a:lnTo>
                    <a:lnTo>
                      <a:pt x="214" y="118"/>
                    </a:lnTo>
                    <a:lnTo>
                      <a:pt x="216" y="94"/>
                    </a:lnTo>
                    <a:lnTo>
                      <a:pt x="214" y="76"/>
                    </a:lnTo>
                    <a:lnTo>
                      <a:pt x="222" y="36"/>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12"/>
              <p:cNvSpPr/>
              <p:nvPr/>
            </p:nvSpPr>
            <p:spPr>
              <a:xfrm>
                <a:off x="2504880" y="5782680"/>
                <a:ext cx="100080" cy="122040"/>
              </a:xfrm>
              <a:custGeom>
                <a:avLst/>
                <a:gdLst>
                  <a:gd name="textAreaLeft" fmla="*/ 0 w 100080"/>
                  <a:gd name="textAreaRight" fmla="*/ 100440 w 100080"/>
                  <a:gd name="textAreaTop" fmla="*/ 0 h 122040"/>
                  <a:gd name="textAreaBottom" fmla="*/ 122400 h 122040"/>
                </a:gdLst>
                <a:ahLst/>
                <a:rect l="textAreaLeft" t="textAreaTop" r="textAreaRight" b="textAreaBottom"/>
                <a:pathLst>
                  <a:path w="126" h="153">
                    <a:moveTo>
                      <a:pt x="126" y="0"/>
                    </a:moveTo>
                    <a:lnTo>
                      <a:pt x="30" y="153"/>
                    </a:lnTo>
                    <a:lnTo>
                      <a:pt x="0" y="44"/>
                    </a:lnTo>
                    <a:lnTo>
                      <a:pt x="12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Group 113"/>
              <p:cNvGrpSpPr/>
              <p:nvPr/>
            </p:nvGrpSpPr>
            <p:grpSpPr>
              <a:xfrm>
                <a:off x="2087640" y="4735080"/>
                <a:ext cx="718920" cy="1205640"/>
                <a:chOff x="2087640" y="4735080"/>
                <a:chExt cx="718920" cy="1205640"/>
              </a:xfrm>
            </p:grpSpPr>
            <p:sp>
              <p:nvSpPr>
                <p:cNvPr id="349" name="Freeform 114"/>
                <p:cNvSpPr/>
                <p:nvPr/>
              </p:nvSpPr>
              <p:spPr>
                <a:xfrm>
                  <a:off x="2087640" y="4735080"/>
                  <a:ext cx="718920" cy="1196640"/>
                </a:xfrm>
                <a:custGeom>
                  <a:avLst/>
                  <a:gdLst>
                    <a:gd name="textAreaLeft" fmla="*/ 0 w 718920"/>
                    <a:gd name="textAreaRight" fmla="*/ 718920 w 718920"/>
                    <a:gd name="textAreaTop" fmla="*/ 0 h 1196640"/>
                    <a:gd name="textAreaBottom" fmla="*/ 1197000 h 1196640"/>
                  </a:gdLst>
                  <a:ahLst/>
                  <a:rect l="textAreaLeft" t="textAreaTop" r="textAreaRight" b="textAreaBottom"/>
                  <a:pathLst>
                    <a:path w="904" h="1508">
                      <a:moveTo>
                        <a:pt x="700" y="18"/>
                      </a:moveTo>
                      <a:lnTo>
                        <a:pt x="575" y="0"/>
                      </a:lnTo>
                      <a:lnTo>
                        <a:pt x="485" y="6"/>
                      </a:lnTo>
                      <a:lnTo>
                        <a:pt x="383" y="18"/>
                      </a:lnTo>
                      <a:lnTo>
                        <a:pt x="329" y="30"/>
                      </a:lnTo>
                      <a:lnTo>
                        <a:pt x="299" y="66"/>
                      </a:lnTo>
                      <a:lnTo>
                        <a:pt x="263" y="60"/>
                      </a:lnTo>
                      <a:lnTo>
                        <a:pt x="209" y="102"/>
                      </a:lnTo>
                      <a:lnTo>
                        <a:pt x="167" y="150"/>
                      </a:lnTo>
                      <a:lnTo>
                        <a:pt x="138" y="197"/>
                      </a:lnTo>
                      <a:lnTo>
                        <a:pt x="102" y="257"/>
                      </a:lnTo>
                      <a:lnTo>
                        <a:pt x="84" y="323"/>
                      </a:lnTo>
                      <a:lnTo>
                        <a:pt x="66" y="436"/>
                      </a:lnTo>
                      <a:lnTo>
                        <a:pt x="54" y="514"/>
                      </a:lnTo>
                      <a:lnTo>
                        <a:pt x="54" y="640"/>
                      </a:lnTo>
                      <a:lnTo>
                        <a:pt x="78" y="723"/>
                      </a:lnTo>
                      <a:lnTo>
                        <a:pt x="72" y="783"/>
                      </a:lnTo>
                      <a:lnTo>
                        <a:pt x="54" y="939"/>
                      </a:lnTo>
                      <a:lnTo>
                        <a:pt x="36" y="1004"/>
                      </a:lnTo>
                      <a:lnTo>
                        <a:pt x="30" y="1076"/>
                      </a:lnTo>
                      <a:lnTo>
                        <a:pt x="12" y="1124"/>
                      </a:lnTo>
                      <a:lnTo>
                        <a:pt x="0" y="1178"/>
                      </a:lnTo>
                      <a:lnTo>
                        <a:pt x="6" y="1237"/>
                      </a:lnTo>
                      <a:lnTo>
                        <a:pt x="30" y="1291"/>
                      </a:lnTo>
                      <a:lnTo>
                        <a:pt x="78" y="1339"/>
                      </a:lnTo>
                      <a:lnTo>
                        <a:pt x="162" y="1417"/>
                      </a:lnTo>
                      <a:lnTo>
                        <a:pt x="209" y="1435"/>
                      </a:lnTo>
                      <a:lnTo>
                        <a:pt x="269" y="1453"/>
                      </a:lnTo>
                      <a:lnTo>
                        <a:pt x="317" y="1472"/>
                      </a:lnTo>
                      <a:lnTo>
                        <a:pt x="359" y="1496"/>
                      </a:lnTo>
                      <a:lnTo>
                        <a:pt x="557" y="1508"/>
                      </a:lnTo>
                      <a:lnTo>
                        <a:pt x="689" y="1333"/>
                      </a:lnTo>
                      <a:lnTo>
                        <a:pt x="736" y="1172"/>
                      </a:lnTo>
                      <a:lnTo>
                        <a:pt x="904" y="1172"/>
                      </a:lnTo>
                      <a:lnTo>
                        <a:pt x="892" y="939"/>
                      </a:lnTo>
                      <a:lnTo>
                        <a:pt x="862" y="676"/>
                      </a:lnTo>
                      <a:lnTo>
                        <a:pt x="808" y="347"/>
                      </a:lnTo>
                      <a:lnTo>
                        <a:pt x="778" y="197"/>
                      </a:lnTo>
                      <a:lnTo>
                        <a:pt x="700" y="18"/>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15"/>
                <p:cNvSpPr/>
                <p:nvPr/>
              </p:nvSpPr>
              <p:spPr>
                <a:xfrm>
                  <a:off x="2309760" y="5542560"/>
                  <a:ext cx="323640" cy="398160"/>
                </a:xfrm>
                <a:custGeom>
                  <a:avLst/>
                  <a:gdLst>
                    <a:gd name="textAreaLeft" fmla="*/ 0 w 323640"/>
                    <a:gd name="textAreaRight" fmla="*/ 324000 w 323640"/>
                    <a:gd name="textAreaTop" fmla="*/ 0 h 398160"/>
                    <a:gd name="textAreaBottom" fmla="*/ 398520 h 398160"/>
                  </a:gdLst>
                  <a:ahLst/>
                  <a:rect l="textAreaLeft" t="textAreaTop" r="textAreaRight" b="textAreaBottom"/>
                  <a:pathLst>
                    <a:path w="408" h="502">
                      <a:moveTo>
                        <a:pt x="384" y="24"/>
                      </a:moveTo>
                      <a:lnTo>
                        <a:pt x="238" y="12"/>
                      </a:lnTo>
                      <a:lnTo>
                        <a:pt x="84" y="0"/>
                      </a:lnTo>
                      <a:lnTo>
                        <a:pt x="58" y="36"/>
                      </a:lnTo>
                      <a:lnTo>
                        <a:pt x="46" y="64"/>
                      </a:lnTo>
                      <a:lnTo>
                        <a:pt x="28" y="100"/>
                      </a:lnTo>
                      <a:lnTo>
                        <a:pt x="12" y="154"/>
                      </a:lnTo>
                      <a:lnTo>
                        <a:pt x="4" y="201"/>
                      </a:lnTo>
                      <a:lnTo>
                        <a:pt x="0" y="245"/>
                      </a:lnTo>
                      <a:lnTo>
                        <a:pt x="6" y="299"/>
                      </a:lnTo>
                      <a:lnTo>
                        <a:pt x="24" y="369"/>
                      </a:lnTo>
                      <a:lnTo>
                        <a:pt x="42" y="425"/>
                      </a:lnTo>
                      <a:lnTo>
                        <a:pt x="46" y="474"/>
                      </a:lnTo>
                      <a:lnTo>
                        <a:pt x="292" y="502"/>
                      </a:lnTo>
                      <a:lnTo>
                        <a:pt x="396" y="327"/>
                      </a:lnTo>
                      <a:lnTo>
                        <a:pt x="408" y="281"/>
                      </a:lnTo>
                      <a:lnTo>
                        <a:pt x="384" y="24"/>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16"/>
                <p:cNvSpPr/>
                <p:nvPr/>
              </p:nvSpPr>
              <p:spPr>
                <a:xfrm>
                  <a:off x="2163600" y="4813920"/>
                  <a:ext cx="304920" cy="765000"/>
                </a:xfrm>
                <a:custGeom>
                  <a:avLst/>
                  <a:gdLst>
                    <a:gd name="textAreaLeft" fmla="*/ 0 w 304920"/>
                    <a:gd name="textAreaRight" fmla="*/ 305280 w 304920"/>
                    <a:gd name="textAreaTop" fmla="*/ 0 h 765000"/>
                    <a:gd name="textAreaBottom" fmla="*/ 765360 h 765000"/>
                  </a:gdLst>
                  <a:ahLst/>
                  <a:rect l="textAreaLeft" t="textAreaTop" r="textAreaRight" b="textAreaBottom"/>
                  <a:pathLst>
                    <a:path w="383" h="962">
                      <a:moveTo>
                        <a:pt x="239" y="0"/>
                      </a:moveTo>
                      <a:lnTo>
                        <a:pt x="311" y="119"/>
                      </a:lnTo>
                      <a:lnTo>
                        <a:pt x="353" y="245"/>
                      </a:lnTo>
                      <a:lnTo>
                        <a:pt x="377" y="394"/>
                      </a:lnTo>
                      <a:lnTo>
                        <a:pt x="383" y="562"/>
                      </a:lnTo>
                      <a:lnTo>
                        <a:pt x="377" y="759"/>
                      </a:lnTo>
                      <a:lnTo>
                        <a:pt x="359" y="842"/>
                      </a:lnTo>
                      <a:lnTo>
                        <a:pt x="263" y="914"/>
                      </a:lnTo>
                      <a:lnTo>
                        <a:pt x="215" y="884"/>
                      </a:lnTo>
                      <a:lnTo>
                        <a:pt x="167" y="872"/>
                      </a:lnTo>
                      <a:lnTo>
                        <a:pt x="125" y="884"/>
                      </a:lnTo>
                      <a:lnTo>
                        <a:pt x="95" y="926"/>
                      </a:lnTo>
                      <a:lnTo>
                        <a:pt x="42" y="950"/>
                      </a:lnTo>
                      <a:lnTo>
                        <a:pt x="0" y="962"/>
                      </a:lnTo>
                      <a:lnTo>
                        <a:pt x="66" y="902"/>
                      </a:lnTo>
                      <a:lnTo>
                        <a:pt x="107" y="884"/>
                      </a:lnTo>
                      <a:lnTo>
                        <a:pt x="137" y="854"/>
                      </a:lnTo>
                      <a:lnTo>
                        <a:pt x="173" y="854"/>
                      </a:lnTo>
                      <a:lnTo>
                        <a:pt x="215" y="813"/>
                      </a:lnTo>
                      <a:lnTo>
                        <a:pt x="173" y="765"/>
                      </a:lnTo>
                      <a:lnTo>
                        <a:pt x="233" y="777"/>
                      </a:lnTo>
                      <a:lnTo>
                        <a:pt x="191" y="639"/>
                      </a:lnTo>
                      <a:lnTo>
                        <a:pt x="155" y="526"/>
                      </a:lnTo>
                      <a:lnTo>
                        <a:pt x="143" y="446"/>
                      </a:lnTo>
                      <a:lnTo>
                        <a:pt x="161" y="328"/>
                      </a:lnTo>
                      <a:lnTo>
                        <a:pt x="191" y="460"/>
                      </a:lnTo>
                      <a:lnTo>
                        <a:pt x="251" y="609"/>
                      </a:lnTo>
                      <a:lnTo>
                        <a:pt x="323" y="771"/>
                      </a:lnTo>
                      <a:lnTo>
                        <a:pt x="323" y="550"/>
                      </a:lnTo>
                      <a:lnTo>
                        <a:pt x="311" y="400"/>
                      </a:lnTo>
                      <a:lnTo>
                        <a:pt x="293" y="179"/>
                      </a:lnTo>
                      <a:lnTo>
                        <a:pt x="239"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Freeform 117"/>
              <p:cNvSpPr/>
              <p:nvPr/>
            </p:nvSpPr>
            <p:spPr>
              <a:xfrm>
                <a:off x="2927160" y="5236560"/>
                <a:ext cx="885960" cy="483840"/>
              </a:xfrm>
              <a:custGeom>
                <a:avLst/>
                <a:gdLst>
                  <a:gd name="textAreaLeft" fmla="*/ 0 w 885960"/>
                  <a:gd name="textAreaRight" fmla="*/ 886320 w 885960"/>
                  <a:gd name="textAreaTop" fmla="*/ 0 h 483840"/>
                  <a:gd name="textAreaBottom" fmla="*/ 484200 h 483840"/>
                </a:gdLst>
                <a:ahLst/>
                <a:rect l="textAreaLeft" t="textAreaTop" r="textAreaRight" b="textAreaBottom"/>
                <a:pathLst>
                  <a:path w="1116" h="609">
                    <a:moveTo>
                      <a:pt x="0" y="496"/>
                    </a:moveTo>
                    <a:lnTo>
                      <a:pt x="431" y="0"/>
                    </a:lnTo>
                    <a:lnTo>
                      <a:pt x="1116" y="189"/>
                    </a:lnTo>
                    <a:lnTo>
                      <a:pt x="834" y="544"/>
                    </a:lnTo>
                    <a:lnTo>
                      <a:pt x="659" y="583"/>
                    </a:lnTo>
                    <a:lnTo>
                      <a:pt x="479" y="609"/>
                    </a:lnTo>
                    <a:lnTo>
                      <a:pt x="90" y="585"/>
                    </a:lnTo>
                    <a:lnTo>
                      <a:pt x="0" y="496"/>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18"/>
              <p:cNvSpPr/>
              <p:nvPr/>
            </p:nvSpPr>
            <p:spPr>
              <a:xfrm>
                <a:off x="2490840" y="5522400"/>
                <a:ext cx="757080" cy="317160"/>
              </a:xfrm>
              <a:custGeom>
                <a:avLst/>
                <a:gdLst>
                  <a:gd name="textAreaLeft" fmla="*/ 0 w 757080"/>
                  <a:gd name="textAreaRight" fmla="*/ 757440 w 757080"/>
                  <a:gd name="textAreaTop" fmla="*/ 0 h 317160"/>
                  <a:gd name="textAreaBottom" fmla="*/ 317520 h 317160"/>
                </a:gdLst>
                <a:ahLst/>
                <a:rect l="textAreaLeft" t="textAreaTop" r="textAreaRight" b="textAreaBottom"/>
                <a:pathLst>
                  <a:path w="954" h="401">
                    <a:moveTo>
                      <a:pt x="52" y="98"/>
                    </a:moveTo>
                    <a:lnTo>
                      <a:pt x="407" y="50"/>
                    </a:lnTo>
                    <a:lnTo>
                      <a:pt x="483" y="20"/>
                    </a:lnTo>
                    <a:lnTo>
                      <a:pt x="521" y="6"/>
                    </a:lnTo>
                    <a:lnTo>
                      <a:pt x="561" y="0"/>
                    </a:lnTo>
                    <a:lnTo>
                      <a:pt x="615" y="8"/>
                    </a:lnTo>
                    <a:lnTo>
                      <a:pt x="675" y="20"/>
                    </a:lnTo>
                    <a:lnTo>
                      <a:pt x="718" y="26"/>
                    </a:lnTo>
                    <a:lnTo>
                      <a:pt x="804" y="36"/>
                    </a:lnTo>
                    <a:lnTo>
                      <a:pt x="846" y="38"/>
                    </a:lnTo>
                    <a:lnTo>
                      <a:pt x="880" y="44"/>
                    </a:lnTo>
                    <a:lnTo>
                      <a:pt x="916" y="50"/>
                    </a:lnTo>
                    <a:lnTo>
                      <a:pt x="946" y="62"/>
                    </a:lnTo>
                    <a:lnTo>
                      <a:pt x="954" y="78"/>
                    </a:lnTo>
                    <a:lnTo>
                      <a:pt x="940" y="92"/>
                    </a:lnTo>
                    <a:lnTo>
                      <a:pt x="880" y="96"/>
                    </a:lnTo>
                    <a:lnTo>
                      <a:pt x="856" y="98"/>
                    </a:lnTo>
                    <a:lnTo>
                      <a:pt x="852" y="140"/>
                    </a:lnTo>
                    <a:lnTo>
                      <a:pt x="838" y="156"/>
                    </a:lnTo>
                    <a:lnTo>
                      <a:pt x="828" y="158"/>
                    </a:lnTo>
                    <a:lnTo>
                      <a:pt x="820" y="186"/>
                    </a:lnTo>
                    <a:lnTo>
                      <a:pt x="802" y="206"/>
                    </a:lnTo>
                    <a:lnTo>
                      <a:pt x="780" y="215"/>
                    </a:lnTo>
                    <a:lnTo>
                      <a:pt x="766" y="233"/>
                    </a:lnTo>
                    <a:lnTo>
                      <a:pt x="748" y="241"/>
                    </a:lnTo>
                    <a:lnTo>
                      <a:pt x="693" y="271"/>
                    </a:lnTo>
                    <a:lnTo>
                      <a:pt x="663" y="283"/>
                    </a:lnTo>
                    <a:lnTo>
                      <a:pt x="575" y="287"/>
                    </a:lnTo>
                    <a:lnTo>
                      <a:pt x="509" y="281"/>
                    </a:lnTo>
                    <a:lnTo>
                      <a:pt x="471" y="263"/>
                    </a:lnTo>
                    <a:lnTo>
                      <a:pt x="453" y="257"/>
                    </a:lnTo>
                    <a:lnTo>
                      <a:pt x="419" y="263"/>
                    </a:lnTo>
                    <a:lnTo>
                      <a:pt x="363" y="269"/>
                    </a:lnTo>
                    <a:lnTo>
                      <a:pt x="315" y="277"/>
                    </a:lnTo>
                    <a:lnTo>
                      <a:pt x="114" y="353"/>
                    </a:lnTo>
                    <a:lnTo>
                      <a:pt x="28" y="401"/>
                    </a:lnTo>
                    <a:lnTo>
                      <a:pt x="4" y="317"/>
                    </a:lnTo>
                    <a:lnTo>
                      <a:pt x="0" y="265"/>
                    </a:lnTo>
                    <a:lnTo>
                      <a:pt x="0" y="223"/>
                    </a:lnTo>
                    <a:lnTo>
                      <a:pt x="16" y="168"/>
                    </a:lnTo>
                    <a:lnTo>
                      <a:pt x="52" y="9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Group 119"/>
              <p:cNvGrpSpPr/>
              <p:nvPr/>
            </p:nvGrpSpPr>
            <p:grpSpPr>
              <a:xfrm>
                <a:off x="2344680" y="3922560"/>
                <a:ext cx="833400" cy="1115280"/>
                <a:chOff x="2344680" y="3922560"/>
                <a:chExt cx="833400" cy="1115280"/>
              </a:xfrm>
            </p:grpSpPr>
            <p:grpSp>
              <p:nvGrpSpPr>
                <p:cNvPr id="355" name="Group 120"/>
                <p:cNvGrpSpPr/>
                <p:nvPr/>
              </p:nvGrpSpPr>
              <p:grpSpPr>
                <a:xfrm>
                  <a:off x="3093840" y="4223880"/>
                  <a:ext cx="73080" cy="199440"/>
                  <a:chOff x="3093840" y="4223880"/>
                  <a:chExt cx="73080" cy="199440"/>
                </a:xfrm>
              </p:grpSpPr>
              <p:sp>
                <p:nvSpPr>
                  <p:cNvPr id="356" name="Oval 121"/>
                  <p:cNvSpPr/>
                  <p:nvPr/>
                </p:nvSpPr>
                <p:spPr>
                  <a:xfrm>
                    <a:off x="3093840" y="4223880"/>
                    <a:ext cx="73080" cy="1994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22"/>
                  <p:cNvSpPr/>
                  <p:nvPr/>
                </p:nvSpPr>
                <p:spPr>
                  <a:xfrm>
                    <a:off x="3100320" y="4228200"/>
                    <a:ext cx="65160" cy="19008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123"/>
                <p:cNvGrpSpPr/>
                <p:nvPr/>
              </p:nvGrpSpPr>
              <p:grpSpPr>
                <a:xfrm>
                  <a:off x="2344680" y="3922560"/>
                  <a:ext cx="833400" cy="1115280"/>
                  <a:chOff x="2344680" y="3922560"/>
                  <a:chExt cx="833400" cy="1115280"/>
                </a:xfrm>
              </p:grpSpPr>
              <p:grpSp>
                <p:nvGrpSpPr>
                  <p:cNvPr id="359" name="Group 124"/>
                  <p:cNvGrpSpPr/>
                  <p:nvPr/>
                </p:nvGrpSpPr>
                <p:grpSpPr>
                  <a:xfrm>
                    <a:off x="2538360" y="3992040"/>
                    <a:ext cx="639720" cy="1045800"/>
                    <a:chOff x="2538360" y="3992040"/>
                    <a:chExt cx="639720" cy="1045800"/>
                  </a:xfrm>
                </p:grpSpPr>
                <p:sp>
                  <p:nvSpPr>
                    <p:cNvPr id="360" name="Freeform 125"/>
                    <p:cNvSpPr/>
                    <p:nvPr/>
                  </p:nvSpPr>
                  <p:spPr>
                    <a:xfrm>
                      <a:off x="2538360" y="3992040"/>
                      <a:ext cx="639720" cy="1045800"/>
                    </a:xfrm>
                    <a:custGeom>
                      <a:avLst/>
                      <a:gdLst>
                        <a:gd name="textAreaLeft" fmla="*/ 0 w 639720"/>
                        <a:gd name="textAreaRight" fmla="*/ 640080 w 639720"/>
                        <a:gd name="textAreaTop" fmla="*/ 0 h 1045800"/>
                        <a:gd name="textAreaBottom" fmla="*/ 1046160 h 1045800"/>
                      </a:gdLst>
                      <a:ahLst/>
                      <a:rect l="textAreaLeft" t="textAreaTop" r="textAreaRight" b="textAreaBottom"/>
                      <a:pathLst>
                        <a:path w="806" h="1317">
                          <a:moveTo>
                            <a:pt x="521" y="24"/>
                          </a:moveTo>
                          <a:lnTo>
                            <a:pt x="589" y="48"/>
                          </a:lnTo>
                          <a:lnTo>
                            <a:pt x="629" y="73"/>
                          </a:lnTo>
                          <a:lnTo>
                            <a:pt x="658" y="107"/>
                          </a:lnTo>
                          <a:lnTo>
                            <a:pt x="676" y="145"/>
                          </a:lnTo>
                          <a:lnTo>
                            <a:pt x="690" y="187"/>
                          </a:lnTo>
                          <a:lnTo>
                            <a:pt x="700" y="229"/>
                          </a:lnTo>
                          <a:lnTo>
                            <a:pt x="712" y="289"/>
                          </a:lnTo>
                          <a:lnTo>
                            <a:pt x="718" y="348"/>
                          </a:lnTo>
                          <a:lnTo>
                            <a:pt x="710" y="384"/>
                          </a:lnTo>
                          <a:lnTo>
                            <a:pt x="706" y="420"/>
                          </a:lnTo>
                          <a:lnTo>
                            <a:pt x="724" y="456"/>
                          </a:lnTo>
                          <a:lnTo>
                            <a:pt x="778" y="514"/>
                          </a:lnTo>
                          <a:lnTo>
                            <a:pt x="792" y="530"/>
                          </a:lnTo>
                          <a:lnTo>
                            <a:pt x="804" y="546"/>
                          </a:lnTo>
                          <a:lnTo>
                            <a:pt x="806" y="560"/>
                          </a:lnTo>
                          <a:lnTo>
                            <a:pt x="800" y="572"/>
                          </a:lnTo>
                          <a:lnTo>
                            <a:pt x="786" y="580"/>
                          </a:lnTo>
                          <a:lnTo>
                            <a:pt x="760" y="587"/>
                          </a:lnTo>
                          <a:lnTo>
                            <a:pt x="750" y="597"/>
                          </a:lnTo>
                          <a:lnTo>
                            <a:pt x="760" y="621"/>
                          </a:lnTo>
                          <a:lnTo>
                            <a:pt x="758" y="635"/>
                          </a:lnTo>
                          <a:lnTo>
                            <a:pt x="748" y="647"/>
                          </a:lnTo>
                          <a:lnTo>
                            <a:pt x="726" y="659"/>
                          </a:lnTo>
                          <a:lnTo>
                            <a:pt x="696" y="673"/>
                          </a:lnTo>
                          <a:lnTo>
                            <a:pt x="678" y="679"/>
                          </a:lnTo>
                          <a:lnTo>
                            <a:pt x="742" y="695"/>
                          </a:lnTo>
                          <a:lnTo>
                            <a:pt x="750" y="707"/>
                          </a:lnTo>
                          <a:lnTo>
                            <a:pt x="734" y="733"/>
                          </a:lnTo>
                          <a:lnTo>
                            <a:pt x="732" y="769"/>
                          </a:lnTo>
                          <a:lnTo>
                            <a:pt x="732" y="821"/>
                          </a:lnTo>
                          <a:lnTo>
                            <a:pt x="732" y="840"/>
                          </a:lnTo>
                          <a:lnTo>
                            <a:pt x="724" y="856"/>
                          </a:lnTo>
                          <a:lnTo>
                            <a:pt x="706" y="870"/>
                          </a:lnTo>
                          <a:lnTo>
                            <a:pt x="678" y="878"/>
                          </a:lnTo>
                          <a:lnTo>
                            <a:pt x="648" y="886"/>
                          </a:lnTo>
                          <a:lnTo>
                            <a:pt x="581" y="898"/>
                          </a:lnTo>
                          <a:lnTo>
                            <a:pt x="541" y="908"/>
                          </a:lnTo>
                          <a:lnTo>
                            <a:pt x="511" y="920"/>
                          </a:lnTo>
                          <a:lnTo>
                            <a:pt x="489" y="938"/>
                          </a:lnTo>
                          <a:lnTo>
                            <a:pt x="415" y="1042"/>
                          </a:lnTo>
                          <a:lnTo>
                            <a:pt x="525" y="1279"/>
                          </a:lnTo>
                          <a:lnTo>
                            <a:pt x="461" y="1297"/>
                          </a:lnTo>
                          <a:lnTo>
                            <a:pt x="363" y="1317"/>
                          </a:lnTo>
                          <a:lnTo>
                            <a:pt x="277" y="1313"/>
                          </a:lnTo>
                          <a:lnTo>
                            <a:pt x="227" y="1285"/>
                          </a:lnTo>
                          <a:lnTo>
                            <a:pt x="112" y="924"/>
                          </a:lnTo>
                          <a:lnTo>
                            <a:pt x="112" y="803"/>
                          </a:lnTo>
                          <a:lnTo>
                            <a:pt x="78" y="739"/>
                          </a:lnTo>
                          <a:lnTo>
                            <a:pt x="36" y="655"/>
                          </a:lnTo>
                          <a:lnTo>
                            <a:pt x="18" y="607"/>
                          </a:lnTo>
                          <a:lnTo>
                            <a:pt x="6" y="544"/>
                          </a:lnTo>
                          <a:lnTo>
                            <a:pt x="0" y="474"/>
                          </a:lnTo>
                          <a:lnTo>
                            <a:pt x="0" y="390"/>
                          </a:lnTo>
                          <a:lnTo>
                            <a:pt x="10" y="313"/>
                          </a:lnTo>
                          <a:lnTo>
                            <a:pt x="24" y="245"/>
                          </a:lnTo>
                          <a:lnTo>
                            <a:pt x="46" y="187"/>
                          </a:lnTo>
                          <a:lnTo>
                            <a:pt x="72" y="131"/>
                          </a:lnTo>
                          <a:lnTo>
                            <a:pt x="112" y="79"/>
                          </a:lnTo>
                          <a:lnTo>
                            <a:pt x="167" y="38"/>
                          </a:lnTo>
                          <a:lnTo>
                            <a:pt x="227" y="14"/>
                          </a:lnTo>
                          <a:lnTo>
                            <a:pt x="297" y="2"/>
                          </a:lnTo>
                          <a:lnTo>
                            <a:pt x="359" y="0"/>
                          </a:lnTo>
                          <a:lnTo>
                            <a:pt x="441" y="4"/>
                          </a:lnTo>
                          <a:lnTo>
                            <a:pt x="521" y="2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Group 126"/>
                    <p:cNvGrpSpPr/>
                    <p:nvPr/>
                  </p:nvGrpSpPr>
                  <p:grpSpPr>
                    <a:xfrm>
                      <a:off x="2805120" y="4601160"/>
                      <a:ext cx="296640" cy="385200"/>
                      <a:chOff x="2805120" y="4601160"/>
                      <a:chExt cx="296640" cy="385200"/>
                    </a:xfrm>
                  </p:grpSpPr>
                  <p:sp>
                    <p:nvSpPr>
                      <p:cNvPr id="362" name="Freeform 127"/>
                      <p:cNvSpPr/>
                      <p:nvPr/>
                    </p:nvSpPr>
                    <p:spPr>
                      <a:xfrm>
                        <a:off x="2808360" y="4601160"/>
                        <a:ext cx="293400" cy="137880"/>
                      </a:xfrm>
                      <a:custGeom>
                        <a:avLst/>
                        <a:gdLst>
                          <a:gd name="textAreaLeft" fmla="*/ 0 w 293400"/>
                          <a:gd name="textAreaRight" fmla="*/ 293760 w 293400"/>
                          <a:gd name="textAreaTop" fmla="*/ 0 h 137880"/>
                          <a:gd name="textAreaBottom" fmla="*/ 137880 h 137880"/>
                        </a:gdLst>
                        <a:ahLst/>
                        <a:rect l="textAreaLeft" t="textAreaTop" r="textAreaRight" b="textAreaBottom"/>
                        <a:pathLst>
                          <a:path w="371" h="173">
                            <a:moveTo>
                              <a:pt x="0" y="0"/>
                            </a:moveTo>
                            <a:lnTo>
                              <a:pt x="54" y="24"/>
                            </a:lnTo>
                            <a:lnTo>
                              <a:pt x="110" y="44"/>
                            </a:lnTo>
                            <a:lnTo>
                              <a:pt x="152" y="56"/>
                            </a:lnTo>
                            <a:lnTo>
                              <a:pt x="206" y="70"/>
                            </a:lnTo>
                            <a:lnTo>
                              <a:pt x="242" y="77"/>
                            </a:lnTo>
                            <a:lnTo>
                              <a:pt x="292" y="85"/>
                            </a:lnTo>
                            <a:lnTo>
                              <a:pt x="329" y="85"/>
                            </a:lnTo>
                            <a:lnTo>
                              <a:pt x="371" y="85"/>
                            </a:lnTo>
                            <a:lnTo>
                              <a:pt x="331" y="101"/>
                            </a:lnTo>
                            <a:lnTo>
                              <a:pt x="276" y="113"/>
                            </a:lnTo>
                            <a:lnTo>
                              <a:pt x="232" y="123"/>
                            </a:lnTo>
                            <a:lnTo>
                              <a:pt x="196" y="133"/>
                            </a:lnTo>
                            <a:lnTo>
                              <a:pt x="160" y="145"/>
                            </a:lnTo>
                            <a:lnTo>
                              <a:pt x="138" y="155"/>
                            </a:lnTo>
                            <a:lnTo>
                              <a:pt x="114" y="173"/>
                            </a:lnTo>
                            <a:lnTo>
                              <a:pt x="136" y="147"/>
                            </a:lnTo>
                            <a:lnTo>
                              <a:pt x="156" y="127"/>
                            </a:lnTo>
                            <a:lnTo>
                              <a:pt x="162" y="111"/>
                            </a:lnTo>
                            <a:lnTo>
                              <a:pt x="162" y="97"/>
                            </a:lnTo>
                            <a:lnTo>
                              <a:pt x="156" y="83"/>
                            </a:lnTo>
                            <a:lnTo>
                              <a:pt x="140" y="75"/>
                            </a:lnTo>
                            <a:lnTo>
                              <a:pt x="122" y="70"/>
                            </a:lnTo>
                            <a:lnTo>
                              <a:pt x="90" y="66"/>
                            </a:lnTo>
                            <a:lnTo>
                              <a:pt x="62" y="62"/>
                            </a:lnTo>
                            <a:lnTo>
                              <a:pt x="0" y="0"/>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28"/>
                      <p:cNvSpPr/>
                      <p:nvPr/>
                    </p:nvSpPr>
                    <p:spPr>
                      <a:xfrm>
                        <a:off x="2805120" y="4794480"/>
                        <a:ext cx="71280" cy="191880"/>
                      </a:xfrm>
                      <a:custGeom>
                        <a:avLst/>
                        <a:gdLst>
                          <a:gd name="textAreaLeft" fmla="*/ 0 w 71280"/>
                          <a:gd name="textAreaRight" fmla="*/ 71640 w 71280"/>
                          <a:gd name="textAreaTop" fmla="*/ 0 h 191880"/>
                          <a:gd name="textAreaBottom" fmla="*/ 192240 h 191880"/>
                        </a:gdLst>
                        <a:ahLst/>
                        <a:rect l="textAreaLeft" t="textAreaTop" r="textAreaRight" b="textAreaBottom"/>
                        <a:pathLst>
                          <a:path w="92" h="241">
                            <a:moveTo>
                              <a:pt x="52" y="28"/>
                            </a:moveTo>
                            <a:lnTo>
                              <a:pt x="52" y="10"/>
                            </a:lnTo>
                            <a:lnTo>
                              <a:pt x="46" y="2"/>
                            </a:lnTo>
                            <a:lnTo>
                              <a:pt x="32" y="0"/>
                            </a:lnTo>
                            <a:lnTo>
                              <a:pt x="18" y="8"/>
                            </a:lnTo>
                            <a:lnTo>
                              <a:pt x="8" y="22"/>
                            </a:lnTo>
                            <a:lnTo>
                              <a:pt x="0" y="40"/>
                            </a:lnTo>
                            <a:lnTo>
                              <a:pt x="0" y="64"/>
                            </a:lnTo>
                            <a:lnTo>
                              <a:pt x="2" y="137"/>
                            </a:lnTo>
                            <a:lnTo>
                              <a:pt x="8" y="167"/>
                            </a:lnTo>
                            <a:lnTo>
                              <a:pt x="16" y="183"/>
                            </a:lnTo>
                            <a:lnTo>
                              <a:pt x="76" y="241"/>
                            </a:lnTo>
                            <a:lnTo>
                              <a:pt x="92" y="183"/>
                            </a:lnTo>
                            <a:lnTo>
                              <a:pt x="64" y="143"/>
                            </a:lnTo>
                            <a:lnTo>
                              <a:pt x="68" y="171"/>
                            </a:lnTo>
                            <a:lnTo>
                              <a:pt x="70" y="195"/>
                            </a:lnTo>
                            <a:lnTo>
                              <a:pt x="68" y="203"/>
                            </a:lnTo>
                            <a:lnTo>
                              <a:pt x="22" y="151"/>
                            </a:lnTo>
                            <a:lnTo>
                              <a:pt x="20" y="131"/>
                            </a:lnTo>
                            <a:lnTo>
                              <a:pt x="16" y="103"/>
                            </a:lnTo>
                            <a:lnTo>
                              <a:pt x="26" y="72"/>
                            </a:lnTo>
                            <a:lnTo>
                              <a:pt x="38" y="46"/>
                            </a:lnTo>
                            <a:lnTo>
                              <a:pt x="52" y="28"/>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4" name="Freeform 129"/>
                  <p:cNvSpPr/>
                  <p:nvPr/>
                </p:nvSpPr>
                <p:spPr>
                  <a:xfrm>
                    <a:off x="2982960" y="4323600"/>
                    <a:ext cx="47520" cy="37800"/>
                  </a:xfrm>
                  <a:custGeom>
                    <a:avLst/>
                    <a:gdLst>
                      <a:gd name="textAreaLeft" fmla="*/ 0 w 47520"/>
                      <a:gd name="textAreaRight" fmla="*/ 47880 w 47520"/>
                      <a:gd name="textAreaTop" fmla="*/ 0 h 37800"/>
                      <a:gd name="textAreaBottom" fmla="*/ 38160 h 37800"/>
                    </a:gdLst>
                    <a:ahLst/>
                    <a:rect l="textAreaLeft" t="textAreaTop" r="textAreaRight" b="textAreaBottom"/>
                    <a:pathLst>
                      <a:path w="60" h="50">
                        <a:moveTo>
                          <a:pt x="52" y="0"/>
                        </a:moveTo>
                        <a:lnTo>
                          <a:pt x="28" y="10"/>
                        </a:lnTo>
                        <a:lnTo>
                          <a:pt x="0" y="30"/>
                        </a:lnTo>
                        <a:lnTo>
                          <a:pt x="20" y="44"/>
                        </a:lnTo>
                        <a:lnTo>
                          <a:pt x="50" y="50"/>
                        </a:lnTo>
                        <a:lnTo>
                          <a:pt x="60" y="48"/>
                        </a:lnTo>
                        <a:lnTo>
                          <a:pt x="5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5" name="Freeform 130"/>
                  <p:cNvSpPr/>
                  <p:nvPr/>
                </p:nvSpPr>
                <p:spPr>
                  <a:xfrm>
                    <a:off x="2963880" y="4242960"/>
                    <a:ext cx="82440" cy="70920"/>
                  </a:xfrm>
                  <a:custGeom>
                    <a:avLst/>
                    <a:gdLst>
                      <a:gd name="textAreaLeft" fmla="*/ 0 w 82440"/>
                      <a:gd name="textAreaRight" fmla="*/ 82800 w 82440"/>
                      <a:gd name="textAreaTop" fmla="*/ 0 h 70920"/>
                      <a:gd name="textAreaBottom" fmla="*/ 71280 h 70920"/>
                    </a:gdLst>
                    <a:ahLst/>
                    <a:rect l="textAreaLeft" t="textAreaTop" r="textAreaRight" b="textAreaBottom"/>
                    <a:pathLst>
                      <a:path w="104" h="89">
                        <a:moveTo>
                          <a:pt x="104" y="0"/>
                        </a:moveTo>
                        <a:lnTo>
                          <a:pt x="80" y="6"/>
                        </a:lnTo>
                        <a:lnTo>
                          <a:pt x="62" y="23"/>
                        </a:lnTo>
                        <a:lnTo>
                          <a:pt x="46" y="45"/>
                        </a:lnTo>
                        <a:lnTo>
                          <a:pt x="30" y="65"/>
                        </a:lnTo>
                        <a:lnTo>
                          <a:pt x="0" y="89"/>
                        </a:lnTo>
                        <a:lnTo>
                          <a:pt x="36" y="77"/>
                        </a:lnTo>
                        <a:lnTo>
                          <a:pt x="60" y="59"/>
                        </a:lnTo>
                        <a:lnTo>
                          <a:pt x="80" y="41"/>
                        </a:lnTo>
                        <a:lnTo>
                          <a:pt x="98" y="35"/>
                        </a:lnTo>
                        <a:lnTo>
                          <a:pt x="104" y="0"/>
                        </a:lnTo>
                        <a:close/>
                      </a:path>
                    </a:pathLst>
                  </a:custGeom>
                  <a:solidFill>
                    <a:srgbClr val="5f3f1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66" name="Group 131"/>
                  <p:cNvGrpSpPr/>
                  <p:nvPr/>
                </p:nvGrpSpPr>
                <p:grpSpPr>
                  <a:xfrm>
                    <a:off x="2977920" y="4290480"/>
                    <a:ext cx="57240" cy="74160"/>
                    <a:chOff x="2977920" y="4290480"/>
                    <a:chExt cx="57240" cy="74160"/>
                  </a:xfrm>
                </p:grpSpPr>
                <p:sp>
                  <p:nvSpPr>
                    <p:cNvPr id="367" name="Oval 132"/>
                    <p:cNvSpPr/>
                    <p:nvPr/>
                  </p:nvSpPr>
                  <p:spPr>
                    <a:xfrm>
                      <a:off x="3000240" y="4328280"/>
                      <a:ext cx="28440" cy="31320"/>
                    </a:xfrm>
                    <a:prstGeom prst="ellipse">
                      <a:avLst/>
                    </a:prstGeom>
                    <a:solidFill>
                      <a:srgbClr val="5f7f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3"/>
                    <p:cNvSpPr/>
                    <p:nvPr/>
                  </p:nvSpPr>
                  <p:spPr>
                    <a:xfrm>
                      <a:off x="2977920" y="4290480"/>
                      <a:ext cx="57240" cy="74160"/>
                    </a:xfrm>
                    <a:custGeom>
                      <a:avLst/>
                      <a:gdLst>
                        <a:gd name="textAreaLeft" fmla="*/ 0 w 57240"/>
                        <a:gd name="textAreaRight" fmla="*/ 57600 w 57240"/>
                        <a:gd name="textAreaTop" fmla="*/ 0 h 74160"/>
                        <a:gd name="textAreaBottom" fmla="*/ 74520 h 74160"/>
                      </a:gdLst>
                      <a:ahLst/>
                      <a:rect l="textAreaLeft" t="textAreaTop" r="textAreaRight" b="textAreaBottom"/>
                      <a:pathLst>
                        <a:path w="72" h="96">
                          <a:moveTo>
                            <a:pt x="62" y="24"/>
                          </a:moveTo>
                          <a:lnTo>
                            <a:pt x="42" y="42"/>
                          </a:lnTo>
                          <a:lnTo>
                            <a:pt x="48" y="0"/>
                          </a:lnTo>
                          <a:lnTo>
                            <a:pt x="32" y="42"/>
                          </a:lnTo>
                          <a:lnTo>
                            <a:pt x="20" y="60"/>
                          </a:lnTo>
                          <a:lnTo>
                            <a:pt x="0" y="74"/>
                          </a:lnTo>
                          <a:lnTo>
                            <a:pt x="24" y="92"/>
                          </a:lnTo>
                          <a:lnTo>
                            <a:pt x="26" y="92"/>
                          </a:lnTo>
                          <a:lnTo>
                            <a:pt x="42" y="96"/>
                          </a:lnTo>
                          <a:lnTo>
                            <a:pt x="64" y="96"/>
                          </a:lnTo>
                          <a:lnTo>
                            <a:pt x="60" y="82"/>
                          </a:lnTo>
                          <a:lnTo>
                            <a:pt x="42" y="86"/>
                          </a:lnTo>
                          <a:lnTo>
                            <a:pt x="24" y="78"/>
                          </a:lnTo>
                          <a:lnTo>
                            <a:pt x="10" y="72"/>
                          </a:lnTo>
                          <a:lnTo>
                            <a:pt x="24" y="64"/>
                          </a:lnTo>
                          <a:lnTo>
                            <a:pt x="48" y="54"/>
                          </a:lnTo>
                          <a:lnTo>
                            <a:pt x="72" y="42"/>
                          </a:lnTo>
                          <a:lnTo>
                            <a:pt x="62" y="24"/>
                          </a:lnTo>
                          <a:close/>
                        </a:path>
                      </a:pathLst>
                    </a:custGeom>
                    <a:solidFill>
                      <a:srgbClr val="3f1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369" name="Freeform 134"/>
                  <p:cNvSpPr/>
                  <p:nvPr/>
                </p:nvSpPr>
                <p:spPr>
                  <a:xfrm>
                    <a:off x="2344680" y="3922560"/>
                    <a:ext cx="776160" cy="906120"/>
                  </a:xfrm>
                  <a:custGeom>
                    <a:avLst/>
                    <a:gdLst>
                      <a:gd name="textAreaLeft" fmla="*/ 0 w 776160"/>
                      <a:gd name="textAreaRight" fmla="*/ 776520 w 776160"/>
                      <a:gd name="textAreaTop" fmla="*/ 0 h 906120"/>
                      <a:gd name="textAreaBottom" fmla="*/ 906480 h 906120"/>
                    </a:gdLst>
                    <a:ahLst/>
                    <a:rect l="textAreaLeft" t="textAreaTop" r="textAreaRight" b="textAreaBottom"/>
                    <a:pathLst>
                      <a:path w="978" h="1144">
                        <a:moveTo>
                          <a:pt x="948" y="339"/>
                        </a:moveTo>
                        <a:lnTo>
                          <a:pt x="960" y="327"/>
                        </a:lnTo>
                        <a:lnTo>
                          <a:pt x="974" y="311"/>
                        </a:lnTo>
                        <a:lnTo>
                          <a:pt x="978" y="275"/>
                        </a:lnTo>
                        <a:lnTo>
                          <a:pt x="978" y="209"/>
                        </a:lnTo>
                        <a:lnTo>
                          <a:pt x="960" y="155"/>
                        </a:lnTo>
                        <a:lnTo>
                          <a:pt x="936" y="126"/>
                        </a:lnTo>
                        <a:lnTo>
                          <a:pt x="900" y="90"/>
                        </a:lnTo>
                        <a:lnTo>
                          <a:pt x="827" y="78"/>
                        </a:lnTo>
                        <a:lnTo>
                          <a:pt x="719" y="60"/>
                        </a:lnTo>
                        <a:lnTo>
                          <a:pt x="623" y="36"/>
                        </a:lnTo>
                        <a:lnTo>
                          <a:pt x="545" y="18"/>
                        </a:lnTo>
                        <a:lnTo>
                          <a:pt x="449" y="0"/>
                        </a:lnTo>
                        <a:lnTo>
                          <a:pt x="401" y="18"/>
                        </a:lnTo>
                        <a:lnTo>
                          <a:pt x="348" y="60"/>
                        </a:lnTo>
                        <a:lnTo>
                          <a:pt x="300" y="108"/>
                        </a:lnTo>
                        <a:lnTo>
                          <a:pt x="264" y="161"/>
                        </a:lnTo>
                        <a:lnTo>
                          <a:pt x="222" y="245"/>
                        </a:lnTo>
                        <a:lnTo>
                          <a:pt x="198" y="323"/>
                        </a:lnTo>
                        <a:lnTo>
                          <a:pt x="186" y="401"/>
                        </a:lnTo>
                        <a:lnTo>
                          <a:pt x="168" y="490"/>
                        </a:lnTo>
                        <a:lnTo>
                          <a:pt x="168" y="568"/>
                        </a:lnTo>
                        <a:lnTo>
                          <a:pt x="144" y="658"/>
                        </a:lnTo>
                        <a:lnTo>
                          <a:pt x="114" y="737"/>
                        </a:lnTo>
                        <a:lnTo>
                          <a:pt x="78" y="791"/>
                        </a:lnTo>
                        <a:lnTo>
                          <a:pt x="42" y="827"/>
                        </a:lnTo>
                        <a:lnTo>
                          <a:pt x="6" y="869"/>
                        </a:lnTo>
                        <a:lnTo>
                          <a:pt x="6" y="881"/>
                        </a:lnTo>
                        <a:lnTo>
                          <a:pt x="0" y="917"/>
                        </a:lnTo>
                        <a:lnTo>
                          <a:pt x="0" y="976"/>
                        </a:lnTo>
                        <a:lnTo>
                          <a:pt x="18" y="1024"/>
                        </a:lnTo>
                        <a:lnTo>
                          <a:pt x="48" y="1054"/>
                        </a:lnTo>
                        <a:lnTo>
                          <a:pt x="144" y="1054"/>
                        </a:lnTo>
                        <a:lnTo>
                          <a:pt x="222" y="1066"/>
                        </a:lnTo>
                        <a:lnTo>
                          <a:pt x="300" y="1120"/>
                        </a:lnTo>
                        <a:lnTo>
                          <a:pt x="383" y="1144"/>
                        </a:lnTo>
                        <a:lnTo>
                          <a:pt x="455" y="1144"/>
                        </a:lnTo>
                        <a:lnTo>
                          <a:pt x="515" y="1108"/>
                        </a:lnTo>
                        <a:lnTo>
                          <a:pt x="539" y="1054"/>
                        </a:lnTo>
                        <a:lnTo>
                          <a:pt x="533" y="982"/>
                        </a:lnTo>
                        <a:lnTo>
                          <a:pt x="503" y="929"/>
                        </a:lnTo>
                        <a:lnTo>
                          <a:pt x="497" y="875"/>
                        </a:lnTo>
                        <a:lnTo>
                          <a:pt x="503" y="821"/>
                        </a:lnTo>
                        <a:lnTo>
                          <a:pt x="551" y="773"/>
                        </a:lnTo>
                        <a:lnTo>
                          <a:pt x="605" y="755"/>
                        </a:lnTo>
                        <a:lnTo>
                          <a:pt x="641" y="725"/>
                        </a:lnTo>
                        <a:lnTo>
                          <a:pt x="671" y="677"/>
                        </a:lnTo>
                        <a:lnTo>
                          <a:pt x="677" y="598"/>
                        </a:lnTo>
                        <a:lnTo>
                          <a:pt x="677" y="562"/>
                        </a:lnTo>
                        <a:lnTo>
                          <a:pt x="719" y="550"/>
                        </a:lnTo>
                        <a:lnTo>
                          <a:pt x="761" y="514"/>
                        </a:lnTo>
                        <a:lnTo>
                          <a:pt x="785" y="454"/>
                        </a:lnTo>
                        <a:lnTo>
                          <a:pt x="809" y="371"/>
                        </a:lnTo>
                        <a:lnTo>
                          <a:pt x="797" y="269"/>
                        </a:lnTo>
                        <a:lnTo>
                          <a:pt x="779" y="209"/>
                        </a:lnTo>
                        <a:lnTo>
                          <a:pt x="725" y="167"/>
                        </a:lnTo>
                        <a:lnTo>
                          <a:pt x="851" y="209"/>
                        </a:lnTo>
                        <a:lnTo>
                          <a:pt x="894" y="275"/>
                        </a:lnTo>
                        <a:lnTo>
                          <a:pt x="940" y="315"/>
                        </a:lnTo>
                        <a:lnTo>
                          <a:pt x="948" y="339"/>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Group 135"/>
                <p:cNvGrpSpPr/>
                <p:nvPr/>
              </p:nvGrpSpPr>
              <p:grpSpPr>
                <a:xfrm>
                  <a:off x="2909880" y="4223880"/>
                  <a:ext cx="198360" cy="213840"/>
                  <a:chOff x="2909880" y="4223880"/>
                  <a:chExt cx="198360" cy="213840"/>
                </a:xfrm>
              </p:grpSpPr>
              <p:sp>
                <p:nvSpPr>
                  <p:cNvPr id="371" name="Line 136"/>
                  <p:cNvSpPr/>
                  <p:nvPr/>
                </p:nvSpPr>
                <p:spPr>
                  <a:xfrm flipV="1">
                    <a:off x="3093840" y="4312080"/>
                    <a:ext cx="14400" cy="2520"/>
                  </a:xfrm>
                  <a:prstGeom prst="line">
                    <a:avLst/>
                  </a:prstGeom>
                  <a:ln w="9360">
                    <a:solidFill>
                      <a:srgbClr val="7f3f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nvGrpSpPr>
                  <p:cNvPr id="372" name="Group 137"/>
                  <p:cNvGrpSpPr/>
                  <p:nvPr/>
                </p:nvGrpSpPr>
                <p:grpSpPr>
                  <a:xfrm>
                    <a:off x="2909880" y="4223880"/>
                    <a:ext cx="185760" cy="213840"/>
                    <a:chOff x="2909880" y="4223880"/>
                    <a:chExt cx="185760" cy="213840"/>
                  </a:xfrm>
                </p:grpSpPr>
                <p:sp>
                  <p:nvSpPr>
                    <p:cNvPr id="373" name="Freeform 138"/>
                    <p:cNvSpPr/>
                    <p:nvPr/>
                  </p:nvSpPr>
                  <p:spPr>
                    <a:xfrm>
                      <a:off x="2909880" y="4347360"/>
                      <a:ext cx="128520" cy="74160"/>
                    </a:xfrm>
                    <a:custGeom>
                      <a:avLst/>
                      <a:gdLst>
                        <a:gd name="textAreaLeft" fmla="*/ 0 w 128520"/>
                        <a:gd name="textAreaRight" fmla="*/ 128880 w 128520"/>
                        <a:gd name="textAreaTop" fmla="*/ 0 h 74160"/>
                        <a:gd name="textAreaBottom" fmla="*/ 74520 h 74160"/>
                      </a:gdLst>
                      <a:ahLst/>
                      <a:rect l="textAreaLeft" t="textAreaTop" r="textAreaRight" b="textAreaBottom"/>
                      <a:pathLst>
                        <a:path w="162" h="96">
                          <a:moveTo>
                            <a:pt x="20" y="0"/>
                          </a:moveTo>
                          <a:lnTo>
                            <a:pt x="50" y="26"/>
                          </a:lnTo>
                          <a:lnTo>
                            <a:pt x="74" y="42"/>
                          </a:lnTo>
                          <a:lnTo>
                            <a:pt x="92" y="52"/>
                          </a:lnTo>
                          <a:lnTo>
                            <a:pt x="116" y="62"/>
                          </a:lnTo>
                          <a:lnTo>
                            <a:pt x="138" y="66"/>
                          </a:lnTo>
                          <a:lnTo>
                            <a:pt x="156" y="62"/>
                          </a:lnTo>
                          <a:lnTo>
                            <a:pt x="162" y="96"/>
                          </a:lnTo>
                          <a:lnTo>
                            <a:pt x="136" y="96"/>
                          </a:lnTo>
                          <a:lnTo>
                            <a:pt x="116" y="94"/>
                          </a:lnTo>
                          <a:lnTo>
                            <a:pt x="90" y="82"/>
                          </a:lnTo>
                          <a:lnTo>
                            <a:pt x="66" y="64"/>
                          </a:lnTo>
                          <a:lnTo>
                            <a:pt x="44" y="48"/>
                          </a:lnTo>
                          <a:lnTo>
                            <a:pt x="0" y="8"/>
                          </a:lnTo>
                          <a:lnTo>
                            <a:pt x="20" y="0"/>
                          </a:lnTo>
                          <a:close/>
                        </a:path>
                      </a:pathLst>
                    </a:custGeom>
                    <a:solidFill>
                      <a:srgbClr val="7f3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4" name="Oval 139"/>
                    <p:cNvSpPr/>
                    <p:nvPr/>
                  </p:nvSpPr>
                  <p:spPr>
                    <a:xfrm>
                      <a:off x="3020760" y="4223880"/>
                      <a:ext cx="74880" cy="2138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0"/>
                    <p:cNvSpPr/>
                    <p:nvPr/>
                  </p:nvSpPr>
                  <p:spPr>
                    <a:xfrm>
                      <a:off x="3027240" y="4229640"/>
                      <a:ext cx="66600" cy="20304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pic>
        <p:nvPicPr>
          <p:cNvPr id="376" name="Picture 143" descr=""/>
          <p:cNvPicPr/>
          <p:nvPr/>
        </p:nvPicPr>
        <p:blipFill>
          <a:blip r:embed="rId3"/>
          <a:stretch/>
        </p:blipFill>
        <p:spPr>
          <a:xfrm>
            <a:off x="8388360" y="571680"/>
            <a:ext cx="596880" cy="83808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64646"/>
                </a:solidFill>
                <a:latin typeface="Arial"/>
              </a:rPr>
              <a:t>Beware of Allocated Fixed Costs</a:t>
            </a:r>
            <a:endParaRPr b="0" lang="en-US" sz="3400" spc="-1" strike="noStrike">
              <a:solidFill>
                <a:srgbClr val="464646"/>
              </a:solidFill>
              <a:latin typeface="Arial"/>
            </a:endParaRPr>
          </a:p>
        </p:txBody>
      </p:sp>
      <p:grpSp>
        <p:nvGrpSpPr>
          <p:cNvPr id="378" name="Group 3"/>
          <p:cNvGrpSpPr/>
          <p:nvPr/>
        </p:nvGrpSpPr>
        <p:grpSpPr>
          <a:xfrm>
            <a:off x="1600200" y="3733920"/>
            <a:ext cx="5806800" cy="2877480"/>
            <a:chOff x="1600200" y="3733920"/>
            <a:chExt cx="5806800" cy="2877480"/>
          </a:xfrm>
        </p:grpSpPr>
        <p:grpSp>
          <p:nvGrpSpPr>
            <p:cNvPr id="379" name="Group 4"/>
            <p:cNvGrpSpPr/>
            <p:nvPr/>
          </p:nvGrpSpPr>
          <p:grpSpPr>
            <a:xfrm>
              <a:off x="3612960" y="3979800"/>
              <a:ext cx="1768680" cy="1711440"/>
              <a:chOff x="3612960" y="3979800"/>
              <a:chExt cx="1768680" cy="1711440"/>
            </a:xfrm>
          </p:grpSpPr>
          <p:grpSp>
            <p:nvGrpSpPr>
              <p:cNvPr id="380" name="Group 5"/>
              <p:cNvGrpSpPr/>
              <p:nvPr/>
            </p:nvGrpSpPr>
            <p:grpSpPr>
              <a:xfrm>
                <a:off x="3612960" y="4501440"/>
                <a:ext cx="1768680" cy="1189800"/>
                <a:chOff x="3612960" y="4501440"/>
                <a:chExt cx="1768680" cy="1189800"/>
              </a:xfrm>
            </p:grpSpPr>
            <p:grpSp>
              <p:nvGrpSpPr>
                <p:cNvPr id="381" name="Group 6"/>
                <p:cNvGrpSpPr/>
                <p:nvPr/>
              </p:nvGrpSpPr>
              <p:grpSpPr>
                <a:xfrm>
                  <a:off x="4125960" y="4553640"/>
                  <a:ext cx="671400" cy="1114200"/>
                  <a:chOff x="4125960" y="4553640"/>
                  <a:chExt cx="671400" cy="1114200"/>
                </a:xfrm>
              </p:grpSpPr>
              <p:sp>
                <p:nvSpPr>
                  <p:cNvPr id="382" name="Freeform 7"/>
                  <p:cNvSpPr/>
                  <p:nvPr/>
                </p:nvSpPr>
                <p:spPr>
                  <a:xfrm>
                    <a:off x="4125960" y="4553640"/>
                    <a:ext cx="671400" cy="1114200"/>
                  </a:xfrm>
                  <a:custGeom>
                    <a:avLst/>
                    <a:gdLst>
                      <a:gd name="textAreaLeft" fmla="*/ 0 w 671400"/>
                      <a:gd name="textAreaRight" fmla="*/ 671760 w 671400"/>
                      <a:gd name="textAreaTop" fmla="*/ 0 h 1114200"/>
                      <a:gd name="textAreaBottom" fmla="*/ 1114200 h 1114200"/>
                    </a:gdLst>
                    <a:ahLst/>
                    <a:rect l="textAreaLeft" t="textAreaTop" r="textAreaRight" b="textAreaBottom"/>
                    <a:pathLst>
                      <a:path w="846" h="1405">
                        <a:moveTo>
                          <a:pt x="263" y="0"/>
                        </a:moveTo>
                        <a:lnTo>
                          <a:pt x="499" y="185"/>
                        </a:lnTo>
                        <a:lnTo>
                          <a:pt x="691" y="30"/>
                        </a:lnTo>
                        <a:lnTo>
                          <a:pt x="738" y="705"/>
                        </a:lnTo>
                        <a:lnTo>
                          <a:pt x="792" y="1100"/>
                        </a:lnTo>
                        <a:lnTo>
                          <a:pt x="846" y="1405"/>
                        </a:lnTo>
                        <a:lnTo>
                          <a:pt x="0" y="1405"/>
                        </a:lnTo>
                        <a:lnTo>
                          <a:pt x="120" y="1022"/>
                        </a:lnTo>
                        <a:lnTo>
                          <a:pt x="198" y="544"/>
                        </a:lnTo>
                        <a:lnTo>
                          <a:pt x="263"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8"/>
                  <p:cNvSpPr/>
                  <p:nvPr/>
                </p:nvSpPr>
                <p:spPr>
                  <a:xfrm>
                    <a:off x="4543200" y="4638960"/>
                    <a:ext cx="160560" cy="201240"/>
                  </a:xfrm>
                  <a:custGeom>
                    <a:avLst/>
                    <a:gdLst>
                      <a:gd name="textAreaLeft" fmla="*/ 0 w 160560"/>
                      <a:gd name="textAreaRight" fmla="*/ 160920 w 160560"/>
                      <a:gd name="textAreaTop" fmla="*/ 0 h 201240"/>
                      <a:gd name="textAreaBottom" fmla="*/ 201600 h 201240"/>
                    </a:gdLst>
                    <a:ahLst/>
                    <a:rect l="textAreaLeft" t="textAreaTop" r="textAreaRight" b="textAreaBottom"/>
                    <a:pathLst>
                      <a:path w="202" h="255">
                        <a:moveTo>
                          <a:pt x="0" y="93"/>
                        </a:moveTo>
                        <a:lnTo>
                          <a:pt x="28" y="123"/>
                        </a:lnTo>
                        <a:lnTo>
                          <a:pt x="44" y="141"/>
                        </a:lnTo>
                        <a:lnTo>
                          <a:pt x="54" y="165"/>
                        </a:lnTo>
                        <a:lnTo>
                          <a:pt x="62" y="201"/>
                        </a:lnTo>
                        <a:lnTo>
                          <a:pt x="66" y="239"/>
                        </a:lnTo>
                        <a:lnTo>
                          <a:pt x="86" y="255"/>
                        </a:lnTo>
                        <a:lnTo>
                          <a:pt x="202" y="107"/>
                        </a:lnTo>
                        <a:lnTo>
                          <a:pt x="146" y="0"/>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
                  <p:cNvSpPr/>
                  <p:nvPr/>
                </p:nvSpPr>
                <p:spPr>
                  <a:xfrm>
                    <a:off x="4311720" y="4567680"/>
                    <a:ext cx="137880" cy="280440"/>
                  </a:xfrm>
                  <a:custGeom>
                    <a:avLst/>
                    <a:gdLst>
                      <a:gd name="textAreaLeft" fmla="*/ 0 w 137880"/>
                      <a:gd name="textAreaRight" fmla="*/ 138240 w 137880"/>
                      <a:gd name="textAreaTop" fmla="*/ 0 h 280440"/>
                      <a:gd name="textAreaBottom" fmla="*/ 280800 h 280440"/>
                    </a:gdLst>
                    <a:ahLst/>
                    <a:rect l="textAreaLeft" t="textAreaTop" r="textAreaRight" b="textAreaBottom"/>
                    <a:pathLst>
                      <a:path w="174" h="355">
                        <a:moveTo>
                          <a:pt x="174" y="165"/>
                        </a:moveTo>
                        <a:lnTo>
                          <a:pt x="160" y="181"/>
                        </a:lnTo>
                        <a:lnTo>
                          <a:pt x="144" y="231"/>
                        </a:lnTo>
                        <a:lnTo>
                          <a:pt x="120" y="291"/>
                        </a:lnTo>
                        <a:lnTo>
                          <a:pt x="96" y="355"/>
                        </a:lnTo>
                        <a:lnTo>
                          <a:pt x="42" y="247"/>
                        </a:lnTo>
                        <a:lnTo>
                          <a:pt x="12" y="137"/>
                        </a:lnTo>
                        <a:lnTo>
                          <a:pt x="0" y="32"/>
                        </a:lnTo>
                        <a:lnTo>
                          <a:pt x="0" y="0"/>
                        </a:lnTo>
                        <a:lnTo>
                          <a:pt x="42" y="0"/>
                        </a:lnTo>
                        <a:lnTo>
                          <a:pt x="174"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Group 10"/>
                  <p:cNvGrpSpPr/>
                  <p:nvPr/>
                </p:nvGrpSpPr>
                <p:grpSpPr>
                  <a:xfrm>
                    <a:off x="4267080" y="5023080"/>
                    <a:ext cx="439920" cy="582120"/>
                    <a:chOff x="4267080" y="5023080"/>
                    <a:chExt cx="439920" cy="582120"/>
                  </a:xfrm>
                </p:grpSpPr>
                <p:sp>
                  <p:nvSpPr>
                    <p:cNvPr id="386" name="Freeform 11"/>
                    <p:cNvSpPr/>
                    <p:nvPr/>
                  </p:nvSpPr>
                  <p:spPr>
                    <a:xfrm>
                      <a:off x="4314600" y="5023080"/>
                      <a:ext cx="330480" cy="323640"/>
                    </a:xfrm>
                    <a:custGeom>
                      <a:avLst/>
                      <a:gdLst>
                        <a:gd name="textAreaLeft" fmla="*/ 0 w 330480"/>
                        <a:gd name="textAreaRight" fmla="*/ 330840 w 330480"/>
                        <a:gd name="textAreaTop" fmla="*/ 0 h 323640"/>
                        <a:gd name="textAreaBottom" fmla="*/ 324000 h 323640"/>
                      </a:gdLst>
                      <a:ahLst/>
                      <a:rect l="textAreaLeft" t="textAreaTop" r="textAreaRight" b="textAreaBottom"/>
                      <a:pathLst>
                        <a:path w="418" h="408">
                          <a:moveTo>
                            <a:pt x="418" y="0"/>
                          </a:moveTo>
                          <a:lnTo>
                            <a:pt x="362" y="6"/>
                          </a:lnTo>
                          <a:lnTo>
                            <a:pt x="314" y="20"/>
                          </a:lnTo>
                          <a:lnTo>
                            <a:pt x="228" y="61"/>
                          </a:lnTo>
                          <a:lnTo>
                            <a:pt x="134" y="139"/>
                          </a:lnTo>
                          <a:lnTo>
                            <a:pt x="96" y="175"/>
                          </a:lnTo>
                          <a:lnTo>
                            <a:pt x="72" y="223"/>
                          </a:lnTo>
                          <a:lnTo>
                            <a:pt x="38" y="269"/>
                          </a:lnTo>
                          <a:lnTo>
                            <a:pt x="20" y="301"/>
                          </a:lnTo>
                          <a:lnTo>
                            <a:pt x="8" y="352"/>
                          </a:lnTo>
                          <a:lnTo>
                            <a:pt x="0" y="390"/>
                          </a:lnTo>
                          <a:lnTo>
                            <a:pt x="8" y="408"/>
                          </a:lnTo>
                          <a:lnTo>
                            <a:pt x="24" y="408"/>
                          </a:lnTo>
                          <a:lnTo>
                            <a:pt x="32" y="384"/>
                          </a:lnTo>
                          <a:lnTo>
                            <a:pt x="66" y="342"/>
                          </a:lnTo>
                          <a:lnTo>
                            <a:pt x="90" y="277"/>
                          </a:lnTo>
                          <a:lnTo>
                            <a:pt x="110" y="241"/>
                          </a:lnTo>
                          <a:lnTo>
                            <a:pt x="144" y="183"/>
                          </a:lnTo>
                          <a:lnTo>
                            <a:pt x="192" y="119"/>
                          </a:lnTo>
                          <a:lnTo>
                            <a:pt x="286" y="56"/>
                          </a:lnTo>
                          <a:lnTo>
                            <a:pt x="344" y="26"/>
                          </a:lnTo>
                          <a:lnTo>
                            <a:pt x="41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12"/>
                    <p:cNvSpPr/>
                    <p:nvPr/>
                  </p:nvSpPr>
                  <p:spPr>
                    <a:xfrm>
                      <a:off x="4267080" y="5173560"/>
                      <a:ext cx="439920" cy="431640"/>
                    </a:xfrm>
                    <a:custGeom>
                      <a:avLst/>
                      <a:gdLst>
                        <a:gd name="textAreaLeft" fmla="*/ 0 w 439920"/>
                        <a:gd name="textAreaRight" fmla="*/ 440280 w 439920"/>
                        <a:gd name="textAreaTop" fmla="*/ 0 h 431640"/>
                        <a:gd name="textAreaBottom" fmla="*/ 432000 h 431640"/>
                      </a:gdLst>
                      <a:ahLst/>
                      <a:rect l="textAreaLeft" t="textAreaTop" r="textAreaRight" b="textAreaBottom"/>
                      <a:pathLst>
                        <a:path w="555" h="544">
                          <a:moveTo>
                            <a:pt x="549" y="0"/>
                          </a:moveTo>
                          <a:lnTo>
                            <a:pt x="477" y="78"/>
                          </a:lnTo>
                          <a:lnTo>
                            <a:pt x="433" y="102"/>
                          </a:lnTo>
                          <a:lnTo>
                            <a:pt x="397" y="114"/>
                          </a:lnTo>
                          <a:lnTo>
                            <a:pt x="351" y="145"/>
                          </a:lnTo>
                          <a:lnTo>
                            <a:pt x="191" y="253"/>
                          </a:lnTo>
                          <a:lnTo>
                            <a:pt x="157" y="289"/>
                          </a:lnTo>
                          <a:lnTo>
                            <a:pt x="107" y="325"/>
                          </a:lnTo>
                          <a:lnTo>
                            <a:pt x="71" y="349"/>
                          </a:lnTo>
                          <a:lnTo>
                            <a:pt x="36" y="373"/>
                          </a:lnTo>
                          <a:lnTo>
                            <a:pt x="6" y="394"/>
                          </a:lnTo>
                          <a:lnTo>
                            <a:pt x="0" y="412"/>
                          </a:lnTo>
                          <a:lnTo>
                            <a:pt x="2" y="430"/>
                          </a:lnTo>
                          <a:lnTo>
                            <a:pt x="20" y="430"/>
                          </a:lnTo>
                          <a:lnTo>
                            <a:pt x="49" y="412"/>
                          </a:lnTo>
                          <a:lnTo>
                            <a:pt x="83" y="390"/>
                          </a:lnTo>
                          <a:lnTo>
                            <a:pt x="113" y="371"/>
                          </a:lnTo>
                          <a:lnTo>
                            <a:pt x="109" y="402"/>
                          </a:lnTo>
                          <a:lnTo>
                            <a:pt x="85" y="438"/>
                          </a:lnTo>
                          <a:lnTo>
                            <a:pt x="65" y="454"/>
                          </a:lnTo>
                          <a:lnTo>
                            <a:pt x="59" y="468"/>
                          </a:lnTo>
                          <a:lnTo>
                            <a:pt x="36" y="490"/>
                          </a:lnTo>
                          <a:lnTo>
                            <a:pt x="14" y="520"/>
                          </a:lnTo>
                          <a:lnTo>
                            <a:pt x="18" y="544"/>
                          </a:lnTo>
                          <a:lnTo>
                            <a:pt x="83" y="538"/>
                          </a:lnTo>
                          <a:lnTo>
                            <a:pt x="101" y="498"/>
                          </a:lnTo>
                          <a:lnTo>
                            <a:pt x="143" y="456"/>
                          </a:lnTo>
                          <a:lnTo>
                            <a:pt x="137" y="426"/>
                          </a:lnTo>
                          <a:lnTo>
                            <a:pt x="191" y="383"/>
                          </a:lnTo>
                          <a:lnTo>
                            <a:pt x="487" y="179"/>
                          </a:lnTo>
                          <a:lnTo>
                            <a:pt x="435" y="173"/>
                          </a:lnTo>
                          <a:lnTo>
                            <a:pt x="417" y="133"/>
                          </a:lnTo>
                          <a:lnTo>
                            <a:pt x="463" y="120"/>
                          </a:lnTo>
                          <a:lnTo>
                            <a:pt x="477" y="108"/>
                          </a:lnTo>
                          <a:lnTo>
                            <a:pt x="493" y="108"/>
                          </a:lnTo>
                          <a:lnTo>
                            <a:pt x="555" y="26"/>
                          </a:lnTo>
                          <a:lnTo>
                            <a:pt x="54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 name="Freeform 13"/>
                  <p:cNvSpPr/>
                  <p:nvPr/>
                </p:nvSpPr>
                <p:spPr>
                  <a:xfrm>
                    <a:off x="4414680" y="4700880"/>
                    <a:ext cx="200160" cy="904680"/>
                  </a:xfrm>
                  <a:custGeom>
                    <a:avLst/>
                    <a:gdLst>
                      <a:gd name="textAreaLeft" fmla="*/ 0 w 200160"/>
                      <a:gd name="textAreaRight" fmla="*/ 200520 w 200160"/>
                      <a:gd name="textAreaTop" fmla="*/ 0 h 904680"/>
                      <a:gd name="textAreaBottom" fmla="*/ 905040 h 904680"/>
                    </a:gdLst>
                    <a:ahLst/>
                    <a:rect l="textAreaLeft" t="textAreaTop" r="textAreaRight" b="textAreaBottom"/>
                    <a:pathLst>
                      <a:path w="254" h="1142">
                        <a:moveTo>
                          <a:pt x="42" y="0"/>
                        </a:moveTo>
                        <a:lnTo>
                          <a:pt x="72" y="30"/>
                        </a:lnTo>
                        <a:lnTo>
                          <a:pt x="98" y="42"/>
                        </a:lnTo>
                        <a:lnTo>
                          <a:pt x="140" y="38"/>
                        </a:lnTo>
                        <a:lnTo>
                          <a:pt x="172" y="26"/>
                        </a:lnTo>
                        <a:lnTo>
                          <a:pt x="184" y="50"/>
                        </a:lnTo>
                        <a:lnTo>
                          <a:pt x="184" y="80"/>
                        </a:lnTo>
                        <a:lnTo>
                          <a:pt x="176" y="102"/>
                        </a:lnTo>
                        <a:lnTo>
                          <a:pt x="164" y="114"/>
                        </a:lnTo>
                        <a:lnTo>
                          <a:pt x="136" y="138"/>
                        </a:lnTo>
                        <a:lnTo>
                          <a:pt x="184" y="200"/>
                        </a:lnTo>
                        <a:lnTo>
                          <a:pt x="206" y="239"/>
                        </a:lnTo>
                        <a:lnTo>
                          <a:pt x="218" y="275"/>
                        </a:lnTo>
                        <a:lnTo>
                          <a:pt x="224" y="365"/>
                        </a:lnTo>
                        <a:lnTo>
                          <a:pt x="244" y="562"/>
                        </a:lnTo>
                        <a:lnTo>
                          <a:pt x="254" y="676"/>
                        </a:lnTo>
                        <a:lnTo>
                          <a:pt x="254" y="813"/>
                        </a:lnTo>
                        <a:lnTo>
                          <a:pt x="250" y="969"/>
                        </a:lnTo>
                        <a:lnTo>
                          <a:pt x="246" y="1142"/>
                        </a:lnTo>
                        <a:lnTo>
                          <a:pt x="6" y="1140"/>
                        </a:lnTo>
                        <a:lnTo>
                          <a:pt x="0" y="965"/>
                        </a:lnTo>
                        <a:lnTo>
                          <a:pt x="6" y="863"/>
                        </a:lnTo>
                        <a:lnTo>
                          <a:pt x="14" y="737"/>
                        </a:lnTo>
                        <a:lnTo>
                          <a:pt x="14" y="526"/>
                        </a:lnTo>
                        <a:lnTo>
                          <a:pt x="14" y="457"/>
                        </a:lnTo>
                        <a:lnTo>
                          <a:pt x="20" y="287"/>
                        </a:lnTo>
                        <a:lnTo>
                          <a:pt x="32" y="235"/>
                        </a:lnTo>
                        <a:lnTo>
                          <a:pt x="60" y="144"/>
                        </a:lnTo>
                        <a:lnTo>
                          <a:pt x="26" y="98"/>
                        </a:lnTo>
                        <a:lnTo>
                          <a:pt x="12" y="74"/>
                        </a:lnTo>
                        <a:lnTo>
                          <a:pt x="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Group 14"/>
                <p:cNvGrpSpPr/>
                <p:nvPr/>
              </p:nvGrpSpPr>
              <p:grpSpPr>
                <a:xfrm>
                  <a:off x="3612960" y="4501440"/>
                  <a:ext cx="1768680" cy="1189800"/>
                  <a:chOff x="3612960" y="4501440"/>
                  <a:chExt cx="1768680" cy="1189800"/>
                </a:xfrm>
              </p:grpSpPr>
              <p:grpSp>
                <p:nvGrpSpPr>
                  <p:cNvPr id="390" name="Group 15"/>
                  <p:cNvGrpSpPr/>
                  <p:nvPr/>
                </p:nvGrpSpPr>
                <p:grpSpPr>
                  <a:xfrm>
                    <a:off x="3612960" y="4531320"/>
                    <a:ext cx="750960" cy="1159920"/>
                    <a:chOff x="3612960" y="4531320"/>
                    <a:chExt cx="750960" cy="1159920"/>
                  </a:xfrm>
                </p:grpSpPr>
                <p:sp>
                  <p:nvSpPr>
                    <p:cNvPr id="391" name="Freeform 16"/>
                    <p:cNvSpPr/>
                    <p:nvPr/>
                  </p:nvSpPr>
                  <p:spPr>
                    <a:xfrm>
                      <a:off x="3612960" y="4545360"/>
                      <a:ext cx="741600" cy="1145880"/>
                    </a:xfrm>
                    <a:custGeom>
                      <a:avLst/>
                      <a:gdLst>
                        <a:gd name="textAreaLeft" fmla="*/ 0 w 741600"/>
                        <a:gd name="textAreaRight" fmla="*/ 741960 w 741600"/>
                        <a:gd name="textAreaTop" fmla="*/ 0 h 1145880"/>
                        <a:gd name="textAreaBottom" fmla="*/ 1145880 h 1145880"/>
                      </a:gdLst>
                      <a:ahLst/>
                      <a:rect l="textAreaLeft" t="textAreaTop" r="textAreaRight" b="textAreaBottom"/>
                      <a:pathLst>
                        <a:path w="934" h="1444">
                          <a:moveTo>
                            <a:pt x="829" y="0"/>
                          </a:moveTo>
                          <a:lnTo>
                            <a:pt x="795" y="46"/>
                          </a:lnTo>
                          <a:lnTo>
                            <a:pt x="705" y="76"/>
                          </a:lnTo>
                          <a:lnTo>
                            <a:pt x="631" y="94"/>
                          </a:lnTo>
                          <a:lnTo>
                            <a:pt x="567" y="102"/>
                          </a:lnTo>
                          <a:lnTo>
                            <a:pt x="453" y="120"/>
                          </a:lnTo>
                          <a:lnTo>
                            <a:pt x="413" y="136"/>
                          </a:lnTo>
                          <a:lnTo>
                            <a:pt x="399" y="143"/>
                          </a:lnTo>
                          <a:lnTo>
                            <a:pt x="389" y="155"/>
                          </a:lnTo>
                          <a:lnTo>
                            <a:pt x="359" y="299"/>
                          </a:lnTo>
                          <a:lnTo>
                            <a:pt x="339" y="375"/>
                          </a:lnTo>
                          <a:lnTo>
                            <a:pt x="316" y="452"/>
                          </a:lnTo>
                          <a:lnTo>
                            <a:pt x="304" y="494"/>
                          </a:lnTo>
                          <a:lnTo>
                            <a:pt x="294" y="500"/>
                          </a:lnTo>
                          <a:lnTo>
                            <a:pt x="272" y="514"/>
                          </a:lnTo>
                          <a:lnTo>
                            <a:pt x="266" y="534"/>
                          </a:lnTo>
                          <a:lnTo>
                            <a:pt x="250" y="566"/>
                          </a:lnTo>
                          <a:lnTo>
                            <a:pt x="196" y="707"/>
                          </a:lnTo>
                          <a:lnTo>
                            <a:pt x="188" y="761"/>
                          </a:lnTo>
                          <a:lnTo>
                            <a:pt x="174" y="795"/>
                          </a:lnTo>
                          <a:lnTo>
                            <a:pt x="108" y="865"/>
                          </a:lnTo>
                          <a:lnTo>
                            <a:pt x="94" y="899"/>
                          </a:lnTo>
                          <a:lnTo>
                            <a:pt x="76" y="928"/>
                          </a:lnTo>
                          <a:lnTo>
                            <a:pt x="62" y="954"/>
                          </a:lnTo>
                          <a:lnTo>
                            <a:pt x="48" y="984"/>
                          </a:lnTo>
                          <a:lnTo>
                            <a:pt x="28" y="1040"/>
                          </a:lnTo>
                          <a:lnTo>
                            <a:pt x="8" y="1088"/>
                          </a:lnTo>
                          <a:lnTo>
                            <a:pt x="0" y="1118"/>
                          </a:lnTo>
                          <a:lnTo>
                            <a:pt x="4" y="1154"/>
                          </a:lnTo>
                          <a:lnTo>
                            <a:pt x="6" y="1185"/>
                          </a:lnTo>
                          <a:lnTo>
                            <a:pt x="16" y="1225"/>
                          </a:lnTo>
                          <a:lnTo>
                            <a:pt x="32" y="1255"/>
                          </a:lnTo>
                          <a:lnTo>
                            <a:pt x="44" y="1285"/>
                          </a:lnTo>
                          <a:lnTo>
                            <a:pt x="80" y="1317"/>
                          </a:lnTo>
                          <a:lnTo>
                            <a:pt x="381" y="1325"/>
                          </a:lnTo>
                          <a:lnTo>
                            <a:pt x="447" y="1142"/>
                          </a:lnTo>
                          <a:lnTo>
                            <a:pt x="501" y="1054"/>
                          </a:lnTo>
                          <a:lnTo>
                            <a:pt x="533" y="928"/>
                          </a:lnTo>
                          <a:lnTo>
                            <a:pt x="483" y="1176"/>
                          </a:lnTo>
                          <a:lnTo>
                            <a:pt x="463" y="1261"/>
                          </a:lnTo>
                          <a:lnTo>
                            <a:pt x="445" y="1357"/>
                          </a:lnTo>
                          <a:lnTo>
                            <a:pt x="411" y="1444"/>
                          </a:lnTo>
                          <a:lnTo>
                            <a:pt x="645" y="1444"/>
                          </a:lnTo>
                          <a:lnTo>
                            <a:pt x="723" y="1307"/>
                          </a:lnTo>
                          <a:lnTo>
                            <a:pt x="767" y="1239"/>
                          </a:lnTo>
                          <a:lnTo>
                            <a:pt x="803" y="1158"/>
                          </a:lnTo>
                          <a:lnTo>
                            <a:pt x="845" y="1054"/>
                          </a:lnTo>
                          <a:lnTo>
                            <a:pt x="862" y="954"/>
                          </a:lnTo>
                          <a:lnTo>
                            <a:pt x="882" y="867"/>
                          </a:lnTo>
                          <a:lnTo>
                            <a:pt x="904" y="767"/>
                          </a:lnTo>
                          <a:lnTo>
                            <a:pt x="920" y="669"/>
                          </a:lnTo>
                          <a:lnTo>
                            <a:pt x="934" y="558"/>
                          </a:lnTo>
                          <a:lnTo>
                            <a:pt x="934" y="482"/>
                          </a:lnTo>
                          <a:lnTo>
                            <a:pt x="934" y="410"/>
                          </a:lnTo>
                          <a:lnTo>
                            <a:pt x="934" y="307"/>
                          </a:lnTo>
                          <a:lnTo>
                            <a:pt x="934" y="243"/>
                          </a:lnTo>
                          <a:lnTo>
                            <a:pt x="902" y="26"/>
                          </a:lnTo>
                          <a:lnTo>
                            <a:pt x="82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7"/>
                    <p:cNvSpPr/>
                    <p:nvPr/>
                  </p:nvSpPr>
                  <p:spPr>
                    <a:xfrm>
                      <a:off x="3797280" y="5085000"/>
                      <a:ext cx="315720" cy="271080"/>
                    </a:xfrm>
                    <a:custGeom>
                      <a:avLst/>
                      <a:gdLst>
                        <a:gd name="textAreaLeft" fmla="*/ 0 w 315720"/>
                        <a:gd name="textAreaRight" fmla="*/ 316080 w 315720"/>
                        <a:gd name="textAreaTop" fmla="*/ 0 h 271080"/>
                        <a:gd name="textAreaBottom" fmla="*/ 271440 h 271080"/>
                      </a:gdLst>
                      <a:ahLst/>
                      <a:rect l="textAreaLeft" t="textAreaTop" r="textAreaRight" b="textAreaBottom"/>
                      <a:pathLst>
                        <a:path w="397" h="343">
                          <a:moveTo>
                            <a:pt x="133" y="0"/>
                          </a:moveTo>
                          <a:lnTo>
                            <a:pt x="175" y="12"/>
                          </a:lnTo>
                          <a:lnTo>
                            <a:pt x="205" y="20"/>
                          </a:lnTo>
                          <a:lnTo>
                            <a:pt x="223" y="36"/>
                          </a:lnTo>
                          <a:lnTo>
                            <a:pt x="245" y="48"/>
                          </a:lnTo>
                          <a:lnTo>
                            <a:pt x="263" y="60"/>
                          </a:lnTo>
                          <a:lnTo>
                            <a:pt x="283" y="74"/>
                          </a:lnTo>
                          <a:lnTo>
                            <a:pt x="311" y="32"/>
                          </a:lnTo>
                          <a:lnTo>
                            <a:pt x="313" y="86"/>
                          </a:lnTo>
                          <a:lnTo>
                            <a:pt x="323" y="122"/>
                          </a:lnTo>
                          <a:lnTo>
                            <a:pt x="355" y="90"/>
                          </a:lnTo>
                          <a:lnTo>
                            <a:pt x="379" y="62"/>
                          </a:lnTo>
                          <a:lnTo>
                            <a:pt x="397" y="42"/>
                          </a:lnTo>
                          <a:lnTo>
                            <a:pt x="397" y="84"/>
                          </a:lnTo>
                          <a:lnTo>
                            <a:pt x="379" y="132"/>
                          </a:lnTo>
                          <a:lnTo>
                            <a:pt x="361" y="174"/>
                          </a:lnTo>
                          <a:lnTo>
                            <a:pt x="335" y="200"/>
                          </a:lnTo>
                          <a:lnTo>
                            <a:pt x="319" y="218"/>
                          </a:lnTo>
                          <a:lnTo>
                            <a:pt x="295" y="218"/>
                          </a:lnTo>
                          <a:lnTo>
                            <a:pt x="259" y="341"/>
                          </a:lnTo>
                          <a:lnTo>
                            <a:pt x="221" y="343"/>
                          </a:lnTo>
                          <a:lnTo>
                            <a:pt x="185" y="331"/>
                          </a:lnTo>
                          <a:lnTo>
                            <a:pt x="157" y="317"/>
                          </a:lnTo>
                          <a:lnTo>
                            <a:pt x="193" y="299"/>
                          </a:lnTo>
                          <a:lnTo>
                            <a:pt x="203" y="293"/>
                          </a:lnTo>
                          <a:lnTo>
                            <a:pt x="125" y="218"/>
                          </a:lnTo>
                          <a:lnTo>
                            <a:pt x="84" y="210"/>
                          </a:lnTo>
                          <a:lnTo>
                            <a:pt x="26" y="212"/>
                          </a:lnTo>
                          <a:lnTo>
                            <a:pt x="14" y="212"/>
                          </a:lnTo>
                          <a:lnTo>
                            <a:pt x="0" y="198"/>
                          </a:lnTo>
                          <a:lnTo>
                            <a:pt x="0" y="174"/>
                          </a:lnTo>
                          <a:lnTo>
                            <a:pt x="78" y="174"/>
                          </a:lnTo>
                          <a:lnTo>
                            <a:pt x="102" y="176"/>
                          </a:lnTo>
                          <a:lnTo>
                            <a:pt x="96" y="182"/>
                          </a:lnTo>
                          <a:lnTo>
                            <a:pt x="131" y="206"/>
                          </a:lnTo>
                          <a:lnTo>
                            <a:pt x="173" y="241"/>
                          </a:lnTo>
                          <a:lnTo>
                            <a:pt x="203" y="265"/>
                          </a:lnTo>
                          <a:lnTo>
                            <a:pt x="235" y="212"/>
                          </a:lnTo>
                          <a:lnTo>
                            <a:pt x="235" y="194"/>
                          </a:lnTo>
                          <a:lnTo>
                            <a:pt x="229" y="146"/>
                          </a:lnTo>
                          <a:lnTo>
                            <a:pt x="259" y="156"/>
                          </a:lnTo>
                          <a:lnTo>
                            <a:pt x="275" y="138"/>
                          </a:lnTo>
                          <a:lnTo>
                            <a:pt x="251" y="114"/>
                          </a:lnTo>
                          <a:lnTo>
                            <a:pt x="227" y="90"/>
                          </a:lnTo>
                          <a:lnTo>
                            <a:pt x="187" y="62"/>
                          </a:lnTo>
                          <a:lnTo>
                            <a:pt x="167" y="30"/>
                          </a:lnTo>
                          <a:lnTo>
                            <a:pt x="133"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8"/>
                    <p:cNvSpPr/>
                    <p:nvPr/>
                  </p:nvSpPr>
                  <p:spPr>
                    <a:xfrm>
                      <a:off x="3903480" y="4702320"/>
                      <a:ext cx="141480" cy="365040"/>
                    </a:xfrm>
                    <a:custGeom>
                      <a:avLst/>
                      <a:gdLst>
                        <a:gd name="textAreaLeft" fmla="*/ 0 w 141480"/>
                        <a:gd name="textAreaRight" fmla="*/ 141840 w 141480"/>
                        <a:gd name="textAreaTop" fmla="*/ 0 h 365040"/>
                        <a:gd name="textAreaBottom" fmla="*/ 365400 h 365040"/>
                      </a:gdLst>
                      <a:ahLst/>
                      <a:rect l="textAreaLeft" t="textAreaTop" r="textAreaRight" b="textAreaBottom"/>
                      <a:pathLst>
                        <a:path w="178" h="461">
                          <a:moveTo>
                            <a:pt x="60" y="0"/>
                          </a:moveTo>
                          <a:lnTo>
                            <a:pt x="132" y="142"/>
                          </a:lnTo>
                          <a:lnTo>
                            <a:pt x="154" y="215"/>
                          </a:lnTo>
                          <a:lnTo>
                            <a:pt x="172" y="287"/>
                          </a:lnTo>
                          <a:lnTo>
                            <a:pt x="178" y="347"/>
                          </a:lnTo>
                          <a:lnTo>
                            <a:pt x="178" y="461"/>
                          </a:lnTo>
                          <a:lnTo>
                            <a:pt x="166" y="423"/>
                          </a:lnTo>
                          <a:lnTo>
                            <a:pt x="100" y="389"/>
                          </a:lnTo>
                          <a:lnTo>
                            <a:pt x="72" y="381"/>
                          </a:lnTo>
                          <a:lnTo>
                            <a:pt x="18" y="341"/>
                          </a:lnTo>
                          <a:lnTo>
                            <a:pt x="0" y="287"/>
                          </a:lnTo>
                          <a:lnTo>
                            <a:pt x="16" y="263"/>
                          </a:lnTo>
                          <a:lnTo>
                            <a:pt x="64" y="333"/>
                          </a:lnTo>
                          <a:lnTo>
                            <a:pt x="90" y="363"/>
                          </a:lnTo>
                          <a:lnTo>
                            <a:pt x="136" y="389"/>
                          </a:lnTo>
                          <a:lnTo>
                            <a:pt x="150" y="389"/>
                          </a:lnTo>
                          <a:lnTo>
                            <a:pt x="166" y="407"/>
                          </a:lnTo>
                          <a:lnTo>
                            <a:pt x="154" y="263"/>
                          </a:lnTo>
                          <a:lnTo>
                            <a:pt x="112" y="156"/>
                          </a:lnTo>
                          <a:lnTo>
                            <a:pt x="88" y="102"/>
                          </a:lnTo>
                          <a:lnTo>
                            <a:pt x="6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Group 19"/>
                    <p:cNvGrpSpPr/>
                    <p:nvPr/>
                  </p:nvGrpSpPr>
                  <p:grpSpPr>
                    <a:xfrm>
                      <a:off x="4032000" y="4531320"/>
                      <a:ext cx="331920" cy="1159920"/>
                      <a:chOff x="4032000" y="4531320"/>
                      <a:chExt cx="331920" cy="1159920"/>
                    </a:xfrm>
                  </p:grpSpPr>
                  <p:sp>
                    <p:nvSpPr>
                      <p:cNvPr id="395" name="Freeform 20"/>
                      <p:cNvSpPr/>
                      <p:nvPr/>
                    </p:nvSpPr>
                    <p:spPr>
                      <a:xfrm>
                        <a:off x="4032000" y="4545360"/>
                        <a:ext cx="322560" cy="1145880"/>
                      </a:xfrm>
                      <a:custGeom>
                        <a:avLst/>
                        <a:gdLst>
                          <a:gd name="textAreaLeft" fmla="*/ 0 w 322560"/>
                          <a:gd name="textAreaRight" fmla="*/ 322920 w 322560"/>
                          <a:gd name="textAreaTop" fmla="*/ 0 h 1145880"/>
                          <a:gd name="textAreaBottom" fmla="*/ 1145880 h 1145880"/>
                        </a:gdLst>
                        <a:ahLst/>
                        <a:rect l="textAreaLeft" t="textAreaTop" r="textAreaRight" b="textAreaBottom"/>
                        <a:pathLst>
                          <a:path w="405" h="1444">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69"/>
                            </a:lnTo>
                            <a:lnTo>
                              <a:pt x="164" y="723"/>
                            </a:lnTo>
                            <a:lnTo>
                              <a:pt x="182" y="789"/>
                            </a:lnTo>
                            <a:lnTo>
                              <a:pt x="192" y="829"/>
                            </a:lnTo>
                            <a:lnTo>
                              <a:pt x="200" y="887"/>
                            </a:lnTo>
                            <a:lnTo>
                              <a:pt x="202" y="938"/>
                            </a:lnTo>
                            <a:lnTo>
                              <a:pt x="192" y="1000"/>
                            </a:lnTo>
                            <a:lnTo>
                              <a:pt x="182" y="1054"/>
                            </a:lnTo>
                            <a:lnTo>
                              <a:pt x="166" y="1108"/>
                            </a:lnTo>
                            <a:lnTo>
                              <a:pt x="140" y="1176"/>
                            </a:lnTo>
                            <a:lnTo>
                              <a:pt x="112" y="1247"/>
                            </a:lnTo>
                            <a:lnTo>
                              <a:pt x="72" y="1317"/>
                            </a:lnTo>
                            <a:lnTo>
                              <a:pt x="0" y="1444"/>
                            </a:lnTo>
                            <a:lnTo>
                              <a:pt x="116" y="1444"/>
                            </a:lnTo>
                            <a:lnTo>
                              <a:pt x="194" y="1307"/>
                            </a:lnTo>
                            <a:lnTo>
                              <a:pt x="238" y="1239"/>
                            </a:lnTo>
                            <a:lnTo>
                              <a:pt x="274" y="1158"/>
                            </a:lnTo>
                            <a:lnTo>
                              <a:pt x="316" y="1054"/>
                            </a:lnTo>
                            <a:lnTo>
                              <a:pt x="333" y="954"/>
                            </a:lnTo>
                            <a:lnTo>
                              <a:pt x="353" y="867"/>
                            </a:lnTo>
                            <a:lnTo>
                              <a:pt x="375" y="767"/>
                            </a:lnTo>
                            <a:lnTo>
                              <a:pt x="391" y="669"/>
                            </a:lnTo>
                            <a:lnTo>
                              <a:pt x="405" y="558"/>
                            </a:lnTo>
                            <a:lnTo>
                              <a:pt x="405" y="482"/>
                            </a:lnTo>
                            <a:lnTo>
                              <a:pt x="405" y="410"/>
                            </a:lnTo>
                            <a:lnTo>
                              <a:pt x="405" y="307"/>
                            </a:lnTo>
                            <a:lnTo>
                              <a:pt x="405" y="243"/>
                            </a:lnTo>
                            <a:lnTo>
                              <a:pt x="373" y="26"/>
                            </a:lnTo>
                            <a:lnTo>
                              <a:pt x="30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1"/>
                      <p:cNvSpPr/>
                      <p:nvPr/>
                    </p:nvSpPr>
                    <p:spPr>
                      <a:xfrm>
                        <a:off x="4041720" y="4531320"/>
                        <a:ext cx="322200" cy="1145880"/>
                      </a:xfrm>
                      <a:custGeom>
                        <a:avLst/>
                        <a:gdLst>
                          <a:gd name="textAreaLeft" fmla="*/ 0 w 322200"/>
                          <a:gd name="textAreaRight" fmla="*/ 322200 w 322200"/>
                          <a:gd name="textAreaTop" fmla="*/ 0 h 1145880"/>
                          <a:gd name="textAreaBottom" fmla="*/ 1146240 h 1145880"/>
                        </a:gdLst>
                        <a:ahLst/>
                        <a:rect l="textAreaLeft" t="textAreaTop" r="textAreaRight" b="textAreaBottom"/>
                        <a:pathLst>
                          <a:path w="405" h="1445">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70"/>
                            </a:lnTo>
                            <a:lnTo>
                              <a:pt x="164" y="723"/>
                            </a:lnTo>
                            <a:lnTo>
                              <a:pt x="182" y="783"/>
                            </a:lnTo>
                            <a:lnTo>
                              <a:pt x="192" y="829"/>
                            </a:lnTo>
                            <a:lnTo>
                              <a:pt x="200" y="887"/>
                            </a:lnTo>
                            <a:lnTo>
                              <a:pt x="202" y="938"/>
                            </a:lnTo>
                            <a:lnTo>
                              <a:pt x="192" y="1000"/>
                            </a:lnTo>
                            <a:lnTo>
                              <a:pt x="182" y="1054"/>
                            </a:lnTo>
                            <a:lnTo>
                              <a:pt x="166" y="1108"/>
                            </a:lnTo>
                            <a:lnTo>
                              <a:pt x="140" y="1176"/>
                            </a:lnTo>
                            <a:lnTo>
                              <a:pt x="112" y="1247"/>
                            </a:lnTo>
                            <a:lnTo>
                              <a:pt x="72" y="1317"/>
                            </a:lnTo>
                            <a:lnTo>
                              <a:pt x="0" y="1445"/>
                            </a:lnTo>
                            <a:lnTo>
                              <a:pt x="116" y="1445"/>
                            </a:lnTo>
                            <a:lnTo>
                              <a:pt x="194" y="1307"/>
                            </a:lnTo>
                            <a:lnTo>
                              <a:pt x="238" y="1239"/>
                            </a:lnTo>
                            <a:lnTo>
                              <a:pt x="274" y="1158"/>
                            </a:lnTo>
                            <a:lnTo>
                              <a:pt x="316" y="1054"/>
                            </a:lnTo>
                            <a:lnTo>
                              <a:pt x="333" y="954"/>
                            </a:lnTo>
                            <a:lnTo>
                              <a:pt x="353" y="867"/>
                            </a:lnTo>
                            <a:lnTo>
                              <a:pt x="375" y="767"/>
                            </a:lnTo>
                            <a:lnTo>
                              <a:pt x="391" y="670"/>
                            </a:lnTo>
                            <a:lnTo>
                              <a:pt x="405" y="558"/>
                            </a:lnTo>
                            <a:lnTo>
                              <a:pt x="405" y="482"/>
                            </a:lnTo>
                            <a:lnTo>
                              <a:pt x="405" y="411"/>
                            </a:lnTo>
                            <a:lnTo>
                              <a:pt x="405" y="307"/>
                            </a:lnTo>
                            <a:lnTo>
                              <a:pt x="405" y="243"/>
                            </a:lnTo>
                            <a:lnTo>
                              <a:pt x="373" y="26"/>
                            </a:lnTo>
                            <a:lnTo>
                              <a:pt x="30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7" name="Group 22"/>
                  <p:cNvGrpSpPr/>
                  <p:nvPr/>
                </p:nvGrpSpPr>
                <p:grpSpPr>
                  <a:xfrm>
                    <a:off x="4624200" y="4501440"/>
                    <a:ext cx="757440" cy="1142280"/>
                    <a:chOff x="4624200" y="4501440"/>
                    <a:chExt cx="757440" cy="1142280"/>
                  </a:xfrm>
                </p:grpSpPr>
                <p:sp>
                  <p:nvSpPr>
                    <p:cNvPr id="398" name="Freeform 23"/>
                    <p:cNvSpPr/>
                    <p:nvPr/>
                  </p:nvSpPr>
                  <p:spPr>
                    <a:xfrm>
                      <a:off x="4633920" y="4515480"/>
                      <a:ext cx="747720" cy="1128240"/>
                    </a:xfrm>
                    <a:custGeom>
                      <a:avLst/>
                      <a:gdLst>
                        <a:gd name="textAreaLeft" fmla="*/ 0 w 747720"/>
                        <a:gd name="textAreaRight" fmla="*/ 748080 w 747720"/>
                        <a:gd name="textAreaTop" fmla="*/ 0 h 1128240"/>
                        <a:gd name="textAreaBottom" fmla="*/ 1128600 h 1128240"/>
                      </a:gdLst>
                      <a:ahLst/>
                      <a:rect l="textAreaLeft" t="textAreaTop" r="textAreaRight" b="textAreaBottom"/>
                      <a:pathLst>
                        <a:path w="942"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874" y="1423"/>
                          </a:lnTo>
                          <a:lnTo>
                            <a:pt x="942" y="1385"/>
                          </a:lnTo>
                          <a:lnTo>
                            <a:pt x="900" y="1080"/>
                          </a:lnTo>
                          <a:lnTo>
                            <a:pt x="870" y="972"/>
                          </a:lnTo>
                          <a:lnTo>
                            <a:pt x="870" y="897"/>
                          </a:lnTo>
                          <a:lnTo>
                            <a:pt x="862" y="871"/>
                          </a:lnTo>
                          <a:lnTo>
                            <a:pt x="856" y="843"/>
                          </a:lnTo>
                          <a:lnTo>
                            <a:pt x="842" y="827"/>
                          </a:lnTo>
                          <a:lnTo>
                            <a:pt x="810" y="789"/>
                          </a:lnTo>
                          <a:lnTo>
                            <a:pt x="800" y="757"/>
                          </a:lnTo>
                          <a:lnTo>
                            <a:pt x="788" y="711"/>
                          </a:lnTo>
                          <a:lnTo>
                            <a:pt x="776" y="670"/>
                          </a:lnTo>
                          <a:lnTo>
                            <a:pt x="748" y="616"/>
                          </a:lnTo>
                          <a:lnTo>
                            <a:pt x="712" y="472"/>
                          </a:lnTo>
                          <a:lnTo>
                            <a:pt x="690" y="440"/>
                          </a:lnTo>
                          <a:lnTo>
                            <a:pt x="668" y="427"/>
                          </a:lnTo>
                          <a:lnTo>
                            <a:pt x="644" y="409"/>
                          </a:lnTo>
                          <a:lnTo>
                            <a:pt x="654" y="369"/>
                          </a:lnTo>
                          <a:lnTo>
                            <a:pt x="646" y="353"/>
                          </a:lnTo>
                          <a:lnTo>
                            <a:pt x="613" y="301"/>
                          </a:lnTo>
                          <a:lnTo>
                            <a:pt x="628" y="269"/>
                          </a:lnTo>
                          <a:lnTo>
                            <a:pt x="632" y="247"/>
                          </a:lnTo>
                          <a:lnTo>
                            <a:pt x="630" y="225"/>
                          </a:lnTo>
                          <a:lnTo>
                            <a:pt x="622" y="201"/>
                          </a:lnTo>
                          <a:lnTo>
                            <a:pt x="611" y="166"/>
                          </a:lnTo>
                          <a:lnTo>
                            <a:pt x="601" y="144"/>
                          </a:lnTo>
                          <a:lnTo>
                            <a:pt x="589" y="136"/>
                          </a:lnTo>
                          <a:lnTo>
                            <a:pt x="571" y="128"/>
                          </a:lnTo>
                          <a:lnTo>
                            <a:pt x="547" y="122"/>
                          </a:lnTo>
                          <a:lnTo>
                            <a:pt x="471" y="120"/>
                          </a:lnTo>
                          <a:lnTo>
                            <a:pt x="387" y="108"/>
                          </a:lnTo>
                          <a:lnTo>
                            <a:pt x="299" y="86"/>
                          </a:lnTo>
                          <a:lnTo>
                            <a:pt x="219" y="62"/>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4"/>
                    <p:cNvSpPr/>
                    <p:nvPr/>
                  </p:nvSpPr>
                  <p:spPr>
                    <a:xfrm>
                      <a:off x="4913280" y="4644000"/>
                      <a:ext cx="360360" cy="779040"/>
                    </a:xfrm>
                    <a:custGeom>
                      <a:avLst/>
                      <a:gdLst>
                        <a:gd name="textAreaLeft" fmla="*/ 0 w 360360"/>
                        <a:gd name="textAreaRight" fmla="*/ 360720 w 360360"/>
                        <a:gd name="textAreaTop" fmla="*/ 0 h 779040"/>
                        <a:gd name="textAreaBottom" fmla="*/ 779400 h 779040"/>
                      </a:gdLst>
                      <a:ahLst/>
                      <a:rect l="textAreaLeft" t="textAreaTop" r="textAreaRight" b="textAreaBottom"/>
                      <a:pathLst>
                        <a:path w="453" h="982">
                          <a:moveTo>
                            <a:pt x="172" y="0"/>
                          </a:moveTo>
                          <a:lnTo>
                            <a:pt x="210" y="35"/>
                          </a:lnTo>
                          <a:lnTo>
                            <a:pt x="184" y="71"/>
                          </a:lnTo>
                          <a:lnTo>
                            <a:pt x="172" y="107"/>
                          </a:lnTo>
                          <a:lnTo>
                            <a:pt x="160" y="155"/>
                          </a:lnTo>
                          <a:lnTo>
                            <a:pt x="150" y="227"/>
                          </a:lnTo>
                          <a:lnTo>
                            <a:pt x="190" y="211"/>
                          </a:lnTo>
                          <a:lnTo>
                            <a:pt x="220" y="199"/>
                          </a:lnTo>
                          <a:lnTo>
                            <a:pt x="244" y="217"/>
                          </a:lnTo>
                          <a:lnTo>
                            <a:pt x="178" y="275"/>
                          </a:lnTo>
                          <a:lnTo>
                            <a:pt x="150" y="306"/>
                          </a:lnTo>
                          <a:lnTo>
                            <a:pt x="150" y="394"/>
                          </a:lnTo>
                          <a:lnTo>
                            <a:pt x="160" y="402"/>
                          </a:lnTo>
                          <a:lnTo>
                            <a:pt x="226" y="348"/>
                          </a:lnTo>
                          <a:lnTo>
                            <a:pt x="258" y="330"/>
                          </a:lnTo>
                          <a:lnTo>
                            <a:pt x="297" y="316"/>
                          </a:lnTo>
                          <a:lnTo>
                            <a:pt x="317" y="316"/>
                          </a:lnTo>
                          <a:lnTo>
                            <a:pt x="299" y="348"/>
                          </a:lnTo>
                          <a:lnTo>
                            <a:pt x="275" y="378"/>
                          </a:lnTo>
                          <a:lnTo>
                            <a:pt x="244" y="400"/>
                          </a:lnTo>
                          <a:lnTo>
                            <a:pt x="210" y="412"/>
                          </a:lnTo>
                          <a:lnTo>
                            <a:pt x="184" y="426"/>
                          </a:lnTo>
                          <a:lnTo>
                            <a:pt x="154" y="456"/>
                          </a:lnTo>
                          <a:lnTo>
                            <a:pt x="148" y="516"/>
                          </a:lnTo>
                          <a:lnTo>
                            <a:pt x="132" y="551"/>
                          </a:lnTo>
                          <a:lnTo>
                            <a:pt x="138" y="611"/>
                          </a:lnTo>
                          <a:lnTo>
                            <a:pt x="136" y="661"/>
                          </a:lnTo>
                          <a:lnTo>
                            <a:pt x="156" y="651"/>
                          </a:lnTo>
                          <a:lnTo>
                            <a:pt x="174" y="651"/>
                          </a:lnTo>
                          <a:lnTo>
                            <a:pt x="160" y="695"/>
                          </a:lnTo>
                          <a:lnTo>
                            <a:pt x="130" y="725"/>
                          </a:lnTo>
                          <a:lnTo>
                            <a:pt x="132" y="749"/>
                          </a:lnTo>
                          <a:lnTo>
                            <a:pt x="148" y="802"/>
                          </a:lnTo>
                          <a:lnTo>
                            <a:pt x="156" y="842"/>
                          </a:lnTo>
                          <a:lnTo>
                            <a:pt x="208" y="892"/>
                          </a:lnTo>
                          <a:lnTo>
                            <a:pt x="264" y="880"/>
                          </a:lnTo>
                          <a:lnTo>
                            <a:pt x="341" y="872"/>
                          </a:lnTo>
                          <a:lnTo>
                            <a:pt x="377" y="868"/>
                          </a:lnTo>
                          <a:lnTo>
                            <a:pt x="411" y="874"/>
                          </a:lnTo>
                          <a:lnTo>
                            <a:pt x="435" y="886"/>
                          </a:lnTo>
                          <a:lnTo>
                            <a:pt x="453" y="908"/>
                          </a:lnTo>
                          <a:lnTo>
                            <a:pt x="399" y="902"/>
                          </a:lnTo>
                          <a:lnTo>
                            <a:pt x="347" y="898"/>
                          </a:lnTo>
                          <a:lnTo>
                            <a:pt x="299" y="898"/>
                          </a:lnTo>
                          <a:lnTo>
                            <a:pt x="264" y="902"/>
                          </a:lnTo>
                          <a:lnTo>
                            <a:pt x="240" y="938"/>
                          </a:lnTo>
                          <a:lnTo>
                            <a:pt x="323" y="958"/>
                          </a:lnTo>
                          <a:lnTo>
                            <a:pt x="184" y="976"/>
                          </a:lnTo>
                          <a:lnTo>
                            <a:pt x="94" y="982"/>
                          </a:lnTo>
                          <a:lnTo>
                            <a:pt x="148" y="938"/>
                          </a:lnTo>
                          <a:lnTo>
                            <a:pt x="148" y="902"/>
                          </a:lnTo>
                          <a:lnTo>
                            <a:pt x="108" y="832"/>
                          </a:lnTo>
                          <a:lnTo>
                            <a:pt x="100" y="743"/>
                          </a:lnTo>
                          <a:lnTo>
                            <a:pt x="114" y="653"/>
                          </a:lnTo>
                          <a:lnTo>
                            <a:pt x="94" y="633"/>
                          </a:lnTo>
                          <a:lnTo>
                            <a:pt x="106" y="597"/>
                          </a:lnTo>
                          <a:lnTo>
                            <a:pt x="0" y="591"/>
                          </a:lnTo>
                          <a:lnTo>
                            <a:pt x="34" y="557"/>
                          </a:lnTo>
                          <a:lnTo>
                            <a:pt x="84" y="561"/>
                          </a:lnTo>
                          <a:lnTo>
                            <a:pt x="130" y="520"/>
                          </a:lnTo>
                          <a:lnTo>
                            <a:pt x="112" y="490"/>
                          </a:lnTo>
                          <a:lnTo>
                            <a:pt x="130" y="442"/>
                          </a:lnTo>
                          <a:lnTo>
                            <a:pt x="136" y="280"/>
                          </a:lnTo>
                          <a:lnTo>
                            <a:pt x="142" y="185"/>
                          </a:lnTo>
                          <a:lnTo>
                            <a:pt x="166" y="35"/>
                          </a:lnTo>
                          <a:lnTo>
                            <a:pt x="172"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5"/>
                    <p:cNvSpPr/>
                    <p:nvPr/>
                  </p:nvSpPr>
                  <p:spPr>
                    <a:xfrm>
                      <a:off x="4827600" y="502020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196" h="40">
                          <a:moveTo>
                            <a:pt x="196" y="0"/>
                          </a:moveTo>
                          <a:lnTo>
                            <a:pt x="0" y="34"/>
                          </a:lnTo>
                          <a:lnTo>
                            <a:pt x="108" y="40"/>
                          </a:lnTo>
                          <a:lnTo>
                            <a:pt x="196" y="0"/>
                          </a:lnTo>
                          <a:close/>
                        </a:path>
                      </a:pathLst>
                    </a:custGeom>
                    <a:solidFill>
                      <a:srgbClr val="5f5f5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nvGrpSpPr>
                    <p:cNvPr id="401" name="Group 26"/>
                    <p:cNvGrpSpPr/>
                    <p:nvPr/>
                  </p:nvGrpSpPr>
                  <p:grpSpPr>
                    <a:xfrm>
                      <a:off x="4624200" y="4501440"/>
                      <a:ext cx="268200" cy="1142280"/>
                      <a:chOff x="4624200" y="4501440"/>
                      <a:chExt cx="268200" cy="1142280"/>
                    </a:xfrm>
                  </p:grpSpPr>
                  <p:sp>
                    <p:nvSpPr>
                      <p:cNvPr id="402" name="Freeform 27"/>
                      <p:cNvSpPr/>
                      <p:nvPr/>
                    </p:nvSpPr>
                    <p:spPr>
                      <a:xfrm>
                        <a:off x="4633920" y="4515480"/>
                        <a:ext cx="258480" cy="1128240"/>
                      </a:xfrm>
                      <a:custGeom>
                        <a:avLst/>
                        <a:gdLst>
                          <a:gd name="textAreaLeft" fmla="*/ 0 w 258480"/>
                          <a:gd name="textAreaRight" fmla="*/ 258480 w 258480"/>
                          <a:gd name="textAreaTop" fmla="*/ 0 h 1128240"/>
                          <a:gd name="textAreaBottom" fmla="*/ 1128600 h 112824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7"/>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8"/>
                      <p:cNvSpPr/>
                      <p:nvPr/>
                    </p:nvSpPr>
                    <p:spPr>
                      <a:xfrm>
                        <a:off x="4624200" y="4501440"/>
                        <a:ext cx="258840" cy="1128600"/>
                      </a:xfrm>
                      <a:custGeom>
                        <a:avLst/>
                        <a:gdLst>
                          <a:gd name="textAreaLeft" fmla="*/ 0 w 258840"/>
                          <a:gd name="textAreaRight" fmla="*/ 259200 w 258840"/>
                          <a:gd name="textAreaTop" fmla="*/ 0 h 1128600"/>
                          <a:gd name="textAreaBottom" fmla="*/ 1128960 h 112860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8"/>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404" name="Group 29"/>
              <p:cNvGrpSpPr/>
              <p:nvPr/>
            </p:nvGrpSpPr>
            <p:grpSpPr>
              <a:xfrm>
                <a:off x="4154400" y="3979800"/>
                <a:ext cx="592200" cy="754920"/>
                <a:chOff x="4154400" y="3979800"/>
                <a:chExt cx="592200" cy="754920"/>
              </a:xfrm>
            </p:grpSpPr>
            <p:sp>
              <p:nvSpPr>
                <p:cNvPr id="405" name="Freeform 30"/>
                <p:cNvSpPr/>
                <p:nvPr/>
              </p:nvSpPr>
              <p:spPr>
                <a:xfrm>
                  <a:off x="4174920" y="4003200"/>
                  <a:ext cx="571680" cy="731520"/>
                </a:xfrm>
                <a:custGeom>
                  <a:avLst/>
                  <a:gdLst>
                    <a:gd name="textAreaLeft" fmla="*/ 0 w 571680"/>
                    <a:gd name="textAreaRight" fmla="*/ 572040 w 571680"/>
                    <a:gd name="textAreaTop" fmla="*/ 0 h 731520"/>
                    <a:gd name="textAreaBottom" fmla="*/ 731880 h 731520"/>
                  </a:gdLst>
                  <a:ahLst/>
                  <a:rect l="textAreaLeft" t="textAreaTop" r="textAreaRight" b="textAreaBottom"/>
                  <a:pathLst>
                    <a:path w="720" h="920">
                      <a:moveTo>
                        <a:pt x="24" y="466"/>
                      </a:moveTo>
                      <a:lnTo>
                        <a:pt x="6" y="474"/>
                      </a:lnTo>
                      <a:lnTo>
                        <a:pt x="0" y="492"/>
                      </a:lnTo>
                      <a:lnTo>
                        <a:pt x="4" y="534"/>
                      </a:lnTo>
                      <a:lnTo>
                        <a:pt x="22" y="589"/>
                      </a:lnTo>
                      <a:lnTo>
                        <a:pt x="40" y="623"/>
                      </a:lnTo>
                      <a:lnTo>
                        <a:pt x="72" y="655"/>
                      </a:lnTo>
                      <a:lnTo>
                        <a:pt x="114" y="685"/>
                      </a:lnTo>
                      <a:lnTo>
                        <a:pt x="142" y="701"/>
                      </a:lnTo>
                      <a:lnTo>
                        <a:pt x="173" y="713"/>
                      </a:lnTo>
                      <a:lnTo>
                        <a:pt x="191" y="711"/>
                      </a:lnTo>
                      <a:lnTo>
                        <a:pt x="203" y="715"/>
                      </a:lnTo>
                      <a:lnTo>
                        <a:pt x="209" y="739"/>
                      </a:lnTo>
                      <a:lnTo>
                        <a:pt x="217" y="763"/>
                      </a:lnTo>
                      <a:lnTo>
                        <a:pt x="227" y="785"/>
                      </a:lnTo>
                      <a:lnTo>
                        <a:pt x="241" y="799"/>
                      </a:lnTo>
                      <a:lnTo>
                        <a:pt x="257" y="815"/>
                      </a:lnTo>
                      <a:lnTo>
                        <a:pt x="283" y="834"/>
                      </a:lnTo>
                      <a:lnTo>
                        <a:pt x="315" y="852"/>
                      </a:lnTo>
                      <a:lnTo>
                        <a:pt x="357" y="894"/>
                      </a:lnTo>
                      <a:lnTo>
                        <a:pt x="379" y="910"/>
                      </a:lnTo>
                      <a:lnTo>
                        <a:pt x="397" y="918"/>
                      </a:lnTo>
                      <a:lnTo>
                        <a:pt x="427" y="920"/>
                      </a:lnTo>
                      <a:lnTo>
                        <a:pt x="451" y="918"/>
                      </a:lnTo>
                      <a:lnTo>
                        <a:pt x="475" y="912"/>
                      </a:lnTo>
                      <a:lnTo>
                        <a:pt x="495" y="904"/>
                      </a:lnTo>
                      <a:lnTo>
                        <a:pt x="523" y="888"/>
                      </a:lnTo>
                      <a:lnTo>
                        <a:pt x="547" y="874"/>
                      </a:lnTo>
                      <a:lnTo>
                        <a:pt x="571" y="852"/>
                      </a:lnTo>
                      <a:lnTo>
                        <a:pt x="607" y="852"/>
                      </a:lnTo>
                      <a:lnTo>
                        <a:pt x="637" y="832"/>
                      </a:lnTo>
                      <a:lnTo>
                        <a:pt x="665" y="781"/>
                      </a:lnTo>
                      <a:lnTo>
                        <a:pt x="688" y="751"/>
                      </a:lnTo>
                      <a:lnTo>
                        <a:pt x="708" y="713"/>
                      </a:lnTo>
                      <a:lnTo>
                        <a:pt x="718" y="659"/>
                      </a:lnTo>
                      <a:lnTo>
                        <a:pt x="720" y="611"/>
                      </a:lnTo>
                      <a:lnTo>
                        <a:pt x="714" y="562"/>
                      </a:lnTo>
                      <a:lnTo>
                        <a:pt x="700" y="526"/>
                      </a:lnTo>
                      <a:lnTo>
                        <a:pt x="694" y="490"/>
                      </a:lnTo>
                      <a:lnTo>
                        <a:pt x="690" y="436"/>
                      </a:lnTo>
                      <a:lnTo>
                        <a:pt x="676" y="372"/>
                      </a:lnTo>
                      <a:lnTo>
                        <a:pt x="655" y="322"/>
                      </a:lnTo>
                      <a:lnTo>
                        <a:pt x="635" y="293"/>
                      </a:lnTo>
                      <a:lnTo>
                        <a:pt x="625" y="259"/>
                      </a:lnTo>
                      <a:lnTo>
                        <a:pt x="601" y="205"/>
                      </a:lnTo>
                      <a:lnTo>
                        <a:pt x="569" y="149"/>
                      </a:lnTo>
                      <a:lnTo>
                        <a:pt x="533" y="101"/>
                      </a:lnTo>
                      <a:lnTo>
                        <a:pt x="497" y="61"/>
                      </a:lnTo>
                      <a:lnTo>
                        <a:pt x="451" y="30"/>
                      </a:lnTo>
                      <a:lnTo>
                        <a:pt x="399" y="8"/>
                      </a:lnTo>
                      <a:lnTo>
                        <a:pt x="351" y="0"/>
                      </a:lnTo>
                      <a:lnTo>
                        <a:pt x="309" y="0"/>
                      </a:lnTo>
                      <a:lnTo>
                        <a:pt x="245" y="8"/>
                      </a:lnTo>
                      <a:lnTo>
                        <a:pt x="243" y="12"/>
                      </a:lnTo>
                      <a:lnTo>
                        <a:pt x="197" y="26"/>
                      </a:lnTo>
                      <a:lnTo>
                        <a:pt x="142" y="53"/>
                      </a:lnTo>
                      <a:lnTo>
                        <a:pt x="90" y="83"/>
                      </a:lnTo>
                      <a:lnTo>
                        <a:pt x="60" y="113"/>
                      </a:lnTo>
                      <a:lnTo>
                        <a:pt x="36" y="145"/>
                      </a:lnTo>
                      <a:lnTo>
                        <a:pt x="22" y="187"/>
                      </a:lnTo>
                      <a:lnTo>
                        <a:pt x="6" y="259"/>
                      </a:lnTo>
                      <a:lnTo>
                        <a:pt x="6" y="322"/>
                      </a:lnTo>
                      <a:lnTo>
                        <a:pt x="12" y="388"/>
                      </a:lnTo>
                      <a:lnTo>
                        <a:pt x="24" y="46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Group 31"/>
                <p:cNvGrpSpPr/>
                <p:nvPr/>
              </p:nvGrpSpPr>
              <p:grpSpPr>
                <a:xfrm>
                  <a:off x="4259160" y="4231800"/>
                  <a:ext cx="452520" cy="446760"/>
                  <a:chOff x="4259160" y="4231800"/>
                  <a:chExt cx="452520" cy="446760"/>
                </a:xfrm>
              </p:grpSpPr>
              <p:grpSp>
                <p:nvGrpSpPr>
                  <p:cNvPr id="407" name="Group 32"/>
                  <p:cNvGrpSpPr/>
                  <p:nvPr/>
                </p:nvGrpSpPr>
                <p:grpSpPr>
                  <a:xfrm>
                    <a:off x="4259160" y="4231800"/>
                    <a:ext cx="452520" cy="446760"/>
                    <a:chOff x="4259160" y="4231800"/>
                    <a:chExt cx="452520" cy="446760"/>
                  </a:xfrm>
                </p:grpSpPr>
                <p:sp>
                  <p:nvSpPr>
                    <p:cNvPr id="408" name="Freeform 33"/>
                    <p:cNvSpPr/>
                    <p:nvPr/>
                  </p:nvSpPr>
                  <p:spPr>
                    <a:xfrm>
                      <a:off x="4552920" y="4231800"/>
                      <a:ext cx="125280" cy="207360"/>
                    </a:xfrm>
                    <a:custGeom>
                      <a:avLst/>
                      <a:gdLst>
                        <a:gd name="textAreaLeft" fmla="*/ 0 w 125280"/>
                        <a:gd name="textAreaRight" fmla="*/ 125280 w 125280"/>
                        <a:gd name="textAreaTop" fmla="*/ 0 h 207360"/>
                        <a:gd name="textAreaBottom" fmla="*/ 207720 h 207360"/>
                      </a:gdLst>
                      <a:ahLst/>
                      <a:rect l="textAreaLeft" t="textAreaTop" r="textAreaRight" b="textAreaBottom"/>
                      <a:pathLst>
                        <a:path w="158" h="263">
                          <a:moveTo>
                            <a:pt x="104" y="0"/>
                          </a:moveTo>
                          <a:lnTo>
                            <a:pt x="104" y="20"/>
                          </a:lnTo>
                          <a:lnTo>
                            <a:pt x="100" y="35"/>
                          </a:lnTo>
                          <a:lnTo>
                            <a:pt x="88" y="43"/>
                          </a:lnTo>
                          <a:lnTo>
                            <a:pt x="68" y="61"/>
                          </a:lnTo>
                          <a:lnTo>
                            <a:pt x="46" y="83"/>
                          </a:lnTo>
                          <a:lnTo>
                            <a:pt x="146" y="63"/>
                          </a:lnTo>
                          <a:lnTo>
                            <a:pt x="156" y="67"/>
                          </a:lnTo>
                          <a:lnTo>
                            <a:pt x="136" y="77"/>
                          </a:lnTo>
                          <a:lnTo>
                            <a:pt x="122" y="91"/>
                          </a:lnTo>
                          <a:lnTo>
                            <a:pt x="108" y="103"/>
                          </a:lnTo>
                          <a:lnTo>
                            <a:pt x="96" y="109"/>
                          </a:lnTo>
                          <a:lnTo>
                            <a:pt x="78" y="109"/>
                          </a:lnTo>
                          <a:lnTo>
                            <a:pt x="50" y="107"/>
                          </a:lnTo>
                          <a:lnTo>
                            <a:pt x="80" y="115"/>
                          </a:lnTo>
                          <a:lnTo>
                            <a:pt x="90" y="121"/>
                          </a:lnTo>
                          <a:lnTo>
                            <a:pt x="110" y="121"/>
                          </a:lnTo>
                          <a:lnTo>
                            <a:pt x="126" y="115"/>
                          </a:lnTo>
                          <a:lnTo>
                            <a:pt x="144" y="105"/>
                          </a:lnTo>
                          <a:lnTo>
                            <a:pt x="158" y="91"/>
                          </a:lnTo>
                          <a:lnTo>
                            <a:pt x="124" y="125"/>
                          </a:lnTo>
                          <a:lnTo>
                            <a:pt x="106" y="129"/>
                          </a:lnTo>
                          <a:lnTo>
                            <a:pt x="90" y="129"/>
                          </a:lnTo>
                          <a:lnTo>
                            <a:pt x="76" y="125"/>
                          </a:lnTo>
                          <a:lnTo>
                            <a:pt x="64" y="121"/>
                          </a:lnTo>
                          <a:lnTo>
                            <a:pt x="52" y="121"/>
                          </a:lnTo>
                          <a:lnTo>
                            <a:pt x="40" y="121"/>
                          </a:lnTo>
                          <a:lnTo>
                            <a:pt x="48" y="157"/>
                          </a:lnTo>
                          <a:lnTo>
                            <a:pt x="62" y="181"/>
                          </a:lnTo>
                          <a:lnTo>
                            <a:pt x="74" y="193"/>
                          </a:lnTo>
                          <a:lnTo>
                            <a:pt x="86" y="203"/>
                          </a:lnTo>
                          <a:lnTo>
                            <a:pt x="96" y="215"/>
                          </a:lnTo>
                          <a:lnTo>
                            <a:pt x="102" y="229"/>
                          </a:lnTo>
                          <a:lnTo>
                            <a:pt x="104" y="249"/>
                          </a:lnTo>
                          <a:lnTo>
                            <a:pt x="96" y="263"/>
                          </a:lnTo>
                          <a:lnTo>
                            <a:pt x="92" y="233"/>
                          </a:lnTo>
                          <a:lnTo>
                            <a:pt x="86" y="217"/>
                          </a:lnTo>
                          <a:lnTo>
                            <a:pt x="74" y="211"/>
                          </a:lnTo>
                          <a:lnTo>
                            <a:pt x="56" y="203"/>
                          </a:lnTo>
                          <a:lnTo>
                            <a:pt x="44" y="197"/>
                          </a:lnTo>
                          <a:lnTo>
                            <a:pt x="32" y="187"/>
                          </a:lnTo>
                          <a:lnTo>
                            <a:pt x="18" y="173"/>
                          </a:lnTo>
                          <a:lnTo>
                            <a:pt x="8" y="157"/>
                          </a:lnTo>
                          <a:lnTo>
                            <a:pt x="2" y="139"/>
                          </a:lnTo>
                          <a:lnTo>
                            <a:pt x="0" y="117"/>
                          </a:lnTo>
                          <a:lnTo>
                            <a:pt x="2" y="97"/>
                          </a:lnTo>
                          <a:lnTo>
                            <a:pt x="8" y="73"/>
                          </a:lnTo>
                          <a:lnTo>
                            <a:pt x="104"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 name="Group 34"/>
                    <p:cNvGrpSpPr/>
                    <p:nvPr/>
                  </p:nvGrpSpPr>
                  <p:grpSpPr>
                    <a:xfrm>
                      <a:off x="4259160" y="4369320"/>
                      <a:ext cx="452520" cy="309240"/>
                      <a:chOff x="4259160" y="4369320"/>
                      <a:chExt cx="452520" cy="309240"/>
                    </a:xfrm>
                  </p:grpSpPr>
                  <p:sp>
                    <p:nvSpPr>
                      <p:cNvPr id="410" name="Freeform 35"/>
                      <p:cNvSpPr/>
                      <p:nvPr/>
                    </p:nvSpPr>
                    <p:spPr>
                      <a:xfrm>
                        <a:off x="4259160" y="4369320"/>
                        <a:ext cx="368280" cy="309240"/>
                      </a:xfrm>
                      <a:custGeom>
                        <a:avLst/>
                        <a:gdLst>
                          <a:gd name="textAreaLeft" fmla="*/ 0 w 368280"/>
                          <a:gd name="textAreaRight" fmla="*/ 368640 w 368280"/>
                          <a:gd name="textAreaTop" fmla="*/ 0 h 309240"/>
                          <a:gd name="textAreaBottom" fmla="*/ 309600 h 309240"/>
                        </a:gdLst>
                        <a:ahLst/>
                        <a:rect l="textAreaLeft" t="textAreaTop" r="textAreaRight" b="textAreaBottom"/>
                        <a:pathLst>
                          <a:path w="465" h="388">
                            <a:moveTo>
                              <a:pt x="20" y="0"/>
                            </a:moveTo>
                            <a:lnTo>
                              <a:pt x="26" y="38"/>
                            </a:lnTo>
                            <a:lnTo>
                              <a:pt x="42" y="72"/>
                            </a:lnTo>
                            <a:lnTo>
                              <a:pt x="71" y="107"/>
                            </a:lnTo>
                            <a:lnTo>
                              <a:pt x="89" y="125"/>
                            </a:lnTo>
                            <a:lnTo>
                              <a:pt x="111" y="139"/>
                            </a:lnTo>
                            <a:lnTo>
                              <a:pt x="141" y="139"/>
                            </a:lnTo>
                            <a:lnTo>
                              <a:pt x="183" y="133"/>
                            </a:lnTo>
                            <a:lnTo>
                              <a:pt x="223" y="133"/>
                            </a:lnTo>
                            <a:lnTo>
                              <a:pt x="245" y="125"/>
                            </a:lnTo>
                            <a:lnTo>
                              <a:pt x="265" y="127"/>
                            </a:lnTo>
                            <a:lnTo>
                              <a:pt x="263" y="153"/>
                            </a:lnTo>
                            <a:lnTo>
                              <a:pt x="269" y="181"/>
                            </a:lnTo>
                            <a:lnTo>
                              <a:pt x="249" y="183"/>
                            </a:lnTo>
                            <a:lnTo>
                              <a:pt x="225" y="187"/>
                            </a:lnTo>
                            <a:lnTo>
                              <a:pt x="223" y="207"/>
                            </a:lnTo>
                            <a:lnTo>
                              <a:pt x="227" y="231"/>
                            </a:lnTo>
                            <a:lnTo>
                              <a:pt x="235" y="257"/>
                            </a:lnTo>
                            <a:lnTo>
                              <a:pt x="253" y="277"/>
                            </a:lnTo>
                            <a:lnTo>
                              <a:pt x="279" y="285"/>
                            </a:lnTo>
                            <a:lnTo>
                              <a:pt x="313" y="283"/>
                            </a:lnTo>
                            <a:lnTo>
                              <a:pt x="331" y="283"/>
                            </a:lnTo>
                            <a:lnTo>
                              <a:pt x="349" y="301"/>
                            </a:lnTo>
                            <a:lnTo>
                              <a:pt x="371" y="319"/>
                            </a:lnTo>
                            <a:lnTo>
                              <a:pt x="399" y="329"/>
                            </a:lnTo>
                            <a:lnTo>
                              <a:pt x="427" y="329"/>
                            </a:lnTo>
                            <a:lnTo>
                              <a:pt x="441" y="327"/>
                            </a:lnTo>
                            <a:lnTo>
                              <a:pt x="453" y="349"/>
                            </a:lnTo>
                            <a:lnTo>
                              <a:pt x="465" y="364"/>
                            </a:lnTo>
                            <a:lnTo>
                              <a:pt x="443" y="378"/>
                            </a:lnTo>
                            <a:lnTo>
                              <a:pt x="419" y="388"/>
                            </a:lnTo>
                            <a:lnTo>
                              <a:pt x="387" y="388"/>
                            </a:lnTo>
                            <a:lnTo>
                              <a:pt x="355" y="388"/>
                            </a:lnTo>
                            <a:lnTo>
                              <a:pt x="351" y="388"/>
                            </a:lnTo>
                            <a:lnTo>
                              <a:pt x="295" y="380"/>
                            </a:lnTo>
                            <a:lnTo>
                              <a:pt x="265" y="370"/>
                            </a:lnTo>
                            <a:lnTo>
                              <a:pt x="227" y="347"/>
                            </a:lnTo>
                            <a:lnTo>
                              <a:pt x="179" y="301"/>
                            </a:lnTo>
                            <a:lnTo>
                              <a:pt x="111" y="241"/>
                            </a:lnTo>
                            <a:lnTo>
                              <a:pt x="47" y="175"/>
                            </a:lnTo>
                            <a:lnTo>
                              <a:pt x="20" y="139"/>
                            </a:lnTo>
                            <a:lnTo>
                              <a:pt x="2" y="104"/>
                            </a:lnTo>
                            <a:lnTo>
                              <a:pt x="0" y="76"/>
                            </a:lnTo>
                            <a:lnTo>
                              <a:pt x="2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6"/>
                      <p:cNvSpPr/>
                      <p:nvPr/>
                    </p:nvSpPr>
                    <p:spPr>
                      <a:xfrm>
                        <a:off x="4495680" y="4421520"/>
                        <a:ext cx="61920" cy="163080"/>
                      </a:xfrm>
                      <a:custGeom>
                        <a:avLst/>
                        <a:gdLst>
                          <a:gd name="textAreaLeft" fmla="*/ 0 w 61920"/>
                          <a:gd name="textAreaRight" fmla="*/ 62280 w 61920"/>
                          <a:gd name="textAreaTop" fmla="*/ 0 h 163080"/>
                          <a:gd name="textAreaBottom" fmla="*/ 163440 h 163080"/>
                        </a:gdLst>
                        <a:ahLst/>
                        <a:rect l="textAreaLeft" t="textAreaTop" r="textAreaRight" b="textAreaBottom"/>
                        <a:pathLst>
                          <a:path w="80" h="205">
                            <a:moveTo>
                              <a:pt x="80" y="6"/>
                            </a:moveTo>
                            <a:lnTo>
                              <a:pt x="60" y="0"/>
                            </a:lnTo>
                            <a:lnTo>
                              <a:pt x="46" y="2"/>
                            </a:lnTo>
                            <a:lnTo>
                              <a:pt x="34" y="12"/>
                            </a:lnTo>
                            <a:lnTo>
                              <a:pt x="24" y="24"/>
                            </a:lnTo>
                            <a:lnTo>
                              <a:pt x="16" y="43"/>
                            </a:lnTo>
                            <a:lnTo>
                              <a:pt x="16" y="65"/>
                            </a:lnTo>
                            <a:lnTo>
                              <a:pt x="12" y="107"/>
                            </a:lnTo>
                            <a:lnTo>
                              <a:pt x="0" y="145"/>
                            </a:lnTo>
                            <a:lnTo>
                              <a:pt x="12" y="163"/>
                            </a:lnTo>
                            <a:lnTo>
                              <a:pt x="22" y="205"/>
                            </a:lnTo>
                            <a:lnTo>
                              <a:pt x="18" y="149"/>
                            </a:lnTo>
                            <a:lnTo>
                              <a:pt x="22" y="115"/>
                            </a:lnTo>
                            <a:lnTo>
                              <a:pt x="22" y="85"/>
                            </a:lnTo>
                            <a:lnTo>
                              <a:pt x="24" y="71"/>
                            </a:lnTo>
                            <a:lnTo>
                              <a:pt x="32" y="65"/>
                            </a:lnTo>
                            <a:lnTo>
                              <a:pt x="46" y="67"/>
                            </a:lnTo>
                            <a:lnTo>
                              <a:pt x="56" y="67"/>
                            </a:lnTo>
                            <a:lnTo>
                              <a:pt x="40" y="57"/>
                            </a:lnTo>
                            <a:lnTo>
                              <a:pt x="36" y="45"/>
                            </a:lnTo>
                            <a:lnTo>
                              <a:pt x="34" y="32"/>
                            </a:lnTo>
                            <a:lnTo>
                              <a:pt x="42" y="18"/>
                            </a:lnTo>
                            <a:lnTo>
                              <a:pt x="58" y="10"/>
                            </a:lnTo>
                            <a:lnTo>
                              <a:pt x="80" y="6"/>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37"/>
                      <p:cNvSpPr/>
                      <p:nvPr/>
                    </p:nvSpPr>
                    <p:spPr>
                      <a:xfrm>
                        <a:off x="4541760" y="4440600"/>
                        <a:ext cx="41400" cy="29880"/>
                      </a:xfrm>
                      <a:custGeom>
                        <a:avLst/>
                        <a:gdLst>
                          <a:gd name="textAreaLeft" fmla="*/ 0 w 41400"/>
                          <a:gd name="textAreaRight" fmla="*/ 41760 w 41400"/>
                          <a:gd name="textAreaTop" fmla="*/ 0 h 29880"/>
                          <a:gd name="textAreaBottom" fmla="*/ 30240 h 29880"/>
                        </a:gdLst>
                        <a:ahLst/>
                        <a:rect l="textAreaLeft" t="textAreaTop" r="textAreaRight" b="textAreaBottom"/>
                        <a:pathLst>
                          <a:path w="52" h="37">
                            <a:moveTo>
                              <a:pt x="0" y="37"/>
                            </a:moveTo>
                            <a:lnTo>
                              <a:pt x="12" y="25"/>
                            </a:lnTo>
                            <a:lnTo>
                              <a:pt x="18" y="14"/>
                            </a:lnTo>
                            <a:lnTo>
                              <a:pt x="28" y="0"/>
                            </a:lnTo>
                            <a:lnTo>
                              <a:pt x="28" y="19"/>
                            </a:lnTo>
                            <a:lnTo>
                              <a:pt x="36" y="31"/>
                            </a:lnTo>
                            <a:lnTo>
                              <a:pt x="52" y="35"/>
                            </a:lnTo>
                            <a:lnTo>
                              <a:pt x="28" y="35"/>
                            </a:lnTo>
                            <a:lnTo>
                              <a:pt x="0" y="37"/>
                            </a:lnTo>
                            <a:close/>
                          </a:path>
                        </a:pathLst>
                      </a:custGeom>
                      <a:solidFill>
                        <a:srgbClr val="df9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3" name="Freeform 38"/>
                      <p:cNvSpPr/>
                      <p:nvPr/>
                    </p:nvSpPr>
                    <p:spPr>
                      <a:xfrm>
                        <a:off x="4578120" y="4451760"/>
                        <a:ext cx="47880" cy="16920"/>
                      </a:xfrm>
                      <a:custGeom>
                        <a:avLst/>
                        <a:gdLst>
                          <a:gd name="textAreaLeft" fmla="*/ 0 w 47880"/>
                          <a:gd name="textAreaRight" fmla="*/ 48240 w 47880"/>
                          <a:gd name="textAreaTop" fmla="*/ 0 h 16920"/>
                          <a:gd name="textAreaBottom" fmla="*/ 17280 h 16920"/>
                        </a:gdLst>
                        <a:ahLst/>
                        <a:rect l="textAreaLeft" t="textAreaTop" r="textAreaRight" b="textAreaBottom"/>
                        <a:pathLst>
                          <a:path w="60" h="21">
                            <a:moveTo>
                              <a:pt x="0" y="21"/>
                            </a:moveTo>
                            <a:lnTo>
                              <a:pt x="36" y="15"/>
                            </a:lnTo>
                            <a:lnTo>
                              <a:pt x="48" y="9"/>
                            </a:lnTo>
                            <a:lnTo>
                              <a:pt x="60" y="0"/>
                            </a:lnTo>
                            <a:lnTo>
                              <a:pt x="54" y="15"/>
                            </a:lnTo>
                            <a:lnTo>
                              <a:pt x="40" y="21"/>
                            </a:lnTo>
                            <a:lnTo>
                              <a:pt x="0" y="21"/>
                            </a:lnTo>
                            <a:close/>
                          </a:path>
                        </a:pathLst>
                      </a:custGeom>
                      <a:solidFill>
                        <a:srgbClr val="df9f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4" name="Freeform 39"/>
                      <p:cNvSpPr/>
                      <p:nvPr/>
                    </p:nvSpPr>
                    <p:spPr>
                      <a:xfrm>
                        <a:off x="4630680" y="4451760"/>
                        <a:ext cx="81000" cy="58320"/>
                      </a:xfrm>
                      <a:custGeom>
                        <a:avLst/>
                        <a:gdLst>
                          <a:gd name="textAreaLeft" fmla="*/ 0 w 81000"/>
                          <a:gd name="textAreaRight" fmla="*/ 81360 w 81000"/>
                          <a:gd name="textAreaTop" fmla="*/ 0 h 58320"/>
                          <a:gd name="textAreaBottom" fmla="*/ 58680 h 58320"/>
                        </a:gdLst>
                        <a:ahLst/>
                        <a:rect l="textAreaLeft" t="textAreaTop" r="textAreaRight" b="textAreaBottom"/>
                        <a:pathLst>
                          <a:path w="101" h="73">
                            <a:moveTo>
                              <a:pt x="0" y="3"/>
                            </a:moveTo>
                            <a:lnTo>
                              <a:pt x="22" y="11"/>
                            </a:lnTo>
                            <a:lnTo>
                              <a:pt x="40" y="17"/>
                            </a:lnTo>
                            <a:lnTo>
                              <a:pt x="60" y="29"/>
                            </a:lnTo>
                            <a:lnTo>
                              <a:pt x="78" y="49"/>
                            </a:lnTo>
                            <a:lnTo>
                              <a:pt x="101" y="73"/>
                            </a:lnTo>
                            <a:lnTo>
                              <a:pt x="90" y="47"/>
                            </a:lnTo>
                            <a:lnTo>
                              <a:pt x="76" y="29"/>
                            </a:lnTo>
                            <a:lnTo>
                              <a:pt x="62" y="15"/>
                            </a:lnTo>
                            <a:lnTo>
                              <a:pt x="46" y="7"/>
                            </a:lnTo>
                            <a:lnTo>
                              <a:pt x="26" y="0"/>
                            </a:lnTo>
                            <a:lnTo>
                              <a:pt x="0" y="3"/>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5" name="Freeform 40"/>
                      <p:cNvSpPr/>
                      <p:nvPr/>
                    </p:nvSpPr>
                    <p:spPr>
                      <a:xfrm>
                        <a:off x="4599000" y="4480200"/>
                        <a:ext cx="14040" cy="33120"/>
                      </a:xfrm>
                      <a:custGeom>
                        <a:avLst/>
                        <a:gdLst>
                          <a:gd name="textAreaLeft" fmla="*/ 0 w 14040"/>
                          <a:gd name="textAreaRight" fmla="*/ 14400 w 14040"/>
                          <a:gd name="textAreaTop" fmla="*/ 0 h 33120"/>
                          <a:gd name="textAreaBottom" fmla="*/ 33480 h 33120"/>
                        </a:gdLst>
                        <a:ahLst/>
                        <a:rect l="textAreaLeft" t="textAreaTop" r="textAreaRight" b="textAreaBottom"/>
                        <a:pathLst>
                          <a:path w="18" h="42">
                            <a:moveTo>
                              <a:pt x="0" y="0"/>
                            </a:moveTo>
                            <a:lnTo>
                              <a:pt x="18" y="24"/>
                            </a:lnTo>
                            <a:lnTo>
                              <a:pt x="16" y="42"/>
                            </a:lnTo>
                            <a:lnTo>
                              <a:pt x="4" y="22"/>
                            </a:lnTo>
                            <a:lnTo>
                              <a:pt x="0" y="0"/>
                            </a:lnTo>
                            <a:close/>
                          </a:path>
                        </a:pathLst>
                      </a:custGeom>
                      <a:solidFill>
                        <a:srgbClr val="df9f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6" name="Freeform 41"/>
                      <p:cNvSpPr/>
                      <p:nvPr/>
                    </p:nvSpPr>
                    <p:spPr>
                      <a:xfrm>
                        <a:off x="4533840" y="4497840"/>
                        <a:ext cx="146160" cy="58320"/>
                      </a:xfrm>
                      <a:custGeom>
                        <a:avLst/>
                        <a:gdLst>
                          <a:gd name="textAreaLeft" fmla="*/ 0 w 146160"/>
                          <a:gd name="textAreaRight" fmla="*/ 146520 w 146160"/>
                          <a:gd name="textAreaTop" fmla="*/ 0 h 58320"/>
                          <a:gd name="textAreaBottom" fmla="*/ 58680 h 58320"/>
                        </a:gdLst>
                        <a:ahLst/>
                        <a:rect l="textAreaLeft" t="textAreaTop" r="textAreaRight" b="textAreaBottom"/>
                        <a:pathLst>
                          <a:path w="184" h="74">
                            <a:moveTo>
                              <a:pt x="0" y="74"/>
                            </a:moveTo>
                            <a:lnTo>
                              <a:pt x="26" y="66"/>
                            </a:lnTo>
                            <a:lnTo>
                              <a:pt x="46" y="58"/>
                            </a:lnTo>
                            <a:lnTo>
                              <a:pt x="68" y="42"/>
                            </a:lnTo>
                            <a:lnTo>
                              <a:pt x="88" y="30"/>
                            </a:lnTo>
                            <a:lnTo>
                              <a:pt x="110" y="30"/>
                            </a:lnTo>
                            <a:lnTo>
                              <a:pt x="116" y="14"/>
                            </a:lnTo>
                            <a:lnTo>
                              <a:pt x="132" y="8"/>
                            </a:lnTo>
                            <a:lnTo>
                              <a:pt x="154" y="6"/>
                            </a:lnTo>
                            <a:lnTo>
                              <a:pt x="172" y="6"/>
                            </a:lnTo>
                            <a:lnTo>
                              <a:pt x="184" y="0"/>
                            </a:lnTo>
                            <a:lnTo>
                              <a:pt x="156" y="18"/>
                            </a:lnTo>
                            <a:lnTo>
                              <a:pt x="140" y="24"/>
                            </a:lnTo>
                            <a:lnTo>
                              <a:pt x="122" y="36"/>
                            </a:lnTo>
                            <a:lnTo>
                              <a:pt x="110" y="48"/>
                            </a:lnTo>
                            <a:lnTo>
                              <a:pt x="92" y="50"/>
                            </a:lnTo>
                            <a:lnTo>
                              <a:pt x="74" y="58"/>
                            </a:lnTo>
                            <a:lnTo>
                              <a:pt x="52" y="68"/>
                            </a:lnTo>
                            <a:lnTo>
                              <a:pt x="34" y="74"/>
                            </a:lnTo>
                            <a:lnTo>
                              <a:pt x="0" y="74"/>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7" name="Freeform 42"/>
                      <p:cNvSpPr/>
                      <p:nvPr/>
                    </p:nvSpPr>
                    <p:spPr>
                      <a:xfrm>
                        <a:off x="4548240" y="4535640"/>
                        <a:ext cx="123840" cy="39600"/>
                      </a:xfrm>
                      <a:custGeom>
                        <a:avLst/>
                        <a:gdLst>
                          <a:gd name="textAreaLeft" fmla="*/ 0 w 123840"/>
                          <a:gd name="textAreaRight" fmla="*/ 124200 w 123840"/>
                          <a:gd name="textAreaTop" fmla="*/ 0 h 39600"/>
                          <a:gd name="textAreaBottom" fmla="*/ 39960 h 39600"/>
                        </a:gdLst>
                        <a:ahLst/>
                        <a:rect l="textAreaLeft" t="textAreaTop" r="textAreaRight" b="textAreaBottom"/>
                        <a:pathLst>
                          <a:path w="156" h="50">
                            <a:moveTo>
                              <a:pt x="0" y="40"/>
                            </a:moveTo>
                            <a:lnTo>
                              <a:pt x="38" y="44"/>
                            </a:lnTo>
                            <a:lnTo>
                              <a:pt x="74" y="38"/>
                            </a:lnTo>
                            <a:lnTo>
                              <a:pt x="88" y="30"/>
                            </a:lnTo>
                            <a:lnTo>
                              <a:pt x="104" y="20"/>
                            </a:lnTo>
                            <a:lnTo>
                              <a:pt x="118" y="10"/>
                            </a:lnTo>
                            <a:lnTo>
                              <a:pt x="134" y="8"/>
                            </a:lnTo>
                            <a:lnTo>
                              <a:pt x="156" y="0"/>
                            </a:lnTo>
                            <a:lnTo>
                              <a:pt x="138" y="14"/>
                            </a:lnTo>
                            <a:lnTo>
                              <a:pt x="118" y="16"/>
                            </a:lnTo>
                            <a:lnTo>
                              <a:pt x="104" y="28"/>
                            </a:lnTo>
                            <a:lnTo>
                              <a:pt x="86" y="42"/>
                            </a:lnTo>
                            <a:lnTo>
                              <a:pt x="72" y="50"/>
                            </a:lnTo>
                            <a:lnTo>
                              <a:pt x="50" y="50"/>
                            </a:lnTo>
                            <a:lnTo>
                              <a:pt x="26" y="46"/>
                            </a:lnTo>
                            <a:lnTo>
                              <a:pt x="0" y="40"/>
                            </a:lnTo>
                            <a:close/>
                          </a:path>
                        </a:pathLst>
                      </a:custGeom>
                      <a:solidFill>
                        <a:srgbClr val="df9f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418" name="Freeform 43"/>
                    <p:cNvSpPr/>
                    <p:nvPr/>
                  </p:nvSpPr>
                  <p:spPr>
                    <a:xfrm>
                      <a:off x="4375080" y="4364640"/>
                      <a:ext cx="98280" cy="74160"/>
                    </a:xfrm>
                    <a:custGeom>
                      <a:avLst/>
                      <a:gdLst>
                        <a:gd name="textAreaLeft" fmla="*/ 0 w 98280"/>
                        <a:gd name="textAreaRight" fmla="*/ 98640 w 98280"/>
                        <a:gd name="textAreaTop" fmla="*/ 0 h 74160"/>
                        <a:gd name="textAreaBottom" fmla="*/ 74160 h 74160"/>
                      </a:gdLst>
                      <a:ahLst/>
                      <a:rect l="textAreaLeft" t="textAreaTop" r="textAreaRight" b="textAreaBottom"/>
                      <a:pathLst>
                        <a:path w="124" h="94">
                          <a:moveTo>
                            <a:pt x="122" y="0"/>
                          </a:moveTo>
                          <a:lnTo>
                            <a:pt x="124" y="38"/>
                          </a:lnTo>
                          <a:lnTo>
                            <a:pt x="118" y="60"/>
                          </a:lnTo>
                          <a:lnTo>
                            <a:pt x="106" y="80"/>
                          </a:lnTo>
                          <a:lnTo>
                            <a:pt x="84" y="90"/>
                          </a:lnTo>
                          <a:lnTo>
                            <a:pt x="54" y="94"/>
                          </a:lnTo>
                          <a:lnTo>
                            <a:pt x="34" y="92"/>
                          </a:lnTo>
                          <a:lnTo>
                            <a:pt x="18" y="84"/>
                          </a:lnTo>
                          <a:lnTo>
                            <a:pt x="8" y="76"/>
                          </a:lnTo>
                          <a:lnTo>
                            <a:pt x="0" y="66"/>
                          </a:lnTo>
                          <a:lnTo>
                            <a:pt x="6" y="58"/>
                          </a:lnTo>
                          <a:lnTo>
                            <a:pt x="22" y="76"/>
                          </a:lnTo>
                          <a:lnTo>
                            <a:pt x="36" y="86"/>
                          </a:lnTo>
                          <a:lnTo>
                            <a:pt x="58" y="90"/>
                          </a:lnTo>
                          <a:lnTo>
                            <a:pt x="82" y="86"/>
                          </a:lnTo>
                          <a:lnTo>
                            <a:pt x="96" y="72"/>
                          </a:lnTo>
                          <a:lnTo>
                            <a:pt x="106" y="54"/>
                          </a:lnTo>
                          <a:lnTo>
                            <a:pt x="114" y="40"/>
                          </a:lnTo>
                          <a:lnTo>
                            <a:pt x="118" y="24"/>
                          </a:lnTo>
                          <a:lnTo>
                            <a:pt x="100" y="36"/>
                          </a:lnTo>
                          <a:lnTo>
                            <a:pt x="84" y="42"/>
                          </a:lnTo>
                          <a:lnTo>
                            <a:pt x="62" y="42"/>
                          </a:lnTo>
                          <a:lnTo>
                            <a:pt x="40" y="42"/>
                          </a:lnTo>
                          <a:lnTo>
                            <a:pt x="100" y="22"/>
                          </a:lnTo>
                          <a:lnTo>
                            <a:pt x="122" y="0"/>
                          </a:lnTo>
                          <a:close/>
                        </a:path>
                      </a:pathLst>
                    </a:custGeom>
                    <a:solidFill>
                      <a:srgbClr val="df9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419" name="Group 44"/>
                  <p:cNvGrpSpPr/>
                  <p:nvPr/>
                </p:nvGrpSpPr>
                <p:grpSpPr>
                  <a:xfrm>
                    <a:off x="4581360" y="4275720"/>
                    <a:ext cx="92160" cy="39240"/>
                    <a:chOff x="4581360" y="4275720"/>
                    <a:chExt cx="92160" cy="39240"/>
                  </a:xfrm>
                </p:grpSpPr>
                <p:sp>
                  <p:nvSpPr>
                    <p:cNvPr id="420" name="Freeform 45"/>
                    <p:cNvSpPr/>
                    <p:nvPr/>
                  </p:nvSpPr>
                  <p:spPr>
                    <a:xfrm>
                      <a:off x="4583160" y="4277160"/>
                      <a:ext cx="90360" cy="37440"/>
                    </a:xfrm>
                    <a:custGeom>
                      <a:avLst/>
                      <a:gdLst>
                        <a:gd name="textAreaLeft" fmla="*/ 0 w 90360"/>
                        <a:gd name="textAreaRight" fmla="*/ 90720 w 90360"/>
                        <a:gd name="textAreaTop" fmla="*/ 0 h 37440"/>
                        <a:gd name="textAreaBottom" fmla="*/ 37800 h 37440"/>
                      </a:gdLst>
                      <a:ahLst/>
                      <a:rect l="textAreaLeft" t="textAreaTop" r="textAreaRight" b="textAreaBottom"/>
                      <a:pathLst>
                        <a:path w="114" h="48">
                          <a:moveTo>
                            <a:pt x="0" y="44"/>
                          </a:moveTo>
                          <a:lnTo>
                            <a:pt x="10" y="28"/>
                          </a:lnTo>
                          <a:lnTo>
                            <a:pt x="22" y="18"/>
                          </a:lnTo>
                          <a:lnTo>
                            <a:pt x="36" y="8"/>
                          </a:lnTo>
                          <a:lnTo>
                            <a:pt x="54" y="2"/>
                          </a:lnTo>
                          <a:lnTo>
                            <a:pt x="72" y="0"/>
                          </a:lnTo>
                          <a:lnTo>
                            <a:pt x="90" y="2"/>
                          </a:lnTo>
                          <a:lnTo>
                            <a:pt x="114" y="10"/>
                          </a:lnTo>
                          <a:lnTo>
                            <a:pt x="86" y="16"/>
                          </a:lnTo>
                          <a:lnTo>
                            <a:pt x="74" y="28"/>
                          </a:lnTo>
                          <a:lnTo>
                            <a:pt x="62" y="40"/>
                          </a:lnTo>
                          <a:lnTo>
                            <a:pt x="50" y="46"/>
                          </a:lnTo>
                          <a:lnTo>
                            <a:pt x="36" y="48"/>
                          </a:lnTo>
                          <a:lnTo>
                            <a:pt x="0" y="4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1" name="Freeform 46"/>
                    <p:cNvSpPr/>
                    <p:nvPr/>
                  </p:nvSpPr>
                  <p:spPr>
                    <a:xfrm>
                      <a:off x="4581360" y="4275720"/>
                      <a:ext cx="90720" cy="39240"/>
                    </a:xfrm>
                    <a:custGeom>
                      <a:avLst/>
                      <a:gdLst>
                        <a:gd name="textAreaLeft" fmla="*/ 0 w 90720"/>
                        <a:gd name="textAreaRight" fmla="*/ 91080 w 90720"/>
                        <a:gd name="textAreaTop" fmla="*/ 0 h 39240"/>
                        <a:gd name="textAreaBottom" fmla="*/ 39600 h 39240"/>
                      </a:gdLst>
                      <a:ahLst/>
                      <a:rect l="textAreaLeft" t="textAreaTop" r="textAreaRight" b="textAreaBottom"/>
                      <a:pathLst>
                        <a:path w="114" h="50">
                          <a:moveTo>
                            <a:pt x="0" y="44"/>
                          </a:moveTo>
                          <a:lnTo>
                            <a:pt x="10" y="28"/>
                          </a:lnTo>
                          <a:lnTo>
                            <a:pt x="22" y="18"/>
                          </a:lnTo>
                          <a:lnTo>
                            <a:pt x="36" y="8"/>
                          </a:lnTo>
                          <a:lnTo>
                            <a:pt x="54" y="2"/>
                          </a:lnTo>
                          <a:lnTo>
                            <a:pt x="72" y="0"/>
                          </a:lnTo>
                          <a:lnTo>
                            <a:pt x="90" y="2"/>
                          </a:lnTo>
                          <a:lnTo>
                            <a:pt x="114" y="10"/>
                          </a:lnTo>
                          <a:lnTo>
                            <a:pt x="80" y="8"/>
                          </a:lnTo>
                          <a:lnTo>
                            <a:pt x="80" y="20"/>
                          </a:lnTo>
                          <a:lnTo>
                            <a:pt x="76" y="34"/>
                          </a:lnTo>
                          <a:lnTo>
                            <a:pt x="58" y="46"/>
                          </a:lnTo>
                          <a:lnTo>
                            <a:pt x="44" y="50"/>
                          </a:lnTo>
                          <a:lnTo>
                            <a:pt x="34" y="42"/>
                          </a:lnTo>
                          <a:lnTo>
                            <a:pt x="28" y="32"/>
                          </a:lnTo>
                          <a:lnTo>
                            <a:pt x="24" y="22"/>
                          </a:lnTo>
                          <a:lnTo>
                            <a:pt x="0" y="44"/>
                          </a:lnTo>
                          <a:close/>
                        </a:path>
                      </a:pathLst>
                    </a:custGeom>
                    <a:solidFill>
                      <a:srgbClr val="7f3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422" name="Group 47"/>
                  <p:cNvGrpSpPr/>
                  <p:nvPr/>
                </p:nvGrpSpPr>
                <p:grpSpPr>
                  <a:xfrm>
                    <a:off x="4365360" y="4355280"/>
                    <a:ext cx="106560" cy="47160"/>
                    <a:chOff x="4365360" y="4355280"/>
                    <a:chExt cx="106560" cy="47160"/>
                  </a:xfrm>
                </p:grpSpPr>
                <p:sp>
                  <p:nvSpPr>
                    <p:cNvPr id="423" name="Freeform 48"/>
                    <p:cNvSpPr/>
                    <p:nvPr/>
                  </p:nvSpPr>
                  <p:spPr>
                    <a:xfrm>
                      <a:off x="4367160" y="4355280"/>
                      <a:ext cx="104760" cy="47160"/>
                    </a:xfrm>
                    <a:custGeom>
                      <a:avLst/>
                      <a:gdLst>
                        <a:gd name="textAreaLeft" fmla="*/ 0 w 104760"/>
                        <a:gd name="textAreaRight" fmla="*/ 105120 w 104760"/>
                        <a:gd name="textAreaTop" fmla="*/ 0 h 47160"/>
                        <a:gd name="textAreaBottom" fmla="*/ 47520 h 47160"/>
                      </a:gdLst>
                      <a:ahLst/>
                      <a:rect l="textAreaLeft" t="textAreaTop" r="textAreaRight" b="textAreaBottom"/>
                      <a:pathLst>
                        <a:path w="132" h="60">
                          <a:moveTo>
                            <a:pt x="0" y="58"/>
                          </a:moveTo>
                          <a:lnTo>
                            <a:pt x="40" y="42"/>
                          </a:lnTo>
                          <a:lnTo>
                            <a:pt x="64" y="30"/>
                          </a:lnTo>
                          <a:lnTo>
                            <a:pt x="92" y="14"/>
                          </a:lnTo>
                          <a:lnTo>
                            <a:pt x="112" y="2"/>
                          </a:lnTo>
                          <a:lnTo>
                            <a:pt x="122" y="0"/>
                          </a:lnTo>
                          <a:lnTo>
                            <a:pt x="132" y="8"/>
                          </a:lnTo>
                          <a:lnTo>
                            <a:pt x="132" y="24"/>
                          </a:lnTo>
                          <a:lnTo>
                            <a:pt x="122" y="40"/>
                          </a:lnTo>
                          <a:lnTo>
                            <a:pt x="120" y="42"/>
                          </a:lnTo>
                          <a:lnTo>
                            <a:pt x="104" y="50"/>
                          </a:lnTo>
                          <a:lnTo>
                            <a:pt x="102" y="52"/>
                          </a:lnTo>
                          <a:lnTo>
                            <a:pt x="70" y="58"/>
                          </a:lnTo>
                          <a:lnTo>
                            <a:pt x="26" y="60"/>
                          </a:lnTo>
                          <a:lnTo>
                            <a:pt x="0" y="5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 name="Freeform 49"/>
                    <p:cNvSpPr/>
                    <p:nvPr/>
                  </p:nvSpPr>
                  <p:spPr>
                    <a:xfrm>
                      <a:off x="4365360" y="4355280"/>
                      <a:ext cx="105120" cy="45720"/>
                    </a:xfrm>
                    <a:custGeom>
                      <a:avLst/>
                      <a:gdLst>
                        <a:gd name="textAreaLeft" fmla="*/ 0 w 105120"/>
                        <a:gd name="textAreaRight" fmla="*/ 105480 w 105120"/>
                        <a:gd name="textAreaTop" fmla="*/ 0 h 45720"/>
                        <a:gd name="textAreaBottom" fmla="*/ 46080 h 45720"/>
                      </a:gdLst>
                      <a:ahLst/>
                      <a:rect l="textAreaLeft" t="textAreaTop" r="textAreaRight" b="textAreaBottom"/>
                      <a:pathLst>
                        <a:path w="132" h="58">
                          <a:moveTo>
                            <a:pt x="0" y="58"/>
                          </a:moveTo>
                          <a:lnTo>
                            <a:pt x="40" y="42"/>
                          </a:lnTo>
                          <a:lnTo>
                            <a:pt x="64" y="30"/>
                          </a:lnTo>
                          <a:lnTo>
                            <a:pt x="92" y="14"/>
                          </a:lnTo>
                          <a:lnTo>
                            <a:pt x="112" y="2"/>
                          </a:lnTo>
                          <a:lnTo>
                            <a:pt x="122" y="0"/>
                          </a:lnTo>
                          <a:lnTo>
                            <a:pt x="132" y="4"/>
                          </a:lnTo>
                          <a:lnTo>
                            <a:pt x="116" y="8"/>
                          </a:lnTo>
                          <a:lnTo>
                            <a:pt x="124" y="16"/>
                          </a:lnTo>
                          <a:lnTo>
                            <a:pt x="126" y="28"/>
                          </a:lnTo>
                          <a:lnTo>
                            <a:pt x="118" y="48"/>
                          </a:lnTo>
                          <a:lnTo>
                            <a:pt x="102" y="54"/>
                          </a:lnTo>
                          <a:lnTo>
                            <a:pt x="82" y="58"/>
                          </a:lnTo>
                          <a:lnTo>
                            <a:pt x="66" y="50"/>
                          </a:lnTo>
                          <a:lnTo>
                            <a:pt x="56" y="40"/>
                          </a:lnTo>
                          <a:lnTo>
                            <a:pt x="30" y="50"/>
                          </a:lnTo>
                          <a:lnTo>
                            <a:pt x="0" y="58"/>
                          </a:lnTo>
                          <a:close/>
                        </a:path>
                      </a:pathLst>
                    </a:custGeom>
                    <a:solidFill>
                      <a:srgbClr val="7f3f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grpSp>
              <p:nvGrpSpPr>
                <p:cNvPr id="425" name="Group 50"/>
                <p:cNvGrpSpPr/>
                <p:nvPr/>
              </p:nvGrpSpPr>
              <p:grpSpPr>
                <a:xfrm>
                  <a:off x="4154400" y="3979800"/>
                  <a:ext cx="538200" cy="469440"/>
                  <a:chOff x="4154400" y="3979800"/>
                  <a:chExt cx="538200" cy="469440"/>
                </a:xfrm>
              </p:grpSpPr>
              <p:grpSp>
                <p:nvGrpSpPr>
                  <p:cNvPr id="426" name="Group 51"/>
                  <p:cNvGrpSpPr/>
                  <p:nvPr/>
                </p:nvGrpSpPr>
                <p:grpSpPr>
                  <a:xfrm>
                    <a:off x="4335480" y="4204800"/>
                    <a:ext cx="309600" cy="180000"/>
                    <a:chOff x="4335480" y="4204800"/>
                    <a:chExt cx="309600" cy="180000"/>
                  </a:xfrm>
                </p:grpSpPr>
                <p:sp>
                  <p:nvSpPr>
                    <p:cNvPr id="427" name="Freeform 52"/>
                    <p:cNvSpPr/>
                    <p:nvPr/>
                  </p:nvSpPr>
                  <p:spPr>
                    <a:xfrm>
                      <a:off x="4335480" y="4318560"/>
                      <a:ext cx="147600" cy="66240"/>
                    </a:xfrm>
                    <a:custGeom>
                      <a:avLst/>
                      <a:gdLst/>
                      <a:ahLst/>
                      <a:rect l="l" t="t" r="r" b="b"/>
                      <a:pathLst>
                        <a:path w="186" h="86">
                          <a:moveTo>
                            <a:pt x="186" y="10"/>
                          </a:moveTo>
                          <a:lnTo>
                            <a:pt x="172" y="6"/>
                          </a:lnTo>
                          <a:lnTo>
                            <a:pt x="162" y="0"/>
                          </a:lnTo>
                          <a:lnTo>
                            <a:pt x="140" y="6"/>
                          </a:lnTo>
                          <a:lnTo>
                            <a:pt x="114" y="6"/>
                          </a:lnTo>
                          <a:lnTo>
                            <a:pt x="82" y="8"/>
                          </a:lnTo>
                          <a:lnTo>
                            <a:pt x="54" y="8"/>
                          </a:lnTo>
                          <a:lnTo>
                            <a:pt x="44" y="0"/>
                          </a:lnTo>
                          <a:lnTo>
                            <a:pt x="30" y="0"/>
                          </a:lnTo>
                          <a:lnTo>
                            <a:pt x="24" y="10"/>
                          </a:lnTo>
                          <a:lnTo>
                            <a:pt x="22" y="22"/>
                          </a:lnTo>
                          <a:lnTo>
                            <a:pt x="16" y="38"/>
                          </a:lnTo>
                          <a:lnTo>
                            <a:pt x="10" y="54"/>
                          </a:lnTo>
                          <a:lnTo>
                            <a:pt x="0" y="66"/>
                          </a:lnTo>
                          <a:lnTo>
                            <a:pt x="10" y="78"/>
                          </a:lnTo>
                          <a:lnTo>
                            <a:pt x="12" y="86"/>
                          </a:lnTo>
                          <a:lnTo>
                            <a:pt x="22" y="72"/>
                          </a:lnTo>
                          <a:lnTo>
                            <a:pt x="40" y="54"/>
                          </a:lnTo>
                          <a:lnTo>
                            <a:pt x="50" y="44"/>
                          </a:lnTo>
                          <a:lnTo>
                            <a:pt x="66" y="36"/>
                          </a:lnTo>
                          <a:lnTo>
                            <a:pt x="82" y="32"/>
                          </a:lnTo>
                          <a:lnTo>
                            <a:pt x="102" y="30"/>
                          </a:lnTo>
                          <a:lnTo>
                            <a:pt x="126" y="28"/>
                          </a:lnTo>
                          <a:lnTo>
                            <a:pt x="144" y="26"/>
                          </a:lnTo>
                          <a:lnTo>
                            <a:pt x="160" y="26"/>
                          </a:lnTo>
                          <a:lnTo>
                            <a:pt x="168" y="18"/>
                          </a:lnTo>
                          <a:lnTo>
                            <a:pt x="186" y="10"/>
                          </a:lnTo>
                          <a:close/>
                        </a:path>
                      </a:pathLst>
                    </a:custGeom>
                    <a:solidFill>
                      <a:srgbClr val="5f5f5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8" name="Freeform 53"/>
                    <p:cNvSpPr/>
                    <p:nvPr/>
                  </p:nvSpPr>
                  <p:spPr>
                    <a:xfrm>
                      <a:off x="4545000" y="4204800"/>
                      <a:ext cx="100080" cy="113760"/>
                    </a:xfrm>
                    <a:custGeom>
                      <a:avLst/>
                      <a:gdLst>
                        <a:gd name="textAreaLeft" fmla="*/ 0 w 100080"/>
                        <a:gd name="textAreaRight" fmla="*/ 100440 w 100080"/>
                        <a:gd name="textAreaTop" fmla="*/ 0 h 113760"/>
                        <a:gd name="textAreaBottom" fmla="*/ 114120 h 113760"/>
                      </a:gdLst>
                      <a:ahLst/>
                      <a:rect l="textAreaLeft" t="textAreaTop" r="textAreaRight" b="textAreaBottom"/>
                      <a:pathLst>
                        <a:path w="126" h="143">
                          <a:moveTo>
                            <a:pt x="0" y="143"/>
                          </a:moveTo>
                          <a:lnTo>
                            <a:pt x="30" y="99"/>
                          </a:lnTo>
                          <a:lnTo>
                            <a:pt x="58" y="83"/>
                          </a:lnTo>
                          <a:lnTo>
                            <a:pt x="80" y="73"/>
                          </a:lnTo>
                          <a:lnTo>
                            <a:pt x="96" y="55"/>
                          </a:lnTo>
                          <a:lnTo>
                            <a:pt x="110" y="42"/>
                          </a:lnTo>
                          <a:lnTo>
                            <a:pt x="122" y="30"/>
                          </a:lnTo>
                          <a:lnTo>
                            <a:pt x="120" y="30"/>
                          </a:lnTo>
                          <a:lnTo>
                            <a:pt x="126" y="14"/>
                          </a:lnTo>
                          <a:lnTo>
                            <a:pt x="122" y="6"/>
                          </a:lnTo>
                          <a:lnTo>
                            <a:pt x="114" y="0"/>
                          </a:lnTo>
                          <a:lnTo>
                            <a:pt x="112" y="0"/>
                          </a:lnTo>
                          <a:lnTo>
                            <a:pt x="96" y="4"/>
                          </a:lnTo>
                          <a:lnTo>
                            <a:pt x="90" y="18"/>
                          </a:lnTo>
                          <a:lnTo>
                            <a:pt x="82" y="30"/>
                          </a:lnTo>
                          <a:lnTo>
                            <a:pt x="68" y="40"/>
                          </a:lnTo>
                          <a:lnTo>
                            <a:pt x="48" y="55"/>
                          </a:lnTo>
                          <a:lnTo>
                            <a:pt x="36" y="79"/>
                          </a:lnTo>
                          <a:lnTo>
                            <a:pt x="22" y="103"/>
                          </a:lnTo>
                          <a:lnTo>
                            <a:pt x="12" y="119"/>
                          </a:lnTo>
                          <a:lnTo>
                            <a:pt x="0" y="1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 name="Group 54"/>
                  <p:cNvGrpSpPr/>
                  <p:nvPr/>
                </p:nvGrpSpPr>
                <p:grpSpPr>
                  <a:xfrm>
                    <a:off x="4154400" y="3979800"/>
                    <a:ext cx="538200" cy="469440"/>
                    <a:chOff x="4154400" y="3979800"/>
                    <a:chExt cx="538200" cy="469440"/>
                  </a:xfrm>
                </p:grpSpPr>
                <p:grpSp>
                  <p:nvGrpSpPr>
                    <p:cNvPr id="430" name="Group 55"/>
                    <p:cNvGrpSpPr/>
                    <p:nvPr/>
                  </p:nvGrpSpPr>
                  <p:grpSpPr>
                    <a:xfrm>
                      <a:off x="4154400" y="3979800"/>
                      <a:ext cx="538200" cy="469440"/>
                      <a:chOff x="4154400" y="3979800"/>
                      <a:chExt cx="538200" cy="469440"/>
                    </a:xfrm>
                  </p:grpSpPr>
                  <p:sp>
                    <p:nvSpPr>
                      <p:cNvPr id="431" name="Freeform 56"/>
                      <p:cNvSpPr/>
                      <p:nvPr/>
                    </p:nvSpPr>
                    <p:spPr>
                      <a:xfrm>
                        <a:off x="4154400" y="3979800"/>
                        <a:ext cx="538200" cy="469440"/>
                      </a:xfrm>
                      <a:custGeom>
                        <a:avLst/>
                        <a:gdLst>
                          <a:gd name="textAreaLeft" fmla="*/ 0 w 538200"/>
                          <a:gd name="textAreaRight" fmla="*/ 538560 w 538200"/>
                          <a:gd name="textAreaTop" fmla="*/ 0 h 469440"/>
                          <a:gd name="textAreaBottom" fmla="*/ 469800 h 469440"/>
                        </a:gdLst>
                        <a:ahLst/>
                        <a:rect l="textAreaLeft" t="textAreaTop" r="textAreaRight" b="textAreaBottom"/>
                        <a:pathLst>
                          <a:path w="679" h="592">
                            <a:moveTo>
                              <a:pt x="38" y="500"/>
                            </a:moveTo>
                            <a:lnTo>
                              <a:pt x="68" y="530"/>
                            </a:lnTo>
                            <a:lnTo>
                              <a:pt x="92" y="560"/>
                            </a:lnTo>
                            <a:lnTo>
                              <a:pt x="126" y="578"/>
                            </a:lnTo>
                            <a:lnTo>
                              <a:pt x="140" y="592"/>
                            </a:lnTo>
                            <a:lnTo>
                              <a:pt x="146" y="536"/>
                            </a:lnTo>
                            <a:lnTo>
                              <a:pt x="158" y="484"/>
                            </a:lnTo>
                            <a:lnTo>
                              <a:pt x="168" y="440"/>
                            </a:lnTo>
                            <a:lnTo>
                              <a:pt x="174" y="404"/>
                            </a:lnTo>
                            <a:lnTo>
                              <a:pt x="170" y="358"/>
                            </a:lnTo>
                            <a:lnTo>
                              <a:pt x="156" y="329"/>
                            </a:lnTo>
                            <a:lnTo>
                              <a:pt x="140" y="315"/>
                            </a:lnTo>
                            <a:lnTo>
                              <a:pt x="181" y="321"/>
                            </a:lnTo>
                            <a:lnTo>
                              <a:pt x="233" y="309"/>
                            </a:lnTo>
                            <a:lnTo>
                              <a:pt x="265" y="293"/>
                            </a:lnTo>
                            <a:lnTo>
                              <a:pt x="301" y="279"/>
                            </a:lnTo>
                            <a:lnTo>
                              <a:pt x="341" y="263"/>
                            </a:lnTo>
                            <a:lnTo>
                              <a:pt x="377" y="249"/>
                            </a:lnTo>
                            <a:lnTo>
                              <a:pt x="403" y="231"/>
                            </a:lnTo>
                            <a:lnTo>
                              <a:pt x="441" y="197"/>
                            </a:lnTo>
                            <a:lnTo>
                              <a:pt x="441" y="195"/>
                            </a:lnTo>
                            <a:lnTo>
                              <a:pt x="459" y="159"/>
                            </a:lnTo>
                            <a:lnTo>
                              <a:pt x="475" y="129"/>
                            </a:lnTo>
                            <a:lnTo>
                              <a:pt x="507" y="137"/>
                            </a:lnTo>
                            <a:lnTo>
                              <a:pt x="547" y="159"/>
                            </a:lnTo>
                            <a:lnTo>
                              <a:pt x="585" y="185"/>
                            </a:lnTo>
                            <a:lnTo>
                              <a:pt x="613" y="215"/>
                            </a:lnTo>
                            <a:lnTo>
                              <a:pt x="633" y="251"/>
                            </a:lnTo>
                            <a:lnTo>
                              <a:pt x="649" y="285"/>
                            </a:lnTo>
                            <a:lnTo>
                              <a:pt x="657" y="321"/>
                            </a:lnTo>
                            <a:lnTo>
                              <a:pt x="679" y="350"/>
                            </a:lnTo>
                            <a:lnTo>
                              <a:pt x="673" y="291"/>
                            </a:lnTo>
                            <a:lnTo>
                              <a:pt x="661" y="255"/>
                            </a:lnTo>
                            <a:lnTo>
                              <a:pt x="645" y="215"/>
                            </a:lnTo>
                            <a:lnTo>
                              <a:pt x="637" y="171"/>
                            </a:lnTo>
                            <a:lnTo>
                              <a:pt x="603" y="129"/>
                            </a:lnTo>
                            <a:lnTo>
                              <a:pt x="555" y="76"/>
                            </a:lnTo>
                            <a:lnTo>
                              <a:pt x="525" y="46"/>
                            </a:lnTo>
                            <a:lnTo>
                              <a:pt x="501" y="24"/>
                            </a:lnTo>
                            <a:lnTo>
                              <a:pt x="475" y="12"/>
                            </a:lnTo>
                            <a:lnTo>
                              <a:pt x="451" y="4"/>
                            </a:lnTo>
                            <a:lnTo>
                              <a:pt x="415" y="4"/>
                            </a:lnTo>
                            <a:lnTo>
                              <a:pt x="401" y="4"/>
                            </a:lnTo>
                            <a:lnTo>
                              <a:pt x="355" y="0"/>
                            </a:lnTo>
                            <a:lnTo>
                              <a:pt x="293" y="0"/>
                            </a:lnTo>
                            <a:lnTo>
                              <a:pt x="235" y="16"/>
                            </a:lnTo>
                            <a:lnTo>
                              <a:pt x="187" y="34"/>
                            </a:lnTo>
                            <a:lnTo>
                              <a:pt x="144" y="48"/>
                            </a:lnTo>
                            <a:lnTo>
                              <a:pt x="110" y="64"/>
                            </a:lnTo>
                            <a:lnTo>
                              <a:pt x="86" y="81"/>
                            </a:lnTo>
                            <a:lnTo>
                              <a:pt x="66" y="99"/>
                            </a:lnTo>
                            <a:lnTo>
                              <a:pt x="44" y="123"/>
                            </a:lnTo>
                            <a:lnTo>
                              <a:pt x="24" y="153"/>
                            </a:lnTo>
                            <a:lnTo>
                              <a:pt x="8" y="177"/>
                            </a:lnTo>
                            <a:lnTo>
                              <a:pt x="0" y="209"/>
                            </a:lnTo>
                            <a:lnTo>
                              <a:pt x="0" y="255"/>
                            </a:lnTo>
                            <a:lnTo>
                              <a:pt x="0" y="297"/>
                            </a:lnTo>
                            <a:lnTo>
                              <a:pt x="6" y="338"/>
                            </a:lnTo>
                            <a:lnTo>
                              <a:pt x="6" y="388"/>
                            </a:lnTo>
                            <a:lnTo>
                              <a:pt x="8" y="428"/>
                            </a:lnTo>
                            <a:lnTo>
                              <a:pt x="18" y="454"/>
                            </a:lnTo>
                            <a:lnTo>
                              <a:pt x="38" y="5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57"/>
                      <p:cNvSpPr/>
                      <p:nvPr/>
                    </p:nvSpPr>
                    <p:spPr>
                      <a:xfrm>
                        <a:off x="4178160" y="3990240"/>
                        <a:ext cx="328680" cy="417240"/>
                      </a:xfrm>
                      <a:custGeom>
                        <a:avLst/>
                        <a:gdLst>
                          <a:gd name="textAreaLeft" fmla="*/ 0 w 328680"/>
                          <a:gd name="textAreaRight" fmla="*/ 329040 w 328680"/>
                          <a:gd name="textAreaTop" fmla="*/ 0 h 417240"/>
                          <a:gd name="textAreaBottom" fmla="*/ 417600 h 417240"/>
                        </a:gdLst>
                        <a:ahLst/>
                        <a:rect l="textAreaLeft" t="textAreaTop" r="textAreaRight" b="textAreaBottom"/>
                        <a:pathLst>
                          <a:path w="415" h="526">
                            <a:moveTo>
                              <a:pt x="257" y="16"/>
                            </a:moveTo>
                            <a:lnTo>
                              <a:pt x="281" y="4"/>
                            </a:lnTo>
                            <a:lnTo>
                              <a:pt x="305" y="0"/>
                            </a:lnTo>
                            <a:lnTo>
                              <a:pt x="327" y="0"/>
                            </a:lnTo>
                            <a:lnTo>
                              <a:pt x="359" y="6"/>
                            </a:lnTo>
                            <a:lnTo>
                              <a:pt x="375" y="12"/>
                            </a:lnTo>
                            <a:lnTo>
                              <a:pt x="389" y="30"/>
                            </a:lnTo>
                            <a:lnTo>
                              <a:pt x="403" y="56"/>
                            </a:lnTo>
                            <a:lnTo>
                              <a:pt x="415" y="73"/>
                            </a:lnTo>
                            <a:lnTo>
                              <a:pt x="415" y="93"/>
                            </a:lnTo>
                            <a:lnTo>
                              <a:pt x="413" y="115"/>
                            </a:lnTo>
                            <a:lnTo>
                              <a:pt x="395" y="143"/>
                            </a:lnTo>
                            <a:lnTo>
                              <a:pt x="379" y="167"/>
                            </a:lnTo>
                            <a:lnTo>
                              <a:pt x="359" y="187"/>
                            </a:lnTo>
                            <a:lnTo>
                              <a:pt x="335" y="205"/>
                            </a:lnTo>
                            <a:lnTo>
                              <a:pt x="317" y="219"/>
                            </a:lnTo>
                            <a:lnTo>
                              <a:pt x="287" y="227"/>
                            </a:lnTo>
                            <a:lnTo>
                              <a:pt x="257" y="239"/>
                            </a:lnTo>
                            <a:lnTo>
                              <a:pt x="231" y="249"/>
                            </a:lnTo>
                            <a:lnTo>
                              <a:pt x="209" y="257"/>
                            </a:lnTo>
                            <a:lnTo>
                              <a:pt x="191" y="257"/>
                            </a:lnTo>
                            <a:lnTo>
                              <a:pt x="179" y="263"/>
                            </a:lnTo>
                            <a:lnTo>
                              <a:pt x="173" y="269"/>
                            </a:lnTo>
                            <a:lnTo>
                              <a:pt x="201" y="269"/>
                            </a:lnTo>
                            <a:lnTo>
                              <a:pt x="183" y="279"/>
                            </a:lnTo>
                            <a:lnTo>
                              <a:pt x="159" y="287"/>
                            </a:lnTo>
                            <a:lnTo>
                              <a:pt x="126" y="287"/>
                            </a:lnTo>
                            <a:lnTo>
                              <a:pt x="102" y="287"/>
                            </a:lnTo>
                            <a:lnTo>
                              <a:pt x="94" y="293"/>
                            </a:lnTo>
                            <a:lnTo>
                              <a:pt x="108" y="326"/>
                            </a:lnTo>
                            <a:lnTo>
                              <a:pt x="116" y="362"/>
                            </a:lnTo>
                            <a:lnTo>
                              <a:pt x="116" y="394"/>
                            </a:lnTo>
                            <a:lnTo>
                              <a:pt x="116" y="428"/>
                            </a:lnTo>
                            <a:lnTo>
                              <a:pt x="122" y="452"/>
                            </a:lnTo>
                            <a:lnTo>
                              <a:pt x="114" y="484"/>
                            </a:lnTo>
                            <a:lnTo>
                              <a:pt x="102" y="522"/>
                            </a:lnTo>
                            <a:lnTo>
                              <a:pt x="90" y="526"/>
                            </a:lnTo>
                            <a:lnTo>
                              <a:pt x="80" y="512"/>
                            </a:lnTo>
                            <a:lnTo>
                              <a:pt x="46" y="476"/>
                            </a:lnTo>
                            <a:lnTo>
                              <a:pt x="12" y="456"/>
                            </a:lnTo>
                            <a:lnTo>
                              <a:pt x="50" y="456"/>
                            </a:lnTo>
                            <a:lnTo>
                              <a:pt x="34" y="416"/>
                            </a:lnTo>
                            <a:lnTo>
                              <a:pt x="14" y="398"/>
                            </a:lnTo>
                            <a:lnTo>
                              <a:pt x="30" y="368"/>
                            </a:lnTo>
                            <a:lnTo>
                              <a:pt x="20" y="358"/>
                            </a:lnTo>
                            <a:lnTo>
                              <a:pt x="36" y="362"/>
                            </a:lnTo>
                            <a:lnTo>
                              <a:pt x="18" y="326"/>
                            </a:lnTo>
                            <a:lnTo>
                              <a:pt x="40" y="328"/>
                            </a:lnTo>
                            <a:lnTo>
                              <a:pt x="4" y="283"/>
                            </a:lnTo>
                            <a:lnTo>
                              <a:pt x="0" y="243"/>
                            </a:lnTo>
                            <a:lnTo>
                              <a:pt x="18" y="257"/>
                            </a:lnTo>
                            <a:lnTo>
                              <a:pt x="6" y="229"/>
                            </a:lnTo>
                            <a:lnTo>
                              <a:pt x="48" y="233"/>
                            </a:lnTo>
                            <a:lnTo>
                              <a:pt x="64" y="225"/>
                            </a:lnTo>
                            <a:lnTo>
                              <a:pt x="46" y="203"/>
                            </a:lnTo>
                            <a:lnTo>
                              <a:pt x="76" y="199"/>
                            </a:lnTo>
                            <a:lnTo>
                              <a:pt x="48" y="183"/>
                            </a:lnTo>
                            <a:lnTo>
                              <a:pt x="24" y="165"/>
                            </a:lnTo>
                            <a:lnTo>
                              <a:pt x="72" y="179"/>
                            </a:lnTo>
                            <a:lnTo>
                              <a:pt x="104" y="187"/>
                            </a:lnTo>
                            <a:lnTo>
                              <a:pt x="132" y="189"/>
                            </a:lnTo>
                            <a:lnTo>
                              <a:pt x="167" y="193"/>
                            </a:lnTo>
                            <a:lnTo>
                              <a:pt x="201" y="191"/>
                            </a:lnTo>
                            <a:lnTo>
                              <a:pt x="213" y="185"/>
                            </a:lnTo>
                            <a:lnTo>
                              <a:pt x="203" y="171"/>
                            </a:lnTo>
                            <a:lnTo>
                              <a:pt x="243" y="165"/>
                            </a:lnTo>
                            <a:lnTo>
                              <a:pt x="209" y="159"/>
                            </a:lnTo>
                            <a:lnTo>
                              <a:pt x="177" y="155"/>
                            </a:lnTo>
                            <a:lnTo>
                              <a:pt x="142" y="155"/>
                            </a:lnTo>
                            <a:lnTo>
                              <a:pt x="106" y="155"/>
                            </a:lnTo>
                            <a:lnTo>
                              <a:pt x="132" y="135"/>
                            </a:lnTo>
                            <a:lnTo>
                              <a:pt x="100" y="143"/>
                            </a:lnTo>
                            <a:lnTo>
                              <a:pt x="72" y="139"/>
                            </a:lnTo>
                            <a:lnTo>
                              <a:pt x="48" y="135"/>
                            </a:lnTo>
                            <a:lnTo>
                              <a:pt x="34" y="133"/>
                            </a:lnTo>
                            <a:lnTo>
                              <a:pt x="66" y="125"/>
                            </a:lnTo>
                            <a:lnTo>
                              <a:pt x="90" y="119"/>
                            </a:lnTo>
                            <a:lnTo>
                              <a:pt x="108" y="111"/>
                            </a:lnTo>
                            <a:lnTo>
                              <a:pt x="118" y="107"/>
                            </a:lnTo>
                            <a:lnTo>
                              <a:pt x="96" y="107"/>
                            </a:lnTo>
                            <a:lnTo>
                              <a:pt x="136" y="87"/>
                            </a:lnTo>
                            <a:lnTo>
                              <a:pt x="114" y="81"/>
                            </a:lnTo>
                            <a:lnTo>
                              <a:pt x="96" y="81"/>
                            </a:lnTo>
                            <a:lnTo>
                              <a:pt x="132" y="75"/>
                            </a:lnTo>
                            <a:lnTo>
                              <a:pt x="173" y="79"/>
                            </a:lnTo>
                            <a:lnTo>
                              <a:pt x="193" y="87"/>
                            </a:lnTo>
                            <a:lnTo>
                              <a:pt x="217" y="89"/>
                            </a:lnTo>
                            <a:lnTo>
                              <a:pt x="239" y="89"/>
                            </a:lnTo>
                            <a:lnTo>
                              <a:pt x="263" y="87"/>
                            </a:lnTo>
                            <a:lnTo>
                              <a:pt x="279" y="79"/>
                            </a:lnTo>
                            <a:lnTo>
                              <a:pt x="295" y="71"/>
                            </a:lnTo>
                            <a:lnTo>
                              <a:pt x="305" y="65"/>
                            </a:lnTo>
                            <a:lnTo>
                              <a:pt x="281" y="65"/>
                            </a:lnTo>
                            <a:lnTo>
                              <a:pt x="253" y="62"/>
                            </a:lnTo>
                            <a:lnTo>
                              <a:pt x="215" y="60"/>
                            </a:lnTo>
                            <a:lnTo>
                              <a:pt x="267" y="54"/>
                            </a:lnTo>
                            <a:lnTo>
                              <a:pt x="295" y="48"/>
                            </a:lnTo>
                            <a:lnTo>
                              <a:pt x="315" y="44"/>
                            </a:lnTo>
                            <a:lnTo>
                              <a:pt x="329" y="34"/>
                            </a:lnTo>
                            <a:lnTo>
                              <a:pt x="305" y="36"/>
                            </a:lnTo>
                            <a:lnTo>
                              <a:pt x="317" y="20"/>
                            </a:lnTo>
                            <a:lnTo>
                              <a:pt x="329" y="16"/>
                            </a:lnTo>
                            <a:lnTo>
                              <a:pt x="299" y="16"/>
                            </a:lnTo>
                            <a:lnTo>
                              <a:pt x="275" y="18"/>
                            </a:lnTo>
                            <a:lnTo>
                              <a:pt x="257" y="16"/>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Freeform 58"/>
                    <p:cNvSpPr/>
                    <p:nvPr/>
                  </p:nvSpPr>
                  <p:spPr>
                    <a:xfrm>
                      <a:off x="4511520" y="3987360"/>
                      <a:ext cx="92160" cy="107280"/>
                    </a:xfrm>
                    <a:custGeom>
                      <a:avLst/>
                      <a:gdLst>
                        <a:gd name="textAreaLeft" fmla="*/ 0 w 92160"/>
                        <a:gd name="textAreaRight" fmla="*/ 92520 w 92160"/>
                        <a:gd name="textAreaTop" fmla="*/ 0 h 107280"/>
                        <a:gd name="textAreaBottom" fmla="*/ 107640 h 107280"/>
                      </a:gdLst>
                      <a:ahLst/>
                      <a:rect l="textAreaLeft" t="textAreaTop" r="textAreaRight" b="textAreaBottom"/>
                      <a:pathLst>
                        <a:path w="116" h="135">
                          <a:moveTo>
                            <a:pt x="0" y="0"/>
                          </a:moveTo>
                          <a:lnTo>
                            <a:pt x="24" y="28"/>
                          </a:lnTo>
                          <a:lnTo>
                            <a:pt x="38" y="38"/>
                          </a:lnTo>
                          <a:lnTo>
                            <a:pt x="54" y="52"/>
                          </a:lnTo>
                          <a:lnTo>
                            <a:pt x="72" y="60"/>
                          </a:lnTo>
                          <a:lnTo>
                            <a:pt x="94" y="69"/>
                          </a:lnTo>
                          <a:lnTo>
                            <a:pt x="66" y="64"/>
                          </a:lnTo>
                          <a:lnTo>
                            <a:pt x="46" y="58"/>
                          </a:lnTo>
                          <a:lnTo>
                            <a:pt x="38" y="62"/>
                          </a:lnTo>
                          <a:lnTo>
                            <a:pt x="52" y="79"/>
                          </a:lnTo>
                          <a:lnTo>
                            <a:pt x="62" y="99"/>
                          </a:lnTo>
                          <a:lnTo>
                            <a:pt x="86" y="113"/>
                          </a:lnTo>
                          <a:lnTo>
                            <a:pt x="116" y="135"/>
                          </a:lnTo>
                          <a:lnTo>
                            <a:pt x="76" y="115"/>
                          </a:lnTo>
                          <a:lnTo>
                            <a:pt x="54" y="103"/>
                          </a:lnTo>
                          <a:lnTo>
                            <a:pt x="32" y="95"/>
                          </a:lnTo>
                          <a:lnTo>
                            <a:pt x="18" y="77"/>
                          </a:lnTo>
                          <a:lnTo>
                            <a:pt x="18" y="54"/>
                          </a:lnTo>
                          <a:lnTo>
                            <a:pt x="6" y="32"/>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434" name="Freeform 59"/>
            <p:cNvSpPr/>
            <p:nvPr/>
          </p:nvSpPr>
          <p:spPr>
            <a:xfrm>
              <a:off x="1600200" y="5581440"/>
              <a:ext cx="5806800" cy="1029960"/>
            </a:xfrm>
            <a:custGeom>
              <a:avLst/>
              <a:gdLst>
                <a:gd name="textAreaLeft" fmla="*/ 0 w 5806800"/>
                <a:gd name="textAreaRight" fmla="*/ 5807160 w 5806800"/>
                <a:gd name="textAreaTop" fmla="*/ 0 h 1029960"/>
                <a:gd name="textAreaBottom" fmla="*/ 1029960 h 1029960"/>
              </a:gdLst>
              <a:ahLst/>
              <a:rect l="textAreaLeft" t="textAreaTop" r="textAreaRight" b="textAreaBottom"/>
              <a:pathLst>
                <a:path w="7316" h="1299">
                  <a:moveTo>
                    <a:pt x="926" y="0"/>
                  </a:moveTo>
                  <a:lnTo>
                    <a:pt x="0" y="1299"/>
                  </a:lnTo>
                  <a:lnTo>
                    <a:pt x="7316" y="1299"/>
                  </a:lnTo>
                  <a:lnTo>
                    <a:pt x="6655" y="0"/>
                  </a:lnTo>
                  <a:lnTo>
                    <a:pt x="926"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60"/>
            <p:cNvGrpSpPr/>
            <p:nvPr/>
          </p:nvGrpSpPr>
          <p:grpSpPr>
            <a:xfrm>
              <a:off x="3636720" y="5332320"/>
              <a:ext cx="279720" cy="286920"/>
              <a:chOff x="3636720" y="5332320"/>
              <a:chExt cx="279720" cy="286920"/>
            </a:xfrm>
          </p:grpSpPr>
          <p:sp>
            <p:nvSpPr>
              <p:cNvPr id="436" name="Freeform 61"/>
              <p:cNvSpPr/>
              <p:nvPr/>
            </p:nvSpPr>
            <p:spPr>
              <a:xfrm>
                <a:off x="3636720" y="5332320"/>
                <a:ext cx="277920" cy="286920"/>
              </a:xfrm>
              <a:custGeom>
                <a:avLst/>
                <a:gdLst>
                  <a:gd name="textAreaLeft" fmla="*/ 0 w 277920"/>
                  <a:gd name="textAreaRight" fmla="*/ 278280 w 277920"/>
                  <a:gd name="textAreaTop" fmla="*/ 0 h 286920"/>
                  <a:gd name="textAreaBottom" fmla="*/ 286920 h 286920"/>
                </a:gdLst>
                <a:ahLst/>
                <a:rect l="textAreaLeft" t="textAreaTop" r="textAreaRight" b="textAreaBottom"/>
                <a:pathLst>
                  <a:path w="351" h="363">
                    <a:moveTo>
                      <a:pt x="58" y="56"/>
                    </a:moveTo>
                    <a:lnTo>
                      <a:pt x="110" y="8"/>
                    </a:lnTo>
                    <a:lnTo>
                      <a:pt x="140" y="0"/>
                    </a:lnTo>
                    <a:lnTo>
                      <a:pt x="202" y="8"/>
                    </a:lnTo>
                    <a:lnTo>
                      <a:pt x="266" y="18"/>
                    </a:lnTo>
                    <a:lnTo>
                      <a:pt x="308" y="28"/>
                    </a:lnTo>
                    <a:lnTo>
                      <a:pt x="321" y="38"/>
                    </a:lnTo>
                    <a:lnTo>
                      <a:pt x="329" y="60"/>
                    </a:lnTo>
                    <a:lnTo>
                      <a:pt x="331" y="74"/>
                    </a:lnTo>
                    <a:lnTo>
                      <a:pt x="321" y="88"/>
                    </a:lnTo>
                    <a:lnTo>
                      <a:pt x="333" y="102"/>
                    </a:lnTo>
                    <a:lnTo>
                      <a:pt x="339" y="122"/>
                    </a:lnTo>
                    <a:lnTo>
                      <a:pt x="335" y="134"/>
                    </a:lnTo>
                    <a:lnTo>
                      <a:pt x="345" y="148"/>
                    </a:lnTo>
                    <a:lnTo>
                      <a:pt x="349" y="164"/>
                    </a:lnTo>
                    <a:lnTo>
                      <a:pt x="347" y="182"/>
                    </a:lnTo>
                    <a:lnTo>
                      <a:pt x="335" y="201"/>
                    </a:lnTo>
                    <a:lnTo>
                      <a:pt x="345" y="221"/>
                    </a:lnTo>
                    <a:lnTo>
                      <a:pt x="351" y="245"/>
                    </a:lnTo>
                    <a:lnTo>
                      <a:pt x="343" y="269"/>
                    </a:lnTo>
                    <a:lnTo>
                      <a:pt x="329" y="281"/>
                    </a:lnTo>
                    <a:lnTo>
                      <a:pt x="329" y="321"/>
                    </a:lnTo>
                    <a:lnTo>
                      <a:pt x="315" y="343"/>
                    </a:lnTo>
                    <a:lnTo>
                      <a:pt x="286" y="353"/>
                    </a:lnTo>
                    <a:lnTo>
                      <a:pt x="156" y="363"/>
                    </a:lnTo>
                    <a:lnTo>
                      <a:pt x="92" y="339"/>
                    </a:lnTo>
                    <a:lnTo>
                      <a:pt x="14" y="251"/>
                    </a:lnTo>
                    <a:lnTo>
                      <a:pt x="2" y="213"/>
                    </a:lnTo>
                    <a:lnTo>
                      <a:pt x="0" y="184"/>
                    </a:lnTo>
                    <a:lnTo>
                      <a:pt x="4" y="156"/>
                    </a:lnTo>
                    <a:lnTo>
                      <a:pt x="16" y="112"/>
                    </a:lnTo>
                    <a:lnTo>
                      <a:pt x="30" y="90"/>
                    </a:lnTo>
                    <a:lnTo>
                      <a:pt x="58" y="5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62"/>
              <p:cNvGrpSpPr/>
              <p:nvPr/>
            </p:nvGrpSpPr>
            <p:grpSpPr>
              <a:xfrm>
                <a:off x="3705120" y="5368320"/>
                <a:ext cx="211320" cy="250200"/>
                <a:chOff x="3705120" y="5368320"/>
                <a:chExt cx="211320" cy="250200"/>
              </a:xfrm>
            </p:grpSpPr>
            <p:sp>
              <p:nvSpPr>
                <p:cNvPr id="438" name="Freeform 63"/>
                <p:cNvSpPr/>
                <p:nvPr/>
              </p:nvSpPr>
              <p:spPr>
                <a:xfrm>
                  <a:off x="3705120" y="5426640"/>
                  <a:ext cx="211320" cy="191880"/>
                </a:xfrm>
                <a:custGeom>
                  <a:avLst/>
                  <a:gdLst>
                    <a:gd name="textAreaLeft" fmla="*/ 0 w 211320"/>
                    <a:gd name="textAreaRight" fmla="*/ 211680 w 211320"/>
                    <a:gd name="textAreaTop" fmla="*/ 0 h 191880"/>
                    <a:gd name="textAreaBottom" fmla="*/ 192240 h 191880"/>
                  </a:gdLst>
                  <a:ahLst/>
                  <a:rect l="textAreaLeft" t="textAreaTop" r="textAreaRight" b="textAreaBottom"/>
                  <a:pathLst>
                    <a:path w="265" h="243">
                      <a:moveTo>
                        <a:pt x="78" y="34"/>
                      </a:moveTo>
                      <a:lnTo>
                        <a:pt x="110" y="36"/>
                      </a:lnTo>
                      <a:lnTo>
                        <a:pt x="130" y="36"/>
                      </a:lnTo>
                      <a:lnTo>
                        <a:pt x="128" y="0"/>
                      </a:lnTo>
                      <a:lnTo>
                        <a:pt x="142" y="20"/>
                      </a:lnTo>
                      <a:lnTo>
                        <a:pt x="152" y="30"/>
                      </a:lnTo>
                      <a:lnTo>
                        <a:pt x="166" y="34"/>
                      </a:lnTo>
                      <a:lnTo>
                        <a:pt x="194" y="30"/>
                      </a:lnTo>
                      <a:lnTo>
                        <a:pt x="214" y="22"/>
                      </a:lnTo>
                      <a:lnTo>
                        <a:pt x="231" y="14"/>
                      </a:lnTo>
                      <a:lnTo>
                        <a:pt x="247" y="10"/>
                      </a:lnTo>
                      <a:lnTo>
                        <a:pt x="253" y="2"/>
                      </a:lnTo>
                      <a:lnTo>
                        <a:pt x="249" y="14"/>
                      </a:lnTo>
                      <a:lnTo>
                        <a:pt x="259" y="28"/>
                      </a:lnTo>
                      <a:lnTo>
                        <a:pt x="263" y="44"/>
                      </a:lnTo>
                      <a:lnTo>
                        <a:pt x="261" y="62"/>
                      </a:lnTo>
                      <a:lnTo>
                        <a:pt x="249" y="81"/>
                      </a:lnTo>
                      <a:lnTo>
                        <a:pt x="259" y="101"/>
                      </a:lnTo>
                      <a:lnTo>
                        <a:pt x="265" y="125"/>
                      </a:lnTo>
                      <a:lnTo>
                        <a:pt x="257" y="149"/>
                      </a:lnTo>
                      <a:lnTo>
                        <a:pt x="243" y="161"/>
                      </a:lnTo>
                      <a:lnTo>
                        <a:pt x="243" y="201"/>
                      </a:lnTo>
                      <a:lnTo>
                        <a:pt x="229" y="223"/>
                      </a:lnTo>
                      <a:lnTo>
                        <a:pt x="200" y="233"/>
                      </a:lnTo>
                      <a:lnTo>
                        <a:pt x="70" y="243"/>
                      </a:lnTo>
                      <a:lnTo>
                        <a:pt x="6" y="219"/>
                      </a:lnTo>
                      <a:lnTo>
                        <a:pt x="44" y="231"/>
                      </a:lnTo>
                      <a:lnTo>
                        <a:pt x="78" y="237"/>
                      </a:lnTo>
                      <a:lnTo>
                        <a:pt x="104" y="235"/>
                      </a:lnTo>
                      <a:lnTo>
                        <a:pt x="124" y="229"/>
                      </a:lnTo>
                      <a:lnTo>
                        <a:pt x="132" y="209"/>
                      </a:lnTo>
                      <a:lnTo>
                        <a:pt x="132" y="235"/>
                      </a:lnTo>
                      <a:lnTo>
                        <a:pt x="162" y="231"/>
                      </a:lnTo>
                      <a:lnTo>
                        <a:pt x="202" y="229"/>
                      </a:lnTo>
                      <a:lnTo>
                        <a:pt x="221" y="219"/>
                      </a:lnTo>
                      <a:lnTo>
                        <a:pt x="229" y="203"/>
                      </a:lnTo>
                      <a:lnTo>
                        <a:pt x="237" y="183"/>
                      </a:lnTo>
                      <a:lnTo>
                        <a:pt x="239" y="169"/>
                      </a:lnTo>
                      <a:lnTo>
                        <a:pt x="218" y="173"/>
                      </a:lnTo>
                      <a:lnTo>
                        <a:pt x="194" y="179"/>
                      </a:lnTo>
                      <a:lnTo>
                        <a:pt x="166" y="181"/>
                      </a:lnTo>
                      <a:lnTo>
                        <a:pt x="136" y="183"/>
                      </a:lnTo>
                      <a:lnTo>
                        <a:pt x="114" y="181"/>
                      </a:lnTo>
                      <a:lnTo>
                        <a:pt x="90" y="179"/>
                      </a:lnTo>
                      <a:lnTo>
                        <a:pt x="64" y="171"/>
                      </a:lnTo>
                      <a:lnTo>
                        <a:pt x="34" y="161"/>
                      </a:lnTo>
                      <a:lnTo>
                        <a:pt x="16" y="145"/>
                      </a:lnTo>
                      <a:lnTo>
                        <a:pt x="42" y="159"/>
                      </a:lnTo>
                      <a:lnTo>
                        <a:pt x="60" y="161"/>
                      </a:lnTo>
                      <a:lnTo>
                        <a:pt x="84" y="165"/>
                      </a:lnTo>
                      <a:lnTo>
                        <a:pt x="108" y="169"/>
                      </a:lnTo>
                      <a:lnTo>
                        <a:pt x="136" y="171"/>
                      </a:lnTo>
                      <a:lnTo>
                        <a:pt x="156" y="163"/>
                      </a:lnTo>
                      <a:lnTo>
                        <a:pt x="174" y="153"/>
                      </a:lnTo>
                      <a:lnTo>
                        <a:pt x="178" y="169"/>
                      </a:lnTo>
                      <a:lnTo>
                        <a:pt x="190" y="167"/>
                      </a:lnTo>
                      <a:lnTo>
                        <a:pt x="212" y="165"/>
                      </a:lnTo>
                      <a:lnTo>
                        <a:pt x="229" y="163"/>
                      </a:lnTo>
                      <a:lnTo>
                        <a:pt x="237" y="157"/>
                      </a:lnTo>
                      <a:lnTo>
                        <a:pt x="243" y="147"/>
                      </a:lnTo>
                      <a:lnTo>
                        <a:pt x="249" y="137"/>
                      </a:lnTo>
                      <a:lnTo>
                        <a:pt x="253" y="125"/>
                      </a:lnTo>
                      <a:lnTo>
                        <a:pt x="251" y="113"/>
                      </a:lnTo>
                      <a:lnTo>
                        <a:pt x="247" y="103"/>
                      </a:lnTo>
                      <a:lnTo>
                        <a:pt x="235" y="103"/>
                      </a:lnTo>
                      <a:lnTo>
                        <a:pt x="210" y="109"/>
                      </a:lnTo>
                      <a:lnTo>
                        <a:pt x="186" y="117"/>
                      </a:lnTo>
                      <a:lnTo>
                        <a:pt x="160" y="121"/>
                      </a:lnTo>
                      <a:lnTo>
                        <a:pt x="132" y="123"/>
                      </a:lnTo>
                      <a:lnTo>
                        <a:pt x="106" y="125"/>
                      </a:lnTo>
                      <a:lnTo>
                        <a:pt x="74" y="125"/>
                      </a:lnTo>
                      <a:lnTo>
                        <a:pt x="46" y="117"/>
                      </a:lnTo>
                      <a:lnTo>
                        <a:pt x="24" y="109"/>
                      </a:lnTo>
                      <a:lnTo>
                        <a:pt x="0" y="91"/>
                      </a:lnTo>
                      <a:lnTo>
                        <a:pt x="40" y="105"/>
                      </a:lnTo>
                      <a:lnTo>
                        <a:pt x="60" y="111"/>
                      </a:lnTo>
                      <a:lnTo>
                        <a:pt x="84" y="117"/>
                      </a:lnTo>
                      <a:lnTo>
                        <a:pt x="108" y="115"/>
                      </a:lnTo>
                      <a:lnTo>
                        <a:pt x="126" y="113"/>
                      </a:lnTo>
                      <a:lnTo>
                        <a:pt x="144" y="107"/>
                      </a:lnTo>
                      <a:lnTo>
                        <a:pt x="158" y="93"/>
                      </a:lnTo>
                      <a:lnTo>
                        <a:pt x="174" y="83"/>
                      </a:lnTo>
                      <a:lnTo>
                        <a:pt x="164" y="99"/>
                      </a:lnTo>
                      <a:lnTo>
                        <a:pt x="172" y="107"/>
                      </a:lnTo>
                      <a:lnTo>
                        <a:pt x="180" y="105"/>
                      </a:lnTo>
                      <a:lnTo>
                        <a:pt x="202" y="101"/>
                      </a:lnTo>
                      <a:lnTo>
                        <a:pt x="221" y="95"/>
                      </a:lnTo>
                      <a:lnTo>
                        <a:pt x="239" y="81"/>
                      </a:lnTo>
                      <a:lnTo>
                        <a:pt x="253" y="68"/>
                      </a:lnTo>
                      <a:lnTo>
                        <a:pt x="255" y="54"/>
                      </a:lnTo>
                      <a:lnTo>
                        <a:pt x="253" y="38"/>
                      </a:lnTo>
                      <a:lnTo>
                        <a:pt x="251" y="18"/>
                      </a:lnTo>
                      <a:lnTo>
                        <a:pt x="233" y="24"/>
                      </a:lnTo>
                      <a:lnTo>
                        <a:pt x="210" y="36"/>
                      </a:lnTo>
                      <a:lnTo>
                        <a:pt x="176" y="46"/>
                      </a:lnTo>
                      <a:lnTo>
                        <a:pt x="138" y="48"/>
                      </a:lnTo>
                      <a:lnTo>
                        <a:pt x="100" y="46"/>
                      </a:lnTo>
                      <a:lnTo>
                        <a:pt x="66" y="40"/>
                      </a:lnTo>
                      <a:lnTo>
                        <a:pt x="34" y="28"/>
                      </a:lnTo>
                      <a:lnTo>
                        <a:pt x="78" y="34"/>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64"/>
                <p:cNvSpPr/>
                <p:nvPr/>
              </p:nvSpPr>
              <p:spPr>
                <a:xfrm>
                  <a:off x="3713040" y="5368320"/>
                  <a:ext cx="141480" cy="23400"/>
                </a:xfrm>
                <a:custGeom>
                  <a:avLst/>
                  <a:gdLst>
                    <a:gd name="textAreaLeft" fmla="*/ 0 w 141480"/>
                    <a:gd name="textAreaRight" fmla="*/ 141840 w 141480"/>
                    <a:gd name="textAreaTop" fmla="*/ 0 h 23400"/>
                    <a:gd name="textAreaBottom" fmla="*/ 23760 h 23400"/>
                  </a:gdLst>
                  <a:ahLst/>
                  <a:rect l="textAreaLeft" t="textAreaTop" r="textAreaRight" b="textAreaBottom"/>
                  <a:pathLst>
                    <a:path w="178" h="30">
                      <a:moveTo>
                        <a:pt x="178" y="0"/>
                      </a:moveTo>
                      <a:lnTo>
                        <a:pt x="160" y="12"/>
                      </a:lnTo>
                      <a:lnTo>
                        <a:pt x="146" y="28"/>
                      </a:lnTo>
                      <a:lnTo>
                        <a:pt x="128" y="24"/>
                      </a:lnTo>
                      <a:lnTo>
                        <a:pt x="110" y="14"/>
                      </a:lnTo>
                      <a:lnTo>
                        <a:pt x="92" y="14"/>
                      </a:lnTo>
                      <a:lnTo>
                        <a:pt x="62" y="22"/>
                      </a:lnTo>
                      <a:lnTo>
                        <a:pt x="40" y="30"/>
                      </a:lnTo>
                      <a:lnTo>
                        <a:pt x="56" y="18"/>
                      </a:lnTo>
                      <a:lnTo>
                        <a:pt x="26" y="14"/>
                      </a:lnTo>
                      <a:lnTo>
                        <a:pt x="0" y="10"/>
                      </a:lnTo>
                      <a:lnTo>
                        <a:pt x="34" y="8"/>
                      </a:lnTo>
                      <a:lnTo>
                        <a:pt x="62" y="12"/>
                      </a:lnTo>
                      <a:lnTo>
                        <a:pt x="84" y="12"/>
                      </a:lnTo>
                      <a:lnTo>
                        <a:pt x="100" y="8"/>
                      </a:lnTo>
                      <a:lnTo>
                        <a:pt x="116" y="8"/>
                      </a:lnTo>
                      <a:lnTo>
                        <a:pt x="128" y="14"/>
                      </a:lnTo>
                      <a:lnTo>
                        <a:pt x="146" y="20"/>
                      </a:lnTo>
                      <a:lnTo>
                        <a:pt x="178" y="0"/>
                      </a:lnTo>
                      <a:close/>
                    </a:path>
                  </a:pathLst>
                </a:custGeom>
                <a:solidFill>
                  <a:srgbClr val="df9f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440" name="Group 65"/>
            <p:cNvGrpSpPr/>
            <p:nvPr/>
          </p:nvGrpSpPr>
          <p:grpSpPr>
            <a:xfrm>
              <a:off x="3836880" y="5597280"/>
              <a:ext cx="1855800" cy="618480"/>
              <a:chOff x="3836880" y="5597280"/>
              <a:chExt cx="1855800" cy="618480"/>
            </a:xfrm>
          </p:grpSpPr>
          <p:sp>
            <p:nvSpPr>
              <p:cNvPr id="441" name="Freeform 66"/>
              <p:cNvSpPr/>
              <p:nvPr/>
            </p:nvSpPr>
            <p:spPr>
              <a:xfrm>
                <a:off x="3836880" y="5620680"/>
                <a:ext cx="690480" cy="595080"/>
              </a:xfrm>
              <a:custGeom>
                <a:avLst/>
                <a:gdLst>
                  <a:gd name="textAreaLeft" fmla="*/ 0 w 690480"/>
                  <a:gd name="textAreaRight" fmla="*/ 690840 w 690480"/>
                  <a:gd name="textAreaTop" fmla="*/ 0 h 595080"/>
                  <a:gd name="textAreaBottom" fmla="*/ 595080 h 595080"/>
                </a:gdLst>
                <a:ahLst/>
                <a:rect l="textAreaLeft" t="textAreaTop" r="textAreaRight" b="textAreaBottom"/>
                <a:pathLst>
                  <a:path w="870" h="749">
                    <a:moveTo>
                      <a:pt x="185" y="0"/>
                    </a:moveTo>
                    <a:lnTo>
                      <a:pt x="0" y="671"/>
                    </a:lnTo>
                    <a:lnTo>
                      <a:pt x="700" y="749"/>
                    </a:lnTo>
                    <a:lnTo>
                      <a:pt x="870" y="54"/>
                    </a:lnTo>
                    <a:lnTo>
                      <a:pt x="18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67"/>
              <p:cNvSpPr/>
              <p:nvPr/>
            </p:nvSpPr>
            <p:spPr>
              <a:xfrm>
                <a:off x="4136760" y="5597280"/>
                <a:ext cx="824040" cy="456840"/>
              </a:xfrm>
              <a:custGeom>
                <a:avLst/>
                <a:gdLst>
                  <a:gd name="textAreaLeft" fmla="*/ 0 w 824040"/>
                  <a:gd name="textAreaRight" fmla="*/ 824400 w 824040"/>
                  <a:gd name="textAreaTop" fmla="*/ 0 h 456840"/>
                  <a:gd name="textAreaBottom" fmla="*/ 457200 h 456840"/>
                </a:gdLst>
                <a:ahLst/>
                <a:rect l="textAreaLeft" t="textAreaTop" r="textAreaRight" b="textAreaBottom"/>
                <a:pathLst>
                  <a:path w="1038" h="576">
                    <a:moveTo>
                      <a:pt x="0" y="125"/>
                    </a:moveTo>
                    <a:lnTo>
                      <a:pt x="323" y="576"/>
                    </a:lnTo>
                    <a:lnTo>
                      <a:pt x="1038" y="359"/>
                    </a:lnTo>
                    <a:lnTo>
                      <a:pt x="685" y="0"/>
                    </a:lnTo>
                    <a:lnTo>
                      <a:pt x="0" y="125"/>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68"/>
              <p:cNvSpPr/>
              <p:nvPr/>
            </p:nvSpPr>
            <p:spPr>
              <a:xfrm>
                <a:off x="4708440" y="5616000"/>
                <a:ext cx="984240" cy="390240"/>
              </a:xfrm>
              <a:custGeom>
                <a:avLst/>
                <a:gdLst>
                  <a:gd name="textAreaLeft" fmla="*/ 0 w 984240"/>
                  <a:gd name="textAreaRight" fmla="*/ 984600 w 984240"/>
                  <a:gd name="textAreaTop" fmla="*/ 0 h 390240"/>
                  <a:gd name="textAreaBottom" fmla="*/ 390600 h 390240"/>
                </a:gdLst>
                <a:ahLst/>
                <a:rect l="textAreaLeft" t="textAreaTop" r="textAreaRight" b="textAreaBottom"/>
                <a:pathLst>
                  <a:path w="1239" h="492">
                    <a:moveTo>
                      <a:pt x="0" y="54"/>
                    </a:moveTo>
                    <a:lnTo>
                      <a:pt x="862" y="0"/>
                    </a:lnTo>
                    <a:lnTo>
                      <a:pt x="1239" y="348"/>
                    </a:lnTo>
                    <a:lnTo>
                      <a:pt x="245" y="492"/>
                    </a:lnTo>
                    <a:lnTo>
                      <a:pt x="0" y="54"/>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Group 69"/>
            <p:cNvGrpSpPr/>
            <p:nvPr/>
          </p:nvGrpSpPr>
          <p:grpSpPr>
            <a:xfrm>
              <a:off x="4927680" y="3733920"/>
              <a:ext cx="1923840" cy="1950480"/>
              <a:chOff x="4927680" y="3733920"/>
              <a:chExt cx="1923840" cy="1950480"/>
            </a:xfrm>
          </p:grpSpPr>
          <p:grpSp>
            <p:nvGrpSpPr>
              <p:cNvPr id="445" name="Group 70"/>
              <p:cNvGrpSpPr/>
              <p:nvPr/>
            </p:nvGrpSpPr>
            <p:grpSpPr>
              <a:xfrm>
                <a:off x="5176800" y="3733920"/>
                <a:ext cx="1674720" cy="1896480"/>
                <a:chOff x="5176800" y="3733920"/>
                <a:chExt cx="1674720" cy="1896480"/>
              </a:xfrm>
            </p:grpSpPr>
            <p:sp>
              <p:nvSpPr>
                <p:cNvPr id="446" name="Freeform 71"/>
                <p:cNvSpPr/>
                <p:nvPr/>
              </p:nvSpPr>
              <p:spPr>
                <a:xfrm>
                  <a:off x="5176800" y="4443120"/>
                  <a:ext cx="1674720" cy="1187280"/>
                </a:xfrm>
                <a:custGeom>
                  <a:avLst/>
                  <a:gdLst>
                    <a:gd name="textAreaLeft" fmla="*/ 0 w 1674720"/>
                    <a:gd name="textAreaRight" fmla="*/ 1675080 w 1674720"/>
                    <a:gd name="textAreaTop" fmla="*/ 0 h 1187280"/>
                    <a:gd name="textAreaBottom" fmla="*/ 1187640 h 1187280"/>
                  </a:gdLst>
                  <a:ahLst/>
                  <a:rect l="textAreaLeft" t="textAreaTop" r="textAreaRight" b="textAreaBottom"/>
                  <a:pathLst>
                    <a:path w="2110" h="1496">
                      <a:moveTo>
                        <a:pt x="1254" y="13"/>
                      </a:moveTo>
                      <a:lnTo>
                        <a:pt x="1362" y="0"/>
                      </a:lnTo>
                      <a:lnTo>
                        <a:pt x="1470" y="13"/>
                      </a:lnTo>
                      <a:lnTo>
                        <a:pt x="1523" y="37"/>
                      </a:lnTo>
                      <a:lnTo>
                        <a:pt x="1649" y="133"/>
                      </a:lnTo>
                      <a:lnTo>
                        <a:pt x="1727" y="211"/>
                      </a:lnTo>
                      <a:lnTo>
                        <a:pt x="1811" y="324"/>
                      </a:lnTo>
                      <a:lnTo>
                        <a:pt x="1883" y="438"/>
                      </a:lnTo>
                      <a:lnTo>
                        <a:pt x="1937" y="528"/>
                      </a:lnTo>
                      <a:lnTo>
                        <a:pt x="1961" y="575"/>
                      </a:lnTo>
                      <a:lnTo>
                        <a:pt x="1997" y="719"/>
                      </a:lnTo>
                      <a:lnTo>
                        <a:pt x="2044" y="940"/>
                      </a:lnTo>
                      <a:lnTo>
                        <a:pt x="2074" y="1095"/>
                      </a:lnTo>
                      <a:lnTo>
                        <a:pt x="2092" y="1299"/>
                      </a:lnTo>
                      <a:lnTo>
                        <a:pt x="2110" y="1466"/>
                      </a:lnTo>
                      <a:lnTo>
                        <a:pt x="1661" y="1472"/>
                      </a:lnTo>
                      <a:lnTo>
                        <a:pt x="1386" y="1490"/>
                      </a:lnTo>
                      <a:lnTo>
                        <a:pt x="1170" y="1496"/>
                      </a:lnTo>
                      <a:lnTo>
                        <a:pt x="563" y="1466"/>
                      </a:lnTo>
                      <a:lnTo>
                        <a:pt x="324" y="1454"/>
                      </a:lnTo>
                      <a:lnTo>
                        <a:pt x="126" y="1442"/>
                      </a:lnTo>
                      <a:lnTo>
                        <a:pt x="132" y="1376"/>
                      </a:lnTo>
                      <a:lnTo>
                        <a:pt x="108" y="1305"/>
                      </a:lnTo>
                      <a:lnTo>
                        <a:pt x="48" y="1257"/>
                      </a:lnTo>
                      <a:lnTo>
                        <a:pt x="0" y="1227"/>
                      </a:lnTo>
                      <a:lnTo>
                        <a:pt x="252" y="1137"/>
                      </a:lnTo>
                      <a:lnTo>
                        <a:pt x="461" y="1053"/>
                      </a:lnTo>
                      <a:lnTo>
                        <a:pt x="551" y="1012"/>
                      </a:lnTo>
                      <a:lnTo>
                        <a:pt x="629" y="976"/>
                      </a:lnTo>
                      <a:lnTo>
                        <a:pt x="683" y="898"/>
                      </a:lnTo>
                      <a:lnTo>
                        <a:pt x="695" y="868"/>
                      </a:lnTo>
                      <a:lnTo>
                        <a:pt x="701" y="802"/>
                      </a:lnTo>
                      <a:lnTo>
                        <a:pt x="707" y="761"/>
                      </a:lnTo>
                      <a:lnTo>
                        <a:pt x="731" y="683"/>
                      </a:lnTo>
                      <a:lnTo>
                        <a:pt x="743" y="647"/>
                      </a:lnTo>
                      <a:lnTo>
                        <a:pt x="749" y="587"/>
                      </a:lnTo>
                      <a:lnTo>
                        <a:pt x="761" y="498"/>
                      </a:lnTo>
                      <a:lnTo>
                        <a:pt x="791" y="444"/>
                      </a:lnTo>
                      <a:lnTo>
                        <a:pt x="791" y="384"/>
                      </a:lnTo>
                      <a:lnTo>
                        <a:pt x="941" y="211"/>
                      </a:lnTo>
                      <a:lnTo>
                        <a:pt x="971" y="241"/>
                      </a:lnTo>
                      <a:lnTo>
                        <a:pt x="1254" y="1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72"/>
                <p:cNvSpPr/>
                <p:nvPr/>
              </p:nvSpPr>
              <p:spPr>
                <a:xfrm>
                  <a:off x="6284880" y="4725720"/>
                  <a:ext cx="328680" cy="899640"/>
                </a:xfrm>
                <a:custGeom>
                  <a:avLst/>
                  <a:gdLst>
                    <a:gd name="textAreaLeft" fmla="*/ 0 w 328680"/>
                    <a:gd name="textAreaRight" fmla="*/ 329040 w 328680"/>
                    <a:gd name="textAreaTop" fmla="*/ 0 h 899640"/>
                    <a:gd name="textAreaBottom" fmla="*/ 900000 h 899640"/>
                  </a:gdLst>
                  <a:ahLst/>
                  <a:rect l="textAreaLeft" t="textAreaTop" r="textAreaRight" b="textAreaBottom"/>
                  <a:pathLst>
                    <a:path w="413" h="1136">
                      <a:moveTo>
                        <a:pt x="323" y="0"/>
                      </a:moveTo>
                      <a:lnTo>
                        <a:pt x="365" y="42"/>
                      </a:lnTo>
                      <a:lnTo>
                        <a:pt x="377" y="138"/>
                      </a:lnTo>
                      <a:lnTo>
                        <a:pt x="377" y="239"/>
                      </a:lnTo>
                      <a:lnTo>
                        <a:pt x="377" y="305"/>
                      </a:lnTo>
                      <a:lnTo>
                        <a:pt x="413" y="341"/>
                      </a:lnTo>
                      <a:lnTo>
                        <a:pt x="383" y="359"/>
                      </a:lnTo>
                      <a:lnTo>
                        <a:pt x="377" y="425"/>
                      </a:lnTo>
                      <a:lnTo>
                        <a:pt x="359" y="460"/>
                      </a:lnTo>
                      <a:lnTo>
                        <a:pt x="347" y="514"/>
                      </a:lnTo>
                      <a:lnTo>
                        <a:pt x="329" y="538"/>
                      </a:lnTo>
                      <a:lnTo>
                        <a:pt x="329" y="598"/>
                      </a:lnTo>
                      <a:lnTo>
                        <a:pt x="305" y="658"/>
                      </a:lnTo>
                      <a:lnTo>
                        <a:pt x="299" y="759"/>
                      </a:lnTo>
                      <a:lnTo>
                        <a:pt x="281" y="861"/>
                      </a:lnTo>
                      <a:lnTo>
                        <a:pt x="269" y="885"/>
                      </a:lnTo>
                      <a:lnTo>
                        <a:pt x="269" y="921"/>
                      </a:lnTo>
                      <a:lnTo>
                        <a:pt x="239" y="927"/>
                      </a:lnTo>
                      <a:lnTo>
                        <a:pt x="239" y="951"/>
                      </a:lnTo>
                      <a:lnTo>
                        <a:pt x="227" y="986"/>
                      </a:lnTo>
                      <a:lnTo>
                        <a:pt x="191" y="1028"/>
                      </a:lnTo>
                      <a:lnTo>
                        <a:pt x="155" y="1076"/>
                      </a:lnTo>
                      <a:lnTo>
                        <a:pt x="131" y="1136"/>
                      </a:lnTo>
                      <a:lnTo>
                        <a:pt x="30" y="1136"/>
                      </a:lnTo>
                      <a:lnTo>
                        <a:pt x="191" y="992"/>
                      </a:lnTo>
                      <a:lnTo>
                        <a:pt x="221" y="933"/>
                      </a:lnTo>
                      <a:lnTo>
                        <a:pt x="209" y="873"/>
                      </a:lnTo>
                      <a:lnTo>
                        <a:pt x="245" y="843"/>
                      </a:lnTo>
                      <a:lnTo>
                        <a:pt x="245" y="658"/>
                      </a:lnTo>
                      <a:lnTo>
                        <a:pt x="137" y="640"/>
                      </a:lnTo>
                      <a:lnTo>
                        <a:pt x="72" y="622"/>
                      </a:lnTo>
                      <a:lnTo>
                        <a:pt x="0" y="598"/>
                      </a:lnTo>
                      <a:lnTo>
                        <a:pt x="227" y="592"/>
                      </a:lnTo>
                      <a:lnTo>
                        <a:pt x="263" y="574"/>
                      </a:lnTo>
                      <a:lnTo>
                        <a:pt x="257" y="538"/>
                      </a:lnTo>
                      <a:lnTo>
                        <a:pt x="191" y="526"/>
                      </a:lnTo>
                      <a:lnTo>
                        <a:pt x="119" y="520"/>
                      </a:lnTo>
                      <a:lnTo>
                        <a:pt x="215" y="496"/>
                      </a:lnTo>
                      <a:lnTo>
                        <a:pt x="239" y="478"/>
                      </a:lnTo>
                      <a:lnTo>
                        <a:pt x="155" y="395"/>
                      </a:lnTo>
                      <a:lnTo>
                        <a:pt x="78" y="353"/>
                      </a:lnTo>
                      <a:lnTo>
                        <a:pt x="30" y="299"/>
                      </a:lnTo>
                      <a:lnTo>
                        <a:pt x="12" y="287"/>
                      </a:lnTo>
                      <a:lnTo>
                        <a:pt x="66" y="281"/>
                      </a:lnTo>
                      <a:lnTo>
                        <a:pt x="131" y="311"/>
                      </a:lnTo>
                      <a:lnTo>
                        <a:pt x="215" y="359"/>
                      </a:lnTo>
                      <a:lnTo>
                        <a:pt x="287" y="389"/>
                      </a:lnTo>
                      <a:lnTo>
                        <a:pt x="329" y="377"/>
                      </a:lnTo>
                      <a:lnTo>
                        <a:pt x="353" y="329"/>
                      </a:lnTo>
                      <a:lnTo>
                        <a:pt x="353" y="227"/>
                      </a:lnTo>
                      <a:lnTo>
                        <a:pt x="32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73"/>
                <p:cNvSpPr/>
                <p:nvPr/>
              </p:nvSpPr>
              <p:spPr>
                <a:xfrm>
                  <a:off x="5365800" y="4962240"/>
                  <a:ext cx="653760" cy="622080"/>
                </a:xfrm>
                <a:custGeom>
                  <a:avLst/>
                  <a:gdLst>
                    <a:gd name="textAreaLeft" fmla="*/ 0 w 653760"/>
                    <a:gd name="textAreaRight" fmla="*/ 654120 w 653760"/>
                    <a:gd name="textAreaTop" fmla="*/ 0 h 622080"/>
                    <a:gd name="textAreaBottom" fmla="*/ 622440 h 622080"/>
                  </a:gdLst>
                  <a:ahLst/>
                  <a:rect l="textAreaLeft" t="textAreaTop" r="textAreaRight" b="textAreaBottom"/>
                  <a:pathLst>
                    <a:path w="822" h="783">
                      <a:moveTo>
                        <a:pt x="0" y="783"/>
                      </a:moveTo>
                      <a:lnTo>
                        <a:pt x="515" y="604"/>
                      </a:lnTo>
                      <a:lnTo>
                        <a:pt x="557" y="568"/>
                      </a:lnTo>
                      <a:lnTo>
                        <a:pt x="599" y="508"/>
                      </a:lnTo>
                      <a:lnTo>
                        <a:pt x="605" y="448"/>
                      </a:lnTo>
                      <a:lnTo>
                        <a:pt x="611" y="275"/>
                      </a:lnTo>
                      <a:lnTo>
                        <a:pt x="629" y="395"/>
                      </a:lnTo>
                      <a:lnTo>
                        <a:pt x="665" y="424"/>
                      </a:lnTo>
                      <a:lnTo>
                        <a:pt x="689" y="329"/>
                      </a:lnTo>
                      <a:lnTo>
                        <a:pt x="713" y="239"/>
                      </a:lnTo>
                      <a:lnTo>
                        <a:pt x="798" y="0"/>
                      </a:lnTo>
                      <a:lnTo>
                        <a:pt x="744" y="203"/>
                      </a:lnTo>
                      <a:lnTo>
                        <a:pt x="713" y="329"/>
                      </a:lnTo>
                      <a:lnTo>
                        <a:pt x="695" y="424"/>
                      </a:lnTo>
                      <a:lnTo>
                        <a:pt x="665" y="484"/>
                      </a:lnTo>
                      <a:lnTo>
                        <a:pt x="629" y="532"/>
                      </a:lnTo>
                      <a:lnTo>
                        <a:pt x="671" y="568"/>
                      </a:lnTo>
                      <a:lnTo>
                        <a:pt x="725" y="562"/>
                      </a:lnTo>
                      <a:lnTo>
                        <a:pt x="822" y="478"/>
                      </a:lnTo>
                      <a:lnTo>
                        <a:pt x="695" y="628"/>
                      </a:lnTo>
                      <a:lnTo>
                        <a:pt x="563" y="657"/>
                      </a:lnTo>
                      <a:lnTo>
                        <a:pt x="413" y="687"/>
                      </a:lnTo>
                      <a:lnTo>
                        <a:pt x="269" y="717"/>
                      </a:lnTo>
                      <a:lnTo>
                        <a:pt x="108" y="753"/>
                      </a:lnTo>
                      <a:lnTo>
                        <a:pt x="0" y="78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74"/>
                <p:cNvSpPr/>
                <p:nvPr/>
              </p:nvSpPr>
              <p:spPr>
                <a:xfrm>
                  <a:off x="5946840" y="4535280"/>
                  <a:ext cx="509400" cy="1034640"/>
                </a:xfrm>
                <a:custGeom>
                  <a:avLst/>
                  <a:gdLst>
                    <a:gd name="textAreaLeft" fmla="*/ 0 w 509400"/>
                    <a:gd name="textAreaRight" fmla="*/ 509400 w 509400"/>
                    <a:gd name="textAreaTop" fmla="*/ 0 h 1034640"/>
                    <a:gd name="textAreaBottom" fmla="*/ 1035000 h 1034640"/>
                  </a:gdLst>
                  <a:ahLst/>
                  <a:rect l="textAreaLeft" t="textAreaTop" r="textAreaRight" b="textAreaBottom"/>
                  <a:pathLst>
                    <a:path w="642" h="1303">
                      <a:moveTo>
                        <a:pt x="642" y="12"/>
                      </a:moveTo>
                      <a:lnTo>
                        <a:pt x="511" y="0"/>
                      </a:lnTo>
                      <a:lnTo>
                        <a:pt x="439" y="12"/>
                      </a:lnTo>
                      <a:lnTo>
                        <a:pt x="319" y="132"/>
                      </a:lnTo>
                      <a:lnTo>
                        <a:pt x="205" y="275"/>
                      </a:lnTo>
                      <a:lnTo>
                        <a:pt x="139" y="556"/>
                      </a:lnTo>
                      <a:lnTo>
                        <a:pt x="115" y="634"/>
                      </a:lnTo>
                      <a:lnTo>
                        <a:pt x="91" y="861"/>
                      </a:lnTo>
                      <a:lnTo>
                        <a:pt x="79" y="1022"/>
                      </a:lnTo>
                      <a:lnTo>
                        <a:pt x="0" y="1124"/>
                      </a:lnTo>
                      <a:lnTo>
                        <a:pt x="175" y="1303"/>
                      </a:lnTo>
                      <a:lnTo>
                        <a:pt x="91" y="1172"/>
                      </a:lnTo>
                      <a:lnTo>
                        <a:pt x="109" y="1160"/>
                      </a:lnTo>
                      <a:lnTo>
                        <a:pt x="229" y="1225"/>
                      </a:lnTo>
                      <a:lnTo>
                        <a:pt x="373" y="1261"/>
                      </a:lnTo>
                      <a:lnTo>
                        <a:pt x="181" y="1184"/>
                      </a:lnTo>
                      <a:lnTo>
                        <a:pt x="109" y="1118"/>
                      </a:lnTo>
                      <a:lnTo>
                        <a:pt x="109" y="1052"/>
                      </a:lnTo>
                      <a:lnTo>
                        <a:pt x="229" y="1046"/>
                      </a:lnTo>
                      <a:lnTo>
                        <a:pt x="103" y="1016"/>
                      </a:lnTo>
                      <a:lnTo>
                        <a:pt x="115" y="861"/>
                      </a:lnTo>
                      <a:lnTo>
                        <a:pt x="145" y="604"/>
                      </a:lnTo>
                      <a:lnTo>
                        <a:pt x="241" y="281"/>
                      </a:lnTo>
                      <a:lnTo>
                        <a:pt x="307" y="179"/>
                      </a:lnTo>
                      <a:lnTo>
                        <a:pt x="439" y="48"/>
                      </a:lnTo>
                      <a:lnTo>
                        <a:pt x="511" y="30"/>
                      </a:lnTo>
                      <a:lnTo>
                        <a:pt x="642" y="1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Group 75"/>
                <p:cNvGrpSpPr/>
                <p:nvPr/>
              </p:nvGrpSpPr>
              <p:grpSpPr>
                <a:xfrm>
                  <a:off x="5521320" y="3733920"/>
                  <a:ext cx="833400" cy="1304280"/>
                  <a:chOff x="5521320" y="3733920"/>
                  <a:chExt cx="833400" cy="1304280"/>
                </a:xfrm>
              </p:grpSpPr>
              <p:sp>
                <p:nvSpPr>
                  <p:cNvPr id="451" name="Freeform 76"/>
                  <p:cNvSpPr/>
                  <p:nvPr/>
                </p:nvSpPr>
                <p:spPr>
                  <a:xfrm>
                    <a:off x="5877000" y="4437000"/>
                    <a:ext cx="299880" cy="308880"/>
                  </a:xfrm>
                  <a:custGeom>
                    <a:avLst/>
                    <a:gdLst>
                      <a:gd name="textAreaLeft" fmla="*/ 0 w 299880"/>
                      <a:gd name="textAreaRight" fmla="*/ 300240 w 299880"/>
                      <a:gd name="textAreaTop" fmla="*/ 0 h 308880"/>
                      <a:gd name="textAreaBottom" fmla="*/ 309240 h 308880"/>
                    </a:gdLst>
                    <a:ahLst/>
                    <a:rect l="textAreaLeft" t="textAreaTop" r="textAreaRight" b="textAreaBottom"/>
                    <a:pathLst>
                      <a:path w="379" h="388">
                        <a:moveTo>
                          <a:pt x="331" y="0"/>
                        </a:moveTo>
                        <a:lnTo>
                          <a:pt x="72" y="229"/>
                        </a:lnTo>
                        <a:lnTo>
                          <a:pt x="54" y="199"/>
                        </a:lnTo>
                        <a:lnTo>
                          <a:pt x="14" y="294"/>
                        </a:lnTo>
                        <a:lnTo>
                          <a:pt x="0" y="348"/>
                        </a:lnTo>
                        <a:lnTo>
                          <a:pt x="30" y="318"/>
                        </a:lnTo>
                        <a:lnTo>
                          <a:pt x="58" y="255"/>
                        </a:lnTo>
                        <a:lnTo>
                          <a:pt x="113" y="388"/>
                        </a:lnTo>
                        <a:lnTo>
                          <a:pt x="199" y="286"/>
                        </a:lnTo>
                        <a:lnTo>
                          <a:pt x="295" y="127"/>
                        </a:lnTo>
                        <a:lnTo>
                          <a:pt x="379" y="25"/>
                        </a:lnTo>
                        <a:lnTo>
                          <a:pt x="3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77"/>
                  <p:cNvSpPr/>
                  <p:nvPr/>
                </p:nvSpPr>
                <p:spPr>
                  <a:xfrm>
                    <a:off x="5873760" y="4640040"/>
                    <a:ext cx="85680" cy="385560"/>
                  </a:xfrm>
                  <a:custGeom>
                    <a:avLst/>
                    <a:gdLst>
                      <a:gd name="textAreaLeft" fmla="*/ 0 w 85680"/>
                      <a:gd name="textAreaRight" fmla="*/ 86040 w 85680"/>
                      <a:gd name="textAreaTop" fmla="*/ 0 h 385560"/>
                      <a:gd name="textAreaBottom" fmla="*/ 385920 h 385560"/>
                    </a:gdLst>
                    <a:ahLst/>
                    <a:rect l="textAreaLeft" t="textAreaTop" r="textAreaRight" b="textAreaBottom"/>
                    <a:pathLst>
                      <a:path w="107" h="486">
                        <a:moveTo>
                          <a:pt x="60" y="0"/>
                        </a:moveTo>
                        <a:lnTo>
                          <a:pt x="42" y="22"/>
                        </a:lnTo>
                        <a:lnTo>
                          <a:pt x="30" y="39"/>
                        </a:lnTo>
                        <a:lnTo>
                          <a:pt x="20" y="63"/>
                        </a:lnTo>
                        <a:lnTo>
                          <a:pt x="10" y="101"/>
                        </a:lnTo>
                        <a:lnTo>
                          <a:pt x="6" y="141"/>
                        </a:lnTo>
                        <a:lnTo>
                          <a:pt x="10" y="179"/>
                        </a:lnTo>
                        <a:lnTo>
                          <a:pt x="16" y="219"/>
                        </a:lnTo>
                        <a:lnTo>
                          <a:pt x="22" y="241"/>
                        </a:lnTo>
                        <a:lnTo>
                          <a:pt x="2" y="330"/>
                        </a:lnTo>
                        <a:lnTo>
                          <a:pt x="0" y="370"/>
                        </a:lnTo>
                        <a:lnTo>
                          <a:pt x="0" y="420"/>
                        </a:lnTo>
                        <a:lnTo>
                          <a:pt x="6" y="486"/>
                        </a:lnTo>
                        <a:lnTo>
                          <a:pt x="40" y="336"/>
                        </a:lnTo>
                        <a:lnTo>
                          <a:pt x="58" y="237"/>
                        </a:lnTo>
                        <a:lnTo>
                          <a:pt x="107" y="111"/>
                        </a:lnTo>
                        <a:lnTo>
                          <a:pt x="6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78"/>
                  <p:cNvSpPr/>
                  <p:nvPr/>
                </p:nvSpPr>
                <p:spPr>
                  <a:xfrm>
                    <a:off x="5877000" y="4641480"/>
                    <a:ext cx="80640" cy="203040"/>
                  </a:xfrm>
                  <a:custGeom>
                    <a:avLst/>
                    <a:gdLst>
                      <a:gd name="textAreaLeft" fmla="*/ 0 w 80640"/>
                      <a:gd name="textAreaRight" fmla="*/ 81000 w 80640"/>
                      <a:gd name="textAreaTop" fmla="*/ 0 h 203040"/>
                      <a:gd name="textAreaBottom" fmla="*/ 203400 h 203040"/>
                    </a:gdLst>
                    <a:ahLst/>
                    <a:rect l="textAreaLeft" t="textAreaTop" r="textAreaRight" b="textAreaBottom"/>
                    <a:pathLst>
                      <a:path w="101" h="257">
                        <a:moveTo>
                          <a:pt x="54" y="0"/>
                        </a:moveTo>
                        <a:lnTo>
                          <a:pt x="36" y="22"/>
                        </a:lnTo>
                        <a:lnTo>
                          <a:pt x="24" y="39"/>
                        </a:lnTo>
                        <a:lnTo>
                          <a:pt x="14" y="63"/>
                        </a:lnTo>
                        <a:lnTo>
                          <a:pt x="4" y="101"/>
                        </a:lnTo>
                        <a:lnTo>
                          <a:pt x="0" y="141"/>
                        </a:lnTo>
                        <a:lnTo>
                          <a:pt x="4" y="179"/>
                        </a:lnTo>
                        <a:lnTo>
                          <a:pt x="10" y="219"/>
                        </a:lnTo>
                        <a:lnTo>
                          <a:pt x="16" y="241"/>
                        </a:lnTo>
                        <a:lnTo>
                          <a:pt x="44" y="257"/>
                        </a:lnTo>
                        <a:lnTo>
                          <a:pt x="52" y="231"/>
                        </a:lnTo>
                        <a:lnTo>
                          <a:pt x="101" y="111"/>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79"/>
                  <p:cNvGrpSpPr/>
                  <p:nvPr/>
                </p:nvGrpSpPr>
                <p:grpSpPr>
                  <a:xfrm>
                    <a:off x="5521320" y="3733920"/>
                    <a:ext cx="833400" cy="906120"/>
                    <a:chOff x="5521320" y="3733920"/>
                    <a:chExt cx="833400" cy="906120"/>
                  </a:xfrm>
                </p:grpSpPr>
                <p:grpSp>
                  <p:nvGrpSpPr>
                    <p:cNvPr id="455" name="Group 80"/>
                    <p:cNvGrpSpPr/>
                    <p:nvPr/>
                  </p:nvGrpSpPr>
                  <p:grpSpPr>
                    <a:xfrm>
                      <a:off x="5610240" y="3833640"/>
                      <a:ext cx="615960" cy="804600"/>
                      <a:chOff x="5610240" y="3833640"/>
                      <a:chExt cx="615960" cy="804600"/>
                    </a:xfrm>
                  </p:grpSpPr>
                  <p:sp>
                    <p:nvSpPr>
                      <p:cNvPr id="456" name="Freeform 81"/>
                      <p:cNvSpPr/>
                      <p:nvPr/>
                    </p:nvSpPr>
                    <p:spPr>
                      <a:xfrm>
                        <a:off x="5610240" y="3833640"/>
                        <a:ext cx="615960" cy="804600"/>
                      </a:xfrm>
                      <a:custGeom>
                        <a:avLst/>
                        <a:gdLst>
                          <a:gd name="textAreaLeft" fmla="*/ 0 w 615960"/>
                          <a:gd name="textAreaRight" fmla="*/ 616320 w 615960"/>
                          <a:gd name="textAreaTop" fmla="*/ 0 h 804600"/>
                          <a:gd name="textAreaBottom" fmla="*/ 804960 h 804600"/>
                        </a:gdLst>
                        <a:ahLst/>
                        <a:rect l="textAreaLeft" t="textAreaTop" r="textAreaRight" b="textAreaBottom"/>
                        <a:pathLst>
                          <a:path w="777" h="1014">
                            <a:moveTo>
                              <a:pt x="242" y="29"/>
                            </a:moveTo>
                            <a:lnTo>
                              <a:pt x="186" y="61"/>
                            </a:lnTo>
                            <a:lnTo>
                              <a:pt x="134" y="95"/>
                            </a:lnTo>
                            <a:lnTo>
                              <a:pt x="96" y="127"/>
                            </a:lnTo>
                            <a:lnTo>
                              <a:pt x="60" y="161"/>
                            </a:lnTo>
                            <a:lnTo>
                              <a:pt x="32" y="197"/>
                            </a:lnTo>
                            <a:lnTo>
                              <a:pt x="14" y="235"/>
                            </a:lnTo>
                            <a:lnTo>
                              <a:pt x="8" y="274"/>
                            </a:lnTo>
                            <a:lnTo>
                              <a:pt x="2" y="318"/>
                            </a:lnTo>
                            <a:lnTo>
                              <a:pt x="0" y="372"/>
                            </a:lnTo>
                            <a:lnTo>
                              <a:pt x="6" y="420"/>
                            </a:lnTo>
                            <a:lnTo>
                              <a:pt x="0" y="486"/>
                            </a:lnTo>
                            <a:lnTo>
                              <a:pt x="26" y="504"/>
                            </a:lnTo>
                            <a:lnTo>
                              <a:pt x="48" y="522"/>
                            </a:lnTo>
                            <a:lnTo>
                              <a:pt x="50" y="537"/>
                            </a:lnTo>
                            <a:lnTo>
                              <a:pt x="50" y="563"/>
                            </a:lnTo>
                            <a:lnTo>
                              <a:pt x="42" y="593"/>
                            </a:lnTo>
                            <a:lnTo>
                              <a:pt x="18" y="675"/>
                            </a:lnTo>
                            <a:lnTo>
                              <a:pt x="18" y="711"/>
                            </a:lnTo>
                            <a:lnTo>
                              <a:pt x="38" y="719"/>
                            </a:lnTo>
                            <a:lnTo>
                              <a:pt x="68" y="719"/>
                            </a:lnTo>
                            <a:lnTo>
                              <a:pt x="90" y="719"/>
                            </a:lnTo>
                            <a:lnTo>
                              <a:pt x="126" y="816"/>
                            </a:lnTo>
                            <a:lnTo>
                              <a:pt x="128" y="852"/>
                            </a:lnTo>
                            <a:lnTo>
                              <a:pt x="140" y="868"/>
                            </a:lnTo>
                            <a:lnTo>
                              <a:pt x="156" y="874"/>
                            </a:lnTo>
                            <a:lnTo>
                              <a:pt x="158" y="894"/>
                            </a:lnTo>
                            <a:lnTo>
                              <a:pt x="156" y="922"/>
                            </a:lnTo>
                            <a:lnTo>
                              <a:pt x="170" y="966"/>
                            </a:lnTo>
                            <a:lnTo>
                              <a:pt x="188" y="994"/>
                            </a:lnTo>
                            <a:lnTo>
                              <a:pt x="206" y="1006"/>
                            </a:lnTo>
                            <a:lnTo>
                              <a:pt x="248" y="1014"/>
                            </a:lnTo>
                            <a:lnTo>
                              <a:pt x="282" y="1012"/>
                            </a:lnTo>
                            <a:lnTo>
                              <a:pt x="330" y="990"/>
                            </a:lnTo>
                            <a:lnTo>
                              <a:pt x="386" y="958"/>
                            </a:lnTo>
                            <a:lnTo>
                              <a:pt x="410" y="988"/>
                            </a:lnTo>
                            <a:lnTo>
                              <a:pt x="747" y="717"/>
                            </a:lnTo>
                            <a:lnTo>
                              <a:pt x="727" y="671"/>
                            </a:lnTo>
                            <a:lnTo>
                              <a:pt x="747" y="609"/>
                            </a:lnTo>
                            <a:lnTo>
                              <a:pt x="769" y="527"/>
                            </a:lnTo>
                            <a:lnTo>
                              <a:pt x="777" y="424"/>
                            </a:lnTo>
                            <a:lnTo>
                              <a:pt x="775" y="346"/>
                            </a:lnTo>
                            <a:lnTo>
                              <a:pt x="753" y="217"/>
                            </a:lnTo>
                            <a:lnTo>
                              <a:pt x="721" y="101"/>
                            </a:lnTo>
                            <a:lnTo>
                              <a:pt x="685" y="17"/>
                            </a:lnTo>
                            <a:lnTo>
                              <a:pt x="549" y="0"/>
                            </a:lnTo>
                            <a:lnTo>
                              <a:pt x="342" y="2"/>
                            </a:lnTo>
                            <a:lnTo>
                              <a:pt x="242" y="29"/>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Group 82"/>
                      <p:cNvGrpSpPr/>
                      <p:nvPr/>
                    </p:nvGrpSpPr>
                    <p:grpSpPr>
                      <a:xfrm>
                        <a:off x="5856120" y="4239720"/>
                        <a:ext cx="104760" cy="188280"/>
                        <a:chOff x="5856120" y="4239720"/>
                        <a:chExt cx="104760" cy="188280"/>
                      </a:xfrm>
                    </p:grpSpPr>
                    <p:sp>
                      <p:nvSpPr>
                        <p:cNvPr id="458" name="Freeform 83"/>
                        <p:cNvSpPr/>
                        <p:nvPr/>
                      </p:nvSpPr>
                      <p:spPr>
                        <a:xfrm>
                          <a:off x="5856120" y="4239720"/>
                          <a:ext cx="79560" cy="118800"/>
                        </a:xfrm>
                        <a:custGeom>
                          <a:avLst/>
                          <a:gdLst>
                            <a:gd name="textAreaLeft" fmla="*/ 0 w 79560"/>
                            <a:gd name="textAreaRight" fmla="*/ 79920 w 79560"/>
                            <a:gd name="textAreaTop" fmla="*/ 0 h 118800"/>
                            <a:gd name="textAreaBottom" fmla="*/ 119160 h 118800"/>
                          </a:gdLst>
                          <a:ahLst/>
                          <a:rect l="textAreaLeft" t="textAreaTop" r="textAreaRight" b="textAreaBottom"/>
                          <a:pathLst>
                            <a:path w="100" h="151">
                              <a:moveTo>
                                <a:pt x="0" y="63"/>
                              </a:moveTo>
                              <a:lnTo>
                                <a:pt x="10" y="31"/>
                              </a:lnTo>
                              <a:lnTo>
                                <a:pt x="18" y="10"/>
                              </a:lnTo>
                              <a:lnTo>
                                <a:pt x="26" y="4"/>
                              </a:lnTo>
                              <a:lnTo>
                                <a:pt x="40" y="0"/>
                              </a:lnTo>
                              <a:lnTo>
                                <a:pt x="56" y="0"/>
                              </a:lnTo>
                              <a:lnTo>
                                <a:pt x="72" y="4"/>
                              </a:lnTo>
                              <a:lnTo>
                                <a:pt x="84" y="11"/>
                              </a:lnTo>
                              <a:lnTo>
                                <a:pt x="92" y="27"/>
                              </a:lnTo>
                              <a:lnTo>
                                <a:pt x="98" y="53"/>
                              </a:lnTo>
                              <a:lnTo>
                                <a:pt x="100" y="75"/>
                              </a:lnTo>
                              <a:lnTo>
                                <a:pt x="96" y="105"/>
                              </a:lnTo>
                              <a:lnTo>
                                <a:pt x="90" y="133"/>
                              </a:lnTo>
                              <a:lnTo>
                                <a:pt x="78" y="151"/>
                              </a:lnTo>
                              <a:lnTo>
                                <a:pt x="72" y="129"/>
                              </a:lnTo>
                              <a:lnTo>
                                <a:pt x="84" y="109"/>
                              </a:lnTo>
                              <a:lnTo>
                                <a:pt x="76" y="83"/>
                              </a:lnTo>
                              <a:lnTo>
                                <a:pt x="66" y="93"/>
                              </a:lnTo>
                              <a:lnTo>
                                <a:pt x="44" y="103"/>
                              </a:lnTo>
                              <a:lnTo>
                                <a:pt x="36" y="81"/>
                              </a:lnTo>
                              <a:lnTo>
                                <a:pt x="54" y="73"/>
                              </a:lnTo>
                              <a:lnTo>
                                <a:pt x="72" y="69"/>
                              </a:lnTo>
                              <a:lnTo>
                                <a:pt x="72" y="55"/>
                              </a:lnTo>
                              <a:lnTo>
                                <a:pt x="70" y="37"/>
                              </a:lnTo>
                              <a:lnTo>
                                <a:pt x="80" y="39"/>
                              </a:lnTo>
                              <a:lnTo>
                                <a:pt x="78" y="17"/>
                              </a:lnTo>
                              <a:lnTo>
                                <a:pt x="74" y="11"/>
                              </a:lnTo>
                              <a:lnTo>
                                <a:pt x="58" y="10"/>
                              </a:lnTo>
                              <a:lnTo>
                                <a:pt x="30" y="11"/>
                              </a:lnTo>
                              <a:lnTo>
                                <a:pt x="16" y="33"/>
                              </a:lnTo>
                              <a:lnTo>
                                <a:pt x="0" y="63"/>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84"/>
                        <p:cNvSpPr/>
                        <p:nvPr/>
                      </p:nvSpPr>
                      <p:spPr>
                        <a:xfrm>
                          <a:off x="5889600" y="4361400"/>
                          <a:ext cx="71280" cy="66600"/>
                        </a:xfrm>
                        <a:custGeom>
                          <a:avLst/>
                          <a:gdLst>
                            <a:gd name="textAreaLeft" fmla="*/ 0 w 71280"/>
                            <a:gd name="textAreaRight" fmla="*/ 71640 w 71280"/>
                            <a:gd name="textAreaTop" fmla="*/ 0 h 66600"/>
                            <a:gd name="textAreaBottom" fmla="*/ 66960 h 66600"/>
                          </a:gdLst>
                          <a:ahLst/>
                          <a:rect l="textAreaLeft" t="textAreaTop" r="textAreaRight" b="textAreaBottom"/>
                          <a:pathLst>
                            <a:path w="89" h="84">
                              <a:moveTo>
                                <a:pt x="66" y="0"/>
                              </a:moveTo>
                              <a:lnTo>
                                <a:pt x="54" y="28"/>
                              </a:lnTo>
                              <a:lnTo>
                                <a:pt x="48" y="42"/>
                              </a:lnTo>
                              <a:lnTo>
                                <a:pt x="36" y="52"/>
                              </a:lnTo>
                              <a:lnTo>
                                <a:pt x="20" y="54"/>
                              </a:lnTo>
                              <a:lnTo>
                                <a:pt x="0" y="54"/>
                              </a:lnTo>
                              <a:lnTo>
                                <a:pt x="44" y="60"/>
                              </a:lnTo>
                              <a:lnTo>
                                <a:pt x="70" y="72"/>
                              </a:lnTo>
                              <a:lnTo>
                                <a:pt x="89" y="84"/>
                              </a:lnTo>
                              <a:lnTo>
                                <a:pt x="72" y="56"/>
                              </a:lnTo>
                              <a:lnTo>
                                <a:pt x="68" y="28"/>
                              </a:lnTo>
                              <a:lnTo>
                                <a:pt x="66" y="0"/>
                              </a:lnTo>
                              <a:close/>
                            </a:path>
                          </a:pathLst>
                        </a:custGeom>
                        <a:solidFill>
                          <a:srgbClr val="df9f7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460" name="Freeform 85"/>
                      <p:cNvSpPr/>
                      <p:nvPr/>
                    </p:nvSpPr>
                    <p:spPr>
                      <a:xfrm>
                        <a:off x="5713200" y="4350600"/>
                        <a:ext cx="60480" cy="90360"/>
                      </a:xfrm>
                      <a:custGeom>
                        <a:avLst/>
                        <a:gdLst>
                          <a:gd name="textAreaLeft" fmla="*/ 0 w 60480"/>
                          <a:gd name="textAreaRight" fmla="*/ 60840 w 60480"/>
                          <a:gd name="textAreaTop" fmla="*/ 0 h 90360"/>
                          <a:gd name="textAreaBottom" fmla="*/ 90720 h 90360"/>
                        </a:gdLst>
                        <a:ahLst/>
                        <a:rect l="textAreaLeft" t="textAreaTop" r="textAreaRight" b="textAreaBottom"/>
                        <a:pathLst>
                          <a:path w="76" h="114">
                            <a:moveTo>
                              <a:pt x="12" y="0"/>
                            </a:moveTo>
                            <a:lnTo>
                              <a:pt x="22" y="10"/>
                            </a:lnTo>
                            <a:lnTo>
                              <a:pt x="24" y="22"/>
                            </a:lnTo>
                            <a:lnTo>
                              <a:pt x="20" y="32"/>
                            </a:lnTo>
                            <a:lnTo>
                              <a:pt x="12" y="42"/>
                            </a:lnTo>
                            <a:lnTo>
                              <a:pt x="0" y="52"/>
                            </a:lnTo>
                            <a:lnTo>
                              <a:pt x="10" y="60"/>
                            </a:lnTo>
                            <a:lnTo>
                              <a:pt x="28" y="64"/>
                            </a:lnTo>
                            <a:lnTo>
                              <a:pt x="44" y="74"/>
                            </a:lnTo>
                            <a:lnTo>
                              <a:pt x="76" y="114"/>
                            </a:lnTo>
                            <a:lnTo>
                              <a:pt x="36" y="50"/>
                            </a:lnTo>
                            <a:lnTo>
                              <a:pt x="30" y="36"/>
                            </a:lnTo>
                            <a:lnTo>
                              <a:pt x="30" y="20"/>
                            </a:lnTo>
                            <a:lnTo>
                              <a:pt x="34" y="12"/>
                            </a:lnTo>
                            <a:lnTo>
                              <a:pt x="12" y="0"/>
                            </a:lnTo>
                            <a:close/>
                          </a:path>
                        </a:pathLst>
                      </a:custGeom>
                      <a:solidFill>
                        <a:srgbClr val="df9f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61" name="Group 86"/>
                    <p:cNvGrpSpPr/>
                    <p:nvPr/>
                  </p:nvGrpSpPr>
                  <p:grpSpPr>
                    <a:xfrm>
                      <a:off x="5521320" y="3733920"/>
                      <a:ext cx="833400" cy="906120"/>
                      <a:chOff x="5521320" y="3733920"/>
                      <a:chExt cx="833400" cy="906120"/>
                    </a:xfrm>
                  </p:grpSpPr>
                  <p:sp>
                    <p:nvSpPr>
                      <p:cNvPr id="462" name="Freeform 87"/>
                      <p:cNvSpPr/>
                      <p:nvPr/>
                    </p:nvSpPr>
                    <p:spPr>
                      <a:xfrm>
                        <a:off x="5521320" y="3733920"/>
                        <a:ext cx="833400" cy="906120"/>
                      </a:xfrm>
                      <a:custGeom>
                        <a:avLst/>
                        <a:gdLst>
                          <a:gd name="textAreaLeft" fmla="*/ 0 w 833400"/>
                          <a:gd name="textAreaRight" fmla="*/ 833760 w 833400"/>
                          <a:gd name="textAreaTop" fmla="*/ 0 h 906120"/>
                          <a:gd name="textAreaBottom" fmla="*/ 906480 h 906120"/>
                        </a:gdLst>
                        <a:ahLst/>
                        <a:rect l="textAreaLeft" t="textAreaTop" r="textAreaRight" b="textAreaBottom"/>
                        <a:pathLst>
                          <a:path w="1050" h="1142">
                            <a:moveTo>
                              <a:pt x="503" y="0"/>
                            </a:moveTo>
                            <a:lnTo>
                              <a:pt x="455" y="2"/>
                            </a:lnTo>
                            <a:lnTo>
                              <a:pt x="419" y="8"/>
                            </a:lnTo>
                            <a:lnTo>
                              <a:pt x="379" y="18"/>
                            </a:lnTo>
                            <a:lnTo>
                              <a:pt x="333" y="34"/>
                            </a:lnTo>
                            <a:lnTo>
                              <a:pt x="295" y="50"/>
                            </a:lnTo>
                            <a:lnTo>
                              <a:pt x="251" y="88"/>
                            </a:lnTo>
                            <a:lnTo>
                              <a:pt x="211" y="126"/>
                            </a:lnTo>
                            <a:lnTo>
                              <a:pt x="173" y="167"/>
                            </a:lnTo>
                            <a:lnTo>
                              <a:pt x="89" y="221"/>
                            </a:lnTo>
                            <a:lnTo>
                              <a:pt x="59" y="241"/>
                            </a:lnTo>
                            <a:lnTo>
                              <a:pt x="37" y="263"/>
                            </a:lnTo>
                            <a:lnTo>
                              <a:pt x="24" y="283"/>
                            </a:lnTo>
                            <a:lnTo>
                              <a:pt x="8" y="307"/>
                            </a:lnTo>
                            <a:lnTo>
                              <a:pt x="2" y="331"/>
                            </a:lnTo>
                            <a:lnTo>
                              <a:pt x="0" y="357"/>
                            </a:lnTo>
                            <a:lnTo>
                              <a:pt x="0" y="383"/>
                            </a:lnTo>
                            <a:lnTo>
                              <a:pt x="6" y="412"/>
                            </a:lnTo>
                            <a:lnTo>
                              <a:pt x="22" y="446"/>
                            </a:lnTo>
                            <a:lnTo>
                              <a:pt x="35" y="464"/>
                            </a:lnTo>
                            <a:lnTo>
                              <a:pt x="53" y="478"/>
                            </a:lnTo>
                            <a:lnTo>
                              <a:pt x="79" y="486"/>
                            </a:lnTo>
                            <a:lnTo>
                              <a:pt x="107" y="492"/>
                            </a:lnTo>
                            <a:lnTo>
                              <a:pt x="147" y="500"/>
                            </a:lnTo>
                            <a:lnTo>
                              <a:pt x="123" y="468"/>
                            </a:lnTo>
                            <a:lnTo>
                              <a:pt x="115" y="438"/>
                            </a:lnTo>
                            <a:lnTo>
                              <a:pt x="117" y="402"/>
                            </a:lnTo>
                            <a:lnTo>
                              <a:pt x="125" y="367"/>
                            </a:lnTo>
                            <a:lnTo>
                              <a:pt x="137" y="345"/>
                            </a:lnTo>
                            <a:lnTo>
                              <a:pt x="153" y="321"/>
                            </a:lnTo>
                            <a:lnTo>
                              <a:pt x="173" y="301"/>
                            </a:lnTo>
                            <a:lnTo>
                              <a:pt x="197" y="283"/>
                            </a:lnTo>
                            <a:lnTo>
                              <a:pt x="227" y="267"/>
                            </a:lnTo>
                            <a:lnTo>
                              <a:pt x="323" y="237"/>
                            </a:lnTo>
                            <a:lnTo>
                              <a:pt x="305" y="257"/>
                            </a:lnTo>
                            <a:lnTo>
                              <a:pt x="291" y="269"/>
                            </a:lnTo>
                            <a:lnTo>
                              <a:pt x="271" y="277"/>
                            </a:lnTo>
                            <a:lnTo>
                              <a:pt x="241" y="287"/>
                            </a:lnTo>
                            <a:lnTo>
                              <a:pt x="221" y="293"/>
                            </a:lnTo>
                            <a:lnTo>
                              <a:pt x="199" y="307"/>
                            </a:lnTo>
                            <a:lnTo>
                              <a:pt x="189" y="325"/>
                            </a:lnTo>
                            <a:lnTo>
                              <a:pt x="181" y="343"/>
                            </a:lnTo>
                            <a:lnTo>
                              <a:pt x="177" y="363"/>
                            </a:lnTo>
                            <a:lnTo>
                              <a:pt x="177" y="385"/>
                            </a:lnTo>
                            <a:lnTo>
                              <a:pt x="185" y="408"/>
                            </a:lnTo>
                            <a:lnTo>
                              <a:pt x="191" y="444"/>
                            </a:lnTo>
                            <a:lnTo>
                              <a:pt x="207" y="476"/>
                            </a:lnTo>
                            <a:lnTo>
                              <a:pt x="231" y="528"/>
                            </a:lnTo>
                            <a:lnTo>
                              <a:pt x="273" y="630"/>
                            </a:lnTo>
                            <a:lnTo>
                              <a:pt x="303" y="685"/>
                            </a:lnTo>
                            <a:lnTo>
                              <a:pt x="337" y="699"/>
                            </a:lnTo>
                            <a:lnTo>
                              <a:pt x="345" y="749"/>
                            </a:lnTo>
                            <a:lnTo>
                              <a:pt x="351" y="875"/>
                            </a:lnTo>
                            <a:lnTo>
                              <a:pt x="357" y="910"/>
                            </a:lnTo>
                            <a:lnTo>
                              <a:pt x="361" y="940"/>
                            </a:lnTo>
                            <a:lnTo>
                              <a:pt x="361" y="960"/>
                            </a:lnTo>
                            <a:lnTo>
                              <a:pt x="343" y="982"/>
                            </a:lnTo>
                            <a:lnTo>
                              <a:pt x="321" y="996"/>
                            </a:lnTo>
                            <a:lnTo>
                              <a:pt x="293" y="1012"/>
                            </a:lnTo>
                            <a:lnTo>
                              <a:pt x="271" y="1030"/>
                            </a:lnTo>
                            <a:lnTo>
                              <a:pt x="267" y="1042"/>
                            </a:lnTo>
                            <a:lnTo>
                              <a:pt x="267" y="1060"/>
                            </a:lnTo>
                            <a:lnTo>
                              <a:pt x="271" y="1074"/>
                            </a:lnTo>
                            <a:lnTo>
                              <a:pt x="277" y="1086"/>
                            </a:lnTo>
                            <a:lnTo>
                              <a:pt x="283" y="1102"/>
                            </a:lnTo>
                            <a:lnTo>
                              <a:pt x="297" y="1120"/>
                            </a:lnTo>
                            <a:lnTo>
                              <a:pt x="311" y="1130"/>
                            </a:lnTo>
                            <a:lnTo>
                              <a:pt x="327" y="1136"/>
                            </a:lnTo>
                            <a:lnTo>
                              <a:pt x="345" y="1140"/>
                            </a:lnTo>
                            <a:lnTo>
                              <a:pt x="369" y="1142"/>
                            </a:lnTo>
                            <a:lnTo>
                              <a:pt x="387" y="1140"/>
                            </a:lnTo>
                            <a:lnTo>
                              <a:pt x="409" y="1134"/>
                            </a:lnTo>
                            <a:lnTo>
                              <a:pt x="427" y="1128"/>
                            </a:lnTo>
                            <a:lnTo>
                              <a:pt x="447" y="1116"/>
                            </a:lnTo>
                            <a:lnTo>
                              <a:pt x="471" y="1100"/>
                            </a:lnTo>
                            <a:lnTo>
                              <a:pt x="485" y="1090"/>
                            </a:lnTo>
                            <a:lnTo>
                              <a:pt x="483" y="1040"/>
                            </a:lnTo>
                            <a:lnTo>
                              <a:pt x="467" y="873"/>
                            </a:lnTo>
                            <a:lnTo>
                              <a:pt x="415" y="777"/>
                            </a:lnTo>
                            <a:lnTo>
                              <a:pt x="401" y="737"/>
                            </a:lnTo>
                            <a:lnTo>
                              <a:pt x="393" y="697"/>
                            </a:lnTo>
                            <a:lnTo>
                              <a:pt x="403" y="675"/>
                            </a:lnTo>
                            <a:lnTo>
                              <a:pt x="415" y="649"/>
                            </a:lnTo>
                            <a:lnTo>
                              <a:pt x="431" y="634"/>
                            </a:lnTo>
                            <a:lnTo>
                              <a:pt x="455" y="624"/>
                            </a:lnTo>
                            <a:lnTo>
                              <a:pt x="477" y="626"/>
                            </a:lnTo>
                            <a:lnTo>
                              <a:pt x="503" y="634"/>
                            </a:lnTo>
                            <a:lnTo>
                              <a:pt x="529" y="653"/>
                            </a:lnTo>
                            <a:lnTo>
                              <a:pt x="539" y="671"/>
                            </a:lnTo>
                            <a:lnTo>
                              <a:pt x="547" y="701"/>
                            </a:lnTo>
                            <a:lnTo>
                              <a:pt x="548" y="729"/>
                            </a:lnTo>
                            <a:lnTo>
                              <a:pt x="543" y="757"/>
                            </a:lnTo>
                            <a:lnTo>
                              <a:pt x="537" y="781"/>
                            </a:lnTo>
                            <a:lnTo>
                              <a:pt x="537" y="799"/>
                            </a:lnTo>
                            <a:lnTo>
                              <a:pt x="548" y="815"/>
                            </a:lnTo>
                            <a:lnTo>
                              <a:pt x="744" y="948"/>
                            </a:lnTo>
                            <a:lnTo>
                              <a:pt x="818" y="940"/>
                            </a:lnTo>
                            <a:lnTo>
                              <a:pt x="904" y="934"/>
                            </a:lnTo>
                            <a:lnTo>
                              <a:pt x="980" y="914"/>
                            </a:lnTo>
                            <a:lnTo>
                              <a:pt x="1012" y="883"/>
                            </a:lnTo>
                            <a:lnTo>
                              <a:pt x="1030" y="865"/>
                            </a:lnTo>
                            <a:lnTo>
                              <a:pt x="1038" y="835"/>
                            </a:lnTo>
                            <a:lnTo>
                              <a:pt x="1044" y="801"/>
                            </a:lnTo>
                            <a:lnTo>
                              <a:pt x="1050" y="743"/>
                            </a:lnTo>
                            <a:lnTo>
                              <a:pt x="1032" y="705"/>
                            </a:lnTo>
                            <a:lnTo>
                              <a:pt x="1024" y="610"/>
                            </a:lnTo>
                            <a:lnTo>
                              <a:pt x="994" y="478"/>
                            </a:lnTo>
                            <a:lnTo>
                              <a:pt x="970" y="377"/>
                            </a:lnTo>
                            <a:lnTo>
                              <a:pt x="922" y="277"/>
                            </a:lnTo>
                            <a:lnTo>
                              <a:pt x="880" y="191"/>
                            </a:lnTo>
                            <a:lnTo>
                              <a:pt x="856" y="149"/>
                            </a:lnTo>
                            <a:lnTo>
                              <a:pt x="820" y="100"/>
                            </a:lnTo>
                            <a:lnTo>
                              <a:pt x="790" y="74"/>
                            </a:lnTo>
                            <a:lnTo>
                              <a:pt x="728" y="42"/>
                            </a:lnTo>
                            <a:lnTo>
                              <a:pt x="674" y="18"/>
                            </a:lnTo>
                            <a:lnTo>
                              <a:pt x="614" y="4"/>
                            </a:lnTo>
                            <a:lnTo>
                              <a:pt x="556" y="0"/>
                            </a:lnTo>
                            <a:lnTo>
                              <a:pt x="503"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88"/>
                      <p:cNvSpPr/>
                      <p:nvPr/>
                    </p:nvSpPr>
                    <p:spPr>
                      <a:xfrm>
                        <a:off x="5607000" y="4194000"/>
                        <a:ext cx="71280" cy="50400"/>
                      </a:xfrm>
                      <a:custGeom>
                        <a:avLst/>
                        <a:gdLst>
                          <a:gd name="textAreaLeft" fmla="*/ 0 w 71280"/>
                          <a:gd name="textAreaRight" fmla="*/ 71640 w 71280"/>
                          <a:gd name="textAreaTop" fmla="*/ 0 h 50400"/>
                          <a:gd name="textAreaBottom" fmla="*/ 50760 h 50400"/>
                        </a:gdLst>
                        <a:ahLst/>
                        <a:rect l="textAreaLeft" t="textAreaTop" r="textAreaRight" b="textAreaBottom"/>
                        <a:pathLst>
                          <a:path w="90" h="64">
                            <a:moveTo>
                              <a:pt x="4" y="0"/>
                            </a:moveTo>
                            <a:lnTo>
                              <a:pt x="2" y="12"/>
                            </a:lnTo>
                            <a:lnTo>
                              <a:pt x="0" y="30"/>
                            </a:lnTo>
                            <a:lnTo>
                              <a:pt x="6" y="40"/>
                            </a:lnTo>
                            <a:lnTo>
                              <a:pt x="18" y="48"/>
                            </a:lnTo>
                            <a:lnTo>
                              <a:pt x="38" y="52"/>
                            </a:lnTo>
                            <a:lnTo>
                              <a:pt x="58" y="54"/>
                            </a:lnTo>
                            <a:lnTo>
                              <a:pt x="80" y="60"/>
                            </a:lnTo>
                            <a:lnTo>
                              <a:pt x="90" y="64"/>
                            </a:lnTo>
                            <a:lnTo>
                              <a:pt x="90" y="50"/>
                            </a:lnTo>
                            <a:lnTo>
                              <a:pt x="70" y="32"/>
                            </a:lnTo>
                            <a:lnTo>
                              <a:pt x="52" y="20"/>
                            </a:lnTo>
                            <a:lnTo>
                              <a:pt x="32" y="10"/>
                            </a:lnTo>
                            <a:lnTo>
                              <a:pt x="22" y="6"/>
                            </a:lnTo>
                            <a:lnTo>
                              <a:pt x="4" y="0"/>
                            </a:lnTo>
                            <a:close/>
                          </a:path>
                        </a:pathLst>
                      </a:custGeom>
                      <a:solidFill>
                        <a:srgbClr val="5f3f1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4" name="Freeform 89"/>
                      <p:cNvSpPr/>
                      <p:nvPr/>
                    </p:nvSpPr>
                    <p:spPr>
                      <a:xfrm>
                        <a:off x="5634000" y="4252680"/>
                        <a:ext cx="42840" cy="17280"/>
                      </a:xfrm>
                      <a:custGeom>
                        <a:avLst/>
                        <a:gdLst>
                          <a:gd name="textAreaLeft" fmla="*/ 0 w 42840"/>
                          <a:gd name="textAreaRight" fmla="*/ 43200 w 42840"/>
                          <a:gd name="textAreaTop" fmla="*/ 0 h 17280"/>
                          <a:gd name="textAreaBottom" fmla="*/ 17280 h 17280"/>
                        </a:gdLst>
                        <a:ahLst/>
                        <a:rect l="textAreaLeft" t="textAreaTop" r="textAreaRight" b="textAreaBottom"/>
                        <a:pathLst>
                          <a:path w="54" h="22">
                            <a:moveTo>
                              <a:pt x="30" y="0"/>
                            </a:moveTo>
                            <a:lnTo>
                              <a:pt x="24" y="10"/>
                            </a:lnTo>
                            <a:lnTo>
                              <a:pt x="14" y="14"/>
                            </a:lnTo>
                            <a:lnTo>
                              <a:pt x="0" y="16"/>
                            </a:lnTo>
                            <a:lnTo>
                              <a:pt x="16" y="22"/>
                            </a:lnTo>
                            <a:lnTo>
                              <a:pt x="40" y="22"/>
                            </a:lnTo>
                            <a:lnTo>
                              <a:pt x="54" y="22"/>
                            </a:lnTo>
                            <a:lnTo>
                              <a:pt x="30" y="0"/>
                            </a:lnTo>
                            <a:close/>
                          </a:path>
                        </a:pathLst>
                      </a:custGeom>
                      <a:solidFill>
                        <a:srgbClr val="5f3f1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5" name="Freeform 90"/>
                      <p:cNvSpPr/>
                      <p:nvPr/>
                    </p:nvSpPr>
                    <p:spPr>
                      <a:xfrm>
                        <a:off x="5670360" y="4395600"/>
                        <a:ext cx="79560" cy="93240"/>
                      </a:xfrm>
                      <a:custGeom>
                        <a:avLst/>
                        <a:gdLst>
                          <a:gd name="textAreaLeft" fmla="*/ 0 w 79560"/>
                          <a:gd name="textAreaRight" fmla="*/ 79920 w 79560"/>
                          <a:gd name="textAreaTop" fmla="*/ 0 h 93240"/>
                          <a:gd name="textAreaBottom" fmla="*/ 93600 h 93240"/>
                        </a:gdLst>
                        <a:ahLst/>
                        <a:rect l="textAreaLeft" t="textAreaTop" r="textAreaRight" b="textAreaBottom"/>
                        <a:pathLst>
                          <a:path w="100" h="117">
                            <a:moveTo>
                              <a:pt x="16" y="2"/>
                            </a:moveTo>
                            <a:lnTo>
                              <a:pt x="6" y="18"/>
                            </a:lnTo>
                            <a:lnTo>
                              <a:pt x="2" y="30"/>
                            </a:lnTo>
                            <a:lnTo>
                              <a:pt x="0" y="44"/>
                            </a:lnTo>
                            <a:lnTo>
                              <a:pt x="0" y="58"/>
                            </a:lnTo>
                            <a:lnTo>
                              <a:pt x="4" y="75"/>
                            </a:lnTo>
                            <a:lnTo>
                              <a:pt x="8" y="89"/>
                            </a:lnTo>
                            <a:lnTo>
                              <a:pt x="16" y="97"/>
                            </a:lnTo>
                            <a:lnTo>
                              <a:pt x="24" y="103"/>
                            </a:lnTo>
                            <a:lnTo>
                              <a:pt x="36" y="103"/>
                            </a:lnTo>
                            <a:lnTo>
                              <a:pt x="50" y="103"/>
                            </a:lnTo>
                            <a:lnTo>
                              <a:pt x="74" y="107"/>
                            </a:lnTo>
                            <a:lnTo>
                              <a:pt x="100" y="117"/>
                            </a:lnTo>
                            <a:lnTo>
                              <a:pt x="100" y="103"/>
                            </a:lnTo>
                            <a:lnTo>
                              <a:pt x="92" y="85"/>
                            </a:lnTo>
                            <a:lnTo>
                              <a:pt x="90" y="66"/>
                            </a:lnTo>
                            <a:lnTo>
                              <a:pt x="78" y="48"/>
                            </a:lnTo>
                            <a:lnTo>
                              <a:pt x="70" y="38"/>
                            </a:lnTo>
                            <a:lnTo>
                              <a:pt x="58" y="26"/>
                            </a:lnTo>
                            <a:lnTo>
                              <a:pt x="48" y="16"/>
                            </a:lnTo>
                            <a:lnTo>
                              <a:pt x="40" y="8"/>
                            </a:lnTo>
                            <a:lnTo>
                              <a:pt x="34" y="0"/>
                            </a:lnTo>
                            <a:lnTo>
                              <a:pt x="16" y="2"/>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91"/>
                      <p:cNvSpPr/>
                      <p:nvPr/>
                    </p:nvSpPr>
                    <p:spPr>
                      <a:xfrm>
                        <a:off x="5537160" y="3892320"/>
                        <a:ext cx="190440" cy="194760"/>
                      </a:xfrm>
                      <a:custGeom>
                        <a:avLst/>
                        <a:gdLst>
                          <a:gd name="textAreaLeft" fmla="*/ 0 w 190440"/>
                          <a:gd name="textAreaRight" fmla="*/ 190800 w 190440"/>
                          <a:gd name="textAreaTop" fmla="*/ 0 h 194760"/>
                          <a:gd name="textAreaBottom" fmla="*/ 195120 h 194760"/>
                        </a:gdLst>
                        <a:ahLst/>
                        <a:rect l="textAreaLeft" t="textAreaTop" r="textAreaRight" b="textAreaBottom"/>
                        <a:pathLst>
                          <a:path w="239" h="247">
                            <a:moveTo>
                              <a:pt x="239" y="0"/>
                            </a:moveTo>
                            <a:lnTo>
                              <a:pt x="197" y="18"/>
                            </a:lnTo>
                            <a:lnTo>
                              <a:pt x="163" y="24"/>
                            </a:lnTo>
                            <a:lnTo>
                              <a:pt x="129" y="34"/>
                            </a:lnTo>
                            <a:lnTo>
                              <a:pt x="99" y="46"/>
                            </a:lnTo>
                            <a:lnTo>
                              <a:pt x="69" y="60"/>
                            </a:lnTo>
                            <a:lnTo>
                              <a:pt x="45" y="80"/>
                            </a:lnTo>
                            <a:lnTo>
                              <a:pt x="29" y="100"/>
                            </a:lnTo>
                            <a:lnTo>
                              <a:pt x="17" y="118"/>
                            </a:lnTo>
                            <a:lnTo>
                              <a:pt x="7" y="136"/>
                            </a:lnTo>
                            <a:lnTo>
                              <a:pt x="0" y="156"/>
                            </a:lnTo>
                            <a:lnTo>
                              <a:pt x="11" y="142"/>
                            </a:lnTo>
                            <a:lnTo>
                              <a:pt x="11" y="166"/>
                            </a:lnTo>
                            <a:lnTo>
                              <a:pt x="11" y="201"/>
                            </a:lnTo>
                            <a:lnTo>
                              <a:pt x="17" y="221"/>
                            </a:lnTo>
                            <a:lnTo>
                              <a:pt x="29" y="247"/>
                            </a:lnTo>
                            <a:lnTo>
                              <a:pt x="41" y="203"/>
                            </a:lnTo>
                            <a:lnTo>
                              <a:pt x="53" y="162"/>
                            </a:lnTo>
                            <a:lnTo>
                              <a:pt x="69" y="124"/>
                            </a:lnTo>
                            <a:lnTo>
                              <a:pt x="89" y="90"/>
                            </a:lnTo>
                            <a:lnTo>
                              <a:pt x="113" y="68"/>
                            </a:lnTo>
                            <a:lnTo>
                              <a:pt x="135" y="50"/>
                            </a:lnTo>
                            <a:lnTo>
                              <a:pt x="165" y="36"/>
                            </a:lnTo>
                            <a:lnTo>
                              <a:pt x="239"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7" name="Freeform 92"/>
                  <p:cNvSpPr/>
                  <p:nvPr/>
                </p:nvSpPr>
                <p:spPr>
                  <a:xfrm>
                    <a:off x="5986440" y="4454280"/>
                    <a:ext cx="236520" cy="512280"/>
                  </a:xfrm>
                  <a:custGeom>
                    <a:avLst/>
                    <a:gdLst>
                      <a:gd name="textAreaLeft" fmla="*/ 0 w 236520"/>
                      <a:gd name="textAreaRight" fmla="*/ 236880 w 236520"/>
                      <a:gd name="textAreaTop" fmla="*/ 0 h 512280"/>
                      <a:gd name="textAreaBottom" fmla="*/ 512640 h 512280"/>
                    </a:gdLst>
                    <a:ahLst/>
                    <a:rect l="textAreaLeft" t="textAreaTop" r="textAreaRight" b="textAreaBottom"/>
                    <a:pathLst>
                      <a:path w="300" h="646">
                        <a:moveTo>
                          <a:pt x="300" y="0"/>
                        </a:moveTo>
                        <a:lnTo>
                          <a:pt x="66" y="419"/>
                        </a:lnTo>
                        <a:lnTo>
                          <a:pt x="0" y="646"/>
                        </a:lnTo>
                        <a:lnTo>
                          <a:pt x="102" y="395"/>
                        </a:lnTo>
                        <a:lnTo>
                          <a:pt x="30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93"/>
                  <p:cNvSpPr/>
                  <p:nvPr/>
                </p:nvSpPr>
                <p:spPr>
                  <a:xfrm>
                    <a:off x="5748120" y="4811400"/>
                    <a:ext cx="90720" cy="226800"/>
                  </a:xfrm>
                  <a:custGeom>
                    <a:avLst/>
                    <a:gdLst>
                      <a:gd name="textAreaLeft" fmla="*/ 0 w 90720"/>
                      <a:gd name="textAreaRight" fmla="*/ 91080 w 90720"/>
                      <a:gd name="textAreaTop" fmla="*/ 0 h 226800"/>
                      <a:gd name="textAreaBottom" fmla="*/ 227160 h 226800"/>
                    </a:gdLst>
                    <a:ahLst/>
                    <a:rect l="textAreaLeft" t="textAreaTop" r="textAreaRight" b="textAreaBottom"/>
                    <a:pathLst>
                      <a:path w="114" h="285">
                        <a:moveTo>
                          <a:pt x="60" y="0"/>
                        </a:moveTo>
                        <a:lnTo>
                          <a:pt x="62" y="219"/>
                        </a:lnTo>
                        <a:lnTo>
                          <a:pt x="114" y="285"/>
                        </a:lnTo>
                        <a:lnTo>
                          <a:pt x="38" y="227"/>
                        </a:lnTo>
                        <a:lnTo>
                          <a:pt x="0" y="261"/>
                        </a:lnTo>
                        <a:lnTo>
                          <a:pt x="24" y="179"/>
                        </a:lnTo>
                        <a:lnTo>
                          <a:pt x="36" y="46"/>
                        </a:lnTo>
                        <a:lnTo>
                          <a:pt x="6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Freeform 94"/>
                <p:cNvSpPr/>
                <p:nvPr/>
              </p:nvSpPr>
              <p:spPr>
                <a:xfrm>
                  <a:off x="5648400" y="5132160"/>
                  <a:ext cx="137880" cy="242640"/>
                </a:xfrm>
                <a:custGeom>
                  <a:avLst/>
                  <a:gdLst>
                    <a:gd name="textAreaLeft" fmla="*/ 0 w 137880"/>
                    <a:gd name="textAreaRight" fmla="*/ 138240 w 137880"/>
                    <a:gd name="textAreaTop" fmla="*/ 0 h 242640"/>
                    <a:gd name="textAreaBottom" fmla="*/ 243000 h 242640"/>
                  </a:gdLst>
                  <a:ahLst/>
                  <a:rect l="textAreaLeft" t="textAreaTop" r="textAreaRight" b="textAreaBottom"/>
                  <a:pathLst>
                    <a:path w="174" h="307">
                      <a:moveTo>
                        <a:pt x="104" y="0"/>
                      </a:moveTo>
                      <a:lnTo>
                        <a:pt x="170" y="158"/>
                      </a:lnTo>
                      <a:lnTo>
                        <a:pt x="174" y="307"/>
                      </a:lnTo>
                      <a:lnTo>
                        <a:pt x="144" y="140"/>
                      </a:lnTo>
                      <a:lnTo>
                        <a:pt x="102" y="68"/>
                      </a:lnTo>
                      <a:lnTo>
                        <a:pt x="0" y="130"/>
                      </a:lnTo>
                      <a:lnTo>
                        <a:pt x="62" y="76"/>
                      </a:lnTo>
                      <a:lnTo>
                        <a:pt x="104"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Freeform 95"/>
              <p:cNvSpPr/>
              <p:nvPr/>
            </p:nvSpPr>
            <p:spPr>
              <a:xfrm>
                <a:off x="4933800" y="5524200"/>
                <a:ext cx="98640" cy="160200"/>
              </a:xfrm>
              <a:custGeom>
                <a:avLst/>
                <a:gdLst>
                  <a:gd name="textAreaLeft" fmla="*/ 0 w 98640"/>
                  <a:gd name="textAreaRight" fmla="*/ 99000 w 98640"/>
                  <a:gd name="textAreaTop" fmla="*/ 0 h 160200"/>
                  <a:gd name="textAreaBottom" fmla="*/ 160200 h 160200"/>
                </a:gdLst>
                <a:ahLst/>
                <a:rect l="textAreaLeft" t="textAreaTop" r="textAreaRight" b="textAreaBottom"/>
                <a:pathLst>
                  <a:path w="124" h="204">
                    <a:moveTo>
                      <a:pt x="88" y="0"/>
                    </a:moveTo>
                    <a:lnTo>
                      <a:pt x="4" y="166"/>
                    </a:lnTo>
                    <a:lnTo>
                      <a:pt x="0" y="204"/>
                    </a:lnTo>
                    <a:lnTo>
                      <a:pt x="30" y="178"/>
                    </a:lnTo>
                    <a:lnTo>
                      <a:pt x="124" y="10"/>
                    </a:lnTo>
                    <a:lnTo>
                      <a:pt x="110" y="8"/>
                    </a:lnTo>
                    <a:lnTo>
                      <a:pt x="96" y="4"/>
                    </a:lnTo>
                    <a:lnTo>
                      <a:pt x="88"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 name="Group 96"/>
              <p:cNvGrpSpPr/>
              <p:nvPr/>
            </p:nvGrpSpPr>
            <p:grpSpPr>
              <a:xfrm>
                <a:off x="4927680" y="5356080"/>
                <a:ext cx="368280" cy="315000"/>
                <a:chOff x="4927680" y="5356080"/>
                <a:chExt cx="368280" cy="315000"/>
              </a:xfrm>
            </p:grpSpPr>
            <p:grpSp>
              <p:nvGrpSpPr>
                <p:cNvPr id="472" name="Group 97"/>
                <p:cNvGrpSpPr/>
                <p:nvPr/>
              </p:nvGrpSpPr>
              <p:grpSpPr>
                <a:xfrm>
                  <a:off x="4927680" y="5356080"/>
                  <a:ext cx="347400" cy="315000"/>
                  <a:chOff x="4927680" y="5356080"/>
                  <a:chExt cx="347400" cy="315000"/>
                </a:xfrm>
              </p:grpSpPr>
              <p:sp>
                <p:nvSpPr>
                  <p:cNvPr id="473" name="Freeform 98"/>
                  <p:cNvSpPr/>
                  <p:nvPr/>
                </p:nvSpPr>
                <p:spPr>
                  <a:xfrm>
                    <a:off x="4927680" y="5390640"/>
                    <a:ext cx="347400" cy="280440"/>
                  </a:xfrm>
                  <a:custGeom>
                    <a:avLst/>
                    <a:gdLst>
                      <a:gd name="textAreaLeft" fmla="*/ 0 w 347400"/>
                      <a:gd name="textAreaRight" fmla="*/ 347760 w 347400"/>
                      <a:gd name="textAreaTop" fmla="*/ 0 h 280440"/>
                      <a:gd name="textAreaBottom" fmla="*/ 280800 h 280440"/>
                    </a:gdLst>
                    <a:ahLst/>
                    <a:rect l="textAreaLeft" t="textAreaTop" r="textAreaRight" b="textAreaBottom"/>
                    <a:pathLst>
                      <a:path w="437" h="355">
                        <a:moveTo>
                          <a:pt x="323" y="48"/>
                        </a:moveTo>
                        <a:lnTo>
                          <a:pt x="297" y="54"/>
                        </a:lnTo>
                        <a:lnTo>
                          <a:pt x="275" y="42"/>
                        </a:lnTo>
                        <a:lnTo>
                          <a:pt x="248" y="28"/>
                        </a:lnTo>
                        <a:lnTo>
                          <a:pt x="220" y="18"/>
                        </a:lnTo>
                        <a:lnTo>
                          <a:pt x="176" y="6"/>
                        </a:lnTo>
                        <a:lnTo>
                          <a:pt x="152" y="0"/>
                        </a:lnTo>
                        <a:lnTo>
                          <a:pt x="68" y="20"/>
                        </a:lnTo>
                        <a:lnTo>
                          <a:pt x="54" y="28"/>
                        </a:lnTo>
                        <a:lnTo>
                          <a:pt x="42" y="36"/>
                        </a:lnTo>
                        <a:lnTo>
                          <a:pt x="32" y="52"/>
                        </a:lnTo>
                        <a:lnTo>
                          <a:pt x="24" y="74"/>
                        </a:lnTo>
                        <a:lnTo>
                          <a:pt x="16" y="108"/>
                        </a:lnTo>
                        <a:lnTo>
                          <a:pt x="8" y="151"/>
                        </a:lnTo>
                        <a:lnTo>
                          <a:pt x="6" y="191"/>
                        </a:lnTo>
                        <a:lnTo>
                          <a:pt x="0" y="219"/>
                        </a:lnTo>
                        <a:lnTo>
                          <a:pt x="0" y="237"/>
                        </a:lnTo>
                        <a:lnTo>
                          <a:pt x="6" y="251"/>
                        </a:lnTo>
                        <a:lnTo>
                          <a:pt x="8" y="263"/>
                        </a:lnTo>
                        <a:lnTo>
                          <a:pt x="18" y="279"/>
                        </a:lnTo>
                        <a:lnTo>
                          <a:pt x="56" y="319"/>
                        </a:lnTo>
                        <a:lnTo>
                          <a:pt x="74" y="329"/>
                        </a:lnTo>
                        <a:lnTo>
                          <a:pt x="106" y="345"/>
                        </a:lnTo>
                        <a:lnTo>
                          <a:pt x="126" y="355"/>
                        </a:lnTo>
                        <a:lnTo>
                          <a:pt x="142" y="347"/>
                        </a:lnTo>
                        <a:lnTo>
                          <a:pt x="146" y="335"/>
                        </a:lnTo>
                        <a:lnTo>
                          <a:pt x="164" y="335"/>
                        </a:lnTo>
                        <a:lnTo>
                          <a:pt x="182" y="335"/>
                        </a:lnTo>
                        <a:lnTo>
                          <a:pt x="206" y="341"/>
                        </a:lnTo>
                        <a:lnTo>
                          <a:pt x="220" y="343"/>
                        </a:lnTo>
                        <a:lnTo>
                          <a:pt x="226" y="329"/>
                        </a:lnTo>
                        <a:lnTo>
                          <a:pt x="230" y="319"/>
                        </a:lnTo>
                        <a:lnTo>
                          <a:pt x="244" y="323"/>
                        </a:lnTo>
                        <a:lnTo>
                          <a:pt x="259" y="323"/>
                        </a:lnTo>
                        <a:lnTo>
                          <a:pt x="265" y="313"/>
                        </a:lnTo>
                        <a:lnTo>
                          <a:pt x="271" y="301"/>
                        </a:lnTo>
                        <a:lnTo>
                          <a:pt x="275" y="285"/>
                        </a:lnTo>
                        <a:lnTo>
                          <a:pt x="301" y="287"/>
                        </a:lnTo>
                        <a:lnTo>
                          <a:pt x="325" y="287"/>
                        </a:lnTo>
                        <a:lnTo>
                          <a:pt x="341" y="281"/>
                        </a:lnTo>
                        <a:lnTo>
                          <a:pt x="357" y="273"/>
                        </a:lnTo>
                        <a:lnTo>
                          <a:pt x="369" y="261"/>
                        </a:lnTo>
                        <a:lnTo>
                          <a:pt x="383" y="245"/>
                        </a:lnTo>
                        <a:lnTo>
                          <a:pt x="427" y="235"/>
                        </a:lnTo>
                        <a:lnTo>
                          <a:pt x="435" y="181"/>
                        </a:lnTo>
                        <a:lnTo>
                          <a:pt x="437" y="145"/>
                        </a:lnTo>
                        <a:lnTo>
                          <a:pt x="425" y="104"/>
                        </a:lnTo>
                        <a:lnTo>
                          <a:pt x="411" y="80"/>
                        </a:lnTo>
                        <a:lnTo>
                          <a:pt x="395" y="66"/>
                        </a:lnTo>
                        <a:lnTo>
                          <a:pt x="371" y="52"/>
                        </a:lnTo>
                        <a:lnTo>
                          <a:pt x="341" y="42"/>
                        </a:lnTo>
                        <a:lnTo>
                          <a:pt x="323" y="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99"/>
                  <p:cNvSpPr/>
                  <p:nvPr/>
                </p:nvSpPr>
                <p:spPr>
                  <a:xfrm>
                    <a:off x="4954320" y="5447880"/>
                    <a:ext cx="236880" cy="202680"/>
                  </a:xfrm>
                  <a:custGeom>
                    <a:avLst/>
                    <a:gdLst>
                      <a:gd name="textAreaLeft" fmla="*/ 0 w 236880"/>
                      <a:gd name="textAreaRight" fmla="*/ 237240 w 236880"/>
                      <a:gd name="textAreaTop" fmla="*/ 0 h 202680"/>
                      <a:gd name="textAreaBottom" fmla="*/ 203040 h 202680"/>
                    </a:gdLst>
                    <a:ahLst/>
                    <a:rect l="textAreaLeft" t="textAreaTop" r="textAreaRight" b="textAreaBottom"/>
                    <a:pathLst>
                      <a:path w="297" h="257">
                        <a:moveTo>
                          <a:pt x="297" y="85"/>
                        </a:moveTo>
                        <a:lnTo>
                          <a:pt x="273" y="101"/>
                        </a:lnTo>
                        <a:lnTo>
                          <a:pt x="251" y="101"/>
                        </a:lnTo>
                        <a:lnTo>
                          <a:pt x="231" y="95"/>
                        </a:lnTo>
                        <a:lnTo>
                          <a:pt x="219" y="87"/>
                        </a:lnTo>
                        <a:lnTo>
                          <a:pt x="208" y="79"/>
                        </a:lnTo>
                        <a:lnTo>
                          <a:pt x="196" y="79"/>
                        </a:lnTo>
                        <a:lnTo>
                          <a:pt x="180" y="89"/>
                        </a:lnTo>
                        <a:lnTo>
                          <a:pt x="156" y="97"/>
                        </a:lnTo>
                        <a:lnTo>
                          <a:pt x="132" y="103"/>
                        </a:lnTo>
                        <a:lnTo>
                          <a:pt x="116" y="105"/>
                        </a:lnTo>
                        <a:lnTo>
                          <a:pt x="96" y="105"/>
                        </a:lnTo>
                        <a:lnTo>
                          <a:pt x="76" y="101"/>
                        </a:lnTo>
                        <a:lnTo>
                          <a:pt x="64" y="95"/>
                        </a:lnTo>
                        <a:lnTo>
                          <a:pt x="58" y="87"/>
                        </a:lnTo>
                        <a:lnTo>
                          <a:pt x="54" y="71"/>
                        </a:lnTo>
                        <a:lnTo>
                          <a:pt x="54" y="59"/>
                        </a:lnTo>
                        <a:lnTo>
                          <a:pt x="60" y="49"/>
                        </a:lnTo>
                        <a:lnTo>
                          <a:pt x="72" y="43"/>
                        </a:lnTo>
                        <a:lnTo>
                          <a:pt x="92" y="40"/>
                        </a:lnTo>
                        <a:lnTo>
                          <a:pt x="116" y="36"/>
                        </a:lnTo>
                        <a:lnTo>
                          <a:pt x="134" y="36"/>
                        </a:lnTo>
                        <a:lnTo>
                          <a:pt x="154" y="24"/>
                        </a:lnTo>
                        <a:lnTo>
                          <a:pt x="174" y="12"/>
                        </a:lnTo>
                        <a:lnTo>
                          <a:pt x="146" y="12"/>
                        </a:lnTo>
                        <a:lnTo>
                          <a:pt x="128" y="2"/>
                        </a:lnTo>
                        <a:lnTo>
                          <a:pt x="106" y="0"/>
                        </a:lnTo>
                        <a:lnTo>
                          <a:pt x="90" y="6"/>
                        </a:lnTo>
                        <a:lnTo>
                          <a:pt x="70" y="18"/>
                        </a:lnTo>
                        <a:lnTo>
                          <a:pt x="62" y="24"/>
                        </a:lnTo>
                        <a:lnTo>
                          <a:pt x="34" y="4"/>
                        </a:lnTo>
                        <a:lnTo>
                          <a:pt x="46" y="18"/>
                        </a:lnTo>
                        <a:lnTo>
                          <a:pt x="50" y="30"/>
                        </a:lnTo>
                        <a:lnTo>
                          <a:pt x="36" y="32"/>
                        </a:lnTo>
                        <a:lnTo>
                          <a:pt x="50" y="36"/>
                        </a:lnTo>
                        <a:lnTo>
                          <a:pt x="38" y="95"/>
                        </a:lnTo>
                        <a:lnTo>
                          <a:pt x="30" y="107"/>
                        </a:lnTo>
                        <a:lnTo>
                          <a:pt x="22" y="115"/>
                        </a:lnTo>
                        <a:lnTo>
                          <a:pt x="0" y="119"/>
                        </a:lnTo>
                        <a:lnTo>
                          <a:pt x="16" y="125"/>
                        </a:lnTo>
                        <a:lnTo>
                          <a:pt x="22" y="141"/>
                        </a:lnTo>
                        <a:lnTo>
                          <a:pt x="10" y="173"/>
                        </a:lnTo>
                        <a:lnTo>
                          <a:pt x="6" y="195"/>
                        </a:lnTo>
                        <a:lnTo>
                          <a:pt x="40" y="159"/>
                        </a:lnTo>
                        <a:lnTo>
                          <a:pt x="58" y="169"/>
                        </a:lnTo>
                        <a:lnTo>
                          <a:pt x="64" y="189"/>
                        </a:lnTo>
                        <a:lnTo>
                          <a:pt x="38" y="203"/>
                        </a:lnTo>
                        <a:lnTo>
                          <a:pt x="68" y="201"/>
                        </a:lnTo>
                        <a:lnTo>
                          <a:pt x="82" y="201"/>
                        </a:lnTo>
                        <a:lnTo>
                          <a:pt x="90" y="209"/>
                        </a:lnTo>
                        <a:lnTo>
                          <a:pt x="100" y="225"/>
                        </a:lnTo>
                        <a:lnTo>
                          <a:pt x="108" y="243"/>
                        </a:lnTo>
                        <a:lnTo>
                          <a:pt x="118" y="257"/>
                        </a:lnTo>
                        <a:lnTo>
                          <a:pt x="118" y="233"/>
                        </a:lnTo>
                        <a:lnTo>
                          <a:pt x="108" y="215"/>
                        </a:lnTo>
                        <a:lnTo>
                          <a:pt x="98" y="201"/>
                        </a:lnTo>
                        <a:lnTo>
                          <a:pt x="106" y="191"/>
                        </a:lnTo>
                        <a:lnTo>
                          <a:pt x="120" y="187"/>
                        </a:lnTo>
                        <a:lnTo>
                          <a:pt x="134" y="189"/>
                        </a:lnTo>
                        <a:lnTo>
                          <a:pt x="156" y="191"/>
                        </a:lnTo>
                        <a:lnTo>
                          <a:pt x="174" y="179"/>
                        </a:lnTo>
                        <a:lnTo>
                          <a:pt x="196" y="173"/>
                        </a:lnTo>
                        <a:lnTo>
                          <a:pt x="214" y="169"/>
                        </a:lnTo>
                        <a:lnTo>
                          <a:pt x="223" y="167"/>
                        </a:lnTo>
                        <a:lnTo>
                          <a:pt x="229" y="161"/>
                        </a:lnTo>
                        <a:lnTo>
                          <a:pt x="245" y="173"/>
                        </a:lnTo>
                        <a:lnTo>
                          <a:pt x="239" y="153"/>
                        </a:lnTo>
                        <a:lnTo>
                          <a:pt x="279" y="179"/>
                        </a:lnTo>
                        <a:lnTo>
                          <a:pt x="273" y="161"/>
                        </a:lnTo>
                        <a:lnTo>
                          <a:pt x="241" y="139"/>
                        </a:lnTo>
                        <a:lnTo>
                          <a:pt x="247" y="123"/>
                        </a:lnTo>
                        <a:lnTo>
                          <a:pt x="259" y="107"/>
                        </a:lnTo>
                        <a:lnTo>
                          <a:pt x="277" y="105"/>
                        </a:lnTo>
                        <a:lnTo>
                          <a:pt x="297" y="85"/>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00"/>
                  <p:cNvSpPr/>
                  <p:nvPr/>
                </p:nvSpPr>
                <p:spPr>
                  <a:xfrm>
                    <a:off x="5029200" y="5356080"/>
                    <a:ext cx="83880" cy="121680"/>
                  </a:xfrm>
                  <a:custGeom>
                    <a:avLst/>
                    <a:gdLst>
                      <a:gd name="textAreaLeft" fmla="*/ 0 w 83880"/>
                      <a:gd name="textAreaRight" fmla="*/ 84240 w 83880"/>
                      <a:gd name="textAreaTop" fmla="*/ 0 h 121680"/>
                      <a:gd name="textAreaBottom" fmla="*/ 122040 h 121680"/>
                    </a:gdLst>
                    <a:ahLst/>
                    <a:rect l="textAreaLeft" t="textAreaTop" r="textAreaRight" b="textAreaBottom"/>
                    <a:pathLst>
                      <a:path w="106" h="154">
                        <a:moveTo>
                          <a:pt x="92" y="0"/>
                        </a:moveTo>
                        <a:lnTo>
                          <a:pt x="72" y="6"/>
                        </a:lnTo>
                        <a:lnTo>
                          <a:pt x="68" y="18"/>
                        </a:lnTo>
                        <a:lnTo>
                          <a:pt x="0" y="154"/>
                        </a:lnTo>
                        <a:lnTo>
                          <a:pt x="36" y="150"/>
                        </a:lnTo>
                        <a:lnTo>
                          <a:pt x="104" y="28"/>
                        </a:lnTo>
                        <a:lnTo>
                          <a:pt x="106" y="8"/>
                        </a:lnTo>
                        <a:lnTo>
                          <a:pt x="9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01"/>
                  <p:cNvSpPr/>
                  <p:nvPr/>
                </p:nvSpPr>
                <p:spPr>
                  <a:xfrm>
                    <a:off x="5194080" y="5458680"/>
                    <a:ext cx="58680" cy="112680"/>
                  </a:xfrm>
                  <a:custGeom>
                    <a:avLst/>
                    <a:gdLst>
                      <a:gd name="textAreaLeft" fmla="*/ 0 w 58680"/>
                      <a:gd name="textAreaRight" fmla="*/ 59040 w 58680"/>
                      <a:gd name="textAreaTop" fmla="*/ 0 h 112680"/>
                      <a:gd name="textAreaBottom" fmla="*/ 113040 h 112680"/>
                    </a:gdLst>
                    <a:ahLst/>
                    <a:rect l="textAreaLeft" t="textAreaTop" r="textAreaRight" b="textAreaBottom"/>
                    <a:pathLst>
                      <a:path w="74" h="141">
                        <a:moveTo>
                          <a:pt x="0" y="0"/>
                        </a:moveTo>
                        <a:lnTo>
                          <a:pt x="14" y="20"/>
                        </a:lnTo>
                        <a:lnTo>
                          <a:pt x="22" y="37"/>
                        </a:lnTo>
                        <a:lnTo>
                          <a:pt x="28" y="59"/>
                        </a:lnTo>
                        <a:lnTo>
                          <a:pt x="30" y="81"/>
                        </a:lnTo>
                        <a:lnTo>
                          <a:pt x="28" y="105"/>
                        </a:lnTo>
                        <a:lnTo>
                          <a:pt x="20" y="141"/>
                        </a:lnTo>
                        <a:lnTo>
                          <a:pt x="46" y="75"/>
                        </a:lnTo>
                        <a:lnTo>
                          <a:pt x="62" y="55"/>
                        </a:lnTo>
                        <a:lnTo>
                          <a:pt x="74" y="37"/>
                        </a:lnTo>
                        <a:lnTo>
                          <a:pt x="54" y="29"/>
                        </a:lnTo>
                        <a:lnTo>
                          <a:pt x="34" y="16"/>
                        </a:lnTo>
                        <a:lnTo>
                          <a:pt x="20" y="4"/>
                        </a:lnTo>
                        <a:lnTo>
                          <a:pt x="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02"/>
                  <p:cNvSpPr/>
                  <p:nvPr/>
                </p:nvSpPr>
                <p:spPr>
                  <a:xfrm>
                    <a:off x="5060880" y="5366880"/>
                    <a:ext cx="49320" cy="113760"/>
                  </a:xfrm>
                  <a:custGeom>
                    <a:avLst/>
                    <a:gdLst>
                      <a:gd name="textAreaLeft" fmla="*/ 0 w 49320"/>
                      <a:gd name="textAreaRight" fmla="*/ 49680 w 49320"/>
                      <a:gd name="textAreaTop" fmla="*/ 0 h 113760"/>
                      <a:gd name="textAreaBottom" fmla="*/ 114120 h 113760"/>
                    </a:gdLst>
                    <a:ahLst/>
                    <a:rect l="textAreaLeft" t="textAreaTop" r="textAreaRight" b="textAreaBottom"/>
                    <a:pathLst>
                      <a:path w="62" h="144">
                        <a:moveTo>
                          <a:pt x="60" y="12"/>
                        </a:moveTo>
                        <a:lnTo>
                          <a:pt x="62" y="18"/>
                        </a:lnTo>
                        <a:lnTo>
                          <a:pt x="6" y="144"/>
                        </a:lnTo>
                        <a:lnTo>
                          <a:pt x="0" y="130"/>
                        </a:lnTo>
                        <a:lnTo>
                          <a:pt x="4" y="118"/>
                        </a:lnTo>
                        <a:lnTo>
                          <a:pt x="10" y="108"/>
                        </a:lnTo>
                        <a:lnTo>
                          <a:pt x="20" y="104"/>
                        </a:lnTo>
                        <a:lnTo>
                          <a:pt x="58" y="18"/>
                        </a:lnTo>
                        <a:lnTo>
                          <a:pt x="30" y="4"/>
                        </a:lnTo>
                        <a:lnTo>
                          <a:pt x="30" y="0"/>
                        </a:lnTo>
                        <a:lnTo>
                          <a:pt x="60" y="1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Freeform 103"/>
                <p:cNvSpPr/>
                <p:nvPr/>
              </p:nvSpPr>
              <p:spPr>
                <a:xfrm>
                  <a:off x="5162400" y="5417640"/>
                  <a:ext cx="133560" cy="175680"/>
                </a:xfrm>
                <a:custGeom>
                  <a:avLst/>
                  <a:gdLst>
                    <a:gd name="textAreaLeft" fmla="*/ 0 w 133560"/>
                    <a:gd name="textAreaRight" fmla="*/ 133920 w 133560"/>
                    <a:gd name="textAreaTop" fmla="*/ 0 h 175680"/>
                    <a:gd name="textAreaBottom" fmla="*/ 176040 h 175680"/>
                  </a:gdLst>
                  <a:ahLst/>
                  <a:rect l="textAreaLeft" t="textAreaTop" r="textAreaRight" b="textAreaBottom"/>
                  <a:pathLst>
                    <a:path w="168" h="223">
                      <a:moveTo>
                        <a:pt x="0" y="12"/>
                      </a:moveTo>
                      <a:lnTo>
                        <a:pt x="30" y="24"/>
                      </a:lnTo>
                      <a:lnTo>
                        <a:pt x="62" y="44"/>
                      </a:lnTo>
                      <a:lnTo>
                        <a:pt x="78" y="58"/>
                      </a:lnTo>
                      <a:lnTo>
                        <a:pt x="92" y="80"/>
                      </a:lnTo>
                      <a:lnTo>
                        <a:pt x="104" y="97"/>
                      </a:lnTo>
                      <a:lnTo>
                        <a:pt x="112" y="123"/>
                      </a:lnTo>
                      <a:lnTo>
                        <a:pt x="118" y="161"/>
                      </a:lnTo>
                      <a:lnTo>
                        <a:pt x="116" y="197"/>
                      </a:lnTo>
                      <a:lnTo>
                        <a:pt x="108" y="223"/>
                      </a:lnTo>
                      <a:lnTo>
                        <a:pt x="160" y="219"/>
                      </a:lnTo>
                      <a:lnTo>
                        <a:pt x="168" y="177"/>
                      </a:lnTo>
                      <a:lnTo>
                        <a:pt x="168" y="145"/>
                      </a:lnTo>
                      <a:lnTo>
                        <a:pt x="164" y="109"/>
                      </a:lnTo>
                      <a:lnTo>
                        <a:pt x="154" y="81"/>
                      </a:lnTo>
                      <a:lnTo>
                        <a:pt x="134" y="48"/>
                      </a:lnTo>
                      <a:lnTo>
                        <a:pt x="116" y="32"/>
                      </a:lnTo>
                      <a:lnTo>
                        <a:pt x="86" y="14"/>
                      </a:lnTo>
                      <a:lnTo>
                        <a:pt x="52" y="0"/>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9" name="Group 104"/>
            <p:cNvGrpSpPr/>
            <p:nvPr/>
          </p:nvGrpSpPr>
          <p:grpSpPr>
            <a:xfrm>
              <a:off x="2087640" y="3922560"/>
              <a:ext cx="1725480" cy="2018160"/>
              <a:chOff x="2087640" y="3922560"/>
              <a:chExt cx="1725480" cy="2018160"/>
            </a:xfrm>
          </p:grpSpPr>
          <p:grpSp>
            <p:nvGrpSpPr>
              <p:cNvPr id="480" name="Group 105"/>
              <p:cNvGrpSpPr/>
              <p:nvPr/>
            </p:nvGrpSpPr>
            <p:grpSpPr>
              <a:xfrm>
                <a:off x="2646360" y="4966560"/>
                <a:ext cx="352440" cy="699480"/>
                <a:chOff x="2646360" y="4966560"/>
                <a:chExt cx="352440" cy="699480"/>
              </a:xfrm>
            </p:grpSpPr>
            <p:sp>
              <p:nvSpPr>
                <p:cNvPr id="481" name="Freeform 106"/>
                <p:cNvSpPr/>
                <p:nvPr/>
              </p:nvSpPr>
              <p:spPr>
                <a:xfrm>
                  <a:off x="2646360" y="4966560"/>
                  <a:ext cx="352440" cy="690480"/>
                </a:xfrm>
                <a:custGeom>
                  <a:avLst/>
                  <a:gdLst>
                    <a:gd name="textAreaLeft" fmla="*/ 0 w 352440"/>
                    <a:gd name="textAreaRight" fmla="*/ 352800 w 352440"/>
                    <a:gd name="textAreaTop" fmla="*/ 0 h 690480"/>
                    <a:gd name="textAreaBottom" fmla="*/ 690840 h 690480"/>
                  </a:gdLst>
                  <a:ahLst/>
                  <a:rect l="textAreaLeft" t="textAreaTop" r="textAreaRight" b="textAreaBottom"/>
                  <a:pathLst>
                    <a:path w="446" h="871">
                      <a:moveTo>
                        <a:pt x="0" y="0"/>
                      </a:moveTo>
                      <a:lnTo>
                        <a:pt x="44" y="24"/>
                      </a:lnTo>
                      <a:lnTo>
                        <a:pt x="92" y="40"/>
                      </a:lnTo>
                      <a:lnTo>
                        <a:pt x="150" y="52"/>
                      </a:lnTo>
                      <a:lnTo>
                        <a:pt x="212" y="64"/>
                      </a:lnTo>
                      <a:lnTo>
                        <a:pt x="254" y="60"/>
                      </a:lnTo>
                      <a:lnTo>
                        <a:pt x="302" y="48"/>
                      </a:lnTo>
                      <a:lnTo>
                        <a:pt x="342" y="34"/>
                      </a:lnTo>
                      <a:lnTo>
                        <a:pt x="386" y="6"/>
                      </a:lnTo>
                      <a:lnTo>
                        <a:pt x="432" y="213"/>
                      </a:lnTo>
                      <a:lnTo>
                        <a:pt x="440" y="345"/>
                      </a:lnTo>
                      <a:lnTo>
                        <a:pt x="446" y="404"/>
                      </a:lnTo>
                      <a:lnTo>
                        <a:pt x="446" y="518"/>
                      </a:lnTo>
                      <a:lnTo>
                        <a:pt x="440" y="614"/>
                      </a:lnTo>
                      <a:lnTo>
                        <a:pt x="426" y="729"/>
                      </a:lnTo>
                      <a:lnTo>
                        <a:pt x="404" y="835"/>
                      </a:lnTo>
                      <a:lnTo>
                        <a:pt x="110" y="871"/>
                      </a:lnTo>
                      <a:lnTo>
                        <a:pt x="68" y="490"/>
                      </a:lnTo>
                      <a:lnTo>
                        <a:pt x="36" y="23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07"/>
                <p:cNvSpPr/>
                <p:nvPr/>
              </p:nvSpPr>
              <p:spPr>
                <a:xfrm>
                  <a:off x="2695320" y="5142600"/>
                  <a:ext cx="301680" cy="523440"/>
                </a:xfrm>
                <a:custGeom>
                  <a:avLst/>
                  <a:gdLst>
                    <a:gd name="textAreaLeft" fmla="*/ 0 w 301680"/>
                    <a:gd name="textAreaRight" fmla="*/ 301680 w 301680"/>
                    <a:gd name="textAreaTop" fmla="*/ 0 h 523440"/>
                    <a:gd name="textAreaBottom" fmla="*/ 523800 h 523440"/>
                  </a:gdLst>
                  <a:ahLst/>
                  <a:rect l="textAreaLeft" t="textAreaTop" r="textAreaRight" b="textAreaBottom"/>
                  <a:pathLst>
                    <a:path w="382" h="662">
                      <a:moveTo>
                        <a:pt x="0" y="46"/>
                      </a:moveTo>
                      <a:lnTo>
                        <a:pt x="160" y="46"/>
                      </a:lnTo>
                      <a:lnTo>
                        <a:pt x="240" y="40"/>
                      </a:lnTo>
                      <a:lnTo>
                        <a:pt x="322" y="24"/>
                      </a:lnTo>
                      <a:lnTo>
                        <a:pt x="376" y="0"/>
                      </a:lnTo>
                      <a:lnTo>
                        <a:pt x="382" y="556"/>
                      </a:lnTo>
                      <a:lnTo>
                        <a:pt x="108" y="662"/>
                      </a:lnTo>
                      <a:lnTo>
                        <a:pt x="0" y="46"/>
                      </a:lnTo>
                      <a:close/>
                    </a:path>
                  </a:pathLst>
                </a:custGeom>
                <a:solidFill>
                  <a:srgbClr val="ffb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108"/>
              <p:cNvGrpSpPr/>
              <p:nvPr/>
            </p:nvGrpSpPr>
            <p:grpSpPr>
              <a:xfrm>
                <a:off x="2857320" y="4789080"/>
                <a:ext cx="711360" cy="867960"/>
                <a:chOff x="2857320" y="4789080"/>
                <a:chExt cx="711360" cy="867960"/>
              </a:xfrm>
            </p:grpSpPr>
            <p:sp>
              <p:nvSpPr>
                <p:cNvPr id="484" name="Freeform 109"/>
                <p:cNvSpPr/>
                <p:nvPr/>
              </p:nvSpPr>
              <p:spPr>
                <a:xfrm>
                  <a:off x="2857320" y="4789080"/>
                  <a:ext cx="711360" cy="867960"/>
                </a:xfrm>
                <a:custGeom>
                  <a:avLst/>
                  <a:gdLst>
                    <a:gd name="textAreaLeft" fmla="*/ 0 w 711360"/>
                    <a:gd name="textAreaRight" fmla="*/ 711720 w 711360"/>
                    <a:gd name="textAreaTop" fmla="*/ 0 h 867960"/>
                    <a:gd name="textAreaBottom" fmla="*/ 868320 h 867960"/>
                  </a:gdLst>
                  <a:ahLst/>
                  <a:rect l="textAreaLeft" t="textAreaTop" r="textAreaRight" b="textAreaBottom"/>
                  <a:pathLst>
                    <a:path w="894" h="1094">
                      <a:moveTo>
                        <a:pt x="36" y="0"/>
                      </a:moveTo>
                      <a:lnTo>
                        <a:pt x="90" y="24"/>
                      </a:lnTo>
                      <a:lnTo>
                        <a:pt x="150" y="90"/>
                      </a:lnTo>
                      <a:lnTo>
                        <a:pt x="367" y="167"/>
                      </a:lnTo>
                      <a:lnTo>
                        <a:pt x="427" y="203"/>
                      </a:lnTo>
                      <a:lnTo>
                        <a:pt x="493" y="323"/>
                      </a:lnTo>
                      <a:lnTo>
                        <a:pt x="493" y="400"/>
                      </a:lnTo>
                      <a:lnTo>
                        <a:pt x="505" y="460"/>
                      </a:lnTo>
                      <a:lnTo>
                        <a:pt x="541" y="562"/>
                      </a:lnTo>
                      <a:lnTo>
                        <a:pt x="643" y="735"/>
                      </a:lnTo>
                      <a:lnTo>
                        <a:pt x="715" y="855"/>
                      </a:lnTo>
                      <a:lnTo>
                        <a:pt x="792" y="956"/>
                      </a:lnTo>
                      <a:lnTo>
                        <a:pt x="894" y="1076"/>
                      </a:lnTo>
                      <a:lnTo>
                        <a:pt x="48" y="1094"/>
                      </a:lnTo>
                      <a:lnTo>
                        <a:pt x="102" y="980"/>
                      </a:lnTo>
                      <a:lnTo>
                        <a:pt x="126" y="896"/>
                      </a:lnTo>
                      <a:lnTo>
                        <a:pt x="138" y="747"/>
                      </a:lnTo>
                      <a:lnTo>
                        <a:pt x="132" y="496"/>
                      </a:lnTo>
                      <a:lnTo>
                        <a:pt x="108" y="311"/>
                      </a:lnTo>
                      <a:lnTo>
                        <a:pt x="72" y="179"/>
                      </a:lnTo>
                      <a:lnTo>
                        <a:pt x="0" y="60"/>
                      </a:lnTo>
                      <a:lnTo>
                        <a:pt x="36"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10"/>
                <p:cNvSpPr/>
                <p:nvPr/>
              </p:nvSpPr>
              <p:spPr>
                <a:xfrm>
                  <a:off x="3036960" y="4898160"/>
                  <a:ext cx="152280" cy="455040"/>
                </a:xfrm>
                <a:custGeom>
                  <a:avLst/>
                  <a:gdLst>
                    <a:gd name="textAreaLeft" fmla="*/ 0 w 152280"/>
                    <a:gd name="textAreaRight" fmla="*/ 152640 w 152280"/>
                    <a:gd name="textAreaTop" fmla="*/ 0 h 455040"/>
                    <a:gd name="textAreaBottom" fmla="*/ 455400 h 455040"/>
                  </a:gdLst>
                  <a:ahLst/>
                  <a:rect l="textAreaLeft" t="textAreaTop" r="textAreaRight" b="textAreaBottom"/>
                  <a:pathLst>
                    <a:path w="191" h="574">
                      <a:moveTo>
                        <a:pt x="0" y="0"/>
                      </a:moveTo>
                      <a:lnTo>
                        <a:pt x="71" y="54"/>
                      </a:lnTo>
                      <a:lnTo>
                        <a:pt x="109" y="114"/>
                      </a:lnTo>
                      <a:lnTo>
                        <a:pt x="133" y="174"/>
                      </a:lnTo>
                      <a:lnTo>
                        <a:pt x="155" y="239"/>
                      </a:lnTo>
                      <a:lnTo>
                        <a:pt x="179" y="317"/>
                      </a:lnTo>
                      <a:lnTo>
                        <a:pt x="191" y="401"/>
                      </a:lnTo>
                      <a:lnTo>
                        <a:pt x="191" y="508"/>
                      </a:lnTo>
                      <a:lnTo>
                        <a:pt x="179" y="574"/>
                      </a:lnTo>
                      <a:lnTo>
                        <a:pt x="161" y="449"/>
                      </a:lnTo>
                      <a:lnTo>
                        <a:pt x="145" y="373"/>
                      </a:lnTo>
                      <a:lnTo>
                        <a:pt x="119" y="329"/>
                      </a:lnTo>
                      <a:lnTo>
                        <a:pt x="85" y="307"/>
                      </a:lnTo>
                      <a:lnTo>
                        <a:pt x="103" y="263"/>
                      </a:lnTo>
                      <a:lnTo>
                        <a:pt x="109" y="194"/>
                      </a:lnTo>
                      <a:lnTo>
                        <a:pt x="83" y="132"/>
                      </a:lnTo>
                      <a:lnTo>
                        <a:pt x="47" y="66"/>
                      </a:lnTo>
                      <a:lnTo>
                        <a:pt x="0"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Freeform 111"/>
              <p:cNvSpPr/>
              <p:nvPr/>
            </p:nvSpPr>
            <p:spPr>
              <a:xfrm>
                <a:off x="2795400" y="5538240"/>
                <a:ext cx="206640" cy="167760"/>
              </a:xfrm>
              <a:custGeom>
                <a:avLst/>
                <a:gdLst>
                  <a:gd name="textAreaLeft" fmla="*/ 0 w 206640"/>
                  <a:gd name="textAreaRight" fmla="*/ 207000 w 206640"/>
                  <a:gd name="textAreaTop" fmla="*/ 0 h 167760"/>
                  <a:gd name="textAreaBottom" fmla="*/ 168120 h 167760"/>
                </a:gdLst>
                <a:ahLst/>
                <a:rect l="textAreaLeft" t="textAreaTop" r="textAreaRight" b="textAreaBottom"/>
                <a:pathLst>
                  <a:path w="262" h="213">
                    <a:moveTo>
                      <a:pt x="222" y="36"/>
                    </a:moveTo>
                    <a:lnTo>
                      <a:pt x="180" y="0"/>
                    </a:lnTo>
                    <a:lnTo>
                      <a:pt x="118" y="16"/>
                    </a:lnTo>
                    <a:lnTo>
                      <a:pt x="66" y="36"/>
                    </a:lnTo>
                    <a:lnTo>
                      <a:pt x="12" y="58"/>
                    </a:lnTo>
                    <a:lnTo>
                      <a:pt x="0" y="78"/>
                    </a:lnTo>
                    <a:lnTo>
                      <a:pt x="30" y="106"/>
                    </a:lnTo>
                    <a:lnTo>
                      <a:pt x="40" y="142"/>
                    </a:lnTo>
                    <a:lnTo>
                      <a:pt x="64" y="168"/>
                    </a:lnTo>
                    <a:lnTo>
                      <a:pt x="88" y="184"/>
                    </a:lnTo>
                    <a:lnTo>
                      <a:pt x="124" y="195"/>
                    </a:lnTo>
                    <a:lnTo>
                      <a:pt x="150" y="213"/>
                    </a:lnTo>
                    <a:lnTo>
                      <a:pt x="192" y="213"/>
                    </a:lnTo>
                    <a:lnTo>
                      <a:pt x="214" y="213"/>
                    </a:lnTo>
                    <a:lnTo>
                      <a:pt x="228" y="195"/>
                    </a:lnTo>
                    <a:lnTo>
                      <a:pt x="226" y="166"/>
                    </a:lnTo>
                    <a:lnTo>
                      <a:pt x="262" y="168"/>
                    </a:lnTo>
                    <a:lnTo>
                      <a:pt x="222" y="154"/>
                    </a:lnTo>
                    <a:lnTo>
                      <a:pt x="214" y="118"/>
                    </a:lnTo>
                    <a:lnTo>
                      <a:pt x="216" y="94"/>
                    </a:lnTo>
                    <a:lnTo>
                      <a:pt x="214" y="76"/>
                    </a:lnTo>
                    <a:lnTo>
                      <a:pt x="222" y="36"/>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2"/>
              <p:cNvSpPr/>
              <p:nvPr/>
            </p:nvSpPr>
            <p:spPr>
              <a:xfrm>
                <a:off x="2504880" y="5782680"/>
                <a:ext cx="100080" cy="122040"/>
              </a:xfrm>
              <a:custGeom>
                <a:avLst/>
                <a:gdLst>
                  <a:gd name="textAreaLeft" fmla="*/ 0 w 100080"/>
                  <a:gd name="textAreaRight" fmla="*/ 100440 w 100080"/>
                  <a:gd name="textAreaTop" fmla="*/ 0 h 122040"/>
                  <a:gd name="textAreaBottom" fmla="*/ 122400 h 122040"/>
                </a:gdLst>
                <a:ahLst/>
                <a:rect l="textAreaLeft" t="textAreaTop" r="textAreaRight" b="textAreaBottom"/>
                <a:pathLst>
                  <a:path w="126" h="153">
                    <a:moveTo>
                      <a:pt x="126" y="0"/>
                    </a:moveTo>
                    <a:lnTo>
                      <a:pt x="30" y="153"/>
                    </a:lnTo>
                    <a:lnTo>
                      <a:pt x="0" y="44"/>
                    </a:lnTo>
                    <a:lnTo>
                      <a:pt x="12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Group 113"/>
              <p:cNvGrpSpPr/>
              <p:nvPr/>
            </p:nvGrpSpPr>
            <p:grpSpPr>
              <a:xfrm>
                <a:off x="2087640" y="4735080"/>
                <a:ext cx="718920" cy="1205640"/>
                <a:chOff x="2087640" y="4735080"/>
                <a:chExt cx="718920" cy="1205640"/>
              </a:xfrm>
            </p:grpSpPr>
            <p:sp>
              <p:nvSpPr>
                <p:cNvPr id="489" name="Freeform 114"/>
                <p:cNvSpPr/>
                <p:nvPr/>
              </p:nvSpPr>
              <p:spPr>
                <a:xfrm>
                  <a:off x="2087640" y="4735080"/>
                  <a:ext cx="718920" cy="1196640"/>
                </a:xfrm>
                <a:custGeom>
                  <a:avLst/>
                  <a:gdLst>
                    <a:gd name="textAreaLeft" fmla="*/ 0 w 718920"/>
                    <a:gd name="textAreaRight" fmla="*/ 718920 w 718920"/>
                    <a:gd name="textAreaTop" fmla="*/ 0 h 1196640"/>
                    <a:gd name="textAreaBottom" fmla="*/ 1197000 h 1196640"/>
                  </a:gdLst>
                  <a:ahLst/>
                  <a:rect l="textAreaLeft" t="textAreaTop" r="textAreaRight" b="textAreaBottom"/>
                  <a:pathLst>
                    <a:path w="904" h="1508">
                      <a:moveTo>
                        <a:pt x="700" y="18"/>
                      </a:moveTo>
                      <a:lnTo>
                        <a:pt x="575" y="0"/>
                      </a:lnTo>
                      <a:lnTo>
                        <a:pt x="485" y="6"/>
                      </a:lnTo>
                      <a:lnTo>
                        <a:pt x="383" y="18"/>
                      </a:lnTo>
                      <a:lnTo>
                        <a:pt x="329" y="30"/>
                      </a:lnTo>
                      <a:lnTo>
                        <a:pt x="299" y="66"/>
                      </a:lnTo>
                      <a:lnTo>
                        <a:pt x="263" y="60"/>
                      </a:lnTo>
                      <a:lnTo>
                        <a:pt x="209" y="102"/>
                      </a:lnTo>
                      <a:lnTo>
                        <a:pt x="167" y="150"/>
                      </a:lnTo>
                      <a:lnTo>
                        <a:pt x="138" y="197"/>
                      </a:lnTo>
                      <a:lnTo>
                        <a:pt x="102" y="257"/>
                      </a:lnTo>
                      <a:lnTo>
                        <a:pt x="84" y="323"/>
                      </a:lnTo>
                      <a:lnTo>
                        <a:pt x="66" y="436"/>
                      </a:lnTo>
                      <a:lnTo>
                        <a:pt x="54" y="514"/>
                      </a:lnTo>
                      <a:lnTo>
                        <a:pt x="54" y="640"/>
                      </a:lnTo>
                      <a:lnTo>
                        <a:pt x="78" y="723"/>
                      </a:lnTo>
                      <a:lnTo>
                        <a:pt x="72" y="783"/>
                      </a:lnTo>
                      <a:lnTo>
                        <a:pt x="54" y="939"/>
                      </a:lnTo>
                      <a:lnTo>
                        <a:pt x="36" y="1004"/>
                      </a:lnTo>
                      <a:lnTo>
                        <a:pt x="30" y="1076"/>
                      </a:lnTo>
                      <a:lnTo>
                        <a:pt x="12" y="1124"/>
                      </a:lnTo>
                      <a:lnTo>
                        <a:pt x="0" y="1178"/>
                      </a:lnTo>
                      <a:lnTo>
                        <a:pt x="6" y="1237"/>
                      </a:lnTo>
                      <a:lnTo>
                        <a:pt x="30" y="1291"/>
                      </a:lnTo>
                      <a:lnTo>
                        <a:pt x="78" y="1339"/>
                      </a:lnTo>
                      <a:lnTo>
                        <a:pt x="162" y="1417"/>
                      </a:lnTo>
                      <a:lnTo>
                        <a:pt x="209" y="1435"/>
                      </a:lnTo>
                      <a:lnTo>
                        <a:pt x="269" y="1453"/>
                      </a:lnTo>
                      <a:lnTo>
                        <a:pt x="317" y="1472"/>
                      </a:lnTo>
                      <a:lnTo>
                        <a:pt x="359" y="1496"/>
                      </a:lnTo>
                      <a:lnTo>
                        <a:pt x="557" y="1508"/>
                      </a:lnTo>
                      <a:lnTo>
                        <a:pt x="689" y="1333"/>
                      </a:lnTo>
                      <a:lnTo>
                        <a:pt x="736" y="1172"/>
                      </a:lnTo>
                      <a:lnTo>
                        <a:pt x="904" y="1172"/>
                      </a:lnTo>
                      <a:lnTo>
                        <a:pt x="892" y="939"/>
                      </a:lnTo>
                      <a:lnTo>
                        <a:pt x="862" y="676"/>
                      </a:lnTo>
                      <a:lnTo>
                        <a:pt x="808" y="347"/>
                      </a:lnTo>
                      <a:lnTo>
                        <a:pt x="778" y="197"/>
                      </a:lnTo>
                      <a:lnTo>
                        <a:pt x="700" y="18"/>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5"/>
                <p:cNvSpPr/>
                <p:nvPr/>
              </p:nvSpPr>
              <p:spPr>
                <a:xfrm>
                  <a:off x="2309760" y="5542560"/>
                  <a:ext cx="323640" cy="398160"/>
                </a:xfrm>
                <a:custGeom>
                  <a:avLst/>
                  <a:gdLst>
                    <a:gd name="textAreaLeft" fmla="*/ 0 w 323640"/>
                    <a:gd name="textAreaRight" fmla="*/ 324000 w 323640"/>
                    <a:gd name="textAreaTop" fmla="*/ 0 h 398160"/>
                    <a:gd name="textAreaBottom" fmla="*/ 398520 h 398160"/>
                  </a:gdLst>
                  <a:ahLst/>
                  <a:rect l="textAreaLeft" t="textAreaTop" r="textAreaRight" b="textAreaBottom"/>
                  <a:pathLst>
                    <a:path w="408" h="502">
                      <a:moveTo>
                        <a:pt x="384" y="24"/>
                      </a:moveTo>
                      <a:lnTo>
                        <a:pt x="238" y="12"/>
                      </a:lnTo>
                      <a:lnTo>
                        <a:pt x="84" y="0"/>
                      </a:lnTo>
                      <a:lnTo>
                        <a:pt x="58" y="36"/>
                      </a:lnTo>
                      <a:lnTo>
                        <a:pt x="46" y="64"/>
                      </a:lnTo>
                      <a:lnTo>
                        <a:pt x="28" y="100"/>
                      </a:lnTo>
                      <a:lnTo>
                        <a:pt x="12" y="154"/>
                      </a:lnTo>
                      <a:lnTo>
                        <a:pt x="4" y="201"/>
                      </a:lnTo>
                      <a:lnTo>
                        <a:pt x="0" y="245"/>
                      </a:lnTo>
                      <a:lnTo>
                        <a:pt x="6" y="299"/>
                      </a:lnTo>
                      <a:lnTo>
                        <a:pt x="24" y="369"/>
                      </a:lnTo>
                      <a:lnTo>
                        <a:pt x="42" y="425"/>
                      </a:lnTo>
                      <a:lnTo>
                        <a:pt x="46" y="474"/>
                      </a:lnTo>
                      <a:lnTo>
                        <a:pt x="292" y="502"/>
                      </a:lnTo>
                      <a:lnTo>
                        <a:pt x="396" y="327"/>
                      </a:lnTo>
                      <a:lnTo>
                        <a:pt x="408" y="281"/>
                      </a:lnTo>
                      <a:lnTo>
                        <a:pt x="384" y="24"/>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6"/>
                <p:cNvSpPr/>
                <p:nvPr/>
              </p:nvSpPr>
              <p:spPr>
                <a:xfrm>
                  <a:off x="2163600" y="4813920"/>
                  <a:ext cx="304920" cy="765000"/>
                </a:xfrm>
                <a:custGeom>
                  <a:avLst/>
                  <a:gdLst>
                    <a:gd name="textAreaLeft" fmla="*/ 0 w 304920"/>
                    <a:gd name="textAreaRight" fmla="*/ 305280 w 304920"/>
                    <a:gd name="textAreaTop" fmla="*/ 0 h 765000"/>
                    <a:gd name="textAreaBottom" fmla="*/ 765360 h 765000"/>
                  </a:gdLst>
                  <a:ahLst/>
                  <a:rect l="textAreaLeft" t="textAreaTop" r="textAreaRight" b="textAreaBottom"/>
                  <a:pathLst>
                    <a:path w="383" h="962">
                      <a:moveTo>
                        <a:pt x="239" y="0"/>
                      </a:moveTo>
                      <a:lnTo>
                        <a:pt x="311" y="119"/>
                      </a:lnTo>
                      <a:lnTo>
                        <a:pt x="353" y="245"/>
                      </a:lnTo>
                      <a:lnTo>
                        <a:pt x="377" y="394"/>
                      </a:lnTo>
                      <a:lnTo>
                        <a:pt x="383" y="562"/>
                      </a:lnTo>
                      <a:lnTo>
                        <a:pt x="377" y="759"/>
                      </a:lnTo>
                      <a:lnTo>
                        <a:pt x="359" y="842"/>
                      </a:lnTo>
                      <a:lnTo>
                        <a:pt x="263" y="914"/>
                      </a:lnTo>
                      <a:lnTo>
                        <a:pt x="215" y="884"/>
                      </a:lnTo>
                      <a:lnTo>
                        <a:pt x="167" y="872"/>
                      </a:lnTo>
                      <a:lnTo>
                        <a:pt x="125" y="884"/>
                      </a:lnTo>
                      <a:lnTo>
                        <a:pt x="95" y="926"/>
                      </a:lnTo>
                      <a:lnTo>
                        <a:pt x="42" y="950"/>
                      </a:lnTo>
                      <a:lnTo>
                        <a:pt x="0" y="962"/>
                      </a:lnTo>
                      <a:lnTo>
                        <a:pt x="66" y="902"/>
                      </a:lnTo>
                      <a:lnTo>
                        <a:pt x="107" y="884"/>
                      </a:lnTo>
                      <a:lnTo>
                        <a:pt x="137" y="854"/>
                      </a:lnTo>
                      <a:lnTo>
                        <a:pt x="173" y="854"/>
                      </a:lnTo>
                      <a:lnTo>
                        <a:pt x="215" y="813"/>
                      </a:lnTo>
                      <a:lnTo>
                        <a:pt x="173" y="765"/>
                      </a:lnTo>
                      <a:lnTo>
                        <a:pt x="233" y="777"/>
                      </a:lnTo>
                      <a:lnTo>
                        <a:pt x="191" y="639"/>
                      </a:lnTo>
                      <a:lnTo>
                        <a:pt x="155" y="526"/>
                      </a:lnTo>
                      <a:lnTo>
                        <a:pt x="143" y="446"/>
                      </a:lnTo>
                      <a:lnTo>
                        <a:pt x="161" y="328"/>
                      </a:lnTo>
                      <a:lnTo>
                        <a:pt x="191" y="460"/>
                      </a:lnTo>
                      <a:lnTo>
                        <a:pt x="251" y="609"/>
                      </a:lnTo>
                      <a:lnTo>
                        <a:pt x="323" y="771"/>
                      </a:lnTo>
                      <a:lnTo>
                        <a:pt x="323" y="550"/>
                      </a:lnTo>
                      <a:lnTo>
                        <a:pt x="311" y="400"/>
                      </a:lnTo>
                      <a:lnTo>
                        <a:pt x="293" y="179"/>
                      </a:lnTo>
                      <a:lnTo>
                        <a:pt x="239"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Freeform 117"/>
              <p:cNvSpPr/>
              <p:nvPr/>
            </p:nvSpPr>
            <p:spPr>
              <a:xfrm>
                <a:off x="2927160" y="5236560"/>
                <a:ext cx="885960" cy="483840"/>
              </a:xfrm>
              <a:custGeom>
                <a:avLst/>
                <a:gdLst>
                  <a:gd name="textAreaLeft" fmla="*/ 0 w 885960"/>
                  <a:gd name="textAreaRight" fmla="*/ 886320 w 885960"/>
                  <a:gd name="textAreaTop" fmla="*/ 0 h 483840"/>
                  <a:gd name="textAreaBottom" fmla="*/ 484200 h 483840"/>
                </a:gdLst>
                <a:ahLst/>
                <a:rect l="textAreaLeft" t="textAreaTop" r="textAreaRight" b="textAreaBottom"/>
                <a:pathLst>
                  <a:path w="1116" h="609">
                    <a:moveTo>
                      <a:pt x="0" y="496"/>
                    </a:moveTo>
                    <a:lnTo>
                      <a:pt x="431" y="0"/>
                    </a:lnTo>
                    <a:lnTo>
                      <a:pt x="1116" y="189"/>
                    </a:lnTo>
                    <a:lnTo>
                      <a:pt x="834" y="544"/>
                    </a:lnTo>
                    <a:lnTo>
                      <a:pt x="659" y="583"/>
                    </a:lnTo>
                    <a:lnTo>
                      <a:pt x="479" y="609"/>
                    </a:lnTo>
                    <a:lnTo>
                      <a:pt x="90" y="585"/>
                    </a:lnTo>
                    <a:lnTo>
                      <a:pt x="0" y="496"/>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8"/>
              <p:cNvSpPr/>
              <p:nvPr/>
            </p:nvSpPr>
            <p:spPr>
              <a:xfrm>
                <a:off x="2490840" y="5522400"/>
                <a:ext cx="757080" cy="317160"/>
              </a:xfrm>
              <a:custGeom>
                <a:avLst/>
                <a:gdLst>
                  <a:gd name="textAreaLeft" fmla="*/ 0 w 757080"/>
                  <a:gd name="textAreaRight" fmla="*/ 757440 w 757080"/>
                  <a:gd name="textAreaTop" fmla="*/ 0 h 317160"/>
                  <a:gd name="textAreaBottom" fmla="*/ 317520 h 317160"/>
                </a:gdLst>
                <a:ahLst/>
                <a:rect l="textAreaLeft" t="textAreaTop" r="textAreaRight" b="textAreaBottom"/>
                <a:pathLst>
                  <a:path w="954" h="401">
                    <a:moveTo>
                      <a:pt x="52" y="98"/>
                    </a:moveTo>
                    <a:lnTo>
                      <a:pt x="407" y="50"/>
                    </a:lnTo>
                    <a:lnTo>
                      <a:pt x="483" y="20"/>
                    </a:lnTo>
                    <a:lnTo>
                      <a:pt x="521" y="6"/>
                    </a:lnTo>
                    <a:lnTo>
                      <a:pt x="561" y="0"/>
                    </a:lnTo>
                    <a:lnTo>
                      <a:pt x="615" y="8"/>
                    </a:lnTo>
                    <a:lnTo>
                      <a:pt x="675" y="20"/>
                    </a:lnTo>
                    <a:lnTo>
                      <a:pt x="718" y="26"/>
                    </a:lnTo>
                    <a:lnTo>
                      <a:pt x="804" y="36"/>
                    </a:lnTo>
                    <a:lnTo>
                      <a:pt x="846" y="38"/>
                    </a:lnTo>
                    <a:lnTo>
                      <a:pt x="880" y="44"/>
                    </a:lnTo>
                    <a:lnTo>
                      <a:pt x="916" y="50"/>
                    </a:lnTo>
                    <a:lnTo>
                      <a:pt x="946" y="62"/>
                    </a:lnTo>
                    <a:lnTo>
                      <a:pt x="954" y="78"/>
                    </a:lnTo>
                    <a:lnTo>
                      <a:pt x="940" y="92"/>
                    </a:lnTo>
                    <a:lnTo>
                      <a:pt x="880" y="96"/>
                    </a:lnTo>
                    <a:lnTo>
                      <a:pt x="856" y="98"/>
                    </a:lnTo>
                    <a:lnTo>
                      <a:pt x="852" y="140"/>
                    </a:lnTo>
                    <a:lnTo>
                      <a:pt x="838" y="156"/>
                    </a:lnTo>
                    <a:lnTo>
                      <a:pt x="828" y="158"/>
                    </a:lnTo>
                    <a:lnTo>
                      <a:pt x="820" y="186"/>
                    </a:lnTo>
                    <a:lnTo>
                      <a:pt x="802" y="206"/>
                    </a:lnTo>
                    <a:lnTo>
                      <a:pt x="780" y="215"/>
                    </a:lnTo>
                    <a:lnTo>
                      <a:pt x="766" y="233"/>
                    </a:lnTo>
                    <a:lnTo>
                      <a:pt x="748" y="241"/>
                    </a:lnTo>
                    <a:lnTo>
                      <a:pt x="693" y="271"/>
                    </a:lnTo>
                    <a:lnTo>
                      <a:pt x="663" y="283"/>
                    </a:lnTo>
                    <a:lnTo>
                      <a:pt x="575" y="287"/>
                    </a:lnTo>
                    <a:lnTo>
                      <a:pt x="509" y="281"/>
                    </a:lnTo>
                    <a:lnTo>
                      <a:pt x="471" y="263"/>
                    </a:lnTo>
                    <a:lnTo>
                      <a:pt x="453" y="257"/>
                    </a:lnTo>
                    <a:lnTo>
                      <a:pt x="419" y="263"/>
                    </a:lnTo>
                    <a:lnTo>
                      <a:pt x="363" y="269"/>
                    </a:lnTo>
                    <a:lnTo>
                      <a:pt x="315" y="277"/>
                    </a:lnTo>
                    <a:lnTo>
                      <a:pt x="114" y="353"/>
                    </a:lnTo>
                    <a:lnTo>
                      <a:pt x="28" y="401"/>
                    </a:lnTo>
                    <a:lnTo>
                      <a:pt x="4" y="317"/>
                    </a:lnTo>
                    <a:lnTo>
                      <a:pt x="0" y="265"/>
                    </a:lnTo>
                    <a:lnTo>
                      <a:pt x="0" y="223"/>
                    </a:lnTo>
                    <a:lnTo>
                      <a:pt x="16" y="168"/>
                    </a:lnTo>
                    <a:lnTo>
                      <a:pt x="52" y="9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 name="Group 119"/>
              <p:cNvGrpSpPr/>
              <p:nvPr/>
            </p:nvGrpSpPr>
            <p:grpSpPr>
              <a:xfrm>
                <a:off x="2344680" y="3922560"/>
                <a:ext cx="833400" cy="1115280"/>
                <a:chOff x="2344680" y="3922560"/>
                <a:chExt cx="833400" cy="1115280"/>
              </a:xfrm>
            </p:grpSpPr>
            <p:grpSp>
              <p:nvGrpSpPr>
                <p:cNvPr id="495" name="Group 120"/>
                <p:cNvGrpSpPr/>
                <p:nvPr/>
              </p:nvGrpSpPr>
              <p:grpSpPr>
                <a:xfrm>
                  <a:off x="3093840" y="4223880"/>
                  <a:ext cx="73080" cy="199440"/>
                  <a:chOff x="3093840" y="4223880"/>
                  <a:chExt cx="73080" cy="199440"/>
                </a:xfrm>
              </p:grpSpPr>
              <p:sp>
                <p:nvSpPr>
                  <p:cNvPr id="496" name="Oval 121"/>
                  <p:cNvSpPr/>
                  <p:nvPr/>
                </p:nvSpPr>
                <p:spPr>
                  <a:xfrm>
                    <a:off x="3093840" y="4223880"/>
                    <a:ext cx="73080" cy="1994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22"/>
                  <p:cNvSpPr/>
                  <p:nvPr/>
                </p:nvSpPr>
                <p:spPr>
                  <a:xfrm>
                    <a:off x="3100320" y="4228200"/>
                    <a:ext cx="65160" cy="19008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123"/>
                <p:cNvGrpSpPr/>
                <p:nvPr/>
              </p:nvGrpSpPr>
              <p:grpSpPr>
                <a:xfrm>
                  <a:off x="2344680" y="3922560"/>
                  <a:ext cx="833400" cy="1115280"/>
                  <a:chOff x="2344680" y="3922560"/>
                  <a:chExt cx="833400" cy="1115280"/>
                </a:xfrm>
              </p:grpSpPr>
              <p:grpSp>
                <p:nvGrpSpPr>
                  <p:cNvPr id="499" name="Group 124"/>
                  <p:cNvGrpSpPr/>
                  <p:nvPr/>
                </p:nvGrpSpPr>
                <p:grpSpPr>
                  <a:xfrm>
                    <a:off x="2538360" y="3992040"/>
                    <a:ext cx="639720" cy="1045800"/>
                    <a:chOff x="2538360" y="3992040"/>
                    <a:chExt cx="639720" cy="1045800"/>
                  </a:xfrm>
                </p:grpSpPr>
                <p:sp>
                  <p:nvSpPr>
                    <p:cNvPr id="500" name="Freeform 125"/>
                    <p:cNvSpPr/>
                    <p:nvPr/>
                  </p:nvSpPr>
                  <p:spPr>
                    <a:xfrm>
                      <a:off x="2538360" y="3992040"/>
                      <a:ext cx="639720" cy="1045800"/>
                    </a:xfrm>
                    <a:custGeom>
                      <a:avLst/>
                      <a:gdLst>
                        <a:gd name="textAreaLeft" fmla="*/ 0 w 639720"/>
                        <a:gd name="textAreaRight" fmla="*/ 640080 w 639720"/>
                        <a:gd name="textAreaTop" fmla="*/ 0 h 1045800"/>
                        <a:gd name="textAreaBottom" fmla="*/ 1046160 h 1045800"/>
                      </a:gdLst>
                      <a:ahLst/>
                      <a:rect l="textAreaLeft" t="textAreaTop" r="textAreaRight" b="textAreaBottom"/>
                      <a:pathLst>
                        <a:path w="806" h="1317">
                          <a:moveTo>
                            <a:pt x="521" y="24"/>
                          </a:moveTo>
                          <a:lnTo>
                            <a:pt x="589" y="48"/>
                          </a:lnTo>
                          <a:lnTo>
                            <a:pt x="629" y="73"/>
                          </a:lnTo>
                          <a:lnTo>
                            <a:pt x="658" y="107"/>
                          </a:lnTo>
                          <a:lnTo>
                            <a:pt x="676" y="145"/>
                          </a:lnTo>
                          <a:lnTo>
                            <a:pt x="690" y="187"/>
                          </a:lnTo>
                          <a:lnTo>
                            <a:pt x="700" y="229"/>
                          </a:lnTo>
                          <a:lnTo>
                            <a:pt x="712" y="289"/>
                          </a:lnTo>
                          <a:lnTo>
                            <a:pt x="718" y="348"/>
                          </a:lnTo>
                          <a:lnTo>
                            <a:pt x="710" y="384"/>
                          </a:lnTo>
                          <a:lnTo>
                            <a:pt x="706" y="420"/>
                          </a:lnTo>
                          <a:lnTo>
                            <a:pt x="724" y="456"/>
                          </a:lnTo>
                          <a:lnTo>
                            <a:pt x="778" y="514"/>
                          </a:lnTo>
                          <a:lnTo>
                            <a:pt x="792" y="530"/>
                          </a:lnTo>
                          <a:lnTo>
                            <a:pt x="804" y="546"/>
                          </a:lnTo>
                          <a:lnTo>
                            <a:pt x="806" y="560"/>
                          </a:lnTo>
                          <a:lnTo>
                            <a:pt x="800" y="572"/>
                          </a:lnTo>
                          <a:lnTo>
                            <a:pt x="786" y="580"/>
                          </a:lnTo>
                          <a:lnTo>
                            <a:pt x="760" y="587"/>
                          </a:lnTo>
                          <a:lnTo>
                            <a:pt x="750" y="597"/>
                          </a:lnTo>
                          <a:lnTo>
                            <a:pt x="760" y="621"/>
                          </a:lnTo>
                          <a:lnTo>
                            <a:pt x="758" y="635"/>
                          </a:lnTo>
                          <a:lnTo>
                            <a:pt x="748" y="647"/>
                          </a:lnTo>
                          <a:lnTo>
                            <a:pt x="726" y="659"/>
                          </a:lnTo>
                          <a:lnTo>
                            <a:pt x="696" y="673"/>
                          </a:lnTo>
                          <a:lnTo>
                            <a:pt x="678" y="679"/>
                          </a:lnTo>
                          <a:lnTo>
                            <a:pt x="742" y="695"/>
                          </a:lnTo>
                          <a:lnTo>
                            <a:pt x="750" y="707"/>
                          </a:lnTo>
                          <a:lnTo>
                            <a:pt x="734" y="733"/>
                          </a:lnTo>
                          <a:lnTo>
                            <a:pt x="732" y="769"/>
                          </a:lnTo>
                          <a:lnTo>
                            <a:pt x="732" y="821"/>
                          </a:lnTo>
                          <a:lnTo>
                            <a:pt x="732" y="840"/>
                          </a:lnTo>
                          <a:lnTo>
                            <a:pt x="724" y="856"/>
                          </a:lnTo>
                          <a:lnTo>
                            <a:pt x="706" y="870"/>
                          </a:lnTo>
                          <a:lnTo>
                            <a:pt x="678" y="878"/>
                          </a:lnTo>
                          <a:lnTo>
                            <a:pt x="648" y="886"/>
                          </a:lnTo>
                          <a:lnTo>
                            <a:pt x="581" y="898"/>
                          </a:lnTo>
                          <a:lnTo>
                            <a:pt x="541" y="908"/>
                          </a:lnTo>
                          <a:lnTo>
                            <a:pt x="511" y="920"/>
                          </a:lnTo>
                          <a:lnTo>
                            <a:pt x="489" y="938"/>
                          </a:lnTo>
                          <a:lnTo>
                            <a:pt x="415" y="1042"/>
                          </a:lnTo>
                          <a:lnTo>
                            <a:pt x="525" y="1279"/>
                          </a:lnTo>
                          <a:lnTo>
                            <a:pt x="461" y="1297"/>
                          </a:lnTo>
                          <a:lnTo>
                            <a:pt x="363" y="1317"/>
                          </a:lnTo>
                          <a:lnTo>
                            <a:pt x="277" y="1313"/>
                          </a:lnTo>
                          <a:lnTo>
                            <a:pt x="227" y="1285"/>
                          </a:lnTo>
                          <a:lnTo>
                            <a:pt x="112" y="924"/>
                          </a:lnTo>
                          <a:lnTo>
                            <a:pt x="112" y="803"/>
                          </a:lnTo>
                          <a:lnTo>
                            <a:pt x="78" y="739"/>
                          </a:lnTo>
                          <a:lnTo>
                            <a:pt x="36" y="655"/>
                          </a:lnTo>
                          <a:lnTo>
                            <a:pt x="18" y="607"/>
                          </a:lnTo>
                          <a:lnTo>
                            <a:pt x="6" y="544"/>
                          </a:lnTo>
                          <a:lnTo>
                            <a:pt x="0" y="474"/>
                          </a:lnTo>
                          <a:lnTo>
                            <a:pt x="0" y="390"/>
                          </a:lnTo>
                          <a:lnTo>
                            <a:pt x="10" y="313"/>
                          </a:lnTo>
                          <a:lnTo>
                            <a:pt x="24" y="245"/>
                          </a:lnTo>
                          <a:lnTo>
                            <a:pt x="46" y="187"/>
                          </a:lnTo>
                          <a:lnTo>
                            <a:pt x="72" y="131"/>
                          </a:lnTo>
                          <a:lnTo>
                            <a:pt x="112" y="79"/>
                          </a:lnTo>
                          <a:lnTo>
                            <a:pt x="167" y="38"/>
                          </a:lnTo>
                          <a:lnTo>
                            <a:pt x="227" y="14"/>
                          </a:lnTo>
                          <a:lnTo>
                            <a:pt x="297" y="2"/>
                          </a:lnTo>
                          <a:lnTo>
                            <a:pt x="359" y="0"/>
                          </a:lnTo>
                          <a:lnTo>
                            <a:pt x="441" y="4"/>
                          </a:lnTo>
                          <a:lnTo>
                            <a:pt x="521" y="2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126"/>
                    <p:cNvGrpSpPr/>
                    <p:nvPr/>
                  </p:nvGrpSpPr>
                  <p:grpSpPr>
                    <a:xfrm>
                      <a:off x="2805120" y="4601160"/>
                      <a:ext cx="296640" cy="385200"/>
                      <a:chOff x="2805120" y="4601160"/>
                      <a:chExt cx="296640" cy="385200"/>
                    </a:xfrm>
                  </p:grpSpPr>
                  <p:sp>
                    <p:nvSpPr>
                      <p:cNvPr id="502" name="Freeform 127"/>
                      <p:cNvSpPr/>
                      <p:nvPr/>
                    </p:nvSpPr>
                    <p:spPr>
                      <a:xfrm>
                        <a:off x="2808360" y="4601160"/>
                        <a:ext cx="293400" cy="137880"/>
                      </a:xfrm>
                      <a:custGeom>
                        <a:avLst/>
                        <a:gdLst>
                          <a:gd name="textAreaLeft" fmla="*/ 0 w 293400"/>
                          <a:gd name="textAreaRight" fmla="*/ 293760 w 293400"/>
                          <a:gd name="textAreaTop" fmla="*/ 0 h 137880"/>
                          <a:gd name="textAreaBottom" fmla="*/ 137880 h 137880"/>
                        </a:gdLst>
                        <a:ahLst/>
                        <a:rect l="textAreaLeft" t="textAreaTop" r="textAreaRight" b="textAreaBottom"/>
                        <a:pathLst>
                          <a:path w="371" h="173">
                            <a:moveTo>
                              <a:pt x="0" y="0"/>
                            </a:moveTo>
                            <a:lnTo>
                              <a:pt x="54" y="24"/>
                            </a:lnTo>
                            <a:lnTo>
                              <a:pt x="110" y="44"/>
                            </a:lnTo>
                            <a:lnTo>
                              <a:pt x="152" y="56"/>
                            </a:lnTo>
                            <a:lnTo>
                              <a:pt x="206" y="70"/>
                            </a:lnTo>
                            <a:lnTo>
                              <a:pt x="242" y="77"/>
                            </a:lnTo>
                            <a:lnTo>
                              <a:pt x="292" y="85"/>
                            </a:lnTo>
                            <a:lnTo>
                              <a:pt x="329" y="85"/>
                            </a:lnTo>
                            <a:lnTo>
                              <a:pt x="371" y="85"/>
                            </a:lnTo>
                            <a:lnTo>
                              <a:pt x="331" y="101"/>
                            </a:lnTo>
                            <a:lnTo>
                              <a:pt x="276" y="113"/>
                            </a:lnTo>
                            <a:lnTo>
                              <a:pt x="232" y="123"/>
                            </a:lnTo>
                            <a:lnTo>
                              <a:pt x="196" y="133"/>
                            </a:lnTo>
                            <a:lnTo>
                              <a:pt x="160" y="145"/>
                            </a:lnTo>
                            <a:lnTo>
                              <a:pt x="138" y="155"/>
                            </a:lnTo>
                            <a:lnTo>
                              <a:pt x="114" y="173"/>
                            </a:lnTo>
                            <a:lnTo>
                              <a:pt x="136" y="147"/>
                            </a:lnTo>
                            <a:lnTo>
                              <a:pt x="156" y="127"/>
                            </a:lnTo>
                            <a:lnTo>
                              <a:pt x="162" y="111"/>
                            </a:lnTo>
                            <a:lnTo>
                              <a:pt x="162" y="97"/>
                            </a:lnTo>
                            <a:lnTo>
                              <a:pt x="156" y="83"/>
                            </a:lnTo>
                            <a:lnTo>
                              <a:pt x="140" y="75"/>
                            </a:lnTo>
                            <a:lnTo>
                              <a:pt x="122" y="70"/>
                            </a:lnTo>
                            <a:lnTo>
                              <a:pt x="90" y="66"/>
                            </a:lnTo>
                            <a:lnTo>
                              <a:pt x="62" y="62"/>
                            </a:lnTo>
                            <a:lnTo>
                              <a:pt x="0" y="0"/>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2805120" y="4794480"/>
                        <a:ext cx="71280" cy="191880"/>
                      </a:xfrm>
                      <a:custGeom>
                        <a:avLst/>
                        <a:gdLst>
                          <a:gd name="textAreaLeft" fmla="*/ 0 w 71280"/>
                          <a:gd name="textAreaRight" fmla="*/ 71640 w 71280"/>
                          <a:gd name="textAreaTop" fmla="*/ 0 h 191880"/>
                          <a:gd name="textAreaBottom" fmla="*/ 192240 h 191880"/>
                        </a:gdLst>
                        <a:ahLst/>
                        <a:rect l="textAreaLeft" t="textAreaTop" r="textAreaRight" b="textAreaBottom"/>
                        <a:pathLst>
                          <a:path w="92" h="241">
                            <a:moveTo>
                              <a:pt x="52" y="28"/>
                            </a:moveTo>
                            <a:lnTo>
                              <a:pt x="52" y="10"/>
                            </a:lnTo>
                            <a:lnTo>
                              <a:pt x="46" y="2"/>
                            </a:lnTo>
                            <a:lnTo>
                              <a:pt x="32" y="0"/>
                            </a:lnTo>
                            <a:lnTo>
                              <a:pt x="18" y="8"/>
                            </a:lnTo>
                            <a:lnTo>
                              <a:pt x="8" y="22"/>
                            </a:lnTo>
                            <a:lnTo>
                              <a:pt x="0" y="40"/>
                            </a:lnTo>
                            <a:lnTo>
                              <a:pt x="0" y="64"/>
                            </a:lnTo>
                            <a:lnTo>
                              <a:pt x="2" y="137"/>
                            </a:lnTo>
                            <a:lnTo>
                              <a:pt x="8" y="167"/>
                            </a:lnTo>
                            <a:lnTo>
                              <a:pt x="16" y="183"/>
                            </a:lnTo>
                            <a:lnTo>
                              <a:pt x="76" y="241"/>
                            </a:lnTo>
                            <a:lnTo>
                              <a:pt x="92" y="183"/>
                            </a:lnTo>
                            <a:lnTo>
                              <a:pt x="64" y="143"/>
                            </a:lnTo>
                            <a:lnTo>
                              <a:pt x="68" y="171"/>
                            </a:lnTo>
                            <a:lnTo>
                              <a:pt x="70" y="195"/>
                            </a:lnTo>
                            <a:lnTo>
                              <a:pt x="68" y="203"/>
                            </a:lnTo>
                            <a:lnTo>
                              <a:pt x="22" y="151"/>
                            </a:lnTo>
                            <a:lnTo>
                              <a:pt x="20" y="131"/>
                            </a:lnTo>
                            <a:lnTo>
                              <a:pt x="16" y="103"/>
                            </a:lnTo>
                            <a:lnTo>
                              <a:pt x="26" y="72"/>
                            </a:lnTo>
                            <a:lnTo>
                              <a:pt x="38" y="46"/>
                            </a:lnTo>
                            <a:lnTo>
                              <a:pt x="52" y="28"/>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4" name="Freeform 129"/>
                  <p:cNvSpPr/>
                  <p:nvPr/>
                </p:nvSpPr>
                <p:spPr>
                  <a:xfrm>
                    <a:off x="2982960" y="4323600"/>
                    <a:ext cx="47520" cy="37800"/>
                  </a:xfrm>
                  <a:custGeom>
                    <a:avLst/>
                    <a:gdLst>
                      <a:gd name="textAreaLeft" fmla="*/ 0 w 47520"/>
                      <a:gd name="textAreaRight" fmla="*/ 47880 w 47520"/>
                      <a:gd name="textAreaTop" fmla="*/ 0 h 37800"/>
                      <a:gd name="textAreaBottom" fmla="*/ 38160 h 37800"/>
                    </a:gdLst>
                    <a:ahLst/>
                    <a:rect l="textAreaLeft" t="textAreaTop" r="textAreaRight" b="textAreaBottom"/>
                    <a:pathLst>
                      <a:path w="60" h="50">
                        <a:moveTo>
                          <a:pt x="52" y="0"/>
                        </a:moveTo>
                        <a:lnTo>
                          <a:pt x="28" y="10"/>
                        </a:lnTo>
                        <a:lnTo>
                          <a:pt x="0" y="30"/>
                        </a:lnTo>
                        <a:lnTo>
                          <a:pt x="20" y="44"/>
                        </a:lnTo>
                        <a:lnTo>
                          <a:pt x="50" y="50"/>
                        </a:lnTo>
                        <a:lnTo>
                          <a:pt x="60" y="48"/>
                        </a:lnTo>
                        <a:lnTo>
                          <a:pt x="5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5" name="Freeform 130"/>
                  <p:cNvSpPr/>
                  <p:nvPr/>
                </p:nvSpPr>
                <p:spPr>
                  <a:xfrm>
                    <a:off x="2963880" y="4242960"/>
                    <a:ext cx="82440" cy="70920"/>
                  </a:xfrm>
                  <a:custGeom>
                    <a:avLst/>
                    <a:gdLst>
                      <a:gd name="textAreaLeft" fmla="*/ 0 w 82440"/>
                      <a:gd name="textAreaRight" fmla="*/ 82800 w 82440"/>
                      <a:gd name="textAreaTop" fmla="*/ 0 h 70920"/>
                      <a:gd name="textAreaBottom" fmla="*/ 71280 h 70920"/>
                    </a:gdLst>
                    <a:ahLst/>
                    <a:rect l="textAreaLeft" t="textAreaTop" r="textAreaRight" b="textAreaBottom"/>
                    <a:pathLst>
                      <a:path w="104" h="89">
                        <a:moveTo>
                          <a:pt x="104" y="0"/>
                        </a:moveTo>
                        <a:lnTo>
                          <a:pt x="80" y="6"/>
                        </a:lnTo>
                        <a:lnTo>
                          <a:pt x="62" y="23"/>
                        </a:lnTo>
                        <a:lnTo>
                          <a:pt x="46" y="45"/>
                        </a:lnTo>
                        <a:lnTo>
                          <a:pt x="30" y="65"/>
                        </a:lnTo>
                        <a:lnTo>
                          <a:pt x="0" y="89"/>
                        </a:lnTo>
                        <a:lnTo>
                          <a:pt x="36" y="77"/>
                        </a:lnTo>
                        <a:lnTo>
                          <a:pt x="60" y="59"/>
                        </a:lnTo>
                        <a:lnTo>
                          <a:pt x="80" y="41"/>
                        </a:lnTo>
                        <a:lnTo>
                          <a:pt x="98" y="35"/>
                        </a:lnTo>
                        <a:lnTo>
                          <a:pt x="104" y="0"/>
                        </a:lnTo>
                        <a:close/>
                      </a:path>
                    </a:pathLst>
                  </a:custGeom>
                  <a:solidFill>
                    <a:srgbClr val="5f3f1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506" name="Group 131"/>
                  <p:cNvGrpSpPr/>
                  <p:nvPr/>
                </p:nvGrpSpPr>
                <p:grpSpPr>
                  <a:xfrm>
                    <a:off x="2977920" y="4290480"/>
                    <a:ext cx="57240" cy="74160"/>
                    <a:chOff x="2977920" y="4290480"/>
                    <a:chExt cx="57240" cy="74160"/>
                  </a:xfrm>
                </p:grpSpPr>
                <p:sp>
                  <p:nvSpPr>
                    <p:cNvPr id="507" name="Oval 132"/>
                    <p:cNvSpPr/>
                    <p:nvPr/>
                  </p:nvSpPr>
                  <p:spPr>
                    <a:xfrm>
                      <a:off x="3000240" y="4328280"/>
                      <a:ext cx="28440" cy="31320"/>
                    </a:xfrm>
                    <a:prstGeom prst="ellipse">
                      <a:avLst/>
                    </a:prstGeom>
                    <a:solidFill>
                      <a:srgbClr val="5f7f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33"/>
                    <p:cNvSpPr/>
                    <p:nvPr/>
                  </p:nvSpPr>
                  <p:spPr>
                    <a:xfrm>
                      <a:off x="2977920" y="4290480"/>
                      <a:ext cx="57240" cy="74160"/>
                    </a:xfrm>
                    <a:custGeom>
                      <a:avLst/>
                      <a:gdLst>
                        <a:gd name="textAreaLeft" fmla="*/ 0 w 57240"/>
                        <a:gd name="textAreaRight" fmla="*/ 57600 w 57240"/>
                        <a:gd name="textAreaTop" fmla="*/ 0 h 74160"/>
                        <a:gd name="textAreaBottom" fmla="*/ 74520 h 74160"/>
                      </a:gdLst>
                      <a:ahLst/>
                      <a:rect l="textAreaLeft" t="textAreaTop" r="textAreaRight" b="textAreaBottom"/>
                      <a:pathLst>
                        <a:path w="72" h="96">
                          <a:moveTo>
                            <a:pt x="62" y="24"/>
                          </a:moveTo>
                          <a:lnTo>
                            <a:pt x="42" y="42"/>
                          </a:lnTo>
                          <a:lnTo>
                            <a:pt x="48" y="0"/>
                          </a:lnTo>
                          <a:lnTo>
                            <a:pt x="32" y="42"/>
                          </a:lnTo>
                          <a:lnTo>
                            <a:pt x="20" y="60"/>
                          </a:lnTo>
                          <a:lnTo>
                            <a:pt x="0" y="74"/>
                          </a:lnTo>
                          <a:lnTo>
                            <a:pt x="24" y="92"/>
                          </a:lnTo>
                          <a:lnTo>
                            <a:pt x="26" y="92"/>
                          </a:lnTo>
                          <a:lnTo>
                            <a:pt x="42" y="96"/>
                          </a:lnTo>
                          <a:lnTo>
                            <a:pt x="64" y="96"/>
                          </a:lnTo>
                          <a:lnTo>
                            <a:pt x="60" y="82"/>
                          </a:lnTo>
                          <a:lnTo>
                            <a:pt x="42" y="86"/>
                          </a:lnTo>
                          <a:lnTo>
                            <a:pt x="24" y="78"/>
                          </a:lnTo>
                          <a:lnTo>
                            <a:pt x="10" y="72"/>
                          </a:lnTo>
                          <a:lnTo>
                            <a:pt x="24" y="64"/>
                          </a:lnTo>
                          <a:lnTo>
                            <a:pt x="48" y="54"/>
                          </a:lnTo>
                          <a:lnTo>
                            <a:pt x="72" y="42"/>
                          </a:lnTo>
                          <a:lnTo>
                            <a:pt x="62" y="24"/>
                          </a:lnTo>
                          <a:close/>
                        </a:path>
                      </a:pathLst>
                    </a:custGeom>
                    <a:solidFill>
                      <a:srgbClr val="3f1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509" name="Freeform 134"/>
                  <p:cNvSpPr/>
                  <p:nvPr/>
                </p:nvSpPr>
                <p:spPr>
                  <a:xfrm>
                    <a:off x="2344680" y="3922560"/>
                    <a:ext cx="776160" cy="906120"/>
                  </a:xfrm>
                  <a:custGeom>
                    <a:avLst/>
                    <a:gdLst>
                      <a:gd name="textAreaLeft" fmla="*/ 0 w 776160"/>
                      <a:gd name="textAreaRight" fmla="*/ 776520 w 776160"/>
                      <a:gd name="textAreaTop" fmla="*/ 0 h 906120"/>
                      <a:gd name="textAreaBottom" fmla="*/ 906480 h 906120"/>
                    </a:gdLst>
                    <a:ahLst/>
                    <a:rect l="textAreaLeft" t="textAreaTop" r="textAreaRight" b="textAreaBottom"/>
                    <a:pathLst>
                      <a:path w="978" h="1144">
                        <a:moveTo>
                          <a:pt x="948" y="339"/>
                        </a:moveTo>
                        <a:lnTo>
                          <a:pt x="960" y="327"/>
                        </a:lnTo>
                        <a:lnTo>
                          <a:pt x="974" y="311"/>
                        </a:lnTo>
                        <a:lnTo>
                          <a:pt x="978" y="275"/>
                        </a:lnTo>
                        <a:lnTo>
                          <a:pt x="978" y="209"/>
                        </a:lnTo>
                        <a:lnTo>
                          <a:pt x="960" y="155"/>
                        </a:lnTo>
                        <a:lnTo>
                          <a:pt x="936" y="126"/>
                        </a:lnTo>
                        <a:lnTo>
                          <a:pt x="900" y="90"/>
                        </a:lnTo>
                        <a:lnTo>
                          <a:pt x="827" y="78"/>
                        </a:lnTo>
                        <a:lnTo>
                          <a:pt x="719" y="60"/>
                        </a:lnTo>
                        <a:lnTo>
                          <a:pt x="623" y="36"/>
                        </a:lnTo>
                        <a:lnTo>
                          <a:pt x="545" y="18"/>
                        </a:lnTo>
                        <a:lnTo>
                          <a:pt x="449" y="0"/>
                        </a:lnTo>
                        <a:lnTo>
                          <a:pt x="401" y="18"/>
                        </a:lnTo>
                        <a:lnTo>
                          <a:pt x="348" y="60"/>
                        </a:lnTo>
                        <a:lnTo>
                          <a:pt x="300" y="108"/>
                        </a:lnTo>
                        <a:lnTo>
                          <a:pt x="264" y="161"/>
                        </a:lnTo>
                        <a:lnTo>
                          <a:pt x="222" y="245"/>
                        </a:lnTo>
                        <a:lnTo>
                          <a:pt x="198" y="323"/>
                        </a:lnTo>
                        <a:lnTo>
                          <a:pt x="186" y="401"/>
                        </a:lnTo>
                        <a:lnTo>
                          <a:pt x="168" y="490"/>
                        </a:lnTo>
                        <a:lnTo>
                          <a:pt x="168" y="568"/>
                        </a:lnTo>
                        <a:lnTo>
                          <a:pt x="144" y="658"/>
                        </a:lnTo>
                        <a:lnTo>
                          <a:pt x="114" y="737"/>
                        </a:lnTo>
                        <a:lnTo>
                          <a:pt x="78" y="791"/>
                        </a:lnTo>
                        <a:lnTo>
                          <a:pt x="42" y="827"/>
                        </a:lnTo>
                        <a:lnTo>
                          <a:pt x="6" y="869"/>
                        </a:lnTo>
                        <a:lnTo>
                          <a:pt x="6" y="881"/>
                        </a:lnTo>
                        <a:lnTo>
                          <a:pt x="0" y="917"/>
                        </a:lnTo>
                        <a:lnTo>
                          <a:pt x="0" y="976"/>
                        </a:lnTo>
                        <a:lnTo>
                          <a:pt x="18" y="1024"/>
                        </a:lnTo>
                        <a:lnTo>
                          <a:pt x="48" y="1054"/>
                        </a:lnTo>
                        <a:lnTo>
                          <a:pt x="144" y="1054"/>
                        </a:lnTo>
                        <a:lnTo>
                          <a:pt x="222" y="1066"/>
                        </a:lnTo>
                        <a:lnTo>
                          <a:pt x="300" y="1120"/>
                        </a:lnTo>
                        <a:lnTo>
                          <a:pt x="383" y="1144"/>
                        </a:lnTo>
                        <a:lnTo>
                          <a:pt x="455" y="1144"/>
                        </a:lnTo>
                        <a:lnTo>
                          <a:pt x="515" y="1108"/>
                        </a:lnTo>
                        <a:lnTo>
                          <a:pt x="539" y="1054"/>
                        </a:lnTo>
                        <a:lnTo>
                          <a:pt x="533" y="982"/>
                        </a:lnTo>
                        <a:lnTo>
                          <a:pt x="503" y="929"/>
                        </a:lnTo>
                        <a:lnTo>
                          <a:pt x="497" y="875"/>
                        </a:lnTo>
                        <a:lnTo>
                          <a:pt x="503" y="821"/>
                        </a:lnTo>
                        <a:lnTo>
                          <a:pt x="551" y="773"/>
                        </a:lnTo>
                        <a:lnTo>
                          <a:pt x="605" y="755"/>
                        </a:lnTo>
                        <a:lnTo>
                          <a:pt x="641" y="725"/>
                        </a:lnTo>
                        <a:lnTo>
                          <a:pt x="671" y="677"/>
                        </a:lnTo>
                        <a:lnTo>
                          <a:pt x="677" y="598"/>
                        </a:lnTo>
                        <a:lnTo>
                          <a:pt x="677" y="562"/>
                        </a:lnTo>
                        <a:lnTo>
                          <a:pt x="719" y="550"/>
                        </a:lnTo>
                        <a:lnTo>
                          <a:pt x="761" y="514"/>
                        </a:lnTo>
                        <a:lnTo>
                          <a:pt x="785" y="454"/>
                        </a:lnTo>
                        <a:lnTo>
                          <a:pt x="809" y="371"/>
                        </a:lnTo>
                        <a:lnTo>
                          <a:pt x="797" y="269"/>
                        </a:lnTo>
                        <a:lnTo>
                          <a:pt x="779" y="209"/>
                        </a:lnTo>
                        <a:lnTo>
                          <a:pt x="725" y="167"/>
                        </a:lnTo>
                        <a:lnTo>
                          <a:pt x="851" y="209"/>
                        </a:lnTo>
                        <a:lnTo>
                          <a:pt x="894" y="275"/>
                        </a:lnTo>
                        <a:lnTo>
                          <a:pt x="940" y="315"/>
                        </a:lnTo>
                        <a:lnTo>
                          <a:pt x="948" y="339"/>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Group 135"/>
                <p:cNvGrpSpPr/>
                <p:nvPr/>
              </p:nvGrpSpPr>
              <p:grpSpPr>
                <a:xfrm>
                  <a:off x="2909880" y="4223880"/>
                  <a:ext cx="198360" cy="213840"/>
                  <a:chOff x="2909880" y="4223880"/>
                  <a:chExt cx="198360" cy="213840"/>
                </a:xfrm>
              </p:grpSpPr>
              <p:sp>
                <p:nvSpPr>
                  <p:cNvPr id="511" name="Line 136"/>
                  <p:cNvSpPr/>
                  <p:nvPr/>
                </p:nvSpPr>
                <p:spPr>
                  <a:xfrm flipV="1">
                    <a:off x="3093840" y="4312080"/>
                    <a:ext cx="14400" cy="2520"/>
                  </a:xfrm>
                  <a:prstGeom prst="line">
                    <a:avLst/>
                  </a:prstGeom>
                  <a:ln w="9360">
                    <a:solidFill>
                      <a:srgbClr val="7f3f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nvGrpSpPr>
                  <p:cNvPr id="512" name="Group 137"/>
                  <p:cNvGrpSpPr/>
                  <p:nvPr/>
                </p:nvGrpSpPr>
                <p:grpSpPr>
                  <a:xfrm>
                    <a:off x="2909880" y="4223880"/>
                    <a:ext cx="185760" cy="213840"/>
                    <a:chOff x="2909880" y="4223880"/>
                    <a:chExt cx="185760" cy="213840"/>
                  </a:xfrm>
                </p:grpSpPr>
                <p:sp>
                  <p:nvSpPr>
                    <p:cNvPr id="513" name="Freeform 138"/>
                    <p:cNvSpPr/>
                    <p:nvPr/>
                  </p:nvSpPr>
                  <p:spPr>
                    <a:xfrm>
                      <a:off x="2909880" y="4347360"/>
                      <a:ext cx="128520" cy="74160"/>
                    </a:xfrm>
                    <a:custGeom>
                      <a:avLst/>
                      <a:gdLst>
                        <a:gd name="textAreaLeft" fmla="*/ 0 w 128520"/>
                        <a:gd name="textAreaRight" fmla="*/ 128880 w 128520"/>
                        <a:gd name="textAreaTop" fmla="*/ 0 h 74160"/>
                        <a:gd name="textAreaBottom" fmla="*/ 74520 h 74160"/>
                      </a:gdLst>
                      <a:ahLst/>
                      <a:rect l="textAreaLeft" t="textAreaTop" r="textAreaRight" b="textAreaBottom"/>
                      <a:pathLst>
                        <a:path w="162" h="96">
                          <a:moveTo>
                            <a:pt x="20" y="0"/>
                          </a:moveTo>
                          <a:lnTo>
                            <a:pt x="50" y="26"/>
                          </a:lnTo>
                          <a:lnTo>
                            <a:pt x="74" y="42"/>
                          </a:lnTo>
                          <a:lnTo>
                            <a:pt x="92" y="52"/>
                          </a:lnTo>
                          <a:lnTo>
                            <a:pt x="116" y="62"/>
                          </a:lnTo>
                          <a:lnTo>
                            <a:pt x="138" y="66"/>
                          </a:lnTo>
                          <a:lnTo>
                            <a:pt x="156" y="62"/>
                          </a:lnTo>
                          <a:lnTo>
                            <a:pt x="162" y="96"/>
                          </a:lnTo>
                          <a:lnTo>
                            <a:pt x="136" y="96"/>
                          </a:lnTo>
                          <a:lnTo>
                            <a:pt x="116" y="94"/>
                          </a:lnTo>
                          <a:lnTo>
                            <a:pt x="90" y="82"/>
                          </a:lnTo>
                          <a:lnTo>
                            <a:pt x="66" y="64"/>
                          </a:lnTo>
                          <a:lnTo>
                            <a:pt x="44" y="48"/>
                          </a:lnTo>
                          <a:lnTo>
                            <a:pt x="0" y="8"/>
                          </a:lnTo>
                          <a:lnTo>
                            <a:pt x="20" y="0"/>
                          </a:lnTo>
                          <a:close/>
                        </a:path>
                      </a:pathLst>
                    </a:custGeom>
                    <a:solidFill>
                      <a:srgbClr val="7f3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4" name="Oval 139"/>
                    <p:cNvSpPr/>
                    <p:nvPr/>
                  </p:nvSpPr>
                  <p:spPr>
                    <a:xfrm>
                      <a:off x="3020760" y="4223880"/>
                      <a:ext cx="74880" cy="2138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140"/>
                    <p:cNvSpPr/>
                    <p:nvPr/>
                  </p:nvSpPr>
                  <p:spPr>
                    <a:xfrm>
                      <a:off x="3027240" y="4229640"/>
                      <a:ext cx="66600" cy="20304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aphicFrame>
        <p:nvGraphicFramePr>
          <p:cNvPr id="516" name="Object 2"/>
          <p:cNvGraphicFramePr/>
          <p:nvPr/>
        </p:nvGraphicFramePr>
        <p:xfrm>
          <a:off x="685800" y="1676520"/>
          <a:ext cx="3886200" cy="2357280"/>
        </p:xfrm>
        <a:graphic>
          <a:graphicData uri="http://schemas.openxmlformats.org/presentationml/2006/ole">
            <p:oleObj r:id="rId1" spid="">
              <p:embed/>
              <p:pic>
                <p:nvPicPr>
                  <p:cNvPr id="517" name="Object 2" descr=""/>
                  <p:cNvPicPr/>
                  <p:nvPr/>
                </p:nvPicPr>
                <p:blipFill>
                  <a:blip r:embed="rId2"/>
                  <a:stretch/>
                </p:blipFill>
                <p:spPr>
                  <a:xfrm>
                    <a:off x="685800" y="1676520"/>
                    <a:ext cx="3886200" cy="2357280"/>
                  </a:xfrm>
                  <a:prstGeom prst="rect">
                    <a:avLst/>
                  </a:prstGeom>
                  <a:ln w="0">
                    <a:noFill/>
                  </a:ln>
                </p:spPr>
              </p:pic>
            </p:oleObj>
          </a:graphicData>
        </a:graphic>
      </p:graphicFrame>
      <p:sp>
        <p:nvSpPr>
          <p:cNvPr id="518" name="Rectangle 142"/>
          <p:cNvSpPr/>
          <p:nvPr/>
        </p:nvSpPr>
        <p:spPr>
          <a:xfrm>
            <a:off x="803160" y="1785960"/>
            <a:ext cx="346392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answer lies in the way we allocate </a:t>
            </a:r>
            <a:r>
              <a:rPr b="1" lang="en-US" sz="2400" spc="-1" strike="noStrike">
                <a:solidFill>
                  <a:srgbClr val="ff0000"/>
                </a:solidFill>
                <a:latin typeface="Arial"/>
              </a:rPr>
              <a:t>common fixed costs</a:t>
            </a:r>
            <a:r>
              <a:rPr b="1" lang="en-US" sz="2400" spc="-1" strike="noStrike">
                <a:solidFill>
                  <a:srgbClr val="0000cc"/>
                </a:solidFill>
                <a:latin typeface="Arial"/>
              </a:rPr>
              <a:t> to our products.</a:t>
            </a:r>
            <a:endParaRPr b="0" lang="en-US" sz="2400" spc="-1" strike="noStrike">
              <a:solidFill>
                <a:srgbClr val="000000"/>
              </a:solidFill>
              <a:latin typeface="Arial"/>
            </a:endParaRPr>
          </a:p>
        </p:txBody>
      </p:sp>
      <p:pic>
        <p:nvPicPr>
          <p:cNvPr id="519" name="Picture 143" descr=""/>
          <p:cNvPicPr/>
          <p:nvPr/>
        </p:nvPicPr>
        <p:blipFill>
          <a:blip r:embed="rId3"/>
          <a:stretch/>
        </p:blipFill>
        <p:spPr>
          <a:xfrm>
            <a:off x="8388360" y="571680"/>
            <a:ext cx="596880" cy="838080"/>
          </a:xfrm>
          <a:prstGeom prst="rect">
            <a:avLst/>
          </a:prstGeom>
          <a:ln w="0">
            <a:noFill/>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0" name="Object 2"/>
          <p:cNvGraphicFramePr/>
          <p:nvPr/>
        </p:nvGraphicFramePr>
        <p:xfrm>
          <a:off x="5659560" y="1486080"/>
          <a:ext cx="3538440" cy="2705040"/>
        </p:xfrm>
        <a:graphic>
          <a:graphicData uri="http://schemas.openxmlformats.org/presentationml/2006/ole">
            <p:oleObj r:id="rId1" spid="">
              <p:embed/>
              <p:pic>
                <p:nvPicPr>
                  <p:cNvPr id="521" name="Object 2" descr=""/>
                  <p:cNvPicPr/>
                  <p:nvPr/>
                </p:nvPicPr>
                <p:blipFill>
                  <a:blip r:embed="rId2"/>
                  <a:stretch/>
                </p:blipFill>
                <p:spPr>
                  <a:xfrm>
                    <a:off x="5659560" y="1486080"/>
                    <a:ext cx="3538440" cy="2705040"/>
                  </a:xfrm>
                  <a:prstGeom prst="rect">
                    <a:avLst/>
                  </a:prstGeom>
                  <a:ln w="0">
                    <a:noFill/>
                  </a:ln>
                </p:spPr>
              </p:pic>
            </p:oleObj>
          </a:graphicData>
        </a:graphic>
      </p:graphicFrame>
      <p:sp>
        <p:nvSpPr>
          <p:cNvPr id="52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64646"/>
                </a:solidFill>
                <a:latin typeface="Arial"/>
              </a:rPr>
              <a:t>Beware of Allocated Fixed Costs</a:t>
            </a:r>
            <a:endParaRPr b="0" lang="en-US" sz="3400" spc="-1" strike="noStrike">
              <a:solidFill>
                <a:srgbClr val="464646"/>
              </a:solidFill>
              <a:latin typeface="Arial"/>
            </a:endParaRPr>
          </a:p>
        </p:txBody>
      </p:sp>
      <p:sp>
        <p:nvSpPr>
          <p:cNvPr id="523" name="Rectangle 142"/>
          <p:cNvSpPr/>
          <p:nvPr/>
        </p:nvSpPr>
        <p:spPr>
          <a:xfrm>
            <a:off x="5638680" y="1676520"/>
            <a:ext cx="3254400" cy="1551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allocations can make a segment look </a:t>
            </a:r>
            <a:r>
              <a:rPr b="1" lang="en-US" sz="2400" spc="-1" strike="noStrike">
                <a:solidFill>
                  <a:srgbClr val="ff0000"/>
                </a:solidFill>
                <a:latin typeface="Arial"/>
              </a:rPr>
              <a:t>less profitable</a:t>
            </a:r>
            <a:r>
              <a:rPr b="1" lang="en-US" sz="2400" spc="-1" strike="noStrike">
                <a:solidFill>
                  <a:srgbClr val="000000"/>
                </a:solidFill>
                <a:latin typeface="Arial"/>
              </a:rPr>
              <a:t> than it really is.</a:t>
            </a:r>
            <a:endParaRPr b="0" lang="en-US" sz="2400" spc="-1" strike="noStrike">
              <a:solidFill>
                <a:srgbClr val="000000"/>
              </a:solidFill>
              <a:latin typeface="Arial"/>
            </a:endParaRPr>
          </a:p>
        </p:txBody>
      </p:sp>
      <p:sp>
        <p:nvSpPr>
          <p:cNvPr id="524" name="Rectangle 142"/>
          <p:cNvSpPr/>
          <p:nvPr/>
        </p:nvSpPr>
        <p:spPr>
          <a:xfrm>
            <a:off x="457200" y="1709640"/>
            <a:ext cx="4114800" cy="1551960"/>
          </a:xfrm>
          <a:prstGeom prst="rect">
            <a:avLst/>
          </a:prstGeom>
          <a:solidFill>
            <a:srgbClr val="fbe0d1"/>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ing </a:t>
            </a:r>
            <a:r>
              <a:rPr b="1" lang="en-US" sz="2400" spc="-1" strike="noStrike">
                <a:solidFill>
                  <a:srgbClr val="ff0000"/>
                </a:solidFill>
                <a:latin typeface="Arial"/>
              </a:rPr>
              <a:t>unavoidable common fixed costs</a:t>
            </a:r>
            <a:r>
              <a:rPr b="1" lang="en-US" sz="2400" spc="-1" strike="noStrike">
                <a:solidFill>
                  <a:srgbClr val="000000"/>
                </a:solidFill>
                <a:latin typeface="Arial"/>
              </a:rPr>
              <a:t> makes the product line appear to be unprofitable.</a:t>
            </a:r>
            <a:endParaRPr b="0" lang="en-US" sz="2400" spc="-1" strike="noStrike">
              <a:solidFill>
                <a:srgbClr val="000000"/>
              </a:solidFill>
              <a:latin typeface="Arial"/>
            </a:endParaRPr>
          </a:p>
        </p:txBody>
      </p:sp>
      <p:grpSp>
        <p:nvGrpSpPr>
          <p:cNvPr id="525" name="Group 3"/>
          <p:cNvGrpSpPr/>
          <p:nvPr/>
        </p:nvGrpSpPr>
        <p:grpSpPr>
          <a:xfrm>
            <a:off x="1600200" y="3733920"/>
            <a:ext cx="5806800" cy="2877480"/>
            <a:chOff x="1600200" y="3733920"/>
            <a:chExt cx="5806800" cy="2877480"/>
          </a:xfrm>
        </p:grpSpPr>
        <p:grpSp>
          <p:nvGrpSpPr>
            <p:cNvPr id="526" name="Group 4"/>
            <p:cNvGrpSpPr/>
            <p:nvPr/>
          </p:nvGrpSpPr>
          <p:grpSpPr>
            <a:xfrm>
              <a:off x="3612960" y="3979800"/>
              <a:ext cx="1768680" cy="1711440"/>
              <a:chOff x="3612960" y="3979800"/>
              <a:chExt cx="1768680" cy="1711440"/>
            </a:xfrm>
          </p:grpSpPr>
          <p:grpSp>
            <p:nvGrpSpPr>
              <p:cNvPr id="527" name="Group 5"/>
              <p:cNvGrpSpPr/>
              <p:nvPr/>
            </p:nvGrpSpPr>
            <p:grpSpPr>
              <a:xfrm>
                <a:off x="3612960" y="4501440"/>
                <a:ext cx="1768680" cy="1189800"/>
                <a:chOff x="3612960" y="4501440"/>
                <a:chExt cx="1768680" cy="1189800"/>
              </a:xfrm>
            </p:grpSpPr>
            <p:grpSp>
              <p:nvGrpSpPr>
                <p:cNvPr id="528" name="Group 6"/>
                <p:cNvGrpSpPr/>
                <p:nvPr/>
              </p:nvGrpSpPr>
              <p:grpSpPr>
                <a:xfrm>
                  <a:off x="4125960" y="4553640"/>
                  <a:ext cx="671400" cy="1114200"/>
                  <a:chOff x="4125960" y="4553640"/>
                  <a:chExt cx="671400" cy="1114200"/>
                </a:xfrm>
              </p:grpSpPr>
              <p:sp>
                <p:nvSpPr>
                  <p:cNvPr id="529" name="Freeform 7"/>
                  <p:cNvSpPr/>
                  <p:nvPr/>
                </p:nvSpPr>
                <p:spPr>
                  <a:xfrm>
                    <a:off x="4125960" y="4553640"/>
                    <a:ext cx="671400" cy="1114200"/>
                  </a:xfrm>
                  <a:custGeom>
                    <a:avLst/>
                    <a:gdLst>
                      <a:gd name="textAreaLeft" fmla="*/ 0 w 671400"/>
                      <a:gd name="textAreaRight" fmla="*/ 671760 w 671400"/>
                      <a:gd name="textAreaTop" fmla="*/ 0 h 1114200"/>
                      <a:gd name="textAreaBottom" fmla="*/ 1114200 h 1114200"/>
                    </a:gdLst>
                    <a:ahLst/>
                    <a:rect l="textAreaLeft" t="textAreaTop" r="textAreaRight" b="textAreaBottom"/>
                    <a:pathLst>
                      <a:path w="846" h="1405">
                        <a:moveTo>
                          <a:pt x="263" y="0"/>
                        </a:moveTo>
                        <a:lnTo>
                          <a:pt x="499" y="185"/>
                        </a:lnTo>
                        <a:lnTo>
                          <a:pt x="691" y="30"/>
                        </a:lnTo>
                        <a:lnTo>
                          <a:pt x="738" y="705"/>
                        </a:lnTo>
                        <a:lnTo>
                          <a:pt x="792" y="1100"/>
                        </a:lnTo>
                        <a:lnTo>
                          <a:pt x="846" y="1405"/>
                        </a:lnTo>
                        <a:lnTo>
                          <a:pt x="0" y="1405"/>
                        </a:lnTo>
                        <a:lnTo>
                          <a:pt x="120" y="1022"/>
                        </a:lnTo>
                        <a:lnTo>
                          <a:pt x="198" y="544"/>
                        </a:lnTo>
                        <a:lnTo>
                          <a:pt x="263"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8"/>
                  <p:cNvSpPr/>
                  <p:nvPr/>
                </p:nvSpPr>
                <p:spPr>
                  <a:xfrm>
                    <a:off x="4543200" y="4638960"/>
                    <a:ext cx="160560" cy="201240"/>
                  </a:xfrm>
                  <a:custGeom>
                    <a:avLst/>
                    <a:gdLst>
                      <a:gd name="textAreaLeft" fmla="*/ 0 w 160560"/>
                      <a:gd name="textAreaRight" fmla="*/ 160920 w 160560"/>
                      <a:gd name="textAreaTop" fmla="*/ 0 h 201240"/>
                      <a:gd name="textAreaBottom" fmla="*/ 201600 h 201240"/>
                    </a:gdLst>
                    <a:ahLst/>
                    <a:rect l="textAreaLeft" t="textAreaTop" r="textAreaRight" b="textAreaBottom"/>
                    <a:pathLst>
                      <a:path w="202" h="255">
                        <a:moveTo>
                          <a:pt x="0" y="93"/>
                        </a:moveTo>
                        <a:lnTo>
                          <a:pt x="28" y="123"/>
                        </a:lnTo>
                        <a:lnTo>
                          <a:pt x="44" y="141"/>
                        </a:lnTo>
                        <a:lnTo>
                          <a:pt x="54" y="165"/>
                        </a:lnTo>
                        <a:lnTo>
                          <a:pt x="62" y="201"/>
                        </a:lnTo>
                        <a:lnTo>
                          <a:pt x="66" y="239"/>
                        </a:lnTo>
                        <a:lnTo>
                          <a:pt x="86" y="255"/>
                        </a:lnTo>
                        <a:lnTo>
                          <a:pt x="202" y="107"/>
                        </a:lnTo>
                        <a:lnTo>
                          <a:pt x="146" y="0"/>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9"/>
                  <p:cNvSpPr/>
                  <p:nvPr/>
                </p:nvSpPr>
                <p:spPr>
                  <a:xfrm>
                    <a:off x="4311720" y="4567680"/>
                    <a:ext cx="137880" cy="280440"/>
                  </a:xfrm>
                  <a:custGeom>
                    <a:avLst/>
                    <a:gdLst>
                      <a:gd name="textAreaLeft" fmla="*/ 0 w 137880"/>
                      <a:gd name="textAreaRight" fmla="*/ 138240 w 137880"/>
                      <a:gd name="textAreaTop" fmla="*/ 0 h 280440"/>
                      <a:gd name="textAreaBottom" fmla="*/ 280800 h 280440"/>
                    </a:gdLst>
                    <a:ahLst/>
                    <a:rect l="textAreaLeft" t="textAreaTop" r="textAreaRight" b="textAreaBottom"/>
                    <a:pathLst>
                      <a:path w="174" h="355">
                        <a:moveTo>
                          <a:pt x="174" y="165"/>
                        </a:moveTo>
                        <a:lnTo>
                          <a:pt x="160" y="181"/>
                        </a:lnTo>
                        <a:lnTo>
                          <a:pt x="144" y="231"/>
                        </a:lnTo>
                        <a:lnTo>
                          <a:pt x="120" y="291"/>
                        </a:lnTo>
                        <a:lnTo>
                          <a:pt x="96" y="355"/>
                        </a:lnTo>
                        <a:lnTo>
                          <a:pt x="42" y="247"/>
                        </a:lnTo>
                        <a:lnTo>
                          <a:pt x="12" y="137"/>
                        </a:lnTo>
                        <a:lnTo>
                          <a:pt x="0" y="32"/>
                        </a:lnTo>
                        <a:lnTo>
                          <a:pt x="0" y="0"/>
                        </a:lnTo>
                        <a:lnTo>
                          <a:pt x="42" y="0"/>
                        </a:lnTo>
                        <a:lnTo>
                          <a:pt x="174"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Group 10"/>
                  <p:cNvGrpSpPr/>
                  <p:nvPr/>
                </p:nvGrpSpPr>
                <p:grpSpPr>
                  <a:xfrm>
                    <a:off x="4267080" y="5023080"/>
                    <a:ext cx="439920" cy="582120"/>
                    <a:chOff x="4267080" y="5023080"/>
                    <a:chExt cx="439920" cy="582120"/>
                  </a:xfrm>
                </p:grpSpPr>
                <p:sp>
                  <p:nvSpPr>
                    <p:cNvPr id="533" name="Freeform 11"/>
                    <p:cNvSpPr/>
                    <p:nvPr/>
                  </p:nvSpPr>
                  <p:spPr>
                    <a:xfrm>
                      <a:off x="4314600" y="5023080"/>
                      <a:ext cx="330480" cy="323640"/>
                    </a:xfrm>
                    <a:custGeom>
                      <a:avLst/>
                      <a:gdLst>
                        <a:gd name="textAreaLeft" fmla="*/ 0 w 330480"/>
                        <a:gd name="textAreaRight" fmla="*/ 330840 w 330480"/>
                        <a:gd name="textAreaTop" fmla="*/ 0 h 323640"/>
                        <a:gd name="textAreaBottom" fmla="*/ 324000 h 323640"/>
                      </a:gdLst>
                      <a:ahLst/>
                      <a:rect l="textAreaLeft" t="textAreaTop" r="textAreaRight" b="textAreaBottom"/>
                      <a:pathLst>
                        <a:path w="418" h="408">
                          <a:moveTo>
                            <a:pt x="418" y="0"/>
                          </a:moveTo>
                          <a:lnTo>
                            <a:pt x="362" y="6"/>
                          </a:lnTo>
                          <a:lnTo>
                            <a:pt x="314" y="20"/>
                          </a:lnTo>
                          <a:lnTo>
                            <a:pt x="228" y="61"/>
                          </a:lnTo>
                          <a:lnTo>
                            <a:pt x="134" y="139"/>
                          </a:lnTo>
                          <a:lnTo>
                            <a:pt x="96" y="175"/>
                          </a:lnTo>
                          <a:lnTo>
                            <a:pt x="72" y="223"/>
                          </a:lnTo>
                          <a:lnTo>
                            <a:pt x="38" y="269"/>
                          </a:lnTo>
                          <a:lnTo>
                            <a:pt x="20" y="301"/>
                          </a:lnTo>
                          <a:lnTo>
                            <a:pt x="8" y="352"/>
                          </a:lnTo>
                          <a:lnTo>
                            <a:pt x="0" y="390"/>
                          </a:lnTo>
                          <a:lnTo>
                            <a:pt x="8" y="408"/>
                          </a:lnTo>
                          <a:lnTo>
                            <a:pt x="24" y="408"/>
                          </a:lnTo>
                          <a:lnTo>
                            <a:pt x="32" y="384"/>
                          </a:lnTo>
                          <a:lnTo>
                            <a:pt x="66" y="342"/>
                          </a:lnTo>
                          <a:lnTo>
                            <a:pt x="90" y="277"/>
                          </a:lnTo>
                          <a:lnTo>
                            <a:pt x="110" y="241"/>
                          </a:lnTo>
                          <a:lnTo>
                            <a:pt x="144" y="183"/>
                          </a:lnTo>
                          <a:lnTo>
                            <a:pt x="192" y="119"/>
                          </a:lnTo>
                          <a:lnTo>
                            <a:pt x="286" y="56"/>
                          </a:lnTo>
                          <a:lnTo>
                            <a:pt x="344" y="26"/>
                          </a:lnTo>
                          <a:lnTo>
                            <a:pt x="41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12"/>
                    <p:cNvSpPr/>
                    <p:nvPr/>
                  </p:nvSpPr>
                  <p:spPr>
                    <a:xfrm>
                      <a:off x="4267080" y="5173560"/>
                      <a:ext cx="439920" cy="431640"/>
                    </a:xfrm>
                    <a:custGeom>
                      <a:avLst/>
                      <a:gdLst>
                        <a:gd name="textAreaLeft" fmla="*/ 0 w 439920"/>
                        <a:gd name="textAreaRight" fmla="*/ 440280 w 439920"/>
                        <a:gd name="textAreaTop" fmla="*/ 0 h 431640"/>
                        <a:gd name="textAreaBottom" fmla="*/ 432000 h 431640"/>
                      </a:gdLst>
                      <a:ahLst/>
                      <a:rect l="textAreaLeft" t="textAreaTop" r="textAreaRight" b="textAreaBottom"/>
                      <a:pathLst>
                        <a:path w="555" h="544">
                          <a:moveTo>
                            <a:pt x="549" y="0"/>
                          </a:moveTo>
                          <a:lnTo>
                            <a:pt x="477" y="78"/>
                          </a:lnTo>
                          <a:lnTo>
                            <a:pt x="433" y="102"/>
                          </a:lnTo>
                          <a:lnTo>
                            <a:pt x="397" y="114"/>
                          </a:lnTo>
                          <a:lnTo>
                            <a:pt x="351" y="145"/>
                          </a:lnTo>
                          <a:lnTo>
                            <a:pt x="191" y="253"/>
                          </a:lnTo>
                          <a:lnTo>
                            <a:pt x="157" y="289"/>
                          </a:lnTo>
                          <a:lnTo>
                            <a:pt x="107" y="325"/>
                          </a:lnTo>
                          <a:lnTo>
                            <a:pt x="71" y="349"/>
                          </a:lnTo>
                          <a:lnTo>
                            <a:pt x="36" y="373"/>
                          </a:lnTo>
                          <a:lnTo>
                            <a:pt x="6" y="394"/>
                          </a:lnTo>
                          <a:lnTo>
                            <a:pt x="0" y="412"/>
                          </a:lnTo>
                          <a:lnTo>
                            <a:pt x="2" y="430"/>
                          </a:lnTo>
                          <a:lnTo>
                            <a:pt x="20" y="430"/>
                          </a:lnTo>
                          <a:lnTo>
                            <a:pt x="49" y="412"/>
                          </a:lnTo>
                          <a:lnTo>
                            <a:pt x="83" y="390"/>
                          </a:lnTo>
                          <a:lnTo>
                            <a:pt x="113" y="371"/>
                          </a:lnTo>
                          <a:lnTo>
                            <a:pt x="109" y="402"/>
                          </a:lnTo>
                          <a:lnTo>
                            <a:pt x="85" y="438"/>
                          </a:lnTo>
                          <a:lnTo>
                            <a:pt x="65" y="454"/>
                          </a:lnTo>
                          <a:lnTo>
                            <a:pt x="59" y="468"/>
                          </a:lnTo>
                          <a:lnTo>
                            <a:pt x="36" y="490"/>
                          </a:lnTo>
                          <a:lnTo>
                            <a:pt x="14" y="520"/>
                          </a:lnTo>
                          <a:lnTo>
                            <a:pt x="18" y="544"/>
                          </a:lnTo>
                          <a:lnTo>
                            <a:pt x="83" y="538"/>
                          </a:lnTo>
                          <a:lnTo>
                            <a:pt x="101" y="498"/>
                          </a:lnTo>
                          <a:lnTo>
                            <a:pt x="143" y="456"/>
                          </a:lnTo>
                          <a:lnTo>
                            <a:pt x="137" y="426"/>
                          </a:lnTo>
                          <a:lnTo>
                            <a:pt x="191" y="383"/>
                          </a:lnTo>
                          <a:lnTo>
                            <a:pt x="487" y="179"/>
                          </a:lnTo>
                          <a:lnTo>
                            <a:pt x="435" y="173"/>
                          </a:lnTo>
                          <a:lnTo>
                            <a:pt x="417" y="133"/>
                          </a:lnTo>
                          <a:lnTo>
                            <a:pt x="463" y="120"/>
                          </a:lnTo>
                          <a:lnTo>
                            <a:pt x="477" y="108"/>
                          </a:lnTo>
                          <a:lnTo>
                            <a:pt x="493" y="108"/>
                          </a:lnTo>
                          <a:lnTo>
                            <a:pt x="555" y="26"/>
                          </a:lnTo>
                          <a:lnTo>
                            <a:pt x="54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Freeform 13"/>
                  <p:cNvSpPr/>
                  <p:nvPr/>
                </p:nvSpPr>
                <p:spPr>
                  <a:xfrm>
                    <a:off x="4414680" y="4700880"/>
                    <a:ext cx="200160" cy="904680"/>
                  </a:xfrm>
                  <a:custGeom>
                    <a:avLst/>
                    <a:gdLst>
                      <a:gd name="textAreaLeft" fmla="*/ 0 w 200160"/>
                      <a:gd name="textAreaRight" fmla="*/ 200520 w 200160"/>
                      <a:gd name="textAreaTop" fmla="*/ 0 h 904680"/>
                      <a:gd name="textAreaBottom" fmla="*/ 905040 h 904680"/>
                    </a:gdLst>
                    <a:ahLst/>
                    <a:rect l="textAreaLeft" t="textAreaTop" r="textAreaRight" b="textAreaBottom"/>
                    <a:pathLst>
                      <a:path w="254" h="1142">
                        <a:moveTo>
                          <a:pt x="42" y="0"/>
                        </a:moveTo>
                        <a:lnTo>
                          <a:pt x="72" y="30"/>
                        </a:lnTo>
                        <a:lnTo>
                          <a:pt x="98" y="42"/>
                        </a:lnTo>
                        <a:lnTo>
                          <a:pt x="140" y="38"/>
                        </a:lnTo>
                        <a:lnTo>
                          <a:pt x="172" y="26"/>
                        </a:lnTo>
                        <a:lnTo>
                          <a:pt x="184" y="50"/>
                        </a:lnTo>
                        <a:lnTo>
                          <a:pt x="184" y="80"/>
                        </a:lnTo>
                        <a:lnTo>
                          <a:pt x="176" y="102"/>
                        </a:lnTo>
                        <a:lnTo>
                          <a:pt x="164" y="114"/>
                        </a:lnTo>
                        <a:lnTo>
                          <a:pt x="136" y="138"/>
                        </a:lnTo>
                        <a:lnTo>
                          <a:pt x="184" y="200"/>
                        </a:lnTo>
                        <a:lnTo>
                          <a:pt x="206" y="239"/>
                        </a:lnTo>
                        <a:lnTo>
                          <a:pt x="218" y="275"/>
                        </a:lnTo>
                        <a:lnTo>
                          <a:pt x="224" y="365"/>
                        </a:lnTo>
                        <a:lnTo>
                          <a:pt x="244" y="562"/>
                        </a:lnTo>
                        <a:lnTo>
                          <a:pt x="254" y="676"/>
                        </a:lnTo>
                        <a:lnTo>
                          <a:pt x="254" y="813"/>
                        </a:lnTo>
                        <a:lnTo>
                          <a:pt x="250" y="969"/>
                        </a:lnTo>
                        <a:lnTo>
                          <a:pt x="246" y="1142"/>
                        </a:lnTo>
                        <a:lnTo>
                          <a:pt x="6" y="1140"/>
                        </a:lnTo>
                        <a:lnTo>
                          <a:pt x="0" y="965"/>
                        </a:lnTo>
                        <a:lnTo>
                          <a:pt x="6" y="863"/>
                        </a:lnTo>
                        <a:lnTo>
                          <a:pt x="14" y="737"/>
                        </a:lnTo>
                        <a:lnTo>
                          <a:pt x="14" y="526"/>
                        </a:lnTo>
                        <a:lnTo>
                          <a:pt x="14" y="457"/>
                        </a:lnTo>
                        <a:lnTo>
                          <a:pt x="20" y="287"/>
                        </a:lnTo>
                        <a:lnTo>
                          <a:pt x="32" y="235"/>
                        </a:lnTo>
                        <a:lnTo>
                          <a:pt x="60" y="144"/>
                        </a:lnTo>
                        <a:lnTo>
                          <a:pt x="26" y="98"/>
                        </a:lnTo>
                        <a:lnTo>
                          <a:pt x="12" y="74"/>
                        </a:lnTo>
                        <a:lnTo>
                          <a:pt x="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Group 14"/>
                <p:cNvGrpSpPr/>
                <p:nvPr/>
              </p:nvGrpSpPr>
              <p:grpSpPr>
                <a:xfrm>
                  <a:off x="3612960" y="4501440"/>
                  <a:ext cx="1768680" cy="1189800"/>
                  <a:chOff x="3612960" y="4501440"/>
                  <a:chExt cx="1768680" cy="1189800"/>
                </a:xfrm>
              </p:grpSpPr>
              <p:grpSp>
                <p:nvGrpSpPr>
                  <p:cNvPr id="537" name="Group 15"/>
                  <p:cNvGrpSpPr/>
                  <p:nvPr/>
                </p:nvGrpSpPr>
                <p:grpSpPr>
                  <a:xfrm>
                    <a:off x="3612960" y="4531320"/>
                    <a:ext cx="750960" cy="1159920"/>
                    <a:chOff x="3612960" y="4531320"/>
                    <a:chExt cx="750960" cy="1159920"/>
                  </a:xfrm>
                </p:grpSpPr>
                <p:sp>
                  <p:nvSpPr>
                    <p:cNvPr id="538" name="Freeform 16"/>
                    <p:cNvSpPr/>
                    <p:nvPr/>
                  </p:nvSpPr>
                  <p:spPr>
                    <a:xfrm>
                      <a:off x="3612960" y="4545360"/>
                      <a:ext cx="741600" cy="1145880"/>
                    </a:xfrm>
                    <a:custGeom>
                      <a:avLst/>
                      <a:gdLst>
                        <a:gd name="textAreaLeft" fmla="*/ 0 w 741600"/>
                        <a:gd name="textAreaRight" fmla="*/ 741960 w 741600"/>
                        <a:gd name="textAreaTop" fmla="*/ 0 h 1145880"/>
                        <a:gd name="textAreaBottom" fmla="*/ 1145880 h 1145880"/>
                      </a:gdLst>
                      <a:ahLst/>
                      <a:rect l="textAreaLeft" t="textAreaTop" r="textAreaRight" b="textAreaBottom"/>
                      <a:pathLst>
                        <a:path w="934" h="1444">
                          <a:moveTo>
                            <a:pt x="829" y="0"/>
                          </a:moveTo>
                          <a:lnTo>
                            <a:pt x="795" y="46"/>
                          </a:lnTo>
                          <a:lnTo>
                            <a:pt x="705" y="76"/>
                          </a:lnTo>
                          <a:lnTo>
                            <a:pt x="631" y="94"/>
                          </a:lnTo>
                          <a:lnTo>
                            <a:pt x="567" y="102"/>
                          </a:lnTo>
                          <a:lnTo>
                            <a:pt x="453" y="120"/>
                          </a:lnTo>
                          <a:lnTo>
                            <a:pt x="413" y="136"/>
                          </a:lnTo>
                          <a:lnTo>
                            <a:pt x="399" y="143"/>
                          </a:lnTo>
                          <a:lnTo>
                            <a:pt x="389" y="155"/>
                          </a:lnTo>
                          <a:lnTo>
                            <a:pt x="359" y="299"/>
                          </a:lnTo>
                          <a:lnTo>
                            <a:pt x="339" y="375"/>
                          </a:lnTo>
                          <a:lnTo>
                            <a:pt x="316" y="452"/>
                          </a:lnTo>
                          <a:lnTo>
                            <a:pt x="304" y="494"/>
                          </a:lnTo>
                          <a:lnTo>
                            <a:pt x="294" y="500"/>
                          </a:lnTo>
                          <a:lnTo>
                            <a:pt x="272" y="514"/>
                          </a:lnTo>
                          <a:lnTo>
                            <a:pt x="266" y="534"/>
                          </a:lnTo>
                          <a:lnTo>
                            <a:pt x="250" y="566"/>
                          </a:lnTo>
                          <a:lnTo>
                            <a:pt x="196" y="707"/>
                          </a:lnTo>
                          <a:lnTo>
                            <a:pt x="188" y="761"/>
                          </a:lnTo>
                          <a:lnTo>
                            <a:pt x="174" y="795"/>
                          </a:lnTo>
                          <a:lnTo>
                            <a:pt x="108" y="865"/>
                          </a:lnTo>
                          <a:lnTo>
                            <a:pt x="94" y="899"/>
                          </a:lnTo>
                          <a:lnTo>
                            <a:pt x="76" y="928"/>
                          </a:lnTo>
                          <a:lnTo>
                            <a:pt x="62" y="954"/>
                          </a:lnTo>
                          <a:lnTo>
                            <a:pt x="48" y="984"/>
                          </a:lnTo>
                          <a:lnTo>
                            <a:pt x="28" y="1040"/>
                          </a:lnTo>
                          <a:lnTo>
                            <a:pt x="8" y="1088"/>
                          </a:lnTo>
                          <a:lnTo>
                            <a:pt x="0" y="1118"/>
                          </a:lnTo>
                          <a:lnTo>
                            <a:pt x="4" y="1154"/>
                          </a:lnTo>
                          <a:lnTo>
                            <a:pt x="6" y="1185"/>
                          </a:lnTo>
                          <a:lnTo>
                            <a:pt x="16" y="1225"/>
                          </a:lnTo>
                          <a:lnTo>
                            <a:pt x="32" y="1255"/>
                          </a:lnTo>
                          <a:lnTo>
                            <a:pt x="44" y="1285"/>
                          </a:lnTo>
                          <a:lnTo>
                            <a:pt x="80" y="1317"/>
                          </a:lnTo>
                          <a:lnTo>
                            <a:pt x="381" y="1325"/>
                          </a:lnTo>
                          <a:lnTo>
                            <a:pt x="447" y="1142"/>
                          </a:lnTo>
                          <a:lnTo>
                            <a:pt x="501" y="1054"/>
                          </a:lnTo>
                          <a:lnTo>
                            <a:pt x="533" y="928"/>
                          </a:lnTo>
                          <a:lnTo>
                            <a:pt x="483" y="1176"/>
                          </a:lnTo>
                          <a:lnTo>
                            <a:pt x="463" y="1261"/>
                          </a:lnTo>
                          <a:lnTo>
                            <a:pt x="445" y="1357"/>
                          </a:lnTo>
                          <a:lnTo>
                            <a:pt x="411" y="1444"/>
                          </a:lnTo>
                          <a:lnTo>
                            <a:pt x="645" y="1444"/>
                          </a:lnTo>
                          <a:lnTo>
                            <a:pt x="723" y="1307"/>
                          </a:lnTo>
                          <a:lnTo>
                            <a:pt x="767" y="1239"/>
                          </a:lnTo>
                          <a:lnTo>
                            <a:pt x="803" y="1158"/>
                          </a:lnTo>
                          <a:lnTo>
                            <a:pt x="845" y="1054"/>
                          </a:lnTo>
                          <a:lnTo>
                            <a:pt x="862" y="954"/>
                          </a:lnTo>
                          <a:lnTo>
                            <a:pt x="882" y="867"/>
                          </a:lnTo>
                          <a:lnTo>
                            <a:pt x="904" y="767"/>
                          </a:lnTo>
                          <a:lnTo>
                            <a:pt x="920" y="669"/>
                          </a:lnTo>
                          <a:lnTo>
                            <a:pt x="934" y="558"/>
                          </a:lnTo>
                          <a:lnTo>
                            <a:pt x="934" y="482"/>
                          </a:lnTo>
                          <a:lnTo>
                            <a:pt x="934" y="410"/>
                          </a:lnTo>
                          <a:lnTo>
                            <a:pt x="934" y="307"/>
                          </a:lnTo>
                          <a:lnTo>
                            <a:pt x="934" y="243"/>
                          </a:lnTo>
                          <a:lnTo>
                            <a:pt x="902" y="26"/>
                          </a:lnTo>
                          <a:lnTo>
                            <a:pt x="82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17"/>
                    <p:cNvSpPr/>
                    <p:nvPr/>
                  </p:nvSpPr>
                  <p:spPr>
                    <a:xfrm>
                      <a:off x="3797280" y="5085000"/>
                      <a:ext cx="315720" cy="271080"/>
                    </a:xfrm>
                    <a:custGeom>
                      <a:avLst/>
                      <a:gdLst>
                        <a:gd name="textAreaLeft" fmla="*/ 0 w 315720"/>
                        <a:gd name="textAreaRight" fmla="*/ 316080 w 315720"/>
                        <a:gd name="textAreaTop" fmla="*/ 0 h 271080"/>
                        <a:gd name="textAreaBottom" fmla="*/ 271440 h 271080"/>
                      </a:gdLst>
                      <a:ahLst/>
                      <a:rect l="textAreaLeft" t="textAreaTop" r="textAreaRight" b="textAreaBottom"/>
                      <a:pathLst>
                        <a:path w="397" h="343">
                          <a:moveTo>
                            <a:pt x="133" y="0"/>
                          </a:moveTo>
                          <a:lnTo>
                            <a:pt x="175" y="12"/>
                          </a:lnTo>
                          <a:lnTo>
                            <a:pt x="205" y="20"/>
                          </a:lnTo>
                          <a:lnTo>
                            <a:pt x="223" y="36"/>
                          </a:lnTo>
                          <a:lnTo>
                            <a:pt x="245" y="48"/>
                          </a:lnTo>
                          <a:lnTo>
                            <a:pt x="263" y="60"/>
                          </a:lnTo>
                          <a:lnTo>
                            <a:pt x="283" y="74"/>
                          </a:lnTo>
                          <a:lnTo>
                            <a:pt x="311" y="32"/>
                          </a:lnTo>
                          <a:lnTo>
                            <a:pt x="313" y="86"/>
                          </a:lnTo>
                          <a:lnTo>
                            <a:pt x="323" y="122"/>
                          </a:lnTo>
                          <a:lnTo>
                            <a:pt x="355" y="90"/>
                          </a:lnTo>
                          <a:lnTo>
                            <a:pt x="379" y="62"/>
                          </a:lnTo>
                          <a:lnTo>
                            <a:pt x="397" y="42"/>
                          </a:lnTo>
                          <a:lnTo>
                            <a:pt x="397" y="84"/>
                          </a:lnTo>
                          <a:lnTo>
                            <a:pt x="379" y="132"/>
                          </a:lnTo>
                          <a:lnTo>
                            <a:pt x="361" y="174"/>
                          </a:lnTo>
                          <a:lnTo>
                            <a:pt x="335" y="200"/>
                          </a:lnTo>
                          <a:lnTo>
                            <a:pt x="319" y="218"/>
                          </a:lnTo>
                          <a:lnTo>
                            <a:pt x="295" y="218"/>
                          </a:lnTo>
                          <a:lnTo>
                            <a:pt x="259" y="341"/>
                          </a:lnTo>
                          <a:lnTo>
                            <a:pt x="221" y="343"/>
                          </a:lnTo>
                          <a:lnTo>
                            <a:pt x="185" y="331"/>
                          </a:lnTo>
                          <a:lnTo>
                            <a:pt x="157" y="317"/>
                          </a:lnTo>
                          <a:lnTo>
                            <a:pt x="193" y="299"/>
                          </a:lnTo>
                          <a:lnTo>
                            <a:pt x="203" y="293"/>
                          </a:lnTo>
                          <a:lnTo>
                            <a:pt x="125" y="218"/>
                          </a:lnTo>
                          <a:lnTo>
                            <a:pt x="84" y="210"/>
                          </a:lnTo>
                          <a:lnTo>
                            <a:pt x="26" y="212"/>
                          </a:lnTo>
                          <a:lnTo>
                            <a:pt x="14" y="212"/>
                          </a:lnTo>
                          <a:lnTo>
                            <a:pt x="0" y="198"/>
                          </a:lnTo>
                          <a:lnTo>
                            <a:pt x="0" y="174"/>
                          </a:lnTo>
                          <a:lnTo>
                            <a:pt x="78" y="174"/>
                          </a:lnTo>
                          <a:lnTo>
                            <a:pt x="102" y="176"/>
                          </a:lnTo>
                          <a:lnTo>
                            <a:pt x="96" y="182"/>
                          </a:lnTo>
                          <a:lnTo>
                            <a:pt x="131" y="206"/>
                          </a:lnTo>
                          <a:lnTo>
                            <a:pt x="173" y="241"/>
                          </a:lnTo>
                          <a:lnTo>
                            <a:pt x="203" y="265"/>
                          </a:lnTo>
                          <a:lnTo>
                            <a:pt x="235" y="212"/>
                          </a:lnTo>
                          <a:lnTo>
                            <a:pt x="235" y="194"/>
                          </a:lnTo>
                          <a:lnTo>
                            <a:pt x="229" y="146"/>
                          </a:lnTo>
                          <a:lnTo>
                            <a:pt x="259" y="156"/>
                          </a:lnTo>
                          <a:lnTo>
                            <a:pt x="275" y="138"/>
                          </a:lnTo>
                          <a:lnTo>
                            <a:pt x="251" y="114"/>
                          </a:lnTo>
                          <a:lnTo>
                            <a:pt x="227" y="90"/>
                          </a:lnTo>
                          <a:lnTo>
                            <a:pt x="187" y="62"/>
                          </a:lnTo>
                          <a:lnTo>
                            <a:pt x="167" y="30"/>
                          </a:lnTo>
                          <a:lnTo>
                            <a:pt x="133"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18"/>
                    <p:cNvSpPr/>
                    <p:nvPr/>
                  </p:nvSpPr>
                  <p:spPr>
                    <a:xfrm>
                      <a:off x="3903480" y="4702320"/>
                      <a:ext cx="141480" cy="365040"/>
                    </a:xfrm>
                    <a:custGeom>
                      <a:avLst/>
                      <a:gdLst>
                        <a:gd name="textAreaLeft" fmla="*/ 0 w 141480"/>
                        <a:gd name="textAreaRight" fmla="*/ 141840 w 141480"/>
                        <a:gd name="textAreaTop" fmla="*/ 0 h 365040"/>
                        <a:gd name="textAreaBottom" fmla="*/ 365400 h 365040"/>
                      </a:gdLst>
                      <a:ahLst/>
                      <a:rect l="textAreaLeft" t="textAreaTop" r="textAreaRight" b="textAreaBottom"/>
                      <a:pathLst>
                        <a:path w="178" h="461">
                          <a:moveTo>
                            <a:pt x="60" y="0"/>
                          </a:moveTo>
                          <a:lnTo>
                            <a:pt x="132" y="142"/>
                          </a:lnTo>
                          <a:lnTo>
                            <a:pt x="154" y="215"/>
                          </a:lnTo>
                          <a:lnTo>
                            <a:pt x="172" y="287"/>
                          </a:lnTo>
                          <a:lnTo>
                            <a:pt x="178" y="347"/>
                          </a:lnTo>
                          <a:lnTo>
                            <a:pt x="178" y="461"/>
                          </a:lnTo>
                          <a:lnTo>
                            <a:pt x="166" y="423"/>
                          </a:lnTo>
                          <a:lnTo>
                            <a:pt x="100" y="389"/>
                          </a:lnTo>
                          <a:lnTo>
                            <a:pt x="72" y="381"/>
                          </a:lnTo>
                          <a:lnTo>
                            <a:pt x="18" y="341"/>
                          </a:lnTo>
                          <a:lnTo>
                            <a:pt x="0" y="287"/>
                          </a:lnTo>
                          <a:lnTo>
                            <a:pt x="16" y="263"/>
                          </a:lnTo>
                          <a:lnTo>
                            <a:pt x="64" y="333"/>
                          </a:lnTo>
                          <a:lnTo>
                            <a:pt x="90" y="363"/>
                          </a:lnTo>
                          <a:lnTo>
                            <a:pt x="136" y="389"/>
                          </a:lnTo>
                          <a:lnTo>
                            <a:pt x="150" y="389"/>
                          </a:lnTo>
                          <a:lnTo>
                            <a:pt x="166" y="407"/>
                          </a:lnTo>
                          <a:lnTo>
                            <a:pt x="154" y="263"/>
                          </a:lnTo>
                          <a:lnTo>
                            <a:pt x="112" y="156"/>
                          </a:lnTo>
                          <a:lnTo>
                            <a:pt x="88" y="102"/>
                          </a:lnTo>
                          <a:lnTo>
                            <a:pt x="6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Group 19"/>
                    <p:cNvGrpSpPr/>
                    <p:nvPr/>
                  </p:nvGrpSpPr>
                  <p:grpSpPr>
                    <a:xfrm>
                      <a:off x="4032000" y="4531320"/>
                      <a:ext cx="331920" cy="1159920"/>
                      <a:chOff x="4032000" y="4531320"/>
                      <a:chExt cx="331920" cy="1159920"/>
                    </a:xfrm>
                  </p:grpSpPr>
                  <p:sp>
                    <p:nvSpPr>
                      <p:cNvPr id="542" name="Freeform 20"/>
                      <p:cNvSpPr/>
                      <p:nvPr/>
                    </p:nvSpPr>
                    <p:spPr>
                      <a:xfrm>
                        <a:off x="4032000" y="4545360"/>
                        <a:ext cx="322560" cy="1145880"/>
                      </a:xfrm>
                      <a:custGeom>
                        <a:avLst/>
                        <a:gdLst>
                          <a:gd name="textAreaLeft" fmla="*/ 0 w 322560"/>
                          <a:gd name="textAreaRight" fmla="*/ 322920 w 322560"/>
                          <a:gd name="textAreaTop" fmla="*/ 0 h 1145880"/>
                          <a:gd name="textAreaBottom" fmla="*/ 1145880 h 1145880"/>
                        </a:gdLst>
                        <a:ahLst/>
                        <a:rect l="textAreaLeft" t="textAreaTop" r="textAreaRight" b="textAreaBottom"/>
                        <a:pathLst>
                          <a:path w="405" h="1444">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69"/>
                            </a:lnTo>
                            <a:lnTo>
                              <a:pt x="164" y="723"/>
                            </a:lnTo>
                            <a:lnTo>
                              <a:pt x="182" y="789"/>
                            </a:lnTo>
                            <a:lnTo>
                              <a:pt x="192" y="829"/>
                            </a:lnTo>
                            <a:lnTo>
                              <a:pt x="200" y="887"/>
                            </a:lnTo>
                            <a:lnTo>
                              <a:pt x="202" y="938"/>
                            </a:lnTo>
                            <a:lnTo>
                              <a:pt x="192" y="1000"/>
                            </a:lnTo>
                            <a:lnTo>
                              <a:pt x="182" y="1054"/>
                            </a:lnTo>
                            <a:lnTo>
                              <a:pt x="166" y="1108"/>
                            </a:lnTo>
                            <a:lnTo>
                              <a:pt x="140" y="1176"/>
                            </a:lnTo>
                            <a:lnTo>
                              <a:pt x="112" y="1247"/>
                            </a:lnTo>
                            <a:lnTo>
                              <a:pt x="72" y="1317"/>
                            </a:lnTo>
                            <a:lnTo>
                              <a:pt x="0" y="1444"/>
                            </a:lnTo>
                            <a:lnTo>
                              <a:pt x="116" y="1444"/>
                            </a:lnTo>
                            <a:lnTo>
                              <a:pt x="194" y="1307"/>
                            </a:lnTo>
                            <a:lnTo>
                              <a:pt x="238" y="1239"/>
                            </a:lnTo>
                            <a:lnTo>
                              <a:pt x="274" y="1158"/>
                            </a:lnTo>
                            <a:lnTo>
                              <a:pt x="316" y="1054"/>
                            </a:lnTo>
                            <a:lnTo>
                              <a:pt x="333" y="954"/>
                            </a:lnTo>
                            <a:lnTo>
                              <a:pt x="353" y="867"/>
                            </a:lnTo>
                            <a:lnTo>
                              <a:pt x="375" y="767"/>
                            </a:lnTo>
                            <a:lnTo>
                              <a:pt x="391" y="669"/>
                            </a:lnTo>
                            <a:lnTo>
                              <a:pt x="405" y="558"/>
                            </a:lnTo>
                            <a:lnTo>
                              <a:pt x="405" y="482"/>
                            </a:lnTo>
                            <a:lnTo>
                              <a:pt x="405" y="410"/>
                            </a:lnTo>
                            <a:lnTo>
                              <a:pt x="405" y="307"/>
                            </a:lnTo>
                            <a:lnTo>
                              <a:pt x="405" y="243"/>
                            </a:lnTo>
                            <a:lnTo>
                              <a:pt x="373" y="26"/>
                            </a:lnTo>
                            <a:lnTo>
                              <a:pt x="30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21"/>
                      <p:cNvSpPr/>
                      <p:nvPr/>
                    </p:nvSpPr>
                    <p:spPr>
                      <a:xfrm>
                        <a:off x="4041720" y="4531320"/>
                        <a:ext cx="322200" cy="1145880"/>
                      </a:xfrm>
                      <a:custGeom>
                        <a:avLst/>
                        <a:gdLst>
                          <a:gd name="textAreaLeft" fmla="*/ 0 w 322200"/>
                          <a:gd name="textAreaRight" fmla="*/ 322200 w 322200"/>
                          <a:gd name="textAreaTop" fmla="*/ 0 h 1145880"/>
                          <a:gd name="textAreaBottom" fmla="*/ 1146240 h 1145880"/>
                        </a:gdLst>
                        <a:ahLst/>
                        <a:rect l="textAreaLeft" t="textAreaTop" r="textAreaRight" b="textAreaBottom"/>
                        <a:pathLst>
                          <a:path w="405" h="1445">
                            <a:moveTo>
                              <a:pt x="300" y="0"/>
                            </a:moveTo>
                            <a:lnTo>
                              <a:pt x="266" y="46"/>
                            </a:lnTo>
                            <a:lnTo>
                              <a:pt x="224" y="104"/>
                            </a:lnTo>
                            <a:lnTo>
                              <a:pt x="156" y="183"/>
                            </a:lnTo>
                            <a:lnTo>
                              <a:pt x="108" y="249"/>
                            </a:lnTo>
                            <a:lnTo>
                              <a:pt x="238" y="315"/>
                            </a:lnTo>
                            <a:lnTo>
                              <a:pt x="106" y="367"/>
                            </a:lnTo>
                            <a:lnTo>
                              <a:pt x="108" y="440"/>
                            </a:lnTo>
                            <a:lnTo>
                              <a:pt x="110" y="492"/>
                            </a:lnTo>
                            <a:lnTo>
                              <a:pt x="118" y="542"/>
                            </a:lnTo>
                            <a:lnTo>
                              <a:pt x="130" y="598"/>
                            </a:lnTo>
                            <a:lnTo>
                              <a:pt x="148" y="670"/>
                            </a:lnTo>
                            <a:lnTo>
                              <a:pt x="164" y="723"/>
                            </a:lnTo>
                            <a:lnTo>
                              <a:pt x="182" y="783"/>
                            </a:lnTo>
                            <a:lnTo>
                              <a:pt x="192" y="829"/>
                            </a:lnTo>
                            <a:lnTo>
                              <a:pt x="200" y="887"/>
                            </a:lnTo>
                            <a:lnTo>
                              <a:pt x="202" y="938"/>
                            </a:lnTo>
                            <a:lnTo>
                              <a:pt x="192" y="1000"/>
                            </a:lnTo>
                            <a:lnTo>
                              <a:pt x="182" y="1054"/>
                            </a:lnTo>
                            <a:lnTo>
                              <a:pt x="166" y="1108"/>
                            </a:lnTo>
                            <a:lnTo>
                              <a:pt x="140" y="1176"/>
                            </a:lnTo>
                            <a:lnTo>
                              <a:pt x="112" y="1247"/>
                            </a:lnTo>
                            <a:lnTo>
                              <a:pt x="72" y="1317"/>
                            </a:lnTo>
                            <a:lnTo>
                              <a:pt x="0" y="1445"/>
                            </a:lnTo>
                            <a:lnTo>
                              <a:pt x="116" y="1445"/>
                            </a:lnTo>
                            <a:lnTo>
                              <a:pt x="194" y="1307"/>
                            </a:lnTo>
                            <a:lnTo>
                              <a:pt x="238" y="1239"/>
                            </a:lnTo>
                            <a:lnTo>
                              <a:pt x="274" y="1158"/>
                            </a:lnTo>
                            <a:lnTo>
                              <a:pt x="316" y="1054"/>
                            </a:lnTo>
                            <a:lnTo>
                              <a:pt x="333" y="954"/>
                            </a:lnTo>
                            <a:lnTo>
                              <a:pt x="353" y="867"/>
                            </a:lnTo>
                            <a:lnTo>
                              <a:pt x="375" y="767"/>
                            </a:lnTo>
                            <a:lnTo>
                              <a:pt x="391" y="670"/>
                            </a:lnTo>
                            <a:lnTo>
                              <a:pt x="405" y="558"/>
                            </a:lnTo>
                            <a:lnTo>
                              <a:pt x="405" y="482"/>
                            </a:lnTo>
                            <a:lnTo>
                              <a:pt x="405" y="411"/>
                            </a:lnTo>
                            <a:lnTo>
                              <a:pt x="405" y="307"/>
                            </a:lnTo>
                            <a:lnTo>
                              <a:pt x="405" y="243"/>
                            </a:lnTo>
                            <a:lnTo>
                              <a:pt x="373" y="26"/>
                            </a:lnTo>
                            <a:lnTo>
                              <a:pt x="30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4" name="Group 22"/>
                  <p:cNvGrpSpPr/>
                  <p:nvPr/>
                </p:nvGrpSpPr>
                <p:grpSpPr>
                  <a:xfrm>
                    <a:off x="4624200" y="4501440"/>
                    <a:ext cx="757440" cy="1142280"/>
                    <a:chOff x="4624200" y="4501440"/>
                    <a:chExt cx="757440" cy="1142280"/>
                  </a:xfrm>
                </p:grpSpPr>
                <p:sp>
                  <p:nvSpPr>
                    <p:cNvPr id="545" name="Freeform 23"/>
                    <p:cNvSpPr/>
                    <p:nvPr/>
                  </p:nvSpPr>
                  <p:spPr>
                    <a:xfrm>
                      <a:off x="4633920" y="4515480"/>
                      <a:ext cx="747720" cy="1128240"/>
                    </a:xfrm>
                    <a:custGeom>
                      <a:avLst/>
                      <a:gdLst>
                        <a:gd name="textAreaLeft" fmla="*/ 0 w 747720"/>
                        <a:gd name="textAreaRight" fmla="*/ 748080 w 747720"/>
                        <a:gd name="textAreaTop" fmla="*/ 0 h 1128240"/>
                        <a:gd name="textAreaBottom" fmla="*/ 1128600 h 1128240"/>
                      </a:gdLst>
                      <a:ahLst/>
                      <a:rect l="textAreaLeft" t="textAreaTop" r="textAreaRight" b="textAreaBottom"/>
                      <a:pathLst>
                        <a:path w="942"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874" y="1423"/>
                          </a:lnTo>
                          <a:lnTo>
                            <a:pt x="942" y="1385"/>
                          </a:lnTo>
                          <a:lnTo>
                            <a:pt x="900" y="1080"/>
                          </a:lnTo>
                          <a:lnTo>
                            <a:pt x="870" y="972"/>
                          </a:lnTo>
                          <a:lnTo>
                            <a:pt x="870" y="897"/>
                          </a:lnTo>
                          <a:lnTo>
                            <a:pt x="862" y="871"/>
                          </a:lnTo>
                          <a:lnTo>
                            <a:pt x="856" y="843"/>
                          </a:lnTo>
                          <a:lnTo>
                            <a:pt x="842" y="827"/>
                          </a:lnTo>
                          <a:lnTo>
                            <a:pt x="810" y="789"/>
                          </a:lnTo>
                          <a:lnTo>
                            <a:pt x="800" y="757"/>
                          </a:lnTo>
                          <a:lnTo>
                            <a:pt x="788" y="711"/>
                          </a:lnTo>
                          <a:lnTo>
                            <a:pt x="776" y="670"/>
                          </a:lnTo>
                          <a:lnTo>
                            <a:pt x="748" y="616"/>
                          </a:lnTo>
                          <a:lnTo>
                            <a:pt x="712" y="472"/>
                          </a:lnTo>
                          <a:lnTo>
                            <a:pt x="690" y="440"/>
                          </a:lnTo>
                          <a:lnTo>
                            <a:pt x="668" y="427"/>
                          </a:lnTo>
                          <a:lnTo>
                            <a:pt x="644" y="409"/>
                          </a:lnTo>
                          <a:lnTo>
                            <a:pt x="654" y="369"/>
                          </a:lnTo>
                          <a:lnTo>
                            <a:pt x="646" y="353"/>
                          </a:lnTo>
                          <a:lnTo>
                            <a:pt x="613" y="301"/>
                          </a:lnTo>
                          <a:lnTo>
                            <a:pt x="628" y="269"/>
                          </a:lnTo>
                          <a:lnTo>
                            <a:pt x="632" y="247"/>
                          </a:lnTo>
                          <a:lnTo>
                            <a:pt x="630" y="225"/>
                          </a:lnTo>
                          <a:lnTo>
                            <a:pt x="622" y="201"/>
                          </a:lnTo>
                          <a:lnTo>
                            <a:pt x="611" y="166"/>
                          </a:lnTo>
                          <a:lnTo>
                            <a:pt x="601" y="144"/>
                          </a:lnTo>
                          <a:lnTo>
                            <a:pt x="589" y="136"/>
                          </a:lnTo>
                          <a:lnTo>
                            <a:pt x="571" y="128"/>
                          </a:lnTo>
                          <a:lnTo>
                            <a:pt x="547" y="122"/>
                          </a:lnTo>
                          <a:lnTo>
                            <a:pt x="471" y="120"/>
                          </a:lnTo>
                          <a:lnTo>
                            <a:pt x="387" y="108"/>
                          </a:lnTo>
                          <a:lnTo>
                            <a:pt x="299" y="86"/>
                          </a:lnTo>
                          <a:lnTo>
                            <a:pt x="219" y="62"/>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24"/>
                    <p:cNvSpPr/>
                    <p:nvPr/>
                  </p:nvSpPr>
                  <p:spPr>
                    <a:xfrm>
                      <a:off x="4913280" y="4644000"/>
                      <a:ext cx="360360" cy="779040"/>
                    </a:xfrm>
                    <a:custGeom>
                      <a:avLst/>
                      <a:gdLst>
                        <a:gd name="textAreaLeft" fmla="*/ 0 w 360360"/>
                        <a:gd name="textAreaRight" fmla="*/ 360720 w 360360"/>
                        <a:gd name="textAreaTop" fmla="*/ 0 h 779040"/>
                        <a:gd name="textAreaBottom" fmla="*/ 779400 h 779040"/>
                      </a:gdLst>
                      <a:ahLst/>
                      <a:rect l="textAreaLeft" t="textAreaTop" r="textAreaRight" b="textAreaBottom"/>
                      <a:pathLst>
                        <a:path w="453" h="982">
                          <a:moveTo>
                            <a:pt x="172" y="0"/>
                          </a:moveTo>
                          <a:lnTo>
                            <a:pt x="210" y="35"/>
                          </a:lnTo>
                          <a:lnTo>
                            <a:pt x="184" y="71"/>
                          </a:lnTo>
                          <a:lnTo>
                            <a:pt x="172" y="107"/>
                          </a:lnTo>
                          <a:lnTo>
                            <a:pt x="160" y="155"/>
                          </a:lnTo>
                          <a:lnTo>
                            <a:pt x="150" y="227"/>
                          </a:lnTo>
                          <a:lnTo>
                            <a:pt x="190" y="211"/>
                          </a:lnTo>
                          <a:lnTo>
                            <a:pt x="220" y="199"/>
                          </a:lnTo>
                          <a:lnTo>
                            <a:pt x="244" y="217"/>
                          </a:lnTo>
                          <a:lnTo>
                            <a:pt x="178" y="275"/>
                          </a:lnTo>
                          <a:lnTo>
                            <a:pt x="150" y="306"/>
                          </a:lnTo>
                          <a:lnTo>
                            <a:pt x="150" y="394"/>
                          </a:lnTo>
                          <a:lnTo>
                            <a:pt x="160" y="402"/>
                          </a:lnTo>
                          <a:lnTo>
                            <a:pt x="226" y="348"/>
                          </a:lnTo>
                          <a:lnTo>
                            <a:pt x="258" y="330"/>
                          </a:lnTo>
                          <a:lnTo>
                            <a:pt x="297" y="316"/>
                          </a:lnTo>
                          <a:lnTo>
                            <a:pt x="317" y="316"/>
                          </a:lnTo>
                          <a:lnTo>
                            <a:pt x="299" y="348"/>
                          </a:lnTo>
                          <a:lnTo>
                            <a:pt x="275" y="378"/>
                          </a:lnTo>
                          <a:lnTo>
                            <a:pt x="244" y="400"/>
                          </a:lnTo>
                          <a:lnTo>
                            <a:pt x="210" y="412"/>
                          </a:lnTo>
                          <a:lnTo>
                            <a:pt x="184" y="426"/>
                          </a:lnTo>
                          <a:lnTo>
                            <a:pt x="154" y="456"/>
                          </a:lnTo>
                          <a:lnTo>
                            <a:pt x="148" y="516"/>
                          </a:lnTo>
                          <a:lnTo>
                            <a:pt x="132" y="551"/>
                          </a:lnTo>
                          <a:lnTo>
                            <a:pt x="138" y="611"/>
                          </a:lnTo>
                          <a:lnTo>
                            <a:pt x="136" y="661"/>
                          </a:lnTo>
                          <a:lnTo>
                            <a:pt x="156" y="651"/>
                          </a:lnTo>
                          <a:lnTo>
                            <a:pt x="174" y="651"/>
                          </a:lnTo>
                          <a:lnTo>
                            <a:pt x="160" y="695"/>
                          </a:lnTo>
                          <a:lnTo>
                            <a:pt x="130" y="725"/>
                          </a:lnTo>
                          <a:lnTo>
                            <a:pt x="132" y="749"/>
                          </a:lnTo>
                          <a:lnTo>
                            <a:pt x="148" y="802"/>
                          </a:lnTo>
                          <a:lnTo>
                            <a:pt x="156" y="842"/>
                          </a:lnTo>
                          <a:lnTo>
                            <a:pt x="208" y="892"/>
                          </a:lnTo>
                          <a:lnTo>
                            <a:pt x="264" y="880"/>
                          </a:lnTo>
                          <a:lnTo>
                            <a:pt x="341" y="872"/>
                          </a:lnTo>
                          <a:lnTo>
                            <a:pt x="377" y="868"/>
                          </a:lnTo>
                          <a:lnTo>
                            <a:pt x="411" y="874"/>
                          </a:lnTo>
                          <a:lnTo>
                            <a:pt x="435" y="886"/>
                          </a:lnTo>
                          <a:lnTo>
                            <a:pt x="453" y="908"/>
                          </a:lnTo>
                          <a:lnTo>
                            <a:pt x="399" y="902"/>
                          </a:lnTo>
                          <a:lnTo>
                            <a:pt x="347" y="898"/>
                          </a:lnTo>
                          <a:lnTo>
                            <a:pt x="299" y="898"/>
                          </a:lnTo>
                          <a:lnTo>
                            <a:pt x="264" y="902"/>
                          </a:lnTo>
                          <a:lnTo>
                            <a:pt x="240" y="938"/>
                          </a:lnTo>
                          <a:lnTo>
                            <a:pt x="323" y="958"/>
                          </a:lnTo>
                          <a:lnTo>
                            <a:pt x="184" y="976"/>
                          </a:lnTo>
                          <a:lnTo>
                            <a:pt x="94" y="982"/>
                          </a:lnTo>
                          <a:lnTo>
                            <a:pt x="148" y="938"/>
                          </a:lnTo>
                          <a:lnTo>
                            <a:pt x="148" y="902"/>
                          </a:lnTo>
                          <a:lnTo>
                            <a:pt x="108" y="832"/>
                          </a:lnTo>
                          <a:lnTo>
                            <a:pt x="100" y="743"/>
                          </a:lnTo>
                          <a:lnTo>
                            <a:pt x="114" y="653"/>
                          </a:lnTo>
                          <a:lnTo>
                            <a:pt x="94" y="633"/>
                          </a:lnTo>
                          <a:lnTo>
                            <a:pt x="106" y="597"/>
                          </a:lnTo>
                          <a:lnTo>
                            <a:pt x="0" y="591"/>
                          </a:lnTo>
                          <a:lnTo>
                            <a:pt x="34" y="557"/>
                          </a:lnTo>
                          <a:lnTo>
                            <a:pt x="84" y="561"/>
                          </a:lnTo>
                          <a:lnTo>
                            <a:pt x="130" y="520"/>
                          </a:lnTo>
                          <a:lnTo>
                            <a:pt x="112" y="490"/>
                          </a:lnTo>
                          <a:lnTo>
                            <a:pt x="130" y="442"/>
                          </a:lnTo>
                          <a:lnTo>
                            <a:pt x="136" y="280"/>
                          </a:lnTo>
                          <a:lnTo>
                            <a:pt x="142" y="185"/>
                          </a:lnTo>
                          <a:lnTo>
                            <a:pt x="166" y="35"/>
                          </a:lnTo>
                          <a:lnTo>
                            <a:pt x="172"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25"/>
                    <p:cNvSpPr/>
                    <p:nvPr/>
                  </p:nvSpPr>
                  <p:spPr>
                    <a:xfrm>
                      <a:off x="4827600" y="502020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196" h="40">
                          <a:moveTo>
                            <a:pt x="196" y="0"/>
                          </a:moveTo>
                          <a:lnTo>
                            <a:pt x="0" y="34"/>
                          </a:lnTo>
                          <a:lnTo>
                            <a:pt x="108" y="40"/>
                          </a:lnTo>
                          <a:lnTo>
                            <a:pt x="196" y="0"/>
                          </a:lnTo>
                          <a:close/>
                        </a:path>
                      </a:pathLst>
                    </a:custGeom>
                    <a:solidFill>
                      <a:srgbClr val="5f5f5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nvGrpSpPr>
                    <p:cNvPr id="548" name="Group 26"/>
                    <p:cNvGrpSpPr/>
                    <p:nvPr/>
                  </p:nvGrpSpPr>
                  <p:grpSpPr>
                    <a:xfrm>
                      <a:off x="4624200" y="4501440"/>
                      <a:ext cx="268200" cy="1142280"/>
                      <a:chOff x="4624200" y="4501440"/>
                      <a:chExt cx="268200" cy="1142280"/>
                    </a:xfrm>
                  </p:grpSpPr>
                  <p:sp>
                    <p:nvSpPr>
                      <p:cNvPr id="549" name="Freeform 27"/>
                      <p:cNvSpPr/>
                      <p:nvPr/>
                    </p:nvSpPr>
                    <p:spPr>
                      <a:xfrm>
                        <a:off x="4633920" y="4515480"/>
                        <a:ext cx="258480" cy="1128240"/>
                      </a:xfrm>
                      <a:custGeom>
                        <a:avLst/>
                        <a:gdLst>
                          <a:gd name="textAreaLeft" fmla="*/ 0 w 258480"/>
                          <a:gd name="textAreaRight" fmla="*/ 258480 w 258480"/>
                          <a:gd name="textAreaTop" fmla="*/ 0 h 1128240"/>
                          <a:gd name="textAreaBottom" fmla="*/ 1128600 h 112824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7"/>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28"/>
                      <p:cNvSpPr/>
                      <p:nvPr/>
                    </p:nvSpPr>
                    <p:spPr>
                      <a:xfrm>
                        <a:off x="4624200" y="4501440"/>
                        <a:ext cx="258840" cy="1128600"/>
                      </a:xfrm>
                      <a:custGeom>
                        <a:avLst/>
                        <a:gdLst>
                          <a:gd name="textAreaLeft" fmla="*/ 0 w 258840"/>
                          <a:gd name="textAreaRight" fmla="*/ 259200 w 258840"/>
                          <a:gd name="textAreaTop" fmla="*/ 0 h 1128600"/>
                          <a:gd name="textAreaBottom" fmla="*/ 1128960 h 1128600"/>
                        </a:gdLst>
                        <a:ahLst/>
                        <a:rect l="textAreaLeft" t="textAreaTop" r="textAreaRight" b="textAreaBottom"/>
                        <a:pathLst>
                          <a:path w="325" h="1423">
                            <a:moveTo>
                              <a:pt x="137" y="22"/>
                            </a:moveTo>
                            <a:lnTo>
                              <a:pt x="32" y="0"/>
                            </a:lnTo>
                            <a:lnTo>
                              <a:pt x="14" y="64"/>
                            </a:lnTo>
                            <a:lnTo>
                              <a:pt x="0" y="172"/>
                            </a:lnTo>
                            <a:lnTo>
                              <a:pt x="10" y="353"/>
                            </a:lnTo>
                            <a:lnTo>
                              <a:pt x="20" y="419"/>
                            </a:lnTo>
                            <a:lnTo>
                              <a:pt x="50" y="528"/>
                            </a:lnTo>
                            <a:lnTo>
                              <a:pt x="50" y="652"/>
                            </a:lnTo>
                            <a:lnTo>
                              <a:pt x="56" y="803"/>
                            </a:lnTo>
                            <a:lnTo>
                              <a:pt x="70" y="957"/>
                            </a:lnTo>
                            <a:lnTo>
                              <a:pt x="76" y="1032"/>
                            </a:lnTo>
                            <a:lnTo>
                              <a:pt x="111" y="1154"/>
                            </a:lnTo>
                            <a:lnTo>
                              <a:pt x="137" y="1249"/>
                            </a:lnTo>
                            <a:lnTo>
                              <a:pt x="169" y="1377"/>
                            </a:lnTo>
                            <a:lnTo>
                              <a:pt x="191" y="1423"/>
                            </a:lnTo>
                            <a:lnTo>
                              <a:pt x="287" y="1423"/>
                            </a:lnTo>
                            <a:lnTo>
                              <a:pt x="271" y="1387"/>
                            </a:lnTo>
                            <a:lnTo>
                              <a:pt x="237" y="1293"/>
                            </a:lnTo>
                            <a:lnTo>
                              <a:pt x="217" y="1228"/>
                            </a:lnTo>
                            <a:lnTo>
                              <a:pt x="197" y="1154"/>
                            </a:lnTo>
                            <a:lnTo>
                              <a:pt x="187" y="1078"/>
                            </a:lnTo>
                            <a:lnTo>
                              <a:pt x="187" y="1002"/>
                            </a:lnTo>
                            <a:lnTo>
                              <a:pt x="191" y="931"/>
                            </a:lnTo>
                            <a:lnTo>
                              <a:pt x="213" y="815"/>
                            </a:lnTo>
                            <a:lnTo>
                              <a:pt x="231" y="739"/>
                            </a:lnTo>
                            <a:lnTo>
                              <a:pt x="259" y="652"/>
                            </a:lnTo>
                            <a:lnTo>
                              <a:pt x="293" y="552"/>
                            </a:lnTo>
                            <a:lnTo>
                              <a:pt x="299" y="492"/>
                            </a:lnTo>
                            <a:lnTo>
                              <a:pt x="311" y="427"/>
                            </a:lnTo>
                            <a:lnTo>
                              <a:pt x="315" y="383"/>
                            </a:lnTo>
                            <a:lnTo>
                              <a:pt x="171" y="351"/>
                            </a:lnTo>
                            <a:lnTo>
                              <a:pt x="325" y="261"/>
                            </a:lnTo>
                            <a:lnTo>
                              <a:pt x="269" y="213"/>
                            </a:lnTo>
                            <a:lnTo>
                              <a:pt x="231" y="166"/>
                            </a:lnTo>
                            <a:lnTo>
                              <a:pt x="183" y="98"/>
                            </a:lnTo>
                            <a:lnTo>
                              <a:pt x="137"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551" name="Group 29"/>
              <p:cNvGrpSpPr/>
              <p:nvPr/>
            </p:nvGrpSpPr>
            <p:grpSpPr>
              <a:xfrm>
                <a:off x="4154400" y="3979800"/>
                <a:ext cx="592200" cy="754920"/>
                <a:chOff x="4154400" y="3979800"/>
                <a:chExt cx="592200" cy="754920"/>
              </a:xfrm>
            </p:grpSpPr>
            <p:sp>
              <p:nvSpPr>
                <p:cNvPr id="552" name="Freeform 30"/>
                <p:cNvSpPr/>
                <p:nvPr/>
              </p:nvSpPr>
              <p:spPr>
                <a:xfrm>
                  <a:off x="4174920" y="4003200"/>
                  <a:ext cx="571680" cy="731520"/>
                </a:xfrm>
                <a:custGeom>
                  <a:avLst/>
                  <a:gdLst>
                    <a:gd name="textAreaLeft" fmla="*/ 0 w 571680"/>
                    <a:gd name="textAreaRight" fmla="*/ 572040 w 571680"/>
                    <a:gd name="textAreaTop" fmla="*/ 0 h 731520"/>
                    <a:gd name="textAreaBottom" fmla="*/ 731880 h 731520"/>
                  </a:gdLst>
                  <a:ahLst/>
                  <a:rect l="textAreaLeft" t="textAreaTop" r="textAreaRight" b="textAreaBottom"/>
                  <a:pathLst>
                    <a:path w="720" h="920">
                      <a:moveTo>
                        <a:pt x="24" y="466"/>
                      </a:moveTo>
                      <a:lnTo>
                        <a:pt x="6" y="474"/>
                      </a:lnTo>
                      <a:lnTo>
                        <a:pt x="0" y="492"/>
                      </a:lnTo>
                      <a:lnTo>
                        <a:pt x="4" y="534"/>
                      </a:lnTo>
                      <a:lnTo>
                        <a:pt x="22" y="589"/>
                      </a:lnTo>
                      <a:lnTo>
                        <a:pt x="40" y="623"/>
                      </a:lnTo>
                      <a:lnTo>
                        <a:pt x="72" y="655"/>
                      </a:lnTo>
                      <a:lnTo>
                        <a:pt x="114" y="685"/>
                      </a:lnTo>
                      <a:lnTo>
                        <a:pt x="142" y="701"/>
                      </a:lnTo>
                      <a:lnTo>
                        <a:pt x="173" y="713"/>
                      </a:lnTo>
                      <a:lnTo>
                        <a:pt x="191" y="711"/>
                      </a:lnTo>
                      <a:lnTo>
                        <a:pt x="203" y="715"/>
                      </a:lnTo>
                      <a:lnTo>
                        <a:pt x="209" y="739"/>
                      </a:lnTo>
                      <a:lnTo>
                        <a:pt x="217" y="763"/>
                      </a:lnTo>
                      <a:lnTo>
                        <a:pt x="227" y="785"/>
                      </a:lnTo>
                      <a:lnTo>
                        <a:pt x="241" y="799"/>
                      </a:lnTo>
                      <a:lnTo>
                        <a:pt x="257" y="815"/>
                      </a:lnTo>
                      <a:lnTo>
                        <a:pt x="283" y="834"/>
                      </a:lnTo>
                      <a:lnTo>
                        <a:pt x="315" y="852"/>
                      </a:lnTo>
                      <a:lnTo>
                        <a:pt x="357" y="894"/>
                      </a:lnTo>
                      <a:lnTo>
                        <a:pt x="379" y="910"/>
                      </a:lnTo>
                      <a:lnTo>
                        <a:pt x="397" y="918"/>
                      </a:lnTo>
                      <a:lnTo>
                        <a:pt x="427" y="920"/>
                      </a:lnTo>
                      <a:lnTo>
                        <a:pt x="451" y="918"/>
                      </a:lnTo>
                      <a:lnTo>
                        <a:pt x="475" y="912"/>
                      </a:lnTo>
                      <a:lnTo>
                        <a:pt x="495" y="904"/>
                      </a:lnTo>
                      <a:lnTo>
                        <a:pt x="523" y="888"/>
                      </a:lnTo>
                      <a:lnTo>
                        <a:pt x="547" y="874"/>
                      </a:lnTo>
                      <a:lnTo>
                        <a:pt x="571" y="852"/>
                      </a:lnTo>
                      <a:lnTo>
                        <a:pt x="607" y="852"/>
                      </a:lnTo>
                      <a:lnTo>
                        <a:pt x="637" y="832"/>
                      </a:lnTo>
                      <a:lnTo>
                        <a:pt x="665" y="781"/>
                      </a:lnTo>
                      <a:lnTo>
                        <a:pt x="688" y="751"/>
                      </a:lnTo>
                      <a:lnTo>
                        <a:pt x="708" y="713"/>
                      </a:lnTo>
                      <a:lnTo>
                        <a:pt x="718" y="659"/>
                      </a:lnTo>
                      <a:lnTo>
                        <a:pt x="720" y="611"/>
                      </a:lnTo>
                      <a:lnTo>
                        <a:pt x="714" y="562"/>
                      </a:lnTo>
                      <a:lnTo>
                        <a:pt x="700" y="526"/>
                      </a:lnTo>
                      <a:lnTo>
                        <a:pt x="694" y="490"/>
                      </a:lnTo>
                      <a:lnTo>
                        <a:pt x="690" y="436"/>
                      </a:lnTo>
                      <a:lnTo>
                        <a:pt x="676" y="372"/>
                      </a:lnTo>
                      <a:lnTo>
                        <a:pt x="655" y="322"/>
                      </a:lnTo>
                      <a:lnTo>
                        <a:pt x="635" y="293"/>
                      </a:lnTo>
                      <a:lnTo>
                        <a:pt x="625" y="259"/>
                      </a:lnTo>
                      <a:lnTo>
                        <a:pt x="601" y="205"/>
                      </a:lnTo>
                      <a:lnTo>
                        <a:pt x="569" y="149"/>
                      </a:lnTo>
                      <a:lnTo>
                        <a:pt x="533" y="101"/>
                      </a:lnTo>
                      <a:lnTo>
                        <a:pt x="497" y="61"/>
                      </a:lnTo>
                      <a:lnTo>
                        <a:pt x="451" y="30"/>
                      </a:lnTo>
                      <a:lnTo>
                        <a:pt x="399" y="8"/>
                      </a:lnTo>
                      <a:lnTo>
                        <a:pt x="351" y="0"/>
                      </a:lnTo>
                      <a:lnTo>
                        <a:pt x="309" y="0"/>
                      </a:lnTo>
                      <a:lnTo>
                        <a:pt x="245" y="8"/>
                      </a:lnTo>
                      <a:lnTo>
                        <a:pt x="243" y="12"/>
                      </a:lnTo>
                      <a:lnTo>
                        <a:pt x="197" y="26"/>
                      </a:lnTo>
                      <a:lnTo>
                        <a:pt x="142" y="53"/>
                      </a:lnTo>
                      <a:lnTo>
                        <a:pt x="90" y="83"/>
                      </a:lnTo>
                      <a:lnTo>
                        <a:pt x="60" y="113"/>
                      </a:lnTo>
                      <a:lnTo>
                        <a:pt x="36" y="145"/>
                      </a:lnTo>
                      <a:lnTo>
                        <a:pt x="22" y="187"/>
                      </a:lnTo>
                      <a:lnTo>
                        <a:pt x="6" y="259"/>
                      </a:lnTo>
                      <a:lnTo>
                        <a:pt x="6" y="322"/>
                      </a:lnTo>
                      <a:lnTo>
                        <a:pt x="12" y="388"/>
                      </a:lnTo>
                      <a:lnTo>
                        <a:pt x="24" y="46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Group 31"/>
                <p:cNvGrpSpPr/>
                <p:nvPr/>
              </p:nvGrpSpPr>
              <p:grpSpPr>
                <a:xfrm>
                  <a:off x="4259160" y="4231800"/>
                  <a:ext cx="452520" cy="446760"/>
                  <a:chOff x="4259160" y="4231800"/>
                  <a:chExt cx="452520" cy="446760"/>
                </a:xfrm>
              </p:grpSpPr>
              <p:grpSp>
                <p:nvGrpSpPr>
                  <p:cNvPr id="554" name="Group 32"/>
                  <p:cNvGrpSpPr/>
                  <p:nvPr/>
                </p:nvGrpSpPr>
                <p:grpSpPr>
                  <a:xfrm>
                    <a:off x="4259160" y="4231800"/>
                    <a:ext cx="452520" cy="446760"/>
                    <a:chOff x="4259160" y="4231800"/>
                    <a:chExt cx="452520" cy="446760"/>
                  </a:xfrm>
                </p:grpSpPr>
                <p:sp>
                  <p:nvSpPr>
                    <p:cNvPr id="555" name="Freeform 33"/>
                    <p:cNvSpPr/>
                    <p:nvPr/>
                  </p:nvSpPr>
                  <p:spPr>
                    <a:xfrm>
                      <a:off x="4552920" y="4231800"/>
                      <a:ext cx="125280" cy="207360"/>
                    </a:xfrm>
                    <a:custGeom>
                      <a:avLst/>
                      <a:gdLst>
                        <a:gd name="textAreaLeft" fmla="*/ 0 w 125280"/>
                        <a:gd name="textAreaRight" fmla="*/ 125280 w 125280"/>
                        <a:gd name="textAreaTop" fmla="*/ 0 h 207360"/>
                        <a:gd name="textAreaBottom" fmla="*/ 207720 h 207360"/>
                      </a:gdLst>
                      <a:ahLst/>
                      <a:rect l="textAreaLeft" t="textAreaTop" r="textAreaRight" b="textAreaBottom"/>
                      <a:pathLst>
                        <a:path w="158" h="263">
                          <a:moveTo>
                            <a:pt x="104" y="0"/>
                          </a:moveTo>
                          <a:lnTo>
                            <a:pt x="104" y="20"/>
                          </a:lnTo>
                          <a:lnTo>
                            <a:pt x="100" y="35"/>
                          </a:lnTo>
                          <a:lnTo>
                            <a:pt x="88" y="43"/>
                          </a:lnTo>
                          <a:lnTo>
                            <a:pt x="68" y="61"/>
                          </a:lnTo>
                          <a:lnTo>
                            <a:pt x="46" y="83"/>
                          </a:lnTo>
                          <a:lnTo>
                            <a:pt x="146" y="63"/>
                          </a:lnTo>
                          <a:lnTo>
                            <a:pt x="156" y="67"/>
                          </a:lnTo>
                          <a:lnTo>
                            <a:pt x="136" y="77"/>
                          </a:lnTo>
                          <a:lnTo>
                            <a:pt x="122" y="91"/>
                          </a:lnTo>
                          <a:lnTo>
                            <a:pt x="108" y="103"/>
                          </a:lnTo>
                          <a:lnTo>
                            <a:pt x="96" y="109"/>
                          </a:lnTo>
                          <a:lnTo>
                            <a:pt x="78" y="109"/>
                          </a:lnTo>
                          <a:lnTo>
                            <a:pt x="50" y="107"/>
                          </a:lnTo>
                          <a:lnTo>
                            <a:pt x="80" y="115"/>
                          </a:lnTo>
                          <a:lnTo>
                            <a:pt x="90" y="121"/>
                          </a:lnTo>
                          <a:lnTo>
                            <a:pt x="110" y="121"/>
                          </a:lnTo>
                          <a:lnTo>
                            <a:pt x="126" y="115"/>
                          </a:lnTo>
                          <a:lnTo>
                            <a:pt x="144" y="105"/>
                          </a:lnTo>
                          <a:lnTo>
                            <a:pt x="158" y="91"/>
                          </a:lnTo>
                          <a:lnTo>
                            <a:pt x="124" y="125"/>
                          </a:lnTo>
                          <a:lnTo>
                            <a:pt x="106" y="129"/>
                          </a:lnTo>
                          <a:lnTo>
                            <a:pt x="90" y="129"/>
                          </a:lnTo>
                          <a:lnTo>
                            <a:pt x="76" y="125"/>
                          </a:lnTo>
                          <a:lnTo>
                            <a:pt x="64" y="121"/>
                          </a:lnTo>
                          <a:lnTo>
                            <a:pt x="52" y="121"/>
                          </a:lnTo>
                          <a:lnTo>
                            <a:pt x="40" y="121"/>
                          </a:lnTo>
                          <a:lnTo>
                            <a:pt x="48" y="157"/>
                          </a:lnTo>
                          <a:lnTo>
                            <a:pt x="62" y="181"/>
                          </a:lnTo>
                          <a:lnTo>
                            <a:pt x="74" y="193"/>
                          </a:lnTo>
                          <a:lnTo>
                            <a:pt x="86" y="203"/>
                          </a:lnTo>
                          <a:lnTo>
                            <a:pt x="96" y="215"/>
                          </a:lnTo>
                          <a:lnTo>
                            <a:pt x="102" y="229"/>
                          </a:lnTo>
                          <a:lnTo>
                            <a:pt x="104" y="249"/>
                          </a:lnTo>
                          <a:lnTo>
                            <a:pt x="96" y="263"/>
                          </a:lnTo>
                          <a:lnTo>
                            <a:pt x="92" y="233"/>
                          </a:lnTo>
                          <a:lnTo>
                            <a:pt x="86" y="217"/>
                          </a:lnTo>
                          <a:lnTo>
                            <a:pt x="74" y="211"/>
                          </a:lnTo>
                          <a:lnTo>
                            <a:pt x="56" y="203"/>
                          </a:lnTo>
                          <a:lnTo>
                            <a:pt x="44" y="197"/>
                          </a:lnTo>
                          <a:lnTo>
                            <a:pt x="32" y="187"/>
                          </a:lnTo>
                          <a:lnTo>
                            <a:pt x="18" y="173"/>
                          </a:lnTo>
                          <a:lnTo>
                            <a:pt x="8" y="157"/>
                          </a:lnTo>
                          <a:lnTo>
                            <a:pt x="2" y="139"/>
                          </a:lnTo>
                          <a:lnTo>
                            <a:pt x="0" y="117"/>
                          </a:lnTo>
                          <a:lnTo>
                            <a:pt x="2" y="97"/>
                          </a:lnTo>
                          <a:lnTo>
                            <a:pt x="8" y="73"/>
                          </a:lnTo>
                          <a:lnTo>
                            <a:pt x="104"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Group 34"/>
                    <p:cNvGrpSpPr/>
                    <p:nvPr/>
                  </p:nvGrpSpPr>
                  <p:grpSpPr>
                    <a:xfrm>
                      <a:off x="4259160" y="4369320"/>
                      <a:ext cx="452520" cy="309240"/>
                      <a:chOff x="4259160" y="4369320"/>
                      <a:chExt cx="452520" cy="309240"/>
                    </a:xfrm>
                  </p:grpSpPr>
                  <p:sp>
                    <p:nvSpPr>
                      <p:cNvPr id="557" name="Freeform 35"/>
                      <p:cNvSpPr/>
                      <p:nvPr/>
                    </p:nvSpPr>
                    <p:spPr>
                      <a:xfrm>
                        <a:off x="4259160" y="4369320"/>
                        <a:ext cx="368280" cy="309240"/>
                      </a:xfrm>
                      <a:custGeom>
                        <a:avLst/>
                        <a:gdLst>
                          <a:gd name="textAreaLeft" fmla="*/ 0 w 368280"/>
                          <a:gd name="textAreaRight" fmla="*/ 368640 w 368280"/>
                          <a:gd name="textAreaTop" fmla="*/ 0 h 309240"/>
                          <a:gd name="textAreaBottom" fmla="*/ 309600 h 309240"/>
                        </a:gdLst>
                        <a:ahLst/>
                        <a:rect l="textAreaLeft" t="textAreaTop" r="textAreaRight" b="textAreaBottom"/>
                        <a:pathLst>
                          <a:path w="465" h="388">
                            <a:moveTo>
                              <a:pt x="20" y="0"/>
                            </a:moveTo>
                            <a:lnTo>
                              <a:pt x="26" y="38"/>
                            </a:lnTo>
                            <a:lnTo>
                              <a:pt x="42" y="72"/>
                            </a:lnTo>
                            <a:lnTo>
                              <a:pt x="71" y="107"/>
                            </a:lnTo>
                            <a:lnTo>
                              <a:pt x="89" y="125"/>
                            </a:lnTo>
                            <a:lnTo>
                              <a:pt x="111" y="139"/>
                            </a:lnTo>
                            <a:lnTo>
                              <a:pt x="141" y="139"/>
                            </a:lnTo>
                            <a:lnTo>
                              <a:pt x="183" y="133"/>
                            </a:lnTo>
                            <a:lnTo>
                              <a:pt x="223" y="133"/>
                            </a:lnTo>
                            <a:lnTo>
                              <a:pt x="245" y="125"/>
                            </a:lnTo>
                            <a:lnTo>
                              <a:pt x="265" y="127"/>
                            </a:lnTo>
                            <a:lnTo>
                              <a:pt x="263" y="153"/>
                            </a:lnTo>
                            <a:lnTo>
                              <a:pt x="269" y="181"/>
                            </a:lnTo>
                            <a:lnTo>
                              <a:pt x="249" y="183"/>
                            </a:lnTo>
                            <a:lnTo>
                              <a:pt x="225" y="187"/>
                            </a:lnTo>
                            <a:lnTo>
                              <a:pt x="223" y="207"/>
                            </a:lnTo>
                            <a:lnTo>
                              <a:pt x="227" y="231"/>
                            </a:lnTo>
                            <a:lnTo>
                              <a:pt x="235" y="257"/>
                            </a:lnTo>
                            <a:lnTo>
                              <a:pt x="253" y="277"/>
                            </a:lnTo>
                            <a:lnTo>
                              <a:pt x="279" y="285"/>
                            </a:lnTo>
                            <a:lnTo>
                              <a:pt x="313" y="283"/>
                            </a:lnTo>
                            <a:lnTo>
                              <a:pt x="331" y="283"/>
                            </a:lnTo>
                            <a:lnTo>
                              <a:pt x="349" y="301"/>
                            </a:lnTo>
                            <a:lnTo>
                              <a:pt x="371" y="319"/>
                            </a:lnTo>
                            <a:lnTo>
                              <a:pt x="399" y="329"/>
                            </a:lnTo>
                            <a:lnTo>
                              <a:pt x="427" y="329"/>
                            </a:lnTo>
                            <a:lnTo>
                              <a:pt x="441" y="327"/>
                            </a:lnTo>
                            <a:lnTo>
                              <a:pt x="453" y="349"/>
                            </a:lnTo>
                            <a:lnTo>
                              <a:pt x="465" y="364"/>
                            </a:lnTo>
                            <a:lnTo>
                              <a:pt x="443" y="378"/>
                            </a:lnTo>
                            <a:lnTo>
                              <a:pt x="419" y="388"/>
                            </a:lnTo>
                            <a:lnTo>
                              <a:pt x="387" y="388"/>
                            </a:lnTo>
                            <a:lnTo>
                              <a:pt x="355" y="388"/>
                            </a:lnTo>
                            <a:lnTo>
                              <a:pt x="351" y="388"/>
                            </a:lnTo>
                            <a:lnTo>
                              <a:pt x="295" y="380"/>
                            </a:lnTo>
                            <a:lnTo>
                              <a:pt x="265" y="370"/>
                            </a:lnTo>
                            <a:lnTo>
                              <a:pt x="227" y="347"/>
                            </a:lnTo>
                            <a:lnTo>
                              <a:pt x="179" y="301"/>
                            </a:lnTo>
                            <a:lnTo>
                              <a:pt x="111" y="241"/>
                            </a:lnTo>
                            <a:lnTo>
                              <a:pt x="47" y="175"/>
                            </a:lnTo>
                            <a:lnTo>
                              <a:pt x="20" y="139"/>
                            </a:lnTo>
                            <a:lnTo>
                              <a:pt x="2" y="104"/>
                            </a:lnTo>
                            <a:lnTo>
                              <a:pt x="0" y="76"/>
                            </a:lnTo>
                            <a:lnTo>
                              <a:pt x="2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36"/>
                      <p:cNvSpPr/>
                      <p:nvPr/>
                    </p:nvSpPr>
                    <p:spPr>
                      <a:xfrm>
                        <a:off x="4495680" y="4421520"/>
                        <a:ext cx="61920" cy="163080"/>
                      </a:xfrm>
                      <a:custGeom>
                        <a:avLst/>
                        <a:gdLst>
                          <a:gd name="textAreaLeft" fmla="*/ 0 w 61920"/>
                          <a:gd name="textAreaRight" fmla="*/ 62280 w 61920"/>
                          <a:gd name="textAreaTop" fmla="*/ 0 h 163080"/>
                          <a:gd name="textAreaBottom" fmla="*/ 163440 h 163080"/>
                        </a:gdLst>
                        <a:ahLst/>
                        <a:rect l="textAreaLeft" t="textAreaTop" r="textAreaRight" b="textAreaBottom"/>
                        <a:pathLst>
                          <a:path w="80" h="205">
                            <a:moveTo>
                              <a:pt x="80" y="6"/>
                            </a:moveTo>
                            <a:lnTo>
                              <a:pt x="60" y="0"/>
                            </a:lnTo>
                            <a:lnTo>
                              <a:pt x="46" y="2"/>
                            </a:lnTo>
                            <a:lnTo>
                              <a:pt x="34" y="12"/>
                            </a:lnTo>
                            <a:lnTo>
                              <a:pt x="24" y="24"/>
                            </a:lnTo>
                            <a:lnTo>
                              <a:pt x="16" y="43"/>
                            </a:lnTo>
                            <a:lnTo>
                              <a:pt x="16" y="65"/>
                            </a:lnTo>
                            <a:lnTo>
                              <a:pt x="12" y="107"/>
                            </a:lnTo>
                            <a:lnTo>
                              <a:pt x="0" y="145"/>
                            </a:lnTo>
                            <a:lnTo>
                              <a:pt x="12" y="163"/>
                            </a:lnTo>
                            <a:lnTo>
                              <a:pt x="22" y="205"/>
                            </a:lnTo>
                            <a:lnTo>
                              <a:pt x="18" y="149"/>
                            </a:lnTo>
                            <a:lnTo>
                              <a:pt x="22" y="115"/>
                            </a:lnTo>
                            <a:lnTo>
                              <a:pt x="22" y="85"/>
                            </a:lnTo>
                            <a:lnTo>
                              <a:pt x="24" y="71"/>
                            </a:lnTo>
                            <a:lnTo>
                              <a:pt x="32" y="65"/>
                            </a:lnTo>
                            <a:lnTo>
                              <a:pt x="46" y="67"/>
                            </a:lnTo>
                            <a:lnTo>
                              <a:pt x="56" y="67"/>
                            </a:lnTo>
                            <a:lnTo>
                              <a:pt x="40" y="57"/>
                            </a:lnTo>
                            <a:lnTo>
                              <a:pt x="36" y="45"/>
                            </a:lnTo>
                            <a:lnTo>
                              <a:pt x="34" y="32"/>
                            </a:lnTo>
                            <a:lnTo>
                              <a:pt x="42" y="18"/>
                            </a:lnTo>
                            <a:lnTo>
                              <a:pt x="58" y="10"/>
                            </a:lnTo>
                            <a:lnTo>
                              <a:pt x="80" y="6"/>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37"/>
                      <p:cNvSpPr/>
                      <p:nvPr/>
                    </p:nvSpPr>
                    <p:spPr>
                      <a:xfrm>
                        <a:off x="4541760" y="4440600"/>
                        <a:ext cx="41400" cy="29880"/>
                      </a:xfrm>
                      <a:custGeom>
                        <a:avLst/>
                        <a:gdLst>
                          <a:gd name="textAreaLeft" fmla="*/ 0 w 41400"/>
                          <a:gd name="textAreaRight" fmla="*/ 41760 w 41400"/>
                          <a:gd name="textAreaTop" fmla="*/ 0 h 29880"/>
                          <a:gd name="textAreaBottom" fmla="*/ 30240 h 29880"/>
                        </a:gdLst>
                        <a:ahLst/>
                        <a:rect l="textAreaLeft" t="textAreaTop" r="textAreaRight" b="textAreaBottom"/>
                        <a:pathLst>
                          <a:path w="52" h="37">
                            <a:moveTo>
                              <a:pt x="0" y="37"/>
                            </a:moveTo>
                            <a:lnTo>
                              <a:pt x="12" y="25"/>
                            </a:lnTo>
                            <a:lnTo>
                              <a:pt x="18" y="14"/>
                            </a:lnTo>
                            <a:lnTo>
                              <a:pt x="28" y="0"/>
                            </a:lnTo>
                            <a:lnTo>
                              <a:pt x="28" y="19"/>
                            </a:lnTo>
                            <a:lnTo>
                              <a:pt x="36" y="31"/>
                            </a:lnTo>
                            <a:lnTo>
                              <a:pt x="52" y="35"/>
                            </a:lnTo>
                            <a:lnTo>
                              <a:pt x="28" y="35"/>
                            </a:lnTo>
                            <a:lnTo>
                              <a:pt x="0" y="37"/>
                            </a:lnTo>
                            <a:close/>
                          </a:path>
                        </a:pathLst>
                      </a:custGeom>
                      <a:solidFill>
                        <a:srgbClr val="df9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0" name="Freeform 38"/>
                      <p:cNvSpPr/>
                      <p:nvPr/>
                    </p:nvSpPr>
                    <p:spPr>
                      <a:xfrm>
                        <a:off x="4578120" y="4451760"/>
                        <a:ext cx="47880" cy="16920"/>
                      </a:xfrm>
                      <a:custGeom>
                        <a:avLst/>
                        <a:gdLst>
                          <a:gd name="textAreaLeft" fmla="*/ 0 w 47880"/>
                          <a:gd name="textAreaRight" fmla="*/ 48240 w 47880"/>
                          <a:gd name="textAreaTop" fmla="*/ 0 h 16920"/>
                          <a:gd name="textAreaBottom" fmla="*/ 17280 h 16920"/>
                        </a:gdLst>
                        <a:ahLst/>
                        <a:rect l="textAreaLeft" t="textAreaTop" r="textAreaRight" b="textAreaBottom"/>
                        <a:pathLst>
                          <a:path w="60" h="21">
                            <a:moveTo>
                              <a:pt x="0" y="21"/>
                            </a:moveTo>
                            <a:lnTo>
                              <a:pt x="36" y="15"/>
                            </a:lnTo>
                            <a:lnTo>
                              <a:pt x="48" y="9"/>
                            </a:lnTo>
                            <a:lnTo>
                              <a:pt x="60" y="0"/>
                            </a:lnTo>
                            <a:lnTo>
                              <a:pt x="54" y="15"/>
                            </a:lnTo>
                            <a:lnTo>
                              <a:pt x="40" y="21"/>
                            </a:lnTo>
                            <a:lnTo>
                              <a:pt x="0" y="21"/>
                            </a:lnTo>
                            <a:close/>
                          </a:path>
                        </a:pathLst>
                      </a:custGeom>
                      <a:solidFill>
                        <a:srgbClr val="df9f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Freeform 39"/>
                      <p:cNvSpPr/>
                      <p:nvPr/>
                    </p:nvSpPr>
                    <p:spPr>
                      <a:xfrm>
                        <a:off x="4630680" y="4451760"/>
                        <a:ext cx="81000" cy="58320"/>
                      </a:xfrm>
                      <a:custGeom>
                        <a:avLst/>
                        <a:gdLst>
                          <a:gd name="textAreaLeft" fmla="*/ 0 w 81000"/>
                          <a:gd name="textAreaRight" fmla="*/ 81360 w 81000"/>
                          <a:gd name="textAreaTop" fmla="*/ 0 h 58320"/>
                          <a:gd name="textAreaBottom" fmla="*/ 58680 h 58320"/>
                        </a:gdLst>
                        <a:ahLst/>
                        <a:rect l="textAreaLeft" t="textAreaTop" r="textAreaRight" b="textAreaBottom"/>
                        <a:pathLst>
                          <a:path w="101" h="73">
                            <a:moveTo>
                              <a:pt x="0" y="3"/>
                            </a:moveTo>
                            <a:lnTo>
                              <a:pt x="22" y="11"/>
                            </a:lnTo>
                            <a:lnTo>
                              <a:pt x="40" y="17"/>
                            </a:lnTo>
                            <a:lnTo>
                              <a:pt x="60" y="29"/>
                            </a:lnTo>
                            <a:lnTo>
                              <a:pt x="78" y="49"/>
                            </a:lnTo>
                            <a:lnTo>
                              <a:pt x="101" y="73"/>
                            </a:lnTo>
                            <a:lnTo>
                              <a:pt x="90" y="47"/>
                            </a:lnTo>
                            <a:lnTo>
                              <a:pt x="76" y="29"/>
                            </a:lnTo>
                            <a:lnTo>
                              <a:pt x="62" y="15"/>
                            </a:lnTo>
                            <a:lnTo>
                              <a:pt x="46" y="7"/>
                            </a:lnTo>
                            <a:lnTo>
                              <a:pt x="26" y="0"/>
                            </a:lnTo>
                            <a:lnTo>
                              <a:pt x="0" y="3"/>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2" name="Freeform 40"/>
                      <p:cNvSpPr/>
                      <p:nvPr/>
                    </p:nvSpPr>
                    <p:spPr>
                      <a:xfrm>
                        <a:off x="4599000" y="4480200"/>
                        <a:ext cx="14040" cy="33120"/>
                      </a:xfrm>
                      <a:custGeom>
                        <a:avLst/>
                        <a:gdLst>
                          <a:gd name="textAreaLeft" fmla="*/ 0 w 14040"/>
                          <a:gd name="textAreaRight" fmla="*/ 14400 w 14040"/>
                          <a:gd name="textAreaTop" fmla="*/ 0 h 33120"/>
                          <a:gd name="textAreaBottom" fmla="*/ 33480 h 33120"/>
                        </a:gdLst>
                        <a:ahLst/>
                        <a:rect l="textAreaLeft" t="textAreaTop" r="textAreaRight" b="textAreaBottom"/>
                        <a:pathLst>
                          <a:path w="18" h="42">
                            <a:moveTo>
                              <a:pt x="0" y="0"/>
                            </a:moveTo>
                            <a:lnTo>
                              <a:pt x="18" y="24"/>
                            </a:lnTo>
                            <a:lnTo>
                              <a:pt x="16" y="42"/>
                            </a:lnTo>
                            <a:lnTo>
                              <a:pt x="4" y="22"/>
                            </a:lnTo>
                            <a:lnTo>
                              <a:pt x="0" y="0"/>
                            </a:lnTo>
                            <a:close/>
                          </a:path>
                        </a:pathLst>
                      </a:custGeom>
                      <a:solidFill>
                        <a:srgbClr val="df9f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3" name="Freeform 41"/>
                      <p:cNvSpPr/>
                      <p:nvPr/>
                    </p:nvSpPr>
                    <p:spPr>
                      <a:xfrm>
                        <a:off x="4533840" y="4497840"/>
                        <a:ext cx="146160" cy="58320"/>
                      </a:xfrm>
                      <a:custGeom>
                        <a:avLst/>
                        <a:gdLst>
                          <a:gd name="textAreaLeft" fmla="*/ 0 w 146160"/>
                          <a:gd name="textAreaRight" fmla="*/ 146520 w 146160"/>
                          <a:gd name="textAreaTop" fmla="*/ 0 h 58320"/>
                          <a:gd name="textAreaBottom" fmla="*/ 58680 h 58320"/>
                        </a:gdLst>
                        <a:ahLst/>
                        <a:rect l="textAreaLeft" t="textAreaTop" r="textAreaRight" b="textAreaBottom"/>
                        <a:pathLst>
                          <a:path w="184" h="74">
                            <a:moveTo>
                              <a:pt x="0" y="74"/>
                            </a:moveTo>
                            <a:lnTo>
                              <a:pt x="26" y="66"/>
                            </a:lnTo>
                            <a:lnTo>
                              <a:pt x="46" y="58"/>
                            </a:lnTo>
                            <a:lnTo>
                              <a:pt x="68" y="42"/>
                            </a:lnTo>
                            <a:lnTo>
                              <a:pt x="88" y="30"/>
                            </a:lnTo>
                            <a:lnTo>
                              <a:pt x="110" y="30"/>
                            </a:lnTo>
                            <a:lnTo>
                              <a:pt x="116" y="14"/>
                            </a:lnTo>
                            <a:lnTo>
                              <a:pt x="132" y="8"/>
                            </a:lnTo>
                            <a:lnTo>
                              <a:pt x="154" y="6"/>
                            </a:lnTo>
                            <a:lnTo>
                              <a:pt x="172" y="6"/>
                            </a:lnTo>
                            <a:lnTo>
                              <a:pt x="184" y="0"/>
                            </a:lnTo>
                            <a:lnTo>
                              <a:pt x="156" y="18"/>
                            </a:lnTo>
                            <a:lnTo>
                              <a:pt x="140" y="24"/>
                            </a:lnTo>
                            <a:lnTo>
                              <a:pt x="122" y="36"/>
                            </a:lnTo>
                            <a:lnTo>
                              <a:pt x="110" y="48"/>
                            </a:lnTo>
                            <a:lnTo>
                              <a:pt x="92" y="50"/>
                            </a:lnTo>
                            <a:lnTo>
                              <a:pt x="74" y="58"/>
                            </a:lnTo>
                            <a:lnTo>
                              <a:pt x="52" y="68"/>
                            </a:lnTo>
                            <a:lnTo>
                              <a:pt x="34" y="74"/>
                            </a:lnTo>
                            <a:lnTo>
                              <a:pt x="0" y="74"/>
                            </a:lnTo>
                            <a:close/>
                          </a:path>
                        </a:pathLst>
                      </a:custGeom>
                      <a:solidFill>
                        <a:srgbClr val="df9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4" name="Freeform 42"/>
                      <p:cNvSpPr/>
                      <p:nvPr/>
                    </p:nvSpPr>
                    <p:spPr>
                      <a:xfrm>
                        <a:off x="4548240" y="4535640"/>
                        <a:ext cx="123840" cy="39600"/>
                      </a:xfrm>
                      <a:custGeom>
                        <a:avLst/>
                        <a:gdLst>
                          <a:gd name="textAreaLeft" fmla="*/ 0 w 123840"/>
                          <a:gd name="textAreaRight" fmla="*/ 124200 w 123840"/>
                          <a:gd name="textAreaTop" fmla="*/ 0 h 39600"/>
                          <a:gd name="textAreaBottom" fmla="*/ 39960 h 39600"/>
                        </a:gdLst>
                        <a:ahLst/>
                        <a:rect l="textAreaLeft" t="textAreaTop" r="textAreaRight" b="textAreaBottom"/>
                        <a:pathLst>
                          <a:path w="156" h="50">
                            <a:moveTo>
                              <a:pt x="0" y="40"/>
                            </a:moveTo>
                            <a:lnTo>
                              <a:pt x="38" y="44"/>
                            </a:lnTo>
                            <a:lnTo>
                              <a:pt x="74" y="38"/>
                            </a:lnTo>
                            <a:lnTo>
                              <a:pt x="88" y="30"/>
                            </a:lnTo>
                            <a:lnTo>
                              <a:pt x="104" y="20"/>
                            </a:lnTo>
                            <a:lnTo>
                              <a:pt x="118" y="10"/>
                            </a:lnTo>
                            <a:lnTo>
                              <a:pt x="134" y="8"/>
                            </a:lnTo>
                            <a:lnTo>
                              <a:pt x="156" y="0"/>
                            </a:lnTo>
                            <a:lnTo>
                              <a:pt x="138" y="14"/>
                            </a:lnTo>
                            <a:lnTo>
                              <a:pt x="118" y="16"/>
                            </a:lnTo>
                            <a:lnTo>
                              <a:pt x="104" y="28"/>
                            </a:lnTo>
                            <a:lnTo>
                              <a:pt x="86" y="42"/>
                            </a:lnTo>
                            <a:lnTo>
                              <a:pt x="72" y="50"/>
                            </a:lnTo>
                            <a:lnTo>
                              <a:pt x="50" y="50"/>
                            </a:lnTo>
                            <a:lnTo>
                              <a:pt x="26" y="46"/>
                            </a:lnTo>
                            <a:lnTo>
                              <a:pt x="0" y="40"/>
                            </a:lnTo>
                            <a:close/>
                          </a:path>
                        </a:pathLst>
                      </a:custGeom>
                      <a:solidFill>
                        <a:srgbClr val="df9f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565" name="Freeform 43"/>
                    <p:cNvSpPr/>
                    <p:nvPr/>
                  </p:nvSpPr>
                  <p:spPr>
                    <a:xfrm>
                      <a:off x="4375080" y="4364640"/>
                      <a:ext cx="98280" cy="74160"/>
                    </a:xfrm>
                    <a:custGeom>
                      <a:avLst/>
                      <a:gdLst>
                        <a:gd name="textAreaLeft" fmla="*/ 0 w 98280"/>
                        <a:gd name="textAreaRight" fmla="*/ 98640 w 98280"/>
                        <a:gd name="textAreaTop" fmla="*/ 0 h 74160"/>
                        <a:gd name="textAreaBottom" fmla="*/ 74160 h 74160"/>
                      </a:gdLst>
                      <a:ahLst/>
                      <a:rect l="textAreaLeft" t="textAreaTop" r="textAreaRight" b="textAreaBottom"/>
                      <a:pathLst>
                        <a:path w="124" h="94">
                          <a:moveTo>
                            <a:pt x="122" y="0"/>
                          </a:moveTo>
                          <a:lnTo>
                            <a:pt x="124" y="38"/>
                          </a:lnTo>
                          <a:lnTo>
                            <a:pt x="118" y="60"/>
                          </a:lnTo>
                          <a:lnTo>
                            <a:pt x="106" y="80"/>
                          </a:lnTo>
                          <a:lnTo>
                            <a:pt x="84" y="90"/>
                          </a:lnTo>
                          <a:lnTo>
                            <a:pt x="54" y="94"/>
                          </a:lnTo>
                          <a:lnTo>
                            <a:pt x="34" y="92"/>
                          </a:lnTo>
                          <a:lnTo>
                            <a:pt x="18" y="84"/>
                          </a:lnTo>
                          <a:lnTo>
                            <a:pt x="8" y="76"/>
                          </a:lnTo>
                          <a:lnTo>
                            <a:pt x="0" y="66"/>
                          </a:lnTo>
                          <a:lnTo>
                            <a:pt x="6" y="58"/>
                          </a:lnTo>
                          <a:lnTo>
                            <a:pt x="22" y="76"/>
                          </a:lnTo>
                          <a:lnTo>
                            <a:pt x="36" y="86"/>
                          </a:lnTo>
                          <a:lnTo>
                            <a:pt x="58" y="90"/>
                          </a:lnTo>
                          <a:lnTo>
                            <a:pt x="82" y="86"/>
                          </a:lnTo>
                          <a:lnTo>
                            <a:pt x="96" y="72"/>
                          </a:lnTo>
                          <a:lnTo>
                            <a:pt x="106" y="54"/>
                          </a:lnTo>
                          <a:lnTo>
                            <a:pt x="114" y="40"/>
                          </a:lnTo>
                          <a:lnTo>
                            <a:pt x="118" y="24"/>
                          </a:lnTo>
                          <a:lnTo>
                            <a:pt x="100" y="36"/>
                          </a:lnTo>
                          <a:lnTo>
                            <a:pt x="84" y="42"/>
                          </a:lnTo>
                          <a:lnTo>
                            <a:pt x="62" y="42"/>
                          </a:lnTo>
                          <a:lnTo>
                            <a:pt x="40" y="42"/>
                          </a:lnTo>
                          <a:lnTo>
                            <a:pt x="100" y="22"/>
                          </a:lnTo>
                          <a:lnTo>
                            <a:pt x="122" y="0"/>
                          </a:lnTo>
                          <a:close/>
                        </a:path>
                      </a:pathLst>
                    </a:custGeom>
                    <a:solidFill>
                      <a:srgbClr val="df9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566" name="Group 44"/>
                  <p:cNvGrpSpPr/>
                  <p:nvPr/>
                </p:nvGrpSpPr>
                <p:grpSpPr>
                  <a:xfrm>
                    <a:off x="4581360" y="4275720"/>
                    <a:ext cx="92160" cy="39240"/>
                    <a:chOff x="4581360" y="4275720"/>
                    <a:chExt cx="92160" cy="39240"/>
                  </a:xfrm>
                </p:grpSpPr>
                <p:sp>
                  <p:nvSpPr>
                    <p:cNvPr id="567" name="Freeform 45"/>
                    <p:cNvSpPr/>
                    <p:nvPr/>
                  </p:nvSpPr>
                  <p:spPr>
                    <a:xfrm>
                      <a:off x="4583160" y="4277160"/>
                      <a:ext cx="90360" cy="37440"/>
                    </a:xfrm>
                    <a:custGeom>
                      <a:avLst/>
                      <a:gdLst>
                        <a:gd name="textAreaLeft" fmla="*/ 0 w 90360"/>
                        <a:gd name="textAreaRight" fmla="*/ 90720 w 90360"/>
                        <a:gd name="textAreaTop" fmla="*/ 0 h 37440"/>
                        <a:gd name="textAreaBottom" fmla="*/ 37800 h 37440"/>
                      </a:gdLst>
                      <a:ahLst/>
                      <a:rect l="textAreaLeft" t="textAreaTop" r="textAreaRight" b="textAreaBottom"/>
                      <a:pathLst>
                        <a:path w="114" h="48">
                          <a:moveTo>
                            <a:pt x="0" y="44"/>
                          </a:moveTo>
                          <a:lnTo>
                            <a:pt x="10" y="28"/>
                          </a:lnTo>
                          <a:lnTo>
                            <a:pt x="22" y="18"/>
                          </a:lnTo>
                          <a:lnTo>
                            <a:pt x="36" y="8"/>
                          </a:lnTo>
                          <a:lnTo>
                            <a:pt x="54" y="2"/>
                          </a:lnTo>
                          <a:lnTo>
                            <a:pt x="72" y="0"/>
                          </a:lnTo>
                          <a:lnTo>
                            <a:pt x="90" y="2"/>
                          </a:lnTo>
                          <a:lnTo>
                            <a:pt x="114" y="10"/>
                          </a:lnTo>
                          <a:lnTo>
                            <a:pt x="86" y="16"/>
                          </a:lnTo>
                          <a:lnTo>
                            <a:pt x="74" y="28"/>
                          </a:lnTo>
                          <a:lnTo>
                            <a:pt x="62" y="40"/>
                          </a:lnTo>
                          <a:lnTo>
                            <a:pt x="50" y="46"/>
                          </a:lnTo>
                          <a:lnTo>
                            <a:pt x="36" y="48"/>
                          </a:lnTo>
                          <a:lnTo>
                            <a:pt x="0" y="4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8" name="Freeform 46"/>
                    <p:cNvSpPr/>
                    <p:nvPr/>
                  </p:nvSpPr>
                  <p:spPr>
                    <a:xfrm>
                      <a:off x="4581360" y="4275720"/>
                      <a:ext cx="90720" cy="39240"/>
                    </a:xfrm>
                    <a:custGeom>
                      <a:avLst/>
                      <a:gdLst>
                        <a:gd name="textAreaLeft" fmla="*/ 0 w 90720"/>
                        <a:gd name="textAreaRight" fmla="*/ 91080 w 90720"/>
                        <a:gd name="textAreaTop" fmla="*/ 0 h 39240"/>
                        <a:gd name="textAreaBottom" fmla="*/ 39600 h 39240"/>
                      </a:gdLst>
                      <a:ahLst/>
                      <a:rect l="textAreaLeft" t="textAreaTop" r="textAreaRight" b="textAreaBottom"/>
                      <a:pathLst>
                        <a:path w="114" h="50">
                          <a:moveTo>
                            <a:pt x="0" y="44"/>
                          </a:moveTo>
                          <a:lnTo>
                            <a:pt x="10" y="28"/>
                          </a:lnTo>
                          <a:lnTo>
                            <a:pt x="22" y="18"/>
                          </a:lnTo>
                          <a:lnTo>
                            <a:pt x="36" y="8"/>
                          </a:lnTo>
                          <a:lnTo>
                            <a:pt x="54" y="2"/>
                          </a:lnTo>
                          <a:lnTo>
                            <a:pt x="72" y="0"/>
                          </a:lnTo>
                          <a:lnTo>
                            <a:pt x="90" y="2"/>
                          </a:lnTo>
                          <a:lnTo>
                            <a:pt x="114" y="10"/>
                          </a:lnTo>
                          <a:lnTo>
                            <a:pt x="80" y="8"/>
                          </a:lnTo>
                          <a:lnTo>
                            <a:pt x="80" y="20"/>
                          </a:lnTo>
                          <a:lnTo>
                            <a:pt x="76" y="34"/>
                          </a:lnTo>
                          <a:lnTo>
                            <a:pt x="58" y="46"/>
                          </a:lnTo>
                          <a:lnTo>
                            <a:pt x="44" y="50"/>
                          </a:lnTo>
                          <a:lnTo>
                            <a:pt x="34" y="42"/>
                          </a:lnTo>
                          <a:lnTo>
                            <a:pt x="28" y="32"/>
                          </a:lnTo>
                          <a:lnTo>
                            <a:pt x="24" y="22"/>
                          </a:lnTo>
                          <a:lnTo>
                            <a:pt x="0" y="44"/>
                          </a:lnTo>
                          <a:close/>
                        </a:path>
                      </a:pathLst>
                    </a:custGeom>
                    <a:solidFill>
                      <a:srgbClr val="7f3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569" name="Group 47"/>
                  <p:cNvGrpSpPr/>
                  <p:nvPr/>
                </p:nvGrpSpPr>
                <p:grpSpPr>
                  <a:xfrm>
                    <a:off x="4365360" y="4355280"/>
                    <a:ext cx="106560" cy="47160"/>
                    <a:chOff x="4365360" y="4355280"/>
                    <a:chExt cx="106560" cy="47160"/>
                  </a:xfrm>
                </p:grpSpPr>
                <p:sp>
                  <p:nvSpPr>
                    <p:cNvPr id="570" name="Freeform 48"/>
                    <p:cNvSpPr/>
                    <p:nvPr/>
                  </p:nvSpPr>
                  <p:spPr>
                    <a:xfrm>
                      <a:off x="4367160" y="4355280"/>
                      <a:ext cx="104760" cy="47160"/>
                    </a:xfrm>
                    <a:custGeom>
                      <a:avLst/>
                      <a:gdLst>
                        <a:gd name="textAreaLeft" fmla="*/ 0 w 104760"/>
                        <a:gd name="textAreaRight" fmla="*/ 105120 w 104760"/>
                        <a:gd name="textAreaTop" fmla="*/ 0 h 47160"/>
                        <a:gd name="textAreaBottom" fmla="*/ 47520 h 47160"/>
                      </a:gdLst>
                      <a:ahLst/>
                      <a:rect l="textAreaLeft" t="textAreaTop" r="textAreaRight" b="textAreaBottom"/>
                      <a:pathLst>
                        <a:path w="132" h="60">
                          <a:moveTo>
                            <a:pt x="0" y="58"/>
                          </a:moveTo>
                          <a:lnTo>
                            <a:pt x="40" y="42"/>
                          </a:lnTo>
                          <a:lnTo>
                            <a:pt x="64" y="30"/>
                          </a:lnTo>
                          <a:lnTo>
                            <a:pt x="92" y="14"/>
                          </a:lnTo>
                          <a:lnTo>
                            <a:pt x="112" y="2"/>
                          </a:lnTo>
                          <a:lnTo>
                            <a:pt x="122" y="0"/>
                          </a:lnTo>
                          <a:lnTo>
                            <a:pt x="132" y="8"/>
                          </a:lnTo>
                          <a:lnTo>
                            <a:pt x="132" y="24"/>
                          </a:lnTo>
                          <a:lnTo>
                            <a:pt x="122" y="40"/>
                          </a:lnTo>
                          <a:lnTo>
                            <a:pt x="120" y="42"/>
                          </a:lnTo>
                          <a:lnTo>
                            <a:pt x="104" y="50"/>
                          </a:lnTo>
                          <a:lnTo>
                            <a:pt x="102" y="52"/>
                          </a:lnTo>
                          <a:lnTo>
                            <a:pt x="70" y="58"/>
                          </a:lnTo>
                          <a:lnTo>
                            <a:pt x="26" y="60"/>
                          </a:lnTo>
                          <a:lnTo>
                            <a:pt x="0" y="5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 name="Freeform 49"/>
                    <p:cNvSpPr/>
                    <p:nvPr/>
                  </p:nvSpPr>
                  <p:spPr>
                    <a:xfrm>
                      <a:off x="4365360" y="4355280"/>
                      <a:ext cx="105120" cy="45720"/>
                    </a:xfrm>
                    <a:custGeom>
                      <a:avLst/>
                      <a:gdLst>
                        <a:gd name="textAreaLeft" fmla="*/ 0 w 105120"/>
                        <a:gd name="textAreaRight" fmla="*/ 105480 w 105120"/>
                        <a:gd name="textAreaTop" fmla="*/ 0 h 45720"/>
                        <a:gd name="textAreaBottom" fmla="*/ 46080 h 45720"/>
                      </a:gdLst>
                      <a:ahLst/>
                      <a:rect l="textAreaLeft" t="textAreaTop" r="textAreaRight" b="textAreaBottom"/>
                      <a:pathLst>
                        <a:path w="132" h="58">
                          <a:moveTo>
                            <a:pt x="0" y="58"/>
                          </a:moveTo>
                          <a:lnTo>
                            <a:pt x="40" y="42"/>
                          </a:lnTo>
                          <a:lnTo>
                            <a:pt x="64" y="30"/>
                          </a:lnTo>
                          <a:lnTo>
                            <a:pt x="92" y="14"/>
                          </a:lnTo>
                          <a:lnTo>
                            <a:pt x="112" y="2"/>
                          </a:lnTo>
                          <a:lnTo>
                            <a:pt x="122" y="0"/>
                          </a:lnTo>
                          <a:lnTo>
                            <a:pt x="132" y="4"/>
                          </a:lnTo>
                          <a:lnTo>
                            <a:pt x="116" y="8"/>
                          </a:lnTo>
                          <a:lnTo>
                            <a:pt x="124" y="16"/>
                          </a:lnTo>
                          <a:lnTo>
                            <a:pt x="126" y="28"/>
                          </a:lnTo>
                          <a:lnTo>
                            <a:pt x="118" y="48"/>
                          </a:lnTo>
                          <a:lnTo>
                            <a:pt x="102" y="54"/>
                          </a:lnTo>
                          <a:lnTo>
                            <a:pt x="82" y="58"/>
                          </a:lnTo>
                          <a:lnTo>
                            <a:pt x="66" y="50"/>
                          </a:lnTo>
                          <a:lnTo>
                            <a:pt x="56" y="40"/>
                          </a:lnTo>
                          <a:lnTo>
                            <a:pt x="30" y="50"/>
                          </a:lnTo>
                          <a:lnTo>
                            <a:pt x="0" y="58"/>
                          </a:lnTo>
                          <a:close/>
                        </a:path>
                      </a:pathLst>
                    </a:custGeom>
                    <a:solidFill>
                      <a:srgbClr val="7f3f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grpSp>
              <p:nvGrpSpPr>
                <p:cNvPr id="572" name="Group 50"/>
                <p:cNvGrpSpPr/>
                <p:nvPr/>
              </p:nvGrpSpPr>
              <p:grpSpPr>
                <a:xfrm>
                  <a:off x="4154400" y="3979800"/>
                  <a:ext cx="538200" cy="469440"/>
                  <a:chOff x="4154400" y="3979800"/>
                  <a:chExt cx="538200" cy="469440"/>
                </a:xfrm>
              </p:grpSpPr>
              <p:grpSp>
                <p:nvGrpSpPr>
                  <p:cNvPr id="573" name="Group 51"/>
                  <p:cNvGrpSpPr/>
                  <p:nvPr/>
                </p:nvGrpSpPr>
                <p:grpSpPr>
                  <a:xfrm>
                    <a:off x="4335480" y="4204800"/>
                    <a:ext cx="309600" cy="180000"/>
                    <a:chOff x="4335480" y="4204800"/>
                    <a:chExt cx="309600" cy="180000"/>
                  </a:xfrm>
                </p:grpSpPr>
                <p:sp>
                  <p:nvSpPr>
                    <p:cNvPr id="574" name="Freeform 52"/>
                    <p:cNvSpPr/>
                    <p:nvPr/>
                  </p:nvSpPr>
                  <p:spPr>
                    <a:xfrm>
                      <a:off x="4335480" y="4318560"/>
                      <a:ext cx="147600" cy="66240"/>
                    </a:xfrm>
                    <a:custGeom>
                      <a:avLst/>
                      <a:gdLst/>
                      <a:ahLst/>
                      <a:rect l="l" t="t" r="r" b="b"/>
                      <a:pathLst>
                        <a:path w="186" h="86">
                          <a:moveTo>
                            <a:pt x="186" y="10"/>
                          </a:moveTo>
                          <a:lnTo>
                            <a:pt x="172" y="6"/>
                          </a:lnTo>
                          <a:lnTo>
                            <a:pt x="162" y="0"/>
                          </a:lnTo>
                          <a:lnTo>
                            <a:pt x="140" y="6"/>
                          </a:lnTo>
                          <a:lnTo>
                            <a:pt x="114" y="6"/>
                          </a:lnTo>
                          <a:lnTo>
                            <a:pt x="82" y="8"/>
                          </a:lnTo>
                          <a:lnTo>
                            <a:pt x="54" y="8"/>
                          </a:lnTo>
                          <a:lnTo>
                            <a:pt x="44" y="0"/>
                          </a:lnTo>
                          <a:lnTo>
                            <a:pt x="30" y="0"/>
                          </a:lnTo>
                          <a:lnTo>
                            <a:pt x="24" y="10"/>
                          </a:lnTo>
                          <a:lnTo>
                            <a:pt x="22" y="22"/>
                          </a:lnTo>
                          <a:lnTo>
                            <a:pt x="16" y="38"/>
                          </a:lnTo>
                          <a:lnTo>
                            <a:pt x="10" y="54"/>
                          </a:lnTo>
                          <a:lnTo>
                            <a:pt x="0" y="66"/>
                          </a:lnTo>
                          <a:lnTo>
                            <a:pt x="10" y="78"/>
                          </a:lnTo>
                          <a:lnTo>
                            <a:pt x="12" y="86"/>
                          </a:lnTo>
                          <a:lnTo>
                            <a:pt x="22" y="72"/>
                          </a:lnTo>
                          <a:lnTo>
                            <a:pt x="40" y="54"/>
                          </a:lnTo>
                          <a:lnTo>
                            <a:pt x="50" y="44"/>
                          </a:lnTo>
                          <a:lnTo>
                            <a:pt x="66" y="36"/>
                          </a:lnTo>
                          <a:lnTo>
                            <a:pt x="82" y="32"/>
                          </a:lnTo>
                          <a:lnTo>
                            <a:pt x="102" y="30"/>
                          </a:lnTo>
                          <a:lnTo>
                            <a:pt x="126" y="28"/>
                          </a:lnTo>
                          <a:lnTo>
                            <a:pt x="144" y="26"/>
                          </a:lnTo>
                          <a:lnTo>
                            <a:pt x="160" y="26"/>
                          </a:lnTo>
                          <a:lnTo>
                            <a:pt x="168" y="18"/>
                          </a:lnTo>
                          <a:lnTo>
                            <a:pt x="186" y="10"/>
                          </a:lnTo>
                          <a:close/>
                        </a:path>
                      </a:pathLst>
                    </a:custGeom>
                    <a:solidFill>
                      <a:srgbClr val="5f5f5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75" name="Freeform 53"/>
                    <p:cNvSpPr/>
                    <p:nvPr/>
                  </p:nvSpPr>
                  <p:spPr>
                    <a:xfrm>
                      <a:off x="4545000" y="4204800"/>
                      <a:ext cx="100080" cy="113760"/>
                    </a:xfrm>
                    <a:custGeom>
                      <a:avLst/>
                      <a:gdLst>
                        <a:gd name="textAreaLeft" fmla="*/ 0 w 100080"/>
                        <a:gd name="textAreaRight" fmla="*/ 100440 w 100080"/>
                        <a:gd name="textAreaTop" fmla="*/ 0 h 113760"/>
                        <a:gd name="textAreaBottom" fmla="*/ 114120 h 113760"/>
                      </a:gdLst>
                      <a:ahLst/>
                      <a:rect l="textAreaLeft" t="textAreaTop" r="textAreaRight" b="textAreaBottom"/>
                      <a:pathLst>
                        <a:path w="126" h="143">
                          <a:moveTo>
                            <a:pt x="0" y="143"/>
                          </a:moveTo>
                          <a:lnTo>
                            <a:pt x="30" y="99"/>
                          </a:lnTo>
                          <a:lnTo>
                            <a:pt x="58" y="83"/>
                          </a:lnTo>
                          <a:lnTo>
                            <a:pt x="80" y="73"/>
                          </a:lnTo>
                          <a:lnTo>
                            <a:pt x="96" y="55"/>
                          </a:lnTo>
                          <a:lnTo>
                            <a:pt x="110" y="42"/>
                          </a:lnTo>
                          <a:lnTo>
                            <a:pt x="122" y="30"/>
                          </a:lnTo>
                          <a:lnTo>
                            <a:pt x="120" y="30"/>
                          </a:lnTo>
                          <a:lnTo>
                            <a:pt x="126" y="14"/>
                          </a:lnTo>
                          <a:lnTo>
                            <a:pt x="122" y="6"/>
                          </a:lnTo>
                          <a:lnTo>
                            <a:pt x="114" y="0"/>
                          </a:lnTo>
                          <a:lnTo>
                            <a:pt x="112" y="0"/>
                          </a:lnTo>
                          <a:lnTo>
                            <a:pt x="96" y="4"/>
                          </a:lnTo>
                          <a:lnTo>
                            <a:pt x="90" y="18"/>
                          </a:lnTo>
                          <a:lnTo>
                            <a:pt x="82" y="30"/>
                          </a:lnTo>
                          <a:lnTo>
                            <a:pt x="68" y="40"/>
                          </a:lnTo>
                          <a:lnTo>
                            <a:pt x="48" y="55"/>
                          </a:lnTo>
                          <a:lnTo>
                            <a:pt x="36" y="79"/>
                          </a:lnTo>
                          <a:lnTo>
                            <a:pt x="22" y="103"/>
                          </a:lnTo>
                          <a:lnTo>
                            <a:pt x="12" y="119"/>
                          </a:lnTo>
                          <a:lnTo>
                            <a:pt x="0" y="1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54"/>
                  <p:cNvGrpSpPr/>
                  <p:nvPr/>
                </p:nvGrpSpPr>
                <p:grpSpPr>
                  <a:xfrm>
                    <a:off x="4154400" y="3979800"/>
                    <a:ext cx="538200" cy="469440"/>
                    <a:chOff x="4154400" y="3979800"/>
                    <a:chExt cx="538200" cy="469440"/>
                  </a:xfrm>
                </p:grpSpPr>
                <p:grpSp>
                  <p:nvGrpSpPr>
                    <p:cNvPr id="577" name="Group 55"/>
                    <p:cNvGrpSpPr/>
                    <p:nvPr/>
                  </p:nvGrpSpPr>
                  <p:grpSpPr>
                    <a:xfrm>
                      <a:off x="4154400" y="3979800"/>
                      <a:ext cx="538200" cy="469440"/>
                      <a:chOff x="4154400" y="3979800"/>
                      <a:chExt cx="538200" cy="469440"/>
                    </a:xfrm>
                  </p:grpSpPr>
                  <p:sp>
                    <p:nvSpPr>
                      <p:cNvPr id="578" name="Freeform 56"/>
                      <p:cNvSpPr/>
                      <p:nvPr/>
                    </p:nvSpPr>
                    <p:spPr>
                      <a:xfrm>
                        <a:off x="4154400" y="3979800"/>
                        <a:ext cx="538200" cy="469440"/>
                      </a:xfrm>
                      <a:custGeom>
                        <a:avLst/>
                        <a:gdLst>
                          <a:gd name="textAreaLeft" fmla="*/ 0 w 538200"/>
                          <a:gd name="textAreaRight" fmla="*/ 538560 w 538200"/>
                          <a:gd name="textAreaTop" fmla="*/ 0 h 469440"/>
                          <a:gd name="textAreaBottom" fmla="*/ 469800 h 469440"/>
                        </a:gdLst>
                        <a:ahLst/>
                        <a:rect l="textAreaLeft" t="textAreaTop" r="textAreaRight" b="textAreaBottom"/>
                        <a:pathLst>
                          <a:path w="679" h="592">
                            <a:moveTo>
                              <a:pt x="38" y="500"/>
                            </a:moveTo>
                            <a:lnTo>
                              <a:pt x="68" y="530"/>
                            </a:lnTo>
                            <a:lnTo>
                              <a:pt x="92" y="560"/>
                            </a:lnTo>
                            <a:lnTo>
                              <a:pt x="126" y="578"/>
                            </a:lnTo>
                            <a:lnTo>
                              <a:pt x="140" y="592"/>
                            </a:lnTo>
                            <a:lnTo>
                              <a:pt x="146" y="536"/>
                            </a:lnTo>
                            <a:lnTo>
                              <a:pt x="158" y="484"/>
                            </a:lnTo>
                            <a:lnTo>
                              <a:pt x="168" y="440"/>
                            </a:lnTo>
                            <a:lnTo>
                              <a:pt x="174" y="404"/>
                            </a:lnTo>
                            <a:lnTo>
                              <a:pt x="170" y="358"/>
                            </a:lnTo>
                            <a:lnTo>
                              <a:pt x="156" y="329"/>
                            </a:lnTo>
                            <a:lnTo>
                              <a:pt x="140" y="315"/>
                            </a:lnTo>
                            <a:lnTo>
                              <a:pt x="181" y="321"/>
                            </a:lnTo>
                            <a:lnTo>
                              <a:pt x="233" y="309"/>
                            </a:lnTo>
                            <a:lnTo>
                              <a:pt x="265" y="293"/>
                            </a:lnTo>
                            <a:lnTo>
                              <a:pt x="301" y="279"/>
                            </a:lnTo>
                            <a:lnTo>
                              <a:pt x="341" y="263"/>
                            </a:lnTo>
                            <a:lnTo>
                              <a:pt x="377" y="249"/>
                            </a:lnTo>
                            <a:lnTo>
                              <a:pt x="403" y="231"/>
                            </a:lnTo>
                            <a:lnTo>
                              <a:pt x="441" y="197"/>
                            </a:lnTo>
                            <a:lnTo>
                              <a:pt x="441" y="195"/>
                            </a:lnTo>
                            <a:lnTo>
                              <a:pt x="459" y="159"/>
                            </a:lnTo>
                            <a:lnTo>
                              <a:pt x="475" y="129"/>
                            </a:lnTo>
                            <a:lnTo>
                              <a:pt x="507" y="137"/>
                            </a:lnTo>
                            <a:lnTo>
                              <a:pt x="547" y="159"/>
                            </a:lnTo>
                            <a:lnTo>
                              <a:pt x="585" y="185"/>
                            </a:lnTo>
                            <a:lnTo>
                              <a:pt x="613" y="215"/>
                            </a:lnTo>
                            <a:lnTo>
                              <a:pt x="633" y="251"/>
                            </a:lnTo>
                            <a:lnTo>
                              <a:pt x="649" y="285"/>
                            </a:lnTo>
                            <a:lnTo>
                              <a:pt x="657" y="321"/>
                            </a:lnTo>
                            <a:lnTo>
                              <a:pt x="679" y="350"/>
                            </a:lnTo>
                            <a:lnTo>
                              <a:pt x="673" y="291"/>
                            </a:lnTo>
                            <a:lnTo>
                              <a:pt x="661" y="255"/>
                            </a:lnTo>
                            <a:lnTo>
                              <a:pt x="645" y="215"/>
                            </a:lnTo>
                            <a:lnTo>
                              <a:pt x="637" y="171"/>
                            </a:lnTo>
                            <a:lnTo>
                              <a:pt x="603" y="129"/>
                            </a:lnTo>
                            <a:lnTo>
                              <a:pt x="555" y="76"/>
                            </a:lnTo>
                            <a:lnTo>
                              <a:pt x="525" y="46"/>
                            </a:lnTo>
                            <a:lnTo>
                              <a:pt x="501" y="24"/>
                            </a:lnTo>
                            <a:lnTo>
                              <a:pt x="475" y="12"/>
                            </a:lnTo>
                            <a:lnTo>
                              <a:pt x="451" y="4"/>
                            </a:lnTo>
                            <a:lnTo>
                              <a:pt x="415" y="4"/>
                            </a:lnTo>
                            <a:lnTo>
                              <a:pt x="401" y="4"/>
                            </a:lnTo>
                            <a:lnTo>
                              <a:pt x="355" y="0"/>
                            </a:lnTo>
                            <a:lnTo>
                              <a:pt x="293" y="0"/>
                            </a:lnTo>
                            <a:lnTo>
                              <a:pt x="235" y="16"/>
                            </a:lnTo>
                            <a:lnTo>
                              <a:pt x="187" y="34"/>
                            </a:lnTo>
                            <a:lnTo>
                              <a:pt x="144" y="48"/>
                            </a:lnTo>
                            <a:lnTo>
                              <a:pt x="110" y="64"/>
                            </a:lnTo>
                            <a:lnTo>
                              <a:pt x="86" y="81"/>
                            </a:lnTo>
                            <a:lnTo>
                              <a:pt x="66" y="99"/>
                            </a:lnTo>
                            <a:lnTo>
                              <a:pt x="44" y="123"/>
                            </a:lnTo>
                            <a:lnTo>
                              <a:pt x="24" y="153"/>
                            </a:lnTo>
                            <a:lnTo>
                              <a:pt x="8" y="177"/>
                            </a:lnTo>
                            <a:lnTo>
                              <a:pt x="0" y="209"/>
                            </a:lnTo>
                            <a:lnTo>
                              <a:pt x="0" y="255"/>
                            </a:lnTo>
                            <a:lnTo>
                              <a:pt x="0" y="297"/>
                            </a:lnTo>
                            <a:lnTo>
                              <a:pt x="6" y="338"/>
                            </a:lnTo>
                            <a:lnTo>
                              <a:pt x="6" y="388"/>
                            </a:lnTo>
                            <a:lnTo>
                              <a:pt x="8" y="428"/>
                            </a:lnTo>
                            <a:lnTo>
                              <a:pt x="18" y="454"/>
                            </a:lnTo>
                            <a:lnTo>
                              <a:pt x="38" y="5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57"/>
                      <p:cNvSpPr/>
                      <p:nvPr/>
                    </p:nvSpPr>
                    <p:spPr>
                      <a:xfrm>
                        <a:off x="4178160" y="3990240"/>
                        <a:ext cx="328680" cy="417240"/>
                      </a:xfrm>
                      <a:custGeom>
                        <a:avLst/>
                        <a:gdLst>
                          <a:gd name="textAreaLeft" fmla="*/ 0 w 328680"/>
                          <a:gd name="textAreaRight" fmla="*/ 329040 w 328680"/>
                          <a:gd name="textAreaTop" fmla="*/ 0 h 417240"/>
                          <a:gd name="textAreaBottom" fmla="*/ 417600 h 417240"/>
                        </a:gdLst>
                        <a:ahLst/>
                        <a:rect l="textAreaLeft" t="textAreaTop" r="textAreaRight" b="textAreaBottom"/>
                        <a:pathLst>
                          <a:path w="415" h="526">
                            <a:moveTo>
                              <a:pt x="257" y="16"/>
                            </a:moveTo>
                            <a:lnTo>
                              <a:pt x="281" y="4"/>
                            </a:lnTo>
                            <a:lnTo>
                              <a:pt x="305" y="0"/>
                            </a:lnTo>
                            <a:lnTo>
                              <a:pt x="327" y="0"/>
                            </a:lnTo>
                            <a:lnTo>
                              <a:pt x="359" y="6"/>
                            </a:lnTo>
                            <a:lnTo>
                              <a:pt x="375" y="12"/>
                            </a:lnTo>
                            <a:lnTo>
                              <a:pt x="389" y="30"/>
                            </a:lnTo>
                            <a:lnTo>
                              <a:pt x="403" y="56"/>
                            </a:lnTo>
                            <a:lnTo>
                              <a:pt x="415" y="73"/>
                            </a:lnTo>
                            <a:lnTo>
                              <a:pt x="415" y="93"/>
                            </a:lnTo>
                            <a:lnTo>
                              <a:pt x="413" y="115"/>
                            </a:lnTo>
                            <a:lnTo>
                              <a:pt x="395" y="143"/>
                            </a:lnTo>
                            <a:lnTo>
                              <a:pt x="379" y="167"/>
                            </a:lnTo>
                            <a:lnTo>
                              <a:pt x="359" y="187"/>
                            </a:lnTo>
                            <a:lnTo>
                              <a:pt x="335" y="205"/>
                            </a:lnTo>
                            <a:lnTo>
                              <a:pt x="317" y="219"/>
                            </a:lnTo>
                            <a:lnTo>
                              <a:pt x="287" y="227"/>
                            </a:lnTo>
                            <a:lnTo>
                              <a:pt x="257" y="239"/>
                            </a:lnTo>
                            <a:lnTo>
                              <a:pt x="231" y="249"/>
                            </a:lnTo>
                            <a:lnTo>
                              <a:pt x="209" y="257"/>
                            </a:lnTo>
                            <a:lnTo>
                              <a:pt x="191" y="257"/>
                            </a:lnTo>
                            <a:lnTo>
                              <a:pt x="179" y="263"/>
                            </a:lnTo>
                            <a:lnTo>
                              <a:pt x="173" y="269"/>
                            </a:lnTo>
                            <a:lnTo>
                              <a:pt x="201" y="269"/>
                            </a:lnTo>
                            <a:lnTo>
                              <a:pt x="183" y="279"/>
                            </a:lnTo>
                            <a:lnTo>
                              <a:pt x="159" y="287"/>
                            </a:lnTo>
                            <a:lnTo>
                              <a:pt x="126" y="287"/>
                            </a:lnTo>
                            <a:lnTo>
                              <a:pt x="102" y="287"/>
                            </a:lnTo>
                            <a:lnTo>
                              <a:pt x="94" y="293"/>
                            </a:lnTo>
                            <a:lnTo>
                              <a:pt x="108" y="326"/>
                            </a:lnTo>
                            <a:lnTo>
                              <a:pt x="116" y="362"/>
                            </a:lnTo>
                            <a:lnTo>
                              <a:pt x="116" y="394"/>
                            </a:lnTo>
                            <a:lnTo>
                              <a:pt x="116" y="428"/>
                            </a:lnTo>
                            <a:lnTo>
                              <a:pt x="122" y="452"/>
                            </a:lnTo>
                            <a:lnTo>
                              <a:pt x="114" y="484"/>
                            </a:lnTo>
                            <a:lnTo>
                              <a:pt x="102" y="522"/>
                            </a:lnTo>
                            <a:lnTo>
                              <a:pt x="90" y="526"/>
                            </a:lnTo>
                            <a:lnTo>
                              <a:pt x="80" y="512"/>
                            </a:lnTo>
                            <a:lnTo>
                              <a:pt x="46" y="476"/>
                            </a:lnTo>
                            <a:lnTo>
                              <a:pt x="12" y="456"/>
                            </a:lnTo>
                            <a:lnTo>
                              <a:pt x="50" y="456"/>
                            </a:lnTo>
                            <a:lnTo>
                              <a:pt x="34" y="416"/>
                            </a:lnTo>
                            <a:lnTo>
                              <a:pt x="14" y="398"/>
                            </a:lnTo>
                            <a:lnTo>
                              <a:pt x="30" y="368"/>
                            </a:lnTo>
                            <a:lnTo>
                              <a:pt x="20" y="358"/>
                            </a:lnTo>
                            <a:lnTo>
                              <a:pt x="36" y="362"/>
                            </a:lnTo>
                            <a:lnTo>
                              <a:pt x="18" y="326"/>
                            </a:lnTo>
                            <a:lnTo>
                              <a:pt x="40" y="328"/>
                            </a:lnTo>
                            <a:lnTo>
                              <a:pt x="4" y="283"/>
                            </a:lnTo>
                            <a:lnTo>
                              <a:pt x="0" y="243"/>
                            </a:lnTo>
                            <a:lnTo>
                              <a:pt x="18" y="257"/>
                            </a:lnTo>
                            <a:lnTo>
                              <a:pt x="6" y="229"/>
                            </a:lnTo>
                            <a:lnTo>
                              <a:pt x="48" y="233"/>
                            </a:lnTo>
                            <a:lnTo>
                              <a:pt x="64" y="225"/>
                            </a:lnTo>
                            <a:lnTo>
                              <a:pt x="46" y="203"/>
                            </a:lnTo>
                            <a:lnTo>
                              <a:pt x="76" y="199"/>
                            </a:lnTo>
                            <a:lnTo>
                              <a:pt x="48" y="183"/>
                            </a:lnTo>
                            <a:lnTo>
                              <a:pt x="24" y="165"/>
                            </a:lnTo>
                            <a:lnTo>
                              <a:pt x="72" y="179"/>
                            </a:lnTo>
                            <a:lnTo>
                              <a:pt x="104" y="187"/>
                            </a:lnTo>
                            <a:lnTo>
                              <a:pt x="132" y="189"/>
                            </a:lnTo>
                            <a:lnTo>
                              <a:pt x="167" y="193"/>
                            </a:lnTo>
                            <a:lnTo>
                              <a:pt x="201" y="191"/>
                            </a:lnTo>
                            <a:lnTo>
                              <a:pt x="213" y="185"/>
                            </a:lnTo>
                            <a:lnTo>
                              <a:pt x="203" y="171"/>
                            </a:lnTo>
                            <a:lnTo>
                              <a:pt x="243" y="165"/>
                            </a:lnTo>
                            <a:lnTo>
                              <a:pt x="209" y="159"/>
                            </a:lnTo>
                            <a:lnTo>
                              <a:pt x="177" y="155"/>
                            </a:lnTo>
                            <a:lnTo>
                              <a:pt x="142" y="155"/>
                            </a:lnTo>
                            <a:lnTo>
                              <a:pt x="106" y="155"/>
                            </a:lnTo>
                            <a:lnTo>
                              <a:pt x="132" y="135"/>
                            </a:lnTo>
                            <a:lnTo>
                              <a:pt x="100" y="143"/>
                            </a:lnTo>
                            <a:lnTo>
                              <a:pt x="72" y="139"/>
                            </a:lnTo>
                            <a:lnTo>
                              <a:pt x="48" y="135"/>
                            </a:lnTo>
                            <a:lnTo>
                              <a:pt x="34" y="133"/>
                            </a:lnTo>
                            <a:lnTo>
                              <a:pt x="66" y="125"/>
                            </a:lnTo>
                            <a:lnTo>
                              <a:pt x="90" y="119"/>
                            </a:lnTo>
                            <a:lnTo>
                              <a:pt x="108" y="111"/>
                            </a:lnTo>
                            <a:lnTo>
                              <a:pt x="118" y="107"/>
                            </a:lnTo>
                            <a:lnTo>
                              <a:pt x="96" y="107"/>
                            </a:lnTo>
                            <a:lnTo>
                              <a:pt x="136" y="87"/>
                            </a:lnTo>
                            <a:lnTo>
                              <a:pt x="114" y="81"/>
                            </a:lnTo>
                            <a:lnTo>
                              <a:pt x="96" y="81"/>
                            </a:lnTo>
                            <a:lnTo>
                              <a:pt x="132" y="75"/>
                            </a:lnTo>
                            <a:lnTo>
                              <a:pt x="173" y="79"/>
                            </a:lnTo>
                            <a:lnTo>
                              <a:pt x="193" y="87"/>
                            </a:lnTo>
                            <a:lnTo>
                              <a:pt x="217" y="89"/>
                            </a:lnTo>
                            <a:lnTo>
                              <a:pt x="239" y="89"/>
                            </a:lnTo>
                            <a:lnTo>
                              <a:pt x="263" y="87"/>
                            </a:lnTo>
                            <a:lnTo>
                              <a:pt x="279" y="79"/>
                            </a:lnTo>
                            <a:lnTo>
                              <a:pt x="295" y="71"/>
                            </a:lnTo>
                            <a:lnTo>
                              <a:pt x="305" y="65"/>
                            </a:lnTo>
                            <a:lnTo>
                              <a:pt x="281" y="65"/>
                            </a:lnTo>
                            <a:lnTo>
                              <a:pt x="253" y="62"/>
                            </a:lnTo>
                            <a:lnTo>
                              <a:pt x="215" y="60"/>
                            </a:lnTo>
                            <a:lnTo>
                              <a:pt x="267" y="54"/>
                            </a:lnTo>
                            <a:lnTo>
                              <a:pt x="295" y="48"/>
                            </a:lnTo>
                            <a:lnTo>
                              <a:pt x="315" y="44"/>
                            </a:lnTo>
                            <a:lnTo>
                              <a:pt x="329" y="34"/>
                            </a:lnTo>
                            <a:lnTo>
                              <a:pt x="305" y="36"/>
                            </a:lnTo>
                            <a:lnTo>
                              <a:pt x="317" y="20"/>
                            </a:lnTo>
                            <a:lnTo>
                              <a:pt x="329" y="16"/>
                            </a:lnTo>
                            <a:lnTo>
                              <a:pt x="299" y="16"/>
                            </a:lnTo>
                            <a:lnTo>
                              <a:pt x="275" y="18"/>
                            </a:lnTo>
                            <a:lnTo>
                              <a:pt x="257" y="16"/>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Freeform 58"/>
                    <p:cNvSpPr/>
                    <p:nvPr/>
                  </p:nvSpPr>
                  <p:spPr>
                    <a:xfrm>
                      <a:off x="4511520" y="3987360"/>
                      <a:ext cx="92160" cy="107280"/>
                    </a:xfrm>
                    <a:custGeom>
                      <a:avLst/>
                      <a:gdLst>
                        <a:gd name="textAreaLeft" fmla="*/ 0 w 92160"/>
                        <a:gd name="textAreaRight" fmla="*/ 92520 w 92160"/>
                        <a:gd name="textAreaTop" fmla="*/ 0 h 107280"/>
                        <a:gd name="textAreaBottom" fmla="*/ 107640 h 107280"/>
                      </a:gdLst>
                      <a:ahLst/>
                      <a:rect l="textAreaLeft" t="textAreaTop" r="textAreaRight" b="textAreaBottom"/>
                      <a:pathLst>
                        <a:path w="116" h="135">
                          <a:moveTo>
                            <a:pt x="0" y="0"/>
                          </a:moveTo>
                          <a:lnTo>
                            <a:pt x="24" y="28"/>
                          </a:lnTo>
                          <a:lnTo>
                            <a:pt x="38" y="38"/>
                          </a:lnTo>
                          <a:lnTo>
                            <a:pt x="54" y="52"/>
                          </a:lnTo>
                          <a:lnTo>
                            <a:pt x="72" y="60"/>
                          </a:lnTo>
                          <a:lnTo>
                            <a:pt x="94" y="69"/>
                          </a:lnTo>
                          <a:lnTo>
                            <a:pt x="66" y="64"/>
                          </a:lnTo>
                          <a:lnTo>
                            <a:pt x="46" y="58"/>
                          </a:lnTo>
                          <a:lnTo>
                            <a:pt x="38" y="62"/>
                          </a:lnTo>
                          <a:lnTo>
                            <a:pt x="52" y="79"/>
                          </a:lnTo>
                          <a:lnTo>
                            <a:pt x="62" y="99"/>
                          </a:lnTo>
                          <a:lnTo>
                            <a:pt x="86" y="113"/>
                          </a:lnTo>
                          <a:lnTo>
                            <a:pt x="116" y="135"/>
                          </a:lnTo>
                          <a:lnTo>
                            <a:pt x="76" y="115"/>
                          </a:lnTo>
                          <a:lnTo>
                            <a:pt x="54" y="103"/>
                          </a:lnTo>
                          <a:lnTo>
                            <a:pt x="32" y="95"/>
                          </a:lnTo>
                          <a:lnTo>
                            <a:pt x="18" y="77"/>
                          </a:lnTo>
                          <a:lnTo>
                            <a:pt x="18" y="54"/>
                          </a:lnTo>
                          <a:lnTo>
                            <a:pt x="6" y="32"/>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581" name="Freeform 59"/>
            <p:cNvSpPr/>
            <p:nvPr/>
          </p:nvSpPr>
          <p:spPr>
            <a:xfrm>
              <a:off x="1600200" y="5581440"/>
              <a:ext cx="5806800" cy="1029960"/>
            </a:xfrm>
            <a:custGeom>
              <a:avLst/>
              <a:gdLst>
                <a:gd name="textAreaLeft" fmla="*/ 0 w 5806800"/>
                <a:gd name="textAreaRight" fmla="*/ 5807160 w 5806800"/>
                <a:gd name="textAreaTop" fmla="*/ 0 h 1029960"/>
                <a:gd name="textAreaBottom" fmla="*/ 1029960 h 1029960"/>
              </a:gdLst>
              <a:ahLst/>
              <a:rect l="textAreaLeft" t="textAreaTop" r="textAreaRight" b="textAreaBottom"/>
              <a:pathLst>
                <a:path w="7316" h="1299">
                  <a:moveTo>
                    <a:pt x="926" y="0"/>
                  </a:moveTo>
                  <a:lnTo>
                    <a:pt x="0" y="1299"/>
                  </a:lnTo>
                  <a:lnTo>
                    <a:pt x="7316" y="1299"/>
                  </a:lnTo>
                  <a:lnTo>
                    <a:pt x="6655" y="0"/>
                  </a:lnTo>
                  <a:lnTo>
                    <a:pt x="926"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60"/>
            <p:cNvGrpSpPr/>
            <p:nvPr/>
          </p:nvGrpSpPr>
          <p:grpSpPr>
            <a:xfrm>
              <a:off x="3636720" y="5332320"/>
              <a:ext cx="279720" cy="286920"/>
              <a:chOff x="3636720" y="5332320"/>
              <a:chExt cx="279720" cy="286920"/>
            </a:xfrm>
          </p:grpSpPr>
          <p:sp>
            <p:nvSpPr>
              <p:cNvPr id="583" name="Freeform 61"/>
              <p:cNvSpPr/>
              <p:nvPr/>
            </p:nvSpPr>
            <p:spPr>
              <a:xfrm>
                <a:off x="3636720" y="5332320"/>
                <a:ext cx="277920" cy="286920"/>
              </a:xfrm>
              <a:custGeom>
                <a:avLst/>
                <a:gdLst>
                  <a:gd name="textAreaLeft" fmla="*/ 0 w 277920"/>
                  <a:gd name="textAreaRight" fmla="*/ 278280 w 277920"/>
                  <a:gd name="textAreaTop" fmla="*/ 0 h 286920"/>
                  <a:gd name="textAreaBottom" fmla="*/ 286920 h 286920"/>
                </a:gdLst>
                <a:ahLst/>
                <a:rect l="textAreaLeft" t="textAreaTop" r="textAreaRight" b="textAreaBottom"/>
                <a:pathLst>
                  <a:path w="351" h="363">
                    <a:moveTo>
                      <a:pt x="58" y="56"/>
                    </a:moveTo>
                    <a:lnTo>
                      <a:pt x="110" y="8"/>
                    </a:lnTo>
                    <a:lnTo>
                      <a:pt x="140" y="0"/>
                    </a:lnTo>
                    <a:lnTo>
                      <a:pt x="202" y="8"/>
                    </a:lnTo>
                    <a:lnTo>
                      <a:pt x="266" y="18"/>
                    </a:lnTo>
                    <a:lnTo>
                      <a:pt x="308" y="28"/>
                    </a:lnTo>
                    <a:lnTo>
                      <a:pt x="321" y="38"/>
                    </a:lnTo>
                    <a:lnTo>
                      <a:pt x="329" y="60"/>
                    </a:lnTo>
                    <a:lnTo>
                      <a:pt x="331" y="74"/>
                    </a:lnTo>
                    <a:lnTo>
                      <a:pt x="321" y="88"/>
                    </a:lnTo>
                    <a:lnTo>
                      <a:pt x="333" y="102"/>
                    </a:lnTo>
                    <a:lnTo>
                      <a:pt x="339" y="122"/>
                    </a:lnTo>
                    <a:lnTo>
                      <a:pt x="335" y="134"/>
                    </a:lnTo>
                    <a:lnTo>
                      <a:pt x="345" y="148"/>
                    </a:lnTo>
                    <a:lnTo>
                      <a:pt x="349" y="164"/>
                    </a:lnTo>
                    <a:lnTo>
                      <a:pt x="347" y="182"/>
                    </a:lnTo>
                    <a:lnTo>
                      <a:pt x="335" y="201"/>
                    </a:lnTo>
                    <a:lnTo>
                      <a:pt x="345" y="221"/>
                    </a:lnTo>
                    <a:lnTo>
                      <a:pt x="351" y="245"/>
                    </a:lnTo>
                    <a:lnTo>
                      <a:pt x="343" y="269"/>
                    </a:lnTo>
                    <a:lnTo>
                      <a:pt x="329" y="281"/>
                    </a:lnTo>
                    <a:lnTo>
                      <a:pt x="329" y="321"/>
                    </a:lnTo>
                    <a:lnTo>
                      <a:pt x="315" y="343"/>
                    </a:lnTo>
                    <a:lnTo>
                      <a:pt x="286" y="353"/>
                    </a:lnTo>
                    <a:lnTo>
                      <a:pt x="156" y="363"/>
                    </a:lnTo>
                    <a:lnTo>
                      <a:pt x="92" y="339"/>
                    </a:lnTo>
                    <a:lnTo>
                      <a:pt x="14" y="251"/>
                    </a:lnTo>
                    <a:lnTo>
                      <a:pt x="2" y="213"/>
                    </a:lnTo>
                    <a:lnTo>
                      <a:pt x="0" y="184"/>
                    </a:lnTo>
                    <a:lnTo>
                      <a:pt x="4" y="156"/>
                    </a:lnTo>
                    <a:lnTo>
                      <a:pt x="16" y="112"/>
                    </a:lnTo>
                    <a:lnTo>
                      <a:pt x="30" y="90"/>
                    </a:lnTo>
                    <a:lnTo>
                      <a:pt x="58" y="5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62"/>
              <p:cNvGrpSpPr/>
              <p:nvPr/>
            </p:nvGrpSpPr>
            <p:grpSpPr>
              <a:xfrm>
                <a:off x="3705120" y="5368320"/>
                <a:ext cx="211320" cy="250200"/>
                <a:chOff x="3705120" y="5368320"/>
                <a:chExt cx="211320" cy="250200"/>
              </a:xfrm>
            </p:grpSpPr>
            <p:sp>
              <p:nvSpPr>
                <p:cNvPr id="585" name="Freeform 63"/>
                <p:cNvSpPr/>
                <p:nvPr/>
              </p:nvSpPr>
              <p:spPr>
                <a:xfrm>
                  <a:off x="3705120" y="5426640"/>
                  <a:ext cx="211320" cy="191880"/>
                </a:xfrm>
                <a:custGeom>
                  <a:avLst/>
                  <a:gdLst>
                    <a:gd name="textAreaLeft" fmla="*/ 0 w 211320"/>
                    <a:gd name="textAreaRight" fmla="*/ 211680 w 211320"/>
                    <a:gd name="textAreaTop" fmla="*/ 0 h 191880"/>
                    <a:gd name="textAreaBottom" fmla="*/ 192240 h 191880"/>
                  </a:gdLst>
                  <a:ahLst/>
                  <a:rect l="textAreaLeft" t="textAreaTop" r="textAreaRight" b="textAreaBottom"/>
                  <a:pathLst>
                    <a:path w="265" h="243">
                      <a:moveTo>
                        <a:pt x="78" y="34"/>
                      </a:moveTo>
                      <a:lnTo>
                        <a:pt x="110" y="36"/>
                      </a:lnTo>
                      <a:lnTo>
                        <a:pt x="130" y="36"/>
                      </a:lnTo>
                      <a:lnTo>
                        <a:pt x="128" y="0"/>
                      </a:lnTo>
                      <a:lnTo>
                        <a:pt x="142" y="20"/>
                      </a:lnTo>
                      <a:lnTo>
                        <a:pt x="152" y="30"/>
                      </a:lnTo>
                      <a:lnTo>
                        <a:pt x="166" y="34"/>
                      </a:lnTo>
                      <a:lnTo>
                        <a:pt x="194" y="30"/>
                      </a:lnTo>
                      <a:lnTo>
                        <a:pt x="214" y="22"/>
                      </a:lnTo>
                      <a:lnTo>
                        <a:pt x="231" y="14"/>
                      </a:lnTo>
                      <a:lnTo>
                        <a:pt x="247" y="10"/>
                      </a:lnTo>
                      <a:lnTo>
                        <a:pt x="253" y="2"/>
                      </a:lnTo>
                      <a:lnTo>
                        <a:pt x="249" y="14"/>
                      </a:lnTo>
                      <a:lnTo>
                        <a:pt x="259" y="28"/>
                      </a:lnTo>
                      <a:lnTo>
                        <a:pt x="263" y="44"/>
                      </a:lnTo>
                      <a:lnTo>
                        <a:pt x="261" y="62"/>
                      </a:lnTo>
                      <a:lnTo>
                        <a:pt x="249" y="81"/>
                      </a:lnTo>
                      <a:lnTo>
                        <a:pt x="259" y="101"/>
                      </a:lnTo>
                      <a:lnTo>
                        <a:pt x="265" y="125"/>
                      </a:lnTo>
                      <a:lnTo>
                        <a:pt x="257" y="149"/>
                      </a:lnTo>
                      <a:lnTo>
                        <a:pt x="243" y="161"/>
                      </a:lnTo>
                      <a:lnTo>
                        <a:pt x="243" y="201"/>
                      </a:lnTo>
                      <a:lnTo>
                        <a:pt x="229" y="223"/>
                      </a:lnTo>
                      <a:lnTo>
                        <a:pt x="200" y="233"/>
                      </a:lnTo>
                      <a:lnTo>
                        <a:pt x="70" y="243"/>
                      </a:lnTo>
                      <a:lnTo>
                        <a:pt x="6" y="219"/>
                      </a:lnTo>
                      <a:lnTo>
                        <a:pt x="44" y="231"/>
                      </a:lnTo>
                      <a:lnTo>
                        <a:pt x="78" y="237"/>
                      </a:lnTo>
                      <a:lnTo>
                        <a:pt x="104" y="235"/>
                      </a:lnTo>
                      <a:lnTo>
                        <a:pt x="124" y="229"/>
                      </a:lnTo>
                      <a:lnTo>
                        <a:pt x="132" y="209"/>
                      </a:lnTo>
                      <a:lnTo>
                        <a:pt x="132" y="235"/>
                      </a:lnTo>
                      <a:lnTo>
                        <a:pt x="162" y="231"/>
                      </a:lnTo>
                      <a:lnTo>
                        <a:pt x="202" y="229"/>
                      </a:lnTo>
                      <a:lnTo>
                        <a:pt x="221" y="219"/>
                      </a:lnTo>
                      <a:lnTo>
                        <a:pt x="229" y="203"/>
                      </a:lnTo>
                      <a:lnTo>
                        <a:pt x="237" y="183"/>
                      </a:lnTo>
                      <a:lnTo>
                        <a:pt x="239" y="169"/>
                      </a:lnTo>
                      <a:lnTo>
                        <a:pt x="218" y="173"/>
                      </a:lnTo>
                      <a:lnTo>
                        <a:pt x="194" y="179"/>
                      </a:lnTo>
                      <a:lnTo>
                        <a:pt x="166" y="181"/>
                      </a:lnTo>
                      <a:lnTo>
                        <a:pt x="136" y="183"/>
                      </a:lnTo>
                      <a:lnTo>
                        <a:pt x="114" y="181"/>
                      </a:lnTo>
                      <a:lnTo>
                        <a:pt x="90" y="179"/>
                      </a:lnTo>
                      <a:lnTo>
                        <a:pt x="64" y="171"/>
                      </a:lnTo>
                      <a:lnTo>
                        <a:pt x="34" y="161"/>
                      </a:lnTo>
                      <a:lnTo>
                        <a:pt x="16" y="145"/>
                      </a:lnTo>
                      <a:lnTo>
                        <a:pt x="42" y="159"/>
                      </a:lnTo>
                      <a:lnTo>
                        <a:pt x="60" y="161"/>
                      </a:lnTo>
                      <a:lnTo>
                        <a:pt x="84" y="165"/>
                      </a:lnTo>
                      <a:lnTo>
                        <a:pt x="108" y="169"/>
                      </a:lnTo>
                      <a:lnTo>
                        <a:pt x="136" y="171"/>
                      </a:lnTo>
                      <a:lnTo>
                        <a:pt x="156" y="163"/>
                      </a:lnTo>
                      <a:lnTo>
                        <a:pt x="174" y="153"/>
                      </a:lnTo>
                      <a:lnTo>
                        <a:pt x="178" y="169"/>
                      </a:lnTo>
                      <a:lnTo>
                        <a:pt x="190" y="167"/>
                      </a:lnTo>
                      <a:lnTo>
                        <a:pt x="212" y="165"/>
                      </a:lnTo>
                      <a:lnTo>
                        <a:pt x="229" y="163"/>
                      </a:lnTo>
                      <a:lnTo>
                        <a:pt x="237" y="157"/>
                      </a:lnTo>
                      <a:lnTo>
                        <a:pt x="243" y="147"/>
                      </a:lnTo>
                      <a:lnTo>
                        <a:pt x="249" y="137"/>
                      </a:lnTo>
                      <a:lnTo>
                        <a:pt x="253" y="125"/>
                      </a:lnTo>
                      <a:lnTo>
                        <a:pt x="251" y="113"/>
                      </a:lnTo>
                      <a:lnTo>
                        <a:pt x="247" y="103"/>
                      </a:lnTo>
                      <a:lnTo>
                        <a:pt x="235" y="103"/>
                      </a:lnTo>
                      <a:lnTo>
                        <a:pt x="210" y="109"/>
                      </a:lnTo>
                      <a:lnTo>
                        <a:pt x="186" y="117"/>
                      </a:lnTo>
                      <a:lnTo>
                        <a:pt x="160" y="121"/>
                      </a:lnTo>
                      <a:lnTo>
                        <a:pt x="132" y="123"/>
                      </a:lnTo>
                      <a:lnTo>
                        <a:pt x="106" y="125"/>
                      </a:lnTo>
                      <a:lnTo>
                        <a:pt x="74" y="125"/>
                      </a:lnTo>
                      <a:lnTo>
                        <a:pt x="46" y="117"/>
                      </a:lnTo>
                      <a:lnTo>
                        <a:pt x="24" y="109"/>
                      </a:lnTo>
                      <a:lnTo>
                        <a:pt x="0" y="91"/>
                      </a:lnTo>
                      <a:lnTo>
                        <a:pt x="40" y="105"/>
                      </a:lnTo>
                      <a:lnTo>
                        <a:pt x="60" y="111"/>
                      </a:lnTo>
                      <a:lnTo>
                        <a:pt x="84" y="117"/>
                      </a:lnTo>
                      <a:lnTo>
                        <a:pt x="108" y="115"/>
                      </a:lnTo>
                      <a:lnTo>
                        <a:pt x="126" y="113"/>
                      </a:lnTo>
                      <a:lnTo>
                        <a:pt x="144" y="107"/>
                      </a:lnTo>
                      <a:lnTo>
                        <a:pt x="158" y="93"/>
                      </a:lnTo>
                      <a:lnTo>
                        <a:pt x="174" y="83"/>
                      </a:lnTo>
                      <a:lnTo>
                        <a:pt x="164" y="99"/>
                      </a:lnTo>
                      <a:lnTo>
                        <a:pt x="172" y="107"/>
                      </a:lnTo>
                      <a:lnTo>
                        <a:pt x="180" y="105"/>
                      </a:lnTo>
                      <a:lnTo>
                        <a:pt x="202" y="101"/>
                      </a:lnTo>
                      <a:lnTo>
                        <a:pt x="221" y="95"/>
                      </a:lnTo>
                      <a:lnTo>
                        <a:pt x="239" y="81"/>
                      </a:lnTo>
                      <a:lnTo>
                        <a:pt x="253" y="68"/>
                      </a:lnTo>
                      <a:lnTo>
                        <a:pt x="255" y="54"/>
                      </a:lnTo>
                      <a:lnTo>
                        <a:pt x="253" y="38"/>
                      </a:lnTo>
                      <a:lnTo>
                        <a:pt x="251" y="18"/>
                      </a:lnTo>
                      <a:lnTo>
                        <a:pt x="233" y="24"/>
                      </a:lnTo>
                      <a:lnTo>
                        <a:pt x="210" y="36"/>
                      </a:lnTo>
                      <a:lnTo>
                        <a:pt x="176" y="46"/>
                      </a:lnTo>
                      <a:lnTo>
                        <a:pt x="138" y="48"/>
                      </a:lnTo>
                      <a:lnTo>
                        <a:pt x="100" y="46"/>
                      </a:lnTo>
                      <a:lnTo>
                        <a:pt x="66" y="40"/>
                      </a:lnTo>
                      <a:lnTo>
                        <a:pt x="34" y="28"/>
                      </a:lnTo>
                      <a:lnTo>
                        <a:pt x="78" y="34"/>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64"/>
                <p:cNvSpPr/>
                <p:nvPr/>
              </p:nvSpPr>
              <p:spPr>
                <a:xfrm>
                  <a:off x="3713040" y="5368320"/>
                  <a:ext cx="141480" cy="23400"/>
                </a:xfrm>
                <a:custGeom>
                  <a:avLst/>
                  <a:gdLst>
                    <a:gd name="textAreaLeft" fmla="*/ 0 w 141480"/>
                    <a:gd name="textAreaRight" fmla="*/ 141840 w 141480"/>
                    <a:gd name="textAreaTop" fmla="*/ 0 h 23400"/>
                    <a:gd name="textAreaBottom" fmla="*/ 23760 h 23400"/>
                  </a:gdLst>
                  <a:ahLst/>
                  <a:rect l="textAreaLeft" t="textAreaTop" r="textAreaRight" b="textAreaBottom"/>
                  <a:pathLst>
                    <a:path w="178" h="30">
                      <a:moveTo>
                        <a:pt x="178" y="0"/>
                      </a:moveTo>
                      <a:lnTo>
                        <a:pt x="160" y="12"/>
                      </a:lnTo>
                      <a:lnTo>
                        <a:pt x="146" y="28"/>
                      </a:lnTo>
                      <a:lnTo>
                        <a:pt x="128" y="24"/>
                      </a:lnTo>
                      <a:lnTo>
                        <a:pt x="110" y="14"/>
                      </a:lnTo>
                      <a:lnTo>
                        <a:pt x="92" y="14"/>
                      </a:lnTo>
                      <a:lnTo>
                        <a:pt x="62" y="22"/>
                      </a:lnTo>
                      <a:lnTo>
                        <a:pt x="40" y="30"/>
                      </a:lnTo>
                      <a:lnTo>
                        <a:pt x="56" y="18"/>
                      </a:lnTo>
                      <a:lnTo>
                        <a:pt x="26" y="14"/>
                      </a:lnTo>
                      <a:lnTo>
                        <a:pt x="0" y="10"/>
                      </a:lnTo>
                      <a:lnTo>
                        <a:pt x="34" y="8"/>
                      </a:lnTo>
                      <a:lnTo>
                        <a:pt x="62" y="12"/>
                      </a:lnTo>
                      <a:lnTo>
                        <a:pt x="84" y="12"/>
                      </a:lnTo>
                      <a:lnTo>
                        <a:pt x="100" y="8"/>
                      </a:lnTo>
                      <a:lnTo>
                        <a:pt x="116" y="8"/>
                      </a:lnTo>
                      <a:lnTo>
                        <a:pt x="128" y="14"/>
                      </a:lnTo>
                      <a:lnTo>
                        <a:pt x="146" y="20"/>
                      </a:lnTo>
                      <a:lnTo>
                        <a:pt x="178" y="0"/>
                      </a:lnTo>
                      <a:close/>
                    </a:path>
                  </a:pathLst>
                </a:custGeom>
                <a:solidFill>
                  <a:srgbClr val="df9f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587" name="Group 65"/>
            <p:cNvGrpSpPr/>
            <p:nvPr/>
          </p:nvGrpSpPr>
          <p:grpSpPr>
            <a:xfrm>
              <a:off x="3836880" y="5597280"/>
              <a:ext cx="1855800" cy="618480"/>
              <a:chOff x="3836880" y="5597280"/>
              <a:chExt cx="1855800" cy="618480"/>
            </a:xfrm>
          </p:grpSpPr>
          <p:sp>
            <p:nvSpPr>
              <p:cNvPr id="588" name="Freeform 66"/>
              <p:cNvSpPr/>
              <p:nvPr/>
            </p:nvSpPr>
            <p:spPr>
              <a:xfrm>
                <a:off x="3836880" y="5620680"/>
                <a:ext cx="690480" cy="595080"/>
              </a:xfrm>
              <a:custGeom>
                <a:avLst/>
                <a:gdLst>
                  <a:gd name="textAreaLeft" fmla="*/ 0 w 690480"/>
                  <a:gd name="textAreaRight" fmla="*/ 690840 w 690480"/>
                  <a:gd name="textAreaTop" fmla="*/ 0 h 595080"/>
                  <a:gd name="textAreaBottom" fmla="*/ 595080 h 595080"/>
                </a:gdLst>
                <a:ahLst/>
                <a:rect l="textAreaLeft" t="textAreaTop" r="textAreaRight" b="textAreaBottom"/>
                <a:pathLst>
                  <a:path w="870" h="749">
                    <a:moveTo>
                      <a:pt x="185" y="0"/>
                    </a:moveTo>
                    <a:lnTo>
                      <a:pt x="0" y="671"/>
                    </a:lnTo>
                    <a:lnTo>
                      <a:pt x="700" y="749"/>
                    </a:lnTo>
                    <a:lnTo>
                      <a:pt x="870" y="54"/>
                    </a:lnTo>
                    <a:lnTo>
                      <a:pt x="18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67"/>
              <p:cNvSpPr/>
              <p:nvPr/>
            </p:nvSpPr>
            <p:spPr>
              <a:xfrm>
                <a:off x="4136760" y="5597280"/>
                <a:ext cx="824040" cy="456840"/>
              </a:xfrm>
              <a:custGeom>
                <a:avLst/>
                <a:gdLst>
                  <a:gd name="textAreaLeft" fmla="*/ 0 w 824040"/>
                  <a:gd name="textAreaRight" fmla="*/ 824400 w 824040"/>
                  <a:gd name="textAreaTop" fmla="*/ 0 h 456840"/>
                  <a:gd name="textAreaBottom" fmla="*/ 457200 h 456840"/>
                </a:gdLst>
                <a:ahLst/>
                <a:rect l="textAreaLeft" t="textAreaTop" r="textAreaRight" b="textAreaBottom"/>
                <a:pathLst>
                  <a:path w="1038" h="576">
                    <a:moveTo>
                      <a:pt x="0" y="125"/>
                    </a:moveTo>
                    <a:lnTo>
                      <a:pt x="323" y="576"/>
                    </a:lnTo>
                    <a:lnTo>
                      <a:pt x="1038" y="359"/>
                    </a:lnTo>
                    <a:lnTo>
                      <a:pt x="685" y="0"/>
                    </a:lnTo>
                    <a:lnTo>
                      <a:pt x="0" y="125"/>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68"/>
              <p:cNvSpPr/>
              <p:nvPr/>
            </p:nvSpPr>
            <p:spPr>
              <a:xfrm>
                <a:off x="4708440" y="5616000"/>
                <a:ext cx="984240" cy="390240"/>
              </a:xfrm>
              <a:custGeom>
                <a:avLst/>
                <a:gdLst>
                  <a:gd name="textAreaLeft" fmla="*/ 0 w 984240"/>
                  <a:gd name="textAreaRight" fmla="*/ 984600 w 984240"/>
                  <a:gd name="textAreaTop" fmla="*/ 0 h 390240"/>
                  <a:gd name="textAreaBottom" fmla="*/ 390600 h 390240"/>
                </a:gdLst>
                <a:ahLst/>
                <a:rect l="textAreaLeft" t="textAreaTop" r="textAreaRight" b="textAreaBottom"/>
                <a:pathLst>
                  <a:path w="1239" h="492">
                    <a:moveTo>
                      <a:pt x="0" y="54"/>
                    </a:moveTo>
                    <a:lnTo>
                      <a:pt x="862" y="0"/>
                    </a:lnTo>
                    <a:lnTo>
                      <a:pt x="1239" y="348"/>
                    </a:lnTo>
                    <a:lnTo>
                      <a:pt x="245" y="492"/>
                    </a:lnTo>
                    <a:lnTo>
                      <a:pt x="0" y="54"/>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Group 69"/>
            <p:cNvGrpSpPr/>
            <p:nvPr/>
          </p:nvGrpSpPr>
          <p:grpSpPr>
            <a:xfrm>
              <a:off x="4927680" y="3733920"/>
              <a:ext cx="1923840" cy="1950480"/>
              <a:chOff x="4927680" y="3733920"/>
              <a:chExt cx="1923840" cy="1950480"/>
            </a:xfrm>
          </p:grpSpPr>
          <p:grpSp>
            <p:nvGrpSpPr>
              <p:cNvPr id="592" name="Group 70"/>
              <p:cNvGrpSpPr/>
              <p:nvPr/>
            </p:nvGrpSpPr>
            <p:grpSpPr>
              <a:xfrm>
                <a:off x="5176800" y="3733920"/>
                <a:ext cx="1674720" cy="1896480"/>
                <a:chOff x="5176800" y="3733920"/>
                <a:chExt cx="1674720" cy="1896480"/>
              </a:xfrm>
            </p:grpSpPr>
            <p:sp>
              <p:nvSpPr>
                <p:cNvPr id="593" name="Freeform 71"/>
                <p:cNvSpPr/>
                <p:nvPr/>
              </p:nvSpPr>
              <p:spPr>
                <a:xfrm>
                  <a:off x="5176800" y="4443120"/>
                  <a:ext cx="1674720" cy="1187280"/>
                </a:xfrm>
                <a:custGeom>
                  <a:avLst/>
                  <a:gdLst>
                    <a:gd name="textAreaLeft" fmla="*/ 0 w 1674720"/>
                    <a:gd name="textAreaRight" fmla="*/ 1675080 w 1674720"/>
                    <a:gd name="textAreaTop" fmla="*/ 0 h 1187280"/>
                    <a:gd name="textAreaBottom" fmla="*/ 1187640 h 1187280"/>
                  </a:gdLst>
                  <a:ahLst/>
                  <a:rect l="textAreaLeft" t="textAreaTop" r="textAreaRight" b="textAreaBottom"/>
                  <a:pathLst>
                    <a:path w="2110" h="1496">
                      <a:moveTo>
                        <a:pt x="1254" y="13"/>
                      </a:moveTo>
                      <a:lnTo>
                        <a:pt x="1362" y="0"/>
                      </a:lnTo>
                      <a:lnTo>
                        <a:pt x="1470" y="13"/>
                      </a:lnTo>
                      <a:lnTo>
                        <a:pt x="1523" y="37"/>
                      </a:lnTo>
                      <a:lnTo>
                        <a:pt x="1649" y="133"/>
                      </a:lnTo>
                      <a:lnTo>
                        <a:pt x="1727" y="211"/>
                      </a:lnTo>
                      <a:lnTo>
                        <a:pt x="1811" y="324"/>
                      </a:lnTo>
                      <a:lnTo>
                        <a:pt x="1883" y="438"/>
                      </a:lnTo>
                      <a:lnTo>
                        <a:pt x="1937" y="528"/>
                      </a:lnTo>
                      <a:lnTo>
                        <a:pt x="1961" y="575"/>
                      </a:lnTo>
                      <a:lnTo>
                        <a:pt x="1997" y="719"/>
                      </a:lnTo>
                      <a:lnTo>
                        <a:pt x="2044" y="940"/>
                      </a:lnTo>
                      <a:lnTo>
                        <a:pt x="2074" y="1095"/>
                      </a:lnTo>
                      <a:lnTo>
                        <a:pt x="2092" y="1299"/>
                      </a:lnTo>
                      <a:lnTo>
                        <a:pt x="2110" y="1466"/>
                      </a:lnTo>
                      <a:lnTo>
                        <a:pt x="1661" y="1472"/>
                      </a:lnTo>
                      <a:lnTo>
                        <a:pt x="1386" y="1490"/>
                      </a:lnTo>
                      <a:lnTo>
                        <a:pt x="1170" y="1496"/>
                      </a:lnTo>
                      <a:lnTo>
                        <a:pt x="563" y="1466"/>
                      </a:lnTo>
                      <a:lnTo>
                        <a:pt x="324" y="1454"/>
                      </a:lnTo>
                      <a:lnTo>
                        <a:pt x="126" y="1442"/>
                      </a:lnTo>
                      <a:lnTo>
                        <a:pt x="132" y="1376"/>
                      </a:lnTo>
                      <a:lnTo>
                        <a:pt x="108" y="1305"/>
                      </a:lnTo>
                      <a:lnTo>
                        <a:pt x="48" y="1257"/>
                      </a:lnTo>
                      <a:lnTo>
                        <a:pt x="0" y="1227"/>
                      </a:lnTo>
                      <a:lnTo>
                        <a:pt x="252" y="1137"/>
                      </a:lnTo>
                      <a:lnTo>
                        <a:pt x="461" y="1053"/>
                      </a:lnTo>
                      <a:lnTo>
                        <a:pt x="551" y="1012"/>
                      </a:lnTo>
                      <a:lnTo>
                        <a:pt x="629" y="976"/>
                      </a:lnTo>
                      <a:lnTo>
                        <a:pt x="683" y="898"/>
                      </a:lnTo>
                      <a:lnTo>
                        <a:pt x="695" y="868"/>
                      </a:lnTo>
                      <a:lnTo>
                        <a:pt x="701" y="802"/>
                      </a:lnTo>
                      <a:lnTo>
                        <a:pt x="707" y="761"/>
                      </a:lnTo>
                      <a:lnTo>
                        <a:pt x="731" y="683"/>
                      </a:lnTo>
                      <a:lnTo>
                        <a:pt x="743" y="647"/>
                      </a:lnTo>
                      <a:lnTo>
                        <a:pt x="749" y="587"/>
                      </a:lnTo>
                      <a:lnTo>
                        <a:pt x="761" y="498"/>
                      </a:lnTo>
                      <a:lnTo>
                        <a:pt x="791" y="444"/>
                      </a:lnTo>
                      <a:lnTo>
                        <a:pt x="791" y="384"/>
                      </a:lnTo>
                      <a:lnTo>
                        <a:pt x="941" y="211"/>
                      </a:lnTo>
                      <a:lnTo>
                        <a:pt x="971" y="241"/>
                      </a:lnTo>
                      <a:lnTo>
                        <a:pt x="1254" y="1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72"/>
                <p:cNvSpPr/>
                <p:nvPr/>
              </p:nvSpPr>
              <p:spPr>
                <a:xfrm>
                  <a:off x="6284880" y="4725720"/>
                  <a:ext cx="328680" cy="899640"/>
                </a:xfrm>
                <a:custGeom>
                  <a:avLst/>
                  <a:gdLst>
                    <a:gd name="textAreaLeft" fmla="*/ 0 w 328680"/>
                    <a:gd name="textAreaRight" fmla="*/ 329040 w 328680"/>
                    <a:gd name="textAreaTop" fmla="*/ 0 h 899640"/>
                    <a:gd name="textAreaBottom" fmla="*/ 900000 h 899640"/>
                  </a:gdLst>
                  <a:ahLst/>
                  <a:rect l="textAreaLeft" t="textAreaTop" r="textAreaRight" b="textAreaBottom"/>
                  <a:pathLst>
                    <a:path w="413" h="1136">
                      <a:moveTo>
                        <a:pt x="323" y="0"/>
                      </a:moveTo>
                      <a:lnTo>
                        <a:pt x="365" y="42"/>
                      </a:lnTo>
                      <a:lnTo>
                        <a:pt x="377" y="138"/>
                      </a:lnTo>
                      <a:lnTo>
                        <a:pt x="377" y="239"/>
                      </a:lnTo>
                      <a:lnTo>
                        <a:pt x="377" y="305"/>
                      </a:lnTo>
                      <a:lnTo>
                        <a:pt x="413" y="341"/>
                      </a:lnTo>
                      <a:lnTo>
                        <a:pt x="383" y="359"/>
                      </a:lnTo>
                      <a:lnTo>
                        <a:pt x="377" y="425"/>
                      </a:lnTo>
                      <a:lnTo>
                        <a:pt x="359" y="460"/>
                      </a:lnTo>
                      <a:lnTo>
                        <a:pt x="347" y="514"/>
                      </a:lnTo>
                      <a:lnTo>
                        <a:pt x="329" y="538"/>
                      </a:lnTo>
                      <a:lnTo>
                        <a:pt x="329" y="598"/>
                      </a:lnTo>
                      <a:lnTo>
                        <a:pt x="305" y="658"/>
                      </a:lnTo>
                      <a:lnTo>
                        <a:pt x="299" y="759"/>
                      </a:lnTo>
                      <a:lnTo>
                        <a:pt x="281" y="861"/>
                      </a:lnTo>
                      <a:lnTo>
                        <a:pt x="269" y="885"/>
                      </a:lnTo>
                      <a:lnTo>
                        <a:pt x="269" y="921"/>
                      </a:lnTo>
                      <a:lnTo>
                        <a:pt x="239" y="927"/>
                      </a:lnTo>
                      <a:lnTo>
                        <a:pt x="239" y="951"/>
                      </a:lnTo>
                      <a:lnTo>
                        <a:pt x="227" y="986"/>
                      </a:lnTo>
                      <a:lnTo>
                        <a:pt x="191" y="1028"/>
                      </a:lnTo>
                      <a:lnTo>
                        <a:pt x="155" y="1076"/>
                      </a:lnTo>
                      <a:lnTo>
                        <a:pt x="131" y="1136"/>
                      </a:lnTo>
                      <a:lnTo>
                        <a:pt x="30" y="1136"/>
                      </a:lnTo>
                      <a:lnTo>
                        <a:pt x="191" y="992"/>
                      </a:lnTo>
                      <a:lnTo>
                        <a:pt x="221" y="933"/>
                      </a:lnTo>
                      <a:lnTo>
                        <a:pt x="209" y="873"/>
                      </a:lnTo>
                      <a:lnTo>
                        <a:pt x="245" y="843"/>
                      </a:lnTo>
                      <a:lnTo>
                        <a:pt x="245" y="658"/>
                      </a:lnTo>
                      <a:lnTo>
                        <a:pt x="137" y="640"/>
                      </a:lnTo>
                      <a:lnTo>
                        <a:pt x="72" y="622"/>
                      </a:lnTo>
                      <a:lnTo>
                        <a:pt x="0" y="598"/>
                      </a:lnTo>
                      <a:lnTo>
                        <a:pt x="227" y="592"/>
                      </a:lnTo>
                      <a:lnTo>
                        <a:pt x="263" y="574"/>
                      </a:lnTo>
                      <a:lnTo>
                        <a:pt x="257" y="538"/>
                      </a:lnTo>
                      <a:lnTo>
                        <a:pt x="191" y="526"/>
                      </a:lnTo>
                      <a:lnTo>
                        <a:pt x="119" y="520"/>
                      </a:lnTo>
                      <a:lnTo>
                        <a:pt x="215" y="496"/>
                      </a:lnTo>
                      <a:lnTo>
                        <a:pt x="239" y="478"/>
                      </a:lnTo>
                      <a:lnTo>
                        <a:pt x="155" y="395"/>
                      </a:lnTo>
                      <a:lnTo>
                        <a:pt x="78" y="353"/>
                      </a:lnTo>
                      <a:lnTo>
                        <a:pt x="30" y="299"/>
                      </a:lnTo>
                      <a:lnTo>
                        <a:pt x="12" y="287"/>
                      </a:lnTo>
                      <a:lnTo>
                        <a:pt x="66" y="281"/>
                      </a:lnTo>
                      <a:lnTo>
                        <a:pt x="131" y="311"/>
                      </a:lnTo>
                      <a:lnTo>
                        <a:pt x="215" y="359"/>
                      </a:lnTo>
                      <a:lnTo>
                        <a:pt x="287" y="389"/>
                      </a:lnTo>
                      <a:lnTo>
                        <a:pt x="329" y="377"/>
                      </a:lnTo>
                      <a:lnTo>
                        <a:pt x="353" y="329"/>
                      </a:lnTo>
                      <a:lnTo>
                        <a:pt x="353" y="227"/>
                      </a:lnTo>
                      <a:lnTo>
                        <a:pt x="32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73"/>
                <p:cNvSpPr/>
                <p:nvPr/>
              </p:nvSpPr>
              <p:spPr>
                <a:xfrm>
                  <a:off x="5365800" y="4962240"/>
                  <a:ext cx="653760" cy="622080"/>
                </a:xfrm>
                <a:custGeom>
                  <a:avLst/>
                  <a:gdLst>
                    <a:gd name="textAreaLeft" fmla="*/ 0 w 653760"/>
                    <a:gd name="textAreaRight" fmla="*/ 654120 w 653760"/>
                    <a:gd name="textAreaTop" fmla="*/ 0 h 622080"/>
                    <a:gd name="textAreaBottom" fmla="*/ 622440 h 622080"/>
                  </a:gdLst>
                  <a:ahLst/>
                  <a:rect l="textAreaLeft" t="textAreaTop" r="textAreaRight" b="textAreaBottom"/>
                  <a:pathLst>
                    <a:path w="822" h="783">
                      <a:moveTo>
                        <a:pt x="0" y="783"/>
                      </a:moveTo>
                      <a:lnTo>
                        <a:pt x="515" y="604"/>
                      </a:lnTo>
                      <a:lnTo>
                        <a:pt x="557" y="568"/>
                      </a:lnTo>
                      <a:lnTo>
                        <a:pt x="599" y="508"/>
                      </a:lnTo>
                      <a:lnTo>
                        <a:pt x="605" y="448"/>
                      </a:lnTo>
                      <a:lnTo>
                        <a:pt x="611" y="275"/>
                      </a:lnTo>
                      <a:lnTo>
                        <a:pt x="629" y="395"/>
                      </a:lnTo>
                      <a:lnTo>
                        <a:pt x="665" y="424"/>
                      </a:lnTo>
                      <a:lnTo>
                        <a:pt x="689" y="329"/>
                      </a:lnTo>
                      <a:lnTo>
                        <a:pt x="713" y="239"/>
                      </a:lnTo>
                      <a:lnTo>
                        <a:pt x="798" y="0"/>
                      </a:lnTo>
                      <a:lnTo>
                        <a:pt x="744" y="203"/>
                      </a:lnTo>
                      <a:lnTo>
                        <a:pt x="713" y="329"/>
                      </a:lnTo>
                      <a:lnTo>
                        <a:pt x="695" y="424"/>
                      </a:lnTo>
                      <a:lnTo>
                        <a:pt x="665" y="484"/>
                      </a:lnTo>
                      <a:lnTo>
                        <a:pt x="629" y="532"/>
                      </a:lnTo>
                      <a:lnTo>
                        <a:pt x="671" y="568"/>
                      </a:lnTo>
                      <a:lnTo>
                        <a:pt x="725" y="562"/>
                      </a:lnTo>
                      <a:lnTo>
                        <a:pt x="822" y="478"/>
                      </a:lnTo>
                      <a:lnTo>
                        <a:pt x="695" y="628"/>
                      </a:lnTo>
                      <a:lnTo>
                        <a:pt x="563" y="657"/>
                      </a:lnTo>
                      <a:lnTo>
                        <a:pt x="413" y="687"/>
                      </a:lnTo>
                      <a:lnTo>
                        <a:pt x="269" y="717"/>
                      </a:lnTo>
                      <a:lnTo>
                        <a:pt x="108" y="753"/>
                      </a:lnTo>
                      <a:lnTo>
                        <a:pt x="0" y="78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74"/>
                <p:cNvSpPr/>
                <p:nvPr/>
              </p:nvSpPr>
              <p:spPr>
                <a:xfrm>
                  <a:off x="5946840" y="4535280"/>
                  <a:ext cx="509400" cy="1034640"/>
                </a:xfrm>
                <a:custGeom>
                  <a:avLst/>
                  <a:gdLst>
                    <a:gd name="textAreaLeft" fmla="*/ 0 w 509400"/>
                    <a:gd name="textAreaRight" fmla="*/ 509400 w 509400"/>
                    <a:gd name="textAreaTop" fmla="*/ 0 h 1034640"/>
                    <a:gd name="textAreaBottom" fmla="*/ 1035000 h 1034640"/>
                  </a:gdLst>
                  <a:ahLst/>
                  <a:rect l="textAreaLeft" t="textAreaTop" r="textAreaRight" b="textAreaBottom"/>
                  <a:pathLst>
                    <a:path w="642" h="1303">
                      <a:moveTo>
                        <a:pt x="642" y="12"/>
                      </a:moveTo>
                      <a:lnTo>
                        <a:pt x="511" y="0"/>
                      </a:lnTo>
                      <a:lnTo>
                        <a:pt x="439" y="12"/>
                      </a:lnTo>
                      <a:lnTo>
                        <a:pt x="319" y="132"/>
                      </a:lnTo>
                      <a:lnTo>
                        <a:pt x="205" y="275"/>
                      </a:lnTo>
                      <a:lnTo>
                        <a:pt x="139" y="556"/>
                      </a:lnTo>
                      <a:lnTo>
                        <a:pt x="115" y="634"/>
                      </a:lnTo>
                      <a:lnTo>
                        <a:pt x="91" y="861"/>
                      </a:lnTo>
                      <a:lnTo>
                        <a:pt x="79" y="1022"/>
                      </a:lnTo>
                      <a:lnTo>
                        <a:pt x="0" y="1124"/>
                      </a:lnTo>
                      <a:lnTo>
                        <a:pt x="175" y="1303"/>
                      </a:lnTo>
                      <a:lnTo>
                        <a:pt x="91" y="1172"/>
                      </a:lnTo>
                      <a:lnTo>
                        <a:pt x="109" y="1160"/>
                      </a:lnTo>
                      <a:lnTo>
                        <a:pt x="229" y="1225"/>
                      </a:lnTo>
                      <a:lnTo>
                        <a:pt x="373" y="1261"/>
                      </a:lnTo>
                      <a:lnTo>
                        <a:pt x="181" y="1184"/>
                      </a:lnTo>
                      <a:lnTo>
                        <a:pt x="109" y="1118"/>
                      </a:lnTo>
                      <a:lnTo>
                        <a:pt x="109" y="1052"/>
                      </a:lnTo>
                      <a:lnTo>
                        <a:pt x="229" y="1046"/>
                      </a:lnTo>
                      <a:lnTo>
                        <a:pt x="103" y="1016"/>
                      </a:lnTo>
                      <a:lnTo>
                        <a:pt x="115" y="861"/>
                      </a:lnTo>
                      <a:lnTo>
                        <a:pt x="145" y="604"/>
                      </a:lnTo>
                      <a:lnTo>
                        <a:pt x="241" y="281"/>
                      </a:lnTo>
                      <a:lnTo>
                        <a:pt x="307" y="179"/>
                      </a:lnTo>
                      <a:lnTo>
                        <a:pt x="439" y="48"/>
                      </a:lnTo>
                      <a:lnTo>
                        <a:pt x="511" y="30"/>
                      </a:lnTo>
                      <a:lnTo>
                        <a:pt x="642" y="1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Group 75"/>
                <p:cNvGrpSpPr/>
                <p:nvPr/>
              </p:nvGrpSpPr>
              <p:grpSpPr>
                <a:xfrm>
                  <a:off x="5521320" y="3733920"/>
                  <a:ext cx="833400" cy="1304280"/>
                  <a:chOff x="5521320" y="3733920"/>
                  <a:chExt cx="833400" cy="1304280"/>
                </a:xfrm>
              </p:grpSpPr>
              <p:sp>
                <p:nvSpPr>
                  <p:cNvPr id="598" name="Freeform 76"/>
                  <p:cNvSpPr/>
                  <p:nvPr/>
                </p:nvSpPr>
                <p:spPr>
                  <a:xfrm>
                    <a:off x="5877000" y="4437000"/>
                    <a:ext cx="299880" cy="308880"/>
                  </a:xfrm>
                  <a:custGeom>
                    <a:avLst/>
                    <a:gdLst>
                      <a:gd name="textAreaLeft" fmla="*/ 0 w 299880"/>
                      <a:gd name="textAreaRight" fmla="*/ 300240 w 299880"/>
                      <a:gd name="textAreaTop" fmla="*/ 0 h 308880"/>
                      <a:gd name="textAreaBottom" fmla="*/ 309240 h 308880"/>
                    </a:gdLst>
                    <a:ahLst/>
                    <a:rect l="textAreaLeft" t="textAreaTop" r="textAreaRight" b="textAreaBottom"/>
                    <a:pathLst>
                      <a:path w="379" h="388">
                        <a:moveTo>
                          <a:pt x="331" y="0"/>
                        </a:moveTo>
                        <a:lnTo>
                          <a:pt x="72" y="229"/>
                        </a:lnTo>
                        <a:lnTo>
                          <a:pt x="54" y="199"/>
                        </a:lnTo>
                        <a:lnTo>
                          <a:pt x="14" y="294"/>
                        </a:lnTo>
                        <a:lnTo>
                          <a:pt x="0" y="348"/>
                        </a:lnTo>
                        <a:lnTo>
                          <a:pt x="30" y="318"/>
                        </a:lnTo>
                        <a:lnTo>
                          <a:pt x="58" y="255"/>
                        </a:lnTo>
                        <a:lnTo>
                          <a:pt x="113" y="388"/>
                        </a:lnTo>
                        <a:lnTo>
                          <a:pt x="199" y="286"/>
                        </a:lnTo>
                        <a:lnTo>
                          <a:pt x="295" y="127"/>
                        </a:lnTo>
                        <a:lnTo>
                          <a:pt x="379" y="25"/>
                        </a:lnTo>
                        <a:lnTo>
                          <a:pt x="3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77"/>
                  <p:cNvSpPr/>
                  <p:nvPr/>
                </p:nvSpPr>
                <p:spPr>
                  <a:xfrm>
                    <a:off x="5873760" y="4640040"/>
                    <a:ext cx="85680" cy="385560"/>
                  </a:xfrm>
                  <a:custGeom>
                    <a:avLst/>
                    <a:gdLst>
                      <a:gd name="textAreaLeft" fmla="*/ 0 w 85680"/>
                      <a:gd name="textAreaRight" fmla="*/ 86040 w 85680"/>
                      <a:gd name="textAreaTop" fmla="*/ 0 h 385560"/>
                      <a:gd name="textAreaBottom" fmla="*/ 385920 h 385560"/>
                    </a:gdLst>
                    <a:ahLst/>
                    <a:rect l="textAreaLeft" t="textAreaTop" r="textAreaRight" b="textAreaBottom"/>
                    <a:pathLst>
                      <a:path w="107" h="486">
                        <a:moveTo>
                          <a:pt x="60" y="0"/>
                        </a:moveTo>
                        <a:lnTo>
                          <a:pt x="42" y="22"/>
                        </a:lnTo>
                        <a:lnTo>
                          <a:pt x="30" y="39"/>
                        </a:lnTo>
                        <a:lnTo>
                          <a:pt x="20" y="63"/>
                        </a:lnTo>
                        <a:lnTo>
                          <a:pt x="10" y="101"/>
                        </a:lnTo>
                        <a:lnTo>
                          <a:pt x="6" y="141"/>
                        </a:lnTo>
                        <a:lnTo>
                          <a:pt x="10" y="179"/>
                        </a:lnTo>
                        <a:lnTo>
                          <a:pt x="16" y="219"/>
                        </a:lnTo>
                        <a:lnTo>
                          <a:pt x="22" y="241"/>
                        </a:lnTo>
                        <a:lnTo>
                          <a:pt x="2" y="330"/>
                        </a:lnTo>
                        <a:lnTo>
                          <a:pt x="0" y="370"/>
                        </a:lnTo>
                        <a:lnTo>
                          <a:pt x="0" y="420"/>
                        </a:lnTo>
                        <a:lnTo>
                          <a:pt x="6" y="486"/>
                        </a:lnTo>
                        <a:lnTo>
                          <a:pt x="40" y="336"/>
                        </a:lnTo>
                        <a:lnTo>
                          <a:pt x="58" y="237"/>
                        </a:lnTo>
                        <a:lnTo>
                          <a:pt x="107" y="111"/>
                        </a:lnTo>
                        <a:lnTo>
                          <a:pt x="6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78"/>
                  <p:cNvSpPr/>
                  <p:nvPr/>
                </p:nvSpPr>
                <p:spPr>
                  <a:xfrm>
                    <a:off x="5877000" y="4641480"/>
                    <a:ext cx="80640" cy="203040"/>
                  </a:xfrm>
                  <a:custGeom>
                    <a:avLst/>
                    <a:gdLst>
                      <a:gd name="textAreaLeft" fmla="*/ 0 w 80640"/>
                      <a:gd name="textAreaRight" fmla="*/ 81000 w 80640"/>
                      <a:gd name="textAreaTop" fmla="*/ 0 h 203040"/>
                      <a:gd name="textAreaBottom" fmla="*/ 203400 h 203040"/>
                    </a:gdLst>
                    <a:ahLst/>
                    <a:rect l="textAreaLeft" t="textAreaTop" r="textAreaRight" b="textAreaBottom"/>
                    <a:pathLst>
                      <a:path w="101" h="257">
                        <a:moveTo>
                          <a:pt x="54" y="0"/>
                        </a:moveTo>
                        <a:lnTo>
                          <a:pt x="36" y="22"/>
                        </a:lnTo>
                        <a:lnTo>
                          <a:pt x="24" y="39"/>
                        </a:lnTo>
                        <a:lnTo>
                          <a:pt x="14" y="63"/>
                        </a:lnTo>
                        <a:lnTo>
                          <a:pt x="4" y="101"/>
                        </a:lnTo>
                        <a:lnTo>
                          <a:pt x="0" y="141"/>
                        </a:lnTo>
                        <a:lnTo>
                          <a:pt x="4" y="179"/>
                        </a:lnTo>
                        <a:lnTo>
                          <a:pt x="10" y="219"/>
                        </a:lnTo>
                        <a:lnTo>
                          <a:pt x="16" y="241"/>
                        </a:lnTo>
                        <a:lnTo>
                          <a:pt x="44" y="257"/>
                        </a:lnTo>
                        <a:lnTo>
                          <a:pt x="52" y="231"/>
                        </a:lnTo>
                        <a:lnTo>
                          <a:pt x="101" y="111"/>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Group 79"/>
                  <p:cNvGrpSpPr/>
                  <p:nvPr/>
                </p:nvGrpSpPr>
                <p:grpSpPr>
                  <a:xfrm>
                    <a:off x="5521320" y="3733920"/>
                    <a:ext cx="833400" cy="906120"/>
                    <a:chOff x="5521320" y="3733920"/>
                    <a:chExt cx="833400" cy="906120"/>
                  </a:xfrm>
                </p:grpSpPr>
                <p:grpSp>
                  <p:nvGrpSpPr>
                    <p:cNvPr id="602" name="Group 80"/>
                    <p:cNvGrpSpPr/>
                    <p:nvPr/>
                  </p:nvGrpSpPr>
                  <p:grpSpPr>
                    <a:xfrm>
                      <a:off x="5610240" y="3833640"/>
                      <a:ext cx="615960" cy="804600"/>
                      <a:chOff x="5610240" y="3833640"/>
                      <a:chExt cx="615960" cy="804600"/>
                    </a:xfrm>
                  </p:grpSpPr>
                  <p:sp>
                    <p:nvSpPr>
                      <p:cNvPr id="603" name="Freeform 81"/>
                      <p:cNvSpPr/>
                      <p:nvPr/>
                    </p:nvSpPr>
                    <p:spPr>
                      <a:xfrm>
                        <a:off x="5610240" y="3833640"/>
                        <a:ext cx="615960" cy="804600"/>
                      </a:xfrm>
                      <a:custGeom>
                        <a:avLst/>
                        <a:gdLst>
                          <a:gd name="textAreaLeft" fmla="*/ 0 w 615960"/>
                          <a:gd name="textAreaRight" fmla="*/ 616320 w 615960"/>
                          <a:gd name="textAreaTop" fmla="*/ 0 h 804600"/>
                          <a:gd name="textAreaBottom" fmla="*/ 804960 h 804600"/>
                        </a:gdLst>
                        <a:ahLst/>
                        <a:rect l="textAreaLeft" t="textAreaTop" r="textAreaRight" b="textAreaBottom"/>
                        <a:pathLst>
                          <a:path w="777" h="1014">
                            <a:moveTo>
                              <a:pt x="242" y="29"/>
                            </a:moveTo>
                            <a:lnTo>
                              <a:pt x="186" y="61"/>
                            </a:lnTo>
                            <a:lnTo>
                              <a:pt x="134" y="95"/>
                            </a:lnTo>
                            <a:lnTo>
                              <a:pt x="96" y="127"/>
                            </a:lnTo>
                            <a:lnTo>
                              <a:pt x="60" y="161"/>
                            </a:lnTo>
                            <a:lnTo>
                              <a:pt x="32" y="197"/>
                            </a:lnTo>
                            <a:lnTo>
                              <a:pt x="14" y="235"/>
                            </a:lnTo>
                            <a:lnTo>
                              <a:pt x="8" y="274"/>
                            </a:lnTo>
                            <a:lnTo>
                              <a:pt x="2" y="318"/>
                            </a:lnTo>
                            <a:lnTo>
                              <a:pt x="0" y="372"/>
                            </a:lnTo>
                            <a:lnTo>
                              <a:pt x="6" y="420"/>
                            </a:lnTo>
                            <a:lnTo>
                              <a:pt x="0" y="486"/>
                            </a:lnTo>
                            <a:lnTo>
                              <a:pt x="26" y="504"/>
                            </a:lnTo>
                            <a:lnTo>
                              <a:pt x="48" y="522"/>
                            </a:lnTo>
                            <a:lnTo>
                              <a:pt x="50" y="537"/>
                            </a:lnTo>
                            <a:lnTo>
                              <a:pt x="50" y="563"/>
                            </a:lnTo>
                            <a:lnTo>
                              <a:pt x="42" y="593"/>
                            </a:lnTo>
                            <a:lnTo>
                              <a:pt x="18" y="675"/>
                            </a:lnTo>
                            <a:lnTo>
                              <a:pt x="18" y="711"/>
                            </a:lnTo>
                            <a:lnTo>
                              <a:pt x="38" y="719"/>
                            </a:lnTo>
                            <a:lnTo>
                              <a:pt x="68" y="719"/>
                            </a:lnTo>
                            <a:lnTo>
                              <a:pt x="90" y="719"/>
                            </a:lnTo>
                            <a:lnTo>
                              <a:pt x="126" y="816"/>
                            </a:lnTo>
                            <a:lnTo>
                              <a:pt x="128" y="852"/>
                            </a:lnTo>
                            <a:lnTo>
                              <a:pt x="140" y="868"/>
                            </a:lnTo>
                            <a:lnTo>
                              <a:pt x="156" y="874"/>
                            </a:lnTo>
                            <a:lnTo>
                              <a:pt x="158" y="894"/>
                            </a:lnTo>
                            <a:lnTo>
                              <a:pt x="156" y="922"/>
                            </a:lnTo>
                            <a:lnTo>
                              <a:pt x="170" y="966"/>
                            </a:lnTo>
                            <a:lnTo>
                              <a:pt x="188" y="994"/>
                            </a:lnTo>
                            <a:lnTo>
                              <a:pt x="206" y="1006"/>
                            </a:lnTo>
                            <a:lnTo>
                              <a:pt x="248" y="1014"/>
                            </a:lnTo>
                            <a:lnTo>
                              <a:pt x="282" y="1012"/>
                            </a:lnTo>
                            <a:lnTo>
                              <a:pt x="330" y="990"/>
                            </a:lnTo>
                            <a:lnTo>
                              <a:pt x="386" y="958"/>
                            </a:lnTo>
                            <a:lnTo>
                              <a:pt x="410" y="988"/>
                            </a:lnTo>
                            <a:lnTo>
                              <a:pt x="747" y="717"/>
                            </a:lnTo>
                            <a:lnTo>
                              <a:pt x="727" y="671"/>
                            </a:lnTo>
                            <a:lnTo>
                              <a:pt x="747" y="609"/>
                            </a:lnTo>
                            <a:lnTo>
                              <a:pt x="769" y="527"/>
                            </a:lnTo>
                            <a:lnTo>
                              <a:pt x="777" y="424"/>
                            </a:lnTo>
                            <a:lnTo>
                              <a:pt x="775" y="346"/>
                            </a:lnTo>
                            <a:lnTo>
                              <a:pt x="753" y="217"/>
                            </a:lnTo>
                            <a:lnTo>
                              <a:pt x="721" y="101"/>
                            </a:lnTo>
                            <a:lnTo>
                              <a:pt x="685" y="17"/>
                            </a:lnTo>
                            <a:lnTo>
                              <a:pt x="549" y="0"/>
                            </a:lnTo>
                            <a:lnTo>
                              <a:pt x="342" y="2"/>
                            </a:lnTo>
                            <a:lnTo>
                              <a:pt x="242" y="29"/>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Group 82"/>
                      <p:cNvGrpSpPr/>
                      <p:nvPr/>
                    </p:nvGrpSpPr>
                    <p:grpSpPr>
                      <a:xfrm>
                        <a:off x="5856120" y="4239720"/>
                        <a:ext cx="104760" cy="188280"/>
                        <a:chOff x="5856120" y="4239720"/>
                        <a:chExt cx="104760" cy="188280"/>
                      </a:xfrm>
                    </p:grpSpPr>
                    <p:sp>
                      <p:nvSpPr>
                        <p:cNvPr id="605" name="Freeform 83"/>
                        <p:cNvSpPr/>
                        <p:nvPr/>
                      </p:nvSpPr>
                      <p:spPr>
                        <a:xfrm>
                          <a:off x="5856120" y="4239720"/>
                          <a:ext cx="79560" cy="118800"/>
                        </a:xfrm>
                        <a:custGeom>
                          <a:avLst/>
                          <a:gdLst>
                            <a:gd name="textAreaLeft" fmla="*/ 0 w 79560"/>
                            <a:gd name="textAreaRight" fmla="*/ 79920 w 79560"/>
                            <a:gd name="textAreaTop" fmla="*/ 0 h 118800"/>
                            <a:gd name="textAreaBottom" fmla="*/ 119160 h 118800"/>
                          </a:gdLst>
                          <a:ahLst/>
                          <a:rect l="textAreaLeft" t="textAreaTop" r="textAreaRight" b="textAreaBottom"/>
                          <a:pathLst>
                            <a:path w="100" h="151">
                              <a:moveTo>
                                <a:pt x="0" y="63"/>
                              </a:moveTo>
                              <a:lnTo>
                                <a:pt x="10" y="31"/>
                              </a:lnTo>
                              <a:lnTo>
                                <a:pt x="18" y="10"/>
                              </a:lnTo>
                              <a:lnTo>
                                <a:pt x="26" y="4"/>
                              </a:lnTo>
                              <a:lnTo>
                                <a:pt x="40" y="0"/>
                              </a:lnTo>
                              <a:lnTo>
                                <a:pt x="56" y="0"/>
                              </a:lnTo>
                              <a:lnTo>
                                <a:pt x="72" y="4"/>
                              </a:lnTo>
                              <a:lnTo>
                                <a:pt x="84" y="11"/>
                              </a:lnTo>
                              <a:lnTo>
                                <a:pt x="92" y="27"/>
                              </a:lnTo>
                              <a:lnTo>
                                <a:pt x="98" y="53"/>
                              </a:lnTo>
                              <a:lnTo>
                                <a:pt x="100" y="75"/>
                              </a:lnTo>
                              <a:lnTo>
                                <a:pt x="96" y="105"/>
                              </a:lnTo>
                              <a:lnTo>
                                <a:pt x="90" y="133"/>
                              </a:lnTo>
                              <a:lnTo>
                                <a:pt x="78" y="151"/>
                              </a:lnTo>
                              <a:lnTo>
                                <a:pt x="72" y="129"/>
                              </a:lnTo>
                              <a:lnTo>
                                <a:pt x="84" y="109"/>
                              </a:lnTo>
                              <a:lnTo>
                                <a:pt x="76" y="83"/>
                              </a:lnTo>
                              <a:lnTo>
                                <a:pt x="66" y="93"/>
                              </a:lnTo>
                              <a:lnTo>
                                <a:pt x="44" y="103"/>
                              </a:lnTo>
                              <a:lnTo>
                                <a:pt x="36" y="81"/>
                              </a:lnTo>
                              <a:lnTo>
                                <a:pt x="54" y="73"/>
                              </a:lnTo>
                              <a:lnTo>
                                <a:pt x="72" y="69"/>
                              </a:lnTo>
                              <a:lnTo>
                                <a:pt x="72" y="55"/>
                              </a:lnTo>
                              <a:lnTo>
                                <a:pt x="70" y="37"/>
                              </a:lnTo>
                              <a:lnTo>
                                <a:pt x="80" y="39"/>
                              </a:lnTo>
                              <a:lnTo>
                                <a:pt x="78" y="17"/>
                              </a:lnTo>
                              <a:lnTo>
                                <a:pt x="74" y="11"/>
                              </a:lnTo>
                              <a:lnTo>
                                <a:pt x="58" y="10"/>
                              </a:lnTo>
                              <a:lnTo>
                                <a:pt x="30" y="11"/>
                              </a:lnTo>
                              <a:lnTo>
                                <a:pt x="16" y="33"/>
                              </a:lnTo>
                              <a:lnTo>
                                <a:pt x="0" y="63"/>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84"/>
                        <p:cNvSpPr/>
                        <p:nvPr/>
                      </p:nvSpPr>
                      <p:spPr>
                        <a:xfrm>
                          <a:off x="5889600" y="4361400"/>
                          <a:ext cx="71280" cy="66600"/>
                        </a:xfrm>
                        <a:custGeom>
                          <a:avLst/>
                          <a:gdLst>
                            <a:gd name="textAreaLeft" fmla="*/ 0 w 71280"/>
                            <a:gd name="textAreaRight" fmla="*/ 71640 w 71280"/>
                            <a:gd name="textAreaTop" fmla="*/ 0 h 66600"/>
                            <a:gd name="textAreaBottom" fmla="*/ 66960 h 66600"/>
                          </a:gdLst>
                          <a:ahLst/>
                          <a:rect l="textAreaLeft" t="textAreaTop" r="textAreaRight" b="textAreaBottom"/>
                          <a:pathLst>
                            <a:path w="89" h="84">
                              <a:moveTo>
                                <a:pt x="66" y="0"/>
                              </a:moveTo>
                              <a:lnTo>
                                <a:pt x="54" y="28"/>
                              </a:lnTo>
                              <a:lnTo>
                                <a:pt x="48" y="42"/>
                              </a:lnTo>
                              <a:lnTo>
                                <a:pt x="36" y="52"/>
                              </a:lnTo>
                              <a:lnTo>
                                <a:pt x="20" y="54"/>
                              </a:lnTo>
                              <a:lnTo>
                                <a:pt x="0" y="54"/>
                              </a:lnTo>
                              <a:lnTo>
                                <a:pt x="44" y="60"/>
                              </a:lnTo>
                              <a:lnTo>
                                <a:pt x="70" y="72"/>
                              </a:lnTo>
                              <a:lnTo>
                                <a:pt x="89" y="84"/>
                              </a:lnTo>
                              <a:lnTo>
                                <a:pt x="72" y="56"/>
                              </a:lnTo>
                              <a:lnTo>
                                <a:pt x="68" y="28"/>
                              </a:lnTo>
                              <a:lnTo>
                                <a:pt x="66" y="0"/>
                              </a:lnTo>
                              <a:close/>
                            </a:path>
                          </a:pathLst>
                        </a:custGeom>
                        <a:solidFill>
                          <a:srgbClr val="df9f7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607" name="Freeform 85"/>
                      <p:cNvSpPr/>
                      <p:nvPr/>
                    </p:nvSpPr>
                    <p:spPr>
                      <a:xfrm>
                        <a:off x="5713200" y="4350600"/>
                        <a:ext cx="60480" cy="90360"/>
                      </a:xfrm>
                      <a:custGeom>
                        <a:avLst/>
                        <a:gdLst>
                          <a:gd name="textAreaLeft" fmla="*/ 0 w 60480"/>
                          <a:gd name="textAreaRight" fmla="*/ 60840 w 60480"/>
                          <a:gd name="textAreaTop" fmla="*/ 0 h 90360"/>
                          <a:gd name="textAreaBottom" fmla="*/ 90720 h 90360"/>
                        </a:gdLst>
                        <a:ahLst/>
                        <a:rect l="textAreaLeft" t="textAreaTop" r="textAreaRight" b="textAreaBottom"/>
                        <a:pathLst>
                          <a:path w="76" h="114">
                            <a:moveTo>
                              <a:pt x="12" y="0"/>
                            </a:moveTo>
                            <a:lnTo>
                              <a:pt x="22" y="10"/>
                            </a:lnTo>
                            <a:lnTo>
                              <a:pt x="24" y="22"/>
                            </a:lnTo>
                            <a:lnTo>
                              <a:pt x="20" y="32"/>
                            </a:lnTo>
                            <a:lnTo>
                              <a:pt x="12" y="42"/>
                            </a:lnTo>
                            <a:lnTo>
                              <a:pt x="0" y="52"/>
                            </a:lnTo>
                            <a:lnTo>
                              <a:pt x="10" y="60"/>
                            </a:lnTo>
                            <a:lnTo>
                              <a:pt x="28" y="64"/>
                            </a:lnTo>
                            <a:lnTo>
                              <a:pt x="44" y="74"/>
                            </a:lnTo>
                            <a:lnTo>
                              <a:pt x="76" y="114"/>
                            </a:lnTo>
                            <a:lnTo>
                              <a:pt x="36" y="50"/>
                            </a:lnTo>
                            <a:lnTo>
                              <a:pt x="30" y="36"/>
                            </a:lnTo>
                            <a:lnTo>
                              <a:pt x="30" y="20"/>
                            </a:lnTo>
                            <a:lnTo>
                              <a:pt x="34" y="12"/>
                            </a:lnTo>
                            <a:lnTo>
                              <a:pt x="12" y="0"/>
                            </a:lnTo>
                            <a:close/>
                          </a:path>
                        </a:pathLst>
                      </a:custGeom>
                      <a:solidFill>
                        <a:srgbClr val="df9f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608" name="Group 86"/>
                    <p:cNvGrpSpPr/>
                    <p:nvPr/>
                  </p:nvGrpSpPr>
                  <p:grpSpPr>
                    <a:xfrm>
                      <a:off x="5521320" y="3733920"/>
                      <a:ext cx="833400" cy="906120"/>
                      <a:chOff x="5521320" y="3733920"/>
                      <a:chExt cx="833400" cy="906120"/>
                    </a:xfrm>
                  </p:grpSpPr>
                  <p:sp>
                    <p:nvSpPr>
                      <p:cNvPr id="609" name="Freeform 87"/>
                      <p:cNvSpPr/>
                      <p:nvPr/>
                    </p:nvSpPr>
                    <p:spPr>
                      <a:xfrm>
                        <a:off x="5521320" y="3733920"/>
                        <a:ext cx="833400" cy="906120"/>
                      </a:xfrm>
                      <a:custGeom>
                        <a:avLst/>
                        <a:gdLst>
                          <a:gd name="textAreaLeft" fmla="*/ 0 w 833400"/>
                          <a:gd name="textAreaRight" fmla="*/ 833760 w 833400"/>
                          <a:gd name="textAreaTop" fmla="*/ 0 h 906120"/>
                          <a:gd name="textAreaBottom" fmla="*/ 906480 h 906120"/>
                        </a:gdLst>
                        <a:ahLst/>
                        <a:rect l="textAreaLeft" t="textAreaTop" r="textAreaRight" b="textAreaBottom"/>
                        <a:pathLst>
                          <a:path w="1050" h="1142">
                            <a:moveTo>
                              <a:pt x="503" y="0"/>
                            </a:moveTo>
                            <a:lnTo>
                              <a:pt x="455" y="2"/>
                            </a:lnTo>
                            <a:lnTo>
                              <a:pt x="419" y="8"/>
                            </a:lnTo>
                            <a:lnTo>
                              <a:pt x="379" y="18"/>
                            </a:lnTo>
                            <a:lnTo>
                              <a:pt x="333" y="34"/>
                            </a:lnTo>
                            <a:lnTo>
                              <a:pt x="295" y="50"/>
                            </a:lnTo>
                            <a:lnTo>
                              <a:pt x="251" y="88"/>
                            </a:lnTo>
                            <a:lnTo>
                              <a:pt x="211" y="126"/>
                            </a:lnTo>
                            <a:lnTo>
                              <a:pt x="173" y="167"/>
                            </a:lnTo>
                            <a:lnTo>
                              <a:pt x="89" y="221"/>
                            </a:lnTo>
                            <a:lnTo>
                              <a:pt x="59" y="241"/>
                            </a:lnTo>
                            <a:lnTo>
                              <a:pt x="37" y="263"/>
                            </a:lnTo>
                            <a:lnTo>
                              <a:pt x="24" y="283"/>
                            </a:lnTo>
                            <a:lnTo>
                              <a:pt x="8" y="307"/>
                            </a:lnTo>
                            <a:lnTo>
                              <a:pt x="2" y="331"/>
                            </a:lnTo>
                            <a:lnTo>
                              <a:pt x="0" y="357"/>
                            </a:lnTo>
                            <a:lnTo>
                              <a:pt x="0" y="383"/>
                            </a:lnTo>
                            <a:lnTo>
                              <a:pt x="6" y="412"/>
                            </a:lnTo>
                            <a:lnTo>
                              <a:pt x="22" y="446"/>
                            </a:lnTo>
                            <a:lnTo>
                              <a:pt x="35" y="464"/>
                            </a:lnTo>
                            <a:lnTo>
                              <a:pt x="53" y="478"/>
                            </a:lnTo>
                            <a:lnTo>
                              <a:pt x="79" y="486"/>
                            </a:lnTo>
                            <a:lnTo>
                              <a:pt x="107" y="492"/>
                            </a:lnTo>
                            <a:lnTo>
                              <a:pt x="147" y="500"/>
                            </a:lnTo>
                            <a:lnTo>
                              <a:pt x="123" y="468"/>
                            </a:lnTo>
                            <a:lnTo>
                              <a:pt x="115" y="438"/>
                            </a:lnTo>
                            <a:lnTo>
                              <a:pt x="117" y="402"/>
                            </a:lnTo>
                            <a:lnTo>
                              <a:pt x="125" y="367"/>
                            </a:lnTo>
                            <a:lnTo>
                              <a:pt x="137" y="345"/>
                            </a:lnTo>
                            <a:lnTo>
                              <a:pt x="153" y="321"/>
                            </a:lnTo>
                            <a:lnTo>
                              <a:pt x="173" y="301"/>
                            </a:lnTo>
                            <a:lnTo>
                              <a:pt x="197" y="283"/>
                            </a:lnTo>
                            <a:lnTo>
                              <a:pt x="227" y="267"/>
                            </a:lnTo>
                            <a:lnTo>
                              <a:pt x="323" y="237"/>
                            </a:lnTo>
                            <a:lnTo>
                              <a:pt x="305" y="257"/>
                            </a:lnTo>
                            <a:lnTo>
                              <a:pt x="291" y="269"/>
                            </a:lnTo>
                            <a:lnTo>
                              <a:pt x="271" y="277"/>
                            </a:lnTo>
                            <a:lnTo>
                              <a:pt x="241" y="287"/>
                            </a:lnTo>
                            <a:lnTo>
                              <a:pt x="221" y="293"/>
                            </a:lnTo>
                            <a:lnTo>
                              <a:pt x="199" y="307"/>
                            </a:lnTo>
                            <a:lnTo>
                              <a:pt x="189" y="325"/>
                            </a:lnTo>
                            <a:lnTo>
                              <a:pt x="181" y="343"/>
                            </a:lnTo>
                            <a:lnTo>
                              <a:pt x="177" y="363"/>
                            </a:lnTo>
                            <a:lnTo>
                              <a:pt x="177" y="385"/>
                            </a:lnTo>
                            <a:lnTo>
                              <a:pt x="185" y="408"/>
                            </a:lnTo>
                            <a:lnTo>
                              <a:pt x="191" y="444"/>
                            </a:lnTo>
                            <a:lnTo>
                              <a:pt x="207" y="476"/>
                            </a:lnTo>
                            <a:lnTo>
                              <a:pt x="231" y="528"/>
                            </a:lnTo>
                            <a:lnTo>
                              <a:pt x="273" y="630"/>
                            </a:lnTo>
                            <a:lnTo>
                              <a:pt x="303" y="685"/>
                            </a:lnTo>
                            <a:lnTo>
                              <a:pt x="337" y="699"/>
                            </a:lnTo>
                            <a:lnTo>
                              <a:pt x="345" y="749"/>
                            </a:lnTo>
                            <a:lnTo>
                              <a:pt x="351" y="875"/>
                            </a:lnTo>
                            <a:lnTo>
                              <a:pt x="357" y="910"/>
                            </a:lnTo>
                            <a:lnTo>
                              <a:pt x="361" y="940"/>
                            </a:lnTo>
                            <a:lnTo>
                              <a:pt x="361" y="960"/>
                            </a:lnTo>
                            <a:lnTo>
                              <a:pt x="343" y="982"/>
                            </a:lnTo>
                            <a:lnTo>
                              <a:pt x="321" y="996"/>
                            </a:lnTo>
                            <a:lnTo>
                              <a:pt x="293" y="1012"/>
                            </a:lnTo>
                            <a:lnTo>
                              <a:pt x="271" y="1030"/>
                            </a:lnTo>
                            <a:lnTo>
                              <a:pt x="267" y="1042"/>
                            </a:lnTo>
                            <a:lnTo>
                              <a:pt x="267" y="1060"/>
                            </a:lnTo>
                            <a:lnTo>
                              <a:pt x="271" y="1074"/>
                            </a:lnTo>
                            <a:lnTo>
                              <a:pt x="277" y="1086"/>
                            </a:lnTo>
                            <a:lnTo>
                              <a:pt x="283" y="1102"/>
                            </a:lnTo>
                            <a:lnTo>
                              <a:pt x="297" y="1120"/>
                            </a:lnTo>
                            <a:lnTo>
                              <a:pt x="311" y="1130"/>
                            </a:lnTo>
                            <a:lnTo>
                              <a:pt x="327" y="1136"/>
                            </a:lnTo>
                            <a:lnTo>
                              <a:pt x="345" y="1140"/>
                            </a:lnTo>
                            <a:lnTo>
                              <a:pt x="369" y="1142"/>
                            </a:lnTo>
                            <a:lnTo>
                              <a:pt x="387" y="1140"/>
                            </a:lnTo>
                            <a:lnTo>
                              <a:pt x="409" y="1134"/>
                            </a:lnTo>
                            <a:lnTo>
                              <a:pt x="427" y="1128"/>
                            </a:lnTo>
                            <a:lnTo>
                              <a:pt x="447" y="1116"/>
                            </a:lnTo>
                            <a:lnTo>
                              <a:pt x="471" y="1100"/>
                            </a:lnTo>
                            <a:lnTo>
                              <a:pt x="485" y="1090"/>
                            </a:lnTo>
                            <a:lnTo>
                              <a:pt x="483" y="1040"/>
                            </a:lnTo>
                            <a:lnTo>
                              <a:pt x="467" y="873"/>
                            </a:lnTo>
                            <a:lnTo>
                              <a:pt x="415" y="777"/>
                            </a:lnTo>
                            <a:lnTo>
                              <a:pt x="401" y="737"/>
                            </a:lnTo>
                            <a:lnTo>
                              <a:pt x="393" y="697"/>
                            </a:lnTo>
                            <a:lnTo>
                              <a:pt x="403" y="675"/>
                            </a:lnTo>
                            <a:lnTo>
                              <a:pt x="415" y="649"/>
                            </a:lnTo>
                            <a:lnTo>
                              <a:pt x="431" y="634"/>
                            </a:lnTo>
                            <a:lnTo>
                              <a:pt x="455" y="624"/>
                            </a:lnTo>
                            <a:lnTo>
                              <a:pt x="477" y="626"/>
                            </a:lnTo>
                            <a:lnTo>
                              <a:pt x="503" y="634"/>
                            </a:lnTo>
                            <a:lnTo>
                              <a:pt x="529" y="653"/>
                            </a:lnTo>
                            <a:lnTo>
                              <a:pt x="539" y="671"/>
                            </a:lnTo>
                            <a:lnTo>
                              <a:pt x="547" y="701"/>
                            </a:lnTo>
                            <a:lnTo>
                              <a:pt x="548" y="729"/>
                            </a:lnTo>
                            <a:lnTo>
                              <a:pt x="543" y="757"/>
                            </a:lnTo>
                            <a:lnTo>
                              <a:pt x="537" y="781"/>
                            </a:lnTo>
                            <a:lnTo>
                              <a:pt x="537" y="799"/>
                            </a:lnTo>
                            <a:lnTo>
                              <a:pt x="548" y="815"/>
                            </a:lnTo>
                            <a:lnTo>
                              <a:pt x="744" y="948"/>
                            </a:lnTo>
                            <a:lnTo>
                              <a:pt x="818" y="940"/>
                            </a:lnTo>
                            <a:lnTo>
                              <a:pt x="904" y="934"/>
                            </a:lnTo>
                            <a:lnTo>
                              <a:pt x="980" y="914"/>
                            </a:lnTo>
                            <a:lnTo>
                              <a:pt x="1012" y="883"/>
                            </a:lnTo>
                            <a:lnTo>
                              <a:pt x="1030" y="865"/>
                            </a:lnTo>
                            <a:lnTo>
                              <a:pt x="1038" y="835"/>
                            </a:lnTo>
                            <a:lnTo>
                              <a:pt x="1044" y="801"/>
                            </a:lnTo>
                            <a:lnTo>
                              <a:pt x="1050" y="743"/>
                            </a:lnTo>
                            <a:lnTo>
                              <a:pt x="1032" y="705"/>
                            </a:lnTo>
                            <a:lnTo>
                              <a:pt x="1024" y="610"/>
                            </a:lnTo>
                            <a:lnTo>
                              <a:pt x="994" y="478"/>
                            </a:lnTo>
                            <a:lnTo>
                              <a:pt x="970" y="377"/>
                            </a:lnTo>
                            <a:lnTo>
                              <a:pt x="922" y="277"/>
                            </a:lnTo>
                            <a:lnTo>
                              <a:pt x="880" y="191"/>
                            </a:lnTo>
                            <a:lnTo>
                              <a:pt x="856" y="149"/>
                            </a:lnTo>
                            <a:lnTo>
                              <a:pt x="820" y="100"/>
                            </a:lnTo>
                            <a:lnTo>
                              <a:pt x="790" y="74"/>
                            </a:lnTo>
                            <a:lnTo>
                              <a:pt x="728" y="42"/>
                            </a:lnTo>
                            <a:lnTo>
                              <a:pt x="674" y="18"/>
                            </a:lnTo>
                            <a:lnTo>
                              <a:pt x="614" y="4"/>
                            </a:lnTo>
                            <a:lnTo>
                              <a:pt x="556" y="0"/>
                            </a:lnTo>
                            <a:lnTo>
                              <a:pt x="503"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88"/>
                      <p:cNvSpPr/>
                      <p:nvPr/>
                    </p:nvSpPr>
                    <p:spPr>
                      <a:xfrm>
                        <a:off x="5607000" y="4194000"/>
                        <a:ext cx="71280" cy="50400"/>
                      </a:xfrm>
                      <a:custGeom>
                        <a:avLst/>
                        <a:gdLst>
                          <a:gd name="textAreaLeft" fmla="*/ 0 w 71280"/>
                          <a:gd name="textAreaRight" fmla="*/ 71640 w 71280"/>
                          <a:gd name="textAreaTop" fmla="*/ 0 h 50400"/>
                          <a:gd name="textAreaBottom" fmla="*/ 50760 h 50400"/>
                        </a:gdLst>
                        <a:ahLst/>
                        <a:rect l="textAreaLeft" t="textAreaTop" r="textAreaRight" b="textAreaBottom"/>
                        <a:pathLst>
                          <a:path w="90" h="64">
                            <a:moveTo>
                              <a:pt x="4" y="0"/>
                            </a:moveTo>
                            <a:lnTo>
                              <a:pt x="2" y="12"/>
                            </a:lnTo>
                            <a:lnTo>
                              <a:pt x="0" y="30"/>
                            </a:lnTo>
                            <a:lnTo>
                              <a:pt x="6" y="40"/>
                            </a:lnTo>
                            <a:lnTo>
                              <a:pt x="18" y="48"/>
                            </a:lnTo>
                            <a:lnTo>
                              <a:pt x="38" y="52"/>
                            </a:lnTo>
                            <a:lnTo>
                              <a:pt x="58" y="54"/>
                            </a:lnTo>
                            <a:lnTo>
                              <a:pt x="80" y="60"/>
                            </a:lnTo>
                            <a:lnTo>
                              <a:pt x="90" y="64"/>
                            </a:lnTo>
                            <a:lnTo>
                              <a:pt x="90" y="50"/>
                            </a:lnTo>
                            <a:lnTo>
                              <a:pt x="70" y="32"/>
                            </a:lnTo>
                            <a:lnTo>
                              <a:pt x="52" y="20"/>
                            </a:lnTo>
                            <a:lnTo>
                              <a:pt x="32" y="10"/>
                            </a:lnTo>
                            <a:lnTo>
                              <a:pt x="22" y="6"/>
                            </a:lnTo>
                            <a:lnTo>
                              <a:pt x="4" y="0"/>
                            </a:lnTo>
                            <a:close/>
                          </a:path>
                        </a:pathLst>
                      </a:custGeom>
                      <a:solidFill>
                        <a:srgbClr val="5f3f1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1" name="Freeform 89"/>
                      <p:cNvSpPr/>
                      <p:nvPr/>
                    </p:nvSpPr>
                    <p:spPr>
                      <a:xfrm>
                        <a:off x="5634000" y="4252680"/>
                        <a:ext cx="42840" cy="17280"/>
                      </a:xfrm>
                      <a:custGeom>
                        <a:avLst/>
                        <a:gdLst>
                          <a:gd name="textAreaLeft" fmla="*/ 0 w 42840"/>
                          <a:gd name="textAreaRight" fmla="*/ 43200 w 42840"/>
                          <a:gd name="textAreaTop" fmla="*/ 0 h 17280"/>
                          <a:gd name="textAreaBottom" fmla="*/ 17280 h 17280"/>
                        </a:gdLst>
                        <a:ahLst/>
                        <a:rect l="textAreaLeft" t="textAreaTop" r="textAreaRight" b="textAreaBottom"/>
                        <a:pathLst>
                          <a:path w="54" h="22">
                            <a:moveTo>
                              <a:pt x="30" y="0"/>
                            </a:moveTo>
                            <a:lnTo>
                              <a:pt x="24" y="10"/>
                            </a:lnTo>
                            <a:lnTo>
                              <a:pt x="14" y="14"/>
                            </a:lnTo>
                            <a:lnTo>
                              <a:pt x="0" y="16"/>
                            </a:lnTo>
                            <a:lnTo>
                              <a:pt x="16" y="22"/>
                            </a:lnTo>
                            <a:lnTo>
                              <a:pt x="40" y="22"/>
                            </a:lnTo>
                            <a:lnTo>
                              <a:pt x="54" y="22"/>
                            </a:lnTo>
                            <a:lnTo>
                              <a:pt x="30" y="0"/>
                            </a:lnTo>
                            <a:close/>
                          </a:path>
                        </a:pathLst>
                      </a:custGeom>
                      <a:solidFill>
                        <a:srgbClr val="5f3f1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2" name="Freeform 90"/>
                      <p:cNvSpPr/>
                      <p:nvPr/>
                    </p:nvSpPr>
                    <p:spPr>
                      <a:xfrm>
                        <a:off x="5670360" y="4395600"/>
                        <a:ext cx="79560" cy="93240"/>
                      </a:xfrm>
                      <a:custGeom>
                        <a:avLst/>
                        <a:gdLst>
                          <a:gd name="textAreaLeft" fmla="*/ 0 w 79560"/>
                          <a:gd name="textAreaRight" fmla="*/ 79920 w 79560"/>
                          <a:gd name="textAreaTop" fmla="*/ 0 h 93240"/>
                          <a:gd name="textAreaBottom" fmla="*/ 93600 h 93240"/>
                        </a:gdLst>
                        <a:ahLst/>
                        <a:rect l="textAreaLeft" t="textAreaTop" r="textAreaRight" b="textAreaBottom"/>
                        <a:pathLst>
                          <a:path w="100" h="117">
                            <a:moveTo>
                              <a:pt x="16" y="2"/>
                            </a:moveTo>
                            <a:lnTo>
                              <a:pt x="6" y="18"/>
                            </a:lnTo>
                            <a:lnTo>
                              <a:pt x="2" y="30"/>
                            </a:lnTo>
                            <a:lnTo>
                              <a:pt x="0" y="44"/>
                            </a:lnTo>
                            <a:lnTo>
                              <a:pt x="0" y="58"/>
                            </a:lnTo>
                            <a:lnTo>
                              <a:pt x="4" y="75"/>
                            </a:lnTo>
                            <a:lnTo>
                              <a:pt x="8" y="89"/>
                            </a:lnTo>
                            <a:lnTo>
                              <a:pt x="16" y="97"/>
                            </a:lnTo>
                            <a:lnTo>
                              <a:pt x="24" y="103"/>
                            </a:lnTo>
                            <a:lnTo>
                              <a:pt x="36" y="103"/>
                            </a:lnTo>
                            <a:lnTo>
                              <a:pt x="50" y="103"/>
                            </a:lnTo>
                            <a:lnTo>
                              <a:pt x="74" y="107"/>
                            </a:lnTo>
                            <a:lnTo>
                              <a:pt x="100" y="117"/>
                            </a:lnTo>
                            <a:lnTo>
                              <a:pt x="100" y="103"/>
                            </a:lnTo>
                            <a:lnTo>
                              <a:pt x="92" y="85"/>
                            </a:lnTo>
                            <a:lnTo>
                              <a:pt x="90" y="66"/>
                            </a:lnTo>
                            <a:lnTo>
                              <a:pt x="78" y="48"/>
                            </a:lnTo>
                            <a:lnTo>
                              <a:pt x="70" y="38"/>
                            </a:lnTo>
                            <a:lnTo>
                              <a:pt x="58" y="26"/>
                            </a:lnTo>
                            <a:lnTo>
                              <a:pt x="48" y="16"/>
                            </a:lnTo>
                            <a:lnTo>
                              <a:pt x="40" y="8"/>
                            </a:lnTo>
                            <a:lnTo>
                              <a:pt x="34" y="0"/>
                            </a:lnTo>
                            <a:lnTo>
                              <a:pt x="16" y="2"/>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91"/>
                      <p:cNvSpPr/>
                      <p:nvPr/>
                    </p:nvSpPr>
                    <p:spPr>
                      <a:xfrm>
                        <a:off x="5537160" y="3892320"/>
                        <a:ext cx="190440" cy="194760"/>
                      </a:xfrm>
                      <a:custGeom>
                        <a:avLst/>
                        <a:gdLst>
                          <a:gd name="textAreaLeft" fmla="*/ 0 w 190440"/>
                          <a:gd name="textAreaRight" fmla="*/ 190800 w 190440"/>
                          <a:gd name="textAreaTop" fmla="*/ 0 h 194760"/>
                          <a:gd name="textAreaBottom" fmla="*/ 195120 h 194760"/>
                        </a:gdLst>
                        <a:ahLst/>
                        <a:rect l="textAreaLeft" t="textAreaTop" r="textAreaRight" b="textAreaBottom"/>
                        <a:pathLst>
                          <a:path w="239" h="247">
                            <a:moveTo>
                              <a:pt x="239" y="0"/>
                            </a:moveTo>
                            <a:lnTo>
                              <a:pt x="197" y="18"/>
                            </a:lnTo>
                            <a:lnTo>
                              <a:pt x="163" y="24"/>
                            </a:lnTo>
                            <a:lnTo>
                              <a:pt x="129" y="34"/>
                            </a:lnTo>
                            <a:lnTo>
                              <a:pt x="99" y="46"/>
                            </a:lnTo>
                            <a:lnTo>
                              <a:pt x="69" y="60"/>
                            </a:lnTo>
                            <a:lnTo>
                              <a:pt x="45" y="80"/>
                            </a:lnTo>
                            <a:lnTo>
                              <a:pt x="29" y="100"/>
                            </a:lnTo>
                            <a:lnTo>
                              <a:pt x="17" y="118"/>
                            </a:lnTo>
                            <a:lnTo>
                              <a:pt x="7" y="136"/>
                            </a:lnTo>
                            <a:lnTo>
                              <a:pt x="0" y="156"/>
                            </a:lnTo>
                            <a:lnTo>
                              <a:pt x="11" y="142"/>
                            </a:lnTo>
                            <a:lnTo>
                              <a:pt x="11" y="166"/>
                            </a:lnTo>
                            <a:lnTo>
                              <a:pt x="11" y="201"/>
                            </a:lnTo>
                            <a:lnTo>
                              <a:pt x="17" y="221"/>
                            </a:lnTo>
                            <a:lnTo>
                              <a:pt x="29" y="247"/>
                            </a:lnTo>
                            <a:lnTo>
                              <a:pt x="41" y="203"/>
                            </a:lnTo>
                            <a:lnTo>
                              <a:pt x="53" y="162"/>
                            </a:lnTo>
                            <a:lnTo>
                              <a:pt x="69" y="124"/>
                            </a:lnTo>
                            <a:lnTo>
                              <a:pt x="89" y="90"/>
                            </a:lnTo>
                            <a:lnTo>
                              <a:pt x="113" y="68"/>
                            </a:lnTo>
                            <a:lnTo>
                              <a:pt x="135" y="50"/>
                            </a:lnTo>
                            <a:lnTo>
                              <a:pt x="165" y="36"/>
                            </a:lnTo>
                            <a:lnTo>
                              <a:pt x="239"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4" name="Freeform 92"/>
                  <p:cNvSpPr/>
                  <p:nvPr/>
                </p:nvSpPr>
                <p:spPr>
                  <a:xfrm>
                    <a:off x="5986440" y="4454280"/>
                    <a:ext cx="236520" cy="512280"/>
                  </a:xfrm>
                  <a:custGeom>
                    <a:avLst/>
                    <a:gdLst>
                      <a:gd name="textAreaLeft" fmla="*/ 0 w 236520"/>
                      <a:gd name="textAreaRight" fmla="*/ 236880 w 236520"/>
                      <a:gd name="textAreaTop" fmla="*/ 0 h 512280"/>
                      <a:gd name="textAreaBottom" fmla="*/ 512640 h 512280"/>
                    </a:gdLst>
                    <a:ahLst/>
                    <a:rect l="textAreaLeft" t="textAreaTop" r="textAreaRight" b="textAreaBottom"/>
                    <a:pathLst>
                      <a:path w="300" h="646">
                        <a:moveTo>
                          <a:pt x="300" y="0"/>
                        </a:moveTo>
                        <a:lnTo>
                          <a:pt x="66" y="419"/>
                        </a:lnTo>
                        <a:lnTo>
                          <a:pt x="0" y="646"/>
                        </a:lnTo>
                        <a:lnTo>
                          <a:pt x="102" y="395"/>
                        </a:lnTo>
                        <a:lnTo>
                          <a:pt x="30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93"/>
                  <p:cNvSpPr/>
                  <p:nvPr/>
                </p:nvSpPr>
                <p:spPr>
                  <a:xfrm>
                    <a:off x="5748120" y="4811400"/>
                    <a:ext cx="90720" cy="226800"/>
                  </a:xfrm>
                  <a:custGeom>
                    <a:avLst/>
                    <a:gdLst>
                      <a:gd name="textAreaLeft" fmla="*/ 0 w 90720"/>
                      <a:gd name="textAreaRight" fmla="*/ 91080 w 90720"/>
                      <a:gd name="textAreaTop" fmla="*/ 0 h 226800"/>
                      <a:gd name="textAreaBottom" fmla="*/ 227160 h 226800"/>
                    </a:gdLst>
                    <a:ahLst/>
                    <a:rect l="textAreaLeft" t="textAreaTop" r="textAreaRight" b="textAreaBottom"/>
                    <a:pathLst>
                      <a:path w="114" h="285">
                        <a:moveTo>
                          <a:pt x="60" y="0"/>
                        </a:moveTo>
                        <a:lnTo>
                          <a:pt x="62" y="219"/>
                        </a:lnTo>
                        <a:lnTo>
                          <a:pt x="114" y="285"/>
                        </a:lnTo>
                        <a:lnTo>
                          <a:pt x="38" y="227"/>
                        </a:lnTo>
                        <a:lnTo>
                          <a:pt x="0" y="261"/>
                        </a:lnTo>
                        <a:lnTo>
                          <a:pt x="24" y="179"/>
                        </a:lnTo>
                        <a:lnTo>
                          <a:pt x="36" y="46"/>
                        </a:lnTo>
                        <a:lnTo>
                          <a:pt x="6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Freeform 94"/>
                <p:cNvSpPr/>
                <p:nvPr/>
              </p:nvSpPr>
              <p:spPr>
                <a:xfrm>
                  <a:off x="5648400" y="5132160"/>
                  <a:ext cx="137880" cy="242640"/>
                </a:xfrm>
                <a:custGeom>
                  <a:avLst/>
                  <a:gdLst>
                    <a:gd name="textAreaLeft" fmla="*/ 0 w 137880"/>
                    <a:gd name="textAreaRight" fmla="*/ 138240 w 137880"/>
                    <a:gd name="textAreaTop" fmla="*/ 0 h 242640"/>
                    <a:gd name="textAreaBottom" fmla="*/ 243000 h 242640"/>
                  </a:gdLst>
                  <a:ahLst/>
                  <a:rect l="textAreaLeft" t="textAreaTop" r="textAreaRight" b="textAreaBottom"/>
                  <a:pathLst>
                    <a:path w="174" h="307">
                      <a:moveTo>
                        <a:pt x="104" y="0"/>
                      </a:moveTo>
                      <a:lnTo>
                        <a:pt x="170" y="158"/>
                      </a:lnTo>
                      <a:lnTo>
                        <a:pt x="174" y="307"/>
                      </a:lnTo>
                      <a:lnTo>
                        <a:pt x="144" y="140"/>
                      </a:lnTo>
                      <a:lnTo>
                        <a:pt x="102" y="68"/>
                      </a:lnTo>
                      <a:lnTo>
                        <a:pt x="0" y="130"/>
                      </a:lnTo>
                      <a:lnTo>
                        <a:pt x="62" y="76"/>
                      </a:lnTo>
                      <a:lnTo>
                        <a:pt x="104"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7" name="Freeform 95"/>
              <p:cNvSpPr/>
              <p:nvPr/>
            </p:nvSpPr>
            <p:spPr>
              <a:xfrm>
                <a:off x="4933800" y="5524200"/>
                <a:ext cx="98640" cy="160200"/>
              </a:xfrm>
              <a:custGeom>
                <a:avLst/>
                <a:gdLst>
                  <a:gd name="textAreaLeft" fmla="*/ 0 w 98640"/>
                  <a:gd name="textAreaRight" fmla="*/ 99000 w 98640"/>
                  <a:gd name="textAreaTop" fmla="*/ 0 h 160200"/>
                  <a:gd name="textAreaBottom" fmla="*/ 160200 h 160200"/>
                </a:gdLst>
                <a:ahLst/>
                <a:rect l="textAreaLeft" t="textAreaTop" r="textAreaRight" b="textAreaBottom"/>
                <a:pathLst>
                  <a:path w="124" h="204">
                    <a:moveTo>
                      <a:pt x="88" y="0"/>
                    </a:moveTo>
                    <a:lnTo>
                      <a:pt x="4" y="166"/>
                    </a:lnTo>
                    <a:lnTo>
                      <a:pt x="0" y="204"/>
                    </a:lnTo>
                    <a:lnTo>
                      <a:pt x="30" y="178"/>
                    </a:lnTo>
                    <a:lnTo>
                      <a:pt x="124" y="10"/>
                    </a:lnTo>
                    <a:lnTo>
                      <a:pt x="110" y="8"/>
                    </a:lnTo>
                    <a:lnTo>
                      <a:pt x="96" y="4"/>
                    </a:lnTo>
                    <a:lnTo>
                      <a:pt x="88"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Group 96"/>
              <p:cNvGrpSpPr/>
              <p:nvPr/>
            </p:nvGrpSpPr>
            <p:grpSpPr>
              <a:xfrm>
                <a:off x="4927680" y="5356080"/>
                <a:ext cx="368280" cy="315000"/>
                <a:chOff x="4927680" y="5356080"/>
                <a:chExt cx="368280" cy="315000"/>
              </a:xfrm>
            </p:grpSpPr>
            <p:grpSp>
              <p:nvGrpSpPr>
                <p:cNvPr id="619" name="Group 97"/>
                <p:cNvGrpSpPr/>
                <p:nvPr/>
              </p:nvGrpSpPr>
              <p:grpSpPr>
                <a:xfrm>
                  <a:off x="4927680" y="5356080"/>
                  <a:ext cx="347400" cy="315000"/>
                  <a:chOff x="4927680" y="5356080"/>
                  <a:chExt cx="347400" cy="315000"/>
                </a:xfrm>
              </p:grpSpPr>
              <p:sp>
                <p:nvSpPr>
                  <p:cNvPr id="620" name="Freeform 98"/>
                  <p:cNvSpPr/>
                  <p:nvPr/>
                </p:nvSpPr>
                <p:spPr>
                  <a:xfrm>
                    <a:off x="4927680" y="5390640"/>
                    <a:ext cx="347400" cy="280440"/>
                  </a:xfrm>
                  <a:custGeom>
                    <a:avLst/>
                    <a:gdLst>
                      <a:gd name="textAreaLeft" fmla="*/ 0 w 347400"/>
                      <a:gd name="textAreaRight" fmla="*/ 347760 w 347400"/>
                      <a:gd name="textAreaTop" fmla="*/ 0 h 280440"/>
                      <a:gd name="textAreaBottom" fmla="*/ 280800 h 280440"/>
                    </a:gdLst>
                    <a:ahLst/>
                    <a:rect l="textAreaLeft" t="textAreaTop" r="textAreaRight" b="textAreaBottom"/>
                    <a:pathLst>
                      <a:path w="437" h="355">
                        <a:moveTo>
                          <a:pt x="323" y="48"/>
                        </a:moveTo>
                        <a:lnTo>
                          <a:pt x="297" y="54"/>
                        </a:lnTo>
                        <a:lnTo>
                          <a:pt x="275" y="42"/>
                        </a:lnTo>
                        <a:lnTo>
                          <a:pt x="248" y="28"/>
                        </a:lnTo>
                        <a:lnTo>
                          <a:pt x="220" y="18"/>
                        </a:lnTo>
                        <a:lnTo>
                          <a:pt x="176" y="6"/>
                        </a:lnTo>
                        <a:lnTo>
                          <a:pt x="152" y="0"/>
                        </a:lnTo>
                        <a:lnTo>
                          <a:pt x="68" y="20"/>
                        </a:lnTo>
                        <a:lnTo>
                          <a:pt x="54" y="28"/>
                        </a:lnTo>
                        <a:lnTo>
                          <a:pt x="42" y="36"/>
                        </a:lnTo>
                        <a:lnTo>
                          <a:pt x="32" y="52"/>
                        </a:lnTo>
                        <a:lnTo>
                          <a:pt x="24" y="74"/>
                        </a:lnTo>
                        <a:lnTo>
                          <a:pt x="16" y="108"/>
                        </a:lnTo>
                        <a:lnTo>
                          <a:pt x="8" y="151"/>
                        </a:lnTo>
                        <a:lnTo>
                          <a:pt x="6" y="191"/>
                        </a:lnTo>
                        <a:lnTo>
                          <a:pt x="0" y="219"/>
                        </a:lnTo>
                        <a:lnTo>
                          <a:pt x="0" y="237"/>
                        </a:lnTo>
                        <a:lnTo>
                          <a:pt x="6" y="251"/>
                        </a:lnTo>
                        <a:lnTo>
                          <a:pt x="8" y="263"/>
                        </a:lnTo>
                        <a:lnTo>
                          <a:pt x="18" y="279"/>
                        </a:lnTo>
                        <a:lnTo>
                          <a:pt x="56" y="319"/>
                        </a:lnTo>
                        <a:lnTo>
                          <a:pt x="74" y="329"/>
                        </a:lnTo>
                        <a:lnTo>
                          <a:pt x="106" y="345"/>
                        </a:lnTo>
                        <a:lnTo>
                          <a:pt x="126" y="355"/>
                        </a:lnTo>
                        <a:lnTo>
                          <a:pt x="142" y="347"/>
                        </a:lnTo>
                        <a:lnTo>
                          <a:pt x="146" y="335"/>
                        </a:lnTo>
                        <a:lnTo>
                          <a:pt x="164" y="335"/>
                        </a:lnTo>
                        <a:lnTo>
                          <a:pt x="182" y="335"/>
                        </a:lnTo>
                        <a:lnTo>
                          <a:pt x="206" y="341"/>
                        </a:lnTo>
                        <a:lnTo>
                          <a:pt x="220" y="343"/>
                        </a:lnTo>
                        <a:lnTo>
                          <a:pt x="226" y="329"/>
                        </a:lnTo>
                        <a:lnTo>
                          <a:pt x="230" y="319"/>
                        </a:lnTo>
                        <a:lnTo>
                          <a:pt x="244" y="323"/>
                        </a:lnTo>
                        <a:lnTo>
                          <a:pt x="259" y="323"/>
                        </a:lnTo>
                        <a:lnTo>
                          <a:pt x="265" y="313"/>
                        </a:lnTo>
                        <a:lnTo>
                          <a:pt x="271" y="301"/>
                        </a:lnTo>
                        <a:lnTo>
                          <a:pt x="275" y="285"/>
                        </a:lnTo>
                        <a:lnTo>
                          <a:pt x="301" y="287"/>
                        </a:lnTo>
                        <a:lnTo>
                          <a:pt x="325" y="287"/>
                        </a:lnTo>
                        <a:lnTo>
                          <a:pt x="341" y="281"/>
                        </a:lnTo>
                        <a:lnTo>
                          <a:pt x="357" y="273"/>
                        </a:lnTo>
                        <a:lnTo>
                          <a:pt x="369" y="261"/>
                        </a:lnTo>
                        <a:lnTo>
                          <a:pt x="383" y="245"/>
                        </a:lnTo>
                        <a:lnTo>
                          <a:pt x="427" y="235"/>
                        </a:lnTo>
                        <a:lnTo>
                          <a:pt x="435" y="181"/>
                        </a:lnTo>
                        <a:lnTo>
                          <a:pt x="437" y="145"/>
                        </a:lnTo>
                        <a:lnTo>
                          <a:pt x="425" y="104"/>
                        </a:lnTo>
                        <a:lnTo>
                          <a:pt x="411" y="80"/>
                        </a:lnTo>
                        <a:lnTo>
                          <a:pt x="395" y="66"/>
                        </a:lnTo>
                        <a:lnTo>
                          <a:pt x="371" y="52"/>
                        </a:lnTo>
                        <a:lnTo>
                          <a:pt x="341" y="42"/>
                        </a:lnTo>
                        <a:lnTo>
                          <a:pt x="323" y="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99"/>
                  <p:cNvSpPr/>
                  <p:nvPr/>
                </p:nvSpPr>
                <p:spPr>
                  <a:xfrm>
                    <a:off x="4954320" y="5447880"/>
                    <a:ext cx="236880" cy="202680"/>
                  </a:xfrm>
                  <a:custGeom>
                    <a:avLst/>
                    <a:gdLst>
                      <a:gd name="textAreaLeft" fmla="*/ 0 w 236880"/>
                      <a:gd name="textAreaRight" fmla="*/ 237240 w 236880"/>
                      <a:gd name="textAreaTop" fmla="*/ 0 h 202680"/>
                      <a:gd name="textAreaBottom" fmla="*/ 203040 h 202680"/>
                    </a:gdLst>
                    <a:ahLst/>
                    <a:rect l="textAreaLeft" t="textAreaTop" r="textAreaRight" b="textAreaBottom"/>
                    <a:pathLst>
                      <a:path w="297" h="257">
                        <a:moveTo>
                          <a:pt x="297" y="85"/>
                        </a:moveTo>
                        <a:lnTo>
                          <a:pt x="273" y="101"/>
                        </a:lnTo>
                        <a:lnTo>
                          <a:pt x="251" y="101"/>
                        </a:lnTo>
                        <a:lnTo>
                          <a:pt x="231" y="95"/>
                        </a:lnTo>
                        <a:lnTo>
                          <a:pt x="219" y="87"/>
                        </a:lnTo>
                        <a:lnTo>
                          <a:pt x="208" y="79"/>
                        </a:lnTo>
                        <a:lnTo>
                          <a:pt x="196" y="79"/>
                        </a:lnTo>
                        <a:lnTo>
                          <a:pt x="180" y="89"/>
                        </a:lnTo>
                        <a:lnTo>
                          <a:pt x="156" y="97"/>
                        </a:lnTo>
                        <a:lnTo>
                          <a:pt x="132" y="103"/>
                        </a:lnTo>
                        <a:lnTo>
                          <a:pt x="116" y="105"/>
                        </a:lnTo>
                        <a:lnTo>
                          <a:pt x="96" y="105"/>
                        </a:lnTo>
                        <a:lnTo>
                          <a:pt x="76" y="101"/>
                        </a:lnTo>
                        <a:lnTo>
                          <a:pt x="64" y="95"/>
                        </a:lnTo>
                        <a:lnTo>
                          <a:pt x="58" y="87"/>
                        </a:lnTo>
                        <a:lnTo>
                          <a:pt x="54" y="71"/>
                        </a:lnTo>
                        <a:lnTo>
                          <a:pt x="54" y="59"/>
                        </a:lnTo>
                        <a:lnTo>
                          <a:pt x="60" y="49"/>
                        </a:lnTo>
                        <a:lnTo>
                          <a:pt x="72" y="43"/>
                        </a:lnTo>
                        <a:lnTo>
                          <a:pt x="92" y="40"/>
                        </a:lnTo>
                        <a:lnTo>
                          <a:pt x="116" y="36"/>
                        </a:lnTo>
                        <a:lnTo>
                          <a:pt x="134" y="36"/>
                        </a:lnTo>
                        <a:lnTo>
                          <a:pt x="154" y="24"/>
                        </a:lnTo>
                        <a:lnTo>
                          <a:pt x="174" y="12"/>
                        </a:lnTo>
                        <a:lnTo>
                          <a:pt x="146" y="12"/>
                        </a:lnTo>
                        <a:lnTo>
                          <a:pt x="128" y="2"/>
                        </a:lnTo>
                        <a:lnTo>
                          <a:pt x="106" y="0"/>
                        </a:lnTo>
                        <a:lnTo>
                          <a:pt x="90" y="6"/>
                        </a:lnTo>
                        <a:lnTo>
                          <a:pt x="70" y="18"/>
                        </a:lnTo>
                        <a:lnTo>
                          <a:pt x="62" y="24"/>
                        </a:lnTo>
                        <a:lnTo>
                          <a:pt x="34" y="4"/>
                        </a:lnTo>
                        <a:lnTo>
                          <a:pt x="46" y="18"/>
                        </a:lnTo>
                        <a:lnTo>
                          <a:pt x="50" y="30"/>
                        </a:lnTo>
                        <a:lnTo>
                          <a:pt x="36" y="32"/>
                        </a:lnTo>
                        <a:lnTo>
                          <a:pt x="50" y="36"/>
                        </a:lnTo>
                        <a:lnTo>
                          <a:pt x="38" y="95"/>
                        </a:lnTo>
                        <a:lnTo>
                          <a:pt x="30" y="107"/>
                        </a:lnTo>
                        <a:lnTo>
                          <a:pt x="22" y="115"/>
                        </a:lnTo>
                        <a:lnTo>
                          <a:pt x="0" y="119"/>
                        </a:lnTo>
                        <a:lnTo>
                          <a:pt x="16" y="125"/>
                        </a:lnTo>
                        <a:lnTo>
                          <a:pt x="22" y="141"/>
                        </a:lnTo>
                        <a:lnTo>
                          <a:pt x="10" y="173"/>
                        </a:lnTo>
                        <a:lnTo>
                          <a:pt x="6" y="195"/>
                        </a:lnTo>
                        <a:lnTo>
                          <a:pt x="40" y="159"/>
                        </a:lnTo>
                        <a:lnTo>
                          <a:pt x="58" y="169"/>
                        </a:lnTo>
                        <a:lnTo>
                          <a:pt x="64" y="189"/>
                        </a:lnTo>
                        <a:lnTo>
                          <a:pt x="38" y="203"/>
                        </a:lnTo>
                        <a:lnTo>
                          <a:pt x="68" y="201"/>
                        </a:lnTo>
                        <a:lnTo>
                          <a:pt x="82" y="201"/>
                        </a:lnTo>
                        <a:lnTo>
                          <a:pt x="90" y="209"/>
                        </a:lnTo>
                        <a:lnTo>
                          <a:pt x="100" y="225"/>
                        </a:lnTo>
                        <a:lnTo>
                          <a:pt x="108" y="243"/>
                        </a:lnTo>
                        <a:lnTo>
                          <a:pt x="118" y="257"/>
                        </a:lnTo>
                        <a:lnTo>
                          <a:pt x="118" y="233"/>
                        </a:lnTo>
                        <a:lnTo>
                          <a:pt x="108" y="215"/>
                        </a:lnTo>
                        <a:lnTo>
                          <a:pt x="98" y="201"/>
                        </a:lnTo>
                        <a:lnTo>
                          <a:pt x="106" y="191"/>
                        </a:lnTo>
                        <a:lnTo>
                          <a:pt x="120" y="187"/>
                        </a:lnTo>
                        <a:lnTo>
                          <a:pt x="134" y="189"/>
                        </a:lnTo>
                        <a:lnTo>
                          <a:pt x="156" y="191"/>
                        </a:lnTo>
                        <a:lnTo>
                          <a:pt x="174" y="179"/>
                        </a:lnTo>
                        <a:lnTo>
                          <a:pt x="196" y="173"/>
                        </a:lnTo>
                        <a:lnTo>
                          <a:pt x="214" y="169"/>
                        </a:lnTo>
                        <a:lnTo>
                          <a:pt x="223" y="167"/>
                        </a:lnTo>
                        <a:lnTo>
                          <a:pt x="229" y="161"/>
                        </a:lnTo>
                        <a:lnTo>
                          <a:pt x="245" y="173"/>
                        </a:lnTo>
                        <a:lnTo>
                          <a:pt x="239" y="153"/>
                        </a:lnTo>
                        <a:lnTo>
                          <a:pt x="279" y="179"/>
                        </a:lnTo>
                        <a:lnTo>
                          <a:pt x="273" y="161"/>
                        </a:lnTo>
                        <a:lnTo>
                          <a:pt x="241" y="139"/>
                        </a:lnTo>
                        <a:lnTo>
                          <a:pt x="247" y="123"/>
                        </a:lnTo>
                        <a:lnTo>
                          <a:pt x="259" y="107"/>
                        </a:lnTo>
                        <a:lnTo>
                          <a:pt x="277" y="105"/>
                        </a:lnTo>
                        <a:lnTo>
                          <a:pt x="297" y="85"/>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00"/>
                  <p:cNvSpPr/>
                  <p:nvPr/>
                </p:nvSpPr>
                <p:spPr>
                  <a:xfrm>
                    <a:off x="5029200" y="5356080"/>
                    <a:ext cx="83880" cy="121680"/>
                  </a:xfrm>
                  <a:custGeom>
                    <a:avLst/>
                    <a:gdLst>
                      <a:gd name="textAreaLeft" fmla="*/ 0 w 83880"/>
                      <a:gd name="textAreaRight" fmla="*/ 84240 w 83880"/>
                      <a:gd name="textAreaTop" fmla="*/ 0 h 121680"/>
                      <a:gd name="textAreaBottom" fmla="*/ 122040 h 121680"/>
                    </a:gdLst>
                    <a:ahLst/>
                    <a:rect l="textAreaLeft" t="textAreaTop" r="textAreaRight" b="textAreaBottom"/>
                    <a:pathLst>
                      <a:path w="106" h="154">
                        <a:moveTo>
                          <a:pt x="92" y="0"/>
                        </a:moveTo>
                        <a:lnTo>
                          <a:pt x="72" y="6"/>
                        </a:lnTo>
                        <a:lnTo>
                          <a:pt x="68" y="18"/>
                        </a:lnTo>
                        <a:lnTo>
                          <a:pt x="0" y="154"/>
                        </a:lnTo>
                        <a:lnTo>
                          <a:pt x="36" y="150"/>
                        </a:lnTo>
                        <a:lnTo>
                          <a:pt x="104" y="28"/>
                        </a:lnTo>
                        <a:lnTo>
                          <a:pt x="106" y="8"/>
                        </a:lnTo>
                        <a:lnTo>
                          <a:pt x="9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01"/>
                  <p:cNvSpPr/>
                  <p:nvPr/>
                </p:nvSpPr>
                <p:spPr>
                  <a:xfrm>
                    <a:off x="5194080" y="5458680"/>
                    <a:ext cx="58680" cy="112680"/>
                  </a:xfrm>
                  <a:custGeom>
                    <a:avLst/>
                    <a:gdLst>
                      <a:gd name="textAreaLeft" fmla="*/ 0 w 58680"/>
                      <a:gd name="textAreaRight" fmla="*/ 59040 w 58680"/>
                      <a:gd name="textAreaTop" fmla="*/ 0 h 112680"/>
                      <a:gd name="textAreaBottom" fmla="*/ 113040 h 112680"/>
                    </a:gdLst>
                    <a:ahLst/>
                    <a:rect l="textAreaLeft" t="textAreaTop" r="textAreaRight" b="textAreaBottom"/>
                    <a:pathLst>
                      <a:path w="74" h="141">
                        <a:moveTo>
                          <a:pt x="0" y="0"/>
                        </a:moveTo>
                        <a:lnTo>
                          <a:pt x="14" y="20"/>
                        </a:lnTo>
                        <a:lnTo>
                          <a:pt x="22" y="37"/>
                        </a:lnTo>
                        <a:lnTo>
                          <a:pt x="28" y="59"/>
                        </a:lnTo>
                        <a:lnTo>
                          <a:pt x="30" y="81"/>
                        </a:lnTo>
                        <a:lnTo>
                          <a:pt x="28" y="105"/>
                        </a:lnTo>
                        <a:lnTo>
                          <a:pt x="20" y="141"/>
                        </a:lnTo>
                        <a:lnTo>
                          <a:pt x="46" y="75"/>
                        </a:lnTo>
                        <a:lnTo>
                          <a:pt x="62" y="55"/>
                        </a:lnTo>
                        <a:lnTo>
                          <a:pt x="74" y="37"/>
                        </a:lnTo>
                        <a:lnTo>
                          <a:pt x="54" y="29"/>
                        </a:lnTo>
                        <a:lnTo>
                          <a:pt x="34" y="16"/>
                        </a:lnTo>
                        <a:lnTo>
                          <a:pt x="20" y="4"/>
                        </a:lnTo>
                        <a:lnTo>
                          <a:pt x="0" y="0"/>
                        </a:lnTo>
                        <a:close/>
                      </a:path>
                    </a:pathLst>
                  </a:custGeom>
                  <a:solidFill>
                    <a:srgbClr val="df9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02"/>
                  <p:cNvSpPr/>
                  <p:nvPr/>
                </p:nvSpPr>
                <p:spPr>
                  <a:xfrm>
                    <a:off x="5060880" y="5366880"/>
                    <a:ext cx="49320" cy="113760"/>
                  </a:xfrm>
                  <a:custGeom>
                    <a:avLst/>
                    <a:gdLst>
                      <a:gd name="textAreaLeft" fmla="*/ 0 w 49320"/>
                      <a:gd name="textAreaRight" fmla="*/ 49680 w 49320"/>
                      <a:gd name="textAreaTop" fmla="*/ 0 h 113760"/>
                      <a:gd name="textAreaBottom" fmla="*/ 114120 h 113760"/>
                    </a:gdLst>
                    <a:ahLst/>
                    <a:rect l="textAreaLeft" t="textAreaTop" r="textAreaRight" b="textAreaBottom"/>
                    <a:pathLst>
                      <a:path w="62" h="144">
                        <a:moveTo>
                          <a:pt x="60" y="12"/>
                        </a:moveTo>
                        <a:lnTo>
                          <a:pt x="62" y="18"/>
                        </a:lnTo>
                        <a:lnTo>
                          <a:pt x="6" y="144"/>
                        </a:lnTo>
                        <a:lnTo>
                          <a:pt x="0" y="130"/>
                        </a:lnTo>
                        <a:lnTo>
                          <a:pt x="4" y="118"/>
                        </a:lnTo>
                        <a:lnTo>
                          <a:pt x="10" y="108"/>
                        </a:lnTo>
                        <a:lnTo>
                          <a:pt x="20" y="104"/>
                        </a:lnTo>
                        <a:lnTo>
                          <a:pt x="58" y="18"/>
                        </a:lnTo>
                        <a:lnTo>
                          <a:pt x="30" y="4"/>
                        </a:lnTo>
                        <a:lnTo>
                          <a:pt x="30" y="0"/>
                        </a:lnTo>
                        <a:lnTo>
                          <a:pt x="60" y="1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5" name="Freeform 103"/>
                <p:cNvSpPr/>
                <p:nvPr/>
              </p:nvSpPr>
              <p:spPr>
                <a:xfrm>
                  <a:off x="5162400" y="5417640"/>
                  <a:ext cx="133560" cy="175680"/>
                </a:xfrm>
                <a:custGeom>
                  <a:avLst/>
                  <a:gdLst>
                    <a:gd name="textAreaLeft" fmla="*/ 0 w 133560"/>
                    <a:gd name="textAreaRight" fmla="*/ 133920 w 133560"/>
                    <a:gd name="textAreaTop" fmla="*/ 0 h 175680"/>
                    <a:gd name="textAreaBottom" fmla="*/ 176040 h 175680"/>
                  </a:gdLst>
                  <a:ahLst/>
                  <a:rect l="textAreaLeft" t="textAreaTop" r="textAreaRight" b="textAreaBottom"/>
                  <a:pathLst>
                    <a:path w="168" h="223">
                      <a:moveTo>
                        <a:pt x="0" y="12"/>
                      </a:moveTo>
                      <a:lnTo>
                        <a:pt x="30" y="24"/>
                      </a:lnTo>
                      <a:lnTo>
                        <a:pt x="62" y="44"/>
                      </a:lnTo>
                      <a:lnTo>
                        <a:pt x="78" y="58"/>
                      </a:lnTo>
                      <a:lnTo>
                        <a:pt x="92" y="80"/>
                      </a:lnTo>
                      <a:lnTo>
                        <a:pt x="104" y="97"/>
                      </a:lnTo>
                      <a:lnTo>
                        <a:pt x="112" y="123"/>
                      </a:lnTo>
                      <a:lnTo>
                        <a:pt x="118" y="161"/>
                      </a:lnTo>
                      <a:lnTo>
                        <a:pt x="116" y="197"/>
                      </a:lnTo>
                      <a:lnTo>
                        <a:pt x="108" y="223"/>
                      </a:lnTo>
                      <a:lnTo>
                        <a:pt x="160" y="219"/>
                      </a:lnTo>
                      <a:lnTo>
                        <a:pt x="168" y="177"/>
                      </a:lnTo>
                      <a:lnTo>
                        <a:pt x="168" y="145"/>
                      </a:lnTo>
                      <a:lnTo>
                        <a:pt x="164" y="109"/>
                      </a:lnTo>
                      <a:lnTo>
                        <a:pt x="154" y="81"/>
                      </a:lnTo>
                      <a:lnTo>
                        <a:pt x="134" y="48"/>
                      </a:lnTo>
                      <a:lnTo>
                        <a:pt x="116" y="32"/>
                      </a:lnTo>
                      <a:lnTo>
                        <a:pt x="86" y="14"/>
                      </a:lnTo>
                      <a:lnTo>
                        <a:pt x="52" y="0"/>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6" name="Group 104"/>
            <p:cNvGrpSpPr/>
            <p:nvPr/>
          </p:nvGrpSpPr>
          <p:grpSpPr>
            <a:xfrm>
              <a:off x="2087640" y="3922560"/>
              <a:ext cx="1725480" cy="2018160"/>
              <a:chOff x="2087640" y="3922560"/>
              <a:chExt cx="1725480" cy="2018160"/>
            </a:xfrm>
          </p:grpSpPr>
          <p:grpSp>
            <p:nvGrpSpPr>
              <p:cNvPr id="627" name="Group 105"/>
              <p:cNvGrpSpPr/>
              <p:nvPr/>
            </p:nvGrpSpPr>
            <p:grpSpPr>
              <a:xfrm>
                <a:off x="2646360" y="4966560"/>
                <a:ext cx="352440" cy="699480"/>
                <a:chOff x="2646360" y="4966560"/>
                <a:chExt cx="352440" cy="699480"/>
              </a:xfrm>
            </p:grpSpPr>
            <p:sp>
              <p:nvSpPr>
                <p:cNvPr id="628" name="Freeform 106"/>
                <p:cNvSpPr/>
                <p:nvPr/>
              </p:nvSpPr>
              <p:spPr>
                <a:xfrm>
                  <a:off x="2646360" y="4966560"/>
                  <a:ext cx="352440" cy="690480"/>
                </a:xfrm>
                <a:custGeom>
                  <a:avLst/>
                  <a:gdLst>
                    <a:gd name="textAreaLeft" fmla="*/ 0 w 352440"/>
                    <a:gd name="textAreaRight" fmla="*/ 352800 w 352440"/>
                    <a:gd name="textAreaTop" fmla="*/ 0 h 690480"/>
                    <a:gd name="textAreaBottom" fmla="*/ 690840 h 690480"/>
                  </a:gdLst>
                  <a:ahLst/>
                  <a:rect l="textAreaLeft" t="textAreaTop" r="textAreaRight" b="textAreaBottom"/>
                  <a:pathLst>
                    <a:path w="446" h="871">
                      <a:moveTo>
                        <a:pt x="0" y="0"/>
                      </a:moveTo>
                      <a:lnTo>
                        <a:pt x="44" y="24"/>
                      </a:lnTo>
                      <a:lnTo>
                        <a:pt x="92" y="40"/>
                      </a:lnTo>
                      <a:lnTo>
                        <a:pt x="150" y="52"/>
                      </a:lnTo>
                      <a:lnTo>
                        <a:pt x="212" y="64"/>
                      </a:lnTo>
                      <a:lnTo>
                        <a:pt x="254" y="60"/>
                      </a:lnTo>
                      <a:lnTo>
                        <a:pt x="302" y="48"/>
                      </a:lnTo>
                      <a:lnTo>
                        <a:pt x="342" y="34"/>
                      </a:lnTo>
                      <a:lnTo>
                        <a:pt x="386" y="6"/>
                      </a:lnTo>
                      <a:lnTo>
                        <a:pt x="432" y="213"/>
                      </a:lnTo>
                      <a:lnTo>
                        <a:pt x="440" y="345"/>
                      </a:lnTo>
                      <a:lnTo>
                        <a:pt x="446" y="404"/>
                      </a:lnTo>
                      <a:lnTo>
                        <a:pt x="446" y="518"/>
                      </a:lnTo>
                      <a:lnTo>
                        <a:pt x="440" y="614"/>
                      </a:lnTo>
                      <a:lnTo>
                        <a:pt x="426" y="729"/>
                      </a:lnTo>
                      <a:lnTo>
                        <a:pt x="404" y="835"/>
                      </a:lnTo>
                      <a:lnTo>
                        <a:pt x="110" y="871"/>
                      </a:lnTo>
                      <a:lnTo>
                        <a:pt x="68" y="490"/>
                      </a:lnTo>
                      <a:lnTo>
                        <a:pt x="36" y="23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07"/>
                <p:cNvSpPr/>
                <p:nvPr/>
              </p:nvSpPr>
              <p:spPr>
                <a:xfrm>
                  <a:off x="2695320" y="5142600"/>
                  <a:ext cx="301680" cy="523440"/>
                </a:xfrm>
                <a:custGeom>
                  <a:avLst/>
                  <a:gdLst>
                    <a:gd name="textAreaLeft" fmla="*/ 0 w 301680"/>
                    <a:gd name="textAreaRight" fmla="*/ 301680 w 301680"/>
                    <a:gd name="textAreaTop" fmla="*/ 0 h 523440"/>
                    <a:gd name="textAreaBottom" fmla="*/ 523800 h 523440"/>
                  </a:gdLst>
                  <a:ahLst/>
                  <a:rect l="textAreaLeft" t="textAreaTop" r="textAreaRight" b="textAreaBottom"/>
                  <a:pathLst>
                    <a:path w="382" h="662">
                      <a:moveTo>
                        <a:pt x="0" y="46"/>
                      </a:moveTo>
                      <a:lnTo>
                        <a:pt x="160" y="46"/>
                      </a:lnTo>
                      <a:lnTo>
                        <a:pt x="240" y="40"/>
                      </a:lnTo>
                      <a:lnTo>
                        <a:pt x="322" y="24"/>
                      </a:lnTo>
                      <a:lnTo>
                        <a:pt x="376" y="0"/>
                      </a:lnTo>
                      <a:lnTo>
                        <a:pt x="382" y="556"/>
                      </a:lnTo>
                      <a:lnTo>
                        <a:pt x="108" y="662"/>
                      </a:lnTo>
                      <a:lnTo>
                        <a:pt x="0" y="46"/>
                      </a:lnTo>
                      <a:close/>
                    </a:path>
                  </a:pathLst>
                </a:custGeom>
                <a:solidFill>
                  <a:srgbClr val="ffb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108"/>
              <p:cNvGrpSpPr/>
              <p:nvPr/>
            </p:nvGrpSpPr>
            <p:grpSpPr>
              <a:xfrm>
                <a:off x="2857320" y="4789080"/>
                <a:ext cx="711360" cy="867960"/>
                <a:chOff x="2857320" y="4789080"/>
                <a:chExt cx="711360" cy="867960"/>
              </a:xfrm>
            </p:grpSpPr>
            <p:sp>
              <p:nvSpPr>
                <p:cNvPr id="631" name="Freeform 109"/>
                <p:cNvSpPr/>
                <p:nvPr/>
              </p:nvSpPr>
              <p:spPr>
                <a:xfrm>
                  <a:off x="2857320" y="4789080"/>
                  <a:ext cx="711360" cy="867960"/>
                </a:xfrm>
                <a:custGeom>
                  <a:avLst/>
                  <a:gdLst>
                    <a:gd name="textAreaLeft" fmla="*/ 0 w 711360"/>
                    <a:gd name="textAreaRight" fmla="*/ 711720 w 711360"/>
                    <a:gd name="textAreaTop" fmla="*/ 0 h 867960"/>
                    <a:gd name="textAreaBottom" fmla="*/ 868320 h 867960"/>
                  </a:gdLst>
                  <a:ahLst/>
                  <a:rect l="textAreaLeft" t="textAreaTop" r="textAreaRight" b="textAreaBottom"/>
                  <a:pathLst>
                    <a:path w="894" h="1094">
                      <a:moveTo>
                        <a:pt x="36" y="0"/>
                      </a:moveTo>
                      <a:lnTo>
                        <a:pt x="90" y="24"/>
                      </a:lnTo>
                      <a:lnTo>
                        <a:pt x="150" y="90"/>
                      </a:lnTo>
                      <a:lnTo>
                        <a:pt x="367" y="167"/>
                      </a:lnTo>
                      <a:lnTo>
                        <a:pt x="427" y="203"/>
                      </a:lnTo>
                      <a:lnTo>
                        <a:pt x="493" y="323"/>
                      </a:lnTo>
                      <a:lnTo>
                        <a:pt x="493" y="400"/>
                      </a:lnTo>
                      <a:lnTo>
                        <a:pt x="505" y="460"/>
                      </a:lnTo>
                      <a:lnTo>
                        <a:pt x="541" y="562"/>
                      </a:lnTo>
                      <a:lnTo>
                        <a:pt x="643" y="735"/>
                      </a:lnTo>
                      <a:lnTo>
                        <a:pt x="715" y="855"/>
                      </a:lnTo>
                      <a:lnTo>
                        <a:pt x="792" y="956"/>
                      </a:lnTo>
                      <a:lnTo>
                        <a:pt x="894" y="1076"/>
                      </a:lnTo>
                      <a:lnTo>
                        <a:pt x="48" y="1094"/>
                      </a:lnTo>
                      <a:lnTo>
                        <a:pt x="102" y="980"/>
                      </a:lnTo>
                      <a:lnTo>
                        <a:pt x="126" y="896"/>
                      </a:lnTo>
                      <a:lnTo>
                        <a:pt x="138" y="747"/>
                      </a:lnTo>
                      <a:lnTo>
                        <a:pt x="132" y="496"/>
                      </a:lnTo>
                      <a:lnTo>
                        <a:pt x="108" y="311"/>
                      </a:lnTo>
                      <a:lnTo>
                        <a:pt x="72" y="179"/>
                      </a:lnTo>
                      <a:lnTo>
                        <a:pt x="0" y="60"/>
                      </a:lnTo>
                      <a:lnTo>
                        <a:pt x="36"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10"/>
                <p:cNvSpPr/>
                <p:nvPr/>
              </p:nvSpPr>
              <p:spPr>
                <a:xfrm>
                  <a:off x="3036960" y="4898160"/>
                  <a:ext cx="152280" cy="455040"/>
                </a:xfrm>
                <a:custGeom>
                  <a:avLst/>
                  <a:gdLst>
                    <a:gd name="textAreaLeft" fmla="*/ 0 w 152280"/>
                    <a:gd name="textAreaRight" fmla="*/ 152640 w 152280"/>
                    <a:gd name="textAreaTop" fmla="*/ 0 h 455040"/>
                    <a:gd name="textAreaBottom" fmla="*/ 455400 h 455040"/>
                  </a:gdLst>
                  <a:ahLst/>
                  <a:rect l="textAreaLeft" t="textAreaTop" r="textAreaRight" b="textAreaBottom"/>
                  <a:pathLst>
                    <a:path w="191" h="574">
                      <a:moveTo>
                        <a:pt x="0" y="0"/>
                      </a:moveTo>
                      <a:lnTo>
                        <a:pt x="71" y="54"/>
                      </a:lnTo>
                      <a:lnTo>
                        <a:pt x="109" y="114"/>
                      </a:lnTo>
                      <a:lnTo>
                        <a:pt x="133" y="174"/>
                      </a:lnTo>
                      <a:lnTo>
                        <a:pt x="155" y="239"/>
                      </a:lnTo>
                      <a:lnTo>
                        <a:pt x="179" y="317"/>
                      </a:lnTo>
                      <a:lnTo>
                        <a:pt x="191" y="401"/>
                      </a:lnTo>
                      <a:lnTo>
                        <a:pt x="191" y="508"/>
                      </a:lnTo>
                      <a:lnTo>
                        <a:pt x="179" y="574"/>
                      </a:lnTo>
                      <a:lnTo>
                        <a:pt x="161" y="449"/>
                      </a:lnTo>
                      <a:lnTo>
                        <a:pt x="145" y="373"/>
                      </a:lnTo>
                      <a:lnTo>
                        <a:pt x="119" y="329"/>
                      </a:lnTo>
                      <a:lnTo>
                        <a:pt x="85" y="307"/>
                      </a:lnTo>
                      <a:lnTo>
                        <a:pt x="103" y="263"/>
                      </a:lnTo>
                      <a:lnTo>
                        <a:pt x="109" y="194"/>
                      </a:lnTo>
                      <a:lnTo>
                        <a:pt x="83" y="132"/>
                      </a:lnTo>
                      <a:lnTo>
                        <a:pt x="47" y="66"/>
                      </a:lnTo>
                      <a:lnTo>
                        <a:pt x="0"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Freeform 111"/>
              <p:cNvSpPr/>
              <p:nvPr/>
            </p:nvSpPr>
            <p:spPr>
              <a:xfrm>
                <a:off x="2795400" y="5538240"/>
                <a:ext cx="206640" cy="167760"/>
              </a:xfrm>
              <a:custGeom>
                <a:avLst/>
                <a:gdLst>
                  <a:gd name="textAreaLeft" fmla="*/ 0 w 206640"/>
                  <a:gd name="textAreaRight" fmla="*/ 207000 w 206640"/>
                  <a:gd name="textAreaTop" fmla="*/ 0 h 167760"/>
                  <a:gd name="textAreaBottom" fmla="*/ 168120 h 167760"/>
                </a:gdLst>
                <a:ahLst/>
                <a:rect l="textAreaLeft" t="textAreaTop" r="textAreaRight" b="textAreaBottom"/>
                <a:pathLst>
                  <a:path w="262" h="213">
                    <a:moveTo>
                      <a:pt x="222" y="36"/>
                    </a:moveTo>
                    <a:lnTo>
                      <a:pt x="180" y="0"/>
                    </a:lnTo>
                    <a:lnTo>
                      <a:pt x="118" y="16"/>
                    </a:lnTo>
                    <a:lnTo>
                      <a:pt x="66" y="36"/>
                    </a:lnTo>
                    <a:lnTo>
                      <a:pt x="12" y="58"/>
                    </a:lnTo>
                    <a:lnTo>
                      <a:pt x="0" y="78"/>
                    </a:lnTo>
                    <a:lnTo>
                      <a:pt x="30" y="106"/>
                    </a:lnTo>
                    <a:lnTo>
                      <a:pt x="40" y="142"/>
                    </a:lnTo>
                    <a:lnTo>
                      <a:pt x="64" y="168"/>
                    </a:lnTo>
                    <a:lnTo>
                      <a:pt x="88" y="184"/>
                    </a:lnTo>
                    <a:lnTo>
                      <a:pt x="124" y="195"/>
                    </a:lnTo>
                    <a:lnTo>
                      <a:pt x="150" y="213"/>
                    </a:lnTo>
                    <a:lnTo>
                      <a:pt x="192" y="213"/>
                    </a:lnTo>
                    <a:lnTo>
                      <a:pt x="214" y="213"/>
                    </a:lnTo>
                    <a:lnTo>
                      <a:pt x="228" y="195"/>
                    </a:lnTo>
                    <a:lnTo>
                      <a:pt x="226" y="166"/>
                    </a:lnTo>
                    <a:lnTo>
                      <a:pt x="262" y="168"/>
                    </a:lnTo>
                    <a:lnTo>
                      <a:pt x="222" y="154"/>
                    </a:lnTo>
                    <a:lnTo>
                      <a:pt x="214" y="118"/>
                    </a:lnTo>
                    <a:lnTo>
                      <a:pt x="216" y="94"/>
                    </a:lnTo>
                    <a:lnTo>
                      <a:pt x="214" y="76"/>
                    </a:lnTo>
                    <a:lnTo>
                      <a:pt x="222" y="36"/>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12"/>
              <p:cNvSpPr/>
              <p:nvPr/>
            </p:nvSpPr>
            <p:spPr>
              <a:xfrm>
                <a:off x="2504880" y="5782680"/>
                <a:ext cx="100080" cy="122040"/>
              </a:xfrm>
              <a:custGeom>
                <a:avLst/>
                <a:gdLst>
                  <a:gd name="textAreaLeft" fmla="*/ 0 w 100080"/>
                  <a:gd name="textAreaRight" fmla="*/ 100440 w 100080"/>
                  <a:gd name="textAreaTop" fmla="*/ 0 h 122040"/>
                  <a:gd name="textAreaBottom" fmla="*/ 122400 h 122040"/>
                </a:gdLst>
                <a:ahLst/>
                <a:rect l="textAreaLeft" t="textAreaTop" r="textAreaRight" b="textAreaBottom"/>
                <a:pathLst>
                  <a:path w="126" h="153">
                    <a:moveTo>
                      <a:pt x="126" y="0"/>
                    </a:moveTo>
                    <a:lnTo>
                      <a:pt x="30" y="153"/>
                    </a:lnTo>
                    <a:lnTo>
                      <a:pt x="0" y="44"/>
                    </a:lnTo>
                    <a:lnTo>
                      <a:pt x="12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113"/>
              <p:cNvGrpSpPr/>
              <p:nvPr/>
            </p:nvGrpSpPr>
            <p:grpSpPr>
              <a:xfrm>
                <a:off x="2087640" y="4735080"/>
                <a:ext cx="718920" cy="1205640"/>
                <a:chOff x="2087640" y="4735080"/>
                <a:chExt cx="718920" cy="1205640"/>
              </a:xfrm>
            </p:grpSpPr>
            <p:sp>
              <p:nvSpPr>
                <p:cNvPr id="636" name="Freeform 114"/>
                <p:cNvSpPr/>
                <p:nvPr/>
              </p:nvSpPr>
              <p:spPr>
                <a:xfrm>
                  <a:off x="2087640" y="4735080"/>
                  <a:ext cx="718920" cy="1196640"/>
                </a:xfrm>
                <a:custGeom>
                  <a:avLst/>
                  <a:gdLst>
                    <a:gd name="textAreaLeft" fmla="*/ 0 w 718920"/>
                    <a:gd name="textAreaRight" fmla="*/ 718920 w 718920"/>
                    <a:gd name="textAreaTop" fmla="*/ 0 h 1196640"/>
                    <a:gd name="textAreaBottom" fmla="*/ 1197000 h 1196640"/>
                  </a:gdLst>
                  <a:ahLst/>
                  <a:rect l="textAreaLeft" t="textAreaTop" r="textAreaRight" b="textAreaBottom"/>
                  <a:pathLst>
                    <a:path w="904" h="1508">
                      <a:moveTo>
                        <a:pt x="700" y="18"/>
                      </a:moveTo>
                      <a:lnTo>
                        <a:pt x="575" y="0"/>
                      </a:lnTo>
                      <a:lnTo>
                        <a:pt x="485" y="6"/>
                      </a:lnTo>
                      <a:lnTo>
                        <a:pt x="383" y="18"/>
                      </a:lnTo>
                      <a:lnTo>
                        <a:pt x="329" y="30"/>
                      </a:lnTo>
                      <a:lnTo>
                        <a:pt x="299" y="66"/>
                      </a:lnTo>
                      <a:lnTo>
                        <a:pt x="263" y="60"/>
                      </a:lnTo>
                      <a:lnTo>
                        <a:pt x="209" y="102"/>
                      </a:lnTo>
                      <a:lnTo>
                        <a:pt x="167" y="150"/>
                      </a:lnTo>
                      <a:lnTo>
                        <a:pt x="138" y="197"/>
                      </a:lnTo>
                      <a:lnTo>
                        <a:pt x="102" y="257"/>
                      </a:lnTo>
                      <a:lnTo>
                        <a:pt x="84" y="323"/>
                      </a:lnTo>
                      <a:lnTo>
                        <a:pt x="66" y="436"/>
                      </a:lnTo>
                      <a:lnTo>
                        <a:pt x="54" y="514"/>
                      </a:lnTo>
                      <a:lnTo>
                        <a:pt x="54" y="640"/>
                      </a:lnTo>
                      <a:lnTo>
                        <a:pt x="78" y="723"/>
                      </a:lnTo>
                      <a:lnTo>
                        <a:pt x="72" y="783"/>
                      </a:lnTo>
                      <a:lnTo>
                        <a:pt x="54" y="939"/>
                      </a:lnTo>
                      <a:lnTo>
                        <a:pt x="36" y="1004"/>
                      </a:lnTo>
                      <a:lnTo>
                        <a:pt x="30" y="1076"/>
                      </a:lnTo>
                      <a:lnTo>
                        <a:pt x="12" y="1124"/>
                      </a:lnTo>
                      <a:lnTo>
                        <a:pt x="0" y="1178"/>
                      </a:lnTo>
                      <a:lnTo>
                        <a:pt x="6" y="1237"/>
                      </a:lnTo>
                      <a:lnTo>
                        <a:pt x="30" y="1291"/>
                      </a:lnTo>
                      <a:lnTo>
                        <a:pt x="78" y="1339"/>
                      </a:lnTo>
                      <a:lnTo>
                        <a:pt x="162" y="1417"/>
                      </a:lnTo>
                      <a:lnTo>
                        <a:pt x="209" y="1435"/>
                      </a:lnTo>
                      <a:lnTo>
                        <a:pt x="269" y="1453"/>
                      </a:lnTo>
                      <a:lnTo>
                        <a:pt x="317" y="1472"/>
                      </a:lnTo>
                      <a:lnTo>
                        <a:pt x="359" y="1496"/>
                      </a:lnTo>
                      <a:lnTo>
                        <a:pt x="557" y="1508"/>
                      </a:lnTo>
                      <a:lnTo>
                        <a:pt x="689" y="1333"/>
                      </a:lnTo>
                      <a:lnTo>
                        <a:pt x="736" y="1172"/>
                      </a:lnTo>
                      <a:lnTo>
                        <a:pt x="904" y="1172"/>
                      </a:lnTo>
                      <a:lnTo>
                        <a:pt x="892" y="939"/>
                      </a:lnTo>
                      <a:lnTo>
                        <a:pt x="862" y="676"/>
                      </a:lnTo>
                      <a:lnTo>
                        <a:pt x="808" y="347"/>
                      </a:lnTo>
                      <a:lnTo>
                        <a:pt x="778" y="197"/>
                      </a:lnTo>
                      <a:lnTo>
                        <a:pt x="700" y="18"/>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5"/>
                <p:cNvSpPr/>
                <p:nvPr/>
              </p:nvSpPr>
              <p:spPr>
                <a:xfrm>
                  <a:off x="2309760" y="5542560"/>
                  <a:ext cx="323640" cy="398160"/>
                </a:xfrm>
                <a:custGeom>
                  <a:avLst/>
                  <a:gdLst>
                    <a:gd name="textAreaLeft" fmla="*/ 0 w 323640"/>
                    <a:gd name="textAreaRight" fmla="*/ 324000 w 323640"/>
                    <a:gd name="textAreaTop" fmla="*/ 0 h 398160"/>
                    <a:gd name="textAreaBottom" fmla="*/ 398520 h 398160"/>
                  </a:gdLst>
                  <a:ahLst/>
                  <a:rect l="textAreaLeft" t="textAreaTop" r="textAreaRight" b="textAreaBottom"/>
                  <a:pathLst>
                    <a:path w="408" h="502">
                      <a:moveTo>
                        <a:pt x="384" y="24"/>
                      </a:moveTo>
                      <a:lnTo>
                        <a:pt x="238" y="12"/>
                      </a:lnTo>
                      <a:lnTo>
                        <a:pt x="84" y="0"/>
                      </a:lnTo>
                      <a:lnTo>
                        <a:pt x="58" y="36"/>
                      </a:lnTo>
                      <a:lnTo>
                        <a:pt x="46" y="64"/>
                      </a:lnTo>
                      <a:lnTo>
                        <a:pt x="28" y="100"/>
                      </a:lnTo>
                      <a:lnTo>
                        <a:pt x="12" y="154"/>
                      </a:lnTo>
                      <a:lnTo>
                        <a:pt x="4" y="201"/>
                      </a:lnTo>
                      <a:lnTo>
                        <a:pt x="0" y="245"/>
                      </a:lnTo>
                      <a:lnTo>
                        <a:pt x="6" y="299"/>
                      </a:lnTo>
                      <a:lnTo>
                        <a:pt x="24" y="369"/>
                      </a:lnTo>
                      <a:lnTo>
                        <a:pt x="42" y="425"/>
                      </a:lnTo>
                      <a:lnTo>
                        <a:pt x="46" y="474"/>
                      </a:lnTo>
                      <a:lnTo>
                        <a:pt x="292" y="502"/>
                      </a:lnTo>
                      <a:lnTo>
                        <a:pt x="396" y="327"/>
                      </a:lnTo>
                      <a:lnTo>
                        <a:pt x="408" y="281"/>
                      </a:lnTo>
                      <a:lnTo>
                        <a:pt x="384" y="24"/>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16"/>
                <p:cNvSpPr/>
                <p:nvPr/>
              </p:nvSpPr>
              <p:spPr>
                <a:xfrm>
                  <a:off x="2163600" y="4813920"/>
                  <a:ext cx="304920" cy="765000"/>
                </a:xfrm>
                <a:custGeom>
                  <a:avLst/>
                  <a:gdLst>
                    <a:gd name="textAreaLeft" fmla="*/ 0 w 304920"/>
                    <a:gd name="textAreaRight" fmla="*/ 305280 w 304920"/>
                    <a:gd name="textAreaTop" fmla="*/ 0 h 765000"/>
                    <a:gd name="textAreaBottom" fmla="*/ 765360 h 765000"/>
                  </a:gdLst>
                  <a:ahLst/>
                  <a:rect l="textAreaLeft" t="textAreaTop" r="textAreaRight" b="textAreaBottom"/>
                  <a:pathLst>
                    <a:path w="383" h="962">
                      <a:moveTo>
                        <a:pt x="239" y="0"/>
                      </a:moveTo>
                      <a:lnTo>
                        <a:pt x="311" y="119"/>
                      </a:lnTo>
                      <a:lnTo>
                        <a:pt x="353" y="245"/>
                      </a:lnTo>
                      <a:lnTo>
                        <a:pt x="377" y="394"/>
                      </a:lnTo>
                      <a:lnTo>
                        <a:pt x="383" y="562"/>
                      </a:lnTo>
                      <a:lnTo>
                        <a:pt x="377" y="759"/>
                      </a:lnTo>
                      <a:lnTo>
                        <a:pt x="359" y="842"/>
                      </a:lnTo>
                      <a:lnTo>
                        <a:pt x="263" y="914"/>
                      </a:lnTo>
                      <a:lnTo>
                        <a:pt x="215" y="884"/>
                      </a:lnTo>
                      <a:lnTo>
                        <a:pt x="167" y="872"/>
                      </a:lnTo>
                      <a:lnTo>
                        <a:pt x="125" y="884"/>
                      </a:lnTo>
                      <a:lnTo>
                        <a:pt x="95" y="926"/>
                      </a:lnTo>
                      <a:lnTo>
                        <a:pt x="42" y="950"/>
                      </a:lnTo>
                      <a:lnTo>
                        <a:pt x="0" y="962"/>
                      </a:lnTo>
                      <a:lnTo>
                        <a:pt x="66" y="902"/>
                      </a:lnTo>
                      <a:lnTo>
                        <a:pt x="107" y="884"/>
                      </a:lnTo>
                      <a:lnTo>
                        <a:pt x="137" y="854"/>
                      </a:lnTo>
                      <a:lnTo>
                        <a:pt x="173" y="854"/>
                      </a:lnTo>
                      <a:lnTo>
                        <a:pt x="215" y="813"/>
                      </a:lnTo>
                      <a:lnTo>
                        <a:pt x="173" y="765"/>
                      </a:lnTo>
                      <a:lnTo>
                        <a:pt x="233" y="777"/>
                      </a:lnTo>
                      <a:lnTo>
                        <a:pt x="191" y="639"/>
                      </a:lnTo>
                      <a:lnTo>
                        <a:pt x="155" y="526"/>
                      </a:lnTo>
                      <a:lnTo>
                        <a:pt x="143" y="446"/>
                      </a:lnTo>
                      <a:lnTo>
                        <a:pt x="161" y="328"/>
                      </a:lnTo>
                      <a:lnTo>
                        <a:pt x="191" y="460"/>
                      </a:lnTo>
                      <a:lnTo>
                        <a:pt x="251" y="609"/>
                      </a:lnTo>
                      <a:lnTo>
                        <a:pt x="323" y="771"/>
                      </a:lnTo>
                      <a:lnTo>
                        <a:pt x="323" y="550"/>
                      </a:lnTo>
                      <a:lnTo>
                        <a:pt x="311" y="400"/>
                      </a:lnTo>
                      <a:lnTo>
                        <a:pt x="293" y="179"/>
                      </a:lnTo>
                      <a:lnTo>
                        <a:pt x="239"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Freeform 117"/>
              <p:cNvSpPr/>
              <p:nvPr/>
            </p:nvSpPr>
            <p:spPr>
              <a:xfrm>
                <a:off x="2927160" y="5236560"/>
                <a:ext cx="885960" cy="483840"/>
              </a:xfrm>
              <a:custGeom>
                <a:avLst/>
                <a:gdLst>
                  <a:gd name="textAreaLeft" fmla="*/ 0 w 885960"/>
                  <a:gd name="textAreaRight" fmla="*/ 886320 w 885960"/>
                  <a:gd name="textAreaTop" fmla="*/ 0 h 483840"/>
                  <a:gd name="textAreaBottom" fmla="*/ 484200 h 483840"/>
                </a:gdLst>
                <a:ahLst/>
                <a:rect l="textAreaLeft" t="textAreaTop" r="textAreaRight" b="textAreaBottom"/>
                <a:pathLst>
                  <a:path w="1116" h="609">
                    <a:moveTo>
                      <a:pt x="0" y="496"/>
                    </a:moveTo>
                    <a:lnTo>
                      <a:pt x="431" y="0"/>
                    </a:lnTo>
                    <a:lnTo>
                      <a:pt x="1116" y="189"/>
                    </a:lnTo>
                    <a:lnTo>
                      <a:pt x="834" y="544"/>
                    </a:lnTo>
                    <a:lnTo>
                      <a:pt x="659" y="583"/>
                    </a:lnTo>
                    <a:lnTo>
                      <a:pt x="479" y="609"/>
                    </a:lnTo>
                    <a:lnTo>
                      <a:pt x="90" y="585"/>
                    </a:lnTo>
                    <a:lnTo>
                      <a:pt x="0" y="496"/>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18"/>
              <p:cNvSpPr/>
              <p:nvPr/>
            </p:nvSpPr>
            <p:spPr>
              <a:xfrm>
                <a:off x="2490840" y="5522400"/>
                <a:ext cx="757080" cy="317160"/>
              </a:xfrm>
              <a:custGeom>
                <a:avLst/>
                <a:gdLst>
                  <a:gd name="textAreaLeft" fmla="*/ 0 w 757080"/>
                  <a:gd name="textAreaRight" fmla="*/ 757440 w 757080"/>
                  <a:gd name="textAreaTop" fmla="*/ 0 h 317160"/>
                  <a:gd name="textAreaBottom" fmla="*/ 317520 h 317160"/>
                </a:gdLst>
                <a:ahLst/>
                <a:rect l="textAreaLeft" t="textAreaTop" r="textAreaRight" b="textAreaBottom"/>
                <a:pathLst>
                  <a:path w="954" h="401">
                    <a:moveTo>
                      <a:pt x="52" y="98"/>
                    </a:moveTo>
                    <a:lnTo>
                      <a:pt x="407" y="50"/>
                    </a:lnTo>
                    <a:lnTo>
                      <a:pt x="483" y="20"/>
                    </a:lnTo>
                    <a:lnTo>
                      <a:pt x="521" y="6"/>
                    </a:lnTo>
                    <a:lnTo>
                      <a:pt x="561" y="0"/>
                    </a:lnTo>
                    <a:lnTo>
                      <a:pt x="615" y="8"/>
                    </a:lnTo>
                    <a:lnTo>
                      <a:pt x="675" y="20"/>
                    </a:lnTo>
                    <a:lnTo>
                      <a:pt x="718" y="26"/>
                    </a:lnTo>
                    <a:lnTo>
                      <a:pt x="804" y="36"/>
                    </a:lnTo>
                    <a:lnTo>
                      <a:pt x="846" y="38"/>
                    </a:lnTo>
                    <a:lnTo>
                      <a:pt x="880" y="44"/>
                    </a:lnTo>
                    <a:lnTo>
                      <a:pt x="916" y="50"/>
                    </a:lnTo>
                    <a:lnTo>
                      <a:pt x="946" y="62"/>
                    </a:lnTo>
                    <a:lnTo>
                      <a:pt x="954" y="78"/>
                    </a:lnTo>
                    <a:lnTo>
                      <a:pt x="940" y="92"/>
                    </a:lnTo>
                    <a:lnTo>
                      <a:pt x="880" y="96"/>
                    </a:lnTo>
                    <a:lnTo>
                      <a:pt x="856" y="98"/>
                    </a:lnTo>
                    <a:lnTo>
                      <a:pt x="852" y="140"/>
                    </a:lnTo>
                    <a:lnTo>
                      <a:pt x="838" y="156"/>
                    </a:lnTo>
                    <a:lnTo>
                      <a:pt x="828" y="158"/>
                    </a:lnTo>
                    <a:lnTo>
                      <a:pt x="820" y="186"/>
                    </a:lnTo>
                    <a:lnTo>
                      <a:pt x="802" y="206"/>
                    </a:lnTo>
                    <a:lnTo>
                      <a:pt x="780" y="215"/>
                    </a:lnTo>
                    <a:lnTo>
                      <a:pt x="766" y="233"/>
                    </a:lnTo>
                    <a:lnTo>
                      <a:pt x="748" y="241"/>
                    </a:lnTo>
                    <a:lnTo>
                      <a:pt x="693" y="271"/>
                    </a:lnTo>
                    <a:lnTo>
                      <a:pt x="663" y="283"/>
                    </a:lnTo>
                    <a:lnTo>
                      <a:pt x="575" y="287"/>
                    </a:lnTo>
                    <a:lnTo>
                      <a:pt x="509" y="281"/>
                    </a:lnTo>
                    <a:lnTo>
                      <a:pt x="471" y="263"/>
                    </a:lnTo>
                    <a:lnTo>
                      <a:pt x="453" y="257"/>
                    </a:lnTo>
                    <a:lnTo>
                      <a:pt x="419" y="263"/>
                    </a:lnTo>
                    <a:lnTo>
                      <a:pt x="363" y="269"/>
                    </a:lnTo>
                    <a:lnTo>
                      <a:pt x="315" y="277"/>
                    </a:lnTo>
                    <a:lnTo>
                      <a:pt x="114" y="353"/>
                    </a:lnTo>
                    <a:lnTo>
                      <a:pt x="28" y="401"/>
                    </a:lnTo>
                    <a:lnTo>
                      <a:pt x="4" y="317"/>
                    </a:lnTo>
                    <a:lnTo>
                      <a:pt x="0" y="265"/>
                    </a:lnTo>
                    <a:lnTo>
                      <a:pt x="0" y="223"/>
                    </a:lnTo>
                    <a:lnTo>
                      <a:pt x="16" y="168"/>
                    </a:lnTo>
                    <a:lnTo>
                      <a:pt x="52" y="9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1" name="Group 119"/>
              <p:cNvGrpSpPr/>
              <p:nvPr/>
            </p:nvGrpSpPr>
            <p:grpSpPr>
              <a:xfrm>
                <a:off x="2344680" y="3922560"/>
                <a:ext cx="833400" cy="1115280"/>
                <a:chOff x="2344680" y="3922560"/>
                <a:chExt cx="833400" cy="1115280"/>
              </a:xfrm>
            </p:grpSpPr>
            <p:grpSp>
              <p:nvGrpSpPr>
                <p:cNvPr id="642" name="Group 120"/>
                <p:cNvGrpSpPr/>
                <p:nvPr/>
              </p:nvGrpSpPr>
              <p:grpSpPr>
                <a:xfrm>
                  <a:off x="3093840" y="4223880"/>
                  <a:ext cx="73080" cy="199440"/>
                  <a:chOff x="3093840" y="4223880"/>
                  <a:chExt cx="73080" cy="199440"/>
                </a:xfrm>
              </p:grpSpPr>
              <p:sp>
                <p:nvSpPr>
                  <p:cNvPr id="643" name="Oval 121"/>
                  <p:cNvSpPr/>
                  <p:nvPr/>
                </p:nvSpPr>
                <p:spPr>
                  <a:xfrm>
                    <a:off x="3093840" y="4223880"/>
                    <a:ext cx="73080" cy="1994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22"/>
                  <p:cNvSpPr/>
                  <p:nvPr/>
                </p:nvSpPr>
                <p:spPr>
                  <a:xfrm>
                    <a:off x="3100320" y="4228200"/>
                    <a:ext cx="65160" cy="19008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5" name="Group 123"/>
                <p:cNvGrpSpPr/>
                <p:nvPr/>
              </p:nvGrpSpPr>
              <p:grpSpPr>
                <a:xfrm>
                  <a:off x="2344680" y="3922560"/>
                  <a:ext cx="833400" cy="1115280"/>
                  <a:chOff x="2344680" y="3922560"/>
                  <a:chExt cx="833400" cy="1115280"/>
                </a:xfrm>
              </p:grpSpPr>
              <p:grpSp>
                <p:nvGrpSpPr>
                  <p:cNvPr id="646" name="Group 124"/>
                  <p:cNvGrpSpPr/>
                  <p:nvPr/>
                </p:nvGrpSpPr>
                <p:grpSpPr>
                  <a:xfrm>
                    <a:off x="2538360" y="3992040"/>
                    <a:ext cx="639720" cy="1045800"/>
                    <a:chOff x="2538360" y="3992040"/>
                    <a:chExt cx="639720" cy="1045800"/>
                  </a:xfrm>
                </p:grpSpPr>
                <p:sp>
                  <p:nvSpPr>
                    <p:cNvPr id="647" name="Freeform 125"/>
                    <p:cNvSpPr/>
                    <p:nvPr/>
                  </p:nvSpPr>
                  <p:spPr>
                    <a:xfrm>
                      <a:off x="2538360" y="3992040"/>
                      <a:ext cx="639720" cy="1045800"/>
                    </a:xfrm>
                    <a:custGeom>
                      <a:avLst/>
                      <a:gdLst>
                        <a:gd name="textAreaLeft" fmla="*/ 0 w 639720"/>
                        <a:gd name="textAreaRight" fmla="*/ 640080 w 639720"/>
                        <a:gd name="textAreaTop" fmla="*/ 0 h 1045800"/>
                        <a:gd name="textAreaBottom" fmla="*/ 1046160 h 1045800"/>
                      </a:gdLst>
                      <a:ahLst/>
                      <a:rect l="textAreaLeft" t="textAreaTop" r="textAreaRight" b="textAreaBottom"/>
                      <a:pathLst>
                        <a:path w="806" h="1317">
                          <a:moveTo>
                            <a:pt x="521" y="24"/>
                          </a:moveTo>
                          <a:lnTo>
                            <a:pt x="589" y="48"/>
                          </a:lnTo>
                          <a:lnTo>
                            <a:pt x="629" y="73"/>
                          </a:lnTo>
                          <a:lnTo>
                            <a:pt x="658" y="107"/>
                          </a:lnTo>
                          <a:lnTo>
                            <a:pt x="676" y="145"/>
                          </a:lnTo>
                          <a:lnTo>
                            <a:pt x="690" y="187"/>
                          </a:lnTo>
                          <a:lnTo>
                            <a:pt x="700" y="229"/>
                          </a:lnTo>
                          <a:lnTo>
                            <a:pt x="712" y="289"/>
                          </a:lnTo>
                          <a:lnTo>
                            <a:pt x="718" y="348"/>
                          </a:lnTo>
                          <a:lnTo>
                            <a:pt x="710" y="384"/>
                          </a:lnTo>
                          <a:lnTo>
                            <a:pt x="706" y="420"/>
                          </a:lnTo>
                          <a:lnTo>
                            <a:pt x="724" y="456"/>
                          </a:lnTo>
                          <a:lnTo>
                            <a:pt x="778" y="514"/>
                          </a:lnTo>
                          <a:lnTo>
                            <a:pt x="792" y="530"/>
                          </a:lnTo>
                          <a:lnTo>
                            <a:pt x="804" y="546"/>
                          </a:lnTo>
                          <a:lnTo>
                            <a:pt x="806" y="560"/>
                          </a:lnTo>
                          <a:lnTo>
                            <a:pt x="800" y="572"/>
                          </a:lnTo>
                          <a:lnTo>
                            <a:pt x="786" y="580"/>
                          </a:lnTo>
                          <a:lnTo>
                            <a:pt x="760" y="587"/>
                          </a:lnTo>
                          <a:lnTo>
                            <a:pt x="750" y="597"/>
                          </a:lnTo>
                          <a:lnTo>
                            <a:pt x="760" y="621"/>
                          </a:lnTo>
                          <a:lnTo>
                            <a:pt x="758" y="635"/>
                          </a:lnTo>
                          <a:lnTo>
                            <a:pt x="748" y="647"/>
                          </a:lnTo>
                          <a:lnTo>
                            <a:pt x="726" y="659"/>
                          </a:lnTo>
                          <a:lnTo>
                            <a:pt x="696" y="673"/>
                          </a:lnTo>
                          <a:lnTo>
                            <a:pt x="678" y="679"/>
                          </a:lnTo>
                          <a:lnTo>
                            <a:pt x="742" y="695"/>
                          </a:lnTo>
                          <a:lnTo>
                            <a:pt x="750" y="707"/>
                          </a:lnTo>
                          <a:lnTo>
                            <a:pt x="734" y="733"/>
                          </a:lnTo>
                          <a:lnTo>
                            <a:pt x="732" y="769"/>
                          </a:lnTo>
                          <a:lnTo>
                            <a:pt x="732" y="821"/>
                          </a:lnTo>
                          <a:lnTo>
                            <a:pt x="732" y="840"/>
                          </a:lnTo>
                          <a:lnTo>
                            <a:pt x="724" y="856"/>
                          </a:lnTo>
                          <a:lnTo>
                            <a:pt x="706" y="870"/>
                          </a:lnTo>
                          <a:lnTo>
                            <a:pt x="678" y="878"/>
                          </a:lnTo>
                          <a:lnTo>
                            <a:pt x="648" y="886"/>
                          </a:lnTo>
                          <a:lnTo>
                            <a:pt x="581" y="898"/>
                          </a:lnTo>
                          <a:lnTo>
                            <a:pt x="541" y="908"/>
                          </a:lnTo>
                          <a:lnTo>
                            <a:pt x="511" y="920"/>
                          </a:lnTo>
                          <a:lnTo>
                            <a:pt x="489" y="938"/>
                          </a:lnTo>
                          <a:lnTo>
                            <a:pt x="415" y="1042"/>
                          </a:lnTo>
                          <a:lnTo>
                            <a:pt x="525" y="1279"/>
                          </a:lnTo>
                          <a:lnTo>
                            <a:pt x="461" y="1297"/>
                          </a:lnTo>
                          <a:lnTo>
                            <a:pt x="363" y="1317"/>
                          </a:lnTo>
                          <a:lnTo>
                            <a:pt x="277" y="1313"/>
                          </a:lnTo>
                          <a:lnTo>
                            <a:pt x="227" y="1285"/>
                          </a:lnTo>
                          <a:lnTo>
                            <a:pt x="112" y="924"/>
                          </a:lnTo>
                          <a:lnTo>
                            <a:pt x="112" y="803"/>
                          </a:lnTo>
                          <a:lnTo>
                            <a:pt x="78" y="739"/>
                          </a:lnTo>
                          <a:lnTo>
                            <a:pt x="36" y="655"/>
                          </a:lnTo>
                          <a:lnTo>
                            <a:pt x="18" y="607"/>
                          </a:lnTo>
                          <a:lnTo>
                            <a:pt x="6" y="544"/>
                          </a:lnTo>
                          <a:lnTo>
                            <a:pt x="0" y="474"/>
                          </a:lnTo>
                          <a:lnTo>
                            <a:pt x="0" y="390"/>
                          </a:lnTo>
                          <a:lnTo>
                            <a:pt x="10" y="313"/>
                          </a:lnTo>
                          <a:lnTo>
                            <a:pt x="24" y="245"/>
                          </a:lnTo>
                          <a:lnTo>
                            <a:pt x="46" y="187"/>
                          </a:lnTo>
                          <a:lnTo>
                            <a:pt x="72" y="131"/>
                          </a:lnTo>
                          <a:lnTo>
                            <a:pt x="112" y="79"/>
                          </a:lnTo>
                          <a:lnTo>
                            <a:pt x="167" y="38"/>
                          </a:lnTo>
                          <a:lnTo>
                            <a:pt x="227" y="14"/>
                          </a:lnTo>
                          <a:lnTo>
                            <a:pt x="297" y="2"/>
                          </a:lnTo>
                          <a:lnTo>
                            <a:pt x="359" y="0"/>
                          </a:lnTo>
                          <a:lnTo>
                            <a:pt x="441" y="4"/>
                          </a:lnTo>
                          <a:lnTo>
                            <a:pt x="521" y="2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Group 126"/>
                    <p:cNvGrpSpPr/>
                    <p:nvPr/>
                  </p:nvGrpSpPr>
                  <p:grpSpPr>
                    <a:xfrm>
                      <a:off x="2805120" y="4601160"/>
                      <a:ext cx="296640" cy="385200"/>
                      <a:chOff x="2805120" y="4601160"/>
                      <a:chExt cx="296640" cy="385200"/>
                    </a:xfrm>
                  </p:grpSpPr>
                  <p:sp>
                    <p:nvSpPr>
                      <p:cNvPr id="649" name="Freeform 127"/>
                      <p:cNvSpPr/>
                      <p:nvPr/>
                    </p:nvSpPr>
                    <p:spPr>
                      <a:xfrm>
                        <a:off x="2808360" y="4601160"/>
                        <a:ext cx="293400" cy="137880"/>
                      </a:xfrm>
                      <a:custGeom>
                        <a:avLst/>
                        <a:gdLst>
                          <a:gd name="textAreaLeft" fmla="*/ 0 w 293400"/>
                          <a:gd name="textAreaRight" fmla="*/ 293760 w 293400"/>
                          <a:gd name="textAreaTop" fmla="*/ 0 h 137880"/>
                          <a:gd name="textAreaBottom" fmla="*/ 137880 h 137880"/>
                        </a:gdLst>
                        <a:ahLst/>
                        <a:rect l="textAreaLeft" t="textAreaTop" r="textAreaRight" b="textAreaBottom"/>
                        <a:pathLst>
                          <a:path w="371" h="173">
                            <a:moveTo>
                              <a:pt x="0" y="0"/>
                            </a:moveTo>
                            <a:lnTo>
                              <a:pt x="54" y="24"/>
                            </a:lnTo>
                            <a:lnTo>
                              <a:pt x="110" y="44"/>
                            </a:lnTo>
                            <a:lnTo>
                              <a:pt x="152" y="56"/>
                            </a:lnTo>
                            <a:lnTo>
                              <a:pt x="206" y="70"/>
                            </a:lnTo>
                            <a:lnTo>
                              <a:pt x="242" y="77"/>
                            </a:lnTo>
                            <a:lnTo>
                              <a:pt x="292" y="85"/>
                            </a:lnTo>
                            <a:lnTo>
                              <a:pt x="329" y="85"/>
                            </a:lnTo>
                            <a:lnTo>
                              <a:pt x="371" y="85"/>
                            </a:lnTo>
                            <a:lnTo>
                              <a:pt x="331" y="101"/>
                            </a:lnTo>
                            <a:lnTo>
                              <a:pt x="276" y="113"/>
                            </a:lnTo>
                            <a:lnTo>
                              <a:pt x="232" y="123"/>
                            </a:lnTo>
                            <a:lnTo>
                              <a:pt x="196" y="133"/>
                            </a:lnTo>
                            <a:lnTo>
                              <a:pt x="160" y="145"/>
                            </a:lnTo>
                            <a:lnTo>
                              <a:pt x="138" y="155"/>
                            </a:lnTo>
                            <a:lnTo>
                              <a:pt x="114" y="173"/>
                            </a:lnTo>
                            <a:lnTo>
                              <a:pt x="136" y="147"/>
                            </a:lnTo>
                            <a:lnTo>
                              <a:pt x="156" y="127"/>
                            </a:lnTo>
                            <a:lnTo>
                              <a:pt x="162" y="111"/>
                            </a:lnTo>
                            <a:lnTo>
                              <a:pt x="162" y="97"/>
                            </a:lnTo>
                            <a:lnTo>
                              <a:pt x="156" y="83"/>
                            </a:lnTo>
                            <a:lnTo>
                              <a:pt x="140" y="75"/>
                            </a:lnTo>
                            <a:lnTo>
                              <a:pt x="122" y="70"/>
                            </a:lnTo>
                            <a:lnTo>
                              <a:pt x="90" y="66"/>
                            </a:lnTo>
                            <a:lnTo>
                              <a:pt x="62" y="62"/>
                            </a:lnTo>
                            <a:lnTo>
                              <a:pt x="0" y="0"/>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28"/>
                      <p:cNvSpPr/>
                      <p:nvPr/>
                    </p:nvSpPr>
                    <p:spPr>
                      <a:xfrm>
                        <a:off x="2805120" y="4794480"/>
                        <a:ext cx="71280" cy="191880"/>
                      </a:xfrm>
                      <a:custGeom>
                        <a:avLst/>
                        <a:gdLst>
                          <a:gd name="textAreaLeft" fmla="*/ 0 w 71280"/>
                          <a:gd name="textAreaRight" fmla="*/ 71640 w 71280"/>
                          <a:gd name="textAreaTop" fmla="*/ 0 h 191880"/>
                          <a:gd name="textAreaBottom" fmla="*/ 192240 h 191880"/>
                        </a:gdLst>
                        <a:ahLst/>
                        <a:rect l="textAreaLeft" t="textAreaTop" r="textAreaRight" b="textAreaBottom"/>
                        <a:pathLst>
                          <a:path w="92" h="241">
                            <a:moveTo>
                              <a:pt x="52" y="28"/>
                            </a:moveTo>
                            <a:lnTo>
                              <a:pt x="52" y="10"/>
                            </a:lnTo>
                            <a:lnTo>
                              <a:pt x="46" y="2"/>
                            </a:lnTo>
                            <a:lnTo>
                              <a:pt x="32" y="0"/>
                            </a:lnTo>
                            <a:lnTo>
                              <a:pt x="18" y="8"/>
                            </a:lnTo>
                            <a:lnTo>
                              <a:pt x="8" y="22"/>
                            </a:lnTo>
                            <a:lnTo>
                              <a:pt x="0" y="40"/>
                            </a:lnTo>
                            <a:lnTo>
                              <a:pt x="0" y="64"/>
                            </a:lnTo>
                            <a:lnTo>
                              <a:pt x="2" y="137"/>
                            </a:lnTo>
                            <a:lnTo>
                              <a:pt x="8" y="167"/>
                            </a:lnTo>
                            <a:lnTo>
                              <a:pt x="16" y="183"/>
                            </a:lnTo>
                            <a:lnTo>
                              <a:pt x="76" y="241"/>
                            </a:lnTo>
                            <a:lnTo>
                              <a:pt x="92" y="183"/>
                            </a:lnTo>
                            <a:lnTo>
                              <a:pt x="64" y="143"/>
                            </a:lnTo>
                            <a:lnTo>
                              <a:pt x="68" y="171"/>
                            </a:lnTo>
                            <a:lnTo>
                              <a:pt x="70" y="195"/>
                            </a:lnTo>
                            <a:lnTo>
                              <a:pt x="68" y="203"/>
                            </a:lnTo>
                            <a:lnTo>
                              <a:pt x="22" y="151"/>
                            </a:lnTo>
                            <a:lnTo>
                              <a:pt x="20" y="131"/>
                            </a:lnTo>
                            <a:lnTo>
                              <a:pt x="16" y="103"/>
                            </a:lnTo>
                            <a:lnTo>
                              <a:pt x="26" y="72"/>
                            </a:lnTo>
                            <a:lnTo>
                              <a:pt x="38" y="46"/>
                            </a:lnTo>
                            <a:lnTo>
                              <a:pt x="52" y="28"/>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1" name="Freeform 129"/>
                  <p:cNvSpPr/>
                  <p:nvPr/>
                </p:nvSpPr>
                <p:spPr>
                  <a:xfrm>
                    <a:off x="2982960" y="4323600"/>
                    <a:ext cx="47520" cy="37800"/>
                  </a:xfrm>
                  <a:custGeom>
                    <a:avLst/>
                    <a:gdLst>
                      <a:gd name="textAreaLeft" fmla="*/ 0 w 47520"/>
                      <a:gd name="textAreaRight" fmla="*/ 47880 w 47520"/>
                      <a:gd name="textAreaTop" fmla="*/ 0 h 37800"/>
                      <a:gd name="textAreaBottom" fmla="*/ 38160 h 37800"/>
                    </a:gdLst>
                    <a:ahLst/>
                    <a:rect l="textAreaLeft" t="textAreaTop" r="textAreaRight" b="textAreaBottom"/>
                    <a:pathLst>
                      <a:path w="60" h="50">
                        <a:moveTo>
                          <a:pt x="52" y="0"/>
                        </a:moveTo>
                        <a:lnTo>
                          <a:pt x="28" y="10"/>
                        </a:lnTo>
                        <a:lnTo>
                          <a:pt x="0" y="30"/>
                        </a:lnTo>
                        <a:lnTo>
                          <a:pt x="20" y="44"/>
                        </a:lnTo>
                        <a:lnTo>
                          <a:pt x="50" y="50"/>
                        </a:lnTo>
                        <a:lnTo>
                          <a:pt x="60" y="48"/>
                        </a:lnTo>
                        <a:lnTo>
                          <a:pt x="5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2" name="Freeform 130"/>
                  <p:cNvSpPr/>
                  <p:nvPr/>
                </p:nvSpPr>
                <p:spPr>
                  <a:xfrm>
                    <a:off x="2963880" y="4242960"/>
                    <a:ext cx="82440" cy="70920"/>
                  </a:xfrm>
                  <a:custGeom>
                    <a:avLst/>
                    <a:gdLst>
                      <a:gd name="textAreaLeft" fmla="*/ 0 w 82440"/>
                      <a:gd name="textAreaRight" fmla="*/ 82800 w 82440"/>
                      <a:gd name="textAreaTop" fmla="*/ 0 h 70920"/>
                      <a:gd name="textAreaBottom" fmla="*/ 71280 h 70920"/>
                    </a:gdLst>
                    <a:ahLst/>
                    <a:rect l="textAreaLeft" t="textAreaTop" r="textAreaRight" b="textAreaBottom"/>
                    <a:pathLst>
                      <a:path w="104" h="89">
                        <a:moveTo>
                          <a:pt x="104" y="0"/>
                        </a:moveTo>
                        <a:lnTo>
                          <a:pt x="80" y="6"/>
                        </a:lnTo>
                        <a:lnTo>
                          <a:pt x="62" y="23"/>
                        </a:lnTo>
                        <a:lnTo>
                          <a:pt x="46" y="45"/>
                        </a:lnTo>
                        <a:lnTo>
                          <a:pt x="30" y="65"/>
                        </a:lnTo>
                        <a:lnTo>
                          <a:pt x="0" y="89"/>
                        </a:lnTo>
                        <a:lnTo>
                          <a:pt x="36" y="77"/>
                        </a:lnTo>
                        <a:lnTo>
                          <a:pt x="60" y="59"/>
                        </a:lnTo>
                        <a:lnTo>
                          <a:pt x="80" y="41"/>
                        </a:lnTo>
                        <a:lnTo>
                          <a:pt x="98" y="35"/>
                        </a:lnTo>
                        <a:lnTo>
                          <a:pt x="104" y="0"/>
                        </a:lnTo>
                        <a:close/>
                      </a:path>
                    </a:pathLst>
                  </a:custGeom>
                  <a:solidFill>
                    <a:srgbClr val="5f3f1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653" name="Group 131"/>
                  <p:cNvGrpSpPr/>
                  <p:nvPr/>
                </p:nvGrpSpPr>
                <p:grpSpPr>
                  <a:xfrm>
                    <a:off x="2977920" y="4290480"/>
                    <a:ext cx="57240" cy="74160"/>
                    <a:chOff x="2977920" y="4290480"/>
                    <a:chExt cx="57240" cy="74160"/>
                  </a:xfrm>
                </p:grpSpPr>
                <p:sp>
                  <p:nvSpPr>
                    <p:cNvPr id="654" name="Oval 132"/>
                    <p:cNvSpPr/>
                    <p:nvPr/>
                  </p:nvSpPr>
                  <p:spPr>
                    <a:xfrm>
                      <a:off x="3000240" y="4328280"/>
                      <a:ext cx="28440" cy="31320"/>
                    </a:xfrm>
                    <a:prstGeom prst="ellipse">
                      <a:avLst/>
                    </a:prstGeom>
                    <a:solidFill>
                      <a:srgbClr val="5f7f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33"/>
                    <p:cNvSpPr/>
                    <p:nvPr/>
                  </p:nvSpPr>
                  <p:spPr>
                    <a:xfrm>
                      <a:off x="2977920" y="4290480"/>
                      <a:ext cx="57240" cy="74160"/>
                    </a:xfrm>
                    <a:custGeom>
                      <a:avLst/>
                      <a:gdLst>
                        <a:gd name="textAreaLeft" fmla="*/ 0 w 57240"/>
                        <a:gd name="textAreaRight" fmla="*/ 57600 w 57240"/>
                        <a:gd name="textAreaTop" fmla="*/ 0 h 74160"/>
                        <a:gd name="textAreaBottom" fmla="*/ 74520 h 74160"/>
                      </a:gdLst>
                      <a:ahLst/>
                      <a:rect l="textAreaLeft" t="textAreaTop" r="textAreaRight" b="textAreaBottom"/>
                      <a:pathLst>
                        <a:path w="72" h="96">
                          <a:moveTo>
                            <a:pt x="62" y="24"/>
                          </a:moveTo>
                          <a:lnTo>
                            <a:pt x="42" y="42"/>
                          </a:lnTo>
                          <a:lnTo>
                            <a:pt x="48" y="0"/>
                          </a:lnTo>
                          <a:lnTo>
                            <a:pt x="32" y="42"/>
                          </a:lnTo>
                          <a:lnTo>
                            <a:pt x="20" y="60"/>
                          </a:lnTo>
                          <a:lnTo>
                            <a:pt x="0" y="74"/>
                          </a:lnTo>
                          <a:lnTo>
                            <a:pt x="24" y="92"/>
                          </a:lnTo>
                          <a:lnTo>
                            <a:pt x="26" y="92"/>
                          </a:lnTo>
                          <a:lnTo>
                            <a:pt x="42" y="96"/>
                          </a:lnTo>
                          <a:lnTo>
                            <a:pt x="64" y="96"/>
                          </a:lnTo>
                          <a:lnTo>
                            <a:pt x="60" y="82"/>
                          </a:lnTo>
                          <a:lnTo>
                            <a:pt x="42" y="86"/>
                          </a:lnTo>
                          <a:lnTo>
                            <a:pt x="24" y="78"/>
                          </a:lnTo>
                          <a:lnTo>
                            <a:pt x="10" y="72"/>
                          </a:lnTo>
                          <a:lnTo>
                            <a:pt x="24" y="64"/>
                          </a:lnTo>
                          <a:lnTo>
                            <a:pt x="48" y="54"/>
                          </a:lnTo>
                          <a:lnTo>
                            <a:pt x="72" y="42"/>
                          </a:lnTo>
                          <a:lnTo>
                            <a:pt x="62" y="24"/>
                          </a:lnTo>
                          <a:close/>
                        </a:path>
                      </a:pathLst>
                    </a:custGeom>
                    <a:solidFill>
                      <a:srgbClr val="3f1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656" name="Freeform 134"/>
                  <p:cNvSpPr/>
                  <p:nvPr/>
                </p:nvSpPr>
                <p:spPr>
                  <a:xfrm>
                    <a:off x="2344680" y="3922560"/>
                    <a:ext cx="776160" cy="906120"/>
                  </a:xfrm>
                  <a:custGeom>
                    <a:avLst/>
                    <a:gdLst>
                      <a:gd name="textAreaLeft" fmla="*/ 0 w 776160"/>
                      <a:gd name="textAreaRight" fmla="*/ 776520 w 776160"/>
                      <a:gd name="textAreaTop" fmla="*/ 0 h 906120"/>
                      <a:gd name="textAreaBottom" fmla="*/ 906480 h 906120"/>
                    </a:gdLst>
                    <a:ahLst/>
                    <a:rect l="textAreaLeft" t="textAreaTop" r="textAreaRight" b="textAreaBottom"/>
                    <a:pathLst>
                      <a:path w="978" h="1144">
                        <a:moveTo>
                          <a:pt x="948" y="339"/>
                        </a:moveTo>
                        <a:lnTo>
                          <a:pt x="960" y="327"/>
                        </a:lnTo>
                        <a:lnTo>
                          <a:pt x="974" y="311"/>
                        </a:lnTo>
                        <a:lnTo>
                          <a:pt x="978" y="275"/>
                        </a:lnTo>
                        <a:lnTo>
                          <a:pt x="978" y="209"/>
                        </a:lnTo>
                        <a:lnTo>
                          <a:pt x="960" y="155"/>
                        </a:lnTo>
                        <a:lnTo>
                          <a:pt x="936" y="126"/>
                        </a:lnTo>
                        <a:lnTo>
                          <a:pt x="900" y="90"/>
                        </a:lnTo>
                        <a:lnTo>
                          <a:pt x="827" y="78"/>
                        </a:lnTo>
                        <a:lnTo>
                          <a:pt x="719" y="60"/>
                        </a:lnTo>
                        <a:lnTo>
                          <a:pt x="623" y="36"/>
                        </a:lnTo>
                        <a:lnTo>
                          <a:pt x="545" y="18"/>
                        </a:lnTo>
                        <a:lnTo>
                          <a:pt x="449" y="0"/>
                        </a:lnTo>
                        <a:lnTo>
                          <a:pt x="401" y="18"/>
                        </a:lnTo>
                        <a:lnTo>
                          <a:pt x="348" y="60"/>
                        </a:lnTo>
                        <a:lnTo>
                          <a:pt x="300" y="108"/>
                        </a:lnTo>
                        <a:lnTo>
                          <a:pt x="264" y="161"/>
                        </a:lnTo>
                        <a:lnTo>
                          <a:pt x="222" y="245"/>
                        </a:lnTo>
                        <a:lnTo>
                          <a:pt x="198" y="323"/>
                        </a:lnTo>
                        <a:lnTo>
                          <a:pt x="186" y="401"/>
                        </a:lnTo>
                        <a:lnTo>
                          <a:pt x="168" y="490"/>
                        </a:lnTo>
                        <a:lnTo>
                          <a:pt x="168" y="568"/>
                        </a:lnTo>
                        <a:lnTo>
                          <a:pt x="144" y="658"/>
                        </a:lnTo>
                        <a:lnTo>
                          <a:pt x="114" y="737"/>
                        </a:lnTo>
                        <a:lnTo>
                          <a:pt x="78" y="791"/>
                        </a:lnTo>
                        <a:lnTo>
                          <a:pt x="42" y="827"/>
                        </a:lnTo>
                        <a:lnTo>
                          <a:pt x="6" y="869"/>
                        </a:lnTo>
                        <a:lnTo>
                          <a:pt x="6" y="881"/>
                        </a:lnTo>
                        <a:lnTo>
                          <a:pt x="0" y="917"/>
                        </a:lnTo>
                        <a:lnTo>
                          <a:pt x="0" y="976"/>
                        </a:lnTo>
                        <a:lnTo>
                          <a:pt x="18" y="1024"/>
                        </a:lnTo>
                        <a:lnTo>
                          <a:pt x="48" y="1054"/>
                        </a:lnTo>
                        <a:lnTo>
                          <a:pt x="144" y="1054"/>
                        </a:lnTo>
                        <a:lnTo>
                          <a:pt x="222" y="1066"/>
                        </a:lnTo>
                        <a:lnTo>
                          <a:pt x="300" y="1120"/>
                        </a:lnTo>
                        <a:lnTo>
                          <a:pt x="383" y="1144"/>
                        </a:lnTo>
                        <a:lnTo>
                          <a:pt x="455" y="1144"/>
                        </a:lnTo>
                        <a:lnTo>
                          <a:pt x="515" y="1108"/>
                        </a:lnTo>
                        <a:lnTo>
                          <a:pt x="539" y="1054"/>
                        </a:lnTo>
                        <a:lnTo>
                          <a:pt x="533" y="982"/>
                        </a:lnTo>
                        <a:lnTo>
                          <a:pt x="503" y="929"/>
                        </a:lnTo>
                        <a:lnTo>
                          <a:pt x="497" y="875"/>
                        </a:lnTo>
                        <a:lnTo>
                          <a:pt x="503" y="821"/>
                        </a:lnTo>
                        <a:lnTo>
                          <a:pt x="551" y="773"/>
                        </a:lnTo>
                        <a:lnTo>
                          <a:pt x="605" y="755"/>
                        </a:lnTo>
                        <a:lnTo>
                          <a:pt x="641" y="725"/>
                        </a:lnTo>
                        <a:lnTo>
                          <a:pt x="671" y="677"/>
                        </a:lnTo>
                        <a:lnTo>
                          <a:pt x="677" y="598"/>
                        </a:lnTo>
                        <a:lnTo>
                          <a:pt x="677" y="562"/>
                        </a:lnTo>
                        <a:lnTo>
                          <a:pt x="719" y="550"/>
                        </a:lnTo>
                        <a:lnTo>
                          <a:pt x="761" y="514"/>
                        </a:lnTo>
                        <a:lnTo>
                          <a:pt x="785" y="454"/>
                        </a:lnTo>
                        <a:lnTo>
                          <a:pt x="809" y="371"/>
                        </a:lnTo>
                        <a:lnTo>
                          <a:pt x="797" y="269"/>
                        </a:lnTo>
                        <a:lnTo>
                          <a:pt x="779" y="209"/>
                        </a:lnTo>
                        <a:lnTo>
                          <a:pt x="725" y="167"/>
                        </a:lnTo>
                        <a:lnTo>
                          <a:pt x="851" y="209"/>
                        </a:lnTo>
                        <a:lnTo>
                          <a:pt x="894" y="275"/>
                        </a:lnTo>
                        <a:lnTo>
                          <a:pt x="940" y="315"/>
                        </a:lnTo>
                        <a:lnTo>
                          <a:pt x="948" y="339"/>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Group 135"/>
                <p:cNvGrpSpPr/>
                <p:nvPr/>
              </p:nvGrpSpPr>
              <p:grpSpPr>
                <a:xfrm>
                  <a:off x="2909880" y="4223880"/>
                  <a:ext cx="198360" cy="213840"/>
                  <a:chOff x="2909880" y="4223880"/>
                  <a:chExt cx="198360" cy="213840"/>
                </a:xfrm>
              </p:grpSpPr>
              <p:sp>
                <p:nvSpPr>
                  <p:cNvPr id="658" name="Line 136"/>
                  <p:cNvSpPr/>
                  <p:nvPr/>
                </p:nvSpPr>
                <p:spPr>
                  <a:xfrm flipV="1">
                    <a:off x="3093840" y="4312080"/>
                    <a:ext cx="14400" cy="2520"/>
                  </a:xfrm>
                  <a:prstGeom prst="line">
                    <a:avLst/>
                  </a:prstGeom>
                  <a:ln w="9360">
                    <a:solidFill>
                      <a:srgbClr val="7f3f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nvGrpSpPr>
                  <p:cNvPr id="659" name="Group 137"/>
                  <p:cNvGrpSpPr/>
                  <p:nvPr/>
                </p:nvGrpSpPr>
                <p:grpSpPr>
                  <a:xfrm>
                    <a:off x="2909880" y="4223880"/>
                    <a:ext cx="185760" cy="213840"/>
                    <a:chOff x="2909880" y="4223880"/>
                    <a:chExt cx="185760" cy="213840"/>
                  </a:xfrm>
                </p:grpSpPr>
                <p:sp>
                  <p:nvSpPr>
                    <p:cNvPr id="660" name="Freeform 138"/>
                    <p:cNvSpPr/>
                    <p:nvPr/>
                  </p:nvSpPr>
                  <p:spPr>
                    <a:xfrm>
                      <a:off x="2909880" y="4347360"/>
                      <a:ext cx="128520" cy="74160"/>
                    </a:xfrm>
                    <a:custGeom>
                      <a:avLst/>
                      <a:gdLst>
                        <a:gd name="textAreaLeft" fmla="*/ 0 w 128520"/>
                        <a:gd name="textAreaRight" fmla="*/ 128880 w 128520"/>
                        <a:gd name="textAreaTop" fmla="*/ 0 h 74160"/>
                        <a:gd name="textAreaBottom" fmla="*/ 74520 h 74160"/>
                      </a:gdLst>
                      <a:ahLst/>
                      <a:rect l="textAreaLeft" t="textAreaTop" r="textAreaRight" b="textAreaBottom"/>
                      <a:pathLst>
                        <a:path w="162" h="96">
                          <a:moveTo>
                            <a:pt x="20" y="0"/>
                          </a:moveTo>
                          <a:lnTo>
                            <a:pt x="50" y="26"/>
                          </a:lnTo>
                          <a:lnTo>
                            <a:pt x="74" y="42"/>
                          </a:lnTo>
                          <a:lnTo>
                            <a:pt x="92" y="52"/>
                          </a:lnTo>
                          <a:lnTo>
                            <a:pt x="116" y="62"/>
                          </a:lnTo>
                          <a:lnTo>
                            <a:pt x="138" y="66"/>
                          </a:lnTo>
                          <a:lnTo>
                            <a:pt x="156" y="62"/>
                          </a:lnTo>
                          <a:lnTo>
                            <a:pt x="162" y="96"/>
                          </a:lnTo>
                          <a:lnTo>
                            <a:pt x="136" y="96"/>
                          </a:lnTo>
                          <a:lnTo>
                            <a:pt x="116" y="94"/>
                          </a:lnTo>
                          <a:lnTo>
                            <a:pt x="90" y="82"/>
                          </a:lnTo>
                          <a:lnTo>
                            <a:pt x="66" y="64"/>
                          </a:lnTo>
                          <a:lnTo>
                            <a:pt x="44" y="48"/>
                          </a:lnTo>
                          <a:lnTo>
                            <a:pt x="0" y="8"/>
                          </a:lnTo>
                          <a:lnTo>
                            <a:pt x="20" y="0"/>
                          </a:lnTo>
                          <a:close/>
                        </a:path>
                      </a:pathLst>
                    </a:custGeom>
                    <a:solidFill>
                      <a:srgbClr val="7f3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1" name="Oval 139"/>
                    <p:cNvSpPr/>
                    <p:nvPr/>
                  </p:nvSpPr>
                  <p:spPr>
                    <a:xfrm>
                      <a:off x="3020760" y="4223880"/>
                      <a:ext cx="74880" cy="213840"/>
                    </a:xfrm>
                    <a:prstGeom prst="ellips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40"/>
                    <p:cNvSpPr/>
                    <p:nvPr/>
                  </p:nvSpPr>
                  <p:spPr>
                    <a:xfrm>
                      <a:off x="3027240" y="4229640"/>
                      <a:ext cx="66600" cy="203040"/>
                    </a:xfrm>
                    <a:prstGeom prst="ellipse">
                      <a:avLst/>
                    </a:prstGeom>
                    <a:solidFill>
                      <a:srgbClr val="ff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pic>
        <p:nvPicPr>
          <p:cNvPr id="663" name="Picture 144" descr=""/>
          <p:cNvPicPr/>
          <p:nvPr/>
        </p:nvPicPr>
        <p:blipFill>
          <a:blip r:embed="rId3"/>
          <a:stretch/>
        </p:blipFill>
        <p:spPr>
          <a:xfrm>
            <a:off x="8388360" y="571680"/>
            <a:ext cx="596880" cy="838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665" name="Text Box 13"/>
          <p:cNvSpPr/>
          <p:nvPr/>
        </p:nvSpPr>
        <p:spPr>
          <a:xfrm>
            <a:off x="1905120" y="2847960"/>
            <a:ext cx="5333760" cy="11293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 make or buy analysis.</a:t>
            </a:r>
            <a:endParaRPr b="0" lang="en-US" sz="34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667" name=""/>
          <p:cNvSpPr txBox="1"/>
          <p:nvPr/>
        </p:nvSpPr>
        <p:spPr>
          <a:xfrm>
            <a:off x="457200" y="1563840"/>
            <a:ext cx="8229600" cy="2603520"/>
          </a:xfrm>
          <a:prstGeom prst="rect">
            <a:avLst/>
          </a:prstGeom>
          <a:solidFill>
            <a:srgbClr val="ead3d8"/>
          </a:solidFill>
          <a:ln w="12600">
            <a:solidFill>
              <a:srgbClr val="464646"/>
            </a:solidFill>
            <a:miter/>
          </a:ln>
          <a:effectLst>
            <a:outerShdw dist="36147" dir="2700000" blurRad="0" rotWithShape="0">
              <a:srgbClr val="000000"/>
            </a:outerShdw>
          </a:effectLst>
        </p:spPr>
        <p:txBody>
          <a:bodyPr lIns="90360" rIns="90360" tIns="44280" bIns="44280"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When a company is involved in more than one activity in the entire value chain, it is vertically integrated.  A decision to carry out one of the activities in the value chain internally, rather than to buy externally from a supplier is called a “make or buy” decision.</a:t>
            </a:r>
            <a:endParaRPr b="0" lang="en-US" sz="2800" spc="-1" strike="noStrike">
              <a:solidFill>
                <a:srgbClr val="000000"/>
              </a:solidFill>
              <a:latin typeface="Arial"/>
            </a:endParaRPr>
          </a:p>
        </p:txBody>
      </p:sp>
      <p:grpSp>
        <p:nvGrpSpPr>
          <p:cNvPr id="668" name="Group 4"/>
          <p:cNvGrpSpPr/>
          <p:nvPr/>
        </p:nvGrpSpPr>
        <p:grpSpPr>
          <a:xfrm>
            <a:off x="3576600" y="4694400"/>
            <a:ext cx="2138400" cy="2086920"/>
            <a:chOff x="3576600" y="4694400"/>
            <a:chExt cx="2138400" cy="2086920"/>
          </a:xfrm>
        </p:grpSpPr>
        <p:sp>
          <p:nvSpPr>
            <p:cNvPr id="669" name="Freeform 5"/>
            <p:cNvSpPr/>
            <p:nvPr/>
          </p:nvSpPr>
          <p:spPr>
            <a:xfrm>
              <a:off x="3686040" y="5184360"/>
              <a:ext cx="1900080" cy="1412640"/>
            </a:xfrm>
            <a:custGeom>
              <a:avLst/>
              <a:gdLst>
                <a:gd name="textAreaLeft" fmla="*/ 0 w 1900080"/>
                <a:gd name="textAreaRight" fmla="*/ 1900440 w 1900080"/>
                <a:gd name="textAreaTop" fmla="*/ 0 h 1412640"/>
                <a:gd name="textAreaBottom" fmla="*/ 1413000 h 1412640"/>
              </a:gdLst>
              <a:ahLst/>
              <a:rect l="textAreaLeft" t="textAreaTop" r="textAreaRight" b="textAreaBottom"/>
              <a:pathLst>
                <a:path w="1197" h="890">
                  <a:moveTo>
                    <a:pt x="686" y="890"/>
                  </a:moveTo>
                  <a:lnTo>
                    <a:pt x="1045" y="890"/>
                  </a:lnTo>
                  <a:lnTo>
                    <a:pt x="1075" y="887"/>
                  </a:lnTo>
                  <a:lnTo>
                    <a:pt x="1104" y="877"/>
                  </a:lnTo>
                  <a:lnTo>
                    <a:pt x="1130" y="864"/>
                  </a:lnTo>
                  <a:lnTo>
                    <a:pt x="1152" y="845"/>
                  </a:lnTo>
                  <a:lnTo>
                    <a:pt x="1171" y="823"/>
                  </a:lnTo>
                  <a:lnTo>
                    <a:pt x="1184" y="797"/>
                  </a:lnTo>
                  <a:lnTo>
                    <a:pt x="1194" y="768"/>
                  </a:lnTo>
                  <a:lnTo>
                    <a:pt x="1197" y="738"/>
                  </a:lnTo>
                  <a:lnTo>
                    <a:pt x="1197" y="499"/>
                  </a:lnTo>
                  <a:lnTo>
                    <a:pt x="589" y="0"/>
                  </a:lnTo>
                  <a:lnTo>
                    <a:pt x="106" y="0"/>
                  </a:lnTo>
                  <a:lnTo>
                    <a:pt x="0" y="90"/>
                  </a:lnTo>
                  <a:lnTo>
                    <a:pt x="0" y="273"/>
                  </a:lnTo>
                  <a:lnTo>
                    <a:pt x="514" y="128"/>
                  </a:lnTo>
                  <a:lnTo>
                    <a:pt x="978" y="392"/>
                  </a:lnTo>
                  <a:lnTo>
                    <a:pt x="686" y="890"/>
                  </a:lnTo>
                  <a:close/>
                </a:path>
              </a:pathLst>
            </a:custGeom>
            <a:solidFill>
              <a:srgbClr val="ffe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
            <p:cNvSpPr/>
            <p:nvPr/>
          </p:nvSpPr>
          <p:spPr>
            <a:xfrm>
              <a:off x="3686040" y="5184360"/>
              <a:ext cx="1900080" cy="1412640"/>
            </a:xfrm>
            <a:custGeom>
              <a:avLst/>
              <a:gdLst>
                <a:gd name="textAreaLeft" fmla="*/ 0 w 1900080"/>
                <a:gd name="textAreaRight" fmla="*/ 1900440 w 1900080"/>
                <a:gd name="textAreaTop" fmla="*/ 0 h 1412640"/>
                <a:gd name="textAreaBottom" fmla="*/ 1413000 h 1412640"/>
              </a:gdLst>
              <a:ahLst/>
              <a:rect l="textAreaLeft" t="textAreaTop" r="textAreaRight" b="textAreaBottom"/>
              <a:pathLst>
                <a:path w="1197" h="890">
                  <a:moveTo>
                    <a:pt x="686" y="890"/>
                  </a:moveTo>
                  <a:lnTo>
                    <a:pt x="1045" y="890"/>
                  </a:lnTo>
                  <a:lnTo>
                    <a:pt x="1075" y="887"/>
                  </a:lnTo>
                  <a:lnTo>
                    <a:pt x="1104" y="877"/>
                  </a:lnTo>
                  <a:lnTo>
                    <a:pt x="1130" y="864"/>
                  </a:lnTo>
                  <a:lnTo>
                    <a:pt x="1152" y="845"/>
                  </a:lnTo>
                  <a:lnTo>
                    <a:pt x="1171" y="823"/>
                  </a:lnTo>
                  <a:lnTo>
                    <a:pt x="1184" y="797"/>
                  </a:lnTo>
                  <a:lnTo>
                    <a:pt x="1194" y="768"/>
                  </a:lnTo>
                  <a:lnTo>
                    <a:pt x="1197" y="738"/>
                  </a:lnTo>
                  <a:lnTo>
                    <a:pt x="1197" y="499"/>
                  </a:lnTo>
                  <a:lnTo>
                    <a:pt x="589" y="0"/>
                  </a:lnTo>
                  <a:lnTo>
                    <a:pt x="106" y="0"/>
                  </a:lnTo>
                  <a:lnTo>
                    <a:pt x="0" y="90"/>
                  </a:lnTo>
                  <a:lnTo>
                    <a:pt x="0" y="273"/>
                  </a:lnTo>
                  <a:lnTo>
                    <a:pt x="514" y="128"/>
                  </a:lnTo>
                  <a:lnTo>
                    <a:pt x="978" y="392"/>
                  </a:lnTo>
                  <a:lnTo>
                    <a:pt x="686" y="8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7"/>
            <p:cNvSpPr/>
            <p:nvPr/>
          </p:nvSpPr>
          <p:spPr>
            <a:xfrm>
              <a:off x="4260600" y="4703400"/>
              <a:ext cx="1325520" cy="1272960"/>
            </a:xfrm>
            <a:custGeom>
              <a:avLst/>
              <a:gdLst>
                <a:gd name="textAreaLeft" fmla="*/ 0 w 1325520"/>
                <a:gd name="textAreaRight" fmla="*/ 1325880 w 1325520"/>
                <a:gd name="textAreaTop" fmla="*/ 0 h 1272960"/>
                <a:gd name="textAreaBottom" fmla="*/ 1273320 h 1272960"/>
              </a:gdLst>
              <a:ahLst/>
              <a:rect l="textAreaLeft" t="textAreaTop" r="textAreaRight" b="textAreaBottom"/>
              <a:pathLst>
                <a:path w="835" h="802">
                  <a:moveTo>
                    <a:pt x="227" y="303"/>
                  </a:moveTo>
                  <a:lnTo>
                    <a:pt x="0" y="117"/>
                  </a:lnTo>
                  <a:lnTo>
                    <a:pt x="0" y="0"/>
                  </a:lnTo>
                  <a:lnTo>
                    <a:pt x="683" y="2"/>
                  </a:lnTo>
                  <a:lnTo>
                    <a:pt x="713" y="5"/>
                  </a:lnTo>
                  <a:lnTo>
                    <a:pt x="742" y="13"/>
                  </a:lnTo>
                  <a:lnTo>
                    <a:pt x="768" y="27"/>
                  </a:lnTo>
                  <a:lnTo>
                    <a:pt x="790" y="46"/>
                  </a:lnTo>
                  <a:lnTo>
                    <a:pt x="809" y="69"/>
                  </a:lnTo>
                  <a:lnTo>
                    <a:pt x="822" y="94"/>
                  </a:lnTo>
                  <a:lnTo>
                    <a:pt x="832" y="123"/>
                  </a:lnTo>
                  <a:lnTo>
                    <a:pt x="835" y="153"/>
                  </a:lnTo>
                  <a:lnTo>
                    <a:pt x="835" y="802"/>
                  </a:lnTo>
                  <a:lnTo>
                    <a:pt x="227" y="303"/>
                  </a:lnTo>
                  <a:close/>
                </a:path>
              </a:pathLst>
            </a:custGeom>
            <a:solidFill>
              <a:srgbClr val="ffd1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8"/>
            <p:cNvSpPr/>
            <p:nvPr/>
          </p:nvSpPr>
          <p:spPr>
            <a:xfrm>
              <a:off x="4260600" y="4703400"/>
              <a:ext cx="1325520" cy="1272960"/>
            </a:xfrm>
            <a:custGeom>
              <a:avLst/>
              <a:gdLst>
                <a:gd name="textAreaLeft" fmla="*/ 0 w 1325520"/>
                <a:gd name="textAreaRight" fmla="*/ 1325880 w 1325520"/>
                <a:gd name="textAreaTop" fmla="*/ 0 h 1272960"/>
                <a:gd name="textAreaBottom" fmla="*/ 1273320 h 1272960"/>
              </a:gdLst>
              <a:ahLst/>
              <a:rect l="textAreaLeft" t="textAreaTop" r="textAreaRight" b="textAreaBottom"/>
              <a:pathLst>
                <a:path w="835" h="802">
                  <a:moveTo>
                    <a:pt x="227" y="303"/>
                  </a:moveTo>
                  <a:lnTo>
                    <a:pt x="0" y="117"/>
                  </a:lnTo>
                  <a:lnTo>
                    <a:pt x="0" y="0"/>
                  </a:lnTo>
                  <a:lnTo>
                    <a:pt x="683" y="2"/>
                  </a:lnTo>
                  <a:lnTo>
                    <a:pt x="713" y="5"/>
                  </a:lnTo>
                  <a:lnTo>
                    <a:pt x="742" y="13"/>
                  </a:lnTo>
                  <a:lnTo>
                    <a:pt x="768" y="27"/>
                  </a:lnTo>
                  <a:lnTo>
                    <a:pt x="790" y="46"/>
                  </a:lnTo>
                  <a:lnTo>
                    <a:pt x="809" y="69"/>
                  </a:lnTo>
                  <a:lnTo>
                    <a:pt x="822" y="94"/>
                  </a:lnTo>
                  <a:lnTo>
                    <a:pt x="832" y="123"/>
                  </a:lnTo>
                  <a:lnTo>
                    <a:pt x="835" y="153"/>
                  </a:lnTo>
                  <a:lnTo>
                    <a:pt x="835" y="802"/>
                  </a:lnTo>
                  <a:lnTo>
                    <a:pt x="227" y="3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9"/>
            <p:cNvSpPr/>
            <p:nvPr/>
          </p:nvSpPr>
          <p:spPr>
            <a:xfrm>
              <a:off x="3686040" y="4703400"/>
              <a:ext cx="528480" cy="623520"/>
            </a:xfrm>
            <a:custGeom>
              <a:avLst/>
              <a:gdLst>
                <a:gd name="textAreaLeft" fmla="*/ 0 w 528480"/>
                <a:gd name="textAreaRight" fmla="*/ 528840 w 528480"/>
                <a:gd name="textAreaTop" fmla="*/ 0 h 623520"/>
                <a:gd name="textAreaBottom" fmla="*/ 623520 h 623520"/>
              </a:gdLst>
              <a:ahLst/>
              <a:rect l="textAreaLeft" t="textAreaTop" r="textAreaRight" b="textAreaBottom"/>
              <a:pathLst>
                <a:path w="333" h="393">
                  <a:moveTo>
                    <a:pt x="0" y="393"/>
                  </a:moveTo>
                  <a:lnTo>
                    <a:pt x="0" y="153"/>
                  </a:lnTo>
                  <a:lnTo>
                    <a:pt x="3" y="123"/>
                  </a:lnTo>
                  <a:lnTo>
                    <a:pt x="13" y="94"/>
                  </a:lnTo>
                  <a:lnTo>
                    <a:pt x="26" y="69"/>
                  </a:lnTo>
                  <a:lnTo>
                    <a:pt x="45" y="46"/>
                  </a:lnTo>
                  <a:lnTo>
                    <a:pt x="67" y="27"/>
                  </a:lnTo>
                  <a:lnTo>
                    <a:pt x="94" y="13"/>
                  </a:lnTo>
                  <a:lnTo>
                    <a:pt x="123" y="5"/>
                  </a:lnTo>
                  <a:lnTo>
                    <a:pt x="154" y="2"/>
                  </a:lnTo>
                  <a:lnTo>
                    <a:pt x="333" y="0"/>
                  </a:lnTo>
                  <a:lnTo>
                    <a:pt x="333" y="117"/>
                  </a:lnTo>
                  <a:lnTo>
                    <a:pt x="106" y="303"/>
                  </a:lnTo>
                  <a:lnTo>
                    <a:pt x="0" y="393"/>
                  </a:lnTo>
                  <a:close/>
                </a:path>
              </a:pathLst>
            </a:custGeom>
            <a:solidFill>
              <a:srgbClr val="ffd1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0"/>
            <p:cNvSpPr/>
            <p:nvPr/>
          </p:nvSpPr>
          <p:spPr>
            <a:xfrm>
              <a:off x="3686040" y="4703400"/>
              <a:ext cx="528480" cy="623520"/>
            </a:xfrm>
            <a:custGeom>
              <a:avLst/>
              <a:gdLst>
                <a:gd name="textAreaLeft" fmla="*/ 0 w 528480"/>
                <a:gd name="textAreaRight" fmla="*/ 528840 w 528480"/>
                <a:gd name="textAreaTop" fmla="*/ 0 h 623520"/>
                <a:gd name="textAreaBottom" fmla="*/ 623520 h 623520"/>
              </a:gdLst>
              <a:ahLst/>
              <a:rect l="textAreaLeft" t="textAreaTop" r="textAreaRight" b="textAreaBottom"/>
              <a:pathLst>
                <a:path w="333" h="393">
                  <a:moveTo>
                    <a:pt x="0" y="393"/>
                  </a:moveTo>
                  <a:lnTo>
                    <a:pt x="0" y="153"/>
                  </a:lnTo>
                  <a:lnTo>
                    <a:pt x="3" y="123"/>
                  </a:lnTo>
                  <a:lnTo>
                    <a:pt x="13" y="94"/>
                  </a:lnTo>
                  <a:lnTo>
                    <a:pt x="26" y="69"/>
                  </a:lnTo>
                  <a:lnTo>
                    <a:pt x="45" y="46"/>
                  </a:lnTo>
                  <a:lnTo>
                    <a:pt x="67" y="27"/>
                  </a:lnTo>
                  <a:lnTo>
                    <a:pt x="94" y="13"/>
                  </a:lnTo>
                  <a:lnTo>
                    <a:pt x="123" y="5"/>
                  </a:lnTo>
                  <a:lnTo>
                    <a:pt x="154" y="2"/>
                  </a:lnTo>
                  <a:lnTo>
                    <a:pt x="333" y="0"/>
                  </a:lnTo>
                  <a:lnTo>
                    <a:pt x="333" y="117"/>
                  </a:lnTo>
                  <a:lnTo>
                    <a:pt x="106" y="303"/>
                  </a:lnTo>
                  <a:lnTo>
                    <a:pt x="0" y="3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1"/>
            <p:cNvSpPr/>
            <p:nvPr/>
          </p:nvSpPr>
          <p:spPr>
            <a:xfrm>
              <a:off x="3854160" y="4703400"/>
              <a:ext cx="766800" cy="480600"/>
            </a:xfrm>
            <a:custGeom>
              <a:avLst/>
              <a:gdLst>
                <a:gd name="textAreaLeft" fmla="*/ 0 w 766800"/>
                <a:gd name="textAreaRight" fmla="*/ 767160 w 766800"/>
                <a:gd name="textAreaTop" fmla="*/ 0 h 480600"/>
                <a:gd name="textAreaBottom" fmla="*/ 480960 h 480600"/>
              </a:gdLst>
              <a:ahLst/>
              <a:rect l="textAreaLeft" t="textAreaTop" r="textAreaRight" b="textAreaBottom"/>
              <a:pathLst>
                <a:path w="483" h="303">
                  <a:moveTo>
                    <a:pt x="0" y="303"/>
                  </a:moveTo>
                  <a:lnTo>
                    <a:pt x="227" y="117"/>
                  </a:lnTo>
                  <a:lnTo>
                    <a:pt x="227" y="0"/>
                  </a:lnTo>
                  <a:lnTo>
                    <a:pt x="256" y="0"/>
                  </a:lnTo>
                  <a:lnTo>
                    <a:pt x="256" y="117"/>
                  </a:lnTo>
                  <a:lnTo>
                    <a:pt x="483" y="303"/>
                  </a:lnTo>
                  <a:lnTo>
                    <a:pt x="0" y="303"/>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2"/>
            <p:cNvSpPr/>
            <p:nvPr/>
          </p:nvSpPr>
          <p:spPr>
            <a:xfrm>
              <a:off x="3854160" y="4703400"/>
              <a:ext cx="766800" cy="480600"/>
            </a:xfrm>
            <a:custGeom>
              <a:avLst/>
              <a:gdLst>
                <a:gd name="textAreaLeft" fmla="*/ 0 w 766800"/>
                <a:gd name="textAreaRight" fmla="*/ 767160 w 766800"/>
                <a:gd name="textAreaTop" fmla="*/ 0 h 480600"/>
                <a:gd name="textAreaBottom" fmla="*/ 480960 h 480600"/>
              </a:gdLst>
              <a:ahLst/>
              <a:rect l="textAreaLeft" t="textAreaTop" r="textAreaRight" b="textAreaBottom"/>
              <a:pathLst>
                <a:path w="483" h="303">
                  <a:moveTo>
                    <a:pt x="0" y="303"/>
                  </a:moveTo>
                  <a:lnTo>
                    <a:pt x="227" y="117"/>
                  </a:lnTo>
                  <a:lnTo>
                    <a:pt x="227" y="0"/>
                  </a:lnTo>
                  <a:lnTo>
                    <a:pt x="256" y="0"/>
                  </a:lnTo>
                  <a:lnTo>
                    <a:pt x="256" y="117"/>
                  </a:lnTo>
                  <a:lnTo>
                    <a:pt x="483" y="303"/>
                  </a:lnTo>
                  <a:lnTo>
                    <a:pt x="0" y="3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3"/>
            <p:cNvSpPr/>
            <p:nvPr/>
          </p:nvSpPr>
          <p:spPr>
            <a:xfrm>
              <a:off x="4097160" y="5187600"/>
              <a:ext cx="279360" cy="139320"/>
            </a:xfrm>
            <a:custGeom>
              <a:avLst/>
              <a:gdLst>
                <a:gd name="textAreaLeft" fmla="*/ 0 w 279360"/>
                <a:gd name="textAreaRight" fmla="*/ 279720 w 279360"/>
                <a:gd name="textAreaTop" fmla="*/ 0 h 139320"/>
                <a:gd name="textAreaBottom" fmla="*/ 139680 h 139320"/>
              </a:gdLst>
              <a:ahLst/>
              <a:rect l="textAreaLeft" t="textAreaTop" r="textAreaRight" b="textAreaBottom"/>
              <a:pathLst>
                <a:path w="176" h="88">
                  <a:moveTo>
                    <a:pt x="0" y="0"/>
                  </a:moveTo>
                  <a:lnTo>
                    <a:pt x="2" y="18"/>
                  </a:lnTo>
                  <a:lnTo>
                    <a:pt x="7" y="33"/>
                  </a:lnTo>
                  <a:lnTo>
                    <a:pt x="15" y="49"/>
                  </a:lnTo>
                  <a:lnTo>
                    <a:pt x="26" y="62"/>
                  </a:lnTo>
                  <a:lnTo>
                    <a:pt x="39" y="73"/>
                  </a:lnTo>
                  <a:lnTo>
                    <a:pt x="55" y="81"/>
                  </a:lnTo>
                  <a:lnTo>
                    <a:pt x="71" y="86"/>
                  </a:lnTo>
                  <a:lnTo>
                    <a:pt x="88" y="88"/>
                  </a:lnTo>
                  <a:lnTo>
                    <a:pt x="106" y="86"/>
                  </a:lnTo>
                  <a:lnTo>
                    <a:pt x="122" y="81"/>
                  </a:lnTo>
                  <a:lnTo>
                    <a:pt x="138" y="73"/>
                  </a:lnTo>
                  <a:lnTo>
                    <a:pt x="151" y="62"/>
                  </a:lnTo>
                  <a:lnTo>
                    <a:pt x="162" y="49"/>
                  </a:lnTo>
                  <a:lnTo>
                    <a:pt x="170" y="33"/>
                  </a:lnTo>
                  <a:lnTo>
                    <a:pt x="175" y="18"/>
                  </a:lnTo>
                  <a:lnTo>
                    <a:pt x="176" y="0"/>
                  </a:lnTo>
                  <a:lnTo>
                    <a:pt x="0" y="0"/>
                  </a:lnTo>
                  <a:close/>
                </a:path>
              </a:pathLst>
            </a:custGeom>
            <a:solidFill>
              <a:srgbClr val="fff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14"/>
            <p:cNvSpPr/>
            <p:nvPr/>
          </p:nvSpPr>
          <p:spPr>
            <a:xfrm>
              <a:off x="4097160" y="5187600"/>
              <a:ext cx="279360" cy="139320"/>
            </a:xfrm>
            <a:custGeom>
              <a:avLst/>
              <a:gdLst>
                <a:gd name="textAreaLeft" fmla="*/ 0 w 279360"/>
                <a:gd name="textAreaRight" fmla="*/ 279720 w 279360"/>
                <a:gd name="textAreaTop" fmla="*/ 0 h 139320"/>
                <a:gd name="textAreaBottom" fmla="*/ 139680 h 139320"/>
              </a:gdLst>
              <a:ahLst/>
              <a:rect l="textAreaLeft" t="textAreaTop" r="textAreaRight" b="textAreaBottom"/>
              <a:pathLst>
                <a:path w="176" h="88">
                  <a:moveTo>
                    <a:pt x="0" y="0"/>
                  </a:moveTo>
                  <a:lnTo>
                    <a:pt x="0" y="0"/>
                  </a:lnTo>
                  <a:lnTo>
                    <a:pt x="2" y="18"/>
                  </a:lnTo>
                  <a:lnTo>
                    <a:pt x="7" y="33"/>
                  </a:lnTo>
                  <a:lnTo>
                    <a:pt x="15" y="49"/>
                  </a:lnTo>
                  <a:lnTo>
                    <a:pt x="26" y="62"/>
                  </a:lnTo>
                  <a:lnTo>
                    <a:pt x="39" y="73"/>
                  </a:lnTo>
                  <a:lnTo>
                    <a:pt x="55" y="81"/>
                  </a:lnTo>
                  <a:lnTo>
                    <a:pt x="71" y="86"/>
                  </a:lnTo>
                  <a:lnTo>
                    <a:pt x="88" y="88"/>
                  </a:lnTo>
                  <a:lnTo>
                    <a:pt x="106" y="86"/>
                  </a:lnTo>
                  <a:lnTo>
                    <a:pt x="122" y="81"/>
                  </a:lnTo>
                  <a:lnTo>
                    <a:pt x="138" y="73"/>
                  </a:lnTo>
                  <a:lnTo>
                    <a:pt x="151" y="62"/>
                  </a:lnTo>
                  <a:lnTo>
                    <a:pt x="162" y="49"/>
                  </a:lnTo>
                  <a:lnTo>
                    <a:pt x="170" y="33"/>
                  </a:lnTo>
                  <a:lnTo>
                    <a:pt x="175" y="18"/>
                  </a:lnTo>
                  <a:lnTo>
                    <a:pt x="176"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5"/>
            <p:cNvSpPr/>
            <p:nvPr/>
          </p:nvSpPr>
          <p:spPr>
            <a:xfrm>
              <a:off x="3686040" y="5387760"/>
              <a:ext cx="1552680" cy="1209240"/>
            </a:xfrm>
            <a:custGeom>
              <a:avLst/>
              <a:gdLst>
                <a:gd name="textAreaLeft" fmla="*/ 0 w 1552680"/>
                <a:gd name="textAreaRight" fmla="*/ 1553040 w 1552680"/>
                <a:gd name="textAreaTop" fmla="*/ 0 h 1209240"/>
                <a:gd name="textAreaBottom" fmla="*/ 1209600 h 1209240"/>
              </a:gdLst>
              <a:ahLst/>
              <a:rect l="textAreaLeft" t="textAreaTop" r="textAreaRight" b="textAreaBottom"/>
              <a:pathLst>
                <a:path w="978" h="762">
                  <a:moveTo>
                    <a:pt x="686" y="762"/>
                  </a:moveTo>
                  <a:lnTo>
                    <a:pt x="154" y="762"/>
                  </a:lnTo>
                  <a:lnTo>
                    <a:pt x="123" y="759"/>
                  </a:lnTo>
                  <a:lnTo>
                    <a:pt x="94" y="749"/>
                  </a:lnTo>
                  <a:lnTo>
                    <a:pt x="67" y="736"/>
                  </a:lnTo>
                  <a:lnTo>
                    <a:pt x="45" y="717"/>
                  </a:lnTo>
                  <a:lnTo>
                    <a:pt x="26" y="695"/>
                  </a:lnTo>
                  <a:lnTo>
                    <a:pt x="13" y="669"/>
                  </a:lnTo>
                  <a:lnTo>
                    <a:pt x="3" y="640"/>
                  </a:lnTo>
                  <a:lnTo>
                    <a:pt x="0" y="610"/>
                  </a:lnTo>
                  <a:lnTo>
                    <a:pt x="0" y="145"/>
                  </a:lnTo>
                  <a:lnTo>
                    <a:pt x="514" y="0"/>
                  </a:lnTo>
                  <a:lnTo>
                    <a:pt x="978" y="264"/>
                  </a:lnTo>
                  <a:lnTo>
                    <a:pt x="686" y="762"/>
                  </a:lnTo>
                  <a:close/>
                </a:path>
              </a:pathLst>
            </a:custGeom>
            <a:solidFill>
              <a:srgbClr val="9be8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6"/>
            <p:cNvSpPr/>
            <p:nvPr/>
          </p:nvSpPr>
          <p:spPr>
            <a:xfrm>
              <a:off x="3686040" y="5387760"/>
              <a:ext cx="1552680" cy="1209240"/>
            </a:xfrm>
            <a:custGeom>
              <a:avLst/>
              <a:gdLst>
                <a:gd name="textAreaLeft" fmla="*/ 0 w 1552680"/>
                <a:gd name="textAreaRight" fmla="*/ 1553040 w 1552680"/>
                <a:gd name="textAreaTop" fmla="*/ 0 h 1209240"/>
                <a:gd name="textAreaBottom" fmla="*/ 1209600 h 1209240"/>
              </a:gdLst>
              <a:ahLst/>
              <a:rect l="textAreaLeft" t="textAreaTop" r="textAreaRight" b="textAreaBottom"/>
              <a:pathLst>
                <a:path w="978" h="762">
                  <a:moveTo>
                    <a:pt x="686" y="762"/>
                  </a:moveTo>
                  <a:lnTo>
                    <a:pt x="154" y="762"/>
                  </a:lnTo>
                  <a:lnTo>
                    <a:pt x="123" y="759"/>
                  </a:lnTo>
                  <a:lnTo>
                    <a:pt x="94" y="749"/>
                  </a:lnTo>
                  <a:lnTo>
                    <a:pt x="67" y="736"/>
                  </a:lnTo>
                  <a:lnTo>
                    <a:pt x="45" y="717"/>
                  </a:lnTo>
                  <a:lnTo>
                    <a:pt x="26" y="695"/>
                  </a:lnTo>
                  <a:lnTo>
                    <a:pt x="13" y="669"/>
                  </a:lnTo>
                  <a:lnTo>
                    <a:pt x="3" y="640"/>
                  </a:lnTo>
                  <a:lnTo>
                    <a:pt x="0" y="610"/>
                  </a:lnTo>
                  <a:lnTo>
                    <a:pt x="0" y="145"/>
                  </a:lnTo>
                  <a:lnTo>
                    <a:pt x="514" y="0"/>
                  </a:lnTo>
                  <a:lnTo>
                    <a:pt x="978" y="264"/>
                  </a:lnTo>
                  <a:lnTo>
                    <a:pt x="686" y="7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7"/>
            <p:cNvSpPr/>
            <p:nvPr/>
          </p:nvSpPr>
          <p:spPr>
            <a:xfrm>
              <a:off x="5332320" y="6356160"/>
              <a:ext cx="266760" cy="253440"/>
            </a:xfrm>
            <a:custGeom>
              <a:avLst/>
              <a:gdLst>
                <a:gd name="textAreaLeft" fmla="*/ 0 w 266760"/>
                <a:gd name="textAreaRight" fmla="*/ 267120 w 266760"/>
                <a:gd name="textAreaTop" fmla="*/ 0 h 253440"/>
                <a:gd name="textAreaBottom" fmla="*/ 253800 h 253440"/>
              </a:gdLst>
              <a:ahLst/>
              <a:rect l="textAreaLeft" t="textAreaTop" r="textAreaRight" b="textAreaBottom"/>
              <a:pathLst>
                <a:path w="168" h="160">
                  <a:moveTo>
                    <a:pt x="6" y="160"/>
                  </a:moveTo>
                  <a:lnTo>
                    <a:pt x="6" y="160"/>
                  </a:lnTo>
                  <a:lnTo>
                    <a:pt x="38" y="155"/>
                  </a:lnTo>
                  <a:lnTo>
                    <a:pt x="67" y="145"/>
                  </a:lnTo>
                  <a:lnTo>
                    <a:pt x="96" y="133"/>
                  </a:lnTo>
                  <a:lnTo>
                    <a:pt x="120" y="112"/>
                  </a:lnTo>
                  <a:lnTo>
                    <a:pt x="141" y="88"/>
                  </a:lnTo>
                  <a:lnTo>
                    <a:pt x="153" y="61"/>
                  </a:lnTo>
                  <a:lnTo>
                    <a:pt x="163" y="32"/>
                  </a:lnTo>
                  <a:lnTo>
                    <a:pt x="168" y="0"/>
                  </a:lnTo>
                  <a:lnTo>
                    <a:pt x="152" y="0"/>
                  </a:lnTo>
                  <a:lnTo>
                    <a:pt x="150" y="29"/>
                  </a:lnTo>
                  <a:lnTo>
                    <a:pt x="141" y="58"/>
                  </a:lnTo>
                  <a:lnTo>
                    <a:pt x="128" y="81"/>
                  </a:lnTo>
                  <a:lnTo>
                    <a:pt x="110" y="102"/>
                  </a:lnTo>
                  <a:lnTo>
                    <a:pt x="89" y="120"/>
                  </a:lnTo>
                  <a:lnTo>
                    <a:pt x="64" y="133"/>
                  </a:lnTo>
                  <a:lnTo>
                    <a:pt x="35" y="142"/>
                  </a:lnTo>
                  <a:lnTo>
                    <a:pt x="6" y="144"/>
                  </a:lnTo>
                  <a:lnTo>
                    <a:pt x="1" y="147"/>
                  </a:lnTo>
                  <a:lnTo>
                    <a:pt x="0" y="152"/>
                  </a:lnTo>
                  <a:lnTo>
                    <a:pt x="1" y="156"/>
                  </a:lnTo>
                  <a:lnTo>
                    <a:pt x="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18"/>
            <p:cNvSpPr/>
            <p:nvPr/>
          </p:nvSpPr>
          <p:spPr>
            <a:xfrm>
              <a:off x="3919320" y="6584760"/>
              <a:ext cx="1422360" cy="24840"/>
            </a:xfrm>
            <a:custGeom>
              <a:avLst/>
              <a:gdLst>
                <a:gd name="textAreaLeft" fmla="*/ 0 w 1422360"/>
                <a:gd name="textAreaRight" fmla="*/ 1422720 w 1422360"/>
                <a:gd name="textAreaTop" fmla="*/ 0 h 24840"/>
                <a:gd name="textAreaBottom" fmla="*/ 25200 h 24840"/>
              </a:gdLst>
              <a:ahLst/>
              <a:rect l="textAreaLeft" t="textAreaTop" r="textAreaRight" b="textAreaBottom"/>
              <a:pathLst>
                <a:path w="896" h="16">
                  <a:moveTo>
                    <a:pt x="7" y="16"/>
                  </a:moveTo>
                  <a:lnTo>
                    <a:pt x="7" y="16"/>
                  </a:lnTo>
                  <a:lnTo>
                    <a:pt x="896" y="16"/>
                  </a:lnTo>
                  <a:lnTo>
                    <a:pt x="896" y="0"/>
                  </a:lnTo>
                  <a:lnTo>
                    <a:pt x="7" y="0"/>
                  </a:lnTo>
                  <a:lnTo>
                    <a:pt x="2" y="3"/>
                  </a:lnTo>
                  <a:lnTo>
                    <a:pt x="0" y="8"/>
                  </a:lnTo>
                  <a:lnTo>
                    <a:pt x="2" y="12"/>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3" name="Freeform 19"/>
            <p:cNvSpPr/>
            <p:nvPr/>
          </p:nvSpPr>
          <p:spPr>
            <a:xfrm>
              <a:off x="3673440" y="6343560"/>
              <a:ext cx="257040" cy="266040"/>
            </a:xfrm>
            <a:custGeom>
              <a:avLst/>
              <a:gdLst>
                <a:gd name="textAreaLeft" fmla="*/ 0 w 257040"/>
                <a:gd name="textAreaRight" fmla="*/ 257040 w 257040"/>
                <a:gd name="textAreaTop" fmla="*/ 0 h 266040"/>
                <a:gd name="textAreaBottom" fmla="*/ 266400 h 266040"/>
              </a:gdLst>
              <a:ahLst/>
              <a:rect l="textAreaLeft" t="textAreaTop" r="textAreaRight" b="textAreaBottom"/>
              <a:pathLst>
                <a:path w="162" h="168">
                  <a:moveTo>
                    <a:pt x="0" y="8"/>
                  </a:moveTo>
                  <a:lnTo>
                    <a:pt x="0" y="8"/>
                  </a:lnTo>
                  <a:lnTo>
                    <a:pt x="5" y="40"/>
                  </a:lnTo>
                  <a:lnTo>
                    <a:pt x="14" y="69"/>
                  </a:lnTo>
                  <a:lnTo>
                    <a:pt x="27" y="96"/>
                  </a:lnTo>
                  <a:lnTo>
                    <a:pt x="48" y="120"/>
                  </a:lnTo>
                  <a:lnTo>
                    <a:pt x="72" y="141"/>
                  </a:lnTo>
                  <a:lnTo>
                    <a:pt x="101" y="153"/>
                  </a:lnTo>
                  <a:lnTo>
                    <a:pt x="130" y="163"/>
                  </a:lnTo>
                  <a:lnTo>
                    <a:pt x="162" y="168"/>
                  </a:lnTo>
                  <a:lnTo>
                    <a:pt x="162" y="152"/>
                  </a:lnTo>
                  <a:lnTo>
                    <a:pt x="133" y="150"/>
                  </a:lnTo>
                  <a:lnTo>
                    <a:pt x="104" y="141"/>
                  </a:lnTo>
                  <a:lnTo>
                    <a:pt x="78" y="128"/>
                  </a:lnTo>
                  <a:lnTo>
                    <a:pt x="58" y="110"/>
                  </a:lnTo>
                  <a:lnTo>
                    <a:pt x="40" y="89"/>
                  </a:lnTo>
                  <a:lnTo>
                    <a:pt x="27" y="66"/>
                  </a:lnTo>
                  <a:lnTo>
                    <a:pt x="18" y="37"/>
                  </a:lnTo>
                  <a:lnTo>
                    <a:pt x="16" y="8"/>
                  </a:lnTo>
                  <a:lnTo>
                    <a:pt x="13" y="3"/>
                  </a:lnTo>
                  <a:lnTo>
                    <a:pt x="8" y="0"/>
                  </a:lnTo>
                  <a:lnTo>
                    <a:pt x="3" y="3"/>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20"/>
            <p:cNvSpPr/>
            <p:nvPr/>
          </p:nvSpPr>
          <p:spPr>
            <a:xfrm>
              <a:off x="3673440" y="4933800"/>
              <a:ext cx="25200" cy="1422000"/>
            </a:xfrm>
            <a:custGeom>
              <a:avLst/>
              <a:gdLst>
                <a:gd name="textAreaLeft" fmla="*/ 0 w 25200"/>
                <a:gd name="textAreaRight" fmla="*/ 25560 w 25200"/>
                <a:gd name="textAreaTop" fmla="*/ 0 h 1422000"/>
                <a:gd name="textAreaBottom" fmla="*/ 1422360 h 1422000"/>
              </a:gdLst>
              <a:ahLst/>
              <a:rect l="textAreaLeft" t="textAreaTop" r="textAreaRight" b="textAreaBottom"/>
              <a:pathLst>
                <a:path w="16" h="896">
                  <a:moveTo>
                    <a:pt x="0" y="8"/>
                  </a:moveTo>
                  <a:lnTo>
                    <a:pt x="0" y="8"/>
                  </a:lnTo>
                  <a:lnTo>
                    <a:pt x="0" y="896"/>
                  </a:lnTo>
                  <a:lnTo>
                    <a:pt x="16" y="896"/>
                  </a:lnTo>
                  <a:lnTo>
                    <a:pt x="16" y="8"/>
                  </a:lnTo>
                  <a:lnTo>
                    <a:pt x="13" y="3"/>
                  </a:lnTo>
                  <a:lnTo>
                    <a:pt x="8" y="0"/>
                  </a:lnTo>
                  <a:lnTo>
                    <a:pt x="3" y="3"/>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21"/>
            <p:cNvSpPr/>
            <p:nvPr/>
          </p:nvSpPr>
          <p:spPr>
            <a:xfrm>
              <a:off x="3673440" y="4694400"/>
              <a:ext cx="269640" cy="252000"/>
            </a:xfrm>
            <a:custGeom>
              <a:avLst/>
              <a:gdLst>
                <a:gd name="textAreaLeft" fmla="*/ 0 w 269640"/>
                <a:gd name="textAreaRight" fmla="*/ 270000 w 269640"/>
                <a:gd name="textAreaTop" fmla="*/ 0 h 252000"/>
                <a:gd name="textAreaBottom" fmla="*/ 252360 h 252000"/>
              </a:gdLst>
              <a:ahLst/>
              <a:rect l="textAreaLeft" t="textAreaTop" r="textAreaRight" b="textAreaBottom"/>
              <a:pathLst>
                <a:path w="170" h="159">
                  <a:moveTo>
                    <a:pt x="162" y="0"/>
                  </a:moveTo>
                  <a:lnTo>
                    <a:pt x="162" y="0"/>
                  </a:lnTo>
                  <a:lnTo>
                    <a:pt x="131" y="4"/>
                  </a:lnTo>
                  <a:lnTo>
                    <a:pt x="101" y="12"/>
                  </a:lnTo>
                  <a:lnTo>
                    <a:pt x="72" y="27"/>
                  </a:lnTo>
                  <a:lnTo>
                    <a:pt x="48" y="48"/>
                  </a:lnTo>
                  <a:lnTo>
                    <a:pt x="27" y="71"/>
                  </a:lnTo>
                  <a:lnTo>
                    <a:pt x="14" y="99"/>
                  </a:lnTo>
                  <a:lnTo>
                    <a:pt x="5" y="127"/>
                  </a:lnTo>
                  <a:lnTo>
                    <a:pt x="0" y="159"/>
                  </a:lnTo>
                  <a:lnTo>
                    <a:pt x="16" y="159"/>
                  </a:lnTo>
                  <a:lnTo>
                    <a:pt x="18" y="131"/>
                  </a:lnTo>
                  <a:lnTo>
                    <a:pt x="27" y="102"/>
                  </a:lnTo>
                  <a:lnTo>
                    <a:pt x="40" y="78"/>
                  </a:lnTo>
                  <a:lnTo>
                    <a:pt x="58" y="57"/>
                  </a:lnTo>
                  <a:lnTo>
                    <a:pt x="78" y="40"/>
                  </a:lnTo>
                  <a:lnTo>
                    <a:pt x="104" y="25"/>
                  </a:lnTo>
                  <a:lnTo>
                    <a:pt x="131" y="17"/>
                  </a:lnTo>
                  <a:lnTo>
                    <a:pt x="162" y="16"/>
                  </a:lnTo>
                  <a:lnTo>
                    <a:pt x="166" y="12"/>
                  </a:lnTo>
                  <a:lnTo>
                    <a:pt x="170" y="8"/>
                  </a:lnTo>
                  <a:lnTo>
                    <a:pt x="166" y="3"/>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2"/>
            <p:cNvSpPr/>
            <p:nvPr/>
          </p:nvSpPr>
          <p:spPr>
            <a:xfrm>
              <a:off x="3930480" y="4694400"/>
              <a:ext cx="1424160" cy="24840"/>
            </a:xfrm>
            <a:custGeom>
              <a:avLst/>
              <a:gdLst>
                <a:gd name="textAreaLeft" fmla="*/ 0 w 1424160"/>
                <a:gd name="textAreaRight" fmla="*/ 1424520 w 1424160"/>
                <a:gd name="textAreaTop" fmla="*/ 0 h 24840"/>
                <a:gd name="textAreaBottom" fmla="*/ 25200 h 24840"/>
              </a:gdLst>
              <a:ahLst/>
              <a:rect l="textAreaLeft" t="textAreaTop" r="textAreaRight" b="textAreaBottom"/>
              <a:pathLst>
                <a:path w="897" h="16">
                  <a:moveTo>
                    <a:pt x="889" y="0"/>
                  </a:moveTo>
                  <a:lnTo>
                    <a:pt x="889" y="0"/>
                  </a:lnTo>
                  <a:lnTo>
                    <a:pt x="0" y="0"/>
                  </a:lnTo>
                  <a:lnTo>
                    <a:pt x="0" y="16"/>
                  </a:lnTo>
                  <a:lnTo>
                    <a:pt x="889" y="16"/>
                  </a:lnTo>
                  <a:lnTo>
                    <a:pt x="894" y="12"/>
                  </a:lnTo>
                  <a:lnTo>
                    <a:pt x="897" y="8"/>
                  </a:lnTo>
                  <a:lnTo>
                    <a:pt x="894" y="3"/>
                  </a:lnTo>
                  <a:lnTo>
                    <a:pt x="889"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23"/>
            <p:cNvSpPr/>
            <p:nvPr/>
          </p:nvSpPr>
          <p:spPr>
            <a:xfrm>
              <a:off x="5341680" y="4694400"/>
              <a:ext cx="257400" cy="263160"/>
            </a:xfrm>
            <a:custGeom>
              <a:avLst/>
              <a:gdLst>
                <a:gd name="textAreaLeft" fmla="*/ 0 w 257400"/>
                <a:gd name="textAreaRight" fmla="*/ 257760 w 257400"/>
                <a:gd name="textAreaTop" fmla="*/ 0 h 263160"/>
                <a:gd name="textAreaBottom" fmla="*/ 263520 h 263160"/>
              </a:gdLst>
              <a:ahLst/>
              <a:rect l="textAreaLeft" t="textAreaTop" r="textAreaRight" b="textAreaBottom"/>
              <a:pathLst>
                <a:path w="162" h="166">
                  <a:moveTo>
                    <a:pt x="162" y="159"/>
                  </a:moveTo>
                  <a:lnTo>
                    <a:pt x="162" y="159"/>
                  </a:lnTo>
                  <a:lnTo>
                    <a:pt x="157" y="127"/>
                  </a:lnTo>
                  <a:lnTo>
                    <a:pt x="147" y="99"/>
                  </a:lnTo>
                  <a:lnTo>
                    <a:pt x="135" y="71"/>
                  </a:lnTo>
                  <a:lnTo>
                    <a:pt x="114" y="48"/>
                  </a:lnTo>
                  <a:lnTo>
                    <a:pt x="90" y="27"/>
                  </a:lnTo>
                  <a:lnTo>
                    <a:pt x="61" y="12"/>
                  </a:lnTo>
                  <a:lnTo>
                    <a:pt x="31" y="4"/>
                  </a:lnTo>
                  <a:lnTo>
                    <a:pt x="0" y="0"/>
                  </a:lnTo>
                  <a:lnTo>
                    <a:pt x="0" y="16"/>
                  </a:lnTo>
                  <a:lnTo>
                    <a:pt x="31" y="17"/>
                  </a:lnTo>
                  <a:lnTo>
                    <a:pt x="58" y="25"/>
                  </a:lnTo>
                  <a:lnTo>
                    <a:pt x="83" y="40"/>
                  </a:lnTo>
                  <a:lnTo>
                    <a:pt x="104" y="57"/>
                  </a:lnTo>
                  <a:lnTo>
                    <a:pt x="122" y="78"/>
                  </a:lnTo>
                  <a:lnTo>
                    <a:pt x="135" y="102"/>
                  </a:lnTo>
                  <a:lnTo>
                    <a:pt x="144" y="131"/>
                  </a:lnTo>
                  <a:lnTo>
                    <a:pt x="146" y="159"/>
                  </a:lnTo>
                  <a:lnTo>
                    <a:pt x="149" y="164"/>
                  </a:lnTo>
                  <a:lnTo>
                    <a:pt x="154" y="166"/>
                  </a:lnTo>
                  <a:lnTo>
                    <a:pt x="159" y="164"/>
                  </a:lnTo>
                  <a:lnTo>
                    <a:pt x="162"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4"/>
            <p:cNvSpPr/>
            <p:nvPr/>
          </p:nvSpPr>
          <p:spPr>
            <a:xfrm>
              <a:off x="5573520" y="4946400"/>
              <a:ext cx="25560" cy="1418760"/>
            </a:xfrm>
            <a:custGeom>
              <a:avLst/>
              <a:gdLst>
                <a:gd name="textAreaLeft" fmla="*/ 0 w 25560"/>
                <a:gd name="textAreaRight" fmla="*/ 25920 w 25560"/>
                <a:gd name="textAreaTop" fmla="*/ 0 h 1418760"/>
                <a:gd name="textAreaBottom" fmla="*/ 1419120 h 1418760"/>
              </a:gdLst>
              <a:ahLst/>
              <a:rect l="textAreaLeft" t="textAreaTop" r="textAreaRight" b="textAreaBottom"/>
              <a:pathLst>
                <a:path w="16" h="894">
                  <a:moveTo>
                    <a:pt x="16" y="888"/>
                  </a:moveTo>
                  <a:lnTo>
                    <a:pt x="16" y="888"/>
                  </a:lnTo>
                  <a:lnTo>
                    <a:pt x="16" y="0"/>
                  </a:lnTo>
                  <a:lnTo>
                    <a:pt x="0" y="0"/>
                  </a:lnTo>
                  <a:lnTo>
                    <a:pt x="0" y="888"/>
                  </a:lnTo>
                  <a:lnTo>
                    <a:pt x="3" y="893"/>
                  </a:lnTo>
                  <a:lnTo>
                    <a:pt x="8" y="894"/>
                  </a:lnTo>
                  <a:lnTo>
                    <a:pt x="13" y="893"/>
                  </a:lnTo>
                  <a:lnTo>
                    <a:pt x="16" y="8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5"/>
            <p:cNvSpPr/>
            <p:nvPr/>
          </p:nvSpPr>
          <p:spPr>
            <a:xfrm>
              <a:off x="3576600" y="5748120"/>
              <a:ext cx="957240" cy="998280"/>
            </a:xfrm>
            <a:custGeom>
              <a:avLst/>
              <a:gdLst>
                <a:gd name="textAreaLeft" fmla="*/ 0 w 957240"/>
                <a:gd name="textAreaRight" fmla="*/ 957600 w 957240"/>
                <a:gd name="textAreaTop" fmla="*/ 0 h 998280"/>
                <a:gd name="textAreaBottom" fmla="*/ 998640 h 998280"/>
              </a:gdLst>
              <a:ahLst/>
              <a:rect l="textAreaLeft" t="textAreaTop" r="textAreaRight" b="textAreaBottom"/>
              <a:pathLst>
                <a:path w="603" h="629">
                  <a:moveTo>
                    <a:pt x="482" y="525"/>
                  </a:moveTo>
                  <a:lnTo>
                    <a:pt x="491" y="503"/>
                  </a:lnTo>
                  <a:lnTo>
                    <a:pt x="503" y="482"/>
                  </a:lnTo>
                  <a:lnTo>
                    <a:pt x="514" y="463"/>
                  </a:lnTo>
                  <a:lnTo>
                    <a:pt x="528" y="448"/>
                  </a:lnTo>
                  <a:lnTo>
                    <a:pt x="536" y="441"/>
                  </a:lnTo>
                  <a:lnTo>
                    <a:pt x="544" y="436"/>
                  </a:lnTo>
                  <a:lnTo>
                    <a:pt x="554" y="431"/>
                  </a:lnTo>
                  <a:lnTo>
                    <a:pt x="563" y="428"/>
                  </a:lnTo>
                  <a:lnTo>
                    <a:pt x="573" y="426"/>
                  </a:lnTo>
                  <a:lnTo>
                    <a:pt x="583" y="428"/>
                  </a:lnTo>
                  <a:lnTo>
                    <a:pt x="592" y="431"/>
                  </a:lnTo>
                  <a:lnTo>
                    <a:pt x="603" y="436"/>
                  </a:lnTo>
                  <a:lnTo>
                    <a:pt x="589" y="425"/>
                  </a:lnTo>
                  <a:lnTo>
                    <a:pt x="567" y="407"/>
                  </a:lnTo>
                  <a:lnTo>
                    <a:pt x="538" y="383"/>
                  </a:lnTo>
                  <a:lnTo>
                    <a:pt x="503" y="356"/>
                  </a:lnTo>
                  <a:lnTo>
                    <a:pt x="463" y="324"/>
                  </a:lnTo>
                  <a:lnTo>
                    <a:pt x="421" y="290"/>
                  </a:lnTo>
                  <a:lnTo>
                    <a:pt x="376" y="255"/>
                  </a:lnTo>
                  <a:lnTo>
                    <a:pt x="330" y="219"/>
                  </a:lnTo>
                  <a:lnTo>
                    <a:pt x="285" y="182"/>
                  </a:lnTo>
                  <a:lnTo>
                    <a:pt x="240" y="147"/>
                  </a:lnTo>
                  <a:lnTo>
                    <a:pt x="200" y="113"/>
                  </a:lnTo>
                  <a:lnTo>
                    <a:pt x="162" y="83"/>
                  </a:lnTo>
                  <a:lnTo>
                    <a:pt x="130" y="57"/>
                  </a:lnTo>
                  <a:lnTo>
                    <a:pt x="103" y="37"/>
                  </a:lnTo>
                  <a:lnTo>
                    <a:pt x="83" y="21"/>
                  </a:lnTo>
                  <a:lnTo>
                    <a:pt x="74" y="11"/>
                  </a:lnTo>
                  <a:lnTo>
                    <a:pt x="61" y="3"/>
                  </a:lnTo>
                  <a:lnTo>
                    <a:pt x="47" y="0"/>
                  </a:lnTo>
                  <a:lnTo>
                    <a:pt x="31" y="1"/>
                  </a:lnTo>
                  <a:lnTo>
                    <a:pt x="18" y="8"/>
                  </a:lnTo>
                  <a:lnTo>
                    <a:pt x="7" y="19"/>
                  </a:lnTo>
                  <a:lnTo>
                    <a:pt x="0" y="35"/>
                  </a:lnTo>
                  <a:lnTo>
                    <a:pt x="2" y="54"/>
                  </a:lnTo>
                  <a:lnTo>
                    <a:pt x="11" y="78"/>
                  </a:lnTo>
                  <a:lnTo>
                    <a:pt x="23" y="94"/>
                  </a:lnTo>
                  <a:lnTo>
                    <a:pt x="40" y="120"/>
                  </a:lnTo>
                  <a:lnTo>
                    <a:pt x="64" y="150"/>
                  </a:lnTo>
                  <a:lnTo>
                    <a:pt x="95" y="187"/>
                  </a:lnTo>
                  <a:lnTo>
                    <a:pt x="128" y="227"/>
                  </a:lnTo>
                  <a:lnTo>
                    <a:pt x="163" y="271"/>
                  </a:lnTo>
                  <a:lnTo>
                    <a:pt x="202" y="318"/>
                  </a:lnTo>
                  <a:lnTo>
                    <a:pt x="242" y="364"/>
                  </a:lnTo>
                  <a:lnTo>
                    <a:pt x="282" y="410"/>
                  </a:lnTo>
                  <a:lnTo>
                    <a:pt x="320" y="455"/>
                  </a:lnTo>
                  <a:lnTo>
                    <a:pt x="355" y="498"/>
                  </a:lnTo>
                  <a:lnTo>
                    <a:pt x="389" y="536"/>
                  </a:lnTo>
                  <a:lnTo>
                    <a:pt x="419" y="570"/>
                  </a:lnTo>
                  <a:lnTo>
                    <a:pt x="443" y="597"/>
                  </a:lnTo>
                  <a:lnTo>
                    <a:pt x="461" y="618"/>
                  </a:lnTo>
                  <a:lnTo>
                    <a:pt x="472" y="629"/>
                  </a:lnTo>
                  <a:lnTo>
                    <a:pt x="467" y="610"/>
                  </a:lnTo>
                  <a:lnTo>
                    <a:pt x="467" y="586"/>
                  </a:lnTo>
                  <a:lnTo>
                    <a:pt x="472" y="555"/>
                  </a:lnTo>
                  <a:lnTo>
                    <a:pt x="482" y="525"/>
                  </a:lnTo>
                  <a:close/>
                </a:path>
              </a:pathLst>
            </a:custGeom>
            <a:solidFill>
              <a:srgbClr val="e0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26"/>
            <p:cNvSpPr/>
            <p:nvPr/>
          </p:nvSpPr>
          <p:spPr>
            <a:xfrm>
              <a:off x="3576600" y="5748120"/>
              <a:ext cx="957240" cy="998280"/>
            </a:xfrm>
            <a:custGeom>
              <a:avLst/>
              <a:gdLst>
                <a:gd name="textAreaLeft" fmla="*/ 0 w 957240"/>
                <a:gd name="textAreaRight" fmla="*/ 957600 w 957240"/>
                <a:gd name="textAreaTop" fmla="*/ 0 h 998280"/>
                <a:gd name="textAreaBottom" fmla="*/ 998640 h 998280"/>
              </a:gdLst>
              <a:ahLst/>
              <a:rect l="textAreaLeft" t="textAreaTop" r="textAreaRight" b="textAreaBottom"/>
              <a:pathLst>
                <a:path w="603" h="629">
                  <a:moveTo>
                    <a:pt x="482" y="525"/>
                  </a:moveTo>
                  <a:lnTo>
                    <a:pt x="482" y="525"/>
                  </a:lnTo>
                  <a:lnTo>
                    <a:pt x="491" y="503"/>
                  </a:lnTo>
                  <a:lnTo>
                    <a:pt x="503" y="482"/>
                  </a:lnTo>
                  <a:lnTo>
                    <a:pt x="514" y="463"/>
                  </a:lnTo>
                  <a:lnTo>
                    <a:pt x="528" y="448"/>
                  </a:lnTo>
                  <a:lnTo>
                    <a:pt x="536" y="441"/>
                  </a:lnTo>
                  <a:lnTo>
                    <a:pt x="544" y="436"/>
                  </a:lnTo>
                  <a:lnTo>
                    <a:pt x="554" y="431"/>
                  </a:lnTo>
                  <a:lnTo>
                    <a:pt x="563" y="428"/>
                  </a:lnTo>
                  <a:lnTo>
                    <a:pt x="573" y="426"/>
                  </a:lnTo>
                  <a:lnTo>
                    <a:pt x="583" y="428"/>
                  </a:lnTo>
                  <a:lnTo>
                    <a:pt x="592" y="431"/>
                  </a:lnTo>
                  <a:lnTo>
                    <a:pt x="603" y="436"/>
                  </a:lnTo>
                  <a:lnTo>
                    <a:pt x="589" y="425"/>
                  </a:lnTo>
                  <a:lnTo>
                    <a:pt x="567" y="407"/>
                  </a:lnTo>
                  <a:lnTo>
                    <a:pt x="538" y="383"/>
                  </a:lnTo>
                  <a:lnTo>
                    <a:pt x="503" y="356"/>
                  </a:lnTo>
                  <a:lnTo>
                    <a:pt x="463" y="324"/>
                  </a:lnTo>
                  <a:lnTo>
                    <a:pt x="421" y="290"/>
                  </a:lnTo>
                  <a:lnTo>
                    <a:pt x="376" y="255"/>
                  </a:lnTo>
                  <a:lnTo>
                    <a:pt x="330" y="219"/>
                  </a:lnTo>
                  <a:lnTo>
                    <a:pt x="285" y="182"/>
                  </a:lnTo>
                  <a:lnTo>
                    <a:pt x="240" y="147"/>
                  </a:lnTo>
                  <a:lnTo>
                    <a:pt x="200" y="113"/>
                  </a:lnTo>
                  <a:lnTo>
                    <a:pt x="162" y="83"/>
                  </a:lnTo>
                  <a:lnTo>
                    <a:pt x="130" y="57"/>
                  </a:lnTo>
                  <a:lnTo>
                    <a:pt x="103" y="37"/>
                  </a:lnTo>
                  <a:lnTo>
                    <a:pt x="83" y="21"/>
                  </a:lnTo>
                  <a:lnTo>
                    <a:pt x="74" y="11"/>
                  </a:lnTo>
                  <a:lnTo>
                    <a:pt x="61" y="3"/>
                  </a:lnTo>
                  <a:lnTo>
                    <a:pt x="47" y="0"/>
                  </a:lnTo>
                  <a:lnTo>
                    <a:pt x="31" y="1"/>
                  </a:lnTo>
                  <a:lnTo>
                    <a:pt x="18" y="8"/>
                  </a:lnTo>
                  <a:lnTo>
                    <a:pt x="7" y="19"/>
                  </a:lnTo>
                  <a:lnTo>
                    <a:pt x="0" y="35"/>
                  </a:lnTo>
                  <a:lnTo>
                    <a:pt x="2" y="54"/>
                  </a:lnTo>
                  <a:lnTo>
                    <a:pt x="11" y="78"/>
                  </a:lnTo>
                  <a:lnTo>
                    <a:pt x="23" y="94"/>
                  </a:lnTo>
                  <a:lnTo>
                    <a:pt x="40" y="120"/>
                  </a:lnTo>
                  <a:lnTo>
                    <a:pt x="64" y="150"/>
                  </a:lnTo>
                  <a:lnTo>
                    <a:pt x="95" y="187"/>
                  </a:lnTo>
                  <a:lnTo>
                    <a:pt x="128" y="227"/>
                  </a:lnTo>
                  <a:lnTo>
                    <a:pt x="163" y="271"/>
                  </a:lnTo>
                  <a:lnTo>
                    <a:pt x="202" y="318"/>
                  </a:lnTo>
                  <a:lnTo>
                    <a:pt x="242" y="364"/>
                  </a:lnTo>
                  <a:lnTo>
                    <a:pt x="282" y="410"/>
                  </a:lnTo>
                  <a:lnTo>
                    <a:pt x="320" y="455"/>
                  </a:lnTo>
                  <a:lnTo>
                    <a:pt x="355" y="498"/>
                  </a:lnTo>
                  <a:lnTo>
                    <a:pt x="389" y="536"/>
                  </a:lnTo>
                  <a:lnTo>
                    <a:pt x="419" y="570"/>
                  </a:lnTo>
                  <a:lnTo>
                    <a:pt x="443" y="597"/>
                  </a:lnTo>
                  <a:lnTo>
                    <a:pt x="461" y="618"/>
                  </a:lnTo>
                  <a:lnTo>
                    <a:pt x="472" y="629"/>
                  </a:lnTo>
                  <a:lnTo>
                    <a:pt x="467" y="610"/>
                  </a:lnTo>
                  <a:lnTo>
                    <a:pt x="467" y="586"/>
                  </a:lnTo>
                  <a:lnTo>
                    <a:pt x="472" y="555"/>
                  </a:lnTo>
                  <a:lnTo>
                    <a:pt x="482" y="5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7"/>
            <p:cNvSpPr/>
            <p:nvPr/>
          </p:nvSpPr>
          <p:spPr>
            <a:xfrm>
              <a:off x="4341600" y="6459120"/>
              <a:ext cx="141480" cy="207720"/>
            </a:xfrm>
            <a:custGeom>
              <a:avLst/>
              <a:gdLst>
                <a:gd name="textAreaLeft" fmla="*/ 0 w 141480"/>
                <a:gd name="textAreaRight" fmla="*/ 141840 w 141480"/>
                <a:gd name="textAreaTop" fmla="*/ 0 h 207720"/>
                <a:gd name="textAreaBottom" fmla="*/ 208080 h 207720"/>
              </a:gdLst>
              <a:ahLst/>
              <a:rect l="textAreaLeft" t="textAreaTop" r="textAreaRight" b="textAreaBottom"/>
              <a:pathLst>
                <a:path w="89" h="131">
                  <a:moveTo>
                    <a:pt x="0" y="77"/>
                  </a:moveTo>
                  <a:lnTo>
                    <a:pt x="9" y="55"/>
                  </a:lnTo>
                  <a:lnTo>
                    <a:pt x="21" y="34"/>
                  </a:lnTo>
                  <a:lnTo>
                    <a:pt x="32" y="15"/>
                  </a:lnTo>
                  <a:lnTo>
                    <a:pt x="46" y="0"/>
                  </a:lnTo>
                  <a:lnTo>
                    <a:pt x="59" y="16"/>
                  </a:lnTo>
                  <a:lnTo>
                    <a:pt x="73" y="32"/>
                  </a:lnTo>
                  <a:lnTo>
                    <a:pt x="85" y="45"/>
                  </a:lnTo>
                  <a:lnTo>
                    <a:pt x="89" y="50"/>
                  </a:lnTo>
                  <a:lnTo>
                    <a:pt x="77" y="55"/>
                  </a:lnTo>
                  <a:lnTo>
                    <a:pt x="65" y="63"/>
                  </a:lnTo>
                  <a:lnTo>
                    <a:pt x="56" y="74"/>
                  </a:lnTo>
                  <a:lnTo>
                    <a:pt x="49" y="87"/>
                  </a:lnTo>
                  <a:lnTo>
                    <a:pt x="43" y="101"/>
                  </a:lnTo>
                  <a:lnTo>
                    <a:pt x="41" y="112"/>
                  </a:lnTo>
                  <a:lnTo>
                    <a:pt x="45" y="123"/>
                  </a:lnTo>
                  <a:lnTo>
                    <a:pt x="51" y="131"/>
                  </a:lnTo>
                  <a:lnTo>
                    <a:pt x="45" y="125"/>
                  </a:lnTo>
                  <a:lnTo>
                    <a:pt x="37" y="117"/>
                  </a:lnTo>
                  <a:lnTo>
                    <a:pt x="27" y="109"/>
                  </a:lnTo>
                  <a:lnTo>
                    <a:pt x="19" y="99"/>
                  </a:lnTo>
                  <a:lnTo>
                    <a:pt x="11" y="91"/>
                  </a:lnTo>
                  <a:lnTo>
                    <a:pt x="6" y="84"/>
                  </a:lnTo>
                  <a:lnTo>
                    <a:pt x="1" y="79"/>
                  </a:lnTo>
                  <a:lnTo>
                    <a:pt x="0" y="77"/>
                  </a:lnTo>
                  <a:close/>
                </a:path>
              </a:pathLst>
            </a:custGeom>
            <a:solidFill>
              <a:srgbClr val="e0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8"/>
            <p:cNvSpPr/>
            <p:nvPr/>
          </p:nvSpPr>
          <p:spPr>
            <a:xfrm>
              <a:off x="4341600" y="6459120"/>
              <a:ext cx="141480" cy="207720"/>
            </a:xfrm>
            <a:custGeom>
              <a:avLst/>
              <a:gdLst>
                <a:gd name="textAreaLeft" fmla="*/ 0 w 141480"/>
                <a:gd name="textAreaRight" fmla="*/ 141840 w 141480"/>
                <a:gd name="textAreaTop" fmla="*/ 0 h 207720"/>
                <a:gd name="textAreaBottom" fmla="*/ 208080 h 207720"/>
              </a:gdLst>
              <a:ahLst/>
              <a:rect l="textAreaLeft" t="textAreaTop" r="textAreaRight" b="textAreaBottom"/>
              <a:pathLst>
                <a:path w="89" h="131">
                  <a:moveTo>
                    <a:pt x="0" y="77"/>
                  </a:moveTo>
                  <a:lnTo>
                    <a:pt x="0" y="77"/>
                  </a:lnTo>
                  <a:lnTo>
                    <a:pt x="9" y="55"/>
                  </a:lnTo>
                  <a:lnTo>
                    <a:pt x="21" y="34"/>
                  </a:lnTo>
                  <a:lnTo>
                    <a:pt x="32" y="15"/>
                  </a:lnTo>
                  <a:lnTo>
                    <a:pt x="46" y="0"/>
                  </a:lnTo>
                  <a:lnTo>
                    <a:pt x="59" y="16"/>
                  </a:lnTo>
                  <a:lnTo>
                    <a:pt x="73" y="32"/>
                  </a:lnTo>
                  <a:lnTo>
                    <a:pt x="85" y="45"/>
                  </a:lnTo>
                  <a:lnTo>
                    <a:pt x="89" y="50"/>
                  </a:lnTo>
                  <a:lnTo>
                    <a:pt x="77" y="55"/>
                  </a:lnTo>
                  <a:lnTo>
                    <a:pt x="65" y="63"/>
                  </a:lnTo>
                  <a:lnTo>
                    <a:pt x="56" y="74"/>
                  </a:lnTo>
                  <a:lnTo>
                    <a:pt x="49" y="87"/>
                  </a:lnTo>
                  <a:lnTo>
                    <a:pt x="43" y="101"/>
                  </a:lnTo>
                  <a:lnTo>
                    <a:pt x="41" y="112"/>
                  </a:lnTo>
                  <a:lnTo>
                    <a:pt x="45" y="123"/>
                  </a:lnTo>
                  <a:lnTo>
                    <a:pt x="51" y="131"/>
                  </a:lnTo>
                  <a:lnTo>
                    <a:pt x="45" y="125"/>
                  </a:lnTo>
                  <a:lnTo>
                    <a:pt x="37" y="117"/>
                  </a:lnTo>
                  <a:lnTo>
                    <a:pt x="27" y="109"/>
                  </a:lnTo>
                  <a:lnTo>
                    <a:pt x="19" y="99"/>
                  </a:lnTo>
                  <a:lnTo>
                    <a:pt x="11" y="91"/>
                  </a:lnTo>
                  <a:lnTo>
                    <a:pt x="6" y="84"/>
                  </a:lnTo>
                  <a:lnTo>
                    <a:pt x="1" y="79"/>
                  </a:lnTo>
                  <a:lnTo>
                    <a:pt x="0"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9"/>
            <p:cNvSpPr/>
            <p:nvPr/>
          </p:nvSpPr>
          <p:spPr>
            <a:xfrm>
              <a:off x="4406760" y="6424200"/>
              <a:ext cx="152280" cy="250560"/>
            </a:xfrm>
            <a:custGeom>
              <a:avLst/>
              <a:gdLst>
                <a:gd name="textAreaLeft" fmla="*/ 0 w 152280"/>
                <a:gd name="textAreaRight" fmla="*/ 152640 w 152280"/>
                <a:gd name="textAreaTop" fmla="*/ 0 h 250560"/>
                <a:gd name="textAreaBottom" fmla="*/ 250920 h 250560"/>
              </a:gdLst>
              <a:ahLst/>
              <a:rect l="textAreaLeft" t="textAreaTop" r="textAreaRight" b="textAreaBottom"/>
              <a:pathLst>
                <a:path w="96" h="158">
                  <a:moveTo>
                    <a:pt x="10" y="153"/>
                  </a:moveTo>
                  <a:lnTo>
                    <a:pt x="4" y="145"/>
                  </a:lnTo>
                  <a:lnTo>
                    <a:pt x="0" y="134"/>
                  </a:lnTo>
                  <a:lnTo>
                    <a:pt x="2" y="123"/>
                  </a:lnTo>
                  <a:lnTo>
                    <a:pt x="8" y="109"/>
                  </a:lnTo>
                  <a:lnTo>
                    <a:pt x="15" y="96"/>
                  </a:lnTo>
                  <a:lnTo>
                    <a:pt x="24" y="85"/>
                  </a:lnTo>
                  <a:lnTo>
                    <a:pt x="36" y="77"/>
                  </a:lnTo>
                  <a:lnTo>
                    <a:pt x="48" y="72"/>
                  </a:lnTo>
                  <a:lnTo>
                    <a:pt x="44" y="67"/>
                  </a:lnTo>
                  <a:lnTo>
                    <a:pt x="32" y="54"/>
                  </a:lnTo>
                  <a:lnTo>
                    <a:pt x="18" y="38"/>
                  </a:lnTo>
                  <a:lnTo>
                    <a:pt x="5" y="22"/>
                  </a:lnTo>
                  <a:lnTo>
                    <a:pt x="13" y="15"/>
                  </a:lnTo>
                  <a:lnTo>
                    <a:pt x="21" y="10"/>
                  </a:lnTo>
                  <a:lnTo>
                    <a:pt x="31" y="5"/>
                  </a:lnTo>
                  <a:lnTo>
                    <a:pt x="40" y="2"/>
                  </a:lnTo>
                  <a:lnTo>
                    <a:pt x="50" y="0"/>
                  </a:lnTo>
                  <a:lnTo>
                    <a:pt x="60" y="2"/>
                  </a:lnTo>
                  <a:lnTo>
                    <a:pt x="69" y="5"/>
                  </a:lnTo>
                  <a:lnTo>
                    <a:pt x="80" y="10"/>
                  </a:lnTo>
                  <a:lnTo>
                    <a:pt x="92" y="26"/>
                  </a:lnTo>
                  <a:lnTo>
                    <a:pt x="96" y="50"/>
                  </a:lnTo>
                  <a:lnTo>
                    <a:pt x="93" y="78"/>
                  </a:lnTo>
                  <a:lnTo>
                    <a:pt x="84" y="106"/>
                  </a:lnTo>
                  <a:lnTo>
                    <a:pt x="71" y="131"/>
                  </a:lnTo>
                  <a:lnTo>
                    <a:pt x="53" y="150"/>
                  </a:lnTo>
                  <a:lnTo>
                    <a:pt x="32" y="158"/>
                  </a:lnTo>
                  <a:lnTo>
                    <a:pt x="10" y="153"/>
                  </a:lnTo>
                  <a:close/>
                </a:path>
              </a:pathLst>
            </a:custGeom>
            <a:solidFill>
              <a:srgbClr val="d1b2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30"/>
            <p:cNvSpPr/>
            <p:nvPr/>
          </p:nvSpPr>
          <p:spPr>
            <a:xfrm>
              <a:off x="4406760" y="6424200"/>
              <a:ext cx="152280" cy="250560"/>
            </a:xfrm>
            <a:custGeom>
              <a:avLst/>
              <a:gdLst>
                <a:gd name="textAreaLeft" fmla="*/ 0 w 152280"/>
                <a:gd name="textAreaRight" fmla="*/ 152640 w 152280"/>
                <a:gd name="textAreaTop" fmla="*/ 0 h 250560"/>
                <a:gd name="textAreaBottom" fmla="*/ 250920 h 250560"/>
              </a:gdLst>
              <a:ahLst/>
              <a:rect l="textAreaLeft" t="textAreaTop" r="textAreaRight" b="textAreaBottom"/>
              <a:pathLst>
                <a:path w="96" h="158">
                  <a:moveTo>
                    <a:pt x="10" y="153"/>
                  </a:moveTo>
                  <a:lnTo>
                    <a:pt x="10" y="153"/>
                  </a:lnTo>
                  <a:lnTo>
                    <a:pt x="4" y="145"/>
                  </a:lnTo>
                  <a:lnTo>
                    <a:pt x="0" y="134"/>
                  </a:lnTo>
                  <a:lnTo>
                    <a:pt x="2" y="123"/>
                  </a:lnTo>
                  <a:lnTo>
                    <a:pt x="8" y="109"/>
                  </a:lnTo>
                  <a:lnTo>
                    <a:pt x="15" y="96"/>
                  </a:lnTo>
                  <a:lnTo>
                    <a:pt x="24" y="85"/>
                  </a:lnTo>
                  <a:lnTo>
                    <a:pt x="36" y="77"/>
                  </a:lnTo>
                  <a:lnTo>
                    <a:pt x="48" y="72"/>
                  </a:lnTo>
                  <a:lnTo>
                    <a:pt x="44" y="67"/>
                  </a:lnTo>
                  <a:lnTo>
                    <a:pt x="32" y="54"/>
                  </a:lnTo>
                  <a:lnTo>
                    <a:pt x="18" y="38"/>
                  </a:lnTo>
                  <a:lnTo>
                    <a:pt x="5" y="22"/>
                  </a:lnTo>
                  <a:lnTo>
                    <a:pt x="13" y="15"/>
                  </a:lnTo>
                  <a:lnTo>
                    <a:pt x="21" y="10"/>
                  </a:lnTo>
                  <a:lnTo>
                    <a:pt x="31" y="5"/>
                  </a:lnTo>
                  <a:lnTo>
                    <a:pt x="40" y="2"/>
                  </a:lnTo>
                  <a:lnTo>
                    <a:pt x="50" y="0"/>
                  </a:lnTo>
                  <a:lnTo>
                    <a:pt x="60" y="2"/>
                  </a:lnTo>
                  <a:lnTo>
                    <a:pt x="69" y="5"/>
                  </a:lnTo>
                  <a:lnTo>
                    <a:pt x="80" y="10"/>
                  </a:lnTo>
                  <a:lnTo>
                    <a:pt x="92" y="26"/>
                  </a:lnTo>
                  <a:lnTo>
                    <a:pt x="96" y="50"/>
                  </a:lnTo>
                  <a:lnTo>
                    <a:pt x="93" y="78"/>
                  </a:lnTo>
                  <a:lnTo>
                    <a:pt x="84" y="106"/>
                  </a:lnTo>
                  <a:lnTo>
                    <a:pt x="71" y="131"/>
                  </a:lnTo>
                  <a:lnTo>
                    <a:pt x="53" y="150"/>
                  </a:lnTo>
                  <a:lnTo>
                    <a:pt x="32" y="158"/>
                  </a:lnTo>
                  <a:lnTo>
                    <a:pt x="10"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31"/>
            <p:cNvSpPr/>
            <p:nvPr/>
          </p:nvSpPr>
          <p:spPr>
            <a:xfrm>
              <a:off x="4413240" y="5438520"/>
              <a:ext cx="698400" cy="458280"/>
            </a:xfrm>
            <a:custGeom>
              <a:avLst/>
              <a:gdLst>
                <a:gd name="textAreaLeft" fmla="*/ 0 w 698400"/>
                <a:gd name="textAreaRight" fmla="*/ 698760 w 698400"/>
                <a:gd name="textAreaTop" fmla="*/ 0 h 458280"/>
                <a:gd name="textAreaBottom" fmla="*/ 458280 h 458280"/>
              </a:gdLst>
              <a:ahLst/>
              <a:rect l="textAreaLeft" t="textAreaTop" r="textAreaRight" b="textAreaBottom"/>
              <a:pathLst>
                <a:path w="440" h="289">
                  <a:moveTo>
                    <a:pt x="404" y="289"/>
                  </a:moveTo>
                  <a:lnTo>
                    <a:pt x="3" y="42"/>
                  </a:lnTo>
                  <a:lnTo>
                    <a:pt x="0" y="27"/>
                  </a:lnTo>
                  <a:lnTo>
                    <a:pt x="6" y="13"/>
                  </a:lnTo>
                  <a:lnTo>
                    <a:pt x="17" y="2"/>
                  </a:lnTo>
                  <a:lnTo>
                    <a:pt x="32" y="0"/>
                  </a:lnTo>
                  <a:lnTo>
                    <a:pt x="38" y="3"/>
                  </a:lnTo>
                  <a:lnTo>
                    <a:pt x="52" y="10"/>
                  </a:lnTo>
                  <a:lnTo>
                    <a:pt x="73" y="21"/>
                  </a:lnTo>
                  <a:lnTo>
                    <a:pt x="99" y="35"/>
                  </a:lnTo>
                  <a:lnTo>
                    <a:pt x="128" y="51"/>
                  </a:lnTo>
                  <a:lnTo>
                    <a:pt x="160" y="69"/>
                  </a:lnTo>
                  <a:lnTo>
                    <a:pt x="195" y="89"/>
                  </a:lnTo>
                  <a:lnTo>
                    <a:pt x="230" y="109"/>
                  </a:lnTo>
                  <a:lnTo>
                    <a:pt x="267" y="129"/>
                  </a:lnTo>
                  <a:lnTo>
                    <a:pt x="302" y="150"/>
                  </a:lnTo>
                  <a:lnTo>
                    <a:pt x="334" y="169"/>
                  </a:lnTo>
                  <a:lnTo>
                    <a:pt x="364" y="187"/>
                  </a:lnTo>
                  <a:lnTo>
                    <a:pt x="390" y="203"/>
                  </a:lnTo>
                  <a:lnTo>
                    <a:pt x="411" y="216"/>
                  </a:lnTo>
                  <a:lnTo>
                    <a:pt x="425" y="225"/>
                  </a:lnTo>
                  <a:lnTo>
                    <a:pt x="433" y="232"/>
                  </a:lnTo>
                  <a:lnTo>
                    <a:pt x="438" y="240"/>
                  </a:lnTo>
                  <a:lnTo>
                    <a:pt x="440" y="249"/>
                  </a:lnTo>
                  <a:lnTo>
                    <a:pt x="438" y="257"/>
                  </a:lnTo>
                  <a:lnTo>
                    <a:pt x="433" y="265"/>
                  </a:lnTo>
                  <a:lnTo>
                    <a:pt x="427" y="273"/>
                  </a:lnTo>
                  <a:lnTo>
                    <a:pt x="419" y="281"/>
                  </a:lnTo>
                  <a:lnTo>
                    <a:pt x="411" y="286"/>
                  </a:lnTo>
                  <a:lnTo>
                    <a:pt x="404"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32"/>
            <p:cNvSpPr/>
            <p:nvPr/>
          </p:nvSpPr>
          <p:spPr>
            <a:xfrm>
              <a:off x="4413240" y="5438520"/>
              <a:ext cx="698400" cy="458280"/>
            </a:xfrm>
            <a:custGeom>
              <a:avLst/>
              <a:gdLst>
                <a:gd name="textAreaLeft" fmla="*/ 0 w 698400"/>
                <a:gd name="textAreaRight" fmla="*/ 698760 w 698400"/>
                <a:gd name="textAreaTop" fmla="*/ 0 h 458280"/>
                <a:gd name="textAreaBottom" fmla="*/ 458280 h 458280"/>
              </a:gdLst>
              <a:ahLst/>
              <a:rect l="textAreaLeft" t="textAreaTop" r="textAreaRight" b="textAreaBottom"/>
              <a:pathLst>
                <a:path w="440" h="289">
                  <a:moveTo>
                    <a:pt x="404" y="289"/>
                  </a:moveTo>
                  <a:lnTo>
                    <a:pt x="3" y="42"/>
                  </a:lnTo>
                  <a:lnTo>
                    <a:pt x="0" y="27"/>
                  </a:lnTo>
                  <a:lnTo>
                    <a:pt x="6" y="13"/>
                  </a:lnTo>
                  <a:lnTo>
                    <a:pt x="17" y="2"/>
                  </a:lnTo>
                  <a:lnTo>
                    <a:pt x="32" y="0"/>
                  </a:lnTo>
                  <a:lnTo>
                    <a:pt x="38" y="3"/>
                  </a:lnTo>
                  <a:lnTo>
                    <a:pt x="52" y="10"/>
                  </a:lnTo>
                  <a:lnTo>
                    <a:pt x="73" y="21"/>
                  </a:lnTo>
                  <a:lnTo>
                    <a:pt x="99" y="35"/>
                  </a:lnTo>
                  <a:lnTo>
                    <a:pt x="128" y="51"/>
                  </a:lnTo>
                  <a:lnTo>
                    <a:pt x="160" y="69"/>
                  </a:lnTo>
                  <a:lnTo>
                    <a:pt x="195" y="89"/>
                  </a:lnTo>
                  <a:lnTo>
                    <a:pt x="230" y="109"/>
                  </a:lnTo>
                  <a:lnTo>
                    <a:pt x="267" y="129"/>
                  </a:lnTo>
                  <a:lnTo>
                    <a:pt x="302" y="150"/>
                  </a:lnTo>
                  <a:lnTo>
                    <a:pt x="334" y="169"/>
                  </a:lnTo>
                  <a:lnTo>
                    <a:pt x="364" y="187"/>
                  </a:lnTo>
                  <a:lnTo>
                    <a:pt x="390" y="203"/>
                  </a:lnTo>
                  <a:lnTo>
                    <a:pt x="411" y="216"/>
                  </a:lnTo>
                  <a:lnTo>
                    <a:pt x="425" y="225"/>
                  </a:lnTo>
                  <a:lnTo>
                    <a:pt x="433" y="232"/>
                  </a:lnTo>
                  <a:lnTo>
                    <a:pt x="438" y="240"/>
                  </a:lnTo>
                  <a:lnTo>
                    <a:pt x="440" y="249"/>
                  </a:lnTo>
                  <a:lnTo>
                    <a:pt x="438" y="257"/>
                  </a:lnTo>
                  <a:lnTo>
                    <a:pt x="433" y="265"/>
                  </a:lnTo>
                  <a:lnTo>
                    <a:pt x="427" y="273"/>
                  </a:lnTo>
                  <a:lnTo>
                    <a:pt x="419" y="281"/>
                  </a:lnTo>
                  <a:lnTo>
                    <a:pt x="411" y="286"/>
                  </a:lnTo>
                  <a:lnTo>
                    <a:pt x="404" y="2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33"/>
            <p:cNvSpPr/>
            <p:nvPr/>
          </p:nvSpPr>
          <p:spPr>
            <a:xfrm>
              <a:off x="3693960" y="5505120"/>
              <a:ext cx="1360440" cy="1276200"/>
            </a:xfrm>
            <a:custGeom>
              <a:avLst/>
              <a:gdLst>
                <a:gd name="textAreaLeft" fmla="*/ 0 w 1360440"/>
                <a:gd name="textAreaRight" fmla="*/ 1360800 w 1360440"/>
                <a:gd name="textAreaTop" fmla="*/ 0 h 1276200"/>
                <a:gd name="textAreaBottom" fmla="*/ 1276560 h 1276200"/>
              </a:gdLst>
              <a:ahLst/>
              <a:rect l="textAreaLeft" t="textAreaTop" r="textAreaRight" b="textAreaBottom"/>
              <a:pathLst>
                <a:path w="857" h="804">
                  <a:moveTo>
                    <a:pt x="398" y="782"/>
                  </a:moveTo>
                  <a:lnTo>
                    <a:pt x="393" y="763"/>
                  </a:lnTo>
                  <a:lnTo>
                    <a:pt x="393" y="739"/>
                  </a:lnTo>
                  <a:lnTo>
                    <a:pt x="398" y="708"/>
                  </a:lnTo>
                  <a:lnTo>
                    <a:pt x="408" y="678"/>
                  </a:lnTo>
                  <a:lnTo>
                    <a:pt x="409" y="680"/>
                  </a:lnTo>
                  <a:lnTo>
                    <a:pt x="414" y="685"/>
                  </a:lnTo>
                  <a:lnTo>
                    <a:pt x="419" y="692"/>
                  </a:lnTo>
                  <a:lnTo>
                    <a:pt x="427" y="700"/>
                  </a:lnTo>
                  <a:lnTo>
                    <a:pt x="435" y="710"/>
                  </a:lnTo>
                  <a:lnTo>
                    <a:pt x="445" y="718"/>
                  </a:lnTo>
                  <a:lnTo>
                    <a:pt x="453" y="726"/>
                  </a:lnTo>
                  <a:lnTo>
                    <a:pt x="459" y="732"/>
                  </a:lnTo>
                  <a:lnTo>
                    <a:pt x="481" y="737"/>
                  </a:lnTo>
                  <a:lnTo>
                    <a:pt x="502" y="729"/>
                  </a:lnTo>
                  <a:lnTo>
                    <a:pt x="520" y="710"/>
                  </a:lnTo>
                  <a:lnTo>
                    <a:pt x="533" y="685"/>
                  </a:lnTo>
                  <a:lnTo>
                    <a:pt x="542" y="657"/>
                  </a:lnTo>
                  <a:lnTo>
                    <a:pt x="545" y="629"/>
                  </a:lnTo>
                  <a:lnTo>
                    <a:pt x="541" y="605"/>
                  </a:lnTo>
                  <a:lnTo>
                    <a:pt x="529" y="589"/>
                  </a:lnTo>
                  <a:lnTo>
                    <a:pt x="515" y="578"/>
                  </a:lnTo>
                  <a:lnTo>
                    <a:pt x="493" y="560"/>
                  </a:lnTo>
                  <a:lnTo>
                    <a:pt x="464" y="536"/>
                  </a:lnTo>
                  <a:lnTo>
                    <a:pt x="429" y="509"/>
                  </a:lnTo>
                  <a:lnTo>
                    <a:pt x="389" y="477"/>
                  </a:lnTo>
                  <a:lnTo>
                    <a:pt x="347" y="443"/>
                  </a:lnTo>
                  <a:lnTo>
                    <a:pt x="302" y="408"/>
                  </a:lnTo>
                  <a:lnTo>
                    <a:pt x="256" y="372"/>
                  </a:lnTo>
                  <a:lnTo>
                    <a:pt x="211" y="335"/>
                  </a:lnTo>
                  <a:lnTo>
                    <a:pt x="166" y="300"/>
                  </a:lnTo>
                  <a:lnTo>
                    <a:pt x="126" y="266"/>
                  </a:lnTo>
                  <a:lnTo>
                    <a:pt x="88" y="236"/>
                  </a:lnTo>
                  <a:lnTo>
                    <a:pt x="56" y="210"/>
                  </a:lnTo>
                  <a:lnTo>
                    <a:pt x="29" y="190"/>
                  </a:lnTo>
                  <a:lnTo>
                    <a:pt x="9" y="174"/>
                  </a:lnTo>
                  <a:lnTo>
                    <a:pt x="0" y="164"/>
                  </a:lnTo>
                  <a:lnTo>
                    <a:pt x="456" y="0"/>
                  </a:lnTo>
                  <a:lnTo>
                    <a:pt x="857" y="247"/>
                  </a:lnTo>
                  <a:lnTo>
                    <a:pt x="854" y="252"/>
                  </a:lnTo>
                  <a:lnTo>
                    <a:pt x="846" y="266"/>
                  </a:lnTo>
                  <a:lnTo>
                    <a:pt x="835" y="289"/>
                  </a:lnTo>
                  <a:lnTo>
                    <a:pt x="819" y="317"/>
                  </a:lnTo>
                  <a:lnTo>
                    <a:pt x="798" y="351"/>
                  </a:lnTo>
                  <a:lnTo>
                    <a:pt x="777" y="389"/>
                  </a:lnTo>
                  <a:lnTo>
                    <a:pt x="753" y="431"/>
                  </a:lnTo>
                  <a:lnTo>
                    <a:pt x="728" y="474"/>
                  </a:lnTo>
                  <a:lnTo>
                    <a:pt x="702" y="518"/>
                  </a:lnTo>
                  <a:lnTo>
                    <a:pt x="677" y="562"/>
                  </a:lnTo>
                  <a:lnTo>
                    <a:pt x="651" y="603"/>
                  </a:lnTo>
                  <a:lnTo>
                    <a:pt x="627" y="641"/>
                  </a:lnTo>
                  <a:lnTo>
                    <a:pt x="605" y="675"/>
                  </a:lnTo>
                  <a:lnTo>
                    <a:pt x="585" y="704"/>
                  </a:lnTo>
                  <a:lnTo>
                    <a:pt x="569" y="726"/>
                  </a:lnTo>
                  <a:lnTo>
                    <a:pt x="557" y="740"/>
                  </a:lnTo>
                  <a:lnTo>
                    <a:pt x="534" y="760"/>
                  </a:lnTo>
                  <a:lnTo>
                    <a:pt x="512" y="776"/>
                  </a:lnTo>
                  <a:lnTo>
                    <a:pt x="489" y="790"/>
                  </a:lnTo>
                  <a:lnTo>
                    <a:pt x="469" y="799"/>
                  </a:lnTo>
                  <a:lnTo>
                    <a:pt x="446" y="804"/>
                  </a:lnTo>
                  <a:lnTo>
                    <a:pt x="429" y="804"/>
                  </a:lnTo>
                  <a:lnTo>
                    <a:pt x="411" y="796"/>
                  </a:lnTo>
                  <a:lnTo>
                    <a:pt x="398"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34"/>
            <p:cNvSpPr/>
            <p:nvPr/>
          </p:nvSpPr>
          <p:spPr>
            <a:xfrm>
              <a:off x="3693960" y="5505120"/>
              <a:ext cx="1360440" cy="1276200"/>
            </a:xfrm>
            <a:custGeom>
              <a:avLst/>
              <a:gdLst>
                <a:gd name="textAreaLeft" fmla="*/ 0 w 1360440"/>
                <a:gd name="textAreaRight" fmla="*/ 1360800 w 1360440"/>
                <a:gd name="textAreaTop" fmla="*/ 0 h 1276200"/>
                <a:gd name="textAreaBottom" fmla="*/ 1276560 h 1276200"/>
              </a:gdLst>
              <a:ahLst/>
              <a:rect l="textAreaLeft" t="textAreaTop" r="textAreaRight" b="textAreaBottom"/>
              <a:pathLst>
                <a:path w="857" h="804">
                  <a:moveTo>
                    <a:pt x="398" y="782"/>
                  </a:moveTo>
                  <a:lnTo>
                    <a:pt x="398" y="782"/>
                  </a:lnTo>
                  <a:lnTo>
                    <a:pt x="393" y="763"/>
                  </a:lnTo>
                  <a:lnTo>
                    <a:pt x="393" y="739"/>
                  </a:lnTo>
                  <a:lnTo>
                    <a:pt x="398" y="708"/>
                  </a:lnTo>
                  <a:lnTo>
                    <a:pt x="408" y="678"/>
                  </a:lnTo>
                  <a:lnTo>
                    <a:pt x="409" y="680"/>
                  </a:lnTo>
                  <a:lnTo>
                    <a:pt x="414" y="685"/>
                  </a:lnTo>
                  <a:lnTo>
                    <a:pt x="419" y="692"/>
                  </a:lnTo>
                  <a:lnTo>
                    <a:pt x="427" y="700"/>
                  </a:lnTo>
                  <a:lnTo>
                    <a:pt x="435" y="710"/>
                  </a:lnTo>
                  <a:lnTo>
                    <a:pt x="445" y="718"/>
                  </a:lnTo>
                  <a:lnTo>
                    <a:pt x="453" y="726"/>
                  </a:lnTo>
                  <a:lnTo>
                    <a:pt x="459" y="732"/>
                  </a:lnTo>
                  <a:lnTo>
                    <a:pt x="481" y="737"/>
                  </a:lnTo>
                  <a:lnTo>
                    <a:pt x="502" y="729"/>
                  </a:lnTo>
                  <a:lnTo>
                    <a:pt x="520" y="710"/>
                  </a:lnTo>
                  <a:lnTo>
                    <a:pt x="533" y="685"/>
                  </a:lnTo>
                  <a:lnTo>
                    <a:pt x="542" y="657"/>
                  </a:lnTo>
                  <a:lnTo>
                    <a:pt x="545" y="629"/>
                  </a:lnTo>
                  <a:lnTo>
                    <a:pt x="541" y="605"/>
                  </a:lnTo>
                  <a:lnTo>
                    <a:pt x="529" y="589"/>
                  </a:lnTo>
                  <a:lnTo>
                    <a:pt x="515" y="578"/>
                  </a:lnTo>
                  <a:lnTo>
                    <a:pt x="493" y="560"/>
                  </a:lnTo>
                  <a:lnTo>
                    <a:pt x="464" y="536"/>
                  </a:lnTo>
                  <a:lnTo>
                    <a:pt x="429" y="509"/>
                  </a:lnTo>
                  <a:lnTo>
                    <a:pt x="389" y="477"/>
                  </a:lnTo>
                  <a:lnTo>
                    <a:pt x="347" y="443"/>
                  </a:lnTo>
                  <a:lnTo>
                    <a:pt x="302" y="408"/>
                  </a:lnTo>
                  <a:lnTo>
                    <a:pt x="256" y="372"/>
                  </a:lnTo>
                  <a:lnTo>
                    <a:pt x="211" y="335"/>
                  </a:lnTo>
                  <a:lnTo>
                    <a:pt x="166" y="300"/>
                  </a:lnTo>
                  <a:lnTo>
                    <a:pt x="126" y="266"/>
                  </a:lnTo>
                  <a:lnTo>
                    <a:pt x="88" y="236"/>
                  </a:lnTo>
                  <a:lnTo>
                    <a:pt x="56" y="210"/>
                  </a:lnTo>
                  <a:lnTo>
                    <a:pt x="29" y="190"/>
                  </a:lnTo>
                  <a:lnTo>
                    <a:pt x="9" y="174"/>
                  </a:lnTo>
                  <a:lnTo>
                    <a:pt x="0" y="164"/>
                  </a:lnTo>
                  <a:lnTo>
                    <a:pt x="456" y="0"/>
                  </a:lnTo>
                  <a:lnTo>
                    <a:pt x="857" y="247"/>
                  </a:lnTo>
                  <a:lnTo>
                    <a:pt x="854" y="252"/>
                  </a:lnTo>
                  <a:lnTo>
                    <a:pt x="846" y="266"/>
                  </a:lnTo>
                  <a:lnTo>
                    <a:pt x="835" y="289"/>
                  </a:lnTo>
                  <a:lnTo>
                    <a:pt x="819" y="317"/>
                  </a:lnTo>
                  <a:lnTo>
                    <a:pt x="798" y="351"/>
                  </a:lnTo>
                  <a:lnTo>
                    <a:pt x="777" y="389"/>
                  </a:lnTo>
                  <a:lnTo>
                    <a:pt x="753" y="431"/>
                  </a:lnTo>
                  <a:lnTo>
                    <a:pt x="728" y="474"/>
                  </a:lnTo>
                  <a:lnTo>
                    <a:pt x="702" y="518"/>
                  </a:lnTo>
                  <a:lnTo>
                    <a:pt x="677" y="562"/>
                  </a:lnTo>
                  <a:lnTo>
                    <a:pt x="651" y="603"/>
                  </a:lnTo>
                  <a:lnTo>
                    <a:pt x="627" y="641"/>
                  </a:lnTo>
                  <a:lnTo>
                    <a:pt x="605" y="675"/>
                  </a:lnTo>
                  <a:lnTo>
                    <a:pt x="585" y="704"/>
                  </a:lnTo>
                  <a:lnTo>
                    <a:pt x="569" y="726"/>
                  </a:lnTo>
                  <a:lnTo>
                    <a:pt x="557" y="740"/>
                  </a:lnTo>
                  <a:lnTo>
                    <a:pt x="534" y="760"/>
                  </a:lnTo>
                  <a:lnTo>
                    <a:pt x="512" y="776"/>
                  </a:lnTo>
                  <a:lnTo>
                    <a:pt x="489" y="790"/>
                  </a:lnTo>
                  <a:lnTo>
                    <a:pt x="469" y="799"/>
                  </a:lnTo>
                  <a:lnTo>
                    <a:pt x="446" y="804"/>
                  </a:lnTo>
                  <a:lnTo>
                    <a:pt x="429" y="804"/>
                  </a:lnTo>
                  <a:lnTo>
                    <a:pt x="411" y="796"/>
                  </a:lnTo>
                  <a:lnTo>
                    <a:pt x="398" y="7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35"/>
            <p:cNvSpPr/>
            <p:nvPr/>
          </p:nvSpPr>
          <p:spPr>
            <a:xfrm>
              <a:off x="3833640" y="5722560"/>
              <a:ext cx="466920" cy="141120"/>
            </a:xfrm>
            <a:custGeom>
              <a:avLst/>
              <a:gdLst>
                <a:gd name="textAreaLeft" fmla="*/ 0 w 466920"/>
                <a:gd name="textAreaRight" fmla="*/ 467280 w 466920"/>
                <a:gd name="textAreaTop" fmla="*/ 0 h 141120"/>
                <a:gd name="textAreaBottom" fmla="*/ 141480 h 141120"/>
              </a:gdLst>
              <a:ahLst/>
              <a:rect l="textAreaLeft" t="textAreaTop" r="textAreaRight" b="textAreaBottom"/>
              <a:pathLst>
                <a:path w="294" h="89">
                  <a:moveTo>
                    <a:pt x="45" y="45"/>
                  </a:moveTo>
                  <a:lnTo>
                    <a:pt x="46" y="56"/>
                  </a:lnTo>
                  <a:lnTo>
                    <a:pt x="53" y="65"/>
                  </a:lnTo>
                  <a:lnTo>
                    <a:pt x="62" y="72"/>
                  </a:lnTo>
                  <a:lnTo>
                    <a:pt x="73" y="73"/>
                  </a:lnTo>
                  <a:lnTo>
                    <a:pt x="83" y="72"/>
                  </a:lnTo>
                  <a:lnTo>
                    <a:pt x="93" y="65"/>
                  </a:lnTo>
                  <a:lnTo>
                    <a:pt x="99" y="59"/>
                  </a:lnTo>
                  <a:lnTo>
                    <a:pt x="102" y="49"/>
                  </a:lnTo>
                  <a:lnTo>
                    <a:pt x="294" y="84"/>
                  </a:lnTo>
                  <a:lnTo>
                    <a:pt x="110" y="70"/>
                  </a:lnTo>
                  <a:lnTo>
                    <a:pt x="104" y="78"/>
                  </a:lnTo>
                  <a:lnTo>
                    <a:pt x="94" y="84"/>
                  </a:lnTo>
                  <a:lnTo>
                    <a:pt x="85" y="88"/>
                  </a:lnTo>
                  <a:lnTo>
                    <a:pt x="73" y="89"/>
                  </a:lnTo>
                  <a:lnTo>
                    <a:pt x="59" y="86"/>
                  </a:lnTo>
                  <a:lnTo>
                    <a:pt x="46" y="78"/>
                  </a:lnTo>
                  <a:lnTo>
                    <a:pt x="37" y="67"/>
                  </a:lnTo>
                  <a:lnTo>
                    <a:pt x="30" y="53"/>
                  </a:lnTo>
                  <a:lnTo>
                    <a:pt x="0" y="53"/>
                  </a:lnTo>
                  <a:lnTo>
                    <a:pt x="0" y="35"/>
                  </a:lnTo>
                  <a:lnTo>
                    <a:pt x="30" y="35"/>
                  </a:lnTo>
                  <a:lnTo>
                    <a:pt x="37" y="21"/>
                  </a:lnTo>
                  <a:lnTo>
                    <a:pt x="46" y="9"/>
                  </a:lnTo>
                  <a:lnTo>
                    <a:pt x="59" y="3"/>
                  </a:lnTo>
                  <a:lnTo>
                    <a:pt x="73" y="0"/>
                  </a:lnTo>
                  <a:lnTo>
                    <a:pt x="85" y="1"/>
                  </a:lnTo>
                  <a:lnTo>
                    <a:pt x="94" y="5"/>
                  </a:lnTo>
                  <a:lnTo>
                    <a:pt x="104" y="9"/>
                  </a:lnTo>
                  <a:lnTo>
                    <a:pt x="110" y="17"/>
                  </a:lnTo>
                  <a:lnTo>
                    <a:pt x="294" y="5"/>
                  </a:lnTo>
                  <a:lnTo>
                    <a:pt x="102" y="40"/>
                  </a:lnTo>
                  <a:lnTo>
                    <a:pt x="99" y="30"/>
                  </a:lnTo>
                  <a:lnTo>
                    <a:pt x="93" y="22"/>
                  </a:lnTo>
                  <a:lnTo>
                    <a:pt x="83" y="17"/>
                  </a:lnTo>
                  <a:lnTo>
                    <a:pt x="73" y="16"/>
                  </a:lnTo>
                  <a:lnTo>
                    <a:pt x="62" y="17"/>
                  </a:lnTo>
                  <a:lnTo>
                    <a:pt x="53" y="24"/>
                  </a:lnTo>
                  <a:lnTo>
                    <a:pt x="46" y="33"/>
                  </a:lnTo>
                  <a:lnTo>
                    <a:pt x="45"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36"/>
            <p:cNvSpPr/>
            <p:nvPr/>
          </p:nvSpPr>
          <p:spPr>
            <a:xfrm>
              <a:off x="3833640" y="5722560"/>
              <a:ext cx="466920" cy="141120"/>
            </a:xfrm>
            <a:custGeom>
              <a:avLst/>
              <a:gdLst>
                <a:gd name="textAreaLeft" fmla="*/ 0 w 466920"/>
                <a:gd name="textAreaRight" fmla="*/ 467280 w 466920"/>
                <a:gd name="textAreaTop" fmla="*/ 0 h 141120"/>
                <a:gd name="textAreaBottom" fmla="*/ 141480 h 141120"/>
              </a:gdLst>
              <a:ahLst/>
              <a:rect l="textAreaLeft" t="textAreaTop" r="textAreaRight" b="textAreaBottom"/>
              <a:pathLst>
                <a:path w="294" h="89">
                  <a:moveTo>
                    <a:pt x="45" y="45"/>
                  </a:moveTo>
                  <a:lnTo>
                    <a:pt x="45" y="45"/>
                  </a:lnTo>
                  <a:lnTo>
                    <a:pt x="46" y="56"/>
                  </a:lnTo>
                  <a:lnTo>
                    <a:pt x="53" y="65"/>
                  </a:lnTo>
                  <a:lnTo>
                    <a:pt x="62" y="72"/>
                  </a:lnTo>
                  <a:lnTo>
                    <a:pt x="73" y="73"/>
                  </a:lnTo>
                  <a:lnTo>
                    <a:pt x="83" y="72"/>
                  </a:lnTo>
                  <a:lnTo>
                    <a:pt x="93" y="65"/>
                  </a:lnTo>
                  <a:lnTo>
                    <a:pt x="99" y="59"/>
                  </a:lnTo>
                  <a:lnTo>
                    <a:pt x="102" y="49"/>
                  </a:lnTo>
                  <a:lnTo>
                    <a:pt x="294" y="84"/>
                  </a:lnTo>
                  <a:lnTo>
                    <a:pt x="110" y="70"/>
                  </a:lnTo>
                  <a:lnTo>
                    <a:pt x="104" y="78"/>
                  </a:lnTo>
                  <a:lnTo>
                    <a:pt x="94" y="84"/>
                  </a:lnTo>
                  <a:lnTo>
                    <a:pt x="85" y="88"/>
                  </a:lnTo>
                  <a:lnTo>
                    <a:pt x="73" y="89"/>
                  </a:lnTo>
                  <a:lnTo>
                    <a:pt x="59" y="86"/>
                  </a:lnTo>
                  <a:lnTo>
                    <a:pt x="46" y="78"/>
                  </a:lnTo>
                  <a:lnTo>
                    <a:pt x="37" y="67"/>
                  </a:lnTo>
                  <a:lnTo>
                    <a:pt x="30" y="53"/>
                  </a:lnTo>
                  <a:lnTo>
                    <a:pt x="0" y="53"/>
                  </a:lnTo>
                  <a:lnTo>
                    <a:pt x="0" y="35"/>
                  </a:lnTo>
                  <a:lnTo>
                    <a:pt x="30" y="35"/>
                  </a:lnTo>
                  <a:lnTo>
                    <a:pt x="37" y="21"/>
                  </a:lnTo>
                  <a:lnTo>
                    <a:pt x="46" y="9"/>
                  </a:lnTo>
                  <a:lnTo>
                    <a:pt x="59" y="3"/>
                  </a:lnTo>
                  <a:lnTo>
                    <a:pt x="73" y="0"/>
                  </a:lnTo>
                  <a:lnTo>
                    <a:pt x="85" y="1"/>
                  </a:lnTo>
                  <a:lnTo>
                    <a:pt x="94" y="5"/>
                  </a:lnTo>
                  <a:lnTo>
                    <a:pt x="104" y="9"/>
                  </a:lnTo>
                  <a:lnTo>
                    <a:pt x="110" y="17"/>
                  </a:lnTo>
                  <a:lnTo>
                    <a:pt x="294" y="5"/>
                  </a:lnTo>
                  <a:lnTo>
                    <a:pt x="102" y="40"/>
                  </a:lnTo>
                  <a:lnTo>
                    <a:pt x="99" y="30"/>
                  </a:lnTo>
                  <a:lnTo>
                    <a:pt x="93" y="22"/>
                  </a:lnTo>
                  <a:lnTo>
                    <a:pt x="83" y="17"/>
                  </a:lnTo>
                  <a:lnTo>
                    <a:pt x="73" y="16"/>
                  </a:lnTo>
                  <a:lnTo>
                    <a:pt x="62" y="17"/>
                  </a:lnTo>
                  <a:lnTo>
                    <a:pt x="53" y="24"/>
                  </a:lnTo>
                  <a:lnTo>
                    <a:pt x="46" y="33"/>
                  </a:lnTo>
                  <a:lnTo>
                    <a:pt x="45"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37"/>
            <p:cNvSpPr/>
            <p:nvPr/>
          </p:nvSpPr>
          <p:spPr>
            <a:xfrm>
              <a:off x="4740120" y="4789080"/>
              <a:ext cx="619200" cy="695160"/>
            </a:xfrm>
            <a:custGeom>
              <a:avLst/>
              <a:gdLst>
                <a:gd name="textAreaLeft" fmla="*/ 0 w 619200"/>
                <a:gd name="textAreaRight" fmla="*/ 619560 w 619200"/>
                <a:gd name="textAreaTop" fmla="*/ 0 h 695160"/>
                <a:gd name="textAreaBottom" fmla="*/ 695520 h 695160"/>
              </a:gdLst>
              <a:ahLst/>
              <a:rect l="textAreaLeft" t="textAreaTop" r="textAreaRight" b="textAreaBottom"/>
              <a:pathLst>
                <a:path w="390" h="438">
                  <a:moveTo>
                    <a:pt x="64" y="11"/>
                  </a:moveTo>
                  <a:lnTo>
                    <a:pt x="37" y="26"/>
                  </a:lnTo>
                  <a:lnTo>
                    <a:pt x="18" y="47"/>
                  </a:lnTo>
                  <a:lnTo>
                    <a:pt x="5" y="72"/>
                  </a:lnTo>
                  <a:lnTo>
                    <a:pt x="0" y="98"/>
                  </a:lnTo>
                  <a:lnTo>
                    <a:pt x="0" y="125"/>
                  </a:lnTo>
                  <a:lnTo>
                    <a:pt x="3" y="150"/>
                  </a:lnTo>
                  <a:lnTo>
                    <a:pt x="11" y="173"/>
                  </a:lnTo>
                  <a:lnTo>
                    <a:pt x="19" y="190"/>
                  </a:lnTo>
                  <a:lnTo>
                    <a:pt x="27" y="229"/>
                  </a:lnTo>
                  <a:lnTo>
                    <a:pt x="21" y="280"/>
                  </a:lnTo>
                  <a:lnTo>
                    <a:pt x="16" y="332"/>
                  </a:lnTo>
                  <a:lnTo>
                    <a:pt x="26" y="377"/>
                  </a:lnTo>
                  <a:lnTo>
                    <a:pt x="37" y="395"/>
                  </a:lnTo>
                  <a:lnTo>
                    <a:pt x="51" y="411"/>
                  </a:lnTo>
                  <a:lnTo>
                    <a:pt x="70" y="425"/>
                  </a:lnTo>
                  <a:lnTo>
                    <a:pt x="94" y="435"/>
                  </a:lnTo>
                  <a:lnTo>
                    <a:pt x="125" y="438"/>
                  </a:lnTo>
                  <a:lnTo>
                    <a:pt x="162" y="433"/>
                  </a:lnTo>
                  <a:lnTo>
                    <a:pt x="205" y="420"/>
                  </a:lnTo>
                  <a:lnTo>
                    <a:pt x="258" y="398"/>
                  </a:lnTo>
                  <a:lnTo>
                    <a:pt x="307" y="371"/>
                  </a:lnTo>
                  <a:lnTo>
                    <a:pt x="344" y="345"/>
                  </a:lnTo>
                  <a:lnTo>
                    <a:pt x="370" y="321"/>
                  </a:lnTo>
                  <a:lnTo>
                    <a:pt x="384" y="299"/>
                  </a:lnTo>
                  <a:lnTo>
                    <a:pt x="390" y="277"/>
                  </a:lnTo>
                  <a:lnTo>
                    <a:pt x="390" y="257"/>
                  </a:lnTo>
                  <a:lnTo>
                    <a:pt x="386" y="237"/>
                  </a:lnTo>
                  <a:lnTo>
                    <a:pt x="376" y="219"/>
                  </a:lnTo>
                  <a:lnTo>
                    <a:pt x="363" y="201"/>
                  </a:lnTo>
                  <a:lnTo>
                    <a:pt x="346" y="184"/>
                  </a:lnTo>
                  <a:lnTo>
                    <a:pt x="326" y="166"/>
                  </a:lnTo>
                  <a:lnTo>
                    <a:pt x="306" y="149"/>
                  </a:lnTo>
                  <a:lnTo>
                    <a:pt x="285" y="133"/>
                  </a:lnTo>
                  <a:lnTo>
                    <a:pt x="264" y="117"/>
                  </a:lnTo>
                  <a:lnTo>
                    <a:pt x="248" y="99"/>
                  </a:lnTo>
                  <a:lnTo>
                    <a:pt x="234" y="83"/>
                  </a:lnTo>
                  <a:lnTo>
                    <a:pt x="221" y="66"/>
                  </a:lnTo>
                  <a:lnTo>
                    <a:pt x="208" y="48"/>
                  </a:lnTo>
                  <a:lnTo>
                    <a:pt x="194" y="31"/>
                  </a:lnTo>
                  <a:lnTo>
                    <a:pt x="176" y="16"/>
                  </a:lnTo>
                  <a:lnTo>
                    <a:pt x="154" y="7"/>
                  </a:lnTo>
                  <a:lnTo>
                    <a:pt x="130" y="0"/>
                  </a:lnTo>
                  <a:lnTo>
                    <a:pt x="99" y="2"/>
                  </a:lnTo>
                  <a:lnTo>
                    <a:pt x="6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38"/>
            <p:cNvSpPr/>
            <p:nvPr/>
          </p:nvSpPr>
          <p:spPr>
            <a:xfrm>
              <a:off x="4740120" y="4789080"/>
              <a:ext cx="619200" cy="695160"/>
            </a:xfrm>
            <a:custGeom>
              <a:avLst/>
              <a:gdLst>
                <a:gd name="textAreaLeft" fmla="*/ 0 w 619200"/>
                <a:gd name="textAreaRight" fmla="*/ 619560 w 619200"/>
                <a:gd name="textAreaTop" fmla="*/ 0 h 695160"/>
                <a:gd name="textAreaBottom" fmla="*/ 695520 h 695160"/>
              </a:gdLst>
              <a:ahLst/>
              <a:rect l="textAreaLeft" t="textAreaTop" r="textAreaRight" b="textAreaBottom"/>
              <a:pathLst>
                <a:path w="390" h="438">
                  <a:moveTo>
                    <a:pt x="64" y="11"/>
                  </a:moveTo>
                  <a:lnTo>
                    <a:pt x="64" y="11"/>
                  </a:lnTo>
                  <a:lnTo>
                    <a:pt x="37" y="26"/>
                  </a:lnTo>
                  <a:lnTo>
                    <a:pt x="18" y="47"/>
                  </a:lnTo>
                  <a:lnTo>
                    <a:pt x="5" y="72"/>
                  </a:lnTo>
                  <a:lnTo>
                    <a:pt x="0" y="98"/>
                  </a:lnTo>
                  <a:lnTo>
                    <a:pt x="0" y="125"/>
                  </a:lnTo>
                  <a:lnTo>
                    <a:pt x="3" y="150"/>
                  </a:lnTo>
                  <a:lnTo>
                    <a:pt x="11" y="173"/>
                  </a:lnTo>
                  <a:lnTo>
                    <a:pt x="19" y="190"/>
                  </a:lnTo>
                  <a:lnTo>
                    <a:pt x="27" y="229"/>
                  </a:lnTo>
                  <a:lnTo>
                    <a:pt x="21" y="280"/>
                  </a:lnTo>
                  <a:lnTo>
                    <a:pt x="16" y="332"/>
                  </a:lnTo>
                  <a:lnTo>
                    <a:pt x="26" y="377"/>
                  </a:lnTo>
                  <a:lnTo>
                    <a:pt x="37" y="395"/>
                  </a:lnTo>
                  <a:lnTo>
                    <a:pt x="51" y="411"/>
                  </a:lnTo>
                  <a:lnTo>
                    <a:pt x="70" y="425"/>
                  </a:lnTo>
                  <a:lnTo>
                    <a:pt x="94" y="435"/>
                  </a:lnTo>
                  <a:lnTo>
                    <a:pt x="125" y="438"/>
                  </a:lnTo>
                  <a:lnTo>
                    <a:pt x="162" y="433"/>
                  </a:lnTo>
                  <a:lnTo>
                    <a:pt x="205" y="420"/>
                  </a:lnTo>
                  <a:lnTo>
                    <a:pt x="258" y="398"/>
                  </a:lnTo>
                  <a:lnTo>
                    <a:pt x="307" y="371"/>
                  </a:lnTo>
                  <a:lnTo>
                    <a:pt x="344" y="345"/>
                  </a:lnTo>
                  <a:lnTo>
                    <a:pt x="370" y="321"/>
                  </a:lnTo>
                  <a:lnTo>
                    <a:pt x="384" y="299"/>
                  </a:lnTo>
                  <a:lnTo>
                    <a:pt x="390" y="277"/>
                  </a:lnTo>
                  <a:lnTo>
                    <a:pt x="390" y="257"/>
                  </a:lnTo>
                  <a:lnTo>
                    <a:pt x="386" y="237"/>
                  </a:lnTo>
                  <a:lnTo>
                    <a:pt x="376" y="219"/>
                  </a:lnTo>
                  <a:lnTo>
                    <a:pt x="363" y="201"/>
                  </a:lnTo>
                  <a:lnTo>
                    <a:pt x="346" y="184"/>
                  </a:lnTo>
                  <a:lnTo>
                    <a:pt x="326" y="166"/>
                  </a:lnTo>
                  <a:lnTo>
                    <a:pt x="306" y="149"/>
                  </a:lnTo>
                  <a:lnTo>
                    <a:pt x="285" y="133"/>
                  </a:lnTo>
                  <a:lnTo>
                    <a:pt x="264" y="117"/>
                  </a:lnTo>
                  <a:lnTo>
                    <a:pt x="248" y="99"/>
                  </a:lnTo>
                  <a:lnTo>
                    <a:pt x="234" y="83"/>
                  </a:lnTo>
                  <a:lnTo>
                    <a:pt x="221" y="66"/>
                  </a:lnTo>
                  <a:lnTo>
                    <a:pt x="208" y="48"/>
                  </a:lnTo>
                  <a:lnTo>
                    <a:pt x="194" y="31"/>
                  </a:lnTo>
                  <a:lnTo>
                    <a:pt x="176" y="16"/>
                  </a:lnTo>
                  <a:lnTo>
                    <a:pt x="154" y="7"/>
                  </a:lnTo>
                  <a:lnTo>
                    <a:pt x="130" y="0"/>
                  </a:lnTo>
                  <a:lnTo>
                    <a:pt x="99" y="2"/>
                  </a:lnTo>
                  <a:lnTo>
                    <a:pt x="64" y="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39"/>
            <p:cNvSpPr/>
            <p:nvPr/>
          </p:nvSpPr>
          <p:spPr>
            <a:xfrm>
              <a:off x="4609800" y="5395680"/>
              <a:ext cx="519120" cy="645840"/>
            </a:xfrm>
            <a:custGeom>
              <a:avLst/>
              <a:gdLst>
                <a:gd name="textAreaLeft" fmla="*/ 0 w 519120"/>
                <a:gd name="textAreaRight" fmla="*/ 519480 w 519120"/>
                <a:gd name="textAreaTop" fmla="*/ 0 h 645840"/>
                <a:gd name="textAreaBottom" fmla="*/ 645840 h 645840"/>
              </a:gdLst>
              <a:ahLst/>
              <a:rect l="textAreaLeft" t="textAreaTop" r="textAreaRight" b="textAreaBottom"/>
              <a:pathLst>
                <a:path w="327" h="407">
                  <a:moveTo>
                    <a:pt x="28" y="407"/>
                  </a:moveTo>
                  <a:lnTo>
                    <a:pt x="42" y="404"/>
                  </a:lnTo>
                  <a:lnTo>
                    <a:pt x="60" y="399"/>
                  </a:lnTo>
                  <a:lnTo>
                    <a:pt x="79" y="394"/>
                  </a:lnTo>
                  <a:lnTo>
                    <a:pt x="100" y="386"/>
                  </a:lnTo>
                  <a:lnTo>
                    <a:pt x="120" y="380"/>
                  </a:lnTo>
                  <a:lnTo>
                    <a:pt x="140" y="374"/>
                  </a:lnTo>
                  <a:lnTo>
                    <a:pt x="157" y="369"/>
                  </a:lnTo>
                  <a:lnTo>
                    <a:pt x="170" y="366"/>
                  </a:lnTo>
                  <a:lnTo>
                    <a:pt x="183" y="361"/>
                  </a:lnTo>
                  <a:lnTo>
                    <a:pt x="199" y="354"/>
                  </a:lnTo>
                  <a:lnTo>
                    <a:pt x="216" y="346"/>
                  </a:lnTo>
                  <a:lnTo>
                    <a:pt x="232" y="334"/>
                  </a:lnTo>
                  <a:lnTo>
                    <a:pt x="248" y="321"/>
                  </a:lnTo>
                  <a:lnTo>
                    <a:pt x="261" y="305"/>
                  </a:lnTo>
                  <a:lnTo>
                    <a:pt x="269" y="286"/>
                  </a:lnTo>
                  <a:lnTo>
                    <a:pt x="274" y="265"/>
                  </a:lnTo>
                  <a:lnTo>
                    <a:pt x="277" y="241"/>
                  </a:lnTo>
                  <a:lnTo>
                    <a:pt x="282" y="214"/>
                  </a:lnTo>
                  <a:lnTo>
                    <a:pt x="290" y="187"/>
                  </a:lnTo>
                  <a:lnTo>
                    <a:pt x="298" y="160"/>
                  </a:lnTo>
                  <a:lnTo>
                    <a:pt x="308" y="134"/>
                  </a:lnTo>
                  <a:lnTo>
                    <a:pt x="316" y="110"/>
                  </a:lnTo>
                  <a:lnTo>
                    <a:pt x="322" y="91"/>
                  </a:lnTo>
                  <a:lnTo>
                    <a:pt x="325" y="78"/>
                  </a:lnTo>
                  <a:lnTo>
                    <a:pt x="327" y="53"/>
                  </a:lnTo>
                  <a:lnTo>
                    <a:pt x="319" y="32"/>
                  </a:lnTo>
                  <a:lnTo>
                    <a:pt x="301" y="16"/>
                  </a:lnTo>
                  <a:lnTo>
                    <a:pt x="280" y="5"/>
                  </a:lnTo>
                  <a:lnTo>
                    <a:pt x="256" y="0"/>
                  </a:lnTo>
                  <a:lnTo>
                    <a:pt x="232" y="3"/>
                  </a:lnTo>
                  <a:lnTo>
                    <a:pt x="212" y="14"/>
                  </a:lnTo>
                  <a:lnTo>
                    <a:pt x="197" y="33"/>
                  </a:lnTo>
                  <a:lnTo>
                    <a:pt x="186" y="62"/>
                  </a:lnTo>
                  <a:lnTo>
                    <a:pt x="173" y="94"/>
                  </a:lnTo>
                  <a:lnTo>
                    <a:pt x="162" y="129"/>
                  </a:lnTo>
                  <a:lnTo>
                    <a:pt x="149" y="164"/>
                  </a:lnTo>
                  <a:lnTo>
                    <a:pt x="138" y="196"/>
                  </a:lnTo>
                  <a:lnTo>
                    <a:pt x="130" y="223"/>
                  </a:lnTo>
                  <a:lnTo>
                    <a:pt x="124" y="241"/>
                  </a:lnTo>
                  <a:lnTo>
                    <a:pt x="122" y="247"/>
                  </a:lnTo>
                  <a:lnTo>
                    <a:pt x="106" y="251"/>
                  </a:lnTo>
                  <a:lnTo>
                    <a:pt x="90" y="254"/>
                  </a:lnTo>
                  <a:lnTo>
                    <a:pt x="76" y="257"/>
                  </a:lnTo>
                  <a:lnTo>
                    <a:pt x="61" y="260"/>
                  </a:lnTo>
                  <a:lnTo>
                    <a:pt x="47" y="265"/>
                  </a:lnTo>
                  <a:lnTo>
                    <a:pt x="32" y="268"/>
                  </a:lnTo>
                  <a:lnTo>
                    <a:pt x="16" y="271"/>
                  </a:lnTo>
                  <a:lnTo>
                    <a:pt x="0" y="275"/>
                  </a:lnTo>
                  <a:lnTo>
                    <a:pt x="28" y="407"/>
                  </a:lnTo>
                  <a:close/>
                </a:path>
              </a:pathLst>
            </a:custGeom>
            <a:solidFill>
              <a:srgbClr val="a37a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40"/>
            <p:cNvSpPr/>
            <p:nvPr/>
          </p:nvSpPr>
          <p:spPr>
            <a:xfrm>
              <a:off x="4609800" y="5395680"/>
              <a:ext cx="519120" cy="645840"/>
            </a:xfrm>
            <a:custGeom>
              <a:avLst/>
              <a:gdLst>
                <a:gd name="textAreaLeft" fmla="*/ 0 w 519120"/>
                <a:gd name="textAreaRight" fmla="*/ 519480 w 519120"/>
                <a:gd name="textAreaTop" fmla="*/ 0 h 645840"/>
                <a:gd name="textAreaBottom" fmla="*/ 645840 h 645840"/>
              </a:gdLst>
              <a:ahLst/>
              <a:rect l="textAreaLeft" t="textAreaTop" r="textAreaRight" b="textAreaBottom"/>
              <a:pathLst>
                <a:path w="327" h="407">
                  <a:moveTo>
                    <a:pt x="28" y="407"/>
                  </a:moveTo>
                  <a:lnTo>
                    <a:pt x="28" y="407"/>
                  </a:lnTo>
                  <a:lnTo>
                    <a:pt x="42" y="404"/>
                  </a:lnTo>
                  <a:lnTo>
                    <a:pt x="60" y="399"/>
                  </a:lnTo>
                  <a:lnTo>
                    <a:pt x="79" y="394"/>
                  </a:lnTo>
                  <a:lnTo>
                    <a:pt x="100" y="386"/>
                  </a:lnTo>
                  <a:lnTo>
                    <a:pt x="120" y="380"/>
                  </a:lnTo>
                  <a:lnTo>
                    <a:pt x="140" y="374"/>
                  </a:lnTo>
                  <a:lnTo>
                    <a:pt x="157" y="369"/>
                  </a:lnTo>
                  <a:lnTo>
                    <a:pt x="170" y="366"/>
                  </a:lnTo>
                  <a:lnTo>
                    <a:pt x="183" y="361"/>
                  </a:lnTo>
                  <a:lnTo>
                    <a:pt x="199" y="354"/>
                  </a:lnTo>
                  <a:lnTo>
                    <a:pt x="216" y="346"/>
                  </a:lnTo>
                  <a:lnTo>
                    <a:pt x="232" y="334"/>
                  </a:lnTo>
                  <a:lnTo>
                    <a:pt x="248" y="321"/>
                  </a:lnTo>
                  <a:lnTo>
                    <a:pt x="261" y="305"/>
                  </a:lnTo>
                  <a:lnTo>
                    <a:pt x="269" y="286"/>
                  </a:lnTo>
                  <a:lnTo>
                    <a:pt x="274" y="265"/>
                  </a:lnTo>
                  <a:lnTo>
                    <a:pt x="277" y="241"/>
                  </a:lnTo>
                  <a:lnTo>
                    <a:pt x="282" y="214"/>
                  </a:lnTo>
                  <a:lnTo>
                    <a:pt x="290" y="187"/>
                  </a:lnTo>
                  <a:lnTo>
                    <a:pt x="298" y="160"/>
                  </a:lnTo>
                  <a:lnTo>
                    <a:pt x="308" y="134"/>
                  </a:lnTo>
                  <a:lnTo>
                    <a:pt x="316" y="110"/>
                  </a:lnTo>
                  <a:lnTo>
                    <a:pt x="322" y="91"/>
                  </a:lnTo>
                  <a:lnTo>
                    <a:pt x="325" y="78"/>
                  </a:lnTo>
                  <a:lnTo>
                    <a:pt x="327" y="53"/>
                  </a:lnTo>
                  <a:lnTo>
                    <a:pt x="319" y="32"/>
                  </a:lnTo>
                  <a:lnTo>
                    <a:pt x="301" y="16"/>
                  </a:lnTo>
                  <a:lnTo>
                    <a:pt x="280" y="5"/>
                  </a:lnTo>
                  <a:lnTo>
                    <a:pt x="256" y="0"/>
                  </a:lnTo>
                  <a:lnTo>
                    <a:pt x="232" y="3"/>
                  </a:lnTo>
                  <a:lnTo>
                    <a:pt x="212" y="14"/>
                  </a:lnTo>
                  <a:lnTo>
                    <a:pt x="197" y="33"/>
                  </a:lnTo>
                  <a:lnTo>
                    <a:pt x="186" y="62"/>
                  </a:lnTo>
                  <a:lnTo>
                    <a:pt x="173" y="94"/>
                  </a:lnTo>
                  <a:lnTo>
                    <a:pt x="162" y="129"/>
                  </a:lnTo>
                  <a:lnTo>
                    <a:pt x="149" y="164"/>
                  </a:lnTo>
                  <a:lnTo>
                    <a:pt x="138" y="196"/>
                  </a:lnTo>
                  <a:lnTo>
                    <a:pt x="130" y="223"/>
                  </a:lnTo>
                  <a:lnTo>
                    <a:pt x="124" y="241"/>
                  </a:lnTo>
                  <a:lnTo>
                    <a:pt x="122" y="247"/>
                  </a:lnTo>
                  <a:lnTo>
                    <a:pt x="106" y="251"/>
                  </a:lnTo>
                  <a:lnTo>
                    <a:pt x="90" y="254"/>
                  </a:lnTo>
                  <a:lnTo>
                    <a:pt x="76" y="257"/>
                  </a:lnTo>
                  <a:lnTo>
                    <a:pt x="61" y="260"/>
                  </a:lnTo>
                  <a:lnTo>
                    <a:pt x="47" y="265"/>
                  </a:lnTo>
                  <a:lnTo>
                    <a:pt x="32" y="268"/>
                  </a:lnTo>
                  <a:lnTo>
                    <a:pt x="16" y="271"/>
                  </a:lnTo>
                  <a:lnTo>
                    <a:pt x="0" y="275"/>
                  </a:lnTo>
                  <a:lnTo>
                    <a:pt x="28" y="4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41"/>
            <p:cNvSpPr/>
            <p:nvPr/>
          </p:nvSpPr>
          <p:spPr>
            <a:xfrm>
              <a:off x="4921200" y="5303520"/>
              <a:ext cx="664920" cy="1293480"/>
            </a:xfrm>
            <a:custGeom>
              <a:avLst/>
              <a:gdLst>
                <a:gd name="textAreaLeft" fmla="*/ 0 w 664920"/>
                <a:gd name="textAreaRight" fmla="*/ 665280 w 664920"/>
                <a:gd name="textAreaTop" fmla="*/ 0 h 1293480"/>
                <a:gd name="textAreaBottom" fmla="*/ 1293840 h 1293480"/>
              </a:gdLst>
              <a:ahLst/>
              <a:rect l="textAreaLeft" t="textAreaTop" r="textAreaRight" b="textAreaBottom"/>
              <a:pathLst>
                <a:path w="419" h="815">
                  <a:moveTo>
                    <a:pt x="108" y="15"/>
                  </a:moveTo>
                  <a:lnTo>
                    <a:pt x="92" y="21"/>
                  </a:lnTo>
                  <a:lnTo>
                    <a:pt x="75" y="29"/>
                  </a:lnTo>
                  <a:lnTo>
                    <a:pt x="57" y="37"/>
                  </a:lnTo>
                  <a:lnTo>
                    <a:pt x="41" y="47"/>
                  </a:lnTo>
                  <a:lnTo>
                    <a:pt x="27" y="58"/>
                  </a:lnTo>
                  <a:lnTo>
                    <a:pt x="14" y="69"/>
                  </a:lnTo>
                  <a:lnTo>
                    <a:pt x="6" y="80"/>
                  </a:lnTo>
                  <a:lnTo>
                    <a:pt x="1" y="91"/>
                  </a:lnTo>
                  <a:lnTo>
                    <a:pt x="0" y="122"/>
                  </a:lnTo>
                  <a:lnTo>
                    <a:pt x="0" y="163"/>
                  </a:lnTo>
                  <a:lnTo>
                    <a:pt x="1" y="205"/>
                  </a:lnTo>
                  <a:lnTo>
                    <a:pt x="1" y="240"/>
                  </a:lnTo>
                  <a:lnTo>
                    <a:pt x="1" y="254"/>
                  </a:lnTo>
                  <a:lnTo>
                    <a:pt x="0" y="270"/>
                  </a:lnTo>
                  <a:lnTo>
                    <a:pt x="1" y="286"/>
                  </a:lnTo>
                  <a:lnTo>
                    <a:pt x="4" y="302"/>
                  </a:lnTo>
                  <a:lnTo>
                    <a:pt x="12" y="318"/>
                  </a:lnTo>
                  <a:lnTo>
                    <a:pt x="25" y="334"/>
                  </a:lnTo>
                  <a:lnTo>
                    <a:pt x="46" y="348"/>
                  </a:lnTo>
                  <a:lnTo>
                    <a:pt x="75" y="361"/>
                  </a:lnTo>
                  <a:lnTo>
                    <a:pt x="102" y="374"/>
                  </a:lnTo>
                  <a:lnTo>
                    <a:pt x="121" y="388"/>
                  </a:lnTo>
                  <a:lnTo>
                    <a:pt x="131" y="406"/>
                  </a:lnTo>
                  <a:lnTo>
                    <a:pt x="134" y="422"/>
                  </a:lnTo>
                  <a:lnTo>
                    <a:pt x="132" y="439"/>
                  </a:lnTo>
                  <a:lnTo>
                    <a:pt x="129" y="455"/>
                  </a:lnTo>
                  <a:lnTo>
                    <a:pt x="126" y="470"/>
                  </a:lnTo>
                  <a:lnTo>
                    <a:pt x="123" y="481"/>
                  </a:lnTo>
                  <a:lnTo>
                    <a:pt x="120" y="545"/>
                  </a:lnTo>
                  <a:lnTo>
                    <a:pt x="116" y="658"/>
                  </a:lnTo>
                  <a:lnTo>
                    <a:pt x="115" y="767"/>
                  </a:lnTo>
                  <a:lnTo>
                    <a:pt x="113" y="815"/>
                  </a:lnTo>
                  <a:lnTo>
                    <a:pt x="108" y="815"/>
                  </a:lnTo>
                  <a:lnTo>
                    <a:pt x="265" y="815"/>
                  </a:lnTo>
                  <a:lnTo>
                    <a:pt x="296" y="812"/>
                  </a:lnTo>
                  <a:lnTo>
                    <a:pt x="324" y="802"/>
                  </a:lnTo>
                  <a:lnTo>
                    <a:pt x="352" y="789"/>
                  </a:lnTo>
                  <a:lnTo>
                    <a:pt x="374" y="770"/>
                  </a:lnTo>
                  <a:lnTo>
                    <a:pt x="393" y="748"/>
                  </a:lnTo>
                  <a:lnTo>
                    <a:pt x="406" y="722"/>
                  </a:lnTo>
                  <a:lnTo>
                    <a:pt x="416" y="693"/>
                  </a:lnTo>
                  <a:lnTo>
                    <a:pt x="419" y="663"/>
                  </a:lnTo>
                  <a:lnTo>
                    <a:pt x="419" y="447"/>
                  </a:lnTo>
                  <a:lnTo>
                    <a:pt x="403" y="412"/>
                  </a:lnTo>
                  <a:lnTo>
                    <a:pt x="385" y="363"/>
                  </a:lnTo>
                  <a:lnTo>
                    <a:pt x="366" y="307"/>
                  </a:lnTo>
                  <a:lnTo>
                    <a:pt x="345" y="248"/>
                  </a:lnTo>
                  <a:lnTo>
                    <a:pt x="326" y="189"/>
                  </a:lnTo>
                  <a:lnTo>
                    <a:pt x="308" y="138"/>
                  </a:lnTo>
                  <a:lnTo>
                    <a:pt x="296" y="98"/>
                  </a:lnTo>
                  <a:lnTo>
                    <a:pt x="286" y="74"/>
                  </a:lnTo>
                  <a:lnTo>
                    <a:pt x="276" y="58"/>
                  </a:lnTo>
                  <a:lnTo>
                    <a:pt x="262" y="42"/>
                  </a:lnTo>
                  <a:lnTo>
                    <a:pt x="244" y="28"/>
                  </a:lnTo>
                  <a:lnTo>
                    <a:pt x="222" y="15"/>
                  </a:lnTo>
                  <a:lnTo>
                    <a:pt x="196" y="5"/>
                  </a:lnTo>
                  <a:lnTo>
                    <a:pt x="169" y="0"/>
                  </a:lnTo>
                  <a:lnTo>
                    <a:pt x="139" y="4"/>
                  </a:lnTo>
                  <a:lnTo>
                    <a:pt x="108" y="15"/>
                  </a:lnTo>
                  <a:close/>
                </a:path>
              </a:pathLst>
            </a:custGeom>
            <a:solidFill>
              <a:srgbClr val="a37a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42"/>
            <p:cNvSpPr/>
            <p:nvPr/>
          </p:nvSpPr>
          <p:spPr>
            <a:xfrm>
              <a:off x="4921200" y="5303520"/>
              <a:ext cx="664920" cy="1293480"/>
            </a:xfrm>
            <a:custGeom>
              <a:avLst/>
              <a:gdLst>
                <a:gd name="textAreaLeft" fmla="*/ 0 w 664920"/>
                <a:gd name="textAreaRight" fmla="*/ 665280 w 664920"/>
                <a:gd name="textAreaTop" fmla="*/ 0 h 1293480"/>
                <a:gd name="textAreaBottom" fmla="*/ 1293840 h 1293480"/>
              </a:gdLst>
              <a:ahLst/>
              <a:rect l="textAreaLeft" t="textAreaTop" r="textAreaRight" b="textAreaBottom"/>
              <a:pathLst>
                <a:path w="419" h="815">
                  <a:moveTo>
                    <a:pt x="108" y="15"/>
                  </a:moveTo>
                  <a:lnTo>
                    <a:pt x="108" y="15"/>
                  </a:lnTo>
                  <a:lnTo>
                    <a:pt x="92" y="21"/>
                  </a:lnTo>
                  <a:lnTo>
                    <a:pt x="75" y="29"/>
                  </a:lnTo>
                  <a:lnTo>
                    <a:pt x="57" y="37"/>
                  </a:lnTo>
                  <a:lnTo>
                    <a:pt x="41" y="47"/>
                  </a:lnTo>
                  <a:lnTo>
                    <a:pt x="27" y="58"/>
                  </a:lnTo>
                  <a:lnTo>
                    <a:pt x="14" y="69"/>
                  </a:lnTo>
                  <a:lnTo>
                    <a:pt x="6" y="80"/>
                  </a:lnTo>
                  <a:lnTo>
                    <a:pt x="1" y="91"/>
                  </a:lnTo>
                  <a:lnTo>
                    <a:pt x="0" y="122"/>
                  </a:lnTo>
                  <a:lnTo>
                    <a:pt x="0" y="163"/>
                  </a:lnTo>
                  <a:lnTo>
                    <a:pt x="1" y="205"/>
                  </a:lnTo>
                  <a:lnTo>
                    <a:pt x="1" y="240"/>
                  </a:lnTo>
                  <a:lnTo>
                    <a:pt x="1" y="254"/>
                  </a:lnTo>
                  <a:lnTo>
                    <a:pt x="0" y="270"/>
                  </a:lnTo>
                  <a:lnTo>
                    <a:pt x="1" y="286"/>
                  </a:lnTo>
                  <a:lnTo>
                    <a:pt x="4" y="302"/>
                  </a:lnTo>
                  <a:lnTo>
                    <a:pt x="12" y="318"/>
                  </a:lnTo>
                  <a:lnTo>
                    <a:pt x="25" y="334"/>
                  </a:lnTo>
                  <a:lnTo>
                    <a:pt x="46" y="348"/>
                  </a:lnTo>
                  <a:lnTo>
                    <a:pt x="75" y="361"/>
                  </a:lnTo>
                  <a:lnTo>
                    <a:pt x="102" y="374"/>
                  </a:lnTo>
                  <a:lnTo>
                    <a:pt x="121" y="388"/>
                  </a:lnTo>
                  <a:lnTo>
                    <a:pt x="131" y="406"/>
                  </a:lnTo>
                  <a:lnTo>
                    <a:pt x="134" y="422"/>
                  </a:lnTo>
                  <a:lnTo>
                    <a:pt x="132" y="439"/>
                  </a:lnTo>
                  <a:lnTo>
                    <a:pt x="129" y="455"/>
                  </a:lnTo>
                  <a:lnTo>
                    <a:pt x="126" y="470"/>
                  </a:lnTo>
                  <a:lnTo>
                    <a:pt x="123" y="481"/>
                  </a:lnTo>
                  <a:lnTo>
                    <a:pt x="120" y="545"/>
                  </a:lnTo>
                  <a:lnTo>
                    <a:pt x="116" y="658"/>
                  </a:lnTo>
                  <a:lnTo>
                    <a:pt x="115" y="767"/>
                  </a:lnTo>
                  <a:lnTo>
                    <a:pt x="113" y="815"/>
                  </a:lnTo>
                  <a:lnTo>
                    <a:pt x="108" y="815"/>
                  </a:lnTo>
                  <a:lnTo>
                    <a:pt x="265" y="815"/>
                  </a:lnTo>
                  <a:lnTo>
                    <a:pt x="296" y="812"/>
                  </a:lnTo>
                  <a:lnTo>
                    <a:pt x="324" y="802"/>
                  </a:lnTo>
                  <a:lnTo>
                    <a:pt x="352" y="789"/>
                  </a:lnTo>
                  <a:lnTo>
                    <a:pt x="374" y="770"/>
                  </a:lnTo>
                  <a:lnTo>
                    <a:pt x="393" y="748"/>
                  </a:lnTo>
                  <a:lnTo>
                    <a:pt x="406" y="722"/>
                  </a:lnTo>
                  <a:lnTo>
                    <a:pt x="416" y="693"/>
                  </a:lnTo>
                  <a:lnTo>
                    <a:pt x="419" y="663"/>
                  </a:lnTo>
                  <a:lnTo>
                    <a:pt x="419" y="447"/>
                  </a:lnTo>
                  <a:lnTo>
                    <a:pt x="403" y="412"/>
                  </a:lnTo>
                  <a:lnTo>
                    <a:pt x="385" y="363"/>
                  </a:lnTo>
                  <a:lnTo>
                    <a:pt x="366" y="307"/>
                  </a:lnTo>
                  <a:lnTo>
                    <a:pt x="345" y="248"/>
                  </a:lnTo>
                  <a:lnTo>
                    <a:pt x="326" y="189"/>
                  </a:lnTo>
                  <a:lnTo>
                    <a:pt x="308" y="138"/>
                  </a:lnTo>
                  <a:lnTo>
                    <a:pt x="296" y="98"/>
                  </a:lnTo>
                  <a:lnTo>
                    <a:pt x="286" y="74"/>
                  </a:lnTo>
                  <a:lnTo>
                    <a:pt x="276" y="58"/>
                  </a:lnTo>
                  <a:lnTo>
                    <a:pt x="262" y="42"/>
                  </a:lnTo>
                  <a:lnTo>
                    <a:pt x="244" y="28"/>
                  </a:lnTo>
                  <a:lnTo>
                    <a:pt x="222" y="15"/>
                  </a:lnTo>
                  <a:lnTo>
                    <a:pt x="196" y="5"/>
                  </a:lnTo>
                  <a:lnTo>
                    <a:pt x="169" y="0"/>
                  </a:lnTo>
                  <a:lnTo>
                    <a:pt x="139" y="4"/>
                  </a:lnTo>
                  <a:lnTo>
                    <a:pt x="108"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43"/>
            <p:cNvSpPr/>
            <p:nvPr/>
          </p:nvSpPr>
          <p:spPr>
            <a:xfrm>
              <a:off x="4414680" y="5832360"/>
              <a:ext cx="239760" cy="225000"/>
            </a:xfrm>
            <a:custGeom>
              <a:avLst/>
              <a:gdLst>
                <a:gd name="textAreaLeft" fmla="*/ 0 w 239760"/>
                <a:gd name="textAreaRight" fmla="*/ 240120 w 239760"/>
                <a:gd name="textAreaTop" fmla="*/ 0 h 225000"/>
                <a:gd name="textAreaBottom" fmla="*/ 225360 h 225000"/>
              </a:gdLst>
              <a:ahLst/>
              <a:rect l="textAreaLeft" t="textAreaTop" r="textAreaRight" b="textAreaBottom"/>
              <a:pathLst>
                <a:path w="151" h="142">
                  <a:moveTo>
                    <a:pt x="123" y="0"/>
                  </a:moveTo>
                  <a:lnTo>
                    <a:pt x="104" y="3"/>
                  </a:lnTo>
                  <a:lnTo>
                    <a:pt x="83" y="9"/>
                  </a:lnTo>
                  <a:lnTo>
                    <a:pt x="61" y="17"/>
                  </a:lnTo>
                  <a:lnTo>
                    <a:pt x="40" y="28"/>
                  </a:lnTo>
                  <a:lnTo>
                    <a:pt x="21" y="41"/>
                  </a:lnTo>
                  <a:lnTo>
                    <a:pt x="8" y="59"/>
                  </a:lnTo>
                  <a:lnTo>
                    <a:pt x="0" y="78"/>
                  </a:lnTo>
                  <a:lnTo>
                    <a:pt x="2" y="100"/>
                  </a:lnTo>
                  <a:lnTo>
                    <a:pt x="11" y="121"/>
                  </a:lnTo>
                  <a:lnTo>
                    <a:pt x="29" y="134"/>
                  </a:lnTo>
                  <a:lnTo>
                    <a:pt x="48" y="140"/>
                  </a:lnTo>
                  <a:lnTo>
                    <a:pt x="72" y="142"/>
                  </a:lnTo>
                  <a:lnTo>
                    <a:pt x="95" y="140"/>
                  </a:lnTo>
                  <a:lnTo>
                    <a:pt x="117" y="137"/>
                  </a:lnTo>
                  <a:lnTo>
                    <a:pt x="136" y="134"/>
                  </a:lnTo>
                  <a:lnTo>
                    <a:pt x="151" y="132"/>
                  </a:lnTo>
                  <a:lnTo>
                    <a:pt x="123"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44"/>
            <p:cNvSpPr/>
            <p:nvPr/>
          </p:nvSpPr>
          <p:spPr>
            <a:xfrm>
              <a:off x="4414680" y="5832360"/>
              <a:ext cx="239760" cy="225000"/>
            </a:xfrm>
            <a:custGeom>
              <a:avLst/>
              <a:gdLst>
                <a:gd name="textAreaLeft" fmla="*/ 0 w 239760"/>
                <a:gd name="textAreaRight" fmla="*/ 240120 w 239760"/>
                <a:gd name="textAreaTop" fmla="*/ 0 h 225000"/>
                <a:gd name="textAreaBottom" fmla="*/ 225360 h 225000"/>
              </a:gdLst>
              <a:ahLst/>
              <a:rect l="textAreaLeft" t="textAreaTop" r="textAreaRight" b="textAreaBottom"/>
              <a:pathLst>
                <a:path w="151" h="142">
                  <a:moveTo>
                    <a:pt x="123" y="0"/>
                  </a:moveTo>
                  <a:lnTo>
                    <a:pt x="123" y="0"/>
                  </a:lnTo>
                  <a:lnTo>
                    <a:pt x="104" y="3"/>
                  </a:lnTo>
                  <a:lnTo>
                    <a:pt x="83" y="9"/>
                  </a:lnTo>
                  <a:lnTo>
                    <a:pt x="61" y="17"/>
                  </a:lnTo>
                  <a:lnTo>
                    <a:pt x="40" y="28"/>
                  </a:lnTo>
                  <a:lnTo>
                    <a:pt x="21" y="41"/>
                  </a:lnTo>
                  <a:lnTo>
                    <a:pt x="8" y="59"/>
                  </a:lnTo>
                  <a:lnTo>
                    <a:pt x="0" y="78"/>
                  </a:lnTo>
                  <a:lnTo>
                    <a:pt x="2" y="100"/>
                  </a:lnTo>
                  <a:lnTo>
                    <a:pt x="11" y="121"/>
                  </a:lnTo>
                  <a:lnTo>
                    <a:pt x="29" y="134"/>
                  </a:lnTo>
                  <a:lnTo>
                    <a:pt x="48" y="140"/>
                  </a:lnTo>
                  <a:lnTo>
                    <a:pt x="72" y="142"/>
                  </a:lnTo>
                  <a:lnTo>
                    <a:pt x="95" y="140"/>
                  </a:lnTo>
                  <a:lnTo>
                    <a:pt x="117" y="137"/>
                  </a:lnTo>
                  <a:lnTo>
                    <a:pt x="136" y="134"/>
                  </a:lnTo>
                  <a:lnTo>
                    <a:pt x="151" y="132"/>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45"/>
            <p:cNvSpPr/>
            <p:nvPr/>
          </p:nvSpPr>
          <p:spPr>
            <a:xfrm>
              <a:off x="4808520" y="4966920"/>
              <a:ext cx="380880" cy="385560"/>
            </a:xfrm>
            <a:custGeom>
              <a:avLst/>
              <a:gdLst>
                <a:gd name="textAreaLeft" fmla="*/ 0 w 380880"/>
                <a:gd name="textAreaRight" fmla="*/ 381240 w 380880"/>
                <a:gd name="textAreaTop" fmla="*/ 0 h 385560"/>
                <a:gd name="textAreaBottom" fmla="*/ 385920 h 385560"/>
              </a:gdLst>
              <a:ahLst/>
              <a:rect l="textAreaLeft" t="textAreaTop" r="textAreaRight" b="textAreaBottom"/>
              <a:pathLst>
                <a:path w="240" h="243">
                  <a:moveTo>
                    <a:pt x="0" y="73"/>
                  </a:moveTo>
                  <a:lnTo>
                    <a:pt x="58" y="190"/>
                  </a:lnTo>
                  <a:lnTo>
                    <a:pt x="67" y="206"/>
                  </a:lnTo>
                  <a:lnTo>
                    <a:pt x="80" y="219"/>
                  </a:lnTo>
                  <a:lnTo>
                    <a:pt x="95" y="230"/>
                  </a:lnTo>
                  <a:lnTo>
                    <a:pt x="112" y="236"/>
                  </a:lnTo>
                  <a:lnTo>
                    <a:pt x="130" y="241"/>
                  </a:lnTo>
                  <a:lnTo>
                    <a:pt x="147" y="243"/>
                  </a:lnTo>
                  <a:lnTo>
                    <a:pt x="167" y="241"/>
                  </a:lnTo>
                  <a:lnTo>
                    <a:pt x="184" y="235"/>
                  </a:lnTo>
                  <a:lnTo>
                    <a:pt x="200" y="225"/>
                  </a:lnTo>
                  <a:lnTo>
                    <a:pt x="215" y="214"/>
                  </a:lnTo>
                  <a:lnTo>
                    <a:pt x="226" y="200"/>
                  </a:lnTo>
                  <a:lnTo>
                    <a:pt x="235" y="184"/>
                  </a:lnTo>
                  <a:lnTo>
                    <a:pt x="240" y="168"/>
                  </a:lnTo>
                  <a:lnTo>
                    <a:pt x="240" y="150"/>
                  </a:lnTo>
                  <a:lnTo>
                    <a:pt x="239" y="133"/>
                  </a:lnTo>
                  <a:lnTo>
                    <a:pt x="232" y="115"/>
                  </a:lnTo>
                  <a:lnTo>
                    <a:pt x="175" y="0"/>
                  </a:lnTo>
                  <a:lnTo>
                    <a:pt x="0" y="7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46"/>
            <p:cNvSpPr/>
            <p:nvPr/>
          </p:nvSpPr>
          <p:spPr>
            <a:xfrm>
              <a:off x="4808520" y="4966920"/>
              <a:ext cx="380880" cy="385560"/>
            </a:xfrm>
            <a:custGeom>
              <a:avLst/>
              <a:gdLst>
                <a:gd name="textAreaLeft" fmla="*/ 0 w 380880"/>
                <a:gd name="textAreaRight" fmla="*/ 381240 w 380880"/>
                <a:gd name="textAreaTop" fmla="*/ 0 h 385560"/>
                <a:gd name="textAreaBottom" fmla="*/ 385920 h 385560"/>
              </a:gdLst>
              <a:ahLst/>
              <a:rect l="textAreaLeft" t="textAreaTop" r="textAreaRight" b="textAreaBottom"/>
              <a:pathLst>
                <a:path w="240" h="243">
                  <a:moveTo>
                    <a:pt x="0" y="73"/>
                  </a:moveTo>
                  <a:lnTo>
                    <a:pt x="58" y="190"/>
                  </a:lnTo>
                  <a:lnTo>
                    <a:pt x="67" y="206"/>
                  </a:lnTo>
                  <a:lnTo>
                    <a:pt x="80" y="219"/>
                  </a:lnTo>
                  <a:lnTo>
                    <a:pt x="95" y="230"/>
                  </a:lnTo>
                  <a:lnTo>
                    <a:pt x="112" y="236"/>
                  </a:lnTo>
                  <a:lnTo>
                    <a:pt x="130" y="241"/>
                  </a:lnTo>
                  <a:lnTo>
                    <a:pt x="147" y="243"/>
                  </a:lnTo>
                  <a:lnTo>
                    <a:pt x="167" y="241"/>
                  </a:lnTo>
                  <a:lnTo>
                    <a:pt x="184" y="235"/>
                  </a:lnTo>
                  <a:lnTo>
                    <a:pt x="200" y="225"/>
                  </a:lnTo>
                  <a:lnTo>
                    <a:pt x="215" y="214"/>
                  </a:lnTo>
                  <a:lnTo>
                    <a:pt x="226" y="200"/>
                  </a:lnTo>
                  <a:lnTo>
                    <a:pt x="235" y="184"/>
                  </a:lnTo>
                  <a:lnTo>
                    <a:pt x="240" y="168"/>
                  </a:lnTo>
                  <a:lnTo>
                    <a:pt x="240" y="150"/>
                  </a:lnTo>
                  <a:lnTo>
                    <a:pt x="239" y="133"/>
                  </a:lnTo>
                  <a:lnTo>
                    <a:pt x="232" y="115"/>
                  </a:lnTo>
                  <a:lnTo>
                    <a:pt x="175" y="0"/>
                  </a:lnTo>
                  <a:lnTo>
                    <a:pt x="0"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47"/>
            <p:cNvSpPr/>
            <p:nvPr/>
          </p:nvSpPr>
          <p:spPr>
            <a:xfrm>
              <a:off x="4305240" y="5948280"/>
              <a:ext cx="190440" cy="246960"/>
            </a:xfrm>
            <a:custGeom>
              <a:avLst/>
              <a:gdLst>
                <a:gd name="textAreaLeft" fmla="*/ 0 w 190440"/>
                <a:gd name="textAreaRight" fmla="*/ 190800 w 190440"/>
                <a:gd name="textAreaTop" fmla="*/ 0 h 246960"/>
                <a:gd name="textAreaBottom" fmla="*/ 247320 h 246960"/>
              </a:gdLst>
              <a:ahLst/>
              <a:rect l="textAreaLeft" t="textAreaTop" r="textAreaRight" b="textAreaBottom"/>
              <a:pathLst>
                <a:path w="120" h="156">
                  <a:moveTo>
                    <a:pt x="120" y="14"/>
                  </a:moveTo>
                  <a:lnTo>
                    <a:pt x="32" y="134"/>
                  </a:lnTo>
                  <a:lnTo>
                    <a:pt x="0" y="156"/>
                  </a:lnTo>
                  <a:lnTo>
                    <a:pt x="13" y="120"/>
                  </a:lnTo>
                  <a:lnTo>
                    <a:pt x="100" y="0"/>
                  </a:lnTo>
                  <a:lnTo>
                    <a:pt x="120" y="14"/>
                  </a:lnTo>
                  <a:close/>
                </a:path>
              </a:pathLst>
            </a:custGeom>
            <a:solidFill>
              <a:srgbClr val="00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48"/>
            <p:cNvSpPr/>
            <p:nvPr/>
          </p:nvSpPr>
          <p:spPr>
            <a:xfrm>
              <a:off x="4305240" y="5948280"/>
              <a:ext cx="190440" cy="246960"/>
            </a:xfrm>
            <a:custGeom>
              <a:avLst/>
              <a:gdLst>
                <a:gd name="textAreaLeft" fmla="*/ 0 w 190440"/>
                <a:gd name="textAreaRight" fmla="*/ 190800 w 190440"/>
                <a:gd name="textAreaTop" fmla="*/ 0 h 246960"/>
                <a:gd name="textAreaBottom" fmla="*/ 247320 h 246960"/>
              </a:gdLst>
              <a:ahLst/>
              <a:rect l="textAreaLeft" t="textAreaTop" r="textAreaRight" b="textAreaBottom"/>
              <a:pathLst>
                <a:path w="120" h="156">
                  <a:moveTo>
                    <a:pt x="120" y="14"/>
                  </a:moveTo>
                  <a:lnTo>
                    <a:pt x="32" y="134"/>
                  </a:lnTo>
                  <a:lnTo>
                    <a:pt x="0" y="156"/>
                  </a:lnTo>
                  <a:lnTo>
                    <a:pt x="13" y="120"/>
                  </a:lnTo>
                  <a:lnTo>
                    <a:pt x="100" y="0"/>
                  </a:lnTo>
                  <a:lnTo>
                    <a:pt x="12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49"/>
            <p:cNvSpPr/>
            <p:nvPr/>
          </p:nvSpPr>
          <p:spPr>
            <a:xfrm>
              <a:off x="5205240" y="5375160"/>
              <a:ext cx="380880" cy="1221840"/>
            </a:xfrm>
            <a:custGeom>
              <a:avLst/>
              <a:gdLst>
                <a:gd name="textAreaLeft" fmla="*/ 0 w 380880"/>
                <a:gd name="textAreaRight" fmla="*/ 381240 w 380880"/>
                <a:gd name="textAreaTop" fmla="*/ 0 h 1221840"/>
                <a:gd name="textAreaBottom" fmla="*/ 1222200 h 1221840"/>
              </a:gdLst>
              <a:ahLst/>
              <a:rect l="textAreaLeft" t="textAreaTop" r="textAreaRight" b="textAreaBottom"/>
              <a:pathLst>
                <a:path w="240" h="770">
                  <a:moveTo>
                    <a:pt x="240" y="40"/>
                  </a:moveTo>
                  <a:lnTo>
                    <a:pt x="240" y="618"/>
                  </a:lnTo>
                  <a:lnTo>
                    <a:pt x="237" y="648"/>
                  </a:lnTo>
                  <a:lnTo>
                    <a:pt x="227" y="677"/>
                  </a:lnTo>
                  <a:lnTo>
                    <a:pt x="214" y="703"/>
                  </a:lnTo>
                  <a:lnTo>
                    <a:pt x="195" y="725"/>
                  </a:lnTo>
                  <a:lnTo>
                    <a:pt x="173" y="744"/>
                  </a:lnTo>
                  <a:lnTo>
                    <a:pt x="147" y="757"/>
                  </a:lnTo>
                  <a:lnTo>
                    <a:pt x="118" y="767"/>
                  </a:lnTo>
                  <a:lnTo>
                    <a:pt x="88" y="770"/>
                  </a:lnTo>
                  <a:lnTo>
                    <a:pt x="0" y="770"/>
                  </a:lnTo>
                  <a:lnTo>
                    <a:pt x="0" y="655"/>
                  </a:lnTo>
                  <a:lnTo>
                    <a:pt x="0" y="468"/>
                  </a:lnTo>
                  <a:lnTo>
                    <a:pt x="0" y="289"/>
                  </a:lnTo>
                  <a:lnTo>
                    <a:pt x="0" y="195"/>
                  </a:lnTo>
                  <a:lnTo>
                    <a:pt x="3" y="144"/>
                  </a:lnTo>
                  <a:lnTo>
                    <a:pt x="17" y="98"/>
                  </a:lnTo>
                  <a:lnTo>
                    <a:pt x="43" y="58"/>
                  </a:lnTo>
                  <a:lnTo>
                    <a:pt x="77" y="26"/>
                  </a:lnTo>
                  <a:lnTo>
                    <a:pt x="115" y="7"/>
                  </a:lnTo>
                  <a:lnTo>
                    <a:pt x="157" y="0"/>
                  </a:lnTo>
                  <a:lnTo>
                    <a:pt x="198" y="11"/>
                  </a:lnTo>
                  <a:lnTo>
                    <a:pt x="240" y="40"/>
                  </a:lnTo>
                  <a:close/>
                </a:path>
              </a:pathLst>
            </a:custGeom>
            <a:solidFill>
              <a:srgbClr val="0075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50"/>
            <p:cNvSpPr/>
            <p:nvPr/>
          </p:nvSpPr>
          <p:spPr>
            <a:xfrm>
              <a:off x="5205240" y="5375160"/>
              <a:ext cx="380880" cy="1221840"/>
            </a:xfrm>
            <a:custGeom>
              <a:avLst/>
              <a:gdLst>
                <a:gd name="textAreaLeft" fmla="*/ 0 w 380880"/>
                <a:gd name="textAreaRight" fmla="*/ 381240 w 380880"/>
                <a:gd name="textAreaTop" fmla="*/ 0 h 1221840"/>
                <a:gd name="textAreaBottom" fmla="*/ 1222200 h 1221840"/>
              </a:gdLst>
              <a:ahLst/>
              <a:rect l="textAreaLeft" t="textAreaTop" r="textAreaRight" b="textAreaBottom"/>
              <a:pathLst>
                <a:path w="240" h="770">
                  <a:moveTo>
                    <a:pt x="240" y="40"/>
                  </a:moveTo>
                  <a:lnTo>
                    <a:pt x="240" y="618"/>
                  </a:lnTo>
                  <a:lnTo>
                    <a:pt x="237" y="648"/>
                  </a:lnTo>
                  <a:lnTo>
                    <a:pt x="227" y="677"/>
                  </a:lnTo>
                  <a:lnTo>
                    <a:pt x="214" y="703"/>
                  </a:lnTo>
                  <a:lnTo>
                    <a:pt x="195" y="725"/>
                  </a:lnTo>
                  <a:lnTo>
                    <a:pt x="173" y="744"/>
                  </a:lnTo>
                  <a:lnTo>
                    <a:pt x="147" y="757"/>
                  </a:lnTo>
                  <a:lnTo>
                    <a:pt x="118" y="767"/>
                  </a:lnTo>
                  <a:lnTo>
                    <a:pt x="88" y="770"/>
                  </a:lnTo>
                  <a:lnTo>
                    <a:pt x="0" y="770"/>
                  </a:lnTo>
                  <a:lnTo>
                    <a:pt x="0" y="655"/>
                  </a:lnTo>
                  <a:lnTo>
                    <a:pt x="0" y="468"/>
                  </a:lnTo>
                  <a:lnTo>
                    <a:pt x="0" y="289"/>
                  </a:lnTo>
                  <a:lnTo>
                    <a:pt x="0" y="195"/>
                  </a:lnTo>
                  <a:lnTo>
                    <a:pt x="3" y="144"/>
                  </a:lnTo>
                  <a:lnTo>
                    <a:pt x="17" y="98"/>
                  </a:lnTo>
                  <a:lnTo>
                    <a:pt x="43" y="58"/>
                  </a:lnTo>
                  <a:lnTo>
                    <a:pt x="77" y="26"/>
                  </a:lnTo>
                  <a:lnTo>
                    <a:pt x="115" y="7"/>
                  </a:lnTo>
                  <a:lnTo>
                    <a:pt x="157" y="0"/>
                  </a:lnTo>
                  <a:lnTo>
                    <a:pt x="198" y="11"/>
                  </a:lnTo>
                  <a:lnTo>
                    <a:pt x="240" y="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51"/>
            <p:cNvSpPr/>
            <p:nvPr/>
          </p:nvSpPr>
          <p:spPr>
            <a:xfrm>
              <a:off x="4964040" y="5838480"/>
              <a:ext cx="241200" cy="294840"/>
            </a:xfrm>
            <a:custGeom>
              <a:avLst/>
              <a:gdLst>
                <a:gd name="textAreaLeft" fmla="*/ 0 w 241200"/>
                <a:gd name="textAreaRight" fmla="*/ 241560 w 241200"/>
                <a:gd name="textAreaTop" fmla="*/ 0 h 294840"/>
                <a:gd name="textAreaBottom" fmla="*/ 294840 h 294840"/>
              </a:gdLst>
              <a:ahLst/>
              <a:rect l="textAreaLeft" t="textAreaTop" r="textAreaRight" b="textAreaBottom"/>
              <a:pathLst>
                <a:path w="152" h="186">
                  <a:moveTo>
                    <a:pt x="51" y="186"/>
                  </a:moveTo>
                  <a:lnTo>
                    <a:pt x="69" y="181"/>
                  </a:lnTo>
                  <a:lnTo>
                    <a:pt x="86" y="176"/>
                  </a:lnTo>
                  <a:lnTo>
                    <a:pt x="102" y="171"/>
                  </a:lnTo>
                  <a:lnTo>
                    <a:pt x="118" y="165"/>
                  </a:lnTo>
                  <a:lnTo>
                    <a:pt x="131" y="160"/>
                  </a:lnTo>
                  <a:lnTo>
                    <a:pt x="142" y="155"/>
                  </a:lnTo>
                  <a:lnTo>
                    <a:pt x="149" y="154"/>
                  </a:lnTo>
                  <a:lnTo>
                    <a:pt x="152" y="152"/>
                  </a:lnTo>
                  <a:lnTo>
                    <a:pt x="152" y="0"/>
                  </a:lnTo>
                  <a:lnTo>
                    <a:pt x="147" y="2"/>
                  </a:lnTo>
                  <a:lnTo>
                    <a:pt x="133" y="7"/>
                  </a:lnTo>
                  <a:lnTo>
                    <a:pt x="113" y="13"/>
                  </a:lnTo>
                  <a:lnTo>
                    <a:pt x="89" y="21"/>
                  </a:lnTo>
                  <a:lnTo>
                    <a:pt x="64" y="29"/>
                  </a:lnTo>
                  <a:lnTo>
                    <a:pt x="40" y="39"/>
                  </a:lnTo>
                  <a:lnTo>
                    <a:pt x="17" y="47"/>
                  </a:lnTo>
                  <a:lnTo>
                    <a:pt x="0" y="55"/>
                  </a:lnTo>
                  <a:lnTo>
                    <a:pt x="51" y="186"/>
                  </a:lnTo>
                  <a:close/>
                </a:path>
              </a:pathLst>
            </a:custGeom>
            <a:solidFill>
              <a:srgbClr val="0075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52"/>
            <p:cNvSpPr/>
            <p:nvPr/>
          </p:nvSpPr>
          <p:spPr>
            <a:xfrm>
              <a:off x="4964040" y="5838480"/>
              <a:ext cx="241200" cy="294840"/>
            </a:xfrm>
            <a:custGeom>
              <a:avLst/>
              <a:gdLst>
                <a:gd name="textAreaLeft" fmla="*/ 0 w 241200"/>
                <a:gd name="textAreaRight" fmla="*/ 241560 w 241200"/>
                <a:gd name="textAreaTop" fmla="*/ 0 h 294840"/>
                <a:gd name="textAreaBottom" fmla="*/ 294840 h 294840"/>
              </a:gdLst>
              <a:ahLst/>
              <a:rect l="textAreaLeft" t="textAreaTop" r="textAreaRight" b="textAreaBottom"/>
              <a:pathLst>
                <a:path w="152" h="186">
                  <a:moveTo>
                    <a:pt x="51" y="186"/>
                  </a:moveTo>
                  <a:lnTo>
                    <a:pt x="51" y="186"/>
                  </a:lnTo>
                  <a:lnTo>
                    <a:pt x="69" y="181"/>
                  </a:lnTo>
                  <a:lnTo>
                    <a:pt x="86" y="176"/>
                  </a:lnTo>
                  <a:lnTo>
                    <a:pt x="102" y="171"/>
                  </a:lnTo>
                  <a:lnTo>
                    <a:pt x="118" y="165"/>
                  </a:lnTo>
                  <a:lnTo>
                    <a:pt x="131" y="160"/>
                  </a:lnTo>
                  <a:lnTo>
                    <a:pt x="142" y="155"/>
                  </a:lnTo>
                  <a:lnTo>
                    <a:pt x="149" y="154"/>
                  </a:lnTo>
                  <a:lnTo>
                    <a:pt x="152" y="152"/>
                  </a:lnTo>
                  <a:lnTo>
                    <a:pt x="152" y="0"/>
                  </a:lnTo>
                  <a:lnTo>
                    <a:pt x="147" y="2"/>
                  </a:lnTo>
                  <a:lnTo>
                    <a:pt x="133" y="7"/>
                  </a:lnTo>
                  <a:lnTo>
                    <a:pt x="113" y="13"/>
                  </a:lnTo>
                  <a:lnTo>
                    <a:pt x="89" y="21"/>
                  </a:lnTo>
                  <a:lnTo>
                    <a:pt x="64" y="29"/>
                  </a:lnTo>
                  <a:lnTo>
                    <a:pt x="40" y="39"/>
                  </a:lnTo>
                  <a:lnTo>
                    <a:pt x="17" y="47"/>
                  </a:lnTo>
                  <a:lnTo>
                    <a:pt x="0" y="55"/>
                  </a:lnTo>
                  <a:lnTo>
                    <a:pt x="51"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53"/>
            <p:cNvSpPr/>
            <p:nvPr/>
          </p:nvSpPr>
          <p:spPr>
            <a:xfrm>
              <a:off x="5111640" y="4954320"/>
              <a:ext cx="395280" cy="499680"/>
            </a:xfrm>
            <a:custGeom>
              <a:avLst/>
              <a:gdLst>
                <a:gd name="textAreaLeft" fmla="*/ 0 w 395280"/>
                <a:gd name="textAreaRight" fmla="*/ 395640 w 395280"/>
                <a:gd name="textAreaTop" fmla="*/ 0 h 499680"/>
                <a:gd name="textAreaBottom" fmla="*/ 500040 h 499680"/>
              </a:gdLst>
              <a:ahLst/>
              <a:rect l="textAreaLeft" t="textAreaTop" r="textAreaRight" b="textAreaBottom"/>
              <a:pathLst>
                <a:path w="249" h="315">
                  <a:moveTo>
                    <a:pt x="36" y="240"/>
                  </a:moveTo>
                  <a:lnTo>
                    <a:pt x="44" y="260"/>
                  </a:lnTo>
                  <a:lnTo>
                    <a:pt x="57" y="278"/>
                  </a:lnTo>
                  <a:lnTo>
                    <a:pt x="73" y="292"/>
                  </a:lnTo>
                  <a:lnTo>
                    <a:pt x="91" y="303"/>
                  </a:lnTo>
                  <a:lnTo>
                    <a:pt x="110" y="311"/>
                  </a:lnTo>
                  <a:lnTo>
                    <a:pt x="131" y="315"/>
                  </a:lnTo>
                  <a:lnTo>
                    <a:pt x="152" y="315"/>
                  </a:lnTo>
                  <a:lnTo>
                    <a:pt x="174" y="310"/>
                  </a:lnTo>
                  <a:lnTo>
                    <a:pt x="188" y="303"/>
                  </a:lnTo>
                  <a:lnTo>
                    <a:pt x="203" y="294"/>
                  </a:lnTo>
                  <a:lnTo>
                    <a:pt x="217" y="279"/>
                  </a:lnTo>
                  <a:lnTo>
                    <a:pt x="232" y="262"/>
                  </a:lnTo>
                  <a:lnTo>
                    <a:pt x="241" y="243"/>
                  </a:lnTo>
                  <a:lnTo>
                    <a:pt x="248" y="222"/>
                  </a:lnTo>
                  <a:lnTo>
                    <a:pt x="249" y="198"/>
                  </a:lnTo>
                  <a:lnTo>
                    <a:pt x="244" y="173"/>
                  </a:lnTo>
                  <a:lnTo>
                    <a:pt x="214" y="75"/>
                  </a:lnTo>
                  <a:lnTo>
                    <a:pt x="204" y="54"/>
                  </a:lnTo>
                  <a:lnTo>
                    <a:pt x="193" y="37"/>
                  </a:lnTo>
                  <a:lnTo>
                    <a:pt x="177" y="22"/>
                  </a:lnTo>
                  <a:lnTo>
                    <a:pt x="160" y="11"/>
                  </a:lnTo>
                  <a:lnTo>
                    <a:pt x="140" y="5"/>
                  </a:lnTo>
                  <a:lnTo>
                    <a:pt x="120" y="0"/>
                  </a:lnTo>
                  <a:lnTo>
                    <a:pt x="99" y="0"/>
                  </a:lnTo>
                  <a:lnTo>
                    <a:pt x="76" y="5"/>
                  </a:lnTo>
                  <a:lnTo>
                    <a:pt x="56" y="14"/>
                  </a:lnTo>
                  <a:lnTo>
                    <a:pt x="38" y="26"/>
                  </a:lnTo>
                  <a:lnTo>
                    <a:pt x="24" y="42"/>
                  </a:lnTo>
                  <a:lnTo>
                    <a:pt x="12" y="59"/>
                  </a:lnTo>
                  <a:lnTo>
                    <a:pt x="4" y="78"/>
                  </a:lnTo>
                  <a:lnTo>
                    <a:pt x="0" y="99"/>
                  </a:lnTo>
                  <a:lnTo>
                    <a:pt x="0" y="120"/>
                  </a:lnTo>
                  <a:lnTo>
                    <a:pt x="4" y="142"/>
                  </a:lnTo>
                  <a:lnTo>
                    <a:pt x="36" y="240"/>
                  </a:lnTo>
                  <a:close/>
                </a:path>
              </a:pathLst>
            </a:custGeom>
            <a:solidFill>
              <a:srgbClr val="e8d8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54"/>
            <p:cNvSpPr/>
            <p:nvPr/>
          </p:nvSpPr>
          <p:spPr>
            <a:xfrm>
              <a:off x="5111640" y="4954320"/>
              <a:ext cx="395280" cy="499680"/>
            </a:xfrm>
            <a:custGeom>
              <a:avLst/>
              <a:gdLst>
                <a:gd name="textAreaLeft" fmla="*/ 0 w 395280"/>
                <a:gd name="textAreaRight" fmla="*/ 395640 w 395280"/>
                <a:gd name="textAreaTop" fmla="*/ 0 h 499680"/>
                <a:gd name="textAreaBottom" fmla="*/ 500040 h 499680"/>
              </a:gdLst>
              <a:ahLst/>
              <a:rect l="textAreaLeft" t="textAreaTop" r="textAreaRight" b="textAreaBottom"/>
              <a:pathLst>
                <a:path w="249" h="315">
                  <a:moveTo>
                    <a:pt x="36" y="240"/>
                  </a:moveTo>
                  <a:lnTo>
                    <a:pt x="36" y="240"/>
                  </a:lnTo>
                  <a:lnTo>
                    <a:pt x="44" y="260"/>
                  </a:lnTo>
                  <a:lnTo>
                    <a:pt x="57" y="278"/>
                  </a:lnTo>
                  <a:lnTo>
                    <a:pt x="73" y="292"/>
                  </a:lnTo>
                  <a:lnTo>
                    <a:pt x="91" y="303"/>
                  </a:lnTo>
                  <a:lnTo>
                    <a:pt x="110" y="311"/>
                  </a:lnTo>
                  <a:lnTo>
                    <a:pt x="131" y="315"/>
                  </a:lnTo>
                  <a:lnTo>
                    <a:pt x="152" y="315"/>
                  </a:lnTo>
                  <a:lnTo>
                    <a:pt x="174" y="310"/>
                  </a:lnTo>
                  <a:lnTo>
                    <a:pt x="188" y="303"/>
                  </a:lnTo>
                  <a:lnTo>
                    <a:pt x="203" y="294"/>
                  </a:lnTo>
                  <a:lnTo>
                    <a:pt x="217" y="279"/>
                  </a:lnTo>
                  <a:lnTo>
                    <a:pt x="232" y="262"/>
                  </a:lnTo>
                  <a:lnTo>
                    <a:pt x="241" y="243"/>
                  </a:lnTo>
                  <a:lnTo>
                    <a:pt x="248" y="222"/>
                  </a:lnTo>
                  <a:lnTo>
                    <a:pt x="249" y="198"/>
                  </a:lnTo>
                  <a:lnTo>
                    <a:pt x="244" y="173"/>
                  </a:lnTo>
                  <a:lnTo>
                    <a:pt x="214" y="75"/>
                  </a:lnTo>
                  <a:lnTo>
                    <a:pt x="204" y="54"/>
                  </a:lnTo>
                  <a:lnTo>
                    <a:pt x="193" y="37"/>
                  </a:lnTo>
                  <a:lnTo>
                    <a:pt x="177" y="22"/>
                  </a:lnTo>
                  <a:lnTo>
                    <a:pt x="160" y="11"/>
                  </a:lnTo>
                  <a:lnTo>
                    <a:pt x="140" y="5"/>
                  </a:lnTo>
                  <a:lnTo>
                    <a:pt x="120" y="0"/>
                  </a:lnTo>
                  <a:lnTo>
                    <a:pt x="99" y="0"/>
                  </a:lnTo>
                  <a:lnTo>
                    <a:pt x="76" y="5"/>
                  </a:lnTo>
                  <a:lnTo>
                    <a:pt x="56" y="14"/>
                  </a:lnTo>
                  <a:lnTo>
                    <a:pt x="38" y="26"/>
                  </a:lnTo>
                  <a:lnTo>
                    <a:pt x="24" y="42"/>
                  </a:lnTo>
                  <a:lnTo>
                    <a:pt x="12" y="59"/>
                  </a:lnTo>
                  <a:lnTo>
                    <a:pt x="4" y="78"/>
                  </a:lnTo>
                  <a:lnTo>
                    <a:pt x="0" y="99"/>
                  </a:lnTo>
                  <a:lnTo>
                    <a:pt x="0" y="120"/>
                  </a:lnTo>
                  <a:lnTo>
                    <a:pt x="4" y="142"/>
                  </a:lnTo>
                  <a:lnTo>
                    <a:pt x="36" y="2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55"/>
            <p:cNvSpPr/>
            <p:nvPr/>
          </p:nvSpPr>
          <p:spPr>
            <a:xfrm>
              <a:off x="4778280" y="5925960"/>
              <a:ext cx="266760" cy="247320"/>
            </a:xfrm>
            <a:custGeom>
              <a:avLst/>
              <a:gdLst>
                <a:gd name="textAreaLeft" fmla="*/ 0 w 266760"/>
                <a:gd name="textAreaRight" fmla="*/ 267120 w 266760"/>
                <a:gd name="textAreaTop" fmla="*/ 0 h 247320"/>
                <a:gd name="textAreaBottom" fmla="*/ 247680 h 247320"/>
              </a:gdLst>
              <a:ahLst/>
              <a:rect l="textAreaLeft" t="textAreaTop" r="textAreaRight" b="textAreaBottom"/>
              <a:pathLst>
                <a:path w="168" h="156">
                  <a:moveTo>
                    <a:pt x="117" y="0"/>
                  </a:moveTo>
                  <a:lnTo>
                    <a:pt x="96" y="9"/>
                  </a:lnTo>
                  <a:lnTo>
                    <a:pt x="74" y="20"/>
                  </a:lnTo>
                  <a:lnTo>
                    <a:pt x="51" y="33"/>
                  </a:lnTo>
                  <a:lnTo>
                    <a:pt x="32" y="47"/>
                  </a:lnTo>
                  <a:lnTo>
                    <a:pt x="14" y="63"/>
                  </a:lnTo>
                  <a:lnTo>
                    <a:pt x="3" y="81"/>
                  </a:lnTo>
                  <a:lnTo>
                    <a:pt x="0" y="102"/>
                  </a:lnTo>
                  <a:lnTo>
                    <a:pt x="5" y="124"/>
                  </a:lnTo>
                  <a:lnTo>
                    <a:pt x="18" y="143"/>
                  </a:lnTo>
                  <a:lnTo>
                    <a:pt x="37" y="153"/>
                  </a:lnTo>
                  <a:lnTo>
                    <a:pt x="58" y="156"/>
                  </a:lnTo>
                  <a:lnTo>
                    <a:pt x="80" y="154"/>
                  </a:lnTo>
                  <a:lnTo>
                    <a:pt x="104" y="150"/>
                  </a:lnTo>
                  <a:lnTo>
                    <a:pt x="128" y="143"/>
                  </a:lnTo>
                  <a:lnTo>
                    <a:pt x="149" y="135"/>
                  </a:lnTo>
                  <a:lnTo>
                    <a:pt x="168" y="131"/>
                  </a:lnTo>
                  <a:lnTo>
                    <a:pt x="117" y="0"/>
                  </a:lnTo>
                  <a:close/>
                </a:path>
              </a:pathLst>
            </a:custGeom>
            <a:solidFill>
              <a:srgbClr val="e8d8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56"/>
            <p:cNvSpPr/>
            <p:nvPr/>
          </p:nvSpPr>
          <p:spPr>
            <a:xfrm>
              <a:off x="4778280" y="5925960"/>
              <a:ext cx="266760" cy="247320"/>
            </a:xfrm>
            <a:custGeom>
              <a:avLst/>
              <a:gdLst>
                <a:gd name="textAreaLeft" fmla="*/ 0 w 266760"/>
                <a:gd name="textAreaRight" fmla="*/ 267120 w 266760"/>
                <a:gd name="textAreaTop" fmla="*/ 0 h 247320"/>
                <a:gd name="textAreaBottom" fmla="*/ 247680 h 247320"/>
              </a:gdLst>
              <a:ahLst/>
              <a:rect l="textAreaLeft" t="textAreaTop" r="textAreaRight" b="textAreaBottom"/>
              <a:pathLst>
                <a:path w="168" h="156">
                  <a:moveTo>
                    <a:pt x="117" y="0"/>
                  </a:moveTo>
                  <a:lnTo>
                    <a:pt x="117" y="0"/>
                  </a:lnTo>
                  <a:lnTo>
                    <a:pt x="96" y="9"/>
                  </a:lnTo>
                  <a:lnTo>
                    <a:pt x="74" y="20"/>
                  </a:lnTo>
                  <a:lnTo>
                    <a:pt x="51" y="33"/>
                  </a:lnTo>
                  <a:lnTo>
                    <a:pt x="32" y="47"/>
                  </a:lnTo>
                  <a:lnTo>
                    <a:pt x="14" y="63"/>
                  </a:lnTo>
                  <a:lnTo>
                    <a:pt x="3" y="81"/>
                  </a:lnTo>
                  <a:lnTo>
                    <a:pt x="0" y="102"/>
                  </a:lnTo>
                  <a:lnTo>
                    <a:pt x="5" y="124"/>
                  </a:lnTo>
                  <a:lnTo>
                    <a:pt x="18" y="143"/>
                  </a:lnTo>
                  <a:lnTo>
                    <a:pt x="37" y="153"/>
                  </a:lnTo>
                  <a:lnTo>
                    <a:pt x="58" y="156"/>
                  </a:lnTo>
                  <a:lnTo>
                    <a:pt x="80" y="154"/>
                  </a:lnTo>
                  <a:lnTo>
                    <a:pt x="104" y="150"/>
                  </a:lnTo>
                  <a:lnTo>
                    <a:pt x="128" y="143"/>
                  </a:lnTo>
                  <a:lnTo>
                    <a:pt x="149" y="135"/>
                  </a:lnTo>
                  <a:lnTo>
                    <a:pt x="168" y="131"/>
                  </a:lnTo>
                  <a:lnTo>
                    <a:pt x="11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57"/>
            <p:cNvSpPr/>
            <p:nvPr/>
          </p:nvSpPr>
          <p:spPr>
            <a:xfrm>
              <a:off x="5352840" y="5497200"/>
              <a:ext cx="362160" cy="734760"/>
            </a:xfrm>
            <a:custGeom>
              <a:avLst/>
              <a:gdLst>
                <a:gd name="textAreaLeft" fmla="*/ 0 w 362160"/>
                <a:gd name="textAreaRight" fmla="*/ 362520 w 362160"/>
                <a:gd name="textAreaTop" fmla="*/ 0 h 734760"/>
                <a:gd name="textAreaBottom" fmla="*/ 735120 h 734760"/>
              </a:gdLst>
              <a:ahLst/>
              <a:rect l="textAreaLeft" t="textAreaTop" r="textAreaRight" b="textAreaBottom"/>
              <a:pathLst>
                <a:path w="228" h="463">
                  <a:moveTo>
                    <a:pt x="110" y="463"/>
                  </a:moveTo>
                  <a:lnTo>
                    <a:pt x="121" y="447"/>
                  </a:lnTo>
                  <a:lnTo>
                    <a:pt x="132" y="429"/>
                  </a:lnTo>
                  <a:lnTo>
                    <a:pt x="144" y="410"/>
                  </a:lnTo>
                  <a:lnTo>
                    <a:pt x="155" y="389"/>
                  </a:lnTo>
                  <a:lnTo>
                    <a:pt x="164" y="372"/>
                  </a:lnTo>
                  <a:lnTo>
                    <a:pt x="174" y="354"/>
                  </a:lnTo>
                  <a:lnTo>
                    <a:pt x="184" y="341"/>
                  </a:lnTo>
                  <a:lnTo>
                    <a:pt x="193" y="332"/>
                  </a:lnTo>
                  <a:lnTo>
                    <a:pt x="203" y="322"/>
                  </a:lnTo>
                  <a:lnTo>
                    <a:pt x="211" y="310"/>
                  </a:lnTo>
                  <a:lnTo>
                    <a:pt x="219" y="292"/>
                  </a:lnTo>
                  <a:lnTo>
                    <a:pt x="225" y="273"/>
                  </a:lnTo>
                  <a:lnTo>
                    <a:pt x="228" y="252"/>
                  </a:lnTo>
                  <a:lnTo>
                    <a:pt x="228" y="230"/>
                  </a:lnTo>
                  <a:lnTo>
                    <a:pt x="225" y="209"/>
                  </a:lnTo>
                  <a:lnTo>
                    <a:pt x="217" y="190"/>
                  </a:lnTo>
                  <a:lnTo>
                    <a:pt x="208" y="171"/>
                  </a:lnTo>
                  <a:lnTo>
                    <a:pt x="201" y="151"/>
                  </a:lnTo>
                  <a:lnTo>
                    <a:pt x="195" y="132"/>
                  </a:lnTo>
                  <a:lnTo>
                    <a:pt x="188" y="112"/>
                  </a:lnTo>
                  <a:lnTo>
                    <a:pt x="182" y="92"/>
                  </a:lnTo>
                  <a:lnTo>
                    <a:pt x="176" y="73"/>
                  </a:lnTo>
                  <a:lnTo>
                    <a:pt x="169" y="57"/>
                  </a:lnTo>
                  <a:lnTo>
                    <a:pt x="160" y="41"/>
                  </a:lnTo>
                  <a:lnTo>
                    <a:pt x="148" y="28"/>
                  </a:lnTo>
                  <a:lnTo>
                    <a:pt x="139" y="17"/>
                  </a:lnTo>
                  <a:lnTo>
                    <a:pt x="128" y="9"/>
                  </a:lnTo>
                  <a:lnTo>
                    <a:pt x="118" y="3"/>
                  </a:lnTo>
                  <a:lnTo>
                    <a:pt x="107" y="0"/>
                  </a:lnTo>
                  <a:lnTo>
                    <a:pt x="97" y="0"/>
                  </a:lnTo>
                  <a:lnTo>
                    <a:pt x="86" y="5"/>
                  </a:lnTo>
                  <a:lnTo>
                    <a:pt x="76" y="11"/>
                  </a:lnTo>
                  <a:lnTo>
                    <a:pt x="59" y="21"/>
                  </a:lnTo>
                  <a:lnTo>
                    <a:pt x="44" y="35"/>
                  </a:lnTo>
                  <a:lnTo>
                    <a:pt x="35" y="52"/>
                  </a:lnTo>
                  <a:lnTo>
                    <a:pt x="28" y="70"/>
                  </a:lnTo>
                  <a:lnTo>
                    <a:pt x="25" y="91"/>
                  </a:lnTo>
                  <a:lnTo>
                    <a:pt x="27" y="112"/>
                  </a:lnTo>
                  <a:lnTo>
                    <a:pt x="30" y="131"/>
                  </a:lnTo>
                  <a:lnTo>
                    <a:pt x="38" y="148"/>
                  </a:lnTo>
                  <a:lnTo>
                    <a:pt x="48" y="166"/>
                  </a:lnTo>
                  <a:lnTo>
                    <a:pt x="56" y="185"/>
                  </a:lnTo>
                  <a:lnTo>
                    <a:pt x="65" y="204"/>
                  </a:lnTo>
                  <a:lnTo>
                    <a:pt x="73" y="222"/>
                  </a:lnTo>
                  <a:lnTo>
                    <a:pt x="80" y="236"/>
                  </a:lnTo>
                  <a:lnTo>
                    <a:pt x="84" y="249"/>
                  </a:lnTo>
                  <a:lnTo>
                    <a:pt x="88" y="257"/>
                  </a:lnTo>
                  <a:lnTo>
                    <a:pt x="89" y="260"/>
                  </a:lnTo>
                  <a:lnTo>
                    <a:pt x="78" y="273"/>
                  </a:lnTo>
                  <a:lnTo>
                    <a:pt x="67" y="287"/>
                  </a:lnTo>
                  <a:lnTo>
                    <a:pt x="56" y="300"/>
                  </a:lnTo>
                  <a:lnTo>
                    <a:pt x="46" y="314"/>
                  </a:lnTo>
                  <a:lnTo>
                    <a:pt x="36" y="330"/>
                  </a:lnTo>
                  <a:lnTo>
                    <a:pt x="25" y="345"/>
                  </a:lnTo>
                  <a:lnTo>
                    <a:pt x="12" y="359"/>
                  </a:lnTo>
                  <a:lnTo>
                    <a:pt x="0" y="373"/>
                  </a:lnTo>
                  <a:lnTo>
                    <a:pt x="110" y="463"/>
                  </a:lnTo>
                  <a:close/>
                </a:path>
              </a:pathLst>
            </a:custGeom>
            <a:solidFill>
              <a:srgbClr val="0075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58"/>
            <p:cNvSpPr/>
            <p:nvPr/>
          </p:nvSpPr>
          <p:spPr>
            <a:xfrm>
              <a:off x="5352840" y="5497200"/>
              <a:ext cx="362160" cy="734760"/>
            </a:xfrm>
            <a:custGeom>
              <a:avLst/>
              <a:gdLst>
                <a:gd name="textAreaLeft" fmla="*/ 0 w 362160"/>
                <a:gd name="textAreaRight" fmla="*/ 362520 w 362160"/>
                <a:gd name="textAreaTop" fmla="*/ 0 h 734760"/>
                <a:gd name="textAreaBottom" fmla="*/ 735120 h 734760"/>
              </a:gdLst>
              <a:ahLst/>
              <a:rect l="textAreaLeft" t="textAreaTop" r="textAreaRight" b="textAreaBottom"/>
              <a:pathLst>
                <a:path w="228" h="463">
                  <a:moveTo>
                    <a:pt x="110" y="463"/>
                  </a:moveTo>
                  <a:lnTo>
                    <a:pt x="110" y="463"/>
                  </a:lnTo>
                  <a:lnTo>
                    <a:pt x="121" y="447"/>
                  </a:lnTo>
                  <a:lnTo>
                    <a:pt x="132" y="429"/>
                  </a:lnTo>
                  <a:lnTo>
                    <a:pt x="144" y="410"/>
                  </a:lnTo>
                  <a:lnTo>
                    <a:pt x="155" y="389"/>
                  </a:lnTo>
                  <a:lnTo>
                    <a:pt x="164" y="372"/>
                  </a:lnTo>
                  <a:lnTo>
                    <a:pt x="174" y="354"/>
                  </a:lnTo>
                  <a:lnTo>
                    <a:pt x="184" y="341"/>
                  </a:lnTo>
                  <a:lnTo>
                    <a:pt x="193" y="332"/>
                  </a:lnTo>
                  <a:lnTo>
                    <a:pt x="203" y="322"/>
                  </a:lnTo>
                  <a:lnTo>
                    <a:pt x="211" y="310"/>
                  </a:lnTo>
                  <a:lnTo>
                    <a:pt x="219" y="292"/>
                  </a:lnTo>
                  <a:lnTo>
                    <a:pt x="225" y="273"/>
                  </a:lnTo>
                  <a:lnTo>
                    <a:pt x="228" y="252"/>
                  </a:lnTo>
                  <a:lnTo>
                    <a:pt x="228" y="230"/>
                  </a:lnTo>
                  <a:lnTo>
                    <a:pt x="225" y="209"/>
                  </a:lnTo>
                  <a:lnTo>
                    <a:pt x="217" y="190"/>
                  </a:lnTo>
                  <a:lnTo>
                    <a:pt x="208" y="171"/>
                  </a:lnTo>
                  <a:lnTo>
                    <a:pt x="201" y="151"/>
                  </a:lnTo>
                  <a:lnTo>
                    <a:pt x="195" y="132"/>
                  </a:lnTo>
                  <a:lnTo>
                    <a:pt x="188" y="112"/>
                  </a:lnTo>
                  <a:lnTo>
                    <a:pt x="182" y="92"/>
                  </a:lnTo>
                  <a:lnTo>
                    <a:pt x="176" y="73"/>
                  </a:lnTo>
                  <a:lnTo>
                    <a:pt x="169" y="57"/>
                  </a:lnTo>
                  <a:lnTo>
                    <a:pt x="160" y="41"/>
                  </a:lnTo>
                  <a:lnTo>
                    <a:pt x="148" y="28"/>
                  </a:lnTo>
                  <a:lnTo>
                    <a:pt x="139" y="17"/>
                  </a:lnTo>
                  <a:lnTo>
                    <a:pt x="128" y="9"/>
                  </a:lnTo>
                  <a:lnTo>
                    <a:pt x="118" y="3"/>
                  </a:lnTo>
                  <a:lnTo>
                    <a:pt x="107" y="0"/>
                  </a:lnTo>
                  <a:lnTo>
                    <a:pt x="97" y="0"/>
                  </a:lnTo>
                  <a:lnTo>
                    <a:pt x="86" y="5"/>
                  </a:lnTo>
                  <a:lnTo>
                    <a:pt x="76" y="11"/>
                  </a:lnTo>
                  <a:lnTo>
                    <a:pt x="59" y="21"/>
                  </a:lnTo>
                  <a:lnTo>
                    <a:pt x="44" y="35"/>
                  </a:lnTo>
                  <a:lnTo>
                    <a:pt x="35" y="52"/>
                  </a:lnTo>
                  <a:lnTo>
                    <a:pt x="28" y="70"/>
                  </a:lnTo>
                  <a:lnTo>
                    <a:pt x="25" y="91"/>
                  </a:lnTo>
                  <a:lnTo>
                    <a:pt x="27" y="112"/>
                  </a:lnTo>
                  <a:lnTo>
                    <a:pt x="30" y="131"/>
                  </a:lnTo>
                  <a:lnTo>
                    <a:pt x="38" y="148"/>
                  </a:lnTo>
                  <a:lnTo>
                    <a:pt x="48" y="166"/>
                  </a:lnTo>
                  <a:lnTo>
                    <a:pt x="56" y="185"/>
                  </a:lnTo>
                  <a:lnTo>
                    <a:pt x="65" y="204"/>
                  </a:lnTo>
                  <a:lnTo>
                    <a:pt x="73" y="222"/>
                  </a:lnTo>
                  <a:lnTo>
                    <a:pt x="80" y="236"/>
                  </a:lnTo>
                  <a:lnTo>
                    <a:pt x="84" y="249"/>
                  </a:lnTo>
                  <a:lnTo>
                    <a:pt x="88" y="257"/>
                  </a:lnTo>
                  <a:lnTo>
                    <a:pt x="89" y="260"/>
                  </a:lnTo>
                  <a:lnTo>
                    <a:pt x="78" y="273"/>
                  </a:lnTo>
                  <a:lnTo>
                    <a:pt x="67" y="287"/>
                  </a:lnTo>
                  <a:lnTo>
                    <a:pt x="56" y="300"/>
                  </a:lnTo>
                  <a:lnTo>
                    <a:pt x="46" y="314"/>
                  </a:lnTo>
                  <a:lnTo>
                    <a:pt x="36" y="330"/>
                  </a:lnTo>
                  <a:lnTo>
                    <a:pt x="25" y="345"/>
                  </a:lnTo>
                  <a:lnTo>
                    <a:pt x="12" y="359"/>
                  </a:lnTo>
                  <a:lnTo>
                    <a:pt x="0" y="373"/>
                  </a:lnTo>
                  <a:lnTo>
                    <a:pt x="110" y="4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59"/>
            <p:cNvSpPr/>
            <p:nvPr/>
          </p:nvSpPr>
          <p:spPr>
            <a:xfrm>
              <a:off x="5238720" y="6080040"/>
              <a:ext cx="234720" cy="369360"/>
            </a:xfrm>
            <a:custGeom>
              <a:avLst/>
              <a:gdLst>
                <a:gd name="textAreaLeft" fmla="*/ 0 w 234720"/>
                <a:gd name="textAreaRight" fmla="*/ 235080 w 234720"/>
                <a:gd name="textAreaTop" fmla="*/ 0 h 369360"/>
                <a:gd name="textAreaBottom" fmla="*/ 369720 h 369360"/>
              </a:gdLst>
              <a:ahLst/>
              <a:rect l="textAreaLeft" t="textAreaTop" r="textAreaRight" b="textAreaBottom"/>
              <a:pathLst>
                <a:path w="148" h="233">
                  <a:moveTo>
                    <a:pt x="19" y="0"/>
                  </a:moveTo>
                  <a:lnTo>
                    <a:pt x="139" y="196"/>
                  </a:lnTo>
                  <a:lnTo>
                    <a:pt x="148" y="233"/>
                  </a:lnTo>
                  <a:lnTo>
                    <a:pt x="118" y="209"/>
                  </a:lnTo>
                  <a:lnTo>
                    <a:pt x="0" y="13"/>
                  </a:lnTo>
                  <a:lnTo>
                    <a:pt x="19" y="0"/>
                  </a:lnTo>
                  <a:close/>
                </a:path>
              </a:pathLst>
            </a:custGeom>
            <a:solidFill>
              <a:srgbClr val="990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60"/>
            <p:cNvSpPr/>
            <p:nvPr/>
          </p:nvSpPr>
          <p:spPr>
            <a:xfrm>
              <a:off x="5238720" y="6080040"/>
              <a:ext cx="234720" cy="369360"/>
            </a:xfrm>
            <a:custGeom>
              <a:avLst/>
              <a:gdLst>
                <a:gd name="textAreaLeft" fmla="*/ 0 w 234720"/>
                <a:gd name="textAreaRight" fmla="*/ 235080 w 234720"/>
                <a:gd name="textAreaTop" fmla="*/ 0 h 369360"/>
                <a:gd name="textAreaBottom" fmla="*/ 369720 h 369360"/>
              </a:gdLst>
              <a:ahLst/>
              <a:rect l="textAreaLeft" t="textAreaTop" r="textAreaRight" b="textAreaBottom"/>
              <a:pathLst>
                <a:path w="148" h="233">
                  <a:moveTo>
                    <a:pt x="19" y="0"/>
                  </a:moveTo>
                  <a:lnTo>
                    <a:pt x="139" y="196"/>
                  </a:lnTo>
                  <a:lnTo>
                    <a:pt x="148" y="233"/>
                  </a:lnTo>
                  <a:lnTo>
                    <a:pt x="118" y="209"/>
                  </a:lnTo>
                  <a:lnTo>
                    <a:pt x="0" y="13"/>
                  </a:lnTo>
                  <a:lnTo>
                    <a:pt x="1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61"/>
            <p:cNvSpPr/>
            <p:nvPr/>
          </p:nvSpPr>
          <p:spPr>
            <a:xfrm>
              <a:off x="5243400" y="6089400"/>
              <a:ext cx="284040" cy="275760"/>
            </a:xfrm>
            <a:custGeom>
              <a:avLst/>
              <a:gdLst>
                <a:gd name="textAreaLeft" fmla="*/ 0 w 284040"/>
                <a:gd name="textAreaRight" fmla="*/ 284400 w 284040"/>
                <a:gd name="textAreaTop" fmla="*/ 0 h 275760"/>
                <a:gd name="textAreaBottom" fmla="*/ 276120 h 275760"/>
              </a:gdLst>
              <a:ahLst/>
              <a:rect l="textAreaLeft" t="textAreaTop" r="textAreaRight" b="textAreaBottom"/>
              <a:pathLst>
                <a:path w="179" h="174">
                  <a:moveTo>
                    <a:pt x="69" y="0"/>
                  </a:moveTo>
                  <a:lnTo>
                    <a:pt x="53" y="16"/>
                  </a:lnTo>
                  <a:lnTo>
                    <a:pt x="37" y="34"/>
                  </a:lnTo>
                  <a:lnTo>
                    <a:pt x="22" y="55"/>
                  </a:lnTo>
                  <a:lnTo>
                    <a:pt x="9" y="75"/>
                  </a:lnTo>
                  <a:lnTo>
                    <a:pt x="1" y="98"/>
                  </a:lnTo>
                  <a:lnTo>
                    <a:pt x="0" y="120"/>
                  </a:lnTo>
                  <a:lnTo>
                    <a:pt x="8" y="141"/>
                  </a:lnTo>
                  <a:lnTo>
                    <a:pt x="24" y="162"/>
                  </a:lnTo>
                  <a:lnTo>
                    <a:pt x="45" y="173"/>
                  </a:lnTo>
                  <a:lnTo>
                    <a:pt x="65" y="174"/>
                  </a:lnTo>
                  <a:lnTo>
                    <a:pt x="88" y="170"/>
                  </a:lnTo>
                  <a:lnTo>
                    <a:pt x="110" y="157"/>
                  </a:lnTo>
                  <a:lnTo>
                    <a:pt x="131" y="141"/>
                  </a:lnTo>
                  <a:lnTo>
                    <a:pt x="149" y="123"/>
                  </a:lnTo>
                  <a:lnTo>
                    <a:pt x="166" y="106"/>
                  </a:lnTo>
                  <a:lnTo>
                    <a:pt x="179" y="90"/>
                  </a:lnTo>
                  <a:lnTo>
                    <a:pt x="69" y="0"/>
                  </a:lnTo>
                  <a:close/>
                </a:path>
              </a:pathLst>
            </a:custGeom>
            <a:solidFill>
              <a:srgbClr val="e8d8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62"/>
            <p:cNvSpPr/>
            <p:nvPr/>
          </p:nvSpPr>
          <p:spPr>
            <a:xfrm>
              <a:off x="5243400" y="6089400"/>
              <a:ext cx="284040" cy="275760"/>
            </a:xfrm>
            <a:custGeom>
              <a:avLst/>
              <a:gdLst>
                <a:gd name="textAreaLeft" fmla="*/ 0 w 284040"/>
                <a:gd name="textAreaRight" fmla="*/ 284400 w 284040"/>
                <a:gd name="textAreaTop" fmla="*/ 0 h 275760"/>
                <a:gd name="textAreaBottom" fmla="*/ 276120 h 275760"/>
              </a:gdLst>
              <a:ahLst/>
              <a:rect l="textAreaLeft" t="textAreaTop" r="textAreaRight" b="textAreaBottom"/>
              <a:pathLst>
                <a:path w="179" h="174">
                  <a:moveTo>
                    <a:pt x="69" y="0"/>
                  </a:moveTo>
                  <a:lnTo>
                    <a:pt x="69" y="0"/>
                  </a:lnTo>
                  <a:lnTo>
                    <a:pt x="53" y="16"/>
                  </a:lnTo>
                  <a:lnTo>
                    <a:pt x="37" y="34"/>
                  </a:lnTo>
                  <a:lnTo>
                    <a:pt x="22" y="55"/>
                  </a:lnTo>
                  <a:lnTo>
                    <a:pt x="9" y="75"/>
                  </a:lnTo>
                  <a:lnTo>
                    <a:pt x="1" y="98"/>
                  </a:lnTo>
                  <a:lnTo>
                    <a:pt x="0" y="120"/>
                  </a:lnTo>
                  <a:lnTo>
                    <a:pt x="8" y="141"/>
                  </a:lnTo>
                  <a:lnTo>
                    <a:pt x="24" y="162"/>
                  </a:lnTo>
                  <a:lnTo>
                    <a:pt x="45" y="173"/>
                  </a:lnTo>
                  <a:lnTo>
                    <a:pt x="65" y="174"/>
                  </a:lnTo>
                  <a:lnTo>
                    <a:pt x="88" y="170"/>
                  </a:lnTo>
                  <a:lnTo>
                    <a:pt x="110" y="157"/>
                  </a:lnTo>
                  <a:lnTo>
                    <a:pt x="131" y="141"/>
                  </a:lnTo>
                  <a:lnTo>
                    <a:pt x="149" y="123"/>
                  </a:lnTo>
                  <a:lnTo>
                    <a:pt x="166" y="106"/>
                  </a:lnTo>
                  <a:lnTo>
                    <a:pt x="179" y="9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27" name="AutoShape 2"/>
          <p:cNvCxnSpPr>
            <a:stCxn id="728" idx="2"/>
            <a:endCxn id="729" idx="0"/>
          </p:cNvCxnSpPr>
          <p:nvPr/>
        </p:nvCxnSpPr>
        <p:spPr>
          <a:xfrm>
            <a:off x="2704680" y="2895480"/>
            <a:ext cx="1080" cy="1829520"/>
          </a:xfrm>
          <a:prstGeom prst="straightConnector1">
            <a:avLst/>
          </a:prstGeom>
          <a:ln w="57240">
            <a:solidFill>
              <a:srgbClr val="464646"/>
            </a:solidFill>
            <a:miter/>
          </a:ln>
        </p:spPr>
      </p:cxnSp>
      <p:sp>
        <p:nvSpPr>
          <p:cNvPr id="73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Vertical Integration- Advantages</a:t>
            </a:r>
            <a:endParaRPr b="0" lang="en-US" sz="4000" spc="-1" strike="noStrike">
              <a:solidFill>
                <a:srgbClr val="464646"/>
              </a:solidFill>
              <a:latin typeface="Arial"/>
            </a:endParaRPr>
          </a:p>
        </p:txBody>
      </p:sp>
      <p:sp>
        <p:nvSpPr>
          <p:cNvPr id="728" name="Rectangle 4"/>
          <p:cNvSpPr/>
          <p:nvPr/>
        </p:nvSpPr>
        <p:spPr>
          <a:xfrm>
            <a:off x="1143000" y="1752480"/>
            <a:ext cx="3124080" cy="114300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Smoother flow of parts and materials</a:t>
            </a:r>
            <a:endParaRPr b="0" lang="en-US" sz="2400" spc="-1" strike="noStrike">
              <a:solidFill>
                <a:srgbClr val="000000"/>
              </a:solidFill>
              <a:latin typeface="Arial"/>
            </a:endParaRPr>
          </a:p>
        </p:txBody>
      </p:sp>
      <p:sp>
        <p:nvSpPr>
          <p:cNvPr id="731" name="Rectangle 5"/>
          <p:cNvSpPr/>
          <p:nvPr/>
        </p:nvSpPr>
        <p:spPr>
          <a:xfrm>
            <a:off x="1143000" y="3276720"/>
            <a:ext cx="3124080" cy="114300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Better quality control</a:t>
            </a:r>
            <a:endParaRPr b="0" lang="en-US" sz="2400" spc="-1" strike="noStrike">
              <a:solidFill>
                <a:srgbClr val="000000"/>
              </a:solidFill>
              <a:latin typeface="Arial"/>
            </a:endParaRPr>
          </a:p>
        </p:txBody>
      </p:sp>
      <p:sp>
        <p:nvSpPr>
          <p:cNvPr id="729" name="Rectangle 6"/>
          <p:cNvSpPr/>
          <p:nvPr/>
        </p:nvSpPr>
        <p:spPr>
          <a:xfrm>
            <a:off x="1143000" y="4724280"/>
            <a:ext cx="3124080" cy="114300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Realize profits</a:t>
            </a:r>
            <a:endParaRPr b="0" lang="en-US" sz="2400" spc="-1" strike="noStrike">
              <a:solidFill>
                <a:srgbClr val="000000"/>
              </a:solidFill>
              <a:latin typeface="Arial"/>
            </a:endParaRPr>
          </a:p>
        </p:txBody>
      </p:sp>
      <p:pic>
        <p:nvPicPr>
          <p:cNvPr id="732" name="Picture 7" descr=""/>
          <p:cNvPicPr/>
          <p:nvPr/>
        </p:nvPicPr>
        <p:blipFill>
          <a:blip r:embed="rId1"/>
          <a:stretch/>
        </p:blipFill>
        <p:spPr>
          <a:xfrm>
            <a:off x="5410080" y="2438280"/>
            <a:ext cx="2590920" cy="2725920"/>
          </a:xfrm>
          <a:prstGeom prst="rect">
            <a:avLst/>
          </a:prstGeom>
          <a:ln w="0">
            <a:noFill/>
          </a:ln>
        </p:spPr>
      </p:pic>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Vertical Integration- Disadvantage</a:t>
            </a:r>
            <a:endParaRPr b="0" lang="en-US" sz="4000" spc="-1" strike="noStrike">
              <a:solidFill>
                <a:srgbClr val="464646"/>
              </a:solidFill>
              <a:latin typeface="Arial"/>
            </a:endParaRPr>
          </a:p>
        </p:txBody>
      </p:sp>
      <p:sp>
        <p:nvSpPr>
          <p:cNvPr id="734" name="Text Box 4"/>
          <p:cNvSpPr/>
          <p:nvPr/>
        </p:nvSpPr>
        <p:spPr>
          <a:xfrm>
            <a:off x="533520" y="1606680"/>
            <a:ext cx="3962160" cy="2974320"/>
          </a:xfrm>
          <a:prstGeom prst="rect">
            <a:avLst/>
          </a:prstGeom>
          <a:solidFill>
            <a:srgbClr val="d9d9d9"/>
          </a:solidFill>
          <a:ln w="9360">
            <a:solidFill>
              <a:srgbClr val="464646"/>
            </a:solidFill>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Arial"/>
              </a:rPr>
              <a:t>Companies may fail to take advantage of suppliers who can create </a:t>
            </a:r>
            <a:r>
              <a:rPr b="1" lang="en-US" sz="2700" spc="-1" strike="noStrike">
                <a:solidFill>
                  <a:srgbClr val="ff0000"/>
                </a:solidFill>
                <a:latin typeface="Arial"/>
              </a:rPr>
              <a:t>economies of scale advantage </a:t>
            </a:r>
            <a:r>
              <a:rPr b="1" lang="en-US" sz="2700" spc="-1" strike="noStrike">
                <a:solidFill>
                  <a:srgbClr val="464646"/>
                </a:solidFill>
                <a:latin typeface="Arial"/>
              </a:rPr>
              <a:t>by pooling demand from numerous companies. </a:t>
            </a:r>
            <a:endParaRPr b="0" lang="en-US" sz="2700" spc="-1" strike="noStrike">
              <a:solidFill>
                <a:srgbClr val="000000"/>
              </a:solidFill>
              <a:latin typeface="Arial"/>
            </a:endParaRPr>
          </a:p>
        </p:txBody>
      </p:sp>
      <p:sp>
        <p:nvSpPr>
          <p:cNvPr id="735" name="Text Box 4"/>
          <p:cNvSpPr/>
          <p:nvPr/>
        </p:nvSpPr>
        <p:spPr>
          <a:xfrm>
            <a:off x="457200" y="4807080"/>
            <a:ext cx="8229600" cy="1739880"/>
          </a:xfrm>
          <a:prstGeom prst="rect">
            <a:avLst/>
          </a:prstGeom>
          <a:solidFill>
            <a:srgbClr val="d9d9d9"/>
          </a:solidFill>
          <a:ln w="9360">
            <a:solidFill>
              <a:srgbClr val="464646"/>
            </a:solidFill>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Arial"/>
              </a:rPr>
              <a:t>While the </a:t>
            </a:r>
            <a:r>
              <a:rPr b="1" lang="en-US" sz="2700" spc="-1" strike="noStrike">
                <a:solidFill>
                  <a:srgbClr val="ff0000"/>
                </a:solidFill>
                <a:latin typeface="Arial"/>
              </a:rPr>
              <a:t>economics of scale</a:t>
            </a:r>
            <a:r>
              <a:rPr b="1" lang="en-US" sz="2700" spc="-1" strike="noStrike">
                <a:solidFill>
                  <a:srgbClr val="464646"/>
                </a:solidFill>
                <a:latin typeface="Arial"/>
              </a:rPr>
              <a:t> factor can be appealing, a company must be careful to retain control over activities that are essential to maintaining its competitive position. </a:t>
            </a:r>
            <a:endParaRPr b="0" lang="en-US" sz="2700" spc="-1" strike="noStrike">
              <a:solidFill>
                <a:srgbClr val="000000"/>
              </a:solidFill>
              <a:latin typeface="Arial"/>
            </a:endParaRPr>
          </a:p>
        </p:txBody>
      </p:sp>
      <p:pic>
        <p:nvPicPr>
          <p:cNvPr id="736" name="Picture 1" descr=""/>
          <p:cNvPicPr/>
          <p:nvPr/>
        </p:nvPicPr>
        <p:blipFill>
          <a:blip r:embed="rId1"/>
          <a:stretch/>
        </p:blipFill>
        <p:spPr>
          <a:xfrm>
            <a:off x="5638680" y="2232000"/>
            <a:ext cx="2057400" cy="19288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Make or Buy Decision: An Example</a:t>
            </a:r>
            <a:endParaRPr b="0" lang="en-US" sz="3600" spc="-1" strike="noStrike">
              <a:solidFill>
                <a:srgbClr val="464646"/>
              </a:solidFill>
              <a:latin typeface="Arial"/>
            </a:endParaRPr>
          </a:p>
        </p:txBody>
      </p:sp>
      <p:sp>
        <p:nvSpPr>
          <p:cNvPr id="738" name=""/>
          <p:cNvSpPr txBox="1"/>
          <p:nvPr/>
        </p:nvSpPr>
        <p:spPr>
          <a:xfrm>
            <a:off x="457200" y="1792440"/>
            <a:ext cx="8229600" cy="4760640"/>
          </a:xfrm>
          <a:prstGeom prst="rect">
            <a:avLst/>
          </a:prstGeom>
          <a:noFill/>
          <a:ln w="0">
            <a:noFill/>
          </a:ln>
        </p:spPr>
        <p:txBody>
          <a:bodyPr lIns="90360" rIns="90360" tIns="44280" bIns="44280"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x Company manufactures part 4A that is used in one of its products.  The unit product cost of this part is:</a:t>
            </a:r>
            <a:endParaRPr b="0" lang="en-US" sz="2800" spc="-1" strike="noStrike">
              <a:solidFill>
                <a:srgbClr val="000000"/>
              </a:solidFill>
              <a:latin typeface="Arial"/>
            </a:endParaRPr>
          </a:p>
        </p:txBody>
      </p:sp>
      <p:graphicFrame>
        <p:nvGraphicFramePr>
          <p:cNvPr id="739" name="Object 2"/>
          <p:cNvGraphicFramePr/>
          <p:nvPr/>
        </p:nvGraphicFramePr>
        <p:xfrm>
          <a:off x="1295280" y="3276720"/>
          <a:ext cx="6653160" cy="3276360"/>
        </p:xfrm>
        <a:graphic>
          <a:graphicData uri="http://schemas.openxmlformats.org/presentationml/2006/ole">
            <p:oleObj progId="Excel.Sheet.12" r:id="rId1" spid="">
              <p:embed/>
              <p:pic>
                <p:nvPicPr>
                  <p:cNvPr id="740" name="Object 2" descr=""/>
                  <p:cNvPicPr/>
                  <p:nvPr/>
                </p:nvPicPr>
                <p:blipFill>
                  <a:blip r:embed="rId2"/>
                  <a:stretch/>
                </p:blipFill>
                <p:spPr>
                  <a:xfrm>
                    <a:off x="1295280" y="3276720"/>
                    <a:ext cx="6653160" cy="3276360"/>
                  </a:xfrm>
                  <a:prstGeom prst="rect">
                    <a:avLst/>
                  </a:prstGeom>
                  <a:ln w="12600">
                    <a:solidFill>
                      <a:srgbClr val="000000"/>
                    </a:solidFill>
                    <a:miter/>
                  </a:ln>
                  <a:effectLst>
                    <a:outerShdw dist="40186" dir="4303641" blurRad="0" rotWithShape="0">
                      <a:srgbClr val="000000"/>
                    </a:outerShdw>
                  </a:effectLst>
                </p:spPr>
              </p:pic>
            </p:oleObj>
          </a:graphicData>
        </a:graphic>
      </p:graphicFrame>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742" name="PlaceHolder 2"/>
          <p:cNvSpPr>
            <a:spLocks noGrp="1"/>
          </p:cNvSpPr>
          <p:nvPr>
            <p:ph/>
          </p:nvPr>
        </p:nvSpPr>
        <p:spPr>
          <a:xfrm>
            <a:off x="457200" y="1600200"/>
            <a:ext cx="8229600" cy="5029200"/>
          </a:xfrm>
          <a:prstGeom prst="rect">
            <a:avLst/>
          </a:prstGeom>
          <a:solidFill>
            <a:srgbClr val="fbe0d1"/>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al equipment used to manufacture part 4A has no resale value.</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mount of general factory overhead, which is allocated on the basis of direct labor hours, would be unaffected by this decision.</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30 unit product cost is based on 20,000 parts produced each year.</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utside supplier has offered to provide the 20,000 parts at a cost of $25 per par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a:t>
            </a:r>
            <a:r>
              <a:rPr b="0" lang="en-US" sz="2800" spc="-1" strike="noStrike">
                <a:solidFill>
                  <a:srgbClr val="c00000"/>
                </a:solidFill>
                <a:latin typeface="Arial"/>
              </a:rPr>
              <a:t>Should we accept the supplier’s offer?</a:t>
            </a:r>
            <a:endParaRPr b="0" lang="en-US" sz="2800" spc="-1" strike="noStrike">
              <a:solidFill>
                <a:srgbClr val="000000"/>
              </a:solidFill>
              <a:latin typeface="Arial"/>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03" name=""/>
          <p:cNvSpPr txBox="1"/>
          <p:nvPr/>
        </p:nvSpPr>
        <p:spPr>
          <a:xfrm>
            <a:off x="457200" y="1563840"/>
            <a:ext cx="8229600" cy="2603520"/>
          </a:xfrm>
          <a:prstGeom prst="rect">
            <a:avLst/>
          </a:prstGeom>
          <a:solidFill>
            <a:srgbClr val="deebf8"/>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An </a:t>
            </a:r>
            <a:r>
              <a:rPr b="1" lang="en-US" sz="2800" spc="-1" strike="noStrike">
                <a:solidFill>
                  <a:srgbClr val="ff0000"/>
                </a:solidFill>
                <a:latin typeface="Arial"/>
              </a:rPr>
              <a:t>avoidable cost </a:t>
            </a:r>
            <a:r>
              <a:rPr b="1" lang="en-US" sz="2800" spc="-1" strike="noStrike">
                <a:solidFill>
                  <a:srgbClr val="464646"/>
                </a:solidFill>
                <a:latin typeface="Arial"/>
              </a:rPr>
              <a:t>is a cost that can be eliminated, in whole or in part, by choosing one alternative over another. Avoidable costs are relevant costs. Unavoidable costs are irrelevant costs.</a:t>
            </a:r>
            <a:endParaRPr b="0" lang="en-US" sz="2800" spc="-1" strike="noStrike">
              <a:solidFill>
                <a:srgbClr val="000000"/>
              </a:solidFill>
              <a:latin typeface="Arial"/>
            </a:endParaRPr>
          </a:p>
        </p:txBody>
      </p:sp>
      <p:sp>
        <p:nvSpPr>
          <p:cNvPr id="104" name="TextBox 2"/>
          <p:cNvSpPr/>
          <p:nvPr/>
        </p:nvSpPr>
        <p:spPr>
          <a:xfrm>
            <a:off x="914400" y="4572000"/>
            <a:ext cx="7238880" cy="1922760"/>
          </a:xfrm>
          <a:prstGeom prst="rect">
            <a:avLst/>
          </a:prstGeom>
          <a:solidFill>
            <a:srgbClr val="d9d9d9"/>
          </a:solidFill>
          <a:ln w="9360">
            <a:solidFill>
              <a:srgbClr val="39639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314e"/>
                </a:solidFill>
                <a:latin typeface="Arial"/>
              </a:rPr>
              <a:t>Two broad categories of costs are never relevant in any decision. They include: </a:t>
            </a:r>
            <a:endParaRPr b="0" lang="en-US" sz="2400" spc="-1" strike="noStrike">
              <a:solidFill>
                <a:srgbClr val="000000"/>
              </a:solidFill>
              <a:latin typeface="Arial"/>
            </a:endParaRPr>
          </a:p>
          <a:p>
            <a:pPr lvl="1" marL="457200">
              <a:lnSpc>
                <a:spcPct val="100000"/>
              </a:lnSpc>
              <a:buClr>
                <a:srgbClr val="1d31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314e"/>
                </a:solidFill>
                <a:latin typeface="Arial"/>
                <a:ea typeface="MS PGothic"/>
              </a:rPr>
              <a:t>Sunk costs.</a:t>
            </a:r>
            <a:endParaRPr b="0" lang="en-US" sz="2400" spc="-1" strike="noStrike">
              <a:solidFill>
                <a:srgbClr val="000000"/>
              </a:solidFill>
              <a:latin typeface="Arial"/>
            </a:endParaRPr>
          </a:p>
          <a:p>
            <a:pPr lvl="1" marL="457200">
              <a:lnSpc>
                <a:spcPct val="100000"/>
              </a:lnSpc>
              <a:buClr>
                <a:srgbClr val="1d31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314e"/>
                </a:solidFill>
                <a:latin typeface="Arial"/>
                <a:ea typeface="MS PGothic"/>
              </a:rPr>
              <a:t>A future cost that does not differ between the alternatives.</a:t>
            </a:r>
            <a:endParaRPr b="0" lang="en-US" sz="2400" spc="-1" strike="noStrike">
              <a:solidFill>
                <a:srgbClr val="000000"/>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744" name="Rectangle 5"/>
          <p:cNvSpPr/>
          <p:nvPr/>
        </p:nvSpPr>
        <p:spPr>
          <a:xfrm>
            <a:off x="304920" y="5873760"/>
            <a:ext cx="8610480" cy="667800"/>
          </a:xfrm>
          <a:prstGeom prst="rect">
            <a:avLst/>
          </a:prstGeom>
          <a:solidFill>
            <a:srgbClr val="ecf1f5"/>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3d54"/>
                </a:solidFill>
                <a:latin typeface="Arial"/>
              </a:rPr>
              <a:t>The </a:t>
            </a:r>
            <a:r>
              <a:rPr b="1" lang="en-US" sz="1900" spc="-1" strike="noStrike">
                <a:solidFill>
                  <a:srgbClr val="ff0000"/>
                </a:solidFill>
                <a:latin typeface="Arial"/>
              </a:rPr>
              <a:t>avoidable costs</a:t>
            </a:r>
            <a:r>
              <a:rPr b="1" lang="en-US" sz="1900" spc="-1" strike="noStrike">
                <a:solidFill>
                  <a:srgbClr val="373d54"/>
                </a:solidFill>
                <a:latin typeface="Arial"/>
              </a:rPr>
              <a:t> associated with making part 4A include direct materials, direct labor, variable overhead, and the supervisor’s salary.</a:t>
            </a:r>
            <a:endParaRPr b="0" lang="en-US" sz="1900" spc="-1" strike="noStrike">
              <a:solidFill>
                <a:srgbClr val="000000"/>
              </a:solidFill>
              <a:latin typeface="Arial"/>
            </a:endParaRPr>
          </a:p>
        </p:txBody>
      </p:sp>
      <p:graphicFrame>
        <p:nvGraphicFramePr>
          <p:cNvPr id="745" name="Object 2"/>
          <p:cNvGraphicFramePr/>
          <p:nvPr/>
        </p:nvGraphicFramePr>
        <p:xfrm>
          <a:off x="152280" y="1600200"/>
          <a:ext cx="8915400" cy="3938760"/>
        </p:xfrm>
        <a:graphic>
          <a:graphicData uri="http://schemas.openxmlformats.org/presentationml/2006/ole">
            <p:oleObj progId="Excel.Sheet.12" r:id="rId1" spid="">
              <p:embed/>
              <p:pic>
                <p:nvPicPr>
                  <p:cNvPr id="746" name="Object 2" descr=""/>
                  <p:cNvPicPr/>
                  <p:nvPr/>
                </p:nvPicPr>
                <p:blipFill>
                  <a:blip r:embed="rId2"/>
                  <a:stretch/>
                </p:blipFill>
                <p:spPr>
                  <a:xfrm>
                    <a:off x="152280" y="1600200"/>
                    <a:ext cx="8915400" cy="393876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7" name="Object 2"/>
          <p:cNvGraphicFramePr/>
          <p:nvPr/>
        </p:nvGraphicFramePr>
        <p:xfrm>
          <a:off x="152280" y="1600200"/>
          <a:ext cx="8915400" cy="3938760"/>
        </p:xfrm>
        <a:graphic>
          <a:graphicData uri="http://schemas.openxmlformats.org/presentationml/2006/ole">
            <p:oleObj progId="Excel.Sheet.12" r:id="rId1" spid="">
              <p:embed/>
              <p:pic>
                <p:nvPicPr>
                  <p:cNvPr id="748" name="Object 2" descr=""/>
                  <p:cNvPicPr/>
                  <p:nvPr/>
                </p:nvPicPr>
                <p:blipFill>
                  <a:blip r:embed="rId2"/>
                  <a:stretch/>
                </p:blipFill>
                <p:spPr>
                  <a:xfrm>
                    <a:off x="152280" y="1600200"/>
                    <a:ext cx="8915400" cy="3938760"/>
                  </a:xfrm>
                  <a:prstGeom prst="rect">
                    <a:avLst/>
                  </a:prstGeom>
                  <a:ln w="0">
                    <a:noFill/>
                  </a:ln>
                </p:spPr>
              </p:pic>
            </p:oleObj>
          </a:graphicData>
        </a:graphic>
      </p:graphicFrame>
      <p:sp>
        <p:nvSpPr>
          <p:cNvPr id="74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750" name="Line 4"/>
          <p:cNvSpPr/>
          <p:nvPr/>
        </p:nvSpPr>
        <p:spPr>
          <a:xfrm flipV="1">
            <a:off x="4778280" y="4303440"/>
            <a:ext cx="1239840" cy="13078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Rectangle 5"/>
          <p:cNvSpPr/>
          <p:nvPr/>
        </p:nvSpPr>
        <p:spPr>
          <a:xfrm>
            <a:off x="380880" y="5370480"/>
            <a:ext cx="8458200" cy="1094400"/>
          </a:xfrm>
          <a:prstGeom prst="rect">
            <a:avLst/>
          </a:prstGeom>
          <a:solidFill>
            <a:srgbClr val="ffff99"/>
          </a:solidFill>
          <a:ln w="12600">
            <a:solidFill>
              <a:srgbClr val="da1f28"/>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rPr>
              <a:t>The depreciation of the special equipment represents a </a:t>
            </a:r>
            <a:r>
              <a:rPr b="1" lang="en-US" sz="2200" spc="-1" strike="noStrike">
                <a:solidFill>
                  <a:srgbClr val="ff0000"/>
                </a:solidFill>
                <a:latin typeface="Arial"/>
              </a:rPr>
              <a:t>sunk cost</a:t>
            </a:r>
            <a:r>
              <a:rPr b="1" lang="en-US" sz="2200" spc="-1" strike="noStrike">
                <a:solidFill>
                  <a:srgbClr val="464646"/>
                </a:solidFill>
                <a:latin typeface="Arial"/>
              </a:rPr>
              <a:t>. The equipment has no resale value, thus its cost and associated depreciation are irrelevant to the decision.</a:t>
            </a:r>
            <a:endParaRPr b="0" lang="en-US" sz="2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4">
                                  <p:stCondLst>
                                    <p:cond delay="0"/>
                                  </p:stCondLst>
                                  <p:childTnLst>
                                    <p:set>
                                      <p:cBhvr>
                                        <p:cTn id="66" dur="1" fill="hold">
                                          <p:stCondLst>
                                            <p:cond delay="0"/>
                                          </p:stCondLst>
                                        </p:cTn>
                                        <p:tgtEl>
                                          <p:spTgt spid="750"/>
                                        </p:tgtEl>
                                        <p:attrNameLst>
                                          <p:attrName>style.visibility</p:attrName>
                                        </p:attrNameLst>
                                      </p:cBhvr>
                                      <p:to>
                                        <p:strVal val="visible"/>
                                      </p:to>
                                    </p:set>
                                    <p:animEffect filter="wipe(down)" transition="in">
                                      <p:cBhvr additive="repl">
                                        <p:cTn id="6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2"/>
          <p:cNvGraphicFramePr/>
          <p:nvPr/>
        </p:nvGraphicFramePr>
        <p:xfrm>
          <a:off x="152280" y="1600200"/>
          <a:ext cx="8915400" cy="3938760"/>
        </p:xfrm>
        <a:graphic>
          <a:graphicData uri="http://schemas.openxmlformats.org/presentationml/2006/ole">
            <p:oleObj progId="Excel.Sheet.12" r:id="rId1" spid="">
              <p:embed/>
              <p:pic>
                <p:nvPicPr>
                  <p:cNvPr id="753" name="Object 2" descr=""/>
                  <p:cNvPicPr/>
                  <p:nvPr/>
                </p:nvPicPr>
                <p:blipFill>
                  <a:blip r:embed="rId2"/>
                  <a:stretch/>
                </p:blipFill>
                <p:spPr>
                  <a:xfrm>
                    <a:off x="152280" y="1600200"/>
                    <a:ext cx="8915400" cy="3938760"/>
                  </a:xfrm>
                  <a:prstGeom prst="rect">
                    <a:avLst/>
                  </a:prstGeom>
                  <a:ln w="0">
                    <a:noFill/>
                  </a:ln>
                </p:spPr>
              </p:pic>
            </p:oleObj>
          </a:graphicData>
        </a:graphic>
      </p:graphicFrame>
      <p:sp>
        <p:nvSpPr>
          <p:cNvPr id="75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755" name="Line 4"/>
          <p:cNvSpPr/>
          <p:nvPr/>
        </p:nvSpPr>
        <p:spPr>
          <a:xfrm flipH="1" flipV="1">
            <a:off x="3429000" y="4937040"/>
            <a:ext cx="836640" cy="60984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Rectangle 5"/>
          <p:cNvSpPr/>
          <p:nvPr/>
        </p:nvSpPr>
        <p:spPr>
          <a:xfrm>
            <a:off x="628560" y="5492880"/>
            <a:ext cx="7502760" cy="820440"/>
          </a:xfrm>
          <a:prstGeom prst="rect">
            <a:avLst/>
          </a:prstGeom>
          <a:solidFill>
            <a:srgbClr val="ffc585"/>
          </a:solidFill>
          <a:ln w="12600">
            <a:solidFill>
              <a:srgbClr val="464646"/>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Not avoidable; irrelevant.  If the product is dropped, it will be reallocated to other products.</a:t>
            </a:r>
            <a:endParaRPr b="0" lang="en-US" sz="2400" spc="-1" strike="noStrike">
              <a:solidFill>
                <a:srgbClr val="000000"/>
              </a:solidFill>
              <a:latin typeface="Arial"/>
            </a:endParaRPr>
          </a:p>
        </p:txBody>
      </p:sp>
      <p:sp>
        <p:nvSpPr>
          <p:cNvPr id="757" name="Straight Connector 7"/>
          <p:cNvSpPr/>
          <p:nvPr/>
        </p:nvSpPr>
        <p:spPr>
          <a:xfrm>
            <a:off x="592200" y="4902120"/>
            <a:ext cx="30477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4">
                                  <p:stCondLst>
                                    <p:cond delay="0"/>
                                  </p:stCondLst>
                                  <p:childTnLst>
                                    <p:set>
                                      <p:cBhvr>
                                        <p:cTn id="73" dur="1" fill="hold">
                                          <p:stCondLst>
                                            <p:cond delay="0"/>
                                          </p:stCondLst>
                                        </p:cTn>
                                        <p:tgtEl>
                                          <p:spTgt spid="755"/>
                                        </p:tgtEl>
                                        <p:attrNameLst>
                                          <p:attrName>style.visibility</p:attrName>
                                        </p:attrNameLst>
                                      </p:cBhvr>
                                      <p:to>
                                        <p:strVal val="visible"/>
                                      </p:to>
                                    </p:set>
                                    <p:animEffect filter="wipe(down)" transition="in">
                                      <p:cBhvr additive="repl">
                                        <p:cTn id="74" dur="500"/>
                                        <p:tgtEl>
                                          <p:spTgt spid="755"/>
                                        </p:tgtEl>
                                      </p:cBhvr>
                                    </p:animEffect>
                                  </p:childTnLst>
                                </p:cTn>
                              </p:par>
                            </p:childTnLst>
                          </p:cTn>
                        </p:par>
                        <p:par>
                          <p:cTn id="75" nodeType="afterEffect" fill="hold">
                            <p:stCondLst>
                              <p:cond delay="500"/>
                            </p:stCondLst>
                            <p:childTnLst>
                              <p:par>
                                <p:cTn id="76" nodeType="afterEffect" fill="hold" presetClass="entr" presetID="1">
                                  <p:stCondLst>
                                    <p:cond delay="0"/>
                                  </p:stCondLst>
                                  <p:childTnLst>
                                    <p:set>
                                      <p:cBhvr>
                                        <p:cTn id="77"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Object 2"/>
          <p:cNvGraphicFramePr/>
          <p:nvPr/>
        </p:nvGraphicFramePr>
        <p:xfrm>
          <a:off x="152280" y="1600200"/>
          <a:ext cx="8915400" cy="3938760"/>
        </p:xfrm>
        <a:graphic>
          <a:graphicData uri="http://schemas.openxmlformats.org/presentationml/2006/ole">
            <p:oleObj progId="Excel.Sheet.12" r:id="rId1" spid="">
              <p:embed/>
              <p:pic>
                <p:nvPicPr>
                  <p:cNvPr id="759" name="Object 2" descr=""/>
                  <p:cNvPicPr/>
                  <p:nvPr/>
                </p:nvPicPr>
                <p:blipFill>
                  <a:blip r:embed="rId2"/>
                  <a:stretch/>
                </p:blipFill>
                <p:spPr>
                  <a:xfrm>
                    <a:off x="152280" y="1600200"/>
                    <a:ext cx="8915400" cy="3938760"/>
                  </a:xfrm>
                  <a:prstGeom prst="rect">
                    <a:avLst/>
                  </a:prstGeom>
                  <a:ln w="0">
                    <a:noFill/>
                  </a:ln>
                </p:spPr>
              </p:pic>
            </p:oleObj>
          </a:graphicData>
        </a:graphic>
      </p:graphicFrame>
      <p:sp>
        <p:nvSpPr>
          <p:cNvPr id="76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Make or Buy Decision</a:t>
            </a:r>
            <a:endParaRPr b="0" lang="en-US" sz="4000" spc="-1" strike="noStrike">
              <a:solidFill>
                <a:srgbClr val="464646"/>
              </a:solidFill>
              <a:latin typeface="Arial"/>
            </a:endParaRPr>
          </a:p>
        </p:txBody>
      </p:sp>
      <p:sp>
        <p:nvSpPr>
          <p:cNvPr id="761" name="Rectangle 3"/>
          <p:cNvSpPr/>
          <p:nvPr/>
        </p:nvSpPr>
        <p:spPr>
          <a:xfrm>
            <a:off x="457200" y="5524560"/>
            <a:ext cx="8305920" cy="1094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hould we make or buy part 4A?</a:t>
            </a:r>
            <a:r>
              <a:rPr b="1" lang="en-US" sz="2200" spc="-1" strike="noStrike">
                <a:solidFill>
                  <a:srgbClr val="0000cc"/>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Given that the total avoidable costs are less than the cost of buying the part, </a:t>
            </a:r>
            <a:r>
              <a:rPr b="1" lang="en-US" sz="2200" spc="-1" strike="noStrike">
                <a:solidFill>
                  <a:srgbClr val="ff0000"/>
                </a:solidFill>
                <a:latin typeface="Arial"/>
              </a:rPr>
              <a:t>Essex should continue to make the part.</a:t>
            </a:r>
            <a:endParaRPr b="0" lang="en-US" sz="22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9">
                                  <p:stCondLst>
                                    <p:cond delay="0"/>
                                  </p:stCondLst>
                                  <p:childTnLst>
                                    <p:set>
                                      <p:cBhvr>
                                        <p:cTn id="83" dur="1" fill="hold">
                                          <p:stCondLst>
                                            <p:cond delay="0"/>
                                          </p:stCondLst>
                                        </p:cTn>
                                        <p:tgtEl>
                                          <p:spTgt spid="761">
                                            <p:txEl>
                                              <p:pRg st="1" end="1"/>
                                            </p:txEl>
                                          </p:spTgt>
                                        </p:tgtEl>
                                        <p:attrNameLst>
                                          <p:attrName>style.visibility</p:attrName>
                                        </p:attrNameLst>
                                      </p:cBhvr>
                                      <p:to>
                                        <p:strVal val="visible"/>
                                      </p:to>
                                    </p:set>
                                    <p:animEffect filter="dissolve" transition="in">
                                      <p:cBhvr additive="repl">
                                        <p:cTn id="84" dur="500"/>
                                        <p:tgtEl>
                                          <p:spTgt spid="7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pportunity Cost</a:t>
            </a:r>
            <a:endParaRPr b="0" lang="en-US" sz="4000" spc="-1" strike="noStrike">
              <a:solidFill>
                <a:srgbClr val="464646"/>
              </a:solidFill>
              <a:latin typeface="Arial"/>
            </a:endParaRPr>
          </a:p>
        </p:txBody>
      </p:sp>
      <p:sp>
        <p:nvSpPr>
          <p:cNvPr id="763" name=""/>
          <p:cNvSpPr txBox="1"/>
          <p:nvPr/>
        </p:nvSpPr>
        <p:spPr>
          <a:xfrm>
            <a:off x="447840" y="1981080"/>
            <a:ext cx="8229600" cy="3084480"/>
          </a:xfrm>
          <a:prstGeom prst="rect">
            <a:avLst/>
          </a:prstGeom>
          <a:solidFill>
            <a:srgbClr val="f2f2f2"/>
          </a:solidFill>
          <a:ln w="12600">
            <a:solidFill>
              <a:srgbClr val="464646"/>
            </a:solidFill>
            <a:miter/>
          </a:ln>
          <a:effectLst>
            <a:outerShdw dist="36147" dir="2700000" blurRad="0" rotWithShape="0">
              <a:srgbClr val="000000"/>
            </a:outerShdw>
          </a:effectLst>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An </a:t>
            </a:r>
            <a:r>
              <a:rPr b="1" lang="en-US" sz="2800" spc="-1" strike="noStrike">
                <a:solidFill>
                  <a:srgbClr val="ff0000"/>
                </a:solidFill>
                <a:latin typeface="Arial"/>
              </a:rPr>
              <a:t>opportunity cost </a:t>
            </a:r>
            <a:r>
              <a:rPr b="1" lang="en-US" sz="2800" spc="-1" strike="noStrike">
                <a:solidFill>
                  <a:srgbClr val="464646"/>
                </a:solidFill>
                <a:latin typeface="Arial"/>
              </a:rPr>
              <a:t>is the benefit that is foregone as a result of pursuing some course of action.</a:t>
            </a:r>
            <a:endParaRPr b="0" lang="en-US" sz="28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Opportunity costs are not actual cash outlays and are not recorded in the formal accounts of an organization.</a:t>
            </a:r>
            <a:endParaRPr b="0" lang="en-US" sz="28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4</a:t>
            </a:r>
            <a:endParaRPr b="0" lang="en-US" sz="4000" spc="-1" strike="noStrike">
              <a:solidFill>
                <a:srgbClr val="464646"/>
              </a:solidFill>
              <a:latin typeface="Arial"/>
            </a:endParaRPr>
          </a:p>
        </p:txBody>
      </p:sp>
      <p:sp>
        <p:nvSpPr>
          <p:cNvPr id="765" name="Text Box 13"/>
          <p:cNvSpPr/>
          <p:nvPr/>
        </p:nvSpPr>
        <p:spPr>
          <a:xfrm>
            <a:off x="1905120" y="232092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n analysis showing whether a special order should be accepted.</a:t>
            </a:r>
            <a:endParaRPr b="0" lang="en-US" sz="3400" spc="-1" strike="noStrike">
              <a:solidFill>
                <a:srgbClr val="000000"/>
              </a:solidFill>
              <a:latin typeface="Arial"/>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Key Terms and Concepts</a:t>
            </a:r>
            <a:endParaRPr b="0" lang="en-US" sz="4000" spc="-1" strike="noStrike">
              <a:solidFill>
                <a:srgbClr val="464646"/>
              </a:solidFill>
              <a:latin typeface="Arial"/>
            </a:endParaRPr>
          </a:p>
        </p:txBody>
      </p:sp>
      <p:sp>
        <p:nvSpPr>
          <p:cNvPr id="767" name="Rectangle 1027"/>
          <p:cNvSpPr/>
          <p:nvPr/>
        </p:nvSpPr>
        <p:spPr>
          <a:xfrm>
            <a:off x="609480" y="1517760"/>
            <a:ext cx="4648320" cy="1676160"/>
          </a:xfrm>
          <a:prstGeom prst="rect">
            <a:avLst/>
          </a:prstGeom>
          <a:solidFill>
            <a:srgbClr val="ebf7ff"/>
          </a:solidFill>
          <a:ln w="9360">
            <a:solidFill>
              <a:srgbClr val="da1f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5160"/>
                </a:solidFill>
                <a:latin typeface="Arial"/>
              </a:rPr>
              <a:t>A </a:t>
            </a:r>
            <a:r>
              <a:rPr b="1" lang="en-US" sz="2400" spc="-1" strike="noStrike">
                <a:solidFill>
                  <a:srgbClr val="ff0000"/>
                </a:solidFill>
                <a:latin typeface="Arial"/>
              </a:rPr>
              <a:t>special order </a:t>
            </a:r>
            <a:r>
              <a:rPr b="1" lang="en-US" sz="2400" spc="-1" strike="noStrike">
                <a:solidFill>
                  <a:srgbClr val="165160"/>
                </a:solidFill>
                <a:latin typeface="Arial"/>
              </a:rPr>
              <a:t>is a one-time order that is not considered part of the company’s normal ongoing business.</a:t>
            </a:r>
            <a:endParaRPr b="0" lang="en-US" sz="2400" spc="-1" strike="noStrike">
              <a:solidFill>
                <a:srgbClr val="000000"/>
              </a:solidFill>
              <a:latin typeface="Arial"/>
            </a:endParaRPr>
          </a:p>
        </p:txBody>
      </p:sp>
      <p:sp>
        <p:nvSpPr>
          <p:cNvPr id="768" name="Rectangle 1028"/>
          <p:cNvSpPr/>
          <p:nvPr/>
        </p:nvSpPr>
        <p:spPr>
          <a:xfrm>
            <a:off x="609480" y="3352680"/>
            <a:ext cx="4648320" cy="3200400"/>
          </a:xfrm>
          <a:prstGeom prst="rect">
            <a:avLst/>
          </a:prstGeom>
          <a:solidFill>
            <a:srgbClr val="ebf7ff"/>
          </a:solidFill>
          <a:ln w="9360">
            <a:solidFill>
              <a:srgbClr val="da1f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d54"/>
                </a:solidFill>
                <a:latin typeface="Arial"/>
              </a:rPr>
              <a:t>When analyzing a special order, only the </a:t>
            </a:r>
            <a:r>
              <a:rPr b="1" lang="en-US" sz="2400" spc="-1" strike="noStrike">
                <a:solidFill>
                  <a:srgbClr val="ff0000"/>
                </a:solidFill>
                <a:latin typeface="Arial"/>
              </a:rPr>
              <a:t>incremental costs and benefits </a:t>
            </a:r>
            <a:r>
              <a:rPr b="1" lang="en-US" sz="2400" spc="-1" strike="noStrike">
                <a:solidFill>
                  <a:srgbClr val="373d54"/>
                </a:solidFill>
                <a:latin typeface="Arial"/>
              </a:rPr>
              <a:t>are relev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d54"/>
                </a:solidFill>
                <a:latin typeface="Arial"/>
              </a:rPr>
              <a:t>Since the existing fixed manufacturing overhead costs would not be affected  by the order, they are not relevant.</a:t>
            </a:r>
            <a:endParaRPr b="0" lang="en-US" sz="2400" spc="-1" strike="noStrike">
              <a:solidFill>
                <a:srgbClr val="000000"/>
              </a:solidFill>
              <a:latin typeface="Arial"/>
            </a:endParaRPr>
          </a:p>
        </p:txBody>
      </p:sp>
      <p:pic>
        <p:nvPicPr>
          <p:cNvPr id="769" name="Picture 1" descr=""/>
          <p:cNvPicPr/>
          <p:nvPr/>
        </p:nvPicPr>
        <p:blipFill>
          <a:blip r:embed="rId1"/>
          <a:stretch/>
        </p:blipFill>
        <p:spPr>
          <a:xfrm>
            <a:off x="5865840" y="1739880"/>
            <a:ext cx="1106640" cy="1454040"/>
          </a:xfrm>
          <a:prstGeom prst="rect">
            <a:avLst/>
          </a:prstGeom>
          <a:ln w="0">
            <a:noFill/>
          </a:ln>
        </p:spPr>
      </p:pic>
      <p:pic>
        <p:nvPicPr>
          <p:cNvPr id="770" name="Picture 2" descr=""/>
          <p:cNvPicPr/>
          <p:nvPr/>
        </p:nvPicPr>
        <p:blipFill>
          <a:blip r:embed="rId2"/>
          <a:stretch/>
        </p:blipFill>
        <p:spPr>
          <a:xfrm>
            <a:off x="7040520" y="4948200"/>
            <a:ext cx="1271520" cy="1446120"/>
          </a:xfrm>
          <a:prstGeom prst="rect">
            <a:avLst/>
          </a:prstGeom>
          <a:ln w="0">
            <a:noFill/>
          </a:ln>
        </p:spPr>
      </p:pic>
      <p:pic>
        <p:nvPicPr>
          <p:cNvPr id="771" name="Picture 7" descr=""/>
          <p:cNvPicPr/>
          <p:nvPr/>
        </p:nvPicPr>
        <p:blipFill>
          <a:blip r:embed="rId3"/>
          <a:stretch/>
        </p:blipFill>
        <p:spPr>
          <a:xfrm>
            <a:off x="5742000" y="3843360"/>
            <a:ext cx="1106640" cy="1452600"/>
          </a:xfrm>
          <a:prstGeom prst="rect">
            <a:avLst/>
          </a:prstGeom>
          <a:ln w="0">
            <a:noFill/>
          </a:ln>
        </p:spPr>
      </p:pic>
      <p:pic>
        <p:nvPicPr>
          <p:cNvPr id="772" name="Picture 8" descr=""/>
          <p:cNvPicPr/>
          <p:nvPr/>
        </p:nvPicPr>
        <p:blipFill>
          <a:blip r:embed="rId4"/>
          <a:stretch/>
        </p:blipFill>
        <p:spPr>
          <a:xfrm>
            <a:off x="7875720" y="2855880"/>
            <a:ext cx="1106280" cy="1454040"/>
          </a:xfrm>
          <a:prstGeom prst="rect">
            <a:avLst/>
          </a:prstGeom>
          <a:ln w="0">
            <a:noFill/>
          </a:ln>
        </p:spPr>
      </p:pic>
      <p:pic>
        <p:nvPicPr>
          <p:cNvPr id="773" name="Picture 9" descr=""/>
          <p:cNvPicPr/>
          <p:nvPr/>
        </p:nvPicPr>
        <p:blipFill>
          <a:blip r:embed="rId5"/>
          <a:stretch/>
        </p:blipFill>
        <p:spPr>
          <a:xfrm>
            <a:off x="6713640" y="3257640"/>
            <a:ext cx="1106280" cy="1452600"/>
          </a:xfrm>
          <a:prstGeom prst="rect">
            <a:avLst/>
          </a:prstGeom>
          <a:ln w="0">
            <a:noFill/>
          </a:ln>
        </p:spPr>
      </p:pic>
      <p:pic>
        <p:nvPicPr>
          <p:cNvPr id="774" name="Picture 10" descr=""/>
          <p:cNvPicPr/>
          <p:nvPr/>
        </p:nvPicPr>
        <p:blipFill>
          <a:blip r:embed="rId6"/>
          <a:stretch/>
        </p:blipFill>
        <p:spPr>
          <a:xfrm>
            <a:off x="7040520" y="1424160"/>
            <a:ext cx="1106640" cy="1454040"/>
          </a:xfrm>
          <a:prstGeom prst="rect">
            <a:avLst/>
          </a:prstGeom>
          <a:ln w="0">
            <a:noFill/>
          </a:ln>
        </p:spPr>
      </p:pic>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pecial Orders</a:t>
            </a:r>
            <a:endParaRPr b="0" lang="en-US" sz="4000" spc="-1" strike="noStrike">
              <a:solidFill>
                <a:srgbClr val="464646"/>
              </a:solidFill>
              <a:latin typeface="Arial"/>
            </a:endParaRPr>
          </a:p>
        </p:txBody>
      </p:sp>
      <p:sp>
        <p:nvSpPr>
          <p:cNvPr id="776" name=""/>
          <p:cNvSpPr txBox="1"/>
          <p:nvPr/>
        </p:nvSpPr>
        <p:spPr>
          <a:xfrm>
            <a:off x="457200" y="1752120"/>
            <a:ext cx="8229600" cy="4303800"/>
          </a:xfrm>
          <a:prstGeom prst="rect">
            <a:avLst/>
          </a:prstGeom>
          <a:solidFill>
            <a:srgbClr val="f2f2f2"/>
          </a:solidFill>
          <a:ln w="12600">
            <a:solidFill>
              <a:srgbClr val="464646"/>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buClr>
                <a:srgbClr val="464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Jet Inc. makes a single product whose normal selling price is $20 per unit.</a:t>
            </a:r>
            <a:endParaRPr b="0" lang="en-US" sz="2400" spc="-1" strike="noStrike">
              <a:solidFill>
                <a:srgbClr val="000000"/>
              </a:solidFill>
              <a:latin typeface="Arial"/>
            </a:endParaRPr>
          </a:p>
          <a:p>
            <a:pPr marL="365040" indent="-255600">
              <a:spcBef>
                <a:spcPts val="300"/>
              </a:spcBef>
              <a:buClr>
                <a:srgbClr val="464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A foreign distributor offers to purchase 3,000 units for $10 per unit. </a:t>
            </a:r>
            <a:endParaRPr b="0" lang="en-US" sz="2400" spc="-1" strike="noStrike">
              <a:solidFill>
                <a:srgbClr val="000000"/>
              </a:solidFill>
              <a:latin typeface="Arial"/>
            </a:endParaRPr>
          </a:p>
          <a:p>
            <a:pPr marL="365040" indent="-255600">
              <a:spcBef>
                <a:spcPts val="300"/>
              </a:spcBef>
              <a:buClr>
                <a:srgbClr val="464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his is a one-time order that would not affect the company’s regular business.</a:t>
            </a:r>
            <a:endParaRPr b="0" lang="en-US" sz="2400" spc="-1" strike="noStrike">
              <a:solidFill>
                <a:srgbClr val="000000"/>
              </a:solidFill>
              <a:latin typeface="Arial"/>
            </a:endParaRPr>
          </a:p>
          <a:p>
            <a:pPr marL="365040" indent="-255600">
              <a:spcBef>
                <a:spcPts val="300"/>
              </a:spcBef>
              <a:buClr>
                <a:srgbClr val="464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Annual capacity is 10,000 units, but Jet Inc. is currently producing and selling only 5,000 units.</a:t>
            </a:r>
            <a:endParaRPr b="0" lang="en-US" sz="2400" spc="-1" strike="noStrike">
              <a:solidFill>
                <a:srgbClr val="000000"/>
              </a:solidFill>
              <a:latin typeface="Arial"/>
            </a:endParaRPr>
          </a:p>
        </p:txBody>
      </p:sp>
      <p:sp>
        <p:nvSpPr>
          <p:cNvPr id="777" name="Rectangle 4"/>
          <p:cNvSpPr/>
          <p:nvPr/>
        </p:nvSpPr>
        <p:spPr>
          <a:xfrm>
            <a:off x="1703160" y="4910040"/>
            <a:ext cx="56451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Should Jet accept the offer?</a:t>
            </a:r>
            <a:endParaRPr b="0" lang="en-US" sz="3200" spc="-1" strike="noStrike">
              <a:solidFill>
                <a:srgbClr val="000000"/>
              </a:solidFill>
              <a:latin typeface="Arial"/>
            </a:endParaRPr>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pecial Orders</a:t>
            </a:r>
            <a:endParaRPr b="0" lang="en-US" sz="4000" spc="-1" strike="noStrike">
              <a:solidFill>
                <a:srgbClr val="464646"/>
              </a:solidFill>
              <a:latin typeface="Arial"/>
            </a:endParaRPr>
          </a:p>
        </p:txBody>
      </p:sp>
      <p:graphicFrame>
        <p:nvGraphicFramePr>
          <p:cNvPr id="779" name="Object 2"/>
          <p:cNvGraphicFramePr/>
          <p:nvPr/>
        </p:nvGraphicFramePr>
        <p:xfrm>
          <a:off x="609480" y="1371600"/>
          <a:ext cx="8001000" cy="4952880"/>
        </p:xfrm>
        <a:graphic>
          <a:graphicData uri="http://schemas.openxmlformats.org/presentationml/2006/ole">
            <p:oleObj progId="Excel.Sheet.12" r:id="rId1" spid="">
              <p:embed/>
              <p:pic>
                <p:nvPicPr>
                  <p:cNvPr id="780" name="Object 2" descr=""/>
                  <p:cNvPicPr/>
                  <p:nvPr/>
                </p:nvPicPr>
                <p:blipFill>
                  <a:blip r:embed="rId2"/>
                  <a:stretch/>
                </p:blipFill>
                <p:spPr>
                  <a:xfrm>
                    <a:off x="609480" y="1371600"/>
                    <a:ext cx="8001000" cy="4952880"/>
                  </a:xfrm>
                  <a:prstGeom prst="rect">
                    <a:avLst/>
                  </a:prstGeom>
                  <a:ln w="38160">
                    <a:solidFill>
                      <a:srgbClr val="000000"/>
                    </a:solidFill>
                    <a:miter/>
                  </a:ln>
                </p:spPr>
              </p:pic>
            </p:oleObj>
          </a:graphicData>
        </a:graphic>
      </p:graphicFrame>
      <p:grpSp>
        <p:nvGrpSpPr>
          <p:cNvPr id="781" name="Group 1028"/>
          <p:cNvGrpSpPr/>
          <p:nvPr/>
        </p:nvGrpSpPr>
        <p:grpSpPr>
          <a:xfrm>
            <a:off x="2971800" y="2362320"/>
            <a:ext cx="5675400" cy="1752480"/>
            <a:chOff x="2971800" y="2362320"/>
            <a:chExt cx="5675400" cy="1752480"/>
          </a:xfrm>
        </p:grpSpPr>
        <p:sp>
          <p:nvSpPr>
            <p:cNvPr id="782" name="Line 1029"/>
            <p:cNvSpPr/>
            <p:nvPr/>
          </p:nvSpPr>
          <p:spPr>
            <a:xfrm>
              <a:off x="2971800" y="2362320"/>
              <a:ext cx="4191120" cy="17524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Text Box 1030"/>
            <p:cNvSpPr/>
            <p:nvPr/>
          </p:nvSpPr>
          <p:spPr>
            <a:xfrm>
              <a:off x="6332760" y="3200400"/>
              <a:ext cx="2314440" cy="459720"/>
            </a:xfrm>
            <a:prstGeom prst="rect">
              <a:avLst/>
            </a:prstGeom>
            <a:solidFill>
              <a:srgbClr val="cce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variable cost</a:t>
              </a:r>
              <a:endParaRPr b="0" lang="en-US" sz="2400" spc="-1" strike="noStrike">
                <a:solidFill>
                  <a:srgbClr val="000000"/>
                </a:solidFill>
                <a:latin typeface="Arial"/>
              </a:endParaRPr>
            </a:p>
          </p:txBody>
        </p:sp>
      </p:grpSp>
    </p:spTree>
  </p:cSld>
  <p:transition>
    <p:zoom dir="in"/>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781"/>
                                        </p:tgtEl>
                                        <p:attrNameLst>
                                          <p:attrName>style.visibility</p:attrName>
                                        </p:attrNameLst>
                                      </p:cBhvr>
                                      <p:to>
                                        <p:strVal val="visible"/>
                                      </p:to>
                                    </p:set>
                                    <p:anim calcmode="lin" valueType="num">
                                      <p:cBhvr additive="repl">
                                        <p:cTn id="91" dur="500" fill="hold"/>
                                        <p:tgtEl>
                                          <p:spTgt spid="781"/>
                                        </p:tgtEl>
                                        <p:attrNameLst>
                                          <p:attrName>ppt_w</p:attrName>
                                        </p:attrNameLst>
                                      </p:cBhvr>
                                      <p:tavLst>
                                        <p:tav tm="0">
                                          <p:val>
                                            <p:fltVal val="0"/>
                                          </p:val>
                                        </p:tav>
                                        <p:tav tm="100000">
                                          <p:val>
                                            <p:strVal val="#ppt_w"/>
                                          </p:val>
                                        </p:tav>
                                      </p:tavLst>
                                    </p:anim>
                                    <p:anim calcmode="lin" valueType="num">
                                      <p:cBhvr additive="repl">
                                        <p:cTn id="92" dur="500" fill="hold"/>
                                        <p:tgtEl>
                                          <p:spTgt spid="7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pecial Orders</a:t>
            </a:r>
            <a:endParaRPr b="0" lang="en-US" sz="4000" spc="-1" strike="noStrike">
              <a:solidFill>
                <a:srgbClr val="464646"/>
              </a:solidFill>
              <a:latin typeface="Arial"/>
            </a:endParaRPr>
          </a:p>
        </p:txBody>
      </p:sp>
      <p:sp>
        <p:nvSpPr>
          <p:cNvPr id="785" name=""/>
          <p:cNvSpPr txBox="1"/>
          <p:nvPr/>
        </p:nvSpPr>
        <p:spPr>
          <a:xfrm>
            <a:off x="152280" y="1563840"/>
            <a:ext cx="8839440" cy="4760640"/>
          </a:xfrm>
          <a:prstGeom prst="rect">
            <a:avLst/>
          </a:prstGeom>
          <a:noFill/>
          <a:ln w="0">
            <a:noFill/>
          </a:ln>
        </p:spPr>
        <p:txBody>
          <a:bodyPr lIns="90360" rIns="90360" tIns="44280" bIns="44280" anchor="t">
            <a:normAutofit/>
          </a:bodyPr>
          <a:p>
            <a:pPr marL="365040" indent="-255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Jet accepts the special order, the incremental revenue will exceed the incremental costs. In other words, net operating income will increase by $6,000. This suggests that Jet should accept the order.</a:t>
            </a:r>
            <a:endParaRPr b="0" lang="en-US" sz="2800" spc="-1" strike="noStrike">
              <a:solidFill>
                <a:srgbClr val="000000"/>
              </a:solidFill>
              <a:latin typeface="Arial"/>
            </a:endParaRPr>
          </a:p>
        </p:txBody>
      </p:sp>
      <p:graphicFrame>
        <p:nvGraphicFramePr>
          <p:cNvPr id="786" name="Object 2"/>
          <p:cNvGraphicFramePr/>
          <p:nvPr/>
        </p:nvGraphicFramePr>
        <p:xfrm>
          <a:off x="304920" y="3370320"/>
          <a:ext cx="8553240" cy="1811160"/>
        </p:xfrm>
        <a:graphic>
          <a:graphicData uri="http://schemas.openxmlformats.org/presentationml/2006/ole">
            <p:oleObj progId="Excel.Sheet.12" r:id="rId1" spid="">
              <p:embed/>
              <p:pic>
                <p:nvPicPr>
                  <p:cNvPr id="787" name="Object 2" descr=""/>
                  <p:cNvPicPr/>
                  <p:nvPr/>
                </p:nvPicPr>
                <p:blipFill>
                  <a:blip r:embed="rId2"/>
                  <a:stretch/>
                </p:blipFill>
                <p:spPr>
                  <a:xfrm>
                    <a:off x="304920" y="3370320"/>
                    <a:ext cx="8553240" cy="1811160"/>
                  </a:xfrm>
                  <a:prstGeom prst="rect">
                    <a:avLst/>
                  </a:prstGeom>
                  <a:ln w="0">
                    <a:noFill/>
                  </a:ln>
                  <a:effectLst>
                    <a:outerShdw dist="17819" dir="2700000" blurRad="0" rotWithShape="0">
                      <a:srgbClr val="000000"/>
                    </a:outerShdw>
                  </a:effectLst>
                </p:spPr>
              </p:pic>
            </p:oleObj>
          </a:graphicData>
        </a:graphic>
      </p:graphicFrame>
      <p:sp>
        <p:nvSpPr>
          <p:cNvPr id="788" name="Text Box 5"/>
          <p:cNvSpPr/>
          <p:nvPr/>
        </p:nvSpPr>
        <p:spPr>
          <a:xfrm>
            <a:off x="46080" y="5337000"/>
            <a:ext cx="9051840" cy="1281960"/>
          </a:xfrm>
          <a:prstGeom prst="rect">
            <a:avLst/>
          </a:prstGeom>
          <a:solidFill>
            <a:srgbClr val="bfbfbf"/>
          </a:solidFill>
          <a:ln w="9360">
            <a:solidFill>
              <a:srgbClr val="464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rPr>
              <a:t>Note: This answer assumes that the fixed costs are </a:t>
            </a:r>
            <a:r>
              <a:rPr b="1" lang="en-US" sz="2600" spc="-1" strike="noStrike">
                <a:solidFill>
                  <a:srgbClr val="ff0000"/>
                </a:solidFill>
                <a:latin typeface="Arial"/>
              </a:rPr>
              <a:t>unavoidable</a:t>
            </a:r>
            <a:r>
              <a:rPr b="1" lang="en-US" sz="2600" spc="-1" strike="noStrike">
                <a:solidFill>
                  <a:srgbClr val="464646"/>
                </a:solidFill>
                <a:latin typeface="Arial"/>
              </a:rPr>
              <a:t> and that variable marketing costs must be incurred on the special order.</a:t>
            </a:r>
            <a:endParaRPr b="0" lang="en-US" sz="2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04920" y="1752480"/>
            <a:ext cx="8305560" cy="2743200"/>
          </a:xfrm>
          <a:prstGeom prst="rect">
            <a:avLst/>
          </a:prstGeom>
          <a:solidFill>
            <a:srgbClr val="ebf7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ecision Making: A Two-Step Process</a:t>
            </a:r>
            <a:endParaRPr b="0" lang="en-US" sz="3600" spc="-1" strike="noStrike">
              <a:solidFill>
                <a:srgbClr val="464646"/>
              </a:solidFill>
              <a:latin typeface="Arial"/>
            </a:endParaRPr>
          </a:p>
        </p:txBody>
      </p:sp>
      <p:grpSp>
        <p:nvGrpSpPr>
          <p:cNvPr id="107" name="Group 5"/>
          <p:cNvGrpSpPr/>
          <p:nvPr/>
        </p:nvGrpSpPr>
        <p:grpSpPr>
          <a:xfrm>
            <a:off x="457200" y="1905120"/>
            <a:ext cx="8610480" cy="2478960"/>
            <a:chOff x="457200" y="1905120"/>
            <a:chExt cx="8610480" cy="2478960"/>
          </a:xfrm>
        </p:grpSpPr>
        <p:sp>
          <p:nvSpPr>
            <p:cNvPr id="108" name="Text Box 6"/>
            <p:cNvSpPr/>
            <p:nvPr/>
          </p:nvSpPr>
          <p:spPr>
            <a:xfrm>
              <a:off x="1600200" y="1905120"/>
              <a:ext cx="74674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 costs and benefits that do not differ between alternati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remaining costs and benefits that      differ between alternatives in making the decision.  The costs that remain are the differential, or avoidable, costs.</a:t>
              </a:r>
              <a:endParaRPr b="0" lang="en-US" sz="2400" spc="-1" strike="noStrike">
                <a:solidFill>
                  <a:srgbClr val="000000"/>
                </a:solidFill>
                <a:latin typeface="Arial"/>
              </a:endParaRPr>
            </a:p>
          </p:txBody>
        </p:sp>
        <p:sp>
          <p:nvSpPr>
            <p:cNvPr id="109" name="Text Box 7"/>
            <p:cNvSpPr/>
            <p:nvPr/>
          </p:nvSpPr>
          <p:spPr>
            <a:xfrm>
              <a:off x="457200" y="1905120"/>
              <a:ext cx="1219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639d"/>
                  </a:solidFill>
                  <a:latin typeface="Arial"/>
                </a:rPr>
                <a:t>Step 1</a:t>
              </a:r>
              <a:endParaRPr b="0" lang="en-US" sz="2400" spc="-1" strike="noStrike">
                <a:solidFill>
                  <a:srgbClr val="000000"/>
                </a:solidFill>
                <a:latin typeface="Arial"/>
              </a:endParaRPr>
            </a:p>
          </p:txBody>
        </p:sp>
        <p:sp>
          <p:nvSpPr>
            <p:cNvPr id="110" name="Text Box 8"/>
            <p:cNvSpPr/>
            <p:nvPr/>
          </p:nvSpPr>
          <p:spPr>
            <a:xfrm>
              <a:off x="457200" y="2819160"/>
              <a:ext cx="1219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639d"/>
                  </a:solidFill>
                  <a:latin typeface="Arial"/>
                </a:rPr>
                <a:t>Step 2</a:t>
              </a:r>
              <a:endParaRPr b="0" lang="en-US" sz="2400" spc="-1" strike="noStrike">
                <a:solidFill>
                  <a:srgbClr val="000000"/>
                </a:solidFill>
                <a:latin typeface="Arial"/>
              </a:endParaRPr>
            </a:p>
          </p:txBody>
        </p:sp>
      </p:grpSp>
      <p:pic>
        <p:nvPicPr>
          <p:cNvPr id="111" name="Picture 1" descr=""/>
          <p:cNvPicPr/>
          <p:nvPr/>
        </p:nvPicPr>
        <p:blipFill>
          <a:blip r:embed="rId1"/>
          <a:stretch/>
        </p:blipFill>
        <p:spPr>
          <a:xfrm>
            <a:off x="3276720" y="4772160"/>
            <a:ext cx="1801800" cy="1839600"/>
          </a:xfrm>
          <a:prstGeom prst="rect">
            <a:avLst/>
          </a:prstGeom>
          <a:ln w="0">
            <a:noFill/>
          </a:ln>
        </p:spPr>
      </p:pic>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790" name=""/>
          <p:cNvSpPr txBox="1"/>
          <p:nvPr/>
        </p:nvSpPr>
        <p:spPr>
          <a:xfrm>
            <a:off x="457200" y="1563840"/>
            <a:ext cx="8229600" cy="4760640"/>
          </a:xfrm>
          <a:prstGeom prst="rect">
            <a:avLst/>
          </a:prstGeom>
          <a:solidFill>
            <a:srgbClr val="ccecf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rthern Optical ordinarily sells the X-lens for $50. The variable production cost is $10, the fixed production cost is $18 per unit, and the variable selling cost is $1. A customer has requested a special order for 10,000 units of the X-lens to be imprinted with the customer’s logo. This special order would not involve any selling costs, but Northern Optical would have to purchase an imprinting machine for $50,000. </a:t>
            </a:r>
            <a:endParaRPr b="0" lang="en-US" sz="2800" spc="-1" strike="noStrike">
              <a:solidFill>
                <a:srgbClr val="000000"/>
              </a:solidFill>
              <a:latin typeface="Arial"/>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e the next page) </a:t>
            </a:r>
            <a:endParaRPr b="0" lang="en-US" sz="2800" spc="-1" strike="noStrike">
              <a:solidFill>
                <a:srgbClr val="000000"/>
              </a:solidFill>
              <a:latin typeface="Arial"/>
            </a:endParaRPr>
          </a:p>
        </p:txBody>
      </p:sp>
      <p:graphicFrame>
        <p:nvGraphicFramePr>
          <p:cNvPr id="791" name="Object 2"/>
          <p:cNvGraphicFramePr/>
          <p:nvPr/>
        </p:nvGraphicFramePr>
        <p:xfrm>
          <a:off x="7315200" y="457200"/>
          <a:ext cx="1600200" cy="878040"/>
        </p:xfrm>
        <a:graphic>
          <a:graphicData uri="http://schemas.openxmlformats.org/presentationml/2006/ole">
            <p:oleObj r:id="rId1" spid="">
              <p:embed/>
              <p:pic>
                <p:nvPicPr>
                  <p:cNvPr id="792" name="Object 2" descr=""/>
                  <p:cNvPicPr/>
                  <p:nvPr/>
                </p:nvPicPr>
                <p:blipFill>
                  <a:blip r:embed="rId2"/>
                  <a:stretch/>
                </p:blipFill>
                <p:spPr>
                  <a:xfrm>
                    <a:off x="7315200" y="457200"/>
                    <a:ext cx="1600200" cy="878040"/>
                  </a:xfrm>
                  <a:prstGeom prst="rect">
                    <a:avLst/>
                  </a:prstGeom>
                  <a:ln w="0">
                    <a:noFill/>
                  </a:ln>
                </p:spPr>
              </p:pic>
            </p:oleObj>
          </a:graphicData>
        </a:graphic>
      </p:graphicFrame>
    </p:spTree>
  </p:cSld>
  <p:transition spd="med">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794" name=""/>
          <p:cNvSpPr txBox="1"/>
          <p:nvPr/>
        </p:nvSpPr>
        <p:spPr>
          <a:xfrm>
            <a:off x="457200" y="1447920"/>
            <a:ext cx="8229600" cy="5294160"/>
          </a:xfrm>
          <a:prstGeom prst="rect">
            <a:avLst/>
          </a:prstGeom>
          <a:solidFill>
            <a:srgbClr val="ccecff"/>
          </a:solidFill>
          <a:ln w="12600">
            <a:solidFill>
              <a:srgbClr val="0000cc"/>
            </a:solidFill>
            <a:miter/>
          </a:ln>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at is the rock bottom minimum price below which Northern Optical should not go in its negotiations with the customer?  In other words, below what price would Northern Optical actually be losing money on the sale? There is ample idle capacity to fulfill the order and </a:t>
            </a:r>
            <a:r>
              <a:rPr b="0" lang="en-US" sz="2800" spc="-1" strike="noStrike">
                <a:solidFill>
                  <a:srgbClr val="000000"/>
                </a:solidFill>
                <a:latin typeface="Arial"/>
              </a:rPr>
              <a:t>the imprinting machine has no further use after this order.</a:t>
            </a:r>
            <a:endParaRPr b="0" lang="en-US" sz="28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50</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10</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15</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29</a:t>
            </a:r>
            <a:endParaRPr b="0" lang="en-US" sz="2600" spc="-1" strike="noStrike">
              <a:solidFill>
                <a:srgbClr val="da1f28"/>
              </a:solidFill>
              <a:latin typeface="Arial"/>
            </a:endParaRPr>
          </a:p>
        </p:txBody>
      </p:sp>
      <p:graphicFrame>
        <p:nvGraphicFramePr>
          <p:cNvPr id="795" name="Object 2"/>
          <p:cNvGraphicFramePr/>
          <p:nvPr/>
        </p:nvGraphicFramePr>
        <p:xfrm>
          <a:off x="7315200" y="457200"/>
          <a:ext cx="1600200" cy="878040"/>
        </p:xfrm>
        <a:graphic>
          <a:graphicData uri="http://schemas.openxmlformats.org/presentationml/2006/ole">
            <p:oleObj r:id="rId1" spid="">
              <p:embed/>
              <p:pic>
                <p:nvPicPr>
                  <p:cNvPr id="796" name="Object 2" descr=""/>
                  <p:cNvPicPr/>
                  <p:nvPr/>
                </p:nvPicPr>
                <p:blipFill>
                  <a:blip r:embed="rId2"/>
                  <a:stretch/>
                </p:blipFill>
                <p:spPr>
                  <a:xfrm>
                    <a:off x="7315200" y="457200"/>
                    <a:ext cx="1600200" cy="878040"/>
                  </a:xfrm>
                  <a:prstGeom prst="rect">
                    <a:avLst/>
                  </a:prstGeom>
                  <a:ln w="0">
                    <a:noFill/>
                  </a:ln>
                </p:spPr>
              </p:pic>
            </p:oleObj>
          </a:graphicData>
        </a:graphic>
      </p:graphicFrame>
    </p:spTree>
  </p:cSld>
  <p:transition spd="med">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798" name=""/>
          <p:cNvSpPr txBox="1"/>
          <p:nvPr/>
        </p:nvSpPr>
        <p:spPr>
          <a:xfrm>
            <a:off x="457200" y="1447920"/>
            <a:ext cx="8229600" cy="5294160"/>
          </a:xfrm>
          <a:prstGeom prst="rect">
            <a:avLst/>
          </a:prstGeom>
          <a:solidFill>
            <a:srgbClr val="ccecff"/>
          </a:solidFill>
          <a:ln w="12600">
            <a:solidFill>
              <a:srgbClr val="0000cc"/>
            </a:solidFill>
            <a:miter/>
          </a:ln>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at is the rock bottom minimum price below which Northern Optical should not go in its negotiations with the customer?  In other words, below what price would Northern Optical actually be losing money on the sale? There is ample idle capacity to fulfill the order and </a:t>
            </a:r>
            <a:r>
              <a:rPr b="0" lang="en-US" sz="2800" spc="-1" strike="noStrike">
                <a:solidFill>
                  <a:srgbClr val="000000"/>
                </a:solidFill>
                <a:latin typeface="Arial"/>
              </a:rPr>
              <a:t>the imprinting machine has no further use after this order.</a:t>
            </a:r>
            <a:endParaRPr b="0" lang="en-US" sz="28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fbfbf"/>
                </a:solidFill>
                <a:latin typeface="Arial"/>
              </a:rPr>
              <a:t>a. $50</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fbfbf"/>
                </a:solidFill>
                <a:latin typeface="Arial"/>
              </a:rPr>
              <a:t>b. $10</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15</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fbfbf"/>
                </a:solidFill>
                <a:latin typeface="Arial"/>
              </a:rPr>
              <a:t>d. $29</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a1f28"/>
              </a:solidFill>
              <a:latin typeface="Arial"/>
            </a:endParaRPr>
          </a:p>
        </p:txBody>
      </p:sp>
      <p:sp>
        <p:nvSpPr>
          <p:cNvPr id="799" name="Oval 1029"/>
          <p:cNvSpPr/>
          <p:nvPr/>
        </p:nvSpPr>
        <p:spPr>
          <a:xfrm>
            <a:off x="762120" y="5842080"/>
            <a:ext cx="533160" cy="482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1030"/>
          <p:cNvSpPr/>
          <p:nvPr/>
        </p:nvSpPr>
        <p:spPr>
          <a:xfrm>
            <a:off x="2209680" y="4011480"/>
            <a:ext cx="6477120" cy="2226960"/>
          </a:xfrm>
          <a:prstGeom prst="rect">
            <a:avLst/>
          </a:prstGeom>
          <a:solidFill>
            <a:srgbClr val="fbe0d1"/>
          </a:solidFill>
          <a:ln w="9360">
            <a:solidFill>
              <a:srgbClr val="464646"/>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Variable production cost   </a:t>
            </a:r>
            <a:r>
              <a:rPr b="1" lang="en-US" sz="2800" spc="-1" strike="noStrike">
                <a:solidFill>
                  <a:srgbClr val="464646"/>
                </a:solidFill>
                <a:latin typeface="Arial"/>
              </a:rPr>
              <a:t>	</a:t>
            </a:r>
            <a:r>
              <a:rPr b="1" lang="en-US" sz="2800" spc="-1" strike="noStrike">
                <a:solidFill>
                  <a:srgbClr val="464646"/>
                </a:solidFill>
                <a:latin typeface="Arial"/>
              </a:rPr>
              <a:t>$100,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Additional fixed cost</a:t>
            </a: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u="sng">
                <a:solidFill>
                  <a:srgbClr val="464646"/>
                </a:solidFill>
                <a:uFillTx/>
                <a:latin typeface="Arial"/>
              </a:rPr>
              <a:t> + 50,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otal relevant cost</a:t>
            </a: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u="sng">
                <a:solidFill>
                  <a:srgbClr val="464646"/>
                </a:solidFill>
                <a:uFillTx/>
                <a:latin typeface="Arial"/>
              </a:rPr>
              <a:t>$150,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Number of units</a:t>
            </a: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a:solidFill>
                  <a:srgbClr val="464646"/>
                </a:solidFill>
                <a:latin typeface="Arial"/>
              </a:rPr>
              <a:t>	</a:t>
            </a:r>
            <a:r>
              <a:rPr b="1" lang="en-US" sz="2800" spc="-1" strike="noStrike">
                <a:solidFill>
                  <a:srgbClr val="464646"/>
                </a:solidFill>
                <a:latin typeface="Arial"/>
              </a:rPr>
              <a:t>    10,0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Average cost per unit</a:t>
            </a:r>
            <a:r>
              <a:rPr b="1" lang="en-US" sz="2800" spc="-1" strike="noStrike">
                <a:solidFill>
                  <a:srgbClr val="464646"/>
                </a:solidFill>
                <a:latin typeface="Arial"/>
              </a:rPr>
              <a:t>	</a:t>
            </a:r>
            <a:r>
              <a:rPr b="1" lang="en-US" sz="2800" spc="-1" strike="noStrike">
                <a:solidFill>
                  <a:srgbClr val="464646"/>
                </a:solidFill>
                <a:latin typeface="Arial"/>
              </a:rPr>
              <a:t>=</a:t>
            </a:r>
            <a:r>
              <a:rPr b="1" lang="en-US" sz="2800" spc="-1" strike="noStrike">
                <a:solidFill>
                  <a:srgbClr val="464646"/>
                </a:solidFill>
                <a:latin typeface="Arial"/>
              </a:rPr>
              <a:t>	</a:t>
            </a:r>
            <a:r>
              <a:rPr b="1" lang="en-US" sz="2800" spc="-1" strike="noStrike">
                <a:solidFill>
                  <a:srgbClr val="464646"/>
                </a:solidFill>
                <a:latin typeface="Arial"/>
              </a:rPr>
              <a:t>      $15</a:t>
            </a:r>
            <a:endParaRPr b="0" lang="en-US" sz="2800" spc="-1" strike="noStrike">
              <a:solidFill>
                <a:srgbClr val="000000"/>
              </a:solidFill>
              <a:latin typeface="Arial"/>
            </a:endParaRPr>
          </a:p>
        </p:txBody>
      </p:sp>
      <p:graphicFrame>
        <p:nvGraphicFramePr>
          <p:cNvPr id="801" name="Object 2"/>
          <p:cNvGraphicFramePr/>
          <p:nvPr/>
        </p:nvGraphicFramePr>
        <p:xfrm>
          <a:off x="7315200" y="457200"/>
          <a:ext cx="1600200" cy="878040"/>
        </p:xfrm>
        <a:graphic>
          <a:graphicData uri="http://schemas.openxmlformats.org/presentationml/2006/ole">
            <p:oleObj r:id="rId1" spid="">
              <p:embed/>
              <p:pic>
                <p:nvPicPr>
                  <p:cNvPr id="802" name="Object 2" descr=""/>
                  <p:cNvPicPr/>
                  <p:nvPr/>
                </p:nvPicPr>
                <p:blipFill>
                  <a:blip r:embed="rId2"/>
                  <a:stretch/>
                </p:blipFill>
                <p:spPr>
                  <a:xfrm>
                    <a:off x="7315200" y="457200"/>
                    <a:ext cx="1600200" cy="878040"/>
                  </a:xfrm>
                  <a:prstGeom prst="rect">
                    <a:avLst/>
                  </a:prstGeom>
                  <a:ln w="0">
                    <a:noFill/>
                  </a:ln>
                </p:spPr>
              </p:pic>
            </p:oleObj>
          </a:graphicData>
        </a:graphic>
      </p:graphicFrame>
    </p:spTree>
  </p:cSld>
  <p:transition spd="med">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804" name="Text Box 13"/>
          <p:cNvSpPr/>
          <p:nvPr/>
        </p:nvSpPr>
        <p:spPr>
          <a:xfrm>
            <a:off x="1905120" y="259380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Determine the most profitable use of a constrained resource.</a:t>
            </a:r>
            <a:endParaRPr b="0" lang="en-US" sz="3400" spc="-1" strike="noStrike">
              <a:solidFill>
                <a:srgbClr val="000000"/>
              </a:solidFill>
              <a:latin typeface="Arial"/>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Key Terms and Concepts</a:t>
            </a:r>
            <a:endParaRPr b="0" lang="en-US" sz="4000" spc="-1" strike="noStrike">
              <a:solidFill>
                <a:srgbClr val="464646"/>
              </a:solidFill>
              <a:latin typeface="Arial"/>
            </a:endParaRPr>
          </a:p>
        </p:txBody>
      </p:sp>
      <p:sp>
        <p:nvSpPr>
          <p:cNvPr id="806" name="Oval 3"/>
          <p:cNvSpPr/>
          <p:nvPr/>
        </p:nvSpPr>
        <p:spPr>
          <a:xfrm>
            <a:off x="1447920" y="1455840"/>
            <a:ext cx="6248160" cy="2514600"/>
          </a:xfrm>
          <a:prstGeom prst="ellipse">
            <a:avLst/>
          </a:prstGeom>
          <a:solidFill>
            <a:srgbClr val="ebf7ff"/>
          </a:solidFill>
          <a:ln w="9360">
            <a:solidFill>
              <a:srgbClr val="39639d"/>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limited resource of some type restricts the company’s ability to satisfy demand, the company is said to have a </a:t>
            </a:r>
            <a:r>
              <a:rPr b="1" lang="en-US" sz="2400" spc="-1" strike="noStrike">
                <a:solidFill>
                  <a:srgbClr val="ff0000"/>
                </a:solidFill>
                <a:latin typeface="Arial"/>
              </a:rPr>
              <a:t>constraint.</a:t>
            </a:r>
            <a:endParaRPr b="0" lang="en-US" sz="2400" spc="-1" strike="noStrike">
              <a:solidFill>
                <a:srgbClr val="000000"/>
              </a:solidFill>
              <a:latin typeface="Arial"/>
            </a:endParaRPr>
          </a:p>
        </p:txBody>
      </p:sp>
      <p:sp>
        <p:nvSpPr>
          <p:cNvPr id="807" name="Oval 4"/>
          <p:cNvSpPr/>
          <p:nvPr/>
        </p:nvSpPr>
        <p:spPr>
          <a:xfrm>
            <a:off x="182520" y="3962520"/>
            <a:ext cx="4876920" cy="2514600"/>
          </a:xfrm>
          <a:prstGeom prst="ellipse">
            <a:avLst/>
          </a:prstGeom>
          <a:solidFill>
            <a:srgbClr val="ebf7ff"/>
          </a:solidFill>
          <a:ln w="9360">
            <a:solidFill>
              <a:srgbClr val="39639d"/>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chine or process that is limiting overall output is called the </a:t>
            </a:r>
            <a:r>
              <a:rPr b="1" lang="en-US" sz="2400" spc="-1" strike="noStrike">
                <a:solidFill>
                  <a:srgbClr val="ff0000"/>
                </a:solidFill>
                <a:latin typeface="Arial"/>
              </a:rPr>
              <a:t>bottleneck</a:t>
            </a:r>
            <a:r>
              <a:rPr b="1" lang="en-US" sz="2400" spc="-1" strike="noStrike">
                <a:solidFill>
                  <a:srgbClr val="000000"/>
                </a:solidFill>
                <a:latin typeface="Arial"/>
              </a:rPr>
              <a:t> – it is the constraint.</a:t>
            </a:r>
            <a:endParaRPr b="0" lang="en-US" sz="2400" spc="-1" strike="noStrike">
              <a:solidFill>
                <a:srgbClr val="000000"/>
              </a:solidFill>
              <a:latin typeface="Arial"/>
            </a:endParaRPr>
          </a:p>
        </p:txBody>
      </p:sp>
      <p:pic>
        <p:nvPicPr>
          <p:cNvPr id="808" name="Picture 5" descr=""/>
          <p:cNvPicPr/>
          <p:nvPr/>
        </p:nvPicPr>
        <p:blipFill>
          <a:blip r:embed="rId1"/>
          <a:stretch/>
        </p:blipFill>
        <p:spPr>
          <a:xfrm>
            <a:off x="5638680" y="4168800"/>
            <a:ext cx="3094200" cy="2271600"/>
          </a:xfrm>
          <a:prstGeom prst="rect">
            <a:avLst/>
          </a:prstGeom>
          <a:ln w="0">
            <a:noFill/>
          </a:ln>
        </p:spPr>
      </p:pic>
    </p:spTree>
  </p:cSld>
  <p:transition>
    <p:checke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10" name=""/>
          <p:cNvSpPr txBox="1"/>
          <p:nvPr/>
        </p:nvSpPr>
        <p:spPr>
          <a:xfrm>
            <a:off x="457200" y="1563480"/>
            <a:ext cx="8229600" cy="4608360"/>
          </a:xfrm>
          <a:prstGeom prst="rect">
            <a:avLst/>
          </a:prstGeom>
          <a:solidFill>
            <a:srgbClr val="fbe0d1"/>
          </a:solidFill>
          <a:ln w="12600">
            <a:solidFill>
              <a:srgbClr val="39639d"/>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buClr>
                <a:srgbClr val="2b4a76"/>
              </a:buClr>
              <a:buSzPct val="12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ixed costs are usually unaffected in these situations, so the product mix that maximizes the company’s total contribution margin should ordinarily be selected.</a:t>
            </a:r>
            <a:endParaRPr b="0" lang="en-US" sz="2400" spc="-1" strike="noStrike">
              <a:solidFill>
                <a:srgbClr val="000000"/>
              </a:solidFill>
              <a:latin typeface="Arial"/>
            </a:endParaRPr>
          </a:p>
          <a:p>
            <a:pPr marL="365040" indent="-255600">
              <a:spcBef>
                <a:spcPts val="300"/>
              </a:spcBef>
              <a:buClr>
                <a:srgbClr val="2b4a76"/>
              </a:buClr>
              <a:buSzPct val="12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A company should not necessarily promote those products that have the highest unit contribution margins. </a:t>
            </a:r>
            <a:endParaRPr b="0" lang="en-US" sz="2400" spc="-1" strike="noStrike">
              <a:solidFill>
                <a:srgbClr val="000000"/>
              </a:solidFill>
              <a:latin typeface="Arial"/>
            </a:endParaRPr>
          </a:p>
          <a:p>
            <a:pPr marL="365040" indent="-255600">
              <a:spcBef>
                <a:spcPts val="300"/>
              </a:spcBef>
              <a:buClr>
                <a:srgbClr val="2b4a76"/>
              </a:buClr>
              <a:buSzPct val="12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ather, total contribution margin will be maximized by promoting those products or accepting those orders that provide the highest contribution margin in relation to the constraining resource. </a:t>
            </a:r>
            <a:endParaRPr b="0" lang="en-US" sz="2400" spc="-1" strike="noStrike">
              <a:solidFill>
                <a:srgbClr val="000000"/>
              </a:solidFill>
              <a:latin typeface="Arial"/>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 An Example</a:t>
            </a:r>
            <a:endParaRPr b="0" lang="en-US" sz="3600" spc="-1" strike="noStrike">
              <a:solidFill>
                <a:srgbClr val="464646"/>
              </a:solidFill>
              <a:latin typeface="Arial"/>
            </a:endParaRPr>
          </a:p>
        </p:txBody>
      </p:sp>
      <p:sp>
        <p:nvSpPr>
          <p:cNvPr id="812" name=""/>
          <p:cNvSpPr txBox="1"/>
          <p:nvPr/>
        </p:nvSpPr>
        <p:spPr>
          <a:xfrm>
            <a:off x="380880" y="1792440"/>
            <a:ext cx="8229600" cy="432432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ign Company produces two products and selected data are shown below:</a:t>
            </a:r>
            <a:endParaRPr b="0" lang="en-US" sz="2800" spc="-1" strike="noStrike">
              <a:solidFill>
                <a:srgbClr val="000000"/>
              </a:solidFill>
              <a:latin typeface="Arial"/>
            </a:endParaRPr>
          </a:p>
        </p:txBody>
      </p:sp>
      <p:graphicFrame>
        <p:nvGraphicFramePr>
          <p:cNvPr id="813" name="Object 2"/>
          <p:cNvGraphicFramePr/>
          <p:nvPr/>
        </p:nvGraphicFramePr>
        <p:xfrm>
          <a:off x="457200" y="2876400"/>
          <a:ext cx="8481960" cy="3676680"/>
        </p:xfrm>
        <a:graphic>
          <a:graphicData uri="http://schemas.openxmlformats.org/presentationml/2006/ole">
            <p:oleObj progId="Excel.Sheet.12" r:id="rId1" spid="">
              <p:embed/>
              <p:pic>
                <p:nvPicPr>
                  <p:cNvPr id="814" name="Object 2" descr=""/>
                  <p:cNvPicPr/>
                  <p:nvPr/>
                </p:nvPicPr>
                <p:blipFill>
                  <a:blip r:embed="rId2"/>
                  <a:stretch/>
                </p:blipFill>
                <p:spPr>
                  <a:xfrm>
                    <a:off x="457200" y="2876400"/>
                    <a:ext cx="8481960" cy="36766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 An Example</a:t>
            </a:r>
            <a:endParaRPr b="0" lang="en-US" sz="3600" spc="-1" strike="noStrike">
              <a:solidFill>
                <a:srgbClr val="464646"/>
              </a:solidFill>
              <a:latin typeface="Arial"/>
            </a:endParaRPr>
          </a:p>
        </p:txBody>
      </p:sp>
      <p:sp>
        <p:nvSpPr>
          <p:cNvPr id="816" name=""/>
          <p:cNvSpPr txBox="1"/>
          <p:nvPr/>
        </p:nvSpPr>
        <p:spPr>
          <a:xfrm>
            <a:off x="457200" y="2000160"/>
            <a:ext cx="8229600" cy="4324320"/>
          </a:xfrm>
          <a:prstGeom prst="rect">
            <a:avLst/>
          </a:prstGeom>
          <a:solidFill>
            <a:srgbClr val="ccecf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lnSpc>
                <a:spcPct val="9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hine A1 is the constrained resource and is being used at 100% of its capacity. </a:t>
            </a:r>
            <a:endParaRPr b="0" lang="en-US" sz="2800" spc="-1" strike="noStrike">
              <a:solidFill>
                <a:srgbClr val="000000"/>
              </a:solidFill>
              <a:latin typeface="Arial"/>
            </a:endParaRPr>
          </a:p>
          <a:p>
            <a:pPr marL="365040" indent="-255600">
              <a:lnSpc>
                <a:spcPct val="9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excess capacity on all other machines.  </a:t>
            </a:r>
            <a:endParaRPr b="0" lang="en-US" sz="2800" spc="-1" strike="noStrike">
              <a:solidFill>
                <a:srgbClr val="000000"/>
              </a:solidFill>
              <a:latin typeface="Arial"/>
            </a:endParaRPr>
          </a:p>
          <a:p>
            <a:pPr marL="365040" indent="-255600">
              <a:lnSpc>
                <a:spcPct val="9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hine A1 has a capacity of 2,400 minutes per week.</a:t>
            </a:r>
            <a:endParaRPr b="0" lang="en-US" sz="2800" spc="-1" strike="noStrike">
              <a:solidFill>
                <a:srgbClr val="000000"/>
              </a:solidFill>
              <a:latin typeface="Arial"/>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a1f28"/>
                </a:solidFill>
                <a:latin typeface="Arial"/>
              </a:rPr>
              <a:t>Should Ensign focus its efforts on Product 1 or Product 2?</a:t>
            </a:r>
            <a:endParaRPr b="0" lang="en-US" sz="3500" spc="-1" strike="noStrike">
              <a:solidFill>
                <a:srgbClr val="000000"/>
              </a:solidFill>
              <a:latin typeface="Arial"/>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18" name=""/>
          <p:cNvSpPr txBox="1"/>
          <p:nvPr/>
        </p:nvSpPr>
        <p:spPr>
          <a:xfrm>
            <a:off x="457200" y="2209320"/>
            <a:ext cx="8229600" cy="3922920"/>
          </a:xfrm>
          <a:prstGeom prst="rect">
            <a:avLst/>
          </a:prstGeom>
          <a:solidFill>
            <a:srgbClr val="ccecf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How many units of each product can be processed through Machine A1 in one minute?</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u="sng">
                <a:solidFill>
                  <a:srgbClr val="000000"/>
                </a:solidFill>
                <a:uFillTx/>
                <a:latin typeface="Arial"/>
                <a:ea typeface="Arial"/>
              </a:rPr>
              <a:t>Product 1</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u="sng">
                <a:solidFill>
                  <a:srgbClr val="000000"/>
                </a:solidFill>
                <a:uFillTx/>
                <a:latin typeface="Arial"/>
                <a:ea typeface="Arial"/>
              </a:rPr>
              <a:t>Product 2</a:t>
            </a:r>
            <a:endParaRPr b="0" lang="en-US" sz="28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       1 uni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0.5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b.       1 uni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2.0 units</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       2 units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1.0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d.       2 units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0.5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a1f28"/>
              </a:solidFill>
              <a:latin typeface="Arial"/>
            </a:endParaRPr>
          </a:p>
        </p:txBody>
      </p:sp>
    </p:spTree>
  </p:cSld>
  <p:transition spd="med">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457200" y="2209320"/>
            <a:ext cx="8229600" cy="3922920"/>
          </a:xfrm>
          <a:prstGeom prst="rect">
            <a:avLst/>
          </a:prstGeom>
          <a:solidFill>
            <a:srgbClr val="ccecf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How many units of each product can be processed through Machine A1 in one minute?</a:t>
            </a:r>
            <a:endParaRPr b="0" lang="en-US" sz="2800" spc="-1" strike="noStrike">
              <a:solidFill>
                <a:srgbClr val="00000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u="sng">
                <a:solidFill>
                  <a:srgbClr val="000000"/>
                </a:solidFill>
                <a:uFillTx/>
                <a:latin typeface="Arial"/>
                <a:ea typeface="Arial"/>
              </a:rPr>
              <a:t>Product 1</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u="sng">
                <a:solidFill>
                  <a:srgbClr val="000000"/>
                </a:solidFill>
                <a:uFillTx/>
                <a:latin typeface="Arial"/>
                <a:ea typeface="Arial"/>
              </a:rPr>
              <a:t>Product 2</a:t>
            </a:r>
            <a:endParaRPr b="0" lang="en-US" sz="28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ea typeface="Arial"/>
              </a:rPr>
              <a:t>a.       1 unit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0.5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b.       1 uni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2.0 units</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ea typeface="Arial"/>
              </a:rPr>
              <a:t>c.       2 units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1.0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ea typeface="Arial"/>
              </a:rPr>
              <a:t>d.       2 units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a:t>
            </a:r>
            <a:r>
              <a:rPr b="1" lang="en-US" sz="2600" spc="-1" strike="noStrike">
                <a:solidFill>
                  <a:srgbClr val="b5b5b5"/>
                </a:solidFill>
                <a:latin typeface="Arial"/>
                <a:ea typeface="Arial"/>
              </a:rPr>
              <a:t>   0.5 unit</a:t>
            </a:r>
            <a:endParaRPr b="0" lang="en-US" sz="26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a1f28"/>
              </a:solidFill>
              <a:latin typeface="Arial"/>
            </a:endParaRPr>
          </a:p>
        </p:txBody>
      </p:sp>
      <p:sp>
        <p:nvSpPr>
          <p:cNvPr id="82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21" name="Oval 5"/>
          <p:cNvSpPr/>
          <p:nvPr/>
        </p:nvSpPr>
        <p:spPr>
          <a:xfrm>
            <a:off x="736560" y="439416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821"/>
                                        </p:tgtEl>
                                        <p:attrNameLst>
                                          <p:attrName>style.visibility</p:attrName>
                                        </p:attrNameLst>
                                      </p:cBhvr>
                                      <p:to>
                                        <p:strVal val="visible"/>
                                      </p:to>
                                    </p:set>
                                    <p:anim calcmode="lin" valueType="num">
                                      <p:cBhvr additive="base">
                                        <p:cTn id="99" dur="500" fill="hold"/>
                                        <p:tgtEl>
                                          <p:spTgt spid="821"/>
                                        </p:tgtEl>
                                        <p:attrNameLst>
                                          <p:attrName>ppt_x</p:attrName>
                                        </p:attrNameLst>
                                      </p:cBhvr>
                                      <p:tavLst>
                                        <p:tav tm="0">
                                          <p:val>
                                            <p:strVal val="0-#ppt_w/2"/>
                                          </p:val>
                                        </p:tav>
                                        <p:tav tm="100000">
                                          <p:val>
                                            <p:strVal val="#ppt_x"/>
                                          </p:val>
                                        </p:tav>
                                      </p:tavLst>
                                    </p:anim>
                                    <p:anim calcmode="lin" valueType="num">
                                      <p:cBhvr additive="base">
                                        <p:cTn id="10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ifferent Costs for Different Purposes</a:t>
            </a:r>
            <a:endParaRPr b="0" lang="en-US" sz="3600" spc="-1" strike="noStrike">
              <a:solidFill>
                <a:srgbClr val="464646"/>
              </a:solidFill>
              <a:latin typeface="Arial"/>
            </a:endParaRPr>
          </a:p>
        </p:txBody>
      </p:sp>
      <p:sp>
        <p:nvSpPr>
          <p:cNvPr id="113" name="Text Box 3"/>
          <p:cNvSpPr/>
          <p:nvPr/>
        </p:nvSpPr>
        <p:spPr>
          <a:xfrm>
            <a:off x="4343400" y="1498680"/>
            <a:ext cx="4191120" cy="5119200"/>
          </a:xfrm>
          <a:prstGeom prst="rect">
            <a:avLst/>
          </a:prstGeom>
          <a:solidFill>
            <a:srgbClr val="d3eef5"/>
          </a:solidFill>
          <a:ln w="9360">
            <a:solidFill>
              <a:srgbClr val="39639d"/>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e5d78"/>
                </a:solidFill>
                <a:latin typeface="Arial"/>
              </a:rPr>
              <a:t>Costs that are relevant in one decision situation may not be relevant in another context. Thus, in each decision situation, the manager must examine the data at hand and isolate the relevant costs. </a:t>
            </a:r>
            <a:endParaRPr b="0" lang="en-US" sz="3000" spc="-1" strike="noStrike">
              <a:solidFill>
                <a:srgbClr val="000000"/>
              </a:solidFill>
              <a:latin typeface="Arial"/>
            </a:endParaRPr>
          </a:p>
        </p:txBody>
      </p:sp>
      <p:pic>
        <p:nvPicPr>
          <p:cNvPr id="114" name="Picture 5" descr=""/>
          <p:cNvPicPr/>
          <p:nvPr/>
        </p:nvPicPr>
        <p:blipFill>
          <a:blip r:embed="rId1"/>
          <a:stretch/>
        </p:blipFill>
        <p:spPr>
          <a:xfrm rot="745200">
            <a:off x="647280" y="2968200"/>
            <a:ext cx="2995560" cy="2216160"/>
          </a:xfrm>
          <a:prstGeom prst="rect">
            <a:avLst/>
          </a:prstGeom>
          <a:ln w="0">
            <a:noFill/>
          </a:ln>
        </p:spPr>
      </p:pic>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23" name="Rectangle 2"/>
          <p:cNvSpPr/>
          <p:nvPr/>
        </p:nvSpPr>
        <p:spPr>
          <a:xfrm>
            <a:off x="352440" y="1752480"/>
            <a:ext cx="8458200" cy="4343400"/>
          </a:xfrm>
          <a:prstGeom prst="rect">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800" spc="-1" strike="noStrike">
                <a:solidFill>
                  <a:srgbClr val="000000"/>
                </a:solidFill>
                <a:latin typeface="Arial"/>
              </a:rPr>
              <a:t>What generates more profit for the company, using one minute of machine A1 to process Product 1 or using one minute of machine A1 to process Product 2?</a:t>
            </a:r>
            <a:endParaRPr b="0" lang="en-US" sz="28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Product 1</a:t>
            </a:r>
            <a:endParaRPr b="0" lang="en-US" sz="28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b. Product 2</a:t>
            </a:r>
            <a:endParaRPr b="0" lang="en-US" sz="28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 They both would generate the same profit.</a:t>
            </a:r>
            <a:endParaRPr b="0" lang="en-US" sz="28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 Cannot be determined.</a:t>
            </a:r>
            <a:endParaRPr b="0" lang="en-US" sz="2800" spc="-1" strike="noStrike">
              <a:solidFill>
                <a:srgbClr val="000000"/>
              </a:solidFill>
              <a:latin typeface="Arial"/>
            </a:endParaRPr>
          </a:p>
        </p:txBody>
      </p:sp>
    </p:spTree>
  </p:cSld>
  <p:transition spd="med">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25" name=""/>
          <p:cNvSpPr txBox="1"/>
          <p:nvPr/>
        </p:nvSpPr>
        <p:spPr>
          <a:xfrm>
            <a:off x="457200" y="1563840"/>
            <a:ext cx="8229600" cy="4760640"/>
          </a:xfrm>
          <a:prstGeom prst="rect">
            <a:avLst/>
          </a:prstGeom>
          <a:solidFill>
            <a:srgbClr val="ffff99"/>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at generates more profit for the company, using one minute of machine A1 to process Product 1 or using one minute of machine A1 to process Product 2?</a:t>
            </a:r>
            <a:endParaRPr b="0" lang="en-US" sz="28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b9e8"/>
                </a:solidFill>
                <a:latin typeface="Arial"/>
              </a:rPr>
              <a:t>a. Product 1</a:t>
            </a:r>
            <a:endParaRPr b="0" lang="en-US" sz="28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roduct 2</a:t>
            </a:r>
            <a:endParaRPr b="0" lang="en-US" sz="28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b9e8"/>
                </a:solidFill>
                <a:latin typeface="Arial"/>
              </a:rPr>
              <a:t>c. They both would generate the same profit.</a:t>
            </a:r>
            <a:endParaRPr b="0" lang="en-US" sz="28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b9e8"/>
                </a:solidFill>
                <a:latin typeface="Arial"/>
              </a:rPr>
              <a:t>d. Cannot be determined.</a:t>
            </a:r>
            <a:endParaRPr b="0" lang="en-US" sz="2800" spc="-1" strike="noStrike">
              <a:solidFill>
                <a:srgbClr val="da1f28"/>
              </a:solidFill>
              <a:latin typeface="Arial"/>
            </a:endParaRPr>
          </a:p>
        </p:txBody>
      </p:sp>
      <p:sp>
        <p:nvSpPr>
          <p:cNvPr id="826" name="Text Box 4"/>
          <p:cNvSpPr/>
          <p:nvPr/>
        </p:nvSpPr>
        <p:spPr>
          <a:xfrm>
            <a:off x="914400" y="4343400"/>
            <a:ext cx="8077320" cy="2280240"/>
          </a:xfrm>
          <a:prstGeom prst="rect">
            <a:avLst/>
          </a:prstGeom>
          <a:solidFill>
            <a:srgbClr val="2da2b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171e"/>
                </a:solidFill>
                <a:latin typeface="Arial"/>
              </a:rPr>
              <a:t>With one minute of machine A1, Ensign could make 1 unit of Product 1, with a contribution margin of $24, or 2 units of Product 2, each with a contribution margin of $15 per unit.    </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171e"/>
                </a:solidFill>
                <a:latin typeface="Arial"/>
              </a:rPr>
              <a:t>2 × $15 = $30 &gt; $24</a:t>
            </a:r>
            <a:endParaRPr b="0" lang="en-US" sz="2600" spc="-1" strike="noStrike">
              <a:solidFill>
                <a:srgbClr val="000000"/>
              </a:solidFill>
              <a:latin typeface="Arial"/>
            </a:endParaRPr>
          </a:p>
        </p:txBody>
      </p:sp>
      <p:sp>
        <p:nvSpPr>
          <p:cNvPr id="827" name="Oval 5"/>
          <p:cNvSpPr/>
          <p:nvPr/>
        </p:nvSpPr>
        <p:spPr>
          <a:xfrm>
            <a:off x="838080" y="3825720"/>
            <a:ext cx="457200" cy="406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827"/>
                                        </p:tgtEl>
                                        <p:attrNameLst>
                                          <p:attrName>style.visibility</p:attrName>
                                        </p:attrNameLst>
                                      </p:cBhvr>
                                      <p:to>
                                        <p:strVal val="visible"/>
                                      </p:to>
                                    </p:set>
                                    <p:anim calcmode="lin" valueType="num">
                                      <p:cBhvr additive="base">
                                        <p:cTn id="107" dur="500" fill="hold"/>
                                        <p:tgtEl>
                                          <p:spTgt spid="827"/>
                                        </p:tgtEl>
                                        <p:attrNameLst>
                                          <p:attrName>ppt_x</p:attrName>
                                        </p:attrNameLst>
                                      </p:cBhvr>
                                      <p:tavLst>
                                        <p:tav tm="0">
                                          <p:val>
                                            <p:strVal val="0-#ppt_w/2"/>
                                          </p:val>
                                        </p:tav>
                                        <p:tav tm="100000">
                                          <p:val>
                                            <p:strVal val="#ppt_x"/>
                                          </p:val>
                                        </p:tav>
                                      </p:tavLst>
                                    </p:anim>
                                    <p:anim calcmode="lin" valueType="num">
                                      <p:cBhvr additive="base">
                                        <p:cTn id="108"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29" name=""/>
          <p:cNvSpPr txBox="1"/>
          <p:nvPr/>
        </p:nvSpPr>
        <p:spPr>
          <a:xfrm>
            <a:off x="457200" y="1563840"/>
            <a:ext cx="8229600" cy="476064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is the contribution margin per unit of the constrained resource.</a:t>
            </a:r>
            <a:endParaRPr b="0" lang="en-US" sz="2800" spc="-1" strike="noStrike">
              <a:solidFill>
                <a:srgbClr val="000000"/>
              </a:solidFill>
              <a:latin typeface="Arial"/>
            </a:endParaRPr>
          </a:p>
        </p:txBody>
      </p:sp>
      <p:sp>
        <p:nvSpPr>
          <p:cNvPr id="830" name="Rectangle 4"/>
          <p:cNvSpPr/>
          <p:nvPr/>
        </p:nvSpPr>
        <p:spPr>
          <a:xfrm>
            <a:off x="762120" y="4648320"/>
            <a:ext cx="7673760" cy="1551960"/>
          </a:xfrm>
          <a:prstGeom prst="rect">
            <a:avLst/>
          </a:prstGeom>
          <a:solidFill>
            <a:srgbClr val="b54a1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ign should emphasize </a:t>
            </a:r>
            <a:r>
              <a:rPr b="1" lang="en-US" sz="2400" spc="-1" strike="noStrike">
                <a:solidFill>
                  <a:srgbClr val="ffff00"/>
                </a:solidFill>
                <a:latin typeface="Arial"/>
              </a:rPr>
              <a:t>Product 2</a:t>
            </a:r>
            <a:r>
              <a:rPr b="1" lang="en-US" sz="2400" spc="-1" strike="noStrike">
                <a:solidFill>
                  <a:srgbClr val="ffffff"/>
                </a:solidFill>
                <a:latin typeface="Arial"/>
              </a:rPr>
              <a:t> because it generates a contribution margin of $30 per minute of the constrained resource relative to $24 per minute for Product 1.</a:t>
            </a:r>
            <a:endParaRPr b="0" lang="en-US" sz="2400" spc="-1" strike="noStrike">
              <a:solidFill>
                <a:srgbClr val="000000"/>
              </a:solidFill>
              <a:latin typeface="Arial"/>
            </a:endParaRPr>
          </a:p>
        </p:txBody>
      </p:sp>
      <p:graphicFrame>
        <p:nvGraphicFramePr>
          <p:cNvPr id="831" name="Object 3"/>
          <p:cNvGraphicFramePr/>
          <p:nvPr/>
        </p:nvGraphicFramePr>
        <p:xfrm>
          <a:off x="228600" y="2619360"/>
          <a:ext cx="8686800" cy="1800360"/>
        </p:xfrm>
        <a:graphic>
          <a:graphicData uri="http://schemas.openxmlformats.org/presentationml/2006/ole">
            <p:oleObj progId="Excel.Sheet.12" r:id="rId1" spid="">
              <p:embed/>
              <p:pic>
                <p:nvPicPr>
                  <p:cNvPr id="832" name="Object 3" descr=""/>
                  <p:cNvPicPr/>
                  <p:nvPr/>
                </p:nvPicPr>
                <p:blipFill>
                  <a:blip r:embed="rId2"/>
                  <a:stretch/>
                </p:blipFill>
                <p:spPr>
                  <a:xfrm>
                    <a:off x="228600" y="2619360"/>
                    <a:ext cx="8686800" cy="1800360"/>
                  </a:xfrm>
                  <a:prstGeom prst="rect">
                    <a:avLst/>
                  </a:prstGeom>
                  <a:ln w="28440">
                    <a:solidFill>
                      <a:srgbClr val="39639d"/>
                    </a:solidFill>
                    <a:miter/>
                  </a:ln>
                </p:spPr>
              </p:pic>
            </p:oleObj>
          </a:graphicData>
        </a:graphic>
      </p:graphicFrame>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34" name=""/>
          <p:cNvSpPr txBox="1"/>
          <p:nvPr/>
        </p:nvSpPr>
        <p:spPr>
          <a:xfrm>
            <a:off x="457200" y="1563840"/>
            <a:ext cx="8229600" cy="476064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is the contribution margin per unit of the constrained resource.</a:t>
            </a:r>
            <a:endParaRPr b="0" lang="en-US" sz="2800" spc="-1" strike="noStrike">
              <a:solidFill>
                <a:srgbClr val="000000"/>
              </a:solidFill>
              <a:latin typeface="Arial"/>
            </a:endParaRPr>
          </a:p>
        </p:txBody>
      </p:sp>
      <p:sp>
        <p:nvSpPr>
          <p:cNvPr id="835" name="Rectangle 3"/>
          <p:cNvSpPr/>
          <p:nvPr/>
        </p:nvSpPr>
        <p:spPr>
          <a:xfrm>
            <a:off x="1066680" y="4549680"/>
            <a:ext cx="7010640" cy="1917720"/>
          </a:xfrm>
          <a:prstGeom prst="rect">
            <a:avLst/>
          </a:prstGeom>
          <a:solidFill>
            <a:srgbClr val="b54a10"/>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ign can maximize its contribution margin by first producing </a:t>
            </a:r>
            <a:r>
              <a:rPr b="1" lang="en-US" sz="2400" spc="-1" strike="noStrike">
                <a:solidFill>
                  <a:srgbClr val="ffff00"/>
                </a:solidFill>
                <a:latin typeface="Arial"/>
              </a:rPr>
              <a:t>Product 2</a:t>
            </a:r>
            <a:r>
              <a:rPr b="1" lang="en-US" sz="2400" spc="-1" strike="noStrike">
                <a:solidFill>
                  <a:srgbClr val="ffffff"/>
                </a:solidFill>
                <a:latin typeface="Arial"/>
              </a:rPr>
              <a:t> to meet customer demand and then using any remaining capacity to produce Product 1. The calculations would be performed as follows.</a:t>
            </a:r>
            <a:endParaRPr b="0" lang="en-US" sz="2400" spc="-1" strike="noStrike">
              <a:solidFill>
                <a:srgbClr val="000000"/>
              </a:solidFill>
              <a:latin typeface="Arial"/>
            </a:endParaRPr>
          </a:p>
        </p:txBody>
      </p:sp>
      <p:graphicFrame>
        <p:nvGraphicFramePr>
          <p:cNvPr id="836" name="Object 3"/>
          <p:cNvGraphicFramePr/>
          <p:nvPr/>
        </p:nvGraphicFramePr>
        <p:xfrm>
          <a:off x="228600" y="2619360"/>
          <a:ext cx="8686800" cy="1800360"/>
        </p:xfrm>
        <a:graphic>
          <a:graphicData uri="http://schemas.openxmlformats.org/presentationml/2006/ole">
            <p:oleObj progId="Excel.Sheet.12" r:id="rId1" spid="">
              <p:embed/>
              <p:pic>
                <p:nvPicPr>
                  <p:cNvPr id="837" name="Object 3" descr=""/>
                  <p:cNvPicPr/>
                  <p:nvPr/>
                </p:nvPicPr>
                <p:blipFill>
                  <a:blip r:embed="rId2"/>
                  <a:stretch/>
                </p:blipFill>
                <p:spPr>
                  <a:xfrm>
                    <a:off x="228600" y="2619360"/>
                    <a:ext cx="8686800" cy="1800360"/>
                  </a:xfrm>
                  <a:prstGeom prst="rect">
                    <a:avLst/>
                  </a:prstGeom>
                  <a:ln w="28440">
                    <a:solidFill>
                      <a:srgbClr val="39639d"/>
                    </a:solidFill>
                    <a:miter/>
                  </a:ln>
                </p:spPr>
              </p:pic>
            </p:oleObj>
          </a:graphicData>
        </a:graphic>
      </p:graphicFrame>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39" name=""/>
          <p:cNvSpPr txBox="1"/>
          <p:nvPr/>
        </p:nvSpPr>
        <p:spPr>
          <a:xfrm>
            <a:off x="457200" y="1563480"/>
            <a:ext cx="8229600" cy="56988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et’s see how this plan would work.</a:t>
            </a:r>
            <a:endParaRPr b="0" lang="en-US" sz="2800" spc="-1" strike="noStrike">
              <a:solidFill>
                <a:srgbClr val="000000"/>
              </a:solidFill>
              <a:latin typeface="Arial"/>
            </a:endParaRPr>
          </a:p>
        </p:txBody>
      </p:sp>
      <p:graphicFrame>
        <p:nvGraphicFramePr>
          <p:cNvPr id="840" name="Object 2"/>
          <p:cNvGraphicFramePr/>
          <p:nvPr/>
        </p:nvGraphicFramePr>
        <p:xfrm>
          <a:off x="952560" y="2190600"/>
          <a:ext cx="7223040" cy="4480200"/>
        </p:xfrm>
        <a:graphic>
          <a:graphicData uri="http://schemas.openxmlformats.org/presentationml/2006/ole">
            <p:oleObj progId="Excel.Sheet.12" r:id="rId1" spid="">
              <p:embed/>
              <p:pic>
                <p:nvPicPr>
                  <p:cNvPr id="841" name="Object 2" descr=""/>
                  <p:cNvPicPr/>
                  <p:nvPr/>
                </p:nvPicPr>
                <p:blipFill>
                  <a:blip r:embed="rId2"/>
                  <a:stretch/>
                </p:blipFill>
                <p:spPr>
                  <a:xfrm>
                    <a:off x="952560" y="2190600"/>
                    <a:ext cx="7223040" cy="4480200"/>
                  </a:xfrm>
                  <a:prstGeom prst="rect">
                    <a:avLst/>
                  </a:prstGeom>
                  <a:ln w="0">
                    <a:noFill/>
                  </a:ln>
                  <a:effectLst>
                    <a:outerShdw dist="107932" dir="2700000" blurRad="0" rotWithShape="0">
                      <a:srgbClr val="000000"/>
                    </a:outerShdw>
                  </a:effectLst>
                </p:spPr>
              </p:pic>
            </p:oleObj>
          </a:graphicData>
        </a:graphic>
      </p:graphicFrame>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43" name=""/>
          <p:cNvSpPr txBox="1"/>
          <p:nvPr/>
        </p:nvSpPr>
        <p:spPr>
          <a:xfrm>
            <a:off x="457200" y="1563480"/>
            <a:ext cx="8229600" cy="56988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et’s see how this plan would work.</a:t>
            </a:r>
            <a:endParaRPr b="0" lang="en-US" sz="2800" spc="-1" strike="noStrike">
              <a:solidFill>
                <a:srgbClr val="000000"/>
              </a:solidFill>
              <a:latin typeface="Arial"/>
            </a:endParaRPr>
          </a:p>
        </p:txBody>
      </p:sp>
      <p:graphicFrame>
        <p:nvGraphicFramePr>
          <p:cNvPr id="844" name="Object 2"/>
          <p:cNvGraphicFramePr/>
          <p:nvPr/>
        </p:nvGraphicFramePr>
        <p:xfrm>
          <a:off x="952560" y="2190600"/>
          <a:ext cx="7223040" cy="4480200"/>
        </p:xfrm>
        <a:graphic>
          <a:graphicData uri="http://schemas.openxmlformats.org/presentationml/2006/ole">
            <p:oleObj progId="Excel.Sheet.12" r:id="rId1" spid="">
              <p:embed/>
              <p:pic>
                <p:nvPicPr>
                  <p:cNvPr id="845" name="Object 2" descr=""/>
                  <p:cNvPicPr/>
                  <p:nvPr/>
                </p:nvPicPr>
                <p:blipFill>
                  <a:blip r:embed="rId2"/>
                  <a:stretch/>
                </p:blipFill>
                <p:spPr>
                  <a:xfrm>
                    <a:off x="952560" y="2190600"/>
                    <a:ext cx="7223040" cy="4480200"/>
                  </a:xfrm>
                  <a:prstGeom prst="rect">
                    <a:avLst/>
                  </a:prstGeom>
                  <a:ln w="0">
                    <a:noFill/>
                  </a:ln>
                  <a:effectLst>
                    <a:outerShdw dist="107932" dir="2700000" blurRad="0" rotWithShape="0">
                      <a:srgbClr val="000000"/>
                    </a:outerShdw>
                  </a:effectLst>
                </p:spPr>
              </p:pic>
            </p:oleObj>
          </a:graphicData>
        </a:graphic>
      </p:graphicFrame>
      <p:sp>
        <p:nvSpPr>
          <p:cNvPr id="846" name="Line 6"/>
          <p:cNvSpPr/>
          <p:nvPr/>
        </p:nvSpPr>
        <p:spPr>
          <a:xfrm>
            <a:off x="8686800" y="4181400"/>
            <a:ext cx="0" cy="10051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7"/>
          <p:cNvSpPr/>
          <p:nvPr/>
        </p:nvSpPr>
        <p:spPr>
          <a:xfrm flipH="1">
            <a:off x="8077320" y="5181480"/>
            <a:ext cx="63504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7"/>
          <p:cNvSpPr/>
          <p:nvPr/>
        </p:nvSpPr>
        <p:spPr>
          <a:xfrm flipH="1">
            <a:off x="8077320" y="4173480"/>
            <a:ext cx="63504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50" name=""/>
          <p:cNvSpPr txBox="1"/>
          <p:nvPr/>
        </p:nvSpPr>
        <p:spPr>
          <a:xfrm>
            <a:off x="457200" y="1563480"/>
            <a:ext cx="8229600" cy="56988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et’s see how this plan would work.</a:t>
            </a:r>
            <a:endParaRPr b="0" lang="en-US" sz="2800" spc="-1" strike="noStrike">
              <a:solidFill>
                <a:srgbClr val="000000"/>
              </a:solidFill>
              <a:latin typeface="Arial"/>
            </a:endParaRPr>
          </a:p>
        </p:txBody>
      </p:sp>
      <p:graphicFrame>
        <p:nvGraphicFramePr>
          <p:cNvPr id="851" name="Object 2"/>
          <p:cNvGraphicFramePr/>
          <p:nvPr/>
        </p:nvGraphicFramePr>
        <p:xfrm>
          <a:off x="952560" y="2190600"/>
          <a:ext cx="7223040" cy="4480200"/>
        </p:xfrm>
        <a:graphic>
          <a:graphicData uri="http://schemas.openxmlformats.org/presentationml/2006/ole">
            <p:oleObj progId="Excel.Sheet.12" r:id="rId1" spid="">
              <p:embed/>
              <p:pic>
                <p:nvPicPr>
                  <p:cNvPr id="852" name="Object 2" descr=""/>
                  <p:cNvPicPr/>
                  <p:nvPr/>
                </p:nvPicPr>
                <p:blipFill>
                  <a:blip r:embed="rId2"/>
                  <a:stretch/>
                </p:blipFill>
                <p:spPr>
                  <a:xfrm>
                    <a:off x="952560" y="2190600"/>
                    <a:ext cx="7223040" cy="4480200"/>
                  </a:xfrm>
                  <a:prstGeom prst="rect">
                    <a:avLst/>
                  </a:prstGeom>
                  <a:ln w="0">
                    <a:noFill/>
                  </a:ln>
                  <a:effectLst>
                    <a:outerShdw dist="107932" dir="2700000" blurRad="0" rotWithShape="0">
                      <a:srgbClr val="000000"/>
                    </a:outerShdw>
                  </a:effectLst>
                </p:spPr>
              </p:pic>
            </p:oleObj>
          </a:graphicData>
        </a:graphic>
      </p:graphicFrame>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Utilization of a Constrained Resource</a:t>
            </a:r>
            <a:endParaRPr b="0" lang="en-US" sz="3600" spc="-1" strike="noStrike">
              <a:solidFill>
                <a:srgbClr val="464646"/>
              </a:solidFill>
              <a:latin typeface="Arial"/>
            </a:endParaRPr>
          </a:p>
        </p:txBody>
      </p:sp>
      <p:sp>
        <p:nvSpPr>
          <p:cNvPr id="854" name=""/>
          <p:cNvSpPr txBox="1"/>
          <p:nvPr/>
        </p:nvSpPr>
        <p:spPr>
          <a:xfrm>
            <a:off x="457200" y="1563840"/>
            <a:ext cx="8229600" cy="476064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ccording to the plan, we will produce 2,200 units of Product 2 and 1,300 of Product 1.  Our contribution margin looks like this.</a:t>
            </a:r>
            <a:endParaRPr b="0" lang="en-US" sz="2800" spc="-1" strike="noStrike">
              <a:solidFill>
                <a:srgbClr val="000000"/>
              </a:solidFill>
              <a:latin typeface="Arial"/>
            </a:endParaRPr>
          </a:p>
        </p:txBody>
      </p:sp>
      <p:graphicFrame>
        <p:nvGraphicFramePr>
          <p:cNvPr id="855" name="Object 2"/>
          <p:cNvGraphicFramePr/>
          <p:nvPr/>
        </p:nvGraphicFramePr>
        <p:xfrm>
          <a:off x="380880" y="3427560"/>
          <a:ext cx="8458200" cy="1981080"/>
        </p:xfrm>
        <a:graphic>
          <a:graphicData uri="http://schemas.openxmlformats.org/presentationml/2006/ole">
            <p:oleObj progId="Excel.Sheet.12" r:id="rId1" spid="">
              <p:embed/>
              <p:pic>
                <p:nvPicPr>
                  <p:cNvPr id="856" name="Object 2" descr=""/>
                  <p:cNvPicPr/>
                  <p:nvPr/>
                </p:nvPicPr>
                <p:blipFill>
                  <a:blip r:embed="rId2"/>
                  <a:stretch/>
                </p:blipFill>
                <p:spPr>
                  <a:xfrm>
                    <a:off x="380880" y="3427560"/>
                    <a:ext cx="8458200" cy="1981080"/>
                  </a:xfrm>
                  <a:prstGeom prst="rect">
                    <a:avLst/>
                  </a:prstGeom>
                  <a:ln w="0">
                    <a:noFill/>
                  </a:ln>
                </p:spPr>
              </p:pic>
            </p:oleObj>
          </a:graphicData>
        </a:graphic>
      </p:graphicFrame>
      <p:sp>
        <p:nvSpPr>
          <p:cNvPr id="857" name="Rectangle 5"/>
          <p:cNvSpPr/>
          <p:nvPr/>
        </p:nvSpPr>
        <p:spPr>
          <a:xfrm>
            <a:off x="792000" y="5789520"/>
            <a:ext cx="7621560" cy="454680"/>
          </a:xfrm>
          <a:prstGeom prst="rect">
            <a:avLst/>
          </a:prstGeom>
          <a:solidFill>
            <a:srgbClr val="f7c1a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639d"/>
                </a:solidFill>
                <a:latin typeface="Arial"/>
              </a:rPr>
              <a:t>The total contribution margin for Ensign is $64,200.</a:t>
            </a:r>
            <a:endParaRPr b="0" lang="en-US" sz="2400" spc="-1" strike="noStrike">
              <a:solidFill>
                <a:srgbClr val="000000"/>
              </a:solidFill>
              <a:latin typeface="Arial"/>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6</a:t>
            </a:r>
            <a:endParaRPr b="0" lang="en-US" sz="4000" spc="-1" strike="noStrike">
              <a:solidFill>
                <a:srgbClr val="464646"/>
              </a:solidFill>
              <a:latin typeface="Arial"/>
            </a:endParaRPr>
          </a:p>
        </p:txBody>
      </p:sp>
      <p:sp>
        <p:nvSpPr>
          <p:cNvPr id="859" name="Text Box 13"/>
          <p:cNvSpPr/>
          <p:nvPr/>
        </p:nvSpPr>
        <p:spPr>
          <a:xfrm>
            <a:off x="1905120" y="2587680"/>
            <a:ext cx="5333760" cy="164700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Determine the value of obtaining more of the constrained resource.</a:t>
            </a:r>
            <a:endParaRPr b="0" lang="en-US" sz="3400" spc="-1" strike="noStrike">
              <a:solidFill>
                <a:srgbClr val="000000"/>
              </a:solidFill>
              <a:latin typeface="Arial"/>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Value of a Constrained Resource</a:t>
            </a:r>
            <a:endParaRPr b="0" lang="en-US" sz="4000" spc="-1" strike="noStrike">
              <a:solidFill>
                <a:srgbClr val="464646"/>
              </a:solidFill>
              <a:latin typeface="Arial"/>
            </a:endParaRPr>
          </a:p>
        </p:txBody>
      </p:sp>
      <p:sp>
        <p:nvSpPr>
          <p:cNvPr id="861" name="Oval 3"/>
          <p:cNvSpPr/>
          <p:nvPr/>
        </p:nvSpPr>
        <p:spPr>
          <a:xfrm>
            <a:off x="1447920" y="1523880"/>
            <a:ext cx="6248160" cy="2743200"/>
          </a:xfrm>
          <a:prstGeom prst="ellipse">
            <a:avLst/>
          </a:prstGeom>
          <a:solidFill>
            <a:srgbClr val="f9d1d3"/>
          </a:solidFill>
          <a:ln w="9360">
            <a:solidFill>
              <a:srgbClr val="da1f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capacity of a constrained resource should lead to increased production and sales.  </a:t>
            </a:r>
            <a:endParaRPr b="0" lang="en-US" sz="2800" spc="-1" strike="noStrike">
              <a:solidFill>
                <a:srgbClr val="000000"/>
              </a:solidFill>
              <a:latin typeface="Arial"/>
            </a:endParaRPr>
          </a:p>
        </p:txBody>
      </p:sp>
      <p:sp>
        <p:nvSpPr>
          <p:cNvPr id="862" name="Oval 3"/>
          <p:cNvSpPr/>
          <p:nvPr/>
        </p:nvSpPr>
        <p:spPr>
          <a:xfrm>
            <a:off x="2666880" y="4343400"/>
            <a:ext cx="6324840" cy="2209680"/>
          </a:xfrm>
          <a:prstGeom prst="ellipse">
            <a:avLst/>
          </a:prstGeom>
          <a:solidFill>
            <a:srgbClr val="f9d1d3"/>
          </a:solidFill>
          <a:ln w="9360">
            <a:solidFill>
              <a:srgbClr val="da1f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w much should Ensign be willing to pay for an additional minute of A1 machine time?</a:t>
            </a:r>
            <a:endParaRPr b="0" lang="en-US" sz="2800" spc="-1" strike="noStrike">
              <a:solidFill>
                <a:srgbClr val="000000"/>
              </a:solidFill>
              <a:latin typeface="Arial"/>
            </a:endParaRPr>
          </a:p>
        </p:txBody>
      </p:sp>
      <p:pic>
        <p:nvPicPr>
          <p:cNvPr id="863" name="Picture 8" descr="C:\Documents and Settings\Cindy\Local Settings\Temporary Internet Files\Content.IE5\MX93A6WL\MC900319004[1].wmf"/>
          <p:cNvPicPr/>
          <p:nvPr/>
        </p:nvPicPr>
        <p:blipFill>
          <a:blip r:embed="rId1"/>
          <a:stretch/>
        </p:blipFill>
        <p:spPr>
          <a:xfrm>
            <a:off x="144360" y="3352680"/>
            <a:ext cx="2598840" cy="203688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graphicFrame>
        <p:nvGraphicFramePr>
          <p:cNvPr id="116" name="Object 2"/>
          <p:cNvGraphicFramePr/>
          <p:nvPr/>
        </p:nvGraphicFramePr>
        <p:xfrm>
          <a:off x="533520" y="2971800"/>
          <a:ext cx="6553080" cy="2365200"/>
        </p:xfrm>
        <a:graphic>
          <a:graphicData uri="http://schemas.openxmlformats.org/presentationml/2006/ole">
            <p:oleObj progId="Excel.Sheet.12" r:id="rId1" spid="">
              <p:embed/>
              <p:pic>
                <p:nvPicPr>
                  <p:cNvPr id="117" name="Object 2" descr=""/>
                  <p:cNvPicPr/>
                  <p:nvPr/>
                </p:nvPicPr>
                <p:blipFill>
                  <a:blip r:embed="rId2"/>
                  <a:stretch/>
                </p:blipFill>
                <p:spPr>
                  <a:xfrm>
                    <a:off x="533520" y="2971800"/>
                    <a:ext cx="6553080" cy="2365200"/>
                  </a:xfrm>
                  <a:prstGeom prst="rect">
                    <a:avLst/>
                  </a:prstGeom>
                  <a:ln w="0">
                    <a:noFill/>
                  </a:ln>
                </p:spPr>
              </p:pic>
            </p:oleObj>
          </a:graphicData>
        </a:graphic>
      </p:graphicFrame>
      <p:sp>
        <p:nvSpPr>
          <p:cNvPr id="118" name="Text Box 4"/>
          <p:cNvSpPr/>
          <p:nvPr/>
        </p:nvSpPr>
        <p:spPr>
          <a:xfrm>
            <a:off x="533520" y="1523880"/>
            <a:ext cx="8305560" cy="1313640"/>
          </a:xfrm>
          <a:prstGeom prst="rect">
            <a:avLst/>
          </a:prstGeom>
          <a:solidFill>
            <a:srgbClr val="f2f2f2"/>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639d"/>
                </a:solidFill>
                <a:latin typeface="Arial"/>
              </a:rPr>
              <a:t>Cynthia, a Boston student, is considering visiting her friend in New York. She can drive or take the train. By car, it is 230 miles to her friend’s apartment. She is trying to decide which alternative is less expensive and has gathered the following information.</a:t>
            </a:r>
            <a:endParaRPr b="0" lang="en-US" sz="2000" spc="-1" strike="noStrike">
              <a:solidFill>
                <a:srgbClr val="000000"/>
              </a:solidFill>
              <a:latin typeface="Arial"/>
            </a:endParaRPr>
          </a:p>
        </p:txBody>
      </p:sp>
      <p:grpSp>
        <p:nvGrpSpPr>
          <p:cNvPr id="119" name="Group 5"/>
          <p:cNvGrpSpPr/>
          <p:nvPr/>
        </p:nvGrpSpPr>
        <p:grpSpPr>
          <a:xfrm>
            <a:off x="457200" y="4800240"/>
            <a:ext cx="4876920" cy="1054440"/>
            <a:chOff x="457200" y="4800240"/>
            <a:chExt cx="4876920" cy="1054440"/>
          </a:xfrm>
        </p:grpSpPr>
        <p:sp>
          <p:nvSpPr>
            <p:cNvPr id="120" name="Line 6"/>
            <p:cNvSpPr/>
            <p:nvPr/>
          </p:nvSpPr>
          <p:spPr>
            <a:xfrm flipV="1">
              <a:off x="1905120" y="4800240"/>
              <a:ext cx="34290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457200" y="5486400"/>
              <a:ext cx="2987640" cy="368280"/>
            </a:xfrm>
            <a:prstGeom prst="rect">
              <a:avLst/>
            </a:prstGeom>
            <a:solidFill>
              <a:srgbClr val="66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 per month </a:t>
              </a:r>
              <a:r>
                <a:rPr b="0" lang="en-US" sz="1800" spc="-1" strike="noStrike">
                  <a:solidFill>
                    <a:srgbClr val="ffffff"/>
                  </a:solidFill>
                  <a:latin typeface="Arial"/>
                  <a:ea typeface="Arial"/>
                </a:rPr>
                <a:t>× 8 months</a:t>
              </a:r>
              <a:endParaRPr b="0" lang="en-US" sz="1800" spc="-1" strike="noStrike">
                <a:solidFill>
                  <a:srgbClr val="000000"/>
                </a:solidFill>
                <a:latin typeface="Arial"/>
              </a:endParaRPr>
            </a:p>
          </p:txBody>
        </p:sp>
      </p:grpSp>
      <p:grpSp>
        <p:nvGrpSpPr>
          <p:cNvPr id="122" name="Group 8"/>
          <p:cNvGrpSpPr/>
          <p:nvPr/>
        </p:nvGrpSpPr>
        <p:grpSpPr>
          <a:xfrm>
            <a:off x="3733920" y="4114800"/>
            <a:ext cx="3139920" cy="1685880"/>
            <a:chOff x="3733920" y="4114800"/>
            <a:chExt cx="3139920" cy="1685880"/>
          </a:xfrm>
        </p:grpSpPr>
        <p:sp>
          <p:nvSpPr>
            <p:cNvPr id="123" name="Line 9"/>
            <p:cNvSpPr/>
            <p:nvPr/>
          </p:nvSpPr>
          <p:spPr>
            <a:xfrm flipV="1">
              <a:off x="5257800" y="4114800"/>
              <a:ext cx="12193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0"/>
            <p:cNvSpPr/>
            <p:nvPr/>
          </p:nvSpPr>
          <p:spPr>
            <a:xfrm>
              <a:off x="3733920" y="5432400"/>
              <a:ext cx="3139920" cy="36828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70 per gallon </a:t>
              </a:r>
              <a:r>
                <a:rPr b="1" lang="en-US" sz="1800" spc="-1" strike="noStrike">
                  <a:solidFill>
                    <a:srgbClr val="663300"/>
                  </a:solidFill>
                  <a:latin typeface="Arial"/>
                  <a:ea typeface="Times New Roman"/>
                </a:rPr>
                <a:t>÷ 27 MPG</a:t>
              </a:r>
              <a:endParaRPr b="0" lang="en-US" sz="1800" spc="-1" strike="noStrike">
                <a:solidFill>
                  <a:srgbClr val="000000"/>
                </a:solidFill>
                <a:latin typeface="Arial"/>
              </a:endParaRPr>
            </a:p>
          </p:txBody>
        </p:sp>
      </p:grpSp>
      <p:grpSp>
        <p:nvGrpSpPr>
          <p:cNvPr id="125" name="Group 11"/>
          <p:cNvGrpSpPr/>
          <p:nvPr/>
        </p:nvGrpSpPr>
        <p:grpSpPr>
          <a:xfrm>
            <a:off x="2971800" y="3800520"/>
            <a:ext cx="5425200" cy="2663640"/>
            <a:chOff x="2971800" y="3800520"/>
            <a:chExt cx="5425200" cy="2663640"/>
          </a:xfrm>
        </p:grpSpPr>
        <p:cxnSp>
          <p:nvCxnSpPr>
            <p:cNvPr id="126" name="AutoShape 12"/>
            <p:cNvCxnSpPr>
              <a:stCxn id="127" idx="3"/>
            </p:cNvCxnSpPr>
            <p:nvPr/>
          </p:nvCxnSpPr>
          <p:spPr>
            <a:xfrm flipH="1" flipV="1">
              <a:off x="5712480" y="3809520"/>
              <a:ext cx="2456280" cy="2471040"/>
            </a:xfrm>
            <a:prstGeom prst="bentConnector4">
              <a:avLst>
                <a:gd name="adj1" fmla="val -9308"/>
                <a:gd name="adj2" fmla="val 100364"/>
              </a:avLst>
            </a:prstGeom>
            <a:ln w="38160">
              <a:solidFill>
                <a:srgbClr val="ff0000"/>
              </a:solidFill>
              <a:miter/>
              <a:tailEnd len="med" type="triangle" w="med"/>
            </a:ln>
          </p:spPr>
        </p:cxnSp>
        <p:sp>
          <p:nvSpPr>
            <p:cNvPr id="127" name="Text Box 13"/>
            <p:cNvSpPr/>
            <p:nvPr/>
          </p:nvSpPr>
          <p:spPr>
            <a:xfrm>
              <a:off x="2971800" y="6095880"/>
              <a:ext cx="5197320" cy="368280"/>
            </a:xfrm>
            <a:prstGeom prst="rect">
              <a:avLst/>
            </a:prstGeom>
            <a:solidFill>
              <a:srgbClr val="66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00 cost </a:t>
              </a:r>
              <a:r>
                <a:rPr b="0" lang="en-US" sz="1800" spc="-1" strike="noStrike">
                  <a:solidFill>
                    <a:srgbClr val="ffffff"/>
                  </a:solidFill>
                  <a:latin typeface="Arial"/>
                  <a:ea typeface="Times New Roman"/>
                </a:rPr>
                <a:t>–</a:t>
              </a:r>
              <a:r>
                <a:rPr b="0" lang="en-US" sz="1800" spc="-1" strike="noStrike">
                  <a:solidFill>
                    <a:srgbClr val="ffffff"/>
                  </a:solidFill>
                  <a:latin typeface="Arial"/>
                </a:rPr>
                <a:t> $10,000 salvage value </a:t>
              </a:r>
              <a:r>
                <a:rPr b="0" lang="en-US" sz="1800" spc="-1" strike="noStrike">
                  <a:solidFill>
                    <a:srgbClr val="ffffff"/>
                  </a:solidFill>
                  <a:latin typeface="Arial"/>
                  <a:ea typeface="Times New Roman"/>
                </a:rPr>
                <a:t>÷ 5 years</a:t>
              </a:r>
              <a:endParaRPr b="0" lang="en-US" sz="1800" spc="-1" strike="noStrike">
                <a:solidFill>
                  <a:srgbClr val="000000"/>
                </a:solidFill>
                <a:latin typeface="Arial"/>
              </a:endParaRPr>
            </a:p>
          </p:txBody>
        </p:sp>
      </p:gr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125"/>
                                        </p:tgtEl>
                                        <p:attrNameLst>
                                          <p:attrName>style.visibility</p:attrName>
                                        </p:attrNameLst>
                                      </p:cBhvr>
                                      <p:to>
                                        <p:strVal val="visible"/>
                                      </p:to>
                                    </p:set>
                                    <p:animEffect filter="wipe(down)" transition="in">
                                      <p:cBhvr additive="repl">
                                        <p:cTn id="7" dur="500"/>
                                        <p:tgtEl>
                                          <p:spTgt spid="125"/>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22"/>
                                        </p:tgtEl>
                                        <p:attrNameLst>
                                          <p:attrName>style.visibility</p:attrName>
                                        </p:attrNameLst>
                                      </p:cBhvr>
                                      <p:to>
                                        <p:strVal val="visible"/>
                                      </p:to>
                                    </p:set>
                                    <p:animEffect filter="wipe(down)" transition="in">
                                      <p:cBhvr additive="repl">
                                        <p:cTn id="11" dur="500"/>
                                        <p:tgtEl>
                                          <p:spTgt spid="122"/>
                                        </p:tgtEl>
                                      </p:cBhvr>
                                    </p:animEffect>
                                  </p:childTnLst>
                                </p:cTn>
                              </p:par>
                            </p:childTnLst>
                          </p:cTn>
                        </p:par>
                        <p:par>
                          <p:cTn id="12" nodeType="afterEffect" fill="hold">
                            <p:stCondLst>
                              <p:cond delay="1000"/>
                            </p:stCondLst>
                            <p:childTnLst>
                              <p:par>
                                <p:cTn id="13" nodeType="afterEffect" fill="hold" presetClass="entr" presetID="18" presetSubtype="3">
                                  <p:stCondLst>
                                    <p:cond delay="0"/>
                                  </p:stCondLst>
                                  <p:childTnLst>
                                    <p:set>
                                      <p:cBhvr>
                                        <p:cTn id="14" dur="1" fill="hold">
                                          <p:stCondLst>
                                            <p:cond delay="0"/>
                                          </p:stCondLst>
                                        </p:cTn>
                                        <p:tgtEl>
                                          <p:spTgt spid="119"/>
                                        </p:tgtEl>
                                        <p:attrNameLst>
                                          <p:attrName>style.visibility</p:attrName>
                                        </p:attrNameLst>
                                      </p:cBhvr>
                                      <p:to>
                                        <p:strVal val="visible"/>
                                      </p:to>
                                    </p:set>
                                    <p:animEffect filter="strips(upRight)" transition="in">
                                      <p:cBhvr additive="repl">
                                        <p:cTn id="1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457200" y="1563840"/>
            <a:ext cx="8229600" cy="4760640"/>
          </a:xfrm>
          <a:prstGeom prst="rect">
            <a:avLst/>
          </a:prstGeom>
          <a:noFill/>
          <a:ln w="0">
            <a:noFill/>
          </a:ln>
        </p:spPr>
        <p:txBody>
          <a:bodyPr lIns="90360" rIns="90360" tIns="44280" bIns="44280"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additional machine time would be used to make more units of Product 1, which had a contribution margin per minute of $24. </a:t>
            </a:r>
            <a:endParaRPr b="0" lang="en-US" sz="2800" spc="-1" strike="noStrike">
              <a:solidFill>
                <a:srgbClr val="000000"/>
              </a:solidFill>
              <a:latin typeface="Arial"/>
            </a:endParaRPr>
          </a:p>
        </p:txBody>
      </p:sp>
      <p:sp>
        <p:nvSpPr>
          <p:cNvPr id="865" name="Rectangle 4"/>
          <p:cNvSpPr/>
          <p:nvPr/>
        </p:nvSpPr>
        <p:spPr>
          <a:xfrm>
            <a:off x="609480" y="3657600"/>
            <a:ext cx="7674120" cy="2221920"/>
          </a:xfrm>
          <a:prstGeom prst="rect">
            <a:avLst/>
          </a:prstGeom>
          <a:solidFill>
            <a:srgbClr val="35385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ign should be willing to pay up to $24 per minute.  This amount equals the contribution margin per minute of machine time that would be eared producing more units of Product 1.</a:t>
            </a:r>
            <a:endParaRPr b="0" lang="en-US" sz="2800" spc="-1" strike="noStrike">
              <a:solidFill>
                <a:srgbClr val="000000"/>
              </a:solidFill>
              <a:latin typeface="Arial"/>
            </a:endParaRPr>
          </a:p>
        </p:txBody>
      </p:sp>
      <p:sp>
        <p:nvSpPr>
          <p:cNvPr id="86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Value of a Constrained Resource</a:t>
            </a:r>
            <a:endParaRPr b="0" lang="en-US" sz="4000" spc="-1" strike="noStrike">
              <a:solidFill>
                <a:srgbClr val="464646"/>
              </a:solidFill>
              <a:latin typeface="Arial"/>
            </a:endParaRPr>
          </a:p>
        </p:txBody>
      </p:sp>
    </p:spTree>
  </p:cSld>
  <p:transition>
    <p:wipe di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68" name="Rectangle 3"/>
          <p:cNvSpPr/>
          <p:nvPr/>
        </p:nvSpPr>
        <p:spPr>
          <a:xfrm>
            <a:off x="533520" y="1447920"/>
            <a:ext cx="8153280" cy="5257800"/>
          </a:xfrm>
          <a:prstGeom prst="rect">
            <a:avLst/>
          </a:prstGeom>
          <a:solidFill>
            <a:srgbClr val="f9d1d3"/>
          </a:solidFill>
          <a:ln w="12600">
            <a:solidFill>
              <a:srgbClr val="000000"/>
            </a:solidFill>
            <a:miter/>
          </a:ln>
        </p:spPr>
        <p:style>
          <a:lnRef idx="0"/>
          <a:fillRef idx="0"/>
          <a:effectRef idx="0"/>
          <a:fontRef idx="minor"/>
        </p:style>
        <p:txBody>
          <a:bodyPr lIns="90360" rIns="90360" tIns="44280" bIns="44280" anchor="t">
            <a:no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Arial"/>
              </a:rPr>
              <a:t> </a:t>
            </a:r>
            <a:r>
              <a:rPr b="1" lang="en-US" sz="2600" spc="-1" strike="noStrike">
                <a:solidFill>
                  <a:srgbClr val="464646"/>
                </a:solidFill>
                <a:latin typeface="Arial"/>
                <a:ea typeface="Arial"/>
              </a:rPr>
              <a:t>	</a:t>
            </a:r>
            <a:r>
              <a:rPr b="1" lang="en-US" sz="2600" spc="-1" strike="noStrike">
                <a:solidFill>
                  <a:srgbClr val="464646"/>
                </a:solidFill>
                <a:latin typeface="Arial"/>
                <a:ea typeface="Arial"/>
              </a:rPr>
              <a:t>Colonial Heritage makes reproduction colonial furniture from select hardwoods.</a:t>
            </a:r>
            <a:br>
              <a:rPr sz="2600"/>
            </a:br>
            <a:endParaRPr b="0" lang="en-US" sz="26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	</a:t>
            </a:r>
            <a:r>
              <a:rPr b="1" lang="en-US" sz="2600" spc="-1" strike="noStrike">
                <a:solidFill>
                  <a:srgbClr val="464646"/>
                </a:solidFill>
                <a:latin typeface="Arial"/>
                <a:ea typeface="Arial"/>
              </a:rPr>
              <a:t>The company’s supplier of hardwood will only be able to supply 2,000 board feet this month. Is this enough hardwood to satisfy demand?</a:t>
            </a:r>
            <a:endParaRPr b="0" lang="en-US" sz="26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53535"/>
                </a:solidFill>
                <a:latin typeface="Arial"/>
                <a:ea typeface="Arial"/>
              </a:rPr>
              <a:t>a. Yes</a:t>
            </a:r>
            <a:endParaRPr b="0" lang="en-US" sz="23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53535"/>
                </a:solidFill>
                <a:latin typeface="Arial"/>
                <a:ea typeface="Arial"/>
              </a:rPr>
              <a:t>b. No</a:t>
            </a:r>
            <a:endParaRPr b="0" lang="en-US" sz="2300" spc="-1" strike="noStrike">
              <a:solidFill>
                <a:srgbClr val="000000"/>
              </a:solidFill>
              <a:latin typeface="Arial"/>
            </a:endParaRPr>
          </a:p>
        </p:txBody>
      </p:sp>
      <p:graphicFrame>
        <p:nvGraphicFramePr>
          <p:cNvPr id="869" name="Object 3"/>
          <p:cNvGraphicFramePr/>
          <p:nvPr/>
        </p:nvGraphicFramePr>
        <p:xfrm>
          <a:off x="1828800" y="2487600"/>
          <a:ext cx="5486400" cy="1779480"/>
        </p:xfrm>
        <a:graphic>
          <a:graphicData uri="http://schemas.openxmlformats.org/presentationml/2006/ole">
            <p:oleObj progId="Word.Document.12" r:id="rId1" spid="">
              <p:embed/>
              <p:pic>
                <p:nvPicPr>
                  <p:cNvPr id="870" name="Object 3" descr=""/>
                  <p:cNvPicPr/>
                  <p:nvPr/>
                </p:nvPicPr>
                <p:blipFill>
                  <a:blip r:embed="rId2"/>
                  <a:stretch/>
                </p:blipFill>
                <p:spPr>
                  <a:xfrm>
                    <a:off x="1828800" y="2487600"/>
                    <a:ext cx="5486400" cy="1779480"/>
                  </a:xfrm>
                  <a:prstGeom prst="rect">
                    <a:avLst/>
                  </a:prstGeom>
                  <a:ln w="9360">
                    <a:solidFill>
                      <a:srgbClr val="000000"/>
                    </a:solidFill>
                    <a:miter/>
                  </a:ln>
                </p:spPr>
              </p:pic>
            </p:oleObj>
          </a:graphicData>
        </a:graphic>
      </p:graphicFrame>
    </p:spTree>
  </p:cSld>
  <p:transition spd="med">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72" name="Rectangle 3"/>
          <p:cNvSpPr/>
          <p:nvPr/>
        </p:nvSpPr>
        <p:spPr>
          <a:xfrm>
            <a:off x="533520" y="1447920"/>
            <a:ext cx="8153280" cy="5257800"/>
          </a:xfrm>
          <a:prstGeom prst="rect">
            <a:avLst/>
          </a:prstGeom>
          <a:solidFill>
            <a:srgbClr val="f9d1d3"/>
          </a:solidFill>
          <a:ln w="12600">
            <a:solidFill>
              <a:srgbClr val="000000"/>
            </a:solidFill>
            <a:miter/>
          </a:ln>
        </p:spPr>
        <p:style>
          <a:lnRef idx="0"/>
          <a:fillRef idx="0"/>
          <a:effectRef idx="0"/>
          <a:fontRef idx="minor"/>
        </p:style>
        <p:txBody>
          <a:bodyPr lIns="90360" rIns="90360" tIns="44280" bIns="44280" anchor="t">
            <a:no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ea typeface="Arial"/>
              </a:rPr>
              <a:t> </a:t>
            </a:r>
            <a:r>
              <a:rPr b="1" lang="en-US" sz="2600" spc="-1" strike="noStrike">
                <a:solidFill>
                  <a:srgbClr val="464646"/>
                </a:solidFill>
                <a:latin typeface="Arial"/>
                <a:ea typeface="Arial"/>
              </a:rPr>
              <a:t>	</a:t>
            </a:r>
            <a:r>
              <a:rPr b="1" lang="en-US" sz="2600" spc="-1" strike="noStrike">
                <a:solidFill>
                  <a:srgbClr val="464646"/>
                </a:solidFill>
                <a:latin typeface="Arial"/>
                <a:ea typeface="Arial"/>
              </a:rPr>
              <a:t>Colonial Heritage makes reproduction colonial furniture from select hardwoods.</a:t>
            </a:r>
            <a:br>
              <a:rPr sz="2600"/>
            </a:br>
            <a:endParaRPr b="0" lang="en-US" sz="26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	</a:t>
            </a:r>
            <a:r>
              <a:rPr b="1" lang="en-US" sz="2600" spc="-1" strike="noStrike">
                <a:solidFill>
                  <a:srgbClr val="464646"/>
                </a:solidFill>
                <a:latin typeface="Arial"/>
                <a:ea typeface="Arial"/>
              </a:rPr>
              <a:t>The company’s supplier of hardwood will only be able to supply 2,000 board feet this month. Is this enough hardwood to satisfy demand?</a:t>
            </a:r>
            <a:endParaRPr b="0" lang="en-US" sz="26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5b5b5"/>
                </a:solidFill>
                <a:latin typeface="Arial"/>
                <a:ea typeface="Arial"/>
              </a:rPr>
              <a:t>a. Yes</a:t>
            </a:r>
            <a:endParaRPr b="0" lang="en-US" sz="2300" spc="-1" strike="noStrike">
              <a:solidFill>
                <a:srgbClr val="000000"/>
              </a:solidFill>
              <a:latin typeface="Arial"/>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46"/>
                </a:solidFill>
                <a:latin typeface="Arial"/>
                <a:ea typeface="Arial"/>
              </a:rPr>
              <a:t>b. No</a:t>
            </a:r>
            <a:endParaRPr b="0" lang="en-US" sz="2300" spc="-1" strike="noStrike">
              <a:solidFill>
                <a:srgbClr val="000000"/>
              </a:solidFill>
              <a:latin typeface="Arial"/>
            </a:endParaRPr>
          </a:p>
        </p:txBody>
      </p:sp>
      <p:graphicFrame>
        <p:nvGraphicFramePr>
          <p:cNvPr id="873" name="Object 3"/>
          <p:cNvGraphicFramePr/>
          <p:nvPr/>
        </p:nvGraphicFramePr>
        <p:xfrm>
          <a:off x="1828800" y="2487600"/>
          <a:ext cx="5486400" cy="1779480"/>
        </p:xfrm>
        <a:graphic>
          <a:graphicData uri="http://schemas.openxmlformats.org/presentationml/2006/ole">
            <p:oleObj progId="Word.Document.12" r:id="rId1" spid="">
              <p:embed/>
              <p:pic>
                <p:nvPicPr>
                  <p:cNvPr id="874" name="Object 3" descr=""/>
                  <p:cNvPicPr/>
                  <p:nvPr/>
                </p:nvPicPr>
                <p:blipFill>
                  <a:blip r:embed="rId2"/>
                  <a:stretch/>
                </p:blipFill>
                <p:spPr>
                  <a:xfrm>
                    <a:off x="1828800" y="2487600"/>
                    <a:ext cx="5486400" cy="1779480"/>
                  </a:xfrm>
                  <a:prstGeom prst="rect">
                    <a:avLst/>
                  </a:prstGeom>
                  <a:ln w="9360">
                    <a:solidFill>
                      <a:srgbClr val="000000"/>
                    </a:solidFill>
                    <a:miter/>
                  </a:ln>
                </p:spPr>
              </p:pic>
            </p:oleObj>
          </a:graphicData>
        </a:graphic>
      </p:graphicFrame>
      <p:sp>
        <p:nvSpPr>
          <p:cNvPr id="875" name="Text Box 4"/>
          <p:cNvSpPr/>
          <p:nvPr/>
        </p:nvSpPr>
        <p:spPr>
          <a:xfrm>
            <a:off x="2209680" y="5943600"/>
            <a:ext cx="5867640" cy="459720"/>
          </a:xfrm>
          <a:prstGeom prst="rect">
            <a:avLst/>
          </a:prstGeom>
          <a:solidFill>
            <a:srgbClr val="2da2b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en-US" sz="2400" spc="-1" strike="noStrike">
                <a:solidFill>
                  <a:srgbClr val="ffffff"/>
                </a:solidFill>
                <a:latin typeface="Symbol"/>
                <a:ea typeface="Symbol"/>
              </a:rPr>
              <a:t></a:t>
            </a:r>
            <a:r>
              <a:rPr b="1" lang="en-US" sz="2400" spc="-1" strike="noStrike">
                <a:solidFill>
                  <a:srgbClr val="ffffff"/>
                </a:solidFill>
                <a:latin typeface="Arial"/>
              </a:rPr>
              <a:t> 600) + (10 </a:t>
            </a:r>
            <a:r>
              <a:rPr b="1" lang="en-US" sz="2400" spc="-1" strike="noStrike">
                <a:solidFill>
                  <a:srgbClr val="ffffff"/>
                </a:solidFill>
                <a:latin typeface="Symbol"/>
                <a:ea typeface="Symbol"/>
              </a:rPr>
              <a:t></a:t>
            </a:r>
            <a:r>
              <a:rPr b="1" lang="en-US" sz="2400" spc="-1" strike="noStrike">
                <a:solidFill>
                  <a:srgbClr val="ffffff"/>
                </a:solidFill>
                <a:latin typeface="Arial"/>
              </a:rPr>
              <a:t> 100 ) = 2,200 &gt; 2,000</a:t>
            </a:r>
            <a:endParaRPr b="0" lang="en-US" sz="2400" spc="-1" strike="noStrike">
              <a:solidFill>
                <a:srgbClr val="000000"/>
              </a:solidFill>
              <a:latin typeface="Arial"/>
            </a:endParaRPr>
          </a:p>
        </p:txBody>
      </p:sp>
      <p:sp>
        <p:nvSpPr>
          <p:cNvPr id="876" name="Oval 5"/>
          <p:cNvSpPr/>
          <p:nvPr/>
        </p:nvSpPr>
        <p:spPr>
          <a:xfrm>
            <a:off x="689040" y="6019920"/>
            <a:ext cx="53316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876"/>
                                        </p:tgtEl>
                                        <p:attrNameLst>
                                          <p:attrName>style.visibility</p:attrName>
                                        </p:attrNameLst>
                                      </p:cBhvr>
                                      <p:to>
                                        <p:strVal val="visible"/>
                                      </p:to>
                                    </p:set>
                                    <p:anim calcmode="lin" valueType="num">
                                      <p:cBhvr additive="base">
                                        <p:cTn id="115" dur="500" fill="hold"/>
                                        <p:tgtEl>
                                          <p:spTgt spid="876"/>
                                        </p:tgtEl>
                                        <p:attrNameLst>
                                          <p:attrName>ppt_x</p:attrName>
                                        </p:attrNameLst>
                                      </p:cBhvr>
                                      <p:tavLst>
                                        <p:tav tm="0">
                                          <p:val>
                                            <p:strVal val="0-#ppt_w/2"/>
                                          </p:val>
                                        </p:tav>
                                        <p:tav tm="100000">
                                          <p:val>
                                            <p:strVal val="#ppt_x"/>
                                          </p:val>
                                        </p:tav>
                                      </p:tavLst>
                                    </p:anim>
                                    <p:anim calcmode="lin" valueType="num">
                                      <p:cBhvr additive="base">
                                        <p:cTn id="116"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78" name="Rectangle 2"/>
          <p:cNvSpPr/>
          <p:nvPr/>
        </p:nvSpPr>
        <p:spPr>
          <a:xfrm>
            <a:off x="495360" y="1600200"/>
            <a:ext cx="8153280" cy="50292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no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br>
              <a:rPr sz="2600"/>
            </a:br>
            <a:r>
              <a:rPr b="1" lang="en-US" sz="2600" spc="-1" strike="noStrike">
                <a:solidFill>
                  <a:srgbClr val="000000"/>
                </a:solidFill>
                <a:latin typeface="Arial"/>
              </a:rPr>
              <a:t>The company’s supplier of hardwood will only be able to supply 2,000 board feet this month. What plan would maximize profits?</a:t>
            </a:r>
            <a:endParaRPr b="0" lang="en-US" sz="26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a. 500 chairs and 100 tables</a:t>
            </a:r>
            <a:endParaRPr b="0" lang="en-US" sz="26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b. 600 chairs and 80 tables</a:t>
            </a:r>
            <a:endParaRPr b="0" lang="en-US" sz="26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c. 500 chairs and 80 tables</a:t>
            </a:r>
            <a:endParaRPr b="0" lang="en-US" sz="2600" spc="-1" strike="noStrike">
              <a:solidFill>
                <a:srgbClr val="000000"/>
              </a:solidFill>
              <a:latin typeface="Arial"/>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d. 600 chairs and 100 tables</a:t>
            </a:r>
            <a:endParaRPr b="0" lang="en-US" sz="2600" spc="-1" strike="noStrike">
              <a:solidFill>
                <a:srgbClr val="000000"/>
              </a:solidFill>
              <a:latin typeface="Arial"/>
            </a:endParaRPr>
          </a:p>
        </p:txBody>
      </p:sp>
      <p:graphicFrame>
        <p:nvGraphicFramePr>
          <p:cNvPr id="879" name="Object 3"/>
          <p:cNvGraphicFramePr/>
          <p:nvPr/>
        </p:nvGraphicFramePr>
        <p:xfrm>
          <a:off x="1676520" y="1752480"/>
          <a:ext cx="5643360" cy="1817640"/>
        </p:xfrm>
        <a:graphic>
          <a:graphicData uri="http://schemas.openxmlformats.org/presentationml/2006/ole">
            <p:oleObj progId="Word.Document.12" r:id="rId1" spid="">
              <p:embed/>
              <p:pic>
                <p:nvPicPr>
                  <p:cNvPr id="880" name="Object 3" descr=""/>
                  <p:cNvPicPr/>
                  <p:nvPr/>
                </p:nvPicPr>
                <p:blipFill>
                  <a:blip r:embed="rId2"/>
                  <a:stretch/>
                </p:blipFill>
                <p:spPr>
                  <a:xfrm>
                    <a:off x="1676520" y="1752480"/>
                    <a:ext cx="5643360" cy="1817640"/>
                  </a:xfrm>
                  <a:prstGeom prst="rect">
                    <a:avLst/>
                  </a:prstGeom>
                  <a:ln w="0">
                    <a:noFill/>
                  </a:ln>
                </p:spPr>
              </p:pic>
            </p:oleObj>
          </a:graphicData>
        </a:graphic>
      </p:graphicFrame>
    </p:spTree>
  </p:cSld>
  <p:transition spd="med">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82" name="PlaceHolder 2"/>
          <p:cNvSpPr>
            <a:spLocks noGrp="1"/>
          </p:cNvSpPr>
          <p:nvPr>
            <p:ph/>
          </p:nvPr>
        </p:nvSpPr>
        <p:spPr>
          <a:xfrm>
            <a:off x="495360" y="1599840"/>
            <a:ext cx="8153280" cy="4800600"/>
          </a:xfrm>
          <a:prstGeom prst="rect">
            <a:avLst/>
          </a:prstGeom>
          <a:solidFill>
            <a:srgbClr val="ccecff"/>
          </a:solidFill>
          <a:ln w="12600">
            <a:solidFill>
              <a:srgbClr val="000000"/>
            </a:solidFill>
            <a:miter/>
          </a:ln>
        </p:spPr>
        <p:txBody>
          <a:bodyPr lIns="90360" rIns="90360" tIns="44280" bIns="44280" anchor="t">
            <a:normAutofit/>
          </a:bodyPr>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a1f28"/>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a1f28"/>
              </a:solidFill>
              <a:latin typeface="Arial"/>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600" spc="-1" strike="noStrike">
                <a:solidFill>
                  <a:srgbClr val="000000"/>
                </a:solidFill>
                <a:latin typeface="Arial"/>
              </a:rPr>
              <a:t>The company’s supplier of hardwood will only be able to supply 2,000 board feet this month. What plan would maximize profits?</a:t>
            </a:r>
            <a:endParaRPr b="0" lang="en-US" sz="2600" spc="-1" strike="noStrike">
              <a:solidFill>
                <a:srgbClr val="000000"/>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rPr>
              <a:t>a. 500 chairs and 100 tables</a:t>
            </a:r>
            <a:endParaRPr b="0" lang="en-US" sz="2600" spc="-1" strike="noStrike">
              <a:solidFill>
                <a:srgbClr val="da1f28"/>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 600 chairs and 80 tables</a:t>
            </a:r>
            <a:endParaRPr b="0" lang="en-US" sz="2600" spc="-1" strike="noStrike">
              <a:solidFill>
                <a:srgbClr val="da1f28"/>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rPr>
              <a:t>c. 500 chairs and 80 tables</a:t>
            </a:r>
            <a:endParaRPr b="0" lang="en-US" sz="2600" spc="-1" strike="noStrike">
              <a:solidFill>
                <a:srgbClr val="da1f28"/>
              </a:solidFill>
              <a:latin typeface="Arial"/>
            </a:endParaRPr>
          </a:p>
          <a:p>
            <a:pPr lvl="1" marL="657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b5b5"/>
                </a:solidFill>
                <a:latin typeface="Arial"/>
              </a:rPr>
              <a:t>d. 600 chairs and 100 tables</a:t>
            </a:r>
            <a:endParaRPr b="0" lang="en-US" sz="2600" spc="-1" strike="noStrike">
              <a:solidFill>
                <a:srgbClr val="da1f28"/>
              </a:solidFill>
              <a:latin typeface="Arial"/>
            </a:endParaRPr>
          </a:p>
        </p:txBody>
      </p:sp>
      <p:sp>
        <p:nvSpPr>
          <p:cNvPr id="883" name="Oval 4"/>
          <p:cNvSpPr/>
          <p:nvPr/>
        </p:nvSpPr>
        <p:spPr>
          <a:xfrm>
            <a:off x="736560" y="5029200"/>
            <a:ext cx="635040" cy="635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4" name="Object 2"/>
          <p:cNvGraphicFramePr/>
          <p:nvPr/>
        </p:nvGraphicFramePr>
        <p:xfrm>
          <a:off x="1676520" y="1752480"/>
          <a:ext cx="5643360" cy="1817640"/>
        </p:xfrm>
        <a:graphic>
          <a:graphicData uri="http://schemas.openxmlformats.org/presentationml/2006/ole">
            <p:oleObj progId="Word.Document.12" r:id="rId1" spid="">
              <p:embed/>
              <p:pic>
                <p:nvPicPr>
                  <p:cNvPr id="885" name="Object 2" descr=""/>
                  <p:cNvPicPr/>
                  <p:nvPr/>
                </p:nvPicPr>
                <p:blipFill>
                  <a:blip r:embed="rId2"/>
                  <a:stretch/>
                </p:blipFill>
                <p:spPr>
                  <a:xfrm>
                    <a:off x="1676520" y="1752480"/>
                    <a:ext cx="5643360" cy="1817640"/>
                  </a:xfrm>
                  <a:prstGeom prst="rect">
                    <a:avLst/>
                  </a:prstGeom>
                  <a:ln w="0">
                    <a:noFill/>
                  </a:ln>
                </p:spPr>
              </p:pic>
            </p:oleObj>
          </a:graphicData>
        </a:graphic>
      </p:graphicFrame>
      <p:graphicFrame>
        <p:nvGraphicFramePr>
          <p:cNvPr id="886" name="Object 3"/>
          <p:cNvGraphicFramePr/>
          <p:nvPr/>
        </p:nvGraphicFramePr>
        <p:xfrm>
          <a:off x="3809880" y="1981080"/>
          <a:ext cx="5248440" cy="4648320"/>
        </p:xfrm>
        <a:graphic>
          <a:graphicData uri="http://schemas.openxmlformats.org/presentationml/2006/ole">
            <p:oleObj progId="Excel.Sheet.12" r:id="rId3" spid="">
              <p:embed/>
              <p:pic>
                <p:nvPicPr>
                  <p:cNvPr id="887" name="Object 3" descr=""/>
                  <p:cNvPicPr/>
                  <p:nvPr/>
                </p:nvPicPr>
                <p:blipFill>
                  <a:blip r:embed="rId4"/>
                  <a:stretch/>
                </p:blipFill>
                <p:spPr>
                  <a:xfrm>
                    <a:off x="3809880" y="1981080"/>
                    <a:ext cx="5248440" cy="4648320"/>
                  </a:xfrm>
                  <a:prstGeom prst="rect">
                    <a:avLst/>
                  </a:prstGeom>
                  <a:ln w="9360">
                    <a:solidFill>
                      <a:srgbClr val="000000"/>
                    </a:solidFill>
                    <a:miter/>
                  </a:ln>
                </p:spPr>
              </p:pic>
            </p:oleObj>
          </a:graphicData>
        </a:graphic>
      </p:graphicFrame>
    </p:spTree>
  </p:cSld>
  <p:transition spd="med">
    <p:cover dir="rd"/>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8">
                                  <p:stCondLst>
                                    <p:cond delay="0"/>
                                  </p:stCondLst>
                                  <p:childTnLst>
                                    <p:set>
                                      <p:cBhvr>
                                        <p:cTn id="122" dur="1" fill="hold">
                                          <p:stCondLst>
                                            <p:cond delay="0"/>
                                          </p:stCondLst>
                                        </p:cTn>
                                        <p:tgtEl>
                                          <p:spTgt spid="883"/>
                                        </p:tgtEl>
                                        <p:attrNameLst>
                                          <p:attrName>style.visibility</p:attrName>
                                        </p:attrNameLst>
                                      </p:cBhvr>
                                      <p:to>
                                        <p:strVal val="visible"/>
                                      </p:to>
                                    </p:set>
                                    <p:anim calcmode="lin" valueType="num">
                                      <p:cBhvr additive="base">
                                        <p:cTn id="123" dur="500" fill="hold"/>
                                        <p:tgtEl>
                                          <p:spTgt spid="883"/>
                                        </p:tgtEl>
                                        <p:attrNameLst>
                                          <p:attrName>ppt_x</p:attrName>
                                        </p:attrNameLst>
                                      </p:cBhvr>
                                      <p:tavLst>
                                        <p:tav tm="0">
                                          <p:val>
                                            <p:strVal val="0-#ppt_w/2"/>
                                          </p:val>
                                        </p:tav>
                                        <p:tav tm="100000">
                                          <p:val>
                                            <p:strVal val="#ppt_x"/>
                                          </p:val>
                                        </p:tav>
                                      </p:tavLst>
                                    </p:anim>
                                    <p:anim calcmode="lin" valueType="num">
                                      <p:cBhvr additive="base">
                                        <p:cTn id="124" dur="500" fill="hold"/>
                                        <p:tgtEl>
                                          <p:spTgt spid="8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89" name=""/>
          <p:cNvSpPr txBox="1"/>
          <p:nvPr/>
        </p:nvSpPr>
        <p:spPr>
          <a:xfrm>
            <a:off x="457200" y="1563840"/>
            <a:ext cx="8229600" cy="4760640"/>
          </a:xfrm>
          <a:prstGeom prst="rect">
            <a:avLst/>
          </a:prstGeom>
          <a:solidFill>
            <a:srgbClr val="fbe0d1"/>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As before, Colonial Heritage’s supplier of hardwood will only be able to supply 2,000 board feet this month. Assume the company follows the plan we have proposed. Up to how much should Colonial Heritage be willing to pay above the usual price to obtain more hardwood?</a:t>
            </a:r>
            <a:endParaRPr b="0" lang="en-US" sz="24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40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25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20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Zero</a:t>
            </a:r>
            <a:endParaRPr b="0" lang="en-US" sz="2400" spc="-1" strike="noStrike">
              <a:solidFill>
                <a:srgbClr val="da1f28"/>
              </a:solidFill>
              <a:latin typeface="Arial"/>
            </a:endParaRPr>
          </a:p>
        </p:txBody>
      </p:sp>
    </p:spTree>
  </p:cSld>
  <p:transition spd="med">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Quick Check </a:t>
            </a:r>
            <a:r>
              <a:rPr b="0" lang="en-US" sz="4000" spc="-1" strike="noStrike">
                <a:solidFill>
                  <a:srgbClr val="464646"/>
                </a:solidFill>
                <a:latin typeface="Wingdings"/>
                <a:ea typeface="Wingdings"/>
              </a:rPr>
              <a:t></a:t>
            </a:r>
            <a:endParaRPr b="0" lang="en-US" sz="4000" spc="-1" strike="noStrike">
              <a:solidFill>
                <a:srgbClr val="464646"/>
              </a:solidFill>
              <a:latin typeface="Arial"/>
            </a:endParaRPr>
          </a:p>
        </p:txBody>
      </p:sp>
      <p:sp>
        <p:nvSpPr>
          <p:cNvPr id="891" name=""/>
          <p:cNvSpPr txBox="1"/>
          <p:nvPr/>
        </p:nvSpPr>
        <p:spPr>
          <a:xfrm>
            <a:off x="457200" y="1563840"/>
            <a:ext cx="8229600" cy="4760640"/>
          </a:xfrm>
          <a:prstGeom prst="rect">
            <a:avLst/>
          </a:prstGeom>
          <a:solidFill>
            <a:srgbClr val="fbe0d1"/>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As before, Colonial Heritage’s supplier of hardwood will only be able to supply 2,000 board feet this month. Assume the company follows the plan we have proposed. Up to how much should Colonial Heritage be willing to pay above the usual price to obtain more hardwood?</a:t>
            </a:r>
            <a:endParaRPr b="0" lang="en-US" sz="2400" spc="-1" strike="noStrike">
              <a:solidFill>
                <a:srgbClr val="000000"/>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b5b5"/>
                </a:solidFill>
                <a:latin typeface="Arial"/>
              </a:rPr>
              <a:t>a. $40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b5b5"/>
                </a:solidFill>
                <a:latin typeface="Arial"/>
              </a:rPr>
              <a:t>b. $25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20 per board foot</a:t>
            </a:r>
            <a:endParaRPr b="0" lang="en-US" sz="2400" spc="-1" strike="noStrike">
              <a:solidFill>
                <a:srgbClr val="da1f28"/>
              </a:solidFill>
              <a:latin typeface="Arial"/>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b5b5"/>
                </a:solidFill>
                <a:latin typeface="Arial"/>
              </a:rPr>
              <a:t>d. Zero</a:t>
            </a:r>
            <a:endParaRPr b="0" lang="en-US" sz="2400" spc="-1" strike="noStrike">
              <a:solidFill>
                <a:srgbClr val="da1f28"/>
              </a:solidFill>
              <a:latin typeface="Arial"/>
            </a:endParaRPr>
          </a:p>
        </p:txBody>
      </p:sp>
      <p:sp>
        <p:nvSpPr>
          <p:cNvPr id="892" name="Text Box 4"/>
          <p:cNvSpPr/>
          <p:nvPr/>
        </p:nvSpPr>
        <p:spPr>
          <a:xfrm>
            <a:off x="504720" y="1600200"/>
            <a:ext cx="8153640" cy="2226960"/>
          </a:xfrm>
          <a:prstGeom prst="rect">
            <a:avLst/>
          </a:prstGeom>
          <a:solidFill>
            <a:srgbClr val="ebf7ff"/>
          </a:solidFill>
          <a:ln w="9360">
            <a:solidFill>
              <a:srgbClr val="464646"/>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he additional wood would be used to make tables. In this use, each board foot of additional wood will allow the company to earn an additional $20 of contribution margin and profit.</a:t>
            </a:r>
            <a:endParaRPr b="0" lang="en-US" sz="2800" spc="-1" strike="noStrike">
              <a:solidFill>
                <a:srgbClr val="000000"/>
              </a:solidFill>
              <a:latin typeface="Arial"/>
            </a:endParaRPr>
          </a:p>
        </p:txBody>
      </p:sp>
      <p:sp>
        <p:nvSpPr>
          <p:cNvPr id="893" name="Oval 5"/>
          <p:cNvSpPr/>
          <p:nvPr/>
        </p:nvSpPr>
        <p:spPr>
          <a:xfrm>
            <a:off x="762120" y="4648320"/>
            <a:ext cx="53316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8">
                                  <p:stCondLst>
                                    <p:cond delay="0"/>
                                  </p:stCondLst>
                                  <p:childTnLst>
                                    <p:set>
                                      <p:cBhvr>
                                        <p:cTn id="130" dur="1" fill="hold">
                                          <p:stCondLst>
                                            <p:cond delay="0"/>
                                          </p:stCondLst>
                                        </p:cTn>
                                        <p:tgtEl>
                                          <p:spTgt spid="893"/>
                                        </p:tgtEl>
                                        <p:attrNameLst>
                                          <p:attrName>style.visibility</p:attrName>
                                        </p:attrNameLst>
                                      </p:cBhvr>
                                      <p:to>
                                        <p:strVal val="visible"/>
                                      </p:to>
                                    </p:set>
                                    <p:anim calcmode="lin" valueType="num">
                                      <p:cBhvr additive="base">
                                        <p:cTn id="131" dur="500" fill="hold"/>
                                        <p:tgtEl>
                                          <p:spTgt spid="893"/>
                                        </p:tgtEl>
                                        <p:attrNameLst>
                                          <p:attrName>ppt_x</p:attrName>
                                        </p:attrNameLst>
                                      </p:cBhvr>
                                      <p:tavLst>
                                        <p:tav tm="0">
                                          <p:val>
                                            <p:strVal val="0-#ppt_w/2"/>
                                          </p:val>
                                        </p:tav>
                                        <p:tav tm="100000">
                                          <p:val>
                                            <p:strVal val="#ppt_x"/>
                                          </p:val>
                                        </p:tav>
                                      </p:tavLst>
                                    </p:anim>
                                    <p:anim calcmode="lin" valueType="num">
                                      <p:cBhvr additive="base">
                                        <p:cTn id="132"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Managing Constraints</a:t>
            </a:r>
            <a:endParaRPr b="0" lang="en-US" sz="4000" spc="-1" strike="noStrike">
              <a:solidFill>
                <a:srgbClr val="464646"/>
              </a:solidFill>
              <a:latin typeface="Arial"/>
            </a:endParaRPr>
          </a:p>
        </p:txBody>
      </p:sp>
      <p:sp>
        <p:nvSpPr>
          <p:cNvPr id="895" name="Rectangle 5"/>
          <p:cNvSpPr/>
          <p:nvPr/>
        </p:nvSpPr>
        <p:spPr>
          <a:xfrm>
            <a:off x="152280" y="1822320"/>
            <a:ext cx="8839440" cy="4110840"/>
          </a:xfrm>
          <a:prstGeom prst="rect">
            <a:avLst/>
          </a:prstGeom>
          <a:solidFill>
            <a:srgbClr val="ebf7ff"/>
          </a:solidFill>
          <a:ln w="12600">
            <a:solidFill>
              <a:srgbClr val="464646"/>
            </a:solidFill>
            <a:miter/>
          </a:ln>
        </p:spPr>
        <p:style>
          <a:lnRef idx="0"/>
          <a:fillRef idx="0"/>
          <a:effectRef idx="0"/>
          <a:fontRef idx="minor"/>
        </p:style>
        <p:txBody>
          <a:bodyPr lIns="90360" rIns="90360" tIns="44280" bIns="44280" anchor="t">
            <a:sp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It is often possible for a manager to increase the capacity of a bottleneck, which is called relaxing (or elevating) the constraint,   in numerous ways such as:</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Working overtime on the bottleneck.</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Subcontracting some of the processing that would be done  at the bottleneck. </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Investing in additional machines at the bottleneck.</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Shifting workers from non-bottleneck processes to the bottleneck.</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Focusing business process improvement efforts on the bottleneck. </a:t>
            </a:r>
            <a:endParaRPr b="0" lang="en-US" sz="2200" spc="-1" strike="noStrike">
              <a:solidFill>
                <a:srgbClr val="000000"/>
              </a:solidFill>
              <a:latin typeface="Arial"/>
            </a:endParaRPr>
          </a:p>
          <a:p>
            <a:pPr lvl="1" marL="679320" indent="-342720">
              <a:buClr>
                <a:srgbClr val="39639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639d"/>
                </a:solidFill>
                <a:latin typeface="Arial"/>
              </a:rPr>
              <a:t>Reducing defective units processed through the bottleneck.</a:t>
            </a:r>
            <a:endParaRPr b="0" lang="en-US" sz="2200" spc="-1" strike="noStrike">
              <a:solidFill>
                <a:srgbClr val="000000"/>
              </a:solidFill>
              <a:latin typeface="Arial"/>
            </a:endParaRPr>
          </a:p>
        </p:txBody>
      </p:sp>
    </p:spTree>
  </p:cSld>
  <p:transition>
    <p:cover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7</a:t>
            </a:r>
            <a:endParaRPr b="0" lang="en-US" sz="4000" spc="-1" strike="noStrike">
              <a:solidFill>
                <a:srgbClr val="464646"/>
              </a:solidFill>
              <a:latin typeface="Arial"/>
            </a:endParaRPr>
          </a:p>
        </p:txBody>
      </p:sp>
      <p:sp>
        <p:nvSpPr>
          <p:cNvPr id="897" name="Text Box 13"/>
          <p:cNvSpPr/>
          <p:nvPr/>
        </p:nvSpPr>
        <p:spPr>
          <a:xfrm>
            <a:off x="1905120" y="2057400"/>
            <a:ext cx="5333760" cy="268236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Prepare an analysis showing whether joint products should be sold at the split-off point or processed further.</a:t>
            </a:r>
            <a:endParaRPr b="0" lang="en-US" sz="3400" spc="-1" strike="noStrike">
              <a:solidFill>
                <a:srgbClr val="000000"/>
              </a:solidFill>
              <a:latin typeface="Arial"/>
            </a:endParaRP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Joint Costs</a:t>
            </a:r>
            <a:endParaRPr b="0" lang="en-US" sz="4000" spc="-1" strike="noStrike">
              <a:solidFill>
                <a:srgbClr val="464646"/>
              </a:solidFill>
              <a:latin typeface="Arial"/>
            </a:endParaRPr>
          </a:p>
        </p:txBody>
      </p:sp>
      <p:sp>
        <p:nvSpPr>
          <p:cNvPr id="899" name="PlaceHolder 2"/>
          <p:cNvSpPr>
            <a:spLocks noGrp="1"/>
          </p:cNvSpPr>
          <p:nvPr>
            <p:ph/>
          </p:nvPr>
        </p:nvSpPr>
        <p:spPr>
          <a:xfrm>
            <a:off x="609120" y="1447560"/>
            <a:ext cx="8001000" cy="4800600"/>
          </a:xfrm>
          <a:prstGeom prst="rect">
            <a:avLst/>
          </a:prstGeom>
          <a:solidFill>
            <a:srgbClr val="dadada"/>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industries, a number of end products are produced from a single raw material input.</a:t>
            </a:r>
            <a:endParaRPr b="0" lang="en-US" sz="32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products produced from a common input are called </a:t>
            </a:r>
            <a:r>
              <a:rPr b="0" lang="en-US" sz="3200" spc="-1" strike="noStrike">
                <a:solidFill>
                  <a:srgbClr val="0000cc"/>
                </a:solidFill>
                <a:latin typeface="Arial"/>
              </a:rPr>
              <a:t>joint products</a:t>
            </a:r>
            <a:r>
              <a:rPr b="0" lang="en-US" sz="3200" spc="-1" strike="noStrike">
                <a:solidFill>
                  <a:srgbClr val="0000cc"/>
                </a:solidFill>
                <a:latin typeface="Arial"/>
              </a:rPr>
              <a:t>.</a:t>
            </a:r>
            <a:endParaRPr b="0" lang="en-US" sz="32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int in the manufacturing process where each joint product can be recognized as a separate product is called the </a:t>
            </a:r>
            <a:r>
              <a:rPr b="0" lang="en-US" sz="3200" spc="-1" strike="noStrike">
                <a:solidFill>
                  <a:srgbClr val="0000cc"/>
                </a:solidFill>
                <a:latin typeface="Arial"/>
              </a:rPr>
              <a:t>split-off point</a:t>
            </a:r>
            <a:r>
              <a:rPr b="0" lang="en-US" sz="3200" spc="-1" strike="noStrike">
                <a:solidFill>
                  <a:srgbClr val="0000cc"/>
                </a:solidFill>
                <a:latin typeface="Arial"/>
              </a:rPr>
              <a:t>.</a:t>
            </a:r>
            <a:endParaRPr b="0" lang="en-US" sz="32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graphicFrame>
        <p:nvGraphicFramePr>
          <p:cNvPr id="129" name="Object 2"/>
          <p:cNvGraphicFramePr/>
          <p:nvPr/>
        </p:nvGraphicFramePr>
        <p:xfrm>
          <a:off x="2438280" y="4343400"/>
          <a:ext cx="6561360" cy="2351160"/>
        </p:xfrm>
        <a:graphic>
          <a:graphicData uri="http://schemas.openxmlformats.org/presentationml/2006/ole">
            <p:oleObj progId="Excel.Sheet.12" r:id="rId1" spid="">
              <p:embed/>
              <p:pic>
                <p:nvPicPr>
                  <p:cNvPr id="130" name="Object 2" descr=""/>
                  <p:cNvPicPr/>
                  <p:nvPr/>
                </p:nvPicPr>
                <p:blipFill>
                  <a:blip r:embed="rId2"/>
                  <a:stretch/>
                </p:blipFill>
                <p:spPr>
                  <a:xfrm>
                    <a:off x="2438280" y="4343400"/>
                    <a:ext cx="6561360" cy="2351160"/>
                  </a:xfrm>
                  <a:prstGeom prst="rect">
                    <a:avLst/>
                  </a:prstGeom>
                  <a:ln w="0">
                    <a:noFill/>
                  </a:ln>
                </p:spPr>
              </p:pic>
            </p:oleObj>
          </a:graphicData>
        </a:graphic>
      </p:graphicFrame>
      <p:graphicFrame>
        <p:nvGraphicFramePr>
          <p:cNvPr id="131" name="Object 4"/>
          <p:cNvGraphicFramePr/>
          <p:nvPr/>
        </p:nvGraphicFramePr>
        <p:xfrm>
          <a:off x="533520" y="1608120"/>
          <a:ext cx="6553080" cy="2365560"/>
        </p:xfrm>
        <a:graphic>
          <a:graphicData uri="http://schemas.openxmlformats.org/presentationml/2006/ole">
            <p:oleObj progId="Excel.Sheet.12" r:id="rId3" spid="">
              <p:embed/>
              <p:pic>
                <p:nvPicPr>
                  <p:cNvPr id="132" name="Object 4" descr=""/>
                  <p:cNvPicPr/>
                  <p:nvPr/>
                </p:nvPicPr>
                <p:blipFill>
                  <a:blip r:embed="rId4"/>
                  <a:stretch/>
                </p:blipFill>
                <p:spPr>
                  <a:xfrm>
                    <a:off x="533520" y="1608120"/>
                    <a:ext cx="6553080" cy="2365560"/>
                  </a:xfrm>
                  <a:prstGeom prst="rect">
                    <a:avLst/>
                  </a:prstGeom>
                  <a:ln w="0">
                    <a:noFill/>
                  </a:ln>
                </p:spPr>
              </p:pic>
            </p:oleObj>
          </a:graphicData>
        </a:graphic>
      </p:graphicFrame>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Joint Products</a:t>
            </a:r>
            <a:endParaRPr b="0" lang="en-US" sz="4000" spc="-1" strike="noStrike">
              <a:solidFill>
                <a:srgbClr val="464646"/>
              </a:solidFill>
              <a:latin typeface="Arial"/>
            </a:endParaRPr>
          </a:p>
        </p:txBody>
      </p:sp>
      <p:sp>
        <p:nvSpPr>
          <p:cNvPr id="901" name="Oval 3"/>
          <p:cNvSpPr/>
          <p:nvPr/>
        </p:nvSpPr>
        <p:spPr>
          <a:xfrm>
            <a:off x="393840" y="3184560"/>
            <a:ext cx="1346040" cy="812880"/>
          </a:xfrm>
          <a:prstGeom prst="ellipse">
            <a:avLst/>
          </a:prstGeom>
          <a:solidFill>
            <a:srgbClr val="ffff00"/>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4"/>
          <p:cNvSpPr/>
          <p:nvPr/>
        </p:nvSpPr>
        <p:spPr>
          <a:xfrm>
            <a:off x="692640" y="3241800"/>
            <a:ext cx="7470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J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put</a:t>
            </a:r>
            <a:endParaRPr b="0" lang="en-US" sz="2000" spc="-1" strike="noStrike">
              <a:solidFill>
                <a:srgbClr val="000000"/>
              </a:solidFill>
              <a:latin typeface="Arial"/>
            </a:endParaRPr>
          </a:p>
        </p:txBody>
      </p:sp>
      <p:sp>
        <p:nvSpPr>
          <p:cNvPr id="903" name="Rectangle 5"/>
          <p:cNvSpPr/>
          <p:nvPr/>
        </p:nvSpPr>
        <p:spPr>
          <a:xfrm>
            <a:off x="2196720" y="3105000"/>
            <a:ext cx="1398960" cy="1003680"/>
          </a:xfrm>
          <a:prstGeom prst="rect">
            <a:avLst/>
          </a:prstGeom>
          <a:solidFill>
            <a:srgbClr val="f9d1d3"/>
          </a:solidFill>
          <a:ln w="12600">
            <a:solidFill>
              <a:srgbClr val="0000cc"/>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p:txBody>
      </p:sp>
      <p:sp>
        <p:nvSpPr>
          <p:cNvPr id="904" name="Line 6"/>
          <p:cNvSpPr/>
          <p:nvPr/>
        </p:nvSpPr>
        <p:spPr>
          <a:xfrm>
            <a:off x="1758960" y="3606840"/>
            <a:ext cx="368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7"/>
          <p:cNvSpPr/>
          <p:nvPr/>
        </p:nvSpPr>
        <p:spPr>
          <a:xfrm flipV="1">
            <a:off x="3664080" y="2685960"/>
            <a:ext cx="672840" cy="927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Line 8"/>
          <p:cNvSpPr/>
          <p:nvPr/>
        </p:nvSpPr>
        <p:spPr>
          <a:xfrm>
            <a:off x="3664080" y="360684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9"/>
          <p:cNvSpPr/>
          <p:nvPr/>
        </p:nvSpPr>
        <p:spPr>
          <a:xfrm>
            <a:off x="3664080" y="3613320"/>
            <a:ext cx="749160" cy="90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Rectangle 10"/>
          <p:cNvSpPr/>
          <p:nvPr/>
        </p:nvSpPr>
        <p:spPr>
          <a:xfrm>
            <a:off x="2987640" y="5649840"/>
            <a:ext cx="1387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plit-Of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oint</a:t>
            </a:r>
            <a:endParaRPr b="0" lang="en-US" sz="2400" spc="-1" strike="noStrike">
              <a:solidFill>
                <a:srgbClr val="000000"/>
              </a:solidFill>
              <a:latin typeface="Arial"/>
            </a:endParaRPr>
          </a:p>
        </p:txBody>
      </p:sp>
      <p:sp>
        <p:nvSpPr>
          <p:cNvPr id="909" name="Line 11"/>
          <p:cNvSpPr/>
          <p:nvPr/>
        </p:nvSpPr>
        <p:spPr>
          <a:xfrm>
            <a:off x="3675240" y="3613320"/>
            <a:ext cx="0" cy="196848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0" name="Group 13"/>
          <p:cNvGrpSpPr/>
          <p:nvPr/>
        </p:nvGrpSpPr>
        <p:grpSpPr>
          <a:xfrm>
            <a:off x="457200" y="4064040"/>
            <a:ext cx="1217880" cy="2359800"/>
            <a:chOff x="457200" y="4064040"/>
            <a:chExt cx="1217880" cy="2359800"/>
          </a:xfrm>
        </p:grpSpPr>
        <p:sp>
          <p:nvSpPr>
            <p:cNvPr id="911" name="Oval 14"/>
            <p:cNvSpPr/>
            <p:nvPr/>
          </p:nvSpPr>
          <p:spPr>
            <a:xfrm>
              <a:off x="993600" y="5087880"/>
              <a:ext cx="59400" cy="16200"/>
            </a:xfrm>
            <a:prstGeom prst="ellipse">
              <a:avLst/>
            </a:prstGeom>
            <a:solidFill>
              <a:srgbClr val="40404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2" name="Group 15"/>
            <p:cNvGrpSpPr/>
            <p:nvPr/>
          </p:nvGrpSpPr>
          <p:grpSpPr>
            <a:xfrm>
              <a:off x="775080" y="5094720"/>
              <a:ext cx="465480" cy="1329120"/>
              <a:chOff x="775080" y="5094720"/>
              <a:chExt cx="465480" cy="1329120"/>
            </a:xfrm>
          </p:grpSpPr>
          <p:grpSp>
            <p:nvGrpSpPr>
              <p:cNvPr id="913" name="Group 16"/>
              <p:cNvGrpSpPr/>
              <p:nvPr/>
            </p:nvGrpSpPr>
            <p:grpSpPr>
              <a:xfrm>
                <a:off x="775080" y="5159880"/>
                <a:ext cx="465480" cy="1263960"/>
                <a:chOff x="775080" y="5159880"/>
                <a:chExt cx="465480" cy="1263960"/>
              </a:xfrm>
            </p:grpSpPr>
            <p:grpSp>
              <p:nvGrpSpPr>
                <p:cNvPr id="914" name="Group 17"/>
                <p:cNvGrpSpPr/>
                <p:nvPr/>
              </p:nvGrpSpPr>
              <p:grpSpPr>
                <a:xfrm>
                  <a:off x="807840" y="5277240"/>
                  <a:ext cx="406800" cy="1146600"/>
                  <a:chOff x="807840" y="5277240"/>
                  <a:chExt cx="406800" cy="1146600"/>
                </a:xfrm>
              </p:grpSpPr>
              <p:grpSp>
                <p:nvGrpSpPr>
                  <p:cNvPr id="915" name="Group 18"/>
                  <p:cNvGrpSpPr/>
                  <p:nvPr/>
                </p:nvGrpSpPr>
                <p:grpSpPr>
                  <a:xfrm>
                    <a:off x="840600" y="5347080"/>
                    <a:ext cx="246240" cy="502920"/>
                    <a:chOff x="840600" y="5347080"/>
                    <a:chExt cx="246240" cy="502920"/>
                  </a:xfrm>
                </p:grpSpPr>
                <p:sp>
                  <p:nvSpPr>
                    <p:cNvPr id="916" name="Freeform 19"/>
                    <p:cNvSpPr/>
                    <p:nvPr/>
                  </p:nvSpPr>
                  <p:spPr>
                    <a:xfrm>
                      <a:off x="840600" y="5347080"/>
                      <a:ext cx="239760" cy="500760"/>
                    </a:xfrm>
                    <a:custGeom>
                      <a:avLst/>
                      <a:gdLst>
                        <a:gd name="textAreaLeft" fmla="*/ 0 w 239760"/>
                        <a:gd name="textAreaRight" fmla="*/ 240120 w 239760"/>
                        <a:gd name="textAreaTop" fmla="*/ 0 h 500760"/>
                        <a:gd name="textAreaBottom" fmla="*/ 501120 h 500760"/>
                      </a:gdLst>
                      <a:ahLst/>
                      <a:rect l="textAreaLeft" t="textAreaTop" r="textAreaRight" b="textAreaBottom"/>
                      <a:pathLst>
                        <a:path w="433" h="859">
                          <a:moveTo>
                            <a:pt x="428" y="0"/>
                          </a:moveTo>
                          <a:lnTo>
                            <a:pt x="4" y="735"/>
                          </a:lnTo>
                          <a:lnTo>
                            <a:pt x="0" y="859"/>
                          </a:lnTo>
                          <a:lnTo>
                            <a:pt x="433" y="106"/>
                          </a:lnTo>
                          <a:lnTo>
                            <a:pt x="428"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20"/>
                    <p:cNvSpPr/>
                    <p:nvPr/>
                  </p:nvSpPr>
                  <p:spPr>
                    <a:xfrm>
                      <a:off x="840600" y="5403240"/>
                      <a:ext cx="246240" cy="446760"/>
                    </a:xfrm>
                    <a:custGeom>
                      <a:avLst/>
                      <a:gdLst>
                        <a:gd name="textAreaLeft" fmla="*/ 0 w 246240"/>
                        <a:gd name="textAreaRight" fmla="*/ 246600 w 246240"/>
                        <a:gd name="textAreaTop" fmla="*/ 0 h 446760"/>
                        <a:gd name="textAreaBottom" fmla="*/ 447120 h 446760"/>
                      </a:gdLst>
                      <a:ahLst/>
                      <a:rect l="textAreaLeft" t="textAreaTop" r="textAreaRight" b="textAreaBottom"/>
                      <a:pathLst>
                        <a:path w="447" h="764">
                          <a:moveTo>
                            <a:pt x="17" y="749"/>
                          </a:moveTo>
                          <a:lnTo>
                            <a:pt x="0" y="764"/>
                          </a:lnTo>
                          <a:lnTo>
                            <a:pt x="435" y="5"/>
                          </a:lnTo>
                          <a:lnTo>
                            <a:pt x="447" y="0"/>
                          </a:lnTo>
                          <a:lnTo>
                            <a:pt x="17" y="74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Group 21"/>
                  <p:cNvGrpSpPr/>
                  <p:nvPr/>
                </p:nvGrpSpPr>
                <p:grpSpPr>
                  <a:xfrm>
                    <a:off x="1111320" y="5855400"/>
                    <a:ext cx="103320" cy="469440"/>
                    <a:chOff x="1111320" y="5855400"/>
                    <a:chExt cx="103320" cy="469440"/>
                  </a:xfrm>
                </p:grpSpPr>
                <p:sp>
                  <p:nvSpPr>
                    <p:cNvPr id="919" name="Freeform 22"/>
                    <p:cNvSpPr/>
                    <p:nvPr/>
                  </p:nvSpPr>
                  <p:spPr>
                    <a:xfrm>
                      <a:off x="1113480" y="5855400"/>
                      <a:ext cx="100800" cy="465480"/>
                    </a:xfrm>
                    <a:custGeom>
                      <a:avLst/>
                      <a:gdLst>
                        <a:gd name="textAreaLeft" fmla="*/ 0 w 100800"/>
                        <a:gd name="textAreaRight" fmla="*/ 101160 w 100800"/>
                        <a:gd name="textAreaTop" fmla="*/ 0 h 465480"/>
                        <a:gd name="textAreaBottom" fmla="*/ 465840 h 465480"/>
                      </a:gdLst>
                      <a:ahLst/>
                      <a:rect l="textAreaLeft" t="textAreaTop" r="textAreaRight" b="textAreaBottom"/>
                      <a:pathLst>
                        <a:path w="182" h="796">
                          <a:moveTo>
                            <a:pt x="182" y="796"/>
                          </a:moveTo>
                          <a:lnTo>
                            <a:pt x="176" y="652"/>
                          </a:lnTo>
                          <a:lnTo>
                            <a:pt x="0" y="0"/>
                          </a:lnTo>
                          <a:lnTo>
                            <a:pt x="6" y="152"/>
                          </a:lnTo>
                          <a:lnTo>
                            <a:pt x="182" y="796"/>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23"/>
                    <p:cNvSpPr/>
                    <p:nvPr/>
                  </p:nvSpPr>
                  <p:spPr>
                    <a:xfrm>
                      <a:off x="1111320" y="5944320"/>
                      <a:ext cx="103320" cy="380520"/>
                    </a:xfrm>
                    <a:custGeom>
                      <a:avLst/>
                      <a:gdLst>
                        <a:gd name="textAreaLeft" fmla="*/ 0 w 103320"/>
                        <a:gd name="textAreaRight" fmla="*/ 103680 w 103320"/>
                        <a:gd name="textAreaTop" fmla="*/ 0 h 380520"/>
                        <a:gd name="textAreaBottom" fmla="*/ 380880 h 380520"/>
                      </a:gdLst>
                      <a:ahLst/>
                      <a:rect l="textAreaLeft" t="textAreaTop" r="textAreaRight" b="textAreaBottom"/>
                      <a:pathLst>
                        <a:path w="188" h="652">
                          <a:moveTo>
                            <a:pt x="188" y="639"/>
                          </a:moveTo>
                          <a:lnTo>
                            <a:pt x="175" y="652"/>
                          </a:lnTo>
                          <a:lnTo>
                            <a:pt x="0" y="9"/>
                          </a:lnTo>
                          <a:lnTo>
                            <a:pt x="11" y="0"/>
                          </a:lnTo>
                          <a:lnTo>
                            <a:pt x="188" y="63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1" name="Freeform 24"/>
                  <p:cNvSpPr/>
                  <p:nvPr/>
                </p:nvSpPr>
                <p:spPr>
                  <a:xfrm>
                    <a:off x="1109520" y="5288760"/>
                    <a:ext cx="50400" cy="545040"/>
                  </a:xfrm>
                  <a:custGeom>
                    <a:avLst/>
                    <a:gdLst>
                      <a:gd name="textAreaLeft" fmla="*/ 0 w 50400"/>
                      <a:gd name="textAreaRight" fmla="*/ 50760 w 50400"/>
                      <a:gd name="textAreaTop" fmla="*/ 0 h 545040"/>
                      <a:gd name="textAreaBottom" fmla="*/ 545400 h 545040"/>
                    </a:gdLst>
                    <a:ahLst/>
                    <a:rect l="textAreaLeft" t="textAreaTop" r="textAreaRight" b="textAreaBottom"/>
                    <a:pathLst>
                      <a:path w="89" h="932">
                        <a:moveTo>
                          <a:pt x="81" y="0"/>
                        </a:moveTo>
                        <a:lnTo>
                          <a:pt x="0" y="779"/>
                        </a:lnTo>
                        <a:lnTo>
                          <a:pt x="16" y="932"/>
                        </a:lnTo>
                        <a:lnTo>
                          <a:pt x="89" y="200"/>
                        </a:lnTo>
                        <a:lnTo>
                          <a:pt x="81"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25"/>
                  <p:cNvSpPr/>
                  <p:nvPr/>
                </p:nvSpPr>
                <p:spPr>
                  <a:xfrm>
                    <a:off x="1104840" y="5288760"/>
                    <a:ext cx="50400" cy="456480"/>
                  </a:xfrm>
                  <a:custGeom>
                    <a:avLst/>
                    <a:gdLst>
                      <a:gd name="textAreaLeft" fmla="*/ 0 w 50400"/>
                      <a:gd name="textAreaRight" fmla="*/ 50760 w 50400"/>
                      <a:gd name="textAreaTop" fmla="*/ 0 h 456480"/>
                      <a:gd name="textAreaBottom" fmla="*/ 456840 h 456480"/>
                    </a:gdLst>
                    <a:ahLst/>
                    <a:rect l="textAreaLeft" t="textAreaTop" r="textAreaRight" b="textAreaBottom"/>
                    <a:pathLst>
                      <a:path w="94" h="781">
                        <a:moveTo>
                          <a:pt x="94" y="0"/>
                        </a:moveTo>
                        <a:lnTo>
                          <a:pt x="82" y="13"/>
                        </a:lnTo>
                        <a:lnTo>
                          <a:pt x="0" y="781"/>
                        </a:lnTo>
                        <a:lnTo>
                          <a:pt x="12" y="779"/>
                        </a:lnTo>
                        <a:lnTo>
                          <a:pt x="94"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26"/>
                  <p:cNvSpPr/>
                  <p:nvPr/>
                </p:nvSpPr>
                <p:spPr>
                  <a:xfrm>
                    <a:off x="1135800" y="5766480"/>
                    <a:ext cx="50400" cy="598680"/>
                  </a:xfrm>
                  <a:custGeom>
                    <a:avLst/>
                    <a:gdLst>
                      <a:gd name="textAreaLeft" fmla="*/ 0 w 50400"/>
                      <a:gd name="textAreaRight" fmla="*/ 50760 w 50400"/>
                      <a:gd name="textAreaTop" fmla="*/ 0 h 598680"/>
                      <a:gd name="textAreaBottom" fmla="*/ 599040 h 598680"/>
                    </a:gdLst>
                    <a:ahLst/>
                    <a:rect l="textAreaLeft" t="textAreaTop" r="textAreaRight" b="textAreaBottom"/>
                    <a:pathLst>
                      <a:path w="95" h="1025">
                        <a:moveTo>
                          <a:pt x="81" y="0"/>
                        </a:moveTo>
                        <a:lnTo>
                          <a:pt x="0" y="866"/>
                        </a:lnTo>
                        <a:lnTo>
                          <a:pt x="19" y="1025"/>
                        </a:lnTo>
                        <a:lnTo>
                          <a:pt x="95" y="176"/>
                        </a:lnTo>
                        <a:lnTo>
                          <a:pt x="81"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27"/>
                  <p:cNvSpPr/>
                  <p:nvPr/>
                </p:nvSpPr>
                <p:spPr>
                  <a:xfrm>
                    <a:off x="1129320" y="5766480"/>
                    <a:ext cx="50400" cy="519120"/>
                  </a:xfrm>
                  <a:custGeom>
                    <a:avLst/>
                    <a:gdLst>
                      <a:gd name="textAreaLeft" fmla="*/ 0 w 50400"/>
                      <a:gd name="textAreaRight" fmla="*/ 50760 w 50400"/>
                      <a:gd name="textAreaTop" fmla="*/ 0 h 519120"/>
                      <a:gd name="textAreaBottom" fmla="*/ 519480 h 519120"/>
                    </a:gdLst>
                    <a:ahLst/>
                    <a:rect l="textAreaLeft" t="textAreaTop" r="textAreaRight" b="textAreaBottom"/>
                    <a:pathLst>
                      <a:path w="92" h="887">
                        <a:moveTo>
                          <a:pt x="92" y="0"/>
                        </a:moveTo>
                        <a:lnTo>
                          <a:pt x="78" y="18"/>
                        </a:lnTo>
                        <a:lnTo>
                          <a:pt x="0" y="881"/>
                        </a:lnTo>
                        <a:lnTo>
                          <a:pt x="14" y="887"/>
                        </a:lnTo>
                        <a:lnTo>
                          <a:pt x="92"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28"/>
                  <p:cNvSpPr/>
                  <p:nvPr/>
                </p:nvSpPr>
                <p:spPr>
                  <a:xfrm>
                    <a:off x="1094040" y="5452920"/>
                    <a:ext cx="92160" cy="311040"/>
                  </a:xfrm>
                  <a:custGeom>
                    <a:avLst/>
                    <a:gdLst>
                      <a:gd name="textAreaLeft" fmla="*/ 0 w 92160"/>
                      <a:gd name="textAreaRight" fmla="*/ 92520 w 92160"/>
                      <a:gd name="textAreaTop" fmla="*/ 0 h 311040"/>
                      <a:gd name="textAreaBottom" fmla="*/ 311400 h 311040"/>
                    </a:gdLst>
                    <a:ahLst/>
                    <a:rect l="textAreaLeft" t="textAreaTop" r="textAreaRight" b="textAreaBottom"/>
                    <a:pathLst>
                      <a:path w="169" h="532">
                        <a:moveTo>
                          <a:pt x="11" y="0"/>
                        </a:moveTo>
                        <a:lnTo>
                          <a:pt x="0" y="9"/>
                        </a:lnTo>
                        <a:lnTo>
                          <a:pt x="161" y="532"/>
                        </a:lnTo>
                        <a:lnTo>
                          <a:pt x="169" y="520"/>
                        </a:lnTo>
                        <a:lnTo>
                          <a:pt x="11"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29"/>
                  <p:cNvSpPr/>
                  <p:nvPr/>
                </p:nvSpPr>
                <p:spPr>
                  <a:xfrm>
                    <a:off x="1094040" y="5358960"/>
                    <a:ext cx="94680" cy="400320"/>
                  </a:xfrm>
                  <a:custGeom>
                    <a:avLst/>
                    <a:gdLst>
                      <a:gd name="textAreaLeft" fmla="*/ 0 w 94680"/>
                      <a:gd name="textAreaRight" fmla="*/ 95040 w 94680"/>
                      <a:gd name="textAreaTop" fmla="*/ 0 h 400320"/>
                      <a:gd name="textAreaBottom" fmla="*/ 400680 h 400320"/>
                    </a:gdLst>
                    <a:ahLst/>
                    <a:rect l="textAreaLeft" t="textAreaTop" r="textAreaRight" b="textAreaBottom"/>
                    <a:pathLst>
                      <a:path w="170" h="683">
                        <a:moveTo>
                          <a:pt x="170" y="683"/>
                        </a:moveTo>
                        <a:lnTo>
                          <a:pt x="155" y="537"/>
                        </a:lnTo>
                        <a:lnTo>
                          <a:pt x="0" y="0"/>
                        </a:lnTo>
                        <a:lnTo>
                          <a:pt x="8" y="158"/>
                        </a:lnTo>
                        <a:lnTo>
                          <a:pt x="170" y="683"/>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30"/>
                  <p:cNvSpPr/>
                  <p:nvPr/>
                </p:nvSpPr>
                <p:spPr>
                  <a:xfrm>
                    <a:off x="1094040" y="5455080"/>
                    <a:ext cx="92160" cy="308880"/>
                  </a:xfrm>
                  <a:custGeom>
                    <a:avLst/>
                    <a:gdLst>
                      <a:gd name="textAreaLeft" fmla="*/ 0 w 92160"/>
                      <a:gd name="textAreaRight" fmla="*/ 92520 w 92160"/>
                      <a:gd name="textAreaTop" fmla="*/ 0 h 308880"/>
                      <a:gd name="textAreaBottom" fmla="*/ 309240 h 308880"/>
                    </a:gdLst>
                    <a:ahLst/>
                    <a:rect l="textAreaLeft" t="textAreaTop" r="textAreaRight" b="textAreaBottom"/>
                    <a:pathLst>
                      <a:path w="168" h="531">
                        <a:moveTo>
                          <a:pt x="168" y="508"/>
                        </a:moveTo>
                        <a:lnTo>
                          <a:pt x="158" y="531"/>
                        </a:lnTo>
                        <a:lnTo>
                          <a:pt x="0" y="7"/>
                        </a:lnTo>
                        <a:lnTo>
                          <a:pt x="13" y="0"/>
                        </a:lnTo>
                        <a:lnTo>
                          <a:pt x="168" y="508"/>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31"/>
                  <p:cNvSpPr/>
                  <p:nvPr/>
                </p:nvSpPr>
                <p:spPr>
                  <a:xfrm>
                    <a:off x="836280" y="5850720"/>
                    <a:ext cx="290520" cy="550440"/>
                  </a:xfrm>
                  <a:custGeom>
                    <a:avLst/>
                    <a:gdLst>
                      <a:gd name="textAreaLeft" fmla="*/ 0 w 290520"/>
                      <a:gd name="textAreaRight" fmla="*/ 290880 w 290520"/>
                      <a:gd name="textAreaTop" fmla="*/ 0 h 550440"/>
                      <a:gd name="textAreaBottom" fmla="*/ 550800 h 550440"/>
                    </a:gdLst>
                    <a:ahLst/>
                    <a:rect l="textAreaLeft" t="textAreaTop" r="textAreaRight" b="textAreaBottom"/>
                    <a:pathLst>
                      <a:path w="527" h="939">
                        <a:moveTo>
                          <a:pt x="5" y="0"/>
                        </a:moveTo>
                        <a:lnTo>
                          <a:pt x="514" y="814"/>
                        </a:lnTo>
                        <a:lnTo>
                          <a:pt x="527" y="939"/>
                        </a:lnTo>
                        <a:lnTo>
                          <a:pt x="0" y="104"/>
                        </a:lnTo>
                        <a:lnTo>
                          <a:pt x="5"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32"/>
                  <p:cNvSpPr/>
                  <p:nvPr/>
                </p:nvSpPr>
                <p:spPr>
                  <a:xfrm>
                    <a:off x="840600" y="5843520"/>
                    <a:ext cx="281520" cy="484560"/>
                  </a:xfrm>
                  <a:custGeom>
                    <a:avLst/>
                    <a:gdLst>
                      <a:gd name="textAreaLeft" fmla="*/ 0 w 281520"/>
                      <a:gd name="textAreaRight" fmla="*/ 281880 w 281520"/>
                      <a:gd name="textAreaTop" fmla="*/ 0 h 484560"/>
                      <a:gd name="textAreaBottom" fmla="*/ 484920 h 484560"/>
                    </a:gdLst>
                    <a:ahLst/>
                    <a:rect l="textAreaLeft" t="textAreaTop" r="textAreaRight" b="textAreaBottom"/>
                    <a:pathLst>
                      <a:path w="513" h="824">
                        <a:moveTo>
                          <a:pt x="513" y="802"/>
                        </a:moveTo>
                        <a:lnTo>
                          <a:pt x="507" y="824"/>
                        </a:lnTo>
                        <a:lnTo>
                          <a:pt x="0" y="11"/>
                        </a:lnTo>
                        <a:lnTo>
                          <a:pt x="12" y="0"/>
                        </a:lnTo>
                        <a:lnTo>
                          <a:pt x="513" y="802"/>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33"/>
                  <p:cNvSpPr/>
                  <p:nvPr/>
                </p:nvSpPr>
                <p:spPr>
                  <a:xfrm>
                    <a:off x="820800" y="5841360"/>
                    <a:ext cx="277560" cy="488880"/>
                  </a:xfrm>
                  <a:custGeom>
                    <a:avLst/>
                    <a:gdLst>
                      <a:gd name="textAreaLeft" fmla="*/ 0 w 277560"/>
                      <a:gd name="textAreaRight" fmla="*/ 277920 w 277560"/>
                      <a:gd name="textAreaTop" fmla="*/ 0 h 488880"/>
                      <a:gd name="textAreaBottom" fmla="*/ 489240 h 488880"/>
                    </a:gdLst>
                    <a:ahLst/>
                    <a:rect l="textAreaLeft" t="textAreaTop" r="textAreaRight" b="textAreaBottom"/>
                    <a:pathLst>
                      <a:path w="504" h="836">
                        <a:moveTo>
                          <a:pt x="504" y="0"/>
                        </a:moveTo>
                        <a:lnTo>
                          <a:pt x="503" y="21"/>
                        </a:lnTo>
                        <a:lnTo>
                          <a:pt x="0" y="836"/>
                        </a:lnTo>
                        <a:lnTo>
                          <a:pt x="5" y="811"/>
                        </a:lnTo>
                        <a:lnTo>
                          <a:pt x="5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34"/>
                  <p:cNvGrpSpPr/>
                  <p:nvPr/>
                </p:nvGrpSpPr>
                <p:grpSpPr>
                  <a:xfrm>
                    <a:off x="858240" y="5342400"/>
                    <a:ext cx="239760" cy="510120"/>
                    <a:chOff x="858240" y="5342400"/>
                    <a:chExt cx="239760" cy="510120"/>
                  </a:xfrm>
                </p:grpSpPr>
                <p:sp>
                  <p:nvSpPr>
                    <p:cNvPr id="932" name="Freeform 35"/>
                    <p:cNvSpPr/>
                    <p:nvPr/>
                  </p:nvSpPr>
                  <p:spPr>
                    <a:xfrm>
                      <a:off x="858240" y="5342400"/>
                      <a:ext cx="237240" cy="432720"/>
                    </a:xfrm>
                    <a:custGeom>
                      <a:avLst/>
                      <a:gdLst>
                        <a:gd name="textAreaLeft" fmla="*/ 0 w 237240"/>
                        <a:gd name="textAreaRight" fmla="*/ 237600 w 237240"/>
                        <a:gd name="textAreaTop" fmla="*/ 0 h 432720"/>
                        <a:gd name="textAreaBottom" fmla="*/ 433080 h 432720"/>
                      </a:gdLst>
                      <a:ahLst/>
                      <a:rect l="textAreaLeft" t="textAreaTop" r="textAreaRight" b="textAreaBottom"/>
                      <a:pathLst>
                        <a:path w="432" h="740">
                          <a:moveTo>
                            <a:pt x="7" y="0"/>
                          </a:moveTo>
                          <a:lnTo>
                            <a:pt x="0" y="9"/>
                          </a:lnTo>
                          <a:lnTo>
                            <a:pt x="425" y="740"/>
                          </a:lnTo>
                          <a:lnTo>
                            <a:pt x="432" y="730"/>
                          </a:lnTo>
                          <a:lnTo>
                            <a:pt x="7"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36"/>
                    <p:cNvSpPr/>
                    <p:nvPr/>
                  </p:nvSpPr>
                  <p:spPr>
                    <a:xfrm>
                      <a:off x="858240" y="5347080"/>
                      <a:ext cx="239760" cy="505440"/>
                    </a:xfrm>
                    <a:custGeom>
                      <a:avLst/>
                      <a:gdLst>
                        <a:gd name="textAreaLeft" fmla="*/ 0 w 239760"/>
                        <a:gd name="textAreaRight" fmla="*/ 240120 w 239760"/>
                        <a:gd name="textAreaTop" fmla="*/ 0 h 505440"/>
                        <a:gd name="textAreaBottom" fmla="*/ 505800 h 505440"/>
                      </a:gdLst>
                      <a:ahLst/>
                      <a:rect l="textAreaLeft" t="textAreaTop" r="textAreaRight" b="textAreaBottom"/>
                      <a:pathLst>
                        <a:path w="438" h="862">
                          <a:moveTo>
                            <a:pt x="2" y="0"/>
                          </a:moveTo>
                          <a:lnTo>
                            <a:pt x="427" y="731"/>
                          </a:lnTo>
                          <a:lnTo>
                            <a:pt x="438" y="862"/>
                          </a:lnTo>
                          <a:lnTo>
                            <a:pt x="0" y="104"/>
                          </a:lnTo>
                          <a:lnTo>
                            <a:pt x="2"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4" name="Freeform 37"/>
                  <p:cNvSpPr/>
                  <p:nvPr/>
                </p:nvSpPr>
                <p:spPr>
                  <a:xfrm>
                    <a:off x="818640" y="5850720"/>
                    <a:ext cx="286200" cy="550440"/>
                  </a:xfrm>
                  <a:custGeom>
                    <a:avLst/>
                    <a:gdLst>
                      <a:gd name="textAreaLeft" fmla="*/ 0 w 286200"/>
                      <a:gd name="textAreaRight" fmla="*/ 286560 w 286200"/>
                      <a:gd name="textAreaTop" fmla="*/ 0 h 550440"/>
                      <a:gd name="textAreaBottom" fmla="*/ 550800 h 550440"/>
                    </a:gdLst>
                    <a:ahLst/>
                    <a:rect l="textAreaLeft" t="textAreaTop" r="textAreaRight" b="textAreaBottom"/>
                    <a:pathLst>
                      <a:path w="516" h="938">
                        <a:moveTo>
                          <a:pt x="507" y="0"/>
                        </a:moveTo>
                        <a:lnTo>
                          <a:pt x="3" y="820"/>
                        </a:lnTo>
                        <a:lnTo>
                          <a:pt x="0" y="938"/>
                        </a:lnTo>
                        <a:lnTo>
                          <a:pt x="516" y="100"/>
                        </a:lnTo>
                        <a:lnTo>
                          <a:pt x="507"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38"/>
                  <p:cNvSpPr/>
                  <p:nvPr/>
                </p:nvSpPr>
                <p:spPr>
                  <a:xfrm>
                    <a:off x="816120" y="5845680"/>
                    <a:ext cx="282240" cy="487440"/>
                  </a:xfrm>
                  <a:custGeom>
                    <a:avLst/>
                    <a:gdLst>
                      <a:gd name="textAreaLeft" fmla="*/ 0 w 282240"/>
                      <a:gd name="textAreaRight" fmla="*/ 282600 w 282240"/>
                      <a:gd name="textAreaTop" fmla="*/ 0 h 487440"/>
                      <a:gd name="textAreaBottom" fmla="*/ 487800 h 487440"/>
                    </a:gdLst>
                    <a:ahLst/>
                    <a:rect l="textAreaLeft" t="textAreaTop" r="textAreaRight" b="textAreaBottom"/>
                    <a:pathLst>
                      <a:path w="512" h="833">
                        <a:moveTo>
                          <a:pt x="512" y="17"/>
                        </a:moveTo>
                        <a:lnTo>
                          <a:pt x="501" y="0"/>
                        </a:lnTo>
                        <a:lnTo>
                          <a:pt x="0" y="814"/>
                        </a:lnTo>
                        <a:lnTo>
                          <a:pt x="5" y="833"/>
                        </a:lnTo>
                        <a:lnTo>
                          <a:pt x="512" y="17"/>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39"/>
                  <p:cNvGrpSpPr/>
                  <p:nvPr/>
                </p:nvGrpSpPr>
                <p:grpSpPr>
                  <a:xfrm>
                    <a:off x="1073880" y="5286600"/>
                    <a:ext cx="78480" cy="1130040"/>
                    <a:chOff x="1073880" y="5286600"/>
                    <a:chExt cx="78480" cy="1130040"/>
                  </a:xfrm>
                </p:grpSpPr>
                <p:sp>
                  <p:nvSpPr>
                    <p:cNvPr id="937" name="Freeform 40"/>
                    <p:cNvSpPr/>
                    <p:nvPr/>
                  </p:nvSpPr>
                  <p:spPr>
                    <a:xfrm>
                      <a:off x="1073880" y="5298120"/>
                      <a:ext cx="55080" cy="1118520"/>
                    </a:xfrm>
                    <a:custGeom>
                      <a:avLst/>
                      <a:gdLst>
                        <a:gd name="textAreaLeft" fmla="*/ 0 w 55080"/>
                        <a:gd name="textAreaRight" fmla="*/ 55440 w 55080"/>
                        <a:gd name="textAreaTop" fmla="*/ 0 h 1118520"/>
                        <a:gd name="textAreaBottom" fmla="*/ 1118880 h 1118520"/>
                      </a:gdLst>
                      <a:ahLst/>
                      <a:rect l="textAreaLeft" t="textAreaTop" r="textAreaRight" b="textAreaBottom"/>
                      <a:pathLst>
                        <a:path w="102" h="1913">
                          <a:moveTo>
                            <a:pt x="36" y="0"/>
                          </a:moveTo>
                          <a:lnTo>
                            <a:pt x="102" y="1913"/>
                          </a:lnTo>
                          <a:lnTo>
                            <a:pt x="67" y="1913"/>
                          </a:lnTo>
                          <a:lnTo>
                            <a:pt x="0" y="0"/>
                          </a:lnTo>
                          <a:lnTo>
                            <a:pt x="36"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41"/>
                    <p:cNvSpPr/>
                    <p:nvPr/>
                  </p:nvSpPr>
                  <p:spPr>
                    <a:xfrm>
                      <a:off x="1089000" y="5286600"/>
                      <a:ext cx="63360" cy="1130040"/>
                    </a:xfrm>
                    <a:custGeom>
                      <a:avLst/>
                      <a:gdLst>
                        <a:gd name="textAreaLeft" fmla="*/ 0 w 63360"/>
                        <a:gd name="textAreaRight" fmla="*/ 63720 w 63360"/>
                        <a:gd name="textAreaTop" fmla="*/ 0 h 1130040"/>
                        <a:gd name="textAreaBottom" fmla="*/ 1130400 h 1130040"/>
                      </a:gdLst>
                      <a:ahLst/>
                      <a:rect l="textAreaLeft" t="textAreaTop" r="textAreaRight" b="textAreaBottom"/>
                      <a:pathLst>
                        <a:path w="116" h="1931">
                          <a:moveTo>
                            <a:pt x="49" y="0"/>
                          </a:moveTo>
                          <a:lnTo>
                            <a:pt x="116" y="1931"/>
                          </a:lnTo>
                          <a:lnTo>
                            <a:pt x="65" y="1931"/>
                          </a:lnTo>
                          <a:lnTo>
                            <a:pt x="0" y="0"/>
                          </a:lnTo>
                          <a:lnTo>
                            <a:pt x="49"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9" name="Group 42"/>
                  <p:cNvGrpSpPr/>
                  <p:nvPr/>
                </p:nvGrpSpPr>
                <p:grpSpPr>
                  <a:xfrm>
                    <a:off x="992520" y="5340240"/>
                    <a:ext cx="59040" cy="1083600"/>
                    <a:chOff x="992520" y="5340240"/>
                    <a:chExt cx="59040" cy="1083600"/>
                  </a:xfrm>
                </p:grpSpPr>
                <p:sp>
                  <p:nvSpPr>
                    <p:cNvPr id="940" name="Freeform 43"/>
                    <p:cNvSpPr/>
                    <p:nvPr/>
                  </p:nvSpPr>
                  <p:spPr>
                    <a:xfrm>
                      <a:off x="992520" y="5340240"/>
                      <a:ext cx="59040" cy="1083600"/>
                    </a:xfrm>
                    <a:custGeom>
                      <a:avLst/>
                      <a:gdLst>
                        <a:gd name="textAreaLeft" fmla="*/ 0 w 59040"/>
                        <a:gd name="textAreaRight" fmla="*/ 59400 w 59040"/>
                        <a:gd name="textAreaTop" fmla="*/ 0 h 1083600"/>
                        <a:gd name="textAreaBottom" fmla="*/ 1083960 h 1083600"/>
                      </a:gdLst>
                      <a:ahLst/>
                      <a:rect l="textAreaLeft" t="textAreaTop" r="textAreaRight" b="textAreaBottom"/>
                      <a:pathLst>
                        <a:path w="109" h="1856">
                          <a:moveTo>
                            <a:pt x="0" y="1856"/>
                          </a:moveTo>
                          <a:lnTo>
                            <a:pt x="109" y="1856"/>
                          </a:lnTo>
                          <a:lnTo>
                            <a:pt x="109" y="0"/>
                          </a:lnTo>
                          <a:lnTo>
                            <a:pt x="1" y="0"/>
                          </a:lnTo>
                          <a:lnTo>
                            <a:pt x="0" y="1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44"/>
                    <p:cNvSpPr/>
                    <p:nvPr/>
                  </p:nvSpPr>
                  <p:spPr>
                    <a:xfrm>
                      <a:off x="1001160" y="5340240"/>
                      <a:ext cx="12600" cy="1083600"/>
                    </a:xfrm>
                    <a:custGeom>
                      <a:avLst/>
                      <a:gdLst>
                        <a:gd name="textAreaLeft" fmla="*/ 0 w 12600"/>
                        <a:gd name="textAreaRight" fmla="*/ 12960 w 12600"/>
                        <a:gd name="textAreaTop" fmla="*/ 0 h 1083600"/>
                        <a:gd name="textAreaBottom" fmla="*/ 1083960 h 1083600"/>
                      </a:gdLst>
                      <a:ahLst/>
                      <a:rect l="textAreaLeft" t="textAreaTop" r="textAreaRight" b="textAreaBottom"/>
                      <a:pathLst>
                        <a:path w="21" h="1852">
                          <a:moveTo>
                            <a:pt x="0" y="10"/>
                          </a:moveTo>
                          <a:lnTo>
                            <a:pt x="0" y="1852"/>
                          </a:lnTo>
                          <a:lnTo>
                            <a:pt x="21" y="1852"/>
                          </a:lnTo>
                          <a:lnTo>
                            <a:pt x="21" y="0"/>
                          </a:lnTo>
                          <a:lnTo>
                            <a:pt x="0"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2" name="Freeform 45"/>
                  <p:cNvSpPr/>
                  <p:nvPr/>
                </p:nvSpPr>
                <p:spPr>
                  <a:xfrm>
                    <a:off x="934920" y="5370480"/>
                    <a:ext cx="233640" cy="423720"/>
                  </a:xfrm>
                  <a:custGeom>
                    <a:avLst/>
                    <a:gdLst>
                      <a:gd name="textAreaLeft" fmla="*/ 0 w 233640"/>
                      <a:gd name="textAreaRight" fmla="*/ 234000 w 233640"/>
                      <a:gd name="textAreaTop" fmla="*/ 0 h 423720"/>
                      <a:gd name="textAreaBottom" fmla="*/ 424080 h 423720"/>
                    </a:gdLst>
                    <a:ahLst/>
                    <a:rect l="textAreaLeft" t="textAreaTop" r="textAreaRight" b="textAreaBottom"/>
                    <a:pathLst>
                      <a:path w="424" h="721">
                        <a:moveTo>
                          <a:pt x="418" y="0"/>
                        </a:moveTo>
                        <a:lnTo>
                          <a:pt x="424" y="9"/>
                        </a:lnTo>
                        <a:lnTo>
                          <a:pt x="7" y="721"/>
                        </a:lnTo>
                        <a:lnTo>
                          <a:pt x="0" y="713"/>
                        </a:lnTo>
                        <a:lnTo>
                          <a:pt x="418"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Group 46"/>
                  <p:cNvGrpSpPr/>
                  <p:nvPr/>
                </p:nvGrpSpPr>
                <p:grpSpPr>
                  <a:xfrm>
                    <a:off x="807840" y="5876640"/>
                    <a:ext cx="107280" cy="499680"/>
                    <a:chOff x="807840" y="5876640"/>
                    <a:chExt cx="107280" cy="499680"/>
                  </a:xfrm>
                </p:grpSpPr>
                <p:sp>
                  <p:nvSpPr>
                    <p:cNvPr id="944" name="Freeform 47"/>
                    <p:cNvSpPr/>
                    <p:nvPr/>
                  </p:nvSpPr>
                  <p:spPr>
                    <a:xfrm>
                      <a:off x="807840" y="5876640"/>
                      <a:ext cx="104760" cy="493200"/>
                    </a:xfrm>
                    <a:custGeom>
                      <a:avLst/>
                      <a:gdLst>
                        <a:gd name="textAreaLeft" fmla="*/ 0 w 104760"/>
                        <a:gd name="textAreaRight" fmla="*/ 105120 w 104760"/>
                        <a:gd name="textAreaTop" fmla="*/ 0 h 493200"/>
                        <a:gd name="textAreaBottom" fmla="*/ 493560 h 493200"/>
                      </a:gdLst>
                      <a:ahLst/>
                      <a:rect l="textAreaLeft" t="textAreaTop" r="textAreaRight" b="textAreaBottom"/>
                      <a:pathLst>
                        <a:path w="190" h="842">
                          <a:moveTo>
                            <a:pt x="0" y="842"/>
                          </a:moveTo>
                          <a:lnTo>
                            <a:pt x="7" y="689"/>
                          </a:lnTo>
                          <a:lnTo>
                            <a:pt x="190" y="0"/>
                          </a:lnTo>
                          <a:lnTo>
                            <a:pt x="185" y="160"/>
                          </a:lnTo>
                          <a:lnTo>
                            <a:pt x="0" y="84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48"/>
                    <p:cNvSpPr/>
                    <p:nvPr/>
                  </p:nvSpPr>
                  <p:spPr>
                    <a:xfrm>
                      <a:off x="807840" y="5972400"/>
                      <a:ext cx="107280" cy="403920"/>
                    </a:xfrm>
                    <a:custGeom>
                      <a:avLst/>
                      <a:gdLst>
                        <a:gd name="textAreaLeft" fmla="*/ 0 w 107280"/>
                        <a:gd name="textAreaRight" fmla="*/ 107640 w 107280"/>
                        <a:gd name="textAreaTop" fmla="*/ 0 h 403920"/>
                        <a:gd name="textAreaBottom" fmla="*/ 404280 h 403920"/>
                      </a:gdLst>
                      <a:ahLst/>
                      <a:rect l="textAreaLeft" t="textAreaTop" r="textAreaRight" b="textAreaBottom"/>
                      <a:pathLst>
                        <a:path w="198" h="690">
                          <a:moveTo>
                            <a:pt x="0" y="679"/>
                          </a:moveTo>
                          <a:lnTo>
                            <a:pt x="16" y="690"/>
                          </a:lnTo>
                          <a:lnTo>
                            <a:pt x="198" y="10"/>
                          </a:lnTo>
                          <a:lnTo>
                            <a:pt x="187" y="0"/>
                          </a:lnTo>
                          <a:lnTo>
                            <a:pt x="0" y="67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Group 49"/>
                  <p:cNvGrpSpPr/>
                  <p:nvPr/>
                </p:nvGrpSpPr>
                <p:grpSpPr>
                  <a:xfrm>
                    <a:off x="867240" y="5277240"/>
                    <a:ext cx="56520" cy="577440"/>
                    <a:chOff x="867240" y="5277240"/>
                    <a:chExt cx="56520" cy="577440"/>
                  </a:xfrm>
                </p:grpSpPr>
                <p:sp>
                  <p:nvSpPr>
                    <p:cNvPr id="947" name="Freeform 50"/>
                    <p:cNvSpPr/>
                    <p:nvPr/>
                  </p:nvSpPr>
                  <p:spPr>
                    <a:xfrm>
                      <a:off x="867240" y="5279040"/>
                      <a:ext cx="50040" cy="575640"/>
                    </a:xfrm>
                    <a:custGeom>
                      <a:avLst/>
                      <a:gdLst>
                        <a:gd name="textAreaLeft" fmla="*/ 0 w 50040"/>
                        <a:gd name="textAreaRight" fmla="*/ 50400 w 50040"/>
                        <a:gd name="textAreaTop" fmla="*/ 0 h 575640"/>
                        <a:gd name="textAreaBottom" fmla="*/ 576000 h 575640"/>
                      </a:gdLst>
                      <a:ahLst/>
                      <a:rect l="textAreaLeft" t="textAreaTop" r="textAreaRight" b="textAreaBottom"/>
                      <a:pathLst>
                        <a:path w="93" h="986">
                          <a:moveTo>
                            <a:pt x="9" y="0"/>
                          </a:moveTo>
                          <a:lnTo>
                            <a:pt x="93" y="825"/>
                          </a:lnTo>
                          <a:lnTo>
                            <a:pt x="76" y="986"/>
                          </a:lnTo>
                          <a:lnTo>
                            <a:pt x="0" y="212"/>
                          </a:lnTo>
                          <a:lnTo>
                            <a:pt x="9"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51"/>
                    <p:cNvSpPr/>
                    <p:nvPr/>
                  </p:nvSpPr>
                  <p:spPr>
                    <a:xfrm>
                      <a:off x="871560" y="5277240"/>
                      <a:ext cx="52200" cy="484560"/>
                    </a:xfrm>
                    <a:custGeom>
                      <a:avLst/>
                      <a:gdLst>
                        <a:gd name="textAreaLeft" fmla="*/ 0 w 52200"/>
                        <a:gd name="textAreaRight" fmla="*/ 52560 w 52200"/>
                        <a:gd name="textAreaTop" fmla="*/ 0 h 484560"/>
                        <a:gd name="textAreaBottom" fmla="*/ 484920 h 484560"/>
                      </a:gdLst>
                      <a:ahLst/>
                      <a:rect l="textAreaLeft" t="textAreaTop" r="textAreaRight" b="textAreaBottom"/>
                      <a:pathLst>
                        <a:path w="96" h="828">
                          <a:moveTo>
                            <a:pt x="0" y="0"/>
                          </a:moveTo>
                          <a:lnTo>
                            <a:pt x="13" y="14"/>
                          </a:lnTo>
                          <a:lnTo>
                            <a:pt x="96" y="828"/>
                          </a:lnTo>
                          <a:lnTo>
                            <a:pt x="83" y="826"/>
                          </a:lnTo>
                          <a:lnTo>
                            <a:pt x="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9" name="Freeform 52"/>
                  <p:cNvSpPr/>
                  <p:nvPr/>
                </p:nvSpPr>
                <p:spPr>
                  <a:xfrm>
                    <a:off x="836280" y="5452920"/>
                    <a:ext cx="98640" cy="327600"/>
                  </a:xfrm>
                  <a:custGeom>
                    <a:avLst/>
                    <a:gdLst>
                      <a:gd name="textAreaLeft" fmla="*/ 0 w 98640"/>
                      <a:gd name="textAreaRight" fmla="*/ 99000 w 98640"/>
                      <a:gd name="textAreaTop" fmla="*/ 0 h 327600"/>
                      <a:gd name="textAreaBottom" fmla="*/ 327960 h 327600"/>
                    </a:gdLst>
                    <a:ahLst/>
                    <a:rect l="textAreaLeft" t="textAreaTop" r="textAreaRight" b="textAreaBottom"/>
                    <a:pathLst>
                      <a:path w="179" h="561">
                        <a:moveTo>
                          <a:pt x="166" y="0"/>
                        </a:moveTo>
                        <a:lnTo>
                          <a:pt x="179" y="8"/>
                        </a:lnTo>
                        <a:lnTo>
                          <a:pt x="9" y="561"/>
                        </a:lnTo>
                        <a:lnTo>
                          <a:pt x="0" y="548"/>
                        </a:lnTo>
                        <a:lnTo>
                          <a:pt x="166"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53"/>
                <p:cNvGrpSpPr/>
                <p:nvPr/>
              </p:nvGrpSpPr>
              <p:grpSpPr>
                <a:xfrm>
                  <a:off x="775080" y="5222880"/>
                  <a:ext cx="157680" cy="1195920"/>
                  <a:chOff x="775080" y="5222880"/>
                  <a:chExt cx="157680" cy="1195920"/>
                </a:xfrm>
              </p:grpSpPr>
              <p:grpSp>
                <p:nvGrpSpPr>
                  <p:cNvPr id="951" name="Group 54"/>
                  <p:cNvGrpSpPr/>
                  <p:nvPr/>
                </p:nvGrpSpPr>
                <p:grpSpPr>
                  <a:xfrm>
                    <a:off x="775080" y="5222880"/>
                    <a:ext cx="122040" cy="1195920"/>
                    <a:chOff x="775080" y="5222880"/>
                    <a:chExt cx="122040" cy="1195920"/>
                  </a:xfrm>
                </p:grpSpPr>
                <p:grpSp>
                  <p:nvGrpSpPr>
                    <p:cNvPr id="952" name="Group 55"/>
                    <p:cNvGrpSpPr/>
                    <p:nvPr/>
                  </p:nvGrpSpPr>
                  <p:grpSpPr>
                    <a:xfrm>
                      <a:off x="775080" y="5222880"/>
                      <a:ext cx="115560" cy="1193400"/>
                      <a:chOff x="775080" y="5222880"/>
                      <a:chExt cx="115560" cy="1193400"/>
                    </a:xfrm>
                  </p:grpSpPr>
                  <p:sp>
                    <p:nvSpPr>
                      <p:cNvPr id="953" name="Freeform 56"/>
                      <p:cNvSpPr/>
                      <p:nvPr/>
                    </p:nvSpPr>
                    <p:spPr>
                      <a:xfrm>
                        <a:off x="775080" y="5222880"/>
                        <a:ext cx="91800" cy="1193400"/>
                      </a:xfrm>
                      <a:custGeom>
                        <a:avLst/>
                        <a:gdLst>
                          <a:gd name="textAreaLeft" fmla="*/ 0 w 91800"/>
                          <a:gd name="textAreaRight" fmla="*/ 92160 w 91800"/>
                          <a:gd name="textAreaTop" fmla="*/ 0 h 1193400"/>
                          <a:gd name="textAreaBottom" fmla="*/ 1193760 h 1193400"/>
                        </a:gdLst>
                        <a:ahLst/>
                        <a:rect l="textAreaLeft" t="textAreaTop" r="textAreaRight" b="textAreaBottom"/>
                        <a:pathLst>
                          <a:path w="167" h="2036">
                            <a:moveTo>
                              <a:pt x="130" y="0"/>
                            </a:moveTo>
                            <a:lnTo>
                              <a:pt x="0" y="2036"/>
                            </a:lnTo>
                            <a:lnTo>
                              <a:pt x="36" y="2036"/>
                            </a:lnTo>
                            <a:lnTo>
                              <a:pt x="167" y="43"/>
                            </a:lnTo>
                            <a:lnTo>
                              <a:pt x="130"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57"/>
                      <p:cNvSpPr/>
                      <p:nvPr/>
                    </p:nvSpPr>
                    <p:spPr>
                      <a:xfrm>
                        <a:off x="792360" y="5255640"/>
                        <a:ext cx="98280" cy="1160640"/>
                      </a:xfrm>
                      <a:custGeom>
                        <a:avLst/>
                        <a:gdLst>
                          <a:gd name="textAreaLeft" fmla="*/ 0 w 98280"/>
                          <a:gd name="textAreaRight" fmla="*/ 98640 w 98280"/>
                          <a:gd name="textAreaTop" fmla="*/ 0 h 1160640"/>
                          <a:gd name="textAreaBottom" fmla="*/ 1161000 h 1160640"/>
                        </a:gdLst>
                        <a:ahLst/>
                        <a:rect l="textAreaLeft" t="textAreaTop" r="textAreaRight" b="textAreaBottom"/>
                        <a:pathLst>
                          <a:path w="181" h="1984">
                            <a:moveTo>
                              <a:pt x="130" y="0"/>
                            </a:moveTo>
                            <a:lnTo>
                              <a:pt x="0" y="1984"/>
                            </a:lnTo>
                            <a:lnTo>
                              <a:pt x="49" y="1984"/>
                            </a:lnTo>
                            <a:lnTo>
                              <a:pt x="181" y="55"/>
                            </a:lnTo>
                            <a:lnTo>
                              <a:pt x="130"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 name="Group 58"/>
                    <p:cNvGrpSpPr/>
                    <p:nvPr/>
                  </p:nvGrpSpPr>
                  <p:grpSpPr>
                    <a:xfrm>
                      <a:off x="836280" y="5784840"/>
                      <a:ext cx="60840" cy="633960"/>
                      <a:chOff x="836280" y="5784840"/>
                      <a:chExt cx="60840" cy="633960"/>
                    </a:xfrm>
                  </p:grpSpPr>
                  <p:sp>
                    <p:nvSpPr>
                      <p:cNvPr id="956" name="Freeform 59"/>
                      <p:cNvSpPr/>
                      <p:nvPr/>
                    </p:nvSpPr>
                    <p:spPr>
                      <a:xfrm>
                        <a:off x="836280" y="5784840"/>
                        <a:ext cx="54360" cy="633960"/>
                      </a:xfrm>
                      <a:custGeom>
                        <a:avLst/>
                        <a:gdLst>
                          <a:gd name="textAreaLeft" fmla="*/ 0 w 54360"/>
                          <a:gd name="textAreaRight" fmla="*/ 54720 w 54360"/>
                          <a:gd name="textAreaTop" fmla="*/ 0 h 633960"/>
                          <a:gd name="textAreaBottom" fmla="*/ 634320 h 633960"/>
                        </a:gdLst>
                        <a:ahLst/>
                        <a:rect l="textAreaLeft" t="textAreaTop" r="textAreaRight" b="textAreaBottom"/>
                        <a:pathLst>
                          <a:path w="101" h="1084">
                            <a:moveTo>
                              <a:pt x="15" y="0"/>
                            </a:moveTo>
                            <a:lnTo>
                              <a:pt x="101" y="917"/>
                            </a:lnTo>
                            <a:lnTo>
                              <a:pt x="81" y="1084"/>
                            </a:lnTo>
                            <a:lnTo>
                              <a:pt x="0" y="186"/>
                            </a:lnTo>
                            <a:lnTo>
                              <a:pt x="15"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60"/>
                      <p:cNvSpPr/>
                      <p:nvPr/>
                    </p:nvSpPr>
                    <p:spPr>
                      <a:xfrm>
                        <a:off x="844920" y="5784840"/>
                        <a:ext cx="52200" cy="547560"/>
                      </a:xfrm>
                      <a:custGeom>
                        <a:avLst/>
                        <a:gdLst>
                          <a:gd name="textAreaLeft" fmla="*/ 0 w 52200"/>
                          <a:gd name="textAreaRight" fmla="*/ 52560 w 52200"/>
                          <a:gd name="textAreaTop" fmla="*/ 0 h 547560"/>
                          <a:gd name="textAreaBottom" fmla="*/ 547920 h 547560"/>
                        </a:gdLst>
                        <a:ahLst/>
                        <a:rect l="textAreaLeft" t="textAreaTop" r="textAreaRight" b="textAreaBottom"/>
                        <a:pathLst>
                          <a:path w="96" h="938">
                            <a:moveTo>
                              <a:pt x="0" y="0"/>
                            </a:moveTo>
                            <a:lnTo>
                              <a:pt x="14" y="17"/>
                            </a:lnTo>
                            <a:lnTo>
                              <a:pt x="96" y="932"/>
                            </a:lnTo>
                            <a:lnTo>
                              <a:pt x="85" y="938"/>
                            </a:lnTo>
                            <a:lnTo>
                              <a:pt x="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8" name="Group 61"/>
                  <p:cNvGrpSpPr/>
                  <p:nvPr/>
                </p:nvGrpSpPr>
                <p:grpSpPr>
                  <a:xfrm>
                    <a:off x="836280" y="5351760"/>
                    <a:ext cx="96480" cy="428040"/>
                    <a:chOff x="836280" y="5351760"/>
                    <a:chExt cx="96480" cy="428040"/>
                  </a:xfrm>
                </p:grpSpPr>
                <p:sp>
                  <p:nvSpPr>
                    <p:cNvPr id="959" name="Freeform 62"/>
                    <p:cNvSpPr/>
                    <p:nvPr/>
                  </p:nvSpPr>
                  <p:spPr>
                    <a:xfrm>
                      <a:off x="836280" y="5351760"/>
                      <a:ext cx="96480" cy="423360"/>
                    </a:xfrm>
                    <a:custGeom>
                      <a:avLst/>
                      <a:gdLst>
                        <a:gd name="textAreaLeft" fmla="*/ 0 w 96480"/>
                        <a:gd name="textAreaRight" fmla="*/ 96840 w 96480"/>
                        <a:gd name="textAreaTop" fmla="*/ 0 h 423360"/>
                        <a:gd name="textAreaBottom" fmla="*/ 423720 h 423360"/>
                      </a:gdLst>
                      <a:ahLst/>
                      <a:rect l="textAreaLeft" t="textAreaTop" r="textAreaRight" b="textAreaBottom"/>
                      <a:pathLst>
                        <a:path w="178" h="722">
                          <a:moveTo>
                            <a:pt x="0" y="722"/>
                          </a:moveTo>
                          <a:lnTo>
                            <a:pt x="15" y="568"/>
                          </a:lnTo>
                          <a:lnTo>
                            <a:pt x="178" y="0"/>
                          </a:lnTo>
                          <a:lnTo>
                            <a:pt x="169" y="167"/>
                          </a:lnTo>
                          <a:lnTo>
                            <a:pt x="0" y="72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63"/>
                    <p:cNvSpPr/>
                    <p:nvPr/>
                  </p:nvSpPr>
                  <p:spPr>
                    <a:xfrm>
                      <a:off x="836280" y="5452560"/>
                      <a:ext cx="96480" cy="327240"/>
                    </a:xfrm>
                    <a:custGeom>
                      <a:avLst/>
                      <a:gdLst>
                        <a:gd name="textAreaLeft" fmla="*/ 0 w 96480"/>
                        <a:gd name="textAreaRight" fmla="*/ 96840 w 96480"/>
                        <a:gd name="textAreaTop" fmla="*/ 0 h 327240"/>
                        <a:gd name="textAreaBottom" fmla="*/ 327600 h 327240"/>
                      </a:gdLst>
                      <a:ahLst/>
                      <a:rect l="textAreaLeft" t="textAreaTop" r="textAreaRight" b="textAreaBottom"/>
                      <a:pathLst>
                        <a:path w="178" h="561">
                          <a:moveTo>
                            <a:pt x="0" y="548"/>
                          </a:moveTo>
                          <a:lnTo>
                            <a:pt x="12" y="561"/>
                          </a:lnTo>
                          <a:lnTo>
                            <a:pt x="178" y="7"/>
                          </a:lnTo>
                          <a:lnTo>
                            <a:pt x="164" y="0"/>
                          </a:lnTo>
                          <a:lnTo>
                            <a:pt x="0" y="54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1" name="Group 64"/>
                <p:cNvGrpSpPr/>
                <p:nvPr/>
              </p:nvGrpSpPr>
              <p:grpSpPr>
                <a:xfrm>
                  <a:off x="871920" y="5319000"/>
                  <a:ext cx="368640" cy="1097280"/>
                  <a:chOff x="871920" y="5319000"/>
                  <a:chExt cx="368640" cy="1097280"/>
                </a:xfrm>
              </p:grpSpPr>
              <p:grpSp>
                <p:nvGrpSpPr>
                  <p:cNvPr id="962" name="Group 65"/>
                  <p:cNvGrpSpPr/>
                  <p:nvPr/>
                </p:nvGrpSpPr>
                <p:grpSpPr>
                  <a:xfrm>
                    <a:off x="904680" y="5860080"/>
                    <a:ext cx="285840" cy="542880"/>
                    <a:chOff x="904680" y="5860080"/>
                    <a:chExt cx="285840" cy="542880"/>
                  </a:xfrm>
                </p:grpSpPr>
                <p:sp>
                  <p:nvSpPr>
                    <p:cNvPr id="963" name="Freeform 66"/>
                    <p:cNvSpPr/>
                    <p:nvPr/>
                  </p:nvSpPr>
                  <p:spPr>
                    <a:xfrm>
                      <a:off x="904680" y="5866920"/>
                      <a:ext cx="285840" cy="536040"/>
                    </a:xfrm>
                    <a:custGeom>
                      <a:avLst/>
                      <a:gdLst>
                        <a:gd name="textAreaLeft" fmla="*/ 0 w 285840"/>
                        <a:gd name="textAreaRight" fmla="*/ 286200 w 285840"/>
                        <a:gd name="textAreaTop" fmla="*/ 0 h 536040"/>
                        <a:gd name="textAreaBottom" fmla="*/ 536400 h 536040"/>
                      </a:gdLst>
                      <a:ahLst/>
                      <a:rect l="textAreaLeft" t="textAreaTop" r="textAreaRight" b="textAreaBottom"/>
                      <a:pathLst>
                        <a:path w="516" h="917">
                          <a:moveTo>
                            <a:pt x="511" y="0"/>
                          </a:moveTo>
                          <a:lnTo>
                            <a:pt x="12" y="794"/>
                          </a:lnTo>
                          <a:lnTo>
                            <a:pt x="0" y="917"/>
                          </a:lnTo>
                          <a:lnTo>
                            <a:pt x="516" y="101"/>
                          </a:lnTo>
                          <a:lnTo>
                            <a:pt x="511"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67"/>
                    <p:cNvSpPr/>
                    <p:nvPr/>
                  </p:nvSpPr>
                  <p:spPr>
                    <a:xfrm>
                      <a:off x="909000" y="5860080"/>
                      <a:ext cx="276840" cy="470160"/>
                    </a:xfrm>
                    <a:custGeom>
                      <a:avLst/>
                      <a:gdLst>
                        <a:gd name="textAreaLeft" fmla="*/ 0 w 276840"/>
                        <a:gd name="textAreaRight" fmla="*/ 277200 w 276840"/>
                        <a:gd name="textAreaTop" fmla="*/ 0 h 470160"/>
                        <a:gd name="textAreaBottom" fmla="*/ 470520 h 470160"/>
                      </a:gdLst>
                      <a:ahLst/>
                      <a:rect l="textAreaLeft" t="textAreaTop" r="textAreaRight" b="textAreaBottom"/>
                      <a:pathLst>
                        <a:path w="503" h="804">
                          <a:moveTo>
                            <a:pt x="0" y="783"/>
                          </a:moveTo>
                          <a:lnTo>
                            <a:pt x="5" y="804"/>
                          </a:lnTo>
                          <a:lnTo>
                            <a:pt x="503" y="11"/>
                          </a:lnTo>
                          <a:lnTo>
                            <a:pt x="493" y="0"/>
                          </a:lnTo>
                          <a:lnTo>
                            <a:pt x="0" y="783"/>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Group 68"/>
                  <p:cNvGrpSpPr/>
                  <p:nvPr/>
                </p:nvGrpSpPr>
                <p:grpSpPr>
                  <a:xfrm>
                    <a:off x="871920" y="5319000"/>
                    <a:ext cx="368640" cy="1097280"/>
                    <a:chOff x="871920" y="5319000"/>
                    <a:chExt cx="368640" cy="1097280"/>
                  </a:xfrm>
                </p:grpSpPr>
                <p:grpSp>
                  <p:nvGrpSpPr>
                    <p:cNvPr id="966" name="Group 69"/>
                    <p:cNvGrpSpPr/>
                    <p:nvPr/>
                  </p:nvGrpSpPr>
                  <p:grpSpPr>
                    <a:xfrm>
                      <a:off x="928800" y="5857560"/>
                      <a:ext cx="277200" cy="544680"/>
                      <a:chOff x="928800" y="5857560"/>
                      <a:chExt cx="277200" cy="544680"/>
                    </a:xfrm>
                  </p:grpSpPr>
                  <p:sp>
                    <p:nvSpPr>
                      <p:cNvPr id="967" name="Freeform 70"/>
                      <p:cNvSpPr/>
                      <p:nvPr/>
                    </p:nvSpPr>
                    <p:spPr>
                      <a:xfrm>
                        <a:off x="928800" y="5866560"/>
                        <a:ext cx="277200" cy="535680"/>
                      </a:xfrm>
                      <a:custGeom>
                        <a:avLst/>
                        <a:gdLst>
                          <a:gd name="textAreaLeft" fmla="*/ 0 w 277200"/>
                          <a:gd name="textAreaRight" fmla="*/ 277560 w 277200"/>
                          <a:gd name="textAreaTop" fmla="*/ 0 h 535680"/>
                          <a:gd name="textAreaBottom" fmla="*/ 536040 h 535680"/>
                        </a:gdLst>
                        <a:ahLst/>
                        <a:rect l="textAreaLeft" t="textAreaTop" r="textAreaRight" b="textAreaBottom"/>
                        <a:pathLst>
                          <a:path w="506" h="915">
                            <a:moveTo>
                              <a:pt x="8" y="0"/>
                            </a:moveTo>
                            <a:lnTo>
                              <a:pt x="502" y="799"/>
                            </a:lnTo>
                            <a:lnTo>
                              <a:pt x="506" y="915"/>
                            </a:lnTo>
                            <a:lnTo>
                              <a:pt x="0" y="97"/>
                            </a:lnTo>
                            <a:lnTo>
                              <a:pt x="8"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71"/>
                      <p:cNvSpPr/>
                      <p:nvPr/>
                    </p:nvSpPr>
                    <p:spPr>
                      <a:xfrm>
                        <a:off x="933120" y="5857560"/>
                        <a:ext cx="270360" cy="476640"/>
                      </a:xfrm>
                      <a:custGeom>
                        <a:avLst/>
                        <a:gdLst>
                          <a:gd name="textAreaLeft" fmla="*/ 0 w 270360"/>
                          <a:gd name="textAreaRight" fmla="*/ 270720 w 270360"/>
                          <a:gd name="textAreaTop" fmla="*/ 0 h 476640"/>
                          <a:gd name="textAreaBottom" fmla="*/ 477000 h 476640"/>
                        </a:gdLst>
                        <a:ahLst/>
                        <a:rect l="textAreaLeft" t="textAreaTop" r="textAreaRight" b="textAreaBottom"/>
                        <a:pathLst>
                          <a:path w="494" h="815">
                            <a:moveTo>
                              <a:pt x="0" y="0"/>
                            </a:moveTo>
                            <a:lnTo>
                              <a:pt x="1" y="20"/>
                            </a:lnTo>
                            <a:lnTo>
                              <a:pt x="494" y="815"/>
                            </a:lnTo>
                            <a:lnTo>
                              <a:pt x="490" y="792"/>
                            </a:lnTo>
                            <a:lnTo>
                              <a:pt x="0"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Group 72"/>
                    <p:cNvGrpSpPr/>
                    <p:nvPr/>
                  </p:nvGrpSpPr>
                  <p:grpSpPr>
                    <a:xfrm>
                      <a:off x="933120" y="5375160"/>
                      <a:ext cx="252720" cy="493200"/>
                      <a:chOff x="933120" y="5375160"/>
                      <a:chExt cx="252720" cy="493200"/>
                    </a:xfrm>
                  </p:grpSpPr>
                  <p:grpSp>
                    <p:nvGrpSpPr>
                      <p:cNvPr id="970" name="Group 73"/>
                      <p:cNvGrpSpPr/>
                      <p:nvPr/>
                    </p:nvGrpSpPr>
                    <p:grpSpPr>
                      <a:xfrm>
                        <a:off x="933120" y="5375160"/>
                        <a:ext cx="250560" cy="493200"/>
                        <a:chOff x="933120" y="5375160"/>
                        <a:chExt cx="250560" cy="493200"/>
                      </a:xfrm>
                    </p:grpSpPr>
                    <p:sp>
                      <p:nvSpPr>
                        <p:cNvPr id="971" name="Freeform 74"/>
                        <p:cNvSpPr/>
                        <p:nvPr/>
                      </p:nvSpPr>
                      <p:spPr>
                        <a:xfrm>
                          <a:off x="933120" y="5375160"/>
                          <a:ext cx="235080" cy="493200"/>
                        </a:xfrm>
                        <a:custGeom>
                          <a:avLst/>
                          <a:gdLst>
                            <a:gd name="textAreaLeft" fmla="*/ 0 w 235080"/>
                            <a:gd name="textAreaRight" fmla="*/ 235440 w 235080"/>
                            <a:gd name="textAreaTop" fmla="*/ 0 h 493200"/>
                            <a:gd name="textAreaBottom" fmla="*/ 493560 h 493200"/>
                          </a:gdLst>
                          <a:ahLst/>
                          <a:rect l="textAreaLeft" t="textAreaTop" r="textAreaRight" b="textAreaBottom"/>
                          <a:pathLst>
                            <a:path w="430" h="842">
                              <a:moveTo>
                                <a:pt x="426" y="0"/>
                              </a:moveTo>
                              <a:lnTo>
                                <a:pt x="10" y="713"/>
                              </a:lnTo>
                              <a:lnTo>
                                <a:pt x="0" y="842"/>
                              </a:lnTo>
                              <a:lnTo>
                                <a:pt x="430" y="103"/>
                              </a:lnTo>
                              <a:lnTo>
                                <a:pt x="426"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75"/>
                        <p:cNvSpPr/>
                        <p:nvPr/>
                      </p:nvSpPr>
                      <p:spPr>
                        <a:xfrm>
                          <a:off x="950400" y="5375160"/>
                          <a:ext cx="233280" cy="488520"/>
                        </a:xfrm>
                        <a:custGeom>
                          <a:avLst/>
                          <a:gdLst>
                            <a:gd name="textAreaLeft" fmla="*/ 0 w 233280"/>
                            <a:gd name="textAreaRight" fmla="*/ 233640 w 233280"/>
                            <a:gd name="textAreaTop" fmla="*/ 0 h 488520"/>
                            <a:gd name="textAreaBottom" fmla="*/ 488880 h 488520"/>
                          </a:gdLst>
                          <a:ahLst/>
                          <a:rect l="textAreaLeft" t="textAreaTop" r="textAreaRight" b="textAreaBottom"/>
                          <a:pathLst>
                            <a:path w="424" h="837">
                              <a:moveTo>
                                <a:pt x="4" y="0"/>
                              </a:moveTo>
                              <a:lnTo>
                                <a:pt x="420" y="716"/>
                              </a:lnTo>
                              <a:lnTo>
                                <a:pt x="424" y="837"/>
                              </a:lnTo>
                              <a:lnTo>
                                <a:pt x="0" y="102"/>
                              </a:lnTo>
                              <a:lnTo>
                                <a:pt x="4"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Freeform 76"/>
                      <p:cNvSpPr/>
                      <p:nvPr/>
                    </p:nvSpPr>
                    <p:spPr>
                      <a:xfrm>
                        <a:off x="943920" y="5431320"/>
                        <a:ext cx="241920" cy="432720"/>
                      </a:xfrm>
                      <a:custGeom>
                        <a:avLst/>
                        <a:gdLst>
                          <a:gd name="textAreaLeft" fmla="*/ 0 w 241920"/>
                          <a:gd name="textAreaRight" fmla="*/ 242280 w 241920"/>
                          <a:gd name="textAreaTop" fmla="*/ 0 h 432720"/>
                          <a:gd name="textAreaBottom" fmla="*/ 433080 h 432720"/>
                        </a:gdLst>
                        <a:ahLst/>
                        <a:rect l="textAreaLeft" t="textAreaTop" r="textAreaRight" b="textAreaBottom"/>
                        <a:pathLst>
                          <a:path w="439" h="744">
                            <a:moveTo>
                              <a:pt x="423" y="730"/>
                            </a:moveTo>
                            <a:lnTo>
                              <a:pt x="439" y="744"/>
                            </a:lnTo>
                            <a:lnTo>
                              <a:pt x="12" y="5"/>
                            </a:lnTo>
                            <a:lnTo>
                              <a:pt x="0" y="0"/>
                            </a:lnTo>
                            <a:lnTo>
                              <a:pt x="423" y="73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4" name="Group 77"/>
                    <p:cNvGrpSpPr/>
                    <p:nvPr/>
                  </p:nvGrpSpPr>
                  <p:grpSpPr>
                    <a:xfrm>
                      <a:off x="871920" y="5319000"/>
                      <a:ext cx="96480" cy="1097280"/>
                      <a:chOff x="871920" y="5319000"/>
                      <a:chExt cx="96480" cy="1097280"/>
                    </a:xfrm>
                  </p:grpSpPr>
                  <p:sp>
                    <p:nvSpPr>
                      <p:cNvPr id="975" name="Freeform 78"/>
                      <p:cNvSpPr/>
                      <p:nvPr/>
                    </p:nvSpPr>
                    <p:spPr>
                      <a:xfrm>
                        <a:off x="889200" y="5339880"/>
                        <a:ext cx="79200" cy="1076040"/>
                      </a:xfrm>
                      <a:custGeom>
                        <a:avLst/>
                        <a:gdLst>
                          <a:gd name="textAreaLeft" fmla="*/ 0 w 79200"/>
                          <a:gd name="textAreaRight" fmla="*/ 79560 w 79200"/>
                          <a:gd name="textAreaTop" fmla="*/ 0 h 1076040"/>
                          <a:gd name="textAreaBottom" fmla="*/ 1076400 h 1076040"/>
                        </a:gdLst>
                        <a:ahLst/>
                        <a:rect l="textAreaLeft" t="textAreaTop" r="textAreaRight" b="textAreaBottom"/>
                        <a:pathLst>
                          <a:path w="146" h="1840">
                            <a:moveTo>
                              <a:pt x="97" y="0"/>
                            </a:moveTo>
                            <a:lnTo>
                              <a:pt x="0" y="1840"/>
                            </a:lnTo>
                            <a:lnTo>
                              <a:pt x="48" y="1838"/>
                            </a:lnTo>
                            <a:lnTo>
                              <a:pt x="146" y="0"/>
                            </a:lnTo>
                            <a:lnTo>
                              <a:pt x="97"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79"/>
                      <p:cNvSpPr/>
                      <p:nvPr/>
                    </p:nvSpPr>
                    <p:spPr>
                      <a:xfrm>
                        <a:off x="871920" y="5319000"/>
                        <a:ext cx="70200" cy="1097280"/>
                      </a:xfrm>
                      <a:custGeom>
                        <a:avLst/>
                        <a:gdLst>
                          <a:gd name="textAreaLeft" fmla="*/ 0 w 70200"/>
                          <a:gd name="textAreaRight" fmla="*/ 70560 w 70200"/>
                          <a:gd name="textAreaTop" fmla="*/ 0 h 1097280"/>
                          <a:gd name="textAreaBottom" fmla="*/ 1097640 h 1097280"/>
                        </a:gdLst>
                        <a:ahLst/>
                        <a:rect l="textAreaLeft" t="textAreaTop" r="textAreaRight" b="textAreaBottom"/>
                        <a:pathLst>
                          <a:path w="130" h="1874">
                            <a:moveTo>
                              <a:pt x="130" y="34"/>
                            </a:moveTo>
                            <a:lnTo>
                              <a:pt x="33" y="1874"/>
                            </a:lnTo>
                            <a:lnTo>
                              <a:pt x="0" y="1872"/>
                            </a:lnTo>
                            <a:lnTo>
                              <a:pt x="98" y="0"/>
                            </a:lnTo>
                            <a:lnTo>
                              <a:pt x="130" y="3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7" name="Group 80"/>
                    <p:cNvGrpSpPr/>
                    <p:nvPr/>
                  </p:nvGrpSpPr>
                  <p:grpSpPr>
                    <a:xfrm>
                      <a:off x="1153440" y="5339880"/>
                      <a:ext cx="87120" cy="1076040"/>
                      <a:chOff x="1153440" y="5339880"/>
                      <a:chExt cx="87120" cy="1076040"/>
                    </a:xfrm>
                  </p:grpSpPr>
                  <p:sp>
                    <p:nvSpPr>
                      <p:cNvPr id="978" name="Freeform 81"/>
                      <p:cNvSpPr/>
                      <p:nvPr/>
                    </p:nvSpPr>
                    <p:spPr>
                      <a:xfrm>
                        <a:off x="1153440" y="5339880"/>
                        <a:ext cx="61560" cy="1076040"/>
                      </a:xfrm>
                      <a:custGeom>
                        <a:avLst/>
                        <a:gdLst>
                          <a:gd name="textAreaLeft" fmla="*/ 0 w 61560"/>
                          <a:gd name="textAreaRight" fmla="*/ 61920 w 61560"/>
                          <a:gd name="textAreaTop" fmla="*/ 0 h 1076040"/>
                          <a:gd name="textAreaBottom" fmla="*/ 1076400 h 1076040"/>
                        </a:gdLst>
                        <a:ahLst/>
                        <a:rect l="textAreaLeft" t="textAreaTop" r="textAreaRight" b="textAreaBottom"/>
                        <a:pathLst>
                          <a:path w="115" h="1840">
                            <a:moveTo>
                              <a:pt x="32" y="0"/>
                            </a:moveTo>
                            <a:lnTo>
                              <a:pt x="115" y="1840"/>
                            </a:lnTo>
                            <a:lnTo>
                              <a:pt x="83" y="1840"/>
                            </a:lnTo>
                            <a:lnTo>
                              <a:pt x="0" y="0"/>
                            </a:lnTo>
                            <a:lnTo>
                              <a:pt x="32"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82"/>
                      <p:cNvSpPr/>
                      <p:nvPr/>
                    </p:nvSpPr>
                    <p:spPr>
                      <a:xfrm>
                        <a:off x="1168560" y="5339880"/>
                        <a:ext cx="72000" cy="1076040"/>
                      </a:xfrm>
                      <a:custGeom>
                        <a:avLst/>
                        <a:gdLst>
                          <a:gd name="textAreaLeft" fmla="*/ 0 w 72000"/>
                          <a:gd name="textAreaRight" fmla="*/ 72360 w 72000"/>
                          <a:gd name="textAreaTop" fmla="*/ 0 h 1076040"/>
                          <a:gd name="textAreaBottom" fmla="*/ 1076400 h 1076040"/>
                        </a:gdLst>
                        <a:ahLst/>
                        <a:rect l="textAreaLeft" t="textAreaTop" r="textAreaRight" b="textAreaBottom"/>
                        <a:pathLst>
                          <a:path w="131" h="1840">
                            <a:moveTo>
                              <a:pt x="50" y="0"/>
                            </a:moveTo>
                            <a:lnTo>
                              <a:pt x="131" y="1840"/>
                            </a:lnTo>
                            <a:lnTo>
                              <a:pt x="82" y="1840"/>
                            </a:lnTo>
                            <a:lnTo>
                              <a:pt x="0" y="0"/>
                            </a:lnTo>
                            <a:lnTo>
                              <a:pt x="50"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980" name="Freeform 83"/>
                <p:cNvSpPr/>
                <p:nvPr/>
              </p:nvSpPr>
              <p:spPr>
                <a:xfrm>
                  <a:off x="836280" y="5222880"/>
                  <a:ext cx="370440" cy="117360"/>
                </a:xfrm>
                <a:custGeom>
                  <a:avLst/>
                  <a:gdLst>
                    <a:gd name="textAreaLeft" fmla="*/ 0 w 370440"/>
                    <a:gd name="textAreaRight" fmla="*/ 370800 w 370440"/>
                    <a:gd name="textAreaTop" fmla="*/ 0 h 117360"/>
                    <a:gd name="textAreaBottom" fmla="*/ 117720 h 117360"/>
                  </a:gdLst>
                  <a:ahLst/>
                  <a:rect l="textAreaLeft" t="textAreaTop" r="textAreaRight" b="textAreaBottom"/>
                  <a:pathLst>
                    <a:path w="675" h="200">
                      <a:moveTo>
                        <a:pt x="0" y="0"/>
                      </a:moveTo>
                      <a:lnTo>
                        <a:pt x="177" y="200"/>
                      </a:lnTo>
                      <a:lnTo>
                        <a:pt x="675" y="200"/>
                      </a:lnTo>
                      <a:lnTo>
                        <a:pt x="49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Group 84"/>
                <p:cNvGrpSpPr/>
                <p:nvPr/>
              </p:nvGrpSpPr>
              <p:grpSpPr>
                <a:xfrm>
                  <a:off x="836280" y="5171400"/>
                  <a:ext cx="370080" cy="168480"/>
                  <a:chOff x="836280" y="5171400"/>
                  <a:chExt cx="370080" cy="168480"/>
                </a:xfrm>
              </p:grpSpPr>
              <p:sp>
                <p:nvSpPr>
                  <p:cNvPr id="982" name="Freeform 85"/>
                  <p:cNvSpPr/>
                  <p:nvPr/>
                </p:nvSpPr>
                <p:spPr>
                  <a:xfrm>
                    <a:off x="836280" y="5171400"/>
                    <a:ext cx="370080" cy="117000"/>
                  </a:xfrm>
                  <a:custGeom>
                    <a:avLst/>
                    <a:gdLst>
                      <a:gd name="textAreaLeft" fmla="*/ 0 w 370080"/>
                      <a:gd name="textAreaRight" fmla="*/ 370440 w 370080"/>
                      <a:gd name="textAreaTop" fmla="*/ 0 h 117000"/>
                      <a:gd name="textAreaBottom" fmla="*/ 117360 h 117000"/>
                    </a:gdLst>
                    <a:ahLst/>
                    <a:rect l="textAreaLeft" t="textAreaTop" r="textAreaRight" b="textAreaBottom"/>
                    <a:pathLst>
                      <a:path w="675" h="200">
                        <a:moveTo>
                          <a:pt x="0" y="0"/>
                        </a:moveTo>
                        <a:lnTo>
                          <a:pt x="177" y="200"/>
                        </a:lnTo>
                        <a:lnTo>
                          <a:pt x="675" y="200"/>
                        </a:lnTo>
                        <a:lnTo>
                          <a:pt x="481" y="0"/>
                        </a:lnTo>
                        <a:lnTo>
                          <a:pt x="0"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86"/>
                  <p:cNvSpPr/>
                  <p:nvPr/>
                </p:nvSpPr>
                <p:spPr>
                  <a:xfrm>
                    <a:off x="836280" y="5171400"/>
                    <a:ext cx="96840" cy="168480"/>
                  </a:xfrm>
                  <a:custGeom>
                    <a:avLst/>
                    <a:gdLst>
                      <a:gd name="textAreaLeft" fmla="*/ 0 w 96840"/>
                      <a:gd name="textAreaRight" fmla="*/ 97200 w 96840"/>
                      <a:gd name="textAreaTop" fmla="*/ 0 h 168480"/>
                      <a:gd name="textAreaBottom" fmla="*/ 168840 h 168480"/>
                    </a:gdLst>
                    <a:ahLst/>
                    <a:rect l="textAreaLeft" t="textAreaTop" r="textAreaRight" b="textAreaBottom"/>
                    <a:pathLst>
                      <a:path w="178" h="290">
                        <a:moveTo>
                          <a:pt x="0" y="0"/>
                        </a:moveTo>
                        <a:lnTo>
                          <a:pt x="0" y="91"/>
                        </a:lnTo>
                        <a:lnTo>
                          <a:pt x="178" y="290"/>
                        </a:lnTo>
                        <a:lnTo>
                          <a:pt x="178" y="199"/>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87"/>
                  <p:cNvSpPr/>
                  <p:nvPr/>
                </p:nvSpPr>
                <p:spPr>
                  <a:xfrm>
                    <a:off x="933120" y="5286240"/>
                    <a:ext cx="273240" cy="53280"/>
                  </a:xfrm>
                  <a:prstGeom prst="rect">
                    <a:avLst/>
                  </a:prstGeom>
                  <a:solidFill>
                    <a:srgbClr val="c06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88"/>
                  <p:cNvSpPr/>
                  <p:nvPr/>
                </p:nvSpPr>
                <p:spPr>
                  <a:xfrm>
                    <a:off x="871560" y="5180760"/>
                    <a:ext cx="87840" cy="86400"/>
                  </a:xfrm>
                  <a:custGeom>
                    <a:avLst/>
                    <a:gdLst>
                      <a:gd name="textAreaLeft" fmla="*/ 0 w 87840"/>
                      <a:gd name="textAreaRight" fmla="*/ 88200 w 87840"/>
                      <a:gd name="textAreaTop" fmla="*/ 0 h 86400"/>
                      <a:gd name="textAreaBottom" fmla="*/ 86760 h 86400"/>
                    </a:gdLst>
                    <a:ahLst/>
                    <a:rect l="textAreaLeft" t="textAreaTop" r="textAreaRight" b="textAreaBottom"/>
                    <a:pathLst>
                      <a:path w="162" h="146">
                        <a:moveTo>
                          <a:pt x="162" y="146"/>
                        </a:moveTo>
                        <a:lnTo>
                          <a:pt x="81" y="109"/>
                        </a:lnTo>
                        <a:lnTo>
                          <a:pt x="0" y="0"/>
                        </a:lnTo>
                        <a:lnTo>
                          <a:pt x="64" y="0"/>
                        </a:lnTo>
                        <a:lnTo>
                          <a:pt x="162" y="146"/>
                        </a:lnTo>
                        <a:close/>
                      </a:path>
                    </a:pathLst>
                  </a:custGeom>
                  <a:solidFill>
                    <a:srgbClr val="603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86" name="Group 89"/>
                <p:cNvGrpSpPr/>
                <p:nvPr/>
              </p:nvGrpSpPr>
              <p:grpSpPr>
                <a:xfrm>
                  <a:off x="898560" y="5159880"/>
                  <a:ext cx="245880" cy="107280"/>
                  <a:chOff x="898560" y="5159880"/>
                  <a:chExt cx="245880" cy="107280"/>
                </a:xfrm>
              </p:grpSpPr>
              <p:sp>
                <p:nvSpPr>
                  <p:cNvPr id="987" name="Freeform 90"/>
                  <p:cNvSpPr/>
                  <p:nvPr/>
                </p:nvSpPr>
                <p:spPr>
                  <a:xfrm>
                    <a:off x="898560" y="5162400"/>
                    <a:ext cx="245880" cy="74520"/>
                  </a:xfrm>
                  <a:custGeom>
                    <a:avLst/>
                    <a:gdLst>
                      <a:gd name="textAreaLeft" fmla="*/ 0 w 245880"/>
                      <a:gd name="textAreaRight" fmla="*/ 246240 w 245880"/>
                      <a:gd name="textAreaTop" fmla="*/ 0 h 74520"/>
                      <a:gd name="textAreaBottom" fmla="*/ 74880 h 74520"/>
                    </a:gdLst>
                    <a:ahLst/>
                    <a:rect l="textAreaLeft" t="textAreaTop" r="textAreaRight" b="textAreaBottom"/>
                    <a:pathLst>
                      <a:path w="451" h="128">
                        <a:moveTo>
                          <a:pt x="0" y="0"/>
                        </a:moveTo>
                        <a:lnTo>
                          <a:pt x="114" y="128"/>
                        </a:lnTo>
                        <a:lnTo>
                          <a:pt x="451" y="126"/>
                        </a:lnTo>
                        <a:lnTo>
                          <a:pt x="322" y="0"/>
                        </a:lnTo>
                        <a:lnTo>
                          <a:pt x="0" y="0"/>
                        </a:lnTo>
                        <a:close/>
                      </a:path>
                    </a:pathLst>
                  </a:custGeom>
                  <a:solidFill>
                    <a:srgbClr val="ff8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88" name="Rectangle 91"/>
                  <p:cNvSpPr/>
                  <p:nvPr/>
                </p:nvSpPr>
                <p:spPr>
                  <a:xfrm>
                    <a:off x="959760" y="5234760"/>
                    <a:ext cx="184680" cy="32040"/>
                  </a:xfrm>
                  <a:prstGeom prst="rect">
                    <a:avLst/>
                  </a:prstGeom>
                  <a:solidFill>
                    <a:srgbClr val="a05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92"/>
                  <p:cNvSpPr/>
                  <p:nvPr/>
                </p:nvSpPr>
                <p:spPr>
                  <a:xfrm>
                    <a:off x="948960" y="5178600"/>
                    <a:ext cx="142920" cy="41760"/>
                  </a:xfrm>
                  <a:custGeom>
                    <a:avLst/>
                    <a:gdLst>
                      <a:gd name="textAreaLeft" fmla="*/ 0 w 142920"/>
                      <a:gd name="textAreaRight" fmla="*/ 143280 w 142920"/>
                      <a:gd name="textAreaTop" fmla="*/ 0 h 41760"/>
                      <a:gd name="textAreaBottom" fmla="*/ 42120 h 41760"/>
                    </a:gdLst>
                    <a:ahLst/>
                    <a:rect l="textAreaLeft" t="textAreaTop" r="textAreaRight" b="textAreaBottom"/>
                    <a:pathLst>
                      <a:path w="260" h="74">
                        <a:moveTo>
                          <a:pt x="0" y="0"/>
                        </a:moveTo>
                        <a:lnTo>
                          <a:pt x="66" y="74"/>
                        </a:lnTo>
                        <a:lnTo>
                          <a:pt x="260" y="73"/>
                        </a:lnTo>
                        <a:lnTo>
                          <a:pt x="186" y="0"/>
                        </a:lnTo>
                        <a:lnTo>
                          <a:pt x="0" y="0"/>
                        </a:lnTo>
                        <a:close/>
                      </a:path>
                    </a:pathLst>
                  </a:custGeom>
                  <a:solidFill>
                    <a:srgbClr val="201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0" name="Freeform 93"/>
                  <p:cNvSpPr/>
                  <p:nvPr/>
                </p:nvSpPr>
                <p:spPr>
                  <a:xfrm>
                    <a:off x="898560" y="515988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115" h="181">
                        <a:moveTo>
                          <a:pt x="0" y="0"/>
                        </a:moveTo>
                        <a:lnTo>
                          <a:pt x="0" y="55"/>
                        </a:lnTo>
                        <a:lnTo>
                          <a:pt x="115" y="181"/>
                        </a:lnTo>
                        <a:lnTo>
                          <a:pt x="115" y="126"/>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1" name="Group 94"/>
              <p:cNvGrpSpPr/>
              <p:nvPr/>
            </p:nvGrpSpPr>
            <p:grpSpPr>
              <a:xfrm>
                <a:off x="991080" y="5094720"/>
                <a:ext cx="61200" cy="126000"/>
                <a:chOff x="991080" y="5094720"/>
                <a:chExt cx="61200" cy="126000"/>
              </a:xfrm>
            </p:grpSpPr>
            <p:sp>
              <p:nvSpPr>
                <p:cNvPr id="992" name="Freeform 95"/>
                <p:cNvSpPr/>
                <p:nvPr/>
              </p:nvSpPr>
              <p:spPr>
                <a:xfrm>
                  <a:off x="991080" y="5094720"/>
                  <a:ext cx="61200" cy="126000"/>
                </a:xfrm>
                <a:custGeom>
                  <a:avLst/>
                  <a:gdLst>
                    <a:gd name="textAreaLeft" fmla="*/ 0 w 61200"/>
                    <a:gd name="textAreaRight" fmla="*/ 61560 w 61200"/>
                    <a:gd name="textAreaTop" fmla="*/ 0 h 126000"/>
                    <a:gd name="textAreaBottom" fmla="*/ 126360 h 126000"/>
                  </a:gdLst>
                  <a:ahLst/>
                  <a:rect l="textAreaLeft" t="textAreaTop" r="textAreaRight" b="textAreaBottom"/>
                  <a:pathLst>
                    <a:path w="109" h="217">
                      <a:moveTo>
                        <a:pt x="0" y="217"/>
                      </a:moveTo>
                      <a:lnTo>
                        <a:pt x="109" y="217"/>
                      </a:lnTo>
                      <a:lnTo>
                        <a:pt x="109" y="0"/>
                      </a:lnTo>
                      <a:lnTo>
                        <a:pt x="1" y="0"/>
                      </a:lnTo>
                      <a:lnTo>
                        <a:pt x="0" y="217"/>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96"/>
                <p:cNvSpPr/>
                <p:nvPr/>
              </p:nvSpPr>
              <p:spPr>
                <a:xfrm>
                  <a:off x="1001880" y="5094720"/>
                  <a:ext cx="10800" cy="126000"/>
                </a:xfrm>
                <a:custGeom>
                  <a:avLst/>
                  <a:gdLst>
                    <a:gd name="textAreaLeft" fmla="*/ 0 w 10800"/>
                    <a:gd name="textAreaRight" fmla="*/ 11160 w 10800"/>
                    <a:gd name="textAreaTop" fmla="*/ 0 h 126000"/>
                    <a:gd name="textAreaBottom" fmla="*/ 126360 h 126000"/>
                  </a:gdLst>
                  <a:ahLst/>
                  <a:rect l="textAreaLeft" t="textAreaTop" r="textAreaRight" b="textAreaBottom"/>
                  <a:pathLst>
                    <a:path w="21" h="217">
                      <a:moveTo>
                        <a:pt x="0" y="2"/>
                      </a:moveTo>
                      <a:lnTo>
                        <a:pt x="0" y="217"/>
                      </a:lnTo>
                      <a:lnTo>
                        <a:pt x="21" y="217"/>
                      </a:lnTo>
                      <a:lnTo>
                        <a:pt x="21" y="0"/>
                      </a:lnTo>
                      <a:lnTo>
                        <a:pt x="0" y="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4" name="Group 97"/>
            <p:cNvGrpSpPr/>
            <p:nvPr/>
          </p:nvGrpSpPr>
          <p:grpSpPr>
            <a:xfrm>
              <a:off x="457200" y="4064040"/>
              <a:ext cx="1217880" cy="1254240"/>
              <a:chOff x="457200" y="4064040"/>
              <a:chExt cx="1217880" cy="1254240"/>
            </a:xfrm>
          </p:grpSpPr>
          <p:sp>
            <p:nvSpPr>
              <p:cNvPr id="995" name="Freeform 98"/>
              <p:cNvSpPr/>
              <p:nvPr/>
            </p:nvSpPr>
            <p:spPr>
              <a:xfrm>
                <a:off x="962280" y="4715280"/>
                <a:ext cx="92880" cy="388800"/>
              </a:xfrm>
              <a:custGeom>
                <a:avLst/>
                <a:gdLst>
                  <a:gd name="textAreaLeft" fmla="*/ 0 w 92880"/>
                  <a:gd name="textAreaRight" fmla="*/ 93240 w 92880"/>
                  <a:gd name="textAreaTop" fmla="*/ 0 h 388800"/>
                  <a:gd name="textAreaBottom" fmla="*/ 389160 h 388800"/>
                </a:gdLst>
                <a:ahLst/>
                <a:rect l="textAreaLeft" t="textAreaTop" r="textAreaRight" b="textAreaBottom"/>
                <a:pathLst>
                  <a:path w="169" h="667">
                    <a:moveTo>
                      <a:pt x="80" y="667"/>
                    </a:moveTo>
                    <a:lnTo>
                      <a:pt x="137" y="667"/>
                    </a:lnTo>
                    <a:lnTo>
                      <a:pt x="140" y="385"/>
                    </a:lnTo>
                    <a:lnTo>
                      <a:pt x="141" y="301"/>
                    </a:lnTo>
                    <a:lnTo>
                      <a:pt x="146" y="208"/>
                    </a:lnTo>
                    <a:lnTo>
                      <a:pt x="147" y="148"/>
                    </a:lnTo>
                    <a:lnTo>
                      <a:pt x="153" y="94"/>
                    </a:lnTo>
                    <a:lnTo>
                      <a:pt x="169" y="0"/>
                    </a:lnTo>
                    <a:lnTo>
                      <a:pt x="0" y="3"/>
                    </a:lnTo>
                    <a:lnTo>
                      <a:pt x="11" y="49"/>
                    </a:lnTo>
                    <a:lnTo>
                      <a:pt x="25" y="109"/>
                    </a:lnTo>
                    <a:lnTo>
                      <a:pt x="39" y="217"/>
                    </a:lnTo>
                    <a:lnTo>
                      <a:pt x="43" y="309"/>
                    </a:lnTo>
                    <a:lnTo>
                      <a:pt x="54" y="398"/>
                    </a:lnTo>
                    <a:lnTo>
                      <a:pt x="63" y="484"/>
                    </a:lnTo>
                    <a:lnTo>
                      <a:pt x="80" y="667"/>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6" name="Group 99"/>
              <p:cNvGrpSpPr/>
              <p:nvPr/>
            </p:nvGrpSpPr>
            <p:grpSpPr>
              <a:xfrm>
                <a:off x="457200" y="4064040"/>
                <a:ext cx="1217880" cy="1254240"/>
                <a:chOff x="457200" y="4064040"/>
                <a:chExt cx="1217880" cy="1254240"/>
              </a:xfrm>
            </p:grpSpPr>
            <p:grpSp>
              <p:nvGrpSpPr>
                <p:cNvPr id="997" name="Group 100"/>
                <p:cNvGrpSpPr/>
                <p:nvPr/>
              </p:nvGrpSpPr>
              <p:grpSpPr>
                <a:xfrm>
                  <a:off x="604800" y="4064040"/>
                  <a:ext cx="950760" cy="964080"/>
                  <a:chOff x="604800" y="4064040"/>
                  <a:chExt cx="950760" cy="964080"/>
                </a:xfrm>
              </p:grpSpPr>
              <p:sp>
                <p:nvSpPr>
                  <p:cNvPr id="998" name="Freeform 101"/>
                  <p:cNvSpPr/>
                  <p:nvPr/>
                </p:nvSpPr>
                <p:spPr>
                  <a:xfrm>
                    <a:off x="604800" y="4064040"/>
                    <a:ext cx="465120" cy="411840"/>
                  </a:xfrm>
                  <a:custGeom>
                    <a:avLst/>
                    <a:gdLst>
                      <a:gd name="textAreaLeft" fmla="*/ 0 w 465120"/>
                      <a:gd name="textAreaRight" fmla="*/ 465480 w 465120"/>
                      <a:gd name="textAreaTop" fmla="*/ 0 h 411840"/>
                      <a:gd name="textAreaBottom" fmla="*/ 412200 h 411840"/>
                    </a:gdLst>
                    <a:ahLst/>
                    <a:rect l="textAreaLeft" t="textAreaTop" r="textAreaRight" b="textAreaBottom"/>
                    <a:pathLst>
                      <a:path w="845" h="703">
                        <a:moveTo>
                          <a:pt x="791" y="439"/>
                        </a:moveTo>
                        <a:lnTo>
                          <a:pt x="823" y="439"/>
                        </a:lnTo>
                        <a:lnTo>
                          <a:pt x="845" y="443"/>
                        </a:lnTo>
                        <a:lnTo>
                          <a:pt x="838" y="409"/>
                        </a:lnTo>
                        <a:lnTo>
                          <a:pt x="826" y="372"/>
                        </a:lnTo>
                        <a:lnTo>
                          <a:pt x="807" y="329"/>
                        </a:lnTo>
                        <a:lnTo>
                          <a:pt x="789" y="293"/>
                        </a:lnTo>
                        <a:lnTo>
                          <a:pt x="769" y="258"/>
                        </a:lnTo>
                        <a:lnTo>
                          <a:pt x="751" y="233"/>
                        </a:lnTo>
                        <a:lnTo>
                          <a:pt x="734" y="208"/>
                        </a:lnTo>
                        <a:lnTo>
                          <a:pt x="720" y="187"/>
                        </a:lnTo>
                        <a:lnTo>
                          <a:pt x="707" y="172"/>
                        </a:lnTo>
                        <a:lnTo>
                          <a:pt x="694" y="156"/>
                        </a:lnTo>
                        <a:lnTo>
                          <a:pt x="671" y="131"/>
                        </a:lnTo>
                        <a:lnTo>
                          <a:pt x="654" y="114"/>
                        </a:lnTo>
                        <a:lnTo>
                          <a:pt x="632" y="96"/>
                        </a:lnTo>
                        <a:lnTo>
                          <a:pt x="618" y="84"/>
                        </a:lnTo>
                        <a:lnTo>
                          <a:pt x="603" y="75"/>
                        </a:lnTo>
                        <a:lnTo>
                          <a:pt x="580" y="60"/>
                        </a:lnTo>
                        <a:lnTo>
                          <a:pt x="563" y="49"/>
                        </a:lnTo>
                        <a:lnTo>
                          <a:pt x="537" y="35"/>
                        </a:lnTo>
                        <a:lnTo>
                          <a:pt x="510" y="25"/>
                        </a:lnTo>
                        <a:lnTo>
                          <a:pt x="486" y="14"/>
                        </a:lnTo>
                        <a:lnTo>
                          <a:pt x="460" y="7"/>
                        </a:lnTo>
                        <a:lnTo>
                          <a:pt x="438" y="4"/>
                        </a:lnTo>
                        <a:lnTo>
                          <a:pt x="409" y="1"/>
                        </a:lnTo>
                        <a:lnTo>
                          <a:pt x="383" y="1"/>
                        </a:lnTo>
                        <a:lnTo>
                          <a:pt x="356" y="0"/>
                        </a:lnTo>
                        <a:lnTo>
                          <a:pt x="333" y="1"/>
                        </a:lnTo>
                        <a:lnTo>
                          <a:pt x="298" y="4"/>
                        </a:lnTo>
                        <a:lnTo>
                          <a:pt x="268" y="11"/>
                        </a:lnTo>
                        <a:lnTo>
                          <a:pt x="244" y="19"/>
                        </a:lnTo>
                        <a:lnTo>
                          <a:pt x="221" y="32"/>
                        </a:lnTo>
                        <a:lnTo>
                          <a:pt x="201" y="47"/>
                        </a:lnTo>
                        <a:lnTo>
                          <a:pt x="188" y="64"/>
                        </a:lnTo>
                        <a:lnTo>
                          <a:pt x="181" y="83"/>
                        </a:lnTo>
                        <a:lnTo>
                          <a:pt x="180" y="98"/>
                        </a:lnTo>
                        <a:lnTo>
                          <a:pt x="181" y="112"/>
                        </a:lnTo>
                        <a:lnTo>
                          <a:pt x="185" y="125"/>
                        </a:lnTo>
                        <a:lnTo>
                          <a:pt x="190" y="135"/>
                        </a:lnTo>
                        <a:lnTo>
                          <a:pt x="203" y="144"/>
                        </a:lnTo>
                        <a:lnTo>
                          <a:pt x="216" y="149"/>
                        </a:lnTo>
                        <a:lnTo>
                          <a:pt x="233" y="153"/>
                        </a:lnTo>
                        <a:lnTo>
                          <a:pt x="250" y="158"/>
                        </a:lnTo>
                        <a:lnTo>
                          <a:pt x="267" y="159"/>
                        </a:lnTo>
                        <a:lnTo>
                          <a:pt x="291" y="162"/>
                        </a:lnTo>
                        <a:lnTo>
                          <a:pt x="318" y="159"/>
                        </a:lnTo>
                        <a:lnTo>
                          <a:pt x="340" y="158"/>
                        </a:lnTo>
                        <a:lnTo>
                          <a:pt x="356" y="162"/>
                        </a:lnTo>
                        <a:lnTo>
                          <a:pt x="370" y="166"/>
                        </a:lnTo>
                        <a:lnTo>
                          <a:pt x="381" y="173"/>
                        </a:lnTo>
                        <a:lnTo>
                          <a:pt x="392" y="180"/>
                        </a:lnTo>
                        <a:lnTo>
                          <a:pt x="397" y="184"/>
                        </a:lnTo>
                        <a:lnTo>
                          <a:pt x="407" y="196"/>
                        </a:lnTo>
                        <a:lnTo>
                          <a:pt x="413" y="208"/>
                        </a:lnTo>
                        <a:lnTo>
                          <a:pt x="417" y="224"/>
                        </a:lnTo>
                        <a:lnTo>
                          <a:pt x="413" y="237"/>
                        </a:lnTo>
                        <a:lnTo>
                          <a:pt x="402" y="241"/>
                        </a:lnTo>
                        <a:lnTo>
                          <a:pt x="388" y="241"/>
                        </a:lnTo>
                        <a:lnTo>
                          <a:pt x="373" y="237"/>
                        </a:lnTo>
                        <a:lnTo>
                          <a:pt x="357" y="227"/>
                        </a:lnTo>
                        <a:lnTo>
                          <a:pt x="346" y="219"/>
                        </a:lnTo>
                        <a:lnTo>
                          <a:pt x="328" y="206"/>
                        </a:lnTo>
                        <a:lnTo>
                          <a:pt x="310" y="199"/>
                        </a:lnTo>
                        <a:lnTo>
                          <a:pt x="291" y="194"/>
                        </a:lnTo>
                        <a:lnTo>
                          <a:pt x="276" y="193"/>
                        </a:lnTo>
                        <a:lnTo>
                          <a:pt x="256" y="191"/>
                        </a:lnTo>
                        <a:lnTo>
                          <a:pt x="235" y="191"/>
                        </a:lnTo>
                        <a:lnTo>
                          <a:pt x="212" y="192"/>
                        </a:lnTo>
                        <a:lnTo>
                          <a:pt x="193" y="197"/>
                        </a:lnTo>
                        <a:lnTo>
                          <a:pt x="173" y="203"/>
                        </a:lnTo>
                        <a:lnTo>
                          <a:pt x="155" y="212"/>
                        </a:lnTo>
                        <a:lnTo>
                          <a:pt x="138" y="223"/>
                        </a:lnTo>
                        <a:lnTo>
                          <a:pt x="121" y="231"/>
                        </a:lnTo>
                        <a:lnTo>
                          <a:pt x="98" y="246"/>
                        </a:lnTo>
                        <a:lnTo>
                          <a:pt x="75" y="267"/>
                        </a:lnTo>
                        <a:lnTo>
                          <a:pt x="55" y="288"/>
                        </a:lnTo>
                        <a:lnTo>
                          <a:pt x="41" y="310"/>
                        </a:lnTo>
                        <a:lnTo>
                          <a:pt x="28" y="335"/>
                        </a:lnTo>
                        <a:lnTo>
                          <a:pt x="15" y="369"/>
                        </a:lnTo>
                        <a:lnTo>
                          <a:pt x="9" y="397"/>
                        </a:lnTo>
                        <a:lnTo>
                          <a:pt x="3" y="429"/>
                        </a:lnTo>
                        <a:lnTo>
                          <a:pt x="0" y="461"/>
                        </a:lnTo>
                        <a:lnTo>
                          <a:pt x="0" y="490"/>
                        </a:lnTo>
                        <a:lnTo>
                          <a:pt x="3" y="520"/>
                        </a:lnTo>
                        <a:lnTo>
                          <a:pt x="9" y="549"/>
                        </a:lnTo>
                        <a:lnTo>
                          <a:pt x="18" y="580"/>
                        </a:lnTo>
                        <a:lnTo>
                          <a:pt x="29" y="601"/>
                        </a:lnTo>
                        <a:lnTo>
                          <a:pt x="42" y="622"/>
                        </a:lnTo>
                        <a:lnTo>
                          <a:pt x="53" y="636"/>
                        </a:lnTo>
                        <a:lnTo>
                          <a:pt x="72" y="651"/>
                        </a:lnTo>
                        <a:lnTo>
                          <a:pt x="89" y="664"/>
                        </a:lnTo>
                        <a:lnTo>
                          <a:pt x="107" y="675"/>
                        </a:lnTo>
                        <a:lnTo>
                          <a:pt x="128" y="685"/>
                        </a:lnTo>
                        <a:lnTo>
                          <a:pt x="144" y="690"/>
                        </a:lnTo>
                        <a:lnTo>
                          <a:pt x="166" y="697"/>
                        </a:lnTo>
                        <a:lnTo>
                          <a:pt x="189" y="703"/>
                        </a:lnTo>
                        <a:lnTo>
                          <a:pt x="209" y="703"/>
                        </a:lnTo>
                        <a:lnTo>
                          <a:pt x="229" y="703"/>
                        </a:lnTo>
                        <a:lnTo>
                          <a:pt x="243" y="700"/>
                        </a:lnTo>
                        <a:lnTo>
                          <a:pt x="264" y="699"/>
                        </a:lnTo>
                        <a:lnTo>
                          <a:pt x="295" y="692"/>
                        </a:lnTo>
                        <a:lnTo>
                          <a:pt x="312" y="689"/>
                        </a:lnTo>
                        <a:lnTo>
                          <a:pt x="328" y="679"/>
                        </a:lnTo>
                        <a:lnTo>
                          <a:pt x="350" y="669"/>
                        </a:lnTo>
                        <a:lnTo>
                          <a:pt x="372" y="655"/>
                        </a:lnTo>
                        <a:lnTo>
                          <a:pt x="387" y="644"/>
                        </a:lnTo>
                        <a:lnTo>
                          <a:pt x="407" y="627"/>
                        </a:lnTo>
                        <a:lnTo>
                          <a:pt x="431" y="608"/>
                        </a:lnTo>
                        <a:lnTo>
                          <a:pt x="456" y="581"/>
                        </a:lnTo>
                        <a:lnTo>
                          <a:pt x="480" y="560"/>
                        </a:lnTo>
                        <a:lnTo>
                          <a:pt x="500" y="541"/>
                        </a:lnTo>
                        <a:lnTo>
                          <a:pt x="520" y="522"/>
                        </a:lnTo>
                        <a:lnTo>
                          <a:pt x="536" y="509"/>
                        </a:lnTo>
                        <a:lnTo>
                          <a:pt x="550" y="498"/>
                        </a:lnTo>
                        <a:lnTo>
                          <a:pt x="568" y="488"/>
                        </a:lnTo>
                        <a:lnTo>
                          <a:pt x="590" y="478"/>
                        </a:lnTo>
                        <a:lnTo>
                          <a:pt x="616" y="470"/>
                        </a:lnTo>
                        <a:lnTo>
                          <a:pt x="637" y="463"/>
                        </a:lnTo>
                        <a:lnTo>
                          <a:pt x="662" y="456"/>
                        </a:lnTo>
                        <a:lnTo>
                          <a:pt x="694" y="449"/>
                        </a:lnTo>
                        <a:lnTo>
                          <a:pt x="716" y="446"/>
                        </a:lnTo>
                        <a:lnTo>
                          <a:pt x="737" y="443"/>
                        </a:lnTo>
                        <a:lnTo>
                          <a:pt x="762" y="439"/>
                        </a:lnTo>
                        <a:lnTo>
                          <a:pt x="791" y="43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102"/>
                  <p:cNvSpPr/>
                  <p:nvPr/>
                </p:nvSpPr>
                <p:spPr>
                  <a:xfrm>
                    <a:off x="1014840" y="4195080"/>
                    <a:ext cx="540720" cy="371880"/>
                  </a:xfrm>
                  <a:custGeom>
                    <a:avLst/>
                    <a:gdLst>
                      <a:gd name="textAreaLeft" fmla="*/ 0 w 540720"/>
                      <a:gd name="textAreaRight" fmla="*/ 541080 w 540720"/>
                      <a:gd name="textAreaTop" fmla="*/ 0 h 371880"/>
                      <a:gd name="textAreaBottom" fmla="*/ 372240 h 371880"/>
                    </a:gdLst>
                    <a:ahLst/>
                    <a:rect l="textAreaLeft" t="textAreaTop" r="textAreaRight" b="textAreaBottom"/>
                    <a:pathLst>
                      <a:path w="981" h="633">
                        <a:moveTo>
                          <a:pt x="147" y="239"/>
                        </a:moveTo>
                        <a:lnTo>
                          <a:pt x="128" y="233"/>
                        </a:lnTo>
                        <a:lnTo>
                          <a:pt x="114" y="233"/>
                        </a:lnTo>
                        <a:lnTo>
                          <a:pt x="82" y="227"/>
                        </a:lnTo>
                        <a:lnTo>
                          <a:pt x="51" y="224"/>
                        </a:lnTo>
                        <a:lnTo>
                          <a:pt x="0" y="227"/>
                        </a:lnTo>
                        <a:lnTo>
                          <a:pt x="26" y="207"/>
                        </a:lnTo>
                        <a:lnTo>
                          <a:pt x="61" y="186"/>
                        </a:lnTo>
                        <a:lnTo>
                          <a:pt x="99" y="164"/>
                        </a:lnTo>
                        <a:lnTo>
                          <a:pt x="126" y="143"/>
                        </a:lnTo>
                        <a:lnTo>
                          <a:pt x="167" y="118"/>
                        </a:lnTo>
                        <a:lnTo>
                          <a:pt x="204" y="101"/>
                        </a:lnTo>
                        <a:lnTo>
                          <a:pt x="237" y="88"/>
                        </a:lnTo>
                        <a:lnTo>
                          <a:pt x="279" y="69"/>
                        </a:lnTo>
                        <a:lnTo>
                          <a:pt x="318" y="55"/>
                        </a:lnTo>
                        <a:lnTo>
                          <a:pt x="367" y="39"/>
                        </a:lnTo>
                        <a:lnTo>
                          <a:pt x="407" y="28"/>
                        </a:lnTo>
                        <a:lnTo>
                          <a:pt x="460" y="17"/>
                        </a:lnTo>
                        <a:lnTo>
                          <a:pt x="506" y="7"/>
                        </a:lnTo>
                        <a:lnTo>
                          <a:pt x="557" y="0"/>
                        </a:lnTo>
                        <a:lnTo>
                          <a:pt x="604" y="0"/>
                        </a:lnTo>
                        <a:lnTo>
                          <a:pt x="639" y="3"/>
                        </a:lnTo>
                        <a:lnTo>
                          <a:pt x="676" y="10"/>
                        </a:lnTo>
                        <a:lnTo>
                          <a:pt x="720" y="24"/>
                        </a:lnTo>
                        <a:lnTo>
                          <a:pt x="759" y="42"/>
                        </a:lnTo>
                        <a:lnTo>
                          <a:pt x="803" y="65"/>
                        </a:lnTo>
                        <a:lnTo>
                          <a:pt x="844" y="105"/>
                        </a:lnTo>
                        <a:lnTo>
                          <a:pt x="887" y="150"/>
                        </a:lnTo>
                        <a:lnTo>
                          <a:pt x="916" y="200"/>
                        </a:lnTo>
                        <a:lnTo>
                          <a:pt x="937" y="242"/>
                        </a:lnTo>
                        <a:lnTo>
                          <a:pt x="959" y="293"/>
                        </a:lnTo>
                        <a:lnTo>
                          <a:pt x="976" y="344"/>
                        </a:lnTo>
                        <a:lnTo>
                          <a:pt x="981" y="395"/>
                        </a:lnTo>
                        <a:lnTo>
                          <a:pt x="981" y="440"/>
                        </a:lnTo>
                        <a:lnTo>
                          <a:pt x="973" y="486"/>
                        </a:lnTo>
                        <a:lnTo>
                          <a:pt x="959" y="522"/>
                        </a:lnTo>
                        <a:lnTo>
                          <a:pt x="946" y="547"/>
                        </a:lnTo>
                        <a:lnTo>
                          <a:pt x="927" y="569"/>
                        </a:lnTo>
                        <a:lnTo>
                          <a:pt x="902" y="589"/>
                        </a:lnTo>
                        <a:lnTo>
                          <a:pt x="868" y="607"/>
                        </a:lnTo>
                        <a:lnTo>
                          <a:pt x="827" y="618"/>
                        </a:lnTo>
                        <a:lnTo>
                          <a:pt x="803" y="625"/>
                        </a:lnTo>
                        <a:lnTo>
                          <a:pt x="765" y="631"/>
                        </a:lnTo>
                        <a:lnTo>
                          <a:pt x="728" y="633"/>
                        </a:lnTo>
                        <a:lnTo>
                          <a:pt x="695" y="630"/>
                        </a:lnTo>
                        <a:lnTo>
                          <a:pt x="663" y="626"/>
                        </a:lnTo>
                        <a:lnTo>
                          <a:pt x="622" y="619"/>
                        </a:lnTo>
                        <a:lnTo>
                          <a:pt x="581" y="612"/>
                        </a:lnTo>
                        <a:lnTo>
                          <a:pt x="551" y="598"/>
                        </a:lnTo>
                        <a:lnTo>
                          <a:pt x="513" y="574"/>
                        </a:lnTo>
                        <a:lnTo>
                          <a:pt x="491" y="556"/>
                        </a:lnTo>
                        <a:lnTo>
                          <a:pt x="463" y="525"/>
                        </a:lnTo>
                        <a:lnTo>
                          <a:pt x="435" y="489"/>
                        </a:lnTo>
                        <a:lnTo>
                          <a:pt x="413" y="457"/>
                        </a:lnTo>
                        <a:lnTo>
                          <a:pt x="389" y="418"/>
                        </a:lnTo>
                        <a:lnTo>
                          <a:pt x="371" y="379"/>
                        </a:lnTo>
                        <a:lnTo>
                          <a:pt x="352" y="348"/>
                        </a:lnTo>
                        <a:lnTo>
                          <a:pt x="332" y="316"/>
                        </a:lnTo>
                        <a:lnTo>
                          <a:pt x="304" y="292"/>
                        </a:lnTo>
                        <a:lnTo>
                          <a:pt x="270" y="272"/>
                        </a:lnTo>
                        <a:lnTo>
                          <a:pt x="237" y="256"/>
                        </a:lnTo>
                        <a:lnTo>
                          <a:pt x="195" y="245"/>
                        </a:lnTo>
                        <a:lnTo>
                          <a:pt x="168" y="242"/>
                        </a:lnTo>
                        <a:lnTo>
                          <a:pt x="147" y="23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103"/>
                  <p:cNvSpPr/>
                  <p:nvPr/>
                </p:nvSpPr>
                <p:spPr>
                  <a:xfrm>
                    <a:off x="798840" y="4316760"/>
                    <a:ext cx="593280" cy="711360"/>
                  </a:xfrm>
                  <a:custGeom>
                    <a:avLst/>
                    <a:gdLst>
                      <a:gd name="textAreaLeft" fmla="*/ 0 w 593280"/>
                      <a:gd name="textAreaRight" fmla="*/ 593640 w 593280"/>
                      <a:gd name="textAreaTop" fmla="*/ 0 h 711360"/>
                      <a:gd name="textAreaBottom" fmla="*/ 711720 h 711360"/>
                    </a:gdLst>
                    <a:ahLst/>
                    <a:rect l="textAreaLeft" t="textAreaTop" r="textAreaRight" b="textAreaBottom"/>
                    <a:pathLst>
                      <a:path w="1074" h="1217">
                        <a:moveTo>
                          <a:pt x="343" y="29"/>
                        </a:moveTo>
                        <a:lnTo>
                          <a:pt x="321" y="45"/>
                        </a:lnTo>
                        <a:lnTo>
                          <a:pt x="297" y="62"/>
                        </a:lnTo>
                        <a:lnTo>
                          <a:pt x="279" y="76"/>
                        </a:lnTo>
                        <a:lnTo>
                          <a:pt x="258" y="101"/>
                        </a:lnTo>
                        <a:lnTo>
                          <a:pt x="244" y="124"/>
                        </a:lnTo>
                        <a:lnTo>
                          <a:pt x="230" y="149"/>
                        </a:lnTo>
                        <a:lnTo>
                          <a:pt x="218" y="178"/>
                        </a:lnTo>
                        <a:lnTo>
                          <a:pt x="206" y="217"/>
                        </a:lnTo>
                        <a:lnTo>
                          <a:pt x="194" y="256"/>
                        </a:lnTo>
                        <a:lnTo>
                          <a:pt x="188" y="293"/>
                        </a:lnTo>
                        <a:lnTo>
                          <a:pt x="179" y="330"/>
                        </a:lnTo>
                        <a:lnTo>
                          <a:pt x="177" y="361"/>
                        </a:lnTo>
                        <a:lnTo>
                          <a:pt x="174" y="391"/>
                        </a:lnTo>
                        <a:lnTo>
                          <a:pt x="174" y="423"/>
                        </a:lnTo>
                        <a:lnTo>
                          <a:pt x="170" y="444"/>
                        </a:lnTo>
                        <a:lnTo>
                          <a:pt x="165" y="467"/>
                        </a:lnTo>
                        <a:lnTo>
                          <a:pt x="158" y="484"/>
                        </a:lnTo>
                        <a:lnTo>
                          <a:pt x="149" y="504"/>
                        </a:lnTo>
                        <a:lnTo>
                          <a:pt x="140" y="525"/>
                        </a:lnTo>
                        <a:lnTo>
                          <a:pt x="127" y="548"/>
                        </a:lnTo>
                        <a:lnTo>
                          <a:pt x="106" y="576"/>
                        </a:lnTo>
                        <a:lnTo>
                          <a:pt x="88" y="603"/>
                        </a:lnTo>
                        <a:lnTo>
                          <a:pt x="71" y="633"/>
                        </a:lnTo>
                        <a:lnTo>
                          <a:pt x="55" y="654"/>
                        </a:lnTo>
                        <a:lnTo>
                          <a:pt x="40" y="676"/>
                        </a:lnTo>
                        <a:lnTo>
                          <a:pt x="27" y="699"/>
                        </a:lnTo>
                        <a:lnTo>
                          <a:pt x="17" y="724"/>
                        </a:lnTo>
                        <a:lnTo>
                          <a:pt x="10" y="745"/>
                        </a:lnTo>
                        <a:lnTo>
                          <a:pt x="5" y="771"/>
                        </a:lnTo>
                        <a:lnTo>
                          <a:pt x="0" y="801"/>
                        </a:lnTo>
                        <a:lnTo>
                          <a:pt x="0" y="832"/>
                        </a:lnTo>
                        <a:lnTo>
                          <a:pt x="3" y="855"/>
                        </a:lnTo>
                        <a:lnTo>
                          <a:pt x="10" y="895"/>
                        </a:lnTo>
                        <a:lnTo>
                          <a:pt x="16" y="918"/>
                        </a:lnTo>
                        <a:lnTo>
                          <a:pt x="21" y="936"/>
                        </a:lnTo>
                        <a:lnTo>
                          <a:pt x="32" y="954"/>
                        </a:lnTo>
                        <a:lnTo>
                          <a:pt x="41" y="964"/>
                        </a:lnTo>
                        <a:lnTo>
                          <a:pt x="51" y="975"/>
                        </a:lnTo>
                        <a:lnTo>
                          <a:pt x="66" y="984"/>
                        </a:lnTo>
                        <a:lnTo>
                          <a:pt x="90" y="991"/>
                        </a:lnTo>
                        <a:lnTo>
                          <a:pt x="109" y="995"/>
                        </a:lnTo>
                        <a:lnTo>
                          <a:pt x="128" y="995"/>
                        </a:lnTo>
                        <a:lnTo>
                          <a:pt x="148" y="990"/>
                        </a:lnTo>
                        <a:lnTo>
                          <a:pt x="160" y="985"/>
                        </a:lnTo>
                        <a:lnTo>
                          <a:pt x="177" y="977"/>
                        </a:lnTo>
                        <a:lnTo>
                          <a:pt x="190" y="964"/>
                        </a:lnTo>
                        <a:lnTo>
                          <a:pt x="202" y="949"/>
                        </a:lnTo>
                        <a:lnTo>
                          <a:pt x="211" y="935"/>
                        </a:lnTo>
                        <a:lnTo>
                          <a:pt x="216" y="916"/>
                        </a:lnTo>
                        <a:lnTo>
                          <a:pt x="220" y="895"/>
                        </a:lnTo>
                        <a:lnTo>
                          <a:pt x="223" y="875"/>
                        </a:lnTo>
                        <a:lnTo>
                          <a:pt x="225" y="853"/>
                        </a:lnTo>
                        <a:lnTo>
                          <a:pt x="231" y="833"/>
                        </a:lnTo>
                        <a:lnTo>
                          <a:pt x="236" y="817"/>
                        </a:lnTo>
                        <a:lnTo>
                          <a:pt x="245" y="800"/>
                        </a:lnTo>
                        <a:lnTo>
                          <a:pt x="252" y="787"/>
                        </a:lnTo>
                        <a:lnTo>
                          <a:pt x="265" y="770"/>
                        </a:lnTo>
                        <a:lnTo>
                          <a:pt x="284" y="753"/>
                        </a:lnTo>
                        <a:lnTo>
                          <a:pt x="300" y="746"/>
                        </a:lnTo>
                        <a:lnTo>
                          <a:pt x="319" y="744"/>
                        </a:lnTo>
                        <a:lnTo>
                          <a:pt x="336" y="742"/>
                        </a:lnTo>
                        <a:lnTo>
                          <a:pt x="355" y="743"/>
                        </a:lnTo>
                        <a:lnTo>
                          <a:pt x="373" y="753"/>
                        </a:lnTo>
                        <a:lnTo>
                          <a:pt x="386" y="765"/>
                        </a:lnTo>
                        <a:lnTo>
                          <a:pt x="400" y="786"/>
                        </a:lnTo>
                        <a:lnTo>
                          <a:pt x="409" y="806"/>
                        </a:lnTo>
                        <a:lnTo>
                          <a:pt x="420" y="828"/>
                        </a:lnTo>
                        <a:lnTo>
                          <a:pt x="432" y="860"/>
                        </a:lnTo>
                        <a:lnTo>
                          <a:pt x="437" y="873"/>
                        </a:lnTo>
                        <a:lnTo>
                          <a:pt x="442" y="889"/>
                        </a:lnTo>
                        <a:lnTo>
                          <a:pt x="445" y="916"/>
                        </a:lnTo>
                        <a:lnTo>
                          <a:pt x="447" y="943"/>
                        </a:lnTo>
                        <a:lnTo>
                          <a:pt x="448" y="975"/>
                        </a:lnTo>
                        <a:lnTo>
                          <a:pt x="450" y="997"/>
                        </a:lnTo>
                        <a:lnTo>
                          <a:pt x="455" y="1019"/>
                        </a:lnTo>
                        <a:lnTo>
                          <a:pt x="459" y="1040"/>
                        </a:lnTo>
                        <a:lnTo>
                          <a:pt x="468" y="1062"/>
                        </a:lnTo>
                        <a:lnTo>
                          <a:pt x="480" y="1092"/>
                        </a:lnTo>
                        <a:lnTo>
                          <a:pt x="489" y="1110"/>
                        </a:lnTo>
                        <a:lnTo>
                          <a:pt x="500" y="1127"/>
                        </a:lnTo>
                        <a:lnTo>
                          <a:pt x="517" y="1148"/>
                        </a:lnTo>
                        <a:lnTo>
                          <a:pt x="529" y="1160"/>
                        </a:lnTo>
                        <a:lnTo>
                          <a:pt x="541" y="1173"/>
                        </a:lnTo>
                        <a:lnTo>
                          <a:pt x="560" y="1187"/>
                        </a:lnTo>
                        <a:lnTo>
                          <a:pt x="577" y="1198"/>
                        </a:lnTo>
                        <a:lnTo>
                          <a:pt x="591" y="1205"/>
                        </a:lnTo>
                        <a:lnTo>
                          <a:pt x="601" y="1210"/>
                        </a:lnTo>
                        <a:lnTo>
                          <a:pt x="613" y="1214"/>
                        </a:lnTo>
                        <a:lnTo>
                          <a:pt x="625" y="1216"/>
                        </a:lnTo>
                        <a:lnTo>
                          <a:pt x="635" y="1217"/>
                        </a:lnTo>
                        <a:lnTo>
                          <a:pt x="648" y="1217"/>
                        </a:lnTo>
                        <a:lnTo>
                          <a:pt x="657" y="1216"/>
                        </a:lnTo>
                        <a:lnTo>
                          <a:pt x="669" y="1212"/>
                        </a:lnTo>
                        <a:lnTo>
                          <a:pt x="678" y="1209"/>
                        </a:lnTo>
                        <a:lnTo>
                          <a:pt x="689" y="1203"/>
                        </a:lnTo>
                        <a:lnTo>
                          <a:pt x="702" y="1191"/>
                        </a:lnTo>
                        <a:lnTo>
                          <a:pt x="712" y="1180"/>
                        </a:lnTo>
                        <a:lnTo>
                          <a:pt x="721" y="1168"/>
                        </a:lnTo>
                        <a:lnTo>
                          <a:pt x="726" y="1155"/>
                        </a:lnTo>
                        <a:lnTo>
                          <a:pt x="732" y="1143"/>
                        </a:lnTo>
                        <a:lnTo>
                          <a:pt x="735" y="1132"/>
                        </a:lnTo>
                        <a:lnTo>
                          <a:pt x="738" y="1122"/>
                        </a:lnTo>
                        <a:lnTo>
                          <a:pt x="742" y="1108"/>
                        </a:lnTo>
                        <a:lnTo>
                          <a:pt x="745" y="1091"/>
                        </a:lnTo>
                        <a:lnTo>
                          <a:pt x="749" y="1075"/>
                        </a:lnTo>
                        <a:lnTo>
                          <a:pt x="752" y="1060"/>
                        </a:lnTo>
                        <a:lnTo>
                          <a:pt x="753" y="1046"/>
                        </a:lnTo>
                        <a:lnTo>
                          <a:pt x="753" y="1030"/>
                        </a:lnTo>
                        <a:lnTo>
                          <a:pt x="753" y="1016"/>
                        </a:lnTo>
                        <a:lnTo>
                          <a:pt x="753" y="995"/>
                        </a:lnTo>
                        <a:lnTo>
                          <a:pt x="749" y="964"/>
                        </a:lnTo>
                        <a:lnTo>
                          <a:pt x="744" y="937"/>
                        </a:lnTo>
                        <a:lnTo>
                          <a:pt x="738" y="914"/>
                        </a:lnTo>
                        <a:lnTo>
                          <a:pt x="733" y="897"/>
                        </a:lnTo>
                        <a:lnTo>
                          <a:pt x="729" y="886"/>
                        </a:lnTo>
                        <a:lnTo>
                          <a:pt x="721" y="866"/>
                        </a:lnTo>
                        <a:lnTo>
                          <a:pt x="714" y="849"/>
                        </a:lnTo>
                        <a:lnTo>
                          <a:pt x="709" y="839"/>
                        </a:lnTo>
                        <a:lnTo>
                          <a:pt x="704" y="831"/>
                        </a:lnTo>
                        <a:lnTo>
                          <a:pt x="700" y="822"/>
                        </a:lnTo>
                        <a:lnTo>
                          <a:pt x="695" y="807"/>
                        </a:lnTo>
                        <a:lnTo>
                          <a:pt x="695" y="793"/>
                        </a:lnTo>
                        <a:lnTo>
                          <a:pt x="701" y="783"/>
                        </a:lnTo>
                        <a:lnTo>
                          <a:pt x="707" y="774"/>
                        </a:lnTo>
                        <a:lnTo>
                          <a:pt x="715" y="767"/>
                        </a:lnTo>
                        <a:lnTo>
                          <a:pt x="729" y="760"/>
                        </a:lnTo>
                        <a:lnTo>
                          <a:pt x="742" y="759"/>
                        </a:lnTo>
                        <a:lnTo>
                          <a:pt x="756" y="763"/>
                        </a:lnTo>
                        <a:lnTo>
                          <a:pt x="764" y="766"/>
                        </a:lnTo>
                        <a:lnTo>
                          <a:pt x="776" y="774"/>
                        </a:lnTo>
                        <a:lnTo>
                          <a:pt x="783" y="780"/>
                        </a:lnTo>
                        <a:lnTo>
                          <a:pt x="793" y="788"/>
                        </a:lnTo>
                        <a:lnTo>
                          <a:pt x="799" y="795"/>
                        </a:lnTo>
                        <a:lnTo>
                          <a:pt x="803" y="805"/>
                        </a:lnTo>
                        <a:lnTo>
                          <a:pt x="810" y="818"/>
                        </a:lnTo>
                        <a:lnTo>
                          <a:pt x="813" y="828"/>
                        </a:lnTo>
                        <a:lnTo>
                          <a:pt x="817" y="841"/>
                        </a:lnTo>
                        <a:lnTo>
                          <a:pt x="819" y="863"/>
                        </a:lnTo>
                        <a:lnTo>
                          <a:pt x="818" y="883"/>
                        </a:lnTo>
                        <a:lnTo>
                          <a:pt x="819" y="904"/>
                        </a:lnTo>
                        <a:lnTo>
                          <a:pt x="820" y="923"/>
                        </a:lnTo>
                        <a:lnTo>
                          <a:pt x="821" y="942"/>
                        </a:lnTo>
                        <a:lnTo>
                          <a:pt x="828" y="963"/>
                        </a:lnTo>
                        <a:lnTo>
                          <a:pt x="840" y="980"/>
                        </a:lnTo>
                        <a:lnTo>
                          <a:pt x="856" y="995"/>
                        </a:lnTo>
                        <a:lnTo>
                          <a:pt x="868" y="1002"/>
                        </a:lnTo>
                        <a:lnTo>
                          <a:pt x="883" y="1010"/>
                        </a:lnTo>
                        <a:lnTo>
                          <a:pt x="903" y="1016"/>
                        </a:lnTo>
                        <a:lnTo>
                          <a:pt x="922" y="1019"/>
                        </a:lnTo>
                        <a:lnTo>
                          <a:pt x="950" y="1024"/>
                        </a:lnTo>
                        <a:lnTo>
                          <a:pt x="972" y="1019"/>
                        </a:lnTo>
                        <a:lnTo>
                          <a:pt x="1006" y="1010"/>
                        </a:lnTo>
                        <a:lnTo>
                          <a:pt x="1034" y="988"/>
                        </a:lnTo>
                        <a:lnTo>
                          <a:pt x="1052" y="959"/>
                        </a:lnTo>
                        <a:lnTo>
                          <a:pt x="1065" y="927"/>
                        </a:lnTo>
                        <a:lnTo>
                          <a:pt x="1071" y="897"/>
                        </a:lnTo>
                        <a:lnTo>
                          <a:pt x="1074" y="866"/>
                        </a:lnTo>
                        <a:lnTo>
                          <a:pt x="1074" y="836"/>
                        </a:lnTo>
                        <a:lnTo>
                          <a:pt x="1072" y="814"/>
                        </a:lnTo>
                        <a:lnTo>
                          <a:pt x="1070" y="791"/>
                        </a:lnTo>
                        <a:lnTo>
                          <a:pt x="1065" y="764"/>
                        </a:lnTo>
                        <a:lnTo>
                          <a:pt x="1059" y="723"/>
                        </a:lnTo>
                        <a:lnTo>
                          <a:pt x="1051" y="691"/>
                        </a:lnTo>
                        <a:lnTo>
                          <a:pt x="1042" y="650"/>
                        </a:lnTo>
                        <a:lnTo>
                          <a:pt x="1033" y="619"/>
                        </a:lnTo>
                        <a:lnTo>
                          <a:pt x="1011" y="546"/>
                        </a:lnTo>
                        <a:lnTo>
                          <a:pt x="986" y="483"/>
                        </a:lnTo>
                        <a:lnTo>
                          <a:pt x="952" y="416"/>
                        </a:lnTo>
                        <a:lnTo>
                          <a:pt x="915" y="354"/>
                        </a:lnTo>
                        <a:lnTo>
                          <a:pt x="878" y="301"/>
                        </a:lnTo>
                        <a:lnTo>
                          <a:pt x="837" y="254"/>
                        </a:lnTo>
                        <a:lnTo>
                          <a:pt x="799" y="218"/>
                        </a:lnTo>
                        <a:lnTo>
                          <a:pt x="726" y="150"/>
                        </a:lnTo>
                        <a:lnTo>
                          <a:pt x="667" y="103"/>
                        </a:lnTo>
                        <a:lnTo>
                          <a:pt x="619" y="67"/>
                        </a:lnTo>
                        <a:lnTo>
                          <a:pt x="553" y="25"/>
                        </a:lnTo>
                        <a:lnTo>
                          <a:pt x="510" y="10"/>
                        </a:lnTo>
                        <a:lnTo>
                          <a:pt x="456" y="0"/>
                        </a:lnTo>
                        <a:lnTo>
                          <a:pt x="430" y="1"/>
                        </a:lnTo>
                        <a:lnTo>
                          <a:pt x="402" y="4"/>
                        </a:lnTo>
                        <a:lnTo>
                          <a:pt x="369" y="15"/>
                        </a:lnTo>
                        <a:lnTo>
                          <a:pt x="343" y="29"/>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104"/>
                  <p:cNvSpPr/>
                  <p:nvPr/>
                </p:nvSpPr>
                <p:spPr>
                  <a:xfrm>
                    <a:off x="1032840" y="4269960"/>
                    <a:ext cx="480600" cy="563760"/>
                  </a:xfrm>
                  <a:custGeom>
                    <a:avLst/>
                    <a:gdLst>
                      <a:gd name="textAreaLeft" fmla="*/ 0 w 480600"/>
                      <a:gd name="textAreaRight" fmla="*/ 480960 w 480600"/>
                      <a:gd name="textAreaTop" fmla="*/ 0 h 563760"/>
                      <a:gd name="textAreaBottom" fmla="*/ 564120 h 563760"/>
                    </a:gdLst>
                    <a:ahLst/>
                    <a:rect l="textAreaLeft" t="textAreaTop" r="textAreaRight" b="textAreaBottom"/>
                    <a:pathLst>
                      <a:path w="872" h="965">
                        <a:moveTo>
                          <a:pt x="0" y="86"/>
                        </a:moveTo>
                        <a:lnTo>
                          <a:pt x="31" y="71"/>
                        </a:lnTo>
                        <a:lnTo>
                          <a:pt x="67" y="46"/>
                        </a:lnTo>
                        <a:lnTo>
                          <a:pt x="112" y="27"/>
                        </a:lnTo>
                        <a:lnTo>
                          <a:pt x="141" y="17"/>
                        </a:lnTo>
                        <a:lnTo>
                          <a:pt x="180" y="7"/>
                        </a:lnTo>
                        <a:lnTo>
                          <a:pt x="224" y="2"/>
                        </a:lnTo>
                        <a:lnTo>
                          <a:pt x="258" y="0"/>
                        </a:lnTo>
                        <a:lnTo>
                          <a:pt x="293" y="2"/>
                        </a:lnTo>
                        <a:lnTo>
                          <a:pt x="325" y="5"/>
                        </a:lnTo>
                        <a:lnTo>
                          <a:pt x="351" y="9"/>
                        </a:lnTo>
                        <a:lnTo>
                          <a:pt x="372" y="12"/>
                        </a:lnTo>
                        <a:lnTo>
                          <a:pt x="402" y="19"/>
                        </a:lnTo>
                        <a:lnTo>
                          <a:pt x="436" y="28"/>
                        </a:lnTo>
                        <a:lnTo>
                          <a:pt x="464" y="37"/>
                        </a:lnTo>
                        <a:lnTo>
                          <a:pt x="490" y="46"/>
                        </a:lnTo>
                        <a:lnTo>
                          <a:pt x="524" y="61"/>
                        </a:lnTo>
                        <a:lnTo>
                          <a:pt x="543" y="71"/>
                        </a:lnTo>
                        <a:lnTo>
                          <a:pt x="571" y="88"/>
                        </a:lnTo>
                        <a:lnTo>
                          <a:pt x="599" y="106"/>
                        </a:lnTo>
                        <a:lnTo>
                          <a:pt x="627" y="125"/>
                        </a:lnTo>
                        <a:lnTo>
                          <a:pt x="649" y="139"/>
                        </a:lnTo>
                        <a:lnTo>
                          <a:pt x="672" y="156"/>
                        </a:lnTo>
                        <a:lnTo>
                          <a:pt x="690" y="174"/>
                        </a:lnTo>
                        <a:lnTo>
                          <a:pt x="713" y="194"/>
                        </a:lnTo>
                        <a:lnTo>
                          <a:pt x="732" y="215"/>
                        </a:lnTo>
                        <a:lnTo>
                          <a:pt x="756" y="237"/>
                        </a:lnTo>
                        <a:lnTo>
                          <a:pt x="778" y="265"/>
                        </a:lnTo>
                        <a:lnTo>
                          <a:pt x="799" y="290"/>
                        </a:lnTo>
                        <a:lnTo>
                          <a:pt x="814" y="315"/>
                        </a:lnTo>
                        <a:lnTo>
                          <a:pt x="830" y="344"/>
                        </a:lnTo>
                        <a:lnTo>
                          <a:pt x="843" y="367"/>
                        </a:lnTo>
                        <a:lnTo>
                          <a:pt x="855" y="392"/>
                        </a:lnTo>
                        <a:lnTo>
                          <a:pt x="862" y="421"/>
                        </a:lnTo>
                        <a:lnTo>
                          <a:pt x="867" y="444"/>
                        </a:lnTo>
                        <a:lnTo>
                          <a:pt x="868" y="472"/>
                        </a:lnTo>
                        <a:lnTo>
                          <a:pt x="871" y="490"/>
                        </a:lnTo>
                        <a:lnTo>
                          <a:pt x="872" y="511"/>
                        </a:lnTo>
                        <a:lnTo>
                          <a:pt x="872" y="531"/>
                        </a:lnTo>
                        <a:lnTo>
                          <a:pt x="868" y="550"/>
                        </a:lnTo>
                        <a:lnTo>
                          <a:pt x="861" y="573"/>
                        </a:lnTo>
                        <a:lnTo>
                          <a:pt x="853" y="585"/>
                        </a:lnTo>
                        <a:lnTo>
                          <a:pt x="838" y="591"/>
                        </a:lnTo>
                        <a:lnTo>
                          <a:pt x="824" y="591"/>
                        </a:lnTo>
                        <a:lnTo>
                          <a:pt x="803" y="585"/>
                        </a:lnTo>
                        <a:lnTo>
                          <a:pt x="784" y="578"/>
                        </a:lnTo>
                        <a:lnTo>
                          <a:pt x="770" y="566"/>
                        </a:lnTo>
                        <a:lnTo>
                          <a:pt x="758" y="552"/>
                        </a:lnTo>
                        <a:lnTo>
                          <a:pt x="749" y="538"/>
                        </a:lnTo>
                        <a:lnTo>
                          <a:pt x="742" y="522"/>
                        </a:lnTo>
                        <a:lnTo>
                          <a:pt x="739" y="497"/>
                        </a:lnTo>
                        <a:lnTo>
                          <a:pt x="736" y="477"/>
                        </a:lnTo>
                        <a:lnTo>
                          <a:pt x="732" y="451"/>
                        </a:lnTo>
                        <a:lnTo>
                          <a:pt x="728" y="430"/>
                        </a:lnTo>
                        <a:lnTo>
                          <a:pt x="718" y="409"/>
                        </a:lnTo>
                        <a:lnTo>
                          <a:pt x="708" y="395"/>
                        </a:lnTo>
                        <a:lnTo>
                          <a:pt x="696" y="390"/>
                        </a:lnTo>
                        <a:lnTo>
                          <a:pt x="679" y="396"/>
                        </a:lnTo>
                        <a:lnTo>
                          <a:pt x="670" y="408"/>
                        </a:lnTo>
                        <a:lnTo>
                          <a:pt x="663" y="430"/>
                        </a:lnTo>
                        <a:lnTo>
                          <a:pt x="660" y="451"/>
                        </a:lnTo>
                        <a:lnTo>
                          <a:pt x="660" y="463"/>
                        </a:lnTo>
                        <a:lnTo>
                          <a:pt x="662" y="478"/>
                        </a:lnTo>
                        <a:lnTo>
                          <a:pt x="669" y="495"/>
                        </a:lnTo>
                        <a:lnTo>
                          <a:pt x="677" y="515"/>
                        </a:lnTo>
                        <a:lnTo>
                          <a:pt x="689" y="533"/>
                        </a:lnTo>
                        <a:lnTo>
                          <a:pt x="696" y="556"/>
                        </a:lnTo>
                        <a:lnTo>
                          <a:pt x="707" y="579"/>
                        </a:lnTo>
                        <a:lnTo>
                          <a:pt x="717" y="605"/>
                        </a:lnTo>
                        <a:lnTo>
                          <a:pt x="724" y="626"/>
                        </a:lnTo>
                        <a:lnTo>
                          <a:pt x="732" y="654"/>
                        </a:lnTo>
                        <a:lnTo>
                          <a:pt x="739" y="675"/>
                        </a:lnTo>
                        <a:lnTo>
                          <a:pt x="743" y="703"/>
                        </a:lnTo>
                        <a:lnTo>
                          <a:pt x="747" y="734"/>
                        </a:lnTo>
                        <a:lnTo>
                          <a:pt x="749" y="758"/>
                        </a:lnTo>
                        <a:lnTo>
                          <a:pt x="750" y="782"/>
                        </a:lnTo>
                        <a:lnTo>
                          <a:pt x="747" y="807"/>
                        </a:lnTo>
                        <a:lnTo>
                          <a:pt x="741" y="834"/>
                        </a:lnTo>
                        <a:lnTo>
                          <a:pt x="734" y="859"/>
                        </a:lnTo>
                        <a:lnTo>
                          <a:pt x="727" y="880"/>
                        </a:lnTo>
                        <a:lnTo>
                          <a:pt x="715" y="901"/>
                        </a:lnTo>
                        <a:lnTo>
                          <a:pt x="702" y="916"/>
                        </a:lnTo>
                        <a:lnTo>
                          <a:pt x="689" y="930"/>
                        </a:lnTo>
                        <a:lnTo>
                          <a:pt x="674" y="941"/>
                        </a:lnTo>
                        <a:lnTo>
                          <a:pt x="660" y="948"/>
                        </a:lnTo>
                        <a:lnTo>
                          <a:pt x="638" y="955"/>
                        </a:lnTo>
                        <a:lnTo>
                          <a:pt x="615" y="961"/>
                        </a:lnTo>
                        <a:lnTo>
                          <a:pt x="590" y="965"/>
                        </a:lnTo>
                        <a:lnTo>
                          <a:pt x="571" y="964"/>
                        </a:lnTo>
                        <a:lnTo>
                          <a:pt x="549" y="962"/>
                        </a:lnTo>
                        <a:lnTo>
                          <a:pt x="531" y="954"/>
                        </a:lnTo>
                        <a:lnTo>
                          <a:pt x="518" y="944"/>
                        </a:lnTo>
                        <a:lnTo>
                          <a:pt x="506" y="929"/>
                        </a:lnTo>
                        <a:lnTo>
                          <a:pt x="499" y="908"/>
                        </a:lnTo>
                        <a:lnTo>
                          <a:pt x="499" y="883"/>
                        </a:lnTo>
                        <a:lnTo>
                          <a:pt x="496" y="855"/>
                        </a:lnTo>
                        <a:lnTo>
                          <a:pt x="496" y="828"/>
                        </a:lnTo>
                        <a:lnTo>
                          <a:pt x="499" y="796"/>
                        </a:lnTo>
                        <a:lnTo>
                          <a:pt x="505" y="760"/>
                        </a:lnTo>
                        <a:lnTo>
                          <a:pt x="511" y="730"/>
                        </a:lnTo>
                        <a:lnTo>
                          <a:pt x="524" y="694"/>
                        </a:lnTo>
                        <a:lnTo>
                          <a:pt x="519" y="705"/>
                        </a:lnTo>
                        <a:lnTo>
                          <a:pt x="533" y="673"/>
                        </a:lnTo>
                        <a:lnTo>
                          <a:pt x="539" y="650"/>
                        </a:lnTo>
                        <a:lnTo>
                          <a:pt x="542" y="629"/>
                        </a:lnTo>
                        <a:lnTo>
                          <a:pt x="544" y="597"/>
                        </a:lnTo>
                        <a:lnTo>
                          <a:pt x="542" y="567"/>
                        </a:lnTo>
                        <a:lnTo>
                          <a:pt x="533" y="546"/>
                        </a:lnTo>
                        <a:lnTo>
                          <a:pt x="519" y="527"/>
                        </a:lnTo>
                        <a:lnTo>
                          <a:pt x="509" y="517"/>
                        </a:lnTo>
                        <a:lnTo>
                          <a:pt x="499" y="517"/>
                        </a:lnTo>
                        <a:lnTo>
                          <a:pt x="487" y="525"/>
                        </a:lnTo>
                        <a:lnTo>
                          <a:pt x="482" y="533"/>
                        </a:lnTo>
                        <a:lnTo>
                          <a:pt x="477" y="545"/>
                        </a:lnTo>
                        <a:lnTo>
                          <a:pt x="477" y="560"/>
                        </a:lnTo>
                        <a:lnTo>
                          <a:pt x="477" y="581"/>
                        </a:lnTo>
                        <a:lnTo>
                          <a:pt x="485" y="605"/>
                        </a:lnTo>
                        <a:lnTo>
                          <a:pt x="485" y="627"/>
                        </a:lnTo>
                        <a:lnTo>
                          <a:pt x="479" y="648"/>
                        </a:lnTo>
                        <a:lnTo>
                          <a:pt x="471" y="668"/>
                        </a:lnTo>
                        <a:lnTo>
                          <a:pt x="456" y="682"/>
                        </a:lnTo>
                        <a:lnTo>
                          <a:pt x="437" y="690"/>
                        </a:lnTo>
                        <a:lnTo>
                          <a:pt x="421" y="696"/>
                        </a:lnTo>
                        <a:lnTo>
                          <a:pt x="396" y="700"/>
                        </a:lnTo>
                        <a:lnTo>
                          <a:pt x="376" y="694"/>
                        </a:lnTo>
                        <a:lnTo>
                          <a:pt x="364" y="686"/>
                        </a:lnTo>
                        <a:lnTo>
                          <a:pt x="354" y="668"/>
                        </a:lnTo>
                        <a:lnTo>
                          <a:pt x="344" y="639"/>
                        </a:lnTo>
                        <a:lnTo>
                          <a:pt x="339" y="602"/>
                        </a:lnTo>
                        <a:lnTo>
                          <a:pt x="341" y="559"/>
                        </a:lnTo>
                        <a:lnTo>
                          <a:pt x="349" y="518"/>
                        </a:lnTo>
                        <a:lnTo>
                          <a:pt x="346" y="471"/>
                        </a:lnTo>
                        <a:lnTo>
                          <a:pt x="333" y="427"/>
                        </a:lnTo>
                        <a:lnTo>
                          <a:pt x="323" y="388"/>
                        </a:lnTo>
                        <a:lnTo>
                          <a:pt x="304" y="348"/>
                        </a:lnTo>
                        <a:lnTo>
                          <a:pt x="275" y="291"/>
                        </a:lnTo>
                        <a:lnTo>
                          <a:pt x="245" y="256"/>
                        </a:lnTo>
                        <a:lnTo>
                          <a:pt x="212" y="218"/>
                        </a:lnTo>
                        <a:lnTo>
                          <a:pt x="178" y="184"/>
                        </a:lnTo>
                        <a:lnTo>
                          <a:pt x="148" y="161"/>
                        </a:lnTo>
                        <a:lnTo>
                          <a:pt x="123" y="143"/>
                        </a:lnTo>
                        <a:lnTo>
                          <a:pt x="89" y="122"/>
                        </a:lnTo>
                        <a:lnTo>
                          <a:pt x="50" y="103"/>
                        </a:lnTo>
                        <a:lnTo>
                          <a:pt x="0" y="86"/>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105"/>
                  <p:cNvSpPr/>
                  <p:nvPr/>
                </p:nvSpPr>
                <p:spPr>
                  <a:xfrm>
                    <a:off x="670680" y="4309560"/>
                    <a:ext cx="366120" cy="533520"/>
                  </a:xfrm>
                  <a:custGeom>
                    <a:avLst/>
                    <a:gdLst>
                      <a:gd name="textAreaLeft" fmla="*/ 0 w 366120"/>
                      <a:gd name="textAreaRight" fmla="*/ 366480 w 366120"/>
                      <a:gd name="textAreaTop" fmla="*/ 0 h 533520"/>
                      <a:gd name="textAreaBottom" fmla="*/ 533880 h 533520"/>
                    </a:gdLst>
                    <a:ahLst/>
                    <a:rect l="textAreaLeft" t="textAreaTop" r="textAreaRight" b="textAreaBottom"/>
                    <a:pathLst>
                      <a:path w="666" h="913">
                        <a:moveTo>
                          <a:pt x="625" y="63"/>
                        </a:moveTo>
                        <a:lnTo>
                          <a:pt x="647" y="41"/>
                        </a:lnTo>
                        <a:lnTo>
                          <a:pt x="666" y="16"/>
                        </a:lnTo>
                        <a:lnTo>
                          <a:pt x="634" y="6"/>
                        </a:lnTo>
                        <a:lnTo>
                          <a:pt x="586" y="3"/>
                        </a:lnTo>
                        <a:lnTo>
                          <a:pt x="552" y="0"/>
                        </a:lnTo>
                        <a:lnTo>
                          <a:pt x="511" y="4"/>
                        </a:lnTo>
                        <a:lnTo>
                          <a:pt x="460" y="15"/>
                        </a:lnTo>
                        <a:lnTo>
                          <a:pt x="417" y="25"/>
                        </a:lnTo>
                        <a:lnTo>
                          <a:pt x="362" y="47"/>
                        </a:lnTo>
                        <a:lnTo>
                          <a:pt x="314" y="67"/>
                        </a:lnTo>
                        <a:lnTo>
                          <a:pt x="268" y="93"/>
                        </a:lnTo>
                        <a:lnTo>
                          <a:pt x="228" y="120"/>
                        </a:lnTo>
                        <a:lnTo>
                          <a:pt x="185" y="161"/>
                        </a:lnTo>
                        <a:lnTo>
                          <a:pt x="144" y="205"/>
                        </a:lnTo>
                        <a:lnTo>
                          <a:pt x="111" y="260"/>
                        </a:lnTo>
                        <a:lnTo>
                          <a:pt x="102" y="277"/>
                        </a:lnTo>
                        <a:lnTo>
                          <a:pt x="91" y="298"/>
                        </a:lnTo>
                        <a:lnTo>
                          <a:pt x="81" y="319"/>
                        </a:lnTo>
                        <a:lnTo>
                          <a:pt x="73" y="338"/>
                        </a:lnTo>
                        <a:lnTo>
                          <a:pt x="63" y="362"/>
                        </a:lnTo>
                        <a:lnTo>
                          <a:pt x="56" y="386"/>
                        </a:lnTo>
                        <a:lnTo>
                          <a:pt x="50" y="403"/>
                        </a:lnTo>
                        <a:lnTo>
                          <a:pt x="41" y="428"/>
                        </a:lnTo>
                        <a:lnTo>
                          <a:pt x="32" y="456"/>
                        </a:lnTo>
                        <a:lnTo>
                          <a:pt x="25" y="476"/>
                        </a:lnTo>
                        <a:lnTo>
                          <a:pt x="20" y="494"/>
                        </a:lnTo>
                        <a:lnTo>
                          <a:pt x="13" y="523"/>
                        </a:lnTo>
                        <a:lnTo>
                          <a:pt x="6" y="553"/>
                        </a:lnTo>
                        <a:lnTo>
                          <a:pt x="4" y="583"/>
                        </a:lnTo>
                        <a:lnTo>
                          <a:pt x="1" y="613"/>
                        </a:lnTo>
                        <a:lnTo>
                          <a:pt x="0" y="639"/>
                        </a:lnTo>
                        <a:lnTo>
                          <a:pt x="0" y="652"/>
                        </a:lnTo>
                        <a:lnTo>
                          <a:pt x="0" y="673"/>
                        </a:lnTo>
                        <a:lnTo>
                          <a:pt x="4" y="700"/>
                        </a:lnTo>
                        <a:lnTo>
                          <a:pt x="5" y="721"/>
                        </a:lnTo>
                        <a:lnTo>
                          <a:pt x="7" y="742"/>
                        </a:lnTo>
                        <a:lnTo>
                          <a:pt x="14" y="762"/>
                        </a:lnTo>
                        <a:lnTo>
                          <a:pt x="19" y="779"/>
                        </a:lnTo>
                        <a:lnTo>
                          <a:pt x="26" y="797"/>
                        </a:lnTo>
                        <a:lnTo>
                          <a:pt x="38" y="818"/>
                        </a:lnTo>
                        <a:lnTo>
                          <a:pt x="47" y="832"/>
                        </a:lnTo>
                        <a:lnTo>
                          <a:pt x="60" y="850"/>
                        </a:lnTo>
                        <a:lnTo>
                          <a:pt x="73" y="864"/>
                        </a:lnTo>
                        <a:lnTo>
                          <a:pt x="86" y="878"/>
                        </a:lnTo>
                        <a:lnTo>
                          <a:pt x="100" y="888"/>
                        </a:lnTo>
                        <a:lnTo>
                          <a:pt x="121" y="896"/>
                        </a:lnTo>
                        <a:lnTo>
                          <a:pt x="138" y="902"/>
                        </a:lnTo>
                        <a:lnTo>
                          <a:pt x="157" y="907"/>
                        </a:lnTo>
                        <a:lnTo>
                          <a:pt x="177" y="910"/>
                        </a:lnTo>
                        <a:lnTo>
                          <a:pt x="194" y="913"/>
                        </a:lnTo>
                        <a:lnTo>
                          <a:pt x="219" y="910"/>
                        </a:lnTo>
                        <a:lnTo>
                          <a:pt x="238" y="907"/>
                        </a:lnTo>
                        <a:lnTo>
                          <a:pt x="257" y="902"/>
                        </a:lnTo>
                        <a:lnTo>
                          <a:pt x="275" y="893"/>
                        </a:lnTo>
                        <a:lnTo>
                          <a:pt x="296" y="884"/>
                        </a:lnTo>
                        <a:lnTo>
                          <a:pt x="314" y="871"/>
                        </a:lnTo>
                        <a:lnTo>
                          <a:pt x="328" y="860"/>
                        </a:lnTo>
                        <a:lnTo>
                          <a:pt x="342" y="847"/>
                        </a:lnTo>
                        <a:lnTo>
                          <a:pt x="360" y="829"/>
                        </a:lnTo>
                        <a:lnTo>
                          <a:pt x="375" y="805"/>
                        </a:lnTo>
                        <a:lnTo>
                          <a:pt x="385" y="784"/>
                        </a:lnTo>
                        <a:lnTo>
                          <a:pt x="397" y="756"/>
                        </a:lnTo>
                        <a:lnTo>
                          <a:pt x="405" y="724"/>
                        </a:lnTo>
                        <a:lnTo>
                          <a:pt x="409" y="703"/>
                        </a:lnTo>
                        <a:lnTo>
                          <a:pt x="412" y="677"/>
                        </a:lnTo>
                        <a:lnTo>
                          <a:pt x="416" y="649"/>
                        </a:lnTo>
                        <a:lnTo>
                          <a:pt x="418" y="627"/>
                        </a:lnTo>
                        <a:lnTo>
                          <a:pt x="417" y="602"/>
                        </a:lnTo>
                        <a:lnTo>
                          <a:pt x="418" y="583"/>
                        </a:lnTo>
                        <a:lnTo>
                          <a:pt x="416" y="554"/>
                        </a:lnTo>
                        <a:lnTo>
                          <a:pt x="415" y="522"/>
                        </a:lnTo>
                        <a:lnTo>
                          <a:pt x="411" y="490"/>
                        </a:lnTo>
                        <a:lnTo>
                          <a:pt x="410" y="458"/>
                        </a:lnTo>
                        <a:lnTo>
                          <a:pt x="410" y="431"/>
                        </a:lnTo>
                        <a:lnTo>
                          <a:pt x="409" y="405"/>
                        </a:lnTo>
                        <a:lnTo>
                          <a:pt x="412" y="369"/>
                        </a:lnTo>
                        <a:lnTo>
                          <a:pt x="421" y="328"/>
                        </a:lnTo>
                        <a:lnTo>
                          <a:pt x="430" y="299"/>
                        </a:lnTo>
                        <a:lnTo>
                          <a:pt x="440" y="270"/>
                        </a:lnTo>
                        <a:lnTo>
                          <a:pt x="453" y="246"/>
                        </a:lnTo>
                        <a:lnTo>
                          <a:pt x="471" y="218"/>
                        </a:lnTo>
                        <a:lnTo>
                          <a:pt x="481" y="201"/>
                        </a:lnTo>
                        <a:lnTo>
                          <a:pt x="504" y="176"/>
                        </a:lnTo>
                        <a:lnTo>
                          <a:pt x="521" y="156"/>
                        </a:lnTo>
                        <a:lnTo>
                          <a:pt x="546" y="134"/>
                        </a:lnTo>
                        <a:lnTo>
                          <a:pt x="574" y="111"/>
                        </a:lnTo>
                        <a:lnTo>
                          <a:pt x="601" y="85"/>
                        </a:lnTo>
                        <a:lnTo>
                          <a:pt x="625" y="6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Group 106"/>
                <p:cNvGrpSpPr/>
                <p:nvPr/>
              </p:nvGrpSpPr>
              <p:grpSpPr>
                <a:xfrm>
                  <a:off x="457200" y="4124520"/>
                  <a:ext cx="1217880" cy="1193760"/>
                  <a:chOff x="457200" y="4124520"/>
                  <a:chExt cx="1217880" cy="1193760"/>
                </a:xfrm>
              </p:grpSpPr>
              <p:sp>
                <p:nvSpPr>
                  <p:cNvPr id="1004" name="Freeform 107"/>
                  <p:cNvSpPr/>
                  <p:nvPr/>
                </p:nvSpPr>
                <p:spPr>
                  <a:xfrm>
                    <a:off x="457200" y="4421880"/>
                    <a:ext cx="86040" cy="140400"/>
                  </a:xfrm>
                  <a:custGeom>
                    <a:avLst/>
                    <a:gdLst>
                      <a:gd name="textAreaLeft" fmla="*/ 0 w 86040"/>
                      <a:gd name="textAreaRight" fmla="*/ 86400 w 86040"/>
                      <a:gd name="textAreaTop" fmla="*/ 0 h 140400"/>
                      <a:gd name="textAreaBottom" fmla="*/ 140760 h 140400"/>
                    </a:gdLst>
                    <a:ahLst/>
                    <a:rect l="textAreaLeft" t="textAreaTop" r="textAreaRight" b="textAreaBottom"/>
                    <a:pathLst>
                      <a:path w="156" h="236">
                        <a:moveTo>
                          <a:pt x="156" y="0"/>
                        </a:moveTo>
                        <a:lnTo>
                          <a:pt x="128" y="2"/>
                        </a:lnTo>
                        <a:lnTo>
                          <a:pt x="116" y="6"/>
                        </a:lnTo>
                        <a:lnTo>
                          <a:pt x="100" y="10"/>
                        </a:lnTo>
                        <a:lnTo>
                          <a:pt x="86" y="16"/>
                        </a:lnTo>
                        <a:lnTo>
                          <a:pt x="74" y="24"/>
                        </a:lnTo>
                        <a:lnTo>
                          <a:pt x="62" y="33"/>
                        </a:lnTo>
                        <a:lnTo>
                          <a:pt x="51" y="44"/>
                        </a:lnTo>
                        <a:lnTo>
                          <a:pt x="46" y="51"/>
                        </a:lnTo>
                        <a:lnTo>
                          <a:pt x="39" y="61"/>
                        </a:lnTo>
                        <a:lnTo>
                          <a:pt x="31" y="71"/>
                        </a:lnTo>
                        <a:lnTo>
                          <a:pt x="25" y="82"/>
                        </a:lnTo>
                        <a:lnTo>
                          <a:pt x="20" y="91"/>
                        </a:lnTo>
                        <a:lnTo>
                          <a:pt x="13" y="106"/>
                        </a:lnTo>
                        <a:lnTo>
                          <a:pt x="11" y="114"/>
                        </a:lnTo>
                        <a:lnTo>
                          <a:pt x="6" y="129"/>
                        </a:lnTo>
                        <a:lnTo>
                          <a:pt x="4" y="145"/>
                        </a:lnTo>
                        <a:lnTo>
                          <a:pt x="0" y="158"/>
                        </a:lnTo>
                        <a:lnTo>
                          <a:pt x="0" y="167"/>
                        </a:lnTo>
                        <a:lnTo>
                          <a:pt x="0" y="180"/>
                        </a:lnTo>
                        <a:lnTo>
                          <a:pt x="4" y="193"/>
                        </a:lnTo>
                        <a:lnTo>
                          <a:pt x="6" y="202"/>
                        </a:lnTo>
                        <a:lnTo>
                          <a:pt x="11" y="209"/>
                        </a:lnTo>
                        <a:lnTo>
                          <a:pt x="17" y="216"/>
                        </a:lnTo>
                        <a:lnTo>
                          <a:pt x="21" y="222"/>
                        </a:lnTo>
                        <a:lnTo>
                          <a:pt x="28" y="228"/>
                        </a:lnTo>
                        <a:lnTo>
                          <a:pt x="38" y="232"/>
                        </a:lnTo>
                        <a:lnTo>
                          <a:pt x="48" y="234"/>
                        </a:lnTo>
                        <a:lnTo>
                          <a:pt x="55" y="236"/>
                        </a:lnTo>
                        <a:lnTo>
                          <a:pt x="62" y="235"/>
                        </a:lnTo>
                        <a:lnTo>
                          <a:pt x="72" y="232"/>
                        </a:lnTo>
                        <a:lnTo>
                          <a:pt x="80" y="228"/>
                        </a:lnTo>
                        <a:lnTo>
                          <a:pt x="84" y="225"/>
                        </a:lnTo>
                        <a:lnTo>
                          <a:pt x="91" y="219"/>
                        </a:lnTo>
                        <a:lnTo>
                          <a:pt x="96" y="211"/>
                        </a:lnTo>
                        <a:lnTo>
                          <a:pt x="105" y="196"/>
                        </a:lnTo>
                        <a:lnTo>
                          <a:pt x="107" y="182"/>
                        </a:lnTo>
                        <a:lnTo>
                          <a:pt x="108" y="170"/>
                        </a:lnTo>
                        <a:lnTo>
                          <a:pt x="108" y="159"/>
                        </a:lnTo>
                        <a:lnTo>
                          <a:pt x="107" y="144"/>
                        </a:lnTo>
                        <a:lnTo>
                          <a:pt x="106" y="126"/>
                        </a:lnTo>
                        <a:lnTo>
                          <a:pt x="105" y="106"/>
                        </a:lnTo>
                        <a:lnTo>
                          <a:pt x="105" y="90"/>
                        </a:lnTo>
                        <a:lnTo>
                          <a:pt x="105" y="72"/>
                        </a:lnTo>
                        <a:lnTo>
                          <a:pt x="106" y="63"/>
                        </a:lnTo>
                        <a:lnTo>
                          <a:pt x="108" y="51"/>
                        </a:lnTo>
                        <a:lnTo>
                          <a:pt x="113" y="42"/>
                        </a:lnTo>
                        <a:lnTo>
                          <a:pt x="117" y="33"/>
                        </a:lnTo>
                        <a:lnTo>
                          <a:pt x="127" y="24"/>
                        </a:lnTo>
                        <a:lnTo>
                          <a:pt x="133" y="18"/>
                        </a:lnTo>
                        <a:lnTo>
                          <a:pt x="139" y="13"/>
                        </a:lnTo>
                        <a:lnTo>
                          <a:pt x="143" y="8"/>
                        </a:lnTo>
                        <a:lnTo>
                          <a:pt x="156"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108"/>
                  <p:cNvSpPr/>
                  <p:nvPr/>
                </p:nvSpPr>
                <p:spPr>
                  <a:xfrm>
                    <a:off x="1476360" y="4679280"/>
                    <a:ext cx="72360" cy="161640"/>
                  </a:xfrm>
                  <a:custGeom>
                    <a:avLst/>
                    <a:gdLst>
                      <a:gd name="textAreaLeft" fmla="*/ 0 w 72360"/>
                      <a:gd name="textAreaRight" fmla="*/ 72720 w 72360"/>
                      <a:gd name="textAreaTop" fmla="*/ 0 h 161640"/>
                      <a:gd name="textAreaBottom" fmla="*/ 162000 h 161640"/>
                    </a:gdLst>
                    <a:ahLst/>
                    <a:rect l="textAreaLeft" t="textAreaTop" r="textAreaRight" b="textAreaBottom"/>
                    <a:pathLst>
                      <a:path w="131" h="275">
                        <a:moveTo>
                          <a:pt x="51" y="0"/>
                        </a:moveTo>
                        <a:lnTo>
                          <a:pt x="58" y="9"/>
                        </a:lnTo>
                        <a:lnTo>
                          <a:pt x="66" y="20"/>
                        </a:lnTo>
                        <a:lnTo>
                          <a:pt x="74" y="29"/>
                        </a:lnTo>
                        <a:lnTo>
                          <a:pt x="82" y="41"/>
                        </a:lnTo>
                        <a:lnTo>
                          <a:pt x="89" y="53"/>
                        </a:lnTo>
                        <a:lnTo>
                          <a:pt x="97" y="67"/>
                        </a:lnTo>
                        <a:lnTo>
                          <a:pt x="103" y="80"/>
                        </a:lnTo>
                        <a:lnTo>
                          <a:pt x="108" y="89"/>
                        </a:lnTo>
                        <a:lnTo>
                          <a:pt x="112" y="99"/>
                        </a:lnTo>
                        <a:lnTo>
                          <a:pt x="116" y="112"/>
                        </a:lnTo>
                        <a:lnTo>
                          <a:pt x="121" y="124"/>
                        </a:lnTo>
                        <a:lnTo>
                          <a:pt x="124" y="135"/>
                        </a:lnTo>
                        <a:lnTo>
                          <a:pt x="125" y="144"/>
                        </a:lnTo>
                        <a:lnTo>
                          <a:pt x="128" y="150"/>
                        </a:lnTo>
                        <a:lnTo>
                          <a:pt x="130" y="164"/>
                        </a:lnTo>
                        <a:lnTo>
                          <a:pt x="131" y="174"/>
                        </a:lnTo>
                        <a:lnTo>
                          <a:pt x="131" y="190"/>
                        </a:lnTo>
                        <a:lnTo>
                          <a:pt x="128" y="210"/>
                        </a:lnTo>
                        <a:lnTo>
                          <a:pt x="123" y="226"/>
                        </a:lnTo>
                        <a:lnTo>
                          <a:pt x="116" y="239"/>
                        </a:lnTo>
                        <a:lnTo>
                          <a:pt x="111" y="248"/>
                        </a:lnTo>
                        <a:lnTo>
                          <a:pt x="106" y="254"/>
                        </a:lnTo>
                        <a:lnTo>
                          <a:pt x="99" y="261"/>
                        </a:lnTo>
                        <a:lnTo>
                          <a:pt x="92" y="267"/>
                        </a:lnTo>
                        <a:lnTo>
                          <a:pt x="85" y="270"/>
                        </a:lnTo>
                        <a:lnTo>
                          <a:pt x="78" y="274"/>
                        </a:lnTo>
                        <a:lnTo>
                          <a:pt x="73" y="275"/>
                        </a:lnTo>
                        <a:lnTo>
                          <a:pt x="66" y="275"/>
                        </a:lnTo>
                        <a:lnTo>
                          <a:pt x="58" y="275"/>
                        </a:lnTo>
                        <a:lnTo>
                          <a:pt x="51" y="274"/>
                        </a:lnTo>
                        <a:lnTo>
                          <a:pt x="44" y="272"/>
                        </a:lnTo>
                        <a:lnTo>
                          <a:pt x="39" y="267"/>
                        </a:lnTo>
                        <a:lnTo>
                          <a:pt x="33" y="262"/>
                        </a:lnTo>
                        <a:lnTo>
                          <a:pt x="27" y="258"/>
                        </a:lnTo>
                        <a:lnTo>
                          <a:pt x="21" y="253"/>
                        </a:lnTo>
                        <a:lnTo>
                          <a:pt x="16" y="245"/>
                        </a:lnTo>
                        <a:lnTo>
                          <a:pt x="12" y="238"/>
                        </a:lnTo>
                        <a:lnTo>
                          <a:pt x="8" y="229"/>
                        </a:lnTo>
                        <a:lnTo>
                          <a:pt x="6" y="219"/>
                        </a:lnTo>
                        <a:lnTo>
                          <a:pt x="3" y="208"/>
                        </a:lnTo>
                        <a:lnTo>
                          <a:pt x="1" y="198"/>
                        </a:lnTo>
                        <a:lnTo>
                          <a:pt x="0" y="188"/>
                        </a:lnTo>
                        <a:lnTo>
                          <a:pt x="0" y="179"/>
                        </a:lnTo>
                        <a:lnTo>
                          <a:pt x="0" y="170"/>
                        </a:lnTo>
                        <a:lnTo>
                          <a:pt x="0" y="162"/>
                        </a:lnTo>
                        <a:lnTo>
                          <a:pt x="2" y="152"/>
                        </a:lnTo>
                        <a:lnTo>
                          <a:pt x="3" y="145"/>
                        </a:lnTo>
                        <a:lnTo>
                          <a:pt x="6" y="137"/>
                        </a:lnTo>
                        <a:lnTo>
                          <a:pt x="8" y="125"/>
                        </a:lnTo>
                        <a:lnTo>
                          <a:pt x="14" y="110"/>
                        </a:lnTo>
                        <a:lnTo>
                          <a:pt x="25" y="85"/>
                        </a:lnTo>
                        <a:lnTo>
                          <a:pt x="32" y="66"/>
                        </a:lnTo>
                        <a:lnTo>
                          <a:pt x="39" y="55"/>
                        </a:lnTo>
                        <a:lnTo>
                          <a:pt x="42" y="48"/>
                        </a:lnTo>
                        <a:lnTo>
                          <a:pt x="44" y="41"/>
                        </a:lnTo>
                        <a:lnTo>
                          <a:pt x="47" y="33"/>
                        </a:lnTo>
                        <a:lnTo>
                          <a:pt x="49" y="26"/>
                        </a:lnTo>
                        <a:lnTo>
                          <a:pt x="51" y="19"/>
                        </a:lnTo>
                        <a:lnTo>
                          <a:pt x="51"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09"/>
                  <p:cNvSpPr/>
                  <p:nvPr/>
                </p:nvSpPr>
                <p:spPr>
                  <a:xfrm>
                    <a:off x="489960" y="4756680"/>
                    <a:ext cx="105480" cy="201240"/>
                  </a:xfrm>
                  <a:custGeom>
                    <a:avLst/>
                    <a:gdLst>
                      <a:gd name="textAreaLeft" fmla="*/ 0 w 105480"/>
                      <a:gd name="textAreaRight" fmla="*/ 105840 w 105480"/>
                      <a:gd name="textAreaTop" fmla="*/ 0 h 201240"/>
                      <a:gd name="textAreaBottom" fmla="*/ 201600 h 201240"/>
                    </a:gdLst>
                    <a:ahLst/>
                    <a:rect l="textAreaLeft" t="textAreaTop" r="textAreaRight" b="textAreaBottom"/>
                    <a:pathLst>
                      <a:path w="188" h="344">
                        <a:moveTo>
                          <a:pt x="188" y="0"/>
                        </a:moveTo>
                        <a:lnTo>
                          <a:pt x="154" y="5"/>
                        </a:lnTo>
                        <a:lnTo>
                          <a:pt x="138" y="9"/>
                        </a:lnTo>
                        <a:lnTo>
                          <a:pt x="119" y="16"/>
                        </a:lnTo>
                        <a:lnTo>
                          <a:pt x="104" y="26"/>
                        </a:lnTo>
                        <a:lnTo>
                          <a:pt x="90" y="36"/>
                        </a:lnTo>
                        <a:lnTo>
                          <a:pt x="76" y="49"/>
                        </a:lnTo>
                        <a:lnTo>
                          <a:pt x="62" y="67"/>
                        </a:lnTo>
                        <a:lnTo>
                          <a:pt x="55" y="77"/>
                        </a:lnTo>
                        <a:lnTo>
                          <a:pt x="49" y="89"/>
                        </a:lnTo>
                        <a:lnTo>
                          <a:pt x="38" y="106"/>
                        </a:lnTo>
                        <a:lnTo>
                          <a:pt x="30" y="120"/>
                        </a:lnTo>
                        <a:lnTo>
                          <a:pt x="25" y="135"/>
                        </a:lnTo>
                        <a:lnTo>
                          <a:pt x="16" y="156"/>
                        </a:lnTo>
                        <a:lnTo>
                          <a:pt x="14" y="169"/>
                        </a:lnTo>
                        <a:lnTo>
                          <a:pt x="8" y="190"/>
                        </a:lnTo>
                        <a:lnTo>
                          <a:pt x="4" y="213"/>
                        </a:lnTo>
                        <a:lnTo>
                          <a:pt x="1" y="232"/>
                        </a:lnTo>
                        <a:lnTo>
                          <a:pt x="0" y="246"/>
                        </a:lnTo>
                        <a:lnTo>
                          <a:pt x="1" y="262"/>
                        </a:lnTo>
                        <a:lnTo>
                          <a:pt x="4" y="282"/>
                        </a:lnTo>
                        <a:lnTo>
                          <a:pt x="8" y="296"/>
                        </a:lnTo>
                        <a:lnTo>
                          <a:pt x="14" y="306"/>
                        </a:lnTo>
                        <a:lnTo>
                          <a:pt x="21" y="316"/>
                        </a:lnTo>
                        <a:lnTo>
                          <a:pt x="27" y="326"/>
                        </a:lnTo>
                        <a:lnTo>
                          <a:pt x="36" y="333"/>
                        </a:lnTo>
                        <a:lnTo>
                          <a:pt x="46" y="339"/>
                        </a:lnTo>
                        <a:lnTo>
                          <a:pt x="58" y="342"/>
                        </a:lnTo>
                        <a:lnTo>
                          <a:pt x="68" y="344"/>
                        </a:lnTo>
                        <a:lnTo>
                          <a:pt x="76" y="343"/>
                        </a:lnTo>
                        <a:lnTo>
                          <a:pt x="85" y="339"/>
                        </a:lnTo>
                        <a:lnTo>
                          <a:pt x="96" y="333"/>
                        </a:lnTo>
                        <a:lnTo>
                          <a:pt x="99" y="329"/>
                        </a:lnTo>
                        <a:lnTo>
                          <a:pt x="107" y="320"/>
                        </a:lnTo>
                        <a:lnTo>
                          <a:pt x="116" y="307"/>
                        </a:lnTo>
                        <a:lnTo>
                          <a:pt x="125" y="287"/>
                        </a:lnTo>
                        <a:lnTo>
                          <a:pt x="128" y="267"/>
                        </a:lnTo>
                        <a:lnTo>
                          <a:pt x="130" y="250"/>
                        </a:lnTo>
                        <a:lnTo>
                          <a:pt x="130" y="234"/>
                        </a:lnTo>
                        <a:lnTo>
                          <a:pt x="128" y="211"/>
                        </a:lnTo>
                        <a:lnTo>
                          <a:pt x="127" y="186"/>
                        </a:lnTo>
                        <a:lnTo>
                          <a:pt x="126" y="156"/>
                        </a:lnTo>
                        <a:lnTo>
                          <a:pt x="125" y="132"/>
                        </a:lnTo>
                        <a:lnTo>
                          <a:pt x="125" y="107"/>
                        </a:lnTo>
                        <a:lnTo>
                          <a:pt x="127" y="93"/>
                        </a:lnTo>
                        <a:lnTo>
                          <a:pt x="130" y="76"/>
                        </a:lnTo>
                        <a:lnTo>
                          <a:pt x="134" y="62"/>
                        </a:lnTo>
                        <a:lnTo>
                          <a:pt x="141" y="49"/>
                        </a:lnTo>
                        <a:lnTo>
                          <a:pt x="152" y="36"/>
                        </a:lnTo>
                        <a:lnTo>
                          <a:pt x="160" y="28"/>
                        </a:lnTo>
                        <a:lnTo>
                          <a:pt x="165" y="20"/>
                        </a:lnTo>
                        <a:lnTo>
                          <a:pt x="172" y="14"/>
                        </a:lnTo>
                        <a:lnTo>
                          <a:pt x="188"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110"/>
                  <p:cNvSpPr/>
                  <p:nvPr/>
                </p:nvSpPr>
                <p:spPr>
                  <a:xfrm>
                    <a:off x="534240" y="4124520"/>
                    <a:ext cx="167400" cy="114480"/>
                  </a:xfrm>
                  <a:custGeom>
                    <a:avLst/>
                    <a:gdLst>
                      <a:gd name="textAreaLeft" fmla="*/ 0 w 167400"/>
                      <a:gd name="textAreaRight" fmla="*/ 167760 w 167400"/>
                      <a:gd name="textAreaTop" fmla="*/ 0 h 114480"/>
                      <a:gd name="textAreaBottom" fmla="*/ 114840 h 114480"/>
                    </a:gdLst>
                    <a:ahLst/>
                    <a:rect l="textAreaLeft" t="textAreaTop" r="textAreaRight" b="textAreaBottom"/>
                    <a:pathLst>
                      <a:path w="302" h="195">
                        <a:moveTo>
                          <a:pt x="257" y="74"/>
                        </a:moveTo>
                        <a:lnTo>
                          <a:pt x="263" y="72"/>
                        </a:lnTo>
                        <a:lnTo>
                          <a:pt x="267" y="72"/>
                        </a:lnTo>
                        <a:lnTo>
                          <a:pt x="277" y="70"/>
                        </a:lnTo>
                        <a:lnTo>
                          <a:pt x="287" y="70"/>
                        </a:lnTo>
                        <a:lnTo>
                          <a:pt x="302" y="70"/>
                        </a:lnTo>
                        <a:lnTo>
                          <a:pt x="272" y="51"/>
                        </a:lnTo>
                        <a:lnTo>
                          <a:pt x="251" y="38"/>
                        </a:lnTo>
                        <a:lnTo>
                          <a:pt x="229" y="26"/>
                        </a:lnTo>
                        <a:lnTo>
                          <a:pt x="204" y="16"/>
                        </a:lnTo>
                        <a:lnTo>
                          <a:pt x="178" y="7"/>
                        </a:lnTo>
                        <a:lnTo>
                          <a:pt x="158" y="3"/>
                        </a:lnTo>
                        <a:lnTo>
                          <a:pt x="130" y="0"/>
                        </a:lnTo>
                        <a:lnTo>
                          <a:pt x="113" y="0"/>
                        </a:lnTo>
                        <a:lnTo>
                          <a:pt x="89" y="5"/>
                        </a:lnTo>
                        <a:lnTo>
                          <a:pt x="71" y="13"/>
                        </a:lnTo>
                        <a:lnTo>
                          <a:pt x="54" y="24"/>
                        </a:lnTo>
                        <a:lnTo>
                          <a:pt x="41" y="32"/>
                        </a:lnTo>
                        <a:lnTo>
                          <a:pt x="27" y="46"/>
                        </a:lnTo>
                        <a:lnTo>
                          <a:pt x="19" y="61"/>
                        </a:lnTo>
                        <a:lnTo>
                          <a:pt x="13" y="74"/>
                        </a:lnTo>
                        <a:lnTo>
                          <a:pt x="6" y="91"/>
                        </a:lnTo>
                        <a:lnTo>
                          <a:pt x="1" y="106"/>
                        </a:lnTo>
                        <a:lnTo>
                          <a:pt x="0" y="122"/>
                        </a:lnTo>
                        <a:lnTo>
                          <a:pt x="0" y="136"/>
                        </a:lnTo>
                        <a:lnTo>
                          <a:pt x="3" y="151"/>
                        </a:lnTo>
                        <a:lnTo>
                          <a:pt x="6" y="162"/>
                        </a:lnTo>
                        <a:lnTo>
                          <a:pt x="11" y="170"/>
                        </a:lnTo>
                        <a:lnTo>
                          <a:pt x="15" y="177"/>
                        </a:lnTo>
                        <a:lnTo>
                          <a:pt x="24" y="183"/>
                        </a:lnTo>
                        <a:lnTo>
                          <a:pt x="34" y="187"/>
                        </a:lnTo>
                        <a:lnTo>
                          <a:pt x="46" y="191"/>
                        </a:lnTo>
                        <a:lnTo>
                          <a:pt x="54" y="192"/>
                        </a:lnTo>
                        <a:lnTo>
                          <a:pt x="66" y="195"/>
                        </a:lnTo>
                        <a:lnTo>
                          <a:pt x="78" y="195"/>
                        </a:lnTo>
                        <a:lnTo>
                          <a:pt x="89" y="194"/>
                        </a:lnTo>
                        <a:lnTo>
                          <a:pt x="101" y="192"/>
                        </a:lnTo>
                        <a:lnTo>
                          <a:pt x="113" y="191"/>
                        </a:lnTo>
                        <a:lnTo>
                          <a:pt x="123" y="187"/>
                        </a:lnTo>
                        <a:lnTo>
                          <a:pt x="134" y="183"/>
                        </a:lnTo>
                        <a:lnTo>
                          <a:pt x="147" y="171"/>
                        </a:lnTo>
                        <a:lnTo>
                          <a:pt x="156" y="161"/>
                        </a:lnTo>
                        <a:lnTo>
                          <a:pt x="167" y="148"/>
                        </a:lnTo>
                        <a:lnTo>
                          <a:pt x="176" y="133"/>
                        </a:lnTo>
                        <a:lnTo>
                          <a:pt x="186" y="119"/>
                        </a:lnTo>
                        <a:lnTo>
                          <a:pt x="196" y="108"/>
                        </a:lnTo>
                        <a:lnTo>
                          <a:pt x="208" y="93"/>
                        </a:lnTo>
                        <a:lnTo>
                          <a:pt x="218" y="84"/>
                        </a:lnTo>
                        <a:lnTo>
                          <a:pt x="229" y="79"/>
                        </a:lnTo>
                        <a:lnTo>
                          <a:pt x="242" y="75"/>
                        </a:lnTo>
                        <a:lnTo>
                          <a:pt x="250" y="74"/>
                        </a:lnTo>
                        <a:lnTo>
                          <a:pt x="257" y="74"/>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111"/>
                  <p:cNvSpPr/>
                  <p:nvPr/>
                </p:nvSpPr>
                <p:spPr>
                  <a:xfrm>
                    <a:off x="498600" y="5196960"/>
                    <a:ext cx="52920" cy="121320"/>
                  </a:xfrm>
                  <a:custGeom>
                    <a:avLst/>
                    <a:gdLst>
                      <a:gd name="textAreaLeft" fmla="*/ 0 w 52920"/>
                      <a:gd name="textAreaRight" fmla="*/ 53280 w 52920"/>
                      <a:gd name="textAreaTop" fmla="*/ 0 h 121320"/>
                      <a:gd name="textAreaBottom" fmla="*/ 121680 h 121320"/>
                    </a:gdLst>
                    <a:ahLst/>
                    <a:rect l="textAreaLeft" t="textAreaTop" r="textAreaRight" b="textAreaBottom"/>
                    <a:pathLst>
                      <a:path w="97" h="206">
                        <a:moveTo>
                          <a:pt x="59" y="0"/>
                        </a:moveTo>
                        <a:lnTo>
                          <a:pt x="55" y="7"/>
                        </a:lnTo>
                        <a:lnTo>
                          <a:pt x="49" y="14"/>
                        </a:lnTo>
                        <a:lnTo>
                          <a:pt x="42" y="21"/>
                        </a:lnTo>
                        <a:lnTo>
                          <a:pt x="37" y="31"/>
                        </a:lnTo>
                        <a:lnTo>
                          <a:pt x="30" y="39"/>
                        </a:lnTo>
                        <a:lnTo>
                          <a:pt x="25" y="49"/>
                        </a:lnTo>
                        <a:lnTo>
                          <a:pt x="20" y="60"/>
                        </a:lnTo>
                        <a:lnTo>
                          <a:pt x="17" y="67"/>
                        </a:lnTo>
                        <a:lnTo>
                          <a:pt x="15" y="75"/>
                        </a:lnTo>
                        <a:lnTo>
                          <a:pt x="10" y="83"/>
                        </a:lnTo>
                        <a:lnTo>
                          <a:pt x="7" y="93"/>
                        </a:lnTo>
                        <a:lnTo>
                          <a:pt x="6" y="100"/>
                        </a:lnTo>
                        <a:lnTo>
                          <a:pt x="3" y="107"/>
                        </a:lnTo>
                        <a:lnTo>
                          <a:pt x="2" y="111"/>
                        </a:lnTo>
                        <a:lnTo>
                          <a:pt x="0" y="122"/>
                        </a:lnTo>
                        <a:lnTo>
                          <a:pt x="0" y="130"/>
                        </a:lnTo>
                        <a:lnTo>
                          <a:pt x="0" y="142"/>
                        </a:lnTo>
                        <a:lnTo>
                          <a:pt x="2" y="157"/>
                        </a:lnTo>
                        <a:lnTo>
                          <a:pt x="6" y="169"/>
                        </a:lnTo>
                        <a:lnTo>
                          <a:pt x="10" y="179"/>
                        </a:lnTo>
                        <a:lnTo>
                          <a:pt x="15" y="186"/>
                        </a:lnTo>
                        <a:lnTo>
                          <a:pt x="18" y="190"/>
                        </a:lnTo>
                        <a:lnTo>
                          <a:pt x="23" y="196"/>
                        </a:lnTo>
                        <a:lnTo>
                          <a:pt x="29" y="199"/>
                        </a:lnTo>
                        <a:lnTo>
                          <a:pt x="34" y="203"/>
                        </a:lnTo>
                        <a:lnTo>
                          <a:pt x="39" y="205"/>
                        </a:lnTo>
                        <a:lnTo>
                          <a:pt x="43" y="206"/>
                        </a:lnTo>
                        <a:lnTo>
                          <a:pt x="48" y="206"/>
                        </a:lnTo>
                        <a:lnTo>
                          <a:pt x="55" y="206"/>
                        </a:lnTo>
                        <a:lnTo>
                          <a:pt x="59" y="205"/>
                        </a:lnTo>
                        <a:lnTo>
                          <a:pt x="64" y="203"/>
                        </a:lnTo>
                        <a:lnTo>
                          <a:pt x="69" y="199"/>
                        </a:lnTo>
                        <a:lnTo>
                          <a:pt x="73" y="197"/>
                        </a:lnTo>
                        <a:lnTo>
                          <a:pt x="78" y="192"/>
                        </a:lnTo>
                        <a:lnTo>
                          <a:pt x="82" y="189"/>
                        </a:lnTo>
                        <a:lnTo>
                          <a:pt x="85" y="183"/>
                        </a:lnTo>
                        <a:lnTo>
                          <a:pt x="87" y="178"/>
                        </a:lnTo>
                        <a:lnTo>
                          <a:pt x="91" y="171"/>
                        </a:lnTo>
                        <a:lnTo>
                          <a:pt x="92" y="164"/>
                        </a:lnTo>
                        <a:lnTo>
                          <a:pt x="95" y="156"/>
                        </a:lnTo>
                        <a:lnTo>
                          <a:pt x="97" y="148"/>
                        </a:lnTo>
                        <a:lnTo>
                          <a:pt x="97" y="141"/>
                        </a:lnTo>
                        <a:lnTo>
                          <a:pt x="97" y="134"/>
                        </a:lnTo>
                        <a:lnTo>
                          <a:pt x="97" y="127"/>
                        </a:lnTo>
                        <a:lnTo>
                          <a:pt x="97" y="120"/>
                        </a:lnTo>
                        <a:lnTo>
                          <a:pt x="96" y="114"/>
                        </a:lnTo>
                        <a:lnTo>
                          <a:pt x="93" y="108"/>
                        </a:lnTo>
                        <a:lnTo>
                          <a:pt x="92" y="101"/>
                        </a:lnTo>
                        <a:lnTo>
                          <a:pt x="91" y="93"/>
                        </a:lnTo>
                        <a:lnTo>
                          <a:pt x="86" y="81"/>
                        </a:lnTo>
                        <a:lnTo>
                          <a:pt x="79" y="63"/>
                        </a:lnTo>
                        <a:lnTo>
                          <a:pt x="73" y="49"/>
                        </a:lnTo>
                        <a:lnTo>
                          <a:pt x="69" y="41"/>
                        </a:lnTo>
                        <a:lnTo>
                          <a:pt x="66" y="35"/>
                        </a:lnTo>
                        <a:lnTo>
                          <a:pt x="65" y="31"/>
                        </a:lnTo>
                        <a:lnTo>
                          <a:pt x="63" y="25"/>
                        </a:lnTo>
                        <a:lnTo>
                          <a:pt x="62" y="19"/>
                        </a:lnTo>
                        <a:lnTo>
                          <a:pt x="59" y="14"/>
                        </a:lnTo>
                        <a:lnTo>
                          <a:pt x="59"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12"/>
                  <p:cNvSpPr/>
                  <p:nvPr/>
                </p:nvSpPr>
                <p:spPr>
                  <a:xfrm>
                    <a:off x="1571040" y="4407840"/>
                    <a:ext cx="104040" cy="201240"/>
                  </a:xfrm>
                  <a:custGeom>
                    <a:avLst/>
                    <a:gdLst>
                      <a:gd name="textAreaLeft" fmla="*/ 0 w 104040"/>
                      <a:gd name="textAreaRight" fmla="*/ 104400 w 104040"/>
                      <a:gd name="textAreaTop" fmla="*/ 0 h 201240"/>
                      <a:gd name="textAreaBottom" fmla="*/ 201600 h 201240"/>
                    </a:gdLst>
                    <a:ahLst/>
                    <a:rect l="textAreaLeft" t="textAreaTop" r="textAreaRight" b="textAreaBottom"/>
                    <a:pathLst>
                      <a:path w="187" h="344">
                        <a:moveTo>
                          <a:pt x="0" y="0"/>
                        </a:moveTo>
                        <a:lnTo>
                          <a:pt x="33" y="4"/>
                        </a:lnTo>
                        <a:lnTo>
                          <a:pt x="48" y="9"/>
                        </a:lnTo>
                        <a:lnTo>
                          <a:pt x="67" y="16"/>
                        </a:lnTo>
                        <a:lnTo>
                          <a:pt x="83" y="26"/>
                        </a:lnTo>
                        <a:lnTo>
                          <a:pt x="97" y="36"/>
                        </a:lnTo>
                        <a:lnTo>
                          <a:pt x="112" y="49"/>
                        </a:lnTo>
                        <a:lnTo>
                          <a:pt x="125" y="67"/>
                        </a:lnTo>
                        <a:lnTo>
                          <a:pt x="132" y="77"/>
                        </a:lnTo>
                        <a:lnTo>
                          <a:pt x="139" y="90"/>
                        </a:lnTo>
                        <a:lnTo>
                          <a:pt x="149" y="105"/>
                        </a:lnTo>
                        <a:lnTo>
                          <a:pt x="157" y="120"/>
                        </a:lnTo>
                        <a:lnTo>
                          <a:pt x="163" y="134"/>
                        </a:lnTo>
                        <a:lnTo>
                          <a:pt x="171" y="156"/>
                        </a:lnTo>
                        <a:lnTo>
                          <a:pt x="173" y="168"/>
                        </a:lnTo>
                        <a:lnTo>
                          <a:pt x="179" y="190"/>
                        </a:lnTo>
                        <a:lnTo>
                          <a:pt x="183" y="213"/>
                        </a:lnTo>
                        <a:lnTo>
                          <a:pt x="186" y="232"/>
                        </a:lnTo>
                        <a:lnTo>
                          <a:pt x="187" y="246"/>
                        </a:lnTo>
                        <a:lnTo>
                          <a:pt x="186" y="263"/>
                        </a:lnTo>
                        <a:lnTo>
                          <a:pt x="183" y="282"/>
                        </a:lnTo>
                        <a:lnTo>
                          <a:pt x="179" y="296"/>
                        </a:lnTo>
                        <a:lnTo>
                          <a:pt x="173" y="305"/>
                        </a:lnTo>
                        <a:lnTo>
                          <a:pt x="167" y="316"/>
                        </a:lnTo>
                        <a:lnTo>
                          <a:pt x="160" y="325"/>
                        </a:lnTo>
                        <a:lnTo>
                          <a:pt x="151" y="334"/>
                        </a:lnTo>
                        <a:lnTo>
                          <a:pt x="142" y="338"/>
                        </a:lnTo>
                        <a:lnTo>
                          <a:pt x="129" y="342"/>
                        </a:lnTo>
                        <a:lnTo>
                          <a:pt x="119" y="344"/>
                        </a:lnTo>
                        <a:lnTo>
                          <a:pt x="112" y="343"/>
                        </a:lnTo>
                        <a:lnTo>
                          <a:pt x="102" y="338"/>
                        </a:lnTo>
                        <a:lnTo>
                          <a:pt x="91" y="334"/>
                        </a:lnTo>
                        <a:lnTo>
                          <a:pt x="88" y="329"/>
                        </a:lnTo>
                        <a:lnTo>
                          <a:pt x="78" y="320"/>
                        </a:lnTo>
                        <a:lnTo>
                          <a:pt x="71" y="307"/>
                        </a:lnTo>
                        <a:lnTo>
                          <a:pt x="62" y="287"/>
                        </a:lnTo>
                        <a:lnTo>
                          <a:pt x="58" y="268"/>
                        </a:lnTo>
                        <a:lnTo>
                          <a:pt x="57" y="249"/>
                        </a:lnTo>
                        <a:lnTo>
                          <a:pt x="57" y="234"/>
                        </a:lnTo>
                        <a:lnTo>
                          <a:pt x="58" y="212"/>
                        </a:lnTo>
                        <a:lnTo>
                          <a:pt x="61" y="186"/>
                        </a:lnTo>
                        <a:lnTo>
                          <a:pt x="61" y="156"/>
                        </a:lnTo>
                        <a:lnTo>
                          <a:pt x="62" y="132"/>
                        </a:lnTo>
                        <a:lnTo>
                          <a:pt x="62" y="106"/>
                        </a:lnTo>
                        <a:lnTo>
                          <a:pt x="61" y="92"/>
                        </a:lnTo>
                        <a:lnTo>
                          <a:pt x="57" y="76"/>
                        </a:lnTo>
                        <a:lnTo>
                          <a:pt x="51" y="62"/>
                        </a:lnTo>
                        <a:lnTo>
                          <a:pt x="44" y="49"/>
                        </a:lnTo>
                        <a:lnTo>
                          <a:pt x="35" y="36"/>
                        </a:lnTo>
                        <a:lnTo>
                          <a:pt x="28" y="29"/>
                        </a:lnTo>
                        <a:lnTo>
                          <a:pt x="22" y="20"/>
                        </a:lnTo>
                        <a:lnTo>
                          <a:pt x="15" y="14"/>
                        </a:lnTo>
                        <a:lnTo>
                          <a:pt x="0"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113"/>
                  <p:cNvSpPr/>
                  <p:nvPr/>
                </p:nvSpPr>
                <p:spPr>
                  <a:xfrm>
                    <a:off x="1445400" y="4157280"/>
                    <a:ext cx="134280" cy="91080"/>
                  </a:xfrm>
                  <a:custGeom>
                    <a:avLst/>
                    <a:gdLst>
                      <a:gd name="textAreaLeft" fmla="*/ 0 w 134280"/>
                      <a:gd name="textAreaRight" fmla="*/ 134640 w 134280"/>
                      <a:gd name="textAreaTop" fmla="*/ 0 h 91080"/>
                      <a:gd name="textAreaBottom" fmla="*/ 91080 h 91080"/>
                    </a:gdLst>
                    <a:ahLst/>
                    <a:rect l="textAreaLeft" t="textAreaTop" r="textAreaRight" b="textAreaBottom"/>
                    <a:pathLst>
                      <a:path w="246" h="158">
                        <a:moveTo>
                          <a:pt x="37" y="60"/>
                        </a:moveTo>
                        <a:lnTo>
                          <a:pt x="33" y="59"/>
                        </a:lnTo>
                        <a:lnTo>
                          <a:pt x="30" y="59"/>
                        </a:lnTo>
                        <a:lnTo>
                          <a:pt x="21" y="58"/>
                        </a:lnTo>
                        <a:lnTo>
                          <a:pt x="13" y="57"/>
                        </a:lnTo>
                        <a:lnTo>
                          <a:pt x="0" y="58"/>
                        </a:lnTo>
                        <a:lnTo>
                          <a:pt x="26" y="41"/>
                        </a:lnTo>
                        <a:lnTo>
                          <a:pt x="43" y="31"/>
                        </a:lnTo>
                        <a:lnTo>
                          <a:pt x="60" y="21"/>
                        </a:lnTo>
                        <a:lnTo>
                          <a:pt x="80" y="13"/>
                        </a:lnTo>
                        <a:lnTo>
                          <a:pt x="100" y="6"/>
                        </a:lnTo>
                        <a:lnTo>
                          <a:pt x="117" y="3"/>
                        </a:lnTo>
                        <a:lnTo>
                          <a:pt x="140" y="0"/>
                        </a:lnTo>
                        <a:lnTo>
                          <a:pt x="155" y="0"/>
                        </a:lnTo>
                        <a:lnTo>
                          <a:pt x="173" y="5"/>
                        </a:lnTo>
                        <a:lnTo>
                          <a:pt x="188" y="11"/>
                        </a:lnTo>
                        <a:lnTo>
                          <a:pt x="202" y="19"/>
                        </a:lnTo>
                        <a:lnTo>
                          <a:pt x="211" y="26"/>
                        </a:lnTo>
                        <a:lnTo>
                          <a:pt x="223" y="38"/>
                        </a:lnTo>
                        <a:lnTo>
                          <a:pt x="231" y="51"/>
                        </a:lnTo>
                        <a:lnTo>
                          <a:pt x="236" y="61"/>
                        </a:lnTo>
                        <a:lnTo>
                          <a:pt x="242" y="74"/>
                        </a:lnTo>
                        <a:lnTo>
                          <a:pt x="245" y="87"/>
                        </a:lnTo>
                        <a:lnTo>
                          <a:pt x="246" y="100"/>
                        </a:lnTo>
                        <a:lnTo>
                          <a:pt x="246" y="110"/>
                        </a:lnTo>
                        <a:lnTo>
                          <a:pt x="244" y="123"/>
                        </a:lnTo>
                        <a:lnTo>
                          <a:pt x="242" y="131"/>
                        </a:lnTo>
                        <a:lnTo>
                          <a:pt x="238" y="137"/>
                        </a:lnTo>
                        <a:lnTo>
                          <a:pt x="232" y="143"/>
                        </a:lnTo>
                        <a:lnTo>
                          <a:pt x="226" y="148"/>
                        </a:lnTo>
                        <a:lnTo>
                          <a:pt x="218" y="153"/>
                        </a:lnTo>
                        <a:lnTo>
                          <a:pt x="209" y="156"/>
                        </a:lnTo>
                        <a:lnTo>
                          <a:pt x="202" y="157"/>
                        </a:lnTo>
                        <a:lnTo>
                          <a:pt x="192" y="158"/>
                        </a:lnTo>
                        <a:lnTo>
                          <a:pt x="183" y="158"/>
                        </a:lnTo>
                        <a:lnTo>
                          <a:pt x="173" y="157"/>
                        </a:lnTo>
                        <a:lnTo>
                          <a:pt x="163" y="157"/>
                        </a:lnTo>
                        <a:lnTo>
                          <a:pt x="155" y="156"/>
                        </a:lnTo>
                        <a:lnTo>
                          <a:pt x="147" y="151"/>
                        </a:lnTo>
                        <a:lnTo>
                          <a:pt x="137" y="148"/>
                        </a:lnTo>
                        <a:lnTo>
                          <a:pt x="128" y="138"/>
                        </a:lnTo>
                        <a:lnTo>
                          <a:pt x="119" y="131"/>
                        </a:lnTo>
                        <a:lnTo>
                          <a:pt x="110" y="120"/>
                        </a:lnTo>
                        <a:lnTo>
                          <a:pt x="103" y="108"/>
                        </a:lnTo>
                        <a:lnTo>
                          <a:pt x="94" y="96"/>
                        </a:lnTo>
                        <a:lnTo>
                          <a:pt x="87" y="88"/>
                        </a:lnTo>
                        <a:lnTo>
                          <a:pt x="78" y="76"/>
                        </a:lnTo>
                        <a:lnTo>
                          <a:pt x="68" y="68"/>
                        </a:lnTo>
                        <a:lnTo>
                          <a:pt x="60" y="65"/>
                        </a:lnTo>
                        <a:lnTo>
                          <a:pt x="50" y="61"/>
                        </a:lnTo>
                        <a:lnTo>
                          <a:pt x="43" y="61"/>
                        </a:lnTo>
                        <a:lnTo>
                          <a:pt x="37" y="60"/>
                        </a:lnTo>
                        <a:close/>
                      </a:path>
                    </a:pathLst>
                  </a:custGeom>
                  <a:solidFill>
                    <a:srgbClr val="4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11" name="Freeform 114"/>
                  <p:cNvSpPr/>
                  <p:nvPr/>
                </p:nvSpPr>
                <p:spPr>
                  <a:xfrm>
                    <a:off x="1447920" y="4986360"/>
                    <a:ext cx="41400" cy="117000"/>
                  </a:xfrm>
                  <a:custGeom>
                    <a:avLst/>
                    <a:gdLst>
                      <a:gd name="textAreaLeft" fmla="*/ 0 w 41400"/>
                      <a:gd name="textAreaRight" fmla="*/ 41760 w 41400"/>
                      <a:gd name="textAreaTop" fmla="*/ 0 h 117000"/>
                      <a:gd name="textAreaBottom" fmla="*/ 117360 h 117000"/>
                    </a:gdLst>
                    <a:ahLst/>
                    <a:rect l="textAreaLeft" t="textAreaTop" r="textAreaRight" b="textAreaBottom"/>
                    <a:pathLst>
                      <a:path w="75" h="201">
                        <a:moveTo>
                          <a:pt x="30" y="0"/>
                        </a:moveTo>
                        <a:lnTo>
                          <a:pt x="34" y="7"/>
                        </a:lnTo>
                        <a:lnTo>
                          <a:pt x="38" y="15"/>
                        </a:lnTo>
                        <a:lnTo>
                          <a:pt x="43" y="22"/>
                        </a:lnTo>
                        <a:lnTo>
                          <a:pt x="47" y="30"/>
                        </a:lnTo>
                        <a:lnTo>
                          <a:pt x="52" y="38"/>
                        </a:lnTo>
                        <a:lnTo>
                          <a:pt x="55" y="48"/>
                        </a:lnTo>
                        <a:lnTo>
                          <a:pt x="59" y="59"/>
                        </a:lnTo>
                        <a:lnTo>
                          <a:pt x="61" y="65"/>
                        </a:lnTo>
                        <a:lnTo>
                          <a:pt x="65" y="73"/>
                        </a:lnTo>
                        <a:lnTo>
                          <a:pt x="67" y="82"/>
                        </a:lnTo>
                        <a:lnTo>
                          <a:pt x="69" y="91"/>
                        </a:lnTo>
                        <a:lnTo>
                          <a:pt x="71" y="99"/>
                        </a:lnTo>
                        <a:lnTo>
                          <a:pt x="72" y="105"/>
                        </a:lnTo>
                        <a:lnTo>
                          <a:pt x="73" y="109"/>
                        </a:lnTo>
                        <a:lnTo>
                          <a:pt x="75" y="120"/>
                        </a:lnTo>
                        <a:lnTo>
                          <a:pt x="75" y="128"/>
                        </a:lnTo>
                        <a:lnTo>
                          <a:pt x="75" y="139"/>
                        </a:lnTo>
                        <a:lnTo>
                          <a:pt x="73" y="154"/>
                        </a:lnTo>
                        <a:lnTo>
                          <a:pt x="71" y="164"/>
                        </a:lnTo>
                        <a:lnTo>
                          <a:pt x="67" y="175"/>
                        </a:lnTo>
                        <a:lnTo>
                          <a:pt x="64" y="182"/>
                        </a:lnTo>
                        <a:lnTo>
                          <a:pt x="61" y="186"/>
                        </a:lnTo>
                        <a:lnTo>
                          <a:pt x="57" y="190"/>
                        </a:lnTo>
                        <a:lnTo>
                          <a:pt x="53" y="195"/>
                        </a:lnTo>
                        <a:lnTo>
                          <a:pt x="50" y="197"/>
                        </a:lnTo>
                        <a:lnTo>
                          <a:pt x="45" y="200"/>
                        </a:lnTo>
                        <a:lnTo>
                          <a:pt x="41" y="201"/>
                        </a:lnTo>
                        <a:lnTo>
                          <a:pt x="38" y="201"/>
                        </a:lnTo>
                        <a:lnTo>
                          <a:pt x="34" y="201"/>
                        </a:lnTo>
                        <a:lnTo>
                          <a:pt x="30" y="200"/>
                        </a:lnTo>
                        <a:lnTo>
                          <a:pt x="26" y="198"/>
                        </a:lnTo>
                        <a:lnTo>
                          <a:pt x="23" y="195"/>
                        </a:lnTo>
                        <a:lnTo>
                          <a:pt x="19" y="193"/>
                        </a:lnTo>
                        <a:lnTo>
                          <a:pt x="16" y="188"/>
                        </a:lnTo>
                        <a:lnTo>
                          <a:pt x="12" y="184"/>
                        </a:lnTo>
                        <a:lnTo>
                          <a:pt x="9" y="180"/>
                        </a:lnTo>
                        <a:lnTo>
                          <a:pt x="7" y="174"/>
                        </a:lnTo>
                        <a:lnTo>
                          <a:pt x="5" y="168"/>
                        </a:lnTo>
                        <a:lnTo>
                          <a:pt x="4" y="160"/>
                        </a:lnTo>
                        <a:lnTo>
                          <a:pt x="2" y="153"/>
                        </a:lnTo>
                        <a:lnTo>
                          <a:pt x="0" y="145"/>
                        </a:lnTo>
                        <a:lnTo>
                          <a:pt x="0" y="137"/>
                        </a:lnTo>
                        <a:lnTo>
                          <a:pt x="0" y="130"/>
                        </a:lnTo>
                        <a:lnTo>
                          <a:pt x="0" y="125"/>
                        </a:lnTo>
                        <a:lnTo>
                          <a:pt x="0" y="118"/>
                        </a:lnTo>
                        <a:lnTo>
                          <a:pt x="2" y="112"/>
                        </a:lnTo>
                        <a:lnTo>
                          <a:pt x="3" y="106"/>
                        </a:lnTo>
                        <a:lnTo>
                          <a:pt x="4" y="100"/>
                        </a:lnTo>
                        <a:lnTo>
                          <a:pt x="5" y="92"/>
                        </a:lnTo>
                        <a:lnTo>
                          <a:pt x="7" y="80"/>
                        </a:lnTo>
                        <a:lnTo>
                          <a:pt x="14" y="63"/>
                        </a:lnTo>
                        <a:lnTo>
                          <a:pt x="19" y="48"/>
                        </a:lnTo>
                        <a:lnTo>
                          <a:pt x="23" y="40"/>
                        </a:lnTo>
                        <a:lnTo>
                          <a:pt x="24" y="34"/>
                        </a:lnTo>
                        <a:lnTo>
                          <a:pt x="25" y="30"/>
                        </a:lnTo>
                        <a:lnTo>
                          <a:pt x="26" y="24"/>
                        </a:lnTo>
                        <a:lnTo>
                          <a:pt x="28" y="19"/>
                        </a:lnTo>
                        <a:lnTo>
                          <a:pt x="30" y="15"/>
                        </a:lnTo>
                        <a:lnTo>
                          <a:pt x="30"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115"/>
                  <p:cNvSpPr/>
                  <p:nvPr/>
                </p:nvSpPr>
                <p:spPr>
                  <a:xfrm>
                    <a:off x="1227240" y="4948920"/>
                    <a:ext cx="52200" cy="121320"/>
                  </a:xfrm>
                  <a:custGeom>
                    <a:avLst/>
                    <a:gdLst>
                      <a:gd name="textAreaLeft" fmla="*/ 0 w 52200"/>
                      <a:gd name="textAreaRight" fmla="*/ 52560 w 52200"/>
                      <a:gd name="textAreaTop" fmla="*/ 0 h 121320"/>
                      <a:gd name="textAreaBottom" fmla="*/ 121680 h 121320"/>
                    </a:gdLst>
                    <a:ahLst/>
                    <a:rect l="textAreaLeft" t="textAreaTop" r="textAreaRight" b="textAreaBottom"/>
                    <a:pathLst>
                      <a:path w="99" h="206">
                        <a:moveTo>
                          <a:pt x="38" y="0"/>
                        </a:moveTo>
                        <a:lnTo>
                          <a:pt x="44" y="7"/>
                        </a:lnTo>
                        <a:lnTo>
                          <a:pt x="50" y="14"/>
                        </a:lnTo>
                        <a:lnTo>
                          <a:pt x="56" y="21"/>
                        </a:lnTo>
                        <a:lnTo>
                          <a:pt x="61" y="31"/>
                        </a:lnTo>
                        <a:lnTo>
                          <a:pt x="67" y="39"/>
                        </a:lnTo>
                        <a:lnTo>
                          <a:pt x="73" y="49"/>
                        </a:lnTo>
                        <a:lnTo>
                          <a:pt x="78" y="60"/>
                        </a:lnTo>
                        <a:lnTo>
                          <a:pt x="80" y="67"/>
                        </a:lnTo>
                        <a:lnTo>
                          <a:pt x="84" y="74"/>
                        </a:lnTo>
                        <a:lnTo>
                          <a:pt x="88" y="85"/>
                        </a:lnTo>
                        <a:lnTo>
                          <a:pt x="92" y="93"/>
                        </a:lnTo>
                        <a:lnTo>
                          <a:pt x="93" y="101"/>
                        </a:lnTo>
                        <a:lnTo>
                          <a:pt x="94" y="108"/>
                        </a:lnTo>
                        <a:lnTo>
                          <a:pt x="97" y="113"/>
                        </a:lnTo>
                        <a:lnTo>
                          <a:pt x="98" y="123"/>
                        </a:lnTo>
                        <a:lnTo>
                          <a:pt x="99" y="131"/>
                        </a:lnTo>
                        <a:lnTo>
                          <a:pt x="99" y="143"/>
                        </a:lnTo>
                        <a:lnTo>
                          <a:pt x="97" y="157"/>
                        </a:lnTo>
                        <a:lnTo>
                          <a:pt x="92" y="170"/>
                        </a:lnTo>
                        <a:lnTo>
                          <a:pt x="88" y="179"/>
                        </a:lnTo>
                        <a:lnTo>
                          <a:pt x="84" y="186"/>
                        </a:lnTo>
                        <a:lnTo>
                          <a:pt x="80" y="191"/>
                        </a:lnTo>
                        <a:lnTo>
                          <a:pt x="75" y="196"/>
                        </a:lnTo>
                        <a:lnTo>
                          <a:pt x="70" y="200"/>
                        </a:lnTo>
                        <a:lnTo>
                          <a:pt x="64" y="203"/>
                        </a:lnTo>
                        <a:lnTo>
                          <a:pt x="59" y="205"/>
                        </a:lnTo>
                        <a:lnTo>
                          <a:pt x="54" y="206"/>
                        </a:lnTo>
                        <a:lnTo>
                          <a:pt x="50" y="206"/>
                        </a:lnTo>
                        <a:lnTo>
                          <a:pt x="44" y="206"/>
                        </a:lnTo>
                        <a:lnTo>
                          <a:pt x="38" y="205"/>
                        </a:lnTo>
                        <a:lnTo>
                          <a:pt x="33" y="204"/>
                        </a:lnTo>
                        <a:lnTo>
                          <a:pt x="29" y="200"/>
                        </a:lnTo>
                        <a:lnTo>
                          <a:pt x="24" y="197"/>
                        </a:lnTo>
                        <a:lnTo>
                          <a:pt x="20" y="193"/>
                        </a:lnTo>
                        <a:lnTo>
                          <a:pt x="17" y="190"/>
                        </a:lnTo>
                        <a:lnTo>
                          <a:pt x="12" y="184"/>
                        </a:lnTo>
                        <a:lnTo>
                          <a:pt x="9" y="178"/>
                        </a:lnTo>
                        <a:lnTo>
                          <a:pt x="7" y="172"/>
                        </a:lnTo>
                        <a:lnTo>
                          <a:pt x="5" y="165"/>
                        </a:lnTo>
                        <a:lnTo>
                          <a:pt x="3" y="157"/>
                        </a:lnTo>
                        <a:lnTo>
                          <a:pt x="0" y="148"/>
                        </a:lnTo>
                        <a:lnTo>
                          <a:pt x="0" y="142"/>
                        </a:lnTo>
                        <a:lnTo>
                          <a:pt x="0" y="135"/>
                        </a:lnTo>
                        <a:lnTo>
                          <a:pt x="0" y="128"/>
                        </a:lnTo>
                        <a:lnTo>
                          <a:pt x="0" y="121"/>
                        </a:lnTo>
                        <a:lnTo>
                          <a:pt x="2" y="114"/>
                        </a:lnTo>
                        <a:lnTo>
                          <a:pt x="4" y="109"/>
                        </a:lnTo>
                        <a:lnTo>
                          <a:pt x="5" y="102"/>
                        </a:lnTo>
                        <a:lnTo>
                          <a:pt x="7" y="94"/>
                        </a:lnTo>
                        <a:lnTo>
                          <a:pt x="11" y="82"/>
                        </a:lnTo>
                        <a:lnTo>
                          <a:pt x="19" y="63"/>
                        </a:lnTo>
                        <a:lnTo>
                          <a:pt x="24" y="49"/>
                        </a:lnTo>
                        <a:lnTo>
                          <a:pt x="29" y="41"/>
                        </a:lnTo>
                        <a:lnTo>
                          <a:pt x="31" y="35"/>
                        </a:lnTo>
                        <a:lnTo>
                          <a:pt x="33" y="31"/>
                        </a:lnTo>
                        <a:lnTo>
                          <a:pt x="36" y="25"/>
                        </a:lnTo>
                        <a:lnTo>
                          <a:pt x="36" y="19"/>
                        </a:lnTo>
                        <a:lnTo>
                          <a:pt x="38" y="14"/>
                        </a:lnTo>
                        <a:lnTo>
                          <a:pt x="38"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116"/>
                  <p:cNvSpPr/>
                  <p:nvPr/>
                </p:nvSpPr>
                <p:spPr>
                  <a:xfrm>
                    <a:off x="789840" y="4932720"/>
                    <a:ext cx="52920" cy="121320"/>
                  </a:xfrm>
                  <a:custGeom>
                    <a:avLst/>
                    <a:gdLst>
                      <a:gd name="textAreaLeft" fmla="*/ 0 w 52920"/>
                      <a:gd name="textAreaRight" fmla="*/ 53280 w 52920"/>
                      <a:gd name="textAreaTop" fmla="*/ 0 h 121320"/>
                      <a:gd name="textAreaBottom" fmla="*/ 121680 h 121320"/>
                    </a:gdLst>
                    <a:ahLst/>
                    <a:rect l="textAreaLeft" t="textAreaTop" r="textAreaRight" b="textAreaBottom"/>
                    <a:pathLst>
                      <a:path w="98" h="207">
                        <a:moveTo>
                          <a:pt x="59" y="0"/>
                        </a:moveTo>
                        <a:lnTo>
                          <a:pt x="55" y="7"/>
                        </a:lnTo>
                        <a:lnTo>
                          <a:pt x="49" y="15"/>
                        </a:lnTo>
                        <a:lnTo>
                          <a:pt x="43" y="22"/>
                        </a:lnTo>
                        <a:lnTo>
                          <a:pt x="37" y="31"/>
                        </a:lnTo>
                        <a:lnTo>
                          <a:pt x="30" y="40"/>
                        </a:lnTo>
                        <a:lnTo>
                          <a:pt x="25" y="50"/>
                        </a:lnTo>
                        <a:lnTo>
                          <a:pt x="20" y="61"/>
                        </a:lnTo>
                        <a:lnTo>
                          <a:pt x="18" y="68"/>
                        </a:lnTo>
                        <a:lnTo>
                          <a:pt x="15" y="75"/>
                        </a:lnTo>
                        <a:lnTo>
                          <a:pt x="10" y="86"/>
                        </a:lnTo>
                        <a:lnTo>
                          <a:pt x="7" y="94"/>
                        </a:lnTo>
                        <a:lnTo>
                          <a:pt x="6" y="102"/>
                        </a:lnTo>
                        <a:lnTo>
                          <a:pt x="4" y="109"/>
                        </a:lnTo>
                        <a:lnTo>
                          <a:pt x="2" y="114"/>
                        </a:lnTo>
                        <a:lnTo>
                          <a:pt x="1" y="124"/>
                        </a:lnTo>
                        <a:lnTo>
                          <a:pt x="0" y="132"/>
                        </a:lnTo>
                        <a:lnTo>
                          <a:pt x="0" y="143"/>
                        </a:lnTo>
                        <a:lnTo>
                          <a:pt x="2" y="159"/>
                        </a:lnTo>
                        <a:lnTo>
                          <a:pt x="6" y="171"/>
                        </a:lnTo>
                        <a:lnTo>
                          <a:pt x="10" y="180"/>
                        </a:lnTo>
                        <a:lnTo>
                          <a:pt x="15" y="187"/>
                        </a:lnTo>
                        <a:lnTo>
                          <a:pt x="18" y="192"/>
                        </a:lnTo>
                        <a:lnTo>
                          <a:pt x="23" y="197"/>
                        </a:lnTo>
                        <a:lnTo>
                          <a:pt x="29" y="202"/>
                        </a:lnTo>
                        <a:lnTo>
                          <a:pt x="34" y="204"/>
                        </a:lnTo>
                        <a:lnTo>
                          <a:pt x="40" y="206"/>
                        </a:lnTo>
                        <a:lnTo>
                          <a:pt x="43" y="207"/>
                        </a:lnTo>
                        <a:lnTo>
                          <a:pt x="48" y="207"/>
                        </a:lnTo>
                        <a:lnTo>
                          <a:pt x="55" y="207"/>
                        </a:lnTo>
                        <a:lnTo>
                          <a:pt x="59" y="206"/>
                        </a:lnTo>
                        <a:lnTo>
                          <a:pt x="65" y="205"/>
                        </a:lnTo>
                        <a:lnTo>
                          <a:pt x="69" y="202"/>
                        </a:lnTo>
                        <a:lnTo>
                          <a:pt x="73" y="199"/>
                        </a:lnTo>
                        <a:lnTo>
                          <a:pt x="79" y="195"/>
                        </a:lnTo>
                        <a:lnTo>
                          <a:pt x="82" y="191"/>
                        </a:lnTo>
                        <a:lnTo>
                          <a:pt x="86" y="185"/>
                        </a:lnTo>
                        <a:lnTo>
                          <a:pt x="90" y="180"/>
                        </a:lnTo>
                        <a:lnTo>
                          <a:pt x="92" y="173"/>
                        </a:lnTo>
                        <a:lnTo>
                          <a:pt x="93" y="165"/>
                        </a:lnTo>
                        <a:lnTo>
                          <a:pt x="96" y="158"/>
                        </a:lnTo>
                        <a:lnTo>
                          <a:pt x="98" y="149"/>
                        </a:lnTo>
                        <a:lnTo>
                          <a:pt x="98" y="142"/>
                        </a:lnTo>
                        <a:lnTo>
                          <a:pt x="98" y="136"/>
                        </a:lnTo>
                        <a:lnTo>
                          <a:pt x="98" y="129"/>
                        </a:lnTo>
                        <a:lnTo>
                          <a:pt x="98" y="122"/>
                        </a:lnTo>
                        <a:lnTo>
                          <a:pt x="97" y="115"/>
                        </a:lnTo>
                        <a:lnTo>
                          <a:pt x="95" y="110"/>
                        </a:lnTo>
                        <a:lnTo>
                          <a:pt x="93" y="103"/>
                        </a:lnTo>
                        <a:lnTo>
                          <a:pt x="92" y="95"/>
                        </a:lnTo>
                        <a:lnTo>
                          <a:pt x="88" y="83"/>
                        </a:lnTo>
                        <a:lnTo>
                          <a:pt x="79" y="65"/>
                        </a:lnTo>
                        <a:lnTo>
                          <a:pt x="73" y="49"/>
                        </a:lnTo>
                        <a:lnTo>
                          <a:pt x="69" y="42"/>
                        </a:lnTo>
                        <a:lnTo>
                          <a:pt x="68" y="36"/>
                        </a:lnTo>
                        <a:lnTo>
                          <a:pt x="65" y="31"/>
                        </a:lnTo>
                        <a:lnTo>
                          <a:pt x="63" y="25"/>
                        </a:lnTo>
                        <a:lnTo>
                          <a:pt x="62" y="20"/>
                        </a:lnTo>
                        <a:lnTo>
                          <a:pt x="59" y="15"/>
                        </a:lnTo>
                        <a:lnTo>
                          <a:pt x="59" y="0"/>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117"/>
                  <p:cNvSpPr/>
                  <p:nvPr/>
                </p:nvSpPr>
                <p:spPr>
                  <a:xfrm>
                    <a:off x="803160" y="4386600"/>
                    <a:ext cx="101520" cy="124200"/>
                  </a:xfrm>
                  <a:custGeom>
                    <a:avLst/>
                    <a:gdLst>
                      <a:gd name="textAreaLeft" fmla="*/ 0 w 101520"/>
                      <a:gd name="textAreaRight" fmla="*/ 101880 w 101520"/>
                      <a:gd name="textAreaTop" fmla="*/ 0 h 124200"/>
                      <a:gd name="textAreaBottom" fmla="*/ 124560 h 124200"/>
                    </a:gdLst>
                    <a:ahLst/>
                    <a:rect l="textAreaLeft" t="textAreaTop" r="textAreaRight" b="textAreaBottom"/>
                    <a:pathLst>
                      <a:path w="184" h="212">
                        <a:moveTo>
                          <a:pt x="184" y="0"/>
                        </a:moveTo>
                        <a:lnTo>
                          <a:pt x="152" y="1"/>
                        </a:lnTo>
                        <a:lnTo>
                          <a:pt x="137" y="4"/>
                        </a:lnTo>
                        <a:lnTo>
                          <a:pt x="118" y="9"/>
                        </a:lnTo>
                        <a:lnTo>
                          <a:pt x="102" y="14"/>
                        </a:lnTo>
                        <a:lnTo>
                          <a:pt x="87" y="21"/>
                        </a:lnTo>
                        <a:lnTo>
                          <a:pt x="73" y="29"/>
                        </a:lnTo>
                        <a:lnTo>
                          <a:pt x="59" y="40"/>
                        </a:lnTo>
                        <a:lnTo>
                          <a:pt x="54" y="45"/>
                        </a:lnTo>
                        <a:lnTo>
                          <a:pt x="46" y="54"/>
                        </a:lnTo>
                        <a:lnTo>
                          <a:pt x="36" y="63"/>
                        </a:lnTo>
                        <a:lnTo>
                          <a:pt x="28" y="74"/>
                        </a:lnTo>
                        <a:lnTo>
                          <a:pt x="23" y="82"/>
                        </a:lnTo>
                        <a:lnTo>
                          <a:pt x="15" y="95"/>
                        </a:lnTo>
                        <a:lnTo>
                          <a:pt x="11" y="103"/>
                        </a:lnTo>
                        <a:lnTo>
                          <a:pt x="7" y="116"/>
                        </a:lnTo>
                        <a:lnTo>
                          <a:pt x="3" y="130"/>
                        </a:lnTo>
                        <a:lnTo>
                          <a:pt x="0" y="142"/>
                        </a:lnTo>
                        <a:lnTo>
                          <a:pt x="0" y="150"/>
                        </a:lnTo>
                        <a:lnTo>
                          <a:pt x="0" y="161"/>
                        </a:lnTo>
                        <a:lnTo>
                          <a:pt x="3" y="173"/>
                        </a:lnTo>
                        <a:lnTo>
                          <a:pt x="7" y="181"/>
                        </a:lnTo>
                        <a:lnTo>
                          <a:pt x="11" y="188"/>
                        </a:lnTo>
                        <a:lnTo>
                          <a:pt x="17" y="194"/>
                        </a:lnTo>
                        <a:lnTo>
                          <a:pt x="24" y="200"/>
                        </a:lnTo>
                        <a:lnTo>
                          <a:pt x="34" y="205"/>
                        </a:lnTo>
                        <a:lnTo>
                          <a:pt x="43" y="208"/>
                        </a:lnTo>
                        <a:lnTo>
                          <a:pt x="56" y="211"/>
                        </a:lnTo>
                        <a:lnTo>
                          <a:pt x="65" y="212"/>
                        </a:lnTo>
                        <a:lnTo>
                          <a:pt x="73" y="212"/>
                        </a:lnTo>
                        <a:lnTo>
                          <a:pt x="84" y="208"/>
                        </a:lnTo>
                        <a:lnTo>
                          <a:pt x="93" y="205"/>
                        </a:lnTo>
                        <a:lnTo>
                          <a:pt x="98" y="201"/>
                        </a:lnTo>
                        <a:lnTo>
                          <a:pt x="106" y="197"/>
                        </a:lnTo>
                        <a:lnTo>
                          <a:pt x="113" y="190"/>
                        </a:lnTo>
                        <a:lnTo>
                          <a:pt x="124" y="177"/>
                        </a:lnTo>
                        <a:lnTo>
                          <a:pt x="126" y="164"/>
                        </a:lnTo>
                        <a:lnTo>
                          <a:pt x="128" y="152"/>
                        </a:lnTo>
                        <a:lnTo>
                          <a:pt x="128" y="143"/>
                        </a:lnTo>
                        <a:lnTo>
                          <a:pt x="126" y="129"/>
                        </a:lnTo>
                        <a:lnTo>
                          <a:pt x="124" y="113"/>
                        </a:lnTo>
                        <a:lnTo>
                          <a:pt x="124" y="95"/>
                        </a:lnTo>
                        <a:lnTo>
                          <a:pt x="124" y="81"/>
                        </a:lnTo>
                        <a:lnTo>
                          <a:pt x="124" y="64"/>
                        </a:lnTo>
                        <a:lnTo>
                          <a:pt x="124" y="56"/>
                        </a:lnTo>
                        <a:lnTo>
                          <a:pt x="128" y="45"/>
                        </a:lnTo>
                        <a:lnTo>
                          <a:pt x="133" y="37"/>
                        </a:lnTo>
                        <a:lnTo>
                          <a:pt x="139" y="29"/>
                        </a:lnTo>
                        <a:lnTo>
                          <a:pt x="150" y="21"/>
                        </a:lnTo>
                        <a:lnTo>
                          <a:pt x="157" y="16"/>
                        </a:lnTo>
                        <a:lnTo>
                          <a:pt x="162" y="10"/>
                        </a:lnTo>
                        <a:lnTo>
                          <a:pt x="168" y="7"/>
                        </a:lnTo>
                        <a:lnTo>
                          <a:pt x="184" y="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118"/>
                  <p:cNvSpPr/>
                  <p:nvPr/>
                </p:nvSpPr>
                <p:spPr>
                  <a:xfrm>
                    <a:off x="1037160" y="4443120"/>
                    <a:ext cx="72720" cy="159120"/>
                  </a:xfrm>
                  <a:custGeom>
                    <a:avLst/>
                    <a:gdLst>
                      <a:gd name="textAreaLeft" fmla="*/ 0 w 72720"/>
                      <a:gd name="textAreaRight" fmla="*/ 73080 w 72720"/>
                      <a:gd name="textAreaTop" fmla="*/ 0 h 159120"/>
                      <a:gd name="textAreaBottom" fmla="*/ 159480 h 159120"/>
                    </a:gdLst>
                    <a:ahLst/>
                    <a:rect l="textAreaLeft" t="textAreaTop" r="textAreaRight" b="textAreaBottom"/>
                    <a:pathLst>
                      <a:path w="132" h="274">
                        <a:moveTo>
                          <a:pt x="51" y="0"/>
                        </a:moveTo>
                        <a:lnTo>
                          <a:pt x="59" y="9"/>
                        </a:lnTo>
                        <a:lnTo>
                          <a:pt x="66" y="19"/>
                        </a:lnTo>
                        <a:lnTo>
                          <a:pt x="73" y="29"/>
                        </a:lnTo>
                        <a:lnTo>
                          <a:pt x="82" y="41"/>
                        </a:lnTo>
                        <a:lnTo>
                          <a:pt x="89" y="52"/>
                        </a:lnTo>
                        <a:lnTo>
                          <a:pt x="98" y="66"/>
                        </a:lnTo>
                        <a:lnTo>
                          <a:pt x="104" y="79"/>
                        </a:lnTo>
                        <a:lnTo>
                          <a:pt x="108" y="89"/>
                        </a:lnTo>
                        <a:lnTo>
                          <a:pt x="112" y="99"/>
                        </a:lnTo>
                        <a:lnTo>
                          <a:pt x="116" y="112"/>
                        </a:lnTo>
                        <a:lnTo>
                          <a:pt x="121" y="124"/>
                        </a:lnTo>
                        <a:lnTo>
                          <a:pt x="125" y="134"/>
                        </a:lnTo>
                        <a:lnTo>
                          <a:pt x="126" y="144"/>
                        </a:lnTo>
                        <a:lnTo>
                          <a:pt x="128" y="149"/>
                        </a:lnTo>
                        <a:lnTo>
                          <a:pt x="130" y="163"/>
                        </a:lnTo>
                        <a:lnTo>
                          <a:pt x="132" y="174"/>
                        </a:lnTo>
                        <a:lnTo>
                          <a:pt x="132" y="189"/>
                        </a:lnTo>
                        <a:lnTo>
                          <a:pt x="128" y="209"/>
                        </a:lnTo>
                        <a:lnTo>
                          <a:pt x="123" y="224"/>
                        </a:lnTo>
                        <a:lnTo>
                          <a:pt x="116" y="237"/>
                        </a:lnTo>
                        <a:lnTo>
                          <a:pt x="112" y="247"/>
                        </a:lnTo>
                        <a:lnTo>
                          <a:pt x="107" y="252"/>
                        </a:lnTo>
                        <a:lnTo>
                          <a:pt x="99" y="260"/>
                        </a:lnTo>
                        <a:lnTo>
                          <a:pt x="93" y="265"/>
                        </a:lnTo>
                        <a:lnTo>
                          <a:pt x="86" y="269"/>
                        </a:lnTo>
                        <a:lnTo>
                          <a:pt x="79" y="272"/>
                        </a:lnTo>
                        <a:lnTo>
                          <a:pt x="73" y="274"/>
                        </a:lnTo>
                        <a:lnTo>
                          <a:pt x="66" y="274"/>
                        </a:lnTo>
                        <a:lnTo>
                          <a:pt x="59" y="274"/>
                        </a:lnTo>
                        <a:lnTo>
                          <a:pt x="51" y="272"/>
                        </a:lnTo>
                        <a:lnTo>
                          <a:pt x="46" y="270"/>
                        </a:lnTo>
                        <a:lnTo>
                          <a:pt x="39" y="265"/>
                        </a:lnTo>
                        <a:lnTo>
                          <a:pt x="33" y="261"/>
                        </a:lnTo>
                        <a:lnTo>
                          <a:pt x="27" y="256"/>
                        </a:lnTo>
                        <a:lnTo>
                          <a:pt x="22" y="251"/>
                        </a:lnTo>
                        <a:lnTo>
                          <a:pt x="17" y="243"/>
                        </a:lnTo>
                        <a:lnTo>
                          <a:pt x="12" y="236"/>
                        </a:lnTo>
                        <a:lnTo>
                          <a:pt x="9" y="228"/>
                        </a:lnTo>
                        <a:lnTo>
                          <a:pt x="6" y="219"/>
                        </a:lnTo>
                        <a:lnTo>
                          <a:pt x="4" y="208"/>
                        </a:lnTo>
                        <a:lnTo>
                          <a:pt x="2" y="197"/>
                        </a:lnTo>
                        <a:lnTo>
                          <a:pt x="0" y="188"/>
                        </a:lnTo>
                        <a:lnTo>
                          <a:pt x="0" y="179"/>
                        </a:lnTo>
                        <a:lnTo>
                          <a:pt x="0" y="169"/>
                        </a:lnTo>
                        <a:lnTo>
                          <a:pt x="0" y="161"/>
                        </a:lnTo>
                        <a:lnTo>
                          <a:pt x="3" y="152"/>
                        </a:lnTo>
                        <a:lnTo>
                          <a:pt x="4" y="145"/>
                        </a:lnTo>
                        <a:lnTo>
                          <a:pt x="7" y="137"/>
                        </a:lnTo>
                        <a:lnTo>
                          <a:pt x="9" y="125"/>
                        </a:lnTo>
                        <a:lnTo>
                          <a:pt x="15" y="110"/>
                        </a:lnTo>
                        <a:lnTo>
                          <a:pt x="25" y="85"/>
                        </a:lnTo>
                        <a:lnTo>
                          <a:pt x="33" y="65"/>
                        </a:lnTo>
                        <a:lnTo>
                          <a:pt x="39" y="55"/>
                        </a:lnTo>
                        <a:lnTo>
                          <a:pt x="43" y="48"/>
                        </a:lnTo>
                        <a:lnTo>
                          <a:pt x="46" y="41"/>
                        </a:lnTo>
                        <a:lnTo>
                          <a:pt x="47" y="32"/>
                        </a:lnTo>
                        <a:lnTo>
                          <a:pt x="50" y="25"/>
                        </a:lnTo>
                        <a:lnTo>
                          <a:pt x="51" y="18"/>
                        </a:lnTo>
                        <a:lnTo>
                          <a:pt x="51"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119"/>
                  <p:cNvSpPr/>
                  <p:nvPr/>
                </p:nvSpPr>
                <p:spPr>
                  <a:xfrm>
                    <a:off x="1169640" y="4314600"/>
                    <a:ext cx="136440" cy="93240"/>
                  </a:xfrm>
                  <a:custGeom>
                    <a:avLst/>
                    <a:gdLst>
                      <a:gd name="textAreaLeft" fmla="*/ 0 w 136440"/>
                      <a:gd name="textAreaRight" fmla="*/ 136800 w 136440"/>
                      <a:gd name="textAreaTop" fmla="*/ 0 h 93240"/>
                      <a:gd name="textAreaBottom" fmla="*/ 93600 h 93240"/>
                    </a:gdLst>
                    <a:ahLst/>
                    <a:rect l="textAreaLeft" t="textAreaTop" r="textAreaRight" b="textAreaBottom"/>
                    <a:pathLst>
                      <a:path w="246" h="159">
                        <a:moveTo>
                          <a:pt x="37" y="60"/>
                        </a:moveTo>
                        <a:lnTo>
                          <a:pt x="32" y="58"/>
                        </a:lnTo>
                        <a:lnTo>
                          <a:pt x="29" y="58"/>
                        </a:lnTo>
                        <a:lnTo>
                          <a:pt x="21" y="57"/>
                        </a:lnTo>
                        <a:lnTo>
                          <a:pt x="12" y="56"/>
                        </a:lnTo>
                        <a:lnTo>
                          <a:pt x="0" y="57"/>
                        </a:lnTo>
                        <a:lnTo>
                          <a:pt x="25" y="41"/>
                        </a:lnTo>
                        <a:lnTo>
                          <a:pt x="42" y="30"/>
                        </a:lnTo>
                        <a:lnTo>
                          <a:pt x="59" y="21"/>
                        </a:lnTo>
                        <a:lnTo>
                          <a:pt x="79" y="13"/>
                        </a:lnTo>
                        <a:lnTo>
                          <a:pt x="100" y="6"/>
                        </a:lnTo>
                        <a:lnTo>
                          <a:pt x="117" y="2"/>
                        </a:lnTo>
                        <a:lnTo>
                          <a:pt x="139" y="0"/>
                        </a:lnTo>
                        <a:lnTo>
                          <a:pt x="154" y="0"/>
                        </a:lnTo>
                        <a:lnTo>
                          <a:pt x="172" y="5"/>
                        </a:lnTo>
                        <a:lnTo>
                          <a:pt x="187" y="10"/>
                        </a:lnTo>
                        <a:lnTo>
                          <a:pt x="201" y="19"/>
                        </a:lnTo>
                        <a:lnTo>
                          <a:pt x="210" y="26"/>
                        </a:lnTo>
                        <a:lnTo>
                          <a:pt x="222" y="37"/>
                        </a:lnTo>
                        <a:lnTo>
                          <a:pt x="229" y="50"/>
                        </a:lnTo>
                        <a:lnTo>
                          <a:pt x="235" y="61"/>
                        </a:lnTo>
                        <a:lnTo>
                          <a:pt x="240" y="74"/>
                        </a:lnTo>
                        <a:lnTo>
                          <a:pt x="244" y="87"/>
                        </a:lnTo>
                        <a:lnTo>
                          <a:pt x="246" y="99"/>
                        </a:lnTo>
                        <a:lnTo>
                          <a:pt x="246" y="110"/>
                        </a:lnTo>
                        <a:lnTo>
                          <a:pt x="243" y="123"/>
                        </a:lnTo>
                        <a:lnTo>
                          <a:pt x="240" y="132"/>
                        </a:lnTo>
                        <a:lnTo>
                          <a:pt x="237" y="138"/>
                        </a:lnTo>
                        <a:lnTo>
                          <a:pt x="231" y="144"/>
                        </a:lnTo>
                        <a:lnTo>
                          <a:pt x="226" y="149"/>
                        </a:lnTo>
                        <a:lnTo>
                          <a:pt x="217" y="153"/>
                        </a:lnTo>
                        <a:lnTo>
                          <a:pt x="208" y="157"/>
                        </a:lnTo>
                        <a:lnTo>
                          <a:pt x="201" y="158"/>
                        </a:lnTo>
                        <a:lnTo>
                          <a:pt x="192" y="159"/>
                        </a:lnTo>
                        <a:lnTo>
                          <a:pt x="182" y="159"/>
                        </a:lnTo>
                        <a:lnTo>
                          <a:pt x="172" y="158"/>
                        </a:lnTo>
                        <a:lnTo>
                          <a:pt x="162" y="158"/>
                        </a:lnTo>
                        <a:lnTo>
                          <a:pt x="154" y="157"/>
                        </a:lnTo>
                        <a:lnTo>
                          <a:pt x="145" y="152"/>
                        </a:lnTo>
                        <a:lnTo>
                          <a:pt x="135" y="149"/>
                        </a:lnTo>
                        <a:lnTo>
                          <a:pt x="126" y="139"/>
                        </a:lnTo>
                        <a:lnTo>
                          <a:pt x="118" y="131"/>
                        </a:lnTo>
                        <a:lnTo>
                          <a:pt x="111" y="118"/>
                        </a:lnTo>
                        <a:lnTo>
                          <a:pt x="103" y="108"/>
                        </a:lnTo>
                        <a:lnTo>
                          <a:pt x="93" y="96"/>
                        </a:lnTo>
                        <a:lnTo>
                          <a:pt x="86" y="88"/>
                        </a:lnTo>
                        <a:lnTo>
                          <a:pt x="77" y="76"/>
                        </a:lnTo>
                        <a:lnTo>
                          <a:pt x="69" y="68"/>
                        </a:lnTo>
                        <a:lnTo>
                          <a:pt x="59" y="64"/>
                        </a:lnTo>
                        <a:lnTo>
                          <a:pt x="49" y="61"/>
                        </a:lnTo>
                        <a:lnTo>
                          <a:pt x="42" y="61"/>
                        </a:lnTo>
                        <a:lnTo>
                          <a:pt x="37" y="6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17" name="Oval 120"/>
          <p:cNvSpPr/>
          <p:nvPr/>
        </p:nvSpPr>
        <p:spPr>
          <a:xfrm>
            <a:off x="4230720" y="1905120"/>
            <a:ext cx="1346040" cy="81252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121"/>
          <p:cNvSpPr/>
          <p:nvPr/>
        </p:nvSpPr>
        <p:spPr>
          <a:xfrm>
            <a:off x="4662360" y="211464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il</a:t>
            </a:r>
            <a:endParaRPr b="0" lang="en-US" sz="2000" spc="-1" strike="noStrike">
              <a:solidFill>
                <a:srgbClr val="000000"/>
              </a:solidFill>
              <a:latin typeface="Arial"/>
            </a:endParaRPr>
          </a:p>
        </p:txBody>
      </p:sp>
      <p:sp>
        <p:nvSpPr>
          <p:cNvPr id="1019" name="Oval 122"/>
          <p:cNvSpPr/>
          <p:nvPr/>
        </p:nvSpPr>
        <p:spPr>
          <a:xfrm>
            <a:off x="4230720" y="3184560"/>
            <a:ext cx="1346040" cy="81288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123"/>
          <p:cNvSpPr/>
          <p:nvPr/>
        </p:nvSpPr>
        <p:spPr>
          <a:xfrm>
            <a:off x="4322880" y="3394080"/>
            <a:ext cx="1187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asoline</a:t>
            </a:r>
            <a:endParaRPr b="0" lang="en-US" sz="2000" spc="-1" strike="noStrike">
              <a:solidFill>
                <a:srgbClr val="000000"/>
              </a:solidFill>
              <a:latin typeface="Arial"/>
            </a:endParaRPr>
          </a:p>
        </p:txBody>
      </p:sp>
      <p:sp>
        <p:nvSpPr>
          <p:cNvPr id="1021" name="Oval 124"/>
          <p:cNvSpPr/>
          <p:nvPr/>
        </p:nvSpPr>
        <p:spPr>
          <a:xfrm>
            <a:off x="4230720" y="4457880"/>
            <a:ext cx="1346040" cy="81252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125"/>
          <p:cNvSpPr/>
          <p:nvPr/>
        </p:nvSpPr>
        <p:spPr>
          <a:xfrm>
            <a:off x="4249800" y="4667400"/>
            <a:ext cx="1371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hemicals</a:t>
            </a:r>
            <a:endParaRPr b="0" lang="en-US" sz="2000" spc="-1" strike="noStrike">
              <a:solidFill>
                <a:srgbClr val="000000"/>
              </a:solidFill>
              <a:latin typeface="Arial"/>
            </a:endParaRPr>
          </a:p>
        </p:txBody>
      </p:sp>
      <p:graphicFrame>
        <p:nvGraphicFramePr>
          <p:cNvPr id="1023" name="Object 2"/>
          <p:cNvGraphicFramePr/>
          <p:nvPr/>
        </p:nvGraphicFramePr>
        <p:xfrm>
          <a:off x="5638680" y="3683160"/>
          <a:ext cx="314280" cy="603000"/>
        </p:xfrm>
        <a:graphic>
          <a:graphicData uri="http://schemas.openxmlformats.org/presentationml/2006/ole">
            <p:oleObj r:id="rId1" spid="">
              <p:embed/>
              <p:pic>
                <p:nvPicPr>
                  <p:cNvPr id="1024" name="Object 2" descr=""/>
                  <p:cNvPicPr/>
                  <p:nvPr/>
                </p:nvPicPr>
                <p:blipFill>
                  <a:blip r:embed="rId2"/>
                  <a:stretch/>
                </p:blipFill>
                <p:spPr>
                  <a:xfrm>
                    <a:off x="5638680" y="3683160"/>
                    <a:ext cx="314280" cy="603000"/>
                  </a:xfrm>
                  <a:prstGeom prst="rect">
                    <a:avLst/>
                  </a:prstGeom>
                  <a:ln w="0">
                    <a:noFill/>
                  </a:ln>
                </p:spPr>
              </p:pic>
            </p:oleObj>
          </a:graphicData>
        </a:graphic>
      </p:graphicFrame>
      <p:graphicFrame>
        <p:nvGraphicFramePr>
          <p:cNvPr id="1025" name="Object 3"/>
          <p:cNvGraphicFramePr/>
          <p:nvPr/>
        </p:nvGraphicFramePr>
        <p:xfrm>
          <a:off x="5638680" y="2422440"/>
          <a:ext cx="314280" cy="603360"/>
        </p:xfrm>
        <a:graphic>
          <a:graphicData uri="http://schemas.openxmlformats.org/presentationml/2006/ole">
            <p:oleObj r:id="rId3" spid="">
              <p:embed/>
              <p:pic>
                <p:nvPicPr>
                  <p:cNvPr id="1026" name="Object 3" descr=""/>
                  <p:cNvPicPr/>
                  <p:nvPr/>
                </p:nvPicPr>
                <p:blipFill>
                  <a:blip r:embed="rId4"/>
                  <a:stretch/>
                </p:blipFill>
                <p:spPr>
                  <a:xfrm>
                    <a:off x="5638680" y="2422440"/>
                    <a:ext cx="314280" cy="603360"/>
                  </a:xfrm>
                  <a:prstGeom prst="rect">
                    <a:avLst/>
                  </a:prstGeom>
                  <a:ln w="0">
                    <a:noFill/>
                  </a:ln>
                </p:spPr>
              </p:pic>
            </p:oleObj>
          </a:graphicData>
        </a:graphic>
      </p:graphicFrame>
      <p:graphicFrame>
        <p:nvGraphicFramePr>
          <p:cNvPr id="1027" name="Object 4"/>
          <p:cNvGraphicFramePr/>
          <p:nvPr/>
        </p:nvGraphicFramePr>
        <p:xfrm>
          <a:off x="5638680" y="5054760"/>
          <a:ext cx="314280" cy="603000"/>
        </p:xfrm>
        <a:graphic>
          <a:graphicData uri="http://schemas.openxmlformats.org/presentationml/2006/ole">
            <p:oleObj r:id="rId5" spid="">
              <p:embed/>
              <p:pic>
                <p:nvPicPr>
                  <p:cNvPr id="1028" name="Object 4" descr=""/>
                  <p:cNvPicPr/>
                  <p:nvPr/>
                </p:nvPicPr>
                <p:blipFill>
                  <a:blip r:embed="rId6"/>
                  <a:stretch/>
                </p:blipFill>
                <p:spPr>
                  <a:xfrm>
                    <a:off x="5638680" y="5054760"/>
                    <a:ext cx="314280" cy="603000"/>
                  </a:xfrm>
                  <a:prstGeom prst="rect">
                    <a:avLst/>
                  </a:prstGeom>
                  <a:ln w="0">
                    <a:noFill/>
                  </a:ln>
                </p:spPr>
              </p:pic>
            </p:oleObj>
          </a:graphicData>
        </a:graphic>
      </p:graphicFrame>
      <p:sp>
        <p:nvSpPr>
          <p:cNvPr id="1029" name="Rectangle 5"/>
          <p:cNvSpPr/>
          <p:nvPr/>
        </p:nvSpPr>
        <p:spPr>
          <a:xfrm>
            <a:off x="6324480" y="1616040"/>
            <a:ext cx="2590920" cy="4992840"/>
          </a:xfrm>
          <a:prstGeom prst="rect">
            <a:avLst/>
          </a:prstGeom>
          <a:solidFill>
            <a:srgbClr val="ebf7ff"/>
          </a:solidFill>
          <a:ln w="12600">
            <a:solidFill>
              <a:srgbClr val="46464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For example,      in the petroleum refining industry,  a large number      of products are extracted from crude oil, including gasoline, jet fuel, home heating oil, lubricants, asphalt, and various organic chemicals.</a:t>
            </a:r>
            <a:endParaRPr b="0" lang="en-US" sz="2300" spc="-1" strike="noStrike">
              <a:solidFill>
                <a:srgbClr val="000000"/>
              </a:solidFill>
              <a:latin typeface="Arial"/>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Joint Products</a:t>
            </a:r>
            <a:endParaRPr b="0" lang="en-US" sz="4000" spc="-1" strike="noStrike">
              <a:solidFill>
                <a:srgbClr val="464646"/>
              </a:solidFill>
              <a:latin typeface="Arial"/>
            </a:endParaRPr>
          </a:p>
        </p:txBody>
      </p:sp>
      <p:sp>
        <p:nvSpPr>
          <p:cNvPr id="1031" name="Rectangle 3"/>
          <p:cNvSpPr/>
          <p:nvPr/>
        </p:nvSpPr>
        <p:spPr>
          <a:xfrm>
            <a:off x="6032520" y="1763640"/>
            <a:ext cx="1498680" cy="965160"/>
          </a:xfrm>
          <a:prstGeom prst="rect">
            <a:avLst/>
          </a:prstGeom>
          <a:solidFill>
            <a:srgbClr val="0000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4"/>
          <p:cNvSpPr/>
          <p:nvPr/>
        </p:nvSpPr>
        <p:spPr>
          <a:xfrm>
            <a:off x="6060240" y="1897200"/>
            <a:ext cx="14432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cessing</a:t>
            </a:r>
            <a:endParaRPr b="0" lang="en-US" sz="2000" spc="-1" strike="noStrike">
              <a:solidFill>
                <a:srgbClr val="000000"/>
              </a:solidFill>
              <a:latin typeface="Arial"/>
            </a:endParaRPr>
          </a:p>
        </p:txBody>
      </p:sp>
      <p:sp>
        <p:nvSpPr>
          <p:cNvPr id="1033" name="Rectangle 5"/>
          <p:cNvSpPr/>
          <p:nvPr/>
        </p:nvSpPr>
        <p:spPr>
          <a:xfrm>
            <a:off x="6108840" y="4316400"/>
            <a:ext cx="1498320" cy="965160"/>
          </a:xfrm>
          <a:prstGeom prst="rect">
            <a:avLst/>
          </a:prstGeom>
          <a:solidFill>
            <a:srgbClr val="0000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6"/>
          <p:cNvSpPr/>
          <p:nvPr/>
        </p:nvSpPr>
        <p:spPr>
          <a:xfrm>
            <a:off x="6136560" y="4449600"/>
            <a:ext cx="14432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cessing</a:t>
            </a:r>
            <a:endParaRPr b="0" lang="en-US" sz="2000" spc="-1" strike="noStrike">
              <a:solidFill>
                <a:srgbClr val="000000"/>
              </a:solidFill>
              <a:latin typeface="Arial"/>
            </a:endParaRPr>
          </a:p>
        </p:txBody>
      </p:sp>
      <p:sp>
        <p:nvSpPr>
          <p:cNvPr id="1035" name="Line 7"/>
          <p:cNvSpPr/>
          <p:nvPr/>
        </p:nvSpPr>
        <p:spPr>
          <a:xfrm>
            <a:off x="5568840" y="224640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Line 8"/>
          <p:cNvSpPr/>
          <p:nvPr/>
        </p:nvSpPr>
        <p:spPr>
          <a:xfrm>
            <a:off x="5645160" y="4836960"/>
            <a:ext cx="444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Rectangle 9"/>
          <p:cNvSpPr/>
          <p:nvPr/>
        </p:nvSpPr>
        <p:spPr>
          <a:xfrm>
            <a:off x="8138160" y="1882800"/>
            <a:ext cx="8931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ale</a:t>
            </a:r>
            <a:endParaRPr b="0" lang="en-US" sz="2400" spc="-1" strike="noStrike">
              <a:solidFill>
                <a:srgbClr val="000000"/>
              </a:solidFill>
              <a:latin typeface="Arial"/>
            </a:endParaRPr>
          </a:p>
        </p:txBody>
      </p:sp>
      <p:sp>
        <p:nvSpPr>
          <p:cNvPr id="1038" name="Line 10"/>
          <p:cNvSpPr/>
          <p:nvPr/>
        </p:nvSpPr>
        <p:spPr>
          <a:xfrm>
            <a:off x="7550280" y="2246400"/>
            <a:ext cx="596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Rectangle 11"/>
          <p:cNvSpPr/>
          <p:nvPr/>
        </p:nvSpPr>
        <p:spPr>
          <a:xfrm>
            <a:off x="8138160" y="4473720"/>
            <a:ext cx="8931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ale</a:t>
            </a:r>
            <a:endParaRPr b="0" lang="en-US" sz="2400" spc="-1" strike="noStrike">
              <a:solidFill>
                <a:srgbClr val="000000"/>
              </a:solidFill>
              <a:latin typeface="Arial"/>
            </a:endParaRPr>
          </a:p>
        </p:txBody>
      </p:sp>
      <p:sp>
        <p:nvSpPr>
          <p:cNvPr id="1040" name="Line 12"/>
          <p:cNvSpPr/>
          <p:nvPr/>
        </p:nvSpPr>
        <p:spPr>
          <a:xfrm>
            <a:off x="7626240" y="4836960"/>
            <a:ext cx="596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Rectangle 13"/>
          <p:cNvSpPr/>
          <p:nvPr/>
        </p:nvSpPr>
        <p:spPr>
          <a:xfrm>
            <a:off x="6324840" y="3195720"/>
            <a:ext cx="732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i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ale</a:t>
            </a:r>
            <a:endParaRPr b="0" lang="en-US" sz="2000" spc="-1" strike="noStrike">
              <a:solidFill>
                <a:srgbClr val="000000"/>
              </a:solidFill>
              <a:latin typeface="Arial"/>
            </a:endParaRPr>
          </a:p>
        </p:txBody>
      </p:sp>
      <p:sp>
        <p:nvSpPr>
          <p:cNvPr id="1042" name="Line 14"/>
          <p:cNvSpPr/>
          <p:nvPr/>
        </p:nvSpPr>
        <p:spPr>
          <a:xfrm>
            <a:off x="5645160" y="3541680"/>
            <a:ext cx="603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Rectangle 15"/>
          <p:cNvSpPr/>
          <p:nvPr/>
        </p:nvSpPr>
        <p:spPr>
          <a:xfrm>
            <a:off x="6139080" y="5508720"/>
            <a:ext cx="146772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par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du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sts</a:t>
            </a:r>
            <a:endParaRPr b="0" lang="en-US" sz="2400" spc="-1" strike="noStrike">
              <a:solidFill>
                <a:srgbClr val="000000"/>
              </a:solidFill>
              <a:latin typeface="Arial"/>
            </a:endParaRPr>
          </a:p>
        </p:txBody>
      </p:sp>
      <p:sp>
        <p:nvSpPr>
          <p:cNvPr id="1044" name="Line 16"/>
          <p:cNvSpPr/>
          <p:nvPr/>
        </p:nvSpPr>
        <p:spPr>
          <a:xfrm flipV="1">
            <a:off x="6858000" y="5288040"/>
            <a:ext cx="0" cy="31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Oval 17"/>
          <p:cNvSpPr/>
          <p:nvPr/>
        </p:nvSpPr>
        <p:spPr>
          <a:xfrm>
            <a:off x="393840" y="3119400"/>
            <a:ext cx="1346040" cy="812880"/>
          </a:xfrm>
          <a:prstGeom prst="ellipse">
            <a:avLst/>
          </a:prstGeom>
          <a:solidFill>
            <a:srgbClr val="ffff00"/>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8"/>
          <p:cNvSpPr/>
          <p:nvPr/>
        </p:nvSpPr>
        <p:spPr>
          <a:xfrm>
            <a:off x="692640" y="3176640"/>
            <a:ext cx="7470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J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put</a:t>
            </a:r>
            <a:endParaRPr b="0" lang="en-US" sz="2000" spc="-1" strike="noStrike">
              <a:solidFill>
                <a:srgbClr val="000000"/>
              </a:solidFill>
              <a:latin typeface="Arial"/>
            </a:endParaRPr>
          </a:p>
        </p:txBody>
      </p:sp>
      <p:sp>
        <p:nvSpPr>
          <p:cNvPr id="1047" name="Rectangle 19"/>
          <p:cNvSpPr/>
          <p:nvPr/>
        </p:nvSpPr>
        <p:spPr>
          <a:xfrm>
            <a:off x="2196720" y="3040200"/>
            <a:ext cx="1398960" cy="1003680"/>
          </a:xfrm>
          <a:prstGeom prst="rect">
            <a:avLst/>
          </a:prstGeom>
          <a:solidFill>
            <a:srgbClr val="f9d1d3"/>
          </a:solidFill>
          <a:ln w="12600">
            <a:solidFill>
              <a:srgbClr val="0000cc"/>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p:txBody>
      </p:sp>
      <p:sp>
        <p:nvSpPr>
          <p:cNvPr id="1048" name="Line 20"/>
          <p:cNvSpPr/>
          <p:nvPr/>
        </p:nvSpPr>
        <p:spPr>
          <a:xfrm>
            <a:off x="1758960" y="3541680"/>
            <a:ext cx="368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Line 21"/>
          <p:cNvSpPr/>
          <p:nvPr/>
        </p:nvSpPr>
        <p:spPr>
          <a:xfrm flipV="1">
            <a:off x="3664080" y="2620800"/>
            <a:ext cx="672840" cy="927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22"/>
          <p:cNvSpPr/>
          <p:nvPr/>
        </p:nvSpPr>
        <p:spPr>
          <a:xfrm>
            <a:off x="3664080" y="3541680"/>
            <a:ext cx="444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Line 23"/>
          <p:cNvSpPr/>
          <p:nvPr/>
        </p:nvSpPr>
        <p:spPr>
          <a:xfrm>
            <a:off x="3664080" y="3548160"/>
            <a:ext cx="749160" cy="90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Rectangle 24"/>
          <p:cNvSpPr/>
          <p:nvPr/>
        </p:nvSpPr>
        <p:spPr>
          <a:xfrm>
            <a:off x="2987640" y="5584680"/>
            <a:ext cx="1387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plit-Of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oint</a:t>
            </a:r>
            <a:endParaRPr b="0" lang="en-US" sz="2400" spc="-1" strike="noStrike">
              <a:solidFill>
                <a:srgbClr val="000000"/>
              </a:solidFill>
              <a:latin typeface="Arial"/>
            </a:endParaRPr>
          </a:p>
        </p:txBody>
      </p:sp>
      <p:sp>
        <p:nvSpPr>
          <p:cNvPr id="1053" name="Line 25"/>
          <p:cNvSpPr/>
          <p:nvPr/>
        </p:nvSpPr>
        <p:spPr>
          <a:xfrm>
            <a:off x="3675240" y="3548160"/>
            <a:ext cx="0" cy="196848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Line 27"/>
          <p:cNvSpPr/>
          <p:nvPr/>
        </p:nvSpPr>
        <p:spPr>
          <a:xfrm>
            <a:off x="2895480" y="2405160"/>
            <a:ext cx="0" cy="59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135"/>
          <p:cNvSpPr/>
          <p:nvPr/>
        </p:nvSpPr>
        <p:spPr>
          <a:xfrm>
            <a:off x="4230720" y="1839960"/>
            <a:ext cx="1346040" cy="81288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136"/>
          <p:cNvSpPr/>
          <p:nvPr/>
        </p:nvSpPr>
        <p:spPr>
          <a:xfrm>
            <a:off x="4662360" y="204948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il</a:t>
            </a:r>
            <a:endParaRPr b="0" lang="en-US" sz="2000" spc="-1" strike="noStrike">
              <a:solidFill>
                <a:srgbClr val="000000"/>
              </a:solidFill>
              <a:latin typeface="Arial"/>
            </a:endParaRPr>
          </a:p>
        </p:txBody>
      </p:sp>
      <p:sp>
        <p:nvSpPr>
          <p:cNvPr id="1057" name="Oval 137"/>
          <p:cNvSpPr/>
          <p:nvPr/>
        </p:nvSpPr>
        <p:spPr>
          <a:xfrm>
            <a:off x="4230720" y="3119400"/>
            <a:ext cx="1346040" cy="81288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138"/>
          <p:cNvSpPr/>
          <p:nvPr/>
        </p:nvSpPr>
        <p:spPr>
          <a:xfrm>
            <a:off x="4322880" y="3328920"/>
            <a:ext cx="1187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asoline</a:t>
            </a:r>
            <a:endParaRPr b="0" lang="en-US" sz="2000" spc="-1" strike="noStrike">
              <a:solidFill>
                <a:srgbClr val="000000"/>
              </a:solidFill>
              <a:latin typeface="Arial"/>
            </a:endParaRPr>
          </a:p>
        </p:txBody>
      </p:sp>
      <p:sp>
        <p:nvSpPr>
          <p:cNvPr id="1059" name="Oval 139"/>
          <p:cNvSpPr/>
          <p:nvPr/>
        </p:nvSpPr>
        <p:spPr>
          <a:xfrm>
            <a:off x="4230720" y="4392720"/>
            <a:ext cx="1346040" cy="812520"/>
          </a:xfrm>
          <a:prstGeom prst="ellipse">
            <a:avLst/>
          </a:prstGeom>
          <a:solidFill>
            <a:srgbClr val="ffffff"/>
          </a:solidFill>
          <a:ln w="255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40"/>
          <p:cNvSpPr/>
          <p:nvPr/>
        </p:nvSpPr>
        <p:spPr>
          <a:xfrm>
            <a:off x="4249800" y="4602240"/>
            <a:ext cx="1371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hemicals</a:t>
            </a:r>
            <a:endParaRPr b="0" lang="en-US" sz="2000" spc="-1" strike="noStrike">
              <a:solidFill>
                <a:srgbClr val="000000"/>
              </a:solidFill>
              <a:latin typeface="Arial"/>
            </a:endParaRPr>
          </a:p>
        </p:txBody>
      </p:sp>
      <p:graphicFrame>
        <p:nvGraphicFramePr>
          <p:cNvPr id="1061" name="Object 2"/>
          <p:cNvGraphicFramePr/>
          <p:nvPr/>
        </p:nvGraphicFramePr>
        <p:xfrm>
          <a:off x="5638680" y="3618000"/>
          <a:ext cx="314280" cy="603000"/>
        </p:xfrm>
        <a:graphic>
          <a:graphicData uri="http://schemas.openxmlformats.org/presentationml/2006/ole">
            <p:oleObj r:id="rId1" spid="">
              <p:embed/>
              <p:pic>
                <p:nvPicPr>
                  <p:cNvPr id="1062" name="Object 2" descr=""/>
                  <p:cNvPicPr/>
                  <p:nvPr/>
                </p:nvPicPr>
                <p:blipFill>
                  <a:blip r:embed="rId2"/>
                  <a:stretch/>
                </p:blipFill>
                <p:spPr>
                  <a:xfrm>
                    <a:off x="5638680" y="3618000"/>
                    <a:ext cx="314280" cy="603000"/>
                  </a:xfrm>
                  <a:prstGeom prst="rect">
                    <a:avLst/>
                  </a:prstGeom>
                  <a:ln w="0">
                    <a:noFill/>
                  </a:ln>
                </p:spPr>
              </p:pic>
            </p:oleObj>
          </a:graphicData>
        </a:graphic>
      </p:graphicFrame>
      <p:graphicFrame>
        <p:nvGraphicFramePr>
          <p:cNvPr id="1063" name="Object 3"/>
          <p:cNvGraphicFramePr/>
          <p:nvPr/>
        </p:nvGraphicFramePr>
        <p:xfrm>
          <a:off x="5638680" y="2357280"/>
          <a:ext cx="314280" cy="603360"/>
        </p:xfrm>
        <a:graphic>
          <a:graphicData uri="http://schemas.openxmlformats.org/presentationml/2006/ole">
            <p:oleObj r:id="rId3" spid="">
              <p:embed/>
              <p:pic>
                <p:nvPicPr>
                  <p:cNvPr id="1064" name="Object 3" descr=""/>
                  <p:cNvPicPr/>
                  <p:nvPr/>
                </p:nvPicPr>
                <p:blipFill>
                  <a:blip r:embed="rId4"/>
                  <a:stretch/>
                </p:blipFill>
                <p:spPr>
                  <a:xfrm>
                    <a:off x="5638680" y="2357280"/>
                    <a:ext cx="314280" cy="603360"/>
                  </a:xfrm>
                  <a:prstGeom prst="rect">
                    <a:avLst/>
                  </a:prstGeom>
                  <a:ln w="0">
                    <a:noFill/>
                  </a:ln>
                </p:spPr>
              </p:pic>
            </p:oleObj>
          </a:graphicData>
        </a:graphic>
      </p:graphicFrame>
      <p:graphicFrame>
        <p:nvGraphicFramePr>
          <p:cNvPr id="1065" name="Object 4"/>
          <p:cNvGraphicFramePr/>
          <p:nvPr/>
        </p:nvGraphicFramePr>
        <p:xfrm>
          <a:off x="5638680" y="4989600"/>
          <a:ext cx="314280" cy="603000"/>
        </p:xfrm>
        <a:graphic>
          <a:graphicData uri="http://schemas.openxmlformats.org/presentationml/2006/ole">
            <p:oleObj r:id="rId5" spid="">
              <p:embed/>
              <p:pic>
                <p:nvPicPr>
                  <p:cNvPr id="1066" name="Object 4" descr=""/>
                  <p:cNvPicPr/>
                  <p:nvPr/>
                </p:nvPicPr>
                <p:blipFill>
                  <a:blip r:embed="rId6"/>
                  <a:stretch/>
                </p:blipFill>
                <p:spPr>
                  <a:xfrm>
                    <a:off x="5638680" y="4989600"/>
                    <a:ext cx="314280" cy="603000"/>
                  </a:xfrm>
                  <a:prstGeom prst="rect">
                    <a:avLst/>
                  </a:prstGeom>
                  <a:ln w="0">
                    <a:noFill/>
                  </a:ln>
                </p:spPr>
              </p:pic>
            </p:oleObj>
          </a:graphicData>
        </a:graphic>
      </p:graphicFrame>
      <p:cxnSp>
        <p:nvCxnSpPr>
          <p:cNvPr id="1067" name="AutoShape 144"/>
          <p:cNvCxnSpPr>
            <a:stCxn id="1054" idx="0"/>
            <a:endCxn id="1054" idx="1"/>
          </p:cNvCxnSpPr>
          <p:nvPr/>
        </p:nvCxnSpPr>
        <p:spPr>
          <a:xfrm>
            <a:off x="2895120" y="2405160"/>
            <a:ext cx="1080" cy="597600"/>
          </a:xfrm>
          <a:prstGeom prst="straightConnector1">
            <a:avLst/>
          </a:prstGeom>
          <a:ln w="38160">
            <a:solidFill>
              <a:srgbClr val="464646"/>
            </a:solidFill>
            <a:miter/>
            <a:tailEnd len="med" type="triangle" w="med"/>
          </a:ln>
        </p:spPr>
      </p:cxnSp>
      <p:cxnSp>
        <p:nvCxnSpPr>
          <p:cNvPr id="1068" name="AutoShape 145"/>
          <p:cNvCxnSpPr>
            <a:stCxn id="1044" idx="0"/>
            <a:endCxn id="1044" idx="1"/>
          </p:cNvCxnSpPr>
          <p:nvPr/>
        </p:nvCxnSpPr>
        <p:spPr>
          <a:xfrm flipV="1">
            <a:off x="6857640" y="5288040"/>
            <a:ext cx="1080" cy="317880"/>
          </a:xfrm>
          <a:prstGeom prst="straightConnector1">
            <a:avLst/>
          </a:prstGeom>
          <a:ln w="38160">
            <a:solidFill>
              <a:srgbClr val="464646"/>
            </a:solidFill>
            <a:miter/>
            <a:tailEnd len="med" type="triangle" w="med"/>
          </a:ln>
        </p:spPr>
      </p:cxnSp>
      <p:grpSp>
        <p:nvGrpSpPr>
          <p:cNvPr id="1069" name="Group 146"/>
          <p:cNvGrpSpPr/>
          <p:nvPr/>
        </p:nvGrpSpPr>
        <p:grpSpPr>
          <a:xfrm>
            <a:off x="457200" y="3998880"/>
            <a:ext cx="1217880" cy="2359800"/>
            <a:chOff x="457200" y="3998880"/>
            <a:chExt cx="1217880" cy="2359800"/>
          </a:xfrm>
        </p:grpSpPr>
        <p:sp>
          <p:nvSpPr>
            <p:cNvPr id="1070" name="Oval 147"/>
            <p:cNvSpPr/>
            <p:nvPr/>
          </p:nvSpPr>
          <p:spPr>
            <a:xfrm>
              <a:off x="993600" y="5022720"/>
              <a:ext cx="59400" cy="16200"/>
            </a:xfrm>
            <a:prstGeom prst="ellipse">
              <a:avLst/>
            </a:prstGeom>
            <a:solidFill>
              <a:srgbClr val="40404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148"/>
            <p:cNvGrpSpPr/>
            <p:nvPr/>
          </p:nvGrpSpPr>
          <p:grpSpPr>
            <a:xfrm>
              <a:off x="775080" y="5029560"/>
              <a:ext cx="465480" cy="1329120"/>
              <a:chOff x="775080" y="5029560"/>
              <a:chExt cx="465480" cy="1329120"/>
            </a:xfrm>
          </p:grpSpPr>
          <p:grpSp>
            <p:nvGrpSpPr>
              <p:cNvPr id="1072" name="Group 149"/>
              <p:cNvGrpSpPr/>
              <p:nvPr/>
            </p:nvGrpSpPr>
            <p:grpSpPr>
              <a:xfrm>
                <a:off x="775080" y="5094720"/>
                <a:ext cx="465480" cy="1263960"/>
                <a:chOff x="775080" y="5094720"/>
                <a:chExt cx="465480" cy="1263960"/>
              </a:xfrm>
            </p:grpSpPr>
            <p:grpSp>
              <p:nvGrpSpPr>
                <p:cNvPr id="1073" name="Group 150"/>
                <p:cNvGrpSpPr/>
                <p:nvPr/>
              </p:nvGrpSpPr>
              <p:grpSpPr>
                <a:xfrm>
                  <a:off x="807840" y="5212080"/>
                  <a:ext cx="406800" cy="1146600"/>
                  <a:chOff x="807840" y="5212080"/>
                  <a:chExt cx="406800" cy="1146600"/>
                </a:xfrm>
              </p:grpSpPr>
              <p:grpSp>
                <p:nvGrpSpPr>
                  <p:cNvPr id="1074" name="Group 151"/>
                  <p:cNvGrpSpPr/>
                  <p:nvPr/>
                </p:nvGrpSpPr>
                <p:grpSpPr>
                  <a:xfrm>
                    <a:off x="840600" y="5281920"/>
                    <a:ext cx="246240" cy="502920"/>
                    <a:chOff x="840600" y="5281920"/>
                    <a:chExt cx="246240" cy="502920"/>
                  </a:xfrm>
                </p:grpSpPr>
                <p:sp>
                  <p:nvSpPr>
                    <p:cNvPr id="1075" name="Freeform 152"/>
                    <p:cNvSpPr/>
                    <p:nvPr/>
                  </p:nvSpPr>
                  <p:spPr>
                    <a:xfrm>
                      <a:off x="840600" y="5281920"/>
                      <a:ext cx="239760" cy="500760"/>
                    </a:xfrm>
                    <a:custGeom>
                      <a:avLst/>
                      <a:gdLst>
                        <a:gd name="textAreaLeft" fmla="*/ 0 w 239760"/>
                        <a:gd name="textAreaRight" fmla="*/ 240120 w 239760"/>
                        <a:gd name="textAreaTop" fmla="*/ 0 h 500760"/>
                        <a:gd name="textAreaBottom" fmla="*/ 501120 h 500760"/>
                      </a:gdLst>
                      <a:ahLst/>
                      <a:rect l="textAreaLeft" t="textAreaTop" r="textAreaRight" b="textAreaBottom"/>
                      <a:pathLst>
                        <a:path w="433" h="859">
                          <a:moveTo>
                            <a:pt x="428" y="0"/>
                          </a:moveTo>
                          <a:lnTo>
                            <a:pt x="4" y="735"/>
                          </a:lnTo>
                          <a:lnTo>
                            <a:pt x="0" y="859"/>
                          </a:lnTo>
                          <a:lnTo>
                            <a:pt x="433" y="106"/>
                          </a:lnTo>
                          <a:lnTo>
                            <a:pt x="428"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153"/>
                    <p:cNvSpPr/>
                    <p:nvPr/>
                  </p:nvSpPr>
                  <p:spPr>
                    <a:xfrm>
                      <a:off x="840600" y="5338080"/>
                      <a:ext cx="246240" cy="446760"/>
                    </a:xfrm>
                    <a:custGeom>
                      <a:avLst/>
                      <a:gdLst>
                        <a:gd name="textAreaLeft" fmla="*/ 0 w 246240"/>
                        <a:gd name="textAreaRight" fmla="*/ 246600 w 246240"/>
                        <a:gd name="textAreaTop" fmla="*/ 0 h 446760"/>
                        <a:gd name="textAreaBottom" fmla="*/ 447120 h 446760"/>
                      </a:gdLst>
                      <a:ahLst/>
                      <a:rect l="textAreaLeft" t="textAreaTop" r="textAreaRight" b="textAreaBottom"/>
                      <a:pathLst>
                        <a:path w="447" h="764">
                          <a:moveTo>
                            <a:pt x="17" y="749"/>
                          </a:moveTo>
                          <a:lnTo>
                            <a:pt x="0" y="764"/>
                          </a:lnTo>
                          <a:lnTo>
                            <a:pt x="435" y="5"/>
                          </a:lnTo>
                          <a:lnTo>
                            <a:pt x="447" y="0"/>
                          </a:lnTo>
                          <a:lnTo>
                            <a:pt x="17" y="74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54"/>
                  <p:cNvGrpSpPr/>
                  <p:nvPr/>
                </p:nvGrpSpPr>
                <p:grpSpPr>
                  <a:xfrm>
                    <a:off x="1111320" y="5790240"/>
                    <a:ext cx="103320" cy="469440"/>
                    <a:chOff x="1111320" y="5790240"/>
                    <a:chExt cx="103320" cy="469440"/>
                  </a:xfrm>
                </p:grpSpPr>
                <p:sp>
                  <p:nvSpPr>
                    <p:cNvPr id="1078" name="Freeform 155"/>
                    <p:cNvSpPr/>
                    <p:nvPr/>
                  </p:nvSpPr>
                  <p:spPr>
                    <a:xfrm>
                      <a:off x="1113480" y="5790240"/>
                      <a:ext cx="100800" cy="465480"/>
                    </a:xfrm>
                    <a:custGeom>
                      <a:avLst/>
                      <a:gdLst>
                        <a:gd name="textAreaLeft" fmla="*/ 0 w 100800"/>
                        <a:gd name="textAreaRight" fmla="*/ 101160 w 100800"/>
                        <a:gd name="textAreaTop" fmla="*/ 0 h 465480"/>
                        <a:gd name="textAreaBottom" fmla="*/ 465840 h 465480"/>
                      </a:gdLst>
                      <a:ahLst/>
                      <a:rect l="textAreaLeft" t="textAreaTop" r="textAreaRight" b="textAreaBottom"/>
                      <a:pathLst>
                        <a:path w="182" h="796">
                          <a:moveTo>
                            <a:pt x="182" y="796"/>
                          </a:moveTo>
                          <a:lnTo>
                            <a:pt x="176" y="652"/>
                          </a:lnTo>
                          <a:lnTo>
                            <a:pt x="0" y="0"/>
                          </a:lnTo>
                          <a:lnTo>
                            <a:pt x="6" y="152"/>
                          </a:lnTo>
                          <a:lnTo>
                            <a:pt x="182" y="796"/>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156"/>
                    <p:cNvSpPr/>
                    <p:nvPr/>
                  </p:nvSpPr>
                  <p:spPr>
                    <a:xfrm>
                      <a:off x="1111320" y="5879160"/>
                      <a:ext cx="103320" cy="380520"/>
                    </a:xfrm>
                    <a:custGeom>
                      <a:avLst/>
                      <a:gdLst>
                        <a:gd name="textAreaLeft" fmla="*/ 0 w 103320"/>
                        <a:gd name="textAreaRight" fmla="*/ 103680 w 103320"/>
                        <a:gd name="textAreaTop" fmla="*/ 0 h 380520"/>
                        <a:gd name="textAreaBottom" fmla="*/ 380880 h 380520"/>
                      </a:gdLst>
                      <a:ahLst/>
                      <a:rect l="textAreaLeft" t="textAreaTop" r="textAreaRight" b="textAreaBottom"/>
                      <a:pathLst>
                        <a:path w="188" h="652">
                          <a:moveTo>
                            <a:pt x="188" y="639"/>
                          </a:moveTo>
                          <a:lnTo>
                            <a:pt x="175" y="652"/>
                          </a:lnTo>
                          <a:lnTo>
                            <a:pt x="0" y="9"/>
                          </a:lnTo>
                          <a:lnTo>
                            <a:pt x="11" y="0"/>
                          </a:lnTo>
                          <a:lnTo>
                            <a:pt x="188" y="63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Freeform 157"/>
                  <p:cNvSpPr/>
                  <p:nvPr/>
                </p:nvSpPr>
                <p:spPr>
                  <a:xfrm>
                    <a:off x="1109520" y="5223600"/>
                    <a:ext cx="50400" cy="545040"/>
                  </a:xfrm>
                  <a:custGeom>
                    <a:avLst/>
                    <a:gdLst>
                      <a:gd name="textAreaLeft" fmla="*/ 0 w 50400"/>
                      <a:gd name="textAreaRight" fmla="*/ 50760 w 50400"/>
                      <a:gd name="textAreaTop" fmla="*/ 0 h 545040"/>
                      <a:gd name="textAreaBottom" fmla="*/ 545400 h 545040"/>
                    </a:gdLst>
                    <a:ahLst/>
                    <a:rect l="textAreaLeft" t="textAreaTop" r="textAreaRight" b="textAreaBottom"/>
                    <a:pathLst>
                      <a:path w="89" h="932">
                        <a:moveTo>
                          <a:pt x="81" y="0"/>
                        </a:moveTo>
                        <a:lnTo>
                          <a:pt x="0" y="779"/>
                        </a:lnTo>
                        <a:lnTo>
                          <a:pt x="16" y="932"/>
                        </a:lnTo>
                        <a:lnTo>
                          <a:pt x="89" y="200"/>
                        </a:lnTo>
                        <a:lnTo>
                          <a:pt x="81"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158"/>
                  <p:cNvSpPr/>
                  <p:nvPr/>
                </p:nvSpPr>
                <p:spPr>
                  <a:xfrm>
                    <a:off x="1104840" y="5223600"/>
                    <a:ext cx="50400" cy="456480"/>
                  </a:xfrm>
                  <a:custGeom>
                    <a:avLst/>
                    <a:gdLst>
                      <a:gd name="textAreaLeft" fmla="*/ 0 w 50400"/>
                      <a:gd name="textAreaRight" fmla="*/ 50760 w 50400"/>
                      <a:gd name="textAreaTop" fmla="*/ 0 h 456480"/>
                      <a:gd name="textAreaBottom" fmla="*/ 456840 h 456480"/>
                    </a:gdLst>
                    <a:ahLst/>
                    <a:rect l="textAreaLeft" t="textAreaTop" r="textAreaRight" b="textAreaBottom"/>
                    <a:pathLst>
                      <a:path w="94" h="781">
                        <a:moveTo>
                          <a:pt x="94" y="0"/>
                        </a:moveTo>
                        <a:lnTo>
                          <a:pt x="82" y="13"/>
                        </a:lnTo>
                        <a:lnTo>
                          <a:pt x="0" y="781"/>
                        </a:lnTo>
                        <a:lnTo>
                          <a:pt x="12" y="779"/>
                        </a:lnTo>
                        <a:lnTo>
                          <a:pt x="94"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159"/>
                  <p:cNvSpPr/>
                  <p:nvPr/>
                </p:nvSpPr>
                <p:spPr>
                  <a:xfrm>
                    <a:off x="1135800" y="5701320"/>
                    <a:ext cx="50400" cy="598680"/>
                  </a:xfrm>
                  <a:custGeom>
                    <a:avLst/>
                    <a:gdLst>
                      <a:gd name="textAreaLeft" fmla="*/ 0 w 50400"/>
                      <a:gd name="textAreaRight" fmla="*/ 50760 w 50400"/>
                      <a:gd name="textAreaTop" fmla="*/ 0 h 598680"/>
                      <a:gd name="textAreaBottom" fmla="*/ 599040 h 598680"/>
                    </a:gdLst>
                    <a:ahLst/>
                    <a:rect l="textAreaLeft" t="textAreaTop" r="textAreaRight" b="textAreaBottom"/>
                    <a:pathLst>
                      <a:path w="95" h="1025">
                        <a:moveTo>
                          <a:pt x="81" y="0"/>
                        </a:moveTo>
                        <a:lnTo>
                          <a:pt x="0" y="866"/>
                        </a:lnTo>
                        <a:lnTo>
                          <a:pt x="19" y="1025"/>
                        </a:lnTo>
                        <a:lnTo>
                          <a:pt x="95" y="176"/>
                        </a:lnTo>
                        <a:lnTo>
                          <a:pt x="81"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160"/>
                  <p:cNvSpPr/>
                  <p:nvPr/>
                </p:nvSpPr>
                <p:spPr>
                  <a:xfrm>
                    <a:off x="1129320" y="5701320"/>
                    <a:ext cx="50400" cy="519120"/>
                  </a:xfrm>
                  <a:custGeom>
                    <a:avLst/>
                    <a:gdLst>
                      <a:gd name="textAreaLeft" fmla="*/ 0 w 50400"/>
                      <a:gd name="textAreaRight" fmla="*/ 50760 w 50400"/>
                      <a:gd name="textAreaTop" fmla="*/ 0 h 519120"/>
                      <a:gd name="textAreaBottom" fmla="*/ 519480 h 519120"/>
                    </a:gdLst>
                    <a:ahLst/>
                    <a:rect l="textAreaLeft" t="textAreaTop" r="textAreaRight" b="textAreaBottom"/>
                    <a:pathLst>
                      <a:path w="92" h="887">
                        <a:moveTo>
                          <a:pt x="92" y="0"/>
                        </a:moveTo>
                        <a:lnTo>
                          <a:pt x="78" y="18"/>
                        </a:lnTo>
                        <a:lnTo>
                          <a:pt x="0" y="881"/>
                        </a:lnTo>
                        <a:lnTo>
                          <a:pt x="14" y="887"/>
                        </a:lnTo>
                        <a:lnTo>
                          <a:pt x="92"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161"/>
                  <p:cNvSpPr/>
                  <p:nvPr/>
                </p:nvSpPr>
                <p:spPr>
                  <a:xfrm>
                    <a:off x="1094040" y="5387760"/>
                    <a:ext cx="92160" cy="311040"/>
                  </a:xfrm>
                  <a:custGeom>
                    <a:avLst/>
                    <a:gdLst>
                      <a:gd name="textAreaLeft" fmla="*/ 0 w 92160"/>
                      <a:gd name="textAreaRight" fmla="*/ 92520 w 92160"/>
                      <a:gd name="textAreaTop" fmla="*/ 0 h 311040"/>
                      <a:gd name="textAreaBottom" fmla="*/ 311400 h 311040"/>
                    </a:gdLst>
                    <a:ahLst/>
                    <a:rect l="textAreaLeft" t="textAreaTop" r="textAreaRight" b="textAreaBottom"/>
                    <a:pathLst>
                      <a:path w="169" h="532">
                        <a:moveTo>
                          <a:pt x="11" y="0"/>
                        </a:moveTo>
                        <a:lnTo>
                          <a:pt x="0" y="9"/>
                        </a:lnTo>
                        <a:lnTo>
                          <a:pt x="161" y="532"/>
                        </a:lnTo>
                        <a:lnTo>
                          <a:pt x="169" y="520"/>
                        </a:lnTo>
                        <a:lnTo>
                          <a:pt x="11"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Freeform 162"/>
                  <p:cNvSpPr/>
                  <p:nvPr/>
                </p:nvSpPr>
                <p:spPr>
                  <a:xfrm>
                    <a:off x="1094040" y="5293800"/>
                    <a:ext cx="94680" cy="400320"/>
                  </a:xfrm>
                  <a:custGeom>
                    <a:avLst/>
                    <a:gdLst>
                      <a:gd name="textAreaLeft" fmla="*/ 0 w 94680"/>
                      <a:gd name="textAreaRight" fmla="*/ 95040 w 94680"/>
                      <a:gd name="textAreaTop" fmla="*/ 0 h 400320"/>
                      <a:gd name="textAreaBottom" fmla="*/ 400680 h 400320"/>
                    </a:gdLst>
                    <a:ahLst/>
                    <a:rect l="textAreaLeft" t="textAreaTop" r="textAreaRight" b="textAreaBottom"/>
                    <a:pathLst>
                      <a:path w="170" h="683">
                        <a:moveTo>
                          <a:pt x="170" y="683"/>
                        </a:moveTo>
                        <a:lnTo>
                          <a:pt x="155" y="537"/>
                        </a:lnTo>
                        <a:lnTo>
                          <a:pt x="0" y="0"/>
                        </a:lnTo>
                        <a:lnTo>
                          <a:pt x="8" y="158"/>
                        </a:lnTo>
                        <a:lnTo>
                          <a:pt x="170" y="683"/>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Freeform 163"/>
                  <p:cNvSpPr/>
                  <p:nvPr/>
                </p:nvSpPr>
                <p:spPr>
                  <a:xfrm>
                    <a:off x="1094040" y="5389920"/>
                    <a:ext cx="92160" cy="308880"/>
                  </a:xfrm>
                  <a:custGeom>
                    <a:avLst/>
                    <a:gdLst>
                      <a:gd name="textAreaLeft" fmla="*/ 0 w 92160"/>
                      <a:gd name="textAreaRight" fmla="*/ 92520 w 92160"/>
                      <a:gd name="textAreaTop" fmla="*/ 0 h 308880"/>
                      <a:gd name="textAreaBottom" fmla="*/ 309240 h 308880"/>
                    </a:gdLst>
                    <a:ahLst/>
                    <a:rect l="textAreaLeft" t="textAreaTop" r="textAreaRight" b="textAreaBottom"/>
                    <a:pathLst>
                      <a:path w="168" h="531">
                        <a:moveTo>
                          <a:pt x="168" y="508"/>
                        </a:moveTo>
                        <a:lnTo>
                          <a:pt x="158" y="531"/>
                        </a:lnTo>
                        <a:lnTo>
                          <a:pt x="0" y="7"/>
                        </a:lnTo>
                        <a:lnTo>
                          <a:pt x="13" y="0"/>
                        </a:lnTo>
                        <a:lnTo>
                          <a:pt x="168" y="508"/>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Freeform 164"/>
                  <p:cNvSpPr/>
                  <p:nvPr/>
                </p:nvSpPr>
                <p:spPr>
                  <a:xfrm>
                    <a:off x="836280" y="5785560"/>
                    <a:ext cx="290520" cy="550440"/>
                  </a:xfrm>
                  <a:custGeom>
                    <a:avLst/>
                    <a:gdLst>
                      <a:gd name="textAreaLeft" fmla="*/ 0 w 290520"/>
                      <a:gd name="textAreaRight" fmla="*/ 290880 w 290520"/>
                      <a:gd name="textAreaTop" fmla="*/ 0 h 550440"/>
                      <a:gd name="textAreaBottom" fmla="*/ 550800 h 550440"/>
                    </a:gdLst>
                    <a:ahLst/>
                    <a:rect l="textAreaLeft" t="textAreaTop" r="textAreaRight" b="textAreaBottom"/>
                    <a:pathLst>
                      <a:path w="527" h="939">
                        <a:moveTo>
                          <a:pt x="5" y="0"/>
                        </a:moveTo>
                        <a:lnTo>
                          <a:pt x="514" y="814"/>
                        </a:lnTo>
                        <a:lnTo>
                          <a:pt x="527" y="939"/>
                        </a:lnTo>
                        <a:lnTo>
                          <a:pt x="0" y="104"/>
                        </a:lnTo>
                        <a:lnTo>
                          <a:pt x="5"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165"/>
                  <p:cNvSpPr/>
                  <p:nvPr/>
                </p:nvSpPr>
                <p:spPr>
                  <a:xfrm>
                    <a:off x="840600" y="5778360"/>
                    <a:ext cx="281520" cy="484560"/>
                  </a:xfrm>
                  <a:custGeom>
                    <a:avLst/>
                    <a:gdLst>
                      <a:gd name="textAreaLeft" fmla="*/ 0 w 281520"/>
                      <a:gd name="textAreaRight" fmla="*/ 281880 w 281520"/>
                      <a:gd name="textAreaTop" fmla="*/ 0 h 484560"/>
                      <a:gd name="textAreaBottom" fmla="*/ 484920 h 484560"/>
                    </a:gdLst>
                    <a:ahLst/>
                    <a:rect l="textAreaLeft" t="textAreaTop" r="textAreaRight" b="textAreaBottom"/>
                    <a:pathLst>
                      <a:path w="513" h="824">
                        <a:moveTo>
                          <a:pt x="513" y="802"/>
                        </a:moveTo>
                        <a:lnTo>
                          <a:pt x="507" y="824"/>
                        </a:lnTo>
                        <a:lnTo>
                          <a:pt x="0" y="11"/>
                        </a:lnTo>
                        <a:lnTo>
                          <a:pt x="12" y="0"/>
                        </a:lnTo>
                        <a:lnTo>
                          <a:pt x="513" y="802"/>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66"/>
                  <p:cNvSpPr/>
                  <p:nvPr/>
                </p:nvSpPr>
                <p:spPr>
                  <a:xfrm>
                    <a:off x="820800" y="5776200"/>
                    <a:ext cx="277560" cy="488880"/>
                  </a:xfrm>
                  <a:custGeom>
                    <a:avLst/>
                    <a:gdLst>
                      <a:gd name="textAreaLeft" fmla="*/ 0 w 277560"/>
                      <a:gd name="textAreaRight" fmla="*/ 277920 w 277560"/>
                      <a:gd name="textAreaTop" fmla="*/ 0 h 488880"/>
                      <a:gd name="textAreaBottom" fmla="*/ 489240 h 488880"/>
                    </a:gdLst>
                    <a:ahLst/>
                    <a:rect l="textAreaLeft" t="textAreaTop" r="textAreaRight" b="textAreaBottom"/>
                    <a:pathLst>
                      <a:path w="504" h="836">
                        <a:moveTo>
                          <a:pt x="504" y="0"/>
                        </a:moveTo>
                        <a:lnTo>
                          <a:pt x="503" y="21"/>
                        </a:lnTo>
                        <a:lnTo>
                          <a:pt x="0" y="836"/>
                        </a:lnTo>
                        <a:lnTo>
                          <a:pt x="5" y="811"/>
                        </a:lnTo>
                        <a:lnTo>
                          <a:pt x="5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67"/>
                  <p:cNvGrpSpPr/>
                  <p:nvPr/>
                </p:nvGrpSpPr>
                <p:grpSpPr>
                  <a:xfrm>
                    <a:off x="858240" y="5277240"/>
                    <a:ext cx="239760" cy="510120"/>
                    <a:chOff x="858240" y="5277240"/>
                    <a:chExt cx="239760" cy="510120"/>
                  </a:xfrm>
                </p:grpSpPr>
                <p:sp>
                  <p:nvSpPr>
                    <p:cNvPr id="1091" name="Freeform 168"/>
                    <p:cNvSpPr/>
                    <p:nvPr/>
                  </p:nvSpPr>
                  <p:spPr>
                    <a:xfrm>
                      <a:off x="858240" y="5277240"/>
                      <a:ext cx="237240" cy="432720"/>
                    </a:xfrm>
                    <a:custGeom>
                      <a:avLst/>
                      <a:gdLst>
                        <a:gd name="textAreaLeft" fmla="*/ 0 w 237240"/>
                        <a:gd name="textAreaRight" fmla="*/ 237600 w 237240"/>
                        <a:gd name="textAreaTop" fmla="*/ 0 h 432720"/>
                        <a:gd name="textAreaBottom" fmla="*/ 433080 h 432720"/>
                      </a:gdLst>
                      <a:ahLst/>
                      <a:rect l="textAreaLeft" t="textAreaTop" r="textAreaRight" b="textAreaBottom"/>
                      <a:pathLst>
                        <a:path w="432" h="740">
                          <a:moveTo>
                            <a:pt x="7" y="0"/>
                          </a:moveTo>
                          <a:lnTo>
                            <a:pt x="0" y="9"/>
                          </a:lnTo>
                          <a:lnTo>
                            <a:pt x="425" y="740"/>
                          </a:lnTo>
                          <a:lnTo>
                            <a:pt x="432" y="730"/>
                          </a:lnTo>
                          <a:lnTo>
                            <a:pt x="7"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169"/>
                    <p:cNvSpPr/>
                    <p:nvPr/>
                  </p:nvSpPr>
                  <p:spPr>
                    <a:xfrm>
                      <a:off x="858240" y="5281920"/>
                      <a:ext cx="239760" cy="505440"/>
                    </a:xfrm>
                    <a:custGeom>
                      <a:avLst/>
                      <a:gdLst>
                        <a:gd name="textAreaLeft" fmla="*/ 0 w 239760"/>
                        <a:gd name="textAreaRight" fmla="*/ 240120 w 239760"/>
                        <a:gd name="textAreaTop" fmla="*/ 0 h 505440"/>
                        <a:gd name="textAreaBottom" fmla="*/ 505800 h 505440"/>
                      </a:gdLst>
                      <a:ahLst/>
                      <a:rect l="textAreaLeft" t="textAreaTop" r="textAreaRight" b="textAreaBottom"/>
                      <a:pathLst>
                        <a:path w="438" h="862">
                          <a:moveTo>
                            <a:pt x="2" y="0"/>
                          </a:moveTo>
                          <a:lnTo>
                            <a:pt x="427" y="731"/>
                          </a:lnTo>
                          <a:lnTo>
                            <a:pt x="438" y="862"/>
                          </a:lnTo>
                          <a:lnTo>
                            <a:pt x="0" y="104"/>
                          </a:lnTo>
                          <a:lnTo>
                            <a:pt x="2"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3" name="Freeform 170"/>
                  <p:cNvSpPr/>
                  <p:nvPr/>
                </p:nvSpPr>
                <p:spPr>
                  <a:xfrm>
                    <a:off x="818640" y="5785560"/>
                    <a:ext cx="286200" cy="550440"/>
                  </a:xfrm>
                  <a:custGeom>
                    <a:avLst/>
                    <a:gdLst>
                      <a:gd name="textAreaLeft" fmla="*/ 0 w 286200"/>
                      <a:gd name="textAreaRight" fmla="*/ 286560 w 286200"/>
                      <a:gd name="textAreaTop" fmla="*/ 0 h 550440"/>
                      <a:gd name="textAreaBottom" fmla="*/ 550800 h 550440"/>
                    </a:gdLst>
                    <a:ahLst/>
                    <a:rect l="textAreaLeft" t="textAreaTop" r="textAreaRight" b="textAreaBottom"/>
                    <a:pathLst>
                      <a:path w="516" h="938">
                        <a:moveTo>
                          <a:pt x="507" y="0"/>
                        </a:moveTo>
                        <a:lnTo>
                          <a:pt x="3" y="820"/>
                        </a:lnTo>
                        <a:lnTo>
                          <a:pt x="0" y="938"/>
                        </a:lnTo>
                        <a:lnTo>
                          <a:pt x="516" y="100"/>
                        </a:lnTo>
                        <a:lnTo>
                          <a:pt x="507"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171"/>
                  <p:cNvSpPr/>
                  <p:nvPr/>
                </p:nvSpPr>
                <p:spPr>
                  <a:xfrm>
                    <a:off x="816120" y="5780520"/>
                    <a:ext cx="282240" cy="487440"/>
                  </a:xfrm>
                  <a:custGeom>
                    <a:avLst/>
                    <a:gdLst>
                      <a:gd name="textAreaLeft" fmla="*/ 0 w 282240"/>
                      <a:gd name="textAreaRight" fmla="*/ 282600 w 282240"/>
                      <a:gd name="textAreaTop" fmla="*/ 0 h 487440"/>
                      <a:gd name="textAreaBottom" fmla="*/ 487800 h 487440"/>
                    </a:gdLst>
                    <a:ahLst/>
                    <a:rect l="textAreaLeft" t="textAreaTop" r="textAreaRight" b="textAreaBottom"/>
                    <a:pathLst>
                      <a:path w="512" h="833">
                        <a:moveTo>
                          <a:pt x="512" y="17"/>
                        </a:moveTo>
                        <a:lnTo>
                          <a:pt x="501" y="0"/>
                        </a:lnTo>
                        <a:lnTo>
                          <a:pt x="0" y="814"/>
                        </a:lnTo>
                        <a:lnTo>
                          <a:pt x="5" y="833"/>
                        </a:lnTo>
                        <a:lnTo>
                          <a:pt x="512" y="17"/>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5" name="Group 172"/>
                  <p:cNvGrpSpPr/>
                  <p:nvPr/>
                </p:nvGrpSpPr>
                <p:grpSpPr>
                  <a:xfrm>
                    <a:off x="1073880" y="5221440"/>
                    <a:ext cx="78480" cy="1130040"/>
                    <a:chOff x="1073880" y="5221440"/>
                    <a:chExt cx="78480" cy="1130040"/>
                  </a:xfrm>
                </p:grpSpPr>
                <p:sp>
                  <p:nvSpPr>
                    <p:cNvPr id="1096" name="Freeform 173"/>
                    <p:cNvSpPr/>
                    <p:nvPr/>
                  </p:nvSpPr>
                  <p:spPr>
                    <a:xfrm>
                      <a:off x="1073880" y="5232960"/>
                      <a:ext cx="55080" cy="1118520"/>
                    </a:xfrm>
                    <a:custGeom>
                      <a:avLst/>
                      <a:gdLst>
                        <a:gd name="textAreaLeft" fmla="*/ 0 w 55080"/>
                        <a:gd name="textAreaRight" fmla="*/ 55440 w 55080"/>
                        <a:gd name="textAreaTop" fmla="*/ 0 h 1118520"/>
                        <a:gd name="textAreaBottom" fmla="*/ 1118880 h 1118520"/>
                      </a:gdLst>
                      <a:ahLst/>
                      <a:rect l="textAreaLeft" t="textAreaTop" r="textAreaRight" b="textAreaBottom"/>
                      <a:pathLst>
                        <a:path w="102" h="1913">
                          <a:moveTo>
                            <a:pt x="36" y="0"/>
                          </a:moveTo>
                          <a:lnTo>
                            <a:pt x="102" y="1913"/>
                          </a:lnTo>
                          <a:lnTo>
                            <a:pt x="67" y="1913"/>
                          </a:lnTo>
                          <a:lnTo>
                            <a:pt x="0" y="0"/>
                          </a:lnTo>
                          <a:lnTo>
                            <a:pt x="36"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74"/>
                    <p:cNvSpPr/>
                    <p:nvPr/>
                  </p:nvSpPr>
                  <p:spPr>
                    <a:xfrm>
                      <a:off x="1089000" y="5221440"/>
                      <a:ext cx="63360" cy="1130040"/>
                    </a:xfrm>
                    <a:custGeom>
                      <a:avLst/>
                      <a:gdLst>
                        <a:gd name="textAreaLeft" fmla="*/ 0 w 63360"/>
                        <a:gd name="textAreaRight" fmla="*/ 63720 w 63360"/>
                        <a:gd name="textAreaTop" fmla="*/ 0 h 1130040"/>
                        <a:gd name="textAreaBottom" fmla="*/ 1130400 h 1130040"/>
                      </a:gdLst>
                      <a:ahLst/>
                      <a:rect l="textAreaLeft" t="textAreaTop" r="textAreaRight" b="textAreaBottom"/>
                      <a:pathLst>
                        <a:path w="116" h="1931">
                          <a:moveTo>
                            <a:pt x="49" y="0"/>
                          </a:moveTo>
                          <a:lnTo>
                            <a:pt x="116" y="1931"/>
                          </a:lnTo>
                          <a:lnTo>
                            <a:pt x="65" y="1931"/>
                          </a:lnTo>
                          <a:lnTo>
                            <a:pt x="0" y="0"/>
                          </a:lnTo>
                          <a:lnTo>
                            <a:pt x="49"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8" name="Group 175"/>
                  <p:cNvGrpSpPr/>
                  <p:nvPr/>
                </p:nvGrpSpPr>
                <p:grpSpPr>
                  <a:xfrm>
                    <a:off x="992520" y="5275080"/>
                    <a:ext cx="59040" cy="1083600"/>
                    <a:chOff x="992520" y="5275080"/>
                    <a:chExt cx="59040" cy="1083600"/>
                  </a:xfrm>
                </p:grpSpPr>
                <p:sp>
                  <p:nvSpPr>
                    <p:cNvPr id="1099" name="Freeform 176"/>
                    <p:cNvSpPr/>
                    <p:nvPr/>
                  </p:nvSpPr>
                  <p:spPr>
                    <a:xfrm>
                      <a:off x="992520" y="5275080"/>
                      <a:ext cx="59040" cy="1083600"/>
                    </a:xfrm>
                    <a:custGeom>
                      <a:avLst/>
                      <a:gdLst>
                        <a:gd name="textAreaLeft" fmla="*/ 0 w 59040"/>
                        <a:gd name="textAreaRight" fmla="*/ 59400 w 59040"/>
                        <a:gd name="textAreaTop" fmla="*/ 0 h 1083600"/>
                        <a:gd name="textAreaBottom" fmla="*/ 1083960 h 1083600"/>
                      </a:gdLst>
                      <a:ahLst/>
                      <a:rect l="textAreaLeft" t="textAreaTop" r="textAreaRight" b="textAreaBottom"/>
                      <a:pathLst>
                        <a:path w="109" h="1856">
                          <a:moveTo>
                            <a:pt x="0" y="1856"/>
                          </a:moveTo>
                          <a:lnTo>
                            <a:pt x="109" y="1856"/>
                          </a:lnTo>
                          <a:lnTo>
                            <a:pt x="109" y="0"/>
                          </a:lnTo>
                          <a:lnTo>
                            <a:pt x="1" y="0"/>
                          </a:lnTo>
                          <a:lnTo>
                            <a:pt x="0" y="1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77"/>
                    <p:cNvSpPr/>
                    <p:nvPr/>
                  </p:nvSpPr>
                  <p:spPr>
                    <a:xfrm>
                      <a:off x="1001160" y="5275080"/>
                      <a:ext cx="12600" cy="1083600"/>
                    </a:xfrm>
                    <a:custGeom>
                      <a:avLst/>
                      <a:gdLst>
                        <a:gd name="textAreaLeft" fmla="*/ 0 w 12600"/>
                        <a:gd name="textAreaRight" fmla="*/ 12960 w 12600"/>
                        <a:gd name="textAreaTop" fmla="*/ 0 h 1083600"/>
                        <a:gd name="textAreaBottom" fmla="*/ 1083960 h 1083600"/>
                      </a:gdLst>
                      <a:ahLst/>
                      <a:rect l="textAreaLeft" t="textAreaTop" r="textAreaRight" b="textAreaBottom"/>
                      <a:pathLst>
                        <a:path w="21" h="1852">
                          <a:moveTo>
                            <a:pt x="0" y="10"/>
                          </a:moveTo>
                          <a:lnTo>
                            <a:pt x="0" y="1852"/>
                          </a:lnTo>
                          <a:lnTo>
                            <a:pt x="21" y="1852"/>
                          </a:lnTo>
                          <a:lnTo>
                            <a:pt x="21" y="0"/>
                          </a:lnTo>
                          <a:lnTo>
                            <a:pt x="0"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1" name="Freeform 178"/>
                  <p:cNvSpPr/>
                  <p:nvPr/>
                </p:nvSpPr>
                <p:spPr>
                  <a:xfrm>
                    <a:off x="934920" y="5305320"/>
                    <a:ext cx="233640" cy="423720"/>
                  </a:xfrm>
                  <a:custGeom>
                    <a:avLst/>
                    <a:gdLst>
                      <a:gd name="textAreaLeft" fmla="*/ 0 w 233640"/>
                      <a:gd name="textAreaRight" fmla="*/ 234000 w 233640"/>
                      <a:gd name="textAreaTop" fmla="*/ 0 h 423720"/>
                      <a:gd name="textAreaBottom" fmla="*/ 424080 h 423720"/>
                    </a:gdLst>
                    <a:ahLst/>
                    <a:rect l="textAreaLeft" t="textAreaTop" r="textAreaRight" b="textAreaBottom"/>
                    <a:pathLst>
                      <a:path w="424" h="721">
                        <a:moveTo>
                          <a:pt x="418" y="0"/>
                        </a:moveTo>
                        <a:lnTo>
                          <a:pt x="424" y="9"/>
                        </a:lnTo>
                        <a:lnTo>
                          <a:pt x="7" y="721"/>
                        </a:lnTo>
                        <a:lnTo>
                          <a:pt x="0" y="713"/>
                        </a:lnTo>
                        <a:lnTo>
                          <a:pt x="418"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2" name="Group 179"/>
                  <p:cNvGrpSpPr/>
                  <p:nvPr/>
                </p:nvGrpSpPr>
                <p:grpSpPr>
                  <a:xfrm>
                    <a:off x="807840" y="5811480"/>
                    <a:ext cx="107280" cy="499680"/>
                    <a:chOff x="807840" y="5811480"/>
                    <a:chExt cx="107280" cy="499680"/>
                  </a:xfrm>
                </p:grpSpPr>
                <p:sp>
                  <p:nvSpPr>
                    <p:cNvPr id="1103" name="Freeform 180"/>
                    <p:cNvSpPr/>
                    <p:nvPr/>
                  </p:nvSpPr>
                  <p:spPr>
                    <a:xfrm>
                      <a:off x="807840" y="5811480"/>
                      <a:ext cx="104760" cy="493200"/>
                    </a:xfrm>
                    <a:custGeom>
                      <a:avLst/>
                      <a:gdLst>
                        <a:gd name="textAreaLeft" fmla="*/ 0 w 104760"/>
                        <a:gd name="textAreaRight" fmla="*/ 105120 w 104760"/>
                        <a:gd name="textAreaTop" fmla="*/ 0 h 493200"/>
                        <a:gd name="textAreaBottom" fmla="*/ 493560 h 493200"/>
                      </a:gdLst>
                      <a:ahLst/>
                      <a:rect l="textAreaLeft" t="textAreaTop" r="textAreaRight" b="textAreaBottom"/>
                      <a:pathLst>
                        <a:path w="190" h="842">
                          <a:moveTo>
                            <a:pt x="0" y="842"/>
                          </a:moveTo>
                          <a:lnTo>
                            <a:pt x="7" y="689"/>
                          </a:lnTo>
                          <a:lnTo>
                            <a:pt x="190" y="0"/>
                          </a:lnTo>
                          <a:lnTo>
                            <a:pt x="185" y="160"/>
                          </a:lnTo>
                          <a:lnTo>
                            <a:pt x="0" y="84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Freeform 181"/>
                    <p:cNvSpPr/>
                    <p:nvPr/>
                  </p:nvSpPr>
                  <p:spPr>
                    <a:xfrm>
                      <a:off x="807840" y="5907240"/>
                      <a:ext cx="107280" cy="403920"/>
                    </a:xfrm>
                    <a:custGeom>
                      <a:avLst/>
                      <a:gdLst>
                        <a:gd name="textAreaLeft" fmla="*/ 0 w 107280"/>
                        <a:gd name="textAreaRight" fmla="*/ 107640 w 107280"/>
                        <a:gd name="textAreaTop" fmla="*/ 0 h 403920"/>
                        <a:gd name="textAreaBottom" fmla="*/ 404280 h 403920"/>
                      </a:gdLst>
                      <a:ahLst/>
                      <a:rect l="textAreaLeft" t="textAreaTop" r="textAreaRight" b="textAreaBottom"/>
                      <a:pathLst>
                        <a:path w="198" h="690">
                          <a:moveTo>
                            <a:pt x="0" y="679"/>
                          </a:moveTo>
                          <a:lnTo>
                            <a:pt x="16" y="690"/>
                          </a:lnTo>
                          <a:lnTo>
                            <a:pt x="198" y="10"/>
                          </a:lnTo>
                          <a:lnTo>
                            <a:pt x="187" y="0"/>
                          </a:lnTo>
                          <a:lnTo>
                            <a:pt x="0" y="67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82"/>
                  <p:cNvGrpSpPr/>
                  <p:nvPr/>
                </p:nvGrpSpPr>
                <p:grpSpPr>
                  <a:xfrm>
                    <a:off x="867240" y="5212080"/>
                    <a:ext cx="56520" cy="577440"/>
                    <a:chOff x="867240" y="5212080"/>
                    <a:chExt cx="56520" cy="577440"/>
                  </a:xfrm>
                </p:grpSpPr>
                <p:sp>
                  <p:nvSpPr>
                    <p:cNvPr id="1106" name="Freeform 183"/>
                    <p:cNvSpPr/>
                    <p:nvPr/>
                  </p:nvSpPr>
                  <p:spPr>
                    <a:xfrm>
                      <a:off x="867240" y="5213880"/>
                      <a:ext cx="50040" cy="575640"/>
                    </a:xfrm>
                    <a:custGeom>
                      <a:avLst/>
                      <a:gdLst>
                        <a:gd name="textAreaLeft" fmla="*/ 0 w 50040"/>
                        <a:gd name="textAreaRight" fmla="*/ 50400 w 50040"/>
                        <a:gd name="textAreaTop" fmla="*/ 0 h 575640"/>
                        <a:gd name="textAreaBottom" fmla="*/ 576000 h 575640"/>
                      </a:gdLst>
                      <a:ahLst/>
                      <a:rect l="textAreaLeft" t="textAreaTop" r="textAreaRight" b="textAreaBottom"/>
                      <a:pathLst>
                        <a:path w="93" h="986">
                          <a:moveTo>
                            <a:pt x="9" y="0"/>
                          </a:moveTo>
                          <a:lnTo>
                            <a:pt x="93" y="825"/>
                          </a:lnTo>
                          <a:lnTo>
                            <a:pt x="76" y="986"/>
                          </a:lnTo>
                          <a:lnTo>
                            <a:pt x="0" y="212"/>
                          </a:lnTo>
                          <a:lnTo>
                            <a:pt x="9"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84"/>
                    <p:cNvSpPr/>
                    <p:nvPr/>
                  </p:nvSpPr>
                  <p:spPr>
                    <a:xfrm>
                      <a:off x="871560" y="5212080"/>
                      <a:ext cx="52200" cy="484560"/>
                    </a:xfrm>
                    <a:custGeom>
                      <a:avLst/>
                      <a:gdLst>
                        <a:gd name="textAreaLeft" fmla="*/ 0 w 52200"/>
                        <a:gd name="textAreaRight" fmla="*/ 52560 w 52200"/>
                        <a:gd name="textAreaTop" fmla="*/ 0 h 484560"/>
                        <a:gd name="textAreaBottom" fmla="*/ 484920 h 484560"/>
                      </a:gdLst>
                      <a:ahLst/>
                      <a:rect l="textAreaLeft" t="textAreaTop" r="textAreaRight" b="textAreaBottom"/>
                      <a:pathLst>
                        <a:path w="96" h="828">
                          <a:moveTo>
                            <a:pt x="0" y="0"/>
                          </a:moveTo>
                          <a:lnTo>
                            <a:pt x="13" y="14"/>
                          </a:lnTo>
                          <a:lnTo>
                            <a:pt x="96" y="828"/>
                          </a:lnTo>
                          <a:lnTo>
                            <a:pt x="83" y="826"/>
                          </a:lnTo>
                          <a:lnTo>
                            <a:pt x="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8" name="Freeform 185"/>
                  <p:cNvSpPr/>
                  <p:nvPr/>
                </p:nvSpPr>
                <p:spPr>
                  <a:xfrm>
                    <a:off x="836280" y="5387760"/>
                    <a:ext cx="98640" cy="327600"/>
                  </a:xfrm>
                  <a:custGeom>
                    <a:avLst/>
                    <a:gdLst>
                      <a:gd name="textAreaLeft" fmla="*/ 0 w 98640"/>
                      <a:gd name="textAreaRight" fmla="*/ 99000 w 98640"/>
                      <a:gd name="textAreaTop" fmla="*/ 0 h 327600"/>
                      <a:gd name="textAreaBottom" fmla="*/ 327960 h 327600"/>
                    </a:gdLst>
                    <a:ahLst/>
                    <a:rect l="textAreaLeft" t="textAreaTop" r="textAreaRight" b="textAreaBottom"/>
                    <a:pathLst>
                      <a:path w="179" h="561">
                        <a:moveTo>
                          <a:pt x="166" y="0"/>
                        </a:moveTo>
                        <a:lnTo>
                          <a:pt x="179" y="8"/>
                        </a:lnTo>
                        <a:lnTo>
                          <a:pt x="9" y="561"/>
                        </a:lnTo>
                        <a:lnTo>
                          <a:pt x="0" y="548"/>
                        </a:lnTo>
                        <a:lnTo>
                          <a:pt x="166"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9" name="Group 186"/>
                <p:cNvGrpSpPr/>
                <p:nvPr/>
              </p:nvGrpSpPr>
              <p:grpSpPr>
                <a:xfrm>
                  <a:off x="775080" y="5157720"/>
                  <a:ext cx="157680" cy="1195920"/>
                  <a:chOff x="775080" y="5157720"/>
                  <a:chExt cx="157680" cy="1195920"/>
                </a:xfrm>
              </p:grpSpPr>
              <p:grpSp>
                <p:nvGrpSpPr>
                  <p:cNvPr id="1110" name="Group 187"/>
                  <p:cNvGrpSpPr/>
                  <p:nvPr/>
                </p:nvGrpSpPr>
                <p:grpSpPr>
                  <a:xfrm>
                    <a:off x="775080" y="5157720"/>
                    <a:ext cx="122040" cy="1195920"/>
                    <a:chOff x="775080" y="5157720"/>
                    <a:chExt cx="122040" cy="1195920"/>
                  </a:xfrm>
                </p:grpSpPr>
                <p:grpSp>
                  <p:nvGrpSpPr>
                    <p:cNvPr id="1111" name="Group 188"/>
                    <p:cNvGrpSpPr/>
                    <p:nvPr/>
                  </p:nvGrpSpPr>
                  <p:grpSpPr>
                    <a:xfrm>
                      <a:off x="775080" y="5157720"/>
                      <a:ext cx="115560" cy="1193400"/>
                      <a:chOff x="775080" y="5157720"/>
                      <a:chExt cx="115560" cy="1193400"/>
                    </a:xfrm>
                  </p:grpSpPr>
                  <p:sp>
                    <p:nvSpPr>
                      <p:cNvPr id="1112" name="Freeform 189"/>
                      <p:cNvSpPr/>
                      <p:nvPr/>
                    </p:nvSpPr>
                    <p:spPr>
                      <a:xfrm>
                        <a:off x="775080" y="5157720"/>
                        <a:ext cx="91800" cy="1193400"/>
                      </a:xfrm>
                      <a:custGeom>
                        <a:avLst/>
                        <a:gdLst>
                          <a:gd name="textAreaLeft" fmla="*/ 0 w 91800"/>
                          <a:gd name="textAreaRight" fmla="*/ 92160 w 91800"/>
                          <a:gd name="textAreaTop" fmla="*/ 0 h 1193400"/>
                          <a:gd name="textAreaBottom" fmla="*/ 1193760 h 1193400"/>
                        </a:gdLst>
                        <a:ahLst/>
                        <a:rect l="textAreaLeft" t="textAreaTop" r="textAreaRight" b="textAreaBottom"/>
                        <a:pathLst>
                          <a:path w="167" h="2036">
                            <a:moveTo>
                              <a:pt x="130" y="0"/>
                            </a:moveTo>
                            <a:lnTo>
                              <a:pt x="0" y="2036"/>
                            </a:lnTo>
                            <a:lnTo>
                              <a:pt x="36" y="2036"/>
                            </a:lnTo>
                            <a:lnTo>
                              <a:pt x="167" y="43"/>
                            </a:lnTo>
                            <a:lnTo>
                              <a:pt x="130"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90"/>
                      <p:cNvSpPr/>
                      <p:nvPr/>
                    </p:nvSpPr>
                    <p:spPr>
                      <a:xfrm>
                        <a:off x="792360" y="5190480"/>
                        <a:ext cx="98280" cy="1160640"/>
                      </a:xfrm>
                      <a:custGeom>
                        <a:avLst/>
                        <a:gdLst>
                          <a:gd name="textAreaLeft" fmla="*/ 0 w 98280"/>
                          <a:gd name="textAreaRight" fmla="*/ 98640 w 98280"/>
                          <a:gd name="textAreaTop" fmla="*/ 0 h 1160640"/>
                          <a:gd name="textAreaBottom" fmla="*/ 1161000 h 1160640"/>
                        </a:gdLst>
                        <a:ahLst/>
                        <a:rect l="textAreaLeft" t="textAreaTop" r="textAreaRight" b="textAreaBottom"/>
                        <a:pathLst>
                          <a:path w="181" h="1984">
                            <a:moveTo>
                              <a:pt x="130" y="0"/>
                            </a:moveTo>
                            <a:lnTo>
                              <a:pt x="0" y="1984"/>
                            </a:lnTo>
                            <a:lnTo>
                              <a:pt x="49" y="1984"/>
                            </a:lnTo>
                            <a:lnTo>
                              <a:pt x="181" y="55"/>
                            </a:lnTo>
                            <a:lnTo>
                              <a:pt x="130"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4" name="Group 191"/>
                    <p:cNvGrpSpPr/>
                    <p:nvPr/>
                  </p:nvGrpSpPr>
                  <p:grpSpPr>
                    <a:xfrm>
                      <a:off x="836280" y="5719680"/>
                      <a:ext cx="60840" cy="633960"/>
                      <a:chOff x="836280" y="5719680"/>
                      <a:chExt cx="60840" cy="633960"/>
                    </a:xfrm>
                  </p:grpSpPr>
                  <p:sp>
                    <p:nvSpPr>
                      <p:cNvPr id="1115" name="Freeform 192"/>
                      <p:cNvSpPr/>
                      <p:nvPr/>
                    </p:nvSpPr>
                    <p:spPr>
                      <a:xfrm>
                        <a:off x="836280" y="5719680"/>
                        <a:ext cx="54360" cy="633960"/>
                      </a:xfrm>
                      <a:custGeom>
                        <a:avLst/>
                        <a:gdLst>
                          <a:gd name="textAreaLeft" fmla="*/ 0 w 54360"/>
                          <a:gd name="textAreaRight" fmla="*/ 54720 w 54360"/>
                          <a:gd name="textAreaTop" fmla="*/ 0 h 633960"/>
                          <a:gd name="textAreaBottom" fmla="*/ 634320 h 633960"/>
                        </a:gdLst>
                        <a:ahLst/>
                        <a:rect l="textAreaLeft" t="textAreaTop" r="textAreaRight" b="textAreaBottom"/>
                        <a:pathLst>
                          <a:path w="101" h="1084">
                            <a:moveTo>
                              <a:pt x="15" y="0"/>
                            </a:moveTo>
                            <a:lnTo>
                              <a:pt x="101" y="917"/>
                            </a:lnTo>
                            <a:lnTo>
                              <a:pt x="81" y="1084"/>
                            </a:lnTo>
                            <a:lnTo>
                              <a:pt x="0" y="186"/>
                            </a:lnTo>
                            <a:lnTo>
                              <a:pt x="15"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3"/>
                      <p:cNvSpPr/>
                      <p:nvPr/>
                    </p:nvSpPr>
                    <p:spPr>
                      <a:xfrm>
                        <a:off x="844920" y="5719680"/>
                        <a:ext cx="52200" cy="547560"/>
                      </a:xfrm>
                      <a:custGeom>
                        <a:avLst/>
                        <a:gdLst>
                          <a:gd name="textAreaLeft" fmla="*/ 0 w 52200"/>
                          <a:gd name="textAreaRight" fmla="*/ 52560 w 52200"/>
                          <a:gd name="textAreaTop" fmla="*/ 0 h 547560"/>
                          <a:gd name="textAreaBottom" fmla="*/ 547920 h 547560"/>
                        </a:gdLst>
                        <a:ahLst/>
                        <a:rect l="textAreaLeft" t="textAreaTop" r="textAreaRight" b="textAreaBottom"/>
                        <a:pathLst>
                          <a:path w="96" h="938">
                            <a:moveTo>
                              <a:pt x="0" y="0"/>
                            </a:moveTo>
                            <a:lnTo>
                              <a:pt x="14" y="17"/>
                            </a:lnTo>
                            <a:lnTo>
                              <a:pt x="96" y="932"/>
                            </a:lnTo>
                            <a:lnTo>
                              <a:pt x="85" y="938"/>
                            </a:lnTo>
                            <a:lnTo>
                              <a:pt x="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7" name="Group 194"/>
                  <p:cNvGrpSpPr/>
                  <p:nvPr/>
                </p:nvGrpSpPr>
                <p:grpSpPr>
                  <a:xfrm>
                    <a:off x="836280" y="5286600"/>
                    <a:ext cx="96480" cy="428040"/>
                    <a:chOff x="836280" y="5286600"/>
                    <a:chExt cx="96480" cy="428040"/>
                  </a:xfrm>
                </p:grpSpPr>
                <p:sp>
                  <p:nvSpPr>
                    <p:cNvPr id="1118" name="Freeform 195"/>
                    <p:cNvSpPr/>
                    <p:nvPr/>
                  </p:nvSpPr>
                  <p:spPr>
                    <a:xfrm>
                      <a:off x="836280" y="5286600"/>
                      <a:ext cx="96480" cy="423360"/>
                    </a:xfrm>
                    <a:custGeom>
                      <a:avLst/>
                      <a:gdLst>
                        <a:gd name="textAreaLeft" fmla="*/ 0 w 96480"/>
                        <a:gd name="textAreaRight" fmla="*/ 96840 w 96480"/>
                        <a:gd name="textAreaTop" fmla="*/ 0 h 423360"/>
                        <a:gd name="textAreaBottom" fmla="*/ 423720 h 423360"/>
                      </a:gdLst>
                      <a:ahLst/>
                      <a:rect l="textAreaLeft" t="textAreaTop" r="textAreaRight" b="textAreaBottom"/>
                      <a:pathLst>
                        <a:path w="178" h="722">
                          <a:moveTo>
                            <a:pt x="0" y="722"/>
                          </a:moveTo>
                          <a:lnTo>
                            <a:pt x="15" y="568"/>
                          </a:lnTo>
                          <a:lnTo>
                            <a:pt x="178" y="0"/>
                          </a:lnTo>
                          <a:lnTo>
                            <a:pt x="169" y="167"/>
                          </a:lnTo>
                          <a:lnTo>
                            <a:pt x="0" y="72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96"/>
                    <p:cNvSpPr/>
                    <p:nvPr/>
                  </p:nvSpPr>
                  <p:spPr>
                    <a:xfrm>
                      <a:off x="836280" y="5387400"/>
                      <a:ext cx="96480" cy="327240"/>
                    </a:xfrm>
                    <a:custGeom>
                      <a:avLst/>
                      <a:gdLst>
                        <a:gd name="textAreaLeft" fmla="*/ 0 w 96480"/>
                        <a:gd name="textAreaRight" fmla="*/ 96840 w 96480"/>
                        <a:gd name="textAreaTop" fmla="*/ 0 h 327240"/>
                        <a:gd name="textAreaBottom" fmla="*/ 327600 h 327240"/>
                      </a:gdLst>
                      <a:ahLst/>
                      <a:rect l="textAreaLeft" t="textAreaTop" r="textAreaRight" b="textAreaBottom"/>
                      <a:pathLst>
                        <a:path w="178" h="561">
                          <a:moveTo>
                            <a:pt x="0" y="548"/>
                          </a:moveTo>
                          <a:lnTo>
                            <a:pt x="12" y="561"/>
                          </a:lnTo>
                          <a:lnTo>
                            <a:pt x="178" y="7"/>
                          </a:lnTo>
                          <a:lnTo>
                            <a:pt x="164" y="0"/>
                          </a:lnTo>
                          <a:lnTo>
                            <a:pt x="0" y="54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20" name="Group 197"/>
                <p:cNvGrpSpPr/>
                <p:nvPr/>
              </p:nvGrpSpPr>
              <p:grpSpPr>
                <a:xfrm>
                  <a:off x="871920" y="5253840"/>
                  <a:ext cx="368640" cy="1097280"/>
                  <a:chOff x="871920" y="5253840"/>
                  <a:chExt cx="368640" cy="1097280"/>
                </a:xfrm>
              </p:grpSpPr>
              <p:grpSp>
                <p:nvGrpSpPr>
                  <p:cNvPr id="1121" name="Group 198"/>
                  <p:cNvGrpSpPr/>
                  <p:nvPr/>
                </p:nvGrpSpPr>
                <p:grpSpPr>
                  <a:xfrm>
                    <a:off x="904680" y="5794920"/>
                    <a:ext cx="285840" cy="542880"/>
                    <a:chOff x="904680" y="5794920"/>
                    <a:chExt cx="285840" cy="542880"/>
                  </a:xfrm>
                </p:grpSpPr>
                <p:sp>
                  <p:nvSpPr>
                    <p:cNvPr id="1122" name="Freeform 199"/>
                    <p:cNvSpPr/>
                    <p:nvPr/>
                  </p:nvSpPr>
                  <p:spPr>
                    <a:xfrm>
                      <a:off x="904680" y="5801760"/>
                      <a:ext cx="285840" cy="536040"/>
                    </a:xfrm>
                    <a:custGeom>
                      <a:avLst/>
                      <a:gdLst>
                        <a:gd name="textAreaLeft" fmla="*/ 0 w 285840"/>
                        <a:gd name="textAreaRight" fmla="*/ 286200 w 285840"/>
                        <a:gd name="textAreaTop" fmla="*/ 0 h 536040"/>
                        <a:gd name="textAreaBottom" fmla="*/ 536400 h 536040"/>
                      </a:gdLst>
                      <a:ahLst/>
                      <a:rect l="textAreaLeft" t="textAreaTop" r="textAreaRight" b="textAreaBottom"/>
                      <a:pathLst>
                        <a:path w="516" h="917">
                          <a:moveTo>
                            <a:pt x="511" y="0"/>
                          </a:moveTo>
                          <a:lnTo>
                            <a:pt x="12" y="794"/>
                          </a:lnTo>
                          <a:lnTo>
                            <a:pt x="0" y="917"/>
                          </a:lnTo>
                          <a:lnTo>
                            <a:pt x="516" y="101"/>
                          </a:lnTo>
                          <a:lnTo>
                            <a:pt x="511"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00"/>
                    <p:cNvSpPr/>
                    <p:nvPr/>
                  </p:nvSpPr>
                  <p:spPr>
                    <a:xfrm>
                      <a:off x="909000" y="5794920"/>
                      <a:ext cx="276840" cy="470160"/>
                    </a:xfrm>
                    <a:custGeom>
                      <a:avLst/>
                      <a:gdLst>
                        <a:gd name="textAreaLeft" fmla="*/ 0 w 276840"/>
                        <a:gd name="textAreaRight" fmla="*/ 277200 w 276840"/>
                        <a:gd name="textAreaTop" fmla="*/ 0 h 470160"/>
                        <a:gd name="textAreaBottom" fmla="*/ 470520 h 470160"/>
                      </a:gdLst>
                      <a:ahLst/>
                      <a:rect l="textAreaLeft" t="textAreaTop" r="textAreaRight" b="textAreaBottom"/>
                      <a:pathLst>
                        <a:path w="503" h="804">
                          <a:moveTo>
                            <a:pt x="0" y="783"/>
                          </a:moveTo>
                          <a:lnTo>
                            <a:pt x="5" y="804"/>
                          </a:lnTo>
                          <a:lnTo>
                            <a:pt x="503" y="11"/>
                          </a:lnTo>
                          <a:lnTo>
                            <a:pt x="493" y="0"/>
                          </a:lnTo>
                          <a:lnTo>
                            <a:pt x="0" y="783"/>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4" name="Group 201"/>
                  <p:cNvGrpSpPr/>
                  <p:nvPr/>
                </p:nvGrpSpPr>
                <p:grpSpPr>
                  <a:xfrm>
                    <a:off x="871920" y="5253840"/>
                    <a:ext cx="368640" cy="1097280"/>
                    <a:chOff x="871920" y="5253840"/>
                    <a:chExt cx="368640" cy="1097280"/>
                  </a:xfrm>
                </p:grpSpPr>
                <p:grpSp>
                  <p:nvGrpSpPr>
                    <p:cNvPr id="1125" name="Group 202"/>
                    <p:cNvGrpSpPr/>
                    <p:nvPr/>
                  </p:nvGrpSpPr>
                  <p:grpSpPr>
                    <a:xfrm>
                      <a:off x="928800" y="5792400"/>
                      <a:ext cx="277200" cy="544680"/>
                      <a:chOff x="928800" y="5792400"/>
                      <a:chExt cx="277200" cy="544680"/>
                    </a:xfrm>
                  </p:grpSpPr>
                  <p:sp>
                    <p:nvSpPr>
                      <p:cNvPr id="1126" name="Freeform 203"/>
                      <p:cNvSpPr/>
                      <p:nvPr/>
                    </p:nvSpPr>
                    <p:spPr>
                      <a:xfrm>
                        <a:off x="928800" y="5801400"/>
                        <a:ext cx="277200" cy="535680"/>
                      </a:xfrm>
                      <a:custGeom>
                        <a:avLst/>
                        <a:gdLst>
                          <a:gd name="textAreaLeft" fmla="*/ 0 w 277200"/>
                          <a:gd name="textAreaRight" fmla="*/ 277560 w 277200"/>
                          <a:gd name="textAreaTop" fmla="*/ 0 h 535680"/>
                          <a:gd name="textAreaBottom" fmla="*/ 536040 h 535680"/>
                        </a:gdLst>
                        <a:ahLst/>
                        <a:rect l="textAreaLeft" t="textAreaTop" r="textAreaRight" b="textAreaBottom"/>
                        <a:pathLst>
                          <a:path w="506" h="915">
                            <a:moveTo>
                              <a:pt x="8" y="0"/>
                            </a:moveTo>
                            <a:lnTo>
                              <a:pt x="502" y="799"/>
                            </a:lnTo>
                            <a:lnTo>
                              <a:pt x="506" y="915"/>
                            </a:lnTo>
                            <a:lnTo>
                              <a:pt x="0" y="97"/>
                            </a:lnTo>
                            <a:lnTo>
                              <a:pt x="8"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204"/>
                      <p:cNvSpPr/>
                      <p:nvPr/>
                    </p:nvSpPr>
                    <p:spPr>
                      <a:xfrm>
                        <a:off x="933120" y="5792400"/>
                        <a:ext cx="270360" cy="476640"/>
                      </a:xfrm>
                      <a:custGeom>
                        <a:avLst/>
                        <a:gdLst>
                          <a:gd name="textAreaLeft" fmla="*/ 0 w 270360"/>
                          <a:gd name="textAreaRight" fmla="*/ 270720 w 270360"/>
                          <a:gd name="textAreaTop" fmla="*/ 0 h 476640"/>
                          <a:gd name="textAreaBottom" fmla="*/ 477000 h 476640"/>
                        </a:gdLst>
                        <a:ahLst/>
                        <a:rect l="textAreaLeft" t="textAreaTop" r="textAreaRight" b="textAreaBottom"/>
                        <a:pathLst>
                          <a:path w="494" h="815">
                            <a:moveTo>
                              <a:pt x="0" y="0"/>
                            </a:moveTo>
                            <a:lnTo>
                              <a:pt x="1" y="20"/>
                            </a:lnTo>
                            <a:lnTo>
                              <a:pt x="494" y="815"/>
                            </a:lnTo>
                            <a:lnTo>
                              <a:pt x="490" y="792"/>
                            </a:lnTo>
                            <a:lnTo>
                              <a:pt x="0"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8" name="Group 205"/>
                    <p:cNvGrpSpPr/>
                    <p:nvPr/>
                  </p:nvGrpSpPr>
                  <p:grpSpPr>
                    <a:xfrm>
                      <a:off x="933120" y="5310000"/>
                      <a:ext cx="252720" cy="493200"/>
                      <a:chOff x="933120" y="5310000"/>
                      <a:chExt cx="252720" cy="493200"/>
                    </a:xfrm>
                  </p:grpSpPr>
                  <p:grpSp>
                    <p:nvGrpSpPr>
                      <p:cNvPr id="1129" name="Group 206"/>
                      <p:cNvGrpSpPr/>
                      <p:nvPr/>
                    </p:nvGrpSpPr>
                    <p:grpSpPr>
                      <a:xfrm>
                        <a:off x="933120" y="5310000"/>
                        <a:ext cx="250560" cy="493200"/>
                        <a:chOff x="933120" y="5310000"/>
                        <a:chExt cx="250560" cy="493200"/>
                      </a:xfrm>
                    </p:grpSpPr>
                    <p:sp>
                      <p:nvSpPr>
                        <p:cNvPr id="1130" name="Freeform 207"/>
                        <p:cNvSpPr/>
                        <p:nvPr/>
                      </p:nvSpPr>
                      <p:spPr>
                        <a:xfrm>
                          <a:off x="933120" y="5310000"/>
                          <a:ext cx="235080" cy="493200"/>
                        </a:xfrm>
                        <a:custGeom>
                          <a:avLst/>
                          <a:gdLst>
                            <a:gd name="textAreaLeft" fmla="*/ 0 w 235080"/>
                            <a:gd name="textAreaRight" fmla="*/ 235440 w 235080"/>
                            <a:gd name="textAreaTop" fmla="*/ 0 h 493200"/>
                            <a:gd name="textAreaBottom" fmla="*/ 493560 h 493200"/>
                          </a:gdLst>
                          <a:ahLst/>
                          <a:rect l="textAreaLeft" t="textAreaTop" r="textAreaRight" b="textAreaBottom"/>
                          <a:pathLst>
                            <a:path w="430" h="842">
                              <a:moveTo>
                                <a:pt x="426" y="0"/>
                              </a:moveTo>
                              <a:lnTo>
                                <a:pt x="10" y="713"/>
                              </a:lnTo>
                              <a:lnTo>
                                <a:pt x="0" y="842"/>
                              </a:lnTo>
                              <a:lnTo>
                                <a:pt x="430" y="103"/>
                              </a:lnTo>
                              <a:lnTo>
                                <a:pt x="426"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08"/>
                        <p:cNvSpPr/>
                        <p:nvPr/>
                      </p:nvSpPr>
                      <p:spPr>
                        <a:xfrm>
                          <a:off x="950400" y="5310000"/>
                          <a:ext cx="233280" cy="488520"/>
                        </a:xfrm>
                        <a:custGeom>
                          <a:avLst/>
                          <a:gdLst>
                            <a:gd name="textAreaLeft" fmla="*/ 0 w 233280"/>
                            <a:gd name="textAreaRight" fmla="*/ 233640 w 233280"/>
                            <a:gd name="textAreaTop" fmla="*/ 0 h 488520"/>
                            <a:gd name="textAreaBottom" fmla="*/ 488880 h 488520"/>
                          </a:gdLst>
                          <a:ahLst/>
                          <a:rect l="textAreaLeft" t="textAreaTop" r="textAreaRight" b="textAreaBottom"/>
                          <a:pathLst>
                            <a:path w="424" h="837">
                              <a:moveTo>
                                <a:pt x="4" y="0"/>
                              </a:moveTo>
                              <a:lnTo>
                                <a:pt x="420" y="716"/>
                              </a:lnTo>
                              <a:lnTo>
                                <a:pt x="424" y="837"/>
                              </a:lnTo>
                              <a:lnTo>
                                <a:pt x="0" y="102"/>
                              </a:lnTo>
                              <a:lnTo>
                                <a:pt x="4"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2" name="Freeform 209"/>
                      <p:cNvSpPr/>
                      <p:nvPr/>
                    </p:nvSpPr>
                    <p:spPr>
                      <a:xfrm>
                        <a:off x="943920" y="5366160"/>
                        <a:ext cx="241920" cy="432720"/>
                      </a:xfrm>
                      <a:custGeom>
                        <a:avLst/>
                        <a:gdLst>
                          <a:gd name="textAreaLeft" fmla="*/ 0 w 241920"/>
                          <a:gd name="textAreaRight" fmla="*/ 242280 w 241920"/>
                          <a:gd name="textAreaTop" fmla="*/ 0 h 432720"/>
                          <a:gd name="textAreaBottom" fmla="*/ 433080 h 432720"/>
                        </a:gdLst>
                        <a:ahLst/>
                        <a:rect l="textAreaLeft" t="textAreaTop" r="textAreaRight" b="textAreaBottom"/>
                        <a:pathLst>
                          <a:path w="439" h="744">
                            <a:moveTo>
                              <a:pt x="423" y="730"/>
                            </a:moveTo>
                            <a:lnTo>
                              <a:pt x="439" y="744"/>
                            </a:lnTo>
                            <a:lnTo>
                              <a:pt x="12" y="5"/>
                            </a:lnTo>
                            <a:lnTo>
                              <a:pt x="0" y="0"/>
                            </a:lnTo>
                            <a:lnTo>
                              <a:pt x="423" y="73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Group 210"/>
                    <p:cNvGrpSpPr/>
                    <p:nvPr/>
                  </p:nvGrpSpPr>
                  <p:grpSpPr>
                    <a:xfrm>
                      <a:off x="871920" y="5253840"/>
                      <a:ext cx="96480" cy="1097280"/>
                      <a:chOff x="871920" y="5253840"/>
                      <a:chExt cx="96480" cy="1097280"/>
                    </a:xfrm>
                  </p:grpSpPr>
                  <p:sp>
                    <p:nvSpPr>
                      <p:cNvPr id="1134" name="Freeform 211"/>
                      <p:cNvSpPr/>
                      <p:nvPr/>
                    </p:nvSpPr>
                    <p:spPr>
                      <a:xfrm>
                        <a:off x="889200" y="5274720"/>
                        <a:ext cx="79200" cy="1076040"/>
                      </a:xfrm>
                      <a:custGeom>
                        <a:avLst/>
                        <a:gdLst>
                          <a:gd name="textAreaLeft" fmla="*/ 0 w 79200"/>
                          <a:gd name="textAreaRight" fmla="*/ 79560 w 79200"/>
                          <a:gd name="textAreaTop" fmla="*/ 0 h 1076040"/>
                          <a:gd name="textAreaBottom" fmla="*/ 1076400 h 1076040"/>
                        </a:gdLst>
                        <a:ahLst/>
                        <a:rect l="textAreaLeft" t="textAreaTop" r="textAreaRight" b="textAreaBottom"/>
                        <a:pathLst>
                          <a:path w="146" h="1840">
                            <a:moveTo>
                              <a:pt x="97" y="0"/>
                            </a:moveTo>
                            <a:lnTo>
                              <a:pt x="0" y="1840"/>
                            </a:lnTo>
                            <a:lnTo>
                              <a:pt x="48" y="1838"/>
                            </a:lnTo>
                            <a:lnTo>
                              <a:pt x="146" y="0"/>
                            </a:lnTo>
                            <a:lnTo>
                              <a:pt x="97"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212"/>
                      <p:cNvSpPr/>
                      <p:nvPr/>
                    </p:nvSpPr>
                    <p:spPr>
                      <a:xfrm>
                        <a:off x="871920" y="5253840"/>
                        <a:ext cx="70200" cy="1097280"/>
                      </a:xfrm>
                      <a:custGeom>
                        <a:avLst/>
                        <a:gdLst>
                          <a:gd name="textAreaLeft" fmla="*/ 0 w 70200"/>
                          <a:gd name="textAreaRight" fmla="*/ 70560 w 70200"/>
                          <a:gd name="textAreaTop" fmla="*/ 0 h 1097280"/>
                          <a:gd name="textAreaBottom" fmla="*/ 1097640 h 1097280"/>
                        </a:gdLst>
                        <a:ahLst/>
                        <a:rect l="textAreaLeft" t="textAreaTop" r="textAreaRight" b="textAreaBottom"/>
                        <a:pathLst>
                          <a:path w="130" h="1874">
                            <a:moveTo>
                              <a:pt x="130" y="34"/>
                            </a:moveTo>
                            <a:lnTo>
                              <a:pt x="33" y="1874"/>
                            </a:lnTo>
                            <a:lnTo>
                              <a:pt x="0" y="1872"/>
                            </a:lnTo>
                            <a:lnTo>
                              <a:pt x="98" y="0"/>
                            </a:lnTo>
                            <a:lnTo>
                              <a:pt x="130" y="3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3"/>
                    <p:cNvGrpSpPr/>
                    <p:nvPr/>
                  </p:nvGrpSpPr>
                  <p:grpSpPr>
                    <a:xfrm>
                      <a:off x="1153440" y="5274720"/>
                      <a:ext cx="87120" cy="1076040"/>
                      <a:chOff x="1153440" y="5274720"/>
                      <a:chExt cx="87120" cy="1076040"/>
                    </a:xfrm>
                  </p:grpSpPr>
                  <p:sp>
                    <p:nvSpPr>
                      <p:cNvPr id="1137" name="Freeform 214"/>
                      <p:cNvSpPr/>
                      <p:nvPr/>
                    </p:nvSpPr>
                    <p:spPr>
                      <a:xfrm>
                        <a:off x="1153440" y="5274720"/>
                        <a:ext cx="61560" cy="1076040"/>
                      </a:xfrm>
                      <a:custGeom>
                        <a:avLst/>
                        <a:gdLst>
                          <a:gd name="textAreaLeft" fmla="*/ 0 w 61560"/>
                          <a:gd name="textAreaRight" fmla="*/ 61920 w 61560"/>
                          <a:gd name="textAreaTop" fmla="*/ 0 h 1076040"/>
                          <a:gd name="textAreaBottom" fmla="*/ 1076400 h 1076040"/>
                        </a:gdLst>
                        <a:ahLst/>
                        <a:rect l="textAreaLeft" t="textAreaTop" r="textAreaRight" b="textAreaBottom"/>
                        <a:pathLst>
                          <a:path w="115" h="1840">
                            <a:moveTo>
                              <a:pt x="32" y="0"/>
                            </a:moveTo>
                            <a:lnTo>
                              <a:pt x="115" y="1840"/>
                            </a:lnTo>
                            <a:lnTo>
                              <a:pt x="83" y="1840"/>
                            </a:lnTo>
                            <a:lnTo>
                              <a:pt x="0" y="0"/>
                            </a:lnTo>
                            <a:lnTo>
                              <a:pt x="32" y="0"/>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215"/>
                      <p:cNvSpPr/>
                      <p:nvPr/>
                    </p:nvSpPr>
                    <p:spPr>
                      <a:xfrm>
                        <a:off x="1168560" y="5274720"/>
                        <a:ext cx="72000" cy="1076040"/>
                      </a:xfrm>
                      <a:custGeom>
                        <a:avLst/>
                        <a:gdLst>
                          <a:gd name="textAreaLeft" fmla="*/ 0 w 72000"/>
                          <a:gd name="textAreaRight" fmla="*/ 72360 w 72000"/>
                          <a:gd name="textAreaTop" fmla="*/ 0 h 1076040"/>
                          <a:gd name="textAreaBottom" fmla="*/ 1076400 h 1076040"/>
                        </a:gdLst>
                        <a:ahLst/>
                        <a:rect l="textAreaLeft" t="textAreaTop" r="textAreaRight" b="textAreaBottom"/>
                        <a:pathLst>
                          <a:path w="131" h="1840">
                            <a:moveTo>
                              <a:pt x="50" y="0"/>
                            </a:moveTo>
                            <a:lnTo>
                              <a:pt x="131" y="1840"/>
                            </a:lnTo>
                            <a:lnTo>
                              <a:pt x="82" y="1840"/>
                            </a:lnTo>
                            <a:lnTo>
                              <a:pt x="0" y="0"/>
                            </a:lnTo>
                            <a:lnTo>
                              <a:pt x="50"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39" name="Freeform 216"/>
                <p:cNvSpPr/>
                <p:nvPr/>
              </p:nvSpPr>
              <p:spPr>
                <a:xfrm>
                  <a:off x="836280" y="5157720"/>
                  <a:ext cx="370440" cy="117360"/>
                </a:xfrm>
                <a:custGeom>
                  <a:avLst/>
                  <a:gdLst>
                    <a:gd name="textAreaLeft" fmla="*/ 0 w 370440"/>
                    <a:gd name="textAreaRight" fmla="*/ 370800 w 370440"/>
                    <a:gd name="textAreaTop" fmla="*/ 0 h 117360"/>
                    <a:gd name="textAreaBottom" fmla="*/ 117720 h 117360"/>
                  </a:gdLst>
                  <a:ahLst/>
                  <a:rect l="textAreaLeft" t="textAreaTop" r="textAreaRight" b="textAreaBottom"/>
                  <a:pathLst>
                    <a:path w="675" h="200">
                      <a:moveTo>
                        <a:pt x="0" y="0"/>
                      </a:moveTo>
                      <a:lnTo>
                        <a:pt x="177" y="200"/>
                      </a:lnTo>
                      <a:lnTo>
                        <a:pt x="675" y="200"/>
                      </a:lnTo>
                      <a:lnTo>
                        <a:pt x="49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0" name="Group 217"/>
                <p:cNvGrpSpPr/>
                <p:nvPr/>
              </p:nvGrpSpPr>
              <p:grpSpPr>
                <a:xfrm>
                  <a:off x="836280" y="5106240"/>
                  <a:ext cx="370080" cy="168480"/>
                  <a:chOff x="836280" y="5106240"/>
                  <a:chExt cx="370080" cy="168480"/>
                </a:xfrm>
              </p:grpSpPr>
              <p:sp>
                <p:nvSpPr>
                  <p:cNvPr id="1141" name="Freeform 218"/>
                  <p:cNvSpPr/>
                  <p:nvPr/>
                </p:nvSpPr>
                <p:spPr>
                  <a:xfrm>
                    <a:off x="836280" y="5106240"/>
                    <a:ext cx="370080" cy="117000"/>
                  </a:xfrm>
                  <a:custGeom>
                    <a:avLst/>
                    <a:gdLst>
                      <a:gd name="textAreaLeft" fmla="*/ 0 w 370080"/>
                      <a:gd name="textAreaRight" fmla="*/ 370440 w 370080"/>
                      <a:gd name="textAreaTop" fmla="*/ 0 h 117000"/>
                      <a:gd name="textAreaBottom" fmla="*/ 117360 h 117000"/>
                    </a:gdLst>
                    <a:ahLst/>
                    <a:rect l="textAreaLeft" t="textAreaTop" r="textAreaRight" b="textAreaBottom"/>
                    <a:pathLst>
                      <a:path w="675" h="200">
                        <a:moveTo>
                          <a:pt x="0" y="0"/>
                        </a:moveTo>
                        <a:lnTo>
                          <a:pt x="177" y="200"/>
                        </a:lnTo>
                        <a:lnTo>
                          <a:pt x="675" y="200"/>
                        </a:lnTo>
                        <a:lnTo>
                          <a:pt x="481" y="0"/>
                        </a:lnTo>
                        <a:lnTo>
                          <a:pt x="0"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19"/>
                  <p:cNvSpPr/>
                  <p:nvPr/>
                </p:nvSpPr>
                <p:spPr>
                  <a:xfrm>
                    <a:off x="836280" y="5106240"/>
                    <a:ext cx="96840" cy="168480"/>
                  </a:xfrm>
                  <a:custGeom>
                    <a:avLst/>
                    <a:gdLst>
                      <a:gd name="textAreaLeft" fmla="*/ 0 w 96840"/>
                      <a:gd name="textAreaRight" fmla="*/ 97200 w 96840"/>
                      <a:gd name="textAreaTop" fmla="*/ 0 h 168480"/>
                      <a:gd name="textAreaBottom" fmla="*/ 168840 h 168480"/>
                    </a:gdLst>
                    <a:ahLst/>
                    <a:rect l="textAreaLeft" t="textAreaTop" r="textAreaRight" b="textAreaBottom"/>
                    <a:pathLst>
                      <a:path w="178" h="290">
                        <a:moveTo>
                          <a:pt x="0" y="0"/>
                        </a:moveTo>
                        <a:lnTo>
                          <a:pt x="0" y="91"/>
                        </a:lnTo>
                        <a:lnTo>
                          <a:pt x="178" y="290"/>
                        </a:lnTo>
                        <a:lnTo>
                          <a:pt x="178" y="199"/>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220"/>
                  <p:cNvSpPr/>
                  <p:nvPr/>
                </p:nvSpPr>
                <p:spPr>
                  <a:xfrm>
                    <a:off x="933120" y="5221080"/>
                    <a:ext cx="273240" cy="53280"/>
                  </a:xfrm>
                  <a:prstGeom prst="rect">
                    <a:avLst/>
                  </a:prstGeom>
                  <a:solidFill>
                    <a:srgbClr val="c06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221"/>
                  <p:cNvSpPr/>
                  <p:nvPr/>
                </p:nvSpPr>
                <p:spPr>
                  <a:xfrm>
                    <a:off x="871560" y="5115600"/>
                    <a:ext cx="87840" cy="86400"/>
                  </a:xfrm>
                  <a:custGeom>
                    <a:avLst/>
                    <a:gdLst>
                      <a:gd name="textAreaLeft" fmla="*/ 0 w 87840"/>
                      <a:gd name="textAreaRight" fmla="*/ 88200 w 87840"/>
                      <a:gd name="textAreaTop" fmla="*/ 0 h 86400"/>
                      <a:gd name="textAreaBottom" fmla="*/ 86760 h 86400"/>
                    </a:gdLst>
                    <a:ahLst/>
                    <a:rect l="textAreaLeft" t="textAreaTop" r="textAreaRight" b="textAreaBottom"/>
                    <a:pathLst>
                      <a:path w="162" h="146">
                        <a:moveTo>
                          <a:pt x="162" y="146"/>
                        </a:moveTo>
                        <a:lnTo>
                          <a:pt x="81" y="109"/>
                        </a:lnTo>
                        <a:lnTo>
                          <a:pt x="0" y="0"/>
                        </a:lnTo>
                        <a:lnTo>
                          <a:pt x="64" y="0"/>
                        </a:lnTo>
                        <a:lnTo>
                          <a:pt x="162" y="146"/>
                        </a:lnTo>
                        <a:close/>
                      </a:path>
                    </a:pathLst>
                  </a:custGeom>
                  <a:solidFill>
                    <a:srgbClr val="603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45" name="Group 222"/>
                <p:cNvGrpSpPr/>
                <p:nvPr/>
              </p:nvGrpSpPr>
              <p:grpSpPr>
                <a:xfrm>
                  <a:off x="898560" y="5094720"/>
                  <a:ext cx="245880" cy="107280"/>
                  <a:chOff x="898560" y="5094720"/>
                  <a:chExt cx="245880" cy="107280"/>
                </a:xfrm>
              </p:grpSpPr>
              <p:sp>
                <p:nvSpPr>
                  <p:cNvPr id="1146" name="Freeform 223"/>
                  <p:cNvSpPr/>
                  <p:nvPr/>
                </p:nvSpPr>
                <p:spPr>
                  <a:xfrm>
                    <a:off x="898560" y="5097240"/>
                    <a:ext cx="245880" cy="74520"/>
                  </a:xfrm>
                  <a:custGeom>
                    <a:avLst/>
                    <a:gdLst>
                      <a:gd name="textAreaLeft" fmla="*/ 0 w 245880"/>
                      <a:gd name="textAreaRight" fmla="*/ 246240 w 245880"/>
                      <a:gd name="textAreaTop" fmla="*/ 0 h 74520"/>
                      <a:gd name="textAreaBottom" fmla="*/ 74880 h 74520"/>
                    </a:gdLst>
                    <a:ahLst/>
                    <a:rect l="textAreaLeft" t="textAreaTop" r="textAreaRight" b="textAreaBottom"/>
                    <a:pathLst>
                      <a:path w="451" h="128">
                        <a:moveTo>
                          <a:pt x="0" y="0"/>
                        </a:moveTo>
                        <a:lnTo>
                          <a:pt x="114" y="128"/>
                        </a:lnTo>
                        <a:lnTo>
                          <a:pt x="451" y="126"/>
                        </a:lnTo>
                        <a:lnTo>
                          <a:pt x="322" y="0"/>
                        </a:lnTo>
                        <a:lnTo>
                          <a:pt x="0" y="0"/>
                        </a:lnTo>
                        <a:close/>
                      </a:path>
                    </a:pathLst>
                  </a:custGeom>
                  <a:solidFill>
                    <a:srgbClr val="ff8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7" name="Rectangle 224"/>
                  <p:cNvSpPr/>
                  <p:nvPr/>
                </p:nvSpPr>
                <p:spPr>
                  <a:xfrm>
                    <a:off x="959760" y="5169600"/>
                    <a:ext cx="184680" cy="32040"/>
                  </a:xfrm>
                  <a:prstGeom prst="rect">
                    <a:avLst/>
                  </a:prstGeom>
                  <a:solidFill>
                    <a:srgbClr val="a05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225"/>
                  <p:cNvSpPr/>
                  <p:nvPr/>
                </p:nvSpPr>
                <p:spPr>
                  <a:xfrm>
                    <a:off x="948960" y="5113440"/>
                    <a:ext cx="142920" cy="41760"/>
                  </a:xfrm>
                  <a:custGeom>
                    <a:avLst/>
                    <a:gdLst>
                      <a:gd name="textAreaLeft" fmla="*/ 0 w 142920"/>
                      <a:gd name="textAreaRight" fmla="*/ 143280 w 142920"/>
                      <a:gd name="textAreaTop" fmla="*/ 0 h 41760"/>
                      <a:gd name="textAreaBottom" fmla="*/ 42120 h 41760"/>
                    </a:gdLst>
                    <a:ahLst/>
                    <a:rect l="textAreaLeft" t="textAreaTop" r="textAreaRight" b="textAreaBottom"/>
                    <a:pathLst>
                      <a:path w="260" h="74">
                        <a:moveTo>
                          <a:pt x="0" y="0"/>
                        </a:moveTo>
                        <a:lnTo>
                          <a:pt x="66" y="74"/>
                        </a:lnTo>
                        <a:lnTo>
                          <a:pt x="260" y="73"/>
                        </a:lnTo>
                        <a:lnTo>
                          <a:pt x="186" y="0"/>
                        </a:lnTo>
                        <a:lnTo>
                          <a:pt x="0" y="0"/>
                        </a:lnTo>
                        <a:close/>
                      </a:path>
                    </a:pathLst>
                  </a:custGeom>
                  <a:solidFill>
                    <a:srgbClr val="201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49" name="Freeform 226"/>
                  <p:cNvSpPr/>
                  <p:nvPr/>
                </p:nvSpPr>
                <p:spPr>
                  <a:xfrm>
                    <a:off x="898560" y="509472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115" h="181">
                        <a:moveTo>
                          <a:pt x="0" y="0"/>
                        </a:moveTo>
                        <a:lnTo>
                          <a:pt x="0" y="55"/>
                        </a:lnTo>
                        <a:lnTo>
                          <a:pt x="115" y="181"/>
                        </a:lnTo>
                        <a:lnTo>
                          <a:pt x="115" y="126"/>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0" name="Group 227"/>
              <p:cNvGrpSpPr/>
              <p:nvPr/>
            </p:nvGrpSpPr>
            <p:grpSpPr>
              <a:xfrm>
                <a:off x="991080" y="5029560"/>
                <a:ext cx="61200" cy="126000"/>
                <a:chOff x="991080" y="5029560"/>
                <a:chExt cx="61200" cy="126000"/>
              </a:xfrm>
            </p:grpSpPr>
            <p:sp>
              <p:nvSpPr>
                <p:cNvPr id="1151" name="Freeform 228"/>
                <p:cNvSpPr/>
                <p:nvPr/>
              </p:nvSpPr>
              <p:spPr>
                <a:xfrm>
                  <a:off x="991080" y="5029560"/>
                  <a:ext cx="61200" cy="126000"/>
                </a:xfrm>
                <a:custGeom>
                  <a:avLst/>
                  <a:gdLst>
                    <a:gd name="textAreaLeft" fmla="*/ 0 w 61200"/>
                    <a:gd name="textAreaRight" fmla="*/ 61560 w 61200"/>
                    <a:gd name="textAreaTop" fmla="*/ 0 h 126000"/>
                    <a:gd name="textAreaBottom" fmla="*/ 126360 h 126000"/>
                  </a:gdLst>
                  <a:ahLst/>
                  <a:rect l="textAreaLeft" t="textAreaTop" r="textAreaRight" b="textAreaBottom"/>
                  <a:pathLst>
                    <a:path w="109" h="217">
                      <a:moveTo>
                        <a:pt x="0" y="217"/>
                      </a:moveTo>
                      <a:lnTo>
                        <a:pt x="109" y="217"/>
                      </a:lnTo>
                      <a:lnTo>
                        <a:pt x="109" y="0"/>
                      </a:lnTo>
                      <a:lnTo>
                        <a:pt x="1" y="0"/>
                      </a:lnTo>
                      <a:lnTo>
                        <a:pt x="0" y="217"/>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229"/>
                <p:cNvSpPr/>
                <p:nvPr/>
              </p:nvSpPr>
              <p:spPr>
                <a:xfrm>
                  <a:off x="1001880" y="5029560"/>
                  <a:ext cx="10800" cy="126000"/>
                </a:xfrm>
                <a:custGeom>
                  <a:avLst/>
                  <a:gdLst>
                    <a:gd name="textAreaLeft" fmla="*/ 0 w 10800"/>
                    <a:gd name="textAreaRight" fmla="*/ 11160 w 10800"/>
                    <a:gd name="textAreaTop" fmla="*/ 0 h 126000"/>
                    <a:gd name="textAreaBottom" fmla="*/ 126360 h 126000"/>
                  </a:gdLst>
                  <a:ahLst/>
                  <a:rect l="textAreaLeft" t="textAreaTop" r="textAreaRight" b="textAreaBottom"/>
                  <a:pathLst>
                    <a:path w="21" h="217">
                      <a:moveTo>
                        <a:pt x="0" y="2"/>
                      </a:moveTo>
                      <a:lnTo>
                        <a:pt x="0" y="217"/>
                      </a:lnTo>
                      <a:lnTo>
                        <a:pt x="21" y="217"/>
                      </a:lnTo>
                      <a:lnTo>
                        <a:pt x="21" y="0"/>
                      </a:lnTo>
                      <a:lnTo>
                        <a:pt x="0" y="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3" name="Group 230"/>
            <p:cNvGrpSpPr/>
            <p:nvPr/>
          </p:nvGrpSpPr>
          <p:grpSpPr>
            <a:xfrm>
              <a:off x="457200" y="3998880"/>
              <a:ext cx="1217880" cy="1254240"/>
              <a:chOff x="457200" y="3998880"/>
              <a:chExt cx="1217880" cy="1254240"/>
            </a:xfrm>
          </p:grpSpPr>
          <p:sp>
            <p:nvSpPr>
              <p:cNvPr id="1154" name="Freeform 231"/>
              <p:cNvSpPr/>
              <p:nvPr/>
            </p:nvSpPr>
            <p:spPr>
              <a:xfrm>
                <a:off x="962280" y="4650120"/>
                <a:ext cx="92880" cy="388800"/>
              </a:xfrm>
              <a:custGeom>
                <a:avLst/>
                <a:gdLst>
                  <a:gd name="textAreaLeft" fmla="*/ 0 w 92880"/>
                  <a:gd name="textAreaRight" fmla="*/ 93240 w 92880"/>
                  <a:gd name="textAreaTop" fmla="*/ 0 h 388800"/>
                  <a:gd name="textAreaBottom" fmla="*/ 389160 h 388800"/>
                </a:gdLst>
                <a:ahLst/>
                <a:rect l="textAreaLeft" t="textAreaTop" r="textAreaRight" b="textAreaBottom"/>
                <a:pathLst>
                  <a:path w="169" h="667">
                    <a:moveTo>
                      <a:pt x="80" y="667"/>
                    </a:moveTo>
                    <a:lnTo>
                      <a:pt x="137" y="667"/>
                    </a:lnTo>
                    <a:lnTo>
                      <a:pt x="140" y="385"/>
                    </a:lnTo>
                    <a:lnTo>
                      <a:pt x="141" y="301"/>
                    </a:lnTo>
                    <a:lnTo>
                      <a:pt x="146" y="208"/>
                    </a:lnTo>
                    <a:lnTo>
                      <a:pt x="147" y="148"/>
                    </a:lnTo>
                    <a:lnTo>
                      <a:pt x="153" y="94"/>
                    </a:lnTo>
                    <a:lnTo>
                      <a:pt x="169" y="0"/>
                    </a:lnTo>
                    <a:lnTo>
                      <a:pt x="0" y="3"/>
                    </a:lnTo>
                    <a:lnTo>
                      <a:pt x="11" y="49"/>
                    </a:lnTo>
                    <a:lnTo>
                      <a:pt x="25" y="109"/>
                    </a:lnTo>
                    <a:lnTo>
                      <a:pt x="39" y="217"/>
                    </a:lnTo>
                    <a:lnTo>
                      <a:pt x="43" y="309"/>
                    </a:lnTo>
                    <a:lnTo>
                      <a:pt x="54" y="398"/>
                    </a:lnTo>
                    <a:lnTo>
                      <a:pt x="63" y="484"/>
                    </a:lnTo>
                    <a:lnTo>
                      <a:pt x="80" y="667"/>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5" name="Group 232"/>
              <p:cNvGrpSpPr/>
              <p:nvPr/>
            </p:nvGrpSpPr>
            <p:grpSpPr>
              <a:xfrm>
                <a:off x="457200" y="3998880"/>
                <a:ext cx="1217880" cy="1254240"/>
                <a:chOff x="457200" y="3998880"/>
                <a:chExt cx="1217880" cy="1254240"/>
              </a:xfrm>
            </p:grpSpPr>
            <p:grpSp>
              <p:nvGrpSpPr>
                <p:cNvPr id="1156" name="Group 233"/>
                <p:cNvGrpSpPr/>
                <p:nvPr/>
              </p:nvGrpSpPr>
              <p:grpSpPr>
                <a:xfrm>
                  <a:off x="604800" y="3998880"/>
                  <a:ext cx="950760" cy="964080"/>
                  <a:chOff x="604800" y="3998880"/>
                  <a:chExt cx="950760" cy="964080"/>
                </a:xfrm>
              </p:grpSpPr>
              <p:sp>
                <p:nvSpPr>
                  <p:cNvPr id="1157" name="Freeform 234"/>
                  <p:cNvSpPr/>
                  <p:nvPr/>
                </p:nvSpPr>
                <p:spPr>
                  <a:xfrm>
                    <a:off x="604800" y="3998880"/>
                    <a:ext cx="465120" cy="411840"/>
                  </a:xfrm>
                  <a:custGeom>
                    <a:avLst/>
                    <a:gdLst>
                      <a:gd name="textAreaLeft" fmla="*/ 0 w 465120"/>
                      <a:gd name="textAreaRight" fmla="*/ 465480 w 465120"/>
                      <a:gd name="textAreaTop" fmla="*/ 0 h 411840"/>
                      <a:gd name="textAreaBottom" fmla="*/ 412200 h 411840"/>
                    </a:gdLst>
                    <a:ahLst/>
                    <a:rect l="textAreaLeft" t="textAreaTop" r="textAreaRight" b="textAreaBottom"/>
                    <a:pathLst>
                      <a:path w="845" h="703">
                        <a:moveTo>
                          <a:pt x="791" y="439"/>
                        </a:moveTo>
                        <a:lnTo>
                          <a:pt x="823" y="439"/>
                        </a:lnTo>
                        <a:lnTo>
                          <a:pt x="845" y="443"/>
                        </a:lnTo>
                        <a:lnTo>
                          <a:pt x="838" y="409"/>
                        </a:lnTo>
                        <a:lnTo>
                          <a:pt x="826" y="372"/>
                        </a:lnTo>
                        <a:lnTo>
                          <a:pt x="807" y="329"/>
                        </a:lnTo>
                        <a:lnTo>
                          <a:pt x="789" y="293"/>
                        </a:lnTo>
                        <a:lnTo>
                          <a:pt x="769" y="258"/>
                        </a:lnTo>
                        <a:lnTo>
                          <a:pt x="751" y="233"/>
                        </a:lnTo>
                        <a:lnTo>
                          <a:pt x="734" y="208"/>
                        </a:lnTo>
                        <a:lnTo>
                          <a:pt x="720" y="187"/>
                        </a:lnTo>
                        <a:lnTo>
                          <a:pt x="707" y="172"/>
                        </a:lnTo>
                        <a:lnTo>
                          <a:pt x="694" y="156"/>
                        </a:lnTo>
                        <a:lnTo>
                          <a:pt x="671" y="131"/>
                        </a:lnTo>
                        <a:lnTo>
                          <a:pt x="654" y="114"/>
                        </a:lnTo>
                        <a:lnTo>
                          <a:pt x="632" y="96"/>
                        </a:lnTo>
                        <a:lnTo>
                          <a:pt x="618" y="84"/>
                        </a:lnTo>
                        <a:lnTo>
                          <a:pt x="603" y="75"/>
                        </a:lnTo>
                        <a:lnTo>
                          <a:pt x="580" y="60"/>
                        </a:lnTo>
                        <a:lnTo>
                          <a:pt x="563" y="49"/>
                        </a:lnTo>
                        <a:lnTo>
                          <a:pt x="537" y="35"/>
                        </a:lnTo>
                        <a:lnTo>
                          <a:pt x="510" y="25"/>
                        </a:lnTo>
                        <a:lnTo>
                          <a:pt x="486" y="14"/>
                        </a:lnTo>
                        <a:lnTo>
                          <a:pt x="460" y="7"/>
                        </a:lnTo>
                        <a:lnTo>
                          <a:pt x="438" y="4"/>
                        </a:lnTo>
                        <a:lnTo>
                          <a:pt x="409" y="1"/>
                        </a:lnTo>
                        <a:lnTo>
                          <a:pt x="383" y="1"/>
                        </a:lnTo>
                        <a:lnTo>
                          <a:pt x="356" y="0"/>
                        </a:lnTo>
                        <a:lnTo>
                          <a:pt x="333" y="1"/>
                        </a:lnTo>
                        <a:lnTo>
                          <a:pt x="298" y="4"/>
                        </a:lnTo>
                        <a:lnTo>
                          <a:pt x="268" y="11"/>
                        </a:lnTo>
                        <a:lnTo>
                          <a:pt x="244" y="19"/>
                        </a:lnTo>
                        <a:lnTo>
                          <a:pt x="221" y="32"/>
                        </a:lnTo>
                        <a:lnTo>
                          <a:pt x="201" y="47"/>
                        </a:lnTo>
                        <a:lnTo>
                          <a:pt x="188" y="64"/>
                        </a:lnTo>
                        <a:lnTo>
                          <a:pt x="181" y="83"/>
                        </a:lnTo>
                        <a:lnTo>
                          <a:pt x="180" y="98"/>
                        </a:lnTo>
                        <a:lnTo>
                          <a:pt x="181" y="112"/>
                        </a:lnTo>
                        <a:lnTo>
                          <a:pt x="185" y="125"/>
                        </a:lnTo>
                        <a:lnTo>
                          <a:pt x="190" y="135"/>
                        </a:lnTo>
                        <a:lnTo>
                          <a:pt x="203" y="144"/>
                        </a:lnTo>
                        <a:lnTo>
                          <a:pt x="216" y="149"/>
                        </a:lnTo>
                        <a:lnTo>
                          <a:pt x="233" y="153"/>
                        </a:lnTo>
                        <a:lnTo>
                          <a:pt x="250" y="158"/>
                        </a:lnTo>
                        <a:lnTo>
                          <a:pt x="267" y="159"/>
                        </a:lnTo>
                        <a:lnTo>
                          <a:pt x="291" y="162"/>
                        </a:lnTo>
                        <a:lnTo>
                          <a:pt x="318" y="159"/>
                        </a:lnTo>
                        <a:lnTo>
                          <a:pt x="340" y="158"/>
                        </a:lnTo>
                        <a:lnTo>
                          <a:pt x="356" y="162"/>
                        </a:lnTo>
                        <a:lnTo>
                          <a:pt x="370" y="166"/>
                        </a:lnTo>
                        <a:lnTo>
                          <a:pt x="381" y="173"/>
                        </a:lnTo>
                        <a:lnTo>
                          <a:pt x="392" y="180"/>
                        </a:lnTo>
                        <a:lnTo>
                          <a:pt x="397" y="184"/>
                        </a:lnTo>
                        <a:lnTo>
                          <a:pt x="407" y="196"/>
                        </a:lnTo>
                        <a:lnTo>
                          <a:pt x="413" y="208"/>
                        </a:lnTo>
                        <a:lnTo>
                          <a:pt x="417" y="224"/>
                        </a:lnTo>
                        <a:lnTo>
                          <a:pt x="413" y="237"/>
                        </a:lnTo>
                        <a:lnTo>
                          <a:pt x="402" y="241"/>
                        </a:lnTo>
                        <a:lnTo>
                          <a:pt x="388" y="241"/>
                        </a:lnTo>
                        <a:lnTo>
                          <a:pt x="373" y="237"/>
                        </a:lnTo>
                        <a:lnTo>
                          <a:pt x="357" y="227"/>
                        </a:lnTo>
                        <a:lnTo>
                          <a:pt x="346" y="219"/>
                        </a:lnTo>
                        <a:lnTo>
                          <a:pt x="328" y="206"/>
                        </a:lnTo>
                        <a:lnTo>
                          <a:pt x="310" y="199"/>
                        </a:lnTo>
                        <a:lnTo>
                          <a:pt x="291" y="194"/>
                        </a:lnTo>
                        <a:lnTo>
                          <a:pt x="276" y="193"/>
                        </a:lnTo>
                        <a:lnTo>
                          <a:pt x="256" y="191"/>
                        </a:lnTo>
                        <a:lnTo>
                          <a:pt x="235" y="191"/>
                        </a:lnTo>
                        <a:lnTo>
                          <a:pt x="212" y="192"/>
                        </a:lnTo>
                        <a:lnTo>
                          <a:pt x="193" y="197"/>
                        </a:lnTo>
                        <a:lnTo>
                          <a:pt x="173" y="203"/>
                        </a:lnTo>
                        <a:lnTo>
                          <a:pt x="155" y="212"/>
                        </a:lnTo>
                        <a:lnTo>
                          <a:pt x="138" y="223"/>
                        </a:lnTo>
                        <a:lnTo>
                          <a:pt x="121" y="231"/>
                        </a:lnTo>
                        <a:lnTo>
                          <a:pt x="98" y="246"/>
                        </a:lnTo>
                        <a:lnTo>
                          <a:pt x="75" y="267"/>
                        </a:lnTo>
                        <a:lnTo>
                          <a:pt x="55" y="288"/>
                        </a:lnTo>
                        <a:lnTo>
                          <a:pt x="41" y="310"/>
                        </a:lnTo>
                        <a:lnTo>
                          <a:pt x="28" y="335"/>
                        </a:lnTo>
                        <a:lnTo>
                          <a:pt x="15" y="369"/>
                        </a:lnTo>
                        <a:lnTo>
                          <a:pt x="9" y="397"/>
                        </a:lnTo>
                        <a:lnTo>
                          <a:pt x="3" y="429"/>
                        </a:lnTo>
                        <a:lnTo>
                          <a:pt x="0" y="461"/>
                        </a:lnTo>
                        <a:lnTo>
                          <a:pt x="0" y="490"/>
                        </a:lnTo>
                        <a:lnTo>
                          <a:pt x="3" y="520"/>
                        </a:lnTo>
                        <a:lnTo>
                          <a:pt x="9" y="549"/>
                        </a:lnTo>
                        <a:lnTo>
                          <a:pt x="18" y="580"/>
                        </a:lnTo>
                        <a:lnTo>
                          <a:pt x="29" y="601"/>
                        </a:lnTo>
                        <a:lnTo>
                          <a:pt x="42" y="622"/>
                        </a:lnTo>
                        <a:lnTo>
                          <a:pt x="53" y="636"/>
                        </a:lnTo>
                        <a:lnTo>
                          <a:pt x="72" y="651"/>
                        </a:lnTo>
                        <a:lnTo>
                          <a:pt x="89" y="664"/>
                        </a:lnTo>
                        <a:lnTo>
                          <a:pt x="107" y="675"/>
                        </a:lnTo>
                        <a:lnTo>
                          <a:pt x="128" y="685"/>
                        </a:lnTo>
                        <a:lnTo>
                          <a:pt x="144" y="690"/>
                        </a:lnTo>
                        <a:lnTo>
                          <a:pt x="166" y="697"/>
                        </a:lnTo>
                        <a:lnTo>
                          <a:pt x="189" y="703"/>
                        </a:lnTo>
                        <a:lnTo>
                          <a:pt x="209" y="703"/>
                        </a:lnTo>
                        <a:lnTo>
                          <a:pt x="229" y="703"/>
                        </a:lnTo>
                        <a:lnTo>
                          <a:pt x="243" y="700"/>
                        </a:lnTo>
                        <a:lnTo>
                          <a:pt x="264" y="699"/>
                        </a:lnTo>
                        <a:lnTo>
                          <a:pt x="295" y="692"/>
                        </a:lnTo>
                        <a:lnTo>
                          <a:pt x="312" y="689"/>
                        </a:lnTo>
                        <a:lnTo>
                          <a:pt x="328" y="679"/>
                        </a:lnTo>
                        <a:lnTo>
                          <a:pt x="350" y="669"/>
                        </a:lnTo>
                        <a:lnTo>
                          <a:pt x="372" y="655"/>
                        </a:lnTo>
                        <a:lnTo>
                          <a:pt x="387" y="644"/>
                        </a:lnTo>
                        <a:lnTo>
                          <a:pt x="407" y="627"/>
                        </a:lnTo>
                        <a:lnTo>
                          <a:pt x="431" y="608"/>
                        </a:lnTo>
                        <a:lnTo>
                          <a:pt x="456" y="581"/>
                        </a:lnTo>
                        <a:lnTo>
                          <a:pt x="480" y="560"/>
                        </a:lnTo>
                        <a:lnTo>
                          <a:pt x="500" y="541"/>
                        </a:lnTo>
                        <a:lnTo>
                          <a:pt x="520" y="522"/>
                        </a:lnTo>
                        <a:lnTo>
                          <a:pt x="536" y="509"/>
                        </a:lnTo>
                        <a:lnTo>
                          <a:pt x="550" y="498"/>
                        </a:lnTo>
                        <a:lnTo>
                          <a:pt x="568" y="488"/>
                        </a:lnTo>
                        <a:lnTo>
                          <a:pt x="590" y="478"/>
                        </a:lnTo>
                        <a:lnTo>
                          <a:pt x="616" y="470"/>
                        </a:lnTo>
                        <a:lnTo>
                          <a:pt x="637" y="463"/>
                        </a:lnTo>
                        <a:lnTo>
                          <a:pt x="662" y="456"/>
                        </a:lnTo>
                        <a:lnTo>
                          <a:pt x="694" y="449"/>
                        </a:lnTo>
                        <a:lnTo>
                          <a:pt x="716" y="446"/>
                        </a:lnTo>
                        <a:lnTo>
                          <a:pt x="737" y="443"/>
                        </a:lnTo>
                        <a:lnTo>
                          <a:pt x="762" y="439"/>
                        </a:lnTo>
                        <a:lnTo>
                          <a:pt x="791" y="43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235"/>
                  <p:cNvSpPr/>
                  <p:nvPr/>
                </p:nvSpPr>
                <p:spPr>
                  <a:xfrm>
                    <a:off x="1014840" y="4129920"/>
                    <a:ext cx="540720" cy="371880"/>
                  </a:xfrm>
                  <a:custGeom>
                    <a:avLst/>
                    <a:gdLst>
                      <a:gd name="textAreaLeft" fmla="*/ 0 w 540720"/>
                      <a:gd name="textAreaRight" fmla="*/ 541080 w 540720"/>
                      <a:gd name="textAreaTop" fmla="*/ 0 h 371880"/>
                      <a:gd name="textAreaBottom" fmla="*/ 372240 h 371880"/>
                    </a:gdLst>
                    <a:ahLst/>
                    <a:rect l="textAreaLeft" t="textAreaTop" r="textAreaRight" b="textAreaBottom"/>
                    <a:pathLst>
                      <a:path w="981" h="633">
                        <a:moveTo>
                          <a:pt x="147" y="239"/>
                        </a:moveTo>
                        <a:lnTo>
                          <a:pt x="128" y="233"/>
                        </a:lnTo>
                        <a:lnTo>
                          <a:pt x="114" y="233"/>
                        </a:lnTo>
                        <a:lnTo>
                          <a:pt x="82" y="227"/>
                        </a:lnTo>
                        <a:lnTo>
                          <a:pt x="51" y="224"/>
                        </a:lnTo>
                        <a:lnTo>
                          <a:pt x="0" y="227"/>
                        </a:lnTo>
                        <a:lnTo>
                          <a:pt x="26" y="207"/>
                        </a:lnTo>
                        <a:lnTo>
                          <a:pt x="61" y="186"/>
                        </a:lnTo>
                        <a:lnTo>
                          <a:pt x="99" y="164"/>
                        </a:lnTo>
                        <a:lnTo>
                          <a:pt x="126" y="143"/>
                        </a:lnTo>
                        <a:lnTo>
                          <a:pt x="167" y="118"/>
                        </a:lnTo>
                        <a:lnTo>
                          <a:pt x="204" y="101"/>
                        </a:lnTo>
                        <a:lnTo>
                          <a:pt x="237" y="88"/>
                        </a:lnTo>
                        <a:lnTo>
                          <a:pt x="279" y="69"/>
                        </a:lnTo>
                        <a:lnTo>
                          <a:pt x="318" y="55"/>
                        </a:lnTo>
                        <a:lnTo>
                          <a:pt x="367" y="39"/>
                        </a:lnTo>
                        <a:lnTo>
                          <a:pt x="407" y="28"/>
                        </a:lnTo>
                        <a:lnTo>
                          <a:pt x="460" y="17"/>
                        </a:lnTo>
                        <a:lnTo>
                          <a:pt x="506" y="7"/>
                        </a:lnTo>
                        <a:lnTo>
                          <a:pt x="557" y="0"/>
                        </a:lnTo>
                        <a:lnTo>
                          <a:pt x="604" y="0"/>
                        </a:lnTo>
                        <a:lnTo>
                          <a:pt x="639" y="3"/>
                        </a:lnTo>
                        <a:lnTo>
                          <a:pt x="676" y="10"/>
                        </a:lnTo>
                        <a:lnTo>
                          <a:pt x="720" y="24"/>
                        </a:lnTo>
                        <a:lnTo>
                          <a:pt x="759" y="42"/>
                        </a:lnTo>
                        <a:lnTo>
                          <a:pt x="803" y="65"/>
                        </a:lnTo>
                        <a:lnTo>
                          <a:pt x="844" y="105"/>
                        </a:lnTo>
                        <a:lnTo>
                          <a:pt x="887" y="150"/>
                        </a:lnTo>
                        <a:lnTo>
                          <a:pt x="916" y="200"/>
                        </a:lnTo>
                        <a:lnTo>
                          <a:pt x="937" y="242"/>
                        </a:lnTo>
                        <a:lnTo>
                          <a:pt x="959" y="293"/>
                        </a:lnTo>
                        <a:lnTo>
                          <a:pt x="976" y="344"/>
                        </a:lnTo>
                        <a:lnTo>
                          <a:pt x="981" y="395"/>
                        </a:lnTo>
                        <a:lnTo>
                          <a:pt x="981" y="440"/>
                        </a:lnTo>
                        <a:lnTo>
                          <a:pt x="973" y="486"/>
                        </a:lnTo>
                        <a:lnTo>
                          <a:pt x="959" y="522"/>
                        </a:lnTo>
                        <a:lnTo>
                          <a:pt x="946" y="547"/>
                        </a:lnTo>
                        <a:lnTo>
                          <a:pt x="927" y="569"/>
                        </a:lnTo>
                        <a:lnTo>
                          <a:pt x="902" y="589"/>
                        </a:lnTo>
                        <a:lnTo>
                          <a:pt x="868" y="607"/>
                        </a:lnTo>
                        <a:lnTo>
                          <a:pt x="827" y="618"/>
                        </a:lnTo>
                        <a:lnTo>
                          <a:pt x="803" y="625"/>
                        </a:lnTo>
                        <a:lnTo>
                          <a:pt x="765" y="631"/>
                        </a:lnTo>
                        <a:lnTo>
                          <a:pt x="728" y="633"/>
                        </a:lnTo>
                        <a:lnTo>
                          <a:pt x="695" y="630"/>
                        </a:lnTo>
                        <a:lnTo>
                          <a:pt x="663" y="626"/>
                        </a:lnTo>
                        <a:lnTo>
                          <a:pt x="622" y="619"/>
                        </a:lnTo>
                        <a:lnTo>
                          <a:pt x="581" y="612"/>
                        </a:lnTo>
                        <a:lnTo>
                          <a:pt x="551" y="598"/>
                        </a:lnTo>
                        <a:lnTo>
                          <a:pt x="513" y="574"/>
                        </a:lnTo>
                        <a:lnTo>
                          <a:pt x="491" y="556"/>
                        </a:lnTo>
                        <a:lnTo>
                          <a:pt x="463" y="525"/>
                        </a:lnTo>
                        <a:lnTo>
                          <a:pt x="435" y="489"/>
                        </a:lnTo>
                        <a:lnTo>
                          <a:pt x="413" y="457"/>
                        </a:lnTo>
                        <a:lnTo>
                          <a:pt x="389" y="418"/>
                        </a:lnTo>
                        <a:lnTo>
                          <a:pt x="371" y="379"/>
                        </a:lnTo>
                        <a:lnTo>
                          <a:pt x="352" y="348"/>
                        </a:lnTo>
                        <a:lnTo>
                          <a:pt x="332" y="316"/>
                        </a:lnTo>
                        <a:lnTo>
                          <a:pt x="304" y="292"/>
                        </a:lnTo>
                        <a:lnTo>
                          <a:pt x="270" y="272"/>
                        </a:lnTo>
                        <a:lnTo>
                          <a:pt x="237" y="256"/>
                        </a:lnTo>
                        <a:lnTo>
                          <a:pt x="195" y="245"/>
                        </a:lnTo>
                        <a:lnTo>
                          <a:pt x="168" y="242"/>
                        </a:lnTo>
                        <a:lnTo>
                          <a:pt x="147" y="23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236"/>
                  <p:cNvSpPr/>
                  <p:nvPr/>
                </p:nvSpPr>
                <p:spPr>
                  <a:xfrm>
                    <a:off x="798840" y="4251600"/>
                    <a:ext cx="593280" cy="711360"/>
                  </a:xfrm>
                  <a:custGeom>
                    <a:avLst/>
                    <a:gdLst>
                      <a:gd name="textAreaLeft" fmla="*/ 0 w 593280"/>
                      <a:gd name="textAreaRight" fmla="*/ 593640 w 593280"/>
                      <a:gd name="textAreaTop" fmla="*/ 0 h 711360"/>
                      <a:gd name="textAreaBottom" fmla="*/ 711720 h 711360"/>
                    </a:gdLst>
                    <a:ahLst/>
                    <a:rect l="textAreaLeft" t="textAreaTop" r="textAreaRight" b="textAreaBottom"/>
                    <a:pathLst>
                      <a:path w="1074" h="1217">
                        <a:moveTo>
                          <a:pt x="343" y="29"/>
                        </a:moveTo>
                        <a:lnTo>
                          <a:pt x="321" y="45"/>
                        </a:lnTo>
                        <a:lnTo>
                          <a:pt x="297" y="62"/>
                        </a:lnTo>
                        <a:lnTo>
                          <a:pt x="279" y="76"/>
                        </a:lnTo>
                        <a:lnTo>
                          <a:pt x="258" y="101"/>
                        </a:lnTo>
                        <a:lnTo>
                          <a:pt x="244" y="124"/>
                        </a:lnTo>
                        <a:lnTo>
                          <a:pt x="230" y="149"/>
                        </a:lnTo>
                        <a:lnTo>
                          <a:pt x="218" y="178"/>
                        </a:lnTo>
                        <a:lnTo>
                          <a:pt x="206" y="217"/>
                        </a:lnTo>
                        <a:lnTo>
                          <a:pt x="194" y="256"/>
                        </a:lnTo>
                        <a:lnTo>
                          <a:pt x="188" y="293"/>
                        </a:lnTo>
                        <a:lnTo>
                          <a:pt x="179" y="330"/>
                        </a:lnTo>
                        <a:lnTo>
                          <a:pt x="177" y="361"/>
                        </a:lnTo>
                        <a:lnTo>
                          <a:pt x="174" y="391"/>
                        </a:lnTo>
                        <a:lnTo>
                          <a:pt x="174" y="423"/>
                        </a:lnTo>
                        <a:lnTo>
                          <a:pt x="170" y="444"/>
                        </a:lnTo>
                        <a:lnTo>
                          <a:pt x="165" y="467"/>
                        </a:lnTo>
                        <a:lnTo>
                          <a:pt x="158" y="484"/>
                        </a:lnTo>
                        <a:lnTo>
                          <a:pt x="149" y="504"/>
                        </a:lnTo>
                        <a:lnTo>
                          <a:pt x="140" y="525"/>
                        </a:lnTo>
                        <a:lnTo>
                          <a:pt x="127" y="548"/>
                        </a:lnTo>
                        <a:lnTo>
                          <a:pt x="106" y="576"/>
                        </a:lnTo>
                        <a:lnTo>
                          <a:pt x="88" y="603"/>
                        </a:lnTo>
                        <a:lnTo>
                          <a:pt x="71" y="633"/>
                        </a:lnTo>
                        <a:lnTo>
                          <a:pt x="55" y="654"/>
                        </a:lnTo>
                        <a:lnTo>
                          <a:pt x="40" y="676"/>
                        </a:lnTo>
                        <a:lnTo>
                          <a:pt x="27" y="699"/>
                        </a:lnTo>
                        <a:lnTo>
                          <a:pt x="17" y="724"/>
                        </a:lnTo>
                        <a:lnTo>
                          <a:pt x="10" y="745"/>
                        </a:lnTo>
                        <a:lnTo>
                          <a:pt x="5" y="771"/>
                        </a:lnTo>
                        <a:lnTo>
                          <a:pt x="0" y="801"/>
                        </a:lnTo>
                        <a:lnTo>
                          <a:pt x="0" y="832"/>
                        </a:lnTo>
                        <a:lnTo>
                          <a:pt x="3" y="855"/>
                        </a:lnTo>
                        <a:lnTo>
                          <a:pt x="10" y="895"/>
                        </a:lnTo>
                        <a:lnTo>
                          <a:pt x="16" y="918"/>
                        </a:lnTo>
                        <a:lnTo>
                          <a:pt x="21" y="936"/>
                        </a:lnTo>
                        <a:lnTo>
                          <a:pt x="32" y="954"/>
                        </a:lnTo>
                        <a:lnTo>
                          <a:pt x="41" y="964"/>
                        </a:lnTo>
                        <a:lnTo>
                          <a:pt x="51" y="975"/>
                        </a:lnTo>
                        <a:lnTo>
                          <a:pt x="66" y="984"/>
                        </a:lnTo>
                        <a:lnTo>
                          <a:pt x="90" y="991"/>
                        </a:lnTo>
                        <a:lnTo>
                          <a:pt x="109" y="995"/>
                        </a:lnTo>
                        <a:lnTo>
                          <a:pt x="128" y="995"/>
                        </a:lnTo>
                        <a:lnTo>
                          <a:pt x="148" y="990"/>
                        </a:lnTo>
                        <a:lnTo>
                          <a:pt x="160" y="985"/>
                        </a:lnTo>
                        <a:lnTo>
                          <a:pt x="177" y="977"/>
                        </a:lnTo>
                        <a:lnTo>
                          <a:pt x="190" y="964"/>
                        </a:lnTo>
                        <a:lnTo>
                          <a:pt x="202" y="949"/>
                        </a:lnTo>
                        <a:lnTo>
                          <a:pt x="211" y="935"/>
                        </a:lnTo>
                        <a:lnTo>
                          <a:pt x="216" y="916"/>
                        </a:lnTo>
                        <a:lnTo>
                          <a:pt x="220" y="895"/>
                        </a:lnTo>
                        <a:lnTo>
                          <a:pt x="223" y="875"/>
                        </a:lnTo>
                        <a:lnTo>
                          <a:pt x="225" y="853"/>
                        </a:lnTo>
                        <a:lnTo>
                          <a:pt x="231" y="833"/>
                        </a:lnTo>
                        <a:lnTo>
                          <a:pt x="236" y="817"/>
                        </a:lnTo>
                        <a:lnTo>
                          <a:pt x="245" y="800"/>
                        </a:lnTo>
                        <a:lnTo>
                          <a:pt x="252" y="787"/>
                        </a:lnTo>
                        <a:lnTo>
                          <a:pt x="265" y="770"/>
                        </a:lnTo>
                        <a:lnTo>
                          <a:pt x="284" y="753"/>
                        </a:lnTo>
                        <a:lnTo>
                          <a:pt x="300" y="746"/>
                        </a:lnTo>
                        <a:lnTo>
                          <a:pt x="319" y="744"/>
                        </a:lnTo>
                        <a:lnTo>
                          <a:pt x="336" y="742"/>
                        </a:lnTo>
                        <a:lnTo>
                          <a:pt x="355" y="743"/>
                        </a:lnTo>
                        <a:lnTo>
                          <a:pt x="373" y="753"/>
                        </a:lnTo>
                        <a:lnTo>
                          <a:pt x="386" y="765"/>
                        </a:lnTo>
                        <a:lnTo>
                          <a:pt x="400" y="786"/>
                        </a:lnTo>
                        <a:lnTo>
                          <a:pt x="409" y="806"/>
                        </a:lnTo>
                        <a:lnTo>
                          <a:pt x="420" y="828"/>
                        </a:lnTo>
                        <a:lnTo>
                          <a:pt x="432" y="860"/>
                        </a:lnTo>
                        <a:lnTo>
                          <a:pt x="437" y="873"/>
                        </a:lnTo>
                        <a:lnTo>
                          <a:pt x="442" y="889"/>
                        </a:lnTo>
                        <a:lnTo>
                          <a:pt x="445" y="916"/>
                        </a:lnTo>
                        <a:lnTo>
                          <a:pt x="447" y="943"/>
                        </a:lnTo>
                        <a:lnTo>
                          <a:pt x="448" y="975"/>
                        </a:lnTo>
                        <a:lnTo>
                          <a:pt x="450" y="997"/>
                        </a:lnTo>
                        <a:lnTo>
                          <a:pt x="455" y="1019"/>
                        </a:lnTo>
                        <a:lnTo>
                          <a:pt x="459" y="1040"/>
                        </a:lnTo>
                        <a:lnTo>
                          <a:pt x="468" y="1062"/>
                        </a:lnTo>
                        <a:lnTo>
                          <a:pt x="480" y="1092"/>
                        </a:lnTo>
                        <a:lnTo>
                          <a:pt x="489" y="1110"/>
                        </a:lnTo>
                        <a:lnTo>
                          <a:pt x="500" y="1127"/>
                        </a:lnTo>
                        <a:lnTo>
                          <a:pt x="517" y="1148"/>
                        </a:lnTo>
                        <a:lnTo>
                          <a:pt x="529" y="1160"/>
                        </a:lnTo>
                        <a:lnTo>
                          <a:pt x="541" y="1173"/>
                        </a:lnTo>
                        <a:lnTo>
                          <a:pt x="560" y="1187"/>
                        </a:lnTo>
                        <a:lnTo>
                          <a:pt x="577" y="1198"/>
                        </a:lnTo>
                        <a:lnTo>
                          <a:pt x="591" y="1205"/>
                        </a:lnTo>
                        <a:lnTo>
                          <a:pt x="601" y="1210"/>
                        </a:lnTo>
                        <a:lnTo>
                          <a:pt x="613" y="1214"/>
                        </a:lnTo>
                        <a:lnTo>
                          <a:pt x="625" y="1216"/>
                        </a:lnTo>
                        <a:lnTo>
                          <a:pt x="635" y="1217"/>
                        </a:lnTo>
                        <a:lnTo>
                          <a:pt x="648" y="1217"/>
                        </a:lnTo>
                        <a:lnTo>
                          <a:pt x="657" y="1216"/>
                        </a:lnTo>
                        <a:lnTo>
                          <a:pt x="669" y="1212"/>
                        </a:lnTo>
                        <a:lnTo>
                          <a:pt x="678" y="1209"/>
                        </a:lnTo>
                        <a:lnTo>
                          <a:pt x="689" y="1203"/>
                        </a:lnTo>
                        <a:lnTo>
                          <a:pt x="702" y="1191"/>
                        </a:lnTo>
                        <a:lnTo>
                          <a:pt x="712" y="1180"/>
                        </a:lnTo>
                        <a:lnTo>
                          <a:pt x="721" y="1168"/>
                        </a:lnTo>
                        <a:lnTo>
                          <a:pt x="726" y="1155"/>
                        </a:lnTo>
                        <a:lnTo>
                          <a:pt x="732" y="1143"/>
                        </a:lnTo>
                        <a:lnTo>
                          <a:pt x="735" y="1132"/>
                        </a:lnTo>
                        <a:lnTo>
                          <a:pt x="738" y="1122"/>
                        </a:lnTo>
                        <a:lnTo>
                          <a:pt x="742" y="1108"/>
                        </a:lnTo>
                        <a:lnTo>
                          <a:pt x="745" y="1091"/>
                        </a:lnTo>
                        <a:lnTo>
                          <a:pt x="749" y="1075"/>
                        </a:lnTo>
                        <a:lnTo>
                          <a:pt x="752" y="1060"/>
                        </a:lnTo>
                        <a:lnTo>
                          <a:pt x="753" y="1046"/>
                        </a:lnTo>
                        <a:lnTo>
                          <a:pt x="753" y="1030"/>
                        </a:lnTo>
                        <a:lnTo>
                          <a:pt x="753" y="1016"/>
                        </a:lnTo>
                        <a:lnTo>
                          <a:pt x="753" y="995"/>
                        </a:lnTo>
                        <a:lnTo>
                          <a:pt x="749" y="964"/>
                        </a:lnTo>
                        <a:lnTo>
                          <a:pt x="744" y="937"/>
                        </a:lnTo>
                        <a:lnTo>
                          <a:pt x="738" y="914"/>
                        </a:lnTo>
                        <a:lnTo>
                          <a:pt x="733" y="897"/>
                        </a:lnTo>
                        <a:lnTo>
                          <a:pt x="729" y="886"/>
                        </a:lnTo>
                        <a:lnTo>
                          <a:pt x="721" y="866"/>
                        </a:lnTo>
                        <a:lnTo>
                          <a:pt x="714" y="849"/>
                        </a:lnTo>
                        <a:lnTo>
                          <a:pt x="709" y="839"/>
                        </a:lnTo>
                        <a:lnTo>
                          <a:pt x="704" y="831"/>
                        </a:lnTo>
                        <a:lnTo>
                          <a:pt x="700" y="822"/>
                        </a:lnTo>
                        <a:lnTo>
                          <a:pt x="695" y="807"/>
                        </a:lnTo>
                        <a:lnTo>
                          <a:pt x="695" y="793"/>
                        </a:lnTo>
                        <a:lnTo>
                          <a:pt x="701" y="783"/>
                        </a:lnTo>
                        <a:lnTo>
                          <a:pt x="707" y="774"/>
                        </a:lnTo>
                        <a:lnTo>
                          <a:pt x="715" y="767"/>
                        </a:lnTo>
                        <a:lnTo>
                          <a:pt x="729" y="760"/>
                        </a:lnTo>
                        <a:lnTo>
                          <a:pt x="742" y="759"/>
                        </a:lnTo>
                        <a:lnTo>
                          <a:pt x="756" y="763"/>
                        </a:lnTo>
                        <a:lnTo>
                          <a:pt x="764" y="766"/>
                        </a:lnTo>
                        <a:lnTo>
                          <a:pt x="776" y="774"/>
                        </a:lnTo>
                        <a:lnTo>
                          <a:pt x="783" y="780"/>
                        </a:lnTo>
                        <a:lnTo>
                          <a:pt x="793" y="788"/>
                        </a:lnTo>
                        <a:lnTo>
                          <a:pt x="799" y="795"/>
                        </a:lnTo>
                        <a:lnTo>
                          <a:pt x="803" y="805"/>
                        </a:lnTo>
                        <a:lnTo>
                          <a:pt x="810" y="818"/>
                        </a:lnTo>
                        <a:lnTo>
                          <a:pt x="813" y="828"/>
                        </a:lnTo>
                        <a:lnTo>
                          <a:pt x="817" y="841"/>
                        </a:lnTo>
                        <a:lnTo>
                          <a:pt x="819" y="863"/>
                        </a:lnTo>
                        <a:lnTo>
                          <a:pt x="818" y="883"/>
                        </a:lnTo>
                        <a:lnTo>
                          <a:pt x="819" y="904"/>
                        </a:lnTo>
                        <a:lnTo>
                          <a:pt x="820" y="923"/>
                        </a:lnTo>
                        <a:lnTo>
                          <a:pt x="821" y="942"/>
                        </a:lnTo>
                        <a:lnTo>
                          <a:pt x="828" y="963"/>
                        </a:lnTo>
                        <a:lnTo>
                          <a:pt x="840" y="980"/>
                        </a:lnTo>
                        <a:lnTo>
                          <a:pt x="856" y="995"/>
                        </a:lnTo>
                        <a:lnTo>
                          <a:pt x="868" y="1002"/>
                        </a:lnTo>
                        <a:lnTo>
                          <a:pt x="883" y="1010"/>
                        </a:lnTo>
                        <a:lnTo>
                          <a:pt x="903" y="1016"/>
                        </a:lnTo>
                        <a:lnTo>
                          <a:pt x="922" y="1019"/>
                        </a:lnTo>
                        <a:lnTo>
                          <a:pt x="950" y="1024"/>
                        </a:lnTo>
                        <a:lnTo>
                          <a:pt x="972" y="1019"/>
                        </a:lnTo>
                        <a:lnTo>
                          <a:pt x="1006" y="1010"/>
                        </a:lnTo>
                        <a:lnTo>
                          <a:pt x="1034" y="988"/>
                        </a:lnTo>
                        <a:lnTo>
                          <a:pt x="1052" y="959"/>
                        </a:lnTo>
                        <a:lnTo>
                          <a:pt x="1065" y="927"/>
                        </a:lnTo>
                        <a:lnTo>
                          <a:pt x="1071" y="897"/>
                        </a:lnTo>
                        <a:lnTo>
                          <a:pt x="1074" y="866"/>
                        </a:lnTo>
                        <a:lnTo>
                          <a:pt x="1074" y="836"/>
                        </a:lnTo>
                        <a:lnTo>
                          <a:pt x="1072" y="814"/>
                        </a:lnTo>
                        <a:lnTo>
                          <a:pt x="1070" y="791"/>
                        </a:lnTo>
                        <a:lnTo>
                          <a:pt x="1065" y="764"/>
                        </a:lnTo>
                        <a:lnTo>
                          <a:pt x="1059" y="723"/>
                        </a:lnTo>
                        <a:lnTo>
                          <a:pt x="1051" y="691"/>
                        </a:lnTo>
                        <a:lnTo>
                          <a:pt x="1042" y="650"/>
                        </a:lnTo>
                        <a:lnTo>
                          <a:pt x="1033" y="619"/>
                        </a:lnTo>
                        <a:lnTo>
                          <a:pt x="1011" y="546"/>
                        </a:lnTo>
                        <a:lnTo>
                          <a:pt x="986" y="483"/>
                        </a:lnTo>
                        <a:lnTo>
                          <a:pt x="952" y="416"/>
                        </a:lnTo>
                        <a:lnTo>
                          <a:pt x="915" y="354"/>
                        </a:lnTo>
                        <a:lnTo>
                          <a:pt x="878" y="301"/>
                        </a:lnTo>
                        <a:lnTo>
                          <a:pt x="837" y="254"/>
                        </a:lnTo>
                        <a:lnTo>
                          <a:pt x="799" y="218"/>
                        </a:lnTo>
                        <a:lnTo>
                          <a:pt x="726" y="150"/>
                        </a:lnTo>
                        <a:lnTo>
                          <a:pt x="667" y="103"/>
                        </a:lnTo>
                        <a:lnTo>
                          <a:pt x="619" y="67"/>
                        </a:lnTo>
                        <a:lnTo>
                          <a:pt x="553" y="25"/>
                        </a:lnTo>
                        <a:lnTo>
                          <a:pt x="510" y="10"/>
                        </a:lnTo>
                        <a:lnTo>
                          <a:pt x="456" y="0"/>
                        </a:lnTo>
                        <a:lnTo>
                          <a:pt x="430" y="1"/>
                        </a:lnTo>
                        <a:lnTo>
                          <a:pt x="402" y="4"/>
                        </a:lnTo>
                        <a:lnTo>
                          <a:pt x="369" y="15"/>
                        </a:lnTo>
                        <a:lnTo>
                          <a:pt x="343" y="29"/>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237"/>
                  <p:cNvSpPr/>
                  <p:nvPr/>
                </p:nvSpPr>
                <p:spPr>
                  <a:xfrm>
                    <a:off x="1032840" y="4204800"/>
                    <a:ext cx="480600" cy="563760"/>
                  </a:xfrm>
                  <a:custGeom>
                    <a:avLst/>
                    <a:gdLst>
                      <a:gd name="textAreaLeft" fmla="*/ 0 w 480600"/>
                      <a:gd name="textAreaRight" fmla="*/ 480960 w 480600"/>
                      <a:gd name="textAreaTop" fmla="*/ 0 h 563760"/>
                      <a:gd name="textAreaBottom" fmla="*/ 564120 h 563760"/>
                    </a:gdLst>
                    <a:ahLst/>
                    <a:rect l="textAreaLeft" t="textAreaTop" r="textAreaRight" b="textAreaBottom"/>
                    <a:pathLst>
                      <a:path w="872" h="965">
                        <a:moveTo>
                          <a:pt x="0" y="86"/>
                        </a:moveTo>
                        <a:lnTo>
                          <a:pt x="31" y="71"/>
                        </a:lnTo>
                        <a:lnTo>
                          <a:pt x="67" y="46"/>
                        </a:lnTo>
                        <a:lnTo>
                          <a:pt x="112" y="27"/>
                        </a:lnTo>
                        <a:lnTo>
                          <a:pt x="141" y="17"/>
                        </a:lnTo>
                        <a:lnTo>
                          <a:pt x="180" y="7"/>
                        </a:lnTo>
                        <a:lnTo>
                          <a:pt x="224" y="2"/>
                        </a:lnTo>
                        <a:lnTo>
                          <a:pt x="258" y="0"/>
                        </a:lnTo>
                        <a:lnTo>
                          <a:pt x="293" y="2"/>
                        </a:lnTo>
                        <a:lnTo>
                          <a:pt x="325" y="5"/>
                        </a:lnTo>
                        <a:lnTo>
                          <a:pt x="351" y="9"/>
                        </a:lnTo>
                        <a:lnTo>
                          <a:pt x="372" y="12"/>
                        </a:lnTo>
                        <a:lnTo>
                          <a:pt x="402" y="19"/>
                        </a:lnTo>
                        <a:lnTo>
                          <a:pt x="436" y="28"/>
                        </a:lnTo>
                        <a:lnTo>
                          <a:pt x="464" y="37"/>
                        </a:lnTo>
                        <a:lnTo>
                          <a:pt x="490" y="46"/>
                        </a:lnTo>
                        <a:lnTo>
                          <a:pt x="524" y="61"/>
                        </a:lnTo>
                        <a:lnTo>
                          <a:pt x="543" y="71"/>
                        </a:lnTo>
                        <a:lnTo>
                          <a:pt x="571" y="88"/>
                        </a:lnTo>
                        <a:lnTo>
                          <a:pt x="599" y="106"/>
                        </a:lnTo>
                        <a:lnTo>
                          <a:pt x="627" y="125"/>
                        </a:lnTo>
                        <a:lnTo>
                          <a:pt x="649" y="139"/>
                        </a:lnTo>
                        <a:lnTo>
                          <a:pt x="672" y="156"/>
                        </a:lnTo>
                        <a:lnTo>
                          <a:pt x="690" y="174"/>
                        </a:lnTo>
                        <a:lnTo>
                          <a:pt x="713" y="194"/>
                        </a:lnTo>
                        <a:lnTo>
                          <a:pt x="732" y="215"/>
                        </a:lnTo>
                        <a:lnTo>
                          <a:pt x="756" y="237"/>
                        </a:lnTo>
                        <a:lnTo>
                          <a:pt x="778" y="265"/>
                        </a:lnTo>
                        <a:lnTo>
                          <a:pt x="799" y="290"/>
                        </a:lnTo>
                        <a:lnTo>
                          <a:pt x="814" y="315"/>
                        </a:lnTo>
                        <a:lnTo>
                          <a:pt x="830" y="344"/>
                        </a:lnTo>
                        <a:lnTo>
                          <a:pt x="843" y="367"/>
                        </a:lnTo>
                        <a:lnTo>
                          <a:pt x="855" y="392"/>
                        </a:lnTo>
                        <a:lnTo>
                          <a:pt x="862" y="421"/>
                        </a:lnTo>
                        <a:lnTo>
                          <a:pt x="867" y="444"/>
                        </a:lnTo>
                        <a:lnTo>
                          <a:pt x="868" y="472"/>
                        </a:lnTo>
                        <a:lnTo>
                          <a:pt x="871" y="490"/>
                        </a:lnTo>
                        <a:lnTo>
                          <a:pt x="872" y="511"/>
                        </a:lnTo>
                        <a:lnTo>
                          <a:pt x="872" y="531"/>
                        </a:lnTo>
                        <a:lnTo>
                          <a:pt x="868" y="550"/>
                        </a:lnTo>
                        <a:lnTo>
                          <a:pt x="861" y="573"/>
                        </a:lnTo>
                        <a:lnTo>
                          <a:pt x="853" y="585"/>
                        </a:lnTo>
                        <a:lnTo>
                          <a:pt x="838" y="591"/>
                        </a:lnTo>
                        <a:lnTo>
                          <a:pt x="824" y="591"/>
                        </a:lnTo>
                        <a:lnTo>
                          <a:pt x="803" y="585"/>
                        </a:lnTo>
                        <a:lnTo>
                          <a:pt x="784" y="578"/>
                        </a:lnTo>
                        <a:lnTo>
                          <a:pt x="770" y="566"/>
                        </a:lnTo>
                        <a:lnTo>
                          <a:pt x="758" y="552"/>
                        </a:lnTo>
                        <a:lnTo>
                          <a:pt x="749" y="538"/>
                        </a:lnTo>
                        <a:lnTo>
                          <a:pt x="742" y="522"/>
                        </a:lnTo>
                        <a:lnTo>
                          <a:pt x="739" y="497"/>
                        </a:lnTo>
                        <a:lnTo>
                          <a:pt x="736" y="477"/>
                        </a:lnTo>
                        <a:lnTo>
                          <a:pt x="732" y="451"/>
                        </a:lnTo>
                        <a:lnTo>
                          <a:pt x="728" y="430"/>
                        </a:lnTo>
                        <a:lnTo>
                          <a:pt x="718" y="409"/>
                        </a:lnTo>
                        <a:lnTo>
                          <a:pt x="708" y="395"/>
                        </a:lnTo>
                        <a:lnTo>
                          <a:pt x="696" y="390"/>
                        </a:lnTo>
                        <a:lnTo>
                          <a:pt x="679" y="396"/>
                        </a:lnTo>
                        <a:lnTo>
                          <a:pt x="670" y="408"/>
                        </a:lnTo>
                        <a:lnTo>
                          <a:pt x="663" y="430"/>
                        </a:lnTo>
                        <a:lnTo>
                          <a:pt x="660" y="451"/>
                        </a:lnTo>
                        <a:lnTo>
                          <a:pt x="660" y="463"/>
                        </a:lnTo>
                        <a:lnTo>
                          <a:pt x="662" y="478"/>
                        </a:lnTo>
                        <a:lnTo>
                          <a:pt x="669" y="495"/>
                        </a:lnTo>
                        <a:lnTo>
                          <a:pt x="677" y="515"/>
                        </a:lnTo>
                        <a:lnTo>
                          <a:pt x="689" y="533"/>
                        </a:lnTo>
                        <a:lnTo>
                          <a:pt x="696" y="556"/>
                        </a:lnTo>
                        <a:lnTo>
                          <a:pt x="707" y="579"/>
                        </a:lnTo>
                        <a:lnTo>
                          <a:pt x="717" y="605"/>
                        </a:lnTo>
                        <a:lnTo>
                          <a:pt x="724" y="626"/>
                        </a:lnTo>
                        <a:lnTo>
                          <a:pt x="732" y="654"/>
                        </a:lnTo>
                        <a:lnTo>
                          <a:pt x="739" y="675"/>
                        </a:lnTo>
                        <a:lnTo>
                          <a:pt x="743" y="703"/>
                        </a:lnTo>
                        <a:lnTo>
                          <a:pt x="747" y="734"/>
                        </a:lnTo>
                        <a:lnTo>
                          <a:pt x="749" y="758"/>
                        </a:lnTo>
                        <a:lnTo>
                          <a:pt x="750" y="782"/>
                        </a:lnTo>
                        <a:lnTo>
                          <a:pt x="747" y="807"/>
                        </a:lnTo>
                        <a:lnTo>
                          <a:pt x="741" y="834"/>
                        </a:lnTo>
                        <a:lnTo>
                          <a:pt x="734" y="859"/>
                        </a:lnTo>
                        <a:lnTo>
                          <a:pt x="727" y="880"/>
                        </a:lnTo>
                        <a:lnTo>
                          <a:pt x="715" y="901"/>
                        </a:lnTo>
                        <a:lnTo>
                          <a:pt x="702" y="916"/>
                        </a:lnTo>
                        <a:lnTo>
                          <a:pt x="689" y="930"/>
                        </a:lnTo>
                        <a:lnTo>
                          <a:pt x="674" y="941"/>
                        </a:lnTo>
                        <a:lnTo>
                          <a:pt x="660" y="948"/>
                        </a:lnTo>
                        <a:lnTo>
                          <a:pt x="638" y="955"/>
                        </a:lnTo>
                        <a:lnTo>
                          <a:pt x="615" y="961"/>
                        </a:lnTo>
                        <a:lnTo>
                          <a:pt x="590" y="965"/>
                        </a:lnTo>
                        <a:lnTo>
                          <a:pt x="571" y="964"/>
                        </a:lnTo>
                        <a:lnTo>
                          <a:pt x="549" y="962"/>
                        </a:lnTo>
                        <a:lnTo>
                          <a:pt x="531" y="954"/>
                        </a:lnTo>
                        <a:lnTo>
                          <a:pt x="518" y="944"/>
                        </a:lnTo>
                        <a:lnTo>
                          <a:pt x="506" y="929"/>
                        </a:lnTo>
                        <a:lnTo>
                          <a:pt x="499" y="908"/>
                        </a:lnTo>
                        <a:lnTo>
                          <a:pt x="499" y="883"/>
                        </a:lnTo>
                        <a:lnTo>
                          <a:pt x="496" y="855"/>
                        </a:lnTo>
                        <a:lnTo>
                          <a:pt x="496" y="828"/>
                        </a:lnTo>
                        <a:lnTo>
                          <a:pt x="499" y="796"/>
                        </a:lnTo>
                        <a:lnTo>
                          <a:pt x="505" y="760"/>
                        </a:lnTo>
                        <a:lnTo>
                          <a:pt x="511" y="730"/>
                        </a:lnTo>
                        <a:lnTo>
                          <a:pt x="524" y="694"/>
                        </a:lnTo>
                        <a:lnTo>
                          <a:pt x="519" y="705"/>
                        </a:lnTo>
                        <a:lnTo>
                          <a:pt x="533" y="673"/>
                        </a:lnTo>
                        <a:lnTo>
                          <a:pt x="539" y="650"/>
                        </a:lnTo>
                        <a:lnTo>
                          <a:pt x="542" y="629"/>
                        </a:lnTo>
                        <a:lnTo>
                          <a:pt x="544" y="597"/>
                        </a:lnTo>
                        <a:lnTo>
                          <a:pt x="542" y="567"/>
                        </a:lnTo>
                        <a:lnTo>
                          <a:pt x="533" y="546"/>
                        </a:lnTo>
                        <a:lnTo>
                          <a:pt x="519" y="527"/>
                        </a:lnTo>
                        <a:lnTo>
                          <a:pt x="509" y="517"/>
                        </a:lnTo>
                        <a:lnTo>
                          <a:pt x="499" y="517"/>
                        </a:lnTo>
                        <a:lnTo>
                          <a:pt x="487" y="525"/>
                        </a:lnTo>
                        <a:lnTo>
                          <a:pt x="482" y="533"/>
                        </a:lnTo>
                        <a:lnTo>
                          <a:pt x="477" y="545"/>
                        </a:lnTo>
                        <a:lnTo>
                          <a:pt x="477" y="560"/>
                        </a:lnTo>
                        <a:lnTo>
                          <a:pt x="477" y="581"/>
                        </a:lnTo>
                        <a:lnTo>
                          <a:pt x="485" y="605"/>
                        </a:lnTo>
                        <a:lnTo>
                          <a:pt x="485" y="627"/>
                        </a:lnTo>
                        <a:lnTo>
                          <a:pt x="479" y="648"/>
                        </a:lnTo>
                        <a:lnTo>
                          <a:pt x="471" y="668"/>
                        </a:lnTo>
                        <a:lnTo>
                          <a:pt x="456" y="682"/>
                        </a:lnTo>
                        <a:lnTo>
                          <a:pt x="437" y="690"/>
                        </a:lnTo>
                        <a:lnTo>
                          <a:pt x="421" y="696"/>
                        </a:lnTo>
                        <a:lnTo>
                          <a:pt x="396" y="700"/>
                        </a:lnTo>
                        <a:lnTo>
                          <a:pt x="376" y="694"/>
                        </a:lnTo>
                        <a:lnTo>
                          <a:pt x="364" y="686"/>
                        </a:lnTo>
                        <a:lnTo>
                          <a:pt x="354" y="668"/>
                        </a:lnTo>
                        <a:lnTo>
                          <a:pt x="344" y="639"/>
                        </a:lnTo>
                        <a:lnTo>
                          <a:pt x="339" y="602"/>
                        </a:lnTo>
                        <a:lnTo>
                          <a:pt x="341" y="559"/>
                        </a:lnTo>
                        <a:lnTo>
                          <a:pt x="349" y="518"/>
                        </a:lnTo>
                        <a:lnTo>
                          <a:pt x="346" y="471"/>
                        </a:lnTo>
                        <a:lnTo>
                          <a:pt x="333" y="427"/>
                        </a:lnTo>
                        <a:lnTo>
                          <a:pt x="323" y="388"/>
                        </a:lnTo>
                        <a:lnTo>
                          <a:pt x="304" y="348"/>
                        </a:lnTo>
                        <a:lnTo>
                          <a:pt x="275" y="291"/>
                        </a:lnTo>
                        <a:lnTo>
                          <a:pt x="245" y="256"/>
                        </a:lnTo>
                        <a:lnTo>
                          <a:pt x="212" y="218"/>
                        </a:lnTo>
                        <a:lnTo>
                          <a:pt x="178" y="184"/>
                        </a:lnTo>
                        <a:lnTo>
                          <a:pt x="148" y="161"/>
                        </a:lnTo>
                        <a:lnTo>
                          <a:pt x="123" y="143"/>
                        </a:lnTo>
                        <a:lnTo>
                          <a:pt x="89" y="122"/>
                        </a:lnTo>
                        <a:lnTo>
                          <a:pt x="50" y="103"/>
                        </a:lnTo>
                        <a:lnTo>
                          <a:pt x="0" y="86"/>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238"/>
                  <p:cNvSpPr/>
                  <p:nvPr/>
                </p:nvSpPr>
                <p:spPr>
                  <a:xfrm>
                    <a:off x="670680" y="4244400"/>
                    <a:ext cx="366120" cy="533520"/>
                  </a:xfrm>
                  <a:custGeom>
                    <a:avLst/>
                    <a:gdLst>
                      <a:gd name="textAreaLeft" fmla="*/ 0 w 366120"/>
                      <a:gd name="textAreaRight" fmla="*/ 366480 w 366120"/>
                      <a:gd name="textAreaTop" fmla="*/ 0 h 533520"/>
                      <a:gd name="textAreaBottom" fmla="*/ 533880 h 533520"/>
                    </a:gdLst>
                    <a:ahLst/>
                    <a:rect l="textAreaLeft" t="textAreaTop" r="textAreaRight" b="textAreaBottom"/>
                    <a:pathLst>
                      <a:path w="666" h="913">
                        <a:moveTo>
                          <a:pt x="625" y="63"/>
                        </a:moveTo>
                        <a:lnTo>
                          <a:pt x="647" y="41"/>
                        </a:lnTo>
                        <a:lnTo>
                          <a:pt x="666" y="16"/>
                        </a:lnTo>
                        <a:lnTo>
                          <a:pt x="634" y="6"/>
                        </a:lnTo>
                        <a:lnTo>
                          <a:pt x="586" y="3"/>
                        </a:lnTo>
                        <a:lnTo>
                          <a:pt x="552" y="0"/>
                        </a:lnTo>
                        <a:lnTo>
                          <a:pt x="511" y="4"/>
                        </a:lnTo>
                        <a:lnTo>
                          <a:pt x="460" y="15"/>
                        </a:lnTo>
                        <a:lnTo>
                          <a:pt x="417" y="25"/>
                        </a:lnTo>
                        <a:lnTo>
                          <a:pt x="362" y="47"/>
                        </a:lnTo>
                        <a:lnTo>
                          <a:pt x="314" y="67"/>
                        </a:lnTo>
                        <a:lnTo>
                          <a:pt x="268" y="93"/>
                        </a:lnTo>
                        <a:lnTo>
                          <a:pt x="228" y="120"/>
                        </a:lnTo>
                        <a:lnTo>
                          <a:pt x="185" y="161"/>
                        </a:lnTo>
                        <a:lnTo>
                          <a:pt x="144" y="205"/>
                        </a:lnTo>
                        <a:lnTo>
                          <a:pt x="111" y="260"/>
                        </a:lnTo>
                        <a:lnTo>
                          <a:pt x="102" y="277"/>
                        </a:lnTo>
                        <a:lnTo>
                          <a:pt x="91" y="298"/>
                        </a:lnTo>
                        <a:lnTo>
                          <a:pt x="81" y="319"/>
                        </a:lnTo>
                        <a:lnTo>
                          <a:pt x="73" y="338"/>
                        </a:lnTo>
                        <a:lnTo>
                          <a:pt x="63" y="362"/>
                        </a:lnTo>
                        <a:lnTo>
                          <a:pt x="56" y="386"/>
                        </a:lnTo>
                        <a:lnTo>
                          <a:pt x="50" y="403"/>
                        </a:lnTo>
                        <a:lnTo>
                          <a:pt x="41" y="428"/>
                        </a:lnTo>
                        <a:lnTo>
                          <a:pt x="32" y="456"/>
                        </a:lnTo>
                        <a:lnTo>
                          <a:pt x="25" y="476"/>
                        </a:lnTo>
                        <a:lnTo>
                          <a:pt x="20" y="494"/>
                        </a:lnTo>
                        <a:lnTo>
                          <a:pt x="13" y="523"/>
                        </a:lnTo>
                        <a:lnTo>
                          <a:pt x="6" y="553"/>
                        </a:lnTo>
                        <a:lnTo>
                          <a:pt x="4" y="583"/>
                        </a:lnTo>
                        <a:lnTo>
                          <a:pt x="1" y="613"/>
                        </a:lnTo>
                        <a:lnTo>
                          <a:pt x="0" y="639"/>
                        </a:lnTo>
                        <a:lnTo>
                          <a:pt x="0" y="652"/>
                        </a:lnTo>
                        <a:lnTo>
                          <a:pt x="0" y="673"/>
                        </a:lnTo>
                        <a:lnTo>
                          <a:pt x="4" y="700"/>
                        </a:lnTo>
                        <a:lnTo>
                          <a:pt x="5" y="721"/>
                        </a:lnTo>
                        <a:lnTo>
                          <a:pt x="7" y="742"/>
                        </a:lnTo>
                        <a:lnTo>
                          <a:pt x="14" y="762"/>
                        </a:lnTo>
                        <a:lnTo>
                          <a:pt x="19" y="779"/>
                        </a:lnTo>
                        <a:lnTo>
                          <a:pt x="26" y="797"/>
                        </a:lnTo>
                        <a:lnTo>
                          <a:pt x="38" y="818"/>
                        </a:lnTo>
                        <a:lnTo>
                          <a:pt x="47" y="832"/>
                        </a:lnTo>
                        <a:lnTo>
                          <a:pt x="60" y="850"/>
                        </a:lnTo>
                        <a:lnTo>
                          <a:pt x="73" y="864"/>
                        </a:lnTo>
                        <a:lnTo>
                          <a:pt x="86" y="878"/>
                        </a:lnTo>
                        <a:lnTo>
                          <a:pt x="100" y="888"/>
                        </a:lnTo>
                        <a:lnTo>
                          <a:pt x="121" y="896"/>
                        </a:lnTo>
                        <a:lnTo>
                          <a:pt x="138" y="902"/>
                        </a:lnTo>
                        <a:lnTo>
                          <a:pt x="157" y="907"/>
                        </a:lnTo>
                        <a:lnTo>
                          <a:pt x="177" y="910"/>
                        </a:lnTo>
                        <a:lnTo>
                          <a:pt x="194" y="913"/>
                        </a:lnTo>
                        <a:lnTo>
                          <a:pt x="219" y="910"/>
                        </a:lnTo>
                        <a:lnTo>
                          <a:pt x="238" y="907"/>
                        </a:lnTo>
                        <a:lnTo>
                          <a:pt x="257" y="902"/>
                        </a:lnTo>
                        <a:lnTo>
                          <a:pt x="275" y="893"/>
                        </a:lnTo>
                        <a:lnTo>
                          <a:pt x="296" y="884"/>
                        </a:lnTo>
                        <a:lnTo>
                          <a:pt x="314" y="871"/>
                        </a:lnTo>
                        <a:lnTo>
                          <a:pt x="328" y="860"/>
                        </a:lnTo>
                        <a:lnTo>
                          <a:pt x="342" y="847"/>
                        </a:lnTo>
                        <a:lnTo>
                          <a:pt x="360" y="829"/>
                        </a:lnTo>
                        <a:lnTo>
                          <a:pt x="375" y="805"/>
                        </a:lnTo>
                        <a:lnTo>
                          <a:pt x="385" y="784"/>
                        </a:lnTo>
                        <a:lnTo>
                          <a:pt x="397" y="756"/>
                        </a:lnTo>
                        <a:lnTo>
                          <a:pt x="405" y="724"/>
                        </a:lnTo>
                        <a:lnTo>
                          <a:pt x="409" y="703"/>
                        </a:lnTo>
                        <a:lnTo>
                          <a:pt x="412" y="677"/>
                        </a:lnTo>
                        <a:lnTo>
                          <a:pt x="416" y="649"/>
                        </a:lnTo>
                        <a:lnTo>
                          <a:pt x="418" y="627"/>
                        </a:lnTo>
                        <a:lnTo>
                          <a:pt x="417" y="602"/>
                        </a:lnTo>
                        <a:lnTo>
                          <a:pt x="418" y="583"/>
                        </a:lnTo>
                        <a:lnTo>
                          <a:pt x="416" y="554"/>
                        </a:lnTo>
                        <a:lnTo>
                          <a:pt x="415" y="522"/>
                        </a:lnTo>
                        <a:lnTo>
                          <a:pt x="411" y="490"/>
                        </a:lnTo>
                        <a:lnTo>
                          <a:pt x="410" y="458"/>
                        </a:lnTo>
                        <a:lnTo>
                          <a:pt x="410" y="431"/>
                        </a:lnTo>
                        <a:lnTo>
                          <a:pt x="409" y="405"/>
                        </a:lnTo>
                        <a:lnTo>
                          <a:pt x="412" y="369"/>
                        </a:lnTo>
                        <a:lnTo>
                          <a:pt x="421" y="328"/>
                        </a:lnTo>
                        <a:lnTo>
                          <a:pt x="430" y="299"/>
                        </a:lnTo>
                        <a:lnTo>
                          <a:pt x="440" y="270"/>
                        </a:lnTo>
                        <a:lnTo>
                          <a:pt x="453" y="246"/>
                        </a:lnTo>
                        <a:lnTo>
                          <a:pt x="471" y="218"/>
                        </a:lnTo>
                        <a:lnTo>
                          <a:pt x="481" y="201"/>
                        </a:lnTo>
                        <a:lnTo>
                          <a:pt x="504" y="176"/>
                        </a:lnTo>
                        <a:lnTo>
                          <a:pt x="521" y="156"/>
                        </a:lnTo>
                        <a:lnTo>
                          <a:pt x="546" y="134"/>
                        </a:lnTo>
                        <a:lnTo>
                          <a:pt x="574" y="111"/>
                        </a:lnTo>
                        <a:lnTo>
                          <a:pt x="601" y="85"/>
                        </a:lnTo>
                        <a:lnTo>
                          <a:pt x="625" y="6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2" name="Group 239"/>
                <p:cNvGrpSpPr/>
                <p:nvPr/>
              </p:nvGrpSpPr>
              <p:grpSpPr>
                <a:xfrm>
                  <a:off x="457200" y="4059360"/>
                  <a:ext cx="1217880" cy="1193760"/>
                  <a:chOff x="457200" y="4059360"/>
                  <a:chExt cx="1217880" cy="1193760"/>
                </a:xfrm>
              </p:grpSpPr>
              <p:sp>
                <p:nvSpPr>
                  <p:cNvPr id="1163" name="Freeform 240"/>
                  <p:cNvSpPr/>
                  <p:nvPr/>
                </p:nvSpPr>
                <p:spPr>
                  <a:xfrm>
                    <a:off x="457200" y="4356720"/>
                    <a:ext cx="86040" cy="140400"/>
                  </a:xfrm>
                  <a:custGeom>
                    <a:avLst/>
                    <a:gdLst>
                      <a:gd name="textAreaLeft" fmla="*/ 0 w 86040"/>
                      <a:gd name="textAreaRight" fmla="*/ 86400 w 86040"/>
                      <a:gd name="textAreaTop" fmla="*/ 0 h 140400"/>
                      <a:gd name="textAreaBottom" fmla="*/ 140760 h 140400"/>
                    </a:gdLst>
                    <a:ahLst/>
                    <a:rect l="textAreaLeft" t="textAreaTop" r="textAreaRight" b="textAreaBottom"/>
                    <a:pathLst>
                      <a:path w="156" h="236">
                        <a:moveTo>
                          <a:pt x="156" y="0"/>
                        </a:moveTo>
                        <a:lnTo>
                          <a:pt x="128" y="2"/>
                        </a:lnTo>
                        <a:lnTo>
                          <a:pt x="116" y="6"/>
                        </a:lnTo>
                        <a:lnTo>
                          <a:pt x="100" y="10"/>
                        </a:lnTo>
                        <a:lnTo>
                          <a:pt x="86" y="16"/>
                        </a:lnTo>
                        <a:lnTo>
                          <a:pt x="74" y="24"/>
                        </a:lnTo>
                        <a:lnTo>
                          <a:pt x="62" y="33"/>
                        </a:lnTo>
                        <a:lnTo>
                          <a:pt x="51" y="44"/>
                        </a:lnTo>
                        <a:lnTo>
                          <a:pt x="46" y="51"/>
                        </a:lnTo>
                        <a:lnTo>
                          <a:pt x="39" y="61"/>
                        </a:lnTo>
                        <a:lnTo>
                          <a:pt x="31" y="71"/>
                        </a:lnTo>
                        <a:lnTo>
                          <a:pt x="25" y="82"/>
                        </a:lnTo>
                        <a:lnTo>
                          <a:pt x="20" y="91"/>
                        </a:lnTo>
                        <a:lnTo>
                          <a:pt x="13" y="106"/>
                        </a:lnTo>
                        <a:lnTo>
                          <a:pt x="11" y="114"/>
                        </a:lnTo>
                        <a:lnTo>
                          <a:pt x="6" y="129"/>
                        </a:lnTo>
                        <a:lnTo>
                          <a:pt x="4" y="145"/>
                        </a:lnTo>
                        <a:lnTo>
                          <a:pt x="0" y="158"/>
                        </a:lnTo>
                        <a:lnTo>
                          <a:pt x="0" y="167"/>
                        </a:lnTo>
                        <a:lnTo>
                          <a:pt x="0" y="180"/>
                        </a:lnTo>
                        <a:lnTo>
                          <a:pt x="4" y="193"/>
                        </a:lnTo>
                        <a:lnTo>
                          <a:pt x="6" y="202"/>
                        </a:lnTo>
                        <a:lnTo>
                          <a:pt x="11" y="209"/>
                        </a:lnTo>
                        <a:lnTo>
                          <a:pt x="17" y="216"/>
                        </a:lnTo>
                        <a:lnTo>
                          <a:pt x="21" y="222"/>
                        </a:lnTo>
                        <a:lnTo>
                          <a:pt x="28" y="228"/>
                        </a:lnTo>
                        <a:lnTo>
                          <a:pt x="38" y="232"/>
                        </a:lnTo>
                        <a:lnTo>
                          <a:pt x="48" y="234"/>
                        </a:lnTo>
                        <a:lnTo>
                          <a:pt x="55" y="236"/>
                        </a:lnTo>
                        <a:lnTo>
                          <a:pt x="62" y="235"/>
                        </a:lnTo>
                        <a:lnTo>
                          <a:pt x="72" y="232"/>
                        </a:lnTo>
                        <a:lnTo>
                          <a:pt x="80" y="228"/>
                        </a:lnTo>
                        <a:lnTo>
                          <a:pt x="84" y="225"/>
                        </a:lnTo>
                        <a:lnTo>
                          <a:pt x="91" y="219"/>
                        </a:lnTo>
                        <a:lnTo>
                          <a:pt x="96" y="211"/>
                        </a:lnTo>
                        <a:lnTo>
                          <a:pt x="105" y="196"/>
                        </a:lnTo>
                        <a:lnTo>
                          <a:pt x="107" y="182"/>
                        </a:lnTo>
                        <a:lnTo>
                          <a:pt x="108" y="170"/>
                        </a:lnTo>
                        <a:lnTo>
                          <a:pt x="108" y="159"/>
                        </a:lnTo>
                        <a:lnTo>
                          <a:pt x="107" y="144"/>
                        </a:lnTo>
                        <a:lnTo>
                          <a:pt x="106" y="126"/>
                        </a:lnTo>
                        <a:lnTo>
                          <a:pt x="105" y="106"/>
                        </a:lnTo>
                        <a:lnTo>
                          <a:pt x="105" y="90"/>
                        </a:lnTo>
                        <a:lnTo>
                          <a:pt x="105" y="72"/>
                        </a:lnTo>
                        <a:lnTo>
                          <a:pt x="106" y="63"/>
                        </a:lnTo>
                        <a:lnTo>
                          <a:pt x="108" y="51"/>
                        </a:lnTo>
                        <a:lnTo>
                          <a:pt x="113" y="42"/>
                        </a:lnTo>
                        <a:lnTo>
                          <a:pt x="117" y="33"/>
                        </a:lnTo>
                        <a:lnTo>
                          <a:pt x="127" y="24"/>
                        </a:lnTo>
                        <a:lnTo>
                          <a:pt x="133" y="18"/>
                        </a:lnTo>
                        <a:lnTo>
                          <a:pt x="139" y="13"/>
                        </a:lnTo>
                        <a:lnTo>
                          <a:pt x="143" y="8"/>
                        </a:lnTo>
                        <a:lnTo>
                          <a:pt x="156"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241"/>
                  <p:cNvSpPr/>
                  <p:nvPr/>
                </p:nvSpPr>
                <p:spPr>
                  <a:xfrm>
                    <a:off x="1476360" y="4614120"/>
                    <a:ext cx="72360" cy="161640"/>
                  </a:xfrm>
                  <a:custGeom>
                    <a:avLst/>
                    <a:gdLst>
                      <a:gd name="textAreaLeft" fmla="*/ 0 w 72360"/>
                      <a:gd name="textAreaRight" fmla="*/ 72720 w 72360"/>
                      <a:gd name="textAreaTop" fmla="*/ 0 h 161640"/>
                      <a:gd name="textAreaBottom" fmla="*/ 162000 h 161640"/>
                    </a:gdLst>
                    <a:ahLst/>
                    <a:rect l="textAreaLeft" t="textAreaTop" r="textAreaRight" b="textAreaBottom"/>
                    <a:pathLst>
                      <a:path w="131" h="275">
                        <a:moveTo>
                          <a:pt x="51" y="0"/>
                        </a:moveTo>
                        <a:lnTo>
                          <a:pt x="58" y="9"/>
                        </a:lnTo>
                        <a:lnTo>
                          <a:pt x="66" y="20"/>
                        </a:lnTo>
                        <a:lnTo>
                          <a:pt x="74" y="29"/>
                        </a:lnTo>
                        <a:lnTo>
                          <a:pt x="82" y="41"/>
                        </a:lnTo>
                        <a:lnTo>
                          <a:pt x="89" y="53"/>
                        </a:lnTo>
                        <a:lnTo>
                          <a:pt x="97" y="67"/>
                        </a:lnTo>
                        <a:lnTo>
                          <a:pt x="103" y="80"/>
                        </a:lnTo>
                        <a:lnTo>
                          <a:pt x="108" y="89"/>
                        </a:lnTo>
                        <a:lnTo>
                          <a:pt x="112" y="99"/>
                        </a:lnTo>
                        <a:lnTo>
                          <a:pt x="116" y="112"/>
                        </a:lnTo>
                        <a:lnTo>
                          <a:pt x="121" y="124"/>
                        </a:lnTo>
                        <a:lnTo>
                          <a:pt x="124" y="135"/>
                        </a:lnTo>
                        <a:lnTo>
                          <a:pt x="125" y="144"/>
                        </a:lnTo>
                        <a:lnTo>
                          <a:pt x="128" y="150"/>
                        </a:lnTo>
                        <a:lnTo>
                          <a:pt x="130" y="164"/>
                        </a:lnTo>
                        <a:lnTo>
                          <a:pt x="131" y="174"/>
                        </a:lnTo>
                        <a:lnTo>
                          <a:pt x="131" y="190"/>
                        </a:lnTo>
                        <a:lnTo>
                          <a:pt x="128" y="210"/>
                        </a:lnTo>
                        <a:lnTo>
                          <a:pt x="123" y="226"/>
                        </a:lnTo>
                        <a:lnTo>
                          <a:pt x="116" y="239"/>
                        </a:lnTo>
                        <a:lnTo>
                          <a:pt x="111" y="248"/>
                        </a:lnTo>
                        <a:lnTo>
                          <a:pt x="106" y="254"/>
                        </a:lnTo>
                        <a:lnTo>
                          <a:pt x="99" y="261"/>
                        </a:lnTo>
                        <a:lnTo>
                          <a:pt x="92" y="267"/>
                        </a:lnTo>
                        <a:lnTo>
                          <a:pt x="85" y="270"/>
                        </a:lnTo>
                        <a:lnTo>
                          <a:pt x="78" y="274"/>
                        </a:lnTo>
                        <a:lnTo>
                          <a:pt x="73" y="275"/>
                        </a:lnTo>
                        <a:lnTo>
                          <a:pt x="66" y="275"/>
                        </a:lnTo>
                        <a:lnTo>
                          <a:pt x="58" y="275"/>
                        </a:lnTo>
                        <a:lnTo>
                          <a:pt x="51" y="274"/>
                        </a:lnTo>
                        <a:lnTo>
                          <a:pt x="44" y="272"/>
                        </a:lnTo>
                        <a:lnTo>
                          <a:pt x="39" y="267"/>
                        </a:lnTo>
                        <a:lnTo>
                          <a:pt x="33" y="262"/>
                        </a:lnTo>
                        <a:lnTo>
                          <a:pt x="27" y="258"/>
                        </a:lnTo>
                        <a:lnTo>
                          <a:pt x="21" y="253"/>
                        </a:lnTo>
                        <a:lnTo>
                          <a:pt x="16" y="245"/>
                        </a:lnTo>
                        <a:lnTo>
                          <a:pt x="12" y="238"/>
                        </a:lnTo>
                        <a:lnTo>
                          <a:pt x="8" y="229"/>
                        </a:lnTo>
                        <a:lnTo>
                          <a:pt x="6" y="219"/>
                        </a:lnTo>
                        <a:lnTo>
                          <a:pt x="3" y="208"/>
                        </a:lnTo>
                        <a:lnTo>
                          <a:pt x="1" y="198"/>
                        </a:lnTo>
                        <a:lnTo>
                          <a:pt x="0" y="188"/>
                        </a:lnTo>
                        <a:lnTo>
                          <a:pt x="0" y="179"/>
                        </a:lnTo>
                        <a:lnTo>
                          <a:pt x="0" y="170"/>
                        </a:lnTo>
                        <a:lnTo>
                          <a:pt x="0" y="162"/>
                        </a:lnTo>
                        <a:lnTo>
                          <a:pt x="2" y="152"/>
                        </a:lnTo>
                        <a:lnTo>
                          <a:pt x="3" y="145"/>
                        </a:lnTo>
                        <a:lnTo>
                          <a:pt x="6" y="137"/>
                        </a:lnTo>
                        <a:lnTo>
                          <a:pt x="8" y="125"/>
                        </a:lnTo>
                        <a:lnTo>
                          <a:pt x="14" y="110"/>
                        </a:lnTo>
                        <a:lnTo>
                          <a:pt x="25" y="85"/>
                        </a:lnTo>
                        <a:lnTo>
                          <a:pt x="32" y="66"/>
                        </a:lnTo>
                        <a:lnTo>
                          <a:pt x="39" y="55"/>
                        </a:lnTo>
                        <a:lnTo>
                          <a:pt x="42" y="48"/>
                        </a:lnTo>
                        <a:lnTo>
                          <a:pt x="44" y="41"/>
                        </a:lnTo>
                        <a:lnTo>
                          <a:pt x="47" y="33"/>
                        </a:lnTo>
                        <a:lnTo>
                          <a:pt x="49" y="26"/>
                        </a:lnTo>
                        <a:lnTo>
                          <a:pt x="51" y="19"/>
                        </a:lnTo>
                        <a:lnTo>
                          <a:pt x="51"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242"/>
                  <p:cNvSpPr/>
                  <p:nvPr/>
                </p:nvSpPr>
                <p:spPr>
                  <a:xfrm>
                    <a:off x="489960" y="4691520"/>
                    <a:ext cx="105480" cy="201240"/>
                  </a:xfrm>
                  <a:custGeom>
                    <a:avLst/>
                    <a:gdLst>
                      <a:gd name="textAreaLeft" fmla="*/ 0 w 105480"/>
                      <a:gd name="textAreaRight" fmla="*/ 105840 w 105480"/>
                      <a:gd name="textAreaTop" fmla="*/ 0 h 201240"/>
                      <a:gd name="textAreaBottom" fmla="*/ 201600 h 201240"/>
                    </a:gdLst>
                    <a:ahLst/>
                    <a:rect l="textAreaLeft" t="textAreaTop" r="textAreaRight" b="textAreaBottom"/>
                    <a:pathLst>
                      <a:path w="188" h="344">
                        <a:moveTo>
                          <a:pt x="188" y="0"/>
                        </a:moveTo>
                        <a:lnTo>
                          <a:pt x="154" y="5"/>
                        </a:lnTo>
                        <a:lnTo>
                          <a:pt x="138" y="9"/>
                        </a:lnTo>
                        <a:lnTo>
                          <a:pt x="119" y="16"/>
                        </a:lnTo>
                        <a:lnTo>
                          <a:pt x="104" y="26"/>
                        </a:lnTo>
                        <a:lnTo>
                          <a:pt x="90" y="36"/>
                        </a:lnTo>
                        <a:lnTo>
                          <a:pt x="76" y="49"/>
                        </a:lnTo>
                        <a:lnTo>
                          <a:pt x="62" y="67"/>
                        </a:lnTo>
                        <a:lnTo>
                          <a:pt x="55" y="77"/>
                        </a:lnTo>
                        <a:lnTo>
                          <a:pt x="49" y="89"/>
                        </a:lnTo>
                        <a:lnTo>
                          <a:pt x="38" y="106"/>
                        </a:lnTo>
                        <a:lnTo>
                          <a:pt x="30" y="120"/>
                        </a:lnTo>
                        <a:lnTo>
                          <a:pt x="25" y="135"/>
                        </a:lnTo>
                        <a:lnTo>
                          <a:pt x="16" y="156"/>
                        </a:lnTo>
                        <a:lnTo>
                          <a:pt x="14" y="169"/>
                        </a:lnTo>
                        <a:lnTo>
                          <a:pt x="8" y="190"/>
                        </a:lnTo>
                        <a:lnTo>
                          <a:pt x="4" y="213"/>
                        </a:lnTo>
                        <a:lnTo>
                          <a:pt x="1" y="232"/>
                        </a:lnTo>
                        <a:lnTo>
                          <a:pt x="0" y="246"/>
                        </a:lnTo>
                        <a:lnTo>
                          <a:pt x="1" y="262"/>
                        </a:lnTo>
                        <a:lnTo>
                          <a:pt x="4" y="282"/>
                        </a:lnTo>
                        <a:lnTo>
                          <a:pt x="8" y="296"/>
                        </a:lnTo>
                        <a:lnTo>
                          <a:pt x="14" y="306"/>
                        </a:lnTo>
                        <a:lnTo>
                          <a:pt x="21" y="316"/>
                        </a:lnTo>
                        <a:lnTo>
                          <a:pt x="27" y="326"/>
                        </a:lnTo>
                        <a:lnTo>
                          <a:pt x="36" y="333"/>
                        </a:lnTo>
                        <a:lnTo>
                          <a:pt x="46" y="339"/>
                        </a:lnTo>
                        <a:lnTo>
                          <a:pt x="58" y="342"/>
                        </a:lnTo>
                        <a:lnTo>
                          <a:pt x="68" y="344"/>
                        </a:lnTo>
                        <a:lnTo>
                          <a:pt x="76" y="343"/>
                        </a:lnTo>
                        <a:lnTo>
                          <a:pt x="85" y="339"/>
                        </a:lnTo>
                        <a:lnTo>
                          <a:pt x="96" y="333"/>
                        </a:lnTo>
                        <a:lnTo>
                          <a:pt x="99" y="329"/>
                        </a:lnTo>
                        <a:lnTo>
                          <a:pt x="107" y="320"/>
                        </a:lnTo>
                        <a:lnTo>
                          <a:pt x="116" y="307"/>
                        </a:lnTo>
                        <a:lnTo>
                          <a:pt x="125" y="287"/>
                        </a:lnTo>
                        <a:lnTo>
                          <a:pt x="128" y="267"/>
                        </a:lnTo>
                        <a:lnTo>
                          <a:pt x="130" y="250"/>
                        </a:lnTo>
                        <a:lnTo>
                          <a:pt x="130" y="234"/>
                        </a:lnTo>
                        <a:lnTo>
                          <a:pt x="128" y="211"/>
                        </a:lnTo>
                        <a:lnTo>
                          <a:pt x="127" y="186"/>
                        </a:lnTo>
                        <a:lnTo>
                          <a:pt x="126" y="156"/>
                        </a:lnTo>
                        <a:lnTo>
                          <a:pt x="125" y="132"/>
                        </a:lnTo>
                        <a:lnTo>
                          <a:pt x="125" y="107"/>
                        </a:lnTo>
                        <a:lnTo>
                          <a:pt x="127" y="93"/>
                        </a:lnTo>
                        <a:lnTo>
                          <a:pt x="130" y="76"/>
                        </a:lnTo>
                        <a:lnTo>
                          <a:pt x="134" y="62"/>
                        </a:lnTo>
                        <a:lnTo>
                          <a:pt x="141" y="49"/>
                        </a:lnTo>
                        <a:lnTo>
                          <a:pt x="152" y="36"/>
                        </a:lnTo>
                        <a:lnTo>
                          <a:pt x="160" y="28"/>
                        </a:lnTo>
                        <a:lnTo>
                          <a:pt x="165" y="20"/>
                        </a:lnTo>
                        <a:lnTo>
                          <a:pt x="172" y="14"/>
                        </a:lnTo>
                        <a:lnTo>
                          <a:pt x="188"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243"/>
                  <p:cNvSpPr/>
                  <p:nvPr/>
                </p:nvSpPr>
                <p:spPr>
                  <a:xfrm>
                    <a:off x="534240" y="4059360"/>
                    <a:ext cx="167400" cy="114480"/>
                  </a:xfrm>
                  <a:custGeom>
                    <a:avLst/>
                    <a:gdLst>
                      <a:gd name="textAreaLeft" fmla="*/ 0 w 167400"/>
                      <a:gd name="textAreaRight" fmla="*/ 167760 w 167400"/>
                      <a:gd name="textAreaTop" fmla="*/ 0 h 114480"/>
                      <a:gd name="textAreaBottom" fmla="*/ 114840 h 114480"/>
                    </a:gdLst>
                    <a:ahLst/>
                    <a:rect l="textAreaLeft" t="textAreaTop" r="textAreaRight" b="textAreaBottom"/>
                    <a:pathLst>
                      <a:path w="302" h="195">
                        <a:moveTo>
                          <a:pt x="257" y="74"/>
                        </a:moveTo>
                        <a:lnTo>
                          <a:pt x="263" y="72"/>
                        </a:lnTo>
                        <a:lnTo>
                          <a:pt x="267" y="72"/>
                        </a:lnTo>
                        <a:lnTo>
                          <a:pt x="277" y="70"/>
                        </a:lnTo>
                        <a:lnTo>
                          <a:pt x="287" y="70"/>
                        </a:lnTo>
                        <a:lnTo>
                          <a:pt x="302" y="70"/>
                        </a:lnTo>
                        <a:lnTo>
                          <a:pt x="272" y="51"/>
                        </a:lnTo>
                        <a:lnTo>
                          <a:pt x="251" y="38"/>
                        </a:lnTo>
                        <a:lnTo>
                          <a:pt x="229" y="26"/>
                        </a:lnTo>
                        <a:lnTo>
                          <a:pt x="204" y="16"/>
                        </a:lnTo>
                        <a:lnTo>
                          <a:pt x="178" y="7"/>
                        </a:lnTo>
                        <a:lnTo>
                          <a:pt x="158" y="3"/>
                        </a:lnTo>
                        <a:lnTo>
                          <a:pt x="130" y="0"/>
                        </a:lnTo>
                        <a:lnTo>
                          <a:pt x="113" y="0"/>
                        </a:lnTo>
                        <a:lnTo>
                          <a:pt x="89" y="5"/>
                        </a:lnTo>
                        <a:lnTo>
                          <a:pt x="71" y="13"/>
                        </a:lnTo>
                        <a:lnTo>
                          <a:pt x="54" y="24"/>
                        </a:lnTo>
                        <a:lnTo>
                          <a:pt x="41" y="32"/>
                        </a:lnTo>
                        <a:lnTo>
                          <a:pt x="27" y="46"/>
                        </a:lnTo>
                        <a:lnTo>
                          <a:pt x="19" y="61"/>
                        </a:lnTo>
                        <a:lnTo>
                          <a:pt x="13" y="74"/>
                        </a:lnTo>
                        <a:lnTo>
                          <a:pt x="6" y="91"/>
                        </a:lnTo>
                        <a:lnTo>
                          <a:pt x="1" y="106"/>
                        </a:lnTo>
                        <a:lnTo>
                          <a:pt x="0" y="122"/>
                        </a:lnTo>
                        <a:lnTo>
                          <a:pt x="0" y="136"/>
                        </a:lnTo>
                        <a:lnTo>
                          <a:pt x="3" y="151"/>
                        </a:lnTo>
                        <a:lnTo>
                          <a:pt x="6" y="162"/>
                        </a:lnTo>
                        <a:lnTo>
                          <a:pt x="11" y="170"/>
                        </a:lnTo>
                        <a:lnTo>
                          <a:pt x="15" y="177"/>
                        </a:lnTo>
                        <a:lnTo>
                          <a:pt x="24" y="183"/>
                        </a:lnTo>
                        <a:lnTo>
                          <a:pt x="34" y="187"/>
                        </a:lnTo>
                        <a:lnTo>
                          <a:pt x="46" y="191"/>
                        </a:lnTo>
                        <a:lnTo>
                          <a:pt x="54" y="192"/>
                        </a:lnTo>
                        <a:lnTo>
                          <a:pt x="66" y="195"/>
                        </a:lnTo>
                        <a:lnTo>
                          <a:pt x="78" y="195"/>
                        </a:lnTo>
                        <a:lnTo>
                          <a:pt x="89" y="194"/>
                        </a:lnTo>
                        <a:lnTo>
                          <a:pt x="101" y="192"/>
                        </a:lnTo>
                        <a:lnTo>
                          <a:pt x="113" y="191"/>
                        </a:lnTo>
                        <a:lnTo>
                          <a:pt x="123" y="187"/>
                        </a:lnTo>
                        <a:lnTo>
                          <a:pt x="134" y="183"/>
                        </a:lnTo>
                        <a:lnTo>
                          <a:pt x="147" y="171"/>
                        </a:lnTo>
                        <a:lnTo>
                          <a:pt x="156" y="161"/>
                        </a:lnTo>
                        <a:lnTo>
                          <a:pt x="167" y="148"/>
                        </a:lnTo>
                        <a:lnTo>
                          <a:pt x="176" y="133"/>
                        </a:lnTo>
                        <a:lnTo>
                          <a:pt x="186" y="119"/>
                        </a:lnTo>
                        <a:lnTo>
                          <a:pt x="196" y="108"/>
                        </a:lnTo>
                        <a:lnTo>
                          <a:pt x="208" y="93"/>
                        </a:lnTo>
                        <a:lnTo>
                          <a:pt x="218" y="84"/>
                        </a:lnTo>
                        <a:lnTo>
                          <a:pt x="229" y="79"/>
                        </a:lnTo>
                        <a:lnTo>
                          <a:pt x="242" y="75"/>
                        </a:lnTo>
                        <a:lnTo>
                          <a:pt x="250" y="74"/>
                        </a:lnTo>
                        <a:lnTo>
                          <a:pt x="257" y="74"/>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244"/>
                  <p:cNvSpPr/>
                  <p:nvPr/>
                </p:nvSpPr>
                <p:spPr>
                  <a:xfrm>
                    <a:off x="498600" y="5131800"/>
                    <a:ext cx="52920" cy="121320"/>
                  </a:xfrm>
                  <a:custGeom>
                    <a:avLst/>
                    <a:gdLst>
                      <a:gd name="textAreaLeft" fmla="*/ 0 w 52920"/>
                      <a:gd name="textAreaRight" fmla="*/ 53280 w 52920"/>
                      <a:gd name="textAreaTop" fmla="*/ 0 h 121320"/>
                      <a:gd name="textAreaBottom" fmla="*/ 121680 h 121320"/>
                    </a:gdLst>
                    <a:ahLst/>
                    <a:rect l="textAreaLeft" t="textAreaTop" r="textAreaRight" b="textAreaBottom"/>
                    <a:pathLst>
                      <a:path w="97" h="206">
                        <a:moveTo>
                          <a:pt x="59" y="0"/>
                        </a:moveTo>
                        <a:lnTo>
                          <a:pt x="55" y="7"/>
                        </a:lnTo>
                        <a:lnTo>
                          <a:pt x="49" y="14"/>
                        </a:lnTo>
                        <a:lnTo>
                          <a:pt x="42" y="21"/>
                        </a:lnTo>
                        <a:lnTo>
                          <a:pt x="37" y="31"/>
                        </a:lnTo>
                        <a:lnTo>
                          <a:pt x="30" y="39"/>
                        </a:lnTo>
                        <a:lnTo>
                          <a:pt x="25" y="49"/>
                        </a:lnTo>
                        <a:lnTo>
                          <a:pt x="20" y="60"/>
                        </a:lnTo>
                        <a:lnTo>
                          <a:pt x="17" y="67"/>
                        </a:lnTo>
                        <a:lnTo>
                          <a:pt x="15" y="75"/>
                        </a:lnTo>
                        <a:lnTo>
                          <a:pt x="10" y="83"/>
                        </a:lnTo>
                        <a:lnTo>
                          <a:pt x="7" y="93"/>
                        </a:lnTo>
                        <a:lnTo>
                          <a:pt x="6" y="100"/>
                        </a:lnTo>
                        <a:lnTo>
                          <a:pt x="3" y="107"/>
                        </a:lnTo>
                        <a:lnTo>
                          <a:pt x="2" y="111"/>
                        </a:lnTo>
                        <a:lnTo>
                          <a:pt x="0" y="122"/>
                        </a:lnTo>
                        <a:lnTo>
                          <a:pt x="0" y="130"/>
                        </a:lnTo>
                        <a:lnTo>
                          <a:pt x="0" y="142"/>
                        </a:lnTo>
                        <a:lnTo>
                          <a:pt x="2" y="157"/>
                        </a:lnTo>
                        <a:lnTo>
                          <a:pt x="6" y="169"/>
                        </a:lnTo>
                        <a:lnTo>
                          <a:pt x="10" y="179"/>
                        </a:lnTo>
                        <a:lnTo>
                          <a:pt x="15" y="186"/>
                        </a:lnTo>
                        <a:lnTo>
                          <a:pt x="18" y="190"/>
                        </a:lnTo>
                        <a:lnTo>
                          <a:pt x="23" y="196"/>
                        </a:lnTo>
                        <a:lnTo>
                          <a:pt x="29" y="199"/>
                        </a:lnTo>
                        <a:lnTo>
                          <a:pt x="34" y="203"/>
                        </a:lnTo>
                        <a:lnTo>
                          <a:pt x="39" y="205"/>
                        </a:lnTo>
                        <a:lnTo>
                          <a:pt x="43" y="206"/>
                        </a:lnTo>
                        <a:lnTo>
                          <a:pt x="48" y="206"/>
                        </a:lnTo>
                        <a:lnTo>
                          <a:pt x="55" y="206"/>
                        </a:lnTo>
                        <a:lnTo>
                          <a:pt x="59" y="205"/>
                        </a:lnTo>
                        <a:lnTo>
                          <a:pt x="64" y="203"/>
                        </a:lnTo>
                        <a:lnTo>
                          <a:pt x="69" y="199"/>
                        </a:lnTo>
                        <a:lnTo>
                          <a:pt x="73" y="197"/>
                        </a:lnTo>
                        <a:lnTo>
                          <a:pt x="78" y="192"/>
                        </a:lnTo>
                        <a:lnTo>
                          <a:pt x="82" y="189"/>
                        </a:lnTo>
                        <a:lnTo>
                          <a:pt x="85" y="183"/>
                        </a:lnTo>
                        <a:lnTo>
                          <a:pt x="87" y="178"/>
                        </a:lnTo>
                        <a:lnTo>
                          <a:pt x="91" y="171"/>
                        </a:lnTo>
                        <a:lnTo>
                          <a:pt x="92" y="164"/>
                        </a:lnTo>
                        <a:lnTo>
                          <a:pt x="95" y="156"/>
                        </a:lnTo>
                        <a:lnTo>
                          <a:pt x="97" y="148"/>
                        </a:lnTo>
                        <a:lnTo>
                          <a:pt x="97" y="141"/>
                        </a:lnTo>
                        <a:lnTo>
                          <a:pt x="97" y="134"/>
                        </a:lnTo>
                        <a:lnTo>
                          <a:pt x="97" y="127"/>
                        </a:lnTo>
                        <a:lnTo>
                          <a:pt x="97" y="120"/>
                        </a:lnTo>
                        <a:lnTo>
                          <a:pt x="96" y="114"/>
                        </a:lnTo>
                        <a:lnTo>
                          <a:pt x="93" y="108"/>
                        </a:lnTo>
                        <a:lnTo>
                          <a:pt x="92" y="101"/>
                        </a:lnTo>
                        <a:lnTo>
                          <a:pt x="91" y="93"/>
                        </a:lnTo>
                        <a:lnTo>
                          <a:pt x="86" y="81"/>
                        </a:lnTo>
                        <a:lnTo>
                          <a:pt x="79" y="63"/>
                        </a:lnTo>
                        <a:lnTo>
                          <a:pt x="73" y="49"/>
                        </a:lnTo>
                        <a:lnTo>
                          <a:pt x="69" y="41"/>
                        </a:lnTo>
                        <a:lnTo>
                          <a:pt x="66" y="35"/>
                        </a:lnTo>
                        <a:lnTo>
                          <a:pt x="65" y="31"/>
                        </a:lnTo>
                        <a:lnTo>
                          <a:pt x="63" y="25"/>
                        </a:lnTo>
                        <a:lnTo>
                          <a:pt x="62" y="19"/>
                        </a:lnTo>
                        <a:lnTo>
                          <a:pt x="59" y="14"/>
                        </a:lnTo>
                        <a:lnTo>
                          <a:pt x="59"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45"/>
                  <p:cNvSpPr/>
                  <p:nvPr/>
                </p:nvSpPr>
                <p:spPr>
                  <a:xfrm>
                    <a:off x="1571040" y="4342680"/>
                    <a:ext cx="104040" cy="201240"/>
                  </a:xfrm>
                  <a:custGeom>
                    <a:avLst/>
                    <a:gdLst>
                      <a:gd name="textAreaLeft" fmla="*/ 0 w 104040"/>
                      <a:gd name="textAreaRight" fmla="*/ 104400 w 104040"/>
                      <a:gd name="textAreaTop" fmla="*/ 0 h 201240"/>
                      <a:gd name="textAreaBottom" fmla="*/ 201600 h 201240"/>
                    </a:gdLst>
                    <a:ahLst/>
                    <a:rect l="textAreaLeft" t="textAreaTop" r="textAreaRight" b="textAreaBottom"/>
                    <a:pathLst>
                      <a:path w="187" h="344">
                        <a:moveTo>
                          <a:pt x="0" y="0"/>
                        </a:moveTo>
                        <a:lnTo>
                          <a:pt x="33" y="4"/>
                        </a:lnTo>
                        <a:lnTo>
                          <a:pt x="48" y="9"/>
                        </a:lnTo>
                        <a:lnTo>
                          <a:pt x="67" y="16"/>
                        </a:lnTo>
                        <a:lnTo>
                          <a:pt x="83" y="26"/>
                        </a:lnTo>
                        <a:lnTo>
                          <a:pt x="97" y="36"/>
                        </a:lnTo>
                        <a:lnTo>
                          <a:pt x="112" y="49"/>
                        </a:lnTo>
                        <a:lnTo>
                          <a:pt x="125" y="67"/>
                        </a:lnTo>
                        <a:lnTo>
                          <a:pt x="132" y="77"/>
                        </a:lnTo>
                        <a:lnTo>
                          <a:pt x="139" y="90"/>
                        </a:lnTo>
                        <a:lnTo>
                          <a:pt x="149" y="105"/>
                        </a:lnTo>
                        <a:lnTo>
                          <a:pt x="157" y="120"/>
                        </a:lnTo>
                        <a:lnTo>
                          <a:pt x="163" y="134"/>
                        </a:lnTo>
                        <a:lnTo>
                          <a:pt x="171" y="156"/>
                        </a:lnTo>
                        <a:lnTo>
                          <a:pt x="173" y="168"/>
                        </a:lnTo>
                        <a:lnTo>
                          <a:pt x="179" y="190"/>
                        </a:lnTo>
                        <a:lnTo>
                          <a:pt x="183" y="213"/>
                        </a:lnTo>
                        <a:lnTo>
                          <a:pt x="186" y="232"/>
                        </a:lnTo>
                        <a:lnTo>
                          <a:pt x="187" y="246"/>
                        </a:lnTo>
                        <a:lnTo>
                          <a:pt x="186" y="263"/>
                        </a:lnTo>
                        <a:lnTo>
                          <a:pt x="183" y="282"/>
                        </a:lnTo>
                        <a:lnTo>
                          <a:pt x="179" y="296"/>
                        </a:lnTo>
                        <a:lnTo>
                          <a:pt x="173" y="305"/>
                        </a:lnTo>
                        <a:lnTo>
                          <a:pt x="167" y="316"/>
                        </a:lnTo>
                        <a:lnTo>
                          <a:pt x="160" y="325"/>
                        </a:lnTo>
                        <a:lnTo>
                          <a:pt x="151" y="334"/>
                        </a:lnTo>
                        <a:lnTo>
                          <a:pt x="142" y="338"/>
                        </a:lnTo>
                        <a:lnTo>
                          <a:pt x="129" y="342"/>
                        </a:lnTo>
                        <a:lnTo>
                          <a:pt x="119" y="344"/>
                        </a:lnTo>
                        <a:lnTo>
                          <a:pt x="112" y="343"/>
                        </a:lnTo>
                        <a:lnTo>
                          <a:pt x="102" y="338"/>
                        </a:lnTo>
                        <a:lnTo>
                          <a:pt x="91" y="334"/>
                        </a:lnTo>
                        <a:lnTo>
                          <a:pt x="88" y="329"/>
                        </a:lnTo>
                        <a:lnTo>
                          <a:pt x="78" y="320"/>
                        </a:lnTo>
                        <a:lnTo>
                          <a:pt x="71" y="307"/>
                        </a:lnTo>
                        <a:lnTo>
                          <a:pt x="62" y="287"/>
                        </a:lnTo>
                        <a:lnTo>
                          <a:pt x="58" y="268"/>
                        </a:lnTo>
                        <a:lnTo>
                          <a:pt x="57" y="249"/>
                        </a:lnTo>
                        <a:lnTo>
                          <a:pt x="57" y="234"/>
                        </a:lnTo>
                        <a:lnTo>
                          <a:pt x="58" y="212"/>
                        </a:lnTo>
                        <a:lnTo>
                          <a:pt x="61" y="186"/>
                        </a:lnTo>
                        <a:lnTo>
                          <a:pt x="61" y="156"/>
                        </a:lnTo>
                        <a:lnTo>
                          <a:pt x="62" y="132"/>
                        </a:lnTo>
                        <a:lnTo>
                          <a:pt x="62" y="106"/>
                        </a:lnTo>
                        <a:lnTo>
                          <a:pt x="61" y="92"/>
                        </a:lnTo>
                        <a:lnTo>
                          <a:pt x="57" y="76"/>
                        </a:lnTo>
                        <a:lnTo>
                          <a:pt x="51" y="62"/>
                        </a:lnTo>
                        <a:lnTo>
                          <a:pt x="44" y="49"/>
                        </a:lnTo>
                        <a:lnTo>
                          <a:pt x="35" y="36"/>
                        </a:lnTo>
                        <a:lnTo>
                          <a:pt x="28" y="29"/>
                        </a:lnTo>
                        <a:lnTo>
                          <a:pt x="22" y="20"/>
                        </a:lnTo>
                        <a:lnTo>
                          <a:pt x="15" y="14"/>
                        </a:lnTo>
                        <a:lnTo>
                          <a:pt x="0"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246"/>
                  <p:cNvSpPr/>
                  <p:nvPr/>
                </p:nvSpPr>
                <p:spPr>
                  <a:xfrm>
                    <a:off x="1445400" y="4092120"/>
                    <a:ext cx="134280" cy="91080"/>
                  </a:xfrm>
                  <a:custGeom>
                    <a:avLst/>
                    <a:gdLst>
                      <a:gd name="textAreaLeft" fmla="*/ 0 w 134280"/>
                      <a:gd name="textAreaRight" fmla="*/ 134640 w 134280"/>
                      <a:gd name="textAreaTop" fmla="*/ 0 h 91080"/>
                      <a:gd name="textAreaBottom" fmla="*/ 91080 h 91080"/>
                    </a:gdLst>
                    <a:ahLst/>
                    <a:rect l="textAreaLeft" t="textAreaTop" r="textAreaRight" b="textAreaBottom"/>
                    <a:pathLst>
                      <a:path w="246" h="158">
                        <a:moveTo>
                          <a:pt x="37" y="60"/>
                        </a:moveTo>
                        <a:lnTo>
                          <a:pt x="33" y="59"/>
                        </a:lnTo>
                        <a:lnTo>
                          <a:pt x="30" y="59"/>
                        </a:lnTo>
                        <a:lnTo>
                          <a:pt x="21" y="58"/>
                        </a:lnTo>
                        <a:lnTo>
                          <a:pt x="13" y="57"/>
                        </a:lnTo>
                        <a:lnTo>
                          <a:pt x="0" y="58"/>
                        </a:lnTo>
                        <a:lnTo>
                          <a:pt x="26" y="41"/>
                        </a:lnTo>
                        <a:lnTo>
                          <a:pt x="43" y="31"/>
                        </a:lnTo>
                        <a:lnTo>
                          <a:pt x="60" y="21"/>
                        </a:lnTo>
                        <a:lnTo>
                          <a:pt x="80" y="13"/>
                        </a:lnTo>
                        <a:lnTo>
                          <a:pt x="100" y="6"/>
                        </a:lnTo>
                        <a:lnTo>
                          <a:pt x="117" y="3"/>
                        </a:lnTo>
                        <a:lnTo>
                          <a:pt x="140" y="0"/>
                        </a:lnTo>
                        <a:lnTo>
                          <a:pt x="155" y="0"/>
                        </a:lnTo>
                        <a:lnTo>
                          <a:pt x="173" y="5"/>
                        </a:lnTo>
                        <a:lnTo>
                          <a:pt x="188" y="11"/>
                        </a:lnTo>
                        <a:lnTo>
                          <a:pt x="202" y="19"/>
                        </a:lnTo>
                        <a:lnTo>
                          <a:pt x="211" y="26"/>
                        </a:lnTo>
                        <a:lnTo>
                          <a:pt x="223" y="38"/>
                        </a:lnTo>
                        <a:lnTo>
                          <a:pt x="231" y="51"/>
                        </a:lnTo>
                        <a:lnTo>
                          <a:pt x="236" y="61"/>
                        </a:lnTo>
                        <a:lnTo>
                          <a:pt x="242" y="74"/>
                        </a:lnTo>
                        <a:lnTo>
                          <a:pt x="245" y="87"/>
                        </a:lnTo>
                        <a:lnTo>
                          <a:pt x="246" y="100"/>
                        </a:lnTo>
                        <a:lnTo>
                          <a:pt x="246" y="110"/>
                        </a:lnTo>
                        <a:lnTo>
                          <a:pt x="244" y="123"/>
                        </a:lnTo>
                        <a:lnTo>
                          <a:pt x="242" y="131"/>
                        </a:lnTo>
                        <a:lnTo>
                          <a:pt x="238" y="137"/>
                        </a:lnTo>
                        <a:lnTo>
                          <a:pt x="232" y="143"/>
                        </a:lnTo>
                        <a:lnTo>
                          <a:pt x="226" y="148"/>
                        </a:lnTo>
                        <a:lnTo>
                          <a:pt x="218" y="153"/>
                        </a:lnTo>
                        <a:lnTo>
                          <a:pt x="209" y="156"/>
                        </a:lnTo>
                        <a:lnTo>
                          <a:pt x="202" y="157"/>
                        </a:lnTo>
                        <a:lnTo>
                          <a:pt x="192" y="158"/>
                        </a:lnTo>
                        <a:lnTo>
                          <a:pt x="183" y="158"/>
                        </a:lnTo>
                        <a:lnTo>
                          <a:pt x="173" y="157"/>
                        </a:lnTo>
                        <a:lnTo>
                          <a:pt x="163" y="157"/>
                        </a:lnTo>
                        <a:lnTo>
                          <a:pt x="155" y="156"/>
                        </a:lnTo>
                        <a:lnTo>
                          <a:pt x="147" y="151"/>
                        </a:lnTo>
                        <a:lnTo>
                          <a:pt x="137" y="148"/>
                        </a:lnTo>
                        <a:lnTo>
                          <a:pt x="128" y="138"/>
                        </a:lnTo>
                        <a:lnTo>
                          <a:pt x="119" y="131"/>
                        </a:lnTo>
                        <a:lnTo>
                          <a:pt x="110" y="120"/>
                        </a:lnTo>
                        <a:lnTo>
                          <a:pt x="103" y="108"/>
                        </a:lnTo>
                        <a:lnTo>
                          <a:pt x="94" y="96"/>
                        </a:lnTo>
                        <a:lnTo>
                          <a:pt x="87" y="88"/>
                        </a:lnTo>
                        <a:lnTo>
                          <a:pt x="78" y="76"/>
                        </a:lnTo>
                        <a:lnTo>
                          <a:pt x="68" y="68"/>
                        </a:lnTo>
                        <a:lnTo>
                          <a:pt x="60" y="65"/>
                        </a:lnTo>
                        <a:lnTo>
                          <a:pt x="50" y="61"/>
                        </a:lnTo>
                        <a:lnTo>
                          <a:pt x="43" y="61"/>
                        </a:lnTo>
                        <a:lnTo>
                          <a:pt x="37" y="60"/>
                        </a:lnTo>
                        <a:close/>
                      </a:path>
                    </a:pathLst>
                  </a:custGeom>
                  <a:solidFill>
                    <a:srgbClr val="4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70" name="Freeform 247"/>
                  <p:cNvSpPr/>
                  <p:nvPr/>
                </p:nvSpPr>
                <p:spPr>
                  <a:xfrm>
                    <a:off x="1447920" y="4921200"/>
                    <a:ext cx="41400" cy="117000"/>
                  </a:xfrm>
                  <a:custGeom>
                    <a:avLst/>
                    <a:gdLst>
                      <a:gd name="textAreaLeft" fmla="*/ 0 w 41400"/>
                      <a:gd name="textAreaRight" fmla="*/ 41760 w 41400"/>
                      <a:gd name="textAreaTop" fmla="*/ 0 h 117000"/>
                      <a:gd name="textAreaBottom" fmla="*/ 117360 h 117000"/>
                    </a:gdLst>
                    <a:ahLst/>
                    <a:rect l="textAreaLeft" t="textAreaTop" r="textAreaRight" b="textAreaBottom"/>
                    <a:pathLst>
                      <a:path w="75" h="201">
                        <a:moveTo>
                          <a:pt x="30" y="0"/>
                        </a:moveTo>
                        <a:lnTo>
                          <a:pt x="34" y="7"/>
                        </a:lnTo>
                        <a:lnTo>
                          <a:pt x="38" y="15"/>
                        </a:lnTo>
                        <a:lnTo>
                          <a:pt x="43" y="22"/>
                        </a:lnTo>
                        <a:lnTo>
                          <a:pt x="47" y="30"/>
                        </a:lnTo>
                        <a:lnTo>
                          <a:pt x="52" y="38"/>
                        </a:lnTo>
                        <a:lnTo>
                          <a:pt x="55" y="48"/>
                        </a:lnTo>
                        <a:lnTo>
                          <a:pt x="59" y="59"/>
                        </a:lnTo>
                        <a:lnTo>
                          <a:pt x="61" y="65"/>
                        </a:lnTo>
                        <a:lnTo>
                          <a:pt x="65" y="73"/>
                        </a:lnTo>
                        <a:lnTo>
                          <a:pt x="67" y="82"/>
                        </a:lnTo>
                        <a:lnTo>
                          <a:pt x="69" y="91"/>
                        </a:lnTo>
                        <a:lnTo>
                          <a:pt x="71" y="99"/>
                        </a:lnTo>
                        <a:lnTo>
                          <a:pt x="72" y="105"/>
                        </a:lnTo>
                        <a:lnTo>
                          <a:pt x="73" y="109"/>
                        </a:lnTo>
                        <a:lnTo>
                          <a:pt x="75" y="120"/>
                        </a:lnTo>
                        <a:lnTo>
                          <a:pt x="75" y="128"/>
                        </a:lnTo>
                        <a:lnTo>
                          <a:pt x="75" y="139"/>
                        </a:lnTo>
                        <a:lnTo>
                          <a:pt x="73" y="154"/>
                        </a:lnTo>
                        <a:lnTo>
                          <a:pt x="71" y="164"/>
                        </a:lnTo>
                        <a:lnTo>
                          <a:pt x="67" y="175"/>
                        </a:lnTo>
                        <a:lnTo>
                          <a:pt x="64" y="182"/>
                        </a:lnTo>
                        <a:lnTo>
                          <a:pt x="61" y="186"/>
                        </a:lnTo>
                        <a:lnTo>
                          <a:pt x="57" y="190"/>
                        </a:lnTo>
                        <a:lnTo>
                          <a:pt x="53" y="195"/>
                        </a:lnTo>
                        <a:lnTo>
                          <a:pt x="50" y="197"/>
                        </a:lnTo>
                        <a:lnTo>
                          <a:pt x="45" y="200"/>
                        </a:lnTo>
                        <a:lnTo>
                          <a:pt x="41" y="201"/>
                        </a:lnTo>
                        <a:lnTo>
                          <a:pt x="38" y="201"/>
                        </a:lnTo>
                        <a:lnTo>
                          <a:pt x="34" y="201"/>
                        </a:lnTo>
                        <a:lnTo>
                          <a:pt x="30" y="200"/>
                        </a:lnTo>
                        <a:lnTo>
                          <a:pt x="26" y="198"/>
                        </a:lnTo>
                        <a:lnTo>
                          <a:pt x="23" y="195"/>
                        </a:lnTo>
                        <a:lnTo>
                          <a:pt x="19" y="193"/>
                        </a:lnTo>
                        <a:lnTo>
                          <a:pt x="16" y="188"/>
                        </a:lnTo>
                        <a:lnTo>
                          <a:pt x="12" y="184"/>
                        </a:lnTo>
                        <a:lnTo>
                          <a:pt x="9" y="180"/>
                        </a:lnTo>
                        <a:lnTo>
                          <a:pt x="7" y="174"/>
                        </a:lnTo>
                        <a:lnTo>
                          <a:pt x="5" y="168"/>
                        </a:lnTo>
                        <a:lnTo>
                          <a:pt x="4" y="160"/>
                        </a:lnTo>
                        <a:lnTo>
                          <a:pt x="2" y="153"/>
                        </a:lnTo>
                        <a:lnTo>
                          <a:pt x="0" y="145"/>
                        </a:lnTo>
                        <a:lnTo>
                          <a:pt x="0" y="137"/>
                        </a:lnTo>
                        <a:lnTo>
                          <a:pt x="0" y="130"/>
                        </a:lnTo>
                        <a:lnTo>
                          <a:pt x="0" y="125"/>
                        </a:lnTo>
                        <a:lnTo>
                          <a:pt x="0" y="118"/>
                        </a:lnTo>
                        <a:lnTo>
                          <a:pt x="2" y="112"/>
                        </a:lnTo>
                        <a:lnTo>
                          <a:pt x="3" y="106"/>
                        </a:lnTo>
                        <a:lnTo>
                          <a:pt x="4" y="100"/>
                        </a:lnTo>
                        <a:lnTo>
                          <a:pt x="5" y="92"/>
                        </a:lnTo>
                        <a:lnTo>
                          <a:pt x="7" y="80"/>
                        </a:lnTo>
                        <a:lnTo>
                          <a:pt x="14" y="63"/>
                        </a:lnTo>
                        <a:lnTo>
                          <a:pt x="19" y="48"/>
                        </a:lnTo>
                        <a:lnTo>
                          <a:pt x="23" y="40"/>
                        </a:lnTo>
                        <a:lnTo>
                          <a:pt x="24" y="34"/>
                        </a:lnTo>
                        <a:lnTo>
                          <a:pt x="25" y="30"/>
                        </a:lnTo>
                        <a:lnTo>
                          <a:pt x="26" y="24"/>
                        </a:lnTo>
                        <a:lnTo>
                          <a:pt x="28" y="19"/>
                        </a:lnTo>
                        <a:lnTo>
                          <a:pt x="30" y="15"/>
                        </a:lnTo>
                        <a:lnTo>
                          <a:pt x="30"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248"/>
                  <p:cNvSpPr/>
                  <p:nvPr/>
                </p:nvSpPr>
                <p:spPr>
                  <a:xfrm>
                    <a:off x="1227240" y="4883760"/>
                    <a:ext cx="52200" cy="121320"/>
                  </a:xfrm>
                  <a:custGeom>
                    <a:avLst/>
                    <a:gdLst>
                      <a:gd name="textAreaLeft" fmla="*/ 0 w 52200"/>
                      <a:gd name="textAreaRight" fmla="*/ 52560 w 52200"/>
                      <a:gd name="textAreaTop" fmla="*/ 0 h 121320"/>
                      <a:gd name="textAreaBottom" fmla="*/ 121680 h 121320"/>
                    </a:gdLst>
                    <a:ahLst/>
                    <a:rect l="textAreaLeft" t="textAreaTop" r="textAreaRight" b="textAreaBottom"/>
                    <a:pathLst>
                      <a:path w="99" h="206">
                        <a:moveTo>
                          <a:pt x="38" y="0"/>
                        </a:moveTo>
                        <a:lnTo>
                          <a:pt x="44" y="7"/>
                        </a:lnTo>
                        <a:lnTo>
                          <a:pt x="50" y="14"/>
                        </a:lnTo>
                        <a:lnTo>
                          <a:pt x="56" y="21"/>
                        </a:lnTo>
                        <a:lnTo>
                          <a:pt x="61" y="31"/>
                        </a:lnTo>
                        <a:lnTo>
                          <a:pt x="67" y="39"/>
                        </a:lnTo>
                        <a:lnTo>
                          <a:pt x="73" y="49"/>
                        </a:lnTo>
                        <a:lnTo>
                          <a:pt x="78" y="60"/>
                        </a:lnTo>
                        <a:lnTo>
                          <a:pt x="80" y="67"/>
                        </a:lnTo>
                        <a:lnTo>
                          <a:pt x="84" y="74"/>
                        </a:lnTo>
                        <a:lnTo>
                          <a:pt x="88" y="85"/>
                        </a:lnTo>
                        <a:lnTo>
                          <a:pt x="92" y="93"/>
                        </a:lnTo>
                        <a:lnTo>
                          <a:pt x="93" y="101"/>
                        </a:lnTo>
                        <a:lnTo>
                          <a:pt x="94" y="108"/>
                        </a:lnTo>
                        <a:lnTo>
                          <a:pt x="97" y="113"/>
                        </a:lnTo>
                        <a:lnTo>
                          <a:pt x="98" y="123"/>
                        </a:lnTo>
                        <a:lnTo>
                          <a:pt x="99" y="131"/>
                        </a:lnTo>
                        <a:lnTo>
                          <a:pt x="99" y="143"/>
                        </a:lnTo>
                        <a:lnTo>
                          <a:pt x="97" y="157"/>
                        </a:lnTo>
                        <a:lnTo>
                          <a:pt x="92" y="170"/>
                        </a:lnTo>
                        <a:lnTo>
                          <a:pt x="88" y="179"/>
                        </a:lnTo>
                        <a:lnTo>
                          <a:pt x="84" y="186"/>
                        </a:lnTo>
                        <a:lnTo>
                          <a:pt x="80" y="191"/>
                        </a:lnTo>
                        <a:lnTo>
                          <a:pt x="75" y="196"/>
                        </a:lnTo>
                        <a:lnTo>
                          <a:pt x="70" y="200"/>
                        </a:lnTo>
                        <a:lnTo>
                          <a:pt x="64" y="203"/>
                        </a:lnTo>
                        <a:lnTo>
                          <a:pt x="59" y="205"/>
                        </a:lnTo>
                        <a:lnTo>
                          <a:pt x="54" y="206"/>
                        </a:lnTo>
                        <a:lnTo>
                          <a:pt x="50" y="206"/>
                        </a:lnTo>
                        <a:lnTo>
                          <a:pt x="44" y="206"/>
                        </a:lnTo>
                        <a:lnTo>
                          <a:pt x="38" y="205"/>
                        </a:lnTo>
                        <a:lnTo>
                          <a:pt x="33" y="204"/>
                        </a:lnTo>
                        <a:lnTo>
                          <a:pt x="29" y="200"/>
                        </a:lnTo>
                        <a:lnTo>
                          <a:pt x="24" y="197"/>
                        </a:lnTo>
                        <a:lnTo>
                          <a:pt x="20" y="193"/>
                        </a:lnTo>
                        <a:lnTo>
                          <a:pt x="17" y="190"/>
                        </a:lnTo>
                        <a:lnTo>
                          <a:pt x="12" y="184"/>
                        </a:lnTo>
                        <a:lnTo>
                          <a:pt x="9" y="178"/>
                        </a:lnTo>
                        <a:lnTo>
                          <a:pt x="7" y="172"/>
                        </a:lnTo>
                        <a:lnTo>
                          <a:pt x="5" y="165"/>
                        </a:lnTo>
                        <a:lnTo>
                          <a:pt x="3" y="157"/>
                        </a:lnTo>
                        <a:lnTo>
                          <a:pt x="0" y="148"/>
                        </a:lnTo>
                        <a:lnTo>
                          <a:pt x="0" y="142"/>
                        </a:lnTo>
                        <a:lnTo>
                          <a:pt x="0" y="135"/>
                        </a:lnTo>
                        <a:lnTo>
                          <a:pt x="0" y="128"/>
                        </a:lnTo>
                        <a:lnTo>
                          <a:pt x="0" y="121"/>
                        </a:lnTo>
                        <a:lnTo>
                          <a:pt x="2" y="114"/>
                        </a:lnTo>
                        <a:lnTo>
                          <a:pt x="4" y="109"/>
                        </a:lnTo>
                        <a:lnTo>
                          <a:pt x="5" y="102"/>
                        </a:lnTo>
                        <a:lnTo>
                          <a:pt x="7" y="94"/>
                        </a:lnTo>
                        <a:lnTo>
                          <a:pt x="11" y="82"/>
                        </a:lnTo>
                        <a:lnTo>
                          <a:pt x="19" y="63"/>
                        </a:lnTo>
                        <a:lnTo>
                          <a:pt x="24" y="49"/>
                        </a:lnTo>
                        <a:lnTo>
                          <a:pt x="29" y="41"/>
                        </a:lnTo>
                        <a:lnTo>
                          <a:pt x="31" y="35"/>
                        </a:lnTo>
                        <a:lnTo>
                          <a:pt x="33" y="31"/>
                        </a:lnTo>
                        <a:lnTo>
                          <a:pt x="36" y="25"/>
                        </a:lnTo>
                        <a:lnTo>
                          <a:pt x="36" y="19"/>
                        </a:lnTo>
                        <a:lnTo>
                          <a:pt x="38" y="14"/>
                        </a:lnTo>
                        <a:lnTo>
                          <a:pt x="38"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249"/>
                  <p:cNvSpPr/>
                  <p:nvPr/>
                </p:nvSpPr>
                <p:spPr>
                  <a:xfrm>
                    <a:off x="789840" y="4867560"/>
                    <a:ext cx="52920" cy="121320"/>
                  </a:xfrm>
                  <a:custGeom>
                    <a:avLst/>
                    <a:gdLst>
                      <a:gd name="textAreaLeft" fmla="*/ 0 w 52920"/>
                      <a:gd name="textAreaRight" fmla="*/ 53280 w 52920"/>
                      <a:gd name="textAreaTop" fmla="*/ 0 h 121320"/>
                      <a:gd name="textAreaBottom" fmla="*/ 121680 h 121320"/>
                    </a:gdLst>
                    <a:ahLst/>
                    <a:rect l="textAreaLeft" t="textAreaTop" r="textAreaRight" b="textAreaBottom"/>
                    <a:pathLst>
                      <a:path w="98" h="207">
                        <a:moveTo>
                          <a:pt x="59" y="0"/>
                        </a:moveTo>
                        <a:lnTo>
                          <a:pt x="55" y="7"/>
                        </a:lnTo>
                        <a:lnTo>
                          <a:pt x="49" y="15"/>
                        </a:lnTo>
                        <a:lnTo>
                          <a:pt x="43" y="22"/>
                        </a:lnTo>
                        <a:lnTo>
                          <a:pt x="37" y="31"/>
                        </a:lnTo>
                        <a:lnTo>
                          <a:pt x="30" y="40"/>
                        </a:lnTo>
                        <a:lnTo>
                          <a:pt x="25" y="50"/>
                        </a:lnTo>
                        <a:lnTo>
                          <a:pt x="20" y="61"/>
                        </a:lnTo>
                        <a:lnTo>
                          <a:pt x="18" y="68"/>
                        </a:lnTo>
                        <a:lnTo>
                          <a:pt x="15" y="75"/>
                        </a:lnTo>
                        <a:lnTo>
                          <a:pt x="10" y="86"/>
                        </a:lnTo>
                        <a:lnTo>
                          <a:pt x="7" y="94"/>
                        </a:lnTo>
                        <a:lnTo>
                          <a:pt x="6" y="102"/>
                        </a:lnTo>
                        <a:lnTo>
                          <a:pt x="4" y="109"/>
                        </a:lnTo>
                        <a:lnTo>
                          <a:pt x="2" y="114"/>
                        </a:lnTo>
                        <a:lnTo>
                          <a:pt x="1" y="124"/>
                        </a:lnTo>
                        <a:lnTo>
                          <a:pt x="0" y="132"/>
                        </a:lnTo>
                        <a:lnTo>
                          <a:pt x="0" y="143"/>
                        </a:lnTo>
                        <a:lnTo>
                          <a:pt x="2" y="159"/>
                        </a:lnTo>
                        <a:lnTo>
                          <a:pt x="6" y="171"/>
                        </a:lnTo>
                        <a:lnTo>
                          <a:pt x="10" y="180"/>
                        </a:lnTo>
                        <a:lnTo>
                          <a:pt x="15" y="187"/>
                        </a:lnTo>
                        <a:lnTo>
                          <a:pt x="18" y="192"/>
                        </a:lnTo>
                        <a:lnTo>
                          <a:pt x="23" y="197"/>
                        </a:lnTo>
                        <a:lnTo>
                          <a:pt x="29" y="202"/>
                        </a:lnTo>
                        <a:lnTo>
                          <a:pt x="34" y="204"/>
                        </a:lnTo>
                        <a:lnTo>
                          <a:pt x="40" y="206"/>
                        </a:lnTo>
                        <a:lnTo>
                          <a:pt x="43" y="207"/>
                        </a:lnTo>
                        <a:lnTo>
                          <a:pt x="48" y="207"/>
                        </a:lnTo>
                        <a:lnTo>
                          <a:pt x="55" y="207"/>
                        </a:lnTo>
                        <a:lnTo>
                          <a:pt x="59" y="206"/>
                        </a:lnTo>
                        <a:lnTo>
                          <a:pt x="65" y="205"/>
                        </a:lnTo>
                        <a:lnTo>
                          <a:pt x="69" y="202"/>
                        </a:lnTo>
                        <a:lnTo>
                          <a:pt x="73" y="199"/>
                        </a:lnTo>
                        <a:lnTo>
                          <a:pt x="79" y="195"/>
                        </a:lnTo>
                        <a:lnTo>
                          <a:pt x="82" y="191"/>
                        </a:lnTo>
                        <a:lnTo>
                          <a:pt x="86" y="185"/>
                        </a:lnTo>
                        <a:lnTo>
                          <a:pt x="90" y="180"/>
                        </a:lnTo>
                        <a:lnTo>
                          <a:pt x="92" y="173"/>
                        </a:lnTo>
                        <a:lnTo>
                          <a:pt x="93" y="165"/>
                        </a:lnTo>
                        <a:lnTo>
                          <a:pt x="96" y="158"/>
                        </a:lnTo>
                        <a:lnTo>
                          <a:pt x="98" y="149"/>
                        </a:lnTo>
                        <a:lnTo>
                          <a:pt x="98" y="142"/>
                        </a:lnTo>
                        <a:lnTo>
                          <a:pt x="98" y="136"/>
                        </a:lnTo>
                        <a:lnTo>
                          <a:pt x="98" y="129"/>
                        </a:lnTo>
                        <a:lnTo>
                          <a:pt x="98" y="122"/>
                        </a:lnTo>
                        <a:lnTo>
                          <a:pt x="97" y="115"/>
                        </a:lnTo>
                        <a:lnTo>
                          <a:pt x="95" y="110"/>
                        </a:lnTo>
                        <a:lnTo>
                          <a:pt x="93" y="103"/>
                        </a:lnTo>
                        <a:lnTo>
                          <a:pt x="92" y="95"/>
                        </a:lnTo>
                        <a:lnTo>
                          <a:pt x="88" y="83"/>
                        </a:lnTo>
                        <a:lnTo>
                          <a:pt x="79" y="65"/>
                        </a:lnTo>
                        <a:lnTo>
                          <a:pt x="73" y="49"/>
                        </a:lnTo>
                        <a:lnTo>
                          <a:pt x="69" y="42"/>
                        </a:lnTo>
                        <a:lnTo>
                          <a:pt x="68" y="36"/>
                        </a:lnTo>
                        <a:lnTo>
                          <a:pt x="65" y="31"/>
                        </a:lnTo>
                        <a:lnTo>
                          <a:pt x="63" y="25"/>
                        </a:lnTo>
                        <a:lnTo>
                          <a:pt x="62" y="20"/>
                        </a:lnTo>
                        <a:lnTo>
                          <a:pt x="59" y="15"/>
                        </a:lnTo>
                        <a:lnTo>
                          <a:pt x="59" y="0"/>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250"/>
                  <p:cNvSpPr/>
                  <p:nvPr/>
                </p:nvSpPr>
                <p:spPr>
                  <a:xfrm>
                    <a:off x="803160" y="4321440"/>
                    <a:ext cx="101520" cy="124200"/>
                  </a:xfrm>
                  <a:custGeom>
                    <a:avLst/>
                    <a:gdLst>
                      <a:gd name="textAreaLeft" fmla="*/ 0 w 101520"/>
                      <a:gd name="textAreaRight" fmla="*/ 101880 w 101520"/>
                      <a:gd name="textAreaTop" fmla="*/ 0 h 124200"/>
                      <a:gd name="textAreaBottom" fmla="*/ 124560 h 124200"/>
                    </a:gdLst>
                    <a:ahLst/>
                    <a:rect l="textAreaLeft" t="textAreaTop" r="textAreaRight" b="textAreaBottom"/>
                    <a:pathLst>
                      <a:path w="184" h="212">
                        <a:moveTo>
                          <a:pt x="184" y="0"/>
                        </a:moveTo>
                        <a:lnTo>
                          <a:pt x="152" y="1"/>
                        </a:lnTo>
                        <a:lnTo>
                          <a:pt x="137" y="4"/>
                        </a:lnTo>
                        <a:lnTo>
                          <a:pt x="118" y="9"/>
                        </a:lnTo>
                        <a:lnTo>
                          <a:pt x="102" y="14"/>
                        </a:lnTo>
                        <a:lnTo>
                          <a:pt x="87" y="21"/>
                        </a:lnTo>
                        <a:lnTo>
                          <a:pt x="73" y="29"/>
                        </a:lnTo>
                        <a:lnTo>
                          <a:pt x="59" y="40"/>
                        </a:lnTo>
                        <a:lnTo>
                          <a:pt x="54" y="45"/>
                        </a:lnTo>
                        <a:lnTo>
                          <a:pt x="46" y="54"/>
                        </a:lnTo>
                        <a:lnTo>
                          <a:pt x="36" y="63"/>
                        </a:lnTo>
                        <a:lnTo>
                          <a:pt x="28" y="74"/>
                        </a:lnTo>
                        <a:lnTo>
                          <a:pt x="23" y="82"/>
                        </a:lnTo>
                        <a:lnTo>
                          <a:pt x="15" y="95"/>
                        </a:lnTo>
                        <a:lnTo>
                          <a:pt x="11" y="103"/>
                        </a:lnTo>
                        <a:lnTo>
                          <a:pt x="7" y="116"/>
                        </a:lnTo>
                        <a:lnTo>
                          <a:pt x="3" y="130"/>
                        </a:lnTo>
                        <a:lnTo>
                          <a:pt x="0" y="142"/>
                        </a:lnTo>
                        <a:lnTo>
                          <a:pt x="0" y="150"/>
                        </a:lnTo>
                        <a:lnTo>
                          <a:pt x="0" y="161"/>
                        </a:lnTo>
                        <a:lnTo>
                          <a:pt x="3" y="173"/>
                        </a:lnTo>
                        <a:lnTo>
                          <a:pt x="7" y="181"/>
                        </a:lnTo>
                        <a:lnTo>
                          <a:pt x="11" y="188"/>
                        </a:lnTo>
                        <a:lnTo>
                          <a:pt x="17" y="194"/>
                        </a:lnTo>
                        <a:lnTo>
                          <a:pt x="24" y="200"/>
                        </a:lnTo>
                        <a:lnTo>
                          <a:pt x="34" y="205"/>
                        </a:lnTo>
                        <a:lnTo>
                          <a:pt x="43" y="208"/>
                        </a:lnTo>
                        <a:lnTo>
                          <a:pt x="56" y="211"/>
                        </a:lnTo>
                        <a:lnTo>
                          <a:pt x="65" y="212"/>
                        </a:lnTo>
                        <a:lnTo>
                          <a:pt x="73" y="212"/>
                        </a:lnTo>
                        <a:lnTo>
                          <a:pt x="84" y="208"/>
                        </a:lnTo>
                        <a:lnTo>
                          <a:pt x="93" y="205"/>
                        </a:lnTo>
                        <a:lnTo>
                          <a:pt x="98" y="201"/>
                        </a:lnTo>
                        <a:lnTo>
                          <a:pt x="106" y="197"/>
                        </a:lnTo>
                        <a:lnTo>
                          <a:pt x="113" y="190"/>
                        </a:lnTo>
                        <a:lnTo>
                          <a:pt x="124" y="177"/>
                        </a:lnTo>
                        <a:lnTo>
                          <a:pt x="126" y="164"/>
                        </a:lnTo>
                        <a:lnTo>
                          <a:pt x="128" y="152"/>
                        </a:lnTo>
                        <a:lnTo>
                          <a:pt x="128" y="143"/>
                        </a:lnTo>
                        <a:lnTo>
                          <a:pt x="126" y="129"/>
                        </a:lnTo>
                        <a:lnTo>
                          <a:pt x="124" y="113"/>
                        </a:lnTo>
                        <a:lnTo>
                          <a:pt x="124" y="95"/>
                        </a:lnTo>
                        <a:lnTo>
                          <a:pt x="124" y="81"/>
                        </a:lnTo>
                        <a:lnTo>
                          <a:pt x="124" y="64"/>
                        </a:lnTo>
                        <a:lnTo>
                          <a:pt x="124" y="56"/>
                        </a:lnTo>
                        <a:lnTo>
                          <a:pt x="128" y="45"/>
                        </a:lnTo>
                        <a:lnTo>
                          <a:pt x="133" y="37"/>
                        </a:lnTo>
                        <a:lnTo>
                          <a:pt x="139" y="29"/>
                        </a:lnTo>
                        <a:lnTo>
                          <a:pt x="150" y="21"/>
                        </a:lnTo>
                        <a:lnTo>
                          <a:pt x="157" y="16"/>
                        </a:lnTo>
                        <a:lnTo>
                          <a:pt x="162" y="10"/>
                        </a:lnTo>
                        <a:lnTo>
                          <a:pt x="168" y="7"/>
                        </a:lnTo>
                        <a:lnTo>
                          <a:pt x="184" y="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251"/>
                  <p:cNvSpPr/>
                  <p:nvPr/>
                </p:nvSpPr>
                <p:spPr>
                  <a:xfrm>
                    <a:off x="1037160" y="4377960"/>
                    <a:ext cx="72720" cy="159120"/>
                  </a:xfrm>
                  <a:custGeom>
                    <a:avLst/>
                    <a:gdLst>
                      <a:gd name="textAreaLeft" fmla="*/ 0 w 72720"/>
                      <a:gd name="textAreaRight" fmla="*/ 73080 w 72720"/>
                      <a:gd name="textAreaTop" fmla="*/ 0 h 159120"/>
                      <a:gd name="textAreaBottom" fmla="*/ 159480 h 159120"/>
                    </a:gdLst>
                    <a:ahLst/>
                    <a:rect l="textAreaLeft" t="textAreaTop" r="textAreaRight" b="textAreaBottom"/>
                    <a:pathLst>
                      <a:path w="132" h="274">
                        <a:moveTo>
                          <a:pt x="51" y="0"/>
                        </a:moveTo>
                        <a:lnTo>
                          <a:pt x="59" y="9"/>
                        </a:lnTo>
                        <a:lnTo>
                          <a:pt x="66" y="19"/>
                        </a:lnTo>
                        <a:lnTo>
                          <a:pt x="73" y="29"/>
                        </a:lnTo>
                        <a:lnTo>
                          <a:pt x="82" y="41"/>
                        </a:lnTo>
                        <a:lnTo>
                          <a:pt x="89" y="52"/>
                        </a:lnTo>
                        <a:lnTo>
                          <a:pt x="98" y="66"/>
                        </a:lnTo>
                        <a:lnTo>
                          <a:pt x="104" y="79"/>
                        </a:lnTo>
                        <a:lnTo>
                          <a:pt x="108" y="89"/>
                        </a:lnTo>
                        <a:lnTo>
                          <a:pt x="112" y="99"/>
                        </a:lnTo>
                        <a:lnTo>
                          <a:pt x="116" y="112"/>
                        </a:lnTo>
                        <a:lnTo>
                          <a:pt x="121" y="124"/>
                        </a:lnTo>
                        <a:lnTo>
                          <a:pt x="125" y="134"/>
                        </a:lnTo>
                        <a:lnTo>
                          <a:pt x="126" y="144"/>
                        </a:lnTo>
                        <a:lnTo>
                          <a:pt x="128" y="149"/>
                        </a:lnTo>
                        <a:lnTo>
                          <a:pt x="130" y="163"/>
                        </a:lnTo>
                        <a:lnTo>
                          <a:pt x="132" y="174"/>
                        </a:lnTo>
                        <a:lnTo>
                          <a:pt x="132" y="189"/>
                        </a:lnTo>
                        <a:lnTo>
                          <a:pt x="128" y="209"/>
                        </a:lnTo>
                        <a:lnTo>
                          <a:pt x="123" y="224"/>
                        </a:lnTo>
                        <a:lnTo>
                          <a:pt x="116" y="237"/>
                        </a:lnTo>
                        <a:lnTo>
                          <a:pt x="112" y="247"/>
                        </a:lnTo>
                        <a:lnTo>
                          <a:pt x="107" y="252"/>
                        </a:lnTo>
                        <a:lnTo>
                          <a:pt x="99" y="260"/>
                        </a:lnTo>
                        <a:lnTo>
                          <a:pt x="93" y="265"/>
                        </a:lnTo>
                        <a:lnTo>
                          <a:pt x="86" y="269"/>
                        </a:lnTo>
                        <a:lnTo>
                          <a:pt x="79" y="272"/>
                        </a:lnTo>
                        <a:lnTo>
                          <a:pt x="73" y="274"/>
                        </a:lnTo>
                        <a:lnTo>
                          <a:pt x="66" y="274"/>
                        </a:lnTo>
                        <a:lnTo>
                          <a:pt x="59" y="274"/>
                        </a:lnTo>
                        <a:lnTo>
                          <a:pt x="51" y="272"/>
                        </a:lnTo>
                        <a:lnTo>
                          <a:pt x="46" y="270"/>
                        </a:lnTo>
                        <a:lnTo>
                          <a:pt x="39" y="265"/>
                        </a:lnTo>
                        <a:lnTo>
                          <a:pt x="33" y="261"/>
                        </a:lnTo>
                        <a:lnTo>
                          <a:pt x="27" y="256"/>
                        </a:lnTo>
                        <a:lnTo>
                          <a:pt x="22" y="251"/>
                        </a:lnTo>
                        <a:lnTo>
                          <a:pt x="17" y="243"/>
                        </a:lnTo>
                        <a:lnTo>
                          <a:pt x="12" y="236"/>
                        </a:lnTo>
                        <a:lnTo>
                          <a:pt x="9" y="228"/>
                        </a:lnTo>
                        <a:lnTo>
                          <a:pt x="6" y="219"/>
                        </a:lnTo>
                        <a:lnTo>
                          <a:pt x="4" y="208"/>
                        </a:lnTo>
                        <a:lnTo>
                          <a:pt x="2" y="197"/>
                        </a:lnTo>
                        <a:lnTo>
                          <a:pt x="0" y="188"/>
                        </a:lnTo>
                        <a:lnTo>
                          <a:pt x="0" y="179"/>
                        </a:lnTo>
                        <a:lnTo>
                          <a:pt x="0" y="169"/>
                        </a:lnTo>
                        <a:lnTo>
                          <a:pt x="0" y="161"/>
                        </a:lnTo>
                        <a:lnTo>
                          <a:pt x="3" y="152"/>
                        </a:lnTo>
                        <a:lnTo>
                          <a:pt x="4" y="145"/>
                        </a:lnTo>
                        <a:lnTo>
                          <a:pt x="7" y="137"/>
                        </a:lnTo>
                        <a:lnTo>
                          <a:pt x="9" y="125"/>
                        </a:lnTo>
                        <a:lnTo>
                          <a:pt x="15" y="110"/>
                        </a:lnTo>
                        <a:lnTo>
                          <a:pt x="25" y="85"/>
                        </a:lnTo>
                        <a:lnTo>
                          <a:pt x="33" y="65"/>
                        </a:lnTo>
                        <a:lnTo>
                          <a:pt x="39" y="55"/>
                        </a:lnTo>
                        <a:lnTo>
                          <a:pt x="43" y="48"/>
                        </a:lnTo>
                        <a:lnTo>
                          <a:pt x="46" y="41"/>
                        </a:lnTo>
                        <a:lnTo>
                          <a:pt x="47" y="32"/>
                        </a:lnTo>
                        <a:lnTo>
                          <a:pt x="50" y="25"/>
                        </a:lnTo>
                        <a:lnTo>
                          <a:pt x="51" y="18"/>
                        </a:lnTo>
                        <a:lnTo>
                          <a:pt x="51" y="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252"/>
                  <p:cNvSpPr/>
                  <p:nvPr/>
                </p:nvSpPr>
                <p:spPr>
                  <a:xfrm>
                    <a:off x="1169640" y="4249440"/>
                    <a:ext cx="136440" cy="93240"/>
                  </a:xfrm>
                  <a:custGeom>
                    <a:avLst/>
                    <a:gdLst>
                      <a:gd name="textAreaLeft" fmla="*/ 0 w 136440"/>
                      <a:gd name="textAreaRight" fmla="*/ 136800 w 136440"/>
                      <a:gd name="textAreaTop" fmla="*/ 0 h 93240"/>
                      <a:gd name="textAreaBottom" fmla="*/ 93600 h 93240"/>
                    </a:gdLst>
                    <a:ahLst/>
                    <a:rect l="textAreaLeft" t="textAreaTop" r="textAreaRight" b="textAreaBottom"/>
                    <a:pathLst>
                      <a:path w="246" h="159">
                        <a:moveTo>
                          <a:pt x="37" y="60"/>
                        </a:moveTo>
                        <a:lnTo>
                          <a:pt x="32" y="58"/>
                        </a:lnTo>
                        <a:lnTo>
                          <a:pt x="29" y="58"/>
                        </a:lnTo>
                        <a:lnTo>
                          <a:pt x="21" y="57"/>
                        </a:lnTo>
                        <a:lnTo>
                          <a:pt x="12" y="56"/>
                        </a:lnTo>
                        <a:lnTo>
                          <a:pt x="0" y="57"/>
                        </a:lnTo>
                        <a:lnTo>
                          <a:pt x="25" y="41"/>
                        </a:lnTo>
                        <a:lnTo>
                          <a:pt x="42" y="30"/>
                        </a:lnTo>
                        <a:lnTo>
                          <a:pt x="59" y="21"/>
                        </a:lnTo>
                        <a:lnTo>
                          <a:pt x="79" y="13"/>
                        </a:lnTo>
                        <a:lnTo>
                          <a:pt x="100" y="6"/>
                        </a:lnTo>
                        <a:lnTo>
                          <a:pt x="117" y="2"/>
                        </a:lnTo>
                        <a:lnTo>
                          <a:pt x="139" y="0"/>
                        </a:lnTo>
                        <a:lnTo>
                          <a:pt x="154" y="0"/>
                        </a:lnTo>
                        <a:lnTo>
                          <a:pt x="172" y="5"/>
                        </a:lnTo>
                        <a:lnTo>
                          <a:pt x="187" y="10"/>
                        </a:lnTo>
                        <a:lnTo>
                          <a:pt x="201" y="19"/>
                        </a:lnTo>
                        <a:lnTo>
                          <a:pt x="210" y="26"/>
                        </a:lnTo>
                        <a:lnTo>
                          <a:pt x="222" y="37"/>
                        </a:lnTo>
                        <a:lnTo>
                          <a:pt x="229" y="50"/>
                        </a:lnTo>
                        <a:lnTo>
                          <a:pt x="235" y="61"/>
                        </a:lnTo>
                        <a:lnTo>
                          <a:pt x="240" y="74"/>
                        </a:lnTo>
                        <a:lnTo>
                          <a:pt x="244" y="87"/>
                        </a:lnTo>
                        <a:lnTo>
                          <a:pt x="246" y="99"/>
                        </a:lnTo>
                        <a:lnTo>
                          <a:pt x="246" y="110"/>
                        </a:lnTo>
                        <a:lnTo>
                          <a:pt x="243" y="123"/>
                        </a:lnTo>
                        <a:lnTo>
                          <a:pt x="240" y="132"/>
                        </a:lnTo>
                        <a:lnTo>
                          <a:pt x="237" y="138"/>
                        </a:lnTo>
                        <a:lnTo>
                          <a:pt x="231" y="144"/>
                        </a:lnTo>
                        <a:lnTo>
                          <a:pt x="226" y="149"/>
                        </a:lnTo>
                        <a:lnTo>
                          <a:pt x="217" y="153"/>
                        </a:lnTo>
                        <a:lnTo>
                          <a:pt x="208" y="157"/>
                        </a:lnTo>
                        <a:lnTo>
                          <a:pt x="201" y="158"/>
                        </a:lnTo>
                        <a:lnTo>
                          <a:pt x="192" y="159"/>
                        </a:lnTo>
                        <a:lnTo>
                          <a:pt x="182" y="159"/>
                        </a:lnTo>
                        <a:lnTo>
                          <a:pt x="172" y="158"/>
                        </a:lnTo>
                        <a:lnTo>
                          <a:pt x="162" y="158"/>
                        </a:lnTo>
                        <a:lnTo>
                          <a:pt x="154" y="157"/>
                        </a:lnTo>
                        <a:lnTo>
                          <a:pt x="145" y="152"/>
                        </a:lnTo>
                        <a:lnTo>
                          <a:pt x="135" y="149"/>
                        </a:lnTo>
                        <a:lnTo>
                          <a:pt x="126" y="139"/>
                        </a:lnTo>
                        <a:lnTo>
                          <a:pt x="118" y="131"/>
                        </a:lnTo>
                        <a:lnTo>
                          <a:pt x="111" y="118"/>
                        </a:lnTo>
                        <a:lnTo>
                          <a:pt x="103" y="108"/>
                        </a:lnTo>
                        <a:lnTo>
                          <a:pt x="93" y="96"/>
                        </a:lnTo>
                        <a:lnTo>
                          <a:pt x="86" y="88"/>
                        </a:lnTo>
                        <a:lnTo>
                          <a:pt x="77" y="76"/>
                        </a:lnTo>
                        <a:lnTo>
                          <a:pt x="69" y="68"/>
                        </a:lnTo>
                        <a:lnTo>
                          <a:pt x="59" y="64"/>
                        </a:lnTo>
                        <a:lnTo>
                          <a:pt x="49" y="61"/>
                        </a:lnTo>
                        <a:lnTo>
                          <a:pt x="42" y="61"/>
                        </a:lnTo>
                        <a:lnTo>
                          <a:pt x="37" y="6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176" name="Rectangle 19"/>
          <p:cNvSpPr/>
          <p:nvPr/>
        </p:nvSpPr>
        <p:spPr>
          <a:xfrm>
            <a:off x="2104920" y="1469880"/>
            <a:ext cx="1552680" cy="1186200"/>
          </a:xfrm>
          <a:prstGeom prst="rect">
            <a:avLst/>
          </a:prstGeom>
          <a:solidFill>
            <a:srgbClr val="ecf1f5"/>
          </a:solidFill>
          <a:ln w="12600">
            <a:solidFill>
              <a:srgbClr val="0000cc"/>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Joint co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curr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off point</a:t>
            </a:r>
            <a:endParaRPr b="0" lang="en-US" sz="1800" spc="-1" strike="noStrike">
              <a:solidFill>
                <a:srgbClr val="000000"/>
              </a:solidFill>
              <a:latin typeface="Arial"/>
            </a:endParaRPr>
          </a:p>
        </p:txBody>
      </p:sp>
    </p:spTree>
  </p:cSld>
  <p:transition>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itfalls of Allocation</a:t>
            </a:r>
            <a:endParaRPr b="0" lang="en-US" sz="4000" spc="-1" strike="noStrike">
              <a:solidFill>
                <a:srgbClr val="464646"/>
              </a:solidFill>
              <a:latin typeface="Arial"/>
            </a:endParaRPr>
          </a:p>
        </p:txBody>
      </p:sp>
      <p:grpSp>
        <p:nvGrpSpPr>
          <p:cNvPr id="1178" name="Group 3"/>
          <p:cNvGrpSpPr/>
          <p:nvPr/>
        </p:nvGrpSpPr>
        <p:grpSpPr>
          <a:xfrm>
            <a:off x="685800" y="1886040"/>
            <a:ext cx="3138120" cy="4342680"/>
            <a:chOff x="685800" y="1886040"/>
            <a:chExt cx="3138120" cy="4342680"/>
          </a:xfrm>
        </p:grpSpPr>
        <p:grpSp>
          <p:nvGrpSpPr>
            <p:cNvPr id="1179" name="Group 4"/>
            <p:cNvGrpSpPr/>
            <p:nvPr/>
          </p:nvGrpSpPr>
          <p:grpSpPr>
            <a:xfrm>
              <a:off x="1612440" y="2450880"/>
              <a:ext cx="1240920" cy="3777840"/>
              <a:chOff x="1612440" y="2450880"/>
              <a:chExt cx="1240920" cy="3777840"/>
            </a:xfrm>
          </p:grpSpPr>
          <p:grpSp>
            <p:nvGrpSpPr>
              <p:cNvPr id="1180" name="Group 5"/>
              <p:cNvGrpSpPr/>
              <p:nvPr/>
            </p:nvGrpSpPr>
            <p:grpSpPr>
              <a:xfrm>
                <a:off x="2105640" y="3078000"/>
                <a:ext cx="503640" cy="744480"/>
                <a:chOff x="2105640" y="3078000"/>
                <a:chExt cx="503640" cy="744480"/>
              </a:xfrm>
            </p:grpSpPr>
            <p:sp>
              <p:nvSpPr>
                <p:cNvPr id="1181" name="Freeform 6"/>
                <p:cNvSpPr/>
                <p:nvPr/>
              </p:nvSpPr>
              <p:spPr>
                <a:xfrm>
                  <a:off x="2105640" y="3569400"/>
                  <a:ext cx="283680" cy="253080"/>
                </a:xfrm>
                <a:custGeom>
                  <a:avLst/>
                  <a:gdLst>
                    <a:gd name="textAreaLeft" fmla="*/ 0 w 283680"/>
                    <a:gd name="textAreaRight" fmla="*/ 284040 w 283680"/>
                    <a:gd name="textAreaTop" fmla="*/ 0 h 253080"/>
                    <a:gd name="textAreaBottom" fmla="*/ 253440 h 253080"/>
                  </a:gdLst>
                  <a:ahLst/>
                  <a:rect l="textAreaLeft" t="textAreaTop" r="textAreaRight" b="textAreaBottom"/>
                  <a:pathLst>
                    <a:path w="410" h="388">
                      <a:moveTo>
                        <a:pt x="410" y="108"/>
                      </a:moveTo>
                      <a:lnTo>
                        <a:pt x="339" y="263"/>
                      </a:lnTo>
                      <a:lnTo>
                        <a:pt x="305" y="343"/>
                      </a:lnTo>
                      <a:lnTo>
                        <a:pt x="118" y="388"/>
                      </a:lnTo>
                      <a:lnTo>
                        <a:pt x="0" y="221"/>
                      </a:lnTo>
                      <a:lnTo>
                        <a:pt x="52" y="0"/>
                      </a:lnTo>
                      <a:lnTo>
                        <a:pt x="410" y="108"/>
                      </a:lnTo>
                      <a:close/>
                    </a:path>
                  </a:pathLst>
                </a:custGeom>
                <a:solidFill>
                  <a:srgbClr val="ffe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2" name="Group 7"/>
                <p:cNvGrpSpPr/>
                <p:nvPr/>
              </p:nvGrpSpPr>
              <p:grpSpPr>
                <a:xfrm>
                  <a:off x="2112480" y="3078000"/>
                  <a:ext cx="496800" cy="633240"/>
                  <a:chOff x="2112480" y="3078000"/>
                  <a:chExt cx="496800" cy="633240"/>
                </a:xfrm>
              </p:grpSpPr>
              <p:sp>
                <p:nvSpPr>
                  <p:cNvPr id="1183" name="Freeform 8"/>
                  <p:cNvSpPr/>
                  <p:nvPr/>
                </p:nvSpPr>
                <p:spPr>
                  <a:xfrm>
                    <a:off x="2112480" y="3132360"/>
                    <a:ext cx="453600" cy="578880"/>
                  </a:xfrm>
                  <a:custGeom>
                    <a:avLst/>
                    <a:gdLst>
                      <a:gd name="textAreaLeft" fmla="*/ 0 w 453600"/>
                      <a:gd name="textAreaRight" fmla="*/ 453960 w 453600"/>
                      <a:gd name="textAreaTop" fmla="*/ 0 h 578880"/>
                      <a:gd name="textAreaBottom" fmla="*/ 579240 h 578880"/>
                    </a:gdLst>
                    <a:ahLst/>
                    <a:rect l="textAreaLeft" t="textAreaTop" r="textAreaRight" b="textAreaBottom"/>
                    <a:pathLst>
                      <a:path w="655" h="888">
                        <a:moveTo>
                          <a:pt x="261" y="19"/>
                        </a:moveTo>
                        <a:lnTo>
                          <a:pt x="327" y="2"/>
                        </a:lnTo>
                        <a:lnTo>
                          <a:pt x="411" y="0"/>
                        </a:lnTo>
                        <a:lnTo>
                          <a:pt x="474" y="14"/>
                        </a:lnTo>
                        <a:lnTo>
                          <a:pt x="527" y="39"/>
                        </a:lnTo>
                        <a:lnTo>
                          <a:pt x="569" y="73"/>
                        </a:lnTo>
                        <a:lnTo>
                          <a:pt x="605" y="115"/>
                        </a:lnTo>
                        <a:lnTo>
                          <a:pt x="642" y="179"/>
                        </a:lnTo>
                        <a:lnTo>
                          <a:pt x="655" y="248"/>
                        </a:lnTo>
                        <a:lnTo>
                          <a:pt x="653" y="311"/>
                        </a:lnTo>
                        <a:lnTo>
                          <a:pt x="647" y="362"/>
                        </a:lnTo>
                        <a:lnTo>
                          <a:pt x="625" y="425"/>
                        </a:lnTo>
                        <a:lnTo>
                          <a:pt x="577" y="513"/>
                        </a:lnTo>
                        <a:lnTo>
                          <a:pt x="565" y="570"/>
                        </a:lnTo>
                        <a:lnTo>
                          <a:pt x="539" y="629"/>
                        </a:lnTo>
                        <a:lnTo>
                          <a:pt x="505" y="684"/>
                        </a:lnTo>
                        <a:lnTo>
                          <a:pt x="455" y="751"/>
                        </a:lnTo>
                        <a:lnTo>
                          <a:pt x="392" y="808"/>
                        </a:lnTo>
                        <a:lnTo>
                          <a:pt x="312" y="859"/>
                        </a:lnTo>
                        <a:lnTo>
                          <a:pt x="242" y="880"/>
                        </a:lnTo>
                        <a:lnTo>
                          <a:pt x="186" y="888"/>
                        </a:lnTo>
                        <a:lnTo>
                          <a:pt x="156" y="882"/>
                        </a:lnTo>
                        <a:lnTo>
                          <a:pt x="118" y="861"/>
                        </a:lnTo>
                        <a:lnTo>
                          <a:pt x="78" y="814"/>
                        </a:lnTo>
                        <a:lnTo>
                          <a:pt x="28" y="705"/>
                        </a:lnTo>
                        <a:lnTo>
                          <a:pt x="11" y="646"/>
                        </a:lnTo>
                        <a:lnTo>
                          <a:pt x="0" y="566"/>
                        </a:lnTo>
                        <a:lnTo>
                          <a:pt x="4" y="496"/>
                        </a:lnTo>
                        <a:lnTo>
                          <a:pt x="7" y="433"/>
                        </a:lnTo>
                        <a:lnTo>
                          <a:pt x="21" y="378"/>
                        </a:lnTo>
                        <a:lnTo>
                          <a:pt x="47" y="301"/>
                        </a:lnTo>
                        <a:lnTo>
                          <a:pt x="99" y="185"/>
                        </a:lnTo>
                        <a:lnTo>
                          <a:pt x="124" y="136"/>
                        </a:lnTo>
                        <a:lnTo>
                          <a:pt x="160" y="90"/>
                        </a:lnTo>
                        <a:lnTo>
                          <a:pt x="207" y="48"/>
                        </a:lnTo>
                        <a:lnTo>
                          <a:pt x="261" y="19"/>
                        </a:lnTo>
                        <a:close/>
                      </a:path>
                    </a:pathLst>
                  </a:custGeom>
                  <a:solidFill>
                    <a:srgbClr val="ffe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9"/>
                  <p:cNvSpPr/>
                  <p:nvPr/>
                </p:nvSpPr>
                <p:spPr>
                  <a:xfrm>
                    <a:off x="2141640" y="3078000"/>
                    <a:ext cx="467640" cy="397440"/>
                  </a:xfrm>
                  <a:custGeom>
                    <a:avLst/>
                    <a:gdLst>
                      <a:gd name="textAreaLeft" fmla="*/ 0 w 467640"/>
                      <a:gd name="textAreaRight" fmla="*/ 468000 w 467640"/>
                      <a:gd name="textAreaTop" fmla="*/ 0 h 397440"/>
                      <a:gd name="textAreaBottom" fmla="*/ 397800 h 397440"/>
                    </a:gdLst>
                    <a:ahLst/>
                    <a:rect l="textAreaLeft" t="textAreaTop" r="textAreaRight" b="textAreaBottom"/>
                    <a:pathLst>
                      <a:path w="676" h="609">
                        <a:moveTo>
                          <a:pt x="0" y="405"/>
                        </a:moveTo>
                        <a:lnTo>
                          <a:pt x="11" y="339"/>
                        </a:lnTo>
                        <a:lnTo>
                          <a:pt x="11" y="310"/>
                        </a:lnTo>
                        <a:lnTo>
                          <a:pt x="11" y="280"/>
                        </a:lnTo>
                        <a:lnTo>
                          <a:pt x="15" y="236"/>
                        </a:lnTo>
                        <a:lnTo>
                          <a:pt x="21" y="209"/>
                        </a:lnTo>
                        <a:lnTo>
                          <a:pt x="32" y="181"/>
                        </a:lnTo>
                        <a:lnTo>
                          <a:pt x="45" y="152"/>
                        </a:lnTo>
                        <a:lnTo>
                          <a:pt x="66" y="122"/>
                        </a:lnTo>
                        <a:lnTo>
                          <a:pt x="91" y="97"/>
                        </a:lnTo>
                        <a:lnTo>
                          <a:pt x="116" y="80"/>
                        </a:lnTo>
                        <a:lnTo>
                          <a:pt x="141" y="68"/>
                        </a:lnTo>
                        <a:lnTo>
                          <a:pt x="162" y="66"/>
                        </a:lnTo>
                        <a:lnTo>
                          <a:pt x="179" y="68"/>
                        </a:lnTo>
                        <a:lnTo>
                          <a:pt x="232" y="22"/>
                        </a:lnTo>
                        <a:lnTo>
                          <a:pt x="253" y="9"/>
                        </a:lnTo>
                        <a:lnTo>
                          <a:pt x="274" y="3"/>
                        </a:lnTo>
                        <a:lnTo>
                          <a:pt x="303" y="0"/>
                        </a:lnTo>
                        <a:lnTo>
                          <a:pt x="350" y="2"/>
                        </a:lnTo>
                        <a:lnTo>
                          <a:pt x="421" y="9"/>
                        </a:lnTo>
                        <a:lnTo>
                          <a:pt x="455" y="15"/>
                        </a:lnTo>
                        <a:lnTo>
                          <a:pt x="476" y="22"/>
                        </a:lnTo>
                        <a:lnTo>
                          <a:pt x="501" y="34"/>
                        </a:lnTo>
                        <a:lnTo>
                          <a:pt x="554" y="68"/>
                        </a:lnTo>
                        <a:lnTo>
                          <a:pt x="575" y="87"/>
                        </a:lnTo>
                        <a:lnTo>
                          <a:pt x="605" y="123"/>
                        </a:lnTo>
                        <a:lnTo>
                          <a:pt x="657" y="173"/>
                        </a:lnTo>
                        <a:lnTo>
                          <a:pt x="668" y="184"/>
                        </a:lnTo>
                        <a:lnTo>
                          <a:pt x="672" y="200"/>
                        </a:lnTo>
                        <a:lnTo>
                          <a:pt x="676" y="274"/>
                        </a:lnTo>
                        <a:lnTo>
                          <a:pt x="676" y="373"/>
                        </a:lnTo>
                        <a:lnTo>
                          <a:pt x="672" y="392"/>
                        </a:lnTo>
                        <a:lnTo>
                          <a:pt x="668" y="409"/>
                        </a:lnTo>
                        <a:lnTo>
                          <a:pt x="659" y="434"/>
                        </a:lnTo>
                        <a:lnTo>
                          <a:pt x="638" y="502"/>
                        </a:lnTo>
                        <a:lnTo>
                          <a:pt x="596" y="554"/>
                        </a:lnTo>
                        <a:lnTo>
                          <a:pt x="575" y="577"/>
                        </a:lnTo>
                        <a:lnTo>
                          <a:pt x="554" y="596"/>
                        </a:lnTo>
                        <a:lnTo>
                          <a:pt x="533" y="609"/>
                        </a:lnTo>
                        <a:lnTo>
                          <a:pt x="537" y="581"/>
                        </a:lnTo>
                        <a:lnTo>
                          <a:pt x="543" y="560"/>
                        </a:lnTo>
                        <a:lnTo>
                          <a:pt x="554" y="525"/>
                        </a:lnTo>
                        <a:lnTo>
                          <a:pt x="571" y="487"/>
                        </a:lnTo>
                        <a:lnTo>
                          <a:pt x="588" y="424"/>
                        </a:lnTo>
                        <a:lnTo>
                          <a:pt x="596" y="398"/>
                        </a:lnTo>
                        <a:lnTo>
                          <a:pt x="598" y="373"/>
                        </a:lnTo>
                        <a:lnTo>
                          <a:pt x="584" y="367"/>
                        </a:lnTo>
                        <a:lnTo>
                          <a:pt x="562" y="362"/>
                        </a:lnTo>
                        <a:lnTo>
                          <a:pt x="546" y="352"/>
                        </a:lnTo>
                        <a:lnTo>
                          <a:pt x="463" y="278"/>
                        </a:lnTo>
                        <a:lnTo>
                          <a:pt x="445" y="259"/>
                        </a:lnTo>
                        <a:lnTo>
                          <a:pt x="434" y="253"/>
                        </a:lnTo>
                        <a:lnTo>
                          <a:pt x="424" y="255"/>
                        </a:lnTo>
                        <a:lnTo>
                          <a:pt x="419" y="266"/>
                        </a:lnTo>
                        <a:lnTo>
                          <a:pt x="417" y="289"/>
                        </a:lnTo>
                        <a:lnTo>
                          <a:pt x="409" y="272"/>
                        </a:lnTo>
                        <a:lnTo>
                          <a:pt x="396" y="259"/>
                        </a:lnTo>
                        <a:lnTo>
                          <a:pt x="375" y="243"/>
                        </a:lnTo>
                        <a:lnTo>
                          <a:pt x="356" y="217"/>
                        </a:lnTo>
                        <a:lnTo>
                          <a:pt x="339" y="213"/>
                        </a:lnTo>
                        <a:lnTo>
                          <a:pt x="316" y="209"/>
                        </a:lnTo>
                        <a:lnTo>
                          <a:pt x="291" y="202"/>
                        </a:lnTo>
                        <a:lnTo>
                          <a:pt x="274" y="192"/>
                        </a:lnTo>
                        <a:lnTo>
                          <a:pt x="259" y="181"/>
                        </a:lnTo>
                        <a:lnTo>
                          <a:pt x="228" y="165"/>
                        </a:lnTo>
                        <a:lnTo>
                          <a:pt x="207" y="160"/>
                        </a:lnTo>
                        <a:lnTo>
                          <a:pt x="188" y="181"/>
                        </a:lnTo>
                        <a:lnTo>
                          <a:pt x="165" y="202"/>
                        </a:lnTo>
                        <a:lnTo>
                          <a:pt x="144" y="217"/>
                        </a:lnTo>
                        <a:lnTo>
                          <a:pt x="103" y="253"/>
                        </a:lnTo>
                        <a:lnTo>
                          <a:pt x="82" y="278"/>
                        </a:lnTo>
                        <a:lnTo>
                          <a:pt x="64" y="306"/>
                        </a:lnTo>
                        <a:lnTo>
                          <a:pt x="36" y="348"/>
                        </a:lnTo>
                        <a:lnTo>
                          <a:pt x="0" y="405"/>
                        </a:lnTo>
                        <a:close/>
                      </a:path>
                    </a:pathLst>
                  </a:custGeom>
                  <a:solidFill>
                    <a:srgbClr val="603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Oval 10"/>
                  <p:cNvSpPr/>
                  <p:nvPr/>
                </p:nvSpPr>
                <p:spPr>
                  <a:xfrm>
                    <a:off x="2243880" y="3562920"/>
                    <a:ext cx="52200" cy="47880"/>
                  </a:xfrm>
                  <a:prstGeom prst="ellipse">
                    <a:avLst/>
                  </a:prstGeom>
                  <a:solidFill>
                    <a:srgbClr val="a05000"/>
                  </a:solidFill>
                  <a:ln w="12600">
                    <a:solidFill>
                      <a:srgbClr val="ffc08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6" name="Group 11"/>
                  <p:cNvGrpSpPr/>
                  <p:nvPr/>
                </p:nvGrpSpPr>
                <p:grpSpPr>
                  <a:xfrm>
                    <a:off x="2202480" y="3301920"/>
                    <a:ext cx="271800" cy="136440"/>
                    <a:chOff x="2202480" y="3301920"/>
                    <a:chExt cx="271800" cy="136440"/>
                  </a:xfrm>
                </p:grpSpPr>
                <p:sp>
                  <p:nvSpPr>
                    <p:cNvPr id="1187" name="Freeform 12"/>
                    <p:cNvSpPr/>
                    <p:nvPr/>
                  </p:nvSpPr>
                  <p:spPr>
                    <a:xfrm>
                      <a:off x="2412360" y="3344760"/>
                      <a:ext cx="61920" cy="93600"/>
                    </a:xfrm>
                    <a:custGeom>
                      <a:avLst/>
                      <a:gdLst>
                        <a:gd name="textAreaLeft" fmla="*/ 0 w 61920"/>
                        <a:gd name="textAreaRight" fmla="*/ 62280 w 61920"/>
                        <a:gd name="textAreaTop" fmla="*/ 0 h 93600"/>
                        <a:gd name="textAreaBottom" fmla="*/ 93960 h 93600"/>
                      </a:gdLst>
                      <a:ahLst/>
                      <a:rect l="textAreaLeft" t="textAreaTop" r="textAreaRight" b="textAreaBottom"/>
                      <a:pathLst>
                        <a:path w="90" h="145">
                          <a:moveTo>
                            <a:pt x="0" y="0"/>
                          </a:moveTo>
                          <a:lnTo>
                            <a:pt x="19" y="6"/>
                          </a:lnTo>
                          <a:lnTo>
                            <a:pt x="51" y="36"/>
                          </a:lnTo>
                          <a:lnTo>
                            <a:pt x="76" y="76"/>
                          </a:lnTo>
                          <a:lnTo>
                            <a:pt x="82" y="118"/>
                          </a:lnTo>
                          <a:lnTo>
                            <a:pt x="90" y="145"/>
                          </a:lnTo>
                          <a:lnTo>
                            <a:pt x="67" y="122"/>
                          </a:lnTo>
                          <a:lnTo>
                            <a:pt x="57" y="84"/>
                          </a:lnTo>
                          <a:lnTo>
                            <a:pt x="36" y="53"/>
                          </a:lnTo>
                          <a:lnTo>
                            <a:pt x="17" y="31"/>
                          </a:lnTo>
                          <a:lnTo>
                            <a:pt x="0"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3"/>
                    <p:cNvSpPr/>
                    <p:nvPr/>
                  </p:nvSpPr>
                  <p:spPr>
                    <a:xfrm>
                      <a:off x="2202480" y="3301920"/>
                      <a:ext cx="118800" cy="27360"/>
                    </a:xfrm>
                    <a:custGeom>
                      <a:avLst/>
                      <a:gdLst>
                        <a:gd name="textAreaLeft" fmla="*/ 0 w 118800"/>
                        <a:gd name="textAreaRight" fmla="*/ 119160 w 118800"/>
                        <a:gd name="textAreaTop" fmla="*/ 0 h 27360"/>
                        <a:gd name="textAreaBottom" fmla="*/ 27720 h 27360"/>
                      </a:gdLst>
                      <a:ahLst/>
                      <a:rect l="textAreaLeft" t="textAreaTop" r="textAreaRight" b="textAreaBottom"/>
                      <a:pathLst>
                        <a:path w="174" h="42">
                          <a:moveTo>
                            <a:pt x="174" y="8"/>
                          </a:moveTo>
                          <a:lnTo>
                            <a:pt x="141" y="0"/>
                          </a:lnTo>
                          <a:lnTo>
                            <a:pt x="97" y="2"/>
                          </a:lnTo>
                          <a:lnTo>
                            <a:pt x="61" y="10"/>
                          </a:lnTo>
                          <a:lnTo>
                            <a:pt x="37" y="25"/>
                          </a:lnTo>
                          <a:lnTo>
                            <a:pt x="16" y="31"/>
                          </a:lnTo>
                          <a:lnTo>
                            <a:pt x="0" y="42"/>
                          </a:lnTo>
                          <a:lnTo>
                            <a:pt x="50" y="33"/>
                          </a:lnTo>
                          <a:lnTo>
                            <a:pt x="92" y="21"/>
                          </a:lnTo>
                          <a:lnTo>
                            <a:pt x="132" y="16"/>
                          </a:lnTo>
                          <a:lnTo>
                            <a:pt x="174" y="8"/>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189" name="Freeform 14"/>
                  <p:cNvSpPr/>
                  <p:nvPr/>
                </p:nvSpPr>
                <p:spPr>
                  <a:xfrm>
                    <a:off x="2295000" y="3398760"/>
                    <a:ext cx="52560" cy="132840"/>
                  </a:xfrm>
                  <a:custGeom>
                    <a:avLst/>
                    <a:gdLst>
                      <a:gd name="textAreaLeft" fmla="*/ 0 w 52560"/>
                      <a:gd name="textAreaRight" fmla="*/ 52920 w 52560"/>
                      <a:gd name="textAreaTop" fmla="*/ 0 h 132840"/>
                      <a:gd name="textAreaBottom" fmla="*/ 133200 h 132840"/>
                    </a:gdLst>
                    <a:ahLst/>
                    <a:rect l="textAreaLeft" t="textAreaTop" r="textAreaRight" b="textAreaBottom"/>
                    <a:pathLst>
                      <a:path w="76" h="206">
                        <a:moveTo>
                          <a:pt x="76" y="0"/>
                        </a:moveTo>
                        <a:lnTo>
                          <a:pt x="66" y="91"/>
                        </a:lnTo>
                        <a:lnTo>
                          <a:pt x="59" y="139"/>
                        </a:lnTo>
                        <a:lnTo>
                          <a:pt x="59" y="164"/>
                        </a:lnTo>
                        <a:lnTo>
                          <a:pt x="53" y="181"/>
                        </a:lnTo>
                        <a:lnTo>
                          <a:pt x="36" y="192"/>
                        </a:lnTo>
                        <a:lnTo>
                          <a:pt x="15" y="196"/>
                        </a:lnTo>
                        <a:lnTo>
                          <a:pt x="0" y="196"/>
                        </a:lnTo>
                        <a:lnTo>
                          <a:pt x="0" y="2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0" name="Group 15"/>
                  <p:cNvGrpSpPr/>
                  <p:nvPr/>
                </p:nvGrpSpPr>
                <p:grpSpPr>
                  <a:xfrm>
                    <a:off x="2152440" y="3319200"/>
                    <a:ext cx="361800" cy="174240"/>
                    <a:chOff x="2152440" y="3319200"/>
                    <a:chExt cx="361800" cy="174240"/>
                  </a:xfrm>
                </p:grpSpPr>
                <p:grpSp>
                  <p:nvGrpSpPr>
                    <p:cNvPr id="1191" name="Group 16"/>
                    <p:cNvGrpSpPr/>
                    <p:nvPr/>
                  </p:nvGrpSpPr>
                  <p:grpSpPr>
                    <a:xfrm>
                      <a:off x="2152440" y="3319200"/>
                      <a:ext cx="361800" cy="174240"/>
                      <a:chOff x="2152440" y="3319200"/>
                      <a:chExt cx="361800" cy="174240"/>
                    </a:xfrm>
                  </p:grpSpPr>
                  <p:grpSp>
                    <p:nvGrpSpPr>
                      <p:cNvPr id="1192" name="Group 17"/>
                      <p:cNvGrpSpPr/>
                      <p:nvPr/>
                    </p:nvGrpSpPr>
                    <p:grpSpPr>
                      <a:xfrm>
                        <a:off x="2152440" y="3319200"/>
                        <a:ext cx="361800" cy="174240"/>
                        <a:chOff x="2152440" y="3319200"/>
                        <a:chExt cx="361800" cy="174240"/>
                      </a:xfrm>
                    </p:grpSpPr>
                    <p:sp>
                      <p:nvSpPr>
                        <p:cNvPr id="1193" name="Freeform 18"/>
                        <p:cNvSpPr/>
                        <p:nvPr/>
                      </p:nvSpPr>
                      <p:spPr>
                        <a:xfrm>
                          <a:off x="2152440" y="3319200"/>
                          <a:ext cx="164520" cy="114480"/>
                        </a:xfrm>
                        <a:custGeom>
                          <a:avLst/>
                          <a:gdLst>
                            <a:gd name="textAreaLeft" fmla="*/ 0 w 164520"/>
                            <a:gd name="textAreaRight" fmla="*/ 164880 w 164520"/>
                            <a:gd name="textAreaTop" fmla="*/ 0 h 114480"/>
                            <a:gd name="textAreaBottom" fmla="*/ 114840 h 114480"/>
                          </a:gdLst>
                          <a:ahLst/>
                          <a:rect l="textAreaLeft" t="textAreaTop" r="textAreaRight" b="textAreaBottom"/>
                          <a:pathLst>
                            <a:path w="236" h="177">
                              <a:moveTo>
                                <a:pt x="53" y="0"/>
                              </a:moveTo>
                              <a:lnTo>
                                <a:pt x="91" y="8"/>
                              </a:lnTo>
                              <a:lnTo>
                                <a:pt x="135" y="19"/>
                              </a:lnTo>
                              <a:lnTo>
                                <a:pt x="175" y="34"/>
                              </a:lnTo>
                              <a:lnTo>
                                <a:pt x="206" y="50"/>
                              </a:lnTo>
                              <a:lnTo>
                                <a:pt x="236" y="71"/>
                              </a:lnTo>
                              <a:lnTo>
                                <a:pt x="227" y="97"/>
                              </a:lnTo>
                              <a:lnTo>
                                <a:pt x="209" y="107"/>
                              </a:lnTo>
                              <a:lnTo>
                                <a:pt x="194" y="135"/>
                              </a:lnTo>
                              <a:lnTo>
                                <a:pt x="181" y="154"/>
                              </a:lnTo>
                              <a:lnTo>
                                <a:pt x="160" y="173"/>
                              </a:lnTo>
                              <a:lnTo>
                                <a:pt x="135" y="177"/>
                              </a:lnTo>
                              <a:lnTo>
                                <a:pt x="108" y="173"/>
                              </a:lnTo>
                              <a:lnTo>
                                <a:pt x="80" y="168"/>
                              </a:lnTo>
                              <a:lnTo>
                                <a:pt x="53" y="156"/>
                              </a:lnTo>
                              <a:lnTo>
                                <a:pt x="36" y="151"/>
                              </a:lnTo>
                              <a:lnTo>
                                <a:pt x="21" y="139"/>
                              </a:lnTo>
                              <a:lnTo>
                                <a:pt x="7" y="126"/>
                              </a:lnTo>
                              <a:lnTo>
                                <a:pt x="2" y="107"/>
                              </a:lnTo>
                              <a:lnTo>
                                <a:pt x="0" y="71"/>
                              </a:lnTo>
                              <a:lnTo>
                                <a:pt x="2" y="48"/>
                              </a:lnTo>
                              <a:lnTo>
                                <a:pt x="6" y="19"/>
                              </a:lnTo>
                              <a:lnTo>
                                <a:pt x="19" y="0"/>
                              </a:lnTo>
                              <a:lnTo>
                                <a:pt x="53" y="0"/>
                              </a:lnTo>
                              <a:close/>
                            </a:path>
                          </a:pathLst>
                        </a:custGeom>
                        <a:solidFill>
                          <a:srgbClr val="ffc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9"/>
                        <p:cNvSpPr/>
                        <p:nvPr/>
                      </p:nvSpPr>
                      <p:spPr>
                        <a:xfrm>
                          <a:off x="2348640" y="3373560"/>
                          <a:ext cx="165600" cy="119880"/>
                        </a:xfrm>
                        <a:custGeom>
                          <a:avLst/>
                          <a:gdLst>
                            <a:gd name="textAreaLeft" fmla="*/ 0 w 165600"/>
                            <a:gd name="textAreaRight" fmla="*/ 165960 w 165600"/>
                            <a:gd name="textAreaTop" fmla="*/ 0 h 119880"/>
                            <a:gd name="textAreaBottom" fmla="*/ 120240 h 119880"/>
                          </a:gdLst>
                          <a:ahLst/>
                          <a:rect l="textAreaLeft" t="textAreaTop" r="textAreaRight" b="textAreaBottom"/>
                          <a:pathLst>
                            <a:path w="240" h="183">
                              <a:moveTo>
                                <a:pt x="7" y="6"/>
                              </a:moveTo>
                              <a:lnTo>
                                <a:pt x="0" y="25"/>
                              </a:lnTo>
                              <a:lnTo>
                                <a:pt x="5" y="47"/>
                              </a:lnTo>
                              <a:lnTo>
                                <a:pt x="5" y="72"/>
                              </a:lnTo>
                              <a:lnTo>
                                <a:pt x="7" y="103"/>
                              </a:lnTo>
                              <a:lnTo>
                                <a:pt x="15" y="129"/>
                              </a:lnTo>
                              <a:lnTo>
                                <a:pt x="24" y="147"/>
                              </a:lnTo>
                              <a:lnTo>
                                <a:pt x="53" y="164"/>
                              </a:lnTo>
                              <a:lnTo>
                                <a:pt x="78" y="173"/>
                              </a:lnTo>
                              <a:lnTo>
                                <a:pt x="103" y="179"/>
                              </a:lnTo>
                              <a:lnTo>
                                <a:pt x="131" y="183"/>
                              </a:lnTo>
                              <a:lnTo>
                                <a:pt x="177" y="173"/>
                              </a:lnTo>
                              <a:lnTo>
                                <a:pt x="194" y="162"/>
                              </a:lnTo>
                              <a:lnTo>
                                <a:pt x="205" y="148"/>
                              </a:lnTo>
                              <a:lnTo>
                                <a:pt x="221" y="124"/>
                              </a:lnTo>
                              <a:lnTo>
                                <a:pt x="236" y="84"/>
                              </a:lnTo>
                              <a:lnTo>
                                <a:pt x="240" y="57"/>
                              </a:lnTo>
                              <a:lnTo>
                                <a:pt x="226" y="46"/>
                              </a:lnTo>
                              <a:lnTo>
                                <a:pt x="196" y="32"/>
                              </a:lnTo>
                              <a:lnTo>
                                <a:pt x="165" y="21"/>
                              </a:lnTo>
                              <a:lnTo>
                                <a:pt x="125" y="11"/>
                              </a:lnTo>
                              <a:lnTo>
                                <a:pt x="97" y="6"/>
                              </a:lnTo>
                              <a:lnTo>
                                <a:pt x="63" y="2"/>
                              </a:lnTo>
                              <a:lnTo>
                                <a:pt x="40" y="0"/>
                              </a:lnTo>
                              <a:lnTo>
                                <a:pt x="7" y="6"/>
                              </a:lnTo>
                              <a:close/>
                            </a:path>
                          </a:pathLst>
                        </a:custGeom>
                        <a:solidFill>
                          <a:srgbClr val="ffc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Arc 20"/>
                      <p:cNvSpPr/>
                      <p:nvPr/>
                    </p:nvSpPr>
                    <p:spPr>
                      <a:xfrm>
                        <a:off x="2312640" y="3372480"/>
                        <a:ext cx="34560" cy="12960"/>
                      </a:xfrm>
                      <a:custGeom>
                        <a:avLst/>
                        <a:gdLst>
                          <a:gd name="textAreaLeft" fmla="*/ 0 w 34560"/>
                          <a:gd name="textAreaRight" fmla="*/ 34920 w 34560"/>
                          <a:gd name="textAreaTop" fmla="*/ 0 h 12960"/>
                          <a:gd name="textAreaBottom" fmla="*/ 13320 h 12960"/>
                        </a:gdLst>
                        <a:ahLst/>
                        <a:rect l="textAreaLeft" t="textAreaTop" r="textAreaRight" b="textAreaBottom"/>
                        <a:pathLst>
                          <a:path fill="none" w="21600" h="21591">
                            <a:moveTo>
                              <a:pt x="617" y="-1"/>
                            </a:moveTo>
                            <a:cubicBezTo>
                              <a:pt x="12301" y="333"/>
                              <a:pt x="21600" y="9901"/>
                              <a:pt x="21600" y="21591"/>
                            </a:cubicBezTo>
                          </a:path>
                          <a:path stroke="0" w="21600" h="21591">
                            <a:moveTo>
                              <a:pt x="617" y="-1"/>
                            </a:moveTo>
                            <a:cubicBezTo>
                              <a:pt x="12301" y="333"/>
                              <a:pt x="21600" y="9901"/>
                              <a:pt x="21600" y="21591"/>
                            </a:cubicBezTo>
                            <a:lnTo>
                              <a:pt x="0" y="21591"/>
                            </a:lnTo>
                            <a:lnTo>
                              <a:pt x="617" y="-1"/>
                            </a:lnTo>
                            <a:close/>
                          </a:path>
                        </a:pathLst>
                      </a:custGeom>
                      <a:noFill/>
                      <a:ln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1196" name="Group 21"/>
                    <p:cNvGrpSpPr/>
                    <p:nvPr/>
                  </p:nvGrpSpPr>
                  <p:grpSpPr>
                    <a:xfrm>
                      <a:off x="2230920" y="3371040"/>
                      <a:ext cx="189000" cy="73800"/>
                      <a:chOff x="2230920" y="3371040"/>
                      <a:chExt cx="189000" cy="73800"/>
                    </a:xfrm>
                  </p:grpSpPr>
                  <p:sp>
                    <p:nvSpPr>
                      <p:cNvPr id="1197" name="Oval 22"/>
                      <p:cNvSpPr/>
                      <p:nvPr/>
                    </p:nvSpPr>
                    <p:spPr>
                      <a:xfrm>
                        <a:off x="2230920" y="3371040"/>
                        <a:ext cx="23400" cy="21960"/>
                      </a:xfrm>
                      <a:prstGeom prst="ellipse">
                        <a:avLst/>
                      </a:prstGeom>
                      <a:solidFill>
                        <a:srgbClr val="00e0e0"/>
                      </a:solidFill>
                      <a:ln w="12600">
                        <a:solidFill>
                          <a:srgbClr val="008080"/>
                        </a:solidFill>
                        <a:miter/>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Oval 23"/>
                      <p:cNvSpPr/>
                      <p:nvPr/>
                    </p:nvSpPr>
                    <p:spPr>
                      <a:xfrm>
                        <a:off x="2396520" y="3424320"/>
                        <a:ext cx="23400" cy="20520"/>
                      </a:xfrm>
                      <a:prstGeom prst="ellipse">
                        <a:avLst/>
                      </a:prstGeom>
                      <a:solidFill>
                        <a:srgbClr val="00e0e0"/>
                      </a:solidFill>
                      <a:ln w="12600">
                        <a:solidFill>
                          <a:srgbClr val="008080"/>
                        </a:solidFill>
                        <a:miter/>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1199" name="Group 24"/>
              <p:cNvGrpSpPr/>
              <p:nvPr/>
            </p:nvGrpSpPr>
            <p:grpSpPr>
              <a:xfrm>
                <a:off x="1612440" y="2450880"/>
                <a:ext cx="1240920" cy="3777840"/>
                <a:chOff x="1612440" y="2450880"/>
                <a:chExt cx="1240920" cy="3777840"/>
              </a:xfrm>
            </p:grpSpPr>
            <p:grpSp>
              <p:nvGrpSpPr>
                <p:cNvPr id="1200" name="Group 25"/>
                <p:cNvGrpSpPr/>
                <p:nvPr/>
              </p:nvGrpSpPr>
              <p:grpSpPr>
                <a:xfrm>
                  <a:off x="1612440" y="2450880"/>
                  <a:ext cx="247680" cy="291960"/>
                  <a:chOff x="1612440" y="2450880"/>
                  <a:chExt cx="247680" cy="291960"/>
                </a:xfrm>
              </p:grpSpPr>
              <p:sp>
                <p:nvSpPr>
                  <p:cNvPr id="1201" name="Freeform 26"/>
                  <p:cNvSpPr/>
                  <p:nvPr/>
                </p:nvSpPr>
                <p:spPr>
                  <a:xfrm>
                    <a:off x="1612440" y="2450880"/>
                    <a:ext cx="247680" cy="291960"/>
                  </a:xfrm>
                  <a:custGeom>
                    <a:avLst/>
                    <a:gdLst>
                      <a:gd name="textAreaLeft" fmla="*/ 0 w 247680"/>
                      <a:gd name="textAreaRight" fmla="*/ 248040 w 247680"/>
                      <a:gd name="textAreaTop" fmla="*/ 0 h 291960"/>
                      <a:gd name="textAreaBottom" fmla="*/ 292320 h 291960"/>
                    </a:gdLst>
                    <a:ahLst/>
                    <a:rect l="textAreaLeft" t="textAreaTop" r="textAreaRight" b="textAreaBottom"/>
                    <a:pathLst>
                      <a:path w="358" h="447">
                        <a:moveTo>
                          <a:pt x="135" y="394"/>
                        </a:moveTo>
                        <a:lnTo>
                          <a:pt x="120" y="379"/>
                        </a:lnTo>
                        <a:lnTo>
                          <a:pt x="89" y="364"/>
                        </a:lnTo>
                        <a:lnTo>
                          <a:pt x="70" y="350"/>
                        </a:lnTo>
                        <a:lnTo>
                          <a:pt x="55" y="337"/>
                        </a:lnTo>
                        <a:lnTo>
                          <a:pt x="25" y="301"/>
                        </a:lnTo>
                        <a:lnTo>
                          <a:pt x="11" y="264"/>
                        </a:lnTo>
                        <a:lnTo>
                          <a:pt x="0" y="190"/>
                        </a:lnTo>
                        <a:lnTo>
                          <a:pt x="4" y="154"/>
                        </a:lnTo>
                        <a:lnTo>
                          <a:pt x="10" y="135"/>
                        </a:lnTo>
                        <a:lnTo>
                          <a:pt x="17" y="122"/>
                        </a:lnTo>
                        <a:lnTo>
                          <a:pt x="32" y="108"/>
                        </a:lnTo>
                        <a:lnTo>
                          <a:pt x="89" y="72"/>
                        </a:lnTo>
                        <a:lnTo>
                          <a:pt x="110" y="63"/>
                        </a:lnTo>
                        <a:lnTo>
                          <a:pt x="128" y="57"/>
                        </a:lnTo>
                        <a:lnTo>
                          <a:pt x="141" y="53"/>
                        </a:lnTo>
                        <a:lnTo>
                          <a:pt x="152" y="40"/>
                        </a:lnTo>
                        <a:lnTo>
                          <a:pt x="166" y="32"/>
                        </a:lnTo>
                        <a:lnTo>
                          <a:pt x="185" y="24"/>
                        </a:lnTo>
                        <a:lnTo>
                          <a:pt x="204" y="21"/>
                        </a:lnTo>
                        <a:lnTo>
                          <a:pt x="215" y="7"/>
                        </a:lnTo>
                        <a:lnTo>
                          <a:pt x="234" y="2"/>
                        </a:lnTo>
                        <a:lnTo>
                          <a:pt x="255" y="4"/>
                        </a:lnTo>
                        <a:lnTo>
                          <a:pt x="274" y="9"/>
                        </a:lnTo>
                        <a:lnTo>
                          <a:pt x="299" y="40"/>
                        </a:lnTo>
                        <a:lnTo>
                          <a:pt x="297" y="17"/>
                        </a:lnTo>
                        <a:lnTo>
                          <a:pt x="303" y="7"/>
                        </a:lnTo>
                        <a:lnTo>
                          <a:pt x="312" y="0"/>
                        </a:lnTo>
                        <a:lnTo>
                          <a:pt x="328" y="2"/>
                        </a:lnTo>
                        <a:lnTo>
                          <a:pt x="341" y="9"/>
                        </a:lnTo>
                        <a:lnTo>
                          <a:pt x="350" y="28"/>
                        </a:lnTo>
                        <a:lnTo>
                          <a:pt x="356" y="55"/>
                        </a:lnTo>
                        <a:lnTo>
                          <a:pt x="345" y="139"/>
                        </a:lnTo>
                        <a:lnTo>
                          <a:pt x="352" y="171"/>
                        </a:lnTo>
                        <a:lnTo>
                          <a:pt x="358" y="215"/>
                        </a:lnTo>
                        <a:lnTo>
                          <a:pt x="358" y="244"/>
                        </a:lnTo>
                        <a:lnTo>
                          <a:pt x="347" y="278"/>
                        </a:lnTo>
                        <a:lnTo>
                          <a:pt x="331" y="301"/>
                        </a:lnTo>
                        <a:lnTo>
                          <a:pt x="307" y="333"/>
                        </a:lnTo>
                        <a:lnTo>
                          <a:pt x="291" y="364"/>
                        </a:lnTo>
                        <a:lnTo>
                          <a:pt x="297" y="424"/>
                        </a:lnTo>
                        <a:lnTo>
                          <a:pt x="152" y="447"/>
                        </a:lnTo>
                        <a:lnTo>
                          <a:pt x="143" y="407"/>
                        </a:lnTo>
                        <a:lnTo>
                          <a:pt x="135" y="394"/>
                        </a:lnTo>
                        <a:close/>
                      </a:path>
                    </a:pathLst>
                  </a:custGeom>
                  <a:solidFill>
                    <a:srgbClr val="ffe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27"/>
                  <p:cNvSpPr/>
                  <p:nvPr/>
                </p:nvSpPr>
                <p:spPr>
                  <a:xfrm>
                    <a:off x="1757520" y="2571840"/>
                    <a:ext cx="45720" cy="82080"/>
                  </a:xfrm>
                  <a:custGeom>
                    <a:avLst/>
                    <a:gdLst>
                      <a:gd name="textAreaLeft" fmla="*/ 0 w 45720"/>
                      <a:gd name="textAreaRight" fmla="*/ 46080 w 45720"/>
                      <a:gd name="textAreaTop" fmla="*/ 0 h 82080"/>
                      <a:gd name="textAreaBottom" fmla="*/ 82440 h 82080"/>
                    </a:gdLst>
                    <a:ahLst/>
                    <a:rect l="textAreaLeft" t="textAreaTop" r="textAreaRight" b="textAreaBottom"/>
                    <a:pathLst>
                      <a:path w="67" h="126">
                        <a:moveTo>
                          <a:pt x="67" y="0"/>
                        </a:moveTo>
                        <a:lnTo>
                          <a:pt x="21" y="54"/>
                        </a:lnTo>
                        <a:lnTo>
                          <a:pt x="10" y="75"/>
                        </a:lnTo>
                        <a:lnTo>
                          <a:pt x="0" y="105"/>
                        </a:lnTo>
                        <a:lnTo>
                          <a:pt x="0" y="126"/>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203" name="Group 28"/>
                <p:cNvGrpSpPr/>
                <p:nvPr/>
              </p:nvGrpSpPr>
              <p:grpSpPr>
                <a:xfrm>
                  <a:off x="1667520" y="2696040"/>
                  <a:ext cx="1185840" cy="3532680"/>
                  <a:chOff x="1667520" y="2696040"/>
                  <a:chExt cx="1185840" cy="3532680"/>
                </a:xfrm>
              </p:grpSpPr>
              <p:sp>
                <p:nvSpPr>
                  <p:cNvPr id="1204" name="Freeform 29"/>
                  <p:cNvSpPr/>
                  <p:nvPr/>
                </p:nvSpPr>
                <p:spPr>
                  <a:xfrm>
                    <a:off x="2660760" y="5111280"/>
                    <a:ext cx="170280" cy="345240"/>
                  </a:xfrm>
                  <a:custGeom>
                    <a:avLst/>
                    <a:gdLst>
                      <a:gd name="textAreaLeft" fmla="*/ 0 w 170280"/>
                      <a:gd name="textAreaRight" fmla="*/ 170640 w 170280"/>
                      <a:gd name="textAreaTop" fmla="*/ 0 h 345240"/>
                      <a:gd name="textAreaBottom" fmla="*/ 345600 h 345240"/>
                    </a:gdLst>
                    <a:ahLst/>
                    <a:rect l="textAreaLeft" t="textAreaTop" r="textAreaRight" b="textAreaBottom"/>
                    <a:pathLst>
                      <a:path w="246" h="529">
                        <a:moveTo>
                          <a:pt x="215" y="0"/>
                        </a:moveTo>
                        <a:lnTo>
                          <a:pt x="234" y="38"/>
                        </a:lnTo>
                        <a:lnTo>
                          <a:pt x="244" y="209"/>
                        </a:lnTo>
                        <a:lnTo>
                          <a:pt x="246" y="232"/>
                        </a:lnTo>
                        <a:lnTo>
                          <a:pt x="219" y="304"/>
                        </a:lnTo>
                        <a:lnTo>
                          <a:pt x="204" y="350"/>
                        </a:lnTo>
                        <a:lnTo>
                          <a:pt x="177" y="409"/>
                        </a:lnTo>
                        <a:lnTo>
                          <a:pt x="128" y="489"/>
                        </a:lnTo>
                        <a:lnTo>
                          <a:pt x="86" y="527"/>
                        </a:lnTo>
                        <a:lnTo>
                          <a:pt x="46" y="529"/>
                        </a:lnTo>
                        <a:lnTo>
                          <a:pt x="40" y="518"/>
                        </a:lnTo>
                        <a:lnTo>
                          <a:pt x="33" y="497"/>
                        </a:lnTo>
                        <a:lnTo>
                          <a:pt x="15" y="339"/>
                        </a:lnTo>
                        <a:lnTo>
                          <a:pt x="0" y="198"/>
                        </a:lnTo>
                        <a:lnTo>
                          <a:pt x="33" y="19"/>
                        </a:lnTo>
                        <a:lnTo>
                          <a:pt x="215" y="0"/>
                        </a:lnTo>
                        <a:close/>
                      </a:path>
                    </a:pathLst>
                  </a:custGeom>
                  <a:solidFill>
                    <a:srgbClr val="ffe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30"/>
                  <p:cNvSpPr/>
                  <p:nvPr/>
                </p:nvSpPr>
                <p:spPr>
                  <a:xfrm>
                    <a:off x="1667520" y="2696040"/>
                    <a:ext cx="1185840" cy="2451600"/>
                  </a:xfrm>
                  <a:custGeom>
                    <a:avLst/>
                    <a:gdLst>
                      <a:gd name="textAreaLeft" fmla="*/ 0 w 1185840"/>
                      <a:gd name="textAreaRight" fmla="*/ 1186200 w 1185840"/>
                      <a:gd name="textAreaTop" fmla="*/ 0 h 2451600"/>
                      <a:gd name="textAreaBottom" fmla="*/ 2451960 h 2451600"/>
                    </a:gdLst>
                    <a:ahLst/>
                    <a:rect l="textAreaLeft" t="textAreaTop" r="textAreaRight" b="textAreaBottom"/>
                    <a:pathLst>
                      <a:path w="1712" h="3760">
                        <a:moveTo>
                          <a:pt x="286" y="0"/>
                        </a:moveTo>
                        <a:lnTo>
                          <a:pt x="192" y="17"/>
                        </a:lnTo>
                        <a:lnTo>
                          <a:pt x="129" y="30"/>
                        </a:lnTo>
                        <a:lnTo>
                          <a:pt x="74" y="49"/>
                        </a:lnTo>
                        <a:lnTo>
                          <a:pt x="0" y="89"/>
                        </a:lnTo>
                        <a:lnTo>
                          <a:pt x="15" y="790"/>
                        </a:lnTo>
                        <a:lnTo>
                          <a:pt x="32" y="983"/>
                        </a:lnTo>
                        <a:lnTo>
                          <a:pt x="49" y="1150"/>
                        </a:lnTo>
                        <a:lnTo>
                          <a:pt x="74" y="1367"/>
                        </a:lnTo>
                        <a:lnTo>
                          <a:pt x="124" y="1577"/>
                        </a:lnTo>
                        <a:lnTo>
                          <a:pt x="149" y="1745"/>
                        </a:lnTo>
                        <a:lnTo>
                          <a:pt x="166" y="1979"/>
                        </a:lnTo>
                        <a:lnTo>
                          <a:pt x="185" y="2268"/>
                        </a:lnTo>
                        <a:lnTo>
                          <a:pt x="230" y="2558"/>
                        </a:lnTo>
                        <a:lnTo>
                          <a:pt x="299" y="2899"/>
                        </a:lnTo>
                        <a:lnTo>
                          <a:pt x="364" y="3171"/>
                        </a:lnTo>
                        <a:lnTo>
                          <a:pt x="1324" y="3289"/>
                        </a:lnTo>
                        <a:lnTo>
                          <a:pt x="1377" y="2423"/>
                        </a:lnTo>
                        <a:lnTo>
                          <a:pt x="1369" y="3015"/>
                        </a:lnTo>
                        <a:lnTo>
                          <a:pt x="1411" y="3539"/>
                        </a:lnTo>
                        <a:lnTo>
                          <a:pt x="1428" y="3760"/>
                        </a:lnTo>
                        <a:lnTo>
                          <a:pt x="1712" y="3741"/>
                        </a:lnTo>
                        <a:lnTo>
                          <a:pt x="1646" y="2889"/>
                        </a:lnTo>
                        <a:lnTo>
                          <a:pt x="1611" y="2112"/>
                        </a:lnTo>
                        <a:lnTo>
                          <a:pt x="1569" y="1979"/>
                        </a:lnTo>
                        <a:lnTo>
                          <a:pt x="1527" y="1903"/>
                        </a:lnTo>
                        <a:lnTo>
                          <a:pt x="1470" y="1853"/>
                        </a:lnTo>
                        <a:lnTo>
                          <a:pt x="1179" y="1707"/>
                        </a:lnTo>
                        <a:lnTo>
                          <a:pt x="1061" y="1625"/>
                        </a:lnTo>
                        <a:lnTo>
                          <a:pt x="1036" y="1598"/>
                        </a:lnTo>
                        <a:lnTo>
                          <a:pt x="1009" y="1516"/>
                        </a:lnTo>
                        <a:lnTo>
                          <a:pt x="771" y="1674"/>
                        </a:lnTo>
                        <a:lnTo>
                          <a:pt x="665" y="1419"/>
                        </a:lnTo>
                        <a:lnTo>
                          <a:pt x="619" y="1436"/>
                        </a:lnTo>
                        <a:lnTo>
                          <a:pt x="579" y="1411"/>
                        </a:lnTo>
                        <a:lnTo>
                          <a:pt x="537" y="1348"/>
                        </a:lnTo>
                        <a:lnTo>
                          <a:pt x="476" y="1276"/>
                        </a:lnTo>
                        <a:lnTo>
                          <a:pt x="408" y="1167"/>
                        </a:lnTo>
                        <a:lnTo>
                          <a:pt x="320" y="724"/>
                        </a:lnTo>
                        <a:lnTo>
                          <a:pt x="28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6" name="Group 31"/>
                  <p:cNvGrpSpPr/>
                  <p:nvPr/>
                </p:nvGrpSpPr>
                <p:grpSpPr>
                  <a:xfrm>
                    <a:off x="1880640" y="4745880"/>
                    <a:ext cx="840600" cy="1482840"/>
                    <a:chOff x="1880640" y="4745880"/>
                    <a:chExt cx="840600" cy="1482840"/>
                  </a:xfrm>
                </p:grpSpPr>
                <p:grpSp>
                  <p:nvGrpSpPr>
                    <p:cNvPr id="1207" name="Group 32"/>
                    <p:cNvGrpSpPr/>
                    <p:nvPr/>
                  </p:nvGrpSpPr>
                  <p:grpSpPr>
                    <a:xfrm>
                      <a:off x="1880640" y="4745880"/>
                      <a:ext cx="840600" cy="1482840"/>
                      <a:chOff x="1880640" y="4745880"/>
                      <a:chExt cx="840600" cy="1482840"/>
                    </a:xfrm>
                  </p:grpSpPr>
                  <p:sp>
                    <p:nvSpPr>
                      <p:cNvPr id="1208" name="Freeform 33"/>
                      <p:cNvSpPr/>
                      <p:nvPr/>
                    </p:nvSpPr>
                    <p:spPr>
                      <a:xfrm>
                        <a:off x="1880640" y="4745880"/>
                        <a:ext cx="840600" cy="1482840"/>
                      </a:xfrm>
                      <a:custGeom>
                        <a:avLst/>
                        <a:gdLst>
                          <a:gd name="textAreaLeft" fmla="*/ 0 w 840600"/>
                          <a:gd name="textAreaRight" fmla="*/ 840960 w 840600"/>
                          <a:gd name="textAreaTop" fmla="*/ 0 h 1482840"/>
                          <a:gd name="textAreaBottom" fmla="*/ 1483200 h 1482840"/>
                        </a:gdLst>
                        <a:ahLst/>
                        <a:rect l="textAreaLeft" t="textAreaTop" r="textAreaRight" b="textAreaBottom"/>
                        <a:pathLst>
                          <a:path w="1213" h="2274">
                            <a:moveTo>
                              <a:pt x="59" y="0"/>
                            </a:moveTo>
                            <a:lnTo>
                              <a:pt x="17" y="335"/>
                            </a:lnTo>
                            <a:lnTo>
                              <a:pt x="0" y="626"/>
                            </a:lnTo>
                            <a:lnTo>
                              <a:pt x="17" y="903"/>
                            </a:lnTo>
                            <a:lnTo>
                              <a:pt x="55" y="1192"/>
                            </a:lnTo>
                            <a:lnTo>
                              <a:pt x="188" y="1904"/>
                            </a:lnTo>
                            <a:lnTo>
                              <a:pt x="234" y="2263"/>
                            </a:lnTo>
                            <a:lnTo>
                              <a:pt x="634" y="2266"/>
                            </a:lnTo>
                            <a:lnTo>
                              <a:pt x="590" y="1270"/>
                            </a:lnTo>
                            <a:lnTo>
                              <a:pt x="577" y="836"/>
                            </a:lnTo>
                            <a:lnTo>
                              <a:pt x="685" y="1364"/>
                            </a:lnTo>
                            <a:lnTo>
                              <a:pt x="767" y="1899"/>
                            </a:lnTo>
                            <a:lnTo>
                              <a:pt x="801" y="2274"/>
                            </a:lnTo>
                            <a:lnTo>
                              <a:pt x="1213" y="2272"/>
                            </a:lnTo>
                            <a:lnTo>
                              <a:pt x="1169" y="1337"/>
                            </a:lnTo>
                            <a:lnTo>
                              <a:pt x="1144" y="910"/>
                            </a:lnTo>
                            <a:lnTo>
                              <a:pt x="1078" y="451"/>
                            </a:lnTo>
                            <a:lnTo>
                              <a:pt x="1001" y="99"/>
                            </a:lnTo>
                            <a:lnTo>
                              <a:pt x="59" y="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34"/>
                      <p:cNvSpPr/>
                      <p:nvPr/>
                    </p:nvSpPr>
                    <p:spPr>
                      <a:xfrm>
                        <a:off x="1912320" y="4755960"/>
                        <a:ext cx="676800" cy="129240"/>
                      </a:xfrm>
                      <a:custGeom>
                        <a:avLst/>
                        <a:gdLst>
                          <a:gd name="textAreaLeft" fmla="*/ 0 w 676800"/>
                          <a:gd name="textAreaRight" fmla="*/ 677160 w 676800"/>
                          <a:gd name="textAreaTop" fmla="*/ 0 h 129240"/>
                          <a:gd name="textAreaBottom" fmla="*/ 129600 h 129240"/>
                        </a:gdLst>
                        <a:ahLst/>
                        <a:rect l="textAreaLeft" t="textAreaTop" r="textAreaRight" b="textAreaBottom"/>
                        <a:pathLst>
                          <a:path w="977" h="196">
                            <a:moveTo>
                              <a:pt x="8" y="0"/>
                            </a:moveTo>
                            <a:lnTo>
                              <a:pt x="0" y="84"/>
                            </a:lnTo>
                            <a:lnTo>
                              <a:pt x="368" y="129"/>
                            </a:lnTo>
                            <a:lnTo>
                              <a:pt x="713" y="171"/>
                            </a:lnTo>
                            <a:lnTo>
                              <a:pt x="867" y="188"/>
                            </a:lnTo>
                            <a:lnTo>
                              <a:pt x="977" y="196"/>
                            </a:lnTo>
                            <a:lnTo>
                              <a:pt x="958" y="110"/>
                            </a:lnTo>
                            <a:lnTo>
                              <a:pt x="8" y="0"/>
                            </a:lnTo>
                            <a:close/>
                          </a:path>
                        </a:pathLst>
                      </a:custGeom>
                      <a:solidFill>
                        <a:srgbClr val="20202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35"/>
                      <p:cNvSpPr/>
                      <p:nvPr/>
                    </p:nvSpPr>
                    <p:spPr>
                      <a:xfrm>
                        <a:off x="2379240" y="4810680"/>
                        <a:ext cx="24480" cy="66240"/>
                      </a:xfrm>
                      <a:custGeom>
                        <a:avLst/>
                        <a:gdLst>
                          <a:gd name="textAreaLeft" fmla="*/ 0 w 24480"/>
                          <a:gd name="textAreaRight" fmla="*/ 24840 w 24480"/>
                          <a:gd name="textAreaTop" fmla="*/ 0 h 66240"/>
                          <a:gd name="textAreaBottom" fmla="*/ 66600 h 66240"/>
                        </a:gdLst>
                        <a:ahLst/>
                        <a:rect l="textAreaLeft" t="textAreaTop" r="textAreaRight" b="textAreaBottom"/>
                        <a:pathLst>
                          <a:path w="37" h="101">
                            <a:moveTo>
                              <a:pt x="10" y="0"/>
                            </a:moveTo>
                            <a:lnTo>
                              <a:pt x="0" y="97"/>
                            </a:lnTo>
                            <a:lnTo>
                              <a:pt x="27" y="101"/>
                            </a:lnTo>
                            <a:lnTo>
                              <a:pt x="37" y="0"/>
                            </a:lnTo>
                            <a:lnTo>
                              <a:pt x="10" y="0"/>
                            </a:lnTo>
                            <a:close/>
                          </a:path>
                        </a:pathLst>
                      </a:custGeom>
                      <a:solidFill>
                        <a:srgbClr val="60606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1" name="Freeform 36"/>
                      <p:cNvSpPr/>
                      <p:nvPr/>
                    </p:nvSpPr>
                    <p:spPr>
                      <a:xfrm>
                        <a:off x="2035440" y="4773240"/>
                        <a:ext cx="24840" cy="64800"/>
                      </a:xfrm>
                      <a:custGeom>
                        <a:avLst/>
                        <a:gdLst>
                          <a:gd name="textAreaLeft" fmla="*/ 0 w 24840"/>
                          <a:gd name="textAreaRight" fmla="*/ 25200 w 24840"/>
                          <a:gd name="textAreaTop" fmla="*/ 0 h 64800"/>
                          <a:gd name="textAreaBottom" fmla="*/ 65160 h 64800"/>
                        </a:gdLst>
                        <a:ahLst/>
                        <a:rect l="textAreaLeft" t="textAreaTop" r="textAreaRight" b="textAreaBottom"/>
                        <a:pathLst>
                          <a:path w="37" h="101">
                            <a:moveTo>
                              <a:pt x="10" y="0"/>
                            </a:moveTo>
                            <a:lnTo>
                              <a:pt x="0" y="97"/>
                            </a:lnTo>
                            <a:lnTo>
                              <a:pt x="27" y="101"/>
                            </a:lnTo>
                            <a:lnTo>
                              <a:pt x="37" y="0"/>
                            </a:lnTo>
                            <a:lnTo>
                              <a:pt x="1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212" name="Freeform 37"/>
                    <p:cNvSpPr/>
                    <p:nvPr/>
                  </p:nvSpPr>
                  <p:spPr>
                    <a:xfrm>
                      <a:off x="2176920" y="4788720"/>
                      <a:ext cx="106560" cy="77040"/>
                    </a:xfrm>
                    <a:custGeom>
                      <a:avLst/>
                      <a:gdLst>
                        <a:gd name="textAreaLeft" fmla="*/ 0 w 106560"/>
                        <a:gd name="textAreaRight" fmla="*/ 106920 w 106560"/>
                        <a:gd name="textAreaTop" fmla="*/ 0 h 77040"/>
                        <a:gd name="textAreaBottom" fmla="*/ 77400 h 77040"/>
                      </a:gdLst>
                      <a:ahLst/>
                      <a:rect l="textAreaLeft" t="textAreaTop" r="textAreaRight" b="textAreaBottom"/>
                      <a:pathLst>
                        <a:path w="154" h="118">
                          <a:moveTo>
                            <a:pt x="8" y="0"/>
                          </a:moveTo>
                          <a:lnTo>
                            <a:pt x="0" y="56"/>
                          </a:lnTo>
                          <a:lnTo>
                            <a:pt x="4" y="101"/>
                          </a:lnTo>
                          <a:lnTo>
                            <a:pt x="71" y="113"/>
                          </a:lnTo>
                          <a:lnTo>
                            <a:pt x="147" y="118"/>
                          </a:lnTo>
                          <a:lnTo>
                            <a:pt x="154" y="69"/>
                          </a:lnTo>
                          <a:lnTo>
                            <a:pt x="154" y="14"/>
                          </a:lnTo>
                          <a:lnTo>
                            <a:pt x="78" y="10"/>
                          </a:lnTo>
                          <a:lnTo>
                            <a:pt x="8" y="0"/>
                          </a:lnTo>
                          <a:close/>
                        </a:path>
                      </a:pathLst>
                    </a:custGeom>
                    <a:solidFill>
                      <a:srgbClr val="a0a0a0"/>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213" name="Group 38"/>
                  <p:cNvGrpSpPr/>
                  <p:nvPr/>
                </p:nvGrpSpPr>
                <p:grpSpPr>
                  <a:xfrm>
                    <a:off x="2082960" y="3633480"/>
                    <a:ext cx="304200" cy="1221480"/>
                    <a:chOff x="2082960" y="3633480"/>
                    <a:chExt cx="304200" cy="1221480"/>
                  </a:xfrm>
                </p:grpSpPr>
                <p:sp>
                  <p:nvSpPr>
                    <p:cNvPr id="1214" name="Freeform 39"/>
                    <p:cNvSpPr/>
                    <p:nvPr/>
                  </p:nvSpPr>
                  <p:spPr>
                    <a:xfrm>
                      <a:off x="2132640" y="3790080"/>
                      <a:ext cx="95400" cy="106560"/>
                    </a:xfrm>
                    <a:custGeom>
                      <a:avLst/>
                      <a:gdLst>
                        <a:gd name="textAreaLeft" fmla="*/ 0 w 95400"/>
                        <a:gd name="textAreaRight" fmla="*/ 95760 w 95400"/>
                        <a:gd name="textAreaTop" fmla="*/ 0 h 106560"/>
                        <a:gd name="textAreaBottom" fmla="*/ 106920 h 106560"/>
                      </a:gdLst>
                      <a:ahLst/>
                      <a:rect l="textAreaLeft" t="textAreaTop" r="textAreaRight" b="textAreaBottom"/>
                      <a:pathLst>
                        <a:path w="137" h="166">
                          <a:moveTo>
                            <a:pt x="96" y="0"/>
                          </a:moveTo>
                          <a:lnTo>
                            <a:pt x="0" y="74"/>
                          </a:lnTo>
                          <a:lnTo>
                            <a:pt x="4" y="116"/>
                          </a:lnTo>
                          <a:lnTo>
                            <a:pt x="12" y="147"/>
                          </a:lnTo>
                          <a:lnTo>
                            <a:pt x="92" y="166"/>
                          </a:lnTo>
                          <a:lnTo>
                            <a:pt x="116" y="147"/>
                          </a:lnTo>
                          <a:lnTo>
                            <a:pt x="137" y="124"/>
                          </a:lnTo>
                          <a:lnTo>
                            <a:pt x="96" y="0"/>
                          </a:lnTo>
                          <a:close/>
                        </a:path>
                      </a:pathLst>
                    </a:custGeom>
                    <a:solidFill>
                      <a:srgbClr val="c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40"/>
                    <p:cNvSpPr/>
                    <p:nvPr/>
                  </p:nvSpPr>
                  <p:spPr>
                    <a:xfrm>
                      <a:off x="2082960" y="3883680"/>
                      <a:ext cx="214560" cy="971280"/>
                    </a:xfrm>
                    <a:custGeom>
                      <a:avLst/>
                      <a:gdLst>
                        <a:gd name="textAreaLeft" fmla="*/ 0 w 214560"/>
                        <a:gd name="textAreaRight" fmla="*/ 214920 w 214560"/>
                        <a:gd name="textAreaTop" fmla="*/ 0 h 971280"/>
                        <a:gd name="textAreaBottom" fmla="*/ 971640 h 971280"/>
                      </a:gdLst>
                      <a:ahLst/>
                      <a:rect l="textAreaLeft" t="textAreaTop" r="textAreaRight" b="textAreaBottom"/>
                      <a:pathLst>
                        <a:path w="310" h="1489">
                          <a:moveTo>
                            <a:pt x="82" y="0"/>
                          </a:moveTo>
                          <a:lnTo>
                            <a:pt x="61" y="51"/>
                          </a:lnTo>
                          <a:lnTo>
                            <a:pt x="48" y="87"/>
                          </a:lnTo>
                          <a:lnTo>
                            <a:pt x="34" y="145"/>
                          </a:lnTo>
                          <a:lnTo>
                            <a:pt x="27" y="185"/>
                          </a:lnTo>
                          <a:lnTo>
                            <a:pt x="0" y="360"/>
                          </a:lnTo>
                          <a:lnTo>
                            <a:pt x="0" y="628"/>
                          </a:lnTo>
                          <a:lnTo>
                            <a:pt x="0" y="870"/>
                          </a:lnTo>
                          <a:lnTo>
                            <a:pt x="17" y="1007"/>
                          </a:lnTo>
                          <a:lnTo>
                            <a:pt x="34" y="1158"/>
                          </a:lnTo>
                          <a:lnTo>
                            <a:pt x="42" y="1314"/>
                          </a:lnTo>
                          <a:lnTo>
                            <a:pt x="202" y="1489"/>
                          </a:lnTo>
                          <a:lnTo>
                            <a:pt x="310" y="1272"/>
                          </a:lnTo>
                          <a:lnTo>
                            <a:pt x="310" y="1087"/>
                          </a:lnTo>
                          <a:lnTo>
                            <a:pt x="276" y="897"/>
                          </a:lnTo>
                          <a:lnTo>
                            <a:pt x="244" y="653"/>
                          </a:lnTo>
                          <a:lnTo>
                            <a:pt x="244" y="385"/>
                          </a:lnTo>
                          <a:lnTo>
                            <a:pt x="217" y="171"/>
                          </a:lnTo>
                          <a:lnTo>
                            <a:pt x="204" y="131"/>
                          </a:lnTo>
                          <a:lnTo>
                            <a:pt x="183" y="70"/>
                          </a:lnTo>
                          <a:lnTo>
                            <a:pt x="166" y="21"/>
                          </a:lnTo>
                          <a:lnTo>
                            <a:pt x="82" y="0"/>
                          </a:lnTo>
                          <a:close/>
                        </a:path>
                      </a:pathLst>
                    </a:custGeom>
                    <a:solidFill>
                      <a:srgbClr val="c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41"/>
                    <p:cNvSpPr/>
                    <p:nvPr/>
                  </p:nvSpPr>
                  <p:spPr>
                    <a:xfrm>
                      <a:off x="2087280" y="3633480"/>
                      <a:ext cx="299880" cy="284400"/>
                    </a:xfrm>
                    <a:custGeom>
                      <a:avLst/>
                      <a:gdLst>
                        <a:gd name="textAreaLeft" fmla="*/ 0 w 299880"/>
                        <a:gd name="textAreaRight" fmla="*/ 300240 w 299880"/>
                        <a:gd name="textAreaTop" fmla="*/ 0 h 284400"/>
                        <a:gd name="textAreaBottom" fmla="*/ 284760 h 284400"/>
                      </a:gdLst>
                      <a:ahLst/>
                      <a:rect l="textAreaLeft" t="textAreaTop" r="textAreaRight" b="textAreaBottom"/>
                      <a:pathLst>
                        <a:path w="434" h="434">
                          <a:moveTo>
                            <a:pt x="15" y="0"/>
                          </a:moveTo>
                          <a:lnTo>
                            <a:pt x="0" y="364"/>
                          </a:lnTo>
                          <a:lnTo>
                            <a:pt x="165" y="238"/>
                          </a:lnTo>
                          <a:lnTo>
                            <a:pt x="224" y="434"/>
                          </a:lnTo>
                          <a:lnTo>
                            <a:pt x="434" y="16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217" name="Group 42"/>
            <p:cNvGrpSpPr/>
            <p:nvPr/>
          </p:nvGrpSpPr>
          <p:grpSpPr>
            <a:xfrm>
              <a:off x="685800" y="1886040"/>
              <a:ext cx="3138120" cy="1434600"/>
              <a:chOff x="685800" y="1886040"/>
              <a:chExt cx="3138120" cy="1434600"/>
            </a:xfrm>
          </p:grpSpPr>
          <p:sp>
            <p:nvSpPr>
              <p:cNvPr id="1218" name="Freeform 43"/>
              <p:cNvSpPr/>
              <p:nvPr/>
            </p:nvSpPr>
            <p:spPr>
              <a:xfrm>
                <a:off x="860400" y="2044800"/>
                <a:ext cx="2963520" cy="1116360"/>
              </a:xfrm>
              <a:custGeom>
                <a:avLst/>
                <a:gdLst>
                  <a:gd name="textAreaLeft" fmla="*/ 0 w 2963520"/>
                  <a:gd name="textAreaRight" fmla="*/ 2963880 w 2963520"/>
                  <a:gd name="textAreaTop" fmla="*/ 0 h 1116360"/>
                  <a:gd name="textAreaBottom" fmla="*/ 1116720 h 1116360"/>
                </a:gdLst>
                <a:ahLst/>
                <a:rect l="textAreaLeft" t="textAreaTop" r="textAreaRight" b="textAreaBottom"/>
                <a:pathLst>
                  <a:path w="4278" h="1710">
                    <a:moveTo>
                      <a:pt x="4278" y="442"/>
                    </a:moveTo>
                    <a:lnTo>
                      <a:pt x="3922" y="442"/>
                    </a:lnTo>
                    <a:lnTo>
                      <a:pt x="3231" y="463"/>
                    </a:lnTo>
                    <a:lnTo>
                      <a:pt x="3010" y="485"/>
                    </a:lnTo>
                    <a:lnTo>
                      <a:pt x="2693" y="520"/>
                    </a:lnTo>
                    <a:lnTo>
                      <a:pt x="2526" y="533"/>
                    </a:lnTo>
                    <a:lnTo>
                      <a:pt x="2469" y="533"/>
                    </a:lnTo>
                    <a:lnTo>
                      <a:pt x="2398" y="525"/>
                    </a:lnTo>
                    <a:lnTo>
                      <a:pt x="2351" y="512"/>
                    </a:lnTo>
                    <a:lnTo>
                      <a:pt x="2322" y="505"/>
                    </a:lnTo>
                    <a:lnTo>
                      <a:pt x="2293" y="491"/>
                    </a:lnTo>
                    <a:lnTo>
                      <a:pt x="2273" y="474"/>
                    </a:lnTo>
                    <a:lnTo>
                      <a:pt x="2257" y="457"/>
                    </a:lnTo>
                    <a:lnTo>
                      <a:pt x="2210" y="369"/>
                    </a:lnTo>
                    <a:lnTo>
                      <a:pt x="2193" y="343"/>
                    </a:lnTo>
                    <a:lnTo>
                      <a:pt x="2132" y="265"/>
                    </a:lnTo>
                    <a:lnTo>
                      <a:pt x="2116" y="251"/>
                    </a:lnTo>
                    <a:lnTo>
                      <a:pt x="2101" y="240"/>
                    </a:lnTo>
                    <a:lnTo>
                      <a:pt x="2008" y="200"/>
                    </a:lnTo>
                    <a:lnTo>
                      <a:pt x="1865" y="143"/>
                    </a:lnTo>
                    <a:lnTo>
                      <a:pt x="1754" y="74"/>
                    </a:lnTo>
                    <a:lnTo>
                      <a:pt x="1631" y="0"/>
                    </a:lnTo>
                    <a:lnTo>
                      <a:pt x="1606" y="25"/>
                    </a:lnTo>
                    <a:lnTo>
                      <a:pt x="1831" y="175"/>
                    </a:lnTo>
                    <a:lnTo>
                      <a:pt x="2059" y="272"/>
                    </a:lnTo>
                    <a:lnTo>
                      <a:pt x="2082" y="293"/>
                    </a:lnTo>
                    <a:lnTo>
                      <a:pt x="2128" y="364"/>
                    </a:lnTo>
                    <a:lnTo>
                      <a:pt x="2143" y="405"/>
                    </a:lnTo>
                    <a:lnTo>
                      <a:pt x="2154" y="447"/>
                    </a:lnTo>
                    <a:lnTo>
                      <a:pt x="2158" y="484"/>
                    </a:lnTo>
                    <a:lnTo>
                      <a:pt x="2151" y="508"/>
                    </a:lnTo>
                    <a:lnTo>
                      <a:pt x="2135" y="535"/>
                    </a:lnTo>
                    <a:lnTo>
                      <a:pt x="2111" y="558"/>
                    </a:lnTo>
                    <a:lnTo>
                      <a:pt x="2082" y="575"/>
                    </a:lnTo>
                    <a:lnTo>
                      <a:pt x="1791" y="625"/>
                    </a:lnTo>
                    <a:lnTo>
                      <a:pt x="1480" y="716"/>
                    </a:lnTo>
                    <a:lnTo>
                      <a:pt x="1231" y="794"/>
                    </a:lnTo>
                    <a:lnTo>
                      <a:pt x="998" y="876"/>
                    </a:lnTo>
                    <a:lnTo>
                      <a:pt x="896" y="935"/>
                    </a:lnTo>
                    <a:lnTo>
                      <a:pt x="833" y="964"/>
                    </a:lnTo>
                    <a:lnTo>
                      <a:pt x="614" y="1044"/>
                    </a:lnTo>
                    <a:lnTo>
                      <a:pt x="429" y="1034"/>
                    </a:lnTo>
                    <a:lnTo>
                      <a:pt x="372" y="1026"/>
                    </a:lnTo>
                    <a:lnTo>
                      <a:pt x="320" y="1019"/>
                    </a:lnTo>
                    <a:lnTo>
                      <a:pt x="275" y="992"/>
                    </a:lnTo>
                    <a:lnTo>
                      <a:pt x="223" y="952"/>
                    </a:lnTo>
                    <a:lnTo>
                      <a:pt x="189" y="918"/>
                    </a:lnTo>
                    <a:lnTo>
                      <a:pt x="151" y="889"/>
                    </a:lnTo>
                    <a:lnTo>
                      <a:pt x="124" y="868"/>
                    </a:lnTo>
                    <a:lnTo>
                      <a:pt x="96" y="868"/>
                    </a:lnTo>
                    <a:lnTo>
                      <a:pt x="193" y="969"/>
                    </a:lnTo>
                    <a:lnTo>
                      <a:pt x="235" y="1013"/>
                    </a:lnTo>
                    <a:lnTo>
                      <a:pt x="273" y="1049"/>
                    </a:lnTo>
                    <a:lnTo>
                      <a:pt x="313" y="1076"/>
                    </a:lnTo>
                    <a:lnTo>
                      <a:pt x="364" y="1091"/>
                    </a:lnTo>
                    <a:lnTo>
                      <a:pt x="433" y="1099"/>
                    </a:lnTo>
                    <a:lnTo>
                      <a:pt x="296" y="1251"/>
                    </a:lnTo>
                    <a:lnTo>
                      <a:pt x="282" y="1278"/>
                    </a:lnTo>
                    <a:lnTo>
                      <a:pt x="265" y="1314"/>
                    </a:lnTo>
                    <a:lnTo>
                      <a:pt x="238" y="1440"/>
                    </a:lnTo>
                    <a:lnTo>
                      <a:pt x="227" y="1472"/>
                    </a:lnTo>
                    <a:lnTo>
                      <a:pt x="195" y="1489"/>
                    </a:lnTo>
                    <a:lnTo>
                      <a:pt x="54" y="1510"/>
                    </a:lnTo>
                    <a:lnTo>
                      <a:pt x="0" y="1535"/>
                    </a:lnTo>
                    <a:lnTo>
                      <a:pt x="219" y="1535"/>
                    </a:lnTo>
                    <a:lnTo>
                      <a:pt x="252" y="1525"/>
                    </a:lnTo>
                    <a:lnTo>
                      <a:pt x="277" y="1503"/>
                    </a:lnTo>
                    <a:lnTo>
                      <a:pt x="286" y="1472"/>
                    </a:lnTo>
                    <a:lnTo>
                      <a:pt x="313" y="1318"/>
                    </a:lnTo>
                    <a:lnTo>
                      <a:pt x="326" y="1285"/>
                    </a:lnTo>
                    <a:lnTo>
                      <a:pt x="393" y="1226"/>
                    </a:lnTo>
                    <a:lnTo>
                      <a:pt x="406" y="1268"/>
                    </a:lnTo>
                    <a:lnTo>
                      <a:pt x="414" y="1402"/>
                    </a:lnTo>
                    <a:lnTo>
                      <a:pt x="404" y="1426"/>
                    </a:lnTo>
                    <a:lnTo>
                      <a:pt x="391" y="1468"/>
                    </a:lnTo>
                    <a:lnTo>
                      <a:pt x="357" y="1581"/>
                    </a:lnTo>
                    <a:lnTo>
                      <a:pt x="334" y="1640"/>
                    </a:lnTo>
                    <a:lnTo>
                      <a:pt x="313" y="1706"/>
                    </a:lnTo>
                    <a:lnTo>
                      <a:pt x="337" y="1710"/>
                    </a:lnTo>
                    <a:lnTo>
                      <a:pt x="419" y="1501"/>
                    </a:lnTo>
                    <a:lnTo>
                      <a:pt x="437" y="1453"/>
                    </a:lnTo>
                    <a:lnTo>
                      <a:pt x="450" y="1413"/>
                    </a:lnTo>
                    <a:lnTo>
                      <a:pt x="456" y="1375"/>
                    </a:lnTo>
                    <a:lnTo>
                      <a:pt x="461" y="1194"/>
                    </a:lnTo>
                    <a:lnTo>
                      <a:pt x="501" y="1164"/>
                    </a:lnTo>
                    <a:lnTo>
                      <a:pt x="543" y="1141"/>
                    </a:lnTo>
                    <a:lnTo>
                      <a:pt x="610" y="1114"/>
                    </a:lnTo>
                    <a:lnTo>
                      <a:pt x="654" y="1097"/>
                    </a:lnTo>
                    <a:lnTo>
                      <a:pt x="922" y="1002"/>
                    </a:lnTo>
                    <a:lnTo>
                      <a:pt x="1071" y="918"/>
                    </a:lnTo>
                    <a:lnTo>
                      <a:pt x="1749" y="716"/>
                    </a:lnTo>
                    <a:lnTo>
                      <a:pt x="2107" y="659"/>
                    </a:lnTo>
                    <a:lnTo>
                      <a:pt x="2726" y="607"/>
                    </a:lnTo>
                    <a:lnTo>
                      <a:pt x="2490" y="1068"/>
                    </a:lnTo>
                    <a:lnTo>
                      <a:pt x="2478" y="1112"/>
                    </a:lnTo>
                    <a:lnTo>
                      <a:pt x="2476" y="1148"/>
                    </a:lnTo>
                    <a:lnTo>
                      <a:pt x="2478" y="1198"/>
                    </a:lnTo>
                    <a:lnTo>
                      <a:pt x="2484" y="1244"/>
                    </a:lnTo>
                    <a:lnTo>
                      <a:pt x="2497" y="1310"/>
                    </a:lnTo>
                    <a:lnTo>
                      <a:pt x="2511" y="1350"/>
                    </a:lnTo>
                    <a:lnTo>
                      <a:pt x="2526" y="1392"/>
                    </a:lnTo>
                    <a:lnTo>
                      <a:pt x="2539" y="1430"/>
                    </a:lnTo>
                    <a:lnTo>
                      <a:pt x="2568" y="1525"/>
                    </a:lnTo>
                    <a:lnTo>
                      <a:pt x="2577" y="1495"/>
                    </a:lnTo>
                    <a:lnTo>
                      <a:pt x="2577" y="1468"/>
                    </a:lnTo>
                    <a:lnTo>
                      <a:pt x="2573" y="1426"/>
                    </a:lnTo>
                    <a:lnTo>
                      <a:pt x="2562" y="1371"/>
                    </a:lnTo>
                    <a:lnTo>
                      <a:pt x="2551" y="1325"/>
                    </a:lnTo>
                    <a:lnTo>
                      <a:pt x="2543" y="1284"/>
                    </a:lnTo>
                    <a:lnTo>
                      <a:pt x="2537" y="1244"/>
                    </a:lnTo>
                    <a:lnTo>
                      <a:pt x="2537" y="1200"/>
                    </a:lnTo>
                    <a:lnTo>
                      <a:pt x="2539" y="1145"/>
                    </a:lnTo>
                    <a:lnTo>
                      <a:pt x="2545" y="1103"/>
                    </a:lnTo>
                    <a:lnTo>
                      <a:pt x="2560" y="1061"/>
                    </a:lnTo>
                    <a:lnTo>
                      <a:pt x="2829" y="600"/>
                    </a:lnTo>
                    <a:lnTo>
                      <a:pt x="3055" y="586"/>
                    </a:lnTo>
                    <a:lnTo>
                      <a:pt x="3488" y="564"/>
                    </a:lnTo>
                    <a:lnTo>
                      <a:pt x="3798" y="552"/>
                    </a:lnTo>
                    <a:lnTo>
                      <a:pt x="4278" y="564"/>
                    </a:lnTo>
                    <a:lnTo>
                      <a:pt x="4278" y="4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Group 44"/>
              <p:cNvGrpSpPr/>
              <p:nvPr/>
            </p:nvGrpSpPr>
            <p:grpSpPr>
              <a:xfrm>
                <a:off x="685800" y="1886040"/>
                <a:ext cx="2195640" cy="1434600"/>
                <a:chOff x="685800" y="1886040"/>
                <a:chExt cx="2195640" cy="1434600"/>
              </a:xfrm>
            </p:grpSpPr>
            <p:grpSp>
              <p:nvGrpSpPr>
                <p:cNvPr id="1220" name="Group 45"/>
                <p:cNvGrpSpPr/>
                <p:nvPr/>
              </p:nvGrpSpPr>
              <p:grpSpPr>
                <a:xfrm>
                  <a:off x="768600" y="2610000"/>
                  <a:ext cx="173160" cy="169200"/>
                  <a:chOff x="768600" y="2610000"/>
                  <a:chExt cx="173160" cy="169200"/>
                </a:xfrm>
              </p:grpSpPr>
              <p:sp>
                <p:nvSpPr>
                  <p:cNvPr id="1221" name="Freeform 46"/>
                  <p:cNvSpPr/>
                  <p:nvPr/>
                </p:nvSpPr>
                <p:spPr>
                  <a:xfrm>
                    <a:off x="768600" y="2610000"/>
                    <a:ext cx="173160" cy="169200"/>
                  </a:xfrm>
                  <a:custGeom>
                    <a:avLst/>
                    <a:gdLst>
                      <a:gd name="textAreaLeft" fmla="*/ 0 w 173160"/>
                      <a:gd name="textAreaRight" fmla="*/ 173520 w 173160"/>
                      <a:gd name="textAreaTop" fmla="*/ 0 h 169200"/>
                      <a:gd name="textAreaBottom" fmla="*/ 169560 h 169200"/>
                    </a:gdLst>
                    <a:ahLst/>
                    <a:rect l="textAreaLeft" t="textAreaTop" r="textAreaRight" b="textAreaBottom"/>
                    <a:pathLst>
                      <a:path w="249" h="260">
                        <a:moveTo>
                          <a:pt x="171" y="3"/>
                        </a:moveTo>
                        <a:lnTo>
                          <a:pt x="120" y="11"/>
                        </a:lnTo>
                        <a:lnTo>
                          <a:pt x="78" y="26"/>
                        </a:lnTo>
                        <a:lnTo>
                          <a:pt x="51" y="47"/>
                        </a:lnTo>
                        <a:lnTo>
                          <a:pt x="25" y="81"/>
                        </a:lnTo>
                        <a:lnTo>
                          <a:pt x="8" y="127"/>
                        </a:lnTo>
                        <a:lnTo>
                          <a:pt x="0" y="165"/>
                        </a:lnTo>
                        <a:lnTo>
                          <a:pt x="0" y="192"/>
                        </a:lnTo>
                        <a:lnTo>
                          <a:pt x="0" y="224"/>
                        </a:lnTo>
                        <a:lnTo>
                          <a:pt x="6" y="260"/>
                        </a:lnTo>
                        <a:lnTo>
                          <a:pt x="82" y="260"/>
                        </a:lnTo>
                        <a:lnTo>
                          <a:pt x="158" y="243"/>
                        </a:lnTo>
                        <a:lnTo>
                          <a:pt x="190" y="228"/>
                        </a:lnTo>
                        <a:lnTo>
                          <a:pt x="219" y="200"/>
                        </a:lnTo>
                        <a:lnTo>
                          <a:pt x="238" y="165"/>
                        </a:lnTo>
                        <a:lnTo>
                          <a:pt x="249" y="120"/>
                        </a:lnTo>
                        <a:lnTo>
                          <a:pt x="249" y="81"/>
                        </a:lnTo>
                        <a:lnTo>
                          <a:pt x="234" y="24"/>
                        </a:lnTo>
                        <a:lnTo>
                          <a:pt x="227" y="0"/>
                        </a:lnTo>
                        <a:lnTo>
                          <a:pt x="171" y="3"/>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Freeform 47"/>
                  <p:cNvSpPr/>
                  <p:nvPr/>
                </p:nvSpPr>
                <p:spPr>
                  <a:xfrm>
                    <a:off x="770040" y="2612520"/>
                    <a:ext cx="154800" cy="163800"/>
                  </a:xfrm>
                  <a:custGeom>
                    <a:avLst/>
                    <a:gdLst>
                      <a:gd name="textAreaLeft" fmla="*/ 0 w 154800"/>
                      <a:gd name="textAreaRight" fmla="*/ 155160 w 154800"/>
                      <a:gd name="textAreaTop" fmla="*/ 0 h 163800"/>
                      <a:gd name="textAreaBottom" fmla="*/ 164160 h 163800"/>
                    </a:gdLst>
                    <a:ahLst/>
                    <a:rect l="textAreaLeft" t="textAreaTop" r="textAreaRight" b="textAreaBottom"/>
                    <a:pathLst>
                      <a:path w="223" h="254">
                        <a:moveTo>
                          <a:pt x="223" y="0"/>
                        </a:moveTo>
                        <a:lnTo>
                          <a:pt x="181" y="63"/>
                        </a:lnTo>
                        <a:lnTo>
                          <a:pt x="154" y="107"/>
                        </a:lnTo>
                        <a:lnTo>
                          <a:pt x="126" y="141"/>
                        </a:lnTo>
                        <a:lnTo>
                          <a:pt x="91" y="177"/>
                        </a:lnTo>
                        <a:lnTo>
                          <a:pt x="51" y="219"/>
                        </a:lnTo>
                        <a:lnTo>
                          <a:pt x="9" y="252"/>
                        </a:lnTo>
                        <a:lnTo>
                          <a:pt x="0" y="254"/>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3" name="Group 48"/>
                <p:cNvGrpSpPr/>
                <p:nvPr/>
              </p:nvGrpSpPr>
              <p:grpSpPr>
                <a:xfrm>
                  <a:off x="936360" y="3148560"/>
                  <a:ext cx="172800" cy="172080"/>
                  <a:chOff x="936360" y="3148560"/>
                  <a:chExt cx="172800" cy="172080"/>
                </a:xfrm>
              </p:grpSpPr>
              <p:sp>
                <p:nvSpPr>
                  <p:cNvPr id="1224" name="Freeform 49"/>
                  <p:cNvSpPr/>
                  <p:nvPr/>
                </p:nvSpPr>
                <p:spPr>
                  <a:xfrm>
                    <a:off x="936360" y="3148560"/>
                    <a:ext cx="172800" cy="172080"/>
                  </a:xfrm>
                  <a:custGeom>
                    <a:avLst/>
                    <a:gdLst>
                      <a:gd name="textAreaLeft" fmla="*/ 0 w 172800"/>
                      <a:gd name="textAreaRight" fmla="*/ 173160 w 172800"/>
                      <a:gd name="textAreaTop" fmla="*/ 0 h 172080"/>
                      <a:gd name="textAreaBottom" fmla="*/ 172440 h 172080"/>
                    </a:gdLst>
                    <a:ahLst/>
                    <a:rect l="textAreaLeft" t="textAreaTop" r="textAreaRight" b="textAreaBottom"/>
                    <a:pathLst>
                      <a:path w="249" h="263">
                        <a:moveTo>
                          <a:pt x="171" y="4"/>
                        </a:moveTo>
                        <a:lnTo>
                          <a:pt x="122" y="14"/>
                        </a:lnTo>
                        <a:lnTo>
                          <a:pt x="80" y="29"/>
                        </a:lnTo>
                        <a:lnTo>
                          <a:pt x="51" y="50"/>
                        </a:lnTo>
                        <a:lnTo>
                          <a:pt x="25" y="82"/>
                        </a:lnTo>
                        <a:lnTo>
                          <a:pt x="7" y="130"/>
                        </a:lnTo>
                        <a:lnTo>
                          <a:pt x="0" y="168"/>
                        </a:lnTo>
                        <a:lnTo>
                          <a:pt x="0" y="193"/>
                        </a:lnTo>
                        <a:lnTo>
                          <a:pt x="0" y="227"/>
                        </a:lnTo>
                        <a:lnTo>
                          <a:pt x="7" y="263"/>
                        </a:lnTo>
                        <a:lnTo>
                          <a:pt x="82" y="263"/>
                        </a:lnTo>
                        <a:lnTo>
                          <a:pt x="158" y="246"/>
                        </a:lnTo>
                        <a:lnTo>
                          <a:pt x="190" y="229"/>
                        </a:lnTo>
                        <a:lnTo>
                          <a:pt x="221" y="202"/>
                        </a:lnTo>
                        <a:lnTo>
                          <a:pt x="238" y="166"/>
                        </a:lnTo>
                        <a:lnTo>
                          <a:pt x="249" y="120"/>
                        </a:lnTo>
                        <a:lnTo>
                          <a:pt x="249" y="82"/>
                        </a:lnTo>
                        <a:lnTo>
                          <a:pt x="236" y="25"/>
                        </a:lnTo>
                        <a:lnTo>
                          <a:pt x="226" y="0"/>
                        </a:lnTo>
                        <a:lnTo>
                          <a:pt x="171" y="4"/>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Freeform 50"/>
                  <p:cNvSpPr/>
                  <p:nvPr/>
                </p:nvSpPr>
                <p:spPr>
                  <a:xfrm>
                    <a:off x="937440" y="3151080"/>
                    <a:ext cx="154800" cy="166680"/>
                  </a:xfrm>
                  <a:custGeom>
                    <a:avLst/>
                    <a:gdLst>
                      <a:gd name="textAreaLeft" fmla="*/ 0 w 154800"/>
                      <a:gd name="textAreaRight" fmla="*/ 155160 w 154800"/>
                      <a:gd name="textAreaTop" fmla="*/ 0 h 166680"/>
                      <a:gd name="textAreaBottom" fmla="*/ 167040 h 166680"/>
                    </a:gdLst>
                    <a:ahLst/>
                    <a:rect l="textAreaLeft" t="textAreaTop" r="textAreaRight" b="textAreaBottom"/>
                    <a:pathLst>
                      <a:path w="223" h="255">
                        <a:moveTo>
                          <a:pt x="223" y="0"/>
                        </a:moveTo>
                        <a:lnTo>
                          <a:pt x="181" y="63"/>
                        </a:lnTo>
                        <a:lnTo>
                          <a:pt x="156" y="109"/>
                        </a:lnTo>
                        <a:lnTo>
                          <a:pt x="125" y="143"/>
                        </a:lnTo>
                        <a:lnTo>
                          <a:pt x="93" y="179"/>
                        </a:lnTo>
                        <a:lnTo>
                          <a:pt x="51" y="221"/>
                        </a:lnTo>
                        <a:lnTo>
                          <a:pt x="9" y="251"/>
                        </a:lnTo>
                        <a:lnTo>
                          <a:pt x="0" y="255"/>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Group 51"/>
                <p:cNvGrpSpPr/>
                <p:nvPr/>
              </p:nvGrpSpPr>
              <p:grpSpPr>
                <a:xfrm>
                  <a:off x="685800" y="2904480"/>
                  <a:ext cx="185400" cy="155160"/>
                  <a:chOff x="685800" y="2904480"/>
                  <a:chExt cx="185400" cy="155160"/>
                </a:xfrm>
              </p:grpSpPr>
              <p:sp>
                <p:nvSpPr>
                  <p:cNvPr id="1227" name="Freeform 52"/>
                  <p:cNvSpPr/>
                  <p:nvPr/>
                </p:nvSpPr>
                <p:spPr>
                  <a:xfrm>
                    <a:off x="685800" y="2904480"/>
                    <a:ext cx="185400" cy="155160"/>
                  </a:xfrm>
                  <a:custGeom>
                    <a:avLst/>
                    <a:gdLst>
                      <a:gd name="textAreaLeft" fmla="*/ 0 w 185400"/>
                      <a:gd name="textAreaRight" fmla="*/ 185760 w 185400"/>
                      <a:gd name="textAreaTop" fmla="*/ 0 h 155160"/>
                      <a:gd name="textAreaBottom" fmla="*/ 155520 h 155160"/>
                    </a:gdLst>
                    <a:ahLst/>
                    <a:rect l="textAreaLeft" t="textAreaTop" r="textAreaRight" b="textAreaBottom"/>
                    <a:pathLst>
                      <a:path w="267" h="238">
                        <a:moveTo>
                          <a:pt x="267" y="217"/>
                        </a:moveTo>
                        <a:lnTo>
                          <a:pt x="255" y="158"/>
                        </a:lnTo>
                        <a:lnTo>
                          <a:pt x="240" y="112"/>
                        </a:lnTo>
                        <a:lnTo>
                          <a:pt x="225" y="82"/>
                        </a:lnTo>
                        <a:lnTo>
                          <a:pt x="204" y="53"/>
                        </a:lnTo>
                        <a:lnTo>
                          <a:pt x="169" y="32"/>
                        </a:lnTo>
                        <a:lnTo>
                          <a:pt x="131" y="19"/>
                        </a:lnTo>
                        <a:lnTo>
                          <a:pt x="84" y="11"/>
                        </a:lnTo>
                        <a:lnTo>
                          <a:pt x="44" y="7"/>
                        </a:lnTo>
                        <a:lnTo>
                          <a:pt x="4" y="0"/>
                        </a:lnTo>
                        <a:lnTo>
                          <a:pt x="0" y="46"/>
                        </a:lnTo>
                        <a:lnTo>
                          <a:pt x="2" y="91"/>
                        </a:lnTo>
                        <a:lnTo>
                          <a:pt x="11" y="133"/>
                        </a:lnTo>
                        <a:lnTo>
                          <a:pt x="27" y="164"/>
                        </a:lnTo>
                        <a:lnTo>
                          <a:pt x="57" y="200"/>
                        </a:lnTo>
                        <a:lnTo>
                          <a:pt x="80" y="217"/>
                        </a:lnTo>
                        <a:lnTo>
                          <a:pt x="101" y="232"/>
                        </a:lnTo>
                        <a:lnTo>
                          <a:pt x="124" y="238"/>
                        </a:lnTo>
                        <a:lnTo>
                          <a:pt x="162" y="238"/>
                        </a:lnTo>
                        <a:lnTo>
                          <a:pt x="217" y="232"/>
                        </a:lnTo>
                        <a:lnTo>
                          <a:pt x="267" y="217"/>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Freeform 53"/>
                  <p:cNvSpPr/>
                  <p:nvPr/>
                </p:nvSpPr>
                <p:spPr>
                  <a:xfrm>
                    <a:off x="688320" y="2907000"/>
                    <a:ext cx="180720" cy="135360"/>
                  </a:xfrm>
                  <a:custGeom>
                    <a:avLst/>
                    <a:gdLst>
                      <a:gd name="textAreaLeft" fmla="*/ 0 w 180720"/>
                      <a:gd name="textAreaRight" fmla="*/ 181080 w 180720"/>
                      <a:gd name="textAreaTop" fmla="*/ 0 h 135360"/>
                      <a:gd name="textAreaBottom" fmla="*/ 135720 h 135360"/>
                    </a:gdLst>
                    <a:ahLst/>
                    <a:rect l="textAreaLeft" t="textAreaTop" r="textAreaRight" b="textAreaBottom"/>
                    <a:pathLst>
                      <a:path w="261" h="207">
                        <a:moveTo>
                          <a:pt x="0" y="0"/>
                        </a:moveTo>
                        <a:lnTo>
                          <a:pt x="38" y="36"/>
                        </a:lnTo>
                        <a:lnTo>
                          <a:pt x="63" y="63"/>
                        </a:lnTo>
                        <a:lnTo>
                          <a:pt x="93" y="97"/>
                        </a:lnTo>
                        <a:lnTo>
                          <a:pt x="131" y="129"/>
                        </a:lnTo>
                        <a:lnTo>
                          <a:pt x="171" y="160"/>
                        </a:lnTo>
                        <a:lnTo>
                          <a:pt x="230" y="194"/>
                        </a:lnTo>
                        <a:lnTo>
                          <a:pt x="261" y="207"/>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9" name="Group 54"/>
                <p:cNvGrpSpPr/>
                <p:nvPr/>
              </p:nvGrpSpPr>
              <p:grpSpPr>
                <a:xfrm>
                  <a:off x="752400" y="3044160"/>
                  <a:ext cx="145440" cy="173520"/>
                  <a:chOff x="752400" y="3044160"/>
                  <a:chExt cx="145440" cy="173520"/>
                </a:xfrm>
              </p:grpSpPr>
              <p:sp>
                <p:nvSpPr>
                  <p:cNvPr id="1230" name="Freeform 55"/>
                  <p:cNvSpPr/>
                  <p:nvPr/>
                </p:nvSpPr>
                <p:spPr>
                  <a:xfrm>
                    <a:off x="752400" y="3044160"/>
                    <a:ext cx="145440" cy="173520"/>
                  </a:xfrm>
                  <a:custGeom>
                    <a:avLst/>
                    <a:gdLst>
                      <a:gd name="textAreaLeft" fmla="*/ 0 w 145440"/>
                      <a:gd name="textAreaRight" fmla="*/ 145800 w 145440"/>
                      <a:gd name="textAreaTop" fmla="*/ 0 h 173520"/>
                      <a:gd name="textAreaBottom" fmla="*/ 173880 h 173520"/>
                    </a:gdLst>
                    <a:ahLst/>
                    <a:rect l="textAreaLeft" t="textAreaTop" r="textAreaRight" b="textAreaBottom"/>
                    <a:pathLst>
                      <a:path w="210" h="267">
                        <a:moveTo>
                          <a:pt x="166" y="4"/>
                        </a:moveTo>
                        <a:lnTo>
                          <a:pt x="116" y="15"/>
                        </a:lnTo>
                        <a:lnTo>
                          <a:pt x="82" y="27"/>
                        </a:lnTo>
                        <a:lnTo>
                          <a:pt x="55" y="42"/>
                        </a:lnTo>
                        <a:lnTo>
                          <a:pt x="31" y="65"/>
                        </a:lnTo>
                        <a:lnTo>
                          <a:pt x="10" y="101"/>
                        </a:lnTo>
                        <a:lnTo>
                          <a:pt x="4" y="139"/>
                        </a:lnTo>
                        <a:lnTo>
                          <a:pt x="0" y="183"/>
                        </a:lnTo>
                        <a:lnTo>
                          <a:pt x="4" y="223"/>
                        </a:lnTo>
                        <a:lnTo>
                          <a:pt x="12" y="267"/>
                        </a:lnTo>
                        <a:lnTo>
                          <a:pt x="38" y="263"/>
                        </a:lnTo>
                        <a:lnTo>
                          <a:pt x="73" y="255"/>
                        </a:lnTo>
                        <a:lnTo>
                          <a:pt x="114" y="244"/>
                        </a:lnTo>
                        <a:lnTo>
                          <a:pt x="153" y="231"/>
                        </a:lnTo>
                        <a:lnTo>
                          <a:pt x="175" y="215"/>
                        </a:lnTo>
                        <a:lnTo>
                          <a:pt x="193" y="194"/>
                        </a:lnTo>
                        <a:lnTo>
                          <a:pt x="202" y="174"/>
                        </a:lnTo>
                        <a:lnTo>
                          <a:pt x="208" y="149"/>
                        </a:lnTo>
                        <a:lnTo>
                          <a:pt x="210" y="132"/>
                        </a:lnTo>
                        <a:lnTo>
                          <a:pt x="210" y="82"/>
                        </a:lnTo>
                        <a:lnTo>
                          <a:pt x="202" y="38"/>
                        </a:lnTo>
                        <a:lnTo>
                          <a:pt x="194" y="8"/>
                        </a:lnTo>
                        <a:lnTo>
                          <a:pt x="193" y="0"/>
                        </a:lnTo>
                        <a:lnTo>
                          <a:pt x="166" y="4"/>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56"/>
                  <p:cNvSpPr/>
                  <p:nvPr/>
                </p:nvSpPr>
                <p:spPr>
                  <a:xfrm>
                    <a:off x="759240" y="3044160"/>
                    <a:ext cx="124200" cy="172080"/>
                  </a:xfrm>
                  <a:custGeom>
                    <a:avLst/>
                    <a:gdLst>
                      <a:gd name="textAreaLeft" fmla="*/ 0 w 124200"/>
                      <a:gd name="textAreaRight" fmla="*/ 124560 w 124200"/>
                      <a:gd name="textAreaTop" fmla="*/ 0 h 172080"/>
                      <a:gd name="textAreaBottom" fmla="*/ 172440 h 172080"/>
                    </a:gdLst>
                    <a:ahLst/>
                    <a:rect l="textAreaLeft" t="textAreaTop" r="textAreaRight" b="textAreaBottom"/>
                    <a:pathLst>
                      <a:path w="181" h="265">
                        <a:moveTo>
                          <a:pt x="181" y="0"/>
                        </a:moveTo>
                        <a:lnTo>
                          <a:pt x="162" y="38"/>
                        </a:lnTo>
                        <a:lnTo>
                          <a:pt x="137" y="74"/>
                        </a:lnTo>
                        <a:lnTo>
                          <a:pt x="103" y="124"/>
                        </a:lnTo>
                        <a:lnTo>
                          <a:pt x="78" y="156"/>
                        </a:lnTo>
                        <a:lnTo>
                          <a:pt x="45" y="206"/>
                        </a:lnTo>
                        <a:lnTo>
                          <a:pt x="21" y="242"/>
                        </a:lnTo>
                        <a:lnTo>
                          <a:pt x="0" y="265"/>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2" name="Group 57"/>
                <p:cNvGrpSpPr/>
                <p:nvPr/>
              </p:nvGrpSpPr>
              <p:grpSpPr>
                <a:xfrm>
                  <a:off x="699480" y="2476800"/>
                  <a:ext cx="232560" cy="145800"/>
                  <a:chOff x="699480" y="2476800"/>
                  <a:chExt cx="232560" cy="145800"/>
                </a:xfrm>
              </p:grpSpPr>
              <p:sp>
                <p:nvSpPr>
                  <p:cNvPr id="1233" name="Freeform 58"/>
                  <p:cNvSpPr/>
                  <p:nvPr/>
                </p:nvSpPr>
                <p:spPr>
                  <a:xfrm>
                    <a:off x="699480" y="2476800"/>
                    <a:ext cx="232560" cy="145800"/>
                  </a:xfrm>
                  <a:custGeom>
                    <a:avLst/>
                    <a:gdLst>
                      <a:gd name="textAreaLeft" fmla="*/ 0 w 232560"/>
                      <a:gd name="textAreaRight" fmla="*/ 232920 w 232560"/>
                      <a:gd name="textAreaTop" fmla="*/ 0 h 145800"/>
                      <a:gd name="textAreaBottom" fmla="*/ 146160 h 145800"/>
                    </a:gdLst>
                    <a:ahLst/>
                    <a:rect l="textAreaLeft" t="textAreaTop" r="textAreaRight" b="textAreaBottom"/>
                    <a:pathLst>
                      <a:path w="335" h="224">
                        <a:moveTo>
                          <a:pt x="333" y="209"/>
                        </a:moveTo>
                        <a:lnTo>
                          <a:pt x="248" y="221"/>
                        </a:lnTo>
                        <a:lnTo>
                          <a:pt x="200" y="224"/>
                        </a:lnTo>
                        <a:lnTo>
                          <a:pt x="164" y="223"/>
                        </a:lnTo>
                        <a:lnTo>
                          <a:pt x="137" y="217"/>
                        </a:lnTo>
                        <a:lnTo>
                          <a:pt x="107" y="204"/>
                        </a:lnTo>
                        <a:lnTo>
                          <a:pt x="86" y="181"/>
                        </a:lnTo>
                        <a:lnTo>
                          <a:pt x="70" y="158"/>
                        </a:lnTo>
                        <a:lnTo>
                          <a:pt x="61" y="131"/>
                        </a:lnTo>
                        <a:lnTo>
                          <a:pt x="51" y="99"/>
                        </a:lnTo>
                        <a:lnTo>
                          <a:pt x="40" y="82"/>
                        </a:lnTo>
                        <a:lnTo>
                          <a:pt x="23" y="64"/>
                        </a:lnTo>
                        <a:lnTo>
                          <a:pt x="0" y="49"/>
                        </a:lnTo>
                        <a:lnTo>
                          <a:pt x="42" y="28"/>
                        </a:lnTo>
                        <a:lnTo>
                          <a:pt x="76" y="17"/>
                        </a:lnTo>
                        <a:lnTo>
                          <a:pt x="116" y="5"/>
                        </a:lnTo>
                        <a:lnTo>
                          <a:pt x="154" y="0"/>
                        </a:lnTo>
                        <a:lnTo>
                          <a:pt x="185" y="0"/>
                        </a:lnTo>
                        <a:lnTo>
                          <a:pt x="221" y="0"/>
                        </a:lnTo>
                        <a:lnTo>
                          <a:pt x="253" y="9"/>
                        </a:lnTo>
                        <a:lnTo>
                          <a:pt x="284" y="24"/>
                        </a:lnTo>
                        <a:lnTo>
                          <a:pt x="305" y="45"/>
                        </a:lnTo>
                        <a:lnTo>
                          <a:pt x="320" y="64"/>
                        </a:lnTo>
                        <a:lnTo>
                          <a:pt x="329" y="103"/>
                        </a:lnTo>
                        <a:lnTo>
                          <a:pt x="335" y="154"/>
                        </a:lnTo>
                        <a:lnTo>
                          <a:pt x="333" y="209"/>
                        </a:lnTo>
                        <a:close/>
                      </a:path>
                    </a:pathLst>
                  </a:custGeom>
                  <a:solidFill>
                    <a:srgbClr val="00ff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59"/>
                  <p:cNvSpPr/>
                  <p:nvPr/>
                </p:nvSpPr>
                <p:spPr>
                  <a:xfrm>
                    <a:off x="702000" y="2509200"/>
                    <a:ext cx="226800" cy="104040"/>
                  </a:xfrm>
                  <a:custGeom>
                    <a:avLst/>
                    <a:gdLst>
                      <a:gd name="textAreaLeft" fmla="*/ 0 w 226800"/>
                      <a:gd name="textAreaRight" fmla="*/ 227160 w 226800"/>
                      <a:gd name="textAreaTop" fmla="*/ 0 h 104040"/>
                      <a:gd name="textAreaBottom" fmla="*/ 104400 h 104040"/>
                    </a:gdLst>
                    <a:ahLst/>
                    <a:rect l="textAreaLeft" t="textAreaTop" r="textAreaRight" b="textAreaBottom"/>
                    <a:pathLst>
                      <a:path w="327" h="160">
                        <a:moveTo>
                          <a:pt x="0" y="2"/>
                        </a:moveTo>
                        <a:lnTo>
                          <a:pt x="32" y="0"/>
                        </a:lnTo>
                        <a:lnTo>
                          <a:pt x="66" y="0"/>
                        </a:lnTo>
                        <a:lnTo>
                          <a:pt x="97" y="2"/>
                        </a:lnTo>
                        <a:lnTo>
                          <a:pt x="139" y="8"/>
                        </a:lnTo>
                        <a:lnTo>
                          <a:pt x="175" y="19"/>
                        </a:lnTo>
                        <a:lnTo>
                          <a:pt x="209" y="40"/>
                        </a:lnTo>
                        <a:lnTo>
                          <a:pt x="242" y="65"/>
                        </a:lnTo>
                        <a:lnTo>
                          <a:pt x="268" y="92"/>
                        </a:lnTo>
                        <a:lnTo>
                          <a:pt x="295" y="122"/>
                        </a:lnTo>
                        <a:lnTo>
                          <a:pt x="327" y="160"/>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Group 60"/>
                <p:cNvGrpSpPr/>
                <p:nvPr/>
              </p:nvGrpSpPr>
              <p:grpSpPr>
                <a:xfrm>
                  <a:off x="2633760" y="3023280"/>
                  <a:ext cx="145440" cy="172080"/>
                  <a:chOff x="2633760" y="3023280"/>
                  <a:chExt cx="145440" cy="172080"/>
                </a:xfrm>
              </p:grpSpPr>
              <p:sp>
                <p:nvSpPr>
                  <p:cNvPr id="1236" name="Freeform 61"/>
                  <p:cNvSpPr/>
                  <p:nvPr/>
                </p:nvSpPr>
                <p:spPr>
                  <a:xfrm>
                    <a:off x="2633760" y="3023280"/>
                    <a:ext cx="145440" cy="172080"/>
                  </a:xfrm>
                  <a:custGeom>
                    <a:avLst/>
                    <a:gdLst>
                      <a:gd name="textAreaLeft" fmla="*/ 0 w 145440"/>
                      <a:gd name="textAreaRight" fmla="*/ 145800 w 145440"/>
                      <a:gd name="textAreaTop" fmla="*/ 0 h 172080"/>
                      <a:gd name="textAreaBottom" fmla="*/ 172440 h 172080"/>
                    </a:gdLst>
                    <a:ahLst/>
                    <a:rect l="textAreaLeft" t="textAreaTop" r="textAreaRight" b="textAreaBottom"/>
                    <a:pathLst>
                      <a:path w="210" h="265">
                        <a:moveTo>
                          <a:pt x="44" y="4"/>
                        </a:moveTo>
                        <a:lnTo>
                          <a:pt x="93" y="15"/>
                        </a:lnTo>
                        <a:lnTo>
                          <a:pt x="128" y="25"/>
                        </a:lnTo>
                        <a:lnTo>
                          <a:pt x="154" y="40"/>
                        </a:lnTo>
                        <a:lnTo>
                          <a:pt x="181" y="65"/>
                        </a:lnTo>
                        <a:lnTo>
                          <a:pt x="200" y="99"/>
                        </a:lnTo>
                        <a:lnTo>
                          <a:pt x="206" y="137"/>
                        </a:lnTo>
                        <a:lnTo>
                          <a:pt x="210" y="181"/>
                        </a:lnTo>
                        <a:lnTo>
                          <a:pt x="206" y="223"/>
                        </a:lnTo>
                        <a:lnTo>
                          <a:pt x="198" y="265"/>
                        </a:lnTo>
                        <a:lnTo>
                          <a:pt x="172" y="261"/>
                        </a:lnTo>
                        <a:lnTo>
                          <a:pt x="139" y="253"/>
                        </a:lnTo>
                        <a:lnTo>
                          <a:pt x="95" y="244"/>
                        </a:lnTo>
                        <a:lnTo>
                          <a:pt x="57" y="228"/>
                        </a:lnTo>
                        <a:lnTo>
                          <a:pt x="34" y="213"/>
                        </a:lnTo>
                        <a:lnTo>
                          <a:pt x="17" y="192"/>
                        </a:lnTo>
                        <a:lnTo>
                          <a:pt x="8" y="171"/>
                        </a:lnTo>
                        <a:lnTo>
                          <a:pt x="2" y="148"/>
                        </a:lnTo>
                        <a:lnTo>
                          <a:pt x="0" y="129"/>
                        </a:lnTo>
                        <a:lnTo>
                          <a:pt x="0" y="80"/>
                        </a:lnTo>
                        <a:lnTo>
                          <a:pt x="8" y="36"/>
                        </a:lnTo>
                        <a:lnTo>
                          <a:pt x="15" y="6"/>
                        </a:lnTo>
                        <a:lnTo>
                          <a:pt x="17" y="0"/>
                        </a:lnTo>
                        <a:lnTo>
                          <a:pt x="44" y="4"/>
                        </a:lnTo>
                        <a:close/>
                      </a:path>
                    </a:pathLst>
                  </a:custGeom>
                  <a:solidFill>
                    <a:srgbClr val="00ff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62"/>
                  <p:cNvSpPr/>
                  <p:nvPr/>
                </p:nvSpPr>
                <p:spPr>
                  <a:xfrm>
                    <a:off x="2647440" y="3023280"/>
                    <a:ext cx="124560" cy="172080"/>
                  </a:xfrm>
                  <a:custGeom>
                    <a:avLst/>
                    <a:gdLst>
                      <a:gd name="textAreaLeft" fmla="*/ 0 w 124560"/>
                      <a:gd name="textAreaRight" fmla="*/ 124920 w 124560"/>
                      <a:gd name="textAreaTop" fmla="*/ 0 h 172080"/>
                      <a:gd name="textAreaBottom" fmla="*/ 172440 h 172080"/>
                    </a:gdLst>
                    <a:ahLst/>
                    <a:rect l="textAreaLeft" t="textAreaTop" r="textAreaRight" b="textAreaBottom"/>
                    <a:pathLst>
                      <a:path w="181" h="265">
                        <a:moveTo>
                          <a:pt x="0" y="0"/>
                        </a:moveTo>
                        <a:lnTo>
                          <a:pt x="19" y="36"/>
                        </a:lnTo>
                        <a:lnTo>
                          <a:pt x="44" y="72"/>
                        </a:lnTo>
                        <a:lnTo>
                          <a:pt x="78" y="124"/>
                        </a:lnTo>
                        <a:lnTo>
                          <a:pt x="103" y="154"/>
                        </a:lnTo>
                        <a:lnTo>
                          <a:pt x="135" y="204"/>
                        </a:lnTo>
                        <a:lnTo>
                          <a:pt x="160" y="240"/>
                        </a:lnTo>
                        <a:lnTo>
                          <a:pt x="181" y="265"/>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8" name="Group 63"/>
                <p:cNvGrpSpPr/>
                <p:nvPr/>
              </p:nvGrpSpPr>
              <p:grpSpPr>
                <a:xfrm>
                  <a:off x="2650320" y="2885040"/>
                  <a:ext cx="231120" cy="148680"/>
                  <a:chOff x="2650320" y="2885040"/>
                  <a:chExt cx="231120" cy="148680"/>
                </a:xfrm>
              </p:grpSpPr>
              <p:sp>
                <p:nvSpPr>
                  <p:cNvPr id="1239" name="Freeform 64"/>
                  <p:cNvSpPr/>
                  <p:nvPr/>
                </p:nvSpPr>
                <p:spPr>
                  <a:xfrm>
                    <a:off x="2650320" y="2885040"/>
                    <a:ext cx="231120" cy="148680"/>
                  </a:xfrm>
                  <a:custGeom>
                    <a:avLst/>
                    <a:gdLst>
                      <a:gd name="textAreaLeft" fmla="*/ 0 w 231120"/>
                      <a:gd name="textAreaRight" fmla="*/ 231480 w 231120"/>
                      <a:gd name="textAreaTop" fmla="*/ 0 h 148680"/>
                      <a:gd name="textAreaBottom" fmla="*/ 149040 h 148680"/>
                    </a:gdLst>
                    <a:ahLst/>
                    <a:rect l="textAreaLeft" t="textAreaTop" r="textAreaRight" b="textAreaBottom"/>
                    <a:pathLst>
                      <a:path w="333" h="227">
                        <a:moveTo>
                          <a:pt x="0" y="212"/>
                        </a:moveTo>
                        <a:lnTo>
                          <a:pt x="88" y="221"/>
                        </a:lnTo>
                        <a:lnTo>
                          <a:pt x="133" y="227"/>
                        </a:lnTo>
                        <a:lnTo>
                          <a:pt x="171" y="223"/>
                        </a:lnTo>
                        <a:lnTo>
                          <a:pt x="196" y="218"/>
                        </a:lnTo>
                        <a:lnTo>
                          <a:pt x="228" y="204"/>
                        </a:lnTo>
                        <a:lnTo>
                          <a:pt x="249" y="181"/>
                        </a:lnTo>
                        <a:lnTo>
                          <a:pt x="263" y="158"/>
                        </a:lnTo>
                        <a:lnTo>
                          <a:pt x="274" y="132"/>
                        </a:lnTo>
                        <a:lnTo>
                          <a:pt x="282" y="101"/>
                        </a:lnTo>
                        <a:lnTo>
                          <a:pt x="295" y="82"/>
                        </a:lnTo>
                        <a:lnTo>
                          <a:pt x="310" y="65"/>
                        </a:lnTo>
                        <a:lnTo>
                          <a:pt x="333" y="50"/>
                        </a:lnTo>
                        <a:lnTo>
                          <a:pt x="291" y="29"/>
                        </a:lnTo>
                        <a:lnTo>
                          <a:pt x="257" y="18"/>
                        </a:lnTo>
                        <a:lnTo>
                          <a:pt x="217" y="6"/>
                        </a:lnTo>
                        <a:lnTo>
                          <a:pt x="179" y="0"/>
                        </a:lnTo>
                        <a:lnTo>
                          <a:pt x="150" y="0"/>
                        </a:lnTo>
                        <a:lnTo>
                          <a:pt x="114" y="2"/>
                        </a:lnTo>
                        <a:lnTo>
                          <a:pt x="80" y="10"/>
                        </a:lnTo>
                        <a:lnTo>
                          <a:pt x="51" y="25"/>
                        </a:lnTo>
                        <a:lnTo>
                          <a:pt x="28" y="46"/>
                        </a:lnTo>
                        <a:lnTo>
                          <a:pt x="15" y="65"/>
                        </a:lnTo>
                        <a:lnTo>
                          <a:pt x="4" y="103"/>
                        </a:lnTo>
                        <a:lnTo>
                          <a:pt x="0" y="155"/>
                        </a:lnTo>
                        <a:lnTo>
                          <a:pt x="0" y="212"/>
                        </a:lnTo>
                        <a:close/>
                      </a:path>
                    </a:pathLst>
                  </a:custGeom>
                  <a:solidFill>
                    <a:srgbClr val="00ff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65"/>
                  <p:cNvSpPr/>
                  <p:nvPr/>
                </p:nvSpPr>
                <p:spPr>
                  <a:xfrm>
                    <a:off x="2651400" y="2917800"/>
                    <a:ext cx="228600" cy="104040"/>
                  </a:xfrm>
                  <a:custGeom>
                    <a:avLst/>
                    <a:gdLst>
                      <a:gd name="textAreaLeft" fmla="*/ 0 w 228600"/>
                      <a:gd name="textAreaRight" fmla="*/ 228960 w 228600"/>
                      <a:gd name="textAreaTop" fmla="*/ 0 h 104040"/>
                      <a:gd name="textAreaBottom" fmla="*/ 104400 h 104040"/>
                    </a:gdLst>
                    <a:ahLst/>
                    <a:rect l="textAreaLeft" t="textAreaTop" r="textAreaRight" b="textAreaBottom"/>
                    <a:pathLst>
                      <a:path w="329" h="160">
                        <a:moveTo>
                          <a:pt x="329" y="2"/>
                        </a:moveTo>
                        <a:lnTo>
                          <a:pt x="295" y="0"/>
                        </a:lnTo>
                        <a:lnTo>
                          <a:pt x="261" y="0"/>
                        </a:lnTo>
                        <a:lnTo>
                          <a:pt x="230" y="2"/>
                        </a:lnTo>
                        <a:lnTo>
                          <a:pt x="188" y="9"/>
                        </a:lnTo>
                        <a:lnTo>
                          <a:pt x="154" y="21"/>
                        </a:lnTo>
                        <a:lnTo>
                          <a:pt x="118" y="42"/>
                        </a:lnTo>
                        <a:lnTo>
                          <a:pt x="86" y="67"/>
                        </a:lnTo>
                        <a:lnTo>
                          <a:pt x="61" y="93"/>
                        </a:lnTo>
                        <a:lnTo>
                          <a:pt x="32" y="122"/>
                        </a:lnTo>
                        <a:lnTo>
                          <a:pt x="0" y="160"/>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1" name="Group 66"/>
                <p:cNvGrpSpPr/>
                <p:nvPr/>
              </p:nvGrpSpPr>
              <p:grpSpPr>
                <a:xfrm>
                  <a:off x="1809360" y="1886040"/>
                  <a:ext cx="341640" cy="188640"/>
                  <a:chOff x="1809360" y="1886040"/>
                  <a:chExt cx="341640" cy="188640"/>
                </a:xfrm>
              </p:grpSpPr>
              <p:grpSp>
                <p:nvGrpSpPr>
                  <p:cNvPr id="1242" name="Group 67"/>
                  <p:cNvGrpSpPr/>
                  <p:nvPr/>
                </p:nvGrpSpPr>
                <p:grpSpPr>
                  <a:xfrm>
                    <a:off x="1986480" y="1886040"/>
                    <a:ext cx="164520" cy="174240"/>
                    <a:chOff x="1986480" y="1886040"/>
                    <a:chExt cx="164520" cy="174240"/>
                  </a:xfrm>
                </p:grpSpPr>
                <p:sp>
                  <p:nvSpPr>
                    <p:cNvPr id="1243" name="Freeform 68"/>
                    <p:cNvSpPr/>
                    <p:nvPr/>
                  </p:nvSpPr>
                  <p:spPr>
                    <a:xfrm>
                      <a:off x="1986480" y="1886040"/>
                      <a:ext cx="164520" cy="174240"/>
                    </a:xfrm>
                    <a:custGeom>
                      <a:avLst/>
                      <a:gdLst>
                        <a:gd name="textAreaLeft" fmla="*/ 0 w 164520"/>
                        <a:gd name="textAreaRight" fmla="*/ 164880 w 164520"/>
                        <a:gd name="textAreaTop" fmla="*/ 0 h 174240"/>
                        <a:gd name="textAreaBottom" fmla="*/ 174600 h 174240"/>
                      </a:gdLst>
                      <a:ahLst/>
                      <a:rect l="textAreaLeft" t="textAreaTop" r="textAreaRight" b="textAreaBottom"/>
                      <a:pathLst>
                        <a:path w="238" h="267">
                          <a:moveTo>
                            <a:pt x="21" y="267"/>
                          </a:moveTo>
                          <a:lnTo>
                            <a:pt x="80" y="255"/>
                          </a:lnTo>
                          <a:lnTo>
                            <a:pt x="126" y="240"/>
                          </a:lnTo>
                          <a:lnTo>
                            <a:pt x="154" y="225"/>
                          </a:lnTo>
                          <a:lnTo>
                            <a:pt x="185" y="204"/>
                          </a:lnTo>
                          <a:lnTo>
                            <a:pt x="206" y="169"/>
                          </a:lnTo>
                          <a:lnTo>
                            <a:pt x="217" y="131"/>
                          </a:lnTo>
                          <a:lnTo>
                            <a:pt x="227" y="84"/>
                          </a:lnTo>
                          <a:lnTo>
                            <a:pt x="230" y="44"/>
                          </a:lnTo>
                          <a:lnTo>
                            <a:pt x="238" y="4"/>
                          </a:lnTo>
                          <a:lnTo>
                            <a:pt x="192" y="0"/>
                          </a:lnTo>
                          <a:lnTo>
                            <a:pt x="145" y="2"/>
                          </a:lnTo>
                          <a:lnTo>
                            <a:pt x="105" y="11"/>
                          </a:lnTo>
                          <a:lnTo>
                            <a:pt x="74" y="27"/>
                          </a:lnTo>
                          <a:lnTo>
                            <a:pt x="38" y="57"/>
                          </a:lnTo>
                          <a:lnTo>
                            <a:pt x="21" y="80"/>
                          </a:lnTo>
                          <a:lnTo>
                            <a:pt x="6" y="101"/>
                          </a:lnTo>
                          <a:lnTo>
                            <a:pt x="0" y="124"/>
                          </a:lnTo>
                          <a:lnTo>
                            <a:pt x="0" y="162"/>
                          </a:lnTo>
                          <a:lnTo>
                            <a:pt x="4" y="217"/>
                          </a:lnTo>
                          <a:lnTo>
                            <a:pt x="21" y="267"/>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69"/>
                    <p:cNvSpPr/>
                    <p:nvPr/>
                  </p:nvSpPr>
                  <p:spPr>
                    <a:xfrm>
                      <a:off x="2004120" y="1888560"/>
                      <a:ext cx="145080" cy="170280"/>
                    </a:xfrm>
                    <a:custGeom>
                      <a:avLst/>
                      <a:gdLst>
                        <a:gd name="textAreaLeft" fmla="*/ 0 w 145080"/>
                        <a:gd name="textAreaRight" fmla="*/ 145440 w 145080"/>
                        <a:gd name="textAreaTop" fmla="*/ 0 h 170280"/>
                        <a:gd name="textAreaBottom" fmla="*/ 170640 h 170280"/>
                      </a:gdLst>
                      <a:ahLst/>
                      <a:rect l="textAreaLeft" t="textAreaTop" r="textAreaRight" b="textAreaBottom"/>
                      <a:pathLst>
                        <a:path w="209" h="261">
                          <a:moveTo>
                            <a:pt x="209" y="0"/>
                          </a:moveTo>
                          <a:lnTo>
                            <a:pt x="173" y="38"/>
                          </a:lnTo>
                          <a:lnTo>
                            <a:pt x="144" y="63"/>
                          </a:lnTo>
                          <a:lnTo>
                            <a:pt x="112" y="93"/>
                          </a:lnTo>
                          <a:lnTo>
                            <a:pt x="78" y="131"/>
                          </a:lnTo>
                          <a:lnTo>
                            <a:pt x="49" y="171"/>
                          </a:lnTo>
                          <a:lnTo>
                            <a:pt x="15" y="232"/>
                          </a:lnTo>
                          <a:lnTo>
                            <a:pt x="0" y="261"/>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5" name="Group 70"/>
                  <p:cNvGrpSpPr/>
                  <p:nvPr/>
                </p:nvGrpSpPr>
                <p:grpSpPr>
                  <a:xfrm>
                    <a:off x="1809360" y="1917000"/>
                    <a:ext cx="184320" cy="157680"/>
                    <a:chOff x="1809360" y="1917000"/>
                    <a:chExt cx="184320" cy="157680"/>
                  </a:xfrm>
                </p:grpSpPr>
                <p:sp>
                  <p:nvSpPr>
                    <p:cNvPr id="1246" name="Freeform 71"/>
                    <p:cNvSpPr/>
                    <p:nvPr/>
                  </p:nvSpPr>
                  <p:spPr>
                    <a:xfrm>
                      <a:off x="1809360" y="1917000"/>
                      <a:ext cx="184320" cy="157680"/>
                    </a:xfrm>
                    <a:custGeom>
                      <a:avLst/>
                      <a:gdLst>
                        <a:gd name="textAreaLeft" fmla="*/ 0 w 184320"/>
                        <a:gd name="textAreaRight" fmla="*/ 184680 w 184320"/>
                        <a:gd name="textAreaTop" fmla="*/ 0 h 157680"/>
                        <a:gd name="textAreaBottom" fmla="*/ 158040 h 157680"/>
                      </a:gdLst>
                      <a:ahLst/>
                      <a:rect l="textAreaLeft" t="textAreaTop" r="textAreaRight" b="textAreaBottom"/>
                      <a:pathLst>
                        <a:path w="266" h="241">
                          <a:moveTo>
                            <a:pt x="266" y="217"/>
                          </a:moveTo>
                          <a:lnTo>
                            <a:pt x="255" y="158"/>
                          </a:lnTo>
                          <a:lnTo>
                            <a:pt x="242" y="112"/>
                          </a:lnTo>
                          <a:lnTo>
                            <a:pt x="225" y="83"/>
                          </a:lnTo>
                          <a:lnTo>
                            <a:pt x="204" y="53"/>
                          </a:lnTo>
                          <a:lnTo>
                            <a:pt x="169" y="32"/>
                          </a:lnTo>
                          <a:lnTo>
                            <a:pt x="131" y="21"/>
                          </a:lnTo>
                          <a:lnTo>
                            <a:pt x="84" y="11"/>
                          </a:lnTo>
                          <a:lnTo>
                            <a:pt x="44" y="7"/>
                          </a:lnTo>
                          <a:lnTo>
                            <a:pt x="4" y="0"/>
                          </a:lnTo>
                          <a:lnTo>
                            <a:pt x="0" y="45"/>
                          </a:lnTo>
                          <a:lnTo>
                            <a:pt x="2" y="93"/>
                          </a:lnTo>
                          <a:lnTo>
                            <a:pt x="13" y="133"/>
                          </a:lnTo>
                          <a:lnTo>
                            <a:pt x="28" y="163"/>
                          </a:lnTo>
                          <a:lnTo>
                            <a:pt x="57" y="200"/>
                          </a:lnTo>
                          <a:lnTo>
                            <a:pt x="80" y="219"/>
                          </a:lnTo>
                          <a:lnTo>
                            <a:pt x="101" y="232"/>
                          </a:lnTo>
                          <a:lnTo>
                            <a:pt x="124" y="238"/>
                          </a:lnTo>
                          <a:lnTo>
                            <a:pt x="164" y="241"/>
                          </a:lnTo>
                          <a:lnTo>
                            <a:pt x="192" y="241"/>
                          </a:lnTo>
                          <a:lnTo>
                            <a:pt x="217" y="234"/>
                          </a:lnTo>
                          <a:lnTo>
                            <a:pt x="266" y="217"/>
                          </a:lnTo>
                          <a:close/>
                        </a:path>
                      </a:pathLst>
                    </a:custGeom>
                    <a:solidFill>
                      <a:srgbClr val="00c000"/>
                    </a:solid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72"/>
                    <p:cNvSpPr/>
                    <p:nvPr/>
                  </p:nvSpPr>
                  <p:spPr>
                    <a:xfrm>
                      <a:off x="1811880" y="1919520"/>
                      <a:ext cx="179640" cy="136440"/>
                    </a:xfrm>
                    <a:custGeom>
                      <a:avLst/>
                      <a:gdLst>
                        <a:gd name="textAreaLeft" fmla="*/ 0 w 179640"/>
                        <a:gd name="textAreaRight" fmla="*/ 180000 w 179640"/>
                        <a:gd name="textAreaTop" fmla="*/ 0 h 136440"/>
                        <a:gd name="textAreaBottom" fmla="*/ 136800 h 136440"/>
                      </a:gdLst>
                      <a:ahLst/>
                      <a:rect l="textAreaLeft" t="textAreaTop" r="textAreaRight" b="textAreaBottom"/>
                      <a:pathLst>
                        <a:path w="261" h="210">
                          <a:moveTo>
                            <a:pt x="0" y="0"/>
                          </a:moveTo>
                          <a:lnTo>
                            <a:pt x="38" y="37"/>
                          </a:lnTo>
                          <a:lnTo>
                            <a:pt x="62" y="65"/>
                          </a:lnTo>
                          <a:lnTo>
                            <a:pt x="93" y="98"/>
                          </a:lnTo>
                          <a:lnTo>
                            <a:pt x="131" y="132"/>
                          </a:lnTo>
                          <a:lnTo>
                            <a:pt x="171" y="160"/>
                          </a:lnTo>
                          <a:lnTo>
                            <a:pt x="232" y="195"/>
                          </a:lnTo>
                          <a:lnTo>
                            <a:pt x="261" y="210"/>
                          </a:lnTo>
                        </a:path>
                      </a:pathLst>
                    </a:custGeom>
                    <a:noFill/>
                    <a:ln w="12600">
                      <a:solidFill>
                        <a:srgbClr val="004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248" name="Group 73"/>
            <p:cNvGrpSpPr/>
            <p:nvPr/>
          </p:nvGrpSpPr>
          <p:grpSpPr>
            <a:xfrm>
              <a:off x="1612440" y="2451960"/>
              <a:ext cx="225720" cy="190440"/>
              <a:chOff x="1612440" y="2451960"/>
              <a:chExt cx="225720" cy="190440"/>
            </a:xfrm>
          </p:grpSpPr>
          <p:sp>
            <p:nvSpPr>
              <p:cNvPr id="1249" name="Freeform 74"/>
              <p:cNvSpPr/>
              <p:nvPr/>
            </p:nvSpPr>
            <p:spPr>
              <a:xfrm>
                <a:off x="1612440" y="2451960"/>
                <a:ext cx="225720" cy="190440"/>
              </a:xfrm>
              <a:custGeom>
                <a:avLst/>
                <a:gdLst>
                  <a:gd name="textAreaLeft" fmla="*/ 0 w 225720"/>
                  <a:gd name="textAreaRight" fmla="*/ 226080 w 225720"/>
                  <a:gd name="textAreaTop" fmla="*/ 0 h 190440"/>
                  <a:gd name="textAreaBottom" fmla="*/ 190800 h 190440"/>
                </a:gdLst>
                <a:ahLst/>
                <a:rect l="textAreaLeft" t="textAreaTop" r="textAreaRight" b="textAreaBottom"/>
                <a:pathLst>
                  <a:path w="326" h="291">
                    <a:moveTo>
                      <a:pt x="74" y="287"/>
                    </a:moveTo>
                    <a:lnTo>
                      <a:pt x="59" y="291"/>
                    </a:lnTo>
                    <a:lnTo>
                      <a:pt x="44" y="289"/>
                    </a:lnTo>
                    <a:lnTo>
                      <a:pt x="34" y="278"/>
                    </a:lnTo>
                    <a:lnTo>
                      <a:pt x="19" y="257"/>
                    </a:lnTo>
                    <a:lnTo>
                      <a:pt x="0" y="188"/>
                    </a:lnTo>
                    <a:lnTo>
                      <a:pt x="4" y="152"/>
                    </a:lnTo>
                    <a:lnTo>
                      <a:pt x="10" y="133"/>
                    </a:lnTo>
                    <a:lnTo>
                      <a:pt x="17" y="120"/>
                    </a:lnTo>
                    <a:lnTo>
                      <a:pt x="32" y="106"/>
                    </a:lnTo>
                    <a:lnTo>
                      <a:pt x="89" y="70"/>
                    </a:lnTo>
                    <a:lnTo>
                      <a:pt x="110" y="61"/>
                    </a:lnTo>
                    <a:lnTo>
                      <a:pt x="128" y="55"/>
                    </a:lnTo>
                    <a:lnTo>
                      <a:pt x="141" y="51"/>
                    </a:lnTo>
                    <a:lnTo>
                      <a:pt x="152" y="38"/>
                    </a:lnTo>
                    <a:lnTo>
                      <a:pt x="166" y="30"/>
                    </a:lnTo>
                    <a:lnTo>
                      <a:pt x="185" y="22"/>
                    </a:lnTo>
                    <a:lnTo>
                      <a:pt x="204" y="19"/>
                    </a:lnTo>
                    <a:lnTo>
                      <a:pt x="215" y="5"/>
                    </a:lnTo>
                    <a:lnTo>
                      <a:pt x="234" y="0"/>
                    </a:lnTo>
                    <a:lnTo>
                      <a:pt x="255" y="2"/>
                    </a:lnTo>
                    <a:lnTo>
                      <a:pt x="274" y="7"/>
                    </a:lnTo>
                    <a:lnTo>
                      <a:pt x="299" y="38"/>
                    </a:lnTo>
                    <a:lnTo>
                      <a:pt x="318" y="91"/>
                    </a:lnTo>
                    <a:lnTo>
                      <a:pt x="324" y="114"/>
                    </a:lnTo>
                    <a:lnTo>
                      <a:pt x="326" y="135"/>
                    </a:lnTo>
                    <a:lnTo>
                      <a:pt x="324" y="148"/>
                    </a:lnTo>
                    <a:lnTo>
                      <a:pt x="322" y="162"/>
                    </a:lnTo>
                    <a:lnTo>
                      <a:pt x="314" y="177"/>
                    </a:lnTo>
                    <a:lnTo>
                      <a:pt x="303" y="186"/>
                    </a:lnTo>
                    <a:lnTo>
                      <a:pt x="282" y="192"/>
                    </a:lnTo>
                    <a:lnTo>
                      <a:pt x="265" y="188"/>
                    </a:lnTo>
                    <a:lnTo>
                      <a:pt x="249" y="175"/>
                    </a:lnTo>
                    <a:lnTo>
                      <a:pt x="249" y="192"/>
                    </a:lnTo>
                    <a:lnTo>
                      <a:pt x="246" y="205"/>
                    </a:lnTo>
                    <a:lnTo>
                      <a:pt x="240" y="219"/>
                    </a:lnTo>
                    <a:lnTo>
                      <a:pt x="229" y="230"/>
                    </a:lnTo>
                    <a:lnTo>
                      <a:pt x="219" y="234"/>
                    </a:lnTo>
                    <a:lnTo>
                      <a:pt x="211" y="236"/>
                    </a:lnTo>
                    <a:lnTo>
                      <a:pt x="192" y="232"/>
                    </a:lnTo>
                    <a:lnTo>
                      <a:pt x="183" y="224"/>
                    </a:lnTo>
                    <a:lnTo>
                      <a:pt x="168" y="211"/>
                    </a:lnTo>
                    <a:lnTo>
                      <a:pt x="171" y="232"/>
                    </a:lnTo>
                    <a:lnTo>
                      <a:pt x="162" y="251"/>
                    </a:lnTo>
                    <a:lnTo>
                      <a:pt x="147" y="262"/>
                    </a:lnTo>
                    <a:lnTo>
                      <a:pt x="131" y="264"/>
                    </a:lnTo>
                    <a:lnTo>
                      <a:pt x="112" y="262"/>
                    </a:lnTo>
                    <a:lnTo>
                      <a:pt x="95" y="247"/>
                    </a:lnTo>
                    <a:lnTo>
                      <a:pt x="95" y="262"/>
                    </a:lnTo>
                    <a:lnTo>
                      <a:pt x="89" y="278"/>
                    </a:lnTo>
                    <a:lnTo>
                      <a:pt x="74" y="287"/>
                    </a:lnTo>
                    <a:close/>
                  </a:path>
                </a:pathLst>
              </a:custGeom>
              <a:solidFill>
                <a:srgbClr val="ffe0c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0" name="Group 75"/>
              <p:cNvGrpSpPr/>
              <p:nvPr/>
            </p:nvGrpSpPr>
            <p:grpSpPr>
              <a:xfrm>
                <a:off x="1656360" y="2504160"/>
                <a:ext cx="129600" cy="118080"/>
                <a:chOff x="1656360" y="2504160"/>
                <a:chExt cx="129600" cy="118080"/>
              </a:xfrm>
            </p:grpSpPr>
            <p:sp>
              <p:nvSpPr>
                <p:cNvPr id="1251" name="Line 76"/>
                <p:cNvSpPr/>
                <p:nvPr/>
              </p:nvSpPr>
              <p:spPr>
                <a:xfrm>
                  <a:off x="1656360" y="2550600"/>
                  <a:ext cx="23400" cy="7164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52" name="Line 77"/>
                <p:cNvSpPr/>
                <p:nvPr/>
              </p:nvSpPr>
              <p:spPr>
                <a:xfrm>
                  <a:off x="1708920" y="2527200"/>
                  <a:ext cx="20520" cy="702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3" name="Line 78"/>
                <p:cNvSpPr/>
                <p:nvPr/>
              </p:nvSpPr>
              <p:spPr>
                <a:xfrm>
                  <a:off x="1761120" y="2504160"/>
                  <a:ext cx="2484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sp>
        <p:nvSpPr>
          <p:cNvPr id="1254" name="Rectangle 79"/>
          <p:cNvSpPr/>
          <p:nvPr/>
        </p:nvSpPr>
        <p:spPr>
          <a:xfrm>
            <a:off x="3505320" y="1581120"/>
            <a:ext cx="5410080" cy="2860920"/>
          </a:xfrm>
          <a:prstGeom prst="rect">
            <a:avLst/>
          </a:prstGeom>
          <a:noFill/>
          <a:ln w="0">
            <a:noFill/>
          </a:ln>
        </p:spPr>
        <p:style>
          <a:lnRef idx="0"/>
          <a:fillRef idx="0"/>
          <a:effectRef idx="0"/>
          <a:fontRef idx="minor"/>
        </p:style>
        <p:txBody>
          <a:bodyPr lIns="90360" rIns="90360" tIns="44280" bIns="4428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53535"/>
                </a:solidFill>
                <a:latin typeface="Arial"/>
              </a:rPr>
              <a:t>Joint costs are traditionally allocated among different products at the split-off point.    A typical approach is to allocate joint costs according to the </a:t>
            </a:r>
            <a:r>
              <a:rPr b="1" lang="en-US" sz="2600" spc="-1" strike="noStrike">
                <a:solidFill>
                  <a:srgbClr val="0000ff"/>
                </a:solidFill>
                <a:latin typeface="Arial"/>
              </a:rPr>
              <a:t>relative sales value</a:t>
            </a:r>
            <a:r>
              <a:rPr b="1" lang="en-US" sz="2600" spc="-1" strike="noStrike">
                <a:solidFill>
                  <a:srgbClr val="353535"/>
                </a:solidFill>
                <a:latin typeface="Arial"/>
              </a:rPr>
              <a:t> of the end products. </a:t>
            </a:r>
            <a:endParaRPr b="0" lang="en-US" sz="2600" spc="-1" strike="noStrike">
              <a:solidFill>
                <a:srgbClr val="000000"/>
              </a:solidFill>
              <a:latin typeface="Arial"/>
            </a:endParaRPr>
          </a:p>
        </p:txBody>
      </p:sp>
      <p:sp>
        <p:nvSpPr>
          <p:cNvPr id="1255" name="Rectangle 82"/>
          <p:cNvSpPr/>
          <p:nvPr/>
        </p:nvSpPr>
        <p:spPr>
          <a:xfrm>
            <a:off x="3352680" y="4552920"/>
            <a:ext cx="5486400" cy="2073960"/>
          </a:xfrm>
          <a:prstGeom prst="rect">
            <a:avLst/>
          </a:prstGeom>
          <a:noFill/>
          <a:ln w="0">
            <a:noFill/>
          </a:ln>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53535"/>
                </a:solidFill>
                <a:latin typeface="Arial"/>
              </a:rPr>
              <a:t>Although allocation is needed for some purposes such as balance sheet inventory valuation, allocations of this kind are </a:t>
            </a:r>
            <a:r>
              <a:rPr b="1" lang="en-US" sz="2600" spc="-1" strike="noStrike">
                <a:solidFill>
                  <a:srgbClr val="ff0000"/>
                </a:solidFill>
                <a:latin typeface="Arial"/>
              </a:rPr>
              <a:t>very dangerous</a:t>
            </a:r>
            <a:r>
              <a:rPr b="1" lang="en-US" sz="2600" spc="-1" strike="noStrike">
                <a:solidFill>
                  <a:srgbClr val="373d54"/>
                </a:solidFill>
                <a:latin typeface="Arial"/>
              </a:rPr>
              <a:t> </a:t>
            </a:r>
            <a:r>
              <a:rPr b="1" lang="en-US" sz="2600" spc="-1" strike="noStrike">
                <a:solidFill>
                  <a:srgbClr val="353535"/>
                </a:solidFill>
                <a:latin typeface="Arial"/>
              </a:rPr>
              <a:t>for decision making.</a:t>
            </a:r>
            <a:endParaRPr b="0" lang="en-US" sz="2600" spc="-1" strike="noStrike">
              <a:solidFill>
                <a:srgbClr val="000000"/>
              </a:solidFill>
              <a:latin typeface="Arial"/>
            </a:endParaRPr>
          </a:p>
        </p:txBody>
      </p:sp>
    </p:spTree>
  </p:cSld>
  <p:transition>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l or Process Further</a:t>
            </a:r>
            <a:endParaRPr b="0" lang="en-US" sz="4000" spc="-1" strike="noStrike">
              <a:solidFill>
                <a:srgbClr val="464646"/>
              </a:solidFill>
              <a:latin typeface="Arial"/>
            </a:endParaRPr>
          </a:p>
        </p:txBody>
      </p:sp>
      <p:sp>
        <p:nvSpPr>
          <p:cNvPr id="1257" name="TextBox 4"/>
          <p:cNvSpPr/>
          <p:nvPr/>
        </p:nvSpPr>
        <p:spPr>
          <a:xfrm>
            <a:off x="228600" y="1600200"/>
            <a:ext cx="8534520" cy="4724280"/>
          </a:xfrm>
          <a:prstGeom prst="rect">
            <a:avLst/>
          </a:prstGeom>
          <a:solidFill>
            <a:srgbClr val="d4dfe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53535"/>
                </a:solidFill>
                <a:latin typeface="Arial"/>
              </a:rPr>
              <a:t>Joint costs are irrelevant in decisions regarding what to do with a product from the split-off  point forward. Therefore, these costs should  not be allocated to end products for decision-making purpose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53535"/>
                </a:solidFill>
                <a:latin typeface="Arial"/>
                <a:ea typeface="MS PGothic"/>
              </a:rPr>
              <a:t>With respect to sell or process further decisions, it is profitable to continue processing a joint product after the split-off point </a:t>
            </a:r>
            <a:r>
              <a:rPr b="1" lang="en-US" sz="2600" spc="-1" strike="noStrike">
                <a:solidFill>
                  <a:srgbClr val="c00000"/>
                </a:solidFill>
                <a:latin typeface="Arial"/>
                <a:ea typeface="MS PGothic"/>
              </a:rPr>
              <a:t>so long as the incremental revenue from such processing exceeds the incremental processing costs incurred after the split-off point.</a:t>
            </a:r>
            <a:endParaRPr b="0" lang="en-US" sz="2600" spc="-1" strike="noStrike">
              <a:solidFill>
                <a:srgbClr val="000000"/>
              </a:solidFill>
              <a:latin typeface="Arial"/>
            </a:endParaRPr>
          </a:p>
        </p:txBody>
      </p:sp>
    </p:spTree>
  </p:cSld>
  <p:transition>
    <p:checke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Sell or Process Further: An Example</a:t>
            </a:r>
            <a:endParaRPr b="0" lang="en-US" sz="3600" spc="-1" strike="noStrike">
              <a:solidFill>
                <a:srgbClr val="464646"/>
              </a:solidFill>
              <a:latin typeface="Arial"/>
            </a:endParaRPr>
          </a:p>
        </p:txBody>
      </p:sp>
      <p:sp>
        <p:nvSpPr>
          <p:cNvPr id="1259" name="PlaceHolder 2"/>
          <p:cNvSpPr>
            <a:spLocks noGrp="1"/>
          </p:cNvSpPr>
          <p:nvPr>
            <p:ph/>
          </p:nvPr>
        </p:nvSpPr>
        <p:spPr>
          <a:xfrm>
            <a:off x="152280" y="1599840"/>
            <a:ext cx="8686800" cy="3352680"/>
          </a:xfrm>
          <a:prstGeom prst="rect">
            <a:avLst/>
          </a:prstGeom>
          <a:solidFill>
            <a:srgbClr val="ebf7ff"/>
          </a:solidFill>
          <a:ln w="12600">
            <a:solidFill>
              <a:srgbClr val="000000"/>
            </a:solidFill>
            <a:miter/>
          </a:ln>
          <a:effectLst>
            <a:outerShdw dist="36147" dir="2700000" blurRad="0" rotWithShape="0">
              <a:srgbClr val="000000"/>
            </a:outerShdw>
          </a:effectLst>
        </p:spPr>
        <p:txBody>
          <a:bodyPr lIns="90360" rIns="90360" tIns="44280" bIns="4428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mill, Inc. cuts logs from which unfinished lumber and sawdust are the immediate joint products.</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inished lumber is sold “as is” or processed further into finished lumber.</a:t>
            </a:r>
            <a:endParaRPr b="0" lang="en-US" sz="2800" spc="-1" strike="noStrike">
              <a:solidFill>
                <a:srgbClr val="000000"/>
              </a:solidFill>
              <a:latin typeface="Arial"/>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dust can also be sold “as is” to gardening wholesalers or processed further into “presto-logs.”</a:t>
            </a:r>
            <a:endParaRPr b="0" lang="en-US" sz="2800" spc="-1" strike="noStrike">
              <a:solidFill>
                <a:srgbClr val="000000"/>
              </a:solidFill>
              <a:latin typeface="Arial"/>
            </a:endParaRPr>
          </a:p>
        </p:txBody>
      </p:sp>
      <p:grpSp>
        <p:nvGrpSpPr>
          <p:cNvPr id="1260" name="Group 6"/>
          <p:cNvGrpSpPr/>
          <p:nvPr/>
        </p:nvGrpSpPr>
        <p:grpSpPr>
          <a:xfrm>
            <a:off x="990720" y="5273640"/>
            <a:ext cx="7350120" cy="1279440"/>
            <a:chOff x="990720" y="5273640"/>
            <a:chExt cx="7350120" cy="1279440"/>
          </a:xfrm>
        </p:grpSpPr>
        <p:pic>
          <p:nvPicPr>
            <p:cNvPr id="1261" name="Picture 5" descr="MCj03318210000[1]"/>
            <p:cNvPicPr/>
            <p:nvPr/>
          </p:nvPicPr>
          <p:blipFill>
            <a:blip r:embed="rId1"/>
            <a:stretch/>
          </p:blipFill>
          <p:spPr>
            <a:xfrm>
              <a:off x="990720" y="5715000"/>
              <a:ext cx="796680" cy="838080"/>
            </a:xfrm>
            <a:prstGeom prst="rect">
              <a:avLst/>
            </a:prstGeom>
            <a:ln w="0">
              <a:noFill/>
            </a:ln>
          </p:spPr>
        </p:pic>
        <p:pic>
          <p:nvPicPr>
            <p:cNvPr id="1262" name="Picture 6" descr="MCj03318210000[1]"/>
            <p:cNvPicPr/>
            <p:nvPr/>
          </p:nvPicPr>
          <p:blipFill>
            <a:blip r:embed="rId2"/>
            <a:stretch/>
          </p:blipFill>
          <p:spPr>
            <a:xfrm>
              <a:off x="7544160" y="5715000"/>
              <a:ext cx="796680" cy="838080"/>
            </a:xfrm>
            <a:prstGeom prst="rect">
              <a:avLst/>
            </a:prstGeom>
            <a:ln w="0">
              <a:noFill/>
            </a:ln>
          </p:spPr>
        </p:pic>
        <p:pic>
          <p:nvPicPr>
            <p:cNvPr id="1263" name="Object 4" descr=""/>
            <p:cNvPicPr/>
            <p:nvPr/>
          </p:nvPicPr>
          <p:blipFill>
            <a:blip r:embed="rId3"/>
            <a:stretch/>
          </p:blipFill>
          <p:spPr>
            <a:xfrm>
              <a:off x="4114800" y="5273640"/>
              <a:ext cx="866520" cy="1127160"/>
            </a:xfrm>
            <a:prstGeom prst="rect">
              <a:avLst/>
            </a:prstGeom>
            <a:ln w="9360">
              <a:solidFill>
                <a:srgbClr val="000000"/>
              </a:solidFill>
              <a:miter/>
            </a:ln>
          </p:spPr>
        </p:pic>
      </p:gr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l or Process Further</a:t>
            </a:r>
            <a:endParaRPr b="0" lang="en-US" sz="4000" spc="-1" strike="noStrike">
              <a:solidFill>
                <a:srgbClr val="464646"/>
              </a:solidFill>
              <a:latin typeface="Arial"/>
            </a:endParaRPr>
          </a:p>
        </p:txBody>
      </p:sp>
      <p:sp>
        <p:nvSpPr>
          <p:cNvPr id="1265" name="PlaceHolder 2"/>
          <p:cNvSpPr>
            <a:spLocks noGrp="1"/>
          </p:cNvSpPr>
          <p:nvPr>
            <p:ph/>
          </p:nvPr>
        </p:nvSpPr>
        <p:spPr>
          <a:xfrm>
            <a:off x="228600" y="1523880"/>
            <a:ext cx="8610480" cy="609840"/>
          </a:xfrm>
          <a:prstGeom prst="rect">
            <a:avLst/>
          </a:prstGeom>
          <a:noFill/>
          <a:ln w="0">
            <a:noFill/>
          </a:ln>
        </p:spPr>
        <p:txBody>
          <a:bodyPr lIns="90360" rIns="90360" tIns="44280" bIns="44280" anchor="t">
            <a:normAutofit/>
          </a:bodyPr>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bout Sawmill’s joint products includes:</a:t>
            </a:r>
            <a:endParaRPr b="0" lang="en-US" sz="3200" spc="-1" strike="noStrike">
              <a:solidFill>
                <a:srgbClr val="000000"/>
              </a:solidFill>
              <a:latin typeface="Arial"/>
            </a:endParaRPr>
          </a:p>
        </p:txBody>
      </p:sp>
      <p:graphicFrame>
        <p:nvGraphicFramePr>
          <p:cNvPr id="1266" name="Object 2"/>
          <p:cNvGraphicFramePr/>
          <p:nvPr/>
        </p:nvGraphicFramePr>
        <p:xfrm>
          <a:off x="457200" y="2143080"/>
          <a:ext cx="8308800" cy="2954520"/>
        </p:xfrm>
        <a:graphic>
          <a:graphicData uri="http://schemas.openxmlformats.org/presentationml/2006/ole">
            <p:oleObj progId="Excel.Sheet.12" r:id="rId1" spid="">
              <p:embed/>
              <p:pic>
                <p:nvPicPr>
                  <p:cNvPr id="1267" name="Object 2" descr=""/>
                  <p:cNvPicPr/>
                  <p:nvPr/>
                </p:nvPicPr>
                <p:blipFill>
                  <a:blip r:embed="rId2"/>
                  <a:stretch/>
                </p:blipFill>
                <p:spPr>
                  <a:xfrm>
                    <a:off x="457200" y="2143080"/>
                    <a:ext cx="8308800" cy="2954520"/>
                  </a:xfrm>
                  <a:prstGeom prst="rect">
                    <a:avLst/>
                  </a:prstGeom>
                  <a:ln w="12600">
                    <a:solidFill>
                      <a:srgbClr val="000000"/>
                    </a:solidFill>
                    <a:miter/>
                  </a:ln>
                </p:spPr>
              </p:pic>
            </p:oleObj>
          </a:graphicData>
        </a:graphic>
      </p:graphicFrame>
      <p:grpSp>
        <p:nvGrpSpPr>
          <p:cNvPr id="1268" name="Group 7"/>
          <p:cNvGrpSpPr/>
          <p:nvPr/>
        </p:nvGrpSpPr>
        <p:grpSpPr>
          <a:xfrm>
            <a:off x="990720" y="5273640"/>
            <a:ext cx="7350120" cy="1279440"/>
            <a:chOff x="990720" y="5273640"/>
            <a:chExt cx="7350120" cy="1279440"/>
          </a:xfrm>
        </p:grpSpPr>
        <p:pic>
          <p:nvPicPr>
            <p:cNvPr id="1269" name="Picture 5" descr="MCj03318210000[1]"/>
            <p:cNvPicPr/>
            <p:nvPr/>
          </p:nvPicPr>
          <p:blipFill>
            <a:blip r:embed="rId3"/>
            <a:stretch/>
          </p:blipFill>
          <p:spPr>
            <a:xfrm>
              <a:off x="990720" y="5715000"/>
              <a:ext cx="796680" cy="838080"/>
            </a:xfrm>
            <a:prstGeom prst="rect">
              <a:avLst/>
            </a:prstGeom>
            <a:ln w="0">
              <a:noFill/>
            </a:ln>
          </p:spPr>
        </p:pic>
        <p:pic>
          <p:nvPicPr>
            <p:cNvPr id="1270" name="Picture 6" descr="MCj03318210000[1]"/>
            <p:cNvPicPr/>
            <p:nvPr/>
          </p:nvPicPr>
          <p:blipFill>
            <a:blip r:embed="rId4"/>
            <a:stretch/>
          </p:blipFill>
          <p:spPr>
            <a:xfrm>
              <a:off x="7544160" y="5715000"/>
              <a:ext cx="796680" cy="838080"/>
            </a:xfrm>
            <a:prstGeom prst="rect">
              <a:avLst/>
            </a:prstGeom>
            <a:ln w="0">
              <a:noFill/>
            </a:ln>
          </p:spPr>
        </p:pic>
        <p:pic>
          <p:nvPicPr>
            <p:cNvPr id="1271" name="Object 4" descr=""/>
            <p:cNvPicPr/>
            <p:nvPr/>
          </p:nvPicPr>
          <p:blipFill>
            <a:blip r:embed="rId5"/>
            <a:stretch/>
          </p:blipFill>
          <p:spPr>
            <a:xfrm>
              <a:off x="4114800" y="5273640"/>
              <a:ext cx="866520" cy="1127160"/>
            </a:xfrm>
            <a:prstGeom prst="rect">
              <a:avLst/>
            </a:prstGeom>
            <a:ln w="9360">
              <a:solidFill>
                <a:srgbClr val="000000"/>
              </a:solidFill>
              <a:miter/>
            </a:ln>
          </p:spPr>
        </p:pic>
      </p:grpSp>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l or Process Further</a:t>
            </a:r>
            <a:endParaRPr b="0" lang="en-US" sz="4000" spc="-1" strike="noStrike">
              <a:solidFill>
                <a:srgbClr val="464646"/>
              </a:solidFill>
              <a:latin typeface="Arial"/>
            </a:endParaRPr>
          </a:p>
        </p:txBody>
      </p:sp>
      <p:graphicFrame>
        <p:nvGraphicFramePr>
          <p:cNvPr id="1273" name="Object 5"/>
          <p:cNvGraphicFramePr/>
          <p:nvPr/>
        </p:nvGraphicFramePr>
        <p:xfrm>
          <a:off x="304920" y="1859040"/>
          <a:ext cx="8658000" cy="3170160"/>
        </p:xfrm>
        <a:graphic>
          <a:graphicData uri="http://schemas.openxmlformats.org/presentationml/2006/ole">
            <p:oleObj progId="Excel.Sheet.12" r:id="rId1" spid="">
              <p:embed/>
              <p:pic>
                <p:nvPicPr>
                  <p:cNvPr id="1274" name="Object 5" descr=""/>
                  <p:cNvPicPr/>
                  <p:nvPr/>
                </p:nvPicPr>
                <p:blipFill>
                  <a:blip r:embed="rId2"/>
                  <a:stretch/>
                </p:blipFill>
                <p:spPr>
                  <a:xfrm>
                    <a:off x="304920" y="1859040"/>
                    <a:ext cx="8658000" cy="3170160"/>
                  </a:xfrm>
                  <a:prstGeom prst="rect">
                    <a:avLst/>
                  </a:prstGeom>
                  <a:ln w="0">
                    <a:noFill/>
                  </a:ln>
                </p:spPr>
              </p:pic>
            </p:oleObj>
          </a:graphicData>
        </a:graphic>
      </p:graphicFrame>
      <p:grpSp>
        <p:nvGrpSpPr>
          <p:cNvPr id="1275" name="Group 6"/>
          <p:cNvGrpSpPr/>
          <p:nvPr/>
        </p:nvGrpSpPr>
        <p:grpSpPr>
          <a:xfrm>
            <a:off x="990720" y="5273640"/>
            <a:ext cx="7350120" cy="1279440"/>
            <a:chOff x="990720" y="5273640"/>
            <a:chExt cx="7350120" cy="1279440"/>
          </a:xfrm>
        </p:grpSpPr>
        <p:pic>
          <p:nvPicPr>
            <p:cNvPr id="1276" name="Picture 5" descr="MCj03318210000[1]"/>
            <p:cNvPicPr/>
            <p:nvPr/>
          </p:nvPicPr>
          <p:blipFill>
            <a:blip r:embed="rId3"/>
            <a:stretch/>
          </p:blipFill>
          <p:spPr>
            <a:xfrm>
              <a:off x="990720" y="5715000"/>
              <a:ext cx="796680" cy="838080"/>
            </a:xfrm>
            <a:prstGeom prst="rect">
              <a:avLst/>
            </a:prstGeom>
            <a:ln w="0">
              <a:noFill/>
            </a:ln>
          </p:spPr>
        </p:pic>
        <p:pic>
          <p:nvPicPr>
            <p:cNvPr id="1277" name="Picture 6" descr="MCj03318210000[1]"/>
            <p:cNvPicPr/>
            <p:nvPr/>
          </p:nvPicPr>
          <p:blipFill>
            <a:blip r:embed="rId4"/>
            <a:stretch/>
          </p:blipFill>
          <p:spPr>
            <a:xfrm>
              <a:off x="7544160" y="5715000"/>
              <a:ext cx="796680" cy="838080"/>
            </a:xfrm>
            <a:prstGeom prst="rect">
              <a:avLst/>
            </a:prstGeom>
            <a:ln w="0">
              <a:noFill/>
            </a:ln>
          </p:spPr>
        </p:pic>
        <p:pic>
          <p:nvPicPr>
            <p:cNvPr id="1278" name="Object 4" descr=""/>
            <p:cNvPicPr/>
            <p:nvPr/>
          </p:nvPicPr>
          <p:blipFill>
            <a:blip r:embed="rId5"/>
            <a:stretch/>
          </p:blipFill>
          <p:spPr>
            <a:xfrm>
              <a:off x="4114800" y="5273640"/>
              <a:ext cx="866520" cy="1127160"/>
            </a:xfrm>
            <a:prstGeom prst="rect">
              <a:avLst/>
            </a:prstGeom>
            <a:ln w="9360">
              <a:solidFill>
                <a:srgbClr val="000000"/>
              </a:solidFill>
              <a:miter/>
            </a:ln>
          </p:spPr>
        </p:pic>
      </p:gr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l or Process Further</a:t>
            </a:r>
            <a:endParaRPr b="0" lang="en-US" sz="4000" spc="-1" strike="noStrike">
              <a:solidFill>
                <a:srgbClr val="464646"/>
              </a:solidFill>
              <a:latin typeface="Arial"/>
            </a:endParaRPr>
          </a:p>
        </p:txBody>
      </p:sp>
      <p:graphicFrame>
        <p:nvGraphicFramePr>
          <p:cNvPr id="1280" name="Object 2"/>
          <p:cNvGraphicFramePr/>
          <p:nvPr/>
        </p:nvGraphicFramePr>
        <p:xfrm>
          <a:off x="304920" y="1676520"/>
          <a:ext cx="8658000" cy="3170160"/>
        </p:xfrm>
        <a:graphic>
          <a:graphicData uri="http://schemas.openxmlformats.org/presentationml/2006/ole">
            <p:oleObj progId="Excel.Sheet.12" r:id="rId1" spid="">
              <p:embed/>
              <p:pic>
                <p:nvPicPr>
                  <p:cNvPr id="1281" name="Object 2" descr=""/>
                  <p:cNvPicPr/>
                  <p:nvPr/>
                </p:nvPicPr>
                <p:blipFill>
                  <a:blip r:embed="rId2"/>
                  <a:stretch/>
                </p:blipFill>
                <p:spPr>
                  <a:xfrm>
                    <a:off x="304920" y="1676520"/>
                    <a:ext cx="8658000" cy="3170160"/>
                  </a:xfrm>
                  <a:prstGeom prst="rect">
                    <a:avLst/>
                  </a:prstGeom>
                  <a:ln w="0">
                    <a:noFill/>
                  </a:ln>
                </p:spPr>
              </p:pic>
            </p:oleObj>
          </a:graphicData>
        </a:graphic>
      </p:graphicFrame>
      <p:grpSp>
        <p:nvGrpSpPr>
          <p:cNvPr id="1282" name="Group 6"/>
          <p:cNvGrpSpPr/>
          <p:nvPr/>
        </p:nvGrpSpPr>
        <p:grpSpPr>
          <a:xfrm>
            <a:off x="990720" y="5273640"/>
            <a:ext cx="7350120" cy="1279440"/>
            <a:chOff x="990720" y="5273640"/>
            <a:chExt cx="7350120" cy="1279440"/>
          </a:xfrm>
        </p:grpSpPr>
        <p:pic>
          <p:nvPicPr>
            <p:cNvPr id="1283" name="Picture 5" descr="MCj03318210000[1]"/>
            <p:cNvPicPr/>
            <p:nvPr/>
          </p:nvPicPr>
          <p:blipFill>
            <a:blip r:embed="rId3"/>
            <a:stretch/>
          </p:blipFill>
          <p:spPr>
            <a:xfrm>
              <a:off x="990720" y="5715000"/>
              <a:ext cx="796680" cy="838080"/>
            </a:xfrm>
            <a:prstGeom prst="rect">
              <a:avLst/>
            </a:prstGeom>
            <a:ln w="0">
              <a:noFill/>
            </a:ln>
          </p:spPr>
        </p:pic>
        <p:pic>
          <p:nvPicPr>
            <p:cNvPr id="1284" name="Picture 6" descr="MCj03318210000[1]"/>
            <p:cNvPicPr/>
            <p:nvPr/>
          </p:nvPicPr>
          <p:blipFill>
            <a:blip r:embed="rId4"/>
            <a:stretch/>
          </p:blipFill>
          <p:spPr>
            <a:xfrm>
              <a:off x="7544160" y="5715000"/>
              <a:ext cx="796680" cy="838080"/>
            </a:xfrm>
            <a:prstGeom prst="rect">
              <a:avLst/>
            </a:prstGeom>
            <a:ln w="0">
              <a:noFill/>
            </a:ln>
          </p:spPr>
        </p:pic>
        <p:pic>
          <p:nvPicPr>
            <p:cNvPr id="1285" name="Object 4" descr=""/>
            <p:cNvPicPr/>
            <p:nvPr/>
          </p:nvPicPr>
          <p:blipFill>
            <a:blip r:embed="rId5"/>
            <a:stretch/>
          </p:blipFill>
          <p:spPr>
            <a:xfrm>
              <a:off x="4114800" y="5273640"/>
              <a:ext cx="866520" cy="1127160"/>
            </a:xfrm>
            <a:prstGeom prst="rect">
              <a:avLst/>
            </a:prstGeom>
            <a:ln w="9360">
              <a:solidFill>
                <a:srgbClr val="000000"/>
              </a:solidFill>
              <a:miter/>
            </a:ln>
          </p:spPr>
        </p:pic>
      </p:grpSp>
    </p:spTree>
  </p:cSld>
  <p:transition>
    <p:pull dir="l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ll or Process Further</a:t>
            </a:r>
            <a:endParaRPr b="0" lang="en-US" sz="4000" spc="-1" strike="noStrike">
              <a:solidFill>
                <a:srgbClr val="464646"/>
              </a:solidFill>
              <a:latin typeface="Arial"/>
            </a:endParaRPr>
          </a:p>
        </p:txBody>
      </p:sp>
      <p:sp>
        <p:nvSpPr>
          <p:cNvPr id="1287" name="Rectangle 5"/>
          <p:cNvSpPr/>
          <p:nvPr/>
        </p:nvSpPr>
        <p:spPr>
          <a:xfrm>
            <a:off x="1828800" y="5033880"/>
            <a:ext cx="5562720" cy="1276920"/>
          </a:xfrm>
          <a:prstGeom prst="rect">
            <a:avLst/>
          </a:prstGeom>
          <a:solidFill>
            <a:srgbClr val="ebf7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Arial"/>
              </a:rPr>
              <a:t>The lumber should be processed further and the sawdust should be sold at the split-off point.</a:t>
            </a:r>
            <a:endParaRPr b="0" lang="en-US" sz="2600" spc="-1" strike="noStrike">
              <a:solidFill>
                <a:srgbClr val="000000"/>
              </a:solidFill>
              <a:latin typeface="Arial"/>
            </a:endParaRPr>
          </a:p>
        </p:txBody>
      </p:sp>
      <p:pic>
        <p:nvPicPr>
          <p:cNvPr id="1288" name="Picture 5" descr="MCj03318210000[1]"/>
          <p:cNvPicPr/>
          <p:nvPr/>
        </p:nvPicPr>
        <p:blipFill>
          <a:blip r:embed="rId1"/>
          <a:stretch/>
        </p:blipFill>
        <p:spPr>
          <a:xfrm>
            <a:off x="990720" y="5486400"/>
            <a:ext cx="796680" cy="838080"/>
          </a:xfrm>
          <a:prstGeom prst="rect">
            <a:avLst/>
          </a:prstGeom>
          <a:ln w="0">
            <a:noFill/>
          </a:ln>
        </p:spPr>
      </p:pic>
      <p:pic>
        <p:nvPicPr>
          <p:cNvPr id="1289" name="Picture 6" descr="MCj03318210000[1]"/>
          <p:cNvPicPr/>
          <p:nvPr/>
        </p:nvPicPr>
        <p:blipFill>
          <a:blip r:embed="rId2"/>
          <a:stretch/>
        </p:blipFill>
        <p:spPr>
          <a:xfrm>
            <a:off x="7543800" y="5486400"/>
            <a:ext cx="797040" cy="838080"/>
          </a:xfrm>
          <a:prstGeom prst="rect">
            <a:avLst/>
          </a:prstGeom>
          <a:ln w="0">
            <a:noFill/>
          </a:ln>
        </p:spPr>
      </p:pic>
      <p:graphicFrame>
        <p:nvGraphicFramePr>
          <p:cNvPr id="1290" name="Object 2"/>
          <p:cNvGraphicFramePr/>
          <p:nvPr/>
        </p:nvGraphicFramePr>
        <p:xfrm>
          <a:off x="304920" y="1676520"/>
          <a:ext cx="8658000" cy="3170160"/>
        </p:xfrm>
        <a:graphic>
          <a:graphicData uri="http://schemas.openxmlformats.org/presentationml/2006/ole">
            <p:oleObj progId="Excel.Sheet.12" r:id="rId3" spid="">
              <p:embed/>
              <p:pic>
                <p:nvPicPr>
                  <p:cNvPr id="1291" name="Object 2" descr=""/>
                  <p:cNvPicPr/>
                  <p:nvPr/>
                </p:nvPicPr>
                <p:blipFill>
                  <a:blip r:embed="rId4"/>
                  <a:stretch/>
                </p:blipFill>
                <p:spPr>
                  <a:xfrm>
                    <a:off x="304920" y="1676520"/>
                    <a:ext cx="8658000" cy="3170160"/>
                  </a:xfrm>
                  <a:prstGeom prst="rect">
                    <a:avLst/>
                  </a:prstGeom>
                  <a:ln w="0">
                    <a:noFill/>
                  </a:ln>
                </p:spPr>
              </p:pic>
            </p:oleObj>
          </a:graphicData>
        </a:graphic>
      </p:graphicFrame>
    </p:spTree>
  </p:cSld>
  <p:transition>
    <p:wipe dir="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Activity-Based Costing and Relevant Costs</a:t>
            </a:r>
            <a:endParaRPr b="0" lang="en-US" sz="3600" spc="-1" strike="noStrike">
              <a:solidFill>
                <a:srgbClr val="464646"/>
              </a:solidFill>
              <a:latin typeface="Arial"/>
            </a:endParaRPr>
          </a:p>
        </p:txBody>
      </p:sp>
      <p:sp>
        <p:nvSpPr>
          <p:cNvPr id="1293" name="Text Box 3"/>
          <p:cNvSpPr/>
          <p:nvPr/>
        </p:nvSpPr>
        <p:spPr>
          <a:xfrm>
            <a:off x="228600" y="1778040"/>
            <a:ext cx="8610480" cy="88596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64646"/>
                </a:solidFill>
                <a:latin typeface="Arial"/>
              </a:rPr>
              <a:t>ABC can be used to help identify </a:t>
            </a:r>
            <a:r>
              <a:rPr b="1" lang="en-US" sz="2600" spc="-1" strike="noStrike">
                <a:solidFill>
                  <a:srgbClr val="c00000"/>
                </a:solidFill>
                <a:latin typeface="Arial"/>
              </a:rPr>
              <a:t>potentially </a:t>
            </a:r>
            <a:r>
              <a:rPr b="1" lang="en-US" sz="2600" spc="-1" strike="noStrike">
                <a:solidFill>
                  <a:srgbClr val="464646"/>
                </a:solidFill>
                <a:latin typeface="Arial"/>
              </a:rPr>
              <a:t>relevant costs for decision-making purposes.</a:t>
            </a:r>
            <a:endParaRPr b="0" lang="en-US" sz="2600" spc="-1" strike="noStrike">
              <a:solidFill>
                <a:srgbClr val="000000"/>
              </a:solidFill>
              <a:latin typeface="Arial"/>
            </a:endParaRPr>
          </a:p>
        </p:txBody>
      </p:sp>
      <p:pic>
        <p:nvPicPr>
          <p:cNvPr id="1294" name="Picture 4" descr=""/>
          <p:cNvPicPr/>
          <p:nvPr/>
        </p:nvPicPr>
        <p:blipFill>
          <a:blip r:embed="rId1"/>
          <a:stretch/>
        </p:blipFill>
        <p:spPr>
          <a:xfrm>
            <a:off x="5934240" y="2825640"/>
            <a:ext cx="2447640" cy="2667240"/>
          </a:xfrm>
          <a:prstGeom prst="rect">
            <a:avLst/>
          </a:prstGeom>
          <a:ln w="0">
            <a:noFill/>
          </a:ln>
        </p:spPr>
      </p:pic>
      <p:sp>
        <p:nvSpPr>
          <p:cNvPr id="1295" name="AutoShape 5"/>
          <p:cNvSpPr/>
          <p:nvPr/>
        </p:nvSpPr>
        <p:spPr>
          <a:xfrm>
            <a:off x="304920" y="2901960"/>
            <a:ext cx="4952880" cy="1600200"/>
          </a:xfrm>
          <a:prstGeom prst="wedgeRoundRectCallout">
            <a:avLst>
              <a:gd name="adj1" fmla="val 86134"/>
              <a:gd name="adj2" fmla="val -8953"/>
              <a:gd name="adj3" fmla="val 16667"/>
            </a:avLst>
          </a:prstGeom>
          <a:solidFill>
            <a:srgbClr val="7f7f7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wever, managers should exercise caution against reading more into this “traceability” than really exists. </a:t>
            </a:r>
            <a:endParaRPr b="0" lang="en-US" sz="2200" spc="-1" strike="noStrike">
              <a:solidFill>
                <a:srgbClr val="000000"/>
              </a:solidFill>
              <a:latin typeface="Arial"/>
            </a:endParaRPr>
          </a:p>
        </p:txBody>
      </p:sp>
      <p:sp>
        <p:nvSpPr>
          <p:cNvPr id="1296" name="Text Box 3"/>
          <p:cNvSpPr/>
          <p:nvPr/>
        </p:nvSpPr>
        <p:spPr>
          <a:xfrm>
            <a:off x="46080" y="5035680"/>
            <a:ext cx="9051840" cy="1434600"/>
          </a:xfrm>
          <a:prstGeom prst="rect">
            <a:avLst/>
          </a:prstGeom>
          <a:solidFill>
            <a:srgbClr val="ebf7ff"/>
          </a:solidFill>
          <a:ln w="9360">
            <a:solidFill>
              <a:srgbClr val="464646"/>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rPr>
              <a:t>People have a tendency to assume that if a cost is traceable to a segment, then the cost is automatically avoidable, which is untrue. Before making a decision, managers must decide which of the potentially relevant costs are actually avoidable.</a:t>
            </a:r>
            <a:endParaRPr b="0" lang="en-US" sz="2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Identifying Relevant Costs</a:t>
            </a:r>
            <a:endParaRPr b="0" lang="en-US" sz="4000" spc="-1" strike="noStrike">
              <a:solidFill>
                <a:srgbClr val="464646"/>
              </a:solidFill>
              <a:latin typeface="Arial"/>
            </a:endParaRPr>
          </a:p>
        </p:txBody>
      </p:sp>
      <p:sp>
        <p:nvSpPr>
          <p:cNvPr id="134" name="Text Box 3"/>
          <p:cNvSpPr/>
          <p:nvPr/>
        </p:nvSpPr>
        <p:spPr>
          <a:xfrm>
            <a:off x="639720" y="1676520"/>
            <a:ext cx="7848720" cy="825480"/>
          </a:xfrm>
          <a:prstGeom prst="rect">
            <a:avLst/>
          </a:prstGeom>
          <a:solidFill>
            <a:srgbClr val="227a8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costs and benefits are relevant in Cynthia’s decision?</a:t>
            </a:r>
            <a:endParaRPr b="0" lang="en-US" sz="2400" spc="-1" strike="noStrike">
              <a:solidFill>
                <a:srgbClr val="000000"/>
              </a:solidFill>
              <a:latin typeface="Arial"/>
            </a:endParaRPr>
          </a:p>
        </p:txBody>
      </p:sp>
      <p:sp>
        <p:nvSpPr>
          <p:cNvPr id="135" name="Text Box 4"/>
          <p:cNvSpPr/>
          <p:nvPr/>
        </p:nvSpPr>
        <p:spPr>
          <a:xfrm>
            <a:off x="914400" y="2971800"/>
            <a:ext cx="2743200" cy="1922760"/>
          </a:xfrm>
          <a:prstGeom prst="rect">
            <a:avLst/>
          </a:prstGeom>
          <a:solidFill>
            <a:srgbClr val="fbe0d1"/>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1014"/>
                </a:solidFill>
                <a:latin typeface="Arial"/>
              </a:rPr>
              <a:t>The cost of the car is a sunk cost and is </a:t>
            </a:r>
            <a:r>
              <a:rPr b="1" lang="en-US" sz="2400" spc="-1" strike="noStrike">
                <a:solidFill>
                  <a:srgbClr val="ff0000"/>
                </a:solidFill>
                <a:latin typeface="Arial"/>
              </a:rPr>
              <a:t>not</a:t>
            </a:r>
            <a:r>
              <a:rPr b="1" lang="en-US" sz="2400" spc="-1" strike="noStrike">
                <a:solidFill>
                  <a:srgbClr val="6d1014"/>
                </a:solidFill>
                <a:latin typeface="Arial"/>
              </a:rPr>
              <a:t> </a:t>
            </a:r>
            <a:r>
              <a:rPr b="1" lang="en-US" sz="2400" spc="-1" strike="noStrike">
                <a:solidFill>
                  <a:srgbClr val="ff0000"/>
                </a:solidFill>
                <a:latin typeface="Arial"/>
              </a:rPr>
              <a:t>relevant</a:t>
            </a:r>
            <a:r>
              <a:rPr b="1" lang="en-US" sz="2400" spc="-1" strike="noStrike">
                <a:solidFill>
                  <a:srgbClr val="6d1014"/>
                </a:solidFill>
                <a:latin typeface="Arial"/>
              </a:rPr>
              <a:t> to the current decision.</a:t>
            </a:r>
            <a:endParaRPr b="0" lang="en-US" sz="2400" spc="-1" strike="noStrike">
              <a:solidFill>
                <a:srgbClr val="000000"/>
              </a:solidFill>
              <a:latin typeface="Arial"/>
            </a:endParaRPr>
          </a:p>
        </p:txBody>
      </p:sp>
      <p:sp>
        <p:nvSpPr>
          <p:cNvPr id="136" name="Text Box 5"/>
          <p:cNvSpPr/>
          <p:nvPr/>
        </p:nvSpPr>
        <p:spPr>
          <a:xfrm>
            <a:off x="334800" y="5280120"/>
            <a:ext cx="8458200" cy="1191240"/>
          </a:xfrm>
          <a:prstGeom prst="rect">
            <a:avLst/>
          </a:prstGeom>
          <a:solidFill>
            <a:srgbClr val="ebf7ff"/>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d54"/>
                </a:solidFill>
                <a:latin typeface="Arial"/>
              </a:rPr>
              <a:t>However, the cost of gasoline is clearly </a:t>
            </a:r>
            <a:r>
              <a:rPr b="1" lang="en-US" sz="2400" spc="-1" strike="noStrike">
                <a:solidFill>
                  <a:srgbClr val="ff0000"/>
                </a:solidFill>
                <a:latin typeface="Arial"/>
              </a:rPr>
              <a:t>relevant </a:t>
            </a:r>
            <a:r>
              <a:rPr b="1" lang="en-US" sz="2400" spc="-1" strike="noStrike">
                <a:solidFill>
                  <a:srgbClr val="373d54"/>
                </a:solidFill>
                <a:latin typeface="Arial"/>
              </a:rPr>
              <a:t>if she decides to drive. If she takes the train,  the cost would not be incurred, so it varies depending on the decision.</a:t>
            </a:r>
            <a:endParaRPr b="0" lang="en-US" sz="2400" spc="-1" strike="noStrike">
              <a:solidFill>
                <a:srgbClr val="000000"/>
              </a:solidFill>
              <a:latin typeface="Arial"/>
            </a:endParaRPr>
          </a:p>
        </p:txBody>
      </p:sp>
      <p:sp>
        <p:nvSpPr>
          <p:cNvPr id="137" name="Text Box 6"/>
          <p:cNvSpPr/>
          <p:nvPr/>
        </p:nvSpPr>
        <p:spPr>
          <a:xfrm>
            <a:off x="4952880" y="2971800"/>
            <a:ext cx="3733920" cy="1922760"/>
          </a:xfrm>
          <a:prstGeom prst="rect">
            <a:avLst/>
          </a:prstGeom>
          <a:solidFill>
            <a:srgbClr val="fbe0d1"/>
          </a:solidFill>
          <a:ln w="9360">
            <a:solidFill>
              <a:srgbClr val="da1f28"/>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1014"/>
                </a:solidFill>
                <a:latin typeface="Arial"/>
              </a:rPr>
              <a:t>The annual cost of insurance is </a:t>
            </a:r>
            <a:r>
              <a:rPr b="1" lang="en-US" sz="2400" spc="-1" strike="noStrike">
                <a:solidFill>
                  <a:srgbClr val="ff0000"/>
                </a:solidFill>
                <a:latin typeface="Arial"/>
              </a:rPr>
              <a:t>not</a:t>
            </a:r>
            <a:r>
              <a:rPr b="1" lang="en-US" sz="2400" spc="-1" strike="noStrike">
                <a:solidFill>
                  <a:srgbClr val="6d1014"/>
                </a:solidFill>
                <a:latin typeface="Arial"/>
              </a:rPr>
              <a:t> </a:t>
            </a:r>
            <a:r>
              <a:rPr b="1" lang="en-US" sz="2400" spc="-1" strike="noStrike">
                <a:solidFill>
                  <a:srgbClr val="ff0000"/>
                </a:solidFill>
                <a:latin typeface="Arial"/>
              </a:rPr>
              <a:t>relevant</a:t>
            </a:r>
            <a:r>
              <a:rPr b="1" lang="en-US" sz="2400" spc="-1" strike="noStrike">
                <a:solidFill>
                  <a:srgbClr val="6d1014"/>
                </a:solidFill>
                <a:latin typeface="Arial"/>
              </a:rPr>
              <a:t>. It will remain the same if she drives or takes the train.</a:t>
            </a:r>
            <a:endParaRPr b="0" lang="en-US" sz="2400" spc="-1" strike="noStrike">
              <a:solidFill>
                <a:srgbClr val="000000"/>
              </a:solidFill>
              <a:latin typeface="Arial"/>
            </a:endParaRPr>
          </a:p>
        </p:txBody>
      </p:sp>
    </p:spTree>
  </p:cSld>
  <p:transition>
    <p:wipe dir="l"/>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1">
                                  <p:stCondLst>
                                    <p:cond delay="0"/>
                                  </p:stCondLst>
                                  <p:childTnLst>
                                    <p:set>
                                      <p:cBhvr>
                                        <p:cTn id="21" dur="1" fill="hold">
                                          <p:stCondLst>
                                            <p:cond delay="0"/>
                                          </p:stCondLst>
                                        </p:cTn>
                                        <p:tgtEl>
                                          <p:spTgt spid="136"/>
                                        </p:tgtEl>
                                        <p:attrNameLst>
                                          <p:attrName>style.visibility</p:attrName>
                                        </p:attrNameLst>
                                      </p:cBhvr>
                                      <p:to>
                                        <p:strVal val="visible"/>
                                      </p:to>
                                    </p:set>
                                    <p:animEffect filter="slide(fromTop)" transition="in">
                                      <p:cBhvr additive="repl">
                                        <p:cTn id="2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Chapter 12</a:t>
            </a:r>
            <a:endParaRPr b="0" lang="en-US" sz="4000" spc="-1" strike="noStrike">
              <a:solidFill>
                <a:srgbClr val="464646"/>
              </a:solidFill>
              <a:latin typeface="Arial"/>
            </a:endParaRPr>
          </a:p>
        </p:txBody>
      </p:sp>
      <p:pic>
        <p:nvPicPr>
          <p:cNvPr id="1298"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13T12:46:20Z</dcterms:modified>
  <cp:revision>294</cp:revision>
  <dc:subject/>
  <dc:title>Chapter Title</dc:title>
</cp:coreProperties>
</file>