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media/image10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jpeg" ContentType="image/jpeg"/>
  <Override PartName="/ppt/media/image6.wmf" ContentType="image/x-wmf"/>
  <Override PartName="/ppt/media/image11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5.jpeg" ContentType="image/jpeg"/>
  <Override PartName="/ppt/media/image9.wmf" ContentType="image/x-wmf"/>
  <Override PartName="/ppt/media/image1.wmf" ContentType="image/x-wmf"/>
  <Override PartName="/ppt/media/image2.wmf" ContentType="image/x-wmf"/>
  <Override PartName="/ppt/media/image15.png" ContentType="image/png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5036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05036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a6ddea"/>
          </a:solidFill>
          <a:ln cap="rnd" w="50760">
            <a:solidFill>
              <a:srgbClr val="7acb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da1f28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19"/>
          <p:cNvSpPr/>
          <p:nvPr/>
        </p:nvSpPr>
        <p:spPr>
          <a:xfrm>
            <a:off x="7772400" y="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</a:t>
            </a:r>
            <a:fld id="{8BA4B5E2-C1B1-44B3-81F3-46CEC57A9665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ounded Rectangle 1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a6ddea"/>
          </a:solidFill>
          <a:ln cap="rnd" w="507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5"/>
          <p:cNvSpPr/>
          <p:nvPr/>
        </p:nvSpPr>
        <p:spPr>
          <a:xfrm>
            <a:off x="457200" y="5305320"/>
            <a:ext cx="4724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PowerPoint Author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Susan Coomer Galbreath, Ph.D., C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Charles W. Caldwell, D.B.A., C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Jon A. Booker, Ph.D.,</a:t>
            </a:r>
            <a:r>
              <a:rPr b="0" lang="en-US" sz="1600" spc="-1" strike="noStrike">
                <a:solidFill>
                  <a:srgbClr val="78310b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CPA, 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Cynthia J. Rooney, Ph.D., C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8"/>
          <p:cNvSpPr/>
          <p:nvPr/>
        </p:nvSpPr>
        <p:spPr>
          <a:xfrm>
            <a:off x="474120" y="6611760"/>
            <a:ext cx="819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5540a"/>
                </a:solidFill>
                <a:latin typeface="Times New Roman"/>
              </a:rPr>
              <a:t>Copyright © 2015 McGraw-Hill Education. All rights reserved. No reproduction or distribution without the prior written consent of McGraw-Hill Educ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da1f28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5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34440" y="220968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tandard Costs and Variances</a:t>
            </a: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AutoShape 2"/>
          <p:cNvSpPr/>
          <p:nvPr/>
        </p:nvSpPr>
        <p:spPr>
          <a:xfrm>
            <a:off x="1781280" y="1619280"/>
            <a:ext cx="5591160" cy="1104840"/>
          </a:xfrm>
          <a:prstGeom prst="roundRect">
            <a:avLst>
              <a:gd name="adj" fmla="val 12495"/>
            </a:avLst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2451240" y="1908000"/>
            <a:ext cx="423216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Arial"/>
              </a:rPr>
              <a:t>Variance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9"/>
          <p:cNvSpPr/>
          <p:nvPr/>
        </p:nvSpPr>
        <p:spPr>
          <a:xfrm flipV="1">
            <a:off x="2216160" y="2730600"/>
            <a:ext cx="1346040" cy="6350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1"/>
          <p:cNvSpPr/>
          <p:nvPr/>
        </p:nvSpPr>
        <p:spPr>
          <a:xfrm flipH="1" flipV="1">
            <a:off x="5530320" y="2730600"/>
            <a:ext cx="1397160" cy="6350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9"/>
          <p:cNvSpPr/>
          <p:nvPr/>
        </p:nvSpPr>
        <p:spPr>
          <a:xfrm>
            <a:off x="5019840" y="4724280"/>
            <a:ext cx="3797280" cy="1447920"/>
          </a:xfrm>
          <a:prstGeom prst="roundRect">
            <a:avLst>
              <a:gd name="adj" fmla="val 12495"/>
            </a:avLst>
          </a:prstGeom>
          <a:solidFill>
            <a:srgbClr val="c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21"/>
          <p:cNvSpPr/>
          <p:nvPr/>
        </p:nvSpPr>
        <p:spPr>
          <a:xfrm>
            <a:off x="336600" y="4710240"/>
            <a:ext cx="3774960" cy="1461960"/>
          </a:xfrm>
          <a:prstGeom prst="roundRect">
            <a:avLst>
              <a:gd name="adj" fmla="val 12495"/>
            </a:avLst>
          </a:prstGeom>
          <a:solidFill>
            <a:srgbClr val="a3171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2"/>
          <p:cNvSpPr/>
          <p:nvPr/>
        </p:nvSpPr>
        <p:spPr>
          <a:xfrm>
            <a:off x="5038560" y="4876920"/>
            <a:ext cx="38055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erials quantity var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or efficiency var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H efficiency var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  <a:ea typeface="Arial"/>
              </a:rPr>
              <a:t>A General Model for Variance Analysis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98" name="AutoShape 1045"/>
          <p:cNvSpPr/>
          <p:nvPr/>
        </p:nvSpPr>
        <p:spPr>
          <a:xfrm>
            <a:off x="858960" y="3371760"/>
            <a:ext cx="2781000" cy="723960"/>
          </a:xfrm>
          <a:prstGeom prst="roundRect">
            <a:avLst>
              <a:gd name="adj" fmla="val 12495"/>
            </a:avLst>
          </a:prstGeom>
          <a:solidFill>
            <a:srgbClr val="78d6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046"/>
          <p:cNvSpPr/>
          <p:nvPr/>
        </p:nvSpPr>
        <p:spPr>
          <a:xfrm>
            <a:off x="1097280" y="3489480"/>
            <a:ext cx="233496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Arial"/>
              </a:rPr>
              <a:t>Price Vari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AutoShape 1050"/>
          <p:cNvCxnSpPr/>
          <p:nvPr/>
        </p:nvCxnSpPr>
        <p:spPr>
          <a:xfrm>
            <a:off x="2249280" y="4114800"/>
            <a:ext cx="1080" cy="583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1" name="AutoShape 1033"/>
          <p:cNvSpPr/>
          <p:nvPr/>
        </p:nvSpPr>
        <p:spPr>
          <a:xfrm>
            <a:off x="5524560" y="3371760"/>
            <a:ext cx="2781360" cy="723960"/>
          </a:xfrm>
          <a:prstGeom prst="roundRect">
            <a:avLst>
              <a:gd name="adj" fmla="val 12495"/>
            </a:avLst>
          </a:prstGeom>
          <a:solidFill>
            <a:srgbClr val="ead3d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034"/>
          <p:cNvSpPr/>
          <p:nvPr/>
        </p:nvSpPr>
        <p:spPr>
          <a:xfrm>
            <a:off x="5539680" y="3489480"/>
            <a:ext cx="281340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Arial"/>
              </a:rPr>
              <a:t>Quantity Vari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AutoShape 1039"/>
          <p:cNvCxnSpPr/>
          <p:nvPr/>
        </p:nvCxnSpPr>
        <p:spPr>
          <a:xfrm>
            <a:off x="6914880" y="4114800"/>
            <a:ext cx="1080" cy="583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4" name="Rectangle 20"/>
          <p:cNvSpPr/>
          <p:nvPr/>
        </p:nvSpPr>
        <p:spPr>
          <a:xfrm>
            <a:off x="492840" y="4865760"/>
            <a:ext cx="33987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erials price varianc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or rate varianc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H rate var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  <a:ea typeface="Arial"/>
              </a:rPr>
              <a:t>A General Model for Variance Analysis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206" name="Picture 18" descr="C:\Documents and Settings\CWC\Favorites\My Documents\My Pictures\Microsoft Clip Organizer\j0435981.wmf"/>
          <p:cNvPicPr/>
          <p:nvPr/>
        </p:nvPicPr>
        <p:blipFill>
          <a:blip r:embed="rId1"/>
          <a:stretch/>
        </p:blipFill>
        <p:spPr>
          <a:xfrm>
            <a:off x="7086600" y="1295280"/>
            <a:ext cx="1828800" cy="138744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3"/>
          <p:cNvSpPr/>
          <p:nvPr/>
        </p:nvSpPr>
        <p:spPr>
          <a:xfrm>
            <a:off x="1162080" y="4473720"/>
            <a:ext cx="34290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Price Variance</a:t>
            </a:r>
            <a:br>
              <a:rPr sz="2000"/>
            </a:b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(2) –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721400" y="4483080"/>
            <a:ext cx="29527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Quantity Variance</a:t>
            </a:r>
            <a:br>
              <a:rPr sz="2000"/>
            </a:b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(3) –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5937120" y="2801880"/>
            <a:ext cx="3108600" cy="12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4646"/>
                </a:solidFill>
                <a:latin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4646"/>
                </a:solidFill>
                <a:latin typeface="Arial"/>
              </a:rPr>
              <a:t>Standard Quantity</a:t>
            </a:r>
            <a:br>
              <a:rPr sz="1800"/>
            </a:br>
            <a:r>
              <a:rPr b="1" lang="en-US" sz="1800" spc="-1" strike="noStrike">
                <a:solidFill>
                  <a:srgbClr val="464646"/>
                </a:solidFill>
                <a:latin typeface="Arial"/>
              </a:rPr>
              <a:t>Allowed for Actual Output,</a:t>
            </a:r>
            <a:br>
              <a:rPr sz="1800"/>
            </a:br>
            <a:r>
              <a:rPr b="1" lang="en-US" sz="1800" spc="-1" strike="noStrike">
                <a:solidFill>
                  <a:srgbClr val="464646"/>
                </a:solidFill>
                <a:latin typeface="Arial"/>
              </a:rPr>
              <a:t>at Standard Price</a:t>
            </a:r>
            <a:br>
              <a:rPr sz="1800"/>
            </a:br>
            <a:r>
              <a:rPr b="1" lang="en-US" sz="1800" spc="-1" strike="noStrike">
                <a:solidFill>
                  <a:srgbClr val="464646"/>
                </a:solidFill>
                <a:latin typeface="Arial"/>
              </a:rPr>
              <a:t>(SQ × S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9"/>
          <p:cNvSpPr/>
          <p:nvPr/>
        </p:nvSpPr>
        <p:spPr>
          <a:xfrm>
            <a:off x="1316160" y="4014720"/>
            <a:ext cx="0" cy="822240"/>
          </a:xfrm>
          <a:prstGeom prst="line">
            <a:avLst/>
          </a:prstGeom>
          <a:ln w="28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0"/>
          <p:cNvSpPr/>
          <p:nvPr/>
        </p:nvSpPr>
        <p:spPr>
          <a:xfrm flipV="1">
            <a:off x="4240080" y="4002120"/>
            <a:ext cx="0" cy="822240"/>
          </a:xfrm>
          <a:prstGeom prst="line">
            <a:avLst/>
          </a:prstGeom>
          <a:ln w="28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1"/>
          <p:cNvSpPr/>
          <p:nvPr/>
        </p:nvSpPr>
        <p:spPr>
          <a:xfrm>
            <a:off x="4626000" y="4014720"/>
            <a:ext cx="0" cy="822240"/>
          </a:xfrm>
          <a:prstGeom prst="line">
            <a:avLst/>
          </a:prstGeom>
          <a:ln w="28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2"/>
          <p:cNvSpPr/>
          <p:nvPr/>
        </p:nvSpPr>
        <p:spPr>
          <a:xfrm flipV="1">
            <a:off x="7497720" y="4002120"/>
            <a:ext cx="0" cy="822240"/>
          </a:xfrm>
          <a:prstGeom prst="line">
            <a:avLst/>
          </a:prstGeom>
          <a:ln w="28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" name="AutoShape 15"/>
          <p:cNvCxnSpPr/>
          <p:nvPr/>
        </p:nvCxnSpPr>
        <p:spPr>
          <a:xfrm flipV="1">
            <a:off x="1303200" y="4823640"/>
            <a:ext cx="292680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15" name="AutoShape 16"/>
          <p:cNvCxnSpPr>
            <a:stCxn id="212" idx="0"/>
            <a:endCxn id="213" idx="0"/>
          </p:cNvCxnSpPr>
          <p:nvPr/>
        </p:nvCxnSpPr>
        <p:spPr>
          <a:xfrm flipV="1">
            <a:off x="4625640" y="4823640"/>
            <a:ext cx="28724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6" name="Rectangle 5"/>
          <p:cNvSpPr/>
          <p:nvPr/>
        </p:nvSpPr>
        <p:spPr>
          <a:xfrm>
            <a:off x="3330720" y="2857680"/>
            <a:ext cx="2195280" cy="11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4646"/>
                </a:solidFill>
                <a:latin typeface="Arial"/>
              </a:rPr>
              <a:t>(2)</a:t>
            </a:r>
            <a:br>
              <a:rPr sz="1800"/>
            </a:br>
            <a:r>
              <a:rPr b="1" lang="en-US" sz="1800" spc="-1" strike="noStrike">
                <a:solidFill>
                  <a:srgbClr val="464646"/>
                </a:solidFill>
                <a:latin typeface="Arial"/>
              </a:rPr>
              <a:t>Actual Quantity</a:t>
            </a:r>
            <a:br>
              <a:rPr sz="1800"/>
            </a:br>
            <a:r>
              <a:rPr b="1" lang="en-US" sz="1800" spc="-1" strike="noStrike">
                <a:solidFill>
                  <a:srgbClr val="464646"/>
                </a:solidFill>
                <a:latin typeface="Arial"/>
              </a:rPr>
              <a:t>of Input,</a:t>
            </a:r>
            <a:br>
              <a:rPr sz="1800"/>
            </a:br>
            <a:r>
              <a:rPr b="1" lang="en-US" sz="1800" spc="-1" strike="noStrike">
                <a:solidFill>
                  <a:srgbClr val="464646"/>
                </a:solidFill>
                <a:latin typeface="Arial"/>
              </a:rPr>
              <a:t>at Standard Price</a:t>
            </a:r>
            <a:br>
              <a:rPr sz="1800"/>
            </a:br>
            <a:r>
              <a:rPr b="1" lang="en-US" sz="1800" spc="-1" strike="noStrike">
                <a:solidFill>
                  <a:srgbClr val="464646"/>
                </a:solidFill>
                <a:latin typeface="Arial"/>
              </a:rPr>
              <a:t>(AQ × S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228600" y="2857680"/>
            <a:ext cx="2193840" cy="11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4646"/>
                </a:solidFill>
                <a:latin typeface="Arial"/>
              </a:rPr>
              <a:t>(1)</a:t>
            </a:r>
            <a:br>
              <a:rPr sz="1800"/>
            </a:br>
            <a:r>
              <a:rPr b="1" lang="en-US" sz="1800" spc="-1" strike="noStrike">
                <a:solidFill>
                  <a:srgbClr val="464646"/>
                </a:solidFill>
                <a:latin typeface="Arial"/>
              </a:rPr>
              <a:t>Actual Quantity</a:t>
            </a:r>
            <a:br>
              <a:rPr sz="1800"/>
            </a:br>
            <a:r>
              <a:rPr b="1" lang="en-US" sz="1800" spc="-1" strike="noStrike">
                <a:solidFill>
                  <a:srgbClr val="464646"/>
                </a:solidFill>
                <a:latin typeface="Arial"/>
              </a:rPr>
              <a:t>of Input,</a:t>
            </a:r>
            <a:br>
              <a:rPr sz="1800"/>
            </a:br>
            <a:r>
              <a:rPr b="1" lang="en-US" sz="1800" spc="-1" strike="noStrike">
                <a:solidFill>
                  <a:srgbClr val="464646"/>
                </a:solidFill>
                <a:latin typeface="Arial"/>
              </a:rPr>
              <a:t>at Actual Price </a:t>
            </a:r>
            <a:br>
              <a:rPr sz="1800"/>
            </a:br>
            <a:r>
              <a:rPr b="1" lang="en-US" sz="1800" spc="-1" strike="noStrike">
                <a:solidFill>
                  <a:srgbClr val="464646"/>
                </a:solidFill>
                <a:latin typeface="Arial"/>
              </a:rPr>
              <a:t>(AQ × A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9"/>
          <p:cNvSpPr/>
          <p:nvPr/>
        </p:nvSpPr>
        <p:spPr>
          <a:xfrm>
            <a:off x="3003480" y="5276880"/>
            <a:ext cx="0" cy="822240"/>
          </a:xfrm>
          <a:prstGeom prst="line">
            <a:avLst/>
          </a:prstGeom>
          <a:ln w="28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0"/>
          <p:cNvSpPr/>
          <p:nvPr/>
        </p:nvSpPr>
        <p:spPr>
          <a:xfrm flipV="1">
            <a:off x="6219720" y="5275440"/>
            <a:ext cx="0" cy="823680"/>
          </a:xfrm>
          <a:prstGeom prst="line">
            <a:avLst/>
          </a:prstGeom>
          <a:ln w="28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0" name="AutoShape 15"/>
          <p:cNvCxnSpPr/>
          <p:nvPr/>
        </p:nvCxnSpPr>
        <p:spPr>
          <a:xfrm flipV="1">
            <a:off x="3025800" y="6078240"/>
            <a:ext cx="32011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21" name="Rectangle 3"/>
          <p:cNvSpPr/>
          <p:nvPr/>
        </p:nvSpPr>
        <p:spPr>
          <a:xfrm>
            <a:off x="2984400" y="5730840"/>
            <a:ext cx="32925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Spending Variance</a:t>
            </a:r>
            <a:br>
              <a:rPr sz="2000"/>
            </a:b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(3) –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  <a:ea typeface="Arial"/>
              </a:rPr>
              <a:t>A General Model for Variance Analysis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23" name="Rectangle 21"/>
          <p:cNvSpPr/>
          <p:nvPr/>
        </p:nvSpPr>
        <p:spPr>
          <a:xfrm>
            <a:off x="76320" y="1457280"/>
            <a:ext cx="8762760" cy="820440"/>
          </a:xfrm>
          <a:prstGeom prst="rect">
            <a:avLst/>
          </a:prstGeom>
          <a:solidFill>
            <a:srgbClr val="ffff99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ual quantity </a:t>
            </a: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is the amount of direct materials, direct labor, and variable manufacturing overhead actually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Down Arrow 29"/>
          <p:cNvSpPr/>
          <p:nvPr/>
        </p:nvSpPr>
        <p:spPr>
          <a:xfrm>
            <a:off x="4952880" y="2286000"/>
            <a:ext cx="152640" cy="762120"/>
          </a:xfrm>
          <a:prstGeom prst="downArrow">
            <a:avLst>
              <a:gd name="adj1" fmla="val 50000"/>
              <a:gd name="adj2" fmla="val 49929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1162080" y="4473720"/>
            <a:ext cx="34290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Price Variance</a:t>
            </a:r>
            <a:br>
              <a:rPr sz="2000"/>
            </a:b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(2) –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721400" y="4483080"/>
            <a:ext cx="29527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Quantity Variance</a:t>
            </a:r>
            <a:br>
              <a:rPr sz="2000"/>
            </a:b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(3) –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5937120" y="2801880"/>
            <a:ext cx="3108600" cy="12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4646"/>
                </a:solidFill>
                <a:latin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Quantity</a:t>
            </a:r>
            <a:br>
              <a:rPr sz="1800"/>
            </a:br>
            <a:r>
              <a:rPr b="1" lang="en-US" sz="1800" spc="-1" strike="noStrike">
                <a:solidFill>
                  <a:srgbClr val="464646"/>
                </a:solidFill>
                <a:latin typeface="Arial"/>
              </a:rPr>
              <a:t>Allowed for Actual Output,</a:t>
            </a:r>
            <a:br>
              <a:rPr sz="1800"/>
            </a:br>
            <a:r>
              <a:rPr b="1" lang="en-US" sz="1800" spc="-1" strike="noStrike">
                <a:solidFill>
                  <a:srgbClr val="464646"/>
                </a:solidFill>
                <a:latin typeface="Arial"/>
              </a:rPr>
              <a:t>at Standard Price</a:t>
            </a:r>
            <a:br>
              <a:rPr sz="1800"/>
            </a:br>
            <a:r>
              <a:rPr b="1" lang="en-US" sz="1800" spc="-1" strike="noStrike">
                <a:solidFill>
                  <a:srgbClr val="464646"/>
                </a:solidFill>
                <a:latin typeface="Arial"/>
              </a:rPr>
              <a:t>(SQ × S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9"/>
          <p:cNvSpPr/>
          <p:nvPr/>
        </p:nvSpPr>
        <p:spPr>
          <a:xfrm>
            <a:off x="1316160" y="4014720"/>
            <a:ext cx="0" cy="822240"/>
          </a:xfrm>
          <a:prstGeom prst="line">
            <a:avLst/>
          </a:prstGeom>
          <a:ln w="28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0"/>
          <p:cNvSpPr/>
          <p:nvPr/>
        </p:nvSpPr>
        <p:spPr>
          <a:xfrm flipV="1">
            <a:off x="4240080" y="4002120"/>
            <a:ext cx="0" cy="822240"/>
          </a:xfrm>
          <a:prstGeom prst="line">
            <a:avLst/>
          </a:prstGeom>
          <a:ln w="28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1"/>
          <p:cNvSpPr/>
          <p:nvPr/>
        </p:nvSpPr>
        <p:spPr>
          <a:xfrm>
            <a:off x="4626000" y="4014720"/>
            <a:ext cx="0" cy="822240"/>
          </a:xfrm>
          <a:prstGeom prst="line">
            <a:avLst/>
          </a:prstGeom>
          <a:ln w="28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2"/>
          <p:cNvSpPr/>
          <p:nvPr/>
        </p:nvSpPr>
        <p:spPr>
          <a:xfrm flipV="1">
            <a:off x="7497720" y="4002120"/>
            <a:ext cx="0" cy="822240"/>
          </a:xfrm>
          <a:prstGeom prst="line">
            <a:avLst/>
          </a:prstGeom>
          <a:ln w="28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2" name="AutoShape 15"/>
          <p:cNvCxnSpPr/>
          <p:nvPr/>
        </p:nvCxnSpPr>
        <p:spPr>
          <a:xfrm flipV="1">
            <a:off x="1303200" y="4823640"/>
            <a:ext cx="292680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33" name="AutoShape 16"/>
          <p:cNvCxnSpPr>
            <a:stCxn id="230" idx="0"/>
            <a:endCxn id="231" idx="0"/>
          </p:cNvCxnSpPr>
          <p:nvPr/>
        </p:nvCxnSpPr>
        <p:spPr>
          <a:xfrm flipV="1">
            <a:off x="4625640" y="4823640"/>
            <a:ext cx="28724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34" name="Rectangle 5"/>
          <p:cNvSpPr/>
          <p:nvPr/>
        </p:nvSpPr>
        <p:spPr>
          <a:xfrm>
            <a:off x="3330720" y="2857680"/>
            <a:ext cx="2195280" cy="11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4646"/>
                </a:solidFill>
                <a:latin typeface="Arial"/>
              </a:rPr>
              <a:t>(2)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ctual Quantity</a:t>
            </a:r>
            <a:br>
              <a:rPr sz="1800"/>
            </a:br>
            <a:r>
              <a:rPr b="1" lang="en-US" sz="1800" spc="-1" strike="noStrike">
                <a:solidFill>
                  <a:srgbClr val="464646"/>
                </a:solidFill>
                <a:latin typeface="Arial"/>
              </a:rPr>
              <a:t>of Input,</a:t>
            </a:r>
            <a:br>
              <a:rPr sz="1800"/>
            </a:br>
            <a:r>
              <a:rPr b="1" lang="en-US" sz="1800" spc="-1" strike="noStrike">
                <a:solidFill>
                  <a:srgbClr val="464646"/>
                </a:solidFill>
                <a:latin typeface="Arial"/>
              </a:rPr>
              <a:t>at Standard Price</a:t>
            </a:r>
            <a:br>
              <a:rPr sz="1800"/>
            </a:br>
            <a:r>
              <a:rPr b="1" lang="en-US" sz="1800" spc="-1" strike="noStrike">
                <a:solidFill>
                  <a:srgbClr val="464646"/>
                </a:solidFill>
                <a:latin typeface="Arial"/>
              </a:rPr>
              <a:t>(AQ × S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228600" y="2857680"/>
            <a:ext cx="2193840" cy="11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4646"/>
                </a:solidFill>
                <a:latin typeface="Arial"/>
              </a:rPr>
              <a:t>(1)</a:t>
            </a:r>
            <a:br>
              <a:rPr sz="1800"/>
            </a:br>
            <a:r>
              <a:rPr b="1" lang="en-US" sz="1800" spc="-1" strike="noStrike">
                <a:solidFill>
                  <a:srgbClr val="464646"/>
                </a:solidFill>
                <a:latin typeface="Arial"/>
              </a:rPr>
              <a:t>Actual Quantity</a:t>
            </a:r>
            <a:br>
              <a:rPr sz="1800"/>
            </a:br>
            <a:r>
              <a:rPr b="1" lang="en-US" sz="1800" spc="-1" strike="noStrike">
                <a:solidFill>
                  <a:srgbClr val="464646"/>
                </a:solidFill>
                <a:latin typeface="Arial"/>
              </a:rPr>
              <a:t>of Input,</a:t>
            </a:r>
            <a:br>
              <a:rPr sz="1800"/>
            </a:br>
            <a:r>
              <a:rPr b="1" lang="en-US" sz="1800" spc="-1" strike="noStrike">
                <a:solidFill>
                  <a:srgbClr val="464646"/>
                </a:solidFill>
                <a:latin typeface="Arial"/>
              </a:rPr>
              <a:t>at Actual Price </a:t>
            </a:r>
            <a:br>
              <a:rPr sz="1800"/>
            </a:br>
            <a:r>
              <a:rPr b="1" lang="en-US" sz="1800" spc="-1" strike="noStrike">
                <a:solidFill>
                  <a:srgbClr val="464646"/>
                </a:solidFill>
                <a:latin typeface="Arial"/>
              </a:rPr>
              <a:t>(AQ × A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9"/>
          <p:cNvSpPr/>
          <p:nvPr/>
        </p:nvSpPr>
        <p:spPr>
          <a:xfrm>
            <a:off x="3003480" y="5276880"/>
            <a:ext cx="0" cy="822240"/>
          </a:xfrm>
          <a:prstGeom prst="line">
            <a:avLst/>
          </a:prstGeom>
          <a:ln w="28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0"/>
          <p:cNvSpPr/>
          <p:nvPr/>
        </p:nvSpPr>
        <p:spPr>
          <a:xfrm flipV="1">
            <a:off x="6219720" y="5275440"/>
            <a:ext cx="0" cy="823680"/>
          </a:xfrm>
          <a:prstGeom prst="line">
            <a:avLst/>
          </a:prstGeom>
          <a:ln w="28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AutoShape 15"/>
          <p:cNvCxnSpPr/>
          <p:nvPr/>
        </p:nvCxnSpPr>
        <p:spPr>
          <a:xfrm flipV="1">
            <a:off x="3025800" y="6078240"/>
            <a:ext cx="32011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39" name="Rectangle 3"/>
          <p:cNvSpPr/>
          <p:nvPr/>
        </p:nvSpPr>
        <p:spPr>
          <a:xfrm>
            <a:off x="2984400" y="5730840"/>
            <a:ext cx="32925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Spending Variance</a:t>
            </a:r>
            <a:br>
              <a:rPr sz="2000"/>
            </a:b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(3) –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  <a:ea typeface="Arial"/>
              </a:rPr>
              <a:t>A General Model for Variance Analysis 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41" name="Rectangle 20"/>
          <p:cNvSpPr/>
          <p:nvPr/>
        </p:nvSpPr>
        <p:spPr>
          <a:xfrm>
            <a:off x="711360" y="1463760"/>
            <a:ext cx="7819920" cy="820440"/>
          </a:xfrm>
          <a:prstGeom prst="rect">
            <a:avLst/>
          </a:prstGeom>
          <a:solidFill>
            <a:srgbClr val="ccffff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andard quantity </a:t>
            </a: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is the standard quantity allowed for the actual output of the peri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Down Arrow 35"/>
          <p:cNvSpPr/>
          <p:nvPr/>
        </p:nvSpPr>
        <p:spPr>
          <a:xfrm>
            <a:off x="7848720" y="2286000"/>
            <a:ext cx="152280" cy="76212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1162080" y="4473720"/>
            <a:ext cx="34290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Price Variance</a:t>
            </a:r>
            <a:br>
              <a:rPr sz="2000"/>
            </a:b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(2) –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4721400" y="4483080"/>
            <a:ext cx="29527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Quantity Variance</a:t>
            </a:r>
            <a:br>
              <a:rPr sz="2000"/>
            </a:b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(3) –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5937120" y="2801880"/>
            <a:ext cx="3108600" cy="12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4646"/>
                </a:solidFill>
                <a:latin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tandard Quantity</a:t>
            </a:r>
            <a:br>
              <a:rPr sz="1800"/>
            </a:br>
            <a:r>
              <a:rPr b="1" lang="en-US" sz="1800" spc="-1" strike="noStrike">
                <a:solidFill>
                  <a:srgbClr val="464646"/>
                </a:solidFill>
                <a:latin typeface="Arial"/>
              </a:rPr>
              <a:t>Allowed for Actual Output,</a:t>
            </a:r>
            <a:br>
              <a:rPr sz="1800"/>
            </a:br>
            <a:r>
              <a:rPr b="1" lang="en-US" sz="1800" spc="-1" strike="noStrike">
                <a:solidFill>
                  <a:srgbClr val="464646"/>
                </a:solidFill>
                <a:latin typeface="Arial"/>
              </a:rPr>
              <a:t>at Standard Price</a:t>
            </a:r>
            <a:br>
              <a:rPr sz="1800"/>
            </a:br>
            <a:r>
              <a:rPr b="1" lang="en-US" sz="1800" spc="-1" strike="noStrike">
                <a:solidFill>
                  <a:srgbClr val="464646"/>
                </a:solidFill>
                <a:latin typeface="Arial"/>
              </a:rPr>
              <a:t>(SQ × S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9"/>
          <p:cNvSpPr/>
          <p:nvPr/>
        </p:nvSpPr>
        <p:spPr>
          <a:xfrm>
            <a:off x="1316160" y="4014720"/>
            <a:ext cx="0" cy="822240"/>
          </a:xfrm>
          <a:prstGeom prst="line">
            <a:avLst/>
          </a:prstGeom>
          <a:ln w="28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0"/>
          <p:cNvSpPr/>
          <p:nvPr/>
        </p:nvSpPr>
        <p:spPr>
          <a:xfrm flipV="1">
            <a:off x="4240080" y="4002120"/>
            <a:ext cx="0" cy="822240"/>
          </a:xfrm>
          <a:prstGeom prst="line">
            <a:avLst/>
          </a:prstGeom>
          <a:ln w="28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1"/>
          <p:cNvSpPr/>
          <p:nvPr/>
        </p:nvSpPr>
        <p:spPr>
          <a:xfrm>
            <a:off x="4626000" y="4014720"/>
            <a:ext cx="0" cy="822240"/>
          </a:xfrm>
          <a:prstGeom prst="line">
            <a:avLst/>
          </a:prstGeom>
          <a:ln w="28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2"/>
          <p:cNvSpPr/>
          <p:nvPr/>
        </p:nvSpPr>
        <p:spPr>
          <a:xfrm flipV="1">
            <a:off x="7497720" y="4002120"/>
            <a:ext cx="0" cy="822240"/>
          </a:xfrm>
          <a:prstGeom prst="line">
            <a:avLst/>
          </a:prstGeom>
          <a:ln w="28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0" name="AutoShape 15"/>
          <p:cNvCxnSpPr/>
          <p:nvPr/>
        </p:nvCxnSpPr>
        <p:spPr>
          <a:xfrm flipV="1">
            <a:off x="1303200" y="4823640"/>
            <a:ext cx="292680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51" name="AutoShape 16"/>
          <p:cNvCxnSpPr>
            <a:stCxn id="248" idx="0"/>
            <a:endCxn id="249" idx="0"/>
          </p:cNvCxnSpPr>
          <p:nvPr/>
        </p:nvCxnSpPr>
        <p:spPr>
          <a:xfrm flipV="1">
            <a:off x="4625640" y="4823640"/>
            <a:ext cx="28724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52" name="Rectangle 5"/>
          <p:cNvSpPr/>
          <p:nvPr/>
        </p:nvSpPr>
        <p:spPr>
          <a:xfrm>
            <a:off x="3330720" y="2857680"/>
            <a:ext cx="2195280" cy="11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4646"/>
                </a:solidFill>
                <a:latin typeface="Arial"/>
              </a:rPr>
              <a:t>(2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ual Quantity</a:t>
            </a:r>
            <a:br>
              <a:rPr sz="1800"/>
            </a:br>
            <a:r>
              <a:rPr b="1" lang="en-US" sz="1800" spc="-1" strike="noStrike">
                <a:solidFill>
                  <a:srgbClr val="464646"/>
                </a:solidFill>
                <a:latin typeface="Arial"/>
              </a:rPr>
              <a:t>of Input,</a:t>
            </a:r>
            <a:br>
              <a:rPr sz="1800"/>
            </a:br>
            <a:r>
              <a:rPr b="1" lang="en-US" sz="1800" spc="-1" strike="noStrike">
                <a:solidFill>
                  <a:srgbClr val="464646"/>
                </a:solidFill>
                <a:latin typeface="Arial"/>
              </a:rPr>
              <a:t>at Standard Price</a:t>
            </a:r>
            <a:br>
              <a:rPr sz="1800"/>
            </a:br>
            <a:r>
              <a:rPr b="1" lang="en-US" sz="1800" spc="-1" strike="noStrike">
                <a:solidFill>
                  <a:srgbClr val="464646"/>
                </a:solidFill>
                <a:latin typeface="Arial"/>
              </a:rPr>
              <a:t>(AQ × S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228600" y="2857680"/>
            <a:ext cx="2193840" cy="11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4646"/>
                </a:solidFill>
                <a:latin typeface="Arial"/>
              </a:rPr>
              <a:t>(1)</a:t>
            </a:r>
            <a:br>
              <a:rPr sz="1800"/>
            </a:br>
            <a:r>
              <a:rPr b="1" lang="en-US" sz="1800" spc="-1" strike="noStrike">
                <a:solidFill>
                  <a:srgbClr val="464646"/>
                </a:solidFill>
                <a:latin typeface="Arial"/>
              </a:rPr>
              <a:t>Actual Quantity</a:t>
            </a:r>
            <a:br>
              <a:rPr sz="1800"/>
            </a:br>
            <a:r>
              <a:rPr b="1" lang="en-US" sz="1800" spc="-1" strike="noStrike">
                <a:solidFill>
                  <a:srgbClr val="464646"/>
                </a:solidFill>
                <a:latin typeface="Arial"/>
              </a:rPr>
              <a:t>of Input,</a:t>
            </a:r>
            <a:br>
              <a:rPr sz="1800"/>
            </a:br>
            <a:r>
              <a:rPr b="1" lang="en-US" sz="1800" spc="-1" strike="noStrike">
                <a:solidFill>
                  <a:srgbClr val="464646"/>
                </a:solidFill>
                <a:latin typeface="Arial"/>
              </a:rPr>
              <a:t>at Actual Price </a:t>
            </a:r>
            <a:br>
              <a:rPr sz="1800"/>
            </a:br>
            <a:r>
              <a:rPr b="1" lang="en-US" sz="1800" spc="-1" strike="noStrike">
                <a:solidFill>
                  <a:srgbClr val="464646"/>
                </a:solidFill>
                <a:latin typeface="Arial"/>
              </a:rPr>
              <a:t>(AQ × A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9"/>
          <p:cNvSpPr/>
          <p:nvPr/>
        </p:nvSpPr>
        <p:spPr>
          <a:xfrm>
            <a:off x="3003480" y="5276880"/>
            <a:ext cx="0" cy="822240"/>
          </a:xfrm>
          <a:prstGeom prst="line">
            <a:avLst/>
          </a:prstGeom>
          <a:ln w="28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0"/>
          <p:cNvSpPr/>
          <p:nvPr/>
        </p:nvSpPr>
        <p:spPr>
          <a:xfrm flipV="1">
            <a:off x="6219720" y="5275440"/>
            <a:ext cx="0" cy="823680"/>
          </a:xfrm>
          <a:prstGeom prst="line">
            <a:avLst/>
          </a:prstGeom>
          <a:ln w="28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6" name="AutoShape 15"/>
          <p:cNvCxnSpPr/>
          <p:nvPr/>
        </p:nvCxnSpPr>
        <p:spPr>
          <a:xfrm flipV="1">
            <a:off x="3025800" y="6078240"/>
            <a:ext cx="32011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57" name="Rectangle 3"/>
          <p:cNvSpPr/>
          <p:nvPr/>
        </p:nvSpPr>
        <p:spPr>
          <a:xfrm>
            <a:off x="2984400" y="5730840"/>
            <a:ext cx="32925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Spending Variance</a:t>
            </a:r>
            <a:br>
              <a:rPr sz="2000"/>
            </a:b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(3) –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Down Arrow 43"/>
          <p:cNvSpPr/>
          <p:nvPr/>
        </p:nvSpPr>
        <p:spPr>
          <a:xfrm>
            <a:off x="1828800" y="2273400"/>
            <a:ext cx="152280" cy="1189080"/>
          </a:xfrm>
          <a:prstGeom prst="downArrow">
            <a:avLst>
              <a:gd name="adj1" fmla="val 50000"/>
              <a:gd name="adj2" fmla="val 50032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  <a:ea typeface="Arial"/>
              </a:rPr>
              <a:t>A General Model for Variance Analysis 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60" name="Rectangle 1043"/>
          <p:cNvSpPr/>
          <p:nvPr/>
        </p:nvSpPr>
        <p:spPr>
          <a:xfrm>
            <a:off x="711360" y="1457280"/>
            <a:ext cx="7819920" cy="820440"/>
          </a:xfrm>
          <a:prstGeom prst="rect">
            <a:avLst/>
          </a:prstGeom>
          <a:solidFill>
            <a:srgbClr val="ccffff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ual price </a:t>
            </a: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is the amount actually</a:t>
            </a:r>
            <a:br>
              <a:rPr sz="2400"/>
            </a:b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paid for the input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1162080" y="4473720"/>
            <a:ext cx="34290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Price Variance</a:t>
            </a:r>
            <a:br>
              <a:rPr sz="2000"/>
            </a:b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(2) –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4721400" y="4483080"/>
            <a:ext cx="29527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Quantity Variance</a:t>
            </a:r>
            <a:br>
              <a:rPr sz="2000"/>
            </a:b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(3) –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5937120" y="2801880"/>
            <a:ext cx="3108600" cy="12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4646"/>
                </a:solidFill>
                <a:latin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Quantity</a:t>
            </a:r>
            <a:br>
              <a:rPr sz="1800"/>
            </a:br>
            <a:r>
              <a:rPr b="1" lang="en-US" sz="1800" spc="-1" strike="noStrike">
                <a:solidFill>
                  <a:srgbClr val="464646"/>
                </a:solidFill>
                <a:latin typeface="Arial"/>
              </a:rPr>
              <a:t>Allowed for Actual Output,</a:t>
            </a:r>
            <a:br>
              <a:rPr sz="1800"/>
            </a:br>
            <a:r>
              <a:rPr b="1" lang="en-US" sz="1800" spc="-1" strike="noStrike">
                <a:solidFill>
                  <a:srgbClr val="464646"/>
                </a:solidFill>
                <a:latin typeface="Arial"/>
              </a:rPr>
              <a:t>at Standard Price</a:t>
            </a:r>
            <a:br>
              <a:rPr sz="1800"/>
            </a:br>
            <a:r>
              <a:rPr b="1" lang="en-US" sz="1800" spc="-1" strike="noStrike">
                <a:solidFill>
                  <a:srgbClr val="464646"/>
                </a:solidFill>
                <a:latin typeface="Arial"/>
              </a:rPr>
              <a:t>(SQ × S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9"/>
          <p:cNvSpPr/>
          <p:nvPr/>
        </p:nvSpPr>
        <p:spPr>
          <a:xfrm>
            <a:off x="1316160" y="4014720"/>
            <a:ext cx="0" cy="822240"/>
          </a:xfrm>
          <a:prstGeom prst="line">
            <a:avLst/>
          </a:prstGeom>
          <a:ln w="28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0"/>
          <p:cNvSpPr/>
          <p:nvPr/>
        </p:nvSpPr>
        <p:spPr>
          <a:xfrm flipV="1">
            <a:off x="4240080" y="4002120"/>
            <a:ext cx="0" cy="822240"/>
          </a:xfrm>
          <a:prstGeom prst="line">
            <a:avLst/>
          </a:prstGeom>
          <a:ln w="28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1"/>
          <p:cNvSpPr/>
          <p:nvPr/>
        </p:nvSpPr>
        <p:spPr>
          <a:xfrm>
            <a:off x="4626000" y="4014720"/>
            <a:ext cx="0" cy="822240"/>
          </a:xfrm>
          <a:prstGeom prst="line">
            <a:avLst/>
          </a:prstGeom>
          <a:ln w="28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2"/>
          <p:cNvSpPr/>
          <p:nvPr/>
        </p:nvSpPr>
        <p:spPr>
          <a:xfrm flipV="1">
            <a:off x="7497720" y="4002120"/>
            <a:ext cx="0" cy="822240"/>
          </a:xfrm>
          <a:prstGeom prst="line">
            <a:avLst/>
          </a:prstGeom>
          <a:ln w="28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8" name="AutoShape 15"/>
          <p:cNvCxnSpPr/>
          <p:nvPr/>
        </p:nvCxnSpPr>
        <p:spPr>
          <a:xfrm flipV="1">
            <a:off x="1303200" y="4823640"/>
            <a:ext cx="292680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69" name="AutoShape 16"/>
          <p:cNvCxnSpPr>
            <a:stCxn id="266" idx="0"/>
            <a:endCxn id="267" idx="0"/>
          </p:cNvCxnSpPr>
          <p:nvPr/>
        </p:nvCxnSpPr>
        <p:spPr>
          <a:xfrm flipV="1">
            <a:off x="4625640" y="4823640"/>
            <a:ext cx="28724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0" name="Rectangle 5"/>
          <p:cNvSpPr/>
          <p:nvPr/>
        </p:nvSpPr>
        <p:spPr>
          <a:xfrm>
            <a:off x="3330720" y="2857680"/>
            <a:ext cx="2195280" cy="11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4646"/>
                </a:solidFill>
                <a:latin typeface="Arial"/>
              </a:rPr>
              <a:t>(2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ual Quantity</a:t>
            </a:r>
            <a:br>
              <a:rPr sz="1800"/>
            </a:br>
            <a:r>
              <a:rPr b="1" lang="en-US" sz="1800" spc="-1" strike="noStrike">
                <a:solidFill>
                  <a:srgbClr val="464646"/>
                </a:solidFill>
                <a:latin typeface="Arial"/>
              </a:rPr>
              <a:t>of Input,</a:t>
            </a:r>
            <a:br>
              <a:rPr sz="1800"/>
            </a:br>
            <a:r>
              <a:rPr b="1" lang="en-US" sz="1800" spc="-1" strike="noStrike">
                <a:solidFill>
                  <a:srgbClr val="464646"/>
                </a:solidFill>
                <a:latin typeface="Arial"/>
              </a:rPr>
              <a:t>at Standard Price</a:t>
            </a:r>
            <a:br>
              <a:rPr sz="1800"/>
            </a:br>
            <a:r>
              <a:rPr b="1" lang="en-US" sz="1800" spc="-1" strike="noStrike">
                <a:solidFill>
                  <a:srgbClr val="464646"/>
                </a:solidFill>
                <a:latin typeface="Arial"/>
              </a:rPr>
              <a:t>(AQ × S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228600" y="2857680"/>
            <a:ext cx="2193840" cy="11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4646"/>
                </a:solidFill>
                <a:latin typeface="Arial"/>
              </a:rPr>
              <a:t>(1)</a:t>
            </a:r>
            <a:br>
              <a:rPr sz="1800"/>
            </a:br>
            <a:r>
              <a:rPr b="1" lang="en-US" sz="1800" spc="-1" strike="noStrike">
                <a:solidFill>
                  <a:srgbClr val="464646"/>
                </a:solidFill>
                <a:latin typeface="Arial"/>
              </a:rPr>
              <a:t>Actual Quantity</a:t>
            </a:r>
            <a:br>
              <a:rPr sz="1800"/>
            </a:br>
            <a:r>
              <a:rPr b="1" lang="en-US" sz="1800" spc="-1" strike="noStrike">
                <a:solidFill>
                  <a:srgbClr val="464646"/>
                </a:solidFill>
                <a:latin typeface="Arial"/>
              </a:rPr>
              <a:t>of Input,</a:t>
            </a:r>
            <a:br>
              <a:rPr sz="1800"/>
            </a:br>
            <a:r>
              <a:rPr b="1" lang="en-US" sz="1800" spc="-1" strike="noStrike">
                <a:solidFill>
                  <a:srgbClr val="464646"/>
                </a:solidFill>
                <a:latin typeface="Arial"/>
              </a:rPr>
              <a:t>at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ctual Price </a:t>
            </a:r>
            <a:br>
              <a:rPr sz="1800"/>
            </a:br>
            <a:r>
              <a:rPr b="1" lang="en-US" sz="1800" spc="-1" strike="noStrike">
                <a:solidFill>
                  <a:srgbClr val="464646"/>
                </a:solidFill>
                <a:latin typeface="Arial"/>
              </a:rPr>
              <a:t>(AQ × A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9"/>
          <p:cNvSpPr/>
          <p:nvPr/>
        </p:nvSpPr>
        <p:spPr>
          <a:xfrm>
            <a:off x="3003480" y="5276880"/>
            <a:ext cx="0" cy="822240"/>
          </a:xfrm>
          <a:prstGeom prst="line">
            <a:avLst/>
          </a:prstGeom>
          <a:ln w="28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0"/>
          <p:cNvSpPr/>
          <p:nvPr/>
        </p:nvSpPr>
        <p:spPr>
          <a:xfrm flipV="1">
            <a:off x="6219720" y="5275440"/>
            <a:ext cx="0" cy="823680"/>
          </a:xfrm>
          <a:prstGeom prst="line">
            <a:avLst/>
          </a:prstGeom>
          <a:ln w="28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4" name="AutoShape 15"/>
          <p:cNvCxnSpPr/>
          <p:nvPr/>
        </p:nvCxnSpPr>
        <p:spPr>
          <a:xfrm flipV="1">
            <a:off x="3025800" y="6078240"/>
            <a:ext cx="32011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5" name="Rectangle 3"/>
          <p:cNvSpPr/>
          <p:nvPr/>
        </p:nvSpPr>
        <p:spPr>
          <a:xfrm>
            <a:off x="2984400" y="5730840"/>
            <a:ext cx="32925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Spending Variance</a:t>
            </a:r>
            <a:br>
              <a:rPr sz="2000"/>
            </a:b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(3) –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Down Arrow 35"/>
          <p:cNvSpPr/>
          <p:nvPr/>
        </p:nvSpPr>
        <p:spPr>
          <a:xfrm>
            <a:off x="5181480" y="2273400"/>
            <a:ext cx="152640" cy="1189080"/>
          </a:xfrm>
          <a:prstGeom prst="downArrow">
            <a:avLst>
              <a:gd name="adj1" fmla="val 50000"/>
              <a:gd name="adj2" fmla="val 49914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Down Arrow 36"/>
          <p:cNvSpPr/>
          <p:nvPr/>
        </p:nvSpPr>
        <p:spPr>
          <a:xfrm>
            <a:off x="8077320" y="2273400"/>
            <a:ext cx="152280" cy="1189080"/>
          </a:xfrm>
          <a:prstGeom prst="downArrow">
            <a:avLst>
              <a:gd name="adj1" fmla="val 50000"/>
              <a:gd name="adj2" fmla="val 50032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  <a:ea typeface="Arial"/>
              </a:rPr>
              <a:t>A General Model for Variance Analysis 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609480" y="1447920"/>
            <a:ext cx="7820280" cy="820440"/>
          </a:xfrm>
          <a:prstGeom prst="rect">
            <a:avLst/>
          </a:prstGeom>
          <a:solidFill>
            <a:srgbClr val="ffffcc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andard price</a:t>
            </a:r>
            <a:r>
              <a:rPr b="1" lang="en-US" sz="2400" spc="-1" strike="noStrike">
                <a:solidFill>
                  <a:srgbClr val="da1f2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is the amount that should</a:t>
            </a:r>
            <a:br>
              <a:rPr sz="2400"/>
            </a:b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have been paid for the input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1162080" y="4473720"/>
            <a:ext cx="34290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Price Variance</a:t>
            </a:r>
            <a:br>
              <a:rPr sz="2000"/>
            </a:b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(2) –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4721400" y="4483080"/>
            <a:ext cx="29527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Quantity Variance</a:t>
            </a:r>
            <a:br>
              <a:rPr sz="2000"/>
            </a:b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(3) –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5937120" y="2801880"/>
            <a:ext cx="3108600" cy="12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4646"/>
                </a:solidFill>
                <a:latin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Quantity</a:t>
            </a:r>
            <a:br>
              <a:rPr sz="1800"/>
            </a:br>
            <a:r>
              <a:rPr b="1" lang="en-US" sz="1800" spc="-1" strike="noStrike">
                <a:solidFill>
                  <a:srgbClr val="464646"/>
                </a:solidFill>
                <a:latin typeface="Arial"/>
              </a:rPr>
              <a:t>Allowed for Actual Output,</a:t>
            </a:r>
            <a:br>
              <a:rPr sz="1800"/>
            </a:br>
            <a:r>
              <a:rPr b="1" lang="en-US" sz="1800" spc="-1" strike="noStrike">
                <a:solidFill>
                  <a:srgbClr val="464646"/>
                </a:solidFill>
                <a:latin typeface="Arial"/>
              </a:rPr>
              <a:t>at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tandard Price</a:t>
            </a:r>
            <a:br>
              <a:rPr sz="1800"/>
            </a:br>
            <a:r>
              <a:rPr b="1" lang="en-US" sz="1800" spc="-1" strike="noStrike">
                <a:solidFill>
                  <a:srgbClr val="464646"/>
                </a:solidFill>
                <a:latin typeface="Arial"/>
              </a:rPr>
              <a:t>(SQ × S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9"/>
          <p:cNvSpPr/>
          <p:nvPr/>
        </p:nvSpPr>
        <p:spPr>
          <a:xfrm>
            <a:off x="1316160" y="4014720"/>
            <a:ext cx="0" cy="822240"/>
          </a:xfrm>
          <a:prstGeom prst="line">
            <a:avLst/>
          </a:prstGeom>
          <a:ln w="28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0"/>
          <p:cNvSpPr/>
          <p:nvPr/>
        </p:nvSpPr>
        <p:spPr>
          <a:xfrm flipV="1">
            <a:off x="4240080" y="4002120"/>
            <a:ext cx="0" cy="822240"/>
          </a:xfrm>
          <a:prstGeom prst="line">
            <a:avLst/>
          </a:prstGeom>
          <a:ln w="28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1"/>
          <p:cNvSpPr/>
          <p:nvPr/>
        </p:nvSpPr>
        <p:spPr>
          <a:xfrm>
            <a:off x="4626000" y="4014720"/>
            <a:ext cx="0" cy="822240"/>
          </a:xfrm>
          <a:prstGeom prst="line">
            <a:avLst/>
          </a:prstGeom>
          <a:ln w="28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2"/>
          <p:cNvSpPr/>
          <p:nvPr/>
        </p:nvSpPr>
        <p:spPr>
          <a:xfrm flipV="1">
            <a:off x="7497720" y="4002120"/>
            <a:ext cx="0" cy="822240"/>
          </a:xfrm>
          <a:prstGeom prst="line">
            <a:avLst/>
          </a:prstGeom>
          <a:ln w="28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7" name="AutoShape 15"/>
          <p:cNvCxnSpPr/>
          <p:nvPr/>
        </p:nvCxnSpPr>
        <p:spPr>
          <a:xfrm flipV="1">
            <a:off x="1303200" y="4823640"/>
            <a:ext cx="292680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88" name="AutoShape 16"/>
          <p:cNvCxnSpPr>
            <a:stCxn id="285" idx="0"/>
            <a:endCxn id="286" idx="0"/>
          </p:cNvCxnSpPr>
          <p:nvPr/>
        </p:nvCxnSpPr>
        <p:spPr>
          <a:xfrm flipV="1">
            <a:off x="4625640" y="4823640"/>
            <a:ext cx="28724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89" name="Rectangle 5"/>
          <p:cNvSpPr/>
          <p:nvPr/>
        </p:nvSpPr>
        <p:spPr>
          <a:xfrm>
            <a:off x="3330720" y="2857680"/>
            <a:ext cx="2195280" cy="11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4646"/>
                </a:solidFill>
                <a:latin typeface="Arial"/>
              </a:rPr>
              <a:t>(2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ual Quantity</a:t>
            </a:r>
            <a:br>
              <a:rPr sz="1800"/>
            </a:br>
            <a:r>
              <a:rPr b="1" lang="en-US" sz="1800" spc="-1" strike="noStrike">
                <a:solidFill>
                  <a:srgbClr val="464646"/>
                </a:solidFill>
                <a:latin typeface="Arial"/>
              </a:rPr>
              <a:t>of Input,</a:t>
            </a:r>
            <a:br>
              <a:rPr sz="1800"/>
            </a:br>
            <a:r>
              <a:rPr b="1" lang="en-US" sz="1800" spc="-1" strike="noStrike">
                <a:solidFill>
                  <a:srgbClr val="464646"/>
                </a:solidFill>
                <a:latin typeface="Arial"/>
              </a:rPr>
              <a:t>at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tandard Price</a:t>
            </a:r>
            <a:br>
              <a:rPr sz="1800"/>
            </a:br>
            <a:r>
              <a:rPr b="1" lang="en-US" sz="1800" spc="-1" strike="noStrike">
                <a:solidFill>
                  <a:srgbClr val="464646"/>
                </a:solidFill>
                <a:latin typeface="Arial"/>
              </a:rPr>
              <a:t>(AQ × S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5"/>
          <p:cNvSpPr/>
          <p:nvPr/>
        </p:nvSpPr>
        <p:spPr>
          <a:xfrm>
            <a:off x="228600" y="2857680"/>
            <a:ext cx="2193840" cy="11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4646"/>
                </a:solidFill>
                <a:latin typeface="Arial"/>
              </a:rPr>
              <a:t>(1)</a:t>
            </a:r>
            <a:br>
              <a:rPr sz="1800"/>
            </a:br>
            <a:r>
              <a:rPr b="1" lang="en-US" sz="1800" spc="-1" strike="noStrike">
                <a:solidFill>
                  <a:srgbClr val="464646"/>
                </a:solidFill>
                <a:latin typeface="Arial"/>
              </a:rPr>
              <a:t>Actual Quantity</a:t>
            </a:r>
            <a:br>
              <a:rPr sz="1800"/>
            </a:br>
            <a:r>
              <a:rPr b="1" lang="en-US" sz="1800" spc="-1" strike="noStrike">
                <a:solidFill>
                  <a:srgbClr val="464646"/>
                </a:solidFill>
                <a:latin typeface="Arial"/>
              </a:rPr>
              <a:t>of Input,</a:t>
            </a:r>
            <a:br>
              <a:rPr sz="1800"/>
            </a:br>
            <a:r>
              <a:rPr b="1" lang="en-US" sz="1800" spc="-1" strike="noStrike">
                <a:solidFill>
                  <a:srgbClr val="464646"/>
                </a:solidFill>
                <a:latin typeface="Arial"/>
              </a:rPr>
              <a:t>a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ual Price </a:t>
            </a:r>
            <a:br>
              <a:rPr sz="1800"/>
            </a:br>
            <a:r>
              <a:rPr b="1" lang="en-US" sz="1800" spc="-1" strike="noStrike">
                <a:solidFill>
                  <a:srgbClr val="464646"/>
                </a:solidFill>
                <a:latin typeface="Arial"/>
              </a:rPr>
              <a:t>(AQ × A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9"/>
          <p:cNvSpPr/>
          <p:nvPr/>
        </p:nvSpPr>
        <p:spPr>
          <a:xfrm>
            <a:off x="3003480" y="5276880"/>
            <a:ext cx="0" cy="822240"/>
          </a:xfrm>
          <a:prstGeom prst="line">
            <a:avLst/>
          </a:prstGeom>
          <a:ln w="28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0"/>
          <p:cNvSpPr/>
          <p:nvPr/>
        </p:nvSpPr>
        <p:spPr>
          <a:xfrm flipV="1">
            <a:off x="6219720" y="5275440"/>
            <a:ext cx="0" cy="823680"/>
          </a:xfrm>
          <a:prstGeom prst="line">
            <a:avLst/>
          </a:prstGeom>
          <a:ln w="28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3" name="AutoShape 15"/>
          <p:cNvCxnSpPr/>
          <p:nvPr/>
        </p:nvCxnSpPr>
        <p:spPr>
          <a:xfrm flipV="1">
            <a:off x="3025800" y="6078240"/>
            <a:ext cx="32011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94" name="Rectangle 3"/>
          <p:cNvSpPr/>
          <p:nvPr/>
        </p:nvSpPr>
        <p:spPr>
          <a:xfrm>
            <a:off x="2984400" y="5730840"/>
            <a:ext cx="32925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Spending Variance</a:t>
            </a:r>
            <a:br>
              <a:rPr sz="2000"/>
            </a:b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(3) –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Learning Objective 1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96" name="Text Box 13"/>
          <p:cNvSpPr/>
          <p:nvPr/>
        </p:nvSpPr>
        <p:spPr>
          <a:xfrm>
            <a:off x="1905120" y="2309760"/>
            <a:ext cx="5333760" cy="2682360"/>
          </a:xfrm>
          <a:prstGeom prst="rect">
            <a:avLst/>
          </a:prstGeom>
          <a:solidFill>
            <a:srgbClr val="ffffff"/>
          </a:solidFill>
          <a:ln w="76320">
            <a:solidFill>
              <a:srgbClr val="3f1e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5e2d37"/>
                </a:solidFill>
                <a:latin typeface="Arial"/>
                <a:ea typeface="Times New Roman"/>
              </a:rPr>
              <a:t>Compute the direct materials price and quantity variances and explain their significanc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228600" y="1828440"/>
            <a:ext cx="861048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65040" indent="0" algn="ctr"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lacier Peak Outfitters has the following direct materials standard for the fiberfill in its mountain park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ctr"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0.1 kg. of fiberfill per parka at $5.00 per k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ctr"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1f28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st month 210 kgs. of fiberfill were purchased and used to make 2,000 parkas.  The materials cost a total of $1,02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Materials Variances – An Example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graphicFrame>
        <p:nvGraphicFramePr>
          <p:cNvPr id="299" name="Object 2"/>
          <p:cNvGraphicFramePr/>
          <p:nvPr/>
        </p:nvGraphicFramePr>
        <p:xfrm>
          <a:off x="7086600" y="5765760"/>
          <a:ext cx="160020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5765760"/>
                    <a:ext cx="160020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266760" y="2793960"/>
            <a:ext cx="8607240" cy="174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464646"/>
                </a:solidFill>
                <a:latin typeface="Arial"/>
              </a:rPr>
              <a:t>210 kgs.                     210 kgs.                       200 kgs.</a:t>
            </a:r>
            <a:br>
              <a:rPr sz="2400"/>
            </a:br>
            <a:r>
              <a:rPr b="0" lang="en-US" sz="2400" spc="-1" strike="noStrike">
                <a:solidFill>
                  <a:srgbClr val="464646"/>
                </a:solidFill>
                <a:latin typeface="Arial"/>
              </a:rPr>
              <a:t>           ×                                ×                                 ×</a:t>
            </a:r>
            <a:br>
              <a:rPr sz="2400"/>
            </a:br>
            <a:r>
              <a:rPr b="0" lang="en-US" sz="2400" spc="-1" strike="noStrike">
                <a:solidFill>
                  <a:srgbClr val="464646"/>
                </a:solidFill>
                <a:latin typeface="Arial"/>
              </a:rPr>
              <a:t>    $4.90 per kg.             $5.00 per kg.                $5.00 per k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 $1,029                     = $1,050                   = $1,000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3"/>
          <p:cNvGrpSpPr/>
          <p:nvPr/>
        </p:nvGrpSpPr>
        <p:grpSpPr>
          <a:xfrm>
            <a:off x="876240" y="4545000"/>
            <a:ext cx="3882960" cy="1507680"/>
            <a:chOff x="876240" y="4545000"/>
            <a:chExt cx="3882960" cy="1507680"/>
          </a:xfrm>
        </p:grpSpPr>
        <p:sp>
          <p:nvSpPr>
            <p:cNvPr id="303" name="Freeform 4"/>
            <p:cNvSpPr/>
            <p:nvPr/>
          </p:nvSpPr>
          <p:spPr>
            <a:xfrm>
              <a:off x="1235160" y="4545000"/>
              <a:ext cx="3143160" cy="618840"/>
            </a:xfrm>
            <a:custGeom>
              <a:avLst/>
              <a:gdLst>
                <a:gd name="textAreaLeft" fmla="*/ 0 w 3143160"/>
                <a:gd name="textAreaRight" fmla="*/ 3143520 w 3143160"/>
                <a:gd name="textAreaTop" fmla="*/ 0 h 618840"/>
                <a:gd name="textAreaBottom" fmla="*/ 619200 h 618840"/>
              </a:gdLst>
              <a:ahLst/>
              <a:rect l="textAreaLeft" t="textAreaTop" r="textAreaRight" b="textAreaBottom"/>
              <a:pathLst>
                <a:path w="1980" h="390">
                  <a:moveTo>
                    <a:pt x="1608" y="257"/>
                  </a:moveTo>
                  <a:lnTo>
                    <a:pt x="1645" y="255"/>
                  </a:lnTo>
                  <a:lnTo>
                    <a:pt x="1681" y="251"/>
                  </a:lnTo>
                  <a:lnTo>
                    <a:pt x="1718" y="244"/>
                  </a:lnTo>
                  <a:lnTo>
                    <a:pt x="1753" y="235"/>
                  </a:lnTo>
                  <a:lnTo>
                    <a:pt x="1787" y="224"/>
                  </a:lnTo>
                  <a:lnTo>
                    <a:pt x="1819" y="209"/>
                  </a:lnTo>
                  <a:lnTo>
                    <a:pt x="1849" y="194"/>
                  </a:lnTo>
                  <a:lnTo>
                    <a:pt x="1876" y="176"/>
                  </a:lnTo>
                  <a:lnTo>
                    <a:pt x="1900" y="156"/>
                  </a:lnTo>
                  <a:lnTo>
                    <a:pt x="1922" y="135"/>
                  </a:lnTo>
                  <a:lnTo>
                    <a:pt x="1940" y="112"/>
                  </a:lnTo>
                  <a:lnTo>
                    <a:pt x="1955" y="89"/>
                  </a:lnTo>
                  <a:lnTo>
                    <a:pt x="1966" y="64"/>
                  </a:lnTo>
                  <a:lnTo>
                    <a:pt x="1975" y="39"/>
                  </a:lnTo>
                  <a:lnTo>
                    <a:pt x="1978" y="13"/>
                  </a:lnTo>
                  <a:lnTo>
                    <a:pt x="1979" y="0"/>
                  </a:lnTo>
                  <a:lnTo>
                    <a:pt x="1978" y="21"/>
                  </a:lnTo>
                  <a:lnTo>
                    <a:pt x="1972" y="43"/>
                  </a:lnTo>
                  <a:lnTo>
                    <a:pt x="1961" y="64"/>
                  </a:lnTo>
                  <a:lnTo>
                    <a:pt x="1949" y="83"/>
                  </a:lnTo>
                  <a:lnTo>
                    <a:pt x="1933" y="102"/>
                  </a:lnTo>
                  <a:lnTo>
                    <a:pt x="1913" y="119"/>
                  </a:lnTo>
                  <a:lnTo>
                    <a:pt x="1891" y="134"/>
                  </a:lnTo>
                  <a:lnTo>
                    <a:pt x="1866" y="148"/>
                  </a:lnTo>
                  <a:lnTo>
                    <a:pt x="1839" y="159"/>
                  </a:lnTo>
                  <a:lnTo>
                    <a:pt x="1810" y="168"/>
                  </a:lnTo>
                  <a:lnTo>
                    <a:pt x="1781" y="174"/>
                  </a:lnTo>
                  <a:lnTo>
                    <a:pt x="1751" y="179"/>
                  </a:lnTo>
                  <a:lnTo>
                    <a:pt x="1719" y="180"/>
                  </a:lnTo>
                  <a:lnTo>
                    <a:pt x="1214" y="180"/>
                  </a:lnTo>
                  <a:lnTo>
                    <a:pt x="1185" y="182"/>
                  </a:lnTo>
                  <a:lnTo>
                    <a:pt x="1157" y="186"/>
                  </a:lnTo>
                  <a:lnTo>
                    <a:pt x="1129" y="193"/>
                  </a:lnTo>
                  <a:lnTo>
                    <a:pt x="1103" y="202"/>
                  </a:lnTo>
                  <a:lnTo>
                    <a:pt x="1080" y="213"/>
                  </a:lnTo>
                  <a:lnTo>
                    <a:pt x="1058" y="227"/>
                  </a:lnTo>
                  <a:lnTo>
                    <a:pt x="1038" y="242"/>
                  </a:lnTo>
                  <a:lnTo>
                    <a:pt x="1022" y="258"/>
                  </a:lnTo>
                  <a:lnTo>
                    <a:pt x="1010" y="276"/>
                  </a:lnTo>
                  <a:lnTo>
                    <a:pt x="1000" y="295"/>
                  </a:lnTo>
                  <a:lnTo>
                    <a:pt x="994" y="316"/>
                  </a:lnTo>
                  <a:lnTo>
                    <a:pt x="991" y="335"/>
                  </a:lnTo>
                  <a:lnTo>
                    <a:pt x="990" y="338"/>
                  </a:lnTo>
                  <a:lnTo>
                    <a:pt x="990" y="335"/>
                  </a:lnTo>
                  <a:lnTo>
                    <a:pt x="986" y="316"/>
                  </a:lnTo>
                  <a:lnTo>
                    <a:pt x="980" y="295"/>
                  </a:lnTo>
                  <a:lnTo>
                    <a:pt x="971" y="276"/>
                  </a:lnTo>
                  <a:lnTo>
                    <a:pt x="958" y="258"/>
                  </a:lnTo>
                  <a:lnTo>
                    <a:pt x="941" y="242"/>
                  </a:lnTo>
                  <a:lnTo>
                    <a:pt x="922" y="227"/>
                  </a:lnTo>
                  <a:lnTo>
                    <a:pt x="900" y="213"/>
                  </a:lnTo>
                  <a:lnTo>
                    <a:pt x="876" y="202"/>
                  </a:lnTo>
                  <a:lnTo>
                    <a:pt x="851" y="193"/>
                  </a:lnTo>
                  <a:lnTo>
                    <a:pt x="824" y="186"/>
                  </a:lnTo>
                  <a:lnTo>
                    <a:pt x="795" y="182"/>
                  </a:lnTo>
                  <a:lnTo>
                    <a:pt x="766" y="180"/>
                  </a:lnTo>
                  <a:lnTo>
                    <a:pt x="261" y="180"/>
                  </a:lnTo>
                  <a:lnTo>
                    <a:pt x="231" y="179"/>
                  </a:lnTo>
                  <a:lnTo>
                    <a:pt x="199" y="174"/>
                  </a:lnTo>
                  <a:lnTo>
                    <a:pt x="169" y="168"/>
                  </a:lnTo>
                  <a:lnTo>
                    <a:pt x="141" y="159"/>
                  </a:lnTo>
                  <a:lnTo>
                    <a:pt x="115" y="148"/>
                  </a:lnTo>
                  <a:lnTo>
                    <a:pt x="90" y="134"/>
                  </a:lnTo>
                  <a:lnTo>
                    <a:pt x="67" y="119"/>
                  </a:lnTo>
                  <a:lnTo>
                    <a:pt x="48" y="102"/>
                  </a:lnTo>
                  <a:lnTo>
                    <a:pt x="32" y="83"/>
                  </a:lnTo>
                  <a:lnTo>
                    <a:pt x="19" y="64"/>
                  </a:lnTo>
                  <a:lnTo>
                    <a:pt x="9" y="43"/>
                  </a:lnTo>
                  <a:lnTo>
                    <a:pt x="3" y="21"/>
                  </a:lnTo>
                  <a:lnTo>
                    <a:pt x="0" y="0"/>
                  </a:lnTo>
                  <a:lnTo>
                    <a:pt x="2" y="13"/>
                  </a:lnTo>
                  <a:lnTo>
                    <a:pt x="6" y="39"/>
                  </a:lnTo>
                  <a:lnTo>
                    <a:pt x="13" y="64"/>
                  </a:lnTo>
                  <a:lnTo>
                    <a:pt x="25" y="89"/>
                  </a:lnTo>
                  <a:lnTo>
                    <a:pt x="40" y="112"/>
                  </a:lnTo>
                  <a:lnTo>
                    <a:pt x="59" y="135"/>
                  </a:lnTo>
                  <a:lnTo>
                    <a:pt x="81" y="156"/>
                  </a:lnTo>
                  <a:lnTo>
                    <a:pt x="105" y="176"/>
                  </a:lnTo>
                  <a:lnTo>
                    <a:pt x="132" y="194"/>
                  </a:lnTo>
                  <a:lnTo>
                    <a:pt x="161" y="209"/>
                  </a:lnTo>
                  <a:lnTo>
                    <a:pt x="193" y="224"/>
                  </a:lnTo>
                  <a:lnTo>
                    <a:pt x="227" y="235"/>
                  </a:lnTo>
                  <a:lnTo>
                    <a:pt x="262" y="244"/>
                  </a:lnTo>
                  <a:lnTo>
                    <a:pt x="299" y="251"/>
                  </a:lnTo>
                  <a:lnTo>
                    <a:pt x="334" y="255"/>
                  </a:lnTo>
                  <a:lnTo>
                    <a:pt x="372" y="257"/>
                  </a:lnTo>
                  <a:lnTo>
                    <a:pt x="803" y="257"/>
                  </a:lnTo>
                  <a:lnTo>
                    <a:pt x="830" y="259"/>
                  </a:lnTo>
                  <a:lnTo>
                    <a:pt x="856" y="262"/>
                  </a:lnTo>
                  <a:lnTo>
                    <a:pt x="879" y="269"/>
                  </a:lnTo>
                  <a:lnTo>
                    <a:pt x="903" y="277"/>
                  </a:lnTo>
                  <a:lnTo>
                    <a:pt x="923" y="289"/>
                  </a:lnTo>
                  <a:lnTo>
                    <a:pt x="943" y="302"/>
                  </a:lnTo>
                  <a:lnTo>
                    <a:pt x="958" y="317"/>
                  </a:lnTo>
                  <a:lnTo>
                    <a:pt x="971" y="333"/>
                  </a:lnTo>
                  <a:lnTo>
                    <a:pt x="980" y="350"/>
                  </a:lnTo>
                  <a:lnTo>
                    <a:pt x="986" y="369"/>
                  </a:lnTo>
                  <a:lnTo>
                    <a:pt x="990" y="387"/>
                  </a:lnTo>
                  <a:lnTo>
                    <a:pt x="990" y="389"/>
                  </a:lnTo>
                  <a:lnTo>
                    <a:pt x="992" y="370"/>
                  </a:lnTo>
                  <a:lnTo>
                    <a:pt x="997" y="352"/>
                  </a:lnTo>
                  <a:lnTo>
                    <a:pt x="1007" y="335"/>
                  </a:lnTo>
                  <a:lnTo>
                    <a:pt x="1019" y="318"/>
                  </a:lnTo>
                  <a:lnTo>
                    <a:pt x="1035" y="304"/>
                  </a:lnTo>
                  <a:lnTo>
                    <a:pt x="1053" y="290"/>
                  </a:lnTo>
                  <a:lnTo>
                    <a:pt x="1073" y="279"/>
                  </a:lnTo>
                  <a:lnTo>
                    <a:pt x="1097" y="270"/>
                  </a:lnTo>
                  <a:lnTo>
                    <a:pt x="1120" y="263"/>
                  </a:lnTo>
                  <a:lnTo>
                    <a:pt x="1146" y="259"/>
                  </a:lnTo>
                  <a:lnTo>
                    <a:pt x="1172" y="257"/>
                  </a:lnTo>
                  <a:lnTo>
                    <a:pt x="1175" y="257"/>
                  </a:lnTo>
                  <a:lnTo>
                    <a:pt x="1608" y="257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5"/>
            <p:cNvSpPr/>
            <p:nvPr/>
          </p:nvSpPr>
          <p:spPr>
            <a:xfrm>
              <a:off x="876240" y="5232240"/>
              <a:ext cx="38829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Price variance</a:t>
              </a:r>
              <a:br>
                <a:rPr sz="2400"/>
              </a:b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$21 favora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6"/>
          <p:cNvGrpSpPr/>
          <p:nvPr/>
        </p:nvGrpSpPr>
        <p:grpSpPr>
          <a:xfrm>
            <a:off x="4248000" y="4545000"/>
            <a:ext cx="3883320" cy="1507680"/>
            <a:chOff x="4248000" y="4545000"/>
            <a:chExt cx="3883320" cy="1507680"/>
          </a:xfrm>
        </p:grpSpPr>
        <p:sp>
          <p:nvSpPr>
            <p:cNvPr id="306" name="Rectangle 7"/>
            <p:cNvSpPr/>
            <p:nvPr/>
          </p:nvSpPr>
          <p:spPr>
            <a:xfrm>
              <a:off x="4248000" y="5232240"/>
              <a:ext cx="38833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Quantity variance</a:t>
              </a:r>
              <a:br>
                <a:rPr sz="2400"/>
              </a:b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$50 unfavora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8"/>
            <p:cNvSpPr/>
            <p:nvPr/>
          </p:nvSpPr>
          <p:spPr>
            <a:xfrm>
              <a:off x="4589640" y="4545000"/>
              <a:ext cx="3143160" cy="618840"/>
            </a:xfrm>
            <a:custGeom>
              <a:avLst/>
              <a:gdLst>
                <a:gd name="textAreaLeft" fmla="*/ 0 w 3143160"/>
                <a:gd name="textAreaRight" fmla="*/ 3143520 w 3143160"/>
                <a:gd name="textAreaTop" fmla="*/ 0 h 618840"/>
                <a:gd name="textAreaBottom" fmla="*/ 619200 h 618840"/>
              </a:gdLst>
              <a:ahLst/>
              <a:rect l="textAreaLeft" t="textAreaTop" r="textAreaRight" b="textAreaBottom"/>
              <a:pathLst>
                <a:path w="1980" h="390">
                  <a:moveTo>
                    <a:pt x="1608" y="257"/>
                  </a:moveTo>
                  <a:lnTo>
                    <a:pt x="1645" y="255"/>
                  </a:lnTo>
                  <a:lnTo>
                    <a:pt x="1681" y="251"/>
                  </a:lnTo>
                  <a:lnTo>
                    <a:pt x="1718" y="244"/>
                  </a:lnTo>
                  <a:lnTo>
                    <a:pt x="1753" y="235"/>
                  </a:lnTo>
                  <a:lnTo>
                    <a:pt x="1787" y="224"/>
                  </a:lnTo>
                  <a:lnTo>
                    <a:pt x="1819" y="209"/>
                  </a:lnTo>
                  <a:lnTo>
                    <a:pt x="1849" y="194"/>
                  </a:lnTo>
                  <a:lnTo>
                    <a:pt x="1876" y="176"/>
                  </a:lnTo>
                  <a:lnTo>
                    <a:pt x="1900" y="156"/>
                  </a:lnTo>
                  <a:lnTo>
                    <a:pt x="1922" y="135"/>
                  </a:lnTo>
                  <a:lnTo>
                    <a:pt x="1940" y="112"/>
                  </a:lnTo>
                  <a:lnTo>
                    <a:pt x="1955" y="89"/>
                  </a:lnTo>
                  <a:lnTo>
                    <a:pt x="1966" y="64"/>
                  </a:lnTo>
                  <a:lnTo>
                    <a:pt x="1975" y="39"/>
                  </a:lnTo>
                  <a:lnTo>
                    <a:pt x="1978" y="13"/>
                  </a:lnTo>
                  <a:lnTo>
                    <a:pt x="1979" y="0"/>
                  </a:lnTo>
                  <a:lnTo>
                    <a:pt x="1978" y="21"/>
                  </a:lnTo>
                  <a:lnTo>
                    <a:pt x="1972" y="43"/>
                  </a:lnTo>
                  <a:lnTo>
                    <a:pt x="1961" y="64"/>
                  </a:lnTo>
                  <a:lnTo>
                    <a:pt x="1949" y="83"/>
                  </a:lnTo>
                  <a:lnTo>
                    <a:pt x="1933" y="102"/>
                  </a:lnTo>
                  <a:lnTo>
                    <a:pt x="1913" y="119"/>
                  </a:lnTo>
                  <a:lnTo>
                    <a:pt x="1891" y="134"/>
                  </a:lnTo>
                  <a:lnTo>
                    <a:pt x="1866" y="148"/>
                  </a:lnTo>
                  <a:lnTo>
                    <a:pt x="1839" y="159"/>
                  </a:lnTo>
                  <a:lnTo>
                    <a:pt x="1810" y="168"/>
                  </a:lnTo>
                  <a:lnTo>
                    <a:pt x="1781" y="174"/>
                  </a:lnTo>
                  <a:lnTo>
                    <a:pt x="1751" y="179"/>
                  </a:lnTo>
                  <a:lnTo>
                    <a:pt x="1719" y="180"/>
                  </a:lnTo>
                  <a:lnTo>
                    <a:pt x="1214" y="180"/>
                  </a:lnTo>
                  <a:lnTo>
                    <a:pt x="1185" y="182"/>
                  </a:lnTo>
                  <a:lnTo>
                    <a:pt x="1157" y="186"/>
                  </a:lnTo>
                  <a:lnTo>
                    <a:pt x="1129" y="193"/>
                  </a:lnTo>
                  <a:lnTo>
                    <a:pt x="1103" y="202"/>
                  </a:lnTo>
                  <a:lnTo>
                    <a:pt x="1080" y="213"/>
                  </a:lnTo>
                  <a:lnTo>
                    <a:pt x="1058" y="227"/>
                  </a:lnTo>
                  <a:lnTo>
                    <a:pt x="1038" y="242"/>
                  </a:lnTo>
                  <a:lnTo>
                    <a:pt x="1022" y="258"/>
                  </a:lnTo>
                  <a:lnTo>
                    <a:pt x="1010" y="276"/>
                  </a:lnTo>
                  <a:lnTo>
                    <a:pt x="1000" y="295"/>
                  </a:lnTo>
                  <a:lnTo>
                    <a:pt x="994" y="316"/>
                  </a:lnTo>
                  <a:lnTo>
                    <a:pt x="991" y="335"/>
                  </a:lnTo>
                  <a:lnTo>
                    <a:pt x="990" y="338"/>
                  </a:lnTo>
                  <a:lnTo>
                    <a:pt x="990" y="335"/>
                  </a:lnTo>
                  <a:lnTo>
                    <a:pt x="986" y="316"/>
                  </a:lnTo>
                  <a:lnTo>
                    <a:pt x="980" y="295"/>
                  </a:lnTo>
                  <a:lnTo>
                    <a:pt x="971" y="276"/>
                  </a:lnTo>
                  <a:lnTo>
                    <a:pt x="958" y="258"/>
                  </a:lnTo>
                  <a:lnTo>
                    <a:pt x="941" y="242"/>
                  </a:lnTo>
                  <a:lnTo>
                    <a:pt x="922" y="227"/>
                  </a:lnTo>
                  <a:lnTo>
                    <a:pt x="900" y="213"/>
                  </a:lnTo>
                  <a:lnTo>
                    <a:pt x="876" y="202"/>
                  </a:lnTo>
                  <a:lnTo>
                    <a:pt x="851" y="193"/>
                  </a:lnTo>
                  <a:lnTo>
                    <a:pt x="824" y="186"/>
                  </a:lnTo>
                  <a:lnTo>
                    <a:pt x="795" y="182"/>
                  </a:lnTo>
                  <a:lnTo>
                    <a:pt x="766" y="180"/>
                  </a:lnTo>
                  <a:lnTo>
                    <a:pt x="261" y="180"/>
                  </a:lnTo>
                  <a:lnTo>
                    <a:pt x="231" y="179"/>
                  </a:lnTo>
                  <a:lnTo>
                    <a:pt x="199" y="174"/>
                  </a:lnTo>
                  <a:lnTo>
                    <a:pt x="169" y="168"/>
                  </a:lnTo>
                  <a:lnTo>
                    <a:pt x="141" y="159"/>
                  </a:lnTo>
                  <a:lnTo>
                    <a:pt x="115" y="148"/>
                  </a:lnTo>
                  <a:lnTo>
                    <a:pt x="90" y="134"/>
                  </a:lnTo>
                  <a:lnTo>
                    <a:pt x="67" y="119"/>
                  </a:lnTo>
                  <a:lnTo>
                    <a:pt x="48" y="102"/>
                  </a:lnTo>
                  <a:lnTo>
                    <a:pt x="32" y="83"/>
                  </a:lnTo>
                  <a:lnTo>
                    <a:pt x="19" y="64"/>
                  </a:lnTo>
                  <a:lnTo>
                    <a:pt x="9" y="43"/>
                  </a:lnTo>
                  <a:lnTo>
                    <a:pt x="3" y="21"/>
                  </a:lnTo>
                  <a:lnTo>
                    <a:pt x="0" y="0"/>
                  </a:lnTo>
                  <a:lnTo>
                    <a:pt x="2" y="13"/>
                  </a:lnTo>
                  <a:lnTo>
                    <a:pt x="6" y="39"/>
                  </a:lnTo>
                  <a:lnTo>
                    <a:pt x="13" y="64"/>
                  </a:lnTo>
                  <a:lnTo>
                    <a:pt x="25" y="89"/>
                  </a:lnTo>
                  <a:lnTo>
                    <a:pt x="40" y="112"/>
                  </a:lnTo>
                  <a:lnTo>
                    <a:pt x="59" y="135"/>
                  </a:lnTo>
                  <a:lnTo>
                    <a:pt x="81" y="156"/>
                  </a:lnTo>
                  <a:lnTo>
                    <a:pt x="105" y="176"/>
                  </a:lnTo>
                  <a:lnTo>
                    <a:pt x="132" y="194"/>
                  </a:lnTo>
                  <a:lnTo>
                    <a:pt x="161" y="209"/>
                  </a:lnTo>
                  <a:lnTo>
                    <a:pt x="193" y="224"/>
                  </a:lnTo>
                  <a:lnTo>
                    <a:pt x="227" y="235"/>
                  </a:lnTo>
                  <a:lnTo>
                    <a:pt x="262" y="244"/>
                  </a:lnTo>
                  <a:lnTo>
                    <a:pt x="299" y="251"/>
                  </a:lnTo>
                  <a:lnTo>
                    <a:pt x="334" y="255"/>
                  </a:lnTo>
                  <a:lnTo>
                    <a:pt x="372" y="257"/>
                  </a:lnTo>
                  <a:lnTo>
                    <a:pt x="803" y="257"/>
                  </a:lnTo>
                  <a:lnTo>
                    <a:pt x="830" y="259"/>
                  </a:lnTo>
                  <a:lnTo>
                    <a:pt x="856" y="262"/>
                  </a:lnTo>
                  <a:lnTo>
                    <a:pt x="879" y="269"/>
                  </a:lnTo>
                  <a:lnTo>
                    <a:pt x="903" y="277"/>
                  </a:lnTo>
                  <a:lnTo>
                    <a:pt x="923" y="289"/>
                  </a:lnTo>
                  <a:lnTo>
                    <a:pt x="943" y="302"/>
                  </a:lnTo>
                  <a:lnTo>
                    <a:pt x="958" y="317"/>
                  </a:lnTo>
                  <a:lnTo>
                    <a:pt x="971" y="333"/>
                  </a:lnTo>
                  <a:lnTo>
                    <a:pt x="980" y="350"/>
                  </a:lnTo>
                  <a:lnTo>
                    <a:pt x="986" y="369"/>
                  </a:lnTo>
                  <a:lnTo>
                    <a:pt x="990" y="387"/>
                  </a:lnTo>
                  <a:lnTo>
                    <a:pt x="990" y="389"/>
                  </a:lnTo>
                  <a:lnTo>
                    <a:pt x="992" y="370"/>
                  </a:lnTo>
                  <a:lnTo>
                    <a:pt x="997" y="352"/>
                  </a:lnTo>
                  <a:lnTo>
                    <a:pt x="1007" y="335"/>
                  </a:lnTo>
                  <a:lnTo>
                    <a:pt x="1019" y="318"/>
                  </a:lnTo>
                  <a:lnTo>
                    <a:pt x="1035" y="304"/>
                  </a:lnTo>
                  <a:lnTo>
                    <a:pt x="1053" y="290"/>
                  </a:lnTo>
                  <a:lnTo>
                    <a:pt x="1073" y="279"/>
                  </a:lnTo>
                  <a:lnTo>
                    <a:pt x="1097" y="270"/>
                  </a:lnTo>
                  <a:lnTo>
                    <a:pt x="1120" y="263"/>
                  </a:lnTo>
                  <a:lnTo>
                    <a:pt x="1146" y="259"/>
                  </a:lnTo>
                  <a:lnTo>
                    <a:pt x="1172" y="257"/>
                  </a:lnTo>
                  <a:lnTo>
                    <a:pt x="1175" y="257"/>
                  </a:lnTo>
                  <a:lnTo>
                    <a:pt x="1608" y="257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Materials Variances Summary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228600" y="1727280"/>
            <a:ext cx="8759880" cy="9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Actual Quantity        Actual Quantity     Standard Quantity</a:t>
            </a:r>
            <a:br>
              <a:rPr sz="2400"/>
            </a:b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              ×                                 ×                               × </a:t>
            </a:r>
            <a:br>
              <a:rPr sz="2400"/>
            </a:b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     Actual Price           Standard Price         Standard 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6"/>
          <p:cNvSpPr/>
          <p:nvPr/>
        </p:nvSpPr>
        <p:spPr>
          <a:xfrm>
            <a:off x="480960" y="2639880"/>
            <a:ext cx="2286000" cy="0"/>
          </a:xfrm>
          <a:prstGeom prst="line">
            <a:avLst/>
          </a:prstGeom>
          <a:ln w="28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7"/>
          <p:cNvSpPr/>
          <p:nvPr/>
        </p:nvSpPr>
        <p:spPr>
          <a:xfrm>
            <a:off x="3363840" y="2639880"/>
            <a:ext cx="2286000" cy="0"/>
          </a:xfrm>
          <a:prstGeom prst="line">
            <a:avLst/>
          </a:prstGeom>
          <a:ln w="28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8"/>
          <p:cNvSpPr/>
          <p:nvPr/>
        </p:nvSpPr>
        <p:spPr>
          <a:xfrm>
            <a:off x="6246720" y="2639880"/>
            <a:ext cx="2286000" cy="0"/>
          </a:xfrm>
          <a:prstGeom prst="line">
            <a:avLst/>
          </a:prstGeom>
          <a:ln w="28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Object 2"/>
          <p:cNvGraphicFramePr/>
          <p:nvPr/>
        </p:nvGraphicFramePr>
        <p:xfrm>
          <a:off x="7086600" y="5765760"/>
          <a:ext cx="160020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5765760"/>
                    <a:ext cx="160020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Materials Variances Summary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graphicFrame>
        <p:nvGraphicFramePr>
          <p:cNvPr id="316" name="Object 2"/>
          <p:cNvGraphicFramePr/>
          <p:nvPr/>
        </p:nvGraphicFramePr>
        <p:xfrm>
          <a:off x="7086600" y="5765760"/>
          <a:ext cx="160020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5765760"/>
                    <a:ext cx="160020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Rectangle 2"/>
          <p:cNvSpPr/>
          <p:nvPr/>
        </p:nvSpPr>
        <p:spPr>
          <a:xfrm>
            <a:off x="266760" y="2793960"/>
            <a:ext cx="8607240" cy="174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464646"/>
                </a:solidFill>
                <a:latin typeface="Arial"/>
              </a:rPr>
              <a:t>210 kgs.                     210 kgs.                       200 kgs.</a:t>
            </a:r>
            <a:br>
              <a:rPr sz="2400"/>
            </a:br>
            <a:r>
              <a:rPr b="0" lang="en-US" sz="2400" spc="-1" strike="noStrike">
                <a:solidFill>
                  <a:srgbClr val="464646"/>
                </a:solidFill>
                <a:latin typeface="Arial"/>
              </a:rPr>
              <a:t>           ×                                ×                                 ×</a:t>
            </a:r>
            <a:br>
              <a:rPr sz="2400"/>
            </a:br>
            <a:r>
              <a:rPr b="0" lang="en-US" sz="2400" spc="-1" strike="noStrike">
                <a:solidFill>
                  <a:srgbClr val="464646"/>
                </a:solidFill>
                <a:latin typeface="Arial"/>
              </a:rPr>
              <a:t>    $4.90 per kg.             $5.00 per kg.                $5.00 per k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 $1,029                     = $1,050                   = $1,000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3"/>
          <p:cNvGrpSpPr/>
          <p:nvPr/>
        </p:nvGrpSpPr>
        <p:grpSpPr>
          <a:xfrm>
            <a:off x="876240" y="4545000"/>
            <a:ext cx="3882960" cy="1507680"/>
            <a:chOff x="876240" y="4545000"/>
            <a:chExt cx="3882960" cy="1507680"/>
          </a:xfrm>
        </p:grpSpPr>
        <p:sp>
          <p:nvSpPr>
            <p:cNvPr id="320" name="Freeform 4"/>
            <p:cNvSpPr/>
            <p:nvPr/>
          </p:nvSpPr>
          <p:spPr>
            <a:xfrm>
              <a:off x="1235160" y="4545000"/>
              <a:ext cx="3143160" cy="618840"/>
            </a:xfrm>
            <a:custGeom>
              <a:avLst/>
              <a:gdLst>
                <a:gd name="textAreaLeft" fmla="*/ 0 w 3143160"/>
                <a:gd name="textAreaRight" fmla="*/ 3143520 w 3143160"/>
                <a:gd name="textAreaTop" fmla="*/ 0 h 618840"/>
                <a:gd name="textAreaBottom" fmla="*/ 619200 h 618840"/>
              </a:gdLst>
              <a:ahLst/>
              <a:rect l="textAreaLeft" t="textAreaTop" r="textAreaRight" b="textAreaBottom"/>
              <a:pathLst>
                <a:path w="1980" h="390">
                  <a:moveTo>
                    <a:pt x="1608" y="257"/>
                  </a:moveTo>
                  <a:lnTo>
                    <a:pt x="1645" y="255"/>
                  </a:lnTo>
                  <a:lnTo>
                    <a:pt x="1681" y="251"/>
                  </a:lnTo>
                  <a:lnTo>
                    <a:pt x="1718" y="244"/>
                  </a:lnTo>
                  <a:lnTo>
                    <a:pt x="1753" y="235"/>
                  </a:lnTo>
                  <a:lnTo>
                    <a:pt x="1787" y="224"/>
                  </a:lnTo>
                  <a:lnTo>
                    <a:pt x="1819" y="209"/>
                  </a:lnTo>
                  <a:lnTo>
                    <a:pt x="1849" y="194"/>
                  </a:lnTo>
                  <a:lnTo>
                    <a:pt x="1876" y="176"/>
                  </a:lnTo>
                  <a:lnTo>
                    <a:pt x="1900" y="156"/>
                  </a:lnTo>
                  <a:lnTo>
                    <a:pt x="1922" y="135"/>
                  </a:lnTo>
                  <a:lnTo>
                    <a:pt x="1940" y="112"/>
                  </a:lnTo>
                  <a:lnTo>
                    <a:pt x="1955" y="89"/>
                  </a:lnTo>
                  <a:lnTo>
                    <a:pt x="1966" y="64"/>
                  </a:lnTo>
                  <a:lnTo>
                    <a:pt x="1975" y="39"/>
                  </a:lnTo>
                  <a:lnTo>
                    <a:pt x="1978" y="13"/>
                  </a:lnTo>
                  <a:lnTo>
                    <a:pt x="1979" y="0"/>
                  </a:lnTo>
                  <a:lnTo>
                    <a:pt x="1978" y="21"/>
                  </a:lnTo>
                  <a:lnTo>
                    <a:pt x="1972" y="43"/>
                  </a:lnTo>
                  <a:lnTo>
                    <a:pt x="1961" y="64"/>
                  </a:lnTo>
                  <a:lnTo>
                    <a:pt x="1949" y="83"/>
                  </a:lnTo>
                  <a:lnTo>
                    <a:pt x="1933" y="102"/>
                  </a:lnTo>
                  <a:lnTo>
                    <a:pt x="1913" y="119"/>
                  </a:lnTo>
                  <a:lnTo>
                    <a:pt x="1891" y="134"/>
                  </a:lnTo>
                  <a:lnTo>
                    <a:pt x="1866" y="148"/>
                  </a:lnTo>
                  <a:lnTo>
                    <a:pt x="1839" y="159"/>
                  </a:lnTo>
                  <a:lnTo>
                    <a:pt x="1810" y="168"/>
                  </a:lnTo>
                  <a:lnTo>
                    <a:pt x="1781" y="174"/>
                  </a:lnTo>
                  <a:lnTo>
                    <a:pt x="1751" y="179"/>
                  </a:lnTo>
                  <a:lnTo>
                    <a:pt x="1719" y="180"/>
                  </a:lnTo>
                  <a:lnTo>
                    <a:pt x="1214" y="180"/>
                  </a:lnTo>
                  <a:lnTo>
                    <a:pt x="1185" y="182"/>
                  </a:lnTo>
                  <a:lnTo>
                    <a:pt x="1157" y="186"/>
                  </a:lnTo>
                  <a:lnTo>
                    <a:pt x="1129" y="193"/>
                  </a:lnTo>
                  <a:lnTo>
                    <a:pt x="1103" y="202"/>
                  </a:lnTo>
                  <a:lnTo>
                    <a:pt x="1080" y="213"/>
                  </a:lnTo>
                  <a:lnTo>
                    <a:pt x="1058" y="227"/>
                  </a:lnTo>
                  <a:lnTo>
                    <a:pt x="1038" y="242"/>
                  </a:lnTo>
                  <a:lnTo>
                    <a:pt x="1022" y="258"/>
                  </a:lnTo>
                  <a:lnTo>
                    <a:pt x="1010" y="276"/>
                  </a:lnTo>
                  <a:lnTo>
                    <a:pt x="1000" y="295"/>
                  </a:lnTo>
                  <a:lnTo>
                    <a:pt x="994" y="316"/>
                  </a:lnTo>
                  <a:lnTo>
                    <a:pt x="991" y="335"/>
                  </a:lnTo>
                  <a:lnTo>
                    <a:pt x="990" y="338"/>
                  </a:lnTo>
                  <a:lnTo>
                    <a:pt x="990" y="335"/>
                  </a:lnTo>
                  <a:lnTo>
                    <a:pt x="986" y="316"/>
                  </a:lnTo>
                  <a:lnTo>
                    <a:pt x="980" y="295"/>
                  </a:lnTo>
                  <a:lnTo>
                    <a:pt x="971" y="276"/>
                  </a:lnTo>
                  <a:lnTo>
                    <a:pt x="958" y="258"/>
                  </a:lnTo>
                  <a:lnTo>
                    <a:pt x="941" y="242"/>
                  </a:lnTo>
                  <a:lnTo>
                    <a:pt x="922" y="227"/>
                  </a:lnTo>
                  <a:lnTo>
                    <a:pt x="900" y="213"/>
                  </a:lnTo>
                  <a:lnTo>
                    <a:pt x="876" y="202"/>
                  </a:lnTo>
                  <a:lnTo>
                    <a:pt x="851" y="193"/>
                  </a:lnTo>
                  <a:lnTo>
                    <a:pt x="824" y="186"/>
                  </a:lnTo>
                  <a:lnTo>
                    <a:pt x="795" y="182"/>
                  </a:lnTo>
                  <a:lnTo>
                    <a:pt x="766" y="180"/>
                  </a:lnTo>
                  <a:lnTo>
                    <a:pt x="261" y="180"/>
                  </a:lnTo>
                  <a:lnTo>
                    <a:pt x="231" y="179"/>
                  </a:lnTo>
                  <a:lnTo>
                    <a:pt x="199" y="174"/>
                  </a:lnTo>
                  <a:lnTo>
                    <a:pt x="169" y="168"/>
                  </a:lnTo>
                  <a:lnTo>
                    <a:pt x="141" y="159"/>
                  </a:lnTo>
                  <a:lnTo>
                    <a:pt x="115" y="148"/>
                  </a:lnTo>
                  <a:lnTo>
                    <a:pt x="90" y="134"/>
                  </a:lnTo>
                  <a:lnTo>
                    <a:pt x="67" y="119"/>
                  </a:lnTo>
                  <a:lnTo>
                    <a:pt x="48" y="102"/>
                  </a:lnTo>
                  <a:lnTo>
                    <a:pt x="32" y="83"/>
                  </a:lnTo>
                  <a:lnTo>
                    <a:pt x="19" y="64"/>
                  </a:lnTo>
                  <a:lnTo>
                    <a:pt x="9" y="43"/>
                  </a:lnTo>
                  <a:lnTo>
                    <a:pt x="3" y="21"/>
                  </a:lnTo>
                  <a:lnTo>
                    <a:pt x="0" y="0"/>
                  </a:lnTo>
                  <a:lnTo>
                    <a:pt x="2" y="13"/>
                  </a:lnTo>
                  <a:lnTo>
                    <a:pt x="6" y="39"/>
                  </a:lnTo>
                  <a:lnTo>
                    <a:pt x="13" y="64"/>
                  </a:lnTo>
                  <a:lnTo>
                    <a:pt x="25" y="89"/>
                  </a:lnTo>
                  <a:lnTo>
                    <a:pt x="40" y="112"/>
                  </a:lnTo>
                  <a:lnTo>
                    <a:pt x="59" y="135"/>
                  </a:lnTo>
                  <a:lnTo>
                    <a:pt x="81" y="156"/>
                  </a:lnTo>
                  <a:lnTo>
                    <a:pt x="105" y="176"/>
                  </a:lnTo>
                  <a:lnTo>
                    <a:pt x="132" y="194"/>
                  </a:lnTo>
                  <a:lnTo>
                    <a:pt x="161" y="209"/>
                  </a:lnTo>
                  <a:lnTo>
                    <a:pt x="193" y="224"/>
                  </a:lnTo>
                  <a:lnTo>
                    <a:pt x="227" y="235"/>
                  </a:lnTo>
                  <a:lnTo>
                    <a:pt x="262" y="244"/>
                  </a:lnTo>
                  <a:lnTo>
                    <a:pt x="299" y="251"/>
                  </a:lnTo>
                  <a:lnTo>
                    <a:pt x="334" y="255"/>
                  </a:lnTo>
                  <a:lnTo>
                    <a:pt x="372" y="257"/>
                  </a:lnTo>
                  <a:lnTo>
                    <a:pt x="803" y="257"/>
                  </a:lnTo>
                  <a:lnTo>
                    <a:pt x="830" y="259"/>
                  </a:lnTo>
                  <a:lnTo>
                    <a:pt x="856" y="262"/>
                  </a:lnTo>
                  <a:lnTo>
                    <a:pt x="879" y="269"/>
                  </a:lnTo>
                  <a:lnTo>
                    <a:pt x="903" y="277"/>
                  </a:lnTo>
                  <a:lnTo>
                    <a:pt x="923" y="289"/>
                  </a:lnTo>
                  <a:lnTo>
                    <a:pt x="943" y="302"/>
                  </a:lnTo>
                  <a:lnTo>
                    <a:pt x="958" y="317"/>
                  </a:lnTo>
                  <a:lnTo>
                    <a:pt x="971" y="333"/>
                  </a:lnTo>
                  <a:lnTo>
                    <a:pt x="980" y="350"/>
                  </a:lnTo>
                  <a:lnTo>
                    <a:pt x="986" y="369"/>
                  </a:lnTo>
                  <a:lnTo>
                    <a:pt x="990" y="387"/>
                  </a:lnTo>
                  <a:lnTo>
                    <a:pt x="990" y="389"/>
                  </a:lnTo>
                  <a:lnTo>
                    <a:pt x="992" y="370"/>
                  </a:lnTo>
                  <a:lnTo>
                    <a:pt x="997" y="352"/>
                  </a:lnTo>
                  <a:lnTo>
                    <a:pt x="1007" y="335"/>
                  </a:lnTo>
                  <a:lnTo>
                    <a:pt x="1019" y="318"/>
                  </a:lnTo>
                  <a:lnTo>
                    <a:pt x="1035" y="304"/>
                  </a:lnTo>
                  <a:lnTo>
                    <a:pt x="1053" y="290"/>
                  </a:lnTo>
                  <a:lnTo>
                    <a:pt x="1073" y="279"/>
                  </a:lnTo>
                  <a:lnTo>
                    <a:pt x="1097" y="270"/>
                  </a:lnTo>
                  <a:lnTo>
                    <a:pt x="1120" y="263"/>
                  </a:lnTo>
                  <a:lnTo>
                    <a:pt x="1146" y="259"/>
                  </a:lnTo>
                  <a:lnTo>
                    <a:pt x="1172" y="257"/>
                  </a:lnTo>
                  <a:lnTo>
                    <a:pt x="1175" y="257"/>
                  </a:lnTo>
                  <a:lnTo>
                    <a:pt x="1608" y="257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5"/>
            <p:cNvSpPr/>
            <p:nvPr/>
          </p:nvSpPr>
          <p:spPr>
            <a:xfrm>
              <a:off x="876240" y="5232240"/>
              <a:ext cx="38829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Price variance</a:t>
              </a:r>
              <a:br>
                <a:rPr sz="2400"/>
              </a:b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$21 favora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6"/>
          <p:cNvGrpSpPr/>
          <p:nvPr/>
        </p:nvGrpSpPr>
        <p:grpSpPr>
          <a:xfrm>
            <a:off x="4248000" y="4545000"/>
            <a:ext cx="3883320" cy="1507680"/>
            <a:chOff x="4248000" y="4545000"/>
            <a:chExt cx="3883320" cy="1507680"/>
          </a:xfrm>
        </p:grpSpPr>
        <p:sp>
          <p:nvSpPr>
            <p:cNvPr id="323" name="Rectangle 7"/>
            <p:cNvSpPr/>
            <p:nvPr/>
          </p:nvSpPr>
          <p:spPr>
            <a:xfrm>
              <a:off x="4248000" y="5232240"/>
              <a:ext cx="38833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Quantity variance</a:t>
              </a:r>
              <a:br>
                <a:rPr sz="2400"/>
              </a:b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$50 unfavora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8"/>
            <p:cNvSpPr/>
            <p:nvPr/>
          </p:nvSpPr>
          <p:spPr>
            <a:xfrm>
              <a:off x="4589640" y="4545000"/>
              <a:ext cx="3143160" cy="618840"/>
            </a:xfrm>
            <a:custGeom>
              <a:avLst/>
              <a:gdLst>
                <a:gd name="textAreaLeft" fmla="*/ 0 w 3143160"/>
                <a:gd name="textAreaRight" fmla="*/ 3143520 w 3143160"/>
                <a:gd name="textAreaTop" fmla="*/ 0 h 618840"/>
                <a:gd name="textAreaBottom" fmla="*/ 619200 h 618840"/>
              </a:gdLst>
              <a:ahLst/>
              <a:rect l="textAreaLeft" t="textAreaTop" r="textAreaRight" b="textAreaBottom"/>
              <a:pathLst>
                <a:path w="1980" h="390">
                  <a:moveTo>
                    <a:pt x="1608" y="257"/>
                  </a:moveTo>
                  <a:lnTo>
                    <a:pt x="1645" y="255"/>
                  </a:lnTo>
                  <a:lnTo>
                    <a:pt x="1681" y="251"/>
                  </a:lnTo>
                  <a:lnTo>
                    <a:pt x="1718" y="244"/>
                  </a:lnTo>
                  <a:lnTo>
                    <a:pt x="1753" y="235"/>
                  </a:lnTo>
                  <a:lnTo>
                    <a:pt x="1787" y="224"/>
                  </a:lnTo>
                  <a:lnTo>
                    <a:pt x="1819" y="209"/>
                  </a:lnTo>
                  <a:lnTo>
                    <a:pt x="1849" y="194"/>
                  </a:lnTo>
                  <a:lnTo>
                    <a:pt x="1876" y="176"/>
                  </a:lnTo>
                  <a:lnTo>
                    <a:pt x="1900" y="156"/>
                  </a:lnTo>
                  <a:lnTo>
                    <a:pt x="1922" y="135"/>
                  </a:lnTo>
                  <a:lnTo>
                    <a:pt x="1940" y="112"/>
                  </a:lnTo>
                  <a:lnTo>
                    <a:pt x="1955" y="89"/>
                  </a:lnTo>
                  <a:lnTo>
                    <a:pt x="1966" y="64"/>
                  </a:lnTo>
                  <a:lnTo>
                    <a:pt x="1975" y="39"/>
                  </a:lnTo>
                  <a:lnTo>
                    <a:pt x="1978" y="13"/>
                  </a:lnTo>
                  <a:lnTo>
                    <a:pt x="1979" y="0"/>
                  </a:lnTo>
                  <a:lnTo>
                    <a:pt x="1978" y="21"/>
                  </a:lnTo>
                  <a:lnTo>
                    <a:pt x="1972" y="43"/>
                  </a:lnTo>
                  <a:lnTo>
                    <a:pt x="1961" y="64"/>
                  </a:lnTo>
                  <a:lnTo>
                    <a:pt x="1949" y="83"/>
                  </a:lnTo>
                  <a:lnTo>
                    <a:pt x="1933" y="102"/>
                  </a:lnTo>
                  <a:lnTo>
                    <a:pt x="1913" y="119"/>
                  </a:lnTo>
                  <a:lnTo>
                    <a:pt x="1891" y="134"/>
                  </a:lnTo>
                  <a:lnTo>
                    <a:pt x="1866" y="148"/>
                  </a:lnTo>
                  <a:lnTo>
                    <a:pt x="1839" y="159"/>
                  </a:lnTo>
                  <a:lnTo>
                    <a:pt x="1810" y="168"/>
                  </a:lnTo>
                  <a:lnTo>
                    <a:pt x="1781" y="174"/>
                  </a:lnTo>
                  <a:lnTo>
                    <a:pt x="1751" y="179"/>
                  </a:lnTo>
                  <a:lnTo>
                    <a:pt x="1719" y="180"/>
                  </a:lnTo>
                  <a:lnTo>
                    <a:pt x="1214" y="180"/>
                  </a:lnTo>
                  <a:lnTo>
                    <a:pt x="1185" y="182"/>
                  </a:lnTo>
                  <a:lnTo>
                    <a:pt x="1157" y="186"/>
                  </a:lnTo>
                  <a:lnTo>
                    <a:pt x="1129" y="193"/>
                  </a:lnTo>
                  <a:lnTo>
                    <a:pt x="1103" y="202"/>
                  </a:lnTo>
                  <a:lnTo>
                    <a:pt x="1080" y="213"/>
                  </a:lnTo>
                  <a:lnTo>
                    <a:pt x="1058" y="227"/>
                  </a:lnTo>
                  <a:lnTo>
                    <a:pt x="1038" y="242"/>
                  </a:lnTo>
                  <a:lnTo>
                    <a:pt x="1022" y="258"/>
                  </a:lnTo>
                  <a:lnTo>
                    <a:pt x="1010" y="276"/>
                  </a:lnTo>
                  <a:lnTo>
                    <a:pt x="1000" y="295"/>
                  </a:lnTo>
                  <a:lnTo>
                    <a:pt x="994" y="316"/>
                  </a:lnTo>
                  <a:lnTo>
                    <a:pt x="991" y="335"/>
                  </a:lnTo>
                  <a:lnTo>
                    <a:pt x="990" y="338"/>
                  </a:lnTo>
                  <a:lnTo>
                    <a:pt x="990" y="335"/>
                  </a:lnTo>
                  <a:lnTo>
                    <a:pt x="986" y="316"/>
                  </a:lnTo>
                  <a:lnTo>
                    <a:pt x="980" y="295"/>
                  </a:lnTo>
                  <a:lnTo>
                    <a:pt x="971" y="276"/>
                  </a:lnTo>
                  <a:lnTo>
                    <a:pt x="958" y="258"/>
                  </a:lnTo>
                  <a:lnTo>
                    <a:pt x="941" y="242"/>
                  </a:lnTo>
                  <a:lnTo>
                    <a:pt x="922" y="227"/>
                  </a:lnTo>
                  <a:lnTo>
                    <a:pt x="900" y="213"/>
                  </a:lnTo>
                  <a:lnTo>
                    <a:pt x="876" y="202"/>
                  </a:lnTo>
                  <a:lnTo>
                    <a:pt x="851" y="193"/>
                  </a:lnTo>
                  <a:lnTo>
                    <a:pt x="824" y="186"/>
                  </a:lnTo>
                  <a:lnTo>
                    <a:pt x="795" y="182"/>
                  </a:lnTo>
                  <a:lnTo>
                    <a:pt x="766" y="180"/>
                  </a:lnTo>
                  <a:lnTo>
                    <a:pt x="261" y="180"/>
                  </a:lnTo>
                  <a:lnTo>
                    <a:pt x="231" y="179"/>
                  </a:lnTo>
                  <a:lnTo>
                    <a:pt x="199" y="174"/>
                  </a:lnTo>
                  <a:lnTo>
                    <a:pt x="169" y="168"/>
                  </a:lnTo>
                  <a:lnTo>
                    <a:pt x="141" y="159"/>
                  </a:lnTo>
                  <a:lnTo>
                    <a:pt x="115" y="148"/>
                  </a:lnTo>
                  <a:lnTo>
                    <a:pt x="90" y="134"/>
                  </a:lnTo>
                  <a:lnTo>
                    <a:pt x="67" y="119"/>
                  </a:lnTo>
                  <a:lnTo>
                    <a:pt x="48" y="102"/>
                  </a:lnTo>
                  <a:lnTo>
                    <a:pt x="32" y="83"/>
                  </a:lnTo>
                  <a:lnTo>
                    <a:pt x="19" y="64"/>
                  </a:lnTo>
                  <a:lnTo>
                    <a:pt x="9" y="43"/>
                  </a:lnTo>
                  <a:lnTo>
                    <a:pt x="3" y="21"/>
                  </a:lnTo>
                  <a:lnTo>
                    <a:pt x="0" y="0"/>
                  </a:lnTo>
                  <a:lnTo>
                    <a:pt x="2" y="13"/>
                  </a:lnTo>
                  <a:lnTo>
                    <a:pt x="6" y="39"/>
                  </a:lnTo>
                  <a:lnTo>
                    <a:pt x="13" y="64"/>
                  </a:lnTo>
                  <a:lnTo>
                    <a:pt x="25" y="89"/>
                  </a:lnTo>
                  <a:lnTo>
                    <a:pt x="40" y="112"/>
                  </a:lnTo>
                  <a:lnTo>
                    <a:pt x="59" y="135"/>
                  </a:lnTo>
                  <a:lnTo>
                    <a:pt x="81" y="156"/>
                  </a:lnTo>
                  <a:lnTo>
                    <a:pt x="105" y="176"/>
                  </a:lnTo>
                  <a:lnTo>
                    <a:pt x="132" y="194"/>
                  </a:lnTo>
                  <a:lnTo>
                    <a:pt x="161" y="209"/>
                  </a:lnTo>
                  <a:lnTo>
                    <a:pt x="193" y="224"/>
                  </a:lnTo>
                  <a:lnTo>
                    <a:pt x="227" y="235"/>
                  </a:lnTo>
                  <a:lnTo>
                    <a:pt x="262" y="244"/>
                  </a:lnTo>
                  <a:lnTo>
                    <a:pt x="299" y="251"/>
                  </a:lnTo>
                  <a:lnTo>
                    <a:pt x="334" y="255"/>
                  </a:lnTo>
                  <a:lnTo>
                    <a:pt x="372" y="257"/>
                  </a:lnTo>
                  <a:lnTo>
                    <a:pt x="803" y="257"/>
                  </a:lnTo>
                  <a:lnTo>
                    <a:pt x="830" y="259"/>
                  </a:lnTo>
                  <a:lnTo>
                    <a:pt x="856" y="262"/>
                  </a:lnTo>
                  <a:lnTo>
                    <a:pt x="879" y="269"/>
                  </a:lnTo>
                  <a:lnTo>
                    <a:pt x="903" y="277"/>
                  </a:lnTo>
                  <a:lnTo>
                    <a:pt x="923" y="289"/>
                  </a:lnTo>
                  <a:lnTo>
                    <a:pt x="943" y="302"/>
                  </a:lnTo>
                  <a:lnTo>
                    <a:pt x="958" y="317"/>
                  </a:lnTo>
                  <a:lnTo>
                    <a:pt x="971" y="333"/>
                  </a:lnTo>
                  <a:lnTo>
                    <a:pt x="980" y="350"/>
                  </a:lnTo>
                  <a:lnTo>
                    <a:pt x="986" y="369"/>
                  </a:lnTo>
                  <a:lnTo>
                    <a:pt x="990" y="387"/>
                  </a:lnTo>
                  <a:lnTo>
                    <a:pt x="990" y="389"/>
                  </a:lnTo>
                  <a:lnTo>
                    <a:pt x="992" y="370"/>
                  </a:lnTo>
                  <a:lnTo>
                    <a:pt x="997" y="352"/>
                  </a:lnTo>
                  <a:lnTo>
                    <a:pt x="1007" y="335"/>
                  </a:lnTo>
                  <a:lnTo>
                    <a:pt x="1019" y="318"/>
                  </a:lnTo>
                  <a:lnTo>
                    <a:pt x="1035" y="304"/>
                  </a:lnTo>
                  <a:lnTo>
                    <a:pt x="1053" y="290"/>
                  </a:lnTo>
                  <a:lnTo>
                    <a:pt x="1073" y="279"/>
                  </a:lnTo>
                  <a:lnTo>
                    <a:pt x="1097" y="270"/>
                  </a:lnTo>
                  <a:lnTo>
                    <a:pt x="1120" y="263"/>
                  </a:lnTo>
                  <a:lnTo>
                    <a:pt x="1146" y="259"/>
                  </a:lnTo>
                  <a:lnTo>
                    <a:pt x="1172" y="257"/>
                  </a:lnTo>
                  <a:lnTo>
                    <a:pt x="1175" y="257"/>
                  </a:lnTo>
                  <a:lnTo>
                    <a:pt x="1608" y="257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Rectangle 5"/>
          <p:cNvSpPr/>
          <p:nvPr/>
        </p:nvSpPr>
        <p:spPr>
          <a:xfrm>
            <a:off x="228600" y="1727280"/>
            <a:ext cx="8759880" cy="9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Actual Quantity        Actual Quantity     Standard Quantity</a:t>
            </a:r>
            <a:br>
              <a:rPr sz="2400"/>
            </a:b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              ×                                 ×                               × </a:t>
            </a:r>
            <a:br>
              <a:rPr sz="2400"/>
            </a:b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     Actual Price           Standard Price         Standard 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6"/>
          <p:cNvSpPr/>
          <p:nvPr/>
        </p:nvSpPr>
        <p:spPr>
          <a:xfrm>
            <a:off x="480960" y="2639880"/>
            <a:ext cx="2286000" cy="0"/>
          </a:xfrm>
          <a:prstGeom prst="line">
            <a:avLst/>
          </a:prstGeom>
          <a:ln w="28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7"/>
          <p:cNvSpPr/>
          <p:nvPr/>
        </p:nvSpPr>
        <p:spPr>
          <a:xfrm>
            <a:off x="3363840" y="2639880"/>
            <a:ext cx="2286000" cy="0"/>
          </a:xfrm>
          <a:prstGeom prst="line">
            <a:avLst/>
          </a:prstGeom>
          <a:ln w="28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8"/>
          <p:cNvSpPr/>
          <p:nvPr/>
        </p:nvSpPr>
        <p:spPr>
          <a:xfrm>
            <a:off x="6246720" y="2639880"/>
            <a:ext cx="2286000" cy="0"/>
          </a:xfrm>
          <a:prstGeom prst="line">
            <a:avLst/>
          </a:prstGeom>
          <a:ln w="28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11"/>
          <p:cNvGrpSpPr/>
          <p:nvPr/>
        </p:nvGrpSpPr>
        <p:grpSpPr>
          <a:xfrm>
            <a:off x="2057040" y="3048120"/>
            <a:ext cx="4800960" cy="825480"/>
            <a:chOff x="2057040" y="3048120"/>
            <a:chExt cx="4800960" cy="825480"/>
          </a:xfrm>
        </p:grpSpPr>
        <p:sp>
          <p:nvSpPr>
            <p:cNvPr id="330" name="Line 12"/>
            <p:cNvSpPr/>
            <p:nvPr/>
          </p:nvSpPr>
          <p:spPr>
            <a:xfrm flipV="1">
              <a:off x="6172200" y="3136320"/>
              <a:ext cx="685800" cy="45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 flipH="1">
              <a:off x="2056680" y="3048120"/>
              <a:ext cx="4496040" cy="825480"/>
            </a:xfrm>
            <a:prstGeom prst="rect">
              <a:avLst/>
            </a:prstGeom>
            <a:solidFill>
              <a:srgbClr val="cc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.1 kg per parka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2,000 parkas = 200 kg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Standard Cost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08720" y="1295280"/>
            <a:ext cx="891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s are benchmarks or “norms” for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suring performance.  In managerial account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o types of standards are commonly u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4"/>
          <p:cNvSpPr/>
          <p:nvPr/>
        </p:nvSpPr>
        <p:spPr>
          <a:xfrm>
            <a:off x="4865760" y="2743200"/>
            <a:ext cx="3924360" cy="2590920"/>
          </a:xfrm>
          <a:prstGeom prst="ellipse">
            <a:avLst/>
          </a:prstGeom>
          <a:solidFill>
            <a:srgbClr val="b5e9f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Quantity standard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y how much of 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should be used t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a product 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a serv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>
            <a:off x="380880" y="2819520"/>
            <a:ext cx="3962520" cy="2514600"/>
          </a:xfrm>
          <a:prstGeom prst="ellipse">
            <a:avLst/>
          </a:prstGeom>
          <a:solidFill>
            <a:srgbClr val="b5e9f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ice standard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y how muc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be paid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unit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0" y="5454720"/>
            <a:ext cx="915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Examples: Firestone, Sears, McDonald’s, hospitals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onstruction, and manufacturing compani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Materials Variances Summary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graphicFrame>
        <p:nvGraphicFramePr>
          <p:cNvPr id="333" name="Object 2"/>
          <p:cNvGraphicFramePr/>
          <p:nvPr/>
        </p:nvGraphicFramePr>
        <p:xfrm>
          <a:off x="7086600" y="5765760"/>
          <a:ext cx="160020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5765760"/>
                    <a:ext cx="160020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Rectangle 2"/>
          <p:cNvSpPr/>
          <p:nvPr/>
        </p:nvSpPr>
        <p:spPr>
          <a:xfrm>
            <a:off x="266760" y="2793960"/>
            <a:ext cx="8607240" cy="174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464646"/>
                </a:solidFill>
                <a:latin typeface="Arial"/>
              </a:rPr>
              <a:t>210 kgs.                     210 kgs.                       200 kgs.</a:t>
            </a:r>
            <a:br>
              <a:rPr sz="2400"/>
            </a:br>
            <a:r>
              <a:rPr b="0" lang="en-US" sz="2400" spc="-1" strike="noStrike">
                <a:solidFill>
                  <a:srgbClr val="464646"/>
                </a:solidFill>
                <a:latin typeface="Arial"/>
              </a:rPr>
              <a:t>           ×                                ×                                 ×</a:t>
            </a:r>
            <a:br>
              <a:rPr sz="2400"/>
            </a:br>
            <a:r>
              <a:rPr b="0" lang="en-US" sz="2400" spc="-1" strike="noStrike">
                <a:solidFill>
                  <a:srgbClr val="464646"/>
                </a:solidFill>
                <a:latin typeface="Arial"/>
              </a:rPr>
              <a:t>    $4.90 per kg.             $5.00 per kg.                $5.00 per k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 $1,029                     = $1,050                   = $1,000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3"/>
          <p:cNvGrpSpPr/>
          <p:nvPr/>
        </p:nvGrpSpPr>
        <p:grpSpPr>
          <a:xfrm>
            <a:off x="876240" y="4545000"/>
            <a:ext cx="3882960" cy="1507680"/>
            <a:chOff x="876240" y="4545000"/>
            <a:chExt cx="3882960" cy="1507680"/>
          </a:xfrm>
        </p:grpSpPr>
        <p:sp>
          <p:nvSpPr>
            <p:cNvPr id="337" name="Freeform 4"/>
            <p:cNvSpPr/>
            <p:nvPr/>
          </p:nvSpPr>
          <p:spPr>
            <a:xfrm>
              <a:off x="1235160" y="4545000"/>
              <a:ext cx="3143160" cy="618840"/>
            </a:xfrm>
            <a:custGeom>
              <a:avLst/>
              <a:gdLst>
                <a:gd name="textAreaLeft" fmla="*/ 0 w 3143160"/>
                <a:gd name="textAreaRight" fmla="*/ 3143520 w 3143160"/>
                <a:gd name="textAreaTop" fmla="*/ 0 h 618840"/>
                <a:gd name="textAreaBottom" fmla="*/ 619200 h 618840"/>
              </a:gdLst>
              <a:ahLst/>
              <a:rect l="textAreaLeft" t="textAreaTop" r="textAreaRight" b="textAreaBottom"/>
              <a:pathLst>
                <a:path w="1980" h="390">
                  <a:moveTo>
                    <a:pt x="1608" y="257"/>
                  </a:moveTo>
                  <a:lnTo>
                    <a:pt x="1645" y="255"/>
                  </a:lnTo>
                  <a:lnTo>
                    <a:pt x="1681" y="251"/>
                  </a:lnTo>
                  <a:lnTo>
                    <a:pt x="1718" y="244"/>
                  </a:lnTo>
                  <a:lnTo>
                    <a:pt x="1753" y="235"/>
                  </a:lnTo>
                  <a:lnTo>
                    <a:pt x="1787" y="224"/>
                  </a:lnTo>
                  <a:lnTo>
                    <a:pt x="1819" y="209"/>
                  </a:lnTo>
                  <a:lnTo>
                    <a:pt x="1849" y="194"/>
                  </a:lnTo>
                  <a:lnTo>
                    <a:pt x="1876" y="176"/>
                  </a:lnTo>
                  <a:lnTo>
                    <a:pt x="1900" y="156"/>
                  </a:lnTo>
                  <a:lnTo>
                    <a:pt x="1922" y="135"/>
                  </a:lnTo>
                  <a:lnTo>
                    <a:pt x="1940" y="112"/>
                  </a:lnTo>
                  <a:lnTo>
                    <a:pt x="1955" y="89"/>
                  </a:lnTo>
                  <a:lnTo>
                    <a:pt x="1966" y="64"/>
                  </a:lnTo>
                  <a:lnTo>
                    <a:pt x="1975" y="39"/>
                  </a:lnTo>
                  <a:lnTo>
                    <a:pt x="1978" y="13"/>
                  </a:lnTo>
                  <a:lnTo>
                    <a:pt x="1979" y="0"/>
                  </a:lnTo>
                  <a:lnTo>
                    <a:pt x="1978" y="21"/>
                  </a:lnTo>
                  <a:lnTo>
                    <a:pt x="1972" y="43"/>
                  </a:lnTo>
                  <a:lnTo>
                    <a:pt x="1961" y="64"/>
                  </a:lnTo>
                  <a:lnTo>
                    <a:pt x="1949" y="83"/>
                  </a:lnTo>
                  <a:lnTo>
                    <a:pt x="1933" y="102"/>
                  </a:lnTo>
                  <a:lnTo>
                    <a:pt x="1913" y="119"/>
                  </a:lnTo>
                  <a:lnTo>
                    <a:pt x="1891" y="134"/>
                  </a:lnTo>
                  <a:lnTo>
                    <a:pt x="1866" y="148"/>
                  </a:lnTo>
                  <a:lnTo>
                    <a:pt x="1839" y="159"/>
                  </a:lnTo>
                  <a:lnTo>
                    <a:pt x="1810" y="168"/>
                  </a:lnTo>
                  <a:lnTo>
                    <a:pt x="1781" y="174"/>
                  </a:lnTo>
                  <a:lnTo>
                    <a:pt x="1751" y="179"/>
                  </a:lnTo>
                  <a:lnTo>
                    <a:pt x="1719" y="180"/>
                  </a:lnTo>
                  <a:lnTo>
                    <a:pt x="1214" y="180"/>
                  </a:lnTo>
                  <a:lnTo>
                    <a:pt x="1185" y="182"/>
                  </a:lnTo>
                  <a:lnTo>
                    <a:pt x="1157" y="186"/>
                  </a:lnTo>
                  <a:lnTo>
                    <a:pt x="1129" y="193"/>
                  </a:lnTo>
                  <a:lnTo>
                    <a:pt x="1103" y="202"/>
                  </a:lnTo>
                  <a:lnTo>
                    <a:pt x="1080" y="213"/>
                  </a:lnTo>
                  <a:lnTo>
                    <a:pt x="1058" y="227"/>
                  </a:lnTo>
                  <a:lnTo>
                    <a:pt x="1038" y="242"/>
                  </a:lnTo>
                  <a:lnTo>
                    <a:pt x="1022" y="258"/>
                  </a:lnTo>
                  <a:lnTo>
                    <a:pt x="1010" y="276"/>
                  </a:lnTo>
                  <a:lnTo>
                    <a:pt x="1000" y="295"/>
                  </a:lnTo>
                  <a:lnTo>
                    <a:pt x="994" y="316"/>
                  </a:lnTo>
                  <a:lnTo>
                    <a:pt x="991" y="335"/>
                  </a:lnTo>
                  <a:lnTo>
                    <a:pt x="990" y="338"/>
                  </a:lnTo>
                  <a:lnTo>
                    <a:pt x="990" y="335"/>
                  </a:lnTo>
                  <a:lnTo>
                    <a:pt x="986" y="316"/>
                  </a:lnTo>
                  <a:lnTo>
                    <a:pt x="980" y="295"/>
                  </a:lnTo>
                  <a:lnTo>
                    <a:pt x="971" y="276"/>
                  </a:lnTo>
                  <a:lnTo>
                    <a:pt x="958" y="258"/>
                  </a:lnTo>
                  <a:lnTo>
                    <a:pt x="941" y="242"/>
                  </a:lnTo>
                  <a:lnTo>
                    <a:pt x="922" y="227"/>
                  </a:lnTo>
                  <a:lnTo>
                    <a:pt x="900" y="213"/>
                  </a:lnTo>
                  <a:lnTo>
                    <a:pt x="876" y="202"/>
                  </a:lnTo>
                  <a:lnTo>
                    <a:pt x="851" y="193"/>
                  </a:lnTo>
                  <a:lnTo>
                    <a:pt x="824" y="186"/>
                  </a:lnTo>
                  <a:lnTo>
                    <a:pt x="795" y="182"/>
                  </a:lnTo>
                  <a:lnTo>
                    <a:pt x="766" y="180"/>
                  </a:lnTo>
                  <a:lnTo>
                    <a:pt x="261" y="180"/>
                  </a:lnTo>
                  <a:lnTo>
                    <a:pt x="231" y="179"/>
                  </a:lnTo>
                  <a:lnTo>
                    <a:pt x="199" y="174"/>
                  </a:lnTo>
                  <a:lnTo>
                    <a:pt x="169" y="168"/>
                  </a:lnTo>
                  <a:lnTo>
                    <a:pt x="141" y="159"/>
                  </a:lnTo>
                  <a:lnTo>
                    <a:pt x="115" y="148"/>
                  </a:lnTo>
                  <a:lnTo>
                    <a:pt x="90" y="134"/>
                  </a:lnTo>
                  <a:lnTo>
                    <a:pt x="67" y="119"/>
                  </a:lnTo>
                  <a:lnTo>
                    <a:pt x="48" y="102"/>
                  </a:lnTo>
                  <a:lnTo>
                    <a:pt x="32" y="83"/>
                  </a:lnTo>
                  <a:lnTo>
                    <a:pt x="19" y="64"/>
                  </a:lnTo>
                  <a:lnTo>
                    <a:pt x="9" y="43"/>
                  </a:lnTo>
                  <a:lnTo>
                    <a:pt x="3" y="21"/>
                  </a:lnTo>
                  <a:lnTo>
                    <a:pt x="0" y="0"/>
                  </a:lnTo>
                  <a:lnTo>
                    <a:pt x="2" y="13"/>
                  </a:lnTo>
                  <a:lnTo>
                    <a:pt x="6" y="39"/>
                  </a:lnTo>
                  <a:lnTo>
                    <a:pt x="13" y="64"/>
                  </a:lnTo>
                  <a:lnTo>
                    <a:pt x="25" y="89"/>
                  </a:lnTo>
                  <a:lnTo>
                    <a:pt x="40" y="112"/>
                  </a:lnTo>
                  <a:lnTo>
                    <a:pt x="59" y="135"/>
                  </a:lnTo>
                  <a:lnTo>
                    <a:pt x="81" y="156"/>
                  </a:lnTo>
                  <a:lnTo>
                    <a:pt x="105" y="176"/>
                  </a:lnTo>
                  <a:lnTo>
                    <a:pt x="132" y="194"/>
                  </a:lnTo>
                  <a:lnTo>
                    <a:pt x="161" y="209"/>
                  </a:lnTo>
                  <a:lnTo>
                    <a:pt x="193" y="224"/>
                  </a:lnTo>
                  <a:lnTo>
                    <a:pt x="227" y="235"/>
                  </a:lnTo>
                  <a:lnTo>
                    <a:pt x="262" y="244"/>
                  </a:lnTo>
                  <a:lnTo>
                    <a:pt x="299" y="251"/>
                  </a:lnTo>
                  <a:lnTo>
                    <a:pt x="334" y="255"/>
                  </a:lnTo>
                  <a:lnTo>
                    <a:pt x="372" y="257"/>
                  </a:lnTo>
                  <a:lnTo>
                    <a:pt x="803" y="257"/>
                  </a:lnTo>
                  <a:lnTo>
                    <a:pt x="830" y="259"/>
                  </a:lnTo>
                  <a:lnTo>
                    <a:pt x="856" y="262"/>
                  </a:lnTo>
                  <a:lnTo>
                    <a:pt x="879" y="269"/>
                  </a:lnTo>
                  <a:lnTo>
                    <a:pt x="903" y="277"/>
                  </a:lnTo>
                  <a:lnTo>
                    <a:pt x="923" y="289"/>
                  </a:lnTo>
                  <a:lnTo>
                    <a:pt x="943" y="302"/>
                  </a:lnTo>
                  <a:lnTo>
                    <a:pt x="958" y="317"/>
                  </a:lnTo>
                  <a:lnTo>
                    <a:pt x="971" y="333"/>
                  </a:lnTo>
                  <a:lnTo>
                    <a:pt x="980" y="350"/>
                  </a:lnTo>
                  <a:lnTo>
                    <a:pt x="986" y="369"/>
                  </a:lnTo>
                  <a:lnTo>
                    <a:pt x="990" y="387"/>
                  </a:lnTo>
                  <a:lnTo>
                    <a:pt x="990" y="389"/>
                  </a:lnTo>
                  <a:lnTo>
                    <a:pt x="992" y="370"/>
                  </a:lnTo>
                  <a:lnTo>
                    <a:pt x="997" y="352"/>
                  </a:lnTo>
                  <a:lnTo>
                    <a:pt x="1007" y="335"/>
                  </a:lnTo>
                  <a:lnTo>
                    <a:pt x="1019" y="318"/>
                  </a:lnTo>
                  <a:lnTo>
                    <a:pt x="1035" y="304"/>
                  </a:lnTo>
                  <a:lnTo>
                    <a:pt x="1053" y="290"/>
                  </a:lnTo>
                  <a:lnTo>
                    <a:pt x="1073" y="279"/>
                  </a:lnTo>
                  <a:lnTo>
                    <a:pt x="1097" y="270"/>
                  </a:lnTo>
                  <a:lnTo>
                    <a:pt x="1120" y="263"/>
                  </a:lnTo>
                  <a:lnTo>
                    <a:pt x="1146" y="259"/>
                  </a:lnTo>
                  <a:lnTo>
                    <a:pt x="1172" y="257"/>
                  </a:lnTo>
                  <a:lnTo>
                    <a:pt x="1175" y="257"/>
                  </a:lnTo>
                  <a:lnTo>
                    <a:pt x="1608" y="257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5"/>
            <p:cNvSpPr/>
            <p:nvPr/>
          </p:nvSpPr>
          <p:spPr>
            <a:xfrm>
              <a:off x="876240" y="5232240"/>
              <a:ext cx="38829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Price variance</a:t>
              </a:r>
              <a:br>
                <a:rPr sz="2400"/>
              </a:b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$21 favora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6"/>
          <p:cNvGrpSpPr/>
          <p:nvPr/>
        </p:nvGrpSpPr>
        <p:grpSpPr>
          <a:xfrm>
            <a:off x="4248000" y="4545000"/>
            <a:ext cx="3883320" cy="1507680"/>
            <a:chOff x="4248000" y="4545000"/>
            <a:chExt cx="3883320" cy="1507680"/>
          </a:xfrm>
        </p:grpSpPr>
        <p:sp>
          <p:nvSpPr>
            <p:cNvPr id="340" name="Rectangle 7"/>
            <p:cNvSpPr/>
            <p:nvPr/>
          </p:nvSpPr>
          <p:spPr>
            <a:xfrm>
              <a:off x="4248000" y="5232240"/>
              <a:ext cx="38833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Quantity variance</a:t>
              </a:r>
              <a:br>
                <a:rPr sz="2400"/>
              </a:b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$50 unfavora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8"/>
            <p:cNvSpPr/>
            <p:nvPr/>
          </p:nvSpPr>
          <p:spPr>
            <a:xfrm>
              <a:off x="4589640" y="4545000"/>
              <a:ext cx="3143160" cy="618840"/>
            </a:xfrm>
            <a:custGeom>
              <a:avLst/>
              <a:gdLst>
                <a:gd name="textAreaLeft" fmla="*/ 0 w 3143160"/>
                <a:gd name="textAreaRight" fmla="*/ 3143520 w 3143160"/>
                <a:gd name="textAreaTop" fmla="*/ 0 h 618840"/>
                <a:gd name="textAreaBottom" fmla="*/ 619200 h 618840"/>
              </a:gdLst>
              <a:ahLst/>
              <a:rect l="textAreaLeft" t="textAreaTop" r="textAreaRight" b="textAreaBottom"/>
              <a:pathLst>
                <a:path w="1980" h="390">
                  <a:moveTo>
                    <a:pt x="1608" y="257"/>
                  </a:moveTo>
                  <a:lnTo>
                    <a:pt x="1645" y="255"/>
                  </a:lnTo>
                  <a:lnTo>
                    <a:pt x="1681" y="251"/>
                  </a:lnTo>
                  <a:lnTo>
                    <a:pt x="1718" y="244"/>
                  </a:lnTo>
                  <a:lnTo>
                    <a:pt x="1753" y="235"/>
                  </a:lnTo>
                  <a:lnTo>
                    <a:pt x="1787" y="224"/>
                  </a:lnTo>
                  <a:lnTo>
                    <a:pt x="1819" y="209"/>
                  </a:lnTo>
                  <a:lnTo>
                    <a:pt x="1849" y="194"/>
                  </a:lnTo>
                  <a:lnTo>
                    <a:pt x="1876" y="176"/>
                  </a:lnTo>
                  <a:lnTo>
                    <a:pt x="1900" y="156"/>
                  </a:lnTo>
                  <a:lnTo>
                    <a:pt x="1922" y="135"/>
                  </a:lnTo>
                  <a:lnTo>
                    <a:pt x="1940" y="112"/>
                  </a:lnTo>
                  <a:lnTo>
                    <a:pt x="1955" y="89"/>
                  </a:lnTo>
                  <a:lnTo>
                    <a:pt x="1966" y="64"/>
                  </a:lnTo>
                  <a:lnTo>
                    <a:pt x="1975" y="39"/>
                  </a:lnTo>
                  <a:lnTo>
                    <a:pt x="1978" y="13"/>
                  </a:lnTo>
                  <a:lnTo>
                    <a:pt x="1979" y="0"/>
                  </a:lnTo>
                  <a:lnTo>
                    <a:pt x="1978" y="21"/>
                  </a:lnTo>
                  <a:lnTo>
                    <a:pt x="1972" y="43"/>
                  </a:lnTo>
                  <a:lnTo>
                    <a:pt x="1961" y="64"/>
                  </a:lnTo>
                  <a:lnTo>
                    <a:pt x="1949" y="83"/>
                  </a:lnTo>
                  <a:lnTo>
                    <a:pt x="1933" y="102"/>
                  </a:lnTo>
                  <a:lnTo>
                    <a:pt x="1913" y="119"/>
                  </a:lnTo>
                  <a:lnTo>
                    <a:pt x="1891" y="134"/>
                  </a:lnTo>
                  <a:lnTo>
                    <a:pt x="1866" y="148"/>
                  </a:lnTo>
                  <a:lnTo>
                    <a:pt x="1839" y="159"/>
                  </a:lnTo>
                  <a:lnTo>
                    <a:pt x="1810" y="168"/>
                  </a:lnTo>
                  <a:lnTo>
                    <a:pt x="1781" y="174"/>
                  </a:lnTo>
                  <a:lnTo>
                    <a:pt x="1751" y="179"/>
                  </a:lnTo>
                  <a:lnTo>
                    <a:pt x="1719" y="180"/>
                  </a:lnTo>
                  <a:lnTo>
                    <a:pt x="1214" y="180"/>
                  </a:lnTo>
                  <a:lnTo>
                    <a:pt x="1185" y="182"/>
                  </a:lnTo>
                  <a:lnTo>
                    <a:pt x="1157" y="186"/>
                  </a:lnTo>
                  <a:lnTo>
                    <a:pt x="1129" y="193"/>
                  </a:lnTo>
                  <a:lnTo>
                    <a:pt x="1103" y="202"/>
                  </a:lnTo>
                  <a:lnTo>
                    <a:pt x="1080" y="213"/>
                  </a:lnTo>
                  <a:lnTo>
                    <a:pt x="1058" y="227"/>
                  </a:lnTo>
                  <a:lnTo>
                    <a:pt x="1038" y="242"/>
                  </a:lnTo>
                  <a:lnTo>
                    <a:pt x="1022" y="258"/>
                  </a:lnTo>
                  <a:lnTo>
                    <a:pt x="1010" y="276"/>
                  </a:lnTo>
                  <a:lnTo>
                    <a:pt x="1000" y="295"/>
                  </a:lnTo>
                  <a:lnTo>
                    <a:pt x="994" y="316"/>
                  </a:lnTo>
                  <a:lnTo>
                    <a:pt x="991" y="335"/>
                  </a:lnTo>
                  <a:lnTo>
                    <a:pt x="990" y="338"/>
                  </a:lnTo>
                  <a:lnTo>
                    <a:pt x="990" y="335"/>
                  </a:lnTo>
                  <a:lnTo>
                    <a:pt x="986" y="316"/>
                  </a:lnTo>
                  <a:lnTo>
                    <a:pt x="980" y="295"/>
                  </a:lnTo>
                  <a:lnTo>
                    <a:pt x="971" y="276"/>
                  </a:lnTo>
                  <a:lnTo>
                    <a:pt x="958" y="258"/>
                  </a:lnTo>
                  <a:lnTo>
                    <a:pt x="941" y="242"/>
                  </a:lnTo>
                  <a:lnTo>
                    <a:pt x="922" y="227"/>
                  </a:lnTo>
                  <a:lnTo>
                    <a:pt x="900" y="213"/>
                  </a:lnTo>
                  <a:lnTo>
                    <a:pt x="876" y="202"/>
                  </a:lnTo>
                  <a:lnTo>
                    <a:pt x="851" y="193"/>
                  </a:lnTo>
                  <a:lnTo>
                    <a:pt x="824" y="186"/>
                  </a:lnTo>
                  <a:lnTo>
                    <a:pt x="795" y="182"/>
                  </a:lnTo>
                  <a:lnTo>
                    <a:pt x="766" y="180"/>
                  </a:lnTo>
                  <a:lnTo>
                    <a:pt x="261" y="180"/>
                  </a:lnTo>
                  <a:lnTo>
                    <a:pt x="231" y="179"/>
                  </a:lnTo>
                  <a:lnTo>
                    <a:pt x="199" y="174"/>
                  </a:lnTo>
                  <a:lnTo>
                    <a:pt x="169" y="168"/>
                  </a:lnTo>
                  <a:lnTo>
                    <a:pt x="141" y="159"/>
                  </a:lnTo>
                  <a:lnTo>
                    <a:pt x="115" y="148"/>
                  </a:lnTo>
                  <a:lnTo>
                    <a:pt x="90" y="134"/>
                  </a:lnTo>
                  <a:lnTo>
                    <a:pt x="67" y="119"/>
                  </a:lnTo>
                  <a:lnTo>
                    <a:pt x="48" y="102"/>
                  </a:lnTo>
                  <a:lnTo>
                    <a:pt x="32" y="83"/>
                  </a:lnTo>
                  <a:lnTo>
                    <a:pt x="19" y="64"/>
                  </a:lnTo>
                  <a:lnTo>
                    <a:pt x="9" y="43"/>
                  </a:lnTo>
                  <a:lnTo>
                    <a:pt x="3" y="21"/>
                  </a:lnTo>
                  <a:lnTo>
                    <a:pt x="0" y="0"/>
                  </a:lnTo>
                  <a:lnTo>
                    <a:pt x="2" y="13"/>
                  </a:lnTo>
                  <a:lnTo>
                    <a:pt x="6" y="39"/>
                  </a:lnTo>
                  <a:lnTo>
                    <a:pt x="13" y="64"/>
                  </a:lnTo>
                  <a:lnTo>
                    <a:pt x="25" y="89"/>
                  </a:lnTo>
                  <a:lnTo>
                    <a:pt x="40" y="112"/>
                  </a:lnTo>
                  <a:lnTo>
                    <a:pt x="59" y="135"/>
                  </a:lnTo>
                  <a:lnTo>
                    <a:pt x="81" y="156"/>
                  </a:lnTo>
                  <a:lnTo>
                    <a:pt x="105" y="176"/>
                  </a:lnTo>
                  <a:lnTo>
                    <a:pt x="132" y="194"/>
                  </a:lnTo>
                  <a:lnTo>
                    <a:pt x="161" y="209"/>
                  </a:lnTo>
                  <a:lnTo>
                    <a:pt x="193" y="224"/>
                  </a:lnTo>
                  <a:lnTo>
                    <a:pt x="227" y="235"/>
                  </a:lnTo>
                  <a:lnTo>
                    <a:pt x="262" y="244"/>
                  </a:lnTo>
                  <a:lnTo>
                    <a:pt x="299" y="251"/>
                  </a:lnTo>
                  <a:lnTo>
                    <a:pt x="334" y="255"/>
                  </a:lnTo>
                  <a:lnTo>
                    <a:pt x="372" y="257"/>
                  </a:lnTo>
                  <a:lnTo>
                    <a:pt x="803" y="257"/>
                  </a:lnTo>
                  <a:lnTo>
                    <a:pt x="830" y="259"/>
                  </a:lnTo>
                  <a:lnTo>
                    <a:pt x="856" y="262"/>
                  </a:lnTo>
                  <a:lnTo>
                    <a:pt x="879" y="269"/>
                  </a:lnTo>
                  <a:lnTo>
                    <a:pt x="903" y="277"/>
                  </a:lnTo>
                  <a:lnTo>
                    <a:pt x="923" y="289"/>
                  </a:lnTo>
                  <a:lnTo>
                    <a:pt x="943" y="302"/>
                  </a:lnTo>
                  <a:lnTo>
                    <a:pt x="958" y="317"/>
                  </a:lnTo>
                  <a:lnTo>
                    <a:pt x="971" y="333"/>
                  </a:lnTo>
                  <a:lnTo>
                    <a:pt x="980" y="350"/>
                  </a:lnTo>
                  <a:lnTo>
                    <a:pt x="986" y="369"/>
                  </a:lnTo>
                  <a:lnTo>
                    <a:pt x="990" y="387"/>
                  </a:lnTo>
                  <a:lnTo>
                    <a:pt x="990" y="389"/>
                  </a:lnTo>
                  <a:lnTo>
                    <a:pt x="992" y="370"/>
                  </a:lnTo>
                  <a:lnTo>
                    <a:pt x="997" y="352"/>
                  </a:lnTo>
                  <a:lnTo>
                    <a:pt x="1007" y="335"/>
                  </a:lnTo>
                  <a:lnTo>
                    <a:pt x="1019" y="318"/>
                  </a:lnTo>
                  <a:lnTo>
                    <a:pt x="1035" y="304"/>
                  </a:lnTo>
                  <a:lnTo>
                    <a:pt x="1053" y="290"/>
                  </a:lnTo>
                  <a:lnTo>
                    <a:pt x="1073" y="279"/>
                  </a:lnTo>
                  <a:lnTo>
                    <a:pt x="1097" y="270"/>
                  </a:lnTo>
                  <a:lnTo>
                    <a:pt x="1120" y="263"/>
                  </a:lnTo>
                  <a:lnTo>
                    <a:pt x="1146" y="259"/>
                  </a:lnTo>
                  <a:lnTo>
                    <a:pt x="1172" y="257"/>
                  </a:lnTo>
                  <a:lnTo>
                    <a:pt x="1175" y="257"/>
                  </a:lnTo>
                  <a:lnTo>
                    <a:pt x="1608" y="257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Rectangle 5"/>
          <p:cNvSpPr/>
          <p:nvPr/>
        </p:nvSpPr>
        <p:spPr>
          <a:xfrm>
            <a:off x="228600" y="1727280"/>
            <a:ext cx="8759880" cy="9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Actual Quantity        Actual Quantity     Standard Quantity</a:t>
            </a:r>
            <a:br>
              <a:rPr sz="2400"/>
            </a:b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              ×                                 ×                               × </a:t>
            </a:r>
            <a:br>
              <a:rPr sz="2400"/>
            </a:b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     Actual Price           Standard Price         Standard 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6"/>
          <p:cNvSpPr/>
          <p:nvPr/>
        </p:nvSpPr>
        <p:spPr>
          <a:xfrm>
            <a:off x="480960" y="2639880"/>
            <a:ext cx="2286000" cy="0"/>
          </a:xfrm>
          <a:prstGeom prst="line">
            <a:avLst/>
          </a:prstGeom>
          <a:ln w="28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7"/>
          <p:cNvSpPr/>
          <p:nvPr/>
        </p:nvSpPr>
        <p:spPr>
          <a:xfrm>
            <a:off x="3363840" y="2639880"/>
            <a:ext cx="2286000" cy="0"/>
          </a:xfrm>
          <a:prstGeom prst="line">
            <a:avLst/>
          </a:prstGeom>
          <a:ln w="28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8"/>
          <p:cNvSpPr/>
          <p:nvPr/>
        </p:nvSpPr>
        <p:spPr>
          <a:xfrm>
            <a:off x="6246720" y="2639880"/>
            <a:ext cx="2286000" cy="0"/>
          </a:xfrm>
          <a:prstGeom prst="line">
            <a:avLst/>
          </a:prstGeom>
          <a:ln w="28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11"/>
          <p:cNvGrpSpPr/>
          <p:nvPr/>
        </p:nvGrpSpPr>
        <p:grpSpPr>
          <a:xfrm>
            <a:off x="2438640" y="3276720"/>
            <a:ext cx="3089160" cy="1191240"/>
            <a:chOff x="2438640" y="3276720"/>
            <a:chExt cx="3089160" cy="1191240"/>
          </a:xfrm>
        </p:grpSpPr>
        <p:sp>
          <p:nvSpPr>
            <p:cNvPr id="347" name="Line 12"/>
            <p:cNvSpPr/>
            <p:nvPr/>
          </p:nvSpPr>
          <p:spPr>
            <a:xfrm flipH="1">
              <a:off x="2438640" y="3670200"/>
              <a:ext cx="53352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Text Box 13"/>
            <p:cNvSpPr/>
            <p:nvPr/>
          </p:nvSpPr>
          <p:spPr>
            <a:xfrm flipH="1">
              <a:off x="2937240" y="3276720"/>
              <a:ext cx="2590560" cy="119124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$1,029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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210 kgs = $4.90 per k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Materials Variances:</a:t>
            </a:r>
            <a:br>
              <a:rPr sz="4000"/>
            </a:b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Using the Factored Equation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952880"/>
          </a:xfrm>
          <a:prstGeom prst="rect">
            <a:avLst/>
          </a:prstGeom>
          <a:solidFill>
            <a:srgbClr val="f2f2f2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65040" indent="0">
              <a:spcBef>
                <a:spcPts val="300"/>
              </a:spcBef>
              <a:buNone/>
              <a:tabLst>
                <a:tab algn="l" pos="0"/>
                <a:tab algn="ctr" pos="2057400"/>
                <a:tab algn="ctr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terials price var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ctr" pos="2057400"/>
                <a:tab algn="ctr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e2d37"/>
                </a:solidFill>
                <a:latin typeface="Arial"/>
                <a:ea typeface="Arial"/>
              </a:rPr>
              <a:t>MPV = (AQ × AP) –  (AQ × SP)</a:t>
            </a:r>
            <a:endParaRPr b="0" lang="en-US" sz="2200" spc="-1" strike="noStrike">
              <a:solidFill>
                <a:srgbClr val="da1f28"/>
              </a:solidFill>
              <a:latin typeface="Arial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ctr" pos="2057400"/>
                <a:tab algn="ctr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e2d37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5e2d37"/>
                </a:solidFill>
                <a:latin typeface="Arial"/>
                <a:ea typeface="Arial"/>
              </a:rPr>
              <a:t>      </a:t>
            </a:r>
            <a:r>
              <a:rPr b="0" lang="en-US" sz="2200" spc="-1" strike="noStrike">
                <a:solidFill>
                  <a:srgbClr val="5e2d37"/>
                </a:solidFill>
                <a:latin typeface="Arial"/>
                <a:ea typeface="Arial"/>
              </a:rPr>
              <a:t>= AQ(AP – SP) </a:t>
            </a:r>
            <a:r>
              <a:rPr b="0" lang="en-US" sz="2200" spc="-1" strike="noStrike">
                <a:solidFill>
                  <a:srgbClr val="5e2d37"/>
                </a:solidFill>
                <a:latin typeface="Arial"/>
                <a:ea typeface="Arial"/>
              </a:rPr>
              <a:t>	</a:t>
            </a:r>
            <a:endParaRPr b="0" lang="en-US" sz="2200" spc="-1" strike="noStrike">
              <a:solidFill>
                <a:srgbClr val="da1f28"/>
              </a:solidFill>
              <a:latin typeface="Arial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ctr" pos="2057400"/>
                <a:tab algn="ctr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e2d37"/>
                </a:solidFill>
                <a:latin typeface="Arial"/>
                <a:ea typeface="Arial"/>
              </a:rPr>
              <a:t>         </a:t>
            </a:r>
            <a:r>
              <a:rPr b="0" lang="en-US" sz="2200" spc="-1" strike="noStrike">
                <a:solidFill>
                  <a:srgbClr val="5e2d37"/>
                </a:solidFill>
                <a:latin typeface="Arial"/>
                <a:ea typeface="Arial"/>
              </a:rPr>
              <a:t>= 210 kgs ($4.90/kg – $5.00/kg)</a:t>
            </a:r>
            <a:endParaRPr b="0" lang="en-US" sz="2200" spc="-1" strike="noStrike">
              <a:solidFill>
                <a:srgbClr val="da1f28"/>
              </a:solidFill>
              <a:latin typeface="Arial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ctr" pos="2057400"/>
                <a:tab algn="ctr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e2d37"/>
                </a:solidFill>
                <a:latin typeface="Arial"/>
                <a:ea typeface="Arial"/>
              </a:rPr>
              <a:t>         </a:t>
            </a:r>
            <a:r>
              <a:rPr b="0" lang="en-US" sz="2200" spc="-1" strike="noStrike">
                <a:solidFill>
                  <a:srgbClr val="5e2d37"/>
                </a:solidFill>
                <a:latin typeface="Arial"/>
                <a:ea typeface="Arial"/>
              </a:rPr>
              <a:t>= 210 kgs (– $0.10/kg) = $21 F</a:t>
            </a:r>
            <a:endParaRPr b="0" lang="en-US" sz="2200" spc="-1" strike="noStrike">
              <a:solidFill>
                <a:srgbClr val="da1f28"/>
              </a:solidFill>
              <a:latin typeface="Arial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ctr" pos="2057400"/>
                <a:tab algn="ctr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a1f28"/>
              </a:solidFill>
              <a:latin typeface="Arial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ctr" pos="2057400"/>
                <a:tab algn="ctr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terials quantity var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ctr" pos="2057400"/>
                <a:tab algn="ctr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e2d37"/>
                </a:solidFill>
                <a:latin typeface="Arial"/>
                <a:ea typeface="Arial"/>
              </a:rPr>
              <a:t>MQV = (AQ × SP) – (SQ × SP) </a:t>
            </a:r>
            <a:endParaRPr b="0" lang="en-US" sz="2200" spc="-1" strike="noStrike">
              <a:solidFill>
                <a:srgbClr val="da1f28"/>
              </a:solidFill>
              <a:latin typeface="Arial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ctr" pos="2057400"/>
                <a:tab algn="ctr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1f28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da1f28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5e2d37"/>
                </a:solidFill>
                <a:latin typeface="Arial"/>
                <a:ea typeface="Arial"/>
              </a:rPr>
              <a:t>= SP(AQ –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SQ</a:t>
            </a:r>
            <a:r>
              <a:rPr b="0" lang="en-US" sz="2200" spc="-1" strike="noStrike">
                <a:solidFill>
                  <a:srgbClr val="5e2d37"/>
                </a:solidFill>
                <a:latin typeface="Arial"/>
                <a:ea typeface="Arial"/>
              </a:rPr>
              <a:t>)</a:t>
            </a:r>
            <a:endParaRPr b="0" lang="en-US" sz="2200" spc="-1" strike="noStrike">
              <a:solidFill>
                <a:srgbClr val="da1f28"/>
              </a:solidFill>
              <a:latin typeface="Arial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ctr" pos="2057400"/>
                <a:tab algn="ctr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1f28"/>
                </a:solidFill>
                <a:latin typeface="Arial"/>
                <a:ea typeface="Arial"/>
              </a:rPr>
              <a:t>         </a:t>
            </a:r>
            <a:r>
              <a:rPr b="0" lang="en-US" sz="2200" spc="-1" strike="noStrike">
                <a:solidFill>
                  <a:srgbClr val="5e2d37"/>
                </a:solidFill>
                <a:latin typeface="Arial"/>
                <a:ea typeface="Arial"/>
              </a:rPr>
              <a:t>= $5.00/kg (210 kgs – </a:t>
            </a:r>
            <a:r>
              <a:rPr b="0" lang="en-US" sz="2200" spc="-1" strike="noStrike">
                <a:solidFill>
                  <a:srgbClr val="da1f28"/>
                </a:solidFill>
                <a:latin typeface="Arial"/>
                <a:ea typeface="Arial"/>
              </a:rPr>
              <a:t>(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0.1 kg/parka </a:t>
            </a: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 2,000 parkas</a:t>
            </a:r>
            <a:r>
              <a:rPr b="0" lang="en-US" sz="2200" spc="-1" strike="noStrike">
                <a:solidFill>
                  <a:srgbClr val="da1f28"/>
                </a:solidFill>
                <a:latin typeface="Arial"/>
                <a:ea typeface="Arial"/>
              </a:rPr>
              <a:t>)</a:t>
            </a:r>
            <a:r>
              <a:rPr b="0" lang="en-US" sz="2200" spc="-1" strike="noStrike">
                <a:solidFill>
                  <a:srgbClr val="5e2d37"/>
                </a:solidFill>
                <a:latin typeface="Arial"/>
                <a:ea typeface="Arial"/>
              </a:rPr>
              <a:t>)</a:t>
            </a:r>
            <a:endParaRPr b="0" lang="en-US" sz="2200" spc="-1" strike="noStrike">
              <a:solidFill>
                <a:srgbClr val="da1f28"/>
              </a:solidFill>
              <a:latin typeface="Arial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ctr" pos="2057400"/>
                <a:tab algn="ctr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1f28"/>
                </a:solidFill>
                <a:latin typeface="Arial"/>
                <a:ea typeface="Arial"/>
              </a:rPr>
              <a:t>         </a:t>
            </a:r>
            <a:r>
              <a:rPr b="0" lang="en-US" sz="2200" spc="-1" strike="noStrike">
                <a:solidFill>
                  <a:srgbClr val="5e2d37"/>
                </a:solidFill>
                <a:latin typeface="Arial"/>
                <a:ea typeface="Arial"/>
              </a:rPr>
              <a:t>= $5.00/kg (210 kgs – 200 kgs)</a:t>
            </a:r>
            <a:endParaRPr b="0" lang="en-US" sz="2200" spc="-1" strike="noStrike">
              <a:solidFill>
                <a:srgbClr val="da1f28"/>
              </a:solidFill>
              <a:latin typeface="Arial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ctr" pos="2057400"/>
                <a:tab algn="ctr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1f28"/>
                </a:solidFill>
                <a:latin typeface="Arial"/>
                <a:ea typeface="Arial"/>
              </a:rPr>
              <a:t>         </a:t>
            </a:r>
            <a:r>
              <a:rPr b="0" lang="en-US" sz="2200" spc="-1" strike="noStrike">
                <a:solidFill>
                  <a:srgbClr val="5e2d37"/>
                </a:solidFill>
                <a:latin typeface="Arial"/>
                <a:ea typeface="Arial"/>
              </a:rPr>
              <a:t>= $5.00/kg (10 kgs) = $50 U</a:t>
            </a:r>
            <a:endParaRPr b="0" lang="en-US" sz="2200" spc="-1" strike="noStrike">
              <a:solidFill>
                <a:srgbClr val="da1f28"/>
              </a:solidFill>
              <a:latin typeface="Arial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ctr" pos="2057400"/>
                <a:tab algn="ctr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ctr" pos="2057400"/>
                <a:tab algn="ctr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a1f28"/>
              </a:solidFill>
              <a:latin typeface="Arial"/>
            </a:endParaRPr>
          </a:p>
        </p:txBody>
      </p:sp>
      <p:graphicFrame>
        <p:nvGraphicFramePr>
          <p:cNvPr id="351" name="Object 2"/>
          <p:cNvGraphicFramePr/>
          <p:nvPr/>
        </p:nvGraphicFramePr>
        <p:xfrm>
          <a:off x="7086600" y="5765760"/>
          <a:ext cx="160020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5765760"/>
                    <a:ext cx="160020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535320" y="1908000"/>
            <a:ext cx="368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Materials Price Var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4657680" y="1908000"/>
            <a:ext cx="41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Materials Quantity Var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Group 6"/>
          <p:cNvGrpSpPr/>
          <p:nvPr/>
        </p:nvGrpSpPr>
        <p:grpSpPr>
          <a:xfrm>
            <a:off x="5240160" y="2502000"/>
            <a:ext cx="3124440" cy="2507760"/>
            <a:chOff x="5240160" y="2502000"/>
            <a:chExt cx="3124440" cy="2507760"/>
          </a:xfrm>
        </p:grpSpPr>
        <p:graphicFrame>
          <p:nvGraphicFramePr>
            <p:cNvPr id="357" name="Object 3"/>
            <p:cNvGraphicFramePr/>
            <p:nvPr/>
          </p:nvGraphicFramePr>
          <p:xfrm>
            <a:off x="5240160" y="2502000"/>
            <a:ext cx="3124440" cy="2081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58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40160" y="2502000"/>
                      <a:ext cx="3124440" cy="2081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9" name="Text Box 8"/>
            <p:cNvSpPr/>
            <p:nvPr/>
          </p:nvSpPr>
          <p:spPr>
            <a:xfrm>
              <a:off x="5299920" y="4550040"/>
              <a:ext cx="2923920" cy="459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ffff"/>
                  </a:solidFill>
                  <a:latin typeface="Arial"/>
                </a:rPr>
                <a:t>Production Manag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Group 9"/>
          <p:cNvGrpSpPr/>
          <p:nvPr/>
        </p:nvGrpSpPr>
        <p:grpSpPr>
          <a:xfrm>
            <a:off x="718920" y="2365200"/>
            <a:ext cx="2990880" cy="2643840"/>
            <a:chOff x="718920" y="2365200"/>
            <a:chExt cx="2990880" cy="2643840"/>
          </a:xfrm>
        </p:grpSpPr>
        <p:graphicFrame>
          <p:nvGraphicFramePr>
            <p:cNvPr id="361" name="Object 2"/>
            <p:cNvGraphicFramePr/>
            <p:nvPr/>
          </p:nvGraphicFramePr>
          <p:xfrm>
            <a:off x="1249200" y="2365200"/>
            <a:ext cx="2078280" cy="2209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62" name="Object 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49200" y="2365200"/>
                      <a:ext cx="2078280" cy="220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3" name="Text Box 11"/>
            <p:cNvSpPr/>
            <p:nvPr/>
          </p:nvSpPr>
          <p:spPr>
            <a:xfrm>
              <a:off x="718920" y="4549320"/>
              <a:ext cx="2990880" cy="459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ffff"/>
                  </a:solidFill>
                  <a:latin typeface="Arial"/>
                </a:rPr>
                <a:t>Purchasing Manag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Text Box 12"/>
          <p:cNvSpPr/>
          <p:nvPr/>
        </p:nvSpPr>
        <p:spPr>
          <a:xfrm>
            <a:off x="435240" y="5337000"/>
            <a:ext cx="8262360" cy="119124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Arial"/>
                <a:ea typeface="Times New Roman"/>
              </a:rPr>
              <a:t>The standard price is used to compute the quantity variance</a:t>
            </a:r>
            <a:br>
              <a:rPr sz="2400"/>
            </a:br>
            <a:r>
              <a:rPr b="0" lang="en-US" sz="2400" spc="-1" strike="noStrike">
                <a:solidFill>
                  <a:srgbClr val="464646"/>
                </a:solidFill>
                <a:latin typeface="Arial"/>
                <a:ea typeface="Times New Roman"/>
              </a:rPr>
              <a:t>so that the production manager is not held responsible for</a:t>
            </a:r>
            <a:br>
              <a:rPr sz="2400"/>
            </a:br>
            <a:r>
              <a:rPr b="0" lang="en-US" sz="2400" spc="-1" strike="noStrike">
                <a:solidFill>
                  <a:srgbClr val="464646"/>
                </a:solidFill>
                <a:latin typeface="Arial"/>
                <a:ea typeface="Times New Roman"/>
              </a:rPr>
              <a:t>the purchasing manager’s perform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itle 11"/>
          <p:cNvSpPr/>
          <p:nvPr/>
        </p:nvSpPr>
        <p:spPr>
          <a:xfrm>
            <a:off x="60948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Responsibility for Materials Varia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2"/>
          <p:cNvGrpSpPr/>
          <p:nvPr/>
        </p:nvGrpSpPr>
        <p:grpSpPr>
          <a:xfrm>
            <a:off x="189360" y="1752480"/>
            <a:ext cx="3848760" cy="3006720"/>
            <a:chOff x="189360" y="1752480"/>
            <a:chExt cx="3848760" cy="3006720"/>
          </a:xfrm>
        </p:grpSpPr>
        <p:sp>
          <p:nvSpPr>
            <p:cNvPr id="367" name="Freeform 3"/>
            <p:cNvSpPr/>
            <p:nvPr/>
          </p:nvSpPr>
          <p:spPr>
            <a:xfrm>
              <a:off x="228240" y="1752480"/>
              <a:ext cx="3809880" cy="300672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3006720"/>
                <a:gd name="textAreaBottom" fmla="*/ 3007080 h 3006720"/>
              </a:gdLst>
              <a:ahLst/>
              <a:rect l="textAreaLeft" t="textAreaTop" r="textAreaRight" b="textAreaBottom"/>
              <a:pathLst>
                <a:path w="2751" h="1894">
                  <a:moveTo>
                    <a:pt x="2567" y="0"/>
                  </a:moveTo>
                  <a:lnTo>
                    <a:pt x="2597" y="8"/>
                  </a:lnTo>
                  <a:lnTo>
                    <a:pt x="2632" y="23"/>
                  </a:lnTo>
                  <a:lnTo>
                    <a:pt x="2663" y="42"/>
                  </a:lnTo>
                  <a:lnTo>
                    <a:pt x="2687" y="66"/>
                  </a:lnTo>
                  <a:lnTo>
                    <a:pt x="2709" y="93"/>
                  </a:lnTo>
                  <a:lnTo>
                    <a:pt x="2728" y="125"/>
                  </a:lnTo>
                  <a:lnTo>
                    <a:pt x="2742" y="159"/>
                  </a:lnTo>
                  <a:lnTo>
                    <a:pt x="2750" y="194"/>
                  </a:lnTo>
                  <a:lnTo>
                    <a:pt x="2750" y="1314"/>
                  </a:lnTo>
                  <a:lnTo>
                    <a:pt x="2740" y="1361"/>
                  </a:lnTo>
                  <a:lnTo>
                    <a:pt x="2726" y="1422"/>
                  </a:lnTo>
                  <a:lnTo>
                    <a:pt x="2705" y="1481"/>
                  </a:lnTo>
                  <a:lnTo>
                    <a:pt x="2679" y="1536"/>
                  </a:lnTo>
                  <a:lnTo>
                    <a:pt x="2650" y="1591"/>
                  </a:lnTo>
                  <a:lnTo>
                    <a:pt x="2616" y="1642"/>
                  </a:lnTo>
                  <a:lnTo>
                    <a:pt x="2575" y="1688"/>
                  </a:lnTo>
                  <a:lnTo>
                    <a:pt x="2532" y="1735"/>
                  </a:lnTo>
                  <a:lnTo>
                    <a:pt x="2485" y="1771"/>
                  </a:lnTo>
                  <a:lnTo>
                    <a:pt x="2436" y="1804"/>
                  </a:lnTo>
                  <a:lnTo>
                    <a:pt x="2384" y="1836"/>
                  </a:lnTo>
                  <a:lnTo>
                    <a:pt x="2326" y="1859"/>
                  </a:lnTo>
                  <a:lnTo>
                    <a:pt x="2271" y="1879"/>
                  </a:lnTo>
                  <a:lnTo>
                    <a:pt x="2212" y="1893"/>
                  </a:lnTo>
                  <a:lnTo>
                    <a:pt x="2243" y="1885"/>
                  </a:lnTo>
                  <a:lnTo>
                    <a:pt x="2274" y="1872"/>
                  </a:lnTo>
                  <a:lnTo>
                    <a:pt x="2302" y="1853"/>
                  </a:lnTo>
                  <a:lnTo>
                    <a:pt x="2325" y="1832"/>
                  </a:lnTo>
                  <a:lnTo>
                    <a:pt x="2343" y="1804"/>
                  </a:lnTo>
                  <a:lnTo>
                    <a:pt x="2361" y="1777"/>
                  </a:lnTo>
                  <a:lnTo>
                    <a:pt x="2371" y="1745"/>
                  </a:lnTo>
                  <a:lnTo>
                    <a:pt x="2373" y="1711"/>
                  </a:lnTo>
                  <a:lnTo>
                    <a:pt x="2373" y="1677"/>
                  </a:lnTo>
                  <a:lnTo>
                    <a:pt x="2369" y="1644"/>
                  </a:lnTo>
                  <a:lnTo>
                    <a:pt x="2357" y="1617"/>
                  </a:lnTo>
                  <a:lnTo>
                    <a:pt x="2341" y="1585"/>
                  </a:lnTo>
                  <a:lnTo>
                    <a:pt x="2318" y="1559"/>
                  </a:lnTo>
                  <a:lnTo>
                    <a:pt x="2294" y="1540"/>
                  </a:lnTo>
                  <a:lnTo>
                    <a:pt x="2267" y="1523"/>
                  </a:lnTo>
                  <a:lnTo>
                    <a:pt x="2237" y="1513"/>
                  </a:lnTo>
                  <a:lnTo>
                    <a:pt x="2212" y="1506"/>
                  </a:lnTo>
                  <a:lnTo>
                    <a:pt x="181" y="1506"/>
                  </a:lnTo>
                  <a:lnTo>
                    <a:pt x="149" y="1500"/>
                  </a:lnTo>
                  <a:lnTo>
                    <a:pt x="118" y="1485"/>
                  </a:lnTo>
                  <a:lnTo>
                    <a:pt x="87" y="1466"/>
                  </a:lnTo>
                  <a:lnTo>
                    <a:pt x="61" y="1441"/>
                  </a:lnTo>
                  <a:lnTo>
                    <a:pt x="41" y="1413"/>
                  </a:lnTo>
                  <a:lnTo>
                    <a:pt x="20" y="1384"/>
                  </a:lnTo>
                  <a:lnTo>
                    <a:pt x="8" y="1350"/>
                  </a:lnTo>
                  <a:lnTo>
                    <a:pt x="0" y="1314"/>
                  </a:lnTo>
                  <a:lnTo>
                    <a:pt x="0" y="194"/>
                  </a:lnTo>
                  <a:lnTo>
                    <a:pt x="8" y="159"/>
                  </a:lnTo>
                  <a:lnTo>
                    <a:pt x="20" y="125"/>
                  </a:lnTo>
                  <a:lnTo>
                    <a:pt x="39" y="95"/>
                  </a:lnTo>
                  <a:lnTo>
                    <a:pt x="59" y="66"/>
                  </a:lnTo>
                  <a:lnTo>
                    <a:pt x="87" y="42"/>
                  </a:lnTo>
                  <a:lnTo>
                    <a:pt x="116" y="23"/>
                  </a:lnTo>
                  <a:lnTo>
                    <a:pt x="149" y="8"/>
                  </a:lnTo>
                  <a:lnTo>
                    <a:pt x="181" y="0"/>
                  </a:lnTo>
                  <a:lnTo>
                    <a:pt x="2567" y="0"/>
                  </a:lnTo>
                </a:path>
              </a:pathLst>
            </a:custGeom>
            <a:solidFill>
              <a:srgbClr val="ffcc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4"/>
            <p:cNvSpPr/>
            <p:nvPr/>
          </p:nvSpPr>
          <p:spPr>
            <a:xfrm>
              <a:off x="189360" y="1909800"/>
              <a:ext cx="3738600" cy="221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64646"/>
                  </a:solidFill>
                  <a:latin typeface="Arial"/>
                </a:rPr>
                <a:t>I am not responsible for</a:t>
              </a:r>
              <a:br>
                <a:rPr sz="2400"/>
              </a:br>
              <a:r>
                <a:rPr b="0" lang="en-US" sz="2400" spc="-1" strike="noStrike">
                  <a:solidFill>
                    <a:srgbClr val="464646"/>
                  </a:solidFill>
                  <a:latin typeface="Arial"/>
                </a:rPr>
                <a:t> this unfavorable materials</a:t>
              </a:r>
              <a:br>
                <a:rPr sz="2400"/>
              </a:br>
              <a:r>
                <a:rPr b="0" lang="en-US" sz="2400" spc="-1" strike="noStrike">
                  <a:solidFill>
                    <a:srgbClr val="464646"/>
                  </a:solidFill>
                  <a:latin typeface="Arial"/>
                </a:rPr>
                <a:t>quantity varianc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64646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464646"/>
                  </a:solidFill>
                  <a:latin typeface="Arial"/>
                </a:rPr>
                <a:t>You purchased cheap</a:t>
              </a:r>
              <a:br>
                <a:rPr sz="2400"/>
              </a:br>
              <a:r>
                <a:rPr b="0" lang="en-US" sz="2400" spc="-1" strike="noStrike">
                  <a:solidFill>
                    <a:srgbClr val="464646"/>
                  </a:solidFill>
                  <a:latin typeface="Arial"/>
                </a:rPr>
                <a:t>material, so my people</a:t>
              </a:r>
              <a:br>
                <a:rPr sz="2400"/>
              </a:br>
              <a:r>
                <a:rPr b="0" lang="en-US" sz="2400" spc="-1" strike="noStrike">
                  <a:solidFill>
                    <a:srgbClr val="464646"/>
                  </a:solidFill>
                  <a:latin typeface="Arial"/>
                </a:rPr>
                <a:t>had to use more of it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Group 5"/>
          <p:cNvGrpSpPr/>
          <p:nvPr/>
        </p:nvGrpSpPr>
        <p:grpSpPr>
          <a:xfrm>
            <a:off x="4572000" y="1523880"/>
            <a:ext cx="4367160" cy="2592360"/>
            <a:chOff x="4572000" y="1523880"/>
            <a:chExt cx="4367160" cy="2592360"/>
          </a:xfrm>
        </p:grpSpPr>
        <p:sp>
          <p:nvSpPr>
            <p:cNvPr id="370" name="Freeform 6"/>
            <p:cNvSpPr/>
            <p:nvPr/>
          </p:nvSpPr>
          <p:spPr>
            <a:xfrm>
              <a:off x="4572000" y="1523880"/>
              <a:ext cx="4367160" cy="2592360"/>
            </a:xfrm>
            <a:custGeom>
              <a:avLst/>
              <a:gdLst>
                <a:gd name="textAreaLeft" fmla="*/ 0 w 4367160"/>
                <a:gd name="textAreaRight" fmla="*/ 4367520 w 436716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2751" h="2593">
                  <a:moveTo>
                    <a:pt x="183" y="0"/>
                  </a:moveTo>
                  <a:lnTo>
                    <a:pt x="153" y="12"/>
                  </a:lnTo>
                  <a:lnTo>
                    <a:pt x="118" y="32"/>
                  </a:lnTo>
                  <a:lnTo>
                    <a:pt x="87" y="58"/>
                  </a:lnTo>
                  <a:lnTo>
                    <a:pt x="63" y="90"/>
                  </a:lnTo>
                  <a:lnTo>
                    <a:pt x="41" y="128"/>
                  </a:lnTo>
                  <a:lnTo>
                    <a:pt x="22" y="171"/>
                  </a:lnTo>
                  <a:lnTo>
                    <a:pt x="8" y="218"/>
                  </a:lnTo>
                  <a:lnTo>
                    <a:pt x="0" y="266"/>
                  </a:lnTo>
                  <a:lnTo>
                    <a:pt x="0" y="1800"/>
                  </a:lnTo>
                  <a:lnTo>
                    <a:pt x="10" y="1863"/>
                  </a:lnTo>
                  <a:lnTo>
                    <a:pt x="24" y="1947"/>
                  </a:lnTo>
                  <a:lnTo>
                    <a:pt x="45" y="2028"/>
                  </a:lnTo>
                  <a:lnTo>
                    <a:pt x="71" y="2103"/>
                  </a:lnTo>
                  <a:lnTo>
                    <a:pt x="100" y="2178"/>
                  </a:lnTo>
                  <a:lnTo>
                    <a:pt x="134" y="2248"/>
                  </a:lnTo>
                  <a:lnTo>
                    <a:pt x="175" y="2312"/>
                  </a:lnTo>
                  <a:lnTo>
                    <a:pt x="218" y="2375"/>
                  </a:lnTo>
                  <a:lnTo>
                    <a:pt x="265" y="2425"/>
                  </a:lnTo>
                  <a:lnTo>
                    <a:pt x="314" y="2471"/>
                  </a:lnTo>
                  <a:lnTo>
                    <a:pt x="366" y="2515"/>
                  </a:lnTo>
                  <a:lnTo>
                    <a:pt x="424" y="2546"/>
                  </a:lnTo>
                  <a:lnTo>
                    <a:pt x="479" y="2572"/>
                  </a:lnTo>
                  <a:lnTo>
                    <a:pt x="538" y="2592"/>
                  </a:lnTo>
                  <a:lnTo>
                    <a:pt x="507" y="2580"/>
                  </a:lnTo>
                  <a:lnTo>
                    <a:pt x="476" y="2563"/>
                  </a:lnTo>
                  <a:lnTo>
                    <a:pt x="448" y="2537"/>
                  </a:lnTo>
                  <a:lnTo>
                    <a:pt x="425" y="2508"/>
                  </a:lnTo>
                  <a:lnTo>
                    <a:pt x="407" y="2471"/>
                  </a:lnTo>
                  <a:lnTo>
                    <a:pt x="389" y="2433"/>
                  </a:lnTo>
                  <a:lnTo>
                    <a:pt x="379" y="2390"/>
                  </a:lnTo>
                  <a:lnTo>
                    <a:pt x="377" y="2343"/>
                  </a:lnTo>
                  <a:lnTo>
                    <a:pt x="377" y="2297"/>
                  </a:lnTo>
                  <a:lnTo>
                    <a:pt x="381" y="2252"/>
                  </a:lnTo>
                  <a:lnTo>
                    <a:pt x="393" y="2214"/>
                  </a:lnTo>
                  <a:lnTo>
                    <a:pt x="409" y="2170"/>
                  </a:lnTo>
                  <a:lnTo>
                    <a:pt x="432" y="2135"/>
                  </a:lnTo>
                  <a:lnTo>
                    <a:pt x="456" y="2109"/>
                  </a:lnTo>
                  <a:lnTo>
                    <a:pt x="483" y="2086"/>
                  </a:lnTo>
                  <a:lnTo>
                    <a:pt x="513" y="2072"/>
                  </a:lnTo>
                  <a:lnTo>
                    <a:pt x="538" y="2063"/>
                  </a:lnTo>
                  <a:lnTo>
                    <a:pt x="2569" y="2063"/>
                  </a:lnTo>
                  <a:lnTo>
                    <a:pt x="2601" y="2054"/>
                  </a:lnTo>
                  <a:lnTo>
                    <a:pt x="2632" y="2034"/>
                  </a:lnTo>
                  <a:lnTo>
                    <a:pt x="2663" y="2007"/>
                  </a:lnTo>
                  <a:lnTo>
                    <a:pt x="2689" y="1973"/>
                  </a:lnTo>
                  <a:lnTo>
                    <a:pt x="2709" y="1935"/>
                  </a:lnTo>
                  <a:lnTo>
                    <a:pt x="2730" y="1895"/>
                  </a:lnTo>
                  <a:lnTo>
                    <a:pt x="2742" y="1848"/>
                  </a:lnTo>
                  <a:lnTo>
                    <a:pt x="2750" y="1800"/>
                  </a:lnTo>
                  <a:lnTo>
                    <a:pt x="2750" y="266"/>
                  </a:lnTo>
                  <a:lnTo>
                    <a:pt x="2742" y="218"/>
                  </a:lnTo>
                  <a:lnTo>
                    <a:pt x="2730" y="171"/>
                  </a:lnTo>
                  <a:lnTo>
                    <a:pt x="2711" y="130"/>
                  </a:lnTo>
                  <a:lnTo>
                    <a:pt x="2691" y="90"/>
                  </a:lnTo>
                  <a:lnTo>
                    <a:pt x="2663" y="58"/>
                  </a:lnTo>
                  <a:lnTo>
                    <a:pt x="2634" y="32"/>
                  </a:lnTo>
                  <a:lnTo>
                    <a:pt x="2601" y="12"/>
                  </a:lnTo>
                  <a:lnTo>
                    <a:pt x="2569" y="0"/>
                  </a:lnTo>
                  <a:lnTo>
                    <a:pt x="183" y="0"/>
                  </a:lnTo>
                </a:path>
              </a:pathLst>
            </a:custGeom>
            <a:solidFill>
              <a:srgbClr val="ccff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7"/>
            <p:cNvSpPr/>
            <p:nvPr/>
          </p:nvSpPr>
          <p:spPr>
            <a:xfrm>
              <a:off x="4732200" y="1579680"/>
              <a:ext cx="4195800" cy="173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64646"/>
                  </a:solidFill>
                  <a:latin typeface="Arial"/>
                </a:rPr>
                <a:t>Your poor scheduling sometimes requires me to rush order materials at a higher price, causing unfavorable price variances.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72" name="Object 2"/>
          <p:cNvGraphicFramePr/>
          <p:nvPr/>
        </p:nvGraphicFramePr>
        <p:xfrm>
          <a:off x="4794120" y="3886200"/>
          <a:ext cx="2292480" cy="24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4120" y="3886200"/>
                    <a:ext cx="229248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4" name="Object 3"/>
          <p:cNvGraphicFramePr/>
          <p:nvPr/>
        </p:nvGraphicFramePr>
        <p:xfrm>
          <a:off x="990720" y="4267080"/>
          <a:ext cx="3124080" cy="208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4267080"/>
                    <a:ext cx="3124080" cy="20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Rectangle 2"/>
          <p:cNvSpPr/>
          <p:nvPr/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  <a:ea typeface="Arial"/>
              </a:rPr>
              <a:t>Responsibility for Materials Variances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78" name="Text Box 8"/>
          <p:cNvSpPr/>
          <p:nvPr/>
        </p:nvSpPr>
        <p:spPr>
          <a:xfrm>
            <a:off x="973800" y="6238800"/>
            <a:ext cx="2923920" cy="459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Production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1"/>
          <p:cNvSpPr/>
          <p:nvPr/>
        </p:nvSpPr>
        <p:spPr>
          <a:xfrm>
            <a:off x="4657680" y="6248520"/>
            <a:ext cx="2990880" cy="459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Purchasing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262080" y="2247480"/>
            <a:ext cx="8610480" cy="384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65040" indent="0" algn="ctr">
              <a:lnSpc>
                <a:spcPct val="90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nson Inc. has the following direct materials standard to manufacture one Zipp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ctr">
              <a:lnSpc>
                <a:spcPct val="90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1.5 pounds per Zippy at $4.00 per p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ctr">
              <a:lnSpc>
                <a:spcPct val="90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1f28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st week, 1,700 pounds of materials were purchased and used to make 1,000 Zippies. The materials cost a total of $6,63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3"/>
          <p:cNvGrpSpPr/>
          <p:nvPr/>
        </p:nvGrpSpPr>
        <p:grpSpPr>
          <a:xfrm>
            <a:off x="7790040" y="496800"/>
            <a:ext cx="1201680" cy="1407960"/>
            <a:chOff x="7790040" y="496800"/>
            <a:chExt cx="1201680" cy="1407960"/>
          </a:xfrm>
        </p:grpSpPr>
        <p:grpSp>
          <p:nvGrpSpPr>
            <p:cNvPr id="382" name="Group 4"/>
            <p:cNvGrpSpPr/>
            <p:nvPr/>
          </p:nvGrpSpPr>
          <p:grpSpPr>
            <a:xfrm>
              <a:off x="7790040" y="496800"/>
              <a:ext cx="1028880" cy="1407960"/>
              <a:chOff x="7790040" y="496800"/>
              <a:chExt cx="1028880" cy="1407960"/>
            </a:xfrm>
          </p:grpSpPr>
          <p:grpSp>
            <p:nvGrpSpPr>
              <p:cNvPr id="383" name="Group 5"/>
              <p:cNvGrpSpPr/>
              <p:nvPr/>
            </p:nvGrpSpPr>
            <p:grpSpPr>
              <a:xfrm>
                <a:off x="7790040" y="576360"/>
                <a:ext cx="138240" cy="1250640"/>
                <a:chOff x="7790040" y="576360"/>
                <a:chExt cx="138240" cy="1250640"/>
              </a:xfrm>
            </p:grpSpPr>
            <p:sp>
              <p:nvSpPr>
                <p:cNvPr id="384" name="Freeform 6"/>
                <p:cNvSpPr/>
                <p:nvPr/>
              </p:nvSpPr>
              <p:spPr>
                <a:xfrm>
                  <a:off x="7790040" y="576360"/>
                  <a:ext cx="138240" cy="1250640"/>
                </a:xfrm>
                <a:custGeom>
                  <a:avLst/>
                  <a:gdLst>
                    <a:gd name="textAreaLeft" fmla="*/ 0 w 138240"/>
                    <a:gd name="textAreaRight" fmla="*/ 138600 w 138240"/>
                    <a:gd name="textAreaTop" fmla="*/ 0 h 1250640"/>
                    <a:gd name="textAreaBottom" fmla="*/ 1251000 h 1250640"/>
                  </a:gdLst>
                  <a:ahLst/>
                  <a:rect l="textAreaLeft" t="textAreaTop" r="textAreaRight" b="textAreaBottom"/>
                  <a:pathLst>
                    <a:path w="261" h="2363">
                      <a:moveTo>
                        <a:pt x="111" y="0"/>
                      </a:moveTo>
                      <a:lnTo>
                        <a:pt x="0" y="262"/>
                      </a:lnTo>
                      <a:lnTo>
                        <a:pt x="0" y="2100"/>
                      </a:lnTo>
                      <a:lnTo>
                        <a:pt x="149" y="2363"/>
                      </a:lnTo>
                      <a:lnTo>
                        <a:pt x="261" y="2100"/>
                      </a:lnTo>
                      <a:lnTo>
                        <a:pt x="261" y="226"/>
                      </a:lnTo>
                      <a:lnTo>
                        <a:pt x="111" y="0"/>
                      </a:lnTo>
                      <a:close/>
                    </a:path>
                  </a:pathLst>
                </a:custGeom>
                <a:solidFill>
                  <a:srgbClr val="9f9fb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Freeform 7"/>
                <p:cNvSpPr/>
                <p:nvPr/>
              </p:nvSpPr>
              <p:spPr>
                <a:xfrm>
                  <a:off x="7790040" y="576360"/>
                  <a:ext cx="119160" cy="125064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250640"/>
                    <a:gd name="textAreaBottom" fmla="*/ 1251000 h 1250640"/>
                  </a:gdLst>
                  <a:ahLst/>
                  <a:rect l="textAreaLeft" t="textAreaTop" r="textAreaRight" b="textAreaBottom"/>
                  <a:pathLst>
                    <a:path w="225" h="2363">
                      <a:moveTo>
                        <a:pt x="111" y="0"/>
                      </a:moveTo>
                      <a:lnTo>
                        <a:pt x="185" y="112"/>
                      </a:lnTo>
                      <a:lnTo>
                        <a:pt x="111" y="262"/>
                      </a:lnTo>
                      <a:lnTo>
                        <a:pt x="111" y="1988"/>
                      </a:lnTo>
                      <a:lnTo>
                        <a:pt x="225" y="2213"/>
                      </a:lnTo>
                      <a:lnTo>
                        <a:pt x="149" y="2363"/>
                      </a:lnTo>
                      <a:lnTo>
                        <a:pt x="0" y="2100"/>
                      </a:lnTo>
                      <a:lnTo>
                        <a:pt x="0" y="262"/>
                      </a:lnTo>
                      <a:lnTo>
                        <a:pt x="111" y="0"/>
                      </a:lnTo>
                      <a:close/>
                    </a:path>
                  </a:pathLst>
                </a:custGeom>
                <a:solidFill>
                  <a:srgbClr val="bfbfd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6" name="Group 8"/>
              <p:cNvGrpSpPr/>
              <p:nvPr/>
            </p:nvGrpSpPr>
            <p:grpSpPr>
              <a:xfrm>
                <a:off x="7809120" y="496800"/>
                <a:ext cx="1009800" cy="1407960"/>
                <a:chOff x="7809120" y="496800"/>
                <a:chExt cx="1009800" cy="1407960"/>
              </a:xfrm>
            </p:grpSpPr>
            <p:sp>
              <p:nvSpPr>
                <p:cNvPr id="387" name="Freeform 9"/>
                <p:cNvSpPr/>
                <p:nvPr/>
              </p:nvSpPr>
              <p:spPr>
                <a:xfrm>
                  <a:off x="7809120" y="496800"/>
                  <a:ext cx="969840" cy="79560"/>
                </a:xfrm>
                <a:custGeom>
                  <a:avLst/>
                  <a:gdLst>
                    <a:gd name="textAreaLeft" fmla="*/ 0 w 969840"/>
                    <a:gd name="textAreaRight" fmla="*/ 970200 w 969840"/>
                    <a:gd name="textAreaTop" fmla="*/ 0 h 79560"/>
                    <a:gd name="textAreaBottom" fmla="*/ 79920 h 79560"/>
                  </a:gdLst>
                  <a:ahLst/>
                  <a:rect l="textAreaLeft" t="textAreaTop" r="textAreaRight" b="textAreaBottom"/>
                  <a:pathLst>
                    <a:path w="1834" h="149">
                      <a:moveTo>
                        <a:pt x="75" y="149"/>
                      </a:moveTo>
                      <a:lnTo>
                        <a:pt x="0" y="0"/>
                      </a:lnTo>
                      <a:lnTo>
                        <a:pt x="1834" y="0"/>
                      </a:lnTo>
                      <a:lnTo>
                        <a:pt x="1760" y="149"/>
                      </a:lnTo>
                      <a:lnTo>
                        <a:pt x="75" y="149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Freeform 10"/>
                <p:cNvSpPr/>
                <p:nvPr/>
              </p:nvSpPr>
              <p:spPr>
                <a:xfrm>
                  <a:off x="7829640" y="1827000"/>
                  <a:ext cx="970200" cy="77760"/>
                </a:xfrm>
                <a:custGeom>
                  <a:avLst/>
                  <a:gdLst>
                    <a:gd name="textAreaLeft" fmla="*/ 0 w 970200"/>
                    <a:gd name="textAreaRight" fmla="*/ 970560 w 970200"/>
                    <a:gd name="textAreaTop" fmla="*/ 0 h 77760"/>
                    <a:gd name="textAreaBottom" fmla="*/ 78120 h 77760"/>
                  </a:gdLst>
                  <a:ahLst/>
                  <a:rect l="textAreaLeft" t="textAreaTop" r="textAreaRight" b="textAreaBottom"/>
                  <a:pathLst>
                    <a:path w="1834" h="149">
                      <a:moveTo>
                        <a:pt x="75" y="0"/>
                      </a:moveTo>
                      <a:lnTo>
                        <a:pt x="1722" y="0"/>
                      </a:lnTo>
                      <a:lnTo>
                        <a:pt x="1834" y="113"/>
                      </a:lnTo>
                      <a:lnTo>
                        <a:pt x="1760" y="149"/>
                      </a:lnTo>
                      <a:lnTo>
                        <a:pt x="0" y="149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solidFill>
                  <a:srgbClr val="9f9fb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Freeform 11"/>
                <p:cNvSpPr/>
                <p:nvPr/>
              </p:nvSpPr>
              <p:spPr>
                <a:xfrm>
                  <a:off x="7848720" y="576360"/>
                  <a:ext cx="970200" cy="1250640"/>
                </a:xfrm>
                <a:custGeom>
                  <a:avLst/>
                  <a:gdLst>
                    <a:gd name="textAreaLeft" fmla="*/ 0 w 970200"/>
                    <a:gd name="textAreaRight" fmla="*/ 970560 w 970200"/>
                    <a:gd name="textAreaTop" fmla="*/ 0 h 1250640"/>
                    <a:gd name="textAreaBottom" fmla="*/ 1251000 h 1250640"/>
                  </a:gdLst>
                  <a:ahLst/>
                  <a:rect l="textAreaLeft" t="textAreaTop" r="textAreaRight" b="textAreaBottom"/>
                  <a:pathLst>
                    <a:path w="1834" h="2363">
                      <a:moveTo>
                        <a:pt x="38" y="2363"/>
                      </a:moveTo>
                      <a:lnTo>
                        <a:pt x="1685" y="2363"/>
                      </a:lnTo>
                      <a:lnTo>
                        <a:pt x="1834" y="2100"/>
                      </a:lnTo>
                      <a:lnTo>
                        <a:pt x="1834" y="226"/>
                      </a:lnTo>
                      <a:lnTo>
                        <a:pt x="1685" y="0"/>
                      </a:lnTo>
                      <a:lnTo>
                        <a:pt x="0" y="0"/>
                      </a:lnTo>
                      <a:lnTo>
                        <a:pt x="150" y="226"/>
                      </a:lnTo>
                      <a:lnTo>
                        <a:pt x="150" y="2100"/>
                      </a:lnTo>
                      <a:lnTo>
                        <a:pt x="38" y="2363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Rectangle 12"/>
                <p:cNvSpPr/>
                <p:nvPr/>
              </p:nvSpPr>
              <p:spPr>
                <a:xfrm>
                  <a:off x="7929720" y="974520"/>
                  <a:ext cx="887400" cy="254160"/>
                </a:xfrm>
                <a:prstGeom prst="rect">
                  <a:avLst/>
                </a:prstGeom>
                <a:solidFill>
                  <a:srgbClr val="ff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Freeform 13"/>
                <p:cNvSpPr/>
                <p:nvPr/>
              </p:nvSpPr>
              <p:spPr>
                <a:xfrm>
                  <a:off x="7869600" y="1687320"/>
                  <a:ext cx="949320" cy="139680"/>
                </a:xfrm>
                <a:custGeom>
                  <a:avLst/>
                  <a:gdLst>
                    <a:gd name="textAreaLeft" fmla="*/ 0 w 949320"/>
                    <a:gd name="textAreaRight" fmla="*/ 949680 w 949320"/>
                    <a:gd name="textAreaTop" fmla="*/ 0 h 139680"/>
                    <a:gd name="textAreaBottom" fmla="*/ 140040 h 139680"/>
                  </a:gdLst>
                  <a:ahLst/>
                  <a:rect l="textAreaLeft" t="textAreaTop" r="textAreaRight" b="textAreaBottom"/>
                  <a:pathLst>
                    <a:path w="1796" h="263">
                      <a:moveTo>
                        <a:pt x="112" y="0"/>
                      </a:moveTo>
                      <a:lnTo>
                        <a:pt x="0" y="263"/>
                      </a:lnTo>
                      <a:lnTo>
                        <a:pt x="1647" y="263"/>
                      </a:lnTo>
                      <a:lnTo>
                        <a:pt x="1796" y="0"/>
                      </a:lnTo>
                      <a:lnTo>
                        <a:pt x="112" y="0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2" name="Rectangle 14"/>
            <p:cNvSpPr/>
            <p:nvPr/>
          </p:nvSpPr>
          <p:spPr>
            <a:xfrm>
              <a:off x="8004240" y="922320"/>
              <a:ext cx="987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Zipp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Quick Check </a:t>
            </a:r>
            <a:r>
              <a:rPr b="0" lang="en-US" sz="4000" spc="-1" strike="noStrike">
                <a:solidFill>
                  <a:srgbClr val="464646"/>
                </a:solidFill>
                <a:latin typeface="Wingdings"/>
                <a:ea typeface="Wingdings"/>
              </a:rPr>
              <a:t>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609480" y="2243160"/>
            <a:ext cx="7925040" cy="3395520"/>
          </a:xfrm>
          <a:prstGeom prst="rect">
            <a:avLst/>
          </a:prstGeom>
          <a:solidFill>
            <a:srgbClr val="d4dfef"/>
          </a:solidFill>
          <a:ln w="284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ow many pounds of materials should Hanson have used to make 1,000 Zipp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,700 p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,500 p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,200 p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,000 p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3"/>
          <p:cNvGrpSpPr/>
          <p:nvPr/>
        </p:nvGrpSpPr>
        <p:grpSpPr>
          <a:xfrm>
            <a:off x="7790040" y="496800"/>
            <a:ext cx="1201680" cy="1407960"/>
            <a:chOff x="7790040" y="496800"/>
            <a:chExt cx="1201680" cy="1407960"/>
          </a:xfrm>
        </p:grpSpPr>
        <p:grpSp>
          <p:nvGrpSpPr>
            <p:cNvPr id="396" name="Group 4"/>
            <p:cNvGrpSpPr/>
            <p:nvPr/>
          </p:nvGrpSpPr>
          <p:grpSpPr>
            <a:xfrm>
              <a:off x="7790040" y="496800"/>
              <a:ext cx="1028880" cy="1407960"/>
              <a:chOff x="7790040" y="496800"/>
              <a:chExt cx="1028880" cy="1407960"/>
            </a:xfrm>
          </p:grpSpPr>
          <p:grpSp>
            <p:nvGrpSpPr>
              <p:cNvPr id="397" name="Group 5"/>
              <p:cNvGrpSpPr/>
              <p:nvPr/>
            </p:nvGrpSpPr>
            <p:grpSpPr>
              <a:xfrm>
                <a:off x="7790040" y="576360"/>
                <a:ext cx="138240" cy="1250640"/>
                <a:chOff x="7790040" y="576360"/>
                <a:chExt cx="138240" cy="1250640"/>
              </a:xfrm>
            </p:grpSpPr>
            <p:sp>
              <p:nvSpPr>
                <p:cNvPr id="398" name="Freeform 6"/>
                <p:cNvSpPr/>
                <p:nvPr/>
              </p:nvSpPr>
              <p:spPr>
                <a:xfrm>
                  <a:off x="7790040" y="576360"/>
                  <a:ext cx="138240" cy="1250640"/>
                </a:xfrm>
                <a:custGeom>
                  <a:avLst/>
                  <a:gdLst>
                    <a:gd name="textAreaLeft" fmla="*/ 0 w 138240"/>
                    <a:gd name="textAreaRight" fmla="*/ 138600 w 138240"/>
                    <a:gd name="textAreaTop" fmla="*/ 0 h 1250640"/>
                    <a:gd name="textAreaBottom" fmla="*/ 1251000 h 1250640"/>
                  </a:gdLst>
                  <a:ahLst/>
                  <a:rect l="textAreaLeft" t="textAreaTop" r="textAreaRight" b="textAreaBottom"/>
                  <a:pathLst>
                    <a:path w="261" h="2363">
                      <a:moveTo>
                        <a:pt x="111" y="0"/>
                      </a:moveTo>
                      <a:lnTo>
                        <a:pt x="0" y="262"/>
                      </a:lnTo>
                      <a:lnTo>
                        <a:pt x="0" y="2100"/>
                      </a:lnTo>
                      <a:lnTo>
                        <a:pt x="149" y="2363"/>
                      </a:lnTo>
                      <a:lnTo>
                        <a:pt x="261" y="2100"/>
                      </a:lnTo>
                      <a:lnTo>
                        <a:pt x="261" y="226"/>
                      </a:lnTo>
                      <a:lnTo>
                        <a:pt x="111" y="0"/>
                      </a:lnTo>
                      <a:close/>
                    </a:path>
                  </a:pathLst>
                </a:custGeom>
                <a:solidFill>
                  <a:srgbClr val="9f9fb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Freeform 7"/>
                <p:cNvSpPr/>
                <p:nvPr/>
              </p:nvSpPr>
              <p:spPr>
                <a:xfrm>
                  <a:off x="7790040" y="576360"/>
                  <a:ext cx="119160" cy="125064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250640"/>
                    <a:gd name="textAreaBottom" fmla="*/ 1251000 h 1250640"/>
                  </a:gdLst>
                  <a:ahLst/>
                  <a:rect l="textAreaLeft" t="textAreaTop" r="textAreaRight" b="textAreaBottom"/>
                  <a:pathLst>
                    <a:path w="225" h="2363">
                      <a:moveTo>
                        <a:pt x="111" y="0"/>
                      </a:moveTo>
                      <a:lnTo>
                        <a:pt x="185" y="112"/>
                      </a:lnTo>
                      <a:lnTo>
                        <a:pt x="111" y="262"/>
                      </a:lnTo>
                      <a:lnTo>
                        <a:pt x="111" y="1988"/>
                      </a:lnTo>
                      <a:lnTo>
                        <a:pt x="225" y="2213"/>
                      </a:lnTo>
                      <a:lnTo>
                        <a:pt x="149" y="2363"/>
                      </a:lnTo>
                      <a:lnTo>
                        <a:pt x="0" y="2100"/>
                      </a:lnTo>
                      <a:lnTo>
                        <a:pt x="0" y="262"/>
                      </a:lnTo>
                      <a:lnTo>
                        <a:pt x="111" y="0"/>
                      </a:lnTo>
                      <a:close/>
                    </a:path>
                  </a:pathLst>
                </a:custGeom>
                <a:solidFill>
                  <a:srgbClr val="bfbfd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0" name="Group 8"/>
              <p:cNvGrpSpPr/>
              <p:nvPr/>
            </p:nvGrpSpPr>
            <p:grpSpPr>
              <a:xfrm>
                <a:off x="7809120" y="496800"/>
                <a:ext cx="1009800" cy="1407960"/>
                <a:chOff x="7809120" y="496800"/>
                <a:chExt cx="1009800" cy="1407960"/>
              </a:xfrm>
            </p:grpSpPr>
            <p:sp>
              <p:nvSpPr>
                <p:cNvPr id="401" name="Freeform 9"/>
                <p:cNvSpPr/>
                <p:nvPr/>
              </p:nvSpPr>
              <p:spPr>
                <a:xfrm>
                  <a:off x="7809120" y="496800"/>
                  <a:ext cx="969840" cy="79560"/>
                </a:xfrm>
                <a:custGeom>
                  <a:avLst/>
                  <a:gdLst>
                    <a:gd name="textAreaLeft" fmla="*/ 0 w 969840"/>
                    <a:gd name="textAreaRight" fmla="*/ 970200 w 969840"/>
                    <a:gd name="textAreaTop" fmla="*/ 0 h 79560"/>
                    <a:gd name="textAreaBottom" fmla="*/ 79920 h 79560"/>
                  </a:gdLst>
                  <a:ahLst/>
                  <a:rect l="textAreaLeft" t="textAreaTop" r="textAreaRight" b="textAreaBottom"/>
                  <a:pathLst>
                    <a:path w="1834" h="149">
                      <a:moveTo>
                        <a:pt x="75" y="149"/>
                      </a:moveTo>
                      <a:lnTo>
                        <a:pt x="0" y="0"/>
                      </a:lnTo>
                      <a:lnTo>
                        <a:pt x="1834" y="0"/>
                      </a:lnTo>
                      <a:lnTo>
                        <a:pt x="1760" y="149"/>
                      </a:lnTo>
                      <a:lnTo>
                        <a:pt x="75" y="149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Freeform 10"/>
                <p:cNvSpPr/>
                <p:nvPr/>
              </p:nvSpPr>
              <p:spPr>
                <a:xfrm>
                  <a:off x="7829640" y="1827000"/>
                  <a:ext cx="970200" cy="77760"/>
                </a:xfrm>
                <a:custGeom>
                  <a:avLst/>
                  <a:gdLst>
                    <a:gd name="textAreaLeft" fmla="*/ 0 w 970200"/>
                    <a:gd name="textAreaRight" fmla="*/ 970560 w 970200"/>
                    <a:gd name="textAreaTop" fmla="*/ 0 h 77760"/>
                    <a:gd name="textAreaBottom" fmla="*/ 78120 h 77760"/>
                  </a:gdLst>
                  <a:ahLst/>
                  <a:rect l="textAreaLeft" t="textAreaTop" r="textAreaRight" b="textAreaBottom"/>
                  <a:pathLst>
                    <a:path w="1834" h="149">
                      <a:moveTo>
                        <a:pt x="75" y="0"/>
                      </a:moveTo>
                      <a:lnTo>
                        <a:pt x="1722" y="0"/>
                      </a:lnTo>
                      <a:lnTo>
                        <a:pt x="1834" y="113"/>
                      </a:lnTo>
                      <a:lnTo>
                        <a:pt x="1760" y="149"/>
                      </a:lnTo>
                      <a:lnTo>
                        <a:pt x="0" y="149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solidFill>
                  <a:srgbClr val="9f9fb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Freeform 11"/>
                <p:cNvSpPr/>
                <p:nvPr/>
              </p:nvSpPr>
              <p:spPr>
                <a:xfrm>
                  <a:off x="7848720" y="576360"/>
                  <a:ext cx="970200" cy="1250640"/>
                </a:xfrm>
                <a:custGeom>
                  <a:avLst/>
                  <a:gdLst>
                    <a:gd name="textAreaLeft" fmla="*/ 0 w 970200"/>
                    <a:gd name="textAreaRight" fmla="*/ 970560 w 970200"/>
                    <a:gd name="textAreaTop" fmla="*/ 0 h 1250640"/>
                    <a:gd name="textAreaBottom" fmla="*/ 1251000 h 1250640"/>
                  </a:gdLst>
                  <a:ahLst/>
                  <a:rect l="textAreaLeft" t="textAreaTop" r="textAreaRight" b="textAreaBottom"/>
                  <a:pathLst>
                    <a:path w="1834" h="2363">
                      <a:moveTo>
                        <a:pt x="38" y="2363"/>
                      </a:moveTo>
                      <a:lnTo>
                        <a:pt x="1685" y="2363"/>
                      </a:lnTo>
                      <a:lnTo>
                        <a:pt x="1834" y="2100"/>
                      </a:lnTo>
                      <a:lnTo>
                        <a:pt x="1834" y="226"/>
                      </a:lnTo>
                      <a:lnTo>
                        <a:pt x="1685" y="0"/>
                      </a:lnTo>
                      <a:lnTo>
                        <a:pt x="0" y="0"/>
                      </a:lnTo>
                      <a:lnTo>
                        <a:pt x="150" y="226"/>
                      </a:lnTo>
                      <a:lnTo>
                        <a:pt x="150" y="2100"/>
                      </a:lnTo>
                      <a:lnTo>
                        <a:pt x="38" y="2363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Rectangle 12"/>
                <p:cNvSpPr/>
                <p:nvPr/>
              </p:nvSpPr>
              <p:spPr>
                <a:xfrm>
                  <a:off x="7929720" y="974520"/>
                  <a:ext cx="887400" cy="254160"/>
                </a:xfrm>
                <a:prstGeom prst="rect">
                  <a:avLst/>
                </a:prstGeom>
                <a:solidFill>
                  <a:srgbClr val="ff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Freeform 13"/>
                <p:cNvSpPr/>
                <p:nvPr/>
              </p:nvSpPr>
              <p:spPr>
                <a:xfrm>
                  <a:off x="7869600" y="1687320"/>
                  <a:ext cx="949320" cy="139680"/>
                </a:xfrm>
                <a:custGeom>
                  <a:avLst/>
                  <a:gdLst>
                    <a:gd name="textAreaLeft" fmla="*/ 0 w 949320"/>
                    <a:gd name="textAreaRight" fmla="*/ 949680 w 949320"/>
                    <a:gd name="textAreaTop" fmla="*/ 0 h 139680"/>
                    <a:gd name="textAreaBottom" fmla="*/ 140040 h 139680"/>
                  </a:gdLst>
                  <a:ahLst/>
                  <a:rect l="textAreaLeft" t="textAreaTop" r="textAreaRight" b="textAreaBottom"/>
                  <a:pathLst>
                    <a:path w="1796" h="263">
                      <a:moveTo>
                        <a:pt x="112" y="0"/>
                      </a:moveTo>
                      <a:lnTo>
                        <a:pt x="0" y="263"/>
                      </a:lnTo>
                      <a:lnTo>
                        <a:pt x="1647" y="263"/>
                      </a:lnTo>
                      <a:lnTo>
                        <a:pt x="1796" y="0"/>
                      </a:lnTo>
                      <a:lnTo>
                        <a:pt x="112" y="0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06" name="Rectangle 14"/>
            <p:cNvSpPr/>
            <p:nvPr/>
          </p:nvSpPr>
          <p:spPr>
            <a:xfrm>
              <a:off x="8004240" y="922320"/>
              <a:ext cx="987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Zipp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Quick Check </a:t>
            </a:r>
            <a:r>
              <a:rPr b="0" lang="en-US" sz="4000" spc="-1" strike="noStrike">
                <a:solidFill>
                  <a:srgbClr val="464646"/>
                </a:solidFill>
                <a:latin typeface="Wingdings"/>
                <a:ea typeface="Wingdings"/>
              </a:rPr>
              <a:t>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Group 3"/>
          <p:cNvGrpSpPr/>
          <p:nvPr/>
        </p:nvGrpSpPr>
        <p:grpSpPr>
          <a:xfrm>
            <a:off x="7790040" y="496800"/>
            <a:ext cx="1201680" cy="1407960"/>
            <a:chOff x="7790040" y="496800"/>
            <a:chExt cx="1201680" cy="1407960"/>
          </a:xfrm>
        </p:grpSpPr>
        <p:grpSp>
          <p:nvGrpSpPr>
            <p:cNvPr id="409" name="Group 4"/>
            <p:cNvGrpSpPr/>
            <p:nvPr/>
          </p:nvGrpSpPr>
          <p:grpSpPr>
            <a:xfrm>
              <a:off x="7790040" y="496800"/>
              <a:ext cx="1028880" cy="1407960"/>
              <a:chOff x="7790040" y="496800"/>
              <a:chExt cx="1028880" cy="1407960"/>
            </a:xfrm>
          </p:grpSpPr>
          <p:grpSp>
            <p:nvGrpSpPr>
              <p:cNvPr id="410" name="Group 5"/>
              <p:cNvGrpSpPr/>
              <p:nvPr/>
            </p:nvGrpSpPr>
            <p:grpSpPr>
              <a:xfrm>
                <a:off x="7790040" y="576360"/>
                <a:ext cx="138240" cy="1250640"/>
                <a:chOff x="7790040" y="576360"/>
                <a:chExt cx="138240" cy="1250640"/>
              </a:xfrm>
            </p:grpSpPr>
            <p:sp>
              <p:nvSpPr>
                <p:cNvPr id="411" name="Freeform 6"/>
                <p:cNvSpPr/>
                <p:nvPr/>
              </p:nvSpPr>
              <p:spPr>
                <a:xfrm>
                  <a:off x="7790040" y="576360"/>
                  <a:ext cx="138240" cy="1250640"/>
                </a:xfrm>
                <a:custGeom>
                  <a:avLst/>
                  <a:gdLst>
                    <a:gd name="textAreaLeft" fmla="*/ 0 w 138240"/>
                    <a:gd name="textAreaRight" fmla="*/ 138600 w 138240"/>
                    <a:gd name="textAreaTop" fmla="*/ 0 h 1250640"/>
                    <a:gd name="textAreaBottom" fmla="*/ 1251000 h 1250640"/>
                  </a:gdLst>
                  <a:ahLst/>
                  <a:rect l="textAreaLeft" t="textAreaTop" r="textAreaRight" b="textAreaBottom"/>
                  <a:pathLst>
                    <a:path w="261" h="2363">
                      <a:moveTo>
                        <a:pt x="111" y="0"/>
                      </a:moveTo>
                      <a:lnTo>
                        <a:pt x="0" y="262"/>
                      </a:lnTo>
                      <a:lnTo>
                        <a:pt x="0" y="2100"/>
                      </a:lnTo>
                      <a:lnTo>
                        <a:pt x="149" y="2363"/>
                      </a:lnTo>
                      <a:lnTo>
                        <a:pt x="261" y="2100"/>
                      </a:lnTo>
                      <a:lnTo>
                        <a:pt x="261" y="226"/>
                      </a:lnTo>
                      <a:lnTo>
                        <a:pt x="111" y="0"/>
                      </a:lnTo>
                      <a:close/>
                    </a:path>
                  </a:pathLst>
                </a:custGeom>
                <a:solidFill>
                  <a:srgbClr val="9f9fb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Freeform 7"/>
                <p:cNvSpPr/>
                <p:nvPr/>
              </p:nvSpPr>
              <p:spPr>
                <a:xfrm>
                  <a:off x="7790040" y="576360"/>
                  <a:ext cx="119160" cy="125064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250640"/>
                    <a:gd name="textAreaBottom" fmla="*/ 1251000 h 1250640"/>
                  </a:gdLst>
                  <a:ahLst/>
                  <a:rect l="textAreaLeft" t="textAreaTop" r="textAreaRight" b="textAreaBottom"/>
                  <a:pathLst>
                    <a:path w="225" h="2363">
                      <a:moveTo>
                        <a:pt x="111" y="0"/>
                      </a:moveTo>
                      <a:lnTo>
                        <a:pt x="185" y="112"/>
                      </a:lnTo>
                      <a:lnTo>
                        <a:pt x="111" y="262"/>
                      </a:lnTo>
                      <a:lnTo>
                        <a:pt x="111" y="1988"/>
                      </a:lnTo>
                      <a:lnTo>
                        <a:pt x="225" y="2213"/>
                      </a:lnTo>
                      <a:lnTo>
                        <a:pt x="149" y="2363"/>
                      </a:lnTo>
                      <a:lnTo>
                        <a:pt x="0" y="2100"/>
                      </a:lnTo>
                      <a:lnTo>
                        <a:pt x="0" y="262"/>
                      </a:lnTo>
                      <a:lnTo>
                        <a:pt x="111" y="0"/>
                      </a:lnTo>
                      <a:close/>
                    </a:path>
                  </a:pathLst>
                </a:custGeom>
                <a:solidFill>
                  <a:srgbClr val="bfbfd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3" name="Group 8"/>
              <p:cNvGrpSpPr/>
              <p:nvPr/>
            </p:nvGrpSpPr>
            <p:grpSpPr>
              <a:xfrm>
                <a:off x="7809120" y="496800"/>
                <a:ext cx="1009800" cy="1407960"/>
                <a:chOff x="7809120" y="496800"/>
                <a:chExt cx="1009800" cy="1407960"/>
              </a:xfrm>
            </p:grpSpPr>
            <p:sp>
              <p:nvSpPr>
                <p:cNvPr id="414" name="Freeform 9"/>
                <p:cNvSpPr/>
                <p:nvPr/>
              </p:nvSpPr>
              <p:spPr>
                <a:xfrm>
                  <a:off x="7809120" y="496800"/>
                  <a:ext cx="969840" cy="79560"/>
                </a:xfrm>
                <a:custGeom>
                  <a:avLst/>
                  <a:gdLst>
                    <a:gd name="textAreaLeft" fmla="*/ 0 w 969840"/>
                    <a:gd name="textAreaRight" fmla="*/ 970200 w 969840"/>
                    <a:gd name="textAreaTop" fmla="*/ 0 h 79560"/>
                    <a:gd name="textAreaBottom" fmla="*/ 79920 h 79560"/>
                  </a:gdLst>
                  <a:ahLst/>
                  <a:rect l="textAreaLeft" t="textAreaTop" r="textAreaRight" b="textAreaBottom"/>
                  <a:pathLst>
                    <a:path w="1834" h="149">
                      <a:moveTo>
                        <a:pt x="75" y="149"/>
                      </a:moveTo>
                      <a:lnTo>
                        <a:pt x="0" y="0"/>
                      </a:lnTo>
                      <a:lnTo>
                        <a:pt x="1834" y="0"/>
                      </a:lnTo>
                      <a:lnTo>
                        <a:pt x="1760" y="149"/>
                      </a:lnTo>
                      <a:lnTo>
                        <a:pt x="75" y="149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Freeform 10"/>
                <p:cNvSpPr/>
                <p:nvPr/>
              </p:nvSpPr>
              <p:spPr>
                <a:xfrm>
                  <a:off x="7829640" y="1827000"/>
                  <a:ext cx="970200" cy="77760"/>
                </a:xfrm>
                <a:custGeom>
                  <a:avLst/>
                  <a:gdLst>
                    <a:gd name="textAreaLeft" fmla="*/ 0 w 970200"/>
                    <a:gd name="textAreaRight" fmla="*/ 970560 w 970200"/>
                    <a:gd name="textAreaTop" fmla="*/ 0 h 77760"/>
                    <a:gd name="textAreaBottom" fmla="*/ 78120 h 77760"/>
                  </a:gdLst>
                  <a:ahLst/>
                  <a:rect l="textAreaLeft" t="textAreaTop" r="textAreaRight" b="textAreaBottom"/>
                  <a:pathLst>
                    <a:path w="1834" h="149">
                      <a:moveTo>
                        <a:pt x="75" y="0"/>
                      </a:moveTo>
                      <a:lnTo>
                        <a:pt x="1722" y="0"/>
                      </a:lnTo>
                      <a:lnTo>
                        <a:pt x="1834" y="113"/>
                      </a:lnTo>
                      <a:lnTo>
                        <a:pt x="1760" y="149"/>
                      </a:lnTo>
                      <a:lnTo>
                        <a:pt x="0" y="149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solidFill>
                  <a:srgbClr val="9f9fb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Freeform 11"/>
                <p:cNvSpPr/>
                <p:nvPr/>
              </p:nvSpPr>
              <p:spPr>
                <a:xfrm>
                  <a:off x="7848720" y="576360"/>
                  <a:ext cx="970200" cy="1250640"/>
                </a:xfrm>
                <a:custGeom>
                  <a:avLst/>
                  <a:gdLst>
                    <a:gd name="textAreaLeft" fmla="*/ 0 w 970200"/>
                    <a:gd name="textAreaRight" fmla="*/ 970560 w 970200"/>
                    <a:gd name="textAreaTop" fmla="*/ 0 h 1250640"/>
                    <a:gd name="textAreaBottom" fmla="*/ 1251000 h 1250640"/>
                  </a:gdLst>
                  <a:ahLst/>
                  <a:rect l="textAreaLeft" t="textAreaTop" r="textAreaRight" b="textAreaBottom"/>
                  <a:pathLst>
                    <a:path w="1834" h="2363">
                      <a:moveTo>
                        <a:pt x="38" y="2363"/>
                      </a:moveTo>
                      <a:lnTo>
                        <a:pt x="1685" y="2363"/>
                      </a:lnTo>
                      <a:lnTo>
                        <a:pt x="1834" y="2100"/>
                      </a:lnTo>
                      <a:lnTo>
                        <a:pt x="1834" y="226"/>
                      </a:lnTo>
                      <a:lnTo>
                        <a:pt x="1685" y="0"/>
                      </a:lnTo>
                      <a:lnTo>
                        <a:pt x="0" y="0"/>
                      </a:lnTo>
                      <a:lnTo>
                        <a:pt x="150" y="226"/>
                      </a:lnTo>
                      <a:lnTo>
                        <a:pt x="150" y="2100"/>
                      </a:lnTo>
                      <a:lnTo>
                        <a:pt x="38" y="2363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Rectangle 12"/>
                <p:cNvSpPr/>
                <p:nvPr/>
              </p:nvSpPr>
              <p:spPr>
                <a:xfrm>
                  <a:off x="7929720" y="974520"/>
                  <a:ext cx="887400" cy="254160"/>
                </a:xfrm>
                <a:prstGeom prst="rect">
                  <a:avLst/>
                </a:prstGeom>
                <a:solidFill>
                  <a:srgbClr val="ff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13"/>
                <p:cNvSpPr/>
                <p:nvPr/>
              </p:nvSpPr>
              <p:spPr>
                <a:xfrm>
                  <a:off x="7869600" y="1687320"/>
                  <a:ext cx="949320" cy="139680"/>
                </a:xfrm>
                <a:custGeom>
                  <a:avLst/>
                  <a:gdLst>
                    <a:gd name="textAreaLeft" fmla="*/ 0 w 949320"/>
                    <a:gd name="textAreaRight" fmla="*/ 949680 w 949320"/>
                    <a:gd name="textAreaTop" fmla="*/ 0 h 139680"/>
                    <a:gd name="textAreaBottom" fmla="*/ 140040 h 139680"/>
                  </a:gdLst>
                  <a:ahLst/>
                  <a:rect l="textAreaLeft" t="textAreaTop" r="textAreaRight" b="textAreaBottom"/>
                  <a:pathLst>
                    <a:path w="1796" h="263">
                      <a:moveTo>
                        <a:pt x="112" y="0"/>
                      </a:moveTo>
                      <a:lnTo>
                        <a:pt x="0" y="263"/>
                      </a:lnTo>
                      <a:lnTo>
                        <a:pt x="1647" y="263"/>
                      </a:lnTo>
                      <a:lnTo>
                        <a:pt x="1796" y="0"/>
                      </a:lnTo>
                      <a:lnTo>
                        <a:pt x="112" y="0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19" name="Rectangle 14"/>
            <p:cNvSpPr/>
            <p:nvPr/>
          </p:nvSpPr>
          <p:spPr>
            <a:xfrm>
              <a:off x="8004240" y="922320"/>
              <a:ext cx="987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Zipp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Quick Check </a:t>
            </a:r>
            <a:r>
              <a:rPr b="0" lang="en-US" sz="4000" spc="-1" strike="noStrike">
                <a:solidFill>
                  <a:srgbClr val="464646"/>
                </a:solidFill>
                <a:latin typeface="Wingdings"/>
                <a:ea typeface="Wingdings"/>
              </a:rPr>
              <a:t>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09480" y="2243160"/>
            <a:ext cx="7925040" cy="3395520"/>
          </a:xfrm>
          <a:prstGeom prst="rect">
            <a:avLst/>
          </a:prstGeom>
          <a:solidFill>
            <a:srgbClr val="d4dfe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ow many pounds of materials should Hanson have used to make 1,000 Zipp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227a8f"/>
                </a:solidFill>
                <a:latin typeface="Arial"/>
                <a:ea typeface="Arial"/>
              </a:rPr>
              <a:t>a.</a:t>
            </a:r>
            <a:r>
              <a:rPr b="0" lang="en-US" sz="2800" spc="-1" strike="noStrike">
                <a:solidFill>
                  <a:srgbClr val="227a8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227a8f"/>
                </a:solidFill>
                <a:latin typeface="Arial"/>
                <a:ea typeface="Arial"/>
              </a:rPr>
              <a:t>1,700 p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,500 p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227a8f"/>
                </a:solidFill>
                <a:latin typeface="Arial"/>
                <a:ea typeface="Arial"/>
              </a:rPr>
              <a:t>c.</a:t>
            </a:r>
            <a:r>
              <a:rPr b="0" lang="en-US" sz="2800" spc="-1" strike="noStrike">
                <a:solidFill>
                  <a:srgbClr val="227a8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227a8f"/>
                </a:solidFill>
                <a:latin typeface="Arial"/>
                <a:ea typeface="Arial"/>
              </a:rPr>
              <a:t>1,200 p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7a8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227a8f"/>
                </a:solidFill>
                <a:latin typeface="Arial"/>
                <a:ea typeface="Arial"/>
              </a:rPr>
              <a:t>d.</a:t>
            </a:r>
            <a:r>
              <a:rPr b="0" lang="en-US" sz="2800" spc="-1" strike="noStrike">
                <a:solidFill>
                  <a:srgbClr val="227a8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227a8f"/>
                </a:solidFill>
                <a:latin typeface="Arial"/>
                <a:ea typeface="Arial"/>
              </a:rPr>
              <a:t>1,000 p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Oval 3"/>
          <p:cNvSpPr/>
          <p:nvPr/>
        </p:nvSpPr>
        <p:spPr>
          <a:xfrm>
            <a:off x="833400" y="3581280"/>
            <a:ext cx="635040" cy="6350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Group 4"/>
          <p:cNvGrpSpPr/>
          <p:nvPr/>
        </p:nvGrpSpPr>
        <p:grpSpPr>
          <a:xfrm>
            <a:off x="3886200" y="3732120"/>
            <a:ext cx="4724280" cy="1491840"/>
            <a:chOff x="3886200" y="3732120"/>
            <a:chExt cx="4724280" cy="1491840"/>
          </a:xfrm>
        </p:grpSpPr>
        <p:sp>
          <p:nvSpPr>
            <p:cNvPr id="424" name="Freeform 5"/>
            <p:cNvSpPr/>
            <p:nvPr/>
          </p:nvSpPr>
          <p:spPr>
            <a:xfrm>
              <a:off x="3886200" y="3732120"/>
              <a:ext cx="1952640" cy="1220760"/>
            </a:xfrm>
            <a:custGeom>
              <a:avLst/>
              <a:gdLst/>
              <a:ahLst/>
              <a:rect l="l" t="t" r="r" b="b"/>
              <a:pathLst>
                <a:path w="1230" h="769">
                  <a:moveTo>
                    <a:pt x="259" y="67"/>
                  </a:moveTo>
                  <a:lnTo>
                    <a:pt x="313" y="82"/>
                  </a:lnTo>
                  <a:lnTo>
                    <a:pt x="399" y="103"/>
                  </a:lnTo>
                  <a:lnTo>
                    <a:pt x="489" y="129"/>
                  </a:lnTo>
                  <a:lnTo>
                    <a:pt x="571" y="158"/>
                  </a:lnTo>
                  <a:lnTo>
                    <a:pt x="656" y="192"/>
                  </a:lnTo>
                  <a:lnTo>
                    <a:pt x="730" y="229"/>
                  </a:lnTo>
                  <a:lnTo>
                    <a:pt x="812" y="267"/>
                  </a:lnTo>
                  <a:lnTo>
                    <a:pt x="878" y="312"/>
                  </a:lnTo>
                  <a:lnTo>
                    <a:pt x="942" y="354"/>
                  </a:lnTo>
                  <a:lnTo>
                    <a:pt x="1006" y="402"/>
                  </a:lnTo>
                  <a:lnTo>
                    <a:pt x="1055" y="452"/>
                  </a:lnTo>
                  <a:lnTo>
                    <a:pt x="1101" y="498"/>
                  </a:lnTo>
                  <a:lnTo>
                    <a:pt x="1145" y="550"/>
                  </a:lnTo>
                  <a:lnTo>
                    <a:pt x="1171" y="599"/>
                  </a:lnTo>
                  <a:lnTo>
                    <a:pt x="1199" y="651"/>
                  </a:lnTo>
                  <a:lnTo>
                    <a:pt x="1217" y="702"/>
                  </a:lnTo>
                  <a:lnTo>
                    <a:pt x="1229" y="750"/>
                  </a:lnTo>
                  <a:lnTo>
                    <a:pt x="1227" y="768"/>
                  </a:lnTo>
                  <a:lnTo>
                    <a:pt x="1207" y="702"/>
                  </a:lnTo>
                  <a:lnTo>
                    <a:pt x="1181" y="656"/>
                  </a:lnTo>
                  <a:lnTo>
                    <a:pt x="1145" y="610"/>
                  </a:lnTo>
                  <a:lnTo>
                    <a:pt x="1099" y="565"/>
                  </a:lnTo>
                  <a:lnTo>
                    <a:pt x="1045" y="522"/>
                  </a:lnTo>
                  <a:lnTo>
                    <a:pt x="980" y="475"/>
                  </a:lnTo>
                  <a:lnTo>
                    <a:pt x="908" y="432"/>
                  </a:lnTo>
                  <a:lnTo>
                    <a:pt x="830" y="394"/>
                  </a:lnTo>
                  <a:lnTo>
                    <a:pt x="744" y="353"/>
                  </a:lnTo>
                  <a:lnTo>
                    <a:pt x="650" y="316"/>
                  </a:lnTo>
                  <a:lnTo>
                    <a:pt x="557" y="285"/>
                  </a:lnTo>
                  <a:lnTo>
                    <a:pt x="459" y="255"/>
                  </a:lnTo>
                  <a:lnTo>
                    <a:pt x="359" y="229"/>
                  </a:lnTo>
                  <a:lnTo>
                    <a:pt x="255" y="207"/>
                  </a:lnTo>
                  <a:lnTo>
                    <a:pt x="251" y="277"/>
                  </a:lnTo>
                  <a:lnTo>
                    <a:pt x="0" y="94"/>
                  </a:lnTo>
                  <a:lnTo>
                    <a:pt x="259" y="0"/>
                  </a:lnTo>
                  <a:lnTo>
                    <a:pt x="259" y="67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6"/>
            <p:cNvSpPr/>
            <p:nvPr/>
          </p:nvSpPr>
          <p:spPr>
            <a:xfrm>
              <a:off x="4038480" y="4403520"/>
              <a:ext cx="4572000" cy="820440"/>
            </a:xfrm>
            <a:prstGeom prst="rect">
              <a:avLst/>
            </a:prstGeom>
            <a:solidFill>
              <a:srgbClr val="ffff99"/>
            </a:solidFill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The standard quantity is: 1,000 × 1.5 pounds per Zippy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609480" y="2243160"/>
            <a:ext cx="7925040" cy="3395520"/>
          </a:xfrm>
          <a:prstGeom prst="rect">
            <a:avLst/>
          </a:prstGeom>
          <a:solidFill>
            <a:srgbClr val="b5e9f4"/>
          </a:solidFill>
          <a:ln w="284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nson’s materials quantity variance (MQV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the week w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$170 unfavor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$170 favor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$800 unfavor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$800 favor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Group 3"/>
          <p:cNvGrpSpPr/>
          <p:nvPr/>
        </p:nvGrpSpPr>
        <p:grpSpPr>
          <a:xfrm>
            <a:off x="7790040" y="496800"/>
            <a:ext cx="1201680" cy="1407960"/>
            <a:chOff x="7790040" y="496800"/>
            <a:chExt cx="1201680" cy="1407960"/>
          </a:xfrm>
        </p:grpSpPr>
        <p:grpSp>
          <p:nvGrpSpPr>
            <p:cNvPr id="428" name="Group 4"/>
            <p:cNvGrpSpPr/>
            <p:nvPr/>
          </p:nvGrpSpPr>
          <p:grpSpPr>
            <a:xfrm>
              <a:off x="7790040" y="496800"/>
              <a:ext cx="1028880" cy="1407960"/>
              <a:chOff x="7790040" y="496800"/>
              <a:chExt cx="1028880" cy="1407960"/>
            </a:xfrm>
          </p:grpSpPr>
          <p:grpSp>
            <p:nvGrpSpPr>
              <p:cNvPr id="429" name="Group 5"/>
              <p:cNvGrpSpPr/>
              <p:nvPr/>
            </p:nvGrpSpPr>
            <p:grpSpPr>
              <a:xfrm>
                <a:off x="7790040" y="576360"/>
                <a:ext cx="138240" cy="1250640"/>
                <a:chOff x="7790040" y="576360"/>
                <a:chExt cx="138240" cy="1250640"/>
              </a:xfrm>
            </p:grpSpPr>
            <p:sp>
              <p:nvSpPr>
                <p:cNvPr id="430" name="Freeform 6"/>
                <p:cNvSpPr/>
                <p:nvPr/>
              </p:nvSpPr>
              <p:spPr>
                <a:xfrm>
                  <a:off x="7790040" y="576360"/>
                  <a:ext cx="138240" cy="1250640"/>
                </a:xfrm>
                <a:custGeom>
                  <a:avLst/>
                  <a:gdLst>
                    <a:gd name="textAreaLeft" fmla="*/ 0 w 138240"/>
                    <a:gd name="textAreaRight" fmla="*/ 138600 w 138240"/>
                    <a:gd name="textAreaTop" fmla="*/ 0 h 1250640"/>
                    <a:gd name="textAreaBottom" fmla="*/ 1251000 h 1250640"/>
                  </a:gdLst>
                  <a:ahLst/>
                  <a:rect l="textAreaLeft" t="textAreaTop" r="textAreaRight" b="textAreaBottom"/>
                  <a:pathLst>
                    <a:path w="261" h="2363">
                      <a:moveTo>
                        <a:pt x="111" y="0"/>
                      </a:moveTo>
                      <a:lnTo>
                        <a:pt x="0" y="262"/>
                      </a:lnTo>
                      <a:lnTo>
                        <a:pt x="0" y="2100"/>
                      </a:lnTo>
                      <a:lnTo>
                        <a:pt x="149" y="2363"/>
                      </a:lnTo>
                      <a:lnTo>
                        <a:pt x="261" y="2100"/>
                      </a:lnTo>
                      <a:lnTo>
                        <a:pt x="261" y="226"/>
                      </a:lnTo>
                      <a:lnTo>
                        <a:pt x="111" y="0"/>
                      </a:lnTo>
                      <a:close/>
                    </a:path>
                  </a:pathLst>
                </a:custGeom>
                <a:solidFill>
                  <a:srgbClr val="9f9fb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Freeform 7"/>
                <p:cNvSpPr/>
                <p:nvPr/>
              </p:nvSpPr>
              <p:spPr>
                <a:xfrm>
                  <a:off x="7790040" y="576360"/>
                  <a:ext cx="119160" cy="125064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250640"/>
                    <a:gd name="textAreaBottom" fmla="*/ 1251000 h 1250640"/>
                  </a:gdLst>
                  <a:ahLst/>
                  <a:rect l="textAreaLeft" t="textAreaTop" r="textAreaRight" b="textAreaBottom"/>
                  <a:pathLst>
                    <a:path w="225" h="2363">
                      <a:moveTo>
                        <a:pt x="111" y="0"/>
                      </a:moveTo>
                      <a:lnTo>
                        <a:pt x="185" y="112"/>
                      </a:lnTo>
                      <a:lnTo>
                        <a:pt x="111" y="262"/>
                      </a:lnTo>
                      <a:lnTo>
                        <a:pt x="111" y="1988"/>
                      </a:lnTo>
                      <a:lnTo>
                        <a:pt x="225" y="2213"/>
                      </a:lnTo>
                      <a:lnTo>
                        <a:pt x="149" y="2363"/>
                      </a:lnTo>
                      <a:lnTo>
                        <a:pt x="0" y="2100"/>
                      </a:lnTo>
                      <a:lnTo>
                        <a:pt x="0" y="262"/>
                      </a:lnTo>
                      <a:lnTo>
                        <a:pt x="111" y="0"/>
                      </a:lnTo>
                      <a:close/>
                    </a:path>
                  </a:pathLst>
                </a:custGeom>
                <a:solidFill>
                  <a:srgbClr val="bfbfd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2" name="Group 8"/>
              <p:cNvGrpSpPr/>
              <p:nvPr/>
            </p:nvGrpSpPr>
            <p:grpSpPr>
              <a:xfrm>
                <a:off x="7809120" y="496800"/>
                <a:ext cx="1009800" cy="1407960"/>
                <a:chOff x="7809120" y="496800"/>
                <a:chExt cx="1009800" cy="1407960"/>
              </a:xfrm>
            </p:grpSpPr>
            <p:sp>
              <p:nvSpPr>
                <p:cNvPr id="433" name="Freeform 9"/>
                <p:cNvSpPr/>
                <p:nvPr/>
              </p:nvSpPr>
              <p:spPr>
                <a:xfrm>
                  <a:off x="7809120" y="496800"/>
                  <a:ext cx="969840" cy="79560"/>
                </a:xfrm>
                <a:custGeom>
                  <a:avLst/>
                  <a:gdLst>
                    <a:gd name="textAreaLeft" fmla="*/ 0 w 969840"/>
                    <a:gd name="textAreaRight" fmla="*/ 970200 w 969840"/>
                    <a:gd name="textAreaTop" fmla="*/ 0 h 79560"/>
                    <a:gd name="textAreaBottom" fmla="*/ 79920 h 79560"/>
                  </a:gdLst>
                  <a:ahLst/>
                  <a:rect l="textAreaLeft" t="textAreaTop" r="textAreaRight" b="textAreaBottom"/>
                  <a:pathLst>
                    <a:path w="1834" h="149">
                      <a:moveTo>
                        <a:pt x="75" y="149"/>
                      </a:moveTo>
                      <a:lnTo>
                        <a:pt x="0" y="0"/>
                      </a:lnTo>
                      <a:lnTo>
                        <a:pt x="1834" y="0"/>
                      </a:lnTo>
                      <a:lnTo>
                        <a:pt x="1760" y="149"/>
                      </a:lnTo>
                      <a:lnTo>
                        <a:pt x="75" y="149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Freeform 10"/>
                <p:cNvSpPr/>
                <p:nvPr/>
              </p:nvSpPr>
              <p:spPr>
                <a:xfrm>
                  <a:off x="7829640" y="1827000"/>
                  <a:ext cx="970200" cy="77760"/>
                </a:xfrm>
                <a:custGeom>
                  <a:avLst/>
                  <a:gdLst>
                    <a:gd name="textAreaLeft" fmla="*/ 0 w 970200"/>
                    <a:gd name="textAreaRight" fmla="*/ 970560 w 970200"/>
                    <a:gd name="textAreaTop" fmla="*/ 0 h 77760"/>
                    <a:gd name="textAreaBottom" fmla="*/ 78120 h 77760"/>
                  </a:gdLst>
                  <a:ahLst/>
                  <a:rect l="textAreaLeft" t="textAreaTop" r="textAreaRight" b="textAreaBottom"/>
                  <a:pathLst>
                    <a:path w="1834" h="149">
                      <a:moveTo>
                        <a:pt x="75" y="0"/>
                      </a:moveTo>
                      <a:lnTo>
                        <a:pt x="1722" y="0"/>
                      </a:lnTo>
                      <a:lnTo>
                        <a:pt x="1834" y="113"/>
                      </a:lnTo>
                      <a:lnTo>
                        <a:pt x="1760" y="149"/>
                      </a:lnTo>
                      <a:lnTo>
                        <a:pt x="0" y="149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solidFill>
                  <a:srgbClr val="9f9fb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Freeform 11"/>
                <p:cNvSpPr/>
                <p:nvPr/>
              </p:nvSpPr>
              <p:spPr>
                <a:xfrm>
                  <a:off x="7848720" y="576360"/>
                  <a:ext cx="970200" cy="1250640"/>
                </a:xfrm>
                <a:custGeom>
                  <a:avLst/>
                  <a:gdLst>
                    <a:gd name="textAreaLeft" fmla="*/ 0 w 970200"/>
                    <a:gd name="textAreaRight" fmla="*/ 970560 w 970200"/>
                    <a:gd name="textAreaTop" fmla="*/ 0 h 1250640"/>
                    <a:gd name="textAreaBottom" fmla="*/ 1251000 h 1250640"/>
                  </a:gdLst>
                  <a:ahLst/>
                  <a:rect l="textAreaLeft" t="textAreaTop" r="textAreaRight" b="textAreaBottom"/>
                  <a:pathLst>
                    <a:path w="1834" h="2363">
                      <a:moveTo>
                        <a:pt x="38" y="2363"/>
                      </a:moveTo>
                      <a:lnTo>
                        <a:pt x="1685" y="2363"/>
                      </a:lnTo>
                      <a:lnTo>
                        <a:pt x="1834" y="2100"/>
                      </a:lnTo>
                      <a:lnTo>
                        <a:pt x="1834" y="226"/>
                      </a:lnTo>
                      <a:lnTo>
                        <a:pt x="1685" y="0"/>
                      </a:lnTo>
                      <a:lnTo>
                        <a:pt x="0" y="0"/>
                      </a:lnTo>
                      <a:lnTo>
                        <a:pt x="150" y="226"/>
                      </a:lnTo>
                      <a:lnTo>
                        <a:pt x="150" y="2100"/>
                      </a:lnTo>
                      <a:lnTo>
                        <a:pt x="38" y="2363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Rectangle 12"/>
                <p:cNvSpPr/>
                <p:nvPr/>
              </p:nvSpPr>
              <p:spPr>
                <a:xfrm>
                  <a:off x="7929720" y="974520"/>
                  <a:ext cx="887400" cy="254160"/>
                </a:xfrm>
                <a:prstGeom prst="rect">
                  <a:avLst/>
                </a:prstGeom>
                <a:solidFill>
                  <a:srgbClr val="ff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Freeform 13"/>
                <p:cNvSpPr/>
                <p:nvPr/>
              </p:nvSpPr>
              <p:spPr>
                <a:xfrm>
                  <a:off x="7869600" y="1687320"/>
                  <a:ext cx="949320" cy="139680"/>
                </a:xfrm>
                <a:custGeom>
                  <a:avLst/>
                  <a:gdLst>
                    <a:gd name="textAreaLeft" fmla="*/ 0 w 949320"/>
                    <a:gd name="textAreaRight" fmla="*/ 949680 w 949320"/>
                    <a:gd name="textAreaTop" fmla="*/ 0 h 139680"/>
                    <a:gd name="textAreaBottom" fmla="*/ 140040 h 139680"/>
                  </a:gdLst>
                  <a:ahLst/>
                  <a:rect l="textAreaLeft" t="textAreaTop" r="textAreaRight" b="textAreaBottom"/>
                  <a:pathLst>
                    <a:path w="1796" h="263">
                      <a:moveTo>
                        <a:pt x="112" y="0"/>
                      </a:moveTo>
                      <a:lnTo>
                        <a:pt x="0" y="263"/>
                      </a:lnTo>
                      <a:lnTo>
                        <a:pt x="1647" y="263"/>
                      </a:lnTo>
                      <a:lnTo>
                        <a:pt x="1796" y="0"/>
                      </a:lnTo>
                      <a:lnTo>
                        <a:pt x="112" y="0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8" name="Rectangle 14"/>
            <p:cNvSpPr/>
            <p:nvPr/>
          </p:nvSpPr>
          <p:spPr>
            <a:xfrm>
              <a:off x="8004240" y="922320"/>
              <a:ext cx="987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Zipp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Quick Check </a:t>
            </a:r>
            <a:r>
              <a:rPr b="0" lang="en-US" sz="4000" spc="-1" strike="noStrike">
                <a:solidFill>
                  <a:srgbClr val="464646"/>
                </a:solidFill>
                <a:latin typeface="Wingdings"/>
                <a:ea typeface="Wingdings"/>
              </a:rPr>
              <a:t>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609480" y="2243160"/>
            <a:ext cx="7925040" cy="3395520"/>
          </a:xfrm>
          <a:prstGeom prst="rect">
            <a:avLst/>
          </a:prstGeom>
          <a:solidFill>
            <a:srgbClr val="b5e9f4"/>
          </a:solidFill>
          <a:ln w="284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nson’s materials quantity variance (MQV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the week w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a3171e"/>
                </a:solidFill>
                <a:latin typeface="Arial"/>
                <a:ea typeface="Arial"/>
              </a:rPr>
              <a:t>a.</a:t>
            </a:r>
            <a:r>
              <a:rPr b="0" lang="en-US" sz="2800" spc="-1" strike="noStrike">
                <a:solidFill>
                  <a:srgbClr val="a3171e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a3171e"/>
                </a:solidFill>
                <a:latin typeface="Arial"/>
                <a:ea typeface="Arial"/>
              </a:rPr>
              <a:t>$170 unfavor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3171e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a3171e"/>
                </a:solidFill>
                <a:latin typeface="Arial"/>
                <a:ea typeface="Arial"/>
              </a:rPr>
              <a:t>b.</a:t>
            </a:r>
            <a:r>
              <a:rPr b="0" lang="en-US" sz="2800" spc="-1" strike="noStrike">
                <a:solidFill>
                  <a:srgbClr val="a3171e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a3171e"/>
                </a:solidFill>
                <a:latin typeface="Arial"/>
                <a:ea typeface="Arial"/>
              </a:rPr>
              <a:t>$170 favor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$800 unfavor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a3171e"/>
                </a:solidFill>
                <a:latin typeface="Arial"/>
                <a:ea typeface="Arial"/>
              </a:rPr>
              <a:t>d.</a:t>
            </a:r>
            <a:r>
              <a:rPr b="0" lang="en-US" sz="2800" spc="-1" strike="noStrike">
                <a:solidFill>
                  <a:srgbClr val="a3171e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a3171e"/>
                </a:solidFill>
                <a:latin typeface="Arial"/>
                <a:ea typeface="Arial"/>
              </a:rPr>
              <a:t>$800 favorable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3"/>
          <p:cNvSpPr/>
          <p:nvPr/>
        </p:nvSpPr>
        <p:spPr>
          <a:xfrm>
            <a:off x="833400" y="4035600"/>
            <a:ext cx="635040" cy="63468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Group 4"/>
          <p:cNvGrpSpPr/>
          <p:nvPr/>
        </p:nvGrpSpPr>
        <p:grpSpPr>
          <a:xfrm>
            <a:off x="3586320" y="4251240"/>
            <a:ext cx="5324400" cy="2024280"/>
            <a:chOff x="3586320" y="4251240"/>
            <a:chExt cx="5324400" cy="2024280"/>
          </a:xfrm>
        </p:grpSpPr>
        <p:sp>
          <p:nvSpPr>
            <p:cNvPr id="443" name="Freeform 5"/>
            <p:cNvSpPr/>
            <p:nvPr/>
          </p:nvSpPr>
          <p:spPr>
            <a:xfrm flipV="1">
              <a:off x="4495680" y="4251240"/>
              <a:ext cx="1190880" cy="1568160"/>
            </a:xfrm>
            <a:custGeom>
              <a:avLst/>
              <a:gdLst>
                <a:gd name="textAreaLeft" fmla="*/ 0 w 1190880"/>
                <a:gd name="textAreaRight" fmla="*/ 1191240 w 1190880"/>
                <a:gd name="textAreaTop" fmla="*/ 360 h 1568160"/>
                <a:gd name="textAreaBottom" fmla="*/ 1568880 h 1568160"/>
              </a:gdLst>
              <a:ahLst/>
              <a:rect l="textAreaLeft" t="textAreaTop" r="textAreaRight" b="textAreaBottom"/>
              <a:pathLst>
                <a:path w="750" h="988">
                  <a:moveTo>
                    <a:pt x="158" y="901"/>
                  </a:moveTo>
                  <a:lnTo>
                    <a:pt x="191" y="881"/>
                  </a:lnTo>
                  <a:lnTo>
                    <a:pt x="243" y="855"/>
                  </a:lnTo>
                  <a:lnTo>
                    <a:pt x="298" y="822"/>
                  </a:lnTo>
                  <a:lnTo>
                    <a:pt x="348" y="784"/>
                  </a:lnTo>
                  <a:lnTo>
                    <a:pt x="400" y="740"/>
                  </a:lnTo>
                  <a:lnTo>
                    <a:pt x="445" y="692"/>
                  </a:lnTo>
                  <a:lnTo>
                    <a:pt x="495" y="643"/>
                  </a:lnTo>
                  <a:lnTo>
                    <a:pt x="535" y="586"/>
                  </a:lnTo>
                  <a:lnTo>
                    <a:pt x="574" y="532"/>
                  </a:lnTo>
                  <a:lnTo>
                    <a:pt x="613" y="471"/>
                  </a:lnTo>
                  <a:lnTo>
                    <a:pt x="643" y="407"/>
                  </a:lnTo>
                  <a:lnTo>
                    <a:pt x="671" y="347"/>
                  </a:lnTo>
                  <a:lnTo>
                    <a:pt x="698" y="281"/>
                  </a:lnTo>
                  <a:lnTo>
                    <a:pt x="714" y="218"/>
                  </a:lnTo>
                  <a:lnTo>
                    <a:pt x="731" y="150"/>
                  </a:lnTo>
                  <a:lnTo>
                    <a:pt x="742" y="84"/>
                  </a:lnTo>
                  <a:lnTo>
                    <a:pt x="749" y="23"/>
                  </a:lnTo>
                  <a:lnTo>
                    <a:pt x="748" y="0"/>
                  </a:lnTo>
                  <a:lnTo>
                    <a:pt x="736" y="84"/>
                  </a:lnTo>
                  <a:lnTo>
                    <a:pt x="720" y="144"/>
                  </a:lnTo>
                  <a:lnTo>
                    <a:pt x="698" y="203"/>
                  </a:lnTo>
                  <a:lnTo>
                    <a:pt x="670" y="260"/>
                  </a:lnTo>
                  <a:lnTo>
                    <a:pt x="637" y="316"/>
                  </a:lnTo>
                  <a:lnTo>
                    <a:pt x="597" y="377"/>
                  </a:lnTo>
                  <a:lnTo>
                    <a:pt x="554" y="432"/>
                  </a:lnTo>
                  <a:lnTo>
                    <a:pt x="506" y="480"/>
                  </a:lnTo>
                  <a:lnTo>
                    <a:pt x="453" y="533"/>
                  </a:lnTo>
                  <a:lnTo>
                    <a:pt x="396" y="580"/>
                  </a:lnTo>
                  <a:lnTo>
                    <a:pt x="340" y="621"/>
                  </a:lnTo>
                  <a:lnTo>
                    <a:pt x="280" y="659"/>
                  </a:lnTo>
                  <a:lnTo>
                    <a:pt x="219" y="692"/>
                  </a:lnTo>
                  <a:lnTo>
                    <a:pt x="155" y="721"/>
                  </a:lnTo>
                  <a:lnTo>
                    <a:pt x="153" y="631"/>
                  </a:lnTo>
                  <a:lnTo>
                    <a:pt x="0" y="866"/>
                  </a:lnTo>
                  <a:lnTo>
                    <a:pt x="158" y="987"/>
                  </a:lnTo>
                  <a:lnTo>
                    <a:pt x="158" y="901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6"/>
            <p:cNvSpPr/>
            <p:nvPr/>
          </p:nvSpPr>
          <p:spPr>
            <a:xfrm>
              <a:off x="3586320" y="5089320"/>
              <a:ext cx="5324400" cy="1186200"/>
            </a:xfrm>
            <a:prstGeom prst="rect">
              <a:avLst/>
            </a:prstGeom>
            <a:solidFill>
              <a:srgbClr val="eaeaea"/>
            </a:solidFill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MQV = SP(AQ - SQ)</a:t>
              </a:r>
              <a:br>
                <a:rPr sz="2400"/>
              </a:b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MQV = $4.00(1,700 lbs - 1,500 lbs)</a:t>
              </a:r>
              <a:br>
                <a:rPr sz="2400"/>
              </a:b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MQV = $800 unfavora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Group 3"/>
          <p:cNvGrpSpPr/>
          <p:nvPr/>
        </p:nvGrpSpPr>
        <p:grpSpPr>
          <a:xfrm>
            <a:off x="7790040" y="496800"/>
            <a:ext cx="1201680" cy="1407960"/>
            <a:chOff x="7790040" y="496800"/>
            <a:chExt cx="1201680" cy="1407960"/>
          </a:xfrm>
        </p:grpSpPr>
        <p:grpSp>
          <p:nvGrpSpPr>
            <p:cNvPr id="446" name="Group 4"/>
            <p:cNvGrpSpPr/>
            <p:nvPr/>
          </p:nvGrpSpPr>
          <p:grpSpPr>
            <a:xfrm>
              <a:off x="7790040" y="496800"/>
              <a:ext cx="1028880" cy="1407960"/>
              <a:chOff x="7790040" y="496800"/>
              <a:chExt cx="1028880" cy="1407960"/>
            </a:xfrm>
          </p:grpSpPr>
          <p:grpSp>
            <p:nvGrpSpPr>
              <p:cNvPr id="447" name="Group 5"/>
              <p:cNvGrpSpPr/>
              <p:nvPr/>
            </p:nvGrpSpPr>
            <p:grpSpPr>
              <a:xfrm>
                <a:off x="7790040" y="576360"/>
                <a:ext cx="138240" cy="1250640"/>
                <a:chOff x="7790040" y="576360"/>
                <a:chExt cx="138240" cy="1250640"/>
              </a:xfrm>
            </p:grpSpPr>
            <p:sp>
              <p:nvSpPr>
                <p:cNvPr id="448" name="Freeform 6"/>
                <p:cNvSpPr/>
                <p:nvPr/>
              </p:nvSpPr>
              <p:spPr>
                <a:xfrm>
                  <a:off x="7790040" y="576360"/>
                  <a:ext cx="138240" cy="1250640"/>
                </a:xfrm>
                <a:custGeom>
                  <a:avLst/>
                  <a:gdLst>
                    <a:gd name="textAreaLeft" fmla="*/ 0 w 138240"/>
                    <a:gd name="textAreaRight" fmla="*/ 138600 w 138240"/>
                    <a:gd name="textAreaTop" fmla="*/ 0 h 1250640"/>
                    <a:gd name="textAreaBottom" fmla="*/ 1251000 h 1250640"/>
                  </a:gdLst>
                  <a:ahLst/>
                  <a:rect l="textAreaLeft" t="textAreaTop" r="textAreaRight" b="textAreaBottom"/>
                  <a:pathLst>
                    <a:path w="261" h="2363">
                      <a:moveTo>
                        <a:pt x="111" y="0"/>
                      </a:moveTo>
                      <a:lnTo>
                        <a:pt x="0" y="262"/>
                      </a:lnTo>
                      <a:lnTo>
                        <a:pt x="0" y="2100"/>
                      </a:lnTo>
                      <a:lnTo>
                        <a:pt x="149" y="2363"/>
                      </a:lnTo>
                      <a:lnTo>
                        <a:pt x="261" y="2100"/>
                      </a:lnTo>
                      <a:lnTo>
                        <a:pt x="261" y="226"/>
                      </a:lnTo>
                      <a:lnTo>
                        <a:pt x="111" y="0"/>
                      </a:lnTo>
                      <a:close/>
                    </a:path>
                  </a:pathLst>
                </a:custGeom>
                <a:solidFill>
                  <a:srgbClr val="9f9fb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Freeform 7"/>
                <p:cNvSpPr/>
                <p:nvPr/>
              </p:nvSpPr>
              <p:spPr>
                <a:xfrm>
                  <a:off x="7790040" y="576360"/>
                  <a:ext cx="119160" cy="125064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250640"/>
                    <a:gd name="textAreaBottom" fmla="*/ 1251000 h 1250640"/>
                  </a:gdLst>
                  <a:ahLst/>
                  <a:rect l="textAreaLeft" t="textAreaTop" r="textAreaRight" b="textAreaBottom"/>
                  <a:pathLst>
                    <a:path w="225" h="2363">
                      <a:moveTo>
                        <a:pt x="111" y="0"/>
                      </a:moveTo>
                      <a:lnTo>
                        <a:pt x="185" y="112"/>
                      </a:lnTo>
                      <a:lnTo>
                        <a:pt x="111" y="262"/>
                      </a:lnTo>
                      <a:lnTo>
                        <a:pt x="111" y="1988"/>
                      </a:lnTo>
                      <a:lnTo>
                        <a:pt x="225" y="2213"/>
                      </a:lnTo>
                      <a:lnTo>
                        <a:pt x="149" y="2363"/>
                      </a:lnTo>
                      <a:lnTo>
                        <a:pt x="0" y="2100"/>
                      </a:lnTo>
                      <a:lnTo>
                        <a:pt x="0" y="262"/>
                      </a:lnTo>
                      <a:lnTo>
                        <a:pt x="111" y="0"/>
                      </a:lnTo>
                      <a:close/>
                    </a:path>
                  </a:pathLst>
                </a:custGeom>
                <a:solidFill>
                  <a:srgbClr val="bfbfd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0" name="Group 8"/>
              <p:cNvGrpSpPr/>
              <p:nvPr/>
            </p:nvGrpSpPr>
            <p:grpSpPr>
              <a:xfrm>
                <a:off x="7809120" y="496800"/>
                <a:ext cx="1009800" cy="1407960"/>
                <a:chOff x="7809120" y="496800"/>
                <a:chExt cx="1009800" cy="1407960"/>
              </a:xfrm>
            </p:grpSpPr>
            <p:sp>
              <p:nvSpPr>
                <p:cNvPr id="451" name="Freeform 9"/>
                <p:cNvSpPr/>
                <p:nvPr/>
              </p:nvSpPr>
              <p:spPr>
                <a:xfrm>
                  <a:off x="7809120" y="496800"/>
                  <a:ext cx="969840" cy="79560"/>
                </a:xfrm>
                <a:custGeom>
                  <a:avLst/>
                  <a:gdLst>
                    <a:gd name="textAreaLeft" fmla="*/ 0 w 969840"/>
                    <a:gd name="textAreaRight" fmla="*/ 970200 w 969840"/>
                    <a:gd name="textAreaTop" fmla="*/ 0 h 79560"/>
                    <a:gd name="textAreaBottom" fmla="*/ 79920 h 79560"/>
                  </a:gdLst>
                  <a:ahLst/>
                  <a:rect l="textAreaLeft" t="textAreaTop" r="textAreaRight" b="textAreaBottom"/>
                  <a:pathLst>
                    <a:path w="1834" h="149">
                      <a:moveTo>
                        <a:pt x="75" y="149"/>
                      </a:moveTo>
                      <a:lnTo>
                        <a:pt x="0" y="0"/>
                      </a:lnTo>
                      <a:lnTo>
                        <a:pt x="1834" y="0"/>
                      </a:lnTo>
                      <a:lnTo>
                        <a:pt x="1760" y="149"/>
                      </a:lnTo>
                      <a:lnTo>
                        <a:pt x="75" y="149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Freeform 10"/>
                <p:cNvSpPr/>
                <p:nvPr/>
              </p:nvSpPr>
              <p:spPr>
                <a:xfrm>
                  <a:off x="7829640" y="1827000"/>
                  <a:ext cx="970200" cy="77760"/>
                </a:xfrm>
                <a:custGeom>
                  <a:avLst/>
                  <a:gdLst>
                    <a:gd name="textAreaLeft" fmla="*/ 0 w 970200"/>
                    <a:gd name="textAreaRight" fmla="*/ 970560 w 970200"/>
                    <a:gd name="textAreaTop" fmla="*/ 0 h 77760"/>
                    <a:gd name="textAreaBottom" fmla="*/ 78120 h 77760"/>
                  </a:gdLst>
                  <a:ahLst/>
                  <a:rect l="textAreaLeft" t="textAreaTop" r="textAreaRight" b="textAreaBottom"/>
                  <a:pathLst>
                    <a:path w="1834" h="149">
                      <a:moveTo>
                        <a:pt x="75" y="0"/>
                      </a:moveTo>
                      <a:lnTo>
                        <a:pt x="1722" y="0"/>
                      </a:lnTo>
                      <a:lnTo>
                        <a:pt x="1834" y="113"/>
                      </a:lnTo>
                      <a:lnTo>
                        <a:pt x="1760" y="149"/>
                      </a:lnTo>
                      <a:lnTo>
                        <a:pt x="0" y="149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solidFill>
                  <a:srgbClr val="9f9fb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Freeform 11"/>
                <p:cNvSpPr/>
                <p:nvPr/>
              </p:nvSpPr>
              <p:spPr>
                <a:xfrm>
                  <a:off x="7848720" y="576360"/>
                  <a:ext cx="970200" cy="1250640"/>
                </a:xfrm>
                <a:custGeom>
                  <a:avLst/>
                  <a:gdLst>
                    <a:gd name="textAreaLeft" fmla="*/ 0 w 970200"/>
                    <a:gd name="textAreaRight" fmla="*/ 970560 w 970200"/>
                    <a:gd name="textAreaTop" fmla="*/ 0 h 1250640"/>
                    <a:gd name="textAreaBottom" fmla="*/ 1251000 h 1250640"/>
                  </a:gdLst>
                  <a:ahLst/>
                  <a:rect l="textAreaLeft" t="textAreaTop" r="textAreaRight" b="textAreaBottom"/>
                  <a:pathLst>
                    <a:path w="1834" h="2363">
                      <a:moveTo>
                        <a:pt x="38" y="2363"/>
                      </a:moveTo>
                      <a:lnTo>
                        <a:pt x="1685" y="2363"/>
                      </a:lnTo>
                      <a:lnTo>
                        <a:pt x="1834" y="2100"/>
                      </a:lnTo>
                      <a:lnTo>
                        <a:pt x="1834" y="226"/>
                      </a:lnTo>
                      <a:lnTo>
                        <a:pt x="1685" y="0"/>
                      </a:lnTo>
                      <a:lnTo>
                        <a:pt x="0" y="0"/>
                      </a:lnTo>
                      <a:lnTo>
                        <a:pt x="150" y="226"/>
                      </a:lnTo>
                      <a:lnTo>
                        <a:pt x="150" y="2100"/>
                      </a:lnTo>
                      <a:lnTo>
                        <a:pt x="38" y="2363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Rectangle 12"/>
                <p:cNvSpPr/>
                <p:nvPr/>
              </p:nvSpPr>
              <p:spPr>
                <a:xfrm>
                  <a:off x="7929720" y="974520"/>
                  <a:ext cx="887400" cy="254160"/>
                </a:xfrm>
                <a:prstGeom prst="rect">
                  <a:avLst/>
                </a:prstGeom>
                <a:solidFill>
                  <a:srgbClr val="ff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Freeform 13"/>
                <p:cNvSpPr/>
                <p:nvPr/>
              </p:nvSpPr>
              <p:spPr>
                <a:xfrm>
                  <a:off x="7869600" y="1687320"/>
                  <a:ext cx="949320" cy="139680"/>
                </a:xfrm>
                <a:custGeom>
                  <a:avLst/>
                  <a:gdLst>
                    <a:gd name="textAreaLeft" fmla="*/ 0 w 949320"/>
                    <a:gd name="textAreaRight" fmla="*/ 949680 w 949320"/>
                    <a:gd name="textAreaTop" fmla="*/ 0 h 139680"/>
                    <a:gd name="textAreaBottom" fmla="*/ 140040 h 139680"/>
                  </a:gdLst>
                  <a:ahLst/>
                  <a:rect l="textAreaLeft" t="textAreaTop" r="textAreaRight" b="textAreaBottom"/>
                  <a:pathLst>
                    <a:path w="1796" h="263">
                      <a:moveTo>
                        <a:pt x="112" y="0"/>
                      </a:moveTo>
                      <a:lnTo>
                        <a:pt x="0" y="263"/>
                      </a:lnTo>
                      <a:lnTo>
                        <a:pt x="1647" y="263"/>
                      </a:lnTo>
                      <a:lnTo>
                        <a:pt x="1796" y="0"/>
                      </a:lnTo>
                      <a:lnTo>
                        <a:pt x="112" y="0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56" name="Rectangle 14"/>
            <p:cNvSpPr/>
            <p:nvPr/>
          </p:nvSpPr>
          <p:spPr>
            <a:xfrm>
              <a:off x="8004240" y="922320"/>
              <a:ext cx="987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Zipp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Quick Check </a:t>
            </a:r>
            <a:r>
              <a:rPr b="0" lang="en-US" sz="4000" spc="-1" strike="noStrike">
                <a:solidFill>
                  <a:srgbClr val="464646"/>
                </a:solidFill>
                <a:latin typeface="Wingdings"/>
                <a:ea typeface="Wingdings"/>
              </a:rPr>
              <a:t>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723600" y="2057400"/>
            <a:ext cx="7697880" cy="3525840"/>
          </a:xfrm>
          <a:prstGeom prst="rect">
            <a:avLst/>
          </a:prstGeom>
          <a:solidFill>
            <a:srgbClr val="f7c1a4"/>
          </a:solidFill>
          <a:ln w="284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nson’s materials price variance (MPV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the week w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$170 unfavor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$170 favor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$800 unfavor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$800 favor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Group 3"/>
          <p:cNvGrpSpPr/>
          <p:nvPr/>
        </p:nvGrpSpPr>
        <p:grpSpPr>
          <a:xfrm>
            <a:off x="7790040" y="496800"/>
            <a:ext cx="1201680" cy="1407960"/>
            <a:chOff x="7790040" y="496800"/>
            <a:chExt cx="1201680" cy="1407960"/>
          </a:xfrm>
        </p:grpSpPr>
        <p:grpSp>
          <p:nvGrpSpPr>
            <p:cNvPr id="460" name="Group 4"/>
            <p:cNvGrpSpPr/>
            <p:nvPr/>
          </p:nvGrpSpPr>
          <p:grpSpPr>
            <a:xfrm>
              <a:off x="7790040" y="496800"/>
              <a:ext cx="1028880" cy="1407960"/>
              <a:chOff x="7790040" y="496800"/>
              <a:chExt cx="1028880" cy="1407960"/>
            </a:xfrm>
          </p:grpSpPr>
          <p:grpSp>
            <p:nvGrpSpPr>
              <p:cNvPr id="461" name="Group 5"/>
              <p:cNvGrpSpPr/>
              <p:nvPr/>
            </p:nvGrpSpPr>
            <p:grpSpPr>
              <a:xfrm>
                <a:off x="7790040" y="576360"/>
                <a:ext cx="138240" cy="1250640"/>
                <a:chOff x="7790040" y="576360"/>
                <a:chExt cx="138240" cy="1250640"/>
              </a:xfrm>
            </p:grpSpPr>
            <p:sp>
              <p:nvSpPr>
                <p:cNvPr id="462" name="Freeform 6"/>
                <p:cNvSpPr/>
                <p:nvPr/>
              </p:nvSpPr>
              <p:spPr>
                <a:xfrm>
                  <a:off x="7790040" y="576360"/>
                  <a:ext cx="138240" cy="1250640"/>
                </a:xfrm>
                <a:custGeom>
                  <a:avLst/>
                  <a:gdLst>
                    <a:gd name="textAreaLeft" fmla="*/ 0 w 138240"/>
                    <a:gd name="textAreaRight" fmla="*/ 138600 w 138240"/>
                    <a:gd name="textAreaTop" fmla="*/ 0 h 1250640"/>
                    <a:gd name="textAreaBottom" fmla="*/ 1251000 h 1250640"/>
                  </a:gdLst>
                  <a:ahLst/>
                  <a:rect l="textAreaLeft" t="textAreaTop" r="textAreaRight" b="textAreaBottom"/>
                  <a:pathLst>
                    <a:path w="261" h="2363">
                      <a:moveTo>
                        <a:pt x="111" y="0"/>
                      </a:moveTo>
                      <a:lnTo>
                        <a:pt x="0" y="262"/>
                      </a:lnTo>
                      <a:lnTo>
                        <a:pt x="0" y="2100"/>
                      </a:lnTo>
                      <a:lnTo>
                        <a:pt x="149" y="2363"/>
                      </a:lnTo>
                      <a:lnTo>
                        <a:pt x="261" y="2100"/>
                      </a:lnTo>
                      <a:lnTo>
                        <a:pt x="261" y="226"/>
                      </a:lnTo>
                      <a:lnTo>
                        <a:pt x="111" y="0"/>
                      </a:lnTo>
                      <a:close/>
                    </a:path>
                  </a:pathLst>
                </a:custGeom>
                <a:solidFill>
                  <a:srgbClr val="9f9fb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Freeform 7"/>
                <p:cNvSpPr/>
                <p:nvPr/>
              </p:nvSpPr>
              <p:spPr>
                <a:xfrm>
                  <a:off x="7790040" y="576360"/>
                  <a:ext cx="119160" cy="125064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250640"/>
                    <a:gd name="textAreaBottom" fmla="*/ 1251000 h 1250640"/>
                  </a:gdLst>
                  <a:ahLst/>
                  <a:rect l="textAreaLeft" t="textAreaTop" r="textAreaRight" b="textAreaBottom"/>
                  <a:pathLst>
                    <a:path w="225" h="2363">
                      <a:moveTo>
                        <a:pt x="111" y="0"/>
                      </a:moveTo>
                      <a:lnTo>
                        <a:pt x="185" y="112"/>
                      </a:lnTo>
                      <a:lnTo>
                        <a:pt x="111" y="262"/>
                      </a:lnTo>
                      <a:lnTo>
                        <a:pt x="111" y="1988"/>
                      </a:lnTo>
                      <a:lnTo>
                        <a:pt x="225" y="2213"/>
                      </a:lnTo>
                      <a:lnTo>
                        <a:pt x="149" y="2363"/>
                      </a:lnTo>
                      <a:lnTo>
                        <a:pt x="0" y="2100"/>
                      </a:lnTo>
                      <a:lnTo>
                        <a:pt x="0" y="262"/>
                      </a:lnTo>
                      <a:lnTo>
                        <a:pt x="111" y="0"/>
                      </a:lnTo>
                      <a:close/>
                    </a:path>
                  </a:pathLst>
                </a:custGeom>
                <a:solidFill>
                  <a:srgbClr val="bfbfd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4" name="Group 8"/>
              <p:cNvGrpSpPr/>
              <p:nvPr/>
            </p:nvGrpSpPr>
            <p:grpSpPr>
              <a:xfrm>
                <a:off x="7809120" y="496800"/>
                <a:ext cx="1009800" cy="1407960"/>
                <a:chOff x="7809120" y="496800"/>
                <a:chExt cx="1009800" cy="1407960"/>
              </a:xfrm>
            </p:grpSpPr>
            <p:sp>
              <p:nvSpPr>
                <p:cNvPr id="465" name="Freeform 9"/>
                <p:cNvSpPr/>
                <p:nvPr/>
              </p:nvSpPr>
              <p:spPr>
                <a:xfrm>
                  <a:off x="7809120" y="496800"/>
                  <a:ext cx="969840" cy="79560"/>
                </a:xfrm>
                <a:custGeom>
                  <a:avLst/>
                  <a:gdLst>
                    <a:gd name="textAreaLeft" fmla="*/ 0 w 969840"/>
                    <a:gd name="textAreaRight" fmla="*/ 970200 w 969840"/>
                    <a:gd name="textAreaTop" fmla="*/ 0 h 79560"/>
                    <a:gd name="textAreaBottom" fmla="*/ 79920 h 79560"/>
                  </a:gdLst>
                  <a:ahLst/>
                  <a:rect l="textAreaLeft" t="textAreaTop" r="textAreaRight" b="textAreaBottom"/>
                  <a:pathLst>
                    <a:path w="1834" h="149">
                      <a:moveTo>
                        <a:pt x="75" y="149"/>
                      </a:moveTo>
                      <a:lnTo>
                        <a:pt x="0" y="0"/>
                      </a:lnTo>
                      <a:lnTo>
                        <a:pt x="1834" y="0"/>
                      </a:lnTo>
                      <a:lnTo>
                        <a:pt x="1760" y="149"/>
                      </a:lnTo>
                      <a:lnTo>
                        <a:pt x="75" y="149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Freeform 10"/>
                <p:cNvSpPr/>
                <p:nvPr/>
              </p:nvSpPr>
              <p:spPr>
                <a:xfrm>
                  <a:off x="7829640" y="1827000"/>
                  <a:ext cx="970200" cy="77760"/>
                </a:xfrm>
                <a:custGeom>
                  <a:avLst/>
                  <a:gdLst>
                    <a:gd name="textAreaLeft" fmla="*/ 0 w 970200"/>
                    <a:gd name="textAreaRight" fmla="*/ 970560 w 970200"/>
                    <a:gd name="textAreaTop" fmla="*/ 0 h 77760"/>
                    <a:gd name="textAreaBottom" fmla="*/ 78120 h 77760"/>
                  </a:gdLst>
                  <a:ahLst/>
                  <a:rect l="textAreaLeft" t="textAreaTop" r="textAreaRight" b="textAreaBottom"/>
                  <a:pathLst>
                    <a:path w="1834" h="149">
                      <a:moveTo>
                        <a:pt x="75" y="0"/>
                      </a:moveTo>
                      <a:lnTo>
                        <a:pt x="1722" y="0"/>
                      </a:lnTo>
                      <a:lnTo>
                        <a:pt x="1834" y="113"/>
                      </a:lnTo>
                      <a:lnTo>
                        <a:pt x="1760" y="149"/>
                      </a:lnTo>
                      <a:lnTo>
                        <a:pt x="0" y="149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solidFill>
                  <a:srgbClr val="9f9fb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Freeform 11"/>
                <p:cNvSpPr/>
                <p:nvPr/>
              </p:nvSpPr>
              <p:spPr>
                <a:xfrm>
                  <a:off x="7848720" y="576360"/>
                  <a:ext cx="970200" cy="1250640"/>
                </a:xfrm>
                <a:custGeom>
                  <a:avLst/>
                  <a:gdLst>
                    <a:gd name="textAreaLeft" fmla="*/ 0 w 970200"/>
                    <a:gd name="textAreaRight" fmla="*/ 970560 w 970200"/>
                    <a:gd name="textAreaTop" fmla="*/ 0 h 1250640"/>
                    <a:gd name="textAreaBottom" fmla="*/ 1251000 h 1250640"/>
                  </a:gdLst>
                  <a:ahLst/>
                  <a:rect l="textAreaLeft" t="textAreaTop" r="textAreaRight" b="textAreaBottom"/>
                  <a:pathLst>
                    <a:path w="1834" h="2363">
                      <a:moveTo>
                        <a:pt x="38" y="2363"/>
                      </a:moveTo>
                      <a:lnTo>
                        <a:pt x="1685" y="2363"/>
                      </a:lnTo>
                      <a:lnTo>
                        <a:pt x="1834" y="2100"/>
                      </a:lnTo>
                      <a:lnTo>
                        <a:pt x="1834" y="226"/>
                      </a:lnTo>
                      <a:lnTo>
                        <a:pt x="1685" y="0"/>
                      </a:lnTo>
                      <a:lnTo>
                        <a:pt x="0" y="0"/>
                      </a:lnTo>
                      <a:lnTo>
                        <a:pt x="150" y="226"/>
                      </a:lnTo>
                      <a:lnTo>
                        <a:pt x="150" y="2100"/>
                      </a:lnTo>
                      <a:lnTo>
                        <a:pt x="38" y="2363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Rectangle 12"/>
                <p:cNvSpPr/>
                <p:nvPr/>
              </p:nvSpPr>
              <p:spPr>
                <a:xfrm>
                  <a:off x="7929720" y="974520"/>
                  <a:ext cx="887400" cy="254160"/>
                </a:xfrm>
                <a:prstGeom prst="rect">
                  <a:avLst/>
                </a:prstGeom>
                <a:solidFill>
                  <a:srgbClr val="ff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Freeform 13"/>
                <p:cNvSpPr/>
                <p:nvPr/>
              </p:nvSpPr>
              <p:spPr>
                <a:xfrm>
                  <a:off x="7869600" y="1687320"/>
                  <a:ext cx="949320" cy="139680"/>
                </a:xfrm>
                <a:custGeom>
                  <a:avLst/>
                  <a:gdLst>
                    <a:gd name="textAreaLeft" fmla="*/ 0 w 949320"/>
                    <a:gd name="textAreaRight" fmla="*/ 949680 w 949320"/>
                    <a:gd name="textAreaTop" fmla="*/ 0 h 139680"/>
                    <a:gd name="textAreaBottom" fmla="*/ 140040 h 139680"/>
                  </a:gdLst>
                  <a:ahLst/>
                  <a:rect l="textAreaLeft" t="textAreaTop" r="textAreaRight" b="textAreaBottom"/>
                  <a:pathLst>
                    <a:path w="1796" h="263">
                      <a:moveTo>
                        <a:pt x="112" y="0"/>
                      </a:moveTo>
                      <a:lnTo>
                        <a:pt x="0" y="263"/>
                      </a:lnTo>
                      <a:lnTo>
                        <a:pt x="1647" y="263"/>
                      </a:lnTo>
                      <a:lnTo>
                        <a:pt x="1796" y="0"/>
                      </a:lnTo>
                      <a:lnTo>
                        <a:pt x="112" y="0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0" name="Rectangle 14"/>
            <p:cNvSpPr/>
            <p:nvPr/>
          </p:nvSpPr>
          <p:spPr>
            <a:xfrm>
              <a:off x="8004240" y="922320"/>
              <a:ext cx="987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Zipp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Quick Check </a:t>
            </a:r>
            <a:r>
              <a:rPr b="0" lang="en-US" sz="4000" spc="-1" strike="noStrike">
                <a:solidFill>
                  <a:srgbClr val="464646"/>
                </a:solidFill>
                <a:latin typeface="Wingdings"/>
                <a:ea typeface="Wingdings"/>
              </a:rPr>
              <a:t>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Setting Direct Materials Standards 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8" name="AutoShape 3"/>
          <p:cNvSpPr/>
          <p:nvPr/>
        </p:nvSpPr>
        <p:spPr>
          <a:xfrm>
            <a:off x="942840" y="1574640"/>
            <a:ext cx="2743200" cy="1006560"/>
          </a:xfrm>
          <a:prstGeom prst="roundRect">
            <a:avLst>
              <a:gd name="adj" fmla="val 12495"/>
            </a:avLst>
          </a:prstGeom>
          <a:solidFill>
            <a:srgbClr val="c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1144800" y="1623960"/>
            <a:ext cx="2331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Standard Price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per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5"/>
          <p:cNvGrpSpPr/>
          <p:nvPr/>
        </p:nvGrpSpPr>
        <p:grpSpPr>
          <a:xfrm>
            <a:off x="4937040" y="2452320"/>
            <a:ext cx="3913200" cy="3783240"/>
            <a:chOff x="4937040" y="2452320"/>
            <a:chExt cx="3913200" cy="3783240"/>
          </a:xfrm>
        </p:grpSpPr>
        <p:cxnSp>
          <p:nvCxnSpPr>
            <p:cNvPr id="101" name="AutoShape 6"/>
            <p:cNvCxnSpPr>
              <a:stCxn id="102" idx="2"/>
            </p:cNvCxnSpPr>
            <p:nvPr/>
          </p:nvCxnSpPr>
          <p:spPr>
            <a:xfrm flipH="1">
              <a:off x="6857640" y="2452320"/>
              <a:ext cx="10080" cy="748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AutoShape 7"/>
            <p:cNvSpPr/>
            <p:nvPr/>
          </p:nvSpPr>
          <p:spPr>
            <a:xfrm>
              <a:off x="4937040" y="3213000"/>
              <a:ext cx="3861000" cy="3022560"/>
            </a:xfrm>
            <a:prstGeom prst="octagon">
              <a:avLst>
                <a:gd name="adj" fmla="val 29282"/>
              </a:avLst>
            </a:prstGeom>
            <a:solidFill>
              <a:srgbClr val="d5a7b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8"/>
            <p:cNvSpPr/>
            <p:nvPr/>
          </p:nvSpPr>
          <p:spPr>
            <a:xfrm>
              <a:off x="5043600" y="3605040"/>
              <a:ext cx="38066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64646"/>
                  </a:solidFill>
                  <a:latin typeface="Arial"/>
                </a:rPr>
                <a:t>Summarized in </a:t>
              </a:r>
              <a:br>
                <a:rPr sz="2400"/>
              </a:br>
              <a:r>
                <a:rPr b="1" lang="en-US" sz="2400" spc="-1" strike="noStrike">
                  <a:solidFill>
                    <a:srgbClr val="464646"/>
                  </a:solidFill>
                  <a:latin typeface="Arial"/>
                </a:rPr>
                <a:t>a Bill of Material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5" name="Object 3"/>
            <p:cNvGraphicFramePr/>
            <p:nvPr/>
          </p:nvGraphicFramePr>
          <p:xfrm>
            <a:off x="5587920" y="4383000"/>
            <a:ext cx="2743200" cy="1827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6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87920" y="4383000"/>
                      <a:ext cx="2743200" cy="182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7" name="Group 10"/>
          <p:cNvGrpSpPr/>
          <p:nvPr/>
        </p:nvGrpSpPr>
        <p:grpSpPr>
          <a:xfrm>
            <a:off x="380880" y="2590560"/>
            <a:ext cx="3861000" cy="3645000"/>
            <a:chOff x="380880" y="2590560"/>
            <a:chExt cx="3861000" cy="3645000"/>
          </a:xfrm>
        </p:grpSpPr>
        <p:sp>
          <p:nvSpPr>
            <p:cNvPr id="108" name="AutoShape 11"/>
            <p:cNvSpPr/>
            <p:nvPr/>
          </p:nvSpPr>
          <p:spPr>
            <a:xfrm>
              <a:off x="380880" y="3213000"/>
              <a:ext cx="3861000" cy="3022560"/>
            </a:xfrm>
            <a:prstGeom prst="octagon">
              <a:avLst>
                <a:gd name="adj" fmla="val 29282"/>
              </a:avLst>
            </a:prstGeom>
            <a:solidFill>
              <a:srgbClr val="eaeaea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2"/>
            <p:cNvSpPr/>
            <p:nvPr/>
          </p:nvSpPr>
          <p:spPr>
            <a:xfrm>
              <a:off x="964800" y="3567240"/>
              <a:ext cx="269136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64646"/>
                  </a:solidFill>
                  <a:latin typeface="Arial"/>
                </a:rPr>
                <a:t>Final, delivered</a:t>
              </a:r>
              <a:br>
                <a:rPr sz="2400"/>
              </a:br>
              <a:r>
                <a:rPr b="1" lang="en-US" sz="2400" spc="-1" strike="noStrike">
                  <a:solidFill>
                    <a:srgbClr val="464646"/>
                  </a:solidFill>
                  <a:latin typeface="Arial"/>
                </a:rPr>
                <a:t>cost of materials,</a:t>
              </a:r>
              <a:br>
                <a:rPr sz="2400"/>
              </a:br>
              <a:r>
                <a:rPr b="1" lang="en-US" sz="2400" spc="-1" strike="noStrike">
                  <a:solidFill>
                    <a:srgbClr val="464646"/>
                  </a:solidFill>
                  <a:latin typeface="Arial"/>
                </a:rPr>
                <a:t>net of discount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0" name="Object 2"/>
            <p:cNvGraphicFramePr/>
            <p:nvPr/>
          </p:nvGraphicFramePr>
          <p:xfrm>
            <a:off x="1346040" y="4724280"/>
            <a:ext cx="1954440" cy="1498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1" name="Object 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346040" y="4724280"/>
                      <a:ext cx="1954440" cy="149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112" name="AutoShape 14"/>
            <p:cNvCxnSpPr/>
            <p:nvPr/>
          </p:nvCxnSpPr>
          <p:spPr>
            <a:xfrm flipH="1">
              <a:off x="2310480" y="2590560"/>
              <a:ext cx="1080" cy="640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13" name="Group 15"/>
          <p:cNvGrpSpPr/>
          <p:nvPr/>
        </p:nvGrpSpPr>
        <p:grpSpPr>
          <a:xfrm>
            <a:off x="5454000" y="1574640"/>
            <a:ext cx="2824200" cy="1006560"/>
            <a:chOff x="5454000" y="1574640"/>
            <a:chExt cx="2824200" cy="1006560"/>
          </a:xfrm>
        </p:grpSpPr>
        <p:sp>
          <p:nvSpPr>
            <p:cNvPr id="114" name="AutoShape 16"/>
            <p:cNvSpPr/>
            <p:nvPr/>
          </p:nvSpPr>
          <p:spPr>
            <a:xfrm>
              <a:off x="5526360" y="1574640"/>
              <a:ext cx="2743200" cy="1006560"/>
            </a:xfrm>
            <a:prstGeom prst="roundRect">
              <a:avLst>
                <a:gd name="adj" fmla="val 12495"/>
              </a:avLst>
            </a:prstGeom>
            <a:solidFill>
              <a:srgbClr val="5e2d37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17"/>
            <p:cNvSpPr/>
            <p:nvPr/>
          </p:nvSpPr>
          <p:spPr>
            <a:xfrm>
              <a:off x="5454000" y="1623960"/>
              <a:ext cx="28242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Arial"/>
                </a:rPr>
                <a:t>Standard Quantity</a:t>
              </a:r>
              <a:br>
                <a:rPr sz="2400"/>
              </a:br>
              <a:r>
                <a:rPr b="1" lang="en-US" sz="2400" spc="-1" strike="noStrike">
                  <a:solidFill>
                    <a:srgbClr val="ffff99"/>
                  </a:solidFill>
                  <a:latin typeface="Arial"/>
                </a:rPr>
                <a:t>per Un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/>
          </p:nvPr>
        </p:nvSpPr>
        <p:spPr>
          <a:xfrm>
            <a:off x="723600" y="2057400"/>
            <a:ext cx="7697880" cy="3525840"/>
          </a:xfrm>
          <a:prstGeom prst="rect">
            <a:avLst/>
          </a:prstGeom>
          <a:solidFill>
            <a:srgbClr val="f7c1a4"/>
          </a:solidFill>
          <a:ln w="284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nson’s materials price variance (MPV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the week w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8119"/>
                </a:solidFill>
                <a:latin typeface="Arial"/>
                <a:ea typeface="Arial"/>
              </a:rPr>
              <a:t>a.</a:t>
            </a:r>
            <a:r>
              <a:rPr b="0" lang="en-US" sz="2800" spc="-1" strike="noStrike">
                <a:solidFill>
                  <a:srgbClr val="ff8119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8119"/>
                </a:solidFill>
                <a:latin typeface="Arial"/>
                <a:ea typeface="Arial"/>
              </a:rPr>
              <a:t>$170 unfavorable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$170 favor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8119"/>
                </a:solidFill>
                <a:latin typeface="Arial"/>
                <a:ea typeface="Arial"/>
              </a:rPr>
              <a:t>c.</a:t>
            </a:r>
            <a:r>
              <a:rPr b="0" lang="en-US" sz="2800" spc="-1" strike="noStrike">
                <a:solidFill>
                  <a:srgbClr val="ff8119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8119"/>
                </a:solidFill>
                <a:latin typeface="Arial"/>
                <a:ea typeface="Arial"/>
              </a:rPr>
              <a:t>$800 unfavor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119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8119"/>
                </a:solidFill>
                <a:latin typeface="Arial"/>
                <a:ea typeface="Arial"/>
              </a:rPr>
              <a:t>d.</a:t>
            </a:r>
            <a:r>
              <a:rPr b="0" lang="en-US" sz="2800" spc="-1" strike="noStrike">
                <a:solidFill>
                  <a:srgbClr val="ff8119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8119"/>
                </a:solidFill>
                <a:latin typeface="Arial"/>
                <a:ea typeface="Arial"/>
              </a:rPr>
              <a:t>$800 favor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"/>
          <p:cNvSpPr/>
          <p:nvPr/>
        </p:nvSpPr>
        <p:spPr>
          <a:xfrm>
            <a:off x="949320" y="3392640"/>
            <a:ext cx="635040" cy="63468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Group 4"/>
          <p:cNvGrpSpPr/>
          <p:nvPr/>
        </p:nvGrpSpPr>
        <p:grpSpPr>
          <a:xfrm>
            <a:off x="3962520" y="3657600"/>
            <a:ext cx="5105160" cy="1932120"/>
            <a:chOff x="3962520" y="3657600"/>
            <a:chExt cx="5105160" cy="1932120"/>
          </a:xfrm>
        </p:grpSpPr>
        <p:sp>
          <p:nvSpPr>
            <p:cNvPr id="475" name="Freeform 5"/>
            <p:cNvSpPr/>
            <p:nvPr/>
          </p:nvSpPr>
          <p:spPr>
            <a:xfrm>
              <a:off x="4190760" y="3657600"/>
              <a:ext cx="1952280" cy="1220400"/>
            </a:xfrm>
            <a:custGeom>
              <a:avLst/>
              <a:gdLst>
                <a:gd name="textAreaLeft" fmla="*/ 0 w 1952280"/>
                <a:gd name="textAreaRight" fmla="*/ 1952640 w 1952280"/>
                <a:gd name="textAreaTop" fmla="*/ 0 h 1220400"/>
                <a:gd name="textAreaBottom" fmla="*/ 1220400 h 1220400"/>
              </a:gdLst>
              <a:ahLst/>
              <a:rect l="textAreaLeft" t="textAreaTop" r="textAreaRight" b="textAreaBottom"/>
              <a:pathLst>
                <a:path w="1230" h="769">
                  <a:moveTo>
                    <a:pt x="259" y="67"/>
                  </a:moveTo>
                  <a:lnTo>
                    <a:pt x="313" y="82"/>
                  </a:lnTo>
                  <a:lnTo>
                    <a:pt x="399" y="103"/>
                  </a:lnTo>
                  <a:lnTo>
                    <a:pt x="489" y="129"/>
                  </a:lnTo>
                  <a:lnTo>
                    <a:pt x="571" y="158"/>
                  </a:lnTo>
                  <a:lnTo>
                    <a:pt x="656" y="192"/>
                  </a:lnTo>
                  <a:lnTo>
                    <a:pt x="730" y="229"/>
                  </a:lnTo>
                  <a:lnTo>
                    <a:pt x="812" y="267"/>
                  </a:lnTo>
                  <a:lnTo>
                    <a:pt x="878" y="312"/>
                  </a:lnTo>
                  <a:lnTo>
                    <a:pt x="942" y="354"/>
                  </a:lnTo>
                  <a:lnTo>
                    <a:pt x="1006" y="402"/>
                  </a:lnTo>
                  <a:lnTo>
                    <a:pt x="1055" y="452"/>
                  </a:lnTo>
                  <a:lnTo>
                    <a:pt x="1101" y="498"/>
                  </a:lnTo>
                  <a:lnTo>
                    <a:pt x="1145" y="550"/>
                  </a:lnTo>
                  <a:lnTo>
                    <a:pt x="1171" y="599"/>
                  </a:lnTo>
                  <a:lnTo>
                    <a:pt x="1199" y="651"/>
                  </a:lnTo>
                  <a:lnTo>
                    <a:pt x="1217" y="702"/>
                  </a:lnTo>
                  <a:lnTo>
                    <a:pt x="1229" y="750"/>
                  </a:lnTo>
                  <a:lnTo>
                    <a:pt x="1227" y="768"/>
                  </a:lnTo>
                  <a:lnTo>
                    <a:pt x="1207" y="702"/>
                  </a:lnTo>
                  <a:lnTo>
                    <a:pt x="1181" y="656"/>
                  </a:lnTo>
                  <a:lnTo>
                    <a:pt x="1145" y="610"/>
                  </a:lnTo>
                  <a:lnTo>
                    <a:pt x="1099" y="565"/>
                  </a:lnTo>
                  <a:lnTo>
                    <a:pt x="1045" y="522"/>
                  </a:lnTo>
                  <a:lnTo>
                    <a:pt x="980" y="475"/>
                  </a:lnTo>
                  <a:lnTo>
                    <a:pt x="908" y="432"/>
                  </a:lnTo>
                  <a:lnTo>
                    <a:pt x="830" y="394"/>
                  </a:lnTo>
                  <a:lnTo>
                    <a:pt x="744" y="353"/>
                  </a:lnTo>
                  <a:lnTo>
                    <a:pt x="650" y="316"/>
                  </a:lnTo>
                  <a:lnTo>
                    <a:pt x="557" y="285"/>
                  </a:lnTo>
                  <a:lnTo>
                    <a:pt x="459" y="255"/>
                  </a:lnTo>
                  <a:lnTo>
                    <a:pt x="359" y="229"/>
                  </a:lnTo>
                  <a:lnTo>
                    <a:pt x="255" y="207"/>
                  </a:lnTo>
                  <a:lnTo>
                    <a:pt x="251" y="277"/>
                  </a:lnTo>
                  <a:lnTo>
                    <a:pt x="0" y="94"/>
                  </a:lnTo>
                  <a:lnTo>
                    <a:pt x="259" y="0"/>
                  </a:lnTo>
                  <a:lnTo>
                    <a:pt x="259" y="67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6"/>
            <p:cNvSpPr/>
            <p:nvPr/>
          </p:nvSpPr>
          <p:spPr>
            <a:xfrm>
              <a:off x="3962520" y="4403520"/>
              <a:ext cx="5105160" cy="1186200"/>
            </a:xfrm>
            <a:prstGeom prst="rect">
              <a:avLst/>
            </a:prstGeom>
            <a:solidFill>
              <a:srgbClr val="ffff99"/>
            </a:solidFill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MPV = AQ(AP - SP)</a:t>
              </a:r>
              <a:br>
                <a:rPr sz="2400"/>
              </a:b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MPV = 1,700 lbs. × ($3.90 - 4.00)</a:t>
              </a:r>
              <a:br>
                <a:rPr sz="2400"/>
              </a:b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MPV = $170 Favora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Group 3"/>
          <p:cNvGrpSpPr/>
          <p:nvPr/>
        </p:nvGrpSpPr>
        <p:grpSpPr>
          <a:xfrm>
            <a:off x="7790040" y="496800"/>
            <a:ext cx="1201680" cy="1407960"/>
            <a:chOff x="7790040" y="496800"/>
            <a:chExt cx="1201680" cy="1407960"/>
          </a:xfrm>
        </p:grpSpPr>
        <p:grpSp>
          <p:nvGrpSpPr>
            <p:cNvPr id="478" name="Group 4"/>
            <p:cNvGrpSpPr/>
            <p:nvPr/>
          </p:nvGrpSpPr>
          <p:grpSpPr>
            <a:xfrm>
              <a:off x="7790040" y="496800"/>
              <a:ext cx="1028880" cy="1407960"/>
              <a:chOff x="7790040" y="496800"/>
              <a:chExt cx="1028880" cy="1407960"/>
            </a:xfrm>
          </p:grpSpPr>
          <p:grpSp>
            <p:nvGrpSpPr>
              <p:cNvPr id="479" name="Group 5"/>
              <p:cNvGrpSpPr/>
              <p:nvPr/>
            </p:nvGrpSpPr>
            <p:grpSpPr>
              <a:xfrm>
                <a:off x="7790040" y="576360"/>
                <a:ext cx="138240" cy="1250640"/>
                <a:chOff x="7790040" y="576360"/>
                <a:chExt cx="138240" cy="1250640"/>
              </a:xfrm>
            </p:grpSpPr>
            <p:sp>
              <p:nvSpPr>
                <p:cNvPr id="480" name="Freeform 6"/>
                <p:cNvSpPr/>
                <p:nvPr/>
              </p:nvSpPr>
              <p:spPr>
                <a:xfrm>
                  <a:off x="7790040" y="576360"/>
                  <a:ext cx="138240" cy="1250640"/>
                </a:xfrm>
                <a:custGeom>
                  <a:avLst/>
                  <a:gdLst>
                    <a:gd name="textAreaLeft" fmla="*/ 0 w 138240"/>
                    <a:gd name="textAreaRight" fmla="*/ 138600 w 138240"/>
                    <a:gd name="textAreaTop" fmla="*/ 0 h 1250640"/>
                    <a:gd name="textAreaBottom" fmla="*/ 1251000 h 1250640"/>
                  </a:gdLst>
                  <a:ahLst/>
                  <a:rect l="textAreaLeft" t="textAreaTop" r="textAreaRight" b="textAreaBottom"/>
                  <a:pathLst>
                    <a:path w="261" h="2363">
                      <a:moveTo>
                        <a:pt x="111" y="0"/>
                      </a:moveTo>
                      <a:lnTo>
                        <a:pt x="0" y="262"/>
                      </a:lnTo>
                      <a:lnTo>
                        <a:pt x="0" y="2100"/>
                      </a:lnTo>
                      <a:lnTo>
                        <a:pt x="149" y="2363"/>
                      </a:lnTo>
                      <a:lnTo>
                        <a:pt x="261" y="2100"/>
                      </a:lnTo>
                      <a:lnTo>
                        <a:pt x="261" y="226"/>
                      </a:lnTo>
                      <a:lnTo>
                        <a:pt x="111" y="0"/>
                      </a:lnTo>
                      <a:close/>
                    </a:path>
                  </a:pathLst>
                </a:custGeom>
                <a:solidFill>
                  <a:srgbClr val="9f9fb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Freeform 7"/>
                <p:cNvSpPr/>
                <p:nvPr/>
              </p:nvSpPr>
              <p:spPr>
                <a:xfrm>
                  <a:off x="7790040" y="576360"/>
                  <a:ext cx="119160" cy="125064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250640"/>
                    <a:gd name="textAreaBottom" fmla="*/ 1251000 h 1250640"/>
                  </a:gdLst>
                  <a:ahLst/>
                  <a:rect l="textAreaLeft" t="textAreaTop" r="textAreaRight" b="textAreaBottom"/>
                  <a:pathLst>
                    <a:path w="225" h="2363">
                      <a:moveTo>
                        <a:pt x="111" y="0"/>
                      </a:moveTo>
                      <a:lnTo>
                        <a:pt x="185" y="112"/>
                      </a:lnTo>
                      <a:lnTo>
                        <a:pt x="111" y="262"/>
                      </a:lnTo>
                      <a:lnTo>
                        <a:pt x="111" y="1988"/>
                      </a:lnTo>
                      <a:lnTo>
                        <a:pt x="225" y="2213"/>
                      </a:lnTo>
                      <a:lnTo>
                        <a:pt x="149" y="2363"/>
                      </a:lnTo>
                      <a:lnTo>
                        <a:pt x="0" y="2100"/>
                      </a:lnTo>
                      <a:lnTo>
                        <a:pt x="0" y="262"/>
                      </a:lnTo>
                      <a:lnTo>
                        <a:pt x="111" y="0"/>
                      </a:lnTo>
                      <a:close/>
                    </a:path>
                  </a:pathLst>
                </a:custGeom>
                <a:solidFill>
                  <a:srgbClr val="bfbfd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2" name="Group 8"/>
              <p:cNvGrpSpPr/>
              <p:nvPr/>
            </p:nvGrpSpPr>
            <p:grpSpPr>
              <a:xfrm>
                <a:off x="7809120" y="496800"/>
                <a:ext cx="1009800" cy="1407960"/>
                <a:chOff x="7809120" y="496800"/>
                <a:chExt cx="1009800" cy="1407960"/>
              </a:xfrm>
            </p:grpSpPr>
            <p:sp>
              <p:nvSpPr>
                <p:cNvPr id="483" name="Freeform 9"/>
                <p:cNvSpPr/>
                <p:nvPr/>
              </p:nvSpPr>
              <p:spPr>
                <a:xfrm>
                  <a:off x="7809120" y="496800"/>
                  <a:ext cx="969840" cy="79560"/>
                </a:xfrm>
                <a:custGeom>
                  <a:avLst/>
                  <a:gdLst>
                    <a:gd name="textAreaLeft" fmla="*/ 0 w 969840"/>
                    <a:gd name="textAreaRight" fmla="*/ 970200 w 969840"/>
                    <a:gd name="textAreaTop" fmla="*/ 0 h 79560"/>
                    <a:gd name="textAreaBottom" fmla="*/ 79920 h 79560"/>
                  </a:gdLst>
                  <a:ahLst/>
                  <a:rect l="textAreaLeft" t="textAreaTop" r="textAreaRight" b="textAreaBottom"/>
                  <a:pathLst>
                    <a:path w="1834" h="149">
                      <a:moveTo>
                        <a:pt x="75" y="149"/>
                      </a:moveTo>
                      <a:lnTo>
                        <a:pt x="0" y="0"/>
                      </a:lnTo>
                      <a:lnTo>
                        <a:pt x="1834" y="0"/>
                      </a:lnTo>
                      <a:lnTo>
                        <a:pt x="1760" y="149"/>
                      </a:lnTo>
                      <a:lnTo>
                        <a:pt x="75" y="149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Freeform 10"/>
                <p:cNvSpPr/>
                <p:nvPr/>
              </p:nvSpPr>
              <p:spPr>
                <a:xfrm>
                  <a:off x="7829640" y="1827000"/>
                  <a:ext cx="970200" cy="77760"/>
                </a:xfrm>
                <a:custGeom>
                  <a:avLst/>
                  <a:gdLst>
                    <a:gd name="textAreaLeft" fmla="*/ 0 w 970200"/>
                    <a:gd name="textAreaRight" fmla="*/ 970560 w 970200"/>
                    <a:gd name="textAreaTop" fmla="*/ 0 h 77760"/>
                    <a:gd name="textAreaBottom" fmla="*/ 78120 h 77760"/>
                  </a:gdLst>
                  <a:ahLst/>
                  <a:rect l="textAreaLeft" t="textAreaTop" r="textAreaRight" b="textAreaBottom"/>
                  <a:pathLst>
                    <a:path w="1834" h="149">
                      <a:moveTo>
                        <a:pt x="75" y="0"/>
                      </a:moveTo>
                      <a:lnTo>
                        <a:pt x="1722" y="0"/>
                      </a:lnTo>
                      <a:lnTo>
                        <a:pt x="1834" y="113"/>
                      </a:lnTo>
                      <a:lnTo>
                        <a:pt x="1760" y="149"/>
                      </a:lnTo>
                      <a:lnTo>
                        <a:pt x="0" y="149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solidFill>
                  <a:srgbClr val="9f9fb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Freeform 11"/>
                <p:cNvSpPr/>
                <p:nvPr/>
              </p:nvSpPr>
              <p:spPr>
                <a:xfrm>
                  <a:off x="7848720" y="576360"/>
                  <a:ext cx="970200" cy="1250640"/>
                </a:xfrm>
                <a:custGeom>
                  <a:avLst/>
                  <a:gdLst>
                    <a:gd name="textAreaLeft" fmla="*/ 0 w 970200"/>
                    <a:gd name="textAreaRight" fmla="*/ 970560 w 970200"/>
                    <a:gd name="textAreaTop" fmla="*/ 0 h 1250640"/>
                    <a:gd name="textAreaBottom" fmla="*/ 1251000 h 1250640"/>
                  </a:gdLst>
                  <a:ahLst/>
                  <a:rect l="textAreaLeft" t="textAreaTop" r="textAreaRight" b="textAreaBottom"/>
                  <a:pathLst>
                    <a:path w="1834" h="2363">
                      <a:moveTo>
                        <a:pt x="38" y="2363"/>
                      </a:moveTo>
                      <a:lnTo>
                        <a:pt x="1685" y="2363"/>
                      </a:lnTo>
                      <a:lnTo>
                        <a:pt x="1834" y="2100"/>
                      </a:lnTo>
                      <a:lnTo>
                        <a:pt x="1834" y="226"/>
                      </a:lnTo>
                      <a:lnTo>
                        <a:pt x="1685" y="0"/>
                      </a:lnTo>
                      <a:lnTo>
                        <a:pt x="0" y="0"/>
                      </a:lnTo>
                      <a:lnTo>
                        <a:pt x="150" y="226"/>
                      </a:lnTo>
                      <a:lnTo>
                        <a:pt x="150" y="2100"/>
                      </a:lnTo>
                      <a:lnTo>
                        <a:pt x="38" y="2363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Rectangle 12"/>
                <p:cNvSpPr/>
                <p:nvPr/>
              </p:nvSpPr>
              <p:spPr>
                <a:xfrm>
                  <a:off x="7929720" y="974520"/>
                  <a:ext cx="887400" cy="254160"/>
                </a:xfrm>
                <a:prstGeom prst="rect">
                  <a:avLst/>
                </a:prstGeom>
                <a:solidFill>
                  <a:srgbClr val="ff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Freeform 13"/>
                <p:cNvSpPr/>
                <p:nvPr/>
              </p:nvSpPr>
              <p:spPr>
                <a:xfrm>
                  <a:off x="7869600" y="1687320"/>
                  <a:ext cx="949320" cy="139680"/>
                </a:xfrm>
                <a:custGeom>
                  <a:avLst/>
                  <a:gdLst>
                    <a:gd name="textAreaLeft" fmla="*/ 0 w 949320"/>
                    <a:gd name="textAreaRight" fmla="*/ 949680 w 949320"/>
                    <a:gd name="textAreaTop" fmla="*/ 0 h 139680"/>
                    <a:gd name="textAreaBottom" fmla="*/ 140040 h 139680"/>
                  </a:gdLst>
                  <a:ahLst/>
                  <a:rect l="textAreaLeft" t="textAreaTop" r="textAreaRight" b="textAreaBottom"/>
                  <a:pathLst>
                    <a:path w="1796" h="263">
                      <a:moveTo>
                        <a:pt x="112" y="0"/>
                      </a:moveTo>
                      <a:lnTo>
                        <a:pt x="0" y="263"/>
                      </a:lnTo>
                      <a:lnTo>
                        <a:pt x="1647" y="263"/>
                      </a:lnTo>
                      <a:lnTo>
                        <a:pt x="1796" y="0"/>
                      </a:lnTo>
                      <a:lnTo>
                        <a:pt x="112" y="0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88" name="Rectangle 14"/>
            <p:cNvSpPr/>
            <p:nvPr/>
          </p:nvSpPr>
          <p:spPr>
            <a:xfrm>
              <a:off x="8004240" y="922320"/>
              <a:ext cx="987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Zipp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Quick Check </a:t>
            </a:r>
            <a:r>
              <a:rPr b="0" lang="en-US" sz="4000" spc="-1" strike="noStrike">
                <a:solidFill>
                  <a:srgbClr val="464646"/>
                </a:solidFill>
                <a:latin typeface="Wingdings"/>
                <a:ea typeface="Wingdings"/>
              </a:rPr>
              <a:t>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2"/>
          <p:cNvSpPr/>
          <p:nvPr/>
        </p:nvSpPr>
        <p:spPr>
          <a:xfrm>
            <a:off x="266760" y="3286080"/>
            <a:ext cx="8607240" cy="174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464646"/>
                </a:solidFill>
                <a:latin typeface="Arial"/>
              </a:rPr>
              <a:t>1,700 lbs.                   1,700 lbs.                     1,500 lbs.</a:t>
            </a:r>
            <a:br>
              <a:rPr sz="2400"/>
            </a:br>
            <a:r>
              <a:rPr b="0" lang="en-US" sz="2400" spc="-1" strike="noStrike">
                <a:solidFill>
                  <a:srgbClr val="464646"/>
                </a:solidFill>
                <a:latin typeface="Arial"/>
              </a:rPr>
              <a:t>           ×                               ×                                  ×</a:t>
            </a:r>
            <a:br>
              <a:rPr sz="2400"/>
            </a:br>
            <a:r>
              <a:rPr b="0" lang="en-US" sz="2400" spc="-1" strike="noStrike">
                <a:solidFill>
                  <a:srgbClr val="464646"/>
                </a:solidFill>
                <a:latin typeface="Arial"/>
              </a:rPr>
              <a:t>    $3.90 per lb.               $4.00 per lb.                $4.00 per l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 $6,630                     = $ 6,800                     = $6,000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Group 3"/>
          <p:cNvGrpSpPr/>
          <p:nvPr/>
        </p:nvGrpSpPr>
        <p:grpSpPr>
          <a:xfrm>
            <a:off x="876240" y="5037120"/>
            <a:ext cx="3882960" cy="1507680"/>
            <a:chOff x="876240" y="5037120"/>
            <a:chExt cx="3882960" cy="1507680"/>
          </a:xfrm>
        </p:grpSpPr>
        <p:sp>
          <p:nvSpPr>
            <p:cNvPr id="492" name="Freeform 4"/>
            <p:cNvSpPr/>
            <p:nvPr/>
          </p:nvSpPr>
          <p:spPr>
            <a:xfrm>
              <a:off x="1234800" y="5037120"/>
              <a:ext cx="3142800" cy="619200"/>
            </a:xfrm>
            <a:custGeom>
              <a:avLst/>
              <a:gdLst>
                <a:gd name="textAreaLeft" fmla="*/ 0 w 3142800"/>
                <a:gd name="textAreaRight" fmla="*/ 3143160 w 314280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1980" h="390">
                  <a:moveTo>
                    <a:pt x="1608" y="257"/>
                  </a:moveTo>
                  <a:lnTo>
                    <a:pt x="1645" y="255"/>
                  </a:lnTo>
                  <a:lnTo>
                    <a:pt x="1681" y="251"/>
                  </a:lnTo>
                  <a:lnTo>
                    <a:pt x="1718" y="244"/>
                  </a:lnTo>
                  <a:lnTo>
                    <a:pt x="1753" y="235"/>
                  </a:lnTo>
                  <a:lnTo>
                    <a:pt x="1787" y="224"/>
                  </a:lnTo>
                  <a:lnTo>
                    <a:pt x="1819" y="209"/>
                  </a:lnTo>
                  <a:lnTo>
                    <a:pt x="1849" y="194"/>
                  </a:lnTo>
                  <a:lnTo>
                    <a:pt x="1876" y="176"/>
                  </a:lnTo>
                  <a:lnTo>
                    <a:pt x="1900" y="156"/>
                  </a:lnTo>
                  <a:lnTo>
                    <a:pt x="1922" y="135"/>
                  </a:lnTo>
                  <a:lnTo>
                    <a:pt x="1940" y="112"/>
                  </a:lnTo>
                  <a:lnTo>
                    <a:pt x="1955" y="89"/>
                  </a:lnTo>
                  <a:lnTo>
                    <a:pt x="1966" y="64"/>
                  </a:lnTo>
                  <a:lnTo>
                    <a:pt x="1975" y="39"/>
                  </a:lnTo>
                  <a:lnTo>
                    <a:pt x="1978" y="13"/>
                  </a:lnTo>
                  <a:lnTo>
                    <a:pt x="1979" y="0"/>
                  </a:lnTo>
                  <a:lnTo>
                    <a:pt x="1978" y="21"/>
                  </a:lnTo>
                  <a:lnTo>
                    <a:pt x="1972" y="43"/>
                  </a:lnTo>
                  <a:lnTo>
                    <a:pt x="1961" y="64"/>
                  </a:lnTo>
                  <a:lnTo>
                    <a:pt x="1949" y="83"/>
                  </a:lnTo>
                  <a:lnTo>
                    <a:pt x="1933" y="102"/>
                  </a:lnTo>
                  <a:lnTo>
                    <a:pt x="1913" y="119"/>
                  </a:lnTo>
                  <a:lnTo>
                    <a:pt x="1891" y="134"/>
                  </a:lnTo>
                  <a:lnTo>
                    <a:pt x="1866" y="148"/>
                  </a:lnTo>
                  <a:lnTo>
                    <a:pt x="1839" y="159"/>
                  </a:lnTo>
                  <a:lnTo>
                    <a:pt x="1810" y="168"/>
                  </a:lnTo>
                  <a:lnTo>
                    <a:pt x="1781" y="174"/>
                  </a:lnTo>
                  <a:lnTo>
                    <a:pt x="1751" y="179"/>
                  </a:lnTo>
                  <a:lnTo>
                    <a:pt x="1719" y="180"/>
                  </a:lnTo>
                  <a:lnTo>
                    <a:pt x="1214" y="180"/>
                  </a:lnTo>
                  <a:lnTo>
                    <a:pt x="1185" y="182"/>
                  </a:lnTo>
                  <a:lnTo>
                    <a:pt x="1157" y="186"/>
                  </a:lnTo>
                  <a:lnTo>
                    <a:pt x="1129" y="193"/>
                  </a:lnTo>
                  <a:lnTo>
                    <a:pt x="1103" y="202"/>
                  </a:lnTo>
                  <a:lnTo>
                    <a:pt x="1080" y="213"/>
                  </a:lnTo>
                  <a:lnTo>
                    <a:pt x="1058" y="227"/>
                  </a:lnTo>
                  <a:lnTo>
                    <a:pt x="1038" y="242"/>
                  </a:lnTo>
                  <a:lnTo>
                    <a:pt x="1022" y="258"/>
                  </a:lnTo>
                  <a:lnTo>
                    <a:pt x="1010" y="276"/>
                  </a:lnTo>
                  <a:lnTo>
                    <a:pt x="1000" y="295"/>
                  </a:lnTo>
                  <a:lnTo>
                    <a:pt x="994" y="316"/>
                  </a:lnTo>
                  <a:lnTo>
                    <a:pt x="991" y="335"/>
                  </a:lnTo>
                  <a:lnTo>
                    <a:pt x="990" y="338"/>
                  </a:lnTo>
                  <a:lnTo>
                    <a:pt x="990" y="335"/>
                  </a:lnTo>
                  <a:lnTo>
                    <a:pt x="986" y="316"/>
                  </a:lnTo>
                  <a:lnTo>
                    <a:pt x="980" y="295"/>
                  </a:lnTo>
                  <a:lnTo>
                    <a:pt x="971" y="276"/>
                  </a:lnTo>
                  <a:lnTo>
                    <a:pt x="958" y="258"/>
                  </a:lnTo>
                  <a:lnTo>
                    <a:pt x="941" y="242"/>
                  </a:lnTo>
                  <a:lnTo>
                    <a:pt x="922" y="227"/>
                  </a:lnTo>
                  <a:lnTo>
                    <a:pt x="900" y="213"/>
                  </a:lnTo>
                  <a:lnTo>
                    <a:pt x="876" y="202"/>
                  </a:lnTo>
                  <a:lnTo>
                    <a:pt x="851" y="193"/>
                  </a:lnTo>
                  <a:lnTo>
                    <a:pt x="824" y="186"/>
                  </a:lnTo>
                  <a:lnTo>
                    <a:pt x="795" y="182"/>
                  </a:lnTo>
                  <a:lnTo>
                    <a:pt x="766" y="180"/>
                  </a:lnTo>
                  <a:lnTo>
                    <a:pt x="261" y="180"/>
                  </a:lnTo>
                  <a:lnTo>
                    <a:pt x="231" y="179"/>
                  </a:lnTo>
                  <a:lnTo>
                    <a:pt x="199" y="174"/>
                  </a:lnTo>
                  <a:lnTo>
                    <a:pt x="169" y="168"/>
                  </a:lnTo>
                  <a:lnTo>
                    <a:pt x="141" y="159"/>
                  </a:lnTo>
                  <a:lnTo>
                    <a:pt x="115" y="148"/>
                  </a:lnTo>
                  <a:lnTo>
                    <a:pt x="90" y="134"/>
                  </a:lnTo>
                  <a:lnTo>
                    <a:pt x="67" y="119"/>
                  </a:lnTo>
                  <a:lnTo>
                    <a:pt x="48" y="102"/>
                  </a:lnTo>
                  <a:lnTo>
                    <a:pt x="32" y="83"/>
                  </a:lnTo>
                  <a:lnTo>
                    <a:pt x="19" y="64"/>
                  </a:lnTo>
                  <a:lnTo>
                    <a:pt x="9" y="43"/>
                  </a:lnTo>
                  <a:lnTo>
                    <a:pt x="3" y="21"/>
                  </a:lnTo>
                  <a:lnTo>
                    <a:pt x="0" y="0"/>
                  </a:lnTo>
                  <a:lnTo>
                    <a:pt x="2" y="13"/>
                  </a:lnTo>
                  <a:lnTo>
                    <a:pt x="6" y="39"/>
                  </a:lnTo>
                  <a:lnTo>
                    <a:pt x="13" y="64"/>
                  </a:lnTo>
                  <a:lnTo>
                    <a:pt x="25" y="89"/>
                  </a:lnTo>
                  <a:lnTo>
                    <a:pt x="40" y="112"/>
                  </a:lnTo>
                  <a:lnTo>
                    <a:pt x="59" y="135"/>
                  </a:lnTo>
                  <a:lnTo>
                    <a:pt x="81" y="156"/>
                  </a:lnTo>
                  <a:lnTo>
                    <a:pt x="105" y="176"/>
                  </a:lnTo>
                  <a:lnTo>
                    <a:pt x="132" y="194"/>
                  </a:lnTo>
                  <a:lnTo>
                    <a:pt x="161" y="209"/>
                  </a:lnTo>
                  <a:lnTo>
                    <a:pt x="193" y="224"/>
                  </a:lnTo>
                  <a:lnTo>
                    <a:pt x="227" y="235"/>
                  </a:lnTo>
                  <a:lnTo>
                    <a:pt x="262" y="244"/>
                  </a:lnTo>
                  <a:lnTo>
                    <a:pt x="299" y="251"/>
                  </a:lnTo>
                  <a:lnTo>
                    <a:pt x="334" y="255"/>
                  </a:lnTo>
                  <a:lnTo>
                    <a:pt x="372" y="257"/>
                  </a:lnTo>
                  <a:lnTo>
                    <a:pt x="803" y="257"/>
                  </a:lnTo>
                  <a:lnTo>
                    <a:pt x="830" y="259"/>
                  </a:lnTo>
                  <a:lnTo>
                    <a:pt x="856" y="262"/>
                  </a:lnTo>
                  <a:lnTo>
                    <a:pt x="879" y="269"/>
                  </a:lnTo>
                  <a:lnTo>
                    <a:pt x="903" y="277"/>
                  </a:lnTo>
                  <a:lnTo>
                    <a:pt x="923" y="289"/>
                  </a:lnTo>
                  <a:lnTo>
                    <a:pt x="943" y="302"/>
                  </a:lnTo>
                  <a:lnTo>
                    <a:pt x="958" y="317"/>
                  </a:lnTo>
                  <a:lnTo>
                    <a:pt x="971" y="333"/>
                  </a:lnTo>
                  <a:lnTo>
                    <a:pt x="980" y="350"/>
                  </a:lnTo>
                  <a:lnTo>
                    <a:pt x="986" y="369"/>
                  </a:lnTo>
                  <a:lnTo>
                    <a:pt x="990" y="387"/>
                  </a:lnTo>
                  <a:lnTo>
                    <a:pt x="990" y="389"/>
                  </a:lnTo>
                  <a:lnTo>
                    <a:pt x="992" y="370"/>
                  </a:lnTo>
                  <a:lnTo>
                    <a:pt x="997" y="352"/>
                  </a:lnTo>
                  <a:lnTo>
                    <a:pt x="1007" y="335"/>
                  </a:lnTo>
                  <a:lnTo>
                    <a:pt x="1019" y="318"/>
                  </a:lnTo>
                  <a:lnTo>
                    <a:pt x="1035" y="304"/>
                  </a:lnTo>
                  <a:lnTo>
                    <a:pt x="1053" y="290"/>
                  </a:lnTo>
                  <a:lnTo>
                    <a:pt x="1073" y="279"/>
                  </a:lnTo>
                  <a:lnTo>
                    <a:pt x="1097" y="270"/>
                  </a:lnTo>
                  <a:lnTo>
                    <a:pt x="1120" y="263"/>
                  </a:lnTo>
                  <a:lnTo>
                    <a:pt x="1146" y="259"/>
                  </a:lnTo>
                  <a:lnTo>
                    <a:pt x="1172" y="257"/>
                  </a:lnTo>
                  <a:lnTo>
                    <a:pt x="1175" y="257"/>
                  </a:lnTo>
                  <a:lnTo>
                    <a:pt x="1608" y="257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5"/>
            <p:cNvSpPr/>
            <p:nvPr/>
          </p:nvSpPr>
          <p:spPr>
            <a:xfrm>
              <a:off x="876240" y="5724360"/>
              <a:ext cx="38829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Price variance</a:t>
              </a:r>
              <a:br>
                <a:rPr sz="2400"/>
              </a:b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$170 favora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Group 6"/>
          <p:cNvGrpSpPr/>
          <p:nvPr/>
        </p:nvGrpSpPr>
        <p:grpSpPr>
          <a:xfrm>
            <a:off x="4248000" y="5037120"/>
            <a:ext cx="3882960" cy="1507680"/>
            <a:chOff x="4248000" y="5037120"/>
            <a:chExt cx="3882960" cy="1507680"/>
          </a:xfrm>
        </p:grpSpPr>
        <p:sp>
          <p:nvSpPr>
            <p:cNvPr id="495" name="Rectangle 7"/>
            <p:cNvSpPr/>
            <p:nvPr/>
          </p:nvSpPr>
          <p:spPr>
            <a:xfrm>
              <a:off x="4248000" y="5724360"/>
              <a:ext cx="38829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Quantity variance</a:t>
              </a:r>
              <a:br>
                <a:rPr sz="2400"/>
              </a:b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$800 unfavora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8"/>
            <p:cNvSpPr/>
            <p:nvPr/>
          </p:nvSpPr>
          <p:spPr>
            <a:xfrm>
              <a:off x="4589280" y="5037120"/>
              <a:ext cx="3143160" cy="619200"/>
            </a:xfrm>
            <a:custGeom>
              <a:avLst/>
              <a:gdLst>
                <a:gd name="textAreaLeft" fmla="*/ 0 w 3143160"/>
                <a:gd name="textAreaRight" fmla="*/ 3143520 w 314316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1980" h="390">
                  <a:moveTo>
                    <a:pt x="1608" y="257"/>
                  </a:moveTo>
                  <a:lnTo>
                    <a:pt x="1645" y="255"/>
                  </a:lnTo>
                  <a:lnTo>
                    <a:pt x="1681" y="251"/>
                  </a:lnTo>
                  <a:lnTo>
                    <a:pt x="1718" y="244"/>
                  </a:lnTo>
                  <a:lnTo>
                    <a:pt x="1753" y="235"/>
                  </a:lnTo>
                  <a:lnTo>
                    <a:pt x="1787" y="224"/>
                  </a:lnTo>
                  <a:lnTo>
                    <a:pt x="1819" y="209"/>
                  </a:lnTo>
                  <a:lnTo>
                    <a:pt x="1849" y="194"/>
                  </a:lnTo>
                  <a:lnTo>
                    <a:pt x="1876" y="176"/>
                  </a:lnTo>
                  <a:lnTo>
                    <a:pt x="1900" y="156"/>
                  </a:lnTo>
                  <a:lnTo>
                    <a:pt x="1922" y="135"/>
                  </a:lnTo>
                  <a:lnTo>
                    <a:pt x="1940" y="112"/>
                  </a:lnTo>
                  <a:lnTo>
                    <a:pt x="1955" y="89"/>
                  </a:lnTo>
                  <a:lnTo>
                    <a:pt x="1966" y="64"/>
                  </a:lnTo>
                  <a:lnTo>
                    <a:pt x="1975" y="39"/>
                  </a:lnTo>
                  <a:lnTo>
                    <a:pt x="1978" y="13"/>
                  </a:lnTo>
                  <a:lnTo>
                    <a:pt x="1979" y="0"/>
                  </a:lnTo>
                  <a:lnTo>
                    <a:pt x="1978" y="21"/>
                  </a:lnTo>
                  <a:lnTo>
                    <a:pt x="1972" y="43"/>
                  </a:lnTo>
                  <a:lnTo>
                    <a:pt x="1961" y="64"/>
                  </a:lnTo>
                  <a:lnTo>
                    <a:pt x="1949" y="83"/>
                  </a:lnTo>
                  <a:lnTo>
                    <a:pt x="1933" y="102"/>
                  </a:lnTo>
                  <a:lnTo>
                    <a:pt x="1913" y="119"/>
                  </a:lnTo>
                  <a:lnTo>
                    <a:pt x="1891" y="134"/>
                  </a:lnTo>
                  <a:lnTo>
                    <a:pt x="1866" y="148"/>
                  </a:lnTo>
                  <a:lnTo>
                    <a:pt x="1839" y="159"/>
                  </a:lnTo>
                  <a:lnTo>
                    <a:pt x="1810" y="168"/>
                  </a:lnTo>
                  <a:lnTo>
                    <a:pt x="1781" y="174"/>
                  </a:lnTo>
                  <a:lnTo>
                    <a:pt x="1751" y="179"/>
                  </a:lnTo>
                  <a:lnTo>
                    <a:pt x="1719" y="180"/>
                  </a:lnTo>
                  <a:lnTo>
                    <a:pt x="1214" y="180"/>
                  </a:lnTo>
                  <a:lnTo>
                    <a:pt x="1185" y="182"/>
                  </a:lnTo>
                  <a:lnTo>
                    <a:pt x="1157" y="186"/>
                  </a:lnTo>
                  <a:lnTo>
                    <a:pt x="1129" y="193"/>
                  </a:lnTo>
                  <a:lnTo>
                    <a:pt x="1103" y="202"/>
                  </a:lnTo>
                  <a:lnTo>
                    <a:pt x="1080" y="213"/>
                  </a:lnTo>
                  <a:lnTo>
                    <a:pt x="1058" y="227"/>
                  </a:lnTo>
                  <a:lnTo>
                    <a:pt x="1038" y="242"/>
                  </a:lnTo>
                  <a:lnTo>
                    <a:pt x="1022" y="258"/>
                  </a:lnTo>
                  <a:lnTo>
                    <a:pt x="1010" y="276"/>
                  </a:lnTo>
                  <a:lnTo>
                    <a:pt x="1000" y="295"/>
                  </a:lnTo>
                  <a:lnTo>
                    <a:pt x="994" y="316"/>
                  </a:lnTo>
                  <a:lnTo>
                    <a:pt x="991" y="335"/>
                  </a:lnTo>
                  <a:lnTo>
                    <a:pt x="990" y="338"/>
                  </a:lnTo>
                  <a:lnTo>
                    <a:pt x="990" y="335"/>
                  </a:lnTo>
                  <a:lnTo>
                    <a:pt x="986" y="316"/>
                  </a:lnTo>
                  <a:lnTo>
                    <a:pt x="980" y="295"/>
                  </a:lnTo>
                  <a:lnTo>
                    <a:pt x="971" y="276"/>
                  </a:lnTo>
                  <a:lnTo>
                    <a:pt x="958" y="258"/>
                  </a:lnTo>
                  <a:lnTo>
                    <a:pt x="941" y="242"/>
                  </a:lnTo>
                  <a:lnTo>
                    <a:pt x="922" y="227"/>
                  </a:lnTo>
                  <a:lnTo>
                    <a:pt x="900" y="213"/>
                  </a:lnTo>
                  <a:lnTo>
                    <a:pt x="876" y="202"/>
                  </a:lnTo>
                  <a:lnTo>
                    <a:pt x="851" y="193"/>
                  </a:lnTo>
                  <a:lnTo>
                    <a:pt x="824" y="186"/>
                  </a:lnTo>
                  <a:lnTo>
                    <a:pt x="795" y="182"/>
                  </a:lnTo>
                  <a:lnTo>
                    <a:pt x="766" y="180"/>
                  </a:lnTo>
                  <a:lnTo>
                    <a:pt x="261" y="180"/>
                  </a:lnTo>
                  <a:lnTo>
                    <a:pt x="231" y="179"/>
                  </a:lnTo>
                  <a:lnTo>
                    <a:pt x="199" y="174"/>
                  </a:lnTo>
                  <a:lnTo>
                    <a:pt x="169" y="168"/>
                  </a:lnTo>
                  <a:lnTo>
                    <a:pt x="141" y="159"/>
                  </a:lnTo>
                  <a:lnTo>
                    <a:pt x="115" y="148"/>
                  </a:lnTo>
                  <a:lnTo>
                    <a:pt x="90" y="134"/>
                  </a:lnTo>
                  <a:lnTo>
                    <a:pt x="67" y="119"/>
                  </a:lnTo>
                  <a:lnTo>
                    <a:pt x="48" y="102"/>
                  </a:lnTo>
                  <a:lnTo>
                    <a:pt x="32" y="83"/>
                  </a:lnTo>
                  <a:lnTo>
                    <a:pt x="19" y="64"/>
                  </a:lnTo>
                  <a:lnTo>
                    <a:pt x="9" y="43"/>
                  </a:lnTo>
                  <a:lnTo>
                    <a:pt x="3" y="21"/>
                  </a:lnTo>
                  <a:lnTo>
                    <a:pt x="0" y="0"/>
                  </a:lnTo>
                  <a:lnTo>
                    <a:pt x="2" y="13"/>
                  </a:lnTo>
                  <a:lnTo>
                    <a:pt x="6" y="39"/>
                  </a:lnTo>
                  <a:lnTo>
                    <a:pt x="13" y="64"/>
                  </a:lnTo>
                  <a:lnTo>
                    <a:pt x="25" y="89"/>
                  </a:lnTo>
                  <a:lnTo>
                    <a:pt x="40" y="112"/>
                  </a:lnTo>
                  <a:lnTo>
                    <a:pt x="59" y="135"/>
                  </a:lnTo>
                  <a:lnTo>
                    <a:pt x="81" y="156"/>
                  </a:lnTo>
                  <a:lnTo>
                    <a:pt x="105" y="176"/>
                  </a:lnTo>
                  <a:lnTo>
                    <a:pt x="132" y="194"/>
                  </a:lnTo>
                  <a:lnTo>
                    <a:pt x="161" y="209"/>
                  </a:lnTo>
                  <a:lnTo>
                    <a:pt x="193" y="224"/>
                  </a:lnTo>
                  <a:lnTo>
                    <a:pt x="227" y="235"/>
                  </a:lnTo>
                  <a:lnTo>
                    <a:pt x="262" y="244"/>
                  </a:lnTo>
                  <a:lnTo>
                    <a:pt x="299" y="251"/>
                  </a:lnTo>
                  <a:lnTo>
                    <a:pt x="334" y="255"/>
                  </a:lnTo>
                  <a:lnTo>
                    <a:pt x="372" y="257"/>
                  </a:lnTo>
                  <a:lnTo>
                    <a:pt x="803" y="257"/>
                  </a:lnTo>
                  <a:lnTo>
                    <a:pt x="830" y="259"/>
                  </a:lnTo>
                  <a:lnTo>
                    <a:pt x="856" y="262"/>
                  </a:lnTo>
                  <a:lnTo>
                    <a:pt x="879" y="269"/>
                  </a:lnTo>
                  <a:lnTo>
                    <a:pt x="903" y="277"/>
                  </a:lnTo>
                  <a:lnTo>
                    <a:pt x="923" y="289"/>
                  </a:lnTo>
                  <a:lnTo>
                    <a:pt x="943" y="302"/>
                  </a:lnTo>
                  <a:lnTo>
                    <a:pt x="958" y="317"/>
                  </a:lnTo>
                  <a:lnTo>
                    <a:pt x="971" y="333"/>
                  </a:lnTo>
                  <a:lnTo>
                    <a:pt x="980" y="350"/>
                  </a:lnTo>
                  <a:lnTo>
                    <a:pt x="986" y="369"/>
                  </a:lnTo>
                  <a:lnTo>
                    <a:pt x="990" y="387"/>
                  </a:lnTo>
                  <a:lnTo>
                    <a:pt x="990" y="389"/>
                  </a:lnTo>
                  <a:lnTo>
                    <a:pt x="992" y="370"/>
                  </a:lnTo>
                  <a:lnTo>
                    <a:pt x="997" y="352"/>
                  </a:lnTo>
                  <a:lnTo>
                    <a:pt x="1007" y="335"/>
                  </a:lnTo>
                  <a:lnTo>
                    <a:pt x="1019" y="318"/>
                  </a:lnTo>
                  <a:lnTo>
                    <a:pt x="1035" y="304"/>
                  </a:lnTo>
                  <a:lnTo>
                    <a:pt x="1053" y="290"/>
                  </a:lnTo>
                  <a:lnTo>
                    <a:pt x="1073" y="279"/>
                  </a:lnTo>
                  <a:lnTo>
                    <a:pt x="1097" y="270"/>
                  </a:lnTo>
                  <a:lnTo>
                    <a:pt x="1120" y="263"/>
                  </a:lnTo>
                  <a:lnTo>
                    <a:pt x="1146" y="259"/>
                  </a:lnTo>
                  <a:lnTo>
                    <a:pt x="1172" y="257"/>
                  </a:lnTo>
                  <a:lnTo>
                    <a:pt x="1175" y="257"/>
                  </a:lnTo>
                  <a:lnTo>
                    <a:pt x="1608" y="257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Group 3"/>
          <p:cNvGrpSpPr/>
          <p:nvPr/>
        </p:nvGrpSpPr>
        <p:grpSpPr>
          <a:xfrm>
            <a:off x="7790040" y="496800"/>
            <a:ext cx="1201680" cy="1407960"/>
            <a:chOff x="7790040" y="496800"/>
            <a:chExt cx="1201680" cy="1407960"/>
          </a:xfrm>
        </p:grpSpPr>
        <p:grpSp>
          <p:nvGrpSpPr>
            <p:cNvPr id="498" name="Group 4"/>
            <p:cNvGrpSpPr/>
            <p:nvPr/>
          </p:nvGrpSpPr>
          <p:grpSpPr>
            <a:xfrm>
              <a:off x="7790040" y="496800"/>
              <a:ext cx="1028880" cy="1407960"/>
              <a:chOff x="7790040" y="496800"/>
              <a:chExt cx="1028880" cy="1407960"/>
            </a:xfrm>
          </p:grpSpPr>
          <p:grpSp>
            <p:nvGrpSpPr>
              <p:cNvPr id="499" name="Group 5"/>
              <p:cNvGrpSpPr/>
              <p:nvPr/>
            </p:nvGrpSpPr>
            <p:grpSpPr>
              <a:xfrm>
                <a:off x="7790040" y="576360"/>
                <a:ext cx="138240" cy="1250640"/>
                <a:chOff x="7790040" y="576360"/>
                <a:chExt cx="138240" cy="1250640"/>
              </a:xfrm>
            </p:grpSpPr>
            <p:sp>
              <p:nvSpPr>
                <p:cNvPr id="500" name="Freeform 6"/>
                <p:cNvSpPr/>
                <p:nvPr/>
              </p:nvSpPr>
              <p:spPr>
                <a:xfrm>
                  <a:off x="7790040" y="576360"/>
                  <a:ext cx="138240" cy="1250640"/>
                </a:xfrm>
                <a:custGeom>
                  <a:avLst/>
                  <a:gdLst>
                    <a:gd name="textAreaLeft" fmla="*/ 0 w 138240"/>
                    <a:gd name="textAreaRight" fmla="*/ 138600 w 138240"/>
                    <a:gd name="textAreaTop" fmla="*/ 0 h 1250640"/>
                    <a:gd name="textAreaBottom" fmla="*/ 1251000 h 1250640"/>
                  </a:gdLst>
                  <a:ahLst/>
                  <a:rect l="textAreaLeft" t="textAreaTop" r="textAreaRight" b="textAreaBottom"/>
                  <a:pathLst>
                    <a:path w="261" h="2363">
                      <a:moveTo>
                        <a:pt x="111" y="0"/>
                      </a:moveTo>
                      <a:lnTo>
                        <a:pt x="0" y="262"/>
                      </a:lnTo>
                      <a:lnTo>
                        <a:pt x="0" y="2100"/>
                      </a:lnTo>
                      <a:lnTo>
                        <a:pt x="149" y="2363"/>
                      </a:lnTo>
                      <a:lnTo>
                        <a:pt x="261" y="2100"/>
                      </a:lnTo>
                      <a:lnTo>
                        <a:pt x="261" y="226"/>
                      </a:lnTo>
                      <a:lnTo>
                        <a:pt x="111" y="0"/>
                      </a:lnTo>
                      <a:close/>
                    </a:path>
                  </a:pathLst>
                </a:custGeom>
                <a:solidFill>
                  <a:srgbClr val="9f9fb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Freeform 7"/>
                <p:cNvSpPr/>
                <p:nvPr/>
              </p:nvSpPr>
              <p:spPr>
                <a:xfrm>
                  <a:off x="7790040" y="576360"/>
                  <a:ext cx="119160" cy="125064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250640"/>
                    <a:gd name="textAreaBottom" fmla="*/ 1251000 h 1250640"/>
                  </a:gdLst>
                  <a:ahLst/>
                  <a:rect l="textAreaLeft" t="textAreaTop" r="textAreaRight" b="textAreaBottom"/>
                  <a:pathLst>
                    <a:path w="225" h="2363">
                      <a:moveTo>
                        <a:pt x="111" y="0"/>
                      </a:moveTo>
                      <a:lnTo>
                        <a:pt x="185" y="112"/>
                      </a:lnTo>
                      <a:lnTo>
                        <a:pt x="111" y="262"/>
                      </a:lnTo>
                      <a:lnTo>
                        <a:pt x="111" y="1988"/>
                      </a:lnTo>
                      <a:lnTo>
                        <a:pt x="225" y="2213"/>
                      </a:lnTo>
                      <a:lnTo>
                        <a:pt x="149" y="2363"/>
                      </a:lnTo>
                      <a:lnTo>
                        <a:pt x="0" y="2100"/>
                      </a:lnTo>
                      <a:lnTo>
                        <a:pt x="0" y="262"/>
                      </a:lnTo>
                      <a:lnTo>
                        <a:pt x="111" y="0"/>
                      </a:lnTo>
                      <a:close/>
                    </a:path>
                  </a:pathLst>
                </a:custGeom>
                <a:solidFill>
                  <a:srgbClr val="bfbfd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2" name="Group 8"/>
              <p:cNvGrpSpPr/>
              <p:nvPr/>
            </p:nvGrpSpPr>
            <p:grpSpPr>
              <a:xfrm>
                <a:off x="7809120" y="496800"/>
                <a:ext cx="1009800" cy="1407960"/>
                <a:chOff x="7809120" y="496800"/>
                <a:chExt cx="1009800" cy="1407960"/>
              </a:xfrm>
            </p:grpSpPr>
            <p:sp>
              <p:nvSpPr>
                <p:cNvPr id="503" name="Freeform 9"/>
                <p:cNvSpPr/>
                <p:nvPr/>
              </p:nvSpPr>
              <p:spPr>
                <a:xfrm>
                  <a:off x="7809120" y="496800"/>
                  <a:ext cx="969840" cy="79560"/>
                </a:xfrm>
                <a:custGeom>
                  <a:avLst/>
                  <a:gdLst>
                    <a:gd name="textAreaLeft" fmla="*/ 0 w 969840"/>
                    <a:gd name="textAreaRight" fmla="*/ 970200 w 969840"/>
                    <a:gd name="textAreaTop" fmla="*/ 0 h 79560"/>
                    <a:gd name="textAreaBottom" fmla="*/ 79920 h 79560"/>
                  </a:gdLst>
                  <a:ahLst/>
                  <a:rect l="textAreaLeft" t="textAreaTop" r="textAreaRight" b="textAreaBottom"/>
                  <a:pathLst>
                    <a:path w="1834" h="149">
                      <a:moveTo>
                        <a:pt x="75" y="149"/>
                      </a:moveTo>
                      <a:lnTo>
                        <a:pt x="0" y="0"/>
                      </a:lnTo>
                      <a:lnTo>
                        <a:pt x="1834" y="0"/>
                      </a:lnTo>
                      <a:lnTo>
                        <a:pt x="1760" y="149"/>
                      </a:lnTo>
                      <a:lnTo>
                        <a:pt x="75" y="149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Freeform 10"/>
                <p:cNvSpPr/>
                <p:nvPr/>
              </p:nvSpPr>
              <p:spPr>
                <a:xfrm>
                  <a:off x="7829640" y="1827000"/>
                  <a:ext cx="970200" cy="77760"/>
                </a:xfrm>
                <a:custGeom>
                  <a:avLst/>
                  <a:gdLst>
                    <a:gd name="textAreaLeft" fmla="*/ 0 w 970200"/>
                    <a:gd name="textAreaRight" fmla="*/ 970560 w 970200"/>
                    <a:gd name="textAreaTop" fmla="*/ 0 h 77760"/>
                    <a:gd name="textAreaBottom" fmla="*/ 78120 h 77760"/>
                  </a:gdLst>
                  <a:ahLst/>
                  <a:rect l="textAreaLeft" t="textAreaTop" r="textAreaRight" b="textAreaBottom"/>
                  <a:pathLst>
                    <a:path w="1834" h="149">
                      <a:moveTo>
                        <a:pt x="75" y="0"/>
                      </a:moveTo>
                      <a:lnTo>
                        <a:pt x="1722" y="0"/>
                      </a:lnTo>
                      <a:lnTo>
                        <a:pt x="1834" y="113"/>
                      </a:lnTo>
                      <a:lnTo>
                        <a:pt x="1760" y="149"/>
                      </a:lnTo>
                      <a:lnTo>
                        <a:pt x="0" y="149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solidFill>
                  <a:srgbClr val="9f9fb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Freeform 11"/>
                <p:cNvSpPr/>
                <p:nvPr/>
              </p:nvSpPr>
              <p:spPr>
                <a:xfrm>
                  <a:off x="7848720" y="576360"/>
                  <a:ext cx="970200" cy="1250640"/>
                </a:xfrm>
                <a:custGeom>
                  <a:avLst/>
                  <a:gdLst>
                    <a:gd name="textAreaLeft" fmla="*/ 0 w 970200"/>
                    <a:gd name="textAreaRight" fmla="*/ 970560 w 970200"/>
                    <a:gd name="textAreaTop" fmla="*/ 0 h 1250640"/>
                    <a:gd name="textAreaBottom" fmla="*/ 1251000 h 1250640"/>
                  </a:gdLst>
                  <a:ahLst/>
                  <a:rect l="textAreaLeft" t="textAreaTop" r="textAreaRight" b="textAreaBottom"/>
                  <a:pathLst>
                    <a:path w="1834" h="2363">
                      <a:moveTo>
                        <a:pt x="38" y="2363"/>
                      </a:moveTo>
                      <a:lnTo>
                        <a:pt x="1685" y="2363"/>
                      </a:lnTo>
                      <a:lnTo>
                        <a:pt x="1834" y="2100"/>
                      </a:lnTo>
                      <a:lnTo>
                        <a:pt x="1834" y="226"/>
                      </a:lnTo>
                      <a:lnTo>
                        <a:pt x="1685" y="0"/>
                      </a:lnTo>
                      <a:lnTo>
                        <a:pt x="0" y="0"/>
                      </a:lnTo>
                      <a:lnTo>
                        <a:pt x="150" y="226"/>
                      </a:lnTo>
                      <a:lnTo>
                        <a:pt x="150" y="2100"/>
                      </a:lnTo>
                      <a:lnTo>
                        <a:pt x="38" y="2363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Rectangle 12"/>
                <p:cNvSpPr/>
                <p:nvPr/>
              </p:nvSpPr>
              <p:spPr>
                <a:xfrm>
                  <a:off x="7929720" y="974520"/>
                  <a:ext cx="887400" cy="254160"/>
                </a:xfrm>
                <a:prstGeom prst="rect">
                  <a:avLst/>
                </a:prstGeom>
                <a:solidFill>
                  <a:srgbClr val="ff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Freeform 13"/>
                <p:cNvSpPr/>
                <p:nvPr/>
              </p:nvSpPr>
              <p:spPr>
                <a:xfrm>
                  <a:off x="7869600" y="1687320"/>
                  <a:ext cx="949320" cy="139680"/>
                </a:xfrm>
                <a:custGeom>
                  <a:avLst/>
                  <a:gdLst>
                    <a:gd name="textAreaLeft" fmla="*/ 0 w 949320"/>
                    <a:gd name="textAreaRight" fmla="*/ 949680 w 949320"/>
                    <a:gd name="textAreaTop" fmla="*/ 0 h 139680"/>
                    <a:gd name="textAreaBottom" fmla="*/ 140040 h 139680"/>
                  </a:gdLst>
                  <a:ahLst/>
                  <a:rect l="textAreaLeft" t="textAreaTop" r="textAreaRight" b="textAreaBottom"/>
                  <a:pathLst>
                    <a:path w="1796" h="263">
                      <a:moveTo>
                        <a:pt x="112" y="0"/>
                      </a:moveTo>
                      <a:lnTo>
                        <a:pt x="0" y="263"/>
                      </a:lnTo>
                      <a:lnTo>
                        <a:pt x="1647" y="263"/>
                      </a:lnTo>
                      <a:lnTo>
                        <a:pt x="1796" y="0"/>
                      </a:lnTo>
                      <a:lnTo>
                        <a:pt x="112" y="0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8" name="Rectangle 14"/>
            <p:cNvSpPr/>
            <p:nvPr/>
          </p:nvSpPr>
          <p:spPr>
            <a:xfrm>
              <a:off x="8004240" y="922320"/>
              <a:ext cx="987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Zipp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Quick Check </a:t>
            </a:r>
            <a:r>
              <a:rPr b="0" lang="en-US" sz="4000" spc="-1" strike="noStrike">
                <a:solidFill>
                  <a:srgbClr val="464646"/>
                </a:solidFill>
                <a:latin typeface="Wingdings"/>
                <a:ea typeface="Wingdings"/>
              </a:rPr>
              <a:t>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10" name="Line 6"/>
          <p:cNvSpPr/>
          <p:nvPr/>
        </p:nvSpPr>
        <p:spPr>
          <a:xfrm>
            <a:off x="480960" y="2876400"/>
            <a:ext cx="2286000" cy="0"/>
          </a:xfrm>
          <a:prstGeom prst="line">
            <a:avLst/>
          </a:prstGeom>
          <a:ln w="28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7"/>
          <p:cNvSpPr/>
          <p:nvPr/>
        </p:nvSpPr>
        <p:spPr>
          <a:xfrm>
            <a:off x="3363840" y="2876400"/>
            <a:ext cx="2286000" cy="0"/>
          </a:xfrm>
          <a:prstGeom prst="line">
            <a:avLst/>
          </a:prstGeom>
          <a:ln w="28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8"/>
          <p:cNvSpPr/>
          <p:nvPr/>
        </p:nvSpPr>
        <p:spPr>
          <a:xfrm>
            <a:off x="6246720" y="2876400"/>
            <a:ext cx="2286000" cy="0"/>
          </a:xfrm>
          <a:prstGeom prst="line">
            <a:avLst/>
          </a:prstGeom>
          <a:ln w="28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5"/>
          <p:cNvSpPr/>
          <p:nvPr/>
        </p:nvSpPr>
        <p:spPr>
          <a:xfrm>
            <a:off x="228600" y="1969920"/>
            <a:ext cx="8759880" cy="9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Actual Quantity        Actual Quantity     Standard Quantity</a:t>
            </a:r>
            <a:br>
              <a:rPr sz="2400"/>
            </a:b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              ×                                 ×                               × </a:t>
            </a:r>
            <a:br>
              <a:rPr sz="2400"/>
            </a:b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     Actual Price           Standard Price         Standard 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Group 3"/>
          <p:cNvGrpSpPr/>
          <p:nvPr/>
        </p:nvGrpSpPr>
        <p:grpSpPr>
          <a:xfrm>
            <a:off x="7790040" y="496800"/>
            <a:ext cx="1201680" cy="1407960"/>
            <a:chOff x="7790040" y="496800"/>
            <a:chExt cx="1201680" cy="1407960"/>
          </a:xfrm>
        </p:grpSpPr>
        <p:grpSp>
          <p:nvGrpSpPr>
            <p:cNvPr id="515" name="Group 4"/>
            <p:cNvGrpSpPr/>
            <p:nvPr/>
          </p:nvGrpSpPr>
          <p:grpSpPr>
            <a:xfrm>
              <a:off x="7790040" y="496800"/>
              <a:ext cx="1028880" cy="1407960"/>
              <a:chOff x="7790040" y="496800"/>
              <a:chExt cx="1028880" cy="1407960"/>
            </a:xfrm>
          </p:grpSpPr>
          <p:grpSp>
            <p:nvGrpSpPr>
              <p:cNvPr id="516" name="Group 5"/>
              <p:cNvGrpSpPr/>
              <p:nvPr/>
            </p:nvGrpSpPr>
            <p:grpSpPr>
              <a:xfrm>
                <a:off x="7790040" y="576360"/>
                <a:ext cx="138240" cy="1250640"/>
                <a:chOff x="7790040" y="576360"/>
                <a:chExt cx="138240" cy="1250640"/>
              </a:xfrm>
            </p:grpSpPr>
            <p:sp>
              <p:nvSpPr>
                <p:cNvPr id="517" name="Freeform 6"/>
                <p:cNvSpPr/>
                <p:nvPr/>
              </p:nvSpPr>
              <p:spPr>
                <a:xfrm>
                  <a:off x="7790040" y="576360"/>
                  <a:ext cx="138240" cy="1250640"/>
                </a:xfrm>
                <a:custGeom>
                  <a:avLst/>
                  <a:gdLst>
                    <a:gd name="textAreaLeft" fmla="*/ 0 w 138240"/>
                    <a:gd name="textAreaRight" fmla="*/ 138600 w 138240"/>
                    <a:gd name="textAreaTop" fmla="*/ 0 h 1250640"/>
                    <a:gd name="textAreaBottom" fmla="*/ 1251000 h 1250640"/>
                  </a:gdLst>
                  <a:ahLst/>
                  <a:rect l="textAreaLeft" t="textAreaTop" r="textAreaRight" b="textAreaBottom"/>
                  <a:pathLst>
                    <a:path w="261" h="2363">
                      <a:moveTo>
                        <a:pt x="111" y="0"/>
                      </a:moveTo>
                      <a:lnTo>
                        <a:pt x="0" y="262"/>
                      </a:lnTo>
                      <a:lnTo>
                        <a:pt x="0" y="2100"/>
                      </a:lnTo>
                      <a:lnTo>
                        <a:pt x="149" y="2363"/>
                      </a:lnTo>
                      <a:lnTo>
                        <a:pt x="261" y="2100"/>
                      </a:lnTo>
                      <a:lnTo>
                        <a:pt x="261" y="226"/>
                      </a:lnTo>
                      <a:lnTo>
                        <a:pt x="111" y="0"/>
                      </a:lnTo>
                      <a:close/>
                    </a:path>
                  </a:pathLst>
                </a:custGeom>
                <a:solidFill>
                  <a:srgbClr val="9f9fb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Freeform 7"/>
                <p:cNvSpPr/>
                <p:nvPr/>
              </p:nvSpPr>
              <p:spPr>
                <a:xfrm>
                  <a:off x="7790040" y="576360"/>
                  <a:ext cx="119160" cy="125064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250640"/>
                    <a:gd name="textAreaBottom" fmla="*/ 1251000 h 1250640"/>
                  </a:gdLst>
                  <a:ahLst/>
                  <a:rect l="textAreaLeft" t="textAreaTop" r="textAreaRight" b="textAreaBottom"/>
                  <a:pathLst>
                    <a:path w="225" h="2363">
                      <a:moveTo>
                        <a:pt x="111" y="0"/>
                      </a:moveTo>
                      <a:lnTo>
                        <a:pt x="185" y="112"/>
                      </a:lnTo>
                      <a:lnTo>
                        <a:pt x="111" y="262"/>
                      </a:lnTo>
                      <a:lnTo>
                        <a:pt x="111" y="1988"/>
                      </a:lnTo>
                      <a:lnTo>
                        <a:pt x="225" y="2213"/>
                      </a:lnTo>
                      <a:lnTo>
                        <a:pt x="149" y="2363"/>
                      </a:lnTo>
                      <a:lnTo>
                        <a:pt x="0" y="2100"/>
                      </a:lnTo>
                      <a:lnTo>
                        <a:pt x="0" y="262"/>
                      </a:lnTo>
                      <a:lnTo>
                        <a:pt x="111" y="0"/>
                      </a:lnTo>
                      <a:close/>
                    </a:path>
                  </a:pathLst>
                </a:custGeom>
                <a:solidFill>
                  <a:srgbClr val="bfbfd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9" name="Group 8"/>
              <p:cNvGrpSpPr/>
              <p:nvPr/>
            </p:nvGrpSpPr>
            <p:grpSpPr>
              <a:xfrm>
                <a:off x="7809120" y="496800"/>
                <a:ext cx="1009800" cy="1407960"/>
                <a:chOff x="7809120" y="496800"/>
                <a:chExt cx="1009800" cy="1407960"/>
              </a:xfrm>
            </p:grpSpPr>
            <p:sp>
              <p:nvSpPr>
                <p:cNvPr id="520" name="Freeform 9"/>
                <p:cNvSpPr/>
                <p:nvPr/>
              </p:nvSpPr>
              <p:spPr>
                <a:xfrm>
                  <a:off x="7809120" y="496800"/>
                  <a:ext cx="969840" cy="79560"/>
                </a:xfrm>
                <a:custGeom>
                  <a:avLst/>
                  <a:gdLst>
                    <a:gd name="textAreaLeft" fmla="*/ 0 w 969840"/>
                    <a:gd name="textAreaRight" fmla="*/ 970200 w 969840"/>
                    <a:gd name="textAreaTop" fmla="*/ 0 h 79560"/>
                    <a:gd name="textAreaBottom" fmla="*/ 79920 h 79560"/>
                  </a:gdLst>
                  <a:ahLst/>
                  <a:rect l="textAreaLeft" t="textAreaTop" r="textAreaRight" b="textAreaBottom"/>
                  <a:pathLst>
                    <a:path w="1834" h="149">
                      <a:moveTo>
                        <a:pt x="75" y="149"/>
                      </a:moveTo>
                      <a:lnTo>
                        <a:pt x="0" y="0"/>
                      </a:lnTo>
                      <a:lnTo>
                        <a:pt x="1834" y="0"/>
                      </a:lnTo>
                      <a:lnTo>
                        <a:pt x="1760" y="149"/>
                      </a:lnTo>
                      <a:lnTo>
                        <a:pt x="75" y="149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Freeform 10"/>
                <p:cNvSpPr/>
                <p:nvPr/>
              </p:nvSpPr>
              <p:spPr>
                <a:xfrm>
                  <a:off x="7829640" y="1827000"/>
                  <a:ext cx="970200" cy="77760"/>
                </a:xfrm>
                <a:custGeom>
                  <a:avLst/>
                  <a:gdLst>
                    <a:gd name="textAreaLeft" fmla="*/ 0 w 970200"/>
                    <a:gd name="textAreaRight" fmla="*/ 970560 w 970200"/>
                    <a:gd name="textAreaTop" fmla="*/ 0 h 77760"/>
                    <a:gd name="textAreaBottom" fmla="*/ 78120 h 77760"/>
                  </a:gdLst>
                  <a:ahLst/>
                  <a:rect l="textAreaLeft" t="textAreaTop" r="textAreaRight" b="textAreaBottom"/>
                  <a:pathLst>
                    <a:path w="1834" h="149">
                      <a:moveTo>
                        <a:pt x="75" y="0"/>
                      </a:moveTo>
                      <a:lnTo>
                        <a:pt x="1722" y="0"/>
                      </a:lnTo>
                      <a:lnTo>
                        <a:pt x="1834" y="113"/>
                      </a:lnTo>
                      <a:lnTo>
                        <a:pt x="1760" y="149"/>
                      </a:lnTo>
                      <a:lnTo>
                        <a:pt x="0" y="149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solidFill>
                  <a:srgbClr val="9f9fb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Freeform 11"/>
                <p:cNvSpPr/>
                <p:nvPr/>
              </p:nvSpPr>
              <p:spPr>
                <a:xfrm>
                  <a:off x="7848720" y="576360"/>
                  <a:ext cx="970200" cy="1250640"/>
                </a:xfrm>
                <a:custGeom>
                  <a:avLst/>
                  <a:gdLst>
                    <a:gd name="textAreaLeft" fmla="*/ 0 w 970200"/>
                    <a:gd name="textAreaRight" fmla="*/ 970560 w 970200"/>
                    <a:gd name="textAreaTop" fmla="*/ 0 h 1250640"/>
                    <a:gd name="textAreaBottom" fmla="*/ 1251000 h 1250640"/>
                  </a:gdLst>
                  <a:ahLst/>
                  <a:rect l="textAreaLeft" t="textAreaTop" r="textAreaRight" b="textAreaBottom"/>
                  <a:pathLst>
                    <a:path w="1834" h="2363">
                      <a:moveTo>
                        <a:pt x="38" y="2363"/>
                      </a:moveTo>
                      <a:lnTo>
                        <a:pt x="1685" y="2363"/>
                      </a:lnTo>
                      <a:lnTo>
                        <a:pt x="1834" y="2100"/>
                      </a:lnTo>
                      <a:lnTo>
                        <a:pt x="1834" y="226"/>
                      </a:lnTo>
                      <a:lnTo>
                        <a:pt x="1685" y="0"/>
                      </a:lnTo>
                      <a:lnTo>
                        <a:pt x="0" y="0"/>
                      </a:lnTo>
                      <a:lnTo>
                        <a:pt x="150" y="226"/>
                      </a:lnTo>
                      <a:lnTo>
                        <a:pt x="150" y="2100"/>
                      </a:lnTo>
                      <a:lnTo>
                        <a:pt x="38" y="2363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Rectangle 12"/>
                <p:cNvSpPr/>
                <p:nvPr/>
              </p:nvSpPr>
              <p:spPr>
                <a:xfrm>
                  <a:off x="7929720" y="974520"/>
                  <a:ext cx="887400" cy="254160"/>
                </a:xfrm>
                <a:prstGeom prst="rect">
                  <a:avLst/>
                </a:prstGeom>
                <a:solidFill>
                  <a:srgbClr val="ff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Freeform 13"/>
                <p:cNvSpPr/>
                <p:nvPr/>
              </p:nvSpPr>
              <p:spPr>
                <a:xfrm>
                  <a:off x="7869600" y="1687320"/>
                  <a:ext cx="949320" cy="139680"/>
                </a:xfrm>
                <a:custGeom>
                  <a:avLst/>
                  <a:gdLst>
                    <a:gd name="textAreaLeft" fmla="*/ 0 w 949320"/>
                    <a:gd name="textAreaRight" fmla="*/ 949680 w 949320"/>
                    <a:gd name="textAreaTop" fmla="*/ 0 h 139680"/>
                    <a:gd name="textAreaBottom" fmla="*/ 140040 h 139680"/>
                  </a:gdLst>
                  <a:ahLst/>
                  <a:rect l="textAreaLeft" t="textAreaTop" r="textAreaRight" b="textAreaBottom"/>
                  <a:pathLst>
                    <a:path w="1796" h="263">
                      <a:moveTo>
                        <a:pt x="112" y="0"/>
                      </a:moveTo>
                      <a:lnTo>
                        <a:pt x="0" y="263"/>
                      </a:lnTo>
                      <a:lnTo>
                        <a:pt x="1647" y="263"/>
                      </a:lnTo>
                      <a:lnTo>
                        <a:pt x="1796" y="0"/>
                      </a:lnTo>
                      <a:lnTo>
                        <a:pt x="112" y="0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5" name="Rectangle 14"/>
            <p:cNvSpPr/>
            <p:nvPr/>
          </p:nvSpPr>
          <p:spPr>
            <a:xfrm>
              <a:off x="8004240" y="922320"/>
              <a:ext cx="987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Zipp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Quick Check </a:t>
            </a:r>
            <a:r>
              <a:rPr b="0" lang="en-US" sz="4000" spc="-1" strike="noStrike">
                <a:solidFill>
                  <a:srgbClr val="464646"/>
                </a:solidFill>
                <a:latin typeface="Wingdings"/>
                <a:ea typeface="Wingdings"/>
              </a:rPr>
              <a:t>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527" name="Group 29"/>
          <p:cNvGrpSpPr/>
          <p:nvPr/>
        </p:nvGrpSpPr>
        <p:grpSpPr>
          <a:xfrm>
            <a:off x="2010960" y="1295280"/>
            <a:ext cx="5303880" cy="2133720"/>
            <a:chOff x="2010960" y="1295280"/>
            <a:chExt cx="5303880" cy="2133720"/>
          </a:xfrm>
        </p:grpSpPr>
        <p:cxnSp>
          <p:nvCxnSpPr>
            <p:cNvPr id="528" name="Straight Arrow Connector 27"/>
            <p:cNvCxnSpPr/>
            <p:nvPr/>
          </p:nvCxnSpPr>
          <p:spPr>
            <a:xfrm>
              <a:off x="5410440" y="1752120"/>
              <a:ext cx="1448280" cy="167724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529" name="TextBox 25"/>
            <p:cNvSpPr/>
            <p:nvPr/>
          </p:nvSpPr>
          <p:spPr>
            <a:xfrm flipH="1">
              <a:off x="2010600" y="1295280"/>
              <a:ext cx="5303880" cy="642600"/>
            </a:xfrm>
            <a:prstGeom prst="rect">
              <a:avLst/>
            </a:prstGeom>
            <a:solidFill>
              <a:srgbClr val="b5e9f4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call that the standard quantity for 1,000 Zippies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1,000 × 1.5 pounds per Zippy = 1,500 pound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Rectangle 2"/>
          <p:cNvSpPr/>
          <p:nvPr/>
        </p:nvSpPr>
        <p:spPr>
          <a:xfrm>
            <a:off x="266760" y="3286080"/>
            <a:ext cx="8607240" cy="174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464646"/>
                </a:solidFill>
                <a:latin typeface="Arial"/>
              </a:rPr>
              <a:t>1,700 lbs.                   1,700 lbs.                     1,500 lbs.</a:t>
            </a:r>
            <a:br>
              <a:rPr sz="2400"/>
            </a:br>
            <a:r>
              <a:rPr b="0" lang="en-US" sz="2400" spc="-1" strike="noStrike">
                <a:solidFill>
                  <a:srgbClr val="464646"/>
                </a:solidFill>
                <a:latin typeface="Arial"/>
              </a:rPr>
              <a:t>           ×                               ×                                  ×</a:t>
            </a:r>
            <a:br>
              <a:rPr sz="2400"/>
            </a:br>
            <a:r>
              <a:rPr b="0" lang="en-US" sz="2400" spc="-1" strike="noStrike">
                <a:solidFill>
                  <a:srgbClr val="464646"/>
                </a:solidFill>
                <a:latin typeface="Arial"/>
              </a:rPr>
              <a:t>    $3.90 per lb.               $4.00 per lb.                $4.00 per l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 $6,630                     = $ 6,800                     = $6,000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Group 3"/>
          <p:cNvGrpSpPr/>
          <p:nvPr/>
        </p:nvGrpSpPr>
        <p:grpSpPr>
          <a:xfrm>
            <a:off x="876240" y="5037120"/>
            <a:ext cx="3882960" cy="1507680"/>
            <a:chOff x="876240" y="5037120"/>
            <a:chExt cx="3882960" cy="1507680"/>
          </a:xfrm>
        </p:grpSpPr>
        <p:sp>
          <p:nvSpPr>
            <p:cNvPr id="532" name="Freeform 4"/>
            <p:cNvSpPr/>
            <p:nvPr/>
          </p:nvSpPr>
          <p:spPr>
            <a:xfrm>
              <a:off x="1234800" y="5037120"/>
              <a:ext cx="3142800" cy="619200"/>
            </a:xfrm>
            <a:custGeom>
              <a:avLst/>
              <a:gdLst>
                <a:gd name="textAreaLeft" fmla="*/ 0 w 3142800"/>
                <a:gd name="textAreaRight" fmla="*/ 3143160 w 314280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1980" h="390">
                  <a:moveTo>
                    <a:pt x="1608" y="257"/>
                  </a:moveTo>
                  <a:lnTo>
                    <a:pt x="1645" y="255"/>
                  </a:lnTo>
                  <a:lnTo>
                    <a:pt x="1681" y="251"/>
                  </a:lnTo>
                  <a:lnTo>
                    <a:pt x="1718" y="244"/>
                  </a:lnTo>
                  <a:lnTo>
                    <a:pt x="1753" y="235"/>
                  </a:lnTo>
                  <a:lnTo>
                    <a:pt x="1787" y="224"/>
                  </a:lnTo>
                  <a:lnTo>
                    <a:pt x="1819" y="209"/>
                  </a:lnTo>
                  <a:lnTo>
                    <a:pt x="1849" y="194"/>
                  </a:lnTo>
                  <a:lnTo>
                    <a:pt x="1876" y="176"/>
                  </a:lnTo>
                  <a:lnTo>
                    <a:pt x="1900" y="156"/>
                  </a:lnTo>
                  <a:lnTo>
                    <a:pt x="1922" y="135"/>
                  </a:lnTo>
                  <a:lnTo>
                    <a:pt x="1940" y="112"/>
                  </a:lnTo>
                  <a:lnTo>
                    <a:pt x="1955" y="89"/>
                  </a:lnTo>
                  <a:lnTo>
                    <a:pt x="1966" y="64"/>
                  </a:lnTo>
                  <a:lnTo>
                    <a:pt x="1975" y="39"/>
                  </a:lnTo>
                  <a:lnTo>
                    <a:pt x="1978" y="13"/>
                  </a:lnTo>
                  <a:lnTo>
                    <a:pt x="1979" y="0"/>
                  </a:lnTo>
                  <a:lnTo>
                    <a:pt x="1978" y="21"/>
                  </a:lnTo>
                  <a:lnTo>
                    <a:pt x="1972" y="43"/>
                  </a:lnTo>
                  <a:lnTo>
                    <a:pt x="1961" y="64"/>
                  </a:lnTo>
                  <a:lnTo>
                    <a:pt x="1949" y="83"/>
                  </a:lnTo>
                  <a:lnTo>
                    <a:pt x="1933" y="102"/>
                  </a:lnTo>
                  <a:lnTo>
                    <a:pt x="1913" y="119"/>
                  </a:lnTo>
                  <a:lnTo>
                    <a:pt x="1891" y="134"/>
                  </a:lnTo>
                  <a:lnTo>
                    <a:pt x="1866" y="148"/>
                  </a:lnTo>
                  <a:lnTo>
                    <a:pt x="1839" y="159"/>
                  </a:lnTo>
                  <a:lnTo>
                    <a:pt x="1810" y="168"/>
                  </a:lnTo>
                  <a:lnTo>
                    <a:pt x="1781" y="174"/>
                  </a:lnTo>
                  <a:lnTo>
                    <a:pt x="1751" y="179"/>
                  </a:lnTo>
                  <a:lnTo>
                    <a:pt x="1719" y="180"/>
                  </a:lnTo>
                  <a:lnTo>
                    <a:pt x="1214" y="180"/>
                  </a:lnTo>
                  <a:lnTo>
                    <a:pt x="1185" y="182"/>
                  </a:lnTo>
                  <a:lnTo>
                    <a:pt x="1157" y="186"/>
                  </a:lnTo>
                  <a:lnTo>
                    <a:pt x="1129" y="193"/>
                  </a:lnTo>
                  <a:lnTo>
                    <a:pt x="1103" y="202"/>
                  </a:lnTo>
                  <a:lnTo>
                    <a:pt x="1080" y="213"/>
                  </a:lnTo>
                  <a:lnTo>
                    <a:pt x="1058" y="227"/>
                  </a:lnTo>
                  <a:lnTo>
                    <a:pt x="1038" y="242"/>
                  </a:lnTo>
                  <a:lnTo>
                    <a:pt x="1022" y="258"/>
                  </a:lnTo>
                  <a:lnTo>
                    <a:pt x="1010" y="276"/>
                  </a:lnTo>
                  <a:lnTo>
                    <a:pt x="1000" y="295"/>
                  </a:lnTo>
                  <a:lnTo>
                    <a:pt x="994" y="316"/>
                  </a:lnTo>
                  <a:lnTo>
                    <a:pt x="991" y="335"/>
                  </a:lnTo>
                  <a:lnTo>
                    <a:pt x="990" y="338"/>
                  </a:lnTo>
                  <a:lnTo>
                    <a:pt x="990" y="335"/>
                  </a:lnTo>
                  <a:lnTo>
                    <a:pt x="986" y="316"/>
                  </a:lnTo>
                  <a:lnTo>
                    <a:pt x="980" y="295"/>
                  </a:lnTo>
                  <a:lnTo>
                    <a:pt x="971" y="276"/>
                  </a:lnTo>
                  <a:lnTo>
                    <a:pt x="958" y="258"/>
                  </a:lnTo>
                  <a:lnTo>
                    <a:pt x="941" y="242"/>
                  </a:lnTo>
                  <a:lnTo>
                    <a:pt x="922" y="227"/>
                  </a:lnTo>
                  <a:lnTo>
                    <a:pt x="900" y="213"/>
                  </a:lnTo>
                  <a:lnTo>
                    <a:pt x="876" y="202"/>
                  </a:lnTo>
                  <a:lnTo>
                    <a:pt x="851" y="193"/>
                  </a:lnTo>
                  <a:lnTo>
                    <a:pt x="824" y="186"/>
                  </a:lnTo>
                  <a:lnTo>
                    <a:pt x="795" y="182"/>
                  </a:lnTo>
                  <a:lnTo>
                    <a:pt x="766" y="180"/>
                  </a:lnTo>
                  <a:lnTo>
                    <a:pt x="261" y="180"/>
                  </a:lnTo>
                  <a:lnTo>
                    <a:pt x="231" y="179"/>
                  </a:lnTo>
                  <a:lnTo>
                    <a:pt x="199" y="174"/>
                  </a:lnTo>
                  <a:lnTo>
                    <a:pt x="169" y="168"/>
                  </a:lnTo>
                  <a:lnTo>
                    <a:pt x="141" y="159"/>
                  </a:lnTo>
                  <a:lnTo>
                    <a:pt x="115" y="148"/>
                  </a:lnTo>
                  <a:lnTo>
                    <a:pt x="90" y="134"/>
                  </a:lnTo>
                  <a:lnTo>
                    <a:pt x="67" y="119"/>
                  </a:lnTo>
                  <a:lnTo>
                    <a:pt x="48" y="102"/>
                  </a:lnTo>
                  <a:lnTo>
                    <a:pt x="32" y="83"/>
                  </a:lnTo>
                  <a:lnTo>
                    <a:pt x="19" y="64"/>
                  </a:lnTo>
                  <a:lnTo>
                    <a:pt x="9" y="43"/>
                  </a:lnTo>
                  <a:lnTo>
                    <a:pt x="3" y="21"/>
                  </a:lnTo>
                  <a:lnTo>
                    <a:pt x="0" y="0"/>
                  </a:lnTo>
                  <a:lnTo>
                    <a:pt x="2" y="13"/>
                  </a:lnTo>
                  <a:lnTo>
                    <a:pt x="6" y="39"/>
                  </a:lnTo>
                  <a:lnTo>
                    <a:pt x="13" y="64"/>
                  </a:lnTo>
                  <a:lnTo>
                    <a:pt x="25" y="89"/>
                  </a:lnTo>
                  <a:lnTo>
                    <a:pt x="40" y="112"/>
                  </a:lnTo>
                  <a:lnTo>
                    <a:pt x="59" y="135"/>
                  </a:lnTo>
                  <a:lnTo>
                    <a:pt x="81" y="156"/>
                  </a:lnTo>
                  <a:lnTo>
                    <a:pt x="105" y="176"/>
                  </a:lnTo>
                  <a:lnTo>
                    <a:pt x="132" y="194"/>
                  </a:lnTo>
                  <a:lnTo>
                    <a:pt x="161" y="209"/>
                  </a:lnTo>
                  <a:lnTo>
                    <a:pt x="193" y="224"/>
                  </a:lnTo>
                  <a:lnTo>
                    <a:pt x="227" y="235"/>
                  </a:lnTo>
                  <a:lnTo>
                    <a:pt x="262" y="244"/>
                  </a:lnTo>
                  <a:lnTo>
                    <a:pt x="299" y="251"/>
                  </a:lnTo>
                  <a:lnTo>
                    <a:pt x="334" y="255"/>
                  </a:lnTo>
                  <a:lnTo>
                    <a:pt x="372" y="257"/>
                  </a:lnTo>
                  <a:lnTo>
                    <a:pt x="803" y="257"/>
                  </a:lnTo>
                  <a:lnTo>
                    <a:pt x="830" y="259"/>
                  </a:lnTo>
                  <a:lnTo>
                    <a:pt x="856" y="262"/>
                  </a:lnTo>
                  <a:lnTo>
                    <a:pt x="879" y="269"/>
                  </a:lnTo>
                  <a:lnTo>
                    <a:pt x="903" y="277"/>
                  </a:lnTo>
                  <a:lnTo>
                    <a:pt x="923" y="289"/>
                  </a:lnTo>
                  <a:lnTo>
                    <a:pt x="943" y="302"/>
                  </a:lnTo>
                  <a:lnTo>
                    <a:pt x="958" y="317"/>
                  </a:lnTo>
                  <a:lnTo>
                    <a:pt x="971" y="333"/>
                  </a:lnTo>
                  <a:lnTo>
                    <a:pt x="980" y="350"/>
                  </a:lnTo>
                  <a:lnTo>
                    <a:pt x="986" y="369"/>
                  </a:lnTo>
                  <a:lnTo>
                    <a:pt x="990" y="387"/>
                  </a:lnTo>
                  <a:lnTo>
                    <a:pt x="990" y="389"/>
                  </a:lnTo>
                  <a:lnTo>
                    <a:pt x="992" y="370"/>
                  </a:lnTo>
                  <a:lnTo>
                    <a:pt x="997" y="352"/>
                  </a:lnTo>
                  <a:lnTo>
                    <a:pt x="1007" y="335"/>
                  </a:lnTo>
                  <a:lnTo>
                    <a:pt x="1019" y="318"/>
                  </a:lnTo>
                  <a:lnTo>
                    <a:pt x="1035" y="304"/>
                  </a:lnTo>
                  <a:lnTo>
                    <a:pt x="1053" y="290"/>
                  </a:lnTo>
                  <a:lnTo>
                    <a:pt x="1073" y="279"/>
                  </a:lnTo>
                  <a:lnTo>
                    <a:pt x="1097" y="270"/>
                  </a:lnTo>
                  <a:lnTo>
                    <a:pt x="1120" y="263"/>
                  </a:lnTo>
                  <a:lnTo>
                    <a:pt x="1146" y="259"/>
                  </a:lnTo>
                  <a:lnTo>
                    <a:pt x="1172" y="257"/>
                  </a:lnTo>
                  <a:lnTo>
                    <a:pt x="1175" y="257"/>
                  </a:lnTo>
                  <a:lnTo>
                    <a:pt x="1608" y="257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Rectangle 5"/>
            <p:cNvSpPr/>
            <p:nvPr/>
          </p:nvSpPr>
          <p:spPr>
            <a:xfrm>
              <a:off x="876240" y="5724360"/>
              <a:ext cx="38829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Price variance</a:t>
              </a:r>
              <a:br>
                <a:rPr sz="2400"/>
              </a:b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$170 favora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Group 6"/>
          <p:cNvGrpSpPr/>
          <p:nvPr/>
        </p:nvGrpSpPr>
        <p:grpSpPr>
          <a:xfrm>
            <a:off x="4248000" y="5037120"/>
            <a:ext cx="3882960" cy="1507680"/>
            <a:chOff x="4248000" y="5037120"/>
            <a:chExt cx="3882960" cy="1507680"/>
          </a:xfrm>
        </p:grpSpPr>
        <p:sp>
          <p:nvSpPr>
            <p:cNvPr id="535" name="Rectangle 7"/>
            <p:cNvSpPr/>
            <p:nvPr/>
          </p:nvSpPr>
          <p:spPr>
            <a:xfrm>
              <a:off x="4248000" y="5724360"/>
              <a:ext cx="38829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Quantity variance</a:t>
              </a:r>
              <a:br>
                <a:rPr sz="2400"/>
              </a:b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$800 unfavora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8"/>
            <p:cNvSpPr/>
            <p:nvPr/>
          </p:nvSpPr>
          <p:spPr>
            <a:xfrm>
              <a:off x="4589280" y="5037120"/>
              <a:ext cx="3143160" cy="619200"/>
            </a:xfrm>
            <a:custGeom>
              <a:avLst/>
              <a:gdLst>
                <a:gd name="textAreaLeft" fmla="*/ 0 w 3143160"/>
                <a:gd name="textAreaRight" fmla="*/ 3143520 w 314316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1980" h="390">
                  <a:moveTo>
                    <a:pt x="1608" y="257"/>
                  </a:moveTo>
                  <a:lnTo>
                    <a:pt x="1645" y="255"/>
                  </a:lnTo>
                  <a:lnTo>
                    <a:pt x="1681" y="251"/>
                  </a:lnTo>
                  <a:lnTo>
                    <a:pt x="1718" y="244"/>
                  </a:lnTo>
                  <a:lnTo>
                    <a:pt x="1753" y="235"/>
                  </a:lnTo>
                  <a:lnTo>
                    <a:pt x="1787" y="224"/>
                  </a:lnTo>
                  <a:lnTo>
                    <a:pt x="1819" y="209"/>
                  </a:lnTo>
                  <a:lnTo>
                    <a:pt x="1849" y="194"/>
                  </a:lnTo>
                  <a:lnTo>
                    <a:pt x="1876" y="176"/>
                  </a:lnTo>
                  <a:lnTo>
                    <a:pt x="1900" y="156"/>
                  </a:lnTo>
                  <a:lnTo>
                    <a:pt x="1922" y="135"/>
                  </a:lnTo>
                  <a:lnTo>
                    <a:pt x="1940" y="112"/>
                  </a:lnTo>
                  <a:lnTo>
                    <a:pt x="1955" y="89"/>
                  </a:lnTo>
                  <a:lnTo>
                    <a:pt x="1966" y="64"/>
                  </a:lnTo>
                  <a:lnTo>
                    <a:pt x="1975" y="39"/>
                  </a:lnTo>
                  <a:lnTo>
                    <a:pt x="1978" y="13"/>
                  </a:lnTo>
                  <a:lnTo>
                    <a:pt x="1979" y="0"/>
                  </a:lnTo>
                  <a:lnTo>
                    <a:pt x="1978" y="21"/>
                  </a:lnTo>
                  <a:lnTo>
                    <a:pt x="1972" y="43"/>
                  </a:lnTo>
                  <a:lnTo>
                    <a:pt x="1961" y="64"/>
                  </a:lnTo>
                  <a:lnTo>
                    <a:pt x="1949" y="83"/>
                  </a:lnTo>
                  <a:lnTo>
                    <a:pt x="1933" y="102"/>
                  </a:lnTo>
                  <a:lnTo>
                    <a:pt x="1913" y="119"/>
                  </a:lnTo>
                  <a:lnTo>
                    <a:pt x="1891" y="134"/>
                  </a:lnTo>
                  <a:lnTo>
                    <a:pt x="1866" y="148"/>
                  </a:lnTo>
                  <a:lnTo>
                    <a:pt x="1839" y="159"/>
                  </a:lnTo>
                  <a:lnTo>
                    <a:pt x="1810" y="168"/>
                  </a:lnTo>
                  <a:lnTo>
                    <a:pt x="1781" y="174"/>
                  </a:lnTo>
                  <a:lnTo>
                    <a:pt x="1751" y="179"/>
                  </a:lnTo>
                  <a:lnTo>
                    <a:pt x="1719" y="180"/>
                  </a:lnTo>
                  <a:lnTo>
                    <a:pt x="1214" y="180"/>
                  </a:lnTo>
                  <a:lnTo>
                    <a:pt x="1185" y="182"/>
                  </a:lnTo>
                  <a:lnTo>
                    <a:pt x="1157" y="186"/>
                  </a:lnTo>
                  <a:lnTo>
                    <a:pt x="1129" y="193"/>
                  </a:lnTo>
                  <a:lnTo>
                    <a:pt x="1103" y="202"/>
                  </a:lnTo>
                  <a:lnTo>
                    <a:pt x="1080" y="213"/>
                  </a:lnTo>
                  <a:lnTo>
                    <a:pt x="1058" y="227"/>
                  </a:lnTo>
                  <a:lnTo>
                    <a:pt x="1038" y="242"/>
                  </a:lnTo>
                  <a:lnTo>
                    <a:pt x="1022" y="258"/>
                  </a:lnTo>
                  <a:lnTo>
                    <a:pt x="1010" y="276"/>
                  </a:lnTo>
                  <a:lnTo>
                    <a:pt x="1000" y="295"/>
                  </a:lnTo>
                  <a:lnTo>
                    <a:pt x="994" y="316"/>
                  </a:lnTo>
                  <a:lnTo>
                    <a:pt x="991" y="335"/>
                  </a:lnTo>
                  <a:lnTo>
                    <a:pt x="990" y="338"/>
                  </a:lnTo>
                  <a:lnTo>
                    <a:pt x="990" y="335"/>
                  </a:lnTo>
                  <a:lnTo>
                    <a:pt x="986" y="316"/>
                  </a:lnTo>
                  <a:lnTo>
                    <a:pt x="980" y="295"/>
                  </a:lnTo>
                  <a:lnTo>
                    <a:pt x="971" y="276"/>
                  </a:lnTo>
                  <a:lnTo>
                    <a:pt x="958" y="258"/>
                  </a:lnTo>
                  <a:lnTo>
                    <a:pt x="941" y="242"/>
                  </a:lnTo>
                  <a:lnTo>
                    <a:pt x="922" y="227"/>
                  </a:lnTo>
                  <a:lnTo>
                    <a:pt x="900" y="213"/>
                  </a:lnTo>
                  <a:lnTo>
                    <a:pt x="876" y="202"/>
                  </a:lnTo>
                  <a:lnTo>
                    <a:pt x="851" y="193"/>
                  </a:lnTo>
                  <a:lnTo>
                    <a:pt x="824" y="186"/>
                  </a:lnTo>
                  <a:lnTo>
                    <a:pt x="795" y="182"/>
                  </a:lnTo>
                  <a:lnTo>
                    <a:pt x="766" y="180"/>
                  </a:lnTo>
                  <a:lnTo>
                    <a:pt x="261" y="180"/>
                  </a:lnTo>
                  <a:lnTo>
                    <a:pt x="231" y="179"/>
                  </a:lnTo>
                  <a:lnTo>
                    <a:pt x="199" y="174"/>
                  </a:lnTo>
                  <a:lnTo>
                    <a:pt x="169" y="168"/>
                  </a:lnTo>
                  <a:lnTo>
                    <a:pt x="141" y="159"/>
                  </a:lnTo>
                  <a:lnTo>
                    <a:pt x="115" y="148"/>
                  </a:lnTo>
                  <a:lnTo>
                    <a:pt x="90" y="134"/>
                  </a:lnTo>
                  <a:lnTo>
                    <a:pt x="67" y="119"/>
                  </a:lnTo>
                  <a:lnTo>
                    <a:pt x="48" y="102"/>
                  </a:lnTo>
                  <a:lnTo>
                    <a:pt x="32" y="83"/>
                  </a:lnTo>
                  <a:lnTo>
                    <a:pt x="19" y="64"/>
                  </a:lnTo>
                  <a:lnTo>
                    <a:pt x="9" y="43"/>
                  </a:lnTo>
                  <a:lnTo>
                    <a:pt x="3" y="21"/>
                  </a:lnTo>
                  <a:lnTo>
                    <a:pt x="0" y="0"/>
                  </a:lnTo>
                  <a:lnTo>
                    <a:pt x="2" y="13"/>
                  </a:lnTo>
                  <a:lnTo>
                    <a:pt x="6" y="39"/>
                  </a:lnTo>
                  <a:lnTo>
                    <a:pt x="13" y="64"/>
                  </a:lnTo>
                  <a:lnTo>
                    <a:pt x="25" y="89"/>
                  </a:lnTo>
                  <a:lnTo>
                    <a:pt x="40" y="112"/>
                  </a:lnTo>
                  <a:lnTo>
                    <a:pt x="59" y="135"/>
                  </a:lnTo>
                  <a:lnTo>
                    <a:pt x="81" y="156"/>
                  </a:lnTo>
                  <a:lnTo>
                    <a:pt x="105" y="176"/>
                  </a:lnTo>
                  <a:lnTo>
                    <a:pt x="132" y="194"/>
                  </a:lnTo>
                  <a:lnTo>
                    <a:pt x="161" y="209"/>
                  </a:lnTo>
                  <a:lnTo>
                    <a:pt x="193" y="224"/>
                  </a:lnTo>
                  <a:lnTo>
                    <a:pt x="227" y="235"/>
                  </a:lnTo>
                  <a:lnTo>
                    <a:pt x="262" y="244"/>
                  </a:lnTo>
                  <a:lnTo>
                    <a:pt x="299" y="251"/>
                  </a:lnTo>
                  <a:lnTo>
                    <a:pt x="334" y="255"/>
                  </a:lnTo>
                  <a:lnTo>
                    <a:pt x="372" y="257"/>
                  </a:lnTo>
                  <a:lnTo>
                    <a:pt x="803" y="257"/>
                  </a:lnTo>
                  <a:lnTo>
                    <a:pt x="830" y="259"/>
                  </a:lnTo>
                  <a:lnTo>
                    <a:pt x="856" y="262"/>
                  </a:lnTo>
                  <a:lnTo>
                    <a:pt x="879" y="269"/>
                  </a:lnTo>
                  <a:lnTo>
                    <a:pt x="903" y="277"/>
                  </a:lnTo>
                  <a:lnTo>
                    <a:pt x="923" y="289"/>
                  </a:lnTo>
                  <a:lnTo>
                    <a:pt x="943" y="302"/>
                  </a:lnTo>
                  <a:lnTo>
                    <a:pt x="958" y="317"/>
                  </a:lnTo>
                  <a:lnTo>
                    <a:pt x="971" y="333"/>
                  </a:lnTo>
                  <a:lnTo>
                    <a:pt x="980" y="350"/>
                  </a:lnTo>
                  <a:lnTo>
                    <a:pt x="986" y="369"/>
                  </a:lnTo>
                  <a:lnTo>
                    <a:pt x="990" y="387"/>
                  </a:lnTo>
                  <a:lnTo>
                    <a:pt x="990" y="389"/>
                  </a:lnTo>
                  <a:lnTo>
                    <a:pt x="992" y="370"/>
                  </a:lnTo>
                  <a:lnTo>
                    <a:pt x="997" y="352"/>
                  </a:lnTo>
                  <a:lnTo>
                    <a:pt x="1007" y="335"/>
                  </a:lnTo>
                  <a:lnTo>
                    <a:pt x="1019" y="318"/>
                  </a:lnTo>
                  <a:lnTo>
                    <a:pt x="1035" y="304"/>
                  </a:lnTo>
                  <a:lnTo>
                    <a:pt x="1053" y="290"/>
                  </a:lnTo>
                  <a:lnTo>
                    <a:pt x="1073" y="279"/>
                  </a:lnTo>
                  <a:lnTo>
                    <a:pt x="1097" y="270"/>
                  </a:lnTo>
                  <a:lnTo>
                    <a:pt x="1120" y="263"/>
                  </a:lnTo>
                  <a:lnTo>
                    <a:pt x="1146" y="259"/>
                  </a:lnTo>
                  <a:lnTo>
                    <a:pt x="1172" y="257"/>
                  </a:lnTo>
                  <a:lnTo>
                    <a:pt x="1175" y="257"/>
                  </a:lnTo>
                  <a:lnTo>
                    <a:pt x="1608" y="257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Line 6"/>
          <p:cNvSpPr/>
          <p:nvPr/>
        </p:nvSpPr>
        <p:spPr>
          <a:xfrm>
            <a:off x="480960" y="2876400"/>
            <a:ext cx="2286000" cy="0"/>
          </a:xfrm>
          <a:prstGeom prst="line">
            <a:avLst/>
          </a:prstGeom>
          <a:ln w="28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7"/>
          <p:cNvSpPr/>
          <p:nvPr/>
        </p:nvSpPr>
        <p:spPr>
          <a:xfrm>
            <a:off x="3363840" y="2876400"/>
            <a:ext cx="2286000" cy="0"/>
          </a:xfrm>
          <a:prstGeom prst="line">
            <a:avLst/>
          </a:prstGeom>
          <a:ln w="28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8"/>
          <p:cNvSpPr/>
          <p:nvPr/>
        </p:nvSpPr>
        <p:spPr>
          <a:xfrm>
            <a:off x="6246720" y="2876400"/>
            <a:ext cx="2286000" cy="0"/>
          </a:xfrm>
          <a:prstGeom prst="line">
            <a:avLst/>
          </a:prstGeom>
          <a:ln w="28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5"/>
          <p:cNvSpPr/>
          <p:nvPr/>
        </p:nvSpPr>
        <p:spPr>
          <a:xfrm>
            <a:off x="228600" y="1969920"/>
            <a:ext cx="8759880" cy="9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Actual Quantity        Actual Quantity     Standard Quantity</a:t>
            </a:r>
            <a:br>
              <a:rPr sz="2400"/>
            </a:b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              ×                                 ×                               × </a:t>
            </a:r>
            <a:br>
              <a:rPr sz="2400"/>
            </a:b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     Actual Price           Standard Price         Standard 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Learning Objective 2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42" name="Text Box 13"/>
          <p:cNvSpPr/>
          <p:nvPr/>
        </p:nvSpPr>
        <p:spPr>
          <a:xfrm>
            <a:off x="1905120" y="2462040"/>
            <a:ext cx="5333760" cy="2164680"/>
          </a:xfrm>
          <a:prstGeom prst="rect">
            <a:avLst/>
          </a:prstGeom>
          <a:solidFill>
            <a:srgbClr val="ffffff"/>
          </a:solidFill>
          <a:ln w="76320">
            <a:solidFill>
              <a:srgbClr val="3f1e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5e2d37"/>
                </a:solidFill>
                <a:latin typeface="Arial"/>
                <a:ea typeface="Times New Roman"/>
              </a:rPr>
              <a:t>Compute the direct labor rate and efficiency variances and explain</a:t>
            </a:r>
            <a:br>
              <a:rPr sz="3400"/>
            </a:br>
            <a:r>
              <a:rPr b="1" lang="en-US" sz="3400" spc="-1" strike="noStrike">
                <a:solidFill>
                  <a:srgbClr val="5e2d37"/>
                </a:solidFill>
                <a:latin typeface="Arial"/>
                <a:ea typeface="Times New Roman"/>
              </a:rPr>
              <a:t>their significance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228600" y="1828440"/>
            <a:ext cx="861048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65040" indent="0" algn="ctr"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lacier Peak Outfitters has the following direct labor standard for its mountain park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ctr"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1.2 standard hours per parka at $10.00 per h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ctr"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1f28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st month, employees actually worked 2,500 hours at a total labor cost of $26,250 to make 2,000 parka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Labor Variances – An Example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graphicFrame>
        <p:nvGraphicFramePr>
          <p:cNvPr id="545" name="Object 2"/>
          <p:cNvGraphicFramePr/>
          <p:nvPr/>
        </p:nvGraphicFramePr>
        <p:xfrm>
          <a:off x="7086600" y="5715000"/>
          <a:ext cx="160020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5715000"/>
                    <a:ext cx="160020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Group 3"/>
          <p:cNvGrpSpPr/>
          <p:nvPr/>
        </p:nvGrpSpPr>
        <p:grpSpPr>
          <a:xfrm>
            <a:off x="952560" y="4341960"/>
            <a:ext cx="3882960" cy="1507680"/>
            <a:chOff x="952560" y="4341960"/>
            <a:chExt cx="3882960" cy="1507680"/>
          </a:xfrm>
        </p:grpSpPr>
        <p:sp>
          <p:nvSpPr>
            <p:cNvPr id="548" name="Freeform 4"/>
            <p:cNvSpPr/>
            <p:nvPr/>
          </p:nvSpPr>
          <p:spPr>
            <a:xfrm>
              <a:off x="1311480" y="4341960"/>
              <a:ext cx="3143160" cy="618840"/>
            </a:xfrm>
            <a:custGeom>
              <a:avLst/>
              <a:gdLst>
                <a:gd name="textAreaLeft" fmla="*/ 0 w 3143160"/>
                <a:gd name="textAreaRight" fmla="*/ 3143520 w 3143160"/>
                <a:gd name="textAreaTop" fmla="*/ 0 h 618840"/>
                <a:gd name="textAreaBottom" fmla="*/ 619200 h 618840"/>
              </a:gdLst>
              <a:ahLst/>
              <a:rect l="textAreaLeft" t="textAreaTop" r="textAreaRight" b="textAreaBottom"/>
              <a:pathLst>
                <a:path w="1980" h="390">
                  <a:moveTo>
                    <a:pt x="1608" y="257"/>
                  </a:moveTo>
                  <a:lnTo>
                    <a:pt x="1645" y="255"/>
                  </a:lnTo>
                  <a:lnTo>
                    <a:pt x="1681" y="251"/>
                  </a:lnTo>
                  <a:lnTo>
                    <a:pt x="1718" y="244"/>
                  </a:lnTo>
                  <a:lnTo>
                    <a:pt x="1753" y="235"/>
                  </a:lnTo>
                  <a:lnTo>
                    <a:pt x="1787" y="224"/>
                  </a:lnTo>
                  <a:lnTo>
                    <a:pt x="1819" y="209"/>
                  </a:lnTo>
                  <a:lnTo>
                    <a:pt x="1849" y="194"/>
                  </a:lnTo>
                  <a:lnTo>
                    <a:pt x="1876" y="176"/>
                  </a:lnTo>
                  <a:lnTo>
                    <a:pt x="1900" y="156"/>
                  </a:lnTo>
                  <a:lnTo>
                    <a:pt x="1922" y="135"/>
                  </a:lnTo>
                  <a:lnTo>
                    <a:pt x="1940" y="112"/>
                  </a:lnTo>
                  <a:lnTo>
                    <a:pt x="1955" y="89"/>
                  </a:lnTo>
                  <a:lnTo>
                    <a:pt x="1966" y="64"/>
                  </a:lnTo>
                  <a:lnTo>
                    <a:pt x="1975" y="39"/>
                  </a:lnTo>
                  <a:lnTo>
                    <a:pt x="1978" y="13"/>
                  </a:lnTo>
                  <a:lnTo>
                    <a:pt x="1979" y="0"/>
                  </a:lnTo>
                  <a:lnTo>
                    <a:pt x="1978" y="21"/>
                  </a:lnTo>
                  <a:lnTo>
                    <a:pt x="1972" y="43"/>
                  </a:lnTo>
                  <a:lnTo>
                    <a:pt x="1961" y="64"/>
                  </a:lnTo>
                  <a:lnTo>
                    <a:pt x="1949" y="83"/>
                  </a:lnTo>
                  <a:lnTo>
                    <a:pt x="1933" y="102"/>
                  </a:lnTo>
                  <a:lnTo>
                    <a:pt x="1913" y="119"/>
                  </a:lnTo>
                  <a:lnTo>
                    <a:pt x="1891" y="134"/>
                  </a:lnTo>
                  <a:lnTo>
                    <a:pt x="1866" y="148"/>
                  </a:lnTo>
                  <a:lnTo>
                    <a:pt x="1839" y="159"/>
                  </a:lnTo>
                  <a:lnTo>
                    <a:pt x="1810" y="168"/>
                  </a:lnTo>
                  <a:lnTo>
                    <a:pt x="1781" y="174"/>
                  </a:lnTo>
                  <a:lnTo>
                    <a:pt x="1751" y="179"/>
                  </a:lnTo>
                  <a:lnTo>
                    <a:pt x="1719" y="180"/>
                  </a:lnTo>
                  <a:lnTo>
                    <a:pt x="1214" y="180"/>
                  </a:lnTo>
                  <a:lnTo>
                    <a:pt x="1185" y="182"/>
                  </a:lnTo>
                  <a:lnTo>
                    <a:pt x="1157" y="186"/>
                  </a:lnTo>
                  <a:lnTo>
                    <a:pt x="1129" y="193"/>
                  </a:lnTo>
                  <a:lnTo>
                    <a:pt x="1103" y="202"/>
                  </a:lnTo>
                  <a:lnTo>
                    <a:pt x="1080" y="213"/>
                  </a:lnTo>
                  <a:lnTo>
                    <a:pt x="1058" y="227"/>
                  </a:lnTo>
                  <a:lnTo>
                    <a:pt x="1038" y="242"/>
                  </a:lnTo>
                  <a:lnTo>
                    <a:pt x="1022" y="258"/>
                  </a:lnTo>
                  <a:lnTo>
                    <a:pt x="1010" y="276"/>
                  </a:lnTo>
                  <a:lnTo>
                    <a:pt x="1000" y="295"/>
                  </a:lnTo>
                  <a:lnTo>
                    <a:pt x="994" y="316"/>
                  </a:lnTo>
                  <a:lnTo>
                    <a:pt x="991" y="335"/>
                  </a:lnTo>
                  <a:lnTo>
                    <a:pt x="990" y="338"/>
                  </a:lnTo>
                  <a:lnTo>
                    <a:pt x="990" y="335"/>
                  </a:lnTo>
                  <a:lnTo>
                    <a:pt x="986" y="316"/>
                  </a:lnTo>
                  <a:lnTo>
                    <a:pt x="980" y="295"/>
                  </a:lnTo>
                  <a:lnTo>
                    <a:pt x="971" y="276"/>
                  </a:lnTo>
                  <a:lnTo>
                    <a:pt x="958" y="258"/>
                  </a:lnTo>
                  <a:lnTo>
                    <a:pt x="941" y="242"/>
                  </a:lnTo>
                  <a:lnTo>
                    <a:pt x="922" y="227"/>
                  </a:lnTo>
                  <a:lnTo>
                    <a:pt x="900" y="213"/>
                  </a:lnTo>
                  <a:lnTo>
                    <a:pt x="876" y="202"/>
                  </a:lnTo>
                  <a:lnTo>
                    <a:pt x="851" y="193"/>
                  </a:lnTo>
                  <a:lnTo>
                    <a:pt x="824" y="186"/>
                  </a:lnTo>
                  <a:lnTo>
                    <a:pt x="795" y="182"/>
                  </a:lnTo>
                  <a:lnTo>
                    <a:pt x="766" y="180"/>
                  </a:lnTo>
                  <a:lnTo>
                    <a:pt x="261" y="180"/>
                  </a:lnTo>
                  <a:lnTo>
                    <a:pt x="231" y="179"/>
                  </a:lnTo>
                  <a:lnTo>
                    <a:pt x="199" y="174"/>
                  </a:lnTo>
                  <a:lnTo>
                    <a:pt x="169" y="168"/>
                  </a:lnTo>
                  <a:lnTo>
                    <a:pt x="141" y="159"/>
                  </a:lnTo>
                  <a:lnTo>
                    <a:pt x="115" y="148"/>
                  </a:lnTo>
                  <a:lnTo>
                    <a:pt x="90" y="134"/>
                  </a:lnTo>
                  <a:lnTo>
                    <a:pt x="67" y="119"/>
                  </a:lnTo>
                  <a:lnTo>
                    <a:pt x="48" y="102"/>
                  </a:lnTo>
                  <a:lnTo>
                    <a:pt x="32" y="83"/>
                  </a:lnTo>
                  <a:lnTo>
                    <a:pt x="19" y="64"/>
                  </a:lnTo>
                  <a:lnTo>
                    <a:pt x="9" y="43"/>
                  </a:lnTo>
                  <a:lnTo>
                    <a:pt x="3" y="21"/>
                  </a:lnTo>
                  <a:lnTo>
                    <a:pt x="0" y="0"/>
                  </a:lnTo>
                  <a:lnTo>
                    <a:pt x="2" y="13"/>
                  </a:lnTo>
                  <a:lnTo>
                    <a:pt x="6" y="39"/>
                  </a:lnTo>
                  <a:lnTo>
                    <a:pt x="13" y="64"/>
                  </a:lnTo>
                  <a:lnTo>
                    <a:pt x="25" y="89"/>
                  </a:lnTo>
                  <a:lnTo>
                    <a:pt x="40" y="112"/>
                  </a:lnTo>
                  <a:lnTo>
                    <a:pt x="59" y="135"/>
                  </a:lnTo>
                  <a:lnTo>
                    <a:pt x="81" y="156"/>
                  </a:lnTo>
                  <a:lnTo>
                    <a:pt x="105" y="176"/>
                  </a:lnTo>
                  <a:lnTo>
                    <a:pt x="132" y="194"/>
                  </a:lnTo>
                  <a:lnTo>
                    <a:pt x="161" y="209"/>
                  </a:lnTo>
                  <a:lnTo>
                    <a:pt x="193" y="224"/>
                  </a:lnTo>
                  <a:lnTo>
                    <a:pt x="227" y="235"/>
                  </a:lnTo>
                  <a:lnTo>
                    <a:pt x="262" y="244"/>
                  </a:lnTo>
                  <a:lnTo>
                    <a:pt x="299" y="251"/>
                  </a:lnTo>
                  <a:lnTo>
                    <a:pt x="334" y="255"/>
                  </a:lnTo>
                  <a:lnTo>
                    <a:pt x="372" y="257"/>
                  </a:lnTo>
                  <a:lnTo>
                    <a:pt x="803" y="257"/>
                  </a:lnTo>
                  <a:lnTo>
                    <a:pt x="830" y="259"/>
                  </a:lnTo>
                  <a:lnTo>
                    <a:pt x="856" y="262"/>
                  </a:lnTo>
                  <a:lnTo>
                    <a:pt x="879" y="269"/>
                  </a:lnTo>
                  <a:lnTo>
                    <a:pt x="903" y="277"/>
                  </a:lnTo>
                  <a:lnTo>
                    <a:pt x="923" y="289"/>
                  </a:lnTo>
                  <a:lnTo>
                    <a:pt x="943" y="302"/>
                  </a:lnTo>
                  <a:lnTo>
                    <a:pt x="958" y="317"/>
                  </a:lnTo>
                  <a:lnTo>
                    <a:pt x="971" y="333"/>
                  </a:lnTo>
                  <a:lnTo>
                    <a:pt x="980" y="350"/>
                  </a:lnTo>
                  <a:lnTo>
                    <a:pt x="986" y="369"/>
                  </a:lnTo>
                  <a:lnTo>
                    <a:pt x="990" y="387"/>
                  </a:lnTo>
                  <a:lnTo>
                    <a:pt x="990" y="389"/>
                  </a:lnTo>
                  <a:lnTo>
                    <a:pt x="992" y="370"/>
                  </a:lnTo>
                  <a:lnTo>
                    <a:pt x="997" y="352"/>
                  </a:lnTo>
                  <a:lnTo>
                    <a:pt x="1007" y="335"/>
                  </a:lnTo>
                  <a:lnTo>
                    <a:pt x="1019" y="318"/>
                  </a:lnTo>
                  <a:lnTo>
                    <a:pt x="1035" y="304"/>
                  </a:lnTo>
                  <a:lnTo>
                    <a:pt x="1053" y="290"/>
                  </a:lnTo>
                  <a:lnTo>
                    <a:pt x="1073" y="279"/>
                  </a:lnTo>
                  <a:lnTo>
                    <a:pt x="1097" y="270"/>
                  </a:lnTo>
                  <a:lnTo>
                    <a:pt x="1120" y="263"/>
                  </a:lnTo>
                  <a:lnTo>
                    <a:pt x="1146" y="259"/>
                  </a:lnTo>
                  <a:lnTo>
                    <a:pt x="1172" y="257"/>
                  </a:lnTo>
                  <a:lnTo>
                    <a:pt x="1175" y="257"/>
                  </a:lnTo>
                  <a:lnTo>
                    <a:pt x="1608" y="257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5"/>
            <p:cNvSpPr/>
            <p:nvPr/>
          </p:nvSpPr>
          <p:spPr>
            <a:xfrm>
              <a:off x="952560" y="5029200"/>
              <a:ext cx="38829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Rate variance</a:t>
              </a:r>
              <a:br>
                <a:rPr sz="2400"/>
              </a:b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$1,250 unfavora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" name="Group 6"/>
          <p:cNvGrpSpPr/>
          <p:nvPr/>
        </p:nvGrpSpPr>
        <p:grpSpPr>
          <a:xfrm>
            <a:off x="4324320" y="4341960"/>
            <a:ext cx="3882960" cy="1507680"/>
            <a:chOff x="4324320" y="4341960"/>
            <a:chExt cx="3882960" cy="1507680"/>
          </a:xfrm>
        </p:grpSpPr>
        <p:sp>
          <p:nvSpPr>
            <p:cNvPr id="551" name="Rectangle 7"/>
            <p:cNvSpPr/>
            <p:nvPr/>
          </p:nvSpPr>
          <p:spPr>
            <a:xfrm>
              <a:off x="4324320" y="5029200"/>
              <a:ext cx="38829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Efficiency variance</a:t>
              </a:r>
              <a:br>
                <a:rPr sz="2400"/>
              </a:b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$1,000 unfavora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8"/>
            <p:cNvSpPr/>
            <p:nvPr/>
          </p:nvSpPr>
          <p:spPr>
            <a:xfrm>
              <a:off x="4665600" y="4341960"/>
              <a:ext cx="3142800" cy="618840"/>
            </a:xfrm>
            <a:custGeom>
              <a:avLst/>
              <a:gdLst>
                <a:gd name="textAreaLeft" fmla="*/ 0 w 3142800"/>
                <a:gd name="textAreaRight" fmla="*/ 3143160 w 3142800"/>
                <a:gd name="textAreaTop" fmla="*/ 0 h 618840"/>
                <a:gd name="textAreaBottom" fmla="*/ 619200 h 618840"/>
              </a:gdLst>
              <a:ahLst/>
              <a:rect l="textAreaLeft" t="textAreaTop" r="textAreaRight" b="textAreaBottom"/>
              <a:pathLst>
                <a:path w="1980" h="390">
                  <a:moveTo>
                    <a:pt x="1608" y="257"/>
                  </a:moveTo>
                  <a:lnTo>
                    <a:pt x="1645" y="255"/>
                  </a:lnTo>
                  <a:lnTo>
                    <a:pt x="1681" y="251"/>
                  </a:lnTo>
                  <a:lnTo>
                    <a:pt x="1718" y="244"/>
                  </a:lnTo>
                  <a:lnTo>
                    <a:pt x="1753" y="235"/>
                  </a:lnTo>
                  <a:lnTo>
                    <a:pt x="1787" y="224"/>
                  </a:lnTo>
                  <a:lnTo>
                    <a:pt x="1819" y="209"/>
                  </a:lnTo>
                  <a:lnTo>
                    <a:pt x="1849" y="194"/>
                  </a:lnTo>
                  <a:lnTo>
                    <a:pt x="1876" y="176"/>
                  </a:lnTo>
                  <a:lnTo>
                    <a:pt x="1900" y="156"/>
                  </a:lnTo>
                  <a:lnTo>
                    <a:pt x="1922" y="135"/>
                  </a:lnTo>
                  <a:lnTo>
                    <a:pt x="1940" y="112"/>
                  </a:lnTo>
                  <a:lnTo>
                    <a:pt x="1955" y="89"/>
                  </a:lnTo>
                  <a:lnTo>
                    <a:pt x="1966" y="64"/>
                  </a:lnTo>
                  <a:lnTo>
                    <a:pt x="1975" y="39"/>
                  </a:lnTo>
                  <a:lnTo>
                    <a:pt x="1978" y="13"/>
                  </a:lnTo>
                  <a:lnTo>
                    <a:pt x="1979" y="0"/>
                  </a:lnTo>
                  <a:lnTo>
                    <a:pt x="1978" y="21"/>
                  </a:lnTo>
                  <a:lnTo>
                    <a:pt x="1972" y="43"/>
                  </a:lnTo>
                  <a:lnTo>
                    <a:pt x="1961" y="64"/>
                  </a:lnTo>
                  <a:lnTo>
                    <a:pt x="1949" y="83"/>
                  </a:lnTo>
                  <a:lnTo>
                    <a:pt x="1933" y="102"/>
                  </a:lnTo>
                  <a:lnTo>
                    <a:pt x="1913" y="119"/>
                  </a:lnTo>
                  <a:lnTo>
                    <a:pt x="1891" y="134"/>
                  </a:lnTo>
                  <a:lnTo>
                    <a:pt x="1866" y="148"/>
                  </a:lnTo>
                  <a:lnTo>
                    <a:pt x="1839" y="159"/>
                  </a:lnTo>
                  <a:lnTo>
                    <a:pt x="1810" y="168"/>
                  </a:lnTo>
                  <a:lnTo>
                    <a:pt x="1781" y="174"/>
                  </a:lnTo>
                  <a:lnTo>
                    <a:pt x="1751" y="179"/>
                  </a:lnTo>
                  <a:lnTo>
                    <a:pt x="1719" y="180"/>
                  </a:lnTo>
                  <a:lnTo>
                    <a:pt x="1214" y="180"/>
                  </a:lnTo>
                  <a:lnTo>
                    <a:pt x="1185" y="182"/>
                  </a:lnTo>
                  <a:lnTo>
                    <a:pt x="1157" y="186"/>
                  </a:lnTo>
                  <a:lnTo>
                    <a:pt x="1129" y="193"/>
                  </a:lnTo>
                  <a:lnTo>
                    <a:pt x="1103" y="202"/>
                  </a:lnTo>
                  <a:lnTo>
                    <a:pt x="1080" y="213"/>
                  </a:lnTo>
                  <a:lnTo>
                    <a:pt x="1058" y="227"/>
                  </a:lnTo>
                  <a:lnTo>
                    <a:pt x="1038" y="242"/>
                  </a:lnTo>
                  <a:lnTo>
                    <a:pt x="1022" y="258"/>
                  </a:lnTo>
                  <a:lnTo>
                    <a:pt x="1010" y="276"/>
                  </a:lnTo>
                  <a:lnTo>
                    <a:pt x="1000" y="295"/>
                  </a:lnTo>
                  <a:lnTo>
                    <a:pt x="994" y="316"/>
                  </a:lnTo>
                  <a:lnTo>
                    <a:pt x="991" y="335"/>
                  </a:lnTo>
                  <a:lnTo>
                    <a:pt x="990" y="338"/>
                  </a:lnTo>
                  <a:lnTo>
                    <a:pt x="990" y="335"/>
                  </a:lnTo>
                  <a:lnTo>
                    <a:pt x="986" y="316"/>
                  </a:lnTo>
                  <a:lnTo>
                    <a:pt x="980" y="295"/>
                  </a:lnTo>
                  <a:lnTo>
                    <a:pt x="971" y="276"/>
                  </a:lnTo>
                  <a:lnTo>
                    <a:pt x="958" y="258"/>
                  </a:lnTo>
                  <a:lnTo>
                    <a:pt x="941" y="242"/>
                  </a:lnTo>
                  <a:lnTo>
                    <a:pt x="922" y="227"/>
                  </a:lnTo>
                  <a:lnTo>
                    <a:pt x="900" y="213"/>
                  </a:lnTo>
                  <a:lnTo>
                    <a:pt x="876" y="202"/>
                  </a:lnTo>
                  <a:lnTo>
                    <a:pt x="851" y="193"/>
                  </a:lnTo>
                  <a:lnTo>
                    <a:pt x="824" y="186"/>
                  </a:lnTo>
                  <a:lnTo>
                    <a:pt x="795" y="182"/>
                  </a:lnTo>
                  <a:lnTo>
                    <a:pt x="766" y="180"/>
                  </a:lnTo>
                  <a:lnTo>
                    <a:pt x="261" y="180"/>
                  </a:lnTo>
                  <a:lnTo>
                    <a:pt x="231" y="179"/>
                  </a:lnTo>
                  <a:lnTo>
                    <a:pt x="199" y="174"/>
                  </a:lnTo>
                  <a:lnTo>
                    <a:pt x="169" y="168"/>
                  </a:lnTo>
                  <a:lnTo>
                    <a:pt x="141" y="159"/>
                  </a:lnTo>
                  <a:lnTo>
                    <a:pt x="115" y="148"/>
                  </a:lnTo>
                  <a:lnTo>
                    <a:pt x="90" y="134"/>
                  </a:lnTo>
                  <a:lnTo>
                    <a:pt x="67" y="119"/>
                  </a:lnTo>
                  <a:lnTo>
                    <a:pt x="48" y="102"/>
                  </a:lnTo>
                  <a:lnTo>
                    <a:pt x="32" y="83"/>
                  </a:lnTo>
                  <a:lnTo>
                    <a:pt x="19" y="64"/>
                  </a:lnTo>
                  <a:lnTo>
                    <a:pt x="9" y="43"/>
                  </a:lnTo>
                  <a:lnTo>
                    <a:pt x="3" y="21"/>
                  </a:lnTo>
                  <a:lnTo>
                    <a:pt x="0" y="0"/>
                  </a:lnTo>
                  <a:lnTo>
                    <a:pt x="2" y="13"/>
                  </a:lnTo>
                  <a:lnTo>
                    <a:pt x="6" y="39"/>
                  </a:lnTo>
                  <a:lnTo>
                    <a:pt x="13" y="64"/>
                  </a:lnTo>
                  <a:lnTo>
                    <a:pt x="25" y="89"/>
                  </a:lnTo>
                  <a:lnTo>
                    <a:pt x="40" y="112"/>
                  </a:lnTo>
                  <a:lnTo>
                    <a:pt x="59" y="135"/>
                  </a:lnTo>
                  <a:lnTo>
                    <a:pt x="81" y="156"/>
                  </a:lnTo>
                  <a:lnTo>
                    <a:pt x="105" y="176"/>
                  </a:lnTo>
                  <a:lnTo>
                    <a:pt x="132" y="194"/>
                  </a:lnTo>
                  <a:lnTo>
                    <a:pt x="161" y="209"/>
                  </a:lnTo>
                  <a:lnTo>
                    <a:pt x="193" y="224"/>
                  </a:lnTo>
                  <a:lnTo>
                    <a:pt x="227" y="235"/>
                  </a:lnTo>
                  <a:lnTo>
                    <a:pt x="262" y="244"/>
                  </a:lnTo>
                  <a:lnTo>
                    <a:pt x="299" y="251"/>
                  </a:lnTo>
                  <a:lnTo>
                    <a:pt x="334" y="255"/>
                  </a:lnTo>
                  <a:lnTo>
                    <a:pt x="372" y="257"/>
                  </a:lnTo>
                  <a:lnTo>
                    <a:pt x="803" y="257"/>
                  </a:lnTo>
                  <a:lnTo>
                    <a:pt x="830" y="259"/>
                  </a:lnTo>
                  <a:lnTo>
                    <a:pt x="856" y="262"/>
                  </a:lnTo>
                  <a:lnTo>
                    <a:pt x="879" y="269"/>
                  </a:lnTo>
                  <a:lnTo>
                    <a:pt x="903" y="277"/>
                  </a:lnTo>
                  <a:lnTo>
                    <a:pt x="923" y="289"/>
                  </a:lnTo>
                  <a:lnTo>
                    <a:pt x="943" y="302"/>
                  </a:lnTo>
                  <a:lnTo>
                    <a:pt x="958" y="317"/>
                  </a:lnTo>
                  <a:lnTo>
                    <a:pt x="971" y="333"/>
                  </a:lnTo>
                  <a:lnTo>
                    <a:pt x="980" y="350"/>
                  </a:lnTo>
                  <a:lnTo>
                    <a:pt x="986" y="369"/>
                  </a:lnTo>
                  <a:lnTo>
                    <a:pt x="990" y="387"/>
                  </a:lnTo>
                  <a:lnTo>
                    <a:pt x="990" y="389"/>
                  </a:lnTo>
                  <a:lnTo>
                    <a:pt x="992" y="370"/>
                  </a:lnTo>
                  <a:lnTo>
                    <a:pt x="997" y="352"/>
                  </a:lnTo>
                  <a:lnTo>
                    <a:pt x="1007" y="335"/>
                  </a:lnTo>
                  <a:lnTo>
                    <a:pt x="1019" y="318"/>
                  </a:lnTo>
                  <a:lnTo>
                    <a:pt x="1035" y="304"/>
                  </a:lnTo>
                  <a:lnTo>
                    <a:pt x="1053" y="290"/>
                  </a:lnTo>
                  <a:lnTo>
                    <a:pt x="1073" y="279"/>
                  </a:lnTo>
                  <a:lnTo>
                    <a:pt x="1097" y="270"/>
                  </a:lnTo>
                  <a:lnTo>
                    <a:pt x="1120" y="263"/>
                  </a:lnTo>
                  <a:lnTo>
                    <a:pt x="1146" y="259"/>
                  </a:lnTo>
                  <a:lnTo>
                    <a:pt x="1172" y="257"/>
                  </a:lnTo>
                  <a:lnTo>
                    <a:pt x="1175" y="257"/>
                  </a:lnTo>
                  <a:lnTo>
                    <a:pt x="1608" y="257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Rectangle 9"/>
          <p:cNvSpPr/>
          <p:nvPr/>
        </p:nvSpPr>
        <p:spPr>
          <a:xfrm>
            <a:off x="266760" y="1523880"/>
            <a:ext cx="8759880" cy="9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Actual Hours            Actual Hours</a:t>
            </a: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      Standard Hours</a:t>
            </a:r>
            <a:br>
              <a:rPr sz="2400"/>
            </a:b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            ×                               ×                                 × </a:t>
            </a:r>
            <a:br>
              <a:rPr sz="2400"/>
            </a:b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    Actual Rate             Standard Rate           Standard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10"/>
          <p:cNvSpPr/>
          <p:nvPr/>
        </p:nvSpPr>
        <p:spPr>
          <a:xfrm>
            <a:off x="455760" y="2436840"/>
            <a:ext cx="2193840" cy="0"/>
          </a:xfrm>
          <a:prstGeom prst="line">
            <a:avLst/>
          </a:prstGeom>
          <a:ln w="28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11"/>
          <p:cNvSpPr/>
          <p:nvPr/>
        </p:nvSpPr>
        <p:spPr>
          <a:xfrm>
            <a:off x="3402000" y="2436840"/>
            <a:ext cx="2193840" cy="0"/>
          </a:xfrm>
          <a:prstGeom prst="line">
            <a:avLst/>
          </a:prstGeom>
          <a:ln w="28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12"/>
          <p:cNvSpPr/>
          <p:nvPr/>
        </p:nvSpPr>
        <p:spPr>
          <a:xfrm>
            <a:off x="6416640" y="2436840"/>
            <a:ext cx="2193840" cy="0"/>
          </a:xfrm>
          <a:prstGeom prst="line">
            <a:avLst/>
          </a:prstGeom>
          <a:ln w="28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Labor Variances Summary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58" name="Rectangle 4"/>
          <p:cNvSpPr/>
          <p:nvPr/>
        </p:nvSpPr>
        <p:spPr>
          <a:xfrm>
            <a:off x="343080" y="2590920"/>
            <a:ext cx="8607240" cy="174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464646"/>
                </a:solidFill>
                <a:latin typeface="Arial"/>
              </a:rPr>
              <a:t>2,500 hours                 2,500 hours                  2,400 hours</a:t>
            </a:r>
            <a:br>
              <a:rPr sz="2400"/>
            </a:br>
            <a:r>
              <a:rPr b="0" lang="en-US" sz="2400" spc="-1" strike="noStrike">
                <a:solidFill>
                  <a:srgbClr val="464646"/>
                </a:solidFill>
                <a:latin typeface="Arial"/>
              </a:rPr>
              <a:t>           ×                                 ×                                 ×</a:t>
            </a:r>
            <a:br>
              <a:rPr sz="2400"/>
            </a:br>
            <a:r>
              <a:rPr b="0" lang="en-US" sz="2400" spc="-1" strike="noStrike">
                <a:solidFill>
                  <a:srgbClr val="464646"/>
                </a:solidFill>
                <a:latin typeface="Arial"/>
              </a:rPr>
              <a:t>$10.50 per hour         $10.00 per hour          $10.00 per h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 $26,250                  = $25,000                     = $24,000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9" name="Object 2"/>
          <p:cNvGraphicFramePr/>
          <p:nvPr/>
        </p:nvGraphicFramePr>
        <p:xfrm>
          <a:off x="7086600" y="5715000"/>
          <a:ext cx="160020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5715000"/>
                    <a:ext cx="160020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Labor Variances Summary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graphicFrame>
        <p:nvGraphicFramePr>
          <p:cNvPr id="562" name="Object 2"/>
          <p:cNvGraphicFramePr/>
          <p:nvPr/>
        </p:nvGraphicFramePr>
        <p:xfrm>
          <a:off x="7086600" y="5715000"/>
          <a:ext cx="160020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5715000"/>
                    <a:ext cx="160020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64" name="Group 3"/>
          <p:cNvGrpSpPr/>
          <p:nvPr/>
        </p:nvGrpSpPr>
        <p:grpSpPr>
          <a:xfrm>
            <a:off x="952560" y="4341960"/>
            <a:ext cx="3882960" cy="1507680"/>
            <a:chOff x="952560" y="4341960"/>
            <a:chExt cx="3882960" cy="1507680"/>
          </a:xfrm>
        </p:grpSpPr>
        <p:sp>
          <p:nvSpPr>
            <p:cNvPr id="565" name="Freeform 4"/>
            <p:cNvSpPr/>
            <p:nvPr/>
          </p:nvSpPr>
          <p:spPr>
            <a:xfrm>
              <a:off x="1311480" y="4341960"/>
              <a:ext cx="3143160" cy="618840"/>
            </a:xfrm>
            <a:custGeom>
              <a:avLst/>
              <a:gdLst>
                <a:gd name="textAreaLeft" fmla="*/ 0 w 3143160"/>
                <a:gd name="textAreaRight" fmla="*/ 3143520 w 3143160"/>
                <a:gd name="textAreaTop" fmla="*/ 0 h 618840"/>
                <a:gd name="textAreaBottom" fmla="*/ 619200 h 618840"/>
              </a:gdLst>
              <a:ahLst/>
              <a:rect l="textAreaLeft" t="textAreaTop" r="textAreaRight" b="textAreaBottom"/>
              <a:pathLst>
                <a:path w="1980" h="390">
                  <a:moveTo>
                    <a:pt x="1608" y="257"/>
                  </a:moveTo>
                  <a:lnTo>
                    <a:pt x="1645" y="255"/>
                  </a:lnTo>
                  <a:lnTo>
                    <a:pt x="1681" y="251"/>
                  </a:lnTo>
                  <a:lnTo>
                    <a:pt x="1718" y="244"/>
                  </a:lnTo>
                  <a:lnTo>
                    <a:pt x="1753" y="235"/>
                  </a:lnTo>
                  <a:lnTo>
                    <a:pt x="1787" y="224"/>
                  </a:lnTo>
                  <a:lnTo>
                    <a:pt x="1819" y="209"/>
                  </a:lnTo>
                  <a:lnTo>
                    <a:pt x="1849" y="194"/>
                  </a:lnTo>
                  <a:lnTo>
                    <a:pt x="1876" y="176"/>
                  </a:lnTo>
                  <a:lnTo>
                    <a:pt x="1900" y="156"/>
                  </a:lnTo>
                  <a:lnTo>
                    <a:pt x="1922" y="135"/>
                  </a:lnTo>
                  <a:lnTo>
                    <a:pt x="1940" y="112"/>
                  </a:lnTo>
                  <a:lnTo>
                    <a:pt x="1955" y="89"/>
                  </a:lnTo>
                  <a:lnTo>
                    <a:pt x="1966" y="64"/>
                  </a:lnTo>
                  <a:lnTo>
                    <a:pt x="1975" y="39"/>
                  </a:lnTo>
                  <a:lnTo>
                    <a:pt x="1978" y="13"/>
                  </a:lnTo>
                  <a:lnTo>
                    <a:pt x="1979" y="0"/>
                  </a:lnTo>
                  <a:lnTo>
                    <a:pt x="1978" y="21"/>
                  </a:lnTo>
                  <a:lnTo>
                    <a:pt x="1972" y="43"/>
                  </a:lnTo>
                  <a:lnTo>
                    <a:pt x="1961" y="64"/>
                  </a:lnTo>
                  <a:lnTo>
                    <a:pt x="1949" y="83"/>
                  </a:lnTo>
                  <a:lnTo>
                    <a:pt x="1933" y="102"/>
                  </a:lnTo>
                  <a:lnTo>
                    <a:pt x="1913" y="119"/>
                  </a:lnTo>
                  <a:lnTo>
                    <a:pt x="1891" y="134"/>
                  </a:lnTo>
                  <a:lnTo>
                    <a:pt x="1866" y="148"/>
                  </a:lnTo>
                  <a:lnTo>
                    <a:pt x="1839" y="159"/>
                  </a:lnTo>
                  <a:lnTo>
                    <a:pt x="1810" y="168"/>
                  </a:lnTo>
                  <a:lnTo>
                    <a:pt x="1781" y="174"/>
                  </a:lnTo>
                  <a:lnTo>
                    <a:pt x="1751" y="179"/>
                  </a:lnTo>
                  <a:lnTo>
                    <a:pt x="1719" y="180"/>
                  </a:lnTo>
                  <a:lnTo>
                    <a:pt x="1214" y="180"/>
                  </a:lnTo>
                  <a:lnTo>
                    <a:pt x="1185" y="182"/>
                  </a:lnTo>
                  <a:lnTo>
                    <a:pt x="1157" y="186"/>
                  </a:lnTo>
                  <a:lnTo>
                    <a:pt x="1129" y="193"/>
                  </a:lnTo>
                  <a:lnTo>
                    <a:pt x="1103" y="202"/>
                  </a:lnTo>
                  <a:lnTo>
                    <a:pt x="1080" y="213"/>
                  </a:lnTo>
                  <a:lnTo>
                    <a:pt x="1058" y="227"/>
                  </a:lnTo>
                  <a:lnTo>
                    <a:pt x="1038" y="242"/>
                  </a:lnTo>
                  <a:lnTo>
                    <a:pt x="1022" y="258"/>
                  </a:lnTo>
                  <a:lnTo>
                    <a:pt x="1010" y="276"/>
                  </a:lnTo>
                  <a:lnTo>
                    <a:pt x="1000" y="295"/>
                  </a:lnTo>
                  <a:lnTo>
                    <a:pt x="994" y="316"/>
                  </a:lnTo>
                  <a:lnTo>
                    <a:pt x="991" y="335"/>
                  </a:lnTo>
                  <a:lnTo>
                    <a:pt x="990" y="338"/>
                  </a:lnTo>
                  <a:lnTo>
                    <a:pt x="990" y="335"/>
                  </a:lnTo>
                  <a:lnTo>
                    <a:pt x="986" y="316"/>
                  </a:lnTo>
                  <a:lnTo>
                    <a:pt x="980" y="295"/>
                  </a:lnTo>
                  <a:lnTo>
                    <a:pt x="971" y="276"/>
                  </a:lnTo>
                  <a:lnTo>
                    <a:pt x="958" y="258"/>
                  </a:lnTo>
                  <a:lnTo>
                    <a:pt x="941" y="242"/>
                  </a:lnTo>
                  <a:lnTo>
                    <a:pt x="922" y="227"/>
                  </a:lnTo>
                  <a:lnTo>
                    <a:pt x="900" y="213"/>
                  </a:lnTo>
                  <a:lnTo>
                    <a:pt x="876" y="202"/>
                  </a:lnTo>
                  <a:lnTo>
                    <a:pt x="851" y="193"/>
                  </a:lnTo>
                  <a:lnTo>
                    <a:pt x="824" y="186"/>
                  </a:lnTo>
                  <a:lnTo>
                    <a:pt x="795" y="182"/>
                  </a:lnTo>
                  <a:lnTo>
                    <a:pt x="766" y="180"/>
                  </a:lnTo>
                  <a:lnTo>
                    <a:pt x="261" y="180"/>
                  </a:lnTo>
                  <a:lnTo>
                    <a:pt x="231" y="179"/>
                  </a:lnTo>
                  <a:lnTo>
                    <a:pt x="199" y="174"/>
                  </a:lnTo>
                  <a:lnTo>
                    <a:pt x="169" y="168"/>
                  </a:lnTo>
                  <a:lnTo>
                    <a:pt x="141" y="159"/>
                  </a:lnTo>
                  <a:lnTo>
                    <a:pt x="115" y="148"/>
                  </a:lnTo>
                  <a:lnTo>
                    <a:pt x="90" y="134"/>
                  </a:lnTo>
                  <a:lnTo>
                    <a:pt x="67" y="119"/>
                  </a:lnTo>
                  <a:lnTo>
                    <a:pt x="48" y="102"/>
                  </a:lnTo>
                  <a:lnTo>
                    <a:pt x="32" y="83"/>
                  </a:lnTo>
                  <a:lnTo>
                    <a:pt x="19" y="64"/>
                  </a:lnTo>
                  <a:lnTo>
                    <a:pt x="9" y="43"/>
                  </a:lnTo>
                  <a:lnTo>
                    <a:pt x="3" y="21"/>
                  </a:lnTo>
                  <a:lnTo>
                    <a:pt x="0" y="0"/>
                  </a:lnTo>
                  <a:lnTo>
                    <a:pt x="2" y="13"/>
                  </a:lnTo>
                  <a:lnTo>
                    <a:pt x="6" y="39"/>
                  </a:lnTo>
                  <a:lnTo>
                    <a:pt x="13" y="64"/>
                  </a:lnTo>
                  <a:lnTo>
                    <a:pt x="25" y="89"/>
                  </a:lnTo>
                  <a:lnTo>
                    <a:pt x="40" y="112"/>
                  </a:lnTo>
                  <a:lnTo>
                    <a:pt x="59" y="135"/>
                  </a:lnTo>
                  <a:lnTo>
                    <a:pt x="81" y="156"/>
                  </a:lnTo>
                  <a:lnTo>
                    <a:pt x="105" y="176"/>
                  </a:lnTo>
                  <a:lnTo>
                    <a:pt x="132" y="194"/>
                  </a:lnTo>
                  <a:lnTo>
                    <a:pt x="161" y="209"/>
                  </a:lnTo>
                  <a:lnTo>
                    <a:pt x="193" y="224"/>
                  </a:lnTo>
                  <a:lnTo>
                    <a:pt x="227" y="235"/>
                  </a:lnTo>
                  <a:lnTo>
                    <a:pt x="262" y="244"/>
                  </a:lnTo>
                  <a:lnTo>
                    <a:pt x="299" y="251"/>
                  </a:lnTo>
                  <a:lnTo>
                    <a:pt x="334" y="255"/>
                  </a:lnTo>
                  <a:lnTo>
                    <a:pt x="372" y="257"/>
                  </a:lnTo>
                  <a:lnTo>
                    <a:pt x="803" y="257"/>
                  </a:lnTo>
                  <a:lnTo>
                    <a:pt x="830" y="259"/>
                  </a:lnTo>
                  <a:lnTo>
                    <a:pt x="856" y="262"/>
                  </a:lnTo>
                  <a:lnTo>
                    <a:pt x="879" y="269"/>
                  </a:lnTo>
                  <a:lnTo>
                    <a:pt x="903" y="277"/>
                  </a:lnTo>
                  <a:lnTo>
                    <a:pt x="923" y="289"/>
                  </a:lnTo>
                  <a:lnTo>
                    <a:pt x="943" y="302"/>
                  </a:lnTo>
                  <a:lnTo>
                    <a:pt x="958" y="317"/>
                  </a:lnTo>
                  <a:lnTo>
                    <a:pt x="971" y="333"/>
                  </a:lnTo>
                  <a:lnTo>
                    <a:pt x="980" y="350"/>
                  </a:lnTo>
                  <a:lnTo>
                    <a:pt x="986" y="369"/>
                  </a:lnTo>
                  <a:lnTo>
                    <a:pt x="990" y="387"/>
                  </a:lnTo>
                  <a:lnTo>
                    <a:pt x="990" y="389"/>
                  </a:lnTo>
                  <a:lnTo>
                    <a:pt x="992" y="370"/>
                  </a:lnTo>
                  <a:lnTo>
                    <a:pt x="997" y="352"/>
                  </a:lnTo>
                  <a:lnTo>
                    <a:pt x="1007" y="335"/>
                  </a:lnTo>
                  <a:lnTo>
                    <a:pt x="1019" y="318"/>
                  </a:lnTo>
                  <a:lnTo>
                    <a:pt x="1035" y="304"/>
                  </a:lnTo>
                  <a:lnTo>
                    <a:pt x="1053" y="290"/>
                  </a:lnTo>
                  <a:lnTo>
                    <a:pt x="1073" y="279"/>
                  </a:lnTo>
                  <a:lnTo>
                    <a:pt x="1097" y="270"/>
                  </a:lnTo>
                  <a:lnTo>
                    <a:pt x="1120" y="263"/>
                  </a:lnTo>
                  <a:lnTo>
                    <a:pt x="1146" y="259"/>
                  </a:lnTo>
                  <a:lnTo>
                    <a:pt x="1172" y="257"/>
                  </a:lnTo>
                  <a:lnTo>
                    <a:pt x="1175" y="257"/>
                  </a:lnTo>
                  <a:lnTo>
                    <a:pt x="1608" y="257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5"/>
            <p:cNvSpPr/>
            <p:nvPr/>
          </p:nvSpPr>
          <p:spPr>
            <a:xfrm>
              <a:off x="952560" y="5029200"/>
              <a:ext cx="38829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Rate variance</a:t>
              </a:r>
              <a:br>
                <a:rPr sz="2400"/>
              </a:b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$1,250 unfavora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Group 6"/>
          <p:cNvGrpSpPr/>
          <p:nvPr/>
        </p:nvGrpSpPr>
        <p:grpSpPr>
          <a:xfrm>
            <a:off x="4324320" y="4341960"/>
            <a:ext cx="3882960" cy="1507680"/>
            <a:chOff x="4324320" y="4341960"/>
            <a:chExt cx="3882960" cy="1507680"/>
          </a:xfrm>
        </p:grpSpPr>
        <p:sp>
          <p:nvSpPr>
            <p:cNvPr id="568" name="Rectangle 7"/>
            <p:cNvSpPr/>
            <p:nvPr/>
          </p:nvSpPr>
          <p:spPr>
            <a:xfrm>
              <a:off x="4324320" y="5029200"/>
              <a:ext cx="38829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Efficiency variance</a:t>
              </a:r>
              <a:br>
                <a:rPr sz="2400"/>
              </a:b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$1,000 unfavora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8"/>
            <p:cNvSpPr/>
            <p:nvPr/>
          </p:nvSpPr>
          <p:spPr>
            <a:xfrm>
              <a:off x="4665600" y="4341960"/>
              <a:ext cx="3142800" cy="618840"/>
            </a:xfrm>
            <a:custGeom>
              <a:avLst/>
              <a:gdLst>
                <a:gd name="textAreaLeft" fmla="*/ 0 w 3142800"/>
                <a:gd name="textAreaRight" fmla="*/ 3143160 w 3142800"/>
                <a:gd name="textAreaTop" fmla="*/ 0 h 618840"/>
                <a:gd name="textAreaBottom" fmla="*/ 619200 h 618840"/>
              </a:gdLst>
              <a:ahLst/>
              <a:rect l="textAreaLeft" t="textAreaTop" r="textAreaRight" b="textAreaBottom"/>
              <a:pathLst>
                <a:path w="1980" h="390">
                  <a:moveTo>
                    <a:pt x="1608" y="257"/>
                  </a:moveTo>
                  <a:lnTo>
                    <a:pt x="1645" y="255"/>
                  </a:lnTo>
                  <a:lnTo>
                    <a:pt x="1681" y="251"/>
                  </a:lnTo>
                  <a:lnTo>
                    <a:pt x="1718" y="244"/>
                  </a:lnTo>
                  <a:lnTo>
                    <a:pt x="1753" y="235"/>
                  </a:lnTo>
                  <a:lnTo>
                    <a:pt x="1787" y="224"/>
                  </a:lnTo>
                  <a:lnTo>
                    <a:pt x="1819" y="209"/>
                  </a:lnTo>
                  <a:lnTo>
                    <a:pt x="1849" y="194"/>
                  </a:lnTo>
                  <a:lnTo>
                    <a:pt x="1876" y="176"/>
                  </a:lnTo>
                  <a:lnTo>
                    <a:pt x="1900" y="156"/>
                  </a:lnTo>
                  <a:lnTo>
                    <a:pt x="1922" y="135"/>
                  </a:lnTo>
                  <a:lnTo>
                    <a:pt x="1940" y="112"/>
                  </a:lnTo>
                  <a:lnTo>
                    <a:pt x="1955" y="89"/>
                  </a:lnTo>
                  <a:lnTo>
                    <a:pt x="1966" y="64"/>
                  </a:lnTo>
                  <a:lnTo>
                    <a:pt x="1975" y="39"/>
                  </a:lnTo>
                  <a:lnTo>
                    <a:pt x="1978" y="13"/>
                  </a:lnTo>
                  <a:lnTo>
                    <a:pt x="1979" y="0"/>
                  </a:lnTo>
                  <a:lnTo>
                    <a:pt x="1978" y="21"/>
                  </a:lnTo>
                  <a:lnTo>
                    <a:pt x="1972" y="43"/>
                  </a:lnTo>
                  <a:lnTo>
                    <a:pt x="1961" y="64"/>
                  </a:lnTo>
                  <a:lnTo>
                    <a:pt x="1949" y="83"/>
                  </a:lnTo>
                  <a:lnTo>
                    <a:pt x="1933" y="102"/>
                  </a:lnTo>
                  <a:lnTo>
                    <a:pt x="1913" y="119"/>
                  </a:lnTo>
                  <a:lnTo>
                    <a:pt x="1891" y="134"/>
                  </a:lnTo>
                  <a:lnTo>
                    <a:pt x="1866" y="148"/>
                  </a:lnTo>
                  <a:lnTo>
                    <a:pt x="1839" y="159"/>
                  </a:lnTo>
                  <a:lnTo>
                    <a:pt x="1810" y="168"/>
                  </a:lnTo>
                  <a:lnTo>
                    <a:pt x="1781" y="174"/>
                  </a:lnTo>
                  <a:lnTo>
                    <a:pt x="1751" y="179"/>
                  </a:lnTo>
                  <a:lnTo>
                    <a:pt x="1719" y="180"/>
                  </a:lnTo>
                  <a:lnTo>
                    <a:pt x="1214" y="180"/>
                  </a:lnTo>
                  <a:lnTo>
                    <a:pt x="1185" y="182"/>
                  </a:lnTo>
                  <a:lnTo>
                    <a:pt x="1157" y="186"/>
                  </a:lnTo>
                  <a:lnTo>
                    <a:pt x="1129" y="193"/>
                  </a:lnTo>
                  <a:lnTo>
                    <a:pt x="1103" y="202"/>
                  </a:lnTo>
                  <a:lnTo>
                    <a:pt x="1080" y="213"/>
                  </a:lnTo>
                  <a:lnTo>
                    <a:pt x="1058" y="227"/>
                  </a:lnTo>
                  <a:lnTo>
                    <a:pt x="1038" y="242"/>
                  </a:lnTo>
                  <a:lnTo>
                    <a:pt x="1022" y="258"/>
                  </a:lnTo>
                  <a:lnTo>
                    <a:pt x="1010" y="276"/>
                  </a:lnTo>
                  <a:lnTo>
                    <a:pt x="1000" y="295"/>
                  </a:lnTo>
                  <a:lnTo>
                    <a:pt x="994" y="316"/>
                  </a:lnTo>
                  <a:lnTo>
                    <a:pt x="991" y="335"/>
                  </a:lnTo>
                  <a:lnTo>
                    <a:pt x="990" y="338"/>
                  </a:lnTo>
                  <a:lnTo>
                    <a:pt x="990" y="335"/>
                  </a:lnTo>
                  <a:lnTo>
                    <a:pt x="986" y="316"/>
                  </a:lnTo>
                  <a:lnTo>
                    <a:pt x="980" y="295"/>
                  </a:lnTo>
                  <a:lnTo>
                    <a:pt x="971" y="276"/>
                  </a:lnTo>
                  <a:lnTo>
                    <a:pt x="958" y="258"/>
                  </a:lnTo>
                  <a:lnTo>
                    <a:pt x="941" y="242"/>
                  </a:lnTo>
                  <a:lnTo>
                    <a:pt x="922" y="227"/>
                  </a:lnTo>
                  <a:lnTo>
                    <a:pt x="900" y="213"/>
                  </a:lnTo>
                  <a:lnTo>
                    <a:pt x="876" y="202"/>
                  </a:lnTo>
                  <a:lnTo>
                    <a:pt x="851" y="193"/>
                  </a:lnTo>
                  <a:lnTo>
                    <a:pt x="824" y="186"/>
                  </a:lnTo>
                  <a:lnTo>
                    <a:pt x="795" y="182"/>
                  </a:lnTo>
                  <a:lnTo>
                    <a:pt x="766" y="180"/>
                  </a:lnTo>
                  <a:lnTo>
                    <a:pt x="261" y="180"/>
                  </a:lnTo>
                  <a:lnTo>
                    <a:pt x="231" y="179"/>
                  </a:lnTo>
                  <a:lnTo>
                    <a:pt x="199" y="174"/>
                  </a:lnTo>
                  <a:lnTo>
                    <a:pt x="169" y="168"/>
                  </a:lnTo>
                  <a:lnTo>
                    <a:pt x="141" y="159"/>
                  </a:lnTo>
                  <a:lnTo>
                    <a:pt x="115" y="148"/>
                  </a:lnTo>
                  <a:lnTo>
                    <a:pt x="90" y="134"/>
                  </a:lnTo>
                  <a:lnTo>
                    <a:pt x="67" y="119"/>
                  </a:lnTo>
                  <a:lnTo>
                    <a:pt x="48" y="102"/>
                  </a:lnTo>
                  <a:lnTo>
                    <a:pt x="32" y="83"/>
                  </a:lnTo>
                  <a:lnTo>
                    <a:pt x="19" y="64"/>
                  </a:lnTo>
                  <a:lnTo>
                    <a:pt x="9" y="43"/>
                  </a:lnTo>
                  <a:lnTo>
                    <a:pt x="3" y="21"/>
                  </a:lnTo>
                  <a:lnTo>
                    <a:pt x="0" y="0"/>
                  </a:lnTo>
                  <a:lnTo>
                    <a:pt x="2" y="13"/>
                  </a:lnTo>
                  <a:lnTo>
                    <a:pt x="6" y="39"/>
                  </a:lnTo>
                  <a:lnTo>
                    <a:pt x="13" y="64"/>
                  </a:lnTo>
                  <a:lnTo>
                    <a:pt x="25" y="89"/>
                  </a:lnTo>
                  <a:lnTo>
                    <a:pt x="40" y="112"/>
                  </a:lnTo>
                  <a:lnTo>
                    <a:pt x="59" y="135"/>
                  </a:lnTo>
                  <a:lnTo>
                    <a:pt x="81" y="156"/>
                  </a:lnTo>
                  <a:lnTo>
                    <a:pt x="105" y="176"/>
                  </a:lnTo>
                  <a:lnTo>
                    <a:pt x="132" y="194"/>
                  </a:lnTo>
                  <a:lnTo>
                    <a:pt x="161" y="209"/>
                  </a:lnTo>
                  <a:lnTo>
                    <a:pt x="193" y="224"/>
                  </a:lnTo>
                  <a:lnTo>
                    <a:pt x="227" y="235"/>
                  </a:lnTo>
                  <a:lnTo>
                    <a:pt x="262" y="244"/>
                  </a:lnTo>
                  <a:lnTo>
                    <a:pt x="299" y="251"/>
                  </a:lnTo>
                  <a:lnTo>
                    <a:pt x="334" y="255"/>
                  </a:lnTo>
                  <a:lnTo>
                    <a:pt x="372" y="257"/>
                  </a:lnTo>
                  <a:lnTo>
                    <a:pt x="803" y="257"/>
                  </a:lnTo>
                  <a:lnTo>
                    <a:pt x="830" y="259"/>
                  </a:lnTo>
                  <a:lnTo>
                    <a:pt x="856" y="262"/>
                  </a:lnTo>
                  <a:lnTo>
                    <a:pt x="879" y="269"/>
                  </a:lnTo>
                  <a:lnTo>
                    <a:pt x="903" y="277"/>
                  </a:lnTo>
                  <a:lnTo>
                    <a:pt x="923" y="289"/>
                  </a:lnTo>
                  <a:lnTo>
                    <a:pt x="943" y="302"/>
                  </a:lnTo>
                  <a:lnTo>
                    <a:pt x="958" y="317"/>
                  </a:lnTo>
                  <a:lnTo>
                    <a:pt x="971" y="333"/>
                  </a:lnTo>
                  <a:lnTo>
                    <a:pt x="980" y="350"/>
                  </a:lnTo>
                  <a:lnTo>
                    <a:pt x="986" y="369"/>
                  </a:lnTo>
                  <a:lnTo>
                    <a:pt x="990" y="387"/>
                  </a:lnTo>
                  <a:lnTo>
                    <a:pt x="990" y="389"/>
                  </a:lnTo>
                  <a:lnTo>
                    <a:pt x="992" y="370"/>
                  </a:lnTo>
                  <a:lnTo>
                    <a:pt x="997" y="352"/>
                  </a:lnTo>
                  <a:lnTo>
                    <a:pt x="1007" y="335"/>
                  </a:lnTo>
                  <a:lnTo>
                    <a:pt x="1019" y="318"/>
                  </a:lnTo>
                  <a:lnTo>
                    <a:pt x="1035" y="304"/>
                  </a:lnTo>
                  <a:lnTo>
                    <a:pt x="1053" y="290"/>
                  </a:lnTo>
                  <a:lnTo>
                    <a:pt x="1073" y="279"/>
                  </a:lnTo>
                  <a:lnTo>
                    <a:pt x="1097" y="270"/>
                  </a:lnTo>
                  <a:lnTo>
                    <a:pt x="1120" y="263"/>
                  </a:lnTo>
                  <a:lnTo>
                    <a:pt x="1146" y="259"/>
                  </a:lnTo>
                  <a:lnTo>
                    <a:pt x="1172" y="257"/>
                  </a:lnTo>
                  <a:lnTo>
                    <a:pt x="1175" y="257"/>
                  </a:lnTo>
                  <a:lnTo>
                    <a:pt x="1608" y="257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0" name="Rectangle 9"/>
          <p:cNvSpPr/>
          <p:nvPr/>
        </p:nvSpPr>
        <p:spPr>
          <a:xfrm>
            <a:off x="266760" y="1523880"/>
            <a:ext cx="8759880" cy="9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Actual Hours            Actual Hours</a:t>
            </a: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      Standard Hours</a:t>
            </a:r>
            <a:br>
              <a:rPr sz="2400"/>
            </a:b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            ×                               ×                                 × </a:t>
            </a:r>
            <a:br>
              <a:rPr sz="2400"/>
            </a:b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    Actual Rate             Standard Rate           Standard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10"/>
          <p:cNvSpPr/>
          <p:nvPr/>
        </p:nvSpPr>
        <p:spPr>
          <a:xfrm>
            <a:off x="455760" y="2436840"/>
            <a:ext cx="2193840" cy="0"/>
          </a:xfrm>
          <a:prstGeom prst="line">
            <a:avLst/>
          </a:prstGeom>
          <a:ln w="28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11"/>
          <p:cNvSpPr/>
          <p:nvPr/>
        </p:nvSpPr>
        <p:spPr>
          <a:xfrm>
            <a:off x="3402000" y="2436840"/>
            <a:ext cx="2193840" cy="0"/>
          </a:xfrm>
          <a:prstGeom prst="line">
            <a:avLst/>
          </a:prstGeom>
          <a:ln w="28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12"/>
          <p:cNvSpPr/>
          <p:nvPr/>
        </p:nvSpPr>
        <p:spPr>
          <a:xfrm>
            <a:off x="6416640" y="2436840"/>
            <a:ext cx="2193840" cy="0"/>
          </a:xfrm>
          <a:prstGeom prst="line">
            <a:avLst/>
          </a:prstGeom>
          <a:ln w="28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4"/>
          <p:cNvSpPr/>
          <p:nvPr/>
        </p:nvSpPr>
        <p:spPr>
          <a:xfrm>
            <a:off x="343080" y="2590920"/>
            <a:ext cx="8607240" cy="174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464646"/>
                </a:solidFill>
                <a:latin typeface="Arial"/>
              </a:rPr>
              <a:t>2,500 hours                 2,500 hours                  2,400 hours</a:t>
            </a:r>
            <a:br>
              <a:rPr sz="2400"/>
            </a:br>
            <a:r>
              <a:rPr b="0" lang="en-US" sz="2400" spc="-1" strike="noStrike">
                <a:solidFill>
                  <a:srgbClr val="464646"/>
                </a:solidFill>
                <a:latin typeface="Arial"/>
              </a:rPr>
              <a:t>           ×                                 ×                                 ×</a:t>
            </a:r>
            <a:br>
              <a:rPr sz="2400"/>
            </a:br>
            <a:r>
              <a:rPr b="0" lang="en-US" sz="2400" spc="-1" strike="noStrike">
                <a:solidFill>
                  <a:srgbClr val="464646"/>
                </a:solidFill>
                <a:latin typeface="Arial"/>
              </a:rPr>
              <a:t>$10.50 per hour         $10.00 per hour          $10.00 per h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 $26,250                  = $25,000                     = $24,000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Group 9"/>
          <p:cNvGrpSpPr/>
          <p:nvPr/>
        </p:nvGrpSpPr>
        <p:grpSpPr>
          <a:xfrm>
            <a:off x="1905480" y="2806560"/>
            <a:ext cx="4876200" cy="825480"/>
            <a:chOff x="1905480" y="2806560"/>
            <a:chExt cx="4876200" cy="825480"/>
          </a:xfrm>
        </p:grpSpPr>
        <p:sp>
          <p:nvSpPr>
            <p:cNvPr id="576" name="Line 10"/>
            <p:cNvSpPr/>
            <p:nvPr/>
          </p:nvSpPr>
          <p:spPr>
            <a:xfrm flipV="1">
              <a:off x="5639040" y="2882520"/>
              <a:ext cx="11426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Text Box 11"/>
            <p:cNvSpPr/>
            <p:nvPr/>
          </p:nvSpPr>
          <p:spPr>
            <a:xfrm flipH="1">
              <a:off x="1905480" y="2806560"/>
              <a:ext cx="4495680" cy="825480"/>
            </a:xfrm>
            <a:prstGeom prst="rect">
              <a:avLst/>
            </a:prstGeom>
            <a:solidFill>
              <a:srgbClr val="cc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2 hours per parka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2,000 parkas = 2,400 hou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Labor Variances Summary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graphicFrame>
        <p:nvGraphicFramePr>
          <p:cNvPr id="579" name="Object 2"/>
          <p:cNvGraphicFramePr/>
          <p:nvPr/>
        </p:nvGraphicFramePr>
        <p:xfrm>
          <a:off x="7086600" y="5715000"/>
          <a:ext cx="160020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5715000"/>
                    <a:ext cx="160020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1" name="Group 3"/>
          <p:cNvGrpSpPr/>
          <p:nvPr/>
        </p:nvGrpSpPr>
        <p:grpSpPr>
          <a:xfrm>
            <a:off x="952560" y="4341960"/>
            <a:ext cx="3882960" cy="1507680"/>
            <a:chOff x="952560" y="4341960"/>
            <a:chExt cx="3882960" cy="1507680"/>
          </a:xfrm>
        </p:grpSpPr>
        <p:sp>
          <p:nvSpPr>
            <p:cNvPr id="582" name="Freeform 4"/>
            <p:cNvSpPr/>
            <p:nvPr/>
          </p:nvSpPr>
          <p:spPr>
            <a:xfrm>
              <a:off x="1311480" y="4341960"/>
              <a:ext cx="3143160" cy="618840"/>
            </a:xfrm>
            <a:custGeom>
              <a:avLst/>
              <a:gdLst>
                <a:gd name="textAreaLeft" fmla="*/ 0 w 3143160"/>
                <a:gd name="textAreaRight" fmla="*/ 3143520 w 3143160"/>
                <a:gd name="textAreaTop" fmla="*/ 0 h 618840"/>
                <a:gd name="textAreaBottom" fmla="*/ 619200 h 618840"/>
              </a:gdLst>
              <a:ahLst/>
              <a:rect l="textAreaLeft" t="textAreaTop" r="textAreaRight" b="textAreaBottom"/>
              <a:pathLst>
                <a:path w="1980" h="390">
                  <a:moveTo>
                    <a:pt x="1608" y="257"/>
                  </a:moveTo>
                  <a:lnTo>
                    <a:pt x="1645" y="255"/>
                  </a:lnTo>
                  <a:lnTo>
                    <a:pt x="1681" y="251"/>
                  </a:lnTo>
                  <a:lnTo>
                    <a:pt x="1718" y="244"/>
                  </a:lnTo>
                  <a:lnTo>
                    <a:pt x="1753" y="235"/>
                  </a:lnTo>
                  <a:lnTo>
                    <a:pt x="1787" y="224"/>
                  </a:lnTo>
                  <a:lnTo>
                    <a:pt x="1819" y="209"/>
                  </a:lnTo>
                  <a:lnTo>
                    <a:pt x="1849" y="194"/>
                  </a:lnTo>
                  <a:lnTo>
                    <a:pt x="1876" y="176"/>
                  </a:lnTo>
                  <a:lnTo>
                    <a:pt x="1900" y="156"/>
                  </a:lnTo>
                  <a:lnTo>
                    <a:pt x="1922" y="135"/>
                  </a:lnTo>
                  <a:lnTo>
                    <a:pt x="1940" y="112"/>
                  </a:lnTo>
                  <a:lnTo>
                    <a:pt x="1955" y="89"/>
                  </a:lnTo>
                  <a:lnTo>
                    <a:pt x="1966" y="64"/>
                  </a:lnTo>
                  <a:lnTo>
                    <a:pt x="1975" y="39"/>
                  </a:lnTo>
                  <a:lnTo>
                    <a:pt x="1978" y="13"/>
                  </a:lnTo>
                  <a:lnTo>
                    <a:pt x="1979" y="0"/>
                  </a:lnTo>
                  <a:lnTo>
                    <a:pt x="1978" y="21"/>
                  </a:lnTo>
                  <a:lnTo>
                    <a:pt x="1972" y="43"/>
                  </a:lnTo>
                  <a:lnTo>
                    <a:pt x="1961" y="64"/>
                  </a:lnTo>
                  <a:lnTo>
                    <a:pt x="1949" y="83"/>
                  </a:lnTo>
                  <a:lnTo>
                    <a:pt x="1933" y="102"/>
                  </a:lnTo>
                  <a:lnTo>
                    <a:pt x="1913" y="119"/>
                  </a:lnTo>
                  <a:lnTo>
                    <a:pt x="1891" y="134"/>
                  </a:lnTo>
                  <a:lnTo>
                    <a:pt x="1866" y="148"/>
                  </a:lnTo>
                  <a:lnTo>
                    <a:pt x="1839" y="159"/>
                  </a:lnTo>
                  <a:lnTo>
                    <a:pt x="1810" y="168"/>
                  </a:lnTo>
                  <a:lnTo>
                    <a:pt x="1781" y="174"/>
                  </a:lnTo>
                  <a:lnTo>
                    <a:pt x="1751" y="179"/>
                  </a:lnTo>
                  <a:lnTo>
                    <a:pt x="1719" y="180"/>
                  </a:lnTo>
                  <a:lnTo>
                    <a:pt x="1214" y="180"/>
                  </a:lnTo>
                  <a:lnTo>
                    <a:pt x="1185" y="182"/>
                  </a:lnTo>
                  <a:lnTo>
                    <a:pt x="1157" y="186"/>
                  </a:lnTo>
                  <a:lnTo>
                    <a:pt x="1129" y="193"/>
                  </a:lnTo>
                  <a:lnTo>
                    <a:pt x="1103" y="202"/>
                  </a:lnTo>
                  <a:lnTo>
                    <a:pt x="1080" y="213"/>
                  </a:lnTo>
                  <a:lnTo>
                    <a:pt x="1058" y="227"/>
                  </a:lnTo>
                  <a:lnTo>
                    <a:pt x="1038" y="242"/>
                  </a:lnTo>
                  <a:lnTo>
                    <a:pt x="1022" y="258"/>
                  </a:lnTo>
                  <a:lnTo>
                    <a:pt x="1010" y="276"/>
                  </a:lnTo>
                  <a:lnTo>
                    <a:pt x="1000" y="295"/>
                  </a:lnTo>
                  <a:lnTo>
                    <a:pt x="994" y="316"/>
                  </a:lnTo>
                  <a:lnTo>
                    <a:pt x="991" y="335"/>
                  </a:lnTo>
                  <a:lnTo>
                    <a:pt x="990" y="338"/>
                  </a:lnTo>
                  <a:lnTo>
                    <a:pt x="990" y="335"/>
                  </a:lnTo>
                  <a:lnTo>
                    <a:pt x="986" y="316"/>
                  </a:lnTo>
                  <a:lnTo>
                    <a:pt x="980" y="295"/>
                  </a:lnTo>
                  <a:lnTo>
                    <a:pt x="971" y="276"/>
                  </a:lnTo>
                  <a:lnTo>
                    <a:pt x="958" y="258"/>
                  </a:lnTo>
                  <a:lnTo>
                    <a:pt x="941" y="242"/>
                  </a:lnTo>
                  <a:lnTo>
                    <a:pt x="922" y="227"/>
                  </a:lnTo>
                  <a:lnTo>
                    <a:pt x="900" y="213"/>
                  </a:lnTo>
                  <a:lnTo>
                    <a:pt x="876" y="202"/>
                  </a:lnTo>
                  <a:lnTo>
                    <a:pt x="851" y="193"/>
                  </a:lnTo>
                  <a:lnTo>
                    <a:pt x="824" y="186"/>
                  </a:lnTo>
                  <a:lnTo>
                    <a:pt x="795" y="182"/>
                  </a:lnTo>
                  <a:lnTo>
                    <a:pt x="766" y="180"/>
                  </a:lnTo>
                  <a:lnTo>
                    <a:pt x="261" y="180"/>
                  </a:lnTo>
                  <a:lnTo>
                    <a:pt x="231" y="179"/>
                  </a:lnTo>
                  <a:lnTo>
                    <a:pt x="199" y="174"/>
                  </a:lnTo>
                  <a:lnTo>
                    <a:pt x="169" y="168"/>
                  </a:lnTo>
                  <a:lnTo>
                    <a:pt x="141" y="159"/>
                  </a:lnTo>
                  <a:lnTo>
                    <a:pt x="115" y="148"/>
                  </a:lnTo>
                  <a:lnTo>
                    <a:pt x="90" y="134"/>
                  </a:lnTo>
                  <a:lnTo>
                    <a:pt x="67" y="119"/>
                  </a:lnTo>
                  <a:lnTo>
                    <a:pt x="48" y="102"/>
                  </a:lnTo>
                  <a:lnTo>
                    <a:pt x="32" y="83"/>
                  </a:lnTo>
                  <a:lnTo>
                    <a:pt x="19" y="64"/>
                  </a:lnTo>
                  <a:lnTo>
                    <a:pt x="9" y="43"/>
                  </a:lnTo>
                  <a:lnTo>
                    <a:pt x="3" y="21"/>
                  </a:lnTo>
                  <a:lnTo>
                    <a:pt x="0" y="0"/>
                  </a:lnTo>
                  <a:lnTo>
                    <a:pt x="2" y="13"/>
                  </a:lnTo>
                  <a:lnTo>
                    <a:pt x="6" y="39"/>
                  </a:lnTo>
                  <a:lnTo>
                    <a:pt x="13" y="64"/>
                  </a:lnTo>
                  <a:lnTo>
                    <a:pt x="25" y="89"/>
                  </a:lnTo>
                  <a:lnTo>
                    <a:pt x="40" y="112"/>
                  </a:lnTo>
                  <a:lnTo>
                    <a:pt x="59" y="135"/>
                  </a:lnTo>
                  <a:lnTo>
                    <a:pt x="81" y="156"/>
                  </a:lnTo>
                  <a:lnTo>
                    <a:pt x="105" y="176"/>
                  </a:lnTo>
                  <a:lnTo>
                    <a:pt x="132" y="194"/>
                  </a:lnTo>
                  <a:lnTo>
                    <a:pt x="161" y="209"/>
                  </a:lnTo>
                  <a:lnTo>
                    <a:pt x="193" y="224"/>
                  </a:lnTo>
                  <a:lnTo>
                    <a:pt x="227" y="235"/>
                  </a:lnTo>
                  <a:lnTo>
                    <a:pt x="262" y="244"/>
                  </a:lnTo>
                  <a:lnTo>
                    <a:pt x="299" y="251"/>
                  </a:lnTo>
                  <a:lnTo>
                    <a:pt x="334" y="255"/>
                  </a:lnTo>
                  <a:lnTo>
                    <a:pt x="372" y="257"/>
                  </a:lnTo>
                  <a:lnTo>
                    <a:pt x="803" y="257"/>
                  </a:lnTo>
                  <a:lnTo>
                    <a:pt x="830" y="259"/>
                  </a:lnTo>
                  <a:lnTo>
                    <a:pt x="856" y="262"/>
                  </a:lnTo>
                  <a:lnTo>
                    <a:pt x="879" y="269"/>
                  </a:lnTo>
                  <a:lnTo>
                    <a:pt x="903" y="277"/>
                  </a:lnTo>
                  <a:lnTo>
                    <a:pt x="923" y="289"/>
                  </a:lnTo>
                  <a:lnTo>
                    <a:pt x="943" y="302"/>
                  </a:lnTo>
                  <a:lnTo>
                    <a:pt x="958" y="317"/>
                  </a:lnTo>
                  <a:lnTo>
                    <a:pt x="971" y="333"/>
                  </a:lnTo>
                  <a:lnTo>
                    <a:pt x="980" y="350"/>
                  </a:lnTo>
                  <a:lnTo>
                    <a:pt x="986" y="369"/>
                  </a:lnTo>
                  <a:lnTo>
                    <a:pt x="990" y="387"/>
                  </a:lnTo>
                  <a:lnTo>
                    <a:pt x="990" y="389"/>
                  </a:lnTo>
                  <a:lnTo>
                    <a:pt x="992" y="370"/>
                  </a:lnTo>
                  <a:lnTo>
                    <a:pt x="997" y="352"/>
                  </a:lnTo>
                  <a:lnTo>
                    <a:pt x="1007" y="335"/>
                  </a:lnTo>
                  <a:lnTo>
                    <a:pt x="1019" y="318"/>
                  </a:lnTo>
                  <a:lnTo>
                    <a:pt x="1035" y="304"/>
                  </a:lnTo>
                  <a:lnTo>
                    <a:pt x="1053" y="290"/>
                  </a:lnTo>
                  <a:lnTo>
                    <a:pt x="1073" y="279"/>
                  </a:lnTo>
                  <a:lnTo>
                    <a:pt x="1097" y="270"/>
                  </a:lnTo>
                  <a:lnTo>
                    <a:pt x="1120" y="263"/>
                  </a:lnTo>
                  <a:lnTo>
                    <a:pt x="1146" y="259"/>
                  </a:lnTo>
                  <a:lnTo>
                    <a:pt x="1172" y="257"/>
                  </a:lnTo>
                  <a:lnTo>
                    <a:pt x="1175" y="257"/>
                  </a:lnTo>
                  <a:lnTo>
                    <a:pt x="1608" y="257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Rectangle 5"/>
            <p:cNvSpPr/>
            <p:nvPr/>
          </p:nvSpPr>
          <p:spPr>
            <a:xfrm>
              <a:off x="952560" y="5029200"/>
              <a:ext cx="38829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Rate variance</a:t>
              </a:r>
              <a:br>
                <a:rPr sz="2400"/>
              </a:b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$1,250 unfavora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Group 6"/>
          <p:cNvGrpSpPr/>
          <p:nvPr/>
        </p:nvGrpSpPr>
        <p:grpSpPr>
          <a:xfrm>
            <a:off x="4324320" y="4341960"/>
            <a:ext cx="3882960" cy="1507680"/>
            <a:chOff x="4324320" y="4341960"/>
            <a:chExt cx="3882960" cy="1507680"/>
          </a:xfrm>
        </p:grpSpPr>
        <p:sp>
          <p:nvSpPr>
            <p:cNvPr id="585" name="Rectangle 7"/>
            <p:cNvSpPr/>
            <p:nvPr/>
          </p:nvSpPr>
          <p:spPr>
            <a:xfrm>
              <a:off x="4324320" y="5029200"/>
              <a:ext cx="38829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Efficiency variance</a:t>
              </a:r>
              <a:br>
                <a:rPr sz="2400"/>
              </a:b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$1,000 unfavora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8"/>
            <p:cNvSpPr/>
            <p:nvPr/>
          </p:nvSpPr>
          <p:spPr>
            <a:xfrm>
              <a:off x="4665600" y="4341960"/>
              <a:ext cx="3142800" cy="618840"/>
            </a:xfrm>
            <a:custGeom>
              <a:avLst/>
              <a:gdLst>
                <a:gd name="textAreaLeft" fmla="*/ 0 w 3142800"/>
                <a:gd name="textAreaRight" fmla="*/ 3143160 w 3142800"/>
                <a:gd name="textAreaTop" fmla="*/ 0 h 618840"/>
                <a:gd name="textAreaBottom" fmla="*/ 619200 h 618840"/>
              </a:gdLst>
              <a:ahLst/>
              <a:rect l="textAreaLeft" t="textAreaTop" r="textAreaRight" b="textAreaBottom"/>
              <a:pathLst>
                <a:path w="1980" h="390">
                  <a:moveTo>
                    <a:pt x="1608" y="257"/>
                  </a:moveTo>
                  <a:lnTo>
                    <a:pt x="1645" y="255"/>
                  </a:lnTo>
                  <a:lnTo>
                    <a:pt x="1681" y="251"/>
                  </a:lnTo>
                  <a:lnTo>
                    <a:pt x="1718" y="244"/>
                  </a:lnTo>
                  <a:lnTo>
                    <a:pt x="1753" y="235"/>
                  </a:lnTo>
                  <a:lnTo>
                    <a:pt x="1787" y="224"/>
                  </a:lnTo>
                  <a:lnTo>
                    <a:pt x="1819" y="209"/>
                  </a:lnTo>
                  <a:lnTo>
                    <a:pt x="1849" y="194"/>
                  </a:lnTo>
                  <a:lnTo>
                    <a:pt x="1876" y="176"/>
                  </a:lnTo>
                  <a:lnTo>
                    <a:pt x="1900" y="156"/>
                  </a:lnTo>
                  <a:lnTo>
                    <a:pt x="1922" y="135"/>
                  </a:lnTo>
                  <a:lnTo>
                    <a:pt x="1940" y="112"/>
                  </a:lnTo>
                  <a:lnTo>
                    <a:pt x="1955" y="89"/>
                  </a:lnTo>
                  <a:lnTo>
                    <a:pt x="1966" y="64"/>
                  </a:lnTo>
                  <a:lnTo>
                    <a:pt x="1975" y="39"/>
                  </a:lnTo>
                  <a:lnTo>
                    <a:pt x="1978" y="13"/>
                  </a:lnTo>
                  <a:lnTo>
                    <a:pt x="1979" y="0"/>
                  </a:lnTo>
                  <a:lnTo>
                    <a:pt x="1978" y="21"/>
                  </a:lnTo>
                  <a:lnTo>
                    <a:pt x="1972" y="43"/>
                  </a:lnTo>
                  <a:lnTo>
                    <a:pt x="1961" y="64"/>
                  </a:lnTo>
                  <a:lnTo>
                    <a:pt x="1949" y="83"/>
                  </a:lnTo>
                  <a:lnTo>
                    <a:pt x="1933" y="102"/>
                  </a:lnTo>
                  <a:lnTo>
                    <a:pt x="1913" y="119"/>
                  </a:lnTo>
                  <a:lnTo>
                    <a:pt x="1891" y="134"/>
                  </a:lnTo>
                  <a:lnTo>
                    <a:pt x="1866" y="148"/>
                  </a:lnTo>
                  <a:lnTo>
                    <a:pt x="1839" y="159"/>
                  </a:lnTo>
                  <a:lnTo>
                    <a:pt x="1810" y="168"/>
                  </a:lnTo>
                  <a:lnTo>
                    <a:pt x="1781" y="174"/>
                  </a:lnTo>
                  <a:lnTo>
                    <a:pt x="1751" y="179"/>
                  </a:lnTo>
                  <a:lnTo>
                    <a:pt x="1719" y="180"/>
                  </a:lnTo>
                  <a:lnTo>
                    <a:pt x="1214" y="180"/>
                  </a:lnTo>
                  <a:lnTo>
                    <a:pt x="1185" y="182"/>
                  </a:lnTo>
                  <a:lnTo>
                    <a:pt x="1157" y="186"/>
                  </a:lnTo>
                  <a:lnTo>
                    <a:pt x="1129" y="193"/>
                  </a:lnTo>
                  <a:lnTo>
                    <a:pt x="1103" y="202"/>
                  </a:lnTo>
                  <a:lnTo>
                    <a:pt x="1080" y="213"/>
                  </a:lnTo>
                  <a:lnTo>
                    <a:pt x="1058" y="227"/>
                  </a:lnTo>
                  <a:lnTo>
                    <a:pt x="1038" y="242"/>
                  </a:lnTo>
                  <a:lnTo>
                    <a:pt x="1022" y="258"/>
                  </a:lnTo>
                  <a:lnTo>
                    <a:pt x="1010" y="276"/>
                  </a:lnTo>
                  <a:lnTo>
                    <a:pt x="1000" y="295"/>
                  </a:lnTo>
                  <a:lnTo>
                    <a:pt x="994" y="316"/>
                  </a:lnTo>
                  <a:lnTo>
                    <a:pt x="991" y="335"/>
                  </a:lnTo>
                  <a:lnTo>
                    <a:pt x="990" y="338"/>
                  </a:lnTo>
                  <a:lnTo>
                    <a:pt x="990" y="335"/>
                  </a:lnTo>
                  <a:lnTo>
                    <a:pt x="986" y="316"/>
                  </a:lnTo>
                  <a:lnTo>
                    <a:pt x="980" y="295"/>
                  </a:lnTo>
                  <a:lnTo>
                    <a:pt x="971" y="276"/>
                  </a:lnTo>
                  <a:lnTo>
                    <a:pt x="958" y="258"/>
                  </a:lnTo>
                  <a:lnTo>
                    <a:pt x="941" y="242"/>
                  </a:lnTo>
                  <a:lnTo>
                    <a:pt x="922" y="227"/>
                  </a:lnTo>
                  <a:lnTo>
                    <a:pt x="900" y="213"/>
                  </a:lnTo>
                  <a:lnTo>
                    <a:pt x="876" y="202"/>
                  </a:lnTo>
                  <a:lnTo>
                    <a:pt x="851" y="193"/>
                  </a:lnTo>
                  <a:lnTo>
                    <a:pt x="824" y="186"/>
                  </a:lnTo>
                  <a:lnTo>
                    <a:pt x="795" y="182"/>
                  </a:lnTo>
                  <a:lnTo>
                    <a:pt x="766" y="180"/>
                  </a:lnTo>
                  <a:lnTo>
                    <a:pt x="261" y="180"/>
                  </a:lnTo>
                  <a:lnTo>
                    <a:pt x="231" y="179"/>
                  </a:lnTo>
                  <a:lnTo>
                    <a:pt x="199" y="174"/>
                  </a:lnTo>
                  <a:lnTo>
                    <a:pt x="169" y="168"/>
                  </a:lnTo>
                  <a:lnTo>
                    <a:pt x="141" y="159"/>
                  </a:lnTo>
                  <a:lnTo>
                    <a:pt x="115" y="148"/>
                  </a:lnTo>
                  <a:lnTo>
                    <a:pt x="90" y="134"/>
                  </a:lnTo>
                  <a:lnTo>
                    <a:pt x="67" y="119"/>
                  </a:lnTo>
                  <a:lnTo>
                    <a:pt x="48" y="102"/>
                  </a:lnTo>
                  <a:lnTo>
                    <a:pt x="32" y="83"/>
                  </a:lnTo>
                  <a:lnTo>
                    <a:pt x="19" y="64"/>
                  </a:lnTo>
                  <a:lnTo>
                    <a:pt x="9" y="43"/>
                  </a:lnTo>
                  <a:lnTo>
                    <a:pt x="3" y="21"/>
                  </a:lnTo>
                  <a:lnTo>
                    <a:pt x="0" y="0"/>
                  </a:lnTo>
                  <a:lnTo>
                    <a:pt x="2" y="13"/>
                  </a:lnTo>
                  <a:lnTo>
                    <a:pt x="6" y="39"/>
                  </a:lnTo>
                  <a:lnTo>
                    <a:pt x="13" y="64"/>
                  </a:lnTo>
                  <a:lnTo>
                    <a:pt x="25" y="89"/>
                  </a:lnTo>
                  <a:lnTo>
                    <a:pt x="40" y="112"/>
                  </a:lnTo>
                  <a:lnTo>
                    <a:pt x="59" y="135"/>
                  </a:lnTo>
                  <a:lnTo>
                    <a:pt x="81" y="156"/>
                  </a:lnTo>
                  <a:lnTo>
                    <a:pt x="105" y="176"/>
                  </a:lnTo>
                  <a:lnTo>
                    <a:pt x="132" y="194"/>
                  </a:lnTo>
                  <a:lnTo>
                    <a:pt x="161" y="209"/>
                  </a:lnTo>
                  <a:lnTo>
                    <a:pt x="193" y="224"/>
                  </a:lnTo>
                  <a:lnTo>
                    <a:pt x="227" y="235"/>
                  </a:lnTo>
                  <a:lnTo>
                    <a:pt x="262" y="244"/>
                  </a:lnTo>
                  <a:lnTo>
                    <a:pt x="299" y="251"/>
                  </a:lnTo>
                  <a:lnTo>
                    <a:pt x="334" y="255"/>
                  </a:lnTo>
                  <a:lnTo>
                    <a:pt x="372" y="257"/>
                  </a:lnTo>
                  <a:lnTo>
                    <a:pt x="803" y="257"/>
                  </a:lnTo>
                  <a:lnTo>
                    <a:pt x="830" y="259"/>
                  </a:lnTo>
                  <a:lnTo>
                    <a:pt x="856" y="262"/>
                  </a:lnTo>
                  <a:lnTo>
                    <a:pt x="879" y="269"/>
                  </a:lnTo>
                  <a:lnTo>
                    <a:pt x="903" y="277"/>
                  </a:lnTo>
                  <a:lnTo>
                    <a:pt x="923" y="289"/>
                  </a:lnTo>
                  <a:lnTo>
                    <a:pt x="943" y="302"/>
                  </a:lnTo>
                  <a:lnTo>
                    <a:pt x="958" y="317"/>
                  </a:lnTo>
                  <a:lnTo>
                    <a:pt x="971" y="333"/>
                  </a:lnTo>
                  <a:lnTo>
                    <a:pt x="980" y="350"/>
                  </a:lnTo>
                  <a:lnTo>
                    <a:pt x="986" y="369"/>
                  </a:lnTo>
                  <a:lnTo>
                    <a:pt x="990" y="387"/>
                  </a:lnTo>
                  <a:lnTo>
                    <a:pt x="990" y="389"/>
                  </a:lnTo>
                  <a:lnTo>
                    <a:pt x="992" y="370"/>
                  </a:lnTo>
                  <a:lnTo>
                    <a:pt x="997" y="352"/>
                  </a:lnTo>
                  <a:lnTo>
                    <a:pt x="1007" y="335"/>
                  </a:lnTo>
                  <a:lnTo>
                    <a:pt x="1019" y="318"/>
                  </a:lnTo>
                  <a:lnTo>
                    <a:pt x="1035" y="304"/>
                  </a:lnTo>
                  <a:lnTo>
                    <a:pt x="1053" y="290"/>
                  </a:lnTo>
                  <a:lnTo>
                    <a:pt x="1073" y="279"/>
                  </a:lnTo>
                  <a:lnTo>
                    <a:pt x="1097" y="270"/>
                  </a:lnTo>
                  <a:lnTo>
                    <a:pt x="1120" y="263"/>
                  </a:lnTo>
                  <a:lnTo>
                    <a:pt x="1146" y="259"/>
                  </a:lnTo>
                  <a:lnTo>
                    <a:pt x="1172" y="257"/>
                  </a:lnTo>
                  <a:lnTo>
                    <a:pt x="1175" y="257"/>
                  </a:lnTo>
                  <a:lnTo>
                    <a:pt x="1608" y="257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Rectangle 9"/>
          <p:cNvSpPr/>
          <p:nvPr/>
        </p:nvSpPr>
        <p:spPr>
          <a:xfrm>
            <a:off x="266760" y="1523880"/>
            <a:ext cx="8759880" cy="9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Actual Hours            Actual Hours</a:t>
            </a: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      Standard Hours</a:t>
            </a:r>
            <a:br>
              <a:rPr sz="2400"/>
            </a:b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            ×                               ×                                 × </a:t>
            </a:r>
            <a:br>
              <a:rPr sz="2400"/>
            </a:b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    Actual Rate             Standard Rate           Standard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0"/>
          <p:cNvSpPr/>
          <p:nvPr/>
        </p:nvSpPr>
        <p:spPr>
          <a:xfrm>
            <a:off x="455760" y="2436840"/>
            <a:ext cx="2193840" cy="0"/>
          </a:xfrm>
          <a:prstGeom prst="line">
            <a:avLst/>
          </a:prstGeom>
          <a:ln w="28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1"/>
          <p:cNvSpPr/>
          <p:nvPr/>
        </p:nvSpPr>
        <p:spPr>
          <a:xfrm>
            <a:off x="3402000" y="2436840"/>
            <a:ext cx="2193840" cy="0"/>
          </a:xfrm>
          <a:prstGeom prst="line">
            <a:avLst/>
          </a:prstGeom>
          <a:ln w="28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2"/>
          <p:cNvSpPr/>
          <p:nvPr/>
        </p:nvSpPr>
        <p:spPr>
          <a:xfrm>
            <a:off x="6416640" y="2436840"/>
            <a:ext cx="2193840" cy="0"/>
          </a:xfrm>
          <a:prstGeom prst="line">
            <a:avLst/>
          </a:prstGeom>
          <a:ln w="28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4"/>
          <p:cNvSpPr/>
          <p:nvPr/>
        </p:nvSpPr>
        <p:spPr>
          <a:xfrm>
            <a:off x="343080" y="2590920"/>
            <a:ext cx="8607240" cy="174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464646"/>
                </a:solidFill>
                <a:latin typeface="Arial"/>
              </a:rPr>
              <a:t>2,500 hours                 2,500 hours                  2,400 hours</a:t>
            </a:r>
            <a:br>
              <a:rPr sz="2400"/>
            </a:br>
            <a:r>
              <a:rPr b="0" lang="en-US" sz="2400" spc="-1" strike="noStrike">
                <a:solidFill>
                  <a:srgbClr val="464646"/>
                </a:solidFill>
                <a:latin typeface="Arial"/>
              </a:rPr>
              <a:t>           ×                                 ×                                 ×</a:t>
            </a:r>
            <a:br>
              <a:rPr sz="2400"/>
            </a:br>
            <a:r>
              <a:rPr b="0" lang="en-US" sz="2400" spc="-1" strike="noStrike">
                <a:solidFill>
                  <a:srgbClr val="464646"/>
                </a:solidFill>
                <a:latin typeface="Arial"/>
              </a:rPr>
              <a:t>$10.50 per hour         $10.00 per hour          $10.00 per h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 $26,250                  = $25,000                     = $24,000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Group 9"/>
          <p:cNvGrpSpPr/>
          <p:nvPr/>
        </p:nvGrpSpPr>
        <p:grpSpPr>
          <a:xfrm>
            <a:off x="2666520" y="3048120"/>
            <a:ext cx="4003920" cy="825480"/>
            <a:chOff x="2666520" y="3048120"/>
            <a:chExt cx="4003920" cy="825480"/>
          </a:xfrm>
        </p:grpSpPr>
        <p:sp>
          <p:nvSpPr>
            <p:cNvPr id="593" name="Line 10"/>
            <p:cNvSpPr/>
            <p:nvPr/>
          </p:nvSpPr>
          <p:spPr>
            <a:xfrm flipH="1">
              <a:off x="2666520" y="3429000"/>
              <a:ext cx="70020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 Box 11"/>
            <p:cNvSpPr/>
            <p:nvPr/>
          </p:nvSpPr>
          <p:spPr>
            <a:xfrm>
              <a:off x="3267360" y="3048120"/>
              <a:ext cx="3403080" cy="82548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$26,250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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2,500 hours = $10.50 per hou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Labor Variances: Using the Factored Equation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953240"/>
          </a:xfrm>
          <a:prstGeom prst="rect">
            <a:avLst/>
          </a:prstGeom>
          <a:solidFill>
            <a:srgbClr val="f2f2f2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65040" indent="0">
              <a:spcBef>
                <a:spcPts val="300"/>
              </a:spcBef>
              <a:buNone/>
              <a:tabLst>
                <a:tab algn="l" pos="0"/>
                <a:tab algn="ctr" pos="2057400"/>
                <a:tab algn="ctr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abor rate var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ctr" pos="2057400"/>
                <a:tab algn="ctr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e2d37"/>
                </a:solidFill>
                <a:latin typeface="Arial"/>
                <a:ea typeface="Arial"/>
              </a:rPr>
              <a:t>LRV = (AH × AR) – (AH × SR) </a:t>
            </a:r>
            <a:endParaRPr b="0" lang="en-US" sz="2200" spc="-1" strike="noStrike">
              <a:solidFill>
                <a:srgbClr val="da1f28"/>
              </a:solidFill>
              <a:latin typeface="Arial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ctr" pos="2057400"/>
                <a:tab algn="ctr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e2d37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5e2d37"/>
                </a:solidFill>
                <a:latin typeface="Arial"/>
                <a:ea typeface="Arial"/>
              </a:rPr>
              <a:t>     </a:t>
            </a:r>
            <a:r>
              <a:rPr b="0" lang="en-US" sz="2200" spc="-1" strike="noStrike">
                <a:solidFill>
                  <a:srgbClr val="5e2d37"/>
                </a:solidFill>
                <a:latin typeface="Arial"/>
                <a:ea typeface="Arial"/>
              </a:rPr>
              <a:t>= AH (AR – SR)</a:t>
            </a:r>
            <a:endParaRPr b="0" lang="en-US" sz="2200" spc="-1" strike="noStrike">
              <a:solidFill>
                <a:srgbClr val="da1f28"/>
              </a:solidFill>
              <a:latin typeface="Arial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ctr" pos="2057400"/>
                <a:tab algn="ctr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e2d37"/>
                </a:solidFill>
                <a:latin typeface="Arial"/>
                <a:ea typeface="Arial"/>
              </a:rPr>
              <a:t>        </a:t>
            </a:r>
            <a:r>
              <a:rPr b="0" lang="en-US" sz="2200" spc="-1" strike="noStrike">
                <a:solidFill>
                  <a:srgbClr val="5e2d37"/>
                </a:solidFill>
                <a:latin typeface="Arial"/>
                <a:ea typeface="Arial"/>
              </a:rPr>
              <a:t>= 2,500 hours ($10.50 per hour – $10.00 per hour)</a:t>
            </a:r>
            <a:endParaRPr b="0" lang="en-US" sz="2200" spc="-1" strike="noStrike">
              <a:solidFill>
                <a:srgbClr val="da1f28"/>
              </a:solidFill>
              <a:latin typeface="Arial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ctr" pos="2057400"/>
                <a:tab algn="ctr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e2d37"/>
                </a:solidFill>
                <a:latin typeface="Arial"/>
                <a:ea typeface="Arial"/>
              </a:rPr>
              <a:t>        </a:t>
            </a:r>
            <a:r>
              <a:rPr b="0" lang="en-US" sz="2200" spc="-1" strike="noStrike">
                <a:solidFill>
                  <a:srgbClr val="5e2d37"/>
                </a:solidFill>
                <a:latin typeface="Arial"/>
                <a:ea typeface="Arial"/>
              </a:rPr>
              <a:t>= 2,500 hours ($0.50 per hour)</a:t>
            </a:r>
            <a:endParaRPr b="0" lang="en-US" sz="2200" spc="-1" strike="noStrike">
              <a:solidFill>
                <a:srgbClr val="da1f28"/>
              </a:solidFill>
              <a:latin typeface="Arial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ctr" pos="2057400"/>
                <a:tab algn="ctr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e2d37"/>
                </a:solidFill>
                <a:latin typeface="Arial"/>
                <a:ea typeface="Arial"/>
              </a:rPr>
              <a:t>        </a:t>
            </a:r>
            <a:r>
              <a:rPr b="0" lang="en-US" sz="2200" spc="-1" strike="noStrike">
                <a:solidFill>
                  <a:srgbClr val="5e2d37"/>
                </a:solidFill>
                <a:latin typeface="Arial"/>
                <a:ea typeface="Arial"/>
              </a:rPr>
              <a:t>= $1,250 unfavorable</a:t>
            </a:r>
            <a:endParaRPr b="0" lang="en-US" sz="2200" spc="-1" strike="noStrike">
              <a:solidFill>
                <a:srgbClr val="da1f28"/>
              </a:solidFill>
              <a:latin typeface="Arial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ctr" pos="2057400"/>
                <a:tab algn="ctr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abor efficiency var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ctr" pos="2057400"/>
                <a:tab algn="ctr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e2d37"/>
                </a:solidFill>
                <a:latin typeface="Arial"/>
                <a:ea typeface="Arial"/>
              </a:rPr>
              <a:t>LEV = (AH × SR) – (SH × SR)  </a:t>
            </a:r>
            <a:endParaRPr b="0" lang="en-US" sz="2200" spc="-1" strike="noStrike">
              <a:solidFill>
                <a:srgbClr val="da1f28"/>
              </a:solidFill>
              <a:latin typeface="Arial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ctr" pos="2057400"/>
                <a:tab algn="ctr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e2d37"/>
                </a:solidFill>
                <a:latin typeface="Arial"/>
                <a:ea typeface="Arial"/>
              </a:rPr>
              <a:t>        </a:t>
            </a:r>
            <a:r>
              <a:rPr b="0" lang="en-US" sz="2200" spc="-1" strike="noStrike">
                <a:solidFill>
                  <a:srgbClr val="5e2d37"/>
                </a:solidFill>
                <a:latin typeface="Arial"/>
                <a:ea typeface="Arial"/>
              </a:rPr>
              <a:t>= SR (AH – SH)</a:t>
            </a:r>
            <a:endParaRPr b="0" lang="en-US" sz="2200" spc="-1" strike="noStrike">
              <a:solidFill>
                <a:srgbClr val="da1f28"/>
              </a:solidFill>
              <a:latin typeface="Arial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ctr" pos="2057400"/>
                <a:tab algn="ctr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e2d37"/>
                </a:solidFill>
                <a:latin typeface="Arial"/>
                <a:ea typeface="Arial"/>
              </a:rPr>
              <a:t>        </a:t>
            </a:r>
            <a:r>
              <a:rPr b="0" lang="en-US" sz="2200" spc="-1" strike="noStrike">
                <a:solidFill>
                  <a:srgbClr val="5e2d37"/>
                </a:solidFill>
                <a:latin typeface="Arial"/>
                <a:ea typeface="Arial"/>
              </a:rPr>
              <a:t>= $10.00 per hour (2,500 hours – 2,400 hours)</a:t>
            </a:r>
            <a:endParaRPr b="0" lang="en-US" sz="2200" spc="-1" strike="noStrike">
              <a:solidFill>
                <a:srgbClr val="da1f28"/>
              </a:solidFill>
              <a:latin typeface="Arial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ctr" pos="2057400"/>
                <a:tab algn="ctr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e2d37"/>
                </a:solidFill>
                <a:latin typeface="Arial"/>
                <a:ea typeface="Arial"/>
              </a:rPr>
              <a:t>        </a:t>
            </a:r>
            <a:r>
              <a:rPr b="0" lang="en-US" sz="2200" spc="-1" strike="noStrike">
                <a:solidFill>
                  <a:srgbClr val="5e2d37"/>
                </a:solidFill>
                <a:latin typeface="Arial"/>
                <a:ea typeface="Arial"/>
              </a:rPr>
              <a:t>= $10.00 per hour (100 hours) </a:t>
            </a:r>
            <a:endParaRPr b="0" lang="en-US" sz="2200" spc="-1" strike="noStrike">
              <a:solidFill>
                <a:srgbClr val="da1f28"/>
              </a:solidFill>
              <a:latin typeface="Arial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ctr" pos="2057400"/>
                <a:tab algn="ctr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e2d37"/>
                </a:solidFill>
                <a:latin typeface="Arial"/>
                <a:ea typeface="Arial"/>
              </a:rPr>
              <a:t>     </a:t>
            </a:r>
            <a:r>
              <a:rPr b="0" lang="en-US" sz="2200" spc="-1" strike="noStrike">
                <a:solidFill>
                  <a:srgbClr val="5e2d37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5e2d37"/>
                </a:solidFill>
                <a:latin typeface="Arial"/>
                <a:ea typeface="Arial"/>
              </a:rPr>
              <a:t>       </a:t>
            </a:r>
            <a:r>
              <a:rPr b="0" lang="en-US" sz="2200" spc="-1" strike="noStrike">
                <a:solidFill>
                  <a:srgbClr val="5e2d37"/>
                </a:solidFill>
                <a:latin typeface="Arial"/>
                <a:ea typeface="Arial"/>
              </a:rPr>
              <a:t>= $1,000 unfavor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ctr" pos="2057400"/>
                <a:tab algn="ctr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a1f28"/>
              </a:solidFill>
              <a:latin typeface="Arial"/>
            </a:endParaRPr>
          </a:p>
        </p:txBody>
      </p:sp>
      <p:graphicFrame>
        <p:nvGraphicFramePr>
          <p:cNvPr id="597" name="Object 2"/>
          <p:cNvGraphicFramePr/>
          <p:nvPr/>
        </p:nvGraphicFramePr>
        <p:xfrm>
          <a:off x="7086600" y="5715000"/>
          <a:ext cx="160020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5715000"/>
                    <a:ext cx="160020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Responsibility for Labor Variance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600" name="Group 3"/>
          <p:cNvGrpSpPr/>
          <p:nvPr/>
        </p:nvGrpSpPr>
        <p:grpSpPr>
          <a:xfrm>
            <a:off x="838080" y="3733920"/>
            <a:ext cx="3124440" cy="2507760"/>
            <a:chOff x="838080" y="3733920"/>
            <a:chExt cx="3124440" cy="2507760"/>
          </a:xfrm>
        </p:grpSpPr>
        <p:graphicFrame>
          <p:nvGraphicFramePr>
            <p:cNvPr id="601" name="Object 2"/>
            <p:cNvGraphicFramePr/>
            <p:nvPr/>
          </p:nvGraphicFramePr>
          <p:xfrm>
            <a:off x="838080" y="3733920"/>
            <a:ext cx="3124440" cy="2081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2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38080" y="3733920"/>
                      <a:ext cx="3124440" cy="2081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03" name="Text Box 5"/>
            <p:cNvSpPr/>
            <p:nvPr/>
          </p:nvSpPr>
          <p:spPr>
            <a:xfrm>
              <a:off x="897840" y="5781960"/>
              <a:ext cx="2923920" cy="459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ffff"/>
                  </a:solidFill>
                  <a:latin typeface="Arial"/>
                </a:rPr>
                <a:t>Production Manag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4" name="Text Box 6"/>
          <p:cNvSpPr/>
          <p:nvPr/>
        </p:nvSpPr>
        <p:spPr>
          <a:xfrm>
            <a:off x="382680" y="1600200"/>
            <a:ext cx="3855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Production managers are</a:t>
            </a:r>
            <a:br>
              <a:rPr sz="2400"/>
            </a:b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usually held accountable</a:t>
            </a:r>
            <a:br>
              <a:rPr sz="2400"/>
            </a:b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for labor variances</a:t>
            </a:r>
            <a:br>
              <a:rPr sz="2400"/>
            </a:b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because they can</a:t>
            </a:r>
            <a:br>
              <a:rPr sz="2400"/>
            </a:b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influence th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Group 7"/>
          <p:cNvGrpSpPr/>
          <p:nvPr/>
        </p:nvGrpSpPr>
        <p:grpSpPr>
          <a:xfrm>
            <a:off x="3428640" y="1677960"/>
            <a:ext cx="5272560" cy="1636560"/>
            <a:chOff x="3428640" y="1677960"/>
            <a:chExt cx="5272560" cy="1636560"/>
          </a:xfrm>
        </p:grpSpPr>
        <p:sp>
          <p:nvSpPr>
            <p:cNvPr id="606" name="AutoShape 8"/>
            <p:cNvSpPr/>
            <p:nvPr/>
          </p:nvSpPr>
          <p:spPr>
            <a:xfrm>
              <a:off x="5168880" y="1677960"/>
              <a:ext cx="3532320" cy="9147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ix of skill levels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ssigned to work tasks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07" name="AutoShape 9"/>
            <p:cNvCxnSpPr>
              <a:endCxn id="606" idx="1"/>
            </p:cNvCxnSpPr>
            <p:nvPr/>
          </p:nvCxnSpPr>
          <p:spPr>
            <a:xfrm flipV="1">
              <a:off x="3428640" y="2142360"/>
              <a:ext cx="1726200" cy="1172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08" name="Group 10"/>
          <p:cNvGrpSpPr/>
          <p:nvPr/>
        </p:nvGrpSpPr>
        <p:grpSpPr>
          <a:xfrm>
            <a:off x="3428640" y="2855880"/>
            <a:ext cx="5258160" cy="914760"/>
            <a:chOff x="3428640" y="2855880"/>
            <a:chExt cx="5258160" cy="914760"/>
          </a:xfrm>
        </p:grpSpPr>
        <p:sp>
          <p:nvSpPr>
            <p:cNvPr id="609" name="AutoShape 11"/>
            <p:cNvSpPr/>
            <p:nvPr/>
          </p:nvSpPr>
          <p:spPr>
            <a:xfrm>
              <a:off x="5181480" y="2855880"/>
              <a:ext cx="3505320" cy="91476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evel of employee motivation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0" name="AutoShape 12"/>
            <p:cNvCxnSpPr>
              <a:endCxn id="609" idx="1"/>
            </p:cNvCxnSpPr>
            <p:nvPr/>
          </p:nvCxnSpPr>
          <p:spPr>
            <a:xfrm>
              <a:off x="3428640" y="3314520"/>
              <a:ext cx="1739160" cy="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11" name="Group 13"/>
          <p:cNvGrpSpPr/>
          <p:nvPr/>
        </p:nvGrpSpPr>
        <p:grpSpPr>
          <a:xfrm>
            <a:off x="3428640" y="3314520"/>
            <a:ext cx="5258160" cy="1634040"/>
            <a:chOff x="3428640" y="3314520"/>
            <a:chExt cx="5258160" cy="1634040"/>
          </a:xfrm>
        </p:grpSpPr>
        <p:sp>
          <p:nvSpPr>
            <p:cNvPr id="612" name="AutoShape 14"/>
            <p:cNvSpPr/>
            <p:nvPr/>
          </p:nvSpPr>
          <p:spPr>
            <a:xfrm>
              <a:off x="5181480" y="4033800"/>
              <a:ext cx="3505320" cy="91476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Quality of production supervision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3" name="AutoShape 15"/>
            <p:cNvCxnSpPr>
              <a:endCxn id="612" idx="1"/>
            </p:cNvCxnSpPr>
            <p:nvPr/>
          </p:nvCxnSpPr>
          <p:spPr>
            <a:xfrm>
              <a:off x="3428640" y="3314520"/>
              <a:ext cx="1739160" cy="118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14" name="Group 16"/>
          <p:cNvGrpSpPr/>
          <p:nvPr/>
        </p:nvGrpSpPr>
        <p:grpSpPr>
          <a:xfrm>
            <a:off x="3429000" y="3314520"/>
            <a:ext cx="5259240" cy="2811960"/>
            <a:chOff x="3429000" y="3314520"/>
            <a:chExt cx="5259240" cy="2811960"/>
          </a:xfrm>
        </p:grpSpPr>
        <p:sp>
          <p:nvSpPr>
            <p:cNvPr id="615" name="AutoShape 17"/>
            <p:cNvSpPr/>
            <p:nvPr/>
          </p:nvSpPr>
          <p:spPr>
            <a:xfrm>
              <a:off x="5180040" y="5211720"/>
              <a:ext cx="3508200" cy="91476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Quality of training provided to employe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6" name="AutoShape 18"/>
            <p:cNvCxnSpPr>
              <a:endCxn id="615" idx="1"/>
            </p:cNvCxnSpPr>
            <p:nvPr/>
          </p:nvCxnSpPr>
          <p:spPr>
            <a:xfrm>
              <a:off x="3429000" y="3314520"/>
              <a:ext cx="1737360" cy="23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p:transition>
    <p:blinds dir="vert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2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82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4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Setting Direct Labor Standards 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116" name="Group 10"/>
          <p:cNvGrpSpPr/>
          <p:nvPr/>
        </p:nvGrpSpPr>
        <p:grpSpPr>
          <a:xfrm>
            <a:off x="4927680" y="1574640"/>
            <a:ext cx="3860640" cy="4673880"/>
            <a:chOff x="4927680" y="1574640"/>
            <a:chExt cx="3860640" cy="4673880"/>
          </a:xfrm>
        </p:grpSpPr>
        <p:sp>
          <p:nvSpPr>
            <p:cNvPr id="117" name="AutoShape 11"/>
            <p:cNvSpPr/>
            <p:nvPr/>
          </p:nvSpPr>
          <p:spPr>
            <a:xfrm>
              <a:off x="4927680" y="3213000"/>
              <a:ext cx="3860640" cy="3022560"/>
            </a:xfrm>
            <a:prstGeom prst="octagon">
              <a:avLst>
                <a:gd name="adj" fmla="val 29282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3"/>
            <p:cNvSpPr/>
            <p:nvPr/>
          </p:nvSpPr>
          <p:spPr>
            <a:xfrm>
              <a:off x="4954680" y="3543480"/>
              <a:ext cx="380664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64646"/>
                  </a:solidFill>
                  <a:latin typeface="Arial"/>
                </a:rPr>
                <a:t>Use time and </a:t>
              </a:r>
              <a:br>
                <a:rPr sz="2400"/>
              </a:br>
              <a:r>
                <a:rPr b="1" lang="en-US" sz="2400" spc="-1" strike="noStrike">
                  <a:solidFill>
                    <a:srgbClr val="464646"/>
                  </a:solidFill>
                  <a:latin typeface="Arial"/>
                </a:rPr>
                <a:t>motion studies for</a:t>
              </a:r>
              <a:br>
                <a:rPr sz="2400"/>
              </a:br>
              <a:r>
                <a:rPr b="1" lang="en-US" sz="2400" spc="-1" strike="noStrike">
                  <a:solidFill>
                    <a:srgbClr val="464646"/>
                  </a:solidFill>
                  <a:latin typeface="Arial"/>
                </a:rPr>
                <a:t>each labor operation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4"/>
            <p:cNvSpPr/>
            <p:nvPr/>
          </p:nvSpPr>
          <p:spPr>
            <a:xfrm>
              <a:off x="6858000" y="2478240"/>
              <a:ext cx="0" cy="73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0" name="Object 3"/>
            <p:cNvGraphicFramePr/>
            <p:nvPr/>
          </p:nvGraphicFramePr>
          <p:xfrm>
            <a:off x="6481800" y="4659480"/>
            <a:ext cx="824040" cy="15890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21" name="Object 3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81800" y="4659480"/>
                      <a:ext cx="824040" cy="158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2" name="AutoShape 12"/>
            <p:cNvSpPr/>
            <p:nvPr/>
          </p:nvSpPr>
          <p:spPr>
            <a:xfrm>
              <a:off x="5575320" y="1574640"/>
              <a:ext cx="2560680" cy="1006560"/>
            </a:xfrm>
            <a:prstGeom prst="roundRect">
              <a:avLst>
                <a:gd name="adj" fmla="val 12495"/>
              </a:avLst>
            </a:prstGeom>
            <a:solidFill>
              <a:srgbClr val="007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andard Hours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er Un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3"/>
          <p:cNvGrpSpPr/>
          <p:nvPr/>
        </p:nvGrpSpPr>
        <p:grpSpPr>
          <a:xfrm>
            <a:off x="380880" y="1574640"/>
            <a:ext cx="3861000" cy="4660920"/>
            <a:chOff x="380880" y="1574640"/>
            <a:chExt cx="3861000" cy="4660920"/>
          </a:xfrm>
        </p:grpSpPr>
        <p:sp>
          <p:nvSpPr>
            <p:cNvPr id="124" name="AutoShape 5"/>
            <p:cNvSpPr/>
            <p:nvPr/>
          </p:nvSpPr>
          <p:spPr>
            <a:xfrm>
              <a:off x="380880" y="3213000"/>
              <a:ext cx="3861000" cy="3022560"/>
            </a:xfrm>
            <a:prstGeom prst="octagon">
              <a:avLst>
                <a:gd name="adj" fmla="val 29282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6"/>
            <p:cNvSpPr/>
            <p:nvPr/>
          </p:nvSpPr>
          <p:spPr>
            <a:xfrm>
              <a:off x="421560" y="3505320"/>
              <a:ext cx="380844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ften a singl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ate is used that reflects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mix of wages earned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7"/>
            <p:cNvSpPr/>
            <p:nvPr/>
          </p:nvSpPr>
          <p:spPr>
            <a:xfrm>
              <a:off x="2311200" y="2467080"/>
              <a:ext cx="0" cy="73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7" name="Object 4"/>
            <p:cNvGraphicFramePr/>
            <p:nvPr/>
          </p:nvGraphicFramePr>
          <p:xfrm>
            <a:off x="1193760" y="4664160"/>
            <a:ext cx="2195640" cy="1508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8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193760" y="4664160"/>
                      <a:ext cx="2195640" cy="150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9" name="AutoShape 4"/>
            <p:cNvSpPr/>
            <p:nvPr/>
          </p:nvSpPr>
          <p:spPr>
            <a:xfrm>
              <a:off x="1030320" y="1574640"/>
              <a:ext cx="2560680" cy="1006560"/>
            </a:xfrm>
            <a:prstGeom prst="roundRect">
              <a:avLst>
                <a:gd name="adj" fmla="val 12495"/>
              </a:avLst>
            </a:prstGeom>
            <a:solidFill>
              <a:srgbClr val="7f7f7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andard Rat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er Hou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7" name="Group 3"/>
          <p:cNvGrpSpPr/>
          <p:nvPr/>
        </p:nvGrpSpPr>
        <p:grpSpPr>
          <a:xfrm>
            <a:off x="587520" y="1981080"/>
            <a:ext cx="4060800" cy="3006720"/>
            <a:chOff x="587520" y="1981080"/>
            <a:chExt cx="4060800" cy="3006720"/>
          </a:xfrm>
        </p:grpSpPr>
        <p:sp>
          <p:nvSpPr>
            <p:cNvPr id="618" name="Freeform 4"/>
            <p:cNvSpPr/>
            <p:nvPr/>
          </p:nvSpPr>
          <p:spPr>
            <a:xfrm>
              <a:off x="587520" y="1981080"/>
              <a:ext cx="4060800" cy="3006720"/>
            </a:xfrm>
            <a:custGeom>
              <a:avLst/>
              <a:gdLst>
                <a:gd name="textAreaLeft" fmla="*/ 0 w 4060800"/>
                <a:gd name="textAreaRight" fmla="*/ 4061160 w 4060800"/>
                <a:gd name="textAreaTop" fmla="*/ 0 h 3006720"/>
                <a:gd name="textAreaBottom" fmla="*/ 3007080 h 3006720"/>
              </a:gdLst>
              <a:ahLst/>
              <a:rect l="textAreaLeft" t="textAreaTop" r="textAreaRight" b="textAreaBottom"/>
              <a:pathLst>
                <a:path w="2751" h="1894">
                  <a:moveTo>
                    <a:pt x="2567" y="0"/>
                  </a:moveTo>
                  <a:lnTo>
                    <a:pt x="2597" y="8"/>
                  </a:lnTo>
                  <a:lnTo>
                    <a:pt x="2632" y="23"/>
                  </a:lnTo>
                  <a:lnTo>
                    <a:pt x="2663" y="42"/>
                  </a:lnTo>
                  <a:lnTo>
                    <a:pt x="2687" y="66"/>
                  </a:lnTo>
                  <a:lnTo>
                    <a:pt x="2709" y="93"/>
                  </a:lnTo>
                  <a:lnTo>
                    <a:pt x="2728" y="125"/>
                  </a:lnTo>
                  <a:lnTo>
                    <a:pt x="2742" y="159"/>
                  </a:lnTo>
                  <a:lnTo>
                    <a:pt x="2750" y="194"/>
                  </a:lnTo>
                  <a:lnTo>
                    <a:pt x="2750" y="1314"/>
                  </a:lnTo>
                  <a:lnTo>
                    <a:pt x="2740" y="1361"/>
                  </a:lnTo>
                  <a:lnTo>
                    <a:pt x="2726" y="1422"/>
                  </a:lnTo>
                  <a:lnTo>
                    <a:pt x="2705" y="1481"/>
                  </a:lnTo>
                  <a:lnTo>
                    <a:pt x="2679" y="1536"/>
                  </a:lnTo>
                  <a:lnTo>
                    <a:pt x="2650" y="1591"/>
                  </a:lnTo>
                  <a:lnTo>
                    <a:pt x="2616" y="1642"/>
                  </a:lnTo>
                  <a:lnTo>
                    <a:pt x="2575" y="1688"/>
                  </a:lnTo>
                  <a:lnTo>
                    <a:pt x="2532" y="1735"/>
                  </a:lnTo>
                  <a:lnTo>
                    <a:pt x="2485" y="1771"/>
                  </a:lnTo>
                  <a:lnTo>
                    <a:pt x="2436" y="1804"/>
                  </a:lnTo>
                  <a:lnTo>
                    <a:pt x="2384" y="1836"/>
                  </a:lnTo>
                  <a:lnTo>
                    <a:pt x="2326" y="1859"/>
                  </a:lnTo>
                  <a:lnTo>
                    <a:pt x="2271" y="1879"/>
                  </a:lnTo>
                  <a:lnTo>
                    <a:pt x="2212" y="1893"/>
                  </a:lnTo>
                  <a:lnTo>
                    <a:pt x="2243" y="1885"/>
                  </a:lnTo>
                  <a:lnTo>
                    <a:pt x="2274" y="1872"/>
                  </a:lnTo>
                  <a:lnTo>
                    <a:pt x="2302" y="1853"/>
                  </a:lnTo>
                  <a:lnTo>
                    <a:pt x="2325" y="1832"/>
                  </a:lnTo>
                  <a:lnTo>
                    <a:pt x="2343" y="1804"/>
                  </a:lnTo>
                  <a:lnTo>
                    <a:pt x="2361" y="1777"/>
                  </a:lnTo>
                  <a:lnTo>
                    <a:pt x="2371" y="1745"/>
                  </a:lnTo>
                  <a:lnTo>
                    <a:pt x="2373" y="1711"/>
                  </a:lnTo>
                  <a:lnTo>
                    <a:pt x="2373" y="1677"/>
                  </a:lnTo>
                  <a:lnTo>
                    <a:pt x="2369" y="1644"/>
                  </a:lnTo>
                  <a:lnTo>
                    <a:pt x="2357" y="1617"/>
                  </a:lnTo>
                  <a:lnTo>
                    <a:pt x="2341" y="1585"/>
                  </a:lnTo>
                  <a:lnTo>
                    <a:pt x="2318" y="1559"/>
                  </a:lnTo>
                  <a:lnTo>
                    <a:pt x="2294" y="1540"/>
                  </a:lnTo>
                  <a:lnTo>
                    <a:pt x="2267" y="1523"/>
                  </a:lnTo>
                  <a:lnTo>
                    <a:pt x="2237" y="1513"/>
                  </a:lnTo>
                  <a:lnTo>
                    <a:pt x="2212" y="1506"/>
                  </a:lnTo>
                  <a:lnTo>
                    <a:pt x="181" y="1506"/>
                  </a:lnTo>
                  <a:lnTo>
                    <a:pt x="149" y="1500"/>
                  </a:lnTo>
                  <a:lnTo>
                    <a:pt x="118" y="1485"/>
                  </a:lnTo>
                  <a:lnTo>
                    <a:pt x="87" y="1466"/>
                  </a:lnTo>
                  <a:lnTo>
                    <a:pt x="61" y="1441"/>
                  </a:lnTo>
                  <a:lnTo>
                    <a:pt x="41" y="1413"/>
                  </a:lnTo>
                  <a:lnTo>
                    <a:pt x="20" y="1384"/>
                  </a:lnTo>
                  <a:lnTo>
                    <a:pt x="8" y="1350"/>
                  </a:lnTo>
                  <a:lnTo>
                    <a:pt x="0" y="1314"/>
                  </a:lnTo>
                  <a:lnTo>
                    <a:pt x="0" y="194"/>
                  </a:lnTo>
                  <a:lnTo>
                    <a:pt x="8" y="159"/>
                  </a:lnTo>
                  <a:lnTo>
                    <a:pt x="20" y="125"/>
                  </a:lnTo>
                  <a:lnTo>
                    <a:pt x="39" y="95"/>
                  </a:lnTo>
                  <a:lnTo>
                    <a:pt x="59" y="66"/>
                  </a:lnTo>
                  <a:lnTo>
                    <a:pt x="87" y="42"/>
                  </a:lnTo>
                  <a:lnTo>
                    <a:pt x="116" y="23"/>
                  </a:lnTo>
                  <a:lnTo>
                    <a:pt x="149" y="8"/>
                  </a:lnTo>
                  <a:lnTo>
                    <a:pt x="181" y="0"/>
                  </a:lnTo>
                  <a:lnTo>
                    <a:pt x="2567" y="0"/>
                  </a:lnTo>
                </a:path>
              </a:pathLst>
            </a:custGeom>
            <a:solidFill>
              <a:srgbClr val="cce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5"/>
            <p:cNvSpPr/>
            <p:nvPr/>
          </p:nvSpPr>
          <p:spPr>
            <a:xfrm>
              <a:off x="875160" y="2138400"/>
              <a:ext cx="3436560" cy="221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 am not responsible for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the unfavorable labor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fficiency variance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You purchased cheap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aterial, so it took mor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ime to process it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" name="Group 6"/>
          <p:cNvGrpSpPr/>
          <p:nvPr/>
        </p:nvGrpSpPr>
        <p:grpSpPr>
          <a:xfrm>
            <a:off x="5334120" y="1295280"/>
            <a:ext cx="3430440" cy="3364200"/>
            <a:chOff x="5334120" y="1295280"/>
            <a:chExt cx="3430440" cy="3364200"/>
          </a:xfrm>
        </p:grpSpPr>
        <p:sp>
          <p:nvSpPr>
            <p:cNvPr id="621" name="Freeform 7"/>
            <p:cNvSpPr/>
            <p:nvPr/>
          </p:nvSpPr>
          <p:spPr>
            <a:xfrm>
              <a:off x="5334120" y="1295280"/>
              <a:ext cx="3430440" cy="3364200"/>
            </a:xfrm>
            <a:custGeom>
              <a:avLst/>
              <a:gdLst>
                <a:gd name="textAreaLeft" fmla="*/ 0 w 3430440"/>
                <a:gd name="textAreaRight" fmla="*/ 3430800 w 3430440"/>
                <a:gd name="textAreaTop" fmla="*/ 0 h 3364200"/>
                <a:gd name="textAreaBottom" fmla="*/ 3364560 h 3364200"/>
              </a:gdLst>
              <a:ahLst/>
              <a:rect l="textAreaLeft" t="textAreaTop" r="textAreaRight" b="textAreaBottom"/>
              <a:pathLst>
                <a:path w="2161" h="1687">
                  <a:moveTo>
                    <a:pt x="144" y="0"/>
                  </a:moveTo>
                  <a:lnTo>
                    <a:pt x="120" y="8"/>
                  </a:lnTo>
                  <a:lnTo>
                    <a:pt x="93" y="21"/>
                  </a:lnTo>
                  <a:lnTo>
                    <a:pt x="69" y="38"/>
                  </a:lnTo>
                  <a:lnTo>
                    <a:pt x="50" y="58"/>
                  </a:lnTo>
                  <a:lnTo>
                    <a:pt x="32" y="83"/>
                  </a:lnTo>
                  <a:lnTo>
                    <a:pt x="17" y="111"/>
                  </a:lnTo>
                  <a:lnTo>
                    <a:pt x="6" y="142"/>
                  </a:lnTo>
                  <a:lnTo>
                    <a:pt x="0" y="173"/>
                  </a:lnTo>
                  <a:lnTo>
                    <a:pt x="0" y="1171"/>
                  </a:lnTo>
                  <a:lnTo>
                    <a:pt x="8" y="1212"/>
                  </a:lnTo>
                  <a:lnTo>
                    <a:pt x="19" y="1267"/>
                  </a:lnTo>
                  <a:lnTo>
                    <a:pt x="35" y="1319"/>
                  </a:lnTo>
                  <a:lnTo>
                    <a:pt x="56" y="1368"/>
                  </a:lnTo>
                  <a:lnTo>
                    <a:pt x="78" y="1417"/>
                  </a:lnTo>
                  <a:lnTo>
                    <a:pt x="105" y="1462"/>
                  </a:lnTo>
                  <a:lnTo>
                    <a:pt x="138" y="1504"/>
                  </a:lnTo>
                  <a:lnTo>
                    <a:pt x="171" y="1545"/>
                  </a:lnTo>
                  <a:lnTo>
                    <a:pt x="208" y="1577"/>
                  </a:lnTo>
                  <a:lnTo>
                    <a:pt x="246" y="1607"/>
                  </a:lnTo>
                  <a:lnTo>
                    <a:pt x="288" y="1636"/>
                  </a:lnTo>
                  <a:lnTo>
                    <a:pt x="333" y="1656"/>
                  </a:lnTo>
                  <a:lnTo>
                    <a:pt x="376" y="1673"/>
                  </a:lnTo>
                  <a:lnTo>
                    <a:pt x="422" y="1686"/>
                  </a:lnTo>
                  <a:lnTo>
                    <a:pt x="398" y="1678"/>
                  </a:lnTo>
                  <a:lnTo>
                    <a:pt x="374" y="1667"/>
                  </a:lnTo>
                  <a:lnTo>
                    <a:pt x="352" y="1650"/>
                  </a:lnTo>
                  <a:lnTo>
                    <a:pt x="334" y="1631"/>
                  </a:lnTo>
                  <a:lnTo>
                    <a:pt x="320" y="1607"/>
                  </a:lnTo>
                  <a:lnTo>
                    <a:pt x="306" y="1583"/>
                  </a:lnTo>
                  <a:lnTo>
                    <a:pt x="298" y="1555"/>
                  </a:lnTo>
                  <a:lnTo>
                    <a:pt x="296" y="1524"/>
                  </a:lnTo>
                  <a:lnTo>
                    <a:pt x="296" y="1494"/>
                  </a:lnTo>
                  <a:lnTo>
                    <a:pt x="299" y="1465"/>
                  </a:lnTo>
                  <a:lnTo>
                    <a:pt x="309" y="1440"/>
                  </a:lnTo>
                  <a:lnTo>
                    <a:pt x="321" y="1411"/>
                  </a:lnTo>
                  <a:lnTo>
                    <a:pt x="339" y="1389"/>
                  </a:lnTo>
                  <a:lnTo>
                    <a:pt x="358" y="1372"/>
                  </a:lnTo>
                  <a:lnTo>
                    <a:pt x="379" y="1357"/>
                  </a:lnTo>
                  <a:lnTo>
                    <a:pt x="403" y="1348"/>
                  </a:lnTo>
                  <a:lnTo>
                    <a:pt x="422" y="1342"/>
                  </a:lnTo>
                  <a:lnTo>
                    <a:pt x="2018" y="1342"/>
                  </a:lnTo>
                  <a:lnTo>
                    <a:pt x="2043" y="1336"/>
                  </a:lnTo>
                  <a:lnTo>
                    <a:pt x="2067" y="1323"/>
                  </a:lnTo>
                  <a:lnTo>
                    <a:pt x="2091" y="1306"/>
                  </a:lnTo>
                  <a:lnTo>
                    <a:pt x="2112" y="1283"/>
                  </a:lnTo>
                  <a:lnTo>
                    <a:pt x="2128" y="1259"/>
                  </a:lnTo>
                  <a:lnTo>
                    <a:pt x="2144" y="1233"/>
                  </a:lnTo>
                  <a:lnTo>
                    <a:pt x="2154" y="1202"/>
                  </a:lnTo>
                  <a:lnTo>
                    <a:pt x="2160" y="1171"/>
                  </a:lnTo>
                  <a:lnTo>
                    <a:pt x="2160" y="173"/>
                  </a:lnTo>
                  <a:lnTo>
                    <a:pt x="2154" y="142"/>
                  </a:lnTo>
                  <a:lnTo>
                    <a:pt x="2144" y="111"/>
                  </a:lnTo>
                  <a:lnTo>
                    <a:pt x="2130" y="85"/>
                  </a:lnTo>
                  <a:lnTo>
                    <a:pt x="2114" y="58"/>
                  </a:lnTo>
                  <a:lnTo>
                    <a:pt x="2091" y="38"/>
                  </a:lnTo>
                  <a:lnTo>
                    <a:pt x="2069" y="21"/>
                  </a:lnTo>
                  <a:lnTo>
                    <a:pt x="2043" y="8"/>
                  </a:lnTo>
                  <a:lnTo>
                    <a:pt x="2018" y="0"/>
                  </a:lnTo>
                  <a:lnTo>
                    <a:pt x="144" y="0"/>
                  </a:lnTo>
                </a:path>
              </a:pathLst>
            </a:custGeom>
            <a:solidFill>
              <a:srgbClr val="eaeae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8"/>
            <p:cNvSpPr/>
            <p:nvPr/>
          </p:nvSpPr>
          <p:spPr>
            <a:xfrm>
              <a:off x="5396040" y="1447920"/>
              <a:ext cx="3365280" cy="239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 think it took more time to process the materials because the Maintenance Department has poorly maintained your equipment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23" name="Object 2"/>
          <p:cNvGraphicFramePr/>
          <p:nvPr/>
        </p:nvGraphicFramePr>
        <p:xfrm>
          <a:off x="5251320" y="4114800"/>
          <a:ext cx="2292480" cy="24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1320" y="4114800"/>
                    <a:ext cx="229248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5" name="Object 3"/>
          <p:cNvGraphicFramePr/>
          <p:nvPr/>
        </p:nvGraphicFramePr>
        <p:xfrm>
          <a:off x="1371600" y="4495680"/>
          <a:ext cx="3124080" cy="208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4495680"/>
                    <a:ext cx="3124080" cy="20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Responsibility for Labor Variance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1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2"/>
          <p:cNvSpPr/>
          <p:nvPr/>
        </p:nvSpPr>
        <p:spPr>
          <a:xfrm>
            <a:off x="152280" y="2362320"/>
            <a:ext cx="8686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ef5fa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son Inc. has the following direct lab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to manufacture one Zipp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5 standard hours per Zippy at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$12.00 per direct labor h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week, 1,550 direct labor hours we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ed at a total labor cost of $18,91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make 1,000 Zipp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9" name="Group 3"/>
          <p:cNvGrpSpPr/>
          <p:nvPr/>
        </p:nvGrpSpPr>
        <p:grpSpPr>
          <a:xfrm>
            <a:off x="7790040" y="496800"/>
            <a:ext cx="1201680" cy="1407960"/>
            <a:chOff x="7790040" y="496800"/>
            <a:chExt cx="1201680" cy="1407960"/>
          </a:xfrm>
        </p:grpSpPr>
        <p:grpSp>
          <p:nvGrpSpPr>
            <p:cNvPr id="630" name="Group 4"/>
            <p:cNvGrpSpPr/>
            <p:nvPr/>
          </p:nvGrpSpPr>
          <p:grpSpPr>
            <a:xfrm>
              <a:off x="7790040" y="496800"/>
              <a:ext cx="1028880" cy="1407960"/>
              <a:chOff x="7790040" y="496800"/>
              <a:chExt cx="1028880" cy="1407960"/>
            </a:xfrm>
          </p:grpSpPr>
          <p:grpSp>
            <p:nvGrpSpPr>
              <p:cNvPr id="631" name="Group 5"/>
              <p:cNvGrpSpPr/>
              <p:nvPr/>
            </p:nvGrpSpPr>
            <p:grpSpPr>
              <a:xfrm>
                <a:off x="7790040" y="576360"/>
                <a:ext cx="138240" cy="1250640"/>
                <a:chOff x="7790040" y="576360"/>
                <a:chExt cx="138240" cy="1250640"/>
              </a:xfrm>
            </p:grpSpPr>
            <p:sp>
              <p:nvSpPr>
                <p:cNvPr id="632" name="Freeform 6"/>
                <p:cNvSpPr/>
                <p:nvPr/>
              </p:nvSpPr>
              <p:spPr>
                <a:xfrm>
                  <a:off x="7790040" y="576360"/>
                  <a:ext cx="138240" cy="1250640"/>
                </a:xfrm>
                <a:custGeom>
                  <a:avLst/>
                  <a:gdLst>
                    <a:gd name="textAreaLeft" fmla="*/ 0 w 138240"/>
                    <a:gd name="textAreaRight" fmla="*/ 138600 w 138240"/>
                    <a:gd name="textAreaTop" fmla="*/ 0 h 1250640"/>
                    <a:gd name="textAreaBottom" fmla="*/ 1251000 h 1250640"/>
                  </a:gdLst>
                  <a:ahLst/>
                  <a:rect l="textAreaLeft" t="textAreaTop" r="textAreaRight" b="textAreaBottom"/>
                  <a:pathLst>
                    <a:path w="261" h="2363">
                      <a:moveTo>
                        <a:pt x="111" y="0"/>
                      </a:moveTo>
                      <a:lnTo>
                        <a:pt x="0" y="262"/>
                      </a:lnTo>
                      <a:lnTo>
                        <a:pt x="0" y="2100"/>
                      </a:lnTo>
                      <a:lnTo>
                        <a:pt x="149" y="2363"/>
                      </a:lnTo>
                      <a:lnTo>
                        <a:pt x="261" y="2100"/>
                      </a:lnTo>
                      <a:lnTo>
                        <a:pt x="261" y="226"/>
                      </a:lnTo>
                      <a:lnTo>
                        <a:pt x="111" y="0"/>
                      </a:lnTo>
                      <a:close/>
                    </a:path>
                  </a:pathLst>
                </a:custGeom>
                <a:solidFill>
                  <a:srgbClr val="9f9fb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Freeform 7"/>
                <p:cNvSpPr/>
                <p:nvPr/>
              </p:nvSpPr>
              <p:spPr>
                <a:xfrm>
                  <a:off x="7790040" y="576360"/>
                  <a:ext cx="119160" cy="125064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250640"/>
                    <a:gd name="textAreaBottom" fmla="*/ 1251000 h 1250640"/>
                  </a:gdLst>
                  <a:ahLst/>
                  <a:rect l="textAreaLeft" t="textAreaTop" r="textAreaRight" b="textAreaBottom"/>
                  <a:pathLst>
                    <a:path w="225" h="2363">
                      <a:moveTo>
                        <a:pt x="111" y="0"/>
                      </a:moveTo>
                      <a:lnTo>
                        <a:pt x="185" y="112"/>
                      </a:lnTo>
                      <a:lnTo>
                        <a:pt x="111" y="262"/>
                      </a:lnTo>
                      <a:lnTo>
                        <a:pt x="111" y="1988"/>
                      </a:lnTo>
                      <a:lnTo>
                        <a:pt x="225" y="2213"/>
                      </a:lnTo>
                      <a:lnTo>
                        <a:pt x="149" y="2363"/>
                      </a:lnTo>
                      <a:lnTo>
                        <a:pt x="0" y="2100"/>
                      </a:lnTo>
                      <a:lnTo>
                        <a:pt x="0" y="262"/>
                      </a:lnTo>
                      <a:lnTo>
                        <a:pt x="111" y="0"/>
                      </a:lnTo>
                      <a:close/>
                    </a:path>
                  </a:pathLst>
                </a:custGeom>
                <a:solidFill>
                  <a:srgbClr val="bfbfd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4" name="Group 8"/>
              <p:cNvGrpSpPr/>
              <p:nvPr/>
            </p:nvGrpSpPr>
            <p:grpSpPr>
              <a:xfrm>
                <a:off x="7809120" y="496800"/>
                <a:ext cx="1009800" cy="1407960"/>
                <a:chOff x="7809120" y="496800"/>
                <a:chExt cx="1009800" cy="1407960"/>
              </a:xfrm>
            </p:grpSpPr>
            <p:sp>
              <p:nvSpPr>
                <p:cNvPr id="635" name="Freeform 9"/>
                <p:cNvSpPr/>
                <p:nvPr/>
              </p:nvSpPr>
              <p:spPr>
                <a:xfrm>
                  <a:off x="7809120" y="496800"/>
                  <a:ext cx="969840" cy="79560"/>
                </a:xfrm>
                <a:custGeom>
                  <a:avLst/>
                  <a:gdLst>
                    <a:gd name="textAreaLeft" fmla="*/ 0 w 969840"/>
                    <a:gd name="textAreaRight" fmla="*/ 970200 w 969840"/>
                    <a:gd name="textAreaTop" fmla="*/ 0 h 79560"/>
                    <a:gd name="textAreaBottom" fmla="*/ 79920 h 79560"/>
                  </a:gdLst>
                  <a:ahLst/>
                  <a:rect l="textAreaLeft" t="textAreaTop" r="textAreaRight" b="textAreaBottom"/>
                  <a:pathLst>
                    <a:path w="1834" h="149">
                      <a:moveTo>
                        <a:pt x="75" y="149"/>
                      </a:moveTo>
                      <a:lnTo>
                        <a:pt x="0" y="0"/>
                      </a:lnTo>
                      <a:lnTo>
                        <a:pt x="1834" y="0"/>
                      </a:lnTo>
                      <a:lnTo>
                        <a:pt x="1760" y="149"/>
                      </a:lnTo>
                      <a:lnTo>
                        <a:pt x="75" y="149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Freeform 10"/>
                <p:cNvSpPr/>
                <p:nvPr/>
              </p:nvSpPr>
              <p:spPr>
                <a:xfrm>
                  <a:off x="7829640" y="1827000"/>
                  <a:ext cx="970200" cy="77760"/>
                </a:xfrm>
                <a:custGeom>
                  <a:avLst/>
                  <a:gdLst>
                    <a:gd name="textAreaLeft" fmla="*/ 0 w 970200"/>
                    <a:gd name="textAreaRight" fmla="*/ 970560 w 970200"/>
                    <a:gd name="textAreaTop" fmla="*/ 0 h 77760"/>
                    <a:gd name="textAreaBottom" fmla="*/ 78120 h 77760"/>
                  </a:gdLst>
                  <a:ahLst/>
                  <a:rect l="textAreaLeft" t="textAreaTop" r="textAreaRight" b="textAreaBottom"/>
                  <a:pathLst>
                    <a:path w="1834" h="149">
                      <a:moveTo>
                        <a:pt x="75" y="0"/>
                      </a:moveTo>
                      <a:lnTo>
                        <a:pt x="1722" y="0"/>
                      </a:lnTo>
                      <a:lnTo>
                        <a:pt x="1834" y="113"/>
                      </a:lnTo>
                      <a:lnTo>
                        <a:pt x="1760" y="149"/>
                      </a:lnTo>
                      <a:lnTo>
                        <a:pt x="0" y="149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solidFill>
                  <a:srgbClr val="9f9fb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Freeform 11"/>
                <p:cNvSpPr/>
                <p:nvPr/>
              </p:nvSpPr>
              <p:spPr>
                <a:xfrm>
                  <a:off x="7848720" y="576360"/>
                  <a:ext cx="970200" cy="1250640"/>
                </a:xfrm>
                <a:custGeom>
                  <a:avLst/>
                  <a:gdLst>
                    <a:gd name="textAreaLeft" fmla="*/ 0 w 970200"/>
                    <a:gd name="textAreaRight" fmla="*/ 970560 w 970200"/>
                    <a:gd name="textAreaTop" fmla="*/ 0 h 1250640"/>
                    <a:gd name="textAreaBottom" fmla="*/ 1251000 h 1250640"/>
                  </a:gdLst>
                  <a:ahLst/>
                  <a:rect l="textAreaLeft" t="textAreaTop" r="textAreaRight" b="textAreaBottom"/>
                  <a:pathLst>
                    <a:path w="1834" h="2363">
                      <a:moveTo>
                        <a:pt x="38" y="2363"/>
                      </a:moveTo>
                      <a:lnTo>
                        <a:pt x="1685" y="2363"/>
                      </a:lnTo>
                      <a:lnTo>
                        <a:pt x="1834" y="2100"/>
                      </a:lnTo>
                      <a:lnTo>
                        <a:pt x="1834" y="226"/>
                      </a:lnTo>
                      <a:lnTo>
                        <a:pt x="1685" y="0"/>
                      </a:lnTo>
                      <a:lnTo>
                        <a:pt x="0" y="0"/>
                      </a:lnTo>
                      <a:lnTo>
                        <a:pt x="150" y="226"/>
                      </a:lnTo>
                      <a:lnTo>
                        <a:pt x="150" y="2100"/>
                      </a:lnTo>
                      <a:lnTo>
                        <a:pt x="38" y="2363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Rectangle 12"/>
                <p:cNvSpPr/>
                <p:nvPr/>
              </p:nvSpPr>
              <p:spPr>
                <a:xfrm>
                  <a:off x="7929720" y="974520"/>
                  <a:ext cx="887400" cy="254160"/>
                </a:xfrm>
                <a:prstGeom prst="rect">
                  <a:avLst/>
                </a:prstGeom>
                <a:solidFill>
                  <a:srgbClr val="ff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Freeform 13"/>
                <p:cNvSpPr/>
                <p:nvPr/>
              </p:nvSpPr>
              <p:spPr>
                <a:xfrm>
                  <a:off x="7869600" y="1687320"/>
                  <a:ext cx="949320" cy="139680"/>
                </a:xfrm>
                <a:custGeom>
                  <a:avLst/>
                  <a:gdLst>
                    <a:gd name="textAreaLeft" fmla="*/ 0 w 949320"/>
                    <a:gd name="textAreaRight" fmla="*/ 949680 w 949320"/>
                    <a:gd name="textAreaTop" fmla="*/ 0 h 139680"/>
                    <a:gd name="textAreaBottom" fmla="*/ 140040 h 139680"/>
                  </a:gdLst>
                  <a:ahLst/>
                  <a:rect l="textAreaLeft" t="textAreaTop" r="textAreaRight" b="textAreaBottom"/>
                  <a:pathLst>
                    <a:path w="1796" h="263">
                      <a:moveTo>
                        <a:pt x="112" y="0"/>
                      </a:moveTo>
                      <a:lnTo>
                        <a:pt x="0" y="263"/>
                      </a:lnTo>
                      <a:lnTo>
                        <a:pt x="1647" y="263"/>
                      </a:lnTo>
                      <a:lnTo>
                        <a:pt x="1796" y="0"/>
                      </a:lnTo>
                      <a:lnTo>
                        <a:pt x="112" y="0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0" name="Rectangle 14"/>
            <p:cNvSpPr/>
            <p:nvPr/>
          </p:nvSpPr>
          <p:spPr>
            <a:xfrm>
              <a:off x="8004240" y="922320"/>
              <a:ext cx="987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Zipp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Quick Check </a:t>
            </a:r>
            <a:r>
              <a:rPr b="0" lang="en-US" sz="4000" spc="-1" strike="noStrike">
                <a:solidFill>
                  <a:srgbClr val="464646"/>
                </a:solidFill>
                <a:latin typeface="Wingdings"/>
                <a:ea typeface="Wingdings"/>
              </a:rPr>
              <a:t>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2"/>
          <p:cNvSpPr/>
          <p:nvPr/>
        </p:nvSpPr>
        <p:spPr>
          <a:xfrm>
            <a:off x="914400" y="2209680"/>
            <a:ext cx="7315200" cy="3886200"/>
          </a:xfrm>
          <a:prstGeom prst="rect">
            <a:avLst/>
          </a:prstGeom>
          <a:solidFill>
            <a:srgbClr val="d9d9d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son’s labor rate variance (LRV) for the week w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$310 unfavor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$310 favor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$300 unfavor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$300 favor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Group 3"/>
          <p:cNvGrpSpPr/>
          <p:nvPr/>
        </p:nvGrpSpPr>
        <p:grpSpPr>
          <a:xfrm>
            <a:off x="7790040" y="496800"/>
            <a:ext cx="1201680" cy="1407960"/>
            <a:chOff x="7790040" y="496800"/>
            <a:chExt cx="1201680" cy="1407960"/>
          </a:xfrm>
        </p:grpSpPr>
        <p:grpSp>
          <p:nvGrpSpPr>
            <p:cNvPr id="644" name="Group 4"/>
            <p:cNvGrpSpPr/>
            <p:nvPr/>
          </p:nvGrpSpPr>
          <p:grpSpPr>
            <a:xfrm>
              <a:off x="7790040" y="496800"/>
              <a:ext cx="1028880" cy="1407960"/>
              <a:chOff x="7790040" y="496800"/>
              <a:chExt cx="1028880" cy="1407960"/>
            </a:xfrm>
          </p:grpSpPr>
          <p:grpSp>
            <p:nvGrpSpPr>
              <p:cNvPr id="645" name="Group 5"/>
              <p:cNvGrpSpPr/>
              <p:nvPr/>
            </p:nvGrpSpPr>
            <p:grpSpPr>
              <a:xfrm>
                <a:off x="7790040" y="576360"/>
                <a:ext cx="138240" cy="1250640"/>
                <a:chOff x="7790040" y="576360"/>
                <a:chExt cx="138240" cy="1250640"/>
              </a:xfrm>
            </p:grpSpPr>
            <p:sp>
              <p:nvSpPr>
                <p:cNvPr id="646" name="Freeform 6"/>
                <p:cNvSpPr/>
                <p:nvPr/>
              </p:nvSpPr>
              <p:spPr>
                <a:xfrm>
                  <a:off x="7790040" y="576360"/>
                  <a:ext cx="138240" cy="1250640"/>
                </a:xfrm>
                <a:custGeom>
                  <a:avLst/>
                  <a:gdLst>
                    <a:gd name="textAreaLeft" fmla="*/ 0 w 138240"/>
                    <a:gd name="textAreaRight" fmla="*/ 138600 w 138240"/>
                    <a:gd name="textAreaTop" fmla="*/ 0 h 1250640"/>
                    <a:gd name="textAreaBottom" fmla="*/ 1251000 h 1250640"/>
                  </a:gdLst>
                  <a:ahLst/>
                  <a:rect l="textAreaLeft" t="textAreaTop" r="textAreaRight" b="textAreaBottom"/>
                  <a:pathLst>
                    <a:path w="261" h="2363">
                      <a:moveTo>
                        <a:pt x="111" y="0"/>
                      </a:moveTo>
                      <a:lnTo>
                        <a:pt x="0" y="262"/>
                      </a:lnTo>
                      <a:lnTo>
                        <a:pt x="0" y="2100"/>
                      </a:lnTo>
                      <a:lnTo>
                        <a:pt x="149" y="2363"/>
                      </a:lnTo>
                      <a:lnTo>
                        <a:pt x="261" y="2100"/>
                      </a:lnTo>
                      <a:lnTo>
                        <a:pt x="261" y="226"/>
                      </a:lnTo>
                      <a:lnTo>
                        <a:pt x="111" y="0"/>
                      </a:lnTo>
                      <a:close/>
                    </a:path>
                  </a:pathLst>
                </a:custGeom>
                <a:solidFill>
                  <a:srgbClr val="9f9fb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Freeform 7"/>
                <p:cNvSpPr/>
                <p:nvPr/>
              </p:nvSpPr>
              <p:spPr>
                <a:xfrm>
                  <a:off x="7790040" y="576360"/>
                  <a:ext cx="119160" cy="125064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250640"/>
                    <a:gd name="textAreaBottom" fmla="*/ 1251000 h 1250640"/>
                  </a:gdLst>
                  <a:ahLst/>
                  <a:rect l="textAreaLeft" t="textAreaTop" r="textAreaRight" b="textAreaBottom"/>
                  <a:pathLst>
                    <a:path w="225" h="2363">
                      <a:moveTo>
                        <a:pt x="111" y="0"/>
                      </a:moveTo>
                      <a:lnTo>
                        <a:pt x="185" y="112"/>
                      </a:lnTo>
                      <a:lnTo>
                        <a:pt x="111" y="262"/>
                      </a:lnTo>
                      <a:lnTo>
                        <a:pt x="111" y="1988"/>
                      </a:lnTo>
                      <a:lnTo>
                        <a:pt x="225" y="2213"/>
                      </a:lnTo>
                      <a:lnTo>
                        <a:pt x="149" y="2363"/>
                      </a:lnTo>
                      <a:lnTo>
                        <a:pt x="0" y="2100"/>
                      </a:lnTo>
                      <a:lnTo>
                        <a:pt x="0" y="262"/>
                      </a:lnTo>
                      <a:lnTo>
                        <a:pt x="111" y="0"/>
                      </a:lnTo>
                      <a:close/>
                    </a:path>
                  </a:pathLst>
                </a:custGeom>
                <a:solidFill>
                  <a:srgbClr val="bfbfd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8" name="Group 8"/>
              <p:cNvGrpSpPr/>
              <p:nvPr/>
            </p:nvGrpSpPr>
            <p:grpSpPr>
              <a:xfrm>
                <a:off x="7809120" y="496800"/>
                <a:ext cx="1009800" cy="1407960"/>
                <a:chOff x="7809120" y="496800"/>
                <a:chExt cx="1009800" cy="1407960"/>
              </a:xfrm>
            </p:grpSpPr>
            <p:sp>
              <p:nvSpPr>
                <p:cNvPr id="649" name="Freeform 9"/>
                <p:cNvSpPr/>
                <p:nvPr/>
              </p:nvSpPr>
              <p:spPr>
                <a:xfrm>
                  <a:off x="7809120" y="496800"/>
                  <a:ext cx="969840" cy="79560"/>
                </a:xfrm>
                <a:custGeom>
                  <a:avLst/>
                  <a:gdLst>
                    <a:gd name="textAreaLeft" fmla="*/ 0 w 969840"/>
                    <a:gd name="textAreaRight" fmla="*/ 970200 w 969840"/>
                    <a:gd name="textAreaTop" fmla="*/ 0 h 79560"/>
                    <a:gd name="textAreaBottom" fmla="*/ 79920 h 79560"/>
                  </a:gdLst>
                  <a:ahLst/>
                  <a:rect l="textAreaLeft" t="textAreaTop" r="textAreaRight" b="textAreaBottom"/>
                  <a:pathLst>
                    <a:path w="1834" h="149">
                      <a:moveTo>
                        <a:pt x="75" y="149"/>
                      </a:moveTo>
                      <a:lnTo>
                        <a:pt x="0" y="0"/>
                      </a:lnTo>
                      <a:lnTo>
                        <a:pt x="1834" y="0"/>
                      </a:lnTo>
                      <a:lnTo>
                        <a:pt x="1760" y="149"/>
                      </a:lnTo>
                      <a:lnTo>
                        <a:pt x="75" y="149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Freeform 10"/>
                <p:cNvSpPr/>
                <p:nvPr/>
              </p:nvSpPr>
              <p:spPr>
                <a:xfrm>
                  <a:off x="7829640" y="1827000"/>
                  <a:ext cx="970200" cy="77760"/>
                </a:xfrm>
                <a:custGeom>
                  <a:avLst/>
                  <a:gdLst>
                    <a:gd name="textAreaLeft" fmla="*/ 0 w 970200"/>
                    <a:gd name="textAreaRight" fmla="*/ 970560 w 970200"/>
                    <a:gd name="textAreaTop" fmla="*/ 0 h 77760"/>
                    <a:gd name="textAreaBottom" fmla="*/ 78120 h 77760"/>
                  </a:gdLst>
                  <a:ahLst/>
                  <a:rect l="textAreaLeft" t="textAreaTop" r="textAreaRight" b="textAreaBottom"/>
                  <a:pathLst>
                    <a:path w="1834" h="149">
                      <a:moveTo>
                        <a:pt x="75" y="0"/>
                      </a:moveTo>
                      <a:lnTo>
                        <a:pt x="1722" y="0"/>
                      </a:lnTo>
                      <a:lnTo>
                        <a:pt x="1834" y="113"/>
                      </a:lnTo>
                      <a:lnTo>
                        <a:pt x="1760" y="149"/>
                      </a:lnTo>
                      <a:lnTo>
                        <a:pt x="0" y="149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solidFill>
                  <a:srgbClr val="9f9fb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Freeform 11"/>
                <p:cNvSpPr/>
                <p:nvPr/>
              </p:nvSpPr>
              <p:spPr>
                <a:xfrm>
                  <a:off x="7848720" y="576360"/>
                  <a:ext cx="970200" cy="1250640"/>
                </a:xfrm>
                <a:custGeom>
                  <a:avLst/>
                  <a:gdLst>
                    <a:gd name="textAreaLeft" fmla="*/ 0 w 970200"/>
                    <a:gd name="textAreaRight" fmla="*/ 970560 w 970200"/>
                    <a:gd name="textAreaTop" fmla="*/ 0 h 1250640"/>
                    <a:gd name="textAreaBottom" fmla="*/ 1251000 h 1250640"/>
                  </a:gdLst>
                  <a:ahLst/>
                  <a:rect l="textAreaLeft" t="textAreaTop" r="textAreaRight" b="textAreaBottom"/>
                  <a:pathLst>
                    <a:path w="1834" h="2363">
                      <a:moveTo>
                        <a:pt x="38" y="2363"/>
                      </a:moveTo>
                      <a:lnTo>
                        <a:pt x="1685" y="2363"/>
                      </a:lnTo>
                      <a:lnTo>
                        <a:pt x="1834" y="2100"/>
                      </a:lnTo>
                      <a:lnTo>
                        <a:pt x="1834" y="226"/>
                      </a:lnTo>
                      <a:lnTo>
                        <a:pt x="1685" y="0"/>
                      </a:lnTo>
                      <a:lnTo>
                        <a:pt x="0" y="0"/>
                      </a:lnTo>
                      <a:lnTo>
                        <a:pt x="150" y="226"/>
                      </a:lnTo>
                      <a:lnTo>
                        <a:pt x="150" y="2100"/>
                      </a:lnTo>
                      <a:lnTo>
                        <a:pt x="38" y="2363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Rectangle 12"/>
                <p:cNvSpPr/>
                <p:nvPr/>
              </p:nvSpPr>
              <p:spPr>
                <a:xfrm>
                  <a:off x="7929720" y="974520"/>
                  <a:ext cx="887400" cy="254160"/>
                </a:xfrm>
                <a:prstGeom prst="rect">
                  <a:avLst/>
                </a:prstGeom>
                <a:solidFill>
                  <a:srgbClr val="ff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Freeform 13"/>
                <p:cNvSpPr/>
                <p:nvPr/>
              </p:nvSpPr>
              <p:spPr>
                <a:xfrm>
                  <a:off x="7869600" y="1687320"/>
                  <a:ext cx="949320" cy="139680"/>
                </a:xfrm>
                <a:custGeom>
                  <a:avLst/>
                  <a:gdLst>
                    <a:gd name="textAreaLeft" fmla="*/ 0 w 949320"/>
                    <a:gd name="textAreaRight" fmla="*/ 949680 w 949320"/>
                    <a:gd name="textAreaTop" fmla="*/ 0 h 139680"/>
                    <a:gd name="textAreaBottom" fmla="*/ 140040 h 139680"/>
                  </a:gdLst>
                  <a:ahLst/>
                  <a:rect l="textAreaLeft" t="textAreaTop" r="textAreaRight" b="textAreaBottom"/>
                  <a:pathLst>
                    <a:path w="1796" h="263">
                      <a:moveTo>
                        <a:pt x="112" y="0"/>
                      </a:moveTo>
                      <a:lnTo>
                        <a:pt x="0" y="263"/>
                      </a:lnTo>
                      <a:lnTo>
                        <a:pt x="1647" y="263"/>
                      </a:lnTo>
                      <a:lnTo>
                        <a:pt x="1796" y="0"/>
                      </a:lnTo>
                      <a:lnTo>
                        <a:pt x="112" y="0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54" name="Rectangle 14"/>
            <p:cNvSpPr/>
            <p:nvPr/>
          </p:nvSpPr>
          <p:spPr>
            <a:xfrm>
              <a:off x="8004240" y="922320"/>
              <a:ext cx="987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Zipp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Quick Check </a:t>
            </a:r>
            <a:r>
              <a:rPr b="0" lang="en-US" sz="4000" spc="-1" strike="noStrike">
                <a:solidFill>
                  <a:srgbClr val="464646"/>
                </a:solidFill>
                <a:latin typeface="Wingdings"/>
                <a:ea typeface="Wingdings"/>
              </a:rPr>
              <a:t>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2"/>
          <p:cNvSpPr/>
          <p:nvPr/>
        </p:nvSpPr>
        <p:spPr>
          <a:xfrm>
            <a:off x="914400" y="2209680"/>
            <a:ext cx="7315200" cy="3886200"/>
          </a:xfrm>
          <a:prstGeom prst="rect">
            <a:avLst/>
          </a:prstGeom>
          <a:solidFill>
            <a:srgbClr val="d9d9d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son’s labor rate variance (LRV) for the week w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$310 unfavor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11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8119"/>
                </a:solidFill>
                <a:latin typeface="Arial"/>
              </a:rPr>
              <a:t>b. $310 favor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11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8119"/>
                </a:solidFill>
                <a:latin typeface="Arial"/>
              </a:rPr>
              <a:t>c. $300 unfavor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11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8119"/>
                </a:solidFill>
                <a:latin typeface="Arial"/>
              </a:rPr>
              <a:t>d. $300 favor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Oval 4"/>
          <p:cNvSpPr/>
          <p:nvPr/>
        </p:nvSpPr>
        <p:spPr>
          <a:xfrm>
            <a:off x="1100160" y="3130560"/>
            <a:ext cx="635040" cy="6350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Group 5"/>
          <p:cNvGrpSpPr/>
          <p:nvPr/>
        </p:nvGrpSpPr>
        <p:grpSpPr>
          <a:xfrm>
            <a:off x="3886200" y="3284640"/>
            <a:ext cx="5029200" cy="2076480"/>
            <a:chOff x="3886200" y="3284640"/>
            <a:chExt cx="5029200" cy="2076480"/>
          </a:xfrm>
        </p:grpSpPr>
        <p:sp>
          <p:nvSpPr>
            <p:cNvPr id="659" name="Freeform 6"/>
            <p:cNvSpPr/>
            <p:nvPr/>
          </p:nvSpPr>
          <p:spPr>
            <a:xfrm>
              <a:off x="4648320" y="3284640"/>
              <a:ext cx="1190520" cy="156816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568160"/>
                <a:gd name="textAreaBottom" fmla="*/ 1568520 h 1568160"/>
              </a:gdLst>
              <a:ahLst/>
              <a:rect l="textAreaLeft" t="textAreaTop" r="textAreaRight" b="textAreaBottom"/>
              <a:pathLst>
                <a:path w="750" h="988">
                  <a:moveTo>
                    <a:pt x="158" y="86"/>
                  </a:moveTo>
                  <a:lnTo>
                    <a:pt x="191" y="106"/>
                  </a:lnTo>
                  <a:lnTo>
                    <a:pt x="243" y="132"/>
                  </a:lnTo>
                  <a:lnTo>
                    <a:pt x="298" y="165"/>
                  </a:lnTo>
                  <a:lnTo>
                    <a:pt x="348" y="203"/>
                  </a:lnTo>
                  <a:lnTo>
                    <a:pt x="400" y="247"/>
                  </a:lnTo>
                  <a:lnTo>
                    <a:pt x="445" y="295"/>
                  </a:lnTo>
                  <a:lnTo>
                    <a:pt x="495" y="344"/>
                  </a:lnTo>
                  <a:lnTo>
                    <a:pt x="535" y="401"/>
                  </a:lnTo>
                  <a:lnTo>
                    <a:pt x="574" y="455"/>
                  </a:lnTo>
                  <a:lnTo>
                    <a:pt x="613" y="516"/>
                  </a:lnTo>
                  <a:lnTo>
                    <a:pt x="643" y="580"/>
                  </a:lnTo>
                  <a:lnTo>
                    <a:pt x="671" y="640"/>
                  </a:lnTo>
                  <a:lnTo>
                    <a:pt x="698" y="706"/>
                  </a:lnTo>
                  <a:lnTo>
                    <a:pt x="714" y="769"/>
                  </a:lnTo>
                  <a:lnTo>
                    <a:pt x="731" y="837"/>
                  </a:lnTo>
                  <a:lnTo>
                    <a:pt x="742" y="903"/>
                  </a:lnTo>
                  <a:lnTo>
                    <a:pt x="749" y="964"/>
                  </a:lnTo>
                  <a:lnTo>
                    <a:pt x="748" y="987"/>
                  </a:lnTo>
                  <a:lnTo>
                    <a:pt x="736" y="903"/>
                  </a:lnTo>
                  <a:lnTo>
                    <a:pt x="720" y="843"/>
                  </a:lnTo>
                  <a:lnTo>
                    <a:pt x="698" y="784"/>
                  </a:lnTo>
                  <a:lnTo>
                    <a:pt x="670" y="727"/>
                  </a:lnTo>
                  <a:lnTo>
                    <a:pt x="637" y="671"/>
                  </a:lnTo>
                  <a:lnTo>
                    <a:pt x="597" y="610"/>
                  </a:lnTo>
                  <a:lnTo>
                    <a:pt x="554" y="555"/>
                  </a:lnTo>
                  <a:lnTo>
                    <a:pt x="506" y="507"/>
                  </a:lnTo>
                  <a:lnTo>
                    <a:pt x="453" y="454"/>
                  </a:lnTo>
                  <a:lnTo>
                    <a:pt x="396" y="407"/>
                  </a:lnTo>
                  <a:lnTo>
                    <a:pt x="340" y="366"/>
                  </a:lnTo>
                  <a:lnTo>
                    <a:pt x="280" y="328"/>
                  </a:lnTo>
                  <a:lnTo>
                    <a:pt x="219" y="295"/>
                  </a:lnTo>
                  <a:lnTo>
                    <a:pt x="155" y="266"/>
                  </a:lnTo>
                  <a:lnTo>
                    <a:pt x="153" y="356"/>
                  </a:lnTo>
                  <a:lnTo>
                    <a:pt x="0" y="121"/>
                  </a:lnTo>
                  <a:lnTo>
                    <a:pt x="158" y="0"/>
                  </a:lnTo>
                  <a:lnTo>
                    <a:pt x="158" y="8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7"/>
            <p:cNvSpPr/>
            <p:nvPr/>
          </p:nvSpPr>
          <p:spPr>
            <a:xfrm>
              <a:off x="3886200" y="4174920"/>
              <a:ext cx="5029200" cy="1186200"/>
            </a:xfrm>
            <a:prstGeom prst="rect">
              <a:avLst/>
            </a:prstGeom>
            <a:solidFill>
              <a:srgbClr val="def5fa"/>
            </a:solidFill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LRV = AH(AR - SR)</a:t>
              </a:r>
              <a:br>
                <a:rPr sz="2400"/>
              </a:b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LRV = 1,550 hrs($12.20 - $12.00)</a:t>
              </a:r>
              <a:br>
                <a:rPr sz="2400"/>
              </a:b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LRV = $310 unfavora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Group 3"/>
          <p:cNvGrpSpPr/>
          <p:nvPr/>
        </p:nvGrpSpPr>
        <p:grpSpPr>
          <a:xfrm>
            <a:off x="7790040" y="496800"/>
            <a:ext cx="1201680" cy="1407960"/>
            <a:chOff x="7790040" y="496800"/>
            <a:chExt cx="1201680" cy="1407960"/>
          </a:xfrm>
        </p:grpSpPr>
        <p:grpSp>
          <p:nvGrpSpPr>
            <p:cNvPr id="662" name="Group 4"/>
            <p:cNvGrpSpPr/>
            <p:nvPr/>
          </p:nvGrpSpPr>
          <p:grpSpPr>
            <a:xfrm>
              <a:off x="7790040" y="496800"/>
              <a:ext cx="1028880" cy="1407960"/>
              <a:chOff x="7790040" y="496800"/>
              <a:chExt cx="1028880" cy="1407960"/>
            </a:xfrm>
          </p:grpSpPr>
          <p:grpSp>
            <p:nvGrpSpPr>
              <p:cNvPr id="663" name="Group 5"/>
              <p:cNvGrpSpPr/>
              <p:nvPr/>
            </p:nvGrpSpPr>
            <p:grpSpPr>
              <a:xfrm>
                <a:off x="7790040" y="576360"/>
                <a:ext cx="138240" cy="1250640"/>
                <a:chOff x="7790040" y="576360"/>
                <a:chExt cx="138240" cy="1250640"/>
              </a:xfrm>
            </p:grpSpPr>
            <p:sp>
              <p:nvSpPr>
                <p:cNvPr id="664" name="Freeform 6"/>
                <p:cNvSpPr/>
                <p:nvPr/>
              </p:nvSpPr>
              <p:spPr>
                <a:xfrm>
                  <a:off x="7790040" y="576360"/>
                  <a:ext cx="138240" cy="1250640"/>
                </a:xfrm>
                <a:custGeom>
                  <a:avLst/>
                  <a:gdLst>
                    <a:gd name="textAreaLeft" fmla="*/ 0 w 138240"/>
                    <a:gd name="textAreaRight" fmla="*/ 138600 w 138240"/>
                    <a:gd name="textAreaTop" fmla="*/ 0 h 1250640"/>
                    <a:gd name="textAreaBottom" fmla="*/ 1251000 h 1250640"/>
                  </a:gdLst>
                  <a:ahLst/>
                  <a:rect l="textAreaLeft" t="textAreaTop" r="textAreaRight" b="textAreaBottom"/>
                  <a:pathLst>
                    <a:path w="261" h="2363">
                      <a:moveTo>
                        <a:pt x="111" y="0"/>
                      </a:moveTo>
                      <a:lnTo>
                        <a:pt x="0" y="262"/>
                      </a:lnTo>
                      <a:lnTo>
                        <a:pt x="0" y="2100"/>
                      </a:lnTo>
                      <a:lnTo>
                        <a:pt x="149" y="2363"/>
                      </a:lnTo>
                      <a:lnTo>
                        <a:pt x="261" y="2100"/>
                      </a:lnTo>
                      <a:lnTo>
                        <a:pt x="261" y="226"/>
                      </a:lnTo>
                      <a:lnTo>
                        <a:pt x="111" y="0"/>
                      </a:lnTo>
                      <a:close/>
                    </a:path>
                  </a:pathLst>
                </a:custGeom>
                <a:solidFill>
                  <a:srgbClr val="9f9fb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Freeform 7"/>
                <p:cNvSpPr/>
                <p:nvPr/>
              </p:nvSpPr>
              <p:spPr>
                <a:xfrm>
                  <a:off x="7790040" y="576360"/>
                  <a:ext cx="119160" cy="125064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250640"/>
                    <a:gd name="textAreaBottom" fmla="*/ 1251000 h 1250640"/>
                  </a:gdLst>
                  <a:ahLst/>
                  <a:rect l="textAreaLeft" t="textAreaTop" r="textAreaRight" b="textAreaBottom"/>
                  <a:pathLst>
                    <a:path w="225" h="2363">
                      <a:moveTo>
                        <a:pt x="111" y="0"/>
                      </a:moveTo>
                      <a:lnTo>
                        <a:pt x="185" y="112"/>
                      </a:lnTo>
                      <a:lnTo>
                        <a:pt x="111" y="262"/>
                      </a:lnTo>
                      <a:lnTo>
                        <a:pt x="111" y="1988"/>
                      </a:lnTo>
                      <a:lnTo>
                        <a:pt x="225" y="2213"/>
                      </a:lnTo>
                      <a:lnTo>
                        <a:pt x="149" y="2363"/>
                      </a:lnTo>
                      <a:lnTo>
                        <a:pt x="0" y="2100"/>
                      </a:lnTo>
                      <a:lnTo>
                        <a:pt x="0" y="262"/>
                      </a:lnTo>
                      <a:lnTo>
                        <a:pt x="111" y="0"/>
                      </a:lnTo>
                      <a:close/>
                    </a:path>
                  </a:pathLst>
                </a:custGeom>
                <a:solidFill>
                  <a:srgbClr val="bfbfd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6" name="Group 8"/>
              <p:cNvGrpSpPr/>
              <p:nvPr/>
            </p:nvGrpSpPr>
            <p:grpSpPr>
              <a:xfrm>
                <a:off x="7809120" y="496800"/>
                <a:ext cx="1009800" cy="1407960"/>
                <a:chOff x="7809120" y="496800"/>
                <a:chExt cx="1009800" cy="1407960"/>
              </a:xfrm>
            </p:grpSpPr>
            <p:sp>
              <p:nvSpPr>
                <p:cNvPr id="667" name="Freeform 9"/>
                <p:cNvSpPr/>
                <p:nvPr/>
              </p:nvSpPr>
              <p:spPr>
                <a:xfrm>
                  <a:off x="7809120" y="496800"/>
                  <a:ext cx="969840" cy="79560"/>
                </a:xfrm>
                <a:custGeom>
                  <a:avLst/>
                  <a:gdLst>
                    <a:gd name="textAreaLeft" fmla="*/ 0 w 969840"/>
                    <a:gd name="textAreaRight" fmla="*/ 970200 w 969840"/>
                    <a:gd name="textAreaTop" fmla="*/ 0 h 79560"/>
                    <a:gd name="textAreaBottom" fmla="*/ 79920 h 79560"/>
                  </a:gdLst>
                  <a:ahLst/>
                  <a:rect l="textAreaLeft" t="textAreaTop" r="textAreaRight" b="textAreaBottom"/>
                  <a:pathLst>
                    <a:path w="1834" h="149">
                      <a:moveTo>
                        <a:pt x="75" y="149"/>
                      </a:moveTo>
                      <a:lnTo>
                        <a:pt x="0" y="0"/>
                      </a:lnTo>
                      <a:lnTo>
                        <a:pt x="1834" y="0"/>
                      </a:lnTo>
                      <a:lnTo>
                        <a:pt x="1760" y="149"/>
                      </a:lnTo>
                      <a:lnTo>
                        <a:pt x="75" y="149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Freeform 10"/>
                <p:cNvSpPr/>
                <p:nvPr/>
              </p:nvSpPr>
              <p:spPr>
                <a:xfrm>
                  <a:off x="7829640" y="1827000"/>
                  <a:ext cx="970200" cy="77760"/>
                </a:xfrm>
                <a:custGeom>
                  <a:avLst/>
                  <a:gdLst>
                    <a:gd name="textAreaLeft" fmla="*/ 0 w 970200"/>
                    <a:gd name="textAreaRight" fmla="*/ 970560 w 970200"/>
                    <a:gd name="textAreaTop" fmla="*/ 0 h 77760"/>
                    <a:gd name="textAreaBottom" fmla="*/ 78120 h 77760"/>
                  </a:gdLst>
                  <a:ahLst/>
                  <a:rect l="textAreaLeft" t="textAreaTop" r="textAreaRight" b="textAreaBottom"/>
                  <a:pathLst>
                    <a:path w="1834" h="149">
                      <a:moveTo>
                        <a:pt x="75" y="0"/>
                      </a:moveTo>
                      <a:lnTo>
                        <a:pt x="1722" y="0"/>
                      </a:lnTo>
                      <a:lnTo>
                        <a:pt x="1834" y="113"/>
                      </a:lnTo>
                      <a:lnTo>
                        <a:pt x="1760" y="149"/>
                      </a:lnTo>
                      <a:lnTo>
                        <a:pt x="0" y="149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solidFill>
                  <a:srgbClr val="9f9fb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Freeform 11"/>
                <p:cNvSpPr/>
                <p:nvPr/>
              </p:nvSpPr>
              <p:spPr>
                <a:xfrm>
                  <a:off x="7848720" y="576360"/>
                  <a:ext cx="970200" cy="1250640"/>
                </a:xfrm>
                <a:custGeom>
                  <a:avLst/>
                  <a:gdLst>
                    <a:gd name="textAreaLeft" fmla="*/ 0 w 970200"/>
                    <a:gd name="textAreaRight" fmla="*/ 970560 w 970200"/>
                    <a:gd name="textAreaTop" fmla="*/ 0 h 1250640"/>
                    <a:gd name="textAreaBottom" fmla="*/ 1251000 h 1250640"/>
                  </a:gdLst>
                  <a:ahLst/>
                  <a:rect l="textAreaLeft" t="textAreaTop" r="textAreaRight" b="textAreaBottom"/>
                  <a:pathLst>
                    <a:path w="1834" h="2363">
                      <a:moveTo>
                        <a:pt x="38" y="2363"/>
                      </a:moveTo>
                      <a:lnTo>
                        <a:pt x="1685" y="2363"/>
                      </a:lnTo>
                      <a:lnTo>
                        <a:pt x="1834" y="2100"/>
                      </a:lnTo>
                      <a:lnTo>
                        <a:pt x="1834" y="226"/>
                      </a:lnTo>
                      <a:lnTo>
                        <a:pt x="1685" y="0"/>
                      </a:lnTo>
                      <a:lnTo>
                        <a:pt x="0" y="0"/>
                      </a:lnTo>
                      <a:lnTo>
                        <a:pt x="150" y="226"/>
                      </a:lnTo>
                      <a:lnTo>
                        <a:pt x="150" y="2100"/>
                      </a:lnTo>
                      <a:lnTo>
                        <a:pt x="38" y="2363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Rectangle 12"/>
                <p:cNvSpPr/>
                <p:nvPr/>
              </p:nvSpPr>
              <p:spPr>
                <a:xfrm>
                  <a:off x="7929720" y="974520"/>
                  <a:ext cx="887400" cy="254160"/>
                </a:xfrm>
                <a:prstGeom prst="rect">
                  <a:avLst/>
                </a:prstGeom>
                <a:solidFill>
                  <a:srgbClr val="ff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Freeform 13"/>
                <p:cNvSpPr/>
                <p:nvPr/>
              </p:nvSpPr>
              <p:spPr>
                <a:xfrm>
                  <a:off x="7869600" y="1687320"/>
                  <a:ext cx="949320" cy="139680"/>
                </a:xfrm>
                <a:custGeom>
                  <a:avLst/>
                  <a:gdLst>
                    <a:gd name="textAreaLeft" fmla="*/ 0 w 949320"/>
                    <a:gd name="textAreaRight" fmla="*/ 949680 w 949320"/>
                    <a:gd name="textAreaTop" fmla="*/ 0 h 139680"/>
                    <a:gd name="textAreaBottom" fmla="*/ 140040 h 139680"/>
                  </a:gdLst>
                  <a:ahLst/>
                  <a:rect l="textAreaLeft" t="textAreaTop" r="textAreaRight" b="textAreaBottom"/>
                  <a:pathLst>
                    <a:path w="1796" h="263">
                      <a:moveTo>
                        <a:pt x="112" y="0"/>
                      </a:moveTo>
                      <a:lnTo>
                        <a:pt x="0" y="263"/>
                      </a:lnTo>
                      <a:lnTo>
                        <a:pt x="1647" y="263"/>
                      </a:lnTo>
                      <a:lnTo>
                        <a:pt x="1796" y="0"/>
                      </a:lnTo>
                      <a:lnTo>
                        <a:pt x="112" y="0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72" name="Rectangle 14"/>
            <p:cNvSpPr/>
            <p:nvPr/>
          </p:nvSpPr>
          <p:spPr>
            <a:xfrm>
              <a:off x="8004240" y="922320"/>
              <a:ext cx="987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Zipp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Quick Check </a:t>
            </a:r>
            <a:r>
              <a:rPr b="0" lang="en-US" sz="4000" spc="-1" strike="noStrike">
                <a:solidFill>
                  <a:srgbClr val="464646"/>
                </a:solidFill>
                <a:latin typeface="Wingdings"/>
                <a:ea typeface="Wingdings"/>
              </a:rPr>
              <a:t>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2"/>
          <p:cNvSpPr/>
          <p:nvPr/>
        </p:nvSpPr>
        <p:spPr>
          <a:xfrm>
            <a:off x="685800" y="2057400"/>
            <a:ext cx="7772400" cy="3809880"/>
          </a:xfrm>
          <a:prstGeom prst="rect">
            <a:avLst/>
          </a:prstGeom>
          <a:solidFill>
            <a:srgbClr val="b5e9f4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son’s labor efficiency variance (LEV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week w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$590 unfavor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$590 favor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$600 unfavor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$600 favor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5" name="Group 3"/>
          <p:cNvGrpSpPr/>
          <p:nvPr/>
        </p:nvGrpSpPr>
        <p:grpSpPr>
          <a:xfrm>
            <a:off x="7790040" y="496800"/>
            <a:ext cx="1201680" cy="1407960"/>
            <a:chOff x="7790040" y="496800"/>
            <a:chExt cx="1201680" cy="1407960"/>
          </a:xfrm>
        </p:grpSpPr>
        <p:grpSp>
          <p:nvGrpSpPr>
            <p:cNvPr id="676" name="Group 4"/>
            <p:cNvGrpSpPr/>
            <p:nvPr/>
          </p:nvGrpSpPr>
          <p:grpSpPr>
            <a:xfrm>
              <a:off x="7790040" y="496800"/>
              <a:ext cx="1028880" cy="1407960"/>
              <a:chOff x="7790040" y="496800"/>
              <a:chExt cx="1028880" cy="1407960"/>
            </a:xfrm>
          </p:grpSpPr>
          <p:grpSp>
            <p:nvGrpSpPr>
              <p:cNvPr id="677" name="Group 5"/>
              <p:cNvGrpSpPr/>
              <p:nvPr/>
            </p:nvGrpSpPr>
            <p:grpSpPr>
              <a:xfrm>
                <a:off x="7790040" y="576360"/>
                <a:ext cx="138240" cy="1250640"/>
                <a:chOff x="7790040" y="576360"/>
                <a:chExt cx="138240" cy="1250640"/>
              </a:xfrm>
            </p:grpSpPr>
            <p:sp>
              <p:nvSpPr>
                <p:cNvPr id="678" name="Freeform 6"/>
                <p:cNvSpPr/>
                <p:nvPr/>
              </p:nvSpPr>
              <p:spPr>
                <a:xfrm>
                  <a:off x="7790040" y="576360"/>
                  <a:ext cx="138240" cy="1250640"/>
                </a:xfrm>
                <a:custGeom>
                  <a:avLst/>
                  <a:gdLst>
                    <a:gd name="textAreaLeft" fmla="*/ 0 w 138240"/>
                    <a:gd name="textAreaRight" fmla="*/ 138600 w 138240"/>
                    <a:gd name="textAreaTop" fmla="*/ 0 h 1250640"/>
                    <a:gd name="textAreaBottom" fmla="*/ 1251000 h 1250640"/>
                  </a:gdLst>
                  <a:ahLst/>
                  <a:rect l="textAreaLeft" t="textAreaTop" r="textAreaRight" b="textAreaBottom"/>
                  <a:pathLst>
                    <a:path w="261" h="2363">
                      <a:moveTo>
                        <a:pt x="111" y="0"/>
                      </a:moveTo>
                      <a:lnTo>
                        <a:pt x="0" y="262"/>
                      </a:lnTo>
                      <a:lnTo>
                        <a:pt x="0" y="2100"/>
                      </a:lnTo>
                      <a:lnTo>
                        <a:pt x="149" y="2363"/>
                      </a:lnTo>
                      <a:lnTo>
                        <a:pt x="261" y="2100"/>
                      </a:lnTo>
                      <a:lnTo>
                        <a:pt x="261" y="226"/>
                      </a:lnTo>
                      <a:lnTo>
                        <a:pt x="111" y="0"/>
                      </a:lnTo>
                      <a:close/>
                    </a:path>
                  </a:pathLst>
                </a:custGeom>
                <a:solidFill>
                  <a:srgbClr val="9f9fb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Freeform 7"/>
                <p:cNvSpPr/>
                <p:nvPr/>
              </p:nvSpPr>
              <p:spPr>
                <a:xfrm>
                  <a:off x="7790040" y="576360"/>
                  <a:ext cx="119160" cy="125064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250640"/>
                    <a:gd name="textAreaBottom" fmla="*/ 1251000 h 1250640"/>
                  </a:gdLst>
                  <a:ahLst/>
                  <a:rect l="textAreaLeft" t="textAreaTop" r="textAreaRight" b="textAreaBottom"/>
                  <a:pathLst>
                    <a:path w="225" h="2363">
                      <a:moveTo>
                        <a:pt x="111" y="0"/>
                      </a:moveTo>
                      <a:lnTo>
                        <a:pt x="185" y="112"/>
                      </a:lnTo>
                      <a:lnTo>
                        <a:pt x="111" y="262"/>
                      </a:lnTo>
                      <a:lnTo>
                        <a:pt x="111" y="1988"/>
                      </a:lnTo>
                      <a:lnTo>
                        <a:pt x="225" y="2213"/>
                      </a:lnTo>
                      <a:lnTo>
                        <a:pt x="149" y="2363"/>
                      </a:lnTo>
                      <a:lnTo>
                        <a:pt x="0" y="2100"/>
                      </a:lnTo>
                      <a:lnTo>
                        <a:pt x="0" y="262"/>
                      </a:lnTo>
                      <a:lnTo>
                        <a:pt x="111" y="0"/>
                      </a:lnTo>
                      <a:close/>
                    </a:path>
                  </a:pathLst>
                </a:custGeom>
                <a:solidFill>
                  <a:srgbClr val="bfbfd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0" name="Group 8"/>
              <p:cNvGrpSpPr/>
              <p:nvPr/>
            </p:nvGrpSpPr>
            <p:grpSpPr>
              <a:xfrm>
                <a:off x="7809120" y="496800"/>
                <a:ext cx="1009800" cy="1407960"/>
                <a:chOff x="7809120" y="496800"/>
                <a:chExt cx="1009800" cy="1407960"/>
              </a:xfrm>
            </p:grpSpPr>
            <p:sp>
              <p:nvSpPr>
                <p:cNvPr id="681" name="Freeform 9"/>
                <p:cNvSpPr/>
                <p:nvPr/>
              </p:nvSpPr>
              <p:spPr>
                <a:xfrm>
                  <a:off x="7809120" y="496800"/>
                  <a:ext cx="969840" cy="79560"/>
                </a:xfrm>
                <a:custGeom>
                  <a:avLst/>
                  <a:gdLst>
                    <a:gd name="textAreaLeft" fmla="*/ 0 w 969840"/>
                    <a:gd name="textAreaRight" fmla="*/ 970200 w 969840"/>
                    <a:gd name="textAreaTop" fmla="*/ 0 h 79560"/>
                    <a:gd name="textAreaBottom" fmla="*/ 79920 h 79560"/>
                  </a:gdLst>
                  <a:ahLst/>
                  <a:rect l="textAreaLeft" t="textAreaTop" r="textAreaRight" b="textAreaBottom"/>
                  <a:pathLst>
                    <a:path w="1834" h="149">
                      <a:moveTo>
                        <a:pt x="75" y="149"/>
                      </a:moveTo>
                      <a:lnTo>
                        <a:pt x="0" y="0"/>
                      </a:lnTo>
                      <a:lnTo>
                        <a:pt x="1834" y="0"/>
                      </a:lnTo>
                      <a:lnTo>
                        <a:pt x="1760" y="149"/>
                      </a:lnTo>
                      <a:lnTo>
                        <a:pt x="75" y="149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Freeform 10"/>
                <p:cNvSpPr/>
                <p:nvPr/>
              </p:nvSpPr>
              <p:spPr>
                <a:xfrm>
                  <a:off x="7829640" y="1827000"/>
                  <a:ext cx="970200" cy="77760"/>
                </a:xfrm>
                <a:custGeom>
                  <a:avLst/>
                  <a:gdLst>
                    <a:gd name="textAreaLeft" fmla="*/ 0 w 970200"/>
                    <a:gd name="textAreaRight" fmla="*/ 970560 w 970200"/>
                    <a:gd name="textAreaTop" fmla="*/ 0 h 77760"/>
                    <a:gd name="textAreaBottom" fmla="*/ 78120 h 77760"/>
                  </a:gdLst>
                  <a:ahLst/>
                  <a:rect l="textAreaLeft" t="textAreaTop" r="textAreaRight" b="textAreaBottom"/>
                  <a:pathLst>
                    <a:path w="1834" h="149">
                      <a:moveTo>
                        <a:pt x="75" y="0"/>
                      </a:moveTo>
                      <a:lnTo>
                        <a:pt x="1722" y="0"/>
                      </a:lnTo>
                      <a:lnTo>
                        <a:pt x="1834" y="113"/>
                      </a:lnTo>
                      <a:lnTo>
                        <a:pt x="1760" y="149"/>
                      </a:lnTo>
                      <a:lnTo>
                        <a:pt x="0" y="149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solidFill>
                  <a:srgbClr val="9f9fb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Freeform 11"/>
                <p:cNvSpPr/>
                <p:nvPr/>
              </p:nvSpPr>
              <p:spPr>
                <a:xfrm>
                  <a:off x="7848720" y="576360"/>
                  <a:ext cx="970200" cy="1250640"/>
                </a:xfrm>
                <a:custGeom>
                  <a:avLst/>
                  <a:gdLst>
                    <a:gd name="textAreaLeft" fmla="*/ 0 w 970200"/>
                    <a:gd name="textAreaRight" fmla="*/ 970560 w 970200"/>
                    <a:gd name="textAreaTop" fmla="*/ 0 h 1250640"/>
                    <a:gd name="textAreaBottom" fmla="*/ 1251000 h 1250640"/>
                  </a:gdLst>
                  <a:ahLst/>
                  <a:rect l="textAreaLeft" t="textAreaTop" r="textAreaRight" b="textAreaBottom"/>
                  <a:pathLst>
                    <a:path w="1834" h="2363">
                      <a:moveTo>
                        <a:pt x="38" y="2363"/>
                      </a:moveTo>
                      <a:lnTo>
                        <a:pt x="1685" y="2363"/>
                      </a:lnTo>
                      <a:lnTo>
                        <a:pt x="1834" y="2100"/>
                      </a:lnTo>
                      <a:lnTo>
                        <a:pt x="1834" y="226"/>
                      </a:lnTo>
                      <a:lnTo>
                        <a:pt x="1685" y="0"/>
                      </a:lnTo>
                      <a:lnTo>
                        <a:pt x="0" y="0"/>
                      </a:lnTo>
                      <a:lnTo>
                        <a:pt x="150" y="226"/>
                      </a:lnTo>
                      <a:lnTo>
                        <a:pt x="150" y="2100"/>
                      </a:lnTo>
                      <a:lnTo>
                        <a:pt x="38" y="2363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Rectangle 12"/>
                <p:cNvSpPr/>
                <p:nvPr/>
              </p:nvSpPr>
              <p:spPr>
                <a:xfrm>
                  <a:off x="7929720" y="974520"/>
                  <a:ext cx="887400" cy="254160"/>
                </a:xfrm>
                <a:prstGeom prst="rect">
                  <a:avLst/>
                </a:prstGeom>
                <a:solidFill>
                  <a:srgbClr val="ff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Freeform 13"/>
                <p:cNvSpPr/>
                <p:nvPr/>
              </p:nvSpPr>
              <p:spPr>
                <a:xfrm>
                  <a:off x="7869600" y="1687320"/>
                  <a:ext cx="949320" cy="139680"/>
                </a:xfrm>
                <a:custGeom>
                  <a:avLst/>
                  <a:gdLst>
                    <a:gd name="textAreaLeft" fmla="*/ 0 w 949320"/>
                    <a:gd name="textAreaRight" fmla="*/ 949680 w 949320"/>
                    <a:gd name="textAreaTop" fmla="*/ 0 h 139680"/>
                    <a:gd name="textAreaBottom" fmla="*/ 140040 h 139680"/>
                  </a:gdLst>
                  <a:ahLst/>
                  <a:rect l="textAreaLeft" t="textAreaTop" r="textAreaRight" b="textAreaBottom"/>
                  <a:pathLst>
                    <a:path w="1796" h="263">
                      <a:moveTo>
                        <a:pt x="112" y="0"/>
                      </a:moveTo>
                      <a:lnTo>
                        <a:pt x="0" y="263"/>
                      </a:lnTo>
                      <a:lnTo>
                        <a:pt x="1647" y="263"/>
                      </a:lnTo>
                      <a:lnTo>
                        <a:pt x="1796" y="0"/>
                      </a:lnTo>
                      <a:lnTo>
                        <a:pt x="112" y="0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6" name="Rectangle 14"/>
            <p:cNvSpPr/>
            <p:nvPr/>
          </p:nvSpPr>
          <p:spPr>
            <a:xfrm>
              <a:off x="8004240" y="922320"/>
              <a:ext cx="987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Zipp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Quick Check </a:t>
            </a:r>
            <a:r>
              <a:rPr b="0" lang="en-US" sz="4000" spc="-1" strike="noStrike">
                <a:solidFill>
                  <a:srgbClr val="464646"/>
                </a:solidFill>
                <a:latin typeface="Wingdings"/>
                <a:ea typeface="Wingdings"/>
              </a:rPr>
              <a:t>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2"/>
          <p:cNvSpPr/>
          <p:nvPr/>
        </p:nvSpPr>
        <p:spPr>
          <a:xfrm>
            <a:off x="685800" y="2057400"/>
            <a:ext cx="7772400" cy="3809880"/>
          </a:xfrm>
          <a:prstGeom prst="rect">
            <a:avLst/>
          </a:prstGeom>
          <a:solidFill>
            <a:srgbClr val="b5e9f4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son’s labor efficiency variance (LEV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week w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e2d37"/>
                </a:solidFill>
                <a:latin typeface="Arial"/>
              </a:rPr>
              <a:t>a. $590 unfavor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e2d3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e2d37"/>
                </a:solidFill>
                <a:latin typeface="Arial"/>
              </a:rPr>
              <a:t>b. $590 favor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$600 unfavor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e2d37"/>
                </a:solidFill>
                <a:latin typeface="Arial"/>
              </a:rPr>
              <a:t>d. $600 favor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Oval 4"/>
          <p:cNvSpPr/>
          <p:nvPr/>
        </p:nvSpPr>
        <p:spPr>
          <a:xfrm>
            <a:off x="896760" y="4013280"/>
            <a:ext cx="635040" cy="6350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0" name="Group 5"/>
          <p:cNvGrpSpPr/>
          <p:nvPr/>
        </p:nvGrpSpPr>
        <p:grpSpPr>
          <a:xfrm>
            <a:off x="3276720" y="4191120"/>
            <a:ext cx="5333760" cy="1976400"/>
            <a:chOff x="3276720" y="4191120"/>
            <a:chExt cx="5333760" cy="1976400"/>
          </a:xfrm>
        </p:grpSpPr>
        <p:sp>
          <p:nvSpPr>
            <p:cNvPr id="691" name="Freeform 6"/>
            <p:cNvSpPr/>
            <p:nvPr/>
          </p:nvSpPr>
          <p:spPr>
            <a:xfrm flipV="1">
              <a:off x="4395600" y="4191120"/>
              <a:ext cx="1190160" cy="1568160"/>
            </a:xfrm>
            <a:custGeom>
              <a:avLst/>
              <a:gdLst>
                <a:gd name="textAreaLeft" fmla="*/ 0 w 1190160"/>
                <a:gd name="textAreaRight" fmla="*/ 1190520 w 1190160"/>
                <a:gd name="textAreaTop" fmla="*/ 360 h 1568160"/>
                <a:gd name="textAreaBottom" fmla="*/ 1568880 h 1568160"/>
              </a:gdLst>
              <a:ahLst/>
              <a:rect l="textAreaLeft" t="textAreaTop" r="textAreaRight" b="textAreaBottom"/>
              <a:pathLst>
                <a:path w="750" h="988">
                  <a:moveTo>
                    <a:pt x="158" y="901"/>
                  </a:moveTo>
                  <a:lnTo>
                    <a:pt x="191" y="881"/>
                  </a:lnTo>
                  <a:lnTo>
                    <a:pt x="243" y="855"/>
                  </a:lnTo>
                  <a:lnTo>
                    <a:pt x="298" y="822"/>
                  </a:lnTo>
                  <a:lnTo>
                    <a:pt x="348" y="784"/>
                  </a:lnTo>
                  <a:lnTo>
                    <a:pt x="400" y="740"/>
                  </a:lnTo>
                  <a:lnTo>
                    <a:pt x="445" y="692"/>
                  </a:lnTo>
                  <a:lnTo>
                    <a:pt x="495" y="643"/>
                  </a:lnTo>
                  <a:lnTo>
                    <a:pt x="535" y="586"/>
                  </a:lnTo>
                  <a:lnTo>
                    <a:pt x="574" y="532"/>
                  </a:lnTo>
                  <a:lnTo>
                    <a:pt x="613" y="471"/>
                  </a:lnTo>
                  <a:lnTo>
                    <a:pt x="643" y="407"/>
                  </a:lnTo>
                  <a:lnTo>
                    <a:pt x="671" y="347"/>
                  </a:lnTo>
                  <a:lnTo>
                    <a:pt x="698" y="281"/>
                  </a:lnTo>
                  <a:lnTo>
                    <a:pt x="714" y="218"/>
                  </a:lnTo>
                  <a:lnTo>
                    <a:pt x="731" y="150"/>
                  </a:lnTo>
                  <a:lnTo>
                    <a:pt x="742" y="84"/>
                  </a:lnTo>
                  <a:lnTo>
                    <a:pt x="749" y="23"/>
                  </a:lnTo>
                  <a:lnTo>
                    <a:pt x="748" y="0"/>
                  </a:lnTo>
                  <a:lnTo>
                    <a:pt x="736" y="84"/>
                  </a:lnTo>
                  <a:lnTo>
                    <a:pt x="720" y="144"/>
                  </a:lnTo>
                  <a:lnTo>
                    <a:pt x="698" y="203"/>
                  </a:lnTo>
                  <a:lnTo>
                    <a:pt x="670" y="260"/>
                  </a:lnTo>
                  <a:lnTo>
                    <a:pt x="637" y="316"/>
                  </a:lnTo>
                  <a:lnTo>
                    <a:pt x="597" y="377"/>
                  </a:lnTo>
                  <a:lnTo>
                    <a:pt x="554" y="432"/>
                  </a:lnTo>
                  <a:lnTo>
                    <a:pt x="506" y="480"/>
                  </a:lnTo>
                  <a:lnTo>
                    <a:pt x="453" y="533"/>
                  </a:lnTo>
                  <a:lnTo>
                    <a:pt x="396" y="580"/>
                  </a:lnTo>
                  <a:lnTo>
                    <a:pt x="340" y="621"/>
                  </a:lnTo>
                  <a:lnTo>
                    <a:pt x="280" y="659"/>
                  </a:lnTo>
                  <a:lnTo>
                    <a:pt x="219" y="692"/>
                  </a:lnTo>
                  <a:lnTo>
                    <a:pt x="155" y="721"/>
                  </a:lnTo>
                  <a:lnTo>
                    <a:pt x="153" y="631"/>
                  </a:lnTo>
                  <a:lnTo>
                    <a:pt x="0" y="866"/>
                  </a:lnTo>
                  <a:lnTo>
                    <a:pt x="158" y="987"/>
                  </a:lnTo>
                  <a:lnTo>
                    <a:pt x="158" y="901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ctangle 7"/>
            <p:cNvSpPr/>
            <p:nvPr/>
          </p:nvSpPr>
          <p:spPr>
            <a:xfrm>
              <a:off x="3276720" y="4981320"/>
              <a:ext cx="5333760" cy="1186200"/>
            </a:xfrm>
            <a:prstGeom prst="rect">
              <a:avLst/>
            </a:prstGeom>
            <a:solidFill>
              <a:srgbClr val="ccecff"/>
            </a:solidFill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LEV = SR(AH - SH)</a:t>
              </a:r>
              <a:br>
                <a:rPr sz="2400"/>
              </a:b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LEV = $12.00(1,550 hrs - 1,500 hrs)</a:t>
              </a:r>
              <a:br>
                <a:rPr sz="2400"/>
              </a:b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LEV = $600 unfavora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Group 3"/>
          <p:cNvGrpSpPr/>
          <p:nvPr/>
        </p:nvGrpSpPr>
        <p:grpSpPr>
          <a:xfrm>
            <a:off x="7790040" y="496800"/>
            <a:ext cx="1201680" cy="1407960"/>
            <a:chOff x="7790040" y="496800"/>
            <a:chExt cx="1201680" cy="1407960"/>
          </a:xfrm>
        </p:grpSpPr>
        <p:grpSp>
          <p:nvGrpSpPr>
            <p:cNvPr id="694" name="Group 4"/>
            <p:cNvGrpSpPr/>
            <p:nvPr/>
          </p:nvGrpSpPr>
          <p:grpSpPr>
            <a:xfrm>
              <a:off x="7790040" y="496800"/>
              <a:ext cx="1028880" cy="1407960"/>
              <a:chOff x="7790040" y="496800"/>
              <a:chExt cx="1028880" cy="1407960"/>
            </a:xfrm>
          </p:grpSpPr>
          <p:grpSp>
            <p:nvGrpSpPr>
              <p:cNvPr id="695" name="Group 5"/>
              <p:cNvGrpSpPr/>
              <p:nvPr/>
            </p:nvGrpSpPr>
            <p:grpSpPr>
              <a:xfrm>
                <a:off x="7790040" y="576360"/>
                <a:ext cx="138240" cy="1250640"/>
                <a:chOff x="7790040" y="576360"/>
                <a:chExt cx="138240" cy="1250640"/>
              </a:xfrm>
            </p:grpSpPr>
            <p:sp>
              <p:nvSpPr>
                <p:cNvPr id="696" name="Freeform 6"/>
                <p:cNvSpPr/>
                <p:nvPr/>
              </p:nvSpPr>
              <p:spPr>
                <a:xfrm>
                  <a:off x="7790040" y="576360"/>
                  <a:ext cx="138240" cy="1250640"/>
                </a:xfrm>
                <a:custGeom>
                  <a:avLst/>
                  <a:gdLst>
                    <a:gd name="textAreaLeft" fmla="*/ 0 w 138240"/>
                    <a:gd name="textAreaRight" fmla="*/ 138600 w 138240"/>
                    <a:gd name="textAreaTop" fmla="*/ 0 h 1250640"/>
                    <a:gd name="textAreaBottom" fmla="*/ 1251000 h 1250640"/>
                  </a:gdLst>
                  <a:ahLst/>
                  <a:rect l="textAreaLeft" t="textAreaTop" r="textAreaRight" b="textAreaBottom"/>
                  <a:pathLst>
                    <a:path w="261" h="2363">
                      <a:moveTo>
                        <a:pt x="111" y="0"/>
                      </a:moveTo>
                      <a:lnTo>
                        <a:pt x="0" y="262"/>
                      </a:lnTo>
                      <a:lnTo>
                        <a:pt x="0" y="2100"/>
                      </a:lnTo>
                      <a:lnTo>
                        <a:pt x="149" y="2363"/>
                      </a:lnTo>
                      <a:lnTo>
                        <a:pt x="261" y="2100"/>
                      </a:lnTo>
                      <a:lnTo>
                        <a:pt x="261" y="226"/>
                      </a:lnTo>
                      <a:lnTo>
                        <a:pt x="111" y="0"/>
                      </a:lnTo>
                      <a:close/>
                    </a:path>
                  </a:pathLst>
                </a:custGeom>
                <a:solidFill>
                  <a:srgbClr val="9f9fb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Freeform 7"/>
                <p:cNvSpPr/>
                <p:nvPr/>
              </p:nvSpPr>
              <p:spPr>
                <a:xfrm>
                  <a:off x="7790040" y="576360"/>
                  <a:ext cx="119160" cy="125064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250640"/>
                    <a:gd name="textAreaBottom" fmla="*/ 1251000 h 1250640"/>
                  </a:gdLst>
                  <a:ahLst/>
                  <a:rect l="textAreaLeft" t="textAreaTop" r="textAreaRight" b="textAreaBottom"/>
                  <a:pathLst>
                    <a:path w="225" h="2363">
                      <a:moveTo>
                        <a:pt x="111" y="0"/>
                      </a:moveTo>
                      <a:lnTo>
                        <a:pt x="185" y="112"/>
                      </a:lnTo>
                      <a:lnTo>
                        <a:pt x="111" y="262"/>
                      </a:lnTo>
                      <a:lnTo>
                        <a:pt x="111" y="1988"/>
                      </a:lnTo>
                      <a:lnTo>
                        <a:pt x="225" y="2213"/>
                      </a:lnTo>
                      <a:lnTo>
                        <a:pt x="149" y="2363"/>
                      </a:lnTo>
                      <a:lnTo>
                        <a:pt x="0" y="2100"/>
                      </a:lnTo>
                      <a:lnTo>
                        <a:pt x="0" y="262"/>
                      </a:lnTo>
                      <a:lnTo>
                        <a:pt x="111" y="0"/>
                      </a:lnTo>
                      <a:close/>
                    </a:path>
                  </a:pathLst>
                </a:custGeom>
                <a:solidFill>
                  <a:srgbClr val="bfbfd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8" name="Group 8"/>
              <p:cNvGrpSpPr/>
              <p:nvPr/>
            </p:nvGrpSpPr>
            <p:grpSpPr>
              <a:xfrm>
                <a:off x="7809120" y="496800"/>
                <a:ext cx="1009800" cy="1407960"/>
                <a:chOff x="7809120" y="496800"/>
                <a:chExt cx="1009800" cy="1407960"/>
              </a:xfrm>
            </p:grpSpPr>
            <p:sp>
              <p:nvSpPr>
                <p:cNvPr id="699" name="Freeform 9"/>
                <p:cNvSpPr/>
                <p:nvPr/>
              </p:nvSpPr>
              <p:spPr>
                <a:xfrm>
                  <a:off x="7809120" y="496800"/>
                  <a:ext cx="969840" cy="79560"/>
                </a:xfrm>
                <a:custGeom>
                  <a:avLst/>
                  <a:gdLst>
                    <a:gd name="textAreaLeft" fmla="*/ 0 w 969840"/>
                    <a:gd name="textAreaRight" fmla="*/ 970200 w 969840"/>
                    <a:gd name="textAreaTop" fmla="*/ 0 h 79560"/>
                    <a:gd name="textAreaBottom" fmla="*/ 79920 h 79560"/>
                  </a:gdLst>
                  <a:ahLst/>
                  <a:rect l="textAreaLeft" t="textAreaTop" r="textAreaRight" b="textAreaBottom"/>
                  <a:pathLst>
                    <a:path w="1834" h="149">
                      <a:moveTo>
                        <a:pt x="75" y="149"/>
                      </a:moveTo>
                      <a:lnTo>
                        <a:pt x="0" y="0"/>
                      </a:lnTo>
                      <a:lnTo>
                        <a:pt x="1834" y="0"/>
                      </a:lnTo>
                      <a:lnTo>
                        <a:pt x="1760" y="149"/>
                      </a:lnTo>
                      <a:lnTo>
                        <a:pt x="75" y="149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Freeform 10"/>
                <p:cNvSpPr/>
                <p:nvPr/>
              </p:nvSpPr>
              <p:spPr>
                <a:xfrm>
                  <a:off x="7829640" y="1827000"/>
                  <a:ext cx="970200" cy="77760"/>
                </a:xfrm>
                <a:custGeom>
                  <a:avLst/>
                  <a:gdLst>
                    <a:gd name="textAreaLeft" fmla="*/ 0 w 970200"/>
                    <a:gd name="textAreaRight" fmla="*/ 970560 w 970200"/>
                    <a:gd name="textAreaTop" fmla="*/ 0 h 77760"/>
                    <a:gd name="textAreaBottom" fmla="*/ 78120 h 77760"/>
                  </a:gdLst>
                  <a:ahLst/>
                  <a:rect l="textAreaLeft" t="textAreaTop" r="textAreaRight" b="textAreaBottom"/>
                  <a:pathLst>
                    <a:path w="1834" h="149">
                      <a:moveTo>
                        <a:pt x="75" y="0"/>
                      </a:moveTo>
                      <a:lnTo>
                        <a:pt x="1722" y="0"/>
                      </a:lnTo>
                      <a:lnTo>
                        <a:pt x="1834" y="113"/>
                      </a:lnTo>
                      <a:lnTo>
                        <a:pt x="1760" y="149"/>
                      </a:lnTo>
                      <a:lnTo>
                        <a:pt x="0" y="149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solidFill>
                  <a:srgbClr val="9f9fb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Freeform 11"/>
                <p:cNvSpPr/>
                <p:nvPr/>
              </p:nvSpPr>
              <p:spPr>
                <a:xfrm>
                  <a:off x="7848720" y="576360"/>
                  <a:ext cx="970200" cy="1250640"/>
                </a:xfrm>
                <a:custGeom>
                  <a:avLst/>
                  <a:gdLst>
                    <a:gd name="textAreaLeft" fmla="*/ 0 w 970200"/>
                    <a:gd name="textAreaRight" fmla="*/ 970560 w 970200"/>
                    <a:gd name="textAreaTop" fmla="*/ 0 h 1250640"/>
                    <a:gd name="textAreaBottom" fmla="*/ 1251000 h 1250640"/>
                  </a:gdLst>
                  <a:ahLst/>
                  <a:rect l="textAreaLeft" t="textAreaTop" r="textAreaRight" b="textAreaBottom"/>
                  <a:pathLst>
                    <a:path w="1834" h="2363">
                      <a:moveTo>
                        <a:pt x="38" y="2363"/>
                      </a:moveTo>
                      <a:lnTo>
                        <a:pt x="1685" y="2363"/>
                      </a:lnTo>
                      <a:lnTo>
                        <a:pt x="1834" y="2100"/>
                      </a:lnTo>
                      <a:lnTo>
                        <a:pt x="1834" y="226"/>
                      </a:lnTo>
                      <a:lnTo>
                        <a:pt x="1685" y="0"/>
                      </a:lnTo>
                      <a:lnTo>
                        <a:pt x="0" y="0"/>
                      </a:lnTo>
                      <a:lnTo>
                        <a:pt x="150" y="226"/>
                      </a:lnTo>
                      <a:lnTo>
                        <a:pt x="150" y="2100"/>
                      </a:lnTo>
                      <a:lnTo>
                        <a:pt x="38" y="2363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Rectangle 12"/>
                <p:cNvSpPr/>
                <p:nvPr/>
              </p:nvSpPr>
              <p:spPr>
                <a:xfrm>
                  <a:off x="7929720" y="974520"/>
                  <a:ext cx="887400" cy="254160"/>
                </a:xfrm>
                <a:prstGeom prst="rect">
                  <a:avLst/>
                </a:prstGeom>
                <a:solidFill>
                  <a:srgbClr val="ff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Freeform 13"/>
                <p:cNvSpPr/>
                <p:nvPr/>
              </p:nvSpPr>
              <p:spPr>
                <a:xfrm>
                  <a:off x="7869600" y="1687320"/>
                  <a:ext cx="949320" cy="139680"/>
                </a:xfrm>
                <a:custGeom>
                  <a:avLst/>
                  <a:gdLst>
                    <a:gd name="textAreaLeft" fmla="*/ 0 w 949320"/>
                    <a:gd name="textAreaRight" fmla="*/ 949680 w 949320"/>
                    <a:gd name="textAreaTop" fmla="*/ 0 h 139680"/>
                    <a:gd name="textAreaBottom" fmla="*/ 140040 h 139680"/>
                  </a:gdLst>
                  <a:ahLst/>
                  <a:rect l="textAreaLeft" t="textAreaTop" r="textAreaRight" b="textAreaBottom"/>
                  <a:pathLst>
                    <a:path w="1796" h="263">
                      <a:moveTo>
                        <a:pt x="112" y="0"/>
                      </a:moveTo>
                      <a:lnTo>
                        <a:pt x="0" y="263"/>
                      </a:lnTo>
                      <a:lnTo>
                        <a:pt x="1647" y="263"/>
                      </a:lnTo>
                      <a:lnTo>
                        <a:pt x="1796" y="0"/>
                      </a:lnTo>
                      <a:lnTo>
                        <a:pt x="112" y="0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04" name="Rectangle 14"/>
            <p:cNvSpPr/>
            <p:nvPr/>
          </p:nvSpPr>
          <p:spPr>
            <a:xfrm>
              <a:off x="8004240" y="922320"/>
              <a:ext cx="987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Zipp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Quick Check </a:t>
            </a:r>
            <a:r>
              <a:rPr b="0" lang="en-US" sz="4000" spc="-1" strike="noStrike">
                <a:solidFill>
                  <a:srgbClr val="464646"/>
                </a:solidFill>
                <a:latin typeface="Wingdings"/>
                <a:ea typeface="Wingdings"/>
              </a:rPr>
              <a:t>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6" name="Group 6"/>
          <p:cNvGrpSpPr/>
          <p:nvPr/>
        </p:nvGrpSpPr>
        <p:grpSpPr>
          <a:xfrm>
            <a:off x="917640" y="4800600"/>
            <a:ext cx="3882960" cy="1507680"/>
            <a:chOff x="917640" y="4800600"/>
            <a:chExt cx="3882960" cy="1507680"/>
          </a:xfrm>
        </p:grpSpPr>
        <p:sp>
          <p:nvSpPr>
            <p:cNvPr id="707" name="Freeform 7"/>
            <p:cNvSpPr/>
            <p:nvPr/>
          </p:nvSpPr>
          <p:spPr>
            <a:xfrm>
              <a:off x="1278000" y="4800600"/>
              <a:ext cx="3143160" cy="619200"/>
            </a:xfrm>
            <a:custGeom>
              <a:avLst/>
              <a:gdLst>
                <a:gd name="textAreaLeft" fmla="*/ 0 w 3143160"/>
                <a:gd name="textAreaRight" fmla="*/ 3143520 w 314316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1980" h="390">
                  <a:moveTo>
                    <a:pt x="1608" y="257"/>
                  </a:moveTo>
                  <a:lnTo>
                    <a:pt x="1645" y="255"/>
                  </a:lnTo>
                  <a:lnTo>
                    <a:pt x="1681" y="251"/>
                  </a:lnTo>
                  <a:lnTo>
                    <a:pt x="1718" y="244"/>
                  </a:lnTo>
                  <a:lnTo>
                    <a:pt x="1753" y="235"/>
                  </a:lnTo>
                  <a:lnTo>
                    <a:pt x="1787" y="224"/>
                  </a:lnTo>
                  <a:lnTo>
                    <a:pt x="1819" y="209"/>
                  </a:lnTo>
                  <a:lnTo>
                    <a:pt x="1849" y="194"/>
                  </a:lnTo>
                  <a:lnTo>
                    <a:pt x="1876" y="176"/>
                  </a:lnTo>
                  <a:lnTo>
                    <a:pt x="1900" y="156"/>
                  </a:lnTo>
                  <a:lnTo>
                    <a:pt x="1922" y="135"/>
                  </a:lnTo>
                  <a:lnTo>
                    <a:pt x="1940" y="112"/>
                  </a:lnTo>
                  <a:lnTo>
                    <a:pt x="1955" y="89"/>
                  </a:lnTo>
                  <a:lnTo>
                    <a:pt x="1966" y="64"/>
                  </a:lnTo>
                  <a:lnTo>
                    <a:pt x="1975" y="39"/>
                  </a:lnTo>
                  <a:lnTo>
                    <a:pt x="1978" y="13"/>
                  </a:lnTo>
                  <a:lnTo>
                    <a:pt x="1979" y="0"/>
                  </a:lnTo>
                  <a:lnTo>
                    <a:pt x="1978" y="21"/>
                  </a:lnTo>
                  <a:lnTo>
                    <a:pt x="1972" y="43"/>
                  </a:lnTo>
                  <a:lnTo>
                    <a:pt x="1961" y="64"/>
                  </a:lnTo>
                  <a:lnTo>
                    <a:pt x="1949" y="83"/>
                  </a:lnTo>
                  <a:lnTo>
                    <a:pt x="1933" y="102"/>
                  </a:lnTo>
                  <a:lnTo>
                    <a:pt x="1913" y="119"/>
                  </a:lnTo>
                  <a:lnTo>
                    <a:pt x="1891" y="134"/>
                  </a:lnTo>
                  <a:lnTo>
                    <a:pt x="1866" y="148"/>
                  </a:lnTo>
                  <a:lnTo>
                    <a:pt x="1839" y="159"/>
                  </a:lnTo>
                  <a:lnTo>
                    <a:pt x="1810" y="168"/>
                  </a:lnTo>
                  <a:lnTo>
                    <a:pt x="1781" y="174"/>
                  </a:lnTo>
                  <a:lnTo>
                    <a:pt x="1751" y="179"/>
                  </a:lnTo>
                  <a:lnTo>
                    <a:pt x="1719" y="180"/>
                  </a:lnTo>
                  <a:lnTo>
                    <a:pt x="1214" y="180"/>
                  </a:lnTo>
                  <a:lnTo>
                    <a:pt x="1185" y="182"/>
                  </a:lnTo>
                  <a:lnTo>
                    <a:pt x="1157" y="186"/>
                  </a:lnTo>
                  <a:lnTo>
                    <a:pt x="1129" y="193"/>
                  </a:lnTo>
                  <a:lnTo>
                    <a:pt x="1103" y="202"/>
                  </a:lnTo>
                  <a:lnTo>
                    <a:pt x="1080" y="213"/>
                  </a:lnTo>
                  <a:lnTo>
                    <a:pt x="1058" y="227"/>
                  </a:lnTo>
                  <a:lnTo>
                    <a:pt x="1038" y="242"/>
                  </a:lnTo>
                  <a:lnTo>
                    <a:pt x="1022" y="258"/>
                  </a:lnTo>
                  <a:lnTo>
                    <a:pt x="1010" y="276"/>
                  </a:lnTo>
                  <a:lnTo>
                    <a:pt x="1000" y="295"/>
                  </a:lnTo>
                  <a:lnTo>
                    <a:pt x="994" y="316"/>
                  </a:lnTo>
                  <a:lnTo>
                    <a:pt x="991" y="335"/>
                  </a:lnTo>
                  <a:lnTo>
                    <a:pt x="990" y="338"/>
                  </a:lnTo>
                  <a:lnTo>
                    <a:pt x="990" y="335"/>
                  </a:lnTo>
                  <a:lnTo>
                    <a:pt x="986" y="316"/>
                  </a:lnTo>
                  <a:lnTo>
                    <a:pt x="980" y="295"/>
                  </a:lnTo>
                  <a:lnTo>
                    <a:pt x="971" y="276"/>
                  </a:lnTo>
                  <a:lnTo>
                    <a:pt x="958" y="258"/>
                  </a:lnTo>
                  <a:lnTo>
                    <a:pt x="941" y="242"/>
                  </a:lnTo>
                  <a:lnTo>
                    <a:pt x="922" y="227"/>
                  </a:lnTo>
                  <a:lnTo>
                    <a:pt x="900" y="213"/>
                  </a:lnTo>
                  <a:lnTo>
                    <a:pt x="876" y="202"/>
                  </a:lnTo>
                  <a:lnTo>
                    <a:pt x="851" y="193"/>
                  </a:lnTo>
                  <a:lnTo>
                    <a:pt x="824" y="186"/>
                  </a:lnTo>
                  <a:lnTo>
                    <a:pt x="795" y="182"/>
                  </a:lnTo>
                  <a:lnTo>
                    <a:pt x="766" y="180"/>
                  </a:lnTo>
                  <a:lnTo>
                    <a:pt x="261" y="180"/>
                  </a:lnTo>
                  <a:lnTo>
                    <a:pt x="231" y="179"/>
                  </a:lnTo>
                  <a:lnTo>
                    <a:pt x="199" y="174"/>
                  </a:lnTo>
                  <a:lnTo>
                    <a:pt x="169" y="168"/>
                  </a:lnTo>
                  <a:lnTo>
                    <a:pt x="141" y="159"/>
                  </a:lnTo>
                  <a:lnTo>
                    <a:pt x="115" y="148"/>
                  </a:lnTo>
                  <a:lnTo>
                    <a:pt x="90" y="134"/>
                  </a:lnTo>
                  <a:lnTo>
                    <a:pt x="67" y="119"/>
                  </a:lnTo>
                  <a:lnTo>
                    <a:pt x="48" y="102"/>
                  </a:lnTo>
                  <a:lnTo>
                    <a:pt x="32" y="83"/>
                  </a:lnTo>
                  <a:lnTo>
                    <a:pt x="19" y="64"/>
                  </a:lnTo>
                  <a:lnTo>
                    <a:pt x="9" y="43"/>
                  </a:lnTo>
                  <a:lnTo>
                    <a:pt x="3" y="21"/>
                  </a:lnTo>
                  <a:lnTo>
                    <a:pt x="0" y="0"/>
                  </a:lnTo>
                  <a:lnTo>
                    <a:pt x="2" y="13"/>
                  </a:lnTo>
                  <a:lnTo>
                    <a:pt x="6" y="39"/>
                  </a:lnTo>
                  <a:lnTo>
                    <a:pt x="13" y="64"/>
                  </a:lnTo>
                  <a:lnTo>
                    <a:pt x="25" y="89"/>
                  </a:lnTo>
                  <a:lnTo>
                    <a:pt x="40" y="112"/>
                  </a:lnTo>
                  <a:lnTo>
                    <a:pt x="59" y="135"/>
                  </a:lnTo>
                  <a:lnTo>
                    <a:pt x="81" y="156"/>
                  </a:lnTo>
                  <a:lnTo>
                    <a:pt x="105" y="176"/>
                  </a:lnTo>
                  <a:lnTo>
                    <a:pt x="132" y="194"/>
                  </a:lnTo>
                  <a:lnTo>
                    <a:pt x="161" y="209"/>
                  </a:lnTo>
                  <a:lnTo>
                    <a:pt x="193" y="224"/>
                  </a:lnTo>
                  <a:lnTo>
                    <a:pt x="227" y="235"/>
                  </a:lnTo>
                  <a:lnTo>
                    <a:pt x="262" y="244"/>
                  </a:lnTo>
                  <a:lnTo>
                    <a:pt x="299" y="251"/>
                  </a:lnTo>
                  <a:lnTo>
                    <a:pt x="334" y="255"/>
                  </a:lnTo>
                  <a:lnTo>
                    <a:pt x="372" y="257"/>
                  </a:lnTo>
                  <a:lnTo>
                    <a:pt x="803" y="257"/>
                  </a:lnTo>
                  <a:lnTo>
                    <a:pt x="830" y="259"/>
                  </a:lnTo>
                  <a:lnTo>
                    <a:pt x="856" y="262"/>
                  </a:lnTo>
                  <a:lnTo>
                    <a:pt x="879" y="269"/>
                  </a:lnTo>
                  <a:lnTo>
                    <a:pt x="903" y="277"/>
                  </a:lnTo>
                  <a:lnTo>
                    <a:pt x="923" y="289"/>
                  </a:lnTo>
                  <a:lnTo>
                    <a:pt x="943" y="302"/>
                  </a:lnTo>
                  <a:lnTo>
                    <a:pt x="958" y="317"/>
                  </a:lnTo>
                  <a:lnTo>
                    <a:pt x="971" y="333"/>
                  </a:lnTo>
                  <a:lnTo>
                    <a:pt x="980" y="350"/>
                  </a:lnTo>
                  <a:lnTo>
                    <a:pt x="986" y="369"/>
                  </a:lnTo>
                  <a:lnTo>
                    <a:pt x="990" y="387"/>
                  </a:lnTo>
                  <a:lnTo>
                    <a:pt x="990" y="389"/>
                  </a:lnTo>
                  <a:lnTo>
                    <a:pt x="992" y="370"/>
                  </a:lnTo>
                  <a:lnTo>
                    <a:pt x="997" y="352"/>
                  </a:lnTo>
                  <a:lnTo>
                    <a:pt x="1007" y="335"/>
                  </a:lnTo>
                  <a:lnTo>
                    <a:pt x="1019" y="318"/>
                  </a:lnTo>
                  <a:lnTo>
                    <a:pt x="1035" y="304"/>
                  </a:lnTo>
                  <a:lnTo>
                    <a:pt x="1053" y="290"/>
                  </a:lnTo>
                  <a:lnTo>
                    <a:pt x="1073" y="279"/>
                  </a:lnTo>
                  <a:lnTo>
                    <a:pt x="1097" y="270"/>
                  </a:lnTo>
                  <a:lnTo>
                    <a:pt x="1120" y="263"/>
                  </a:lnTo>
                  <a:lnTo>
                    <a:pt x="1146" y="259"/>
                  </a:lnTo>
                  <a:lnTo>
                    <a:pt x="1172" y="257"/>
                  </a:lnTo>
                  <a:lnTo>
                    <a:pt x="1175" y="257"/>
                  </a:lnTo>
                  <a:lnTo>
                    <a:pt x="1608" y="257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Rectangle 8"/>
            <p:cNvSpPr/>
            <p:nvPr/>
          </p:nvSpPr>
          <p:spPr>
            <a:xfrm>
              <a:off x="917640" y="5487840"/>
              <a:ext cx="38829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Rate variance</a:t>
              </a:r>
              <a:br>
                <a:rPr sz="2400"/>
              </a:b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$310 unfavora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9" name="Group 9"/>
          <p:cNvGrpSpPr/>
          <p:nvPr/>
        </p:nvGrpSpPr>
        <p:grpSpPr>
          <a:xfrm>
            <a:off x="4365720" y="4800600"/>
            <a:ext cx="3882960" cy="1507680"/>
            <a:chOff x="4365720" y="4800600"/>
            <a:chExt cx="3882960" cy="1507680"/>
          </a:xfrm>
        </p:grpSpPr>
        <p:sp>
          <p:nvSpPr>
            <p:cNvPr id="710" name="Rectangle 10"/>
            <p:cNvSpPr/>
            <p:nvPr/>
          </p:nvSpPr>
          <p:spPr>
            <a:xfrm>
              <a:off x="4365720" y="5487840"/>
              <a:ext cx="38829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Efficiency variance</a:t>
              </a:r>
              <a:br>
                <a:rPr sz="2400"/>
              </a:b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$600 unfavora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11"/>
            <p:cNvSpPr/>
            <p:nvPr/>
          </p:nvSpPr>
          <p:spPr>
            <a:xfrm>
              <a:off x="4707000" y="4800600"/>
              <a:ext cx="3143160" cy="619200"/>
            </a:xfrm>
            <a:custGeom>
              <a:avLst/>
              <a:gdLst>
                <a:gd name="textAreaLeft" fmla="*/ 0 w 3143160"/>
                <a:gd name="textAreaRight" fmla="*/ 3143520 w 314316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1980" h="390">
                  <a:moveTo>
                    <a:pt x="1608" y="257"/>
                  </a:moveTo>
                  <a:lnTo>
                    <a:pt x="1645" y="255"/>
                  </a:lnTo>
                  <a:lnTo>
                    <a:pt x="1681" y="251"/>
                  </a:lnTo>
                  <a:lnTo>
                    <a:pt x="1718" y="244"/>
                  </a:lnTo>
                  <a:lnTo>
                    <a:pt x="1753" y="235"/>
                  </a:lnTo>
                  <a:lnTo>
                    <a:pt x="1787" y="224"/>
                  </a:lnTo>
                  <a:lnTo>
                    <a:pt x="1819" y="209"/>
                  </a:lnTo>
                  <a:lnTo>
                    <a:pt x="1849" y="194"/>
                  </a:lnTo>
                  <a:lnTo>
                    <a:pt x="1876" y="176"/>
                  </a:lnTo>
                  <a:lnTo>
                    <a:pt x="1900" y="156"/>
                  </a:lnTo>
                  <a:lnTo>
                    <a:pt x="1922" y="135"/>
                  </a:lnTo>
                  <a:lnTo>
                    <a:pt x="1940" y="112"/>
                  </a:lnTo>
                  <a:lnTo>
                    <a:pt x="1955" y="89"/>
                  </a:lnTo>
                  <a:lnTo>
                    <a:pt x="1966" y="64"/>
                  </a:lnTo>
                  <a:lnTo>
                    <a:pt x="1975" y="39"/>
                  </a:lnTo>
                  <a:lnTo>
                    <a:pt x="1978" y="13"/>
                  </a:lnTo>
                  <a:lnTo>
                    <a:pt x="1979" y="0"/>
                  </a:lnTo>
                  <a:lnTo>
                    <a:pt x="1978" y="21"/>
                  </a:lnTo>
                  <a:lnTo>
                    <a:pt x="1972" y="43"/>
                  </a:lnTo>
                  <a:lnTo>
                    <a:pt x="1961" y="64"/>
                  </a:lnTo>
                  <a:lnTo>
                    <a:pt x="1949" y="83"/>
                  </a:lnTo>
                  <a:lnTo>
                    <a:pt x="1933" y="102"/>
                  </a:lnTo>
                  <a:lnTo>
                    <a:pt x="1913" y="119"/>
                  </a:lnTo>
                  <a:lnTo>
                    <a:pt x="1891" y="134"/>
                  </a:lnTo>
                  <a:lnTo>
                    <a:pt x="1866" y="148"/>
                  </a:lnTo>
                  <a:lnTo>
                    <a:pt x="1839" y="159"/>
                  </a:lnTo>
                  <a:lnTo>
                    <a:pt x="1810" y="168"/>
                  </a:lnTo>
                  <a:lnTo>
                    <a:pt x="1781" y="174"/>
                  </a:lnTo>
                  <a:lnTo>
                    <a:pt x="1751" y="179"/>
                  </a:lnTo>
                  <a:lnTo>
                    <a:pt x="1719" y="180"/>
                  </a:lnTo>
                  <a:lnTo>
                    <a:pt x="1214" y="180"/>
                  </a:lnTo>
                  <a:lnTo>
                    <a:pt x="1185" y="182"/>
                  </a:lnTo>
                  <a:lnTo>
                    <a:pt x="1157" y="186"/>
                  </a:lnTo>
                  <a:lnTo>
                    <a:pt x="1129" y="193"/>
                  </a:lnTo>
                  <a:lnTo>
                    <a:pt x="1103" y="202"/>
                  </a:lnTo>
                  <a:lnTo>
                    <a:pt x="1080" y="213"/>
                  </a:lnTo>
                  <a:lnTo>
                    <a:pt x="1058" y="227"/>
                  </a:lnTo>
                  <a:lnTo>
                    <a:pt x="1038" y="242"/>
                  </a:lnTo>
                  <a:lnTo>
                    <a:pt x="1022" y="258"/>
                  </a:lnTo>
                  <a:lnTo>
                    <a:pt x="1010" y="276"/>
                  </a:lnTo>
                  <a:lnTo>
                    <a:pt x="1000" y="295"/>
                  </a:lnTo>
                  <a:lnTo>
                    <a:pt x="994" y="316"/>
                  </a:lnTo>
                  <a:lnTo>
                    <a:pt x="991" y="335"/>
                  </a:lnTo>
                  <a:lnTo>
                    <a:pt x="990" y="338"/>
                  </a:lnTo>
                  <a:lnTo>
                    <a:pt x="990" y="335"/>
                  </a:lnTo>
                  <a:lnTo>
                    <a:pt x="986" y="316"/>
                  </a:lnTo>
                  <a:lnTo>
                    <a:pt x="980" y="295"/>
                  </a:lnTo>
                  <a:lnTo>
                    <a:pt x="971" y="276"/>
                  </a:lnTo>
                  <a:lnTo>
                    <a:pt x="958" y="258"/>
                  </a:lnTo>
                  <a:lnTo>
                    <a:pt x="941" y="242"/>
                  </a:lnTo>
                  <a:lnTo>
                    <a:pt x="922" y="227"/>
                  </a:lnTo>
                  <a:lnTo>
                    <a:pt x="900" y="213"/>
                  </a:lnTo>
                  <a:lnTo>
                    <a:pt x="876" y="202"/>
                  </a:lnTo>
                  <a:lnTo>
                    <a:pt x="851" y="193"/>
                  </a:lnTo>
                  <a:lnTo>
                    <a:pt x="824" y="186"/>
                  </a:lnTo>
                  <a:lnTo>
                    <a:pt x="795" y="182"/>
                  </a:lnTo>
                  <a:lnTo>
                    <a:pt x="766" y="180"/>
                  </a:lnTo>
                  <a:lnTo>
                    <a:pt x="261" y="180"/>
                  </a:lnTo>
                  <a:lnTo>
                    <a:pt x="231" y="179"/>
                  </a:lnTo>
                  <a:lnTo>
                    <a:pt x="199" y="174"/>
                  </a:lnTo>
                  <a:lnTo>
                    <a:pt x="169" y="168"/>
                  </a:lnTo>
                  <a:lnTo>
                    <a:pt x="141" y="159"/>
                  </a:lnTo>
                  <a:lnTo>
                    <a:pt x="115" y="148"/>
                  </a:lnTo>
                  <a:lnTo>
                    <a:pt x="90" y="134"/>
                  </a:lnTo>
                  <a:lnTo>
                    <a:pt x="67" y="119"/>
                  </a:lnTo>
                  <a:lnTo>
                    <a:pt x="48" y="102"/>
                  </a:lnTo>
                  <a:lnTo>
                    <a:pt x="32" y="83"/>
                  </a:lnTo>
                  <a:lnTo>
                    <a:pt x="19" y="64"/>
                  </a:lnTo>
                  <a:lnTo>
                    <a:pt x="9" y="43"/>
                  </a:lnTo>
                  <a:lnTo>
                    <a:pt x="3" y="21"/>
                  </a:lnTo>
                  <a:lnTo>
                    <a:pt x="0" y="0"/>
                  </a:lnTo>
                  <a:lnTo>
                    <a:pt x="2" y="13"/>
                  </a:lnTo>
                  <a:lnTo>
                    <a:pt x="6" y="39"/>
                  </a:lnTo>
                  <a:lnTo>
                    <a:pt x="13" y="64"/>
                  </a:lnTo>
                  <a:lnTo>
                    <a:pt x="25" y="89"/>
                  </a:lnTo>
                  <a:lnTo>
                    <a:pt x="40" y="112"/>
                  </a:lnTo>
                  <a:lnTo>
                    <a:pt x="59" y="135"/>
                  </a:lnTo>
                  <a:lnTo>
                    <a:pt x="81" y="156"/>
                  </a:lnTo>
                  <a:lnTo>
                    <a:pt x="105" y="176"/>
                  </a:lnTo>
                  <a:lnTo>
                    <a:pt x="132" y="194"/>
                  </a:lnTo>
                  <a:lnTo>
                    <a:pt x="161" y="209"/>
                  </a:lnTo>
                  <a:lnTo>
                    <a:pt x="193" y="224"/>
                  </a:lnTo>
                  <a:lnTo>
                    <a:pt x="227" y="235"/>
                  </a:lnTo>
                  <a:lnTo>
                    <a:pt x="262" y="244"/>
                  </a:lnTo>
                  <a:lnTo>
                    <a:pt x="299" y="251"/>
                  </a:lnTo>
                  <a:lnTo>
                    <a:pt x="334" y="255"/>
                  </a:lnTo>
                  <a:lnTo>
                    <a:pt x="372" y="257"/>
                  </a:lnTo>
                  <a:lnTo>
                    <a:pt x="803" y="257"/>
                  </a:lnTo>
                  <a:lnTo>
                    <a:pt x="830" y="259"/>
                  </a:lnTo>
                  <a:lnTo>
                    <a:pt x="856" y="262"/>
                  </a:lnTo>
                  <a:lnTo>
                    <a:pt x="879" y="269"/>
                  </a:lnTo>
                  <a:lnTo>
                    <a:pt x="903" y="277"/>
                  </a:lnTo>
                  <a:lnTo>
                    <a:pt x="923" y="289"/>
                  </a:lnTo>
                  <a:lnTo>
                    <a:pt x="943" y="302"/>
                  </a:lnTo>
                  <a:lnTo>
                    <a:pt x="958" y="317"/>
                  </a:lnTo>
                  <a:lnTo>
                    <a:pt x="971" y="333"/>
                  </a:lnTo>
                  <a:lnTo>
                    <a:pt x="980" y="350"/>
                  </a:lnTo>
                  <a:lnTo>
                    <a:pt x="986" y="369"/>
                  </a:lnTo>
                  <a:lnTo>
                    <a:pt x="990" y="387"/>
                  </a:lnTo>
                  <a:lnTo>
                    <a:pt x="990" y="389"/>
                  </a:lnTo>
                  <a:lnTo>
                    <a:pt x="992" y="370"/>
                  </a:lnTo>
                  <a:lnTo>
                    <a:pt x="997" y="352"/>
                  </a:lnTo>
                  <a:lnTo>
                    <a:pt x="1007" y="335"/>
                  </a:lnTo>
                  <a:lnTo>
                    <a:pt x="1019" y="318"/>
                  </a:lnTo>
                  <a:lnTo>
                    <a:pt x="1035" y="304"/>
                  </a:lnTo>
                  <a:lnTo>
                    <a:pt x="1053" y="290"/>
                  </a:lnTo>
                  <a:lnTo>
                    <a:pt x="1073" y="279"/>
                  </a:lnTo>
                  <a:lnTo>
                    <a:pt x="1097" y="270"/>
                  </a:lnTo>
                  <a:lnTo>
                    <a:pt x="1120" y="263"/>
                  </a:lnTo>
                  <a:lnTo>
                    <a:pt x="1146" y="259"/>
                  </a:lnTo>
                  <a:lnTo>
                    <a:pt x="1172" y="257"/>
                  </a:lnTo>
                  <a:lnTo>
                    <a:pt x="1175" y="257"/>
                  </a:lnTo>
                  <a:lnTo>
                    <a:pt x="1608" y="257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2" name="Rectangle 12"/>
          <p:cNvSpPr/>
          <p:nvPr/>
        </p:nvSpPr>
        <p:spPr>
          <a:xfrm>
            <a:off x="230040" y="3049560"/>
            <a:ext cx="8607600" cy="174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464646"/>
                </a:solidFill>
                <a:latin typeface="Arial"/>
              </a:rPr>
              <a:t>1,550 hours                 1,550 hours                 1,500 hours</a:t>
            </a:r>
            <a:br>
              <a:rPr sz="2400"/>
            </a:br>
            <a:r>
              <a:rPr b="0" lang="en-US" sz="2400" spc="-1" strike="noStrike">
                <a:solidFill>
                  <a:srgbClr val="464646"/>
                </a:solidFill>
                <a:latin typeface="Arial"/>
              </a:rPr>
              <a:t>             ×                                 ×                                 ×</a:t>
            </a:r>
            <a:br>
              <a:rPr sz="2400"/>
            </a:br>
            <a:r>
              <a:rPr b="0" lang="en-US" sz="2400" spc="-1" strike="noStrike">
                <a:solidFill>
                  <a:srgbClr val="464646"/>
                </a:solidFill>
                <a:latin typeface="Arial"/>
              </a:rPr>
              <a:t>  $12.20 per hour          $12.00 per hour           $12.00 per h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 $18,910                     = $18,600                     = $18,000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3" name="Group 3"/>
          <p:cNvGrpSpPr/>
          <p:nvPr/>
        </p:nvGrpSpPr>
        <p:grpSpPr>
          <a:xfrm>
            <a:off x="7790040" y="496800"/>
            <a:ext cx="1201680" cy="1407960"/>
            <a:chOff x="7790040" y="496800"/>
            <a:chExt cx="1201680" cy="1407960"/>
          </a:xfrm>
        </p:grpSpPr>
        <p:grpSp>
          <p:nvGrpSpPr>
            <p:cNvPr id="714" name="Group 4"/>
            <p:cNvGrpSpPr/>
            <p:nvPr/>
          </p:nvGrpSpPr>
          <p:grpSpPr>
            <a:xfrm>
              <a:off x="7790040" y="496800"/>
              <a:ext cx="1028880" cy="1407960"/>
              <a:chOff x="7790040" y="496800"/>
              <a:chExt cx="1028880" cy="1407960"/>
            </a:xfrm>
          </p:grpSpPr>
          <p:grpSp>
            <p:nvGrpSpPr>
              <p:cNvPr id="715" name="Group 5"/>
              <p:cNvGrpSpPr/>
              <p:nvPr/>
            </p:nvGrpSpPr>
            <p:grpSpPr>
              <a:xfrm>
                <a:off x="7790040" y="576360"/>
                <a:ext cx="138240" cy="1250640"/>
                <a:chOff x="7790040" y="576360"/>
                <a:chExt cx="138240" cy="1250640"/>
              </a:xfrm>
            </p:grpSpPr>
            <p:sp>
              <p:nvSpPr>
                <p:cNvPr id="716" name="Freeform 6"/>
                <p:cNvSpPr/>
                <p:nvPr/>
              </p:nvSpPr>
              <p:spPr>
                <a:xfrm>
                  <a:off x="7790040" y="576360"/>
                  <a:ext cx="138240" cy="1250640"/>
                </a:xfrm>
                <a:custGeom>
                  <a:avLst/>
                  <a:gdLst>
                    <a:gd name="textAreaLeft" fmla="*/ 0 w 138240"/>
                    <a:gd name="textAreaRight" fmla="*/ 138600 w 138240"/>
                    <a:gd name="textAreaTop" fmla="*/ 0 h 1250640"/>
                    <a:gd name="textAreaBottom" fmla="*/ 1251000 h 1250640"/>
                  </a:gdLst>
                  <a:ahLst/>
                  <a:rect l="textAreaLeft" t="textAreaTop" r="textAreaRight" b="textAreaBottom"/>
                  <a:pathLst>
                    <a:path w="261" h="2363">
                      <a:moveTo>
                        <a:pt x="111" y="0"/>
                      </a:moveTo>
                      <a:lnTo>
                        <a:pt x="0" y="262"/>
                      </a:lnTo>
                      <a:lnTo>
                        <a:pt x="0" y="2100"/>
                      </a:lnTo>
                      <a:lnTo>
                        <a:pt x="149" y="2363"/>
                      </a:lnTo>
                      <a:lnTo>
                        <a:pt x="261" y="2100"/>
                      </a:lnTo>
                      <a:lnTo>
                        <a:pt x="261" y="226"/>
                      </a:lnTo>
                      <a:lnTo>
                        <a:pt x="111" y="0"/>
                      </a:lnTo>
                      <a:close/>
                    </a:path>
                  </a:pathLst>
                </a:custGeom>
                <a:solidFill>
                  <a:srgbClr val="9f9fb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Freeform 7"/>
                <p:cNvSpPr/>
                <p:nvPr/>
              </p:nvSpPr>
              <p:spPr>
                <a:xfrm>
                  <a:off x="7790040" y="576360"/>
                  <a:ext cx="119160" cy="125064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250640"/>
                    <a:gd name="textAreaBottom" fmla="*/ 1251000 h 1250640"/>
                  </a:gdLst>
                  <a:ahLst/>
                  <a:rect l="textAreaLeft" t="textAreaTop" r="textAreaRight" b="textAreaBottom"/>
                  <a:pathLst>
                    <a:path w="225" h="2363">
                      <a:moveTo>
                        <a:pt x="111" y="0"/>
                      </a:moveTo>
                      <a:lnTo>
                        <a:pt x="185" y="112"/>
                      </a:lnTo>
                      <a:lnTo>
                        <a:pt x="111" y="262"/>
                      </a:lnTo>
                      <a:lnTo>
                        <a:pt x="111" y="1988"/>
                      </a:lnTo>
                      <a:lnTo>
                        <a:pt x="225" y="2213"/>
                      </a:lnTo>
                      <a:lnTo>
                        <a:pt x="149" y="2363"/>
                      </a:lnTo>
                      <a:lnTo>
                        <a:pt x="0" y="2100"/>
                      </a:lnTo>
                      <a:lnTo>
                        <a:pt x="0" y="262"/>
                      </a:lnTo>
                      <a:lnTo>
                        <a:pt x="111" y="0"/>
                      </a:lnTo>
                      <a:close/>
                    </a:path>
                  </a:pathLst>
                </a:custGeom>
                <a:solidFill>
                  <a:srgbClr val="bfbfd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8" name="Group 8"/>
              <p:cNvGrpSpPr/>
              <p:nvPr/>
            </p:nvGrpSpPr>
            <p:grpSpPr>
              <a:xfrm>
                <a:off x="7809120" y="496800"/>
                <a:ext cx="1009800" cy="1407960"/>
                <a:chOff x="7809120" y="496800"/>
                <a:chExt cx="1009800" cy="1407960"/>
              </a:xfrm>
            </p:grpSpPr>
            <p:sp>
              <p:nvSpPr>
                <p:cNvPr id="719" name="Freeform 9"/>
                <p:cNvSpPr/>
                <p:nvPr/>
              </p:nvSpPr>
              <p:spPr>
                <a:xfrm>
                  <a:off x="7809120" y="496800"/>
                  <a:ext cx="969840" cy="79560"/>
                </a:xfrm>
                <a:custGeom>
                  <a:avLst/>
                  <a:gdLst>
                    <a:gd name="textAreaLeft" fmla="*/ 0 w 969840"/>
                    <a:gd name="textAreaRight" fmla="*/ 970200 w 969840"/>
                    <a:gd name="textAreaTop" fmla="*/ 0 h 79560"/>
                    <a:gd name="textAreaBottom" fmla="*/ 79920 h 79560"/>
                  </a:gdLst>
                  <a:ahLst/>
                  <a:rect l="textAreaLeft" t="textAreaTop" r="textAreaRight" b="textAreaBottom"/>
                  <a:pathLst>
                    <a:path w="1834" h="149">
                      <a:moveTo>
                        <a:pt x="75" y="149"/>
                      </a:moveTo>
                      <a:lnTo>
                        <a:pt x="0" y="0"/>
                      </a:lnTo>
                      <a:lnTo>
                        <a:pt x="1834" y="0"/>
                      </a:lnTo>
                      <a:lnTo>
                        <a:pt x="1760" y="149"/>
                      </a:lnTo>
                      <a:lnTo>
                        <a:pt x="75" y="149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Freeform 10"/>
                <p:cNvSpPr/>
                <p:nvPr/>
              </p:nvSpPr>
              <p:spPr>
                <a:xfrm>
                  <a:off x="7829640" y="1827000"/>
                  <a:ext cx="970200" cy="77760"/>
                </a:xfrm>
                <a:custGeom>
                  <a:avLst/>
                  <a:gdLst>
                    <a:gd name="textAreaLeft" fmla="*/ 0 w 970200"/>
                    <a:gd name="textAreaRight" fmla="*/ 970560 w 970200"/>
                    <a:gd name="textAreaTop" fmla="*/ 0 h 77760"/>
                    <a:gd name="textAreaBottom" fmla="*/ 78120 h 77760"/>
                  </a:gdLst>
                  <a:ahLst/>
                  <a:rect l="textAreaLeft" t="textAreaTop" r="textAreaRight" b="textAreaBottom"/>
                  <a:pathLst>
                    <a:path w="1834" h="149">
                      <a:moveTo>
                        <a:pt x="75" y="0"/>
                      </a:moveTo>
                      <a:lnTo>
                        <a:pt x="1722" y="0"/>
                      </a:lnTo>
                      <a:lnTo>
                        <a:pt x="1834" y="113"/>
                      </a:lnTo>
                      <a:lnTo>
                        <a:pt x="1760" y="149"/>
                      </a:lnTo>
                      <a:lnTo>
                        <a:pt x="0" y="149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solidFill>
                  <a:srgbClr val="9f9fb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Freeform 11"/>
                <p:cNvSpPr/>
                <p:nvPr/>
              </p:nvSpPr>
              <p:spPr>
                <a:xfrm>
                  <a:off x="7848720" y="576360"/>
                  <a:ext cx="970200" cy="1250640"/>
                </a:xfrm>
                <a:custGeom>
                  <a:avLst/>
                  <a:gdLst>
                    <a:gd name="textAreaLeft" fmla="*/ 0 w 970200"/>
                    <a:gd name="textAreaRight" fmla="*/ 970560 w 970200"/>
                    <a:gd name="textAreaTop" fmla="*/ 0 h 1250640"/>
                    <a:gd name="textAreaBottom" fmla="*/ 1251000 h 1250640"/>
                  </a:gdLst>
                  <a:ahLst/>
                  <a:rect l="textAreaLeft" t="textAreaTop" r="textAreaRight" b="textAreaBottom"/>
                  <a:pathLst>
                    <a:path w="1834" h="2363">
                      <a:moveTo>
                        <a:pt x="38" y="2363"/>
                      </a:moveTo>
                      <a:lnTo>
                        <a:pt x="1685" y="2363"/>
                      </a:lnTo>
                      <a:lnTo>
                        <a:pt x="1834" y="2100"/>
                      </a:lnTo>
                      <a:lnTo>
                        <a:pt x="1834" y="226"/>
                      </a:lnTo>
                      <a:lnTo>
                        <a:pt x="1685" y="0"/>
                      </a:lnTo>
                      <a:lnTo>
                        <a:pt x="0" y="0"/>
                      </a:lnTo>
                      <a:lnTo>
                        <a:pt x="150" y="226"/>
                      </a:lnTo>
                      <a:lnTo>
                        <a:pt x="150" y="2100"/>
                      </a:lnTo>
                      <a:lnTo>
                        <a:pt x="38" y="2363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Rectangle 12"/>
                <p:cNvSpPr/>
                <p:nvPr/>
              </p:nvSpPr>
              <p:spPr>
                <a:xfrm>
                  <a:off x="7929720" y="974520"/>
                  <a:ext cx="887400" cy="254160"/>
                </a:xfrm>
                <a:prstGeom prst="rect">
                  <a:avLst/>
                </a:prstGeom>
                <a:solidFill>
                  <a:srgbClr val="ff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Freeform 13"/>
                <p:cNvSpPr/>
                <p:nvPr/>
              </p:nvSpPr>
              <p:spPr>
                <a:xfrm>
                  <a:off x="7869600" y="1687320"/>
                  <a:ext cx="949320" cy="139680"/>
                </a:xfrm>
                <a:custGeom>
                  <a:avLst/>
                  <a:gdLst>
                    <a:gd name="textAreaLeft" fmla="*/ 0 w 949320"/>
                    <a:gd name="textAreaRight" fmla="*/ 949680 w 949320"/>
                    <a:gd name="textAreaTop" fmla="*/ 0 h 139680"/>
                    <a:gd name="textAreaBottom" fmla="*/ 140040 h 139680"/>
                  </a:gdLst>
                  <a:ahLst/>
                  <a:rect l="textAreaLeft" t="textAreaTop" r="textAreaRight" b="textAreaBottom"/>
                  <a:pathLst>
                    <a:path w="1796" h="263">
                      <a:moveTo>
                        <a:pt x="112" y="0"/>
                      </a:moveTo>
                      <a:lnTo>
                        <a:pt x="0" y="263"/>
                      </a:lnTo>
                      <a:lnTo>
                        <a:pt x="1647" y="263"/>
                      </a:lnTo>
                      <a:lnTo>
                        <a:pt x="1796" y="0"/>
                      </a:lnTo>
                      <a:lnTo>
                        <a:pt x="112" y="0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24" name="Rectangle 14"/>
            <p:cNvSpPr/>
            <p:nvPr/>
          </p:nvSpPr>
          <p:spPr>
            <a:xfrm>
              <a:off x="8004240" y="922320"/>
              <a:ext cx="987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Zipp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Quick Check </a:t>
            </a:r>
            <a:r>
              <a:rPr b="0" lang="en-US" sz="4000" spc="-1" strike="noStrike">
                <a:solidFill>
                  <a:srgbClr val="464646"/>
                </a:solidFill>
                <a:latin typeface="Wingdings"/>
                <a:ea typeface="Wingdings"/>
              </a:rPr>
              <a:t>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26" name="Rectangle 9"/>
          <p:cNvSpPr/>
          <p:nvPr/>
        </p:nvSpPr>
        <p:spPr>
          <a:xfrm>
            <a:off x="266760" y="1995480"/>
            <a:ext cx="8759880" cy="9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Actual Hours            Actual Hours</a:t>
            </a: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      Standard Hours</a:t>
            </a:r>
            <a:br>
              <a:rPr sz="2400"/>
            </a:b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            ×                               ×                                 × </a:t>
            </a:r>
            <a:br>
              <a:rPr sz="2400"/>
            </a:b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    Actual Rate             Standard Rate           Standard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10"/>
          <p:cNvSpPr/>
          <p:nvPr/>
        </p:nvSpPr>
        <p:spPr>
          <a:xfrm>
            <a:off x="455760" y="2908440"/>
            <a:ext cx="2193840" cy="0"/>
          </a:xfrm>
          <a:prstGeom prst="line">
            <a:avLst/>
          </a:prstGeom>
          <a:ln w="28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11"/>
          <p:cNvSpPr/>
          <p:nvPr/>
        </p:nvSpPr>
        <p:spPr>
          <a:xfrm>
            <a:off x="3402000" y="2908440"/>
            <a:ext cx="2193840" cy="0"/>
          </a:xfrm>
          <a:prstGeom prst="line">
            <a:avLst/>
          </a:prstGeom>
          <a:ln w="28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12"/>
          <p:cNvSpPr/>
          <p:nvPr/>
        </p:nvSpPr>
        <p:spPr>
          <a:xfrm>
            <a:off x="6416640" y="2908440"/>
            <a:ext cx="2193840" cy="0"/>
          </a:xfrm>
          <a:prstGeom prst="line">
            <a:avLst/>
          </a:prstGeom>
          <a:ln w="28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Learning Objective 3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31" name="Text Box 13"/>
          <p:cNvSpPr/>
          <p:nvPr/>
        </p:nvSpPr>
        <p:spPr>
          <a:xfrm>
            <a:off x="1905120" y="2462040"/>
            <a:ext cx="5333760" cy="2682360"/>
          </a:xfrm>
          <a:prstGeom prst="rect">
            <a:avLst/>
          </a:prstGeom>
          <a:solidFill>
            <a:srgbClr val="ffffff"/>
          </a:solidFill>
          <a:ln w="76320">
            <a:solidFill>
              <a:srgbClr val="3f1e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5e2d37"/>
                </a:solidFill>
                <a:latin typeface="Arial"/>
                <a:ea typeface="Times New Roman"/>
              </a:rPr>
              <a:t>Compute the variable manufacturing overhead rate and efficiency  variances and explain their significanc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/>
          </p:nvPr>
        </p:nvSpPr>
        <p:spPr>
          <a:xfrm>
            <a:off x="228600" y="182844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65040" indent="0" algn="ctr">
              <a:lnSpc>
                <a:spcPct val="90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lacier Peak Outfitters has the following direct variable manufacturing overhead labor standard for its mountain park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ctr">
              <a:lnSpc>
                <a:spcPct val="90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1.2 standard hours per parka at $4.00 per h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ctr">
              <a:lnSpc>
                <a:spcPct val="90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1f28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st month, employees actually worked 2,500 hours to make 2,000 parkas.  Actual variable manufacturing overhead for the month was $10,500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Variable Manufacturing Overhead Variances – An  Example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graphicFrame>
        <p:nvGraphicFramePr>
          <p:cNvPr id="734" name="Object 2"/>
          <p:cNvGraphicFramePr/>
          <p:nvPr/>
        </p:nvGraphicFramePr>
        <p:xfrm>
          <a:off x="7162920" y="5689440"/>
          <a:ext cx="160020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689440"/>
                    <a:ext cx="160020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2"/>
          <p:cNvSpPr/>
          <p:nvPr/>
        </p:nvSpPr>
        <p:spPr>
          <a:xfrm>
            <a:off x="266760" y="2668680"/>
            <a:ext cx="8607240" cy="174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464646"/>
                </a:solidFill>
                <a:latin typeface="Arial"/>
              </a:rPr>
              <a:t>2,500 hours                 2,500 hours                  2,400 hours</a:t>
            </a:r>
            <a:br>
              <a:rPr sz="2400"/>
            </a:br>
            <a:r>
              <a:rPr b="0" lang="en-US" sz="2400" spc="-1" strike="noStrike">
                <a:solidFill>
                  <a:srgbClr val="464646"/>
                </a:solidFill>
                <a:latin typeface="Arial"/>
              </a:rPr>
              <a:t>           ×                                 ×                                  ×</a:t>
            </a:r>
            <a:br>
              <a:rPr sz="2400"/>
            </a:br>
            <a:r>
              <a:rPr b="0" lang="en-US" sz="2400" spc="-1" strike="noStrike">
                <a:solidFill>
                  <a:srgbClr val="464646"/>
                </a:solidFill>
                <a:latin typeface="Arial"/>
              </a:rPr>
              <a:t> $4.20 per hour            $4.00 per hour              $4.00 per h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 $10,500                    = $10,000                      = $9,600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Group 3"/>
          <p:cNvGrpSpPr/>
          <p:nvPr/>
        </p:nvGrpSpPr>
        <p:grpSpPr>
          <a:xfrm>
            <a:off x="876240" y="4341960"/>
            <a:ext cx="3882960" cy="1507680"/>
            <a:chOff x="876240" y="4341960"/>
            <a:chExt cx="3882960" cy="1507680"/>
          </a:xfrm>
        </p:grpSpPr>
        <p:sp>
          <p:nvSpPr>
            <p:cNvPr id="738" name="Freeform 4"/>
            <p:cNvSpPr/>
            <p:nvPr/>
          </p:nvSpPr>
          <p:spPr>
            <a:xfrm>
              <a:off x="1235160" y="4341960"/>
              <a:ext cx="3143160" cy="618840"/>
            </a:xfrm>
            <a:custGeom>
              <a:avLst/>
              <a:gdLst>
                <a:gd name="textAreaLeft" fmla="*/ 0 w 3143160"/>
                <a:gd name="textAreaRight" fmla="*/ 3143520 w 3143160"/>
                <a:gd name="textAreaTop" fmla="*/ 0 h 618840"/>
                <a:gd name="textAreaBottom" fmla="*/ 619200 h 618840"/>
              </a:gdLst>
              <a:ahLst/>
              <a:rect l="textAreaLeft" t="textAreaTop" r="textAreaRight" b="textAreaBottom"/>
              <a:pathLst>
                <a:path w="1980" h="390">
                  <a:moveTo>
                    <a:pt x="1608" y="257"/>
                  </a:moveTo>
                  <a:lnTo>
                    <a:pt x="1645" y="255"/>
                  </a:lnTo>
                  <a:lnTo>
                    <a:pt x="1681" y="251"/>
                  </a:lnTo>
                  <a:lnTo>
                    <a:pt x="1718" y="244"/>
                  </a:lnTo>
                  <a:lnTo>
                    <a:pt x="1753" y="235"/>
                  </a:lnTo>
                  <a:lnTo>
                    <a:pt x="1787" y="224"/>
                  </a:lnTo>
                  <a:lnTo>
                    <a:pt x="1819" y="209"/>
                  </a:lnTo>
                  <a:lnTo>
                    <a:pt x="1849" y="194"/>
                  </a:lnTo>
                  <a:lnTo>
                    <a:pt x="1876" y="176"/>
                  </a:lnTo>
                  <a:lnTo>
                    <a:pt x="1900" y="156"/>
                  </a:lnTo>
                  <a:lnTo>
                    <a:pt x="1922" y="135"/>
                  </a:lnTo>
                  <a:lnTo>
                    <a:pt x="1940" y="112"/>
                  </a:lnTo>
                  <a:lnTo>
                    <a:pt x="1955" y="89"/>
                  </a:lnTo>
                  <a:lnTo>
                    <a:pt x="1966" y="64"/>
                  </a:lnTo>
                  <a:lnTo>
                    <a:pt x="1975" y="39"/>
                  </a:lnTo>
                  <a:lnTo>
                    <a:pt x="1978" y="13"/>
                  </a:lnTo>
                  <a:lnTo>
                    <a:pt x="1979" y="0"/>
                  </a:lnTo>
                  <a:lnTo>
                    <a:pt x="1978" y="21"/>
                  </a:lnTo>
                  <a:lnTo>
                    <a:pt x="1972" y="43"/>
                  </a:lnTo>
                  <a:lnTo>
                    <a:pt x="1961" y="64"/>
                  </a:lnTo>
                  <a:lnTo>
                    <a:pt x="1949" y="83"/>
                  </a:lnTo>
                  <a:lnTo>
                    <a:pt x="1933" y="102"/>
                  </a:lnTo>
                  <a:lnTo>
                    <a:pt x="1913" y="119"/>
                  </a:lnTo>
                  <a:lnTo>
                    <a:pt x="1891" y="134"/>
                  </a:lnTo>
                  <a:lnTo>
                    <a:pt x="1866" y="148"/>
                  </a:lnTo>
                  <a:lnTo>
                    <a:pt x="1839" y="159"/>
                  </a:lnTo>
                  <a:lnTo>
                    <a:pt x="1810" y="168"/>
                  </a:lnTo>
                  <a:lnTo>
                    <a:pt x="1781" y="174"/>
                  </a:lnTo>
                  <a:lnTo>
                    <a:pt x="1751" y="179"/>
                  </a:lnTo>
                  <a:lnTo>
                    <a:pt x="1719" y="180"/>
                  </a:lnTo>
                  <a:lnTo>
                    <a:pt x="1214" y="180"/>
                  </a:lnTo>
                  <a:lnTo>
                    <a:pt x="1185" y="182"/>
                  </a:lnTo>
                  <a:lnTo>
                    <a:pt x="1157" y="186"/>
                  </a:lnTo>
                  <a:lnTo>
                    <a:pt x="1129" y="193"/>
                  </a:lnTo>
                  <a:lnTo>
                    <a:pt x="1103" y="202"/>
                  </a:lnTo>
                  <a:lnTo>
                    <a:pt x="1080" y="213"/>
                  </a:lnTo>
                  <a:lnTo>
                    <a:pt x="1058" y="227"/>
                  </a:lnTo>
                  <a:lnTo>
                    <a:pt x="1038" y="242"/>
                  </a:lnTo>
                  <a:lnTo>
                    <a:pt x="1022" y="258"/>
                  </a:lnTo>
                  <a:lnTo>
                    <a:pt x="1010" y="276"/>
                  </a:lnTo>
                  <a:lnTo>
                    <a:pt x="1000" y="295"/>
                  </a:lnTo>
                  <a:lnTo>
                    <a:pt x="994" y="316"/>
                  </a:lnTo>
                  <a:lnTo>
                    <a:pt x="991" y="335"/>
                  </a:lnTo>
                  <a:lnTo>
                    <a:pt x="990" y="338"/>
                  </a:lnTo>
                  <a:lnTo>
                    <a:pt x="990" y="335"/>
                  </a:lnTo>
                  <a:lnTo>
                    <a:pt x="986" y="316"/>
                  </a:lnTo>
                  <a:lnTo>
                    <a:pt x="980" y="295"/>
                  </a:lnTo>
                  <a:lnTo>
                    <a:pt x="971" y="276"/>
                  </a:lnTo>
                  <a:lnTo>
                    <a:pt x="958" y="258"/>
                  </a:lnTo>
                  <a:lnTo>
                    <a:pt x="941" y="242"/>
                  </a:lnTo>
                  <a:lnTo>
                    <a:pt x="922" y="227"/>
                  </a:lnTo>
                  <a:lnTo>
                    <a:pt x="900" y="213"/>
                  </a:lnTo>
                  <a:lnTo>
                    <a:pt x="876" y="202"/>
                  </a:lnTo>
                  <a:lnTo>
                    <a:pt x="851" y="193"/>
                  </a:lnTo>
                  <a:lnTo>
                    <a:pt x="824" y="186"/>
                  </a:lnTo>
                  <a:lnTo>
                    <a:pt x="795" y="182"/>
                  </a:lnTo>
                  <a:lnTo>
                    <a:pt x="766" y="180"/>
                  </a:lnTo>
                  <a:lnTo>
                    <a:pt x="261" y="180"/>
                  </a:lnTo>
                  <a:lnTo>
                    <a:pt x="231" y="179"/>
                  </a:lnTo>
                  <a:lnTo>
                    <a:pt x="199" y="174"/>
                  </a:lnTo>
                  <a:lnTo>
                    <a:pt x="169" y="168"/>
                  </a:lnTo>
                  <a:lnTo>
                    <a:pt x="141" y="159"/>
                  </a:lnTo>
                  <a:lnTo>
                    <a:pt x="115" y="148"/>
                  </a:lnTo>
                  <a:lnTo>
                    <a:pt x="90" y="134"/>
                  </a:lnTo>
                  <a:lnTo>
                    <a:pt x="67" y="119"/>
                  </a:lnTo>
                  <a:lnTo>
                    <a:pt x="48" y="102"/>
                  </a:lnTo>
                  <a:lnTo>
                    <a:pt x="32" y="83"/>
                  </a:lnTo>
                  <a:lnTo>
                    <a:pt x="19" y="64"/>
                  </a:lnTo>
                  <a:lnTo>
                    <a:pt x="9" y="43"/>
                  </a:lnTo>
                  <a:lnTo>
                    <a:pt x="3" y="21"/>
                  </a:lnTo>
                  <a:lnTo>
                    <a:pt x="0" y="0"/>
                  </a:lnTo>
                  <a:lnTo>
                    <a:pt x="2" y="13"/>
                  </a:lnTo>
                  <a:lnTo>
                    <a:pt x="6" y="39"/>
                  </a:lnTo>
                  <a:lnTo>
                    <a:pt x="13" y="64"/>
                  </a:lnTo>
                  <a:lnTo>
                    <a:pt x="25" y="89"/>
                  </a:lnTo>
                  <a:lnTo>
                    <a:pt x="40" y="112"/>
                  </a:lnTo>
                  <a:lnTo>
                    <a:pt x="59" y="135"/>
                  </a:lnTo>
                  <a:lnTo>
                    <a:pt x="81" y="156"/>
                  </a:lnTo>
                  <a:lnTo>
                    <a:pt x="105" y="176"/>
                  </a:lnTo>
                  <a:lnTo>
                    <a:pt x="132" y="194"/>
                  </a:lnTo>
                  <a:lnTo>
                    <a:pt x="161" y="209"/>
                  </a:lnTo>
                  <a:lnTo>
                    <a:pt x="193" y="224"/>
                  </a:lnTo>
                  <a:lnTo>
                    <a:pt x="227" y="235"/>
                  </a:lnTo>
                  <a:lnTo>
                    <a:pt x="262" y="244"/>
                  </a:lnTo>
                  <a:lnTo>
                    <a:pt x="299" y="251"/>
                  </a:lnTo>
                  <a:lnTo>
                    <a:pt x="334" y="255"/>
                  </a:lnTo>
                  <a:lnTo>
                    <a:pt x="372" y="257"/>
                  </a:lnTo>
                  <a:lnTo>
                    <a:pt x="803" y="257"/>
                  </a:lnTo>
                  <a:lnTo>
                    <a:pt x="830" y="259"/>
                  </a:lnTo>
                  <a:lnTo>
                    <a:pt x="856" y="262"/>
                  </a:lnTo>
                  <a:lnTo>
                    <a:pt x="879" y="269"/>
                  </a:lnTo>
                  <a:lnTo>
                    <a:pt x="903" y="277"/>
                  </a:lnTo>
                  <a:lnTo>
                    <a:pt x="923" y="289"/>
                  </a:lnTo>
                  <a:lnTo>
                    <a:pt x="943" y="302"/>
                  </a:lnTo>
                  <a:lnTo>
                    <a:pt x="958" y="317"/>
                  </a:lnTo>
                  <a:lnTo>
                    <a:pt x="971" y="333"/>
                  </a:lnTo>
                  <a:lnTo>
                    <a:pt x="980" y="350"/>
                  </a:lnTo>
                  <a:lnTo>
                    <a:pt x="986" y="369"/>
                  </a:lnTo>
                  <a:lnTo>
                    <a:pt x="990" y="387"/>
                  </a:lnTo>
                  <a:lnTo>
                    <a:pt x="990" y="389"/>
                  </a:lnTo>
                  <a:lnTo>
                    <a:pt x="992" y="370"/>
                  </a:lnTo>
                  <a:lnTo>
                    <a:pt x="997" y="352"/>
                  </a:lnTo>
                  <a:lnTo>
                    <a:pt x="1007" y="335"/>
                  </a:lnTo>
                  <a:lnTo>
                    <a:pt x="1019" y="318"/>
                  </a:lnTo>
                  <a:lnTo>
                    <a:pt x="1035" y="304"/>
                  </a:lnTo>
                  <a:lnTo>
                    <a:pt x="1053" y="290"/>
                  </a:lnTo>
                  <a:lnTo>
                    <a:pt x="1073" y="279"/>
                  </a:lnTo>
                  <a:lnTo>
                    <a:pt x="1097" y="270"/>
                  </a:lnTo>
                  <a:lnTo>
                    <a:pt x="1120" y="263"/>
                  </a:lnTo>
                  <a:lnTo>
                    <a:pt x="1146" y="259"/>
                  </a:lnTo>
                  <a:lnTo>
                    <a:pt x="1172" y="257"/>
                  </a:lnTo>
                  <a:lnTo>
                    <a:pt x="1175" y="257"/>
                  </a:lnTo>
                  <a:lnTo>
                    <a:pt x="1608" y="257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5"/>
            <p:cNvSpPr/>
            <p:nvPr/>
          </p:nvSpPr>
          <p:spPr>
            <a:xfrm>
              <a:off x="876240" y="5029200"/>
              <a:ext cx="38829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Rate variance</a:t>
              </a:r>
              <a:br>
                <a:rPr sz="2400"/>
              </a:b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$500 unfavora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0" name="Group 6"/>
          <p:cNvGrpSpPr/>
          <p:nvPr/>
        </p:nvGrpSpPr>
        <p:grpSpPr>
          <a:xfrm>
            <a:off x="4248000" y="4341960"/>
            <a:ext cx="3883320" cy="1507680"/>
            <a:chOff x="4248000" y="4341960"/>
            <a:chExt cx="3883320" cy="1507680"/>
          </a:xfrm>
        </p:grpSpPr>
        <p:sp>
          <p:nvSpPr>
            <p:cNvPr id="741" name="Rectangle 7"/>
            <p:cNvSpPr/>
            <p:nvPr/>
          </p:nvSpPr>
          <p:spPr>
            <a:xfrm>
              <a:off x="4248000" y="5029200"/>
              <a:ext cx="38833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Efficiency variance</a:t>
              </a:r>
              <a:br>
                <a:rPr sz="2400"/>
              </a:b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$400 unfavora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8"/>
            <p:cNvSpPr/>
            <p:nvPr/>
          </p:nvSpPr>
          <p:spPr>
            <a:xfrm>
              <a:off x="4589640" y="4341960"/>
              <a:ext cx="3143160" cy="618840"/>
            </a:xfrm>
            <a:custGeom>
              <a:avLst/>
              <a:gdLst>
                <a:gd name="textAreaLeft" fmla="*/ 0 w 3143160"/>
                <a:gd name="textAreaRight" fmla="*/ 3143520 w 3143160"/>
                <a:gd name="textAreaTop" fmla="*/ 0 h 618840"/>
                <a:gd name="textAreaBottom" fmla="*/ 619200 h 618840"/>
              </a:gdLst>
              <a:ahLst/>
              <a:rect l="textAreaLeft" t="textAreaTop" r="textAreaRight" b="textAreaBottom"/>
              <a:pathLst>
                <a:path w="1980" h="390">
                  <a:moveTo>
                    <a:pt x="1608" y="257"/>
                  </a:moveTo>
                  <a:lnTo>
                    <a:pt x="1645" y="255"/>
                  </a:lnTo>
                  <a:lnTo>
                    <a:pt x="1681" y="251"/>
                  </a:lnTo>
                  <a:lnTo>
                    <a:pt x="1718" y="244"/>
                  </a:lnTo>
                  <a:lnTo>
                    <a:pt x="1753" y="235"/>
                  </a:lnTo>
                  <a:lnTo>
                    <a:pt x="1787" y="224"/>
                  </a:lnTo>
                  <a:lnTo>
                    <a:pt x="1819" y="209"/>
                  </a:lnTo>
                  <a:lnTo>
                    <a:pt x="1849" y="194"/>
                  </a:lnTo>
                  <a:lnTo>
                    <a:pt x="1876" y="176"/>
                  </a:lnTo>
                  <a:lnTo>
                    <a:pt x="1900" y="156"/>
                  </a:lnTo>
                  <a:lnTo>
                    <a:pt x="1922" y="135"/>
                  </a:lnTo>
                  <a:lnTo>
                    <a:pt x="1940" y="112"/>
                  </a:lnTo>
                  <a:lnTo>
                    <a:pt x="1955" y="89"/>
                  </a:lnTo>
                  <a:lnTo>
                    <a:pt x="1966" y="64"/>
                  </a:lnTo>
                  <a:lnTo>
                    <a:pt x="1975" y="39"/>
                  </a:lnTo>
                  <a:lnTo>
                    <a:pt x="1978" y="13"/>
                  </a:lnTo>
                  <a:lnTo>
                    <a:pt x="1979" y="0"/>
                  </a:lnTo>
                  <a:lnTo>
                    <a:pt x="1978" y="21"/>
                  </a:lnTo>
                  <a:lnTo>
                    <a:pt x="1972" y="43"/>
                  </a:lnTo>
                  <a:lnTo>
                    <a:pt x="1961" y="64"/>
                  </a:lnTo>
                  <a:lnTo>
                    <a:pt x="1949" y="83"/>
                  </a:lnTo>
                  <a:lnTo>
                    <a:pt x="1933" y="102"/>
                  </a:lnTo>
                  <a:lnTo>
                    <a:pt x="1913" y="119"/>
                  </a:lnTo>
                  <a:lnTo>
                    <a:pt x="1891" y="134"/>
                  </a:lnTo>
                  <a:lnTo>
                    <a:pt x="1866" y="148"/>
                  </a:lnTo>
                  <a:lnTo>
                    <a:pt x="1839" y="159"/>
                  </a:lnTo>
                  <a:lnTo>
                    <a:pt x="1810" y="168"/>
                  </a:lnTo>
                  <a:lnTo>
                    <a:pt x="1781" y="174"/>
                  </a:lnTo>
                  <a:lnTo>
                    <a:pt x="1751" y="179"/>
                  </a:lnTo>
                  <a:lnTo>
                    <a:pt x="1719" y="180"/>
                  </a:lnTo>
                  <a:lnTo>
                    <a:pt x="1214" y="180"/>
                  </a:lnTo>
                  <a:lnTo>
                    <a:pt x="1185" y="182"/>
                  </a:lnTo>
                  <a:lnTo>
                    <a:pt x="1157" y="186"/>
                  </a:lnTo>
                  <a:lnTo>
                    <a:pt x="1129" y="193"/>
                  </a:lnTo>
                  <a:lnTo>
                    <a:pt x="1103" y="202"/>
                  </a:lnTo>
                  <a:lnTo>
                    <a:pt x="1080" y="213"/>
                  </a:lnTo>
                  <a:lnTo>
                    <a:pt x="1058" y="227"/>
                  </a:lnTo>
                  <a:lnTo>
                    <a:pt x="1038" y="242"/>
                  </a:lnTo>
                  <a:lnTo>
                    <a:pt x="1022" y="258"/>
                  </a:lnTo>
                  <a:lnTo>
                    <a:pt x="1010" y="276"/>
                  </a:lnTo>
                  <a:lnTo>
                    <a:pt x="1000" y="295"/>
                  </a:lnTo>
                  <a:lnTo>
                    <a:pt x="994" y="316"/>
                  </a:lnTo>
                  <a:lnTo>
                    <a:pt x="991" y="335"/>
                  </a:lnTo>
                  <a:lnTo>
                    <a:pt x="990" y="338"/>
                  </a:lnTo>
                  <a:lnTo>
                    <a:pt x="990" y="335"/>
                  </a:lnTo>
                  <a:lnTo>
                    <a:pt x="986" y="316"/>
                  </a:lnTo>
                  <a:lnTo>
                    <a:pt x="980" y="295"/>
                  </a:lnTo>
                  <a:lnTo>
                    <a:pt x="971" y="276"/>
                  </a:lnTo>
                  <a:lnTo>
                    <a:pt x="958" y="258"/>
                  </a:lnTo>
                  <a:lnTo>
                    <a:pt x="941" y="242"/>
                  </a:lnTo>
                  <a:lnTo>
                    <a:pt x="922" y="227"/>
                  </a:lnTo>
                  <a:lnTo>
                    <a:pt x="900" y="213"/>
                  </a:lnTo>
                  <a:lnTo>
                    <a:pt x="876" y="202"/>
                  </a:lnTo>
                  <a:lnTo>
                    <a:pt x="851" y="193"/>
                  </a:lnTo>
                  <a:lnTo>
                    <a:pt x="824" y="186"/>
                  </a:lnTo>
                  <a:lnTo>
                    <a:pt x="795" y="182"/>
                  </a:lnTo>
                  <a:lnTo>
                    <a:pt x="766" y="180"/>
                  </a:lnTo>
                  <a:lnTo>
                    <a:pt x="261" y="180"/>
                  </a:lnTo>
                  <a:lnTo>
                    <a:pt x="231" y="179"/>
                  </a:lnTo>
                  <a:lnTo>
                    <a:pt x="199" y="174"/>
                  </a:lnTo>
                  <a:lnTo>
                    <a:pt x="169" y="168"/>
                  </a:lnTo>
                  <a:lnTo>
                    <a:pt x="141" y="159"/>
                  </a:lnTo>
                  <a:lnTo>
                    <a:pt x="115" y="148"/>
                  </a:lnTo>
                  <a:lnTo>
                    <a:pt x="90" y="134"/>
                  </a:lnTo>
                  <a:lnTo>
                    <a:pt x="67" y="119"/>
                  </a:lnTo>
                  <a:lnTo>
                    <a:pt x="48" y="102"/>
                  </a:lnTo>
                  <a:lnTo>
                    <a:pt x="32" y="83"/>
                  </a:lnTo>
                  <a:lnTo>
                    <a:pt x="19" y="64"/>
                  </a:lnTo>
                  <a:lnTo>
                    <a:pt x="9" y="43"/>
                  </a:lnTo>
                  <a:lnTo>
                    <a:pt x="3" y="21"/>
                  </a:lnTo>
                  <a:lnTo>
                    <a:pt x="0" y="0"/>
                  </a:lnTo>
                  <a:lnTo>
                    <a:pt x="2" y="13"/>
                  </a:lnTo>
                  <a:lnTo>
                    <a:pt x="6" y="39"/>
                  </a:lnTo>
                  <a:lnTo>
                    <a:pt x="13" y="64"/>
                  </a:lnTo>
                  <a:lnTo>
                    <a:pt x="25" y="89"/>
                  </a:lnTo>
                  <a:lnTo>
                    <a:pt x="40" y="112"/>
                  </a:lnTo>
                  <a:lnTo>
                    <a:pt x="59" y="135"/>
                  </a:lnTo>
                  <a:lnTo>
                    <a:pt x="81" y="156"/>
                  </a:lnTo>
                  <a:lnTo>
                    <a:pt x="105" y="176"/>
                  </a:lnTo>
                  <a:lnTo>
                    <a:pt x="132" y="194"/>
                  </a:lnTo>
                  <a:lnTo>
                    <a:pt x="161" y="209"/>
                  </a:lnTo>
                  <a:lnTo>
                    <a:pt x="193" y="224"/>
                  </a:lnTo>
                  <a:lnTo>
                    <a:pt x="227" y="235"/>
                  </a:lnTo>
                  <a:lnTo>
                    <a:pt x="262" y="244"/>
                  </a:lnTo>
                  <a:lnTo>
                    <a:pt x="299" y="251"/>
                  </a:lnTo>
                  <a:lnTo>
                    <a:pt x="334" y="255"/>
                  </a:lnTo>
                  <a:lnTo>
                    <a:pt x="372" y="257"/>
                  </a:lnTo>
                  <a:lnTo>
                    <a:pt x="803" y="257"/>
                  </a:lnTo>
                  <a:lnTo>
                    <a:pt x="830" y="259"/>
                  </a:lnTo>
                  <a:lnTo>
                    <a:pt x="856" y="262"/>
                  </a:lnTo>
                  <a:lnTo>
                    <a:pt x="879" y="269"/>
                  </a:lnTo>
                  <a:lnTo>
                    <a:pt x="903" y="277"/>
                  </a:lnTo>
                  <a:lnTo>
                    <a:pt x="923" y="289"/>
                  </a:lnTo>
                  <a:lnTo>
                    <a:pt x="943" y="302"/>
                  </a:lnTo>
                  <a:lnTo>
                    <a:pt x="958" y="317"/>
                  </a:lnTo>
                  <a:lnTo>
                    <a:pt x="971" y="333"/>
                  </a:lnTo>
                  <a:lnTo>
                    <a:pt x="980" y="350"/>
                  </a:lnTo>
                  <a:lnTo>
                    <a:pt x="986" y="369"/>
                  </a:lnTo>
                  <a:lnTo>
                    <a:pt x="990" y="387"/>
                  </a:lnTo>
                  <a:lnTo>
                    <a:pt x="990" y="389"/>
                  </a:lnTo>
                  <a:lnTo>
                    <a:pt x="992" y="370"/>
                  </a:lnTo>
                  <a:lnTo>
                    <a:pt x="997" y="352"/>
                  </a:lnTo>
                  <a:lnTo>
                    <a:pt x="1007" y="335"/>
                  </a:lnTo>
                  <a:lnTo>
                    <a:pt x="1019" y="318"/>
                  </a:lnTo>
                  <a:lnTo>
                    <a:pt x="1035" y="304"/>
                  </a:lnTo>
                  <a:lnTo>
                    <a:pt x="1053" y="290"/>
                  </a:lnTo>
                  <a:lnTo>
                    <a:pt x="1073" y="279"/>
                  </a:lnTo>
                  <a:lnTo>
                    <a:pt x="1097" y="270"/>
                  </a:lnTo>
                  <a:lnTo>
                    <a:pt x="1120" y="263"/>
                  </a:lnTo>
                  <a:lnTo>
                    <a:pt x="1146" y="259"/>
                  </a:lnTo>
                  <a:lnTo>
                    <a:pt x="1172" y="257"/>
                  </a:lnTo>
                  <a:lnTo>
                    <a:pt x="1175" y="257"/>
                  </a:lnTo>
                  <a:lnTo>
                    <a:pt x="1608" y="257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Variable Manufacturing Overhead Variances Summary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graphicFrame>
        <p:nvGraphicFramePr>
          <p:cNvPr id="744" name="Object 2"/>
          <p:cNvGraphicFramePr/>
          <p:nvPr/>
        </p:nvGraphicFramePr>
        <p:xfrm>
          <a:off x="7162920" y="5689440"/>
          <a:ext cx="160020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689440"/>
                    <a:ext cx="160020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6" name="Rectangle 9"/>
          <p:cNvSpPr/>
          <p:nvPr/>
        </p:nvSpPr>
        <p:spPr>
          <a:xfrm>
            <a:off x="266760" y="1690560"/>
            <a:ext cx="8759880" cy="9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Actual Hours            Actual Hours</a:t>
            </a: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      Standard Hours</a:t>
            </a:r>
            <a:br>
              <a:rPr sz="2400"/>
            </a:b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            ×                               ×                                 × </a:t>
            </a:r>
            <a:br>
              <a:rPr sz="2400"/>
            </a:b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    Actual Rate             Standard Rate           Standard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10"/>
          <p:cNvSpPr/>
          <p:nvPr/>
        </p:nvSpPr>
        <p:spPr>
          <a:xfrm>
            <a:off x="455760" y="2603520"/>
            <a:ext cx="2193840" cy="0"/>
          </a:xfrm>
          <a:prstGeom prst="line">
            <a:avLst/>
          </a:prstGeom>
          <a:ln w="28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11"/>
          <p:cNvSpPr/>
          <p:nvPr/>
        </p:nvSpPr>
        <p:spPr>
          <a:xfrm>
            <a:off x="3402000" y="2603520"/>
            <a:ext cx="2193840" cy="0"/>
          </a:xfrm>
          <a:prstGeom prst="line">
            <a:avLst/>
          </a:prstGeom>
          <a:ln w="28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12"/>
          <p:cNvSpPr/>
          <p:nvPr/>
        </p:nvSpPr>
        <p:spPr>
          <a:xfrm>
            <a:off x="6416640" y="2603520"/>
            <a:ext cx="2193840" cy="0"/>
          </a:xfrm>
          <a:prstGeom prst="line">
            <a:avLst/>
          </a:prstGeom>
          <a:ln w="28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  <a:ea typeface="Arial"/>
              </a:rPr>
              <a:t>Setting Variable Manufacturing Overhead Standards 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131" name="Group 3"/>
          <p:cNvGrpSpPr/>
          <p:nvPr/>
        </p:nvGrpSpPr>
        <p:grpSpPr>
          <a:xfrm>
            <a:off x="380880" y="1574640"/>
            <a:ext cx="3860640" cy="4660920"/>
            <a:chOff x="380880" y="1574640"/>
            <a:chExt cx="3860640" cy="4660920"/>
          </a:xfrm>
        </p:grpSpPr>
        <p:sp>
          <p:nvSpPr>
            <p:cNvPr id="132" name="AutoShape 5"/>
            <p:cNvSpPr/>
            <p:nvPr/>
          </p:nvSpPr>
          <p:spPr>
            <a:xfrm>
              <a:off x="380880" y="3213000"/>
              <a:ext cx="3860640" cy="3022560"/>
            </a:xfrm>
            <a:prstGeom prst="octagon">
              <a:avLst>
                <a:gd name="adj" fmla="val 29282"/>
              </a:avLst>
            </a:prstGeom>
            <a:solidFill>
              <a:srgbClr val="78d6ea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6"/>
            <p:cNvSpPr/>
            <p:nvPr/>
          </p:nvSpPr>
          <p:spPr>
            <a:xfrm>
              <a:off x="443520" y="3433680"/>
              <a:ext cx="3736800" cy="15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rate is th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ariable portion of th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edetermined overhead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rat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7"/>
            <p:cNvSpPr/>
            <p:nvPr/>
          </p:nvSpPr>
          <p:spPr>
            <a:xfrm>
              <a:off x="2311200" y="2478240"/>
              <a:ext cx="0" cy="73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5" name="Object 3"/>
            <p:cNvGraphicFramePr/>
            <p:nvPr/>
          </p:nvGraphicFramePr>
          <p:xfrm>
            <a:off x="1828800" y="4956120"/>
            <a:ext cx="1676160" cy="1211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6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28800" y="4956120"/>
                      <a:ext cx="1676160" cy="1211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7" name="AutoShape 4"/>
            <p:cNvSpPr/>
            <p:nvPr/>
          </p:nvSpPr>
          <p:spPr>
            <a:xfrm>
              <a:off x="1257120" y="1574640"/>
              <a:ext cx="2108160" cy="1041480"/>
            </a:xfrm>
            <a:prstGeom prst="roundRect">
              <a:avLst>
                <a:gd name="adj" fmla="val 12495"/>
              </a:avLst>
            </a:prstGeom>
            <a:solidFill>
              <a:srgbClr val="ead3d8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rice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tandar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9"/>
          <p:cNvGrpSpPr/>
          <p:nvPr/>
        </p:nvGrpSpPr>
        <p:grpSpPr>
          <a:xfrm>
            <a:off x="4940280" y="1574640"/>
            <a:ext cx="3898800" cy="4660920"/>
            <a:chOff x="4940280" y="1574640"/>
            <a:chExt cx="3898800" cy="4660920"/>
          </a:xfrm>
        </p:grpSpPr>
        <p:sp>
          <p:nvSpPr>
            <p:cNvPr id="139" name="AutoShape 10"/>
            <p:cNvSpPr/>
            <p:nvPr/>
          </p:nvSpPr>
          <p:spPr>
            <a:xfrm>
              <a:off x="4940280" y="3213000"/>
              <a:ext cx="3860640" cy="3022560"/>
            </a:xfrm>
            <a:prstGeom prst="octagon">
              <a:avLst>
                <a:gd name="adj" fmla="val 29282"/>
              </a:avLst>
            </a:prstGeom>
            <a:solidFill>
              <a:srgbClr val="ead3d8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2"/>
            <p:cNvSpPr/>
            <p:nvPr/>
          </p:nvSpPr>
          <p:spPr>
            <a:xfrm>
              <a:off x="4941720" y="3471840"/>
              <a:ext cx="3897360" cy="15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quantity is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activity in the allocation base for   predetermined overhead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3"/>
            <p:cNvSpPr/>
            <p:nvPr/>
          </p:nvSpPr>
          <p:spPr>
            <a:xfrm>
              <a:off x="6870600" y="2478240"/>
              <a:ext cx="0" cy="73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2" name="Object 2"/>
            <p:cNvGraphicFramePr/>
            <p:nvPr/>
          </p:nvGraphicFramePr>
          <p:xfrm>
            <a:off x="6099120" y="5029200"/>
            <a:ext cx="1752480" cy="111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3" name="Object 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099120" y="5029200"/>
                      <a:ext cx="1752480" cy="11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4" name="AutoShape 11"/>
            <p:cNvSpPr/>
            <p:nvPr/>
          </p:nvSpPr>
          <p:spPr>
            <a:xfrm>
              <a:off x="5816520" y="1574640"/>
              <a:ext cx="2108160" cy="1041480"/>
            </a:xfrm>
            <a:prstGeom prst="roundRect">
              <a:avLst>
                <a:gd name="adj" fmla="val 12495"/>
              </a:avLst>
            </a:prstGeom>
            <a:solidFill>
              <a:srgbClr val="7030a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Quantity</a:t>
              </a:r>
              <a:br>
                <a:rPr sz="2800"/>
              </a:b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Standar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Variable Manufacturing Overhead Variances Summary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graphicFrame>
        <p:nvGraphicFramePr>
          <p:cNvPr id="751" name="Object 2"/>
          <p:cNvGraphicFramePr/>
          <p:nvPr/>
        </p:nvGraphicFramePr>
        <p:xfrm>
          <a:off x="7162920" y="5689440"/>
          <a:ext cx="160020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689440"/>
                    <a:ext cx="160020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3" name="Rectangle 2"/>
          <p:cNvSpPr/>
          <p:nvPr/>
        </p:nvSpPr>
        <p:spPr>
          <a:xfrm>
            <a:off x="266760" y="2668680"/>
            <a:ext cx="8607240" cy="174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464646"/>
                </a:solidFill>
                <a:latin typeface="Arial"/>
              </a:rPr>
              <a:t>2,500 hours                 2,500 hours                  2,400 hours</a:t>
            </a:r>
            <a:br>
              <a:rPr sz="2400"/>
            </a:br>
            <a:r>
              <a:rPr b="0" lang="en-US" sz="2400" spc="-1" strike="noStrike">
                <a:solidFill>
                  <a:srgbClr val="464646"/>
                </a:solidFill>
                <a:latin typeface="Arial"/>
              </a:rPr>
              <a:t>           ×                                 ×                                  ×</a:t>
            </a:r>
            <a:br>
              <a:rPr sz="2400"/>
            </a:br>
            <a:r>
              <a:rPr b="0" lang="en-US" sz="2400" spc="-1" strike="noStrike">
                <a:solidFill>
                  <a:srgbClr val="464646"/>
                </a:solidFill>
                <a:latin typeface="Arial"/>
              </a:rPr>
              <a:t> $4.20 per hour            $4.00 per hour              $4.00 per h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 $10,500                    = $10,000                      = $9,600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4" name="Group 3"/>
          <p:cNvGrpSpPr/>
          <p:nvPr/>
        </p:nvGrpSpPr>
        <p:grpSpPr>
          <a:xfrm>
            <a:off x="876240" y="4341960"/>
            <a:ext cx="3882960" cy="1507680"/>
            <a:chOff x="876240" y="4341960"/>
            <a:chExt cx="3882960" cy="1507680"/>
          </a:xfrm>
        </p:grpSpPr>
        <p:sp>
          <p:nvSpPr>
            <p:cNvPr id="755" name="Freeform 4"/>
            <p:cNvSpPr/>
            <p:nvPr/>
          </p:nvSpPr>
          <p:spPr>
            <a:xfrm>
              <a:off x="1235160" y="4341960"/>
              <a:ext cx="3143160" cy="618840"/>
            </a:xfrm>
            <a:custGeom>
              <a:avLst/>
              <a:gdLst>
                <a:gd name="textAreaLeft" fmla="*/ 0 w 3143160"/>
                <a:gd name="textAreaRight" fmla="*/ 3143520 w 3143160"/>
                <a:gd name="textAreaTop" fmla="*/ 0 h 618840"/>
                <a:gd name="textAreaBottom" fmla="*/ 619200 h 618840"/>
              </a:gdLst>
              <a:ahLst/>
              <a:rect l="textAreaLeft" t="textAreaTop" r="textAreaRight" b="textAreaBottom"/>
              <a:pathLst>
                <a:path w="1980" h="390">
                  <a:moveTo>
                    <a:pt x="1608" y="257"/>
                  </a:moveTo>
                  <a:lnTo>
                    <a:pt x="1645" y="255"/>
                  </a:lnTo>
                  <a:lnTo>
                    <a:pt x="1681" y="251"/>
                  </a:lnTo>
                  <a:lnTo>
                    <a:pt x="1718" y="244"/>
                  </a:lnTo>
                  <a:lnTo>
                    <a:pt x="1753" y="235"/>
                  </a:lnTo>
                  <a:lnTo>
                    <a:pt x="1787" y="224"/>
                  </a:lnTo>
                  <a:lnTo>
                    <a:pt x="1819" y="209"/>
                  </a:lnTo>
                  <a:lnTo>
                    <a:pt x="1849" y="194"/>
                  </a:lnTo>
                  <a:lnTo>
                    <a:pt x="1876" y="176"/>
                  </a:lnTo>
                  <a:lnTo>
                    <a:pt x="1900" y="156"/>
                  </a:lnTo>
                  <a:lnTo>
                    <a:pt x="1922" y="135"/>
                  </a:lnTo>
                  <a:lnTo>
                    <a:pt x="1940" y="112"/>
                  </a:lnTo>
                  <a:lnTo>
                    <a:pt x="1955" y="89"/>
                  </a:lnTo>
                  <a:lnTo>
                    <a:pt x="1966" y="64"/>
                  </a:lnTo>
                  <a:lnTo>
                    <a:pt x="1975" y="39"/>
                  </a:lnTo>
                  <a:lnTo>
                    <a:pt x="1978" y="13"/>
                  </a:lnTo>
                  <a:lnTo>
                    <a:pt x="1979" y="0"/>
                  </a:lnTo>
                  <a:lnTo>
                    <a:pt x="1978" y="21"/>
                  </a:lnTo>
                  <a:lnTo>
                    <a:pt x="1972" y="43"/>
                  </a:lnTo>
                  <a:lnTo>
                    <a:pt x="1961" y="64"/>
                  </a:lnTo>
                  <a:lnTo>
                    <a:pt x="1949" y="83"/>
                  </a:lnTo>
                  <a:lnTo>
                    <a:pt x="1933" y="102"/>
                  </a:lnTo>
                  <a:lnTo>
                    <a:pt x="1913" y="119"/>
                  </a:lnTo>
                  <a:lnTo>
                    <a:pt x="1891" y="134"/>
                  </a:lnTo>
                  <a:lnTo>
                    <a:pt x="1866" y="148"/>
                  </a:lnTo>
                  <a:lnTo>
                    <a:pt x="1839" y="159"/>
                  </a:lnTo>
                  <a:lnTo>
                    <a:pt x="1810" y="168"/>
                  </a:lnTo>
                  <a:lnTo>
                    <a:pt x="1781" y="174"/>
                  </a:lnTo>
                  <a:lnTo>
                    <a:pt x="1751" y="179"/>
                  </a:lnTo>
                  <a:lnTo>
                    <a:pt x="1719" y="180"/>
                  </a:lnTo>
                  <a:lnTo>
                    <a:pt x="1214" y="180"/>
                  </a:lnTo>
                  <a:lnTo>
                    <a:pt x="1185" y="182"/>
                  </a:lnTo>
                  <a:lnTo>
                    <a:pt x="1157" y="186"/>
                  </a:lnTo>
                  <a:lnTo>
                    <a:pt x="1129" y="193"/>
                  </a:lnTo>
                  <a:lnTo>
                    <a:pt x="1103" y="202"/>
                  </a:lnTo>
                  <a:lnTo>
                    <a:pt x="1080" y="213"/>
                  </a:lnTo>
                  <a:lnTo>
                    <a:pt x="1058" y="227"/>
                  </a:lnTo>
                  <a:lnTo>
                    <a:pt x="1038" y="242"/>
                  </a:lnTo>
                  <a:lnTo>
                    <a:pt x="1022" y="258"/>
                  </a:lnTo>
                  <a:lnTo>
                    <a:pt x="1010" y="276"/>
                  </a:lnTo>
                  <a:lnTo>
                    <a:pt x="1000" y="295"/>
                  </a:lnTo>
                  <a:lnTo>
                    <a:pt x="994" y="316"/>
                  </a:lnTo>
                  <a:lnTo>
                    <a:pt x="991" y="335"/>
                  </a:lnTo>
                  <a:lnTo>
                    <a:pt x="990" y="338"/>
                  </a:lnTo>
                  <a:lnTo>
                    <a:pt x="990" y="335"/>
                  </a:lnTo>
                  <a:lnTo>
                    <a:pt x="986" y="316"/>
                  </a:lnTo>
                  <a:lnTo>
                    <a:pt x="980" y="295"/>
                  </a:lnTo>
                  <a:lnTo>
                    <a:pt x="971" y="276"/>
                  </a:lnTo>
                  <a:lnTo>
                    <a:pt x="958" y="258"/>
                  </a:lnTo>
                  <a:lnTo>
                    <a:pt x="941" y="242"/>
                  </a:lnTo>
                  <a:lnTo>
                    <a:pt x="922" y="227"/>
                  </a:lnTo>
                  <a:lnTo>
                    <a:pt x="900" y="213"/>
                  </a:lnTo>
                  <a:lnTo>
                    <a:pt x="876" y="202"/>
                  </a:lnTo>
                  <a:lnTo>
                    <a:pt x="851" y="193"/>
                  </a:lnTo>
                  <a:lnTo>
                    <a:pt x="824" y="186"/>
                  </a:lnTo>
                  <a:lnTo>
                    <a:pt x="795" y="182"/>
                  </a:lnTo>
                  <a:lnTo>
                    <a:pt x="766" y="180"/>
                  </a:lnTo>
                  <a:lnTo>
                    <a:pt x="261" y="180"/>
                  </a:lnTo>
                  <a:lnTo>
                    <a:pt x="231" y="179"/>
                  </a:lnTo>
                  <a:lnTo>
                    <a:pt x="199" y="174"/>
                  </a:lnTo>
                  <a:lnTo>
                    <a:pt x="169" y="168"/>
                  </a:lnTo>
                  <a:lnTo>
                    <a:pt x="141" y="159"/>
                  </a:lnTo>
                  <a:lnTo>
                    <a:pt x="115" y="148"/>
                  </a:lnTo>
                  <a:lnTo>
                    <a:pt x="90" y="134"/>
                  </a:lnTo>
                  <a:lnTo>
                    <a:pt x="67" y="119"/>
                  </a:lnTo>
                  <a:lnTo>
                    <a:pt x="48" y="102"/>
                  </a:lnTo>
                  <a:lnTo>
                    <a:pt x="32" y="83"/>
                  </a:lnTo>
                  <a:lnTo>
                    <a:pt x="19" y="64"/>
                  </a:lnTo>
                  <a:lnTo>
                    <a:pt x="9" y="43"/>
                  </a:lnTo>
                  <a:lnTo>
                    <a:pt x="3" y="21"/>
                  </a:lnTo>
                  <a:lnTo>
                    <a:pt x="0" y="0"/>
                  </a:lnTo>
                  <a:lnTo>
                    <a:pt x="2" y="13"/>
                  </a:lnTo>
                  <a:lnTo>
                    <a:pt x="6" y="39"/>
                  </a:lnTo>
                  <a:lnTo>
                    <a:pt x="13" y="64"/>
                  </a:lnTo>
                  <a:lnTo>
                    <a:pt x="25" y="89"/>
                  </a:lnTo>
                  <a:lnTo>
                    <a:pt x="40" y="112"/>
                  </a:lnTo>
                  <a:lnTo>
                    <a:pt x="59" y="135"/>
                  </a:lnTo>
                  <a:lnTo>
                    <a:pt x="81" y="156"/>
                  </a:lnTo>
                  <a:lnTo>
                    <a:pt x="105" y="176"/>
                  </a:lnTo>
                  <a:lnTo>
                    <a:pt x="132" y="194"/>
                  </a:lnTo>
                  <a:lnTo>
                    <a:pt x="161" y="209"/>
                  </a:lnTo>
                  <a:lnTo>
                    <a:pt x="193" y="224"/>
                  </a:lnTo>
                  <a:lnTo>
                    <a:pt x="227" y="235"/>
                  </a:lnTo>
                  <a:lnTo>
                    <a:pt x="262" y="244"/>
                  </a:lnTo>
                  <a:lnTo>
                    <a:pt x="299" y="251"/>
                  </a:lnTo>
                  <a:lnTo>
                    <a:pt x="334" y="255"/>
                  </a:lnTo>
                  <a:lnTo>
                    <a:pt x="372" y="257"/>
                  </a:lnTo>
                  <a:lnTo>
                    <a:pt x="803" y="257"/>
                  </a:lnTo>
                  <a:lnTo>
                    <a:pt x="830" y="259"/>
                  </a:lnTo>
                  <a:lnTo>
                    <a:pt x="856" y="262"/>
                  </a:lnTo>
                  <a:lnTo>
                    <a:pt x="879" y="269"/>
                  </a:lnTo>
                  <a:lnTo>
                    <a:pt x="903" y="277"/>
                  </a:lnTo>
                  <a:lnTo>
                    <a:pt x="923" y="289"/>
                  </a:lnTo>
                  <a:lnTo>
                    <a:pt x="943" y="302"/>
                  </a:lnTo>
                  <a:lnTo>
                    <a:pt x="958" y="317"/>
                  </a:lnTo>
                  <a:lnTo>
                    <a:pt x="971" y="333"/>
                  </a:lnTo>
                  <a:lnTo>
                    <a:pt x="980" y="350"/>
                  </a:lnTo>
                  <a:lnTo>
                    <a:pt x="986" y="369"/>
                  </a:lnTo>
                  <a:lnTo>
                    <a:pt x="990" y="387"/>
                  </a:lnTo>
                  <a:lnTo>
                    <a:pt x="990" y="389"/>
                  </a:lnTo>
                  <a:lnTo>
                    <a:pt x="992" y="370"/>
                  </a:lnTo>
                  <a:lnTo>
                    <a:pt x="997" y="352"/>
                  </a:lnTo>
                  <a:lnTo>
                    <a:pt x="1007" y="335"/>
                  </a:lnTo>
                  <a:lnTo>
                    <a:pt x="1019" y="318"/>
                  </a:lnTo>
                  <a:lnTo>
                    <a:pt x="1035" y="304"/>
                  </a:lnTo>
                  <a:lnTo>
                    <a:pt x="1053" y="290"/>
                  </a:lnTo>
                  <a:lnTo>
                    <a:pt x="1073" y="279"/>
                  </a:lnTo>
                  <a:lnTo>
                    <a:pt x="1097" y="270"/>
                  </a:lnTo>
                  <a:lnTo>
                    <a:pt x="1120" y="263"/>
                  </a:lnTo>
                  <a:lnTo>
                    <a:pt x="1146" y="259"/>
                  </a:lnTo>
                  <a:lnTo>
                    <a:pt x="1172" y="257"/>
                  </a:lnTo>
                  <a:lnTo>
                    <a:pt x="1175" y="257"/>
                  </a:lnTo>
                  <a:lnTo>
                    <a:pt x="1608" y="257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Rectangle 5"/>
            <p:cNvSpPr/>
            <p:nvPr/>
          </p:nvSpPr>
          <p:spPr>
            <a:xfrm>
              <a:off x="876240" y="5029200"/>
              <a:ext cx="38829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Rate variance</a:t>
              </a:r>
              <a:br>
                <a:rPr sz="2400"/>
              </a:b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$500 unfavora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7" name="Group 6"/>
          <p:cNvGrpSpPr/>
          <p:nvPr/>
        </p:nvGrpSpPr>
        <p:grpSpPr>
          <a:xfrm>
            <a:off x="4248000" y="4341960"/>
            <a:ext cx="3883320" cy="1507680"/>
            <a:chOff x="4248000" y="4341960"/>
            <a:chExt cx="3883320" cy="1507680"/>
          </a:xfrm>
        </p:grpSpPr>
        <p:sp>
          <p:nvSpPr>
            <p:cNvPr id="758" name="Rectangle 7"/>
            <p:cNvSpPr/>
            <p:nvPr/>
          </p:nvSpPr>
          <p:spPr>
            <a:xfrm>
              <a:off x="4248000" y="5029200"/>
              <a:ext cx="38833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Efficiency variance</a:t>
              </a:r>
              <a:br>
                <a:rPr sz="2400"/>
              </a:b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$400 unfavora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8"/>
            <p:cNvSpPr/>
            <p:nvPr/>
          </p:nvSpPr>
          <p:spPr>
            <a:xfrm>
              <a:off x="4589640" y="4341960"/>
              <a:ext cx="3143160" cy="618840"/>
            </a:xfrm>
            <a:custGeom>
              <a:avLst/>
              <a:gdLst>
                <a:gd name="textAreaLeft" fmla="*/ 0 w 3143160"/>
                <a:gd name="textAreaRight" fmla="*/ 3143520 w 3143160"/>
                <a:gd name="textAreaTop" fmla="*/ 0 h 618840"/>
                <a:gd name="textAreaBottom" fmla="*/ 619200 h 618840"/>
              </a:gdLst>
              <a:ahLst/>
              <a:rect l="textAreaLeft" t="textAreaTop" r="textAreaRight" b="textAreaBottom"/>
              <a:pathLst>
                <a:path w="1980" h="390">
                  <a:moveTo>
                    <a:pt x="1608" y="257"/>
                  </a:moveTo>
                  <a:lnTo>
                    <a:pt x="1645" y="255"/>
                  </a:lnTo>
                  <a:lnTo>
                    <a:pt x="1681" y="251"/>
                  </a:lnTo>
                  <a:lnTo>
                    <a:pt x="1718" y="244"/>
                  </a:lnTo>
                  <a:lnTo>
                    <a:pt x="1753" y="235"/>
                  </a:lnTo>
                  <a:lnTo>
                    <a:pt x="1787" y="224"/>
                  </a:lnTo>
                  <a:lnTo>
                    <a:pt x="1819" y="209"/>
                  </a:lnTo>
                  <a:lnTo>
                    <a:pt x="1849" y="194"/>
                  </a:lnTo>
                  <a:lnTo>
                    <a:pt x="1876" y="176"/>
                  </a:lnTo>
                  <a:lnTo>
                    <a:pt x="1900" y="156"/>
                  </a:lnTo>
                  <a:lnTo>
                    <a:pt x="1922" y="135"/>
                  </a:lnTo>
                  <a:lnTo>
                    <a:pt x="1940" y="112"/>
                  </a:lnTo>
                  <a:lnTo>
                    <a:pt x="1955" y="89"/>
                  </a:lnTo>
                  <a:lnTo>
                    <a:pt x="1966" y="64"/>
                  </a:lnTo>
                  <a:lnTo>
                    <a:pt x="1975" y="39"/>
                  </a:lnTo>
                  <a:lnTo>
                    <a:pt x="1978" y="13"/>
                  </a:lnTo>
                  <a:lnTo>
                    <a:pt x="1979" y="0"/>
                  </a:lnTo>
                  <a:lnTo>
                    <a:pt x="1978" y="21"/>
                  </a:lnTo>
                  <a:lnTo>
                    <a:pt x="1972" y="43"/>
                  </a:lnTo>
                  <a:lnTo>
                    <a:pt x="1961" y="64"/>
                  </a:lnTo>
                  <a:lnTo>
                    <a:pt x="1949" y="83"/>
                  </a:lnTo>
                  <a:lnTo>
                    <a:pt x="1933" y="102"/>
                  </a:lnTo>
                  <a:lnTo>
                    <a:pt x="1913" y="119"/>
                  </a:lnTo>
                  <a:lnTo>
                    <a:pt x="1891" y="134"/>
                  </a:lnTo>
                  <a:lnTo>
                    <a:pt x="1866" y="148"/>
                  </a:lnTo>
                  <a:lnTo>
                    <a:pt x="1839" y="159"/>
                  </a:lnTo>
                  <a:lnTo>
                    <a:pt x="1810" y="168"/>
                  </a:lnTo>
                  <a:lnTo>
                    <a:pt x="1781" y="174"/>
                  </a:lnTo>
                  <a:lnTo>
                    <a:pt x="1751" y="179"/>
                  </a:lnTo>
                  <a:lnTo>
                    <a:pt x="1719" y="180"/>
                  </a:lnTo>
                  <a:lnTo>
                    <a:pt x="1214" y="180"/>
                  </a:lnTo>
                  <a:lnTo>
                    <a:pt x="1185" y="182"/>
                  </a:lnTo>
                  <a:lnTo>
                    <a:pt x="1157" y="186"/>
                  </a:lnTo>
                  <a:lnTo>
                    <a:pt x="1129" y="193"/>
                  </a:lnTo>
                  <a:lnTo>
                    <a:pt x="1103" y="202"/>
                  </a:lnTo>
                  <a:lnTo>
                    <a:pt x="1080" y="213"/>
                  </a:lnTo>
                  <a:lnTo>
                    <a:pt x="1058" y="227"/>
                  </a:lnTo>
                  <a:lnTo>
                    <a:pt x="1038" y="242"/>
                  </a:lnTo>
                  <a:lnTo>
                    <a:pt x="1022" y="258"/>
                  </a:lnTo>
                  <a:lnTo>
                    <a:pt x="1010" y="276"/>
                  </a:lnTo>
                  <a:lnTo>
                    <a:pt x="1000" y="295"/>
                  </a:lnTo>
                  <a:lnTo>
                    <a:pt x="994" y="316"/>
                  </a:lnTo>
                  <a:lnTo>
                    <a:pt x="991" y="335"/>
                  </a:lnTo>
                  <a:lnTo>
                    <a:pt x="990" y="338"/>
                  </a:lnTo>
                  <a:lnTo>
                    <a:pt x="990" y="335"/>
                  </a:lnTo>
                  <a:lnTo>
                    <a:pt x="986" y="316"/>
                  </a:lnTo>
                  <a:lnTo>
                    <a:pt x="980" y="295"/>
                  </a:lnTo>
                  <a:lnTo>
                    <a:pt x="971" y="276"/>
                  </a:lnTo>
                  <a:lnTo>
                    <a:pt x="958" y="258"/>
                  </a:lnTo>
                  <a:lnTo>
                    <a:pt x="941" y="242"/>
                  </a:lnTo>
                  <a:lnTo>
                    <a:pt x="922" y="227"/>
                  </a:lnTo>
                  <a:lnTo>
                    <a:pt x="900" y="213"/>
                  </a:lnTo>
                  <a:lnTo>
                    <a:pt x="876" y="202"/>
                  </a:lnTo>
                  <a:lnTo>
                    <a:pt x="851" y="193"/>
                  </a:lnTo>
                  <a:lnTo>
                    <a:pt x="824" y="186"/>
                  </a:lnTo>
                  <a:lnTo>
                    <a:pt x="795" y="182"/>
                  </a:lnTo>
                  <a:lnTo>
                    <a:pt x="766" y="180"/>
                  </a:lnTo>
                  <a:lnTo>
                    <a:pt x="261" y="180"/>
                  </a:lnTo>
                  <a:lnTo>
                    <a:pt x="231" y="179"/>
                  </a:lnTo>
                  <a:lnTo>
                    <a:pt x="199" y="174"/>
                  </a:lnTo>
                  <a:lnTo>
                    <a:pt x="169" y="168"/>
                  </a:lnTo>
                  <a:lnTo>
                    <a:pt x="141" y="159"/>
                  </a:lnTo>
                  <a:lnTo>
                    <a:pt x="115" y="148"/>
                  </a:lnTo>
                  <a:lnTo>
                    <a:pt x="90" y="134"/>
                  </a:lnTo>
                  <a:lnTo>
                    <a:pt x="67" y="119"/>
                  </a:lnTo>
                  <a:lnTo>
                    <a:pt x="48" y="102"/>
                  </a:lnTo>
                  <a:lnTo>
                    <a:pt x="32" y="83"/>
                  </a:lnTo>
                  <a:lnTo>
                    <a:pt x="19" y="64"/>
                  </a:lnTo>
                  <a:lnTo>
                    <a:pt x="9" y="43"/>
                  </a:lnTo>
                  <a:lnTo>
                    <a:pt x="3" y="21"/>
                  </a:lnTo>
                  <a:lnTo>
                    <a:pt x="0" y="0"/>
                  </a:lnTo>
                  <a:lnTo>
                    <a:pt x="2" y="13"/>
                  </a:lnTo>
                  <a:lnTo>
                    <a:pt x="6" y="39"/>
                  </a:lnTo>
                  <a:lnTo>
                    <a:pt x="13" y="64"/>
                  </a:lnTo>
                  <a:lnTo>
                    <a:pt x="25" y="89"/>
                  </a:lnTo>
                  <a:lnTo>
                    <a:pt x="40" y="112"/>
                  </a:lnTo>
                  <a:lnTo>
                    <a:pt x="59" y="135"/>
                  </a:lnTo>
                  <a:lnTo>
                    <a:pt x="81" y="156"/>
                  </a:lnTo>
                  <a:lnTo>
                    <a:pt x="105" y="176"/>
                  </a:lnTo>
                  <a:lnTo>
                    <a:pt x="132" y="194"/>
                  </a:lnTo>
                  <a:lnTo>
                    <a:pt x="161" y="209"/>
                  </a:lnTo>
                  <a:lnTo>
                    <a:pt x="193" y="224"/>
                  </a:lnTo>
                  <a:lnTo>
                    <a:pt x="227" y="235"/>
                  </a:lnTo>
                  <a:lnTo>
                    <a:pt x="262" y="244"/>
                  </a:lnTo>
                  <a:lnTo>
                    <a:pt x="299" y="251"/>
                  </a:lnTo>
                  <a:lnTo>
                    <a:pt x="334" y="255"/>
                  </a:lnTo>
                  <a:lnTo>
                    <a:pt x="372" y="257"/>
                  </a:lnTo>
                  <a:lnTo>
                    <a:pt x="803" y="257"/>
                  </a:lnTo>
                  <a:lnTo>
                    <a:pt x="830" y="259"/>
                  </a:lnTo>
                  <a:lnTo>
                    <a:pt x="856" y="262"/>
                  </a:lnTo>
                  <a:lnTo>
                    <a:pt x="879" y="269"/>
                  </a:lnTo>
                  <a:lnTo>
                    <a:pt x="903" y="277"/>
                  </a:lnTo>
                  <a:lnTo>
                    <a:pt x="923" y="289"/>
                  </a:lnTo>
                  <a:lnTo>
                    <a:pt x="943" y="302"/>
                  </a:lnTo>
                  <a:lnTo>
                    <a:pt x="958" y="317"/>
                  </a:lnTo>
                  <a:lnTo>
                    <a:pt x="971" y="333"/>
                  </a:lnTo>
                  <a:lnTo>
                    <a:pt x="980" y="350"/>
                  </a:lnTo>
                  <a:lnTo>
                    <a:pt x="986" y="369"/>
                  </a:lnTo>
                  <a:lnTo>
                    <a:pt x="990" y="387"/>
                  </a:lnTo>
                  <a:lnTo>
                    <a:pt x="990" y="389"/>
                  </a:lnTo>
                  <a:lnTo>
                    <a:pt x="992" y="370"/>
                  </a:lnTo>
                  <a:lnTo>
                    <a:pt x="997" y="352"/>
                  </a:lnTo>
                  <a:lnTo>
                    <a:pt x="1007" y="335"/>
                  </a:lnTo>
                  <a:lnTo>
                    <a:pt x="1019" y="318"/>
                  </a:lnTo>
                  <a:lnTo>
                    <a:pt x="1035" y="304"/>
                  </a:lnTo>
                  <a:lnTo>
                    <a:pt x="1053" y="290"/>
                  </a:lnTo>
                  <a:lnTo>
                    <a:pt x="1073" y="279"/>
                  </a:lnTo>
                  <a:lnTo>
                    <a:pt x="1097" y="270"/>
                  </a:lnTo>
                  <a:lnTo>
                    <a:pt x="1120" y="263"/>
                  </a:lnTo>
                  <a:lnTo>
                    <a:pt x="1146" y="259"/>
                  </a:lnTo>
                  <a:lnTo>
                    <a:pt x="1172" y="257"/>
                  </a:lnTo>
                  <a:lnTo>
                    <a:pt x="1175" y="257"/>
                  </a:lnTo>
                  <a:lnTo>
                    <a:pt x="1608" y="257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0" name="Rectangle 9"/>
          <p:cNvSpPr/>
          <p:nvPr/>
        </p:nvSpPr>
        <p:spPr>
          <a:xfrm>
            <a:off x="266760" y="1690560"/>
            <a:ext cx="8759880" cy="9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Actual Hours            Actual Hours</a:t>
            </a: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      Standard Hours</a:t>
            </a:r>
            <a:br>
              <a:rPr sz="2400"/>
            </a:b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            ×                               ×                                 × </a:t>
            </a:r>
            <a:br>
              <a:rPr sz="2400"/>
            </a:b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    Actual Rate             Standard Rate           Standard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10"/>
          <p:cNvSpPr/>
          <p:nvPr/>
        </p:nvSpPr>
        <p:spPr>
          <a:xfrm>
            <a:off x="455760" y="2603520"/>
            <a:ext cx="2193840" cy="0"/>
          </a:xfrm>
          <a:prstGeom prst="line">
            <a:avLst/>
          </a:prstGeom>
          <a:ln w="28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11"/>
          <p:cNvSpPr/>
          <p:nvPr/>
        </p:nvSpPr>
        <p:spPr>
          <a:xfrm>
            <a:off x="3402000" y="2603520"/>
            <a:ext cx="2193840" cy="0"/>
          </a:xfrm>
          <a:prstGeom prst="line">
            <a:avLst/>
          </a:prstGeom>
          <a:ln w="28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12"/>
          <p:cNvSpPr/>
          <p:nvPr/>
        </p:nvSpPr>
        <p:spPr>
          <a:xfrm>
            <a:off x="6416640" y="2603520"/>
            <a:ext cx="2193840" cy="0"/>
          </a:xfrm>
          <a:prstGeom prst="line">
            <a:avLst/>
          </a:prstGeom>
          <a:ln w="28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Group 13"/>
          <p:cNvGrpSpPr/>
          <p:nvPr/>
        </p:nvGrpSpPr>
        <p:grpSpPr>
          <a:xfrm>
            <a:off x="1905120" y="3048120"/>
            <a:ext cx="4876200" cy="825480"/>
            <a:chOff x="1905120" y="3048120"/>
            <a:chExt cx="4876200" cy="825480"/>
          </a:xfrm>
        </p:grpSpPr>
        <p:sp>
          <p:nvSpPr>
            <p:cNvPr id="765" name="Line 14"/>
            <p:cNvSpPr/>
            <p:nvPr/>
          </p:nvSpPr>
          <p:spPr>
            <a:xfrm flipV="1">
              <a:off x="6095880" y="3048120"/>
              <a:ext cx="6854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Text Box 15"/>
            <p:cNvSpPr/>
            <p:nvPr/>
          </p:nvSpPr>
          <p:spPr>
            <a:xfrm>
              <a:off x="1905120" y="3048120"/>
              <a:ext cx="4495680" cy="825480"/>
            </a:xfrm>
            <a:prstGeom prst="rect">
              <a:avLst/>
            </a:prstGeom>
            <a:solidFill>
              <a:srgbClr val="cc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2 hours per parka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2,000 parkas = 2,400 hou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Variable Manufacturing Overhead Variances Summary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graphicFrame>
        <p:nvGraphicFramePr>
          <p:cNvPr id="768" name="Object 2"/>
          <p:cNvGraphicFramePr/>
          <p:nvPr/>
        </p:nvGraphicFramePr>
        <p:xfrm>
          <a:off x="7162920" y="5689440"/>
          <a:ext cx="160020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689440"/>
                    <a:ext cx="160020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0" name="Rectangle 2"/>
          <p:cNvSpPr/>
          <p:nvPr/>
        </p:nvSpPr>
        <p:spPr>
          <a:xfrm>
            <a:off x="266760" y="2668680"/>
            <a:ext cx="8607240" cy="174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464646"/>
                </a:solidFill>
                <a:latin typeface="Arial"/>
              </a:rPr>
              <a:t>2,500 hours                 2,500 hours                  2,400 hours</a:t>
            </a:r>
            <a:br>
              <a:rPr sz="2400"/>
            </a:br>
            <a:r>
              <a:rPr b="0" lang="en-US" sz="2400" spc="-1" strike="noStrike">
                <a:solidFill>
                  <a:srgbClr val="464646"/>
                </a:solidFill>
                <a:latin typeface="Arial"/>
              </a:rPr>
              <a:t>           ×                                 ×                                  ×</a:t>
            </a:r>
            <a:br>
              <a:rPr sz="2400"/>
            </a:br>
            <a:r>
              <a:rPr b="0" lang="en-US" sz="2400" spc="-1" strike="noStrike">
                <a:solidFill>
                  <a:srgbClr val="464646"/>
                </a:solidFill>
                <a:latin typeface="Arial"/>
              </a:rPr>
              <a:t> $4.20 per hour            $4.00 per hour              $4.00 per h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 $10,500                    = $10,000                      = $9,600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1" name="Group 3"/>
          <p:cNvGrpSpPr/>
          <p:nvPr/>
        </p:nvGrpSpPr>
        <p:grpSpPr>
          <a:xfrm>
            <a:off x="876240" y="4341960"/>
            <a:ext cx="3882960" cy="1507680"/>
            <a:chOff x="876240" y="4341960"/>
            <a:chExt cx="3882960" cy="1507680"/>
          </a:xfrm>
        </p:grpSpPr>
        <p:sp>
          <p:nvSpPr>
            <p:cNvPr id="772" name="Freeform 4"/>
            <p:cNvSpPr/>
            <p:nvPr/>
          </p:nvSpPr>
          <p:spPr>
            <a:xfrm>
              <a:off x="1235160" y="4341960"/>
              <a:ext cx="3143160" cy="618840"/>
            </a:xfrm>
            <a:custGeom>
              <a:avLst/>
              <a:gdLst>
                <a:gd name="textAreaLeft" fmla="*/ 0 w 3143160"/>
                <a:gd name="textAreaRight" fmla="*/ 3143520 w 3143160"/>
                <a:gd name="textAreaTop" fmla="*/ 0 h 618840"/>
                <a:gd name="textAreaBottom" fmla="*/ 619200 h 618840"/>
              </a:gdLst>
              <a:ahLst/>
              <a:rect l="textAreaLeft" t="textAreaTop" r="textAreaRight" b="textAreaBottom"/>
              <a:pathLst>
                <a:path w="1980" h="390">
                  <a:moveTo>
                    <a:pt x="1608" y="257"/>
                  </a:moveTo>
                  <a:lnTo>
                    <a:pt x="1645" y="255"/>
                  </a:lnTo>
                  <a:lnTo>
                    <a:pt x="1681" y="251"/>
                  </a:lnTo>
                  <a:lnTo>
                    <a:pt x="1718" y="244"/>
                  </a:lnTo>
                  <a:lnTo>
                    <a:pt x="1753" y="235"/>
                  </a:lnTo>
                  <a:lnTo>
                    <a:pt x="1787" y="224"/>
                  </a:lnTo>
                  <a:lnTo>
                    <a:pt x="1819" y="209"/>
                  </a:lnTo>
                  <a:lnTo>
                    <a:pt x="1849" y="194"/>
                  </a:lnTo>
                  <a:lnTo>
                    <a:pt x="1876" y="176"/>
                  </a:lnTo>
                  <a:lnTo>
                    <a:pt x="1900" y="156"/>
                  </a:lnTo>
                  <a:lnTo>
                    <a:pt x="1922" y="135"/>
                  </a:lnTo>
                  <a:lnTo>
                    <a:pt x="1940" y="112"/>
                  </a:lnTo>
                  <a:lnTo>
                    <a:pt x="1955" y="89"/>
                  </a:lnTo>
                  <a:lnTo>
                    <a:pt x="1966" y="64"/>
                  </a:lnTo>
                  <a:lnTo>
                    <a:pt x="1975" y="39"/>
                  </a:lnTo>
                  <a:lnTo>
                    <a:pt x="1978" y="13"/>
                  </a:lnTo>
                  <a:lnTo>
                    <a:pt x="1979" y="0"/>
                  </a:lnTo>
                  <a:lnTo>
                    <a:pt x="1978" y="21"/>
                  </a:lnTo>
                  <a:lnTo>
                    <a:pt x="1972" y="43"/>
                  </a:lnTo>
                  <a:lnTo>
                    <a:pt x="1961" y="64"/>
                  </a:lnTo>
                  <a:lnTo>
                    <a:pt x="1949" y="83"/>
                  </a:lnTo>
                  <a:lnTo>
                    <a:pt x="1933" y="102"/>
                  </a:lnTo>
                  <a:lnTo>
                    <a:pt x="1913" y="119"/>
                  </a:lnTo>
                  <a:lnTo>
                    <a:pt x="1891" y="134"/>
                  </a:lnTo>
                  <a:lnTo>
                    <a:pt x="1866" y="148"/>
                  </a:lnTo>
                  <a:lnTo>
                    <a:pt x="1839" y="159"/>
                  </a:lnTo>
                  <a:lnTo>
                    <a:pt x="1810" y="168"/>
                  </a:lnTo>
                  <a:lnTo>
                    <a:pt x="1781" y="174"/>
                  </a:lnTo>
                  <a:lnTo>
                    <a:pt x="1751" y="179"/>
                  </a:lnTo>
                  <a:lnTo>
                    <a:pt x="1719" y="180"/>
                  </a:lnTo>
                  <a:lnTo>
                    <a:pt x="1214" y="180"/>
                  </a:lnTo>
                  <a:lnTo>
                    <a:pt x="1185" y="182"/>
                  </a:lnTo>
                  <a:lnTo>
                    <a:pt x="1157" y="186"/>
                  </a:lnTo>
                  <a:lnTo>
                    <a:pt x="1129" y="193"/>
                  </a:lnTo>
                  <a:lnTo>
                    <a:pt x="1103" y="202"/>
                  </a:lnTo>
                  <a:lnTo>
                    <a:pt x="1080" y="213"/>
                  </a:lnTo>
                  <a:lnTo>
                    <a:pt x="1058" y="227"/>
                  </a:lnTo>
                  <a:lnTo>
                    <a:pt x="1038" y="242"/>
                  </a:lnTo>
                  <a:lnTo>
                    <a:pt x="1022" y="258"/>
                  </a:lnTo>
                  <a:lnTo>
                    <a:pt x="1010" y="276"/>
                  </a:lnTo>
                  <a:lnTo>
                    <a:pt x="1000" y="295"/>
                  </a:lnTo>
                  <a:lnTo>
                    <a:pt x="994" y="316"/>
                  </a:lnTo>
                  <a:lnTo>
                    <a:pt x="991" y="335"/>
                  </a:lnTo>
                  <a:lnTo>
                    <a:pt x="990" y="338"/>
                  </a:lnTo>
                  <a:lnTo>
                    <a:pt x="990" y="335"/>
                  </a:lnTo>
                  <a:lnTo>
                    <a:pt x="986" y="316"/>
                  </a:lnTo>
                  <a:lnTo>
                    <a:pt x="980" y="295"/>
                  </a:lnTo>
                  <a:lnTo>
                    <a:pt x="971" y="276"/>
                  </a:lnTo>
                  <a:lnTo>
                    <a:pt x="958" y="258"/>
                  </a:lnTo>
                  <a:lnTo>
                    <a:pt x="941" y="242"/>
                  </a:lnTo>
                  <a:lnTo>
                    <a:pt x="922" y="227"/>
                  </a:lnTo>
                  <a:lnTo>
                    <a:pt x="900" y="213"/>
                  </a:lnTo>
                  <a:lnTo>
                    <a:pt x="876" y="202"/>
                  </a:lnTo>
                  <a:lnTo>
                    <a:pt x="851" y="193"/>
                  </a:lnTo>
                  <a:lnTo>
                    <a:pt x="824" y="186"/>
                  </a:lnTo>
                  <a:lnTo>
                    <a:pt x="795" y="182"/>
                  </a:lnTo>
                  <a:lnTo>
                    <a:pt x="766" y="180"/>
                  </a:lnTo>
                  <a:lnTo>
                    <a:pt x="261" y="180"/>
                  </a:lnTo>
                  <a:lnTo>
                    <a:pt x="231" y="179"/>
                  </a:lnTo>
                  <a:lnTo>
                    <a:pt x="199" y="174"/>
                  </a:lnTo>
                  <a:lnTo>
                    <a:pt x="169" y="168"/>
                  </a:lnTo>
                  <a:lnTo>
                    <a:pt x="141" y="159"/>
                  </a:lnTo>
                  <a:lnTo>
                    <a:pt x="115" y="148"/>
                  </a:lnTo>
                  <a:lnTo>
                    <a:pt x="90" y="134"/>
                  </a:lnTo>
                  <a:lnTo>
                    <a:pt x="67" y="119"/>
                  </a:lnTo>
                  <a:lnTo>
                    <a:pt x="48" y="102"/>
                  </a:lnTo>
                  <a:lnTo>
                    <a:pt x="32" y="83"/>
                  </a:lnTo>
                  <a:lnTo>
                    <a:pt x="19" y="64"/>
                  </a:lnTo>
                  <a:lnTo>
                    <a:pt x="9" y="43"/>
                  </a:lnTo>
                  <a:lnTo>
                    <a:pt x="3" y="21"/>
                  </a:lnTo>
                  <a:lnTo>
                    <a:pt x="0" y="0"/>
                  </a:lnTo>
                  <a:lnTo>
                    <a:pt x="2" y="13"/>
                  </a:lnTo>
                  <a:lnTo>
                    <a:pt x="6" y="39"/>
                  </a:lnTo>
                  <a:lnTo>
                    <a:pt x="13" y="64"/>
                  </a:lnTo>
                  <a:lnTo>
                    <a:pt x="25" y="89"/>
                  </a:lnTo>
                  <a:lnTo>
                    <a:pt x="40" y="112"/>
                  </a:lnTo>
                  <a:lnTo>
                    <a:pt x="59" y="135"/>
                  </a:lnTo>
                  <a:lnTo>
                    <a:pt x="81" y="156"/>
                  </a:lnTo>
                  <a:lnTo>
                    <a:pt x="105" y="176"/>
                  </a:lnTo>
                  <a:lnTo>
                    <a:pt x="132" y="194"/>
                  </a:lnTo>
                  <a:lnTo>
                    <a:pt x="161" y="209"/>
                  </a:lnTo>
                  <a:lnTo>
                    <a:pt x="193" y="224"/>
                  </a:lnTo>
                  <a:lnTo>
                    <a:pt x="227" y="235"/>
                  </a:lnTo>
                  <a:lnTo>
                    <a:pt x="262" y="244"/>
                  </a:lnTo>
                  <a:lnTo>
                    <a:pt x="299" y="251"/>
                  </a:lnTo>
                  <a:lnTo>
                    <a:pt x="334" y="255"/>
                  </a:lnTo>
                  <a:lnTo>
                    <a:pt x="372" y="257"/>
                  </a:lnTo>
                  <a:lnTo>
                    <a:pt x="803" y="257"/>
                  </a:lnTo>
                  <a:lnTo>
                    <a:pt x="830" y="259"/>
                  </a:lnTo>
                  <a:lnTo>
                    <a:pt x="856" y="262"/>
                  </a:lnTo>
                  <a:lnTo>
                    <a:pt x="879" y="269"/>
                  </a:lnTo>
                  <a:lnTo>
                    <a:pt x="903" y="277"/>
                  </a:lnTo>
                  <a:lnTo>
                    <a:pt x="923" y="289"/>
                  </a:lnTo>
                  <a:lnTo>
                    <a:pt x="943" y="302"/>
                  </a:lnTo>
                  <a:lnTo>
                    <a:pt x="958" y="317"/>
                  </a:lnTo>
                  <a:lnTo>
                    <a:pt x="971" y="333"/>
                  </a:lnTo>
                  <a:lnTo>
                    <a:pt x="980" y="350"/>
                  </a:lnTo>
                  <a:lnTo>
                    <a:pt x="986" y="369"/>
                  </a:lnTo>
                  <a:lnTo>
                    <a:pt x="990" y="387"/>
                  </a:lnTo>
                  <a:lnTo>
                    <a:pt x="990" y="389"/>
                  </a:lnTo>
                  <a:lnTo>
                    <a:pt x="992" y="370"/>
                  </a:lnTo>
                  <a:lnTo>
                    <a:pt x="997" y="352"/>
                  </a:lnTo>
                  <a:lnTo>
                    <a:pt x="1007" y="335"/>
                  </a:lnTo>
                  <a:lnTo>
                    <a:pt x="1019" y="318"/>
                  </a:lnTo>
                  <a:lnTo>
                    <a:pt x="1035" y="304"/>
                  </a:lnTo>
                  <a:lnTo>
                    <a:pt x="1053" y="290"/>
                  </a:lnTo>
                  <a:lnTo>
                    <a:pt x="1073" y="279"/>
                  </a:lnTo>
                  <a:lnTo>
                    <a:pt x="1097" y="270"/>
                  </a:lnTo>
                  <a:lnTo>
                    <a:pt x="1120" y="263"/>
                  </a:lnTo>
                  <a:lnTo>
                    <a:pt x="1146" y="259"/>
                  </a:lnTo>
                  <a:lnTo>
                    <a:pt x="1172" y="257"/>
                  </a:lnTo>
                  <a:lnTo>
                    <a:pt x="1175" y="257"/>
                  </a:lnTo>
                  <a:lnTo>
                    <a:pt x="1608" y="257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5"/>
            <p:cNvSpPr/>
            <p:nvPr/>
          </p:nvSpPr>
          <p:spPr>
            <a:xfrm>
              <a:off x="876240" y="5029200"/>
              <a:ext cx="38829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Rate variance</a:t>
              </a:r>
              <a:br>
                <a:rPr sz="2400"/>
              </a:b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$500 unfavora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4" name="Group 6"/>
          <p:cNvGrpSpPr/>
          <p:nvPr/>
        </p:nvGrpSpPr>
        <p:grpSpPr>
          <a:xfrm>
            <a:off x="4248000" y="4341960"/>
            <a:ext cx="3883320" cy="1507680"/>
            <a:chOff x="4248000" y="4341960"/>
            <a:chExt cx="3883320" cy="1507680"/>
          </a:xfrm>
        </p:grpSpPr>
        <p:sp>
          <p:nvSpPr>
            <p:cNvPr id="775" name="Rectangle 7"/>
            <p:cNvSpPr/>
            <p:nvPr/>
          </p:nvSpPr>
          <p:spPr>
            <a:xfrm>
              <a:off x="4248000" y="5029200"/>
              <a:ext cx="38833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Efficiency variance</a:t>
              </a:r>
              <a:br>
                <a:rPr sz="2400"/>
              </a:b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$400 unfavora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8"/>
            <p:cNvSpPr/>
            <p:nvPr/>
          </p:nvSpPr>
          <p:spPr>
            <a:xfrm>
              <a:off x="4589640" y="4341960"/>
              <a:ext cx="3143160" cy="618840"/>
            </a:xfrm>
            <a:custGeom>
              <a:avLst/>
              <a:gdLst>
                <a:gd name="textAreaLeft" fmla="*/ 0 w 3143160"/>
                <a:gd name="textAreaRight" fmla="*/ 3143520 w 3143160"/>
                <a:gd name="textAreaTop" fmla="*/ 0 h 618840"/>
                <a:gd name="textAreaBottom" fmla="*/ 619200 h 618840"/>
              </a:gdLst>
              <a:ahLst/>
              <a:rect l="textAreaLeft" t="textAreaTop" r="textAreaRight" b="textAreaBottom"/>
              <a:pathLst>
                <a:path w="1980" h="390">
                  <a:moveTo>
                    <a:pt x="1608" y="257"/>
                  </a:moveTo>
                  <a:lnTo>
                    <a:pt x="1645" y="255"/>
                  </a:lnTo>
                  <a:lnTo>
                    <a:pt x="1681" y="251"/>
                  </a:lnTo>
                  <a:lnTo>
                    <a:pt x="1718" y="244"/>
                  </a:lnTo>
                  <a:lnTo>
                    <a:pt x="1753" y="235"/>
                  </a:lnTo>
                  <a:lnTo>
                    <a:pt x="1787" y="224"/>
                  </a:lnTo>
                  <a:lnTo>
                    <a:pt x="1819" y="209"/>
                  </a:lnTo>
                  <a:lnTo>
                    <a:pt x="1849" y="194"/>
                  </a:lnTo>
                  <a:lnTo>
                    <a:pt x="1876" y="176"/>
                  </a:lnTo>
                  <a:lnTo>
                    <a:pt x="1900" y="156"/>
                  </a:lnTo>
                  <a:lnTo>
                    <a:pt x="1922" y="135"/>
                  </a:lnTo>
                  <a:lnTo>
                    <a:pt x="1940" y="112"/>
                  </a:lnTo>
                  <a:lnTo>
                    <a:pt x="1955" y="89"/>
                  </a:lnTo>
                  <a:lnTo>
                    <a:pt x="1966" y="64"/>
                  </a:lnTo>
                  <a:lnTo>
                    <a:pt x="1975" y="39"/>
                  </a:lnTo>
                  <a:lnTo>
                    <a:pt x="1978" y="13"/>
                  </a:lnTo>
                  <a:lnTo>
                    <a:pt x="1979" y="0"/>
                  </a:lnTo>
                  <a:lnTo>
                    <a:pt x="1978" y="21"/>
                  </a:lnTo>
                  <a:lnTo>
                    <a:pt x="1972" y="43"/>
                  </a:lnTo>
                  <a:lnTo>
                    <a:pt x="1961" y="64"/>
                  </a:lnTo>
                  <a:lnTo>
                    <a:pt x="1949" y="83"/>
                  </a:lnTo>
                  <a:lnTo>
                    <a:pt x="1933" y="102"/>
                  </a:lnTo>
                  <a:lnTo>
                    <a:pt x="1913" y="119"/>
                  </a:lnTo>
                  <a:lnTo>
                    <a:pt x="1891" y="134"/>
                  </a:lnTo>
                  <a:lnTo>
                    <a:pt x="1866" y="148"/>
                  </a:lnTo>
                  <a:lnTo>
                    <a:pt x="1839" y="159"/>
                  </a:lnTo>
                  <a:lnTo>
                    <a:pt x="1810" y="168"/>
                  </a:lnTo>
                  <a:lnTo>
                    <a:pt x="1781" y="174"/>
                  </a:lnTo>
                  <a:lnTo>
                    <a:pt x="1751" y="179"/>
                  </a:lnTo>
                  <a:lnTo>
                    <a:pt x="1719" y="180"/>
                  </a:lnTo>
                  <a:lnTo>
                    <a:pt x="1214" y="180"/>
                  </a:lnTo>
                  <a:lnTo>
                    <a:pt x="1185" y="182"/>
                  </a:lnTo>
                  <a:lnTo>
                    <a:pt x="1157" y="186"/>
                  </a:lnTo>
                  <a:lnTo>
                    <a:pt x="1129" y="193"/>
                  </a:lnTo>
                  <a:lnTo>
                    <a:pt x="1103" y="202"/>
                  </a:lnTo>
                  <a:lnTo>
                    <a:pt x="1080" y="213"/>
                  </a:lnTo>
                  <a:lnTo>
                    <a:pt x="1058" y="227"/>
                  </a:lnTo>
                  <a:lnTo>
                    <a:pt x="1038" y="242"/>
                  </a:lnTo>
                  <a:lnTo>
                    <a:pt x="1022" y="258"/>
                  </a:lnTo>
                  <a:lnTo>
                    <a:pt x="1010" y="276"/>
                  </a:lnTo>
                  <a:lnTo>
                    <a:pt x="1000" y="295"/>
                  </a:lnTo>
                  <a:lnTo>
                    <a:pt x="994" y="316"/>
                  </a:lnTo>
                  <a:lnTo>
                    <a:pt x="991" y="335"/>
                  </a:lnTo>
                  <a:lnTo>
                    <a:pt x="990" y="338"/>
                  </a:lnTo>
                  <a:lnTo>
                    <a:pt x="990" y="335"/>
                  </a:lnTo>
                  <a:lnTo>
                    <a:pt x="986" y="316"/>
                  </a:lnTo>
                  <a:lnTo>
                    <a:pt x="980" y="295"/>
                  </a:lnTo>
                  <a:lnTo>
                    <a:pt x="971" y="276"/>
                  </a:lnTo>
                  <a:lnTo>
                    <a:pt x="958" y="258"/>
                  </a:lnTo>
                  <a:lnTo>
                    <a:pt x="941" y="242"/>
                  </a:lnTo>
                  <a:lnTo>
                    <a:pt x="922" y="227"/>
                  </a:lnTo>
                  <a:lnTo>
                    <a:pt x="900" y="213"/>
                  </a:lnTo>
                  <a:lnTo>
                    <a:pt x="876" y="202"/>
                  </a:lnTo>
                  <a:lnTo>
                    <a:pt x="851" y="193"/>
                  </a:lnTo>
                  <a:lnTo>
                    <a:pt x="824" y="186"/>
                  </a:lnTo>
                  <a:lnTo>
                    <a:pt x="795" y="182"/>
                  </a:lnTo>
                  <a:lnTo>
                    <a:pt x="766" y="180"/>
                  </a:lnTo>
                  <a:lnTo>
                    <a:pt x="261" y="180"/>
                  </a:lnTo>
                  <a:lnTo>
                    <a:pt x="231" y="179"/>
                  </a:lnTo>
                  <a:lnTo>
                    <a:pt x="199" y="174"/>
                  </a:lnTo>
                  <a:lnTo>
                    <a:pt x="169" y="168"/>
                  </a:lnTo>
                  <a:lnTo>
                    <a:pt x="141" y="159"/>
                  </a:lnTo>
                  <a:lnTo>
                    <a:pt x="115" y="148"/>
                  </a:lnTo>
                  <a:lnTo>
                    <a:pt x="90" y="134"/>
                  </a:lnTo>
                  <a:lnTo>
                    <a:pt x="67" y="119"/>
                  </a:lnTo>
                  <a:lnTo>
                    <a:pt x="48" y="102"/>
                  </a:lnTo>
                  <a:lnTo>
                    <a:pt x="32" y="83"/>
                  </a:lnTo>
                  <a:lnTo>
                    <a:pt x="19" y="64"/>
                  </a:lnTo>
                  <a:lnTo>
                    <a:pt x="9" y="43"/>
                  </a:lnTo>
                  <a:lnTo>
                    <a:pt x="3" y="21"/>
                  </a:lnTo>
                  <a:lnTo>
                    <a:pt x="0" y="0"/>
                  </a:lnTo>
                  <a:lnTo>
                    <a:pt x="2" y="13"/>
                  </a:lnTo>
                  <a:lnTo>
                    <a:pt x="6" y="39"/>
                  </a:lnTo>
                  <a:lnTo>
                    <a:pt x="13" y="64"/>
                  </a:lnTo>
                  <a:lnTo>
                    <a:pt x="25" y="89"/>
                  </a:lnTo>
                  <a:lnTo>
                    <a:pt x="40" y="112"/>
                  </a:lnTo>
                  <a:lnTo>
                    <a:pt x="59" y="135"/>
                  </a:lnTo>
                  <a:lnTo>
                    <a:pt x="81" y="156"/>
                  </a:lnTo>
                  <a:lnTo>
                    <a:pt x="105" y="176"/>
                  </a:lnTo>
                  <a:lnTo>
                    <a:pt x="132" y="194"/>
                  </a:lnTo>
                  <a:lnTo>
                    <a:pt x="161" y="209"/>
                  </a:lnTo>
                  <a:lnTo>
                    <a:pt x="193" y="224"/>
                  </a:lnTo>
                  <a:lnTo>
                    <a:pt x="227" y="235"/>
                  </a:lnTo>
                  <a:lnTo>
                    <a:pt x="262" y="244"/>
                  </a:lnTo>
                  <a:lnTo>
                    <a:pt x="299" y="251"/>
                  </a:lnTo>
                  <a:lnTo>
                    <a:pt x="334" y="255"/>
                  </a:lnTo>
                  <a:lnTo>
                    <a:pt x="372" y="257"/>
                  </a:lnTo>
                  <a:lnTo>
                    <a:pt x="803" y="257"/>
                  </a:lnTo>
                  <a:lnTo>
                    <a:pt x="830" y="259"/>
                  </a:lnTo>
                  <a:lnTo>
                    <a:pt x="856" y="262"/>
                  </a:lnTo>
                  <a:lnTo>
                    <a:pt x="879" y="269"/>
                  </a:lnTo>
                  <a:lnTo>
                    <a:pt x="903" y="277"/>
                  </a:lnTo>
                  <a:lnTo>
                    <a:pt x="923" y="289"/>
                  </a:lnTo>
                  <a:lnTo>
                    <a:pt x="943" y="302"/>
                  </a:lnTo>
                  <a:lnTo>
                    <a:pt x="958" y="317"/>
                  </a:lnTo>
                  <a:lnTo>
                    <a:pt x="971" y="333"/>
                  </a:lnTo>
                  <a:lnTo>
                    <a:pt x="980" y="350"/>
                  </a:lnTo>
                  <a:lnTo>
                    <a:pt x="986" y="369"/>
                  </a:lnTo>
                  <a:lnTo>
                    <a:pt x="990" y="387"/>
                  </a:lnTo>
                  <a:lnTo>
                    <a:pt x="990" y="389"/>
                  </a:lnTo>
                  <a:lnTo>
                    <a:pt x="992" y="370"/>
                  </a:lnTo>
                  <a:lnTo>
                    <a:pt x="997" y="352"/>
                  </a:lnTo>
                  <a:lnTo>
                    <a:pt x="1007" y="335"/>
                  </a:lnTo>
                  <a:lnTo>
                    <a:pt x="1019" y="318"/>
                  </a:lnTo>
                  <a:lnTo>
                    <a:pt x="1035" y="304"/>
                  </a:lnTo>
                  <a:lnTo>
                    <a:pt x="1053" y="290"/>
                  </a:lnTo>
                  <a:lnTo>
                    <a:pt x="1073" y="279"/>
                  </a:lnTo>
                  <a:lnTo>
                    <a:pt x="1097" y="270"/>
                  </a:lnTo>
                  <a:lnTo>
                    <a:pt x="1120" y="263"/>
                  </a:lnTo>
                  <a:lnTo>
                    <a:pt x="1146" y="259"/>
                  </a:lnTo>
                  <a:lnTo>
                    <a:pt x="1172" y="257"/>
                  </a:lnTo>
                  <a:lnTo>
                    <a:pt x="1175" y="257"/>
                  </a:lnTo>
                  <a:lnTo>
                    <a:pt x="1608" y="257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7" name="Rectangle 9"/>
          <p:cNvSpPr/>
          <p:nvPr/>
        </p:nvSpPr>
        <p:spPr>
          <a:xfrm>
            <a:off x="266760" y="1690560"/>
            <a:ext cx="8759880" cy="9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Actual Hours            Actual Hours</a:t>
            </a: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      Standard Hours</a:t>
            </a:r>
            <a:br>
              <a:rPr sz="2400"/>
            </a:b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            ×                               ×                                 × </a:t>
            </a:r>
            <a:br>
              <a:rPr sz="2400"/>
            </a:b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    Actual Rate             Standard Rate           Standard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Line 10"/>
          <p:cNvSpPr/>
          <p:nvPr/>
        </p:nvSpPr>
        <p:spPr>
          <a:xfrm>
            <a:off x="455760" y="2603520"/>
            <a:ext cx="2193840" cy="0"/>
          </a:xfrm>
          <a:prstGeom prst="line">
            <a:avLst/>
          </a:prstGeom>
          <a:ln w="28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Line 11"/>
          <p:cNvSpPr/>
          <p:nvPr/>
        </p:nvSpPr>
        <p:spPr>
          <a:xfrm>
            <a:off x="3402000" y="2603520"/>
            <a:ext cx="2193840" cy="0"/>
          </a:xfrm>
          <a:prstGeom prst="line">
            <a:avLst/>
          </a:prstGeom>
          <a:ln w="28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12"/>
          <p:cNvSpPr/>
          <p:nvPr/>
        </p:nvSpPr>
        <p:spPr>
          <a:xfrm>
            <a:off x="6416640" y="2603520"/>
            <a:ext cx="2193840" cy="0"/>
          </a:xfrm>
          <a:prstGeom prst="line">
            <a:avLst/>
          </a:prstGeom>
          <a:ln w="28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1" name="Group 14"/>
          <p:cNvGrpSpPr/>
          <p:nvPr/>
        </p:nvGrpSpPr>
        <p:grpSpPr>
          <a:xfrm>
            <a:off x="2437920" y="3035160"/>
            <a:ext cx="4003920" cy="825480"/>
            <a:chOff x="2437920" y="3035160"/>
            <a:chExt cx="4003920" cy="825480"/>
          </a:xfrm>
        </p:grpSpPr>
        <p:sp>
          <p:nvSpPr>
            <p:cNvPr id="782" name="Line 15"/>
            <p:cNvSpPr/>
            <p:nvPr/>
          </p:nvSpPr>
          <p:spPr>
            <a:xfrm flipH="1">
              <a:off x="2437920" y="3416040"/>
              <a:ext cx="70020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Text Box 16"/>
            <p:cNvSpPr/>
            <p:nvPr/>
          </p:nvSpPr>
          <p:spPr>
            <a:xfrm>
              <a:off x="3038760" y="3035160"/>
              <a:ext cx="3403080" cy="82548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$10,500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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2,500 hours = $4.20 per hou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l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  <a:ea typeface="Arial"/>
              </a:rPr>
              <a:t>Variable Manufacturing Overhead Variances: Using Factored Equations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953240"/>
          </a:xfrm>
          <a:prstGeom prst="rect">
            <a:avLst/>
          </a:prstGeom>
          <a:solidFill>
            <a:srgbClr val="f2f2f2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65040" indent="0">
              <a:spcBef>
                <a:spcPts val="300"/>
              </a:spcBef>
              <a:buNone/>
              <a:tabLst>
                <a:tab algn="l" pos="0"/>
                <a:tab algn="ctr" pos="2057400"/>
                <a:tab algn="ctr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ariable manufacturing overhead rate vari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ctr" pos="2057400"/>
                <a:tab algn="ctr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e2d37"/>
                </a:solidFill>
                <a:latin typeface="Arial"/>
                <a:ea typeface="Arial"/>
              </a:rPr>
              <a:t>VMRV  = (AH × AR) – (AH – SR)</a:t>
            </a:r>
            <a:endParaRPr b="0" lang="en-US" sz="2200" spc="-1" strike="noStrike">
              <a:solidFill>
                <a:srgbClr val="da1f28"/>
              </a:solidFill>
              <a:latin typeface="Arial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ctr" pos="2057400"/>
                <a:tab algn="ctr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e2d37"/>
                </a:solidFill>
                <a:latin typeface="Arial"/>
                <a:ea typeface="Arial"/>
              </a:rPr>
              <a:t>            </a:t>
            </a:r>
            <a:r>
              <a:rPr b="0" lang="en-US" sz="2200" spc="-1" strike="noStrike">
                <a:solidFill>
                  <a:srgbClr val="5e2d37"/>
                </a:solidFill>
                <a:latin typeface="Arial"/>
                <a:ea typeface="Arial"/>
              </a:rPr>
              <a:t>= AH (AR – SR)</a:t>
            </a:r>
            <a:endParaRPr b="0" lang="en-US" sz="2200" spc="-1" strike="noStrike">
              <a:solidFill>
                <a:srgbClr val="da1f28"/>
              </a:solidFill>
              <a:latin typeface="Arial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ctr" pos="2057400"/>
                <a:tab algn="ctr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e2d37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5e2d37"/>
                </a:solidFill>
                <a:latin typeface="Arial"/>
                <a:ea typeface="Arial"/>
              </a:rPr>
              <a:t>         </a:t>
            </a:r>
            <a:r>
              <a:rPr b="0" lang="en-US" sz="2200" spc="-1" strike="noStrike">
                <a:solidFill>
                  <a:srgbClr val="5e2d37"/>
                </a:solidFill>
                <a:latin typeface="Arial"/>
                <a:ea typeface="Arial"/>
              </a:rPr>
              <a:t>= 2,500 hours ($4.20 per hour – $4.00 per hour)</a:t>
            </a:r>
            <a:endParaRPr b="0" lang="en-US" sz="2200" spc="-1" strike="noStrike">
              <a:solidFill>
                <a:srgbClr val="da1f28"/>
              </a:solidFill>
              <a:latin typeface="Arial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ctr" pos="2057400"/>
                <a:tab algn="ctr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e2d37"/>
                </a:solidFill>
                <a:latin typeface="Arial"/>
                <a:ea typeface="Arial"/>
              </a:rPr>
              <a:t>            </a:t>
            </a:r>
            <a:r>
              <a:rPr b="0" lang="en-US" sz="2200" spc="-1" strike="noStrike">
                <a:solidFill>
                  <a:srgbClr val="5e2d37"/>
                </a:solidFill>
                <a:latin typeface="Arial"/>
                <a:ea typeface="Arial"/>
              </a:rPr>
              <a:t>= 2,500 hours ($0.20 per hour)</a:t>
            </a:r>
            <a:endParaRPr b="0" lang="en-US" sz="2200" spc="-1" strike="noStrike">
              <a:solidFill>
                <a:srgbClr val="da1f28"/>
              </a:solidFill>
              <a:latin typeface="Arial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ctr" pos="2057400"/>
                <a:tab algn="ctr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e2d37"/>
                </a:solidFill>
                <a:latin typeface="Arial"/>
                <a:ea typeface="Arial"/>
              </a:rPr>
              <a:t>            </a:t>
            </a:r>
            <a:r>
              <a:rPr b="0" lang="en-US" sz="2200" spc="-1" strike="noStrike">
                <a:solidFill>
                  <a:srgbClr val="5e2d37"/>
                </a:solidFill>
                <a:latin typeface="Arial"/>
                <a:ea typeface="Arial"/>
              </a:rPr>
              <a:t>= $500 unfavorable</a:t>
            </a:r>
            <a:endParaRPr b="0" lang="en-US" sz="2200" spc="-1" strike="noStrike">
              <a:solidFill>
                <a:srgbClr val="da1f28"/>
              </a:solidFill>
              <a:latin typeface="Arial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ctr" pos="2057400"/>
                <a:tab algn="ctr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ariable manufacturing overhead efficiency vari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ctr" pos="2057400"/>
                <a:tab algn="ctr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e2d37"/>
                </a:solidFill>
                <a:latin typeface="Arial"/>
                <a:ea typeface="Arial"/>
              </a:rPr>
              <a:t>VMEV = (AH × SR) – (SH – SR)</a:t>
            </a:r>
            <a:endParaRPr b="0" lang="en-US" sz="2200" spc="-1" strike="noStrike">
              <a:solidFill>
                <a:srgbClr val="da1f28"/>
              </a:solidFill>
              <a:latin typeface="Arial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ctr" pos="2057400"/>
                <a:tab algn="ctr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e2d37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5e2d37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5e2d37"/>
                </a:solidFill>
                <a:latin typeface="Arial"/>
                <a:ea typeface="Arial"/>
              </a:rPr>
              <a:t>    </a:t>
            </a:r>
            <a:r>
              <a:rPr b="0" lang="en-US" sz="2200" spc="-1" strike="noStrike">
                <a:solidFill>
                  <a:srgbClr val="5e2d37"/>
                </a:solidFill>
                <a:latin typeface="Arial"/>
                <a:ea typeface="Arial"/>
              </a:rPr>
              <a:t>= SR (AH – SH)</a:t>
            </a:r>
            <a:endParaRPr b="0" lang="en-US" sz="2200" spc="-1" strike="noStrike">
              <a:solidFill>
                <a:srgbClr val="da1f28"/>
              </a:solidFill>
              <a:latin typeface="Arial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ctr" pos="2057400"/>
                <a:tab algn="ctr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e2d37"/>
                </a:solidFill>
                <a:latin typeface="Arial"/>
                <a:ea typeface="Arial"/>
              </a:rPr>
              <a:t>           </a:t>
            </a:r>
            <a:r>
              <a:rPr b="0" lang="en-US" sz="2200" spc="-1" strike="noStrike">
                <a:solidFill>
                  <a:srgbClr val="5e2d37"/>
                </a:solidFill>
                <a:latin typeface="Arial"/>
                <a:ea typeface="Arial"/>
              </a:rPr>
              <a:t>= $4.00 per hour (2,500 hours – 2,400 hours)</a:t>
            </a:r>
            <a:endParaRPr b="0" lang="en-US" sz="2200" spc="-1" strike="noStrike">
              <a:solidFill>
                <a:srgbClr val="da1f28"/>
              </a:solidFill>
              <a:latin typeface="Arial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ctr" pos="2057400"/>
                <a:tab algn="ctr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e2d37"/>
                </a:solidFill>
                <a:latin typeface="Arial"/>
                <a:ea typeface="Arial"/>
              </a:rPr>
              <a:t>           </a:t>
            </a:r>
            <a:r>
              <a:rPr b="0" lang="en-US" sz="2200" spc="-1" strike="noStrike">
                <a:solidFill>
                  <a:srgbClr val="5e2d37"/>
                </a:solidFill>
                <a:latin typeface="Arial"/>
                <a:ea typeface="Arial"/>
              </a:rPr>
              <a:t>= $4.00 per hour (100 hours) </a:t>
            </a:r>
            <a:endParaRPr b="0" lang="en-US" sz="2200" spc="-1" strike="noStrike">
              <a:solidFill>
                <a:srgbClr val="da1f28"/>
              </a:solidFill>
              <a:latin typeface="Arial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ctr" pos="2057400"/>
                <a:tab algn="ctr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e2d37"/>
                </a:solidFill>
                <a:latin typeface="Arial"/>
                <a:ea typeface="Arial"/>
              </a:rPr>
              <a:t>               </a:t>
            </a:r>
            <a:r>
              <a:rPr b="0" lang="en-US" sz="2200" spc="-1" strike="noStrike">
                <a:solidFill>
                  <a:srgbClr val="5e2d37"/>
                </a:solidFill>
                <a:latin typeface="Arial"/>
                <a:ea typeface="Arial"/>
              </a:rPr>
              <a:t>= $400 unfavor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ctr" pos="2057400"/>
                <a:tab algn="ctr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a1f28"/>
              </a:solidFill>
              <a:latin typeface="Arial"/>
            </a:endParaRPr>
          </a:p>
        </p:txBody>
      </p:sp>
      <p:graphicFrame>
        <p:nvGraphicFramePr>
          <p:cNvPr id="786" name="Object 2"/>
          <p:cNvGraphicFramePr/>
          <p:nvPr/>
        </p:nvGraphicFramePr>
        <p:xfrm>
          <a:off x="7162920" y="5689440"/>
          <a:ext cx="160020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689440"/>
                    <a:ext cx="160020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2"/>
          <p:cNvSpPr/>
          <p:nvPr/>
        </p:nvSpPr>
        <p:spPr>
          <a:xfrm>
            <a:off x="76320" y="2133720"/>
            <a:ext cx="8915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ef5fa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son Inc. has the following variabl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ufacturing overhead standard t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ufacture one Zipp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5 standard hours per Zippy at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$3.00 per direct labor h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week, 1,550 hours were worked to mak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000 Zippies, and $5,115 was spent f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 manufacturing overhe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9" name="Group 3"/>
          <p:cNvGrpSpPr/>
          <p:nvPr/>
        </p:nvGrpSpPr>
        <p:grpSpPr>
          <a:xfrm>
            <a:off x="7790040" y="496800"/>
            <a:ext cx="1201680" cy="1407960"/>
            <a:chOff x="7790040" y="496800"/>
            <a:chExt cx="1201680" cy="1407960"/>
          </a:xfrm>
        </p:grpSpPr>
        <p:grpSp>
          <p:nvGrpSpPr>
            <p:cNvPr id="790" name="Group 4"/>
            <p:cNvGrpSpPr/>
            <p:nvPr/>
          </p:nvGrpSpPr>
          <p:grpSpPr>
            <a:xfrm>
              <a:off x="7790040" y="496800"/>
              <a:ext cx="1028880" cy="1407960"/>
              <a:chOff x="7790040" y="496800"/>
              <a:chExt cx="1028880" cy="1407960"/>
            </a:xfrm>
          </p:grpSpPr>
          <p:grpSp>
            <p:nvGrpSpPr>
              <p:cNvPr id="791" name="Group 5"/>
              <p:cNvGrpSpPr/>
              <p:nvPr/>
            </p:nvGrpSpPr>
            <p:grpSpPr>
              <a:xfrm>
                <a:off x="7790040" y="576360"/>
                <a:ext cx="138240" cy="1250640"/>
                <a:chOff x="7790040" y="576360"/>
                <a:chExt cx="138240" cy="1250640"/>
              </a:xfrm>
            </p:grpSpPr>
            <p:sp>
              <p:nvSpPr>
                <p:cNvPr id="792" name="Freeform 6"/>
                <p:cNvSpPr/>
                <p:nvPr/>
              </p:nvSpPr>
              <p:spPr>
                <a:xfrm>
                  <a:off x="7790040" y="576360"/>
                  <a:ext cx="138240" cy="1250640"/>
                </a:xfrm>
                <a:custGeom>
                  <a:avLst/>
                  <a:gdLst>
                    <a:gd name="textAreaLeft" fmla="*/ 0 w 138240"/>
                    <a:gd name="textAreaRight" fmla="*/ 138600 w 138240"/>
                    <a:gd name="textAreaTop" fmla="*/ 0 h 1250640"/>
                    <a:gd name="textAreaBottom" fmla="*/ 1251000 h 1250640"/>
                  </a:gdLst>
                  <a:ahLst/>
                  <a:rect l="textAreaLeft" t="textAreaTop" r="textAreaRight" b="textAreaBottom"/>
                  <a:pathLst>
                    <a:path w="261" h="2363">
                      <a:moveTo>
                        <a:pt x="111" y="0"/>
                      </a:moveTo>
                      <a:lnTo>
                        <a:pt x="0" y="262"/>
                      </a:lnTo>
                      <a:lnTo>
                        <a:pt x="0" y="2100"/>
                      </a:lnTo>
                      <a:lnTo>
                        <a:pt x="149" y="2363"/>
                      </a:lnTo>
                      <a:lnTo>
                        <a:pt x="261" y="2100"/>
                      </a:lnTo>
                      <a:lnTo>
                        <a:pt x="261" y="226"/>
                      </a:lnTo>
                      <a:lnTo>
                        <a:pt x="111" y="0"/>
                      </a:lnTo>
                      <a:close/>
                    </a:path>
                  </a:pathLst>
                </a:custGeom>
                <a:solidFill>
                  <a:srgbClr val="9f9fb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Freeform 7"/>
                <p:cNvSpPr/>
                <p:nvPr/>
              </p:nvSpPr>
              <p:spPr>
                <a:xfrm>
                  <a:off x="7790040" y="576360"/>
                  <a:ext cx="119160" cy="125064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250640"/>
                    <a:gd name="textAreaBottom" fmla="*/ 1251000 h 1250640"/>
                  </a:gdLst>
                  <a:ahLst/>
                  <a:rect l="textAreaLeft" t="textAreaTop" r="textAreaRight" b="textAreaBottom"/>
                  <a:pathLst>
                    <a:path w="225" h="2363">
                      <a:moveTo>
                        <a:pt x="111" y="0"/>
                      </a:moveTo>
                      <a:lnTo>
                        <a:pt x="185" y="112"/>
                      </a:lnTo>
                      <a:lnTo>
                        <a:pt x="111" y="262"/>
                      </a:lnTo>
                      <a:lnTo>
                        <a:pt x="111" y="1988"/>
                      </a:lnTo>
                      <a:lnTo>
                        <a:pt x="225" y="2213"/>
                      </a:lnTo>
                      <a:lnTo>
                        <a:pt x="149" y="2363"/>
                      </a:lnTo>
                      <a:lnTo>
                        <a:pt x="0" y="2100"/>
                      </a:lnTo>
                      <a:lnTo>
                        <a:pt x="0" y="262"/>
                      </a:lnTo>
                      <a:lnTo>
                        <a:pt x="111" y="0"/>
                      </a:lnTo>
                      <a:close/>
                    </a:path>
                  </a:pathLst>
                </a:custGeom>
                <a:solidFill>
                  <a:srgbClr val="bfbfd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4" name="Group 8"/>
              <p:cNvGrpSpPr/>
              <p:nvPr/>
            </p:nvGrpSpPr>
            <p:grpSpPr>
              <a:xfrm>
                <a:off x="7809120" y="496800"/>
                <a:ext cx="1009800" cy="1407960"/>
                <a:chOff x="7809120" y="496800"/>
                <a:chExt cx="1009800" cy="1407960"/>
              </a:xfrm>
            </p:grpSpPr>
            <p:sp>
              <p:nvSpPr>
                <p:cNvPr id="795" name="Freeform 9"/>
                <p:cNvSpPr/>
                <p:nvPr/>
              </p:nvSpPr>
              <p:spPr>
                <a:xfrm>
                  <a:off x="7809120" y="496800"/>
                  <a:ext cx="969840" cy="79560"/>
                </a:xfrm>
                <a:custGeom>
                  <a:avLst/>
                  <a:gdLst>
                    <a:gd name="textAreaLeft" fmla="*/ 0 w 969840"/>
                    <a:gd name="textAreaRight" fmla="*/ 970200 w 969840"/>
                    <a:gd name="textAreaTop" fmla="*/ 0 h 79560"/>
                    <a:gd name="textAreaBottom" fmla="*/ 79920 h 79560"/>
                  </a:gdLst>
                  <a:ahLst/>
                  <a:rect l="textAreaLeft" t="textAreaTop" r="textAreaRight" b="textAreaBottom"/>
                  <a:pathLst>
                    <a:path w="1834" h="149">
                      <a:moveTo>
                        <a:pt x="75" y="149"/>
                      </a:moveTo>
                      <a:lnTo>
                        <a:pt x="0" y="0"/>
                      </a:lnTo>
                      <a:lnTo>
                        <a:pt x="1834" y="0"/>
                      </a:lnTo>
                      <a:lnTo>
                        <a:pt x="1760" y="149"/>
                      </a:lnTo>
                      <a:lnTo>
                        <a:pt x="75" y="149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Freeform 10"/>
                <p:cNvSpPr/>
                <p:nvPr/>
              </p:nvSpPr>
              <p:spPr>
                <a:xfrm>
                  <a:off x="7829640" y="1827000"/>
                  <a:ext cx="970200" cy="77760"/>
                </a:xfrm>
                <a:custGeom>
                  <a:avLst/>
                  <a:gdLst>
                    <a:gd name="textAreaLeft" fmla="*/ 0 w 970200"/>
                    <a:gd name="textAreaRight" fmla="*/ 970560 w 970200"/>
                    <a:gd name="textAreaTop" fmla="*/ 0 h 77760"/>
                    <a:gd name="textAreaBottom" fmla="*/ 78120 h 77760"/>
                  </a:gdLst>
                  <a:ahLst/>
                  <a:rect l="textAreaLeft" t="textAreaTop" r="textAreaRight" b="textAreaBottom"/>
                  <a:pathLst>
                    <a:path w="1834" h="149">
                      <a:moveTo>
                        <a:pt x="75" y="0"/>
                      </a:moveTo>
                      <a:lnTo>
                        <a:pt x="1722" y="0"/>
                      </a:lnTo>
                      <a:lnTo>
                        <a:pt x="1834" y="113"/>
                      </a:lnTo>
                      <a:lnTo>
                        <a:pt x="1760" y="149"/>
                      </a:lnTo>
                      <a:lnTo>
                        <a:pt x="0" y="149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solidFill>
                  <a:srgbClr val="9f9fb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Freeform 11"/>
                <p:cNvSpPr/>
                <p:nvPr/>
              </p:nvSpPr>
              <p:spPr>
                <a:xfrm>
                  <a:off x="7848720" y="576360"/>
                  <a:ext cx="970200" cy="1250640"/>
                </a:xfrm>
                <a:custGeom>
                  <a:avLst/>
                  <a:gdLst>
                    <a:gd name="textAreaLeft" fmla="*/ 0 w 970200"/>
                    <a:gd name="textAreaRight" fmla="*/ 970560 w 970200"/>
                    <a:gd name="textAreaTop" fmla="*/ 0 h 1250640"/>
                    <a:gd name="textAreaBottom" fmla="*/ 1251000 h 1250640"/>
                  </a:gdLst>
                  <a:ahLst/>
                  <a:rect l="textAreaLeft" t="textAreaTop" r="textAreaRight" b="textAreaBottom"/>
                  <a:pathLst>
                    <a:path w="1834" h="2363">
                      <a:moveTo>
                        <a:pt x="38" y="2363"/>
                      </a:moveTo>
                      <a:lnTo>
                        <a:pt x="1685" y="2363"/>
                      </a:lnTo>
                      <a:lnTo>
                        <a:pt x="1834" y="2100"/>
                      </a:lnTo>
                      <a:lnTo>
                        <a:pt x="1834" y="226"/>
                      </a:lnTo>
                      <a:lnTo>
                        <a:pt x="1685" y="0"/>
                      </a:lnTo>
                      <a:lnTo>
                        <a:pt x="0" y="0"/>
                      </a:lnTo>
                      <a:lnTo>
                        <a:pt x="150" y="226"/>
                      </a:lnTo>
                      <a:lnTo>
                        <a:pt x="150" y="2100"/>
                      </a:lnTo>
                      <a:lnTo>
                        <a:pt x="38" y="2363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Rectangle 12"/>
                <p:cNvSpPr/>
                <p:nvPr/>
              </p:nvSpPr>
              <p:spPr>
                <a:xfrm>
                  <a:off x="7929720" y="974520"/>
                  <a:ext cx="887400" cy="254160"/>
                </a:xfrm>
                <a:prstGeom prst="rect">
                  <a:avLst/>
                </a:prstGeom>
                <a:solidFill>
                  <a:srgbClr val="ff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Freeform 13"/>
                <p:cNvSpPr/>
                <p:nvPr/>
              </p:nvSpPr>
              <p:spPr>
                <a:xfrm>
                  <a:off x="7869600" y="1687320"/>
                  <a:ext cx="949320" cy="139680"/>
                </a:xfrm>
                <a:custGeom>
                  <a:avLst/>
                  <a:gdLst>
                    <a:gd name="textAreaLeft" fmla="*/ 0 w 949320"/>
                    <a:gd name="textAreaRight" fmla="*/ 949680 w 949320"/>
                    <a:gd name="textAreaTop" fmla="*/ 0 h 139680"/>
                    <a:gd name="textAreaBottom" fmla="*/ 140040 h 139680"/>
                  </a:gdLst>
                  <a:ahLst/>
                  <a:rect l="textAreaLeft" t="textAreaTop" r="textAreaRight" b="textAreaBottom"/>
                  <a:pathLst>
                    <a:path w="1796" h="263">
                      <a:moveTo>
                        <a:pt x="112" y="0"/>
                      </a:moveTo>
                      <a:lnTo>
                        <a:pt x="0" y="263"/>
                      </a:lnTo>
                      <a:lnTo>
                        <a:pt x="1647" y="263"/>
                      </a:lnTo>
                      <a:lnTo>
                        <a:pt x="1796" y="0"/>
                      </a:lnTo>
                      <a:lnTo>
                        <a:pt x="112" y="0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0" name="Rectangle 14"/>
            <p:cNvSpPr/>
            <p:nvPr/>
          </p:nvSpPr>
          <p:spPr>
            <a:xfrm>
              <a:off x="8004240" y="922320"/>
              <a:ext cx="987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Zipp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Quick Check </a:t>
            </a:r>
            <a:r>
              <a:rPr b="0" lang="en-US" sz="4000" spc="-1" strike="noStrike">
                <a:solidFill>
                  <a:srgbClr val="464646"/>
                </a:solidFill>
                <a:latin typeface="Wingdings"/>
                <a:ea typeface="Wingdings"/>
              </a:rPr>
              <a:t>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2"/>
          <p:cNvSpPr/>
          <p:nvPr/>
        </p:nvSpPr>
        <p:spPr>
          <a:xfrm>
            <a:off x="647640" y="1981080"/>
            <a:ext cx="7848720" cy="4191120"/>
          </a:xfrm>
          <a:prstGeom prst="rect">
            <a:avLst/>
          </a:prstGeom>
          <a:solidFill>
            <a:srgbClr val="def5f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464646"/>
                </a:solidFill>
                <a:latin typeface="Arial"/>
              </a:rPr>
              <a:t>Hanson’s rate variance (VMRV) for variable manufacturing overhead for the week w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64646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46464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64646"/>
                </a:solidFill>
                <a:latin typeface="Arial"/>
              </a:rPr>
              <a:t>$465 unfavor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64646"/>
                </a:solidFill>
                <a:latin typeface="Arial"/>
              </a:rPr>
              <a:t>b.</a:t>
            </a:r>
            <a:r>
              <a:rPr b="0" lang="en-US" sz="2800" spc="-1" strike="noStrike">
                <a:solidFill>
                  <a:srgbClr val="46464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64646"/>
                </a:solidFill>
                <a:latin typeface="Arial"/>
              </a:rPr>
              <a:t>$400 favor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64646"/>
                </a:solidFill>
                <a:latin typeface="Arial"/>
              </a:rPr>
              <a:t>c.</a:t>
            </a:r>
            <a:r>
              <a:rPr b="0" lang="en-US" sz="2800" spc="-1" strike="noStrike">
                <a:solidFill>
                  <a:srgbClr val="46464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64646"/>
                </a:solidFill>
                <a:latin typeface="Arial"/>
              </a:rPr>
              <a:t>$335 unfavor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64646"/>
                </a:solidFill>
                <a:latin typeface="Arial"/>
              </a:rPr>
              <a:t>d.</a:t>
            </a:r>
            <a:r>
              <a:rPr b="0" lang="en-US" sz="2800" spc="-1" strike="noStrike">
                <a:solidFill>
                  <a:srgbClr val="46464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64646"/>
                </a:solidFill>
                <a:latin typeface="Arial"/>
              </a:rPr>
              <a:t>$300 favor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3" name="Group 3"/>
          <p:cNvGrpSpPr/>
          <p:nvPr/>
        </p:nvGrpSpPr>
        <p:grpSpPr>
          <a:xfrm>
            <a:off x="7790040" y="496800"/>
            <a:ext cx="1201680" cy="1407960"/>
            <a:chOff x="7790040" y="496800"/>
            <a:chExt cx="1201680" cy="1407960"/>
          </a:xfrm>
        </p:grpSpPr>
        <p:grpSp>
          <p:nvGrpSpPr>
            <p:cNvPr id="804" name="Group 4"/>
            <p:cNvGrpSpPr/>
            <p:nvPr/>
          </p:nvGrpSpPr>
          <p:grpSpPr>
            <a:xfrm>
              <a:off x="7790040" y="496800"/>
              <a:ext cx="1028880" cy="1407960"/>
              <a:chOff x="7790040" y="496800"/>
              <a:chExt cx="1028880" cy="1407960"/>
            </a:xfrm>
          </p:grpSpPr>
          <p:grpSp>
            <p:nvGrpSpPr>
              <p:cNvPr id="805" name="Group 5"/>
              <p:cNvGrpSpPr/>
              <p:nvPr/>
            </p:nvGrpSpPr>
            <p:grpSpPr>
              <a:xfrm>
                <a:off x="7790040" y="576360"/>
                <a:ext cx="138240" cy="1250640"/>
                <a:chOff x="7790040" y="576360"/>
                <a:chExt cx="138240" cy="1250640"/>
              </a:xfrm>
            </p:grpSpPr>
            <p:sp>
              <p:nvSpPr>
                <p:cNvPr id="806" name="Freeform 6"/>
                <p:cNvSpPr/>
                <p:nvPr/>
              </p:nvSpPr>
              <p:spPr>
                <a:xfrm>
                  <a:off x="7790040" y="576360"/>
                  <a:ext cx="138240" cy="1250640"/>
                </a:xfrm>
                <a:custGeom>
                  <a:avLst/>
                  <a:gdLst>
                    <a:gd name="textAreaLeft" fmla="*/ 0 w 138240"/>
                    <a:gd name="textAreaRight" fmla="*/ 138600 w 138240"/>
                    <a:gd name="textAreaTop" fmla="*/ 0 h 1250640"/>
                    <a:gd name="textAreaBottom" fmla="*/ 1251000 h 1250640"/>
                  </a:gdLst>
                  <a:ahLst/>
                  <a:rect l="textAreaLeft" t="textAreaTop" r="textAreaRight" b="textAreaBottom"/>
                  <a:pathLst>
                    <a:path w="261" h="2363">
                      <a:moveTo>
                        <a:pt x="111" y="0"/>
                      </a:moveTo>
                      <a:lnTo>
                        <a:pt x="0" y="262"/>
                      </a:lnTo>
                      <a:lnTo>
                        <a:pt x="0" y="2100"/>
                      </a:lnTo>
                      <a:lnTo>
                        <a:pt x="149" y="2363"/>
                      </a:lnTo>
                      <a:lnTo>
                        <a:pt x="261" y="2100"/>
                      </a:lnTo>
                      <a:lnTo>
                        <a:pt x="261" y="226"/>
                      </a:lnTo>
                      <a:lnTo>
                        <a:pt x="111" y="0"/>
                      </a:lnTo>
                      <a:close/>
                    </a:path>
                  </a:pathLst>
                </a:custGeom>
                <a:solidFill>
                  <a:srgbClr val="9f9fb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Freeform 7"/>
                <p:cNvSpPr/>
                <p:nvPr/>
              </p:nvSpPr>
              <p:spPr>
                <a:xfrm>
                  <a:off x="7790040" y="576360"/>
                  <a:ext cx="119160" cy="125064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250640"/>
                    <a:gd name="textAreaBottom" fmla="*/ 1251000 h 1250640"/>
                  </a:gdLst>
                  <a:ahLst/>
                  <a:rect l="textAreaLeft" t="textAreaTop" r="textAreaRight" b="textAreaBottom"/>
                  <a:pathLst>
                    <a:path w="225" h="2363">
                      <a:moveTo>
                        <a:pt x="111" y="0"/>
                      </a:moveTo>
                      <a:lnTo>
                        <a:pt x="185" y="112"/>
                      </a:lnTo>
                      <a:lnTo>
                        <a:pt x="111" y="262"/>
                      </a:lnTo>
                      <a:lnTo>
                        <a:pt x="111" y="1988"/>
                      </a:lnTo>
                      <a:lnTo>
                        <a:pt x="225" y="2213"/>
                      </a:lnTo>
                      <a:lnTo>
                        <a:pt x="149" y="2363"/>
                      </a:lnTo>
                      <a:lnTo>
                        <a:pt x="0" y="2100"/>
                      </a:lnTo>
                      <a:lnTo>
                        <a:pt x="0" y="262"/>
                      </a:lnTo>
                      <a:lnTo>
                        <a:pt x="111" y="0"/>
                      </a:lnTo>
                      <a:close/>
                    </a:path>
                  </a:pathLst>
                </a:custGeom>
                <a:solidFill>
                  <a:srgbClr val="bfbfd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8" name="Group 8"/>
              <p:cNvGrpSpPr/>
              <p:nvPr/>
            </p:nvGrpSpPr>
            <p:grpSpPr>
              <a:xfrm>
                <a:off x="7809120" y="496800"/>
                <a:ext cx="1009800" cy="1407960"/>
                <a:chOff x="7809120" y="496800"/>
                <a:chExt cx="1009800" cy="1407960"/>
              </a:xfrm>
            </p:grpSpPr>
            <p:sp>
              <p:nvSpPr>
                <p:cNvPr id="809" name="Freeform 9"/>
                <p:cNvSpPr/>
                <p:nvPr/>
              </p:nvSpPr>
              <p:spPr>
                <a:xfrm>
                  <a:off x="7809120" y="496800"/>
                  <a:ext cx="969840" cy="79560"/>
                </a:xfrm>
                <a:custGeom>
                  <a:avLst/>
                  <a:gdLst>
                    <a:gd name="textAreaLeft" fmla="*/ 0 w 969840"/>
                    <a:gd name="textAreaRight" fmla="*/ 970200 w 969840"/>
                    <a:gd name="textAreaTop" fmla="*/ 0 h 79560"/>
                    <a:gd name="textAreaBottom" fmla="*/ 79920 h 79560"/>
                  </a:gdLst>
                  <a:ahLst/>
                  <a:rect l="textAreaLeft" t="textAreaTop" r="textAreaRight" b="textAreaBottom"/>
                  <a:pathLst>
                    <a:path w="1834" h="149">
                      <a:moveTo>
                        <a:pt x="75" y="149"/>
                      </a:moveTo>
                      <a:lnTo>
                        <a:pt x="0" y="0"/>
                      </a:lnTo>
                      <a:lnTo>
                        <a:pt x="1834" y="0"/>
                      </a:lnTo>
                      <a:lnTo>
                        <a:pt x="1760" y="149"/>
                      </a:lnTo>
                      <a:lnTo>
                        <a:pt x="75" y="149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Freeform 10"/>
                <p:cNvSpPr/>
                <p:nvPr/>
              </p:nvSpPr>
              <p:spPr>
                <a:xfrm>
                  <a:off x="7829640" y="1827000"/>
                  <a:ext cx="970200" cy="77760"/>
                </a:xfrm>
                <a:custGeom>
                  <a:avLst/>
                  <a:gdLst>
                    <a:gd name="textAreaLeft" fmla="*/ 0 w 970200"/>
                    <a:gd name="textAreaRight" fmla="*/ 970560 w 970200"/>
                    <a:gd name="textAreaTop" fmla="*/ 0 h 77760"/>
                    <a:gd name="textAreaBottom" fmla="*/ 78120 h 77760"/>
                  </a:gdLst>
                  <a:ahLst/>
                  <a:rect l="textAreaLeft" t="textAreaTop" r="textAreaRight" b="textAreaBottom"/>
                  <a:pathLst>
                    <a:path w="1834" h="149">
                      <a:moveTo>
                        <a:pt x="75" y="0"/>
                      </a:moveTo>
                      <a:lnTo>
                        <a:pt x="1722" y="0"/>
                      </a:lnTo>
                      <a:lnTo>
                        <a:pt x="1834" y="113"/>
                      </a:lnTo>
                      <a:lnTo>
                        <a:pt x="1760" y="149"/>
                      </a:lnTo>
                      <a:lnTo>
                        <a:pt x="0" y="149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solidFill>
                  <a:srgbClr val="9f9fb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Freeform 11"/>
                <p:cNvSpPr/>
                <p:nvPr/>
              </p:nvSpPr>
              <p:spPr>
                <a:xfrm>
                  <a:off x="7848720" y="576360"/>
                  <a:ext cx="970200" cy="1250640"/>
                </a:xfrm>
                <a:custGeom>
                  <a:avLst/>
                  <a:gdLst>
                    <a:gd name="textAreaLeft" fmla="*/ 0 w 970200"/>
                    <a:gd name="textAreaRight" fmla="*/ 970560 w 970200"/>
                    <a:gd name="textAreaTop" fmla="*/ 0 h 1250640"/>
                    <a:gd name="textAreaBottom" fmla="*/ 1251000 h 1250640"/>
                  </a:gdLst>
                  <a:ahLst/>
                  <a:rect l="textAreaLeft" t="textAreaTop" r="textAreaRight" b="textAreaBottom"/>
                  <a:pathLst>
                    <a:path w="1834" h="2363">
                      <a:moveTo>
                        <a:pt x="38" y="2363"/>
                      </a:moveTo>
                      <a:lnTo>
                        <a:pt x="1685" y="2363"/>
                      </a:lnTo>
                      <a:lnTo>
                        <a:pt x="1834" y="2100"/>
                      </a:lnTo>
                      <a:lnTo>
                        <a:pt x="1834" y="226"/>
                      </a:lnTo>
                      <a:lnTo>
                        <a:pt x="1685" y="0"/>
                      </a:lnTo>
                      <a:lnTo>
                        <a:pt x="0" y="0"/>
                      </a:lnTo>
                      <a:lnTo>
                        <a:pt x="150" y="226"/>
                      </a:lnTo>
                      <a:lnTo>
                        <a:pt x="150" y="2100"/>
                      </a:lnTo>
                      <a:lnTo>
                        <a:pt x="38" y="2363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Rectangle 12"/>
                <p:cNvSpPr/>
                <p:nvPr/>
              </p:nvSpPr>
              <p:spPr>
                <a:xfrm>
                  <a:off x="7929720" y="974520"/>
                  <a:ext cx="887400" cy="254160"/>
                </a:xfrm>
                <a:prstGeom prst="rect">
                  <a:avLst/>
                </a:prstGeom>
                <a:solidFill>
                  <a:srgbClr val="ff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Freeform 13"/>
                <p:cNvSpPr/>
                <p:nvPr/>
              </p:nvSpPr>
              <p:spPr>
                <a:xfrm>
                  <a:off x="7869600" y="1687320"/>
                  <a:ext cx="949320" cy="139680"/>
                </a:xfrm>
                <a:custGeom>
                  <a:avLst/>
                  <a:gdLst>
                    <a:gd name="textAreaLeft" fmla="*/ 0 w 949320"/>
                    <a:gd name="textAreaRight" fmla="*/ 949680 w 949320"/>
                    <a:gd name="textAreaTop" fmla="*/ 0 h 139680"/>
                    <a:gd name="textAreaBottom" fmla="*/ 140040 h 139680"/>
                  </a:gdLst>
                  <a:ahLst/>
                  <a:rect l="textAreaLeft" t="textAreaTop" r="textAreaRight" b="textAreaBottom"/>
                  <a:pathLst>
                    <a:path w="1796" h="263">
                      <a:moveTo>
                        <a:pt x="112" y="0"/>
                      </a:moveTo>
                      <a:lnTo>
                        <a:pt x="0" y="263"/>
                      </a:lnTo>
                      <a:lnTo>
                        <a:pt x="1647" y="263"/>
                      </a:lnTo>
                      <a:lnTo>
                        <a:pt x="1796" y="0"/>
                      </a:lnTo>
                      <a:lnTo>
                        <a:pt x="112" y="0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4" name="Rectangle 14"/>
            <p:cNvSpPr/>
            <p:nvPr/>
          </p:nvSpPr>
          <p:spPr>
            <a:xfrm>
              <a:off x="8004240" y="922320"/>
              <a:ext cx="987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Zipp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Quick Check </a:t>
            </a:r>
            <a:r>
              <a:rPr b="0" lang="en-US" sz="4000" spc="-1" strike="noStrike">
                <a:solidFill>
                  <a:srgbClr val="464646"/>
                </a:solidFill>
                <a:latin typeface="Wingdings"/>
                <a:ea typeface="Wingdings"/>
              </a:rPr>
              <a:t>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2"/>
          <p:cNvSpPr/>
          <p:nvPr/>
        </p:nvSpPr>
        <p:spPr>
          <a:xfrm>
            <a:off x="647640" y="1981080"/>
            <a:ext cx="7848720" cy="4191120"/>
          </a:xfrm>
          <a:prstGeom prst="rect">
            <a:avLst/>
          </a:prstGeom>
          <a:solidFill>
            <a:srgbClr val="def5f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464646"/>
                </a:solidFill>
                <a:latin typeface="Arial"/>
              </a:rPr>
              <a:t>Hanson’s rate variance (VMRV) for variable manufacturing overhead for the week w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64646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46464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64646"/>
                </a:solidFill>
                <a:latin typeface="Arial"/>
              </a:rPr>
              <a:t>$465 unfavor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8119"/>
                </a:solidFill>
                <a:latin typeface="Arial"/>
              </a:rPr>
              <a:t>b.</a:t>
            </a:r>
            <a:r>
              <a:rPr b="0" lang="en-US" sz="2800" spc="-1" strike="noStrike">
                <a:solidFill>
                  <a:srgbClr val="ff811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8119"/>
                </a:solidFill>
                <a:latin typeface="Arial"/>
              </a:rPr>
              <a:t>$400 favor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11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8119"/>
                </a:solidFill>
                <a:latin typeface="Arial"/>
              </a:rPr>
              <a:t>c.</a:t>
            </a:r>
            <a:r>
              <a:rPr b="0" lang="en-US" sz="2800" spc="-1" strike="noStrike">
                <a:solidFill>
                  <a:srgbClr val="ff811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8119"/>
                </a:solidFill>
                <a:latin typeface="Arial"/>
              </a:rPr>
              <a:t>$335 unfavor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11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8119"/>
                </a:solidFill>
                <a:latin typeface="Arial"/>
              </a:rPr>
              <a:t>d.</a:t>
            </a:r>
            <a:r>
              <a:rPr b="0" lang="en-US" sz="2800" spc="-1" strike="noStrike">
                <a:solidFill>
                  <a:srgbClr val="ff811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8119"/>
                </a:solidFill>
                <a:latin typeface="Arial"/>
              </a:rPr>
              <a:t>$300 favor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Oval 3"/>
          <p:cNvSpPr/>
          <p:nvPr/>
        </p:nvSpPr>
        <p:spPr>
          <a:xfrm>
            <a:off x="876240" y="2895480"/>
            <a:ext cx="635040" cy="6350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8" name="Group 5"/>
          <p:cNvGrpSpPr/>
          <p:nvPr/>
        </p:nvGrpSpPr>
        <p:grpSpPr>
          <a:xfrm>
            <a:off x="4114800" y="3048120"/>
            <a:ext cx="4871520" cy="1968840"/>
            <a:chOff x="4114800" y="3048120"/>
            <a:chExt cx="4871520" cy="1968840"/>
          </a:xfrm>
        </p:grpSpPr>
        <p:sp>
          <p:nvSpPr>
            <p:cNvPr id="819" name="Freeform 6"/>
            <p:cNvSpPr/>
            <p:nvPr/>
          </p:nvSpPr>
          <p:spPr>
            <a:xfrm>
              <a:off x="4699800" y="3048120"/>
              <a:ext cx="1250280" cy="1568520"/>
            </a:xfrm>
            <a:custGeom>
              <a:avLst/>
              <a:gdLst>
                <a:gd name="textAreaLeft" fmla="*/ 0 w 1250280"/>
                <a:gd name="textAreaRight" fmla="*/ 1250280 w 1250280"/>
                <a:gd name="textAreaTop" fmla="*/ 0 h 1568520"/>
                <a:gd name="textAreaBottom" fmla="*/ 1568880 h 1568520"/>
              </a:gdLst>
              <a:ahLst/>
              <a:rect l="textAreaLeft" t="textAreaTop" r="textAreaRight" b="textAreaBottom"/>
              <a:pathLst>
                <a:path w="750" h="988">
                  <a:moveTo>
                    <a:pt x="158" y="86"/>
                  </a:moveTo>
                  <a:lnTo>
                    <a:pt x="191" y="106"/>
                  </a:lnTo>
                  <a:lnTo>
                    <a:pt x="243" y="132"/>
                  </a:lnTo>
                  <a:lnTo>
                    <a:pt x="298" y="165"/>
                  </a:lnTo>
                  <a:lnTo>
                    <a:pt x="348" y="203"/>
                  </a:lnTo>
                  <a:lnTo>
                    <a:pt x="400" y="247"/>
                  </a:lnTo>
                  <a:lnTo>
                    <a:pt x="445" y="295"/>
                  </a:lnTo>
                  <a:lnTo>
                    <a:pt x="495" y="344"/>
                  </a:lnTo>
                  <a:lnTo>
                    <a:pt x="535" y="401"/>
                  </a:lnTo>
                  <a:lnTo>
                    <a:pt x="574" y="455"/>
                  </a:lnTo>
                  <a:lnTo>
                    <a:pt x="613" y="516"/>
                  </a:lnTo>
                  <a:lnTo>
                    <a:pt x="643" y="580"/>
                  </a:lnTo>
                  <a:lnTo>
                    <a:pt x="671" y="640"/>
                  </a:lnTo>
                  <a:lnTo>
                    <a:pt x="698" y="706"/>
                  </a:lnTo>
                  <a:lnTo>
                    <a:pt x="714" y="769"/>
                  </a:lnTo>
                  <a:lnTo>
                    <a:pt x="731" y="837"/>
                  </a:lnTo>
                  <a:lnTo>
                    <a:pt x="742" y="903"/>
                  </a:lnTo>
                  <a:lnTo>
                    <a:pt x="749" y="964"/>
                  </a:lnTo>
                  <a:lnTo>
                    <a:pt x="748" y="987"/>
                  </a:lnTo>
                  <a:lnTo>
                    <a:pt x="736" y="903"/>
                  </a:lnTo>
                  <a:lnTo>
                    <a:pt x="720" y="843"/>
                  </a:lnTo>
                  <a:lnTo>
                    <a:pt x="698" y="784"/>
                  </a:lnTo>
                  <a:lnTo>
                    <a:pt x="670" y="727"/>
                  </a:lnTo>
                  <a:lnTo>
                    <a:pt x="637" y="671"/>
                  </a:lnTo>
                  <a:lnTo>
                    <a:pt x="597" y="610"/>
                  </a:lnTo>
                  <a:lnTo>
                    <a:pt x="554" y="555"/>
                  </a:lnTo>
                  <a:lnTo>
                    <a:pt x="506" y="507"/>
                  </a:lnTo>
                  <a:lnTo>
                    <a:pt x="453" y="454"/>
                  </a:lnTo>
                  <a:lnTo>
                    <a:pt x="396" y="407"/>
                  </a:lnTo>
                  <a:lnTo>
                    <a:pt x="340" y="366"/>
                  </a:lnTo>
                  <a:lnTo>
                    <a:pt x="280" y="328"/>
                  </a:lnTo>
                  <a:lnTo>
                    <a:pt x="219" y="295"/>
                  </a:lnTo>
                  <a:lnTo>
                    <a:pt x="155" y="266"/>
                  </a:lnTo>
                  <a:lnTo>
                    <a:pt x="153" y="356"/>
                  </a:lnTo>
                  <a:lnTo>
                    <a:pt x="0" y="121"/>
                  </a:lnTo>
                  <a:lnTo>
                    <a:pt x="158" y="0"/>
                  </a:lnTo>
                  <a:lnTo>
                    <a:pt x="158" y="8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Rectangle 7"/>
            <p:cNvSpPr/>
            <p:nvPr/>
          </p:nvSpPr>
          <p:spPr>
            <a:xfrm>
              <a:off x="4114800" y="3830760"/>
              <a:ext cx="4871520" cy="118620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VMRV = AH(AR - SR)</a:t>
              </a:r>
              <a:br>
                <a:rPr sz="2400"/>
              </a:b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VMRV = 1,550 hrs($3.30 - $3.00)</a:t>
              </a:r>
              <a:br>
                <a:rPr sz="2400"/>
              </a:b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VMRV = $465 unfavora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Group 3"/>
          <p:cNvGrpSpPr/>
          <p:nvPr/>
        </p:nvGrpSpPr>
        <p:grpSpPr>
          <a:xfrm>
            <a:off x="7790040" y="496800"/>
            <a:ext cx="1201680" cy="1407960"/>
            <a:chOff x="7790040" y="496800"/>
            <a:chExt cx="1201680" cy="1407960"/>
          </a:xfrm>
        </p:grpSpPr>
        <p:grpSp>
          <p:nvGrpSpPr>
            <p:cNvPr id="822" name="Group 4"/>
            <p:cNvGrpSpPr/>
            <p:nvPr/>
          </p:nvGrpSpPr>
          <p:grpSpPr>
            <a:xfrm>
              <a:off x="7790040" y="496800"/>
              <a:ext cx="1028880" cy="1407960"/>
              <a:chOff x="7790040" y="496800"/>
              <a:chExt cx="1028880" cy="1407960"/>
            </a:xfrm>
          </p:grpSpPr>
          <p:grpSp>
            <p:nvGrpSpPr>
              <p:cNvPr id="823" name="Group 5"/>
              <p:cNvGrpSpPr/>
              <p:nvPr/>
            </p:nvGrpSpPr>
            <p:grpSpPr>
              <a:xfrm>
                <a:off x="7790040" y="576360"/>
                <a:ext cx="138240" cy="1250640"/>
                <a:chOff x="7790040" y="576360"/>
                <a:chExt cx="138240" cy="1250640"/>
              </a:xfrm>
            </p:grpSpPr>
            <p:sp>
              <p:nvSpPr>
                <p:cNvPr id="824" name="Freeform 6"/>
                <p:cNvSpPr/>
                <p:nvPr/>
              </p:nvSpPr>
              <p:spPr>
                <a:xfrm>
                  <a:off x="7790040" y="576360"/>
                  <a:ext cx="138240" cy="1250640"/>
                </a:xfrm>
                <a:custGeom>
                  <a:avLst/>
                  <a:gdLst>
                    <a:gd name="textAreaLeft" fmla="*/ 0 w 138240"/>
                    <a:gd name="textAreaRight" fmla="*/ 138600 w 138240"/>
                    <a:gd name="textAreaTop" fmla="*/ 0 h 1250640"/>
                    <a:gd name="textAreaBottom" fmla="*/ 1251000 h 1250640"/>
                  </a:gdLst>
                  <a:ahLst/>
                  <a:rect l="textAreaLeft" t="textAreaTop" r="textAreaRight" b="textAreaBottom"/>
                  <a:pathLst>
                    <a:path w="261" h="2363">
                      <a:moveTo>
                        <a:pt x="111" y="0"/>
                      </a:moveTo>
                      <a:lnTo>
                        <a:pt x="0" y="262"/>
                      </a:lnTo>
                      <a:lnTo>
                        <a:pt x="0" y="2100"/>
                      </a:lnTo>
                      <a:lnTo>
                        <a:pt x="149" y="2363"/>
                      </a:lnTo>
                      <a:lnTo>
                        <a:pt x="261" y="2100"/>
                      </a:lnTo>
                      <a:lnTo>
                        <a:pt x="261" y="226"/>
                      </a:lnTo>
                      <a:lnTo>
                        <a:pt x="111" y="0"/>
                      </a:lnTo>
                      <a:close/>
                    </a:path>
                  </a:pathLst>
                </a:custGeom>
                <a:solidFill>
                  <a:srgbClr val="9f9fb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5" name="Freeform 7"/>
                <p:cNvSpPr/>
                <p:nvPr/>
              </p:nvSpPr>
              <p:spPr>
                <a:xfrm>
                  <a:off x="7790040" y="576360"/>
                  <a:ext cx="119160" cy="125064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250640"/>
                    <a:gd name="textAreaBottom" fmla="*/ 1251000 h 1250640"/>
                  </a:gdLst>
                  <a:ahLst/>
                  <a:rect l="textAreaLeft" t="textAreaTop" r="textAreaRight" b="textAreaBottom"/>
                  <a:pathLst>
                    <a:path w="225" h="2363">
                      <a:moveTo>
                        <a:pt x="111" y="0"/>
                      </a:moveTo>
                      <a:lnTo>
                        <a:pt x="185" y="112"/>
                      </a:lnTo>
                      <a:lnTo>
                        <a:pt x="111" y="262"/>
                      </a:lnTo>
                      <a:lnTo>
                        <a:pt x="111" y="1988"/>
                      </a:lnTo>
                      <a:lnTo>
                        <a:pt x="225" y="2213"/>
                      </a:lnTo>
                      <a:lnTo>
                        <a:pt x="149" y="2363"/>
                      </a:lnTo>
                      <a:lnTo>
                        <a:pt x="0" y="2100"/>
                      </a:lnTo>
                      <a:lnTo>
                        <a:pt x="0" y="262"/>
                      </a:lnTo>
                      <a:lnTo>
                        <a:pt x="111" y="0"/>
                      </a:lnTo>
                      <a:close/>
                    </a:path>
                  </a:pathLst>
                </a:custGeom>
                <a:solidFill>
                  <a:srgbClr val="bfbfd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6" name="Group 8"/>
              <p:cNvGrpSpPr/>
              <p:nvPr/>
            </p:nvGrpSpPr>
            <p:grpSpPr>
              <a:xfrm>
                <a:off x="7809120" y="496800"/>
                <a:ext cx="1009800" cy="1407960"/>
                <a:chOff x="7809120" y="496800"/>
                <a:chExt cx="1009800" cy="1407960"/>
              </a:xfrm>
            </p:grpSpPr>
            <p:sp>
              <p:nvSpPr>
                <p:cNvPr id="827" name="Freeform 9"/>
                <p:cNvSpPr/>
                <p:nvPr/>
              </p:nvSpPr>
              <p:spPr>
                <a:xfrm>
                  <a:off x="7809120" y="496800"/>
                  <a:ext cx="969840" cy="79560"/>
                </a:xfrm>
                <a:custGeom>
                  <a:avLst/>
                  <a:gdLst>
                    <a:gd name="textAreaLeft" fmla="*/ 0 w 969840"/>
                    <a:gd name="textAreaRight" fmla="*/ 970200 w 969840"/>
                    <a:gd name="textAreaTop" fmla="*/ 0 h 79560"/>
                    <a:gd name="textAreaBottom" fmla="*/ 79920 h 79560"/>
                  </a:gdLst>
                  <a:ahLst/>
                  <a:rect l="textAreaLeft" t="textAreaTop" r="textAreaRight" b="textAreaBottom"/>
                  <a:pathLst>
                    <a:path w="1834" h="149">
                      <a:moveTo>
                        <a:pt x="75" y="149"/>
                      </a:moveTo>
                      <a:lnTo>
                        <a:pt x="0" y="0"/>
                      </a:lnTo>
                      <a:lnTo>
                        <a:pt x="1834" y="0"/>
                      </a:lnTo>
                      <a:lnTo>
                        <a:pt x="1760" y="149"/>
                      </a:lnTo>
                      <a:lnTo>
                        <a:pt x="75" y="149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Freeform 10"/>
                <p:cNvSpPr/>
                <p:nvPr/>
              </p:nvSpPr>
              <p:spPr>
                <a:xfrm>
                  <a:off x="7829640" y="1827000"/>
                  <a:ext cx="970200" cy="77760"/>
                </a:xfrm>
                <a:custGeom>
                  <a:avLst/>
                  <a:gdLst>
                    <a:gd name="textAreaLeft" fmla="*/ 0 w 970200"/>
                    <a:gd name="textAreaRight" fmla="*/ 970560 w 970200"/>
                    <a:gd name="textAreaTop" fmla="*/ 0 h 77760"/>
                    <a:gd name="textAreaBottom" fmla="*/ 78120 h 77760"/>
                  </a:gdLst>
                  <a:ahLst/>
                  <a:rect l="textAreaLeft" t="textAreaTop" r="textAreaRight" b="textAreaBottom"/>
                  <a:pathLst>
                    <a:path w="1834" h="149">
                      <a:moveTo>
                        <a:pt x="75" y="0"/>
                      </a:moveTo>
                      <a:lnTo>
                        <a:pt x="1722" y="0"/>
                      </a:lnTo>
                      <a:lnTo>
                        <a:pt x="1834" y="113"/>
                      </a:lnTo>
                      <a:lnTo>
                        <a:pt x="1760" y="149"/>
                      </a:lnTo>
                      <a:lnTo>
                        <a:pt x="0" y="149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solidFill>
                  <a:srgbClr val="9f9fb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Freeform 11"/>
                <p:cNvSpPr/>
                <p:nvPr/>
              </p:nvSpPr>
              <p:spPr>
                <a:xfrm>
                  <a:off x="7848720" y="576360"/>
                  <a:ext cx="970200" cy="1250640"/>
                </a:xfrm>
                <a:custGeom>
                  <a:avLst/>
                  <a:gdLst>
                    <a:gd name="textAreaLeft" fmla="*/ 0 w 970200"/>
                    <a:gd name="textAreaRight" fmla="*/ 970560 w 970200"/>
                    <a:gd name="textAreaTop" fmla="*/ 0 h 1250640"/>
                    <a:gd name="textAreaBottom" fmla="*/ 1251000 h 1250640"/>
                  </a:gdLst>
                  <a:ahLst/>
                  <a:rect l="textAreaLeft" t="textAreaTop" r="textAreaRight" b="textAreaBottom"/>
                  <a:pathLst>
                    <a:path w="1834" h="2363">
                      <a:moveTo>
                        <a:pt x="38" y="2363"/>
                      </a:moveTo>
                      <a:lnTo>
                        <a:pt x="1685" y="2363"/>
                      </a:lnTo>
                      <a:lnTo>
                        <a:pt x="1834" y="2100"/>
                      </a:lnTo>
                      <a:lnTo>
                        <a:pt x="1834" y="226"/>
                      </a:lnTo>
                      <a:lnTo>
                        <a:pt x="1685" y="0"/>
                      </a:lnTo>
                      <a:lnTo>
                        <a:pt x="0" y="0"/>
                      </a:lnTo>
                      <a:lnTo>
                        <a:pt x="150" y="226"/>
                      </a:lnTo>
                      <a:lnTo>
                        <a:pt x="150" y="2100"/>
                      </a:lnTo>
                      <a:lnTo>
                        <a:pt x="38" y="2363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Rectangle 12"/>
                <p:cNvSpPr/>
                <p:nvPr/>
              </p:nvSpPr>
              <p:spPr>
                <a:xfrm>
                  <a:off x="7929720" y="974520"/>
                  <a:ext cx="887400" cy="254160"/>
                </a:xfrm>
                <a:prstGeom prst="rect">
                  <a:avLst/>
                </a:prstGeom>
                <a:solidFill>
                  <a:srgbClr val="ff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Freeform 13"/>
                <p:cNvSpPr/>
                <p:nvPr/>
              </p:nvSpPr>
              <p:spPr>
                <a:xfrm>
                  <a:off x="7869600" y="1687320"/>
                  <a:ext cx="949320" cy="139680"/>
                </a:xfrm>
                <a:custGeom>
                  <a:avLst/>
                  <a:gdLst>
                    <a:gd name="textAreaLeft" fmla="*/ 0 w 949320"/>
                    <a:gd name="textAreaRight" fmla="*/ 949680 w 949320"/>
                    <a:gd name="textAreaTop" fmla="*/ 0 h 139680"/>
                    <a:gd name="textAreaBottom" fmla="*/ 140040 h 139680"/>
                  </a:gdLst>
                  <a:ahLst/>
                  <a:rect l="textAreaLeft" t="textAreaTop" r="textAreaRight" b="textAreaBottom"/>
                  <a:pathLst>
                    <a:path w="1796" h="263">
                      <a:moveTo>
                        <a:pt x="112" y="0"/>
                      </a:moveTo>
                      <a:lnTo>
                        <a:pt x="0" y="263"/>
                      </a:lnTo>
                      <a:lnTo>
                        <a:pt x="1647" y="263"/>
                      </a:lnTo>
                      <a:lnTo>
                        <a:pt x="1796" y="0"/>
                      </a:lnTo>
                      <a:lnTo>
                        <a:pt x="112" y="0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2" name="Rectangle 14"/>
            <p:cNvSpPr/>
            <p:nvPr/>
          </p:nvSpPr>
          <p:spPr>
            <a:xfrm>
              <a:off x="8004240" y="922320"/>
              <a:ext cx="987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Zipp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Quick Check </a:t>
            </a:r>
            <a:r>
              <a:rPr b="0" lang="en-US" sz="4000" spc="-1" strike="noStrike">
                <a:solidFill>
                  <a:srgbClr val="464646"/>
                </a:solidFill>
                <a:latin typeface="Wingdings"/>
                <a:ea typeface="Wingdings"/>
              </a:rPr>
              <a:t>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2"/>
          <p:cNvSpPr/>
          <p:nvPr/>
        </p:nvSpPr>
        <p:spPr>
          <a:xfrm>
            <a:off x="571680" y="1981080"/>
            <a:ext cx="8001000" cy="3733920"/>
          </a:xfrm>
          <a:prstGeom prst="rect">
            <a:avLst/>
          </a:prstGeom>
          <a:solidFill>
            <a:srgbClr val="b5e9f4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son’s efficiency variance (VMEV) for variable manufacturing overhead for the week w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435 unfavor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435 favor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50 unfavor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50 favor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Group 3"/>
          <p:cNvGrpSpPr/>
          <p:nvPr/>
        </p:nvGrpSpPr>
        <p:grpSpPr>
          <a:xfrm>
            <a:off x="7790040" y="496800"/>
            <a:ext cx="1201680" cy="1407960"/>
            <a:chOff x="7790040" y="496800"/>
            <a:chExt cx="1201680" cy="1407960"/>
          </a:xfrm>
        </p:grpSpPr>
        <p:grpSp>
          <p:nvGrpSpPr>
            <p:cNvPr id="836" name="Group 4"/>
            <p:cNvGrpSpPr/>
            <p:nvPr/>
          </p:nvGrpSpPr>
          <p:grpSpPr>
            <a:xfrm>
              <a:off x="7790040" y="496800"/>
              <a:ext cx="1028880" cy="1407960"/>
              <a:chOff x="7790040" y="496800"/>
              <a:chExt cx="1028880" cy="1407960"/>
            </a:xfrm>
          </p:grpSpPr>
          <p:grpSp>
            <p:nvGrpSpPr>
              <p:cNvPr id="837" name="Group 5"/>
              <p:cNvGrpSpPr/>
              <p:nvPr/>
            </p:nvGrpSpPr>
            <p:grpSpPr>
              <a:xfrm>
                <a:off x="7790040" y="576360"/>
                <a:ext cx="138240" cy="1250640"/>
                <a:chOff x="7790040" y="576360"/>
                <a:chExt cx="138240" cy="1250640"/>
              </a:xfrm>
            </p:grpSpPr>
            <p:sp>
              <p:nvSpPr>
                <p:cNvPr id="838" name="Freeform 6"/>
                <p:cNvSpPr/>
                <p:nvPr/>
              </p:nvSpPr>
              <p:spPr>
                <a:xfrm>
                  <a:off x="7790040" y="576360"/>
                  <a:ext cx="138240" cy="1250640"/>
                </a:xfrm>
                <a:custGeom>
                  <a:avLst/>
                  <a:gdLst>
                    <a:gd name="textAreaLeft" fmla="*/ 0 w 138240"/>
                    <a:gd name="textAreaRight" fmla="*/ 138600 w 138240"/>
                    <a:gd name="textAreaTop" fmla="*/ 0 h 1250640"/>
                    <a:gd name="textAreaBottom" fmla="*/ 1251000 h 1250640"/>
                  </a:gdLst>
                  <a:ahLst/>
                  <a:rect l="textAreaLeft" t="textAreaTop" r="textAreaRight" b="textAreaBottom"/>
                  <a:pathLst>
                    <a:path w="261" h="2363">
                      <a:moveTo>
                        <a:pt x="111" y="0"/>
                      </a:moveTo>
                      <a:lnTo>
                        <a:pt x="0" y="262"/>
                      </a:lnTo>
                      <a:lnTo>
                        <a:pt x="0" y="2100"/>
                      </a:lnTo>
                      <a:lnTo>
                        <a:pt x="149" y="2363"/>
                      </a:lnTo>
                      <a:lnTo>
                        <a:pt x="261" y="2100"/>
                      </a:lnTo>
                      <a:lnTo>
                        <a:pt x="261" y="226"/>
                      </a:lnTo>
                      <a:lnTo>
                        <a:pt x="111" y="0"/>
                      </a:lnTo>
                      <a:close/>
                    </a:path>
                  </a:pathLst>
                </a:custGeom>
                <a:solidFill>
                  <a:srgbClr val="9f9fb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Freeform 7"/>
                <p:cNvSpPr/>
                <p:nvPr/>
              </p:nvSpPr>
              <p:spPr>
                <a:xfrm>
                  <a:off x="7790040" y="576360"/>
                  <a:ext cx="119160" cy="125064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250640"/>
                    <a:gd name="textAreaBottom" fmla="*/ 1251000 h 1250640"/>
                  </a:gdLst>
                  <a:ahLst/>
                  <a:rect l="textAreaLeft" t="textAreaTop" r="textAreaRight" b="textAreaBottom"/>
                  <a:pathLst>
                    <a:path w="225" h="2363">
                      <a:moveTo>
                        <a:pt x="111" y="0"/>
                      </a:moveTo>
                      <a:lnTo>
                        <a:pt x="185" y="112"/>
                      </a:lnTo>
                      <a:lnTo>
                        <a:pt x="111" y="262"/>
                      </a:lnTo>
                      <a:lnTo>
                        <a:pt x="111" y="1988"/>
                      </a:lnTo>
                      <a:lnTo>
                        <a:pt x="225" y="2213"/>
                      </a:lnTo>
                      <a:lnTo>
                        <a:pt x="149" y="2363"/>
                      </a:lnTo>
                      <a:lnTo>
                        <a:pt x="0" y="2100"/>
                      </a:lnTo>
                      <a:lnTo>
                        <a:pt x="0" y="262"/>
                      </a:lnTo>
                      <a:lnTo>
                        <a:pt x="111" y="0"/>
                      </a:lnTo>
                      <a:close/>
                    </a:path>
                  </a:pathLst>
                </a:custGeom>
                <a:solidFill>
                  <a:srgbClr val="bfbfd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0" name="Group 8"/>
              <p:cNvGrpSpPr/>
              <p:nvPr/>
            </p:nvGrpSpPr>
            <p:grpSpPr>
              <a:xfrm>
                <a:off x="7809120" y="496800"/>
                <a:ext cx="1009800" cy="1407960"/>
                <a:chOff x="7809120" y="496800"/>
                <a:chExt cx="1009800" cy="1407960"/>
              </a:xfrm>
            </p:grpSpPr>
            <p:sp>
              <p:nvSpPr>
                <p:cNvPr id="841" name="Freeform 9"/>
                <p:cNvSpPr/>
                <p:nvPr/>
              </p:nvSpPr>
              <p:spPr>
                <a:xfrm>
                  <a:off x="7809120" y="496800"/>
                  <a:ext cx="969840" cy="79560"/>
                </a:xfrm>
                <a:custGeom>
                  <a:avLst/>
                  <a:gdLst>
                    <a:gd name="textAreaLeft" fmla="*/ 0 w 969840"/>
                    <a:gd name="textAreaRight" fmla="*/ 970200 w 969840"/>
                    <a:gd name="textAreaTop" fmla="*/ 0 h 79560"/>
                    <a:gd name="textAreaBottom" fmla="*/ 79920 h 79560"/>
                  </a:gdLst>
                  <a:ahLst/>
                  <a:rect l="textAreaLeft" t="textAreaTop" r="textAreaRight" b="textAreaBottom"/>
                  <a:pathLst>
                    <a:path w="1834" h="149">
                      <a:moveTo>
                        <a:pt x="75" y="149"/>
                      </a:moveTo>
                      <a:lnTo>
                        <a:pt x="0" y="0"/>
                      </a:lnTo>
                      <a:lnTo>
                        <a:pt x="1834" y="0"/>
                      </a:lnTo>
                      <a:lnTo>
                        <a:pt x="1760" y="149"/>
                      </a:lnTo>
                      <a:lnTo>
                        <a:pt x="75" y="149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Freeform 10"/>
                <p:cNvSpPr/>
                <p:nvPr/>
              </p:nvSpPr>
              <p:spPr>
                <a:xfrm>
                  <a:off x="7829640" y="1827000"/>
                  <a:ext cx="970200" cy="77760"/>
                </a:xfrm>
                <a:custGeom>
                  <a:avLst/>
                  <a:gdLst>
                    <a:gd name="textAreaLeft" fmla="*/ 0 w 970200"/>
                    <a:gd name="textAreaRight" fmla="*/ 970560 w 970200"/>
                    <a:gd name="textAreaTop" fmla="*/ 0 h 77760"/>
                    <a:gd name="textAreaBottom" fmla="*/ 78120 h 77760"/>
                  </a:gdLst>
                  <a:ahLst/>
                  <a:rect l="textAreaLeft" t="textAreaTop" r="textAreaRight" b="textAreaBottom"/>
                  <a:pathLst>
                    <a:path w="1834" h="149">
                      <a:moveTo>
                        <a:pt x="75" y="0"/>
                      </a:moveTo>
                      <a:lnTo>
                        <a:pt x="1722" y="0"/>
                      </a:lnTo>
                      <a:lnTo>
                        <a:pt x="1834" y="113"/>
                      </a:lnTo>
                      <a:lnTo>
                        <a:pt x="1760" y="149"/>
                      </a:lnTo>
                      <a:lnTo>
                        <a:pt x="0" y="149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solidFill>
                  <a:srgbClr val="9f9fb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Freeform 11"/>
                <p:cNvSpPr/>
                <p:nvPr/>
              </p:nvSpPr>
              <p:spPr>
                <a:xfrm>
                  <a:off x="7848720" y="576360"/>
                  <a:ext cx="970200" cy="1250640"/>
                </a:xfrm>
                <a:custGeom>
                  <a:avLst/>
                  <a:gdLst>
                    <a:gd name="textAreaLeft" fmla="*/ 0 w 970200"/>
                    <a:gd name="textAreaRight" fmla="*/ 970560 w 970200"/>
                    <a:gd name="textAreaTop" fmla="*/ 0 h 1250640"/>
                    <a:gd name="textAreaBottom" fmla="*/ 1251000 h 1250640"/>
                  </a:gdLst>
                  <a:ahLst/>
                  <a:rect l="textAreaLeft" t="textAreaTop" r="textAreaRight" b="textAreaBottom"/>
                  <a:pathLst>
                    <a:path w="1834" h="2363">
                      <a:moveTo>
                        <a:pt x="38" y="2363"/>
                      </a:moveTo>
                      <a:lnTo>
                        <a:pt x="1685" y="2363"/>
                      </a:lnTo>
                      <a:lnTo>
                        <a:pt x="1834" y="2100"/>
                      </a:lnTo>
                      <a:lnTo>
                        <a:pt x="1834" y="226"/>
                      </a:lnTo>
                      <a:lnTo>
                        <a:pt x="1685" y="0"/>
                      </a:lnTo>
                      <a:lnTo>
                        <a:pt x="0" y="0"/>
                      </a:lnTo>
                      <a:lnTo>
                        <a:pt x="150" y="226"/>
                      </a:lnTo>
                      <a:lnTo>
                        <a:pt x="150" y="2100"/>
                      </a:lnTo>
                      <a:lnTo>
                        <a:pt x="38" y="2363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Rectangle 12"/>
                <p:cNvSpPr/>
                <p:nvPr/>
              </p:nvSpPr>
              <p:spPr>
                <a:xfrm>
                  <a:off x="7929720" y="974520"/>
                  <a:ext cx="887400" cy="254160"/>
                </a:xfrm>
                <a:prstGeom prst="rect">
                  <a:avLst/>
                </a:prstGeom>
                <a:solidFill>
                  <a:srgbClr val="ff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Freeform 13"/>
                <p:cNvSpPr/>
                <p:nvPr/>
              </p:nvSpPr>
              <p:spPr>
                <a:xfrm>
                  <a:off x="7869600" y="1687320"/>
                  <a:ext cx="949320" cy="139680"/>
                </a:xfrm>
                <a:custGeom>
                  <a:avLst/>
                  <a:gdLst>
                    <a:gd name="textAreaLeft" fmla="*/ 0 w 949320"/>
                    <a:gd name="textAreaRight" fmla="*/ 949680 w 949320"/>
                    <a:gd name="textAreaTop" fmla="*/ 0 h 139680"/>
                    <a:gd name="textAreaBottom" fmla="*/ 140040 h 139680"/>
                  </a:gdLst>
                  <a:ahLst/>
                  <a:rect l="textAreaLeft" t="textAreaTop" r="textAreaRight" b="textAreaBottom"/>
                  <a:pathLst>
                    <a:path w="1796" h="263">
                      <a:moveTo>
                        <a:pt x="112" y="0"/>
                      </a:moveTo>
                      <a:lnTo>
                        <a:pt x="0" y="263"/>
                      </a:lnTo>
                      <a:lnTo>
                        <a:pt x="1647" y="263"/>
                      </a:lnTo>
                      <a:lnTo>
                        <a:pt x="1796" y="0"/>
                      </a:lnTo>
                      <a:lnTo>
                        <a:pt x="112" y="0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6" name="Rectangle 14"/>
            <p:cNvSpPr/>
            <p:nvPr/>
          </p:nvSpPr>
          <p:spPr>
            <a:xfrm>
              <a:off x="8004240" y="922320"/>
              <a:ext cx="987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Zipp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Quick Check </a:t>
            </a:r>
            <a:r>
              <a:rPr b="0" lang="en-US" sz="4000" spc="-1" strike="noStrike">
                <a:solidFill>
                  <a:srgbClr val="464646"/>
                </a:solidFill>
                <a:latin typeface="Wingdings"/>
                <a:ea typeface="Wingdings"/>
              </a:rPr>
              <a:t>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2"/>
          <p:cNvSpPr/>
          <p:nvPr/>
        </p:nvSpPr>
        <p:spPr>
          <a:xfrm>
            <a:off x="571680" y="1981080"/>
            <a:ext cx="8001000" cy="3733920"/>
          </a:xfrm>
          <a:prstGeom prst="rect">
            <a:avLst/>
          </a:prstGeom>
          <a:solidFill>
            <a:srgbClr val="b5e9f4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son’s efficiency variance (VMEV) for variable manufacturing overhead for the week w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8119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ff811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8119"/>
                </a:solidFill>
                <a:latin typeface="Arial"/>
              </a:rPr>
              <a:t>$435 unfavor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11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8119"/>
                </a:solidFill>
                <a:latin typeface="Arial"/>
              </a:rPr>
              <a:t>b.</a:t>
            </a:r>
            <a:r>
              <a:rPr b="0" lang="en-US" sz="2800" spc="-1" strike="noStrike">
                <a:solidFill>
                  <a:srgbClr val="ff811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8119"/>
                </a:solidFill>
                <a:latin typeface="Arial"/>
              </a:rPr>
              <a:t>$435 favor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50 unfavor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8119"/>
                </a:solidFill>
                <a:latin typeface="Arial"/>
              </a:rPr>
              <a:t>d.</a:t>
            </a:r>
            <a:r>
              <a:rPr b="0" lang="en-US" sz="2800" spc="-1" strike="noStrike">
                <a:solidFill>
                  <a:srgbClr val="ff811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8119"/>
                </a:solidFill>
                <a:latin typeface="Arial"/>
              </a:rPr>
              <a:t>$150 favor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Oval 3"/>
          <p:cNvSpPr/>
          <p:nvPr/>
        </p:nvSpPr>
        <p:spPr>
          <a:xfrm>
            <a:off x="812880" y="4343400"/>
            <a:ext cx="635040" cy="6350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0" name="Group 5"/>
          <p:cNvGrpSpPr/>
          <p:nvPr/>
        </p:nvGrpSpPr>
        <p:grpSpPr>
          <a:xfrm>
            <a:off x="3124080" y="4749480"/>
            <a:ext cx="5843880" cy="1678680"/>
            <a:chOff x="3124080" y="4749480"/>
            <a:chExt cx="5843880" cy="1678680"/>
          </a:xfrm>
        </p:grpSpPr>
        <p:sp>
          <p:nvSpPr>
            <p:cNvPr id="851" name="Freeform 6"/>
            <p:cNvSpPr/>
            <p:nvPr/>
          </p:nvSpPr>
          <p:spPr>
            <a:xfrm flipV="1">
              <a:off x="4535640" y="4749120"/>
              <a:ext cx="1382400" cy="1143000"/>
            </a:xfrm>
            <a:custGeom>
              <a:avLst/>
              <a:gdLst>
                <a:gd name="textAreaLeft" fmla="*/ 0 w 1382400"/>
                <a:gd name="textAreaRight" fmla="*/ 1382760 w 1382400"/>
                <a:gd name="textAreaTop" fmla="*/ -360 h 1143000"/>
                <a:gd name="textAreaBottom" fmla="*/ 1143000 h 1143000"/>
              </a:gdLst>
              <a:ahLst/>
              <a:rect l="textAreaLeft" t="textAreaTop" r="textAreaRight" b="textAreaBottom"/>
              <a:pathLst>
                <a:path w="750" h="988">
                  <a:moveTo>
                    <a:pt x="158" y="901"/>
                  </a:moveTo>
                  <a:lnTo>
                    <a:pt x="191" y="881"/>
                  </a:lnTo>
                  <a:lnTo>
                    <a:pt x="243" y="855"/>
                  </a:lnTo>
                  <a:lnTo>
                    <a:pt x="298" y="822"/>
                  </a:lnTo>
                  <a:lnTo>
                    <a:pt x="348" y="784"/>
                  </a:lnTo>
                  <a:lnTo>
                    <a:pt x="400" y="740"/>
                  </a:lnTo>
                  <a:lnTo>
                    <a:pt x="445" y="692"/>
                  </a:lnTo>
                  <a:lnTo>
                    <a:pt x="495" y="643"/>
                  </a:lnTo>
                  <a:lnTo>
                    <a:pt x="535" y="586"/>
                  </a:lnTo>
                  <a:lnTo>
                    <a:pt x="574" y="532"/>
                  </a:lnTo>
                  <a:lnTo>
                    <a:pt x="613" y="471"/>
                  </a:lnTo>
                  <a:lnTo>
                    <a:pt x="643" y="407"/>
                  </a:lnTo>
                  <a:lnTo>
                    <a:pt x="671" y="347"/>
                  </a:lnTo>
                  <a:lnTo>
                    <a:pt x="698" y="281"/>
                  </a:lnTo>
                  <a:lnTo>
                    <a:pt x="714" y="218"/>
                  </a:lnTo>
                  <a:lnTo>
                    <a:pt x="731" y="150"/>
                  </a:lnTo>
                  <a:lnTo>
                    <a:pt x="742" y="84"/>
                  </a:lnTo>
                  <a:lnTo>
                    <a:pt x="749" y="23"/>
                  </a:lnTo>
                  <a:lnTo>
                    <a:pt x="748" y="0"/>
                  </a:lnTo>
                  <a:lnTo>
                    <a:pt x="736" y="84"/>
                  </a:lnTo>
                  <a:lnTo>
                    <a:pt x="720" y="144"/>
                  </a:lnTo>
                  <a:lnTo>
                    <a:pt x="698" y="203"/>
                  </a:lnTo>
                  <a:lnTo>
                    <a:pt x="670" y="260"/>
                  </a:lnTo>
                  <a:lnTo>
                    <a:pt x="637" y="316"/>
                  </a:lnTo>
                  <a:lnTo>
                    <a:pt x="597" y="377"/>
                  </a:lnTo>
                  <a:lnTo>
                    <a:pt x="554" y="432"/>
                  </a:lnTo>
                  <a:lnTo>
                    <a:pt x="506" y="480"/>
                  </a:lnTo>
                  <a:lnTo>
                    <a:pt x="453" y="533"/>
                  </a:lnTo>
                  <a:lnTo>
                    <a:pt x="396" y="580"/>
                  </a:lnTo>
                  <a:lnTo>
                    <a:pt x="340" y="621"/>
                  </a:lnTo>
                  <a:lnTo>
                    <a:pt x="280" y="659"/>
                  </a:lnTo>
                  <a:lnTo>
                    <a:pt x="219" y="692"/>
                  </a:lnTo>
                  <a:lnTo>
                    <a:pt x="155" y="721"/>
                  </a:lnTo>
                  <a:lnTo>
                    <a:pt x="153" y="631"/>
                  </a:lnTo>
                  <a:lnTo>
                    <a:pt x="0" y="866"/>
                  </a:lnTo>
                  <a:lnTo>
                    <a:pt x="158" y="987"/>
                  </a:lnTo>
                  <a:lnTo>
                    <a:pt x="158" y="901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Rectangle 7"/>
            <p:cNvSpPr/>
            <p:nvPr/>
          </p:nvSpPr>
          <p:spPr>
            <a:xfrm>
              <a:off x="3124080" y="5241960"/>
              <a:ext cx="5843880" cy="1186200"/>
            </a:xfrm>
            <a:prstGeom prst="rect">
              <a:avLst/>
            </a:prstGeom>
            <a:solidFill>
              <a:srgbClr val="d7d8e7"/>
            </a:solidFill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VMEV = SR(AH - SH)</a:t>
              </a:r>
              <a:br>
                <a:rPr sz="2400"/>
              </a:b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VMEV = $3.00(1,550 hrs - 1,500 hrs)</a:t>
              </a:r>
              <a:br>
                <a:rPr sz="2400"/>
              </a:b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VMEV = $150 unfavora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Group 8"/>
          <p:cNvGrpSpPr/>
          <p:nvPr/>
        </p:nvGrpSpPr>
        <p:grpSpPr>
          <a:xfrm>
            <a:off x="4624560" y="4067280"/>
            <a:ext cx="4419360" cy="1571400"/>
            <a:chOff x="4624560" y="4067280"/>
            <a:chExt cx="4419360" cy="1571400"/>
          </a:xfrm>
        </p:grpSpPr>
        <p:sp>
          <p:nvSpPr>
            <p:cNvPr id="854" name="AutoShape 9"/>
            <p:cNvSpPr/>
            <p:nvPr/>
          </p:nvSpPr>
          <p:spPr>
            <a:xfrm flipV="1" rot="5400000">
              <a:off x="7014240" y="4796280"/>
              <a:ext cx="1295280" cy="389160"/>
            </a:xfrm>
            <a:prstGeom prst="rightArrow">
              <a:avLst>
                <a:gd name="adj1" fmla="val 50000"/>
                <a:gd name="adj2" fmla="val 166435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Rectangle 10"/>
            <p:cNvSpPr/>
            <p:nvPr/>
          </p:nvSpPr>
          <p:spPr>
            <a:xfrm>
              <a:off x="4624560" y="4067280"/>
              <a:ext cx="4419360" cy="454680"/>
            </a:xfrm>
            <a:prstGeom prst="rect">
              <a:avLst/>
            </a:prstGeom>
            <a:solidFill>
              <a:srgbClr val="009900"/>
            </a:solidFill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Arial"/>
                </a:rPr>
                <a:t>1,000 units × 1.5 hrs per un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6" name="Group 3"/>
          <p:cNvGrpSpPr/>
          <p:nvPr/>
        </p:nvGrpSpPr>
        <p:grpSpPr>
          <a:xfrm>
            <a:off x="7790040" y="496800"/>
            <a:ext cx="1201680" cy="1407960"/>
            <a:chOff x="7790040" y="496800"/>
            <a:chExt cx="1201680" cy="1407960"/>
          </a:xfrm>
        </p:grpSpPr>
        <p:grpSp>
          <p:nvGrpSpPr>
            <p:cNvPr id="857" name="Group 4"/>
            <p:cNvGrpSpPr/>
            <p:nvPr/>
          </p:nvGrpSpPr>
          <p:grpSpPr>
            <a:xfrm>
              <a:off x="7790040" y="496800"/>
              <a:ext cx="1028880" cy="1407960"/>
              <a:chOff x="7790040" y="496800"/>
              <a:chExt cx="1028880" cy="1407960"/>
            </a:xfrm>
          </p:grpSpPr>
          <p:grpSp>
            <p:nvGrpSpPr>
              <p:cNvPr id="858" name="Group 5"/>
              <p:cNvGrpSpPr/>
              <p:nvPr/>
            </p:nvGrpSpPr>
            <p:grpSpPr>
              <a:xfrm>
                <a:off x="7790040" y="576360"/>
                <a:ext cx="138240" cy="1250640"/>
                <a:chOff x="7790040" y="576360"/>
                <a:chExt cx="138240" cy="1250640"/>
              </a:xfrm>
            </p:grpSpPr>
            <p:sp>
              <p:nvSpPr>
                <p:cNvPr id="859" name="Freeform 6"/>
                <p:cNvSpPr/>
                <p:nvPr/>
              </p:nvSpPr>
              <p:spPr>
                <a:xfrm>
                  <a:off x="7790040" y="576360"/>
                  <a:ext cx="138240" cy="1250640"/>
                </a:xfrm>
                <a:custGeom>
                  <a:avLst/>
                  <a:gdLst>
                    <a:gd name="textAreaLeft" fmla="*/ 0 w 138240"/>
                    <a:gd name="textAreaRight" fmla="*/ 138600 w 138240"/>
                    <a:gd name="textAreaTop" fmla="*/ 0 h 1250640"/>
                    <a:gd name="textAreaBottom" fmla="*/ 1251000 h 1250640"/>
                  </a:gdLst>
                  <a:ahLst/>
                  <a:rect l="textAreaLeft" t="textAreaTop" r="textAreaRight" b="textAreaBottom"/>
                  <a:pathLst>
                    <a:path w="261" h="2363">
                      <a:moveTo>
                        <a:pt x="111" y="0"/>
                      </a:moveTo>
                      <a:lnTo>
                        <a:pt x="0" y="262"/>
                      </a:lnTo>
                      <a:lnTo>
                        <a:pt x="0" y="2100"/>
                      </a:lnTo>
                      <a:lnTo>
                        <a:pt x="149" y="2363"/>
                      </a:lnTo>
                      <a:lnTo>
                        <a:pt x="261" y="2100"/>
                      </a:lnTo>
                      <a:lnTo>
                        <a:pt x="261" y="226"/>
                      </a:lnTo>
                      <a:lnTo>
                        <a:pt x="111" y="0"/>
                      </a:lnTo>
                      <a:close/>
                    </a:path>
                  </a:pathLst>
                </a:custGeom>
                <a:solidFill>
                  <a:srgbClr val="9f9fb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" name="Freeform 7"/>
                <p:cNvSpPr/>
                <p:nvPr/>
              </p:nvSpPr>
              <p:spPr>
                <a:xfrm>
                  <a:off x="7790040" y="576360"/>
                  <a:ext cx="119160" cy="125064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250640"/>
                    <a:gd name="textAreaBottom" fmla="*/ 1251000 h 1250640"/>
                  </a:gdLst>
                  <a:ahLst/>
                  <a:rect l="textAreaLeft" t="textAreaTop" r="textAreaRight" b="textAreaBottom"/>
                  <a:pathLst>
                    <a:path w="225" h="2363">
                      <a:moveTo>
                        <a:pt x="111" y="0"/>
                      </a:moveTo>
                      <a:lnTo>
                        <a:pt x="185" y="112"/>
                      </a:lnTo>
                      <a:lnTo>
                        <a:pt x="111" y="262"/>
                      </a:lnTo>
                      <a:lnTo>
                        <a:pt x="111" y="1988"/>
                      </a:lnTo>
                      <a:lnTo>
                        <a:pt x="225" y="2213"/>
                      </a:lnTo>
                      <a:lnTo>
                        <a:pt x="149" y="2363"/>
                      </a:lnTo>
                      <a:lnTo>
                        <a:pt x="0" y="2100"/>
                      </a:lnTo>
                      <a:lnTo>
                        <a:pt x="0" y="262"/>
                      </a:lnTo>
                      <a:lnTo>
                        <a:pt x="111" y="0"/>
                      </a:lnTo>
                      <a:close/>
                    </a:path>
                  </a:pathLst>
                </a:custGeom>
                <a:solidFill>
                  <a:srgbClr val="bfbfd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1" name="Group 8"/>
              <p:cNvGrpSpPr/>
              <p:nvPr/>
            </p:nvGrpSpPr>
            <p:grpSpPr>
              <a:xfrm>
                <a:off x="7809120" y="496800"/>
                <a:ext cx="1009800" cy="1407960"/>
                <a:chOff x="7809120" y="496800"/>
                <a:chExt cx="1009800" cy="1407960"/>
              </a:xfrm>
            </p:grpSpPr>
            <p:sp>
              <p:nvSpPr>
                <p:cNvPr id="862" name="Freeform 9"/>
                <p:cNvSpPr/>
                <p:nvPr/>
              </p:nvSpPr>
              <p:spPr>
                <a:xfrm>
                  <a:off x="7809120" y="496800"/>
                  <a:ext cx="969840" cy="79560"/>
                </a:xfrm>
                <a:custGeom>
                  <a:avLst/>
                  <a:gdLst>
                    <a:gd name="textAreaLeft" fmla="*/ 0 w 969840"/>
                    <a:gd name="textAreaRight" fmla="*/ 970200 w 969840"/>
                    <a:gd name="textAreaTop" fmla="*/ 0 h 79560"/>
                    <a:gd name="textAreaBottom" fmla="*/ 79920 h 79560"/>
                  </a:gdLst>
                  <a:ahLst/>
                  <a:rect l="textAreaLeft" t="textAreaTop" r="textAreaRight" b="textAreaBottom"/>
                  <a:pathLst>
                    <a:path w="1834" h="149">
                      <a:moveTo>
                        <a:pt x="75" y="149"/>
                      </a:moveTo>
                      <a:lnTo>
                        <a:pt x="0" y="0"/>
                      </a:lnTo>
                      <a:lnTo>
                        <a:pt x="1834" y="0"/>
                      </a:lnTo>
                      <a:lnTo>
                        <a:pt x="1760" y="149"/>
                      </a:lnTo>
                      <a:lnTo>
                        <a:pt x="75" y="149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3" name="Freeform 10"/>
                <p:cNvSpPr/>
                <p:nvPr/>
              </p:nvSpPr>
              <p:spPr>
                <a:xfrm>
                  <a:off x="7829640" y="1827000"/>
                  <a:ext cx="970200" cy="77760"/>
                </a:xfrm>
                <a:custGeom>
                  <a:avLst/>
                  <a:gdLst>
                    <a:gd name="textAreaLeft" fmla="*/ 0 w 970200"/>
                    <a:gd name="textAreaRight" fmla="*/ 970560 w 970200"/>
                    <a:gd name="textAreaTop" fmla="*/ 0 h 77760"/>
                    <a:gd name="textAreaBottom" fmla="*/ 78120 h 77760"/>
                  </a:gdLst>
                  <a:ahLst/>
                  <a:rect l="textAreaLeft" t="textAreaTop" r="textAreaRight" b="textAreaBottom"/>
                  <a:pathLst>
                    <a:path w="1834" h="149">
                      <a:moveTo>
                        <a:pt x="75" y="0"/>
                      </a:moveTo>
                      <a:lnTo>
                        <a:pt x="1722" y="0"/>
                      </a:lnTo>
                      <a:lnTo>
                        <a:pt x="1834" y="113"/>
                      </a:lnTo>
                      <a:lnTo>
                        <a:pt x="1760" y="149"/>
                      </a:lnTo>
                      <a:lnTo>
                        <a:pt x="0" y="149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solidFill>
                  <a:srgbClr val="9f9fb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4" name="Freeform 11"/>
                <p:cNvSpPr/>
                <p:nvPr/>
              </p:nvSpPr>
              <p:spPr>
                <a:xfrm>
                  <a:off x="7848720" y="576360"/>
                  <a:ext cx="970200" cy="1250640"/>
                </a:xfrm>
                <a:custGeom>
                  <a:avLst/>
                  <a:gdLst>
                    <a:gd name="textAreaLeft" fmla="*/ 0 w 970200"/>
                    <a:gd name="textAreaRight" fmla="*/ 970560 w 970200"/>
                    <a:gd name="textAreaTop" fmla="*/ 0 h 1250640"/>
                    <a:gd name="textAreaBottom" fmla="*/ 1251000 h 1250640"/>
                  </a:gdLst>
                  <a:ahLst/>
                  <a:rect l="textAreaLeft" t="textAreaTop" r="textAreaRight" b="textAreaBottom"/>
                  <a:pathLst>
                    <a:path w="1834" h="2363">
                      <a:moveTo>
                        <a:pt x="38" y="2363"/>
                      </a:moveTo>
                      <a:lnTo>
                        <a:pt x="1685" y="2363"/>
                      </a:lnTo>
                      <a:lnTo>
                        <a:pt x="1834" y="2100"/>
                      </a:lnTo>
                      <a:lnTo>
                        <a:pt x="1834" y="226"/>
                      </a:lnTo>
                      <a:lnTo>
                        <a:pt x="1685" y="0"/>
                      </a:lnTo>
                      <a:lnTo>
                        <a:pt x="0" y="0"/>
                      </a:lnTo>
                      <a:lnTo>
                        <a:pt x="150" y="226"/>
                      </a:lnTo>
                      <a:lnTo>
                        <a:pt x="150" y="2100"/>
                      </a:lnTo>
                      <a:lnTo>
                        <a:pt x="38" y="2363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5" name="Rectangle 12"/>
                <p:cNvSpPr/>
                <p:nvPr/>
              </p:nvSpPr>
              <p:spPr>
                <a:xfrm>
                  <a:off x="7929720" y="974520"/>
                  <a:ext cx="887400" cy="254160"/>
                </a:xfrm>
                <a:prstGeom prst="rect">
                  <a:avLst/>
                </a:prstGeom>
                <a:solidFill>
                  <a:srgbClr val="ff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6" name="Freeform 13"/>
                <p:cNvSpPr/>
                <p:nvPr/>
              </p:nvSpPr>
              <p:spPr>
                <a:xfrm>
                  <a:off x="7869600" y="1687320"/>
                  <a:ext cx="949320" cy="139680"/>
                </a:xfrm>
                <a:custGeom>
                  <a:avLst/>
                  <a:gdLst>
                    <a:gd name="textAreaLeft" fmla="*/ 0 w 949320"/>
                    <a:gd name="textAreaRight" fmla="*/ 949680 w 949320"/>
                    <a:gd name="textAreaTop" fmla="*/ 0 h 139680"/>
                    <a:gd name="textAreaBottom" fmla="*/ 140040 h 139680"/>
                  </a:gdLst>
                  <a:ahLst/>
                  <a:rect l="textAreaLeft" t="textAreaTop" r="textAreaRight" b="textAreaBottom"/>
                  <a:pathLst>
                    <a:path w="1796" h="263">
                      <a:moveTo>
                        <a:pt x="112" y="0"/>
                      </a:moveTo>
                      <a:lnTo>
                        <a:pt x="0" y="263"/>
                      </a:lnTo>
                      <a:lnTo>
                        <a:pt x="1647" y="263"/>
                      </a:lnTo>
                      <a:lnTo>
                        <a:pt x="1796" y="0"/>
                      </a:lnTo>
                      <a:lnTo>
                        <a:pt x="112" y="0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67" name="Rectangle 14"/>
            <p:cNvSpPr/>
            <p:nvPr/>
          </p:nvSpPr>
          <p:spPr>
            <a:xfrm>
              <a:off x="8004240" y="922320"/>
              <a:ext cx="987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Zipp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Quick Check </a:t>
            </a:r>
            <a:r>
              <a:rPr b="0" lang="en-US" sz="4000" spc="-1" strike="noStrike">
                <a:solidFill>
                  <a:srgbClr val="464646"/>
                </a:solidFill>
                <a:latin typeface="Wingdings"/>
                <a:ea typeface="Wingdings"/>
              </a:rPr>
              <a:t>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8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2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9" name="Group 2"/>
          <p:cNvGrpSpPr/>
          <p:nvPr/>
        </p:nvGrpSpPr>
        <p:grpSpPr>
          <a:xfrm>
            <a:off x="917640" y="4800600"/>
            <a:ext cx="3882960" cy="1507680"/>
            <a:chOff x="917640" y="4800600"/>
            <a:chExt cx="3882960" cy="1507680"/>
          </a:xfrm>
        </p:grpSpPr>
        <p:sp>
          <p:nvSpPr>
            <p:cNvPr id="870" name="Freeform 3"/>
            <p:cNvSpPr/>
            <p:nvPr/>
          </p:nvSpPr>
          <p:spPr>
            <a:xfrm>
              <a:off x="1278000" y="4800600"/>
              <a:ext cx="3143160" cy="619200"/>
            </a:xfrm>
            <a:custGeom>
              <a:avLst/>
              <a:gdLst>
                <a:gd name="textAreaLeft" fmla="*/ 0 w 3143160"/>
                <a:gd name="textAreaRight" fmla="*/ 3143520 w 314316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1980" h="390">
                  <a:moveTo>
                    <a:pt x="1608" y="257"/>
                  </a:moveTo>
                  <a:lnTo>
                    <a:pt x="1645" y="255"/>
                  </a:lnTo>
                  <a:lnTo>
                    <a:pt x="1681" y="251"/>
                  </a:lnTo>
                  <a:lnTo>
                    <a:pt x="1718" y="244"/>
                  </a:lnTo>
                  <a:lnTo>
                    <a:pt x="1753" y="235"/>
                  </a:lnTo>
                  <a:lnTo>
                    <a:pt x="1787" y="224"/>
                  </a:lnTo>
                  <a:lnTo>
                    <a:pt x="1819" y="209"/>
                  </a:lnTo>
                  <a:lnTo>
                    <a:pt x="1849" y="194"/>
                  </a:lnTo>
                  <a:lnTo>
                    <a:pt x="1876" y="176"/>
                  </a:lnTo>
                  <a:lnTo>
                    <a:pt x="1900" y="156"/>
                  </a:lnTo>
                  <a:lnTo>
                    <a:pt x="1922" y="135"/>
                  </a:lnTo>
                  <a:lnTo>
                    <a:pt x="1940" y="112"/>
                  </a:lnTo>
                  <a:lnTo>
                    <a:pt x="1955" y="89"/>
                  </a:lnTo>
                  <a:lnTo>
                    <a:pt x="1966" y="64"/>
                  </a:lnTo>
                  <a:lnTo>
                    <a:pt x="1975" y="39"/>
                  </a:lnTo>
                  <a:lnTo>
                    <a:pt x="1978" y="13"/>
                  </a:lnTo>
                  <a:lnTo>
                    <a:pt x="1979" y="0"/>
                  </a:lnTo>
                  <a:lnTo>
                    <a:pt x="1978" y="21"/>
                  </a:lnTo>
                  <a:lnTo>
                    <a:pt x="1972" y="43"/>
                  </a:lnTo>
                  <a:lnTo>
                    <a:pt x="1961" y="64"/>
                  </a:lnTo>
                  <a:lnTo>
                    <a:pt x="1949" y="83"/>
                  </a:lnTo>
                  <a:lnTo>
                    <a:pt x="1933" y="102"/>
                  </a:lnTo>
                  <a:lnTo>
                    <a:pt x="1913" y="119"/>
                  </a:lnTo>
                  <a:lnTo>
                    <a:pt x="1891" y="134"/>
                  </a:lnTo>
                  <a:lnTo>
                    <a:pt x="1866" y="148"/>
                  </a:lnTo>
                  <a:lnTo>
                    <a:pt x="1839" y="159"/>
                  </a:lnTo>
                  <a:lnTo>
                    <a:pt x="1810" y="168"/>
                  </a:lnTo>
                  <a:lnTo>
                    <a:pt x="1781" y="174"/>
                  </a:lnTo>
                  <a:lnTo>
                    <a:pt x="1751" y="179"/>
                  </a:lnTo>
                  <a:lnTo>
                    <a:pt x="1719" y="180"/>
                  </a:lnTo>
                  <a:lnTo>
                    <a:pt x="1214" y="180"/>
                  </a:lnTo>
                  <a:lnTo>
                    <a:pt x="1185" y="182"/>
                  </a:lnTo>
                  <a:lnTo>
                    <a:pt x="1157" y="186"/>
                  </a:lnTo>
                  <a:lnTo>
                    <a:pt x="1129" y="193"/>
                  </a:lnTo>
                  <a:lnTo>
                    <a:pt x="1103" y="202"/>
                  </a:lnTo>
                  <a:lnTo>
                    <a:pt x="1080" y="213"/>
                  </a:lnTo>
                  <a:lnTo>
                    <a:pt x="1058" y="227"/>
                  </a:lnTo>
                  <a:lnTo>
                    <a:pt x="1038" y="242"/>
                  </a:lnTo>
                  <a:lnTo>
                    <a:pt x="1022" y="258"/>
                  </a:lnTo>
                  <a:lnTo>
                    <a:pt x="1010" y="276"/>
                  </a:lnTo>
                  <a:lnTo>
                    <a:pt x="1000" y="295"/>
                  </a:lnTo>
                  <a:lnTo>
                    <a:pt x="994" y="316"/>
                  </a:lnTo>
                  <a:lnTo>
                    <a:pt x="991" y="335"/>
                  </a:lnTo>
                  <a:lnTo>
                    <a:pt x="990" y="338"/>
                  </a:lnTo>
                  <a:lnTo>
                    <a:pt x="990" y="335"/>
                  </a:lnTo>
                  <a:lnTo>
                    <a:pt x="986" y="316"/>
                  </a:lnTo>
                  <a:lnTo>
                    <a:pt x="980" y="295"/>
                  </a:lnTo>
                  <a:lnTo>
                    <a:pt x="971" y="276"/>
                  </a:lnTo>
                  <a:lnTo>
                    <a:pt x="958" y="258"/>
                  </a:lnTo>
                  <a:lnTo>
                    <a:pt x="941" y="242"/>
                  </a:lnTo>
                  <a:lnTo>
                    <a:pt x="922" y="227"/>
                  </a:lnTo>
                  <a:lnTo>
                    <a:pt x="900" y="213"/>
                  </a:lnTo>
                  <a:lnTo>
                    <a:pt x="876" y="202"/>
                  </a:lnTo>
                  <a:lnTo>
                    <a:pt x="851" y="193"/>
                  </a:lnTo>
                  <a:lnTo>
                    <a:pt x="824" y="186"/>
                  </a:lnTo>
                  <a:lnTo>
                    <a:pt x="795" y="182"/>
                  </a:lnTo>
                  <a:lnTo>
                    <a:pt x="766" y="180"/>
                  </a:lnTo>
                  <a:lnTo>
                    <a:pt x="261" y="180"/>
                  </a:lnTo>
                  <a:lnTo>
                    <a:pt x="231" y="179"/>
                  </a:lnTo>
                  <a:lnTo>
                    <a:pt x="199" y="174"/>
                  </a:lnTo>
                  <a:lnTo>
                    <a:pt x="169" y="168"/>
                  </a:lnTo>
                  <a:lnTo>
                    <a:pt x="141" y="159"/>
                  </a:lnTo>
                  <a:lnTo>
                    <a:pt x="115" y="148"/>
                  </a:lnTo>
                  <a:lnTo>
                    <a:pt x="90" y="134"/>
                  </a:lnTo>
                  <a:lnTo>
                    <a:pt x="67" y="119"/>
                  </a:lnTo>
                  <a:lnTo>
                    <a:pt x="48" y="102"/>
                  </a:lnTo>
                  <a:lnTo>
                    <a:pt x="32" y="83"/>
                  </a:lnTo>
                  <a:lnTo>
                    <a:pt x="19" y="64"/>
                  </a:lnTo>
                  <a:lnTo>
                    <a:pt x="9" y="43"/>
                  </a:lnTo>
                  <a:lnTo>
                    <a:pt x="3" y="21"/>
                  </a:lnTo>
                  <a:lnTo>
                    <a:pt x="0" y="0"/>
                  </a:lnTo>
                  <a:lnTo>
                    <a:pt x="2" y="13"/>
                  </a:lnTo>
                  <a:lnTo>
                    <a:pt x="6" y="39"/>
                  </a:lnTo>
                  <a:lnTo>
                    <a:pt x="13" y="64"/>
                  </a:lnTo>
                  <a:lnTo>
                    <a:pt x="25" y="89"/>
                  </a:lnTo>
                  <a:lnTo>
                    <a:pt x="40" y="112"/>
                  </a:lnTo>
                  <a:lnTo>
                    <a:pt x="59" y="135"/>
                  </a:lnTo>
                  <a:lnTo>
                    <a:pt x="81" y="156"/>
                  </a:lnTo>
                  <a:lnTo>
                    <a:pt x="105" y="176"/>
                  </a:lnTo>
                  <a:lnTo>
                    <a:pt x="132" y="194"/>
                  </a:lnTo>
                  <a:lnTo>
                    <a:pt x="161" y="209"/>
                  </a:lnTo>
                  <a:lnTo>
                    <a:pt x="193" y="224"/>
                  </a:lnTo>
                  <a:lnTo>
                    <a:pt x="227" y="235"/>
                  </a:lnTo>
                  <a:lnTo>
                    <a:pt x="262" y="244"/>
                  </a:lnTo>
                  <a:lnTo>
                    <a:pt x="299" y="251"/>
                  </a:lnTo>
                  <a:lnTo>
                    <a:pt x="334" y="255"/>
                  </a:lnTo>
                  <a:lnTo>
                    <a:pt x="372" y="257"/>
                  </a:lnTo>
                  <a:lnTo>
                    <a:pt x="803" y="257"/>
                  </a:lnTo>
                  <a:lnTo>
                    <a:pt x="830" y="259"/>
                  </a:lnTo>
                  <a:lnTo>
                    <a:pt x="856" y="262"/>
                  </a:lnTo>
                  <a:lnTo>
                    <a:pt x="879" y="269"/>
                  </a:lnTo>
                  <a:lnTo>
                    <a:pt x="903" y="277"/>
                  </a:lnTo>
                  <a:lnTo>
                    <a:pt x="923" y="289"/>
                  </a:lnTo>
                  <a:lnTo>
                    <a:pt x="943" y="302"/>
                  </a:lnTo>
                  <a:lnTo>
                    <a:pt x="958" y="317"/>
                  </a:lnTo>
                  <a:lnTo>
                    <a:pt x="971" y="333"/>
                  </a:lnTo>
                  <a:lnTo>
                    <a:pt x="980" y="350"/>
                  </a:lnTo>
                  <a:lnTo>
                    <a:pt x="986" y="369"/>
                  </a:lnTo>
                  <a:lnTo>
                    <a:pt x="990" y="387"/>
                  </a:lnTo>
                  <a:lnTo>
                    <a:pt x="990" y="389"/>
                  </a:lnTo>
                  <a:lnTo>
                    <a:pt x="992" y="370"/>
                  </a:lnTo>
                  <a:lnTo>
                    <a:pt x="997" y="352"/>
                  </a:lnTo>
                  <a:lnTo>
                    <a:pt x="1007" y="335"/>
                  </a:lnTo>
                  <a:lnTo>
                    <a:pt x="1019" y="318"/>
                  </a:lnTo>
                  <a:lnTo>
                    <a:pt x="1035" y="304"/>
                  </a:lnTo>
                  <a:lnTo>
                    <a:pt x="1053" y="290"/>
                  </a:lnTo>
                  <a:lnTo>
                    <a:pt x="1073" y="279"/>
                  </a:lnTo>
                  <a:lnTo>
                    <a:pt x="1097" y="270"/>
                  </a:lnTo>
                  <a:lnTo>
                    <a:pt x="1120" y="263"/>
                  </a:lnTo>
                  <a:lnTo>
                    <a:pt x="1146" y="259"/>
                  </a:lnTo>
                  <a:lnTo>
                    <a:pt x="1172" y="257"/>
                  </a:lnTo>
                  <a:lnTo>
                    <a:pt x="1175" y="257"/>
                  </a:lnTo>
                  <a:lnTo>
                    <a:pt x="1608" y="257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Rectangle 4"/>
            <p:cNvSpPr/>
            <p:nvPr/>
          </p:nvSpPr>
          <p:spPr>
            <a:xfrm>
              <a:off x="917640" y="5487840"/>
              <a:ext cx="38829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Rate variance</a:t>
              </a:r>
              <a:br>
                <a:rPr sz="2400"/>
              </a:b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$465 unfavora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2" name="Group 5"/>
          <p:cNvGrpSpPr/>
          <p:nvPr/>
        </p:nvGrpSpPr>
        <p:grpSpPr>
          <a:xfrm>
            <a:off x="4365720" y="4800600"/>
            <a:ext cx="3882960" cy="1507680"/>
            <a:chOff x="4365720" y="4800600"/>
            <a:chExt cx="3882960" cy="1507680"/>
          </a:xfrm>
        </p:grpSpPr>
        <p:sp>
          <p:nvSpPr>
            <p:cNvPr id="873" name="Rectangle 6"/>
            <p:cNvSpPr/>
            <p:nvPr/>
          </p:nvSpPr>
          <p:spPr>
            <a:xfrm>
              <a:off x="4365720" y="5487840"/>
              <a:ext cx="38829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Efficiency variance</a:t>
              </a:r>
              <a:br>
                <a:rPr sz="2400"/>
              </a:b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$150 unfavora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7"/>
            <p:cNvSpPr/>
            <p:nvPr/>
          </p:nvSpPr>
          <p:spPr>
            <a:xfrm>
              <a:off x="4707000" y="4800600"/>
              <a:ext cx="3143160" cy="619200"/>
            </a:xfrm>
            <a:custGeom>
              <a:avLst/>
              <a:gdLst>
                <a:gd name="textAreaLeft" fmla="*/ 0 w 3143160"/>
                <a:gd name="textAreaRight" fmla="*/ 3143520 w 314316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1980" h="390">
                  <a:moveTo>
                    <a:pt x="1608" y="257"/>
                  </a:moveTo>
                  <a:lnTo>
                    <a:pt x="1645" y="255"/>
                  </a:lnTo>
                  <a:lnTo>
                    <a:pt x="1681" y="251"/>
                  </a:lnTo>
                  <a:lnTo>
                    <a:pt x="1718" y="244"/>
                  </a:lnTo>
                  <a:lnTo>
                    <a:pt x="1753" y="235"/>
                  </a:lnTo>
                  <a:lnTo>
                    <a:pt x="1787" y="224"/>
                  </a:lnTo>
                  <a:lnTo>
                    <a:pt x="1819" y="209"/>
                  </a:lnTo>
                  <a:lnTo>
                    <a:pt x="1849" y="194"/>
                  </a:lnTo>
                  <a:lnTo>
                    <a:pt x="1876" y="176"/>
                  </a:lnTo>
                  <a:lnTo>
                    <a:pt x="1900" y="156"/>
                  </a:lnTo>
                  <a:lnTo>
                    <a:pt x="1922" y="135"/>
                  </a:lnTo>
                  <a:lnTo>
                    <a:pt x="1940" y="112"/>
                  </a:lnTo>
                  <a:lnTo>
                    <a:pt x="1955" y="89"/>
                  </a:lnTo>
                  <a:lnTo>
                    <a:pt x="1966" y="64"/>
                  </a:lnTo>
                  <a:lnTo>
                    <a:pt x="1975" y="39"/>
                  </a:lnTo>
                  <a:lnTo>
                    <a:pt x="1978" y="13"/>
                  </a:lnTo>
                  <a:lnTo>
                    <a:pt x="1979" y="0"/>
                  </a:lnTo>
                  <a:lnTo>
                    <a:pt x="1978" y="21"/>
                  </a:lnTo>
                  <a:lnTo>
                    <a:pt x="1972" y="43"/>
                  </a:lnTo>
                  <a:lnTo>
                    <a:pt x="1961" y="64"/>
                  </a:lnTo>
                  <a:lnTo>
                    <a:pt x="1949" y="83"/>
                  </a:lnTo>
                  <a:lnTo>
                    <a:pt x="1933" y="102"/>
                  </a:lnTo>
                  <a:lnTo>
                    <a:pt x="1913" y="119"/>
                  </a:lnTo>
                  <a:lnTo>
                    <a:pt x="1891" y="134"/>
                  </a:lnTo>
                  <a:lnTo>
                    <a:pt x="1866" y="148"/>
                  </a:lnTo>
                  <a:lnTo>
                    <a:pt x="1839" y="159"/>
                  </a:lnTo>
                  <a:lnTo>
                    <a:pt x="1810" y="168"/>
                  </a:lnTo>
                  <a:lnTo>
                    <a:pt x="1781" y="174"/>
                  </a:lnTo>
                  <a:lnTo>
                    <a:pt x="1751" y="179"/>
                  </a:lnTo>
                  <a:lnTo>
                    <a:pt x="1719" y="180"/>
                  </a:lnTo>
                  <a:lnTo>
                    <a:pt x="1214" y="180"/>
                  </a:lnTo>
                  <a:lnTo>
                    <a:pt x="1185" y="182"/>
                  </a:lnTo>
                  <a:lnTo>
                    <a:pt x="1157" y="186"/>
                  </a:lnTo>
                  <a:lnTo>
                    <a:pt x="1129" y="193"/>
                  </a:lnTo>
                  <a:lnTo>
                    <a:pt x="1103" y="202"/>
                  </a:lnTo>
                  <a:lnTo>
                    <a:pt x="1080" y="213"/>
                  </a:lnTo>
                  <a:lnTo>
                    <a:pt x="1058" y="227"/>
                  </a:lnTo>
                  <a:lnTo>
                    <a:pt x="1038" y="242"/>
                  </a:lnTo>
                  <a:lnTo>
                    <a:pt x="1022" y="258"/>
                  </a:lnTo>
                  <a:lnTo>
                    <a:pt x="1010" y="276"/>
                  </a:lnTo>
                  <a:lnTo>
                    <a:pt x="1000" y="295"/>
                  </a:lnTo>
                  <a:lnTo>
                    <a:pt x="994" y="316"/>
                  </a:lnTo>
                  <a:lnTo>
                    <a:pt x="991" y="335"/>
                  </a:lnTo>
                  <a:lnTo>
                    <a:pt x="990" y="338"/>
                  </a:lnTo>
                  <a:lnTo>
                    <a:pt x="990" y="335"/>
                  </a:lnTo>
                  <a:lnTo>
                    <a:pt x="986" y="316"/>
                  </a:lnTo>
                  <a:lnTo>
                    <a:pt x="980" y="295"/>
                  </a:lnTo>
                  <a:lnTo>
                    <a:pt x="971" y="276"/>
                  </a:lnTo>
                  <a:lnTo>
                    <a:pt x="958" y="258"/>
                  </a:lnTo>
                  <a:lnTo>
                    <a:pt x="941" y="242"/>
                  </a:lnTo>
                  <a:lnTo>
                    <a:pt x="922" y="227"/>
                  </a:lnTo>
                  <a:lnTo>
                    <a:pt x="900" y="213"/>
                  </a:lnTo>
                  <a:lnTo>
                    <a:pt x="876" y="202"/>
                  </a:lnTo>
                  <a:lnTo>
                    <a:pt x="851" y="193"/>
                  </a:lnTo>
                  <a:lnTo>
                    <a:pt x="824" y="186"/>
                  </a:lnTo>
                  <a:lnTo>
                    <a:pt x="795" y="182"/>
                  </a:lnTo>
                  <a:lnTo>
                    <a:pt x="766" y="180"/>
                  </a:lnTo>
                  <a:lnTo>
                    <a:pt x="261" y="180"/>
                  </a:lnTo>
                  <a:lnTo>
                    <a:pt x="231" y="179"/>
                  </a:lnTo>
                  <a:lnTo>
                    <a:pt x="199" y="174"/>
                  </a:lnTo>
                  <a:lnTo>
                    <a:pt x="169" y="168"/>
                  </a:lnTo>
                  <a:lnTo>
                    <a:pt x="141" y="159"/>
                  </a:lnTo>
                  <a:lnTo>
                    <a:pt x="115" y="148"/>
                  </a:lnTo>
                  <a:lnTo>
                    <a:pt x="90" y="134"/>
                  </a:lnTo>
                  <a:lnTo>
                    <a:pt x="67" y="119"/>
                  </a:lnTo>
                  <a:lnTo>
                    <a:pt x="48" y="102"/>
                  </a:lnTo>
                  <a:lnTo>
                    <a:pt x="32" y="83"/>
                  </a:lnTo>
                  <a:lnTo>
                    <a:pt x="19" y="64"/>
                  </a:lnTo>
                  <a:lnTo>
                    <a:pt x="9" y="43"/>
                  </a:lnTo>
                  <a:lnTo>
                    <a:pt x="3" y="21"/>
                  </a:lnTo>
                  <a:lnTo>
                    <a:pt x="0" y="0"/>
                  </a:lnTo>
                  <a:lnTo>
                    <a:pt x="2" y="13"/>
                  </a:lnTo>
                  <a:lnTo>
                    <a:pt x="6" y="39"/>
                  </a:lnTo>
                  <a:lnTo>
                    <a:pt x="13" y="64"/>
                  </a:lnTo>
                  <a:lnTo>
                    <a:pt x="25" y="89"/>
                  </a:lnTo>
                  <a:lnTo>
                    <a:pt x="40" y="112"/>
                  </a:lnTo>
                  <a:lnTo>
                    <a:pt x="59" y="135"/>
                  </a:lnTo>
                  <a:lnTo>
                    <a:pt x="81" y="156"/>
                  </a:lnTo>
                  <a:lnTo>
                    <a:pt x="105" y="176"/>
                  </a:lnTo>
                  <a:lnTo>
                    <a:pt x="132" y="194"/>
                  </a:lnTo>
                  <a:lnTo>
                    <a:pt x="161" y="209"/>
                  </a:lnTo>
                  <a:lnTo>
                    <a:pt x="193" y="224"/>
                  </a:lnTo>
                  <a:lnTo>
                    <a:pt x="227" y="235"/>
                  </a:lnTo>
                  <a:lnTo>
                    <a:pt x="262" y="244"/>
                  </a:lnTo>
                  <a:lnTo>
                    <a:pt x="299" y="251"/>
                  </a:lnTo>
                  <a:lnTo>
                    <a:pt x="334" y="255"/>
                  </a:lnTo>
                  <a:lnTo>
                    <a:pt x="372" y="257"/>
                  </a:lnTo>
                  <a:lnTo>
                    <a:pt x="803" y="257"/>
                  </a:lnTo>
                  <a:lnTo>
                    <a:pt x="830" y="259"/>
                  </a:lnTo>
                  <a:lnTo>
                    <a:pt x="856" y="262"/>
                  </a:lnTo>
                  <a:lnTo>
                    <a:pt x="879" y="269"/>
                  </a:lnTo>
                  <a:lnTo>
                    <a:pt x="903" y="277"/>
                  </a:lnTo>
                  <a:lnTo>
                    <a:pt x="923" y="289"/>
                  </a:lnTo>
                  <a:lnTo>
                    <a:pt x="943" y="302"/>
                  </a:lnTo>
                  <a:lnTo>
                    <a:pt x="958" y="317"/>
                  </a:lnTo>
                  <a:lnTo>
                    <a:pt x="971" y="333"/>
                  </a:lnTo>
                  <a:lnTo>
                    <a:pt x="980" y="350"/>
                  </a:lnTo>
                  <a:lnTo>
                    <a:pt x="986" y="369"/>
                  </a:lnTo>
                  <a:lnTo>
                    <a:pt x="990" y="387"/>
                  </a:lnTo>
                  <a:lnTo>
                    <a:pt x="990" y="389"/>
                  </a:lnTo>
                  <a:lnTo>
                    <a:pt x="992" y="370"/>
                  </a:lnTo>
                  <a:lnTo>
                    <a:pt x="997" y="352"/>
                  </a:lnTo>
                  <a:lnTo>
                    <a:pt x="1007" y="335"/>
                  </a:lnTo>
                  <a:lnTo>
                    <a:pt x="1019" y="318"/>
                  </a:lnTo>
                  <a:lnTo>
                    <a:pt x="1035" y="304"/>
                  </a:lnTo>
                  <a:lnTo>
                    <a:pt x="1053" y="290"/>
                  </a:lnTo>
                  <a:lnTo>
                    <a:pt x="1073" y="279"/>
                  </a:lnTo>
                  <a:lnTo>
                    <a:pt x="1097" y="270"/>
                  </a:lnTo>
                  <a:lnTo>
                    <a:pt x="1120" y="263"/>
                  </a:lnTo>
                  <a:lnTo>
                    <a:pt x="1146" y="259"/>
                  </a:lnTo>
                  <a:lnTo>
                    <a:pt x="1172" y="257"/>
                  </a:lnTo>
                  <a:lnTo>
                    <a:pt x="1175" y="257"/>
                  </a:lnTo>
                  <a:lnTo>
                    <a:pt x="1608" y="257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5" name="Rectangle 8"/>
          <p:cNvSpPr/>
          <p:nvPr/>
        </p:nvSpPr>
        <p:spPr>
          <a:xfrm>
            <a:off x="230040" y="3049560"/>
            <a:ext cx="8607600" cy="174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464646"/>
                </a:solidFill>
                <a:latin typeface="Arial"/>
              </a:rPr>
              <a:t>1,550 hours               1,550 hours                 1,500 hours</a:t>
            </a:r>
            <a:br>
              <a:rPr sz="2400"/>
            </a:br>
            <a:r>
              <a:rPr b="0" lang="en-US" sz="2400" spc="-1" strike="noStrike">
                <a:solidFill>
                  <a:srgbClr val="464646"/>
                </a:solidFill>
                <a:latin typeface="Arial"/>
              </a:rPr>
              <a:t>             ×                              ×                                 ×</a:t>
            </a:r>
            <a:br>
              <a:rPr sz="2400"/>
            </a:br>
            <a:r>
              <a:rPr b="0" lang="en-US" sz="2400" spc="-1" strike="noStrike">
                <a:solidFill>
                  <a:srgbClr val="464646"/>
                </a:solidFill>
                <a:latin typeface="Arial"/>
              </a:rPr>
              <a:t>    $3.30 per hour           $3.00 per hour            $3.00 per h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 $5,115                     = $4,650                       = $4,500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6" name="Group 3"/>
          <p:cNvGrpSpPr/>
          <p:nvPr/>
        </p:nvGrpSpPr>
        <p:grpSpPr>
          <a:xfrm>
            <a:off x="7790040" y="496800"/>
            <a:ext cx="1201680" cy="1407960"/>
            <a:chOff x="7790040" y="496800"/>
            <a:chExt cx="1201680" cy="1407960"/>
          </a:xfrm>
        </p:grpSpPr>
        <p:grpSp>
          <p:nvGrpSpPr>
            <p:cNvPr id="877" name="Group 4"/>
            <p:cNvGrpSpPr/>
            <p:nvPr/>
          </p:nvGrpSpPr>
          <p:grpSpPr>
            <a:xfrm>
              <a:off x="7790040" y="496800"/>
              <a:ext cx="1028880" cy="1407960"/>
              <a:chOff x="7790040" y="496800"/>
              <a:chExt cx="1028880" cy="1407960"/>
            </a:xfrm>
          </p:grpSpPr>
          <p:grpSp>
            <p:nvGrpSpPr>
              <p:cNvPr id="878" name="Group 5"/>
              <p:cNvGrpSpPr/>
              <p:nvPr/>
            </p:nvGrpSpPr>
            <p:grpSpPr>
              <a:xfrm>
                <a:off x="7790040" y="576360"/>
                <a:ext cx="138240" cy="1250640"/>
                <a:chOff x="7790040" y="576360"/>
                <a:chExt cx="138240" cy="1250640"/>
              </a:xfrm>
            </p:grpSpPr>
            <p:sp>
              <p:nvSpPr>
                <p:cNvPr id="879" name="Freeform 6"/>
                <p:cNvSpPr/>
                <p:nvPr/>
              </p:nvSpPr>
              <p:spPr>
                <a:xfrm>
                  <a:off x="7790040" y="576360"/>
                  <a:ext cx="138240" cy="1250640"/>
                </a:xfrm>
                <a:custGeom>
                  <a:avLst/>
                  <a:gdLst>
                    <a:gd name="textAreaLeft" fmla="*/ 0 w 138240"/>
                    <a:gd name="textAreaRight" fmla="*/ 138600 w 138240"/>
                    <a:gd name="textAreaTop" fmla="*/ 0 h 1250640"/>
                    <a:gd name="textAreaBottom" fmla="*/ 1251000 h 1250640"/>
                  </a:gdLst>
                  <a:ahLst/>
                  <a:rect l="textAreaLeft" t="textAreaTop" r="textAreaRight" b="textAreaBottom"/>
                  <a:pathLst>
                    <a:path w="261" h="2363">
                      <a:moveTo>
                        <a:pt x="111" y="0"/>
                      </a:moveTo>
                      <a:lnTo>
                        <a:pt x="0" y="262"/>
                      </a:lnTo>
                      <a:lnTo>
                        <a:pt x="0" y="2100"/>
                      </a:lnTo>
                      <a:lnTo>
                        <a:pt x="149" y="2363"/>
                      </a:lnTo>
                      <a:lnTo>
                        <a:pt x="261" y="2100"/>
                      </a:lnTo>
                      <a:lnTo>
                        <a:pt x="261" y="226"/>
                      </a:lnTo>
                      <a:lnTo>
                        <a:pt x="111" y="0"/>
                      </a:lnTo>
                      <a:close/>
                    </a:path>
                  </a:pathLst>
                </a:custGeom>
                <a:solidFill>
                  <a:srgbClr val="9f9fb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Freeform 7"/>
                <p:cNvSpPr/>
                <p:nvPr/>
              </p:nvSpPr>
              <p:spPr>
                <a:xfrm>
                  <a:off x="7790040" y="576360"/>
                  <a:ext cx="119160" cy="125064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250640"/>
                    <a:gd name="textAreaBottom" fmla="*/ 1251000 h 1250640"/>
                  </a:gdLst>
                  <a:ahLst/>
                  <a:rect l="textAreaLeft" t="textAreaTop" r="textAreaRight" b="textAreaBottom"/>
                  <a:pathLst>
                    <a:path w="225" h="2363">
                      <a:moveTo>
                        <a:pt x="111" y="0"/>
                      </a:moveTo>
                      <a:lnTo>
                        <a:pt x="185" y="112"/>
                      </a:lnTo>
                      <a:lnTo>
                        <a:pt x="111" y="262"/>
                      </a:lnTo>
                      <a:lnTo>
                        <a:pt x="111" y="1988"/>
                      </a:lnTo>
                      <a:lnTo>
                        <a:pt x="225" y="2213"/>
                      </a:lnTo>
                      <a:lnTo>
                        <a:pt x="149" y="2363"/>
                      </a:lnTo>
                      <a:lnTo>
                        <a:pt x="0" y="2100"/>
                      </a:lnTo>
                      <a:lnTo>
                        <a:pt x="0" y="262"/>
                      </a:lnTo>
                      <a:lnTo>
                        <a:pt x="111" y="0"/>
                      </a:lnTo>
                      <a:close/>
                    </a:path>
                  </a:pathLst>
                </a:custGeom>
                <a:solidFill>
                  <a:srgbClr val="bfbfd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1" name="Group 8"/>
              <p:cNvGrpSpPr/>
              <p:nvPr/>
            </p:nvGrpSpPr>
            <p:grpSpPr>
              <a:xfrm>
                <a:off x="7809120" y="496800"/>
                <a:ext cx="1009800" cy="1407960"/>
                <a:chOff x="7809120" y="496800"/>
                <a:chExt cx="1009800" cy="1407960"/>
              </a:xfrm>
            </p:grpSpPr>
            <p:sp>
              <p:nvSpPr>
                <p:cNvPr id="882" name="Freeform 9"/>
                <p:cNvSpPr/>
                <p:nvPr/>
              </p:nvSpPr>
              <p:spPr>
                <a:xfrm>
                  <a:off x="7809120" y="496800"/>
                  <a:ext cx="969840" cy="79560"/>
                </a:xfrm>
                <a:custGeom>
                  <a:avLst/>
                  <a:gdLst>
                    <a:gd name="textAreaLeft" fmla="*/ 0 w 969840"/>
                    <a:gd name="textAreaRight" fmla="*/ 970200 w 969840"/>
                    <a:gd name="textAreaTop" fmla="*/ 0 h 79560"/>
                    <a:gd name="textAreaBottom" fmla="*/ 79920 h 79560"/>
                  </a:gdLst>
                  <a:ahLst/>
                  <a:rect l="textAreaLeft" t="textAreaTop" r="textAreaRight" b="textAreaBottom"/>
                  <a:pathLst>
                    <a:path w="1834" h="149">
                      <a:moveTo>
                        <a:pt x="75" y="149"/>
                      </a:moveTo>
                      <a:lnTo>
                        <a:pt x="0" y="0"/>
                      </a:lnTo>
                      <a:lnTo>
                        <a:pt x="1834" y="0"/>
                      </a:lnTo>
                      <a:lnTo>
                        <a:pt x="1760" y="149"/>
                      </a:lnTo>
                      <a:lnTo>
                        <a:pt x="75" y="149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3" name="Freeform 10"/>
                <p:cNvSpPr/>
                <p:nvPr/>
              </p:nvSpPr>
              <p:spPr>
                <a:xfrm>
                  <a:off x="7829640" y="1827000"/>
                  <a:ext cx="970200" cy="77760"/>
                </a:xfrm>
                <a:custGeom>
                  <a:avLst/>
                  <a:gdLst>
                    <a:gd name="textAreaLeft" fmla="*/ 0 w 970200"/>
                    <a:gd name="textAreaRight" fmla="*/ 970560 w 970200"/>
                    <a:gd name="textAreaTop" fmla="*/ 0 h 77760"/>
                    <a:gd name="textAreaBottom" fmla="*/ 78120 h 77760"/>
                  </a:gdLst>
                  <a:ahLst/>
                  <a:rect l="textAreaLeft" t="textAreaTop" r="textAreaRight" b="textAreaBottom"/>
                  <a:pathLst>
                    <a:path w="1834" h="149">
                      <a:moveTo>
                        <a:pt x="75" y="0"/>
                      </a:moveTo>
                      <a:lnTo>
                        <a:pt x="1722" y="0"/>
                      </a:lnTo>
                      <a:lnTo>
                        <a:pt x="1834" y="113"/>
                      </a:lnTo>
                      <a:lnTo>
                        <a:pt x="1760" y="149"/>
                      </a:lnTo>
                      <a:lnTo>
                        <a:pt x="0" y="149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solidFill>
                  <a:srgbClr val="9f9fb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Freeform 11"/>
                <p:cNvSpPr/>
                <p:nvPr/>
              </p:nvSpPr>
              <p:spPr>
                <a:xfrm>
                  <a:off x="7848720" y="576360"/>
                  <a:ext cx="970200" cy="1250640"/>
                </a:xfrm>
                <a:custGeom>
                  <a:avLst/>
                  <a:gdLst>
                    <a:gd name="textAreaLeft" fmla="*/ 0 w 970200"/>
                    <a:gd name="textAreaRight" fmla="*/ 970560 w 970200"/>
                    <a:gd name="textAreaTop" fmla="*/ 0 h 1250640"/>
                    <a:gd name="textAreaBottom" fmla="*/ 1251000 h 1250640"/>
                  </a:gdLst>
                  <a:ahLst/>
                  <a:rect l="textAreaLeft" t="textAreaTop" r="textAreaRight" b="textAreaBottom"/>
                  <a:pathLst>
                    <a:path w="1834" h="2363">
                      <a:moveTo>
                        <a:pt x="38" y="2363"/>
                      </a:moveTo>
                      <a:lnTo>
                        <a:pt x="1685" y="2363"/>
                      </a:lnTo>
                      <a:lnTo>
                        <a:pt x="1834" y="2100"/>
                      </a:lnTo>
                      <a:lnTo>
                        <a:pt x="1834" y="226"/>
                      </a:lnTo>
                      <a:lnTo>
                        <a:pt x="1685" y="0"/>
                      </a:lnTo>
                      <a:lnTo>
                        <a:pt x="0" y="0"/>
                      </a:lnTo>
                      <a:lnTo>
                        <a:pt x="150" y="226"/>
                      </a:lnTo>
                      <a:lnTo>
                        <a:pt x="150" y="2100"/>
                      </a:lnTo>
                      <a:lnTo>
                        <a:pt x="38" y="2363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5" name="Rectangle 12"/>
                <p:cNvSpPr/>
                <p:nvPr/>
              </p:nvSpPr>
              <p:spPr>
                <a:xfrm>
                  <a:off x="7929720" y="974520"/>
                  <a:ext cx="887400" cy="254160"/>
                </a:xfrm>
                <a:prstGeom prst="rect">
                  <a:avLst/>
                </a:prstGeom>
                <a:solidFill>
                  <a:srgbClr val="ff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6" name="Freeform 13"/>
                <p:cNvSpPr/>
                <p:nvPr/>
              </p:nvSpPr>
              <p:spPr>
                <a:xfrm>
                  <a:off x="7869600" y="1687320"/>
                  <a:ext cx="949320" cy="139680"/>
                </a:xfrm>
                <a:custGeom>
                  <a:avLst/>
                  <a:gdLst>
                    <a:gd name="textAreaLeft" fmla="*/ 0 w 949320"/>
                    <a:gd name="textAreaRight" fmla="*/ 949680 w 949320"/>
                    <a:gd name="textAreaTop" fmla="*/ 0 h 139680"/>
                    <a:gd name="textAreaBottom" fmla="*/ 140040 h 139680"/>
                  </a:gdLst>
                  <a:ahLst/>
                  <a:rect l="textAreaLeft" t="textAreaTop" r="textAreaRight" b="textAreaBottom"/>
                  <a:pathLst>
                    <a:path w="1796" h="263">
                      <a:moveTo>
                        <a:pt x="112" y="0"/>
                      </a:moveTo>
                      <a:lnTo>
                        <a:pt x="0" y="263"/>
                      </a:lnTo>
                      <a:lnTo>
                        <a:pt x="1647" y="263"/>
                      </a:lnTo>
                      <a:lnTo>
                        <a:pt x="1796" y="0"/>
                      </a:lnTo>
                      <a:lnTo>
                        <a:pt x="112" y="0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87" name="Rectangle 14"/>
            <p:cNvSpPr/>
            <p:nvPr/>
          </p:nvSpPr>
          <p:spPr>
            <a:xfrm>
              <a:off x="8004240" y="922320"/>
              <a:ext cx="987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Zipp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Quick Check </a:t>
            </a:r>
            <a:r>
              <a:rPr b="0" lang="en-US" sz="4000" spc="-1" strike="noStrike">
                <a:solidFill>
                  <a:srgbClr val="464646"/>
                </a:solidFill>
                <a:latin typeface="Wingdings"/>
                <a:ea typeface="Wingdings"/>
              </a:rPr>
              <a:t>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89" name="Rectangle 9"/>
          <p:cNvSpPr/>
          <p:nvPr/>
        </p:nvSpPr>
        <p:spPr>
          <a:xfrm>
            <a:off x="266760" y="2147760"/>
            <a:ext cx="8759880" cy="9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Actual Hours            Actual Hours</a:t>
            </a: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      Standard Hours</a:t>
            </a:r>
            <a:br>
              <a:rPr sz="2400"/>
            </a:b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            ×                               ×                                 × </a:t>
            </a:r>
            <a:br>
              <a:rPr sz="2400"/>
            </a:b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    Actual Rate             Standard Rate           Standard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Line 10"/>
          <p:cNvSpPr/>
          <p:nvPr/>
        </p:nvSpPr>
        <p:spPr>
          <a:xfrm>
            <a:off x="455760" y="3060720"/>
            <a:ext cx="2193840" cy="0"/>
          </a:xfrm>
          <a:prstGeom prst="line">
            <a:avLst/>
          </a:prstGeom>
          <a:ln w="28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Line 11"/>
          <p:cNvSpPr/>
          <p:nvPr/>
        </p:nvSpPr>
        <p:spPr>
          <a:xfrm>
            <a:off x="3402000" y="3060720"/>
            <a:ext cx="2193840" cy="0"/>
          </a:xfrm>
          <a:prstGeom prst="line">
            <a:avLst/>
          </a:prstGeom>
          <a:ln w="28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12"/>
          <p:cNvSpPr/>
          <p:nvPr/>
        </p:nvSpPr>
        <p:spPr>
          <a:xfrm>
            <a:off x="6416640" y="3060720"/>
            <a:ext cx="2193840" cy="0"/>
          </a:xfrm>
          <a:prstGeom prst="line">
            <a:avLst/>
          </a:prstGeom>
          <a:ln w="28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  <a:ea typeface="Arial"/>
              </a:rPr>
              <a:t>Materials Variances―An Important Subtlety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894" name="Group 6"/>
          <p:cNvGrpSpPr/>
          <p:nvPr/>
        </p:nvGrpSpPr>
        <p:grpSpPr>
          <a:xfrm>
            <a:off x="2590920" y="1930320"/>
            <a:ext cx="4089240" cy="4622760"/>
            <a:chOff x="2590920" y="1930320"/>
            <a:chExt cx="4089240" cy="4622760"/>
          </a:xfrm>
        </p:grpSpPr>
        <p:sp>
          <p:nvSpPr>
            <p:cNvPr id="895" name="Rectangle 7"/>
            <p:cNvSpPr/>
            <p:nvPr/>
          </p:nvSpPr>
          <p:spPr>
            <a:xfrm>
              <a:off x="2743200" y="1930320"/>
              <a:ext cx="3936960" cy="4622760"/>
            </a:xfrm>
            <a:prstGeom prst="rect">
              <a:avLst/>
            </a:prstGeom>
            <a:solidFill>
              <a:srgbClr val="eaeaea"/>
            </a:solidFill>
            <a:ln w="25560">
              <a:solidFill>
                <a:srgbClr val="da1f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Rectangle 8"/>
            <p:cNvSpPr/>
            <p:nvPr/>
          </p:nvSpPr>
          <p:spPr>
            <a:xfrm>
              <a:off x="2590920" y="4140000"/>
              <a:ext cx="4029120" cy="23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lvl="1" marL="457200" algn="ctr">
                <a:lnSpc>
                  <a:spcPct val="95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64646"/>
                  </a:solidFill>
                  <a:latin typeface="Arial"/>
                </a:rPr>
                <a:t>The quantity variance is computed only on the quantity</a:t>
              </a:r>
              <a:r>
                <a:rPr b="1" lang="en-US" sz="2400" spc="-1" strike="noStrike">
                  <a:solidFill>
                    <a:srgbClr val="def5fa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0066"/>
                  </a:solidFill>
                  <a:latin typeface="Arial"/>
                </a:rPr>
                <a:t>used</a:t>
              </a:r>
              <a:r>
                <a:rPr b="1" lang="en-US" sz="2400" spc="-1" strike="noStrike">
                  <a:solidFill>
                    <a:srgbClr val="464646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95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64646"/>
                  </a:solidFill>
                  <a:latin typeface="Arial"/>
                </a:rPr>
                <a:t>The price variance is computed on the entire quantity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0066"/>
                  </a:solidFill>
                  <a:latin typeface="Arial"/>
                </a:rPr>
                <a:t>purchased</a:t>
              </a:r>
              <a:r>
                <a:rPr b="1" lang="en-US" sz="2400" spc="-1" strike="noStrike">
                  <a:solidFill>
                    <a:srgbClr val="464646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97" name="Object 3"/>
            <p:cNvGraphicFramePr/>
            <p:nvPr/>
          </p:nvGraphicFramePr>
          <p:xfrm>
            <a:off x="3276720" y="2006640"/>
            <a:ext cx="2895480" cy="2259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98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76720" y="2006640"/>
                      <a:ext cx="2895480" cy="2259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The Standard Cost Card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876240" y="1555920"/>
            <a:ext cx="73897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a1f28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A standard cost card for one unit of product might look like thi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368280" y="2886120"/>
          <a:ext cx="8399520" cy="3521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280" y="2886120"/>
                    <a:ext cx="8399520" cy="3521160"/>
                  </a:xfrm>
                  <a:prstGeom prst="rect">
                    <a:avLst/>
                  </a:prstGeom>
                  <a:ln w="50760">
                    <a:solidFill>
                      <a:srgbClr val="da1f28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split dir="out" orient="ver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/>
          </p:nvPr>
        </p:nvSpPr>
        <p:spPr>
          <a:xfrm>
            <a:off x="151920" y="1828440"/>
            <a:ext cx="861084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65040" indent="0" algn="ctr"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lacier Peak Outfitters has the following direct materials standard for the fiberfill in its mountain park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ctr"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0.1 kg. of fiberfill per parka at $5.00 per k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ctr"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1f28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st month 210 kgs. of fiberfill were purchased at a cost of $1,029.  Glacier used 200 kgs. to make 2,000 parka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0" name="Object 2"/>
          <p:cNvGraphicFramePr/>
          <p:nvPr/>
        </p:nvGraphicFramePr>
        <p:xfrm>
          <a:off x="7391520" y="5562720"/>
          <a:ext cx="1600200" cy="71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1520" y="5562720"/>
                    <a:ext cx="160020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2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  <a:ea typeface="Arial"/>
              </a:rPr>
              <a:t>Materials Variances―An Important Subtlety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Rectangle 2"/>
          <p:cNvSpPr/>
          <p:nvPr/>
        </p:nvSpPr>
        <p:spPr>
          <a:xfrm>
            <a:off x="228600" y="3100320"/>
            <a:ext cx="8686800" cy="17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464646"/>
                </a:solidFill>
                <a:latin typeface="Arial"/>
              </a:rPr>
              <a:t>210 kgs.                210 kgs.                      200 kgs.                   200 kgs. </a:t>
            </a:r>
            <a:br>
              <a:rPr sz="2000"/>
            </a:br>
            <a:r>
              <a:rPr b="0" lang="en-US" sz="2000" spc="-1" strike="noStrike">
                <a:solidFill>
                  <a:srgbClr val="464646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×                           ×                               ×                                × </a:t>
            </a:r>
            <a:br>
              <a:rPr sz="2000"/>
            </a:br>
            <a:r>
              <a:rPr b="0" lang="en-US" sz="2000" spc="-1" strike="noStrike">
                <a:solidFill>
                  <a:srgbClr val="464646"/>
                </a:solidFill>
                <a:latin typeface="Arial"/>
              </a:rPr>
              <a:t>  $4.90 per kg.         $5.00 per kg. .           $5.00 per kg.             $5.00 per k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= $1,029                 = $1,050                    = $1,000                  = $1,000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4" name="Group 6"/>
          <p:cNvGrpSpPr/>
          <p:nvPr/>
        </p:nvGrpSpPr>
        <p:grpSpPr>
          <a:xfrm>
            <a:off x="152280" y="4602240"/>
            <a:ext cx="3883320" cy="1182960"/>
            <a:chOff x="152280" y="4602240"/>
            <a:chExt cx="3883320" cy="1182960"/>
          </a:xfrm>
        </p:grpSpPr>
        <p:sp>
          <p:nvSpPr>
            <p:cNvPr id="905" name="Rectangle 7"/>
            <p:cNvSpPr/>
            <p:nvPr/>
          </p:nvSpPr>
          <p:spPr>
            <a:xfrm>
              <a:off x="152280" y="5086440"/>
              <a:ext cx="38833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  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Price variance</a:t>
              </a:r>
              <a:br>
                <a:rPr sz="2000"/>
              </a:b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    $21 favor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8"/>
            <p:cNvSpPr/>
            <p:nvPr/>
          </p:nvSpPr>
          <p:spPr>
            <a:xfrm>
              <a:off x="990720" y="4602240"/>
              <a:ext cx="2468520" cy="457200"/>
            </a:xfrm>
            <a:custGeom>
              <a:avLst/>
              <a:gdLst>
                <a:gd name="textAreaLeft" fmla="*/ 0 w 2468520"/>
                <a:gd name="textAreaRight" fmla="*/ 2468880 w 246852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1980" h="390">
                  <a:moveTo>
                    <a:pt x="1608" y="257"/>
                  </a:moveTo>
                  <a:lnTo>
                    <a:pt x="1645" y="255"/>
                  </a:lnTo>
                  <a:lnTo>
                    <a:pt x="1681" y="251"/>
                  </a:lnTo>
                  <a:lnTo>
                    <a:pt x="1718" y="244"/>
                  </a:lnTo>
                  <a:lnTo>
                    <a:pt x="1753" y="235"/>
                  </a:lnTo>
                  <a:lnTo>
                    <a:pt x="1787" y="224"/>
                  </a:lnTo>
                  <a:lnTo>
                    <a:pt x="1819" y="209"/>
                  </a:lnTo>
                  <a:lnTo>
                    <a:pt x="1849" y="194"/>
                  </a:lnTo>
                  <a:lnTo>
                    <a:pt x="1876" y="176"/>
                  </a:lnTo>
                  <a:lnTo>
                    <a:pt x="1900" y="156"/>
                  </a:lnTo>
                  <a:lnTo>
                    <a:pt x="1922" y="135"/>
                  </a:lnTo>
                  <a:lnTo>
                    <a:pt x="1940" y="112"/>
                  </a:lnTo>
                  <a:lnTo>
                    <a:pt x="1955" y="89"/>
                  </a:lnTo>
                  <a:lnTo>
                    <a:pt x="1966" y="64"/>
                  </a:lnTo>
                  <a:lnTo>
                    <a:pt x="1975" y="39"/>
                  </a:lnTo>
                  <a:lnTo>
                    <a:pt x="1978" y="13"/>
                  </a:lnTo>
                  <a:lnTo>
                    <a:pt x="1979" y="0"/>
                  </a:lnTo>
                  <a:lnTo>
                    <a:pt x="1978" y="21"/>
                  </a:lnTo>
                  <a:lnTo>
                    <a:pt x="1972" y="43"/>
                  </a:lnTo>
                  <a:lnTo>
                    <a:pt x="1961" y="64"/>
                  </a:lnTo>
                  <a:lnTo>
                    <a:pt x="1949" y="83"/>
                  </a:lnTo>
                  <a:lnTo>
                    <a:pt x="1933" y="102"/>
                  </a:lnTo>
                  <a:lnTo>
                    <a:pt x="1913" y="119"/>
                  </a:lnTo>
                  <a:lnTo>
                    <a:pt x="1891" y="134"/>
                  </a:lnTo>
                  <a:lnTo>
                    <a:pt x="1866" y="148"/>
                  </a:lnTo>
                  <a:lnTo>
                    <a:pt x="1839" y="159"/>
                  </a:lnTo>
                  <a:lnTo>
                    <a:pt x="1810" y="168"/>
                  </a:lnTo>
                  <a:lnTo>
                    <a:pt x="1781" y="174"/>
                  </a:lnTo>
                  <a:lnTo>
                    <a:pt x="1751" y="179"/>
                  </a:lnTo>
                  <a:lnTo>
                    <a:pt x="1719" y="180"/>
                  </a:lnTo>
                  <a:lnTo>
                    <a:pt x="1214" y="180"/>
                  </a:lnTo>
                  <a:lnTo>
                    <a:pt x="1185" y="182"/>
                  </a:lnTo>
                  <a:lnTo>
                    <a:pt x="1157" y="186"/>
                  </a:lnTo>
                  <a:lnTo>
                    <a:pt x="1129" y="193"/>
                  </a:lnTo>
                  <a:lnTo>
                    <a:pt x="1103" y="202"/>
                  </a:lnTo>
                  <a:lnTo>
                    <a:pt x="1080" y="213"/>
                  </a:lnTo>
                  <a:lnTo>
                    <a:pt x="1058" y="227"/>
                  </a:lnTo>
                  <a:lnTo>
                    <a:pt x="1038" y="242"/>
                  </a:lnTo>
                  <a:lnTo>
                    <a:pt x="1022" y="258"/>
                  </a:lnTo>
                  <a:lnTo>
                    <a:pt x="1010" y="276"/>
                  </a:lnTo>
                  <a:lnTo>
                    <a:pt x="1000" y="295"/>
                  </a:lnTo>
                  <a:lnTo>
                    <a:pt x="994" y="316"/>
                  </a:lnTo>
                  <a:lnTo>
                    <a:pt x="991" y="335"/>
                  </a:lnTo>
                  <a:lnTo>
                    <a:pt x="990" y="338"/>
                  </a:lnTo>
                  <a:lnTo>
                    <a:pt x="990" y="335"/>
                  </a:lnTo>
                  <a:lnTo>
                    <a:pt x="986" y="316"/>
                  </a:lnTo>
                  <a:lnTo>
                    <a:pt x="980" y="295"/>
                  </a:lnTo>
                  <a:lnTo>
                    <a:pt x="971" y="276"/>
                  </a:lnTo>
                  <a:lnTo>
                    <a:pt x="958" y="258"/>
                  </a:lnTo>
                  <a:lnTo>
                    <a:pt x="941" y="242"/>
                  </a:lnTo>
                  <a:lnTo>
                    <a:pt x="922" y="227"/>
                  </a:lnTo>
                  <a:lnTo>
                    <a:pt x="900" y="213"/>
                  </a:lnTo>
                  <a:lnTo>
                    <a:pt x="876" y="202"/>
                  </a:lnTo>
                  <a:lnTo>
                    <a:pt x="851" y="193"/>
                  </a:lnTo>
                  <a:lnTo>
                    <a:pt x="824" y="186"/>
                  </a:lnTo>
                  <a:lnTo>
                    <a:pt x="795" y="182"/>
                  </a:lnTo>
                  <a:lnTo>
                    <a:pt x="766" y="180"/>
                  </a:lnTo>
                  <a:lnTo>
                    <a:pt x="261" y="180"/>
                  </a:lnTo>
                  <a:lnTo>
                    <a:pt x="231" y="179"/>
                  </a:lnTo>
                  <a:lnTo>
                    <a:pt x="199" y="174"/>
                  </a:lnTo>
                  <a:lnTo>
                    <a:pt x="169" y="168"/>
                  </a:lnTo>
                  <a:lnTo>
                    <a:pt x="141" y="159"/>
                  </a:lnTo>
                  <a:lnTo>
                    <a:pt x="115" y="148"/>
                  </a:lnTo>
                  <a:lnTo>
                    <a:pt x="90" y="134"/>
                  </a:lnTo>
                  <a:lnTo>
                    <a:pt x="67" y="119"/>
                  </a:lnTo>
                  <a:lnTo>
                    <a:pt x="48" y="102"/>
                  </a:lnTo>
                  <a:lnTo>
                    <a:pt x="32" y="83"/>
                  </a:lnTo>
                  <a:lnTo>
                    <a:pt x="19" y="64"/>
                  </a:lnTo>
                  <a:lnTo>
                    <a:pt x="9" y="43"/>
                  </a:lnTo>
                  <a:lnTo>
                    <a:pt x="3" y="21"/>
                  </a:lnTo>
                  <a:lnTo>
                    <a:pt x="0" y="0"/>
                  </a:lnTo>
                  <a:lnTo>
                    <a:pt x="2" y="13"/>
                  </a:lnTo>
                  <a:lnTo>
                    <a:pt x="6" y="39"/>
                  </a:lnTo>
                  <a:lnTo>
                    <a:pt x="13" y="64"/>
                  </a:lnTo>
                  <a:lnTo>
                    <a:pt x="25" y="89"/>
                  </a:lnTo>
                  <a:lnTo>
                    <a:pt x="40" y="112"/>
                  </a:lnTo>
                  <a:lnTo>
                    <a:pt x="59" y="135"/>
                  </a:lnTo>
                  <a:lnTo>
                    <a:pt x="81" y="156"/>
                  </a:lnTo>
                  <a:lnTo>
                    <a:pt x="105" y="176"/>
                  </a:lnTo>
                  <a:lnTo>
                    <a:pt x="132" y="194"/>
                  </a:lnTo>
                  <a:lnTo>
                    <a:pt x="161" y="209"/>
                  </a:lnTo>
                  <a:lnTo>
                    <a:pt x="193" y="224"/>
                  </a:lnTo>
                  <a:lnTo>
                    <a:pt x="227" y="235"/>
                  </a:lnTo>
                  <a:lnTo>
                    <a:pt x="262" y="244"/>
                  </a:lnTo>
                  <a:lnTo>
                    <a:pt x="299" y="251"/>
                  </a:lnTo>
                  <a:lnTo>
                    <a:pt x="334" y="255"/>
                  </a:lnTo>
                  <a:lnTo>
                    <a:pt x="372" y="257"/>
                  </a:lnTo>
                  <a:lnTo>
                    <a:pt x="803" y="257"/>
                  </a:lnTo>
                  <a:lnTo>
                    <a:pt x="830" y="259"/>
                  </a:lnTo>
                  <a:lnTo>
                    <a:pt x="856" y="262"/>
                  </a:lnTo>
                  <a:lnTo>
                    <a:pt x="879" y="269"/>
                  </a:lnTo>
                  <a:lnTo>
                    <a:pt x="903" y="277"/>
                  </a:lnTo>
                  <a:lnTo>
                    <a:pt x="923" y="289"/>
                  </a:lnTo>
                  <a:lnTo>
                    <a:pt x="943" y="302"/>
                  </a:lnTo>
                  <a:lnTo>
                    <a:pt x="958" y="317"/>
                  </a:lnTo>
                  <a:lnTo>
                    <a:pt x="971" y="333"/>
                  </a:lnTo>
                  <a:lnTo>
                    <a:pt x="980" y="350"/>
                  </a:lnTo>
                  <a:lnTo>
                    <a:pt x="986" y="369"/>
                  </a:lnTo>
                  <a:lnTo>
                    <a:pt x="990" y="387"/>
                  </a:lnTo>
                  <a:lnTo>
                    <a:pt x="990" y="389"/>
                  </a:lnTo>
                  <a:lnTo>
                    <a:pt x="992" y="370"/>
                  </a:lnTo>
                  <a:lnTo>
                    <a:pt x="997" y="352"/>
                  </a:lnTo>
                  <a:lnTo>
                    <a:pt x="1007" y="335"/>
                  </a:lnTo>
                  <a:lnTo>
                    <a:pt x="1019" y="318"/>
                  </a:lnTo>
                  <a:lnTo>
                    <a:pt x="1035" y="304"/>
                  </a:lnTo>
                  <a:lnTo>
                    <a:pt x="1053" y="290"/>
                  </a:lnTo>
                  <a:lnTo>
                    <a:pt x="1073" y="279"/>
                  </a:lnTo>
                  <a:lnTo>
                    <a:pt x="1097" y="270"/>
                  </a:lnTo>
                  <a:lnTo>
                    <a:pt x="1120" y="263"/>
                  </a:lnTo>
                  <a:lnTo>
                    <a:pt x="1146" y="259"/>
                  </a:lnTo>
                  <a:lnTo>
                    <a:pt x="1172" y="257"/>
                  </a:lnTo>
                  <a:lnTo>
                    <a:pt x="1175" y="257"/>
                  </a:lnTo>
                  <a:lnTo>
                    <a:pt x="1608" y="257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7" name="Rectangle 9"/>
          <p:cNvSpPr/>
          <p:nvPr/>
        </p:nvSpPr>
        <p:spPr>
          <a:xfrm>
            <a:off x="0" y="1882800"/>
            <a:ext cx="914400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Actual Quantity     Actual Quantity      Actual Quant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urchased          Purchased                    Used              </a:t>
            </a: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Standard Quantity</a:t>
            </a:r>
            <a:br>
              <a:rPr sz="2000"/>
            </a:b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              ×                          ×                             ×                              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Actua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ce        Standard Price        Standard Price       Standard Price</a:t>
            </a: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	</a:t>
            </a:r>
            <a:br>
              <a:rPr sz="2000"/>
            </a:b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                                               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Line 11"/>
          <p:cNvSpPr/>
          <p:nvPr/>
        </p:nvSpPr>
        <p:spPr>
          <a:xfrm>
            <a:off x="168120" y="3051000"/>
            <a:ext cx="1737000" cy="0"/>
          </a:xfrm>
          <a:prstGeom prst="line">
            <a:avLst/>
          </a:prstGeom>
          <a:ln w="28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9" name="Object 2"/>
          <p:cNvGraphicFramePr/>
          <p:nvPr/>
        </p:nvGraphicFramePr>
        <p:xfrm>
          <a:off x="7391520" y="5765760"/>
          <a:ext cx="160020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1520" y="5765760"/>
                    <a:ext cx="160020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  <a:ea typeface="Arial"/>
              </a:rPr>
              <a:t>Materials Variances―An Important Subtlety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12" name="Line 11"/>
          <p:cNvSpPr/>
          <p:nvPr/>
        </p:nvSpPr>
        <p:spPr>
          <a:xfrm>
            <a:off x="2362320" y="3051000"/>
            <a:ext cx="1736640" cy="0"/>
          </a:xfrm>
          <a:prstGeom prst="line">
            <a:avLst/>
          </a:prstGeom>
          <a:ln w="28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Line 11"/>
          <p:cNvSpPr/>
          <p:nvPr/>
        </p:nvSpPr>
        <p:spPr>
          <a:xfrm>
            <a:off x="4724280" y="3051000"/>
            <a:ext cx="1737000" cy="0"/>
          </a:xfrm>
          <a:prstGeom prst="line">
            <a:avLst/>
          </a:prstGeom>
          <a:ln w="28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Line 11"/>
          <p:cNvSpPr/>
          <p:nvPr/>
        </p:nvSpPr>
        <p:spPr>
          <a:xfrm>
            <a:off x="7026120" y="3051000"/>
            <a:ext cx="1737000" cy="0"/>
          </a:xfrm>
          <a:prstGeom prst="line">
            <a:avLst/>
          </a:prstGeom>
          <a:ln w="28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5" name="Group 6"/>
          <p:cNvGrpSpPr/>
          <p:nvPr/>
        </p:nvGrpSpPr>
        <p:grpSpPr>
          <a:xfrm>
            <a:off x="4803840" y="4602240"/>
            <a:ext cx="3882960" cy="1182960"/>
            <a:chOff x="4803840" y="4602240"/>
            <a:chExt cx="3882960" cy="1182960"/>
          </a:xfrm>
        </p:grpSpPr>
        <p:sp>
          <p:nvSpPr>
            <p:cNvPr id="916" name="Rectangle 7"/>
            <p:cNvSpPr/>
            <p:nvPr/>
          </p:nvSpPr>
          <p:spPr>
            <a:xfrm>
              <a:off x="4803840" y="5086440"/>
              <a:ext cx="38829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  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Quantity variance</a:t>
              </a:r>
              <a:br>
                <a:rPr sz="2000"/>
              </a:b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    $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8"/>
            <p:cNvSpPr/>
            <p:nvPr/>
          </p:nvSpPr>
          <p:spPr>
            <a:xfrm>
              <a:off x="5641920" y="4602240"/>
              <a:ext cx="2468160" cy="457200"/>
            </a:xfrm>
            <a:custGeom>
              <a:avLst/>
              <a:gdLst>
                <a:gd name="textAreaLeft" fmla="*/ 0 w 2468160"/>
                <a:gd name="textAreaRight" fmla="*/ 2468520 w 246816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1980" h="390">
                  <a:moveTo>
                    <a:pt x="1608" y="257"/>
                  </a:moveTo>
                  <a:lnTo>
                    <a:pt x="1645" y="255"/>
                  </a:lnTo>
                  <a:lnTo>
                    <a:pt x="1681" y="251"/>
                  </a:lnTo>
                  <a:lnTo>
                    <a:pt x="1718" y="244"/>
                  </a:lnTo>
                  <a:lnTo>
                    <a:pt x="1753" y="235"/>
                  </a:lnTo>
                  <a:lnTo>
                    <a:pt x="1787" y="224"/>
                  </a:lnTo>
                  <a:lnTo>
                    <a:pt x="1819" y="209"/>
                  </a:lnTo>
                  <a:lnTo>
                    <a:pt x="1849" y="194"/>
                  </a:lnTo>
                  <a:lnTo>
                    <a:pt x="1876" y="176"/>
                  </a:lnTo>
                  <a:lnTo>
                    <a:pt x="1900" y="156"/>
                  </a:lnTo>
                  <a:lnTo>
                    <a:pt x="1922" y="135"/>
                  </a:lnTo>
                  <a:lnTo>
                    <a:pt x="1940" y="112"/>
                  </a:lnTo>
                  <a:lnTo>
                    <a:pt x="1955" y="89"/>
                  </a:lnTo>
                  <a:lnTo>
                    <a:pt x="1966" y="64"/>
                  </a:lnTo>
                  <a:lnTo>
                    <a:pt x="1975" y="39"/>
                  </a:lnTo>
                  <a:lnTo>
                    <a:pt x="1978" y="13"/>
                  </a:lnTo>
                  <a:lnTo>
                    <a:pt x="1979" y="0"/>
                  </a:lnTo>
                  <a:lnTo>
                    <a:pt x="1978" y="21"/>
                  </a:lnTo>
                  <a:lnTo>
                    <a:pt x="1972" y="43"/>
                  </a:lnTo>
                  <a:lnTo>
                    <a:pt x="1961" y="64"/>
                  </a:lnTo>
                  <a:lnTo>
                    <a:pt x="1949" y="83"/>
                  </a:lnTo>
                  <a:lnTo>
                    <a:pt x="1933" y="102"/>
                  </a:lnTo>
                  <a:lnTo>
                    <a:pt x="1913" y="119"/>
                  </a:lnTo>
                  <a:lnTo>
                    <a:pt x="1891" y="134"/>
                  </a:lnTo>
                  <a:lnTo>
                    <a:pt x="1866" y="148"/>
                  </a:lnTo>
                  <a:lnTo>
                    <a:pt x="1839" y="159"/>
                  </a:lnTo>
                  <a:lnTo>
                    <a:pt x="1810" y="168"/>
                  </a:lnTo>
                  <a:lnTo>
                    <a:pt x="1781" y="174"/>
                  </a:lnTo>
                  <a:lnTo>
                    <a:pt x="1751" y="179"/>
                  </a:lnTo>
                  <a:lnTo>
                    <a:pt x="1719" y="180"/>
                  </a:lnTo>
                  <a:lnTo>
                    <a:pt x="1214" y="180"/>
                  </a:lnTo>
                  <a:lnTo>
                    <a:pt x="1185" y="182"/>
                  </a:lnTo>
                  <a:lnTo>
                    <a:pt x="1157" y="186"/>
                  </a:lnTo>
                  <a:lnTo>
                    <a:pt x="1129" y="193"/>
                  </a:lnTo>
                  <a:lnTo>
                    <a:pt x="1103" y="202"/>
                  </a:lnTo>
                  <a:lnTo>
                    <a:pt x="1080" y="213"/>
                  </a:lnTo>
                  <a:lnTo>
                    <a:pt x="1058" y="227"/>
                  </a:lnTo>
                  <a:lnTo>
                    <a:pt x="1038" y="242"/>
                  </a:lnTo>
                  <a:lnTo>
                    <a:pt x="1022" y="258"/>
                  </a:lnTo>
                  <a:lnTo>
                    <a:pt x="1010" y="276"/>
                  </a:lnTo>
                  <a:lnTo>
                    <a:pt x="1000" y="295"/>
                  </a:lnTo>
                  <a:lnTo>
                    <a:pt x="994" y="316"/>
                  </a:lnTo>
                  <a:lnTo>
                    <a:pt x="991" y="335"/>
                  </a:lnTo>
                  <a:lnTo>
                    <a:pt x="990" y="338"/>
                  </a:lnTo>
                  <a:lnTo>
                    <a:pt x="990" y="335"/>
                  </a:lnTo>
                  <a:lnTo>
                    <a:pt x="986" y="316"/>
                  </a:lnTo>
                  <a:lnTo>
                    <a:pt x="980" y="295"/>
                  </a:lnTo>
                  <a:lnTo>
                    <a:pt x="971" y="276"/>
                  </a:lnTo>
                  <a:lnTo>
                    <a:pt x="958" y="258"/>
                  </a:lnTo>
                  <a:lnTo>
                    <a:pt x="941" y="242"/>
                  </a:lnTo>
                  <a:lnTo>
                    <a:pt x="922" y="227"/>
                  </a:lnTo>
                  <a:lnTo>
                    <a:pt x="900" y="213"/>
                  </a:lnTo>
                  <a:lnTo>
                    <a:pt x="876" y="202"/>
                  </a:lnTo>
                  <a:lnTo>
                    <a:pt x="851" y="193"/>
                  </a:lnTo>
                  <a:lnTo>
                    <a:pt x="824" y="186"/>
                  </a:lnTo>
                  <a:lnTo>
                    <a:pt x="795" y="182"/>
                  </a:lnTo>
                  <a:lnTo>
                    <a:pt x="766" y="180"/>
                  </a:lnTo>
                  <a:lnTo>
                    <a:pt x="261" y="180"/>
                  </a:lnTo>
                  <a:lnTo>
                    <a:pt x="231" y="179"/>
                  </a:lnTo>
                  <a:lnTo>
                    <a:pt x="199" y="174"/>
                  </a:lnTo>
                  <a:lnTo>
                    <a:pt x="169" y="168"/>
                  </a:lnTo>
                  <a:lnTo>
                    <a:pt x="141" y="159"/>
                  </a:lnTo>
                  <a:lnTo>
                    <a:pt x="115" y="148"/>
                  </a:lnTo>
                  <a:lnTo>
                    <a:pt x="90" y="134"/>
                  </a:lnTo>
                  <a:lnTo>
                    <a:pt x="67" y="119"/>
                  </a:lnTo>
                  <a:lnTo>
                    <a:pt x="48" y="102"/>
                  </a:lnTo>
                  <a:lnTo>
                    <a:pt x="32" y="83"/>
                  </a:lnTo>
                  <a:lnTo>
                    <a:pt x="19" y="64"/>
                  </a:lnTo>
                  <a:lnTo>
                    <a:pt x="9" y="43"/>
                  </a:lnTo>
                  <a:lnTo>
                    <a:pt x="3" y="21"/>
                  </a:lnTo>
                  <a:lnTo>
                    <a:pt x="0" y="0"/>
                  </a:lnTo>
                  <a:lnTo>
                    <a:pt x="2" y="13"/>
                  </a:lnTo>
                  <a:lnTo>
                    <a:pt x="6" y="39"/>
                  </a:lnTo>
                  <a:lnTo>
                    <a:pt x="13" y="64"/>
                  </a:lnTo>
                  <a:lnTo>
                    <a:pt x="25" y="89"/>
                  </a:lnTo>
                  <a:lnTo>
                    <a:pt x="40" y="112"/>
                  </a:lnTo>
                  <a:lnTo>
                    <a:pt x="59" y="135"/>
                  </a:lnTo>
                  <a:lnTo>
                    <a:pt x="81" y="156"/>
                  </a:lnTo>
                  <a:lnTo>
                    <a:pt x="105" y="176"/>
                  </a:lnTo>
                  <a:lnTo>
                    <a:pt x="132" y="194"/>
                  </a:lnTo>
                  <a:lnTo>
                    <a:pt x="161" y="209"/>
                  </a:lnTo>
                  <a:lnTo>
                    <a:pt x="193" y="224"/>
                  </a:lnTo>
                  <a:lnTo>
                    <a:pt x="227" y="235"/>
                  </a:lnTo>
                  <a:lnTo>
                    <a:pt x="262" y="244"/>
                  </a:lnTo>
                  <a:lnTo>
                    <a:pt x="299" y="251"/>
                  </a:lnTo>
                  <a:lnTo>
                    <a:pt x="334" y="255"/>
                  </a:lnTo>
                  <a:lnTo>
                    <a:pt x="372" y="257"/>
                  </a:lnTo>
                  <a:lnTo>
                    <a:pt x="803" y="257"/>
                  </a:lnTo>
                  <a:lnTo>
                    <a:pt x="830" y="259"/>
                  </a:lnTo>
                  <a:lnTo>
                    <a:pt x="856" y="262"/>
                  </a:lnTo>
                  <a:lnTo>
                    <a:pt x="879" y="269"/>
                  </a:lnTo>
                  <a:lnTo>
                    <a:pt x="903" y="277"/>
                  </a:lnTo>
                  <a:lnTo>
                    <a:pt x="923" y="289"/>
                  </a:lnTo>
                  <a:lnTo>
                    <a:pt x="943" y="302"/>
                  </a:lnTo>
                  <a:lnTo>
                    <a:pt x="958" y="317"/>
                  </a:lnTo>
                  <a:lnTo>
                    <a:pt x="971" y="333"/>
                  </a:lnTo>
                  <a:lnTo>
                    <a:pt x="980" y="350"/>
                  </a:lnTo>
                  <a:lnTo>
                    <a:pt x="986" y="369"/>
                  </a:lnTo>
                  <a:lnTo>
                    <a:pt x="990" y="387"/>
                  </a:lnTo>
                  <a:lnTo>
                    <a:pt x="990" y="389"/>
                  </a:lnTo>
                  <a:lnTo>
                    <a:pt x="992" y="370"/>
                  </a:lnTo>
                  <a:lnTo>
                    <a:pt x="997" y="352"/>
                  </a:lnTo>
                  <a:lnTo>
                    <a:pt x="1007" y="335"/>
                  </a:lnTo>
                  <a:lnTo>
                    <a:pt x="1019" y="318"/>
                  </a:lnTo>
                  <a:lnTo>
                    <a:pt x="1035" y="304"/>
                  </a:lnTo>
                  <a:lnTo>
                    <a:pt x="1053" y="290"/>
                  </a:lnTo>
                  <a:lnTo>
                    <a:pt x="1073" y="279"/>
                  </a:lnTo>
                  <a:lnTo>
                    <a:pt x="1097" y="270"/>
                  </a:lnTo>
                  <a:lnTo>
                    <a:pt x="1120" y="263"/>
                  </a:lnTo>
                  <a:lnTo>
                    <a:pt x="1146" y="259"/>
                  </a:lnTo>
                  <a:lnTo>
                    <a:pt x="1172" y="257"/>
                  </a:lnTo>
                  <a:lnTo>
                    <a:pt x="1175" y="257"/>
                  </a:lnTo>
                  <a:lnTo>
                    <a:pt x="1608" y="257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Advantages of Standard Cost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19" name="Rectangle 3"/>
          <p:cNvSpPr/>
          <p:nvPr/>
        </p:nvSpPr>
        <p:spPr>
          <a:xfrm>
            <a:off x="169920" y="1857240"/>
            <a:ext cx="2898720" cy="14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64646"/>
                </a:solidFill>
                <a:latin typeface="Arial"/>
              </a:rPr>
              <a:t>Standard costs are</a:t>
            </a:r>
            <a:br>
              <a:rPr sz="2200"/>
            </a:br>
            <a:r>
              <a:rPr b="1" lang="en-US" sz="2200" spc="-1" strike="noStrike">
                <a:solidFill>
                  <a:srgbClr val="464646"/>
                </a:solidFill>
                <a:latin typeface="Arial"/>
              </a:rPr>
              <a:t>a key element of</a:t>
            </a:r>
            <a:br>
              <a:rPr sz="2200"/>
            </a:br>
            <a:r>
              <a:rPr b="1" lang="en-US" sz="2200" spc="-1" strike="noStrike">
                <a:solidFill>
                  <a:srgbClr val="464646"/>
                </a:solidFill>
                <a:latin typeface="Arial"/>
              </a:rPr>
              <a:t>the management by</a:t>
            </a:r>
            <a:br>
              <a:rPr sz="2200"/>
            </a:br>
            <a:r>
              <a:rPr b="1" lang="en-US" sz="2200" spc="-1" strike="noStrike">
                <a:solidFill>
                  <a:srgbClr val="464646"/>
                </a:solidFill>
                <a:latin typeface="Arial"/>
              </a:rPr>
              <a:t>exception approac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0" name="Group 4"/>
          <p:cNvGrpSpPr/>
          <p:nvPr/>
        </p:nvGrpSpPr>
        <p:grpSpPr>
          <a:xfrm>
            <a:off x="2844720" y="2539800"/>
            <a:ext cx="3479760" cy="2793960"/>
            <a:chOff x="2844720" y="2539800"/>
            <a:chExt cx="3479760" cy="2793960"/>
          </a:xfrm>
        </p:grpSpPr>
        <p:sp>
          <p:nvSpPr>
            <p:cNvPr id="921" name="AutoShape 5"/>
            <p:cNvSpPr/>
            <p:nvPr/>
          </p:nvSpPr>
          <p:spPr>
            <a:xfrm rot="16200000">
              <a:off x="3187440" y="2196720"/>
              <a:ext cx="2793960" cy="3479760"/>
            </a:xfrm>
            <a:prstGeom prst="rightArrow">
              <a:avLst>
                <a:gd name="adj1" fmla="val 75000"/>
                <a:gd name="adj2" fmla="val 50005"/>
              </a:avLst>
            </a:prstGeom>
            <a:solidFill>
              <a:srgbClr val="d3eef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Rectangle 6"/>
            <p:cNvSpPr/>
            <p:nvPr/>
          </p:nvSpPr>
          <p:spPr>
            <a:xfrm>
              <a:off x="3477960" y="4753080"/>
              <a:ext cx="2196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ff"/>
                  </a:solidFill>
                  <a:latin typeface="Arial"/>
                </a:rPr>
                <a:t>Advantag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23" name="Object 2"/>
            <p:cNvGraphicFramePr/>
            <p:nvPr/>
          </p:nvGraphicFramePr>
          <p:xfrm>
            <a:off x="3746520" y="3060720"/>
            <a:ext cx="1635120" cy="1596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24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46520" y="3060720"/>
                      <a:ext cx="1635120" cy="1596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25" name="Rectangle 8"/>
          <p:cNvSpPr/>
          <p:nvPr/>
        </p:nvSpPr>
        <p:spPr>
          <a:xfrm>
            <a:off x="5664240" y="1854360"/>
            <a:ext cx="3192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64646"/>
                </a:solidFill>
                <a:latin typeface="Arial"/>
                <a:ea typeface="Times New Roman"/>
              </a:rPr>
              <a:t>Standards can</a:t>
            </a:r>
            <a:br>
              <a:rPr sz="2200"/>
            </a:br>
            <a:r>
              <a:rPr b="1" lang="en-US" sz="2200" spc="-1" strike="noStrike">
                <a:solidFill>
                  <a:srgbClr val="464646"/>
                </a:solidFill>
                <a:latin typeface="Arial"/>
                <a:ea typeface="Times New Roman"/>
              </a:rPr>
              <a:t>provide benchmarks</a:t>
            </a:r>
            <a:br>
              <a:rPr sz="2200"/>
            </a:br>
            <a:r>
              <a:rPr b="1" lang="en-US" sz="2200" spc="-1" strike="noStrike">
                <a:solidFill>
                  <a:srgbClr val="464646"/>
                </a:solidFill>
                <a:latin typeface="Arial"/>
                <a:ea typeface="Times New Roman"/>
              </a:rPr>
              <a:t>that promote economy</a:t>
            </a:r>
            <a:br>
              <a:rPr sz="2200"/>
            </a:br>
            <a:r>
              <a:rPr b="1" lang="en-US" sz="2200" spc="-1" strike="noStrike">
                <a:solidFill>
                  <a:srgbClr val="464646"/>
                </a:solidFill>
                <a:latin typeface="Arial"/>
                <a:ea typeface="Times New Roman"/>
              </a:rPr>
              <a:t> and efficienc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9"/>
          <p:cNvSpPr/>
          <p:nvPr/>
        </p:nvSpPr>
        <p:spPr>
          <a:xfrm>
            <a:off x="457200" y="5256360"/>
            <a:ext cx="2743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64646"/>
                </a:solidFill>
                <a:latin typeface="Arial"/>
                <a:ea typeface="Times New Roman"/>
              </a:rPr>
              <a:t>Standards can greatly simplify</a:t>
            </a:r>
            <a:br>
              <a:rPr sz="2200"/>
            </a:br>
            <a:r>
              <a:rPr b="1" lang="en-US" sz="2200" spc="-1" strike="noStrike">
                <a:solidFill>
                  <a:srgbClr val="464646"/>
                </a:solidFill>
                <a:latin typeface="Arial"/>
                <a:ea typeface="Times New Roman"/>
              </a:rPr>
              <a:t>bookkeep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10"/>
          <p:cNvSpPr/>
          <p:nvPr/>
        </p:nvSpPr>
        <p:spPr>
          <a:xfrm>
            <a:off x="5711760" y="5256360"/>
            <a:ext cx="311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64646"/>
                </a:solidFill>
                <a:latin typeface="Arial"/>
                <a:ea typeface="Times New Roman"/>
              </a:rPr>
              <a:t>Standards can</a:t>
            </a:r>
            <a:br>
              <a:rPr sz="2200"/>
            </a:br>
            <a:r>
              <a:rPr b="1" lang="en-US" sz="2200" spc="-1" strike="noStrike">
                <a:solidFill>
                  <a:srgbClr val="464646"/>
                </a:solidFill>
                <a:latin typeface="Arial"/>
                <a:ea typeface="Times New Roman"/>
              </a:rPr>
              <a:t>support responsibility</a:t>
            </a:r>
            <a:br>
              <a:rPr sz="2200"/>
            </a:br>
            <a:r>
              <a:rPr b="1" lang="en-US" sz="2200" spc="-1" strike="noStrike">
                <a:solidFill>
                  <a:srgbClr val="464646"/>
                </a:solidFill>
                <a:latin typeface="Arial"/>
                <a:ea typeface="Times New Roman"/>
              </a:rPr>
              <a:t>accounting system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1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8" name="Group 2"/>
          <p:cNvGrpSpPr/>
          <p:nvPr/>
        </p:nvGrpSpPr>
        <p:grpSpPr>
          <a:xfrm>
            <a:off x="2755800" y="2158920"/>
            <a:ext cx="3632400" cy="3022560"/>
            <a:chOff x="2755800" y="2158920"/>
            <a:chExt cx="3632400" cy="3022560"/>
          </a:xfrm>
        </p:grpSpPr>
        <p:sp>
          <p:nvSpPr>
            <p:cNvPr id="929" name="AutoShape 3"/>
            <p:cNvSpPr/>
            <p:nvPr/>
          </p:nvSpPr>
          <p:spPr>
            <a:xfrm flipH="1" rot="16200000">
              <a:off x="3060720" y="1854000"/>
              <a:ext cx="3022560" cy="3632400"/>
            </a:xfrm>
            <a:prstGeom prst="rightArrow">
              <a:avLst>
                <a:gd name="adj1" fmla="val 75000"/>
                <a:gd name="adj2" fmla="val 50005"/>
              </a:avLst>
            </a:prstGeom>
            <a:solidFill>
              <a:srgbClr val="ead3d8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30" name="Object 2"/>
            <p:cNvGraphicFramePr/>
            <p:nvPr/>
          </p:nvGraphicFramePr>
          <p:xfrm>
            <a:off x="3809880" y="3087720"/>
            <a:ext cx="1793880" cy="1420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31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9880" y="3087720"/>
                      <a:ext cx="1793880" cy="142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32" name="Rectangle 5"/>
            <p:cNvSpPr/>
            <p:nvPr/>
          </p:nvSpPr>
          <p:spPr>
            <a:xfrm>
              <a:off x="3670920" y="2238480"/>
              <a:ext cx="180000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ff"/>
                  </a:solidFill>
                  <a:latin typeface="Arial"/>
                </a:rPr>
                <a:t>Potential</a:t>
              </a:r>
              <a:br>
                <a:rPr sz="2800"/>
              </a:br>
              <a:r>
                <a:rPr b="1" lang="en-US" sz="2800" spc="-1" strike="noStrike">
                  <a:solidFill>
                    <a:srgbClr val="3333ff"/>
                  </a:solidFill>
                  <a:latin typeface="Arial"/>
                </a:rPr>
                <a:t>Problem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3" name="Rectangle 6"/>
          <p:cNvSpPr/>
          <p:nvPr/>
        </p:nvSpPr>
        <p:spPr>
          <a:xfrm>
            <a:off x="5947920" y="1752480"/>
            <a:ext cx="329328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30a0"/>
                </a:solidFill>
                <a:latin typeface="Arial"/>
              </a:rPr>
              <a:t>If variances are misused</a:t>
            </a:r>
            <a:br>
              <a:rPr sz="2200"/>
            </a:br>
            <a:r>
              <a:rPr b="0" lang="en-US" sz="2200" spc="-1" strike="noStrike">
                <a:solidFill>
                  <a:srgbClr val="7030a0"/>
                </a:solidFill>
                <a:latin typeface="Arial"/>
              </a:rPr>
              <a:t>as a club to negatively</a:t>
            </a:r>
            <a:br>
              <a:rPr sz="2200"/>
            </a:br>
            <a:r>
              <a:rPr b="0" lang="en-US" sz="2200" spc="-1" strike="noStrike">
                <a:solidFill>
                  <a:srgbClr val="7030a0"/>
                </a:solidFill>
                <a:latin typeface="Arial"/>
              </a:rPr>
              <a:t>reinforce employees,</a:t>
            </a:r>
            <a:br>
              <a:rPr sz="2200"/>
            </a:br>
            <a:r>
              <a:rPr b="0" lang="en-US" sz="2200" spc="-1" strike="noStrike">
                <a:solidFill>
                  <a:srgbClr val="7030a0"/>
                </a:solidFill>
                <a:latin typeface="Arial"/>
              </a:rPr>
              <a:t>morale may suffer and</a:t>
            </a:r>
            <a:br>
              <a:rPr sz="2200"/>
            </a:br>
            <a:r>
              <a:rPr b="0" lang="en-US" sz="2200" spc="-1" strike="noStrike">
                <a:solidFill>
                  <a:srgbClr val="7030a0"/>
                </a:solidFill>
                <a:latin typeface="Arial"/>
              </a:rPr>
              <a:t>employees may make</a:t>
            </a:r>
            <a:br>
              <a:rPr sz="2200"/>
            </a:br>
            <a:r>
              <a:rPr b="0" lang="en-US" sz="2200" spc="-1" strike="noStrike">
                <a:solidFill>
                  <a:srgbClr val="7030a0"/>
                </a:solidFill>
                <a:latin typeface="Arial"/>
              </a:rPr>
              <a:t> dysfunctional decision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Rectangle 10"/>
          <p:cNvSpPr/>
          <p:nvPr/>
        </p:nvSpPr>
        <p:spPr>
          <a:xfrm>
            <a:off x="56160" y="1752480"/>
            <a:ext cx="304200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Arial"/>
              </a:rPr>
              <a:t>Standard cost variance</a:t>
            </a:r>
            <a:br>
              <a:rPr sz="2200"/>
            </a:br>
            <a:r>
              <a:rPr b="0" lang="en-US" sz="2200" spc="-1" strike="noStrike">
                <a:solidFill>
                  <a:srgbClr val="c00000"/>
                </a:solidFill>
                <a:latin typeface="Arial"/>
              </a:rPr>
              <a:t>reports are usually</a:t>
            </a:r>
            <a:br>
              <a:rPr sz="2200"/>
            </a:br>
            <a:r>
              <a:rPr b="0" lang="en-US" sz="2200" spc="-1" strike="noStrike">
                <a:solidFill>
                  <a:srgbClr val="c00000"/>
                </a:solidFill>
                <a:latin typeface="Arial"/>
              </a:rPr>
              <a:t>prepared on a monthly</a:t>
            </a:r>
            <a:br>
              <a:rPr sz="2200"/>
            </a:br>
            <a:r>
              <a:rPr b="0" lang="en-US" sz="2200" spc="-1" strike="noStrike">
                <a:solidFill>
                  <a:srgbClr val="c00000"/>
                </a:solidFill>
                <a:latin typeface="Arial"/>
              </a:rPr>
              <a:t>basis and may contain</a:t>
            </a:r>
            <a:br>
              <a:rPr sz="2200"/>
            </a:br>
            <a:r>
              <a:rPr b="0" lang="en-US" sz="2200" spc="-1" strike="noStrike">
                <a:solidFill>
                  <a:srgbClr val="c00000"/>
                </a:solidFill>
                <a:latin typeface="Arial"/>
              </a:rPr>
              <a:t> information that is</a:t>
            </a:r>
            <a:br>
              <a:rPr sz="2200"/>
            </a:br>
            <a:r>
              <a:rPr b="0" lang="en-US" sz="2200" spc="-1" strike="noStrike">
                <a:solidFill>
                  <a:srgbClr val="c00000"/>
                </a:solidFill>
                <a:latin typeface="Arial"/>
              </a:rPr>
              <a:t>outdate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  <a:ea typeface="Arial"/>
              </a:rPr>
              <a:t>Potential Problems with Standard Costs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36" name="TextBox 12"/>
          <p:cNvSpPr/>
          <p:nvPr/>
        </p:nvSpPr>
        <p:spPr>
          <a:xfrm>
            <a:off x="260640" y="5257800"/>
            <a:ext cx="8686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9966"/>
                </a:solidFill>
                <a:latin typeface="Arial"/>
              </a:rPr>
              <a:t>Labor variances assume that the production process is labor-paced</a:t>
            </a:r>
            <a:br>
              <a:rPr sz="2200"/>
            </a:br>
            <a:r>
              <a:rPr b="0" lang="en-US" sz="2200" spc="-1" strike="noStrike">
                <a:solidFill>
                  <a:srgbClr val="339966"/>
                </a:solidFill>
                <a:latin typeface="Arial"/>
              </a:rPr>
              <a:t>and that labor is a variable cost. These assumptions are often inval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9966"/>
                </a:solidFill>
                <a:latin typeface="Arial"/>
              </a:rPr>
              <a:t>in today’s automated manufacturing environment where employees</a:t>
            </a:r>
            <a:br>
              <a:rPr sz="2200"/>
            </a:br>
            <a:r>
              <a:rPr b="0" lang="en-US" sz="2200" spc="-1" strike="noStrike">
                <a:solidFill>
                  <a:srgbClr val="339966"/>
                </a:solidFill>
                <a:latin typeface="Arial"/>
              </a:rPr>
              <a:t>are essentially a fixed cos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Rectangle 7"/>
          <p:cNvSpPr/>
          <p:nvPr/>
        </p:nvSpPr>
        <p:spPr>
          <a:xfrm>
            <a:off x="120960" y="5715000"/>
            <a:ext cx="885312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30a0"/>
                </a:solidFill>
                <a:latin typeface="Arial"/>
              </a:rPr>
              <a:t>Excessive emphasis on meeting the standards may overshadow other</a:t>
            </a:r>
            <a:br>
              <a:rPr sz="2200"/>
            </a:br>
            <a:r>
              <a:rPr b="0" lang="en-US" sz="2200" spc="-1" strike="noStrike">
                <a:solidFill>
                  <a:srgbClr val="7030a0"/>
                </a:solidFill>
                <a:latin typeface="Arial"/>
              </a:rPr>
              <a:t>important objectives such as maintaining and improving quality,</a:t>
            </a:r>
            <a:br>
              <a:rPr sz="2200"/>
            </a:br>
            <a:r>
              <a:rPr b="0" lang="en-US" sz="2200" spc="-1" strike="noStrike">
                <a:solidFill>
                  <a:srgbClr val="7030a0"/>
                </a:solidFill>
                <a:latin typeface="Arial"/>
              </a:rPr>
              <a:t> on-time delivery, and customer satisfac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ectangle 8"/>
          <p:cNvSpPr/>
          <p:nvPr/>
        </p:nvSpPr>
        <p:spPr>
          <a:xfrm>
            <a:off x="6049800" y="2133720"/>
            <a:ext cx="293364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Arial"/>
              </a:rPr>
              <a:t>In some cases, a</a:t>
            </a:r>
            <a:br>
              <a:rPr sz="2200"/>
            </a:br>
            <a:r>
              <a:rPr b="0" lang="en-US" sz="2200" spc="-1" strike="noStrike">
                <a:solidFill>
                  <a:srgbClr val="c00000"/>
                </a:solidFill>
                <a:latin typeface="Arial"/>
              </a:rPr>
              <a:t> “favorable” variance</a:t>
            </a:r>
            <a:br>
              <a:rPr sz="2200"/>
            </a:br>
            <a:r>
              <a:rPr b="0" lang="en-US" sz="2200" spc="-1" strike="noStrike">
                <a:solidFill>
                  <a:srgbClr val="c00000"/>
                </a:solidFill>
                <a:latin typeface="Arial"/>
              </a:rPr>
              <a:t>can be as bad or</a:t>
            </a:r>
            <a:br>
              <a:rPr sz="2200"/>
            </a:br>
            <a:r>
              <a:rPr b="0" lang="en-US" sz="2200" spc="-1" strike="noStrike">
                <a:solidFill>
                  <a:srgbClr val="c00000"/>
                </a:solidFill>
                <a:latin typeface="Arial"/>
              </a:rPr>
              <a:t>worse than an</a:t>
            </a:r>
            <a:br>
              <a:rPr sz="2200"/>
            </a:br>
            <a:r>
              <a:rPr b="0" lang="en-US" sz="2200" spc="-1" strike="noStrike">
                <a:solidFill>
                  <a:srgbClr val="c00000"/>
                </a:solidFill>
                <a:latin typeface="Arial"/>
              </a:rPr>
              <a:t>unfavorable varianc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Rectangle 9"/>
          <p:cNvSpPr/>
          <p:nvPr/>
        </p:nvSpPr>
        <p:spPr>
          <a:xfrm>
            <a:off x="17280" y="1828800"/>
            <a:ext cx="322632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b050"/>
                </a:solidFill>
                <a:latin typeface="Arial"/>
              </a:rPr>
              <a:t>Just meeting standards</a:t>
            </a:r>
            <a:br>
              <a:rPr sz="2200"/>
            </a:br>
            <a:r>
              <a:rPr b="0" lang="en-US" sz="2200" spc="-1" strike="noStrike">
                <a:solidFill>
                  <a:srgbClr val="00b050"/>
                </a:solidFill>
                <a:latin typeface="Arial"/>
              </a:rPr>
              <a:t>may not be sufficient;</a:t>
            </a:r>
            <a:br>
              <a:rPr sz="2200"/>
            </a:br>
            <a:r>
              <a:rPr b="0" lang="en-US" sz="2200" spc="-1" strike="noStrike">
                <a:solidFill>
                  <a:srgbClr val="00b050"/>
                </a:solidFill>
                <a:latin typeface="Arial"/>
              </a:rPr>
              <a:t>continuous improvement</a:t>
            </a:r>
            <a:br>
              <a:rPr sz="2200"/>
            </a:br>
            <a:r>
              <a:rPr b="0" lang="en-US" sz="2200" spc="-1" strike="noStrike">
                <a:solidFill>
                  <a:srgbClr val="00b050"/>
                </a:solidFill>
                <a:latin typeface="Arial"/>
              </a:rPr>
              <a:t>may be necessary to</a:t>
            </a:r>
            <a:br>
              <a:rPr sz="2200"/>
            </a:br>
            <a:r>
              <a:rPr b="0" lang="en-US" sz="2200" spc="-1" strike="noStrike">
                <a:solidFill>
                  <a:srgbClr val="00b050"/>
                </a:solidFill>
                <a:latin typeface="Arial"/>
              </a:rPr>
              <a:t>survive in a competitive</a:t>
            </a:r>
            <a:br>
              <a:rPr sz="2200"/>
            </a:br>
            <a:r>
              <a:rPr b="0" lang="en-US" sz="2200" spc="-1" strike="noStrike">
                <a:solidFill>
                  <a:srgbClr val="00b050"/>
                </a:solidFill>
                <a:latin typeface="Arial"/>
              </a:rPr>
              <a:t>environ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  <a:ea typeface="Arial"/>
              </a:rPr>
              <a:t>Potential Problems with Standard Costs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941" name="Group 2"/>
          <p:cNvGrpSpPr/>
          <p:nvPr/>
        </p:nvGrpSpPr>
        <p:grpSpPr>
          <a:xfrm>
            <a:off x="2755800" y="2158920"/>
            <a:ext cx="3632400" cy="3022560"/>
            <a:chOff x="2755800" y="2158920"/>
            <a:chExt cx="3632400" cy="3022560"/>
          </a:xfrm>
        </p:grpSpPr>
        <p:sp>
          <p:nvSpPr>
            <p:cNvPr id="942" name="AutoShape 3"/>
            <p:cNvSpPr/>
            <p:nvPr/>
          </p:nvSpPr>
          <p:spPr>
            <a:xfrm flipH="1" rot="16200000">
              <a:off x="3060720" y="1854000"/>
              <a:ext cx="3022560" cy="3632400"/>
            </a:xfrm>
            <a:prstGeom prst="rightArrow">
              <a:avLst>
                <a:gd name="adj1" fmla="val 75000"/>
                <a:gd name="adj2" fmla="val 50005"/>
              </a:avLst>
            </a:prstGeom>
            <a:solidFill>
              <a:srgbClr val="ead3d8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43" name="Object 2"/>
            <p:cNvGraphicFramePr/>
            <p:nvPr/>
          </p:nvGraphicFramePr>
          <p:xfrm>
            <a:off x="3809880" y="3087720"/>
            <a:ext cx="1793880" cy="1420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44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9880" y="3087720"/>
                      <a:ext cx="1793880" cy="142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5" name="Rectangle 5"/>
            <p:cNvSpPr/>
            <p:nvPr/>
          </p:nvSpPr>
          <p:spPr>
            <a:xfrm>
              <a:off x="3670920" y="2238480"/>
              <a:ext cx="180000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ff"/>
                  </a:solidFill>
                  <a:latin typeface="Arial"/>
                </a:rPr>
                <a:t>Potential</a:t>
              </a:r>
              <a:br>
                <a:rPr sz="2800"/>
              </a:br>
              <a:r>
                <a:rPr b="1" lang="en-US" sz="2800" spc="-1" strike="noStrike">
                  <a:solidFill>
                    <a:srgbClr val="3333ff"/>
                  </a:solidFill>
                  <a:latin typeface="Arial"/>
                </a:rPr>
                <a:t>Problem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out" orient="vert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0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End of Chapter 10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947" name="Picture 9" descr="C:\Users\DoddandSusan\AppData\Local\Microsoft\Windows\Temporary Internet Files\Content.IE5\0O2E4X0N\MP900442212[1].jpg"/>
          <p:cNvPicPr/>
          <p:nvPr/>
        </p:nvPicPr>
        <p:blipFill>
          <a:blip r:embed="rId1"/>
          <a:stretch/>
        </p:blipFill>
        <p:spPr>
          <a:xfrm>
            <a:off x="2819520" y="1600200"/>
            <a:ext cx="3251160" cy="4876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  <a:ea typeface="Arial"/>
              </a:rPr>
              <a:t>Using Standards in Flexible Budgets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50" name="Rounded Rectangle 2"/>
          <p:cNvSpPr/>
          <p:nvPr/>
        </p:nvSpPr>
        <p:spPr>
          <a:xfrm>
            <a:off x="271440" y="1905120"/>
            <a:ext cx="8594640" cy="2057400"/>
          </a:xfrm>
          <a:prstGeom prst="roundRect">
            <a:avLst>
              <a:gd name="adj" fmla="val 16667"/>
            </a:avLst>
          </a:prstGeom>
          <a:solidFill>
            <a:srgbClr val="b5e9f4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ndard costs per unit for direct materials, direct labor, and variable manufacturing overhead can be used to compute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activ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spending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aria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10"/>
          <p:cNvGrpSpPr/>
          <p:nvPr/>
        </p:nvGrpSpPr>
        <p:grpSpPr>
          <a:xfrm>
            <a:off x="3048120" y="3166920"/>
            <a:ext cx="5867280" cy="3081600"/>
            <a:chOff x="3048120" y="3166920"/>
            <a:chExt cx="5867280" cy="3081600"/>
          </a:xfrm>
        </p:grpSpPr>
        <p:sp>
          <p:nvSpPr>
            <p:cNvPr id="152" name="Rounded Rectangle 3"/>
            <p:cNvSpPr/>
            <p:nvPr/>
          </p:nvSpPr>
          <p:spPr>
            <a:xfrm>
              <a:off x="5257800" y="3166920"/>
              <a:ext cx="3352680" cy="4572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ounded Rectangle 4"/>
            <p:cNvSpPr/>
            <p:nvPr/>
          </p:nvSpPr>
          <p:spPr>
            <a:xfrm>
              <a:off x="3048120" y="4724280"/>
              <a:ext cx="5867280" cy="1524240"/>
            </a:xfrm>
            <a:prstGeom prst="roundRect">
              <a:avLst>
                <a:gd name="adj" fmla="val 16667"/>
              </a:avLst>
            </a:prstGeom>
            <a:solidFill>
              <a:srgbClr val="5e2d3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ending variances become more useful by breaking them down into price and quantity variances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4" name="Straight Arrow Connector 6"/>
            <p:cNvCxnSpPr>
              <a:stCxn id="152" idx="2"/>
            </p:cNvCxnSpPr>
            <p:nvPr/>
          </p:nvCxnSpPr>
          <p:spPr>
            <a:xfrm flipH="1">
              <a:off x="6933960" y="3624120"/>
              <a:ext cx="2160" cy="110232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arrow" w="med"/>
            </a:ln>
          </p:spPr>
        </p:cxnSp>
      </p:grpSp>
      <p:pic>
        <p:nvPicPr>
          <p:cNvPr id="155" name="Picture 1" descr=""/>
          <p:cNvPicPr/>
          <p:nvPr/>
        </p:nvPicPr>
        <p:blipFill>
          <a:blip r:embed="rId1"/>
          <a:stretch/>
        </p:blipFill>
        <p:spPr>
          <a:xfrm>
            <a:off x="449280" y="4343400"/>
            <a:ext cx="1654200" cy="213372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  <a:ea typeface="Arial"/>
              </a:rPr>
              <a:t>A General Model for Variance Analysis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57" name="AutoShape 1027"/>
          <p:cNvSpPr/>
          <p:nvPr/>
        </p:nvSpPr>
        <p:spPr>
          <a:xfrm>
            <a:off x="1770120" y="1619280"/>
            <a:ext cx="5591160" cy="1104840"/>
          </a:xfrm>
          <a:prstGeom prst="roundRect">
            <a:avLst>
              <a:gd name="adj" fmla="val 12495"/>
            </a:avLst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028"/>
          <p:cNvSpPr/>
          <p:nvPr/>
        </p:nvSpPr>
        <p:spPr>
          <a:xfrm>
            <a:off x="2451240" y="1908000"/>
            <a:ext cx="423216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Arial"/>
              </a:rPr>
              <a:t>Variance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27"/>
          <p:cNvGrpSpPr/>
          <p:nvPr/>
        </p:nvGrpSpPr>
        <p:grpSpPr>
          <a:xfrm>
            <a:off x="4991040" y="2730600"/>
            <a:ext cx="3543120" cy="3433680"/>
            <a:chOff x="4991040" y="2730600"/>
            <a:chExt cx="3543120" cy="3433680"/>
          </a:xfrm>
        </p:grpSpPr>
        <p:grpSp>
          <p:nvGrpSpPr>
            <p:cNvPr id="160" name="Group 1030"/>
            <p:cNvGrpSpPr/>
            <p:nvPr/>
          </p:nvGrpSpPr>
          <p:grpSpPr>
            <a:xfrm>
              <a:off x="5371920" y="3371760"/>
              <a:ext cx="2865600" cy="723600"/>
              <a:chOff x="5371920" y="3371760"/>
              <a:chExt cx="2865600" cy="723600"/>
            </a:xfrm>
          </p:grpSpPr>
          <p:grpSp>
            <p:nvGrpSpPr>
              <p:cNvPr id="161" name="Group 1031"/>
              <p:cNvGrpSpPr/>
              <p:nvPr/>
            </p:nvGrpSpPr>
            <p:grpSpPr>
              <a:xfrm>
                <a:off x="5371920" y="3371760"/>
                <a:ext cx="2781000" cy="723600"/>
                <a:chOff x="5371920" y="3371760"/>
                <a:chExt cx="2781000" cy="723600"/>
              </a:xfrm>
            </p:grpSpPr>
            <p:sp>
              <p:nvSpPr>
                <p:cNvPr id="162" name="Rectangle 1032"/>
                <p:cNvSpPr/>
                <p:nvPr/>
              </p:nvSpPr>
              <p:spPr>
                <a:xfrm>
                  <a:off x="5411520" y="3403080"/>
                  <a:ext cx="2701800" cy="660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AutoShape 1033"/>
                <p:cNvSpPr/>
                <p:nvPr/>
              </p:nvSpPr>
              <p:spPr>
                <a:xfrm>
                  <a:off x="5371920" y="3371760"/>
                  <a:ext cx="2781000" cy="72360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ead3d8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Rectangle 1034"/>
              <p:cNvSpPr/>
              <p:nvPr/>
            </p:nvSpPr>
            <p:spPr>
              <a:xfrm>
                <a:off x="5424120" y="3489120"/>
                <a:ext cx="2813400" cy="48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464646"/>
                    </a:solidFill>
                    <a:latin typeface="Arial"/>
                  </a:rPr>
                  <a:t>Quantity Variance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Group 1035"/>
            <p:cNvGrpSpPr/>
            <p:nvPr/>
          </p:nvGrpSpPr>
          <p:grpSpPr>
            <a:xfrm>
              <a:off x="4991040" y="4716720"/>
              <a:ext cx="3543120" cy="1447560"/>
              <a:chOff x="4991040" y="4716720"/>
              <a:chExt cx="3543120" cy="1447560"/>
            </a:xfrm>
          </p:grpSpPr>
          <p:sp>
            <p:nvSpPr>
              <p:cNvPr id="166" name="AutoShape 1036"/>
              <p:cNvSpPr/>
              <p:nvPr/>
            </p:nvSpPr>
            <p:spPr>
              <a:xfrm>
                <a:off x="4991040" y="4716720"/>
                <a:ext cx="3543120" cy="1447560"/>
              </a:xfrm>
              <a:prstGeom prst="roundRect">
                <a:avLst>
                  <a:gd name="adj" fmla="val 12495"/>
                </a:avLst>
              </a:prstGeom>
              <a:solidFill>
                <a:srgbClr val="c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1037"/>
              <p:cNvSpPr/>
              <p:nvPr/>
            </p:nvSpPr>
            <p:spPr>
              <a:xfrm>
                <a:off x="5313960" y="4876920"/>
                <a:ext cx="3044880" cy="118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Difference between</a:t>
                </a:r>
                <a:br>
                  <a:rPr sz="2400"/>
                </a:b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actual quantity and </a:t>
                </a:r>
                <a:br>
                  <a:rPr sz="2400"/>
                </a:b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standard quantit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68" name="AutoShape 1039"/>
            <p:cNvCxnSpPr/>
            <p:nvPr/>
          </p:nvCxnSpPr>
          <p:spPr>
            <a:xfrm>
              <a:off x="6762240" y="4114800"/>
              <a:ext cx="1080" cy="583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9" name="Line 1041"/>
            <p:cNvSpPr/>
            <p:nvPr/>
          </p:nvSpPr>
          <p:spPr>
            <a:xfrm flipH="1" flipV="1">
              <a:off x="5333400" y="2730600"/>
              <a:ext cx="1397160" cy="63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26"/>
          <p:cNvGrpSpPr/>
          <p:nvPr/>
        </p:nvGrpSpPr>
        <p:grpSpPr>
          <a:xfrm>
            <a:off x="533520" y="2730600"/>
            <a:ext cx="3619440" cy="3441600"/>
            <a:chOff x="533520" y="2730600"/>
            <a:chExt cx="3619440" cy="3441600"/>
          </a:xfrm>
        </p:grpSpPr>
        <p:sp>
          <p:nvSpPr>
            <p:cNvPr id="171" name="Line 1038"/>
            <p:cNvSpPr/>
            <p:nvPr/>
          </p:nvSpPr>
          <p:spPr>
            <a:xfrm flipV="1">
              <a:off x="2387520" y="2730600"/>
              <a:ext cx="1346040" cy="63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1042"/>
            <p:cNvGrpSpPr/>
            <p:nvPr/>
          </p:nvGrpSpPr>
          <p:grpSpPr>
            <a:xfrm>
              <a:off x="952560" y="3371760"/>
              <a:ext cx="2781360" cy="723600"/>
              <a:chOff x="952560" y="3371760"/>
              <a:chExt cx="2781360" cy="723600"/>
            </a:xfrm>
          </p:grpSpPr>
          <p:grpSp>
            <p:nvGrpSpPr>
              <p:cNvPr id="173" name="Group 1043"/>
              <p:cNvGrpSpPr/>
              <p:nvPr/>
            </p:nvGrpSpPr>
            <p:grpSpPr>
              <a:xfrm>
                <a:off x="952560" y="3371760"/>
                <a:ext cx="2781360" cy="723600"/>
                <a:chOff x="952560" y="3371760"/>
                <a:chExt cx="2781360" cy="723600"/>
              </a:xfrm>
            </p:grpSpPr>
            <p:sp>
              <p:nvSpPr>
                <p:cNvPr id="174" name="Rectangle 1044"/>
                <p:cNvSpPr/>
                <p:nvPr/>
              </p:nvSpPr>
              <p:spPr>
                <a:xfrm>
                  <a:off x="992520" y="3403080"/>
                  <a:ext cx="2701800" cy="6602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AutoShape 1045"/>
                <p:cNvSpPr/>
                <p:nvPr/>
              </p:nvSpPr>
              <p:spPr>
                <a:xfrm>
                  <a:off x="952560" y="3371760"/>
                  <a:ext cx="2781360" cy="72360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78d6ea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Rectangle 1046"/>
              <p:cNvSpPr/>
              <p:nvPr/>
            </p:nvSpPr>
            <p:spPr>
              <a:xfrm>
                <a:off x="1173240" y="3489120"/>
                <a:ext cx="2334960" cy="48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464646"/>
                    </a:solidFill>
                    <a:latin typeface="Arial"/>
                  </a:rPr>
                  <a:t>Price Variance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Group 1047"/>
            <p:cNvGrpSpPr/>
            <p:nvPr/>
          </p:nvGrpSpPr>
          <p:grpSpPr>
            <a:xfrm>
              <a:off x="533520" y="4716360"/>
              <a:ext cx="3619440" cy="1455840"/>
              <a:chOff x="533520" y="4716360"/>
              <a:chExt cx="3619440" cy="1455840"/>
            </a:xfrm>
          </p:grpSpPr>
          <p:sp>
            <p:nvSpPr>
              <p:cNvPr id="178" name="AutoShape 1048"/>
              <p:cNvSpPr/>
              <p:nvPr/>
            </p:nvSpPr>
            <p:spPr>
              <a:xfrm>
                <a:off x="533520" y="4716360"/>
                <a:ext cx="3619440" cy="1455840"/>
              </a:xfrm>
              <a:prstGeom prst="roundRect">
                <a:avLst>
                  <a:gd name="adj" fmla="val 12495"/>
                </a:avLst>
              </a:prstGeom>
              <a:solidFill>
                <a:srgbClr val="a3171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1049"/>
              <p:cNvSpPr/>
              <p:nvPr/>
            </p:nvSpPr>
            <p:spPr>
              <a:xfrm>
                <a:off x="2262240" y="4850640"/>
                <a:ext cx="182520" cy="45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80" name="AutoShape 1050"/>
            <p:cNvCxnSpPr/>
            <p:nvPr/>
          </p:nvCxnSpPr>
          <p:spPr>
            <a:xfrm>
              <a:off x="2342880" y="4114800"/>
              <a:ext cx="1080" cy="583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81" name="Rectangle 26"/>
          <p:cNvSpPr/>
          <p:nvPr/>
        </p:nvSpPr>
        <p:spPr>
          <a:xfrm>
            <a:off x="803160" y="4857840"/>
            <a:ext cx="3124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fference  between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tual price a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ndard 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Price and Quantity Standard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3" name="AutoShape 3"/>
          <p:cNvSpPr/>
          <p:nvPr/>
        </p:nvSpPr>
        <p:spPr>
          <a:xfrm>
            <a:off x="1036800" y="1523880"/>
            <a:ext cx="7094520" cy="1049400"/>
          </a:xfrm>
          <a:prstGeom prst="roundRect">
            <a:avLst>
              <a:gd name="adj" fmla="val 16667"/>
            </a:avLst>
          </a:prstGeom>
          <a:solidFill>
            <a:srgbClr val="3f1e2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rice and quantity standards are determined separately for two reas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4"/>
          <p:cNvGrpSpPr/>
          <p:nvPr/>
        </p:nvGrpSpPr>
        <p:grpSpPr>
          <a:xfrm>
            <a:off x="507960" y="2608200"/>
            <a:ext cx="8153280" cy="1862640"/>
            <a:chOff x="507960" y="2608200"/>
            <a:chExt cx="8153280" cy="1862640"/>
          </a:xfrm>
        </p:grpSpPr>
        <p:sp>
          <p:nvSpPr>
            <p:cNvPr id="185" name="Text Box 5"/>
            <p:cNvSpPr/>
            <p:nvPr/>
          </p:nvSpPr>
          <p:spPr>
            <a:xfrm>
              <a:off x="507960" y="3279600"/>
              <a:ext cx="8153280" cy="1191240"/>
            </a:xfrm>
            <a:prstGeom prst="rect">
              <a:avLst/>
            </a:prstGeom>
            <a:solidFill>
              <a:srgbClr val="fbe0d1"/>
            </a:solidFill>
            <a:ln w="2844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901"/>
                </a:spcBef>
                <a:buClr>
                  <a:srgbClr val="000000"/>
                </a:buClr>
                <a:buFont typeface="Wingdings" charset="2"/>
                <a:buChar char="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he purchasing manager is responsible for raw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material purchase prices and the production manager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is responsible for the quantity of raw material used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6" name="AutoShape 6"/>
            <p:cNvCxnSpPr>
              <a:stCxn id="183" idx="2"/>
              <a:endCxn id="185" idx="0"/>
            </p:cNvCxnSpPr>
            <p:nvPr/>
          </p:nvCxnSpPr>
          <p:spPr>
            <a:xfrm>
              <a:off x="4584240" y="2608200"/>
              <a:ext cx="1080" cy="65808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87" name="Group 7"/>
          <p:cNvGrpSpPr/>
          <p:nvPr/>
        </p:nvGrpSpPr>
        <p:grpSpPr>
          <a:xfrm>
            <a:off x="507960" y="4510080"/>
            <a:ext cx="8153280" cy="1865880"/>
            <a:chOff x="507960" y="4510080"/>
            <a:chExt cx="8153280" cy="1865880"/>
          </a:xfrm>
        </p:grpSpPr>
        <p:sp>
          <p:nvSpPr>
            <p:cNvPr id="188" name="Text Box 8"/>
            <p:cNvSpPr/>
            <p:nvPr/>
          </p:nvSpPr>
          <p:spPr>
            <a:xfrm>
              <a:off x="507960" y="5184720"/>
              <a:ext cx="8153280" cy="1191240"/>
            </a:xfrm>
            <a:prstGeom prst="rect">
              <a:avLst/>
            </a:prstGeom>
            <a:solidFill>
              <a:srgbClr val="b5e9f4"/>
            </a:solidFill>
            <a:ln w="2844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901"/>
                </a:spcBef>
                <a:buClr>
                  <a:srgbClr val="000000"/>
                </a:buClr>
                <a:buFont typeface="Wingdings" charset="2"/>
                <a:buChar char="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he buying and using activities occur at different times.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Raw material purchases may be held in inventory for a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period of time before being used in production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9" name="AutoShape 9"/>
            <p:cNvCxnSpPr>
              <a:stCxn id="185" idx="2"/>
              <a:endCxn id="188" idx="0"/>
            </p:cNvCxnSpPr>
            <p:nvPr/>
          </p:nvCxnSpPr>
          <p:spPr>
            <a:xfrm>
              <a:off x="4584240" y="4510080"/>
              <a:ext cx="1080" cy="66060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p:transition>
    <p:wipe dir="r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8T13:55:57Z</dcterms:created>
  <dc:creator>Jon A. Booker</dc:creator>
  <dc:description/>
  <dc:language>en-US</dc:language>
  <cp:lastModifiedBy>Balaji Venkatrao</cp:lastModifiedBy>
  <dcterms:modified xsi:type="dcterms:W3CDTF">2013-11-05T13:01:36Z</dcterms:modified>
  <cp:revision>208</cp:revision>
  <dc:subject/>
  <dc:title>Chapter Title</dc:title>
</cp:coreProperties>
</file>