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5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12.jpeg" ContentType="image/jpeg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5257800" y="0"/>
            <a:ext cx="1600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B-</a:t>
            </a:r>
            <a:fld id="{C19B4261-6E5B-4EBE-B3ED-5A912389B48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a6ddea"/>
          </a:solidFill>
          <a:ln cap="rnd" w="50760">
            <a:solidFill>
              <a:srgbClr val="7acb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19"/>
          <p:cNvSpPr/>
          <p:nvPr/>
        </p:nvSpPr>
        <p:spPr>
          <a:xfrm>
            <a:off x="7772400" y="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B-</a:t>
            </a:r>
            <a:fld id="{79F8C0DE-E2A4-48E7-8E28-37941F724D4A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ounded Rectangle 1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a6ddea"/>
          </a:solidFill>
          <a:ln cap="rnd" w="507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5"/>
          <p:cNvSpPr/>
          <p:nvPr/>
        </p:nvSpPr>
        <p:spPr>
          <a:xfrm>
            <a:off x="457200" y="5305320"/>
            <a:ext cx="4724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PowerPoint Autho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Susan Coomer Galbreath, Ph.D., C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Charles W. Caldwell, D.B.A., C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Jon A. Booker, Ph.D.,</a:t>
            </a:r>
            <a:r>
              <a:rPr b="0" lang="en-US" sz="1600" spc="-1" strike="noStrike">
                <a:solidFill>
                  <a:srgbClr val="78310b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CPA, 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Cynthia J. Rooney, Ph.D., C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611640" y="6611760"/>
            <a:ext cx="819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5540a"/>
                </a:solidFill>
                <a:latin typeface="Times New Roman"/>
              </a:rPr>
              <a:t>Copyright © 2015 McGraw-Hill Education. All rights reserved. No reproduction or distribution without the prior written consent of McGraw-Hill Educ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2096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vice Department Charges</a:t>
            </a: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ix 11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505800" y="1523880"/>
            <a:ext cx="8124480" cy="17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pco has a maintenance department and two op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artments: Cutting and Assembly. Variable maintenan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s are budgeted at $0.60 per machine hour. Fix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enance costs are budgeted at $200,000 per yea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relating to the current year ar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-4320" y="6095880"/>
            <a:ext cx="9195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cate maintenance costs to the two operating depart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743040" y="3276720"/>
          <a:ext cx="7715160" cy="274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3276720"/>
                    <a:ext cx="7715160" cy="274320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Sipco:  An Example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939960" y="2482920"/>
          <a:ext cx="7257960" cy="3079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2482920"/>
                    <a:ext cx="7257960" cy="307980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  <a:effectLst>
                    <a:outerShdw dist="0" dir="0" blurRad="0" rotWithShape="0">
                      <a:srgbClr val="def5fa"/>
                    </a:outerShdw>
                  </a:effectLst>
                </p:spPr>
              </p:pic>
            </p:oleObj>
          </a:graphicData>
        </a:graphic>
      </p:graphicFrame>
      <p:grpSp>
        <p:nvGrpSpPr>
          <p:cNvPr id="152" name="Group 3"/>
          <p:cNvGrpSpPr/>
          <p:nvPr/>
        </p:nvGrpSpPr>
        <p:grpSpPr>
          <a:xfrm>
            <a:off x="4038120" y="1523880"/>
            <a:ext cx="3277080" cy="2133720"/>
            <a:chOff x="4038120" y="1523880"/>
            <a:chExt cx="3277080" cy="2133720"/>
          </a:xfrm>
        </p:grpSpPr>
        <p:sp>
          <p:nvSpPr>
            <p:cNvPr id="153" name="Line 4"/>
            <p:cNvSpPr/>
            <p:nvPr/>
          </p:nvSpPr>
          <p:spPr>
            <a:xfrm flipH="1">
              <a:off x="4038120" y="2133720"/>
              <a:ext cx="1143000" cy="15238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5"/>
            <p:cNvSpPr/>
            <p:nvPr/>
          </p:nvSpPr>
          <p:spPr>
            <a:xfrm>
              <a:off x="4419720" y="1523880"/>
              <a:ext cx="2895480" cy="914400"/>
            </a:xfrm>
            <a:prstGeom prst="ellipse">
              <a:avLst/>
            </a:prstGeom>
            <a:solidFill>
              <a:srgbClr val="f9d1d3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ctual hou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Sipco:  End of the Year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Object 2"/>
          <p:cNvGraphicFramePr/>
          <p:nvPr/>
        </p:nvGraphicFramePr>
        <p:xfrm>
          <a:off x="939960" y="2482920"/>
          <a:ext cx="7257960" cy="3079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2482920"/>
                    <a:ext cx="7257960" cy="307980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  <a:effectLst>
                    <a:outerShdw dist="0" dir="0" blurRad="0" rotWithShape="0">
                      <a:srgbClr val="def5fa"/>
                    </a:outerShdw>
                  </a:effectLst>
                </p:spPr>
              </p:pic>
            </p:oleObj>
          </a:graphicData>
        </a:graphic>
      </p:graphicFrame>
      <p:grpSp>
        <p:nvGrpSpPr>
          <p:cNvPr id="158" name="Group 3"/>
          <p:cNvGrpSpPr/>
          <p:nvPr/>
        </p:nvGrpSpPr>
        <p:grpSpPr>
          <a:xfrm>
            <a:off x="304920" y="4635000"/>
            <a:ext cx="5638680" cy="1689480"/>
            <a:chOff x="304920" y="4635000"/>
            <a:chExt cx="5638680" cy="1689480"/>
          </a:xfrm>
        </p:grpSpPr>
        <p:sp>
          <p:nvSpPr>
            <p:cNvPr id="159" name="Line 4"/>
            <p:cNvSpPr/>
            <p:nvPr/>
          </p:nvSpPr>
          <p:spPr>
            <a:xfrm flipV="1">
              <a:off x="379080" y="4635000"/>
              <a:ext cx="1070640" cy="11692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5"/>
            <p:cNvSpPr/>
            <p:nvPr/>
          </p:nvSpPr>
          <p:spPr>
            <a:xfrm>
              <a:off x="304920" y="5791320"/>
              <a:ext cx="5638680" cy="5331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Arial"/>
                </a:rPr>
                <a:t>Percent of peak-period capacity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Sipco:  End of the Year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162" name="Group 3"/>
          <p:cNvGrpSpPr/>
          <p:nvPr/>
        </p:nvGrpSpPr>
        <p:grpSpPr>
          <a:xfrm>
            <a:off x="4038120" y="1523880"/>
            <a:ext cx="3277080" cy="2133720"/>
            <a:chOff x="4038120" y="1523880"/>
            <a:chExt cx="3277080" cy="2133720"/>
          </a:xfrm>
        </p:grpSpPr>
        <p:sp>
          <p:nvSpPr>
            <p:cNvPr id="163" name="Line 4"/>
            <p:cNvSpPr/>
            <p:nvPr/>
          </p:nvSpPr>
          <p:spPr>
            <a:xfrm flipH="1">
              <a:off x="4038120" y="2133720"/>
              <a:ext cx="1143000" cy="15238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5"/>
            <p:cNvSpPr/>
            <p:nvPr/>
          </p:nvSpPr>
          <p:spPr>
            <a:xfrm>
              <a:off x="4419720" y="1523880"/>
              <a:ext cx="2895480" cy="914400"/>
            </a:xfrm>
            <a:prstGeom prst="ellipse">
              <a:avLst/>
            </a:prstGeom>
            <a:solidFill>
              <a:srgbClr val="f9d1d3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ctual hou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Quick Check </a:t>
            </a:r>
            <a:r>
              <a:rPr b="0" lang="en-US" sz="28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838080" y="1219320"/>
            <a:ext cx="7467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4a76"/>
                </a:solidFill>
                <a:latin typeface="Arial"/>
              </a:rPr>
              <a:t>Foster City has an ambulance service that is used by the two public hospitals in the city. Variable ambulance costs are budgeted at $4.20 per mile.  Fixed ambulance costs are budgeted at $120,000 per year.  Data relating to the current year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2"/>
          <p:cNvGraphicFramePr/>
          <p:nvPr/>
        </p:nvGraphicFramePr>
        <p:xfrm>
          <a:off x="571680" y="3276720"/>
          <a:ext cx="7986600" cy="302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3276720"/>
                    <a:ext cx="7986600" cy="30207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checker dir="horz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Quick Check </a:t>
            </a:r>
            <a:r>
              <a:rPr b="0" lang="en-US" sz="28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563840"/>
            <a:ext cx="8229600" cy="4760640"/>
          </a:xfrm>
          <a:prstGeom prst="rect">
            <a:avLst/>
          </a:prstGeom>
          <a:solidFill>
            <a:srgbClr val="edecd2"/>
          </a:solidFill>
          <a:ln w="38160">
            <a:solidFill>
              <a:srgbClr val="0000cc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r" pos="5487840"/>
                <a:tab algn="r" pos="7256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w much ambulance service cost will be allocated to Mercy Hospital at the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Arial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f the y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tabLst>
                <a:tab algn="l" pos="0"/>
                <a:tab algn="r" pos="5487840"/>
                <a:tab algn="r" pos="7256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. $121,200</a:t>
            </a:r>
            <a:endParaRPr b="0" lang="en-US" sz="28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tabLst>
                <a:tab algn="l" pos="0"/>
                <a:tab algn="r" pos="5487840"/>
                <a:tab algn="r" pos="7256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. $254,400</a:t>
            </a:r>
            <a:endParaRPr b="0" lang="en-US" sz="28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tabLst>
                <a:tab algn="l" pos="0"/>
                <a:tab algn="r" pos="5487840"/>
                <a:tab algn="r" pos="7256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. $139,500</a:t>
            </a:r>
            <a:endParaRPr b="0" lang="en-US" sz="28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tabLst>
                <a:tab algn="l" pos="0"/>
                <a:tab algn="r" pos="5487840"/>
                <a:tab algn="r" pos="7256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. $117,000</a:t>
            </a:r>
            <a:endParaRPr b="0" lang="en-US" sz="2800" spc="-1" strike="noStrike">
              <a:solidFill>
                <a:srgbClr val="da1f28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Quick Check </a:t>
            </a:r>
            <a:r>
              <a:rPr b="0" lang="en-US" sz="28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63840"/>
            <a:ext cx="8229600" cy="4760640"/>
          </a:xfrm>
          <a:prstGeom prst="rect">
            <a:avLst/>
          </a:prstGeom>
          <a:solidFill>
            <a:srgbClr val="edecd2"/>
          </a:solidFill>
          <a:ln w="38160">
            <a:solidFill>
              <a:srgbClr val="0000cc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r" pos="5487840"/>
                <a:tab algn="r" pos="7256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w much ambulance service cost will be allocated to Mercy Hospital at the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Arial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f the y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tabLst>
                <a:tab algn="l" pos="0"/>
                <a:tab algn="r" pos="5487840"/>
                <a:tab algn="r" pos="7256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. $121,200</a:t>
            </a:r>
            <a:endParaRPr b="0" lang="en-US" sz="28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tabLst>
                <a:tab algn="l" pos="0"/>
                <a:tab algn="r" pos="5487840"/>
                <a:tab algn="r" pos="7256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5b5b5"/>
                </a:solidFill>
                <a:latin typeface="Arial"/>
                <a:ea typeface="Arial"/>
              </a:rPr>
              <a:t>b. $254,400</a:t>
            </a:r>
            <a:endParaRPr b="0" lang="en-US" sz="28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tabLst>
                <a:tab algn="l" pos="0"/>
                <a:tab algn="r" pos="5487840"/>
                <a:tab algn="r" pos="7256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5b5b5"/>
                </a:solidFill>
                <a:latin typeface="Arial"/>
                <a:ea typeface="Arial"/>
              </a:rPr>
              <a:t>c. $139,500</a:t>
            </a:r>
            <a:endParaRPr b="0" lang="en-US" sz="28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tabLst>
                <a:tab algn="l" pos="0"/>
                <a:tab algn="r" pos="5487840"/>
                <a:tab algn="r" pos="7256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5b5b5"/>
                </a:solidFill>
                <a:latin typeface="Arial"/>
                <a:ea typeface="Arial"/>
              </a:rPr>
              <a:t>d. $117,000</a:t>
            </a:r>
            <a:endParaRPr b="0" lang="en-US" sz="2800" spc="-1" strike="noStrike">
              <a:solidFill>
                <a:srgbClr val="da1f28"/>
              </a:solidFill>
              <a:latin typeface="Arial"/>
            </a:endParaRPr>
          </a:p>
        </p:txBody>
      </p:sp>
      <p:sp>
        <p:nvSpPr>
          <p:cNvPr id="173" name="Oval 4"/>
          <p:cNvSpPr/>
          <p:nvPr/>
        </p:nvSpPr>
        <p:spPr>
          <a:xfrm>
            <a:off x="701640" y="2666880"/>
            <a:ext cx="635040" cy="6350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2"/>
          <p:cNvGraphicFramePr/>
          <p:nvPr/>
        </p:nvGraphicFramePr>
        <p:xfrm>
          <a:off x="990720" y="3581280"/>
          <a:ext cx="7242120" cy="279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581280"/>
                    <a:ext cx="7242120" cy="279900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76" name="Group 6"/>
          <p:cNvGrpSpPr/>
          <p:nvPr/>
        </p:nvGrpSpPr>
        <p:grpSpPr>
          <a:xfrm>
            <a:off x="2819520" y="3124080"/>
            <a:ext cx="3811320" cy="3352680"/>
            <a:chOff x="2819520" y="3124080"/>
            <a:chExt cx="3811320" cy="3352680"/>
          </a:xfrm>
        </p:grpSpPr>
        <p:sp>
          <p:nvSpPr>
            <p:cNvPr id="177" name="Oval 7"/>
            <p:cNvSpPr/>
            <p:nvPr/>
          </p:nvSpPr>
          <p:spPr>
            <a:xfrm>
              <a:off x="4802040" y="5714640"/>
              <a:ext cx="1828800" cy="76212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8"/>
            <p:cNvSpPr/>
            <p:nvPr/>
          </p:nvSpPr>
          <p:spPr>
            <a:xfrm flipH="1" flipV="1">
              <a:off x="2819520" y="3124080"/>
              <a:ext cx="2668320" cy="25905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2"/>
          <p:cNvSpPr/>
          <p:nvPr/>
        </p:nvSpPr>
        <p:spPr>
          <a:xfrm>
            <a:off x="601560" y="1555920"/>
            <a:ext cx="3513240" cy="2635200"/>
          </a:xfrm>
          <a:prstGeom prst="octagon">
            <a:avLst>
              <a:gd name="adj" fmla="val 29282"/>
            </a:avLst>
          </a:prstGeom>
          <a:solidFill>
            <a:srgbClr val="eaeaea"/>
          </a:solidFill>
          <a:ln w="255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601560" y="1905120"/>
            <a:ext cx="351324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a1f28"/>
                </a:solidFill>
                <a:latin typeface="Arial"/>
              </a:rPr>
              <a:t>Allocating fixed</a:t>
            </a:r>
            <a:br>
              <a:rPr sz="2400"/>
            </a:br>
            <a:r>
              <a:rPr b="1" lang="en-US" sz="2400" spc="-1" strike="noStrike">
                <a:solidFill>
                  <a:srgbClr val="da1f28"/>
                </a:solidFill>
                <a:latin typeface="Arial"/>
              </a:rPr>
              <a:t> costs using a variable</a:t>
            </a:r>
            <a:br>
              <a:rPr sz="2400"/>
            </a:br>
            <a:r>
              <a:rPr b="1" lang="en-US" sz="2400" spc="-1" strike="noStrike">
                <a:solidFill>
                  <a:srgbClr val="da1f28"/>
                </a:solidFill>
                <a:latin typeface="Arial"/>
              </a:rPr>
              <a:t>allocation base that fluctuates period to peri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Pitfalls in Allocating Fixed Cost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182" name="Group 5" descr=""/>
          <p:cNvPicPr/>
          <p:nvPr/>
        </p:nvPicPr>
        <p:blipFill>
          <a:blip r:embed="rId1"/>
          <a:stretch/>
        </p:blipFill>
        <p:spPr>
          <a:xfrm>
            <a:off x="4559400" y="2584440"/>
            <a:ext cx="4078080" cy="32986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"/>
          <p:cNvPicPr/>
          <p:nvPr/>
        </p:nvPicPr>
        <p:blipFill>
          <a:blip r:embed="rId2"/>
          <a:stretch/>
        </p:blipFill>
        <p:spPr>
          <a:xfrm>
            <a:off x="1433520" y="4694400"/>
            <a:ext cx="1849320" cy="1635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2"/>
          <p:cNvSpPr/>
          <p:nvPr/>
        </p:nvSpPr>
        <p:spPr>
          <a:xfrm>
            <a:off x="601560" y="1571760"/>
            <a:ext cx="3513240" cy="2635200"/>
          </a:xfrm>
          <a:prstGeom prst="octagon">
            <a:avLst>
              <a:gd name="adj" fmla="val 29282"/>
            </a:avLst>
          </a:prstGeom>
          <a:solidFill>
            <a:srgbClr val="f9d1d3"/>
          </a:solidFill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123920" y="2260440"/>
            <a:ext cx="2468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sal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llars as a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cation 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Pitfalls in Allocating Fixed Cost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187" name="Group 5"/>
          <p:cNvGrpSpPr/>
          <p:nvPr/>
        </p:nvGrpSpPr>
        <p:grpSpPr>
          <a:xfrm>
            <a:off x="4648320" y="2936880"/>
            <a:ext cx="3860640" cy="3022560"/>
            <a:chOff x="4648320" y="2936880"/>
            <a:chExt cx="3860640" cy="3022560"/>
          </a:xfrm>
        </p:grpSpPr>
        <p:sp>
          <p:nvSpPr>
            <p:cNvPr id="188" name="AutoShape 6"/>
            <p:cNvSpPr/>
            <p:nvPr/>
          </p:nvSpPr>
          <p:spPr>
            <a:xfrm>
              <a:off x="4648320" y="2936880"/>
              <a:ext cx="3860640" cy="3022560"/>
            </a:xfrm>
            <a:prstGeom prst="octagon">
              <a:avLst>
                <a:gd name="adj" fmla="val 29282"/>
              </a:avLst>
            </a:prstGeom>
            <a:solidFill>
              <a:srgbClr val="fbe0d1"/>
            </a:solidFill>
            <a:ln w="25560">
              <a:solidFill>
                <a:srgbClr val="6d10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7"/>
            <p:cNvSpPr/>
            <p:nvPr/>
          </p:nvSpPr>
          <p:spPr>
            <a:xfrm>
              <a:off x="4712760" y="3701880"/>
              <a:ext cx="3721680" cy="19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ales of one department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fluence the servic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partment costs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llocated to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partment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0" name="Picture 8" descr=""/>
          <p:cNvPicPr/>
          <p:nvPr/>
        </p:nvPicPr>
        <p:blipFill>
          <a:blip r:embed="rId1"/>
          <a:stretch/>
        </p:blipFill>
        <p:spPr>
          <a:xfrm>
            <a:off x="1433520" y="4694400"/>
            <a:ext cx="1849320" cy="1635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Autos R Us – An Example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353880" y="1600200"/>
            <a:ext cx="8409240" cy="2653560"/>
          </a:xfrm>
          <a:prstGeom prst="rect">
            <a:avLst/>
          </a:prstGeom>
          <a:solidFill>
            <a:srgbClr val="d3eef5"/>
          </a:solidFill>
          <a:ln w="28440">
            <a:solidFill>
              <a:srgbClr val="000000"/>
            </a:solidFill>
            <a:miter/>
          </a:ln>
          <a:effectLst>
            <a:outerShdw dist="89604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s R Us has one service department and three sales departments, New Cars, Used Cars, and Car Parts. The service department costs total $80,000 for both years in the example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ry to good practice, Autos R Us allocates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department costs based on s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" descr=""/>
          <p:cNvPicPr/>
          <p:nvPr/>
        </p:nvPicPr>
        <p:blipFill>
          <a:blip r:embed="rId1"/>
          <a:stretch/>
        </p:blipFill>
        <p:spPr>
          <a:xfrm>
            <a:off x="2590920" y="4419720"/>
            <a:ext cx="3568680" cy="23875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Autos R Us – First-year Allocation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195" name="Object 2"/>
          <p:cNvGraphicFramePr/>
          <p:nvPr/>
        </p:nvGraphicFramePr>
        <p:xfrm>
          <a:off x="90360" y="1771560"/>
          <a:ext cx="8993160" cy="186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60" y="1771560"/>
                    <a:ext cx="8993160" cy="18669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97" name="Group 4"/>
          <p:cNvGrpSpPr/>
          <p:nvPr/>
        </p:nvGrpSpPr>
        <p:grpSpPr>
          <a:xfrm>
            <a:off x="400680" y="2649600"/>
            <a:ext cx="3866400" cy="1977480"/>
            <a:chOff x="400680" y="2649600"/>
            <a:chExt cx="3866400" cy="1977480"/>
          </a:xfrm>
        </p:grpSpPr>
        <p:sp>
          <p:nvSpPr>
            <p:cNvPr id="198" name="AutoShape 5"/>
            <p:cNvSpPr/>
            <p:nvPr/>
          </p:nvSpPr>
          <p:spPr>
            <a:xfrm>
              <a:off x="3429000" y="2649600"/>
              <a:ext cx="838080" cy="3366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6"/>
            <p:cNvSpPr/>
            <p:nvPr/>
          </p:nvSpPr>
          <p:spPr>
            <a:xfrm flipV="1">
              <a:off x="1523880" y="2795400"/>
              <a:ext cx="1905120" cy="1523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7"/>
            <p:cNvSpPr/>
            <p:nvPr/>
          </p:nvSpPr>
          <p:spPr>
            <a:xfrm>
              <a:off x="400680" y="4167360"/>
              <a:ext cx="3566880" cy="45972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$1,500,000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÷ $3,000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8"/>
          <p:cNvGrpSpPr/>
          <p:nvPr/>
        </p:nvGrpSpPr>
        <p:grpSpPr>
          <a:xfrm>
            <a:off x="3276720" y="3214800"/>
            <a:ext cx="3928680" cy="1383480"/>
            <a:chOff x="3276720" y="3214800"/>
            <a:chExt cx="3928680" cy="1383480"/>
          </a:xfrm>
        </p:grpSpPr>
        <p:sp>
          <p:nvSpPr>
            <p:cNvPr id="202" name="AutoShape 9"/>
            <p:cNvSpPr/>
            <p:nvPr/>
          </p:nvSpPr>
          <p:spPr>
            <a:xfrm>
              <a:off x="3276720" y="3214800"/>
              <a:ext cx="838080" cy="3366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0"/>
            <p:cNvSpPr/>
            <p:nvPr/>
          </p:nvSpPr>
          <p:spPr>
            <a:xfrm flipH="1" flipV="1">
              <a:off x="4038480" y="3580920"/>
              <a:ext cx="1447920" cy="73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1"/>
            <p:cNvSpPr/>
            <p:nvPr/>
          </p:nvSpPr>
          <p:spPr>
            <a:xfrm>
              <a:off x="4889520" y="4138560"/>
              <a:ext cx="2315880" cy="45972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% of $80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12"/>
          <p:cNvSpPr/>
          <p:nvPr/>
        </p:nvSpPr>
        <p:spPr>
          <a:xfrm>
            <a:off x="267120" y="5219640"/>
            <a:ext cx="8617680" cy="1557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next year, the manager of the New Cars departm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sales by $500,000.  Sales in the other departm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unchanged.  Let’s allocate the $80,000 service departm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for the second year given the sales incr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Learning Objective 6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1905120" y="2309760"/>
            <a:ext cx="5333760" cy="2164680"/>
          </a:xfrm>
          <a:prstGeom prst="rect">
            <a:avLst/>
          </a:prstGeom>
          <a:solidFill>
            <a:srgbClr val="ffffff"/>
          </a:solidFill>
          <a:ln w="76320">
            <a:solidFill>
              <a:srgbClr val="3f1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e2d37"/>
                </a:solidFill>
                <a:latin typeface="Arial"/>
              </a:rPr>
              <a:t>Charge operating departments for services provided by service department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Autos R Us – Second-year Allocation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207" name="Object 2"/>
          <p:cNvGraphicFramePr/>
          <p:nvPr/>
        </p:nvGraphicFramePr>
        <p:xfrm>
          <a:off x="98280" y="2151000"/>
          <a:ext cx="8955360" cy="180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280" y="2151000"/>
                    <a:ext cx="8955360" cy="18082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09" name="Group 4"/>
          <p:cNvGrpSpPr/>
          <p:nvPr/>
        </p:nvGrpSpPr>
        <p:grpSpPr>
          <a:xfrm>
            <a:off x="502560" y="3048120"/>
            <a:ext cx="3866400" cy="1907280"/>
            <a:chOff x="502560" y="3048120"/>
            <a:chExt cx="3866400" cy="1907280"/>
          </a:xfrm>
        </p:grpSpPr>
        <p:sp>
          <p:nvSpPr>
            <p:cNvPr id="210" name="AutoShape 5"/>
            <p:cNvSpPr/>
            <p:nvPr/>
          </p:nvSpPr>
          <p:spPr>
            <a:xfrm>
              <a:off x="3530880" y="3048120"/>
              <a:ext cx="838080" cy="3366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6"/>
            <p:cNvSpPr/>
            <p:nvPr/>
          </p:nvSpPr>
          <p:spPr>
            <a:xfrm flipV="1">
              <a:off x="1625760" y="3124080"/>
              <a:ext cx="1905120" cy="1524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7"/>
            <p:cNvSpPr/>
            <p:nvPr/>
          </p:nvSpPr>
          <p:spPr>
            <a:xfrm>
              <a:off x="502560" y="4495680"/>
              <a:ext cx="3566880" cy="459720"/>
            </a:xfrm>
            <a:prstGeom prst="rect">
              <a:avLst/>
            </a:prstGeom>
            <a:solidFill>
              <a:srgbClr val="ffcc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$2,000,000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÷ $3,500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8"/>
          <p:cNvGrpSpPr/>
          <p:nvPr/>
        </p:nvGrpSpPr>
        <p:grpSpPr>
          <a:xfrm>
            <a:off x="3454560" y="3543480"/>
            <a:ext cx="3852360" cy="1383480"/>
            <a:chOff x="3454560" y="3543480"/>
            <a:chExt cx="3852360" cy="1383480"/>
          </a:xfrm>
        </p:grpSpPr>
        <p:sp>
          <p:nvSpPr>
            <p:cNvPr id="214" name="AutoShape 9"/>
            <p:cNvSpPr/>
            <p:nvPr/>
          </p:nvSpPr>
          <p:spPr>
            <a:xfrm>
              <a:off x="3454560" y="3543480"/>
              <a:ext cx="838080" cy="3362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0"/>
            <p:cNvSpPr/>
            <p:nvPr/>
          </p:nvSpPr>
          <p:spPr>
            <a:xfrm flipH="1" flipV="1">
              <a:off x="4139640" y="3809520"/>
              <a:ext cx="1447560" cy="838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11"/>
            <p:cNvSpPr/>
            <p:nvPr/>
          </p:nvSpPr>
          <p:spPr>
            <a:xfrm>
              <a:off x="4991040" y="4467240"/>
              <a:ext cx="2315880" cy="459720"/>
            </a:xfrm>
            <a:prstGeom prst="rect">
              <a:avLst/>
            </a:prstGeom>
            <a:solidFill>
              <a:srgbClr val="ffcc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7% of $80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12"/>
          <p:cNvSpPr/>
          <p:nvPr/>
        </p:nvSpPr>
        <p:spPr>
          <a:xfrm>
            <a:off x="52560" y="5505480"/>
            <a:ext cx="9047160" cy="119124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  <a:effectLst>
            <a:outerShdw dist="71785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were the manager of the New Cars department, you would likely complain about the increased service departm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s allocated to your depart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End of Appendix 11B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219" name="Picture 9" descr="C:\Users\DoddandSusan\AppData\Local\Microsoft\Windows\Temporary Internet Files\Content.IE5\0O2E4X0N\MP900442212[1].jpg"/>
          <p:cNvPicPr/>
          <p:nvPr/>
        </p:nvPicPr>
        <p:blipFill>
          <a:blip r:embed="rId1"/>
          <a:stretch/>
        </p:blipFill>
        <p:spPr>
          <a:xfrm>
            <a:off x="2819520" y="1600200"/>
            <a:ext cx="3251160" cy="4876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Service Department Charge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533520" y="1752480"/>
            <a:ext cx="3047760" cy="152424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f"/>
                </a:solidFill>
                <a:latin typeface="Arial"/>
              </a:rPr>
              <a:t>Operating Depar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533520" y="3962520"/>
            <a:ext cx="3047760" cy="190476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f"/>
                </a:solidFill>
                <a:latin typeface="Arial"/>
              </a:rPr>
              <a:t>Carry out central purposes of organiz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5715000" y="1752480"/>
            <a:ext cx="3048120" cy="1524240"/>
          </a:xfrm>
          <a:prstGeom prst="rect">
            <a:avLst/>
          </a:prstGeom>
          <a:solidFill>
            <a:srgbClr val="ffe8d1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rvice Depar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5715000" y="3962520"/>
            <a:ext cx="3048120" cy="1904760"/>
          </a:xfrm>
          <a:prstGeom prst="rect">
            <a:avLst/>
          </a:prstGeom>
          <a:solidFill>
            <a:srgbClr val="ffe8d1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Do not directly engage in operating activit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AutoShape 13"/>
          <p:cNvCxnSpPr>
            <a:stCxn id="99" idx="2"/>
            <a:endCxn id="100" idx="0"/>
          </p:cNvCxnSpPr>
          <p:nvPr/>
        </p:nvCxnSpPr>
        <p:spPr>
          <a:xfrm>
            <a:off x="2057040" y="3276360"/>
            <a:ext cx="1080" cy="686520"/>
          </a:xfrm>
          <a:prstGeom prst="straightConnector1">
            <a:avLst/>
          </a:prstGeom>
          <a:ln w="57240">
            <a:solidFill>
              <a:srgbClr val="464646"/>
            </a:solidFill>
            <a:miter/>
            <a:tailEnd len="med" type="triangle" w="med"/>
          </a:ln>
        </p:spPr>
      </p:cxnSp>
      <p:cxnSp>
        <p:nvCxnSpPr>
          <p:cNvPr id="104" name="AutoShape 14"/>
          <p:cNvCxnSpPr>
            <a:stCxn id="101" idx="2"/>
            <a:endCxn id="102" idx="0"/>
          </p:cNvCxnSpPr>
          <p:nvPr/>
        </p:nvCxnSpPr>
        <p:spPr>
          <a:xfrm>
            <a:off x="7238520" y="3276360"/>
            <a:ext cx="1080" cy="686520"/>
          </a:xfrm>
          <a:prstGeom prst="straightConnector1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</p:cxnSp>
      <p:pic>
        <p:nvPicPr>
          <p:cNvPr id="105" name="Picture 15" descr="WOMSEATD"/>
          <p:cNvPicPr/>
          <p:nvPr/>
        </p:nvPicPr>
        <p:blipFill>
          <a:blip r:embed="rId1"/>
          <a:stretch/>
        </p:blipFill>
        <p:spPr>
          <a:xfrm>
            <a:off x="3408480" y="4892760"/>
            <a:ext cx="2535120" cy="18889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Reasons for Charging Service Department Cost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7" name="AutoShape 3"/>
          <p:cNvSpPr/>
          <p:nvPr/>
        </p:nvSpPr>
        <p:spPr>
          <a:xfrm>
            <a:off x="647640" y="2781360"/>
            <a:ext cx="3429000" cy="1747800"/>
          </a:xfrm>
          <a:prstGeom prst="roundRect">
            <a:avLst>
              <a:gd name="adj" fmla="val 16667"/>
            </a:avLst>
          </a:prstGeom>
          <a:solidFill>
            <a:srgbClr val="d4dfef"/>
          </a:solidFill>
          <a:ln w="28440">
            <a:solidFill>
              <a:srgbClr val="000000"/>
            </a:solidFill>
            <a:miter/>
          </a:ln>
          <a:effectLst>
            <a:outerShdw dist="53966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encourage operating departments to wisely use service department resour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5219640" y="2781360"/>
            <a:ext cx="3429000" cy="1747800"/>
          </a:xfrm>
          <a:prstGeom prst="roundRect">
            <a:avLst>
              <a:gd name="adj" fmla="val 16667"/>
            </a:avLst>
          </a:prstGeom>
          <a:solidFill>
            <a:srgbClr val="f9d1d3"/>
          </a:solidFill>
          <a:ln w="28440">
            <a:solidFill>
              <a:srgbClr val="000000"/>
            </a:solidFill>
            <a:miter/>
          </a:ln>
          <a:effectLst>
            <a:outerShdw dist="53966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ovide operating departments with more complete cost data for making deci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647640" y="4762440"/>
            <a:ext cx="3429000" cy="18669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  <a:effectLst>
            <a:outerShdw dist="53966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help measure the profitability of operating depart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5219640" y="4762440"/>
            <a:ext cx="3429000" cy="1866960"/>
          </a:xfrm>
          <a:prstGeom prst="roundRect">
            <a:avLst>
              <a:gd name="adj" fmla="val 16667"/>
            </a:avLst>
          </a:prstGeom>
          <a:solidFill>
            <a:srgbClr val="fbe0d1"/>
          </a:solidFill>
          <a:ln w="28440">
            <a:solidFill>
              <a:srgbClr val="000000"/>
            </a:solidFill>
            <a:miter/>
          </a:ln>
          <a:effectLst>
            <a:outerShdw dist="53966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create an incentive for service departments to operate effici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533520" y="173052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rvice department costs are charged to operating departments for a variety of reasons incl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2"/>
          <p:cNvGrpSpPr/>
          <p:nvPr/>
        </p:nvGrpSpPr>
        <p:grpSpPr>
          <a:xfrm>
            <a:off x="2517480" y="5227560"/>
            <a:ext cx="4059360" cy="1235880"/>
            <a:chOff x="2517480" y="5227560"/>
            <a:chExt cx="4059360" cy="1235880"/>
          </a:xfrm>
        </p:grpSpPr>
        <p:cxnSp>
          <p:nvCxnSpPr>
            <p:cNvPr id="113" name="AutoShape 3"/>
            <p:cNvCxnSpPr>
              <a:stCxn id="114" idx="3"/>
              <a:endCxn id="115" idx="1"/>
            </p:cNvCxnSpPr>
            <p:nvPr/>
          </p:nvCxnSpPr>
          <p:spPr>
            <a:xfrm>
              <a:off x="2517480" y="5946120"/>
              <a:ext cx="4059720" cy="1044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16" name="Group 4"/>
            <p:cNvGrpSpPr/>
            <p:nvPr/>
          </p:nvGrpSpPr>
          <p:grpSpPr>
            <a:xfrm>
              <a:off x="3382920" y="5227560"/>
              <a:ext cx="2361960" cy="1235880"/>
              <a:chOff x="3382920" y="5227560"/>
              <a:chExt cx="2361960" cy="1235880"/>
            </a:xfrm>
          </p:grpSpPr>
          <p:graphicFrame>
            <p:nvGraphicFramePr>
              <p:cNvPr id="117" name="Object 2"/>
              <p:cNvGraphicFramePr/>
              <p:nvPr/>
            </p:nvGraphicFramePr>
            <p:xfrm>
              <a:off x="3382920" y="5227560"/>
              <a:ext cx="2361960" cy="12358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18" name="Object 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382920" y="5227560"/>
                        <a:ext cx="2361960" cy="1235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9" name="Rectangle 6"/>
              <p:cNvSpPr/>
              <p:nvPr/>
            </p:nvSpPr>
            <p:spPr>
              <a:xfrm>
                <a:off x="5151240" y="5356080"/>
                <a:ext cx="378000" cy="91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ffffff"/>
                    </a:solidFill>
                    <a:latin typeface="Arial"/>
                  </a:rPr>
                  <a:t>$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Transfer Price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121" name="Group 8"/>
          <p:cNvGrpSpPr/>
          <p:nvPr/>
        </p:nvGrpSpPr>
        <p:grpSpPr>
          <a:xfrm>
            <a:off x="6563520" y="5435640"/>
            <a:ext cx="2205360" cy="1041120"/>
            <a:chOff x="6563520" y="5435640"/>
            <a:chExt cx="2205360" cy="1041120"/>
          </a:xfrm>
        </p:grpSpPr>
        <p:sp>
          <p:nvSpPr>
            <p:cNvPr id="115" name="AutoShape 9"/>
            <p:cNvSpPr/>
            <p:nvPr/>
          </p:nvSpPr>
          <p:spPr>
            <a:xfrm>
              <a:off x="6576840" y="5435640"/>
              <a:ext cx="2179080" cy="1041120"/>
            </a:xfrm>
            <a:prstGeom prst="roundRect">
              <a:avLst>
                <a:gd name="adj" fmla="val 12495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da1f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0"/>
            <p:cNvSpPr/>
            <p:nvPr/>
          </p:nvSpPr>
          <p:spPr>
            <a:xfrm>
              <a:off x="6563520" y="5518080"/>
              <a:ext cx="2205360" cy="8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Operating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Departmen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11"/>
          <p:cNvGrpSpPr/>
          <p:nvPr/>
        </p:nvGrpSpPr>
        <p:grpSpPr>
          <a:xfrm>
            <a:off x="315000" y="5423040"/>
            <a:ext cx="2205360" cy="1041120"/>
            <a:chOff x="315000" y="5423040"/>
            <a:chExt cx="2205360" cy="1041120"/>
          </a:xfrm>
        </p:grpSpPr>
        <p:sp>
          <p:nvSpPr>
            <p:cNvPr id="124" name="AutoShape 12"/>
            <p:cNvSpPr/>
            <p:nvPr/>
          </p:nvSpPr>
          <p:spPr>
            <a:xfrm>
              <a:off x="328680" y="5423040"/>
              <a:ext cx="2179800" cy="1041120"/>
            </a:xfrm>
            <a:prstGeom prst="roundRect">
              <a:avLst>
                <a:gd name="adj" fmla="val 12495"/>
              </a:avLst>
            </a:prstGeom>
            <a:solidFill>
              <a:srgbClr val="f3a276"/>
            </a:solidFill>
            <a:ln w="25560">
              <a:solidFill>
                <a:srgbClr val="da1f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3"/>
            <p:cNvSpPr/>
            <p:nvPr/>
          </p:nvSpPr>
          <p:spPr>
            <a:xfrm>
              <a:off x="315000" y="5505480"/>
              <a:ext cx="2205360" cy="8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Departmen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14"/>
          <p:cNvSpPr/>
          <p:nvPr/>
        </p:nvSpPr>
        <p:spPr>
          <a:xfrm>
            <a:off x="444600" y="1646280"/>
            <a:ext cx="8229600" cy="3352680"/>
          </a:xfrm>
          <a:prstGeom prst="rect">
            <a:avLst/>
          </a:prstGeom>
          <a:solidFill>
            <a:srgbClr val="7f7f7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ervice department charges considered in this appendix can be viewed as a transfer price that is charged for services provided by service departments to operating department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harging Costs by Behavior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7" name="Oval 3"/>
          <p:cNvSpPr/>
          <p:nvPr/>
        </p:nvSpPr>
        <p:spPr>
          <a:xfrm>
            <a:off x="1981080" y="1714680"/>
            <a:ext cx="5181840" cy="3429000"/>
          </a:xfrm>
          <a:prstGeom prst="ellipse">
            <a:avLst/>
          </a:prstGeom>
          <a:solidFill>
            <a:srgbClr val="da1f2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ever possible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iable and fixed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ice department cost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be charged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arat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2"/>
          <p:cNvGraphicFramePr/>
          <p:nvPr/>
        </p:nvGraphicFramePr>
        <p:xfrm>
          <a:off x="457200" y="4869000"/>
          <a:ext cx="3376440" cy="176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869000"/>
                    <a:ext cx="3376440" cy="17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Oval 2"/>
          <p:cNvSpPr/>
          <p:nvPr/>
        </p:nvSpPr>
        <p:spPr>
          <a:xfrm>
            <a:off x="838080" y="1614600"/>
            <a:ext cx="7467840" cy="3695760"/>
          </a:xfrm>
          <a:prstGeom prst="ellipse">
            <a:avLst/>
          </a:prstGeom>
          <a:solidFill>
            <a:srgbClr val="ead3d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Variabl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rvic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partment costs should b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ged to consuming department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ording to whatever activity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uses the incurrenc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the c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harging Costs by Behavior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457200" y="4869000"/>
          <a:ext cx="3376440" cy="176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869000"/>
                    <a:ext cx="3376440" cy="17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343080" y="1600200"/>
            <a:ext cx="8458200" cy="2666880"/>
          </a:xfrm>
          <a:prstGeom prst="rect">
            <a:avLst/>
          </a:prstGeom>
          <a:solidFill>
            <a:srgbClr val="d4dfef"/>
          </a:solidFill>
          <a:ln w="28440">
            <a:solidFill>
              <a:srgbClr val="000000"/>
            </a:solidFill>
            <a:miter/>
          </a:ln>
          <a:effectLst>
            <a:outerShdw dist="89604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ge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fix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rvice department costs to consuming departments in predetermined lump-sum amounts that are based on the consuming department’s peak-period or  long-run average servicing need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80880" y="5181480"/>
            <a:ext cx="3581640" cy="1295640"/>
          </a:xfrm>
          <a:prstGeom prst="rect">
            <a:avLst/>
          </a:prstGeom>
          <a:solidFill>
            <a:srgbClr val="7f7f7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based on amounts of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ty each consum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artment requ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5181480" y="5181480"/>
            <a:ext cx="3581640" cy="1295640"/>
          </a:xfrm>
          <a:prstGeom prst="rect">
            <a:avLst/>
          </a:prstGeom>
          <a:solidFill>
            <a:srgbClr val="7f7f7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uld not vary fro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od to peri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5"/>
          <p:cNvGrpSpPr/>
          <p:nvPr/>
        </p:nvGrpSpPr>
        <p:grpSpPr>
          <a:xfrm>
            <a:off x="2171160" y="4267080"/>
            <a:ext cx="4801680" cy="914760"/>
            <a:chOff x="2171160" y="4267080"/>
            <a:chExt cx="4801680" cy="914760"/>
          </a:xfrm>
        </p:grpSpPr>
        <p:cxnSp>
          <p:nvCxnSpPr>
            <p:cNvPr id="138" name="AutoShape 6"/>
            <p:cNvCxnSpPr>
              <a:stCxn id="134" idx="2"/>
              <a:endCxn id="135" idx="0"/>
            </p:cNvCxnSpPr>
            <p:nvPr/>
          </p:nvCxnSpPr>
          <p:spPr>
            <a:xfrm rot="5400000">
              <a:off x="2913840" y="3524040"/>
              <a:ext cx="915120" cy="2400840"/>
            </a:xfrm>
            <a:prstGeom prst="bentConnector3">
              <a:avLst>
                <a:gd name="adj1" fmla="val 49980"/>
              </a:avLst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AutoShape 7"/>
            <p:cNvCxnSpPr>
              <a:stCxn id="134" idx="2"/>
              <a:endCxn id="136" idx="0"/>
            </p:cNvCxnSpPr>
            <p:nvPr/>
          </p:nvCxnSpPr>
          <p:spPr>
            <a:xfrm flipH="1" rot="16200000">
              <a:off x="5315040" y="3523680"/>
              <a:ext cx="915120" cy="2401200"/>
            </a:xfrm>
            <a:prstGeom prst="bentConnector3">
              <a:avLst>
                <a:gd name="adj1" fmla="val 49980"/>
              </a:avLst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harging Costs by Behavior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Should Actual or Budgeted Costs Be Charged?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2" name="Oval 4"/>
          <p:cNvSpPr/>
          <p:nvPr/>
        </p:nvSpPr>
        <p:spPr>
          <a:xfrm>
            <a:off x="1498680" y="1979640"/>
            <a:ext cx="6146640" cy="3009960"/>
          </a:xfrm>
          <a:prstGeom prst="ellipse">
            <a:avLst/>
          </a:prstGeom>
          <a:solidFill>
            <a:srgbClr val="f9d1d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Budget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riabl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fixed service departmen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s should be charged to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 depart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bject 2"/>
          <p:cNvGraphicFramePr/>
          <p:nvPr/>
        </p:nvGraphicFramePr>
        <p:xfrm>
          <a:off x="457200" y="4869000"/>
          <a:ext cx="3376440" cy="176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869000"/>
                    <a:ext cx="3376440" cy="17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13:55:57Z</dcterms:created>
  <dc:creator>Jon A. Booker</dc:creator>
  <dc:description/>
  <dc:language>en-US</dc:language>
  <cp:lastModifiedBy>Balaji Venkatrao</cp:lastModifiedBy>
  <dcterms:modified xsi:type="dcterms:W3CDTF">2013-11-13T12:42:55Z</dcterms:modified>
  <cp:revision>287</cp:revision>
  <dc:subject/>
  <dc:title>Chapter Title</dc:title>
</cp:coreProperties>
</file>