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6.png" ContentType="image/png"/>
  <Override PartName="/ppt/media/image15.png" ContentType="image/png"/>
  <Override PartName="/ppt/media/image5.png" ContentType="image/png"/>
  <Override PartName="/ppt/media/image35.png" ContentType="image/png"/>
  <Override PartName="/ppt/media/image28.wmf" ContentType="image/x-wmf"/>
  <Override PartName="/ppt/media/image10.png" ContentType="image/png"/>
  <Override PartName="/ppt/media/image1.jpeg" ContentType="image/jpeg"/>
  <Override PartName="/ppt/media/image25.wmf" ContentType="image/x-wmf"/>
  <Override PartName="/ppt/media/image17.wmf" ContentType="image/x-wmf"/>
  <Override PartName="/ppt/media/image9.png" ContentType="image/png"/>
  <Override PartName="/ppt/media/image42.wmf" ContentType="image/x-wmf"/>
  <Override PartName="/ppt/media/image37.wmf" ContentType="image/x-wmf"/>
  <Override PartName="/ppt/media/image46.jpeg" ContentType="image/jpeg"/>
  <Override PartName="/ppt/media/image38.wmf" ContentType="image/x-wmf"/>
  <Override PartName="/ppt/media/image39.wmf" ContentType="image/x-wmf"/>
  <Override PartName="/ppt/media/image31.wmf" ContentType="image/x-wmf"/>
  <Override PartName="/ppt/media/image11.png" ContentType="image/png"/>
  <Override PartName="/ppt/media/image29.wmf" ContentType="image/x-wmf"/>
  <Override PartName="/ppt/media/image32.png" ContentType="image/png"/>
  <Override PartName="/ppt/media/image40.wmf" ContentType="image/x-wmf"/>
  <Override PartName="/ppt/media/image7.png" ContentType="image/png"/>
  <Override PartName="/ppt/media/image43.wmf" ContentType="image/x-wmf"/>
  <Override PartName="/ppt/media/image45.wmf" ContentType="image/x-wmf"/>
  <Override PartName="/ppt/media/image33.png" ContentType="image/png"/>
  <Override PartName="/ppt/media/image41.wmf" ContentType="image/x-wmf"/>
  <Override PartName="/ppt/media/image8.png" ContentType="image/png"/>
  <Override PartName="/ppt/media/image44.wmf" ContentType="image/x-wmf"/>
  <Override PartName="/ppt/media/image13.png" ContentType="image/png"/>
  <Override PartName="/ppt/media/image12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3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7ac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9"/>
          <p:cNvSpPr/>
          <p:nvPr/>
        </p:nvSpPr>
        <p:spPr>
          <a:xfrm>
            <a:off x="7772400" y="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fld id="{9FAB0079-BCC2-47B3-ABB8-0E443ECAEBF5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5"/>
          <p:cNvSpPr/>
          <p:nvPr/>
        </p:nvSpPr>
        <p:spPr>
          <a:xfrm>
            <a:off x="457200" y="5305320"/>
            <a:ext cx="4724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PowerPoint Auth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Susan Coomer Galbreath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harles W. Caldwell, D.B.A., 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Jon A. Booker, Ph.D.,</a:t>
            </a:r>
            <a:r>
              <a:rPr b="0" lang="en-US" sz="1600" spc="-1" strike="noStrike">
                <a:solidFill>
                  <a:srgbClr val="78310b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PA, 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ynthia J. Rooney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474120" y="6611760"/>
            <a:ext cx="819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5540a"/>
                </a:solidFill>
                <a:latin typeface="Times New Roman"/>
              </a:rPr>
              <a:t>Copyright © 2015 McGraw-Hill Education. All rights reserved. No reproduction or distribution without the prior written consent of McGraw-Hill Edu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b-Order Costing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Job-Order Cost Accounting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304" name="Object 2"/>
          <p:cNvGraphicFramePr/>
          <p:nvPr/>
        </p:nvGraphicFramePr>
        <p:xfrm>
          <a:off x="598320" y="1438200"/>
          <a:ext cx="7942320" cy="496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" y="1438200"/>
                    <a:ext cx="794232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Line 4"/>
          <p:cNvSpPr/>
          <p:nvPr/>
        </p:nvSpPr>
        <p:spPr>
          <a:xfrm>
            <a:off x="2209680" y="2220840"/>
            <a:ext cx="1739880" cy="0"/>
          </a:xfrm>
          <a:prstGeom prst="line">
            <a:avLst/>
          </a:prstGeom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2209680" y="2755800"/>
            <a:ext cx="1739880" cy="0"/>
          </a:xfrm>
          <a:prstGeom prst="line">
            <a:avLst/>
          </a:prstGeom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1523880" y="3025800"/>
            <a:ext cx="2502000" cy="0"/>
          </a:xfrm>
          <a:prstGeom prst="line">
            <a:avLst/>
          </a:prstGeom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019920" y="2206800"/>
            <a:ext cx="2120760" cy="0"/>
          </a:xfrm>
          <a:prstGeom prst="line">
            <a:avLst/>
          </a:prstGeom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8"/>
          <p:cNvSpPr/>
          <p:nvPr/>
        </p:nvSpPr>
        <p:spPr>
          <a:xfrm>
            <a:off x="6248520" y="2470320"/>
            <a:ext cx="1892160" cy="0"/>
          </a:xfrm>
          <a:prstGeom prst="line">
            <a:avLst/>
          </a:prstGeom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9"/>
          <p:cNvSpPr/>
          <p:nvPr/>
        </p:nvSpPr>
        <p:spPr>
          <a:xfrm>
            <a:off x="6324480" y="2733840"/>
            <a:ext cx="1816200" cy="0"/>
          </a:xfrm>
          <a:prstGeom prst="line">
            <a:avLst/>
          </a:prstGeom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122"/>
          <p:cNvGrpSpPr/>
          <p:nvPr/>
        </p:nvGrpSpPr>
        <p:grpSpPr>
          <a:xfrm>
            <a:off x="8158320" y="243000"/>
            <a:ext cx="680760" cy="975960"/>
            <a:chOff x="8158320" y="243000"/>
            <a:chExt cx="680760" cy="975960"/>
          </a:xfrm>
        </p:grpSpPr>
        <p:sp>
          <p:nvSpPr>
            <p:cNvPr id="313" name="Freeform 123"/>
            <p:cNvSpPr/>
            <p:nvPr/>
          </p:nvSpPr>
          <p:spPr>
            <a:xfrm>
              <a:off x="8184960" y="340560"/>
              <a:ext cx="544680" cy="709920"/>
            </a:xfrm>
            <a:custGeom>
              <a:avLst/>
              <a:gdLst>
                <a:gd name="textAreaLeft" fmla="*/ 0 w 544680"/>
                <a:gd name="textAreaRight" fmla="*/ 545040 w 544680"/>
                <a:gd name="textAreaTop" fmla="*/ 0 h 709920"/>
                <a:gd name="textAreaBottom" fmla="*/ 710280 h 709920"/>
              </a:gdLst>
              <a:ahLst/>
              <a:rect l="textAreaLeft" t="textAreaTop" r="textAreaRight" b="textAreaBottom"/>
              <a:pathLst>
                <a:path w="6835" h="7134">
                  <a:moveTo>
                    <a:pt x="174" y="3970"/>
                  </a:moveTo>
                  <a:lnTo>
                    <a:pt x="0" y="4746"/>
                  </a:lnTo>
                  <a:lnTo>
                    <a:pt x="230" y="5867"/>
                  </a:lnTo>
                  <a:lnTo>
                    <a:pt x="1904" y="7134"/>
                  </a:lnTo>
                  <a:lnTo>
                    <a:pt x="4730" y="6356"/>
                  </a:lnTo>
                  <a:lnTo>
                    <a:pt x="5393" y="3768"/>
                  </a:lnTo>
                  <a:lnTo>
                    <a:pt x="6835" y="1553"/>
                  </a:lnTo>
                  <a:lnTo>
                    <a:pt x="6777" y="547"/>
                  </a:lnTo>
                  <a:lnTo>
                    <a:pt x="6317" y="174"/>
                  </a:lnTo>
                  <a:lnTo>
                    <a:pt x="5882" y="31"/>
                  </a:lnTo>
                  <a:lnTo>
                    <a:pt x="5537" y="0"/>
                  </a:lnTo>
                  <a:lnTo>
                    <a:pt x="4990" y="87"/>
                  </a:lnTo>
                  <a:lnTo>
                    <a:pt x="4557" y="433"/>
                  </a:lnTo>
                  <a:lnTo>
                    <a:pt x="4212" y="865"/>
                  </a:lnTo>
                  <a:lnTo>
                    <a:pt x="3894" y="1410"/>
                  </a:lnTo>
                  <a:lnTo>
                    <a:pt x="3546" y="1755"/>
                  </a:lnTo>
                  <a:lnTo>
                    <a:pt x="3058" y="2101"/>
                  </a:lnTo>
                  <a:lnTo>
                    <a:pt x="2596" y="2387"/>
                  </a:lnTo>
                  <a:lnTo>
                    <a:pt x="1961" y="2560"/>
                  </a:lnTo>
                  <a:lnTo>
                    <a:pt x="1269" y="2877"/>
                  </a:lnTo>
                  <a:lnTo>
                    <a:pt x="663" y="3338"/>
                  </a:lnTo>
                  <a:lnTo>
                    <a:pt x="174" y="397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24"/>
            <p:cNvSpPr/>
            <p:nvPr/>
          </p:nvSpPr>
          <p:spPr>
            <a:xfrm>
              <a:off x="8678520" y="251280"/>
              <a:ext cx="88920" cy="111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123" h="1122">
                  <a:moveTo>
                    <a:pt x="203" y="1122"/>
                  </a:moveTo>
                  <a:lnTo>
                    <a:pt x="347" y="806"/>
                  </a:lnTo>
                  <a:lnTo>
                    <a:pt x="577" y="548"/>
                  </a:lnTo>
                  <a:lnTo>
                    <a:pt x="1123" y="231"/>
                  </a:lnTo>
                  <a:lnTo>
                    <a:pt x="923" y="0"/>
                  </a:lnTo>
                  <a:lnTo>
                    <a:pt x="491" y="290"/>
                  </a:lnTo>
                  <a:lnTo>
                    <a:pt x="231" y="548"/>
                  </a:lnTo>
                  <a:lnTo>
                    <a:pt x="0" y="1036"/>
                  </a:lnTo>
                  <a:lnTo>
                    <a:pt x="203" y="1122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25"/>
            <p:cNvSpPr/>
            <p:nvPr/>
          </p:nvSpPr>
          <p:spPr>
            <a:xfrm>
              <a:off x="8551440" y="389160"/>
              <a:ext cx="41040" cy="68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21" h="691">
                  <a:moveTo>
                    <a:pt x="444" y="315"/>
                  </a:moveTo>
                  <a:lnTo>
                    <a:pt x="521" y="126"/>
                  </a:lnTo>
                  <a:lnTo>
                    <a:pt x="394" y="0"/>
                  </a:lnTo>
                  <a:lnTo>
                    <a:pt x="172" y="155"/>
                  </a:lnTo>
                  <a:lnTo>
                    <a:pt x="0" y="473"/>
                  </a:lnTo>
                  <a:lnTo>
                    <a:pt x="48" y="691"/>
                  </a:lnTo>
                  <a:lnTo>
                    <a:pt x="270" y="628"/>
                  </a:lnTo>
                  <a:lnTo>
                    <a:pt x="394" y="502"/>
                  </a:lnTo>
                  <a:lnTo>
                    <a:pt x="444" y="315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26"/>
            <p:cNvSpPr/>
            <p:nvPr/>
          </p:nvSpPr>
          <p:spPr>
            <a:xfrm>
              <a:off x="8162640" y="357480"/>
              <a:ext cx="582480" cy="83952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839520"/>
                <a:gd name="textAreaBottom" fmla="*/ 839880 h 839520"/>
              </a:gdLst>
              <a:ahLst/>
              <a:rect l="textAreaLeft" t="textAreaTop" r="textAreaRight" b="textAreaBottom"/>
              <a:pathLst>
                <a:path w="7324" h="8425">
                  <a:moveTo>
                    <a:pt x="6718" y="0"/>
                  </a:moveTo>
                  <a:lnTo>
                    <a:pt x="6805" y="229"/>
                  </a:lnTo>
                  <a:lnTo>
                    <a:pt x="6862" y="401"/>
                  </a:lnTo>
                  <a:lnTo>
                    <a:pt x="6891" y="632"/>
                  </a:lnTo>
                  <a:lnTo>
                    <a:pt x="6862" y="804"/>
                  </a:lnTo>
                  <a:lnTo>
                    <a:pt x="6805" y="978"/>
                  </a:lnTo>
                  <a:lnTo>
                    <a:pt x="6718" y="1150"/>
                  </a:lnTo>
                  <a:lnTo>
                    <a:pt x="6604" y="1379"/>
                  </a:lnTo>
                  <a:lnTo>
                    <a:pt x="6400" y="1553"/>
                  </a:lnTo>
                  <a:lnTo>
                    <a:pt x="5998" y="2099"/>
                  </a:lnTo>
                  <a:lnTo>
                    <a:pt x="5794" y="2415"/>
                  </a:lnTo>
                  <a:lnTo>
                    <a:pt x="5593" y="2847"/>
                  </a:lnTo>
                  <a:lnTo>
                    <a:pt x="5450" y="3393"/>
                  </a:lnTo>
                  <a:lnTo>
                    <a:pt x="5277" y="3968"/>
                  </a:lnTo>
                  <a:lnTo>
                    <a:pt x="5131" y="4370"/>
                  </a:lnTo>
                  <a:lnTo>
                    <a:pt x="4901" y="4802"/>
                  </a:lnTo>
                  <a:lnTo>
                    <a:pt x="4613" y="5148"/>
                  </a:lnTo>
                  <a:lnTo>
                    <a:pt x="4268" y="5494"/>
                  </a:lnTo>
                  <a:lnTo>
                    <a:pt x="3893" y="5693"/>
                  </a:lnTo>
                  <a:lnTo>
                    <a:pt x="3288" y="5924"/>
                  </a:lnTo>
                  <a:lnTo>
                    <a:pt x="2651" y="6038"/>
                  </a:lnTo>
                  <a:lnTo>
                    <a:pt x="2221" y="6095"/>
                  </a:lnTo>
                  <a:lnTo>
                    <a:pt x="1642" y="6067"/>
                  </a:lnTo>
                  <a:lnTo>
                    <a:pt x="1268" y="5953"/>
                  </a:lnTo>
                  <a:lnTo>
                    <a:pt x="950" y="5752"/>
                  </a:lnTo>
                  <a:lnTo>
                    <a:pt x="721" y="5520"/>
                  </a:lnTo>
                  <a:lnTo>
                    <a:pt x="517" y="5262"/>
                  </a:lnTo>
                  <a:lnTo>
                    <a:pt x="432" y="4975"/>
                  </a:lnTo>
                  <a:lnTo>
                    <a:pt x="374" y="4630"/>
                  </a:lnTo>
                  <a:lnTo>
                    <a:pt x="432" y="4226"/>
                  </a:lnTo>
                  <a:lnTo>
                    <a:pt x="517" y="3796"/>
                  </a:lnTo>
                  <a:lnTo>
                    <a:pt x="143" y="4543"/>
                  </a:lnTo>
                  <a:lnTo>
                    <a:pt x="0" y="5348"/>
                  </a:lnTo>
                  <a:lnTo>
                    <a:pt x="56" y="5866"/>
                  </a:lnTo>
                  <a:lnTo>
                    <a:pt x="202" y="6472"/>
                  </a:lnTo>
                  <a:lnTo>
                    <a:pt x="517" y="7073"/>
                  </a:lnTo>
                  <a:lnTo>
                    <a:pt x="1038" y="7677"/>
                  </a:lnTo>
                  <a:lnTo>
                    <a:pt x="1672" y="8109"/>
                  </a:lnTo>
                  <a:lnTo>
                    <a:pt x="2451" y="8425"/>
                  </a:lnTo>
                  <a:lnTo>
                    <a:pt x="3345" y="8425"/>
                  </a:lnTo>
                  <a:lnTo>
                    <a:pt x="4064" y="8253"/>
                  </a:lnTo>
                  <a:lnTo>
                    <a:pt x="4729" y="7880"/>
                  </a:lnTo>
                  <a:lnTo>
                    <a:pt x="5162" y="7507"/>
                  </a:lnTo>
                  <a:lnTo>
                    <a:pt x="5564" y="7045"/>
                  </a:lnTo>
                  <a:lnTo>
                    <a:pt x="5794" y="6528"/>
                  </a:lnTo>
                  <a:lnTo>
                    <a:pt x="5911" y="6038"/>
                  </a:lnTo>
                  <a:lnTo>
                    <a:pt x="5969" y="5520"/>
                  </a:lnTo>
                  <a:lnTo>
                    <a:pt x="6026" y="4370"/>
                  </a:lnTo>
                  <a:lnTo>
                    <a:pt x="6142" y="3796"/>
                  </a:lnTo>
                  <a:lnTo>
                    <a:pt x="6315" y="3364"/>
                  </a:lnTo>
                  <a:lnTo>
                    <a:pt x="6516" y="3049"/>
                  </a:lnTo>
                  <a:lnTo>
                    <a:pt x="6805" y="2731"/>
                  </a:lnTo>
                  <a:lnTo>
                    <a:pt x="7064" y="2386"/>
                  </a:lnTo>
                  <a:lnTo>
                    <a:pt x="7236" y="2071"/>
                  </a:lnTo>
                  <a:lnTo>
                    <a:pt x="7296" y="1725"/>
                  </a:lnTo>
                  <a:lnTo>
                    <a:pt x="7324" y="1437"/>
                  </a:lnTo>
                  <a:lnTo>
                    <a:pt x="7324" y="1093"/>
                  </a:lnTo>
                  <a:lnTo>
                    <a:pt x="7208" y="691"/>
                  </a:lnTo>
                  <a:lnTo>
                    <a:pt x="7092" y="461"/>
                  </a:lnTo>
                  <a:lnTo>
                    <a:pt x="6978" y="286"/>
                  </a:lnTo>
                  <a:lnTo>
                    <a:pt x="6718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27"/>
            <p:cNvSpPr/>
            <p:nvPr/>
          </p:nvSpPr>
          <p:spPr>
            <a:xfrm>
              <a:off x="8158320" y="340560"/>
              <a:ext cx="680760" cy="87840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878400"/>
                <a:gd name="textAreaBottom" fmla="*/ 878760 h 878400"/>
              </a:gdLst>
              <a:ahLst/>
              <a:rect l="textAreaLeft" t="textAreaTop" r="textAreaRight" b="textAreaBottom"/>
              <a:pathLst>
                <a:path w="8565" h="8830">
                  <a:moveTo>
                    <a:pt x="5997" y="0"/>
                  </a:moveTo>
                  <a:lnTo>
                    <a:pt x="5509" y="116"/>
                  </a:lnTo>
                  <a:lnTo>
                    <a:pt x="5163" y="289"/>
                  </a:lnTo>
                  <a:lnTo>
                    <a:pt x="4903" y="519"/>
                  </a:lnTo>
                  <a:lnTo>
                    <a:pt x="4701" y="777"/>
                  </a:lnTo>
                  <a:lnTo>
                    <a:pt x="4499" y="1123"/>
                  </a:lnTo>
                  <a:lnTo>
                    <a:pt x="4268" y="1438"/>
                  </a:lnTo>
                  <a:lnTo>
                    <a:pt x="4037" y="1727"/>
                  </a:lnTo>
                  <a:lnTo>
                    <a:pt x="3634" y="2042"/>
                  </a:lnTo>
                  <a:lnTo>
                    <a:pt x="3287" y="2273"/>
                  </a:lnTo>
                  <a:lnTo>
                    <a:pt x="2855" y="2475"/>
                  </a:lnTo>
                  <a:lnTo>
                    <a:pt x="2423" y="2646"/>
                  </a:lnTo>
                  <a:lnTo>
                    <a:pt x="1818" y="2877"/>
                  </a:lnTo>
                  <a:lnTo>
                    <a:pt x="1182" y="3280"/>
                  </a:lnTo>
                  <a:lnTo>
                    <a:pt x="720" y="3768"/>
                  </a:lnTo>
                  <a:lnTo>
                    <a:pt x="491" y="4228"/>
                  </a:lnTo>
                  <a:lnTo>
                    <a:pt x="232" y="4976"/>
                  </a:lnTo>
                  <a:lnTo>
                    <a:pt x="145" y="5522"/>
                  </a:lnTo>
                  <a:lnTo>
                    <a:pt x="232" y="6300"/>
                  </a:lnTo>
                  <a:lnTo>
                    <a:pt x="491" y="6932"/>
                  </a:lnTo>
                  <a:lnTo>
                    <a:pt x="865" y="7422"/>
                  </a:lnTo>
                  <a:lnTo>
                    <a:pt x="1270" y="7851"/>
                  </a:lnTo>
                  <a:lnTo>
                    <a:pt x="1701" y="8169"/>
                  </a:lnTo>
                  <a:lnTo>
                    <a:pt x="2250" y="8399"/>
                  </a:lnTo>
                  <a:lnTo>
                    <a:pt x="2826" y="8514"/>
                  </a:lnTo>
                  <a:lnTo>
                    <a:pt x="3431" y="8486"/>
                  </a:lnTo>
                  <a:lnTo>
                    <a:pt x="4037" y="8370"/>
                  </a:lnTo>
                  <a:lnTo>
                    <a:pt x="4529" y="8112"/>
                  </a:lnTo>
                  <a:lnTo>
                    <a:pt x="4932" y="7851"/>
                  </a:lnTo>
                  <a:lnTo>
                    <a:pt x="5306" y="7478"/>
                  </a:lnTo>
                  <a:lnTo>
                    <a:pt x="5595" y="7134"/>
                  </a:lnTo>
                  <a:lnTo>
                    <a:pt x="5768" y="6760"/>
                  </a:lnTo>
                  <a:lnTo>
                    <a:pt x="5913" y="6269"/>
                  </a:lnTo>
                  <a:lnTo>
                    <a:pt x="5970" y="5839"/>
                  </a:lnTo>
                  <a:lnTo>
                    <a:pt x="5997" y="5408"/>
                  </a:lnTo>
                  <a:lnTo>
                    <a:pt x="5997" y="4948"/>
                  </a:lnTo>
                  <a:lnTo>
                    <a:pt x="6028" y="4431"/>
                  </a:lnTo>
                  <a:lnTo>
                    <a:pt x="6144" y="3912"/>
                  </a:lnTo>
                  <a:lnTo>
                    <a:pt x="6287" y="3597"/>
                  </a:lnTo>
                  <a:lnTo>
                    <a:pt x="6546" y="3164"/>
                  </a:lnTo>
                  <a:lnTo>
                    <a:pt x="6864" y="2819"/>
                  </a:lnTo>
                  <a:lnTo>
                    <a:pt x="7151" y="2446"/>
                  </a:lnTo>
                  <a:lnTo>
                    <a:pt x="7267" y="2129"/>
                  </a:lnTo>
                  <a:lnTo>
                    <a:pt x="7355" y="1755"/>
                  </a:lnTo>
                  <a:lnTo>
                    <a:pt x="7355" y="1410"/>
                  </a:lnTo>
                  <a:lnTo>
                    <a:pt x="7267" y="921"/>
                  </a:lnTo>
                  <a:lnTo>
                    <a:pt x="7123" y="604"/>
                  </a:lnTo>
                  <a:lnTo>
                    <a:pt x="6950" y="377"/>
                  </a:lnTo>
                  <a:lnTo>
                    <a:pt x="6690" y="174"/>
                  </a:lnTo>
                  <a:lnTo>
                    <a:pt x="7123" y="491"/>
                  </a:lnTo>
                  <a:lnTo>
                    <a:pt x="7355" y="834"/>
                  </a:lnTo>
                  <a:lnTo>
                    <a:pt x="7469" y="1180"/>
                  </a:lnTo>
                  <a:lnTo>
                    <a:pt x="7499" y="1526"/>
                  </a:lnTo>
                  <a:lnTo>
                    <a:pt x="7499" y="1869"/>
                  </a:lnTo>
                  <a:lnTo>
                    <a:pt x="7411" y="2215"/>
                  </a:lnTo>
                  <a:lnTo>
                    <a:pt x="7267" y="2531"/>
                  </a:lnTo>
                  <a:lnTo>
                    <a:pt x="7008" y="2905"/>
                  </a:lnTo>
                  <a:lnTo>
                    <a:pt x="6633" y="3280"/>
                  </a:lnTo>
                  <a:lnTo>
                    <a:pt x="6403" y="3680"/>
                  </a:lnTo>
                  <a:lnTo>
                    <a:pt x="6228" y="4142"/>
                  </a:lnTo>
                  <a:lnTo>
                    <a:pt x="6172" y="4574"/>
                  </a:lnTo>
                  <a:lnTo>
                    <a:pt x="6172" y="5178"/>
                  </a:lnTo>
                  <a:lnTo>
                    <a:pt x="6144" y="5694"/>
                  </a:lnTo>
                  <a:lnTo>
                    <a:pt x="6085" y="6212"/>
                  </a:lnTo>
                  <a:lnTo>
                    <a:pt x="5970" y="6673"/>
                  </a:lnTo>
                  <a:lnTo>
                    <a:pt x="5797" y="7105"/>
                  </a:lnTo>
                  <a:lnTo>
                    <a:pt x="5566" y="7422"/>
                  </a:lnTo>
                  <a:lnTo>
                    <a:pt x="5306" y="7681"/>
                  </a:lnTo>
                  <a:lnTo>
                    <a:pt x="6172" y="7651"/>
                  </a:lnTo>
                  <a:lnTo>
                    <a:pt x="6749" y="7737"/>
                  </a:lnTo>
                  <a:lnTo>
                    <a:pt x="6950" y="7708"/>
                  </a:lnTo>
                  <a:lnTo>
                    <a:pt x="7181" y="7624"/>
                  </a:lnTo>
                  <a:lnTo>
                    <a:pt x="7555" y="7593"/>
                  </a:lnTo>
                  <a:lnTo>
                    <a:pt x="7931" y="7593"/>
                  </a:lnTo>
                  <a:lnTo>
                    <a:pt x="8420" y="7681"/>
                  </a:lnTo>
                  <a:lnTo>
                    <a:pt x="8565" y="7795"/>
                  </a:lnTo>
                  <a:lnTo>
                    <a:pt x="8537" y="7851"/>
                  </a:lnTo>
                  <a:lnTo>
                    <a:pt x="8363" y="7910"/>
                  </a:lnTo>
                  <a:lnTo>
                    <a:pt x="7987" y="7910"/>
                  </a:lnTo>
                  <a:lnTo>
                    <a:pt x="7669" y="7939"/>
                  </a:lnTo>
                  <a:lnTo>
                    <a:pt x="7527" y="8024"/>
                  </a:lnTo>
                  <a:lnTo>
                    <a:pt x="7469" y="8054"/>
                  </a:lnTo>
                  <a:lnTo>
                    <a:pt x="7355" y="8197"/>
                  </a:lnTo>
                  <a:lnTo>
                    <a:pt x="7151" y="8340"/>
                  </a:lnTo>
                  <a:lnTo>
                    <a:pt x="6921" y="8486"/>
                  </a:lnTo>
                  <a:lnTo>
                    <a:pt x="6546" y="8571"/>
                  </a:lnTo>
                  <a:lnTo>
                    <a:pt x="5853" y="8715"/>
                  </a:lnTo>
                  <a:lnTo>
                    <a:pt x="4788" y="8830"/>
                  </a:lnTo>
                  <a:lnTo>
                    <a:pt x="3634" y="8830"/>
                  </a:lnTo>
                  <a:lnTo>
                    <a:pt x="2826" y="8801"/>
                  </a:lnTo>
                  <a:lnTo>
                    <a:pt x="2192" y="8685"/>
                  </a:lnTo>
                  <a:lnTo>
                    <a:pt x="1731" y="8629"/>
                  </a:lnTo>
                  <a:lnTo>
                    <a:pt x="1471" y="8542"/>
                  </a:lnTo>
                  <a:lnTo>
                    <a:pt x="1443" y="8456"/>
                  </a:lnTo>
                  <a:lnTo>
                    <a:pt x="1500" y="8399"/>
                  </a:lnTo>
                  <a:lnTo>
                    <a:pt x="1644" y="8313"/>
                  </a:lnTo>
                  <a:lnTo>
                    <a:pt x="1213" y="8024"/>
                  </a:lnTo>
                  <a:lnTo>
                    <a:pt x="865" y="7708"/>
                  </a:lnTo>
                  <a:lnTo>
                    <a:pt x="576" y="7363"/>
                  </a:lnTo>
                  <a:lnTo>
                    <a:pt x="377" y="7046"/>
                  </a:lnTo>
                  <a:lnTo>
                    <a:pt x="202" y="6646"/>
                  </a:lnTo>
                  <a:lnTo>
                    <a:pt x="88" y="6300"/>
                  </a:lnTo>
                  <a:lnTo>
                    <a:pt x="0" y="5867"/>
                  </a:lnTo>
                  <a:lnTo>
                    <a:pt x="29" y="5294"/>
                  </a:lnTo>
                  <a:lnTo>
                    <a:pt x="88" y="4860"/>
                  </a:lnTo>
                  <a:lnTo>
                    <a:pt x="232" y="4344"/>
                  </a:lnTo>
                  <a:lnTo>
                    <a:pt x="520" y="3740"/>
                  </a:lnTo>
                  <a:lnTo>
                    <a:pt x="865" y="3338"/>
                  </a:lnTo>
                  <a:lnTo>
                    <a:pt x="1241" y="3021"/>
                  </a:lnTo>
                  <a:lnTo>
                    <a:pt x="1731" y="2733"/>
                  </a:lnTo>
                  <a:lnTo>
                    <a:pt x="2280" y="2560"/>
                  </a:lnTo>
                  <a:lnTo>
                    <a:pt x="2942" y="2302"/>
                  </a:lnTo>
                  <a:lnTo>
                    <a:pt x="3431" y="2014"/>
                  </a:lnTo>
                  <a:lnTo>
                    <a:pt x="3923" y="1641"/>
                  </a:lnTo>
                  <a:lnTo>
                    <a:pt x="4297" y="1180"/>
                  </a:lnTo>
                  <a:lnTo>
                    <a:pt x="4585" y="777"/>
                  </a:lnTo>
                  <a:lnTo>
                    <a:pt x="4788" y="491"/>
                  </a:lnTo>
                  <a:lnTo>
                    <a:pt x="5046" y="260"/>
                  </a:lnTo>
                  <a:lnTo>
                    <a:pt x="5277" y="116"/>
                  </a:lnTo>
                  <a:lnTo>
                    <a:pt x="5566" y="31"/>
                  </a:lnTo>
                  <a:lnTo>
                    <a:pt x="59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28"/>
            <p:cNvSpPr/>
            <p:nvPr/>
          </p:nvSpPr>
          <p:spPr>
            <a:xfrm>
              <a:off x="8685000" y="243000"/>
              <a:ext cx="87840" cy="11988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1096" h="1208">
                  <a:moveTo>
                    <a:pt x="116" y="1151"/>
                  </a:moveTo>
                  <a:lnTo>
                    <a:pt x="260" y="892"/>
                  </a:lnTo>
                  <a:lnTo>
                    <a:pt x="490" y="662"/>
                  </a:lnTo>
                  <a:lnTo>
                    <a:pt x="778" y="490"/>
                  </a:lnTo>
                  <a:lnTo>
                    <a:pt x="1096" y="317"/>
                  </a:lnTo>
                  <a:lnTo>
                    <a:pt x="894" y="0"/>
                  </a:lnTo>
                  <a:lnTo>
                    <a:pt x="518" y="230"/>
                  </a:lnTo>
                  <a:lnTo>
                    <a:pt x="288" y="459"/>
                  </a:lnTo>
                  <a:lnTo>
                    <a:pt x="116" y="691"/>
                  </a:lnTo>
                  <a:lnTo>
                    <a:pt x="0" y="949"/>
                  </a:lnTo>
                  <a:lnTo>
                    <a:pt x="200" y="634"/>
                  </a:lnTo>
                  <a:lnTo>
                    <a:pt x="432" y="376"/>
                  </a:lnTo>
                  <a:lnTo>
                    <a:pt x="866" y="86"/>
                  </a:lnTo>
                  <a:lnTo>
                    <a:pt x="980" y="317"/>
                  </a:lnTo>
                  <a:lnTo>
                    <a:pt x="577" y="490"/>
                  </a:lnTo>
                  <a:lnTo>
                    <a:pt x="317" y="691"/>
                  </a:lnTo>
                  <a:lnTo>
                    <a:pt x="173" y="949"/>
                  </a:lnTo>
                  <a:lnTo>
                    <a:pt x="57" y="1208"/>
                  </a:lnTo>
                  <a:lnTo>
                    <a:pt x="116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1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1905120" y="2362320"/>
            <a:ext cx="5333760" cy="1647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Compute a predetermined overhead rat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Why Use an Allocation Base?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533520" y="1600200"/>
            <a:ext cx="8153280" cy="1373760"/>
          </a:xfrm>
          <a:prstGeom prst="rect">
            <a:avLst/>
          </a:prstGeom>
          <a:solidFill>
            <a:srgbClr val="6d1014"/>
          </a:solidFill>
          <a:ln w="9360">
            <a:solidFill>
              <a:srgbClr val="7d3c4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llocation base, such as direct labor hours, direct labor dollars, or machine hours, is used to assign manufacturing overhead to individual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457200" y="3124080"/>
            <a:ext cx="8534520" cy="30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use an allocation base becaus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23263c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impossible or difficult to trace overhead costs to particular job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23263c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ufacturing overhead consists of many different items ranging from the grease used in machines to the production manager’s sala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23263c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types of manufacturing overhead costs are fixed even though output fluctuates during the peri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464646"/>
                </a:solidFill>
                <a:latin typeface="Arial"/>
                <a:ea typeface="Arial"/>
              </a:rPr>
              <a:t>The predetermined overhead rate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  <a:ea typeface="Arial"/>
              </a:rPr>
              <a:t>(</a:t>
            </a:r>
            <a:r>
              <a:rPr b="1" i="1" lang="en-US" sz="3200" spc="-1" strike="noStrike">
                <a:solidFill>
                  <a:srgbClr val="663300"/>
                </a:solidFill>
                <a:latin typeface="Arial"/>
                <a:ea typeface="Arial"/>
              </a:rPr>
              <a:t>POHR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>
                <a:solidFill>
                  <a:srgbClr val="464646"/>
                </a:solidFill>
                <a:latin typeface="Arial"/>
                <a:ea typeface="Arial"/>
              </a:rPr>
              <a:t> used to apply overhead to jobs is determined before the period begins</a:t>
            </a:r>
            <a:r>
              <a:rPr b="1" lang="en-US" sz="2800" spc="-1" strike="noStrike">
                <a:solidFill>
                  <a:srgbClr val="46464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Manufacturing Overhead Application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326" name="Group 1028" descr=""/>
          <p:cNvPicPr/>
          <p:nvPr/>
        </p:nvPicPr>
        <p:blipFill>
          <a:blip r:embed="rId1"/>
          <a:stretch/>
        </p:blipFill>
        <p:spPr>
          <a:xfrm>
            <a:off x="1158840" y="3017880"/>
            <a:ext cx="7101000" cy="1706400"/>
          </a:xfrm>
          <a:prstGeom prst="rect">
            <a:avLst/>
          </a:prstGeom>
          <a:ln w="0">
            <a:noFill/>
          </a:ln>
        </p:spPr>
      </p:pic>
      <p:pic>
        <p:nvPicPr>
          <p:cNvPr id="327" name="Group 1035" descr=""/>
          <p:cNvPicPr/>
          <p:nvPr/>
        </p:nvPicPr>
        <p:blipFill>
          <a:blip r:embed="rId2"/>
          <a:stretch/>
        </p:blipFill>
        <p:spPr>
          <a:xfrm>
            <a:off x="712800" y="4475160"/>
            <a:ext cx="5621400" cy="1889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solidFill>
            <a:srgbClr val="d4dfef"/>
          </a:solidFill>
          <a:ln w="9360">
            <a:solidFill>
              <a:srgbClr val="2da2bf"/>
            </a:solidFill>
            <a:miter/>
          </a:ln>
        </p:spPr>
        <p:txBody>
          <a:bodyPr anchor="t">
            <a:normAutofit/>
          </a:bodyPr>
          <a:p>
            <a:pPr marL="365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determined overhead rates that rely upon estimated data are often used beca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ual overhead for the period is no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nown until the end of the period, thus inhibiting the ability to estimate job costs during th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ual overhead costs can fluctuate seasonally, thus misleading decision mak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The Need for a POHR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Computing Predetermined Overhead Rate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1" name="TextBox 10"/>
          <p:cNvSpPr/>
          <p:nvPr/>
        </p:nvSpPr>
        <p:spPr>
          <a:xfrm>
            <a:off x="457200" y="1295280"/>
            <a:ext cx="8305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determined overhead rate is computed before the period begins using a four-step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the total amount of the allocation base (the denominator)  that will be required for next period’s estimated level of produ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the total fixed manufacturing overhead cost for the coming period and the variable manufacturing overhead cost per unit of the allocation 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following equation to estimate the total amount of  manufacturing overhe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predetermined overhead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1"/>
          <p:cNvSpPr/>
          <p:nvPr/>
        </p:nvSpPr>
        <p:spPr>
          <a:xfrm>
            <a:off x="1523880" y="3962520"/>
            <a:ext cx="6477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 = a + 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The estimated total manufacturing overhea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The estimated total fixed manufacturing overhea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The estimated variable manufacturing overhead co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per unit of the alloc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The estimated total amount of the allocation 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2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905120" y="2233440"/>
            <a:ext cx="5333760" cy="216468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Apply overhead cost to jobs using a predetermined overhead rat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Overhead Application Rat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1066680" y="5638680"/>
            <a:ext cx="6705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POHR  =   $4.00 per direct labor-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26"/>
          <p:cNvGrpSpPr/>
          <p:nvPr/>
        </p:nvGrpSpPr>
        <p:grpSpPr>
          <a:xfrm>
            <a:off x="762120" y="4419720"/>
            <a:ext cx="7010280" cy="914400"/>
            <a:chOff x="762120" y="4419720"/>
            <a:chExt cx="7010280" cy="914400"/>
          </a:xfrm>
        </p:grpSpPr>
        <p:sp>
          <p:nvSpPr>
            <p:cNvPr id="338" name="Rounded Rectangle 22"/>
            <p:cNvSpPr/>
            <p:nvPr/>
          </p:nvSpPr>
          <p:spPr>
            <a:xfrm>
              <a:off x="762120" y="4419720"/>
              <a:ext cx="7010280" cy="914400"/>
            </a:xfrm>
            <a:prstGeom prst="roundRect">
              <a:avLst>
                <a:gd name="adj" fmla="val 16667"/>
              </a:avLst>
            </a:prstGeom>
            <a:solidFill>
              <a:srgbClr val="2da2bf"/>
            </a:solidFill>
            <a:ln w="19080">
              <a:solidFill>
                <a:srgbClr val="1faecd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Group 5"/>
            <p:cNvGrpSpPr/>
            <p:nvPr/>
          </p:nvGrpSpPr>
          <p:grpSpPr>
            <a:xfrm>
              <a:off x="914400" y="4495680"/>
              <a:ext cx="6857640" cy="757080"/>
              <a:chOff x="914400" y="4495680"/>
              <a:chExt cx="6857640" cy="757080"/>
            </a:xfrm>
          </p:grpSpPr>
          <p:sp>
            <p:nvSpPr>
              <p:cNvPr id="340" name="Rectangle 6"/>
              <p:cNvSpPr/>
              <p:nvPr/>
            </p:nvSpPr>
            <p:spPr>
              <a:xfrm>
                <a:off x="2056680" y="4495680"/>
                <a:ext cx="57153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f1e25"/>
                    </a:solidFill>
                    <a:latin typeface="Arial"/>
                  </a:rPr>
                  <a:t>$640,000 estimated total manufacturing overh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7"/>
              <p:cNvSpPr/>
              <p:nvPr/>
            </p:nvSpPr>
            <p:spPr>
              <a:xfrm>
                <a:off x="2607120" y="4889520"/>
                <a:ext cx="4827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f1e25"/>
                    </a:solidFill>
                    <a:latin typeface="Arial"/>
                  </a:rPr>
                  <a:t>160,000 estimated direct labor hours (DLH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8"/>
              <p:cNvSpPr/>
              <p:nvPr/>
            </p:nvSpPr>
            <p:spPr>
              <a:xfrm>
                <a:off x="914400" y="4676760"/>
                <a:ext cx="175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f1e25"/>
                    </a:solidFill>
                    <a:latin typeface="Arial"/>
                  </a:rPr>
                  <a:t>POHR 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9"/>
              <p:cNvSpPr/>
              <p:nvPr/>
            </p:nvSpPr>
            <p:spPr>
              <a:xfrm>
                <a:off x="2210040" y="4876560"/>
                <a:ext cx="5333400" cy="0"/>
              </a:xfrm>
              <a:prstGeom prst="line">
                <a:avLst/>
              </a:prstGeom>
              <a:ln w="28440">
                <a:solidFill>
                  <a:srgbClr val="3f1e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22"/>
          <p:cNvGrpSpPr/>
          <p:nvPr/>
        </p:nvGrpSpPr>
        <p:grpSpPr>
          <a:xfrm>
            <a:off x="8158320" y="243000"/>
            <a:ext cx="680760" cy="975960"/>
            <a:chOff x="8158320" y="243000"/>
            <a:chExt cx="680760" cy="975960"/>
          </a:xfrm>
        </p:grpSpPr>
        <p:sp>
          <p:nvSpPr>
            <p:cNvPr id="345" name="Freeform 123"/>
            <p:cNvSpPr/>
            <p:nvPr/>
          </p:nvSpPr>
          <p:spPr>
            <a:xfrm>
              <a:off x="8184960" y="340560"/>
              <a:ext cx="544680" cy="709920"/>
            </a:xfrm>
            <a:custGeom>
              <a:avLst/>
              <a:gdLst>
                <a:gd name="textAreaLeft" fmla="*/ 0 w 544680"/>
                <a:gd name="textAreaRight" fmla="*/ 545040 w 544680"/>
                <a:gd name="textAreaTop" fmla="*/ 0 h 709920"/>
                <a:gd name="textAreaBottom" fmla="*/ 710280 h 709920"/>
              </a:gdLst>
              <a:ahLst/>
              <a:rect l="textAreaLeft" t="textAreaTop" r="textAreaRight" b="textAreaBottom"/>
              <a:pathLst>
                <a:path w="6835" h="7134">
                  <a:moveTo>
                    <a:pt x="174" y="3970"/>
                  </a:moveTo>
                  <a:lnTo>
                    <a:pt x="0" y="4746"/>
                  </a:lnTo>
                  <a:lnTo>
                    <a:pt x="230" y="5867"/>
                  </a:lnTo>
                  <a:lnTo>
                    <a:pt x="1904" y="7134"/>
                  </a:lnTo>
                  <a:lnTo>
                    <a:pt x="4730" y="6356"/>
                  </a:lnTo>
                  <a:lnTo>
                    <a:pt x="5393" y="3768"/>
                  </a:lnTo>
                  <a:lnTo>
                    <a:pt x="6835" y="1553"/>
                  </a:lnTo>
                  <a:lnTo>
                    <a:pt x="6777" y="547"/>
                  </a:lnTo>
                  <a:lnTo>
                    <a:pt x="6317" y="174"/>
                  </a:lnTo>
                  <a:lnTo>
                    <a:pt x="5882" y="31"/>
                  </a:lnTo>
                  <a:lnTo>
                    <a:pt x="5537" y="0"/>
                  </a:lnTo>
                  <a:lnTo>
                    <a:pt x="4990" y="87"/>
                  </a:lnTo>
                  <a:lnTo>
                    <a:pt x="4557" y="433"/>
                  </a:lnTo>
                  <a:lnTo>
                    <a:pt x="4212" y="865"/>
                  </a:lnTo>
                  <a:lnTo>
                    <a:pt x="3894" y="1410"/>
                  </a:lnTo>
                  <a:lnTo>
                    <a:pt x="3546" y="1755"/>
                  </a:lnTo>
                  <a:lnTo>
                    <a:pt x="3058" y="2101"/>
                  </a:lnTo>
                  <a:lnTo>
                    <a:pt x="2596" y="2387"/>
                  </a:lnTo>
                  <a:lnTo>
                    <a:pt x="1961" y="2560"/>
                  </a:lnTo>
                  <a:lnTo>
                    <a:pt x="1269" y="2877"/>
                  </a:lnTo>
                  <a:lnTo>
                    <a:pt x="663" y="3338"/>
                  </a:lnTo>
                  <a:lnTo>
                    <a:pt x="174" y="397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4"/>
            <p:cNvSpPr/>
            <p:nvPr/>
          </p:nvSpPr>
          <p:spPr>
            <a:xfrm>
              <a:off x="8678520" y="251280"/>
              <a:ext cx="88920" cy="111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123" h="1122">
                  <a:moveTo>
                    <a:pt x="203" y="1122"/>
                  </a:moveTo>
                  <a:lnTo>
                    <a:pt x="347" y="806"/>
                  </a:lnTo>
                  <a:lnTo>
                    <a:pt x="577" y="548"/>
                  </a:lnTo>
                  <a:lnTo>
                    <a:pt x="1123" y="231"/>
                  </a:lnTo>
                  <a:lnTo>
                    <a:pt x="923" y="0"/>
                  </a:lnTo>
                  <a:lnTo>
                    <a:pt x="491" y="290"/>
                  </a:lnTo>
                  <a:lnTo>
                    <a:pt x="231" y="548"/>
                  </a:lnTo>
                  <a:lnTo>
                    <a:pt x="0" y="1036"/>
                  </a:lnTo>
                  <a:lnTo>
                    <a:pt x="203" y="1122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25"/>
            <p:cNvSpPr/>
            <p:nvPr/>
          </p:nvSpPr>
          <p:spPr>
            <a:xfrm>
              <a:off x="8551440" y="389160"/>
              <a:ext cx="41040" cy="68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21" h="691">
                  <a:moveTo>
                    <a:pt x="444" y="315"/>
                  </a:moveTo>
                  <a:lnTo>
                    <a:pt x="521" y="126"/>
                  </a:lnTo>
                  <a:lnTo>
                    <a:pt x="394" y="0"/>
                  </a:lnTo>
                  <a:lnTo>
                    <a:pt x="172" y="155"/>
                  </a:lnTo>
                  <a:lnTo>
                    <a:pt x="0" y="473"/>
                  </a:lnTo>
                  <a:lnTo>
                    <a:pt x="48" y="691"/>
                  </a:lnTo>
                  <a:lnTo>
                    <a:pt x="270" y="628"/>
                  </a:lnTo>
                  <a:lnTo>
                    <a:pt x="394" y="502"/>
                  </a:lnTo>
                  <a:lnTo>
                    <a:pt x="444" y="315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26"/>
            <p:cNvSpPr/>
            <p:nvPr/>
          </p:nvSpPr>
          <p:spPr>
            <a:xfrm>
              <a:off x="8162640" y="357480"/>
              <a:ext cx="582480" cy="83952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839520"/>
                <a:gd name="textAreaBottom" fmla="*/ 839880 h 839520"/>
              </a:gdLst>
              <a:ahLst/>
              <a:rect l="textAreaLeft" t="textAreaTop" r="textAreaRight" b="textAreaBottom"/>
              <a:pathLst>
                <a:path w="7324" h="8425">
                  <a:moveTo>
                    <a:pt x="6718" y="0"/>
                  </a:moveTo>
                  <a:lnTo>
                    <a:pt x="6805" y="229"/>
                  </a:lnTo>
                  <a:lnTo>
                    <a:pt x="6862" y="401"/>
                  </a:lnTo>
                  <a:lnTo>
                    <a:pt x="6891" y="632"/>
                  </a:lnTo>
                  <a:lnTo>
                    <a:pt x="6862" y="804"/>
                  </a:lnTo>
                  <a:lnTo>
                    <a:pt x="6805" y="978"/>
                  </a:lnTo>
                  <a:lnTo>
                    <a:pt x="6718" y="1150"/>
                  </a:lnTo>
                  <a:lnTo>
                    <a:pt x="6604" y="1379"/>
                  </a:lnTo>
                  <a:lnTo>
                    <a:pt x="6400" y="1553"/>
                  </a:lnTo>
                  <a:lnTo>
                    <a:pt x="5998" y="2099"/>
                  </a:lnTo>
                  <a:lnTo>
                    <a:pt x="5794" y="2415"/>
                  </a:lnTo>
                  <a:lnTo>
                    <a:pt x="5593" y="2847"/>
                  </a:lnTo>
                  <a:lnTo>
                    <a:pt x="5450" y="3393"/>
                  </a:lnTo>
                  <a:lnTo>
                    <a:pt x="5277" y="3968"/>
                  </a:lnTo>
                  <a:lnTo>
                    <a:pt x="5131" y="4370"/>
                  </a:lnTo>
                  <a:lnTo>
                    <a:pt x="4901" y="4802"/>
                  </a:lnTo>
                  <a:lnTo>
                    <a:pt x="4613" y="5148"/>
                  </a:lnTo>
                  <a:lnTo>
                    <a:pt x="4268" y="5494"/>
                  </a:lnTo>
                  <a:lnTo>
                    <a:pt x="3893" y="5693"/>
                  </a:lnTo>
                  <a:lnTo>
                    <a:pt x="3288" y="5924"/>
                  </a:lnTo>
                  <a:lnTo>
                    <a:pt x="2651" y="6038"/>
                  </a:lnTo>
                  <a:lnTo>
                    <a:pt x="2221" y="6095"/>
                  </a:lnTo>
                  <a:lnTo>
                    <a:pt x="1642" y="6067"/>
                  </a:lnTo>
                  <a:lnTo>
                    <a:pt x="1268" y="5953"/>
                  </a:lnTo>
                  <a:lnTo>
                    <a:pt x="950" y="5752"/>
                  </a:lnTo>
                  <a:lnTo>
                    <a:pt x="721" y="5520"/>
                  </a:lnTo>
                  <a:lnTo>
                    <a:pt x="517" y="5262"/>
                  </a:lnTo>
                  <a:lnTo>
                    <a:pt x="432" y="4975"/>
                  </a:lnTo>
                  <a:lnTo>
                    <a:pt x="374" y="4630"/>
                  </a:lnTo>
                  <a:lnTo>
                    <a:pt x="432" y="4226"/>
                  </a:lnTo>
                  <a:lnTo>
                    <a:pt x="517" y="3796"/>
                  </a:lnTo>
                  <a:lnTo>
                    <a:pt x="143" y="4543"/>
                  </a:lnTo>
                  <a:lnTo>
                    <a:pt x="0" y="5348"/>
                  </a:lnTo>
                  <a:lnTo>
                    <a:pt x="56" y="5866"/>
                  </a:lnTo>
                  <a:lnTo>
                    <a:pt x="202" y="6472"/>
                  </a:lnTo>
                  <a:lnTo>
                    <a:pt x="517" y="7073"/>
                  </a:lnTo>
                  <a:lnTo>
                    <a:pt x="1038" y="7677"/>
                  </a:lnTo>
                  <a:lnTo>
                    <a:pt x="1672" y="8109"/>
                  </a:lnTo>
                  <a:lnTo>
                    <a:pt x="2451" y="8425"/>
                  </a:lnTo>
                  <a:lnTo>
                    <a:pt x="3345" y="8425"/>
                  </a:lnTo>
                  <a:lnTo>
                    <a:pt x="4064" y="8253"/>
                  </a:lnTo>
                  <a:lnTo>
                    <a:pt x="4729" y="7880"/>
                  </a:lnTo>
                  <a:lnTo>
                    <a:pt x="5162" y="7507"/>
                  </a:lnTo>
                  <a:lnTo>
                    <a:pt x="5564" y="7045"/>
                  </a:lnTo>
                  <a:lnTo>
                    <a:pt x="5794" y="6528"/>
                  </a:lnTo>
                  <a:lnTo>
                    <a:pt x="5911" y="6038"/>
                  </a:lnTo>
                  <a:lnTo>
                    <a:pt x="5969" y="5520"/>
                  </a:lnTo>
                  <a:lnTo>
                    <a:pt x="6026" y="4370"/>
                  </a:lnTo>
                  <a:lnTo>
                    <a:pt x="6142" y="3796"/>
                  </a:lnTo>
                  <a:lnTo>
                    <a:pt x="6315" y="3364"/>
                  </a:lnTo>
                  <a:lnTo>
                    <a:pt x="6516" y="3049"/>
                  </a:lnTo>
                  <a:lnTo>
                    <a:pt x="6805" y="2731"/>
                  </a:lnTo>
                  <a:lnTo>
                    <a:pt x="7064" y="2386"/>
                  </a:lnTo>
                  <a:lnTo>
                    <a:pt x="7236" y="2071"/>
                  </a:lnTo>
                  <a:lnTo>
                    <a:pt x="7296" y="1725"/>
                  </a:lnTo>
                  <a:lnTo>
                    <a:pt x="7324" y="1437"/>
                  </a:lnTo>
                  <a:lnTo>
                    <a:pt x="7324" y="1093"/>
                  </a:lnTo>
                  <a:lnTo>
                    <a:pt x="7208" y="691"/>
                  </a:lnTo>
                  <a:lnTo>
                    <a:pt x="7092" y="461"/>
                  </a:lnTo>
                  <a:lnTo>
                    <a:pt x="6978" y="286"/>
                  </a:lnTo>
                  <a:lnTo>
                    <a:pt x="6718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27"/>
            <p:cNvSpPr/>
            <p:nvPr/>
          </p:nvSpPr>
          <p:spPr>
            <a:xfrm>
              <a:off x="8158320" y="340560"/>
              <a:ext cx="680760" cy="87840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878400"/>
                <a:gd name="textAreaBottom" fmla="*/ 878760 h 878400"/>
              </a:gdLst>
              <a:ahLst/>
              <a:rect l="textAreaLeft" t="textAreaTop" r="textAreaRight" b="textAreaBottom"/>
              <a:pathLst>
                <a:path w="8565" h="8830">
                  <a:moveTo>
                    <a:pt x="5997" y="0"/>
                  </a:moveTo>
                  <a:lnTo>
                    <a:pt x="5509" y="116"/>
                  </a:lnTo>
                  <a:lnTo>
                    <a:pt x="5163" y="289"/>
                  </a:lnTo>
                  <a:lnTo>
                    <a:pt x="4903" y="519"/>
                  </a:lnTo>
                  <a:lnTo>
                    <a:pt x="4701" y="777"/>
                  </a:lnTo>
                  <a:lnTo>
                    <a:pt x="4499" y="1123"/>
                  </a:lnTo>
                  <a:lnTo>
                    <a:pt x="4268" y="1438"/>
                  </a:lnTo>
                  <a:lnTo>
                    <a:pt x="4037" y="1727"/>
                  </a:lnTo>
                  <a:lnTo>
                    <a:pt x="3634" y="2042"/>
                  </a:lnTo>
                  <a:lnTo>
                    <a:pt x="3287" y="2273"/>
                  </a:lnTo>
                  <a:lnTo>
                    <a:pt x="2855" y="2475"/>
                  </a:lnTo>
                  <a:lnTo>
                    <a:pt x="2423" y="2646"/>
                  </a:lnTo>
                  <a:lnTo>
                    <a:pt x="1818" y="2877"/>
                  </a:lnTo>
                  <a:lnTo>
                    <a:pt x="1182" y="3280"/>
                  </a:lnTo>
                  <a:lnTo>
                    <a:pt x="720" y="3768"/>
                  </a:lnTo>
                  <a:lnTo>
                    <a:pt x="491" y="4228"/>
                  </a:lnTo>
                  <a:lnTo>
                    <a:pt x="232" y="4976"/>
                  </a:lnTo>
                  <a:lnTo>
                    <a:pt x="145" y="5522"/>
                  </a:lnTo>
                  <a:lnTo>
                    <a:pt x="232" y="6300"/>
                  </a:lnTo>
                  <a:lnTo>
                    <a:pt x="491" y="6932"/>
                  </a:lnTo>
                  <a:lnTo>
                    <a:pt x="865" y="7422"/>
                  </a:lnTo>
                  <a:lnTo>
                    <a:pt x="1270" y="7851"/>
                  </a:lnTo>
                  <a:lnTo>
                    <a:pt x="1701" y="8169"/>
                  </a:lnTo>
                  <a:lnTo>
                    <a:pt x="2250" y="8399"/>
                  </a:lnTo>
                  <a:lnTo>
                    <a:pt x="2826" y="8514"/>
                  </a:lnTo>
                  <a:lnTo>
                    <a:pt x="3431" y="8486"/>
                  </a:lnTo>
                  <a:lnTo>
                    <a:pt x="4037" y="8370"/>
                  </a:lnTo>
                  <a:lnTo>
                    <a:pt x="4529" y="8112"/>
                  </a:lnTo>
                  <a:lnTo>
                    <a:pt x="4932" y="7851"/>
                  </a:lnTo>
                  <a:lnTo>
                    <a:pt x="5306" y="7478"/>
                  </a:lnTo>
                  <a:lnTo>
                    <a:pt x="5595" y="7134"/>
                  </a:lnTo>
                  <a:lnTo>
                    <a:pt x="5768" y="6760"/>
                  </a:lnTo>
                  <a:lnTo>
                    <a:pt x="5913" y="6269"/>
                  </a:lnTo>
                  <a:lnTo>
                    <a:pt x="5970" y="5839"/>
                  </a:lnTo>
                  <a:lnTo>
                    <a:pt x="5997" y="5408"/>
                  </a:lnTo>
                  <a:lnTo>
                    <a:pt x="5997" y="4948"/>
                  </a:lnTo>
                  <a:lnTo>
                    <a:pt x="6028" y="4431"/>
                  </a:lnTo>
                  <a:lnTo>
                    <a:pt x="6144" y="3912"/>
                  </a:lnTo>
                  <a:lnTo>
                    <a:pt x="6287" y="3597"/>
                  </a:lnTo>
                  <a:lnTo>
                    <a:pt x="6546" y="3164"/>
                  </a:lnTo>
                  <a:lnTo>
                    <a:pt x="6864" y="2819"/>
                  </a:lnTo>
                  <a:lnTo>
                    <a:pt x="7151" y="2446"/>
                  </a:lnTo>
                  <a:lnTo>
                    <a:pt x="7267" y="2129"/>
                  </a:lnTo>
                  <a:lnTo>
                    <a:pt x="7355" y="1755"/>
                  </a:lnTo>
                  <a:lnTo>
                    <a:pt x="7355" y="1410"/>
                  </a:lnTo>
                  <a:lnTo>
                    <a:pt x="7267" y="921"/>
                  </a:lnTo>
                  <a:lnTo>
                    <a:pt x="7123" y="604"/>
                  </a:lnTo>
                  <a:lnTo>
                    <a:pt x="6950" y="377"/>
                  </a:lnTo>
                  <a:lnTo>
                    <a:pt x="6690" y="174"/>
                  </a:lnTo>
                  <a:lnTo>
                    <a:pt x="7123" y="491"/>
                  </a:lnTo>
                  <a:lnTo>
                    <a:pt x="7355" y="834"/>
                  </a:lnTo>
                  <a:lnTo>
                    <a:pt x="7469" y="1180"/>
                  </a:lnTo>
                  <a:lnTo>
                    <a:pt x="7499" y="1526"/>
                  </a:lnTo>
                  <a:lnTo>
                    <a:pt x="7499" y="1869"/>
                  </a:lnTo>
                  <a:lnTo>
                    <a:pt x="7411" y="2215"/>
                  </a:lnTo>
                  <a:lnTo>
                    <a:pt x="7267" y="2531"/>
                  </a:lnTo>
                  <a:lnTo>
                    <a:pt x="7008" y="2905"/>
                  </a:lnTo>
                  <a:lnTo>
                    <a:pt x="6633" y="3280"/>
                  </a:lnTo>
                  <a:lnTo>
                    <a:pt x="6403" y="3680"/>
                  </a:lnTo>
                  <a:lnTo>
                    <a:pt x="6228" y="4142"/>
                  </a:lnTo>
                  <a:lnTo>
                    <a:pt x="6172" y="4574"/>
                  </a:lnTo>
                  <a:lnTo>
                    <a:pt x="6172" y="5178"/>
                  </a:lnTo>
                  <a:lnTo>
                    <a:pt x="6144" y="5694"/>
                  </a:lnTo>
                  <a:lnTo>
                    <a:pt x="6085" y="6212"/>
                  </a:lnTo>
                  <a:lnTo>
                    <a:pt x="5970" y="6673"/>
                  </a:lnTo>
                  <a:lnTo>
                    <a:pt x="5797" y="7105"/>
                  </a:lnTo>
                  <a:lnTo>
                    <a:pt x="5566" y="7422"/>
                  </a:lnTo>
                  <a:lnTo>
                    <a:pt x="5306" y="7681"/>
                  </a:lnTo>
                  <a:lnTo>
                    <a:pt x="6172" y="7651"/>
                  </a:lnTo>
                  <a:lnTo>
                    <a:pt x="6749" y="7737"/>
                  </a:lnTo>
                  <a:lnTo>
                    <a:pt x="6950" y="7708"/>
                  </a:lnTo>
                  <a:lnTo>
                    <a:pt x="7181" y="7624"/>
                  </a:lnTo>
                  <a:lnTo>
                    <a:pt x="7555" y="7593"/>
                  </a:lnTo>
                  <a:lnTo>
                    <a:pt x="7931" y="7593"/>
                  </a:lnTo>
                  <a:lnTo>
                    <a:pt x="8420" y="7681"/>
                  </a:lnTo>
                  <a:lnTo>
                    <a:pt x="8565" y="7795"/>
                  </a:lnTo>
                  <a:lnTo>
                    <a:pt x="8537" y="7851"/>
                  </a:lnTo>
                  <a:lnTo>
                    <a:pt x="8363" y="7910"/>
                  </a:lnTo>
                  <a:lnTo>
                    <a:pt x="7987" y="7910"/>
                  </a:lnTo>
                  <a:lnTo>
                    <a:pt x="7669" y="7939"/>
                  </a:lnTo>
                  <a:lnTo>
                    <a:pt x="7527" y="8024"/>
                  </a:lnTo>
                  <a:lnTo>
                    <a:pt x="7469" y="8054"/>
                  </a:lnTo>
                  <a:lnTo>
                    <a:pt x="7355" y="8197"/>
                  </a:lnTo>
                  <a:lnTo>
                    <a:pt x="7151" y="8340"/>
                  </a:lnTo>
                  <a:lnTo>
                    <a:pt x="6921" y="8486"/>
                  </a:lnTo>
                  <a:lnTo>
                    <a:pt x="6546" y="8571"/>
                  </a:lnTo>
                  <a:lnTo>
                    <a:pt x="5853" y="8715"/>
                  </a:lnTo>
                  <a:lnTo>
                    <a:pt x="4788" y="8830"/>
                  </a:lnTo>
                  <a:lnTo>
                    <a:pt x="3634" y="8830"/>
                  </a:lnTo>
                  <a:lnTo>
                    <a:pt x="2826" y="8801"/>
                  </a:lnTo>
                  <a:lnTo>
                    <a:pt x="2192" y="8685"/>
                  </a:lnTo>
                  <a:lnTo>
                    <a:pt x="1731" y="8629"/>
                  </a:lnTo>
                  <a:lnTo>
                    <a:pt x="1471" y="8542"/>
                  </a:lnTo>
                  <a:lnTo>
                    <a:pt x="1443" y="8456"/>
                  </a:lnTo>
                  <a:lnTo>
                    <a:pt x="1500" y="8399"/>
                  </a:lnTo>
                  <a:lnTo>
                    <a:pt x="1644" y="8313"/>
                  </a:lnTo>
                  <a:lnTo>
                    <a:pt x="1213" y="8024"/>
                  </a:lnTo>
                  <a:lnTo>
                    <a:pt x="865" y="7708"/>
                  </a:lnTo>
                  <a:lnTo>
                    <a:pt x="576" y="7363"/>
                  </a:lnTo>
                  <a:lnTo>
                    <a:pt x="377" y="7046"/>
                  </a:lnTo>
                  <a:lnTo>
                    <a:pt x="202" y="6646"/>
                  </a:lnTo>
                  <a:lnTo>
                    <a:pt x="88" y="6300"/>
                  </a:lnTo>
                  <a:lnTo>
                    <a:pt x="0" y="5867"/>
                  </a:lnTo>
                  <a:lnTo>
                    <a:pt x="29" y="5294"/>
                  </a:lnTo>
                  <a:lnTo>
                    <a:pt x="88" y="4860"/>
                  </a:lnTo>
                  <a:lnTo>
                    <a:pt x="232" y="4344"/>
                  </a:lnTo>
                  <a:lnTo>
                    <a:pt x="520" y="3740"/>
                  </a:lnTo>
                  <a:lnTo>
                    <a:pt x="865" y="3338"/>
                  </a:lnTo>
                  <a:lnTo>
                    <a:pt x="1241" y="3021"/>
                  </a:lnTo>
                  <a:lnTo>
                    <a:pt x="1731" y="2733"/>
                  </a:lnTo>
                  <a:lnTo>
                    <a:pt x="2280" y="2560"/>
                  </a:lnTo>
                  <a:lnTo>
                    <a:pt x="2942" y="2302"/>
                  </a:lnTo>
                  <a:lnTo>
                    <a:pt x="3431" y="2014"/>
                  </a:lnTo>
                  <a:lnTo>
                    <a:pt x="3923" y="1641"/>
                  </a:lnTo>
                  <a:lnTo>
                    <a:pt x="4297" y="1180"/>
                  </a:lnTo>
                  <a:lnTo>
                    <a:pt x="4585" y="777"/>
                  </a:lnTo>
                  <a:lnTo>
                    <a:pt x="4788" y="491"/>
                  </a:lnTo>
                  <a:lnTo>
                    <a:pt x="5046" y="260"/>
                  </a:lnTo>
                  <a:lnTo>
                    <a:pt x="5277" y="116"/>
                  </a:lnTo>
                  <a:lnTo>
                    <a:pt x="5566" y="31"/>
                  </a:lnTo>
                  <a:lnTo>
                    <a:pt x="59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28"/>
            <p:cNvSpPr/>
            <p:nvPr/>
          </p:nvSpPr>
          <p:spPr>
            <a:xfrm>
              <a:off x="8685000" y="243000"/>
              <a:ext cx="87840" cy="11988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1096" h="1208">
                  <a:moveTo>
                    <a:pt x="116" y="1151"/>
                  </a:moveTo>
                  <a:lnTo>
                    <a:pt x="260" y="892"/>
                  </a:lnTo>
                  <a:lnTo>
                    <a:pt x="490" y="662"/>
                  </a:lnTo>
                  <a:lnTo>
                    <a:pt x="778" y="490"/>
                  </a:lnTo>
                  <a:lnTo>
                    <a:pt x="1096" y="317"/>
                  </a:lnTo>
                  <a:lnTo>
                    <a:pt x="894" y="0"/>
                  </a:lnTo>
                  <a:lnTo>
                    <a:pt x="518" y="230"/>
                  </a:lnTo>
                  <a:lnTo>
                    <a:pt x="288" y="459"/>
                  </a:lnTo>
                  <a:lnTo>
                    <a:pt x="116" y="691"/>
                  </a:lnTo>
                  <a:lnTo>
                    <a:pt x="0" y="949"/>
                  </a:lnTo>
                  <a:lnTo>
                    <a:pt x="200" y="634"/>
                  </a:lnTo>
                  <a:lnTo>
                    <a:pt x="432" y="376"/>
                  </a:lnTo>
                  <a:lnTo>
                    <a:pt x="866" y="86"/>
                  </a:lnTo>
                  <a:lnTo>
                    <a:pt x="980" y="317"/>
                  </a:lnTo>
                  <a:lnTo>
                    <a:pt x="577" y="490"/>
                  </a:lnTo>
                  <a:lnTo>
                    <a:pt x="317" y="691"/>
                  </a:lnTo>
                  <a:lnTo>
                    <a:pt x="173" y="949"/>
                  </a:lnTo>
                  <a:lnTo>
                    <a:pt x="57" y="1208"/>
                  </a:lnTo>
                  <a:lnTo>
                    <a:pt x="116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Box 24"/>
          <p:cNvSpPr/>
          <p:nvPr/>
        </p:nvSpPr>
        <p:spPr>
          <a:xfrm>
            <a:off x="152280" y="152388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rCo estimates that it will require 160,000 direct labor-hours to meet the coming period’s estimated production level. In addition, the company estimates total fixed manufacturing overhead at $200,000, and variable manufacturing overhead costs of $2.75 per direct labor h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25"/>
          <p:cNvSpPr/>
          <p:nvPr/>
        </p:nvSpPr>
        <p:spPr>
          <a:xfrm>
            <a:off x="533520" y="29718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a + 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$200,000 + ($2.75 per direct labor-hour × 160,000 direct labor-ho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$200,000 + $44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$64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Straight Arrow Connector 28"/>
          <p:cNvCxnSpPr/>
          <p:nvPr/>
        </p:nvCxnSpPr>
        <p:spPr>
          <a:xfrm>
            <a:off x="1549080" y="4064040"/>
            <a:ext cx="106740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p:transition spd="med">
    <p:strips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3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Job-Order Cost Accounting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355" name="Object 2"/>
          <p:cNvGraphicFramePr/>
          <p:nvPr/>
        </p:nvGraphicFramePr>
        <p:xfrm>
          <a:off x="685800" y="1438200"/>
          <a:ext cx="7772400" cy="484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38200"/>
                    <a:ext cx="7772400" cy="48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Line 1028"/>
          <p:cNvSpPr/>
          <p:nvPr/>
        </p:nvSpPr>
        <p:spPr>
          <a:xfrm>
            <a:off x="2292480" y="2209680"/>
            <a:ext cx="1739880" cy="0"/>
          </a:xfrm>
          <a:prstGeom prst="line">
            <a:avLst/>
          </a:prstGeom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029"/>
          <p:cNvSpPr/>
          <p:nvPr/>
        </p:nvSpPr>
        <p:spPr>
          <a:xfrm>
            <a:off x="2292480" y="2722680"/>
            <a:ext cx="1739880" cy="0"/>
          </a:xfrm>
          <a:prstGeom prst="line">
            <a:avLst/>
          </a:prstGeom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030"/>
          <p:cNvSpPr/>
          <p:nvPr/>
        </p:nvSpPr>
        <p:spPr>
          <a:xfrm>
            <a:off x="1530360" y="2992320"/>
            <a:ext cx="2502000" cy="0"/>
          </a:xfrm>
          <a:prstGeom prst="line">
            <a:avLst/>
          </a:prstGeom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031"/>
          <p:cNvSpPr/>
          <p:nvPr/>
        </p:nvSpPr>
        <p:spPr>
          <a:xfrm>
            <a:off x="6026040" y="2195640"/>
            <a:ext cx="2121120" cy="0"/>
          </a:xfrm>
          <a:prstGeom prst="line">
            <a:avLst/>
          </a:prstGeom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032"/>
          <p:cNvSpPr/>
          <p:nvPr/>
        </p:nvSpPr>
        <p:spPr>
          <a:xfrm>
            <a:off x="6254640" y="2459160"/>
            <a:ext cx="1892520" cy="0"/>
          </a:xfrm>
          <a:prstGeom prst="line">
            <a:avLst/>
          </a:prstGeom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033"/>
          <p:cNvSpPr/>
          <p:nvPr/>
        </p:nvSpPr>
        <p:spPr>
          <a:xfrm>
            <a:off x="6330960" y="2722680"/>
            <a:ext cx="1816200" cy="0"/>
          </a:xfrm>
          <a:prstGeom prst="line">
            <a:avLst/>
          </a:prstGeom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034"/>
          <p:cNvSpPr/>
          <p:nvPr/>
        </p:nvSpPr>
        <p:spPr>
          <a:xfrm>
            <a:off x="3732120" y="3324240"/>
            <a:ext cx="812880" cy="584280"/>
          </a:xfrm>
          <a:prstGeom prst="ellipse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1035"/>
          <p:cNvSpPr/>
          <p:nvPr/>
        </p:nvSpPr>
        <p:spPr>
          <a:xfrm>
            <a:off x="5484960" y="3324240"/>
            <a:ext cx="812520" cy="584280"/>
          </a:xfrm>
          <a:prstGeom prst="ellipse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AutoShape 1043"/>
          <p:cNvCxnSpPr/>
          <p:nvPr/>
        </p:nvCxnSpPr>
        <p:spPr>
          <a:xfrm flipH="1" rot="16200000">
            <a:off x="5013720" y="3061080"/>
            <a:ext cx="2520" cy="1753200"/>
          </a:xfrm>
          <a:prstGeom prst="curvedConnector5">
            <a:avLst>
              <a:gd name="adj1" fmla="val 25683333"/>
              <a:gd name="adj2" fmla="val 49989"/>
              <a:gd name="adj3" fmla="val 25683333"/>
            </a:avLst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66" name="Group 122"/>
          <p:cNvGrpSpPr/>
          <p:nvPr/>
        </p:nvGrpSpPr>
        <p:grpSpPr>
          <a:xfrm>
            <a:off x="8158320" y="243000"/>
            <a:ext cx="680760" cy="975960"/>
            <a:chOff x="8158320" y="243000"/>
            <a:chExt cx="680760" cy="975960"/>
          </a:xfrm>
        </p:grpSpPr>
        <p:sp>
          <p:nvSpPr>
            <p:cNvPr id="367" name="Freeform 123"/>
            <p:cNvSpPr/>
            <p:nvPr/>
          </p:nvSpPr>
          <p:spPr>
            <a:xfrm>
              <a:off x="8184960" y="340560"/>
              <a:ext cx="544680" cy="709920"/>
            </a:xfrm>
            <a:custGeom>
              <a:avLst/>
              <a:gdLst>
                <a:gd name="textAreaLeft" fmla="*/ 0 w 544680"/>
                <a:gd name="textAreaRight" fmla="*/ 545040 w 544680"/>
                <a:gd name="textAreaTop" fmla="*/ 0 h 709920"/>
                <a:gd name="textAreaBottom" fmla="*/ 710280 h 709920"/>
              </a:gdLst>
              <a:ahLst/>
              <a:rect l="textAreaLeft" t="textAreaTop" r="textAreaRight" b="textAreaBottom"/>
              <a:pathLst>
                <a:path w="6835" h="7134">
                  <a:moveTo>
                    <a:pt x="174" y="3970"/>
                  </a:moveTo>
                  <a:lnTo>
                    <a:pt x="0" y="4746"/>
                  </a:lnTo>
                  <a:lnTo>
                    <a:pt x="230" y="5867"/>
                  </a:lnTo>
                  <a:lnTo>
                    <a:pt x="1904" y="7134"/>
                  </a:lnTo>
                  <a:lnTo>
                    <a:pt x="4730" y="6356"/>
                  </a:lnTo>
                  <a:lnTo>
                    <a:pt x="5393" y="3768"/>
                  </a:lnTo>
                  <a:lnTo>
                    <a:pt x="6835" y="1553"/>
                  </a:lnTo>
                  <a:lnTo>
                    <a:pt x="6777" y="547"/>
                  </a:lnTo>
                  <a:lnTo>
                    <a:pt x="6317" y="174"/>
                  </a:lnTo>
                  <a:lnTo>
                    <a:pt x="5882" y="31"/>
                  </a:lnTo>
                  <a:lnTo>
                    <a:pt x="5537" y="0"/>
                  </a:lnTo>
                  <a:lnTo>
                    <a:pt x="4990" y="87"/>
                  </a:lnTo>
                  <a:lnTo>
                    <a:pt x="4557" y="433"/>
                  </a:lnTo>
                  <a:lnTo>
                    <a:pt x="4212" y="865"/>
                  </a:lnTo>
                  <a:lnTo>
                    <a:pt x="3894" y="1410"/>
                  </a:lnTo>
                  <a:lnTo>
                    <a:pt x="3546" y="1755"/>
                  </a:lnTo>
                  <a:lnTo>
                    <a:pt x="3058" y="2101"/>
                  </a:lnTo>
                  <a:lnTo>
                    <a:pt x="2596" y="2387"/>
                  </a:lnTo>
                  <a:lnTo>
                    <a:pt x="1961" y="2560"/>
                  </a:lnTo>
                  <a:lnTo>
                    <a:pt x="1269" y="2877"/>
                  </a:lnTo>
                  <a:lnTo>
                    <a:pt x="663" y="3338"/>
                  </a:lnTo>
                  <a:lnTo>
                    <a:pt x="174" y="397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24"/>
            <p:cNvSpPr/>
            <p:nvPr/>
          </p:nvSpPr>
          <p:spPr>
            <a:xfrm>
              <a:off x="8678520" y="251280"/>
              <a:ext cx="88920" cy="111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123" h="1122">
                  <a:moveTo>
                    <a:pt x="203" y="1122"/>
                  </a:moveTo>
                  <a:lnTo>
                    <a:pt x="347" y="806"/>
                  </a:lnTo>
                  <a:lnTo>
                    <a:pt x="577" y="548"/>
                  </a:lnTo>
                  <a:lnTo>
                    <a:pt x="1123" y="231"/>
                  </a:lnTo>
                  <a:lnTo>
                    <a:pt x="923" y="0"/>
                  </a:lnTo>
                  <a:lnTo>
                    <a:pt x="491" y="290"/>
                  </a:lnTo>
                  <a:lnTo>
                    <a:pt x="231" y="548"/>
                  </a:lnTo>
                  <a:lnTo>
                    <a:pt x="0" y="1036"/>
                  </a:lnTo>
                  <a:lnTo>
                    <a:pt x="203" y="1122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25"/>
            <p:cNvSpPr/>
            <p:nvPr/>
          </p:nvSpPr>
          <p:spPr>
            <a:xfrm>
              <a:off x="8551440" y="389160"/>
              <a:ext cx="41040" cy="68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21" h="691">
                  <a:moveTo>
                    <a:pt x="444" y="315"/>
                  </a:moveTo>
                  <a:lnTo>
                    <a:pt x="521" y="126"/>
                  </a:lnTo>
                  <a:lnTo>
                    <a:pt x="394" y="0"/>
                  </a:lnTo>
                  <a:lnTo>
                    <a:pt x="172" y="155"/>
                  </a:lnTo>
                  <a:lnTo>
                    <a:pt x="0" y="473"/>
                  </a:lnTo>
                  <a:lnTo>
                    <a:pt x="48" y="691"/>
                  </a:lnTo>
                  <a:lnTo>
                    <a:pt x="270" y="628"/>
                  </a:lnTo>
                  <a:lnTo>
                    <a:pt x="394" y="502"/>
                  </a:lnTo>
                  <a:lnTo>
                    <a:pt x="444" y="315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26"/>
            <p:cNvSpPr/>
            <p:nvPr/>
          </p:nvSpPr>
          <p:spPr>
            <a:xfrm>
              <a:off x="8162640" y="357480"/>
              <a:ext cx="582480" cy="83952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839520"/>
                <a:gd name="textAreaBottom" fmla="*/ 839880 h 839520"/>
              </a:gdLst>
              <a:ahLst/>
              <a:rect l="textAreaLeft" t="textAreaTop" r="textAreaRight" b="textAreaBottom"/>
              <a:pathLst>
                <a:path w="7324" h="8425">
                  <a:moveTo>
                    <a:pt x="6718" y="0"/>
                  </a:moveTo>
                  <a:lnTo>
                    <a:pt x="6805" y="229"/>
                  </a:lnTo>
                  <a:lnTo>
                    <a:pt x="6862" y="401"/>
                  </a:lnTo>
                  <a:lnTo>
                    <a:pt x="6891" y="632"/>
                  </a:lnTo>
                  <a:lnTo>
                    <a:pt x="6862" y="804"/>
                  </a:lnTo>
                  <a:lnTo>
                    <a:pt x="6805" y="978"/>
                  </a:lnTo>
                  <a:lnTo>
                    <a:pt x="6718" y="1150"/>
                  </a:lnTo>
                  <a:lnTo>
                    <a:pt x="6604" y="1379"/>
                  </a:lnTo>
                  <a:lnTo>
                    <a:pt x="6400" y="1553"/>
                  </a:lnTo>
                  <a:lnTo>
                    <a:pt x="5998" y="2099"/>
                  </a:lnTo>
                  <a:lnTo>
                    <a:pt x="5794" y="2415"/>
                  </a:lnTo>
                  <a:lnTo>
                    <a:pt x="5593" y="2847"/>
                  </a:lnTo>
                  <a:lnTo>
                    <a:pt x="5450" y="3393"/>
                  </a:lnTo>
                  <a:lnTo>
                    <a:pt x="5277" y="3968"/>
                  </a:lnTo>
                  <a:lnTo>
                    <a:pt x="5131" y="4370"/>
                  </a:lnTo>
                  <a:lnTo>
                    <a:pt x="4901" y="4802"/>
                  </a:lnTo>
                  <a:lnTo>
                    <a:pt x="4613" y="5148"/>
                  </a:lnTo>
                  <a:lnTo>
                    <a:pt x="4268" y="5494"/>
                  </a:lnTo>
                  <a:lnTo>
                    <a:pt x="3893" y="5693"/>
                  </a:lnTo>
                  <a:lnTo>
                    <a:pt x="3288" y="5924"/>
                  </a:lnTo>
                  <a:lnTo>
                    <a:pt x="2651" y="6038"/>
                  </a:lnTo>
                  <a:lnTo>
                    <a:pt x="2221" y="6095"/>
                  </a:lnTo>
                  <a:lnTo>
                    <a:pt x="1642" y="6067"/>
                  </a:lnTo>
                  <a:lnTo>
                    <a:pt x="1268" y="5953"/>
                  </a:lnTo>
                  <a:lnTo>
                    <a:pt x="950" y="5752"/>
                  </a:lnTo>
                  <a:lnTo>
                    <a:pt x="721" y="5520"/>
                  </a:lnTo>
                  <a:lnTo>
                    <a:pt x="517" y="5262"/>
                  </a:lnTo>
                  <a:lnTo>
                    <a:pt x="432" y="4975"/>
                  </a:lnTo>
                  <a:lnTo>
                    <a:pt x="374" y="4630"/>
                  </a:lnTo>
                  <a:lnTo>
                    <a:pt x="432" y="4226"/>
                  </a:lnTo>
                  <a:lnTo>
                    <a:pt x="517" y="3796"/>
                  </a:lnTo>
                  <a:lnTo>
                    <a:pt x="143" y="4543"/>
                  </a:lnTo>
                  <a:lnTo>
                    <a:pt x="0" y="5348"/>
                  </a:lnTo>
                  <a:lnTo>
                    <a:pt x="56" y="5866"/>
                  </a:lnTo>
                  <a:lnTo>
                    <a:pt x="202" y="6472"/>
                  </a:lnTo>
                  <a:lnTo>
                    <a:pt x="517" y="7073"/>
                  </a:lnTo>
                  <a:lnTo>
                    <a:pt x="1038" y="7677"/>
                  </a:lnTo>
                  <a:lnTo>
                    <a:pt x="1672" y="8109"/>
                  </a:lnTo>
                  <a:lnTo>
                    <a:pt x="2451" y="8425"/>
                  </a:lnTo>
                  <a:lnTo>
                    <a:pt x="3345" y="8425"/>
                  </a:lnTo>
                  <a:lnTo>
                    <a:pt x="4064" y="8253"/>
                  </a:lnTo>
                  <a:lnTo>
                    <a:pt x="4729" y="7880"/>
                  </a:lnTo>
                  <a:lnTo>
                    <a:pt x="5162" y="7507"/>
                  </a:lnTo>
                  <a:lnTo>
                    <a:pt x="5564" y="7045"/>
                  </a:lnTo>
                  <a:lnTo>
                    <a:pt x="5794" y="6528"/>
                  </a:lnTo>
                  <a:lnTo>
                    <a:pt x="5911" y="6038"/>
                  </a:lnTo>
                  <a:lnTo>
                    <a:pt x="5969" y="5520"/>
                  </a:lnTo>
                  <a:lnTo>
                    <a:pt x="6026" y="4370"/>
                  </a:lnTo>
                  <a:lnTo>
                    <a:pt x="6142" y="3796"/>
                  </a:lnTo>
                  <a:lnTo>
                    <a:pt x="6315" y="3364"/>
                  </a:lnTo>
                  <a:lnTo>
                    <a:pt x="6516" y="3049"/>
                  </a:lnTo>
                  <a:lnTo>
                    <a:pt x="6805" y="2731"/>
                  </a:lnTo>
                  <a:lnTo>
                    <a:pt x="7064" y="2386"/>
                  </a:lnTo>
                  <a:lnTo>
                    <a:pt x="7236" y="2071"/>
                  </a:lnTo>
                  <a:lnTo>
                    <a:pt x="7296" y="1725"/>
                  </a:lnTo>
                  <a:lnTo>
                    <a:pt x="7324" y="1437"/>
                  </a:lnTo>
                  <a:lnTo>
                    <a:pt x="7324" y="1093"/>
                  </a:lnTo>
                  <a:lnTo>
                    <a:pt x="7208" y="691"/>
                  </a:lnTo>
                  <a:lnTo>
                    <a:pt x="7092" y="461"/>
                  </a:lnTo>
                  <a:lnTo>
                    <a:pt x="6978" y="286"/>
                  </a:lnTo>
                  <a:lnTo>
                    <a:pt x="6718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7"/>
            <p:cNvSpPr/>
            <p:nvPr/>
          </p:nvSpPr>
          <p:spPr>
            <a:xfrm>
              <a:off x="8158320" y="340560"/>
              <a:ext cx="680760" cy="87840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878400"/>
                <a:gd name="textAreaBottom" fmla="*/ 878760 h 878400"/>
              </a:gdLst>
              <a:ahLst/>
              <a:rect l="textAreaLeft" t="textAreaTop" r="textAreaRight" b="textAreaBottom"/>
              <a:pathLst>
                <a:path w="8565" h="8830">
                  <a:moveTo>
                    <a:pt x="5997" y="0"/>
                  </a:moveTo>
                  <a:lnTo>
                    <a:pt x="5509" y="116"/>
                  </a:lnTo>
                  <a:lnTo>
                    <a:pt x="5163" y="289"/>
                  </a:lnTo>
                  <a:lnTo>
                    <a:pt x="4903" y="519"/>
                  </a:lnTo>
                  <a:lnTo>
                    <a:pt x="4701" y="777"/>
                  </a:lnTo>
                  <a:lnTo>
                    <a:pt x="4499" y="1123"/>
                  </a:lnTo>
                  <a:lnTo>
                    <a:pt x="4268" y="1438"/>
                  </a:lnTo>
                  <a:lnTo>
                    <a:pt x="4037" y="1727"/>
                  </a:lnTo>
                  <a:lnTo>
                    <a:pt x="3634" y="2042"/>
                  </a:lnTo>
                  <a:lnTo>
                    <a:pt x="3287" y="2273"/>
                  </a:lnTo>
                  <a:lnTo>
                    <a:pt x="2855" y="2475"/>
                  </a:lnTo>
                  <a:lnTo>
                    <a:pt x="2423" y="2646"/>
                  </a:lnTo>
                  <a:lnTo>
                    <a:pt x="1818" y="2877"/>
                  </a:lnTo>
                  <a:lnTo>
                    <a:pt x="1182" y="3280"/>
                  </a:lnTo>
                  <a:lnTo>
                    <a:pt x="720" y="3768"/>
                  </a:lnTo>
                  <a:lnTo>
                    <a:pt x="491" y="4228"/>
                  </a:lnTo>
                  <a:lnTo>
                    <a:pt x="232" y="4976"/>
                  </a:lnTo>
                  <a:lnTo>
                    <a:pt x="145" y="5522"/>
                  </a:lnTo>
                  <a:lnTo>
                    <a:pt x="232" y="6300"/>
                  </a:lnTo>
                  <a:lnTo>
                    <a:pt x="491" y="6932"/>
                  </a:lnTo>
                  <a:lnTo>
                    <a:pt x="865" y="7422"/>
                  </a:lnTo>
                  <a:lnTo>
                    <a:pt x="1270" y="7851"/>
                  </a:lnTo>
                  <a:lnTo>
                    <a:pt x="1701" y="8169"/>
                  </a:lnTo>
                  <a:lnTo>
                    <a:pt x="2250" y="8399"/>
                  </a:lnTo>
                  <a:lnTo>
                    <a:pt x="2826" y="8514"/>
                  </a:lnTo>
                  <a:lnTo>
                    <a:pt x="3431" y="8486"/>
                  </a:lnTo>
                  <a:lnTo>
                    <a:pt x="4037" y="8370"/>
                  </a:lnTo>
                  <a:lnTo>
                    <a:pt x="4529" y="8112"/>
                  </a:lnTo>
                  <a:lnTo>
                    <a:pt x="4932" y="7851"/>
                  </a:lnTo>
                  <a:lnTo>
                    <a:pt x="5306" y="7478"/>
                  </a:lnTo>
                  <a:lnTo>
                    <a:pt x="5595" y="7134"/>
                  </a:lnTo>
                  <a:lnTo>
                    <a:pt x="5768" y="6760"/>
                  </a:lnTo>
                  <a:lnTo>
                    <a:pt x="5913" y="6269"/>
                  </a:lnTo>
                  <a:lnTo>
                    <a:pt x="5970" y="5839"/>
                  </a:lnTo>
                  <a:lnTo>
                    <a:pt x="5997" y="5408"/>
                  </a:lnTo>
                  <a:lnTo>
                    <a:pt x="5997" y="4948"/>
                  </a:lnTo>
                  <a:lnTo>
                    <a:pt x="6028" y="4431"/>
                  </a:lnTo>
                  <a:lnTo>
                    <a:pt x="6144" y="3912"/>
                  </a:lnTo>
                  <a:lnTo>
                    <a:pt x="6287" y="3597"/>
                  </a:lnTo>
                  <a:lnTo>
                    <a:pt x="6546" y="3164"/>
                  </a:lnTo>
                  <a:lnTo>
                    <a:pt x="6864" y="2819"/>
                  </a:lnTo>
                  <a:lnTo>
                    <a:pt x="7151" y="2446"/>
                  </a:lnTo>
                  <a:lnTo>
                    <a:pt x="7267" y="2129"/>
                  </a:lnTo>
                  <a:lnTo>
                    <a:pt x="7355" y="1755"/>
                  </a:lnTo>
                  <a:lnTo>
                    <a:pt x="7355" y="1410"/>
                  </a:lnTo>
                  <a:lnTo>
                    <a:pt x="7267" y="921"/>
                  </a:lnTo>
                  <a:lnTo>
                    <a:pt x="7123" y="604"/>
                  </a:lnTo>
                  <a:lnTo>
                    <a:pt x="6950" y="377"/>
                  </a:lnTo>
                  <a:lnTo>
                    <a:pt x="6690" y="174"/>
                  </a:lnTo>
                  <a:lnTo>
                    <a:pt x="7123" y="491"/>
                  </a:lnTo>
                  <a:lnTo>
                    <a:pt x="7355" y="834"/>
                  </a:lnTo>
                  <a:lnTo>
                    <a:pt x="7469" y="1180"/>
                  </a:lnTo>
                  <a:lnTo>
                    <a:pt x="7499" y="1526"/>
                  </a:lnTo>
                  <a:lnTo>
                    <a:pt x="7499" y="1869"/>
                  </a:lnTo>
                  <a:lnTo>
                    <a:pt x="7411" y="2215"/>
                  </a:lnTo>
                  <a:lnTo>
                    <a:pt x="7267" y="2531"/>
                  </a:lnTo>
                  <a:lnTo>
                    <a:pt x="7008" y="2905"/>
                  </a:lnTo>
                  <a:lnTo>
                    <a:pt x="6633" y="3280"/>
                  </a:lnTo>
                  <a:lnTo>
                    <a:pt x="6403" y="3680"/>
                  </a:lnTo>
                  <a:lnTo>
                    <a:pt x="6228" y="4142"/>
                  </a:lnTo>
                  <a:lnTo>
                    <a:pt x="6172" y="4574"/>
                  </a:lnTo>
                  <a:lnTo>
                    <a:pt x="6172" y="5178"/>
                  </a:lnTo>
                  <a:lnTo>
                    <a:pt x="6144" y="5694"/>
                  </a:lnTo>
                  <a:lnTo>
                    <a:pt x="6085" y="6212"/>
                  </a:lnTo>
                  <a:lnTo>
                    <a:pt x="5970" y="6673"/>
                  </a:lnTo>
                  <a:lnTo>
                    <a:pt x="5797" y="7105"/>
                  </a:lnTo>
                  <a:lnTo>
                    <a:pt x="5566" y="7422"/>
                  </a:lnTo>
                  <a:lnTo>
                    <a:pt x="5306" y="7681"/>
                  </a:lnTo>
                  <a:lnTo>
                    <a:pt x="6172" y="7651"/>
                  </a:lnTo>
                  <a:lnTo>
                    <a:pt x="6749" y="7737"/>
                  </a:lnTo>
                  <a:lnTo>
                    <a:pt x="6950" y="7708"/>
                  </a:lnTo>
                  <a:lnTo>
                    <a:pt x="7181" y="7624"/>
                  </a:lnTo>
                  <a:lnTo>
                    <a:pt x="7555" y="7593"/>
                  </a:lnTo>
                  <a:lnTo>
                    <a:pt x="7931" y="7593"/>
                  </a:lnTo>
                  <a:lnTo>
                    <a:pt x="8420" y="7681"/>
                  </a:lnTo>
                  <a:lnTo>
                    <a:pt x="8565" y="7795"/>
                  </a:lnTo>
                  <a:lnTo>
                    <a:pt x="8537" y="7851"/>
                  </a:lnTo>
                  <a:lnTo>
                    <a:pt x="8363" y="7910"/>
                  </a:lnTo>
                  <a:lnTo>
                    <a:pt x="7987" y="7910"/>
                  </a:lnTo>
                  <a:lnTo>
                    <a:pt x="7669" y="7939"/>
                  </a:lnTo>
                  <a:lnTo>
                    <a:pt x="7527" y="8024"/>
                  </a:lnTo>
                  <a:lnTo>
                    <a:pt x="7469" y="8054"/>
                  </a:lnTo>
                  <a:lnTo>
                    <a:pt x="7355" y="8197"/>
                  </a:lnTo>
                  <a:lnTo>
                    <a:pt x="7151" y="8340"/>
                  </a:lnTo>
                  <a:lnTo>
                    <a:pt x="6921" y="8486"/>
                  </a:lnTo>
                  <a:lnTo>
                    <a:pt x="6546" y="8571"/>
                  </a:lnTo>
                  <a:lnTo>
                    <a:pt x="5853" y="8715"/>
                  </a:lnTo>
                  <a:lnTo>
                    <a:pt x="4788" y="8830"/>
                  </a:lnTo>
                  <a:lnTo>
                    <a:pt x="3634" y="8830"/>
                  </a:lnTo>
                  <a:lnTo>
                    <a:pt x="2826" y="8801"/>
                  </a:lnTo>
                  <a:lnTo>
                    <a:pt x="2192" y="8685"/>
                  </a:lnTo>
                  <a:lnTo>
                    <a:pt x="1731" y="8629"/>
                  </a:lnTo>
                  <a:lnTo>
                    <a:pt x="1471" y="8542"/>
                  </a:lnTo>
                  <a:lnTo>
                    <a:pt x="1443" y="8456"/>
                  </a:lnTo>
                  <a:lnTo>
                    <a:pt x="1500" y="8399"/>
                  </a:lnTo>
                  <a:lnTo>
                    <a:pt x="1644" y="8313"/>
                  </a:lnTo>
                  <a:lnTo>
                    <a:pt x="1213" y="8024"/>
                  </a:lnTo>
                  <a:lnTo>
                    <a:pt x="865" y="7708"/>
                  </a:lnTo>
                  <a:lnTo>
                    <a:pt x="576" y="7363"/>
                  </a:lnTo>
                  <a:lnTo>
                    <a:pt x="377" y="7046"/>
                  </a:lnTo>
                  <a:lnTo>
                    <a:pt x="202" y="6646"/>
                  </a:lnTo>
                  <a:lnTo>
                    <a:pt x="88" y="6300"/>
                  </a:lnTo>
                  <a:lnTo>
                    <a:pt x="0" y="5867"/>
                  </a:lnTo>
                  <a:lnTo>
                    <a:pt x="29" y="5294"/>
                  </a:lnTo>
                  <a:lnTo>
                    <a:pt x="88" y="4860"/>
                  </a:lnTo>
                  <a:lnTo>
                    <a:pt x="232" y="4344"/>
                  </a:lnTo>
                  <a:lnTo>
                    <a:pt x="520" y="3740"/>
                  </a:lnTo>
                  <a:lnTo>
                    <a:pt x="865" y="3338"/>
                  </a:lnTo>
                  <a:lnTo>
                    <a:pt x="1241" y="3021"/>
                  </a:lnTo>
                  <a:lnTo>
                    <a:pt x="1731" y="2733"/>
                  </a:lnTo>
                  <a:lnTo>
                    <a:pt x="2280" y="2560"/>
                  </a:lnTo>
                  <a:lnTo>
                    <a:pt x="2942" y="2302"/>
                  </a:lnTo>
                  <a:lnTo>
                    <a:pt x="3431" y="2014"/>
                  </a:lnTo>
                  <a:lnTo>
                    <a:pt x="3923" y="1641"/>
                  </a:lnTo>
                  <a:lnTo>
                    <a:pt x="4297" y="1180"/>
                  </a:lnTo>
                  <a:lnTo>
                    <a:pt x="4585" y="777"/>
                  </a:lnTo>
                  <a:lnTo>
                    <a:pt x="4788" y="491"/>
                  </a:lnTo>
                  <a:lnTo>
                    <a:pt x="5046" y="260"/>
                  </a:lnTo>
                  <a:lnTo>
                    <a:pt x="5277" y="116"/>
                  </a:lnTo>
                  <a:lnTo>
                    <a:pt x="5566" y="31"/>
                  </a:lnTo>
                  <a:lnTo>
                    <a:pt x="59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28"/>
            <p:cNvSpPr/>
            <p:nvPr/>
          </p:nvSpPr>
          <p:spPr>
            <a:xfrm>
              <a:off x="8685000" y="243000"/>
              <a:ext cx="87840" cy="11988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1096" h="1208">
                  <a:moveTo>
                    <a:pt x="116" y="1151"/>
                  </a:moveTo>
                  <a:lnTo>
                    <a:pt x="260" y="892"/>
                  </a:lnTo>
                  <a:lnTo>
                    <a:pt x="490" y="662"/>
                  </a:lnTo>
                  <a:lnTo>
                    <a:pt x="778" y="490"/>
                  </a:lnTo>
                  <a:lnTo>
                    <a:pt x="1096" y="317"/>
                  </a:lnTo>
                  <a:lnTo>
                    <a:pt x="894" y="0"/>
                  </a:lnTo>
                  <a:lnTo>
                    <a:pt x="518" y="230"/>
                  </a:lnTo>
                  <a:lnTo>
                    <a:pt x="288" y="459"/>
                  </a:lnTo>
                  <a:lnTo>
                    <a:pt x="116" y="691"/>
                  </a:lnTo>
                  <a:lnTo>
                    <a:pt x="0" y="949"/>
                  </a:lnTo>
                  <a:lnTo>
                    <a:pt x="200" y="634"/>
                  </a:lnTo>
                  <a:lnTo>
                    <a:pt x="432" y="376"/>
                  </a:lnTo>
                  <a:lnTo>
                    <a:pt x="866" y="86"/>
                  </a:lnTo>
                  <a:lnTo>
                    <a:pt x="980" y="317"/>
                  </a:lnTo>
                  <a:lnTo>
                    <a:pt x="577" y="490"/>
                  </a:lnTo>
                  <a:lnTo>
                    <a:pt x="317" y="691"/>
                  </a:lnTo>
                  <a:lnTo>
                    <a:pt x="173" y="949"/>
                  </a:lnTo>
                  <a:lnTo>
                    <a:pt x="57" y="1208"/>
                  </a:lnTo>
                  <a:lnTo>
                    <a:pt x="116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3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1905120" y="2671920"/>
            <a:ext cx="5333760" cy="1647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Compute the total cost and average cost per unit of a job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Job-Order Costing: An Overview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228600" y="1752480"/>
            <a:ext cx="8686800" cy="4021560"/>
          </a:xfrm>
          <a:prstGeom prst="rect">
            <a:avLst/>
          </a:prstGeom>
          <a:solidFill>
            <a:srgbClr val="39639d"/>
          </a:solidFill>
          <a:ln w="19080">
            <a:solidFill>
              <a:srgbClr val="274772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be0d1"/>
                </a:solidFill>
                <a:latin typeface="Arial"/>
              </a:rPr>
              <a:t>Job-order costing systems are used when:</a:t>
            </a:r>
            <a:r>
              <a:rPr b="1" lang="en-US" sz="3200" spc="-1" strike="noStrike">
                <a:solidFill>
                  <a:srgbClr val="dd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y different products are produced each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ts are manufactured to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unique nature of each order requires tracing or allocating costs to each job, and maintaining cost records for each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Job-Order Cost Accounting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376" name="Object 2"/>
          <p:cNvGraphicFramePr/>
          <p:nvPr/>
        </p:nvGraphicFramePr>
        <p:xfrm>
          <a:off x="609480" y="1438200"/>
          <a:ext cx="7942320" cy="496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38200"/>
                    <a:ext cx="794232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Line 4"/>
          <p:cNvSpPr/>
          <p:nvPr/>
        </p:nvSpPr>
        <p:spPr>
          <a:xfrm>
            <a:off x="2216160" y="2230560"/>
            <a:ext cx="1739880" cy="0"/>
          </a:xfrm>
          <a:prstGeom prst="line">
            <a:avLst/>
          </a:prstGeom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2216160" y="2743200"/>
            <a:ext cx="1739880" cy="0"/>
          </a:xfrm>
          <a:prstGeom prst="line">
            <a:avLst/>
          </a:prstGeom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6"/>
          <p:cNvSpPr/>
          <p:nvPr/>
        </p:nvSpPr>
        <p:spPr>
          <a:xfrm>
            <a:off x="1454040" y="3048120"/>
            <a:ext cx="2502000" cy="0"/>
          </a:xfrm>
          <a:prstGeom prst="line">
            <a:avLst/>
          </a:prstGeom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7"/>
          <p:cNvSpPr/>
          <p:nvPr/>
        </p:nvSpPr>
        <p:spPr>
          <a:xfrm>
            <a:off x="5950080" y="2216160"/>
            <a:ext cx="2120760" cy="0"/>
          </a:xfrm>
          <a:prstGeom prst="line">
            <a:avLst/>
          </a:prstGeom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8"/>
          <p:cNvSpPr/>
          <p:nvPr/>
        </p:nvSpPr>
        <p:spPr>
          <a:xfrm>
            <a:off x="6178680" y="2479680"/>
            <a:ext cx="1892160" cy="0"/>
          </a:xfrm>
          <a:prstGeom prst="line">
            <a:avLst/>
          </a:prstGeom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9"/>
          <p:cNvSpPr/>
          <p:nvPr/>
        </p:nvSpPr>
        <p:spPr>
          <a:xfrm>
            <a:off x="6254640" y="2743200"/>
            <a:ext cx="1816200" cy="0"/>
          </a:xfrm>
          <a:prstGeom prst="line">
            <a:avLst/>
          </a:prstGeom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122"/>
          <p:cNvGrpSpPr/>
          <p:nvPr/>
        </p:nvGrpSpPr>
        <p:grpSpPr>
          <a:xfrm>
            <a:off x="8158320" y="243000"/>
            <a:ext cx="680760" cy="975960"/>
            <a:chOff x="8158320" y="243000"/>
            <a:chExt cx="680760" cy="975960"/>
          </a:xfrm>
        </p:grpSpPr>
        <p:sp>
          <p:nvSpPr>
            <p:cNvPr id="385" name="Freeform 123"/>
            <p:cNvSpPr/>
            <p:nvPr/>
          </p:nvSpPr>
          <p:spPr>
            <a:xfrm>
              <a:off x="8184960" y="340560"/>
              <a:ext cx="544680" cy="709920"/>
            </a:xfrm>
            <a:custGeom>
              <a:avLst/>
              <a:gdLst>
                <a:gd name="textAreaLeft" fmla="*/ 0 w 544680"/>
                <a:gd name="textAreaRight" fmla="*/ 545040 w 544680"/>
                <a:gd name="textAreaTop" fmla="*/ 0 h 709920"/>
                <a:gd name="textAreaBottom" fmla="*/ 710280 h 709920"/>
              </a:gdLst>
              <a:ahLst/>
              <a:rect l="textAreaLeft" t="textAreaTop" r="textAreaRight" b="textAreaBottom"/>
              <a:pathLst>
                <a:path w="6835" h="7134">
                  <a:moveTo>
                    <a:pt x="174" y="3970"/>
                  </a:moveTo>
                  <a:lnTo>
                    <a:pt x="0" y="4746"/>
                  </a:lnTo>
                  <a:lnTo>
                    <a:pt x="230" y="5867"/>
                  </a:lnTo>
                  <a:lnTo>
                    <a:pt x="1904" y="7134"/>
                  </a:lnTo>
                  <a:lnTo>
                    <a:pt x="4730" y="6356"/>
                  </a:lnTo>
                  <a:lnTo>
                    <a:pt x="5393" y="3768"/>
                  </a:lnTo>
                  <a:lnTo>
                    <a:pt x="6835" y="1553"/>
                  </a:lnTo>
                  <a:lnTo>
                    <a:pt x="6777" y="547"/>
                  </a:lnTo>
                  <a:lnTo>
                    <a:pt x="6317" y="174"/>
                  </a:lnTo>
                  <a:lnTo>
                    <a:pt x="5882" y="31"/>
                  </a:lnTo>
                  <a:lnTo>
                    <a:pt x="5537" y="0"/>
                  </a:lnTo>
                  <a:lnTo>
                    <a:pt x="4990" y="87"/>
                  </a:lnTo>
                  <a:lnTo>
                    <a:pt x="4557" y="433"/>
                  </a:lnTo>
                  <a:lnTo>
                    <a:pt x="4212" y="865"/>
                  </a:lnTo>
                  <a:lnTo>
                    <a:pt x="3894" y="1410"/>
                  </a:lnTo>
                  <a:lnTo>
                    <a:pt x="3546" y="1755"/>
                  </a:lnTo>
                  <a:lnTo>
                    <a:pt x="3058" y="2101"/>
                  </a:lnTo>
                  <a:lnTo>
                    <a:pt x="2596" y="2387"/>
                  </a:lnTo>
                  <a:lnTo>
                    <a:pt x="1961" y="2560"/>
                  </a:lnTo>
                  <a:lnTo>
                    <a:pt x="1269" y="2877"/>
                  </a:lnTo>
                  <a:lnTo>
                    <a:pt x="663" y="3338"/>
                  </a:lnTo>
                  <a:lnTo>
                    <a:pt x="174" y="397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4"/>
            <p:cNvSpPr/>
            <p:nvPr/>
          </p:nvSpPr>
          <p:spPr>
            <a:xfrm>
              <a:off x="8678520" y="251280"/>
              <a:ext cx="88920" cy="111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123" h="1122">
                  <a:moveTo>
                    <a:pt x="203" y="1122"/>
                  </a:moveTo>
                  <a:lnTo>
                    <a:pt x="347" y="806"/>
                  </a:lnTo>
                  <a:lnTo>
                    <a:pt x="577" y="548"/>
                  </a:lnTo>
                  <a:lnTo>
                    <a:pt x="1123" y="231"/>
                  </a:lnTo>
                  <a:lnTo>
                    <a:pt x="923" y="0"/>
                  </a:lnTo>
                  <a:lnTo>
                    <a:pt x="491" y="290"/>
                  </a:lnTo>
                  <a:lnTo>
                    <a:pt x="231" y="548"/>
                  </a:lnTo>
                  <a:lnTo>
                    <a:pt x="0" y="1036"/>
                  </a:lnTo>
                  <a:lnTo>
                    <a:pt x="203" y="1122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25"/>
            <p:cNvSpPr/>
            <p:nvPr/>
          </p:nvSpPr>
          <p:spPr>
            <a:xfrm>
              <a:off x="8551440" y="389160"/>
              <a:ext cx="41040" cy="68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21" h="691">
                  <a:moveTo>
                    <a:pt x="444" y="315"/>
                  </a:moveTo>
                  <a:lnTo>
                    <a:pt x="521" y="126"/>
                  </a:lnTo>
                  <a:lnTo>
                    <a:pt x="394" y="0"/>
                  </a:lnTo>
                  <a:lnTo>
                    <a:pt x="172" y="155"/>
                  </a:lnTo>
                  <a:lnTo>
                    <a:pt x="0" y="473"/>
                  </a:lnTo>
                  <a:lnTo>
                    <a:pt x="48" y="691"/>
                  </a:lnTo>
                  <a:lnTo>
                    <a:pt x="270" y="628"/>
                  </a:lnTo>
                  <a:lnTo>
                    <a:pt x="394" y="502"/>
                  </a:lnTo>
                  <a:lnTo>
                    <a:pt x="444" y="315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26"/>
            <p:cNvSpPr/>
            <p:nvPr/>
          </p:nvSpPr>
          <p:spPr>
            <a:xfrm>
              <a:off x="8162640" y="357480"/>
              <a:ext cx="582480" cy="83952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839520"/>
                <a:gd name="textAreaBottom" fmla="*/ 839880 h 839520"/>
              </a:gdLst>
              <a:ahLst/>
              <a:rect l="textAreaLeft" t="textAreaTop" r="textAreaRight" b="textAreaBottom"/>
              <a:pathLst>
                <a:path w="7324" h="8425">
                  <a:moveTo>
                    <a:pt x="6718" y="0"/>
                  </a:moveTo>
                  <a:lnTo>
                    <a:pt x="6805" y="229"/>
                  </a:lnTo>
                  <a:lnTo>
                    <a:pt x="6862" y="401"/>
                  </a:lnTo>
                  <a:lnTo>
                    <a:pt x="6891" y="632"/>
                  </a:lnTo>
                  <a:lnTo>
                    <a:pt x="6862" y="804"/>
                  </a:lnTo>
                  <a:lnTo>
                    <a:pt x="6805" y="978"/>
                  </a:lnTo>
                  <a:lnTo>
                    <a:pt x="6718" y="1150"/>
                  </a:lnTo>
                  <a:lnTo>
                    <a:pt x="6604" y="1379"/>
                  </a:lnTo>
                  <a:lnTo>
                    <a:pt x="6400" y="1553"/>
                  </a:lnTo>
                  <a:lnTo>
                    <a:pt x="5998" y="2099"/>
                  </a:lnTo>
                  <a:lnTo>
                    <a:pt x="5794" y="2415"/>
                  </a:lnTo>
                  <a:lnTo>
                    <a:pt x="5593" y="2847"/>
                  </a:lnTo>
                  <a:lnTo>
                    <a:pt x="5450" y="3393"/>
                  </a:lnTo>
                  <a:lnTo>
                    <a:pt x="5277" y="3968"/>
                  </a:lnTo>
                  <a:lnTo>
                    <a:pt x="5131" y="4370"/>
                  </a:lnTo>
                  <a:lnTo>
                    <a:pt x="4901" y="4802"/>
                  </a:lnTo>
                  <a:lnTo>
                    <a:pt x="4613" y="5148"/>
                  </a:lnTo>
                  <a:lnTo>
                    <a:pt x="4268" y="5494"/>
                  </a:lnTo>
                  <a:lnTo>
                    <a:pt x="3893" y="5693"/>
                  </a:lnTo>
                  <a:lnTo>
                    <a:pt x="3288" y="5924"/>
                  </a:lnTo>
                  <a:lnTo>
                    <a:pt x="2651" y="6038"/>
                  </a:lnTo>
                  <a:lnTo>
                    <a:pt x="2221" y="6095"/>
                  </a:lnTo>
                  <a:lnTo>
                    <a:pt x="1642" y="6067"/>
                  </a:lnTo>
                  <a:lnTo>
                    <a:pt x="1268" y="5953"/>
                  </a:lnTo>
                  <a:lnTo>
                    <a:pt x="950" y="5752"/>
                  </a:lnTo>
                  <a:lnTo>
                    <a:pt x="721" y="5520"/>
                  </a:lnTo>
                  <a:lnTo>
                    <a:pt x="517" y="5262"/>
                  </a:lnTo>
                  <a:lnTo>
                    <a:pt x="432" y="4975"/>
                  </a:lnTo>
                  <a:lnTo>
                    <a:pt x="374" y="4630"/>
                  </a:lnTo>
                  <a:lnTo>
                    <a:pt x="432" y="4226"/>
                  </a:lnTo>
                  <a:lnTo>
                    <a:pt x="517" y="3796"/>
                  </a:lnTo>
                  <a:lnTo>
                    <a:pt x="143" y="4543"/>
                  </a:lnTo>
                  <a:lnTo>
                    <a:pt x="0" y="5348"/>
                  </a:lnTo>
                  <a:lnTo>
                    <a:pt x="56" y="5866"/>
                  </a:lnTo>
                  <a:lnTo>
                    <a:pt x="202" y="6472"/>
                  </a:lnTo>
                  <a:lnTo>
                    <a:pt x="517" y="7073"/>
                  </a:lnTo>
                  <a:lnTo>
                    <a:pt x="1038" y="7677"/>
                  </a:lnTo>
                  <a:lnTo>
                    <a:pt x="1672" y="8109"/>
                  </a:lnTo>
                  <a:lnTo>
                    <a:pt x="2451" y="8425"/>
                  </a:lnTo>
                  <a:lnTo>
                    <a:pt x="3345" y="8425"/>
                  </a:lnTo>
                  <a:lnTo>
                    <a:pt x="4064" y="8253"/>
                  </a:lnTo>
                  <a:lnTo>
                    <a:pt x="4729" y="7880"/>
                  </a:lnTo>
                  <a:lnTo>
                    <a:pt x="5162" y="7507"/>
                  </a:lnTo>
                  <a:lnTo>
                    <a:pt x="5564" y="7045"/>
                  </a:lnTo>
                  <a:lnTo>
                    <a:pt x="5794" y="6528"/>
                  </a:lnTo>
                  <a:lnTo>
                    <a:pt x="5911" y="6038"/>
                  </a:lnTo>
                  <a:lnTo>
                    <a:pt x="5969" y="5520"/>
                  </a:lnTo>
                  <a:lnTo>
                    <a:pt x="6026" y="4370"/>
                  </a:lnTo>
                  <a:lnTo>
                    <a:pt x="6142" y="3796"/>
                  </a:lnTo>
                  <a:lnTo>
                    <a:pt x="6315" y="3364"/>
                  </a:lnTo>
                  <a:lnTo>
                    <a:pt x="6516" y="3049"/>
                  </a:lnTo>
                  <a:lnTo>
                    <a:pt x="6805" y="2731"/>
                  </a:lnTo>
                  <a:lnTo>
                    <a:pt x="7064" y="2386"/>
                  </a:lnTo>
                  <a:lnTo>
                    <a:pt x="7236" y="2071"/>
                  </a:lnTo>
                  <a:lnTo>
                    <a:pt x="7296" y="1725"/>
                  </a:lnTo>
                  <a:lnTo>
                    <a:pt x="7324" y="1437"/>
                  </a:lnTo>
                  <a:lnTo>
                    <a:pt x="7324" y="1093"/>
                  </a:lnTo>
                  <a:lnTo>
                    <a:pt x="7208" y="691"/>
                  </a:lnTo>
                  <a:lnTo>
                    <a:pt x="7092" y="461"/>
                  </a:lnTo>
                  <a:lnTo>
                    <a:pt x="6978" y="286"/>
                  </a:lnTo>
                  <a:lnTo>
                    <a:pt x="6718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27"/>
            <p:cNvSpPr/>
            <p:nvPr/>
          </p:nvSpPr>
          <p:spPr>
            <a:xfrm>
              <a:off x="8158320" y="340560"/>
              <a:ext cx="680760" cy="87840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878400"/>
                <a:gd name="textAreaBottom" fmla="*/ 878760 h 878400"/>
              </a:gdLst>
              <a:ahLst/>
              <a:rect l="textAreaLeft" t="textAreaTop" r="textAreaRight" b="textAreaBottom"/>
              <a:pathLst>
                <a:path w="8565" h="8830">
                  <a:moveTo>
                    <a:pt x="5997" y="0"/>
                  </a:moveTo>
                  <a:lnTo>
                    <a:pt x="5509" y="116"/>
                  </a:lnTo>
                  <a:lnTo>
                    <a:pt x="5163" y="289"/>
                  </a:lnTo>
                  <a:lnTo>
                    <a:pt x="4903" y="519"/>
                  </a:lnTo>
                  <a:lnTo>
                    <a:pt x="4701" y="777"/>
                  </a:lnTo>
                  <a:lnTo>
                    <a:pt x="4499" y="1123"/>
                  </a:lnTo>
                  <a:lnTo>
                    <a:pt x="4268" y="1438"/>
                  </a:lnTo>
                  <a:lnTo>
                    <a:pt x="4037" y="1727"/>
                  </a:lnTo>
                  <a:lnTo>
                    <a:pt x="3634" y="2042"/>
                  </a:lnTo>
                  <a:lnTo>
                    <a:pt x="3287" y="2273"/>
                  </a:lnTo>
                  <a:lnTo>
                    <a:pt x="2855" y="2475"/>
                  </a:lnTo>
                  <a:lnTo>
                    <a:pt x="2423" y="2646"/>
                  </a:lnTo>
                  <a:lnTo>
                    <a:pt x="1818" y="2877"/>
                  </a:lnTo>
                  <a:lnTo>
                    <a:pt x="1182" y="3280"/>
                  </a:lnTo>
                  <a:lnTo>
                    <a:pt x="720" y="3768"/>
                  </a:lnTo>
                  <a:lnTo>
                    <a:pt x="491" y="4228"/>
                  </a:lnTo>
                  <a:lnTo>
                    <a:pt x="232" y="4976"/>
                  </a:lnTo>
                  <a:lnTo>
                    <a:pt x="145" y="5522"/>
                  </a:lnTo>
                  <a:lnTo>
                    <a:pt x="232" y="6300"/>
                  </a:lnTo>
                  <a:lnTo>
                    <a:pt x="491" y="6932"/>
                  </a:lnTo>
                  <a:lnTo>
                    <a:pt x="865" y="7422"/>
                  </a:lnTo>
                  <a:lnTo>
                    <a:pt x="1270" y="7851"/>
                  </a:lnTo>
                  <a:lnTo>
                    <a:pt x="1701" y="8169"/>
                  </a:lnTo>
                  <a:lnTo>
                    <a:pt x="2250" y="8399"/>
                  </a:lnTo>
                  <a:lnTo>
                    <a:pt x="2826" y="8514"/>
                  </a:lnTo>
                  <a:lnTo>
                    <a:pt x="3431" y="8486"/>
                  </a:lnTo>
                  <a:lnTo>
                    <a:pt x="4037" y="8370"/>
                  </a:lnTo>
                  <a:lnTo>
                    <a:pt x="4529" y="8112"/>
                  </a:lnTo>
                  <a:lnTo>
                    <a:pt x="4932" y="7851"/>
                  </a:lnTo>
                  <a:lnTo>
                    <a:pt x="5306" y="7478"/>
                  </a:lnTo>
                  <a:lnTo>
                    <a:pt x="5595" y="7134"/>
                  </a:lnTo>
                  <a:lnTo>
                    <a:pt x="5768" y="6760"/>
                  </a:lnTo>
                  <a:lnTo>
                    <a:pt x="5913" y="6269"/>
                  </a:lnTo>
                  <a:lnTo>
                    <a:pt x="5970" y="5839"/>
                  </a:lnTo>
                  <a:lnTo>
                    <a:pt x="5997" y="5408"/>
                  </a:lnTo>
                  <a:lnTo>
                    <a:pt x="5997" y="4948"/>
                  </a:lnTo>
                  <a:lnTo>
                    <a:pt x="6028" y="4431"/>
                  </a:lnTo>
                  <a:lnTo>
                    <a:pt x="6144" y="3912"/>
                  </a:lnTo>
                  <a:lnTo>
                    <a:pt x="6287" y="3597"/>
                  </a:lnTo>
                  <a:lnTo>
                    <a:pt x="6546" y="3164"/>
                  </a:lnTo>
                  <a:lnTo>
                    <a:pt x="6864" y="2819"/>
                  </a:lnTo>
                  <a:lnTo>
                    <a:pt x="7151" y="2446"/>
                  </a:lnTo>
                  <a:lnTo>
                    <a:pt x="7267" y="2129"/>
                  </a:lnTo>
                  <a:lnTo>
                    <a:pt x="7355" y="1755"/>
                  </a:lnTo>
                  <a:lnTo>
                    <a:pt x="7355" y="1410"/>
                  </a:lnTo>
                  <a:lnTo>
                    <a:pt x="7267" y="921"/>
                  </a:lnTo>
                  <a:lnTo>
                    <a:pt x="7123" y="604"/>
                  </a:lnTo>
                  <a:lnTo>
                    <a:pt x="6950" y="377"/>
                  </a:lnTo>
                  <a:lnTo>
                    <a:pt x="6690" y="174"/>
                  </a:lnTo>
                  <a:lnTo>
                    <a:pt x="7123" y="491"/>
                  </a:lnTo>
                  <a:lnTo>
                    <a:pt x="7355" y="834"/>
                  </a:lnTo>
                  <a:lnTo>
                    <a:pt x="7469" y="1180"/>
                  </a:lnTo>
                  <a:lnTo>
                    <a:pt x="7499" y="1526"/>
                  </a:lnTo>
                  <a:lnTo>
                    <a:pt x="7499" y="1869"/>
                  </a:lnTo>
                  <a:lnTo>
                    <a:pt x="7411" y="2215"/>
                  </a:lnTo>
                  <a:lnTo>
                    <a:pt x="7267" y="2531"/>
                  </a:lnTo>
                  <a:lnTo>
                    <a:pt x="7008" y="2905"/>
                  </a:lnTo>
                  <a:lnTo>
                    <a:pt x="6633" y="3280"/>
                  </a:lnTo>
                  <a:lnTo>
                    <a:pt x="6403" y="3680"/>
                  </a:lnTo>
                  <a:lnTo>
                    <a:pt x="6228" y="4142"/>
                  </a:lnTo>
                  <a:lnTo>
                    <a:pt x="6172" y="4574"/>
                  </a:lnTo>
                  <a:lnTo>
                    <a:pt x="6172" y="5178"/>
                  </a:lnTo>
                  <a:lnTo>
                    <a:pt x="6144" y="5694"/>
                  </a:lnTo>
                  <a:lnTo>
                    <a:pt x="6085" y="6212"/>
                  </a:lnTo>
                  <a:lnTo>
                    <a:pt x="5970" y="6673"/>
                  </a:lnTo>
                  <a:lnTo>
                    <a:pt x="5797" y="7105"/>
                  </a:lnTo>
                  <a:lnTo>
                    <a:pt x="5566" y="7422"/>
                  </a:lnTo>
                  <a:lnTo>
                    <a:pt x="5306" y="7681"/>
                  </a:lnTo>
                  <a:lnTo>
                    <a:pt x="6172" y="7651"/>
                  </a:lnTo>
                  <a:lnTo>
                    <a:pt x="6749" y="7737"/>
                  </a:lnTo>
                  <a:lnTo>
                    <a:pt x="6950" y="7708"/>
                  </a:lnTo>
                  <a:lnTo>
                    <a:pt x="7181" y="7624"/>
                  </a:lnTo>
                  <a:lnTo>
                    <a:pt x="7555" y="7593"/>
                  </a:lnTo>
                  <a:lnTo>
                    <a:pt x="7931" y="7593"/>
                  </a:lnTo>
                  <a:lnTo>
                    <a:pt x="8420" y="7681"/>
                  </a:lnTo>
                  <a:lnTo>
                    <a:pt x="8565" y="7795"/>
                  </a:lnTo>
                  <a:lnTo>
                    <a:pt x="8537" y="7851"/>
                  </a:lnTo>
                  <a:lnTo>
                    <a:pt x="8363" y="7910"/>
                  </a:lnTo>
                  <a:lnTo>
                    <a:pt x="7987" y="7910"/>
                  </a:lnTo>
                  <a:lnTo>
                    <a:pt x="7669" y="7939"/>
                  </a:lnTo>
                  <a:lnTo>
                    <a:pt x="7527" y="8024"/>
                  </a:lnTo>
                  <a:lnTo>
                    <a:pt x="7469" y="8054"/>
                  </a:lnTo>
                  <a:lnTo>
                    <a:pt x="7355" y="8197"/>
                  </a:lnTo>
                  <a:lnTo>
                    <a:pt x="7151" y="8340"/>
                  </a:lnTo>
                  <a:lnTo>
                    <a:pt x="6921" y="8486"/>
                  </a:lnTo>
                  <a:lnTo>
                    <a:pt x="6546" y="8571"/>
                  </a:lnTo>
                  <a:lnTo>
                    <a:pt x="5853" y="8715"/>
                  </a:lnTo>
                  <a:lnTo>
                    <a:pt x="4788" y="8830"/>
                  </a:lnTo>
                  <a:lnTo>
                    <a:pt x="3634" y="8830"/>
                  </a:lnTo>
                  <a:lnTo>
                    <a:pt x="2826" y="8801"/>
                  </a:lnTo>
                  <a:lnTo>
                    <a:pt x="2192" y="8685"/>
                  </a:lnTo>
                  <a:lnTo>
                    <a:pt x="1731" y="8629"/>
                  </a:lnTo>
                  <a:lnTo>
                    <a:pt x="1471" y="8542"/>
                  </a:lnTo>
                  <a:lnTo>
                    <a:pt x="1443" y="8456"/>
                  </a:lnTo>
                  <a:lnTo>
                    <a:pt x="1500" y="8399"/>
                  </a:lnTo>
                  <a:lnTo>
                    <a:pt x="1644" y="8313"/>
                  </a:lnTo>
                  <a:lnTo>
                    <a:pt x="1213" y="8024"/>
                  </a:lnTo>
                  <a:lnTo>
                    <a:pt x="865" y="7708"/>
                  </a:lnTo>
                  <a:lnTo>
                    <a:pt x="576" y="7363"/>
                  </a:lnTo>
                  <a:lnTo>
                    <a:pt x="377" y="7046"/>
                  </a:lnTo>
                  <a:lnTo>
                    <a:pt x="202" y="6646"/>
                  </a:lnTo>
                  <a:lnTo>
                    <a:pt x="88" y="6300"/>
                  </a:lnTo>
                  <a:lnTo>
                    <a:pt x="0" y="5867"/>
                  </a:lnTo>
                  <a:lnTo>
                    <a:pt x="29" y="5294"/>
                  </a:lnTo>
                  <a:lnTo>
                    <a:pt x="88" y="4860"/>
                  </a:lnTo>
                  <a:lnTo>
                    <a:pt x="232" y="4344"/>
                  </a:lnTo>
                  <a:lnTo>
                    <a:pt x="520" y="3740"/>
                  </a:lnTo>
                  <a:lnTo>
                    <a:pt x="865" y="3338"/>
                  </a:lnTo>
                  <a:lnTo>
                    <a:pt x="1241" y="3021"/>
                  </a:lnTo>
                  <a:lnTo>
                    <a:pt x="1731" y="2733"/>
                  </a:lnTo>
                  <a:lnTo>
                    <a:pt x="2280" y="2560"/>
                  </a:lnTo>
                  <a:lnTo>
                    <a:pt x="2942" y="2302"/>
                  </a:lnTo>
                  <a:lnTo>
                    <a:pt x="3431" y="2014"/>
                  </a:lnTo>
                  <a:lnTo>
                    <a:pt x="3923" y="1641"/>
                  </a:lnTo>
                  <a:lnTo>
                    <a:pt x="4297" y="1180"/>
                  </a:lnTo>
                  <a:lnTo>
                    <a:pt x="4585" y="777"/>
                  </a:lnTo>
                  <a:lnTo>
                    <a:pt x="4788" y="491"/>
                  </a:lnTo>
                  <a:lnTo>
                    <a:pt x="5046" y="260"/>
                  </a:lnTo>
                  <a:lnTo>
                    <a:pt x="5277" y="116"/>
                  </a:lnTo>
                  <a:lnTo>
                    <a:pt x="5566" y="31"/>
                  </a:lnTo>
                  <a:lnTo>
                    <a:pt x="59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28"/>
            <p:cNvSpPr/>
            <p:nvPr/>
          </p:nvSpPr>
          <p:spPr>
            <a:xfrm>
              <a:off x="8685000" y="243000"/>
              <a:ext cx="87840" cy="11988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1096" h="1208">
                  <a:moveTo>
                    <a:pt x="116" y="1151"/>
                  </a:moveTo>
                  <a:lnTo>
                    <a:pt x="260" y="892"/>
                  </a:lnTo>
                  <a:lnTo>
                    <a:pt x="490" y="662"/>
                  </a:lnTo>
                  <a:lnTo>
                    <a:pt x="778" y="490"/>
                  </a:lnTo>
                  <a:lnTo>
                    <a:pt x="1096" y="317"/>
                  </a:lnTo>
                  <a:lnTo>
                    <a:pt x="894" y="0"/>
                  </a:lnTo>
                  <a:lnTo>
                    <a:pt x="518" y="230"/>
                  </a:lnTo>
                  <a:lnTo>
                    <a:pt x="288" y="459"/>
                  </a:lnTo>
                  <a:lnTo>
                    <a:pt x="116" y="691"/>
                  </a:lnTo>
                  <a:lnTo>
                    <a:pt x="0" y="949"/>
                  </a:lnTo>
                  <a:lnTo>
                    <a:pt x="200" y="634"/>
                  </a:lnTo>
                  <a:lnTo>
                    <a:pt x="432" y="376"/>
                  </a:lnTo>
                  <a:lnTo>
                    <a:pt x="866" y="86"/>
                  </a:lnTo>
                  <a:lnTo>
                    <a:pt x="980" y="317"/>
                  </a:lnTo>
                  <a:lnTo>
                    <a:pt x="577" y="490"/>
                  </a:lnTo>
                  <a:lnTo>
                    <a:pt x="317" y="691"/>
                  </a:lnTo>
                  <a:lnTo>
                    <a:pt x="173" y="949"/>
                  </a:lnTo>
                  <a:lnTo>
                    <a:pt x="57" y="1208"/>
                  </a:lnTo>
                  <a:lnTo>
                    <a:pt x="116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Job-Order Cost Accounting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392" name="Object 2"/>
          <p:cNvGraphicFramePr/>
          <p:nvPr/>
        </p:nvGraphicFramePr>
        <p:xfrm>
          <a:off x="609480" y="1438200"/>
          <a:ext cx="7942320" cy="496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38200"/>
                    <a:ext cx="794232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Line 4"/>
          <p:cNvSpPr/>
          <p:nvPr/>
        </p:nvSpPr>
        <p:spPr>
          <a:xfrm>
            <a:off x="2216160" y="2230560"/>
            <a:ext cx="1739880" cy="0"/>
          </a:xfrm>
          <a:prstGeom prst="line">
            <a:avLst/>
          </a:prstGeom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5"/>
          <p:cNvSpPr/>
          <p:nvPr/>
        </p:nvSpPr>
        <p:spPr>
          <a:xfrm>
            <a:off x="2216160" y="2743200"/>
            <a:ext cx="1739880" cy="0"/>
          </a:xfrm>
          <a:prstGeom prst="line">
            <a:avLst/>
          </a:prstGeom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1454040" y="3048120"/>
            <a:ext cx="2502000" cy="0"/>
          </a:xfrm>
          <a:prstGeom prst="line">
            <a:avLst/>
          </a:prstGeom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7"/>
          <p:cNvSpPr/>
          <p:nvPr/>
        </p:nvSpPr>
        <p:spPr>
          <a:xfrm>
            <a:off x="5950080" y="2216160"/>
            <a:ext cx="2120760" cy="0"/>
          </a:xfrm>
          <a:prstGeom prst="line">
            <a:avLst/>
          </a:prstGeom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8"/>
          <p:cNvSpPr/>
          <p:nvPr/>
        </p:nvSpPr>
        <p:spPr>
          <a:xfrm>
            <a:off x="6178680" y="2479680"/>
            <a:ext cx="1892160" cy="0"/>
          </a:xfrm>
          <a:prstGeom prst="line">
            <a:avLst/>
          </a:prstGeom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"/>
          <p:cNvSpPr/>
          <p:nvPr/>
        </p:nvSpPr>
        <p:spPr>
          <a:xfrm>
            <a:off x="6254640" y="2743200"/>
            <a:ext cx="1816200" cy="0"/>
          </a:xfrm>
          <a:prstGeom prst="line">
            <a:avLst/>
          </a:prstGeom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122"/>
          <p:cNvGrpSpPr/>
          <p:nvPr/>
        </p:nvGrpSpPr>
        <p:grpSpPr>
          <a:xfrm>
            <a:off x="8158320" y="243000"/>
            <a:ext cx="680760" cy="975960"/>
            <a:chOff x="8158320" y="243000"/>
            <a:chExt cx="680760" cy="975960"/>
          </a:xfrm>
        </p:grpSpPr>
        <p:sp>
          <p:nvSpPr>
            <p:cNvPr id="401" name="Freeform 123"/>
            <p:cNvSpPr/>
            <p:nvPr/>
          </p:nvSpPr>
          <p:spPr>
            <a:xfrm>
              <a:off x="8184960" y="340560"/>
              <a:ext cx="544680" cy="709920"/>
            </a:xfrm>
            <a:custGeom>
              <a:avLst/>
              <a:gdLst>
                <a:gd name="textAreaLeft" fmla="*/ 0 w 544680"/>
                <a:gd name="textAreaRight" fmla="*/ 545040 w 544680"/>
                <a:gd name="textAreaTop" fmla="*/ 0 h 709920"/>
                <a:gd name="textAreaBottom" fmla="*/ 710280 h 709920"/>
              </a:gdLst>
              <a:ahLst/>
              <a:rect l="textAreaLeft" t="textAreaTop" r="textAreaRight" b="textAreaBottom"/>
              <a:pathLst>
                <a:path w="6835" h="7134">
                  <a:moveTo>
                    <a:pt x="174" y="3970"/>
                  </a:moveTo>
                  <a:lnTo>
                    <a:pt x="0" y="4746"/>
                  </a:lnTo>
                  <a:lnTo>
                    <a:pt x="230" y="5867"/>
                  </a:lnTo>
                  <a:lnTo>
                    <a:pt x="1904" y="7134"/>
                  </a:lnTo>
                  <a:lnTo>
                    <a:pt x="4730" y="6356"/>
                  </a:lnTo>
                  <a:lnTo>
                    <a:pt x="5393" y="3768"/>
                  </a:lnTo>
                  <a:lnTo>
                    <a:pt x="6835" y="1553"/>
                  </a:lnTo>
                  <a:lnTo>
                    <a:pt x="6777" y="547"/>
                  </a:lnTo>
                  <a:lnTo>
                    <a:pt x="6317" y="174"/>
                  </a:lnTo>
                  <a:lnTo>
                    <a:pt x="5882" y="31"/>
                  </a:lnTo>
                  <a:lnTo>
                    <a:pt x="5537" y="0"/>
                  </a:lnTo>
                  <a:lnTo>
                    <a:pt x="4990" y="87"/>
                  </a:lnTo>
                  <a:lnTo>
                    <a:pt x="4557" y="433"/>
                  </a:lnTo>
                  <a:lnTo>
                    <a:pt x="4212" y="865"/>
                  </a:lnTo>
                  <a:lnTo>
                    <a:pt x="3894" y="1410"/>
                  </a:lnTo>
                  <a:lnTo>
                    <a:pt x="3546" y="1755"/>
                  </a:lnTo>
                  <a:lnTo>
                    <a:pt x="3058" y="2101"/>
                  </a:lnTo>
                  <a:lnTo>
                    <a:pt x="2596" y="2387"/>
                  </a:lnTo>
                  <a:lnTo>
                    <a:pt x="1961" y="2560"/>
                  </a:lnTo>
                  <a:lnTo>
                    <a:pt x="1269" y="2877"/>
                  </a:lnTo>
                  <a:lnTo>
                    <a:pt x="663" y="3338"/>
                  </a:lnTo>
                  <a:lnTo>
                    <a:pt x="174" y="397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24"/>
            <p:cNvSpPr/>
            <p:nvPr/>
          </p:nvSpPr>
          <p:spPr>
            <a:xfrm>
              <a:off x="8678520" y="251280"/>
              <a:ext cx="88920" cy="111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123" h="1122">
                  <a:moveTo>
                    <a:pt x="203" y="1122"/>
                  </a:moveTo>
                  <a:lnTo>
                    <a:pt x="347" y="806"/>
                  </a:lnTo>
                  <a:lnTo>
                    <a:pt x="577" y="548"/>
                  </a:lnTo>
                  <a:lnTo>
                    <a:pt x="1123" y="231"/>
                  </a:lnTo>
                  <a:lnTo>
                    <a:pt x="923" y="0"/>
                  </a:lnTo>
                  <a:lnTo>
                    <a:pt x="491" y="290"/>
                  </a:lnTo>
                  <a:lnTo>
                    <a:pt x="231" y="548"/>
                  </a:lnTo>
                  <a:lnTo>
                    <a:pt x="0" y="1036"/>
                  </a:lnTo>
                  <a:lnTo>
                    <a:pt x="203" y="1122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25"/>
            <p:cNvSpPr/>
            <p:nvPr/>
          </p:nvSpPr>
          <p:spPr>
            <a:xfrm>
              <a:off x="8551440" y="389160"/>
              <a:ext cx="41040" cy="68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21" h="691">
                  <a:moveTo>
                    <a:pt x="444" y="315"/>
                  </a:moveTo>
                  <a:lnTo>
                    <a:pt x="521" y="126"/>
                  </a:lnTo>
                  <a:lnTo>
                    <a:pt x="394" y="0"/>
                  </a:lnTo>
                  <a:lnTo>
                    <a:pt x="172" y="155"/>
                  </a:lnTo>
                  <a:lnTo>
                    <a:pt x="0" y="473"/>
                  </a:lnTo>
                  <a:lnTo>
                    <a:pt x="48" y="691"/>
                  </a:lnTo>
                  <a:lnTo>
                    <a:pt x="270" y="628"/>
                  </a:lnTo>
                  <a:lnTo>
                    <a:pt x="394" y="502"/>
                  </a:lnTo>
                  <a:lnTo>
                    <a:pt x="444" y="315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6"/>
            <p:cNvSpPr/>
            <p:nvPr/>
          </p:nvSpPr>
          <p:spPr>
            <a:xfrm>
              <a:off x="8162640" y="357480"/>
              <a:ext cx="582480" cy="83952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839520"/>
                <a:gd name="textAreaBottom" fmla="*/ 839880 h 839520"/>
              </a:gdLst>
              <a:ahLst/>
              <a:rect l="textAreaLeft" t="textAreaTop" r="textAreaRight" b="textAreaBottom"/>
              <a:pathLst>
                <a:path w="7324" h="8425">
                  <a:moveTo>
                    <a:pt x="6718" y="0"/>
                  </a:moveTo>
                  <a:lnTo>
                    <a:pt x="6805" y="229"/>
                  </a:lnTo>
                  <a:lnTo>
                    <a:pt x="6862" y="401"/>
                  </a:lnTo>
                  <a:lnTo>
                    <a:pt x="6891" y="632"/>
                  </a:lnTo>
                  <a:lnTo>
                    <a:pt x="6862" y="804"/>
                  </a:lnTo>
                  <a:lnTo>
                    <a:pt x="6805" y="978"/>
                  </a:lnTo>
                  <a:lnTo>
                    <a:pt x="6718" y="1150"/>
                  </a:lnTo>
                  <a:lnTo>
                    <a:pt x="6604" y="1379"/>
                  </a:lnTo>
                  <a:lnTo>
                    <a:pt x="6400" y="1553"/>
                  </a:lnTo>
                  <a:lnTo>
                    <a:pt x="5998" y="2099"/>
                  </a:lnTo>
                  <a:lnTo>
                    <a:pt x="5794" y="2415"/>
                  </a:lnTo>
                  <a:lnTo>
                    <a:pt x="5593" y="2847"/>
                  </a:lnTo>
                  <a:lnTo>
                    <a:pt x="5450" y="3393"/>
                  </a:lnTo>
                  <a:lnTo>
                    <a:pt x="5277" y="3968"/>
                  </a:lnTo>
                  <a:lnTo>
                    <a:pt x="5131" y="4370"/>
                  </a:lnTo>
                  <a:lnTo>
                    <a:pt x="4901" y="4802"/>
                  </a:lnTo>
                  <a:lnTo>
                    <a:pt x="4613" y="5148"/>
                  </a:lnTo>
                  <a:lnTo>
                    <a:pt x="4268" y="5494"/>
                  </a:lnTo>
                  <a:lnTo>
                    <a:pt x="3893" y="5693"/>
                  </a:lnTo>
                  <a:lnTo>
                    <a:pt x="3288" y="5924"/>
                  </a:lnTo>
                  <a:lnTo>
                    <a:pt x="2651" y="6038"/>
                  </a:lnTo>
                  <a:lnTo>
                    <a:pt x="2221" y="6095"/>
                  </a:lnTo>
                  <a:lnTo>
                    <a:pt x="1642" y="6067"/>
                  </a:lnTo>
                  <a:lnTo>
                    <a:pt x="1268" y="5953"/>
                  </a:lnTo>
                  <a:lnTo>
                    <a:pt x="950" y="5752"/>
                  </a:lnTo>
                  <a:lnTo>
                    <a:pt x="721" y="5520"/>
                  </a:lnTo>
                  <a:lnTo>
                    <a:pt x="517" y="5262"/>
                  </a:lnTo>
                  <a:lnTo>
                    <a:pt x="432" y="4975"/>
                  </a:lnTo>
                  <a:lnTo>
                    <a:pt x="374" y="4630"/>
                  </a:lnTo>
                  <a:lnTo>
                    <a:pt x="432" y="4226"/>
                  </a:lnTo>
                  <a:lnTo>
                    <a:pt x="517" y="3796"/>
                  </a:lnTo>
                  <a:lnTo>
                    <a:pt x="143" y="4543"/>
                  </a:lnTo>
                  <a:lnTo>
                    <a:pt x="0" y="5348"/>
                  </a:lnTo>
                  <a:lnTo>
                    <a:pt x="56" y="5866"/>
                  </a:lnTo>
                  <a:lnTo>
                    <a:pt x="202" y="6472"/>
                  </a:lnTo>
                  <a:lnTo>
                    <a:pt x="517" y="7073"/>
                  </a:lnTo>
                  <a:lnTo>
                    <a:pt x="1038" y="7677"/>
                  </a:lnTo>
                  <a:lnTo>
                    <a:pt x="1672" y="8109"/>
                  </a:lnTo>
                  <a:lnTo>
                    <a:pt x="2451" y="8425"/>
                  </a:lnTo>
                  <a:lnTo>
                    <a:pt x="3345" y="8425"/>
                  </a:lnTo>
                  <a:lnTo>
                    <a:pt x="4064" y="8253"/>
                  </a:lnTo>
                  <a:lnTo>
                    <a:pt x="4729" y="7880"/>
                  </a:lnTo>
                  <a:lnTo>
                    <a:pt x="5162" y="7507"/>
                  </a:lnTo>
                  <a:lnTo>
                    <a:pt x="5564" y="7045"/>
                  </a:lnTo>
                  <a:lnTo>
                    <a:pt x="5794" y="6528"/>
                  </a:lnTo>
                  <a:lnTo>
                    <a:pt x="5911" y="6038"/>
                  </a:lnTo>
                  <a:lnTo>
                    <a:pt x="5969" y="5520"/>
                  </a:lnTo>
                  <a:lnTo>
                    <a:pt x="6026" y="4370"/>
                  </a:lnTo>
                  <a:lnTo>
                    <a:pt x="6142" y="3796"/>
                  </a:lnTo>
                  <a:lnTo>
                    <a:pt x="6315" y="3364"/>
                  </a:lnTo>
                  <a:lnTo>
                    <a:pt x="6516" y="3049"/>
                  </a:lnTo>
                  <a:lnTo>
                    <a:pt x="6805" y="2731"/>
                  </a:lnTo>
                  <a:lnTo>
                    <a:pt x="7064" y="2386"/>
                  </a:lnTo>
                  <a:lnTo>
                    <a:pt x="7236" y="2071"/>
                  </a:lnTo>
                  <a:lnTo>
                    <a:pt x="7296" y="1725"/>
                  </a:lnTo>
                  <a:lnTo>
                    <a:pt x="7324" y="1437"/>
                  </a:lnTo>
                  <a:lnTo>
                    <a:pt x="7324" y="1093"/>
                  </a:lnTo>
                  <a:lnTo>
                    <a:pt x="7208" y="691"/>
                  </a:lnTo>
                  <a:lnTo>
                    <a:pt x="7092" y="461"/>
                  </a:lnTo>
                  <a:lnTo>
                    <a:pt x="6978" y="286"/>
                  </a:lnTo>
                  <a:lnTo>
                    <a:pt x="6718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7"/>
            <p:cNvSpPr/>
            <p:nvPr/>
          </p:nvSpPr>
          <p:spPr>
            <a:xfrm>
              <a:off x="8158320" y="340560"/>
              <a:ext cx="680760" cy="87840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878400"/>
                <a:gd name="textAreaBottom" fmla="*/ 878760 h 878400"/>
              </a:gdLst>
              <a:ahLst/>
              <a:rect l="textAreaLeft" t="textAreaTop" r="textAreaRight" b="textAreaBottom"/>
              <a:pathLst>
                <a:path w="8565" h="8830">
                  <a:moveTo>
                    <a:pt x="5997" y="0"/>
                  </a:moveTo>
                  <a:lnTo>
                    <a:pt x="5509" y="116"/>
                  </a:lnTo>
                  <a:lnTo>
                    <a:pt x="5163" y="289"/>
                  </a:lnTo>
                  <a:lnTo>
                    <a:pt x="4903" y="519"/>
                  </a:lnTo>
                  <a:lnTo>
                    <a:pt x="4701" y="777"/>
                  </a:lnTo>
                  <a:lnTo>
                    <a:pt x="4499" y="1123"/>
                  </a:lnTo>
                  <a:lnTo>
                    <a:pt x="4268" y="1438"/>
                  </a:lnTo>
                  <a:lnTo>
                    <a:pt x="4037" y="1727"/>
                  </a:lnTo>
                  <a:lnTo>
                    <a:pt x="3634" y="2042"/>
                  </a:lnTo>
                  <a:lnTo>
                    <a:pt x="3287" y="2273"/>
                  </a:lnTo>
                  <a:lnTo>
                    <a:pt x="2855" y="2475"/>
                  </a:lnTo>
                  <a:lnTo>
                    <a:pt x="2423" y="2646"/>
                  </a:lnTo>
                  <a:lnTo>
                    <a:pt x="1818" y="2877"/>
                  </a:lnTo>
                  <a:lnTo>
                    <a:pt x="1182" y="3280"/>
                  </a:lnTo>
                  <a:lnTo>
                    <a:pt x="720" y="3768"/>
                  </a:lnTo>
                  <a:lnTo>
                    <a:pt x="491" y="4228"/>
                  </a:lnTo>
                  <a:lnTo>
                    <a:pt x="232" y="4976"/>
                  </a:lnTo>
                  <a:lnTo>
                    <a:pt x="145" y="5522"/>
                  </a:lnTo>
                  <a:lnTo>
                    <a:pt x="232" y="6300"/>
                  </a:lnTo>
                  <a:lnTo>
                    <a:pt x="491" y="6932"/>
                  </a:lnTo>
                  <a:lnTo>
                    <a:pt x="865" y="7422"/>
                  </a:lnTo>
                  <a:lnTo>
                    <a:pt x="1270" y="7851"/>
                  </a:lnTo>
                  <a:lnTo>
                    <a:pt x="1701" y="8169"/>
                  </a:lnTo>
                  <a:lnTo>
                    <a:pt x="2250" y="8399"/>
                  </a:lnTo>
                  <a:lnTo>
                    <a:pt x="2826" y="8514"/>
                  </a:lnTo>
                  <a:lnTo>
                    <a:pt x="3431" y="8486"/>
                  </a:lnTo>
                  <a:lnTo>
                    <a:pt x="4037" y="8370"/>
                  </a:lnTo>
                  <a:lnTo>
                    <a:pt x="4529" y="8112"/>
                  </a:lnTo>
                  <a:lnTo>
                    <a:pt x="4932" y="7851"/>
                  </a:lnTo>
                  <a:lnTo>
                    <a:pt x="5306" y="7478"/>
                  </a:lnTo>
                  <a:lnTo>
                    <a:pt x="5595" y="7134"/>
                  </a:lnTo>
                  <a:lnTo>
                    <a:pt x="5768" y="6760"/>
                  </a:lnTo>
                  <a:lnTo>
                    <a:pt x="5913" y="6269"/>
                  </a:lnTo>
                  <a:lnTo>
                    <a:pt x="5970" y="5839"/>
                  </a:lnTo>
                  <a:lnTo>
                    <a:pt x="5997" y="5408"/>
                  </a:lnTo>
                  <a:lnTo>
                    <a:pt x="5997" y="4948"/>
                  </a:lnTo>
                  <a:lnTo>
                    <a:pt x="6028" y="4431"/>
                  </a:lnTo>
                  <a:lnTo>
                    <a:pt x="6144" y="3912"/>
                  </a:lnTo>
                  <a:lnTo>
                    <a:pt x="6287" y="3597"/>
                  </a:lnTo>
                  <a:lnTo>
                    <a:pt x="6546" y="3164"/>
                  </a:lnTo>
                  <a:lnTo>
                    <a:pt x="6864" y="2819"/>
                  </a:lnTo>
                  <a:lnTo>
                    <a:pt x="7151" y="2446"/>
                  </a:lnTo>
                  <a:lnTo>
                    <a:pt x="7267" y="2129"/>
                  </a:lnTo>
                  <a:lnTo>
                    <a:pt x="7355" y="1755"/>
                  </a:lnTo>
                  <a:lnTo>
                    <a:pt x="7355" y="1410"/>
                  </a:lnTo>
                  <a:lnTo>
                    <a:pt x="7267" y="921"/>
                  </a:lnTo>
                  <a:lnTo>
                    <a:pt x="7123" y="604"/>
                  </a:lnTo>
                  <a:lnTo>
                    <a:pt x="6950" y="377"/>
                  </a:lnTo>
                  <a:lnTo>
                    <a:pt x="6690" y="174"/>
                  </a:lnTo>
                  <a:lnTo>
                    <a:pt x="7123" y="491"/>
                  </a:lnTo>
                  <a:lnTo>
                    <a:pt x="7355" y="834"/>
                  </a:lnTo>
                  <a:lnTo>
                    <a:pt x="7469" y="1180"/>
                  </a:lnTo>
                  <a:lnTo>
                    <a:pt x="7499" y="1526"/>
                  </a:lnTo>
                  <a:lnTo>
                    <a:pt x="7499" y="1869"/>
                  </a:lnTo>
                  <a:lnTo>
                    <a:pt x="7411" y="2215"/>
                  </a:lnTo>
                  <a:lnTo>
                    <a:pt x="7267" y="2531"/>
                  </a:lnTo>
                  <a:lnTo>
                    <a:pt x="7008" y="2905"/>
                  </a:lnTo>
                  <a:lnTo>
                    <a:pt x="6633" y="3280"/>
                  </a:lnTo>
                  <a:lnTo>
                    <a:pt x="6403" y="3680"/>
                  </a:lnTo>
                  <a:lnTo>
                    <a:pt x="6228" y="4142"/>
                  </a:lnTo>
                  <a:lnTo>
                    <a:pt x="6172" y="4574"/>
                  </a:lnTo>
                  <a:lnTo>
                    <a:pt x="6172" y="5178"/>
                  </a:lnTo>
                  <a:lnTo>
                    <a:pt x="6144" y="5694"/>
                  </a:lnTo>
                  <a:lnTo>
                    <a:pt x="6085" y="6212"/>
                  </a:lnTo>
                  <a:lnTo>
                    <a:pt x="5970" y="6673"/>
                  </a:lnTo>
                  <a:lnTo>
                    <a:pt x="5797" y="7105"/>
                  </a:lnTo>
                  <a:lnTo>
                    <a:pt x="5566" y="7422"/>
                  </a:lnTo>
                  <a:lnTo>
                    <a:pt x="5306" y="7681"/>
                  </a:lnTo>
                  <a:lnTo>
                    <a:pt x="6172" y="7651"/>
                  </a:lnTo>
                  <a:lnTo>
                    <a:pt x="6749" y="7737"/>
                  </a:lnTo>
                  <a:lnTo>
                    <a:pt x="6950" y="7708"/>
                  </a:lnTo>
                  <a:lnTo>
                    <a:pt x="7181" y="7624"/>
                  </a:lnTo>
                  <a:lnTo>
                    <a:pt x="7555" y="7593"/>
                  </a:lnTo>
                  <a:lnTo>
                    <a:pt x="7931" y="7593"/>
                  </a:lnTo>
                  <a:lnTo>
                    <a:pt x="8420" y="7681"/>
                  </a:lnTo>
                  <a:lnTo>
                    <a:pt x="8565" y="7795"/>
                  </a:lnTo>
                  <a:lnTo>
                    <a:pt x="8537" y="7851"/>
                  </a:lnTo>
                  <a:lnTo>
                    <a:pt x="8363" y="7910"/>
                  </a:lnTo>
                  <a:lnTo>
                    <a:pt x="7987" y="7910"/>
                  </a:lnTo>
                  <a:lnTo>
                    <a:pt x="7669" y="7939"/>
                  </a:lnTo>
                  <a:lnTo>
                    <a:pt x="7527" y="8024"/>
                  </a:lnTo>
                  <a:lnTo>
                    <a:pt x="7469" y="8054"/>
                  </a:lnTo>
                  <a:lnTo>
                    <a:pt x="7355" y="8197"/>
                  </a:lnTo>
                  <a:lnTo>
                    <a:pt x="7151" y="8340"/>
                  </a:lnTo>
                  <a:lnTo>
                    <a:pt x="6921" y="8486"/>
                  </a:lnTo>
                  <a:lnTo>
                    <a:pt x="6546" y="8571"/>
                  </a:lnTo>
                  <a:lnTo>
                    <a:pt x="5853" y="8715"/>
                  </a:lnTo>
                  <a:lnTo>
                    <a:pt x="4788" y="8830"/>
                  </a:lnTo>
                  <a:lnTo>
                    <a:pt x="3634" y="8830"/>
                  </a:lnTo>
                  <a:lnTo>
                    <a:pt x="2826" y="8801"/>
                  </a:lnTo>
                  <a:lnTo>
                    <a:pt x="2192" y="8685"/>
                  </a:lnTo>
                  <a:lnTo>
                    <a:pt x="1731" y="8629"/>
                  </a:lnTo>
                  <a:lnTo>
                    <a:pt x="1471" y="8542"/>
                  </a:lnTo>
                  <a:lnTo>
                    <a:pt x="1443" y="8456"/>
                  </a:lnTo>
                  <a:lnTo>
                    <a:pt x="1500" y="8399"/>
                  </a:lnTo>
                  <a:lnTo>
                    <a:pt x="1644" y="8313"/>
                  </a:lnTo>
                  <a:lnTo>
                    <a:pt x="1213" y="8024"/>
                  </a:lnTo>
                  <a:lnTo>
                    <a:pt x="865" y="7708"/>
                  </a:lnTo>
                  <a:lnTo>
                    <a:pt x="576" y="7363"/>
                  </a:lnTo>
                  <a:lnTo>
                    <a:pt x="377" y="7046"/>
                  </a:lnTo>
                  <a:lnTo>
                    <a:pt x="202" y="6646"/>
                  </a:lnTo>
                  <a:lnTo>
                    <a:pt x="88" y="6300"/>
                  </a:lnTo>
                  <a:lnTo>
                    <a:pt x="0" y="5867"/>
                  </a:lnTo>
                  <a:lnTo>
                    <a:pt x="29" y="5294"/>
                  </a:lnTo>
                  <a:lnTo>
                    <a:pt x="88" y="4860"/>
                  </a:lnTo>
                  <a:lnTo>
                    <a:pt x="232" y="4344"/>
                  </a:lnTo>
                  <a:lnTo>
                    <a:pt x="520" y="3740"/>
                  </a:lnTo>
                  <a:lnTo>
                    <a:pt x="865" y="3338"/>
                  </a:lnTo>
                  <a:lnTo>
                    <a:pt x="1241" y="3021"/>
                  </a:lnTo>
                  <a:lnTo>
                    <a:pt x="1731" y="2733"/>
                  </a:lnTo>
                  <a:lnTo>
                    <a:pt x="2280" y="2560"/>
                  </a:lnTo>
                  <a:lnTo>
                    <a:pt x="2942" y="2302"/>
                  </a:lnTo>
                  <a:lnTo>
                    <a:pt x="3431" y="2014"/>
                  </a:lnTo>
                  <a:lnTo>
                    <a:pt x="3923" y="1641"/>
                  </a:lnTo>
                  <a:lnTo>
                    <a:pt x="4297" y="1180"/>
                  </a:lnTo>
                  <a:lnTo>
                    <a:pt x="4585" y="777"/>
                  </a:lnTo>
                  <a:lnTo>
                    <a:pt x="4788" y="491"/>
                  </a:lnTo>
                  <a:lnTo>
                    <a:pt x="5046" y="260"/>
                  </a:lnTo>
                  <a:lnTo>
                    <a:pt x="5277" y="116"/>
                  </a:lnTo>
                  <a:lnTo>
                    <a:pt x="5566" y="31"/>
                  </a:lnTo>
                  <a:lnTo>
                    <a:pt x="59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8"/>
            <p:cNvSpPr/>
            <p:nvPr/>
          </p:nvSpPr>
          <p:spPr>
            <a:xfrm>
              <a:off x="8685000" y="243000"/>
              <a:ext cx="87840" cy="11988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1096" h="1208">
                  <a:moveTo>
                    <a:pt x="116" y="1151"/>
                  </a:moveTo>
                  <a:lnTo>
                    <a:pt x="260" y="892"/>
                  </a:lnTo>
                  <a:lnTo>
                    <a:pt x="490" y="662"/>
                  </a:lnTo>
                  <a:lnTo>
                    <a:pt x="778" y="490"/>
                  </a:lnTo>
                  <a:lnTo>
                    <a:pt x="1096" y="317"/>
                  </a:lnTo>
                  <a:lnTo>
                    <a:pt x="894" y="0"/>
                  </a:lnTo>
                  <a:lnTo>
                    <a:pt x="518" y="230"/>
                  </a:lnTo>
                  <a:lnTo>
                    <a:pt x="288" y="459"/>
                  </a:lnTo>
                  <a:lnTo>
                    <a:pt x="116" y="691"/>
                  </a:lnTo>
                  <a:lnTo>
                    <a:pt x="0" y="949"/>
                  </a:lnTo>
                  <a:lnTo>
                    <a:pt x="200" y="634"/>
                  </a:lnTo>
                  <a:lnTo>
                    <a:pt x="432" y="376"/>
                  </a:lnTo>
                  <a:lnTo>
                    <a:pt x="866" y="86"/>
                  </a:lnTo>
                  <a:lnTo>
                    <a:pt x="980" y="317"/>
                  </a:lnTo>
                  <a:lnTo>
                    <a:pt x="577" y="490"/>
                  </a:lnTo>
                  <a:lnTo>
                    <a:pt x="317" y="691"/>
                  </a:lnTo>
                  <a:lnTo>
                    <a:pt x="173" y="949"/>
                  </a:lnTo>
                  <a:lnTo>
                    <a:pt x="57" y="1208"/>
                  </a:lnTo>
                  <a:lnTo>
                    <a:pt x="116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8" name="Rectangle 1027"/>
          <p:cNvSpPr/>
          <p:nvPr/>
        </p:nvSpPr>
        <p:spPr>
          <a:xfrm>
            <a:off x="485640" y="1523880"/>
            <a:ext cx="8153640" cy="4267440"/>
          </a:xfrm>
          <a:prstGeom prst="rect">
            <a:avLst/>
          </a:prstGeom>
          <a:solidFill>
            <a:srgbClr val="78d6ea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b WR53 at NW Fab, Inc. required $200 of direct materials and 10 direct labor hours at $15 per hour. Estimated total overhead for the year was $760,000 and estimated direct labor hours were 20,000. What would be recorded as the cost of job WR53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S PGothic"/>
              </a:rPr>
              <a:t>a. $20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S PGothic"/>
              </a:rPr>
              <a:t>b. $35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S PGothic"/>
              </a:rPr>
              <a:t>c. $38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Arial"/>
                <a:ea typeface="MS PGothic"/>
              </a:rPr>
              <a:t>d. $73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pe03453_"/>
          <p:cNvPicPr/>
          <p:nvPr/>
        </p:nvPicPr>
        <p:blipFill>
          <a:blip r:embed="rId1"/>
          <a:stretch/>
        </p:blipFill>
        <p:spPr>
          <a:xfrm>
            <a:off x="7848720" y="304920"/>
            <a:ext cx="95868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27"/>
          <p:cNvSpPr/>
          <p:nvPr/>
        </p:nvSpPr>
        <p:spPr>
          <a:xfrm>
            <a:off x="485640" y="1523880"/>
            <a:ext cx="8153640" cy="4267440"/>
          </a:xfrm>
          <a:prstGeom prst="rect">
            <a:avLst/>
          </a:prstGeom>
          <a:solidFill>
            <a:srgbClr val="78d6ea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b WR53 at NW Fab, Inc. required $200 of direct materials and 10 direct labor hours at $15 per hour. Estimated total overhead for the year was $760,000 and estimated direct labor hours were 20,000. What would be recorded as the cost of job WR53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c767c"/>
                </a:solidFill>
                <a:latin typeface="Arial"/>
                <a:ea typeface="MS PGothic"/>
              </a:rPr>
              <a:t>a. $20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c767c"/>
                </a:solidFill>
                <a:latin typeface="Arial"/>
                <a:ea typeface="MS PGothic"/>
              </a:rPr>
              <a:t>b. $35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c767c"/>
                </a:solidFill>
                <a:latin typeface="Arial"/>
                <a:ea typeface="MS PGothic"/>
              </a:rPr>
              <a:t>c. $38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Arial"/>
                <a:ea typeface="MS PGothic"/>
              </a:rPr>
              <a:t>d. $73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2" name="Oval 5"/>
          <p:cNvSpPr/>
          <p:nvPr/>
        </p:nvSpPr>
        <p:spPr>
          <a:xfrm>
            <a:off x="714240" y="5181480"/>
            <a:ext cx="482760" cy="4572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Object 2"/>
          <p:cNvGraphicFramePr/>
          <p:nvPr/>
        </p:nvGraphicFramePr>
        <p:xfrm>
          <a:off x="2855880" y="3879720"/>
          <a:ext cx="5641920" cy="236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5880" y="3879720"/>
                    <a:ext cx="5641920" cy="2368800"/>
                  </a:xfrm>
                  <a:prstGeom prst="rect">
                    <a:avLst/>
                  </a:prstGeom>
                  <a:ln w="19080">
                    <a:solidFill>
                      <a:srgbClr val="464646"/>
                    </a:solidFill>
                    <a:miter/>
                  </a:ln>
                  <a:effectLst>
                    <a:outerShdw dist="71785" dir="2700000" blurRad="0" rotWithShape="0">
                      <a:srgbClr val="def5fa"/>
                    </a:outerShdw>
                  </a:effectLst>
                </p:spPr>
              </p:pic>
            </p:oleObj>
          </a:graphicData>
        </a:graphic>
      </p:graphicFrame>
      <p:pic>
        <p:nvPicPr>
          <p:cNvPr id="415" name="Picture 4" descr="pe03453_"/>
          <p:cNvPicPr/>
          <p:nvPr/>
        </p:nvPicPr>
        <p:blipFill>
          <a:blip r:embed="rId3"/>
          <a:stretch/>
        </p:blipFill>
        <p:spPr>
          <a:xfrm>
            <a:off x="7848720" y="304920"/>
            <a:ext cx="95868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s 4 and 5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7" name="Text Box 13"/>
          <p:cNvSpPr/>
          <p:nvPr/>
        </p:nvSpPr>
        <p:spPr>
          <a:xfrm>
            <a:off x="936720" y="1523880"/>
            <a:ext cx="7238880" cy="268236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Learning Objective 4 is to understand the flow of costs in the job-order costing system and prepare appropriate journal entries to record cost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3"/>
          <p:cNvSpPr/>
          <p:nvPr/>
        </p:nvSpPr>
        <p:spPr>
          <a:xfrm>
            <a:off x="914400" y="4495680"/>
            <a:ext cx="7238880" cy="216468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Learning Objective 5 is to use     T-accounts to show the flow of costs in a job-order costing system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Key Definition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20" name="TextBox 3"/>
          <p:cNvSpPr/>
          <p:nvPr/>
        </p:nvSpPr>
        <p:spPr>
          <a:xfrm>
            <a:off x="457200" y="1447920"/>
            <a:ext cx="8305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eb641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641b"/>
                </a:solidFill>
                <a:latin typeface="Arial"/>
              </a:rPr>
              <a:t>Raw materials</a:t>
            </a:r>
            <a:r>
              <a:rPr b="0" lang="en-US" sz="2800" spc="-1" strike="noStrike">
                <a:solidFill>
                  <a:srgbClr val="eb641b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ny materials that go into the final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eb641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641b"/>
                </a:solidFill>
                <a:latin typeface="Arial"/>
              </a:rPr>
              <a:t>Work in proc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units of production that are only partially complete and will require further work before they are ready for sale to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eb641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641b"/>
                </a:solidFill>
                <a:latin typeface="Arial"/>
              </a:rPr>
              <a:t>Finished goo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 of completed units of product that have not been sold to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eb641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641b"/>
                </a:solidFill>
                <a:latin typeface="Arial"/>
              </a:rPr>
              <a:t>Cost of goods manufactur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the manufacturing costs associated with the goods that were finished during the peri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Flow of Costs: A Conceptual Overview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422" name="Group 4"/>
          <p:cNvGrpSpPr/>
          <p:nvPr/>
        </p:nvGrpSpPr>
        <p:grpSpPr>
          <a:xfrm>
            <a:off x="4148280" y="3695760"/>
            <a:ext cx="1787400" cy="1567080"/>
            <a:chOff x="4148280" y="3695760"/>
            <a:chExt cx="1787400" cy="1567080"/>
          </a:xfrm>
        </p:grpSpPr>
        <p:sp>
          <p:nvSpPr>
            <p:cNvPr id="423" name="Line 5"/>
            <p:cNvSpPr/>
            <p:nvPr/>
          </p:nvSpPr>
          <p:spPr>
            <a:xfrm>
              <a:off x="5027760" y="3695760"/>
              <a:ext cx="0" cy="812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6"/>
            <p:cNvSpPr/>
            <p:nvPr/>
          </p:nvSpPr>
          <p:spPr>
            <a:xfrm>
              <a:off x="4148280" y="4503600"/>
              <a:ext cx="1787400" cy="759240"/>
            </a:xfrm>
            <a:prstGeom prst="rect">
              <a:avLst/>
            </a:prstGeom>
            <a:solidFill>
              <a:srgbClr val="f3a276"/>
            </a:solidFill>
            <a:ln w="19080">
              <a:solidFill>
                <a:srgbClr val="3f1e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Finished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Good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7"/>
          <p:cNvGrpSpPr/>
          <p:nvPr/>
        </p:nvGrpSpPr>
        <p:grpSpPr>
          <a:xfrm>
            <a:off x="5954760" y="4351320"/>
            <a:ext cx="2695680" cy="1094400"/>
            <a:chOff x="5954760" y="4351320"/>
            <a:chExt cx="2695680" cy="1094400"/>
          </a:xfrm>
        </p:grpSpPr>
        <p:sp>
          <p:nvSpPr>
            <p:cNvPr id="426" name="Line 8"/>
            <p:cNvSpPr/>
            <p:nvPr/>
          </p:nvSpPr>
          <p:spPr>
            <a:xfrm>
              <a:off x="5954760" y="4902120"/>
              <a:ext cx="965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9"/>
            <p:cNvSpPr/>
            <p:nvPr/>
          </p:nvSpPr>
          <p:spPr>
            <a:xfrm>
              <a:off x="6919920" y="4351320"/>
              <a:ext cx="1730520" cy="1094400"/>
            </a:xfrm>
            <a:prstGeom prst="rect">
              <a:avLst/>
            </a:prstGeom>
            <a:solidFill>
              <a:srgbClr val="23263c"/>
            </a:solidFill>
            <a:ln w="19080">
              <a:solidFill>
                <a:srgbClr val="3f1e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Cost of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Goods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Sol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10"/>
          <p:cNvGrpSpPr/>
          <p:nvPr/>
        </p:nvGrpSpPr>
        <p:grpSpPr>
          <a:xfrm>
            <a:off x="531720" y="5699160"/>
            <a:ext cx="8295480" cy="816480"/>
            <a:chOff x="531720" y="5699160"/>
            <a:chExt cx="8295480" cy="816480"/>
          </a:xfrm>
        </p:grpSpPr>
        <p:grpSp>
          <p:nvGrpSpPr>
            <p:cNvPr id="429" name="Group 11"/>
            <p:cNvGrpSpPr/>
            <p:nvPr/>
          </p:nvGrpSpPr>
          <p:grpSpPr>
            <a:xfrm>
              <a:off x="2545920" y="5699160"/>
              <a:ext cx="6281280" cy="816120"/>
              <a:chOff x="2545920" y="5699160"/>
              <a:chExt cx="6281280" cy="816120"/>
            </a:xfrm>
          </p:grpSpPr>
          <p:sp>
            <p:nvSpPr>
              <p:cNvPr id="430" name="Line 12"/>
              <p:cNvSpPr/>
              <p:nvPr/>
            </p:nvSpPr>
            <p:spPr>
              <a:xfrm>
                <a:off x="2545920" y="6154560"/>
                <a:ext cx="39366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13"/>
              <p:cNvSpPr/>
              <p:nvPr/>
            </p:nvSpPr>
            <p:spPr>
              <a:xfrm>
                <a:off x="6477840" y="5756040"/>
                <a:ext cx="2349360" cy="759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f1e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Selling and</a:t>
                </a:r>
                <a:br>
                  <a:rPr sz="2200"/>
                </a:b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Administrativ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14"/>
              <p:cNvSpPr/>
              <p:nvPr/>
            </p:nvSpPr>
            <p:spPr>
              <a:xfrm>
                <a:off x="3830040" y="5699160"/>
                <a:ext cx="19792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cc"/>
                    </a:solidFill>
                    <a:latin typeface="Arial"/>
                  </a:rPr>
                  <a:t>Period Cost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Rectangle 15"/>
            <p:cNvSpPr/>
            <p:nvPr/>
          </p:nvSpPr>
          <p:spPr>
            <a:xfrm>
              <a:off x="531720" y="5756400"/>
              <a:ext cx="2349360" cy="759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f1e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elling and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dministrativ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16"/>
          <p:cNvGrpSpPr/>
          <p:nvPr/>
        </p:nvGrpSpPr>
        <p:grpSpPr>
          <a:xfrm>
            <a:off x="663480" y="2324160"/>
            <a:ext cx="5234040" cy="2481480"/>
            <a:chOff x="663480" y="2324160"/>
            <a:chExt cx="5234040" cy="2481480"/>
          </a:xfrm>
        </p:grpSpPr>
        <p:sp>
          <p:nvSpPr>
            <p:cNvPr id="435" name="Line 17"/>
            <p:cNvSpPr/>
            <p:nvPr/>
          </p:nvSpPr>
          <p:spPr>
            <a:xfrm>
              <a:off x="2678040" y="3454200"/>
              <a:ext cx="1498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8"/>
            <p:cNvSpPr/>
            <p:nvPr/>
          </p:nvSpPr>
          <p:spPr>
            <a:xfrm>
              <a:off x="5027760" y="2324160"/>
              <a:ext cx="0" cy="888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9"/>
            <p:cNvSpPr/>
            <p:nvPr/>
          </p:nvSpPr>
          <p:spPr>
            <a:xfrm flipV="1">
              <a:off x="2678040" y="3898800"/>
              <a:ext cx="1498680" cy="558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20"/>
            <p:cNvSpPr/>
            <p:nvPr/>
          </p:nvSpPr>
          <p:spPr>
            <a:xfrm>
              <a:off x="663480" y="4046400"/>
              <a:ext cx="2349720" cy="759240"/>
            </a:xfrm>
            <a:prstGeom prst="rect">
              <a:avLst/>
            </a:prstGeom>
            <a:solidFill>
              <a:srgbClr val="7da0d0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f1e25"/>
                  </a:solidFill>
                  <a:latin typeface="Arial"/>
                </a:rPr>
                <a:t>Manufacturing</a:t>
              </a:r>
              <a:br>
                <a:rPr sz="2200"/>
              </a:br>
              <a:r>
                <a:rPr b="1" lang="en-US" sz="2200" spc="-1" strike="noStrike">
                  <a:solidFill>
                    <a:srgbClr val="3f1e25"/>
                  </a:solidFill>
                  <a:latin typeface="Arial"/>
                </a:rPr>
                <a:t>Overhea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21"/>
            <p:cNvSpPr/>
            <p:nvPr/>
          </p:nvSpPr>
          <p:spPr>
            <a:xfrm>
              <a:off x="4186440" y="3208320"/>
              <a:ext cx="1711080" cy="759240"/>
            </a:xfrm>
            <a:prstGeom prst="rect">
              <a:avLst/>
            </a:prstGeom>
            <a:solidFill>
              <a:srgbClr val="f3a276"/>
            </a:solidFill>
            <a:ln w="19080">
              <a:solidFill>
                <a:srgbClr val="3f1e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ork in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Proces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2"/>
            <p:cNvSpPr/>
            <p:nvPr/>
          </p:nvSpPr>
          <p:spPr>
            <a:xfrm>
              <a:off x="663480" y="3208320"/>
              <a:ext cx="2349720" cy="424080"/>
            </a:xfrm>
            <a:prstGeom prst="rect">
              <a:avLst/>
            </a:prstGeom>
            <a:solidFill>
              <a:srgbClr val="7da0d0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f1e25"/>
                  </a:solidFill>
                  <a:latin typeface="Arial"/>
                </a:rPr>
                <a:t>Direct Lab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Rectangle 23"/>
          <p:cNvSpPr/>
          <p:nvPr/>
        </p:nvSpPr>
        <p:spPr>
          <a:xfrm>
            <a:off x="533520" y="1449360"/>
            <a:ext cx="57880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                                       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Balance Sheet</a:t>
            </a:r>
            <a:br>
              <a:rPr sz="2400"/>
            </a:b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        Costs                         Inventories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4"/>
          <p:cNvSpPr/>
          <p:nvPr/>
        </p:nvSpPr>
        <p:spPr>
          <a:xfrm>
            <a:off x="6705720" y="1359000"/>
            <a:ext cx="2130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ncome </a:t>
            </a:r>
            <a:br>
              <a:rPr sz="2400"/>
            </a:b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tatement</a:t>
            </a:r>
            <a:br>
              <a:rPr sz="2400"/>
            </a:b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25"/>
          <p:cNvGrpSpPr/>
          <p:nvPr/>
        </p:nvGrpSpPr>
        <p:grpSpPr>
          <a:xfrm>
            <a:off x="401760" y="2293920"/>
            <a:ext cx="5814360" cy="424080"/>
            <a:chOff x="401760" y="2293920"/>
            <a:chExt cx="5814360" cy="424080"/>
          </a:xfrm>
        </p:grpSpPr>
        <p:sp>
          <p:nvSpPr>
            <p:cNvPr id="444" name="Line 26"/>
            <p:cNvSpPr/>
            <p:nvPr/>
          </p:nvSpPr>
          <p:spPr>
            <a:xfrm>
              <a:off x="2982600" y="2539800"/>
              <a:ext cx="888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27"/>
            <p:cNvSpPr/>
            <p:nvPr/>
          </p:nvSpPr>
          <p:spPr>
            <a:xfrm>
              <a:off x="401760" y="2293920"/>
              <a:ext cx="2872800" cy="424080"/>
            </a:xfrm>
            <a:prstGeom prst="rect">
              <a:avLst/>
            </a:prstGeom>
            <a:solidFill>
              <a:srgbClr val="7da0d0"/>
            </a:solidFill>
            <a:ln w="19080">
              <a:solidFill>
                <a:srgbClr val="3f1e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f1e25"/>
                  </a:solidFill>
                  <a:latin typeface="Arial"/>
                </a:rPr>
                <a:t>Material Purchas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28"/>
            <p:cNvSpPr/>
            <p:nvPr/>
          </p:nvSpPr>
          <p:spPr>
            <a:xfrm>
              <a:off x="3866760" y="2293920"/>
              <a:ext cx="2349360" cy="424080"/>
            </a:xfrm>
            <a:prstGeom prst="rect">
              <a:avLst/>
            </a:prstGeom>
            <a:solidFill>
              <a:srgbClr val="f3a276"/>
            </a:solidFill>
            <a:ln w="19080">
              <a:solidFill>
                <a:srgbClr val="3f1e25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Raw Material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Job-Order Costing:  The Flow of Cost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448" name="Object 2"/>
          <p:cNvGraphicFramePr/>
          <p:nvPr/>
        </p:nvGraphicFramePr>
        <p:xfrm>
          <a:off x="1066680" y="1468440"/>
          <a:ext cx="701064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68440"/>
                    <a:ext cx="70106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Text Box 25"/>
          <p:cNvSpPr/>
          <p:nvPr/>
        </p:nvSpPr>
        <p:spPr>
          <a:xfrm>
            <a:off x="4191120" y="1676520"/>
            <a:ext cx="35049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transactions (in      T-account and journal entry form) that capture the flow of costs in a job-order costing system are illustrated on the following slid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Line 2"/>
          <p:cNvSpPr/>
          <p:nvPr/>
        </p:nvSpPr>
        <p:spPr>
          <a:xfrm>
            <a:off x="5729400" y="2616120"/>
            <a:ext cx="2793960" cy="0"/>
          </a:xfrm>
          <a:prstGeom prst="line">
            <a:avLst/>
          </a:prstGeom>
          <a:ln w="28440">
            <a:solidFill>
              <a:srgbClr val="6d1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"/>
          <p:cNvSpPr/>
          <p:nvPr/>
        </p:nvSpPr>
        <p:spPr>
          <a:xfrm>
            <a:off x="7088040" y="2629080"/>
            <a:ext cx="0" cy="2031840"/>
          </a:xfrm>
          <a:prstGeom prst="line">
            <a:avLst/>
          </a:prstGeom>
          <a:ln w="28440">
            <a:solidFill>
              <a:srgbClr val="6d1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"/>
          <p:cNvSpPr/>
          <p:nvPr/>
        </p:nvSpPr>
        <p:spPr>
          <a:xfrm>
            <a:off x="852480" y="2222640"/>
            <a:ext cx="2793960" cy="0"/>
          </a:xfrm>
          <a:prstGeom prst="line">
            <a:avLst/>
          </a:prstGeom>
          <a:ln w="28440">
            <a:solidFill>
              <a:srgbClr val="6d1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993600" y="1766880"/>
            <a:ext cx="2816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w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6"/>
          <p:cNvSpPr/>
          <p:nvPr/>
        </p:nvSpPr>
        <p:spPr>
          <a:xfrm>
            <a:off x="2287440" y="2235240"/>
            <a:ext cx="0" cy="1574640"/>
          </a:xfrm>
          <a:prstGeom prst="line">
            <a:avLst/>
          </a:prstGeom>
          <a:ln w="28440">
            <a:solidFill>
              <a:srgbClr val="6d1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460440" y="2300400"/>
            <a:ext cx="190188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901"/>
              </a:spcBef>
              <a:buClr>
                <a:srgbClr val="cc66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Purc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8"/>
          <p:cNvSpPr/>
          <p:nvPr/>
        </p:nvSpPr>
        <p:spPr>
          <a:xfrm>
            <a:off x="1379520" y="4737240"/>
            <a:ext cx="2870280" cy="0"/>
          </a:xfrm>
          <a:prstGeom prst="line">
            <a:avLst/>
          </a:prstGeom>
          <a:ln w="28440">
            <a:solidFill>
              <a:srgbClr val="6d1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9"/>
          <p:cNvSpPr/>
          <p:nvPr/>
        </p:nvSpPr>
        <p:spPr>
          <a:xfrm>
            <a:off x="2820960" y="4749840"/>
            <a:ext cx="0" cy="1727280"/>
          </a:xfrm>
          <a:prstGeom prst="line">
            <a:avLst/>
          </a:prstGeom>
          <a:ln w="28440">
            <a:solidFill>
              <a:srgbClr val="6d1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0"/>
          <p:cNvSpPr/>
          <p:nvPr/>
        </p:nvSpPr>
        <p:spPr>
          <a:xfrm>
            <a:off x="1527120" y="4281480"/>
            <a:ext cx="2892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fg.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1"/>
          <p:cNvSpPr/>
          <p:nvPr/>
        </p:nvSpPr>
        <p:spPr>
          <a:xfrm>
            <a:off x="5641920" y="1779480"/>
            <a:ext cx="327348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 in Proces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Job Cost She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2"/>
          <p:cNvSpPr/>
          <p:nvPr/>
        </p:nvSpPr>
        <p:spPr>
          <a:xfrm>
            <a:off x="1525680" y="47372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da1f28"/>
                </a:solidFill>
                <a:uFillTx/>
                <a:latin typeface="Arial"/>
              </a:rPr>
              <a:t>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3"/>
          <p:cNvSpPr/>
          <p:nvPr/>
        </p:nvSpPr>
        <p:spPr>
          <a:xfrm>
            <a:off x="2896560" y="47372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da1f28"/>
                </a:solidFill>
                <a:uFillTx/>
                <a:latin typeface="Arial"/>
              </a:rPr>
              <a:t>A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14"/>
          <p:cNvGrpSpPr/>
          <p:nvPr/>
        </p:nvGrpSpPr>
        <p:grpSpPr>
          <a:xfrm>
            <a:off x="2212920" y="2224080"/>
            <a:ext cx="4797360" cy="1215720"/>
            <a:chOff x="2212920" y="2224080"/>
            <a:chExt cx="4797360" cy="1215720"/>
          </a:xfrm>
        </p:grpSpPr>
        <p:sp>
          <p:nvSpPr>
            <p:cNvPr id="464" name="Rectangle 15"/>
            <p:cNvSpPr/>
            <p:nvPr/>
          </p:nvSpPr>
          <p:spPr>
            <a:xfrm>
              <a:off x="2212920" y="2224080"/>
              <a:ext cx="1596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buClr>
                  <a:srgbClr val="ff3300"/>
                </a:buClr>
                <a:buSzPct val="6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Direct</a:t>
              </a:r>
              <a:br>
                <a:rPr sz="2400"/>
              </a:b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 Materi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6"/>
            <p:cNvSpPr/>
            <p:nvPr/>
          </p:nvSpPr>
          <p:spPr>
            <a:xfrm>
              <a:off x="5337000" y="2619360"/>
              <a:ext cx="16732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buClr>
                  <a:srgbClr val="ff3300"/>
                </a:buClr>
                <a:buSzPct val="6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Direct</a:t>
              </a:r>
              <a:br>
                <a:rPr sz="2400"/>
              </a:b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 Materi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6" name="AutoShape 17"/>
            <p:cNvCxnSpPr>
              <a:stCxn id="464" idx="3"/>
              <a:endCxn id="465" idx="1"/>
            </p:cNvCxnSpPr>
            <p:nvPr/>
          </p:nvCxnSpPr>
          <p:spPr>
            <a:xfrm>
              <a:off x="3809880" y="2633400"/>
              <a:ext cx="1527840" cy="396000"/>
            </a:xfrm>
            <a:prstGeom prst="bentConnector3">
              <a:avLst>
                <a:gd name="adj1" fmla="val 49988"/>
              </a:avLst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467" name="Group 18"/>
          <p:cNvGrpSpPr/>
          <p:nvPr/>
        </p:nvGrpSpPr>
        <p:grpSpPr>
          <a:xfrm>
            <a:off x="763200" y="2965320"/>
            <a:ext cx="3184920" cy="3049200"/>
            <a:chOff x="763200" y="2965320"/>
            <a:chExt cx="3184920" cy="3049200"/>
          </a:xfrm>
        </p:grpSpPr>
        <p:sp>
          <p:nvSpPr>
            <p:cNvPr id="468" name="Rectangle 19"/>
            <p:cNvSpPr/>
            <p:nvPr/>
          </p:nvSpPr>
          <p:spPr>
            <a:xfrm>
              <a:off x="1222200" y="5194080"/>
              <a:ext cx="16732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buClr>
                  <a:srgbClr val="009900"/>
                </a:buClr>
                <a:buSzPct val="6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Arial"/>
                </a:rPr>
                <a:t>Indirect</a:t>
              </a:r>
              <a:br>
                <a:rPr sz="2400"/>
              </a:br>
              <a:r>
                <a:rPr b="1" lang="en-US" sz="2400" spc="-1" strike="noStrike">
                  <a:solidFill>
                    <a:srgbClr val="009900"/>
                  </a:solidFill>
                  <a:latin typeface="Arial"/>
                </a:rPr>
                <a:t> Materi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20"/>
            <p:cNvSpPr/>
            <p:nvPr/>
          </p:nvSpPr>
          <p:spPr>
            <a:xfrm>
              <a:off x="2274840" y="2965320"/>
              <a:ext cx="16732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buClr>
                  <a:srgbClr val="009900"/>
                </a:buClr>
                <a:buSzPct val="6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Arial"/>
                </a:rPr>
                <a:t>Indirect</a:t>
              </a:r>
              <a:br>
                <a:rPr sz="2400"/>
              </a:br>
              <a:r>
                <a:rPr b="1" lang="en-US" sz="2400" spc="-1" strike="noStrike">
                  <a:solidFill>
                    <a:srgbClr val="009900"/>
                  </a:solidFill>
                  <a:latin typeface="Arial"/>
                </a:rPr>
                <a:t> Materi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0" name="AutoShape 21"/>
            <p:cNvCxnSpPr>
              <a:stCxn id="469" idx="2"/>
              <a:endCxn id="468" idx="1"/>
            </p:cNvCxnSpPr>
            <p:nvPr/>
          </p:nvCxnSpPr>
          <p:spPr>
            <a:xfrm rot="5400000">
              <a:off x="1256760" y="3749400"/>
              <a:ext cx="1819800" cy="1890000"/>
            </a:xfrm>
            <a:prstGeom prst="bentConnector4">
              <a:avLst>
                <a:gd name="adj1" fmla="val 18836"/>
                <a:gd name="adj2" fmla="val 124271"/>
              </a:avLst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The Purchase and Issue of Raw Materials: T-Account Form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ost Flows – Material Purchases 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41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 October 1, Smith Corporation had $5,000 in raw materials on hand. During the month, the company purchased $45,000 in raw materia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Object 5"/>
          <p:cNvGraphicFramePr/>
          <p:nvPr/>
        </p:nvGraphicFramePr>
        <p:xfrm>
          <a:off x="457200" y="3505320"/>
          <a:ext cx="8197920" cy="144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505320"/>
                    <a:ext cx="81979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Job-Order Costing: An Overview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304920" y="1752480"/>
            <a:ext cx="8534160" cy="2819520"/>
          </a:xfrm>
          <a:prstGeom prst="rect">
            <a:avLst/>
          </a:prstGeom>
          <a:solidFill>
            <a:srgbClr val="7d3c4a"/>
          </a:solidFill>
          <a:ln w="19080">
            <a:solidFill>
              <a:srgbClr val="5a2934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0d1"/>
                </a:solidFill>
                <a:latin typeface="Arial"/>
              </a:rPr>
              <a:t>Examples of companies th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0d1"/>
                </a:solidFill>
                <a:latin typeface="Arial"/>
              </a:rPr>
              <a:t>would use job-order costing includ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eing (aircraft manufactu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htel International (large scale constru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lt Disney Studios (movie produ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C:\Users\Jon Booker\AppData\Local\Microsoft\Windows\Temporary Internet Files\Content.IE5\7CGKD7V0\MP900442499[1].jpg"/>
          <p:cNvPicPr/>
          <p:nvPr/>
        </p:nvPicPr>
        <p:blipFill>
          <a:blip r:embed="rId1"/>
          <a:stretch/>
        </p:blipFill>
        <p:spPr>
          <a:xfrm>
            <a:off x="457200" y="4824360"/>
            <a:ext cx="1447920" cy="97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7" name="Picture 4" descr="C:\Users\Jon Booker\AppData\Local\Microsoft\Windows\Temporary Internet Files\Content.IE5\A65S2516\MP900447482[1].jpg"/>
          <p:cNvPicPr/>
          <p:nvPr/>
        </p:nvPicPr>
        <p:blipFill>
          <a:blip r:embed="rId2"/>
          <a:stretch/>
        </p:blipFill>
        <p:spPr>
          <a:xfrm>
            <a:off x="3962520" y="4876920"/>
            <a:ext cx="1473120" cy="98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8" name="Picture 8" descr="C:\Users\Jon Booker\AppData\Local\Microsoft\Windows\Temporary Internet Files\Content.IE5\7CGKD7V0\MC900240635[1].wmf"/>
          <p:cNvPicPr/>
          <p:nvPr/>
        </p:nvPicPr>
        <p:blipFill>
          <a:blip r:embed="rId3"/>
          <a:stretch/>
        </p:blipFill>
        <p:spPr>
          <a:xfrm>
            <a:off x="7467480" y="4724280"/>
            <a:ext cx="1219320" cy="107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Issue of Direct and Indirect Material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41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 October 3, Smith had $43,000 in raw materials requisitioned from the storeroom for use in production. These raw materials included $40,000 of direct and $3,000 of indirect mater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Object 5"/>
          <p:cNvGraphicFramePr/>
          <p:nvPr/>
        </p:nvGraphicFramePr>
        <p:xfrm>
          <a:off x="990720" y="3733920"/>
          <a:ext cx="7573680" cy="177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733920"/>
                    <a:ext cx="757368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Line 2"/>
          <p:cNvSpPr/>
          <p:nvPr/>
        </p:nvSpPr>
        <p:spPr>
          <a:xfrm>
            <a:off x="5651640" y="2282760"/>
            <a:ext cx="2793960" cy="0"/>
          </a:xfrm>
          <a:prstGeom prst="line">
            <a:avLst/>
          </a:prstGeom>
          <a:ln w="25560">
            <a:solidFill>
              <a:srgbClr val="165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"/>
          <p:cNvSpPr/>
          <p:nvPr/>
        </p:nvSpPr>
        <p:spPr>
          <a:xfrm>
            <a:off x="7010280" y="2295360"/>
            <a:ext cx="0" cy="2032200"/>
          </a:xfrm>
          <a:prstGeom prst="line">
            <a:avLst/>
          </a:prstGeom>
          <a:ln w="25560">
            <a:solidFill>
              <a:srgbClr val="165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4"/>
          <p:cNvSpPr/>
          <p:nvPr/>
        </p:nvSpPr>
        <p:spPr>
          <a:xfrm>
            <a:off x="774720" y="2222640"/>
            <a:ext cx="2793960" cy="0"/>
          </a:xfrm>
          <a:prstGeom prst="line">
            <a:avLst/>
          </a:prstGeom>
          <a:ln w="25560">
            <a:solidFill>
              <a:srgbClr val="165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5"/>
          <p:cNvSpPr/>
          <p:nvPr/>
        </p:nvSpPr>
        <p:spPr>
          <a:xfrm>
            <a:off x="2209680" y="2235240"/>
            <a:ext cx="0" cy="1574640"/>
          </a:xfrm>
          <a:prstGeom prst="line">
            <a:avLst/>
          </a:prstGeom>
          <a:ln w="25560">
            <a:solidFill>
              <a:srgbClr val="165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6"/>
          <p:cNvSpPr/>
          <p:nvPr/>
        </p:nvSpPr>
        <p:spPr>
          <a:xfrm>
            <a:off x="1308240" y="4495680"/>
            <a:ext cx="2869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7"/>
          <p:cNvSpPr/>
          <p:nvPr/>
        </p:nvSpPr>
        <p:spPr>
          <a:xfrm>
            <a:off x="2743200" y="4508640"/>
            <a:ext cx="0" cy="172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8"/>
          <p:cNvSpPr/>
          <p:nvPr/>
        </p:nvSpPr>
        <p:spPr>
          <a:xfrm>
            <a:off x="1449360" y="4040280"/>
            <a:ext cx="2892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fg.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9"/>
          <p:cNvSpPr/>
          <p:nvPr/>
        </p:nvSpPr>
        <p:spPr>
          <a:xfrm>
            <a:off x="611280" y="1461960"/>
            <a:ext cx="3197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laries and Wages Pay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0"/>
          <p:cNvSpPr/>
          <p:nvPr/>
        </p:nvSpPr>
        <p:spPr>
          <a:xfrm>
            <a:off x="5564160" y="1446120"/>
            <a:ext cx="327348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 in Proces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Job Cost She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1"/>
          <p:cNvSpPr/>
          <p:nvPr/>
        </p:nvSpPr>
        <p:spPr>
          <a:xfrm>
            <a:off x="5259240" y="2284560"/>
            <a:ext cx="1673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buClr>
                <a:srgbClr val="ff33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irect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12"/>
          <p:cNvGrpSpPr/>
          <p:nvPr/>
        </p:nvGrpSpPr>
        <p:grpSpPr>
          <a:xfrm>
            <a:off x="2163600" y="2224080"/>
            <a:ext cx="4713480" cy="1642680"/>
            <a:chOff x="2163600" y="2224080"/>
            <a:chExt cx="4713480" cy="1642680"/>
          </a:xfrm>
        </p:grpSpPr>
        <p:sp>
          <p:nvSpPr>
            <p:cNvPr id="491" name="Rectangle 13"/>
            <p:cNvSpPr/>
            <p:nvPr/>
          </p:nvSpPr>
          <p:spPr>
            <a:xfrm>
              <a:off x="5356080" y="3046320"/>
              <a:ext cx="1521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buClr>
                  <a:srgbClr val="464646"/>
                </a:buClr>
                <a:buSzPct val="5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Direct</a:t>
              </a:r>
              <a:br>
                <a:rPr sz="2400"/>
              </a:b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 Lab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4"/>
            <p:cNvSpPr/>
            <p:nvPr/>
          </p:nvSpPr>
          <p:spPr>
            <a:xfrm>
              <a:off x="2163600" y="2224080"/>
              <a:ext cx="13687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buClr>
                  <a:srgbClr val="464646"/>
                </a:buClr>
                <a:buSzPct val="5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Direct</a:t>
              </a:r>
              <a:br>
                <a:rPr sz="2400"/>
              </a:b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 Lab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3" name="AutoShape 15"/>
            <p:cNvCxnSpPr>
              <a:stCxn id="492" idx="3"/>
              <a:endCxn id="491" idx="1"/>
            </p:cNvCxnSpPr>
            <p:nvPr/>
          </p:nvCxnSpPr>
          <p:spPr>
            <a:xfrm>
              <a:off x="3532320" y="2633760"/>
              <a:ext cx="1824480" cy="822960"/>
            </a:xfrm>
            <a:prstGeom prst="bentConnector3">
              <a:avLst>
                <a:gd name="adj1" fmla="val 49950"/>
              </a:avLst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494" name="Line 16"/>
          <p:cNvSpPr/>
          <p:nvPr/>
        </p:nvSpPr>
        <p:spPr>
          <a:xfrm>
            <a:off x="1379520" y="4495680"/>
            <a:ext cx="287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7"/>
          <p:cNvSpPr/>
          <p:nvPr/>
        </p:nvSpPr>
        <p:spPr>
          <a:xfrm>
            <a:off x="1143000" y="4952880"/>
            <a:ext cx="1673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buClr>
                <a:srgbClr val="0099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Indirect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8"/>
          <p:cNvSpPr/>
          <p:nvPr/>
        </p:nvSpPr>
        <p:spPr>
          <a:xfrm>
            <a:off x="1525680" y="44956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da1f28"/>
                </a:solidFill>
                <a:uFillTx/>
                <a:latin typeface="Arial"/>
              </a:rPr>
              <a:t>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2896560" y="44956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da1f28"/>
                </a:solidFill>
                <a:uFillTx/>
                <a:latin typeface="Arial"/>
              </a:rPr>
              <a:t>A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20"/>
          <p:cNvGrpSpPr/>
          <p:nvPr/>
        </p:nvGrpSpPr>
        <p:grpSpPr>
          <a:xfrm>
            <a:off x="608760" y="2986200"/>
            <a:ext cx="3123360" cy="3549240"/>
            <a:chOff x="608760" y="2986200"/>
            <a:chExt cx="3123360" cy="3549240"/>
          </a:xfrm>
        </p:grpSpPr>
        <p:sp>
          <p:nvSpPr>
            <p:cNvPr id="499" name="Rectangle 21"/>
            <p:cNvSpPr/>
            <p:nvPr/>
          </p:nvSpPr>
          <p:spPr>
            <a:xfrm>
              <a:off x="1143000" y="5715000"/>
              <a:ext cx="16732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buClr>
                  <a:srgbClr val="3333ff"/>
                </a:buClr>
                <a:buSzPct val="5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Indirect</a:t>
              </a:r>
              <a:br>
                <a:rPr sz="2400"/>
              </a:b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Lab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22"/>
            <p:cNvSpPr/>
            <p:nvPr/>
          </p:nvSpPr>
          <p:spPr>
            <a:xfrm>
              <a:off x="2184480" y="2986200"/>
              <a:ext cx="15476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buClr>
                  <a:srgbClr val="3333ff"/>
                </a:buClr>
                <a:buSzPct val="5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Indirect</a:t>
              </a:r>
              <a:br>
                <a:rPr sz="2400"/>
              </a:b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Lab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1" name="AutoShape 23"/>
            <p:cNvCxnSpPr>
              <a:stCxn id="500" idx="2"/>
              <a:endCxn id="499" idx="1"/>
            </p:cNvCxnSpPr>
            <p:nvPr/>
          </p:nvCxnSpPr>
          <p:spPr>
            <a:xfrm rot="5400000">
              <a:off x="890640" y="4056480"/>
              <a:ext cx="2320200" cy="1816920"/>
            </a:xfrm>
            <a:prstGeom prst="bentConnector4">
              <a:avLst>
                <a:gd name="adj1" fmla="val 6564"/>
                <a:gd name="adj2" fmla="val 129369"/>
              </a:avLst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The Recording of Labor Cos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The Recording of Labor Cos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41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uring the month the employee time tickets included $35,000 of direct labor and $12,000 for indirect labo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Object 5"/>
          <p:cNvGraphicFramePr/>
          <p:nvPr/>
        </p:nvGraphicFramePr>
        <p:xfrm>
          <a:off x="914400" y="3429000"/>
          <a:ext cx="7432560" cy="182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74325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Line 2"/>
          <p:cNvSpPr/>
          <p:nvPr/>
        </p:nvSpPr>
        <p:spPr>
          <a:xfrm>
            <a:off x="5651640" y="2282760"/>
            <a:ext cx="279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3"/>
          <p:cNvSpPr/>
          <p:nvPr/>
        </p:nvSpPr>
        <p:spPr>
          <a:xfrm>
            <a:off x="7010280" y="2295360"/>
            <a:ext cx="0" cy="203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4"/>
          <p:cNvSpPr/>
          <p:nvPr/>
        </p:nvSpPr>
        <p:spPr>
          <a:xfrm>
            <a:off x="774720" y="2222640"/>
            <a:ext cx="279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5"/>
          <p:cNvSpPr/>
          <p:nvPr/>
        </p:nvSpPr>
        <p:spPr>
          <a:xfrm>
            <a:off x="2209680" y="2235240"/>
            <a:ext cx="0" cy="15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2743200" y="4278240"/>
            <a:ext cx="0" cy="172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1449360" y="3809880"/>
            <a:ext cx="2892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fg.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611280" y="1461960"/>
            <a:ext cx="3197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laries and Wages Pay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5564160" y="1446120"/>
            <a:ext cx="327348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 in Proces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Job Cost She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5259240" y="2284560"/>
            <a:ext cx="1673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buClr>
                <a:srgbClr val="ff33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irect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2"/>
          <p:cNvSpPr/>
          <p:nvPr/>
        </p:nvSpPr>
        <p:spPr>
          <a:xfrm>
            <a:off x="5356080" y="3046320"/>
            <a:ext cx="1521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buClr>
                <a:srgbClr val="46464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Direct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La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3"/>
          <p:cNvSpPr/>
          <p:nvPr/>
        </p:nvSpPr>
        <p:spPr>
          <a:xfrm>
            <a:off x="2163600" y="2224080"/>
            <a:ext cx="1368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buClr>
                <a:srgbClr val="46464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Direct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La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4"/>
          <p:cNvSpPr/>
          <p:nvPr/>
        </p:nvSpPr>
        <p:spPr>
          <a:xfrm>
            <a:off x="1379520" y="4265640"/>
            <a:ext cx="287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5"/>
          <p:cNvSpPr/>
          <p:nvPr/>
        </p:nvSpPr>
        <p:spPr>
          <a:xfrm>
            <a:off x="1143000" y="4570560"/>
            <a:ext cx="1673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buClr>
                <a:srgbClr val="0099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Indirect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1525680" y="4265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da1f28"/>
                </a:solidFill>
                <a:uFillTx/>
                <a:latin typeface="Arial"/>
              </a:rPr>
              <a:t>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7"/>
          <p:cNvSpPr/>
          <p:nvPr/>
        </p:nvSpPr>
        <p:spPr>
          <a:xfrm>
            <a:off x="2896560" y="42656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da1f28"/>
                </a:solidFill>
                <a:uFillTx/>
                <a:latin typeface="Arial"/>
              </a:rPr>
              <a:t>A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8"/>
          <p:cNvSpPr/>
          <p:nvPr/>
        </p:nvSpPr>
        <p:spPr>
          <a:xfrm>
            <a:off x="1143000" y="5267160"/>
            <a:ext cx="1673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buClr>
                <a:srgbClr val="3333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ndirect</a:t>
            </a:r>
            <a:br>
              <a:rPr sz="24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La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9"/>
          <p:cNvSpPr/>
          <p:nvPr/>
        </p:nvSpPr>
        <p:spPr>
          <a:xfrm>
            <a:off x="2184480" y="2986200"/>
            <a:ext cx="1547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buClr>
                <a:srgbClr val="3333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ndirect</a:t>
            </a:r>
            <a:br>
              <a:rPr sz="24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La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Recording Actual Manufacturing Overhead Cost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25" name="Rectangle 21"/>
          <p:cNvSpPr/>
          <p:nvPr/>
        </p:nvSpPr>
        <p:spPr>
          <a:xfrm>
            <a:off x="1143000" y="5962680"/>
            <a:ext cx="1673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22"/>
          <p:cNvSpPr/>
          <p:nvPr/>
        </p:nvSpPr>
        <p:spPr>
          <a:xfrm>
            <a:off x="838080" y="5943600"/>
            <a:ext cx="221004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Recording Actual Manufacturing Overhead Cost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2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uring the month the company incurred the following actual overhead cos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Utilities (heat, water, and power) $1,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Depreciation of factory equipment $2,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Property taxes payable on factory $1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Object 5"/>
          <p:cNvGraphicFramePr/>
          <p:nvPr/>
        </p:nvGraphicFramePr>
        <p:xfrm>
          <a:off x="380880" y="4038480"/>
          <a:ext cx="8275680" cy="20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38480"/>
                    <a:ext cx="82756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Line 2"/>
          <p:cNvSpPr/>
          <p:nvPr/>
        </p:nvSpPr>
        <p:spPr>
          <a:xfrm>
            <a:off x="5651640" y="2409840"/>
            <a:ext cx="279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"/>
          <p:cNvSpPr/>
          <p:nvPr/>
        </p:nvSpPr>
        <p:spPr>
          <a:xfrm>
            <a:off x="7010280" y="2422440"/>
            <a:ext cx="0" cy="203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4"/>
          <p:cNvSpPr/>
          <p:nvPr/>
        </p:nvSpPr>
        <p:spPr>
          <a:xfrm>
            <a:off x="774720" y="2349360"/>
            <a:ext cx="279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5"/>
          <p:cNvSpPr/>
          <p:nvPr/>
        </p:nvSpPr>
        <p:spPr>
          <a:xfrm>
            <a:off x="2209680" y="2362320"/>
            <a:ext cx="0" cy="15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"/>
          <p:cNvSpPr/>
          <p:nvPr/>
        </p:nvSpPr>
        <p:spPr>
          <a:xfrm>
            <a:off x="1308240" y="4392720"/>
            <a:ext cx="2869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7"/>
          <p:cNvSpPr/>
          <p:nvPr/>
        </p:nvSpPr>
        <p:spPr>
          <a:xfrm>
            <a:off x="2743200" y="4405320"/>
            <a:ext cx="0" cy="172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1449360" y="3936960"/>
            <a:ext cx="2892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fg.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9"/>
          <p:cNvSpPr/>
          <p:nvPr/>
        </p:nvSpPr>
        <p:spPr>
          <a:xfrm>
            <a:off x="611280" y="1589040"/>
            <a:ext cx="3197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laries and Wages Pay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5564160" y="1573200"/>
            <a:ext cx="327348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 in Proces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Job Cost She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1"/>
          <p:cNvSpPr/>
          <p:nvPr/>
        </p:nvSpPr>
        <p:spPr>
          <a:xfrm>
            <a:off x="5259240" y="2411280"/>
            <a:ext cx="1673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buClr>
                <a:srgbClr val="ff33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irect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2"/>
          <p:cNvSpPr/>
          <p:nvPr/>
        </p:nvSpPr>
        <p:spPr>
          <a:xfrm>
            <a:off x="5356080" y="3173400"/>
            <a:ext cx="1521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buClr>
                <a:srgbClr val="46464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Direct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La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3"/>
          <p:cNvSpPr/>
          <p:nvPr/>
        </p:nvSpPr>
        <p:spPr>
          <a:xfrm>
            <a:off x="2163600" y="2351160"/>
            <a:ext cx="1368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buClr>
                <a:srgbClr val="46464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Direct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La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4"/>
          <p:cNvSpPr/>
          <p:nvPr/>
        </p:nvSpPr>
        <p:spPr>
          <a:xfrm>
            <a:off x="1379520" y="4392720"/>
            <a:ext cx="287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5"/>
          <p:cNvSpPr/>
          <p:nvPr/>
        </p:nvSpPr>
        <p:spPr>
          <a:xfrm>
            <a:off x="1143000" y="4697280"/>
            <a:ext cx="1673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buClr>
                <a:srgbClr val="0099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Indirect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6"/>
          <p:cNvSpPr/>
          <p:nvPr/>
        </p:nvSpPr>
        <p:spPr>
          <a:xfrm>
            <a:off x="1525680" y="43927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da1f28"/>
                </a:solidFill>
                <a:uFillTx/>
                <a:latin typeface="Arial"/>
              </a:rPr>
              <a:t>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7"/>
          <p:cNvSpPr/>
          <p:nvPr/>
        </p:nvSpPr>
        <p:spPr>
          <a:xfrm>
            <a:off x="2896560" y="43927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da1f28"/>
                </a:solidFill>
                <a:uFillTx/>
                <a:latin typeface="Arial"/>
              </a:rPr>
              <a:t>A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8"/>
          <p:cNvSpPr/>
          <p:nvPr/>
        </p:nvSpPr>
        <p:spPr>
          <a:xfrm>
            <a:off x="1143000" y="5394240"/>
            <a:ext cx="1673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buClr>
                <a:srgbClr val="3333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ndirect</a:t>
            </a:r>
            <a:br>
              <a:rPr sz="24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La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9"/>
          <p:cNvSpPr/>
          <p:nvPr/>
        </p:nvSpPr>
        <p:spPr>
          <a:xfrm>
            <a:off x="2184480" y="3112920"/>
            <a:ext cx="1547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buClr>
                <a:srgbClr val="3333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ndirect</a:t>
            </a:r>
            <a:br>
              <a:rPr sz="24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La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Applying Manufacturing Overhead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0" name="Rectangle 21"/>
          <p:cNvSpPr/>
          <p:nvPr/>
        </p:nvSpPr>
        <p:spPr>
          <a:xfrm>
            <a:off x="1143000" y="6039000"/>
            <a:ext cx="1673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22"/>
          <p:cNvGrpSpPr/>
          <p:nvPr/>
        </p:nvGrpSpPr>
        <p:grpSpPr>
          <a:xfrm>
            <a:off x="2709720" y="3879720"/>
            <a:ext cx="4375440" cy="2751840"/>
            <a:chOff x="2709720" y="3879720"/>
            <a:chExt cx="4375440" cy="2751840"/>
          </a:xfrm>
        </p:grpSpPr>
        <p:sp>
          <p:nvSpPr>
            <p:cNvPr id="552" name="Rectangle 23"/>
            <p:cNvSpPr/>
            <p:nvPr/>
          </p:nvSpPr>
          <p:spPr>
            <a:xfrm>
              <a:off x="5257800" y="3879720"/>
              <a:ext cx="18273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buClr>
                  <a:srgbClr val="9900ff"/>
                </a:buClr>
                <a:buSzPct val="5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ff"/>
                  </a:solidFill>
                  <a:latin typeface="Arial"/>
                </a:rPr>
                <a:t>Overhead</a:t>
              </a:r>
              <a:br>
                <a:rPr sz="2400"/>
              </a:br>
              <a:r>
                <a:rPr b="1" lang="en-US" sz="2400" spc="-1" strike="noStrike">
                  <a:solidFill>
                    <a:srgbClr val="9900ff"/>
                  </a:solidFill>
                  <a:latin typeface="Arial"/>
                </a:rPr>
                <a:t> Appli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24"/>
            <p:cNvSpPr/>
            <p:nvPr/>
          </p:nvSpPr>
          <p:spPr>
            <a:xfrm>
              <a:off x="2709720" y="5079600"/>
              <a:ext cx="182592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buClr>
                  <a:srgbClr val="9900ff"/>
                </a:buClr>
                <a:buSzPct val="5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ff"/>
                  </a:solidFill>
                  <a:latin typeface="Arial"/>
                </a:rPr>
                <a:t>Overhead</a:t>
              </a:r>
              <a:br>
                <a:rPr sz="2400"/>
              </a:br>
              <a:r>
                <a:rPr b="1" lang="en-US" sz="2400" spc="-1" strike="noStrike">
                  <a:solidFill>
                    <a:srgbClr val="9900ff"/>
                  </a:solidFill>
                  <a:latin typeface="Arial"/>
                </a:rPr>
                <a:t>Applied to Work in</a:t>
              </a:r>
              <a:br>
                <a:rPr sz="2400"/>
              </a:br>
              <a:r>
                <a:rPr b="1" lang="en-US" sz="2400" spc="-1" strike="noStrike">
                  <a:solidFill>
                    <a:srgbClr val="9900ff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4" name="AutoShape 25"/>
            <p:cNvCxnSpPr>
              <a:stCxn id="553" idx="3"/>
              <a:endCxn id="552" idx="1"/>
            </p:cNvCxnSpPr>
            <p:nvPr/>
          </p:nvCxnSpPr>
          <p:spPr>
            <a:xfrm flipV="1">
              <a:off x="4535640" y="4288680"/>
              <a:ext cx="722520" cy="1566000"/>
            </a:xfrm>
            <a:prstGeom prst="bentConnector3">
              <a:avLst>
                <a:gd name="adj1" fmla="val 49900"/>
              </a:avLst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555" name="Rectangle 26"/>
          <p:cNvSpPr/>
          <p:nvPr/>
        </p:nvSpPr>
        <p:spPr>
          <a:xfrm>
            <a:off x="5246640" y="4921200"/>
            <a:ext cx="3592440" cy="14295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3300"/>
                </a:solidFill>
                <a:latin typeface="Arial"/>
              </a:rPr>
              <a:t>If actual and applied manufacturing overhead</a:t>
            </a:r>
            <a:br>
              <a:rPr sz="2200"/>
            </a:br>
            <a:r>
              <a:rPr b="1" lang="en-US" sz="2200" spc="-1" strike="noStrike">
                <a:solidFill>
                  <a:srgbClr val="663300"/>
                </a:solidFill>
                <a:latin typeface="Arial"/>
              </a:rPr>
              <a:t>are not equal, a year-end adjustment is requi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Applying Manufacturing Overhead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mith uses a predetermined overhead rate of $3.50 per machine-hour. During the month, 5,000 machine-hours were worked on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8" name="Object 5"/>
          <p:cNvGraphicFramePr/>
          <p:nvPr/>
        </p:nvGraphicFramePr>
        <p:xfrm>
          <a:off x="533520" y="3352680"/>
          <a:ext cx="8032680" cy="160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52680"/>
                    <a:ext cx="80326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Accounting for Nonmanufacturing Cost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533520" y="152388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manufacturing costs are not assigned to individual jobs, rather they are expensed in the period incur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838080" y="3048120"/>
            <a:ext cx="7467840" cy="2971800"/>
          </a:xfrm>
          <a:prstGeom prst="rect">
            <a:avLst/>
          </a:prstGeom>
          <a:solidFill>
            <a:srgbClr val="da1f28"/>
          </a:solidFill>
          <a:ln w="28440">
            <a:solidFill>
              <a:srgbClr val="da1f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ary expense of employe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work in a marketing, selling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administrative capa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tising expenses are expen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period incur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Accounting for Nonmanufacturing Cost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uring the month, Smith incurred but has not paid sales salaries of $2,000, and advertising expense of $75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Object 5"/>
          <p:cNvGraphicFramePr/>
          <p:nvPr/>
        </p:nvGraphicFramePr>
        <p:xfrm>
          <a:off x="457200" y="3048120"/>
          <a:ext cx="8275680" cy="20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8120"/>
                    <a:ext cx="82756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Line 1026"/>
          <p:cNvSpPr/>
          <p:nvPr/>
        </p:nvSpPr>
        <p:spPr>
          <a:xfrm>
            <a:off x="469800" y="2620800"/>
            <a:ext cx="279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027"/>
          <p:cNvSpPr/>
          <p:nvPr/>
        </p:nvSpPr>
        <p:spPr>
          <a:xfrm>
            <a:off x="1828800" y="2633760"/>
            <a:ext cx="0" cy="218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028"/>
          <p:cNvSpPr/>
          <p:nvPr/>
        </p:nvSpPr>
        <p:spPr>
          <a:xfrm>
            <a:off x="5958000" y="2319480"/>
            <a:ext cx="279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029"/>
          <p:cNvSpPr/>
          <p:nvPr/>
        </p:nvSpPr>
        <p:spPr>
          <a:xfrm>
            <a:off x="5946840" y="1863720"/>
            <a:ext cx="3273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ished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1030"/>
          <p:cNvSpPr/>
          <p:nvPr/>
        </p:nvSpPr>
        <p:spPr>
          <a:xfrm>
            <a:off x="7316640" y="2332080"/>
            <a:ext cx="0" cy="142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031"/>
          <p:cNvSpPr/>
          <p:nvPr/>
        </p:nvSpPr>
        <p:spPr>
          <a:xfrm>
            <a:off x="382680" y="1784520"/>
            <a:ext cx="327348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 in Proces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Job Cost Shee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32"/>
          <p:cNvSpPr/>
          <p:nvPr/>
        </p:nvSpPr>
        <p:spPr>
          <a:xfrm>
            <a:off x="77760" y="2622600"/>
            <a:ext cx="1673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buClr>
                <a:srgbClr val="ff33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irect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33"/>
          <p:cNvSpPr/>
          <p:nvPr/>
        </p:nvSpPr>
        <p:spPr>
          <a:xfrm>
            <a:off x="174600" y="3384720"/>
            <a:ext cx="1521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buClr>
                <a:srgbClr val="46464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Direct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La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34"/>
          <p:cNvSpPr/>
          <p:nvPr/>
        </p:nvSpPr>
        <p:spPr>
          <a:xfrm>
            <a:off x="76320" y="4091040"/>
            <a:ext cx="1827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buClr>
                <a:srgbClr val="9900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Overhead</a:t>
            </a:r>
            <a:br>
              <a:rPr sz="2400"/>
            </a:b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 A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1035"/>
          <p:cNvGrpSpPr/>
          <p:nvPr/>
        </p:nvGrpSpPr>
        <p:grpSpPr>
          <a:xfrm>
            <a:off x="1905120" y="2549520"/>
            <a:ext cx="5487480" cy="1487880"/>
            <a:chOff x="1905120" y="2549520"/>
            <a:chExt cx="5487480" cy="1487880"/>
          </a:xfrm>
        </p:grpSpPr>
        <p:sp>
          <p:nvSpPr>
            <p:cNvPr id="577" name="Rectangle 1036"/>
            <p:cNvSpPr/>
            <p:nvPr/>
          </p:nvSpPr>
          <p:spPr>
            <a:xfrm>
              <a:off x="5181840" y="2549520"/>
              <a:ext cx="22107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buClr>
                  <a:srgbClr val="006600"/>
                </a:buClr>
                <a:buSzPct val="6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Cost of</a:t>
              </a:r>
              <a:br>
                <a:rPr sz="2400"/>
              </a:b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Goods</a:t>
              </a:r>
              <a:br>
                <a:rPr sz="2400"/>
              </a:b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Manufactu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037"/>
            <p:cNvSpPr/>
            <p:nvPr/>
          </p:nvSpPr>
          <p:spPr>
            <a:xfrm>
              <a:off x="1905120" y="2851200"/>
              <a:ext cx="24465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buClr>
                  <a:srgbClr val="006600"/>
                </a:buClr>
                <a:buSzPct val="6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Cost of</a:t>
              </a:r>
              <a:br>
                <a:rPr sz="2400"/>
              </a:b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Goods</a:t>
              </a:r>
              <a:br>
                <a:rPr sz="2400"/>
              </a:b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Manufactu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9" name="AutoShape 1038"/>
            <p:cNvCxnSpPr>
              <a:stCxn id="578" idx="3"/>
              <a:endCxn id="577" idx="1"/>
            </p:cNvCxnSpPr>
            <p:nvPr/>
          </p:nvCxnSpPr>
          <p:spPr>
            <a:xfrm flipV="1">
              <a:off x="4351320" y="3147480"/>
              <a:ext cx="830520" cy="30240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Transferring Completed Uni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581" name="Picture 16" descr="C:\Documents and Settings\Jon A. Booker\Local Settings\Temporary Internet Files\Content.IE5\92GTAV6I\MCj01985690000[1].wmf"/>
          <p:cNvPicPr/>
          <p:nvPr/>
        </p:nvPicPr>
        <p:blipFill>
          <a:blip r:embed="rId1"/>
          <a:stretch/>
        </p:blipFill>
        <p:spPr>
          <a:xfrm flipH="1">
            <a:off x="3657240" y="4300560"/>
            <a:ext cx="2243160" cy="202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trips dir="r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4114800" y="2732040"/>
            <a:ext cx="1839960" cy="454680"/>
          </a:xfrm>
          <a:prstGeom prst="rect">
            <a:avLst/>
          </a:prstGeom>
          <a:solidFill>
            <a:srgbClr val="c8fec8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b No.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114800" y="3722760"/>
            <a:ext cx="1839960" cy="454680"/>
          </a:xfrm>
          <a:prstGeom prst="rect">
            <a:avLst/>
          </a:prstGeom>
          <a:solidFill>
            <a:srgbClr val="c8fec8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b No.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114800" y="4713120"/>
            <a:ext cx="1839960" cy="454680"/>
          </a:xfrm>
          <a:prstGeom prst="rect">
            <a:avLst/>
          </a:prstGeom>
          <a:solidFill>
            <a:srgbClr val="c8fec8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b No.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6183360" y="2101680"/>
            <a:ext cx="2590920" cy="350100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4349"/>
                </a:solidFill>
                <a:latin typeface="Arial"/>
              </a:rPr>
              <a:t>Charge direct material and direct labor costs to each job as work is per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Job-Order Costing – An Exampl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cxnSp>
        <p:nvCxnSpPr>
          <p:cNvPr id="104" name="AutoShape 8"/>
          <p:cNvCxnSpPr>
            <a:stCxn id="105" idx="3"/>
            <a:endCxn id="99" idx="1"/>
          </p:cNvCxnSpPr>
          <p:nvPr/>
        </p:nvCxnSpPr>
        <p:spPr>
          <a:xfrm>
            <a:off x="2978280" y="2590920"/>
            <a:ext cx="112464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9"/>
          <p:cNvCxnSpPr>
            <a:stCxn id="105" idx="3"/>
            <a:endCxn id="100" idx="1"/>
          </p:cNvCxnSpPr>
          <p:nvPr/>
        </p:nvCxnSpPr>
        <p:spPr>
          <a:xfrm>
            <a:off x="2978280" y="2590920"/>
            <a:ext cx="1124640" cy="1372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AutoShape 10"/>
          <p:cNvCxnSpPr>
            <a:stCxn id="105" idx="3"/>
            <a:endCxn id="101" idx="1"/>
          </p:cNvCxnSpPr>
          <p:nvPr/>
        </p:nvCxnSpPr>
        <p:spPr>
          <a:xfrm>
            <a:off x="2978280" y="2590560"/>
            <a:ext cx="1124640" cy="2362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AutoShape 11"/>
          <p:cNvCxnSpPr/>
          <p:nvPr/>
        </p:nvCxnSpPr>
        <p:spPr>
          <a:xfrm flipV="1">
            <a:off x="2978280" y="2971080"/>
            <a:ext cx="1124640" cy="76284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09" name="AutoShape 12"/>
          <p:cNvCxnSpPr/>
          <p:nvPr/>
        </p:nvCxnSpPr>
        <p:spPr>
          <a:xfrm>
            <a:off x="2978280" y="3733560"/>
            <a:ext cx="1124640" cy="22932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10" name="AutoShape 13"/>
          <p:cNvCxnSpPr/>
          <p:nvPr/>
        </p:nvCxnSpPr>
        <p:spPr>
          <a:xfrm>
            <a:off x="2978280" y="3733920"/>
            <a:ext cx="1124640" cy="121968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05" name="Rectangle 14"/>
          <p:cNvSpPr/>
          <p:nvPr/>
        </p:nvSpPr>
        <p:spPr>
          <a:xfrm>
            <a:off x="380880" y="2351160"/>
            <a:ext cx="2584440" cy="454680"/>
          </a:xfrm>
          <a:prstGeom prst="rect">
            <a:avLst/>
          </a:prstGeom>
          <a:solidFill>
            <a:srgbClr val="fcfeb9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380880" y="3494160"/>
            <a:ext cx="2584440" cy="454680"/>
          </a:xfrm>
          <a:prstGeom prst="rect">
            <a:avLst/>
          </a:prstGeom>
          <a:solidFill>
            <a:srgbClr val="fcfeb9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 La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4"/>
          <p:cNvSpPr/>
          <p:nvPr/>
        </p:nvSpPr>
        <p:spPr>
          <a:xfrm>
            <a:off x="304920" y="1676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Transferring Completed Uni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41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uring the period, Smith completed jobs with a total cost of $27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Object 5"/>
          <p:cNvGraphicFramePr/>
          <p:nvPr/>
        </p:nvGraphicFramePr>
        <p:xfrm>
          <a:off x="304920" y="2971800"/>
          <a:ext cx="8646840" cy="129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1800"/>
                    <a:ext cx="86468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Line 2"/>
          <p:cNvSpPr/>
          <p:nvPr/>
        </p:nvSpPr>
        <p:spPr>
          <a:xfrm>
            <a:off x="927000" y="2523960"/>
            <a:ext cx="279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3"/>
          <p:cNvSpPr/>
          <p:nvPr/>
        </p:nvSpPr>
        <p:spPr>
          <a:xfrm>
            <a:off x="2286000" y="2536920"/>
            <a:ext cx="0" cy="218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4"/>
          <p:cNvSpPr/>
          <p:nvPr/>
        </p:nvSpPr>
        <p:spPr>
          <a:xfrm>
            <a:off x="5651640" y="2222640"/>
            <a:ext cx="279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5640480" y="1766880"/>
            <a:ext cx="3273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ished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6"/>
          <p:cNvSpPr/>
          <p:nvPr/>
        </p:nvSpPr>
        <p:spPr>
          <a:xfrm>
            <a:off x="7010280" y="2235240"/>
            <a:ext cx="0" cy="142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7"/>
          <p:cNvSpPr/>
          <p:nvPr/>
        </p:nvSpPr>
        <p:spPr>
          <a:xfrm>
            <a:off x="3213000" y="4889520"/>
            <a:ext cx="3175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8"/>
          <p:cNvSpPr/>
          <p:nvPr/>
        </p:nvSpPr>
        <p:spPr>
          <a:xfrm>
            <a:off x="4800600" y="4902120"/>
            <a:ext cx="0" cy="142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3048120" y="4432320"/>
            <a:ext cx="3882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of Goods S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0"/>
          <p:cNvSpPr/>
          <p:nvPr/>
        </p:nvSpPr>
        <p:spPr>
          <a:xfrm>
            <a:off x="839880" y="1687680"/>
            <a:ext cx="327348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 in Proces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Job Cost She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1"/>
          <p:cNvSpPr/>
          <p:nvPr/>
        </p:nvSpPr>
        <p:spPr>
          <a:xfrm>
            <a:off x="534960" y="2525760"/>
            <a:ext cx="1673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buClr>
                <a:srgbClr val="ff33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irect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2"/>
          <p:cNvSpPr/>
          <p:nvPr/>
        </p:nvSpPr>
        <p:spPr>
          <a:xfrm>
            <a:off x="631800" y="3287880"/>
            <a:ext cx="1521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buClr>
                <a:srgbClr val="46464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Direct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La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3"/>
          <p:cNvSpPr/>
          <p:nvPr/>
        </p:nvSpPr>
        <p:spPr>
          <a:xfrm>
            <a:off x="533520" y="3994200"/>
            <a:ext cx="1827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buClr>
                <a:srgbClr val="9900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Overhead</a:t>
            </a:r>
            <a:br>
              <a:rPr sz="2400"/>
            </a:b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 A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4"/>
          <p:cNvSpPr/>
          <p:nvPr/>
        </p:nvSpPr>
        <p:spPr>
          <a:xfrm>
            <a:off x="5411880" y="2452680"/>
            <a:ext cx="1444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buClr>
                <a:srgbClr val="0066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Cost of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Goods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f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5"/>
          <p:cNvSpPr/>
          <p:nvPr/>
        </p:nvSpPr>
        <p:spPr>
          <a:xfrm>
            <a:off x="2363760" y="2754360"/>
            <a:ext cx="1444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buClr>
                <a:srgbClr val="0066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Cost of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Goods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f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16"/>
          <p:cNvGrpSpPr/>
          <p:nvPr/>
        </p:nvGrpSpPr>
        <p:grpSpPr>
          <a:xfrm>
            <a:off x="2671560" y="2452680"/>
            <a:ext cx="5785200" cy="3853080"/>
            <a:chOff x="2671560" y="2452680"/>
            <a:chExt cx="5785200" cy="3853080"/>
          </a:xfrm>
        </p:grpSpPr>
        <p:sp>
          <p:nvSpPr>
            <p:cNvPr id="601" name="Rectangle 17"/>
            <p:cNvSpPr/>
            <p:nvPr/>
          </p:nvSpPr>
          <p:spPr>
            <a:xfrm>
              <a:off x="3201840" y="5119560"/>
              <a:ext cx="14446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buClr>
                  <a:srgbClr val="cc6600"/>
                </a:buClr>
                <a:buSzPct val="6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6600"/>
                  </a:solidFill>
                  <a:latin typeface="Arial"/>
                </a:rPr>
                <a:t>Cost of</a:t>
              </a:r>
              <a:br>
                <a:rPr sz="2400"/>
              </a:br>
              <a:r>
                <a:rPr b="1" lang="en-US" sz="2400" spc="-1" strike="noStrike">
                  <a:solidFill>
                    <a:srgbClr val="cc6600"/>
                  </a:solidFill>
                  <a:latin typeface="Arial"/>
                </a:rPr>
                <a:t>Goods</a:t>
              </a:r>
              <a:br>
                <a:rPr sz="2400"/>
              </a:br>
              <a:r>
                <a:rPr b="1" lang="en-US" sz="2400" spc="-1" strike="noStrike">
                  <a:solidFill>
                    <a:srgbClr val="cc6600"/>
                  </a:solidFill>
                  <a:latin typeface="Arial"/>
                </a:rPr>
                <a:t>Sol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18"/>
            <p:cNvSpPr/>
            <p:nvPr/>
          </p:nvSpPr>
          <p:spPr>
            <a:xfrm>
              <a:off x="7012080" y="2452680"/>
              <a:ext cx="14446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buClr>
                  <a:srgbClr val="cc6600"/>
                </a:buClr>
                <a:buSzPct val="6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6600"/>
                  </a:solidFill>
                  <a:latin typeface="Arial"/>
                </a:rPr>
                <a:t>Cost of</a:t>
              </a:r>
              <a:br>
                <a:rPr sz="2400"/>
              </a:br>
              <a:r>
                <a:rPr b="1" lang="en-US" sz="2400" spc="-1" strike="noStrike">
                  <a:solidFill>
                    <a:srgbClr val="cc6600"/>
                  </a:solidFill>
                  <a:latin typeface="Arial"/>
                </a:rPr>
                <a:t>Goods</a:t>
              </a:r>
              <a:br>
                <a:rPr sz="2400"/>
              </a:br>
              <a:r>
                <a:rPr b="1" lang="en-US" sz="2400" spc="-1" strike="noStrike">
                  <a:solidFill>
                    <a:srgbClr val="cc6600"/>
                  </a:solidFill>
                  <a:latin typeface="Arial"/>
                </a:rPr>
                <a:t>Sol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3" name="AutoShape 19"/>
            <p:cNvCxnSpPr>
              <a:stCxn id="602" idx="2"/>
              <a:endCxn id="601" idx="1"/>
            </p:cNvCxnSpPr>
            <p:nvPr/>
          </p:nvCxnSpPr>
          <p:spPr>
            <a:xfrm rot="5400000">
              <a:off x="4429800" y="2408040"/>
              <a:ext cx="2075760" cy="4533120"/>
            </a:xfrm>
            <a:prstGeom prst="bentConnector4">
              <a:avLst>
                <a:gd name="adj1" fmla="val 32124"/>
                <a:gd name="adj2" fmla="val 111690"/>
              </a:avLst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Transferring Units Sold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Transferring Units Sold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41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mith sold the $27,000 in Finished Goods Inventory to customers for $43,500 o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Object 5"/>
          <p:cNvGraphicFramePr/>
          <p:nvPr/>
        </p:nvGraphicFramePr>
        <p:xfrm>
          <a:off x="696960" y="2743200"/>
          <a:ext cx="7761240" cy="243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960" y="2743200"/>
                    <a:ext cx="776124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6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10" name="Text Box 13"/>
          <p:cNvSpPr/>
          <p:nvPr/>
        </p:nvSpPr>
        <p:spPr>
          <a:xfrm>
            <a:off x="1905120" y="2362320"/>
            <a:ext cx="5333760" cy="268236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Prepare schedules of cost of goods manufactured and cost of goods sold and an income statemen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Schedule of Cost of Goods Manufactured: Key Concept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12" name="Rectangle 3"/>
          <p:cNvSpPr/>
          <p:nvPr/>
        </p:nvSpPr>
        <p:spPr>
          <a:xfrm>
            <a:off x="76320" y="1676520"/>
            <a:ext cx="5333760" cy="1981080"/>
          </a:xfrm>
          <a:prstGeom prst="rect">
            <a:avLst/>
          </a:prstGeom>
          <a:solidFill>
            <a:srgbClr val="5e2d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This schedule contains three types of costs, namely direct materials, direct labor, and manufacturing overh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Rectangle 4"/>
          <p:cNvGrpSpPr/>
          <p:nvPr/>
        </p:nvGrpSpPr>
        <p:grpSpPr>
          <a:xfrm>
            <a:off x="-73080" y="3932280"/>
            <a:ext cx="5705640" cy="2571840"/>
            <a:chOff x="-73080" y="3932280"/>
            <a:chExt cx="5705640" cy="2571840"/>
          </a:xfrm>
        </p:grpSpPr>
        <p:pic>
          <p:nvPicPr>
            <p:cNvPr id="614" name="Rectangle 4" descr=""/>
            <p:cNvPicPr/>
            <p:nvPr/>
          </p:nvPicPr>
          <p:blipFill>
            <a:blip r:embed="rId1"/>
            <a:stretch/>
          </p:blipFill>
          <p:spPr>
            <a:xfrm>
              <a:off x="-73080" y="3932280"/>
              <a:ext cx="570564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6320" y="3962520"/>
              <a:ext cx="5257800" cy="23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t calculates the cost of raw material and direct labor used in production and the amount of manufacturing overhead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applied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o production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Rounded Rectangle 5"/>
          <p:cNvGrpSpPr/>
          <p:nvPr/>
        </p:nvGrpSpPr>
        <p:grpSpPr>
          <a:xfrm>
            <a:off x="5546880" y="2097000"/>
            <a:ext cx="3584520" cy="3554640"/>
            <a:chOff x="5546880" y="2097000"/>
            <a:chExt cx="3584520" cy="3554640"/>
          </a:xfrm>
        </p:grpSpPr>
        <p:pic>
          <p:nvPicPr>
            <p:cNvPr id="617" name="Rounded Rectangle 5" descr=""/>
            <p:cNvPicPr/>
            <p:nvPr/>
          </p:nvPicPr>
          <p:blipFill>
            <a:blip r:embed="rId2"/>
            <a:stretch/>
          </p:blipFill>
          <p:spPr>
            <a:xfrm>
              <a:off x="5546880" y="2097000"/>
              <a:ext cx="3584520" cy="355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5772240" y="2300400"/>
              <a:ext cx="309564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 calculates the manufacturing costs associated with goods that were finished during the period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9" name="Object 2"/>
          <p:cNvGraphicFramePr/>
          <p:nvPr/>
        </p:nvGraphicFramePr>
        <p:xfrm>
          <a:off x="46080" y="1600200"/>
          <a:ext cx="9051840" cy="420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1600200"/>
                    <a:ext cx="9051840" cy="420696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21" name="Rectangle 3"/>
          <p:cNvSpPr/>
          <p:nvPr/>
        </p:nvSpPr>
        <p:spPr>
          <a:xfrm>
            <a:off x="3411360" y="4707000"/>
            <a:ext cx="5445360" cy="1551960"/>
          </a:xfrm>
          <a:prstGeom prst="rect">
            <a:avLst/>
          </a:prstGeom>
          <a:solidFill>
            <a:srgbClr val="fbe0d1"/>
          </a:solidFill>
          <a:ln w="28440">
            <a:solidFill>
              <a:srgbClr val="da1f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items are removed from raw materials inventory and placed into the production process, they a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d direct materi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Product Cost Flow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23" name="Line 5"/>
          <p:cNvSpPr/>
          <p:nvPr/>
        </p:nvSpPr>
        <p:spPr>
          <a:xfrm>
            <a:off x="2486160" y="5276880"/>
            <a:ext cx="58392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6"/>
          <p:cNvSpPr/>
          <p:nvPr/>
        </p:nvSpPr>
        <p:spPr>
          <a:xfrm>
            <a:off x="3076560" y="2622600"/>
            <a:ext cx="507960" cy="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7"/>
          <p:cNvSpPr/>
          <p:nvPr/>
        </p:nvSpPr>
        <p:spPr>
          <a:xfrm flipV="1">
            <a:off x="3067200" y="2612880"/>
            <a:ext cx="0" cy="267984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Object 2"/>
          <p:cNvGraphicFramePr/>
          <p:nvPr/>
        </p:nvGraphicFramePr>
        <p:xfrm>
          <a:off x="46080" y="1600200"/>
          <a:ext cx="9051840" cy="420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1600200"/>
                    <a:ext cx="9051840" cy="420696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28" name="Rectangle 5"/>
          <p:cNvSpPr/>
          <p:nvPr/>
        </p:nvSpPr>
        <p:spPr>
          <a:xfrm>
            <a:off x="6172200" y="3948120"/>
            <a:ext cx="2549520" cy="2649240"/>
          </a:xfrm>
          <a:prstGeom prst="rect">
            <a:avLst/>
          </a:prstGeom>
          <a:solidFill>
            <a:srgbClr val="fbe0d1"/>
          </a:solidFill>
          <a:ln w="28440">
            <a:solidFill>
              <a:srgbClr val="da1f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sion costs are costs incurred to convert the direct material into a finished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Product Cost Flow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0" name="Right Brace 8"/>
          <p:cNvSpPr/>
          <p:nvPr/>
        </p:nvSpPr>
        <p:spPr>
          <a:xfrm>
            <a:off x="5867280" y="2798640"/>
            <a:ext cx="457200" cy="495360"/>
          </a:xfrm>
          <a:custGeom>
            <a:avLst/>
            <a:gdLst>
              <a:gd name="textAreaLeft" fmla="*/ 0 w 457200"/>
              <a:gd name="textAreaRight" fmla="*/ 164880 w 457200"/>
              <a:gd name="textAreaTop" fmla="*/ 39960 h 495360"/>
              <a:gd name="textAreaBottom" fmla="*/ 45540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97"/>
                  <a:pt x="10800" y="5593"/>
                </a:cubicBezTo>
                <a:lnTo>
                  <a:pt x="10800" y="5207"/>
                </a:lnTo>
                <a:cubicBezTo>
                  <a:pt x="10800" y="8004"/>
                  <a:pt x="16200" y="10800"/>
                  <a:pt x="21600" y="10800"/>
                </a:cubicBezTo>
                <a:cubicBezTo>
                  <a:pt x="16200" y="10800"/>
                  <a:pt x="10800" y="13597"/>
                  <a:pt x="10800" y="16393"/>
                </a:cubicBezTo>
                <a:lnTo>
                  <a:pt x="10800" y="16007"/>
                </a:lnTo>
                <a:cubicBezTo>
                  <a:pt x="10800" y="1880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1" name="Shape 10"/>
          <p:cNvCxnSpPr>
            <a:stCxn id="628" idx="0"/>
          </p:cNvCxnSpPr>
          <p:nvPr/>
        </p:nvCxnSpPr>
        <p:spPr>
          <a:xfrm flipV="1" rot="16200000">
            <a:off x="6444720" y="2945880"/>
            <a:ext cx="899280" cy="110556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p:transition spd="med"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2" name="Object 2"/>
          <p:cNvGraphicFramePr/>
          <p:nvPr/>
        </p:nvGraphicFramePr>
        <p:xfrm>
          <a:off x="46080" y="1600200"/>
          <a:ext cx="9051840" cy="420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1600200"/>
                    <a:ext cx="9051840" cy="420696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Product Cost Flow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5" name="Line 4"/>
          <p:cNvSpPr/>
          <p:nvPr/>
        </p:nvSpPr>
        <p:spPr>
          <a:xfrm flipV="1">
            <a:off x="5715000" y="3276720"/>
            <a:ext cx="736560" cy="3808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3200400" y="4495680"/>
            <a:ext cx="5673600" cy="1551960"/>
          </a:xfrm>
          <a:prstGeom prst="rect">
            <a:avLst/>
          </a:prstGeom>
          <a:solidFill>
            <a:srgbClr val="fbe0d1"/>
          </a:solidFill>
          <a:ln w="28440">
            <a:solidFill>
              <a:srgbClr val="da1f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manufacturing costs added to production during the period are added to the beginning balance of work in pro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7" name="Object 2"/>
          <p:cNvGraphicFramePr/>
          <p:nvPr/>
        </p:nvGraphicFramePr>
        <p:xfrm>
          <a:off x="46080" y="1600200"/>
          <a:ext cx="9051840" cy="420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1600200"/>
                    <a:ext cx="9051840" cy="420696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Product Cost Flow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0" name="Rectangle 4"/>
          <p:cNvSpPr/>
          <p:nvPr/>
        </p:nvSpPr>
        <p:spPr>
          <a:xfrm>
            <a:off x="87480" y="5164200"/>
            <a:ext cx="5768640" cy="1551960"/>
          </a:xfrm>
          <a:prstGeom prst="rect">
            <a:avLst/>
          </a:prstGeom>
          <a:solidFill>
            <a:srgbClr val="fbe0d1"/>
          </a:solidFill>
          <a:ln w="28440">
            <a:solidFill>
              <a:srgbClr val="da1f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s associated with the goods that are completed during the period are transferred to finished goods inven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5"/>
          <p:cNvSpPr/>
          <p:nvPr/>
        </p:nvSpPr>
        <p:spPr>
          <a:xfrm>
            <a:off x="5657760" y="6477120"/>
            <a:ext cx="2419560" cy="380880"/>
          </a:xfrm>
          <a:custGeom>
            <a:avLst/>
            <a:gdLst>
              <a:gd name="textAreaLeft" fmla="*/ 0 w 2419560"/>
              <a:gd name="textAreaRight" fmla="*/ 2419920 w 24195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092" h="668">
                <a:moveTo>
                  <a:pt x="1415" y="122"/>
                </a:moveTo>
                <a:lnTo>
                  <a:pt x="1415" y="258"/>
                </a:lnTo>
                <a:lnTo>
                  <a:pt x="530" y="258"/>
                </a:lnTo>
                <a:lnTo>
                  <a:pt x="476" y="256"/>
                </a:lnTo>
                <a:lnTo>
                  <a:pt x="434" y="253"/>
                </a:lnTo>
                <a:lnTo>
                  <a:pt x="394" y="245"/>
                </a:lnTo>
                <a:lnTo>
                  <a:pt x="351" y="237"/>
                </a:lnTo>
                <a:lnTo>
                  <a:pt x="311" y="224"/>
                </a:lnTo>
                <a:lnTo>
                  <a:pt x="272" y="210"/>
                </a:lnTo>
                <a:lnTo>
                  <a:pt x="233" y="194"/>
                </a:lnTo>
                <a:lnTo>
                  <a:pt x="206" y="178"/>
                </a:lnTo>
                <a:lnTo>
                  <a:pt x="180" y="160"/>
                </a:lnTo>
                <a:lnTo>
                  <a:pt x="157" y="143"/>
                </a:lnTo>
                <a:lnTo>
                  <a:pt x="133" y="124"/>
                </a:lnTo>
                <a:lnTo>
                  <a:pt x="113" y="105"/>
                </a:lnTo>
                <a:lnTo>
                  <a:pt x="94" y="86"/>
                </a:lnTo>
                <a:lnTo>
                  <a:pt x="77" y="65"/>
                </a:lnTo>
                <a:lnTo>
                  <a:pt x="60" y="45"/>
                </a:lnTo>
                <a:lnTo>
                  <a:pt x="49" y="26"/>
                </a:lnTo>
                <a:lnTo>
                  <a:pt x="34" y="0"/>
                </a:lnTo>
                <a:lnTo>
                  <a:pt x="19" y="23"/>
                </a:lnTo>
                <a:lnTo>
                  <a:pt x="9" y="43"/>
                </a:lnTo>
                <a:lnTo>
                  <a:pt x="1" y="67"/>
                </a:lnTo>
                <a:lnTo>
                  <a:pt x="0" y="92"/>
                </a:lnTo>
                <a:lnTo>
                  <a:pt x="0" y="116"/>
                </a:lnTo>
                <a:lnTo>
                  <a:pt x="0" y="146"/>
                </a:lnTo>
                <a:lnTo>
                  <a:pt x="4" y="177"/>
                </a:lnTo>
                <a:lnTo>
                  <a:pt x="9" y="207"/>
                </a:lnTo>
                <a:lnTo>
                  <a:pt x="19" y="236"/>
                </a:lnTo>
                <a:lnTo>
                  <a:pt x="35" y="267"/>
                </a:lnTo>
                <a:lnTo>
                  <a:pt x="53" y="296"/>
                </a:lnTo>
                <a:lnTo>
                  <a:pt x="77" y="323"/>
                </a:lnTo>
                <a:lnTo>
                  <a:pt x="108" y="355"/>
                </a:lnTo>
                <a:lnTo>
                  <a:pt x="136" y="379"/>
                </a:lnTo>
                <a:lnTo>
                  <a:pt x="172" y="408"/>
                </a:lnTo>
                <a:lnTo>
                  <a:pt x="218" y="437"/>
                </a:lnTo>
                <a:lnTo>
                  <a:pt x="258" y="459"/>
                </a:lnTo>
                <a:lnTo>
                  <a:pt x="308" y="483"/>
                </a:lnTo>
                <a:lnTo>
                  <a:pt x="359" y="500"/>
                </a:lnTo>
                <a:lnTo>
                  <a:pt x="410" y="514"/>
                </a:lnTo>
                <a:lnTo>
                  <a:pt x="481" y="522"/>
                </a:lnTo>
                <a:lnTo>
                  <a:pt x="540" y="525"/>
                </a:lnTo>
                <a:lnTo>
                  <a:pt x="598" y="525"/>
                </a:lnTo>
                <a:lnTo>
                  <a:pt x="1415" y="525"/>
                </a:lnTo>
                <a:lnTo>
                  <a:pt x="1415" y="667"/>
                </a:lnTo>
                <a:lnTo>
                  <a:pt x="2091" y="396"/>
                </a:lnTo>
                <a:lnTo>
                  <a:pt x="1415" y="122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2" name="Object 2"/>
          <p:cNvGraphicFramePr/>
          <p:nvPr/>
        </p:nvGraphicFramePr>
        <p:xfrm>
          <a:off x="990720" y="1600200"/>
          <a:ext cx="7200720" cy="43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200720" cy="439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Product Cost Flow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5" name="Line 4"/>
          <p:cNvSpPr/>
          <p:nvPr/>
        </p:nvSpPr>
        <p:spPr>
          <a:xfrm flipV="1">
            <a:off x="3733920" y="3657600"/>
            <a:ext cx="1218960" cy="1752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Rectangle 2"/>
          <p:cNvGrpSpPr/>
          <p:nvPr/>
        </p:nvGrpSpPr>
        <p:grpSpPr>
          <a:xfrm>
            <a:off x="6035760" y="1352520"/>
            <a:ext cx="2936880" cy="5164200"/>
            <a:chOff x="6035760" y="1352520"/>
            <a:chExt cx="2936880" cy="5164200"/>
          </a:xfrm>
        </p:grpSpPr>
        <p:pic>
          <p:nvPicPr>
            <p:cNvPr id="114" name="Rectangle 2" descr=""/>
            <p:cNvPicPr/>
            <p:nvPr/>
          </p:nvPicPr>
          <p:blipFill>
            <a:blip r:embed="rId1"/>
            <a:stretch/>
          </p:blipFill>
          <p:spPr>
            <a:xfrm>
              <a:off x="6035760" y="1352520"/>
              <a:ext cx="2936880" cy="516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107040" y="1447920"/>
              <a:ext cx="2590920" cy="47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anufacturing Overhead, including </a:t>
              </a:r>
              <a:r>
                <a:rPr b="0" i="1" lang="en-US" sz="2800" spc="-1" strike="noStrike">
                  <a:solidFill>
                    <a:srgbClr val="ffff00"/>
                  </a:solidFill>
                  <a:latin typeface="Arial"/>
                </a:rPr>
                <a:t>indirect materials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and </a:t>
              </a:r>
              <a:r>
                <a:rPr b="0" i="1" lang="en-US" sz="2800" spc="-1" strike="noStrike">
                  <a:solidFill>
                    <a:srgbClr val="ffff00"/>
                  </a:solidFill>
                  <a:latin typeface="Arial"/>
                </a:rPr>
                <a:t>indirect labor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, are allocated to all jobs rather than directly traced to each job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Job-Order Costing – An Exampl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80880" y="2351160"/>
            <a:ext cx="2584440" cy="454680"/>
          </a:xfrm>
          <a:prstGeom prst="rect">
            <a:avLst/>
          </a:prstGeom>
          <a:solidFill>
            <a:srgbClr val="fcfeb9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380880" y="3494160"/>
            <a:ext cx="2584440" cy="454680"/>
          </a:xfrm>
          <a:prstGeom prst="rect">
            <a:avLst/>
          </a:prstGeom>
          <a:solidFill>
            <a:srgbClr val="fcfeb9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 La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4114800" y="2732040"/>
            <a:ext cx="1839960" cy="454680"/>
          </a:xfrm>
          <a:prstGeom prst="rect">
            <a:avLst/>
          </a:prstGeom>
          <a:solidFill>
            <a:srgbClr val="c8fec8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b No.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4114800" y="3722760"/>
            <a:ext cx="1839960" cy="454680"/>
          </a:xfrm>
          <a:prstGeom prst="rect">
            <a:avLst/>
          </a:prstGeom>
          <a:solidFill>
            <a:srgbClr val="c8fec8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b No.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4114800" y="4713120"/>
            <a:ext cx="1839960" cy="454680"/>
          </a:xfrm>
          <a:prstGeom prst="rect">
            <a:avLst/>
          </a:prstGeom>
          <a:solidFill>
            <a:srgbClr val="c8fec8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b No.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AutoShape 9"/>
          <p:cNvCxnSpPr>
            <a:stCxn id="123" idx="3"/>
            <a:endCxn id="119" idx="1"/>
          </p:cNvCxnSpPr>
          <p:nvPr/>
        </p:nvCxnSpPr>
        <p:spPr>
          <a:xfrm flipV="1">
            <a:off x="2978280" y="2971080"/>
            <a:ext cx="1124640" cy="2088360"/>
          </a:xfrm>
          <a:prstGeom prst="straightConnector1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124" name="AutoShape 10"/>
          <p:cNvCxnSpPr>
            <a:stCxn id="123" idx="3"/>
            <a:endCxn id="120" idx="1"/>
          </p:cNvCxnSpPr>
          <p:nvPr/>
        </p:nvCxnSpPr>
        <p:spPr>
          <a:xfrm flipV="1">
            <a:off x="2978280" y="3961800"/>
            <a:ext cx="1124640" cy="1097640"/>
          </a:xfrm>
          <a:prstGeom prst="straightConnector1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125" name="AutoShape 11"/>
          <p:cNvCxnSpPr>
            <a:stCxn id="123" idx="3"/>
            <a:endCxn id="121" idx="1"/>
          </p:cNvCxnSpPr>
          <p:nvPr/>
        </p:nvCxnSpPr>
        <p:spPr>
          <a:xfrm flipV="1">
            <a:off x="2978280" y="4952520"/>
            <a:ext cx="1124640" cy="107280"/>
          </a:xfrm>
          <a:prstGeom prst="straightConnector1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123" name="Rectangle 12"/>
          <p:cNvSpPr/>
          <p:nvPr/>
        </p:nvSpPr>
        <p:spPr>
          <a:xfrm>
            <a:off x="380880" y="4637160"/>
            <a:ext cx="2584440" cy="820440"/>
          </a:xfrm>
          <a:prstGeom prst="rect">
            <a:avLst/>
          </a:prstGeom>
          <a:solidFill>
            <a:srgbClr val="fcfeb9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factur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304920" y="1676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304920" y="41450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rec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28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98600" y="1600200"/>
            <a:ext cx="8153280" cy="4686480"/>
          </a:xfrm>
          <a:prstGeom prst="rect">
            <a:avLst/>
          </a:prstGeom>
          <a:solidFill>
            <a:srgbClr val="edecd2"/>
          </a:solidFill>
          <a:ln w="28440">
            <a:solidFill>
              <a:srgbClr val="3f1e25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ginning raw materials inventory was $32,000.  During the month, $276,000 of raw material was purchased.  A count at the end of the month revealed that $28,000 of raw material was still present.  What is the cost of direct material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8200" indent="-514440"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276,000</a:t>
            </a:r>
            <a:endParaRPr b="0" lang="en-US" sz="2800" spc="-1" strike="noStrike">
              <a:solidFill>
                <a:srgbClr val="2da2bf"/>
              </a:solidFill>
              <a:latin typeface="Arial"/>
            </a:endParaRPr>
          </a:p>
          <a:p>
            <a:pPr lvl="2" marL="1438200" indent="-514440"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272,000</a:t>
            </a:r>
            <a:endParaRPr b="0" lang="en-US" sz="2800" spc="-1" strike="noStrike">
              <a:solidFill>
                <a:srgbClr val="2da2bf"/>
              </a:solidFill>
              <a:latin typeface="Arial"/>
            </a:endParaRPr>
          </a:p>
          <a:p>
            <a:pPr lvl="2" marL="1438200" indent="-514440"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280,000</a:t>
            </a:r>
            <a:endParaRPr b="0" lang="en-US" sz="2800" spc="-1" strike="noStrike">
              <a:solidFill>
                <a:srgbClr val="2da2bf"/>
              </a:solidFill>
              <a:latin typeface="Arial"/>
            </a:endParaRPr>
          </a:p>
          <a:p>
            <a:pPr lvl="2" marL="1438200" indent="-514440"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    2,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2da2b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3"/>
          <p:cNvSpPr/>
          <p:nvPr/>
        </p:nvSpPr>
        <p:spPr>
          <a:xfrm>
            <a:off x="498600" y="1523880"/>
            <a:ext cx="8153280" cy="4686480"/>
          </a:xfrm>
          <a:prstGeom prst="rect">
            <a:avLst/>
          </a:prstGeom>
          <a:solidFill>
            <a:srgbClr val="edecd2"/>
          </a:solidFill>
          <a:ln w="2844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raw materials inventory was $32,000.  During the month, $276,000 of raw material was purchased.  A count at the end of the month revealed that $28,000 of raw material was still present.  What is the cost of direct material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8200" indent="-514440">
              <a:lnSpc>
                <a:spcPct val="100000"/>
              </a:lnSpc>
              <a:spcBef>
                <a:spcPts val="300"/>
              </a:spcBef>
              <a:buClr>
                <a:srgbClr val="2b4a76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4a76"/>
                </a:solidFill>
                <a:latin typeface="Arial"/>
                <a:ea typeface="MS PGothic"/>
              </a:rPr>
              <a:t>$276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8200" indent="-514440">
              <a:lnSpc>
                <a:spcPct val="100000"/>
              </a:lnSpc>
              <a:spcBef>
                <a:spcPts val="300"/>
              </a:spcBef>
              <a:buClr>
                <a:srgbClr val="2b4a76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4a76"/>
                </a:solidFill>
                <a:latin typeface="Arial"/>
                <a:ea typeface="MS PGothic"/>
              </a:rPr>
              <a:t>$272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8200" indent="-514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$28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8200" indent="-514440">
              <a:lnSpc>
                <a:spcPct val="100000"/>
              </a:lnSpc>
              <a:spcBef>
                <a:spcPts val="300"/>
              </a:spcBef>
              <a:buClr>
                <a:srgbClr val="2b4a76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4a76"/>
                </a:solidFill>
                <a:latin typeface="Arial"/>
                <a:ea typeface="MS PGothic"/>
              </a:rPr>
              <a:t>$    2,000</a:t>
            </a:r>
            <a:r>
              <a:rPr b="0" lang="en-US" sz="2400" spc="-1" strike="noStrike">
                <a:solidFill>
                  <a:srgbClr val="2b4a76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28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50" name="Oval 4"/>
          <p:cNvSpPr/>
          <p:nvPr/>
        </p:nvSpPr>
        <p:spPr>
          <a:xfrm>
            <a:off x="1371600" y="5105520"/>
            <a:ext cx="523800" cy="6094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Object 2"/>
          <p:cNvGraphicFramePr/>
          <p:nvPr/>
        </p:nvGraphicFramePr>
        <p:xfrm>
          <a:off x="4114800" y="3746520"/>
          <a:ext cx="4724280" cy="295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746520"/>
                    <a:ext cx="4724280" cy="2959200"/>
                  </a:xfrm>
                  <a:prstGeom prst="rect">
                    <a:avLst/>
                  </a:prstGeom>
                  <a:ln w="38160">
                    <a:solidFill>
                      <a:srgbClr val="663300"/>
                    </a:solidFill>
                    <a:miter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 spd="med">
    <p:strips dir="l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28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65120" y="1676520"/>
            <a:ext cx="8229600" cy="4419360"/>
          </a:xfrm>
          <a:prstGeom prst="rect">
            <a:avLst/>
          </a:prstGeom>
          <a:solidFill>
            <a:srgbClr val="edecd2"/>
          </a:solidFill>
          <a:ln w="28440">
            <a:solidFill>
              <a:srgbClr val="3f1e25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rect materials used in production totaled $280,000.  Direct labor was $375,000, and $180,000 of manufacturing overhead was added to production for the month. What were total manufacturing costs incurred for the mon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8200" indent="-514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555,000</a:t>
            </a:r>
            <a:endParaRPr b="0" lang="en-US" sz="2800" spc="-1" strike="noStrike">
              <a:solidFill>
                <a:srgbClr val="2da2bf"/>
              </a:solidFill>
              <a:latin typeface="Arial"/>
            </a:endParaRPr>
          </a:p>
          <a:p>
            <a:pPr lvl="2" marL="1438200" indent="-514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835,000</a:t>
            </a:r>
            <a:endParaRPr b="0" lang="en-US" sz="2800" spc="-1" strike="noStrike">
              <a:solidFill>
                <a:srgbClr val="2da2bf"/>
              </a:solidFill>
              <a:latin typeface="Arial"/>
            </a:endParaRPr>
          </a:p>
          <a:p>
            <a:pPr lvl="2" marL="1438200" indent="-514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655,000</a:t>
            </a:r>
            <a:endParaRPr b="0" lang="en-US" sz="2800" spc="-1" strike="noStrike">
              <a:solidFill>
                <a:srgbClr val="2da2bf"/>
              </a:solidFill>
              <a:latin typeface="Arial"/>
            </a:endParaRPr>
          </a:p>
          <a:p>
            <a:pPr lvl="2" marL="1438200" indent="-514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not be determined.</a:t>
            </a:r>
            <a:endParaRPr b="0" lang="en-US" sz="2800" spc="-1" strike="noStrike">
              <a:solidFill>
                <a:srgbClr val="2da2bf"/>
              </a:solidFill>
              <a:latin typeface="Arial"/>
            </a:endParaRPr>
          </a:p>
          <a:p>
            <a:pPr lvl="2" marL="1438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a2b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3"/>
          <p:cNvSpPr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solidFill>
            <a:srgbClr val="edecd2"/>
          </a:solidFill>
          <a:ln w="2844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materials used in production totaled $280,000.  Direct labor was $375,000, and $180,000 of manufacturing overhead was added to production for the month. What were total manufacturing costs incurred for the mon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8200" indent="-514440">
              <a:lnSpc>
                <a:spcPct val="90000"/>
              </a:lnSpc>
              <a:spcBef>
                <a:spcPts val="300"/>
              </a:spcBef>
              <a:buClr>
                <a:srgbClr val="f2a4a7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a4a7"/>
                </a:solidFill>
                <a:latin typeface="Arial"/>
                <a:ea typeface="MS PGothic"/>
              </a:rPr>
              <a:t>$55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8200" indent="-514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$83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8200" indent="-514440">
              <a:lnSpc>
                <a:spcPct val="90000"/>
              </a:lnSpc>
              <a:spcBef>
                <a:spcPts val="300"/>
              </a:spcBef>
              <a:buClr>
                <a:srgbClr val="f2a4a7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a4a7"/>
                </a:solidFill>
                <a:latin typeface="Arial"/>
                <a:ea typeface="MS PGothic"/>
              </a:rPr>
              <a:t>$65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8200" indent="-514440">
              <a:lnSpc>
                <a:spcPct val="90000"/>
              </a:lnSpc>
              <a:spcBef>
                <a:spcPts val="300"/>
              </a:spcBef>
              <a:buClr>
                <a:srgbClr val="f2a4a7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a4a7"/>
                </a:solidFill>
                <a:latin typeface="Arial"/>
                <a:ea typeface="MS PGothic"/>
              </a:rPr>
              <a:t>Cannot be determ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8200" indent="-51444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Object 2"/>
          <p:cNvGraphicFramePr/>
          <p:nvPr/>
        </p:nvGraphicFramePr>
        <p:xfrm>
          <a:off x="3956040" y="4741920"/>
          <a:ext cx="5035680" cy="196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6040" y="4741920"/>
                    <a:ext cx="5035680" cy="1963800"/>
                  </a:xfrm>
                  <a:prstGeom prst="rect">
                    <a:avLst/>
                  </a:prstGeom>
                  <a:ln w="38160">
                    <a:solidFill>
                      <a:srgbClr val="663300"/>
                    </a:solidFill>
                    <a:miter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28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59" name="Oval 5"/>
          <p:cNvSpPr/>
          <p:nvPr/>
        </p:nvSpPr>
        <p:spPr>
          <a:xfrm>
            <a:off x="1295280" y="4089240"/>
            <a:ext cx="609840" cy="5335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28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50880" y="1599840"/>
            <a:ext cx="7848720" cy="4876920"/>
          </a:xfrm>
          <a:prstGeom prst="rect">
            <a:avLst/>
          </a:prstGeom>
          <a:solidFill>
            <a:srgbClr val="edecd2"/>
          </a:solidFill>
          <a:ln w="28440">
            <a:solidFill>
              <a:srgbClr val="3f1e25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ginning work in process was $125,000.  Manufacturing costs added to production for the month were $835,000.  There were $200,000 of partially finished goods remaining in work in process inventory at the end of the month.  What was the cost of goods manufactured during the mon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8200" indent="-514440">
              <a:lnSpc>
                <a:spcPct val="9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1,160,000</a:t>
            </a:r>
            <a:endParaRPr b="0" lang="en-US" sz="2800" spc="-1" strike="noStrike">
              <a:solidFill>
                <a:srgbClr val="2da2bf"/>
              </a:solidFill>
              <a:latin typeface="Arial"/>
            </a:endParaRPr>
          </a:p>
          <a:p>
            <a:pPr lvl="2" marL="1438200" indent="-514440">
              <a:lnSpc>
                <a:spcPct val="9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   910,000</a:t>
            </a:r>
            <a:endParaRPr b="0" lang="en-US" sz="2800" spc="-1" strike="noStrike">
              <a:solidFill>
                <a:srgbClr val="2da2bf"/>
              </a:solidFill>
              <a:latin typeface="Arial"/>
            </a:endParaRPr>
          </a:p>
          <a:p>
            <a:pPr lvl="2" marL="1438200" indent="-514440">
              <a:lnSpc>
                <a:spcPct val="9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   760,000</a:t>
            </a:r>
            <a:endParaRPr b="0" lang="en-US" sz="2800" spc="-1" strike="noStrike">
              <a:solidFill>
                <a:srgbClr val="2da2bf"/>
              </a:solidFill>
              <a:latin typeface="Arial"/>
            </a:endParaRPr>
          </a:p>
          <a:p>
            <a:pPr lvl="2" marL="1438200" indent="-514440">
              <a:lnSpc>
                <a:spcPct val="9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not be determined. </a:t>
            </a:r>
            <a:endParaRPr b="0" lang="en-US" sz="2800" spc="-1" strike="noStrike">
              <a:solidFill>
                <a:srgbClr val="2da2bf"/>
              </a:solidFill>
              <a:latin typeface="Arial"/>
            </a:endParaRPr>
          </a:p>
          <a:p>
            <a:pPr lvl="2" marL="1438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a2b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3"/>
          <p:cNvSpPr/>
          <p:nvPr/>
        </p:nvSpPr>
        <p:spPr>
          <a:xfrm>
            <a:off x="650880" y="1523880"/>
            <a:ext cx="7848720" cy="4876920"/>
          </a:xfrm>
          <a:prstGeom prst="rect">
            <a:avLst/>
          </a:prstGeom>
          <a:solidFill>
            <a:srgbClr val="edecd2"/>
          </a:solidFill>
          <a:ln w="2844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work in process was $125,000.  Manufacturing costs added to production for the month were $835,000.  There were $200,000 of partially finished goods remaining in work in process inventory at the end of the month.  What was the cost of goods manufactured during the mon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8200" indent="-514440">
              <a:lnSpc>
                <a:spcPct val="90000"/>
              </a:lnSpc>
              <a:buClr>
                <a:srgbClr val="f2a4a7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a4a7"/>
                </a:solidFill>
                <a:latin typeface="Arial"/>
                <a:ea typeface="MS PGothic"/>
              </a:rPr>
              <a:t>$1,16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8200" indent="-514440">
              <a:lnSpc>
                <a:spcPct val="90000"/>
              </a:lnSpc>
              <a:buClr>
                <a:srgbClr val="f2a4a7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a4a7"/>
                </a:solidFill>
                <a:latin typeface="Arial"/>
                <a:ea typeface="MS PGothic"/>
              </a:rPr>
              <a:t>$   91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8200" indent="-514440">
              <a:lnSpc>
                <a:spcPct val="9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$   76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8200" indent="-514440">
              <a:lnSpc>
                <a:spcPct val="90000"/>
              </a:lnSpc>
              <a:buClr>
                <a:srgbClr val="f2a4a7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a4a7"/>
                </a:solidFill>
                <a:latin typeface="Arial"/>
                <a:ea typeface="MS PGothic"/>
              </a:rPr>
              <a:t>Cannot be determin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8200" indent="-51444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28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64" name="Oval 1028"/>
          <p:cNvSpPr/>
          <p:nvPr/>
        </p:nvSpPr>
        <p:spPr>
          <a:xfrm>
            <a:off x="1511280" y="5003640"/>
            <a:ext cx="558720" cy="5590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5" name="Object 2"/>
          <p:cNvGraphicFramePr/>
          <p:nvPr/>
        </p:nvGraphicFramePr>
        <p:xfrm>
          <a:off x="4689360" y="3962520"/>
          <a:ext cx="4114800" cy="27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9360" y="3962520"/>
                    <a:ext cx="4114800" cy="2743200"/>
                  </a:xfrm>
                  <a:prstGeom prst="rect">
                    <a:avLst/>
                  </a:prstGeom>
                  <a:ln w="38160">
                    <a:solidFill>
                      <a:srgbClr val="6633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wipe dir="l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28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98600" y="1600200"/>
            <a:ext cx="8153280" cy="4686480"/>
          </a:xfrm>
          <a:prstGeom prst="rect">
            <a:avLst/>
          </a:prstGeom>
          <a:solidFill>
            <a:srgbClr val="edecd2"/>
          </a:solidFill>
          <a:ln w="12600">
            <a:solidFill>
              <a:srgbClr val="0000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ginning finished goods inventory was $130,000. The cost of goods manufactured for the month was $760,000. And the ending finished goods inventory was $150,000. What was the cost of goods sold for the mon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514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  20,000</a:t>
            </a:r>
            <a:endParaRPr b="0" lang="en-US" sz="2800" spc="-1" strike="noStrike">
              <a:solidFill>
                <a:srgbClr val="da1f28"/>
              </a:solidFill>
              <a:latin typeface="Arial"/>
            </a:endParaRPr>
          </a:p>
          <a:p>
            <a:pPr lvl="1" marL="923760" indent="-514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740,000</a:t>
            </a:r>
            <a:endParaRPr b="0" lang="en-US" sz="2800" spc="-1" strike="noStrike">
              <a:solidFill>
                <a:srgbClr val="da1f28"/>
              </a:solidFill>
              <a:latin typeface="Arial"/>
            </a:endParaRPr>
          </a:p>
          <a:p>
            <a:pPr lvl="1" marL="923760" indent="-514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780,000</a:t>
            </a:r>
            <a:endParaRPr b="0" lang="en-US" sz="2800" spc="-1" strike="noStrike">
              <a:solidFill>
                <a:srgbClr val="da1f28"/>
              </a:solidFill>
              <a:latin typeface="Arial"/>
            </a:endParaRPr>
          </a:p>
          <a:p>
            <a:pPr lvl="1" marL="923760" indent="-514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760,000</a:t>
            </a:r>
            <a:endParaRPr b="0" lang="en-US" sz="2800" spc="-1" strike="noStrike">
              <a:solidFill>
                <a:srgbClr val="da1f28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3"/>
          <p:cNvSpPr/>
          <p:nvPr/>
        </p:nvSpPr>
        <p:spPr>
          <a:xfrm>
            <a:off x="498600" y="1600200"/>
            <a:ext cx="8153280" cy="4686480"/>
          </a:xfrm>
          <a:prstGeom prst="rect">
            <a:avLst/>
          </a:prstGeom>
          <a:solidFill>
            <a:srgbClr val="edecd2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finished goods inventory was $130,000. The cost of goods manufactured for the month was $760,000. And the ending finished goods inventory was $150,000. What was the cost of goods sold for the mon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514080">
              <a:lnSpc>
                <a:spcPct val="90000"/>
              </a:lnSpc>
              <a:spcBef>
                <a:spcPts val="300"/>
              </a:spcBef>
              <a:buClr>
                <a:srgbClr val="ec767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767c"/>
                </a:solidFill>
                <a:latin typeface="Arial"/>
                <a:ea typeface="MS PGothic"/>
              </a:rPr>
              <a:t>$  2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514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$74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514080">
              <a:lnSpc>
                <a:spcPct val="90000"/>
              </a:lnSpc>
              <a:spcBef>
                <a:spcPts val="300"/>
              </a:spcBef>
              <a:buClr>
                <a:srgbClr val="ec767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767c"/>
                </a:solidFill>
                <a:latin typeface="Arial"/>
                <a:ea typeface="MS PGothic"/>
              </a:rPr>
              <a:t>$78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514080">
              <a:lnSpc>
                <a:spcPct val="90000"/>
              </a:lnSpc>
              <a:spcBef>
                <a:spcPts val="300"/>
              </a:spcBef>
              <a:buClr>
                <a:srgbClr val="ec767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767c"/>
                </a:solidFill>
                <a:latin typeface="Arial"/>
                <a:ea typeface="MS PGothic"/>
              </a:rPr>
              <a:t>$76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28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1" name="Oval 4"/>
          <p:cNvSpPr/>
          <p:nvPr/>
        </p:nvSpPr>
        <p:spPr>
          <a:xfrm>
            <a:off x="838080" y="3962520"/>
            <a:ext cx="482760" cy="4824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5"/>
          <p:cNvSpPr/>
          <p:nvPr/>
        </p:nvSpPr>
        <p:spPr>
          <a:xfrm>
            <a:off x="3581280" y="3581280"/>
            <a:ext cx="5334120" cy="1067040"/>
          </a:xfrm>
          <a:prstGeom prst="wedgeRectCallout">
            <a:avLst>
              <a:gd name="adj1" fmla="val -57143"/>
              <a:gd name="adj2" fmla="val 17263"/>
            </a:avLst>
          </a:prstGeom>
          <a:solidFill>
            <a:srgbClr val="1faecd"/>
          </a:solidFill>
          <a:ln w="28440">
            <a:solidFill>
              <a:srgbClr val="3f1e25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30,000 + $760,000 = $89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90,000 - $150,000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$74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7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4" name="Text Box 13"/>
          <p:cNvSpPr/>
          <p:nvPr/>
        </p:nvSpPr>
        <p:spPr>
          <a:xfrm>
            <a:off x="1905120" y="1752480"/>
            <a:ext cx="5333760" cy="423540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Compute underapplied or overapplied overhead cost and prepare the journal entry to close the balance in Manufacturing Overhead to the appropriate account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Underapplied and Overapplied Overhead―A Closer Look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6" name="Text Box 3"/>
          <p:cNvSpPr/>
          <p:nvPr/>
        </p:nvSpPr>
        <p:spPr>
          <a:xfrm>
            <a:off x="533520" y="1698480"/>
            <a:ext cx="8076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ifference between the overhead cost applied to Work in Process and the actual overhead costs of a period is referred to as either underapplied or overapplied overhe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457200" y="3530520"/>
            <a:ext cx="4038480" cy="3020040"/>
          </a:xfrm>
          <a:prstGeom prst="rect">
            <a:avLst/>
          </a:prstGeom>
          <a:solidFill>
            <a:srgbClr val="464646"/>
          </a:solidFill>
          <a:ln w="9360">
            <a:solidFill>
              <a:srgbClr val="def5fa"/>
            </a:solidFill>
            <a:miter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Underapplied overhead</a:t>
            </a:r>
            <a:r>
              <a:rPr b="0" lang="en-US" sz="2400" spc="-1" strike="noStrike">
                <a:solidFill>
                  <a:srgbClr val="ffffef"/>
                </a:solidFill>
                <a:latin typeface="Arial"/>
              </a:rPr>
              <a:t> exists when the amount of overhead applied to jobs during the period using the predetermined overhead rate i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less than</a:t>
            </a:r>
            <a:r>
              <a:rPr b="0" lang="en-US" sz="2400" spc="-1" strike="noStrike">
                <a:solidFill>
                  <a:srgbClr val="ffffef"/>
                </a:solidFill>
                <a:latin typeface="Arial"/>
              </a:rPr>
              <a:t> the total amount of overhead actually incurred during the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4648320" y="3530520"/>
            <a:ext cx="4038480" cy="3020040"/>
          </a:xfrm>
          <a:prstGeom prst="rect">
            <a:avLst/>
          </a:prstGeom>
          <a:solidFill>
            <a:srgbClr val="663300"/>
          </a:solidFill>
          <a:ln w="9360">
            <a:solidFill>
              <a:srgbClr val="def5fa"/>
            </a:solidFill>
            <a:miter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verapplied overhea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xists when the amount of overhead applied to jobs during the period using the predetermined overhead rate i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reater tha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the total amount of overhead actually incurred during the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685800" y="1447920"/>
            <a:ext cx="7758000" cy="4836960"/>
            <a:chOff x="685800" y="1447920"/>
            <a:chExt cx="7758000" cy="4836960"/>
          </a:xfrm>
        </p:grpSpPr>
        <p:grpSp>
          <p:nvGrpSpPr>
            <p:cNvPr id="129" name="Group 3"/>
            <p:cNvGrpSpPr/>
            <p:nvPr/>
          </p:nvGrpSpPr>
          <p:grpSpPr>
            <a:xfrm>
              <a:off x="685800" y="1447920"/>
              <a:ext cx="7758000" cy="4836960"/>
              <a:chOff x="685800" y="1447920"/>
              <a:chExt cx="7758000" cy="4836960"/>
            </a:xfrm>
          </p:grpSpPr>
          <p:sp>
            <p:nvSpPr>
              <p:cNvPr id="130" name="Rectangle 4"/>
              <p:cNvSpPr/>
              <p:nvPr/>
            </p:nvSpPr>
            <p:spPr>
              <a:xfrm>
                <a:off x="685800" y="1447920"/>
                <a:ext cx="7758000" cy="48369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5"/>
              <p:cNvSpPr/>
              <p:nvPr/>
            </p:nvSpPr>
            <p:spPr>
              <a:xfrm>
                <a:off x="3409560" y="1587600"/>
                <a:ext cx="2241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earCo Job Cost Shee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6"/>
              <p:cNvSpPr/>
              <p:nvPr/>
            </p:nvSpPr>
            <p:spPr>
              <a:xfrm>
                <a:off x="1062720" y="1973160"/>
                <a:ext cx="201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Job Number   A - 14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7"/>
              <p:cNvSpPr/>
              <p:nvPr/>
            </p:nvSpPr>
            <p:spPr>
              <a:xfrm>
                <a:off x="4610880" y="1973160"/>
                <a:ext cx="202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ate Initiated   3-4-1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8"/>
              <p:cNvSpPr/>
              <p:nvPr/>
            </p:nvSpPr>
            <p:spPr>
              <a:xfrm>
                <a:off x="4631760" y="2235240"/>
                <a:ext cx="1541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ate Complete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9"/>
              <p:cNvSpPr/>
              <p:nvPr/>
            </p:nvSpPr>
            <p:spPr>
              <a:xfrm>
                <a:off x="1071360" y="2498760"/>
                <a:ext cx="1553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epartment   B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10"/>
              <p:cNvSpPr/>
              <p:nvPr/>
            </p:nvSpPr>
            <p:spPr>
              <a:xfrm>
                <a:off x="4629960" y="2498760"/>
                <a:ext cx="1608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Units Complete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11"/>
              <p:cNvSpPr/>
              <p:nvPr/>
            </p:nvSpPr>
            <p:spPr>
              <a:xfrm>
                <a:off x="1064520" y="2760840"/>
                <a:ext cx="253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Item   Wooden cargo cr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12"/>
              <p:cNvSpPr/>
              <p:nvPr/>
            </p:nvSpPr>
            <p:spPr>
              <a:xfrm>
                <a:off x="1180080" y="3147840"/>
                <a:ext cx="1510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irect Material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3"/>
              <p:cNvSpPr/>
              <p:nvPr/>
            </p:nvSpPr>
            <p:spPr>
              <a:xfrm>
                <a:off x="3555360" y="3147840"/>
                <a:ext cx="1194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irect Labo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4"/>
              <p:cNvSpPr/>
              <p:nvPr/>
            </p:nvSpPr>
            <p:spPr>
              <a:xfrm>
                <a:off x="5572440" y="3147840"/>
                <a:ext cx="2385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anufacturing Overhea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15"/>
              <p:cNvSpPr/>
              <p:nvPr/>
            </p:nvSpPr>
            <p:spPr>
              <a:xfrm>
                <a:off x="1049760" y="3409920"/>
                <a:ext cx="822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eq. No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16"/>
              <p:cNvSpPr/>
              <p:nvPr/>
            </p:nvSpPr>
            <p:spPr>
              <a:xfrm>
                <a:off x="2053440" y="3409920"/>
                <a:ext cx="764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mou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17"/>
              <p:cNvSpPr/>
              <p:nvPr/>
            </p:nvSpPr>
            <p:spPr>
              <a:xfrm>
                <a:off x="3020400" y="3409920"/>
                <a:ext cx="58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icke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18"/>
              <p:cNvSpPr/>
              <p:nvPr/>
            </p:nvSpPr>
            <p:spPr>
              <a:xfrm>
                <a:off x="3891960" y="3409920"/>
                <a:ext cx="58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our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19"/>
              <p:cNvSpPr/>
              <p:nvPr/>
            </p:nvSpPr>
            <p:spPr>
              <a:xfrm>
                <a:off x="4649040" y="3409920"/>
                <a:ext cx="764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mou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20"/>
              <p:cNvSpPr/>
              <p:nvPr/>
            </p:nvSpPr>
            <p:spPr>
              <a:xfrm>
                <a:off x="5633280" y="3409920"/>
                <a:ext cx="58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our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21"/>
              <p:cNvSpPr/>
              <p:nvPr/>
            </p:nvSpPr>
            <p:spPr>
              <a:xfrm>
                <a:off x="6568560" y="3409920"/>
                <a:ext cx="439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22"/>
              <p:cNvSpPr/>
              <p:nvPr/>
            </p:nvSpPr>
            <p:spPr>
              <a:xfrm>
                <a:off x="7325280" y="3409920"/>
                <a:ext cx="764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mou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23"/>
              <p:cNvSpPr/>
              <p:nvPr/>
            </p:nvSpPr>
            <p:spPr>
              <a:xfrm>
                <a:off x="2526840" y="4584600"/>
                <a:ext cx="1430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st Summar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24"/>
              <p:cNvSpPr/>
              <p:nvPr/>
            </p:nvSpPr>
            <p:spPr>
              <a:xfrm>
                <a:off x="6140160" y="4584600"/>
                <a:ext cx="1361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Units Shippe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25"/>
              <p:cNvSpPr/>
              <p:nvPr/>
            </p:nvSpPr>
            <p:spPr>
              <a:xfrm>
                <a:off x="1068840" y="4846680"/>
                <a:ext cx="1510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irect Material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26"/>
              <p:cNvSpPr/>
              <p:nvPr/>
            </p:nvSpPr>
            <p:spPr>
              <a:xfrm>
                <a:off x="5682600" y="4846680"/>
                <a:ext cx="439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27"/>
              <p:cNvSpPr/>
              <p:nvPr/>
            </p:nvSpPr>
            <p:spPr>
              <a:xfrm>
                <a:off x="6399000" y="4846680"/>
                <a:ext cx="765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umb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28"/>
              <p:cNvSpPr/>
              <p:nvPr/>
            </p:nvSpPr>
            <p:spPr>
              <a:xfrm>
                <a:off x="7294680" y="4846680"/>
                <a:ext cx="77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alan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29"/>
              <p:cNvSpPr/>
              <p:nvPr/>
            </p:nvSpPr>
            <p:spPr>
              <a:xfrm>
                <a:off x="1069200" y="5110200"/>
                <a:ext cx="1194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irect Labo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30"/>
              <p:cNvSpPr/>
              <p:nvPr/>
            </p:nvSpPr>
            <p:spPr>
              <a:xfrm>
                <a:off x="1059120" y="5372280"/>
                <a:ext cx="2385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anufacturing Overhea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31"/>
              <p:cNvSpPr/>
              <p:nvPr/>
            </p:nvSpPr>
            <p:spPr>
              <a:xfrm>
                <a:off x="1076400" y="5635800"/>
                <a:ext cx="989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otal Cos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32"/>
              <p:cNvSpPr/>
              <p:nvPr/>
            </p:nvSpPr>
            <p:spPr>
              <a:xfrm>
                <a:off x="1036080" y="5897520"/>
                <a:ext cx="172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Unit Product Cos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33"/>
              <p:cNvSpPr/>
              <p:nvPr/>
            </p:nvSpPr>
            <p:spPr>
              <a:xfrm>
                <a:off x="1001520" y="3394080"/>
                <a:ext cx="1820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34"/>
              <p:cNvSpPr/>
              <p:nvPr/>
            </p:nvSpPr>
            <p:spPr>
              <a:xfrm>
                <a:off x="1001520" y="3394080"/>
                <a:ext cx="18205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35"/>
              <p:cNvSpPr/>
              <p:nvPr/>
            </p:nvSpPr>
            <p:spPr>
              <a:xfrm>
                <a:off x="2869920" y="3394080"/>
                <a:ext cx="2549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36"/>
              <p:cNvSpPr/>
              <p:nvPr/>
            </p:nvSpPr>
            <p:spPr>
              <a:xfrm>
                <a:off x="2869920" y="3394080"/>
                <a:ext cx="25491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37"/>
              <p:cNvSpPr/>
              <p:nvPr/>
            </p:nvSpPr>
            <p:spPr>
              <a:xfrm>
                <a:off x="1001520" y="3657600"/>
                <a:ext cx="1820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38"/>
              <p:cNvSpPr/>
              <p:nvPr/>
            </p:nvSpPr>
            <p:spPr>
              <a:xfrm>
                <a:off x="1001520" y="3657600"/>
                <a:ext cx="18205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39"/>
              <p:cNvSpPr/>
              <p:nvPr/>
            </p:nvSpPr>
            <p:spPr>
              <a:xfrm>
                <a:off x="2869920" y="3657600"/>
                <a:ext cx="2549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40"/>
              <p:cNvSpPr/>
              <p:nvPr/>
            </p:nvSpPr>
            <p:spPr>
              <a:xfrm>
                <a:off x="2869920" y="3657600"/>
                <a:ext cx="25491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41"/>
              <p:cNvSpPr/>
              <p:nvPr/>
            </p:nvSpPr>
            <p:spPr>
              <a:xfrm>
                <a:off x="985680" y="3132000"/>
                <a:ext cx="1080" cy="132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42"/>
              <p:cNvSpPr/>
              <p:nvPr/>
            </p:nvSpPr>
            <p:spPr>
              <a:xfrm>
                <a:off x="985680" y="3132000"/>
                <a:ext cx="15480" cy="1328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43"/>
              <p:cNvSpPr/>
              <p:nvPr/>
            </p:nvSpPr>
            <p:spPr>
              <a:xfrm>
                <a:off x="5419440" y="3147840"/>
                <a:ext cx="1440" cy="1297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44"/>
              <p:cNvSpPr/>
              <p:nvPr/>
            </p:nvSpPr>
            <p:spPr>
              <a:xfrm>
                <a:off x="5419440" y="3147840"/>
                <a:ext cx="15480" cy="1297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45"/>
              <p:cNvSpPr/>
              <p:nvPr/>
            </p:nvSpPr>
            <p:spPr>
              <a:xfrm>
                <a:off x="5451120" y="3147840"/>
                <a:ext cx="1440" cy="1297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46"/>
              <p:cNvSpPr/>
              <p:nvPr/>
            </p:nvSpPr>
            <p:spPr>
              <a:xfrm>
                <a:off x="5451120" y="3147840"/>
                <a:ext cx="15480" cy="1297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47"/>
              <p:cNvSpPr/>
              <p:nvPr/>
            </p:nvSpPr>
            <p:spPr>
              <a:xfrm>
                <a:off x="8127720" y="3147840"/>
                <a:ext cx="1440" cy="1312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48"/>
              <p:cNvSpPr/>
              <p:nvPr/>
            </p:nvSpPr>
            <p:spPr>
              <a:xfrm>
                <a:off x="8127720" y="3147840"/>
                <a:ext cx="15480" cy="1312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49"/>
              <p:cNvSpPr/>
              <p:nvPr/>
            </p:nvSpPr>
            <p:spPr>
              <a:xfrm>
                <a:off x="1001520" y="4832280"/>
                <a:ext cx="44175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50"/>
              <p:cNvSpPr/>
              <p:nvPr/>
            </p:nvSpPr>
            <p:spPr>
              <a:xfrm>
                <a:off x="1001520" y="4832280"/>
                <a:ext cx="441756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51"/>
              <p:cNvSpPr/>
              <p:nvPr/>
            </p:nvSpPr>
            <p:spPr>
              <a:xfrm>
                <a:off x="6291000" y="3409920"/>
                <a:ext cx="1080" cy="1050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52"/>
              <p:cNvSpPr/>
              <p:nvPr/>
            </p:nvSpPr>
            <p:spPr>
              <a:xfrm>
                <a:off x="6291000" y="3409920"/>
                <a:ext cx="15480" cy="1050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53"/>
              <p:cNvSpPr/>
              <p:nvPr/>
            </p:nvSpPr>
            <p:spPr>
              <a:xfrm>
                <a:off x="7192800" y="3409920"/>
                <a:ext cx="1080" cy="1050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54"/>
              <p:cNvSpPr/>
              <p:nvPr/>
            </p:nvSpPr>
            <p:spPr>
              <a:xfrm>
                <a:off x="7192800" y="3409920"/>
                <a:ext cx="15480" cy="1050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55"/>
              <p:cNvSpPr/>
              <p:nvPr/>
            </p:nvSpPr>
            <p:spPr>
              <a:xfrm>
                <a:off x="1001520" y="5094360"/>
                <a:ext cx="44175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56"/>
              <p:cNvSpPr/>
              <p:nvPr/>
            </p:nvSpPr>
            <p:spPr>
              <a:xfrm>
                <a:off x="1001520" y="5094360"/>
                <a:ext cx="44175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57"/>
              <p:cNvSpPr/>
              <p:nvPr/>
            </p:nvSpPr>
            <p:spPr>
              <a:xfrm>
                <a:off x="1001520" y="5357880"/>
                <a:ext cx="44175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>
                <a:off x="1001520" y="5357880"/>
                <a:ext cx="441756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59"/>
              <p:cNvSpPr/>
              <p:nvPr/>
            </p:nvSpPr>
            <p:spPr>
              <a:xfrm>
                <a:off x="1001520" y="5619600"/>
                <a:ext cx="44175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60"/>
              <p:cNvSpPr/>
              <p:nvPr/>
            </p:nvSpPr>
            <p:spPr>
              <a:xfrm>
                <a:off x="1001520" y="5619600"/>
                <a:ext cx="4417560" cy="16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61"/>
              <p:cNvSpPr/>
              <p:nvPr/>
            </p:nvSpPr>
            <p:spPr>
              <a:xfrm>
                <a:off x="1001520" y="5883120"/>
                <a:ext cx="44175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62"/>
              <p:cNvSpPr/>
              <p:nvPr/>
            </p:nvSpPr>
            <p:spPr>
              <a:xfrm>
                <a:off x="1001520" y="5883120"/>
                <a:ext cx="441756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63"/>
              <p:cNvSpPr/>
              <p:nvPr/>
            </p:nvSpPr>
            <p:spPr>
              <a:xfrm>
                <a:off x="685800" y="1447920"/>
                <a:ext cx="1440" cy="4836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64"/>
              <p:cNvSpPr/>
              <p:nvPr/>
            </p:nvSpPr>
            <p:spPr>
              <a:xfrm>
                <a:off x="685800" y="1447920"/>
                <a:ext cx="15480" cy="4836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65"/>
              <p:cNvSpPr/>
              <p:nvPr/>
            </p:nvSpPr>
            <p:spPr>
              <a:xfrm>
                <a:off x="8427960" y="1463760"/>
                <a:ext cx="1080" cy="4821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66"/>
              <p:cNvSpPr/>
              <p:nvPr/>
            </p:nvSpPr>
            <p:spPr>
              <a:xfrm>
                <a:off x="8427960" y="1463760"/>
                <a:ext cx="15480" cy="4821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67"/>
              <p:cNvSpPr/>
              <p:nvPr/>
            </p:nvSpPr>
            <p:spPr>
              <a:xfrm>
                <a:off x="985680" y="4568760"/>
                <a:ext cx="1080" cy="1592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68"/>
              <p:cNvSpPr/>
              <p:nvPr/>
            </p:nvSpPr>
            <p:spPr>
              <a:xfrm>
                <a:off x="985680" y="4568760"/>
                <a:ext cx="15480" cy="159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69"/>
              <p:cNvSpPr/>
              <p:nvPr/>
            </p:nvSpPr>
            <p:spPr>
              <a:xfrm>
                <a:off x="2822400" y="3147840"/>
                <a:ext cx="1080" cy="1297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70"/>
              <p:cNvSpPr/>
              <p:nvPr/>
            </p:nvSpPr>
            <p:spPr>
              <a:xfrm>
                <a:off x="2822400" y="3147840"/>
                <a:ext cx="15480" cy="1297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71"/>
              <p:cNvSpPr/>
              <p:nvPr/>
            </p:nvSpPr>
            <p:spPr>
              <a:xfrm>
                <a:off x="2854080" y="3147840"/>
                <a:ext cx="1080" cy="1297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72"/>
              <p:cNvSpPr/>
              <p:nvPr/>
            </p:nvSpPr>
            <p:spPr>
              <a:xfrm>
                <a:off x="2854080" y="3147840"/>
                <a:ext cx="15480" cy="1297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73"/>
              <p:cNvSpPr/>
              <p:nvPr/>
            </p:nvSpPr>
            <p:spPr>
              <a:xfrm>
                <a:off x="5419440" y="4584600"/>
                <a:ext cx="1440" cy="156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74"/>
              <p:cNvSpPr/>
              <p:nvPr/>
            </p:nvSpPr>
            <p:spPr>
              <a:xfrm>
                <a:off x="5419440" y="4584600"/>
                <a:ext cx="15480" cy="1560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75"/>
              <p:cNvSpPr/>
              <p:nvPr/>
            </p:nvSpPr>
            <p:spPr>
              <a:xfrm>
                <a:off x="5451120" y="4584600"/>
                <a:ext cx="1440" cy="156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76"/>
              <p:cNvSpPr/>
              <p:nvPr/>
            </p:nvSpPr>
            <p:spPr>
              <a:xfrm>
                <a:off x="5451120" y="4584600"/>
                <a:ext cx="15480" cy="1560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77"/>
              <p:cNvSpPr/>
              <p:nvPr/>
            </p:nvSpPr>
            <p:spPr>
              <a:xfrm>
                <a:off x="8127720" y="4584600"/>
                <a:ext cx="1440" cy="157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78"/>
              <p:cNvSpPr/>
              <p:nvPr/>
            </p:nvSpPr>
            <p:spPr>
              <a:xfrm>
                <a:off x="8127720" y="4584600"/>
                <a:ext cx="15480" cy="157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79"/>
              <p:cNvSpPr/>
              <p:nvPr/>
            </p:nvSpPr>
            <p:spPr>
              <a:xfrm>
                <a:off x="1952280" y="3409920"/>
                <a:ext cx="1440" cy="1050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80"/>
              <p:cNvSpPr/>
              <p:nvPr/>
            </p:nvSpPr>
            <p:spPr>
              <a:xfrm>
                <a:off x="1952280" y="3409920"/>
                <a:ext cx="15480" cy="1050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81"/>
              <p:cNvSpPr/>
              <p:nvPr/>
            </p:nvSpPr>
            <p:spPr>
              <a:xfrm>
                <a:off x="3693960" y="3409920"/>
                <a:ext cx="1080" cy="1050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82"/>
              <p:cNvSpPr/>
              <p:nvPr/>
            </p:nvSpPr>
            <p:spPr>
              <a:xfrm>
                <a:off x="3693960" y="3409920"/>
                <a:ext cx="15480" cy="1050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83"/>
              <p:cNvSpPr/>
              <p:nvPr/>
            </p:nvSpPr>
            <p:spPr>
              <a:xfrm>
                <a:off x="4549680" y="3409920"/>
                <a:ext cx="1080" cy="1050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84"/>
              <p:cNvSpPr/>
              <p:nvPr/>
            </p:nvSpPr>
            <p:spPr>
              <a:xfrm>
                <a:off x="4549680" y="3409920"/>
                <a:ext cx="15480" cy="1050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85"/>
              <p:cNvSpPr/>
              <p:nvPr/>
            </p:nvSpPr>
            <p:spPr>
              <a:xfrm>
                <a:off x="6291000" y="4846680"/>
                <a:ext cx="1080" cy="1314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86"/>
              <p:cNvSpPr/>
              <p:nvPr/>
            </p:nvSpPr>
            <p:spPr>
              <a:xfrm>
                <a:off x="6291000" y="4846680"/>
                <a:ext cx="15480" cy="1314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87"/>
              <p:cNvSpPr/>
              <p:nvPr/>
            </p:nvSpPr>
            <p:spPr>
              <a:xfrm>
                <a:off x="7192800" y="4846680"/>
                <a:ext cx="1080" cy="1314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88"/>
              <p:cNvSpPr/>
              <p:nvPr/>
            </p:nvSpPr>
            <p:spPr>
              <a:xfrm>
                <a:off x="7192800" y="4846680"/>
                <a:ext cx="15480" cy="1314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89"/>
              <p:cNvSpPr/>
              <p:nvPr/>
            </p:nvSpPr>
            <p:spPr>
              <a:xfrm>
                <a:off x="701280" y="1447920"/>
                <a:ext cx="7742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90"/>
              <p:cNvSpPr/>
              <p:nvPr/>
            </p:nvSpPr>
            <p:spPr>
              <a:xfrm>
                <a:off x="701280" y="1447920"/>
                <a:ext cx="77421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91"/>
              <p:cNvSpPr/>
              <p:nvPr/>
            </p:nvSpPr>
            <p:spPr>
              <a:xfrm>
                <a:off x="1001520" y="3132000"/>
                <a:ext cx="7141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92"/>
              <p:cNvSpPr/>
              <p:nvPr/>
            </p:nvSpPr>
            <p:spPr>
              <a:xfrm>
                <a:off x="1001520" y="3132000"/>
                <a:ext cx="71416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93"/>
              <p:cNvSpPr/>
              <p:nvPr/>
            </p:nvSpPr>
            <p:spPr>
              <a:xfrm>
                <a:off x="5466960" y="3394080"/>
                <a:ext cx="2676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94"/>
              <p:cNvSpPr/>
              <p:nvPr/>
            </p:nvSpPr>
            <p:spPr>
              <a:xfrm>
                <a:off x="5466960" y="3394080"/>
                <a:ext cx="26762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95"/>
              <p:cNvSpPr/>
              <p:nvPr/>
            </p:nvSpPr>
            <p:spPr>
              <a:xfrm>
                <a:off x="5466960" y="3657600"/>
                <a:ext cx="2676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96"/>
              <p:cNvSpPr/>
              <p:nvPr/>
            </p:nvSpPr>
            <p:spPr>
              <a:xfrm>
                <a:off x="5466960" y="3657600"/>
                <a:ext cx="26762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97"/>
              <p:cNvSpPr/>
              <p:nvPr/>
            </p:nvSpPr>
            <p:spPr>
              <a:xfrm>
                <a:off x="1001520" y="4444920"/>
                <a:ext cx="7141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98"/>
              <p:cNvSpPr/>
              <p:nvPr/>
            </p:nvSpPr>
            <p:spPr>
              <a:xfrm>
                <a:off x="1001520" y="4444920"/>
                <a:ext cx="71416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99"/>
              <p:cNvSpPr/>
              <p:nvPr/>
            </p:nvSpPr>
            <p:spPr>
              <a:xfrm>
                <a:off x="1001520" y="4568760"/>
                <a:ext cx="7141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100"/>
              <p:cNvSpPr/>
              <p:nvPr/>
            </p:nvSpPr>
            <p:spPr>
              <a:xfrm>
                <a:off x="1001520" y="4568760"/>
                <a:ext cx="71416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101"/>
              <p:cNvSpPr/>
              <p:nvPr/>
            </p:nvSpPr>
            <p:spPr>
              <a:xfrm>
                <a:off x="5466960" y="4832280"/>
                <a:ext cx="2676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102"/>
              <p:cNvSpPr/>
              <p:nvPr/>
            </p:nvSpPr>
            <p:spPr>
              <a:xfrm>
                <a:off x="5466960" y="4832280"/>
                <a:ext cx="26762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103"/>
              <p:cNvSpPr/>
              <p:nvPr/>
            </p:nvSpPr>
            <p:spPr>
              <a:xfrm>
                <a:off x="5466960" y="5094360"/>
                <a:ext cx="2676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04"/>
              <p:cNvSpPr/>
              <p:nvPr/>
            </p:nvSpPr>
            <p:spPr>
              <a:xfrm>
                <a:off x="5466960" y="5094360"/>
                <a:ext cx="26762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105"/>
              <p:cNvSpPr/>
              <p:nvPr/>
            </p:nvSpPr>
            <p:spPr>
              <a:xfrm>
                <a:off x="5466960" y="5357880"/>
                <a:ext cx="2676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06"/>
              <p:cNvSpPr/>
              <p:nvPr/>
            </p:nvSpPr>
            <p:spPr>
              <a:xfrm>
                <a:off x="5466960" y="5357880"/>
                <a:ext cx="26762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107"/>
              <p:cNvSpPr/>
              <p:nvPr/>
            </p:nvSpPr>
            <p:spPr>
              <a:xfrm>
                <a:off x="5466960" y="5619600"/>
                <a:ext cx="2676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08"/>
              <p:cNvSpPr/>
              <p:nvPr/>
            </p:nvSpPr>
            <p:spPr>
              <a:xfrm>
                <a:off x="5466960" y="5619600"/>
                <a:ext cx="2676240" cy="16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109"/>
              <p:cNvSpPr/>
              <p:nvPr/>
            </p:nvSpPr>
            <p:spPr>
              <a:xfrm>
                <a:off x="5466960" y="5883120"/>
                <a:ext cx="2676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10"/>
              <p:cNvSpPr/>
              <p:nvPr/>
            </p:nvSpPr>
            <p:spPr>
              <a:xfrm>
                <a:off x="5466960" y="5883120"/>
                <a:ext cx="26762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111"/>
              <p:cNvSpPr/>
              <p:nvPr/>
            </p:nvSpPr>
            <p:spPr>
              <a:xfrm>
                <a:off x="1001520" y="6145200"/>
                <a:ext cx="7141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112"/>
              <p:cNvSpPr/>
              <p:nvPr/>
            </p:nvSpPr>
            <p:spPr>
              <a:xfrm>
                <a:off x="1001520" y="6145200"/>
                <a:ext cx="71416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113"/>
              <p:cNvSpPr/>
              <p:nvPr/>
            </p:nvSpPr>
            <p:spPr>
              <a:xfrm>
                <a:off x="701280" y="6269040"/>
                <a:ext cx="7742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114"/>
              <p:cNvSpPr/>
              <p:nvPr/>
            </p:nvSpPr>
            <p:spPr>
              <a:xfrm>
                <a:off x="701280" y="6269040"/>
                <a:ext cx="77421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Line 115"/>
            <p:cNvSpPr/>
            <p:nvPr/>
          </p:nvSpPr>
          <p:spPr>
            <a:xfrm>
              <a:off x="2292120" y="2209680"/>
              <a:ext cx="1739520" cy="0"/>
            </a:xfrm>
            <a:prstGeom prst="line">
              <a:avLst/>
            </a:prstGeom>
            <a:ln w="1260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16"/>
            <p:cNvSpPr/>
            <p:nvPr/>
          </p:nvSpPr>
          <p:spPr>
            <a:xfrm>
              <a:off x="2292120" y="2722680"/>
              <a:ext cx="1739520" cy="0"/>
            </a:xfrm>
            <a:prstGeom prst="line">
              <a:avLst/>
            </a:prstGeom>
            <a:ln w="1260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17"/>
            <p:cNvSpPr/>
            <p:nvPr/>
          </p:nvSpPr>
          <p:spPr>
            <a:xfrm>
              <a:off x="1530000" y="2992320"/>
              <a:ext cx="2501640" cy="0"/>
            </a:xfrm>
            <a:prstGeom prst="line">
              <a:avLst/>
            </a:prstGeom>
            <a:ln w="1260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18"/>
            <p:cNvSpPr/>
            <p:nvPr/>
          </p:nvSpPr>
          <p:spPr>
            <a:xfrm>
              <a:off x="6026040" y="2195640"/>
              <a:ext cx="2120400" cy="0"/>
            </a:xfrm>
            <a:prstGeom prst="line">
              <a:avLst/>
            </a:prstGeom>
            <a:ln w="1260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19"/>
            <p:cNvSpPr/>
            <p:nvPr/>
          </p:nvSpPr>
          <p:spPr>
            <a:xfrm>
              <a:off x="6254640" y="2459160"/>
              <a:ext cx="1891800" cy="0"/>
            </a:xfrm>
            <a:prstGeom prst="line">
              <a:avLst/>
            </a:prstGeom>
            <a:ln w="1260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20"/>
            <p:cNvSpPr/>
            <p:nvPr/>
          </p:nvSpPr>
          <p:spPr>
            <a:xfrm>
              <a:off x="6330600" y="2722680"/>
              <a:ext cx="1815840" cy="0"/>
            </a:xfrm>
            <a:prstGeom prst="line">
              <a:avLst/>
            </a:prstGeom>
            <a:ln w="1260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The Job Cost Shee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248" name="Group 122"/>
          <p:cNvGrpSpPr/>
          <p:nvPr/>
        </p:nvGrpSpPr>
        <p:grpSpPr>
          <a:xfrm>
            <a:off x="8158320" y="243000"/>
            <a:ext cx="680760" cy="975960"/>
            <a:chOff x="8158320" y="243000"/>
            <a:chExt cx="680760" cy="975960"/>
          </a:xfrm>
        </p:grpSpPr>
        <p:sp>
          <p:nvSpPr>
            <p:cNvPr id="249" name="Freeform 123"/>
            <p:cNvSpPr/>
            <p:nvPr/>
          </p:nvSpPr>
          <p:spPr>
            <a:xfrm>
              <a:off x="8184960" y="340560"/>
              <a:ext cx="544680" cy="709920"/>
            </a:xfrm>
            <a:custGeom>
              <a:avLst/>
              <a:gdLst>
                <a:gd name="textAreaLeft" fmla="*/ 0 w 544680"/>
                <a:gd name="textAreaRight" fmla="*/ 545040 w 544680"/>
                <a:gd name="textAreaTop" fmla="*/ 0 h 709920"/>
                <a:gd name="textAreaBottom" fmla="*/ 710280 h 709920"/>
              </a:gdLst>
              <a:ahLst/>
              <a:rect l="textAreaLeft" t="textAreaTop" r="textAreaRight" b="textAreaBottom"/>
              <a:pathLst>
                <a:path w="6835" h="7134">
                  <a:moveTo>
                    <a:pt x="174" y="3970"/>
                  </a:moveTo>
                  <a:lnTo>
                    <a:pt x="0" y="4746"/>
                  </a:lnTo>
                  <a:lnTo>
                    <a:pt x="230" y="5867"/>
                  </a:lnTo>
                  <a:lnTo>
                    <a:pt x="1904" y="7134"/>
                  </a:lnTo>
                  <a:lnTo>
                    <a:pt x="4730" y="6356"/>
                  </a:lnTo>
                  <a:lnTo>
                    <a:pt x="5393" y="3768"/>
                  </a:lnTo>
                  <a:lnTo>
                    <a:pt x="6835" y="1553"/>
                  </a:lnTo>
                  <a:lnTo>
                    <a:pt x="6777" y="547"/>
                  </a:lnTo>
                  <a:lnTo>
                    <a:pt x="6317" y="174"/>
                  </a:lnTo>
                  <a:lnTo>
                    <a:pt x="5882" y="31"/>
                  </a:lnTo>
                  <a:lnTo>
                    <a:pt x="5537" y="0"/>
                  </a:lnTo>
                  <a:lnTo>
                    <a:pt x="4990" y="87"/>
                  </a:lnTo>
                  <a:lnTo>
                    <a:pt x="4557" y="433"/>
                  </a:lnTo>
                  <a:lnTo>
                    <a:pt x="4212" y="865"/>
                  </a:lnTo>
                  <a:lnTo>
                    <a:pt x="3894" y="1410"/>
                  </a:lnTo>
                  <a:lnTo>
                    <a:pt x="3546" y="1755"/>
                  </a:lnTo>
                  <a:lnTo>
                    <a:pt x="3058" y="2101"/>
                  </a:lnTo>
                  <a:lnTo>
                    <a:pt x="2596" y="2387"/>
                  </a:lnTo>
                  <a:lnTo>
                    <a:pt x="1961" y="2560"/>
                  </a:lnTo>
                  <a:lnTo>
                    <a:pt x="1269" y="2877"/>
                  </a:lnTo>
                  <a:lnTo>
                    <a:pt x="663" y="3338"/>
                  </a:lnTo>
                  <a:lnTo>
                    <a:pt x="174" y="397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4"/>
            <p:cNvSpPr/>
            <p:nvPr/>
          </p:nvSpPr>
          <p:spPr>
            <a:xfrm>
              <a:off x="8678520" y="251280"/>
              <a:ext cx="88920" cy="111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123" h="1122">
                  <a:moveTo>
                    <a:pt x="203" y="1122"/>
                  </a:moveTo>
                  <a:lnTo>
                    <a:pt x="347" y="806"/>
                  </a:lnTo>
                  <a:lnTo>
                    <a:pt x="577" y="548"/>
                  </a:lnTo>
                  <a:lnTo>
                    <a:pt x="1123" y="231"/>
                  </a:lnTo>
                  <a:lnTo>
                    <a:pt x="923" y="0"/>
                  </a:lnTo>
                  <a:lnTo>
                    <a:pt x="491" y="290"/>
                  </a:lnTo>
                  <a:lnTo>
                    <a:pt x="231" y="548"/>
                  </a:lnTo>
                  <a:lnTo>
                    <a:pt x="0" y="1036"/>
                  </a:lnTo>
                  <a:lnTo>
                    <a:pt x="203" y="1122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25"/>
            <p:cNvSpPr/>
            <p:nvPr/>
          </p:nvSpPr>
          <p:spPr>
            <a:xfrm>
              <a:off x="8551440" y="389160"/>
              <a:ext cx="41040" cy="68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21" h="691">
                  <a:moveTo>
                    <a:pt x="444" y="315"/>
                  </a:moveTo>
                  <a:lnTo>
                    <a:pt x="521" y="126"/>
                  </a:lnTo>
                  <a:lnTo>
                    <a:pt x="394" y="0"/>
                  </a:lnTo>
                  <a:lnTo>
                    <a:pt x="172" y="155"/>
                  </a:lnTo>
                  <a:lnTo>
                    <a:pt x="0" y="473"/>
                  </a:lnTo>
                  <a:lnTo>
                    <a:pt x="48" y="691"/>
                  </a:lnTo>
                  <a:lnTo>
                    <a:pt x="270" y="628"/>
                  </a:lnTo>
                  <a:lnTo>
                    <a:pt x="394" y="502"/>
                  </a:lnTo>
                  <a:lnTo>
                    <a:pt x="444" y="315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26"/>
            <p:cNvSpPr/>
            <p:nvPr/>
          </p:nvSpPr>
          <p:spPr>
            <a:xfrm>
              <a:off x="8162640" y="357480"/>
              <a:ext cx="582480" cy="83952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839520"/>
                <a:gd name="textAreaBottom" fmla="*/ 839880 h 839520"/>
              </a:gdLst>
              <a:ahLst/>
              <a:rect l="textAreaLeft" t="textAreaTop" r="textAreaRight" b="textAreaBottom"/>
              <a:pathLst>
                <a:path w="7324" h="8425">
                  <a:moveTo>
                    <a:pt x="6718" y="0"/>
                  </a:moveTo>
                  <a:lnTo>
                    <a:pt x="6805" y="229"/>
                  </a:lnTo>
                  <a:lnTo>
                    <a:pt x="6862" y="401"/>
                  </a:lnTo>
                  <a:lnTo>
                    <a:pt x="6891" y="632"/>
                  </a:lnTo>
                  <a:lnTo>
                    <a:pt x="6862" y="804"/>
                  </a:lnTo>
                  <a:lnTo>
                    <a:pt x="6805" y="978"/>
                  </a:lnTo>
                  <a:lnTo>
                    <a:pt x="6718" y="1150"/>
                  </a:lnTo>
                  <a:lnTo>
                    <a:pt x="6604" y="1379"/>
                  </a:lnTo>
                  <a:lnTo>
                    <a:pt x="6400" y="1553"/>
                  </a:lnTo>
                  <a:lnTo>
                    <a:pt x="5998" y="2099"/>
                  </a:lnTo>
                  <a:lnTo>
                    <a:pt x="5794" y="2415"/>
                  </a:lnTo>
                  <a:lnTo>
                    <a:pt x="5593" y="2847"/>
                  </a:lnTo>
                  <a:lnTo>
                    <a:pt x="5450" y="3393"/>
                  </a:lnTo>
                  <a:lnTo>
                    <a:pt x="5277" y="3968"/>
                  </a:lnTo>
                  <a:lnTo>
                    <a:pt x="5131" y="4370"/>
                  </a:lnTo>
                  <a:lnTo>
                    <a:pt x="4901" y="4802"/>
                  </a:lnTo>
                  <a:lnTo>
                    <a:pt x="4613" y="5148"/>
                  </a:lnTo>
                  <a:lnTo>
                    <a:pt x="4268" y="5494"/>
                  </a:lnTo>
                  <a:lnTo>
                    <a:pt x="3893" y="5693"/>
                  </a:lnTo>
                  <a:lnTo>
                    <a:pt x="3288" y="5924"/>
                  </a:lnTo>
                  <a:lnTo>
                    <a:pt x="2651" y="6038"/>
                  </a:lnTo>
                  <a:lnTo>
                    <a:pt x="2221" y="6095"/>
                  </a:lnTo>
                  <a:lnTo>
                    <a:pt x="1642" y="6067"/>
                  </a:lnTo>
                  <a:lnTo>
                    <a:pt x="1268" y="5953"/>
                  </a:lnTo>
                  <a:lnTo>
                    <a:pt x="950" y="5752"/>
                  </a:lnTo>
                  <a:lnTo>
                    <a:pt x="721" y="5520"/>
                  </a:lnTo>
                  <a:lnTo>
                    <a:pt x="517" y="5262"/>
                  </a:lnTo>
                  <a:lnTo>
                    <a:pt x="432" y="4975"/>
                  </a:lnTo>
                  <a:lnTo>
                    <a:pt x="374" y="4630"/>
                  </a:lnTo>
                  <a:lnTo>
                    <a:pt x="432" y="4226"/>
                  </a:lnTo>
                  <a:lnTo>
                    <a:pt x="517" y="3796"/>
                  </a:lnTo>
                  <a:lnTo>
                    <a:pt x="143" y="4543"/>
                  </a:lnTo>
                  <a:lnTo>
                    <a:pt x="0" y="5348"/>
                  </a:lnTo>
                  <a:lnTo>
                    <a:pt x="56" y="5866"/>
                  </a:lnTo>
                  <a:lnTo>
                    <a:pt x="202" y="6472"/>
                  </a:lnTo>
                  <a:lnTo>
                    <a:pt x="517" y="7073"/>
                  </a:lnTo>
                  <a:lnTo>
                    <a:pt x="1038" y="7677"/>
                  </a:lnTo>
                  <a:lnTo>
                    <a:pt x="1672" y="8109"/>
                  </a:lnTo>
                  <a:lnTo>
                    <a:pt x="2451" y="8425"/>
                  </a:lnTo>
                  <a:lnTo>
                    <a:pt x="3345" y="8425"/>
                  </a:lnTo>
                  <a:lnTo>
                    <a:pt x="4064" y="8253"/>
                  </a:lnTo>
                  <a:lnTo>
                    <a:pt x="4729" y="7880"/>
                  </a:lnTo>
                  <a:lnTo>
                    <a:pt x="5162" y="7507"/>
                  </a:lnTo>
                  <a:lnTo>
                    <a:pt x="5564" y="7045"/>
                  </a:lnTo>
                  <a:lnTo>
                    <a:pt x="5794" y="6528"/>
                  </a:lnTo>
                  <a:lnTo>
                    <a:pt x="5911" y="6038"/>
                  </a:lnTo>
                  <a:lnTo>
                    <a:pt x="5969" y="5520"/>
                  </a:lnTo>
                  <a:lnTo>
                    <a:pt x="6026" y="4370"/>
                  </a:lnTo>
                  <a:lnTo>
                    <a:pt x="6142" y="3796"/>
                  </a:lnTo>
                  <a:lnTo>
                    <a:pt x="6315" y="3364"/>
                  </a:lnTo>
                  <a:lnTo>
                    <a:pt x="6516" y="3049"/>
                  </a:lnTo>
                  <a:lnTo>
                    <a:pt x="6805" y="2731"/>
                  </a:lnTo>
                  <a:lnTo>
                    <a:pt x="7064" y="2386"/>
                  </a:lnTo>
                  <a:lnTo>
                    <a:pt x="7236" y="2071"/>
                  </a:lnTo>
                  <a:lnTo>
                    <a:pt x="7296" y="1725"/>
                  </a:lnTo>
                  <a:lnTo>
                    <a:pt x="7324" y="1437"/>
                  </a:lnTo>
                  <a:lnTo>
                    <a:pt x="7324" y="1093"/>
                  </a:lnTo>
                  <a:lnTo>
                    <a:pt x="7208" y="691"/>
                  </a:lnTo>
                  <a:lnTo>
                    <a:pt x="7092" y="461"/>
                  </a:lnTo>
                  <a:lnTo>
                    <a:pt x="6978" y="286"/>
                  </a:lnTo>
                  <a:lnTo>
                    <a:pt x="6718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27"/>
            <p:cNvSpPr/>
            <p:nvPr/>
          </p:nvSpPr>
          <p:spPr>
            <a:xfrm>
              <a:off x="8158320" y="340560"/>
              <a:ext cx="680760" cy="87840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878400"/>
                <a:gd name="textAreaBottom" fmla="*/ 878760 h 878400"/>
              </a:gdLst>
              <a:ahLst/>
              <a:rect l="textAreaLeft" t="textAreaTop" r="textAreaRight" b="textAreaBottom"/>
              <a:pathLst>
                <a:path w="8565" h="8830">
                  <a:moveTo>
                    <a:pt x="5997" y="0"/>
                  </a:moveTo>
                  <a:lnTo>
                    <a:pt x="5509" y="116"/>
                  </a:lnTo>
                  <a:lnTo>
                    <a:pt x="5163" y="289"/>
                  </a:lnTo>
                  <a:lnTo>
                    <a:pt x="4903" y="519"/>
                  </a:lnTo>
                  <a:lnTo>
                    <a:pt x="4701" y="777"/>
                  </a:lnTo>
                  <a:lnTo>
                    <a:pt x="4499" y="1123"/>
                  </a:lnTo>
                  <a:lnTo>
                    <a:pt x="4268" y="1438"/>
                  </a:lnTo>
                  <a:lnTo>
                    <a:pt x="4037" y="1727"/>
                  </a:lnTo>
                  <a:lnTo>
                    <a:pt x="3634" y="2042"/>
                  </a:lnTo>
                  <a:lnTo>
                    <a:pt x="3287" y="2273"/>
                  </a:lnTo>
                  <a:lnTo>
                    <a:pt x="2855" y="2475"/>
                  </a:lnTo>
                  <a:lnTo>
                    <a:pt x="2423" y="2646"/>
                  </a:lnTo>
                  <a:lnTo>
                    <a:pt x="1818" y="2877"/>
                  </a:lnTo>
                  <a:lnTo>
                    <a:pt x="1182" y="3280"/>
                  </a:lnTo>
                  <a:lnTo>
                    <a:pt x="720" y="3768"/>
                  </a:lnTo>
                  <a:lnTo>
                    <a:pt x="491" y="4228"/>
                  </a:lnTo>
                  <a:lnTo>
                    <a:pt x="232" y="4976"/>
                  </a:lnTo>
                  <a:lnTo>
                    <a:pt x="145" y="5522"/>
                  </a:lnTo>
                  <a:lnTo>
                    <a:pt x="232" y="6300"/>
                  </a:lnTo>
                  <a:lnTo>
                    <a:pt x="491" y="6932"/>
                  </a:lnTo>
                  <a:lnTo>
                    <a:pt x="865" y="7422"/>
                  </a:lnTo>
                  <a:lnTo>
                    <a:pt x="1270" y="7851"/>
                  </a:lnTo>
                  <a:lnTo>
                    <a:pt x="1701" y="8169"/>
                  </a:lnTo>
                  <a:lnTo>
                    <a:pt x="2250" y="8399"/>
                  </a:lnTo>
                  <a:lnTo>
                    <a:pt x="2826" y="8514"/>
                  </a:lnTo>
                  <a:lnTo>
                    <a:pt x="3431" y="8486"/>
                  </a:lnTo>
                  <a:lnTo>
                    <a:pt x="4037" y="8370"/>
                  </a:lnTo>
                  <a:lnTo>
                    <a:pt x="4529" y="8112"/>
                  </a:lnTo>
                  <a:lnTo>
                    <a:pt x="4932" y="7851"/>
                  </a:lnTo>
                  <a:lnTo>
                    <a:pt x="5306" y="7478"/>
                  </a:lnTo>
                  <a:lnTo>
                    <a:pt x="5595" y="7134"/>
                  </a:lnTo>
                  <a:lnTo>
                    <a:pt x="5768" y="6760"/>
                  </a:lnTo>
                  <a:lnTo>
                    <a:pt x="5913" y="6269"/>
                  </a:lnTo>
                  <a:lnTo>
                    <a:pt x="5970" y="5839"/>
                  </a:lnTo>
                  <a:lnTo>
                    <a:pt x="5997" y="5408"/>
                  </a:lnTo>
                  <a:lnTo>
                    <a:pt x="5997" y="4948"/>
                  </a:lnTo>
                  <a:lnTo>
                    <a:pt x="6028" y="4431"/>
                  </a:lnTo>
                  <a:lnTo>
                    <a:pt x="6144" y="3912"/>
                  </a:lnTo>
                  <a:lnTo>
                    <a:pt x="6287" y="3597"/>
                  </a:lnTo>
                  <a:lnTo>
                    <a:pt x="6546" y="3164"/>
                  </a:lnTo>
                  <a:lnTo>
                    <a:pt x="6864" y="2819"/>
                  </a:lnTo>
                  <a:lnTo>
                    <a:pt x="7151" y="2446"/>
                  </a:lnTo>
                  <a:lnTo>
                    <a:pt x="7267" y="2129"/>
                  </a:lnTo>
                  <a:lnTo>
                    <a:pt x="7355" y="1755"/>
                  </a:lnTo>
                  <a:lnTo>
                    <a:pt x="7355" y="1410"/>
                  </a:lnTo>
                  <a:lnTo>
                    <a:pt x="7267" y="921"/>
                  </a:lnTo>
                  <a:lnTo>
                    <a:pt x="7123" y="604"/>
                  </a:lnTo>
                  <a:lnTo>
                    <a:pt x="6950" y="377"/>
                  </a:lnTo>
                  <a:lnTo>
                    <a:pt x="6690" y="174"/>
                  </a:lnTo>
                  <a:lnTo>
                    <a:pt x="7123" y="491"/>
                  </a:lnTo>
                  <a:lnTo>
                    <a:pt x="7355" y="834"/>
                  </a:lnTo>
                  <a:lnTo>
                    <a:pt x="7469" y="1180"/>
                  </a:lnTo>
                  <a:lnTo>
                    <a:pt x="7499" y="1526"/>
                  </a:lnTo>
                  <a:lnTo>
                    <a:pt x="7499" y="1869"/>
                  </a:lnTo>
                  <a:lnTo>
                    <a:pt x="7411" y="2215"/>
                  </a:lnTo>
                  <a:lnTo>
                    <a:pt x="7267" y="2531"/>
                  </a:lnTo>
                  <a:lnTo>
                    <a:pt x="7008" y="2905"/>
                  </a:lnTo>
                  <a:lnTo>
                    <a:pt x="6633" y="3280"/>
                  </a:lnTo>
                  <a:lnTo>
                    <a:pt x="6403" y="3680"/>
                  </a:lnTo>
                  <a:lnTo>
                    <a:pt x="6228" y="4142"/>
                  </a:lnTo>
                  <a:lnTo>
                    <a:pt x="6172" y="4574"/>
                  </a:lnTo>
                  <a:lnTo>
                    <a:pt x="6172" y="5178"/>
                  </a:lnTo>
                  <a:lnTo>
                    <a:pt x="6144" y="5694"/>
                  </a:lnTo>
                  <a:lnTo>
                    <a:pt x="6085" y="6212"/>
                  </a:lnTo>
                  <a:lnTo>
                    <a:pt x="5970" y="6673"/>
                  </a:lnTo>
                  <a:lnTo>
                    <a:pt x="5797" y="7105"/>
                  </a:lnTo>
                  <a:lnTo>
                    <a:pt x="5566" y="7422"/>
                  </a:lnTo>
                  <a:lnTo>
                    <a:pt x="5306" y="7681"/>
                  </a:lnTo>
                  <a:lnTo>
                    <a:pt x="6172" y="7651"/>
                  </a:lnTo>
                  <a:lnTo>
                    <a:pt x="6749" y="7737"/>
                  </a:lnTo>
                  <a:lnTo>
                    <a:pt x="6950" y="7708"/>
                  </a:lnTo>
                  <a:lnTo>
                    <a:pt x="7181" y="7624"/>
                  </a:lnTo>
                  <a:lnTo>
                    <a:pt x="7555" y="7593"/>
                  </a:lnTo>
                  <a:lnTo>
                    <a:pt x="7931" y="7593"/>
                  </a:lnTo>
                  <a:lnTo>
                    <a:pt x="8420" y="7681"/>
                  </a:lnTo>
                  <a:lnTo>
                    <a:pt x="8565" y="7795"/>
                  </a:lnTo>
                  <a:lnTo>
                    <a:pt x="8537" y="7851"/>
                  </a:lnTo>
                  <a:lnTo>
                    <a:pt x="8363" y="7910"/>
                  </a:lnTo>
                  <a:lnTo>
                    <a:pt x="7987" y="7910"/>
                  </a:lnTo>
                  <a:lnTo>
                    <a:pt x="7669" y="7939"/>
                  </a:lnTo>
                  <a:lnTo>
                    <a:pt x="7527" y="8024"/>
                  </a:lnTo>
                  <a:lnTo>
                    <a:pt x="7469" y="8054"/>
                  </a:lnTo>
                  <a:lnTo>
                    <a:pt x="7355" y="8197"/>
                  </a:lnTo>
                  <a:lnTo>
                    <a:pt x="7151" y="8340"/>
                  </a:lnTo>
                  <a:lnTo>
                    <a:pt x="6921" y="8486"/>
                  </a:lnTo>
                  <a:lnTo>
                    <a:pt x="6546" y="8571"/>
                  </a:lnTo>
                  <a:lnTo>
                    <a:pt x="5853" y="8715"/>
                  </a:lnTo>
                  <a:lnTo>
                    <a:pt x="4788" y="8830"/>
                  </a:lnTo>
                  <a:lnTo>
                    <a:pt x="3634" y="8830"/>
                  </a:lnTo>
                  <a:lnTo>
                    <a:pt x="2826" y="8801"/>
                  </a:lnTo>
                  <a:lnTo>
                    <a:pt x="2192" y="8685"/>
                  </a:lnTo>
                  <a:lnTo>
                    <a:pt x="1731" y="8629"/>
                  </a:lnTo>
                  <a:lnTo>
                    <a:pt x="1471" y="8542"/>
                  </a:lnTo>
                  <a:lnTo>
                    <a:pt x="1443" y="8456"/>
                  </a:lnTo>
                  <a:lnTo>
                    <a:pt x="1500" y="8399"/>
                  </a:lnTo>
                  <a:lnTo>
                    <a:pt x="1644" y="8313"/>
                  </a:lnTo>
                  <a:lnTo>
                    <a:pt x="1213" y="8024"/>
                  </a:lnTo>
                  <a:lnTo>
                    <a:pt x="865" y="7708"/>
                  </a:lnTo>
                  <a:lnTo>
                    <a:pt x="576" y="7363"/>
                  </a:lnTo>
                  <a:lnTo>
                    <a:pt x="377" y="7046"/>
                  </a:lnTo>
                  <a:lnTo>
                    <a:pt x="202" y="6646"/>
                  </a:lnTo>
                  <a:lnTo>
                    <a:pt x="88" y="6300"/>
                  </a:lnTo>
                  <a:lnTo>
                    <a:pt x="0" y="5867"/>
                  </a:lnTo>
                  <a:lnTo>
                    <a:pt x="29" y="5294"/>
                  </a:lnTo>
                  <a:lnTo>
                    <a:pt x="88" y="4860"/>
                  </a:lnTo>
                  <a:lnTo>
                    <a:pt x="232" y="4344"/>
                  </a:lnTo>
                  <a:lnTo>
                    <a:pt x="520" y="3740"/>
                  </a:lnTo>
                  <a:lnTo>
                    <a:pt x="865" y="3338"/>
                  </a:lnTo>
                  <a:lnTo>
                    <a:pt x="1241" y="3021"/>
                  </a:lnTo>
                  <a:lnTo>
                    <a:pt x="1731" y="2733"/>
                  </a:lnTo>
                  <a:lnTo>
                    <a:pt x="2280" y="2560"/>
                  </a:lnTo>
                  <a:lnTo>
                    <a:pt x="2942" y="2302"/>
                  </a:lnTo>
                  <a:lnTo>
                    <a:pt x="3431" y="2014"/>
                  </a:lnTo>
                  <a:lnTo>
                    <a:pt x="3923" y="1641"/>
                  </a:lnTo>
                  <a:lnTo>
                    <a:pt x="4297" y="1180"/>
                  </a:lnTo>
                  <a:lnTo>
                    <a:pt x="4585" y="777"/>
                  </a:lnTo>
                  <a:lnTo>
                    <a:pt x="4788" y="491"/>
                  </a:lnTo>
                  <a:lnTo>
                    <a:pt x="5046" y="260"/>
                  </a:lnTo>
                  <a:lnTo>
                    <a:pt x="5277" y="116"/>
                  </a:lnTo>
                  <a:lnTo>
                    <a:pt x="5566" y="31"/>
                  </a:lnTo>
                  <a:lnTo>
                    <a:pt x="59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8"/>
            <p:cNvSpPr/>
            <p:nvPr/>
          </p:nvSpPr>
          <p:spPr>
            <a:xfrm>
              <a:off x="8685000" y="243000"/>
              <a:ext cx="87840" cy="11988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1096" h="1208">
                  <a:moveTo>
                    <a:pt x="116" y="1151"/>
                  </a:moveTo>
                  <a:lnTo>
                    <a:pt x="260" y="892"/>
                  </a:lnTo>
                  <a:lnTo>
                    <a:pt x="490" y="662"/>
                  </a:lnTo>
                  <a:lnTo>
                    <a:pt x="778" y="490"/>
                  </a:lnTo>
                  <a:lnTo>
                    <a:pt x="1096" y="317"/>
                  </a:lnTo>
                  <a:lnTo>
                    <a:pt x="894" y="0"/>
                  </a:lnTo>
                  <a:lnTo>
                    <a:pt x="518" y="230"/>
                  </a:lnTo>
                  <a:lnTo>
                    <a:pt x="288" y="459"/>
                  </a:lnTo>
                  <a:lnTo>
                    <a:pt x="116" y="691"/>
                  </a:lnTo>
                  <a:lnTo>
                    <a:pt x="0" y="949"/>
                  </a:lnTo>
                  <a:lnTo>
                    <a:pt x="200" y="634"/>
                  </a:lnTo>
                  <a:lnTo>
                    <a:pt x="432" y="376"/>
                  </a:lnTo>
                  <a:lnTo>
                    <a:pt x="866" y="86"/>
                  </a:lnTo>
                  <a:lnTo>
                    <a:pt x="980" y="317"/>
                  </a:lnTo>
                  <a:lnTo>
                    <a:pt x="577" y="490"/>
                  </a:lnTo>
                  <a:lnTo>
                    <a:pt x="317" y="691"/>
                  </a:lnTo>
                  <a:lnTo>
                    <a:pt x="173" y="949"/>
                  </a:lnTo>
                  <a:lnTo>
                    <a:pt x="57" y="1208"/>
                  </a:lnTo>
                  <a:lnTo>
                    <a:pt x="116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200400"/>
          </a:xfrm>
          <a:prstGeom prst="rect">
            <a:avLst/>
          </a:prstGeom>
          <a:solidFill>
            <a:srgbClr val="227a8f"/>
          </a:solidFill>
          <a:ln w="9360">
            <a:solidFill>
              <a:srgbClr val="23263c"/>
            </a:solidFill>
            <a:miter/>
          </a:ln>
        </p:spPr>
        <p:txBody>
          <a:bodyPr anchor="t">
            <a:normAutofit/>
          </a:bodyPr>
          <a:p>
            <a:pPr marL="365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arCo’s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ctual overhea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r the year was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$650,0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th a total of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170,0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irect labor hours worked on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uch total overhead was applied to PearCo’s jobs during the year?  Use PearCo’s predetermined overhead rate of $4.00 per direct labor ho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Overhead Application Exampl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1" name="Rectangle 4"/>
          <p:cNvSpPr/>
          <p:nvPr/>
        </p:nvSpPr>
        <p:spPr>
          <a:xfrm>
            <a:off x="304920" y="4876920"/>
            <a:ext cx="8534160" cy="1595880"/>
          </a:xfrm>
          <a:prstGeom prst="rect">
            <a:avLst/>
          </a:prstGeom>
          <a:solidFill>
            <a:srgbClr val="fcfeb9"/>
          </a:solidFill>
          <a:ln w="25560">
            <a:solidFill>
              <a:srgbClr val="2326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3300"/>
                </a:solidFill>
                <a:uFillTx/>
                <a:latin typeface="Arial"/>
              </a:rPr>
              <a:t>Overhead Applied During the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3300"/>
                </a:solidFill>
                <a:latin typeface="Arial"/>
              </a:rPr>
              <a:t>Applied Overhead  =  POHR × Actual Direct Labor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3300"/>
                </a:solidFill>
                <a:latin typeface="Arial"/>
              </a:rPr>
              <a:t>Applied Overhead  =  $4.00 per DLH × 170,000 DLH =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$68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Group 5"/>
          <p:cNvGrpSpPr/>
          <p:nvPr/>
        </p:nvGrpSpPr>
        <p:grpSpPr>
          <a:xfrm>
            <a:off x="8386920" y="90360"/>
            <a:ext cx="680760" cy="975960"/>
            <a:chOff x="8386920" y="90360"/>
            <a:chExt cx="680760" cy="975960"/>
          </a:xfrm>
        </p:grpSpPr>
        <p:sp>
          <p:nvSpPr>
            <p:cNvPr id="683" name="Freeform 6"/>
            <p:cNvSpPr/>
            <p:nvPr/>
          </p:nvSpPr>
          <p:spPr>
            <a:xfrm>
              <a:off x="8413560" y="187920"/>
              <a:ext cx="544680" cy="709920"/>
            </a:xfrm>
            <a:custGeom>
              <a:avLst/>
              <a:gdLst>
                <a:gd name="textAreaLeft" fmla="*/ 0 w 544680"/>
                <a:gd name="textAreaRight" fmla="*/ 545040 w 544680"/>
                <a:gd name="textAreaTop" fmla="*/ 0 h 709920"/>
                <a:gd name="textAreaBottom" fmla="*/ 710280 h 709920"/>
              </a:gdLst>
              <a:ahLst/>
              <a:rect l="textAreaLeft" t="textAreaTop" r="textAreaRight" b="textAreaBottom"/>
              <a:pathLst>
                <a:path w="6835" h="7134">
                  <a:moveTo>
                    <a:pt x="174" y="3970"/>
                  </a:moveTo>
                  <a:lnTo>
                    <a:pt x="0" y="4746"/>
                  </a:lnTo>
                  <a:lnTo>
                    <a:pt x="230" y="5867"/>
                  </a:lnTo>
                  <a:lnTo>
                    <a:pt x="1904" y="7134"/>
                  </a:lnTo>
                  <a:lnTo>
                    <a:pt x="4730" y="6356"/>
                  </a:lnTo>
                  <a:lnTo>
                    <a:pt x="5393" y="3768"/>
                  </a:lnTo>
                  <a:lnTo>
                    <a:pt x="6835" y="1553"/>
                  </a:lnTo>
                  <a:lnTo>
                    <a:pt x="6777" y="547"/>
                  </a:lnTo>
                  <a:lnTo>
                    <a:pt x="6317" y="174"/>
                  </a:lnTo>
                  <a:lnTo>
                    <a:pt x="5882" y="31"/>
                  </a:lnTo>
                  <a:lnTo>
                    <a:pt x="5537" y="0"/>
                  </a:lnTo>
                  <a:lnTo>
                    <a:pt x="4990" y="87"/>
                  </a:lnTo>
                  <a:lnTo>
                    <a:pt x="4557" y="433"/>
                  </a:lnTo>
                  <a:lnTo>
                    <a:pt x="4212" y="865"/>
                  </a:lnTo>
                  <a:lnTo>
                    <a:pt x="3894" y="1410"/>
                  </a:lnTo>
                  <a:lnTo>
                    <a:pt x="3546" y="1755"/>
                  </a:lnTo>
                  <a:lnTo>
                    <a:pt x="3058" y="2101"/>
                  </a:lnTo>
                  <a:lnTo>
                    <a:pt x="2596" y="2387"/>
                  </a:lnTo>
                  <a:lnTo>
                    <a:pt x="1961" y="2560"/>
                  </a:lnTo>
                  <a:lnTo>
                    <a:pt x="1269" y="2877"/>
                  </a:lnTo>
                  <a:lnTo>
                    <a:pt x="663" y="3338"/>
                  </a:lnTo>
                  <a:lnTo>
                    <a:pt x="174" y="397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7"/>
            <p:cNvSpPr/>
            <p:nvPr/>
          </p:nvSpPr>
          <p:spPr>
            <a:xfrm>
              <a:off x="8907120" y="98640"/>
              <a:ext cx="88920" cy="111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123" h="1122">
                  <a:moveTo>
                    <a:pt x="203" y="1122"/>
                  </a:moveTo>
                  <a:lnTo>
                    <a:pt x="347" y="806"/>
                  </a:lnTo>
                  <a:lnTo>
                    <a:pt x="577" y="548"/>
                  </a:lnTo>
                  <a:lnTo>
                    <a:pt x="1123" y="231"/>
                  </a:lnTo>
                  <a:lnTo>
                    <a:pt x="923" y="0"/>
                  </a:lnTo>
                  <a:lnTo>
                    <a:pt x="491" y="290"/>
                  </a:lnTo>
                  <a:lnTo>
                    <a:pt x="231" y="548"/>
                  </a:lnTo>
                  <a:lnTo>
                    <a:pt x="0" y="1036"/>
                  </a:lnTo>
                  <a:lnTo>
                    <a:pt x="203" y="1122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8"/>
            <p:cNvSpPr/>
            <p:nvPr/>
          </p:nvSpPr>
          <p:spPr>
            <a:xfrm>
              <a:off x="8780040" y="236520"/>
              <a:ext cx="41040" cy="68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21" h="691">
                  <a:moveTo>
                    <a:pt x="444" y="315"/>
                  </a:moveTo>
                  <a:lnTo>
                    <a:pt x="521" y="126"/>
                  </a:lnTo>
                  <a:lnTo>
                    <a:pt x="394" y="0"/>
                  </a:lnTo>
                  <a:lnTo>
                    <a:pt x="172" y="155"/>
                  </a:lnTo>
                  <a:lnTo>
                    <a:pt x="0" y="473"/>
                  </a:lnTo>
                  <a:lnTo>
                    <a:pt x="48" y="691"/>
                  </a:lnTo>
                  <a:lnTo>
                    <a:pt x="270" y="628"/>
                  </a:lnTo>
                  <a:lnTo>
                    <a:pt x="394" y="502"/>
                  </a:lnTo>
                  <a:lnTo>
                    <a:pt x="444" y="315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9"/>
            <p:cNvSpPr/>
            <p:nvPr/>
          </p:nvSpPr>
          <p:spPr>
            <a:xfrm>
              <a:off x="8391240" y="204840"/>
              <a:ext cx="582480" cy="83952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839520"/>
                <a:gd name="textAreaBottom" fmla="*/ 839880 h 839520"/>
              </a:gdLst>
              <a:ahLst/>
              <a:rect l="textAreaLeft" t="textAreaTop" r="textAreaRight" b="textAreaBottom"/>
              <a:pathLst>
                <a:path w="7324" h="8425">
                  <a:moveTo>
                    <a:pt x="6718" y="0"/>
                  </a:moveTo>
                  <a:lnTo>
                    <a:pt x="6805" y="229"/>
                  </a:lnTo>
                  <a:lnTo>
                    <a:pt x="6862" y="401"/>
                  </a:lnTo>
                  <a:lnTo>
                    <a:pt x="6891" y="632"/>
                  </a:lnTo>
                  <a:lnTo>
                    <a:pt x="6862" y="804"/>
                  </a:lnTo>
                  <a:lnTo>
                    <a:pt x="6805" y="978"/>
                  </a:lnTo>
                  <a:lnTo>
                    <a:pt x="6718" y="1150"/>
                  </a:lnTo>
                  <a:lnTo>
                    <a:pt x="6604" y="1379"/>
                  </a:lnTo>
                  <a:lnTo>
                    <a:pt x="6400" y="1553"/>
                  </a:lnTo>
                  <a:lnTo>
                    <a:pt x="5998" y="2099"/>
                  </a:lnTo>
                  <a:lnTo>
                    <a:pt x="5794" y="2415"/>
                  </a:lnTo>
                  <a:lnTo>
                    <a:pt x="5593" y="2847"/>
                  </a:lnTo>
                  <a:lnTo>
                    <a:pt x="5450" y="3393"/>
                  </a:lnTo>
                  <a:lnTo>
                    <a:pt x="5277" y="3968"/>
                  </a:lnTo>
                  <a:lnTo>
                    <a:pt x="5131" y="4370"/>
                  </a:lnTo>
                  <a:lnTo>
                    <a:pt x="4901" y="4802"/>
                  </a:lnTo>
                  <a:lnTo>
                    <a:pt x="4613" y="5148"/>
                  </a:lnTo>
                  <a:lnTo>
                    <a:pt x="4268" y="5494"/>
                  </a:lnTo>
                  <a:lnTo>
                    <a:pt x="3893" y="5693"/>
                  </a:lnTo>
                  <a:lnTo>
                    <a:pt x="3288" y="5924"/>
                  </a:lnTo>
                  <a:lnTo>
                    <a:pt x="2651" y="6038"/>
                  </a:lnTo>
                  <a:lnTo>
                    <a:pt x="2221" y="6095"/>
                  </a:lnTo>
                  <a:lnTo>
                    <a:pt x="1642" y="6067"/>
                  </a:lnTo>
                  <a:lnTo>
                    <a:pt x="1268" y="5953"/>
                  </a:lnTo>
                  <a:lnTo>
                    <a:pt x="950" y="5752"/>
                  </a:lnTo>
                  <a:lnTo>
                    <a:pt x="721" y="5520"/>
                  </a:lnTo>
                  <a:lnTo>
                    <a:pt x="517" y="5262"/>
                  </a:lnTo>
                  <a:lnTo>
                    <a:pt x="432" y="4975"/>
                  </a:lnTo>
                  <a:lnTo>
                    <a:pt x="374" y="4630"/>
                  </a:lnTo>
                  <a:lnTo>
                    <a:pt x="432" y="4226"/>
                  </a:lnTo>
                  <a:lnTo>
                    <a:pt x="517" y="3796"/>
                  </a:lnTo>
                  <a:lnTo>
                    <a:pt x="143" y="4543"/>
                  </a:lnTo>
                  <a:lnTo>
                    <a:pt x="0" y="5348"/>
                  </a:lnTo>
                  <a:lnTo>
                    <a:pt x="56" y="5866"/>
                  </a:lnTo>
                  <a:lnTo>
                    <a:pt x="202" y="6472"/>
                  </a:lnTo>
                  <a:lnTo>
                    <a:pt x="517" y="7073"/>
                  </a:lnTo>
                  <a:lnTo>
                    <a:pt x="1038" y="7677"/>
                  </a:lnTo>
                  <a:lnTo>
                    <a:pt x="1672" y="8109"/>
                  </a:lnTo>
                  <a:lnTo>
                    <a:pt x="2451" y="8425"/>
                  </a:lnTo>
                  <a:lnTo>
                    <a:pt x="3345" y="8425"/>
                  </a:lnTo>
                  <a:lnTo>
                    <a:pt x="4064" y="8253"/>
                  </a:lnTo>
                  <a:lnTo>
                    <a:pt x="4729" y="7880"/>
                  </a:lnTo>
                  <a:lnTo>
                    <a:pt x="5162" y="7507"/>
                  </a:lnTo>
                  <a:lnTo>
                    <a:pt x="5564" y="7045"/>
                  </a:lnTo>
                  <a:lnTo>
                    <a:pt x="5794" y="6528"/>
                  </a:lnTo>
                  <a:lnTo>
                    <a:pt x="5911" y="6038"/>
                  </a:lnTo>
                  <a:lnTo>
                    <a:pt x="5969" y="5520"/>
                  </a:lnTo>
                  <a:lnTo>
                    <a:pt x="6026" y="4370"/>
                  </a:lnTo>
                  <a:lnTo>
                    <a:pt x="6142" y="3796"/>
                  </a:lnTo>
                  <a:lnTo>
                    <a:pt x="6315" y="3364"/>
                  </a:lnTo>
                  <a:lnTo>
                    <a:pt x="6516" y="3049"/>
                  </a:lnTo>
                  <a:lnTo>
                    <a:pt x="6805" y="2731"/>
                  </a:lnTo>
                  <a:lnTo>
                    <a:pt x="7064" y="2386"/>
                  </a:lnTo>
                  <a:lnTo>
                    <a:pt x="7236" y="2071"/>
                  </a:lnTo>
                  <a:lnTo>
                    <a:pt x="7296" y="1725"/>
                  </a:lnTo>
                  <a:lnTo>
                    <a:pt x="7324" y="1437"/>
                  </a:lnTo>
                  <a:lnTo>
                    <a:pt x="7324" y="1093"/>
                  </a:lnTo>
                  <a:lnTo>
                    <a:pt x="7208" y="691"/>
                  </a:lnTo>
                  <a:lnTo>
                    <a:pt x="7092" y="461"/>
                  </a:lnTo>
                  <a:lnTo>
                    <a:pt x="6978" y="286"/>
                  </a:lnTo>
                  <a:lnTo>
                    <a:pt x="6718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0"/>
            <p:cNvSpPr/>
            <p:nvPr/>
          </p:nvSpPr>
          <p:spPr>
            <a:xfrm>
              <a:off x="8386920" y="187920"/>
              <a:ext cx="680760" cy="87840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878400"/>
                <a:gd name="textAreaBottom" fmla="*/ 878760 h 878400"/>
              </a:gdLst>
              <a:ahLst/>
              <a:rect l="textAreaLeft" t="textAreaTop" r="textAreaRight" b="textAreaBottom"/>
              <a:pathLst>
                <a:path w="8565" h="8830">
                  <a:moveTo>
                    <a:pt x="5997" y="0"/>
                  </a:moveTo>
                  <a:lnTo>
                    <a:pt x="5509" y="116"/>
                  </a:lnTo>
                  <a:lnTo>
                    <a:pt x="5163" y="289"/>
                  </a:lnTo>
                  <a:lnTo>
                    <a:pt x="4903" y="519"/>
                  </a:lnTo>
                  <a:lnTo>
                    <a:pt x="4701" y="777"/>
                  </a:lnTo>
                  <a:lnTo>
                    <a:pt x="4499" y="1123"/>
                  </a:lnTo>
                  <a:lnTo>
                    <a:pt x="4268" y="1438"/>
                  </a:lnTo>
                  <a:lnTo>
                    <a:pt x="4037" y="1727"/>
                  </a:lnTo>
                  <a:lnTo>
                    <a:pt x="3634" y="2042"/>
                  </a:lnTo>
                  <a:lnTo>
                    <a:pt x="3287" y="2273"/>
                  </a:lnTo>
                  <a:lnTo>
                    <a:pt x="2855" y="2475"/>
                  </a:lnTo>
                  <a:lnTo>
                    <a:pt x="2423" y="2646"/>
                  </a:lnTo>
                  <a:lnTo>
                    <a:pt x="1818" y="2877"/>
                  </a:lnTo>
                  <a:lnTo>
                    <a:pt x="1182" y="3280"/>
                  </a:lnTo>
                  <a:lnTo>
                    <a:pt x="720" y="3768"/>
                  </a:lnTo>
                  <a:lnTo>
                    <a:pt x="491" y="4228"/>
                  </a:lnTo>
                  <a:lnTo>
                    <a:pt x="232" y="4976"/>
                  </a:lnTo>
                  <a:lnTo>
                    <a:pt x="145" y="5522"/>
                  </a:lnTo>
                  <a:lnTo>
                    <a:pt x="232" y="6300"/>
                  </a:lnTo>
                  <a:lnTo>
                    <a:pt x="491" y="6932"/>
                  </a:lnTo>
                  <a:lnTo>
                    <a:pt x="865" y="7422"/>
                  </a:lnTo>
                  <a:lnTo>
                    <a:pt x="1270" y="7851"/>
                  </a:lnTo>
                  <a:lnTo>
                    <a:pt x="1701" y="8169"/>
                  </a:lnTo>
                  <a:lnTo>
                    <a:pt x="2250" y="8399"/>
                  </a:lnTo>
                  <a:lnTo>
                    <a:pt x="2826" y="8514"/>
                  </a:lnTo>
                  <a:lnTo>
                    <a:pt x="3431" y="8486"/>
                  </a:lnTo>
                  <a:lnTo>
                    <a:pt x="4037" y="8370"/>
                  </a:lnTo>
                  <a:lnTo>
                    <a:pt x="4529" y="8112"/>
                  </a:lnTo>
                  <a:lnTo>
                    <a:pt x="4932" y="7851"/>
                  </a:lnTo>
                  <a:lnTo>
                    <a:pt x="5306" y="7478"/>
                  </a:lnTo>
                  <a:lnTo>
                    <a:pt x="5595" y="7134"/>
                  </a:lnTo>
                  <a:lnTo>
                    <a:pt x="5768" y="6760"/>
                  </a:lnTo>
                  <a:lnTo>
                    <a:pt x="5913" y="6269"/>
                  </a:lnTo>
                  <a:lnTo>
                    <a:pt x="5970" y="5839"/>
                  </a:lnTo>
                  <a:lnTo>
                    <a:pt x="5997" y="5408"/>
                  </a:lnTo>
                  <a:lnTo>
                    <a:pt x="5997" y="4948"/>
                  </a:lnTo>
                  <a:lnTo>
                    <a:pt x="6028" y="4431"/>
                  </a:lnTo>
                  <a:lnTo>
                    <a:pt x="6144" y="3912"/>
                  </a:lnTo>
                  <a:lnTo>
                    <a:pt x="6287" y="3597"/>
                  </a:lnTo>
                  <a:lnTo>
                    <a:pt x="6546" y="3164"/>
                  </a:lnTo>
                  <a:lnTo>
                    <a:pt x="6864" y="2819"/>
                  </a:lnTo>
                  <a:lnTo>
                    <a:pt x="7151" y="2446"/>
                  </a:lnTo>
                  <a:lnTo>
                    <a:pt x="7267" y="2129"/>
                  </a:lnTo>
                  <a:lnTo>
                    <a:pt x="7355" y="1755"/>
                  </a:lnTo>
                  <a:lnTo>
                    <a:pt x="7355" y="1410"/>
                  </a:lnTo>
                  <a:lnTo>
                    <a:pt x="7267" y="921"/>
                  </a:lnTo>
                  <a:lnTo>
                    <a:pt x="7123" y="604"/>
                  </a:lnTo>
                  <a:lnTo>
                    <a:pt x="6950" y="377"/>
                  </a:lnTo>
                  <a:lnTo>
                    <a:pt x="6690" y="174"/>
                  </a:lnTo>
                  <a:lnTo>
                    <a:pt x="7123" y="491"/>
                  </a:lnTo>
                  <a:lnTo>
                    <a:pt x="7355" y="834"/>
                  </a:lnTo>
                  <a:lnTo>
                    <a:pt x="7469" y="1180"/>
                  </a:lnTo>
                  <a:lnTo>
                    <a:pt x="7499" y="1526"/>
                  </a:lnTo>
                  <a:lnTo>
                    <a:pt x="7499" y="1869"/>
                  </a:lnTo>
                  <a:lnTo>
                    <a:pt x="7411" y="2215"/>
                  </a:lnTo>
                  <a:lnTo>
                    <a:pt x="7267" y="2531"/>
                  </a:lnTo>
                  <a:lnTo>
                    <a:pt x="7008" y="2905"/>
                  </a:lnTo>
                  <a:lnTo>
                    <a:pt x="6633" y="3280"/>
                  </a:lnTo>
                  <a:lnTo>
                    <a:pt x="6403" y="3680"/>
                  </a:lnTo>
                  <a:lnTo>
                    <a:pt x="6228" y="4142"/>
                  </a:lnTo>
                  <a:lnTo>
                    <a:pt x="6172" y="4574"/>
                  </a:lnTo>
                  <a:lnTo>
                    <a:pt x="6172" y="5178"/>
                  </a:lnTo>
                  <a:lnTo>
                    <a:pt x="6144" y="5694"/>
                  </a:lnTo>
                  <a:lnTo>
                    <a:pt x="6085" y="6212"/>
                  </a:lnTo>
                  <a:lnTo>
                    <a:pt x="5970" y="6673"/>
                  </a:lnTo>
                  <a:lnTo>
                    <a:pt x="5797" y="7105"/>
                  </a:lnTo>
                  <a:lnTo>
                    <a:pt x="5566" y="7422"/>
                  </a:lnTo>
                  <a:lnTo>
                    <a:pt x="5306" y="7681"/>
                  </a:lnTo>
                  <a:lnTo>
                    <a:pt x="6172" y="7651"/>
                  </a:lnTo>
                  <a:lnTo>
                    <a:pt x="6749" y="7737"/>
                  </a:lnTo>
                  <a:lnTo>
                    <a:pt x="6950" y="7708"/>
                  </a:lnTo>
                  <a:lnTo>
                    <a:pt x="7181" y="7624"/>
                  </a:lnTo>
                  <a:lnTo>
                    <a:pt x="7555" y="7593"/>
                  </a:lnTo>
                  <a:lnTo>
                    <a:pt x="7931" y="7593"/>
                  </a:lnTo>
                  <a:lnTo>
                    <a:pt x="8420" y="7681"/>
                  </a:lnTo>
                  <a:lnTo>
                    <a:pt x="8565" y="7795"/>
                  </a:lnTo>
                  <a:lnTo>
                    <a:pt x="8537" y="7851"/>
                  </a:lnTo>
                  <a:lnTo>
                    <a:pt x="8363" y="7910"/>
                  </a:lnTo>
                  <a:lnTo>
                    <a:pt x="7987" y="7910"/>
                  </a:lnTo>
                  <a:lnTo>
                    <a:pt x="7669" y="7939"/>
                  </a:lnTo>
                  <a:lnTo>
                    <a:pt x="7527" y="8024"/>
                  </a:lnTo>
                  <a:lnTo>
                    <a:pt x="7469" y="8054"/>
                  </a:lnTo>
                  <a:lnTo>
                    <a:pt x="7355" y="8197"/>
                  </a:lnTo>
                  <a:lnTo>
                    <a:pt x="7151" y="8340"/>
                  </a:lnTo>
                  <a:lnTo>
                    <a:pt x="6921" y="8486"/>
                  </a:lnTo>
                  <a:lnTo>
                    <a:pt x="6546" y="8571"/>
                  </a:lnTo>
                  <a:lnTo>
                    <a:pt x="5853" y="8715"/>
                  </a:lnTo>
                  <a:lnTo>
                    <a:pt x="4788" y="8830"/>
                  </a:lnTo>
                  <a:lnTo>
                    <a:pt x="3634" y="8830"/>
                  </a:lnTo>
                  <a:lnTo>
                    <a:pt x="2826" y="8801"/>
                  </a:lnTo>
                  <a:lnTo>
                    <a:pt x="2192" y="8685"/>
                  </a:lnTo>
                  <a:lnTo>
                    <a:pt x="1731" y="8629"/>
                  </a:lnTo>
                  <a:lnTo>
                    <a:pt x="1471" y="8542"/>
                  </a:lnTo>
                  <a:lnTo>
                    <a:pt x="1443" y="8456"/>
                  </a:lnTo>
                  <a:lnTo>
                    <a:pt x="1500" y="8399"/>
                  </a:lnTo>
                  <a:lnTo>
                    <a:pt x="1644" y="8313"/>
                  </a:lnTo>
                  <a:lnTo>
                    <a:pt x="1213" y="8024"/>
                  </a:lnTo>
                  <a:lnTo>
                    <a:pt x="865" y="7708"/>
                  </a:lnTo>
                  <a:lnTo>
                    <a:pt x="576" y="7363"/>
                  </a:lnTo>
                  <a:lnTo>
                    <a:pt x="377" y="7046"/>
                  </a:lnTo>
                  <a:lnTo>
                    <a:pt x="202" y="6646"/>
                  </a:lnTo>
                  <a:lnTo>
                    <a:pt x="88" y="6300"/>
                  </a:lnTo>
                  <a:lnTo>
                    <a:pt x="0" y="5867"/>
                  </a:lnTo>
                  <a:lnTo>
                    <a:pt x="29" y="5294"/>
                  </a:lnTo>
                  <a:lnTo>
                    <a:pt x="88" y="4860"/>
                  </a:lnTo>
                  <a:lnTo>
                    <a:pt x="232" y="4344"/>
                  </a:lnTo>
                  <a:lnTo>
                    <a:pt x="520" y="3740"/>
                  </a:lnTo>
                  <a:lnTo>
                    <a:pt x="865" y="3338"/>
                  </a:lnTo>
                  <a:lnTo>
                    <a:pt x="1241" y="3021"/>
                  </a:lnTo>
                  <a:lnTo>
                    <a:pt x="1731" y="2733"/>
                  </a:lnTo>
                  <a:lnTo>
                    <a:pt x="2280" y="2560"/>
                  </a:lnTo>
                  <a:lnTo>
                    <a:pt x="2942" y="2302"/>
                  </a:lnTo>
                  <a:lnTo>
                    <a:pt x="3431" y="2014"/>
                  </a:lnTo>
                  <a:lnTo>
                    <a:pt x="3923" y="1641"/>
                  </a:lnTo>
                  <a:lnTo>
                    <a:pt x="4297" y="1180"/>
                  </a:lnTo>
                  <a:lnTo>
                    <a:pt x="4585" y="777"/>
                  </a:lnTo>
                  <a:lnTo>
                    <a:pt x="4788" y="491"/>
                  </a:lnTo>
                  <a:lnTo>
                    <a:pt x="5046" y="260"/>
                  </a:lnTo>
                  <a:lnTo>
                    <a:pt x="5277" y="116"/>
                  </a:lnTo>
                  <a:lnTo>
                    <a:pt x="5566" y="31"/>
                  </a:lnTo>
                  <a:lnTo>
                    <a:pt x="59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1"/>
            <p:cNvSpPr/>
            <p:nvPr/>
          </p:nvSpPr>
          <p:spPr>
            <a:xfrm>
              <a:off x="8913600" y="90360"/>
              <a:ext cx="87840" cy="11988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1096" h="1208">
                  <a:moveTo>
                    <a:pt x="116" y="1151"/>
                  </a:moveTo>
                  <a:lnTo>
                    <a:pt x="260" y="892"/>
                  </a:lnTo>
                  <a:lnTo>
                    <a:pt x="490" y="662"/>
                  </a:lnTo>
                  <a:lnTo>
                    <a:pt x="778" y="490"/>
                  </a:lnTo>
                  <a:lnTo>
                    <a:pt x="1096" y="317"/>
                  </a:lnTo>
                  <a:lnTo>
                    <a:pt x="894" y="0"/>
                  </a:lnTo>
                  <a:lnTo>
                    <a:pt x="518" y="230"/>
                  </a:lnTo>
                  <a:lnTo>
                    <a:pt x="288" y="459"/>
                  </a:lnTo>
                  <a:lnTo>
                    <a:pt x="116" y="691"/>
                  </a:lnTo>
                  <a:lnTo>
                    <a:pt x="0" y="949"/>
                  </a:lnTo>
                  <a:lnTo>
                    <a:pt x="200" y="634"/>
                  </a:lnTo>
                  <a:lnTo>
                    <a:pt x="432" y="376"/>
                  </a:lnTo>
                  <a:lnTo>
                    <a:pt x="866" y="86"/>
                  </a:lnTo>
                  <a:lnTo>
                    <a:pt x="980" y="317"/>
                  </a:lnTo>
                  <a:lnTo>
                    <a:pt x="577" y="490"/>
                  </a:lnTo>
                  <a:lnTo>
                    <a:pt x="317" y="691"/>
                  </a:lnTo>
                  <a:lnTo>
                    <a:pt x="173" y="949"/>
                  </a:lnTo>
                  <a:lnTo>
                    <a:pt x="57" y="1208"/>
                  </a:lnTo>
                  <a:lnTo>
                    <a:pt x="116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3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2"/>
          <p:cNvSpPr/>
          <p:nvPr/>
        </p:nvSpPr>
        <p:spPr>
          <a:xfrm>
            <a:off x="304920" y="1523880"/>
            <a:ext cx="8534160" cy="3200400"/>
          </a:xfrm>
          <a:prstGeom prst="rect">
            <a:avLst/>
          </a:prstGeom>
          <a:solidFill>
            <a:srgbClr val="227a8f"/>
          </a:solidFill>
          <a:ln w="9360">
            <a:solidFill>
              <a:srgbClr val="2326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rCo’s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actual overhea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the year was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$650,0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th a total of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170,0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labor hours worked on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total overhead was applied to PearCo’s jobs during the year?  Use PearCo’s predetermined overhead rate of $4.00 per direct labor ho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304920" y="4876920"/>
            <a:ext cx="8534160" cy="1595880"/>
          </a:xfrm>
          <a:prstGeom prst="rect">
            <a:avLst/>
          </a:prstGeom>
          <a:solidFill>
            <a:srgbClr val="fcfeb9"/>
          </a:solidFill>
          <a:ln w="25560">
            <a:solidFill>
              <a:srgbClr val="2326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3300"/>
                </a:solidFill>
                <a:uFillTx/>
                <a:latin typeface="Arial"/>
              </a:rPr>
              <a:t>Overhead Applied During the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3300"/>
                </a:solidFill>
                <a:latin typeface="Arial"/>
              </a:rPr>
              <a:t>Applied Overhead  =  POHR × Actual Direct Labor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3300"/>
                </a:solidFill>
                <a:latin typeface="Arial"/>
              </a:rPr>
              <a:t>Applied Overhead  =  $4.00 per DLH × 170,000 DLH =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$68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Overhead Application Exampl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692" name="Group 5"/>
          <p:cNvGrpSpPr/>
          <p:nvPr/>
        </p:nvGrpSpPr>
        <p:grpSpPr>
          <a:xfrm>
            <a:off x="8386920" y="90360"/>
            <a:ext cx="680760" cy="975960"/>
            <a:chOff x="8386920" y="90360"/>
            <a:chExt cx="680760" cy="975960"/>
          </a:xfrm>
        </p:grpSpPr>
        <p:sp>
          <p:nvSpPr>
            <p:cNvPr id="693" name="Freeform 6"/>
            <p:cNvSpPr/>
            <p:nvPr/>
          </p:nvSpPr>
          <p:spPr>
            <a:xfrm>
              <a:off x="8413560" y="187920"/>
              <a:ext cx="544680" cy="709920"/>
            </a:xfrm>
            <a:custGeom>
              <a:avLst/>
              <a:gdLst>
                <a:gd name="textAreaLeft" fmla="*/ 0 w 544680"/>
                <a:gd name="textAreaRight" fmla="*/ 545040 w 544680"/>
                <a:gd name="textAreaTop" fmla="*/ 0 h 709920"/>
                <a:gd name="textAreaBottom" fmla="*/ 710280 h 709920"/>
              </a:gdLst>
              <a:ahLst/>
              <a:rect l="textAreaLeft" t="textAreaTop" r="textAreaRight" b="textAreaBottom"/>
              <a:pathLst>
                <a:path w="6835" h="7134">
                  <a:moveTo>
                    <a:pt x="174" y="3970"/>
                  </a:moveTo>
                  <a:lnTo>
                    <a:pt x="0" y="4746"/>
                  </a:lnTo>
                  <a:lnTo>
                    <a:pt x="230" y="5867"/>
                  </a:lnTo>
                  <a:lnTo>
                    <a:pt x="1904" y="7134"/>
                  </a:lnTo>
                  <a:lnTo>
                    <a:pt x="4730" y="6356"/>
                  </a:lnTo>
                  <a:lnTo>
                    <a:pt x="5393" y="3768"/>
                  </a:lnTo>
                  <a:lnTo>
                    <a:pt x="6835" y="1553"/>
                  </a:lnTo>
                  <a:lnTo>
                    <a:pt x="6777" y="547"/>
                  </a:lnTo>
                  <a:lnTo>
                    <a:pt x="6317" y="174"/>
                  </a:lnTo>
                  <a:lnTo>
                    <a:pt x="5882" y="31"/>
                  </a:lnTo>
                  <a:lnTo>
                    <a:pt x="5537" y="0"/>
                  </a:lnTo>
                  <a:lnTo>
                    <a:pt x="4990" y="87"/>
                  </a:lnTo>
                  <a:lnTo>
                    <a:pt x="4557" y="433"/>
                  </a:lnTo>
                  <a:lnTo>
                    <a:pt x="4212" y="865"/>
                  </a:lnTo>
                  <a:lnTo>
                    <a:pt x="3894" y="1410"/>
                  </a:lnTo>
                  <a:lnTo>
                    <a:pt x="3546" y="1755"/>
                  </a:lnTo>
                  <a:lnTo>
                    <a:pt x="3058" y="2101"/>
                  </a:lnTo>
                  <a:lnTo>
                    <a:pt x="2596" y="2387"/>
                  </a:lnTo>
                  <a:lnTo>
                    <a:pt x="1961" y="2560"/>
                  </a:lnTo>
                  <a:lnTo>
                    <a:pt x="1269" y="2877"/>
                  </a:lnTo>
                  <a:lnTo>
                    <a:pt x="663" y="3338"/>
                  </a:lnTo>
                  <a:lnTo>
                    <a:pt x="174" y="397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7"/>
            <p:cNvSpPr/>
            <p:nvPr/>
          </p:nvSpPr>
          <p:spPr>
            <a:xfrm>
              <a:off x="8907120" y="98640"/>
              <a:ext cx="88920" cy="111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123" h="1122">
                  <a:moveTo>
                    <a:pt x="203" y="1122"/>
                  </a:moveTo>
                  <a:lnTo>
                    <a:pt x="347" y="806"/>
                  </a:lnTo>
                  <a:lnTo>
                    <a:pt x="577" y="548"/>
                  </a:lnTo>
                  <a:lnTo>
                    <a:pt x="1123" y="231"/>
                  </a:lnTo>
                  <a:lnTo>
                    <a:pt x="923" y="0"/>
                  </a:lnTo>
                  <a:lnTo>
                    <a:pt x="491" y="290"/>
                  </a:lnTo>
                  <a:lnTo>
                    <a:pt x="231" y="548"/>
                  </a:lnTo>
                  <a:lnTo>
                    <a:pt x="0" y="1036"/>
                  </a:lnTo>
                  <a:lnTo>
                    <a:pt x="203" y="1122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8"/>
            <p:cNvSpPr/>
            <p:nvPr/>
          </p:nvSpPr>
          <p:spPr>
            <a:xfrm>
              <a:off x="8780040" y="236520"/>
              <a:ext cx="41040" cy="68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21" h="691">
                  <a:moveTo>
                    <a:pt x="444" y="315"/>
                  </a:moveTo>
                  <a:lnTo>
                    <a:pt x="521" y="126"/>
                  </a:lnTo>
                  <a:lnTo>
                    <a:pt x="394" y="0"/>
                  </a:lnTo>
                  <a:lnTo>
                    <a:pt x="172" y="155"/>
                  </a:lnTo>
                  <a:lnTo>
                    <a:pt x="0" y="473"/>
                  </a:lnTo>
                  <a:lnTo>
                    <a:pt x="48" y="691"/>
                  </a:lnTo>
                  <a:lnTo>
                    <a:pt x="270" y="628"/>
                  </a:lnTo>
                  <a:lnTo>
                    <a:pt x="394" y="502"/>
                  </a:lnTo>
                  <a:lnTo>
                    <a:pt x="444" y="315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9"/>
            <p:cNvSpPr/>
            <p:nvPr/>
          </p:nvSpPr>
          <p:spPr>
            <a:xfrm>
              <a:off x="8391240" y="204840"/>
              <a:ext cx="582480" cy="83952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839520"/>
                <a:gd name="textAreaBottom" fmla="*/ 839880 h 839520"/>
              </a:gdLst>
              <a:ahLst/>
              <a:rect l="textAreaLeft" t="textAreaTop" r="textAreaRight" b="textAreaBottom"/>
              <a:pathLst>
                <a:path w="7324" h="8425">
                  <a:moveTo>
                    <a:pt x="6718" y="0"/>
                  </a:moveTo>
                  <a:lnTo>
                    <a:pt x="6805" y="229"/>
                  </a:lnTo>
                  <a:lnTo>
                    <a:pt x="6862" y="401"/>
                  </a:lnTo>
                  <a:lnTo>
                    <a:pt x="6891" y="632"/>
                  </a:lnTo>
                  <a:lnTo>
                    <a:pt x="6862" y="804"/>
                  </a:lnTo>
                  <a:lnTo>
                    <a:pt x="6805" y="978"/>
                  </a:lnTo>
                  <a:lnTo>
                    <a:pt x="6718" y="1150"/>
                  </a:lnTo>
                  <a:lnTo>
                    <a:pt x="6604" y="1379"/>
                  </a:lnTo>
                  <a:lnTo>
                    <a:pt x="6400" y="1553"/>
                  </a:lnTo>
                  <a:lnTo>
                    <a:pt x="5998" y="2099"/>
                  </a:lnTo>
                  <a:lnTo>
                    <a:pt x="5794" y="2415"/>
                  </a:lnTo>
                  <a:lnTo>
                    <a:pt x="5593" y="2847"/>
                  </a:lnTo>
                  <a:lnTo>
                    <a:pt x="5450" y="3393"/>
                  </a:lnTo>
                  <a:lnTo>
                    <a:pt x="5277" y="3968"/>
                  </a:lnTo>
                  <a:lnTo>
                    <a:pt x="5131" y="4370"/>
                  </a:lnTo>
                  <a:lnTo>
                    <a:pt x="4901" y="4802"/>
                  </a:lnTo>
                  <a:lnTo>
                    <a:pt x="4613" y="5148"/>
                  </a:lnTo>
                  <a:lnTo>
                    <a:pt x="4268" y="5494"/>
                  </a:lnTo>
                  <a:lnTo>
                    <a:pt x="3893" y="5693"/>
                  </a:lnTo>
                  <a:lnTo>
                    <a:pt x="3288" y="5924"/>
                  </a:lnTo>
                  <a:lnTo>
                    <a:pt x="2651" y="6038"/>
                  </a:lnTo>
                  <a:lnTo>
                    <a:pt x="2221" y="6095"/>
                  </a:lnTo>
                  <a:lnTo>
                    <a:pt x="1642" y="6067"/>
                  </a:lnTo>
                  <a:lnTo>
                    <a:pt x="1268" y="5953"/>
                  </a:lnTo>
                  <a:lnTo>
                    <a:pt x="950" y="5752"/>
                  </a:lnTo>
                  <a:lnTo>
                    <a:pt x="721" y="5520"/>
                  </a:lnTo>
                  <a:lnTo>
                    <a:pt x="517" y="5262"/>
                  </a:lnTo>
                  <a:lnTo>
                    <a:pt x="432" y="4975"/>
                  </a:lnTo>
                  <a:lnTo>
                    <a:pt x="374" y="4630"/>
                  </a:lnTo>
                  <a:lnTo>
                    <a:pt x="432" y="4226"/>
                  </a:lnTo>
                  <a:lnTo>
                    <a:pt x="517" y="3796"/>
                  </a:lnTo>
                  <a:lnTo>
                    <a:pt x="143" y="4543"/>
                  </a:lnTo>
                  <a:lnTo>
                    <a:pt x="0" y="5348"/>
                  </a:lnTo>
                  <a:lnTo>
                    <a:pt x="56" y="5866"/>
                  </a:lnTo>
                  <a:lnTo>
                    <a:pt x="202" y="6472"/>
                  </a:lnTo>
                  <a:lnTo>
                    <a:pt x="517" y="7073"/>
                  </a:lnTo>
                  <a:lnTo>
                    <a:pt x="1038" y="7677"/>
                  </a:lnTo>
                  <a:lnTo>
                    <a:pt x="1672" y="8109"/>
                  </a:lnTo>
                  <a:lnTo>
                    <a:pt x="2451" y="8425"/>
                  </a:lnTo>
                  <a:lnTo>
                    <a:pt x="3345" y="8425"/>
                  </a:lnTo>
                  <a:lnTo>
                    <a:pt x="4064" y="8253"/>
                  </a:lnTo>
                  <a:lnTo>
                    <a:pt x="4729" y="7880"/>
                  </a:lnTo>
                  <a:lnTo>
                    <a:pt x="5162" y="7507"/>
                  </a:lnTo>
                  <a:lnTo>
                    <a:pt x="5564" y="7045"/>
                  </a:lnTo>
                  <a:lnTo>
                    <a:pt x="5794" y="6528"/>
                  </a:lnTo>
                  <a:lnTo>
                    <a:pt x="5911" y="6038"/>
                  </a:lnTo>
                  <a:lnTo>
                    <a:pt x="5969" y="5520"/>
                  </a:lnTo>
                  <a:lnTo>
                    <a:pt x="6026" y="4370"/>
                  </a:lnTo>
                  <a:lnTo>
                    <a:pt x="6142" y="3796"/>
                  </a:lnTo>
                  <a:lnTo>
                    <a:pt x="6315" y="3364"/>
                  </a:lnTo>
                  <a:lnTo>
                    <a:pt x="6516" y="3049"/>
                  </a:lnTo>
                  <a:lnTo>
                    <a:pt x="6805" y="2731"/>
                  </a:lnTo>
                  <a:lnTo>
                    <a:pt x="7064" y="2386"/>
                  </a:lnTo>
                  <a:lnTo>
                    <a:pt x="7236" y="2071"/>
                  </a:lnTo>
                  <a:lnTo>
                    <a:pt x="7296" y="1725"/>
                  </a:lnTo>
                  <a:lnTo>
                    <a:pt x="7324" y="1437"/>
                  </a:lnTo>
                  <a:lnTo>
                    <a:pt x="7324" y="1093"/>
                  </a:lnTo>
                  <a:lnTo>
                    <a:pt x="7208" y="691"/>
                  </a:lnTo>
                  <a:lnTo>
                    <a:pt x="7092" y="461"/>
                  </a:lnTo>
                  <a:lnTo>
                    <a:pt x="6978" y="286"/>
                  </a:lnTo>
                  <a:lnTo>
                    <a:pt x="6718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0"/>
            <p:cNvSpPr/>
            <p:nvPr/>
          </p:nvSpPr>
          <p:spPr>
            <a:xfrm>
              <a:off x="8386920" y="187920"/>
              <a:ext cx="680760" cy="87840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878400"/>
                <a:gd name="textAreaBottom" fmla="*/ 878760 h 878400"/>
              </a:gdLst>
              <a:ahLst/>
              <a:rect l="textAreaLeft" t="textAreaTop" r="textAreaRight" b="textAreaBottom"/>
              <a:pathLst>
                <a:path w="8565" h="8830">
                  <a:moveTo>
                    <a:pt x="5997" y="0"/>
                  </a:moveTo>
                  <a:lnTo>
                    <a:pt x="5509" y="116"/>
                  </a:lnTo>
                  <a:lnTo>
                    <a:pt x="5163" y="289"/>
                  </a:lnTo>
                  <a:lnTo>
                    <a:pt x="4903" y="519"/>
                  </a:lnTo>
                  <a:lnTo>
                    <a:pt x="4701" y="777"/>
                  </a:lnTo>
                  <a:lnTo>
                    <a:pt x="4499" y="1123"/>
                  </a:lnTo>
                  <a:lnTo>
                    <a:pt x="4268" y="1438"/>
                  </a:lnTo>
                  <a:lnTo>
                    <a:pt x="4037" y="1727"/>
                  </a:lnTo>
                  <a:lnTo>
                    <a:pt x="3634" y="2042"/>
                  </a:lnTo>
                  <a:lnTo>
                    <a:pt x="3287" y="2273"/>
                  </a:lnTo>
                  <a:lnTo>
                    <a:pt x="2855" y="2475"/>
                  </a:lnTo>
                  <a:lnTo>
                    <a:pt x="2423" y="2646"/>
                  </a:lnTo>
                  <a:lnTo>
                    <a:pt x="1818" y="2877"/>
                  </a:lnTo>
                  <a:lnTo>
                    <a:pt x="1182" y="3280"/>
                  </a:lnTo>
                  <a:lnTo>
                    <a:pt x="720" y="3768"/>
                  </a:lnTo>
                  <a:lnTo>
                    <a:pt x="491" y="4228"/>
                  </a:lnTo>
                  <a:lnTo>
                    <a:pt x="232" y="4976"/>
                  </a:lnTo>
                  <a:lnTo>
                    <a:pt x="145" y="5522"/>
                  </a:lnTo>
                  <a:lnTo>
                    <a:pt x="232" y="6300"/>
                  </a:lnTo>
                  <a:lnTo>
                    <a:pt x="491" y="6932"/>
                  </a:lnTo>
                  <a:lnTo>
                    <a:pt x="865" y="7422"/>
                  </a:lnTo>
                  <a:lnTo>
                    <a:pt x="1270" y="7851"/>
                  </a:lnTo>
                  <a:lnTo>
                    <a:pt x="1701" y="8169"/>
                  </a:lnTo>
                  <a:lnTo>
                    <a:pt x="2250" y="8399"/>
                  </a:lnTo>
                  <a:lnTo>
                    <a:pt x="2826" y="8514"/>
                  </a:lnTo>
                  <a:lnTo>
                    <a:pt x="3431" y="8486"/>
                  </a:lnTo>
                  <a:lnTo>
                    <a:pt x="4037" y="8370"/>
                  </a:lnTo>
                  <a:lnTo>
                    <a:pt x="4529" y="8112"/>
                  </a:lnTo>
                  <a:lnTo>
                    <a:pt x="4932" y="7851"/>
                  </a:lnTo>
                  <a:lnTo>
                    <a:pt x="5306" y="7478"/>
                  </a:lnTo>
                  <a:lnTo>
                    <a:pt x="5595" y="7134"/>
                  </a:lnTo>
                  <a:lnTo>
                    <a:pt x="5768" y="6760"/>
                  </a:lnTo>
                  <a:lnTo>
                    <a:pt x="5913" y="6269"/>
                  </a:lnTo>
                  <a:lnTo>
                    <a:pt x="5970" y="5839"/>
                  </a:lnTo>
                  <a:lnTo>
                    <a:pt x="5997" y="5408"/>
                  </a:lnTo>
                  <a:lnTo>
                    <a:pt x="5997" y="4948"/>
                  </a:lnTo>
                  <a:lnTo>
                    <a:pt x="6028" y="4431"/>
                  </a:lnTo>
                  <a:lnTo>
                    <a:pt x="6144" y="3912"/>
                  </a:lnTo>
                  <a:lnTo>
                    <a:pt x="6287" y="3597"/>
                  </a:lnTo>
                  <a:lnTo>
                    <a:pt x="6546" y="3164"/>
                  </a:lnTo>
                  <a:lnTo>
                    <a:pt x="6864" y="2819"/>
                  </a:lnTo>
                  <a:lnTo>
                    <a:pt x="7151" y="2446"/>
                  </a:lnTo>
                  <a:lnTo>
                    <a:pt x="7267" y="2129"/>
                  </a:lnTo>
                  <a:lnTo>
                    <a:pt x="7355" y="1755"/>
                  </a:lnTo>
                  <a:lnTo>
                    <a:pt x="7355" y="1410"/>
                  </a:lnTo>
                  <a:lnTo>
                    <a:pt x="7267" y="921"/>
                  </a:lnTo>
                  <a:lnTo>
                    <a:pt x="7123" y="604"/>
                  </a:lnTo>
                  <a:lnTo>
                    <a:pt x="6950" y="377"/>
                  </a:lnTo>
                  <a:lnTo>
                    <a:pt x="6690" y="174"/>
                  </a:lnTo>
                  <a:lnTo>
                    <a:pt x="7123" y="491"/>
                  </a:lnTo>
                  <a:lnTo>
                    <a:pt x="7355" y="834"/>
                  </a:lnTo>
                  <a:lnTo>
                    <a:pt x="7469" y="1180"/>
                  </a:lnTo>
                  <a:lnTo>
                    <a:pt x="7499" y="1526"/>
                  </a:lnTo>
                  <a:lnTo>
                    <a:pt x="7499" y="1869"/>
                  </a:lnTo>
                  <a:lnTo>
                    <a:pt x="7411" y="2215"/>
                  </a:lnTo>
                  <a:lnTo>
                    <a:pt x="7267" y="2531"/>
                  </a:lnTo>
                  <a:lnTo>
                    <a:pt x="7008" y="2905"/>
                  </a:lnTo>
                  <a:lnTo>
                    <a:pt x="6633" y="3280"/>
                  </a:lnTo>
                  <a:lnTo>
                    <a:pt x="6403" y="3680"/>
                  </a:lnTo>
                  <a:lnTo>
                    <a:pt x="6228" y="4142"/>
                  </a:lnTo>
                  <a:lnTo>
                    <a:pt x="6172" y="4574"/>
                  </a:lnTo>
                  <a:lnTo>
                    <a:pt x="6172" y="5178"/>
                  </a:lnTo>
                  <a:lnTo>
                    <a:pt x="6144" y="5694"/>
                  </a:lnTo>
                  <a:lnTo>
                    <a:pt x="6085" y="6212"/>
                  </a:lnTo>
                  <a:lnTo>
                    <a:pt x="5970" y="6673"/>
                  </a:lnTo>
                  <a:lnTo>
                    <a:pt x="5797" y="7105"/>
                  </a:lnTo>
                  <a:lnTo>
                    <a:pt x="5566" y="7422"/>
                  </a:lnTo>
                  <a:lnTo>
                    <a:pt x="5306" y="7681"/>
                  </a:lnTo>
                  <a:lnTo>
                    <a:pt x="6172" y="7651"/>
                  </a:lnTo>
                  <a:lnTo>
                    <a:pt x="6749" y="7737"/>
                  </a:lnTo>
                  <a:lnTo>
                    <a:pt x="6950" y="7708"/>
                  </a:lnTo>
                  <a:lnTo>
                    <a:pt x="7181" y="7624"/>
                  </a:lnTo>
                  <a:lnTo>
                    <a:pt x="7555" y="7593"/>
                  </a:lnTo>
                  <a:lnTo>
                    <a:pt x="7931" y="7593"/>
                  </a:lnTo>
                  <a:lnTo>
                    <a:pt x="8420" y="7681"/>
                  </a:lnTo>
                  <a:lnTo>
                    <a:pt x="8565" y="7795"/>
                  </a:lnTo>
                  <a:lnTo>
                    <a:pt x="8537" y="7851"/>
                  </a:lnTo>
                  <a:lnTo>
                    <a:pt x="8363" y="7910"/>
                  </a:lnTo>
                  <a:lnTo>
                    <a:pt x="7987" y="7910"/>
                  </a:lnTo>
                  <a:lnTo>
                    <a:pt x="7669" y="7939"/>
                  </a:lnTo>
                  <a:lnTo>
                    <a:pt x="7527" y="8024"/>
                  </a:lnTo>
                  <a:lnTo>
                    <a:pt x="7469" y="8054"/>
                  </a:lnTo>
                  <a:lnTo>
                    <a:pt x="7355" y="8197"/>
                  </a:lnTo>
                  <a:lnTo>
                    <a:pt x="7151" y="8340"/>
                  </a:lnTo>
                  <a:lnTo>
                    <a:pt x="6921" y="8486"/>
                  </a:lnTo>
                  <a:lnTo>
                    <a:pt x="6546" y="8571"/>
                  </a:lnTo>
                  <a:lnTo>
                    <a:pt x="5853" y="8715"/>
                  </a:lnTo>
                  <a:lnTo>
                    <a:pt x="4788" y="8830"/>
                  </a:lnTo>
                  <a:lnTo>
                    <a:pt x="3634" y="8830"/>
                  </a:lnTo>
                  <a:lnTo>
                    <a:pt x="2826" y="8801"/>
                  </a:lnTo>
                  <a:lnTo>
                    <a:pt x="2192" y="8685"/>
                  </a:lnTo>
                  <a:lnTo>
                    <a:pt x="1731" y="8629"/>
                  </a:lnTo>
                  <a:lnTo>
                    <a:pt x="1471" y="8542"/>
                  </a:lnTo>
                  <a:lnTo>
                    <a:pt x="1443" y="8456"/>
                  </a:lnTo>
                  <a:lnTo>
                    <a:pt x="1500" y="8399"/>
                  </a:lnTo>
                  <a:lnTo>
                    <a:pt x="1644" y="8313"/>
                  </a:lnTo>
                  <a:lnTo>
                    <a:pt x="1213" y="8024"/>
                  </a:lnTo>
                  <a:lnTo>
                    <a:pt x="865" y="7708"/>
                  </a:lnTo>
                  <a:lnTo>
                    <a:pt x="576" y="7363"/>
                  </a:lnTo>
                  <a:lnTo>
                    <a:pt x="377" y="7046"/>
                  </a:lnTo>
                  <a:lnTo>
                    <a:pt x="202" y="6646"/>
                  </a:lnTo>
                  <a:lnTo>
                    <a:pt x="88" y="6300"/>
                  </a:lnTo>
                  <a:lnTo>
                    <a:pt x="0" y="5867"/>
                  </a:lnTo>
                  <a:lnTo>
                    <a:pt x="29" y="5294"/>
                  </a:lnTo>
                  <a:lnTo>
                    <a:pt x="88" y="4860"/>
                  </a:lnTo>
                  <a:lnTo>
                    <a:pt x="232" y="4344"/>
                  </a:lnTo>
                  <a:lnTo>
                    <a:pt x="520" y="3740"/>
                  </a:lnTo>
                  <a:lnTo>
                    <a:pt x="865" y="3338"/>
                  </a:lnTo>
                  <a:lnTo>
                    <a:pt x="1241" y="3021"/>
                  </a:lnTo>
                  <a:lnTo>
                    <a:pt x="1731" y="2733"/>
                  </a:lnTo>
                  <a:lnTo>
                    <a:pt x="2280" y="2560"/>
                  </a:lnTo>
                  <a:lnTo>
                    <a:pt x="2942" y="2302"/>
                  </a:lnTo>
                  <a:lnTo>
                    <a:pt x="3431" y="2014"/>
                  </a:lnTo>
                  <a:lnTo>
                    <a:pt x="3923" y="1641"/>
                  </a:lnTo>
                  <a:lnTo>
                    <a:pt x="4297" y="1180"/>
                  </a:lnTo>
                  <a:lnTo>
                    <a:pt x="4585" y="777"/>
                  </a:lnTo>
                  <a:lnTo>
                    <a:pt x="4788" y="491"/>
                  </a:lnTo>
                  <a:lnTo>
                    <a:pt x="5046" y="260"/>
                  </a:lnTo>
                  <a:lnTo>
                    <a:pt x="5277" y="116"/>
                  </a:lnTo>
                  <a:lnTo>
                    <a:pt x="5566" y="31"/>
                  </a:lnTo>
                  <a:lnTo>
                    <a:pt x="59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1"/>
            <p:cNvSpPr/>
            <p:nvPr/>
          </p:nvSpPr>
          <p:spPr>
            <a:xfrm>
              <a:off x="8913600" y="90360"/>
              <a:ext cx="87840" cy="11988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1096" h="1208">
                  <a:moveTo>
                    <a:pt x="116" y="1151"/>
                  </a:moveTo>
                  <a:lnTo>
                    <a:pt x="260" y="892"/>
                  </a:lnTo>
                  <a:lnTo>
                    <a:pt x="490" y="662"/>
                  </a:lnTo>
                  <a:lnTo>
                    <a:pt x="778" y="490"/>
                  </a:lnTo>
                  <a:lnTo>
                    <a:pt x="1096" y="317"/>
                  </a:lnTo>
                  <a:lnTo>
                    <a:pt x="894" y="0"/>
                  </a:lnTo>
                  <a:lnTo>
                    <a:pt x="518" y="230"/>
                  </a:lnTo>
                  <a:lnTo>
                    <a:pt x="288" y="459"/>
                  </a:lnTo>
                  <a:lnTo>
                    <a:pt x="116" y="691"/>
                  </a:lnTo>
                  <a:lnTo>
                    <a:pt x="0" y="949"/>
                  </a:lnTo>
                  <a:lnTo>
                    <a:pt x="200" y="634"/>
                  </a:lnTo>
                  <a:lnTo>
                    <a:pt x="432" y="376"/>
                  </a:lnTo>
                  <a:lnTo>
                    <a:pt x="866" y="86"/>
                  </a:lnTo>
                  <a:lnTo>
                    <a:pt x="980" y="317"/>
                  </a:lnTo>
                  <a:lnTo>
                    <a:pt x="577" y="490"/>
                  </a:lnTo>
                  <a:lnTo>
                    <a:pt x="317" y="691"/>
                  </a:lnTo>
                  <a:lnTo>
                    <a:pt x="173" y="949"/>
                  </a:lnTo>
                  <a:lnTo>
                    <a:pt x="57" y="1208"/>
                  </a:lnTo>
                  <a:lnTo>
                    <a:pt x="116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Oval 12"/>
          <p:cNvSpPr/>
          <p:nvPr/>
        </p:nvSpPr>
        <p:spPr>
          <a:xfrm>
            <a:off x="7162920" y="5943600"/>
            <a:ext cx="1803240" cy="59040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Group 13" descr=""/>
          <p:cNvPicPr/>
          <p:nvPr/>
        </p:nvPicPr>
        <p:blipFill>
          <a:blip r:embed="rId1"/>
          <a:stretch/>
        </p:blipFill>
        <p:spPr>
          <a:xfrm>
            <a:off x="676440" y="2577960"/>
            <a:ext cx="4822560" cy="2292480"/>
          </a:xfrm>
          <a:prstGeom prst="rect">
            <a:avLst/>
          </a:prstGeom>
          <a:ln w="0">
            <a:noFill/>
          </a:ln>
        </p:spPr>
      </p:pic>
      <p:sp>
        <p:nvSpPr>
          <p:cNvPr id="701" name="Oval 17"/>
          <p:cNvSpPr/>
          <p:nvPr/>
        </p:nvSpPr>
        <p:spPr>
          <a:xfrm>
            <a:off x="685800" y="1905120"/>
            <a:ext cx="1828800" cy="59040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Curved Connector 19"/>
          <p:cNvCxnSpPr>
            <a:stCxn id="701" idx="6"/>
          </p:cNvCxnSpPr>
          <p:nvPr/>
        </p:nvCxnSpPr>
        <p:spPr>
          <a:xfrm>
            <a:off x="2514600" y="2200320"/>
            <a:ext cx="5563440" cy="3820320"/>
          </a:xfrm>
          <a:prstGeom prst="curvedConnector5">
            <a:avLst>
              <a:gd name="adj1" fmla="val 92467"/>
              <a:gd name="adj2" fmla="val 49995"/>
              <a:gd name="adj3" fmla="val 92467"/>
            </a:avLst>
          </a:prstGeom>
          <a:ln w="38160">
            <a:solidFill>
              <a:srgbClr val="da1f28"/>
            </a:solidFill>
            <a:miter/>
            <a:headEnd len="med" type="triangle" w="med"/>
            <a:tailEnd len="med" type="triangle" w="med"/>
          </a:ln>
        </p:spPr>
      </p:cxnSp>
    </p:spTree>
  </p:cSld>
  <p:transition spd="med" advTm="4000">
    <p:strips dir="r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377640" y="1623600"/>
            <a:ext cx="8381880" cy="4800600"/>
          </a:xfrm>
          <a:prstGeom prst="rect">
            <a:avLst/>
          </a:prstGeom>
          <a:solidFill>
            <a:srgbClr val="d5a7b1"/>
          </a:solidFill>
          <a:ln w="28440">
            <a:solidFill>
              <a:srgbClr val="3f1e25"/>
            </a:solidFill>
            <a:miter/>
          </a:ln>
          <a:effectLst>
            <a:outerShdw dist="107932" dir="2700000" blurRad="0" rotWithShape="0">
              <a:srgbClr val="def5fa"/>
            </a:outerShdw>
          </a:effectLst>
        </p:spPr>
        <p:txBody>
          <a:bodyPr lIns="90360" rIns="90360" tIns="44280" bIns="44280" anchor="t">
            <a:normAutofit/>
          </a:bodyPr>
          <a:p>
            <a:pPr marL="3650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ger, Inc. had actual manufacturing overhead costs of $1,210,000 and a predetermined overhead rate of $4.00 per machine hour.  Tiger, Inc. worked 290,000 machine hours during the period.  Tiger’s manufacturing overhea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.   $50,000 overappli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.   $50,000 underappli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.   $60,000 overappli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.   $60,000 underappl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2"/>
          <p:cNvSpPr/>
          <p:nvPr/>
        </p:nvSpPr>
        <p:spPr>
          <a:xfrm>
            <a:off x="76320" y="1623960"/>
            <a:ext cx="8381880" cy="4800600"/>
          </a:xfrm>
          <a:prstGeom prst="rect">
            <a:avLst/>
          </a:prstGeom>
          <a:solidFill>
            <a:srgbClr val="d5a7b1"/>
          </a:solidFill>
          <a:ln w="28440">
            <a:solidFill>
              <a:srgbClr val="3f1e25"/>
            </a:solidFill>
            <a:miter/>
          </a:ln>
          <a:effectLst>
            <a:outerShdw dist="107932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65040" indent="-255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er, Inc. had actual manufacturing overhead costs of $1,210,000 and a predetermined overhead rate of $4.00 per machine hour.  Tiger, Inc. worked 290,000 machine hours during the period.  Tiger’s manufacturing overhea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  </a:t>
            </a:r>
            <a:r>
              <a:rPr b="0" lang="en-US" sz="2800" spc="-1" strike="noStrike">
                <a:solidFill>
                  <a:srgbClr val="ec767c"/>
                </a:solidFill>
                <a:latin typeface="Arial"/>
              </a:rPr>
              <a:t>$50,000 overappli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 $50,000 underapplied.</a:t>
            </a:r>
            <a:br>
              <a:rPr sz="2800"/>
            </a:br>
            <a:r>
              <a:rPr b="0" lang="en-US" sz="2800" spc="-1" strike="noStrike">
                <a:solidFill>
                  <a:srgbClr val="ec767c"/>
                </a:solidFill>
                <a:latin typeface="Arial"/>
              </a:rPr>
              <a:t>c.   $60,000 overapplied.</a:t>
            </a:r>
            <a:br>
              <a:rPr sz="2800"/>
            </a:br>
            <a:r>
              <a:rPr b="0" lang="en-US" sz="2800" spc="-1" strike="noStrike">
                <a:solidFill>
                  <a:srgbClr val="ec767c"/>
                </a:solidFill>
                <a:latin typeface="Arial"/>
              </a:rPr>
              <a:t>d.   $60,000 underappl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07" name="Oval 4"/>
          <p:cNvSpPr/>
          <p:nvPr/>
        </p:nvSpPr>
        <p:spPr>
          <a:xfrm>
            <a:off x="295200" y="4473720"/>
            <a:ext cx="682560" cy="631800"/>
          </a:xfrm>
          <a:prstGeom prst="ellipse">
            <a:avLst/>
          </a:prstGeom>
          <a:noFill/>
          <a:ln w="50760">
            <a:solidFill>
              <a:srgbClr val="ff33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4648320" y="4648320"/>
            <a:ext cx="4419360" cy="2077200"/>
          </a:xfrm>
          <a:prstGeom prst="rect">
            <a:avLst/>
          </a:prstGeom>
          <a:solidFill>
            <a:srgbClr val="78d6ea"/>
          </a:solidFill>
          <a:ln w="25560">
            <a:solidFill>
              <a:srgbClr val="da1f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f1e25"/>
                </a:solidFill>
                <a:uFillTx/>
                <a:latin typeface="Arial"/>
              </a:rPr>
              <a:t>Overhead Applied</a:t>
            </a:r>
            <a:br>
              <a:rPr sz="2000"/>
            </a:br>
            <a:r>
              <a:rPr b="1" lang="en-US" sz="2000" spc="-1" strike="noStrike">
                <a:solidFill>
                  <a:srgbClr val="3f1e25"/>
                </a:solidFill>
                <a:latin typeface="Arial"/>
              </a:rPr>
              <a:t>     $4.00 per hour × 290,000 hours</a:t>
            </a:r>
            <a:br>
              <a:rPr sz="2000"/>
            </a:br>
            <a:r>
              <a:rPr b="1" lang="en-US" sz="2000" spc="-1" strike="noStrike">
                <a:solidFill>
                  <a:srgbClr val="3f1e25"/>
                </a:solidFill>
                <a:latin typeface="Arial"/>
              </a:rPr>
              <a:t>     =   $1,16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f1e25"/>
                </a:solidFill>
                <a:uFillTx/>
                <a:latin typeface="Arial"/>
              </a:rPr>
              <a:t>Underapplied Overhead</a:t>
            </a:r>
            <a:br>
              <a:rPr sz="2000"/>
            </a:br>
            <a:r>
              <a:rPr b="1" lang="en-US" sz="2000" spc="-1" strike="noStrike">
                <a:solidFill>
                  <a:srgbClr val="3f1e25"/>
                </a:solidFill>
                <a:latin typeface="Arial"/>
              </a:rPr>
              <a:t>     $1,210,000 - $1,160,000</a:t>
            </a:r>
            <a:br>
              <a:rPr sz="2000"/>
            </a:br>
            <a:r>
              <a:rPr b="1" lang="en-US" sz="2000" spc="-1" strike="noStrike">
                <a:solidFill>
                  <a:srgbClr val="3f1e25"/>
                </a:solidFill>
                <a:latin typeface="Arial"/>
              </a:rPr>
              <a:t>     =   $5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Disposition of Under- or Overapplied Overhead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710" name="Group 3"/>
          <p:cNvGrpSpPr/>
          <p:nvPr/>
        </p:nvGrpSpPr>
        <p:grpSpPr>
          <a:xfrm>
            <a:off x="4660920" y="1290600"/>
            <a:ext cx="4178160" cy="5103720"/>
            <a:chOff x="4660920" y="1290600"/>
            <a:chExt cx="4178160" cy="5103720"/>
          </a:xfrm>
        </p:grpSpPr>
        <p:sp>
          <p:nvSpPr>
            <p:cNvPr id="711" name="Rectangle 4"/>
            <p:cNvSpPr/>
            <p:nvPr/>
          </p:nvSpPr>
          <p:spPr>
            <a:xfrm>
              <a:off x="4660920" y="1758960"/>
              <a:ext cx="4178160" cy="4635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5"/>
            <p:cNvSpPr/>
            <p:nvPr/>
          </p:nvSpPr>
          <p:spPr>
            <a:xfrm>
              <a:off x="4819680" y="1994040"/>
              <a:ext cx="3860640" cy="1574640"/>
            </a:xfrm>
            <a:prstGeom prst="ellipse">
              <a:avLst/>
            </a:prstGeom>
            <a:solidFill>
              <a:srgbClr val="78d6ea"/>
            </a:solidFill>
            <a:ln w="12600">
              <a:solidFill>
                <a:srgbClr val="10576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6"/>
            <p:cNvSpPr/>
            <p:nvPr/>
          </p:nvSpPr>
          <p:spPr>
            <a:xfrm>
              <a:off x="5247720" y="2073240"/>
              <a:ext cx="3034440" cy="12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$30,000 may be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closed directly to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cost of goods sold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7"/>
            <p:cNvSpPr/>
            <p:nvPr/>
          </p:nvSpPr>
          <p:spPr>
            <a:xfrm>
              <a:off x="5805000" y="5311800"/>
              <a:ext cx="1891440" cy="820440"/>
            </a:xfrm>
            <a:prstGeom prst="rect">
              <a:avLst/>
            </a:prstGeom>
            <a:solidFill>
              <a:srgbClr val="d3eef5"/>
            </a:solidFill>
            <a:ln w="1260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st of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oods Sol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8"/>
            <p:cNvSpPr/>
            <p:nvPr/>
          </p:nvSpPr>
          <p:spPr>
            <a:xfrm>
              <a:off x="5321160" y="1290600"/>
              <a:ext cx="2841840" cy="454680"/>
            </a:xfrm>
            <a:prstGeom prst="rect">
              <a:avLst/>
            </a:prstGeom>
            <a:solidFill>
              <a:srgbClr val="23263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ef"/>
                  </a:solidFill>
                  <a:latin typeface="Arial"/>
                </a:rPr>
                <a:t>PearCo’s Meth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6" name="AutoShape 9"/>
            <p:cNvCxnSpPr>
              <a:stCxn id="712" idx="4"/>
              <a:endCxn id="714" idx="0"/>
            </p:cNvCxnSpPr>
            <p:nvPr/>
          </p:nvCxnSpPr>
          <p:spPr>
            <a:xfrm>
              <a:off x="6750000" y="3580920"/>
              <a:ext cx="2160" cy="17168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717" name="Group 10"/>
          <p:cNvGrpSpPr/>
          <p:nvPr/>
        </p:nvGrpSpPr>
        <p:grpSpPr>
          <a:xfrm>
            <a:off x="246240" y="1758960"/>
            <a:ext cx="4178160" cy="4635360"/>
            <a:chOff x="246240" y="1758960"/>
            <a:chExt cx="4178160" cy="4635360"/>
          </a:xfrm>
        </p:grpSpPr>
        <p:sp>
          <p:nvSpPr>
            <p:cNvPr id="718" name="Rectangle 11"/>
            <p:cNvSpPr/>
            <p:nvPr/>
          </p:nvSpPr>
          <p:spPr>
            <a:xfrm>
              <a:off x="246240" y="1758960"/>
              <a:ext cx="4178160" cy="4635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2"/>
            <p:cNvSpPr/>
            <p:nvPr/>
          </p:nvSpPr>
          <p:spPr>
            <a:xfrm>
              <a:off x="388440" y="4092480"/>
              <a:ext cx="1365480" cy="820440"/>
            </a:xfrm>
            <a:prstGeom prst="rect">
              <a:avLst/>
            </a:prstGeom>
            <a:solidFill>
              <a:srgbClr val="3f1e25"/>
            </a:solidFill>
            <a:ln w="1260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8f8f8"/>
                  </a:solidFill>
                  <a:latin typeface="Arial"/>
                </a:rPr>
                <a:t>Work in</a:t>
              </a:r>
              <a:br>
                <a:rPr sz="2400"/>
              </a:br>
              <a:r>
                <a:rPr b="1" lang="en-US" sz="2400" spc="-1" strike="noStrike">
                  <a:solidFill>
                    <a:srgbClr val="f8f8f8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3"/>
            <p:cNvSpPr/>
            <p:nvPr/>
          </p:nvSpPr>
          <p:spPr>
            <a:xfrm>
              <a:off x="2811600" y="4092480"/>
              <a:ext cx="1434240" cy="820440"/>
            </a:xfrm>
            <a:prstGeom prst="rect">
              <a:avLst/>
            </a:prstGeom>
            <a:solidFill>
              <a:srgbClr val="3f1e25"/>
            </a:solidFill>
            <a:ln w="1260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8f8f8"/>
                  </a:solidFill>
                  <a:latin typeface="Arial"/>
                </a:rPr>
                <a:t>Finished</a:t>
              </a:r>
              <a:br>
                <a:rPr sz="2400"/>
              </a:br>
              <a:r>
                <a:rPr b="1" lang="en-US" sz="2400" spc="-1" strike="noStrike">
                  <a:solidFill>
                    <a:srgbClr val="f8f8f8"/>
                  </a:solidFill>
                  <a:latin typeface="Arial"/>
                </a:rPr>
                <a:t>Good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4"/>
            <p:cNvSpPr/>
            <p:nvPr/>
          </p:nvSpPr>
          <p:spPr>
            <a:xfrm>
              <a:off x="1388160" y="5311800"/>
              <a:ext cx="1891440" cy="820440"/>
            </a:xfrm>
            <a:prstGeom prst="rect">
              <a:avLst/>
            </a:prstGeom>
            <a:solidFill>
              <a:srgbClr val="d3eef5"/>
            </a:solidFill>
            <a:ln w="1260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st of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oods Sol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5"/>
            <p:cNvSpPr/>
            <p:nvPr/>
          </p:nvSpPr>
          <p:spPr>
            <a:xfrm>
              <a:off x="404640" y="1994040"/>
              <a:ext cx="3860640" cy="1574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f1e25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6"/>
            <p:cNvSpPr/>
            <p:nvPr/>
          </p:nvSpPr>
          <p:spPr>
            <a:xfrm>
              <a:off x="914040" y="2057400"/>
              <a:ext cx="2869920" cy="12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$30,000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may be allocated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to these accounts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4" name="AutoShape 17"/>
            <p:cNvCxnSpPr>
              <a:stCxn id="722" idx="4"/>
              <a:endCxn id="719" idx="0"/>
            </p:cNvCxnSpPr>
            <p:nvPr/>
          </p:nvCxnSpPr>
          <p:spPr>
            <a:xfrm flipH="1">
              <a:off x="1070640" y="3581280"/>
              <a:ext cx="1263960" cy="5119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25" name="AutoShape 18"/>
            <p:cNvCxnSpPr>
              <a:stCxn id="722" idx="4"/>
              <a:endCxn id="720" idx="0"/>
            </p:cNvCxnSpPr>
            <p:nvPr/>
          </p:nvCxnSpPr>
          <p:spPr>
            <a:xfrm>
              <a:off x="2334960" y="3581280"/>
              <a:ext cx="1194480" cy="5119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26" name="AutoShape 19"/>
            <p:cNvCxnSpPr>
              <a:stCxn id="722" idx="4"/>
              <a:endCxn id="721" idx="0"/>
            </p:cNvCxnSpPr>
            <p:nvPr/>
          </p:nvCxnSpPr>
          <p:spPr>
            <a:xfrm>
              <a:off x="2334600" y="3580920"/>
              <a:ext cx="1080" cy="17312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727" name="Rectangle 20"/>
          <p:cNvSpPr/>
          <p:nvPr/>
        </p:nvSpPr>
        <p:spPr>
          <a:xfrm>
            <a:off x="3938760" y="3406680"/>
            <a:ext cx="1187280" cy="453960"/>
          </a:xfrm>
          <a:prstGeom prst="rect">
            <a:avLst/>
          </a:prstGeom>
          <a:solidFill>
            <a:srgbClr val="f8f8f8"/>
          </a:solidFill>
          <a:ln w="50760">
            <a:solidFill>
              <a:srgbClr val="ff0000"/>
            </a:solidFill>
            <a:miter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Disposition of Under- or Overapplied Overhead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9" name="Line 1027"/>
          <p:cNvSpPr/>
          <p:nvPr/>
        </p:nvSpPr>
        <p:spPr>
          <a:xfrm>
            <a:off x="5545080" y="3218040"/>
            <a:ext cx="287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1028"/>
          <p:cNvSpPr/>
          <p:nvPr/>
        </p:nvSpPr>
        <p:spPr>
          <a:xfrm>
            <a:off x="6980400" y="3230640"/>
            <a:ext cx="0" cy="210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029"/>
          <p:cNvSpPr/>
          <p:nvPr/>
        </p:nvSpPr>
        <p:spPr>
          <a:xfrm>
            <a:off x="5575320" y="2311560"/>
            <a:ext cx="289224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arCo’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fg.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030"/>
          <p:cNvSpPr/>
          <p:nvPr/>
        </p:nvSpPr>
        <p:spPr>
          <a:xfrm>
            <a:off x="5362560" y="3295800"/>
            <a:ext cx="16732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ctual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verhead cos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$6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31"/>
          <p:cNvSpPr/>
          <p:nvPr/>
        </p:nvSpPr>
        <p:spPr>
          <a:xfrm>
            <a:off x="5545080" y="4970520"/>
            <a:ext cx="287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032"/>
          <p:cNvSpPr/>
          <p:nvPr/>
        </p:nvSpPr>
        <p:spPr>
          <a:xfrm>
            <a:off x="7024320" y="5073480"/>
            <a:ext cx="189144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$30,000  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overa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1033"/>
          <p:cNvSpPr/>
          <p:nvPr/>
        </p:nvSpPr>
        <p:spPr>
          <a:xfrm>
            <a:off x="896760" y="3238560"/>
            <a:ext cx="287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1034"/>
          <p:cNvSpPr/>
          <p:nvPr/>
        </p:nvSpPr>
        <p:spPr>
          <a:xfrm>
            <a:off x="2332080" y="3251160"/>
            <a:ext cx="0" cy="210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5"/>
          <p:cNvSpPr/>
          <p:nvPr/>
        </p:nvSpPr>
        <p:spPr>
          <a:xfrm>
            <a:off x="885960" y="2332080"/>
            <a:ext cx="289224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arCo’s Cos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Goods S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036"/>
          <p:cNvSpPr/>
          <p:nvPr/>
        </p:nvSpPr>
        <p:spPr>
          <a:xfrm>
            <a:off x="896760" y="4991040"/>
            <a:ext cx="287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37"/>
          <p:cNvSpPr/>
          <p:nvPr/>
        </p:nvSpPr>
        <p:spPr>
          <a:xfrm>
            <a:off x="465120" y="3289320"/>
            <a:ext cx="1960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Unadjusted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38"/>
          <p:cNvSpPr/>
          <p:nvPr/>
        </p:nvSpPr>
        <p:spPr>
          <a:xfrm>
            <a:off x="579600" y="5048280"/>
            <a:ext cx="1825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a1f28"/>
                </a:solidFill>
                <a:latin typeface="Arial"/>
              </a:rPr>
              <a:t>Adjusted</a:t>
            </a:r>
            <a:br>
              <a:rPr sz="2400"/>
            </a:br>
            <a:r>
              <a:rPr b="1" lang="en-US" sz="2400" spc="-1" strike="noStrike">
                <a:solidFill>
                  <a:srgbClr val="da1f28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1039"/>
          <p:cNvGrpSpPr/>
          <p:nvPr/>
        </p:nvGrpSpPr>
        <p:grpSpPr>
          <a:xfrm>
            <a:off x="2452680" y="4376880"/>
            <a:ext cx="4506840" cy="1110240"/>
            <a:chOff x="2452680" y="4376880"/>
            <a:chExt cx="4506840" cy="1110240"/>
          </a:xfrm>
        </p:grpSpPr>
        <p:sp>
          <p:nvSpPr>
            <p:cNvPr id="742" name="Rectangle 1040"/>
            <p:cNvSpPr/>
            <p:nvPr/>
          </p:nvSpPr>
          <p:spPr>
            <a:xfrm>
              <a:off x="5638680" y="5032440"/>
              <a:ext cx="13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$30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1041"/>
            <p:cNvSpPr/>
            <p:nvPr/>
          </p:nvSpPr>
          <p:spPr>
            <a:xfrm>
              <a:off x="2452680" y="4376880"/>
              <a:ext cx="13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$30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1042"/>
            <p:cNvSpPr/>
            <p:nvPr/>
          </p:nvSpPr>
          <p:spPr>
            <a:xfrm flipH="1" flipV="1">
              <a:off x="3672000" y="4652640"/>
              <a:ext cx="1930320" cy="55908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Rectangle 1043"/>
          <p:cNvSpPr/>
          <p:nvPr/>
        </p:nvSpPr>
        <p:spPr>
          <a:xfrm>
            <a:off x="6962760" y="3295800"/>
            <a:ext cx="16732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Overhead applied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to job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$68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122"/>
          <p:cNvGrpSpPr/>
          <p:nvPr/>
        </p:nvGrpSpPr>
        <p:grpSpPr>
          <a:xfrm>
            <a:off x="8158320" y="243000"/>
            <a:ext cx="680760" cy="975960"/>
            <a:chOff x="8158320" y="243000"/>
            <a:chExt cx="680760" cy="975960"/>
          </a:xfrm>
        </p:grpSpPr>
        <p:sp>
          <p:nvSpPr>
            <p:cNvPr id="747" name="Freeform 123"/>
            <p:cNvSpPr/>
            <p:nvPr/>
          </p:nvSpPr>
          <p:spPr>
            <a:xfrm>
              <a:off x="8184960" y="340560"/>
              <a:ext cx="544680" cy="709920"/>
            </a:xfrm>
            <a:custGeom>
              <a:avLst/>
              <a:gdLst>
                <a:gd name="textAreaLeft" fmla="*/ 0 w 544680"/>
                <a:gd name="textAreaRight" fmla="*/ 545040 w 544680"/>
                <a:gd name="textAreaTop" fmla="*/ 0 h 709920"/>
                <a:gd name="textAreaBottom" fmla="*/ 710280 h 709920"/>
              </a:gdLst>
              <a:ahLst/>
              <a:rect l="textAreaLeft" t="textAreaTop" r="textAreaRight" b="textAreaBottom"/>
              <a:pathLst>
                <a:path w="6835" h="7134">
                  <a:moveTo>
                    <a:pt x="174" y="3970"/>
                  </a:moveTo>
                  <a:lnTo>
                    <a:pt x="0" y="4746"/>
                  </a:lnTo>
                  <a:lnTo>
                    <a:pt x="230" y="5867"/>
                  </a:lnTo>
                  <a:lnTo>
                    <a:pt x="1904" y="7134"/>
                  </a:lnTo>
                  <a:lnTo>
                    <a:pt x="4730" y="6356"/>
                  </a:lnTo>
                  <a:lnTo>
                    <a:pt x="5393" y="3768"/>
                  </a:lnTo>
                  <a:lnTo>
                    <a:pt x="6835" y="1553"/>
                  </a:lnTo>
                  <a:lnTo>
                    <a:pt x="6777" y="547"/>
                  </a:lnTo>
                  <a:lnTo>
                    <a:pt x="6317" y="174"/>
                  </a:lnTo>
                  <a:lnTo>
                    <a:pt x="5882" y="31"/>
                  </a:lnTo>
                  <a:lnTo>
                    <a:pt x="5537" y="0"/>
                  </a:lnTo>
                  <a:lnTo>
                    <a:pt x="4990" y="87"/>
                  </a:lnTo>
                  <a:lnTo>
                    <a:pt x="4557" y="433"/>
                  </a:lnTo>
                  <a:lnTo>
                    <a:pt x="4212" y="865"/>
                  </a:lnTo>
                  <a:lnTo>
                    <a:pt x="3894" y="1410"/>
                  </a:lnTo>
                  <a:lnTo>
                    <a:pt x="3546" y="1755"/>
                  </a:lnTo>
                  <a:lnTo>
                    <a:pt x="3058" y="2101"/>
                  </a:lnTo>
                  <a:lnTo>
                    <a:pt x="2596" y="2387"/>
                  </a:lnTo>
                  <a:lnTo>
                    <a:pt x="1961" y="2560"/>
                  </a:lnTo>
                  <a:lnTo>
                    <a:pt x="1269" y="2877"/>
                  </a:lnTo>
                  <a:lnTo>
                    <a:pt x="663" y="3338"/>
                  </a:lnTo>
                  <a:lnTo>
                    <a:pt x="174" y="397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24"/>
            <p:cNvSpPr/>
            <p:nvPr/>
          </p:nvSpPr>
          <p:spPr>
            <a:xfrm>
              <a:off x="8678520" y="251280"/>
              <a:ext cx="88920" cy="111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123" h="1122">
                  <a:moveTo>
                    <a:pt x="203" y="1122"/>
                  </a:moveTo>
                  <a:lnTo>
                    <a:pt x="347" y="806"/>
                  </a:lnTo>
                  <a:lnTo>
                    <a:pt x="577" y="548"/>
                  </a:lnTo>
                  <a:lnTo>
                    <a:pt x="1123" y="231"/>
                  </a:lnTo>
                  <a:lnTo>
                    <a:pt x="923" y="0"/>
                  </a:lnTo>
                  <a:lnTo>
                    <a:pt x="491" y="290"/>
                  </a:lnTo>
                  <a:lnTo>
                    <a:pt x="231" y="548"/>
                  </a:lnTo>
                  <a:lnTo>
                    <a:pt x="0" y="1036"/>
                  </a:lnTo>
                  <a:lnTo>
                    <a:pt x="203" y="1122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25"/>
            <p:cNvSpPr/>
            <p:nvPr/>
          </p:nvSpPr>
          <p:spPr>
            <a:xfrm>
              <a:off x="8551440" y="389160"/>
              <a:ext cx="41040" cy="68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21" h="691">
                  <a:moveTo>
                    <a:pt x="444" y="315"/>
                  </a:moveTo>
                  <a:lnTo>
                    <a:pt x="521" y="126"/>
                  </a:lnTo>
                  <a:lnTo>
                    <a:pt x="394" y="0"/>
                  </a:lnTo>
                  <a:lnTo>
                    <a:pt x="172" y="155"/>
                  </a:lnTo>
                  <a:lnTo>
                    <a:pt x="0" y="473"/>
                  </a:lnTo>
                  <a:lnTo>
                    <a:pt x="48" y="691"/>
                  </a:lnTo>
                  <a:lnTo>
                    <a:pt x="270" y="628"/>
                  </a:lnTo>
                  <a:lnTo>
                    <a:pt x="394" y="502"/>
                  </a:lnTo>
                  <a:lnTo>
                    <a:pt x="444" y="315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26"/>
            <p:cNvSpPr/>
            <p:nvPr/>
          </p:nvSpPr>
          <p:spPr>
            <a:xfrm>
              <a:off x="8162640" y="357480"/>
              <a:ext cx="582480" cy="83952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839520"/>
                <a:gd name="textAreaBottom" fmla="*/ 839880 h 839520"/>
              </a:gdLst>
              <a:ahLst/>
              <a:rect l="textAreaLeft" t="textAreaTop" r="textAreaRight" b="textAreaBottom"/>
              <a:pathLst>
                <a:path w="7324" h="8425">
                  <a:moveTo>
                    <a:pt x="6718" y="0"/>
                  </a:moveTo>
                  <a:lnTo>
                    <a:pt x="6805" y="229"/>
                  </a:lnTo>
                  <a:lnTo>
                    <a:pt x="6862" y="401"/>
                  </a:lnTo>
                  <a:lnTo>
                    <a:pt x="6891" y="632"/>
                  </a:lnTo>
                  <a:lnTo>
                    <a:pt x="6862" y="804"/>
                  </a:lnTo>
                  <a:lnTo>
                    <a:pt x="6805" y="978"/>
                  </a:lnTo>
                  <a:lnTo>
                    <a:pt x="6718" y="1150"/>
                  </a:lnTo>
                  <a:lnTo>
                    <a:pt x="6604" y="1379"/>
                  </a:lnTo>
                  <a:lnTo>
                    <a:pt x="6400" y="1553"/>
                  </a:lnTo>
                  <a:lnTo>
                    <a:pt x="5998" y="2099"/>
                  </a:lnTo>
                  <a:lnTo>
                    <a:pt x="5794" y="2415"/>
                  </a:lnTo>
                  <a:lnTo>
                    <a:pt x="5593" y="2847"/>
                  </a:lnTo>
                  <a:lnTo>
                    <a:pt x="5450" y="3393"/>
                  </a:lnTo>
                  <a:lnTo>
                    <a:pt x="5277" y="3968"/>
                  </a:lnTo>
                  <a:lnTo>
                    <a:pt x="5131" y="4370"/>
                  </a:lnTo>
                  <a:lnTo>
                    <a:pt x="4901" y="4802"/>
                  </a:lnTo>
                  <a:lnTo>
                    <a:pt x="4613" y="5148"/>
                  </a:lnTo>
                  <a:lnTo>
                    <a:pt x="4268" y="5494"/>
                  </a:lnTo>
                  <a:lnTo>
                    <a:pt x="3893" y="5693"/>
                  </a:lnTo>
                  <a:lnTo>
                    <a:pt x="3288" y="5924"/>
                  </a:lnTo>
                  <a:lnTo>
                    <a:pt x="2651" y="6038"/>
                  </a:lnTo>
                  <a:lnTo>
                    <a:pt x="2221" y="6095"/>
                  </a:lnTo>
                  <a:lnTo>
                    <a:pt x="1642" y="6067"/>
                  </a:lnTo>
                  <a:lnTo>
                    <a:pt x="1268" y="5953"/>
                  </a:lnTo>
                  <a:lnTo>
                    <a:pt x="950" y="5752"/>
                  </a:lnTo>
                  <a:lnTo>
                    <a:pt x="721" y="5520"/>
                  </a:lnTo>
                  <a:lnTo>
                    <a:pt x="517" y="5262"/>
                  </a:lnTo>
                  <a:lnTo>
                    <a:pt x="432" y="4975"/>
                  </a:lnTo>
                  <a:lnTo>
                    <a:pt x="374" y="4630"/>
                  </a:lnTo>
                  <a:lnTo>
                    <a:pt x="432" y="4226"/>
                  </a:lnTo>
                  <a:lnTo>
                    <a:pt x="517" y="3796"/>
                  </a:lnTo>
                  <a:lnTo>
                    <a:pt x="143" y="4543"/>
                  </a:lnTo>
                  <a:lnTo>
                    <a:pt x="0" y="5348"/>
                  </a:lnTo>
                  <a:lnTo>
                    <a:pt x="56" y="5866"/>
                  </a:lnTo>
                  <a:lnTo>
                    <a:pt x="202" y="6472"/>
                  </a:lnTo>
                  <a:lnTo>
                    <a:pt x="517" y="7073"/>
                  </a:lnTo>
                  <a:lnTo>
                    <a:pt x="1038" y="7677"/>
                  </a:lnTo>
                  <a:lnTo>
                    <a:pt x="1672" y="8109"/>
                  </a:lnTo>
                  <a:lnTo>
                    <a:pt x="2451" y="8425"/>
                  </a:lnTo>
                  <a:lnTo>
                    <a:pt x="3345" y="8425"/>
                  </a:lnTo>
                  <a:lnTo>
                    <a:pt x="4064" y="8253"/>
                  </a:lnTo>
                  <a:lnTo>
                    <a:pt x="4729" y="7880"/>
                  </a:lnTo>
                  <a:lnTo>
                    <a:pt x="5162" y="7507"/>
                  </a:lnTo>
                  <a:lnTo>
                    <a:pt x="5564" y="7045"/>
                  </a:lnTo>
                  <a:lnTo>
                    <a:pt x="5794" y="6528"/>
                  </a:lnTo>
                  <a:lnTo>
                    <a:pt x="5911" y="6038"/>
                  </a:lnTo>
                  <a:lnTo>
                    <a:pt x="5969" y="5520"/>
                  </a:lnTo>
                  <a:lnTo>
                    <a:pt x="6026" y="4370"/>
                  </a:lnTo>
                  <a:lnTo>
                    <a:pt x="6142" y="3796"/>
                  </a:lnTo>
                  <a:lnTo>
                    <a:pt x="6315" y="3364"/>
                  </a:lnTo>
                  <a:lnTo>
                    <a:pt x="6516" y="3049"/>
                  </a:lnTo>
                  <a:lnTo>
                    <a:pt x="6805" y="2731"/>
                  </a:lnTo>
                  <a:lnTo>
                    <a:pt x="7064" y="2386"/>
                  </a:lnTo>
                  <a:lnTo>
                    <a:pt x="7236" y="2071"/>
                  </a:lnTo>
                  <a:lnTo>
                    <a:pt x="7296" y="1725"/>
                  </a:lnTo>
                  <a:lnTo>
                    <a:pt x="7324" y="1437"/>
                  </a:lnTo>
                  <a:lnTo>
                    <a:pt x="7324" y="1093"/>
                  </a:lnTo>
                  <a:lnTo>
                    <a:pt x="7208" y="691"/>
                  </a:lnTo>
                  <a:lnTo>
                    <a:pt x="7092" y="461"/>
                  </a:lnTo>
                  <a:lnTo>
                    <a:pt x="6978" y="286"/>
                  </a:lnTo>
                  <a:lnTo>
                    <a:pt x="6718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27"/>
            <p:cNvSpPr/>
            <p:nvPr/>
          </p:nvSpPr>
          <p:spPr>
            <a:xfrm>
              <a:off x="8158320" y="340560"/>
              <a:ext cx="680760" cy="87840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878400"/>
                <a:gd name="textAreaBottom" fmla="*/ 878760 h 878400"/>
              </a:gdLst>
              <a:ahLst/>
              <a:rect l="textAreaLeft" t="textAreaTop" r="textAreaRight" b="textAreaBottom"/>
              <a:pathLst>
                <a:path w="8565" h="8830">
                  <a:moveTo>
                    <a:pt x="5997" y="0"/>
                  </a:moveTo>
                  <a:lnTo>
                    <a:pt x="5509" y="116"/>
                  </a:lnTo>
                  <a:lnTo>
                    <a:pt x="5163" y="289"/>
                  </a:lnTo>
                  <a:lnTo>
                    <a:pt x="4903" y="519"/>
                  </a:lnTo>
                  <a:lnTo>
                    <a:pt x="4701" y="777"/>
                  </a:lnTo>
                  <a:lnTo>
                    <a:pt x="4499" y="1123"/>
                  </a:lnTo>
                  <a:lnTo>
                    <a:pt x="4268" y="1438"/>
                  </a:lnTo>
                  <a:lnTo>
                    <a:pt x="4037" y="1727"/>
                  </a:lnTo>
                  <a:lnTo>
                    <a:pt x="3634" y="2042"/>
                  </a:lnTo>
                  <a:lnTo>
                    <a:pt x="3287" y="2273"/>
                  </a:lnTo>
                  <a:lnTo>
                    <a:pt x="2855" y="2475"/>
                  </a:lnTo>
                  <a:lnTo>
                    <a:pt x="2423" y="2646"/>
                  </a:lnTo>
                  <a:lnTo>
                    <a:pt x="1818" y="2877"/>
                  </a:lnTo>
                  <a:lnTo>
                    <a:pt x="1182" y="3280"/>
                  </a:lnTo>
                  <a:lnTo>
                    <a:pt x="720" y="3768"/>
                  </a:lnTo>
                  <a:lnTo>
                    <a:pt x="491" y="4228"/>
                  </a:lnTo>
                  <a:lnTo>
                    <a:pt x="232" y="4976"/>
                  </a:lnTo>
                  <a:lnTo>
                    <a:pt x="145" y="5522"/>
                  </a:lnTo>
                  <a:lnTo>
                    <a:pt x="232" y="6300"/>
                  </a:lnTo>
                  <a:lnTo>
                    <a:pt x="491" y="6932"/>
                  </a:lnTo>
                  <a:lnTo>
                    <a:pt x="865" y="7422"/>
                  </a:lnTo>
                  <a:lnTo>
                    <a:pt x="1270" y="7851"/>
                  </a:lnTo>
                  <a:lnTo>
                    <a:pt x="1701" y="8169"/>
                  </a:lnTo>
                  <a:lnTo>
                    <a:pt x="2250" y="8399"/>
                  </a:lnTo>
                  <a:lnTo>
                    <a:pt x="2826" y="8514"/>
                  </a:lnTo>
                  <a:lnTo>
                    <a:pt x="3431" y="8486"/>
                  </a:lnTo>
                  <a:lnTo>
                    <a:pt x="4037" y="8370"/>
                  </a:lnTo>
                  <a:lnTo>
                    <a:pt x="4529" y="8112"/>
                  </a:lnTo>
                  <a:lnTo>
                    <a:pt x="4932" y="7851"/>
                  </a:lnTo>
                  <a:lnTo>
                    <a:pt x="5306" y="7478"/>
                  </a:lnTo>
                  <a:lnTo>
                    <a:pt x="5595" y="7134"/>
                  </a:lnTo>
                  <a:lnTo>
                    <a:pt x="5768" y="6760"/>
                  </a:lnTo>
                  <a:lnTo>
                    <a:pt x="5913" y="6269"/>
                  </a:lnTo>
                  <a:lnTo>
                    <a:pt x="5970" y="5839"/>
                  </a:lnTo>
                  <a:lnTo>
                    <a:pt x="5997" y="5408"/>
                  </a:lnTo>
                  <a:lnTo>
                    <a:pt x="5997" y="4948"/>
                  </a:lnTo>
                  <a:lnTo>
                    <a:pt x="6028" y="4431"/>
                  </a:lnTo>
                  <a:lnTo>
                    <a:pt x="6144" y="3912"/>
                  </a:lnTo>
                  <a:lnTo>
                    <a:pt x="6287" y="3597"/>
                  </a:lnTo>
                  <a:lnTo>
                    <a:pt x="6546" y="3164"/>
                  </a:lnTo>
                  <a:lnTo>
                    <a:pt x="6864" y="2819"/>
                  </a:lnTo>
                  <a:lnTo>
                    <a:pt x="7151" y="2446"/>
                  </a:lnTo>
                  <a:lnTo>
                    <a:pt x="7267" y="2129"/>
                  </a:lnTo>
                  <a:lnTo>
                    <a:pt x="7355" y="1755"/>
                  </a:lnTo>
                  <a:lnTo>
                    <a:pt x="7355" y="1410"/>
                  </a:lnTo>
                  <a:lnTo>
                    <a:pt x="7267" y="921"/>
                  </a:lnTo>
                  <a:lnTo>
                    <a:pt x="7123" y="604"/>
                  </a:lnTo>
                  <a:lnTo>
                    <a:pt x="6950" y="377"/>
                  </a:lnTo>
                  <a:lnTo>
                    <a:pt x="6690" y="174"/>
                  </a:lnTo>
                  <a:lnTo>
                    <a:pt x="7123" y="491"/>
                  </a:lnTo>
                  <a:lnTo>
                    <a:pt x="7355" y="834"/>
                  </a:lnTo>
                  <a:lnTo>
                    <a:pt x="7469" y="1180"/>
                  </a:lnTo>
                  <a:lnTo>
                    <a:pt x="7499" y="1526"/>
                  </a:lnTo>
                  <a:lnTo>
                    <a:pt x="7499" y="1869"/>
                  </a:lnTo>
                  <a:lnTo>
                    <a:pt x="7411" y="2215"/>
                  </a:lnTo>
                  <a:lnTo>
                    <a:pt x="7267" y="2531"/>
                  </a:lnTo>
                  <a:lnTo>
                    <a:pt x="7008" y="2905"/>
                  </a:lnTo>
                  <a:lnTo>
                    <a:pt x="6633" y="3280"/>
                  </a:lnTo>
                  <a:lnTo>
                    <a:pt x="6403" y="3680"/>
                  </a:lnTo>
                  <a:lnTo>
                    <a:pt x="6228" y="4142"/>
                  </a:lnTo>
                  <a:lnTo>
                    <a:pt x="6172" y="4574"/>
                  </a:lnTo>
                  <a:lnTo>
                    <a:pt x="6172" y="5178"/>
                  </a:lnTo>
                  <a:lnTo>
                    <a:pt x="6144" y="5694"/>
                  </a:lnTo>
                  <a:lnTo>
                    <a:pt x="6085" y="6212"/>
                  </a:lnTo>
                  <a:lnTo>
                    <a:pt x="5970" y="6673"/>
                  </a:lnTo>
                  <a:lnTo>
                    <a:pt x="5797" y="7105"/>
                  </a:lnTo>
                  <a:lnTo>
                    <a:pt x="5566" y="7422"/>
                  </a:lnTo>
                  <a:lnTo>
                    <a:pt x="5306" y="7681"/>
                  </a:lnTo>
                  <a:lnTo>
                    <a:pt x="6172" y="7651"/>
                  </a:lnTo>
                  <a:lnTo>
                    <a:pt x="6749" y="7737"/>
                  </a:lnTo>
                  <a:lnTo>
                    <a:pt x="6950" y="7708"/>
                  </a:lnTo>
                  <a:lnTo>
                    <a:pt x="7181" y="7624"/>
                  </a:lnTo>
                  <a:lnTo>
                    <a:pt x="7555" y="7593"/>
                  </a:lnTo>
                  <a:lnTo>
                    <a:pt x="7931" y="7593"/>
                  </a:lnTo>
                  <a:lnTo>
                    <a:pt x="8420" y="7681"/>
                  </a:lnTo>
                  <a:lnTo>
                    <a:pt x="8565" y="7795"/>
                  </a:lnTo>
                  <a:lnTo>
                    <a:pt x="8537" y="7851"/>
                  </a:lnTo>
                  <a:lnTo>
                    <a:pt x="8363" y="7910"/>
                  </a:lnTo>
                  <a:lnTo>
                    <a:pt x="7987" y="7910"/>
                  </a:lnTo>
                  <a:lnTo>
                    <a:pt x="7669" y="7939"/>
                  </a:lnTo>
                  <a:lnTo>
                    <a:pt x="7527" y="8024"/>
                  </a:lnTo>
                  <a:lnTo>
                    <a:pt x="7469" y="8054"/>
                  </a:lnTo>
                  <a:lnTo>
                    <a:pt x="7355" y="8197"/>
                  </a:lnTo>
                  <a:lnTo>
                    <a:pt x="7151" y="8340"/>
                  </a:lnTo>
                  <a:lnTo>
                    <a:pt x="6921" y="8486"/>
                  </a:lnTo>
                  <a:lnTo>
                    <a:pt x="6546" y="8571"/>
                  </a:lnTo>
                  <a:lnTo>
                    <a:pt x="5853" y="8715"/>
                  </a:lnTo>
                  <a:lnTo>
                    <a:pt x="4788" y="8830"/>
                  </a:lnTo>
                  <a:lnTo>
                    <a:pt x="3634" y="8830"/>
                  </a:lnTo>
                  <a:lnTo>
                    <a:pt x="2826" y="8801"/>
                  </a:lnTo>
                  <a:lnTo>
                    <a:pt x="2192" y="8685"/>
                  </a:lnTo>
                  <a:lnTo>
                    <a:pt x="1731" y="8629"/>
                  </a:lnTo>
                  <a:lnTo>
                    <a:pt x="1471" y="8542"/>
                  </a:lnTo>
                  <a:lnTo>
                    <a:pt x="1443" y="8456"/>
                  </a:lnTo>
                  <a:lnTo>
                    <a:pt x="1500" y="8399"/>
                  </a:lnTo>
                  <a:lnTo>
                    <a:pt x="1644" y="8313"/>
                  </a:lnTo>
                  <a:lnTo>
                    <a:pt x="1213" y="8024"/>
                  </a:lnTo>
                  <a:lnTo>
                    <a:pt x="865" y="7708"/>
                  </a:lnTo>
                  <a:lnTo>
                    <a:pt x="576" y="7363"/>
                  </a:lnTo>
                  <a:lnTo>
                    <a:pt x="377" y="7046"/>
                  </a:lnTo>
                  <a:lnTo>
                    <a:pt x="202" y="6646"/>
                  </a:lnTo>
                  <a:lnTo>
                    <a:pt x="88" y="6300"/>
                  </a:lnTo>
                  <a:lnTo>
                    <a:pt x="0" y="5867"/>
                  </a:lnTo>
                  <a:lnTo>
                    <a:pt x="29" y="5294"/>
                  </a:lnTo>
                  <a:lnTo>
                    <a:pt x="88" y="4860"/>
                  </a:lnTo>
                  <a:lnTo>
                    <a:pt x="232" y="4344"/>
                  </a:lnTo>
                  <a:lnTo>
                    <a:pt x="520" y="3740"/>
                  </a:lnTo>
                  <a:lnTo>
                    <a:pt x="865" y="3338"/>
                  </a:lnTo>
                  <a:lnTo>
                    <a:pt x="1241" y="3021"/>
                  </a:lnTo>
                  <a:lnTo>
                    <a:pt x="1731" y="2733"/>
                  </a:lnTo>
                  <a:lnTo>
                    <a:pt x="2280" y="2560"/>
                  </a:lnTo>
                  <a:lnTo>
                    <a:pt x="2942" y="2302"/>
                  </a:lnTo>
                  <a:lnTo>
                    <a:pt x="3431" y="2014"/>
                  </a:lnTo>
                  <a:lnTo>
                    <a:pt x="3923" y="1641"/>
                  </a:lnTo>
                  <a:lnTo>
                    <a:pt x="4297" y="1180"/>
                  </a:lnTo>
                  <a:lnTo>
                    <a:pt x="4585" y="777"/>
                  </a:lnTo>
                  <a:lnTo>
                    <a:pt x="4788" y="491"/>
                  </a:lnTo>
                  <a:lnTo>
                    <a:pt x="5046" y="260"/>
                  </a:lnTo>
                  <a:lnTo>
                    <a:pt x="5277" y="116"/>
                  </a:lnTo>
                  <a:lnTo>
                    <a:pt x="5566" y="31"/>
                  </a:lnTo>
                  <a:lnTo>
                    <a:pt x="59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28"/>
            <p:cNvSpPr/>
            <p:nvPr/>
          </p:nvSpPr>
          <p:spPr>
            <a:xfrm>
              <a:off x="8685000" y="243000"/>
              <a:ext cx="87840" cy="11988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1096" h="1208">
                  <a:moveTo>
                    <a:pt x="116" y="1151"/>
                  </a:moveTo>
                  <a:lnTo>
                    <a:pt x="260" y="892"/>
                  </a:lnTo>
                  <a:lnTo>
                    <a:pt x="490" y="662"/>
                  </a:lnTo>
                  <a:lnTo>
                    <a:pt x="778" y="490"/>
                  </a:lnTo>
                  <a:lnTo>
                    <a:pt x="1096" y="317"/>
                  </a:lnTo>
                  <a:lnTo>
                    <a:pt x="894" y="0"/>
                  </a:lnTo>
                  <a:lnTo>
                    <a:pt x="518" y="230"/>
                  </a:lnTo>
                  <a:lnTo>
                    <a:pt x="288" y="459"/>
                  </a:lnTo>
                  <a:lnTo>
                    <a:pt x="116" y="691"/>
                  </a:lnTo>
                  <a:lnTo>
                    <a:pt x="0" y="949"/>
                  </a:lnTo>
                  <a:lnTo>
                    <a:pt x="200" y="634"/>
                  </a:lnTo>
                  <a:lnTo>
                    <a:pt x="432" y="376"/>
                  </a:lnTo>
                  <a:lnTo>
                    <a:pt x="866" y="86"/>
                  </a:lnTo>
                  <a:lnTo>
                    <a:pt x="980" y="317"/>
                  </a:lnTo>
                  <a:lnTo>
                    <a:pt x="577" y="490"/>
                  </a:lnTo>
                  <a:lnTo>
                    <a:pt x="317" y="691"/>
                  </a:lnTo>
                  <a:lnTo>
                    <a:pt x="173" y="949"/>
                  </a:lnTo>
                  <a:lnTo>
                    <a:pt x="57" y="1208"/>
                  </a:lnTo>
                  <a:lnTo>
                    <a:pt x="116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Allocating Under- or Overapplied</a:t>
            </a:r>
            <a:br>
              <a:rPr sz="3200"/>
            </a:b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Overhead Between Accounts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4" name="Text Box 4"/>
          <p:cNvSpPr/>
          <p:nvPr/>
        </p:nvSpPr>
        <p:spPr>
          <a:xfrm>
            <a:off x="457200" y="159876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the overhead applied in ending Work in Process Inventory, ending Finished Goods Inventory, and Cost of Goods Sold is shown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5" descr="MCBS01688_0000[1]"/>
          <p:cNvPicPr/>
          <p:nvPr/>
        </p:nvPicPr>
        <p:blipFill>
          <a:blip r:embed="rId1"/>
          <a:stretch/>
        </p:blipFill>
        <p:spPr>
          <a:xfrm>
            <a:off x="3657600" y="5103720"/>
            <a:ext cx="2057400" cy="1449360"/>
          </a:xfrm>
          <a:prstGeom prst="rect">
            <a:avLst/>
          </a:prstGeom>
          <a:ln w="0">
            <a:noFill/>
          </a:ln>
        </p:spPr>
      </p:pic>
      <p:grpSp>
        <p:nvGrpSpPr>
          <p:cNvPr id="756" name="Group 122"/>
          <p:cNvGrpSpPr/>
          <p:nvPr/>
        </p:nvGrpSpPr>
        <p:grpSpPr>
          <a:xfrm>
            <a:off x="8158320" y="243000"/>
            <a:ext cx="680760" cy="975960"/>
            <a:chOff x="8158320" y="243000"/>
            <a:chExt cx="680760" cy="975960"/>
          </a:xfrm>
        </p:grpSpPr>
        <p:sp>
          <p:nvSpPr>
            <p:cNvPr id="757" name="Freeform 123"/>
            <p:cNvSpPr/>
            <p:nvPr/>
          </p:nvSpPr>
          <p:spPr>
            <a:xfrm>
              <a:off x="8184960" y="340560"/>
              <a:ext cx="544680" cy="709920"/>
            </a:xfrm>
            <a:custGeom>
              <a:avLst/>
              <a:gdLst>
                <a:gd name="textAreaLeft" fmla="*/ 0 w 544680"/>
                <a:gd name="textAreaRight" fmla="*/ 545040 w 544680"/>
                <a:gd name="textAreaTop" fmla="*/ 0 h 709920"/>
                <a:gd name="textAreaBottom" fmla="*/ 710280 h 709920"/>
              </a:gdLst>
              <a:ahLst/>
              <a:rect l="textAreaLeft" t="textAreaTop" r="textAreaRight" b="textAreaBottom"/>
              <a:pathLst>
                <a:path w="6835" h="7134">
                  <a:moveTo>
                    <a:pt x="174" y="3970"/>
                  </a:moveTo>
                  <a:lnTo>
                    <a:pt x="0" y="4746"/>
                  </a:lnTo>
                  <a:lnTo>
                    <a:pt x="230" y="5867"/>
                  </a:lnTo>
                  <a:lnTo>
                    <a:pt x="1904" y="7134"/>
                  </a:lnTo>
                  <a:lnTo>
                    <a:pt x="4730" y="6356"/>
                  </a:lnTo>
                  <a:lnTo>
                    <a:pt x="5393" y="3768"/>
                  </a:lnTo>
                  <a:lnTo>
                    <a:pt x="6835" y="1553"/>
                  </a:lnTo>
                  <a:lnTo>
                    <a:pt x="6777" y="547"/>
                  </a:lnTo>
                  <a:lnTo>
                    <a:pt x="6317" y="174"/>
                  </a:lnTo>
                  <a:lnTo>
                    <a:pt x="5882" y="31"/>
                  </a:lnTo>
                  <a:lnTo>
                    <a:pt x="5537" y="0"/>
                  </a:lnTo>
                  <a:lnTo>
                    <a:pt x="4990" y="87"/>
                  </a:lnTo>
                  <a:lnTo>
                    <a:pt x="4557" y="433"/>
                  </a:lnTo>
                  <a:lnTo>
                    <a:pt x="4212" y="865"/>
                  </a:lnTo>
                  <a:lnTo>
                    <a:pt x="3894" y="1410"/>
                  </a:lnTo>
                  <a:lnTo>
                    <a:pt x="3546" y="1755"/>
                  </a:lnTo>
                  <a:lnTo>
                    <a:pt x="3058" y="2101"/>
                  </a:lnTo>
                  <a:lnTo>
                    <a:pt x="2596" y="2387"/>
                  </a:lnTo>
                  <a:lnTo>
                    <a:pt x="1961" y="2560"/>
                  </a:lnTo>
                  <a:lnTo>
                    <a:pt x="1269" y="2877"/>
                  </a:lnTo>
                  <a:lnTo>
                    <a:pt x="663" y="3338"/>
                  </a:lnTo>
                  <a:lnTo>
                    <a:pt x="174" y="397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24"/>
            <p:cNvSpPr/>
            <p:nvPr/>
          </p:nvSpPr>
          <p:spPr>
            <a:xfrm>
              <a:off x="8678520" y="251280"/>
              <a:ext cx="88920" cy="111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123" h="1122">
                  <a:moveTo>
                    <a:pt x="203" y="1122"/>
                  </a:moveTo>
                  <a:lnTo>
                    <a:pt x="347" y="806"/>
                  </a:lnTo>
                  <a:lnTo>
                    <a:pt x="577" y="548"/>
                  </a:lnTo>
                  <a:lnTo>
                    <a:pt x="1123" y="231"/>
                  </a:lnTo>
                  <a:lnTo>
                    <a:pt x="923" y="0"/>
                  </a:lnTo>
                  <a:lnTo>
                    <a:pt x="491" y="290"/>
                  </a:lnTo>
                  <a:lnTo>
                    <a:pt x="231" y="548"/>
                  </a:lnTo>
                  <a:lnTo>
                    <a:pt x="0" y="1036"/>
                  </a:lnTo>
                  <a:lnTo>
                    <a:pt x="203" y="1122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25"/>
            <p:cNvSpPr/>
            <p:nvPr/>
          </p:nvSpPr>
          <p:spPr>
            <a:xfrm>
              <a:off x="8551440" y="389160"/>
              <a:ext cx="41040" cy="68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21" h="691">
                  <a:moveTo>
                    <a:pt x="444" y="315"/>
                  </a:moveTo>
                  <a:lnTo>
                    <a:pt x="521" y="126"/>
                  </a:lnTo>
                  <a:lnTo>
                    <a:pt x="394" y="0"/>
                  </a:lnTo>
                  <a:lnTo>
                    <a:pt x="172" y="155"/>
                  </a:lnTo>
                  <a:lnTo>
                    <a:pt x="0" y="473"/>
                  </a:lnTo>
                  <a:lnTo>
                    <a:pt x="48" y="691"/>
                  </a:lnTo>
                  <a:lnTo>
                    <a:pt x="270" y="628"/>
                  </a:lnTo>
                  <a:lnTo>
                    <a:pt x="394" y="502"/>
                  </a:lnTo>
                  <a:lnTo>
                    <a:pt x="444" y="315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6"/>
            <p:cNvSpPr/>
            <p:nvPr/>
          </p:nvSpPr>
          <p:spPr>
            <a:xfrm>
              <a:off x="8162640" y="357480"/>
              <a:ext cx="582480" cy="83952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839520"/>
                <a:gd name="textAreaBottom" fmla="*/ 839880 h 839520"/>
              </a:gdLst>
              <a:ahLst/>
              <a:rect l="textAreaLeft" t="textAreaTop" r="textAreaRight" b="textAreaBottom"/>
              <a:pathLst>
                <a:path w="7324" h="8425">
                  <a:moveTo>
                    <a:pt x="6718" y="0"/>
                  </a:moveTo>
                  <a:lnTo>
                    <a:pt x="6805" y="229"/>
                  </a:lnTo>
                  <a:lnTo>
                    <a:pt x="6862" y="401"/>
                  </a:lnTo>
                  <a:lnTo>
                    <a:pt x="6891" y="632"/>
                  </a:lnTo>
                  <a:lnTo>
                    <a:pt x="6862" y="804"/>
                  </a:lnTo>
                  <a:lnTo>
                    <a:pt x="6805" y="978"/>
                  </a:lnTo>
                  <a:lnTo>
                    <a:pt x="6718" y="1150"/>
                  </a:lnTo>
                  <a:lnTo>
                    <a:pt x="6604" y="1379"/>
                  </a:lnTo>
                  <a:lnTo>
                    <a:pt x="6400" y="1553"/>
                  </a:lnTo>
                  <a:lnTo>
                    <a:pt x="5998" y="2099"/>
                  </a:lnTo>
                  <a:lnTo>
                    <a:pt x="5794" y="2415"/>
                  </a:lnTo>
                  <a:lnTo>
                    <a:pt x="5593" y="2847"/>
                  </a:lnTo>
                  <a:lnTo>
                    <a:pt x="5450" y="3393"/>
                  </a:lnTo>
                  <a:lnTo>
                    <a:pt x="5277" y="3968"/>
                  </a:lnTo>
                  <a:lnTo>
                    <a:pt x="5131" y="4370"/>
                  </a:lnTo>
                  <a:lnTo>
                    <a:pt x="4901" y="4802"/>
                  </a:lnTo>
                  <a:lnTo>
                    <a:pt x="4613" y="5148"/>
                  </a:lnTo>
                  <a:lnTo>
                    <a:pt x="4268" y="5494"/>
                  </a:lnTo>
                  <a:lnTo>
                    <a:pt x="3893" y="5693"/>
                  </a:lnTo>
                  <a:lnTo>
                    <a:pt x="3288" y="5924"/>
                  </a:lnTo>
                  <a:lnTo>
                    <a:pt x="2651" y="6038"/>
                  </a:lnTo>
                  <a:lnTo>
                    <a:pt x="2221" y="6095"/>
                  </a:lnTo>
                  <a:lnTo>
                    <a:pt x="1642" y="6067"/>
                  </a:lnTo>
                  <a:lnTo>
                    <a:pt x="1268" y="5953"/>
                  </a:lnTo>
                  <a:lnTo>
                    <a:pt x="950" y="5752"/>
                  </a:lnTo>
                  <a:lnTo>
                    <a:pt x="721" y="5520"/>
                  </a:lnTo>
                  <a:lnTo>
                    <a:pt x="517" y="5262"/>
                  </a:lnTo>
                  <a:lnTo>
                    <a:pt x="432" y="4975"/>
                  </a:lnTo>
                  <a:lnTo>
                    <a:pt x="374" y="4630"/>
                  </a:lnTo>
                  <a:lnTo>
                    <a:pt x="432" y="4226"/>
                  </a:lnTo>
                  <a:lnTo>
                    <a:pt x="517" y="3796"/>
                  </a:lnTo>
                  <a:lnTo>
                    <a:pt x="143" y="4543"/>
                  </a:lnTo>
                  <a:lnTo>
                    <a:pt x="0" y="5348"/>
                  </a:lnTo>
                  <a:lnTo>
                    <a:pt x="56" y="5866"/>
                  </a:lnTo>
                  <a:lnTo>
                    <a:pt x="202" y="6472"/>
                  </a:lnTo>
                  <a:lnTo>
                    <a:pt x="517" y="7073"/>
                  </a:lnTo>
                  <a:lnTo>
                    <a:pt x="1038" y="7677"/>
                  </a:lnTo>
                  <a:lnTo>
                    <a:pt x="1672" y="8109"/>
                  </a:lnTo>
                  <a:lnTo>
                    <a:pt x="2451" y="8425"/>
                  </a:lnTo>
                  <a:lnTo>
                    <a:pt x="3345" y="8425"/>
                  </a:lnTo>
                  <a:lnTo>
                    <a:pt x="4064" y="8253"/>
                  </a:lnTo>
                  <a:lnTo>
                    <a:pt x="4729" y="7880"/>
                  </a:lnTo>
                  <a:lnTo>
                    <a:pt x="5162" y="7507"/>
                  </a:lnTo>
                  <a:lnTo>
                    <a:pt x="5564" y="7045"/>
                  </a:lnTo>
                  <a:lnTo>
                    <a:pt x="5794" y="6528"/>
                  </a:lnTo>
                  <a:lnTo>
                    <a:pt x="5911" y="6038"/>
                  </a:lnTo>
                  <a:lnTo>
                    <a:pt x="5969" y="5520"/>
                  </a:lnTo>
                  <a:lnTo>
                    <a:pt x="6026" y="4370"/>
                  </a:lnTo>
                  <a:lnTo>
                    <a:pt x="6142" y="3796"/>
                  </a:lnTo>
                  <a:lnTo>
                    <a:pt x="6315" y="3364"/>
                  </a:lnTo>
                  <a:lnTo>
                    <a:pt x="6516" y="3049"/>
                  </a:lnTo>
                  <a:lnTo>
                    <a:pt x="6805" y="2731"/>
                  </a:lnTo>
                  <a:lnTo>
                    <a:pt x="7064" y="2386"/>
                  </a:lnTo>
                  <a:lnTo>
                    <a:pt x="7236" y="2071"/>
                  </a:lnTo>
                  <a:lnTo>
                    <a:pt x="7296" y="1725"/>
                  </a:lnTo>
                  <a:lnTo>
                    <a:pt x="7324" y="1437"/>
                  </a:lnTo>
                  <a:lnTo>
                    <a:pt x="7324" y="1093"/>
                  </a:lnTo>
                  <a:lnTo>
                    <a:pt x="7208" y="691"/>
                  </a:lnTo>
                  <a:lnTo>
                    <a:pt x="7092" y="461"/>
                  </a:lnTo>
                  <a:lnTo>
                    <a:pt x="6978" y="286"/>
                  </a:lnTo>
                  <a:lnTo>
                    <a:pt x="6718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27"/>
            <p:cNvSpPr/>
            <p:nvPr/>
          </p:nvSpPr>
          <p:spPr>
            <a:xfrm>
              <a:off x="8158320" y="340560"/>
              <a:ext cx="680760" cy="87840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878400"/>
                <a:gd name="textAreaBottom" fmla="*/ 878760 h 878400"/>
              </a:gdLst>
              <a:ahLst/>
              <a:rect l="textAreaLeft" t="textAreaTop" r="textAreaRight" b="textAreaBottom"/>
              <a:pathLst>
                <a:path w="8565" h="8830">
                  <a:moveTo>
                    <a:pt x="5997" y="0"/>
                  </a:moveTo>
                  <a:lnTo>
                    <a:pt x="5509" y="116"/>
                  </a:lnTo>
                  <a:lnTo>
                    <a:pt x="5163" y="289"/>
                  </a:lnTo>
                  <a:lnTo>
                    <a:pt x="4903" y="519"/>
                  </a:lnTo>
                  <a:lnTo>
                    <a:pt x="4701" y="777"/>
                  </a:lnTo>
                  <a:lnTo>
                    <a:pt x="4499" y="1123"/>
                  </a:lnTo>
                  <a:lnTo>
                    <a:pt x="4268" y="1438"/>
                  </a:lnTo>
                  <a:lnTo>
                    <a:pt x="4037" y="1727"/>
                  </a:lnTo>
                  <a:lnTo>
                    <a:pt x="3634" y="2042"/>
                  </a:lnTo>
                  <a:lnTo>
                    <a:pt x="3287" y="2273"/>
                  </a:lnTo>
                  <a:lnTo>
                    <a:pt x="2855" y="2475"/>
                  </a:lnTo>
                  <a:lnTo>
                    <a:pt x="2423" y="2646"/>
                  </a:lnTo>
                  <a:lnTo>
                    <a:pt x="1818" y="2877"/>
                  </a:lnTo>
                  <a:lnTo>
                    <a:pt x="1182" y="3280"/>
                  </a:lnTo>
                  <a:lnTo>
                    <a:pt x="720" y="3768"/>
                  </a:lnTo>
                  <a:lnTo>
                    <a:pt x="491" y="4228"/>
                  </a:lnTo>
                  <a:lnTo>
                    <a:pt x="232" y="4976"/>
                  </a:lnTo>
                  <a:lnTo>
                    <a:pt x="145" y="5522"/>
                  </a:lnTo>
                  <a:lnTo>
                    <a:pt x="232" y="6300"/>
                  </a:lnTo>
                  <a:lnTo>
                    <a:pt x="491" y="6932"/>
                  </a:lnTo>
                  <a:lnTo>
                    <a:pt x="865" y="7422"/>
                  </a:lnTo>
                  <a:lnTo>
                    <a:pt x="1270" y="7851"/>
                  </a:lnTo>
                  <a:lnTo>
                    <a:pt x="1701" y="8169"/>
                  </a:lnTo>
                  <a:lnTo>
                    <a:pt x="2250" y="8399"/>
                  </a:lnTo>
                  <a:lnTo>
                    <a:pt x="2826" y="8514"/>
                  </a:lnTo>
                  <a:lnTo>
                    <a:pt x="3431" y="8486"/>
                  </a:lnTo>
                  <a:lnTo>
                    <a:pt x="4037" y="8370"/>
                  </a:lnTo>
                  <a:lnTo>
                    <a:pt x="4529" y="8112"/>
                  </a:lnTo>
                  <a:lnTo>
                    <a:pt x="4932" y="7851"/>
                  </a:lnTo>
                  <a:lnTo>
                    <a:pt x="5306" y="7478"/>
                  </a:lnTo>
                  <a:lnTo>
                    <a:pt x="5595" y="7134"/>
                  </a:lnTo>
                  <a:lnTo>
                    <a:pt x="5768" y="6760"/>
                  </a:lnTo>
                  <a:lnTo>
                    <a:pt x="5913" y="6269"/>
                  </a:lnTo>
                  <a:lnTo>
                    <a:pt x="5970" y="5839"/>
                  </a:lnTo>
                  <a:lnTo>
                    <a:pt x="5997" y="5408"/>
                  </a:lnTo>
                  <a:lnTo>
                    <a:pt x="5997" y="4948"/>
                  </a:lnTo>
                  <a:lnTo>
                    <a:pt x="6028" y="4431"/>
                  </a:lnTo>
                  <a:lnTo>
                    <a:pt x="6144" y="3912"/>
                  </a:lnTo>
                  <a:lnTo>
                    <a:pt x="6287" y="3597"/>
                  </a:lnTo>
                  <a:lnTo>
                    <a:pt x="6546" y="3164"/>
                  </a:lnTo>
                  <a:lnTo>
                    <a:pt x="6864" y="2819"/>
                  </a:lnTo>
                  <a:lnTo>
                    <a:pt x="7151" y="2446"/>
                  </a:lnTo>
                  <a:lnTo>
                    <a:pt x="7267" y="2129"/>
                  </a:lnTo>
                  <a:lnTo>
                    <a:pt x="7355" y="1755"/>
                  </a:lnTo>
                  <a:lnTo>
                    <a:pt x="7355" y="1410"/>
                  </a:lnTo>
                  <a:lnTo>
                    <a:pt x="7267" y="921"/>
                  </a:lnTo>
                  <a:lnTo>
                    <a:pt x="7123" y="604"/>
                  </a:lnTo>
                  <a:lnTo>
                    <a:pt x="6950" y="377"/>
                  </a:lnTo>
                  <a:lnTo>
                    <a:pt x="6690" y="174"/>
                  </a:lnTo>
                  <a:lnTo>
                    <a:pt x="7123" y="491"/>
                  </a:lnTo>
                  <a:lnTo>
                    <a:pt x="7355" y="834"/>
                  </a:lnTo>
                  <a:lnTo>
                    <a:pt x="7469" y="1180"/>
                  </a:lnTo>
                  <a:lnTo>
                    <a:pt x="7499" y="1526"/>
                  </a:lnTo>
                  <a:lnTo>
                    <a:pt x="7499" y="1869"/>
                  </a:lnTo>
                  <a:lnTo>
                    <a:pt x="7411" y="2215"/>
                  </a:lnTo>
                  <a:lnTo>
                    <a:pt x="7267" y="2531"/>
                  </a:lnTo>
                  <a:lnTo>
                    <a:pt x="7008" y="2905"/>
                  </a:lnTo>
                  <a:lnTo>
                    <a:pt x="6633" y="3280"/>
                  </a:lnTo>
                  <a:lnTo>
                    <a:pt x="6403" y="3680"/>
                  </a:lnTo>
                  <a:lnTo>
                    <a:pt x="6228" y="4142"/>
                  </a:lnTo>
                  <a:lnTo>
                    <a:pt x="6172" y="4574"/>
                  </a:lnTo>
                  <a:lnTo>
                    <a:pt x="6172" y="5178"/>
                  </a:lnTo>
                  <a:lnTo>
                    <a:pt x="6144" y="5694"/>
                  </a:lnTo>
                  <a:lnTo>
                    <a:pt x="6085" y="6212"/>
                  </a:lnTo>
                  <a:lnTo>
                    <a:pt x="5970" y="6673"/>
                  </a:lnTo>
                  <a:lnTo>
                    <a:pt x="5797" y="7105"/>
                  </a:lnTo>
                  <a:lnTo>
                    <a:pt x="5566" y="7422"/>
                  </a:lnTo>
                  <a:lnTo>
                    <a:pt x="5306" y="7681"/>
                  </a:lnTo>
                  <a:lnTo>
                    <a:pt x="6172" y="7651"/>
                  </a:lnTo>
                  <a:lnTo>
                    <a:pt x="6749" y="7737"/>
                  </a:lnTo>
                  <a:lnTo>
                    <a:pt x="6950" y="7708"/>
                  </a:lnTo>
                  <a:lnTo>
                    <a:pt x="7181" y="7624"/>
                  </a:lnTo>
                  <a:lnTo>
                    <a:pt x="7555" y="7593"/>
                  </a:lnTo>
                  <a:lnTo>
                    <a:pt x="7931" y="7593"/>
                  </a:lnTo>
                  <a:lnTo>
                    <a:pt x="8420" y="7681"/>
                  </a:lnTo>
                  <a:lnTo>
                    <a:pt x="8565" y="7795"/>
                  </a:lnTo>
                  <a:lnTo>
                    <a:pt x="8537" y="7851"/>
                  </a:lnTo>
                  <a:lnTo>
                    <a:pt x="8363" y="7910"/>
                  </a:lnTo>
                  <a:lnTo>
                    <a:pt x="7987" y="7910"/>
                  </a:lnTo>
                  <a:lnTo>
                    <a:pt x="7669" y="7939"/>
                  </a:lnTo>
                  <a:lnTo>
                    <a:pt x="7527" y="8024"/>
                  </a:lnTo>
                  <a:lnTo>
                    <a:pt x="7469" y="8054"/>
                  </a:lnTo>
                  <a:lnTo>
                    <a:pt x="7355" y="8197"/>
                  </a:lnTo>
                  <a:lnTo>
                    <a:pt x="7151" y="8340"/>
                  </a:lnTo>
                  <a:lnTo>
                    <a:pt x="6921" y="8486"/>
                  </a:lnTo>
                  <a:lnTo>
                    <a:pt x="6546" y="8571"/>
                  </a:lnTo>
                  <a:lnTo>
                    <a:pt x="5853" y="8715"/>
                  </a:lnTo>
                  <a:lnTo>
                    <a:pt x="4788" y="8830"/>
                  </a:lnTo>
                  <a:lnTo>
                    <a:pt x="3634" y="8830"/>
                  </a:lnTo>
                  <a:lnTo>
                    <a:pt x="2826" y="8801"/>
                  </a:lnTo>
                  <a:lnTo>
                    <a:pt x="2192" y="8685"/>
                  </a:lnTo>
                  <a:lnTo>
                    <a:pt x="1731" y="8629"/>
                  </a:lnTo>
                  <a:lnTo>
                    <a:pt x="1471" y="8542"/>
                  </a:lnTo>
                  <a:lnTo>
                    <a:pt x="1443" y="8456"/>
                  </a:lnTo>
                  <a:lnTo>
                    <a:pt x="1500" y="8399"/>
                  </a:lnTo>
                  <a:lnTo>
                    <a:pt x="1644" y="8313"/>
                  </a:lnTo>
                  <a:lnTo>
                    <a:pt x="1213" y="8024"/>
                  </a:lnTo>
                  <a:lnTo>
                    <a:pt x="865" y="7708"/>
                  </a:lnTo>
                  <a:lnTo>
                    <a:pt x="576" y="7363"/>
                  </a:lnTo>
                  <a:lnTo>
                    <a:pt x="377" y="7046"/>
                  </a:lnTo>
                  <a:lnTo>
                    <a:pt x="202" y="6646"/>
                  </a:lnTo>
                  <a:lnTo>
                    <a:pt x="88" y="6300"/>
                  </a:lnTo>
                  <a:lnTo>
                    <a:pt x="0" y="5867"/>
                  </a:lnTo>
                  <a:lnTo>
                    <a:pt x="29" y="5294"/>
                  </a:lnTo>
                  <a:lnTo>
                    <a:pt x="88" y="4860"/>
                  </a:lnTo>
                  <a:lnTo>
                    <a:pt x="232" y="4344"/>
                  </a:lnTo>
                  <a:lnTo>
                    <a:pt x="520" y="3740"/>
                  </a:lnTo>
                  <a:lnTo>
                    <a:pt x="865" y="3338"/>
                  </a:lnTo>
                  <a:lnTo>
                    <a:pt x="1241" y="3021"/>
                  </a:lnTo>
                  <a:lnTo>
                    <a:pt x="1731" y="2733"/>
                  </a:lnTo>
                  <a:lnTo>
                    <a:pt x="2280" y="2560"/>
                  </a:lnTo>
                  <a:lnTo>
                    <a:pt x="2942" y="2302"/>
                  </a:lnTo>
                  <a:lnTo>
                    <a:pt x="3431" y="2014"/>
                  </a:lnTo>
                  <a:lnTo>
                    <a:pt x="3923" y="1641"/>
                  </a:lnTo>
                  <a:lnTo>
                    <a:pt x="4297" y="1180"/>
                  </a:lnTo>
                  <a:lnTo>
                    <a:pt x="4585" y="777"/>
                  </a:lnTo>
                  <a:lnTo>
                    <a:pt x="4788" y="491"/>
                  </a:lnTo>
                  <a:lnTo>
                    <a:pt x="5046" y="260"/>
                  </a:lnTo>
                  <a:lnTo>
                    <a:pt x="5277" y="116"/>
                  </a:lnTo>
                  <a:lnTo>
                    <a:pt x="5566" y="31"/>
                  </a:lnTo>
                  <a:lnTo>
                    <a:pt x="59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28"/>
            <p:cNvSpPr/>
            <p:nvPr/>
          </p:nvSpPr>
          <p:spPr>
            <a:xfrm>
              <a:off x="8685000" y="243000"/>
              <a:ext cx="87840" cy="11988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1096" h="1208">
                  <a:moveTo>
                    <a:pt x="116" y="1151"/>
                  </a:moveTo>
                  <a:lnTo>
                    <a:pt x="260" y="892"/>
                  </a:lnTo>
                  <a:lnTo>
                    <a:pt x="490" y="662"/>
                  </a:lnTo>
                  <a:lnTo>
                    <a:pt x="778" y="490"/>
                  </a:lnTo>
                  <a:lnTo>
                    <a:pt x="1096" y="317"/>
                  </a:lnTo>
                  <a:lnTo>
                    <a:pt x="894" y="0"/>
                  </a:lnTo>
                  <a:lnTo>
                    <a:pt x="518" y="230"/>
                  </a:lnTo>
                  <a:lnTo>
                    <a:pt x="288" y="459"/>
                  </a:lnTo>
                  <a:lnTo>
                    <a:pt x="116" y="691"/>
                  </a:lnTo>
                  <a:lnTo>
                    <a:pt x="0" y="949"/>
                  </a:lnTo>
                  <a:lnTo>
                    <a:pt x="200" y="634"/>
                  </a:lnTo>
                  <a:lnTo>
                    <a:pt x="432" y="376"/>
                  </a:lnTo>
                  <a:lnTo>
                    <a:pt x="866" y="86"/>
                  </a:lnTo>
                  <a:lnTo>
                    <a:pt x="980" y="317"/>
                  </a:lnTo>
                  <a:lnTo>
                    <a:pt x="577" y="490"/>
                  </a:lnTo>
                  <a:lnTo>
                    <a:pt x="317" y="691"/>
                  </a:lnTo>
                  <a:lnTo>
                    <a:pt x="173" y="949"/>
                  </a:lnTo>
                  <a:lnTo>
                    <a:pt x="57" y="1208"/>
                  </a:lnTo>
                  <a:lnTo>
                    <a:pt x="116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63" name="Object 2"/>
          <p:cNvGraphicFramePr/>
          <p:nvPr/>
        </p:nvGraphicFramePr>
        <p:xfrm>
          <a:off x="554040" y="3048120"/>
          <a:ext cx="7983360" cy="2139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6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4040" y="3048120"/>
                    <a:ext cx="798336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Allocating Under- or Overapplied</a:t>
            </a:r>
            <a:br>
              <a:rPr sz="3200"/>
            </a:b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Overhead Between Accounts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766" name="Object 2"/>
          <p:cNvGraphicFramePr/>
          <p:nvPr/>
        </p:nvGraphicFramePr>
        <p:xfrm>
          <a:off x="554040" y="3048120"/>
          <a:ext cx="7983360" cy="213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048120"/>
                    <a:ext cx="798336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8" name="Text Box 4"/>
          <p:cNvSpPr/>
          <p:nvPr/>
        </p:nvSpPr>
        <p:spPr>
          <a:xfrm>
            <a:off x="457200" y="17208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ould complete the following allocation of $30,000 overapplied overhe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5"/>
          <p:cNvSpPr/>
          <p:nvPr/>
        </p:nvSpPr>
        <p:spPr>
          <a:xfrm>
            <a:off x="5943600" y="5410080"/>
            <a:ext cx="2819520" cy="398880"/>
          </a:xfrm>
          <a:prstGeom prst="rect">
            <a:avLst/>
          </a:prstGeom>
          <a:solidFill>
            <a:srgbClr val="23263c"/>
          </a:solidFill>
          <a:ln w="9360">
            <a:solidFill>
              <a:srgbClr val="878bb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% × $3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0" name="Straight Arrow Connector 7"/>
          <p:cNvCxnSpPr/>
          <p:nvPr/>
        </p:nvCxnSpPr>
        <p:spPr>
          <a:xfrm flipV="1">
            <a:off x="6781680" y="3885480"/>
            <a:ext cx="951840" cy="1524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1" name="TextBox 14"/>
          <p:cNvSpPr/>
          <p:nvPr/>
        </p:nvSpPr>
        <p:spPr>
          <a:xfrm>
            <a:off x="3124080" y="5486400"/>
            <a:ext cx="2590920" cy="398880"/>
          </a:xfrm>
          <a:prstGeom prst="rect">
            <a:avLst/>
          </a:prstGeom>
          <a:solidFill>
            <a:srgbClr val="23263c"/>
          </a:solidFill>
          <a:ln w="9360">
            <a:solidFill>
              <a:srgbClr val="878bb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68,000 ÷ $68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2" name="Straight Arrow Connector 15"/>
          <p:cNvCxnSpPr/>
          <p:nvPr/>
        </p:nvCxnSpPr>
        <p:spPr>
          <a:xfrm flipV="1">
            <a:off x="4647240" y="3809160"/>
            <a:ext cx="1524600" cy="16772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773" name="Group 122"/>
          <p:cNvGrpSpPr/>
          <p:nvPr/>
        </p:nvGrpSpPr>
        <p:grpSpPr>
          <a:xfrm>
            <a:off x="8158320" y="243000"/>
            <a:ext cx="680760" cy="975960"/>
            <a:chOff x="8158320" y="243000"/>
            <a:chExt cx="680760" cy="975960"/>
          </a:xfrm>
        </p:grpSpPr>
        <p:sp>
          <p:nvSpPr>
            <p:cNvPr id="774" name="Freeform 123"/>
            <p:cNvSpPr/>
            <p:nvPr/>
          </p:nvSpPr>
          <p:spPr>
            <a:xfrm>
              <a:off x="8184960" y="340560"/>
              <a:ext cx="544680" cy="709920"/>
            </a:xfrm>
            <a:custGeom>
              <a:avLst/>
              <a:gdLst>
                <a:gd name="textAreaLeft" fmla="*/ 0 w 544680"/>
                <a:gd name="textAreaRight" fmla="*/ 545040 w 544680"/>
                <a:gd name="textAreaTop" fmla="*/ 0 h 709920"/>
                <a:gd name="textAreaBottom" fmla="*/ 710280 h 709920"/>
              </a:gdLst>
              <a:ahLst/>
              <a:rect l="textAreaLeft" t="textAreaTop" r="textAreaRight" b="textAreaBottom"/>
              <a:pathLst>
                <a:path w="6835" h="7134">
                  <a:moveTo>
                    <a:pt x="174" y="3970"/>
                  </a:moveTo>
                  <a:lnTo>
                    <a:pt x="0" y="4746"/>
                  </a:lnTo>
                  <a:lnTo>
                    <a:pt x="230" y="5867"/>
                  </a:lnTo>
                  <a:lnTo>
                    <a:pt x="1904" y="7134"/>
                  </a:lnTo>
                  <a:lnTo>
                    <a:pt x="4730" y="6356"/>
                  </a:lnTo>
                  <a:lnTo>
                    <a:pt x="5393" y="3768"/>
                  </a:lnTo>
                  <a:lnTo>
                    <a:pt x="6835" y="1553"/>
                  </a:lnTo>
                  <a:lnTo>
                    <a:pt x="6777" y="547"/>
                  </a:lnTo>
                  <a:lnTo>
                    <a:pt x="6317" y="174"/>
                  </a:lnTo>
                  <a:lnTo>
                    <a:pt x="5882" y="31"/>
                  </a:lnTo>
                  <a:lnTo>
                    <a:pt x="5537" y="0"/>
                  </a:lnTo>
                  <a:lnTo>
                    <a:pt x="4990" y="87"/>
                  </a:lnTo>
                  <a:lnTo>
                    <a:pt x="4557" y="433"/>
                  </a:lnTo>
                  <a:lnTo>
                    <a:pt x="4212" y="865"/>
                  </a:lnTo>
                  <a:lnTo>
                    <a:pt x="3894" y="1410"/>
                  </a:lnTo>
                  <a:lnTo>
                    <a:pt x="3546" y="1755"/>
                  </a:lnTo>
                  <a:lnTo>
                    <a:pt x="3058" y="2101"/>
                  </a:lnTo>
                  <a:lnTo>
                    <a:pt x="2596" y="2387"/>
                  </a:lnTo>
                  <a:lnTo>
                    <a:pt x="1961" y="2560"/>
                  </a:lnTo>
                  <a:lnTo>
                    <a:pt x="1269" y="2877"/>
                  </a:lnTo>
                  <a:lnTo>
                    <a:pt x="663" y="3338"/>
                  </a:lnTo>
                  <a:lnTo>
                    <a:pt x="174" y="397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24"/>
            <p:cNvSpPr/>
            <p:nvPr/>
          </p:nvSpPr>
          <p:spPr>
            <a:xfrm>
              <a:off x="8678520" y="251280"/>
              <a:ext cx="88920" cy="111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123" h="1122">
                  <a:moveTo>
                    <a:pt x="203" y="1122"/>
                  </a:moveTo>
                  <a:lnTo>
                    <a:pt x="347" y="806"/>
                  </a:lnTo>
                  <a:lnTo>
                    <a:pt x="577" y="548"/>
                  </a:lnTo>
                  <a:lnTo>
                    <a:pt x="1123" y="231"/>
                  </a:lnTo>
                  <a:lnTo>
                    <a:pt x="923" y="0"/>
                  </a:lnTo>
                  <a:lnTo>
                    <a:pt x="491" y="290"/>
                  </a:lnTo>
                  <a:lnTo>
                    <a:pt x="231" y="548"/>
                  </a:lnTo>
                  <a:lnTo>
                    <a:pt x="0" y="1036"/>
                  </a:lnTo>
                  <a:lnTo>
                    <a:pt x="203" y="1122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25"/>
            <p:cNvSpPr/>
            <p:nvPr/>
          </p:nvSpPr>
          <p:spPr>
            <a:xfrm>
              <a:off x="8551440" y="389160"/>
              <a:ext cx="41040" cy="68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21" h="691">
                  <a:moveTo>
                    <a:pt x="444" y="315"/>
                  </a:moveTo>
                  <a:lnTo>
                    <a:pt x="521" y="126"/>
                  </a:lnTo>
                  <a:lnTo>
                    <a:pt x="394" y="0"/>
                  </a:lnTo>
                  <a:lnTo>
                    <a:pt x="172" y="155"/>
                  </a:lnTo>
                  <a:lnTo>
                    <a:pt x="0" y="473"/>
                  </a:lnTo>
                  <a:lnTo>
                    <a:pt x="48" y="691"/>
                  </a:lnTo>
                  <a:lnTo>
                    <a:pt x="270" y="628"/>
                  </a:lnTo>
                  <a:lnTo>
                    <a:pt x="394" y="502"/>
                  </a:lnTo>
                  <a:lnTo>
                    <a:pt x="444" y="315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26"/>
            <p:cNvSpPr/>
            <p:nvPr/>
          </p:nvSpPr>
          <p:spPr>
            <a:xfrm>
              <a:off x="8162640" y="357480"/>
              <a:ext cx="582480" cy="83952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839520"/>
                <a:gd name="textAreaBottom" fmla="*/ 839880 h 839520"/>
              </a:gdLst>
              <a:ahLst/>
              <a:rect l="textAreaLeft" t="textAreaTop" r="textAreaRight" b="textAreaBottom"/>
              <a:pathLst>
                <a:path w="7324" h="8425">
                  <a:moveTo>
                    <a:pt x="6718" y="0"/>
                  </a:moveTo>
                  <a:lnTo>
                    <a:pt x="6805" y="229"/>
                  </a:lnTo>
                  <a:lnTo>
                    <a:pt x="6862" y="401"/>
                  </a:lnTo>
                  <a:lnTo>
                    <a:pt x="6891" y="632"/>
                  </a:lnTo>
                  <a:lnTo>
                    <a:pt x="6862" y="804"/>
                  </a:lnTo>
                  <a:lnTo>
                    <a:pt x="6805" y="978"/>
                  </a:lnTo>
                  <a:lnTo>
                    <a:pt x="6718" y="1150"/>
                  </a:lnTo>
                  <a:lnTo>
                    <a:pt x="6604" y="1379"/>
                  </a:lnTo>
                  <a:lnTo>
                    <a:pt x="6400" y="1553"/>
                  </a:lnTo>
                  <a:lnTo>
                    <a:pt x="5998" y="2099"/>
                  </a:lnTo>
                  <a:lnTo>
                    <a:pt x="5794" y="2415"/>
                  </a:lnTo>
                  <a:lnTo>
                    <a:pt x="5593" y="2847"/>
                  </a:lnTo>
                  <a:lnTo>
                    <a:pt x="5450" y="3393"/>
                  </a:lnTo>
                  <a:lnTo>
                    <a:pt x="5277" y="3968"/>
                  </a:lnTo>
                  <a:lnTo>
                    <a:pt x="5131" y="4370"/>
                  </a:lnTo>
                  <a:lnTo>
                    <a:pt x="4901" y="4802"/>
                  </a:lnTo>
                  <a:lnTo>
                    <a:pt x="4613" y="5148"/>
                  </a:lnTo>
                  <a:lnTo>
                    <a:pt x="4268" y="5494"/>
                  </a:lnTo>
                  <a:lnTo>
                    <a:pt x="3893" y="5693"/>
                  </a:lnTo>
                  <a:lnTo>
                    <a:pt x="3288" y="5924"/>
                  </a:lnTo>
                  <a:lnTo>
                    <a:pt x="2651" y="6038"/>
                  </a:lnTo>
                  <a:lnTo>
                    <a:pt x="2221" y="6095"/>
                  </a:lnTo>
                  <a:lnTo>
                    <a:pt x="1642" y="6067"/>
                  </a:lnTo>
                  <a:lnTo>
                    <a:pt x="1268" y="5953"/>
                  </a:lnTo>
                  <a:lnTo>
                    <a:pt x="950" y="5752"/>
                  </a:lnTo>
                  <a:lnTo>
                    <a:pt x="721" y="5520"/>
                  </a:lnTo>
                  <a:lnTo>
                    <a:pt x="517" y="5262"/>
                  </a:lnTo>
                  <a:lnTo>
                    <a:pt x="432" y="4975"/>
                  </a:lnTo>
                  <a:lnTo>
                    <a:pt x="374" y="4630"/>
                  </a:lnTo>
                  <a:lnTo>
                    <a:pt x="432" y="4226"/>
                  </a:lnTo>
                  <a:lnTo>
                    <a:pt x="517" y="3796"/>
                  </a:lnTo>
                  <a:lnTo>
                    <a:pt x="143" y="4543"/>
                  </a:lnTo>
                  <a:lnTo>
                    <a:pt x="0" y="5348"/>
                  </a:lnTo>
                  <a:lnTo>
                    <a:pt x="56" y="5866"/>
                  </a:lnTo>
                  <a:lnTo>
                    <a:pt x="202" y="6472"/>
                  </a:lnTo>
                  <a:lnTo>
                    <a:pt x="517" y="7073"/>
                  </a:lnTo>
                  <a:lnTo>
                    <a:pt x="1038" y="7677"/>
                  </a:lnTo>
                  <a:lnTo>
                    <a:pt x="1672" y="8109"/>
                  </a:lnTo>
                  <a:lnTo>
                    <a:pt x="2451" y="8425"/>
                  </a:lnTo>
                  <a:lnTo>
                    <a:pt x="3345" y="8425"/>
                  </a:lnTo>
                  <a:lnTo>
                    <a:pt x="4064" y="8253"/>
                  </a:lnTo>
                  <a:lnTo>
                    <a:pt x="4729" y="7880"/>
                  </a:lnTo>
                  <a:lnTo>
                    <a:pt x="5162" y="7507"/>
                  </a:lnTo>
                  <a:lnTo>
                    <a:pt x="5564" y="7045"/>
                  </a:lnTo>
                  <a:lnTo>
                    <a:pt x="5794" y="6528"/>
                  </a:lnTo>
                  <a:lnTo>
                    <a:pt x="5911" y="6038"/>
                  </a:lnTo>
                  <a:lnTo>
                    <a:pt x="5969" y="5520"/>
                  </a:lnTo>
                  <a:lnTo>
                    <a:pt x="6026" y="4370"/>
                  </a:lnTo>
                  <a:lnTo>
                    <a:pt x="6142" y="3796"/>
                  </a:lnTo>
                  <a:lnTo>
                    <a:pt x="6315" y="3364"/>
                  </a:lnTo>
                  <a:lnTo>
                    <a:pt x="6516" y="3049"/>
                  </a:lnTo>
                  <a:lnTo>
                    <a:pt x="6805" y="2731"/>
                  </a:lnTo>
                  <a:lnTo>
                    <a:pt x="7064" y="2386"/>
                  </a:lnTo>
                  <a:lnTo>
                    <a:pt x="7236" y="2071"/>
                  </a:lnTo>
                  <a:lnTo>
                    <a:pt x="7296" y="1725"/>
                  </a:lnTo>
                  <a:lnTo>
                    <a:pt x="7324" y="1437"/>
                  </a:lnTo>
                  <a:lnTo>
                    <a:pt x="7324" y="1093"/>
                  </a:lnTo>
                  <a:lnTo>
                    <a:pt x="7208" y="691"/>
                  </a:lnTo>
                  <a:lnTo>
                    <a:pt x="7092" y="461"/>
                  </a:lnTo>
                  <a:lnTo>
                    <a:pt x="6978" y="286"/>
                  </a:lnTo>
                  <a:lnTo>
                    <a:pt x="6718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27"/>
            <p:cNvSpPr/>
            <p:nvPr/>
          </p:nvSpPr>
          <p:spPr>
            <a:xfrm>
              <a:off x="8158320" y="340560"/>
              <a:ext cx="680760" cy="87840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878400"/>
                <a:gd name="textAreaBottom" fmla="*/ 878760 h 878400"/>
              </a:gdLst>
              <a:ahLst/>
              <a:rect l="textAreaLeft" t="textAreaTop" r="textAreaRight" b="textAreaBottom"/>
              <a:pathLst>
                <a:path w="8565" h="8830">
                  <a:moveTo>
                    <a:pt x="5997" y="0"/>
                  </a:moveTo>
                  <a:lnTo>
                    <a:pt x="5509" y="116"/>
                  </a:lnTo>
                  <a:lnTo>
                    <a:pt x="5163" y="289"/>
                  </a:lnTo>
                  <a:lnTo>
                    <a:pt x="4903" y="519"/>
                  </a:lnTo>
                  <a:lnTo>
                    <a:pt x="4701" y="777"/>
                  </a:lnTo>
                  <a:lnTo>
                    <a:pt x="4499" y="1123"/>
                  </a:lnTo>
                  <a:lnTo>
                    <a:pt x="4268" y="1438"/>
                  </a:lnTo>
                  <a:lnTo>
                    <a:pt x="4037" y="1727"/>
                  </a:lnTo>
                  <a:lnTo>
                    <a:pt x="3634" y="2042"/>
                  </a:lnTo>
                  <a:lnTo>
                    <a:pt x="3287" y="2273"/>
                  </a:lnTo>
                  <a:lnTo>
                    <a:pt x="2855" y="2475"/>
                  </a:lnTo>
                  <a:lnTo>
                    <a:pt x="2423" y="2646"/>
                  </a:lnTo>
                  <a:lnTo>
                    <a:pt x="1818" y="2877"/>
                  </a:lnTo>
                  <a:lnTo>
                    <a:pt x="1182" y="3280"/>
                  </a:lnTo>
                  <a:lnTo>
                    <a:pt x="720" y="3768"/>
                  </a:lnTo>
                  <a:lnTo>
                    <a:pt x="491" y="4228"/>
                  </a:lnTo>
                  <a:lnTo>
                    <a:pt x="232" y="4976"/>
                  </a:lnTo>
                  <a:lnTo>
                    <a:pt x="145" y="5522"/>
                  </a:lnTo>
                  <a:lnTo>
                    <a:pt x="232" y="6300"/>
                  </a:lnTo>
                  <a:lnTo>
                    <a:pt x="491" y="6932"/>
                  </a:lnTo>
                  <a:lnTo>
                    <a:pt x="865" y="7422"/>
                  </a:lnTo>
                  <a:lnTo>
                    <a:pt x="1270" y="7851"/>
                  </a:lnTo>
                  <a:lnTo>
                    <a:pt x="1701" y="8169"/>
                  </a:lnTo>
                  <a:lnTo>
                    <a:pt x="2250" y="8399"/>
                  </a:lnTo>
                  <a:lnTo>
                    <a:pt x="2826" y="8514"/>
                  </a:lnTo>
                  <a:lnTo>
                    <a:pt x="3431" y="8486"/>
                  </a:lnTo>
                  <a:lnTo>
                    <a:pt x="4037" y="8370"/>
                  </a:lnTo>
                  <a:lnTo>
                    <a:pt x="4529" y="8112"/>
                  </a:lnTo>
                  <a:lnTo>
                    <a:pt x="4932" y="7851"/>
                  </a:lnTo>
                  <a:lnTo>
                    <a:pt x="5306" y="7478"/>
                  </a:lnTo>
                  <a:lnTo>
                    <a:pt x="5595" y="7134"/>
                  </a:lnTo>
                  <a:lnTo>
                    <a:pt x="5768" y="6760"/>
                  </a:lnTo>
                  <a:lnTo>
                    <a:pt x="5913" y="6269"/>
                  </a:lnTo>
                  <a:lnTo>
                    <a:pt x="5970" y="5839"/>
                  </a:lnTo>
                  <a:lnTo>
                    <a:pt x="5997" y="5408"/>
                  </a:lnTo>
                  <a:lnTo>
                    <a:pt x="5997" y="4948"/>
                  </a:lnTo>
                  <a:lnTo>
                    <a:pt x="6028" y="4431"/>
                  </a:lnTo>
                  <a:lnTo>
                    <a:pt x="6144" y="3912"/>
                  </a:lnTo>
                  <a:lnTo>
                    <a:pt x="6287" y="3597"/>
                  </a:lnTo>
                  <a:lnTo>
                    <a:pt x="6546" y="3164"/>
                  </a:lnTo>
                  <a:lnTo>
                    <a:pt x="6864" y="2819"/>
                  </a:lnTo>
                  <a:lnTo>
                    <a:pt x="7151" y="2446"/>
                  </a:lnTo>
                  <a:lnTo>
                    <a:pt x="7267" y="2129"/>
                  </a:lnTo>
                  <a:lnTo>
                    <a:pt x="7355" y="1755"/>
                  </a:lnTo>
                  <a:lnTo>
                    <a:pt x="7355" y="1410"/>
                  </a:lnTo>
                  <a:lnTo>
                    <a:pt x="7267" y="921"/>
                  </a:lnTo>
                  <a:lnTo>
                    <a:pt x="7123" y="604"/>
                  </a:lnTo>
                  <a:lnTo>
                    <a:pt x="6950" y="377"/>
                  </a:lnTo>
                  <a:lnTo>
                    <a:pt x="6690" y="174"/>
                  </a:lnTo>
                  <a:lnTo>
                    <a:pt x="7123" y="491"/>
                  </a:lnTo>
                  <a:lnTo>
                    <a:pt x="7355" y="834"/>
                  </a:lnTo>
                  <a:lnTo>
                    <a:pt x="7469" y="1180"/>
                  </a:lnTo>
                  <a:lnTo>
                    <a:pt x="7499" y="1526"/>
                  </a:lnTo>
                  <a:lnTo>
                    <a:pt x="7499" y="1869"/>
                  </a:lnTo>
                  <a:lnTo>
                    <a:pt x="7411" y="2215"/>
                  </a:lnTo>
                  <a:lnTo>
                    <a:pt x="7267" y="2531"/>
                  </a:lnTo>
                  <a:lnTo>
                    <a:pt x="7008" y="2905"/>
                  </a:lnTo>
                  <a:lnTo>
                    <a:pt x="6633" y="3280"/>
                  </a:lnTo>
                  <a:lnTo>
                    <a:pt x="6403" y="3680"/>
                  </a:lnTo>
                  <a:lnTo>
                    <a:pt x="6228" y="4142"/>
                  </a:lnTo>
                  <a:lnTo>
                    <a:pt x="6172" y="4574"/>
                  </a:lnTo>
                  <a:lnTo>
                    <a:pt x="6172" y="5178"/>
                  </a:lnTo>
                  <a:lnTo>
                    <a:pt x="6144" y="5694"/>
                  </a:lnTo>
                  <a:lnTo>
                    <a:pt x="6085" y="6212"/>
                  </a:lnTo>
                  <a:lnTo>
                    <a:pt x="5970" y="6673"/>
                  </a:lnTo>
                  <a:lnTo>
                    <a:pt x="5797" y="7105"/>
                  </a:lnTo>
                  <a:lnTo>
                    <a:pt x="5566" y="7422"/>
                  </a:lnTo>
                  <a:lnTo>
                    <a:pt x="5306" y="7681"/>
                  </a:lnTo>
                  <a:lnTo>
                    <a:pt x="6172" y="7651"/>
                  </a:lnTo>
                  <a:lnTo>
                    <a:pt x="6749" y="7737"/>
                  </a:lnTo>
                  <a:lnTo>
                    <a:pt x="6950" y="7708"/>
                  </a:lnTo>
                  <a:lnTo>
                    <a:pt x="7181" y="7624"/>
                  </a:lnTo>
                  <a:lnTo>
                    <a:pt x="7555" y="7593"/>
                  </a:lnTo>
                  <a:lnTo>
                    <a:pt x="7931" y="7593"/>
                  </a:lnTo>
                  <a:lnTo>
                    <a:pt x="8420" y="7681"/>
                  </a:lnTo>
                  <a:lnTo>
                    <a:pt x="8565" y="7795"/>
                  </a:lnTo>
                  <a:lnTo>
                    <a:pt x="8537" y="7851"/>
                  </a:lnTo>
                  <a:lnTo>
                    <a:pt x="8363" y="7910"/>
                  </a:lnTo>
                  <a:lnTo>
                    <a:pt x="7987" y="7910"/>
                  </a:lnTo>
                  <a:lnTo>
                    <a:pt x="7669" y="7939"/>
                  </a:lnTo>
                  <a:lnTo>
                    <a:pt x="7527" y="8024"/>
                  </a:lnTo>
                  <a:lnTo>
                    <a:pt x="7469" y="8054"/>
                  </a:lnTo>
                  <a:lnTo>
                    <a:pt x="7355" y="8197"/>
                  </a:lnTo>
                  <a:lnTo>
                    <a:pt x="7151" y="8340"/>
                  </a:lnTo>
                  <a:lnTo>
                    <a:pt x="6921" y="8486"/>
                  </a:lnTo>
                  <a:lnTo>
                    <a:pt x="6546" y="8571"/>
                  </a:lnTo>
                  <a:lnTo>
                    <a:pt x="5853" y="8715"/>
                  </a:lnTo>
                  <a:lnTo>
                    <a:pt x="4788" y="8830"/>
                  </a:lnTo>
                  <a:lnTo>
                    <a:pt x="3634" y="8830"/>
                  </a:lnTo>
                  <a:lnTo>
                    <a:pt x="2826" y="8801"/>
                  </a:lnTo>
                  <a:lnTo>
                    <a:pt x="2192" y="8685"/>
                  </a:lnTo>
                  <a:lnTo>
                    <a:pt x="1731" y="8629"/>
                  </a:lnTo>
                  <a:lnTo>
                    <a:pt x="1471" y="8542"/>
                  </a:lnTo>
                  <a:lnTo>
                    <a:pt x="1443" y="8456"/>
                  </a:lnTo>
                  <a:lnTo>
                    <a:pt x="1500" y="8399"/>
                  </a:lnTo>
                  <a:lnTo>
                    <a:pt x="1644" y="8313"/>
                  </a:lnTo>
                  <a:lnTo>
                    <a:pt x="1213" y="8024"/>
                  </a:lnTo>
                  <a:lnTo>
                    <a:pt x="865" y="7708"/>
                  </a:lnTo>
                  <a:lnTo>
                    <a:pt x="576" y="7363"/>
                  </a:lnTo>
                  <a:lnTo>
                    <a:pt x="377" y="7046"/>
                  </a:lnTo>
                  <a:lnTo>
                    <a:pt x="202" y="6646"/>
                  </a:lnTo>
                  <a:lnTo>
                    <a:pt x="88" y="6300"/>
                  </a:lnTo>
                  <a:lnTo>
                    <a:pt x="0" y="5867"/>
                  </a:lnTo>
                  <a:lnTo>
                    <a:pt x="29" y="5294"/>
                  </a:lnTo>
                  <a:lnTo>
                    <a:pt x="88" y="4860"/>
                  </a:lnTo>
                  <a:lnTo>
                    <a:pt x="232" y="4344"/>
                  </a:lnTo>
                  <a:lnTo>
                    <a:pt x="520" y="3740"/>
                  </a:lnTo>
                  <a:lnTo>
                    <a:pt x="865" y="3338"/>
                  </a:lnTo>
                  <a:lnTo>
                    <a:pt x="1241" y="3021"/>
                  </a:lnTo>
                  <a:lnTo>
                    <a:pt x="1731" y="2733"/>
                  </a:lnTo>
                  <a:lnTo>
                    <a:pt x="2280" y="2560"/>
                  </a:lnTo>
                  <a:lnTo>
                    <a:pt x="2942" y="2302"/>
                  </a:lnTo>
                  <a:lnTo>
                    <a:pt x="3431" y="2014"/>
                  </a:lnTo>
                  <a:lnTo>
                    <a:pt x="3923" y="1641"/>
                  </a:lnTo>
                  <a:lnTo>
                    <a:pt x="4297" y="1180"/>
                  </a:lnTo>
                  <a:lnTo>
                    <a:pt x="4585" y="777"/>
                  </a:lnTo>
                  <a:lnTo>
                    <a:pt x="4788" y="491"/>
                  </a:lnTo>
                  <a:lnTo>
                    <a:pt x="5046" y="260"/>
                  </a:lnTo>
                  <a:lnTo>
                    <a:pt x="5277" y="116"/>
                  </a:lnTo>
                  <a:lnTo>
                    <a:pt x="5566" y="31"/>
                  </a:lnTo>
                  <a:lnTo>
                    <a:pt x="59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28"/>
            <p:cNvSpPr/>
            <p:nvPr/>
          </p:nvSpPr>
          <p:spPr>
            <a:xfrm>
              <a:off x="8685000" y="243000"/>
              <a:ext cx="87840" cy="11988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1096" h="1208">
                  <a:moveTo>
                    <a:pt x="116" y="1151"/>
                  </a:moveTo>
                  <a:lnTo>
                    <a:pt x="260" y="892"/>
                  </a:lnTo>
                  <a:lnTo>
                    <a:pt x="490" y="662"/>
                  </a:lnTo>
                  <a:lnTo>
                    <a:pt x="778" y="490"/>
                  </a:lnTo>
                  <a:lnTo>
                    <a:pt x="1096" y="317"/>
                  </a:lnTo>
                  <a:lnTo>
                    <a:pt x="894" y="0"/>
                  </a:lnTo>
                  <a:lnTo>
                    <a:pt x="518" y="230"/>
                  </a:lnTo>
                  <a:lnTo>
                    <a:pt x="288" y="459"/>
                  </a:lnTo>
                  <a:lnTo>
                    <a:pt x="116" y="691"/>
                  </a:lnTo>
                  <a:lnTo>
                    <a:pt x="0" y="949"/>
                  </a:lnTo>
                  <a:lnTo>
                    <a:pt x="200" y="634"/>
                  </a:lnTo>
                  <a:lnTo>
                    <a:pt x="432" y="376"/>
                  </a:lnTo>
                  <a:lnTo>
                    <a:pt x="866" y="86"/>
                  </a:lnTo>
                  <a:lnTo>
                    <a:pt x="980" y="317"/>
                  </a:lnTo>
                  <a:lnTo>
                    <a:pt x="577" y="490"/>
                  </a:lnTo>
                  <a:lnTo>
                    <a:pt x="317" y="691"/>
                  </a:lnTo>
                  <a:lnTo>
                    <a:pt x="173" y="949"/>
                  </a:lnTo>
                  <a:lnTo>
                    <a:pt x="57" y="1208"/>
                  </a:lnTo>
                  <a:lnTo>
                    <a:pt x="116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64646"/>
                </a:solidFill>
                <a:latin typeface="Arial"/>
              </a:rPr>
              <a:t>Allocating Under- or Overapplied</a:t>
            </a:r>
            <a:br>
              <a:rPr sz="3100"/>
            </a:br>
            <a:r>
              <a:rPr b="0" lang="en-US" sz="3100" spc="-1" strike="noStrike">
                <a:solidFill>
                  <a:srgbClr val="464646"/>
                </a:solidFill>
                <a:latin typeface="Arial"/>
              </a:rPr>
              <a:t>Overhead Between Accounts</a:t>
            </a:r>
            <a:endParaRPr b="0" lang="en-US" sz="31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781" name="Object 2"/>
          <p:cNvGraphicFramePr/>
          <p:nvPr/>
        </p:nvGraphicFramePr>
        <p:xfrm>
          <a:off x="609480" y="1639800"/>
          <a:ext cx="7772400" cy="217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39800"/>
                    <a:ext cx="7772400" cy="21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3" name="Object 12"/>
          <p:cNvGraphicFramePr/>
          <p:nvPr/>
        </p:nvGraphicFramePr>
        <p:xfrm>
          <a:off x="762120" y="3962520"/>
          <a:ext cx="7619760" cy="1600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8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962520"/>
                    <a:ext cx="76197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5" name="Group 122"/>
          <p:cNvGrpSpPr/>
          <p:nvPr/>
        </p:nvGrpSpPr>
        <p:grpSpPr>
          <a:xfrm>
            <a:off x="8158320" y="243000"/>
            <a:ext cx="680760" cy="975960"/>
            <a:chOff x="8158320" y="243000"/>
            <a:chExt cx="680760" cy="975960"/>
          </a:xfrm>
        </p:grpSpPr>
        <p:sp>
          <p:nvSpPr>
            <p:cNvPr id="786" name="Freeform 123"/>
            <p:cNvSpPr/>
            <p:nvPr/>
          </p:nvSpPr>
          <p:spPr>
            <a:xfrm>
              <a:off x="8184960" y="340560"/>
              <a:ext cx="544680" cy="709920"/>
            </a:xfrm>
            <a:custGeom>
              <a:avLst/>
              <a:gdLst>
                <a:gd name="textAreaLeft" fmla="*/ 0 w 544680"/>
                <a:gd name="textAreaRight" fmla="*/ 545040 w 544680"/>
                <a:gd name="textAreaTop" fmla="*/ 0 h 709920"/>
                <a:gd name="textAreaBottom" fmla="*/ 710280 h 709920"/>
              </a:gdLst>
              <a:ahLst/>
              <a:rect l="textAreaLeft" t="textAreaTop" r="textAreaRight" b="textAreaBottom"/>
              <a:pathLst>
                <a:path w="6835" h="7134">
                  <a:moveTo>
                    <a:pt x="174" y="3970"/>
                  </a:moveTo>
                  <a:lnTo>
                    <a:pt x="0" y="4746"/>
                  </a:lnTo>
                  <a:lnTo>
                    <a:pt x="230" y="5867"/>
                  </a:lnTo>
                  <a:lnTo>
                    <a:pt x="1904" y="7134"/>
                  </a:lnTo>
                  <a:lnTo>
                    <a:pt x="4730" y="6356"/>
                  </a:lnTo>
                  <a:lnTo>
                    <a:pt x="5393" y="3768"/>
                  </a:lnTo>
                  <a:lnTo>
                    <a:pt x="6835" y="1553"/>
                  </a:lnTo>
                  <a:lnTo>
                    <a:pt x="6777" y="547"/>
                  </a:lnTo>
                  <a:lnTo>
                    <a:pt x="6317" y="174"/>
                  </a:lnTo>
                  <a:lnTo>
                    <a:pt x="5882" y="31"/>
                  </a:lnTo>
                  <a:lnTo>
                    <a:pt x="5537" y="0"/>
                  </a:lnTo>
                  <a:lnTo>
                    <a:pt x="4990" y="87"/>
                  </a:lnTo>
                  <a:lnTo>
                    <a:pt x="4557" y="433"/>
                  </a:lnTo>
                  <a:lnTo>
                    <a:pt x="4212" y="865"/>
                  </a:lnTo>
                  <a:lnTo>
                    <a:pt x="3894" y="1410"/>
                  </a:lnTo>
                  <a:lnTo>
                    <a:pt x="3546" y="1755"/>
                  </a:lnTo>
                  <a:lnTo>
                    <a:pt x="3058" y="2101"/>
                  </a:lnTo>
                  <a:lnTo>
                    <a:pt x="2596" y="2387"/>
                  </a:lnTo>
                  <a:lnTo>
                    <a:pt x="1961" y="2560"/>
                  </a:lnTo>
                  <a:lnTo>
                    <a:pt x="1269" y="2877"/>
                  </a:lnTo>
                  <a:lnTo>
                    <a:pt x="663" y="3338"/>
                  </a:lnTo>
                  <a:lnTo>
                    <a:pt x="174" y="397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24"/>
            <p:cNvSpPr/>
            <p:nvPr/>
          </p:nvSpPr>
          <p:spPr>
            <a:xfrm>
              <a:off x="8678520" y="251280"/>
              <a:ext cx="88920" cy="111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123" h="1122">
                  <a:moveTo>
                    <a:pt x="203" y="1122"/>
                  </a:moveTo>
                  <a:lnTo>
                    <a:pt x="347" y="806"/>
                  </a:lnTo>
                  <a:lnTo>
                    <a:pt x="577" y="548"/>
                  </a:lnTo>
                  <a:lnTo>
                    <a:pt x="1123" y="231"/>
                  </a:lnTo>
                  <a:lnTo>
                    <a:pt x="923" y="0"/>
                  </a:lnTo>
                  <a:lnTo>
                    <a:pt x="491" y="290"/>
                  </a:lnTo>
                  <a:lnTo>
                    <a:pt x="231" y="548"/>
                  </a:lnTo>
                  <a:lnTo>
                    <a:pt x="0" y="1036"/>
                  </a:lnTo>
                  <a:lnTo>
                    <a:pt x="203" y="1122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25"/>
            <p:cNvSpPr/>
            <p:nvPr/>
          </p:nvSpPr>
          <p:spPr>
            <a:xfrm>
              <a:off x="8551440" y="389160"/>
              <a:ext cx="41040" cy="68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21" h="691">
                  <a:moveTo>
                    <a:pt x="444" y="315"/>
                  </a:moveTo>
                  <a:lnTo>
                    <a:pt x="521" y="126"/>
                  </a:lnTo>
                  <a:lnTo>
                    <a:pt x="394" y="0"/>
                  </a:lnTo>
                  <a:lnTo>
                    <a:pt x="172" y="155"/>
                  </a:lnTo>
                  <a:lnTo>
                    <a:pt x="0" y="473"/>
                  </a:lnTo>
                  <a:lnTo>
                    <a:pt x="48" y="691"/>
                  </a:lnTo>
                  <a:lnTo>
                    <a:pt x="270" y="628"/>
                  </a:lnTo>
                  <a:lnTo>
                    <a:pt x="394" y="502"/>
                  </a:lnTo>
                  <a:lnTo>
                    <a:pt x="444" y="315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26"/>
            <p:cNvSpPr/>
            <p:nvPr/>
          </p:nvSpPr>
          <p:spPr>
            <a:xfrm>
              <a:off x="8162640" y="357480"/>
              <a:ext cx="582480" cy="83952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839520"/>
                <a:gd name="textAreaBottom" fmla="*/ 839880 h 839520"/>
              </a:gdLst>
              <a:ahLst/>
              <a:rect l="textAreaLeft" t="textAreaTop" r="textAreaRight" b="textAreaBottom"/>
              <a:pathLst>
                <a:path w="7324" h="8425">
                  <a:moveTo>
                    <a:pt x="6718" y="0"/>
                  </a:moveTo>
                  <a:lnTo>
                    <a:pt x="6805" y="229"/>
                  </a:lnTo>
                  <a:lnTo>
                    <a:pt x="6862" y="401"/>
                  </a:lnTo>
                  <a:lnTo>
                    <a:pt x="6891" y="632"/>
                  </a:lnTo>
                  <a:lnTo>
                    <a:pt x="6862" y="804"/>
                  </a:lnTo>
                  <a:lnTo>
                    <a:pt x="6805" y="978"/>
                  </a:lnTo>
                  <a:lnTo>
                    <a:pt x="6718" y="1150"/>
                  </a:lnTo>
                  <a:lnTo>
                    <a:pt x="6604" y="1379"/>
                  </a:lnTo>
                  <a:lnTo>
                    <a:pt x="6400" y="1553"/>
                  </a:lnTo>
                  <a:lnTo>
                    <a:pt x="5998" y="2099"/>
                  </a:lnTo>
                  <a:lnTo>
                    <a:pt x="5794" y="2415"/>
                  </a:lnTo>
                  <a:lnTo>
                    <a:pt x="5593" y="2847"/>
                  </a:lnTo>
                  <a:lnTo>
                    <a:pt x="5450" y="3393"/>
                  </a:lnTo>
                  <a:lnTo>
                    <a:pt x="5277" y="3968"/>
                  </a:lnTo>
                  <a:lnTo>
                    <a:pt x="5131" y="4370"/>
                  </a:lnTo>
                  <a:lnTo>
                    <a:pt x="4901" y="4802"/>
                  </a:lnTo>
                  <a:lnTo>
                    <a:pt x="4613" y="5148"/>
                  </a:lnTo>
                  <a:lnTo>
                    <a:pt x="4268" y="5494"/>
                  </a:lnTo>
                  <a:lnTo>
                    <a:pt x="3893" y="5693"/>
                  </a:lnTo>
                  <a:lnTo>
                    <a:pt x="3288" y="5924"/>
                  </a:lnTo>
                  <a:lnTo>
                    <a:pt x="2651" y="6038"/>
                  </a:lnTo>
                  <a:lnTo>
                    <a:pt x="2221" y="6095"/>
                  </a:lnTo>
                  <a:lnTo>
                    <a:pt x="1642" y="6067"/>
                  </a:lnTo>
                  <a:lnTo>
                    <a:pt x="1268" y="5953"/>
                  </a:lnTo>
                  <a:lnTo>
                    <a:pt x="950" y="5752"/>
                  </a:lnTo>
                  <a:lnTo>
                    <a:pt x="721" y="5520"/>
                  </a:lnTo>
                  <a:lnTo>
                    <a:pt x="517" y="5262"/>
                  </a:lnTo>
                  <a:lnTo>
                    <a:pt x="432" y="4975"/>
                  </a:lnTo>
                  <a:lnTo>
                    <a:pt x="374" y="4630"/>
                  </a:lnTo>
                  <a:lnTo>
                    <a:pt x="432" y="4226"/>
                  </a:lnTo>
                  <a:lnTo>
                    <a:pt x="517" y="3796"/>
                  </a:lnTo>
                  <a:lnTo>
                    <a:pt x="143" y="4543"/>
                  </a:lnTo>
                  <a:lnTo>
                    <a:pt x="0" y="5348"/>
                  </a:lnTo>
                  <a:lnTo>
                    <a:pt x="56" y="5866"/>
                  </a:lnTo>
                  <a:lnTo>
                    <a:pt x="202" y="6472"/>
                  </a:lnTo>
                  <a:lnTo>
                    <a:pt x="517" y="7073"/>
                  </a:lnTo>
                  <a:lnTo>
                    <a:pt x="1038" y="7677"/>
                  </a:lnTo>
                  <a:lnTo>
                    <a:pt x="1672" y="8109"/>
                  </a:lnTo>
                  <a:lnTo>
                    <a:pt x="2451" y="8425"/>
                  </a:lnTo>
                  <a:lnTo>
                    <a:pt x="3345" y="8425"/>
                  </a:lnTo>
                  <a:lnTo>
                    <a:pt x="4064" y="8253"/>
                  </a:lnTo>
                  <a:lnTo>
                    <a:pt x="4729" y="7880"/>
                  </a:lnTo>
                  <a:lnTo>
                    <a:pt x="5162" y="7507"/>
                  </a:lnTo>
                  <a:lnTo>
                    <a:pt x="5564" y="7045"/>
                  </a:lnTo>
                  <a:lnTo>
                    <a:pt x="5794" y="6528"/>
                  </a:lnTo>
                  <a:lnTo>
                    <a:pt x="5911" y="6038"/>
                  </a:lnTo>
                  <a:lnTo>
                    <a:pt x="5969" y="5520"/>
                  </a:lnTo>
                  <a:lnTo>
                    <a:pt x="6026" y="4370"/>
                  </a:lnTo>
                  <a:lnTo>
                    <a:pt x="6142" y="3796"/>
                  </a:lnTo>
                  <a:lnTo>
                    <a:pt x="6315" y="3364"/>
                  </a:lnTo>
                  <a:lnTo>
                    <a:pt x="6516" y="3049"/>
                  </a:lnTo>
                  <a:lnTo>
                    <a:pt x="6805" y="2731"/>
                  </a:lnTo>
                  <a:lnTo>
                    <a:pt x="7064" y="2386"/>
                  </a:lnTo>
                  <a:lnTo>
                    <a:pt x="7236" y="2071"/>
                  </a:lnTo>
                  <a:lnTo>
                    <a:pt x="7296" y="1725"/>
                  </a:lnTo>
                  <a:lnTo>
                    <a:pt x="7324" y="1437"/>
                  </a:lnTo>
                  <a:lnTo>
                    <a:pt x="7324" y="1093"/>
                  </a:lnTo>
                  <a:lnTo>
                    <a:pt x="7208" y="691"/>
                  </a:lnTo>
                  <a:lnTo>
                    <a:pt x="7092" y="461"/>
                  </a:lnTo>
                  <a:lnTo>
                    <a:pt x="6978" y="286"/>
                  </a:lnTo>
                  <a:lnTo>
                    <a:pt x="6718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27"/>
            <p:cNvSpPr/>
            <p:nvPr/>
          </p:nvSpPr>
          <p:spPr>
            <a:xfrm>
              <a:off x="8158320" y="340560"/>
              <a:ext cx="680760" cy="87840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878400"/>
                <a:gd name="textAreaBottom" fmla="*/ 878760 h 878400"/>
              </a:gdLst>
              <a:ahLst/>
              <a:rect l="textAreaLeft" t="textAreaTop" r="textAreaRight" b="textAreaBottom"/>
              <a:pathLst>
                <a:path w="8565" h="8830">
                  <a:moveTo>
                    <a:pt x="5997" y="0"/>
                  </a:moveTo>
                  <a:lnTo>
                    <a:pt x="5509" y="116"/>
                  </a:lnTo>
                  <a:lnTo>
                    <a:pt x="5163" y="289"/>
                  </a:lnTo>
                  <a:lnTo>
                    <a:pt x="4903" y="519"/>
                  </a:lnTo>
                  <a:lnTo>
                    <a:pt x="4701" y="777"/>
                  </a:lnTo>
                  <a:lnTo>
                    <a:pt x="4499" y="1123"/>
                  </a:lnTo>
                  <a:lnTo>
                    <a:pt x="4268" y="1438"/>
                  </a:lnTo>
                  <a:lnTo>
                    <a:pt x="4037" y="1727"/>
                  </a:lnTo>
                  <a:lnTo>
                    <a:pt x="3634" y="2042"/>
                  </a:lnTo>
                  <a:lnTo>
                    <a:pt x="3287" y="2273"/>
                  </a:lnTo>
                  <a:lnTo>
                    <a:pt x="2855" y="2475"/>
                  </a:lnTo>
                  <a:lnTo>
                    <a:pt x="2423" y="2646"/>
                  </a:lnTo>
                  <a:lnTo>
                    <a:pt x="1818" y="2877"/>
                  </a:lnTo>
                  <a:lnTo>
                    <a:pt x="1182" y="3280"/>
                  </a:lnTo>
                  <a:lnTo>
                    <a:pt x="720" y="3768"/>
                  </a:lnTo>
                  <a:lnTo>
                    <a:pt x="491" y="4228"/>
                  </a:lnTo>
                  <a:lnTo>
                    <a:pt x="232" y="4976"/>
                  </a:lnTo>
                  <a:lnTo>
                    <a:pt x="145" y="5522"/>
                  </a:lnTo>
                  <a:lnTo>
                    <a:pt x="232" y="6300"/>
                  </a:lnTo>
                  <a:lnTo>
                    <a:pt x="491" y="6932"/>
                  </a:lnTo>
                  <a:lnTo>
                    <a:pt x="865" y="7422"/>
                  </a:lnTo>
                  <a:lnTo>
                    <a:pt x="1270" y="7851"/>
                  </a:lnTo>
                  <a:lnTo>
                    <a:pt x="1701" y="8169"/>
                  </a:lnTo>
                  <a:lnTo>
                    <a:pt x="2250" y="8399"/>
                  </a:lnTo>
                  <a:lnTo>
                    <a:pt x="2826" y="8514"/>
                  </a:lnTo>
                  <a:lnTo>
                    <a:pt x="3431" y="8486"/>
                  </a:lnTo>
                  <a:lnTo>
                    <a:pt x="4037" y="8370"/>
                  </a:lnTo>
                  <a:lnTo>
                    <a:pt x="4529" y="8112"/>
                  </a:lnTo>
                  <a:lnTo>
                    <a:pt x="4932" y="7851"/>
                  </a:lnTo>
                  <a:lnTo>
                    <a:pt x="5306" y="7478"/>
                  </a:lnTo>
                  <a:lnTo>
                    <a:pt x="5595" y="7134"/>
                  </a:lnTo>
                  <a:lnTo>
                    <a:pt x="5768" y="6760"/>
                  </a:lnTo>
                  <a:lnTo>
                    <a:pt x="5913" y="6269"/>
                  </a:lnTo>
                  <a:lnTo>
                    <a:pt x="5970" y="5839"/>
                  </a:lnTo>
                  <a:lnTo>
                    <a:pt x="5997" y="5408"/>
                  </a:lnTo>
                  <a:lnTo>
                    <a:pt x="5997" y="4948"/>
                  </a:lnTo>
                  <a:lnTo>
                    <a:pt x="6028" y="4431"/>
                  </a:lnTo>
                  <a:lnTo>
                    <a:pt x="6144" y="3912"/>
                  </a:lnTo>
                  <a:lnTo>
                    <a:pt x="6287" y="3597"/>
                  </a:lnTo>
                  <a:lnTo>
                    <a:pt x="6546" y="3164"/>
                  </a:lnTo>
                  <a:lnTo>
                    <a:pt x="6864" y="2819"/>
                  </a:lnTo>
                  <a:lnTo>
                    <a:pt x="7151" y="2446"/>
                  </a:lnTo>
                  <a:lnTo>
                    <a:pt x="7267" y="2129"/>
                  </a:lnTo>
                  <a:lnTo>
                    <a:pt x="7355" y="1755"/>
                  </a:lnTo>
                  <a:lnTo>
                    <a:pt x="7355" y="1410"/>
                  </a:lnTo>
                  <a:lnTo>
                    <a:pt x="7267" y="921"/>
                  </a:lnTo>
                  <a:lnTo>
                    <a:pt x="7123" y="604"/>
                  </a:lnTo>
                  <a:lnTo>
                    <a:pt x="6950" y="377"/>
                  </a:lnTo>
                  <a:lnTo>
                    <a:pt x="6690" y="174"/>
                  </a:lnTo>
                  <a:lnTo>
                    <a:pt x="7123" y="491"/>
                  </a:lnTo>
                  <a:lnTo>
                    <a:pt x="7355" y="834"/>
                  </a:lnTo>
                  <a:lnTo>
                    <a:pt x="7469" y="1180"/>
                  </a:lnTo>
                  <a:lnTo>
                    <a:pt x="7499" y="1526"/>
                  </a:lnTo>
                  <a:lnTo>
                    <a:pt x="7499" y="1869"/>
                  </a:lnTo>
                  <a:lnTo>
                    <a:pt x="7411" y="2215"/>
                  </a:lnTo>
                  <a:lnTo>
                    <a:pt x="7267" y="2531"/>
                  </a:lnTo>
                  <a:lnTo>
                    <a:pt x="7008" y="2905"/>
                  </a:lnTo>
                  <a:lnTo>
                    <a:pt x="6633" y="3280"/>
                  </a:lnTo>
                  <a:lnTo>
                    <a:pt x="6403" y="3680"/>
                  </a:lnTo>
                  <a:lnTo>
                    <a:pt x="6228" y="4142"/>
                  </a:lnTo>
                  <a:lnTo>
                    <a:pt x="6172" y="4574"/>
                  </a:lnTo>
                  <a:lnTo>
                    <a:pt x="6172" y="5178"/>
                  </a:lnTo>
                  <a:lnTo>
                    <a:pt x="6144" y="5694"/>
                  </a:lnTo>
                  <a:lnTo>
                    <a:pt x="6085" y="6212"/>
                  </a:lnTo>
                  <a:lnTo>
                    <a:pt x="5970" y="6673"/>
                  </a:lnTo>
                  <a:lnTo>
                    <a:pt x="5797" y="7105"/>
                  </a:lnTo>
                  <a:lnTo>
                    <a:pt x="5566" y="7422"/>
                  </a:lnTo>
                  <a:lnTo>
                    <a:pt x="5306" y="7681"/>
                  </a:lnTo>
                  <a:lnTo>
                    <a:pt x="6172" y="7651"/>
                  </a:lnTo>
                  <a:lnTo>
                    <a:pt x="6749" y="7737"/>
                  </a:lnTo>
                  <a:lnTo>
                    <a:pt x="6950" y="7708"/>
                  </a:lnTo>
                  <a:lnTo>
                    <a:pt x="7181" y="7624"/>
                  </a:lnTo>
                  <a:lnTo>
                    <a:pt x="7555" y="7593"/>
                  </a:lnTo>
                  <a:lnTo>
                    <a:pt x="7931" y="7593"/>
                  </a:lnTo>
                  <a:lnTo>
                    <a:pt x="8420" y="7681"/>
                  </a:lnTo>
                  <a:lnTo>
                    <a:pt x="8565" y="7795"/>
                  </a:lnTo>
                  <a:lnTo>
                    <a:pt x="8537" y="7851"/>
                  </a:lnTo>
                  <a:lnTo>
                    <a:pt x="8363" y="7910"/>
                  </a:lnTo>
                  <a:lnTo>
                    <a:pt x="7987" y="7910"/>
                  </a:lnTo>
                  <a:lnTo>
                    <a:pt x="7669" y="7939"/>
                  </a:lnTo>
                  <a:lnTo>
                    <a:pt x="7527" y="8024"/>
                  </a:lnTo>
                  <a:lnTo>
                    <a:pt x="7469" y="8054"/>
                  </a:lnTo>
                  <a:lnTo>
                    <a:pt x="7355" y="8197"/>
                  </a:lnTo>
                  <a:lnTo>
                    <a:pt x="7151" y="8340"/>
                  </a:lnTo>
                  <a:lnTo>
                    <a:pt x="6921" y="8486"/>
                  </a:lnTo>
                  <a:lnTo>
                    <a:pt x="6546" y="8571"/>
                  </a:lnTo>
                  <a:lnTo>
                    <a:pt x="5853" y="8715"/>
                  </a:lnTo>
                  <a:lnTo>
                    <a:pt x="4788" y="8830"/>
                  </a:lnTo>
                  <a:lnTo>
                    <a:pt x="3634" y="8830"/>
                  </a:lnTo>
                  <a:lnTo>
                    <a:pt x="2826" y="8801"/>
                  </a:lnTo>
                  <a:lnTo>
                    <a:pt x="2192" y="8685"/>
                  </a:lnTo>
                  <a:lnTo>
                    <a:pt x="1731" y="8629"/>
                  </a:lnTo>
                  <a:lnTo>
                    <a:pt x="1471" y="8542"/>
                  </a:lnTo>
                  <a:lnTo>
                    <a:pt x="1443" y="8456"/>
                  </a:lnTo>
                  <a:lnTo>
                    <a:pt x="1500" y="8399"/>
                  </a:lnTo>
                  <a:lnTo>
                    <a:pt x="1644" y="8313"/>
                  </a:lnTo>
                  <a:lnTo>
                    <a:pt x="1213" y="8024"/>
                  </a:lnTo>
                  <a:lnTo>
                    <a:pt x="865" y="7708"/>
                  </a:lnTo>
                  <a:lnTo>
                    <a:pt x="576" y="7363"/>
                  </a:lnTo>
                  <a:lnTo>
                    <a:pt x="377" y="7046"/>
                  </a:lnTo>
                  <a:lnTo>
                    <a:pt x="202" y="6646"/>
                  </a:lnTo>
                  <a:lnTo>
                    <a:pt x="88" y="6300"/>
                  </a:lnTo>
                  <a:lnTo>
                    <a:pt x="0" y="5867"/>
                  </a:lnTo>
                  <a:lnTo>
                    <a:pt x="29" y="5294"/>
                  </a:lnTo>
                  <a:lnTo>
                    <a:pt x="88" y="4860"/>
                  </a:lnTo>
                  <a:lnTo>
                    <a:pt x="232" y="4344"/>
                  </a:lnTo>
                  <a:lnTo>
                    <a:pt x="520" y="3740"/>
                  </a:lnTo>
                  <a:lnTo>
                    <a:pt x="865" y="3338"/>
                  </a:lnTo>
                  <a:lnTo>
                    <a:pt x="1241" y="3021"/>
                  </a:lnTo>
                  <a:lnTo>
                    <a:pt x="1731" y="2733"/>
                  </a:lnTo>
                  <a:lnTo>
                    <a:pt x="2280" y="2560"/>
                  </a:lnTo>
                  <a:lnTo>
                    <a:pt x="2942" y="2302"/>
                  </a:lnTo>
                  <a:lnTo>
                    <a:pt x="3431" y="2014"/>
                  </a:lnTo>
                  <a:lnTo>
                    <a:pt x="3923" y="1641"/>
                  </a:lnTo>
                  <a:lnTo>
                    <a:pt x="4297" y="1180"/>
                  </a:lnTo>
                  <a:lnTo>
                    <a:pt x="4585" y="777"/>
                  </a:lnTo>
                  <a:lnTo>
                    <a:pt x="4788" y="491"/>
                  </a:lnTo>
                  <a:lnTo>
                    <a:pt x="5046" y="260"/>
                  </a:lnTo>
                  <a:lnTo>
                    <a:pt x="5277" y="116"/>
                  </a:lnTo>
                  <a:lnTo>
                    <a:pt x="5566" y="31"/>
                  </a:lnTo>
                  <a:lnTo>
                    <a:pt x="59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28"/>
            <p:cNvSpPr/>
            <p:nvPr/>
          </p:nvSpPr>
          <p:spPr>
            <a:xfrm>
              <a:off x="8685000" y="243000"/>
              <a:ext cx="87840" cy="11988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1096" h="1208">
                  <a:moveTo>
                    <a:pt x="116" y="1151"/>
                  </a:moveTo>
                  <a:lnTo>
                    <a:pt x="260" y="892"/>
                  </a:lnTo>
                  <a:lnTo>
                    <a:pt x="490" y="662"/>
                  </a:lnTo>
                  <a:lnTo>
                    <a:pt x="778" y="490"/>
                  </a:lnTo>
                  <a:lnTo>
                    <a:pt x="1096" y="317"/>
                  </a:lnTo>
                  <a:lnTo>
                    <a:pt x="894" y="0"/>
                  </a:lnTo>
                  <a:lnTo>
                    <a:pt x="518" y="230"/>
                  </a:lnTo>
                  <a:lnTo>
                    <a:pt x="288" y="459"/>
                  </a:lnTo>
                  <a:lnTo>
                    <a:pt x="116" y="691"/>
                  </a:lnTo>
                  <a:lnTo>
                    <a:pt x="0" y="949"/>
                  </a:lnTo>
                  <a:lnTo>
                    <a:pt x="200" y="634"/>
                  </a:lnTo>
                  <a:lnTo>
                    <a:pt x="432" y="376"/>
                  </a:lnTo>
                  <a:lnTo>
                    <a:pt x="866" y="86"/>
                  </a:lnTo>
                  <a:lnTo>
                    <a:pt x="980" y="317"/>
                  </a:lnTo>
                  <a:lnTo>
                    <a:pt x="577" y="490"/>
                  </a:lnTo>
                  <a:lnTo>
                    <a:pt x="317" y="691"/>
                  </a:lnTo>
                  <a:lnTo>
                    <a:pt x="173" y="949"/>
                  </a:lnTo>
                  <a:lnTo>
                    <a:pt x="57" y="1208"/>
                  </a:lnTo>
                  <a:lnTo>
                    <a:pt x="116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Overapplied and Underapplied Manufacturing Overhead - Summary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793" name="Object 2"/>
          <p:cNvGraphicFramePr/>
          <p:nvPr/>
        </p:nvGraphicFramePr>
        <p:xfrm>
          <a:off x="380880" y="2530440"/>
          <a:ext cx="8463240" cy="379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30440"/>
                    <a:ext cx="8463240" cy="37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5" name="Rectangle 4"/>
          <p:cNvSpPr/>
          <p:nvPr/>
        </p:nvSpPr>
        <p:spPr>
          <a:xfrm>
            <a:off x="3571920" y="1684440"/>
            <a:ext cx="2590920" cy="820440"/>
          </a:xfrm>
          <a:prstGeom prst="rect">
            <a:avLst/>
          </a:prstGeom>
          <a:solidFill>
            <a:srgbClr val="23263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arCo’s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4"/>
          <p:cNvSpPr/>
          <p:nvPr/>
        </p:nvSpPr>
        <p:spPr>
          <a:xfrm>
            <a:off x="523800" y="6381720"/>
            <a:ext cx="5486400" cy="398880"/>
          </a:xfrm>
          <a:prstGeom prst="rect">
            <a:avLst/>
          </a:prstGeom>
          <a:solidFill>
            <a:srgbClr val="23263c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accurate but more complex to compu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7" name="Straight Arrow Connector 6"/>
          <p:cNvCxnSpPr/>
          <p:nvPr/>
        </p:nvCxnSpPr>
        <p:spPr>
          <a:xfrm flipV="1">
            <a:off x="6009120" y="3011040"/>
            <a:ext cx="762840" cy="3353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Measuring Direct Materials Cos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256" name="Group 3"/>
          <p:cNvGrpSpPr/>
          <p:nvPr/>
        </p:nvGrpSpPr>
        <p:grpSpPr>
          <a:xfrm>
            <a:off x="685800" y="1405080"/>
            <a:ext cx="7772400" cy="5113080"/>
            <a:chOff x="685800" y="1405080"/>
            <a:chExt cx="7772400" cy="5113080"/>
          </a:xfrm>
        </p:grpSpPr>
        <p:graphicFrame>
          <p:nvGraphicFramePr>
            <p:cNvPr id="257" name="Object 2"/>
            <p:cNvGraphicFramePr/>
            <p:nvPr/>
          </p:nvGraphicFramePr>
          <p:xfrm>
            <a:off x="685800" y="1405080"/>
            <a:ext cx="7772400" cy="5113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5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405080"/>
                      <a:ext cx="7772400" cy="5113080"/>
                    </a:xfrm>
                    <a:prstGeom prst="rect">
                      <a:avLst/>
                    </a:prstGeom>
                    <a:ln w="12600">
                      <a:solidFill>
                        <a:srgbClr val="def5fa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59" name="Line 5"/>
            <p:cNvSpPr/>
            <p:nvPr/>
          </p:nvSpPr>
          <p:spPr>
            <a:xfrm>
              <a:off x="2579760" y="2438280"/>
              <a:ext cx="1968480" cy="0"/>
            </a:xfrm>
            <a:prstGeom prst="line">
              <a:avLst/>
            </a:prstGeom>
            <a:ln w="1260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6"/>
            <p:cNvSpPr/>
            <p:nvPr/>
          </p:nvSpPr>
          <p:spPr>
            <a:xfrm>
              <a:off x="2274840" y="3047760"/>
              <a:ext cx="2273400" cy="0"/>
            </a:xfrm>
            <a:prstGeom prst="line">
              <a:avLst/>
            </a:prstGeom>
            <a:ln w="1260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7"/>
            <p:cNvSpPr/>
            <p:nvPr/>
          </p:nvSpPr>
          <p:spPr>
            <a:xfrm>
              <a:off x="5399280" y="2438280"/>
              <a:ext cx="2730240" cy="0"/>
            </a:xfrm>
            <a:prstGeom prst="line">
              <a:avLst/>
            </a:prstGeom>
            <a:ln w="1260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8"/>
            <p:cNvSpPr/>
            <p:nvPr/>
          </p:nvSpPr>
          <p:spPr>
            <a:xfrm>
              <a:off x="1893960" y="2743200"/>
              <a:ext cx="2654280" cy="0"/>
            </a:xfrm>
            <a:prstGeom prst="line">
              <a:avLst/>
            </a:prstGeom>
            <a:ln w="1260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9"/>
            <p:cNvSpPr/>
            <p:nvPr/>
          </p:nvSpPr>
          <p:spPr>
            <a:xfrm>
              <a:off x="5703840" y="23288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0"/>
            <p:cNvSpPr/>
            <p:nvPr/>
          </p:nvSpPr>
          <p:spPr>
            <a:xfrm>
              <a:off x="3875040" y="6203880"/>
              <a:ext cx="3721320" cy="0"/>
            </a:xfrm>
            <a:prstGeom prst="line">
              <a:avLst/>
            </a:prstGeom>
            <a:ln w="1260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1"/>
            <p:cNvSpPr/>
            <p:nvPr/>
          </p:nvSpPr>
          <p:spPr>
            <a:xfrm>
              <a:off x="4098960" y="5871960"/>
              <a:ext cx="2739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rush Script MT"/>
                </a:rPr>
                <a:t>Will E. Deli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122"/>
          <p:cNvGrpSpPr/>
          <p:nvPr/>
        </p:nvGrpSpPr>
        <p:grpSpPr>
          <a:xfrm>
            <a:off x="8158320" y="243000"/>
            <a:ext cx="680760" cy="975960"/>
            <a:chOff x="8158320" y="243000"/>
            <a:chExt cx="680760" cy="975960"/>
          </a:xfrm>
        </p:grpSpPr>
        <p:sp>
          <p:nvSpPr>
            <p:cNvPr id="267" name="Freeform 123"/>
            <p:cNvSpPr/>
            <p:nvPr/>
          </p:nvSpPr>
          <p:spPr>
            <a:xfrm>
              <a:off x="8184960" y="340560"/>
              <a:ext cx="544680" cy="709920"/>
            </a:xfrm>
            <a:custGeom>
              <a:avLst/>
              <a:gdLst>
                <a:gd name="textAreaLeft" fmla="*/ 0 w 544680"/>
                <a:gd name="textAreaRight" fmla="*/ 545040 w 544680"/>
                <a:gd name="textAreaTop" fmla="*/ 0 h 709920"/>
                <a:gd name="textAreaBottom" fmla="*/ 710280 h 709920"/>
              </a:gdLst>
              <a:ahLst/>
              <a:rect l="textAreaLeft" t="textAreaTop" r="textAreaRight" b="textAreaBottom"/>
              <a:pathLst>
                <a:path w="6835" h="7134">
                  <a:moveTo>
                    <a:pt x="174" y="3970"/>
                  </a:moveTo>
                  <a:lnTo>
                    <a:pt x="0" y="4746"/>
                  </a:lnTo>
                  <a:lnTo>
                    <a:pt x="230" y="5867"/>
                  </a:lnTo>
                  <a:lnTo>
                    <a:pt x="1904" y="7134"/>
                  </a:lnTo>
                  <a:lnTo>
                    <a:pt x="4730" y="6356"/>
                  </a:lnTo>
                  <a:lnTo>
                    <a:pt x="5393" y="3768"/>
                  </a:lnTo>
                  <a:lnTo>
                    <a:pt x="6835" y="1553"/>
                  </a:lnTo>
                  <a:lnTo>
                    <a:pt x="6777" y="547"/>
                  </a:lnTo>
                  <a:lnTo>
                    <a:pt x="6317" y="174"/>
                  </a:lnTo>
                  <a:lnTo>
                    <a:pt x="5882" y="31"/>
                  </a:lnTo>
                  <a:lnTo>
                    <a:pt x="5537" y="0"/>
                  </a:lnTo>
                  <a:lnTo>
                    <a:pt x="4990" y="87"/>
                  </a:lnTo>
                  <a:lnTo>
                    <a:pt x="4557" y="433"/>
                  </a:lnTo>
                  <a:lnTo>
                    <a:pt x="4212" y="865"/>
                  </a:lnTo>
                  <a:lnTo>
                    <a:pt x="3894" y="1410"/>
                  </a:lnTo>
                  <a:lnTo>
                    <a:pt x="3546" y="1755"/>
                  </a:lnTo>
                  <a:lnTo>
                    <a:pt x="3058" y="2101"/>
                  </a:lnTo>
                  <a:lnTo>
                    <a:pt x="2596" y="2387"/>
                  </a:lnTo>
                  <a:lnTo>
                    <a:pt x="1961" y="2560"/>
                  </a:lnTo>
                  <a:lnTo>
                    <a:pt x="1269" y="2877"/>
                  </a:lnTo>
                  <a:lnTo>
                    <a:pt x="663" y="3338"/>
                  </a:lnTo>
                  <a:lnTo>
                    <a:pt x="174" y="397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24"/>
            <p:cNvSpPr/>
            <p:nvPr/>
          </p:nvSpPr>
          <p:spPr>
            <a:xfrm>
              <a:off x="8678520" y="251280"/>
              <a:ext cx="88920" cy="111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123" h="1122">
                  <a:moveTo>
                    <a:pt x="203" y="1122"/>
                  </a:moveTo>
                  <a:lnTo>
                    <a:pt x="347" y="806"/>
                  </a:lnTo>
                  <a:lnTo>
                    <a:pt x="577" y="548"/>
                  </a:lnTo>
                  <a:lnTo>
                    <a:pt x="1123" y="231"/>
                  </a:lnTo>
                  <a:lnTo>
                    <a:pt x="923" y="0"/>
                  </a:lnTo>
                  <a:lnTo>
                    <a:pt x="491" y="290"/>
                  </a:lnTo>
                  <a:lnTo>
                    <a:pt x="231" y="548"/>
                  </a:lnTo>
                  <a:lnTo>
                    <a:pt x="0" y="1036"/>
                  </a:lnTo>
                  <a:lnTo>
                    <a:pt x="203" y="1122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25"/>
            <p:cNvSpPr/>
            <p:nvPr/>
          </p:nvSpPr>
          <p:spPr>
            <a:xfrm>
              <a:off x="8551440" y="389160"/>
              <a:ext cx="41040" cy="68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21" h="691">
                  <a:moveTo>
                    <a:pt x="444" y="315"/>
                  </a:moveTo>
                  <a:lnTo>
                    <a:pt x="521" y="126"/>
                  </a:lnTo>
                  <a:lnTo>
                    <a:pt x="394" y="0"/>
                  </a:lnTo>
                  <a:lnTo>
                    <a:pt x="172" y="155"/>
                  </a:lnTo>
                  <a:lnTo>
                    <a:pt x="0" y="473"/>
                  </a:lnTo>
                  <a:lnTo>
                    <a:pt x="48" y="691"/>
                  </a:lnTo>
                  <a:lnTo>
                    <a:pt x="270" y="628"/>
                  </a:lnTo>
                  <a:lnTo>
                    <a:pt x="394" y="502"/>
                  </a:lnTo>
                  <a:lnTo>
                    <a:pt x="444" y="315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26"/>
            <p:cNvSpPr/>
            <p:nvPr/>
          </p:nvSpPr>
          <p:spPr>
            <a:xfrm>
              <a:off x="8162640" y="357480"/>
              <a:ext cx="582480" cy="83952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839520"/>
                <a:gd name="textAreaBottom" fmla="*/ 839880 h 839520"/>
              </a:gdLst>
              <a:ahLst/>
              <a:rect l="textAreaLeft" t="textAreaTop" r="textAreaRight" b="textAreaBottom"/>
              <a:pathLst>
                <a:path w="7324" h="8425">
                  <a:moveTo>
                    <a:pt x="6718" y="0"/>
                  </a:moveTo>
                  <a:lnTo>
                    <a:pt x="6805" y="229"/>
                  </a:lnTo>
                  <a:lnTo>
                    <a:pt x="6862" y="401"/>
                  </a:lnTo>
                  <a:lnTo>
                    <a:pt x="6891" y="632"/>
                  </a:lnTo>
                  <a:lnTo>
                    <a:pt x="6862" y="804"/>
                  </a:lnTo>
                  <a:lnTo>
                    <a:pt x="6805" y="978"/>
                  </a:lnTo>
                  <a:lnTo>
                    <a:pt x="6718" y="1150"/>
                  </a:lnTo>
                  <a:lnTo>
                    <a:pt x="6604" y="1379"/>
                  </a:lnTo>
                  <a:lnTo>
                    <a:pt x="6400" y="1553"/>
                  </a:lnTo>
                  <a:lnTo>
                    <a:pt x="5998" y="2099"/>
                  </a:lnTo>
                  <a:lnTo>
                    <a:pt x="5794" y="2415"/>
                  </a:lnTo>
                  <a:lnTo>
                    <a:pt x="5593" y="2847"/>
                  </a:lnTo>
                  <a:lnTo>
                    <a:pt x="5450" y="3393"/>
                  </a:lnTo>
                  <a:lnTo>
                    <a:pt x="5277" y="3968"/>
                  </a:lnTo>
                  <a:lnTo>
                    <a:pt x="5131" y="4370"/>
                  </a:lnTo>
                  <a:lnTo>
                    <a:pt x="4901" y="4802"/>
                  </a:lnTo>
                  <a:lnTo>
                    <a:pt x="4613" y="5148"/>
                  </a:lnTo>
                  <a:lnTo>
                    <a:pt x="4268" y="5494"/>
                  </a:lnTo>
                  <a:lnTo>
                    <a:pt x="3893" y="5693"/>
                  </a:lnTo>
                  <a:lnTo>
                    <a:pt x="3288" y="5924"/>
                  </a:lnTo>
                  <a:lnTo>
                    <a:pt x="2651" y="6038"/>
                  </a:lnTo>
                  <a:lnTo>
                    <a:pt x="2221" y="6095"/>
                  </a:lnTo>
                  <a:lnTo>
                    <a:pt x="1642" y="6067"/>
                  </a:lnTo>
                  <a:lnTo>
                    <a:pt x="1268" y="5953"/>
                  </a:lnTo>
                  <a:lnTo>
                    <a:pt x="950" y="5752"/>
                  </a:lnTo>
                  <a:lnTo>
                    <a:pt x="721" y="5520"/>
                  </a:lnTo>
                  <a:lnTo>
                    <a:pt x="517" y="5262"/>
                  </a:lnTo>
                  <a:lnTo>
                    <a:pt x="432" y="4975"/>
                  </a:lnTo>
                  <a:lnTo>
                    <a:pt x="374" y="4630"/>
                  </a:lnTo>
                  <a:lnTo>
                    <a:pt x="432" y="4226"/>
                  </a:lnTo>
                  <a:lnTo>
                    <a:pt x="517" y="3796"/>
                  </a:lnTo>
                  <a:lnTo>
                    <a:pt x="143" y="4543"/>
                  </a:lnTo>
                  <a:lnTo>
                    <a:pt x="0" y="5348"/>
                  </a:lnTo>
                  <a:lnTo>
                    <a:pt x="56" y="5866"/>
                  </a:lnTo>
                  <a:lnTo>
                    <a:pt x="202" y="6472"/>
                  </a:lnTo>
                  <a:lnTo>
                    <a:pt x="517" y="7073"/>
                  </a:lnTo>
                  <a:lnTo>
                    <a:pt x="1038" y="7677"/>
                  </a:lnTo>
                  <a:lnTo>
                    <a:pt x="1672" y="8109"/>
                  </a:lnTo>
                  <a:lnTo>
                    <a:pt x="2451" y="8425"/>
                  </a:lnTo>
                  <a:lnTo>
                    <a:pt x="3345" y="8425"/>
                  </a:lnTo>
                  <a:lnTo>
                    <a:pt x="4064" y="8253"/>
                  </a:lnTo>
                  <a:lnTo>
                    <a:pt x="4729" y="7880"/>
                  </a:lnTo>
                  <a:lnTo>
                    <a:pt x="5162" y="7507"/>
                  </a:lnTo>
                  <a:lnTo>
                    <a:pt x="5564" y="7045"/>
                  </a:lnTo>
                  <a:lnTo>
                    <a:pt x="5794" y="6528"/>
                  </a:lnTo>
                  <a:lnTo>
                    <a:pt x="5911" y="6038"/>
                  </a:lnTo>
                  <a:lnTo>
                    <a:pt x="5969" y="5520"/>
                  </a:lnTo>
                  <a:lnTo>
                    <a:pt x="6026" y="4370"/>
                  </a:lnTo>
                  <a:lnTo>
                    <a:pt x="6142" y="3796"/>
                  </a:lnTo>
                  <a:lnTo>
                    <a:pt x="6315" y="3364"/>
                  </a:lnTo>
                  <a:lnTo>
                    <a:pt x="6516" y="3049"/>
                  </a:lnTo>
                  <a:lnTo>
                    <a:pt x="6805" y="2731"/>
                  </a:lnTo>
                  <a:lnTo>
                    <a:pt x="7064" y="2386"/>
                  </a:lnTo>
                  <a:lnTo>
                    <a:pt x="7236" y="2071"/>
                  </a:lnTo>
                  <a:lnTo>
                    <a:pt x="7296" y="1725"/>
                  </a:lnTo>
                  <a:lnTo>
                    <a:pt x="7324" y="1437"/>
                  </a:lnTo>
                  <a:lnTo>
                    <a:pt x="7324" y="1093"/>
                  </a:lnTo>
                  <a:lnTo>
                    <a:pt x="7208" y="691"/>
                  </a:lnTo>
                  <a:lnTo>
                    <a:pt x="7092" y="461"/>
                  </a:lnTo>
                  <a:lnTo>
                    <a:pt x="6978" y="286"/>
                  </a:lnTo>
                  <a:lnTo>
                    <a:pt x="6718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27"/>
            <p:cNvSpPr/>
            <p:nvPr/>
          </p:nvSpPr>
          <p:spPr>
            <a:xfrm>
              <a:off x="8158320" y="340560"/>
              <a:ext cx="680760" cy="87840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878400"/>
                <a:gd name="textAreaBottom" fmla="*/ 878760 h 878400"/>
              </a:gdLst>
              <a:ahLst/>
              <a:rect l="textAreaLeft" t="textAreaTop" r="textAreaRight" b="textAreaBottom"/>
              <a:pathLst>
                <a:path w="8565" h="8830">
                  <a:moveTo>
                    <a:pt x="5997" y="0"/>
                  </a:moveTo>
                  <a:lnTo>
                    <a:pt x="5509" y="116"/>
                  </a:lnTo>
                  <a:lnTo>
                    <a:pt x="5163" y="289"/>
                  </a:lnTo>
                  <a:lnTo>
                    <a:pt x="4903" y="519"/>
                  </a:lnTo>
                  <a:lnTo>
                    <a:pt x="4701" y="777"/>
                  </a:lnTo>
                  <a:lnTo>
                    <a:pt x="4499" y="1123"/>
                  </a:lnTo>
                  <a:lnTo>
                    <a:pt x="4268" y="1438"/>
                  </a:lnTo>
                  <a:lnTo>
                    <a:pt x="4037" y="1727"/>
                  </a:lnTo>
                  <a:lnTo>
                    <a:pt x="3634" y="2042"/>
                  </a:lnTo>
                  <a:lnTo>
                    <a:pt x="3287" y="2273"/>
                  </a:lnTo>
                  <a:lnTo>
                    <a:pt x="2855" y="2475"/>
                  </a:lnTo>
                  <a:lnTo>
                    <a:pt x="2423" y="2646"/>
                  </a:lnTo>
                  <a:lnTo>
                    <a:pt x="1818" y="2877"/>
                  </a:lnTo>
                  <a:lnTo>
                    <a:pt x="1182" y="3280"/>
                  </a:lnTo>
                  <a:lnTo>
                    <a:pt x="720" y="3768"/>
                  </a:lnTo>
                  <a:lnTo>
                    <a:pt x="491" y="4228"/>
                  </a:lnTo>
                  <a:lnTo>
                    <a:pt x="232" y="4976"/>
                  </a:lnTo>
                  <a:lnTo>
                    <a:pt x="145" y="5522"/>
                  </a:lnTo>
                  <a:lnTo>
                    <a:pt x="232" y="6300"/>
                  </a:lnTo>
                  <a:lnTo>
                    <a:pt x="491" y="6932"/>
                  </a:lnTo>
                  <a:lnTo>
                    <a:pt x="865" y="7422"/>
                  </a:lnTo>
                  <a:lnTo>
                    <a:pt x="1270" y="7851"/>
                  </a:lnTo>
                  <a:lnTo>
                    <a:pt x="1701" y="8169"/>
                  </a:lnTo>
                  <a:lnTo>
                    <a:pt x="2250" y="8399"/>
                  </a:lnTo>
                  <a:lnTo>
                    <a:pt x="2826" y="8514"/>
                  </a:lnTo>
                  <a:lnTo>
                    <a:pt x="3431" y="8486"/>
                  </a:lnTo>
                  <a:lnTo>
                    <a:pt x="4037" y="8370"/>
                  </a:lnTo>
                  <a:lnTo>
                    <a:pt x="4529" y="8112"/>
                  </a:lnTo>
                  <a:lnTo>
                    <a:pt x="4932" y="7851"/>
                  </a:lnTo>
                  <a:lnTo>
                    <a:pt x="5306" y="7478"/>
                  </a:lnTo>
                  <a:lnTo>
                    <a:pt x="5595" y="7134"/>
                  </a:lnTo>
                  <a:lnTo>
                    <a:pt x="5768" y="6760"/>
                  </a:lnTo>
                  <a:lnTo>
                    <a:pt x="5913" y="6269"/>
                  </a:lnTo>
                  <a:lnTo>
                    <a:pt x="5970" y="5839"/>
                  </a:lnTo>
                  <a:lnTo>
                    <a:pt x="5997" y="5408"/>
                  </a:lnTo>
                  <a:lnTo>
                    <a:pt x="5997" y="4948"/>
                  </a:lnTo>
                  <a:lnTo>
                    <a:pt x="6028" y="4431"/>
                  </a:lnTo>
                  <a:lnTo>
                    <a:pt x="6144" y="3912"/>
                  </a:lnTo>
                  <a:lnTo>
                    <a:pt x="6287" y="3597"/>
                  </a:lnTo>
                  <a:lnTo>
                    <a:pt x="6546" y="3164"/>
                  </a:lnTo>
                  <a:lnTo>
                    <a:pt x="6864" y="2819"/>
                  </a:lnTo>
                  <a:lnTo>
                    <a:pt x="7151" y="2446"/>
                  </a:lnTo>
                  <a:lnTo>
                    <a:pt x="7267" y="2129"/>
                  </a:lnTo>
                  <a:lnTo>
                    <a:pt x="7355" y="1755"/>
                  </a:lnTo>
                  <a:lnTo>
                    <a:pt x="7355" y="1410"/>
                  </a:lnTo>
                  <a:lnTo>
                    <a:pt x="7267" y="921"/>
                  </a:lnTo>
                  <a:lnTo>
                    <a:pt x="7123" y="604"/>
                  </a:lnTo>
                  <a:lnTo>
                    <a:pt x="6950" y="377"/>
                  </a:lnTo>
                  <a:lnTo>
                    <a:pt x="6690" y="174"/>
                  </a:lnTo>
                  <a:lnTo>
                    <a:pt x="7123" y="491"/>
                  </a:lnTo>
                  <a:lnTo>
                    <a:pt x="7355" y="834"/>
                  </a:lnTo>
                  <a:lnTo>
                    <a:pt x="7469" y="1180"/>
                  </a:lnTo>
                  <a:lnTo>
                    <a:pt x="7499" y="1526"/>
                  </a:lnTo>
                  <a:lnTo>
                    <a:pt x="7499" y="1869"/>
                  </a:lnTo>
                  <a:lnTo>
                    <a:pt x="7411" y="2215"/>
                  </a:lnTo>
                  <a:lnTo>
                    <a:pt x="7267" y="2531"/>
                  </a:lnTo>
                  <a:lnTo>
                    <a:pt x="7008" y="2905"/>
                  </a:lnTo>
                  <a:lnTo>
                    <a:pt x="6633" y="3280"/>
                  </a:lnTo>
                  <a:lnTo>
                    <a:pt x="6403" y="3680"/>
                  </a:lnTo>
                  <a:lnTo>
                    <a:pt x="6228" y="4142"/>
                  </a:lnTo>
                  <a:lnTo>
                    <a:pt x="6172" y="4574"/>
                  </a:lnTo>
                  <a:lnTo>
                    <a:pt x="6172" y="5178"/>
                  </a:lnTo>
                  <a:lnTo>
                    <a:pt x="6144" y="5694"/>
                  </a:lnTo>
                  <a:lnTo>
                    <a:pt x="6085" y="6212"/>
                  </a:lnTo>
                  <a:lnTo>
                    <a:pt x="5970" y="6673"/>
                  </a:lnTo>
                  <a:lnTo>
                    <a:pt x="5797" y="7105"/>
                  </a:lnTo>
                  <a:lnTo>
                    <a:pt x="5566" y="7422"/>
                  </a:lnTo>
                  <a:lnTo>
                    <a:pt x="5306" y="7681"/>
                  </a:lnTo>
                  <a:lnTo>
                    <a:pt x="6172" y="7651"/>
                  </a:lnTo>
                  <a:lnTo>
                    <a:pt x="6749" y="7737"/>
                  </a:lnTo>
                  <a:lnTo>
                    <a:pt x="6950" y="7708"/>
                  </a:lnTo>
                  <a:lnTo>
                    <a:pt x="7181" y="7624"/>
                  </a:lnTo>
                  <a:lnTo>
                    <a:pt x="7555" y="7593"/>
                  </a:lnTo>
                  <a:lnTo>
                    <a:pt x="7931" y="7593"/>
                  </a:lnTo>
                  <a:lnTo>
                    <a:pt x="8420" y="7681"/>
                  </a:lnTo>
                  <a:lnTo>
                    <a:pt x="8565" y="7795"/>
                  </a:lnTo>
                  <a:lnTo>
                    <a:pt x="8537" y="7851"/>
                  </a:lnTo>
                  <a:lnTo>
                    <a:pt x="8363" y="7910"/>
                  </a:lnTo>
                  <a:lnTo>
                    <a:pt x="7987" y="7910"/>
                  </a:lnTo>
                  <a:lnTo>
                    <a:pt x="7669" y="7939"/>
                  </a:lnTo>
                  <a:lnTo>
                    <a:pt x="7527" y="8024"/>
                  </a:lnTo>
                  <a:lnTo>
                    <a:pt x="7469" y="8054"/>
                  </a:lnTo>
                  <a:lnTo>
                    <a:pt x="7355" y="8197"/>
                  </a:lnTo>
                  <a:lnTo>
                    <a:pt x="7151" y="8340"/>
                  </a:lnTo>
                  <a:lnTo>
                    <a:pt x="6921" y="8486"/>
                  </a:lnTo>
                  <a:lnTo>
                    <a:pt x="6546" y="8571"/>
                  </a:lnTo>
                  <a:lnTo>
                    <a:pt x="5853" y="8715"/>
                  </a:lnTo>
                  <a:lnTo>
                    <a:pt x="4788" y="8830"/>
                  </a:lnTo>
                  <a:lnTo>
                    <a:pt x="3634" y="8830"/>
                  </a:lnTo>
                  <a:lnTo>
                    <a:pt x="2826" y="8801"/>
                  </a:lnTo>
                  <a:lnTo>
                    <a:pt x="2192" y="8685"/>
                  </a:lnTo>
                  <a:lnTo>
                    <a:pt x="1731" y="8629"/>
                  </a:lnTo>
                  <a:lnTo>
                    <a:pt x="1471" y="8542"/>
                  </a:lnTo>
                  <a:lnTo>
                    <a:pt x="1443" y="8456"/>
                  </a:lnTo>
                  <a:lnTo>
                    <a:pt x="1500" y="8399"/>
                  </a:lnTo>
                  <a:lnTo>
                    <a:pt x="1644" y="8313"/>
                  </a:lnTo>
                  <a:lnTo>
                    <a:pt x="1213" y="8024"/>
                  </a:lnTo>
                  <a:lnTo>
                    <a:pt x="865" y="7708"/>
                  </a:lnTo>
                  <a:lnTo>
                    <a:pt x="576" y="7363"/>
                  </a:lnTo>
                  <a:lnTo>
                    <a:pt x="377" y="7046"/>
                  </a:lnTo>
                  <a:lnTo>
                    <a:pt x="202" y="6646"/>
                  </a:lnTo>
                  <a:lnTo>
                    <a:pt x="88" y="6300"/>
                  </a:lnTo>
                  <a:lnTo>
                    <a:pt x="0" y="5867"/>
                  </a:lnTo>
                  <a:lnTo>
                    <a:pt x="29" y="5294"/>
                  </a:lnTo>
                  <a:lnTo>
                    <a:pt x="88" y="4860"/>
                  </a:lnTo>
                  <a:lnTo>
                    <a:pt x="232" y="4344"/>
                  </a:lnTo>
                  <a:lnTo>
                    <a:pt x="520" y="3740"/>
                  </a:lnTo>
                  <a:lnTo>
                    <a:pt x="865" y="3338"/>
                  </a:lnTo>
                  <a:lnTo>
                    <a:pt x="1241" y="3021"/>
                  </a:lnTo>
                  <a:lnTo>
                    <a:pt x="1731" y="2733"/>
                  </a:lnTo>
                  <a:lnTo>
                    <a:pt x="2280" y="2560"/>
                  </a:lnTo>
                  <a:lnTo>
                    <a:pt x="2942" y="2302"/>
                  </a:lnTo>
                  <a:lnTo>
                    <a:pt x="3431" y="2014"/>
                  </a:lnTo>
                  <a:lnTo>
                    <a:pt x="3923" y="1641"/>
                  </a:lnTo>
                  <a:lnTo>
                    <a:pt x="4297" y="1180"/>
                  </a:lnTo>
                  <a:lnTo>
                    <a:pt x="4585" y="777"/>
                  </a:lnTo>
                  <a:lnTo>
                    <a:pt x="4788" y="491"/>
                  </a:lnTo>
                  <a:lnTo>
                    <a:pt x="5046" y="260"/>
                  </a:lnTo>
                  <a:lnTo>
                    <a:pt x="5277" y="116"/>
                  </a:lnTo>
                  <a:lnTo>
                    <a:pt x="5566" y="31"/>
                  </a:lnTo>
                  <a:lnTo>
                    <a:pt x="59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28"/>
            <p:cNvSpPr/>
            <p:nvPr/>
          </p:nvSpPr>
          <p:spPr>
            <a:xfrm>
              <a:off x="8685000" y="243000"/>
              <a:ext cx="87840" cy="11988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1096" h="1208">
                  <a:moveTo>
                    <a:pt x="116" y="1151"/>
                  </a:moveTo>
                  <a:lnTo>
                    <a:pt x="260" y="892"/>
                  </a:lnTo>
                  <a:lnTo>
                    <a:pt x="490" y="662"/>
                  </a:lnTo>
                  <a:lnTo>
                    <a:pt x="778" y="490"/>
                  </a:lnTo>
                  <a:lnTo>
                    <a:pt x="1096" y="317"/>
                  </a:lnTo>
                  <a:lnTo>
                    <a:pt x="894" y="0"/>
                  </a:lnTo>
                  <a:lnTo>
                    <a:pt x="518" y="230"/>
                  </a:lnTo>
                  <a:lnTo>
                    <a:pt x="288" y="459"/>
                  </a:lnTo>
                  <a:lnTo>
                    <a:pt x="116" y="691"/>
                  </a:lnTo>
                  <a:lnTo>
                    <a:pt x="0" y="949"/>
                  </a:lnTo>
                  <a:lnTo>
                    <a:pt x="200" y="634"/>
                  </a:lnTo>
                  <a:lnTo>
                    <a:pt x="432" y="376"/>
                  </a:lnTo>
                  <a:lnTo>
                    <a:pt x="866" y="86"/>
                  </a:lnTo>
                  <a:lnTo>
                    <a:pt x="980" y="317"/>
                  </a:lnTo>
                  <a:lnTo>
                    <a:pt x="577" y="490"/>
                  </a:lnTo>
                  <a:lnTo>
                    <a:pt x="317" y="691"/>
                  </a:lnTo>
                  <a:lnTo>
                    <a:pt x="173" y="949"/>
                  </a:lnTo>
                  <a:lnTo>
                    <a:pt x="57" y="1208"/>
                  </a:lnTo>
                  <a:lnTo>
                    <a:pt x="116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120" y="2133360"/>
            <a:ext cx="8153640" cy="2819160"/>
          </a:xfrm>
          <a:prstGeom prst="rect">
            <a:avLst/>
          </a:prstGeom>
          <a:solidFill>
            <a:srgbClr val="f2a4a7"/>
          </a:solidFill>
          <a:ln w="28440">
            <a:solidFill>
              <a:srgbClr val="3f1e25"/>
            </a:solidFill>
            <a:miter/>
          </a:ln>
          <a:effectLst>
            <a:outerShdw dist="107932" dir="2700000" blurRad="0" rotWithShape="0">
              <a:srgbClr val="def5fa"/>
            </a:outerShdw>
          </a:effectLst>
        </p:spPr>
        <p:txBody>
          <a:bodyPr lIns="90360" rIns="90360" tIns="44280" bIns="44280"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1e25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3f1e25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3f1e25"/>
                </a:solidFill>
                <a:latin typeface="Arial"/>
                <a:ea typeface="Arial"/>
              </a:rPr>
              <a:t>What effect will the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overapplied </a:t>
            </a:r>
            <a:r>
              <a:rPr b="1" lang="en-US" sz="2800" spc="-1" strike="noStrike">
                <a:solidFill>
                  <a:srgbClr val="3f1e25"/>
                </a:solidFill>
                <a:latin typeface="Arial"/>
                <a:ea typeface="Arial"/>
              </a:rPr>
              <a:t>overhead have on PearCo’s net operating inc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f1e25"/>
                </a:solidFill>
                <a:latin typeface="Arial"/>
                <a:ea typeface="Arial"/>
              </a:rPr>
              <a:t>a. Net operating income will increase.</a:t>
            </a:r>
            <a:endParaRPr b="0" lang="en-US" sz="30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f1e25"/>
                </a:solidFill>
                <a:latin typeface="Arial"/>
                <a:ea typeface="Arial"/>
              </a:rPr>
              <a:t>b. Net operating income will be unaffected.</a:t>
            </a:r>
            <a:endParaRPr b="0" lang="en-US" sz="30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f1e25"/>
                </a:solidFill>
                <a:latin typeface="Arial"/>
                <a:ea typeface="Arial"/>
              </a:rPr>
              <a:t>c. Net operating income will decrease.</a:t>
            </a:r>
            <a:endParaRPr b="0" lang="en-US" sz="3000" spc="-1" strike="noStrike">
              <a:solidFill>
                <a:srgbClr val="da1f28"/>
              </a:solidFill>
              <a:latin typeface="Arial"/>
            </a:endParaRPr>
          </a:p>
        </p:txBody>
      </p:sp>
      <p:grpSp>
        <p:nvGrpSpPr>
          <p:cNvPr id="800" name="Group 122"/>
          <p:cNvGrpSpPr/>
          <p:nvPr/>
        </p:nvGrpSpPr>
        <p:grpSpPr>
          <a:xfrm>
            <a:off x="8158320" y="243000"/>
            <a:ext cx="680760" cy="975960"/>
            <a:chOff x="8158320" y="243000"/>
            <a:chExt cx="680760" cy="975960"/>
          </a:xfrm>
        </p:grpSpPr>
        <p:sp>
          <p:nvSpPr>
            <p:cNvPr id="801" name="Freeform 123"/>
            <p:cNvSpPr/>
            <p:nvPr/>
          </p:nvSpPr>
          <p:spPr>
            <a:xfrm>
              <a:off x="8184960" y="340560"/>
              <a:ext cx="544680" cy="709920"/>
            </a:xfrm>
            <a:custGeom>
              <a:avLst/>
              <a:gdLst>
                <a:gd name="textAreaLeft" fmla="*/ 0 w 544680"/>
                <a:gd name="textAreaRight" fmla="*/ 545040 w 544680"/>
                <a:gd name="textAreaTop" fmla="*/ 0 h 709920"/>
                <a:gd name="textAreaBottom" fmla="*/ 710280 h 709920"/>
              </a:gdLst>
              <a:ahLst/>
              <a:rect l="textAreaLeft" t="textAreaTop" r="textAreaRight" b="textAreaBottom"/>
              <a:pathLst>
                <a:path w="6835" h="7134">
                  <a:moveTo>
                    <a:pt x="174" y="3970"/>
                  </a:moveTo>
                  <a:lnTo>
                    <a:pt x="0" y="4746"/>
                  </a:lnTo>
                  <a:lnTo>
                    <a:pt x="230" y="5867"/>
                  </a:lnTo>
                  <a:lnTo>
                    <a:pt x="1904" y="7134"/>
                  </a:lnTo>
                  <a:lnTo>
                    <a:pt x="4730" y="6356"/>
                  </a:lnTo>
                  <a:lnTo>
                    <a:pt x="5393" y="3768"/>
                  </a:lnTo>
                  <a:lnTo>
                    <a:pt x="6835" y="1553"/>
                  </a:lnTo>
                  <a:lnTo>
                    <a:pt x="6777" y="547"/>
                  </a:lnTo>
                  <a:lnTo>
                    <a:pt x="6317" y="174"/>
                  </a:lnTo>
                  <a:lnTo>
                    <a:pt x="5882" y="31"/>
                  </a:lnTo>
                  <a:lnTo>
                    <a:pt x="5537" y="0"/>
                  </a:lnTo>
                  <a:lnTo>
                    <a:pt x="4990" y="87"/>
                  </a:lnTo>
                  <a:lnTo>
                    <a:pt x="4557" y="433"/>
                  </a:lnTo>
                  <a:lnTo>
                    <a:pt x="4212" y="865"/>
                  </a:lnTo>
                  <a:lnTo>
                    <a:pt x="3894" y="1410"/>
                  </a:lnTo>
                  <a:lnTo>
                    <a:pt x="3546" y="1755"/>
                  </a:lnTo>
                  <a:lnTo>
                    <a:pt x="3058" y="2101"/>
                  </a:lnTo>
                  <a:lnTo>
                    <a:pt x="2596" y="2387"/>
                  </a:lnTo>
                  <a:lnTo>
                    <a:pt x="1961" y="2560"/>
                  </a:lnTo>
                  <a:lnTo>
                    <a:pt x="1269" y="2877"/>
                  </a:lnTo>
                  <a:lnTo>
                    <a:pt x="663" y="3338"/>
                  </a:lnTo>
                  <a:lnTo>
                    <a:pt x="174" y="397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24"/>
            <p:cNvSpPr/>
            <p:nvPr/>
          </p:nvSpPr>
          <p:spPr>
            <a:xfrm>
              <a:off x="8678520" y="251280"/>
              <a:ext cx="88920" cy="111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123" h="1122">
                  <a:moveTo>
                    <a:pt x="203" y="1122"/>
                  </a:moveTo>
                  <a:lnTo>
                    <a:pt x="347" y="806"/>
                  </a:lnTo>
                  <a:lnTo>
                    <a:pt x="577" y="548"/>
                  </a:lnTo>
                  <a:lnTo>
                    <a:pt x="1123" y="231"/>
                  </a:lnTo>
                  <a:lnTo>
                    <a:pt x="923" y="0"/>
                  </a:lnTo>
                  <a:lnTo>
                    <a:pt x="491" y="290"/>
                  </a:lnTo>
                  <a:lnTo>
                    <a:pt x="231" y="548"/>
                  </a:lnTo>
                  <a:lnTo>
                    <a:pt x="0" y="1036"/>
                  </a:lnTo>
                  <a:lnTo>
                    <a:pt x="203" y="1122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25"/>
            <p:cNvSpPr/>
            <p:nvPr/>
          </p:nvSpPr>
          <p:spPr>
            <a:xfrm>
              <a:off x="8551440" y="389160"/>
              <a:ext cx="41040" cy="68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21" h="691">
                  <a:moveTo>
                    <a:pt x="444" y="315"/>
                  </a:moveTo>
                  <a:lnTo>
                    <a:pt x="521" y="126"/>
                  </a:lnTo>
                  <a:lnTo>
                    <a:pt x="394" y="0"/>
                  </a:lnTo>
                  <a:lnTo>
                    <a:pt x="172" y="155"/>
                  </a:lnTo>
                  <a:lnTo>
                    <a:pt x="0" y="473"/>
                  </a:lnTo>
                  <a:lnTo>
                    <a:pt x="48" y="691"/>
                  </a:lnTo>
                  <a:lnTo>
                    <a:pt x="270" y="628"/>
                  </a:lnTo>
                  <a:lnTo>
                    <a:pt x="394" y="502"/>
                  </a:lnTo>
                  <a:lnTo>
                    <a:pt x="444" y="315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26"/>
            <p:cNvSpPr/>
            <p:nvPr/>
          </p:nvSpPr>
          <p:spPr>
            <a:xfrm>
              <a:off x="8162640" y="357480"/>
              <a:ext cx="582480" cy="83952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839520"/>
                <a:gd name="textAreaBottom" fmla="*/ 839880 h 839520"/>
              </a:gdLst>
              <a:ahLst/>
              <a:rect l="textAreaLeft" t="textAreaTop" r="textAreaRight" b="textAreaBottom"/>
              <a:pathLst>
                <a:path w="7324" h="8425">
                  <a:moveTo>
                    <a:pt x="6718" y="0"/>
                  </a:moveTo>
                  <a:lnTo>
                    <a:pt x="6805" y="229"/>
                  </a:lnTo>
                  <a:lnTo>
                    <a:pt x="6862" y="401"/>
                  </a:lnTo>
                  <a:lnTo>
                    <a:pt x="6891" y="632"/>
                  </a:lnTo>
                  <a:lnTo>
                    <a:pt x="6862" y="804"/>
                  </a:lnTo>
                  <a:lnTo>
                    <a:pt x="6805" y="978"/>
                  </a:lnTo>
                  <a:lnTo>
                    <a:pt x="6718" y="1150"/>
                  </a:lnTo>
                  <a:lnTo>
                    <a:pt x="6604" y="1379"/>
                  </a:lnTo>
                  <a:lnTo>
                    <a:pt x="6400" y="1553"/>
                  </a:lnTo>
                  <a:lnTo>
                    <a:pt x="5998" y="2099"/>
                  </a:lnTo>
                  <a:lnTo>
                    <a:pt x="5794" y="2415"/>
                  </a:lnTo>
                  <a:lnTo>
                    <a:pt x="5593" y="2847"/>
                  </a:lnTo>
                  <a:lnTo>
                    <a:pt x="5450" y="3393"/>
                  </a:lnTo>
                  <a:lnTo>
                    <a:pt x="5277" y="3968"/>
                  </a:lnTo>
                  <a:lnTo>
                    <a:pt x="5131" y="4370"/>
                  </a:lnTo>
                  <a:lnTo>
                    <a:pt x="4901" y="4802"/>
                  </a:lnTo>
                  <a:lnTo>
                    <a:pt x="4613" y="5148"/>
                  </a:lnTo>
                  <a:lnTo>
                    <a:pt x="4268" y="5494"/>
                  </a:lnTo>
                  <a:lnTo>
                    <a:pt x="3893" y="5693"/>
                  </a:lnTo>
                  <a:lnTo>
                    <a:pt x="3288" y="5924"/>
                  </a:lnTo>
                  <a:lnTo>
                    <a:pt x="2651" y="6038"/>
                  </a:lnTo>
                  <a:lnTo>
                    <a:pt x="2221" y="6095"/>
                  </a:lnTo>
                  <a:lnTo>
                    <a:pt x="1642" y="6067"/>
                  </a:lnTo>
                  <a:lnTo>
                    <a:pt x="1268" y="5953"/>
                  </a:lnTo>
                  <a:lnTo>
                    <a:pt x="950" y="5752"/>
                  </a:lnTo>
                  <a:lnTo>
                    <a:pt x="721" y="5520"/>
                  </a:lnTo>
                  <a:lnTo>
                    <a:pt x="517" y="5262"/>
                  </a:lnTo>
                  <a:lnTo>
                    <a:pt x="432" y="4975"/>
                  </a:lnTo>
                  <a:lnTo>
                    <a:pt x="374" y="4630"/>
                  </a:lnTo>
                  <a:lnTo>
                    <a:pt x="432" y="4226"/>
                  </a:lnTo>
                  <a:lnTo>
                    <a:pt x="517" y="3796"/>
                  </a:lnTo>
                  <a:lnTo>
                    <a:pt x="143" y="4543"/>
                  </a:lnTo>
                  <a:lnTo>
                    <a:pt x="0" y="5348"/>
                  </a:lnTo>
                  <a:lnTo>
                    <a:pt x="56" y="5866"/>
                  </a:lnTo>
                  <a:lnTo>
                    <a:pt x="202" y="6472"/>
                  </a:lnTo>
                  <a:lnTo>
                    <a:pt x="517" y="7073"/>
                  </a:lnTo>
                  <a:lnTo>
                    <a:pt x="1038" y="7677"/>
                  </a:lnTo>
                  <a:lnTo>
                    <a:pt x="1672" y="8109"/>
                  </a:lnTo>
                  <a:lnTo>
                    <a:pt x="2451" y="8425"/>
                  </a:lnTo>
                  <a:lnTo>
                    <a:pt x="3345" y="8425"/>
                  </a:lnTo>
                  <a:lnTo>
                    <a:pt x="4064" y="8253"/>
                  </a:lnTo>
                  <a:lnTo>
                    <a:pt x="4729" y="7880"/>
                  </a:lnTo>
                  <a:lnTo>
                    <a:pt x="5162" y="7507"/>
                  </a:lnTo>
                  <a:lnTo>
                    <a:pt x="5564" y="7045"/>
                  </a:lnTo>
                  <a:lnTo>
                    <a:pt x="5794" y="6528"/>
                  </a:lnTo>
                  <a:lnTo>
                    <a:pt x="5911" y="6038"/>
                  </a:lnTo>
                  <a:lnTo>
                    <a:pt x="5969" y="5520"/>
                  </a:lnTo>
                  <a:lnTo>
                    <a:pt x="6026" y="4370"/>
                  </a:lnTo>
                  <a:lnTo>
                    <a:pt x="6142" y="3796"/>
                  </a:lnTo>
                  <a:lnTo>
                    <a:pt x="6315" y="3364"/>
                  </a:lnTo>
                  <a:lnTo>
                    <a:pt x="6516" y="3049"/>
                  </a:lnTo>
                  <a:lnTo>
                    <a:pt x="6805" y="2731"/>
                  </a:lnTo>
                  <a:lnTo>
                    <a:pt x="7064" y="2386"/>
                  </a:lnTo>
                  <a:lnTo>
                    <a:pt x="7236" y="2071"/>
                  </a:lnTo>
                  <a:lnTo>
                    <a:pt x="7296" y="1725"/>
                  </a:lnTo>
                  <a:lnTo>
                    <a:pt x="7324" y="1437"/>
                  </a:lnTo>
                  <a:lnTo>
                    <a:pt x="7324" y="1093"/>
                  </a:lnTo>
                  <a:lnTo>
                    <a:pt x="7208" y="691"/>
                  </a:lnTo>
                  <a:lnTo>
                    <a:pt x="7092" y="461"/>
                  </a:lnTo>
                  <a:lnTo>
                    <a:pt x="6978" y="286"/>
                  </a:lnTo>
                  <a:lnTo>
                    <a:pt x="6718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27"/>
            <p:cNvSpPr/>
            <p:nvPr/>
          </p:nvSpPr>
          <p:spPr>
            <a:xfrm>
              <a:off x="8158320" y="340560"/>
              <a:ext cx="680760" cy="87840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878400"/>
                <a:gd name="textAreaBottom" fmla="*/ 878760 h 878400"/>
              </a:gdLst>
              <a:ahLst/>
              <a:rect l="textAreaLeft" t="textAreaTop" r="textAreaRight" b="textAreaBottom"/>
              <a:pathLst>
                <a:path w="8565" h="8830">
                  <a:moveTo>
                    <a:pt x="5997" y="0"/>
                  </a:moveTo>
                  <a:lnTo>
                    <a:pt x="5509" y="116"/>
                  </a:lnTo>
                  <a:lnTo>
                    <a:pt x="5163" y="289"/>
                  </a:lnTo>
                  <a:lnTo>
                    <a:pt x="4903" y="519"/>
                  </a:lnTo>
                  <a:lnTo>
                    <a:pt x="4701" y="777"/>
                  </a:lnTo>
                  <a:lnTo>
                    <a:pt x="4499" y="1123"/>
                  </a:lnTo>
                  <a:lnTo>
                    <a:pt x="4268" y="1438"/>
                  </a:lnTo>
                  <a:lnTo>
                    <a:pt x="4037" y="1727"/>
                  </a:lnTo>
                  <a:lnTo>
                    <a:pt x="3634" y="2042"/>
                  </a:lnTo>
                  <a:lnTo>
                    <a:pt x="3287" y="2273"/>
                  </a:lnTo>
                  <a:lnTo>
                    <a:pt x="2855" y="2475"/>
                  </a:lnTo>
                  <a:lnTo>
                    <a:pt x="2423" y="2646"/>
                  </a:lnTo>
                  <a:lnTo>
                    <a:pt x="1818" y="2877"/>
                  </a:lnTo>
                  <a:lnTo>
                    <a:pt x="1182" y="3280"/>
                  </a:lnTo>
                  <a:lnTo>
                    <a:pt x="720" y="3768"/>
                  </a:lnTo>
                  <a:lnTo>
                    <a:pt x="491" y="4228"/>
                  </a:lnTo>
                  <a:lnTo>
                    <a:pt x="232" y="4976"/>
                  </a:lnTo>
                  <a:lnTo>
                    <a:pt x="145" y="5522"/>
                  </a:lnTo>
                  <a:lnTo>
                    <a:pt x="232" y="6300"/>
                  </a:lnTo>
                  <a:lnTo>
                    <a:pt x="491" y="6932"/>
                  </a:lnTo>
                  <a:lnTo>
                    <a:pt x="865" y="7422"/>
                  </a:lnTo>
                  <a:lnTo>
                    <a:pt x="1270" y="7851"/>
                  </a:lnTo>
                  <a:lnTo>
                    <a:pt x="1701" y="8169"/>
                  </a:lnTo>
                  <a:lnTo>
                    <a:pt x="2250" y="8399"/>
                  </a:lnTo>
                  <a:lnTo>
                    <a:pt x="2826" y="8514"/>
                  </a:lnTo>
                  <a:lnTo>
                    <a:pt x="3431" y="8486"/>
                  </a:lnTo>
                  <a:lnTo>
                    <a:pt x="4037" y="8370"/>
                  </a:lnTo>
                  <a:lnTo>
                    <a:pt x="4529" y="8112"/>
                  </a:lnTo>
                  <a:lnTo>
                    <a:pt x="4932" y="7851"/>
                  </a:lnTo>
                  <a:lnTo>
                    <a:pt x="5306" y="7478"/>
                  </a:lnTo>
                  <a:lnTo>
                    <a:pt x="5595" y="7134"/>
                  </a:lnTo>
                  <a:lnTo>
                    <a:pt x="5768" y="6760"/>
                  </a:lnTo>
                  <a:lnTo>
                    <a:pt x="5913" y="6269"/>
                  </a:lnTo>
                  <a:lnTo>
                    <a:pt x="5970" y="5839"/>
                  </a:lnTo>
                  <a:lnTo>
                    <a:pt x="5997" y="5408"/>
                  </a:lnTo>
                  <a:lnTo>
                    <a:pt x="5997" y="4948"/>
                  </a:lnTo>
                  <a:lnTo>
                    <a:pt x="6028" y="4431"/>
                  </a:lnTo>
                  <a:lnTo>
                    <a:pt x="6144" y="3912"/>
                  </a:lnTo>
                  <a:lnTo>
                    <a:pt x="6287" y="3597"/>
                  </a:lnTo>
                  <a:lnTo>
                    <a:pt x="6546" y="3164"/>
                  </a:lnTo>
                  <a:lnTo>
                    <a:pt x="6864" y="2819"/>
                  </a:lnTo>
                  <a:lnTo>
                    <a:pt x="7151" y="2446"/>
                  </a:lnTo>
                  <a:lnTo>
                    <a:pt x="7267" y="2129"/>
                  </a:lnTo>
                  <a:lnTo>
                    <a:pt x="7355" y="1755"/>
                  </a:lnTo>
                  <a:lnTo>
                    <a:pt x="7355" y="1410"/>
                  </a:lnTo>
                  <a:lnTo>
                    <a:pt x="7267" y="921"/>
                  </a:lnTo>
                  <a:lnTo>
                    <a:pt x="7123" y="604"/>
                  </a:lnTo>
                  <a:lnTo>
                    <a:pt x="6950" y="377"/>
                  </a:lnTo>
                  <a:lnTo>
                    <a:pt x="6690" y="174"/>
                  </a:lnTo>
                  <a:lnTo>
                    <a:pt x="7123" y="491"/>
                  </a:lnTo>
                  <a:lnTo>
                    <a:pt x="7355" y="834"/>
                  </a:lnTo>
                  <a:lnTo>
                    <a:pt x="7469" y="1180"/>
                  </a:lnTo>
                  <a:lnTo>
                    <a:pt x="7499" y="1526"/>
                  </a:lnTo>
                  <a:lnTo>
                    <a:pt x="7499" y="1869"/>
                  </a:lnTo>
                  <a:lnTo>
                    <a:pt x="7411" y="2215"/>
                  </a:lnTo>
                  <a:lnTo>
                    <a:pt x="7267" y="2531"/>
                  </a:lnTo>
                  <a:lnTo>
                    <a:pt x="7008" y="2905"/>
                  </a:lnTo>
                  <a:lnTo>
                    <a:pt x="6633" y="3280"/>
                  </a:lnTo>
                  <a:lnTo>
                    <a:pt x="6403" y="3680"/>
                  </a:lnTo>
                  <a:lnTo>
                    <a:pt x="6228" y="4142"/>
                  </a:lnTo>
                  <a:lnTo>
                    <a:pt x="6172" y="4574"/>
                  </a:lnTo>
                  <a:lnTo>
                    <a:pt x="6172" y="5178"/>
                  </a:lnTo>
                  <a:lnTo>
                    <a:pt x="6144" y="5694"/>
                  </a:lnTo>
                  <a:lnTo>
                    <a:pt x="6085" y="6212"/>
                  </a:lnTo>
                  <a:lnTo>
                    <a:pt x="5970" y="6673"/>
                  </a:lnTo>
                  <a:lnTo>
                    <a:pt x="5797" y="7105"/>
                  </a:lnTo>
                  <a:lnTo>
                    <a:pt x="5566" y="7422"/>
                  </a:lnTo>
                  <a:lnTo>
                    <a:pt x="5306" y="7681"/>
                  </a:lnTo>
                  <a:lnTo>
                    <a:pt x="6172" y="7651"/>
                  </a:lnTo>
                  <a:lnTo>
                    <a:pt x="6749" y="7737"/>
                  </a:lnTo>
                  <a:lnTo>
                    <a:pt x="6950" y="7708"/>
                  </a:lnTo>
                  <a:lnTo>
                    <a:pt x="7181" y="7624"/>
                  </a:lnTo>
                  <a:lnTo>
                    <a:pt x="7555" y="7593"/>
                  </a:lnTo>
                  <a:lnTo>
                    <a:pt x="7931" y="7593"/>
                  </a:lnTo>
                  <a:lnTo>
                    <a:pt x="8420" y="7681"/>
                  </a:lnTo>
                  <a:lnTo>
                    <a:pt x="8565" y="7795"/>
                  </a:lnTo>
                  <a:lnTo>
                    <a:pt x="8537" y="7851"/>
                  </a:lnTo>
                  <a:lnTo>
                    <a:pt x="8363" y="7910"/>
                  </a:lnTo>
                  <a:lnTo>
                    <a:pt x="7987" y="7910"/>
                  </a:lnTo>
                  <a:lnTo>
                    <a:pt x="7669" y="7939"/>
                  </a:lnTo>
                  <a:lnTo>
                    <a:pt x="7527" y="8024"/>
                  </a:lnTo>
                  <a:lnTo>
                    <a:pt x="7469" y="8054"/>
                  </a:lnTo>
                  <a:lnTo>
                    <a:pt x="7355" y="8197"/>
                  </a:lnTo>
                  <a:lnTo>
                    <a:pt x="7151" y="8340"/>
                  </a:lnTo>
                  <a:lnTo>
                    <a:pt x="6921" y="8486"/>
                  </a:lnTo>
                  <a:lnTo>
                    <a:pt x="6546" y="8571"/>
                  </a:lnTo>
                  <a:lnTo>
                    <a:pt x="5853" y="8715"/>
                  </a:lnTo>
                  <a:lnTo>
                    <a:pt x="4788" y="8830"/>
                  </a:lnTo>
                  <a:lnTo>
                    <a:pt x="3634" y="8830"/>
                  </a:lnTo>
                  <a:lnTo>
                    <a:pt x="2826" y="8801"/>
                  </a:lnTo>
                  <a:lnTo>
                    <a:pt x="2192" y="8685"/>
                  </a:lnTo>
                  <a:lnTo>
                    <a:pt x="1731" y="8629"/>
                  </a:lnTo>
                  <a:lnTo>
                    <a:pt x="1471" y="8542"/>
                  </a:lnTo>
                  <a:lnTo>
                    <a:pt x="1443" y="8456"/>
                  </a:lnTo>
                  <a:lnTo>
                    <a:pt x="1500" y="8399"/>
                  </a:lnTo>
                  <a:lnTo>
                    <a:pt x="1644" y="8313"/>
                  </a:lnTo>
                  <a:lnTo>
                    <a:pt x="1213" y="8024"/>
                  </a:lnTo>
                  <a:lnTo>
                    <a:pt x="865" y="7708"/>
                  </a:lnTo>
                  <a:lnTo>
                    <a:pt x="576" y="7363"/>
                  </a:lnTo>
                  <a:lnTo>
                    <a:pt x="377" y="7046"/>
                  </a:lnTo>
                  <a:lnTo>
                    <a:pt x="202" y="6646"/>
                  </a:lnTo>
                  <a:lnTo>
                    <a:pt x="88" y="6300"/>
                  </a:lnTo>
                  <a:lnTo>
                    <a:pt x="0" y="5867"/>
                  </a:lnTo>
                  <a:lnTo>
                    <a:pt x="29" y="5294"/>
                  </a:lnTo>
                  <a:lnTo>
                    <a:pt x="88" y="4860"/>
                  </a:lnTo>
                  <a:lnTo>
                    <a:pt x="232" y="4344"/>
                  </a:lnTo>
                  <a:lnTo>
                    <a:pt x="520" y="3740"/>
                  </a:lnTo>
                  <a:lnTo>
                    <a:pt x="865" y="3338"/>
                  </a:lnTo>
                  <a:lnTo>
                    <a:pt x="1241" y="3021"/>
                  </a:lnTo>
                  <a:lnTo>
                    <a:pt x="1731" y="2733"/>
                  </a:lnTo>
                  <a:lnTo>
                    <a:pt x="2280" y="2560"/>
                  </a:lnTo>
                  <a:lnTo>
                    <a:pt x="2942" y="2302"/>
                  </a:lnTo>
                  <a:lnTo>
                    <a:pt x="3431" y="2014"/>
                  </a:lnTo>
                  <a:lnTo>
                    <a:pt x="3923" y="1641"/>
                  </a:lnTo>
                  <a:lnTo>
                    <a:pt x="4297" y="1180"/>
                  </a:lnTo>
                  <a:lnTo>
                    <a:pt x="4585" y="777"/>
                  </a:lnTo>
                  <a:lnTo>
                    <a:pt x="4788" y="491"/>
                  </a:lnTo>
                  <a:lnTo>
                    <a:pt x="5046" y="260"/>
                  </a:lnTo>
                  <a:lnTo>
                    <a:pt x="5277" y="116"/>
                  </a:lnTo>
                  <a:lnTo>
                    <a:pt x="5566" y="31"/>
                  </a:lnTo>
                  <a:lnTo>
                    <a:pt x="59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28"/>
            <p:cNvSpPr/>
            <p:nvPr/>
          </p:nvSpPr>
          <p:spPr>
            <a:xfrm>
              <a:off x="8685000" y="243000"/>
              <a:ext cx="87840" cy="11988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1096" h="1208">
                  <a:moveTo>
                    <a:pt x="116" y="1151"/>
                  </a:moveTo>
                  <a:lnTo>
                    <a:pt x="260" y="892"/>
                  </a:lnTo>
                  <a:lnTo>
                    <a:pt x="490" y="662"/>
                  </a:lnTo>
                  <a:lnTo>
                    <a:pt x="778" y="490"/>
                  </a:lnTo>
                  <a:lnTo>
                    <a:pt x="1096" y="317"/>
                  </a:lnTo>
                  <a:lnTo>
                    <a:pt x="894" y="0"/>
                  </a:lnTo>
                  <a:lnTo>
                    <a:pt x="518" y="230"/>
                  </a:lnTo>
                  <a:lnTo>
                    <a:pt x="288" y="459"/>
                  </a:lnTo>
                  <a:lnTo>
                    <a:pt x="116" y="691"/>
                  </a:lnTo>
                  <a:lnTo>
                    <a:pt x="0" y="949"/>
                  </a:lnTo>
                  <a:lnTo>
                    <a:pt x="200" y="634"/>
                  </a:lnTo>
                  <a:lnTo>
                    <a:pt x="432" y="376"/>
                  </a:lnTo>
                  <a:lnTo>
                    <a:pt x="866" y="86"/>
                  </a:lnTo>
                  <a:lnTo>
                    <a:pt x="980" y="317"/>
                  </a:lnTo>
                  <a:lnTo>
                    <a:pt x="577" y="490"/>
                  </a:lnTo>
                  <a:lnTo>
                    <a:pt x="317" y="691"/>
                  </a:lnTo>
                  <a:lnTo>
                    <a:pt x="173" y="949"/>
                  </a:lnTo>
                  <a:lnTo>
                    <a:pt x="57" y="1208"/>
                  </a:lnTo>
                  <a:lnTo>
                    <a:pt x="116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3"/>
          <p:cNvSpPr/>
          <p:nvPr/>
        </p:nvSpPr>
        <p:spPr>
          <a:xfrm>
            <a:off x="501480" y="2133720"/>
            <a:ext cx="8153640" cy="2819160"/>
          </a:xfrm>
          <a:prstGeom prst="rect">
            <a:avLst/>
          </a:prstGeom>
          <a:solidFill>
            <a:srgbClr val="f2a4a7"/>
          </a:solidFill>
          <a:ln w="28440">
            <a:solidFill>
              <a:srgbClr val="3f1e25"/>
            </a:solidFill>
            <a:miter/>
          </a:ln>
          <a:effectLst>
            <a:outerShdw dist="107932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1e25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f1e25"/>
                </a:solidFill>
                <a:latin typeface="Arial"/>
              </a:rPr>
              <a:t>What effect will the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overapplied </a:t>
            </a:r>
            <a:r>
              <a:rPr b="1" lang="en-US" sz="2800" spc="-1" strike="noStrike">
                <a:solidFill>
                  <a:srgbClr val="3f1e25"/>
                </a:solidFill>
                <a:latin typeface="Arial"/>
              </a:rPr>
              <a:t>overhead have on PearCo’s net operating inc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f1e25"/>
                </a:solidFill>
                <a:latin typeface="Arial"/>
                <a:ea typeface="MS PGothic"/>
              </a:rPr>
              <a:t>a. Net operating income will increa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c767c"/>
                </a:solidFill>
                <a:latin typeface="Arial"/>
                <a:ea typeface="MS PGothic"/>
              </a:rPr>
              <a:t>b. Net operating income will be unaffec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c767c"/>
                </a:solidFill>
                <a:latin typeface="Arial"/>
                <a:ea typeface="MS PGothic"/>
              </a:rPr>
              <a:t>c. Net operating income will decrea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09" name="Oval 11"/>
          <p:cNvSpPr/>
          <p:nvPr/>
        </p:nvSpPr>
        <p:spPr>
          <a:xfrm>
            <a:off x="736560" y="3022560"/>
            <a:ext cx="635040" cy="6350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Group 122"/>
          <p:cNvGrpSpPr/>
          <p:nvPr/>
        </p:nvGrpSpPr>
        <p:grpSpPr>
          <a:xfrm>
            <a:off x="8158320" y="243000"/>
            <a:ext cx="680760" cy="975960"/>
            <a:chOff x="8158320" y="243000"/>
            <a:chExt cx="680760" cy="975960"/>
          </a:xfrm>
        </p:grpSpPr>
        <p:sp>
          <p:nvSpPr>
            <p:cNvPr id="811" name="Freeform 123"/>
            <p:cNvSpPr/>
            <p:nvPr/>
          </p:nvSpPr>
          <p:spPr>
            <a:xfrm>
              <a:off x="8184960" y="340560"/>
              <a:ext cx="544680" cy="709920"/>
            </a:xfrm>
            <a:custGeom>
              <a:avLst/>
              <a:gdLst>
                <a:gd name="textAreaLeft" fmla="*/ 0 w 544680"/>
                <a:gd name="textAreaRight" fmla="*/ 545040 w 544680"/>
                <a:gd name="textAreaTop" fmla="*/ 0 h 709920"/>
                <a:gd name="textAreaBottom" fmla="*/ 710280 h 709920"/>
              </a:gdLst>
              <a:ahLst/>
              <a:rect l="textAreaLeft" t="textAreaTop" r="textAreaRight" b="textAreaBottom"/>
              <a:pathLst>
                <a:path w="6835" h="7134">
                  <a:moveTo>
                    <a:pt x="174" y="3970"/>
                  </a:moveTo>
                  <a:lnTo>
                    <a:pt x="0" y="4746"/>
                  </a:lnTo>
                  <a:lnTo>
                    <a:pt x="230" y="5867"/>
                  </a:lnTo>
                  <a:lnTo>
                    <a:pt x="1904" y="7134"/>
                  </a:lnTo>
                  <a:lnTo>
                    <a:pt x="4730" y="6356"/>
                  </a:lnTo>
                  <a:lnTo>
                    <a:pt x="5393" y="3768"/>
                  </a:lnTo>
                  <a:lnTo>
                    <a:pt x="6835" y="1553"/>
                  </a:lnTo>
                  <a:lnTo>
                    <a:pt x="6777" y="547"/>
                  </a:lnTo>
                  <a:lnTo>
                    <a:pt x="6317" y="174"/>
                  </a:lnTo>
                  <a:lnTo>
                    <a:pt x="5882" y="31"/>
                  </a:lnTo>
                  <a:lnTo>
                    <a:pt x="5537" y="0"/>
                  </a:lnTo>
                  <a:lnTo>
                    <a:pt x="4990" y="87"/>
                  </a:lnTo>
                  <a:lnTo>
                    <a:pt x="4557" y="433"/>
                  </a:lnTo>
                  <a:lnTo>
                    <a:pt x="4212" y="865"/>
                  </a:lnTo>
                  <a:lnTo>
                    <a:pt x="3894" y="1410"/>
                  </a:lnTo>
                  <a:lnTo>
                    <a:pt x="3546" y="1755"/>
                  </a:lnTo>
                  <a:lnTo>
                    <a:pt x="3058" y="2101"/>
                  </a:lnTo>
                  <a:lnTo>
                    <a:pt x="2596" y="2387"/>
                  </a:lnTo>
                  <a:lnTo>
                    <a:pt x="1961" y="2560"/>
                  </a:lnTo>
                  <a:lnTo>
                    <a:pt x="1269" y="2877"/>
                  </a:lnTo>
                  <a:lnTo>
                    <a:pt x="663" y="3338"/>
                  </a:lnTo>
                  <a:lnTo>
                    <a:pt x="174" y="397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24"/>
            <p:cNvSpPr/>
            <p:nvPr/>
          </p:nvSpPr>
          <p:spPr>
            <a:xfrm>
              <a:off x="8678520" y="251280"/>
              <a:ext cx="88920" cy="111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123" h="1122">
                  <a:moveTo>
                    <a:pt x="203" y="1122"/>
                  </a:moveTo>
                  <a:lnTo>
                    <a:pt x="347" y="806"/>
                  </a:lnTo>
                  <a:lnTo>
                    <a:pt x="577" y="548"/>
                  </a:lnTo>
                  <a:lnTo>
                    <a:pt x="1123" y="231"/>
                  </a:lnTo>
                  <a:lnTo>
                    <a:pt x="923" y="0"/>
                  </a:lnTo>
                  <a:lnTo>
                    <a:pt x="491" y="290"/>
                  </a:lnTo>
                  <a:lnTo>
                    <a:pt x="231" y="548"/>
                  </a:lnTo>
                  <a:lnTo>
                    <a:pt x="0" y="1036"/>
                  </a:lnTo>
                  <a:lnTo>
                    <a:pt x="203" y="1122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25"/>
            <p:cNvSpPr/>
            <p:nvPr/>
          </p:nvSpPr>
          <p:spPr>
            <a:xfrm>
              <a:off x="8551440" y="389160"/>
              <a:ext cx="41040" cy="68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21" h="691">
                  <a:moveTo>
                    <a:pt x="444" y="315"/>
                  </a:moveTo>
                  <a:lnTo>
                    <a:pt x="521" y="126"/>
                  </a:lnTo>
                  <a:lnTo>
                    <a:pt x="394" y="0"/>
                  </a:lnTo>
                  <a:lnTo>
                    <a:pt x="172" y="155"/>
                  </a:lnTo>
                  <a:lnTo>
                    <a:pt x="0" y="473"/>
                  </a:lnTo>
                  <a:lnTo>
                    <a:pt x="48" y="691"/>
                  </a:lnTo>
                  <a:lnTo>
                    <a:pt x="270" y="628"/>
                  </a:lnTo>
                  <a:lnTo>
                    <a:pt x="394" y="502"/>
                  </a:lnTo>
                  <a:lnTo>
                    <a:pt x="444" y="315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26"/>
            <p:cNvSpPr/>
            <p:nvPr/>
          </p:nvSpPr>
          <p:spPr>
            <a:xfrm>
              <a:off x="8162640" y="357480"/>
              <a:ext cx="582480" cy="83952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839520"/>
                <a:gd name="textAreaBottom" fmla="*/ 839880 h 839520"/>
              </a:gdLst>
              <a:ahLst/>
              <a:rect l="textAreaLeft" t="textAreaTop" r="textAreaRight" b="textAreaBottom"/>
              <a:pathLst>
                <a:path w="7324" h="8425">
                  <a:moveTo>
                    <a:pt x="6718" y="0"/>
                  </a:moveTo>
                  <a:lnTo>
                    <a:pt x="6805" y="229"/>
                  </a:lnTo>
                  <a:lnTo>
                    <a:pt x="6862" y="401"/>
                  </a:lnTo>
                  <a:lnTo>
                    <a:pt x="6891" y="632"/>
                  </a:lnTo>
                  <a:lnTo>
                    <a:pt x="6862" y="804"/>
                  </a:lnTo>
                  <a:lnTo>
                    <a:pt x="6805" y="978"/>
                  </a:lnTo>
                  <a:lnTo>
                    <a:pt x="6718" y="1150"/>
                  </a:lnTo>
                  <a:lnTo>
                    <a:pt x="6604" y="1379"/>
                  </a:lnTo>
                  <a:lnTo>
                    <a:pt x="6400" y="1553"/>
                  </a:lnTo>
                  <a:lnTo>
                    <a:pt x="5998" y="2099"/>
                  </a:lnTo>
                  <a:lnTo>
                    <a:pt x="5794" y="2415"/>
                  </a:lnTo>
                  <a:lnTo>
                    <a:pt x="5593" y="2847"/>
                  </a:lnTo>
                  <a:lnTo>
                    <a:pt x="5450" y="3393"/>
                  </a:lnTo>
                  <a:lnTo>
                    <a:pt x="5277" y="3968"/>
                  </a:lnTo>
                  <a:lnTo>
                    <a:pt x="5131" y="4370"/>
                  </a:lnTo>
                  <a:lnTo>
                    <a:pt x="4901" y="4802"/>
                  </a:lnTo>
                  <a:lnTo>
                    <a:pt x="4613" y="5148"/>
                  </a:lnTo>
                  <a:lnTo>
                    <a:pt x="4268" y="5494"/>
                  </a:lnTo>
                  <a:lnTo>
                    <a:pt x="3893" y="5693"/>
                  </a:lnTo>
                  <a:lnTo>
                    <a:pt x="3288" y="5924"/>
                  </a:lnTo>
                  <a:lnTo>
                    <a:pt x="2651" y="6038"/>
                  </a:lnTo>
                  <a:lnTo>
                    <a:pt x="2221" y="6095"/>
                  </a:lnTo>
                  <a:lnTo>
                    <a:pt x="1642" y="6067"/>
                  </a:lnTo>
                  <a:lnTo>
                    <a:pt x="1268" y="5953"/>
                  </a:lnTo>
                  <a:lnTo>
                    <a:pt x="950" y="5752"/>
                  </a:lnTo>
                  <a:lnTo>
                    <a:pt x="721" y="5520"/>
                  </a:lnTo>
                  <a:lnTo>
                    <a:pt x="517" y="5262"/>
                  </a:lnTo>
                  <a:lnTo>
                    <a:pt x="432" y="4975"/>
                  </a:lnTo>
                  <a:lnTo>
                    <a:pt x="374" y="4630"/>
                  </a:lnTo>
                  <a:lnTo>
                    <a:pt x="432" y="4226"/>
                  </a:lnTo>
                  <a:lnTo>
                    <a:pt x="517" y="3796"/>
                  </a:lnTo>
                  <a:lnTo>
                    <a:pt x="143" y="4543"/>
                  </a:lnTo>
                  <a:lnTo>
                    <a:pt x="0" y="5348"/>
                  </a:lnTo>
                  <a:lnTo>
                    <a:pt x="56" y="5866"/>
                  </a:lnTo>
                  <a:lnTo>
                    <a:pt x="202" y="6472"/>
                  </a:lnTo>
                  <a:lnTo>
                    <a:pt x="517" y="7073"/>
                  </a:lnTo>
                  <a:lnTo>
                    <a:pt x="1038" y="7677"/>
                  </a:lnTo>
                  <a:lnTo>
                    <a:pt x="1672" y="8109"/>
                  </a:lnTo>
                  <a:lnTo>
                    <a:pt x="2451" y="8425"/>
                  </a:lnTo>
                  <a:lnTo>
                    <a:pt x="3345" y="8425"/>
                  </a:lnTo>
                  <a:lnTo>
                    <a:pt x="4064" y="8253"/>
                  </a:lnTo>
                  <a:lnTo>
                    <a:pt x="4729" y="7880"/>
                  </a:lnTo>
                  <a:lnTo>
                    <a:pt x="5162" y="7507"/>
                  </a:lnTo>
                  <a:lnTo>
                    <a:pt x="5564" y="7045"/>
                  </a:lnTo>
                  <a:lnTo>
                    <a:pt x="5794" y="6528"/>
                  </a:lnTo>
                  <a:lnTo>
                    <a:pt x="5911" y="6038"/>
                  </a:lnTo>
                  <a:lnTo>
                    <a:pt x="5969" y="5520"/>
                  </a:lnTo>
                  <a:lnTo>
                    <a:pt x="6026" y="4370"/>
                  </a:lnTo>
                  <a:lnTo>
                    <a:pt x="6142" y="3796"/>
                  </a:lnTo>
                  <a:lnTo>
                    <a:pt x="6315" y="3364"/>
                  </a:lnTo>
                  <a:lnTo>
                    <a:pt x="6516" y="3049"/>
                  </a:lnTo>
                  <a:lnTo>
                    <a:pt x="6805" y="2731"/>
                  </a:lnTo>
                  <a:lnTo>
                    <a:pt x="7064" y="2386"/>
                  </a:lnTo>
                  <a:lnTo>
                    <a:pt x="7236" y="2071"/>
                  </a:lnTo>
                  <a:lnTo>
                    <a:pt x="7296" y="1725"/>
                  </a:lnTo>
                  <a:lnTo>
                    <a:pt x="7324" y="1437"/>
                  </a:lnTo>
                  <a:lnTo>
                    <a:pt x="7324" y="1093"/>
                  </a:lnTo>
                  <a:lnTo>
                    <a:pt x="7208" y="691"/>
                  </a:lnTo>
                  <a:lnTo>
                    <a:pt x="7092" y="461"/>
                  </a:lnTo>
                  <a:lnTo>
                    <a:pt x="6978" y="286"/>
                  </a:lnTo>
                  <a:lnTo>
                    <a:pt x="6718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27"/>
            <p:cNvSpPr/>
            <p:nvPr/>
          </p:nvSpPr>
          <p:spPr>
            <a:xfrm>
              <a:off x="8158320" y="340560"/>
              <a:ext cx="680760" cy="87840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878400"/>
                <a:gd name="textAreaBottom" fmla="*/ 878760 h 878400"/>
              </a:gdLst>
              <a:ahLst/>
              <a:rect l="textAreaLeft" t="textAreaTop" r="textAreaRight" b="textAreaBottom"/>
              <a:pathLst>
                <a:path w="8565" h="8830">
                  <a:moveTo>
                    <a:pt x="5997" y="0"/>
                  </a:moveTo>
                  <a:lnTo>
                    <a:pt x="5509" y="116"/>
                  </a:lnTo>
                  <a:lnTo>
                    <a:pt x="5163" y="289"/>
                  </a:lnTo>
                  <a:lnTo>
                    <a:pt x="4903" y="519"/>
                  </a:lnTo>
                  <a:lnTo>
                    <a:pt x="4701" y="777"/>
                  </a:lnTo>
                  <a:lnTo>
                    <a:pt x="4499" y="1123"/>
                  </a:lnTo>
                  <a:lnTo>
                    <a:pt x="4268" y="1438"/>
                  </a:lnTo>
                  <a:lnTo>
                    <a:pt x="4037" y="1727"/>
                  </a:lnTo>
                  <a:lnTo>
                    <a:pt x="3634" y="2042"/>
                  </a:lnTo>
                  <a:lnTo>
                    <a:pt x="3287" y="2273"/>
                  </a:lnTo>
                  <a:lnTo>
                    <a:pt x="2855" y="2475"/>
                  </a:lnTo>
                  <a:lnTo>
                    <a:pt x="2423" y="2646"/>
                  </a:lnTo>
                  <a:lnTo>
                    <a:pt x="1818" y="2877"/>
                  </a:lnTo>
                  <a:lnTo>
                    <a:pt x="1182" y="3280"/>
                  </a:lnTo>
                  <a:lnTo>
                    <a:pt x="720" y="3768"/>
                  </a:lnTo>
                  <a:lnTo>
                    <a:pt x="491" y="4228"/>
                  </a:lnTo>
                  <a:lnTo>
                    <a:pt x="232" y="4976"/>
                  </a:lnTo>
                  <a:lnTo>
                    <a:pt x="145" y="5522"/>
                  </a:lnTo>
                  <a:lnTo>
                    <a:pt x="232" y="6300"/>
                  </a:lnTo>
                  <a:lnTo>
                    <a:pt x="491" y="6932"/>
                  </a:lnTo>
                  <a:lnTo>
                    <a:pt x="865" y="7422"/>
                  </a:lnTo>
                  <a:lnTo>
                    <a:pt x="1270" y="7851"/>
                  </a:lnTo>
                  <a:lnTo>
                    <a:pt x="1701" y="8169"/>
                  </a:lnTo>
                  <a:lnTo>
                    <a:pt x="2250" y="8399"/>
                  </a:lnTo>
                  <a:lnTo>
                    <a:pt x="2826" y="8514"/>
                  </a:lnTo>
                  <a:lnTo>
                    <a:pt x="3431" y="8486"/>
                  </a:lnTo>
                  <a:lnTo>
                    <a:pt x="4037" y="8370"/>
                  </a:lnTo>
                  <a:lnTo>
                    <a:pt x="4529" y="8112"/>
                  </a:lnTo>
                  <a:lnTo>
                    <a:pt x="4932" y="7851"/>
                  </a:lnTo>
                  <a:lnTo>
                    <a:pt x="5306" y="7478"/>
                  </a:lnTo>
                  <a:lnTo>
                    <a:pt x="5595" y="7134"/>
                  </a:lnTo>
                  <a:lnTo>
                    <a:pt x="5768" y="6760"/>
                  </a:lnTo>
                  <a:lnTo>
                    <a:pt x="5913" y="6269"/>
                  </a:lnTo>
                  <a:lnTo>
                    <a:pt x="5970" y="5839"/>
                  </a:lnTo>
                  <a:lnTo>
                    <a:pt x="5997" y="5408"/>
                  </a:lnTo>
                  <a:lnTo>
                    <a:pt x="5997" y="4948"/>
                  </a:lnTo>
                  <a:lnTo>
                    <a:pt x="6028" y="4431"/>
                  </a:lnTo>
                  <a:lnTo>
                    <a:pt x="6144" y="3912"/>
                  </a:lnTo>
                  <a:lnTo>
                    <a:pt x="6287" y="3597"/>
                  </a:lnTo>
                  <a:lnTo>
                    <a:pt x="6546" y="3164"/>
                  </a:lnTo>
                  <a:lnTo>
                    <a:pt x="6864" y="2819"/>
                  </a:lnTo>
                  <a:lnTo>
                    <a:pt x="7151" y="2446"/>
                  </a:lnTo>
                  <a:lnTo>
                    <a:pt x="7267" y="2129"/>
                  </a:lnTo>
                  <a:lnTo>
                    <a:pt x="7355" y="1755"/>
                  </a:lnTo>
                  <a:lnTo>
                    <a:pt x="7355" y="1410"/>
                  </a:lnTo>
                  <a:lnTo>
                    <a:pt x="7267" y="921"/>
                  </a:lnTo>
                  <a:lnTo>
                    <a:pt x="7123" y="604"/>
                  </a:lnTo>
                  <a:lnTo>
                    <a:pt x="6950" y="377"/>
                  </a:lnTo>
                  <a:lnTo>
                    <a:pt x="6690" y="174"/>
                  </a:lnTo>
                  <a:lnTo>
                    <a:pt x="7123" y="491"/>
                  </a:lnTo>
                  <a:lnTo>
                    <a:pt x="7355" y="834"/>
                  </a:lnTo>
                  <a:lnTo>
                    <a:pt x="7469" y="1180"/>
                  </a:lnTo>
                  <a:lnTo>
                    <a:pt x="7499" y="1526"/>
                  </a:lnTo>
                  <a:lnTo>
                    <a:pt x="7499" y="1869"/>
                  </a:lnTo>
                  <a:lnTo>
                    <a:pt x="7411" y="2215"/>
                  </a:lnTo>
                  <a:lnTo>
                    <a:pt x="7267" y="2531"/>
                  </a:lnTo>
                  <a:lnTo>
                    <a:pt x="7008" y="2905"/>
                  </a:lnTo>
                  <a:lnTo>
                    <a:pt x="6633" y="3280"/>
                  </a:lnTo>
                  <a:lnTo>
                    <a:pt x="6403" y="3680"/>
                  </a:lnTo>
                  <a:lnTo>
                    <a:pt x="6228" y="4142"/>
                  </a:lnTo>
                  <a:lnTo>
                    <a:pt x="6172" y="4574"/>
                  </a:lnTo>
                  <a:lnTo>
                    <a:pt x="6172" y="5178"/>
                  </a:lnTo>
                  <a:lnTo>
                    <a:pt x="6144" y="5694"/>
                  </a:lnTo>
                  <a:lnTo>
                    <a:pt x="6085" y="6212"/>
                  </a:lnTo>
                  <a:lnTo>
                    <a:pt x="5970" y="6673"/>
                  </a:lnTo>
                  <a:lnTo>
                    <a:pt x="5797" y="7105"/>
                  </a:lnTo>
                  <a:lnTo>
                    <a:pt x="5566" y="7422"/>
                  </a:lnTo>
                  <a:lnTo>
                    <a:pt x="5306" y="7681"/>
                  </a:lnTo>
                  <a:lnTo>
                    <a:pt x="6172" y="7651"/>
                  </a:lnTo>
                  <a:lnTo>
                    <a:pt x="6749" y="7737"/>
                  </a:lnTo>
                  <a:lnTo>
                    <a:pt x="6950" y="7708"/>
                  </a:lnTo>
                  <a:lnTo>
                    <a:pt x="7181" y="7624"/>
                  </a:lnTo>
                  <a:lnTo>
                    <a:pt x="7555" y="7593"/>
                  </a:lnTo>
                  <a:lnTo>
                    <a:pt x="7931" y="7593"/>
                  </a:lnTo>
                  <a:lnTo>
                    <a:pt x="8420" y="7681"/>
                  </a:lnTo>
                  <a:lnTo>
                    <a:pt x="8565" y="7795"/>
                  </a:lnTo>
                  <a:lnTo>
                    <a:pt x="8537" y="7851"/>
                  </a:lnTo>
                  <a:lnTo>
                    <a:pt x="8363" y="7910"/>
                  </a:lnTo>
                  <a:lnTo>
                    <a:pt x="7987" y="7910"/>
                  </a:lnTo>
                  <a:lnTo>
                    <a:pt x="7669" y="7939"/>
                  </a:lnTo>
                  <a:lnTo>
                    <a:pt x="7527" y="8024"/>
                  </a:lnTo>
                  <a:lnTo>
                    <a:pt x="7469" y="8054"/>
                  </a:lnTo>
                  <a:lnTo>
                    <a:pt x="7355" y="8197"/>
                  </a:lnTo>
                  <a:lnTo>
                    <a:pt x="7151" y="8340"/>
                  </a:lnTo>
                  <a:lnTo>
                    <a:pt x="6921" y="8486"/>
                  </a:lnTo>
                  <a:lnTo>
                    <a:pt x="6546" y="8571"/>
                  </a:lnTo>
                  <a:lnTo>
                    <a:pt x="5853" y="8715"/>
                  </a:lnTo>
                  <a:lnTo>
                    <a:pt x="4788" y="8830"/>
                  </a:lnTo>
                  <a:lnTo>
                    <a:pt x="3634" y="8830"/>
                  </a:lnTo>
                  <a:lnTo>
                    <a:pt x="2826" y="8801"/>
                  </a:lnTo>
                  <a:lnTo>
                    <a:pt x="2192" y="8685"/>
                  </a:lnTo>
                  <a:lnTo>
                    <a:pt x="1731" y="8629"/>
                  </a:lnTo>
                  <a:lnTo>
                    <a:pt x="1471" y="8542"/>
                  </a:lnTo>
                  <a:lnTo>
                    <a:pt x="1443" y="8456"/>
                  </a:lnTo>
                  <a:lnTo>
                    <a:pt x="1500" y="8399"/>
                  </a:lnTo>
                  <a:lnTo>
                    <a:pt x="1644" y="8313"/>
                  </a:lnTo>
                  <a:lnTo>
                    <a:pt x="1213" y="8024"/>
                  </a:lnTo>
                  <a:lnTo>
                    <a:pt x="865" y="7708"/>
                  </a:lnTo>
                  <a:lnTo>
                    <a:pt x="576" y="7363"/>
                  </a:lnTo>
                  <a:lnTo>
                    <a:pt x="377" y="7046"/>
                  </a:lnTo>
                  <a:lnTo>
                    <a:pt x="202" y="6646"/>
                  </a:lnTo>
                  <a:lnTo>
                    <a:pt x="88" y="6300"/>
                  </a:lnTo>
                  <a:lnTo>
                    <a:pt x="0" y="5867"/>
                  </a:lnTo>
                  <a:lnTo>
                    <a:pt x="29" y="5294"/>
                  </a:lnTo>
                  <a:lnTo>
                    <a:pt x="88" y="4860"/>
                  </a:lnTo>
                  <a:lnTo>
                    <a:pt x="232" y="4344"/>
                  </a:lnTo>
                  <a:lnTo>
                    <a:pt x="520" y="3740"/>
                  </a:lnTo>
                  <a:lnTo>
                    <a:pt x="865" y="3338"/>
                  </a:lnTo>
                  <a:lnTo>
                    <a:pt x="1241" y="3021"/>
                  </a:lnTo>
                  <a:lnTo>
                    <a:pt x="1731" y="2733"/>
                  </a:lnTo>
                  <a:lnTo>
                    <a:pt x="2280" y="2560"/>
                  </a:lnTo>
                  <a:lnTo>
                    <a:pt x="2942" y="2302"/>
                  </a:lnTo>
                  <a:lnTo>
                    <a:pt x="3431" y="2014"/>
                  </a:lnTo>
                  <a:lnTo>
                    <a:pt x="3923" y="1641"/>
                  </a:lnTo>
                  <a:lnTo>
                    <a:pt x="4297" y="1180"/>
                  </a:lnTo>
                  <a:lnTo>
                    <a:pt x="4585" y="777"/>
                  </a:lnTo>
                  <a:lnTo>
                    <a:pt x="4788" y="491"/>
                  </a:lnTo>
                  <a:lnTo>
                    <a:pt x="5046" y="260"/>
                  </a:lnTo>
                  <a:lnTo>
                    <a:pt x="5277" y="116"/>
                  </a:lnTo>
                  <a:lnTo>
                    <a:pt x="5566" y="31"/>
                  </a:lnTo>
                  <a:lnTo>
                    <a:pt x="59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28"/>
            <p:cNvSpPr/>
            <p:nvPr/>
          </p:nvSpPr>
          <p:spPr>
            <a:xfrm>
              <a:off x="8685000" y="243000"/>
              <a:ext cx="87840" cy="11988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1096" h="1208">
                  <a:moveTo>
                    <a:pt x="116" y="1151"/>
                  </a:moveTo>
                  <a:lnTo>
                    <a:pt x="260" y="892"/>
                  </a:lnTo>
                  <a:lnTo>
                    <a:pt x="490" y="662"/>
                  </a:lnTo>
                  <a:lnTo>
                    <a:pt x="778" y="490"/>
                  </a:lnTo>
                  <a:lnTo>
                    <a:pt x="1096" y="317"/>
                  </a:lnTo>
                  <a:lnTo>
                    <a:pt x="894" y="0"/>
                  </a:lnTo>
                  <a:lnTo>
                    <a:pt x="518" y="230"/>
                  </a:lnTo>
                  <a:lnTo>
                    <a:pt x="288" y="459"/>
                  </a:lnTo>
                  <a:lnTo>
                    <a:pt x="116" y="691"/>
                  </a:lnTo>
                  <a:lnTo>
                    <a:pt x="0" y="949"/>
                  </a:lnTo>
                  <a:lnTo>
                    <a:pt x="200" y="634"/>
                  </a:lnTo>
                  <a:lnTo>
                    <a:pt x="432" y="376"/>
                  </a:lnTo>
                  <a:lnTo>
                    <a:pt x="866" y="86"/>
                  </a:lnTo>
                  <a:lnTo>
                    <a:pt x="980" y="317"/>
                  </a:lnTo>
                  <a:lnTo>
                    <a:pt x="577" y="490"/>
                  </a:lnTo>
                  <a:lnTo>
                    <a:pt x="317" y="691"/>
                  </a:lnTo>
                  <a:lnTo>
                    <a:pt x="173" y="949"/>
                  </a:lnTo>
                  <a:lnTo>
                    <a:pt x="57" y="1208"/>
                  </a:lnTo>
                  <a:lnTo>
                    <a:pt x="116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Group 5"/>
          <p:cNvGrpSpPr/>
          <p:nvPr/>
        </p:nvGrpSpPr>
        <p:grpSpPr>
          <a:xfrm>
            <a:off x="3733560" y="3733920"/>
            <a:ext cx="4496040" cy="825480"/>
            <a:chOff x="3733560" y="3733920"/>
            <a:chExt cx="4496040" cy="825480"/>
          </a:xfrm>
        </p:grpSpPr>
        <p:sp>
          <p:nvSpPr>
            <p:cNvPr id="818" name="Text Box 6"/>
            <p:cNvSpPr/>
            <p:nvPr/>
          </p:nvSpPr>
          <p:spPr>
            <a:xfrm>
              <a:off x="4800600" y="3733920"/>
              <a:ext cx="3429000" cy="825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ay be more complex but 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9" name="AutoShape 7"/>
            <p:cNvCxnSpPr>
              <a:stCxn id="820" idx="3"/>
              <a:endCxn id="818" idx="1"/>
            </p:cNvCxnSpPr>
            <p:nvPr/>
          </p:nvCxnSpPr>
          <p:spPr>
            <a:xfrm flipV="1">
              <a:off x="3733560" y="4149000"/>
              <a:ext cx="1067400" cy="366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Multiple Predetermined Overhead Rate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22" name="Text Box 3"/>
          <p:cNvSpPr/>
          <p:nvPr/>
        </p:nvSpPr>
        <p:spPr>
          <a:xfrm>
            <a:off x="304920" y="1905120"/>
            <a:ext cx="8610480" cy="1373760"/>
          </a:xfrm>
          <a:prstGeom prst="rect">
            <a:avLst/>
          </a:prstGeom>
          <a:solidFill>
            <a:srgbClr val="464646"/>
          </a:solidFill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this point, we have assumed that there is a single predetermined overhead rate called a plantwide overhead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4"/>
          <p:cNvSpPr/>
          <p:nvPr/>
        </p:nvSpPr>
        <p:spPr>
          <a:xfrm>
            <a:off x="457200" y="3733920"/>
            <a:ext cx="3276720" cy="1557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companies often use multiple predetermined overhead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9"/>
          <p:cNvSpPr/>
          <p:nvPr/>
        </p:nvSpPr>
        <p:spPr>
          <a:xfrm>
            <a:off x="4232160" y="5321160"/>
            <a:ext cx="4572000" cy="119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be more accurate because it reflects differences across de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4" name="Straight Arrow Connector 13"/>
          <p:cNvCxnSpPr>
            <a:endCxn id="823" idx="0"/>
          </p:cNvCxnSpPr>
          <p:nvPr/>
        </p:nvCxnSpPr>
        <p:spPr>
          <a:xfrm>
            <a:off x="6515280" y="4563720"/>
            <a:ext cx="3600" cy="757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strips dir="rd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8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2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Job-Order Costing in Service Companie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26" name="Text Box 3"/>
          <p:cNvSpPr/>
          <p:nvPr/>
        </p:nvSpPr>
        <p:spPr>
          <a:xfrm>
            <a:off x="838080" y="2001960"/>
            <a:ext cx="7902720" cy="13737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-order costing is used in many different types of service companies. For example, law firms, accounting firms, and medical trea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4" descr="j0296260"/>
          <p:cNvPicPr/>
          <p:nvPr/>
        </p:nvPicPr>
        <p:blipFill>
          <a:blip r:embed="rId1"/>
          <a:stretch/>
        </p:blipFill>
        <p:spPr>
          <a:xfrm>
            <a:off x="6400800" y="3449520"/>
            <a:ext cx="2093760" cy="2587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</p:pic>
      <p:pic>
        <p:nvPicPr>
          <p:cNvPr id="828" name="Picture 5" descr="MCj02120710000[1]"/>
          <p:cNvPicPr/>
          <p:nvPr/>
        </p:nvPicPr>
        <p:blipFill>
          <a:blip r:embed="rId2"/>
          <a:stretch/>
        </p:blipFill>
        <p:spPr>
          <a:xfrm>
            <a:off x="3657600" y="4995720"/>
            <a:ext cx="1758960" cy="1808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</p:pic>
      <p:pic>
        <p:nvPicPr>
          <p:cNvPr id="829" name="Picture 6" descr="MCj02335280000[1]"/>
          <p:cNvPicPr/>
          <p:nvPr/>
        </p:nvPicPr>
        <p:blipFill>
          <a:blip r:embed="rId3"/>
          <a:stretch/>
        </p:blipFill>
        <p:spPr>
          <a:xfrm>
            <a:off x="912960" y="3678120"/>
            <a:ext cx="1830240" cy="2308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</p:pic>
    </p:spTree>
  </p:cSld>
  <p:transition>
    <p:strips dir="r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End of Chapter 3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831" name="Picture 9" descr="C:\Users\DoddandSusan\AppData\Local\Microsoft\Windows\Temporary Internet Files\Content.IE5\0O2E4X0N\MP900442212[1].jpg"/>
          <p:cNvPicPr/>
          <p:nvPr/>
        </p:nvPicPr>
        <p:blipFill>
          <a:blip r:embed="rId1"/>
          <a:stretch/>
        </p:blipFill>
        <p:spPr>
          <a:xfrm>
            <a:off x="2819520" y="160020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Object 2"/>
          <p:cNvGraphicFramePr/>
          <p:nvPr/>
        </p:nvGraphicFramePr>
        <p:xfrm>
          <a:off x="598320" y="1447920"/>
          <a:ext cx="7942320" cy="496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" y="1447920"/>
                    <a:ext cx="7942320" cy="49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Line 3"/>
          <p:cNvSpPr/>
          <p:nvPr/>
        </p:nvSpPr>
        <p:spPr>
          <a:xfrm>
            <a:off x="2244600" y="2230560"/>
            <a:ext cx="1739880" cy="0"/>
          </a:xfrm>
          <a:prstGeom prst="line">
            <a:avLst/>
          </a:prstGeom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"/>
          <p:cNvSpPr/>
          <p:nvPr/>
        </p:nvSpPr>
        <p:spPr>
          <a:xfrm>
            <a:off x="2209680" y="2754360"/>
            <a:ext cx="1739880" cy="0"/>
          </a:xfrm>
          <a:prstGeom prst="line">
            <a:avLst/>
          </a:prstGeom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1469880" y="3002040"/>
            <a:ext cx="2502000" cy="0"/>
          </a:xfrm>
          <a:prstGeom prst="line">
            <a:avLst/>
          </a:prstGeom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6019920" y="2216160"/>
            <a:ext cx="2120760" cy="0"/>
          </a:xfrm>
          <a:prstGeom prst="line">
            <a:avLst/>
          </a:prstGeom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7"/>
          <p:cNvSpPr/>
          <p:nvPr/>
        </p:nvSpPr>
        <p:spPr>
          <a:xfrm>
            <a:off x="6248520" y="2468520"/>
            <a:ext cx="1892160" cy="0"/>
          </a:xfrm>
          <a:prstGeom prst="line">
            <a:avLst/>
          </a:prstGeom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"/>
          <p:cNvSpPr/>
          <p:nvPr/>
        </p:nvSpPr>
        <p:spPr>
          <a:xfrm>
            <a:off x="6324480" y="2732040"/>
            <a:ext cx="1816200" cy="0"/>
          </a:xfrm>
          <a:prstGeom prst="line">
            <a:avLst/>
          </a:prstGeom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Measuring Direct Materials Cos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282" name="Group 122"/>
          <p:cNvGrpSpPr/>
          <p:nvPr/>
        </p:nvGrpSpPr>
        <p:grpSpPr>
          <a:xfrm>
            <a:off x="8158320" y="243000"/>
            <a:ext cx="680760" cy="975960"/>
            <a:chOff x="8158320" y="243000"/>
            <a:chExt cx="680760" cy="975960"/>
          </a:xfrm>
        </p:grpSpPr>
        <p:sp>
          <p:nvSpPr>
            <p:cNvPr id="283" name="Freeform 123"/>
            <p:cNvSpPr/>
            <p:nvPr/>
          </p:nvSpPr>
          <p:spPr>
            <a:xfrm>
              <a:off x="8184960" y="340560"/>
              <a:ext cx="544680" cy="709920"/>
            </a:xfrm>
            <a:custGeom>
              <a:avLst/>
              <a:gdLst>
                <a:gd name="textAreaLeft" fmla="*/ 0 w 544680"/>
                <a:gd name="textAreaRight" fmla="*/ 545040 w 544680"/>
                <a:gd name="textAreaTop" fmla="*/ 0 h 709920"/>
                <a:gd name="textAreaBottom" fmla="*/ 710280 h 709920"/>
              </a:gdLst>
              <a:ahLst/>
              <a:rect l="textAreaLeft" t="textAreaTop" r="textAreaRight" b="textAreaBottom"/>
              <a:pathLst>
                <a:path w="6835" h="7134">
                  <a:moveTo>
                    <a:pt x="174" y="3970"/>
                  </a:moveTo>
                  <a:lnTo>
                    <a:pt x="0" y="4746"/>
                  </a:lnTo>
                  <a:lnTo>
                    <a:pt x="230" y="5867"/>
                  </a:lnTo>
                  <a:lnTo>
                    <a:pt x="1904" y="7134"/>
                  </a:lnTo>
                  <a:lnTo>
                    <a:pt x="4730" y="6356"/>
                  </a:lnTo>
                  <a:lnTo>
                    <a:pt x="5393" y="3768"/>
                  </a:lnTo>
                  <a:lnTo>
                    <a:pt x="6835" y="1553"/>
                  </a:lnTo>
                  <a:lnTo>
                    <a:pt x="6777" y="547"/>
                  </a:lnTo>
                  <a:lnTo>
                    <a:pt x="6317" y="174"/>
                  </a:lnTo>
                  <a:lnTo>
                    <a:pt x="5882" y="31"/>
                  </a:lnTo>
                  <a:lnTo>
                    <a:pt x="5537" y="0"/>
                  </a:lnTo>
                  <a:lnTo>
                    <a:pt x="4990" y="87"/>
                  </a:lnTo>
                  <a:lnTo>
                    <a:pt x="4557" y="433"/>
                  </a:lnTo>
                  <a:lnTo>
                    <a:pt x="4212" y="865"/>
                  </a:lnTo>
                  <a:lnTo>
                    <a:pt x="3894" y="1410"/>
                  </a:lnTo>
                  <a:lnTo>
                    <a:pt x="3546" y="1755"/>
                  </a:lnTo>
                  <a:lnTo>
                    <a:pt x="3058" y="2101"/>
                  </a:lnTo>
                  <a:lnTo>
                    <a:pt x="2596" y="2387"/>
                  </a:lnTo>
                  <a:lnTo>
                    <a:pt x="1961" y="2560"/>
                  </a:lnTo>
                  <a:lnTo>
                    <a:pt x="1269" y="2877"/>
                  </a:lnTo>
                  <a:lnTo>
                    <a:pt x="663" y="3338"/>
                  </a:lnTo>
                  <a:lnTo>
                    <a:pt x="174" y="397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24"/>
            <p:cNvSpPr/>
            <p:nvPr/>
          </p:nvSpPr>
          <p:spPr>
            <a:xfrm>
              <a:off x="8678520" y="251280"/>
              <a:ext cx="88920" cy="111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123" h="1122">
                  <a:moveTo>
                    <a:pt x="203" y="1122"/>
                  </a:moveTo>
                  <a:lnTo>
                    <a:pt x="347" y="806"/>
                  </a:lnTo>
                  <a:lnTo>
                    <a:pt x="577" y="548"/>
                  </a:lnTo>
                  <a:lnTo>
                    <a:pt x="1123" y="231"/>
                  </a:lnTo>
                  <a:lnTo>
                    <a:pt x="923" y="0"/>
                  </a:lnTo>
                  <a:lnTo>
                    <a:pt x="491" y="290"/>
                  </a:lnTo>
                  <a:lnTo>
                    <a:pt x="231" y="548"/>
                  </a:lnTo>
                  <a:lnTo>
                    <a:pt x="0" y="1036"/>
                  </a:lnTo>
                  <a:lnTo>
                    <a:pt x="203" y="1122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25"/>
            <p:cNvSpPr/>
            <p:nvPr/>
          </p:nvSpPr>
          <p:spPr>
            <a:xfrm>
              <a:off x="8551440" y="389160"/>
              <a:ext cx="41040" cy="68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21" h="691">
                  <a:moveTo>
                    <a:pt x="444" y="315"/>
                  </a:moveTo>
                  <a:lnTo>
                    <a:pt x="521" y="126"/>
                  </a:lnTo>
                  <a:lnTo>
                    <a:pt x="394" y="0"/>
                  </a:lnTo>
                  <a:lnTo>
                    <a:pt x="172" y="155"/>
                  </a:lnTo>
                  <a:lnTo>
                    <a:pt x="0" y="473"/>
                  </a:lnTo>
                  <a:lnTo>
                    <a:pt x="48" y="691"/>
                  </a:lnTo>
                  <a:lnTo>
                    <a:pt x="270" y="628"/>
                  </a:lnTo>
                  <a:lnTo>
                    <a:pt x="394" y="502"/>
                  </a:lnTo>
                  <a:lnTo>
                    <a:pt x="444" y="315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26"/>
            <p:cNvSpPr/>
            <p:nvPr/>
          </p:nvSpPr>
          <p:spPr>
            <a:xfrm>
              <a:off x="8162640" y="357480"/>
              <a:ext cx="582480" cy="83952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839520"/>
                <a:gd name="textAreaBottom" fmla="*/ 839880 h 839520"/>
              </a:gdLst>
              <a:ahLst/>
              <a:rect l="textAreaLeft" t="textAreaTop" r="textAreaRight" b="textAreaBottom"/>
              <a:pathLst>
                <a:path w="7324" h="8425">
                  <a:moveTo>
                    <a:pt x="6718" y="0"/>
                  </a:moveTo>
                  <a:lnTo>
                    <a:pt x="6805" y="229"/>
                  </a:lnTo>
                  <a:lnTo>
                    <a:pt x="6862" y="401"/>
                  </a:lnTo>
                  <a:lnTo>
                    <a:pt x="6891" y="632"/>
                  </a:lnTo>
                  <a:lnTo>
                    <a:pt x="6862" y="804"/>
                  </a:lnTo>
                  <a:lnTo>
                    <a:pt x="6805" y="978"/>
                  </a:lnTo>
                  <a:lnTo>
                    <a:pt x="6718" y="1150"/>
                  </a:lnTo>
                  <a:lnTo>
                    <a:pt x="6604" y="1379"/>
                  </a:lnTo>
                  <a:lnTo>
                    <a:pt x="6400" y="1553"/>
                  </a:lnTo>
                  <a:lnTo>
                    <a:pt x="5998" y="2099"/>
                  </a:lnTo>
                  <a:lnTo>
                    <a:pt x="5794" y="2415"/>
                  </a:lnTo>
                  <a:lnTo>
                    <a:pt x="5593" y="2847"/>
                  </a:lnTo>
                  <a:lnTo>
                    <a:pt x="5450" y="3393"/>
                  </a:lnTo>
                  <a:lnTo>
                    <a:pt x="5277" y="3968"/>
                  </a:lnTo>
                  <a:lnTo>
                    <a:pt x="5131" y="4370"/>
                  </a:lnTo>
                  <a:lnTo>
                    <a:pt x="4901" y="4802"/>
                  </a:lnTo>
                  <a:lnTo>
                    <a:pt x="4613" y="5148"/>
                  </a:lnTo>
                  <a:lnTo>
                    <a:pt x="4268" y="5494"/>
                  </a:lnTo>
                  <a:lnTo>
                    <a:pt x="3893" y="5693"/>
                  </a:lnTo>
                  <a:lnTo>
                    <a:pt x="3288" y="5924"/>
                  </a:lnTo>
                  <a:lnTo>
                    <a:pt x="2651" y="6038"/>
                  </a:lnTo>
                  <a:lnTo>
                    <a:pt x="2221" y="6095"/>
                  </a:lnTo>
                  <a:lnTo>
                    <a:pt x="1642" y="6067"/>
                  </a:lnTo>
                  <a:lnTo>
                    <a:pt x="1268" y="5953"/>
                  </a:lnTo>
                  <a:lnTo>
                    <a:pt x="950" y="5752"/>
                  </a:lnTo>
                  <a:lnTo>
                    <a:pt x="721" y="5520"/>
                  </a:lnTo>
                  <a:lnTo>
                    <a:pt x="517" y="5262"/>
                  </a:lnTo>
                  <a:lnTo>
                    <a:pt x="432" y="4975"/>
                  </a:lnTo>
                  <a:lnTo>
                    <a:pt x="374" y="4630"/>
                  </a:lnTo>
                  <a:lnTo>
                    <a:pt x="432" y="4226"/>
                  </a:lnTo>
                  <a:lnTo>
                    <a:pt x="517" y="3796"/>
                  </a:lnTo>
                  <a:lnTo>
                    <a:pt x="143" y="4543"/>
                  </a:lnTo>
                  <a:lnTo>
                    <a:pt x="0" y="5348"/>
                  </a:lnTo>
                  <a:lnTo>
                    <a:pt x="56" y="5866"/>
                  </a:lnTo>
                  <a:lnTo>
                    <a:pt x="202" y="6472"/>
                  </a:lnTo>
                  <a:lnTo>
                    <a:pt x="517" y="7073"/>
                  </a:lnTo>
                  <a:lnTo>
                    <a:pt x="1038" y="7677"/>
                  </a:lnTo>
                  <a:lnTo>
                    <a:pt x="1672" y="8109"/>
                  </a:lnTo>
                  <a:lnTo>
                    <a:pt x="2451" y="8425"/>
                  </a:lnTo>
                  <a:lnTo>
                    <a:pt x="3345" y="8425"/>
                  </a:lnTo>
                  <a:lnTo>
                    <a:pt x="4064" y="8253"/>
                  </a:lnTo>
                  <a:lnTo>
                    <a:pt x="4729" y="7880"/>
                  </a:lnTo>
                  <a:lnTo>
                    <a:pt x="5162" y="7507"/>
                  </a:lnTo>
                  <a:lnTo>
                    <a:pt x="5564" y="7045"/>
                  </a:lnTo>
                  <a:lnTo>
                    <a:pt x="5794" y="6528"/>
                  </a:lnTo>
                  <a:lnTo>
                    <a:pt x="5911" y="6038"/>
                  </a:lnTo>
                  <a:lnTo>
                    <a:pt x="5969" y="5520"/>
                  </a:lnTo>
                  <a:lnTo>
                    <a:pt x="6026" y="4370"/>
                  </a:lnTo>
                  <a:lnTo>
                    <a:pt x="6142" y="3796"/>
                  </a:lnTo>
                  <a:lnTo>
                    <a:pt x="6315" y="3364"/>
                  </a:lnTo>
                  <a:lnTo>
                    <a:pt x="6516" y="3049"/>
                  </a:lnTo>
                  <a:lnTo>
                    <a:pt x="6805" y="2731"/>
                  </a:lnTo>
                  <a:lnTo>
                    <a:pt x="7064" y="2386"/>
                  </a:lnTo>
                  <a:lnTo>
                    <a:pt x="7236" y="2071"/>
                  </a:lnTo>
                  <a:lnTo>
                    <a:pt x="7296" y="1725"/>
                  </a:lnTo>
                  <a:lnTo>
                    <a:pt x="7324" y="1437"/>
                  </a:lnTo>
                  <a:lnTo>
                    <a:pt x="7324" y="1093"/>
                  </a:lnTo>
                  <a:lnTo>
                    <a:pt x="7208" y="691"/>
                  </a:lnTo>
                  <a:lnTo>
                    <a:pt x="7092" y="461"/>
                  </a:lnTo>
                  <a:lnTo>
                    <a:pt x="6978" y="286"/>
                  </a:lnTo>
                  <a:lnTo>
                    <a:pt x="6718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27"/>
            <p:cNvSpPr/>
            <p:nvPr/>
          </p:nvSpPr>
          <p:spPr>
            <a:xfrm>
              <a:off x="8158320" y="340560"/>
              <a:ext cx="680760" cy="87840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878400"/>
                <a:gd name="textAreaBottom" fmla="*/ 878760 h 878400"/>
              </a:gdLst>
              <a:ahLst/>
              <a:rect l="textAreaLeft" t="textAreaTop" r="textAreaRight" b="textAreaBottom"/>
              <a:pathLst>
                <a:path w="8565" h="8830">
                  <a:moveTo>
                    <a:pt x="5997" y="0"/>
                  </a:moveTo>
                  <a:lnTo>
                    <a:pt x="5509" y="116"/>
                  </a:lnTo>
                  <a:lnTo>
                    <a:pt x="5163" y="289"/>
                  </a:lnTo>
                  <a:lnTo>
                    <a:pt x="4903" y="519"/>
                  </a:lnTo>
                  <a:lnTo>
                    <a:pt x="4701" y="777"/>
                  </a:lnTo>
                  <a:lnTo>
                    <a:pt x="4499" y="1123"/>
                  </a:lnTo>
                  <a:lnTo>
                    <a:pt x="4268" y="1438"/>
                  </a:lnTo>
                  <a:lnTo>
                    <a:pt x="4037" y="1727"/>
                  </a:lnTo>
                  <a:lnTo>
                    <a:pt x="3634" y="2042"/>
                  </a:lnTo>
                  <a:lnTo>
                    <a:pt x="3287" y="2273"/>
                  </a:lnTo>
                  <a:lnTo>
                    <a:pt x="2855" y="2475"/>
                  </a:lnTo>
                  <a:lnTo>
                    <a:pt x="2423" y="2646"/>
                  </a:lnTo>
                  <a:lnTo>
                    <a:pt x="1818" y="2877"/>
                  </a:lnTo>
                  <a:lnTo>
                    <a:pt x="1182" y="3280"/>
                  </a:lnTo>
                  <a:lnTo>
                    <a:pt x="720" y="3768"/>
                  </a:lnTo>
                  <a:lnTo>
                    <a:pt x="491" y="4228"/>
                  </a:lnTo>
                  <a:lnTo>
                    <a:pt x="232" y="4976"/>
                  </a:lnTo>
                  <a:lnTo>
                    <a:pt x="145" y="5522"/>
                  </a:lnTo>
                  <a:lnTo>
                    <a:pt x="232" y="6300"/>
                  </a:lnTo>
                  <a:lnTo>
                    <a:pt x="491" y="6932"/>
                  </a:lnTo>
                  <a:lnTo>
                    <a:pt x="865" y="7422"/>
                  </a:lnTo>
                  <a:lnTo>
                    <a:pt x="1270" y="7851"/>
                  </a:lnTo>
                  <a:lnTo>
                    <a:pt x="1701" y="8169"/>
                  </a:lnTo>
                  <a:lnTo>
                    <a:pt x="2250" y="8399"/>
                  </a:lnTo>
                  <a:lnTo>
                    <a:pt x="2826" y="8514"/>
                  </a:lnTo>
                  <a:lnTo>
                    <a:pt x="3431" y="8486"/>
                  </a:lnTo>
                  <a:lnTo>
                    <a:pt x="4037" y="8370"/>
                  </a:lnTo>
                  <a:lnTo>
                    <a:pt x="4529" y="8112"/>
                  </a:lnTo>
                  <a:lnTo>
                    <a:pt x="4932" y="7851"/>
                  </a:lnTo>
                  <a:lnTo>
                    <a:pt x="5306" y="7478"/>
                  </a:lnTo>
                  <a:lnTo>
                    <a:pt x="5595" y="7134"/>
                  </a:lnTo>
                  <a:lnTo>
                    <a:pt x="5768" y="6760"/>
                  </a:lnTo>
                  <a:lnTo>
                    <a:pt x="5913" y="6269"/>
                  </a:lnTo>
                  <a:lnTo>
                    <a:pt x="5970" y="5839"/>
                  </a:lnTo>
                  <a:lnTo>
                    <a:pt x="5997" y="5408"/>
                  </a:lnTo>
                  <a:lnTo>
                    <a:pt x="5997" y="4948"/>
                  </a:lnTo>
                  <a:lnTo>
                    <a:pt x="6028" y="4431"/>
                  </a:lnTo>
                  <a:lnTo>
                    <a:pt x="6144" y="3912"/>
                  </a:lnTo>
                  <a:lnTo>
                    <a:pt x="6287" y="3597"/>
                  </a:lnTo>
                  <a:lnTo>
                    <a:pt x="6546" y="3164"/>
                  </a:lnTo>
                  <a:lnTo>
                    <a:pt x="6864" y="2819"/>
                  </a:lnTo>
                  <a:lnTo>
                    <a:pt x="7151" y="2446"/>
                  </a:lnTo>
                  <a:lnTo>
                    <a:pt x="7267" y="2129"/>
                  </a:lnTo>
                  <a:lnTo>
                    <a:pt x="7355" y="1755"/>
                  </a:lnTo>
                  <a:lnTo>
                    <a:pt x="7355" y="1410"/>
                  </a:lnTo>
                  <a:lnTo>
                    <a:pt x="7267" y="921"/>
                  </a:lnTo>
                  <a:lnTo>
                    <a:pt x="7123" y="604"/>
                  </a:lnTo>
                  <a:lnTo>
                    <a:pt x="6950" y="377"/>
                  </a:lnTo>
                  <a:lnTo>
                    <a:pt x="6690" y="174"/>
                  </a:lnTo>
                  <a:lnTo>
                    <a:pt x="7123" y="491"/>
                  </a:lnTo>
                  <a:lnTo>
                    <a:pt x="7355" y="834"/>
                  </a:lnTo>
                  <a:lnTo>
                    <a:pt x="7469" y="1180"/>
                  </a:lnTo>
                  <a:lnTo>
                    <a:pt x="7499" y="1526"/>
                  </a:lnTo>
                  <a:lnTo>
                    <a:pt x="7499" y="1869"/>
                  </a:lnTo>
                  <a:lnTo>
                    <a:pt x="7411" y="2215"/>
                  </a:lnTo>
                  <a:lnTo>
                    <a:pt x="7267" y="2531"/>
                  </a:lnTo>
                  <a:lnTo>
                    <a:pt x="7008" y="2905"/>
                  </a:lnTo>
                  <a:lnTo>
                    <a:pt x="6633" y="3280"/>
                  </a:lnTo>
                  <a:lnTo>
                    <a:pt x="6403" y="3680"/>
                  </a:lnTo>
                  <a:lnTo>
                    <a:pt x="6228" y="4142"/>
                  </a:lnTo>
                  <a:lnTo>
                    <a:pt x="6172" y="4574"/>
                  </a:lnTo>
                  <a:lnTo>
                    <a:pt x="6172" y="5178"/>
                  </a:lnTo>
                  <a:lnTo>
                    <a:pt x="6144" y="5694"/>
                  </a:lnTo>
                  <a:lnTo>
                    <a:pt x="6085" y="6212"/>
                  </a:lnTo>
                  <a:lnTo>
                    <a:pt x="5970" y="6673"/>
                  </a:lnTo>
                  <a:lnTo>
                    <a:pt x="5797" y="7105"/>
                  </a:lnTo>
                  <a:lnTo>
                    <a:pt x="5566" y="7422"/>
                  </a:lnTo>
                  <a:lnTo>
                    <a:pt x="5306" y="7681"/>
                  </a:lnTo>
                  <a:lnTo>
                    <a:pt x="6172" y="7651"/>
                  </a:lnTo>
                  <a:lnTo>
                    <a:pt x="6749" y="7737"/>
                  </a:lnTo>
                  <a:lnTo>
                    <a:pt x="6950" y="7708"/>
                  </a:lnTo>
                  <a:lnTo>
                    <a:pt x="7181" y="7624"/>
                  </a:lnTo>
                  <a:lnTo>
                    <a:pt x="7555" y="7593"/>
                  </a:lnTo>
                  <a:lnTo>
                    <a:pt x="7931" y="7593"/>
                  </a:lnTo>
                  <a:lnTo>
                    <a:pt x="8420" y="7681"/>
                  </a:lnTo>
                  <a:lnTo>
                    <a:pt x="8565" y="7795"/>
                  </a:lnTo>
                  <a:lnTo>
                    <a:pt x="8537" y="7851"/>
                  </a:lnTo>
                  <a:lnTo>
                    <a:pt x="8363" y="7910"/>
                  </a:lnTo>
                  <a:lnTo>
                    <a:pt x="7987" y="7910"/>
                  </a:lnTo>
                  <a:lnTo>
                    <a:pt x="7669" y="7939"/>
                  </a:lnTo>
                  <a:lnTo>
                    <a:pt x="7527" y="8024"/>
                  </a:lnTo>
                  <a:lnTo>
                    <a:pt x="7469" y="8054"/>
                  </a:lnTo>
                  <a:lnTo>
                    <a:pt x="7355" y="8197"/>
                  </a:lnTo>
                  <a:lnTo>
                    <a:pt x="7151" y="8340"/>
                  </a:lnTo>
                  <a:lnTo>
                    <a:pt x="6921" y="8486"/>
                  </a:lnTo>
                  <a:lnTo>
                    <a:pt x="6546" y="8571"/>
                  </a:lnTo>
                  <a:lnTo>
                    <a:pt x="5853" y="8715"/>
                  </a:lnTo>
                  <a:lnTo>
                    <a:pt x="4788" y="8830"/>
                  </a:lnTo>
                  <a:lnTo>
                    <a:pt x="3634" y="8830"/>
                  </a:lnTo>
                  <a:lnTo>
                    <a:pt x="2826" y="8801"/>
                  </a:lnTo>
                  <a:lnTo>
                    <a:pt x="2192" y="8685"/>
                  </a:lnTo>
                  <a:lnTo>
                    <a:pt x="1731" y="8629"/>
                  </a:lnTo>
                  <a:lnTo>
                    <a:pt x="1471" y="8542"/>
                  </a:lnTo>
                  <a:lnTo>
                    <a:pt x="1443" y="8456"/>
                  </a:lnTo>
                  <a:lnTo>
                    <a:pt x="1500" y="8399"/>
                  </a:lnTo>
                  <a:lnTo>
                    <a:pt x="1644" y="8313"/>
                  </a:lnTo>
                  <a:lnTo>
                    <a:pt x="1213" y="8024"/>
                  </a:lnTo>
                  <a:lnTo>
                    <a:pt x="865" y="7708"/>
                  </a:lnTo>
                  <a:lnTo>
                    <a:pt x="576" y="7363"/>
                  </a:lnTo>
                  <a:lnTo>
                    <a:pt x="377" y="7046"/>
                  </a:lnTo>
                  <a:lnTo>
                    <a:pt x="202" y="6646"/>
                  </a:lnTo>
                  <a:lnTo>
                    <a:pt x="88" y="6300"/>
                  </a:lnTo>
                  <a:lnTo>
                    <a:pt x="0" y="5867"/>
                  </a:lnTo>
                  <a:lnTo>
                    <a:pt x="29" y="5294"/>
                  </a:lnTo>
                  <a:lnTo>
                    <a:pt x="88" y="4860"/>
                  </a:lnTo>
                  <a:lnTo>
                    <a:pt x="232" y="4344"/>
                  </a:lnTo>
                  <a:lnTo>
                    <a:pt x="520" y="3740"/>
                  </a:lnTo>
                  <a:lnTo>
                    <a:pt x="865" y="3338"/>
                  </a:lnTo>
                  <a:lnTo>
                    <a:pt x="1241" y="3021"/>
                  </a:lnTo>
                  <a:lnTo>
                    <a:pt x="1731" y="2733"/>
                  </a:lnTo>
                  <a:lnTo>
                    <a:pt x="2280" y="2560"/>
                  </a:lnTo>
                  <a:lnTo>
                    <a:pt x="2942" y="2302"/>
                  </a:lnTo>
                  <a:lnTo>
                    <a:pt x="3431" y="2014"/>
                  </a:lnTo>
                  <a:lnTo>
                    <a:pt x="3923" y="1641"/>
                  </a:lnTo>
                  <a:lnTo>
                    <a:pt x="4297" y="1180"/>
                  </a:lnTo>
                  <a:lnTo>
                    <a:pt x="4585" y="777"/>
                  </a:lnTo>
                  <a:lnTo>
                    <a:pt x="4788" y="491"/>
                  </a:lnTo>
                  <a:lnTo>
                    <a:pt x="5046" y="260"/>
                  </a:lnTo>
                  <a:lnTo>
                    <a:pt x="5277" y="116"/>
                  </a:lnTo>
                  <a:lnTo>
                    <a:pt x="5566" y="31"/>
                  </a:lnTo>
                  <a:lnTo>
                    <a:pt x="59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28"/>
            <p:cNvSpPr/>
            <p:nvPr/>
          </p:nvSpPr>
          <p:spPr>
            <a:xfrm>
              <a:off x="8685000" y="243000"/>
              <a:ext cx="87840" cy="11988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1096" h="1208">
                  <a:moveTo>
                    <a:pt x="116" y="1151"/>
                  </a:moveTo>
                  <a:lnTo>
                    <a:pt x="260" y="892"/>
                  </a:lnTo>
                  <a:lnTo>
                    <a:pt x="490" y="662"/>
                  </a:lnTo>
                  <a:lnTo>
                    <a:pt x="778" y="490"/>
                  </a:lnTo>
                  <a:lnTo>
                    <a:pt x="1096" y="317"/>
                  </a:lnTo>
                  <a:lnTo>
                    <a:pt x="894" y="0"/>
                  </a:lnTo>
                  <a:lnTo>
                    <a:pt x="518" y="230"/>
                  </a:lnTo>
                  <a:lnTo>
                    <a:pt x="288" y="459"/>
                  </a:lnTo>
                  <a:lnTo>
                    <a:pt x="116" y="691"/>
                  </a:lnTo>
                  <a:lnTo>
                    <a:pt x="0" y="949"/>
                  </a:lnTo>
                  <a:lnTo>
                    <a:pt x="200" y="634"/>
                  </a:lnTo>
                  <a:lnTo>
                    <a:pt x="432" y="376"/>
                  </a:lnTo>
                  <a:lnTo>
                    <a:pt x="866" y="86"/>
                  </a:lnTo>
                  <a:lnTo>
                    <a:pt x="980" y="317"/>
                  </a:lnTo>
                  <a:lnTo>
                    <a:pt x="577" y="490"/>
                  </a:lnTo>
                  <a:lnTo>
                    <a:pt x="317" y="691"/>
                  </a:lnTo>
                  <a:lnTo>
                    <a:pt x="173" y="949"/>
                  </a:lnTo>
                  <a:lnTo>
                    <a:pt x="57" y="1208"/>
                  </a:lnTo>
                  <a:lnTo>
                    <a:pt x="116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Measuring Direct Labor Cos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290" name="Object 2"/>
          <p:cNvGraphicFramePr/>
          <p:nvPr/>
        </p:nvGraphicFramePr>
        <p:xfrm>
          <a:off x="620640" y="1428840"/>
          <a:ext cx="786456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1428840"/>
                    <a:ext cx="7864560" cy="5181480"/>
                  </a:xfrm>
                  <a:prstGeom prst="rect">
                    <a:avLst/>
                  </a:prstGeom>
                  <a:ln w="12600">
                    <a:solidFill>
                      <a:srgbClr val="46464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2" name="Line 4"/>
          <p:cNvSpPr/>
          <p:nvPr/>
        </p:nvSpPr>
        <p:spPr>
          <a:xfrm>
            <a:off x="2590920" y="240984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"/>
          <p:cNvSpPr/>
          <p:nvPr/>
        </p:nvSpPr>
        <p:spPr>
          <a:xfrm>
            <a:off x="2057400" y="2730600"/>
            <a:ext cx="219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5410080" y="2390760"/>
            <a:ext cx="265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5562720" y="2730600"/>
            <a:ext cx="25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22"/>
          <p:cNvGrpSpPr/>
          <p:nvPr/>
        </p:nvGrpSpPr>
        <p:grpSpPr>
          <a:xfrm>
            <a:off x="8158320" y="243000"/>
            <a:ext cx="680760" cy="975960"/>
            <a:chOff x="8158320" y="243000"/>
            <a:chExt cx="680760" cy="975960"/>
          </a:xfrm>
        </p:grpSpPr>
        <p:sp>
          <p:nvSpPr>
            <p:cNvPr id="297" name="Freeform 123"/>
            <p:cNvSpPr/>
            <p:nvPr/>
          </p:nvSpPr>
          <p:spPr>
            <a:xfrm>
              <a:off x="8184960" y="340560"/>
              <a:ext cx="544680" cy="709920"/>
            </a:xfrm>
            <a:custGeom>
              <a:avLst/>
              <a:gdLst>
                <a:gd name="textAreaLeft" fmla="*/ 0 w 544680"/>
                <a:gd name="textAreaRight" fmla="*/ 545040 w 544680"/>
                <a:gd name="textAreaTop" fmla="*/ 0 h 709920"/>
                <a:gd name="textAreaBottom" fmla="*/ 710280 h 709920"/>
              </a:gdLst>
              <a:ahLst/>
              <a:rect l="textAreaLeft" t="textAreaTop" r="textAreaRight" b="textAreaBottom"/>
              <a:pathLst>
                <a:path w="6835" h="7134">
                  <a:moveTo>
                    <a:pt x="174" y="3970"/>
                  </a:moveTo>
                  <a:lnTo>
                    <a:pt x="0" y="4746"/>
                  </a:lnTo>
                  <a:lnTo>
                    <a:pt x="230" y="5867"/>
                  </a:lnTo>
                  <a:lnTo>
                    <a:pt x="1904" y="7134"/>
                  </a:lnTo>
                  <a:lnTo>
                    <a:pt x="4730" y="6356"/>
                  </a:lnTo>
                  <a:lnTo>
                    <a:pt x="5393" y="3768"/>
                  </a:lnTo>
                  <a:lnTo>
                    <a:pt x="6835" y="1553"/>
                  </a:lnTo>
                  <a:lnTo>
                    <a:pt x="6777" y="547"/>
                  </a:lnTo>
                  <a:lnTo>
                    <a:pt x="6317" y="174"/>
                  </a:lnTo>
                  <a:lnTo>
                    <a:pt x="5882" y="31"/>
                  </a:lnTo>
                  <a:lnTo>
                    <a:pt x="5537" y="0"/>
                  </a:lnTo>
                  <a:lnTo>
                    <a:pt x="4990" y="87"/>
                  </a:lnTo>
                  <a:lnTo>
                    <a:pt x="4557" y="433"/>
                  </a:lnTo>
                  <a:lnTo>
                    <a:pt x="4212" y="865"/>
                  </a:lnTo>
                  <a:lnTo>
                    <a:pt x="3894" y="1410"/>
                  </a:lnTo>
                  <a:lnTo>
                    <a:pt x="3546" y="1755"/>
                  </a:lnTo>
                  <a:lnTo>
                    <a:pt x="3058" y="2101"/>
                  </a:lnTo>
                  <a:lnTo>
                    <a:pt x="2596" y="2387"/>
                  </a:lnTo>
                  <a:lnTo>
                    <a:pt x="1961" y="2560"/>
                  </a:lnTo>
                  <a:lnTo>
                    <a:pt x="1269" y="2877"/>
                  </a:lnTo>
                  <a:lnTo>
                    <a:pt x="663" y="3338"/>
                  </a:lnTo>
                  <a:lnTo>
                    <a:pt x="174" y="397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24"/>
            <p:cNvSpPr/>
            <p:nvPr/>
          </p:nvSpPr>
          <p:spPr>
            <a:xfrm>
              <a:off x="8678520" y="251280"/>
              <a:ext cx="88920" cy="111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123" h="1122">
                  <a:moveTo>
                    <a:pt x="203" y="1122"/>
                  </a:moveTo>
                  <a:lnTo>
                    <a:pt x="347" y="806"/>
                  </a:lnTo>
                  <a:lnTo>
                    <a:pt x="577" y="548"/>
                  </a:lnTo>
                  <a:lnTo>
                    <a:pt x="1123" y="231"/>
                  </a:lnTo>
                  <a:lnTo>
                    <a:pt x="923" y="0"/>
                  </a:lnTo>
                  <a:lnTo>
                    <a:pt x="491" y="290"/>
                  </a:lnTo>
                  <a:lnTo>
                    <a:pt x="231" y="548"/>
                  </a:lnTo>
                  <a:lnTo>
                    <a:pt x="0" y="1036"/>
                  </a:lnTo>
                  <a:lnTo>
                    <a:pt x="203" y="1122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25"/>
            <p:cNvSpPr/>
            <p:nvPr/>
          </p:nvSpPr>
          <p:spPr>
            <a:xfrm>
              <a:off x="8551440" y="389160"/>
              <a:ext cx="41040" cy="68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21" h="691">
                  <a:moveTo>
                    <a:pt x="444" y="315"/>
                  </a:moveTo>
                  <a:lnTo>
                    <a:pt x="521" y="126"/>
                  </a:lnTo>
                  <a:lnTo>
                    <a:pt x="394" y="0"/>
                  </a:lnTo>
                  <a:lnTo>
                    <a:pt x="172" y="155"/>
                  </a:lnTo>
                  <a:lnTo>
                    <a:pt x="0" y="473"/>
                  </a:lnTo>
                  <a:lnTo>
                    <a:pt x="48" y="691"/>
                  </a:lnTo>
                  <a:lnTo>
                    <a:pt x="270" y="628"/>
                  </a:lnTo>
                  <a:lnTo>
                    <a:pt x="394" y="502"/>
                  </a:lnTo>
                  <a:lnTo>
                    <a:pt x="444" y="315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26"/>
            <p:cNvSpPr/>
            <p:nvPr/>
          </p:nvSpPr>
          <p:spPr>
            <a:xfrm>
              <a:off x="8162640" y="357480"/>
              <a:ext cx="582480" cy="83952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839520"/>
                <a:gd name="textAreaBottom" fmla="*/ 839880 h 839520"/>
              </a:gdLst>
              <a:ahLst/>
              <a:rect l="textAreaLeft" t="textAreaTop" r="textAreaRight" b="textAreaBottom"/>
              <a:pathLst>
                <a:path w="7324" h="8425">
                  <a:moveTo>
                    <a:pt x="6718" y="0"/>
                  </a:moveTo>
                  <a:lnTo>
                    <a:pt x="6805" y="229"/>
                  </a:lnTo>
                  <a:lnTo>
                    <a:pt x="6862" y="401"/>
                  </a:lnTo>
                  <a:lnTo>
                    <a:pt x="6891" y="632"/>
                  </a:lnTo>
                  <a:lnTo>
                    <a:pt x="6862" y="804"/>
                  </a:lnTo>
                  <a:lnTo>
                    <a:pt x="6805" y="978"/>
                  </a:lnTo>
                  <a:lnTo>
                    <a:pt x="6718" y="1150"/>
                  </a:lnTo>
                  <a:lnTo>
                    <a:pt x="6604" y="1379"/>
                  </a:lnTo>
                  <a:lnTo>
                    <a:pt x="6400" y="1553"/>
                  </a:lnTo>
                  <a:lnTo>
                    <a:pt x="5998" y="2099"/>
                  </a:lnTo>
                  <a:lnTo>
                    <a:pt x="5794" y="2415"/>
                  </a:lnTo>
                  <a:lnTo>
                    <a:pt x="5593" y="2847"/>
                  </a:lnTo>
                  <a:lnTo>
                    <a:pt x="5450" y="3393"/>
                  </a:lnTo>
                  <a:lnTo>
                    <a:pt x="5277" y="3968"/>
                  </a:lnTo>
                  <a:lnTo>
                    <a:pt x="5131" y="4370"/>
                  </a:lnTo>
                  <a:lnTo>
                    <a:pt x="4901" y="4802"/>
                  </a:lnTo>
                  <a:lnTo>
                    <a:pt x="4613" y="5148"/>
                  </a:lnTo>
                  <a:lnTo>
                    <a:pt x="4268" y="5494"/>
                  </a:lnTo>
                  <a:lnTo>
                    <a:pt x="3893" y="5693"/>
                  </a:lnTo>
                  <a:lnTo>
                    <a:pt x="3288" y="5924"/>
                  </a:lnTo>
                  <a:lnTo>
                    <a:pt x="2651" y="6038"/>
                  </a:lnTo>
                  <a:lnTo>
                    <a:pt x="2221" y="6095"/>
                  </a:lnTo>
                  <a:lnTo>
                    <a:pt x="1642" y="6067"/>
                  </a:lnTo>
                  <a:lnTo>
                    <a:pt x="1268" y="5953"/>
                  </a:lnTo>
                  <a:lnTo>
                    <a:pt x="950" y="5752"/>
                  </a:lnTo>
                  <a:lnTo>
                    <a:pt x="721" y="5520"/>
                  </a:lnTo>
                  <a:lnTo>
                    <a:pt x="517" y="5262"/>
                  </a:lnTo>
                  <a:lnTo>
                    <a:pt x="432" y="4975"/>
                  </a:lnTo>
                  <a:lnTo>
                    <a:pt x="374" y="4630"/>
                  </a:lnTo>
                  <a:lnTo>
                    <a:pt x="432" y="4226"/>
                  </a:lnTo>
                  <a:lnTo>
                    <a:pt x="517" y="3796"/>
                  </a:lnTo>
                  <a:lnTo>
                    <a:pt x="143" y="4543"/>
                  </a:lnTo>
                  <a:lnTo>
                    <a:pt x="0" y="5348"/>
                  </a:lnTo>
                  <a:lnTo>
                    <a:pt x="56" y="5866"/>
                  </a:lnTo>
                  <a:lnTo>
                    <a:pt x="202" y="6472"/>
                  </a:lnTo>
                  <a:lnTo>
                    <a:pt x="517" y="7073"/>
                  </a:lnTo>
                  <a:lnTo>
                    <a:pt x="1038" y="7677"/>
                  </a:lnTo>
                  <a:lnTo>
                    <a:pt x="1672" y="8109"/>
                  </a:lnTo>
                  <a:lnTo>
                    <a:pt x="2451" y="8425"/>
                  </a:lnTo>
                  <a:lnTo>
                    <a:pt x="3345" y="8425"/>
                  </a:lnTo>
                  <a:lnTo>
                    <a:pt x="4064" y="8253"/>
                  </a:lnTo>
                  <a:lnTo>
                    <a:pt x="4729" y="7880"/>
                  </a:lnTo>
                  <a:lnTo>
                    <a:pt x="5162" y="7507"/>
                  </a:lnTo>
                  <a:lnTo>
                    <a:pt x="5564" y="7045"/>
                  </a:lnTo>
                  <a:lnTo>
                    <a:pt x="5794" y="6528"/>
                  </a:lnTo>
                  <a:lnTo>
                    <a:pt x="5911" y="6038"/>
                  </a:lnTo>
                  <a:lnTo>
                    <a:pt x="5969" y="5520"/>
                  </a:lnTo>
                  <a:lnTo>
                    <a:pt x="6026" y="4370"/>
                  </a:lnTo>
                  <a:lnTo>
                    <a:pt x="6142" y="3796"/>
                  </a:lnTo>
                  <a:lnTo>
                    <a:pt x="6315" y="3364"/>
                  </a:lnTo>
                  <a:lnTo>
                    <a:pt x="6516" y="3049"/>
                  </a:lnTo>
                  <a:lnTo>
                    <a:pt x="6805" y="2731"/>
                  </a:lnTo>
                  <a:lnTo>
                    <a:pt x="7064" y="2386"/>
                  </a:lnTo>
                  <a:lnTo>
                    <a:pt x="7236" y="2071"/>
                  </a:lnTo>
                  <a:lnTo>
                    <a:pt x="7296" y="1725"/>
                  </a:lnTo>
                  <a:lnTo>
                    <a:pt x="7324" y="1437"/>
                  </a:lnTo>
                  <a:lnTo>
                    <a:pt x="7324" y="1093"/>
                  </a:lnTo>
                  <a:lnTo>
                    <a:pt x="7208" y="691"/>
                  </a:lnTo>
                  <a:lnTo>
                    <a:pt x="7092" y="461"/>
                  </a:lnTo>
                  <a:lnTo>
                    <a:pt x="6978" y="286"/>
                  </a:lnTo>
                  <a:lnTo>
                    <a:pt x="6718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7"/>
            <p:cNvSpPr/>
            <p:nvPr/>
          </p:nvSpPr>
          <p:spPr>
            <a:xfrm>
              <a:off x="8158320" y="340560"/>
              <a:ext cx="680760" cy="87840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878400"/>
                <a:gd name="textAreaBottom" fmla="*/ 878760 h 878400"/>
              </a:gdLst>
              <a:ahLst/>
              <a:rect l="textAreaLeft" t="textAreaTop" r="textAreaRight" b="textAreaBottom"/>
              <a:pathLst>
                <a:path w="8565" h="8830">
                  <a:moveTo>
                    <a:pt x="5997" y="0"/>
                  </a:moveTo>
                  <a:lnTo>
                    <a:pt x="5509" y="116"/>
                  </a:lnTo>
                  <a:lnTo>
                    <a:pt x="5163" y="289"/>
                  </a:lnTo>
                  <a:lnTo>
                    <a:pt x="4903" y="519"/>
                  </a:lnTo>
                  <a:lnTo>
                    <a:pt x="4701" y="777"/>
                  </a:lnTo>
                  <a:lnTo>
                    <a:pt x="4499" y="1123"/>
                  </a:lnTo>
                  <a:lnTo>
                    <a:pt x="4268" y="1438"/>
                  </a:lnTo>
                  <a:lnTo>
                    <a:pt x="4037" y="1727"/>
                  </a:lnTo>
                  <a:lnTo>
                    <a:pt x="3634" y="2042"/>
                  </a:lnTo>
                  <a:lnTo>
                    <a:pt x="3287" y="2273"/>
                  </a:lnTo>
                  <a:lnTo>
                    <a:pt x="2855" y="2475"/>
                  </a:lnTo>
                  <a:lnTo>
                    <a:pt x="2423" y="2646"/>
                  </a:lnTo>
                  <a:lnTo>
                    <a:pt x="1818" y="2877"/>
                  </a:lnTo>
                  <a:lnTo>
                    <a:pt x="1182" y="3280"/>
                  </a:lnTo>
                  <a:lnTo>
                    <a:pt x="720" y="3768"/>
                  </a:lnTo>
                  <a:lnTo>
                    <a:pt x="491" y="4228"/>
                  </a:lnTo>
                  <a:lnTo>
                    <a:pt x="232" y="4976"/>
                  </a:lnTo>
                  <a:lnTo>
                    <a:pt x="145" y="5522"/>
                  </a:lnTo>
                  <a:lnTo>
                    <a:pt x="232" y="6300"/>
                  </a:lnTo>
                  <a:lnTo>
                    <a:pt x="491" y="6932"/>
                  </a:lnTo>
                  <a:lnTo>
                    <a:pt x="865" y="7422"/>
                  </a:lnTo>
                  <a:lnTo>
                    <a:pt x="1270" y="7851"/>
                  </a:lnTo>
                  <a:lnTo>
                    <a:pt x="1701" y="8169"/>
                  </a:lnTo>
                  <a:lnTo>
                    <a:pt x="2250" y="8399"/>
                  </a:lnTo>
                  <a:lnTo>
                    <a:pt x="2826" y="8514"/>
                  </a:lnTo>
                  <a:lnTo>
                    <a:pt x="3431" y="8486"/>
                  </a:lnTo>
                  <a:lnTo>
                    <a:pt x="4037" y="8370"/>
                  </a:lnTo>
                  <a:lnTo>
                    <a:pt x="4529" y="8112"/>
                  </a:lnTo>
                  <a:lnTo>
                    <a:pt x="4932" y="7851"/>
                  </a:lnTo>
                  <a:lnTo>
                    <a:pt x="5306" y="7478"/>
                  </a:lnTo>
                  <a:lnTo>
                    <a:pt x="5595" y="7134"/>
                  </a:lnTo>
                  <a:lnTo>
                    <a:pt x="5768" y="6760"/>
                  </a:lnTo>
                  <a:lnTo>
                    <a:pt x="5913" y="6269"/>
                  </a:lnTo>
                  <a:lnTo>
                    <a:pt x="5970" y="5839"/>
                  </a:lnTo>
                  <a:lnTo>
                    <a:pt x="5997" y="5408"/>
                  </a:lnTo>
                  <a:lnTo>
                    <a:pt x="5997" y="4948"/>
                  </a:lnTo>
                  <a:lnTo>
                    <a:pt x="6028" y="4431"/>
                  </a:lnTo>
                  <a:lnTo>
                    <a:pt x="6144" y="3912"/>
                  </a:lnTo>
                  <a:lnTo>
                    <a:pt x="6287" y="3597"/>
                  </a:lnTo>
                  <a:lnTo>
                    <a:pt x="6546" y="3164"/>
                  </a:lnTo>
                  <a:lnTo>
                    <a:pt x="6864" y="2819"/>
                  </a:lnTo>
                  <a:lnTo>
                    <a:pt x="7151" y="2446"/>
                  </a:lnTo>
                  <a:lnTo>
                    <a:pt x="7267" y="2129"/>
                  </a:lnTo>
                  <a:lnTo>
                    <a:pt x="7355" y="1755"/>
                  </a:lnTo>
                  <a:lnTo>
                    <a:pt x="7355" y="1410"/>
                  </a:lnTo>
                  <a:lnTo>
                    <a:pt x="7267" y="921"/>
                  </a:lnTo>
                  <a:lnTo>
                    <a:pt x="7123" y="604"/>
                  </a:lnTo>
                  <a:lnTo>
                    <a:pt x="6950" y="377"/>
                  </a:lnTo>
                  <a:lnTo>
                    <a:pt x="6690" y="174"/>
                  </a:lnTo>
                  <a:lnTo>
                    <a:pt x="7123" y="491"/>
                  </a:lnTo>
                  <a:lnTo>
                    <a:pt x="7355" y="834"/>
                  </a:lnTo>
                  <a:lnTo>
                    <a:pt x="7469" y="1180"/>
                  </a:lnTo>
                  <a:lnTo>
                    <a:pt x="7499" y="1526"/>
                  </a:lnTo>
                  <a:lnTo>
                    <a:pt x="7499" y="1869"/>
                  </a:lnTo>
                  <a:lnTo>
                    <a:pt x="7411" y="2215"/>
                  </a:lnTo>
                  <a:lnTo>
                    <a:pt x="7267" y="2531"/>
                  </a:lnTo>
                  <a:lnTo>
                    <a:pt x="7008" y="2905"/>
                  </a:lnTo>
                  <a:lnTo>
                    <a:pt x="6633" y="3280"/>
                  </a:lnTo>
                  <a:lnTo>
                    <a:pt x="6403" y="3680"/>
                  </a:lnTo>
                  <a:lnTo>
                    <a:pt x="6228" y="4142"/>
                  </a:lnTo>
                  <a:lnTo>
                    <a:pt x="6172" y="4574"/>
                  </a:lnTo>
                  <a:lnTo>
                    <a:pt x="6172" y="5178"/>
                  </a:lnTo>
                  <a:lnTo>
                    <a:pt x="6144" y="5694"/>
                  </a:lnTo>
                  <a:lnTo>
                    <a:pt x="6085" y="6212"/>
                  </a:lnTo>
                  <a:lnTo>
                    <a:pt x="5970" y="6673"/>
                  </a:lnTo>
                  <a:lnTo>
                    <a:pt x="5797" y="7105"/>
                  </a:lnTo>
                  <a:lnTo>
                    <a:pt x="5566" y="7422"/>
                  </a:lnTo>
                  <a:lnTo>
                    <a:pt x="5306" y="7681"/>
                  </a:lnTo>
                  <a:lnTo>
                    <a:pt x="6172" y="7651"/>
                  </a:lnTo>
                  <a:lnTo>
                    <a:pt x="6749" y="7737"/>
                  </a:lnTo>
                  <a:lnTo>
                    <a:pt x="6950" y="7708"/>
                  </a:lnTo>
                  <a:lnTo>
                    <a:pt x="7181" y="7624"/>
                  </a:lnTo>
                  <a:lnTo>
                    <a:pt x="7555" y="7593"/>
                  </a:lnTo>
                  <a:lnTo>
                    <a:pt x="7931" y="7593"/>
                  </a:lnTo>
                  <a:lnTo>
                    <a:pt x="8420" y="7681"/>
                  </a:lnTo>
                  <a:lnTo>
                    <a:pt x="8565" y="7795"/>
                  </a:lnTo>
                  <a:lnTo>
                    <a:pt x="8537" y="7851"/>
                  </a:lnTo>
                  <a:lnTo>
                    <a:pt x="8363" y="7910"/>
                  </a:lnTo>
                  <a:lnTo>
                    <a:pt x="7987" y="7910"/>
                  </a:lnTo>
                  <a:lnTo>
                    <a:pt x="7669" y="7939"/>
                  </a:lnTo>
                  <a:lnTo>
                    <a:pt x="7527" y="8024"/>
                  </a:lnTo>
                  <a:lnTo>
                    <a:pt x="7469" y="8054"/>
                  </a:lnTo>
                  <a:lnTo>
                    <a:pt x="7355" y="8197"/>
                  </a:lnTo>
                  <a:lnTo>
                    <a:pt x="7151" y="8340"/>
                  </a:lnTo>
                  <a:lnTo>
                    <a:pt x="6921" y="8486"/>
                  </a:lnTo>
                  <a:lnTo>
                    <a:pt x="6546" y="8571"/>
                  </a:lnTo>
                  <a:lnTo>
                    <a:pt x="5853" y="8715"/>
                  </a:lnTo>
                  <a:lnTo>
                    <a:pt x="4788" y="8830"/>
                  </a:lnTo>
                  <a:lnTo>
                    <a:pt x="3634" y="8830"/>
                  </a:lnTo>
                  <a:lnTo>
                    <a:pt x="2826" y="8801"/>
                  </a:lnTo>
                  <a:lnTo>
                    <a:pt x="2192" y="8685"/>
                  </a:lnTo>
                  <a:lnTo>
                    <a:pt x="1731" y="8629"/>
                  </a:lnTo>
                  <a:lnTo>
                    <a:pt x="1471" y="8542"/>
                  </a:lnTo>
                  <a:lnTo>
                    <a:pt x="1443" y="8456"/>
                  </a:lnTo>
                  <a:lnTo>
                    <a:pt x="1500" y="8399"/>
                  </a:lnTo>
                  <a:lnTo>
                    <a:pt x="1644" y="8313"/>
                  </a:lnTo>
                  <a:lnTo>
                    <a:pt x="1213" y="8024"/>
                  </a:lnTo>
                  <a:lnTo>
                    <a:pt x="865" y="7708"/>
                  </a:lnTo>
                  <a:lnTo>
                    <a:pt x="576" y="7363"/>
                  </a:lnTo>
                  <a:lnTo>
                    <a:pt x="377" y="7046"/>
                  </a:lnTo>
                  <a:lnTo>
                    <a:pt x="202" y="6646"/>
                  </a:lnTo>
                  <a:lnTo>
                    <a:pt x="88" y="6300"/>
                  </a:lnTo>
                  <a:lnTo>
                    <a:pt x="0" y="5867"/>
                  </a:lnTo>
                  <a:lnTo>
                    <a:pt x="29" y="5294"/>
                  </a:lnTo>
                  <a:lnTo>
                    <a:pt x="88" y="4860"/>
                  </a:lnTo>
                  <a:lnTo>
                    <a:pt x="232" y="4344"/>
                  </a:lnTo>
                  <a:lnTo>
                    <a:pt x="520" y="3740"/>
                  </a:lnTo>
                  <a:lnTo>
                    <a:pt x="865" y="3338"/>
                  </a:lnTo>
                  <a:lnTo>
                    <a:pt x="1241" y="3021"/>
                  </a:lnTo>
                  <a:lnTo>
                    <a:pt x="1731" y="2733"/>
                  </a:lnTo>
                  <a:lnTo>
                    <a:pt x="2280" y="2560"/>
                  </a:lnTo>
                  <a:lnTo>
                    <a:pt x="2942" y="2302"/>
                  </a:lnTo>
                  <a:lnTo>
                    <a:pt x="3431" y="2014"/>
                  </a:lnTo>
                  <a:lnTo>
                    <a:pt x="3923" y="1641"/>
                  </a:lnTo>
                  <a:lnTo>
                    <a:pt x="4297" y="1180"/>
                  </a:lnTo>
                  <a:lnTo>
                    <a:pt x="4585" y="777"/>
                  </a:lnTo>
                  <a:lnTo>
                    <a:pt x="4788" y="491"/>
                  </a:lnTo>
                  <a:lnTo>
                    <a:pt x="5046" y="260"/>
                  </a:lnTo>
                  <a:lnTo>
                    <a:pt x="5277" y="116"/>
                  </a:lnTo>
                  <a:lnTo>
                    <a:pt x="5566" y="31"/>
                  </a:lnTo>
                  <a:lnTo>
                    <a:pt x="59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28"/>
            <p:cNvSpPr/>
            <p:nvPr/>
          </p:nvSpPr>
          <p:spPr>
            <a:xfrm>
              <a:off x="8685000" y="243000"/>
              <a:ext cx="87840" cy="11988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1096" h="1208">
                  <a:moveTo>
                    <a:pt x="116" y="1151"/>
                  </a:moveTo>
                  <a:lnTo>
                    <a:pt x="260" y="892"/>
                  </a:lnTo>
                  <a:lnTo>
                    <a:pt x="490" y="662"/>
                  </a:lnTo>
                  <a:lnTo>
                    <a:pt x="778" y="490"/>
                  </a:lnTo>
                  <a:lnTo>
                    <a:pt x="1096" y="317"/>
                  </a:lnTo>
                  <a:lnTo>
                    <a:pt x="894" y="0"/>
                  </a:lnTo>
                  <a:lnTo>
                    <a:pt x="518" y="230"/>
                  </a:lnTo>
                  <a:lnTo>
                    <a:pt x="288" y="459"/>
                  </a:lnTo>
                  <a:lnTo>
                    <a:pt x="116" y="691"/>
                  </a:lnTo>
                  <a:lnTo>
                    <a:pt x="0" y="949"/>
                  </a:lnTo>
                  <a:lnTo>
                    <a:pt x="200" y="634"/>
                  </a:lnTo>
                  <a:lnTo>
                    <a:pt x="432" y="376"/>
                  </a:lnTo>
                  <a:lnTo>
                    <a:pt x="866" y="86"/>
                  </a:lnTo>
                  <a:lnTo>
                    <a:pt x="980" y="317"/>
                  </a:lnTo>
                  <a:lnTo>
                    <a:pt x="577" y="490"/>
                  </a:lnTo>
                  <a:lnTo>
                    <a:pt x="317" y="691"/>
                  </a:lnTo>
                  <a:lnTo>
                    <a:pt x="173" y="949"/>
                  </a:lnTo>
                  <a:lnTo>
                    <a:pt x="57" y="1208"/>
                  </a:lnTo>
                  <a:lnTo>
                    <a:pt x="116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3:55:57Z</dcterms:created>
  <dc:creator>Jon A. Booker</dc:creator>
  <dc:description/>
  <dc:language>en-US</dc:language>
  <cp:lastModifiedBy>Balaji Venkatrao</cp:lastModifiedBy>
  <dcterms:modified xsi:type="dcterms:W3CDTF">2013-11-05T08:10:48Z</dcterms:modified>
  <cp:revision>261</cp:revision>
  <dc:subject/>
  <dc:title>Chapter Title</dc:title>
</cp:coreProperties>
</file>