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3.jpeg" ContentType="image/jpeg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4.jpeg" ContentType="image/jpeg"/>
  <Override PartName="/ppt/media/image8.png" ContentType="image/png"/>
  <Override PartName="/ppt/media/image9.wmf" ContentType="image/x-wmf"/>
  <Override PartName="/ppt/media/image11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019920" y="0"/>
            <a:ext cx="8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A-</a:t>
            </a:r>
            <a:fld id="{76C46180-D4A4-457D-8D47-BAA2A48BF9B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1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Notes Placeholder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A-</a:t>
            </a:r>
            <a:fld id="{B4B3325E-B94F-4B83-8C0B-F0E3C9CFE55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64400" y="6611760"/>
            <a:ext cx="821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-variable Costing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4"/>
          <p:cNvGrpSpPr/>
          <p:nvPr/>
        </p:nvGrpSpPr>
        <p:grpSpPr>
          <a:xfrm>
            <a:off x="706320" y="5548320"/>
            <a:ext cx="8094960" cy="820440"/>
            <a:chOff x="706320" y="5548320"/>
            <a:chExt cx="8094960" cy="820440"/>
          </a:xfrm>
        </p:grpSpPr>
        <p:sp>
          <p:nvSpPr>
            <p:cNvPr id="154" name="Rectangle 5"/>
            <p:cNvSpPr/>
            <p:nvPr/>
          </p:nvSpPr>
          <p:spPr>
            <a:xfrm>
              <a:off x="706320" y="5548320"/>
              <a:ext cx="5526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        </a:t>
              </a: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Direct labor                  $75,000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Units produced           25,000 un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6"/>
            <p:cNvSpPr/>
            <p:nvPr/>
          </p:nvSpPr>
          <p:spPr>
            <a:xfrm>
              <a:off x="3657600" y="5730840"/>
              <a:ext cx="514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=                           =   $3 per u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>
              <a:off x="1082520" y="5965920"/>
              <a:ext cx="2286000" cy="0"/>
            </a:xfrm>
            <a:prstGeom prst="line">
              <a:avLst/>
            </a:prstGeom>
            <a:ln w="2844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4354560" y="5965920"/>
              <a:ext cx="1600200" cy="0"/>
            </a:xfrm>
            <a:prstGeom prst="line">
              <a:avLst/>
            </a:prstGeom>
            <a:ln w="2844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532800" y="1523880"/>
            <a:ext cx="80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We can reconcile the difference between</a:t>
            </a:r>
            <a:br>
              <a:rPr sz="2800"/>
            </a:b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super-variable and variable income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380880" y="2695680"/>
          <a:ext cx="8406000" cy="245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95680"/>
                    <a:ext cx="8406000" cy="2454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mparing the Two Method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xtended Comparisons of Income Data Harvey Company – Year Two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163" name="Object 2"/>
          <p:cNvGraphicFramePr/>
          <p:nvPr/>
        </p:nvGraphicFramePr>
        <p:xfrm>
          <a:off x="631800" y="1981080"/>
          <a:ext cx="7877160" cy="408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981080"/>
                    <a:ext cx="7877160" cy="4089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</p:spTree>
  </p:cSld>
  <p:transition>
    <p:cover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533520" y="4971960"/>
            <a:ext cx="8078760" cy="1672920"/>
          </a:xfrm>
          <a:prstGeom prst="rect">
            <a:avLst/>
          </a:prstGeom>
          <a:solidFill>
            <a:srgbClr val="227a8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ce the variable costs per unit, total fixed costs, and the number of units produced remained unchanged, the unit cost computations also remain unchang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184320" y="1905120"/>
          <a:ext cx="8775360" cy="280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905120"/>
                    <a:ext cx="8775360" cy="280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Unit Cost Computat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444600" y="2651040"/>
          <a:ext cx="8235720" cy="343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2651040"/>
                    <a:ext cx="8235720" cy="343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grpSp>
        <p:nvGrpSpPr>
          <p:cNvPr id="171" name="Group 3"/>
          <p:cNvGrpSpPr/>
          <p:nvPr/>
        </p:nvGrpSpPr>
        <p:grpSpPr>
          <a:xfrm>
            <a:off x="2860560" y="1666800"/>
            <a:ext cx="2057400" cy="2163600"/>
            <a:chOff x="2860560" y="1666800"/>
            <a:chExt cx="2057400" cy="2163600"/>
          </a:xfrm>
        </p:grpSpPr>
        <p:sp>
          <p:nvSpPr>
            <p:cNvPr id="172" name="Line 5"/>
            <p:cNvSpPr/>
            <p:nvPr/>
          </p:nvSpPr>
          <p:spPr>
            <a:xfrm flipH="1">
              <a:off x="3698640" y="2367000"/>
              <a:ext cx="380880" cy="1463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2860560" y="1666800"/>
              <a:ext cx="2057400" cy="698760"/>
            </a:xfrm>
            <a:prstGeom prst="rect">
              <a:avLst/>
            </a:prstGeom>
            <a:solidFill>
              <a:srgbClr val="ccecff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Direct material costs onl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7"/>
          <p:cNvGrpSpPr/>
          <p:nvPr/>
        </p:nvGrpSpPr>
        <p:grpSpPr>
          <a:xfrm>
            <a:off x="6139800" y="1504800"/>
            <a:ext cx="2615400" cy="3219480"/>
            <a:chOff x="6139800" y="1504800"/>
            <a:chExt cx="2615400" cy="3219480"/>
          </a:xfrm>
        </p:grpSpPr>
        <p:sp>
          <p:nvSpPr>
            <p:cNvPr id="175" name="Line 8"/>
            <p:cNvSpPr/>
            <p:nvPr/>
          </p:nvSpPr>
          <p:spPr>
            <a:xfrm flipH="1">
              <a:off x="6553080" y="2209680"/>
              <a:ext cx="914400" cy="2514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>
              <a:off x="6139800" y="1504800"/>
              <a:ext cx="2615400" cy="698760"/>
            </a:xfrm>
            <a:prstGeom prst="rect">
              <a:avLst/>
            </a:prstGeom>
            <a:solidFill>
              <a:srgbClr val="ccecff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All direct labor</a:t>
              </a:r>
              <a:br>
                <a:rPr sz="2000"/>
              </a:b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costs are expens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uper-variable Costing Contribution Format Income Statement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Variable Costing Contribution Format Income Statement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179" name="Object 2"/>
          <p:cNvGraphicFramePr/>
          <p:nvPr/>
        </p:nvGraphicFramePr>
        <p:xfrm>
          <a:off x="444600" y="2651040"/>
          <a:ext cx="8235720" cy="312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2651040"/>
                    <a:ext cx="8235720" cy="312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grpSp>
        <p:nvGrpSpPr>
          <p:cNvPr id="181" name="Group 3"/>
          <p:cNvGrpSpPr/>
          <p:nvPr/>
        </p:nvGrpSpPr>
        <p:grpSpPr>
          <a:xfrm>
            <a:off x="4343400" y="1676520"/>
            <a:ext cx="2057400" cy="2133000"/>
            <a:chOff x="4343400" y="1676520"/>
            <a:chExt cx="2057400" cy="2133000"/>
          </a:xfrm>
        </p:grpSpPr>
        <p:sp>
          <p:nvSpPr>
            <p:cNvPr id="182" name="Line 5"/>
            <p:cNvSpPr/>
            <p:nvPr/>
          </p:nvSpPr>
          <p:spPr>
            <a:xfrm flipH="1">
              <a:off x="5181480" y="2438280"/>
              <a:ext cx="380880" cy="137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"/>
            <p:cNvSpPr/>
            <p:nvPr/>
          </p:nvSpPr>
          <p:spPr>
            <a:xfrm>
              <a:off x="4343400" y="1676520"/>
              <a:ext cx="2057400" cy="1003680"/>
            </a:xfrm>
            <a:prstGeom prst="rect">
              <a:avLst/>
            </a:prstGeom>
            <a:solidFill>
              <a:srgbClr val="ccecff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Direct material and direct labor cost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8"/>
          <p:cNvSpPr/>
          <p:nvPr/>
        </p:nvSpPr>
        <p:spPr>
          <a:xfrm>
            <a:off x="1066680" y="5950080"/>
            <a:ext cx="7010640" cy="825480"/>
          </a:xfrm>
          <a:prstGeom prst="rect">
            <a:avLst/>
          </a:prstGeom>
          <a:solidFill>
            <a:srgbClr val="d5a7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abor cost released from invento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5,000 units × $3 = $15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mparing the Two Method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86" name="Group 2"/>
          <p:cNvGrpSpPr/>
          <p:nvPr/>
        </p:nvGrpSpPr>
        <p:grpSpPr>
          <a:xfrm>
            <a:off x="706320" y="5548320"/>
            <a:ext cx="8094960" cy="820440"/>
            <a:chOff x="706320" y="5548320"/>
            <a:chExt cx="8094960" cy="820440"/>
          </a:xfrm>
        </p:grpSpPr>
        <p:sp>
          <p:nvSpPr>
            <p:cNvPr id="187" name="Rectangle 4"/>
            <p:cNvSpPr/>
            <p:nvPr/>
          </p:nvSpPr>
          <p:spPr>
            <a:xfrm>
              <a:off x="706320" y="5548320"/>
              <a:ext cx="5526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        </a:t>
              </a: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Direct labor                  $75,000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Units produced           25,000 un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3809880" y="5730840"/>
              <a:ext cx="4991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=                          =   $3 per u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7"/>
            <p:cNvSpPr/>
            <p:nvPr/>
          </p:nvSpPr>
          <p:spPr>
            <a:xfrm>
              <a:off x="1082520" y="5965920"/>
              <a:ext cx="2286000" cy="0"/>
            </a:xfrm>
            <a:prstGeom prst="line">
              <a:avLst/>
            </a:prstGeom>
            <a:ln w="2844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4354560" y="5965920"/>
              <a:ext cx="1600200" cy="0"/>
            </a:xfrm>
            <a:prstGeom prst="line">
              <a:avLst/>
            </a:prstGeom>
            <a:ln w="2844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9"/>
          <p:cNvSpPr/>
          <p:nvPr/>
        </p:nvSpPr>
        <p:spPr>
          <a:xfrm>
            <a:off x="532800" y="1523880"/>
            <a:ext cx="80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We can reconcile the difference between</a:t>
            </a:r>
            <a:br>
              <a:rPr sz="2800"/>
            </a:b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super-variable and variable income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2"/>
          <p:cNvGraphicFramePr/>
          <p:nvPr/>
        </p:nvGraphicFramePr>
        <p:xfrm>
          <a:off x="380880" y="2695680"/>
          <a:ext cx="8406000" cy="245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95680"/>
                    <a:ext cx="8406000" cy="2454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</p:spTree>
  </p:cSld>
  <p:transition>
    <p:cover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36440" y="1812960"/>
          <a:ext cx="8850240" cy="192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812960"/>
                    <a:ext cx="8850240" cy="1920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3341520" y="4267080"/>
            <a:ext cx="2468880" cy="2468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mparing the Two Method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Appendix 6A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99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6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905120" y="2462040"/>
            <a:ext cx="5333760" cy="347004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(Appendix 6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Prepare an income statement using super-variable costing and reconcile this approach with variable cost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Overview of Variable and Super-variable Costing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99" name="Group 3075"/>
          <p:cNvGrpSpPr/>
          <p:nvPr/>
        </p:nvGrpSpPr>
        <p:grpSpPr>
          <a:xfrm>
            <a:off x="1909800" y="4441680"/>
            <a:ext cx="5334120" cy="2187720"/>
            <a:chOff x="1909800" y="4441680"/>
            <a:chExt cx="5334120" cy="2187720"/>
          </a:xfrm>
        </p:grpSpPr>
        <p:sp>
          <p:nvSpPr>
            <p:cNvPr id="100" name="Rectangle 3076"/>
            <p:cNvSpPr/>
            <p:nvPr/>
          </p:nvSpPr>
          <p:spPr>
            <a:xfrm>
              <a:off x="1909800" y="4441680"/>
              <a:ext cx="5334120" cy="5493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rect Materi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077"/>
            <p:cNvSpPr/>
            <p:nvPr/>
          </p:nvSpPr>
          <p:spPr>
            <a:xfrm>
              <a:off x="1909800" y="4986360"/>
              <a:ext cx="5334120" cy="54936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rect Lab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079"/>
            <p:cNvSpPr/>
            <p:nvPr/>
          </p:nvSpPr>
          <p:spPr>
            <a:xfrm>
              <a:off x="1909800" y="5531040"/>
              <a:ext cx="5334120" cy="549000"/>
            </a:xfrm>
            <a:prstGeom prst="rect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xed Manufacturing Overhe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081"/>
            <p:cNvSpPr/>
            <p:nvPr/>
          </p:nvSpPr>
          <p:spPr>
            <a:xfrm>
              <a:off x="1909800" y="6080040"/>
              <a:ext cx="5334120" cy="54936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xed Selling and Administrative Expen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3082"/>
          <p:cNvSpPr/>
          <p:nvPr/>
        </p:nvSpPr>
        <p:spPr>
          <a:xfrm>
            <a:off x="270720" y="3782880"/>
            <a:ext cx="13161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83"/>
          <p:cNvSpPr/>
          <p:nvPr/>
        </p:nvSpPr>
        <p:spPr>
          <a:xfrm>
            <a:off x="7591320" y="3483000"/>
            <a:ext cx="12492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084"/>
          <p:cNvGrpSpPr/>
          <p:nvPr/>
        </p:nvGrpSpPr>
        <p:grpSpPr>
          <a:xfrm>
            <a:off x="317520" y="4437000"/>
            <a:ext cx="1565280" cy="2190960"/>
            <a:chOff x="317520" y="4437000"/>
            <a:chExt cx="1565280" cy="2190960"/>
          </a:xfrm>
        </p:grpSpPr>
        <p:grpSp>
          <p:nvGrpSpPr>
            <p:cNvPr id="107" name="Group 3085"/>
            <p:cNvGrpSpPr/>
            <p:nvPr/>
          </p:nvGrpSpPr>
          <p:grpSpPr>
            <a:xfrm>
              <a:off x="317520" y="4437000"/>
              <a:ext cx="1219320" cy="2190960"/>
              <a:chOff x="317520" y="4437000"/>
              <a:chExt cx="1219320" cy="2190960"/>
            </a:xfrm>
          </p:grpSpPr>
          <p:sp>
            <p:nvSpPr>
              <p:cNvPr id="108" name="Rectangle 3086"/>
              <p:cNvSpPr/>
              <p:nvPr/>
            </p:nvSpPr>
            <p:spPr>
              <a:xfrm>
                <a:off x="317520" y="4437000"/>
                <a:ext cx="1219320" cy="109692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Product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s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87"/>
              <p:cNvSpPr/>
              <p:nvPr/>
            </p:nvSpPr>
            <p:spPr>
              <a:xfrm>
                <a:off x="317520" y="5531040"/>
                <a:ext cx="1219320" cy="1096920"/>
              </a:xfrm>
              <a:prstGeom prst="rect">
                <a:avLst/>
              </a:prstGeom>
              <a:solidFill>
                <a:srgbClr val="00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Perio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s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AutoShape 3088"/>
            <p:cNvSpPr/>
            <p:nvPr/>
          </p:nvSpPr>
          <p:spPr>
            <a:xfrm flipH="1">
              <a:off x="1578240" y="4460760"/>
              <a:ext cx="304560" cy="105120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41400 h 1051200"/>
                <a:gd name="textAreaBottom" fmla="*/ 1009800 h 105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362"/>
                    <a:pt x="10800" y="2724"/>
                  </a:cubicBezTo>
                  <a:lnTo>
                    <a:pt x="10800" y="8076"/>
                  </a:lnTo>
                  <a:cubicBezTo>
                    <a:pt x="10800" y="9438"/>
                    <a:pt x="16200" y="10800"/>
                    <a:pt x="21600" y="10800"/>
                  </a:cubicBezTo>
                  <a:cubicBezTo>
                    <a:pt x="16200" y="10800"/>
                    <a:pt x="10800" y="12162"/>
                    <a:pt x="10800" y="13524"/>
                  </a:cubicBezTo>
                  <a:lnTo>
                    <a:pt x="10800" y="18876"/>
                  </a:lnTo>
                  <a:cubicBezTo>
                    <a:pt x="10800" y="20238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3089"/>
            <p:cNvSpPr/>
            <p:nvPr/>
          </p:nvSpPr>
          <p:spPr>
            <a:xfrm flipH="1">
              <a:off x="1578240" y="5531040"/>
              <a:ext cx="304560" cy="109692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41400 h 1096920"/>
                <a:gd name="textAreaBottom" fmla="*/ 105552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305"/>
                    <a:pt x="10800" y="2610"/>
                  </a:cubicBezTo>
                  <a:lnTo>
                    <a:pt x="10800" y="8190"/>
                  </a:lnTo>
                  <a:cubicBezTo>
                    <a:pt x="10800" y="9495"/>
                    <a:pt x="16200" y="10800"/>
                    <a:pt x="21600" y="10800"/>
                  </a:cubicBezTo>
                  <a:cubicBezTo>
                    <a:pt x="16200" y="10800"/>
                    <a:pt x="10800" y="12105"/>
                    <a:pt x="10800" y="13410"/>
                  </a:cubicBezTo>
                  <a:lnTo>
                    <a:pt x="10800" y="18990"/>
                  </a:lnTo>
                  <a:cubicBezTo>
                    <a:pt x="10800" y="20295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b05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3090"/>
          <p:cNvGrpSpPr/>
          <p:nvPr/>
        </p:nvGrpSpPr>
        <p:grpSpPr>
          <a:xfrm>
            <a:off x="7265880" y="4429080"/>
            <a:ext cx="1560240" cy="2198880"/>
            <a:chOff x="7265880" y="4429080"/>
            <a:chExt cx="1560240" cy="2198880"/>
          </a:xfrm>
        </p:grpSpPr>
        <p:grpSp>
          <p:nvGrpSpPr>
            <p:cNvPr id="113" name="Group 3091"/>
            <p:cNvGrpSpPr/>
            <p:nvPr/>
          </p:nvGrpSpPr>
          <p:grpSpPr>
            <a:xfrm>
              <a:off x="7607160" y="4429080"/>
              <a:ext cx="1218960" cy="2198880"/>
              <a:chOff x="7607160" y="4429080"/>
              <a:chExt cx="1218960" cy="2198880"/>
            </a:xfrm>
          </p:grpSpPr>
          <p:sp>
            <p:nvSpPr>
              <p:cNvPr id="114" name="Rectangle 3092"/>
              <p:cNvSpPr/>
              <p:nvPr/>
            </p:nvSpPr>
            <p:spPr>
              <a:xfrm>
                <a:off x="7607160" y="4429080"/>
                <a:ext cx="1218960" cy="59400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Product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093"/>
              <p:cNvSpPr/>
              <p:nvPr/>
            </p:nvSpPr>
            <p:spPr>
              <a:xfrm>
                <a:off x="7607160" y="5027760"/>
                <a:ext cx="1218960" cy="1600200"/>
              </a:xfrm>
              <a:prstGeom prst="rect">
                <a:avLst/>
              </a:prstGeom>
              <a:solidFill>
                <a:srgbClr val="00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Perio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s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AutoShape 3094"/>
            <p:cNvSpPr/>
            <p:nvPr/>
          </p:nvSpPr>
          <p:spPr>
            <a:xfrm>
              <a:off x="7265880" y="4452840"/>
              <a:ext cx="304920" cy="5493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55440 h 549360"/>
                <a:gd name="textAreaBottom" fmla="*/ 493920 h 5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496"/>
                    <a:pt x="10800" y="6992"/>
                  </a:cubicBezTo>
                  <a:lnTo>
                    <a:pt x="10800" y="3808"/>
                  </a:lnTo>
                  <a:cubicBezTo>
                    <a:pt x="10800" y="7304"/>
                    <a:pt x="16200" y="10800"/>
                    <a:pt x="21600" y="10800"/>
                  </a:cubicBezTo>
                  <a:cubicBezTo>
                    <a:pt x="16200" y="10800"/>
                    <a:pt x="10800" y="14296"/>
                    <a:pt x="10800" y="17792"/>
                  </a:cubicBezTo>
                  <a:lnTo>
                    <a:pt x="10800" y="14608"/>
                  </a:lnTo>
                  <a:cubicBezTo>
                    <a:pt x="10800" y="18104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095"/>
            <p:cNvSpPr/>
            <p:nvPr/>
          </p:nvSpPr>
          <p:spPr>
            <a:xfrm>
              <a:off x="7265880" y="5035680"/>
              <a:ext cx="304920" cy="1554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360 h 1554120"/>
                <a:gd name="textAreaBottom" fmla="*/ 1526760 h 155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613"/>
                    <a:pt x="10800" y="1225"/>
                  </a:cubicBezTo>
                  <a:lnTo>
                    <a:pt x="10800" y="9575"/>
                  </a:lnTo>
                  <a:cubicBezTo>
                    <a:pt x="10800" y="10188"/>
                    <a:pt x="16200" y="10800"/>
                    <a:pt x="21600" y="10800"/>
                  </a:cubicBezTo>
                  <a:cubicBezTo>
                    <a:pt x="16200" y="10800"/>
                    <a:pt x="10800" y="11413"/>
                    <a:pt x="10800" y="12025"/>
                  </a:cubicBezTo>
                  <a:lnTo>
                    <a:pt x="10800" y="20375"/>
                  </a:lnTo>
                  <a:cubicBezTo>
                    <a:pt x="10800" y="20988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b05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25"/>
          <p:cNvSpPr/>
          <p:nvPr/>
        </p:nvSpPr>
        <p:spPr>
          <a:xfrm>
            <a:off x="304920" y="1622520"/>
            <a:ext cx="8534160" cy="1828800"/>
          </a:xfrm>
          <a:prstGeom prst="rect">
            <a:avLst/>
          </a:prstGeom>
          <a:solidFill>
            <a:srgbClr val="def5fa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e2d37"/>
                </a:solidFill>
                <a:latin typeface="Arial"/>
              </a:rPr>
              <a:t>Super-variable costing classifies </a:t>
            </a:r>
            <a:r>
              <a:rPr b="0" lang="en-US" sz="2200" spc="-1" strike="noStrike">
                <a:solidFill>
                  <a:srgbClr val="5e2d37"/>
                </a:solidFill>
                <a:latin typeface="Arial"/>
              </a:rPr>
              <a:t>all direct labor and manufacturing overhead costs as fixed period costs and only direct materials as a variable product cost. To simplify, in this appendix we also assume that selling and administrative expenses are entirely fix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Unit Cost Computat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7960" y="170820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rvey Company produces a single product with the following information avail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2"/>
          <p:cNvGraphicFramePr/>
          <p:nvPr/>
        </p:nvGraphicFramePr>
        <p:xfrm>
          <a:off x="685800" y="2733840"/>
          <a:ext cx="8002440" cy="33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33840"/>
                    <a:ext cx="8002440" cy="3349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419040" y="1523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product co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determin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2"/>
          <p:cNvGraphicFramePr/>
          <p:nvPr/>
        </p:nvGraphicFramePr>
        <p:xfrm>
          <a:off x="184320" y="2057400"/>
          <a:ext cx="8775360" cy="28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2057400"/>
                    <a:ext cx="8775360" cy="28083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Unit Cost Computat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250920" y="5059440"/>
            <a:ext cx="8610480" cy="1557000"/>
          </a:xfrm>
          <a:prstGeom prst="rect">
            <a:avLst/>
          </a:prstGeom>
          <a:solidFill>
            <a:srgbClr val="f9d1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Under super-variable costing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only the direct material 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are included in product costs. Under variable costing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irect materials and direct lab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re included when determining unit product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228600" y="1828800"/>
            <a:ext cx="8686800" cy="464832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t’s assume the following additional inform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Harvey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5e2d3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2d37"/>
                </a:solidFill>
                <a:latin typeface="Arial"/>
                <a:ea typeface="Arial"/>
              </a:rPr>
              <a:t>20,000 units were sold during the year at a price</a:t>
            </a:r>
            <a:br>
              <a:rPr sz="2400"/>
            </a:br>
            <a:r>
              <a:rPr b="0" lang="en-US" sz="2400" spc="-1" strike="noStrike">
                <a:solidFill>
                  <a:srgbClr val="5e2d37"/>
                </a:solidFill>
                <a:latin typeface="Arial"/>
                <a:ea typeface="Arial"/>
              </a:rPr>
              <a:t>of $30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5e2d3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2d37"/>
                </a:solidFill>
                <a:latin typeface="Arial"/>
                <a:ea typeface="Arial"/>
              </a:rPr>
              <a:t>There is no beginning inven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w, let’s compute net opera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ome using both super-vari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variable co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Variable and Super-variable Costing Income Statemen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uper-variable Costing Contribution Format Income Statement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444600" y="2651040"/>
          <a:ext cx="8235720" cy="343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2651040"/>
                    <a:ext cx="8235720" cy="343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grpSp>
        <p:nvGrpSpPr>
          <p:cNvPr id="134" name="Group 3"/>
          <p:cNvGrpSpPr/>
          <p:nvPr/>
        </p:nvGrpSpPr>
        <p:grpSpPr>
          <a:xfrm>
            <a:off x="2819520" y="1676520"/>
            <a:ext cx="2057400" cy="2113920"/>
            <a:chOff x="2819520" y="1676520"/>
            <a:chExt cx="2057400" cy="2113920"/>
          </a:xfrm>
        </p:grpSpPr>
        <p:sp>
          <p:nvSpPr>
            <p:cNvPr id="135" name="Line 5"/>
            <p:cNvSpPr/>
            <p:nvPr/>
          </p:nvSpPr>
          <p:spPr>
            <a:xfrm flipH="1">
              <a:off x="3708360" y="2327040"/>
              <a:ext cx="380880" cy="1463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>
              <a:off x="2819520" y="1676520"/>
              <a:ext cx="2057400" cy="698760"/>
            </a:xfrm>
            <a:prstGeom prst="rect">
              <a:avLst/>
            </a:prstGeom>
            <a:solidFill>
              <a:srgbClr val="ccecff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Direct material costs onl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7"/>
          <p:cNvGrpSpPr/>
          <p:nvPr/>
        </p:nvGrpSpPr>
        <p:grpSpPr>
          <a:xfrm>
            <a:off x="6139800" y="1504800"/>
            <a:ext cx="2615400" cy="3219480"/>
            <a:chOff x="6139800" y="1504800"/>
            <a:chExt cx="2615400" cy="3219480"/>
          </a:xfrm>
        </p:grpSpPr>
        <p:sp>
          <p:nvSpPr>
            <p:cNvPr id="138" name="Line 8"/>
            <p:cNvSpPr/>
            <p:nvPr/>
          </p:nvSpPr>
          <p:spPr>
            <a:xfrm flipH="1">
              <a:off x="6553080" y="2209680"/>
              <a:ext cx="914400" cy="2514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6139800" y="1504800"/>
              <a:ext cx="2615400" cy="698760"/>
            </a:xfrm>
            <a:prstGeom prst="rect">
              <a:avLst/>
            </a:prstGeom>
            <a:solidFill>
              <a:srgbClr val="ccecff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All direct labor</a:t>
              </a:r>
              <a:br>
                <a:rPr sz="2000"/>
              </a:b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costs are expens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Object 2"/>
          <p:cNvGraphicFramePr/>
          <p:nvPr/>
        </p:nvGraphicFramePr>
        <p:xfrm>
          <a:off x="444600" y="2651040"/>
          <a:ext cx="8235720" cy="312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2651040"/>
                    <a:ext cx="8235720" cy="312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grpSp>
        <p:nvGrpSpPr>
          <p:cNvPr id="142" name="Group 3"/>
          <p:cNvGrpSpPr/>
          <p:nvPr/>
        </p:nvGrpSpPr>
        <p:grpSpPr>
          <a:xfrm>
            <a:off x="4343400" y="1676520"/>
            <a:ext cx="2057400" cy="2133000"/>
            <a:chOff x="4343400" y="1676520"/>
            <a:chExt cx="2057400" cy="2133000"/>
          </a:xfrm>
        </p:grpSpPr>
        <p:sp>
          <p:nvSpPr>
            <p:cNvPr id="143" name="Line 5"/>
            <p:cNvSpPr/>
            <p:nvPr/>
          </p:nvSpPr>
          <p:spPr>
            <a:xfrm flipH="1">
              <a:off x="5181480" y="2438280"/>
              <a:ext cx="380880" cy="137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6"/>
            <p:cNvSpPr/>
            <p:nvPr/>
          </p:nvSpPr>
          <p:spPr>
            <a:xfrm>
              <a:off x="4343400" y="1676520"/>
              <a:ext cx="2057400" cy="1003680"/>
            </a:xfrm>
            <a:prstGeom prst="rect">
              <a:avLst/>
            </a:prstGeom>
            <a:solidFill>
              <a:srgbClr val="ccecff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Direct material and direct labor cost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Box 11"/>
          <p:cNvSpPr/>
          <p:nvPr/>
        </p:nvSpPr>
        <p:spPr>
          <a:xfrm>
            <a:off x="1066680" y="5950080"/>
            <a:ext cx="7010640" cy="825480"/>
          </a:xfrm>
          <a:prstGeom prst="rect">
            <a:avLst/>
          </a:prstGeom>
          <a:solidFill>
            <a:srgbClr val="d5a7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abor cost deferred in invento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5,000 units × $3 = $15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Variable Costing Contribution Format Income Statement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2"/>
          <p:cNvGraphicFramePr/>
          <p:nvPr/>
        </p:nvGraphicFramePr>
        <p:xfrm>
          <a:off x="162000" y="1863720"/>
          <a:ext cx="8777160" cy="43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863720"/>
                    <a:ext cx="8777160" cy="4346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mparing the Two Method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4191120" y="3886200"/>
            <a:ext cx="2057040" cy="1371240"/>
            <a:chOff x="4191120" y="3886200"/>
            <a:chExt cx="2057040" cy="1371240"/>
          </a:xfrm>
        </p:grpSpPr>
        <p:sp>
          <p:nvSpPr>
            <p:cNvPr id="151" name="Line 6"/>
            <p:cNvSpPr/>
            <p:nvPr/>
          </p:nvSpPr>
          <p:spPr>
            <a:xfrm>
              <a:off x="4191120" y="3886200"/>
              <a:ext cx="1892520" cy="137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>
              <a:off x="5637960" y="3886200"/>
              <a:ext cx="610200" cy="1285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05T09:14:30Z</dcterms:modified>
  <cp:revision>199</cp:revision>
  <dc:subject/>
  <dc:title>Chapter Title</dc:title>
</cp:coreProperties>
</file>