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A-</a:t>
            </a:r>
            <a:fld id="{2830C227-5B02-4B6D-BFBA-7E7D773E6A7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Arial"/>
                <a:ea typeface="Arial"/>
              </a:rPr>
              <a:t>Journal Entries to Record Variances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1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5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905120" y="2462040"/>
            <a:ext cx="5333760" cy="322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  <a:ea typeface="Times New Roman"/>
              </a:rPr>
              <a:t>(Appendix 10B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  <a:ea typeface="Times New Roman"/>
              </a:rPr>
              <a:t>Prepare journal entries</a:t>
            </a:r>
            <a:br>
              <a:rPr sz="3400"/>
            </a:br>
            <a:r>
              <a:rPr b="1" lang="en-US" sz="3400" spc="-1" strike="noStrike">
                <a:solidFill>
                  <a:srgbClr val="5e2d37"/>
                </a:solidFill>
                <a:latin typeface="Arial"/>
                <a:ea typeface="Times New Roman"/>
              </a:rPr>
              <a:t>to record standard</a:t>
            </a:r>
            <a:br>
              <a:rPr sz="3400"/>
            </a:br>
            <a:r>
              <a:rPr b="1" lang="en-US" sz="3400" spc="-1" strike="noStrike">
                <a:solidFill>
                  <a:srgbClr val="5e2d37"/>
                </a:solidFill>
                <a:latin typeface="Arial"/>
                <a:ea typeface="Times New Roman"/>
              </a:rPr>
              <a:t>costs and varianc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Glacier Peak Outfitters ― Revisite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90680" y="1371600"/>
            <a:ext cx="81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information from the Glacier Peak Outfitt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presented earlier in the chapter to illustrate jou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for standard cost variances.  Recall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2819520"/>
            <a:ext cx="3048120" cy="2478960"/>
          </a:xfrm>
          <a:prstGeom prst="rect">
            <a:avLst/>
          </a:prstGeom>
          <a:solidFill>
            <a:srgbClr val="b5e9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AP = $1,02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 × SP = $1,05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Q × SP = $1,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PV = $21 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QV = $50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334120" y="2819520"/>
            <a:ext cx="3047760" cy="2478960"/>
          </a:xfrm>
          <a:prstGeom prst="rect">
            <a:avLst/>
          </a:prstGeom>
          <a:solidFill>
            <a:srgbClr val="b5e9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AR = $26,25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H × SR = $25,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 × SR = $24,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RV = $1,250 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 = $1,000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479840" y="575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858320" y="5562720"/>
            <a:ext cx="54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prepare the entries to reco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bor and material vari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2"/>
          <p:cNvGraphicFramePr/>
          <p:nvPr/>
        </p:nvGraphicFramePr>
        <p:xfrm>
          <a:off x="317520" y="1523880"/>
          <a:ext cx="8508960" cy="47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523880"/>
                    <a:ext cx="85089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Recording Materials Varianc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317520" y="2044800"/>
          <a:ext cx="850896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2044800"/>
                    <a:ext cx="850896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Recording Labor Variances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st Flows in a Standard Cost Syste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04920" y="1905120"/>
            <a:ext cx="8534160" cy="4572000"/>
          </a:xfrm>
          <a:prstGeom prst="rect">
            <a:avLst/>
          </a:prstGeom>
          <a:solidFill>
            <a:srgbClr val="b5e9f4"/>
          </a:solidFill>
          <a:ln w="2844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ntories are recorded at standard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nces are record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Favorable variances are credits, representing savings in production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nfavorable variances are debits, representing excess production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cost variances are usually closed out to cost of goods s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nfavorable variances increase cost of good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Favorable variances decrease cost of good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10B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9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13:04:04Z</dcterms:modified>
  <cp:revision>218</cp:revision>
  <dc:subject/>
  <dc:title>Chapter Title</dc:title>
</cp:coreProperties>
</file>