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820275" cy="7534275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77600" cy="9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49200" y="701640"/>
            <a:ext cx="4578480" cy="351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583240" y="0"/>
            <a:ext cx="149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A-</a:t>
            </a:r>
            <a:fld id="{2F424B1D-8D7A-4383-81A6-1A5C237152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49200" y="701640"/>
            <a:ext cx="4578480" cy="3511440"/>
          </a:xfrm>
          <a:prstGeom prst="rect">
            <a:avLst/>
          </a:prstGeom>
          <a:ln w="0">
            <a:noFill/>
          </a:ln>
        </p:spPr>
      </p:sp>
      <p:sp>
        <p:nvSpPr>
          <p:cNvPr id="127" name="Notes Placeholder 1"/>
          <p:cNvSpPr/>
          <p:nvPr/>
        </p:nvSpPr>
        <p:spPr>
          <a:xfrm>
            <a:off x="708120" y="4448160"/>
            <a:ext cx="566100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49200" y="701640"/>
            <a:ext cx="4578480" cy="3511440"/>
          </a:xfrm>
          <a:prstGeom prst="rect">
            <a:avLst/>
          </a:prstGeom>
          <a:ln w="0">
            <a:noFill/>
          </a:ln>
        </p:spPr>
      </p:sp>
      <p:sp>
        <p:nvSpPr>
          <p:cNvPr id="129" name="Notes Placeholder 1"/>
          <p:cNvSpPr/>
          <p:nvPr/>
        </p:nvSpPr>
        <p:spPr>
          <a:xfrm>
            <a:off x="708120" y="4448160"/>
            <a:ext cx="566100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49200" y="701640"/>
            <a:ext cx="4578480" cy="3511440"/>
          </a:xfrm>
          <a:prstGeom prst="rect">
            <a:avLst/>
          </a:prstGeom>
          <a:ln w="0">
            <a:noFill/>
          </a:ln>
        </p:spPr>
      </p:sp>
      <p:sp>
        <p:nvSpPr>
          <p:cNvPr id="131" name="Notes Placeholder 1"/>
          <p:cNvSpPr/>
          <p:nvPr/>
        </p:nvSpPr>
        <p:spPr>
          <a:xfrm>
            <a:off x="708120" y="4448160"/>
            <a:ext cx="566100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49200" y="701640"/>
            <a:ext cx="4578480" cy="3511440"/>
          </a:xfrm>
          <a:prstGeom prst="rect">
            <a:avLst/>
          </a:prstGeom>
          <a:ln w="0">
            <a:noFill/>
          </a:ln>
        </p:spPr>
      </p:sp>
      <p:sp>
        <p:nvSpPr>
          <p:cNvPr id="133" name="Notes Placeholder 1"/>
          <p:cNvSpPr/>
          <p:nvPr/>
        </p:nvSpPr>
        <p:spPr>
          <a:xfrm>
            <a:off x="708120" y="4448160"/>
            <a:ext cx="566100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49200" y="701640"/>
            <a:ext cx="4578480" cy="3511440"/>
          </a:xfrm>
          <a:prstGeom prst="rect">
            <a:avLst/>
          </a:prstGeom>
          <a:ln w="0">
            <a:noFill/>
          </a:ln>
        </p:spPr>
      </p:sp>
      <p:sp>
        <p:nvSpPr>
          <p:cNvPr id="135" name="Notes Placeholder 1"/>
          <p:cNvSpPr/>
          <p:nvPr/>
        </p:nvSpPr>
        <p:spPr>
          <a:xfrm>
            <a:off x="708120" y="4448160"/>
            <a:ext cx="566100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883908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320" y="4449600"/>
            <a:ext cx="883908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0320" y="444960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9480" y="444960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8680" y="171756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7400" y="171756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20" y="444960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8680" y="444960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7400" y="444960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0320" y="1717560"/>
            <a:ext cx="88390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883908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0320" y="501120"/>
            <a:ext cx="883908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320" y="444960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0320" y="1717560"/>
            <a:ext cx="88390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9480" y="444960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0320" y="4449600"/>
            <a:ext cx="883908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883908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320" y="4449600"/>
            <a:ext cx="883908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0320" y="444960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19480" y="444960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78680" y="171756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67400" y="171756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0320" y="444960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78680" y="444960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67400" y="4449600"/>
            <a:ext cx="284580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883908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0320" y="501120"/>
            <a:ext cx="883908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0320" y="444960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9480" y="444960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032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9480" y="1717560"/>
            <a:ext cx="431316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0320" y="4449600"/>
            <a:ext cx="8839080" cy="24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820440" cy="3412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403200"/>
            <a:ext cx="982044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38040"/>
            <a:ext cx="9820440" cy="1015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0320" y="1717560"/>
            <a:ext cx="883908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8346960" y="0"/>
            <a:ext cx="13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A-</a:t>
            </a:r>
            <a:fld id="{56C1C62A-E1B6-41CD-9756-EC6054FD6C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810400" y="4186080"/>
            <a:ext cx="4010040" cy="986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810400" y="4280760"/>
            <a:ext cx="4010040" cy="2113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810400" y="4613400"/>
            <a:ext cx="21114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923240" y="4460760"/>
            <a:ext cx="1717560" cy="4140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4010040"/>
            <a:ext cx="9820440" cy="26820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4037040"/>
            <a:ext cx="9820440" cy="1555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888240" y="4002120"/>
            <a:ext cx="2932200" cy="272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820440" cy="40672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90680" y="5829480"/>
            <a:ext cx="5073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979920" y="725652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0320" y="1717560"/>
            <a:ext cx="883908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0680" y="1674360"/>
            <a:ext cx="908352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6520" y="4352400"/>
            <a:ext cx="531972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rporate Governanc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767040" y="1938240"/>
            <a:ext cx="5257800" cy="1752840"/>
          </a:xfrm>
          <a:prstGeom prst="ellipse">
            <a:avLst/>
          </a:prstGeom>
          <a:solidFill>
            <a:srgbClr val="7f7f7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f2f2"/>
                </a:solidFill>
                <a:latin typeface="Arial"/>
              </a:rPr>
              <a:t>The system by</a:t>
            </a:r>
            <a:br>
              <a:rPr sz="2600"/>
            </a:br>
            <a:r>
              <a:rPr b="1" lang="en-US" sz="2600" spc="-1" strike="noStrike">
                <a:solidFill>
                  <a:srgbClr val="f2f2f2"/>
                </a:solidFill>
                <a:latin typeface="Arial"/>
              </a:rPr>
              <a:t>which a company is directed</a:t>
            </a:r>
            <a:br>
              <a:rPr sz="2600"/>
            </a:br>
            <a:r>
              <a:rPr b="1" lang="en-US" sz="2600" spc="-1" strike="noStrike">
                <a:solidFill>
                  <a:srgbClr val="f2f2f2"/>
                </a:solidFill>
                <a:latin typeface="Arial"/>
              </a:rPr>
              <a:t>and controll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490680" y="3386160"/>
            <a:ext cx="8838720" cy="3580920"/>
            <a:chOff x="490680" y="3386160"/>
            <a:chExt cx="8838720" cy="3580920"/>
          </a:xfrm>
        </p:grpSpPr>
        <p:sp>
          <p:nvSpPr>
            <p:cNvPr id="99" name="Rectangle 4"/>
            <p:cNvSpPr/>
            <p:nvPr/>
          </p:nvSpPr>
          <p:spPr>
            <a:xfrm>
              <a:off x="490680" y="3386160"/>
              <a:ext cx="2133360" cy="990360"/>
            </a:xfrm>
            <a:prstGeom prst="rect">
              <a:avLst/>
            </a:prstGeom>
            <a:solidFill>
              <a:srgbClr val="d3eef5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oard of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irecto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"/>
            <p:cNvSpPr/>
            <p:nvPr/>
          </p:nvSpPr>
          <p:spPr>
            <a:xfrm>
              <a:off x="3767040" y="4681440"/>
              <a:ext cx="2285640" cy="990000"/>
            </a:xfrm>
            <a:prstGeom prst="rect">
              <a:avLst/>
            </a:prstGeom>
            <a:solidFill>
              <a:srgbClr val="d3eef5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7043760" y="5976720"/>
              <a:ext cx="2285640" cy="990360"/>
            </a:xfrm>
            <a:prstGeom prst="rect">
              <a:avLst/>
            </a:prstGeom>
            <a:solidFill>
              <a:srgbClr val="d3eef5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ockhold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AutoShape 7"/>
            <p:cNvCxnSpPr>
              <a:stCxn id="100" idx="3"/>
              <a:endCxn id="101" idx="0"/>
            </p:cNvCxnSpPr>
            <p:nvPr/>
          </p:nvCxnSpPr>
          <p:spPr>
            <a:xfrm>
              <a:off x="6067440" y="5176440"/>
              <a:ext cx="2119680" cy="78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AutoShape 8"/>
            <p:cNvCxnSpPr>
              <a:stCxn id="99" idx="3"/>
              <a:endCxn id="100" idx="0"/>
            </p:cNvCxnSpPr>
            <p:nvPr/>
          </p:nvCxnSpPr>
          <p:spPr>
            <a:xfrm>
              <a:off x="2638080" y="3881160"/>
              <a:ext cx="2271960" cy="78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" name="Text Box 9"/>
            <p:cNvSpPr/>
            <p:nvPr/>
          </p:nvSpPr>
          <p:spPr>
            <a:xfrm>
              <a:off x="6247080" y="4760640"/>
              <a:ext cx="187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pursu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ectives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2694960" y="3462120"/>
              <a:ext cx="214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entives an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nitoring 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11" descr="PE01561_"/>
          <p:cNvPicPr/>
          <p:nvPr/>
        </p:nvPicPr>
        <p:blipFill>
          <a:blip r:embed="rId1"/>
          <a:stretch/>
        </p:blipFill>
        <p:spPr>
          <a:xfrm>
            <a:off x="561960" y="5091120"/>
            <a:ext cx="2595600" cy="1724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Sarbanes-Oxley Act of 2002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0320" y="1717560"/>
            <a:ext cx="8839080" cy="52308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490680" y="1633680"/>
            <a:ext cx="8839080" cy="54864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  <a:effectLst>
            <a:outerShdw dist="6363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rbanes-Oxley Act of 2002 was intended to protect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ests of those who invest in publicly traded companies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ing the reliability and accuracy of corporate financia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s and disclosures.  Six key aspects of the legislation include: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 requires both the CEO and CFO to certify in writ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that their company’s financial statements and disclosur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fairly represent the results of oper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 establishes the Public Company Accounting Oversigh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Board to provide additional oversight of the audit prof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 places the power to hire, compensate, and termin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public accounting firms in the hands of the audit committ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 places restrictions on audit firms, such as prohibit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public accounting firms from providing a variety of non-aud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services to an audit cl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The Sarbanes-Oxley Act of 2002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42960" y="1709640"/>
            <a:ext cx="8534520" cy="5181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  <a:effectLst>
            <a:outerShdw dist="6363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 requires a public company’s independent audi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ssue an opinion on the effectiveness of the company’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control over financial reporting to accompan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’s assessment, and both are included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ny’s annual repo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 establishes severe penalties for certain behavior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h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Up to 20 years in prison for altering or destroying an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documents that may eventually be used in an officia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procee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Up to 10 years in prison for retaliating against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“whistle blower.”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nternal Contro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252440" y="2090880"/>
            <a:ext cx="7315200" cy="1373760"/>
          </a:xfrm>
          <a:prstGeom prst="rect">
            <a:avLst/>
          </a:prstGeom>
          <a:solidFill>
            <a:srgbClr val="1057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Internal control is a process designed to provide reasonable assurance that objectives are being achie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100160" y="3995640"/>
            <a:ext cx="3657600" cy="1373760"/>
          </a:xfrm>
          <a:prstGeom prst="rect">
            <a:avLst/>
          </a:prstGeom>
          <a:solidFill>
            <a:srgbClr val="ec76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v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e9f4"/>
                </a:solidFill>
                <a:latin typeface="Arial"/>
              </a:rPr>
              <a:t>Prevents or deters undesirabl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022720" y="3995640"/>
            <a:ext cx="3657600" cy="1373760"/>
          </a:xfrm>
          <a:prstGeom prst="rect">
            <a:avLst/>
          </a:prstGeom>
          <a:solidFill>
            <a:srgbClr val="c07b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v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e9f4"/>
                </a:solidFill>
                <a:latin typeface="Arial"/>
              </a:rPr>
              <a:t>Detects undesirable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:\Documents and Settings\Cindy\Local Settings\Temporary Internet Files\Content.IE5\J0XA9JKV\MC900290136[1].wmf"/>
          <p:cNvPicPr/>
          <p:nvPr/>
        </p:nvPicPr>
        <p:blipFill>
          <a:blip r:embed="rId1"/>
          <a:stretch/>
        </p:blipFill>
        <p:spPr>
          <a:xfrm>
            <a:off x="2014560" y="5473800"/>
            <a:ext cx="1447920" cy="1722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Documents and Settings\Cindy\Local Settings\Temporary Internet Files\Content.IE5\33LI02Y1\MC900335340[1].wmf"/>
          <p:cNvPicPr/>
          <p:nvPr/>
        </p:nvPicPr>
        <p:blipFill>
          <a:blip r:embed="rId2"/>
          <a:stretch/>
        </p:blipFill>
        <p:spPr>
          <a:xfrm>
            <a:off x="5977080" y="551988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nternal Contro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53960" y="2046240"/>
            <a:ext cx="8915400" cy="4086720"/>
          </a:xfrm>
          <a:prstGeom prst="rect">
            <a:avLst/>
          </a:prstGeom>
          <a:solidFill>
            <a:srgbClr val="def5fa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1e25"/>
                </a:solidFill>
                <a:latin typeface="Arial"/>
              </a:rPr>
              <a:t>Type of Internal Controls for Financial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f1e25"/>
                </a:solidFill>
                <a:uFillTx/>
                <a:latin typeface="Arial"/>
              </a:rPr>
              <a:t>Type of Control</a:t>
            </a:r>
            <a:r>
              <a:rPr b="1" i="1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3f1e25"/>
                </a:solidFill>
                <a:uFillTx/>
                <a:latin typeface="Arial"/>
              </a:rPr>
              <a:t>Classification</a:t>
            </a:r>
            <a:r>
              <a:rPr b="1" i="1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3f1e25"/>
                </a:solidFill>
                <a:uFillTx/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Authorizations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Requiring management to formally approve 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certain types of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Reconciliations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Detective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Relating data sets to one another to identify and 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resolve discrepa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Segregation of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Separating responsibilities related to author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Duties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transactions, recording transaction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maintaining custody of the related as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nternal Contro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53960" y="2046240"/>
            <a:ext cx="8915400" cy="4909680"/>
          </a:xfrm>
          <a:prstGeom prst="rect">
            <a:avLst/>
          </a:prstGeom>
          <a:solidFill>
            <a:srgbClr val="def5fa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1e25"/>
                </a:solidFill>
                <a:latin typeface="Arial"/>
              </a:rPr>
              <a:t>Type of Internal Controls for Financial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f1e25"/>
                </a:solidFill>
                <a:uFillTx/>
                <a:latin typeface="Arial"/>
              </a:rPr>
              <a:t>Type of Control</a:t>
            </a:r>
            <a:r>
              <a:rPr b="1" i="1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3f1e25"/>
                </a:solidFill>
                <a:uFillTx/>
                <a:latin typeface="Arial"/>
              </a:rPr>
              <a:t>Classification</a:t>
            </a:r>
            <a:r>
              <a:rPr b="1" i="1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3f1e25"/>
                </a:solidFill>
                <a:uFillTx/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Physical 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Using cameras, locks, and physical barri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Safeguards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protect assets.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Performance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Detective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Comparing actual performance to various  Reviews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benchmarks to identify unexpect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Maintaining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Detective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Maintaining written and/or electronic evidenc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Records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support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Information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Preventive/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Using controls such as passwords and 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Systems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Detective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logs to ensure appropriate data restri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1e25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nternal Control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795240" y="1901880"/>
            <a:ext cx="8229600" cy="4324320"/>
          </a:xfrm>
          <a:prstGeom prst="rect">
            <a:avLst/>
          </a:prstGeom>
          <a:solidFill>
            <a:srgbClr val="d9d9d9"/>
          </a:solidFill>
          <a:ln w="19080">
            <a:solidFill>
              <a:srgbClr val="000000"/>
            </a:solidFill>
            <a:miter/>
          </a:ln>
          <a:effectLst>
            <a:outerShdw dist="6363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5040" indent="-255600" algn="ctr">
              <a:lnSpc>
                <a:spcPct val="85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310b"/>
                </a:solidFill>
                <a:latin typeface="Arial"/>
                <a:ea typeface="Arial"/>
              </a:rPr>
              <a:t>Internal controls cannot guarantee that objectives are achieved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85000"/>
              </a:lnSpc>
              <a:spcBef>
                <a:spcPts val="2276"/>
              </a:spcBef>
              <a:buClr>
                <a:srgbClr val="78310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310b"/>
                </a:solidFill>
                <a:latin typeface="Arial"/>
                <a:ea typeface="Arial"/>
              </a:rPr>
              <a:t>Even </a:t>
            </a:r>
            <a:r>
              <a:rPr b="0" lang="en-US" sz="2800" spc="-1" strike="noStrike">
                <a:solidFill>
                  <a:srgbClr val="78310b"/>
                </a:solidFill>
                <a:latin typeface="Arial"/>
                <a:ea typeface="MS PGothic"/>
              </a:rPr>
              <a:t>well-designed internal control systems can break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85000"/>
              </a:lnSpc>
              <a:spcBef>
                <a:spcPts val="1749"/>
              </a:spcBef>
              <a:buClr>
                <a:srgbClr val="78310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310b"/>
                </a:solidFill>
                <a:latin typeface="Arial"/>
                <a:ea typeface="MS PGothic"/>
              </a:rPr>
              <a:t>Two employees may collude to circumvent the control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85000"/>
              </a:lnSpc>
              <a:spcBef>
                <a:spcPts val="1749"/>
              </a:spcBef>
              <a:buClr>
                <a:srgbClr val="78310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310b"/>
                </a:solidFill>
                <a:latin typeface="Arial"/>
                <a:ea typeface="MS PGothic"/>
              </a:rPr>
              <a:t>Senior leaders may manipulate financial results by intentionally overriding prescribed policies and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0320" y="501120"/>
            <a:ext cx="8839080" cy="117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1A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25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3157560" y="193824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ganesh.k</cp:lastModifiedBy>
  <cp:lastPrinted>2013-11-09T19:38:05Z</cp:lastPrinted>
  <dcterms:modified xsi:type="dcterms:W3CDTF">2013-11-14T12:19:54Z</dcterms:modified>
  <cp:revision>265</cp:revision>
  <dc:subject/>
  <dc:title>Chapter Title</dc:title>
</cp:coreProperties>
</file>