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B-</a:t>
            </a:r>
            <a:fld id="{42242B77-7ED1-4C4A-BFBE-09A18DC395B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determined Overhead Rate and Capacity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9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066680" y="2133720"/>
            <a:ext cx="7239240" cy="268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Understand the implications of basing the predetermined overhead rate on activity at capacity rather than on estimated activity for the perio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ppendix 3B: The Predetermined Overhead Rate and Capacity.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85800" y="1752480"/>
            <a:ext cx="7391520" cy="825480"/>
          </a:xfrm>
          <a:prstGeom prst="rect">
            <a:avLst/>
          </a:prstGeom>
          <a:solidFill>
            <a:srgbClr val="474b78"/>
          </a:solidFill>
          <a:ln w="19080">
            <a:solidFill>
              <a:srgbClr val="3235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ing predetermined overhead rates using an estimated or budgeted amount allocation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5"/>
          <p:cNvSpPr/>
          <p:nvPr/>
        </p:nvSpPr>
        <p:spPr>
          <a:xfrm>
            <a:off x="609480" y="2971800"/>
            <a:ext cx="7848720" cy="3352680"/>
          </a:xfrm>
          <a:prstGeom prst="roundRect">
            <a:avLst>
              <a:gd name="adj" fmla="val 16667"/>
            </a:avLst>
          </a:prstGeom>
          <a:solidFill>
            <a:srgbClr val="78d6ea"/>
          </a:solidFill>
          <a:ln w="19080">
            <a:solidFill>
              <a:srgbClr val="1e76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thod was used throughout the chapter; however, recently it has been criticized </a:t>
            </a:r>
            <a:r>
              <a:rPr b="0" lang="en-US" sz="2400" spc="-1" strike="noStrike">
                <a:solidFill>
                  <a:srgbClr val="da1f28"/>
                </a:solidFill>
                <a:latin typeface="Arial"/>
              </a:rPr>
              <a:t>in two 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ng the predetermined overhead rate on budgeted activity results in product  costs that fluctuate depending upon the activit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ng predetermined rates based upon budgeted activity charges products for costs that they do not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apacity-Based Overhead Rat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33520" y="1523880"/>
            <a:ext cx="8076960" cy="3048120"/>
          </a:xfrm>
          <a:prstGeom prst="rect">
            <a:avLst/>
          </a:prstGeom>
          <a:solidFill>
            <a:srgbClr val="7d3c4a"/>
          </a:solidFill>
          <a:ln w="19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forementioned criticism can be overcome by using “estimated total units in the allocation bas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capac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in the denominator of the predetermined overhead rate calculation (rather than the 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imated total un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allocation base” in the denominat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C:\Users\jon\AppData\Local\Microsoft\Windows\Temporary Internet Files\Content.IE5\J1WS37DZ\MP900422600[1].jpg"/>
          <p:cNvPicPr/>
          <p:nvPr/>
        </p:nvPicPr>
        <p:blipFill>
          <a:blip r:embed="rId1"/>
          <a:stretch/>
        </p:blipFill>
        <p:spPr>
          <a:xfrm>
            <a:off x="3505320" y="4800600"/>
            <a:ext cx="228600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Maximum, Inc.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1447920"/>
            <a:ext cx="8763120" cy="2666880"/>
          </a:xfrm>
          <a:prstGeom prst="rect">
            <a:avLst/>
          </a:prstGeom>
          <a:solidFill>
            <a:srgbClr val="3f1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, Inc. leases a piece of equipment for $100,000 per year. If run at full capacity, the machine can produce 50,000 units per year. However, the company estimates that 40,000 units will be produced and sold nex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228600" y="4267080"/>
            <a:ext cx="6477120" cy="1143000"/>
            <a:chOff x="228600" y="4267080"/>
            <a:chExt cx="6477120" cy="1143000"/>
          </a:xfrm>
        </p:grpSpPr>
        <p:sp>
          <p:nvSpPr>
            <p:cNvPr id="103" name="Rounded Rectangle 4"/>
            <p:cNvSpPr/>
            <p:nvPr/>
          </p:nvSpPr>
          <p:spPr>
            <a:xfrm>
              <a:off x="228600" y="4267080"/>
              <a:ext cx="6477120" cy="1143000"/>
            </a:xfrm>
            <a:prstGeom prst="roundRect">
              <a:avLst>
                <a:gd name="adj" fmla="val 16667"/>
              </a:avLst>
            </a:prstGeom>
            <a:solidFill>
              <a:srgbClr val="78d6ea"/>
            </a:solidFill>
            <a:ln w="19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determined Overrate at units produced and sold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$10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6"/>
            <p:cNvSpPr/>
            <p:nvPr/>
          </p:nvSpPr>
          <p:spPr>
            <a:xfrm>
              <a:off x="3352680" y="48006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r>
                <a:rPr b="0" lang="en-US" sz="2000" spc="-1" strike="noStrike">
                  <a:solidFill>
                    <a:srgbClr val="7030a0"/>
                  </a:solidFill>
                  <a:latin typeface="Arial"/>
                </a:rPr>
                <a:t>$2.50 per un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Group 8" descr=""/>
          <p:cNvPicPr/>
          <p:nvPr/>
        </p:nvPicPr>
        <p:blipFill>
          <a:blip r:embed="rId1"/>
          <a:stretch/>
        </p:blipFill>
        <p:spPr>
          <a:xfrm>
            <a:off x="2127240" y="5632560"/>
            <a:ext cx="5127480" cy="119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Chapter 3 – Appendix B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7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08:25:56Z</dcterms:modified>
  <cp:revision>229</cp:revision>
  <dc:subject/>
  <dc:title>Chapter Title</dc:title>
</cp:coreProperties>
</file>