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ffff"/>
              </a:solidFill>
              <a:latin typeface="Arial Black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ffff"/>
              </a:solidFill>
              <a:latin typeface="Arial Black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ffff"/>
              </a:solidFill>
              <a:latin typeface="Arial Black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ffff"/>
              </a:solidFill>
              <a:latin typeface="Arial Black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ffff"/>
              </a:solidFill>
              <a:latin typeface="Arial Black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ffff"/>
              </a:solidFill>
              <a:latin typeface="Arial Black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ffff"/>
              </a:solidFill>
              <a:latin typeface="Arial Black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ffff"/>
              </a:solidFill>
              <a:latin typeface="Arial Black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ffff"/>
              </a:solidFill>
              <a:latin typeface="Arial Black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ffff"/>
              </a:solidFill>
              <a:latin typeface="Arial Black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ffff"/>
              </a:solidFill>
              <a:latin typeface="Arial Black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ffff"/>
              </a:solidFill>
              <a:latin typeface="Arial Black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ffff"/>
              </a:solidFill>
              <a:latin typeface="Arial Black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ffff"/>
              </a:solidFill>
              <a:latin typeface="Arial Black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ffff"/>
              </a:solidFill>
              <a:latin typeface="Arial Black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ffff"/>
              </a:solidFill>
              <a:latin typeface="Arial Black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ffff"/>
              </a:solidFill>
              <a:latin typeface="Arial Black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ffff"/>
              </a:solidFill>
              <a:latin typeface="Arial Black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ffff"/>
              </a:solidFill>
              <a:latin typeface="Arial Black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ffff"/>
              </a:solidFill>
              <a:latin typeface="Arial Black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720" y="-21600"/>
            <a:ext cx="2966400" cy="3297240"/>
            <a:chOff x="6273720" y="-21600"/>
            <a:chExt cx="2966400" cy="329724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0000a4"/>
                  </a:gs>
                  <a:gs pos="100000">
                    <a:srgbClr val="00006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ccffff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3068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51b2e3"/>
                  </a:gs>
                  <a:gs pos="100000">
                    <a:srgbClr val="0000a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ccffff"/>
                  </a:solidFill>
                  <a:latin typeface="Times New Roman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4680"/>
              <a:ext cx="1006200" cy="753840"/>
              <a:chOff x="7797960" y="1444680"/>
              <a:chExt cx="100620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4680"/>
                <a:ext cx="1006200" cy="753840"/>
              </a:xfrm>
              <a:prstGeom prst="ellipse">
                <a:avLst/>
              </a:prstGeom>
              <a:gradFill rotWithShape="0">
                <a:gsLst>
                  <a:gs pos="0">
                    <a:srgbClr val="0000a4"/>
                  </a:gs>
                  <a:gs pos="100000">
                    <a:srgbClr val="00006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cc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480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51b2e3"/>
                  </a:gs>
                  <a:gs pos="100000">
                    <a:srgbClr val="0000a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ccffff"/>
                  </a:solidFill>
                  <a:latin typeface="Times New Roman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0000a4"/>
                  </a:gs>
                  <a:gs pos="100000">
                    <a:srgbClr val="00006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cc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30120"/>
                <a:ext cx="242640" cy="141480"/>
              </a:xfrm>
              <a:prstGeom prst="ellipse">
                <a:avLst/>
              </a:prstGeom>
              <a:gradFill rotWithShape="0">
                <a:gsLst>
                  <a:gs pos="0">
                    <a:srgbClr val="51b2e3"/>
                  </a:gs>
                  <a:gs pos="100000">
                    <a:srgbClr val="0000a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cc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720" y="-21600"/>
              <a:ext cx="2966400" cy="3297240"/>
              <a:chOff x="6273720" y="-21600"/>
              <a:chExt cx="2966400" cy="329724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a4"/>
                    </a:gs>
                    <a:gs pos="100000">
                      <a:srgbClr val="000066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ccffff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4320" y="808200"/>
                  <a:ext cx="297000" cy="207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4e8ac"/>
                    </a:gs>
                    <a:gs pos="100000">
                      <a:srgbClr val="0000a4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cc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720" y="-21600"/>
                <a:ext cx="2867040" cy="2268720"/>
                <a:chOff x="6273720" y="-21600"/>
                <a:chExt cx="2867040" cy="226872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480"/>
                  <a:ext cx="1062360" cy="1139760"/>
                  <a:chOff x="7835400" y="843480"/>
                  <a:chExt cx="1062360" cy="11397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1600" y="1132920"/>
                    <a:ext cx="88344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cc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0920"/>
                    <a:ext cx="47376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cc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120" y="771480"/>
                  <a:ext cx="1265040" cy="1051560"/>
                  <a:chOff x="7845120" y="771480"/>
                  <a:chExt cx="1265040" cy="105156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640" y="1022400"/>
                    <a:ext cx="93060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cc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560" y="1425600"/>
                    <a:ext cx="49968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66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cc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39720" y="735480"/>
                  <a:ext cx="1289520" cy="829440"/>
                  <a:chOff x="7839720" y="735480"/>
                  <a:chExt cx="1289520" cy="82944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7480" y="925200"/>
                    <a:ext cx="89136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cc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1280" y="1226880"/>
                    <a:ext cx="47844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66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cc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6480" y="695160"/>
                  <a:ext cx="1304280" cy="669600"/>
                  <a:chOff x="7836480" y="695160"/>
                  <a:chExt cx="1304280" cy="66960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1880" y="823680"/>
                    <a:ext cx="86040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cc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7920" y="1029960"/>
                    <a:ext cx="46224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66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cc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8800"/>
                  <a:ext cx="1223640" cy="416160"/>
                  <a:chOff x="7852680" y="658800"/>
                  <a:chExt cx="1223640" cy="4161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11000"/>
                    <a:ext cx="79272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cc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7040"/>
                    <a:ext cx="425880" cy="250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66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cc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040" y="631800"/>
                  <a:ext cx="1107000" cy="185760"/>
                  <a:chOff x="7871040" y="631800"/>
                  <a:chExt cx="1107000" cy="18576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120" y="646560"/>
                    <a:ext cx="72036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cc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520" y="636120"/>
                    <a:ext cx="387000" cy="176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66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cc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20120"/>
                  <a:ext cx="984600" cy="326520"/>
                  <a:chOff x="7844760" y="420120"/>
                  <a:chExt cx="984600" cy="32652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8720" y="5652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cc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7200"/>
                    <a:ext cx="34020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66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cc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5760"/>
                  <a:ext cx="1063080" cy="1140840"/>
                  <a:chOff x="6538320" y="905760"/>
                  <a:chExt cx="106308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89960" y="119592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cc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392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cc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840"/>
                  <a:ext cx="1265040" cy="1051920"/>
                  <a:chOff x="6303960" y="861840"/>
                  <a:chExt cx="1265040" cy="105192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520" y="1112760"/>
                    <a:ext cx="93060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cc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880" y="1515960"/>
                    <a:ext cx="49968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cc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600" y="827640"/>
                  <a:ext cx="1289160" cy="828000"/>
                  <a:chOff x="6285600" y="827640"/>
                  <a:chExt cx="1289160" cy="82800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7360"/>
                    <a:ext cx="89136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cc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8320"/>
                    <a:ext cx="478800" cy="243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cc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720" y="786960"/>
                  <a:ext cx="1303560" cy="668160"/>
                  <a:chOff x="6273720" y="786960"/>
                  <a:chExt cx="1303560" cy="66816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480" y="915480"/>
                    <a:ext cx="860400" cy="171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cc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1040"/>
                    <a:ext cx="462240" cy="269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cc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160" y="749160"/>
                  <a:ext cx="1224000" cy="416880"/>
                  <a:chOff x="6338160" y="749160"/>
                  <a:chExt cx="1224000" cy="41688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2240" y="801720"/>
                    <a:ext cx="7927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cc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2920" y="887760"/>
                    <a:ext cx="425880" cy="250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cc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440" y="722520"/>
                  <a:ext cx="1106640" cy="185040"/>
                  <a:chOff x="6436440" y="722520"/>
                  <a:chExt cx="1106640" cy="18504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1280" y="737280"/>
                    <a:ext cx="720360" cy="112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cc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880" y="726840"/>
                    <a:ext cx="387000" cy="1756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cc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840" y="510840"/>
                  <a:ext cx="984600" cy="326160"/>
                  <a:chOff x="6585840" y="510840"/>
                  <a:chExt cx="984600" cy="32616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2880" y="65556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cc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960" y="547560"/>
                    <a:ext cx="3398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cc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7680" y="390240"/>
                  <a:ext cx="967320" cy="452520"/>
                  <a:chOff x="6637680" y="390240"/>
                  <a:chExt cx="967320" cy="4525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3200" y="620640"/>
                    <a:ext cx="63252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cc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480" y="44604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cc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0720" y="221760"/>
                  <a:ext cx="902880" cy="627480"/>
                  <a:chOff x="6750720" y="221760"/>
                  <a:chExt cx="902880" cy="6274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040" y="57204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cc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69440" y="30132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cc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8320"/>
                  <a:ext cx="825120" cy="761400"/>
                  <a:chOff x="6867720" y="58320"/>
                  <a:chExt cx="825120" cy="76140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880" y="500760"/>
                    <a:ext cx="641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cc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160" y="154080"/>
                    <a:ext cx="34452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cc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6560"/>
                  <a:ext cx="609480" cy="785160"/>
                  <a:chOff x="7111080" y="16560"/>
                  <a:chExt cx="609480" cy="7851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1040" y="477720"/>
                    <a:ext cx="5648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cc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4040"/>
                    <a:ext cx="30348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cc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9280" y="-21600"/>
                  <a:ext cx="464400" cy="809280"/>
                  <a:chOff x="7289280" y="-21600"/>
                  <a:chExt cx="464400" cy="80928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1760" y="459000"/>
                    <a:ext cx="54396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cc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5960" y="59400"/>
                    <a:ext cx="29196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cc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2560" y="272520"/>
                  <a:ext cx="963720" cy="462960"/>
                  <a:chOff x="7792560" y="27252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040" y="51012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cc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6640" y="32976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66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cc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120" y="135720"/>
                  <a:ext cx="915840" cy="605880"/>
                  <a:chOff x="7737120" y="135720"/>
                  <a:chExt cx="915840" cy="6058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040" y="471240"/>
                    <a:ext cx="63288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cc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2600" y="21240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66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cc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20320" y="486360"/>
                  <a:ext cx="52668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04e8ac"/>
                    </a:gs>
                    <a:gs pos="100000">
                      <a:srgbClr val="8f5fd5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ccffff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600" cy="11916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8f5fd5"/>
                    </a:gs>
                    <a:gs pos="100000">
                      <a:srgbClr val="000066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cc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520"/>
                  <a:ext cx="497880" cy="790560"/>
                  <a:chOff x="7665480" y="-11520"/>
                  <a:chExt cx="49788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5840"/>
                    <a:ext cx="54468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cc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880" y="77760"/>
                    <a:ext cx="29196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66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cc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3320" y="38880"/>
                  <a:ext cx="785880" cy="747360"/>
                  <a:chOff x="7663320" y="3888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560" y="45504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cc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800" y="12024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66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cc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9040" y="0"/>
                  <a:ext cx="177480" cy="744480"/>
                  <a:chOff x="7709040" y="0"/>
                  <a:chExt cx="177480" cy="74448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480" y="478080"/>
                    <a:ext cx="488160" cy="43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2160" bIns="-2160" anchor="ctr">
                    <a:noAutofit/>
                  </a:bodyPr>
                  <a:p>
                    <a:endParaRPr b="0" lang="en-US" sz="2400" spc="-1" strike="noStrike">
                      <a:solidFill>
                        <a:srgbClr val="cc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2200" y="100080"/>
                    <a:ext cx="262080" cy="687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66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960" bIns="21960" anchor="ctr">
                    <a:noAutofit/>
                  </a:bodyPr>
                  <a:p>
                    <a:endParaRPr b="0" lang="en-US" sz="2400" spc="-1" strike="noStrike">
                      <a:solidFill>
                        <a:srgbClr val="cc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480" y="930240"/>
                  <a:ext cx="911880" cy="1248120"/>
                  <a:chOff x="6711480" y="930240"/>
                  <a:chExt cx="911880" cy="124812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344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cc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360" y="178668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cc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5680" y="979920"/>
                  <a:ext cx="614880" cy="1247040"/>
                  <a:chOff x="7015680" y="979920"/>
                  <a:chExt cx="614880" cy="124704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8240"/>
                    <a:ext cx="8175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cc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5520" y="1850760"/>
                    <a:ext cx="438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cc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2680" y="1001160"/>
                  <a:ext cx="362520" cy="1218240"/>
                  <a:chOff x="7312680" y="1001160"/>
                  <a:chExt cx="362520" cy="121824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5920" y="1328040"/>
                    <a:ext cx="785160" cy="143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cc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3280" y="1877400"/>
                    <a:ext cx="421200" cy="226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cc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720"/>
                  <a:ext cx="950760" cy="1229400"/>
                  <a:chOff x="7798680" y="909720"/>
                  <a:chExt cx="950760" cy="12294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680"/>
                    <a:ext cx="88452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cc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7400" y="174780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cc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5440"/>
                  <a:ext cx="732960" cy="1261800"/>
                  <a:chOff x="7786440" y="95544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16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cc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24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cc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7640" y="1004760"/>
                  <a:ext cx="510120" cy="1242360"/>
                  <a:chOff x="7757640" y="1004760"/>
                  <a:chExt cx="510120" cy="124236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7320" y="1350720"/>
                    <a:ext cx="82116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cc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3280" y="1907640"/>
                    <a:ext cx="44064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cc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520" cy="1154880"/>
                  <a:chOff x="7733880" y="1058760"/>
                  <a:chExt cx="29052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600" y="1377720"/>
                    <a:ext cx="7545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cc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920" y="1899720"/>
                    <a:ext cx="40500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cc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1680" y="1078200"/>
                  <a:ext cx="274680" cy="1129680"/>
                  <a:chOff x="7501680" y="1078200"/>
                  <a:chExt cx="274680" cy="11296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480"/>
                    <a:ext cx="736920" cy="957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cc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9080" y="1928160"/>
                    <a:ext cx="39528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ccffff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20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51b2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cc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2880" y="911160"/>
                <a:ext cx="218124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8f5fd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cc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1040" y="234000"/>
                <a:ext cx="1549080" cy="2097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51b2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cc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840" y="758880"/>
                <a:ext cx="949680" cy="2363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51b2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cc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6640" cy="2360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8f5fd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cc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600120"/>
                <a:ext cx="1528200" cy="2363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8f5fd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cc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4440" y="771480"/>
                <a:ext cx="241920" cy="2363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51b2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cc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9960" y="765000"/>
                <a:ext cx="637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8f5fd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ccffff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040" y="606600"/>
                <a:ext cx="907560" cy="2363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51b2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cc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768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51b2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cc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2200" y="1103400"/>
                <a:ext cx="225360" cy="4280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04e8a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cc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400" y="417600"/>
                <a:ext cx="1528200" cy="2363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8f5fd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ccffff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4240" y="160200"/>
                <a:ext cx="12837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51b2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ccff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960" y="657360"/>
                <a:ext cx="54108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04e8a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cc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41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8f5fd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cc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8640"/>
                <a:ext cx="357480" cy="781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8f5fd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cc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1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8f5fd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cc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51b2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cc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7960" cy="547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8f5fd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cc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39840" cy="734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8f5fd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cc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04e8a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ccffff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8040" y="771480"/>
                <a:ext cx="225360" cy="432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04e8a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cc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99"/>
              </a:buClr>
              <a:buSzPct val="80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ccffff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8f5fd5"/>
              </a:buClr>
              <a:buSzPct val="70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ccffff"/>
              </a:solidFill>
              <a:latin typeface="Arial Black"/>
            </a:endParaRPr>
          </a:p>
          <a:p>
            <a:pPr lvl="2" marL="1143000" indent="-228600">
              <a:spcBef>
                <a:spcPts val="700"/>
              </a:spcBef>
              <a:buClr>
                <a:srgbClr val="ccffff"/>
              </a:buClr>
              <a:buSzPct val="60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 Black"/>
              </a:rPr>
              <a:t>Third Outline Level</a:t>
            </a:r>
            <a:endParaRPr b="0" lang="en-US" sz="2800" spc="-1" strike="noStrike">
              <a:solidFill>
                <a:srgbClr val="ccffff"/>
              </a:solidFill>
              <a:latin typeface="Arial Black"/>
            </a:endParaRPr>
          </a:p>
          <a:p>
            <a:pPr lvl="3" marL="1600200" indent="-228600">
              <a:spcBef>
                <a:spcPts val="700"/>
              </a:spcBef>
              <a:buClr>
                <a:srgbClr val="cc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 Black"/>
              </a:rPr>
              <a:t>Fourth Outline Level</a:t>
            </a:r>
            <a:endParaRPr b="0" lang="en-US" sz="2800" spc="-1" strike="noStrike">
              <a:solidFill>
                <a:srgbClr val="ccffff"/>
              </a:solidFill>
              <a:latin typeface="Arial Black"/>
            </a:endParaRPr>
          </a:p>
          <a:p>
            <a:pPr lvl="4" marL="2057400" indent="-228600">
              <a:spcBef>
                <a:spcPts val="700"/>
              </a:spcBef>
              <a:buClr>
                <a:srgbClr val="cc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 Black"/>
              </a:rPr>
              <a:t>Fifth Outline Level</a:t>
            </a:r>
            <a:endParaRPr b="0" lang="en-US" sz="2800" spc="-1" strike="noStrike">
              <a:solidFill>
                <a:srgbClr val="ccffff"/>
              </a:solidFill>
              <a:latin typeface="Arial Black"/>
            </a:endParaRPr>
          </a:p>
          <a:p>
            <a:pPr lvl="5" marL="2057400" indent="-228600">
              <a:spcBef>
                <a:spcPts val="700"/>
              </a:spcBef>
              <a:buClr>
                <a:srgbClr val="cc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 Black"/>
              </a:rPr>
              <a:t>Sixth Outline Level</a:t>
            </a:r>
            <a:endParaRPr b="0" lang="en-US" sz="2800" spc="-1" strike="noStrike">
              <a:solidFill>
                <a:srgbClr val="ccffff"/>
              </a:solidFill>
              <a:latin typeface="Arial Black"/>
            </a:endParaRPr>
          </a:p>
          <a:p>
            <a:pPr lvl="6" marL="2057400" indent="-228600">
              <a:spcBef>
                <a:spcPts val="700"/>
              </a:spcBef>
              <a:buClr>
                <a:srgbClr val="cc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 Black"/>
              </a:rPr>
              <a:t>Seventh Outline Level</a:t>
            </a:r>
            <a:endParaRPr b="0" lang="en-US" sz="28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5877000"/>
            <a:ext cx="9144000" cy="981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100000">
                <a:srgbClr val="8f5f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7095960" y="6200640"/>
            <a:ext cx="1904760" cy="581040"/>
            <a:chOff x="7095960" y="6200640"/>
            <a:chExt cx="1904760" cy="581040"/>
          </a:xfrm>
        </p:grpSpPr>
        <p:sp>
          <p:nvSpPr>
            <p:cNvPr id="139" name=""/>
            <p:cNvSpPr txBox="1"/>
            <p:nvPr/>
          </p:nvSpPr>
          <p:spPr>
            <a:xfrm>
              <a:off x="8470080" y="6421680"/>
              <a:ext cx="530640" cy="360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a50021"/>
                  </a:solidFill>
                  <a:latin typeface="Georgia"/>
                </a:rPr>
                <a:t>U</a:t>
              </a:r>
              <a:endParaRPr b="1" lang="en-US" sz="8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Georgia"/>
                <a:ea typeface="Georgia"/>
              </a:endParaRPr>
            </a:p>
          </p:txBody>
        </p:sp>
        <p:grpSp>
          <p:nvGrpSpPr>
            <p:cNvPr id="140" name=""/>
            <p:cNvGrpSpPr/>
            <p:nvPr/>
          </p:nvGrpSpPr>
          <p:grpSpPr>
            <a:xfrm>
              <a:off x="8001720" y="6292800"/>
              <a:ext cx="686880" cy="488520"/>
              <a:chOff x="8001720" y="6292800"/>
              <a:chExt cx="686880" cy="488520"/>
            </a:xfrm>
          </p:grpSpPr>
          <p:sp>
            <p:nvSpPr>
              <p:cNvPr id="141" name=""/>
              <p:cNvSpPr/>
              <p:nvPr/>
            </p:nvSpPr>
            <p:spPr>
              <a:xfrm>
                <a:off x="8001720" y="6292800"/>
                <a:ext cx="686880" cy="488520"/>
              </a:xfrm>
              <a:custGeom>
                <a:avLst/>
                <a:gdLst/>
                <a:ahLst/>
                <a:rect l="l" t="t" r="r" b="b"/>
                <a:pathLst>
                  <a:path w="4828" h="4550">
                    <a:moveTo>
                      <a:pt x="4828" y="2723"/>
                    </a:moveTo>
                    <a:lnTo>
                      <a:pt x="4201" y="3603"/>
                    </a:lnTo>
                    <a:lnTo>
                      <a:pt x="3436" y="3615"/>
                    </a:lnTo>
                    <a:lnTo>
                      <a:pt x="3348" y="3906"/>
                    </a:lnTo>
                    <a:lnTo>
                      <a:pt x="3348" y="3906"/>
                    </a:lnTo>
                    <a:lnTo>
                      <a:pt x="3297" y="4190"/>
                    </a:lnTo>
                    <a:lnTo>
                      <a:pt x="3339" y="4397"/>
                    </a:lnTo>
                    <a:lnTo>
                      <a:pt x="3473" y="4521"/>
                    </a:lnTo>
                    <a:lnTo>
                      <a:pt x="3473" y="4521"/>
                    </a:lnTo>
                    <a:lnTo>
                      <a:pt x="3347" y="4550"/>
                    </a:lnTo>
                    <a:lnTo>
                      <a:pt x="1983" y="4550"/>
                    </a:lnTo>
                    <a:lnTo>
                      <a:pt x="2008" y="4521"/>
                    </a:lnTo>
                    <a:lnTo>
                      <a:pt x="2008" y="4521"/>
                    </a:lnTo>
                    <a:lnTo>
                      <a:pt x="2135" y="4474"/>
                    </a:lnTo>
                    <a:lnTo>
                      <a:pt x="2239" y="4417"/>
                    </a:lnTo>
                    <a:lnTo>
                      <a:pt x="2321" y="4352"/>
                    </a:lnTo>
                    <a:lnTo>
                      <a:pt x="2321" y="4352"/>
                    </a:lnTo>
                    <a:lnTo>
                      <a:pt x="2388" y="4271"/>
                    </a:lnTo>
                    <a:lnTo>
                      <a:pt x="2443" y="4169"/>
                    </a:lnTo>
                    <a:lnTo>
                      <a:pt x="2488" y="4043"/>
                    </a:lnTo>
                    <a:lnTo>
                      <a:pt x="2488" y="4043"/>
                    </a:lnTo>
                    <a:lnTo>
                      <a:pt x="2618" y="3615"/>
                    </a:lnTo>
                    <a:lnTo>
                      <a:pt x="0" y="3615"/>
                    </a:lnTo>
                    <a:lnTo>
                      <a:pt x="3299" y="0"/>
                    </a:lnTo>
                    <a:lnTo>
                      <a:pt x="4584" y="0"/>
                    </a:lnTo>
                    <a:lnTo>
                      <a:pt x="3654" y="3013"/>
                    </a:lnTo>
                    <a:lnTo>
                      <a:pt x="3654" y="3013"/>
                    </a:lnTo>
                    <a:lnTo>
                      <a:pt x="3835" y="3006"/>
                    </a:lnTo>
                    <a:lnTo>
                      <a:pt x="4061" y="2987"/>
                    </a:lnTo>
                    <a:lnTo>
                      <a:pt x="4238" y="2962"/>
                    </a:lnTo>
                    <a:lnTo>
                      <a:pt x="4238" y="2962"/>
                    </a:lnTo>
                    <a:lnTo>
                      <a:pt x="4439" y="2907"/>
                    </a:lnTo>
                    <a:lnTo>
                      <a:pt x="4636" y="2828"/>
                    </a:lnTo>
                    <a:lnTo>
                      <a:pt x="4828" y="2723"/>
                    </a:lnTo>
                    <a:lnTo>
                      <a:pt x="4828" y="2723"/>
                    </a:lnTo>
                  </a:path>
                </a:pathLst>
              </a:custGeom>
              <a:solidFill>
                <a:srgbClr val="ffcc66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ffff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8194680" y="6345360"/>
                <a:ext cx="317880" cy="272160"/>
              </a:xfrm>
              <a:custGeom>
                <a:avLst/>
                <a:gdLst/>
                <a:ahLst/>
                <a:rect l="l" t="t" r="r" b="b"/>
                <a:pathLst>
                  <a:path w="2243" h="2533">
                    <a:moveTo>
                      <a:pt x="1481" y="2533"/>
                    </a:moveTo>
                    <a:lnTo>
                      <a:pt x="2243" y="0"/>
                    </a:lnTo>
                    <a:lnTo>
                      <a:pt x="0" y="2525"/>
                    </a:lnTo>
                    <a:lnTo>
                      <a:pt x="0" y="2525"/>
                    </a:lnTo>
                    <a:lnTo>
                      <a:pt x="203" y="2526"/>
                    </a:lnTo>
                    <a:lnTo>
                      <a:pt x="404" y="2526"/>
                    </a:lnTo>
                    <a:lnTo>
                      <a:pt x="606" y="2527"/>
                    </a:lnTo>
                    <a:lnTo>
                      <a:pt x="606" y="2527"/>
                    </a:lnTo>
                    <a:lnTo>
                      <a:pt x="798" y="2528"/>
                    </a:lnTo>
                    <a:lnTo>
                      <a:pt x="971" y="2529"/>
                    </a:lnTo>
                    <a:lnTo>
                      <a:pt x="1126" y="2531"/>
                    </a:lnTo>
                    <a:lnTo>
                      <a:pt x="1126" y="2531"/>
                    </a:lnTo>
                    <a:lnTo>
                      <a:pt x="1262" y="2532"/>
                    </a:lnTo>
                    <a:lnTo>
                      <a:pt x="1380" y="2533"/>
                    </a:lnTo>
                    <a:lnTo>
                      <a:pt x="1481" y="2533"/>
                    </a:lnTo>
                    <a:lnTo>
                      <a:pt x="1481" y="2533"/>
                    </a:lnTo>
                  </a:path>
                </a:pathLst>
              </a:custGeom>
              <a:solidFill>
                <a:srgbClr val="000066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ffff"/>
                  </a:solidFill>
                  <a:latin typeface="Times New Roman"/>
                </a:endParaRPr>
              </a:p>
            </p:txBody>
          </p:sp>
        </p:grpSp>
        <p:sp>
          <p:nvSpPr>
            <p:cNvPr id="143" name=""/>
            <p:cNvSpPr txBox="1"/>
            <p:nvPr/>
          </p:nvSpPr>
          <p:spPr>
            <a:xfrm>
              <a:off x="7095960" y="6200640"/>
              <a:ext cx="1280520" cy="345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7e"/>
                  </a:solidFill>
                  <a:latin typeface="Georgia"/>
                </a:rPr>
                <a:t>Good</a:t>
              </a:r>
              <a:endParaRPr b="1" lang="en-US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7e"/>
                </a:solidFill>
                <a:latin typeface="Georgia"/>
                <a:ea typeface="Georgi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"/>
          <p:cNvGrpSpPr/>
          <p:nvPr/>
        </p:nvGrpSpPr>
        <p:grpSpPr>
          <a:xfrm>
            <a:off x="2010960" y="253080"/>
            <a:ext cx="7128360" cy="7924320"/>
            <a:chOff x="2010960" y="253080"/>
            <a:chExt cx="7128360" cy="7924320"/>
          </a:xfrm>
        </p:grpSpPr>
        <p:grpSp>
          <p:nvGrpSpPr>
            <p:cNvPr id="181" name=""/>
            <p:cNvGrpSpPr/>
            <p:nvPr/>
          </p:nvGrpSpPr>
          <p:grpSpPr>
            <a:xfrm>
              <a:off x="3483000" y="961920"/>
              <a:ext cx="946080" cy="709560"/>
              <a:chOff x="3483000" y="961920"/>
              <a:chExt cx="946080" cy="709560"/>
            </a:xfrm>
          </p:grpSpPr>
          <p:sp>
            <p:nvSpPr>
              <p:cNvPr id="182" name=""/>
              <p:cNvSpPr/>
              <p:nvPr/>
            </p:nvSpPr>
            <p:spPr>
              <a:xfrm>
                <a:off x="3483000" y="96192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0000a4"/>
                  </a:gs>
                  <a:gs pos="100000">
                    <a:srgbClr val="00006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ccffff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3822840" y="1273320"/>
                <a:ext cx="228600" cy="131760"/>
              </a:xfrm>
              <a:prstGeom prst="ellipse">
                <a:avLst/>
              </a:prstGeom>
              <a:gradFill rotWithShape="0">
                <a:gsLst>
                  <a:gs pos="0">
                    <a:srgbClr val="51b2e3"/>
                  </a:gs>
                  <a:gs pos="100000">
                    <a:srgbClr val="0000a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cc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4" name=""/>
            <p:cNvGrpSpPr/>
            <p:nvPr/>
          </p:nvGrpSpPr>
          <p:grpSpPr>
            <a:xfrm>
              <a:off x="2010960" y="253080"/>
              <a:ext cx="7128360" cy="7707960"/>
              <a:chOff x="2010960" y="253080"/>
              <a:chExt cx="7128360" cy="7707960"/>
            </a:xfrm>
          </p:grpSpPr>
          <p:grpSp>
            <p:nvGrpSpPr>
              <p:cNvPr id="185" name=""/>
              <p:cNvGrpSpPr/>
              <p:nvPr/>
            </p:nvGrpSpPr>
            <p:grpSpPr>
              <a:xfrm>
                <a:off x="2010960" y="253080"/>
                <a:ext cx="6891480" cy="5452560"/>
                <a:chOff x="2010960" y="253080"/>
                <a:chExt cx="6891480" cy="5452560"/>
              </a:xfrm>
            </p:grpSpPr>
            <p:grpSp>
              <p:nvGrpSpPr>
                <p:cNvPr id="186" name=""/>
                <p:cNvGrpSpPr/>
                <p:nvPr/>
              </p:nvGrpSpPr>
              <p:grpSpPr>
                <a:xfrm>
                  <a:off x="3735360" y="1274760"/>
                  <a:ext cx="3600360" cy="2651040"/>
                  <a:chOff x="3735360" y="1274760"/>
                  <a:chExt cx="3600360" cy="2651040"/>
                </a:xfrm>
              </p:grpSpPr>
              <p:sp>
                <p:nvSpPr>
                  <p:cNvPr id="187" name=""/>
                  <p:cNvSpPr/>
                  <p:nvPr/>
                </p:nvSpPr>
                <p:spPr>
                  <a:xfrm>
                    <a:off x="3735360" y="1274760"/>
                    <a:ext cx="3600360" cy="2651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0000a4"/>
                      </a:gs>
                      <a:gs pos="100000">
                        <a:srgbClr val="000066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cc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8" name=""/>
                  <p:cNvSpPr/>
                  <p:nvPr/>
                </p:nvSpPr>
                <p:spPr>
                  <a:xfrm>
                    <a:off x="5110200" y="224460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0000a4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cc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89" name=""/>
                <p:cNvGrpSpPr/>
                <p:nvPr/>
              </p:nvGrpSpPr>
              <p:grpSpPr>
                <a:xfrm>
                  <a:off x="2010960" y="253080"/>
                  <a:ext cx="6891480" cy="5452560"/>
                  <a:chOff x="2010960" y="253080"/>
                  <a:chExt cx="6891480" cy="5452560"/>
                </a:xfrm>
              </p:grpSpPr>
              <p:grpSp>
                <p:nvGrpSpPr>
                  <p:cNvPr id="190" name=""/>
                  <p:cNvGrpSpPr/>
                  <p:nvPr/>
                </p:nvGrpSpPr>
                <p:grpSpPr>
                  <a:xfrm>
                    <a:off x="5763240" y="2330640"/>
                    <a:ext cx="2558160" cy="2742120"/>
                    <a:chOff x="5763240" y="2330640"/>
                    <a:chExt cx="2558160" cy="2742120"/>
                  </a:xfrm>
                </p:grpSpPr>
                <p:sp>
                  <p:nvSpPr>
                    <p:cNvPr id="191" name=""/>
                    <p:cNvSpPr/>
                    <p:nvPr/>
                  </p:nvSpPr>
                  <p:spPr>
                    <a:xfrm rot="2711400">
                      <a:off x="5585760" y="3027600"/>
                      <a:ext cx="212508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cc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2" name=""/>
                    <p:cNvSpPr/>
                    <p:nvPr/>
                  </p:nvSpPr>
                  <p:spPr>
                    <a:xfrm rot="2711400">
                      <a:off x="7135200" y="4153320"/>
                      <a:ext cx="114012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cc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93" name=""/>
                  <p:cNvGrpSpPr/>
                  <p:nvPr/>
                </p:nvGrpSpPr>
                <p:grpSpPr>
                  <a:xfrm>
                    <a:off x="5787000" y="2156760"/>
                    <a:ext cx="3040560" cy="2529000"/>
                    <a:chOff x="5787000" y="2156760"/>
                    <a:chExt cx="3040560" cy="2529000"/>
                  </a:xfrm>
                </p:grpSpPr>
                <p:sp>
                  <p:nvSpPr>
                    <p:cNvPr id="194" name=""/>
                    <p:cNvSpPr/>
                    <p:nvPr/>
                  </p:nvSpPr>
                  <p:spPr>
                    <a:xfrm rot="2103600">
                      <a:off x="5706720" y="2760120"/>
                      <a:ext cx="2236680" cy="427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cc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5" name=""/>
                    <p:cNvSpPr/>
                    <p:nvPr/>
                  </p:nvSpPr>
                  <p:spPr>
                    <a:xfrm rot="2103600">
                      <a:off x="7542720" y="3730320"/>
                      <a:ext cx="1200600" cy="671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cc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96" name=""/>
                  <p:cNvGrpSpPr/>
                  <p:nvPr/>
                </p:nvGrpSpPr>
                <p:grpSpPr>
                  <a:xfrm>
                    <a:off x="5776560" y="2073240"/>
                    <a:ext cx="3096360" cy="1992960"/>
                    <a:chOff x="5776560" y="2073240"/>
                    <a:chExt cx="3096360" cy="1992960"/>
                  </a:xfrm>
                </p:grpSpPr>
                <p:sp>
                  <p:nvSpPr>
                    <p:cNvPr id="197" name=""/>
                    <p:cNvSpPr/>
                    <p:nvPr/>
                  </p:nvSpPr>
                  <p:spPr>
                    <a:xfrm rot="1582800">
                      <a:off x="5748480" y="2529000"/>
                      <a:ext cx="2140200" cy="374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cc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8" name=""/>
                    <p:cNvSpPr/>
                    <p:nvPr/>
                  </p:nvSpPr>
                  <p:spPr>
                    <a:xfrm rot="1582800">
                      <a:off x="7652880" y="325440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cc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99" name=""/>
                  <p:cNvGrpSpPr/>
                  <p:nvPr/>
                </p:nvGrpSpPr>
                <p:grpSpPr>
                  <a:xfrm>
                    <a:off x="5768640" y="1978200"/>
                    <a:ext cx="3133800" cy="1608120"/>
                    <a:chOff x="5768640" y="1978200"/>
                    <a:chExt cx="3133800" cy="1608120"/>
                  </a:xfrm>
                </p:grpSpPr>
                <p:sp>
                  <p:nvSpPr>
                    <p:cNvPr id="200" name=""/>
                    <p:cNvSpPr/>
                    <p:nvPr/>
                  </p:nvSpPr>
                  <p:spPr>
                    <a:xfrm rot="1080000">
                      <a:off x="5781600" y="228744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cc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1" name=""/>
                    <p:cNvSpPr/>
                    <p:nvPr/>
                  </p:nvSpPr>
                  <p:spPr>
                    <a:xfrm rot="1080000">
                      <a:off x="7718760" y="278208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cc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02" name=""/>
                  <p:cNvGrpSpPr/>
                  <p:nvPr/>
                </p:nvGrpSpPr>
                <p:grpSpPr>
                  <a:xfrm>
                    <a:off x="5806080" y="1888560"/>
                    <a:ext cx="2939760" cy="1001880"/>
                    <a:chOff x="5806080" y="1888560"/>
                    <a:chExt cx="2939760" cy="1001880"/>
                  </a:xfrm>
                </p:grpSpPr>
                <p:sp>
                  <p:nvSpPr>
                    <p:cNvPr id="203" name=""/>
                    <p:cNvSpPr/>
                    <p:nvPr/>
                  </p:nvSpPr>
                  <p:spPr>
                    <a:xfrm rot="463200">
                      <a:off x="5823000" y="2014560"/>
                      <a:ext cx="190476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cc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4" name=""/>
                    <p:cNvSpPr/>
                    <p:nvPr/>
                  </p:nvSpPr>
                  <p:spPr>
                    <a:xfrm rot="463200">
                      <a:off x="7686360" y="222156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cc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05" name=""/>
                  <p:cNvGrpSpPr/>
                  <p:nvPr/>
                </p:nvGrpSpPr>
                <p:grpSpPr>
                  <a:xfrm>
                    <a:off x="5851800" y="1823760"/>
                    <a:ext cx="2658600" cy="445320"/>
                    <a:chOff x="5851800" y="1823760"/>
                    <a:chExt cx="2658600" cy="445320"/>
                  </a:xfrm>
                </p:grpSpPr>
                <p:sp>
                  <p:nvSpPr>
                    <p:cNvPr id="206" name=""/>
                    <p:cNvSpPr/>
                    <p:nvPr/>
                  </p:nvSpPr>
                  <p:spPr>
                    <a:xfrm rot="21515400">
                      <a:off x="5854680" y="1859400"/>
                      <a:ext cx="1730880" cy="269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cc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7" name=""/>
                    <p:cNvSpPr/>
                    <p:nvPr/>
                  </p:nvSpPr>
                  <p:spPr>
                    <a:xfrm rot="21515400">
                      <a:off x="7575840" y="1835280"/>
                      <a:ext cx="929520" cy="422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cc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08" name=""/>
                  <p:cNvGrpSpPr/>
                  <p:nvPr/>
                </p:nvGrpSpPr>
                <p:grpSpPr>
                  <a:xfrm>
                    <a:off x="5789160" y="1312920"/>
                    <a:ext cx="2363040" cy="785880"/>
                    <a:chOff x="5789160" y="1312920"/>
                    <a:chExt cx="2363040" cy="785880"/>
                  </a:xfrm>
                </p:grpSpPr>
                <p:sp>
                  <p:nvSpPr>
                    <p:cNvPr id="209" name=""/>
                    <p:cNvSpPr/>
                    <p:nvPr/>
                  </p:nvSpPr>
                  <p:spPr>
                    <a:xfrm rot="20797200">
                      <a:off x="5798880" y="1662120"/>
                      <a:ext cx="1519560" cy="264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cc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0" name=""/>
                    <p:cNvSpPr/>
                    <p:nvPr/>
                  </p:nvSpPr>
                  <p:spPr>
                    <a:xfrm rot="20797200">
                      <a:off x="7298640" y="1401840"/>
                      <a:ext cx="816120" cy="415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cc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11" name=""/>
                  <p:cNvGrpSpPr/>
                  <p:nvPr/>
                </p:nvGrpSpPr>
                <p:grpSpPr>
                  <a:xfrm>
                    <a:off x="2646360" y="2481840"/>
                    <a:ext cx="2557800" cy="2742120"/>
                    <a:chOff x="2646360" y="2481840"/>
                    <a:chExt cx="2557800" cy="2742120"/>
                  </a:xfrm>
                </p:grpSpPr>
                <p:sp>
                  <p:nvSpPr>
                    <p:cNvPr id="212" name=""/>
                    <p:cNvSpPr/>
                    <p:nvPr/>
                  </p:nvSpPr>
                  <p:spPr>
                    <a:xfrm flipH="1" rot="18888600">
                      <a:off x="3255480" y="3179160"/>
                      <a:ext cx="21261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cc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3" name=""/>
                    <p:cNvSpPr/>
                    <p:nvPr/>
                  </p:nvSpPr>
                  <p:spPr>
                    <a:xfrm flipH="1" rot="18888600">
                      <a:off x="2692080" y="4304160"/>
                      <a:ext cx="1140840" cy="604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cc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14" name=""/>
                  <p:cNvGrpSpPr/>
                  <p:nvPr/>
                </p:nvGrpSpPr>
                <p:grpSpPr>
                  <a:xfrm>
                    <a:off x="2085840" y="2374920"/>
                    <a:ext cx="3041280" cy="2530080"/>
                    <a:chOff x="2085840" y="2374920"/>
                    <a:chExt cx="3041280" cy="2530080"/>
                  </a:xfrm>
                </p:grpSpPr>
                <p:sp>
                  <p:nvSpPr>
                    <p:cNvPr id="215" name=""/>
                    <p:cNvSpPr/>
                    <p:nvPr/>
                  </p:nvSpPr>
                  <p:spPr>
                    <a:xfrm flipH="1" rot="19496400">
                      <a:off x="2970360" y="297828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cc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6" name=""/>
                    <p:cNvSpPr/>
                    <p:nvPr/>
                  </p:nvSpPr>
                  <p:spPr>
                    <a:xfrm flipH="1" rot="19496400">
                      <a:off x="2170080" y="394848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cc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17" name=""/>
                  <p:cNvGrpSpPr/>
                  <p:nvPr/>
                </p:nvGrpSpPr>
                <p:grpSpPr>
                  <a:xfrm>
                    <a:off x="2040840" y="2291760"/>
                    <a:ext cx="3096360" cy="1992240"/>
                    <a:chOff x="2040840" y="2291760"/>
                    <a:chExt cx="3096360" cy="1992240"/>
                  </a:xfrm>
                </p:grpSpPr>
                <p:sp>
                  <p:nvSpPr>
                    <p:cNvPr id="218" name=""/>
                    <p:cNvSpPr/>
                    <p:nvPr/>
                  </p:nvSpPr>
                  <p:spPr>
                    <a:xfrm flipH="1" rot="20017200">
                      <a:off x="3024360" y="2747520"/>
                      <a:ext cx="214056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cc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9" name=""/>
                    <p:cNvSpPr/>
                    <p:nvPr/>
                  </p:nvSpPr>
                  <p:spPr>
                    <a:xfrm flipH="1" rot="20017200">
                      <a:off x="2111040" y="347256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cc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20" name=""/>
                  <p:cNvGrpSpPr/>
                  <p:nvPr/>
                </p:nvGrpSpPr>
                <p:grpSpPr>
                  <a:xfrm>
                    <a:off x="2010960" y="2197440"/>
                    <a:ext cx="3134160" cy="1607760"/>
                    <a:chOff x="2010960" y="2197440"/>
                    <a:chExt cx="3134160" cy="1607760"/>
                  </a:xfrm>
                </p:grpSpPr>
                <p:sp>
                  <p:nvSpPr>
                    <p:cNvPr id="221" name=""/>
                    <p:cNvSpPr/>
                    <p:nvPr/>
                  </p:nvSpPr>
                  <p:spPr>
                    <a:xfrm flipH="1" rot="20520000">
                      <a:off x="3063600" y="2506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cc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2" name=""/>
                    <p:cNvSpPr/>
                    <p:nvPr/>
                  </p:nvSpPr>
                  <p:spPr>
                    <a:xfrm flipH="1" rot="20520000">
                      <a:off x="2083680" y="3000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cc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23" name=""/>
                  <p:cNvGrpSpPr/>
                  <p:nvPr/>
                </p:nvGrpSpPr>
                <p:grpSpPr>
                  <a:xfrm>
                    <a:off x="2167200" y="2106000"/>
                    <a:ext cx="2941200" cy="1001520"/>
                    <a:chOff x="2167200" y="2106000"/>
                    <a:chExt cx="2941200" cy="1001520"/>
                  </a:xfrm>
                </p:grpSpPr>
                <p:sp>
                  <p:nvSpPr>
                    <p:cNvPr id="224" name=""/>
                    <p:cNvSpPr/>
                    <p:nvPr/>
                  </p:nvSpPr>
                  <p:spPr>
                    <a:xfrm flipH="1" rot="21136800">
                      <a:off x="3186000" y="223200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cc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5" name=""/>
                    <p:cNvSpPr/>
                    <p:nvPr/>
                  </p:nvSpPr>
                  <p:spPr>
                    <a:xfrm flipH="1" rot="21136800">
                      <a:off x="2202480" y="2439000"/>
                      <a:ext cx="1023120" cy="602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cc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26" name=""/>
                  <p:cNvGrpSpPr/>
                  <p:nvPr/>
                </p:nvGrpSpPr>
                <p:grpSpPr>
                  <a:xfrm>
                    <a:off x="2403360" y="2041200"/>
                    <a:ext cx="2658600" cy="446760"/>
                    <a:chOff x="2403360" y="2041200"/>
                    <a:chExt cx="2658600" cy="446760"/>
                  </a:xfrm>
                </p:grpSpPr>
                <p:sp>
                  <p:nvSpPr>
                    <p:cNvPr id="227" name=""/>
                    <p:cNvSpPr/>
                    <p:nvPr/>
                  </p:nvSpPr>
                  <p:spPr>
                    <a:xfrm flipH="1" rot="84600">
                      <a:off x="3327480" y="2077200"/>
                      <a:ext cx="1730880" cy="269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cc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8" name=""/>
                    <p:cNvSpPr/>
                    <p:nvPr/>
                  </p:nvSpPr>
                  <p:spPr>
                    <a:xfrm flipH="1" rot="84600">
                      <a:off x="2408400" y="2052360"/>
                      <a:ext cx="92952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cc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29" name=""/>
                  <p:cNvGrpSpPr/>
                  <p:nvPr/>
                </p:nvGrpSpPr>
                <p:grpSpPr>
                  <a:xfrm>
                    <a:off x="2761560" y="1530720"/>
                    <a:ext cx="2362680" cy="787680"/>
                    <a:chOff x="2761560" y="1530720"/>
                    <a:chExt cx="2362680" cy="787680"/>
                  </a:xfrm>
                </p:grpSpPr>
                <p:sp>
                  <p:nvSpPr>
                    <p:cNvPr id="230" name=""/>
                    <p:cNvSpPr/>
                    <p:nvPr/>
                  </p:nvSpPr>
                  <p:spPr>
                    <a:xfrm flipH="1" rot="802800">
                      <a:off x="3593880" y="1880640"/>
                      <a:ext cx="151956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cc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1" name=""/>
                    <p:cNvSpPr/>
                    <p:nvPr/>
                  </p:nvSpPr>
                  <p:spPr>
                    <a:xfrm flipH="1" rot="802800">
                      <a:off x="2798640" y="1619280"/>
                      <a:ext cx="81540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cc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32" name=""/>
                  <p:cNvGrpSpPr/>
                  <p:nvPr/>
                </p:nvGrpSpPr>
                <p:grpSpPr>
                  <a:xfrm>
                    <a:off x="2887560" y="1245600"/>
                    <a:ext cx="2324880" cy="1083240"/>
                    <a:chOff x="2887560" y="1245600"/>
                    <a:chExt cx="2324880" cy="1083240"/>
                  </a:xfrm>
                </p:grpSpPr>
                <p:sp>
                  <p:nvSpPr>
                    <p:cNvPr id="233" name=""/>
                    <p:cNvSpPr/>
                    <p:nvPr/>
                  </p:nvSpPr>
                  <p:spPr>
                    <a:xfrm flipH="1" rot="1278000">
                      <a:off x="3695760" y="1796760"/>
                      <a:ext cx="1520280" cy="264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cc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4" name=""/>
                    <p:cNvSpPr/>
                    <p:nvPr/>
                  </p:nvSpPr>
                  <p:spPr>
                    <a:xfrm flipH="1" rot="1278000">
                      <a:off x="2935080" y="1379160"/>
                      <a:ext cx="81612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cc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35" name=""/>
                  <p:cNvGrpSpPr/>
                  <p:nvPr/>
                </p:nvGrpSpPr>
                <p:grpSpPr>
                  <a:xfrm>
                    <a:off x="3160800" y="839880"/>
                    <a:ext cx="2170080" cy="1508040"/>
                    <a:chOff x="3160800" y="839880"/>
                    <a:chExt cx="2170080" cy="1508040"/>
                  </a:xfrm>
                </p:grpSpPr>
                <p:sp>
                  <p:nvSpPr>
                    <p:cNvPr id="236" name=""/>
                    <p:cNvSpPr/>
                    <p:nvPr/>
                  </p:nvSpPr>
                  <p:spPr>
                    <a:xfrm flipH="1" rot="2028600">
                      <a:off x="3865680" y="1682280"/>
                      <a:ext cx="151956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cc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 flipH="1" rot="2028600">
                      <a:off x="3207240" y="1031400"/>
                      <a:ext cx="81576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cc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38" name=""/>
                  <p:cNvGrpSpPr/>
                  <p:nvPr/>
                </p:nvGrpSpPr>
                <p:grpSpPr>
                  <a:xfrm>
                    <a:off x="3437640" y="444240"/>
                    <a:ext cx="1987200" cy="1831680"/>
                    <a:chOff x="3437640" y="444240"/>
                    <a:chExt cx="1987200" cy="1831680"/>
                  </a:xfrm>
                </p:grpSpPr>
                <p:sp>
                  <p:nvSpPr>
                    <p:cNvPr id="239" name=""/>
                    <p:cNvSpPr/>
                    <p:nvPr/>
                  </p:nvSpPr>
                  <p:spPr>
                    <a:xfrm flipH="1" rot="2664600">
                      <a:off x="4009680" y="150912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cc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0" name=""/>
                    <p:cNvSpPr/>
                    <p:nvPr/>
                  </p:nvSpPr>
                  <p:spPr>
                    <a:xfrm flipH="1" rot="2664600">
                      <a:off x="3464280" y="67464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cc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4028040" y="343440"/>
                    <a:ext cx="1460520" cy="1886040"/>
                    <a:chOff x="4028040" y="343440"/>
                    <a:chExt cx="1460520" cy="188604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 flipH="1" rot="3474000">
                      <a:off x="4337280" y="1451880"/>
                      <a:ext cx="13568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cc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rot="3474000">
                      <a:off x="4033080" y="554400"/>
                      <a:ext cx="72900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cc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44" name=""/>
                  <p:cNvGrpSpPr/>
                  <p:nvPr/>
                </p:nvGrpSpPr>
                <p:grpSpPr>
                  <a:xfrm>
                    <a:off x="4449600" y="253080"/>
                    <a:ext cx="1121400" cy="1947240"/>
                    <a:chOff x="4449600" y="253080"/>
                    <a:chExt cx="1121400" cy="1947240"/>
                  </a:xfrm>
                </p:grpSpPr>
                <p:sp>
                  <p:nvSpPr>
                    <p:cNvPr id="245" name=""/>
                    <p:cNvSpPr/>
                    <p:nvPr/>
                  </p:nvSpPr>
                  <p:spPr>
                    <a:xfrm flipH="1" rot="4126800">
                      <a:off x="4556160" y="1409400"/>
                      <a:ext cx="1308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cc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6" name=""/>
                    <p:cNvSpPr/>
                    <p:nvPr/>
                  </p:nvSpPr>
                  <p:spPr>
                    <a:xfrm flipH="1" rot="4126800">
                      <a:off x="4419000" y="448200"/>
                      <a:ext cx="70308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cc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47" name=""/>
                  <p:cNvGrpSpPr/>
                  <p:nvPr/>
                </p:nvGrpSpPr>
                <p:grpSpPr>
                  <a:xfrm>
                    <a:off x="5662440" y="960120"/>
                    <a:ext cx="2316960" cy="1112760"/>
                    <a:chOff x="5662440" y="960120"/>
                    <a:chExt cx="2316960" cy="1112760"/>
                  </a:xfrm>
                </p:grpSpPr>
                <p:sp>
                  <p:nvSpPr>
                    <p:cNvPr id="248" name=""/>
                    <p:cNvSpPr/>
                    <p:nvPr/>
                  </p:nvSpPr>
                  <p:spPr>
                    <a:xfrm rot="20274000">
                      <a:off x="5656320" y="1531080"/>
                      <a:ext cx="151992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cc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9" name=""/>
                    <p:cNvSpPr/>
                    <p:nvPr/>
                  </p:nvSpPr>
                  <p:spPr>
                    <a:xfrm rot="20274000">
                      <a:off x="7114680" y="1098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cc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50" name=""/>
                  <p:cNvGrpSpPr/>
                  <p:nvPr/>
                </p:nvGrpSpPr>
                <p:grpSpPr>
                  <a:xfrm>
                    <a:off x="5530320" y="634680"/>
                    <a:ext cx="2197800" cy="1451160"/>
                    <a:chOff x="5530320" y="634680"/>
                    <a:chExt cx="2197800" cy="1451160"/>
                  </a:xfrm>
                </p:grpSpPr>
                <p:sp>
                  <p:nvSpPr>
                    <p:cNvPr id="251" name=""/>
                    <p:cNvSpPr/>
                    <p:nvPr/>
                  </p:nvSpPr>
                  <p:spPr>
                    <a:xfrm rot="19678800">
                      <a:off x="5484960" y="1437840"/>
                      <a:ext cx="1519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cc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rot="19678800">
                      <a:off x="6863760" y="819000"/>
                      <a:ext cx="81576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ccffff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 flipH="1" rot="4578600">
                    <a:off x="4766760" y="1474200"/>
                    <a:ext cx="1265400" cy="1792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cc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4" name=""/>
                  <p:cNvSpPr/>
                  <p:nvPr/>
                </p:nvSpPr>
                <p:spPr>
                  <a:xfrm flipH="1" rot="4578600">
                    <a:off x="4795200" y="546120"/>
                    <a:ext cx="680760" cy="282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cc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55" name=""/>
                  <p:cNvGrpSpPr/>
                  <p:nvPr/>
                </p:nvGrpSpPr>
                <p:grpSpPr>
                  <a:xfrm>
                    <a:off x="5354640" y="278280"/>
                    <a:ext cx="1198080" cy="1901160"/>
                    <a:chOff x="5354640" y="278280"/>
                    <a:chExt cx="1198080" cy="1901160"/>
                  </a:xfrm>
                </p:grpSpPr>
                <p:sp>
                  <p:nvSpPr>
                    <p:cNvPr id="256" name=""/>
                    <p:cNvSpPr/>
                    <p:nvPr/>
                  </p:nvSpPr>
                  <p:spPr>
                    <a:xfrm rot="17742000">
                      <a:off x="5086080" y="1425960"/>
                      <a:ext cx="1310040" cy="22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cc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7" name=""/>
                    <p:cNvSpPr/>
                    <p:nvPr/>
                  </p:nvSpPr>
                  <p:spPr>
                    <a:xfrm rot="17742000">
                      <a:off x="5888160" y="493560"/>
                      <a:ext cx="702720" cy="356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cc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58" name=""/>
                  <p:cNvGrpSpPr/>
                  <p:nvPr/>
                </p:nvGrpSpPr>
                <p:grpSpPr>
                  <a:xfrm>
                    <a:off x="5348520" y="397080"/>
                    <a:ext cx="1891440" cy="1796400"/>
                    <a:chOff x="5348520" y="397080"/>
                    <a:chExt cx="1891440" cy="1796400"/>
                  </a:xfrm>
                </p:grpSpPr>
                <p:sp>
                  <p:nvSpPr>
                    <p:cNvPr id="259" name=""/>
                    <p:cNvSpPr/>
                    <p:nvPr/>
                  </p:nvSpPr>
                  <p:spPr>
                    <a:xfrm rot="18822600">
                      <a:off x="5248800" y="1397160"/>
                      <a:ext cx="1423800" cy="33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cc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0" name=""/>
                    <p:cNvSpPr/>
                    <p:nvPr/>
                  </p:nvSpPr>
                  <p:spPr>
                    <a:xfrm rot="18822600">
                      <a:off x="6405120" y="59256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cc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61" name=""/>
                  <p:cNvGrpSpPr/>
                  <p:nvPr/>
                </p:nvGrpSpPr>
                <p:grpSpPr>
                  <a:xfrm>
                    <a:off x="5457600" y="300960"/>
                    <a:ext cx="428400" cy="1796040"/>
                    <a:chOff x="5457600" y="300960"/>
                    <a:chExt cx="428400" cy="1796040"/>
                  </a:xfrm>
                </p:grpSpPr>
                <p:sp>
                  <p:nvSpPr>
                    <p:cNvPr id="262" name=""/>
                    <p:cNvSpPr/>
                    <p:nvPr/>
                  </p:nvSpPr>
                  <p:spPr>
                    <a:xfrm rot="16696200">
                      <a:off x="5006160" y="1454040"/>
                      <a:ext cx="1176480" cy="10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cc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3" name=""/>
                    <p:cNvSpPr/>
                    <p:nvPr/>
                  </p:nvSpPr>
                  <p:spPr>
                    <a:xfrm rot="16696200">
                      <a:off x="5442480" y="541800"/>
                      <a:ext cx="63144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cc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64" name=""/>
                  <p:cNvGrpSpPr/>
                  <p:nvPr/>
                </p:nvGrpSpPr>
                <p:grpSpPr>
                  <a:xfrm>
                    <a:off x="3063240" y="2538000"/>
                    <a:ext cx="2195640" cy="3003480"/>
                    <a:chOff x="3063240" y="2538000"/>
                    <a:chExt cx="2195640" cy="3003480"/>
                  </a:xfrm>
                </p:grpSpPr>
                <p:sp>
                  <p:nvSpPr>
                    <p:cNvPr id="265" name=""/>
                    <p:cNvSpPr/>
                    <p:nvPr/>
                  </p:nvSpPr>
                  <p:spPr>
                    <a:xfrm flipH="1" rot="18336000">
                      <a:off x="3420720" y="332172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cc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6" name=""/>
                    <p:cNvSpPr/>
                    <p:nvPr/>
                  </p:nvSpPr>
                  <p:spPr>
                    <a:xfrm flipH="1" rot="18336000">
                      <a:off x="3070080" y="459972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cc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67" name=""/>
                  <p:cNvGrpSpPr/>
                  <p:nvPr/>
                </p:nvGrpSpPr>
                <p:grpSpPr>
                  <a:xfrm>
                    <a:off x="3792240" y="2658240"/>
                    <a:ext cx="1482840" cy="3000240"/>
                    <a:chOff x="3792240" y="2658240"/>
                    <a:chExt cx="1482840" cy="3000240"/>
                  </a:xfrm>
                </p:grpSpPr>
                <p:sp>
                  <p:nvSpPr>
                    <p:cNvPr id="268" name=""/>
                    <p:cNvSpPr/>
                    <p:nvPr/>
                  </p:nvSpPr>
                  <p:spPr>
                    <a:xfrm flipH="1" rot="17543400">
                      <a:off x="3738600" y="344808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cc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9" name=""/>
                    <p:cNvSpPr/>
                    <p:nvPr/>
                  </p:nvSpPr>
                  <p:spPr>
                    <a:xfrm flipH="1" rot="17543400">
                      <a:off x="3744360" y="475344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cc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70" name=""/>
                  <p:cNvGrpSpPr/>
                  <p:nvPr/>
                </p:nvGrpSpPr>
                <p:grpSpPr>
                  <a:xfrm>
                    <a:off x="4508640" y="2711520"/>
                    <a:ext cx="874440" cy="2926800"/>
                    <a:chOff x="4508640" y="2711520"/>
                    <a:chExt cx="874440" cy="2926800"/>
                  </a:xfrm>
                </p:grpSpPr>
                <p:sp>
                  <p:nvSpPr>
                    <p:cNvPr id="271" name=""/>
                    <p:cNvSpPr/>
                    <p:nvPr/>
                  </p:nvSpPr>
                  <p:spPr>
                    <a:xfrm flipH="1" rot="16870800">
                      <a:off x="4087080" y="3497400"/>
                      <a:ext cx="1886760" cy="345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cc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2" name=""/>
                    <p:cNvSpPr/>
                    <p:nvPr/>
                  </p:nvSpPr>
                  <p:spPr>
                    <a:xfrm flipH="1" rot="16870800">
                      <a:off x="4366440" y="4817520"/>
                      <a:ext cx="1012320" cy="54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cc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73" name=""/>
                  <p:cNvGrpSpPr/>
                  <p:nvPr/>
                </p:nvGrpSpPr>
                <p:grpSpPr>
                  <a:xfrm>
                    <a:off x="5677920" y="2490840"/>
                    <a:ext cx="2280960" cy="2953080"/>
                    <a:chOff x="5677920" y="2490840"/>
                    <a:chExt cx="2280960" cy="2953080"/>
                  </a:xfrm>
                </p:grpSpPr>
                <p:sp>
                  <p:nvSpPr>
                    <p:cNvPr id="274" name=""/>
                    <p:cNvSpPr/>
                    <p:nvPr/>
                  </p:nvSpPr>
                  <p:spPr>
                    <a:xfrm rot="3144000">
                      <a:off x="5415840" y="3257640"/>
                      <a:ext cx="212544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cc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5" name=""/>
                    <p:cNvSpPr/>
                    <p:nvPr/>
                  </p:nvSpPr>
                  <p:spPr>
                    <a:xfrm rot="3144000">
                      <a:off x="6801480" y="4505760"/>
                      <a:ext cx="114012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cc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76" name=""/>
                  <p:cNvGrpSpPr/>
                  <p:nvPr/>
                </p:nvGrpSpPr>
                <p:grpSpPr>
                  <a:xfrm>
                    <a:off x="5647680" y="2602080"/>
                    <a:ext cx="1758240" cy="3032280"/>
                    <a:chOff x="5647680" y="2602080"/>
                    <a:chExt cx="1758240" cy="3032280"/>
                  </a:xfrm>
                </p:grpSpPr>
                <p:sp>
                  <p:nvSpPr>
                    <p:cNvPr id="277" name=""/>
                    <p:cNvSpPr/>
                    <p:nvPr/>
                  </p:nvSpPr>
                  <p:spPr>
                    <a:xfrm rot="3745200">
                      <a:off x="5265000" y="3404520"/>
                      <a:ext cx="203400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cc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8" name=""/>
                    <p:cNvSpPr/>
                    <p:nvPr/>
                  </p:nvSpPr>
                  <p:spPr>
                    <a:xfrm rot="3745200">
                      <a:off x="6351480" y="472788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cc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79" name=""/>
                  <p:cNvGrpSpPr/>
                  <p:nvPr/>
                </p:nvGrpSpPr>
                <p:grpSpPr>
                  <a:xfrm>
                    <a:off x="5575680" y="2719440"/>
                    <a:ext cx="1225440" cy="2986200"/>
                    <a:chOff x="5575680" y="2719440"/>
                    <a:chExt cx="1225440" cy="2986200"/>
                  </a:xfrm>
                </p:grpSpPr>
                <p:sp>
                  <p:nvSpPr>
                    <p:cNvPr id="280" name=""/>
                    <p:cNvSpPr/>
                    <p:nvPr/>
                  </p:nvSpPr>
                  <p:spPr>
                    <a:xfrm rot="4286400">
                      <a:off x="5046480" y="3551400"/>
                      <a:ext cx="197352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cc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1" name=""/>
                    <p:cNvSpPr/>
                    <p:nvPr/>
                  </p:nvSpPr>
                  <p:spPr>
                    <a:xfrm rot="4286400">
                      <a:off x="5877360" y="4889880"/>
                      <a:ext cx="105876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cc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82" name=""/>
                  <p:cNvGrpSpPr/>
                  <p:nvPr/>
                </p:nvGrpSpPr>
                <p:grpSpPr>
                  <a:xfrm>
                    <a:off x="5520960" y="2848320"/>
                    <a:ext cx="698400" cy="2778840"/>
                    <a:chOff x="5520960" y="2848320"/>
                    <a:chExt cx="698400" cy="2778840"/>
                  </a:xfrm>
                </p:grpSpPr>
                <p:sp>
                  <p:nvSpPr>
                    <p:cNvPr id="283" name=""/>
                    <p:cNvSpPr/>
                    <p:nvPr/>
                  </p:nvSpPr>
                  <p:spPr>
                    <a:xfrm rot="4898400">
                      <a:off x="4895640" y="361620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cc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4" name=""/>
                    <p:cNvSpPr/>
                    <p:nvPr/>
                  </p:nvSpPr>
                  <p:spPr>
                    <a:xfrm rot="4898400">
                      <a:off x="5425200" y="487188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cc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85" name=""/>
                  <p:cNvGrpSpPr/>
                  <p:nvPr/>
                </p:nvGrpSpPr>
                <p:grpSpPr>
                  <a:xfrm>
                    <a:off x="4961520" y="2896200"/>
                    <a:ext cx="663120" cy="2717640"/>
                    <a:chOff x="4961520" y="2896200"/>
                    <a:chExt cx="663120" cy="2717640"/>
                  </a:xfrm>
                </p:grpSpPr>
                <p:sp>
                  <p:nvSpPr>
                    <p:cNvPr id="286" name=""/>
                    <p:cNvSpPr/>
                    <p:nvPr/>
                  </p:nvSpPr>
                  <p:spPr>
                    <a:xfrm rot="5755200">
                      <a:off x="4532040" y="3673440"/>
                      <a:ext cx="1771920" cy="23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cc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7" name=""/>
                    <p:cNvSpPr/>
                    <p:nvPr/>
                  </p:nvSpPr>
                  <p:spPr>
                    <a:xfrm rot="5755200">
                      <a:off x="4715280" y="4941000"/>
                      <a:ext cx="950760" cy="362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cc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288" name=""/>
              <p:cNvGrpSpPr/>
              <p:nvPr/>
            </p:nvGrpSpPr>
            <p:grpSpPr>
              <a:xfrm>
                <a:off x="2174760" y="690480"/>
                <a:ext cx="6964560" cy="7270560"/>
                <a:chOff x="2174760" y="690480"/>
                <a:chExt cx="6964560" cy="7270560"/>
              </a:xfrm>
            </p:grpSpPr>
            <p:grpSp>
              <p:nvGrpSpPr>
                <p:cNvPr id="289" name=""/>
                <p:cNvGrpSpPr/>
                <p:nvPr/>
              </p:nvGrpSpPr>
              <p:grpSpPr>
                <a:xfrm>
                  <a:off x="2174760" y="690480"/>
                  <a:ext cx="6964560" cy="7270560"/>
                  <a:chOff x="2174760" y="690480"/>
                  <a:chExt cx="6964560" cy="7270560"/>
                </a:xfrm>
              </p:grpSpPr>
              <p:sp>
                <p:nvSpPr>
                  <p:cNvPr id="290" name=""/>
                  <p:cNvSpPr/>
                  <p:nvPr/>
                </p:nvSpPr>
                <p:spPr>
                  <a:xfrm flipV="1">
                    <a:off x="5416200" y="865800"/>
                    <a:ext cx="3723120" cy="50461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51b2e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cc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 flipH="1">
                    <a:off x="2561400" y="2278800"/>
                    <a:ext cx="3524040" cy="56822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8f5fd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cc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>
                    <a:off x="5395680" y="1760760"/>
                    <a:ext cx="2181600" cy="56822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51b2e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cc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 flipH="1">
                    <a:off x="2174760" y="1307160"/>
                    <a:ext cx="3674160" cy="56822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8f5fd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cc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>
                    <a:off x="2488320" y="690480"/>
                    <a:ext cx="3090600" cy="56826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51b2e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cc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5" name=""/>
                  <p:cNvSpPr/>
                  <p:nvPr/>
                </p:nvSpPr>
                <p:spPr>
                  <a:xfrm>
                    <a:off x="5237640" y="1884240"/>
                    <a:ext cx="1306080" cy="56826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04e8a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cc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6" name=""/>
                  <p:cNvSpPr/>
                  <p:nvPr/>
                </p:nvSpPr>
                <p:spPr>
                  <a:xfrm flipH="1">
                    <a:off x="4302720" y="844560"/>
                    <a:ext cx="51516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8f5fd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cc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7" name=""/>
                <p:cNvSpPr/>
                <p:nvPr/>
              </p:nvSpPr>
              <p:spPr>
                <a:xfrm rot="20253000">
                  <a:off x="6128640" y="2189880"/>
                  <a:ext cx="54504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04e8a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cc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98" name=""/>
            <p:cNvGrpSpPr/>
            <p:nvPr/>
          </p:nvGrpSpPr>
          <p:grpSpPr>
            <a:xfrm>
              <a:off x="2342880" y="720720"/>
              <a:ext cx="6410520" cy="7456680"/>
              <a:chOff x="2342880" y="720720"/>
              <a:chExt cx="6410520" cy="7456680"/>
            </a:xfrm>
          </p:grpSpPr>
          <p:sp>
            <p:nvSpPr>
              <p:cNvPr id="299" name=""/>
              <p:cNvSpPr/>
              <p:nvPr/>
            </p:nvSpPr>
            <p:spPr>
              <a:xfrm flipH="1">
                <a:off x="4467960" y="324324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51b2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ccffff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flipH="1">
                <a:off x="3384000" y="2495160"/>
                <a:ext cx="5231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8f5fd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ccffff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flipH="1">
                <a:off x="3645000" y="2130480"/>
                <a:ext cx="229104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51b2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ccffff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H="1">
                <a:off x="2342520" y="1746360"/>
                <a:ext cx="36738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8f5fd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ccffff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5473440" y="2158920"/>
                <a:ext cx="5824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51b2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ccffff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5412240" y="2144520"/>
                <a:ext cx="153576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8f5fd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ccffff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6154560" y="355428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51b2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ccffff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 rot="19660800">
                <a:off x="5223960" y="2955240"/>
                <a:ext cx="544680" cy="1033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04e8a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ccffff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flipH="1">
                <a:off x="2687040" y="3392640"/>
                <a:ext cx="133812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8f5fd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ccffff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>
                <a:off x="3317760" y="1406520"/>
                <a:ext cx="85752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8f5fd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ccffff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7512120" y="311616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51b2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ccffff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6865920" y="2117880"/>
                <a:ext cx="18734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8f5fd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ccffff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6935760" y="72072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8f5fd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ccffff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rot="1347000">
                <a:off x="4182840" y="2162160"/>
                <a:ext cx="543960" cy="10314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04e8a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cc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14" name=""/>
          <p:cNvSpPr/>
          <p:nvPr/>
        </p:nvSpPr>
        <p:spPr>
          <a:xfrm>
            <a:off x="0" y="5877000"/>
            <a:ext cx="9144000" cy="981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100000">
                <a:srgbClr val="8f5f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</p:txBody>
      </p:sp>
      <p:grpSp>
        <p:nvGrpSpPr>
          <p:cNvPr id="315" name=""/>
          <p:cNvGrpSpPr/>
          <p:nvPr/>
        </p:nvGrpSpPr>
        <p:grpSpPr>
          <a:xfrm>
            <a:off x="7095960" y="6200640"/>
            <a:ext cx="1904760" cy="581040"/>
            <a:chOff x="7095960" y="6200640"/>
            <a:chExt cx="1904760" cy="581040"/>
          </a:xfrm>
        </p:grpSpPr>
        <p:sp>
          <p:nvSpPr>
            <p:cNvPr id="316" name=""/>
            <p:cNvSpPr txBox="1"/>
            <p:nvPr/>
          </p:nvSpPr>
          <p:spPr>
            <a:xfrm>
              <a:off x="8470080" y="6421680"/>
              <a:ext cx="530640" cy="360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a50021"/>
                  </a:solidFill>
                  <a:latin typeface="Georgia"/>
                </a:rPr>
                <a:t>U</a:t>
              </a:r>
              <a:endParaRPr b="1" lang="en-US" sz="8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Georgia"/>
                <a:ea typeface="Georgia"/>
              </a:endParaRPr>
            </a:p>
          </p:txBody>
        </p:sp>
        <p:grpSp>
          <p:nvGrpSpPr>
            <p:cNvPr id="317" name=""/>
            <p:cNvGrpSpPr/>
            <p:nvPr/>
          </p:nvGrpSpPr>
          <p:grpSpPr>
            <a:xfrm>
              <a:off x="8001720" y="6292800"/>
              <a:ext cx="686880" cy="488520"/>
              <a:chOff x="8001720" y="6292800"/>
              <a:chExt cx="686880" cy="488520"/>
            </a:xfrm>
          </p:grpSpPr>
          <p:sp>
            <p:nvSpPr>
              <p:cNvPr id="318" name=""/>
              <p:cNvSpPr/>
              <p:nvPr/>
            </p:nvSpPr>
            <p:spPr>
              <a:xfrm>
                <a:off x="8001720" y="6292800"/>
                <a:ext cx="686880" cy="488520"/>
              </a:xfrm>
              <a:custGeom>
                <a:avLst/>
                <a:gdLst/>
                <a:ahLst/>
                <a:rect l="l" t="t" r="r" b="b"/>
                <a:pathLst>
                  <a:path w="4828" h="4550">
                    <a:moveTo>
                      <a:pt x="4828" y="2723"/>
                    </a:moveTo>
                    <a:lnTo>
                      <a:pt x="4201" y="3603"/>
                    </a:lnTo>
                    <a:lnTo>
                      <a:pt x="3436" y="3615"/>
                    </a:lnTo>
                    <a:lnTo>
                      <a:pt x="3348" y="3906"/>
                    </a:lnTo>
                    <a:lnTo>
                      <a:pt x="3348" y="3906"/>
                    </a:lnTo>
                    <a:lnTo>
                      <a:pt x="3297" y="4190"/>
                    </a:lnTo>
                    <a:lnTo>
                      <a:pt x="3339" y="4397"/>
                    </a:lnTo>
                    <a:lnTo>
                      <a:pt x="3473" y="4521"/>
                    </a:lnTo>
                    <a:lnTo>
                      <a:pt x="3473" y="4521"/>
                    </a:lnTo>
                    <a:lnTo>
                      <a:pt x="3347" y="4550"/>
                    </a:lnTo>
                    <a:lnTo>
                      <a:pt x="1983" y="4550"/>
                    </a:lnTo>
                    <a:lnTo>
                      <a:pt x="2008" y="4521"/>
                    </a:lnTo>
                    <a:lnTo>
                      <a:pt x="2008" y="4521"/>
                    </a:lnTo>
                    <a:lnTo>
                      <a:pt x="2135" y="4474"/>
                    </a:lnTo>
                    <a:lnTo>
                      <a:pt x="2239" y="4417"/>
                    </a:lnTo>
                    <a:lnTo>
                      <a:pt x="2321" y="4352"/>
                    </a:lnTo>
                    <a:lnTo>
                      <a:pt x="2321" y="4352"/>
                    </a:lnTo>
                    <a:lnTo>
                      <a:pt x="2388" y="4271"/>
                    </a:lnTo>
                    <a:lnTo>
                      <a:pt x="2443" y="4169"/>
                    </a:lnTo>
                    <a:lnTo>
                      <a:pt x="2488" y="4043"/>
                    </a:lnTo>
                    <a:lnTo>
                      <a:pt x="2488" y="4043"/>
                    </a:lnTo>
                    <a:lnTo>
                      <a:pt x="2618" y="3615"/>
                    </a:lnTo>
                    <a:lnTo>
                      <a:pt x="0" y="3615"/>
                    </a:lnTo>
                    <a:lnTo>
                      <a:pt x="3299" y="0"/>
                    </a:lnTo>
                    <a:lnTo>
                      <a:pt x="4584" y="0"/>
                    </a:lnTo>
                    <a:lnTo>
                      <a:pt x="3654" y="3013"/>
                    </a:lnTo>
                    <a:lnTo>
                      <a:pt x="3654" y="3013"/>
                    </a:lnTo>
                    <a:lnTo>
                      <a:pt x="3835" y="3006"/>
                    </a:lnTo>
                    <a:lnTo>
                      <a:pt x="4061" y="2987"/>
                    </a:lnTo>
                    <a:lnTo>
                      <a:pt x="4238" y="2962"/>
                    </a:lnTo>
                    <a:lnTo>
                      <a:pt x="4238" y="2962"/>
                    </a:lnTo>
                    <a:lnTo>
                      <a:pt x="4439" y="2907"/>
                    </a:lnTo>
                    <a:lnTo>
                      <a:pt x="4636" y="2828"/>
                    </a:lnTo>
                    <a:lnTo>
                      <a:pt x="4828" y="2723"/>
                    </a:lnTo>
                    <a:lnTo>
                      <a:pt x="4828" y="2723"/>
                    </a:lnTo>
                  </a:path>
                </a:pathLst>
              </a:custGeom>
              <a:solidFill>
                <a:srgbClr val="ffcc66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ffff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8194680" y="6345360"/>
                <a:ext cx="317880" cy="272160"/>
              </a:xfrm>
              <a:custGeom>
                <a:avLst/>
                <a:gdLst/>
                <a:ahLst/>
                <a:rect l="l" t="t" r="r" b="b"/>
                <a:pathLst>
                  <a:path w="2243" h="2533">
                    <a:moveTo>
                      <a:pt x="1481" y="2533"/>
                    </a:moveTo>
                    <a:lnTo>
                      <a:pt x="2243" y="0"/>
                    </a:lnTo>
                    <a:lnTo>
                      <a:pt x="0" y="2525"/>
                    </a:lnTo>
                    <a:lnTo>
                      <a:pt x="0" y="2525"/>
                    </a:lnTo>
                    <a:lnTo>
                      <a:pt x="203" y="2526"/>
                    </a:lnTo>
                    <a:lnTo>
                      <a:pt x="404" y="2526"/>
                    </a:lnTo>
                    <a:lnTo>
                      <a:pt x="606" y="2527"/>
                    </a:lnTo>
                    <a:lnTo>
                      <a:pt x="606" y="2527"/>
                    </a:lnTo>
                    <a:lnTo>
                      <a:pt x="798" y="2528"/>
                    </a:lnTo>
                    <a:lnTo>
                      <a:pt x="971" y="2529"/>
                    </a:lnTo>
                    <a:lnTo>
                      <a:pt x="1126" y="2531"/>
                    </a:lnTo>
                    <a:lnTo>
                      <a:pt x="1126" y="2531"/>
                    </a:lnTo>
                    <a:lnTo>
                      <a:pt x="1262" y="2532"/>
                    </a:lnTo>
                    <a:lnTo>
                      <a:pt x="1380" y="2533"/>
                    </a:lnTo>
                    <a:lnTo>
                      <a:pt x="1481" y="2533"/>
                    </a:lnTo>
                    <a:lnTo>
                      <a:pt x="1481" y="2533"/>
                    </a:lnTo>
                  </a:path>
                </a:pathLst>
              </a:custGeom>
              <a:solidFill>
                <a:srgbClr val="000066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ffff"/>
                  </a:solidFill>
                  <a:latin typeface="Times New Roman"/>
                </a:endParaRPr>
              </a:p>
            </p:txBody>
          </p:sp>
        </p:grpSp>
        <p:sp>
          <p:nvSpPr>
            <p:cNvPr id="320" name=""/>
            <p:cNvSpPr txBox="1"/>
            <p:nvPr/>
          </p:nvSpPr>
          <p:spPr>
            <a:xfrm>
              <a:off x="7095960" y="6200640"/>
              <a:ext cx="1280520" cy="345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7e"/>
                  </a:solidFill>
                  <a:latin typeface="Georgia"/>
                </a:rPr>
                <a:t>Good</a:t>
              </a:r>
              <a:endParaRPr b="1" lang="en-US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7e"/>
                </a:solidFill>
                <a:latin typeface="Georgia"/>
                <a:ea typeface="Georgia"/>
              </a:endParaRPr>
            </a:p>
          </p:txBody>
        </p:sp>
      </p:grp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ccffff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 Black"/>
              </a:rPr>
              <a:t>Second Outline Level</a:t>
            </a:r>
            <a:endParaRPr b="0" lang="en-US" sz="2400" spc="-1" strike="noStrike">
              <a:solidFill>
                <a:srgbClr val="ccffff"/>
              </a:solidFill>
              <a:latin typeface="Arial Black"/>
            </a:endParaRPr>
          </a:p>
          <a:p>
            <a:pPr lvl="2" marL="914400" algn="ctr">
              <a:spcBef>
                <a:spcPts val="499"/>
              </a:spcBef>
              <a:buClr>
                <a:srgbClr val="ccffff"/>
              </a:buClr>
              <a:buSzPct val="60000"/>
              <a:buFont typeface="Wingdings" charset="2"/>
              <a:buChar char="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 Black"/>
              </a:rPr>
              <a:t>Third Outline Level</a:t>
            </a:r>
            <a:endParaRPr b="0" lang="en-US" sz="2000" spc="-1" strike="noStrike">
              <a:solidFill>
                <a:srgbClr val="ccffff"/>
              </a:solidFill>
              <a:latin typeface="Arial Black"/>
            </a:endParaRPr>
          </a:p>
          <a:p>
            <a:pPr lvl="3" marL="1371600" algn="ctr">
              <a:spcBef>
                <a:spcPts val="451"/>
              </a:spcBef>
              <a:buClr>
                <a:srgbClr val="ccffff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Fourth Outline Level</a:t>
            </a:r>
            <a:endParaRPr b="0" lang="en-US" sz="1800" spc="-1" strike="noStrike">
              <a:solidFill>
                <a:srgbClr val="ccffff"/>
              </a:solidFill>
              <a:latin typeface="Arial Black"/>
            </a:endParaRPr>
          </a:p>
          <a:p>
            <a:pPr lvl="4" marL="1828800" algn="ctr">
              <a:spcBef>
                <a:spcPts val="451"/>
              </a:spcBef>
              <a:buClr>
                <a:srgbClr val="ccffff"/>
              </a:buClr>
              <a:buFont typeface="Arial Black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Fifth Outline Level</a:t>
            </a:r>
            <a:endParaRPr b="0" lang="en-US" sz="1800" spc="-1" strike="noStrike">
              <a:solidFill>
                <a:srgbClr val="ccffff"/>
              </a:solidFill>
              <a:latin typeface="Arial Black"/>
            </a:endParaRPr>
          </a:p>
          <a:p>
            <a:pPr lvl="5" marL="1828800">
              <a:spcBef>
                <a:spcPts val="451"/>
              </a:spcBef>
              <a:buClr>
                <a:srgbClr val="cc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Sixth Outline Level</a:t>
            </a:r>
            <a:endParaRPr b="0" lang="en-US" sz="1800" spc="-1" strike="noStrike">
              <a:solidFill>
                <a:srgbClr val="ccffff"/>
              </a:solidFill>
              <a:latin typeface="Arial Black"/>
            </a:endParaRPr>
          </a:p>
          <a:p>
            <a:pPr lvl="6" marL="1828800">
              <a:spcBef>
                <a:spcPts val="451"/>
              </a:spcBef>
              <a:buClr>
                <a:srgbClr val="cc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Seventh Outline Level</a:t>
            </a:r>
            <a:endParaRPr b="0" lang="en-US" sz="1800" spc="-1" strike="noStrike">
              <a:solidFill>
                <a:srgbClr val="cc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68360" y="3257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 Black"/>
              </a:rPr>
              <a:t>New Year’s Eve Party</a:t>
            </a: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3816360" y="4616280"/>
            <a:ext cx="3992400" cy="7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 Black"/>
              </a:rPr>
              <a:t>Planning Session</a:t>
            </a:r>
            <a:endParaRPr b="0" lang="en-US" sz="2800" spc="-1" strike="noStrike">
              <a:solidFill>
                <a:srgbClr val="cc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 Black"/>
              </a:rPr>
              <a:t>Entertainment</a:t>
            </a: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728640" y="1981080"/>
            <a:ext cx="7429680" cy="324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99"/>
              </a:buClr>
              <a:buSzPct val="80000"/>
              <a:buFont typeface="Wingdings" charset="2"/>
              <a:buChar char=""/>
              <a:tabLst>
                <a:tab algn="l" pos="925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 Black"/>
              </a:rPr>
              <a:t>Audition bands</a:t>
            </a:r>
            <a:endParaRPr b="0" lang="en-US" sz="2800" spc="-1" strike="noStrike">
              <a:solidFill>
                <a:srgbClr val="ccffff"/>
              </a:solidFill>
              <a:latin typeface="Arial Black"/>
            </a:endParaRPr>
          </a:p>
          <a:p>
            <a:pPr lvl="1" marL="1190520" indent="-284040">
              <a:spcBef>
                <a:spcPts val="601"/>
              </a:spcBef>
              <a:buClr>
                <a:srgbClr val="8f5fd5"/>
              </a:buClr>
              <a:buSzPct val="70000"/>
              <a:buFont typeface="Wingdings" charset="2"/>
              <a:buChar char=""/>
              <a:tabLst>
                <a:tab algn="l" pos="925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 Black"/>
              </a:rPr>
              <a:t>Charlie’s Dingbats</a:t>
            </a:r>
            <a:endParaRPr b="0" lang="en-US" sz="2400" spc="-1" strike="noStrike">
              <a:solidFill>
                <a:srgbClr val="ccffff"/>
              </a:solidFill>
              <a:latin typeface="Arial Black"/>
            </a:endParaRPr>
          </a:p>
          <a:p>
            <a:pPr lvl="1" marL="1190520" indent="-284040">
              <a:spcBef>
                <a:spcPts val="601"/>
              </a:spcBef>
              <a:buClr>
                <a:srgbClr val="8f5fd5"/>
              </a:buClr>
              <a:buSzPct val="70000"/>
              <a:buFont typeface="Wingdings" charset="2"/>
              <a:buChar char=""/>
              <a:tabLst>
                <a:tab algn="l" pos="925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 Black"/>
              </a:rPr>
              <a:t>The Electrolytes</a:t>
            </a:r>
            <a:endParaRPr b="0" lang="en-US" sz="2400" spc="-1" strike="noStrike">
              <a:solidFill>
                <a:srgbClr val="ccffff"/>
              </a:solidFill>
              <a:latin typeface="Arial Black"/>
            </a:endParaRPr>
          </a:p>
          <a:p>
            <a:pPr lvl="1" marL="1190520" indent="-284040">
              <a:spcBef>
                <a:spcPts val="601"/>
              </a:spcBef>
              <a:buClr>
                <a:srgbClr val="8f5fd5"/>
              </a:buClr>
              <a:buSzPct val="70000"/>
              <a:buFont typeface="Wingdings" charset="2"/>
              <a:buChar char=""/>
              <a:tabLst>
                <a:tab algn="l" pos="925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 Black"/>
              </a:rPr>
              <a:t>Wired Rabbits</a:t>
            </a:r>
            <a:endParaRPr b="0" lang="en-US" sz="2400" spc="-1" strike="noStrike">
              <a:solidFill>
                <a:srgbClr val="cc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SzPct val="80000"/>
              <a:buFont typeface="Wingdings" charset="2"/>
              <a:buChar char=""/>
              <a:tabLst>
                <a:tab algn="l" pos="925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 Black"/>
              </a:rPr>
              <a:t>Contact Marsha Miles</a:t>
            </a:r>
            <a:endParaRPr b="0" lang="en-US" sz="2800" spc="-1" strike="noStrike">
              <a:solidFill>
                <a:srgbClr val="ccffff"/>
              </a:solidFill>
              <a:latin typeface="Arial Black"/>
            </a:endParaRPr>
          </a:p>
          <a:p>
            <a:pPr lvl="1" marL="1190520" indent="-284040">
              <a:spcBef>
                <a:spcPts val="601"/>
              </a:spcBef>
              <a:buClr>
                <a:srgbClr val="8f5fd5"/>
              </a:buClr>
              <a:buSzPct val="70000"/>
              <a:buFont typeface="Wingdings" charset="2"/>
              <a:buChar char=""/>
              <a:tabLst>
                <a:tab algn="l" pos="925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 Black"/>
              </a:rPr>
              <a:t>Is she willing to lead aerobics?</a:t>
            </a:r>
            <a:endParaRPr b="0" lang="en-US" sz="2400" spc="-1" strike="noStrike">
              <a:solidFill>
                <a:srgbClr val="ccffff"/>
              </a:solidFill>
              <a:latin typeface="Arial Black"/>
            </a:endParaRPr>
          </a:p>
          <a:p>
            <a:pPr lvl="1" marL="1190520" indent="-284040">
              <a:spcBef>
                <a:spcPts val="601"/>
              </a:spcBef>
              <a:buClr>
                <a:srgbClr val="8f5fd5"/>
              </a:buClr>
              <a:buSzPct val="70000"/>
              <a:buFont typeface="Wingdings" charset="2"/>
              <a:buChar char=""/>
              <a:tabLst>
                <a:tab algn="l" pos="925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 Black"/>
              </a:rPr>
              <a:t>Is she available New Year’s Eve?</a:t>
            </a:r>
            <a:endParaRPr b="0" lang="en-US" sz="2400" spc="-1" strike="noStrike">
              <a:solidFill>
                <a:srgbClr val="cc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 Black"/>
              </a:rPr>
              <a:t>Menu</a:t>
            </a: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723600" y="1952280"/>
            <a:ext cx="741204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99"/>
              </a:buClr>
              <a:buSzPct val="80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 Black"/>
              </a:rPr>
              <a:t>Michelle needs suggestions by November 1</a:t>
            </a:r>
            <a:endParaRPr b="0" lang="en-US" sz="2800" spc="-1" strike="noStrike">
              <a:solidFill>
                <a:srgbClr val="cc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SzPct val="80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 Black"/>
              </a:rPr>
              <a:t>Staff party to be held December 2</a:t>
            </a:r>
            <a:endParaRPr b="0" lang="en-US" sz="2800" spc="-1" strike="noStrike">
              <a:solidFill>
                <a:srgbClr val="cc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SzPct val="80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 Black"/>
              </a:rPr>
              <a:t>Menu printing deadline is December 10</a:t>
            </a:r>
            <a:endParaRPr b="0" lang="en-US" sz="2800" spc="-1" strike="noStrike">
              <a:solidFill>
                <a:srgbClr val="cc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3-22T23:17:14Z</dcterms:created>
  <dc:creator>Pat R. Graves</dc:creator>
  <dc:description/>
  <dc:language>en-US</dc:language>
  <cp:lastModifiedBy>Ms. Malnick</cp:lastModifiedBy>
  <cp:lastPrinted>1996-03-26T13:31:02Z</cp:lastPrinted>
  <dcterms:modified xsi:type="dcterms:W3CDTF">2004-03-26T01:03:05Z</dcterms:modified>
  <cp:revision>35</cp:revision>
  <dc:subject/>
  <dc:title>Good 4 U  New Year's Eve Party</dc:title>
</cp:coreProperties>
</file>