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1AF-85A1-4B16-B91C-2CA9E8B3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C30-E80A-4F51-A5DD-42FF4C5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B3D-660E-4ED9-A79D-4617DD98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33E-22E4-4137-8BE5-111B4D4C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38B1-C169-46EB-B8D0-57E7534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5E61-1AF1-4146-A970-2E1619C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8246-9762-40EF-9248-D7F4B8D6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8FB-986E-41CB-96C5-07BCEDD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6D06-08A8-4040-B5D4-293666F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16000" y="226800"/>
            <a:ext cx="748008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C5E9-B078-49DF-B84B-DD8D461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1B4-116E-499C-BE0F-8BCB809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459-FD9B-40DB-B7BD-2F74A22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EDD0-6112-4438-A960-F1DA733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3BFC-29E8-4B63-AAA8-DDBE9D8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B1F-716C-45E3-9084-2EC1AE7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DB5-FD47-42E2-AFA8-1388F469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B22-A207-4BEB-ABE6-68F7C64F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B08-3BA3-4882-961E-CD00F70F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946-43A3-4C36-B12F-3B2506A3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C0-7A4E-4213-8D89-7E5A989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6000" y="226800"/>
            <a:ext cx="748008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206-D68B-44AB-AB22-583714C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D38-CE78-4441-A48C-71EDC61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176-3C1C-4EFD-84D0-0036D90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5EA-B700-4E54-92F7-346A4B0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C31-F75D-4544-867B-3E3353599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53400" y="0"/>
            <a:ext cx="1314360" cy="6872400"/>
          </a:xfrm>
          <a:prstGeom prst="rect">
            <a:avLst/>
          </a:prstGeom>
          <a:solidFill>
            <a:srgbClr val="cfc7b5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696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6D6E-648B-48D3-814D-230869EC81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53400" y="4680"/>
            <a:ext cx="1314360" cy="6872400"/>
          </a:xfrm>
          <a:prstGeom prst="rect">
            <a:avLst/>
          </a:prstGeom>
          <a:solidFill>
            <a:srgbClr val="cfc7b5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696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729"/>
                </a:solidFill>
                <a:latin typeface="Arial"/>
              </a:rPr>
              <a:t>Fabulous Food</a:t>
            </a:r>
            <a:endParaRPr b="1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68360" y="4699080"/>
            <a:ext cx="439128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Additions to Our Men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13080" y="2924280"/>
            <a:ext cx="2842920" cy="1146240"/>
            <a:chOff x="2413080" y="2924280"/>
            <a:chExt cx="2842920" cy="1146240"/>
          </a:xfrm>
        </p:grpSpPr>
        <p:sp>
          <p:nvSpPr>
            <p:cNvPr id="197" name=""/>
            <p:cNvSpPr txBox="1"/>
            <p:nvPr/>
          </p:nvSpPr>
          <p:spPr>
            <a:xfrm>
              <a:off x="4464000" y="3360600"/>
              <a:ext cx="792000" cy="70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764880" y="3106440"/>
              <a:ext cx="1025280" cy="963720"/>
              <a:chOff x="3764880" y="3106440"/>
              <a:chExt cx="1025280" cy="963720"/>
            </a:xfrm>
          </p:grpSpPr>
          <p:sp>
            <p:nvSpPr>
              <p:cNvPr id="199" name=""/>
              <p:cNvSpPr/>
              <p:nvPr/>
            </p:nvSpPr>
            <p:spPr>
              <a:xfrm>
                <a:off x="3764880" y="3106440"/>
                <a:ext cx="1025280" cy="9637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52880" y="3210120"/>
                <a:ext cx="474480" cy="536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0eed8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 txBox="1"/>
            <p:nvPr/>
          </p:nvSpPr>
          <p:spPr>
            <a:xfrm>
              <a:off x="2413080" y="2924280"/>
              <a:ext cx="1911240" cy="68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Pasta Delights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tuccine à la Ju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e’s 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226800"/>
            <a:ext cx="74800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Just Sweet Enough</a:t>
            </a:r>
            <a:endParaRPr b="1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b Pecan Yogurt Cream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ght and fluffy desert has an all-natural grahm cracker crust, great flavor, and very little sug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Lime Souff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iking lime flavor is Michelle’s secret. Made from organic key limes, sweetened with white grape juice, and thickened with organic egg wh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a</dc:creator>
  <dc:description/>
  <dc:language>en-US</dc:language>
  <cp:lastModifiedBy>Pat Graves</cp:lastModifiedBy>
  <cp:lastPrinted>1996-03-25T13:44:30Z</cp:lastPrinted>
  <dcterms:modified xsi:type="dcterms:W3CDTF">2003-12-31T07:04:29Z</dcterms:modified>
  <cp:revision>26</cp:revision>
  <dc:subject/>
  <dc:title>Good 4 U  Fabulous Food</dc:title>
</cp:coreProperties>
</file>