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3B5-F69D-476A-892D-7553967C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40B-2981-43C8-87BE-11F89BE9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0DC-9FD4-4918-96E3-220E880A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D43-B07F-4C8E-8BA8-4A22D71D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269-5CC9-473C-B6EC-9034E3CD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253F-C718-4612-8CFE-2B1B5C1B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1F3-0C45-497D-B359-93997AA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A7E-FA7A-4411-9F1E-2396BB1E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B0B-FD3D-4C5B-A914-95B350F2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DD4-A0B5-4B30-AC95-4D6DED8B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472D-CD2A-474F-83FE-9D5FC69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77A-C2A7-4EB1-9139-0A39E93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3CA7-6DB6-4998-8B91-40EE3C6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66A-D1B2-4329-9017-D1B138E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954F-0157-497F-80A7-236486B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45E8-0C76-42DE-99C8-E2FD46A3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66D8-ECE0-40B3-B295-4384C667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3CA-2174-4F1A-B326-8D21210C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D47-5323-4E84-AD57-0A0F46A9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131-C6E2-4E28-8D42-097E2E0B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DED-E5DD-40A8-B30C-0720495B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079-6EE3-4F63-9713-181A349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A19-356C-455B-8D59-3A03A92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E89-CB54-43AD-88AA-0E17267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83B9-C4E0-4052-A815-9428E5B0CF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1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449000"/>
            <a:ext cx="77943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88B-9A70-4E86-A215-23E5017DAC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628280"/>
            <a:ext cx="77943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raining Session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3640" y="4005360"/>
            <a:ext cx="656748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80000" y="5553000"/>
            <a:ext cx="2197440" cy="812880"/>
            <a:chOff x="6480000" y="5553000"/>
            <a:chExt cx="2197440" cy="812880"/>
          </a:xfrm>
        </p:grpSpPr>
        <p:sp>
          <p:nvSpPr>
            <p:cNvPr id="100" name=""/>
            <p:cNvSpPr txBox="1"/>
            <p:nvPr/>
          </p:nvSpPr>
          <p:spPr>
            <a:xfrm>
              <a:off x="8065080" y="5862240"/>
              <a:ext cx="612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524720" y="5682240"/>
              <a:ext cx="792360" cy="683640"/>
              <a:chOff x="7524720" y="5682240"/>
              <a:chExt cx="792360" cy="683640"/>
            </a:xfrm>
          </p:grpSpPr>
          <p:sp>
            <p:nvSpPr>
              <p:cNvPr id="102" name=""/>
              <p:cNvSpPr/>
              <p:nvPr/>
            </p:nvSpPr>
            <p:spPr>
              <a:xfrm>
                <a:off x="7524720" y="5682240"/>
                <a:ext cx="792360" cy="683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47200" y="5755680"/>
                <a:ext cx="366840" cy="380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 txBox="1"/>
            <p:nvPr/>
          </p:nvSpPr>
          <p:spPr>
            <a:xfrm>
              <a:off x="6480000" y="5553000"/>
              <a:ext cx="147708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Wait Staff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4 U logo polo shirt and ap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knee-length sh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socks, black athletic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no circumstances will the wait staff wear sk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Host/Hostess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4 U logo polo shi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knee-length sh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k green or black socks, black athletic sh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s and hostesses may wear in-line skates on the job only after passing the Good 4 U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uest Dress Co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 skates insi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ests are required to check all sports equipment at the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 bare fee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ests arriving on skates will be given slippers to wear while d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irts requir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rts are on sale for our guests’ convenience during summer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Ms. Malnick</cp:lastModifiedBy>
  <cp:lastPrinted>1996-11-06T21:40:44Z</cp:lastPrinted>
  <dcterms:modified xsi:type="dcterms:W3CDTF">2004-03-26T01:04:35Z</dcterms:modified>
  <cp:revision>42</cp:revision>
  <dc:subject/>
  <dc:title>Good 4 U  Training Session</dc:title>
</cp:coreProperties>
</file>