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drumroll.wav" ContentType="audio/x-wav"/>
  <Override PartName="/ppt/media/applause.wav" ContentType="audio/x-wav"/>
  <Override PartName="/ppt/media/voltag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90FD-2372-427E-AC3E-F9181605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E27E-4817-4B75-A7AE-1D5936F0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793C-5883-46E3-B046-A0D3DF94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5860-5184-4660-B632-B7531C5F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7BD5-8BB7-48A5-AAE2-5C5DC3FE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084F-7EA8-447E-91D4-A45CE829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F245-29C1-46B6-8A01-6B427C38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4924-1CA6-4781-97EE-64EBAB75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7F52-9E40-4B0D-8B08-B17D3734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70106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5E2C-309A-49AE-90CF-21F05D1A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678B-C386-4BC8-910D-EE17D93B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B149-C204-4B2C-A02D-976B1B0B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EF79-3234-4062-9543-6FA00667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26EF-8205-4F62-8213-32273526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E408-D661-4EA9-9D31-509600D4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7D2F-B466-426A-886F-2779FC29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3D53-C1A7-4480-9ACA-17564051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FC0E-5B8B-4ECF-90BF-60F8B63F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B69F-889F-49F3-9207-FB0008DB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763A-6CB1-4D86-A29F-4A225050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70106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7461-34F2-41AA-86F0-D77536E0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42CA-F653-4415-85E7-56001203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81F8-4919-4799-B7DE-B725E659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1248-7415-4BEC-A764-11FC1D63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1f75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11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11f7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11f7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11f7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11f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11f7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11f7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11f75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11f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C496-666A-4109-995F-E133065ED08B}" type="slidenum">
              <a:rPr b="0" lang="en-US" sz="1400" spc="-1" strike="noStrike">
                <a:solidFill>
                  <a:srgbClr val="311f7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457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11f75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990720"/>
            <a:ext cx="228600" cy="228600"/>
          </a:xfrm>
          <a:prstGeom prst="ellipse">
            <a:avLst/>
          </a:prstGeom>
          <a:solidFill>
            <a:srgbClr val="311f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11f75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99072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11f75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990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11f75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134640" y="1449360"/>
            <a:ext cx="944280" cy="2792520"/>
            <a:chOff x="134640" y="1449360"/>
            <a:chExt cx="944280" cy="2792520"/>
          </a:xfrm>
        </p:grpSpPr>
        <p:grpSp>
          <p:nvGrpSpPr>
            <p:cNvPr id="10" name=""/>
            <p:cNvGrpSpPr/>
            <p:nvPr/>
          </p:nvGrpSpPr>
          <p:grpSpPr>
            <a:xfrm>
              <a:off x="134640" y="1449360"/>
              <a:ext cx="944280" cy="1778400"/>
              <a:chOff x="134640" y="1449360"/>
              <a:chExt cx="944280" cy="177840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134640" y="2211840"/>
                <a:ext cx="838800" cy="1015920"/>
                <a:chOff x="134640" y="2211840"/>
                <a:chExt cx="838800" cy="1015920"/>
              </a:xfrm>
            </p:grpSpPr>
            <p:grpSp>
              <p:nvGrpSpPr>
                <p:cNvPr id="12" name=""/>
                <p:cNvGrpSpPr/>
                <p:nvPr/>
              </p:nvGrpSpPr>
              <p:grpSpPr>
                <a:xfrm>
                  <a:off x="134640" y="2211840"/>
                  <a:ext cx="838800" cy="1015920"/>
                  <a:chOff x="134640" y="2211840"/>
                  <a:chExt cx="838800" cy="1015920"/>
                </a:xfrm>
              </p:grpSpPr>
              <p:sp>
                <p:nvSpPr>
                  <p:cNvPr id="13" name=""/>
                  <p:cNvSpPr/>
                  <p:nvPr/>
                </p:nvSpPr>
                <p:spPr>
                  <a:xfrm>
                    <a:off x="767160" y="2510280"/>
                    <a:ext cx="149760" cy="20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469">
                        <a:moveTo>
                          <a:pt x="15" y="0"/>
                        </a:moveTo>
                        <a:lnTo>
                          <a:pt x="16" y="5"/>
                        </a:lnTo>
                        <a:lnTo>
                          <a:pt x="19" y="16"/>
                        </a:lnTo>
                        <a:lnTo>
                          <a:pt x="24" y="34"/>
                        </a:lnTo>
                        <a:lnTo>
                          <a:pt x="31" y="53"/>
                        </a:lnTo>
                        <a:lnTo>
                          <a:pt x="36" y="75"/>
                        </a:lnTo>
                        <a:lnTo>
                          <a:pt x="42" y="96"/>
                        </a:lnTo>
                        <a:lnTo>
                          <a:pt x="47" y="114"/>
                        </a:lnTo>
                        <a:lnTo>
                          <a:pt x="50" y="128"/>
                        </a:lnTo>
                        <a:lnTo>
                          <a:pt x="54" y="151"/>
                        </a:lnTo>
                        <a:lnTo>
                          <a:pt x="57" y="174"/>
                        </a:lnTo>
                        <a:lnTo>
                          <a:pt x="64" y="197"/>
                        </a:lnTo>
                        <a:lnTo>
                          <a:pt x="77" y="218"/>
                        </a:lnTo>
                        <a:lnTo>
                          <a:pt x="89" y="231"/>
                        </a:lnTo>
                        <a:lnTo>
                          <a:pt x="111" y="249"/>
                        </a:lnTo>
                        <a:lnTo>
                          <a:pt x="138" y="270"/>
                        </a:lnTo>
                        <a:lnTo>
                          <a:pt x="167" y="293"/>
                        </a:lnTo>
                        <a:lnTo>
                          <a:pt x="195" y="314"/>
                        </a:lnTo>
                        <a:lnTo>
                          <a:pt x="221" y="333"/>
                        </a:lnTo>
                        <a:lnTo>
                          <a:pt x="241" y="347"/>
                        </a:lnTo>
                        <a:lnTo>
                          <a:pt x="253" y="354"/>
                        </a:lnTo>
                        <a:lnTo>
                          <a:pt x="260" y="356"/>
                        </a:lnTo>
                        <a:lnTo>
                          <a:pt x="267" y="360"/>
                        </a:lnTo>
                        <a:lnTo>
                          <a:pt x="275" y="362"/>
                        </a:lnTo>
                        <a:lnTo>
                          <a:pt x="283" y="364"/>
                        </a:lnTo>
                        <a:lnTo>
                          <a:pt x="292" y="367"/>
                        </a:lnTo>
                        <a:lnTo>
                          <a:pt x="300" y="370"/>
                        </a:lnTo>
                        <a:lnTo>
                          <a:pt x="311" y="373"/>
                        </a:lnTo>
                        <a:lnTo>
                          <a:pt x="321" y="378"/>
                        </a:lnTo>
                        <a:lnTo>
                          <a:pt x="331" y="386"/>
                        </a:lnTo>
                        <a:lnTo>
                          <a:pt x="342" y="398"/>
                        </a:lnTo>
                        <a:lnTo>
                          <a:pt x="352" y="413"/>
                        </a:lnTo>
                        <a:lnTo>
                          <a:pt x="361" y="429"/>
                        </a:lnTo>
                        <a:lnTo>
                          <a:pt x="368" y="444"/>
                        </a:lnTo>
                        <a:lnTo>
                          <a:pt x="374" y="456"/>
                        </a:lnTo>
                        <a:lnTo>
                          <a:pt x="378" y="466"/>
                        </a:lnTo>
                        <a:lnTo>
                          <a:pt x="380" y="469"/>
                        </a:lnTo>
                        <a:lnTo>
                          <a:pt x="377" y="468"/>
                        </a:lnTo>
                        <a:lnTo>
                          <a:pt x="370" y="463"/>
                        </a:lnTo>
                        <a:lnTo>
                          <a:pt x="360" y="458"/>
                        </a:lnTo>
                        <a:lnTo>
                          <a:pt x="349" y="451"/>
                        </a:lnTo>
                        <a:lnTo>
                          <a:pt x="335" y="443"/>
                        </a:lnTo>
                        <a:lnTo>
                          <a:pt x="321" y="436"/>
                        </a:lnTo>
                        <a:lnTo>
                          <a:pt x="307" y="429"/>
                        </a:lnTo>
                        <a:lnTo>
                          <a:pt x="296" y="423"/>
                        </a:lnTo>
                        <a:lnTo>
                          <a:pt x="284" y="418"/>
                        </a:lnTo>
                        <a:lnTo>
                          <a:pt x="273" y="415"/>
                        </a:lnTo>
                        <a:lnTo>
                          <a:pt x="261" y="412"/>
                        </a:lnTo>
                        <a:lnTo>
                          <a:pt x="250" y="408"/>
                        </a:lnTo>
                        <a:lnTo>
                          <a:pt x="238" y="406"/>
                        </a:lnTo>
                        <a:lnTo>
                          <a:pt x="226" y="403"/>
                        </a:lnTo>
                        <a:lnTo>
                          <a:pt x="217" y="401"/>
                        </a:lnTo>
                        <a:lnTo>
                          <a:pt x="209" y="398"/>
                        </a:lnTo>
                        <a:lnTo>
                          <a:pt x="198" y="390"/>
                        </a:lnTo>
                        <a:lnTo>
                          <a:pt x="177" y="372"/>
                        </a:lnTo>
                        <a:lnTo>
                          <a:pt x="152" y="350"/>
                        </a:lnTo>
                        <a:lnTo>
                          <a:pt x="123" y="324"/>
                        </a:lnTo>
                        <a:lnTo>
                          <a:pt x="94" y="297"/>
                        </a:lnTo>
                        <a:lnTo>
                          <a:pt x="68" y="272"/>
                        </a:lnTo>
                        <a:lnTo>
                          <a:pt x="46" y="251"/>
                        </a:lnTo>
                        <a:lnTo>
                          <a:pt x="33" y="238"/>
                        </a:lnTo>
                        <a:lnTo>
                          <a:pt x="19" y="214"/>
                        </a:lnTo>
                        <a:lnTo>
                          <a:pt x="10" y="186"/>
                        </a:lnTo>
                        <a:lnTo>
                          <a:pt x="4" y="157"/>
                        </a:lnTo>
                        <a:lnTo>
                          <a:pt x="0" y="132"/>
                        </a:lnTo>
                        <a:lnTo>
                          <a:pt x="0" y="98"/>
                        </a:lnTo>
                        <a:lnTo>
                          <a:pt x="5" y="54"/>
                        </a:lnTo>
                        <a:lnTo>
                          <a:pt x="11" y="16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275760" y="2359800"/>
                    <a:ext cx="478800" cy="61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5" h="1398">
                        <a:moveTo>
                          <a:pt x="12" y="1398"/>
                        </a:moveTo>
                        <a:lnTo>
                          <a:pt x="9" y="1384"/>
                        </a:lnTo>
                        <a:lnTo>
                          <a:pt x="2" y="1353"/>
                        </a:lnTo>
                        <a:lnTo>
                          <a:pt x="0" y="1315"/>
                        </a:lnTo>
                        <a:lnTo>
                          <a:pt x="10" y="1284"/>
                        </a:lnTo>
                        <a:lnTo>
                          <a:pt x="23" y="1265"/>
                        </a:lnTo>
                        <a:lnTo>
                          <a:pt x="40" y="1235"/>
                        </a:lnTo>
                        <a:lnTo>
                          <a:pt x="61" y="1197"/>
                        </a:lnTo>
                        <a:lnTo>
                          <a:pt x="85" y="1156"/>
                        </a:lnTo>
                        <a:lnTo>
                          <a:pt x="109" y="1112"/>
                        </a:lnTo>
                        <a:lnTo>
                          <a:pt x="133" y="1070"/>
                        </a:lnTo>
                        <a:lnTo>
                          <a:pt x="156" y="1035"/>
                        </a:lnTo>
                        <a:lnTo>
                          <a:pt x="176" y="1007"/>
                        </a:lnTo>
                        <a:lnTo>
                          <a:pt x="194" y="986"/>
                        </a:lnTo>
                        <a:lnTo>
                          <a:pt x="214" y="969"/>
                        </a:lnTo>
                        <a:lnTo>
                          <a:pt x="235" y="954"/>
                        </a:lnTo>
                        <a:lnTo>
                          <a:pt x="255" y="940"/>
                        </a:lnTo>
                        <a:lnTo>
                          <a:pt x="277" y="927"/>
                        </a:lnTo>
                        <a:lnTo>
                          <a:pt x="298" y="914"/>
                        </a:lnTo>
                        <a:lnTo>
                          <a:pt x="318" y="899"/>
                        </a:lnTo>
                        <a:lnTo>
                          <a:pt x="337" y="881"/>
                        </a:lnTo>
                        <a:lnTo>
                          <a:pt x="354" y="862"/>
                        </a:lnTo>
                        <a:lnTo>
                          <a:pt x="370" y="843"/>
                        </a:lnTo>
                        <a:lnTo>
                          <a:pt x="385" y="824"/>
                        </a:lnTo>
                        <a:lnTo>
                          <a:pt x="399" y="802"/>
                        </a:lnTo>
                        <a:lnTo>
                          <a:pt x="412" y="779"/>
                        </a:lnTo>
                        <a:lnTo>
                          <a:pt x="426" y="751"/>
                        </a:lnTo>
                        <a:lnTo>
                          <a:pt x="442" y="721"/>
                        </a:lnTo>
                        <a:lnTo>
                          <a:pt x="458" y="686"/>
                        </a:lnTo>
                        <a:lnTo>
                          <a:pt x="486" y="629"/>
                        </a:lnTo>
                        <a:lnTo>
                          <a:pt x="511" y="581"/>
                        </a:lnTo>
                        <a:lnTo>
                          <a:pt x="535" y="539"/>
                        </a:lnTo>
                        <a:lnTo>
                          <a:pt x="557" y="505"/>
                        </a:lnTo>
                        <a:lnTo>
                          <a:pt x="577" y="477"/>
                        </a:lnTo>
                        <a:lnTo>
                          <a:pt x="594" y="454"/>
                        </a:lnTo>
                        <a:lnTo>
                          <a:pt x="608" y="436"/>
                        </a:lnTo>
                        <a:lnTo>
                          <a:pt x="619" y="422"/>
                        </a:lnTo>
                        <a:lnTo>
                          <a:pt x="633" y="404"/>
                        </a:lnTo>
                        <a:lnTo>
                          <a:pt x="647" y="387"/>
                        </a:lnTo>
                        <a:lnTo>
                          <a:pt x="661" y="370"/>
                        </a:lnTo>
                        <a:lnTo>
                          <a:pt x="674" y="351"/>
                        </a:lnTo>
                        <a:lnTo>
                          <a:pt x="688" y="334"/>
                        </a:lnTo>
                        <a:lnTo>
                          <a:pt x="703" y="316"/>
                        </a:lnTo>
                        <a:lnTo>
                          <a:pt x="718" y="297"/>
                        </a:lnTo>
                        <a:lnTo>
                          <a:pt x="734" y="279"/>
                        </a:lnTo>
                        <a:lnTo>
                          <a:pt x="752" y="260"/>
                        </a:lnTo>
                        <a:lnTo>
                          <a:pt x="768" y="245"/>
                        </a:lnTo>
                        <a:lnTo>
                          <a:pt x="783" y="234"/>
                        </a:lnTo>
                        <a:lnTo>
                          <a:pt x="797" y="226"/>
                        </a:lnTo>
                        <a:lnTo>
                          <a:pt x="810" y="219"/>
                        </a:lnTo>
                        <a:lnTo>
                          <a:pt x="825" y="212"/>
                        </a:lnTo>
                        <a:lnTo>
                          <a:pt x="840" y="206"/>
                        </a:lnTo>
                        <a:lnTo>
                          <a:pt x="856" y="199"/>
                        </a:lnTo>
                        <a:lnTo>
                          <a:pt x="873" y="189"/>
                        </a:lnTo>
                        <a:lnTo>
                          <a:pt x="888" y="174"/>
                        </a:lnTo>
                        <a:lnTo>
                          <a:pt x="901" y="156"/>
                        </a:lnTo>
                        <a:lnTo>
                          <a:pt x="915" y="135"/>
                        </a:lnTo>
                        <a:lnTo>
                          <a:pt x="930" y="113"/>
                        </a:lnTo>
                        <a:lnTo>
                          <a:pt x="947" y="90"/>
                        </a:lnTo>
                        <a:lnTo>
                          <a:pt x="967" y="67"/>
                        </a:lnTo>
                        <a:lnTo>
                          <a:pt x="989" y="45"/>
                        </a:lnTo>
                        <a:lnTo>
                          <a:pt x="1007" y="31"/>
                        </a:lnTo>
                        <a:lnTo>
                          <a:pt x="1026" y="20"/>
                        </a:lnTo>
                        <a:lnTo>
                          <a:pt x="1044" y="11"/>
                        </a:lnTo>
                        <a:lnTo>
                          <a:pt x="1064" y="6"/>
                        </a:lnTo>
                        <a:lnTo>
                          <a:pt x="1082" y="2"/>
                        </a:lnTo>
                        <a:lnTo>
                          <a:pt x="1102" y="0"/>
                        </a:lnTo>
                        <a:lnTo>
                          <a:pt x="1119" y="0"/>
                        </a:lnTo>
                        <a:lnTo>
                          <a:pt x="1136" y="1"/>
                        </a:lnTo>
                        <a:lnTo>
                          <a:pt x="1152" y="3"/>
                        </a:lnTo>
                        <a:lnTo>
                          <a:pt x="1167" y="6"/>
                        </a:lnTo>
                        <a:lnTo>
                          <a:pt x="1181" y="9"/>
                        </a:lnTo>
                        <a:lnTo>
                          <a:pt x="1193" y="11"/>
                        </a:lnTo>
                        <a:lnTo>
                          <a:pt x="1202" y="15"/>
                        </a:lnTo>
                        <a:lnTo>
                          <a:pt x="1209" y="17"/>
                        </a:lnTo>
                        <a:lnTo>
                          <a:pt x="1213" y="18"/>
                        </a:lnTo>
                        <a:lnTo>
                          <a:pt x="1215" y="20"/>
                        </a:lnTo>
                        <a:lnTo>
                          <a:pt x="1210" y="21"/>
                        </a:lnTo>
                        <a:lnTo>
                          <a:pt x="1197" y="23"/>
                        </a:lnTo>
                        <a:lnTo>
                          <a:pt x="1179" y="26"/>
                        </a:lnTo>
                        <a:lnTo>
                          <a:pt x="1156" y="33"/>
                        </a:lnTo>
                        <a:lnTo>
                          <a:pt x="1129" y="41"/>
                        </a:lnTo>
                        <a:lnTo>
                          <a:pt x="1101" y="54"/>
                        </a:lnTo>
                        <a:lnTo>
                          <a:pt x="1073" y="68"/>
                        </a:lnTo>
                        <a:lnTo>
                          <a:pt x="1046" y="86"/>
                        </a:lnTo>
                        <a:lnTo>
                          <a:pt x="1023" y="107"/>
                        </a:lnTo>
                        <a:lnTo>
                          <a:pt x="1004" y="130"/>
                        </a:lnTo>
                        <a:lnTo>
                          <a:pt x="988" y="153"/>
                        </a:lnTo>
                        <a:lnTo>
                          <a:pt x="973" y="175"/>
                        </a:lnTo>
                        <a:lnTo>
                          <a:pt x="959" y="196"/>
                        </a:lnTo>
                        <a:lnTo>
                          <a:pt x="945" y="214"/>
                        </a:lnTo>
                        <a:lnTo>
                          <a:pt x="930" y="229"/>
                        </a:lnTo>
                        <a:lnTo>
                          <a:pt x="914" y="240"/>
                        </a:lnTo>
                        <a:lnTo>
                          <a:pt x="898" y="247"/>
                        </a:lnTo>
                        <a:lnTo>
                          <a:pt x="883" y="253"/>
                        </a:lnTo>
                        <a:lnTo>
                          <a:pt x="868" y="260"/>
                        </a:lnTo>
                        <a:lnTo>
                          <a:pt x="854" y="267"/>
                        </a:lnTo>
                        <a:lnTo>
                          <a:pt x="840" y="275"/>
                        </a:lnTo>
                        <a:lnTo>
                          <a:pt x="825" y="287"/>
                        </a:lnTo>
                        <a:lnTo>
                          <a:pt x="809" y="301"/>
                        </a:lnTo>
                        <a:lnTo>
                          <a:pt x="792" y="319"/>
                        </a:lnTo>
                        <a:lnTo>
                          <a:pt x="777" y="338"/>
                        </a:lnTo>
                        <a:lnTo>
                          <a:pt x="763" y="356"/>
                        </a:lnTo>
                        <a:lnTo>
                          <a:pt x="752" y="373"/>
                        </a:lnTo>
                        <a:lnTo>
                          <a:pt x="740" y="391"/>
                        </a:lnTo>
                        <a:lnTo>
                          <a:pt x="730" y="407"/>
                        </a:lnTo>
                        <a:lnTo>
                          <a:pt x="719" y="424"/>
                        </a:lnTo>
                        <a:lnTo>
                          <a:pt x="708" y="440"/>
                        </a:lnTo>
                        <a:lnTo>
                          <a:pt x="694" y="457"/>
                        </a:lnTo>
                        <a:lnTo>
                          <a:pt x="683" y="471"/>
                        </a:lnTo>
                        <a:lnTo>
                          <a:pt x="668" y="490"/>
                        </a:lnTo>
                        <a:lnTo>
                          <a:pt x="650" y="513"/>
                        </a:lnTo>
                        <a:lnTo>
                          <a:pt x="631" y="540"/>
                        </a:lnTo>
                        <a:lnTo>
                          <a:pt x="610" y="575"/>
                        </a:lnTo>
                        <a:lnTo>
                          <a:pt x="586" y="616"/>
                        </a:lnTo>
                        <a:lnTo>
                          <a:pt x="560" y="665"/>
                        </a:lnTo>
                        <a:lnTo>
                          <a:pt x="533" y="721"/>
                        </a:lnTo>
                        <a:lnTo>
                          <a:pt x="516" y="756"/>
                        </a:lnTo>
                        <a:lnTo>
                          <a:pt x="501" y="787"/>
                        </a:lnTo>
                        <a:lnTo>
                          <a:pt x="487" y="813"/>
                        </a:lnTo>
                        <a:lnTo>
                          <a:pt x="473" y="836"/>
                        </a:lnTo>
                        <a:lnTo>
                          <a:pt x="459" y="858"/>
                        </a:lnTo>
                        <a:lnTo>
                          <a:pt x="445" y="878"/>
                        </a:lnTo>
                        <a:lnTo>
                          <a:pt x="429" y="896"/>
                        </a:lnTo>
                        <a:lnTo>
                          <a:pt x="412" y="916"/>
                        </a:lnTo>
                        <a:lnTo>
                          <a:pt x="392" y="933"/>
                        </a:lnTo>
                        <a:lnTo>
                          <a:pt x="373" y="949"/>
                        </a:lnTo>
                        <a:lnTo>
                          <a:pt x="352" y="963"/>
                        </a:lnTo>
                        <a:lnTo>
                          <a:pt x="330" y="976"/>
                        </a:lnTo>
                        <a:lnTo>
                          <a:pt x="309" y="990"/>
                        </a:lnTo>
                        <a:lnTo>
                          <a:pt x="289" y="1005"/>
                        </a:lnTo>
                        <a:lnTo>
                          <a:pt x="268" y="1022"/>
                        </a:lnTo>
                        <a:lnTo>
                          <a:pt x="250" y="1043"/>
                        </a:lnTo>
                        <a:lnTo>
                          <a:pt x="230" y="1070"/>
                        </a:lnTo>
                        <a:lnTo>
                          <a:pt x="207" y="1106"/>
                        </a:lnTo>
                        <a:lnTo>
                          <a:pt x="183" y="1148"/>
                        </a:lnTo>
                        <a:lnTo>
                          <a:pt x="159" y="1191"/>
                        </a:lnTo>
                        <a:lnTo>
                          <a:pt x="134" y="1233"/>
                        </a:lnTo>
                        <a:lnTo>
                          <a:pt x="114" y="1271"/>
                        </a:lnTo>
                        <a:lnTo>
                          <a:pt x="96" y="1301"/>
                        </a:lnTo>
                        <a:lnTo>
                          <a:pt x="84" y="1319"/>
                        </a:lnTo>
                        <a:lnTo>
                          <a:pt x="73" y="1332"/>
                        </a:lnTo>
                        <a:lnTo>
                          <a:pt x="62" y="1345"/>
                        </a:lnTo>
                        <a:lnTo>
                          <a:pt x="50" y="1358"/>
                        </a:lnTo>
                        <a:lnTo>
                          <a:pt x="39" y="1370"/>
                        </a:lnTo>
                        <a:lnTo>
                          <a:pt x="28" y="1381"/>
                        </a:lnTo>
                        <a:lnTo>
                          <a:pt x="20" y="1390"/>
                        </a:lnTo>
                        <a:lnTo>
                          <a:pt x="15" y="1395"/>
                        </a:lnTo>
                        <a:lnTo>
                          <a:pt x="12" y="13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191520" y="2970000"/>
                    <a:ext cx="108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356">
                        <a:moveTo>
                          <a:pt x="209" y="0"/>
                        </a:moveTo>
                        <a:lnTo>
                          <a:pt x="206" y="4"/>
                        </a:lnTo>
                        <a:lnTo>
                          <a:pt x="197" y="12"/>
                        </a:lnTo>
                        <a:lnTo>
                          <a:pt x="183" y="27"/>
                        </a:lnTo>
                        <a:lnTo>
                          <a:pt x="164" y="46"/>
                        </a:lnTo>
                        <a:lnTo>
                          <a:pt x="145" y="70"/>
                        </a:lnTo>
                        <a:lnTo>
                          <a:pt x="125" y="100"/>
                        </a:lnTo>
                        <a:lnTo>
                          <a:pt x="106" y="134"/>
                        </a:lnTo>
                        <a:lnTo>
                          <a:pt x="88" y="172"/>
                        </a:lnTo>
                        <a:lnTo>
                          <a:pt x="80" y="196"/>
                        </a:lnTo>
                        <a:lnTo>
                          <a:pt x="76" y="217"/>
                        </a:lnTo>
                        <a:lnTo>
                          <a:pt x="75" y="235"/>
                        </a:lnTo>
                        <a:lnTo>
                          <a:pt x="78" y="250"/>
                        </a:lnTo>
                        <a:lnTo>
                          <a:pt x="85" y="262"/>
                        </a:lnTo>
                        <a:lnTo>
                          <a:pt x="94" y="271"/>
                        </a:lnTo>
                        <a:lnTo>
                          <a:pt x="107" y="275"/>
                        </a:lnTo>
                        <a:lnTo>
                          <a:pt x="123" y="277"/>
                        </a:lnTo>
                        <a:lnTo>
                          <a:pt x="162" y="271"/>
                        </a:lnTo>
                        <a:lnTo>
                          <a:pt x="195" y="258"/>
                        </a:lnTo>
                        <a:lnTo>
                          <a:pt x="221" y="243"/>
                        </a:lnTo>
                        <a:lnTo>
                          <a:pt x="241" y="226"/>
                        </a:lnTo>
                        <a:lnTo>
                          <a:pt x="255" y="209"/>
                        </a:lnTo>
                        <a:lnTo>
                          <a:pt x="266" y="194"/>
                        </a:lnTo>
                        <a:lnTo>
                          <a:pt x="271" y="183"/>
                        </a:lnTo>
                        <a:lnTo>
                          <a:pt x="273" y="180"/>
                        </a:lnTo>
                        <a:lnTo>
                          <a:pt x="273" y="182"/>
                        </a:lnTo>
                        <a:lnTo>
                          <a:pt x="271" y="188"/>
                        </a:lnTo>
                        <a:lnTo>
                          <a:pt x="269" y="196"/>
                        </a:lnTo>
                        <a:lnTo>
                          <a:pt x="266" y="207"/>
                        </a:lnTo>
                        <a:lnTo>
                          <a:pt x="261" y="220"/>
                        </a:lnTo>
                        <a:lnTo>
                          <a:pt x="254" y="235"/>
                        </a:lnTo>
                        <a:lnTo>
                          <a:pt x="247" y="251"/>
                        </a:lnTo>
                        <a:lnTo>
                          <a:pt x="237" y="267"/>
                        </a:lnTo>
                        <a:lnTo>
                          <a:pt x="225" y="285"/>
                        </a:lnTo>
                        <a:lnTo>
                          <a:pt x="213" y="301"/>
                        </a:lnTo>
                        <a:lnTo>
                          <a:pt x="197" y="316"/>
                        </a:lnTo>
                        <a:lnTo>
                          <a:pt x="178" y="328"/>
                        </a:lnTo>
                        <a:lnTo>
                          <a:pt x="157" y="340"/>
                        </a:lnTo>
                        <a:lnTo>
                          <a:pt x="134" y="348"/>
                        </a:lnTo>
                        <a:lnTo>
                          <a:pt x="108" y="354"/>
                        </a:lnTo>
                        <a:lnTo>
                          <a:pt x="79" y="356"/>
                        </a:lnTo>
                        <a:lnTo>
                          <a:pt x="60" y="353"/>
                        </a:lnTo>
                        <a:lnTo>
                          <a:pt x="40" y="343"/>
                        </a:lnTo>
                        <a:lnTo>
                          <a:pt x="24" y="328"/>
                        </a:lnTo>
                        <a:lnTo>
                          <a:pt x="11" y="310"/>
                        </a:lnTo>
                        <a:lnTo>
                          <a:pt x="3" y="287"/>
                        </a:lnTo>
                        <a:lnTo>
                          <a:pt x="0" y="263"/>
                        </a:lnTo>
                        <a:lnTo>
                          <a:pt x="3" y="236"/>
                        </a:lnTo>
                        <a:lnTo>
                          <a:pt x="15" y="209"/>
                        </a:lnTo>
                        <a:lnTo>
                          <a:pt x="32" y="180"/>
                        </a:lnTo>
                        <a:lnTo>
                          <a:pt x="48" y="154"/>
                        </a:lnTo>
                        <a:lnTo>
                          <a:pt x="65" y="130"/>
                        </a:lnTo>
                        <a:lnTo>
                          <a:pt x="83" y="108"/>
                        </a:lnTo>
                        <a:lnTo>
                          <a:pt x="99" y="90"/>
                        </a:lnTo>
                        <a:lnTo>
                          <a:pt x="115" y="73"/>
                        </a:lnTo>
                        <a:lnTo>
                          <a:pt x="131" y="58"/>
                        </a:lnTo>
                        <a:lnTo>
                          <a:pt x="145" y="45"/>
                        </a:lnTo>
                        <a:lnTo>
                          <a:pt x="159" y="33"/>
                        </a:lnTo>
                        <a:lnTo>
                          <a:pt x="171" y="24"/>
                        </a:lnTo>
                        <a:lnTo>
                          <a:pt x="182" y="16"/>
                        </a:lnTo>
                        <a:lnTo>
                          <a:pt x="191" y="10"/>
                        </a:lnTo>
                        <a:lnTo>
                          <a:pt x="199" y="6"/>
                        </a:lnTo>
                        <a:lnTo>
                          <a:pt x="205" y="2"/>
                        </a:lnTo>
                        <a:lnTo>
                          <a:pt x="208" y="1"/>
                        </a:lnTo>
                        <a:lnTo>
                          <a:pt x="20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264600" y="2955960"/>
                    <a:ext cx="6984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7" h="152">
                        <a:moveTo>
                          <a:pt x="42" y="55"/>
                        </a:moveTo>
                        <a:lnTo>
                          <a:pt x="38" y="40"/>
                        </a:lnTo>
                        <a:lnTo>
                          <a:pt x="39" y="25"/>
                        </a:lnTo>
                        <a:lnTo>
                          <a:pt x="44" y="11"/>
                        </a:lnTo>
                        <a:lnTo>
                          <a:pt x="52" y="0"/>
                        </a:lnTo>
                        <a:lnTo>
                          <a:pt x="42" y="7"/>
                        </a:lnTo>
                        <a:lnTo>
                          <a:pt x="31" y="15"/>
                        </a:lnTo>
                        <a:lnTo>
                          <a:pt x="21" y="24"/>
                        </a:lnTo>
                        <a:lnTo>
                          <a:pt x="13" y="34"/>
                        </a:lnTo>
                        <a:lnTo>
                          <a:pt x="6" y="46"/>
                        </a:lnTo>
                        <a:lnTo>
                          <a:pt x="2" y="57"/>
                        </a:lnTo>
                        <a:lnTo>
                          <a:pt x="0" y="69"/>
                        </a:lnTo>
                        <a:lnTo>
                          <a:pt x="2" y="80"/>
                        </a:lnTo>
                        <a:lnTo>
                          <a:pt x="9" y="94"/>
                        </a:lnTo>
                        <a:lnTo>
                          <a:pt x="20" y="109"/>
                        </a:lnTo>
                        <a:lnTo>
                          <a:pt x="35" y="122"/>
                        </a:lnTo>
                        <a:lnTo>
                          <a:pt x="51" y="133"/>
                        </a:lnTo>
                        <a:lnTo>
                          <a:pt x="68" y="143"/>
                        </a:lnTo>
                        <a:lnTo>
                          <a:pt x="86" y="148"/>
                        </a:lnTo>
                        <a:lnTo>
                          <a:pt x="105" y="152"/>
                        </a:lnTo>
                        <a:lnTo>
                          <a:pt x="123" y="151"/>
                        </a:lnTo>
                        <a:lnTo>
                          <a:pt x="131" y="148"/>
                        </a:lnTo>
                        <a:lnTo>
                          <a:pt x="139" y="143"/>
                        </a:lnTo>
                        <a:lnTo>
                          <a:pt x="147" y="136"/>
                        </a:lnTo>
                        <a:lnTo>
                          <a:pt x="154" y="128"/>
                        </a:lnTo>
                        <a:lnTo>
                          <a:pt x="161" y="120"/>
                        </a:lnTo>
                        <a:lnTo>
                          <a:pt x="168" y="112"/>
                        </a:lnTo>
                        <a:lnTo>
                          <a:pt x="173" y="104"/>
                        </a:lnTo>
                        <a:lnTo>
                          <a:pt x="177" y="98"/>
                        </a:lnTo>
                        <a:lnTo>
                          <a:pt x="172" y="101"/>
                        </a:lnTo>
                        <a:lnTo>
                          <a:pt x="165" y="104"/>
                        </a:lnTo>
                        <a:lnTo>
                          <a:pt x="158" y="106"/>
                        </a:lnTo>
                        <a:lnTo>
                          <a:pt x="150" y="108"/>
                        </a:lnTo>
                        <a:lnTo>
                          <a:pt x="132" y="110"/>
                        </a:lnTo>
                        <a:lnTo>
                          <a:pt x="115" y="109"/>
                        </a:lnTo>
                        <a:lnTo>
                          <a:pt x="99" y="106"/>
                        </a:lnTo>
                        <a:lnTo>
                          <a:pt x="84" y="99"/>
                        </a:lnTo>
                        <a:lnTo>
                          <a:pt x="69" y="91"/>
                        </a:lnTo>
                        <a:lnTo>
                          <a:pt x="58" y="80"/>
                        </a:lnTo>
                        <a:lnTo>
                          <a:pt x="48" y="69"/>
                        </a:lnTo>
                        <a:lnTo>
                          <a:pt x="42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134640" y="3101400"/>
                    <a:ext cx="763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215">
                        <a:moveTo>
                          <a:pt x="12" y="127"/>
                        </a:moveTo>
                        <a:lnTo>
                          <a:pt x="8" y="134"/>
                        </a:lnTo>
                        <a:lnTo>
                          <a:pt x="1" y="152"/>
                        </a:lnTo>
                        <a:lnTo>
                          <a:pt x="0" y="177"/>
                        </a:lnTo>
                        <a:lnTo>
                          <a:pt x="13" y="200"/>
                        </a:lnTo>
                        <a:lnTo>
                          <a:pt x="26" y="208"/>
                        </a:lnTo>
                        <a:lnTo>
                          <a:pt x="39" y="212"/>
                        </a:lnTo>
                        <a:lnTo>
                          <a:pt x="50" y="215"/>
                        </a:lnTo>
                        <a:lnTo>
                          <a:pt x="62" y="213"/>
                        </a:lnTo>
                        <a:lnTo>
                          <a:pt x="71" y="212"/>
                        </a:lnTo>
                        <a:lnTo>
                          <a:pt x="78" y="210"/>
                        </a:lnTo>
                        <a:lnTo>
                          <a:pt x="82" y="208"/>
                        </a:lnTo>
                        <a:lnTo>
                          <a:pt x="85" y="207"/>
                        </a:lnTo>
                        <a:lnTo>
                          <a:pt x="194" y="0"/>
                        </a:lnTo>
                        <a:lnTo>
                          <a:pt x="12" y="1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36960" y="2665080"/>
                    <a:ext cx="339840" cy="326520"/>
                  </a:xfrm>
                  <a:custGeom>
                    <a:avLst/>
                    <a:gdLst/>
                    <a:ahLst/>
                    <a:rect l="l" t="t" r="r" b="b"/>
                    <a:pathLst>
                      <a:path w="863" h="742">
                        <a:moveTo>
                          <a:pt x="863" y="17"/>
                        </a:moveTo>
                        <a:lnTo>
                          <a:pt x="860" y="17"/>
                        </a:lnTo>
                        <a:lnTo>
                          <a:pt x="854" y="18"/>
                        </a:lnTo>
                        <a:lnTo>
                          <a:pt x="843" y="20"/>
                        </a:lnTo>
                        <a:lnTo>
                          <a:pt x="829" y="24"/>
                        </a:lnTo>
                        <a:lnTo>
                          <a:pt x="813" y="31"/>
                        </a:lnTo>
                        <a:lnTo>
                          <a:pt x="794" y="41"/>
                        </a:lnTo>
                        <a:lnTo>
                          <a:pt x="773" y="55"/>
                        </a:lnTo>
                        <a:lnTo>
                          <a:pt x="750" y="73"/>
                        </a:lnTo>
                        <a:lnTo>
                          <a:pt x="737" y="86"/>
                        </a:lnTo>
                        <a:lnTo>
                          <a:pt x="723" y="101"/>
                        </a:lnTo>
                        <a:lnTo>
                          <a:pt x="706" y="121"/>
                        </a:lnTo>
                        <a:lnTo>
                          <a:pt x="689" y="141"/>
                        </a:lnTo>
                        <a:lnTo>
                          <a:pt x="669" y="165"/>
                        </a:lnTo>
                        <a:lnTo>
                          <a:pt x="649" y="190"/>
                        </a:lnTo>
                        <a:lnTo>
                          <a:pt x="629" y="215"/>
                        </a:lnTo>
                        <a:lnTo>
                          <a:pt x="608" y="241"/>
                        </a:lnTo>
                        <a:lnTo>
                          <a:pt x="588" y="266"/>
                        </a:lnTo>
                        <a:lnTo>
                          <a:pt x="567" y="291"/>
                        </a:lnTo>
                        <a:lnTo>
                          <a:pt x="547" y="314"/>
                        </a:lnTo>
                        <a:lnTo>
                          <a:pt x="529" y="336"/>
                        </a:lnTo>
                        <a:lnTo>
                          <a:pt x="512" y="356"/>
                        </a:lnTo>
                        <a:lnTo>
                          <a:pt x="497" y="372"/>
                        </a:lnTo>
                        <a:lnTo>
                          <a:pt x="483" y="385"/>
                        </a:lnTo>
                        <a:lnTo>
                          <a:pt x="472" y="394"/>
                        </a:lnTo>
                        <a:lnTo>
                          <a:pt x="453" y="406"/>
                        </a:lnTo>
                        <a:lnTo>
                          <a:pt x="433" y="417"/>
                        </a:lnTo>
                        <a:lnTo>
                          <a:pt x="413" y="426"/>
                        </a:lnTo>
                        <a:lnTo>
                          <a:pt x="394" y="433"/>
                        </a:lnTo>
                        <a:lnTo>
                          <a:pt x="376" y="441"/>
                        </a:lnTo>
                        <a:lnTo>
                          <a:pt x="360" y="449"/>
                        </a:lnTo>
                        <a:lnTo>
                          <a:pt x="348" y="457"/>
                        </a:lnTo>
                        <a:lnTo>
                          <a:pt x="339" y="466"/>
                        </a:lnTo>
                        <a:lnTo>
                          <a:pt x="331" y="479"/>
                        </a:lnTo>
                        <a:lnTo>
                          <a:pt x="322" y="494"/>
                        </a:lnTo>
                        <a:lnTo>
                          <a:pt x="309" y="511"/>
                        </a:lnTo>
                        <a:lnTo>
                          <a:pt x="295" y="531"/>
                        </a:lnTo>
                        <a:lnTo>
                          <a:pt x="280" y="551"/>
                        </a:lnTo>
                        <a:lnTo>
                          <a:pt x="263" y="569"/>
                        </a:lnTo>
                        <a:lnTo>
                          <a:pt x="246" y="586"/>
                        </a:lnTo>
                        <a:lnTo>
                          <a:pt x="227" y="601"/>
                        </a:lnTo>
                        <a:lnTo>
                          <a:pt x="217" y="609"/>
                        </a:lnTo>
                        <a:lnTo>
                          <a:pt x="203" y="617"/>
                        </a:lnTo>
                        <a:lnTo>
                          <a:pt x="188" y="628"/>
                        </a:lnTo>
                        <a:lnTo>
                          <a:pt x="171" y="639"/>
                        </a:lnTo>
                        <a:lnTo>
                          <a:pt x="152" y="650"/>
                        </a:lnTo>
                        <a:lnTo>
                          <a:pt x="134" y="662"/>
                        </a:lnTo>
                        <a:lnTo>
                          <a:pt x="114" y="674"/>
                        </a:lnTo>
                        <a:lnTo>
                          <a:pt x="95" y="685"/>
                        </a:lnTo>
                        <a:lnTo>
                          <a:pt x="76" y="697"/>
                        </a:lnTo>
                        <a:lnTo>
                          <a:pt x="59" y="707"/>
                        </a:lnTo>
                        <a:lnTo>
                          <a:pt x="43" y="716"/>
                        </a:lnTo>
                        <a:lnTo>
                          <a:pt x="29" y="724"/>
                        </a:lnTo>
                        <a:lnTo>
                          <a:pt x="16" y="731"/>
                        </a:lnTo>
                        <a:lnTo>
                          <a:pt x="8" y="737"/>
                        </a:lnTo>
                        <a:lnTo>
                          <a:pt x="3" y="741"/>
                        </a:lnTo>
                        <a:lnTo>
                          <a:pt x="0" y="742"/>
                        </a:lnTo>
                        <a:lnTo>
                          <a:pt x="6" y="735"/>
                        </a:lnTo>
                        <a:lnTo>
                          <a:pt x="21" y="718"/>
                        </a:lnTo>
                        <a:lnTo>
                          <a:pt x="44" y="692"/>
                        </a:lnTo>
                        <a:lnTo>
                          <a:pt x="71" y="662"/>
                        </a:lnTo>
                        <a:lnTo>
                          <a:pt x="100" y="630"/>
                        </a:lnTo>
                        <a:lnTo>
                          <a:pt x="130" y="599"/>
                        </a:lnTo>
                        <a:lnTo>
                          <a:pt x="157" y="574"/>
                        </a:lnTo>
                        <a:lnTo>
                          <a:pt x="179" y="555"/>
                        </a:lnTo>
                        <a:lnTo>
                          <a:pt x="197" y="540"/>
                        </a:lnTo>
                        <a:lnTo>
                          <a:pt x="214" y="523"/>
                        </a:lnTo>
                        <a:lnTo>
                          <a:pt x="232" y="503"/>
                        </a:lnTo>
                        <a:lnTo>
                          <a:pt x="247" y="484"/>
                        </a:lnTo>
                        <a:lnTo>
                          <a:pt x="261" y="465"/>
                        </a:lnTo>
                        <a:lnTo>
                          <a:pt x="273" y="447"/>
                        </a:lnTo>
                        <a:lnTo>
                          <a:pt x="282" y="432"/>
                        </a:lnTo>
                        <a:lnTo>
                          <a:pt x="290" y="419"/>
                        </a:lnTo>
                        <a:lnTo>
                          <a:pt x="300" y="410"/>
                        </a:lnTo>
                        <a:lnTo>
                          <a:pt x="312" y="402"/>
                        </a:lnTo>
                        <a:lnTo>
                          <a:pt x="327" y="394"/>
                        </a:lnTo>
                        <a:lnTo>
                          <a:pt x="346" y="386"/>
                        </a:lnTo>
                        <a:lnTo>
                          <a:pt x="365" y="379"/>
                        </a:lnTo>
                        <a:lnTo>
                          <a:pt x="385" y="370"/>
                        </a:lnTo>
                        <a:lnTo>
                          <a:pt x="404" y="359"/>
                        </a:lnTo>
                        <a:lnTo>
                          <a:pt x="424" y="347"/>
                        </a:lnTo>
                        <a:lnTo>
                          <a:pt x="434" y="337"/>
                        </a:lnTo>
                        <a:lnTo>
                          <a:pt x="448" y="325"/>
                        </a:lnTo>
                        <a:lnTo>
                          <a:pt x="463" y="309"/>
                        </a:lnTo>
                        <a:lnTo>
                          <a:pt x="480" y="289"/>
                        </a:lnTo>
                        <a:lnTo>
                          <a:pt x="499" y="268"/>
                        </a:lnTo>
                        <a:lnTo>
                          <a:pt x="518" y="244"/>
                        </a:lnTo>
                        <a:lnTo>
                          <a:pt x="539" y="220"/>
                        </a:lnTo>
                        <a:lnTo>
                          <a:pt x="560" y="194"/>
                        </a:lnTo>
                        <a:lnTo>
                          <a:pt x="581" y="169"/>
                        </a:lnTo>
                        <a:lnTo>
                          <a:pt x="600" y="144"/>
                        </a:lnTo>
                        <a:lnTo>
                          <a:pt x="621" y="118"/>
                        </a:lnTo>
                        <a:lnTo>
                          <a:pt x="641" y="95"/>
                        </a:lnTo>
                        <a:lnTo>
                          <a:pt x="658" y="75"/>
                        </a:lnTo>
                        <a:lnTo>
                          <a:pt x="675" y="55"/>
                        </a:lnTo>
                        <a:lnTo>
                          <a:pt x="689" y="40"/>
                        </a:lnTo>
                        <a:lnTo>
                          <a:pt x="702" y="27"/>
                        </a:lnTo>
                        <a:lnTo>
                          <a:pt x="727" y="11"/>
                        </a:lnTo>
                        <a:lnTo>
                          <a:pt x="753" y="2"/>
                        </a:lnTo>
                        <a:lnTo>
                          <a:pt x="780" y="0"/>
                        </a:lnTo>
                        <a:lnTo>
                          <a:pt x="805" y="1"/>
                        </a:lnTo>
                        <a:lnTo>
                          <a:pt x="828" y="6"/>
                        </a:lnTo>
                        <a:lnTo>
                          <a:pt x="847" y="11"/>
                        </a:lnTo>
                        <a:lnTo>
                          <a:pt x="858" y="15"/>
                        </a:lnTo>
                        <a:lnTo>
                          <a:pt x="863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667080" y="2684520"/>
                    <a:ext cx="7164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671">
                        <a:moveTo>
                          <a:pt x="54" y="671"/>
                        </a:moveTo>
                        <a:lnTo>
                          <a:pt x="52" y="659"/>
                        </a:lnTo>
                        <a:lnTo>
                          <a:pt x="48" y="633"/>
                        </a:lnTo>
                        <a:lnTo>
                          <a:pt x="44" y="597"/>
                        </a:lnTo>
                        <a:lnTo>
                          <a:pt x="44" y="562"/>
                        </a:lnTo>
                        <a:lnTo>
                          <a:pt x="46" y="522"/>
                        </a:lnTo>
                        <a:lnTo>
                          <a:pt x="48" y="475"/>
                        </a:lnTo>
                        <a:lnTo>
                          <a:pt x="49" y="427"/>
                        </a:lnTo>
                        <a:lnTo>
                          <a:pt x="53" y="385"/>
                        </a:lnTo>
                        <a:lnTo>
                          <a:pt x="57" y="368"/>
                        </a:lnTo>
                        <a:lnTo>
                          <a:pt x="60" y="351"/>
                        </a:lnTo>
                        <a:lnTo>
                          <a:pt x="65" y="335"/>
                        </a:lnTo>
                        <a:lnTo>
                          <a:pt x="71" y="320"/>
                        </a:lnTo>
                        <a:lnTo>
                          <a:pt x="76" y="305"/>
                        </a:lnTo>
                        <a:lnTo>
                          <a:pt x="83" y="288"/>
                        </a:lnTo>
                        <a:lnTo>
                          <a:pt x="90" y="272"/>
                        </a:lnTo>
                        <a:lnTo>
                          <a:pt x="98" y="256"/>
                        </a:lnTo>
                        <a:lnTo>
                          <a:pt x="104" y="239"/>
                        </a:lnTo>
                        <a:lnTo>
                          <a:pt x="106" y="222"/>
                        </a:lnTo>
                        <a:lnTo>
                          <a:pt x="105" y="204"/>
                        </a:lnTo>
                        <a:lnTo>
                          <a:pt x="103" y="188"/>
                        </a:lnTo>
                        <a:lnTo>
                          <a:pt x="97" y="172"/>
                        </a:lnTo>
                        <a:lnTo>
                          <a:pt x="91" y="157"/>
                        </a:lnTo>
                        <a:lnTo>
                          <a:pt x="86" y="142"/>
                        </a:lnTo>
                        <a:lnTo>
                          <a:pt x="80" y="129"/>
                        </a:lnTo>
                        <a:lnTo>
                          <a:pt x="73" y="114"/>
                        </a:lnTo>
                        <a:lnTo>
                          <a:pt x="61" y="95"/>
                        </a:lnTo>
                        <a:lnTo>
                          <a:pt x="49" y="74"/>
                        </a:lnTo>
                        <a:lnTo>
                          <a:pt x="35" y="52"/>
                        </a:lnTo>
                        <a:lnTo>
                          <a:pt x="22" y="33"/>
                        </a:lnTo>
                        <a:lnTo>
                          <a:pt x="11" y="15"/>
                        </a:lnTo>
                        <a:lnTo>
                          <a:pt x="3" y="5"/>
                        </a:lnTo>
                        <a:lnTo>
                          <a:pt x="0" y="0"/>
                        </a:lnTo>
                        <a:lnTo>
                          <a:pt x="6" y="4"/>
                        </a:lnTo>
                        <a:lnTo>
                          <a:pt x="22" y="14"/>
                        </a:lnTo>
                        <a:lnTo>
                          <a:pt x="45" y="30"/>
                        </a:lnTo>
                        <a:lnTo>
                          <a:pt x="73" y="48"/>
                        </a:lnTo>
                        <a:lnTo>
                          <a:pt x="99" y="68"/>
                        </a:lnTo>
                        <a:lnTo>
                          <a:pt x="125" y="88"/>
                        </a:lnTo>
                        <a:lnTo>
                          <a:pt x="144" y="105"/>
                        </a:lnTo>
                        <a:lnTo>
                          <a:pt x="155" y="120"/>
                        </a:lnTo>
                        <a:lnTo>
                          <a:pt x="160" y="133"/>
                        </a:lnTo>
                        <a:lnTo>
                          <a:pt x="166" y="148"/>
                        </a:lnTo>
                        <a:lnTo>
                          <a:pt x="172" y="164"/>
                        </a:lnTo>
                        <a:lnTo>
                          <a:pt x="178" y="180"/>
                        </a:lnTo>
                        <a:lnTo>
                          <a:pt x="180" y="196"/>
                        </a:lnTo>
                        <a:lnTo>
                          <a:pt x="181" y="214"/>
                        </a:lnTo>
                        <a:lnTo>
                          <a:pt x="179" y="231"/>
                        </a:lnTo>
                        <a:lnTo>
                          <a:pt x="173" y="248"/>
                        </a:lnTo>
                        <a:lnTo>
                          <a:pt x="165" y="264"/>
                        </a:lnTo>
                        <a:lnTo>
                          <a:pt x="158" y="280"/>
                        </a:lnTo>
                        <a:lnTo>
                          <a:pt x="152" y="295"/>
                        </a:lnTo>
                        <a:lnTo>
                          <a:pt x="145" y="311"/>
                        </a:lnTo>
                        <a:lnTo>
                          <a:pt x="141" y="326"/>
                        </a:lnTo>
                        <a:lnTo>
                          <a:pt x="136" y="343"/>
                        </a:lnTo>
                        <a:lnTo>
                          <a:pt x="132" y="359"/>
                        </a:lnTo>
                        <a:lnTo>
                          <a:pt x="128" y="376"/>
                        </a:lnTo>
                        <a:lnTo>
                          <a:pt x="124" y="417"/>
                        </a:lnTo>
                        <a:lnTo>
                          <a:pt x="121" y="467"/>
                        </a:lnTo>
                        <a:lnTo>
                          <a:pt x="117" y="519"/>
                        </a:lnTo>
                        <a:lnTo>
                          <a:pt x="110" y="567"/>
                        </a:lnTo>
                        <a:lnTo>
                          <a:pt x="105" y="583"/>
                        </a:lnTo>
                        <a:lnTo>
                          <a:pt x="98" y="601"/>
                        </a:lnTo>
                        <a:lnTo>
                          <a:pt x="89" y="618"/>
                        </a:lnTo>
                        <a:lnTo>
                          <a:pt x="79" y="634"/>
                        </a:lnTo>
                        <a:lnTo>
                          <a:pt x="69" y="649"/>
                        </a:lnTo>
                        <a:lnTo>
                          <a:pt x="62" y="661"/>
                        </a:lnTo>
                        <a:lnTo>
                          <a:pt x="57" y="669"/>
                        </a:lnTo>
                        <a:lnTo>
                          <a:pt x="54" y="67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738720" y="2747160"/>
                    <a:ext cx="79560" cy="26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604">
                        <a:moveTo>
                          <a:pt x="113" y="350"/>
                        </a:moveTo>
                        <a:lnTo>
                          <a:pt x="128" y="296"/>
                        </a:lnTo>
                        <a:lnTo>
                          <a:pt x="132" y="220"/>
                        </a:lnTo>
                        <a:lnTo>
                          <a:pt x="130" y="144"/>
                        </a:lnTo>
                        <a:lnTo>
                          <a:pt x="133" y="91"/>
                        </a:lnTo>
                        <a:lnTo>
                          <a:pt x="137" y="74"/>
                        </a:lnTo>
                        <a:lnTo>
                          <a:pt x="144" y="57"/>
                        </a:lnTo>
                        <a:lnTo>
                          <a:pt x="152" y="42"/>
                        </a:lnTo>
                        <a:lnTo>
                          <a:pt x="160" y="28"/>
                        </a:lnTo>
                        <a:lnTo>
                          <a:pt x="168" y="16"/>
                        </a:lnTo>
                        <a:lnTo>
                          <a:pt x="175" y="8"/>
                        </a:lnTo>
                        <a:lnTo>
                          <a:pt x="180" y="2"/>
                        </a:lnTo>
                        <a:lnTo>
                          <a:pt x="181" y="0"/>
                        </a:lnTo>
                        <a:lnTo>
                          <a:pt x="186" y="12"/>
                        </a:lnTo>
                        <a:lnTo>
                          <a:pt x="194" y="39"/>
                        </a:lnTo>
                        <a:lnTo>
                          <a:pt x="201" y="75"/>
                        </a:lnTo>
                        <a:lnTo>
                          <a:pt x="199" y="113"/>
                        </a:lnTo>
                        <a:lnTo>
                          <a:pt x="198" y="134"/>
                        </a:lnTo>
                        <a:lnTo>
                          <a:pt x="198" y="159"/>
                        </a:lnTo>
                        <a:lnTo>
                          <a:pt x="201" y="190"/>
                        </a:lnTo>
                        <a:lnTo>
                          <a:pt x="202" y="225"/>
                        </a:lnTo>
                        <a:lnTo>
                          <a:pt x="201" y="262"/>
                        </a:lnTo>
                        <a:lnTo>
                          <a:pt x="198" y="300"/>
                        </a:lnTo>
                        <a:lnTo>
                          <a:pt x="191" y="337"/>
                        </a:lnTo>
                        <a:lnTo>
                          <a:pt x="180" y="372"/>
                        </a:lnTo>
                        <a:lnTo>
                          <a:pt x="158" y="414"/>
                        </a:lnTo>
                        <a:lnTo>
                          <a:pt x="132" y="455"/>
                        </a:lnTo>
                        <a:lnTo>
                          <a:pt x="102" y="494"/>
                        </a:lnTo>
                        <a:lnTo>
                          <a:pt x="72" y="530"/>
                        </a:lnTo>
                        <a:lnTo>
                          <a:pt x="44" y="560"/>
                        </a:lnTo>
                        <a:lnTo>
                          <a:pt x="21" y="583"/>
                        </a:lnTo>
                        <a:lnTo>
                          <a:pt x="6" y="598"/>
                        </a:lnTo>
                        <a:lnTo>
                          <a:pt x="0" y="604"/>
                        </a:lnTo>
                        <a:lnTo>
                          <a:pt x="3" y="597"/>
                        </a:lnTo>
                        <a:lnTo>
                          <a:pt x="8" y="579"/>
                        </a:lnTo>
                        <a:lnTo>
                          <a:pt x="19" y="550"/>
                        </a:lnTo>
                        <a:lnTo>
                          <a:pt x="31" y="515"/>
                        </a:lnTo>
                        <a:lnTo>
                          <a:pt x="49" y="475"/>
                        </a:lnTo>
                        <a:lnTo>
                          <a:pt x="67" y="432"/>
                        </a:lnTo>
                        <a:lnTo>
                          <a:pt x="89" y="390"/>
                        </a:lnTo>
                        <a:lnTo>
                          <a:pt x="113" y="3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53760" y="3001680"/>
                    <a:ext cx="10008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299">
                        <a:moveTo>
                          <a:pt x="248" y="95"/>
                        </a:moveTo>
                        <a:lnTo>
                          <a:pt x="248" y="100"/>
                        </a:lnTo>
                        <a:lnTo>
                          <a:pt x="247" y="111"/>
                        </a:lnTo>
                        <a:lnTo>
                          <a:pt x="245" y="127"/>
                        </a:lnTo>
                        <a:lnTo>
                          <a:pt x="239" y="147"/>
                        </a:lnTo>
                        <a:lnTo>
                          <a:pt x="231" y="168"/>
                        </a:lnTo>
                        <a:lnTo>
                          <a:pt x="220" y="187"/>
                        </a:lnTo>
                        <a:lnTo>
                          <a:pt x="204" y="203"/>
                        </a:lnTo>
                        <a:lnTo>
                          <a:pt x="182" y="214"/>
                        </a:lnTo>
                        <a:lnTo>
                          <a:pt x="168" y="216"/>
                        </a:lnTo>
                        <a:lnTo>
                          <a:pt x="152" y="217"/>
                        </a:lnTo>
                        <a:lnTo>
                          <a:pt x="133" y="216"/>
                        </a:lnTo>
                        <a:lnTo>
                          <a:pt x="115" y="212"/>
                        </a:lnTo>
                        <a:lnTo>
                          <a:pt x="98" y="205"/>
                        </a:lnTo>
                        <a:lnTo>
                          <a:pt x="80" y="195"/>
                        </a:lnTo>
                        <a:lnTo>
                          <a:pt x="67" y="182"/>
                        </a:lnTo>
                        <a:lnTo>
                          <a:pt x="55" y="165"/>
                        </a:lnTo>
                        <a:lnTo>
                          <a:pt x="48" y="144"/>
                        </a:lnTo>
                        <a:lnTo>
                          <a:pt x="47" y="118"/>
                        </a:lnTo>
                        <a:lnTo>
                          <a:pt x="49" y="92"/>
                        </a:lnTo>
                        <a:lnTo>
                          <a:pt x="54" y="64"/>
                        </a:lnTo>
                        <a:lnTo>
                          <a:pt x="60" y="39"/>
                        </a:lnTo>
                        <a:lnTo>
                          <a:pt x="67" y="18"/>
                        </a:lnTo>
                        <a:lnTo>
                          <a:pt x="70" y="4"/>
                        </a:lnTo>
                        <a:lnTo>
                          <a:pt x="72" y="0"/>
                        </a:lnTo>
                        <a:lnTo>
                          <a:pt x="68" y="5"/>
                        </a:lnTo>
                        <a:lnTo>
                          <a:pt x="55" y="23"/>
                        </a:lnTo>
                        <a:lnTo>
                          <a:pt x="39" y="49"/>
                        </a:lnTo>
                        <a:lnTo>
                          <a:pt x="22" y="81"/>
                        </a:lnTo>
                        <a:lnTo>
                          <a:pt x="8" y="118"/>
                        </a:lnTo>
                        <a:lnTo>
                          <a:pt x="0" y="159"/>
                        </a:lnTo>
                        <a:lnTo>
                          <a:pt x="2" y="198"/>
                        </a:lnTo>
                        <a:lnTo>
                          <a:pt x="18" y="236"/>
                        </a:lnTo>
                        <a:lnTo>
                          <a:pt x="34" y="255"/>
                        </a:lnTo>
                        <a:lnTo>
                          <a:pt x="55" y="271"/>
                        </a:lnTo>
                        <a:lnTo>
                          <a:pt x="78" y="284"/>
                        </a:lnTo>
                        <a:lnTo>
                          <a:pt x="102" y="292"/>
                        </a:lnTo>
                        <a:lnTo>
                          <a:pt x="128" y="298"/>
                        </a:lnTo>
                        <a:lnTo>
                          <a:pt x="153" y="299"/>
                        </a:lnTo>
                        <a:lnTo>
                          <a:pt x="176" y="297"/>
                        </a:lnTo>
                        <a:lnTo>
                          <a:pt x="198" y="291"/>
                        </a:lnTo>
                        <a:lnTo>
                          <a:pt x="222" y="274"/>
                        </a:lnTo>
                        <a:lnTo>
                          <a:pt x="239" y="247"/>
                        </a:lnTo>
                        <a:lnTo>
                          <a:pt x="248" y="215"/>
                        </a:lnTo>
                        <a:lnTo>
                          <a:pt x="253" y="182"/>
                        </a:lnTo>
                        <a:lnTo>
                          <a:pt x="253" y="149"/>
                        </a:lnTo>
                        <a:lnTo>
                          <a:pt x="252" y="122"/>
                        </a:lnTo>
                        <a:lnTo>
                          <a:pt x="250" y="102"/>
                        </a:lnTo>
                        <a:lnTo>
                          <a:pt x="248" y="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680400" y="2963880"/>
                    <a:ext cx="7632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145">
                        <a:moveTo>
                          <a:pt x="94" y="77"/>
                        </a:moveTo>
                        <a:lnTo>
                          <a:pt x="78" y="71"/>
                        </a:lnTo>
                        <a:lnTo>
                          <a:pt x="63" y="64"/>
                        </a:lnTo>
                        <a:lnTo>
                          <a:pt x="49" y="54"/>
                        </a:lnTo>
                        <a:lnTo>
                          <a:pt x="37" y="44"/>
                        </a:lnTo>
                        <a:lnTo>
                          <a:pt x="26" y="34"/>
                        </a:lnTo>
                        <a:lnTo>
                          <a:pt x="17" y="23"/>
                        </a:lnTo>
                        <a:lnTo>
                          <a:pt x="9" y="12"/>
                        </a:lnTo>
                        <a:lnTo>
                          <a:pt x="4" y="0"/>
                        </a:lnTo>
                        <a:lnTo>
                          <a:pt x="3" y="4"/>
                        </a:lnTo>
                        <a:lnTo>
                          <a:pt x="2" y="7"/>
                        </a:lnTo>
                        <a:lnTo>
                          <a:pt x="1" y="11"/>
                        </a:lnTo>
                        <a:lnTo>
                          <a:pt x="1" y="14"/>
                        </a:lnTo>
                        <a:lnTo>
                          <a:pt x="0" y="28"/>
                        </a:lnTo>
                        <a:lnTo>
                          <a:pt x="0" y="44"/>
                        </a:lnTo>
                        <a:lnTo>
                          <a:pt x="1" y="60"/>
                        </a:lnTo>
                        <a:lnTo>
                          <a:pt x="7" y="77"/>
                        </a:lnTo>
                        <a:lnTo>
                          <a:pt x="16" y="94"/>
                        </a:lnTo>
                        <a:lnTo>
                          <a:pt x="31" y="110"/>
                        </a:lnTo>
                        <a:lnTo>
                          <a:pt x="53" y="124"/>
                        </a:lnTo>
                        <a:lnTo>
                          <a:pt x="83" y="136"/>
                        </a:lnTo>
                        <a:lnTo>
                          <a:pt x="113" y="143"/>
                        </a:lnTo>
                        <a:lnTo>
                          <a:pt x="137" y="145"/>
                        </a:lnTo>
                        <a:lnTo>
                          <a:pt x="155" y="142"/>
                        </a:lnTo>
                        <a:lnTo>
                          <a:pt x="170" y="134"/>
                        </a:lnTo>
                        <a:lnTo>
                          <a:pt x="181" y="124"/>
                        </a:lnTo>
                        <a:lnTo>
                          <a:pt x="188" y="111"/>
                        </a:lnTo>
                        <a:lnTo>
                          <a:pt x="191" y="98"/>
                        </a:lnTo>
                        <a:lnTo>
                          <a:pt x="193" y="84"/>
                        </a:lnTo>
                        <a:lnTo>
                          <a:pt x="193" y="79"/>
                        </a:lnTo>
                        <a:lnTo>
                          <a:pt x="192" y="74"/>
                        </a:lnTo>
                        <a:lnTo>
                          <a:pt x="191" y="68"/>
                        </a:lnTo>
                        <a:lnTo>
                          <a:pt x="190" y="64"/>
                        </a:lnTo>
                        <a:lnTo>
                          <a:pt x="184" y="72"/>
                        </a:lnTo>
                        <a:lnTo>
                          <a:pt x="176" y="79"/>
                        </a:lnTo>
                        <a:lnTo>
                          <a:pt x="167" y="83"/>
                        </a:lnTo>
                        <a:lnTo>
                          <a:pt x="154" y="86"/>
                        </a:lnTo>
                        <a:lnTo>
                          <a:pt x="141" y="87"/>
                        </a:lnTo>
                        <a:lnTo>
                          <a:pt x="127" y="86"/>
                        </a:lnTo>
                        <a:lnTo>
                          <a:pt x="110" y="82"/>
                        </a:lnTo>
                        <a:lnTo>
                          <a:pt x="94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656640" y="2496960"/>
                    <a:ext cx="272880" cy="28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92" h="656">
                        <a:moveTo>
                          <a:pt x="633" y="607"/>
                        </a:moveTo>
                        <a:lnTo>
                          <a:pt x="616" y="605"/>
                        </a:lnTo>
                        <a:lnTo>
                          <a:pt x="596" y="603"/>
                        </a:lnTo>
                        <a:lnTo>
                          <a:pt x="578" y="599"/>
                        </a:lnTo>
                        <a:lnTo>
                          <a:pt x="558" y="595"/>
                        </a:lnTo>
                        <a:lnTo>
                          <a:pt x="541" y="589"/>
                        </a:lnTo>
                        <a:lnTo>
                          <a:pt x="524" y="584"/>
                        </a:lnTo>
                        <a:lnTo>
                          <a:pt x="509" y="578"/>
                        </a:lnTo>
                        <a:lnTo>
                          <a:pt x="497" y="573"/>
                        </a:lnTo>
                        <a:lnTo>
                          <a:pt x="488" y="567"/>
                        </a:lnTo>
                        <a:lnTo>
                          <a:pt x="479" y="561"/>
                        </a:lnTo>
                        <a:lnTo>
                          <a:pt x="472" y="554"/>
                        </a:lnTo>
                        <a:lnTo>
                          <a:pt x="465" y="547"/>
                        </a:lnTo>
                        <a:lnTo>
                          <a:pt x="458" y="540"/>
                        </a:lnTo>
                        <a:lnTo>
                          <a:pt x="451" y="531"/>
                        </a:lnTo>
                        <a:lnTo>
                          <a:pt x="443" y="522"/>
                        </a:lnTo>
                        <a:lnTo>
                          <a:pt x="434" y="510"/>
                        </a:lnTo>
                        <a:lnTo>
                          <a:pt x="432" y="508"/>
                        </a:lnTo>
                        <a:lnTo>
                          <a:pt x="428" y="505"/>
                        </a:lnTo>
                        <a:lnTo>
                          <a:pt x="424" y="501"/>
                        </a:lnTo>
                        <a:lnTo>
                          <a:pt x="418" y="497"/>
                        </a:lnTo>
                        <a:lnTo>
                          <a:pt x="418" y="490"/>
                        </a:lnTo>
                        <a:lnTo>
                          <a:pt x="419" y="482"/>
                        </a:lnTo>
                        <a:lnTo>
                          <a:pt x="421" y="475"/>
                        </a:lnTo>
                        <a:lnTo>
                          <a:pt x="422" y="468"/>
                        </a:lnTo>
                        <a:lnTo>
                          <a:pt x="427" y="456"/>
                        </a:lnTo>
                        <a:lnTo>
                          <a:pt x="434" y="445"/>
                        </a:lnTo>
                        <a:lnTo>
                          <a:pt x="441" y="436"/>
                        </a:lnTo>
                        <a:lnTo>
                          <a:pt x="449" y="426"/>
                        </a:lnTo>
                        <a:lnTo>
                          <a:pt x="458" y="421"/>
                        </a:lnTo>
                        <a:lnTo>
                          <a:pt x="467" y="415"/>
                        </a:lnTo>
                        <a:lnTo>
                          <a:pt x="477" y="411"/>
                        </a:lnTo>
                        <a:lnTo>
                          <a:pt x="487" y="410"/>
                        </a:lnTo>
                        <a:lnTo>
                          <a:pt x="483" y="408"/>
                        </a:lnTo>
                        <a:lnTo>
                          <a:pt x="480" y="406"/>
                        </a:lnTo>
                        <a:lnTo>
                          <a:pt x="477" y="404"/>
                        </a:lnTo>
                        <a:lnTo>
                          <a:pt x="473" y="403"/>
                        </a:lnTo>
                        <a:lnTo>
                          <a:pt x="460" y="401"/>
                        </a:lnTo>
                        <a:lnTo>
                          <a:pt x="449" y="401"/>
                        </a:lnTo>
                        <a:lnTo>
                          <a:pt x="436" y="404"/>
                        </a:lnTo>
                        <a:lnTo>
                          <a:pt x="425" y="411"/>
                        </a:lnTo>
                        <a:lnTo>
                          <a:pt x="414" y="419"/>
                        </a:lnTo>
                        <a:lnTo>
                          <a:pt x="405" y="430"/>
                        </a:lnTo>
                        <a:lnTo>
                          <a:pt x="397" y="444"/>
                        </a:lnTo>
                        <a:lnTo>
                          <a:pt x="391" y="457"/>
                        </a:lnTo>
                        <a:lnTo>
                          <a:pt x="390" y="462"/>
                        </a:lnTo>
                        <a:lnTo>
                          <a:pt x="389" y="466"/>
                        </a:lnTo>
                        <a:lnTo>
                          <a:pt x="388" y="470"/>
                        </a:lnTo>
                        <a:lnTo>
                          <a:pt x="387" y="475"/>
                        </a:lnTo>
                        <a:lnTo>
                          <a:pt x="371" y="464"/>
                        </a:lnTo>
                        <a:lnTo>
                          <a:pt x="354" y="454"/>
                        </a:lnTo>
                        <a:lnTo>
                          <a:pt x="336" y="443"/>
                        </a:lnTo>
                        <a:lnTo>
                          <a:pt x="316" y="431"/>
                        </a:lnTo>
                        <a:lnTo>
                          <a:pt x="297" y="418"/>
                        </a:lnTo>
                        <a:lnTo>
                          <a:pt x="277" y="406"/>
                        </a:lnTo>
                        <a:lnTo>
                          <a:pt x="258" y="394"/>
                        </a:lnTo>
                        <a:lnTo>
                          <a:pt x="238" y="381"/>
                        </a:lnTo>
                        <a:lnTo>
                          <a:pt x="219" y="370"/>
                        </a:lnTo>
                        <a:lnTo>
                          <a:pt x="201" y="357"/>
                        </a:lnTo>
                        <a:lnTo>
                          <a:pt x="184" y="347"/>
                        </a:lnTo>
                        <a:lnTo>
                          <a:pt x="169" y="335"/>
                        </a:lnTo>
                        <a:lnTo>
                          <a:pt x="155" y="326"/>
                        </a:lnTo>
                        <a:lnTo>
                          <a:pt x="144" y="317"/>
                        </a:lnTo>
                        <a:lnTo>
                          <a:pt x="135" y="309"/>
                        </a:lnTo>
                        <a:lnTo>
                          <a:pt x="128" y="302"/>
                        </a:lnTo>
                        <a:lnTo>
                          <a:pt x="113" y="277"/>
                        </a:lnTo>
                        <a:lnTo>
                          <a:pt x="94" y="236"/>
                        </a:lnTo>
                        <a:lnTo>
                          <a:pt x="74" y="188"/>
                        </a:lnTo>
                        <a:lnTo>
                          <a:pt x="53" y="135"/>
                        </a:lnTo>
                        <a:lnTo>
                          <a:pt x="34" y="84"/>
                        </a:lnTo>
                        <a:lnTo>
                          <a:pt x="19" y="42"/>
                        </a:lnTo>
                        <a:lnTo>
                          <a:pt x="8" y="12"/>
                        </a:lnTo>
                        <a:lnTo>
                          <a:pt x="4" y="0"/>
                        </a:lnTo>
                        <a:lnTo>
                          <a:pt x="3" y="8"/>
                        </a:lnTo>
                        <a:lnTo>
                          <a:pt x="1" y="31"/>
                        </a:lnTo>
                        <a:lnTo>
                          <a:pt x="0" y="67"/>
                        </a:lnTo>
                        <a:lnTo>
                          <a:pt x="0" y="111"/>
                        </a:lnTo>
                        <a:lnTo>
                          <a:pt x="4" y="161"/>
                        </a:lnTo>
                        <a:lnTo>
                          <a:pt x="15" y="216"/>
                        </a:lnTo>
                        <a:lnTo>
                          <a:pt x="33" y="270"/>
                        </a:lnTo>
                        <a:lnTo>
                          <a:pt x="60" y="322"/>
                        </a:lnTo>
                        <a:lnTo>
                          <a:pt x="76" y="343"/>
                        </a:lnTo>
                        <a:lnTo>
                          <a:pt x="94" y="364"/>
                        </a:lnTo>
                        <a:lnTo>
                          <a:pt x="116" y="384"/>
                        </a:lnTo>
                        <a:lnTo>
                          <a:pt x="139" y="402"/>
                        </a:lnTo>
                        <a:lnTo>
                          <a:pt x="163" y="419"/>
                        </a:lnTo>
                        <a:lnTo>
                          <a:pt x="189" y="437"/>
                        </a:lnTo>
                        <a:lnTo>
                          <a:pt x="215" y="452"/>
                        </a:lnTo>
                        <a:lnTo>
                          <a:pt x="240" y="467"/>
                        </a:lnTo>
                        <a:lnTo>
                          <a:pt x="266" y="481"/>
                        </a:lnTo>
                        <a:lnTo>
                          <a:pt x="290" y="493"/>
                        </a:lnTo>
                        <a:lnTo>
                          <a:pt x="313" y="505"/>
                        </a:lnTo>
                        <a:lnTo>
                          <a:pt x="334" y="515"/>
                        </a:lnTo>
                        <a:lnTo>
                          <a:pt x="351" y="524"/>
                        </a:lnTo>
                        <a:lnTo>
                          <a:pt x="366" y="534"/>
                        </a:lnTo>
                        <a:lnTo>
                          <a:pt x="378" y="540"/>
                        </a:lnTo>
                        <a:lnTo>
                          <a:pt x="384" y="547"/>
                        </a:lnTo>
                        <a:lnTo>
                          <a:pt x="394" y="559"/>
                        </a:lnTo>
                        <a:lnTo>
                          <a:pt x="402" y="569"/>
                        </a:lnTo>
                        <a:lnTo>
                          <a:pt x="409" y="577"/>
                        </a:lnTo>
                        <a:lnTo>
                          <a:pt x="417" y="585"/>
                        </a:lnTo>
                        <a:lnTo>
                          <a:pt x="424" y="592"/>
                        </a:lnTo>
                        <a:lnTo>
                          <a:pt x="430" y="599"/>
                        </a:lnTo>
                        <a:lnTo>
                          <a:pt x="440" y="605"/>
                        </a:lnTo>
                        <a:lnTo>
                          <a:pt x="449" y="611"/>
                        </a:lnTo>
                        <a:lnTo>
                          <a:pt x="462" y="618"/>
                        </a:lnTo>
                        <a:lnTo>
                          <a:pt x="478" y="626"/>
                        </a:lnTo>
                        <a:lnTo>
                          <a:pt x="496" y="634"/>
                        </a:lnTo>
                        <a:lnTo>
                          <a:pt x="518" y="642"/>
                        </a:lnTo>
                        <a:lnTo>
                          <a:pt x="540" y="649"/>
                        </a:lnTo>
                        <a:lnTo>
                          <a:pt x="561" y="653"/>
                        </a:lnTo>
                        <a:lnTo>
                          <a:pt x="581" y="656"/>
                        </a:lnTo>
                        <a:lnTo>
                          <a:pt x="599" y="655"/>
                        </a:lnTo>
                        <a:lnTo>
                          <a:pt x="615" y="650"/>
                        </a:lnTo>
                        <a:lnTo>
                          <a:pt x="632" y="642"/>
                        </a:lnTo>
                        <a:lnTo>
                          <a:pt x="647" y="634"/>
                        </a:lnTo>
                        <a:lnTo>
                          <a:pt x="662" y="625"/>
                        </a:lnTo>
                        <a:lnTo>
                          <a:pt x="673" y="615"/>
                        </a:lnTo>
                        <a:lnTo>
                          <a:pt x="684" y="608"/>
                        </a:lnTo>
                        <a:lnTo>
                          <a:pt x="690" y="604"/>
                        </a:lnTo>
                        <a:lnTo>
                          <a:pt x="692" y="602"/>
                        </a:lnTo>
                        <a:lnTo>
                          <a:pt x="691" y="602"/>
                        </a:lnTo>
                        <a:lnTo>
                          <a:pt x="688" y="603"/>
                        </a:lnTo>
                        <a:lnTo>
                          <a:pt x="684" y="604"/>
                        </a:lnTo>
                        <a:lnTo>
                          <a:pt x="677" y="605"/>
                        </a:lnTo>
                        <a:lnTo>
                          <a:pt x="669" y="606"/>
                        </a:lnTo>
                        <a:lnTo>
                          <a:pt x="658" y="607"/>
                        </a:lnTo>
                        <a:lnTo>
                          <a:pt x="647" y="607"/>
                        </a:lnTo>
                        <a:lnTo>
                          <a:pt x="633" y="6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671040" y="3114360"/>
                    <a:ext cx="37440" cy="11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257">
                        <a:moveTo>
                          <a:pt x="62" y="0"/>
                        </a:moveTo>
                        <a:lnTo>
                          <a:pt x="0" y="196"/>
                        </a:lnTo>
                        <a:lnTo>
                          <a:pt x="0" y="199"/>
                        </a:lnTo>
                        <a:lnTo>
                          <a:pt x="0" y="206"/>
                        </a:lnTo>
                        <a:lnTo>
                          <a:pt x="1" y="215"/>
                        </a:lnTo>
                        <a:lnTo>
                          <a:pt x="4" y="225"/>
                        </a:lnTo>
                        <a:lnTo>
                          <a:pt x="9" y="235"/>
                        </a:lnTo>
                        <a:lnTo>
                          <a:pt x="17" y="246"/>
                        </a:lnTo>
                        <a:lnTo>
                          <a:pt x="28" y="254"/>
                        </a:lnTo>
                        <a:lnTo>
                          <a:pt x="43" y="257"/>
                        </a:lnTo>
                        <a:lnTo>
                          <a:pt x="58" y="257"/>
                        </a:lnTo>
                        <a:lnTo>
                          <a:pt x="71" y="254"/>
                        </a:lnTo>
                        <a:lnTo>
                          <a:pt x="80" y="249"/>
                        </a:lnTo>
                        <a:lnTo>
                          <a:pt x="86" y="242"/>
                        </a:lnTo>
                        <a:lnTo>
                          <a:pt x="91" y="237"/>
                        </a:lnTo>
                        <a:lnTo>
                          <a:pt x="93" y="231"/>
                        </a:lnTo>
                        <a:lnTo>
                          <a:pt x="94" y="226"/>
                        </a:lnTo>
                        <a:lnTo>
                          <a:pt x="94" y="225"/>
                        </a:lnTo>
                        <a:lnTo>
                          <a:pt x="88" y="15"/>
                        </a:lnTo>
                        <a:lnTo>
                          <a:pt x="6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806400" y="2424600"/>
                    <a:ext cx="167040" cy="20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466">
                        <a:moveTo>
                          <a:pt x="14" y="466"/>
                        </a:moveTo>
                        <a:lnTo>
                          <a:pt x="15" y="464"/>
                        </a:lnTo>
                        <a:lnTo>
                          <a:pt x="17" y="457"/>
                        </a:lnTo>
                        <a:lnTo>
                          <a:pt x="22" y="448"/>
                        </a:lnTo>
                        <a:lnTo>
                          <a:pt x="29" y="437"/>
                        </a:lnTo>
                        <a:lnTo>
                          <a:pt x="37" y="426"/>
                        </a:lnTo>
                        <a:lnTo>
                          <a:pt x="47" y="416"/>
                        </a:lnTo>
                        <a:lnTo>
                          <a:pt x="59" y="407"/>
                        </a:lnTo>
                        <a:lnTo>
                          <a:pt x="74" y="403"/>
                        </a:lnTo>
                        <a:lnTo>
                          <a:pt x="88" y="399"/>
                        </a:lnTo>
                        <a:lnTo>
                          <a:pt x="101" y="393"/>
                        </a:lnTo>
                        <a:lnTo>
                          <a:pt x="115" y="386"/>
                        </a:lnTo>
                        <a:lnTo>
                          <a:pt x="130" y="377"/>
                        </a:lnTo>
                        <a:lnTo>
                          <a:pt x="145" y="367"/>
                        </a:lnTo>
                        <a:lnTo>
                          <a:pt x="163" y="355"/>
                        </a:lnTo>
                        <a:lnTo>
                          <a:pt x="185" y="342"/>
                        </a:lnTo>
                        <a:lnTo>
                          <a:pt x="211" y="325"/>
                        </a:lnTo>
                        <a:lnTo>
                          <a:pt x="220" y="320"/>
                        </a:lnTo>
                        <a:lnTo>
                          <a:pt x="227" y="315"/>
                        </a:lnTo>
                        <a:lnTo>
                          <a:pt x="235" y="312"/>
                        </a:lnTo>
                        <a:lnTo>
                          <a:pt x="245" y="307"/>
                        </a:lnTo>
                        <a:lnTo>
                          <a:pt x="258" y="302"/>
                        </a:lnTo>
                        <a:lnTo>
                          <a:pt x="275" y="297"/>
                        </a:lnTo>
                        <a:lnTo>
                          <a:pt x="299" y="290"/>
                        </a:lnTo>
                        <a:lnTo>
                          <a:pt x="330" y="280"/>
                        </a:lnTo>
                        <a:lnTo>
                          <a:pt x="367" y="267"/>
                        </a:lnTo>
                        <a:lnTo>
                          <a:pt x="394" y="250"/>
                        </a:lnTo>
                        <a:lnTo>
                          <a:pt x="411" y="232"/>
                        </a:lnTo>
                        <a:lnTo>
                          <a:pt x="421" y="212"/>
                        </a:lnTo>
                        <a:lnTo>
                          <a:pt x="424" y="191"/>
                        </a:lnTo>
                        <a:lnTo>
                          <a:pt x="422" y="169"/>
                        </a:lnTo>
                        <a:lnTo>
                          <a:pt x="417" y="148"/>
                        </a:lnTo>
                        <a:lnTo>
                          <a:pt x="407" y="127"/>
                        </a:lnTo>
                        <a:lnTo>
                          <a:pt x="382" y="83"/>
                        </a:lnTo>
                        <a:lnTo>
                          <a:pt x="357" y="51"/>
                        </a:lnTo>
                        <a:lnTo>
                          <a:pt x="331" y="29"/>
                        </a:lnTo>
                        <a:lnTo>
                          <a:pt x="310" y="14"/>
                        </a:lnTo>
                        <a:lnTo>
                          <a:pt x="289" y="5"/>
                        </a:lnTo>
                        <a:lnTo>
                          <a:pt x="274" y="2"/>
                        </a:lnTo>
                        <a:lnTo>
                          <a:pt x="264" y="0"/>
                        </a:lnTo>
                        <a:lnTo>
                          <a:pt x="260" y="0"/>
                        </a:lnTo>
                        <a:lnTo>
                          <a:pt x="264" y="3"/>
                        </a:lnTo>
                        <a:lnTo>
                          <a:pt x="272" y="9"/>
                        </a:lnTo>
                        <a:lnTo>
                          <a:pt x="284" y="19"/>
                        </a:lnTo>
                        <a:lnTo>
                          <a:pt x="298" y="32"/>
                        </a:lnTo>
                        <a:lnTo>
                          <a:pt x="313" y="47"/>
                        </a:lnTo>
                        <a:lnTo>
                          <a:pt x="327" y="64"/>
                        </a:lnTo>
                        <a:lnTo>
                          <a:pt x="337" y="82"/>
                        </a:lnTo>
                        <a:lnTo>
                          <a:pt x="344" y="101"/>
                        </a:lnTo>
                        <a:lnTo>
                          <a:pt x="349" y="120"/>
                        </a:lnTo>
                        <a:lnTo>
                          <a:pt x="352" y="141"/>
                        </a:lnTo>
                        <a:lnTo>
                          <a:pt x="353" y="162"/>
                        </a:lnTo>
                        <a:lnTo>
                          <a:pt x="351" y="182"/>
                        </a:lnTo>
                        <a:lnTo>
                          <a:pt x="344" y="201"/>
                        </a:lnTo>
                        <a:lnTo>
                          <a:pt x="330" y="218"/>
                        </a:lnTo>
                        <a:lnTo>
                          <a:pt x="308" y="233"/>
                        </a:lnTo>
                        <a:lnTo>
                          <a:pt x="277" y="245"/>
                        </a:lnTo>
                        <a:lnTo>
                          <a:pt x="245" y="254"/>
                        </a:lnTo>
                        <a:lnTo>
                          <a:pt x="221" y="262"/>
                        </a:lnTo>
                        <a:lnTo>
                          <a:pt x="201" y="269"/>
                        </a:lnTo>
                        <a:lnTo>
                          <a:pt x="186" y="275"/>
                        </a:lnTo>
                        <a:lnTo>
                          <a:pt x="175" y="282"/>
                        </a:lnTo>
                        <a:lnTo>
                          <a:pt x="166" y="287"/>
                        </a:lnTo>
                        <a:lnTo>
                          <a:pt x="156" y="293"/>
                        </a:lnTo>
                        <a:lnTo>
                          <a:pt x="147" y="299"/>
                        </a:lnTo>
                        <a:lnTo>
                          <a:pt x="122" y="314"/>
                        </a:lnTo>
                        <a:lnTo>
                          <a:pt x="102" y="328"/>
                        </a:lnTo>
                        <a:lnTo>
                          <a:pt x="85" y="338"/>
                        </a:lnTo>
                        <a:lnTo>
                          <a:pt x="71" y="346"/>
                        </a:lnTo>
                        <a:lnTo>
                          <a:pt x="59" y="353"/>
                        </a:lnTo>
                        <a:lnTo>
                          <a:pt x="47" y="359"/>
                        </a:lnTo>
                        <a:lnTo>
                          <a:pt x="34" y="362"/>
                        </a:lnTo>
                        <a:lnTo>
                          <a:pt x="21" y="366"/>
                        </a:lnTo>
                        <a:lnTo>
                          <a:pt x="8" y="373"/>
                        </a:lnTo>
                        <a:lnTo>
                          <a:pt x="2" y="385"/>
                        </a:lnTo>
                        <a:lnTo>
                          <a:pt x="0" y="401"/>
                        </a:lnTo>
                        <a:lnTo>
                          <a:pt x="2" y="419"/>
                        </a:lnTo>
                        <a:lnTo>
                          <a:pt x="4" y="436"/>
                        </a:lnTo>
                        <a:lnTo>
                          <a:pt x="9" y="451"/>
                        </a:lnTo>
                        <a:lnTo>
                          <a:pt x="12" y="462"/>
                        </a:lnTo>
                        <a:lnTo>
                          <a:pt x="14" y="4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741960" y="2211840"/>
                    <a:ext cx="178920" cy="2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668">
                        <a:moveTo>
                          <a:pt x="191" y="215"/>
                        </a:moveTo>
                        <a:lnTo>
                          <a:pt x="204" y="207"/>
                        </a:lnTo>
                        <a:lnTo>
                          <a:pt x="218" y="200"/>
                        </a:lnTo>
                        <a:lnTo>
                          <a:pt x="232" y="193"/>
                        </a:lnTo>
                        <a:lnTo>
                          <a:pt x="247" y="187"/>
                        </a:lnTo>
                        <a:lnTo>
                          <a:pt x="261" y="184"/>
                        </a:lnTo>
                        <a:lnTo>
                          <a:pt x="276" y="182"/>
                        </a:lnTo>
                        <a:lnTo>
                          <a:pt x="290" y="183"/>
                        </a:lnTo>
                        <a:lnTo>
                          <a:pt x="304" y="187"/>
                        </a:lnTo>
                        <a:lnTo>
                          <a:pt x="320" y="197"/>
                        </a:lnTo>
                        <a:lnTo>
                          <a:pt x="333" y="207"/>
                        </a:lnTo>
                        <a:lnTo>
                          <a:pt x="342" y="218"/>
                        </a:lnTo>
                        <a:lnTo>
                          <a:pt x="350" y="231"/>
                        </a:lnTo>
                        <a:lnTo>
                          <a:pt x="356" y="244"/>
                        </a:lnTo>
                        <a:lnTo>
                          <a:pt x="362" y="256"/>
                        </a:lnTo>
                        <a:lnTo>
                          <a:pt x="368" y="268"/>
                        </a:lnTo>
                        <a:lnTo>
                          <a:pt x="375" y="280"/>
                        </a:lnTo>
                        <a:lnTo>
                          <a:pt x="366" y="276"/>
                        </a:lnTo>
                        <a:lnTo>
                          <a:pt x="358" y="274"/>
                        </a:lnTo>
                        <a:lnTo>
                          <a:pt x="349" y="270"/>
                        </a:lnTo>
                        <a:lnTo>
                          <a:pt x="341" y="268"/>
                        </a:lnTo>
                        <a:lnTo>
                          <a:pt x="326" y="265"/>
                        </a:lnTo>
                        <a:lnTo>
                          <a:pt x="311" y="261"/>
                        </a:lnTo>
                        <a:lnTo>
                          <a:pt x="295" y="258"/>
                        </a:lnTo>
                        <a:lnTo>
                          <a:pt x="281" y="255"/>
                        </a:lnTo>
                        <a:lnTo>
                          <a:pt x="266" y="253"/>
                        </a:lnTo>
                        <a:lnTo>
                          <a:pt x="251" y="251"/>
                        </a:lnTo>
                        <a:lnTo>
                          <a:pt x="238" y="248"/>
                        </a:lnTo>
                        <a:lnTo>
                          <a:pt x="224" y="247"/>
                        </a:lnTo>
                        <a:lnTo>
                          <a:pt x="211" y="247"/>
                        </a:lnTo>
                        <a:lnTo>
                          <a:pt x="197" y="246"/>
                        </a:lnTo>
                        <a:lnTo>
                          <a:pt x="186" y="247"/>
                        </a:lnTo>
                        <a:lnTo>
                          <a:pt x="173" y="247"/>
                        </a:lnTo>
                        <a:lnTo>
                          <a:pt x="162" y="250"/>
                        </a:lnTo>
                        <a:lnTo>
                          <a:pt x="151" y="252"/>
                        </a:lnTo>
                        <a:lnTo>
                          <a:pt x="141" y="254"/>
                        </a:lnTo>
                        <a:lnTo>
                          <a:pt x="132" y="258"/>
                        </a:lnTo>
                        <a:lnTo>
                          <a:pt x="138" y="247"/>
                        </a:lnTo>
                        <a:lnTo>
                          <a:pt x="145" y="240"/>
                        </a:lnTo>
                        <a:lnTo>
                          <a:pt x="152" y="235"/>
                        </a:lnTo>
                        <a:lnTo>
                          <a:pt x="159" y="230"/>
                        </a:lnTo>
                        <a:lnTo>
                          <a:pt x="167" y="227"/>
                        </a:lnTo>
                        <a:lnTo>
                          <a:pt x="175" y="223"/>
                        </a:lnTo>
                        <a:lnTo>
                          <a:pt x="183" y="220"/>
                        </a:lnTo>
                        <a:lnTo>
                          <a:pt x="191" y="215"/>
                        </a:lnTo>
                        <a:lnTo>
                          <a:pt x="151" y="156"/>
                        </a:lnTo>
                        <a:lnTo>
                          <a:pt x="137" y="167"/>
                        </a:lnTo>
                        <a:lnTo>
                          <a:pt x="125" y="179"/>
                        </a:lnTo>
                        <a:lnTo>
                          <a:pt x="112" y="192"/>
                        </a:lnTo>
                        <a:lnTo>
                          <a:pt x="102" y="207"/>
                        </a:lnTo>
                        <a:lnTo>
                          <a:pt x="90" y="223"/>
                        </a:lnTo>
                        <a:lnTo>
                          <a:pt x="81" y="240"/>
                        </a:lnTo>
                        <a:lnTo>
                          <a:pt x="73" y="259"/>
                        </a:lnTo>
                        <a:lnTo>
                          <a:pt x="65" y="277"/>
                        </a:lnTo>
                        <a:lnTo>
                          <a:pt x="56" y="283"/>
                        </a:lnTo>
                        <a:lnTo>
                          <a:pt x="42" y="293"/>
                        </a:lnTo>
                        <a:lnTo>
                          <a:pt x="28" y="306"/>
                        </a:lnTo>
                        <a:lnTo>
                          <a:pt x="15" y="322"/>
                        </a:lnTo>
                        <a:lnTo>
                          <a:pt x="5" y="341"/>
                        </a:lnTo>
                        <a:lnTo>
                          <a:pt x="0" y="361"/>
                        </a:lnTo>
                        <a:lnTo>
                          <a:pt x="3" y="382"/>
                        </a:lnTo>
                        <a:lnTo>
                          <a:pt x="14" y="404"/>
                        </a:lnTo>
                        <a:lnTo>
                          <a:pt x="29" y="420"/>
                        </a:lnTo>
                        <a:lnTo>
                          <a:pt x="41" y="430"/>
                        </a:lnTo>
                        <a:lnTo>
                          <a:pt x="51" y="435"/>
                        </a:lnTo>
                        <a:lnTo>
                          <a:pt x="58" y="435"/>
                        </a:lnTo>
                        <a:lnTo>
                          <a:pt x="61" y="430"/>
                        </a:lnTo>
                        <a:lnTo>
                          <a:pt x="61" y="424"/>
                        </a:lnTo>
                        <a:lnTo>
                          <a:pt x="59" y="414"/>
                        </a:lnTo>
                        <a:lnTo>
                          <a:pt x="52" y="405"/>
                        </a:lnTo>
                        <a:lnTo>
                          <a:pt x="43" y="389"/>
                        </a:lnTo>
                        <a:lnTo>
                          <a:pt x="41" y="371"/>
                        </a:lnTo>
                        <a:lnTo>
                          <a:pt x="45" y="356"/>
                        </a:lnTo>
                        <a:lnTo>
                          <a:pt x="57" y="344"/>
                        </a:lnTo>
                        <a:lnTo>
                          <a:pt x="61" y="341"/>
                        </a:lnTo>
                        <a:lnTo>
                          <a:pt x="67" y="338"/>
                        </a:lnTo>
                        <a:lnTo>
                          <a:pt x="72" y="336"/>
                        </a:lnTo>
                        <a:lnTo>
                          <a:pt x="77" y="335"/>
                        </a:lnTo>
                        <a:lnTo>
                          <a:pt x="83" y="336"/>
                        </a:lnTo>
                        <a:lnTo>
                          <a:pt x="90" y="337"/>
                        </a:lnTo>
                        <a:lnTo>
                          <a:pt x="98" y="342"/>
                        </a:lnTo>
                        <a:lnTo>
                          <a:pt x="107" y="349"/>
                        </a:lnTo>
                        <a:lnTo>
                          <a:pt x="111" y="350"/>
                        </a:lnTo>
                        <a:lnTo>
                          <a:pt x="115" y="350"/>
                        </a:lnTo>
                        <a:lnTo>
                          <a:pt x="120" y="347"/>
                        </a:lnTo>
                        <a:lnTo>
                          <a:pt x="125" y="342"/>
                        </a:lnTo>
                        <a:lnTo>
                          <a:pt x="129" y="335"/>
                        </a:lnTo>
                        <a:lnTo>
                          <a:pt x="135" y="327"/>
                        </a:lnTo>
                        <a:lnTo>
                          <a:pt x="142" y="315"/>
                        </a:lnTo>
                        <a:lnTo>
                          <a:pt x="148" y="301"/>
                        </a:lnTo>
                        <a:lnTo>
                          <a:pt x="156" y="301"/>
                        </a:lnTo>
                        <a:lnTo>
                          <a:pt x="164" y="303"/>
                        </a:lnTo>
                        <a:lnTo>
                          <a:pt x="173" y="304"/>
                        </a:lnTo>
                        <a:lnTo>
                          <a:pt x="181" y="304"/>
                        </a:lnTo>
                        <a:lnTo>
                          <a:pt x="190" y="305"/>
                        </a:lnTo>
                        <a:lnTo>
                          <a:pt x="198" y="306"/>
                        </a:lnTo>
                        <a:lnTo>
                          <a:pt x="208" y="307"/>
                        </a:lnTo>
                        <a:lnTo>
                          <a:pt x="216" y="308"/>
                        </a:lnTo>
                        <a:lnTo>
                          <a:pt x="239" y="312"/>
                        </a:lnTo>
                        <a:lnTo>
                          <a:pt x="261" y="315"/>
                        </a:lnTo>
                        <a:lnTo>
                          <a:pt x="282" y="320"/>
                        </a:lnTo>
                        <a:lnTo>
                          <a:pt x="303" y="323"/>
                        </a:lnTo>
                        <a:lnTo>
                          <a:pt x="323" y="329"/>
                        </a:lnTo>
                        <a:lnTo>
                          <a:pt x="342" y="334"/>
                        </a:lnTo>
                        <a:lnTo>
                          <a:pt x="361" y="339"/>
                        </a:lnTo>
                        <a:lnTo>
                          <a:pt x="378" y="345"/>
                        </a:lnTo>
                        <a:lnTo>
                          <a:pt x="390" y="376"/>
                        </a:lnTo>
                        <a:lnTo>
                          <a:pt x="395" y="411"/>
                        </a:lnTo>
                        <a:lnTo>
                          <a:pt x="394" y="449"/>
                        </a:lnTo>
                        <a:lnTo>
                          <a:pt x="385" y="489"/>
                        </a:lnTo>
                        <a:lnTo>
                          <a:pt x="378" y="508"/>
                        </a:lnTo>
                        <a:lnTo>
                          <a:pt x="370" y="525"/>
                        </a:lnTo>
                        <a:lnTo>
                          <a:pt x="362" y="541"/>
                        </a:lnTo>
                        <a:lnTo>
                          <a:pt x="352" y="556"/>
                        </a:lnTo>
                        <a:lnTo>
                          <a:pt x="341" y="570"/>
                        </a:lnTo>
                        <a:lnTo>
                          <a:pt x="330" y="581"/>
                        </a:lnTo>
                        <a:lnTo>
                          <a:pt x="317" y="592"/>
                        </a:lnTo>
                        <a:lnTo>
                          <a:pt x="304" y="601"/>
                        </a:lnTo>
                        <a:lnTo>
                          <a:pt x="292" y="608"/>
                        </a:lnTo>
                        <a:lnTo>
                          <a:pt x="278" y="614"/>
                        </a:lnTo>
                        <a:lnTo>
                          <a:pt x="264" y="617"/>
                        </a:lnTo>
                        <a:lnTo>
                          <a:pt x="249" y="619"/>
                        </a:lnTo>
                        <a:lnTo>
                          <a:pt x="234" y="621"/>
                        </a:lnTo>
                        <a:lnTo>
                          <a:pt x="219" y="618"/>
                        </a:lnTo>
                        <a:lnTo>
                          <a:pt x="204" y="616"/>
                        </a:lnTo>
                        <a:lnTo>
                          <a:pt x="189" y="610"/>
                        </a:lnTo>
                        <a:lnTo>
                          <a:pt x="179" y="604"/>
                        </a:lnTo>
                        <a:lnTo>
                          <a:pt x="166" y="596"/>
                        </a:lnTo>
                        <a:lnTo>
                          <a:pt x="150" y="585"/>
                        </a:lnTo>
                        <a:lnTo>
                          <a:pt x="134" y="572"/>
                        </a:lnTo>
                        <a:lnTo>
                          <a:pt x="118" y="559"/>
                        </a:lnTo>
                        <a:lnTo>
                          <a:pt x="103" y="547"/>
                        </a:lnTo>
                        <a:lnTo>
                          <a:pt x="92" y="535"/>
                        </a:lnTo>
                        <a:lnTo>
                          <a:pt x="86" y="526"/>
                        </a:lnTo>
                        <a:lnTo>
                          <a:pt x="89" y="543"/>
                        </a:lnTo>
                        <a:lnTo>
                          <a:pt x="96" y="563"/>
                        </a:lnTo>
                        <a:lnTo>
                          <a:pt x="106" y="581"/>
                        </a:lnTo>
                        <a:lnTo>
                          <a:pt x="119" y="600"/>
                        </a:lnTo>
                        <a:lnTo>
                          <a:pt x="135" y="617"/>
                        </a:lnTo>
                        <a:lnTo>
                          <a:pt x="153" y="633"/>
                        </a:lnTo>
                        <a:lnTo>
                          <a:pt x="173" y="646"/>
                        </a:lnTo>
                        <a:lnTo>
                          <a:pt x="196" y="657"/>
                        </a:lnTo>
                        <a:lnTo>
                          <a:pt x="212" y="662"/>
                        </a:lnTo>
                        <a:lnTo>
                          <a:pt x="228" y="665"/>
                        </a:lnTo>
                        <a:lnTo>
                          <a:pt x="244" y="668"/>
                        </a:lnTo>
                        <a:lnTo>
                          <a:pt x="261" y="668"/>
                        </a:lnTo>
                        <a:lnTo>
                          <a:pt x="277" y="665"/>
                        </a:lnTo>
                        <a:lnTo>
                          <a:pt x="292" y="662"/>
                        </a:lnTo>
                        <a:lnTo>
                          <a:pt x="308" y="657"/>
                        </a:lnTo>
                        <a:lnTo>
                          <a:pt x="323" y="652"/>
                        </a:lnTo>
                        <a:lnTo>
                          <a:pt x="337" y="644"/>
                        </a:lnTo>
                        <a:lnTo>
                          <a:pt x="352" y="634"/>
                        </a:lnTo>
                        <a:lnTo>
                          <a:pt x="364" y="624"/>
                        </a:lnTo>
                        <a:lnTo>
                          <a:pt x="378" y="611"/>
                        </a:lnTo>
                        <a:lnTo>
                          <a:pt x="390" y="599"/>
                        </a:lnTo>
                        <a:lnTo>
                          <a:pt x="401" y="584"/>
                        </a:lnTo>
                        <a:lnTo>
                          <a:pt x="413" y="568"/>
                        </a:lnTo>
                        <a:lnTo>
                          <a:pt x="422" y="550"/>
                        </a:lnTo>
                        <a:lnTo>
                          <a:pt x="430" y="531"/>
                        </a:lnTo>
                        <a:lnTo>
                          <a:pt x="438" y="505"/>
                        </a:lnTo>
                        <a:lnTo>
                          <a:pt x="445" y="475"/>
                        </a:lnTo>
                        <a:lnTo>
                          <a:pt x="451" y="441"/>
                        </a:lnTo>
                        <a:lnTo>
                          <a:pt x="454" y="406"/>
                        </a:lnTo>
                        <a:lnTo>
                          <a:pt x="454" y="371"/>
                        </a:lnTo>
                        <a:lnTo>
                          <a:pt x="452" y="337"/>
                        </a:lnTo>
                        <a:lnTo>
                          <a:pt x="445" y="306"/>
                        </a:lnTo>
                        <a:lnTo>
                          <a:pt x="434" y="278"/>
                        </a:lnTo>
                        <a:lnTo>
                          <a:pt x="421" y="252"/>
                        </a:lnTo>
                        <a:lnTo>
                          <a:pt x="404" y="229"/>
                        </a:lnTo>
                        <a:lnTo>
                          <a:pt x="387" y="207"/>
                        </a:lnTo>
                        <a:lnTo>
                          <a:pt x="368" y="187"/>
                        </a:lnTo>
                        <a:lnTo>
                          <a:pt x="348" y="171"/>
                        </a:lnTo>
                        <a:lnTo>
                          <a:pt x="326" y="156"/>
                        </a:lnTo>
                        <a:lnTo>
                          <a:pt x="305" y="144"/>
                        </a:lnTo>
                        <a:lnTo>
                          <a:pt x="310" y="139"/>
                        </a:lnTo>
                        <a:lnTo>
                          <a:pt x="316" y="134"/>
                        </a:lnTo>
                        <a:lnTo>
                          <a:pt x="320" y="130"/>
                        </a:lnTo>
                        <a:lnTo>
                          <a:pt x="325" y="124"/>
                        </a:lnTo>
                        <a:lnTo>
                          <a:pt x="319" y="125"/>
                        </a:lnTo>
                        <a:lnTo>
                          <a:pt x="314" y="127"/>
                        </a:lnTo>
                        <a:lnTo>
                          <a:pt x="307" y="129"/>
                        </a:lnTo>
                        <a:lnTo>
                          <a:pt x="301" y="129"/>
                        </a:lnTo>
                        <a:lnTo>
                          <a:pt x="288" y="127"/>
                        </a:lnTo>
                        <a:lnTo>
                          <a:pt x="277" y="124"/>
                        </a:lnTo>
                        <a:lnTo>
                          <a:pt x="266" y="118"/>
                        </a:lnTo>
                        <a:lnTo>
                          <a:pt x="257" y="110"/>
                        </a:lnTo>
                        <a:lnTo>
                          <a:pt x="250" y="102"/>
                        </a:lnTo>
                        <a:lnTo>
                          <a:pt x="244" y="92"/>
                        </a:lnTo>
                        <a:lnTo>
                          <a:pt x="241" y="80"/>
                        </a:lnTo>
                        <a:lnTo>
                          <a:pt x="240" y="68"/>
                        </a:lnTo>
                        <a:lnTo>
                          <a:pt x="241" y="57"/>
                        </a:lnTo>
                        <a:lnTo>
                          <a:pt x="243" y="47"/>
                        </a:lnTo>
                        <a:lnTo>
                          <a:pt x="248" y="36"/>
                        </a:lnTo>
                        <a:lnTo>
                          <a:pt x="254" y="28"/>
                        </a:lnTo>
                        <a:lnTo>
                          <a:pt x="259" y="21"/>
                        </a:lnTo>
                        <a:lnTo>
                          <a:pt x="267" y="16"/>
                        </a:lnTo>
                        <a:lnTo>
                          <a:pt x="277" y="11"/>
                        </a:lnTo>
                        <a:lnTo>
                          <a:pt x="287" y="8"/>
                        </a:lnTo>
                        <a:lnTo>
                          <a:pt x="287" y="8"/>
                        </a:lnTo>
                        <a:lnTo>
                          <a:pt x="287" y="6"/>
                        </a:lnTo>
                        <a:lnTo>
                          <a:pt x="287" y="6"/>
                        </a:lnTo>
                        <a:lnTo>
                          <a:pt x="287" y="6"/>
                        </a:lnTo>
                        <a:lnTo>
                          <a:pt x="272" y="1"/>
                        </a:lnTo>
                        <a:lnTo>
                          <a:pt x="257" y="0"/>
                        </a:lnTo>
                        <a:lnTo>
                          <a:pt x="243" y="0"/>
                        </a:lnTo>
                        <a:lnTo>
                          <a:pt x="229" y="4"/>
                        </a:lnTo>
                        <a:lnTo>
                          <a:pt x="217" y="10"/>
                        </a:lnTo>
                        <a:lnTo>
                          <a:pt x="205" y="19"/>
                        </a:lnTo>
                        <a:lnTo>
                          <a:pt x="196" y="31"/>
                        </a:lnTo>
                        <a:lnTo>
                          <a:pt x="189" y="44"/>
                        </a:lnTo>
                        <a:lnTo>
                          <a:pt x="185" y="66"/>
                        </a:lnTo>
                        <a:lnTo>
                          <a:pt x="187" y="89"/>
                        </a:lnTo>
                        <a:lnTo>
                          <a:pt x="195" y="111"/>
                        </a:lnTo>
                        <a:lnTo>
                          <a:pt x="209" y="130"/>
                        </a:lnTo>
                        <a:lnTo>
                          <a:pt x="201" y="132"/>
                        </a:lnTo>
                        <a:lnTo>
                          <a:pt x="194" y="134"/>
                        </a:lnTo>
                        <a:lnTo>
                          <a:pt x="186" y="137"/>
                        </a:lnTo>
                        <a:lnTo>
                          <a:pt x="179" y="140"/>
                        </a:lnTo>
                        <a:lnTo>
                          <a:pt x="172" y="144"/>
                        </a:lnTo>
                        <a:lnTo>
                          <a:pt x="165" y="147"/>
                        </a:lnTo>
                        <a:lnTo>
                          <a:pt x="158" y="152"/>
                        </a:lnTo>
                        <a:lnTo>
                          <a:pt x="151" y="156"/>
                        </a:lnTo>
                        <a:lnTo>
                          <a:pt x="191" y="2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" name="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28" name=""/>
              <p:cNvGrpSpPr/>
              <p:nvPr/>
            </p:nvGrpSpPr>
            <p:grpSpPr>
              <a:xfrm>
                <a:off x="183240" y="1449360"/>
                <a:ext cx="895680" cy="592200"/>
                <a:chOff x="183240" y="1449360"/>
                <a:chExt cx="895680" cy="59220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708840" y="1618560"/>
                  <a:ext cx="32760" cy="33840"/>
                </a:xfrm>
                <a:custGeom>
                  <a:avLst/>
                  <a:gdLst/>
                  <a:ahLst/>
                  <a:rect l="l" t="t" r="r" b="b"/>
                  <a:pathLst>
                    <a:path w="85" h="92">
                      <a:moveTo>
                        <a:pt x="85" y="92"/>
                      </a:moveTo>
                      <a:lnTo>
                        <a:pt x="85" y="87"/>
                      </a:lnTo>
                      <a:lnTo>
                        <a:pt x="85" y="72"/>
                      </a:lnTo>
                      <a:lnTo>
                        <a:pt x="81" y="52"/>
                      </a:lnTo>
                      <a:lnTo>
                        <a:pt x="73" y="31"/>
                      </a:lnTo>
                      <a:lnTo>
                        <a:pt x="66" y="23"/>
                      </a:lnTo>
                      <a:lnTo>
                        <a:pt x="56" y="15"/>
                      </a:lnTo>
                      <a:lnTo>
                        <a:pt x="43" y="10"/>
                      </a:lnTo>
                      <a:lnTo>
                        <a:pt x="31" y="6"/>
                      </a:lnTo>
                      <a:lnTo>
                        <a:pt x="19" y="4"/>
                      </a:lnTo>
                      <a:lnTo>
                        <a:pt x="9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5" y="4"/>
                      </a:lnTo>
                      <a:lnTo>
                        <a:pt x="11" y="7"/>
                      </a:lnTo>
                      <a:lnTo>
                        <a:pt x="18" y="12"/>
                      </a:lnTo>
                      <a:lnTo>
                        <a:pt x="25" y="17"/>
                      </a:lnTo>
                      <a:lnTo>
                        <a:pt x="33" y="24"/>
                      </a:lnTo>
                      <a:lnTo>
                        <a:pt x="41" y="32"/>
                      </a:lnTo>
                      <a:lnTo>
                        <a:pt x="47" y="42"/>
                      </a:lnTo>
                      <a:lnTo>
                        <a:pt x="53" y="51"/>
                      </a:lnTo>
                      <a:lnTo>
                        <a:pt x="60" y="60"/>
                      </a:lnTo>
                      <a:lnTo>
                        <a:pt x="65" y="69"/>
                      </a:lnTo>
                      <a:lnTo>
                        <a:pt x="71" y="76"/>
                      </a:lnTo>
                      <a:lnTo>
                        <a:pt x="77" y="83"/>
                      </a:lnTo>
                      <a:lnTo>
                        <a:pt x="81" y="88"/>
                      </a:lnTo>
                      <a:lnTo>
                        <a:pt x="84" y="91"/>
                      </a:lnTo>
                      <a:lnTo>
                        <a:pt x="85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grpSp>
              <p:nvGrpSpPr>
                <p:cNvPr id="30" name=""/>
                <p:cNvGrpSpPr/>
                <p:nvPr/>
              </p:nvGrpSpPr>
              <p:grpSpPr>
                <a:xfrm>
                  <a:off x="183240" y="1449360"/>
                  <a:ext cx="895680" cy="592200"/>
                  <a:chOff x="183240" y="1449360"/>
                  <a:chExt cx="895680" cy="59220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>
                    <a:off x="540360" y="1654920"/>
                    <a:ext cx="1846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2" h="163">
                        <a:moveTo>
                          <a:pt x="0" y="4"/>
                        </a:moveTo>
                        <a:lnTo>
                          <a:pt x="5" y="0"/>
                        </a:lnTo>
                        <a:lnTo>
                          <a:pt x="18" y="0"/>
                        </a:lnTo>
                        <a:lnTo>
                          <a:pt x="41" y="2"/>
                        </a:lnTo>
                        <a:lnTo>
                          <a:pt x="71" y="8"/>
                        </a:lnTo>
                        <a:lnTo>
                          <a:pt x="106" y="16"/>
                        </a:lnTo>
                        <a:lnTo>
                          <a:pt x="146" y="25"/>
                        </a:lnTo>
                        <a:lnTo>
                          <a:pt x="188" y="36"/>
                        </a:lnTo>
                        <a:lnTo>
                          <a:pt x="233" y="47"/>
                        </a:lnTo>
                        <a:lnTo>
                          <a:pt x="276" y="59"/>
                        </a:lnTo>
                        <a:lnTo>
                          <a:pt x="318" y="70"/>
                        </a:lnTo>
                        <a:lnTo>
                          <a:pt x="358" y="82"/>
                        </a:lnTo>
                        <a:lnTo>
                          <a:pt x="394" y="91"/>
                        </a:lnTo>
                        <a:lnTo>
                          <a:pt x="424" y="100"/>
                        </a:lnTo>
                        <a:lnTo>
                          <a:pt x="447" y="107"/>
                        </a:lnTo>
                        <a:lnTo>
                          <a:pt x="462" y="112"/>
                        </a:lnTo>
                        <a:lnTo>
                          <a:pt x="468" y="113"/>
                        </a:lnTo>
                        <a:lnTo>
                          <a:pt x="472" y="163"/>
                        </a:lnTo>
                        <a:lnTo>
                          <a:pt x="467" y="161"/>
                        </a:lnTo>
                        <a:lnTo>
                          <a:pt x="453" y="157"/>
                        </a:lnTo>
                        <a:lnTo>
                          <a:pt x="429" y="151"/>
                        </a:lnTo>
                        <a:lnTo>
                          <a:pt x="399" y="142"/>
                        </a:lnTo>
                        <a:lnTo>
                          <a:pt x="364" y="131"/>
                        </a:lnTo>
                        <a:lnTo>
                          <a:pt x="324" y="120"/>
                        </a:lnTo>
                        <a:lnTo>
                          <a:pt x="281" y="108"/>
                        </a:lnTo>
                        <a:lnTo>
                          <a:pt x="237" y="95"/>
                        </a:lnTo>
                        <a:lnTo>
                          <a:pt x="193" y="81"/>
                        </a:lnTo>
                        <a:lnTo>
                          <a:pt x="151" y="68"/>
                        </a:lnTo>
                        <a:lnTo>
                          <a:pt x="111" y="54"/>
                        </a:lnTo>
                        <a:lnTo>
                          <a:pt x="75" y="42"/>
                        </a:lnTo>
                        <a:lnTo>
                          <a:pt x="45" y="30"/>
                        </a:lnTo>
                        <a:lnTo>
                          <a:pt x="21" y="20"/>
                        </a:lnTo>
                        <a:lnTo>
                          <a:pt x="6" y="1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763560" y="1721520"/>
                    <a:ext cx="18792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1" h="277">
                        <a:moveTo>
                          <a:pt x="355" y="241"/>
                        </a:moveTo>
                        <a:lnTo>
                          <a:pt x="375" y="250"/>
                        </a:lnTo>
                        <a:lnTo>
                          <a:pt x="395" y="257"/>
                        </a:lnTo>
                        <a:lnTo>
                          <a:pt x="416" y="263"/>
                        </a:lnTo>
                        <a:lnTo>
                          <a:pt x="437" y="268"/>
                        </a:lnTo>
                        <a:lnTo>
                          <a:pt x="454" y="272"/>
                        </a:lnTo>
                        <a:lnTo>
                          <a:pt x="468" y="274"/>
                        </a:lnTo>
                        <a:lnTo>
                          <a:pt x="477" y="277"/>
                        </a:lnTo>
                        <a:lnTo>
                          <a:pt x="481" y="277"/>
                        </a:lnTo>
                        <a:lnTo>
                          <a:pt x="478" y="275"/>
                        </a:lnTo>
                        <a:lnTo>
                          <a:pt x="471" y="274"/>
                        </a:lnTo>
                        <a:lnTo>
                          <a:pt x="462" y="271"/>
                        </a:lnTo>
                        <a:lnTo>
                          <a:pt x="448" y="265"/>
                        </a:lnTo>
                        <a:lnTo>
                          <a:pt x="432" y="259"/>
                        </a:lnTo>
                        <a:lnTo>
                          <a:pt x="414" y="251"/>
                        </a:lnTo>
                        <a:lnTo>
                          <a:pt x="394" y="241"/>
                        </a:lnTo>
                        <a:lnTo>
                          <a:pt x="373" y="230"/>
                        </a:lnTo>
                        <a:lnTo>
                          <a:pt x="350" y="218"/>
                        </a:lnTo>
                        <a:lnTo>
                          <a:pt x="328" y="203"/>
                        </a:lnTo>
                        <a:lnTo>
                          <a:pt x="307" y="187"/>
                        </a:lnTo>
                        <a:lnTo>
                          <a:pt x="285" y="169"/>
                        </a:lnTo>
                        <a:lnTo>
                          <a:pt x="264" y="150"/>
                        </a:lnTo>
                        <a:lnTo>
                          <a:pt x="245" y="128"/>
                        </a:lnTo>
                        <a:lnTo>
                          <a:pt x="228" y="106"/>
                        </a:lnTo>
                        <a:lnTo>
                          <a:pt x="214" y="81"/>
                        </a:lnTo>
                        <a:lnTo>
                          <a:pt x="209" y="74"/>
                        </a:lnTo>
                        <a:lnTo>
                          <a:pt x="199" y="67"/>
                        </a:lnTo>
                        <a:lnTo>
                          <a:pt x="188" y="59"/>
                        </a:lnTo>
                        <a:lnTo>
                          <a:pt x="172" y="51"/>
                        </a:lnTo>
                        <a:lnTo>
                          <a:pt x="156" y="43"/>
                        </a:lnTo>
                        <a:lnTo>
                          <a:pt x="136" y="35"/>
                        </a:lnTo>
                        <a:lnTo>
                          <a:pt x="118" y="26"/>
                        </a:lnTo>
                        <a:lnTo>
                          <a:pt x="97" y="20"/>
                        </a:lnTo>
                        <a:lnTo>
                          <a:pt x="77" y="14"/>
                        </a:lnTo>
                        <a:lnTo>
                          <a:pt x="59" y="8"/>
                        </a:lnTo>
                        <a:lnTo>
                          <a:pt x="43" y="5"/>
                        </a:lnTo>
                        <a:lnTo>
                          <a:pt x="28" y="1"/>
                        </a:lnTo>
                        <a:lnTo>
                          <a:pt x="15" y="0"/>
                        </a:lnTo>
                        <a:lnTo>
                          <a:pt x="6" y="0"/>
                        </a:lnTo>
                        <a:lnTo>
                          <a:pt x="1" y="2"/>
                        </a:lnTo>
                        <a:lnTo>
                          <a:pt x="0" y="7"/>
                        </a:lnTo>
                        <a:lnTo>
                          <a:pt x="4" y="13"/>
                        </a:lnTo>
                        <a:lnTo>
                          <a:pt x="10" y="18"/>
                        </a:lnTo>
                        <a:lnTo>
                          <a:pt x="21" y="24"/>
                        </a:lnTo>
                        <a:lnTo>
                          <a:pt x="32" y="30"/>
                        </a:lnTo>
                        <a:lnTo>
                          <a:pt x="46" y="37"/>
                        </a:lnTo>
                        <a:lnTo>
                          <a:pt x="61" y="44"/>
                        </a:lnTo>
                        <a:lnTo>
                          <a:pt x="77" y="50"/>
                        </a:lnTo>
                        <a:lnTo>
                          <a:pt x="95" y="56"/>
                        </a:lnTo>
                        <a:lnTo>
                          <a:pt x="111" y="63"/>
                        </a:lnTo>
                        <a:lnTo>
                          <a:pt x="128" y="70"/>
                        </a:lnTo>
                        <a:lnTo>
                          <a:pt x="143" y="77"/>
                        </a:lnTo>
                        <a:lnTo>
                          <a:pt x="158" y="84"/>
                        </a:lnTo>
                        <a:lnTo>
                          <a:pt x="171" y="91"/>
                        </a:lnTo>
                        <a:lnTo>
                          <a:pt x="181" y="98"/>
                        </a:lnTo>
                        <a:lnTo>
                          <a:pt x="189" y="104"/>
                        </a:lnTo>
                        <a:lnTo>
                          <a:pt x="194" y="111"/>
                        </a:lnTo>
                        <a:lnTo>
                          <a:pt x="207" y="133"/>
                        </a:lnTo>
                        <a:lnTo>
                          <a:pt x="226" y="153"/>
                        </a:lnTo>
                        <a:lnTo>
                          <a:pt x="248" y="173"/>
                        </a:lnTo>
                        <a:lnTo>
                          <a:pt x="271" y="190"/>
                        </a:lnTo>
                        <a:lnTo>
                          <a:pt x="295" y="206"/>
                        </a:lnTo>
                        <a:lnTo>
                          <a:pt x="318" y="220"/>
                        </a:lnTo>
                        <a:lnTo>
                          <a:pt x="339" y="232"/>
                        </a:lnTo>
                        <a:lnTo>
                          <a:pt x="355" y="2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" name=""/>
                  <p:cNvGrpSpPr/>
                  <p:nvPr/>
                </p:nvGrpSpPr>
                <p:grpSpPr>
                  <a:xfrm>
                    <a:off x="183240" y="1449360"/>
                    <a:ext cx="895680" cy="592200"/>
                    <a:chOff x="183240" y="1449360"/>
                    <a:chExt cx="895680" cy="592200"/>
                  </a:xfrm>
                </p:grpSpPr>
                <p:sp>
                  <p:nvSpPr>
                    <p:cNvPr id="34" name=""/>
                    <p:cNvSpPr/>
                    <p:nvPr/>
                  </p:nvSpPr>
                  <p:spPr>
                    <a:xfrm>
                      <a:off x="644400" y="1902960"/>
                      <a:ext cx="288000" cy="6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6" h="187">
                          <a:moveTo>
                            <a:pt x="384" y="98"/>
                          </a:moveTo>
                          <a:lnTo>
                            <a:pt x="369" y="91"/>
                          </a:lnTo>
                          <a:lnTo>
                            <a:pt x="353" y="84"/>
                          </a:lnTo>
                          <a:lnTo>
                            <a:pt x="336" y="76"/>
                          </a:lnTo>
                          <a:lnTo>
                            <a:pt x="320" y="68"/>
                          </a:lnTo>
                          <a:lnTo>
                            <a:pt x="304" y="60"/>
                          </a:lnTo>
                          <a:lnTo>
                            <a:pt x="288" y="52"/>
                          </a:lnTo>
                          <a:lnTo>
                            <a:pt x="273" y="44"/>
                          </a:lnTo>
                          <a:lnTo>
                            <a:pt x="258" y="36"/>
                          </a:lnTo>
                          <a:lnTo>
                            <a:pt x="244" y="29"/>
                          </a:lnTo>
                          <a:lnTo>
                            <a:pt x="232" y="22"/>
                          </a:lnTo>
                          <a:lnTo>
                            <a:pt x="221" y="16"/>
                          </a:lnTo>
                          <a:lnTo>
                            <a:pt x="211" y="10"/>
                          </a:lnTo>
                          <a:lnTo>
                            <a:pt x="203" y="6"/>
                          </a:lnTo>
                          <a:lnTo>
                            <a:pt x="197" y="2"/>
                          </a:lnTo>
                          <a:lnTo>
                            <a:pt x="194" y="1"/>
                          </a:lnTo>
                          <a:lnTo>
                            <a:pt x="192" y="0"/>
                          </a:lnTo>
                          <a:lnTo>
                            <a:pt x="192" y="5"/>
                          </a:lnTo>
                          <a:lnTo>
                            <a:pt x="191" y="15"/>
                          </a:lnTo>
                          <a:lnTo>
                            <a:pt x="188" y="31"/>
                          </a:lnTo>
                          <a:lnTo>
                            <a:pt x="182" y="49"/>
                          </a:lnTo>
                          <a:lnTo>
                            <a:pt x="173" y="70"/>
                          </a:lnTo>
                          <a:lnTo>
                            <a:pt x="159" y="89"/>
                          </a:lnTo>
                          <a:lnTo>
                            <a:pt x="141" y="105"/>
                          </a:lnTo>
                          <a:lnTo>
                            <a:pt x="115" y="116"/>
                          </a:lnTo>
                          <a:lnTo>
                            <a:pt x="89" y="126"/>
                          </a:lnTo>
                          <a:lnTo>
                            <a:pt x="66" y="137"/>
                          </a:lnTo>
                          <a:lnTo>
                            <a:pt x="46" y="149"/>
                          </a:lnTo>
                          <a:lnTo>
                            <a:pt x="30" y="160"/>
                          </a:lnTo>
                          <a:lnTo>
                            <a:pt x="17" y="170"/>
                          </a:lnTo>
                          <a:lnTo>
                            <a:pt x="8" y="179"/>
                          </a:lnTo>
                          <a:lnTo>
                            <a:pt x="2" y="184"/>
                          </a:lnTo>
                          <a:lnTo>
                            <a:pt x="0" y="187"/>
                          </a:lnTo>
                          <a:lnTo>
                            <a:pt x="2" y="187"/>
                          </a:lnTo>
                          <a:lnTo>
                            <a:pt x="8" y="187"/>
                          </a:lnTo>
                          <a:lnTo>
                            <a:pt x="18" y="187"/>
                          </a:lnTo>
                          <a:lnTo>
                            <a:pt x="32" y="185"/>
                          </a:lnTo>
                          <a:lnTo>
                            <a:pt x="50" y="184"/>
                          </a:lnTo>
                          <a:lnTo>
                            <a:pt x="70" y="181"/>
                          </a:lnTo>
                          <a:lnTo>
                            <a:pt x="95" y="176"/>
                          </a:lnTo>
                          <a:lnTo>
                            <a:pt x="121" y="169"/>
                          </a:lnTo>
                          <a:lnTo>
                            <a:pt x="146" y="160"/>
                          </a:lnTo>
                          <a:lnTo>
                            <a:pt x="167" y="150"/>
                          </a:lnTo>
                          <a:lnTo>
                            <a:pt x="183" y="138"/>
                          </a:lnTo>
                          <a:lnTo>
                            <a:pt x="197" y="128"/>
                          </a:lnTo>
                          <a:lnTo>
                            <a:pt x="206" y="119"/>
                          </a:lnTo>
                          <a:lnTo>
                            <a:pt x="212" y="111"/>
                          </a:lnTo>
                          <a:lnTo>
                            <a:pt x="216" y="106"/>
                          </a:lnTo>
                          <a:lnTo>
                            <a:pt x="217" y="104"/>
                          </a:lnTo>
                          <a:lnTo>
                            <a:pt x="221" y="104"/>
                          </a:lnTo>
                          <a:lnTo>
                            <a:pt x="233" y="104"/>
                          </a:lnTo>
                          <a:lnTo>
                            <a:pt x="250" y="106"/>
                          </a:lnTo>
                          <a:lnTo>
                            <a:pt x="273" y="108"/>
                          </a:lnTo>
                          <a:lnTo>
                            <a:pt x="300" y="112"/>
                          </a:lnTo>
                          <a:lnTo>
                            <a:pt x="328" y="119"/>
                          </a:lnTo>
                          <a:lnTo>
                            <a:pt x="360" y="127"/>
                          </a:lnTo>
                          <a:lnTo>
                            <a:pt x="389" y="138"/>
                          </a:lnTo>
                          <a:lnTo>
                            <a:pt x="407" y="144"/>
                          </a:lnTo>
                          <a:lnTo>
                            <a:pt x="427" y="149"/>
                          </a:lnTo>
                          <a:lnTo>
                            <a:pt x="451" y="152"/>
                          </a:lnTo>
                          <a:lnTo>
                            <a:pt x="477" y="155"/>
                          </a:lnTo>
                          <a:lnTo>
                            <a:pt x="505" y="158"/>
                          </a:lnTo>
                          <a:lnTo>
                            <a:pt x="535" y="159"/>
                          </a:lnTo>
                          <a:lnTo>
                            <a:pt x="563" y="160"/>
                          </a:lnTo>
                          <a:lnTo>
                            <a:pt x="592" y="160"/>
                          </a:lnTo>
                          <a:lnTo>
                            <a:pt x="621" y="160"/>
                          </a:lnTo>
                          <a:lnTo>
                            <a:pt x="648" y="160"/>
                          </a:lnTo>
                          <a:lnTo>
                            <a:pt x="672" y="159"/>
                          </a:lnTo>
                          <a:lnTo>
                            <a:pt x="694" y="159"/>
                          </a:lnTo>
                          <a:lnTo>
                            <a:pt x="711" y="158"/>
                          </a:lnTo>
                          <a:lnTo>
                            <a:pt x="725" y="158"/>
                          </a:lnTo>
                          <a:lnTo>
                            <a:pt x="733" y="157"/>
                          </a:lnTo>
                          <a:lnTo>
                            <a:pt x="736" y="157"/>
                          </a:lnTo>
                          <a:lnTo>
                            <a:pt x="733" y="157"/>
                          </a:lnTo>
                          <a:lnTo>
                            <a:pt x="725" y="155"/>
                          </a:lnTo>
                          <a:lnTo>
                            <a:pt x="711" y="154"/>
                          </a:lnTo>
                          <a:lnTo>
                            <a:pt x="692" y="152"/>
                          </a:lnTo>
                          <a:lnTo>
                            <a:pt x="671" y="150"/>
                          </a:lnTo>
                          <a:lnTo>
                            <a:pt x="645" y="147"/>
                          </a:lnTo>
                          <a:lnTo>
                            <a:pt x="619" y="144"/>
                          </a:lnTo>
                          <a:lnTo>
                            <a:pt x="590" y="139"/>
                          </a:lnTo>
                          <a:lnTo>
                            <a:pt x="560" y="136"/>
                          </a:lnTo>
                          <a:lnTo>
                            <a:pt x="530" y="131"/>
                          </a:lnTo>
                          <a:lnTo>
                            <a:pt x="501" y="127"/>
                          </a:lnTo>
                          <a:lnTo>
                            <a:pt x="472" y="121"/>
                          </a:lnTo>
                          <a:lnTo>
                            <a:pt x="446" y="115"/>
                          </a:lnTo>
                          <a:lnTo>
                            <a:pt x="422" y="111"/>
                          </a:lnTo>
                          <a:lnTo>
                            <a:pt x="401" y="104"/>
                          </a:lnTo>
                          <a:lnTo>
                            <a:pt x="384" y="9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" name=""/>
                    <p:cNvSpPr/>
                    <p:nvPr/>
                  </p:nvSpPr>
                  <p:spPr>
                    <a:xfrm>
                      <a:off x="762120" y="1833840"/>
                      <a:ext cx="228600" cy="6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5" h="174">
                          <a:moveTo>
                            <a:pt x="210" y="91"/>
                          </a:moveTo>
                          <a:lnTo>
                            <a:pt x="230" y="80"/>
                          </a:lnTo>
                          <a:lnTo>
                            <a:pt x="250" y="66"/>
                          </a:lnTo>
                          <a:lnTo>
                            <a:pt x="269" y="51"/>
                          </a:lnTo>
                          <a:lnTo>
                            <a:pt x="288" y="36"/>
                          </a:lnTo>
                          <a:lnTo>
                            <a:pt x="303" y="22"/>
                          </a:lnTo>
                          <a:lnTo>
                            <a:pt x="315" y="11"/>
                          </a:lnTo>
                          <a:lnTo>
                            <a:pt x="323" y="3"/>
                          </a:lnTo>
                          <a:lnTo>
                            <a:pt x="327" y="0"/>
                          </a:lnTo>
                          <a:lnTo>
                            <a:pt x="585" y="117"/>
                          </a:lnTo>
                          <a:lnTo>
                            <a:pt x="293" y="94"/>
                          </a:lnTo>
                          <a:lnTo>
                            <a:pt x="291" y="95"/>
                          </a:lnTo>
                          <a:lnTo>
                            <a:pt x="286" y="97"/>
                          </a:lnTo>
                          <a:lnTo>
                            <a:pt x="278" y="102"/>
                          </a:lnTo>
                          <a:lnTo>
                            <a:pt x="267" y="107"/>
                          </a:lnTo>
                          <a:lnTo>
                            <a:pt x="254" y="114"/>
                          </a:lnTo>
                          <a:lnTo>
                            <a:pt x="238" y="121"/>
                          </a:lnTo>
                          <a:lnTo>
                            <a:pt x="222" y="130"/>
                          </a:lnTo>
                          <a:lnTo>
                            <a:pt x="204" y="140"/>
                          </a:lnTo>
                          <a:lnTo>
                            <a:pt x="193" y="144"/>
                          </a:lnTo>
                          <a:lnTo>
                            <a:pt x="180" y="149"/>
                          </a:lnTo>
                          <a:lnTo>
                            <a:pt x="167" y="152"/>
                          </a:lnTo>
                          <a:lnTo>
                            <a:pt x="151" y="156"/>
                          </a:lnTo>
                          <a:lnTo>
                            <a:pt x="134" y="159"/>
                          </a:lnTo>
                          <a:lnTo>
                            <a:pt x="117" y="163"/>
                          </a:lnTo>
                          <a:lnTo>
                            <a:pt x="100" y="165"/>
                          </a:lnTo>
                          <a:lnTo>
                            <a:pt x="83" y="167"/>
                          </a:lnTo>
                          <a:lnTo>
                            <a:pt x="66" y="168"/>
                          </a:lnTo>
                          <a:lnTo>
                            <a:pt x="51" y="171"/>
                          </a:lnTo>
                          <a:lnTo>
                            <a:pt x="36" y="172"/>
                          </a:lnTo>
                          <a:lnTo>
                            <a:pt x="25" y="173"/>
                          </a:lnTo>
                          <a:lnTo>
                            <a:pt x="15" y="173"/>
                          </a:lnTo>
                          <a:lnTo>
                            <a:pt x="7" y="174"/>
                          </a:lnTo>
                          <a:lnTo>
                            <a:pt x="2" y="174"/>
                          </a:lnTo>
                          <a:lnTo>
                            <a:pt x="0" y="174"/>
                          </a:lnTo>
                          <a:lnTo>
                            <a:pt x="2" y="173"/>
                          </a:lnTo>
                          <a:lnTo>
                            <a:pt x="7" y="172"/>
                          </a:lnTo>
                          <a:lnTo>
                            <a:pt x="15" y="168"/>
                          </a:lnTo>
                          <a:lnTo>
                            <a:pt x="26" y="165"/>
                          </a:lnTo>
                          <a:lnTo>
                            <a:pt x="39" y="160"/>
                          </a:lnTo>
                          <a:lnTo>
                            <a:pt x="54" y="155"/>
                          </a:lnTo>
                          <a:lnTo>
                            <a:pt x="70" y="149"/>
                          </a:lnTo>
                          <a:lnTo>
                            <a:pt x="87" y="143"/>
                          </a:lnTo>
                          <a:lnTo>
                            <a:pt x="104" y="136"/>
                          </a:lnTo>
                          <a:lnTo>
                            <a:pt x="123" y="129"/>
                          </a:lnTo>
                          <a:lnTo>
                            <a:pt x="140" y="122"/>
                          </a:lnTo>
                          <a:lnTo>
                            <a:pt x="157" y="115"/>
                          </a:lnTo>
                          <a:lnTo>
                            <a:pt x="174" y="109"/>
                          </a:lnTo>
                          <a:lnTo>
                            <a:pt x="187" y="103"/>
                          </a:lnTo>
                          <a:lnTo>
                            <a:pt x="200" y="97"/>
                          </a:lnTo>
                          <a:lnTo>
                            <a:pt x="210" y="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" name=""/>
                    <p:cNvSpPr/>
                    <p:nvPr/>
                  </p:nvSpPr>
                  <p:spPr>
                    <a:xfrm>
                      <a:off x="210240" y="1936080"/>
                      <a:ext cx="65160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3" h="285">
                          <a:moveTo>
                            <a:pt x="1663" y="48"/>
                          </a:moveTo>
                          <a:lnTo>
                            <a:pt x="1660" y="49"/>
                          </a:lnTo>
                          <a:lnTo>
                            <a:pt x="1652" y="54"/>
                          </a:lnTo>
                          <a:lnTo>
                            <a:pt x="1638" y="60"/>
                          </a:lnTo>
                          <a:lnTo>
                            <a:pt x="1621" y="68"/>
                          </a:lnTo>
                          <a:lnTo>
                            <a:pt x="1599" y="77"/>
                          </a:lnTo>
                          <a:lnTo>
                            <a:pt x="1574" y="87"/>
                          </a:lnTo>
                          <a:lnTo>
                            <a:pt x="1546" y="98"/>
                          </a:lnTo>
                          <a:lnTo>
                            <a:pt x="1516" y="109"/>
                          </a:lnTo>
                          <a:lnTo>
                            <a:pt x="1485" y="122"/>
                          </a:lnTo>
                          <a:lnTo>
                            <a:pt x="1451" y="132"/>
                          </a:lnTo>
                          <a:lnTo>
                            <a:pt x="1418" y="144"/>
                          </a:lnTo>
                          <a:lnTo>
                            <a:pt x="1385" y="154"/>
                          </a:lnTo>
                          <a:lnTo>
                            <a:pt x="1351" y="162"/>
                          </a:lnTo>
                          <a:lnTo>
                            <a:pt x="1319" y="169"/>
                          </a:lnTo>
                          <a:lnTo>
                            <a:pt x="1289" y="175"/>
                          </a:lnTo>
                          <a:lnTo>
                            <a:pt x="1260" y="177"/>
                          </a:lnTo>
                          <a:lnTo>
                            <a:pt x="1212" y="179"/>
                          </a:lnTo>
                          <a:lnTo>
                            <a:pt x="1166" y="179"/>
                          </a:lnTo>
                          <a:lnTo>
                            <a:pt x="1123" y="179"/>
                          </a:lnTo>
                          <a:lnTo>
                            <a:pt x="1084" y="178"/>
                          </a:lnTo>
                          <a:lnTo>
                            <a:pt x="1047" y="176"/>
                          </a:lnTo>
                          <a:lnTo>
                            <a:pt x="1014" y="173"/>
                          </a:lnTo>
                          <a:lnTo>
                            <a:pt x="981" y="168"/>
                          </a:lnTo>
                          <a:lnTo>
                            <a:pt x="953" y="163"/>
                          </a:lnTo>
                          <a:lnTo>
                            <a:pt x="925" y="158"/>
                          </a:lnTo>
                          <a:lnTo>
                            <a:pt x="900" y="152"/>
                          </a:lnTo>
                          <a:lnTo>
                            <a:pt x="875" y="145"/>
                          </a:lnTo>
                          <a:lnTo>
                            <a:pt x="853" y="138"/>
                          </a:lnTo>
                          <a:lnTo>
                            <a:pt x="833" y="130"/>
                          </a:lnTo>
                          <a:lnTo>
                            <a:pt x="813" y="122"/>
                          </a:lnTo>
                          <a:lnTo>
                            <a:pt x="795" y="114"/>
                          </a:lnTo>
                          <a:lnTo>
                            <a:pt x="776" y="105"/>
                          </a:lnTo>
                          <a:lnTo>
                            <a:pt x="760" y="96"/>
                          </a:lnTo>
                          <a:lnTo>
                            <a:pt x="743" y="87"/>
                          </a:lnTo>
                          <a:lnTo>
                            <a:pt x="727" y="79"/>
                          </a:lnTo>
                          <a:lnTo>
                            <a:pt x="711" y="70"/>
                          </a:lnTo>
                          <a:lnTo>
                            <a:pt x="694" y="62"/>
                          </a:lnTo>
                          <a:lnTo>
                            <a:pt x="678" y="54"/>
                          </a:lnTo>
                          <a:lnTo>
                            <a:pt x="661" y="46"/>
                          </a:lnTo>
                          <a:lnTo>
                            <a:pt x="644" y="38"/>
                          </a:lnTo>
                          <a:lnTo>
                            <a:pt x="626" y="31"/>
                          </a:lnTo>
                          <a:lnTo>
                            <a:pt x="607" y="24"/>
                          </a:lnTo>
                          <a:lnTo>
                            <a:pt x="587" y="18"/>
                          </a:lnTo>
                          <a:lnTo>
                            <a:pt x="567" y="13"/>
                          </a:lnTo>
                          <a:lnTo>
                            <a:pt x="544" y="9"/>
                          </a:lnTo>
                          <a:lnTo>
                            <a:pt x="519" y="4"/>
                          </a:lnTo>
                          <a:lnTo>
                            <a:pt x="493" y="2"/>
                          </a:lnTo>
                          <a:lnTo>
                            <a:pt x="465" y="0"/>
                          </a:lnTo>
                          <a:lnTo>
                            <a:pt x="408" y="0"/>
                          </a:lnTo>
                          <a:lnTo>
                            <a:pt x="355" y="8"/>
                          </a:lnTo>
                          <a:lnTo>
                            <a:pt x="305" y="20"/>
                          </a:lnTo>
                          <a:lnTo>
                            <a:pt x="259" y="38"/>
                          </a:lnTo>
                          <a:lnTo>
                            <a:pt x="216" y="58"/>
                          </a:lnTo>
                          <a:lnTo>
                            <a:pt x="178" y="83"/>
                          </a:lnTo>
                          <a:lnTo>
                            <a:pt x="144" y="109"/>
                          </a:lnTo>
                          <a:lnTo>
                            <a:pt x="114" y="137"/>
                          </a:lnTo>
                          <a:lnTo>
                            <a:pt x="86" y="164"/>
                          </a:lnTo>
                          <a:lnTo>
                            <a:pt x="63" y="191"/>
                          </a:lnTo>
                          <a:lnTo>
                            <a:pt x="43" y="216"/>
                          </a:lnTo>
                          <a:lnTo>
                            <a:pt x="27" y="238"/>
                          </a:lnTo>
                          <a:lnTo>
                            <a:pt x="16" y="258"/>
                          </a:lnTo>
                          <a:lnTo>
                            <a:pt x="7" y="273"/>
                          </a:lnTo>
                          <a:lnTo>
                            <a:pt x="2" y="282"/>
                          </a:lnTo>
                          <a:lnTo>
                            <a:pt x="0" y="285"/>
                          </a:lnTo>
                          <a:lnTo>
                            <a:pt x="1" y="283"/>
                          </a:lnTo>
                          <a:lnTo>
                            <a:pt x="5" y="277"/>
                          </a:lnTo>
                          <a:lnTo>
                            <a:pt x="14" y="267"/>
                          </a:lnTo>
                          <a:lnTo>
                            <a:pt x="25" y="254"/>
                          </a:lnTo>
                          <a:lnTo>
                            <a:pt x="40" y="239"/>
                          </a:lnTo>
                          <a:lnTo>
                            <a:pt x="58" y="223"/>
                          </a:lnTo>
                          <a:lnTo>
                            <a:pt x="80" y="206"/>
                          </a:lnTo>
                          <a:lnTo>
                            <a:pt x="106" y="188"/>
                          </a:lnTo>
                          <a:lnTo>
                            <a:pt x="134" y="170"/>
                          </a:lnTo>
                          <a:lnTo>
                            <a:pt x="168" y="153"/>
                          </a:lnTo>
                          <a:lnTo>
                            <a:pt x="205" y="137"/>
                          </a:lnTo>
                          <a:lnTo>
                            <a:pt x="245" y="124"/>
                          </a:lnTo>
                          <a:lnTo>
                            <a:pt x="290" y="113"/>
                          </a:lnTo>
                          <a:lnTo>
                            <a:pt x="340" y="105"/>
                          </a:lnTo>
                          <a:lnTo>
                            <a:pt x="393" y="101"/>
                          </a:lnTo>
                          <a:lnTo>
                            <a:pt x="450" y="101"/>
                          </a:lnTo>
                          <a:lnTo>
                            <a:pt x="478" y="103"/>
                          </a:lnTo>
                          <a:lnTo>
                            <a:pt x="504" y="106"/>
                          </a:lnTo>
                          <a:lnTo>
                            <a:pt x="529" y="108"/>
                          </a:lnTo>
                          <a:lnTo>
                            <a:pt x="553" y="113"/>
                          </a:lnTo>
                          <a:lnTo>
                            <a:pt x="575" y="116"/>
                          </a:lnTo>
                          <a:lnTo>
                            <a:pt x="595" y="122"/>
                          </a:lnTo>
                          <a:lnTo>
                            <a:pt x="615" y="126"/>
                          </a:lnTo>
                          <a:lnTo>
                            <a:pt x="635" y="132"/>
                          </a:lnTo>
                          <a:lnTo>
                            <a:pt x="653" y="138"/>
                          </a:lnTo>
                          <a:lnTo>
                            <a:pt x="670" y="145"/>
                          </a:lnTo>
                          <a:lnTo>
                            <a:pt x="689" y="151"/>
                          </a:lnTo>
                          <a:lnTo>
                            <a:pt x="706" y="158"/>
                          </a:lnTo>
                          <a:lnTo>
                            <a:pt x="723" y="164"/>
                          </a:lnTo>
                          <a:lnTo>
                            <a:pt x="742" y="171"/>
                          </a:lnTo>
                          <a:lnTo>
                            <a:pt x="759" y="178"/>
                          </a:lnTo>
                          <a:lnTo>
                            <a:pt x="779" y="184"/>
                          </a:lnTo>
                          <a:lnTo>
                            <a:pt x="797" y="191"/>
                          </a:lnTo>
                          <a:lnTo>
                            <a:pt x="818" y="198"/>
                          </a:lnTo>
                          <a:lnTo>
                            <a:pt x="838" y="204"/>
                          </a:lnTo>
                          <a:lnTo>
                            <a:pt x="861" y="209"/>
                          </a:lnTo>
                          <a:lnTo>
                            <a:pt x="885" y="215"/>
                          </a:lnTo>
                          <a:lnTo>
                            <a:pt x="910" y="220"/>
                          </a:lnTo>
                          <a:lnTo>
                            <a:pt x="936" y="224"/>
                          </a:lnTo>
                          <a:lnTo>
                            <a:pt x="965" y="229"/>
                          </a:lnTo>
                          <a:lnTo>
                            <a:pt x="995" y="232"/>
                          </a:lnTo>
                          <a:lnTo>
                            <a:pt x="1029" y="235"/>
                          </a:lnTo>
                          <a:lnTo>
                            <a:pt x="1063" y="237"/>
                          </a:lnTo>
                          <a:lnTo>
                            <a:pt x="1101" y="238"/>
                          </a:lnTo>
                          <a:lnTo>
                            <a:pt x="1141" y="239"/>
                          </a:lnTo>
                          <a:lnTo>
                            <a:pt x="1184" y="239"/>
                          </a:lnTo>
                          <a:lnTo>
                            <a:pt x="1230" y="238"/>
                          </a:lnTo>
                          <a:lnTo>
                            <a:pt x="1279" y="236"/>
                          </a:lnTo>
                          <a:lnTo>
                            <a:pt x="1307" y="232"/>
                          </a:lnTo>
                          <a:lnTo>
                            <a:pt x="1337" y="226"/>
                          </a:lnTo>
                          <a:lnTo>
                            <a:pt x="1368" y="215"/>
                          </a:lnTo>
                          <a:lnTo>
                            <a:pt x="1400" y="204"/>
                          </a:lnTo>
                          <a:lnTo>
                            <a:pt x="1432" y="189"/>
                          </a:lnTo>
                          <a:lnTo>
                            <a:pt x="1464" y="173"/>
                          </a:lnTo>
                          <a:lnTo>
                            <a:pt x="1495" y="156"/>
                          </a:lnTo>
                          <a:lnTo>
                            <a:pt x="1525" y="139"/>
                          </a:lnTo>
                          <a:lnTo>
                            <a:pt x="1554" y="122"/>
                          </a:lnTo>
                          <a:lnTo>
                            <a:pt x="1580" y="106"/>
                          </a:lnTo>
                          <a:lnTo>
                            <a:pt x="1603" y="90"/>
                          </a:lnTo>
                          <a:lnTo>
                            <a:pt x="1624" y="76"/>
                          </a:lnTo>
                          <a:lnTo>
                            <a:pt x="1640" y="64"/>
                          </a:lnTo>
                          <a:lnTo>
                            <a:pt x="1653" y="56"/>
                          </a:lnTo>
                          <a:lnTo>
                            <a:pt x="1661" y="50"/>
                          </a:lnTo>
                          <a:lnTo>
                            <a:pt x="1663" y="4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" name=""/>
                    <p:cNvSpPr/>
                    <p:nvPr/>
                  </p:nvSpPr>
                  <p:spPr>
                    <a:xfrm>
                      <a:off x="714960" y="1556280"/>
                      <a:ext cx="94680" cy="14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3" h="387">
                          <a:moveTo>
                            <a:pt x="190" y="387"/>
                          </a:moveTo>
                          <a:lnTo>
                            <a:pt x="192" y="369"/>
                          </a:lnTo>
                          <a:lnTo>
                            <a:pt x="197" y="324"/>
                          </a:lnTo>
                          <a:lnTo>
                            <a:pt x="198" y="269"/>
                          </a:lnTo>
                          <a:lnTo>
                            <a:pt x="192" y="221"/>
                          </a:lnTo>
                          <a:lnTo>
                            <a:pt x="185" y="202"/>
                          </a:lnTo>
                          <a:lnTo>
                            <a:pt x="174" y="181"/>
                          </a:lnTo>
                          <a:lnTo>
                            <a:pt x="160" y="160"/>
                          </a:lnTo>
                          <a:lnTo>
                            <a:pt x="144" y="139"/>
                          </a:lnTo>
                          <a:lnTo>
                            <a:pt x="125" y="121"/>
                          </a:lnTo>
                          <a:lnTo>
                            <a:pt x="108" y="101"/>
                          </a:lnTo>
                          <a:lnTo>
                            <a:pt x="91" y="85"/>
                          </a:lnTo>
                          <a:lnTo>
                            <a:pt x="75" y="69"/>
                          </a:lnTo>
                          <a:lnTo>
                            <a:pt x="60" y="54"/>
                          </a:lnTo>
                          <a:lnTo>
                            <a:pt x="46" y="41"/>
                          </a:lnTo>
                          <a:lnTo>
                            <a:pt x="33" y="30"/>
                          </a:lnTo>
                          <a:lnTo>
                            <a:pt x="22" y="20"/>
                          </a:lnTo>
                          <a:lnTo>
                            <a:pt x="12" y="12"/>
                          </a:lnTo>
                          <a:lnTo>
                            <a:pt x="6" y="6"/>
                          </a:lnTo>
                          <a:lnTo>
                            <a:pt x="1" y="2"/>
                          </a:lnTo>
                          <a:lnTo>
                            <a:pt x="0" y="1"/>
                          </a:lnTo>
                          <a:lnTo>
                            <a:pt x="2" y="1"/>
                          </a:lnTo>
                          <a:lnTo>
                            <a:pt x="9" y="0"/>
                          </a:lnTo>
                          <a:lnTo>
                            <a:pt x="19" y="0"/>
                          </a:lnTo>
                          <a:lnTo>
                            <a:pt x="32" y="1"/>
                          </a:lnTo>
                          <a:lnTo>
                            <a:pt x="47" y="3"/>
                          </a:lnTo>
                          <a:lnTo>
                            <a:pt x="63" y="9"/>
                          </a:lnTo>
                          <a:lnTo>
                            <a:pt x="79" y="18"/>
                          </a:lnTo>
                          <a:lnTo>
                            <a:pt x="95" y="31"/>
                          </a:lnTo>
                          <a:lnTo>
                            <a:pt x="113" y="48"/>
                          </a:lnTo>
                          <a:lnTo>
                            <a:pt x="133" y="69"/>
                          </a:lnTo>
                          <a:lnTo>
                            <a:pt x="155" y="93"/>
                          </a:lnTo>
                          <a:lnTo>
                            <a:pt x="178" y="119"/>
                          </a:lnTo>
                          <a:lnTo>
                            <a:pt x="200" y="145"/>
                          </a:lnTo>
                          <a:lnTo>
                            <a:pt x="219" y="171"/>
                          </a:lnTo>
                          <a:lnTo>
                            <a:pt x="234" y="195"/>
                          </a:lnTo>
                          <a:lnTo>
                            <a:pt x="242" y="217"/>
                          </a:lnTo>
                          <a:lnTo>
                            <a:pt x="243" y="239"/>
                          </a:lnTo>
                          <a:lnTo>
                            <a:pt x="239" y="265"/>
                          </a:lnTo>
                          <a:lnTo>
                            <a:pt x="231" y="294"/>
                          </a:lnTo>
                          <a:lnTo>
                            <a:pt x="221" y="322"/>
                          </a:lnTo>
                          <a:lnTo>
                            <a:pt x="209" y="347"/>
                          </a:lnTo>
                          <a:lnTo>
                            <a:pt x="200" y="368"/>
                          </a:lnTo>
                          <a:lnTo>
                            <a:pt x="192" y="381"/>
                          </a:lnTo>
                          <a:lnTo>
                            <a:pt x="190" y="38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" name=""/>
                    <p:cNvSpPr/>
                    <p:nvPr/>
                  </p:nvSpPr>
                  <p:spPr>
                    <a:xfrm>
                      <a:off x="581040" y="1560960"/>
                      <a:ext cx="79920" cy="18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493">
                          <a:moveTo>
                            <a:pt x="45" y="44"/>
                          </a:moveTo>
                          <a:lnTo>
                            <a:pt x="56" y="32"/>
                          </a:lnTo>
                          <a:lnTo>
                            <a:pt x="65" y="21"/>
                          </a:lnTo>
                          <a:lnTo>
                            <a:pt x="76" y="13"/>
                          </a:lnTo>
                          <a:lnTo>
                            <a:pt x="85" y="6"/>
                          </a:lnTo>
                          <a:lnTo>
                            <a:pt x="93" y="2"/>
                          </a:lnTo>
                          <a:lnTo>
                            <a:pt x="100" y="0"/>
                          </a:lnTo>
                          <a:lnTo>
                            <a:pt x="106" y="0"/>
                          </a:lnTo>
                          <a:lnTo>
                            <a:pt x="111" y="2"/>
                          </a:lnTo>
                          <a:lnTo>
                            <a:pt x="113" y="5"/>
                          </a:lnTo>
                          <a:lnTo>
                            <a:pt x="109" y="9"/>
                          </a:lnTo>
                          <a:lnTo>
                            <a:pt x="102" y="13"/>
                          </a:lnTo>
                          <a:lnTo>
                            <a:pt x="92" y="21"/>
                          </a:lnTo>
                          <a:lnTo>
                            <a:pt x="79" y="32"/>
                          </a:lnTo>
                          <a:lnTo>
                            <a:pt x="68" y="46"/>
                          </a:lnTo>
                          <a:lnTo>
                            <a:pt x="56" y="66"/>
                          </a:lnTo>
                          <a:lnTo>
                            <a:pt x="48" y="93"/>
                          </a:lnTo>
                          <a:lnTo>
                            <a:pt x="43" y="124"/>
                          </a:lnTo>
                          <a:lnTo>
                            <a:pt x="41" y="169"/>
                          </a:lnTo>
                          <a:lnTo>
                            <a:pt x="41" y="222"/>
                          </a:lnTo>
                          <a:lnTo>
                            <a:pt x="45" y="280"/>
                          </a:lnTo>
                          <a:lnTo>
                            <a:pt x="51" y="336"/>
                          </a:lnTo>
                          <a:lnTo>
                            <a:pt x="62" y="386"/>
                          </a:lnTo>
                          <a:lnTo>
                            <a:pt x="77" y="426"/>
                          </a:lnTo>
                          <a:lnTo>
                            <a:pt x="98" y="450"/>
                          </a:lnTo>
                          <a:lnTo>
                            <a:pt x="119" y="463"/>
                          </a:lnTo>
                          <a:lnTo>
                            <a:pt x="139" y="473"/>
                          </a:lnTo>
                          <a:lnTo>
                            <a:pt x="157" y="480"/>
                          </a:lnTo>
                          <a:lnTo>
                            <a:pt x="174" y="485"/>
                          </a:lnTo>
                          <a:lnTo>
                            <a:pt x="186" y="488"/>
                          </a:lnTo>
                          <a:lnTo>
                            <a:pt x="197" y="489"/>
                          </a:lnTo>
                          <a:lnTo>
                            <a:pt x="202" y="490"/>
                          </a:lnTo>
                          <a:lnTo>
                            <a:pt x="205" y="490"/>
                          </a:lnTo>
                          <a:lnTo>
                            <a:pt x="201" y="490"/>
                          </a:lnTo>
                          <a:lnTo>
                            <a:pt x="193" y="492"/>
                          </a:lnTo>
                          <a:lnTo>
                            <a:pt x="180" y="493"/>
                          </a:lnTo>
                          <a:lnTo>
                            <a:pt x="163" y="493"/>
                          </a:lnTo>
                          <a:lnTo>
                            <a:pt x="144" y="490"/>
                          </a:lnTo>
                          <a:lnTo>
                            <a:pt x="121" y="486"/>
                          </a:lnTo>
                          <a:lnTo>
                            <a:pt x="98" y="478"/>
                          </a:lnTo>
                          <a:lnTo>
                            <a:pt x="72" y="465"/>
                          </a:lnTo>
                          <a:lnTo>
                            <a:pt x="50" y="442"/>
                          </a:lnTo>
                          <a:lnTo>
                            <a:pt x="32" y="406"/>
                          </a:lnTo>
                          <a:lnTo>
                            <a:pt x="18" y="360"/>
                          </a:lnTo>
                          <a:lnTo>
                            <a:pt x="9" y="308"/>
                          </a:lnTo>
                          <a:lnTo>
                            <a:pt x="2" y="257"/>
                          </a:lnTo>
                          <a:lnTo>
                            <a:pt x="0" y="207"/>
                          </a:lnTo>
                          <a:lnTo>
                            <a:pt x="1" y="164"/>
                          </a:lnTo>
                          <a:lnTo>
                            <a:pt x="4" y="133"/>
                          </a:lnTo>
                          <a:lnTo>
                            <a:pt x="8" y="122"/>
                          </a:lnTo>
                          <a:lnTo>
                            <a:pt x="11" y="109"/>
                          </a:lnTo>
                          <a:lnTo>
                            <a:pt x="15" y="97"/>
                          </a:lnTo>
                          <a:lnTo>
                            <a:pt x="20" y="85"/>
                          </a:lnTo>
                          <a:lnTo>
                            <a:pt x="25" y="73"/>
                          </a:lnTo>
                          <a:lnTo>
                            <a:pt x="32" y="63"/>
                          </a:lnTo>
                          <a:lnTo>
                            <a:pt x="38" y="53"/>
                          </a:lnTo>
                          <a:lnTo>
                            <a:pt x="45" y="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" name=""/>
                    <p:cNvSpPr/>
                    <p:nvPr/>
                  </p:nvSpPr>
                  <p:spPr>
                    <a:xfrm>
                      <a:off x="516960" y="1565280"/>
                      <a:ext cx="95040" cy="5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3" h="162">
                          <a:moveTo>
                            <a:pt x="0" y="150"/>
                          </a:moveTo>
                          <a:lnTo>
                            <a:pt x="5" y="149"/>
                          </a:lnTo>
                          <a:lnTo>
                            <a:pt x="16" y="147"/>
                          </a:lnTo>
                          <a:lnTo>
                            <a:pt x="32" y="142"/>
                          </a:lnTo>
                          <a:lnTo>
                            <a:pt x="53" y="137"/>
                          </a:lnTo>
                          <a:lnTo>
                            <a:pt x="74" y="130"/>
                          </a:lnTo>
                          <a:lnTo>
                            <a:pt x="94" y="122"/>
                          </a:lnTo>
                          <a:lnTo>
                            <a:pt x="112" y="114"/>
                          </a:lnTo>
                          <a:lnTo>
                            <a:pt x="124" y="105"/>
                          </a:lnTo>
                          <a:lnTo>
                            <a:pt x="137" y="94"/>
                          </a:lnTo>
                          <a:lnTo>
                            <a:pt x="154" y="77"/>
                          </a:lnTo>
                          <a:lnTo>
                            <a:pt x="174" y="61"/>
                          </a:lnTo>
                          <a:lnTo>
                            <a:pt x="194" y="43"/>
                          </a:lnTo>
                          <a:lnTo>
                            <a:pt x="212" y="27"/>
                          </a:lnTo>
                          <a:lnTo>
                            <a:pt x="228" y="13"/>
                          </a:lnTo>
                          <a:lnTo>
                            <a:pt x="240" y="4"/>
                          </a:lnTo>
                          <a:lnTo>
                            <a:pt x="243" y="0"/>
                          </a:lnTo>
                          <a:lnTo>
                            <a:pt x="241" y="4"/>
                          </a:lnTo>
                          <a:lnTo>
                            <a:pt x="236" y="13"/>
                          </a:lnTo>
                          <a:lnTo>
                            <a:pt x="228" y="28"/>
                          </a:lnTo>
                          <a:lnTo>
                            <a:pt x="218" y="45"/>
                          </a:lnTo>
                          <a:lnTo>
                            <a:pt x="206" y="65"/>
                          </a:lnTo>
                          <a:lnTo>
                            <a:pt x="194" y="85"/>
                          </a:lnTo>
                          <a:lnTo>
                            <a:pt x="180" y="105"/>
                          </a:lnTo>
                          <a:lnTo>
                            <a:pt x="166" y="124"/>
                          </a:lnTo>
                          <a:lnTo>
                            <a:pt x="160" y="129"/>
                          </a:lnTo>
                          <a:lnTo>
                            <a:pt x="153" y="134"/>
                          </a:lnTo>
                          <a:lnTo>
                            <a:pt x="145" y="137"/>
                          </a:lnTo>
                          <a:lnTo>
                            <a:pt x="138" y="141"/>
                          </a:lnTo>
                          <a:lnTo>
                            <a:pt x="130" y="143"/>
                          </a:lnTo>
                          <a:lnTo>
                            <a:pt x="123" y="145"/>
                          </a:lnTo>
                          <a:lnTo>
                            <a:pt x="118" y="148"/>
                          </a:lnTo>
                          <a:lnTo>
                            <a:pt x="113" y="149"/>
                          </a:lnTo>
                          <a:lnTo>
                            <a:pt x="91" y="157"/>
                          </a:lnTo>
                          <a:lnTo>
                            <a:pt x="69" y="162"/>
                          </a:lnTo>
                          <a:lnTo>
                            <a:pt x="51" y="162"/>
                          </a:lnTo>
                          <a:lnTo>
                            <a:pt x="33" y="160"/>
                          </a:lnTo>
                          <a:lnTo>
                            <a:pt x="20" y="157"/>
                          </a:lnTo>
                          <a:lnTo>
                            <a:pt x="9" y="153"/>
                          </a:lnTo>
                          <a:lnTo>
                            <a:pt x="2" y="151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" name=""/>
                    <p:cNvSpPr/>
                    <p:nvPr/>
                  </p:nvSpPr>
                  <p:spPr>
                    <a:xfrm>
                      <a:off x="555840" y="1725840"/>
                      <a:ext cx="65520" cy="6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180">
                          <a:moveTo>
                            <a:pt x="121" y="0"/>
                          </a:moveTo>
                          <a:lnTo>
                            <a:pt x="119" y="1"/>
                          </a:lnTo>
                          <a:lnTo>
                            <a:pt x="114" y="4"/>
                          </a:lnTo>
                          <a:lnTo>
                            <a:pt x="106" y="9"/>
                          </a:lnTo>
                          <a:lnTo>
                            <a:pt x="96" y="17"/>
                          </a:lnTo>
                          <a:lnTo>
                            <a:pt x="84" y="26"/>
                          </a:lnTo>
                          <a:lnTo>
                            <a:pt x="71" y="38"/>
                          </a:lnTo>
                          <a:lnTo>
                            <a:pt x="57" y="51"/>
                          </a:lnTo>
                          <a:lnTo>
                            <a:pt x="43" y="66"/>
                          </a:lnTo>
                          <a:lnTo>
                            <a:pt x="30" y="84"/>
                          </a:lnTo>
                          <a:lnTo>
                            <a:pt x="21" y="103"/>
                          </a:lnTo>
                          <a:lnTo>
                            <a:pt x="13" y="122"/>
                          </a:lnTo>
                          <a:lnTo>
                            <a:pt x="8" y="140"/>
                          </a:lnTo>
                          <a:lnTo>
                            <a:pt x="4" y="156"/>
                          </a:lnTo>
                          <a:lnTo>
                            <a:pt x="1" y="169"/>
                          </a:lnTo>
                          <a:lnTo>
                            <a:pt x="0" y="177"/>
                          </a:lnTo>
                          <a:lnTo>
                            <a:pt x="0" y="180"/>
                          </a:lnTo>
                          <a:lnTo>
                            <a:pt x="3" y="178"/>
                          </a:lnTo>
                          <a:lnTo>
                            <a:pt x="7" y="172"/>
                          </a:lnTo>
                          <a:lnTo>
                            <a:pt x="15" y="163"/>
                          </a:lnTo>
                          <a:lnTo>
                            <a:pt x="26" y="150"/>
                          </a:lnTo>
                          <a:lnTo>
                            <a:pt x="38" y="137"/>
                          </a:lnTo>
                          <a:lnTo>
                            <a:pt x="52" y="119"/>
                          </a:lnTo>
                          <a:lnTo>
                            <a:pt x="68" y="101"/>
                          </a:lnTo>
                          <a:lnTo>
                            <a:pt x="84" y="80"/>
                          </a:lnTo>
                          <a:lnTo>
                            <a:pt x="98" y="65"/>
                          </a:lnTo>
                          <a:lnTo>
                            <a:pt x="113" y="55"/>
                          </a:lnTo>
                          <a:lnTo>
                            <a:pt x="127" y="47"/>
                          </a:lnTo>
                          <a:lnTo>
                            <a:pt x="140" y="41"/>
                          </a:lnTo>
                          <a:lnTo>
                            <a:pt x="151" y="38"/>
                          </a:lnTo>
                          <a:lnTo>
                            <a:pt x="159" y="35"/>
                          </a:lnTo>
                          <a:lnTo>
                            <a:pt x="165" y="34"/>
                          </a:lnTo>
                          <a:lnTo>
                            <a:pt x="167" y="34"/>
                          </a:lnTo>
                          <a:lnTo>
                            <a:pt x="12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" name=""/>
                    <p:cNvSpPr/>
                    <p:nvPr/>
                  </p:nvSpPr>
                  <p:spPr>
                    <a:xfrm>
                      <a:off x="621720" y="1558800"/>
                      <a:ext cx="84600" cy="11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" h="301">
                          <a:moveTo>
                            <a:pt x="7" y="75"/>
                          </a:moveTo>
                          <a:lnTo>
                            <a:pt x="0" y="55"/>
                          </a:lnTo>
                          <a:lnTo>
                            <a:pt x="2" y="42"/>
                          </a:lnTo>
                          <a:lnTo>
                            <a:pt x="7" y="34"/>
                          </a:lnTo>
                          <a:lnTo>
                            <a:pt x="13" y="29"/>
                          </a:lnTo>
                          <a:lnTo>
                            <a:pt x="12" y="30"/>
                          </a:lnTo>
                          <a:lnTo>
                            <a:pt x="12" y="30"/>
                          </a:lnTo>
                          <a:lnTo>
                            <a:pt x="12" y="31"/>
                          </a:lnTo>
                          <a:lnTo>
                            <a:pt x="12" y="32"/>
                          </a:lnTo>
                          <a:lnTo>
                            <a:pt x="13" y="42"/>
                          </a:lnTo>
                          <a:lnTo>
                            <a:pt x="15" y="50"/>
                          </a:lnTo>
                          <a:lnTo>
                            <a:pt x="20" y="59"/>
                          </a:lnTo>
                          <a:lnTo>
                            <a:pt x="27" y="65"/>
                          </a:lnTo>
                          <a:lnTo>
                            <a:pt x="35" y="71"/>
                          </a:lnTo>
                          <a:lnTo>
                            <a:pt x="44" y="75"/>
                          </a:lnTo>
                          <a:lnTo>
                            <a:pt x="56" y="77"/>
                          </a:lnTo>
                          <a:lnTo>
                            <a:pt x="70" y="77"/>
                          </a:lnTo>
                          <a:lnTo>
                            <a:pt x="76" y="77"/>
                          </a:lnTo>
                          <a:lnTo>
                            <a:pt x="82" y="77"/>
                          </a:lnTo>
                          <a:lnTo>
                            <a:pt x="88" y="76"/>
                          </a:lnTo>
                          <a:lnTo>
                            <a:pt x="94" y="74"/>
                          </a:lnTo>
                          <a:lnTo>
                            <a:pt x="113" y="48"/>
                          </a:lnTo>
                          <a:lnTo>
                            <a:pt x="135" y="29"/>
                          </a:lnTo>
                          <a:lnTo>
                            <a:pt x="155" y="16"/>
                          </a:lnTo>
                          <a:lnTo>
                            <a:pt x="174" y="7"/>
                          </a:lnTo>
                          <a:lnTo>
                            <a:pt x="191" y="2"/>
                          </a:lnTo>
                          <a:lnTo>
                            <a:pt x="204" y="0"/>
                          </a:lnTo>
                          <a:lnTo>
                            <a:pt x="212" y="0"/>
                          </a:lnTo>
                          <a:lnTo>
                            <a:pt x="216" y="0"/>
                          </a:lnTo>
                          <a:lnTo>
                            <a:pt x="214" y="0"/>
                          </a:lnTo>
                          <a:lnTo>
                            <a:pt x="206" y="1"/>
                          </a:lnTo>
                          <a:lnTo>
                            <a:pt x="194" y="7"/>
                          </a:lnTo>
                          <a:lnTo>
                            <a:pt x="179" y="17"/>
                          </a:lnTo>
                          <a:lnTo>
                            <a:pt x="161" y="34"/>
                          </a:lnTo>
                          <a:lnTo>
                            <a:pt x="141" y="62"/>
                          </a:lnTo>
                          <a:lnTo>
                            <a:pt x="120" y="100"/>
                          </a:lnTo>
                          <a:lnTo>
                            <a:pt x="100" y="151"/>
                          </a:lnTo>
                          <a:lnTo>
                            <a:pt x="91" y="176"/>
                          </a:lnTo>
                          <a:lnTo>
                            <a:pt x="83" y="201"/>
                          </a:lnTo>
                          <a:lnTo>
                            <a:pt x="78" y="227"/>
                          </a:lnTo>
                          <a:lnTo>
                            <a:pt x="72" y="250"/>
                          </a:lnTo>
                          <a:lnTo>
                            <a:pt x="68" y="271"/>
                          </a:lnTo>
                          <a:lnTo>
                            <a:pt x="65" y="287"/>
                          </a:lnTo>
                          <a:lnTo>
                            <a:pt x="64" y="297"/>
                          </a:lnTo>
                          <a:lnTo>
                            <a:pt x="63" y="301"/>
                          </a:lnTo>
                          <a:lnTo>
                            <a:pt x="60" y="286"/>
                          </a:lnTo>
                          <a:lnTo>
                            <a:pt x="57" y="248"/>
                          </a:lnTo>
                          <a:lnTo>
                            <a:pt x="57" y="197"/>
                          </a:lnTo>
                          <a:lnTo>
                            <a:pt x="66" y="145"/>
                          </a:lnTo>
                          <a:lnTo>
                            <a:pt x="71" y="123"/>
                          </a:lnTo>
                          <a:lnTo>
                            <a:pt x="71" y="110"/>
                          </a:lnTo>
                          <a:lnTo>
                            <a:pt x="70" y="103"/>
                          </a:lnTo>
                          <a:lnTo>
                            <a:pt x="68" y="101"/>
                          </a:lnTo>
                          <a:lnTo>
                            <a:pt x="66" y="102"/>
                          </a:lnTo>
                          <a:lnTo>
                            <a:pt x="62" y="103"/>
                          </a:lnTo>
                          <a:lnTo>
                            <a:pt x="55" y="105"/>
                          </a:lnTo>
                          <a:lnTo>
                            <a:pt x="45" y="105"/>
                          </a:lnTo>
                          <a:lnTo>
                            <a:pt x="36" y="102"/>
                          </a:lnTo>
                          <a:lnTo>
                            <a:pt x="26" y="98"/>
                          </a:lnTo>
                          <a:lnTo>
                            <a:pt x="15" y="88"/>
                          </a:lnTo>
                          <a:lnTo>
                            <a:pt x="7" y="7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" name=""/>
                    <p:cNvSpPr/>
                    <p:nvPr/>
                  </p:nvSpPr>
                  <p:spPr>
                    <a:xfrm>
                      <a:off x="769680" y="1697760"/>
                      <a:ext cx="309240" cy="12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1" h="334">
                          <a:moveTo>
                            <a:pt x="775" y="334"/>
                          </a:moveTo>
                          <a:lnTo>
                            <a:pt x="773" y="330"/>
                          </a:lnTo>
                          <a:lnTo>
                            <a:pt x="770" y="322"/>
                          </a:lnTo>
                          <a:lnTo>
                            <a:pt x="765" y="310"/>
                          </a:lnTo>
                          <a:lnTo>
                            <a:pt x="758" y="296"/>
                          </a:lnTo>
                          <a:lnTo>
                            <a:pt x="749" y="280"/>
                          </a:lnTo>
                          <a:lnTo>
                            <a:pt x="739" y="265"/>
                          </a:lnTo>
                          <a:lnTo>
                            <a:pt x="727" y="252"/>
                          </a:lnTo>
                          <a:lnTo>
                            <a:pt x="715" y="242"/>
                          </a:lnTo>
                          <a:lnTo>
                            <a:pt x="705" y="237"/>
                          </a:lnTo>
                          <a:lnTo>
                            <a:pt x="692" y="230"/>
                          </a:lnTo>
                          <a:lnTo>
                            <a:pt x="674" y="221"/>
                          </a:lnTo>
                          <a:lnTo>
                            <a:pt x="654" y="212"/>
                          </a:lnTo>
                          <a:lnTo>
                            <a:pt x="629" y="200"/>
                          </a:lnTo>
                          <a:lnTo>
                            <a:pt x="603" y="189"/>
                          </a:lnTo>
                          <a:lnTo>
                            <a:pt x="575" y="176"/>
                          </a:lnTo>
                          <a:lnTo>
                            <a:pt x="546" y="164"/>
                          </a:lnTo>
                          <a:lnTo>
                            <a:pt x="518" y="152"/>
                          </a:lnTo>
                          <a:lnTo>
                            <a:pt x="488" y="140"/>
                          </a:lnTo>
                          <a:lnTo>
                            <a:pt x="460" y="130"/>
                          </a:lnTo>
                          <a:lnTo>
                            <a:pt x="432" y="121"/>
                          </a:lnTo>
                          <a:lnTo>
                            <a:pt x="407" y="113"/>
                          </a:lnTo>
                          <a:lnTo>
                            <a:pt x="384" y="106"/>
                          </a:lnTo>
                          <a:lnTo>
                            <a:pt x="364" y="102"/>
                          </a:lnTo>
                          <a:lnTo>
                            <a:pt x="348" y="100"/>
                          </a:lnTo>
                          <a:lnTo>
                            <a:pt x="329" y="99"/>
                          </a:lnTo>
                          <a:lnTo>
                            <a:pt x="310" y="98"/>
                          </a:lnTo>
                          <a:lnTo>
                            <a:pt x="293" y="95"/>
                          </a:lnTo>
                          <a:lnTo>
                            <a:pt x="277" y="93"/>
                          </a:lnTo>
                          <a:lnTo>
                            <a:pt x="262" y="91"/>
                          </a:lnTo>
                          <a:lnTo>
                            <a:pt x="248" y="88"/>
                          </a:lnTo>
                          <a:lnTo>
                            <a:pt x="235" y="86"/>
                          </a:lnTo>
                          <a:lnTo>
                            <a:pt x="224" y="84"/>
                          </a:lnTo>
                          <a:lnTo>
                            <a:pt x="212" y="80"/>
                          </a:lnTo>
                          <a:lnTo>
                            <a:pt x="201" y="78"/>
                          </a:lnTo>
                          <a:lnTo>
                            <a:pt x="192" y="75"/>
                          </a:lnTo>
                          <a:lnTo>
                            <a:pt x="181" y="72"/>
                          </a:lnTo>
                          <a:lnTo>
                            <a:pt x="172" y="69"/>
                          </a:lnTo>
                          <a:lnTo>
                            <a:pt x="164" y="66"/>
                          </a:lnTo>
                          <a:lnTo>
                            <a:pt x="155" y="63"/>
                          </a:lnTo>
                          <a:lnTo>
                            <a:pt x="147" y="61"/>
                          </a:lnTo>
                          <a:lnTo>
                            <a:pt x="127" y="55"/>
                          </a:lnTo>
                          <a:lnTo>
                            <a:pt x="105" y="46"/>
                          </a:lnTo>
                          <a:lnTo>
                            <a:pt x="81" y="35"/>
                          </a:lnTo>
                          <a:lnTo>
                            <a:pt x="57" y="25"/>
                          </a:lnTo>
                          <a:lnTo>
                            <a:pt x="35" y="16"/>
                          </a:lnTo>
                          <a:lnTo>
                            <a:pt x="16" y="8"/>
                          </a:lnTo>
                          <a:lnTo>
                            <a:pt x="5" y="2"/>
                          </a:lnTo>
                          <a:lnTo>
                            <a:pt x="0" y="0"/>
                          </a:lnTo>
                          <a:lnTo>
                            <a:pt x="6" y="1"/>
                          </a:lnTo>
                          <a:lnTo>
                            <a:pt x="22" y="3"/>
                          </a:lnTo>
                          <a:lnTo>
                            <a:pt x="45" y="5"/>
                          </a:lnTo>
                          <a:lnTo>
                            <a:pt x="74" y="10"/>
                          </a:lnTo>
                          <a:lnTo>
                            <a:pt x="104" y="15"/>
                          </a:lnTo>
                          <a:lnTo>
                            <a:pt x="134" y="20"/>
                          </a:lnTo>
                          <a:lnTo>
                            <a:pt x="160" y="25"/>
                          </a:lnTo>
                          <a:lnTo>
                            <a:pt x="181" y="31"/>
                          </a:lnTo>
                          <a:lnTo>
                            <a:pt x="197" y="34"/>
                          </a:lnTo>
                          <a:lnTo>
                            <a:pt x="212" y="36"/>
                          </a:lnTo>
                          <a:lnTo>
                            <a:pt x="228" y="38"/>
                          </a:lnTo>
                          <a:lnTo>
                            <a:pt x="246" y="38"/>
                          </a:lnTo>
                          <a:lnTo>
                            <a:pt x="266" y="38"/>
                          </a:lnTo>
                          <a:lnTo>
                            <a:pt x="291" y="39"/>
                          </a:lnTo>
                          <a:lnTo>
                            <a:pt x="319" y="41"/>
                          </a:lnTo>
                          <a:lnTo>
                            <a:pt x="354" y="45"/>
                          </a:lnTo>
                          <a:lnTo>
                            <a:pt x="370" y="48"/>
                          </a:lnTo>
                          <a:lnTo>
                            <a:pt x="392" y="53"/>
                          </a:lnTo>
                          <a:lnTo>
                            <a:pt x="417" y="60"/>
                          </a:lnTo>
                          <a:lnTo>
                            <a:pt x="446" y="69"/>
                          </a:lnTo>
                          <a:lnTo>
                            <a:pt x="477" y="78"/>
                          </a:lnTo>
                          <a:lnTo>
                            <a:pt x="510" y="89"/>
                          </a:lnTo>
                          <a:lnTo>
                            <a:pt x="544" y="101"/>
                          </a:lnTo>
                          <a:lnTo>
                            <a:pt x="579" y="114"/>
                          </a:lnTo>
                          <a:lnTo>
                            <a:pt x="612" y="126"/>
                          </a:lnTo>
                          <a:lnTo>
                            <a:pt x="646" y="140"/>
                          </a:lnTo>
                          <a:lnTo>
                            <a:pt x="677" y="153"/>
                          </a:lnTo>
                          <a:lnTo>
                            <a:pt x="704" y="166"/>
                          </a:lnTo>
                          <a:lnTo>
                            <a:pt x="730" y="178"/>
                          </a:lnTo>
                          <a:lnTo>
                            <a:pt x="752" y="190"/>
                          </a:lnTo>
                          <a:lnTo>
                            <a:pt x="768" y="200"/>
                          </a:lnTo>
                          <a:lnTo>
                            <a:pt x="779" y="209"/>
                          </a:lnTo>
                          <a:lnTo>
                            <a:pt x="791" y="242"/>
                          </a:lnTo>
                          <a:lnTo>
                            <a:pt x="787" y="283"/>
                          </a:lnTo>
                          <a:lnTo>
                            <a:pt x="779" y="319"/>
                          </a:lnTo>
                          <a:lnTo>
                            <a:pt x="775" y="33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" name=""/>
                    <p:cNvSpPr/>
                    <p:nvPr/>
                  </p:nvSpPr>
                  <p:spPr>
                    <a:xfrm>
                      <a:off x="475920" y="1846440"/>
                      <a:ext cx="371880" cy="1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348">
                          <a:moveTo>
                            <a:pt x="952" y="0"/>
                          </a:moveTo>
                          <a:lnTo>
                            <a:pt x="948" y="0"/>
                          </a:lnTo>
                          <a:lnTo>
                            <a:pt x="937" y="1"/>
                          </a:lnTo>
                          <a:lnTo>
                            <a:pt x="918" y="2"/>
                          </a:lnTo>
                          <a:lnTo>
                            <a:pt x="893" y="3"/>
                          </a:lnTo>
                          <a:lnTo>
                            <a:pt x="863" y="5"/>
                          </a:lnTo>
                          <a:lnTo>
                            <a:pt x="829" y="9"/>
                          </a:lnTo>
                          <a:lnTo>
                            <a:pt x="791" y="13"/>
                          </a:lnTo>
                          <a:lnTo>
                            <a:pt x="748" y="18"/>
                          </a:lnTo>
                          <a:lnTo>
                            <a:pt x="703" y="24"/>
                          </a:lnTo>
                          <a:lnTo>
                            <a:pt x="657" y="32"/>
                          </a:lnTo>
                          <a:lnTo>
                            <a:pt x="608" y="41"/>
                          </a:lnTo>
                          <a:lnTo>
                            <a:pt x="560" y="52"/>
                          </a:lnTo>
                          <a:lnTo>
                            <a:pt x="512" y="63"/>
                          </a:lnTo>
                          <a:lnTo>
                            <a:pt x="463" y="77"/>
                          </a:lnTo>
                          <a:lnTo>
                            <a:pt x="417" y="92"/>
                          </a:lnTo>
                          <a:lnTo>
                            <a:pt x="373" y="109"/>
                          </a:lnTo>
                          <a:lnTo>
                            <a:pt x="331" y="128"/>
                          </a:lnTo>
                          <a:lnTo>
                            <a:pt x="292" y="147"/>
                          </a:lnTo>
                          <a:lnTo>
                            <a:pt x="254" y="167"/>
                          </a:lnTo>
                          <a:lnTo>
                            <a:pt x="218" y="187"/>
                          </a:lnTo>
                          <a:lnTo>
                            <a:pt x="184" y="207"/>
                          </a:lnTo>
                          <a:lnTo>
                            <a:pt x="155" y="227"/>
                          </a:lnTo>
                          <a:lnTo>
                            <a:pt x="126" y="246"/>
                          </a:lnTo>
                          <a:lnTo>
                            <a:pt x="100" y="265"/>
                          </a:lnTo>
                          <a:lnTo>
                            <a:pt x="77" y="282"/>
                          </a:lnTo>
                          <a:lnTo>
                            <a:pt x="58" y="298"/>
                          </a:lnTo>
                          <a:lnTo>
                            <a:pt x="40" y="312"/>
                          </a:lnTo>
                          <a:lnTo>
                            <a:pt x="27" y="323"/>
                          </a:lnTo>
                          <a:lnTo>
                            <a:pt x="15" y="334"/>
                          </a:lnTo>
                          <a:lnTo>
                            <a:pt x="7" y="342"/>
                          </a:lnTo>
                          <a:lnTo>
                            <a:pt x="1" y="347"/>
                          </a:lnTo>
                          <a:lnTo>
                            <a:pt x="0" y="348"/>
                          </a:lnTo>
                          <a:lnTo>
                            <a:pt x="2" y="347"/>
                          </a:lnTo>
                          <a:lnTo>
                            <a:pt x="9" y="344"/>
                          </a:lnTo>
                          <a:lnTo>
                            <a:pt x="20" y="340"/>
                          </a:lnTo>
                          <a:lnTo>
                            <a:pt x="35" y="334"/>
                          </a:lnTo>
                          <a:lnTo>
                            <a:pt x="53" y="326"/>
                          </a:lnTo>
                          <a:lnTo>
                            <a:pt x="75" y="318"/>
                          </a:lnTo>
                          <a:lnTo>
                            <a:pt x="100" y="307"/>
                          </a:lnTo>
                          <a:lnTo>
                            <a:pt x="128" y="296"/>
                          </a:lnTo>
                          <a:lnTo>
                            <a:pt x="159" y="283"/>
                          </a:lnTo>
                          <a:lnTo>
                            <a:pt x="193" y="270"/>
                          </a:lnTo>
                          <a:lnTo>
                            <a:pt x="228" y="255"/>
                          </a:lnTo>
                          <a:lnTo>
                            <a:pt x="265" y="241"/>
                          </a:lnTo>
                          <a:lnTo>
                            <a:pt x="304" y="224"/>
                          </a:lnTo>
                          <a:lnTo>
                            <a:pt x="345" y="207"/>
                          </a:lnTo>
                          <a:lnTo>
                            <a:pt x="386" y="190"/>
                          </a:lnTo>
                          <a:lnTo>
                            <a:pt x="429" y="173"/>
                          </a:lnTo>
                          <a:lnTo>
                            <a:pt x="473" y="154"/>
                          </a:lnTo>
                          <a:lnTo>
                            <a:pt x="517" y="137"/>
                          </a:lnTo>
                          <a:lnTo>
                            <a:pt x="562" y="121"/>
                          </a:lnTo>
                          <a:lnTo>
                            <a:pt x="607" y="105"/>
                          </a:lnTo>
                          <a:lnTo>
                            <a:pt x="652" y="90"/>
                          </a:lnTo>
                          <a:lnTo>
                            <a:pt x="696" y="76"/>
                          </a:lnTo>
                          <a:lnTo>
                            <a:pt x="738" y="62"/>
                          </a:lnTo>
                          <a:lnTo>
                            <a:pt x="777" y="49"/>
                          </a:lnTo>
                          <a:lnTo>
                            <a:pt x="814" y="39"/>
                          </a:lnTo>
                          <a:lnTo>
                            <a:pt x="847" y="28"/>
                          </a:lnTo>
                          <a:lnTo>
                            <a:pt x="877" y="20"/>
                          </a:lnTo>
                          <a:lnTo>
                            <a:pt x="902" y="13"/>
                          </a:lnTo>
                          <a:lnTo>
                            <a:pt x="923" y="8"/>
                          </a:lnTo>
                          <a:lnTo>
                            <a:pt x="939" y="3"/>
                          </a:lnTo>
                          <a:lnTo>
                            <a:pt x="948" y="1"/>
                          </a:lnTo>
                          <a:lnTo>
                            <a:pt x="95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" name=""/>
                    <p:cNvSpPr/>
                    <p:nvPr/>
                  </p:nvSpPr>
                  <p:spPr>
                    <a:xfrm>
                      <a:off x="183240" y="1759320"/>
                      <a:ext cx="657720" cy="24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0" h="662">
                          <a:moveTo>
                            <a:pt x="1680" y="0"/>
                          </a:moveTo>
                          <a:lnTo>
                            <a:pt x="1679" y="0"/>
                          </a:lnTo>
                          <a:lnTo>
                            <a:pt x="1674" y="1"/>
                          </a:lnTo>
                          <a:lnTo>
                            <a:pt x="1666" y="2"/>
                          </a:lnTo>
                          <a:lnTo>
                            <a:pt x="1656" y="3"/>
                          </a:lnTo>
                          <a:lnTo>
                            <a:pt x="1643" y="5"/>
                          </a:lnTo>
                          <a:lnTo>
                            <a:pt x="1628" y="8"/>
                          </a:lnTo>
                          <a:lnTo>
                            <a:pt x="1611" y="10"/>
                          </a:lnTo>
                          <a:lnTo>
                            <a:pt x="1593" y="12"/>
                          </a:lnTo>
                          <a:lnTo>
                            <a:pt x="1571" y="16"/>
                          </a:lnTo>
                          <a:lnTo>
                            <a:pt x="1548" y="19"/>
                          </a:lnTo>
                          <a:lnTo>
                            <a:pt x="1524" y="23"/>
                          </a:lnTo>
                          <a:lnTo>
                            <a:pt x="1497" y="26"/>
                          </a:lnTo>
                          <a:lnTo>
                            <a:pt x="1471" y="30"/>
                          </a:lnTo>
                          <a:lnTo>
                            <a:pt x="1442" y="33"/>
                          </a:lnTo>
                          <a:lnTo>
                            <a:pt x="1413" y="38"/>
                          </a:lnTo>
                          <a:lnTo>
                            <a:pt x="1383" y="41"/>
                          </a:lnTo>
                          <a:lnTo>
                            <a:pt x="1352" y="44"/>
                          </a:lnTo>
                          <a:lnTo>
                            <a:pt x="1321" y="49"/>
                          </a:lnTo>
                          <a:lnTo>
                            <a:pt x="1290" y="53"/>
                          </a:lnTo>
                          <a:lnTo>
                            <a:pt x="1257" y="57"/>
                          </a:lnTo>
                          <a:lnTo>
                            <a:pt x="1226" y="61"/>
                          </a:lnTo>
                          <a:lnTo>
                            <a:pt x="1194" y="64"/>
                          </a:lnTo>
                          <a:lnTo>
                            <a:pt x="1163" y="68"/>
                          </a:lnTo>
                          <a:lnTo>
                            <a:pt x="1133" y="71"/>
                          </a:lnTo>
                          <a:lnTo>
                            <a:pt x="1102" y="73"/>
                          </a:lnTo>
                          <a:lnTo>
                            <a:pt x="1073" y="77"/>
                          </a:lnTo>
                          <a:lnTo>
                            <a:pt x="1045" y="79"/>
                          </a:lnTo>
                          <a:lnTo>
                            <a:pt x="1018" y="81"/>
                          </a:lnTo>
                          <a:lnTo>
                            <a:pt x="991" y="83"/>
                          </a:lnTo>
                          <a:lnTo>
                            <a:pt x="967" y="84"/>
                          </a:lnTo>
                          <a:lnTo>
                            <a:pt x="944" y="85"/>
                          </a:lnTo>
                          <a:lnTo>
                            <a:pt x="923" y="86"/>
                          </a:lnTo>
                          <a:lnTo>
                            <a:pt x="903" y="86"/>
                          </a:lnTo>
                          <a:lnTo>
                            <a:pt x="879" y="86"/>
                          </a:lnTo>
                          <a:lnTo>
                            <a:pt x="854" y="85"/>
                          </a:lnTo>
                          <a:lnTo>
                            <a:pt x="828" y="84"/>
                          </a:lnTo>
                          <a:lnTo>
                            <a:pt x="801" y="83"/>
                          </a:lnTo>
                          <a:lnTo>
                            <a:pt x="772" y="80"/>
                          </a:lnTo>
                          <a:lnTo>
                            <a:pt x="742" y="78"/>
                          </a:lnTo>
                          <a:lnTo>
                            <a:pt x="711" y="76"/>
                          </a:lnTo>
                          <a:lnTo>
                            <a:pt x="680" y="72"/>
                          </a:lnTo>
                          <a:lnTo>
                            <a:pt x="649" y="70"/>
                          </a:lnTo>
                          <a:lnTo>
                            <a:pt x="617" y="66"/>
                          </a:lnTo>
                          <a:lnTo>
                            <a:pt x="585" y="62"/>
                          </a:lnTo>
                          <a:lnTo>
                            <a:pt x="551" y="58"/>
                          </a:lnTo>
                          <a:lnTo>
                            <a:pt x="519" y="55"/>
                          </a:lnTo>
                          <a:lnTo>
                            <a:pt x="488" y="50"/>
                          </a:lnTo>
                          <a:lnTo>
                            <a:pt x="456" y="47"/>
                          </a:lnTo>
                          <a:lnTo>
                            <a:pt x="426" y="42"/>
                          </a:lnTo>
                          <a:lnTo>
                            <a:pt x="396" y="39"/>
                          </a:lnTo>
                          <a:lnTo>
                            <a:pt x="366" y="34"/>
                          </a:lnTo>
                          <a:lnTo>
                            <a:pt x="338" y="31"/>
                          </a:lnTo>
                          <a:lnTo>
                            <a:pt x="311" y="27"/>
                          </a:lnTo>
                          <a:lnTo>
                            <a:pt x="286" y="24"/>
                          </a:lnTo>
                          <a:lnTo>
                            <a:pt x="262" y="20"/>
                          </a:lnTo>
                          <a:lnTo>
                            <a:pt x="241" y="17"/>
                          </a:lnTo>
                          <a:lnTo>
                            <a:pt x="220" y="13"/>
                          </a:lnTo>
                          <a:lnTo>
                            <a:pt x="203" y="11"/>
                          </a:lnTo>
                          <a:lnTo>
                            <a:pt x="187" y="9"/>
                          </a:lnTo>
                          <a:lnTo>
                            <a:pt x="174" y="6"/>
                          </a:lnTo>
                          <a:lnTo>
                            <a:pt x="164" y="5"/>
                          </a:lnTo>
                          <a:lnTo>
                            <a:pt x="156" y="4"/>
                          </a:lnTo>
                          <a:lnTo>
                            <a:pt x="151" y="3"/>
                          </a:lnTo>
                          <a:lnTo>
                            <a:pt x="150" y="3"/>
                          </a:lnTo>
                          <a:lnTo>
                            <a:pt x="143" y="9"/>
                          </a:lnTo>
                          <a:lnTo>
                            <a:pt x="127" y="26"/>
                          </a:lnTo>
                          <a:lnTo>
                            <a:pt x="103" y="56"/>
                          </a:lnTo>
                          <a:lnTo>
                            <a:pt x="75" y="95"/>
                          </a:lnTo>
                          <a:lnTo>
                            <a:pt x="48" y="145"/>
                          </a:lnTo>
                          <a:lnTo>
                            <a:pt x="23" y="205"/>
                          </a:lnTo>
                          <a:lnTo>
                            <a:pt x="7" y="274"/>
                          </a:lnTo>
                          <a:lnTo>
                            <a:pt x="0" y="352"/>
                          </a:lnTo>
                          <a:lnTo>
                            <a:pt x="7" y="428"/>
                          </a:lnTo>
                          <a:lnTo>
                            <a:pt x="26" y="493"/>
                          </a:lnTo>
                          <a:lnTo>
                            <a:pt x="52" y="547"/>
                          </a:lnTo>
                          <a:lnTo>
                            <a:pt x="83" y="590"/>
                          </a:lnTo>
                          <a:lnTo>
                            <a:pt x="113" y="622"/>
                          </a:lnTo>
                          <a:lnTo>
                            <a:pt x="140" y="645"/>
                          </a:lnTo>
                          <a:lnTo>
                            <a:pt x="158" y="658"/>
                          </a:lnTo>
                          <a:lnTo>
                            <a:pt x="165" y="662"/>
                          </a:lnTo>
                          <a:lnTo>
                            <a:pt x="161" y="653"/>
                          </a:lnTo>
                          <a:lnTo>
                            <a:pt x="150" y="628"/>
                          </a:lnTo>
                          <a:lnTo>
                            <a:pt x="136" y="590"/>
                          </a:lnTo>
                          <a:lnTo>
                            <a:pt x="119" y="541"/>
                          </a:lnTo>
                          <a:lnTo>
                            <a:pt x="104" y="487"/>
                          </a:lnTo>
                          <a:lnTo>
                            <a:pt x="91" y="429"/>
                          </a:lnTo>
                          <a:lnTo>
                            <a:pt x="86" y="372"/>
                          </a:lnTo>
                          <a:lnTo>
                            <a:pt x="87" y="318"/>
                          </a:lnTo>
                          <a:lnTo>
                            <a:pt x="98" y="255"/>
                          </a:lnTo>
                          <a:lnTo>
                            <a:pt x="113" y="205"/>
                          </a:lnTo>
                          <a:lnTo>
                            <a:pt x="132" y="165"/>
                          </a:lnTo>
                          <a:lnTo>
                            <a:pt x="150" y="136"/>
                          </a:lnTo>
                          <a:lnTo>
                            <a:pt x="169" y="115"/>
                          </a:lnTo>
                          <a:lnTo>
                            <a:pt x="184" y="101"/>
                          </a:lnTo>
                          <a:lnTo>
                            <a:pt x="194" y="94"/>
                          </a:lnTo>
                          <a:lnTo>
                            <a:pt x="197" y="92"/>
                          </a:lnTo>
                          <a:lnTo>
                            <a:pt x="203" y="93"/>
                          </a:lnTo>
                          <a:lnTo>
                            <a:pt x="219" y="95"/>
                          </a:lnTo>
                          <a:lnTo>
                            <a:pt x="245" y="100"/>
                          </a:lnTo>
                          <a:lnTo>
                            <a:pt x="278" y="106"/>
                          </a:lnTo>
                          <a:lnTo>
                            <a:pt x="318" y="111"/>
                          </a:lnTo>
                          <a:lnTo>
                            <a:pt x="366" y="118"/>
                          </a:lnTo>
                          <a:lnTo>
                            <a:pt x="417" y="126"/>
                          </a:lnTo>
                          <a:lnTo>
                            <a:pt x="473" y="133"/>
                          </a:lnTo>
                          <a:lnTo>
                            <a:pt x="530" y="141"/>
                          </a:lnTo>
                          <a:lnTo>
                            <a:pt x="590" y="148"/>
                          </a:lnTo>
                          <a:lnTo>
                            <a:pt x="650" y="154"/>
                          </a:lnTo>
                          <a:lnTo>
                            <a:pt x="709" y="160"/>
                          </a:lnTo>
                          <a:lnTo>
                            <a:pt x="767" y="163"/>
                          </a:lnTo>
                          <a:lnTo>
                            <a:pt x="822" y="165"/>
                          </a:lnTo>
                          <a:lnTo>
                            <a:pt x="873" y="165"/>
                          </a:lnTo>
                          <a:lnTo>
                            <a:pt x="918" y="164"/>
                          </a:lnTo>
                          <a:lnTo>
                            <a:pt x="956" y="162"/>
                          </a:lnTo>
                          <a:lnTo>
                            <a:pt x="994" y="159"/>
                          </a:lnTo>
                          <a:lnTo>
                            <a:pt x="1030" y="154"/>
                          </a:lnTo>
                          <a:lnTo>
                            <a:pt x="1067" y="149"/>
                          </a:lnTo>
                          <a:lnTo>
                            <a:pt x="1104" y="145"/>
                          </a:lnTo>
                          <a:lnTo>
                            <a:pt x="1140" y="139"/>
                          </a:lnTo>
                          <a:lnTo>
                            <a:pt x="1174" y="133"/>
                          </a:lnTo>
                          <a:lnTo>
                            <a:pt x="1209" y="127"/>
                          </a:lnTo>
                          <a:lnTo>
                            <a:pt x="1242" y="121"/>
                          </a:lnTo>
                          <a:lnTo>
                            <a:pt x="1276" y="115"/>
                          </a:lnTo>
                          <a:lnTo>
                            <a:pt x="1308" y="108"/>
                          </a:lnTo>
                          <a:lnTo>
                            <a:pt x="1338" y="101"/>
                          </a:lnTo>
                          <a:lnTo>
                            <a:pt x="1369" y="93"/>
                          </a:lnTo>
                          <a:lnTo>
                            <a:pt x="1398" y="86"/>
                          </a:lnTo>
                          <a:lnTo>
                            <a:pt x="1426" y="79"/>
                          </a:lnTo>
                          <a:lnTo>
                            <a:pt x="1452" y="72"/>
                          </a:lnTo>
                          <a:lnTo>
                            <a:pt x="1477" y="65"/>
                          </a:lnTo>
                          <a:lnTo>
                            <a:pt x="1502" y="58"/>
                          </a:lnTo>
                          <a:lnTo>
                            <a:pt x="1525" y="51"/>
                          </a:lnTo>
                          <a:lnTo>
                            <a:pt x="1547" y="44"/>
                          </a:lnTo>
                          <a:lnTo>
                            <a:pt x="1567" y="39"/>
                          </a:lnTo>
                          <a:lnTo>
                            <a:pt x="1586" y="33"/>
                          </a:lnTo>
                          <a:lnTo>
                            <a:pt x="1603" y="27"/>
                          </a:lnTo>
                          <a:lnTo>
                            <a:pt x="1618" y="21"/>
                          </a:lnTo>
                          <a:lnTo>
                            <a:pt x="1633" y="17"/>
                          </a:lnTo>
                          <a:lnTo>
                            <a:pt x="1645" y="12"/>
                          </a:lnTo>
                          <a:lnTo>
                            <a:pt x="1656" y="9"/>
                          </a:lnTo>
                          <a:lnTo>
                            <a:pt x="1664" y="5"/>
                          </a:lnTo>
                          <a:lnTo>
                            <a:pt x="1671" y="3"/>
                          </a:lnTo>
                          <a:lnTo>
                            <a:pt x="1676" y="1"/>
                          </a:lnTo>
                          <a:lnTo>
                            <a:pt x="1679" y="0"/>
                          </a:lnTo>
                          <a:lnTo>
                            <a:pt x="168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" name=""/>
                    <p:cNvSpPr/>
                    <p:nvPr/>
                  </p:nvSpPr>
                  <p:spPr>
                    <a:xfrm>
                      <a:off x="376560" y="1741680"/>
                      <a:ext cx="21060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9" h="91">
                          <a:moveTo>
                            <a:pt x="539" y="0"/>
                          </a:moveTo>
                          <a:lnTo>
                            <a:pt x="537" y="0"/>
                          </a:lnTo>
                          <a:lnTo>
                            <a:pt x="531" y="2"/>
                          </a:lnTo>
                          <a:lnTo>
                            <a:pt x="523" y="4"/>
                          </a:lnTo>
                          <a:lnTo>
                            <a:pt x="510" y="7"/>
                          </a:lnTo>
                          <a:lnTo>
                            <a:pt x="496" y="11"/>
                          </a:lnTo>
                          <a:lnTo>
                            <a:pt x="479" y="14"/>
                          </a:lnTo>
                          <a:lnTo>
                            <a:pt x="461" y="17"/>
                          </a:lnTo>
                          <a:lnTo>
                            <a:pt x="440" y="22"/>
                          </a:lnTo>
                          <a:lnTo>
                            <a:pt x="418" y="26"/>
                          </a:lnTo>
                          <a:lnTo>
                            <a:pt x="396" y="30"/>
                          </a:lnTo>
                          <a:lnTo>
                            <a:pt x="373" y="34"/>
                          </a:lnTo>
                          <a:lnTo>
                            <a:pt x="349" y="37"/>
                          </a:lnTo>
                          <a:lnTo>
                            <a:pt x="326" y="40"/>
                          </a:lnTo>
                          <a:lnTo>
                            <a:pt x="304" y="44"/>
                          </a:lnTo>
                          <a:lnTo>
                            <a:pt x="282" y="46"/>
                          </a:lnTo>
                          <a:lnTo>
                            <a:pt x="261" y="47"/>
                          </a:lnTo>
                          <a:lnTo>
                            <a:pt x="240" y="49"/>
                          </a:lnTo>
                          <a:lnTo>
                            <a:pt x="219" y="51"/>
                          </a:lnTo>
                          <a:lnTo>
                            <a:pt x="196" y="52"/>
                          </a:lnTo>
                          <a:lnTo>
                            <a:pt x="174" y="54"/>
                          </a:lnTo>
                          <a:lnTo>
                            <a:pt x="152" y="57"/>
                          </a:lnTo>
                          <a:lnTo>
                            <a:pt x="130" y="59"/>
                          </a:lnTo>
                          <a:lnTo>
                            <a:pt x="109" y="61"/>
                          </a:lnTo>
                          <a:lnTo>
                            <a:pt x="90" y="64"/>
                          </a:lnTo>
                          <a:lnTo>
                            <a:pt x="70" y="66"/>
                          </a:lnTo>
                          <a:lnTo>
                            <a:pt x="54" y="68"/>
                          </a:lnTo>
                          <a:lnTo>
                            <a:pt x="38" y="70"/>
                          </a:lnTo>
                          <a:lnTo>
                            <a:pt x="25" y="72"/>
                          </a:lnTo>
                          <a:lnTo>
                            <a:pt x="15" y="73"/>
                          </a:lnTo>
                          <a:lnTo>
                            <a:pt x="7" y="74"/>
                          </a:lnTo>
                          <a:lnTo>
                            <a:pt x="1" y="75"/>
                          </a:lnTo>
                          <a:lnTo>
                            <a:pt x="0" y="75"/>
                          </a:lnTo>
                          <a:lnTo>
                            <a:pt x="1" y="75"/>
                          </a:lnTo>
                          <a:lnTo>
                            <a:pt x="5" y="76"/>
                          </a:lnTo>
                          <a:lnTo>
                            <a:pt x="12" y="77"/>
                          </a:lnTo>
                          <a:lnTo>
                            <a:pt x="22" y="79"/>
                          </a:lnTo>
                          <a:lnTo>
                            <a:pt x="33" y="80"/>
                          </a:lnTo>
                          <a:lnTo>
                            <a:pt x="47" y="81"/>
                          </a:lnTo>
                          <a:lnTo>
                            <a:pt x="62" y="83"/>
                          </a:lnTo>
                          <a:lnTo>
                            <a:pt x="79" y="84"/>
                          </a:lnTo>
                          <a:lnTo>
                            <a:pt x="98" y="87"/>
                          </a:lnTo>
                          <a:lnTo>
                            <a:pt x="116" y="88"/>
                          </a:lnTo>
                          <a:lnTo>
                            <a:pt x="137" y="89"/>
                          </a:lnTo>
                          <a:lnTo>
                            <a:pt x="158" y="90"/>
                          </a:lnTo>
                          <a:lnTo>
                            <a:pt x="178" y="91"/>
                          </a:lnTo>
                          <a:lnTo>
                            <a:pt x="199" y="91"/>
                          </a:lnTo>
                          <a:lnTo>
                            <a:pt x="221" y="91"/>
                          </a:lnTo>
                          <a:lnTo>
                            <a:pt x="242" y="90"/>
                          </a:lnTo>
                          <a:lnTo>
                            <a:pt x="258" y="89"/>
                          </a:lnTo>
                          <a:lnTo>
                            <a:pt x="276" y="88"/>
                          </a:lnTo>
                          <a:lnTo>
                            <a:pt x="295" y="85"/>
                          </a:lnTo>
                          <a:lnTo>
                            <a:pt x="314" y="83"/>
                          </a:lnTo>
                          <a:lnTo>
                            <a:pt x="333" y="81"/>
                          </a:lnTo>
                          <a:lnTo>
                            <a:pt x="352" y="77"/>
                          </a:lnTo>
                          <a:lnTo>
                            <a:pt x="372" y="75"/>
                          </a:lnTo>
                          <a:lnTo>
                            <a:pt x="390" y="72"/>
                          </a:lnTo>
                          <a:lnTo>
                            <a:pt x="408" y="69"/>
                          </a:lnTo>
                          <a:lnTo>
                            <a:pt x="424" y="67"/>
                          </a:lnTo>
                          <a:lnTo>
                            <a:pt x="439" y="65"/>
                          </a:lnTo>
                          <a:lnTo>
                            <a:pt x="451" y="62"/>
                          </a:lnTo>
                          <a:lnTo>
                            <a:pt x="462" y="60"/>
                          </a:lnTo>
                          <a:lnTo>
                            <a:pt x="469" y="59"/>
                          </a:lnTo>
                          <a:lnTo>
                            <a:pt x="474" y="58"/>
                          </a:lnTo>
                          <a:lnTo>
                            <a:pt x="476" y="58"/>
                          </a:lnTo>
                          <a:lnTo>
                            <a:pt x="53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" name=""/>
                    <p:cNvSpPr/>
                    <p:nvPr/>
                  </p:nvSpPr>
                  <p:spPr>
                    <a:xfrm>
                      <a:off x="718920" y="1668960"/>
                      <a:ext cx="56160" cy="6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179">
                          <a:moveTo>
                            <a:pt x="76" y="0"/>
                          </a:moveTo>
                          <a:lnTo>
                            <a:pt x="68" y="6"/>
                          </a:lnTo>
                          <a:lnTo>
                            <a:pt x="61" y="13"/>
                          </a:lnTo>
                          <a:lnTo>
                            <a:pt x="55" y="21"/>
                          </a:lnTo>
                          <a:lnTo>
                            <a:pt x="50" y="30"/>
                          </a:lnTo>
                          <a:lnTo>
                            <a:pt x="46" y="39"/>
                          </a:lnTo>
                          <a:lnTo>
                            <a:pt x="43" y="50"/>
                          </a:lnTo>
                          <a:lnTo>
                            <a:pt x="42" y="60"/>
                          </a:lnTo>
                          <a:lnTo>
                            <a:pt x="40" y="71"/>
                          </a:lnTo>
                          <a:lnTo>
                            <a:pt x="42" y="87"/>
                          </a:lnTo>
                          <a:lnTo>
                            <a:pt x="46" y="102"/>
                          </a:lnTo>
                          <a:lnTo>
                            <a:pt x="53" y="115"/>
                          </a:lnTo>
                          <a:lnTo>
                            <a:pt x="61" y="127"/>
                          </a:lnTo>
                          <a:lnTo>
                            <a:pt x="73" y="136"/>
                          </a:lnTo>
                          <a:lnTo>
                            <a:pt x="84" y="143"/>
                          </a:lnTo>
                          <a:lnTo>
                            <a:pt x="98" y="147"/>
                          </a:lnTo>
                          <a:lnTo>
                            <a:pt x="113" y="148"/>
                          </a:lnTo>
                          <a:lnTo>
                            <a:pt x="121" y="147"/>
                          </a:lnTo>
                          <a:lnTo>
                            <a:pt x="129" y="144"/>
                          </a:lnTo>
                          <a:lnTo>
                            <a:pt x="137" y="141"/>
                          </a:lnTo>
                          <a:lnTo>
                            <a:pt x="144" y="137"/>
                          </a:lnTo>
                          <a:lnTo>
                            <a:pt x="138" y="147"/>
                          </a:lnTo>
                          <a:lnTo>
                            <a:pt x="132" y="154"/>
                          </a:lnTo>
                          <a:lnTo>
                            <a:pt x="122" y="160"/>
                          </a:lnTo>
                          <a:lnTo>
                            <a:pt x="113" y="166"/>
                          </a:lnTo>
                          <a:lnTo>
                            <a:pt x="103" y="172"/>
                          </a:lnTo>
                          <a:lnTo>
                            <a:pt x="92" y="175"/>
                          </a:lnTo>
                          <a:lnTo>
                            <a:pt x="82" y="178"/>
                          </a:lnTo>
                          <a:lnTo>
                            <a:pt x="73" y="179"/>
                          </a:lnTo>
                          <a:lnTo>
                            <a:pt x="58" y="178"/>
                          </a:lnTo>
                          <a:lnTo>
                            <a:pt x="44" y="173"/>
                          </a:lnTo>
                          <a:lnTo>
                            <a:pt x="32" y="166"/>
                          </a:lnTo>
                          <a:lnTo>
                            <a:pt x="21" y="156"/>
                          </a:lnTo>
                          <a:lnTo>
                            <a:pt x="13" y="143"/>
                          </a:lnTo>
                          <a:lnTo>
                            <a:pt x="6" y="128"/>
                          </a:lnTo>
                          <a:lnTo>
                            <a:pt x="1" y="111"/>
                          </a:lnTo>
                          <a:lnTo>
                            <a:pt x="0" y="92"/>
                          </a:lnTo>
                          <a:lnTo>
                            <a:pt x="2" y="76"/>
                          </a:lnTo>
                          <a:lnTo>
                            <a:pt x="7" y="60"/>
                          </a:lnTo>
                          <a:lnTo>
                            <a:pt x="15" y="45"/>
                          </a:lnTo>
                          <a:lnTo>
                            <a:pt x="24" y="33"/>
                          </a:lnTo>
                          <a:lnTo>
                            <a:pt x="36" y="21"/>
                          </a:lnTo>
                          <a:lnTo>
                            <a:pt x="50" y="12"/>
                          </a:lnTo>
                          <a:lnTo>
                            <a:pt x="62" y="5"/>
                          </a:lnTo>
                          <a:lnTo>
                            <a:pt x="76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" name=""/>
                    <p:cNvSpPr/>
                    <p:nvPr/>
                  </p:nvSpPr>
                  <p:spPr>
                    <a:xfrm>
                      <a:off x="473760" y="1615680"/>
                      <a:ext cx="5472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1" h="168">
                          <a:moveTo>
                            <a:pt x="84" y="0"/>
                          </a:moveTo>
                          <a:lnTo>
                            <a:pt x="76" y="5"/>
                          </a:lnTo>
                          <a:lnTo>
                            <a:pt x="68" y="11"/>
                          </a:lnTo>
                          <a:lnTo>
                            <a:pt x="61" y="17"/>
                          </a:lnTo>
                          <a:lnTo>
                            <a:pt x="56" y="24"/>
                          </a:lnTo>
                          <a:lnTo>
                            <a:pt x="50" y="32"/>
                          </a:lnTo>
                          <a:lnTo>
                            <a:pt x="46" y="42"/>
                          </a:lnTo>
                          <a:lnTo>
                            <a:pt x="43" y="51"/>
                          </a:lnTo>
                          <a:lnTo>
                            <a:pt x="42" y="60"/>
                          </a:lnTo>
                          <a:lnTo>
                            <a:pt x="42" y="75"/>
                          </a:lnTo>
                          <a:lnTo>
                            <a:pt x="44" y="90"/>
                          </a:lnTo>
                          <a:lnTo>
                            <a:pt x="50" y="104"/>
                          </a:lnTo>
                          <a:lnTo>
                            <a:pt x="58" y="115"/>
                          </a:lnTo>
                          <a:lnTo>
                            <a:pt x="68" y="126"/>
                          </a:lnTo>
                          <a:lnTo>
                            <a:pt x="80" y="134"/>
                          </a:lnTo>
                          <a:lnTo>
                            <a:pt x="94" y="140"/>
                          </a:lnTo>
                          <a:lnTo>
                            <a:pt x="109" y="143"/>
                          </a:lnTo>
                          <a:lnTo>
                            <a:pt x="117" y="143"/>
                          </a:lnTo>
                          <a:lnTo>
                            <a:pt x="125" y="142"/>
                          </a:lnTo>
                          <a:lnTo>
                            <a:pt x="133" y="141"/>
                          </a:lnTo>
                          <a:lnTo>
                            <a:pt x="141" y="138"/>
                          </a:lnTo>
                          <a:lnTo>
                            <a:pt x="134" y="145"/>
                          </a:lnTo>
                          <a:lnTo>
                            <a:pt x="126" y="152"/>
                          </a:lnTo>
                          <a:lnTo>
                            <a:pt x="117" y="157"/>
                          </a:lnTo>
                          <a:lnTo>
                            <a:pt x="108" y="162"/>
                          </a:lnTo>
                          <a:lnTo>
                            <a:pt x="96" y="165"/>
                          </a:lnTo>
                          <a:lnTo>
                            <a:pt x="86" y="167"/>
                          </a:lnTo>
                          <a:lnTo>
                            <a:pt x="75" y="168"/>
                          </a:lnTo>
                          <a:lnTo>
                            <a:pt x="66" y="168"/>
                          </a:lnTo>
                          <a:lnTo>
                            <a:pt x="51" y="165"/>
                          </a:lnTo>
                          <a:lnTo>
                            <a:pt x="37" y="159"/>
                          </a:lnTo>
                          <a:lnTo>
                            <a:pt x="26" y="150"/>
                          </a:lnTo>
                          <a:lnTo>
                            <a:pt x="17" y="138"/>
                          </a:lnTo>
                          <a:lnTo>
                            <a:pt x="8" y="126"/>
                          </a:lnTo>
                          <a:lnTo>
                            <a:pt x="3" y="111"/>
                          </a:lnTo>
                          <a:lnTo>
                            <a:pt x="0" y="95"/>
                          </a:lnTo>
                          <a:lnTo>
                            <a:pt x="0" y="77"/>
                          </a:lnTo>
                          <a:lnTo>
                            <a:pt x="4" y="62"/>
                          </a:lnTo>
                          <a:lnTo>
                            <a:pt x="10" y="49"/>
                          </a:lnTo>
                          <a:lnTo>
                            <a:pt x="19" y="36"/>
                          </a:lnTo>
                          <a:lnTo>
                            <a:pt x="30" y="24"/>
                          </a:lnTo>
                          <a:lnTo>
                            <a:pt x="43" y="15"/>
                          </a:lnTo>
                          <a:lnTo>
                            <a:pt x="57" y="7"/>
                          </a:lnTo>
                          <a:lnTo>
                            <a:pt x="71" y="2"/>
                          </a:lnTo>
                          <a:lnTo>
                            <a:pt x="84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" name=""/>
                    <p:cNvSpPr/>
                    <p:nvPr/>
                  </p:nvSpPr>
                  <p:spPr>
                    <a:xfrm>
                      <a:off x="613080" y="1449360"/>
                      <a:ext cx="97560" cy="11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8" h="302">
                          <a:moveTo>
                            <a:pt x="2" y="183"/>
                          </a:moveTo>
                          <a:lnTo>
                            <a:pt x="0" y="151"/>
                          </a:lnTo>
                          <a:lnTo>
                            <a:pt x="2" y="121"/>
                          </a:lnTo>
                          <a:lnTo>
                            <a:pt x="9" y="92"/>
                          </a:lnTo>
                          <a:lnTo>
                            <a:pt x="20" y="65"/>
                          </a:lnTo>
                          <a:lnTo>
                            <a:pt x="35" y="42"/>
                          </a:lnTo>
                          <a:lnTo>
                            <a:pt x="54" y="24"/>
                          </a:lnTo>
                          <a:lnTo>
                            <a:pt x="77" y="10"/>
                          </a:lnTo>
                          <a:lnTo>
                            <a:pt x="101" y="2"/>
                          </a:lnTo>
                          <a:lnTo>
                            <a:pt x="124" y="0"/>
                          </a:lnTo>
                          <a:lnTo>
                            <a:pt x="147" y="3"/>
                          </a:lnTo>
                          <a:lnTo>
                            <a:pt x="169" y="11"/>
                          </a:lnTo>
                          <a:lnTo>
                            <a:pt x="190" y="23"/>
                          </a:lnTo>
                          <a:lnTo>
                            <a:pt x="208" y="39"/>
                          </a:lnTo>
                          <a:lnTo>
                            <a:pt x="224" y="58"/>
                          </a:lnTo>
                          <a:lnTo>
                            <a:pt x="238" y="81"/>
                          </a:lnTo>
                          <a:lnTo>
                            <a:pt x="248" y="107"/>
                          </a:lnTo>
                          <a:lnTo>
                            <a:pt x="237" y="93"/>
                          </a:lnTo>
                          <a:lnTo>
                            <a:pt x="225" y="81"/>
                          </a:lnTo>
                          <a:lnTo>
                            <a:pt x="212" y="72"/>
                          </a:lnTo>
                          <a:lnTo>
                            <a:pt x="198" y="64"/>
                          </a:lnTo>
                          <a:lnTo>
                            <a:pt x="183" y="58"/>
                          </a:lnTo>
                          <a:lnTo>
                            <a:pt x="168" y="55"/>
                          </a:lnTo>
                          <a:lnTo>
                            <a:pt x="153" y="55"/>
                          </a:lnTo>
                          <a:lnTo>
                            <a:pt x="137" y="56"/>
                          </a:lnTo>
                          <a:lnTo>
                            <a:pt x="114" y="64"/>
                          </a:lnTo>
                          <a:lnTo>
                            <a:pt x="93" y="76"/>
                          </a:lnTo>
                          <a:lnTo>
                            <a:pt x="76" y="93"/>
                          </a:lnTo>
                          <a:lnTo>
                            <a:pt x="62" y="114"/>
                          </a:lnTo>
                          <a:lnTo>
                            <a:pt x="51" y="138"/>
                          </a:lnTo>
                          <a:lnTo>
                            <a:pt x="44" y="164"/>
                          </a:lnTo>
                          <a:lnTo>
                            <a:pt x="43" y="192"/>
                          </a:lnTo>
                          <a:lnTo>
                            <a:pt x="46" y="222"/>
                          </a:lnTo>
                          <a:lnTo>
                            <a:pt x="48" y="234"/>
                          </a:lnTo>
                          <a:lnTo>
                            <a:pt x="50" y="245"/>
                          </a:lnTo>
                          <a:lnTo>
                            <a:pt x="55" y="255"/>
                          </a:lnTo>
                          <a:lnTo>
                            <a:pt x="59" y="266"/>
                          </a:lnTo>
                          <a:lnTo>
                            <a:pt x="64" y="275"/>
                          </a:lnTo>
                          <a:lnTo>
                            <a:pt x="70" y="284"/>
                          </a:lnTo>
                          <a:lnTo>
                            <a:pt x="76" y="293"/>
                          </a:lnTo>
                          <a:lnTo>
                            <a:pt x="83" y="302"/>
                          </a:lnTo>
                          <a:lnTo>
                            <a:pt x="69" y="292"/>
                          </a:lnTo>
                          <a:lnTo>
                            <a:pt x="55" y="282"/>
                          </a:lnTo>
                          <a:lnTo>
                            <a:pt x="43" y="269"/>
                          </a:lnTo>
                          <a:lnTo>
                            <a:pt x="32" y="254"/>
                          </a:lnTo>
                          <a:lnTo>
                            <a:pt x="21" y="238"/>
                          </a:lnTo>
                          <a:lnTo>
                            <a:pt x="13" y="221"/>
                          </a:lnTo>
                          <a:lnTo>
                            <a:pt x="6" y="202"/>
                          </a:lnTo>
                          <a:lnTo>
                            <a:pt x="2" y="18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49" name=""/>
            <p:cNvGrpSpPr/>
            <p:nvPr/>
          </p:nvGrpSpPr>
          <p:grpSpPr>
            <a:xfrm>
              <a:off x="177480" y="3296160"/>
              <a:ext cx="816480" cy="945720"/>
              <a:chOff x="177480" y="3296160"/>
              <a:chExt cx="816480" cy="945720"/>
            </a:xfrm>
          </p:grpSpPr>
          <p:sp>
            <p:nvSpPr>
              <p:cNvPr id="50" name=""/>
              <p:cNvSpPr/>
              <p:nvPr/>
            </p:nvSpPr>
            <p:spPr>
              <a:xfrm>
                <a:off x="635400" y="3837960"/>
                <a:ext cx="225000" cy="153720"/>
              </a:xfrm>
              <a:custGeom>
                <a:avLst/>
                <a:gdLst/>
                <a:ahLst/>
                <a:rect l="l" t="t" r="r" b="b"/>
                <a:pathLst>
                  <a:path w="574" h="351">
                    <a:moveTo>
                      <a:pt x="574" y="0"/>
                    </a:moveTo>
                    <a:lnTo>
                      <a:pt x="571" y="3"/>
                    </a:lnTo>
                    <a:lnTo>
                      <a:pt x="563" y="13"/>
                    </a:lnTo>
                    <a:lnTo>
                      <a:pt x="549" y="28"/>
                    </a:lnTo>
                    <a:lnTo>
                      <a:pt x="530" y="49"/>
                    </a:lnTo>
                    <a:lnTo>
                      <a:pt x="509" y="73"/>
                    </a:lnTo>
                    <a:lnTo>
                      <a:pt x="483" y="101"/>
                    </a:lnTo>
                    <a:lnTo>
                      <a:pt x="456" y="130"/>
                    </a:lnTo>
                    <a:lnTo>
                      <a:pt x="427" y="160"/>
                    </a:lnTo>
                    <a:lnTo>
                      <a:pt x="396" y="191"/>
                    </a:lnTo>
                    <a:lnTo>
                      <a:pt x="365" y="222"/>
                    </a:lnTo>
                    <a:lnTo>
                      <a:pt x="334" y="251"/>
                    </a:lnTo>
                    <a:lnTo>
                      <a:pt x="304" y="277"/>
                    </a:lnTo>
                    <a:lnTo>
                      <a:pt x="276" y="301"/>
                    </a:lnTo>
                    <a:lnTo>
                      <a:pt x="249" y="321"/>
                    </a:lnTo>
                    <a:lnTo>
                      <a:pt x="225" y="336"/>
                    </a:lnTo>
                    <a:lnTo>
                      <a:pt x="206" y="345"/>
                    </a:lnTo>
                    <a:lnTo>
                      <a:pt x="187" y="350"/>
                    </a:lnTo>
                    <a:lnTo>
                      <a:pt x="169" y="351"/>
                    </a:lnTo>
                    <a:lnTo>
                      <a:pt x="150" y="350"/>
                    </a:lnTo>
                    <a:lnTo>
                      <a:pt x="133" y="347"/>
                    </a:lnTo>
                    <a:lnTo>
                      <a:pt x="115" y="342"/>
                    </a:lnTo>
                    <a:lnTo>
                      <a:pt x="97" y="336"/>
                    </a:lnTo>
                    <a:lnTo>
                      <a:pt x="81" y="328"/>
                    </a:lnTo>
                    <a:lnTo>
                      <a:pt x="66" y="320"/>
                    </a:lnTo>
                    <a:lnTo>
                      <a:pt x="53" y="311"/>
                    </a:lnTo>
                    <a:lnTo>
                      <a:pt x="39" y="302"/>
                    </a:lnTo>
                    <a:lnTo>
                      <a:pt x="28" y="294"/>
                    </a:lnTo>
                    <a:lnTo>
                      <a:pt x="18" y="286"/>
                    </a:lnTo>
                    <a:lnTo>
                      <a:pt x="10" y="279"/>
                    </a:lnTo>
                    <a:lnTo>
                      <a:pt x="4" y="275"/>
                    </a:lnTo>
                    <a:lnTo>
                      <a:pt x="1" y="271"/>
                    </a:lnTo>
                    <a:lnTo>
                      <a:pt x="0" y="270"/>
                    </a:lnTo>
                    <a:lnTo>
                      <a:pt x="4" y="271"/>
                    </a:lnTo>
                    <a:lnTo>
                      <a:pt x="16" y="275"/>
                    </a:lnTo>
                    <a:lnTo>
                      <a:pt x="33" y="279"/>
                    </a:lnTo>
                    <a:lnTo>
                      <a:pt x="56" y="283"/>
                    </a:lnTo>
                    <a:lnTo>
                      <a:pt x="84" y="285"/>
                    </a:lnTo>
                    <a:lnTo>
                      <a:pt x="114" y="283"/>
                    </a:lnTo>
                    <a:lnTo>
                      <a:pt x="146" y="277"/>
                    </a:lnTo>
                    <a:lnTo>
                      <a:pt x="178" y="264"/>
                    </a:lnTo>
                    <a:lnTo>
                      <a:pt x="196" y="254"/>
                    </a:lnTo>
                    <a:lnTo>
                      <a:pt x="220" y="240"/>
                    </a:lnTo>
                    <a:lnTo>
                      <a:pt x="247" y="224"/>
                    </a:lnTo>
                    <a:lnTo>
                      <a:pt x="276" y="205"/>
                    </a:lnTo>
                    <a:lnTo>
                      <a:pt x="308" y="184"/>
                    </a:lnTo>
                    <a:lnTo>
                      <a:pt x="342" y="162"/>
                    </a:lnTo>
                    <a:lnTo>
                      <a:pt x="375" y="139"/>
                    </a:lnTo>
                    <a:lnTo>
                      <a:pt x="408" y="116"/>
                    </a:lnTo>
                    <a:lnTo>
                      <a:pt x="441" y="93"/>
                    </a:lnTo>
                    <a:lnTo>
                      <a:pt x="472" y="72"/>
                    </a:lnTo>
                    <a:lnTo>
                      <a:pt x="499" y="53"/>
                    </a:lnTo>
                    <a:lnTo>
                      <a:pt x="525" y="35"/>
                    </a:lnTo>
                    <a:lnTo>
                      <a:pt x="545" y="20"/>
                    </a:lnTo>
                    <a:lnTo>
                      <a:pt x="560" y="9"/>
                    </a:lnTo>
                    <a:lnTo>
                      <a:pt x="571" y="2"/>
                    </a:lnTo>
                    <a:lnTo>
                      <a:pt x="5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11f75"/>
                  </a:solidFill>
                  <a:latin typeface="Arial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177480" y="3296160"/>
                <a:ext cx="816480" cy="945720"/>
                <a:chOff x="177480" y="3296160"/>
                <a:chExt cx="816480" cy="9457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57200" y="3619800"/>
                  <a:ext cx="195480" cy="91080"/>
                </a:xfrm>
                <a:custGeom>
                  <a:avLst/>
                  <a:gdLst/>
                  <a:ahLst/>
                  <a:rect l="l" t="t" r="r" b="b"/>
                  <a:pathLst>
                    <a:path w="496" h="208">
                      <a:moveTo>
                        <a:pt x="496" y="129"/>
                      </a:moveTo>
                      <a:lnTo>
                        <a:pt x="495" y="130"/>
                      </a:lnTo>
                      <a:lnTo>
                        <a:pt x="492" y="133"/>
                      </a:lnTo>
                      <a:lnTo>
                        <a:pt x="485" y="138"/>
                      </a:lnTo>
                      <a:lnTo>
                        <a:pt x="477" y="144"/>
                      </a:lnTo>
                      <a:lnTo>
                        <a:pt x="465" y="151"/>
                      </a:lnTo>
                      <a:lnTo>
                        <a:pt x="453" y="159"/>
                      </a:lnTo>
                      <a:lnTo>
                        <a:pt x="436" y="167"/>
                      </a:lnTo>
                      <a:lnTo>
                        <a:pt x="419" y="175"/>
                      </a:lnTo>
                      <a:lnTo>
                        <a:pt x="400" y="183"/>
                      </a:lnTo>
                      <a:lnTo>
                        <a:pt x="378" y="190"/>
                      </a:lnTo>
                      <a:lnTo>
                        <a:pt x="355" y="197"/>
                      </a:lnTo>
                      <a:lnTo>
                        <a:pt x="329" y="203"/>
                      </a:lnTo>
                      <a:lnTo>
                        <a:pt x="302" y="206"/>
                      </a:lnTo>
                      <a:lnTo>
                        <a:pt x="273" y="208"/>
                      </a:lnTo>
                      <a:lnTo>
                        <a:pt x="243" y="208"/>
                      </a:lnTo>
                      <a:lnTo>
                        <a:pt x="211" y="206"/>
                      </a:lnTo>
                      <a:lnTo>
                        <a:pt x="144" y="197"/>
                      </a:lnTo>
                      <a:lnTo>
                        <a:pt x="91" y="185"/>
                      </a:lnTo>
                      <a:lnTo>
                        <a:pt x="53" y="172"/>
                      </a:lnTo>
                      <a:lnTo>
                        <a:pt x="25" y="155"/>
                      </a:lnTo>
                      <a:lnTo>
                        <a:pt x="8" y="139"/>
                      </a:lnTo>
                      <a:lnTo>
                        <a:pt x="0" y="122"/>
                      </a:lnTo>
                      <a:lnTo>
                        <a:pt x="0" y="105"/>
                      </a:lnTo>
                      <a:lnTo>
                        <a:pt x="6" y="87"/>
                      </a:lnTo>
                      <a:lnTo>
                        <a:pt x="16" y="70"/>
                      </a:lnTo>
                      <a:lnTo>
                        <a:pt x="29" y="54"/>
                      </a:lnTo>
                      <a:lnTo>
                        <a:pt x="45" y="39"/>
                      </a:lnTo>
                      <a:lnTo>
                        <a:pt x="61" y="26"/>
                      </a:lnTo>
                      <a:lnTo>
                        <a:pt x="75" y="15"/>
                      </a:lnTo>
                      <a:lnTo>
                        <a:pt x="88" y="7"/>
                      </a:lnTo>
                      <a:lnTo>
                        <a:pt x="96" y="2"/>
                      </a:lnTo>
                      <a:lnTo>
                        <a:pt x="99" y="0"/>
                      </a:lnTo>
                      <a:lnTo>
                        <a:pt x="98" y="1"/>
                      </a:lnTo>
                      <a:lnTo>
                        <a:pt x="96" y="5"/>
                      </a:lnTo>
                      <a:lnTo>
                        <a:pt x="92" y="10"/>
                      </a:lnTo>
                      <a:lnTo>
                        <a:pt x="88" y="18"/>
                      </a:lnTo>
                      <a:lnTo>
                        <a:pt x="83" y="28"/>
                      </a:lnTo>
                      <a:lnTo>
                        <a:pt x="79" y="38"/>
                      </a:lnTo>
                      <a:lnTo>
                        <a:pt x="77" y="49"/>
                      </a:lnTo>
                      <a:lnTo>
                        <a:pt x="76" y="61"/>
                      </a:lnTo>
                      <a:lnTo>
                        <a:pt x="77" y="74"/>
                      </a:lnTo>
                      <a:lnTo>
                        <a:pt x="81" y="86"/>
                      </a:lnTo>
                      <a:lnTo>
                        <a:pt x="88" y="98"/>
                      </a:lnTo>
                      <a:lnTo>
                        <a:pt x="99" y="109"/>
                      </a:lnTo>
                      <a:lnTo>
                        <a:pt x="114" y="121"/>
                      </a:lnTo>
                      <a:lnTo>
                        <a:pt x="135" y="130"/>
                      </a:lnTo>
                      <a:lnTo>
                        <a:pt x="160" y="138"/>
                      </a:lnTo>
                      <a:lnTo>
                        <a:pt x="192" y="144"/>
                      </a:lnTo>
                      <a:lnTo>
                        <a:pt x="220" y="147"/>
                      </a:lnTo>
                      <a:lnTo>
                        <a:pt x="248" y="150"/>
                      </a:lnTo>
                      <a:lnTo>
                        <a:pt x="274" y="151"/>
                      </a:lnTo>
                      <a:lnTo>
                        <a:pt x="301" y="151"/>
                      </a:lnTo>
                      <a:lnTo>
                        <a:pt x="327" y="150"/>
                      </a:lnTo>
                      <a:lnTo>
                        <a:pt x="352" y="148"/>
                      </a:lnTo>
                      <a:lnTo>
                        <a:pt x="377" y="147"/>
                      </a:lnTo>
                      <a:lnTo>
                        <a:pt x="398" y="145"/>
                      </a:lnTo>
                      <a:lnTo>
                        <a:pt x="419" y="142"/>
                      </a:lnTo>
                      <a:lnTo>
                        <a:pt x="439" y="139"/>
                      </a:lnTo>
                      <a:lnTo>
                        <a:pt x="455" y="137"/>
                      </a:lnTo>
                      <a:lnTo>
                        <a:pt x="469" y="135"/>
                      </a:lnTo>
                      <a:lnTo>
                        <a:pt x="480" y="132"/>
                      </a:lnTo>
                      <a:lnTo>
                        <a:pt x="489" y="130"/>
                      </a:lnTo>
                      <a:lnTo>
                        <a:pt x="494" y="129"/>
                      </a:lnTo>
                      <a:lnTo>
                        <a:pt x="496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92840" y="3538440"/>
                  <a:ext cx="172440" cy="122400"/>
                </a:xfrm>
                <a:custGeom>
                  <a:avLst/>
                  <a:gdLst/>
                  <a:ahLst/>
                  <a:rect l="l" t="t" r="r" b="b"/>
                  <a:pathLst>
                    <a:path w="440" h="281">
                      <a:moveTo>
                        <a:pt x="0" y="205"/>
                      </a:moveTo>
                      <a:lnTo>
                        <a:pt x="0" y="203"/>
                      </a:lnTo>
                      <a:lnTo>
                        <a:pt x="0" y="196"/>
                      </a:lnTo>
                      <a:lnTo>
                        <a:pt x="1" y="185"/>
                      </a:lnTo>
                      <a:lnTo>
                        <a:pt x="3" y="171"/>
                      </a:lnTo>
                      <a:lnTo>
                        <a:pt x="5" y="155"/>
                      </a:lnTo>
                      <a:lnTo>
                        <a:pt x="10" y="136"/>
                      </a:lnTo>
                      <a:lnTo>
                        <a:pt x="17" y="117"/>
                      </a:lnTo>
                      <a:lnTo>
                        <a:pt x="26" y="96"/>
                      </a:lnTo>
                      <a:lnTo>
                        <a:pt x="39" y="76"/>
                      </a:lnTo>
                      <a:lnTo>
                        <a:pt x="54" y="58"/>
                      </a:lnTo>
                      <a:lnTo>
                        <a:pt x="72" y="41"/>
                      </a:lnTo>
                      <a:lnTo>
                        <a:pt x="94" y="26"/>
                      </a:lnTo>
                      <a:lnTo>
                        <a:pt x="121" y="13"/>
                      </a:lnTo>
                      <a:lnTo>
                        <a:pt x="151" y="5"/>
                      </a:lnTo>
                      <a:lnTo>
                        <a:pt x="186" y="0"/>
                      </a:lnTo>
                      <a:lnTo>
                        <a:pt x="228" y="1"/>
                      </a:lnTo>
                      <a:lnTo>
                        <a:pt x="267" y="7"/>
                      </a:lnTo>
                      <a:lnTo>
                        <a:pt x="300" y="19"/>
                      </a:lnTo>
                      <a:lnTo>
                        <a:pt x="330" y="34"/>
                      </a:lnTo>
                      <a:lnTo>
                        <a:pt x="354" y="53"/>
                      </a:lnTo>
                      <a:lnTo>
                        <a:pt x="375" y="74"/>
                      </a:lnTo>
                      <a:lnTo>
                        <a:pt x="392" y="98"/>
                      </a:lnTo>
                      <a:lnTo>
                        <a:pt x="406" y="122"/>
                      </a:lnTo>
                      <a:lnTo>
                        <a:pt x="417" y="148"/>
                      </a:lnTo>
                      <a:lnTo>
                        <a:pt x="425" y="173"/>
                      </a:lnTo>
                      <a:lnTo>
                        <a:pt x="432" y="197"/>
                      </a:lnTo>
                      <a:lnTo>
                        <a:pt x="435" y="220"/>
                      </a:lnTo>
                      <a:lnTo>
                        <a:pt x="437" y="240"/>
                      </a:lnTo>
                      <a:lnTo>
                        <a:pt x="440" y="257"/>
                      </a:lnTo>
                      <a:lnTo>
                        <a:pt x="440" y="270"/>
                      </a:lnTo>
                      <a:lnTo>
                        <a:pt x="440" y="278"/>
                      </a:lnTo>
                      <a:lnTo>
                        <a:pt x="440" y="281"/>
                      </a:lnTo>
                      <a:lnTo>
                        <a:pt x="438" y="279"/>
                      </a:lnTo>
                      <a:lnTo>
                        <a:pt x="435" y="272"/>
                      </a:lnTo>
                      <a:lnTo>
                        <a:pt x="430" y="263"/>
                      </a:lnTo>
                      <a:lnTo>
                        <a:pt x="423" y="249"/>
                      </a:lnTo>
                      <a:lnTo>
                        <a:pt x="414" y="234"/>
                      </a:lnTo>
                      <a:lnTo>
                        <a:pt x="404" y="216"/>
                      </a:lnTo>
                      <a:lnTo>
                        <a:pt x="391" y="197"/>
                      </a:lnTo>
                      <a:lnTo>
                        <a:pt x="376" y="178"/>
                      </a:lnTo>
                      <a:lnTo>
                        <a:pt x="360" y="158"/>
                      </a:lnTo>
                      <a:lnTo>
                        <a:pt x="343" y="140"/>
                      </a:lnTo>
                      <a:lnTo>
                        <a:pt x="324" y="121"/>
                      </a:lnTo>
                      <a:lnTo>
                        <a:pt x="304" y="104"/>
                      </a:lnTo>
                      <a:lnTo>
                        <a:pt x="282" y="90"/>
                      </a:lnTo>
                      <a:lnTo>
                        <a:pt x="259" y="79"/>
                      </a:lnTo>
                      <a:lnTo>
                        <a:pt x="233" y="71"/>
                      </a:lnTo>
                      <a:lnTo>
                        <a:pt x="208" y="66"/>
                      </a:lnTo>
                      <a:lnTo>
                        <a:pt x="174" y="65"/>
                      </a:lnTo>
                      <a:lnTo>
                        <a:pt x="142" y="67"/>
                      </a:lnTo>
                      <a:lnTo>
                        <a:pt x="115" y="73"/>
                      </a:lnTo>
                      <a:lnTo>
                        <a:pt x="92" y="81"/>
                      </a:lnTo>
                      <a:lnTo>
                        <a:pt x="72" y="91"/>
                      </a:lnTo>
                      <a:lnTo>
                        <a:pt x="55" y="103"/>
                      </a:lnTo>
                      <a:lnTo>
                        <a:pt x="41" y="115"/>
                      </a:lnTo>
                      <a:lnTo>
                        <a:pt x="30" y="129"/>
                      </a:lnTo>
                      <a:lnTo>
                        <a:pt x="20" y="143"/>
                      </a:lnTo>
                      <a:lnTo>
                        <a:pt x="13" y="157"/>
                      </a:lnTo>
                      <a:lnTo>
                        <a:pt x="8" y="170"/>
                      </a:lnTo>
                      <a:lnTo>
                        <a:pt x="4" y="181"/>
                      </a:lnTo>
                      <a:lnTo>
                        <a:pt x="2" y="192"/>
                      </a:lnTo>
                      <a:lnTo>
                        <a:pt x="1" y="198"/>
                      </a:lnTo>
                      <a:lnTo>
                        <a:pt x="0" y="203"/>
                      </a:lnTo>
                      <a:lnTo>
                        <a:pt x="0" y="2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21840" y="3694320"/>
                  <a:ext cx="331560" cy="547560"/>
                </a:xfrm>
                <a:custGeom>
                  <a:avLst/>
                  <a:gdLst/>
                  <a:ahLst/>
                  <a:rect l="l" t="t" r="r" b="b"/>
                  <a:pathLst>
                    <a:path w="847" h="1252">
                      <a:moveTo>
                        <a:pt x="6" y="1004"/>
                      </a:moveTo>
                      <a:lnTo>
                        <a:pt x="18" y="965"/>
                      </a:lnTo>
                      <a:lnTo>
                        <a:pt x="36" y="930"/>
                      </a:lnTo>
                      <a:lnTo>
                        <a:pt x="60" y="896"/>
                      </a:lnTo>
                      <a:lnTo>
                        <a:pt x="86" y="863"/>
                      </a:lnTo>
                      <a:lnTo>
                        <a:pt x="112" y="831"/>
                      </a:lnTo>
                      <a:lnTo>
                        <a:pt x="135" y="798"/>
                      </a:lnTo>
                      <a:lnTo>
                        <a:pt x="152" y="766"/>
                      </a:lnTo>
                      <a:lnTo>
                        <a:pt x="162" y="732"/>
                      </a:lnTo>
                      <a:lnTo>
                        <a:pt x="163" y="696"/>
                      </a:lnTo>
                      <a:lnTo>
                        <a:pt x="160" y="657"/>
                      </a:lnTo>
                      <a:lnTo>
                        <a:pt x="155" y="615"/>
                      </a:lnTo>
                      <a:lnTo>
                        <a:pt x="150" y="570"/>
                      </a:lnTo>
                      <a:lnTo>
                        <a:pt x="148" y="522"/>
                      </a:lnTo>
                      <a:lnTo>
                        <a:pt x="152" y="469"/>
                      </a:lnTo>
                      <a:lnTo>
                        <a:pt x="167" y="413"/>
                      </a:lnTo>
                      <a:lnTo>
                        <a:pt x="193" y="350"/>
                      </a:lnTo>
                      <a:lnTo>
                        <a:pt x="209" y="322"/>
                      </a:lnTo>
                      <a:lnTo>
                        <a:pt x="225" y="296"/>
                      </a:lnTo>
                      <a:lnTo>
                        <a:pt x="243" y="273"/>
                      </a:lnTo>
                      <a:lnTo>
                        <a:pt x="262" y="254"/>
                      </a:lnTo>
                      <a:lnTo>
                        <a:pt x="281" y="236"/>
                      </a:lnTo>
                      <a:lnTo>
                        <a:pt x="300" y="220"/>
                      </a:lnTo>
                      <a:lnTo>
                        <a:pt x="319" y="208"/>
                      </a:lnTo>
                      <a:lnTo>
                        <a:pt x="339" y="196"/>
                      </a:lnTo>
                      <a:lnTo>
                        <a:pt x="357" y="187"/>
                      </a:lnTo>
                      <a:lnTo>
                        <a:pt x="376" y="178"/>
                      </a:lnTo>
                      <a:lnTo>
                        <a:pt x="392" y="171"/>
                      </a:lnTo>
                      <a:lnTo>
                        <a:pt x="408" y="165"/>
                      </a:lnTo>
                      <a:lnTo>
                        <a:pt x="423" y="159"/>
                      </a:lnTo>
                      <a:lnTo>
                        <a:pt x="437" y="155"/>
                      </a:lnTo>
                      <a:lnTo>
                        <a:pt x="448" y="151"/>
                      </a:lnTo>
                      <a:lnTo>
                        <a:pt x="458" y="147"/>
                      </a:lnTo>
                      <a:lnTo>
                        <a:pt x="451" y="95"/>
                      </a:lnTo>
                      <a:lnTo>
                        <a:pt x="449" y="50"/>
                      </a:lnTo>
                      <a:lnTo>
                        <a:pt x="452" y="18"/>
                      </a:lnTo>
                      <a:lnTo>
                        <a:pt x="453" y="6"/>
                      </a:lnTo>
                      <a:lnTo>
                        <a:pt x="483" y="0"/>
                      </a:lnTo>
                      <a:lnTo>
                        <a:pt x="481" y="12"/>
                      </a:lnTo>
                      <a:lnTo>
                        <a:pt x="476" y="43"/>
                      </a:lnTo>
                      <a:lnTo>
                        <a:pt x="475" y="87"/>
                      </a:lnTo>
                      <a:lnTo>
                        <a:pt x="483" y="137"/>
                      </a:lnTo>
                      <a:lnTo>
                        <a:pt x="486" y="136"/>
                      </a:lnTo>
                      <a:lnTo>
                        <a:pt x="490" y="135"/>
                      </a:lnTo>
                      <a:lnTo>
                        <a:pt x="491" y="135"/>
                      </a:lnTo>
                      <a:lnTo>
                        <a:pt x="492" y="135"/>
                      </a:lnTo>
                      <a:lnTo>
                        <a:pt x="491" y="135"/>
                      </a:lnTo>
                      <a:lnTo>
                        <a:pt x="490" y="136"/>
                      </a:lnTo>
                      <a:lnTo>
                        <a:pt x="487" y="139"/>
                      </a:lnTo>
                      <a:lnTo>
                        <a:pt x="484" y="142"/>
                      </a:lnTo>
                      <a:lnTo>
                        <a:pt x="491" y="160"/>
                      </a:lnTo>
                      <a:lnTo>
                        <a:pt x="500" y="179"/>
                      </a:lnTo>
                      <a:lnTo>
                        <a:pt x="512" y="197"/>
                      </a:lnTo>
                      <a:lnTo>
                        <a:pt x="525" y="213"/>
                      </a:lnTo>
                      <a:lnTo>
                        <a:pt x="543" y="230"/>
                      </a:lnTo>
                      <a:lnTo>
                        <a:pt x="563" y="245"/>
                      </a:lnTo>
                      <a:lnTo>
                        <a:pt x="588" y="257"/>
                      </a:lnTo>
                      <a:lnTo>
                        <a:pt x="616" y="268"/>
                      </a:lnTo>
                      <a:lnTo>
                        <a:pt x="636" y="271"/>
                      </a:lnTo>
                      <a:lnTo>
                        <a:pt x="656" y="271"/>
                      </a:lnTo>
                      <a:lnTo>
                        <a:pt x="676" y="268"/>
                      </a:lnTo>
                      <a:lnTo>
                        <a:pt x="696" y="262"/>
                      </a:lnTo>
                      <a:lnTo>
                        <a:pt x="715" y="253"/>
                      </a:lnTo>
                      <a:lnTo>
                        <a:pt x="734" y="241"/>
                      </a:lnTo>
                      <a:lnTo>
                        <a:pt x="752" y="230"/>
                      </a:lnTo>
                      <a:lnTo>
                        <a:pt x="770" y="216"/>
                      </a:lnTo>
                      <a:lnTo>
                        <a:pt x="786" y="203"/>
                      </a:lnTo>
                      <a:lnTo>
                        <a:pt x="801" y="189"/>
                      </a:lnTo>
                      <a:lnTo>
                        <a:pt x="815" y="177"/>
                      </a:lnTo>
                      <a:lnTo>
                        <a:pt x="825" y="165"/>
                      </a:lnTo>
                      <a:lnTo>
                        <a:pt x="834" y="156"/>
                      </a:lnTo>
                      <a:lnTo>
                        <a:pt x="841" y="148"/>
                      </a:lnTo>
                      <a:lnTo>
                        <a:pt x="846" y="143"/>
                      </a:lnTo>
                      <a:lnTo>
                        <a:pt x="847" y="141"/>
                      </a:lnTo>
                      <a:lnTo>
                        <a:pt x="846" y="145"/>
                      </a:lnTo>
                      <a:lnTo>
                        <a:pt x="840" y="157"/>
                      </a:lnTo>
                      <a:lnTo>
                        <a:pt x="831" y="175"/>
                      </a:lnTo>
                      <a:lnTo>
                        <a:pt x="818" y="198"/>
                      </a:lnTo>
                      <a:lnTo>
                        <a:pt x="802" y="224"/>
                      </a:lnTo>
                      <a:lnTo>
                        <a:pt x="781" y="250"/>
                      </a:lnTo>
                      <a:lnTo>
                        <a:pt x="756" y="277"/>
                      </a:lnTo>
                      <a:lnTo>
                        <a:pt x="726" y="302"/>
                      </a:lnTo>
                      <a:lnTo>
                        <a:pt x="709" y="314"/>
                      </a:lnTo>
                      <a:lnTo>
                        <a:pt x="691" y="324"/>
                      </a:lnTo>
                      <a:lnTo>
                        <a:pt x="675" y="331"/>
                      </a:lnTo>
                      <a:lnTo>
                        <a:pt x="659" y="336"/>
                      </a:lnTo>
                      <a:lnTo>
                        <a:pt x="644" y="339"/>
                      </a:lnTo>
                      <a:lnTo>
                        <a:pt x="628" y="339"/>
                      </a:lnTo>
                      <a:lnTo>
                        <a:pt x="614" y="338"/>
                      </a:lnTo>
                      <a:lnTo>
                        <a:pt x="599" y="333"/>
                      </a:lnTo>
                      <a:lnTo>
                        <a:pt x="585" y="327"/>
                      </a:lnTo>
                      <a:lnTo>
                        <a:pt x="572" y="319"/>
                      </a:lnTo>
                      <a:lnTo>
                        <a:pt x="558" y="309"/>
                      </a:lnTo>
                      <a:lnTo>
                        <a:pt x="544" y="296"/>
                      </a:lnTo>
                      <a:lnTo>
                        <a:pt x="530" y="283"/>
                      </a:lnTo>
                      <a:lnTo>
                        <a:pt x="516" y="265"/>
                      </a:lnTo>
                      <a:lnTo>
                        <a:pt x="502" y="247"/>
                      </a:lnTo>
                      <a:lnTo>
                        <a:pt x="489" y="226"/>
                      </a:lnTo>
                      <a:lnTo>
                        <a:pt x="479" y="211"/>
                      </a:lnTo>
                      <a:lnTo>
                        <a:pt x="473" y="196"/>
                      </a:lnTo>
                      <a:lnTo>
                        <a:pt x="467" y="180"/>
                      </a:lnTo>
                      <a:lnTo>
                        <a:pt x="461" y="164"/>
                      </a:lnTo>
                      <a:lnTo>
                        <a:pt x="453" y="172"/>
                      </a:lnTo>
                      <a:lnTo>
                        <a:pt x="444" y="180"/>
                      </a:lnTo>
                      <a:lnTo>
                        <a:pt x="432" y="190"/>
                      </a:lnTo>
                      <a:lnTo>
                        <a:pt x="421" y="200"/>
                      </a:lnTo>
                      <a:lnTo>
                        <a:pt x="408" y="211"/>
                      </a:lnTo>
                      <a:lnTo>
                        <a:pt x="395" y="223"/>
                      </a:lnTo>
                      <a:lnTo>
                        <a:pt x="382" y="234"/>
                      </a:lnTo>
                      <a:lnTo>
                        <a:pt x="368" y="248"/>
                      </a:lnTo>
                      <a:lnTo>
                        <a:pt x="354" y="262"/>
                      </a:lnTo>
                      <a:lnTo>
                        <a:pt x="340" y="278"/>
                      </a:lnTo>
                      <a:lnTo>
                        <a:pt x="326" y="294"/>
                      </a:lnTo>
                      <a:lnTo>
                        <a:pt x="312" y="311"/>
                      </a:lnTo>
                      <a:lnTo>
                        <a:pt x="300" y="330"/>
                      </a:lnTo>
                      <a:lnTo>
                        <a:pt x="288" y="349"/>
                      </a:lnTo>
                      <a:lnTo>
                        <a:pt x="277" y="371"/>
                      </a:lnTo>
                      <a:lnTo>
                        <a:pt x="266" y="393"/>
                      </a:lnTo>
                      <a:lnTo>
                        <a:pt x="243" y="456"/>
                      </a:lnTo>
                      <a:lnTo>
                        <a:pt x="228" y="513"/>
                      </a:lnTo>
                      <a:lnTo>
                        <a:pt x="219" y="562"/>
                      </a:lnTo>
                      <a:lnTo>
                        <a:pt x="215" y="607"/>
                      </a:lnTo>
                      <a:lnTo>
                        <a:pt x="213" y="649"/>
                      </a:lnTo>
                      <a:lnTo>
                        <a:pt x="212" y="687"/>
                      </a:lnTo>
                      <a:lnTo>
                        <a:pt x="211" y="722"/>
                      </a:lnTo>
                      <a:lnTo>
                        <a:pt x="208" y="758"/>
                      </a:lnTo>
                      <a:lnTo>
                        <a:pt x="198" y="793"/>
                      </a:lnTo>
                      <a:lnTo>
                        <a:pt x="182" y="826"/>
                      </a:lnTo>
                      <a:lnTo>
                        <a:pt x="162" y="858"/>
                      </a:lnTo>
                      <a:lnTo>
                        <a:pt x="137" y="892"/>
                      </a:lnTo>
                      <a:lnTo>
                        <a:pt x="112" y="925"/>
                      </a:lnTo>
                      <a:lnTo>
                        <a:pt x="89" y="959"/>
                      </a:lnTo>
                      <a:lnTo>
                        <a:pt x="68" y="994"/>
                      </a:lnTo>
                      <a:lnTo>
                        <a:pt x="52" y="1031"/>
                      </a:lnTo>
                      <a:lnTo>
                        <a:pt x="44" y="1069"/>
                      </a:lnTo>
                      <a:lnTo>
                        <a:pt x="44" y="1108"/>
                      </a:lnTo>
                      <a:lnTo>
                        <a:pt x="50" y="1145"/>
                      </a:lnTo>
                      <a:lnTo>
                        <a:pt x="60" y="1180"/>
                      </a:lnTo>
                      <a:lnTo>
                        <a:pt x="71" y="1209"/>
                      </a:lnTo>
                      <a:lnTo>
                        <a:pt x="81" y="1232"/>
                      </a:lnTo>
                      <a:lnTo>
                        <a:pt x="89" y="1247"/>
                      </a:lnTo>
                      <a:lnTo>
                        <a:pt x="92" y="1252"/>
                      </a:lnTo>
                      <a:lnTo>
                        <a:pt x="88" y="1250"/>
                      </a:lnTo>
                      <a:lnTo>
                        <a:pt x="74" y="1241"/>
                      </a:lnTo>
                      <a:lnTo>
                        <a:pt x="57" y="1225"/>
                      </a:lnTo>
                      <a:lnTo>
                        <a:pt x="37" y="1200"/>
                      </a:lnTo>
                      <a:lnTo>
                        <a:pt x="19" y="1167"/>
                      </a:lnTo>
                      <a:lnTo>
                        <a:pt x="5" y="1124"/>
                      </a:lnTo>
                      <a:lnTo>
                        <a:pt x="0" y="1070"/>
                      </a:lnTo>
                      <a:lnTo>
                        <a:pt x="6" y="10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17680" y="3931560"/>
                  <a:ext cx="123840" cy="165240"/>
                </a:xfrm>
                <a:custGeom>
                  <a:avLst/>
                  <a:gdLst/>
                  <a:ahLst/>
                  <a:rect l="l" t="t" r="r" b="b"/>
                  <a:pathLst>
                    <a:path w="317" h="376">
                      <a:moveTo>
                        <a:pt x="95" y="376"/>
                      </a:moveTo>
                      <a:lnTo>
                        <a:pt x="90" y="374"/>
                      </a:lnTo>
                      <a:lnTo>
                        <a:pt x="80" y="365"/>
                      </a:lnTo>
                      <a:lnTo>
                        <a:pt x="69" y="344"/>
                      </a:lnTo>
                      <a:lnTo>
                        <a:pt x="65" y="306"/>
                      </a:lnTo>
                      <a:lnTo>
                        <a:pt x="66" y="279"/>
                      </a:lnTo>
                      <a:lnTo>
                        <a:pt x="69" y="245"/>
                      </a:lnTo>
                      <a:lnTo>
                        <a:pt x="76" y="209"/>
                      </a:lnTo>
                      <a:lnTo>
                        <a:pt x="89" y="171"/>
                      </a:lnTo>
                      <a:lnTo>
                        <a:pt x="106" y="136"/>
                      </a:lnTo>
                      <a:lnTo>
                        <a:pt x="133" y="102"/>
                      </a:lnTo>
                      <a:lnTo>
                        <a:pt x="166" y="75"/>
                      </a:lnTo>
                      <a:lnTo>
                        <a:pt x="210" y="54"/>
                      </a:lnTo>
                      <a:lnTo>
                        <a:pt x="236" y="48"/>
                      </a:lnTo>
                      <a:lnTo>
                        <a:pt x="258" y="46"/>
                      </a:lnTo>
                      <a:lnTo>
                        <a:pt x="277" y="48"/>
                      </a:lnTo>
                      <a:lnTo>
                        <a:pt x="291" y="53"/>
                      </a:lnTo>
                      <a:lnTo>
                        <a:pt x="303" y="59"/>
                      </a:lnTo>
                      <a:lnTo>
                        <a:pt x="311" y="64"/>
                      </a:lnTo>
                      <a:lnTo>
                        <a:pt x="316" y="69"/>
                      </a:lnTo>
                      <a:lnTo>
                        <a:pt x="317" y="70"/>
                      </a:lnTo>
                      <a:lnTo>
                        <a:pt x="317" y="54"/>
                      </a:lnTo>
                      <a:lnTo>
                        <a:pt x="313" y="50"/>
                      </a:lnTo>
                      <a:lnTo>
                        <a:pt x="305" y="42"/>
                      </a:lnTo>
                      <a:lnTo>
                        <a:pt x="293" y="32"/>
                      </a:lnTo>
                      <a:lnTo>
                        <a:pt x="274" y="21"/>
                      </a:lnTo>
                      <a:lnTo>
                        <a:pt x="253" y="9"/>
                      </a:lnTo>
                      <a:lnTo>
                        <a:pt x="228" y="2"/>
                      </a:lnTo>
                      <a:lnTo>
                        <a:pt x="202" y="0"/>
                      </a:lnTo>
                      <a:lnTo>
                        <a:pt x="172" y="4"/>
                      </a:lnTo>
                      <a:lnTo>
                        <a:pt x="129" y="23"/>
                      </a:lnTo>
                      <a:lnTo>
                        <a:pt x="92" y="48"/>
                      </a:lnTo>
                      <a:lnTo>
                        <a:pt x="62" y="79"/>
                      </a:lnTo>
                      <a:lnTo>
                        <a:pt x="38" y="116"/>
                      </a:lnTo>
                      <a:lnTo>
                        <a:pt x="20" y="158"/>
                      </a:lnTo>
                      <a:lnTo>
                        <a:pt x="7" y="200"/>
                      </a:lnTo>
                      <a:lnTo>
                        <a:pt x="1" y="245"/>
                      </a:lnTo>
                      <a:lnTo>
                        <a:pt x="0" y="290"/>
                      </a:lnTo>
                      <a:lnTo>
                        <a:pt x="5" y="318"/>
                      </a:lnTo>
                      <a:lnTo>
                        <a:pt x="16" y="338"/>
                      </a:lnTo>
                      <a:lnTo>
                        <a:pt x="31" y="353"/>
                      </a:lnTo>
                      <a:lnTo>
                        <a:pt x="49" y="364"/>
                      </a:lnTo>
                      <a:lnTo>
                        <a:pt x="66" y="371"/>
                      </a:lnTo>
                      <a:lnTo>
                        <a:pt x="81" y="374"/>
                      </a:lnTo>
                      <a:lnTo>
                        <a:pt x="91" y="376"/>
                      </a:lnTo>
                      <a:lnTo>
                        <a:pt x="95" y="3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26960" y="3864240"/>
                  <a:ext cx="115200" cy="187200"/>
                </a:xfrm>
                <a:custGeom>
                  <a:avLst/>
                  <a:gdLst/>
                  <a:ahLst/>
                  <a:rect l="l" t="t" r="r" b="b"/>
                  <a:pathLst>
                    <a:path w="293" h="430">
                      <a:moveTo>
                        <a:pt x="293" y="15"/>
                      </a:moveTo>
                      <a:lnTo>
                        <a:pt x="292" y="15"/>
                      </a:lnTo>
                      <a:lnTo>
                        <a:pt x="288" y="15"/>
                      </a:lnTo>
                      <a:lnTo>
                        <a:pt x="280" y="16"/>
                      </a:lnTo>
                      <a:lnTo>
                        <a:pt x="270" y="19"/>
                      </a:lnTo>
                      <a:lnTo>
                        <a:pt x="259" y="21"/>
                      </a:lnTo>
                      <a:lnTo>
                        <a:pt x="245" y="25"/>
                      </a:lnTo>
                      <a:lnTo>
                        <a:pt x="230" y="29"/>
                      </a:lnTo>
                      <a:lnTo>
                        <a:pt x="215" y="35"/>
                      </a:lnTo>
                      <a:lnTo>
                        <a:pt x="198" y="42"/>
                      </a:lnTo>
                      <a:lnTo>
                        <a:pt x="182" y="51"/>
                      </a:lnTo>
                      <a:lnTo>
                        <a:pt x="166" y="63"/>
                      </a:lnTo>
                      <a:lnTo>
                        <a:pt x="149" y="75"/>
                      </a:lnTo>
                      <a:lnTo>
                        <a:pt x="133" y="91"/>
                      </a:lnTo>
                      <a:lnTo>
                        <a:pt x="119" y="109"/>
                      </a:lnTo>
                      <a:lnTo>
                        <a:pt x="107" y="129"/>
                      </a:lnTo>
                      <a:lnTo>
                        <a:pt x="95" y="152"/>
                      </a:lnTo>
                      <a:lnTo>
                        <a:pt x="73" y="218"/>
                      </a:lnTo>
                      <a:lnTo>
                        <a:pt x="64" y="276"/>
                      </a:lnTo>
                      <a:lnTo>
                        <a:pt x="64" y="323"/>
                      </a:lnTo>
                      <a:lnTo>
                        <a:pt x="70" y="362"/>
                      </a:lnTo>
                      <a:lnTo>
                        <a:pt x="80" y="392"/>
                      </a:lnTo>
                      <a:lnTo>
                        <a:pt x="91" y="413"/>
                      </a:lnTo>
                      <a:lnTo>
                        <a:pt x="99" y="425"/>
                      </a:lnTo>
                      <a:lnTo>
                        <a:pt x="102" y="430"/>
                      </a:lnTo>
                      <a:lnTo>
                        <a:pt x="95" y="424"/>
                      </a:lnTo>
                      <a:lnTo>
                        <a:pt x="78" y="409"/>
                      </a:lnTo>
                      <a:lnTo>
                        <a:pt x="55" y="383"/>
                      </a:lnTo>
                      <a:lnTo>
                        <a:pt x="31" y="348"/>
                      </a:lnTo>
                      <a:lnTo>
                        <a:pt x="11" y="304"/>
                      </a:lnTo>
                      <a:lnTo>
                        <a:pt x="0" y="254"/>
                      </a:lnTo>
                      <a:lnTo>
                        <a:pt x="1" y="195"/>
                      </a:lnTo>
                      <a:lnTo>
                        <a:pt x="22" y="129"/>
                      </a:lnTo>
                      <a:lnTo>
                        <a:pt x="39" y="97"/>
                      </a:lnTo>
                      <a:lnTo>
                        <a:pt x="58" y="69"/>
                      </a:lnTo>
                      <a:lnTo>
                        <a:pt x="79" y="49"/>
                      </a:lnTo>
                      <a:lnTo>
                        <a:pt x="101" y="31"/>
                      </a:lnTo>
                      <a:lnTo>
                        <a:pt x="123" y="19"/>
                      </a:lnTo>
                      <a:lnTo>
                        <a:pt x="146" y="10"/>
                      </a:lnTo>
                      <a:lnTo>
                        <a:pt x="169" y="4"/>
                      </a:lnTo>
                      <a:lnTo>
                        <a:pt x="191" y="1"/>
                      </a:lnTo>
                      <a:lnTo>
                        <a:pt x="212" y="0"/>
                      </a:lnTo>
                      <a:lnTo>
                        <a:pt x="230" y="1"/>
                      </a:lnTo>
                      <a:lnTo>
                        <a:pt x="248" y="4"/>
                      </a:lnTo>
                      <a:lnTo>
                        <a:pt x="263" y="6"/>
                      </a:lnTo>
                      <a:lnTo>
                        <a:pt x="276" y="10"/>
                      </a:lnTo>
                      <a:lnTo>
                        <a:pt x="285" y="12"/>
                      </a:lnTo>
                      <a:lnTo>
                        <a:pt x="291" y="14"/>
                      </a:lnTo>
                      <a:lnTo>
                        <a:pt x="293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537480" y="3745800"/>
                  <a:ext cx="456480" cy="388440"/>
                </a:xfrm>
                <a:custGeom>
                  <a:avLst/>
                  <a:gdLst/>
                  <a:ahLst/>
                  <a:rect l="l" t="t" r="r" b="b"/>
                  <a:pathLst>
                    <a:path w="1164" h="888">
                      <a:moveTo>
                        <a:pt x="0" y="717"/>
                      </a:moveTo>
                      <a:lnTo>
                        <a:pt x="2" y="719"/>
                      </a:lnTo>
                      <a:lnTo>
                        <a:pt x="7" y="722"/>
                      </a:lnTo>
                      <a:lnTo>
                        <a:pt x="16" y="727"/>
                      </a:lnTo>
                      <a:lnTo>
                        <a:pt x="27" y="732"/>
                      </a:lnTo>
                      <a:lnTo>
                        <a:pt x="41" y="740"/>
                      </a:lnTo>
                      <a:lnTo>
                        <a:pt x="57" y="750"/>
                      </a:lnTo>
                      <a:lnTo>
                        <a:pt x="75" y="759"/>
                      </a:lnTo>
                      <a:lnTo>
                        <a:pt x="93" y="769"/>
                      </a:lnTo>
                      <a:lnTo>
                        <a:pt x="114" y="781"/>
                      </a:lnTo>
                      <a:lnTo>
                        <a:pt x="134" y="792"/>
                      </a:lnTo>
                      <a:lnTo>
                        <a:pt x="155" y="804"/>
                      </a:lnTo>
                      <a:lnTo>
                        <a:pt x="176" y="815"/>
                      </a:lnTo>
                      <a:lnTo>
                        <a:pt x="197" y="827"/>
                      </a:lnTo>
                      <a:lnTo>
                        <a:pt x="216" y="838"/>
                      </a:lnTo>
                      <a:lnTo>
                        <a:pt x="235" y="849"/>
                      </a:lnTo>
                      <a:lnTo>
                        <a:pt x="252" y="858"/>
                      </a:lnTo>
                      <a:lnTo>
                        <a:pt x="268" y="866"/>
                      </a:lnTo>
                      <a:lnTo>
                        <a:pt x="285" y="873"/>
                      </a:lnTo>
                      <a:lnTo>
                        <a:pt x="301" y="879"/>
                      </a:lnTo>
                      <a:lnTo>
                        <a:pt x="319" y="883"/>
                      </a:lnTo>
                      <a:lnTo>
                        <a:pt x="336" y="887"/>
                      </a:lnTo>
                      <a:lnTo>
                        <a:pt x="353" y="888"/>
                      </a:lnTo>
                      <a:lnTo>
                        <a:pt x="370" y="888"/>
                      </a:lnTo>
                      <a:lnTo>
                        <a:pt x="389" y="888"/>
                      </a:lnTo>
                      <a:lnTo>
                        <a:pt x="406" y="886"/>
                      </a:lnTo>
                      <a:lnTo>
                        <a:pt x="425" y="881"/>
                      </a:lnTo>
                      <a:lnTo>
                        <a:pt x="443" y="876"/>
                      </a:lnTo>
                      <a:lnTo>
                        <a:pt x="463" y="871"/>
                      </a:lnTo>
                      <a:lnTo>
                        <a:pt x="481" y="862"/>
                      </a:lnTo>
                      <a:lnTo>
                        <a:pt x="501" y="853"/>
                      </a:lnTo>
                      <a:lnTo>
                        <a:pt x="520" y="843"/>
                      </a:lnTo>
                      <a:lnTo>
                        <a:pt x="540" y="831"/>
                      </a:lnTo>
                      <a:lnTo>
                        <a:pt x="558" y="818"/>
                      </a:lnTo>
                      <a:lnTo>
                        <a:pt x="579" y="796"/>
                      </a:lnTo>
                      <a:lnTo>
                        <a:pt x="604" y="768"/>
                      </a:lnTo>
                      <a:lnTo>
                        <a:pt x="631" y="735"/>
                      </a:lnTo>
                      <a:lnTo>
                        <a:pt x="660" y="698"/>
                      </a:lnTo>
                      <a:lnTo>
                        <a:pt x="689" y="657"/>
                      </a:lnTo>
                      <a:lnTo>
                        <a:pt x="721" y="616"/>
                      </a:lnTo>
                      <a:lnTo>
                        <a:pt x="752" y="572"/>
                      </a:lnTo>
                      <a:lnTo>
                        <a:pt x="784" y="530"/>
                      </a:lnTo>
                      <a:lnTo>
                        <a:pt x="814" y="489"/>
                      </a:lnTo>
                      <a:lnTo>
                        <a:pt x="844" y="450"/>
                      </a:lnTo>
                      <a:lnTo>
                        <a:pt x="871" y="416"/>
                      </a:lnTo>
                      <a:lnTo>
                        <a:pt x="898" y="386"/>
                      </a:lnTo>
                      <a:lnTo>
                        <a:pt x="921" y="361"/>
                      </a:lnTo>
                      <a:lnTo>
                        <a:pt x="941" y="343"/>
                      </a:lnTo>
                      <a:lnTo>
                        <a:pt x="957" y="334"/>
                      </a:lnTo>
                      <a:lnTo>
                        <a:pt x="972" y="329"/>
                      </a:lnTo>
                      <a:lnTo>
                        <a:pt x="987" y="325"/>
                      </a:lnTo>
                      <a:lnTo>
                        <a:pt x="1003" y="319"/>
                      </a:lnTo>
                      <a:lnTo>
                        <a:pt x="1020" y="314"/>
                      </a:lnTo>
                      <a:lnTo>
                        <a:pt x="1036" y="308"/>
                      </a:lnTo>
                      <a:lnTo>
                        <a:pt x="1052" y="303"/>
                      </a:lnTo>
                      <a:lnTo>
                        <a:pt x="1068" y="297"/>
                      </a:lnTo>
                      <a:lnTo>
                        <a:pt x="1084" y="289"/>
                      </a:lnTo>
                      <a:lnTo>
                        <a:pt x="1099" y="281"/>
                      </a:lnTo>
                      <a:lnTo>
                        <a:pt x="1113" y="272"/>
                      </a:lnTo>
                      <a:lnTo>
                        <a:pt x="1126" y="262"/>
                      </a:lnTo>
                      <a:lnTo>
                        <a:pt x="1137" y="251"/>
                      </a:lnTo>
                      <a:lnTo>
                        <a:pt x="1147" y="237"/>
                      </a:lnTo>
                      <a:lnTo>
                        <a:pt x="1154" y="223"/>
                      </a:lnTo>
                      <a:lnTo>
                        <a:pt x="1159" y="207"/>
                      </a:lnTo>
                      <a:lnTo>
                        <a:pt x="1163" y="189"/>
                      </a:lnTo>
                      <a:lnTo>
                        <a:pt x="1164" y="158"/>
                      </a:lnTo>
                      <a:lnTo>
                        <a:pt x="1158" y="125"/>
                      </a:lnTo>
                      <a:lnTo>
                        <a:pt x="1148" y="93"/>
                      </a:lnTo>
                      <a:lnTo>
                        <a:pt x="1131" y="64"/>
                      </a:lnTo>
                      <a:lnTo>
                        <a:pt x="1108" y="39"/>
                      </a:lnTo>
                      <a:lnTo>
                        <a:pt x="1079" y="18"/>
                      </a:lnTo>
                      <a:lnTo>
                        <a:pt x="1043" y="4"/>
                      </a:lnTo>
                      <a:lnTo>
                        <a:pt x="1002" y="0"/>
                      </a:lnTo>
                      <a:lnTo>
                        <a:pt x="974" y="3"/>
                      </a:lnTo>
                      <a:lnTo>
                        <a:pt x="951" y="15"/>
                      </a:lnTo>
                      <a:lnTo>
                        <a:pt x="931" y="31"/>
                      </a:lnTo>
                      <a:lnTo>
                        <a:pt x="916" y="49"/>
                      </a:lnTo>
                      <a:lnTo>
                        <a:pt x="906" y="68"/>
                      </a:lnTo>
                      <a:lnTo>
                        <a:pt x="898" y="83"/>
                      </a:lnTo>
                      <a:lnTo>
                        <a:pt x="893" y="94"/>
                      </a:lnTo>
                      <a:lnTo>
                        <a:pt x="892" y="99"/>
                      </a:lnTo>
                      <a:lnTo>
                        <a:pt x="897" y="97"/>
                      </a:lnTo>
                      <a:lnTo>
                        <a:pt x="908" y="92"/>
                      </a:lnTo>
                      <a:lnTo>
                        <a:pt x="926" y="85"/>
                      </a:lnTo>
                      <a:lnTo>
                        <a:pt x="947" y="78"/>
                      </a:lnTo>
                      <a:lnTo>
                        <a:pt x="970" y="72"/>
                      </a:lnTo>
                      <a:lnTo>
                        <a:pt x="994" y="71"/>
                      </a:lnTo>
                      <a:lnTo>
                        <a:pt x="1015" y="74"/>
                      </a:lnTo>
                      <a:lnTo>
                        <a:pt x="1033" y="82"/>
                      </a:lnTo>
                      <a:lnTo>
                        <a:pt x="1048" y="95"/>
                      </a:lnTo>
                      <a:lnTo>
                        <a:pt x="1061" y="112"/>
                      </a:lnTo>
                      <a:lnTo>
                        <a:pt x="1073" y="130"/>
                      </a:lnTo>
                      <a:lnTo>
                        <a:pt x="1081" y="150"/>
                      </a:lnTo>
                      <a:lnTo>
                        <a:pt x="1087" y="168"/>
                      </a:lnTo>
                      <a:lnTo>
                        <a:pt x="1089" y="185"/>
                      </a:lnTo>
                      <a:lnTo>
                        <a:pt x="1086" y="200"/>
                      </a:lnTo>
                      <a:lnTo>
                        <a:pt x="1078" y="211"/>
                      </a:lnTo>
                      <a:lnTo>
                        <a:pt x="1055" y="227"/>
                      </a:lnTo>
                      <a:lnTo>
                        <a:pt x="1033" y="238"/>
                      </a:lnTo>
                      <a:lnTo>
                        <a:pt x="1012" y="246"/>
                      </a:lnTo>
                      <a:lnTo>
                        <a:pt x="992" y="254"/>
                      </a:lnTo>
                      <a:lnTo>
                        <a:pt x="972" y="264"/>
                      </a:lnTo>
                      <a:lnTo>
                        <a:pt x="950" y="273"/>
                      </a:lnTo>
                      <a:lnTo>
                        <a:pt x="928" y="287"/>
                      </a:lnTo>
                      <a:lnTo>
                        <a:pt x="904" y="305"/>
                      </a:lnTo>
                      <a:lnTo>
                        <a:pt x="893" y="317"/>
                      </a:lnTo>
                      <a:lnTo>
                        <a:pt x="876" y="334"/>
                      </a:lnTo>
                      <a:lnTo>
                        <a:pt x="855" y="359"/>
                      </a:lnTo>
                      <a:lnTo>
                        <a:pt x="831" y="389"/>
                      </a:lnTo>
                      <a:lnTo>
                        <a:pt x="802" y="423"/>
                      </a:lnTo>
                      <a:lnTo>
                        <a:pt x="772" y="459"/>
                      </a:lnTo>
                      <a:lnTo>
                        <a:pt x="740" y="499"/>
                      </a:lnTo>
                      <a:lnTo>
                        <a:pt x="707" y="539"/>
                      </a:lnTo>
                      <a:lnTo>
                        <a:pt x="673" y="579"/>
                      </a:lnTo>
                      <a:lnTo>
                        <a:pt x="640" y="618"/>
                      </a:lnTo>
                      <a:lnTo>
                        <a:pt x="609" y="655"/>
                      </a:lnTo>
                      <a:lnTo>
                        <a:pt x="579" y="689"/>
                      </a:lnTo>
                      <a:lnTo>
                        <a:pt x="552" y="719"/>
                      </a:lnTo>
                      <a:lnTo>
                        <a:pt x="528" y="742"/>
                      </a:lnTo>
                      <a:lnTo>
                        <a:pt x="509" y="759"/>
                      </a:lnTo>
                      <a:lnTo>
                        <a:pt x="495" y="769"/>
                      </a:lnTo>
                      <a:lnTo>
                        <a:pt x="472" y="780"/>
                      </a:lnTo>
                      <a:lnTo>
                        <a:pt x="451" y="789"/>
                      </a:lnTo>
                      <a:lnTo>
                        <a:pt x="432" y="795"/>
                      </a:lnTo>
                      <a:lnTo>
                        <a:pt x="413" y="799"/>
                      </a:lnTo>
                      <a:lnTo>
                        <a:pt x="397" y="801"/>
                      </a:lnTo>
                      <a:lnTo>
                        <a:pt x="381" y="803"/>
                      </a:lnTo>
                      <a:lnTo>
                        <a:pt x="367" y="801"/>
                      </a:lnTo>
                      <a:lnTo>
                        <a:pt x="353" y="800"/>
                      </a:lnTo>
                      <a:lnTo>
                        <a:pt x="342" y="797"/>
                      </a:lnTo>
                      <a:lnTo>
                        <a:pt x="329" y="793"/>
                      </a:lnTo>
                      <a:lnTo>
                        <a:pt x="319" y="789"/>
                      </a:lnTo>
                      <a:lnTo>
                        <a:pt x="307" y="784"/>
                      </a:lnTo>
                      <a:lnTo>
                        <a:pt x="297" y="778"/>
                      </a:lnTo>
                      <a:lnTo>
                        <a:pt x="286" y="773"/>
                      </a:lnTo>
                      <a:lnTo>
                        <a:pt x="277" y="767"/>
                      </a:lnTo>
                      <a:lnTo>
                        <a:pt x="267" y="762"/>
                      </a:lnTo>
                      <a:lnTo>
                        <a:pt x="254" y="757"/>
                      </a:lnTo>
                      <a:lnTo>
                        <a:pt x="239" y="750"/>
                      </a:lnTo>
                      <a:lnTo>
                        <a:pt x="221" y="742"/>
                      </a:lnTo>
                      <a:lnTo>
                        <a:pt x="201" y="733"/>
                      </a:lnTo>
                      <a:lnTo>
                        <a:pt x="180" y="725"/>
                      </a:lnTo>
                      <a:lnTo>
                        <a:pt x="159" y="717"/>
                      </a:lnTo>
                      <a:lnTo>
                        <a:pt x="136" y="708"/>
                      </a:lnTo>
                      <a:lnTo>
                        <a:pt x="114" y="700"/>
                      </a:lnTo>
                      <a:lnTo>
                        <a:pt x="93" y="692"/>
                      </a:lnTo>
                      <a:lnTo>
                        <a:pt x="72" y="684"/>
                      </a:lnTo>
                      <a:lnTo>
                        <a:pt x="54" y="677"/>
                      </a:lnTo>
                      <a:lnTo>
                        <a:pt x="38" y="671"/>
                      </a:lnTo>
                      <a:lnTo>
                        <a:pt x="25" y="666"/>
                      </a:lnTo>
                      <a:lnTo>
                        <a:pt x="15" y="662"/>
                      </a:lnTo>
                      <a:lnTo>
                        <a:pt x="8" y="660"/>
                      </a:lnTo>
                      <a:lnTo>
                        <a:pt x="5" y="659"/>
                      </a:lnTo>
                      <a:lnTo>
                        <a:pt x="0" y="7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55920" y="3728520"/>
                  <a:ext cx="137160" cy="71640"/>
                </a:xfrm>
                <a:custGeom>
                  <a:avLst/>
                  <a:gdLst/>
                  <a:ahLst/>
                  <a:rect l="l" t="t" r="r" b="b"/>
                  <a:pathLst>
                    <a:path w="350" h="163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5" y="2"/>
                      </a:lnTo>
                      <a:lnTo>
                        <a:pt x="10" y="2"/>
                      </a:lnTo>
                      <a:lnTo>
                        <a:pt x="16" y="1"/>
                      </a:lnTo>
                      <a:lnTo>
                        <a:pt x="23" y="0"/>
                      </a:lnTo>
                      <a:lnTo>
                        <a:pt x="32" y="0"/>
                      </a:lnTo>
                      <a:lnTo>
                        <a:pt x="42" y="0"/>
                      </a:lnTo>
                      <a:lnTo>
                        <a:pt x="54" y="1"/>
                      </a:lnTo>
                      <a:lnTo>
                        <a:pt x="67" y="3"/>
                      </a:lnTo>
                      <a:lnTo>
                        <a:pt x="84" y="5"/>
                      </a:lnTo>
                      <a:lnTo>
                        <a:pt x="101" y="10"/>
                      </a:lnTo>
                      <a:lnTo>
                        <a:pt x="119" y="15"/>
                      </a:lnTo>
                      <a:lnTo>
                        <a:pt x="141" y="22"/>
                      </a:lnTo>
                      <a:lnTo>
                        <a:pt x="163" y="31"/>
                      </a:lnTo>
                      <a:lnTo>
                        <a:pt x="188" y="41"/>
                      </a:lnTo>
                      <a:lnTo>
                        <a:pt x="232" y="63"/>
                      </a:lnTo>
                      <a:lnTo>
                        <a:pt x="268" y="85"/>
                      </a:lnTo>
                      <a:lnTo>
                        <a:pt x="297" y="106"/>
                      </a:lnTo>
                      <a:lnTo>
                        <a:pt x="317" y="124"/>
                      </a:lnTo>
                      <a:lnTo>
                        <a:pt x="332" y="140"/>
                      </a:lnTo>
                      <a:lnTo>
                        <a:pt x="343" y="152"/>
                      </a:lnTo>
                      <a:lnTo>
                        <a:pt x="348" y="160"/>
                      </a:lnTo>
                      <a:lnTo>
                        <a:pt x="350" y="163"/>
                      </a:lnTo>
                      <a:lnTo>
                        <a:pt x="347" y="162"/>
                      </a:lnTo>
                      <a:lnTo>
                        <a:pt x="343" y="160"/>
                      </a:lnTo>
                      <a:lnTo>
                        <a:pt x="335" y="155"/>
                      </a:lnTo>
                      <a:lnTo>
                        <a:pt x="325" y="149"/>
                      </a:lnTo>
                      <a:lnTo>
                        <a:pt x="313" y="142"/>
                      </a:lnTo>
                      <a:lnTo>
                        <a:pt x="299" y="134"/>
                      </a:lnTo>
                      <a:lnTo>
                        <a:pt x="284" y="126"/>
                      </a:lnTo>
                      <a:lnTo>
                        <a:pt x="268" y="117"/>
                      </a:lnTo>
                      <a:lnTo>
                        <a:pt x="251" y="108"/>
                      </a:lnTo>
                      <a:lnTo>
                        <a:pt x="234" y="99"/>
                      </a:lnTo>
                      <a:lnTo>
                        <a:pt x="218" y="90"/>
                      </a:lnTo>
                      <a:lnTo>
                        <a:pt x="203" y="81"/>
                      </a:lnTo>
                      <a:lnTo>
                        <a:pt x="188" y="73"/>
                      </a:lnTo>
                      <a:lnTo>
                        <a:pt x="176" y="68"/>
                      </a:lnTo>
                      <a:lnTo>
                        <a:pt x="164" y="62"/>
                      </a:lnTo>
                      <a:lnTo>
                        <a:pt x="156" y="57"/>
                      </a:lnTo>
                      <a:lnTo>
                        <a:pt x="138" y="49"/>
                      </a:lnTo>
                      <a:lnTo>
                        <a:pt x="115" y="41"/>
                      </a:lnTo>
                      <a:lnTo>
                        <a:pt x="88" y="32"/>
                      </a:lnTo>
                      <a:lnTo>
                        <a:pt x="63" y="24"/>
                      </a:lnTo>
                      <a:lnTo>
                        <a:pt x="39" y="16"/>
                      </a:lnTo>
                      <a:lnTo>
                        <a:pt x="18" y="10"/>
                      </a:lnTo>
                      <a:lnTo>
                        <a:pt x="4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745200" y="3795120"/>
                  <a:ext cx="45360" cy="120600"/>
                </a:xfrm>
                <a:custGeom>
                  <a:avLst/>
                  <a:gdLst/>
                  <a:ahLst/>
                  <a:rect l="l" t="t" r="r" b="b"/>
                  <a:pathLst>
                    <a:path w="115" h="276">
                      <a:moveTo>
                        <a:pt x="115" y="0"/>
                      </a:moveTo>
                      <a:lnTo>
                        <a:pt x="114" y="1"/>
                      </a:lnTo>
                      <a:lnTo>
                        <a:pt x="110" y="5"/>
                      </a:lnTo>
                      <a:lnTo>
                        <a:pt x="104" y="11"/>
                      </a:lnTo>
                      <a:lnTo>
                        <a:pt x="97" y="20"/>
                      </a:lnTo>
                      <a:lnTo>
                        <a:pt x="89" y="32"/>
                      </a:lnTo>
                      <a:lnTo>
                        <a:pt x="81" y="46"/>
                      </a:lnTo>
                      <a:lnTo>
                        <a:pt x="74" y="61"/>
                      </a:lnTo>
                      <a:lnTo>
                        <a:pt x="67" y="79"/>
                      </a:lnTo>
                      <a:lnTo>
                        <a:pt x="56" y="131"/>
                      </a:lnTo>
                      <a:lnTo>
                        <a:pt x="47" y="196"/>
                      </a:lnTo>
                      <a:lnTo>
                        <a:pt x="42" y="252"/>
                      </a:lnTo>
                      <a:lnTo>
                        <a:pt x="40" y="276"/>
                      </a:lnTo>
                      <a:lnTo>
                        <a:pt x="38" y="270"/>
                      </a:lnTo>
                      <a:lnTo>
                        <a:pt x="32" y="256"/>
                      </a:lnTo>
                      <a:lnTo>
                        <a:pt x="24" y="234"/>
                      </a:lnTo>
                      <a:lnTo>
                        <a:pt x="15" y="207"/>
                      </a:lnTo>
                      <a:lnTo>
                        <a:pt x="6" y="176"/>
                      </a:lnTo>
                      <a:lnTo>
                        <a:pt x="2" y="142"/>
                      </a:lnTo>
                      <a:lnTo>
                        <a:pt x="0" y="108"/>
                      </a:lnTo>
                      <a:lnTo>
                        <a:pt x="4" y="76"/>
                      </a:lnTo>
                      <a:lnTo>
                        <a:pt x="16" y="48"/>
                      </a:lnTo>
                      <a:lnTo>
                        <a:pt x="31" y="27"/>
                      </a:lnTo>
                      <a:lnTo>
                        <a:pt x="49" y="13"/>
                      </a:lnTo>
                      <a:lnTo>
                        <a:pt x="67" y="5"/>
                      </a:lnTo>
                      <a:lnTo>
                        <a:pt x="86" y="1"/>
                      </a:lnTo>
                      <a:lnTo>
                        <a:pt x="101" y="0"/>
                      </a:lnTo>
                      <a:lnTo>
                        <a:pt x="111" y="0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805680" y="3667320"/>
                  <a:ext cx="113760" cy="111960"/>
                </a:xfrm>
                <a:custGeom>
                  <a:avLst/>
                  <a:gdLst/>
                  <a:ahLst/>
                  <a:rect l="l" t="t" r="r" b="b"/>
                  <a:pathLst>
                    <a:path w="290" h="257">
                      <a:moveTo>
                        <a:pt x="275" y="191"/>
                      </a:moveTo>
                      <a:lnTo>
                        <a:pt x="277" y="185"/>
                      </a:lnTo>
                      <a:lnTo>
                        <a:pt x="283" y="169"/>
                      </a:lnTo>
                      <a:lnTo>
                        <a:pt x="288" y="146"/>
                      </a:lnTo>
                      <a:lnTo>
                        <a:pt x="290" y="119"/>
                      </a:lnTo>
                      <a:lnTo>
                        <a:pt x="285" y="89"/>
                      </a:lnTo>
                      <a:lnTo>
                        <a:pt x="271" y="60"/>
                      </a:lnTo>
                      <a:lnTo>
                        <a:pt x="246" y="35"/>
                      </a:lnTo>
                      <a:lnTo>
                        <a:pt x="206" y="15"/>
                      </a:lnTo>
                      <a:lnTo>
                        <a:pt x="187" y="10"/>
                      </a:lnTo>
                      <a:lnTo>
                        <a:pt x="170" y="6"/>
                      </a:lnTo>
                      <a:lnTo>
                        <a:pt x="154" y="2"/>
                      </a:lnTo>
                      <a:lnTo>
                        <a:pt x="138" y="1"/>
                      </a:lnTo>
                      <a:lnTo>
                        <a:pt x="123" y="0"/>
                      </a:lnTo>
                      <a:lnTo>
                        <a:pt x="109" y="1"/>
                      </a:lnTo>
                      <a:lnTo>
                        <a:pt x="95" y="2"/>
                      </a:lnTo>
                      <a:lnTo>
                        <a:pt x="83" y="6"/>
                      </a:lnTo>
                      <a:lnTo>
                        <a:pt x="71" y="10"/>
                      </a:lnTo>
                      <a:lnTo>
                        <a:pt x="60" y="16"/>
                      </a:lnTo>
                      <a:lnTo>
                        <a:pt x="49" y="24"/>
                      </a:lnTo>
                      <a:lnTo>
                        <a:pt x="40" y="32"/>
                      </a:lnTo>
                      <a:lnTo>
                        <a:pt x="31" y="43"/>
                      </a:lnTo>
                      <a:lnTo>
                        <a:pt x="22" y="55"/>
                      </a:lnTo>
                      <a:lnTo>
                        <a:pt x="14" y="69"/>
                      </a:lnTo>
                      <a:lnTo>
                        <a:pt x="7" y="84"/>
                      </a:lnTo>
                      <a:lnTo>
                        <a:pt x="0" y="112"/>
                      </a:lnTo>
                      <a:lnTo>
                        <a:pt x="1" y="142"/>
                      </a:lnTo>
                      <a:lnTo>
                        <a:pt x="8" y="170"/>
                      </a:lnTo>
                      <a:lnTo>
                        <a:pt x="18" y="197"/>
                      </a:lnTo>
                      <a:lnTo>
                        <a:pt x="31" y="221"/>
                      </a:lnTo>
                      <a:lnTo>
                        <a:pt x="42" y="240"/>
                      </a:lnTo>
                      <a:lnTo>
                        <a:pt x="50" y="252"/>
                      </a:lnTo>
                      <a:lnTo>
                        <a:pt x="54" y="257"/>
                      </a:lnTo>
                      <a:lnTo>
                        <a:pt x="53" y="251"/>
                      </a:lnTo>
                      <a:lnTo>
                        <a:pt x="50" y="235"/>
                      </a:lnTo>
                      <a:lnTo>
                        <a:pt x="48" y="212"/>
                      </a:lnTo>
                      <a:lnTo>
                        <a:pt x="47" y="184"/>
                      </a:lnTo>
                      <a:lnTo>
                        <a:pt x="47" y="155"/>
                      </a:lnTo>
                      <a:lnTo>
                        <a:pt x="50" y="129"/>
                      </a:lnTo>
                      <a:lnTo>
                        <a:pt x="57" y="106"/>
                      </a:lnTo>
                      <a:lnTo>
                        <a:pt x="70" y="92"/>
                      </a:lnTo>
                      <a:lnTo>
                        <a:pt x="90" y="82"/>
                      </a:lnTo>
                      <a:lnTo>
                        <a:pt x="111" y="74"/>
                      </a:lnTo>
                      <a:lnTo>
                        <a:pt x="133" y="69"/>
                      </a:lnTo>
                      <a:lnTo>
                        <a:pt x="155" y="68"/>
                      </a:lnTo>
                      <a:lnTo>
                        <a:pt x="175" y="69"/>
                      </a:lnTo>
                      <a:lnTo>
                        <a:pt x="193" y="73"/>
                      </a:lnTo>
                      <a:lnTo>
                        <a:pt x="209" y="79"/>
                      </a:lnTo>
                      <a:lnTo>
                        <a:pt x="222" y="89"/>
                      </a:lnTo>
                      <a:lnTo>
                        <a:pt x="232" y="101"/>
                      </a:lnTo>
                      <a:lnTo>
                        <a:pt x="242" y="116"/>
                      </a:lnTo>
                      <a:lnTo>
                        <a:pt x="251" y="134"/>
                      </a:lnTo>
                      <a:lnTo>
                        <a:pt x="259" y="151"/>
                      </a:lnTo>
                      <a:lnTo>
                        <a:pt x="266" y="166"/>
                      </a:lnTo>
                      <a:lnTo>
                        <a:pt x="270" y="180"/>
                      </a:lnTo>
                      <a:lnTo>
                        <a:pt x="274" y="188"/>
                      </a:lnTo>
                      <a:lnTo>
                        <a:pt x="275" y="1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503640" y="3296160"/>
                  <a:ext cx="354240" cy="403200"/>
                </a:xfrm>
                <a:custGeom>
                  <a:avLst/>
                  <a:gdLst/>
                  <a:ahLst/>
                  <a:rect l="l" t="t" r="r" b="b"/>
                  <a:pathLst>
                    <a:path w="904" h="923">
                      <a:moveTo>
                        <a:pt x="904" y="891"/>
                      </a:moveTo>
                      <a:lnTo>
                        <a:pt x="899" y="881"/>
                      </a:lnTo>
                      <a:lnTo>
                        <a:pt x="880" y="855"/>
                      </a:lnTo>
                      <a:lnTo>
                        <a:pt x="854" y="813"/>
                      </a:lnTo>
                      <a:lnTo>
                        <a:pt x="817" y="759"/>
                      </a:lnTo>
                      <a:lnTo>
                        <a:pt x="773" y="695"/>
                      </a:lnTo>
                      <a:lnTo>
                        <a:pt x="725" y="622"/>
                      </a:lnTo>
                      <a:lnTo>
                        <a:pt x="671" y="545"/>
                      </a:lnTo>
                      <a:lnTo>
                        <a:pt x="614" y="466"/>
                      </a:lnTo>
                      <a:lnTo>
                        <a:pt x="554" y="384"/>
                      </a:lnTo>
                      <a:lnTo>
                        <a:pt x="495" y="306"/>
                      </a:lnTo>
                      <a:lnTo>
                        <a:pt x="438" y="231"/>
                      </a:lnTo>
                      <a:lnTo>
                        <a:pt x="381" y="163"/>
                      </a:lnTo>
                      <a:lnTo>
                        <a:pt x="330" y="103"/>
                      </a:lnTo>
                      <a:lnTo>
                        <a:pt x="282" y="54"/>
                      </a:lnTo>
                      <a:lnTo>
                        <a:pt x="242" y="21"/>
                      </a:lnTo>
                      <a:lnTo>
                        <a:pt x="209" y="3"/>
                      </a:lnTo>
                      <a:lnTo>
                        <a:pt x="191" y="0"/>
                      </a:lnTo>
                      <a:lnTo>
                        <a:pt x="173" y="1"/>
                      </a:lnTo>
                      <a:lnTo>
                        <a:pt x="153" y="7"/>
                      </a:lnTo>
                      <a:lnTo>
                        <a:pt x="134" y="16"/>
                      </a:lnTo>
                      <a:lnTo>
                        <a:pt x="113" y="29"/>
                      </a:lnTo>
                      <a:lnTo>
                        <a:pt x="92" y="44"/>
                      </a:lnTo>
                      <a:lnTo>
                        <a:pt x="73" y="61"/>
                      </a:lnTo>
                      <a:lnTo>
                        <a:pt x="56" y="80"/>
                      </a:lnTo>
                      <a:lnTo>
                        <a:pt x="38" y="99"/>
                      </a:lnTo>
                      <a:lnTo>
                        <a:pt x="24" y="120"/>
                      </a:lnTo>
                      <a:lnTo>
                        <a:pt x="13" y="141"/>
                      </a:lnTo>
                      <a:lnTo>
                        <a:pt x="5" y="162"/>
                      </a:lnTo>
                      <a:lnTo>
                        <a:pt x="0" y="181"/>
                      </a:lnTo>
                      <a:lnTo>
                        <a:pt x="0" y="200"/>
                      </a:lnTo>
                      <a:lnTo>
                        <a:pt x="5" y="216"/>
                      </a:lnTo>
                      <a:lnTo>
                        <a:pt x="15" y="231"/>
                      </a:lnTo>
                      <a:lnTo>
                        <a:pt x="23" y="239"/>
                      </a:lnTo>
                      <a:lnTo>
                        <a:pt x="35" y="250"/>
                      </a:lnTo>
                      <a:lnTo>
                        <a:pt x="50" y="264"/>
                      </a:lnTo>
                      <a:lnTo>
                        <a:pt x="67" y="281"/>
                      </a:lnTo>
                      <a:lnTo>
                        <a:pt x="88" y="300"/>
                      </a:lnTo>
                      <a:lnTo>
                        <a:pt x="111" y="321"/>
                      </a:lnTo>
                      <a:lnTo>
                        <a:pt x="136" y="345"/>
                      </a:lnTo>
                      <a:lnTo>
                        <a:pt x="164" y="369"/>
                      </a:lnTo>
                      <a:lnTo>
                        <a:pt x="193" y="395"/>
                      </a:lnTo>
                      <a:lnTo>
                        <a:pt x="224" y="423"/>
                      </a:lnTo>
                      <a:lnTo>
                        <a:pt x="255" y="452"/>
                      </a:lnTo>
                      <a:lnTo>
                        <a:pt x="288" y="481"/>
                      </a:lnTo>
                      <a:lnTo>
                        <a:pt x="322" y="512"/>
                      </a:lnTo>
                      <a:lnTo>
                        <a:pt x="356" y="542"/>
                      </a:lnTo>
                      <a:lnTo>
                        <a:pt x="391" y="573"/>
                      </a:lnTo>
                      <a:lnTo>
                        <a:pt x="425" y="604"/>
                      </a:lnTo>
                      <a:lnTo>
                        <a:pt x="460" y="634"/>
                      </a:lnTo>
                      <a:lnTo>
                        <a:pt x="493" y="665"/>
                      </a:lnTo>
                      <a:lnTo>
                        <a:pt x="527" y="694"/>
                      </a:lnTo>
                      <a:lnTo>
                        <a:pt x="559" y="722"/>
                      </a:lnTo>
                      <a:lnTo>
                        <a:pt x="590" y="750"/>
                      </a:lnTo>
                      <a:lnTo>
                        <a:pt x="620" y="777"/>
                      </a:lnTo>
                      <a:lnTo>
                        <a:pt x="647" y="802"/>
                      </a:lnTo>
                      <a:lnTo>
                        <a:pt x="674" y="825"/>
                      </a:lnTo>
                      <a:lnTo>
                        <a:pt x="698" y="846"/>
                      </a:lnTo>
                      <a:lnTo>
                        <a:pt x="719" y="865"/>
                      </a:lnTo>
                      <a:lnTo>
                        <a:pt x="738" y="881"/>
                      </a:lnTo>
                      <a:lnTo>
                        <a:pt x="755" y="896"/>
                      </a:lnTo>
                      <a:lnTo>
                        <a:pt x="767" y="908"/>
                      </a:lnTo>
                      <a:lnTo>
                        <a:pt x="776" y="916"/>
                      </a:lnTo>
                      <a:lnTo>
                        <a:pt x="782" y="921"/>
                      </a:lnTo>
                      <a:lnTo>
                        <a:pt x="785" y="923"/>
                      </a:lnTo>
                      <a:lnTo>
                        <a:pt x="778" y="915"/>
                      </a:lnTo>
                      <a:lnTo>
                        <a:pt x="757" y="894"/>
                      </a:lnTo>
                      <a:lnTo>
                        <a:pt x="725" y="860"/>
                      </a:lnTo>
                      <a:lnTo>
                        <a:pt x="683" y="816"/>
                      </a:lnTo>
                      <a:lnTo>
                        <a:pt x="634" y="764"/>
                      </a:lnTo>
                      <a:lnTo>
                        <a:pt x="578" y="705"/>
                      </a:lnTo>
                      <a:lnTo>
                        <a:pt x="519" y="643"/>
                      </a:lnTo>
                      <a:lnTo>
                        <a:pt x="457" y="577"/>
                      </a:lnTo>
                      <a:lnTo>
                        <a:pt x="396" y="513"/>
                      </a:lnTo>
                      <a:lnTo>
                        <a:pt x="337" y="448"/>
                      </a:lnTo>
                      <a:lnTo>
                        <a:pt x="280" y="388"/>
                      </a:lnTo>
                      <a:lnTo>
                        <a:pt x="228" y="333"/>
                      </a:lnTo>
                      <a:lnTo>
                        <a:pt x="185" y="285"/>
                      </a:lnTo>
                      <a:lnTo>
                        <a:pt x="150" y="247"/>
                      </a:lnTo>
                      <a:lnTo>
                        <a:pt x="126" y="219"/>
                      </a:lnTo>
                      <a:lnTo>
                        <a:pt x="115" y="205"/>
                      </a:lnTo>
                      <a:lnTo>
                        <a:pt x="112" y="190"/>
                      </a:lnTo>
                      <a:lnTo>
                        <a:pt x="115" y="173"/>
                      </a:lnTo>
                      <a:lnTo>
                        <a:pt x="125" y="156"/>
                      </a:lnTo>
                      <a:lnTo>
                        <a:pt x="137" y="141"/>
                      </a:lnTo>
                      <a:lnTo>
                        <a:pt x="153" y="129"/>
                      </a:lnTo>
                      <a:lnTo>
                        <a:pt x="170" y="121"/>
                      </a:lnTo>
                      <a:lnTo>
                        <a:pt x="187" y="120"/>
                      </a:lnTo>
                      <a:lnTo>
                        <a:pt x="201" y="126"/>
                      </a:lnTo>
                      <a:lnTo>
                        <a:pt x="213" y="140"/>
                      </a:lnTo>
                      <a:lnTo>
                        <a:pt x="240" y="167"/>
                      </a:lnTo>
                      <a:lnTo>
                        <a:pt x="278" y="208"/>
                      </a:lnTo>
                      <a:lnTo>
                        <a:pt x="324" y="257"/>
                      </a:lnTo>
                      <a:lnTo>
                        <a:pt x="378" y="316"/>
                      </a:lnTo>
                      <a:lnTo>
                        <a:pt x="438" y="380"/>
                      </a:lnTo>
                      <a:lnTo>
                        <a:pt x="500" y="448"/>
                      </a:lnTo>
                      <a:lnTo>
                        <a:pt x="565" y="519"/>
                      </a:lnTo>
                      <a:lnTo>
                        <a:pt x="629" y="589"/>
                      </a:lnTo>
                      <a:lnTo>
                        <a:pt x="690" y="656"/>
                      </a:lnTo>
                      <a:lnTo>
                        <a:pt x="748" y="719"/>
                      </a:lnTo>
                      <a:lnTo>
                        <a:pt x="798" y="775"/>
                      </a:lnTo>
                      <a:lnTo>
                        <a:pt x="842" y="823"/>
                      </a:lnTo>
                      <a:lnTo>
                        <a:pt x="876" y="858"/>
                      </a:lnTo>
                      <a:lnTo>
                        <a:pt x="896" y="883"/>
                      </a:lnTo>
                      <a:lnTo>
                        <a:pt x="904" y="8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77480" y="3873960"/>
                  <a:ext cx="135720" cy="149400"/>
                </a:xfrm>
                <a:custGeom>
                  <a:avLst/>
                  <a:gdLst/>
                  <a:ahLst/>
                  <a:rect l="l" t="t" r="r" b="b"/>
                  <a:pathLst>
                    <a:path w="346" h="343">
                      <a:moveTo>
                        <a:pt x="211" y="266"/>
                      </a:moveTo>
                      <a:lnTo>
                        <a:pt x="182" y="263"/>
                      </a:lnTo>
                      <a:lnTo>
                        <a:pt x="154" y="255"/>
                      </a:lnTo>
                      <a:lnTo>
                        <a:pt x="130" y="242"/>
                      </a:lnTo>
                      <a:lnTo>
                        <a:pt x="109" y="224"/>
                      </a:lnTo>
                      <a:lnTo>
                        <a:pt x="91" y="203"/>
                      </a:lnTo>
                      <a:lnTo>
                        <a:pt x="78" y="179"/>
                      </a:lnTo>
                      <a:lnTo>
                        <a:pt x="70" y="152"/>
                      </a:lnTo>
                      <a:lnTo>
                        <a:pt x="67" y="123"/>
                      </a:lnTo>
                      <a:lnTo>
                        <a:pt x="68" y="104"/>
                      </a:lnTo>
                      <a:lnTo>
                        <a:pt x="71" y="85"/>
                      </a:lnTo>
                      <a:lnTo>
                        <a:pt x="78" y="67"/>
                      </a:lnTo>
                      <a:lnTo>
                        <a:pt x="86" y="51"/>
                      </a:lnTo>
                      <a:lnTo>
                        <a:pt x="97" y="36"/>
                      </a:lnTo>
                      <a:lnTo>
                        <a:pt x="109" y="22"/>
                      </a:lnTo>
                      <a:lnTo>
                        <a:pt x="123" y="11"/>
                      </a:lnTo>
                      <a:lnTo>
                        <a:pt x="138" y="0"/>
                      </a:lnTo>
                      <a:lnTo>
                        <a:pt x="109" y="8"/>
                      </a:lnTo>
                      <a:lnTo>
                        <a:pt x="83" y="22"/>
                      </a:lnTo>
                      <a:lnTo>
                        <a:pt x="60" y="38"/>
                      </a:lnTo>
                      <a:lnTo>
                        <a:pt x="39" y="59"/>
                      </a:lnTo>
                      <a:lnTo>
                        <a:pt x="23" y="83"/>
                      </a:lnTo>
                      <a:lnTo>
                        <a:pt x="10" y="110"/>
                      </a:lnTo>
                      <a:lnTo>
                        <a:pt x="2" y="138"/>
                      </a:lnTo>
                      <a:lnTo>
                        <a:pt x="0" y="170"/>
                      </a:lnTo>
                      <a:lnTo>
                        <a:pt x="3" y="204"/>
                      </a:lnTo>
                      <a:lnTo>
                        <a:pt x="14" y="237"/>
                      </a:lnTo>
                      <a:lnTo>
                        <a:pt x="30" y="266"/>
                      </a:lnTo>
                      <a:lnTo>
                        <a:pt x="50" y="293"/>
                      </a:lnTo>
                      <a:lnTo>
                        <a:pt x="76" y="313"/>
                      </a:lnTo>
                      <a:lnTo>
                        <a:pt x="106" y="330"/>
                      </a:lnTo>
                      <a:lnTo>
                        <a:pt x="138" y="340"/>
                      </a:lnTo>
                      <a:lnTo>
                        <a:pt x="173" y="343"/>
                      </a:lnTo>
                      <a:lnTo>
                        <a:pt x="207" y="340"/>
                      </a:lnTo>
                      <a:lnTo>
                        <a:pt x="241" y="330"/>
                      </a:lnTo>
                      <a:lnTo>
                        <a:pt x="269" y="313"/>
                      </a:lnTo>
                      <a:lnTo>
                        <a:pt x="296" y="293"/>
                      </a:lnTo>
                      <a:lnTo>
                        <a:pt x="317" y="266"/>
                      </a:lnTo>
                      <a:lnTo>
                        <a:pt x="333" y="237"/>
                      </a:lnTo>
                      <a:lnTo>
                        <a:pt x="343" y="204"/>
                      </a:lnTo>
                      <a:lnTo>
                        <a:pt x="346" y="170"/>
                      </a:lnTo>
                      <a:lnTo>
                        <a:pt x="346" y="168"/>
                      </a:lnTo>
                      <a:lnTo>
                        <a:pt x="346" y="168"/>
                      </a:lnTo>
                      <a:lnTo>
                        <a:pt x="346" y="168"/>
                      </a:lnTo>
                      <a:lnTo>
                        <a:pt x="346" y="167"/>
                      </a:lnTo>
                      <a:lnTo>
                        <a:pt x="338" y="188"/>
                      </a:lnTo>
                      <a:lnTo>
                        <a:pt x="327" y="208"/>
                      </a:lnTo>
                      <a:lnTo>
                        <a:pt x="312" y="224"/>
                      </a:lnTo>
                      <a:lnTo>
                        <a:pt x="296" y="239"/>
                      </a:lnTo>
                      <a:lnTo>
                        <a:pt x="276" y="250"/>
                      </a:lnTo>
                      <a:lnTo>
                        <a:pt x="255" y="259"/>
                      </a:lnTo>
                      <a:lnTo>
                        <a:pt x="234" y="264"/>
                      </a:lnTo>
                      <a:lnTo>
                        <a:pt x="211" y="2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3" name=""/>
          <p:cNvGrpSpPr/>
          <p:nvPr/>
        </p:nvGrpSpPr>
        <p:grpSpPr>
          <a:xfrm>
            <a:off x="7740720" y="6238800"/>
            <a:ext cx="1238040" cy="441360"/>
            <a:chOff x="7740720" y="6238800"/>
            <a:chExt cx="1238040" cy="441360"/>
          </a:xfrm>
        </p:grpSpPr>
        <p:sp>
          <p:nvSpPr>
            <p:cNvPr id="64" name=""/>
            <p:cNvSpPr txBox="1"/>
            <p:nvPr/>
          </p:nvSpPr>
          <p:spPr>
            <a:xfrm>
              <a:off x="8633880" y="6406560"/>
              <a:ext cx="344880" cy="27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8329320" y="6309000"/>
              <a:ext cx="446400" cy="371160"/>
              <a:chOff x="8329320" y="6309000"/>
              <a:chExt cx="446400" cy="371160"/>
            </a:xfrm>
          </p:grpSpPr>
          <p:sp>
            <p:nvSpPr>
              <p:cNvPr id="66" name=""/>
              <p:cNvSpPr/>
              <p:nvPr/>
            </p:nvSpPr>
            <p:spPr>
              <a:xfrm>
                <a:off x="8329320" y="6309000"/>
                <a:ext cx="446400" cy="37116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11f75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454600" y="6348960"/>
                <a:ext cx="206640" cy="20664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11f75"/>
                  </a:solidFill>
                  <a:latin typeface="Arial"/>
                </a:endParaRPr>
              </a:p>
            </p:txBody>
          </p:sp>
        </p:grpSp>
        <p:sp>
          <p:nvSpPr>
            <p:cNvPr id="68" name=""/>
            <p:cNvSpPr txBox="1"/>
            <p:nvPr/>
          </p:nvSpPr>
          <p:spPr>
            <a:xfrm>
              <a:off x="7740720" y="6238800"/>
              <a:ext cx="832320" cy="26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11f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11f7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11f7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11f75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11f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0968-8DC5-4073-A38C-5FD7ABB7FE2F}" type="slidenum">
              <a:rPr b="0" lang="en-US" sz="1400" spc="-1" strike="noStrike">
                <a:solidFill>
                  <a:srgbClr val="311f7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11f75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11f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11f75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11f75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11f75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94760" y="2760840"/>
            <a:ext cx="1284840" cy="3223800"/>
            <a:chOff x="194760" y="2760840"/>
            <a:chExt cx="1284840" cy="3223800"/>
          </a:xfrm>
        </p:grpSpPr>
        <p:grpSp>
          <p:nvGrpSpPr>
            <p:cNvPr id="114" name=""/>
            <p:cNvGrpSpPr/>
            <p:nvPr/>
          </p:nvGrpSpPr>
          <p:grpSpPr>
            <a:xfrm>
              <a:off x="194760" y="2760840"/>
              <a:ext cx="1284840" cy="2053080"/>
              <a:chOff x="194760" y="2760840"/>
              <a:chExt cx="1284840" cy="205308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194760" y="3641400"/>
                <a:ext cx="1141200" cy="1172520"/>
                <a:chOff x="194760" y="3641400"/>
                <a:chExt cx="1141200" cy="1172520"/>
              </a:xfrm>
            </p:grpSpPr>
            <p:grpSp>
              <p:nvGrpSpPr>
                <p:cNvPr id="116" name=""/>
                <p:cNvGrpSpPr/>
                <p:nvPr/>
              </p:nvGrpSpPr>
              <p:grpSpPr>
                <a:xfrm>
                  <a:off x="194760" y="3641400"/>
                  <a:ext cx="1141200" cy="1172520"/>
                  <a:chOff x="194760" y="3641400"/>
                  <a:chExt cx="1141200" cy="117252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>
                    <a:off x="1055160" y="3985560"/>
                    <a:ext cx="203760" cy="23868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469">
                        <a:moveTo>
                          <a:pt x="15" y="0"/>
                        </a:moveTo>
                        <a:lnTo>
                          <a:pt x="16" y="5"/>
                        </a:lnTo>
                        <a:lnTo>
                          <a:pt x="19" y="16"/>
                        </a:lnTo>
                        <a:lnTo>
                          <a:pt x="24" y="34"/>
                        </a:lnTo>
                        <a:lnTo>
                          <a:pt x="31" y="53"/>
                        </a:lnTo>
                        <a:lnTo>
                          <a:pt x="36" y="75"/>
                        </a:lnTo>
                        <a:lnTo>
                          <a:pt x="42" y="96"/>
                        </a:lnTo>
                        <a:lnTo>
                          <a:pt x="47" y="114"/>
                        </a:lnTo>
                        <a:lnTo>
                          <a:pt x="50" y="128"/>
                        </a:lnTo>
                        <a:lnTo>
                          <a:pt x="54" y="151"/>
                        </a:lnTo>
                        <a:lnTo>
                          <a:pt x="57" y="174"/>
                        </a:lnTo>
                        <a:lnTo>
                          <a:pt x="64" y="197"/>
                        </a:lnTo>
                        <a:lnTo>
                          <a:pt x="77" y="218"/>
                        </a:lnTo>
                        <a:lnTo>
                          <a:pt x="89" y="231"/>
                        </a:lnTo>
                        <a:lnTo>
                          <a:pt x="111" y="249"/>
                        </a:lnTo>
                        <a:lnTo>
                          <a:pt x="138" y="270"/>
                        </a:lnTo>
                        <a:lnTo>
                          <a:pt x="167" y="293"/>
                        </a:lnTo>
                        <a:lnTo>
                          <a:pt x="195" y="314"/>
                        </a:lnTo>
                        <a:lnTo>
                          <a:pt x="221" y="333"/>
                        </a:lnTo>
                        <a:lnTo>
                          <a:pt x="241" y="347"/>
                        </a:lnTo>
                        <a:lnTo>
                          <a:pt x="253" y="354"/>
                        </a:lnTo>
                        <a:lnTo>
                          <a:pt x="260" y="356"/>
                        </a:lnTo>
                        <a:lnTo>
                          <a:pt x="267" y="360"/>
                        </a:lnTo>
                        <a:lnTo>
                          <a:pt x="275" y="362"/>
                        </a:lnTo>
                        <a:lnTo>
                          <a:pt x="283" y="364"/>
                        </a:lnTo>
                        <a:lnTo>
                          <a:pt x="292" y="367"/>
                        </a:lnTo>
                        <a:lnTo>
                          <a:pt x="300" y="370"/>
                        </a:lnTo>
                        <a:lnTo>
                          <a:pt x="311" y="373"/>
                        </a:lnTo>
                        <a:lnTo>
                          <a:pt x="321" y="378"/>
                        </a:lnTo>
                        <a:lnTo>
                          <a:pt x="331" y="386"/>
                        </a:lnTo>
                        <a:lnTo>
                          <a:pt x="342" y="398"/>
                        </a:lnTo>
                        <a:lnTo>
                          <a:pt x="352" y="413"/>
                        </a:lnTo>
                        <a:lnTo>
                          <a:pt x="361" y="429"/>
                        </a:lnTo>
                        <a:lnTo>
                          <a:pt x="368" y="444"/>
                        </a:lnTo>
                        <a:lnTo>
                          <a:pt x="374" y="456"/>
                        </a:lnTo>
                        <a:lnTo>
                          <a:pt x="378" y="466"/>
                        </a:lnTo>
                        <a:lnTo>
                          <a:pt x="380" y="469"/>
                        </a:lnTo>
                        <a:lnTo>
                          <a:pt x="377" y="468"/>
                        </a:lnTo>
                        <a:lnTo>
                          <a:pt x="370" y="463"/>
                        </a:lnTo>
                        <a:lnTo>
                          <a:pt x="360" y="458"/>
                        </a:lnTo>
                        <a:lnTo>
                          <a:pt x="349" y="451"/>
                        </a:lnTo>
                        <a:lnTo>
                          <a:pt x="335" y="443"/>
                        </a:lnTo>
                        <a:lnTo>
                          <a:pt x="321" y="436"/>
                        </a:lnTo>
                        <a:lnTo>
                          <a:pt x="307" y="429"/>
                        </a:lnTo>
                        <a:lnTo>
                          <a:pt x="296" y="423"/>
                        </a:lnTo>
                        <a:lnTo>
                          <a:pt x="284" y="418"/>
                        </a:lnTo>
                        <a:lnTo>
                          <a:pt x="273" y="415"/>
                        </a:lnTo>
                        <a:lnTo>
                          <a:pt x="261" y="412"/>
                        </a:lnTo>
                        <a:lnTo>
                          <a:pt x="250" y="408"/>
                        </a:lnTo>
                        <a:lnTo>
                          <a:pt x="238" y="406"/>
                        </a:lnTo>
                        <a:lnTo>
                          <a:pt x="226" y="403"/>
                        </a:lnTo>
                        <a:lnTo>
                          <a:pt x="217" y="401"/>
                        </a:lnTo>
                        <a:lnTo>
                          <a:pt x="209" y="398"/>
                        </a:lnTo>
                        <a:lnTo>
                          <a:pt x="198" y="390"/>
                        </a:lnTo>
                        <a:lnTo>
                          <a:pt x="177" y="372"/>
                        </a:lnTo>
                        <a:lnTo>
                          <a:pt x="152" y="350"/>
                        </a:lnTo>
                        <a:lnTo>
                          <a:pt x="123" y="324"/>
                        </a:lnTo>
                        <a:lnTo>
                          <a:pt x="94" y="297"/>
                        </a:lnTo>
                        <a:lnTo>
                          <a:pt x="68" y="272"/>
                        </a:lnTo>
                        <a:lnTo>
                          <a:pt x="46" y="251"/>
                        </a:lnTo>
                        <a:lnTo>
                          <a:pt x="33" y="238"/>
                        </a:lnTo>
                        <a:lnTo>
                          <a:pt x="19" y="214"/>
                        </a:lnTo>
                        <a:lnTo>
                          <a:pt x="10" y="186"/>
                        </a:lnTo>
                        <a:lnTo>
                          <a:pt x="4" y="157"/>
                        </a:lnTo>
                        <a:lnTo>
                          <a:pt x="0" y="132"/>
                        </a:lnTo>
                        <a:lnTo>
                          <a:pt x="0" y="98"/>
                        </a:lnTo>
                        <a:lnTo>
                          <a:pt x="5" y="54"/>
                        </a:lnTo>
                        <a:lnTo>
                          <a:pt x="11" y="16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386640" y="3812040"/>
                    <a:ext cx="651240" cy="70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5" h="1398">
                        <a:moveTo>
                          <a:pt x="12" y="1398"/>
                        </a:moveTo>
                        <a:lnTo>
                          <a:pt x="9" y="1384"/>
                        </a:lnTo>
                        <a:lnTo>
                          <a:pt x="2" y="1353"/>
                        </a:lnTo>
                        <a:lnTo>
                          <a:pt x="0" y="1315"/>
                        </a:lnTo>
                        <a:lnTo>
                          <a:pt x="10" y="1284"/>
                        </a:lnTo>
                        <a:lnTo>
                          <a:pt x="23" y="1265"/>
                        </a:lnTo>
                        <a:lnTo>
                          <a:pt x="40" y="1235"/>
                        </a:lnTo>
                        <a:lnTo>
                          <a:pt x="61" y="1197"/>
                        </a:lnTo>
                        <a:lnTo>
                          <a:pt x="85" y="1156"/>
                        </a:lnTo>
                        <a:lnTo>
                          <a:pt x="109" y="1112"/>
                        </a:lnTo>
                        <a:lnTo>
                          <a:pt x="133" y="1070"/>
                        </a:lnTo>
                        <a:lnTo>
                          <a:pt x="156" y="1035"/>
                        </a:lnTo>
                        <a:lnTo>
                          <a:pt x="176" y="1007"/>
                        </a:lnTo>
                        <a:lnTo>
                          <a:pt x="194" y="986"/>
                        </a:lnTo>
                        <a:lnTo>
                          <a:pt x="214" y="969"/>
                        </a:lnTo>
                        <a:lnTo>
                          <a:pt x="235" y="954"/>
                        </a:lnTo>
                        <a:lnTo>
                          <a:pt x="255" y="940"/>
                        </a:lnTo>
                        <a:lnTo>
                          <a:pt x="277" y="927"/>
                        </a:lnTo>
                        <a:lnTo>
                          <a:pt x="298" y="914"/>
                        </a:lnTo>
                        <a:lnTo>
                          <a:pt x="318" y="899"/>
                        </a:lnTo>
                        <a:lnTo>
                          <a:pt x="337" y="881"/>
                        </a:lnTo>
                        <a:lnTo>
                          <a:pt x="354" y="862"/>
                        </a:lnTo>
                        <a:lnTo>
                          <a:pt x="370" y="843"/>
                        </a:lnTo>
                        <a:lnTo>
                          <a:pt x="385" y="824"/>
                        </a:lnTo>
                        <a:lnTo>
                          <a:pt x="399" y="802"/>
                        </a:lnTo>
                        <a:lnTo>
                          <a:pt x="412" y="779"/>
                        </a:lnTo>
                        <a:lnTo>
                          <a:pt x="426" y="751"/>
                        </a:lnTo>
                        <a:lnTo>
                          <a:pt x="442" y="721"/>
                        </a:lnTo>
                        <a:lnTo>
                          <a:pt x="458" y="686"/>
                        </a:lnTo>
                        <a:lnTo>
                          <a:pt x="486" y="629"/>
                        </a:lnTo>
                        <a:lnTo>
                          <a:pt x="511" y="581"/>
                        </a:lnTo>
                        <a:lnTo>
                          <a:pt x="535" y="539"/>
                        </a:lnTo>
                        <a:lnTo>
                          <a:pt x="557" y="505"/>
                        </a:lnTo>
                        <a:lnTo>
                          <a:pt x="577" y="477"/>
                        </a:lnTo>
                        <a:lnTo>
                          <a:pt x="594" y="454"/>
                        </a:lnTo>
                        <a:lnTo>
                          <a:pt x="608" y="436"/>
                        </a:lnTo>
                        <a:lnTo>
                          <a:pt x="619" y="422"/>
                        </a:lnTo>
                        <a:lnTo>
                          <a:pt x="633" y="404"/>
                        </a:lnTo>
                        <a:lnTo>
                          <a:pt x="647" y="387"/>
                        </a:lnTo>
                        <a:lnTo>
                          <a:pt x="661" y="370"/>
                        </a:lnTo>
                        <a:lnTo>
                          <a:pt x="674" y="351"/>
                        </a:lnTo>
                        <a:lnTo>
                          <a:pt x="688" y="334"/>
                        </a:lnTo>
                        <a:lnTo>
                          <a:pt x="703" y="316"/>
                        </a:lnTo>
                        <a:lnTo>
                          <a:pt x="718" y="297"/>
                        </a:lnTo>
                        <a:lnTo>
                          <a:pt x="734" y="279"/>
                        </a:lnTo>
                        <a:lnTo>
                          <a:pt x="752" y="260"/>
                        </a:lnTo>
                        <a:lnTo>
                          <a:pt x="768" y="245"/>
                        </a:lnTo>
                        <a:lnTo>
                          <a:pt x="783" y="234"/>
                        </a:lnTo>
                        <a:lnTo>
                          <a:pt x="797" y="226"/>
                        </a:lnTo>
                        <a:lnTo>
                          <a:pt x="810" y="219"/>
                        </a:lnTo>
                        <a:lnTo>
                          <a:pt x="825" y="212"/>
                        </a:lnTo>
                        <a:lnTo>
                          <a:pt x="840" y="206"/>
                        </a:lnTo>
                        <a:lnTo>
                          <a:pt x="856" y="199"/>
                        </a:lnTo>
                        <a:lnTo>
                          <a:pt x="873" y="189"/>
                        </a:lnTo>
                        <a:lnTo>
                          <a:pt x="888" y="174"/>
                        </a:lnTo>
                        <a:lnTo>
                          <a:pt x="901" y="156"/>
                        </a:lnTo>
                        <a:lnTo>
                          <a:pt x="915" y="135"/>
                        </a:lnTo>
                        <a:lnTo>
                          <a:pt x="930" y="113"/>
                        </a:lnTo>
                        <a:lnTo>
                          <a:pt x="947" y="90"/>
                        </a:lnTo>
                        <a:lnTo>
                          <a:pt x="967" y="67"/>
                        </a:lnTo>
                        <a:lnTo>
                          <a:pt x="989" y="45"/>
                        </a:lnTo>
                        <a:lnTo>
                          <a:pt x="1007" y="31"/>
                        </a:lnTo>
                        <a:lnTo>
                          <a:pt x="1026" y="20"/>
                        </a:lnTo>
                        <a:lnTo>
                          <a:pt x="1044" y="11"/>
                        </a:lnTo>
                        <a:lnTo>
                          <a:pt x="1064" y="6"/>
                        </a:lnTo>
                        <a:lnTo>
                          <a:pt x="1082" y="2"/>
                        </a:lnTo>
                        <a:lnTo>
                          <a:pt x="1102" y="0"/>
                        </a:lnTo>
                        <a:lnTo>
                          <a:pt x="1119" y="0"/>
                        </a:lnTo>
                        <a:lnTo>
                          <a:pt x="1136" y="1"/>
                        </a:lnTo>
                        <a:lnTo>
                          <a:pt x="1152" y="3"/>
                        </a:lnTo>
                        <a:lnTo>
                          <a:pt x="1167" y="6"/>
                        </a:lnTo>
                        <a:lnTo>
                          <a:pt x="1181" y="9"/>
                        </a:lnTo>
                        <a:lnTo>
                          <a:pt x="1193" y="11"/>
                        </a:lnTo>
                        <a:lnTo>
                          <a:pt x="1202" y="15"/>
                        </a:lnTo>
                        <a:lnTo>
                          <a:pt x="1209" y="17"/>
                        </a:lnTo>
                        <a:lnTo>
                          <a:pt x="1213" y="18"/>
                        </a:lnTo>
                        <a:lnTo>
                          <a:pt x="1215" y="20"/>
                        </a:lnTo>
                        <a:lnTo>
                          <a:pt x="1210" y="21"/>
                        </a:lnTo>
                        <a:lnTo>
                          <a:pt x="1197" y="23"/>
                        </a:lnTo>
                        <a:lnTo>
                          <a:pt x="1179" y="26"/>
                        </a:lnTo>
                        <a:lnTo>
                          <a:pt x="1156" y="33"/>
                        </a:lnTo>
                        <a:lnTo>
                          <a:pt x="1129" y="41"/>
                        </a:lnTo>
                        <a:lnTo>
                          <a:pt x="1101" y="54"/>
                        </a:lnTo>
                        <a:lnTo>
                          <a:pt x="1073" y="68"/>
                        </a:lnTo>
                        <a:lnTo>
                          <a:pt x="1046" y="86"/>
                        </a:lnTo>
                        <a:lnTo>
                          <a:pt x="1023" y="107"/>
                        </a:lnTo>
                        <a:lnTo>
                          <a:pt x="1004" y="130"/>
                        </a:lnTo>
                        <a:lnTo>
                          <a:pt x="988" y="153"/>
                        </a:lnTo>
                        <a:lnTo>
                          <a:pt x="973" y="175"/>
                        </a:lnTo>
                        <a:lnTo>
                          <a:pt x="959" y="196"/>
                        </a:lnTo>
                        <a:lnTo>
                          <a:pt x="945" y="214"/>
                        </a:lnTo>
                        <a:lnTo>
                          <a:pt x="930" y="229"/>
                        </a:lnTo>
                        <a:lnTo>
                          <a:pt x="914" y="240"/>
                        </a:lnTo>
                        <a:lnTo>
                          <a:pt x="898" y="247"/>
                        </a:lnTo>
                        <a:lnTo>
                          <a:pt x="883" y="253"/>
                        </a:lnTo>
                        <a:lnTo>
                          <a:pt x="868" y="260"/>
                        </a:lnTo>
                        <a:lnTo>
                          <a:pt x="854" y="267"/>
                        </a:lnTo>
                        <a:lnTo>
                          <a:pt x="840" y="275"/>
                        </a:lnTo>
                        <a:lnTo>
                          <a:pt x="825" y="287"/>
                        </a:lnTo>
                        <a:lnTo>
                          <a:pt x="809" y="301"/>
                        </a:lnTo>
                        <a:lnTo>
                          <a:pt x="792" y="319"/>
                        </a:lnTo>
                        <a:lnTo>
                          <a:pt x="777" y="338"/>
                        </a:lnTo>
                        <a:lnTo>
                          <a:pt x="763" y="356"/>
                        </a:lnTo>
                        <a:lnTo>
                          <a:pt x="752" y="373"/>
                        </a:lnTo>
                        <a:lnTo>
                          <a:pt x="740" y="391"/>
                        </a:lnTo>
                        <a:lnTo>
                          <a:pt x="730" y="407"/>
                        </a:lnTo>
                        <a:lnTo>
                          <a:pt x="719" y="424"/>
                        </a:lnTo>
                        <a:lnTo>
                          <a:pt x="708" y="440"/>
                        </a:lnTo>
                        <a:lnTo>
                          <a:pt x="694" y="457"/>
                        </a:lnTo>
                        <a:lnTo>
                          <a:pt x="683" y="471"/>
                        </a:lnTo>
                        <a:lnTo>
                          <a:pt x="668" y="490"/>
                        </a:lnTo>
                        <a:lnTo>
                          <a:pt x="650" y="513"/>
                        </a:lnTo>
                        <a:lnTo>
                          <a:pt x="631" y="540"/>
                        </a:lnTo>
                        <a:lnTo>
                          <a:pt x="610" y="575"/>
                        </a:lnTo>
                        <a:lnTo>
                          <a:pt x="586" y="616"/>
                        </a:lnTo>
                        <a:lnTo>
                          <a:pt x="560" y="665"/>
                        </a:lnTo>
                        <a:lnTo>
                          <a:pt x="533" y="721"/>
                        </a:lnTo>
                        <a:lnTo>
                          <a:pt x="516" y="756"/>
                        </a:lnTo>
                        <a:lnTo>
                          <a:pt x="501" y="787"/>
                        </a:lnTo>
                        <a:lnTo>
                          <a:pt x="487" y="813"/>
                        </a:lnTo>
                        <a:lnTo>
                          <a:pt x="473" y="836"/>
                        </a:lnTo>
                        <a:lnTo>
                          <a:pt x="459" y="858"/>
                        </a:lnTo>
                        <a:lnTo>
                          <a:pt x="445" y="878"/>
                        </a:lnTo>
                        <a:lnTo>
                          <a:pt x="429" y="896"/>
                        </a:lnTo>
                        <a:lnTo>
                          <a:pt x="412" y="916"/>
                        </a:lnTo>
                        <a:lnTo>
                          <a:pt x="392" y="933"/>
                        </a:lnTo>
                        <a:lnTo>
                          <a:pt x="373" y="949"/>
                        </a:lnTo>
                        <a:lnTo>
                          <a:pt x="352" y="963"/>
                        </a:lnTo>
                        <a:lnTo>
                          <a:pt x="330" y="976"/>
                        </a:lnTo>
                        <a:lnTo>
                          <a:pt x="309" y="990"/>
                        </a:lnTo>
                        <a:lnTo>
                          <a:pt x="289" y="1005"/>
                        </a:lnTo>
                        <a:lnTo>
                          <a:pt x="268" y="1022"/>
                        </a:lnTo>
                        <a:lnTo>
                          <a:pt x="250" y="1043"/>
                        </a:lnTo>
                        <a:lnTo>
                          <a:pt x="230" y="1070"/>
                        </a:lnTo>
                        <a:lnTo>
                          <a:pt x="207" y="1106"/>
                        </a:lnTo>
                        <a:lnTo>
                          <a:pt x="183" y="1148"/>
                        </a:lnTo>
                        <a:lnTo>
                          <a:pt x="159" y="1191"/>
                        </a:lnTo>
                        <a:lnTo>
                          <a:pt x="134" y="1233"/>
                        </a:lnTo>
                        <a:lnTo>
                          <a:pt x="114" y="1271"/>
                        </a:lnTo>
                        <a:lnTo>
                          <a:pt x="96" y="1301"/>
                        </a:lnTo>
                        <a:lnTo>
                          <a:pt x="84" y="1319"/>
                        </a:lnTo>
                        <a:lnTo>
                          <a:pt x="73" y="1332"/>
                        </a:lnTo>
                        <a:lnTo>
                          <a:pt x="62" y="1345"/>
                        </a:lnTo>
                        <a:lnTo>
                          <a:pt x="50" y="1358"/>
                        </a:lnTo>
                        <a:lnTo>
                          <a:pt x="39" y="1370"/>
                        </a:lnTo>
                        <a:lnTo>
                          <a:pt x="28" y="1381"/>
                        </a:lnTo>
                        <a:lnTo>
                          <a:pt x="20" y="1390"/>
                        </a:lnTo>
                        <a:lnTo>
                          <a:pt x="15" y="1395"/>
                        </a:lnTo>
                        <a:lnTo>
                          <a:pt x="12" y="13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271800" y="4516200"/>
                    <a:ext cx="14688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356">
                        <a:moveTo>
                          <a:pt x="209" y="0"/>
                        </a:moveTo>
                        <a:lnTo>
                          <a:pt x="206" y="4"/>
                        </a:lnTo>
                        <a:lnTo>
                          <a:pt x="197" y="12"/>
                        </a:lnTo>
                        <a:lnTo>
                          <a:pt x="183" y="27"/>
                        </a:lnTo>
                        <a:lnTo>
                          <a:pt x="164" y="46"/>
                        </a:lnTo>
                        <a:lnTo>
                          <a:pt x="145" y="70"/>
                        </a:lnTo>
                        <a:lnTo>
                          <a:pt x="125" y="100"/>
                        </a:lnTo>
                        <a:lnTo>
                          <a:pt x="106" y="134"/>
                        </a:lnTo>
                        <a:lnTo>
                          <a:pt x="88" y="172"/>
                        </a:lnTo>
                        <a:lnTo>
                          <a:pt x="80" y="196"/>
                        </a:lnTo>
                        <a:lnTo>
                          <a:pt x="76" y="217"/>
                        </a:lnTo>
                        <a:lnTo>
                          <a:pt x="75" y="235"/>
                        </a:lnTo>
                        <a:lnTo>
                          <a:pt x="78" y="250"/>
                        </a:lnTo>
                        <a:lnTo>
                          <a:pt x="85" y="262"/>
                        </a:lnTo>
                        <a:lnTo>
                          <a:pt x="94" y="271"/>
                        </a:lnTo>
                        <a:lnTo>
                          <a:pt x="107" y="275"/>
                        </a:lnTo>
                        <a:lnTo>
                          <a:pt x="123" y="277"/>
                        </a:lnTo>
                        <a:lnTo>
                          <a:pt x="162" y="271"/>
                        </a:lnTo>
                        <a:lnTo>
                          <a:pt x="195" y="258"/>
                        </a:lnTo>
                        <a:lnTo>
                          <a:pt x="221" y="243"/>
                        </a:lnTo>
                        <a:lnTo>
                          <a:pt x="241" y="226"/>
                        </a:lnTo>
                        <a:lnTo>
                          <a:pt x="255" y="209"/>
                        </a:lnTo>
                        <a:lnTo>
                          <a:pt x="266" y="194"/>
                        </a:lnTo>
                        <a:lnTo>
                          <a:pt x="271" y="183"/>
                        </a:lnTo>
                        <a:lnTo>
                          <a:pt x="273" y="180"/>
                        </a:lnTo>
                        <a:lnTo>
                          <a:pt x="273" y="182"/>
                        </a:lnTo>
                        <a:lnTo>
                          <a:pt x="271" y="188"/>
                        </a:lnTo>
                        <a:lnTo>
                          <a:pt x="269" y="196"/>
                        </a:lnTo>
                        <a:lnTo>
                          <a:pt x="266" y="207"/>
                        </a:lnTo>
                        <a:lnTo>
                          <a:pt x="261" y="220"/>
                        </a:lnTo>
                        <a:lnTo>
                          <a:pt x="254" y="235"/>
                        </a:lnTo>
                        <a:lnTo>
                          <a:pt x="247" y="251"/>
                        </a:lnTo>
                        <a:lnTo>
                          <a:pt x="237" y="267"/>
                        </a:lnTo>
                        <a:lnTo>
                          <a:pt x="225" y="285"/>
                        </a:lnTo>
                        <a:lnTo>
                          <a:pt x="213" y="301"/>
                        </a:lnTo>
                        <a:lnTo>
                          <a:pt x="197" y="316"/>
                        </a:lnTo>
                        <a:lnTo>
                          <a:pt x="178" y="328"/>
                        </a:lnTo>
                        <a:lnTo>
                          <a:pt x="157" y="340"/>
                        </a:lnTo>
                        <a:lnTo>
                          <a:pt x="134" y="348"/>
                        </a:lnTo>
                        <a:lnTo>
                          <a:pt x="108" y="354"/>
                        </a:lnTo>
                        <a:lnTo>
                          <a:pt x="79" y="356"/>
                        </a:lnTo>
                        <a:lnTo>
                          <a:pt x="60" y="353"/>
                        </a:lnTo>
                        <a:lnTo>
                          <a:pt x="40" y="343"/>
                        </a:lnTo>
                        <a:lnTo>
                          <a:pt x="24" y="328"/>
                        </a:lnTo>
                        <a:lnTo>
                          <a:pt x="11" y="310"/>
                        </a:lnTo>
                        <a:lnTo>
                          <a:pt x="3" y="287"/>
                        </a:lnTo>
                        <a:lnTo>
                          <a:pt x="0" y="263"/>
                        </a:lnTo>
                        <a:lnTo>
                          <a:pt x="3" y="236"/>
                        </a:lnTo>
                        <a:lnTo>
                          <a:pt x="15" y="209"/>
                        </a:lnTo>
                        <a:lnTo>
                          <a:pt x="32" y="180"/>
                        </a:lnTo>
                        <a:lnTo>
                          <a:pt x="48" y="154"/>
                        </a:lnTo>
                        <a:lnTo>
                          <a:pt x="65" y="130"/>
                        </a:lnTo>
                        <a:lnTo>
                          <a:pt x="83" y="108"/>
                        </a:lnTo>
                        <a:lnTo>
                          <a:pt x="99" y="90"/>
                        </a:lnTo>
                        <a:lnTo>
                          <a:pt x="115" y="73"/>
                        </a:lnTo>
                        <a:lnTo>
                          <a:pt x="131" y="58"/>
                        </a:lnTo>
                        <a:lnTo>
                          <a:pt x="145" y="45"/>
                        </a:lnTo>
                        <a:lnTo>
                          <a:pt x="159" y="33"/>
                        </a:lnTo>
                        <a:lnTo>
                          <a:pt x="171" y="24"/>
                        </a:lnTo>
                        <a:lnTo>
                          <a:pt x="182" y="16"/>
                        </a:lnTo>
                        <a:lnTo>
                          <a:pt x="191" y="10"/>
                        </a:lnTo>
                        <a:lnTo>
                          <a:pt x="199" y="6"/>
                        </a:lnTo>
                        <a:lnTo>
                          <a:pt x="205" y="2"/>
                        </a:lnTo>
                        <a:lnTo>
                          <a:pt x="208" y="1"/>
                        </a:lnTo>
                        <a:lnTo>
                          <a:pt x="20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371880" y="4499640"/>
                    <a:ext cx="9504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7" h="152">
                        <a:moveTo>
                          <a:pt x="42" y="55"/>
                        </a:moveTo>
                        <a:lnTo>
                          <a:pt x="38" y="40"/>
                        </a:lnTo>
                        <a:lnTo>
                          <a:pt x="39" y="25"/>
                        </a:lnTo>
                        <a:lnTo>
                          <a:pt x="44" y="11"/>
                        </a:lnTo>
                        <a:lnTo>
                          <a:pt x="52" y="0"/>
                        </a:lnTo>
                        <a:lnTo>
                          <a:pt x="42" y="7"/>
                        </a:lnTo>
                        <a:lnTo>
                          <a:pt x="31" y="15"/>
                        </a:lnTo>
                        <a:lnTo>
                          <a:pt x="21" y="24"/>
                        </a:lnTo>
                        <a:lnTo>
                          <a:pt x="13" y="34"/>
                        </a:lnTo>
                        <a:lnTo>
                          <a:pt x="6" y="46"/>
                        </a:lnTo>
                        <a:lnTo>
                          <a:pt x="2" y="57"/>
                        </a:lnTo>
                        <a:lnTo>
                          <a:pt x="0" y="69"/>
                        </a:lnTo>
                        <a:lnTo>
                          <a:pt x="2" y="80"/>
                        </a:lnTo>
                        <a:lnTo>
                          <a:pt x="9" y="94"/>
                        </a:lnTo>
                        <a:lnTo>
                          <a:pt x="20" y="109"/>
                        </a:lnTo>
                        <a:lnTo>
                          <a:pt x="35" y="122"/>
                        </a:lnTo>
                        <a:lnTo>
                          <a:pt x="51" y="133"/>
                        </a:lnTo>
                        <a:lnTo>
                          <a:pt x="68" y="143"/>
                        </a:lnTo>
                        <a:lnTo>
                          <a:pt x="86" y="148"/>
                        </a:lnTo>
                        <a:lnTo>
                          <a:pt x="105" y="152"/>
                        </a:lnTo>
                        <a:lnTo>
                          <a:pt x="123" y="151"/>
                        </a:lnTo>
                        <a:lnTo>
                          <a:pt x="131" y="148"/>
                        </a:lnTo>
                        <a:lnTo>
                          <a:pt x="139" y="143"/>
                        </a:lnTo>
                        <a:lnTo>
                          <a:pt x="147" y="136"/>
                        </a:lnTo>
                        <a:lnTo>
                          <a:pt x="154" y="128"/>
                        </a:lnTo>
                        <a:lnTo>
                          <a:pt x="161" y="120"/>
                        </a:lnTo>
                        <a:lnTo>
                          <a:pt x="168" y="112"/>
                        </a:lnTo>
                        <a:lnTo>
                          <a:pt x="173" y="104"/>
                        </a:lnTo>
                        <a:lnTo>
                          <a:pt x="177" y="98"/>
                        </a:lnTo>
                        <a:lnTo>
                          <a:pt x="172" y="101"/>
                        </a:lnTo>
                        <a:lnTo>
                          <a:pt x="165" y="104"/>
                        </a:lnTo>
                        <a:lnTo>
                          <a:pt x="158" y="106"/>
                        </a:lnTo>
                        <a:lnTo>
                          <a:pt x="150" y="108"/>
                        </a:lnTo>
                        <a:lnTo>
                          <a:pt x="132" y="110"/>
                        </a:lnTo>
                        <a:lnTo>
                          <a:pt x="115" y="109"/>
                        </a:lnTo>
                        <a:lnTo>
                          <a:pt x="99" y="106"/>
                        </a:lnTo>
                        <a:lnTo>
                          <a:pt x="84" y="99"/>
                        </a:lnTo>
                        <a:lnTo>
                          <a:pt x="69" y="91"/>
                        </a:lnTo>
                        <a:lnTo>
                          <a:pt x="58" y="80"/>
                        </a:lnTo>
                        <a:lnTo>
                          <a:pt x="48" y="69"/>
                        </a:lnTo>
                        <a:lnTo>
                          <a:pt x="42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194760" y="4667400"/>
                    <a:ext cx="10404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215">
                        <a:moveTo>
                          <a:pt x="12" y="127"/>
                        </a:moveTo>
                        <a:lnTo>
                          <a:pt x="8" y="134"/>
                        </a:lnTo>
                        <a:lnTo>
                          <a:pt x="1" y="152"/>
                        </a:lnTo>
                        <a:lnTo>
                          <a:pt x="0" y="177"/>
                        </a:lnTo>
                        <a:lnTo>
                          <a:pt x="13" y="200"/>
                        </a:lnTo>
                        <a:lnTo>
                          <a:pt x="26" y="208"/>
                        </a:lnTo>
                        <a:lnTo>
                          <a:pt x="39" y="212"/>
                        </a:lnTo>
                        <a:lnTo>
                          <a:pt x="50" y="215"/>
                        </a:lnTo>
                        <a:lnTo>
                          <a:pt x="62" y="213"/>
                        </a:lnTo>
                        <a:lnTo>
                          <a:pt x="71" y="212"/>
                        </a:lnTo>
                        <a:lnTo>
                          <a:pt x="78" y="210"/>
                        </a:lnTo>
                        <a:lnTo>
                          <a:pt x="82" y="208"/>
                        </a:lnTo>
                        <a:lnTo>
                          <a:pt x="85" y="207"/>
                        </a:lnTo>
                        <a:lnTo>
                          <a:pt x="194" y="0"/>
                        </a:lnTo>
                        <a:lnTo>
                          <a:pt x="12" y="1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470160" y="4164480"/>
                    <a:ext cx="46224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63" h="742">
                        <a:moveTo>
                          <a:pt x="863" y="17"/>
                        </a:moveTo>
                        <a:lnTo>
                          <a:pt x="860" y="17"/>
                        </a:lnTo>
                        <a:lnTo>
                          <a:pt x="854" y="18"/>
                        </a:lnTo>
                        <a:lnTo>
                          <a:pt x="843" y="20"/>
                        </a:lnTo>
                        <a:lnTo>
                          <a:pt x="829" y="24"/>
                        </a:lnTo>
                        <a:lnTo>
                          <a:pt x="813" y="31"/>
                        </a:lnTo>
                        <a:lnTo>
                          <a:pt x="794" y="41"/>
                        </a:lnTo>
                        <a:lnTo>
                          <a:pt x="773" y="55"/>
                        </a:lnTo>
                        <a:lnTo>
                          <a:pt x="750" y="73"/>
                        </a:lnTo>
                        <a:lnTo>
                          <a:pt x="737" y="86"/>
                        </a:lnTo>
                        <a:lnTo>
                          <a:pt x="723" y="101"/>
                        </a:lnTo>
                        <a:lnTo>
                          <a:pt x="706" y="121"/>
                        </a:lnTo>
                        <a:lnTo>
                          <a:pt x="689" y="141"/>
                        </a:lnTo>
                        <a:lnTo>
                          <a:pt x="669" y="165"/>
                        </a:lnTo>
                        <a:lnTo>
                          <a:pt x="649" y="190"/>
                        </a:lnTo>
                        <a:lnTo>
                          <a:pt x="629" y="215"/>
                        </a:lnTo>
                        <a:lnTo>
                          <a:pt x="608" y="241"/>
                        </a:lnTo>
                        <a:lnTo>
                          <a:pt x="588" y="266"/>
                        </a:lnTo>
                        <a:lnTo>
                          <a:pt x="567" y="291"/>
                        </a:lnTo>
                        <a:lnTo>
                          <a:pt x="547" y="314"/>
                        </a:lnTo>
                        <a:lnTo>
                          <a:pt x="529" y="336"/>
                        </a:lnTo>
                        <a:lnTo>
                          <a:pt x="512" y="356"/>
                        </a:lnTo>
                        <a:lnTo>
                          <a:pt x="497" y="372"/>
                        </a:lnTo>
                        <a:lnTo>
                          <a:pt x="483" y="385"/>
                        </a:lnTo>
                        <a:lnTo>
                          <a:pt x="472" y="394"/>
                        </a:lnTo>
                        <a:lnTo>
                          <a:pt x="453" y="406"/>
                        </a:lnTo>
                        <a:lnTo>
                          <a:pt x="433" y="417"/>
                        </a:lnTo>
                        <a:lnTo>
                          <a:pt x="413" y="426"/>
                        </a:lnTo>
                        <a:lnTo>
                          <a:pt x="394" y="433"/>
                        </a:lnTo>
                        <a:lnTo>
                          <a:pt x="376" y="441"/>
                        </a:lnTo>
                        <a:lnTo>
                          <a:pt x="360" y="449"/>
                        </a:lnTo>
                        <a:lnTo>
                          <a:pt x="348" y="457"/>
                        </a:lnTo>
                        <a:lnTo>
                          <a:pt x="339" y="466"/>
                        </a:lnTo>
                        <a:lnTo>
                          <a:pt x="331" y="479"/>
                        </a:lnTo>
                        <a:lnTo>
                          <a:pt x="322" y="494"/>
                        </a:lnTo>
                        <a:lnTo>
                          <a:pt x="309" y="511"/>
                        </a:lnTo>
                        <a:lnTo>
                          <a:pt x="295" y="531"/>
                        </a:lnTo>
                        <a:lnTo>
                          <a:pt x="280" y="551"/>
                        </a:lnTo>
                        <a:lnTo>
                          <a:pt x="263" y="569"/>
                        </a:lnTo>
                        <a:lnTo>
                          <a:pt x="246" y="586"/>
                        </a:lnTo>
                        <a:lnTo>
                          <a:pt x="227" y="601"/>
                        </a:lnTo>
                        <a:lnTo>
                          <a:pt x="217" y="609"/>
                        </a:lnTo>
                        <a:lnTo>
                          <a:pt x="203" y="617"/>
                        </a:lnTo>
                        <a:lnTo>
                          <a:pt x="188" y="628"/>
                        </a:lnTo>
                        <a:lnTo>
                          <a:pt x="171" y="639"/>
                        </a:lnTo>
                        <a:lnTo>
                          <a:pt x="152" y="650"/>
                        </a:lnTo>
                        <a:lnTo>
                          <a:pt x="134" y="662"/>
                        </a:lnTo>
                        <a:lnTo>
                          <a:pt x="114" y="674"/>
                        </a:lnTo>
                        <a:lnTo>
                          <a:pt x="95" y="685"/>
                        </a:lnTo>
                        <a:lnTo>
                          <a:pt x="76" y="697"/>
                        </a:lnTo>
                        <a:lnTo>
                          <a:pt x="59" y="707"/>
                        </a:lnTo>
                        <a:lnTo>
                          <a:pt x="43" y="716"/>
                        </a:lnTo>
                        <a:lnTo>
                          <a:pt x="29" y="724"/>
                        </a:lnTo>
                        <a:lnTo>
                          <a:pt x="16" y="731"/>
                        </a:lnTo>
                        <a:lnTo>
                          <a:pt x="8" y="737"/>
                        </a:lnTo>
                        <a:lnTo>
                          <a:pt x="3" y="741"/>
                        </a:lnTo>
                        <a:lnTo>
                          <a:pt x="0" y="742"/>
                        </a:lnTo>
                        <a:lnTo>
                          <a:pt x="6" y="735"/>
                        </a:lnTo>
                        <a:lnTo>
                          <a:pt x="21" y="718"/>
                        </a:lnTo>
                        <a:lnTo>
                          <a:pt x="44" y="692"/>
                        </a:lnTo>
                        <a:lnTo>
                          <a:pt x="71" y="662"/>
                        </a:lnTo>
                        <a:lnTo>
                          <a:pt x="100" y="630"/>
                        </a:lnTo>
                        <a:lnTo>
                          <a:pt x="130" y="599"/>
                        </a:lnTo>
                        <a:lnTo>
                          <a:pt x="157" y="574"/>
                        </a:lnTo>
                        <a:lnTo>
                          <a:pt x="179" y="555"/>
                        </a:lnTo>
                        <a:lnTo>
                          <a:pt x="197" y="540"/>
                        </a:lnTo>
                        <a:lnTo>
                          <a:pt x="214" y="523"/>
                        </a:lnTo>
                        <a:lnTo>
                          <a:pt x="232" y="503"/>
                        </a:lnTo>
                        <a:lnTo>
                          <a:pt x="247" y="484"/>
                        </a:lnTo>
                        <a:lnTo>
                          <a:pt x="261" y="465"/>
                        </a:lnTo>
                        <a:lnTo>
                          <a:pt x="273" y="447"/>
                        </a:lnTo>
                        <a:lnTo>
                          <a:pt x="282" y="432"/>
                        </a:lnTo>
                        <a:lnTo>
                          <a:pt x="290" y="419"/>
                        </a:lnTo>
                        <a:lnTo>
                          <a:pt x="300" y="410"/>
                        </a:lnTo>
                        <a:lnTo>
                          <a:pt x="312" y="402"/>
                        </a:lnTo>
                        <a:lnTo>
                          <a:pt x="327" y="394"/>
                        </a:lnTo>
                        <a:lnTo>
                          <a:pt x="346" y="386"/>
                        </a:lnTo>
                        <a:lnTo>
                          <a:pt x="365" y="379"/>
                        </a:lnTo>
                        <a:lnTo>
                          <a:pt x="385" y="370"/>
                        </a:lnTo>
                        <a:lnTo>
                          <a:pt x="404" y="359"/>
                        </a:lnTo>
                        <a:lnTo>
                          <a:pt x="424" y="347"/>
                        </a:lnTo>
                        <a:lnTo>
                          <a:pt x="434" y="337"/>
                        </a:lnTo>
                        <a:lnTo>
                          <a:pt x="448" y="325"/>
                        </a:lnTo>
                        <a:lnTo>
                          <a:pt x="463" y="309"/>
                        </a:lnTo>
                        <a:lnTo>
                          <a:pt x="480" y="289"/>
                        </a:lnTo>
                        <a:lnTo>
                          <a:pt x="499" y="268"/>
                        </a:lnTo>
                        <a:lnTo>
                          <a:pt x="518" y="244"/>
                        </a:lnTo>
                        <a:lnTo>
                          <a:pt x="539" y="220"/>
                        </a:lnTo>
                        <a:lnTo>
                          <a:pt x="560" y="194"/>
                        </a:lnTo>
                        <a:lnTo>
                          <a:pt x="581" y="169"/>
                        </a:lnTo>
                        <a:lnTo>
                          <a:pt x="600" y="144"/>
                        </a:lnTo>
                        <a:lnTo>
                          <a:pt x="621" y="118"/>
                        </a:lnTo>
                        <a:lnTo>
                          <a:pt x="641" y="95"/>
                        </a:lnTo>
                        <a:lnTo>
                          <a:pt x="658" y="75"/>
                        </a:lnTo>
                        <a:lnTo>
                          <a:pt x="675" y="55"/>
                        </a:lnTo>
                        <a:lnTo>
                          <a:pt x="689" y="40"/>
                        </a:lnTo>
                        <a:lnTo>
                          <a:pt x="702" y="27"/>
                        </a:lnTo>
                        <a:lnTo>
                          <a:pt x="727" y="11"/>
                        </a:lnTo>
                        <a:lnTo>
                          <a:pt x="753" y="2"/>
                        </a:lnTo>
                        <a:lnTo>
                          <a:pt x="780" y="0"/>
                        </a:lnTo>
                        <a:lnTo>
                          <a:pt x="805" y="1"/>
                        </a:lnTo>
                        <a:lnTo>
                          <a:pt x="828" y="6"/>
                        </a:lnTo>
                        <a:lnTo>
                          <a:pt x="847" y="11"/>
                        </a:lnTo>
                        <a:lnTo>
                          <a:pt x="858" y="15"/>
                        </a:lnTo>
                        <a:lnTo>
                          <a:pt x="863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919080" y="4186800"/>
                    <a:ext cx="97560" cy="34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671">
                        <a:moveTo>
                          <a:pt x="54" y="671"/>
                        </a:moveTo>
                        <a:lnTo>
                          <a:pt x="52" y="659"/>
                        </a:lnTo>
                        <a:lnTo>
                          <a:pt x="48" y="633"/>
                        </a:lnTo>
                        <a:lnTo>
                          <a:pt x="44" y="597"/>
                        </a:lnTo>
                        <a:lnTo>
                          <a:pt x="44" y="562"/>
                        </a:lnTo>
                        <a:lnTo>
                          <a:pt x="46" y="522"/>
                        </a:lnTo>
                        <a:lnTo>
                          <a:pt x="48" y="475"/>
                        </a:lnTo>
                        <a:lnTo>
                          <a:pt x="49" y="427"/>
                        </a:lnTo>
                        <a:lnTo>
                          <a:pt x="53" y="385"/>
                        </a:lnTo>
                        <a:lnTo>
                          <a:pt x="57" y="368"/>
                        </a:lnTo>
                        <a:lnTo>
                          <a:pt x="60" y="351"/>
                        </a:lnTo>
                        <a:lnTo>
                          <a:pt x="65" y="335"/>
                        </a:lnTo>
                        <a:lnTo>
                          <a:pt x="71" y="320"/>
                        </a:lnTo>
                        <a:lnTo>
                          <a:pt x="76" y="305"/>
                        </a:lnTo>
                        <a:lnTo>
                          <a:pt x="83" y="288"/>
                        </a:lnTo>
                        <a:lnTo>
                          <a:pt x="90" y="272"/>
                        </a:lnTo>
                        <a:lnTo>
                          <a:pt x="98" y="256"/>
                        </a:lnTo>
                        <a:lnTo>
                          <a:pt x="104" y="239"/>
                        </a:lnTo>
                        <a:lnTo>
                          <a:pt x="106" y="222"/>
                        </a:lnTo>
                        <a:lnTo>
                          <a:pt x="105" y="204"/>
                        </a:lnTo>
                        <a:lnTo>
                          <a:pt x="103" y="188"/>
                        </a:lnTo>
                        <a:lnTo>
                          <a:pt x="97" y="172"/>
                        </a:lnTo>
                        <a:lnTo>
                          <a:pt x="91" y="157"/>
                        </a:lnTo>
                        <a:lnTo>
                          <a:pt x="86" y="142"/>
                        </a:lnTo>
                        <a:lnTo>
                          <a:pt x="80" y="129"/>
                        </a:lnTo>
                        <a:lnTo>
                          <a:pt x="73" y="114"/>
                        </a:lnTo>
                        <a:lnTo>
                          <a:pt x="61" y="95"/>
                        </a:lnTo>
                        <a:lnTo>
                          <a:pt x="49" y="74"/>
                        </a:lnTo>
                        <a:lnTo>
                          <a:pt x="35" y="52"/>
                        </a:lnTo>
                        <a:lnTo>
                          <a:pt x="22" y="33"/>
                        </a:lnTo>
                        <a:lnTo>
                          <a:pt x="11" y="15"/>
                        </a:lnTo>
                        <a:lnTo>
                          <a:pt x="3" y="5"/>
                        </a:lnTo>
                        <a:lnTo>
                          <a:pt x="0" y="0"/>
                        </a:lnTo>
                        <a:lnTo>
                          <a:pt x="6" y="4"/>
                        </a:lnTo>
                        <a:lnTo>
                          <a:pt x="22" y="14"/>
                        </a:lnTo>
                        <a:lnTo>
                          <a:pt x="45" y="30"/>
                        </a:lnTo>
                        <a:lnTo>
                          <a:pt x="73" y="48"/>
                        </a:lnTo>
                        <a:lnTo>
                          <a:pt x="99" y="68"/>
                        </a:lnTo>
                        <a:lnTo>
                          <a:pt x="125" y="88"/>
                        </a:lnTo>
                        <a:lnTo>
                          <a:pt x="144" y="105"/>
                        </a:lnTo>
                        <a:lnTo>
                          <a:pt x="155" y="120"/>
                        </a:lnTo>
                        <a:lnTo>
                          <a:pt x="160" y="133"/>
                        </a:lnTo>
                        <a:lnTo>
                          <a:pt x="166" y="148"/>
                        </a:lnTo>
                        <a:lnTo>
                          <a:pt x="172" y="164"/>
                        </a:lnTo>
                        <a:lnTo>
                          <a:pt x="178" y="180"/>
                        </a:lnTo>
                        <a:lnTo>
                          <a:pt x="180" y="196"/>
                        </a:lnTo>
                        <a:lnTo>
                          <a:pt x="181" y="214"/>
                        </a:lnTo>
                        <a:lnTo>
                          <a:pt x="179" y="231"/>
                        </a:lnTo>
                        <a:lnTo>
                          <a:pt x="173" y="248"/>
                        </a:lnTo>
                        <a:lnTo>
                          <a:pt x="165" y="264"/>
                        </a:lnTo>
                        <a:lnTo>
                          <a:pt x="158" y="280"/>
                        </a:lnTo>
                        <a:lnTo>
                          <a:pt x="152" y="295"/>
                        </a:lnTo>
                        <a:lnTo>
                          <a:pt x="145" y="311"/>
                        </a:lnTo>
                        <a:lnTo>
                          <a:pt x="141" y="326"/>
                        </a:lnTo>
                        <a:lnTo>
                          <a:pt x="136" y="343"/>
                        </a:lnTo>
                        <a:lnTo>
                          <a:pt x="132" y="359"/>
                        </a:lnTo>
                        <a:lnTo>
                          <a:pt x="128" y="376"/>
                        </a:lnTo>
                        <a:lnTo>
                          <a:pt x="124" y="417"/>
                        </a:lnTo>
                        <a:lnTo>
                          <a:pt x="121" y="467"/>
                        </a:lnTo>
                        <a:lnTo>
                          <a:pt x="117" y="519"/>
                        </a:lnTo>
                        <a:lnTo>
                          <a:pt x="110" y="567"/>
                        </a:lnTo>
                        <a:lnTo>
                          <a:pt x="105" y="583"/>
                        </a:lnTo>
                        <a:lnTo>
                          <a:pt x="98" y="601"/>
                        </a:lnTo>
                        <a:lnTo>
                          <a:pt x="89" y="618"/>
                        </a:lnTo>
                        <a:lnTo>
                          <a:pt x="79" y="634"/>
                        </a:lnTo>
                        <a:lnTo>
                          <a:pt x="69" y="649"/>
                        </a:lnTo>
                        <a:lnTo>
                          <a:pt x="62" y="661"/>
                        </a:lnTo>
                        <a:lnTo>
                          <a:pt x="57" y="669"/>
                        </a:lnTo>
                        <a:lnTo>
                          <a:pt x="54" y="67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1016640" y="4259160"/>
                    <a:ext cx="108000" cy="30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604">
                        <a:moveTo>
                          <a:pt x="113" y="350"/>
                        </a:moveTo>
                        <a:lnTo>
                          <a:pt x="128" y="296"/>
                        </a:lnTo>
                        <a:lnTo>
                          <a:pt x="132" y="220"/>
                        </a:lnTo>
                        <a:lnTo>
                          <a:pt x="130" y="144"/>
                        </a:lnTo>
                        <a:lnTo>
                          <a:pt x="133" y="91"/>
                        </a:lnTo>
                        <a:lnTo>
                          <a:pt x="137" y="74"/>
                        </a:lnTo>
                        <a:lnTo>
                          <a:pt x="144" y="57"/>
                        </a:lnTo>
                        <a:lnTo>
                          <a:pt x="152" y="42"/>
                        </a:lnTo>
                        <a:lnTo>
                          <a:pt x="160" y="28"/>
                        </a:lnTo>
                        <a:lnTo>
                          <a:pt x="168" y="16"/>
                        </a:lnTo>
                        <a:lnTo>
                          <a:pt x="175" y="8"/>
                        </a:lnTo>
                        <a:lnTo>
                          <a:pt x="180" y="2"/>
                        </a:lnTo>
                        <a:lnTo>
                          <a:pt x="181" y="0"/>
                        </a:lnTo>
                        <a:lnTo>
                          <a:pt x="186" y="12"/>
                        </a:lnTo>
                        <a:lnTo>
                          <a:pt x="194" y="39"/>
                        </a:lnTo>
                        <a:lnTo>
                          <a:pt x="201" y="75"/>
                        </a:lnTo>
                        <a:lnTo>
                          <a:pt x="199" y="113"/>
                        </a:lnTo>
                        <a:lnTo>
                          <a:pt x="198" y="134"/>
                        </a:lnTo>
                        <a:lnTo>
                          <a:pt x="198" y="159"/>
                        </a:lnTo>
                        <a:lnTo>
                          <a:pt x="201" y="190"/>
                        </a:lnTo>
                        <a:lnTo>
                          <a:pt x="202" y="225"/>
                        </a:lnTo>
                        <a:lnTo>
                          <a:pt x="201" y="262"/>
                        </a:lnTo>
                        <a:lnTo>
                          <a:pt x="198" y="300"/>
                        </a:lnTo>
                        <a:lnTo>
                          <a:pt x="191" y="337"/>
                        </a:lnTo>
                        <a:lnTo>
                          <a:pt x="180" y="372"/>
                        </a:lnTo>
                        <a:lnTo>
                          <a:pt x="158" y="414"/>
                        </a:lnTo>
                        <a:lnTo>
                          <a:pt x="132" y="455"/>
                        </a:lnTo>
                        <a:lnTo>
                          <a:pt x="102" y="494"/>
                        </a:lnTo>
                        <a:lnTo>
                          <a:pt x="72" y="530"/>
                        </a:lnTo>
                        <a:lnTo>
                          <a:pt x="44" y="560"/>
                        </a:lnTo>
                        <a:lnTo>
                          <a:pt x="21" y="583"/>
                        </a:lnTo>
                        <a:lnTo>
                          <a:pt x="6" y="598"/>
                        </a:lnTo>
                        <a:lnTo>
                          <a:pt x="0" y="604"/>
                        </a:lnTo>
                        <a:lnTo>
                          <a:pt x="3" y="597"/>
                        </a:lnTo>
                        <a:lnTo>
                          <a:pt x="8" y="579"/>
                        </a:lnTo>
                        <a:lnTo>
                          <a:pt x="19" y="550"/>
                        </a:lnTo>
                        <a:lnTo>
                          <a:pt x="31" y="515"/>
                        </a:lnTo>
                        <a:lnTo>
                          <a:pt x="49" y="475"/>
                        </a:lnTo>
                        <a:lnTo>
                          <a:pt x="67" y="432"/>
                        </a:lnTo>
                        <a:lnTo>
                          <a:pt x="89" y="390"/>
                        </a:lnTo>
                        <a:lnTo>
                          <a:pt x="113" y="3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900720" y="4552560"/>
                    <a:ext cx="13608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299">
                        <a:moveTo>
                          <a:pt x="248" y="95"/>
                        </a:moveTo>
                        <a:lnTo>
                          <a:pt x="248" y="100"/>
                        </a:lnTo>
                        <a:lnTo>
                          <a:pt x="247" y="111"/>
                        </a:lnTo>
                        <a:lnTo>
                          <a:pt x="245" y="127"/>
                        </a:lnTo>
                        <a:lnTo>
                          <a:pt x="239" y="147"/>
                        </a:lnTo>
                        <a:lnTo>
                          <a:pt x="231" y="168"/>
                        </a:lnTo>
                        <a:lnTo>
                          <a:pt x="220" y="187"/>
                        </a:lnTo>
                        <a:lnTo>
                          <a:pt x="204" y="203"/>
                        </a:lnTo>
                        <a:lnTo>
                          <a:pt x="182" y="214"/>
                        </a:lnTo>
                        <a:lnTo>
                          <a:pt x="168" y="216"/>
                        </a:lnTo>
                        <a:lnTo>
                          <a:pt x="152" y="217"/>
                        </a:lnTo>
                        <a:lnTo>
                          <a:pt x="133" y="216"/>
                        </a:lnTo>
                        <a:lnTo>
                          <a:pt x="115" y="212"/>
                        </a:lnTo>
                        <a:lnTo>
                          <a:pt x="98" y="205"/>
                        </a:lnTo>
                        <a:lnTo>
                          <a:pt x="80" y="195"/>
                        </a:lnTo>
                        <a:lnTo>
                          <a:pt x="67" y="182"/>
                        </a:lnTo>
                        <a:lnTo>
                          <a:pt x="55" y="165"/>
                        </a:lnTo>
                        <a:lnTo>
                          <a:pt x="48" y="144"/>
                        </a:lnTo>
                        <a:lnTo>
                          <a:pt x="47" y="118"/>
                        </a:lnTo>
                        <a:lnTo>
                          <a:pt x="49" y="92"/>
                        </a:lnTo>
                        <a:lnTo>
                          <a:pt x="54" y="64"/>
                        </a:lnTo>
                        <a:lnTo>
                          <a:pt x="60" y="39"/>
                        </a:lnTo>
                        <a:lnTo>
                          <a:pt x="67" y="18"/>
                        </a:lnTo>
                        <a:lnTo>
                          <a:pt x="70" y="4"/>
                        </a:lnTo>
                        <a:lnTo>
                          <a:pt x="72" y="0"/>
                        </a:lnTo>
                        <a:lnTo>
                          <a:pt x="68" y="5"/>
                        </a:lnTo>
                        <a:lnTo>
                          <a:pt x="55" y="23"/>
                        </a:lnTo>
                        <a:lnTo>
                          <a:pt x="39" y="49"/>
                        </a:lnTo>
                        <a:lnTo>
                          <a:pt x="22" y="81"/>
                        </a:lnTo>
                        <a:lnTo>
                          <a:pt x="8" y="118"/>
                        </a:lnTo>
                        <a:lnTo>
                          <a:pt x="0" y="159"/>
                        </a:lnTo>
                        <a:lnTo>
                          <a:pt x="2" y="198"/>
                        </a:lnTo>
                        <a:lnTo>
                          <a:pt x="18" y="236"/>
                        </a:lnTo>
                        <a:lnTo>
                          <a:pt x="34" y="255"/>
                        </a:lnTo>
                        <a:lnTo>
                          <a:pt x="55" y="271"/>
                        </a:lnTo>
                        <a:lnTo>
                          <a:pt x="78" y="284"/>
                        </a:lnTo>
                        <a:lnTo>
                          <a:pt x="102" y="292"/>
                        </a:lnTo>
                        <a:lnTo>
                          <a:pt x="128" y="298"/>
                        </a:lnTo>
                        <a:lnTo>
                          <a:pt x="153" y="299"/>
                        </a:lnTo>
                        <a:lnTo>
                          <a:pt x="176" y="297"/>
                        </a:lnTo>
                        <a:lnTo>
                          <a:pt x="198" y="291"/>
                        </a:lnTo>
                        <a:lnTo>
                          <a:pt x="222" y="274"/>
                        </a:lnTo>
                        <a:lnTo>
                          <a:pt x="239" y="247"/>
                        </a:lnTo>
                        <a:lnTo>
                          <a:pt x="248" y="215"/>
                        </a:lnTo>
                        <a:lnTo>
                          <a:pt x="253" y="182"/>
                        </a:lnTo>
                        <a:lnTo>
                          <a:pt x="253" y="149"/>
                        </a:lnTo>
                        <a:lnTo>
                          <a:pt x="252" y="122"/>
                        </a:lnTo>
                        <a:lnTo>
                          <a:pt x="250" y="102"/>
                        </a:lnTo>
                        <a:lnTo>
                          <a:pt x="248" y="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937080" y="4509000"/>
                    <a:ext cx="10368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145">
                        <a:moveTo>
                          <a:pt x="94" y="77"/>
                        </a:moveTo>
                        <a:lnTo>
                          <a:pt x="78" y="71"/>
                        </a:lnTo>
                        <a:lnTo>
                          <a:pt x="63" y="64"/>
                        </a:lnTo>
                        <a:lnTo>
                          <a:pt x="49" y="54"/>
                        </a:lnTo>
                        <a:lnTo>
                          <a:pt x="37" y="44"/>
                        </a:lnTo>
                        <a:lnTo>
                          <a:pt x="26" y="34"/>
                        </a:lnTo>
                        <a:lnTo>
                          <a:pt x="17" y="23"/>
                        </a:lnTo>
                        <a:lnTo>
                          <a:pt x="9" y="12"/>
                        </a:lnTo>
                        <a:lnTo>
                          <a:pt x="4" y="0"/>
                        </a:lnTo>
                        <a:lnTo>
                          <a:pt x="3" y="4"/>
                        </a:lnTo>
                        <a:lnTo>
                          <a:pt x="2" y="7"/>
                        </a:lnTo>
                        <a:lnTo>
                          <a:pt x="1" y="11"/>
                        </a:lnTo>
                        <a:lnTo>
                          <a:pt x="1" y="14"/>
                        </a:lnTo>
                        <a:lnTo>
                          <a:pt x="0" y="28"/>
                        </a:lnTo>
                        <a:lnTo>
                          <a:pt x="0" y="44"/>
                        </a:lnTo>
                        <a:lnTo>
                          <a:pt x="1" y="60"/>
                        </a:lnTo>
                        <a:lnTo>
                          <a:pt x="7" y="77"/>
                        </a:lnTo>
                        <a:lnTo>
                          <a:pt x="16" y="94"/>
                        </a:lnTo>
                        <a:lnTo>
                          <a:pt x="31" y="110"/>
                        </a:lnTo>
                        <a:lnTo>
                          <a:pt x="53" y="124"/>
                        </a:lnTo>
                        <a:lnTo>
                          <a:pt x="83" y="136"/>
                        </a:lnTo>
                        <a:lnTo>
                          <a:pt x="113" y="143"/>
                        </a:lnTo>
                        <a:lnTo>
                          <a:pt x="137" y="145"/>
                        </a:lnTo>
                        <a:lnTo>
                          <a:pt x="155" y="142"/>
                        </a:lnTo>
                        <a:lnTo>
                          <a:pt x="170" y="134"/>
                        </a:lnTo>
                        <a:lnTo>
                          <a:pt x="181" y="124"/>
                        </a:lnTo>
                        <a:lnTo>
                          <a:pt x="188" y="111"/>
                        </a:lnTo>
                        <a:lnTo>
                          <a:pt x="191" y="98"/>
                        </a:lnTo>
                        <a:lnTo>
                          <a:pt x="193" y="84"/>
                        </a:lnTo>
                        <a:lnTo>
                          <a:pt x="193" y="79"/>
                        </a:lnTo>
                        <a:lnTo>
                          <a:pt x="192" y="74"/>
                        </a:lnTo>
                        <a:lnTo>
                          <a:pt x="191" y="68"/>
                        </a:lnTo>
                        <a:lnTo>
                          <a:pt x="190" y="64"/>
                        </a:lnTo>
                        <a:lnTo>
                          <a:pt x="184" y="72"/>
                        </a:lnTo>
                        <a:lnTo>
                          <a:pt x="176" y="79"/>
                        </a:lnTo>
                        <a:lnTo>
                          <a:pt x="167" y="83"/>
                        </a:lnTo>
                        <a:lnTo>
                          <a:pt x="154" y="86"/>
                        </a:lnTo>
                        <a:lnTo>
                          <a:pt x="141" y="87"/>
                        </a:lnTo>
                        <a:lnTo>
                          <a:pt x="127" y="86"/>
                        </a:lnTo>
                        <a:lnTo>
                          <a:pt x="110" y="82"/>
                        </a:lnTo>
                        <a:lnTo>
                          <a:pt x="94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904680" y="3970440"/>
                    <a:ext cx="37116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92" h="656">
                        <a:moveTo>
                          <a:pt x="633" y="607"/>
                        </a:moveTo>
                        <a:lnTo>
                          <a:pt x="616" y="605"/>
                        </a:lnTo>
                        <a:lnTo>
                          <a:pt x="596" y="603"/>
                        </a:lnTo>
                        <a:lnTo>
                          <a:pt x="578" y="599"/>
                        </a:lnTo>
                        <a:lnTo>
                          <a:pt x="558" y="595"/>
                        </a:lnTo>
                        <a:lnTo>
                          <a:pt x="541" y="589"/>
                        </a:lnTo>
                        <a:lnTo>
                          <a:pt x="524" y="584"/>
                        </a:lnTo>
                        <a:lnTo>
                          <a:pt x="509" y="578"/>
                        </a:lnTo>
                        <a:lnTo>
                          <a:pt x="497" y="573"/>
                        </a:lnTo>
                        <a:lnTo>
                          <a:pt x="488" y="567"/>
                        </a:lnTo>
                        <a:lnTo>
                          <a:pt x="479" y="561"/>
                        </a:lnTo>
                        <a:lnTo>
                          <a:pt x="472" y="554"/>
                        </a:lnTo>
                        <a:lnTo>
                          <a:pt x="465" y="547"/>
                        </a:lnTo>
                        <a:lnTo>
                          <a:pt x="458" y="540"/>
                        </a:lnTo>
                        <a:lnTo>
                          <a:pt x="451" y="531"/>
                        </a:lnTo>
                        <a:lnTo>
                          <a:pt x="443" y="522"/>
                        </a:lnTo>
                        <a:lnTo>
                          <a:pt x="434" y="510"/>
                        </a:lnTo>
                        <a:lnTo>
                          <a:pt x="432" y="508"/>
                        </a:lnTo>
                        <a:lnTo>
                          <a:pt x="428" y="505"/>
                        </a:lnTo>
                        <a:lnTo>
                          <a:pt x="424" y="501"/>
                        </a:lnTo>
                        <a:lnTo>
                          <a:pt x="418" y="497"/>
                        </a:lnTo>
                        <a:lnTo>
                          <a:pt x="418" y="490"/>
                        </a:lnTo>
                        <a:lnTo>
                          <a:pt x="419" y="482"/>
                        </a:lnTo>
                        <a:lnTo>
                          <a:pt x="421" y="475"/>
                        </a:lnTo>
                        <a:lnTo>
                          <a:pt x="422" y="468"/>
                        </a:lnTo>
                        <a:lnTo>
                          <a:pt x="427" y="456"/>
                        </a:lnTo>
                        <a:lnTo>
                          <a:pt x="434" y="445"/>
                        </a:lnTo>
                        <a:lnTo>
                          <a:pt x="441" y="436"/>
                        </a:lnTo>
                        <a:lnTo>
                          <a:pt x="449" y="426"/>
                        </a:lnTo>
                        <a:lnTo>
                          <a:pt x="458" y="421"/>
                        </a:lnTo>
                        <a:lnTo>
                          <a:pt x="467" y="415"/>
                        </a:lnTo>
                        <a:lnTo>
                          <a:pt x="477" y="411"/>
                        </a:lnTo>
                        <a:lnTo>
                          <a:pt x="487" y="410"/>
                        </a:lnTo>
                        <a:lnTo>
                          <a:pt x="483" y="408"/>
                        </a:lnTo>
                        <a:lnTo>
                          <a:pt x="480" y="406"/>
                        </a:lnTo>
                        <a:lnTo>
                          <a:pt x="477" y="404"/>
                        </a:lnTo>
                        <a:lnTo>
                          <a:pt x="473" y="403"/>
                        </a:lnTo>
                        <a:lnTo>
                          <a:pt x="460" y="401"/>
                        </a:lnTo>
                        <a:lnTo>
                          <a:pt x="449" y="401"/>
                        </a:lnTo>
                        <a:lnTo>
                          <a:pt x="436" y="404"/>
                        </a:lnTo>
                        <a:lnTo>
                          <a:pt x="425" y="411"/>
                        </a:lnTo>
                        <a:lnTo>
                          <a:pt x="414" y="419"/>
                        </a:lnTo>
                        <a:lnTo>
                          <a:pt x="405" y="430"/>
                        </a:lnTo>
                        <a:lnTo>
                          <a:pt x="397" y="444"/>
                        </a:lnTo>
                        <a:lnTo>
                          <a:pt x="391" y="457"/>
                        </a:lnTo>
                        <a:lnTo>
                          <a:pt x="390" y="462"/>
                        </a:lnTo>
                        <a:lnTo>
                          <a:pt x="389" y="466"/>
                        </a:lnTo>
                        <a:lnTo>
                          <a:pt x="388" y="470"/>
                        </a:lnTo>
                        <a:lnTo>
                          <a:pt x="387" y="475"/>
                        </a:lnTo>
                        <a:lnTo>
                          <a:pt x="371" y="464"/>
                        </a:lnTo>
                        <a:lnTo>
                          <a:pt x="354" y="454"/>
                        </a:lnTo>
                        <a:lnTo>
                          <a:pt x="336" y="443"/>
                        </a:lnTo>
                        <a:lnTo>
                          <a:pt x="316" y="431"/>
                        </a:lnTo>
                        <a:lnTo>
                          <a:pt x="297" y="418"/>
                        </a:lnTo>
                        <a:lnTo>
                          <a:pt x="277" y="406"/>
                        </a:lnTo>
                        <a:lnTo>
                          <a:pt x="258" y="394"/>
                        </a:lnTo>
                        <a:lnTo>
                          <a:pt x="238" y="381"/>
                        </a:lnTo>
                        <a:lnTo>
                          <a:pt x="219" y="370"/>
                        </a:lnTo>
                        <a:lnTo>
                          <a:pt x="201" y="357"/>
                        </a:lnTo>
                        <a:lnTo>
                          <a:pt x="184" y="347"/>
                        </a:lnTo>
                        <a:lnTo>
                          <a:pt x="169" y="335"/>
                        </a:lnTo>
                        <a:lnTo>
                          <a:pt x="155" y="326"/>
                        </a:lnTo>
                        <a:lnTo>
                          <a:pt x="144" y="317"/>
                        </a:lnTo>
                        <a:lnTo>
                          <a:pt x="135" y="309"/>
                        </a:lnTo>
                        <a:lnTo>
                          <a:pt x="128" y="302"/>
                        </a:lnTo>
                        <a:lnTo>
                          <a:pt x="113" y="277"/>
                        </a:lnTo>
                        <a:lnTo>
                          <a:pt x="94" y="236"/>
                        </a:lnTo>
                        <a:lnTo>
                          <a:pt x="74" y="188"/>
                        </a:lnTo>
                        <a:lnTo>
                          <a:pt x="53" y="135"/>
                        </a:lnTo>
                        <a:lnTo>
                          <a:pt x="34" y="84"/>
                        </a:lnTo>
                        <a:lnTo>
                          <a:pt x="19" y="42"/>
                        </a:lnTo>
                        <a:lnTo>
                          <a:pt x="8" y="12"/>
                        </a:lnTo>
                        <a:lnTo>
                          <a:pt x="4" y="0"/>
                        </a:lnTo>
                        <a:lnTo>
                          <a:pt x="3" y="8"/>
                        </a:lnTo>
                        <a:lnTo>
                          <a:pt x="1" y="31"/>
                        </a:lnTo>
                        <a:lnTo>
                          <a:pt x="0" y="67"/>
                        </a:lnTo>
                        <a:lnTo>
                          <a:pt x="0" y="111"/>
                        </a:lnTo>
                        <a:lnTo>
                          <a:pt x="4" y="161"/>
                        </a:lnTo>
                        <a:lnTo>
                          <a:pt x="15" y="216"/>
                        </a:lnTo>
                        <a:lnTo>
                          <a:pt x="33" y="270"/>
                        </a:lnTo>
                        <a:lnTo>
                          <a:pt x="60" y="322"/>
                        </a:lnTo>
                        <a:lnTo>
                          <a:pt x="76" y="343"/>
                        </a:lnTo>
                        <a:lnTo>
                          <a:pt x="94" y="364"/>
                        </a:lnTo>
                        <a:lnTo>
                          <a:pt x="116" y="384"/>
                        </a:lnTo>
                        <a:lnTo>
                          <a:pt x="139" y="402"/>
                        </a:lnTo>
                        <a:lnTo>
                          <a:pt x="163" y="419"/>
                        </a:lnTo>
                        <a:lnTo>
                          <a:pt x="189" y="437"/>
                        </a:lnTo>
                        <a:lnTo>
                          <a:pt x="215" y="452"/>
                        </a:lnTo>
                        <a:lnTo>
                          <a:pt x="240" y="467"/>
                        </a:lnTo>
                        <a:lnTo>
                          <a:pt x="266" y="481"/>
                        </a:lnTo>
                        <a:lnTo>
                          <a:pt x="290" y="493"/>
                        </a:lnTo>
                        <a:lnTo>
                          <a:pt x="313" y="505"/>
                        </a:lnTo>
                        <a:lnTo>
                          <a:pt x="334" y="515"/>
                        </a:lnTo>
                        <a:lnTo>
                          <a:pt x="351" y="524"/>
                        </a:lnTo>
                        <a:lnTo>
                          <a:pt x="366" y="534"/>
                        </a:lnTo>
                        <a:lnTo>
                          <a:pt x="378" y="540"/>
                        </a:lnTo>
                        <a:lnTo>
                          <a:pt x="384" y="547"/>
                        </a:lnTo>
                        <a:lnTo>
                          <a:pt x="394" y="559"/>
                        </a:lnTo>
                        <a:lnTo>
                          <a:pt x="402" y="569"/>
                        </a:lnTo>
                        <a:lnTo>
                          <a:pt x="409" y="577"/>
                        </a:lnTo>
                        <a:lnTo>
                          <a:pt x="417" y="585"/>
                        </a:lnTo>
                        <a:lnTo>
                          <a:pt x="424" y="592"/>
                        </a:lnTo>
                        <a:lnTo>
                          <a:pt x="430" y="599"/>
                        </a:lnTo>
                        <a:lnTo>
                          <a:pt x="440" y="605"/>
                        </a:lnTo>
                        <a:lnTo>
                          <a:pt x="449" y="611"/>
                        </a:lnTo>
                        <a:lnTo>
                          <a:pt x="462" y="618"/>
                        </a:lnTo>
                        <a:lnTo>
                          <a:pt x="478" y="626"/>
                        </a:lnTo>
                        <a:lnTo>
                          <a:pt x="496" y="634"/>
                        </a:lnTo>
                        <a:lnTo>
                          <a:pt x="518" y="642"/>
                        </a:lnTo>
                        <a:lnTo>
                          <a:pt x="540" y="649"/>
                        </a:lnTo>
                        <a:lnTo>
                          <a:pt x="561" y="653"/>
                        </a:lnTo>
                        <a:lnTo>
                          <a:pt x="581" y="656"/>
                        </a:lnTo>
                        <a:lnTo>
                          <a:pt x="599" y="655"/>
                        </a:lnTo>
                        <a:lnTo>
                          <a:pt x="615" y="650"/>
                        </a:lnTo>
                        <a:lnTo>
                          <a:pt x="632" y="642"/>
                        </a:lnTo>
                        <a:lnTo>
                          <a:pt x="647" y="634"/>
                        </a:lnTo>
                        <a:lnTo>
                          <a:pt x="662" y="625"/>
                        </a:lnTo>
                        <a:lnTo>
                          <a:pt x="673" y="615"/>
                        </a:lnTo>
                        <a:lnTo>
                          <a:pt x="684" y="608"/>
                        </a:lnTo>
                        <a:lnTo>
                          <a:pt x="690" y="604"/>
                        </a:lnTo>
                        <a:lnTo>
                          <a:pt x="692" y="602"/>
                        </a:lnTo>
                        <a:lnTo>
                          <a:pt x="691" y="602"/>
                        </a:lnTo>
                        <a:lnTo>
                          <a:pt x="688" y="603"/>
                        </a:lnTo>
                        <a:lnTo>
                          <a:pt x="684" y="604"/>
                        </a:lnTo>
                        <a:lnTo>
                          <a:pt x="677" y="605"/>
                        </a:lnTo>
                        <a:lnTo>
                          <a:pt x="669" y="606"/>
                        </a:lnTo>
                        <a:lnTo>
                          <a:pt x="658" y="607"/>
                        </a:lnTo>
                        <a:lnTo>
                          <a:pt x="647" y="607"/>
                        </a:lnTo>
                        <a:lnTo>
                          <a:pt x="633" y="6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924480" y="4682880"/>
                    <a:ext cx="5112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257">
                        <a:moveTo>
                          <a:pt x="62" y="0"/>
                        </a:moveTo>
                        <a:lnTo>
                          <a:pt x="0" y="196"/>
                        </a:lnTo>
                        <a:lnTo>
                          <a:pt x="0" y="199"/>
                        </a:lnTo>
                        <a:lnTo>
                          <a:pt x="0" y="206"/>
                        </a:lnTo>
                        <a:lnTo>
                          <a:pt x="1" y="215"/>
                        </a:lnTo>
                        <a:lnTo>
                          <a:pt x="4" y="225"/>
                        </a:lnTo>
                        <a:lnTo>
                          <a:pt x="9" y="235"/>
                        </a:lnTo>
                        <a:lnTo>
                          <a:pt x="17" y="246"/>
                        </a:lnTo>
                        <a:lnTo>
                          <a:pt x="28" y="254"/>
                        </a:lnTo>
                        <a:lnTo>
                          <a:pt x="43" y="257"/>
                        </a:lnTo>
                        <a:lnTo>
                          <a:pt x="58" y="257"/>
                        </a:lnTo>
                        <a:lnTo>
                          <a:pt x="71" y="254"/>
                        </a:lnTo>
                        <a:lnTo>
                          <a:pt x="80" y="249"/>
                        </a:lnTo>
                        <a:lnTo>
                          <a:pt x="86" y="242"/>
                        </a:lnTo>
                        <a:lnTo>
                          <a:pt x="91" y="237"/>
                        </a:lnTo>
                        <a:lnTo>
                          <a:pt x="93" y="231"/>
                        </a:lnTo>
                        <a:lnTo>
                          <a:pt x="94" y="226"/>
                        </a:lnTo>
                        <a:lnTo>
                          <a:pt x="94" y="225"/>
                        </a:lnTo>
                        <a:lnTo>
                          <a:pt x="88" y="15"/>
                        </a:lnTo>
                        <a:lnTo>
                          <a:pt x="6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1108800" y="3886920"/>
                    <a:ext cx="227160" cy="23544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466">
                        <a:moveTo>
                          <a:pt x="14" y="466"/>
                        </a:moveTo>
                        <a:lnTo>
                          <a:pt x="15" y="464"/>
                        </a:lnTo>
                        <a:lnTo>
                          <a:pt x="17" y="457"/>
                        </a:lnTo>
                        <a:lnTo>
                          <a:pt x="22" y="448"/>
                        </a:lnTo>
                        <a:lnTo>
                          <a:pt x="29" y="437"/>
                        </a:lnTo>
                        <a:lnTo>
                          <a:pt x="37" y="426"/>
                        </a:lnTo>
                        <a:lnTo>
                          <a:pt x="47" y="416"/>
                        </a:lnTo>
                        <a:lnTo>
                          <a:pt x="59" y="407"/>
                        </a:lnTo>
                        <a:lnTo>
                          <a:pt x="74" y="403"/>
                        </a:lnTo>
                        <a:lnTo>
                          <a:pt x="88" y="399"/>
                        </a:lnTo>
                        <a:lnTo>
                          <a:pt x="101" y="393"/>
                        </a:lnTo>
                        <a:lnTo>
                          <a:pt x="115" y="386"/>
                        </a:lnTo>
                        <a:lnTo>
                          <a:pt x="130" y="377"/>
                        </a:lnTo>
                        <a:lnTo>
                          <a:pt x="145" y="367"/>
                        </a:lnTo>
                        <a:lnTo>
                          <a:pt x="163" y="355"/>
                        </a:lnTo>
                        <a:lnTo>
                          <a:pt x="185" y="342"/>
                        </a:lnTo>
                        <a:lnTo>
                          <a:pt x="211" y="325"/>
                        </a:lnTo>
                        <a:lnTo>
                          <a:pt x="220" y="320"/>
                        </a:lnTo>
                        <a:lnTo>
                          <a:pt x="227" y="315"/>
                        </a:lnTo>
                        <a:lnTo>
                          <a:pt x="235" y="312"/>
                        </a:lnTo>
                        <a:lnTo>
                          <a:pt x="245" y="307"/>
                        </a:lnTo>
                        <a:lnTo>
                          <a:pt x="258" y="302"/>
                        </a:lnTo>
                        <a:lnTo>
                          <a:pt x="275" y="297"/>
                        </a:lnTo>
                        <a:lnTo>
                          <a:pt x="299" y="290"/>
                        </a:lnTo>
                        <a:lnTo>
                          <a:pt x="330" y="280"/>
                        </a:lnTo>
                        <a:lnTo>
                          <a:pt x="367" y="267"/>
                        </a:lnTo>
                        <a:lnTo>
                          <a:pt x="394" y="250"/>
                        </a:lnTo>
                        <a:lnTo>
                          <a:pt x="411" y="232"/>
                        </a:lnTo>
                        <a:lnTo>
                          <a:pt x="421" y="212"/>
                        </a:lnTo>
                        <a:lnTo>
                          <a:pt x="424" y="191"/>
                        </a:lnTo>
                        <a:lnTo>
                          <a:pt x="422" y="169"/>
                        </a:lnTo>
                        <a:lnTo>
                          <a:pt x="417" y="148"/>
                        </a:lnTo>
                        <a:lnTo>
                          <a:pt x="407" y="127"/>
                        </a:lnTo>
                        <a:lnTo>
                          <a:pt x="382" y="83"/>
                        </a:lnTo>
                        <a:lnTo>
                          <a:pt x="357" y="51"/>
                        </a:lnTo>
                        <a:lnTo>
                          <a:pt x="331" y="29"/>
                        </a:lnTo>
                        <a:lnTo>
                          <a:pt x="310" y="14"/>
                        </a:lnTo>
                        <a:lnTo>
                          <a:pt x="289" y="5"/>
                        </a:lnTo>
                        <a:lnTo>
                          <a:pt x="274" y="2"/>
                        </a:lnTo>
                        <a:lnTo>
                          <a:pt x="264" y="0"/>
                        </a:lnTo>
                        <a:lnTo>
                          <a:pt x="260" y="0"/>
                        </a:lnTo>
                        <a:lnTo>
                          <a:pt x="264" y="3"/>
                        </a:lnTo>
                        <a:lnTo>
                          <a:pt x="272" y="9"/>
                        </a:lnTo>
                        <a:lnTo>
                          <a:pt x="284" y="19"/>
                        </a:lnTo>
                        <a:lnTo>
                          <a:pt x="298" y="32"/>
                        </a:lnTo>
                        <a:lnTo>
                          <a:pt x="313" y="47"/>
                        </a:lnTo>
                        <a:lnTo>
                          <a:pt x="327" y="64"/>
                        </a:lnTo>
                        <a:lnTo>
                          <a:pt x="337" y="82"/>
                        </a:lnTo>
                        <a:lnTo>
                          <a:pt x="344" y="101"/>
                        </a:lnTo>
                        <a:lnTo>
                          <a:pt x="349" y="120"/>
                        </a:lnTo>
                        <a:lnTo>
                          <a:pt x="352" y="141"/>
                        </a:lnTo>
                        <a:lnTo>
                          <a:pt x="353" y="162"/>
                        </a:lnTo>
                        <a:lnTo>
                          <a:pt x="351" y="182"/>
                        </a:lnTo>
                        <a:lnTo>
                          <a:pt x="344" y="201"/>
                        </a:lnTo>
                        <a:lnTo>
                          <a:pt x="330" y="218"/>
                        </a:lnTo>
                        <a:lnTo>
                          <a:pt x="308" y="233"/>
                        </a:lnTo>
                        <a:lnTo>
                          <a:pt x="277" y="245"/>
                        </a:lnTo>
                        <a:lnTo>
                          <a:pt x="245" y="254"/>
                        </a:lnTo>
                        <a:lnTo>
                          <a:pt x="221" y="262"/>
                        </a:lnTo>
                        <a:lnTo>
                          <a:pt x="201" y="269"/>
                        </a:lnTo>
                        <a:lnTo>
                          <a:pt x="186" y="275"/>
                        </a:lnTo>
                        <a:lnTo>
                          <a:pt x="175" y="282"/>
                        </a:lnTo>
                        <a:lnTo>
                          <a:pt x="166" y="287"/>
                        </a:lnTo>
                        <a:lnTo>
                          <a:pt x="156" y="293"/>
                        </a:lnTo>
                        <a:lnTo>
                          <a:pt x="147" y="299"/>
                        </a:lnTo>
                        <a:lnTo>
                          <a:pt x="122" y="314"/>
                        </a:lnTo>
                        <a:lnTo>
                          <a:pt x="102" y="328"/>
                        </a:lnTo>
                        <a:lnTo>
                          <a:pt x="85" y="338"/>
                        </a:lnTo>
                        <a:lnTo>
                          <a:pt x="71" y="346"/>
                        </a:lnTo>
                        <a:lnTo>
                          <a:pt x="59" y="353"/>
                        </a:lnTo>
                        <a:lnTo>
                          <a:pt x="47" y="359"/>
                        </a:lnTo>
                        <a:lnTo>
                          <a:pt x="34" y="362"/>
                        </a:lnTo>
                        <a:lnTo>
                          <a:pt x="21" y="366"/>
                        </a:lnTo>
                        <a:lnTo>
                          <a:pt x="8" y="373"/>
                        </a:lnTo>
                        <a:lnTo>
                          <a:pt x="2" y="385"/>
                        </a:lnTo>
                        <a:lnTo>
                          <a:pt x="0" y="401"/>
                        </a:lnTo>
                        <a:lnTo>
                          <a:pt x="2" y="419"/>
                        </a:lnTo>
                        <a:lnTo>
                          <a:pt x="4" y="436"/>
                        </a:lnTo>
                        <a:lnTo>
                          <a:pt x="9" y="451"/>
                        </a:lnTo>
                        <a:lnTo>
                          <a:pt x="12" y="462"/>
                        </a:lnTo>
                        <a:lnTo>
                          <a:pt x="14" y="4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1020960" y="3641400"/>
                    <a:ext cx="243360" cy="33912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668">
                        <a:moveTo>
                          <a:pt x="191" y="215"/>
                        </a:moveTo>
                        <a:lnTo>
                          <a:pt x="204" y="207"/>
                        </a:lnTo>
                        <a:lnTo>
                          <a:pt x="218" y="200"/>
                        </a:lnTo>
                        <a:lnTo>
                          <a:pt x="232" y="193"/>
                        </a:lnTo>
                        <a:lnTo>
                          <a:pt x="247" y="187"/>
                        </a:lnTo>
                        <a:lnTo>
                          <a:pt x="261" y="184"/>
                        </a:lnTo>
                        <a:lnTo>
                          <a:pt x="276" y="182"/>
                        </a:lnTo>
                        <a:lnTo>
                          <a:pt x="290" y="183"/>
                        </a:lnTo>
                        <a:lnTo>
                          <a:pt x="304" y="187"/>
                        </a:lnTo>
                        <a:lnTo>
                          <a:pt x="320" y="197"/>
                        </a:lnTo>
                        <a:lnTo>
                          <a:pt x="333" y="207"/>
                        </a:lnTo>
                        <a:lnTo>
                          <a:pt x="342" y="218"/>
                        </a:lnTo>
                        <a:lnTo>
                          <a:pt x="350" y="231"/>
                        </a:lnTo>
                        <a:lnTo>
                          <a:pt x="356" y="244"/>
                        </a:lnTo>
                        <a:lnTo>
                          <a:pt x="362" y="256"/>
                        </a:lnTo>
                        <a:lnTo>
                          <a:pt x="368" y="268"/>
                        </a:lnTo>
                        <a:lnTo>
                          <a:pt x="375" y="280"/>
                        </a:lnTo>
                        <a:lnTo>
                          <a:pt x="366" y="276"/>
                        </a:lnTo>
                        <a:lnTo>
                          <a:pt x="358" y="274"/>
                        </a:lnTo>
                        <a:lnTo>
                          <a:pt x="349" y="270"/>
                        </a:lnTo>
                        <a:lnTo>
                          <a:pt x="341" y="268"/>
                        </a:lnTo>
                        <a:lnTo>
                          <a:pt x="326" y="265"/>
                        </a:lnTo>
                        <a:lnTo>
                          <a:pt x="311" y="261"/>
                        </a:lnTo>
                        <a:lnTo>
                          <a:pt x="295" y="258"/>
                        </a:lnTo>
                        <a:lnTo>
                          <a:pt x="281" y="255"/>
                        </a:lnTo>
                        <a:lnTo>
                          <a:pt x="266" y="253"/>
                        </a:lnTo>
                        <a:lnTo>
                          <a:pt x="251" y="251"/>
                        </a:lnTo>
                        <a:lnTo>
                          <a:pt x="238" y="248"/>
                        </a:lnTo>
                        <a:lnTo>
                          <a:pt x="224" y="247"/>
                        </a:lnTo>
                        <a:lnTo>
                          <a:pt x="211" y="247"/>
                        </a:lnTo>
                        <a:lnTo>
                          <a:pt x="197" y="246"/>
                        </a:lnTo>
                        <a:lnTo>
                          <a:pt x="186" y="247"/>
                        </a:lnTo>
                        <a:lnTo>
                          <a:pt x="173" y="247"/>
                        </a:lnTo>
                        <a:lnTo>
                          <a:pt x="162" y="250"/>
                        </a:lnTo>
                        <a:lnTo>
                          <a:pt x="151" y="252"/>
                        </a:lnTo>
                        <a:lnTo>
                          <a:pt x="141" y="254"/>
                        </a:lnTo>
                        <a:lnTo>
                          <a:pt x="132" y="258"/>
                        </a:lnTo>
                        <a:lnTo>
                          <a:pt x="138" y="247"/>
                        </a:lnTo>
                        <a:lnTo>
                          <a:pt x="145" y="240"/>
                        </a:lnTo>
                        <a:lnTo>
                          <a:pt x="152" y="235"/>
                        </a:lnTo>
                        <a:lnTo>
                          <a:pt x="159" y="230"/>
                        </a:lnTo>
                        <a:lnTo>
                          <a:pt x="167" y="227"/>
                        </a:lnTo>
                        <a:lnTo>
                          <a:pt x="175" y="223"/>
                        </a:lnTo>
                        <a:lnTo>
                          <a:pt x="183" y="220"/>
                        </a:lnTo>
                        <a:lnTo>
                          <a:pt x="191" y="215"/>
                        </a:lnTo>
                        <a:lnTo>
                          <a:pt x="151" y="156"/>
                        </a:lnTo>
                        <a:lnTo>
                          <a:pt x="137" y="167"/>
                        </a:lnTo>
                        <a:lnTo>
                          <a:pt x="125" y="179"/>
                        </a:lnTo>
                        <a:lnTo>
                          <a:pt x="112" y="192"/>
                        </a:lnTo>
                        <a:lnTo>
                          <a:pt x="102" y="207"/>
                        </a:lnTo>
                        <a:lnTo>
                          <a:pt x="90" y="223"/>
                        </a:lnTo>
                        <a:lnTo>
                          <a:pt x="81" y="240"/>
                        </a:lnTo>
                        <a:lnTo>
                          <a:pt x="73" y="259"/>
                        </a:lnTo>
                        <a:lnTo>
                          <a:pt x="65" y="277"/>
                        </a:lnTo>
                        <a:lnTo>
                          <a:pt x="56" y="283"/>
                        </a:lnTo>
                        <a:lnTo>
                          <a:pt x="42" y="293"/>
                        </a:lnTo>
                        <a:lnTo>
                          <a:pt x="28" y="306"/>
                        </a:lnTo>
                        <a:lnTo>
                          <a:pt x="15" y="322"/>
                        </a:lnTo>
                        <a:lnTo>
                          <a:pt x="5" y="341"/>
                        </a:lnTo>
                        <a:lnTo>
                          <a:pt x="0" y="361"/>
                        </a:lnTo>
                        <a:lnTo>
                          <a:pt x="3" y="382"/>
                        </a:lnTo>
                        <a:lnTo>
                          <a:pt x="14" y="404"/>
                        </a:lnTo>
                        <a:lnTo>
                          <a:pt x="29" y="420"/>
                        </a:lnTo>
                        <a:lnTo>
                          <a:pt x="41" y="430"/>
                        </a:lnTo>
                        <a:lnTo>
                          <a:pt x="51" y="435"/>
                        </a:lnTo>
                        <a:lnTo>
                          <a:pt x="58" y="435"/>
                        </a:lnTo>
                        <a:lnTo>
                          <a:pt x="61" y="430"/>
                        </a:lnTo>
                        <a:lnTo>
                          <a:pt x="61" y="424"/>
                        </a:lnTo>
                        <a:lnTo>
                          <a:pt x="59" y="414"/>
                        </a:lnTo>
                        <a:lnTo>
                          <a:pt x="52" y="405"/>
                        </a:lnTo>
                        <a:lnTo>
                          <a:pt x="43" y="389"/>
                        </a:lnTo>
                        <a:lnTo>
                          <a:pt x="41" y="371"/>
                        </a:lnTo>
                        <a:lnTo>
                          <a:pt x="45" y="356"/>
                        </a:lnTo>
                        <a:lnTo>
                          <a:pt x="57" y="344"/>
                        </a:lnTo>
                        <a:lnTo>
                          <a:pt x="61" y="341"/>
                        </a:lnTo>
                        <a:lnTo>
                          <a:pt x="67" y="338"/>
                        </a:lnTo>
                        <a:lnTo>
                          <a:pt x="72" y="336"/>
                        </a:lnTo>
                        <a:lnTo>
                          <a:pt x="77" y="335"/>
                        </a:lnTo>
                        <a:lnTo>
                          <a:pt x="83" y="336"/>
                        </a:lnTo>
                        <a:lnTo>
                          <a:pt x="90" y="337"/>
                        </a:lnTo>
                        <a:lnTo>
                          <a:pt x="98" y="342"/>
                        </a:lnTo>
                        <a:lnTo>
                          <a:pt x="107" y="349"/>
                        </a:lnTo>
                        <a:lnTo>
                          <a:pt x="111" y="350"/>
                        </a:lnTo>
                        <a:lnTo>
                          <a:pt x="115" y="350"/>
                        </a:lnTo>
                        <a:lnTo>
                          <a:pt x="120" y="347"/>
                        </a:lnTo>
                        <a:lnTo>
                          <a:pt x="125" y="342"/>
                        </a:lnTo>
                        <a:lnTo>
                          <a:pt x="129" y="335"/>
                        </a:lnTo>
                        <a:lnTo>
                          <a:pt x="135" y="327"/>
                        </a:lnTo>
                        <a:lnTo>
                          <a:pt x="142" y="315"/>
                        </a:lnTo>
                        <a:lnTo>
                          <a:pt x="148" y="301"/>
                        </a:lnTo>
                        <a:lnTo>
                          <a:pt x="156" y="301"/>
                        </a:lnTo>
                        <a:lnTo>
                          <a:pt x="164" y="303"/>
                        </a:lnTo>
                        <a:lnTo>
                          <a:pt x="173" y="304"/>
                        </a:lnTo>
                        <a:lnTo>
                          <a:pt x="181" y="304"/>
                        </a:lnTo>
                        <a:lnTo>
                          <a:pt x="190" y="305"/>
                        </a:lnTo>
                        <a:lnTo>
                          <a:pt x="198" y="306"/>
                        </a:lnTo>
                        <a:lnTo>
                          <a:pt x="208" y="307"/>
                        </a:lnTo>
                        <a:lnTo>
                          <a:pt x="216" y="308"/>
                        </a:lnTo>
                        <a:lnTo>
                          <a:pt x="239" y="312"/>
                        </a:lnTo>
                        <a:lnTo>
                          <a:pt x="261" y="315"/>
                        </a:lnTo>
                        <a:lnTo>
                          <a:pt x="282" y="320"/>
                        </a:lnTo>
                        <a:lnTo>
                          <a:pt x="303" y="323"/>
                        </a:lnTo>
                        <a:lnTo>
                          <a:pt x="323" y="329"/>
                        </a:lnTo>
                        <a:lnTo>
                          <a:pt x="342" y="334"/>
                        </a:lnTo>
                        <a:lnTo>
                          <a:pt x="361" y="339"/>
                        </a:lnTo>
                        <a:lnTo>
                          <a:pt x="378" y="345"/>
                        </a:lnTo>
                        <a:lnTo>
                          <a:pt x="390" y="376"/>
                        </a:lnTo>
                        <a:lnTo>
                          <a:pt x="395" y="411"/>
                        </a:lnTo>
                        <a:lnTo>
                          <a:pt x="394" y="449"/>
                        </a:lnTo>
                        <a:lnTo>
                          <a:pt x="385" y="489"/>
                        </a:lnTo>
                        <a:lnTo>
                          <a:pt x="378" y="508"/>
                        </a:lnTo>
                        <a:lnTo>
                          <a:pt x="370" y="525"/>
                        </a:lnTo>
                        <a:lnTo>
                          <a:pt x="362" y="541"/>
                        </a:lnTo>
                        <a:lnTo>
                          <a:pt x="352" y="556"/>
                        </a:lnTo>
                        <a:lnTo>
                          <a:pt x="341" y="570"/>
                        </a:lnTo>
                        <a:lnTo>
                          <a:pt x="330" y="581"/>
                        </a:lnTo>
                        <a:lnTo>
                          <a:pt x="317" y="592"/>
                        </a:lnTo>
                        <a:lnTo>
                          <a:pt x="304" y="601"/>
                        </a:lnTo>
                        <a:lnTo>
                          <a:pt x="292" y="608"/>
                        </a:lnTo>
                        <a:lnTo>
                          <a:pt x="278" y="614"/>
                        </a:lnTo>
                        <a:lnTo>
                          <a:pt x="264" y="617"/>
                        </a:lnTo>
                        <a:lnTo>
                          <a:pt x="249" y="619"/>
                        </a:lnTo>
                        <a:lnTo>
                          <a:pt x="234" y="621"/>
                        </a:lnTo>
                        <a:lnTo>
                          <a:pt x="219" y="618"/>
                        </a:lnTo>
                        <a:lnTo>
                          <a:pt x="204" y="616"/>
                        </a:lnTo>
                        <a:lnTo>
                          <a:pt x="189" y="610"/>
                        </a:lnTo>
                        <a:lnTo>
                          <a:pt x="179" y="604"/>
                        </a:lnTo>
                        <a:lnTo>
                          <a:pt x="166" y="596"/>
                        </a:lnTo>
                        <a:lnTo>
                          <a:pt x="150" y="585"/>
                        </a:lnTo>
                        <a:lnTo>
                          <a:pt x="134" y="572"/>
                        </a:lnTo>
                        <a:lnTo>
                          <a:pt x="118" y="559"/>
                        </a:lnTo>
                        <a:lnTo>
                          <a:pt x="103" y="547"/>
                        </a:lnTo>
                        <a:lnTo>
                          <a:pt x="92" y="535"/>
                        </a:lnTo>
                        <a:lnTo>
                          <a:pt x="86" y="526"/>
                        </a:lnTo>
                        <a:lnTo>
                          <a:pt x="89" y="543"/>
                        </a:lnTo>
                        <a:lnTo>
                          <a:pt x="96" y="563"/>
                        </a:lnTo>
                        <a:lnTo>
                          <a:pt x="106" y="581"/>
                        </a:lnTo>
                        <a:lnTo>
                          <a:pt x="119" y="600"/>
                        </a:lnTo>
                        <a:lnTo>
                          <a:pt x="135" y="617"/>
                        </a:lnTo>
                        <a:lnTo>
                          <a:pt x="153" y="633"/>
                        </a:lnTo>
                        <a:lnTo>
                          <a:pt x="173" y="646"/>
                        </a:lnTo>
                        <a:lnTo>
                          <a:pt x="196" y="657"/>
                        </a:lnTo>
                        <a:lnTo>
                          <a:pt x="212" y="662"/>
                        </a:lnTo>
                        <a:lnTo>
                          <a:pt x="228" y="665"/>
                        </a:lnTo>
                        <a:lnTo>
                          <a:pt x="244" y="668"/>
                        </a:lnTo>
                        <a:lnTo>
                          <a:pt x="261" y="668"/>
                        </a:lnTo>
                        <a:lnTo>
                          <a:pt x="277" y="665"/>
                        </a:lnTo>
                        <a:lnTo>
                          <a:pt x="292" y="662"/>
                        </a:lnTo>
                        <a:lnTo>
                          <a:pt x="308" y="657"/>
                        </a:lnTo>
                        <a:lnTo>
                          <a:pt x="323" y="652"/>
                        </a:lnTo>
                        <a:lnTo>
                          <a:pt x="337" y="644"/>
                        </a:lnTo>
                        <a:lnTo>
                          <a:pt x="352" y="634"/>
                        </a:lnTo>
                        <a:lnTo>
                          <a:pt x="364" y="624"/>
                        </a:lnTo>
                        <a:lnTo>
                          <a:pt x="378" y="611"/>
                        </a:lnTo>
                        <a:lnTo>
                          <a:pt x="390" y="599"/>
                        </a:lnTo>
                        <a:lnTo>
                          <a:pt x="401" y="584"/>
                        </a:lnTo>
                        <a:lnTo>
                          <a:pt x="413" y="568"/>
                        </a:lnTo>
                        <a:lnTo>
                          <a:pt x="422" y="550"/>
                        </a:lnTo>
                        <a:lnTo>
                          <a:pt x="430" y="531"/>
                        </a:lnTo>
                        <a:lnTo>
                          <a:pt x="438" y="505"/>
                        </a:lnTo>
                        <a:lnTo>
                          <a:pt x="445" y="475"/>
                        </a:lnTo>
                        <a:lnTo>
                          <a:pt x="451" y="441"/>
                        </a:lnTo>
                        <a:lnTo>
                          <a:pt x="454" y="406"/>
                        </a:lnTo>
                        <a:lnTo>
                          <a:pt x="454" y="371"/>
                        </a:lnTo>
                        <a:lnTo>
                          <a:pt x="452" y="337"/>
                        </a:lnTo>
                        <a:lnTo>
                          <a:pt x="445" y="306"/>
                        </a:lnTo>
                        <a:lnTo>
                          <a:pt x="434" y="278"/>
                        </a:lnTo>
                        <a:lnTo>
                          <a:pt x="421" y="252"/>
                        </a:lnTo>
                        <a:lnTo>
                          <a:pt x="404" y="229"/>
                        </a:lnTo>
                        <a:lnTo>
                          <a:pt x="387" y="207"/>
                        </a:lnTo>
                        <a:lnTo>
                          <a:pt x="368" y="187"/>
                        </a:lnTo>
                        <a:lnTo>
                          <a:pt x="348" y="171"/>
                        </a:lnTo>
                        <a:lnTo>
                          <a:pt x="326" y="156"/>
                        </a:lnTo>
                        <a:lnTo>
                          <a:pt x="305" y="144"/>
                        </a:lnTo>
                        <a:lnTo>
                          <a:pt x="310" y="139"/>
                        </a:lnTo>
                        <a:lnTo>
                          <a:pt x="316" y="134"/>
                        </a:lnTo>
                        <a:lnTo>
                          <a:pt x="320" y="130"/>
                        </a:lnTo>
                        <a:lnTo>
                          <a:pt x="325" y="124"/>
                        </a:lnTo>
                        <a:lnTo>
                          <a:pt x="319" y="125"/>
                        </a:lnTo>
                        <a:lnTo>
                          <a:pt x="314" y="127"/>
                        </a:lnTo>
                        <a:lnTo>
                          <a:pt x="307" y="129"/>
                        </a:lnTo>
                        <a:lnTo>
                          <a:pt x="301" y="129"/>
                        </a:lnTo>
                        <a:lnTo>
                          <a:pt x="288" y="127"/>
                        </a:lnTo>
                        <a:lnTo>
                          <a:pt x="277" y="124"/>
                        </a:lnTo>
                        <a:lnTo>
                          <a:pt x="266" y="118"/>
                        </a:lnTo>
                        <a:lnTo>
                          <a:pt x="257" y="110"/>
                        </a:lnTo>
                        <a:lnTo>
                          <a:pt x="250" y="102"/>
                        </a:lnTo>
                        <a:lnTo>
                          <a:pt x="244" y="92"/>
                        </a:lnTo>
                        <a:lnTo>
                          <a:pt x="241" y="80"/>
                        </a:lnTo>
                        <a:lnTo>
                          <a:pt x="240" y="68"/>
                        </a:lnTo>
                        <a:lnTo>
                          <a:pt x="241" y="57"/>
                        </a:lnTo>
                        <a:lnTo>
                          <a:pt x="243" y="47"/>
                        </a:lnTo>
                        <a:lnTo>
                          <a:pt x="248" y="36"/>
                        </a:lnTo>
                        <a:lnTo>
                          <a:pt x="254" y="28"/>
                        </a:lnTo>
                        <a:lnTo>
                          <a:pt x="259" y="21"/>
                        </a:lnTo>
                        <a:lnTo>
                          <a:pt x="267" y="16"/>
                        </a:lnTo>
                        <a:lnTo>
                          <a:pt x="277" y="11"/>
                        </a:lnTo>
                        <a:lnTo>
                          <a:pt x="287" y="8"/>
                        </a:lnTo>
                        <a:lnTo>
                          <a:pt x="287" y="8"/>
                        </a:lnTo>
                        <a:lnTo>
                          <a:pt x="287" y="6"/>
                        </a:lnTo>
                        <a:lnTo>
                          <a:pt x="287" y="6"/>
                        </a:lnTo>
                        <a:lnTo>
                          <a:pt x="287" y="6"/>
                        </a:lnTo>
                        <a:lnTo>
                          <a:pt x="272" y="1"/>
                        </a:lnTo>
                        <a:lnTo>
                          <a:pt x="257" y="0"/>
                        </a:lnTo>
                        <a:lnTo>
                          <a:pt x="243" y="0"/>
                        </a:lnTo>
                        <a:lnTo>
                          <a:pt x="229" y="4"/>
                        </a:lnTo>
                        <a:lnTo>
                          <a:pt x="217" y="10"/>
                        </a:lnTo>
                        <a:lnTo>
                          <a:pt x="205" y="19"/>
                        </a:lnTo>
                        <a:lnTo>
                          <a:pt x="196" y="31"/>
                        </a:lnTo>
                        <a:lnTo>
                          <a:pt x="189" y="44"/>
                        </a:lnTo>
                        <a:lnTo>
                          <a:pt x="185" y="66"/>
                        </a:lnTo>
                        <a:lnTo>
                          <a:pt x="187" y="89"/>
                        </a:lnTo>
                        <a:lnTo>
                          <a:pt x="195" y="111"/>
                        </a:lnTo>
                        <a:lnTo>
                          <a:pt x="209" y="130"/>
                        </a:lnTo>
                        <a:lnTo>
                          <a:pt x="201" y="132"/>
                        </a:lnTo>
                        <a:lnTo>
                          <a:pt x="194" y="134"/>
                        </a:lnTo>
                        <a:lnTo>
                          <a:pt x="186" y="137"/>
                        </a:lnTo>
                        <a:lnTo>
                          <a:pt x="179" y="140"/>
                        </a:lnTo>
                        <a:lnTo>
                          <a:pt x="172" y="144"/>
                        </a:lnTo>
                        <a:lnTo>
                          <a:pt x="165" y="147"/>
                        </a:lnTo>
                        <a:lnTo>
                          <a:pt x="158" y="152"/>
                        </a:lnTo>
                        <a:lnTo>
                          <a:pt x="151" y="156"/>
                        </a:lnTo>
                        <a:lnTo>
                          <a:pt x="191" y="2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" name="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32" name=""/>
              <p:cNvGrpSpPr/>
              <p:nvPr/>
            </p:nvGrpSpPr>
            <p:grpSpPr>
              <a:xfrm>
                <a:off x="260640" y="2760840"/>
                <a:ext cx="1218960" cy="683640"/>
                <a:chOff x="260640" y="2760840"/>
                <a:chExt cx="1218960" cy="6836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975600" y="2956320"/>
                  <a:ext cx="44640" cy="39240"/>
                </a:xfrm>
                <a:custGeom>
                  <a:avLst/>
                  <a:gdLst/>
                  <a:ahLst/>
                  <a:rect l="l" t="t" r="r" b="b"/>
                  <a:pathLst>
                    <a:path w="85" h="92">
                      <a:moveTo>
                        <a:pt x="85" y="92"/>
                      </a:moveTo>
                      <a:lnTo>
                        <a:pt x="85" y="87"/>
                      </a:lnTo>
                      <a:lnTo>
                        <a:pt x="85" y="72"/>
                      </a:lnTo>
                      <a:lnTo>
                        <a:pt x="81" y="52"/>
                      </a:lnTo>
                      <a:lnTo>
                        <a:pt x="73" y="31"/>
                      </a:lnTo>
                      <a:lnTo>
                        <a:pt x="66" y="23"/>
                      </a:lnTo>
                      <a:lnTo>
                        <a:pt x="56" y="15"/>
                      </a:lnTo>
                      <a:lnTo>
                        <a:pt x="43" y="10"/>
                      </a:lnTo>
                      <a:lnTo>
                        <a:pt x="31" y="6"/>
                      </a:lnTo>
                      <a:lnTo>
                        <a:pt x="19" y="4"/>
                      </a:lnTo>
                      <a:lnTo>
                        <a:pt x="9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5" y="4"/>
                      </a:lnTo>
                      <a:lnTo>
                        <a:pt x="11" y="7"/>
                      </a:lnTo>
                      <a:lnTo>
                        <a:pt x="18" y="12"/>
                      </a:lnTo>
                      <a:lnTo>
                        <a:pt x="25" y="17"/>
                      </a:lnTo>
                      <a:lnTo>
                        <a:pt x="33" y="24"/>
                      </a:lnTo>
                      <a:lnTo>
                        <a:pt x="41" y="32"/>
                      </a:lnTo>
                      <a:lnTo>
                        <a:pt x="47" y="42"/>
                      </a:lnTo>
                      <a:lnTo>
                        <a:pt x="53" y="51"/>
                      </a:lnTo>
                      <a:lnTo>
                        <a:pt x="60" y="60"/>
                      </a:lnTo>
                      <a:lnTo>
                        <a:pt x="65" y="69"/>
                      </a:lnTo>
                      <a:lnTo>
                        <a:pt x="71" y="76"/>
                      </a:lnTo>
                      <a:lnTo>
                        <a:pt x="77" y="83"/>
                      </a:lnTo>
                      <a:lnTo>
                        <a:pt x="81" y="88"/>
                      </a:lnTo>
                      <a:lnTo>
                        <a:pt x="84" y="91"/>
                      </a:lnTo>
                      <a:lnTo>
                        <a:pt x="85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260640" y="2760840"/>
                  <a:ext cx="1218960" cy="683640"/>
                  <a:chOff x="260640" y="2760840"/>
                  <a:chExt cx="1218960" cy="68364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746280" y="2998080"/>
                    <a:ext cx="25128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2" h="163">
                        <a:moveTo>
                          <a:pt x="0" y="4"/>
                        </a:moveTo>
                        <a:lnTo>
                          <a:pt x="5" y="0"/>
                        </a:lnTo>
                        <a:lnTo>
                          <a:pt x="18" y="0"/>
                        </a:lnTo>
                        <a:lnTo>
                          <a:pt x="41" y="2"/>
                        </a:lnTo>
                        <a:lnTo>
                          <a:pt x="71" y="8"/>
                        </a:lnTo>
                        <a:lnTo>
                          <a:pt x="106" y="16"/>
                        </a:lnTo>
                        <a:lnTo>
                          <a:pt x="146" y="25"/>
                        </a:lnTo>
                        <a:lnTo>
                          <a:pt x="188" y="36"/>
                        </a:lnTo>
                        <a:lnTo>
                          <a:pt x="233" y="47"/>
                        </a:lnTo>
                        <a:lnTo>
                          <a:pt x="276" y="59"/>
                        </a:lnTo>
                        <a:lnTo>
                          <a:pt x="318" y="70"/>
                        </a:lnTo>
                        <a:lnTo>
                          <a:pt x="358" y="82"/>
                        </a:lnTo>
                        <a:lnTo>
                          <a:pt x="394" y="91"/>
                        </a:lnTo>
                        <a:lnTo>
                          <a:pt x="424" y="100"/>
                        </a:lnTo>
                        <a:lnTo>
                          <a:pt x="447" y="107"/>
                        </a:lnTo>
                        <a:lnTo>
                          <a:pt x="462" y="112"/>
                        </a:lnTo>
                        <a:lnTo>
                          <a:pt x="468" y="113"/>
                        </a:lnTo>
                        <a:lnTo>
                          <a:pt x="472" y="163"/>
                        </a:lnTo>
                        <a:lnTo>
                          <a:pt x="467" y="161"/>
                        </a:lnTo>
                        <a:lnTo>
                          <a:pt x="453" y="157"/>
                        </a:lnTo>
                        <a:lnTo>
                          <a:pt x="429" y="151"/>
                        </a:lnTo>
                        <a:lnTo>
                          <a:pt x="399" y="142"/>
                        </a:lnTo>
                        <a:lnTo>
                          <a:pt x="364" y="131"/>
                        </a:lnTo>
                        <a:lnTo>
                          <a:pt x="324" y="120"/>
                        </a:lnTo>
                        <a:lnTo>
                          <a:pt x="281" y="108"/>
                        </a:lnTo>
                        <a:lnTo>
                          <a:pt x="237" y="95"/>
                        </a:lnTo>
                        <a:lnTo>
                          <a:pt x="193" y="81"/>
                        </a:lnTo>
                        <a:lnTo>
                          <a:pt x="151" y="68"/>
                        </a:lnTo>
                        <a:lnTo>
                          <a:pt x="111" y="54"/>
                        </a:lnTo>
                        <a:lnTo>
                          <a:pt x="75" y="42"/>
                        </a:lnTo>
                        <a:lnTo>
                          <a:pt x="45" y="30"/>
                        </a:lnTo>
                        <a:lnTo>
                          <a:pt x="21" y="20"/>
                        </a:lnTo>
                        <a:lnTo>
                          <a:pt x="6" y="1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1050120" y="3075120"/>
                    <a:ext cx="25560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1" h="277">
                        <a:moveTo>
                          <a:pt x="355" y="241"/>
                        </a:moveTo>
                        <a:lnTo>
                          <a:pt x="375" y="250"/>
                        </a:lnTo>
                        <a:lnTo>
                          <a:pt x="395" y="257"/>
                        </a:lnTo>
                        <a:lnTo>
                          <a:pt x="416" y="263"/>
                        </a:lnTo>
                        <a:lnTo>
                          <a:pt x="437" y="268"/>
                        </a:lnTo>
                        <a:lnTo>
                          <a:pt x="454" y="272"/>
                        </a:lnTo>
                        <a:lnTo>
                          <a:pt x="468" y="274"/>
                        </a:lnTo>
                        <a:lnTo>
                          <a:pt x="477" y="277"/>
                        </a:lnTo>
                        <a:lnTo>
                          <a:pt x="481" y="277"/>
                        </a:lnTo>
                        <a:lnTo>
                          <a:pt x="478" y="275"/>
                        </a:lnTo>
                        <a:lnTo>
                          <a:pt x="471" y="274"/>
                        </a:lnTo>
                        <a:lnTo>
                          <a:pt x="462" y="271"/>
                        </a:lnTo>
                        <a:lnTo>
                          <a:pt x="448" y="265"/>
                        </a:lnTo>
                        <a:lnTo>
                          <a:pt x="432" y="259"/>
                        </a:lnTo>
                        <a:lnTo>
                          <a:pt x="414" y="251"/>
                        </a:lnTo>
                        <a:lnTo>
                          <a:pt x="394" y="241"/>
                        </a:lnTo>
                        <a:lnTo>
                          <a:pt x="373" y="230"/>
                        </a:lnTo>
                        <a:lnTo>
                          <a:pt x="350" y="218"/>
                        </a:lnTo>
                        <a:lnTo>
                          <a:pt x="328" y="203"/>
                        </a:lnTo>
                        <a:lnTo>
                          <a:pt x="307" y="187"/>
                        </a:lnTo>
                        <a:lnTo>
                          <a:pt x="285" y="169"/>
                        </a:lnTo>
                        <a:lnTo>
                          <a:pt x="264" y="150"/>
                        </a:lnTo>
                        <a:lnTo>
                          <a:pt x="245" y="128"/>
                        </a:lnTo>
                        <a:lnTo>
                          <a:pt x="228" y="106"/>
                        </a:lnTo>
                        <a:lnTo>
                          <a:pt x="214" y="81"/>
                        </a:lnTo>
                        <a:lnTo>
                          <a:pt x="209" y="74"/>
                        </a:lnTo>
                        <a:lnTo>
                          <a:pt x="199" y="67"/>
                        </a:lnTo>
                        <a:lnTo>
                          <a:pt x="188" y="59"/>
                        </a:lnTo>
                        <a:lnTo>
                          <a:pt x="172" y="51"/>
                        </a:lnTo>
                        <a:lnTo>
                          <a:pt x="156" y="43"/>
                        </a:lnTo>
                        <a:lnTo>
                          <a:pt x="136" y="35"/>
                        </a:lnTo>
                        <a:lnTo>
                          <a:pt x="118" y="26"/>
                        </a:lnTo>
                        <a:lnTo>
                          <a:pt x="97" y="20"/>
                        </a:lnTo>
                        <a:lnTo>
                          <a:pt x="77" y="14"/>
                        </a:lnTo>
                        <a:lnTo>
                          <a:pt x="59" y="8"/>
                        </a:lnTo>
                        <a:lnTo>
                          <a:pt x="43" y="5"/>
                        </a:lnTo>
                        <a:lnTo>
                          <a:pt x="28" y="1"/>
                        </a:lnTo>
                        <a:lnTo>
                          <a:pt x="15" y="0"/>
                        </a:lnTo>
                        <a:lnTo>
                          <a:pt x="6" y="0"/>
                        </a:lnTo>
                        <a:lnTo>
                          <a:pt x="1" y="2"/>
                        </a:lnTo>
                        <a:lnTo>
                          <a:pt x="0" y="7"/>
                        </a:lnTo>
                        <a:lnTo>
                          <a:pt x="4" y="13"/>
                        </a:lnTo>
                        <a:lnTo>
                          <a:pt x="10" y="18"/>
                        </a:lnTo>
                        <a:lnTo>
                          <a:pt x="21" y="24"/>
                        </a:lnTo>
                        <a:lnTo>
                          <a:pt x="32" y="30"/>
                        </a:lnTo>
                        <a:lnTo>
                          <a:pt x="46" y="37"/>
                        </a:lnTo>
                        <a:lnTo>
                          <a:pt x="61" y="44"/>
                        </a:lnTo>
                        <a:lnTo>
                          <a:pt x="77" y="50"/>
                        </a:lnTo>
                        <a:lnTo>
                          <a:pt x="95" y="56"/>
                        </a:lnTo>
                        <a:lnTo>
                          <a:pt x="111" y="63"/>
                        </a:lnTo>
                        <a:lnTo>
                          <a:pt x="128" y="70"/>
                        </a:lnTo>
                        <a:lnTo>
                          <a:pt x="143" y="77"/>
                        </a:lnTo>
                        <a:lnTo>
                          <a:pt x="158" y="84"/>
                        </a:lnTo>
                        <a:lnTo>
                          <a:pt x="171" y="91"/>
                        </a:lnTo>
                        <a:lnTo>
                          <a:pt x="181" y="98"/>
                        </a:lnTo>
                        <a:lnTo>
                          <a:pt x="189" y="104"/>
                        </a:lnTo>
                        <a:lnTo>
                          <a:pt x="194" y="111"/>
                        </a:lnTo>
                        <a:lnTo>
                          <a:pt x="207" y="133"/>
                        </a:lnTo>
                        <a:lnTo>
                          <a:pt x="226" y="153"/>
                        </a:lnTo>
                        <a:lnTo>
                          <a:pt x="248" y="173"/>
                        </a:lnTo>
                        <a:lnTo>
                          <a:pt x="271" y="190"/>
                        </a:lnTo>
                        <a:lnTo>
                          <a:pt x="295" y="206"/>
                        </a:lnTo>
                        <a:lnTo>
                          <a:pt x="318" y="220"/>
                        </a:lnTo>
                        <a:lnTo>
                          <a:pt x="339" y="232"/>
                        </a:lnTo>
                        <a:lnTo>
                          <a:pt x="355" y="2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260640" y="2760840"/>
                    <a:ext cx="1218960" cy="683640"/>
                    <a:chOff x="260640" y="2760840"/>
                    <a:chExt cx="1218960" cy="68364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888120" y="3284280"/>
                      <a:ext cx="39204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6" h="187">
                          <a:moveTo>
                            <a:pt x="384" y="98"/>
                          </a:moveTo>
                          <a:lnTo>
                            <a:pt x="369" y="91"/>
                          </a:lnTo>
                          <a:lnTo>
                            <a:pt x="353" y="84"/>
                          </a:lnTo>
                          <a:lnTo>
                            <a:pt x="336" y="76"/>
                          </a:lnTo>
                          <a:lnTo>
                            <a:pt x="320" y="68"/>
                          </a:lnTo>
                          <a:lnTo>
                            <a:pt x="304" y="60"/>
                          </a:lnTo>
                          <a:lnTo>
                            <a:pt x="288" y="52"/>
                          </a:lnTo>
                          <a:lnTo>
                            <a:pt x="273" y="44"/>
                          </a:lnTo>
                          <a:lnTo>
                            <a:pt x="258" y="36"/>
                          </a:lnTo>
                          <a:lnTo>
                            <a:pt x="244" y="29"/>
                          </a:lnTo>
                          <a:lnTo>
                            <a:pt x="232" y="22"/>
                          </a:lnTo>
                          <a:lnTo>
                            <a:pt x="221" y="16"/>
                          </a:lnTo>
                          <a:lnTo>
                            <a:pt x="211" y="10"/>
                          </a:lnTo>
                          <a:lnTo>
                            <a:pt x="203" y="6"/>
                          </a:lnTo>
                          <a:lnTo>
                            <a:pt x="197" y="2"/>
                          </a:lnTo>
                          <a:lnTo>
                            <a:pt x="194" y="1"/>
                          </a:lnTo>
                          <a:lnTo>
                            <a:pt x="192" y="0"/>
                          </a:lnTo>
                          <a:lnTo>
                            <a:pt x="192" y="5"/>
                          </a:lnTo>
                          <a:lnTo>
                            <a:pt x="191" y="15"/>
                          </a:lnTo>
                          <a:lnTo>
                            <a:pt x="188" y="31"/>
                          </a:lnTo>
                          <a:lnTo>
                            <a:pt x="182" y="49"/>
                          </a:lnTo>
                          <a:lnTo>
                            <a:pt x="173" y="70"/>
                          </a:lnTo>
                          <a:lnTo>
                            <a:pt x="159" y="89"/>
                          </a:lnTo>
                          <a:lnTo>
                            <a:pt x="141" y="105"/>
                          </a:lnTo>
                          <a:lnTo>
                            <a:pt x="115" y="116"/>
                          </a:lnTo>
                          <a:lnTo>
                            <a:pt x="89" y="126"/>
                          </a:lnTo>
                          <a:lnTo>
                            <a:pt x="66" y="137"/>
                          </a:lnTo>
                          <a:lnTo>
                            <a:pt x="46" y="149"/>
                          </a:lnTo>
                          <a:lnTo>
                            <a:pt x="30" y="160"/>
                          </a:lnTo>
                          <a:lnTo>
                            <a:pt x="17" y="170"/>
                          </a:lnTo>
                          <a:lnTo>
                            <a:pt x="8" y="179"/>
                          </a:lnTo>
                          <a:lnTo>
                            <a:pt x="2" y="184"/>
                          </a:lnTo>
                          <a:lnTo>
                            <a:pt x="0" y="187"/>
                          </a:lnTo>
                          <a:lnTo>
                            <a:pt x="2" y="187"/>
                          </a:lnTo>
                          <a:lnTo>
                            <a:pt x="8" y="187"/>
                          </a:lnTo>
                          <a:lnTo>
                            <a:pt x="18" y="187"/>
                          </a:lnTo>
                          <a:lnTo>
                            <a:pt x="32" y="185"/>
                          </a:lnTo>
                          <a:lnTo>
                            <a:pt x="50" y="184"/>
                          </a:lnTo>
                          <a:lnTo>
                            <a:pt x="70" y="181"/>
                          </a:lnTo>
                          <a:lnTo>
                            <a:pt x="95" y="176"/>
                          </a:lnTo>
                          <a:lnTo>
                            <a:pt x="121" y="169"/>
                          </a:lnTo>
                          <a:lnTo>
                            <a:pt x="146" y="160"/>
                          </a:lnTo>
                          <a:lnTo>
                            <a:pt x="167" y="150"/>
                          </a:lnTo>
                          <a:lnTo>
                            <a:pt x="183" y="138"/>
                          </a:lnTo>
                          <a:lnTo>
                            <a:pt x="197" y="128"/>
                          </a:lnTo>
                          <a:lnTo>
                            <a:pt x="206" y="119"/>
                          </a:lnTo>
                          <a:lnTo>
                            <a:pt x="212" y="111"/>
                          </a:lnTo>
                          <a:lnTo>
                            <a:pt x="216" y="106"/>
                          </a:lnTo>
                          <a:lnTo>
                            <a:pt x="217" y="104"/>
                          </a:lnTo>
                          <a:lnTo>
                            <a:pt x="221" y="104"/>
                          </a:lnTo>
                          <a:lnTo>
                            <a:pt x="233" y="104"/>
                          </a:lnTo>
                          <a:lnTo>
                            <a:pt x="250" y="106"/>
                          </a:lnTo>
                          <a:lnTo>
                            <a:pt x="273" y="108"/>
                          </a:lnTo>
                          <a:lnTo>
                            <a:pt x="300" y="112"/>
                          </a:lnTo>
                          <a:lnTo>
                            <a:pt x="328" y="119"/>
                          </a:lnTo>
                          <a:lnTo>
                            <a:pt x="360" y="127"/>
                          </a:lnTo>
                          <a:lnTo>
                            <a:pt x="389" y="138"/>
                          </a:lnTo>
                          <a:lnTo>
                            <a:pt x="407" y="144"/>
                          </a:lnTo>
                          <a:lnTo>
                            <a:pt x="427" y="149"/>
                          </a:lnTo>
                          <a:lnTo>
                            <a:pt x="451" y="152"/>
                          </a:lnTo>
                          <a:lnTo>
                            <a:pt x="477" y="155"/>
                          </a:lnTo>
                          <a:lnTo>
                            <a:pt x="505" y="158"/>
                          </a:lnTo>
                          <a:lnTo>
                            <a:pt x="535" y="159"/>
                          </a:lnTo>
                          <a:lnTo>
                            <a:pt x="563" y="160"/>
                          </a:lnTo>
                          <a:lnTo>
                            <a:pt x="592" y="160"/>
                          </a:lnTo>
                          <a:lnTo>
                            <a:pt x="621" y="160"/>
                          </a:lnTo>
                          <a:lnTo>
                            <a:pt x="648" y="160"/>
                          </a:lnTo>
                          <a:lnTo>
                            <a:pt x="672" y="159"/>
                          </a:lnTo>
                          <a:lnTo>
                            <a:pt x="694" y="159"/>
                          </a:lnTo>
                          <a:lnTo>
                            <a:pt x="711" y="158"/>
                          </a:lnTo>
                          <a:lnTo>
                            <a:pt x="725" y="158"/>
                          </a:lnTo>
                          <a:lnTo>
                            <a:pt x="733" y="157"/>
                          </a:lnTo>
                          <a:lnTo>
                            <a:pt x="736" y="157"/>
                          </a:lnTo>
                          <a:lnTo>
                            <a:pt x="733" y="157"/>
                          </a:lnTo>
                          <a:lnTo>
                            <a:pt x="725" y="155"/>
                          </a:lnTo>
                          <a:lnTo>
                            <a:pt x="711" y="154"/>
                          </a:lnTo>
                          <a:lnTo>
                            <a:pt x="692" y="152"/>
                          </a:lnTo>
                          <a:lnTo>
                            <a:pt x="671" y="150"/>
                          </a:lnTo>
                          <a:lnTo>
                            <a:pt x="645" y="147"/>
                          </a:lnTo>
                          <a:lnTo>
                            <a:pt x="619" y="144"/>
                          </a:lnTo>
                          <a:lnTo>
                            <a:pt x="590" y="139"/>
                          </a:lnTo>
                          <a:lnTo>
                            <a:pt x="560" y="136"/>
                          </a:lnTo>
                          <a:lnTo>
                            <a:pt x="530" y="131"/>
                          </a:lnTo>
                          <a:lnTo>
                            <a:pt x="501" y="127"/>
                          </a:lnTo>
                          <a:lnTo>
                            <a:pt x="472" y="121"/>
                          </a:lnTo>
                          <a:lnTo>
                            <a:pt x="446" y="115"/>
                          </a:lnTo>
                          <a:lnTo>
                            <a:pt x="422" y="111"/>
                          </a:lnTo>
                          <a:lnTo>
                            <a:pt x="401" y="104"/>
                          </a:lnTo>
                          <a:lnTo>
                            <a:pt x="384" y="9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047960" y="3204720"/>
                      <a:ext cx="310680" cy="7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5" h="174">
                          <a:moveTo>
                            <a:pt x="210" y="91"/>
                          </a:moveTo>
                          <a:lnTo>
                            <a:pt x="230" y="80"/>
                          </a:lnTo>
                          <a:lnTo>
                            <a:pt x="250" y="66"/>
                          </a:lnTo>
                          <a:lnTo>
                            <a:pt x="269" y="51"/>
                          </a:lnTo>
                          <a:lnTo>
                            <a:pt x="288" y="36"/>
                          </a:lnTo>
                          <a:lnTo>
                            <a:pt x="303" y="22"/>
                          </a:lnTo>
                          <a:lnTo>
                            <a:pt x="315" y="11"/>
                          </a:lnTo>
                          <a:lnTo>
                            <a:pt x="323" y="3"/>
                          </a:lnTo>
                          <a:lnTo>
                            <a:pt x="327" y="0"/>
                          </a:lnTo>
                          <a:lnTo>
                            <a:pt x="585" y="117"/>
                          </a:lnTo>
                          <a:lnTo>
                            <a:pt x="293" y="94"/>
                          </a:lnTo>
                          <a:lnTo>
                            <a:pt x="291" y="95"/>
                          </a:lnTo>
                          <a:lnTo>
                            <a:pt x="286" y="97"/>
                          </a:lnTo>
                          <a:lnTo>
                            <a:pt x="278" y="102"/>
                          </a:lnTo>
                          <a:lnTo>
                            <a:pt x="267" y="107"/>
                          </a:lnTo>
                          <a:lnTo>
                            <a:pt x="254" y="114"/>
                          </a:lnTo>
                          <a:lnTo>
                            <a:pt x="238" y="121"/>
                          </a:lnTo>
                          <a:lnTo>
                            <a:pt x="222" y="130"/>
                          </a:lnTo>
                          <a:lnTo>
                            <a:pt x="204" y="140"/>
                          </a:lnTo>
                          <a:lnTo>
                            <a:pt x="193" y="144"/>
                          </a:lnTo>
                          <a:lnTo>
                            <a:pt x="180" y="149"/>
                          </a:lnTo>
                          <a:lnTo>
                            <a:pt x="167" y="152"/>
                          </a:lnTo>
                          <a:lnTo>
                            <a:pt x="151" y="156"/>
                          </a:lnTo>
                          <a:lnTo>
                            <a:pt x="134" y="159"/>
                          </a:lnTo>
                          <a:lnTo>
                            <a:pt x="117" y="163"/>
                          </a:lnTo>
                          <a:lnTo>
                            <a:pt x="100" y="165"/>
                          </a:lnTo>
                          <a:lnTo>
                            <a:pt x="83" y="167"/>
                          </a:lnTo>
                          <a:lnTo>
                            <a:pt x="66" y="168"/>
                          </a:lnTo>
                          <a:lnTo>
                            <a:pt x="51" y="171"/>
                          </a:lnTo>
                          <a:lnTo>
                            <a:pt x="36" y="172"/>
                          </a:lnTo>
                          <a:lnTo>
                            <a:pt x="25" y="173"/>
                          </a:lnTo>
                          <a:lnTo>
                            <a:pt x="15" y="173"/>
                          </a:lnTo>
                          <a:lnTo>
                            <a:pt x="7" y="174"/>
                          </a:lnTo>
                          <a:lnTo>
                            <a:pt x="2" y="174"/>
                          </a:lnTo>
                          <a:lnTo>
                            <a:pt x="0" y="174"/>
                          </a:lnTo>
                          <a:lnTo>
                            <a:pt x="2" y="173"/>
                          </a:lnTo>
                          <a:lnTo>
                            <a:pt x="7" y="172"/>
                          </a:lnTo>
                          <a:lnTo>
                            <a:pt x="15" y="168"/>
                          </a:lnTo>
                          <a:lnTo>
                            <a:pt x="26" y="165"/>
                          </a:lnTo>
                          <a:lnTo>
                            <a:pt x="39" y="160"/>
                          </a:lnTo>
                          <a:lnTo>
                            <a:pt x="54" y="155"/>
                          </a:lnTo>
                          <a:lnTo>
                            <a:pt x="70" y="149"/>
                          </a:lnTo>
                          <a:lnTo>
                            <a:pt x="87" y="143"/>
                          </a:lnTo>
                          <a:lnTo>
                            <a:pt x="104" y="136"/>
                          </a:lnTo>
                          <a:lnTo>
                            <a:pt x="123" y="129"/>
                          </a:lnTo>
                          <a:lnTo>
                            <a:pt x="140" y="122"/>
                          </a:lnTo>
                          <a:lnTo>
                            <a:pt x="157" y="115"/>
                          </a:lnTo>
                          <a:lnTo>
                            <a:pt x="174" y="109"/>
                          </a:lnTo>
                          <a:lnTo>
                            <a:pt x="187" y="103"/>
                          </a:lnTo>
                          <a:lnTo>
                            <a:pt x="200" y="97"/>
                          </a:lnTo>
                          <a:lnTo>
                            <a:pt x="210" y="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97720" y="3322800"/>
                      <a:ext cx="886320" cy="12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3" h="285">
                          <a:moveTo>
                            <a:pt x="1663" y="48"/>
                          </a:moveTo>
                          <a:lnTo>
                            <a:pt x="1660" y="49"/>
                          </a:lnTo>
                          <a:lnTo>
                            <a:pt x="1652" y="54"/>
                          </a:lnTo>
                          <a:lnTo>
                            <a:pt x="1638" y="60"/>
                          </a:lnTo>
                          <a:lnTo>
                            <a:pt x="1621" y="68"/>
                          </a:lnTo>
                          <a:lnTo>
                            <a:pt x="1599" y="77"/>
                          </a:lnTo>
                          <a:lnTo>
                            <a:pt x="1574" y="87"/>
                          </a:lnTo>
                          <a:lnTo>
                            <a:pt x="1546" y="98"/>
                          </a:lnTo>
                          <a:lnTo>
                            <a:pt x="1516" y="109"/>
                          </a:lnTo>
                          <a:lnTo>
                            <a:pt x="1485" y="122"/>
                          </a:lnTo>
                          <a:lnTo>
                            <a:pt x="1451" y="132"/>
                          </a:lnTo>
                          <a:lnTo>
                            <a:pt x="1418" y="144"/>
                          </a:lnTo>
                          <a:lnTo>
                            <a:pt x="1385" y="154"/>
                          </a:lnTo>
                          <a:lnTo>
                            <a:pt x="1351" y="162"/>
                          </a:lnTo>
                          <a:lnTo>
                            <a:pt x="1319" y="169"/>
                          </a:lnTo>
                          <a:lnTo>
                            <a:pt x="1289" y="175"/>
                          </a:lnTo>
                          <a:lnTo>
                            <a:pt x="1260" y="177"/>
                          </a:lnTo>
                          <a:lnTo>
                            <a:pt x="1212" y="179"/>
                          </a:lnTo>
                          <a:lnTo>
                            <a:pt x="1166" y="179"/>
                          </a:lnTo>
                          <a:lnTo>
                            <a:pt x="1123" y="179"/>
                          </a:lnTo>
                          <a:lnTo>
                            <a:pt x="1084" y="178"/>
                          </a:lnTo>
                          <a:lnTo>
                            <a:pt x="1047" y="176"/>
                          </a:lnTo>
                          <a:lnTo>
                            <a:pt x="1014" y="173"/>
                          </a:lnTo>
                          <a:lnTo>
                            <a:pt x="981" y="168"/>
                          </a:lnTo>
                          <a:lnTo>
                            <a:pt x="953" y="163"/>
                          </a:lnTo>
                          <a:lnTo>
                            <a:pt x="925" y="158"/>
                          </a:lnTo>
                          <a:lnTo>
                            <a:pt x="900" y="152"/>
                          </a:lnTo>
                          <a:lnTo>
                            <a:pt x="875" y="145"/>
                          </a:lnTo>
                          <a:lnTo>
                            <a:pt x="853" y="138"/>
                          </a:lnTo>
                          <a:lnTo>
                            <a:pt x="833" y="130"/>
                          </a:lnTo>
                          <a:lnTo>
                            <a:pt x="813" y="122"/>
                          </a:lnTo>
                          <a:lnTo>
                            <a:pt x="795" y="114"/>
                          </a:lnTo>
                          <a:lnTo>
                            <a:pt x="776" y="105"/>
                          </a:lnTo>
                          <a:lnTo>
                            <a:pt x="760" y="96"/>
                          </a:lnTo>
                          <a:lnTo>
                            <a:pt x="743" y="87"/>
                          </a:lnTo>
                          <a:lnTo>
                            <a:pt x="727" y="79"/>
                          </a:lnTo>
                          <a:lnTo>
                            <a:pt x="711" y="70"/>
                          </a:lnTo>
                          <a:lnTo>
                            <a:pt x="694" y="62"/>
                          </a:lnTo>
                          <a:lnTo>
                            <a:pt x="678" y="54"/>
                          </a:lnTo>
                          <a:lnTo>
                            <a:pt x="661" y="46"/>
                          </a:lnTo>
                          <a:lnTo>
                            <a:pt x="644" y="38"/>
                          </a:lnTo>
                          <a:lnTo>
                            <a:pt x="626" y="31"/>
                          </a:lnTo>
                          <a:lnTo>
                            <a:pt x="607" y="24"/>
                          </a:lnTo>
                          <a:lnTo>
                            <a:pt x="587" y="18"/>
                          </a:lnTo>
                          <a:lnTo>
                            <a:pt x="567" y="13"/>
                          </a:lnTo>
                          <a:lnTo>
                            <a:pt x="544" y="9"/>
                          </a:lnTo>
                          <a:lnTo>
                            <a:pt x="519" y="4"/>
                          </a:lnTo>
                          <a:lnTo>
                            <a:pt x="493" y="2"/>
                          </a:lnTo>
                          <a:lnTo>
                            <a:pt x="465" y="0"/>
                          </a:lnTo>
                          <a:lnTo>
                            <a:pt x="408" y="0"/>
                          </a:lnTo>
                          <a:lnTo>
                            <a:pt x="355" y="8"/>
                          </a:lnTo>
                          <a:lnTo>
                            <a:pt x="305" y="20"/>
                          </a:lnTo>
                          <a:lnTo>
                            <a:pt x="259" y="38"/>
                          </a:lnTo>
                          <a:lnTo>
                            <a:pt x="216" y="58"/>
                          </a:lnTo>
                          <a:lnTo>
                            <a:pt x="178" y="83"/>
                          </a:lnTo>
                          <a:lnTo>
                            <a:pt x="144" y="109"/>
                          </a:lnTo>
                          <a:lnTo>
                            <a:pt x="114" y="137"/>
                          </a:lnTo>
                          <a:lnTo>
                            <a:pt x="86" y="164"/>
                          </a:lnTo>
                          <a:lnTo>
                            <a:pt x="63" y="191"/>
                          </a:lnTo>
                          <a:lnTo>
                            <a:pt x="43" y="216"/>
                          </a:lnTo>
                          <a:lnTo>
                            <a:pt x="27" y="238"/>
                          </a:lnTo>
                          <a:lnTo>
                            <a:pt x="16" y="258"/>
                          </a:lnTo>
                          <a:lnTo>
                            <a:pt x="7" y="273"/>
                          </a:lnTo>
                          <a:lnTo>
                            <a:pt x="2" y="282"/>
                          </a:lnTo>
                          <a:lnTo>
                            <a:pt x="0" y="285"/>
                          </a:lnTo>
                          <a:lnTo>
                            <a:pt x="1" y="283"/>
                          </a:lnTo>
                          <a:lnTo>
                            <a:pt x="5" y="277"/>
                          </a:lnTo>
                          <a:lnTo>
                            <a:pt x="14" y="267"/>
                          </a:lnTo>
                          <a:lnTo>
                            <a:pt x="25" y="254"/>
                          </a:lnTo>
                          <a:lnTo>
                            <a:pt x="40" y="239"/>
                          </a:lnTo>
                          <a:lnTo>
                            <a:pt x="58" y="223"/>
                          </a:lnTo>
                          <a:lnTo>
                            <a:pt x="80" y="206"/>
                          </a:lnTo>
                          <a:lnTo>
                            <a:pt x="106" y="188"/>
                          </a:lnTo>
                          <a:lnTo>
                            <a:pt x="134" y="170"/>
                          </a:lnTo>
                          <a:lnTo>
                            <a:pt x="168" y="153"/>
                          </a:lnTo>
                          <a:lnTo>
                            <a:pt x="205" y="137"/>
                          </a:lnTo>
                          <a:lnTo>
                            <a:pt x="245" y="124"/>
                          </a:lnTo>
                          <a:lnTo>
                            <a:pt x="290" y="113"/>
                          </a:lnTo>
                          <a:lnTo>
                            <a:pt x="340" y="105"/>
                          </a:lnTo>
                          <a:lnTo>
                            <a:pt x="393" y="101"/>
                          </a:lnTo>
                          <a:lnTo>
                            <a:pt x="450" y="101"/>
                          </a:lnTo>
                          <a:lnTo>
                            <a:pt x="478" y="103"/>
                          </a:lnTo>
                          <a:lnTo>
                            <a:pt x="504" y="106"/>
                          </a:lnTo>
                          <a:lnTo>
                            <a:pt x="529" y="108"/>
                          </a:lnTo>
                          <a:lnTo>
                            <a:pt x="553" y="113"/>
                          </a:lnTo>
                          <a:lnTo>
                            <a:pt x="575" y="116"/>
                          </a:lnTo>
                          <a:lnTo>
                            <a:pt x="595" y="122"/>
                          </a:lnTo>
                          <a:lnTo>
                            <a:pt x="615" y="126"/>
                          </a:lnTo>
                          <a:lnTo>
                            <a:pt x="635" y="132"/>
                          </a:lnTo>
                          <a:lnTo>
                            <a:pt x="653" y="138"/>
                          </a:lnTo>
                          <a:lnTo>
                            <a:pt x="670" y="145"/>
                          </a:lnTo>
                          <a:lnTo>
                            <a:pt x="689" y="151"/>
                          </a:lnTo>
                          <a:lnTo>
                            <a:pt x="706" y="158"/>
                          </a:lnTo>
                          <a:lnTo>
                            <a:pt x="723" y="164"/>
                          </a:lnTo>
                          <a:lnTo>
                            <a:pt x="742" y="171"/>
                          </a:lnTo>
                          <a:lnTo>
                            <a:pt x="759" y="178"/>
                          </a:lnTo>
                          <a:lnTo>
                            <a:pt x="779" y="184"/>
                          </a:lnTo>
                          <a:lnTo>
                            <a:pt x="797" y="191"/>
                          </a:lnTo>
                          <a:lnTo>
                            <a:pt x="818" y="198"/>
                          </a:lnTo>
                          <a:lnTo>
                            <a:pt x="838" y="204"/>
                          </a:lnTo>
                          <a:lnTo>
                            <a:pt x="861" y="209"/>
                          </a:lnTo>
                          <a:lnTo>
                            <a:pt x="885" y="215"/>
                          </a:lnTo>
                          <a:lnTo>
                            <a:pt x="910" y="220"/>
                          </a:lnTo>
                          <a:lnTo>
                            <a:pt x="936" y="224"/>
                          </a:lnTo>
                          <a:lnTo>
                            <a:pt x="965" y="229"/>
                          </a:lnTo>
                          <a:lnTo>
                            <a:pt x="995" y="232"/>
                          </a:lnTo>
                          <a:lnTo>
                            <a:pt x="1029" y="235"/>
                          </a:lnTo>
                          <a:lnTo>
                            <a:pt x="1063" y="237"/>
                          </a:lnTo>
                          <a:lnTo>
                            <a:pt x="1101" y="238"/>
                          </a:lnTo>
                          <a:lnTo>
                            <a:pt x="1141" y="239"/>
                          </a:lnTo>
                          <a:lnTo>
                            <a:pt x="1184" y="239"/>
                          </a:lnTo>
                          <a:lnTo>
                            <a:pt x="1230" y="238"/>
                          </a:lnTo>
                          <a:lnTo>
                            <a:pt x="1279" y="236"/>
                          </a:lnTo>
                          <a:lnTo>
                            <a:pt x="1307" y="232"/>
                          </a:lnTo>
                          <a:lnTo>
                            <a:pt x="1337" y="226"/>
                          </a:lnTo>
                          <a:lnTo>
                            <a:pt x="1368" y="215"/>
                          </a:lnTo>
                          <a:lnTo>
                            <a:pt x="1400" y="204"/>
                          </a:lnTo>
                          <a:lnTo>
                            <a:pt x="1432" y="189"/>
                          </a:lnTo>
                          <a:lnTo>
                            <a:pt x="1464" y="173"/>
                          </a:lnTo>
                          <a:lnTo>
                            <a:pt x="1495" y="156"/>
                          </a:lnTo>
                          <a:lnTo>
                            <a:pt x="1525" y="139"/>
                          </a:lnTo>
                          <a:lnTo>
                            <a:pt x="1554" y="122"/>
                          </a:lnTo>
                          <a:lnTo>
                            <a:pt x="1580" y="106"/>
                          </a:lnTo>
                          <a:lnTo>
                            <a:pt x="1603" y="90"/>
                          </a:lnTo>
                          <a:lnTo>
                            <a:pt x="1624" y="76"/>
                          </a:lnTo>
                          <a:lnTo>
                            <a:pt x="1640" y="64"/>
                          </a:lnTo>
                          <a:lnTo>
                            <a:pt x="1653" y="56"/>
                          </a:lnTo>
                          <a:lnTo>
                            <a:pt x="1661" y="50"/>
                          </a:lnTo>
                          <a:lnTo>
                            <a:pt x="1663" y="4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983880" y="2884320"/>
                      <a:ext cx="128880" cy="16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3" h="387">
                          <a:moveTo>
                            <a:pt x="190" y="387"/>
                          </a:moveTo>
                          <a:lnTo>
                            <a:pt x="192" y="369"/>
                          </a:lnTo>
                          <a:lnTo>
                            <a:pt x="197" y="324"/>
                          </a:lnTo>
                          <a:lnTo>
                            <a:pt x="198" y="269"/>
                          </a:lnTo>
                          <a:lnTo>
                            <a:pt x="192" y="221"/>
                          </a:lnTo>
                          <a:lnTo>
                            <a:pt x="185" y="202"/>
                          </a:lnTo>
                          <a:lnTo>
                            <a:pt x="174" y="181"/>
                          </a:lnTo>
                          <a:lnTo>
                            <a:pt x="160" y="160"/>
                          </a:lnTo>
                          <a:lnTo>
                            <a:pt x="144" y="139"/>
                          </a:lnTo>
                          <a:lnTo>
                            <a:pt x="125" y="121"/>
                          </a:lnTo>
                          <a:lnTo>
                            <a:pt x="108" y="101"/>
                          </a:lnTo>
                          <a:lnTo>
                            <a:pt x="91" y="85"/>
                          </a:lnTo>
                          <a:lnTo>
                            <a:pt x="75" y="69"/>
                          </a:lnTo>
                          <a:lnTo>
                            <a:pt x="60" y="54"/>
                          </a:lnTo>
                          <a:lnTo>
                            <a:pt x="46" y="41"/>
                          </a:lnTo>
                          <a:lnTo>
                            <a:pt x="33" y="30"/>
                          </a:lnTo>
                          <a:lnTo>
                            <a:pt x="22" y="20"/>
                          </a:lnTo>
                          <a:lnTo>
                            <a:pt x="12" y="12"/>
                          </a:lnTo>
                          <a:lnTo>
                            <a:pt x="6" y="6"/>
                          </a:lnTo>
                          <a:lnTo>
                            <a:pt x="1" y="2"/>
                          </a:lnTo>
                          <a:lnTo>
                            <a:pt x="0" y="1"/>
                          </a:lnTo>
                          <a:lnTo>
                            <a:pt x="2" y="1"/>
                          </a:lnTo>
                          <a:lnTo>
                            <a:pt x="9" y="0"/>
                          </a:lnTo>
                          <a:lnTo>
                            <a:pt x="19" y="0"/>
                          </a:lnTo>
                          <a:lnTo>
                            <a:pt x="32" y="1"/>
                          </a:lnTo>
                          <a:lnTo>
                            <a:pt x="47" y="3"/>
                          </a:lnTo>
                          <a:lnTo>
                            <a:pt x="63" y="9"/>
                          </a:lnTo>
                          <a:lnTo>
                            <a:pt x="79" y="18"/>
                          </a:lnTo>
                          <a:lnTo>
                            <a:pt x="95" y="31"/>
                          </a:lnTo>
                          <a:lnTo>
                            <a:pt x="113" y="48"/>
                          </a:lnTo>
                          <a:lnTo>
                            <a:pt x="133" y="69"/>
                          </a:lnTo>
                          <a:lnTo>
                            <a:pt x="155" y="93"/>
                          </a:lnTo>
                          <a:lnTo>
                            <a:pt x="178" y="119"/>
                          </a:lnTo>
                          <a:lnTo>
                            <a:pt x="200" y="145"/>
                          </a:lnTo>
                          <a:lnTo>
                            <a:pt x="219" y="171"/>
                          </a:lnTo>
                          <a:lnTo>
                            <a:pt x="234" y="195"/>
                          </a:lnTo>
                          <a:lnTo>
                            <a:pt x="242" y="217"/>
                          </a:lnTo>
                          <a:lnTo>
                            <a:pt x="243" y="239"/>
                          </a:lnTo>
                          <a:lnTo>
                            <a:pt x="239" y="265"/>
                          </a:lnTo>
                          <a:lnTo>
                            <a:pt x="231" y="294"/>
                          </a:lnTo>
                          <a:lnTo>
                            <a:pt x="221" y="322"/>
                          </a:lnTo>
                          <a:lnTo>
                            <a:pt x="209" y="347"/>
                          </a:lnTo>
                          <a:lnTo>
                            <a:pt x="200" y="368"/>
                          </a:lnTo>
                          <a:lnTo>
                            <a:pt x="192" y="381"/>
                          </a:lnTo>
                          <a:lnTo>
                            <a:pt x="190" y="38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01720" y="2889720"/>
                      <a:ext cx="108720" cy="20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493">
                          <a:moveTo>
                            <a:pt x="45" y="44"/>
                          </a:moveTo>
                          <a:lnTo>
                            <a:pt x="56" y="32"/>
                          </a:lnTo>
                          <a:lnTo>
                            <a:pt x="65" y="21"/>
                          </a:lnTo>
                          <a:lnTo>
                            <a:pt x="76" y="13"/>
                          </a:lnTo>
                          <a:lnTo>
                            <a:pt x="85" y="6"/>
                          </a:lnTo>
                          <a:lnTo>
                            <a:pt x="93" y="2"/>
                          </a:lnTo>
                          <a:lnTo>
                            <a:pt x="100" y="0"/>
                          </a:lnTo>
                          <a:lnTo>
                            <a:pt x="106" y="0"/>
                          </a:lnTo>
                          <a:lnTo>
                            <a:pt x="111" y="2"/>
                          </a:lnTo>
                          <a:lnTo>
                            <a:pt x="113" y="5"/>
                          </a:lnTo>
                          <a:lnTo>
                            <a:pt x="109" y="9"/>
                          </a:lnTo>
                          <a:lnTo>
                            <a:pt x="102" y="13"/>
                          </a:lnTo>
                          <a:lnTo>
                            <a:pt x="92" y="21"/>
                          </a:lnTo>
                          <a:lnTo>
                            <a:pt x="79" y="32"/>
                          </a:lnTo>
                          <a:lnTo>
                            <a:pt x="68" y="46"/>
                          </a:lnTo>
                          <a:lnTo>
                            <a:pt x="56" y="66"/>
                          </a:lnTo>
                          <a:lnTo>
                            <a:pt x="48" y="93"/>
                          </a:lnTo>
                          <a:lnTo>
                            <a:pt x="43" y="124"/>
                          </a:lnTo>
                          <a:lnTo>
                            <a:pt x="41" y="169"/>
                          </a:lnTo>
                          <a:lnTo>
                            <a:pt x="41" y="222"/>
                          </a:lnTo>
                          <a:lnTo>
                            <a:pt x="45" y="280"/>
                          </a:lnTo>
                          <a:lnTo>
                            <a:pt x="51" y="336"/>
                          </a:lnTo>
                          <a:lnTo>
                            <a:pt x="62" y="386"/>
                          </a:lnTo>
                          <a:lnTo>
                            <a:pt x="77" y="426"/>
                          </a:lnTo>
                          <a:lnTo>
                            <a:pt x="98" y="450"/>
                          </a:lnTo>
                          <a:lnTo>
                            <a:pt x="119" y="463"/>
                          </a:lnTo>
                          <a:lnTo>
                            <a:pt x="139" y="473"/>
                          </a:lnTo>
                          <a:lnTo>
                            <a:pt x="157" y="480"/>
                          </a:lnTo>
                          <a:lnTo>
                            <a:pt x="174" y="485"/>
                          </a:lnTo>
                          <a:lnTo>
                            <a:pt x="186" y="488"/>
                          </a:lnTo>
                          <a:lnTo>
                            <a:pt x="197" y="489"/>
                          </a:lnTo>
                          <a:lnTo>
                            <a:pt x="202" y="490"/>
                          </a:lnTo>
                          <a:lnTo>
                            <a:pt x="205" y="490"/>
                          </a:lnTo>
                          <a:lnTo>
                            <a:pt x="201" y="490"/>
                          </a:lnTo>
                          <a:lnTo>
                            <a:pt x="193" y="492"/>
                          </a:lnTo>
                          <a:lnTo>
                            <a:pt x="180" y="493"/>
                          </a:lnTo>
                          <a:lnTo>
                            <a:pt x="163" y="493"/>
                          </a:lnTo>
                          <a:lnTo>
                            <a:pt x="144" y="490"/>
                          </a:lnTo>
                          <a:lnTo>
                            <a:pt x="121" y="486"/>
                          </a:lnTo>
                          <a:lnTo>
                            <a:pt x="98" y="478"/>
                          </a:lnTo>
                          <a:lnTo>
                            <a:pt x="72" y="465"/>
                          </a:lnTo>
                          <a:lnTo>
                            <a:pt x="50" y="442"/>
                          </a:lnTo>
                          <a:lnTo>
                            <a:pt x="32" y="406"/>
                          </a:lnTo>
                          <a:lnTo>
                            <a:pt x="18" y="360"/>
                          </a:lnTo>
                          <a:lnTo>
                            <a:pt x="9" y="308"/>
                          </a:lnTo>
                          <a:lnTo>
                            <a:pt x="2" y="257"/>
                          </a:lnTo>
                          <a:lnTo>
                            <a:pt x="0" y="207"/>
                          </a:lnTo>
                          <a:lnTo>
                            <a:pt x="1" y="164"/>
                          </a:lnTo>
                          <a:lnTo>
                            <a:pt x="4" y="133"/>
                          </a:lnTo>
                          <a:lnTo>
                            <a:pt x="8" y="122"/>
                          </a:lnTo>
                          <a:lnTo>
                            <a:pt x="11" y="109"/>
                          </a:lnTo>
                          <a:lnTo>
                            <a:pt x="15" y="97"/>
                          </a:lnTo>
                          <a:lnTo>
                            <a:pt x="20" y="85"/>
                          </a:lnTo>
                          <a:lnTo>
                            <a:pt x="25" y="73"/>
                          </a:lnTo>
                          <a:lnTo>
                            <a:pt x="32" y="63"/>
                          </a:lnTo>
                          <a:lnTo>
                            <a:pt x="38" y="53"/>
                          </a:lnTo>
                          <a:lnTo>
                            <a:pt x="45" y="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714600" y="2894760"/>
                      <a:ext cx="12960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3" h="162">
                          <a:moveTo>
                            <a:pt x="0" y="150"/>
                          </a:moveTo>
                          <a:lnTo>
                            <a:pt x="5" y="149"/>
                          </a:lnTo>
                          <a:lnTo>
                            <a:pt x="16" y="147"/>
                          </a:lnTo>
                          <a:lnTo>
                            <a:pt x="32" y="142"/>
                          </a:lnTo>
                          <a:lnTo>
                            <a:pt x="53" y="137"/>
                          </a:lnTo>
                          <a:lnTo>
                            <a:pt x="74" y="130"/>
                          </a:lnTo>
                          <a:lnTo>
                            <a:pt x="94" y="122"/>
                          </a:lnTo>
                          <a:lnTo>
                            <a:pt x="112" y="114"/>
                          </a:lnTo>
                          <a:lnTo>
                            <a:pt x="124" y="105"/>
                          </a:lnTo>
                          <a:lnTo>
                            <a:pt x="137" y="94"/>
                          </a:lnTo>
                          <a:lnTo>
                            <a:pt x="154" y="77"/>
                          </a:lnTo>
                          <a:lnTo>
                            <a:pt x="174" y="61"/>
                          </a:lnTo>
                          <a:lnTo>
                            <a:pt x="194" y="43"/>
                          </a:lnTo>
                          <a:lnTo>
                            <a:pt x="212" y="27"/>
                          </a:lnTo>
                          <a:lnTo>
                            <a:pt x="228" y="13"/>
                          </a:lnTo>
                          <a:lnTo>
                            <a:pt x="240" y="4"/>
                          </a:lnTo>
                          <a:lnTo>
                            <a:pt x="243" y="0"/>
                          </a:lnTo>
                          <a:lnTo>
                            <a:pt x="241" y="4"/>
                          </a:lnTo>
                          <a:lnTo>
                            <a:pt x="236" y="13"/>
                          </a:lnTo>
                          <a:lnTo>
                            <a:pt x="228" y="28"/>
                          </a:lnTo>
                          <a:lnTo>
                            <a:pt x="218" y="45"/>
                          </a:lnTo>
                          <a:lnTo>
                            <a:pt x="206" y="65"/>
                          </a:lnTo>
                          <a:lnTo>
                            <a:pt x="194" y="85"/>
                          </a:lnTo>
                          <a:lnTo>
                            <a:pt x="180" y="105"/>
                          </a:lnTo>
                          <a:lnTo>
                            <a:pt x="166" y="124"/>
                          </a:lnTo>
                          <a:lnTo>
                            <a:pt x="160" y="129"/>
                          </a:lnTo>
                          <a:lnTo>
                            <a:pt x="153" y="134"/>
                          </a:lnTo>
                          <a:lnTo>
                            <a:pt x="145" y="137"/>
                          </a:lnTo>
                          <a:lnTo>
                            <a:pt x="138" y="141"/>
                          </a:lnTo>
                          <a:lnTo>
                            <a:pt x="130" y="143"/>
                          </a:lnTo>
                          <a:lnTo>
                            <a:pt x="123" y="145"/>
                          </a:lnTo>
                          <a:lnTo>
                            <a:pt x="118" y="148"/>
                          </a:lnTo>
                          <a:lnTo>
                            <a:pt x="113" y="149"/>
                          </a:lnTo>
                          <a:lnTo>
                            <a:pt x="91" y="157"/>
                          </a:lnTo>
                          <a:lnTo>
                            <a:pt x="69" y="162"/>
                          </a:lnTo>
                          <a:lnTo>
                            <a:pt x="51" y="162"/>
                          </a:lnTo>
                          <a:lnTo>
                            <a:pt x="33" y="160"/>
                          </a:lnTo>
                          <a:lnTo>
                            <a:pt x="20" y="157"/>
                          </a:lnTo>
                          <a:lnTo>
                            <a:pt x="9" y="153"/>
                          </a:lnTo>
                          <a:lnTo>
                            <a:pt x="2" y="151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767520" y="3080160"/>
                      <a:ext cx="89280" cy="7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180">
                          <a:moveTo>
                            <a:pt x="121" y="0"/>
                          </a:moveTo>
                          <a:lnTo>
                            <a:pt x="119" y="1"/>
                          </a:lnTo>
                          <a:lnTo>
                            <a:pt x="114" y="4"/>
                          </a:lnTo>
                          <a:lnTo>
                            <a:pt x="106" y="9"/>
                          </a:lnTo>
                          <a:lnTo>
                            <a:pt x="96" y="17"/>
                          </a:lnTo>
                          <a:lnTo>
                            <a:pt x="84" y="26"/>
                          </a:lnTo>
                          <a:lnTo>
                            <a:pt x="71" y="38"/>
                          </a:lnTo>
                          <a:lnTo>
                            <a:pt x="57" y="51"/>
                          </a:lnTo>
                          <a:lnTo>
                            <a:pt x="43" y="66"/>
                          </a:lnTo>
                          <a:lnTo>
                            <a:pt x="30" y="84"/>
                          </a:lnTo>
                          <a:lnTo>
                            <a:pt x="21" y="103"/>
                          </a:lnTo>
                          <a:lnTo>
                            <a:pt x="13" y="122"/>
                          </a:lnTo>
                          <a:lnTo>
                            <a:pt x="8" y="140"/>
                          </a:lnTo>
                          <a:lnTo>
                            <a:pt x="4" y="156"/>
                          </a:lnTo>
                          <a:lnTo>
                            <a:pt x="1" y="169"/>
                          </a:lnTo>
                          <a:lnTo>
                            <a:pt x="0" y="177"/>
                          </a:lnTo>
                          <a:lnTo>
                            <a:pt x="0" y="180"/>
                          </a:lnTo>
                          <a:lnTo>
                            <a:pt x="3" y="178"/>
                          </a:lnTo>
                          <a:lnTo>
                            <a:pt x="7" y="172"/>
                          </a:lnTo>
                          <a:lnTo>
                            <a:pt x="15" y="163"/>
                          </a:lnTo>
                          <a:lnTo>
                            <a:pt x="26" y="150"/>
                          </a:lnTo>
                          <a:lnTo>
                            <a:pt x="38" y="137"/>
                          </a:lnTo>
                          <a:lnTo>
                            <a:pt x="52" y="119"/>
                          </a:lnTo>
                          <a:lnTo>
                            <a:pt x="68" y="101"/>
                          </a:lnTo>
                          <a:lnTo>
                            <a:pt x="84" y="80"/>
                          </a:lnTo>
                          <a:lnTo>
                            <a:pt x="98" y="65"/>
                          </a:lnTo>
                          <a:lnTo>
                            <a:pt x="113" y="55"/>
                          </a:lnTo>
                          <a:lnTo>
                            <a:pt x="127" y="47"/>
                          </a:lnTo>
                          <a:lnTo>
                            <a:pt x="140" y="41"/>
                          </a:lnTo>
                          <a:lnTo>
                            <a:pt x="151" y="38"/>
                          </a:lnTo>
                          <a:lnTo>
                            <a:pt x="159" y="35"/>
                          </a:lnTo>
                          <a:lnTo>
                            <a:pt x="165" y="34"/>
                          </a:lnTo>
                          <a:lnTo>
                            <a:pt x="167" y="34"/>
                          </a:lnTo>
                          <a:lnTo>
                            <a:pt x="12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7160" y="2887200"/>
                      <a:ext cx="115200" cy="12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" h="301">
                          <a:moveTo>
                            <a:pt x="7" y="75"/>
                          </a:moveTo>
                          <a:lnTo>
                            <a:pt x="0" y="55"/>
                          </a:lnTo>
                          <a:lnTo>
                            <a:pt x="2" y="42"/>
                          </a:lnTo>
                          <a:lnTo>
                            <a:pt x="7" y="34"/>
                          </a:lnTo>
                          <a:lnTo>
                            <a:pt x="13" y="29"/>
                          </a:lnTo>
                          <a:lnTo>
                            <a:pt x="12" y="30"/>
                          </a:lnTo>
                          <a:lnTo>
                            <a:pt x="12" y="30"/>
                          </a:lnTo>
                          <a:lnTo>
                            <a:pt x="12" y="31"/>
                          </a:lnTo>
                          <a:lnTo>
                            <a:pt x="12" y="32"/>
                          </a:lnTo>
                          <a:lnTo>
                            <a:pt x="13" y="42"/>
                          </a:lnTo>
                          <a:lnTo>
                            <a:pt x="15" y="50"/>
                          </a:lnTo>
                          <a:lnTo>
                            <a:pt x="20" y="59"/>
                          </a:lnTo>
                          <a:lnTo>
                            <a:pt x="27" y="65"/>
                          </a:lnTo>
                          <a:lnTo>
                            <a:pt x="35" y="71"/>
                          </a:lnTo>
                          <a:lnTo>
                            <a:pt x="44" y="75"/>
                          </a:lnTo>
                          <a:lnTo>
                            <a:pt x="56" y="77"/>
                          </a:lnTo>
                          <a:lnTo>
                            <a:pt x="70" y="77"/>
                          </a:lnTo>
                          <a:lnTo>
                            <a:pt x="76" y="77"/>
                          </a:lnTo>
                          <a:lnTo>
                            <a:pt x="82" y="77"/>
                          </a:lnTo>
                          <a:lnTo>
                            <a:pt x="88" y="76"/>
                          </a:lnTo>
                          <a:lnTo>
                            <a:pt x="94" y="74"/>
                          </a:lnTo>
                          <a:lnTo>
                            <a:pt x="113" y="48"/>
                          </a:lnTo>
                          <a:lnTo>
                            <a:pt x="135" y="29"/>
                          </a:lnTo>
                          <a:lnTo>
                            <a:pt x="155" y="16"/>
                          </a:lnTo>
                          <a:lnTo>
                            <a:pt x="174" y="7"/>
                          </a:lnTo>
                          <a:lnTo>
                            <a:pt x="191" y="2"/>
                          </a:lnTo>
                          <a:lnTo>
                            <a:pt x="204" y="0"/>
                          </a:lnTo>
                          <a:lnTo>
                            <a:pt x="212" y="0"/>
                          </a:lnTo>
                          <a:lnTo>
                            <a:pt x="216" y="0"/>
                          </a:lnTo>
                          <a:lnTo>
                            <a:pt x="214" y="0"/>
                          </a:lnTo>
                          <a:lnTo>
                            <a:pt x="206" y="1"/>
                          </a:lnTo>
                          <a:lnTo>
                            <a:pt x="194" y="7"/>
                          </a:lnTo>
                          <a:lnTo>
                            <a:pt x="179" y="17"/>
                          </a:lnTo>
                          <a:lnTo>
                            <a:pt x="161" y="34"/>
                          </a:lnTo>
                          <a:lnTo>
                            <a:pt x="141" y="62"/>
                          </a:lnTo>
                          <a:lnTo>
                            <a:pt x="120" y="100"/>
                          </a:lnTo>
                          <a:lnTo>
                            <a:pt x="100" y="151"/>
                          </a:lnTo>
                          <a:lnTo>
                            <a:pt x="91" y="176"/>
                          </a:lnTo>
                          <a:lnTo>
                            <a:pt x="83" y="201"/>
                          </a:lnTo>
                          <a:lnTo>
                            <a:pt x="78" y="227"/>
                          </a:lnTo>
                          <a:lnTo>
                            <a:pt x="72" y="250"/>
                          </a:lnTo>
                          <a:lnTo>
                            <a:pt x="68" y="271"/>
                          </a:lnTo>
                          <a:lnTo>
                            <a:pt x="65" y="287"/>
                          </a:lnTo>
                          <a:lnTo>
                            <a:pt x="64" y="297"/>
                          </a:lnTo>
                          <a:lnTo>
                            <a:pt x="63" y="301"/>
                          </a:lnTo>
                          <a:lnTo>
                            <a:pt x="60" y="286"/>
                          </a:lnTo>
                          <a:lnTo>
                            <a:pt x="57" y="248"/>
                          </a:lnTo>
                          <a:lnTo>
                            <a:pt x="57" y="197"/>
                          </a:lnTo>
                          <a:lnTo>
                            <a:pt x="66" y="145"/>
                          </a:lnTo>
                          <a:lnTo>
                            <a:pt x="71" y="123"/>
                          </a:lnTo>
                          <a:lnTo>
                            <a:pt x="71" y="110"/>
                          </a:lnTo>
                          <a:lnTo>
                            <a:pt x="70" y="103"/>
                          </a:lnTo>
                          <a:lnTo>
                            <a:pt x="68" y="101"/>
                          </a:lnTo>
                          <a:lnTo>
                            <a:pt x="66" y="102"/>
                          </a:lnTo>
                          <a:lnTo>
                            <a:pt x="62" y="103"/>
                          </a:lnTo>
                          <a:lnTo>
                            <a:pt x="55" y="105"/>
                          </a:lnTo>
                          <a:lnTo>
                            <a:pt x="45" y="105"/>
                          </a:lnTo>
                          <a:lnTo>
                            <a:pt x="36" y="102"/>
                          </a:lnTo>
                          <a:lnTo>
                            <a:pt x="26" y="98"/>
                          </a:lnTo>
                          <a:lnTo>
                            <a:pt x="15" y="88"/>
                          </a:lnTo>
                          <a:lnTo>
                            <a:pt x="7" y="7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1058760" y="3047760"/>
                      <a:ext cx="42084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1" h="334">
                          <a:moveTo>
                            <a:pt x="775" y="334"/>
                          </a:moveTo>
                          <a:lnTo>
                            <a:pt x="773" y="330"/>
                          </a:lnTo>
                          <a:lnTo>
                            <a:pt x="770" y="322"/>
                          </a:lnTo>
                          <a:lnTo>
                            <a:pt x="765" y="310"/>
                          </a:lnTo>
                          <a:lnTo>
                            <a:pt x="758" y="296"/>
                          </a:lnTo>
                          <a:lnTo>
                            <a:pt x="749" y="280"/>
                          </a:lnTo>
                          <a:lnTo>
                            <a:pt x="739" y="265"/>
                          </a:lnTo>
                          <a:lnTo>
                            <a:pt x="727" y="252"/>
                          </a:lnTo>
                          <a:lnTo>
                            <a:pt x="715" y="242"/>
                          </a:lnTo>
                          <a:lnTo>
                            <a:pt x="705" y="237"/>
                          </a:lnTo>
                          <a:lnTo>
                            <a:pt x="692" y="230"/>
                          </a:lnTo>
                          <a:lnTo>
                            <a:pt x="674" y="221"/>
                          </a:lnTo>
                          <a:lnTo>
                            <a:pt x="654" y="212"/>
                          </a:lnTo>
                          <a:lnTo>
                            <a:pt x="629" y="200"/>
                          </a:lnTo>
                          <a:lnTo>
                            <a:pt x="603" y="189"/>
                          </a:lnTo>
                          <a:lnTo>
                            <a:pt x="575" y="176"/>
                          </a:lnTo>
                          <a:lnTo>
                            <a:pt x="546" y="164"/>
                          </a:lnTo>
                          <a:lnTo>
                            <a:pt x="518" y="152"/>
                          </a:lnTo>
                          <a:lnTo>
                            <a:pt x="488" y="140"/>
                          </a:lnTo>
                          <a:lnTo>
                            <a:pt x="460" y="130"/>
                          </a:lnTo>
                          <a:lnTo>
                            <a:pt x="432" y="121"/>
                          </a:lnTo>
                          <a:lnTo>
                            <a:pt x="407" y="113"/>
                          </a:lnTo>
                          <a:lnTo>
                            <a:pt x="384" y="106"/>
                          </a:lnTo>
                          <a:lnTo>
                            <a:pt x="364" y="102"/>
                          </a:lnTo>
                          <a:lnTo>
                            <a:pt x="348" y="100"/>
                          </a:lnTo>
                          <a:lnTo>
                            <a:pt x="329" y="99"/>
                          </a:lnTo>
                          <a:lnTo>
                            <a:pt x="310" y="98"/>
                          </a:lnTo>
                          <a:lnTo>
                            <a:pt x="293" y="95"/>
                          </a:lnTo>
                          <a:lnTo>
                            <a:pt x="277" y="93"/>
                          </a:lnTo>
                          <a:lnTo>
                            <a:pt x="262" y="91"/>
                          </a:lnTo>
                          <a:lnTo>
                            <a:pt x="248" y="88"/>
                          </a:lnTo>
                          <a:lnTo>
                            <a:pt x="235" y="86"/>
                          </a:lnTo>
                          <a:lnTo>
                            <a:pt x="224" y="84"/>
                          </a:lnTo>
                          <a:lnTo>
                            <a:pt x="212" y="80"/>
                          </a:lnTo>
                          <a:lnTo>
                            <a:pt x="201" y="78"/>
                          </a:lnTo>
                          <a:lnTo>
                            <a:pt x="192" y="75"/>
                          </a:lnTo>
                          <a:lnTo>
                            <a:pt x="181" y="72"/>
                          </a:lnTo>
                          <a:lnTo>
                            <a:pt x="172" y="69"/>
                          </a:lnTo>
                          <a:lnTo>
                            <a:pt x="164" y="66"/>
                          </a:lnTo>
                          <a:lnTo>
                            <a:pt x="155" y="63"/>
                          </a:lnTo>
                          <a:lnTo>
                            <a:pt x="147" y="61"/>
                          </a:lnTo>
                          <a:lnTo>
                            <a:pt x="127" y="55"/>
                          </a:lnTo>
                          <a:lnTo>
                            <a:pt x="105" y="46"/>
                          </a:lnTo>
                          <a:lnTo>
                            <a:pt x="81" y="35"/>
                          </a:lnTo>
                          <a:lnTo>
                            <a:pt x="57" y="25"/>
                          </a:lnTo>
                          <a:lnTo>
                            <a:pt x="35" y="16"/>
                          </a:lnTo>
                          <a:lnTo>
                            <a:pt x="16" y="8"/>
                          </a:lnTo>
                          <a:lnTo>
                            <a:pt x="5" y="2"/>
                          </a:lnTo>
                          <a:lnTo>
                            <a:pt x="0" y="0"/>
                          </a:lnTo>
                          <a:lnTo>
                            <a:pt x="6" y="1"/>
                          </a:lnTo>
                          <a:lnTo>
                            <a:pt x="22" y="3"/>
                          </a:lnTo>
                          <a:lnTo>
                            <a:pt x="45" y="5"/>
                          </a:lnTo>
                          <a:lnTo>
                            <a:pt x="74" y="10"/>
                          </a:lnTo>
                          <a:lnTo>
                            <a:pt x="104" y="15"/>
                          </a:lnTo>
                          <a:lnTo>
                            <a:pt x="134" y="20"/>
                          </a:lnTo>
                          <a:lnTo>
                            <a:pt x="160" y="25"/>
                          </a:lnTo>
                          <a:lnTo>
                            <a:pt x="181" y="31"/>
                          </a:lnTo>
                          <a:lnTo>
                            <a:pt x="197" y="34"/>
                          </a:lnTo>
                          <a:lnTo>
                            <a:pt x="212" y="36"/>
                          </a:lnTo>
                          <a:lnTo>
                            <a:pt x="228" y="38"/>
                          </a:lnTo>
                          <a:lnTo>
                            <a:pt x="246" y="38"/>
                          </a:lnTo>
                          <a:lnTo>
                            <a:pt x="266" y="38"/>
                          </a:lnTo>
                          <a:lnTo>
                            <a:pt x="291" y="39"/>
                          </a:lnTo>
                          <a:lnTo>
                            <a:pt x="319" y="41"/>
                          </a:lnTo>
                          <a:lnTo>
                            <a:pt x="354" y="45"/>
                          </a:lnTo>
                          <a:lnTo>
                            <a:pt x="370" y="48"/>
                          </a:lnTo>
                          <a:lnTo>
                            <a:pt x="392" y="53"/>
                          </a:lnTo>
                          <a:lnTo>
                            <a:pt x="417" y="60"/>
                          </a:lnTo>
                          <a:lnTo>
                            <a:pt x="446" y="69"/>
                          </a:lnTo>
                          <a:lnTo>
                            <a:pt x="477" y="78"/>
                          </a:lnTo>
                          <a:lnTo>
                            <a:pt x="510" y="89"/>
                          </a:lnTo>
                          <a:lnTo>
                            <a:pt x="544" y="101"/>
                          </a:lnTo>
                          <a:lnTo>
                            <a:pt x="579" y="114"/>
                          </a:lnTo>
                          <a:lnTo>
                            <a:pt x="612" y="126"/>
                          </a:lnTo>
                          <a:lnTo>
                            <a:pt x="646" y="140"/>
                          </a:lnTo>
                          <a:lnTo>
                            <a:pt x="677" y="153"/>
                          </a:lnTo>
                          <a:lnTo>
                            <a:pt x="704" y="166"/>
                          </a:lnTo>
                          <a:lnTo>
                            <a:pt x="730" y="178"/>
                          </a:lnTo>
                          <a:lnTo>
                            <a:pt x="752" y="190"/>
                          </a:lnTo>
                          <a:lnTo>
                            <a:pt x="768" y="200"/>
                          </a:lnTo>
                          <a:lnTo>
                            <a:pt x="779" y="209"/>
                          </a:lnTo>
                          <a:lnTo>
                            <a:pt x="791" y="242"/>
                          </a:lnTo>
                          <a:lnTo>
                            <a:pt x="787" y="283"/>
                          </a:lnTo>
                          <a:lnTo>
                            <a:pt x="779" y="319"/>
                          </a:lnTo>
                          <a:lnTo>
                            <a:pt x="775" y="33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658800" y="3219480"/>
                      <a:ext cx="506160" cy="14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348">
                          <a:moveTo>
                            <a:pt x="952" y="0"/>
                          </a:moveTo>
                          <a:lnTo>
                            <a:pt x="948" y="0"/>
                          </a:lnTo>
                          <a:lnTo>
                            <a:pt x="937" y="1"/>
                          </a:lnTo>
                          <a:lnTo>
                            <a:pt x="918" y="2"/>
                          </a:lnTo>
                          <a:lnTo>
                            <a:pt x="893" y="3"/>
                          </a:lnTo>
                          <a:lnTo>
                            <a:pt x="863" y="5"/>
                          </a:lnTo>
                          <a:lnTo>
                            <a:pt x="829" y="9"/>
                          </a:lnTo>
                          <a:lnTo>
                            <a:pt x="791" y="13"/>
                          </a:lnTo>
                          <a:lnTo>
                            <a:pt x="748" y="18"/>
                          </a:lnTo>
                          <a:lnTo>
                            <a:pt x="703" y="24"/>
                          </a:lnTo>
                          <a:lnTo>
                            <a:pt x="657" y="32"/>
                          </a:lnTo>
                          <a:lnTo>
                            <a:pt x="608" y="41"/>
                          </a:lnTo>
                          <a:lnTo>
                            <a:pt x="560" y="52"/>
                          </a:lnTo>
                          <a:lnTo>
                            <a:pt x="512" y="63"/>
                          </a:lnTo>
                          <a:lnTo>
                            <a:pt x="463" y="77"/>
                          </a:lnTo>
                          <a:lnTo>
                            <a:pt x="417" y="92"/>
                          </a:lnTo>
                          <a:lnTo>
                            <a:pt x="373" y="109"/>
                          </a:lnTo>
                          <a:lnTo>
                            <a:pt x="331" y="128"/>
                          </a:lnTo>
                          <a:lnTo>
                            <a:pt x="292" y="147"/>
                          </a:lnTo>
                          <a:lnTo>
                            <a:pt x="254" y="167"/>
                          </a:lnTo>
                          <a:lnTo>
                            <a:pt x="218" y="187"/>
                          </a:lnTo>
                          <a:lnTo>
                            <a:pt x="184" y="207"/>
                          </a:lnTo>
                          <a:lnTo>
                            <a:pt x="155" y="227"/>
                          </a:lnTo>
                          <a:lnTo>
                            <a:pt x="126" y="246"/>
                          </a:lnTo>
                          <a:lnTo>
                            <a:pt x="100" y="265"/>
                          </a:lnTo>
                          <a:lnTo>
                            <a:pt x="77" y="282"/>
                          </a:lnTo>
                          <a:lnTo>
                            <a:pt x="58" y="298"/>
                          </a:lnTo>
                          <a:lnTo>
                            <a:pt x="40" y="312"/>
                          </a:lnTo>
                          <a:lnTo>
                            <a:pt x="27" y="323"/>
                          </a:lnTo>
                          <a:lnTo>
                            <a:pt x="15" y="334"/>
                          </a:lnTo>
                          <a:lnTo>
                            <a:pt x="7" y="342"/>
                          </a:lnTo>
                          <a:lnTo>
                            <a:pt x="1" y="347"/>
                          </a:lnTo>
                          <a:lnTo>
                            <a:pt x="0" y="348"/>
                          </a:lnTo>
                          <a:lnTo>
                            <a:pt x="2" y="347"/>
                          </a:lnTo>
                          <a:lnTo>
                            <a:pt x="9" y="344"/>
                          </a:lnTo>
                          <a:lnTo>
                            <a:pt x="20" y="340"/>
                          </a:lnTo>
                          <a:lnTo>
                            <a:pt x="35" y="334"/>
                          </a:lnTo>
                          <a:lnTo>
                            <a:pt x="53" y="326"/>
                          </a:lnTo>
                          <a:lnTo>
                            <a:pt x="75" y="318"/>
                          </a:lnTo>
                          <a:lnTo>
                            <a:pt x="100" y="307"/>
                          </a:lnTo>
                          <a:lnTo>
                            <a:pt x="128" y="296"/>
                          </a:lnTo>
                          <a:lnTo>
                            <a:pt x="159" y="283"/>
                          </a:lnTo>
                          <a:lnTo>
                            <a:pt x="193" y="270"/>
                          </a:lnTo>
                          <a:lnTo>
                            <a:pt x="228" y="255"/>
                          </a:lnTo>
                          <a:lnTo>
                            <a:pt x="265" y="241"/>
                          </a:lnTo>
                          <a:lnTo>
                            <a:pt x="304" y="224"/>
                          </a:lnTo>
                          <a:lnTo>
                            <a:pt x="345" y="207"/>
                          </a:lnTo>
                          <a:lnTo>
                            <a:pt x="386" y="190"/>
                          </a:lnTo>
                          <a:lnTo>
                            <a:pt x="429" y="173"/>
                          </a:lnTo>
                          <a:lnTo>
                            <a:pt x="473" y="154"/>
                          </a:lnTo>
                          <a:lnTo>
                            <a:pt x="517" y="137"/>
                          </a:lnTo>
                          <a:lnTo>
                            <a:pt x="562" y="121"/>
                          </a:lnTo>
                          <a:lnTo>
                            <a:pt x="607" y="105"/>
                          </a:lnTo>
                          <a:lnTo>
                            <a:pt x="652" y="90"/>
                          </a:lnTo>
                          <a:lnTo>
                            <a:pt x="696" y="76"/>
                          </a:lnTo>
                          <a:lnTo>
                            <a:pt x="738" y="62"/>
                          </a:lnTo>
                          <a:lnTo>
                            <a:pt x="777" y="49"/>
                          </a:lnTo>
                          <a:lnTo>
                            <a:pt x="814" y="39"/>
                          </a:lnTo>
                          <a:lnTo>
                            <a:pt x="847" y="28"/>
                          </a:lnTo>
                          <a:lnTo>
                            <a:pt x="877" y="20"/>
                          </a:lnTo>
                          <a:lnTo>
                            <a:pt x="902" y="13"/>
                          </a:lnTo>
                          <a:lnTo>
                            <a:pt x="923" y="8"/>
                          </a:lnTo>
                          <a:lnTo>
                            <a:pt x="939" y="3"/>
                          </a:lnTo>
                          <a:lnTo>
                            <a:pt x="948" y="1"/>
                          </a:lnTo>
                          <a:lnTo>
                            <a:pt x="95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60640" y="3118680"/>
                      <a:ext cx="894960" cy="28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0" h="662">
                          <a:moveTo>
                            <a:pt x="1680" y="0"/>
                          </a:moveTo>
                          <a:lnTo>
                            <a:pt x="1679" y="0"/>
                          </a:lnTo>
                          <a:lnTo>
                            <a:pt x="1674" y="1"/>
                          </a:lnTo>
                          <a:lnTo>
                            <a:pt x="1666" y="2"/>
                          </a:lnTo>
                          <a:lnTo>
                            <a:pt x="1656" y="3"/>
                          </a:lnTo>
                          <a:lnTo>
                            <a:pt x="1643" y="5"/>
                          </a:lnTo>
                          <a:lnTo>
                            <a:pt x="1628" y="8"/>
                          </a:lnTo>
                          <a:lnTo>
                            <a:pt x="1611" y="10"/>
                          </a:lnTo>
                          <a:lnTo>
                            <a:pt x="1593" y="12"/>
                          </a:lnTo>
                          <a:lnTo>
                            <a:pt x="1571" y="16"/>
                          </a:lnTo>
                          <a:lnTo>
                            <a:pt x="1548" y="19"/>
                          </a:lnTo>
                          <a:lnTo>
                            <a:pt x="1524" y="23"/>
                          </a:lnTo>
                          <a:lnTo>
                            <a:pt x="1497" y="26"/>
                          </a:lnTo>
                          <a:lnTo>
                            <a:pt x="1471" y="30"/>
                          </a:lnTo>
                          <a:lnTo>
                            <a:pt x="1442" y="33"/>
                          </a:lnTo>
                          <a:lnTo>
                            <a:pt x="1413" y="38"/>
                          </a:lnTo>
                          <a:lnTo>
                            <a:pt x="1383" y="41"/>
                          </a:lnTo>
                          <a:lnTo>
                            <a:pt x="1352" y="44"/>
                          </a:lnTo>
                          <a:lnTo>
                            <a:pt x="1321" y="49"/>
                          </a:lnTo>
                          <a:lnTo>
                            <a:pt x="1290" y="53"/>
                          </a:lnTo>
                          <a:lnTo>
                            <a:pt x="1257" y="57"/>
                          </a:lnTo>
                          <a:lnTo>
                            <a:pt x="1226" y="61"/>
                          </a:lnTo>
                          <a:lnTo>
                            <a:pt x="1194" y="64"/>
                          </a:lnTo>
                          <a:lnTo>
                            <a:pt x="1163" y="68"/>
                          </a:lnTo>
                          <a:lnTo>
                            <a:pt x="1133" y="71"/>
                          </a:lnTo>
                          <a:lnTo>
                            <a:pt x="1102" y="73"/>
                          </a:lnTo>
                          <a:lnTo>
                            <a:pt x="1073" y="77"/>
                          </a:lnTo>
                          <a:lnTo>
                            <a:pt x="1045" y="79"/>
                          </a:lnTo>
                          <a:lnTo>
                            <a:pt x="1018" y="81"/>
                          </a:lnTo>
                          <a:lnTo>
                            <a:pt x="991" y="83"/>
                          </a:lnTo>
                          <a:lnTo>
                            <a:pt x="967" y="84"/>
                          </a:lnTo>
                          <a:lnTo>
                            <a:pt x="944" y="85"/>
                          </a:lnTo>
                          <a:lnTo>
                            <a:pt x="923" y="86"/>
                          </a:lnTo>
                          <a:lnTo>
                            <a:pt x="903" y="86"/>
                          </a:lnTo>
                          <a:lnTo>
                            <a:pt x="879" y="86"/>
                          </a:lnTo>
                          <a:lnTo>
                            <a:pt x="854" y="85"/>
                          </a:lnTo>
                          <a:lnTo>
                            <a:pt x="828" y="84"/>
                          </a:lnTo>
                          <a:lnTo>
                            <a:pt x="801" y="83"/>
                          </a:lnTo>
                          <a:lnTo>
                            <a:pt x="772" y="80"/>
                          </a:lnTo>
                          <a:lnTo>
                            <a:pt x="742" y="78"/>
                          </a:lnTo>
                          <a:lnTo>
                            <a:pt x="711" y="76"/>
                          </a:lnTo>
                          <a:lnTo>
                            <a:pt x="680" y="72"/>
                          </a:lnTo>
                          <a:lnTo>
                            <a:pt x="649" y="70"/>
                          </a:lnTo>
                          <a:lnTo>
                            <a:pt x="617" y="66"/>
                          </a:lnTo>
                          <a:lnTo>
                            <a:pt x="585" y="62"/>
                          </a:lnTo>
                          <a:lnTo>
                            <a:pt x="551" y="58"/>
                          </a:lnTo>
                          <a:lnTo>
                            <a:pt x="519" y="55"/>
                          </a:lnTo>
                          <a:lnTo>
                            <a:pt x="488" y="50"/>
                          </a:lnTo>
                          <a:lnTo>
                            <a:pt x="456" y="47"/>
                          </a:lnTo>
                          <a:lnTo>
                            <a:pt x="426" y="42"/>
                          </a:lnTo>
                          <a:lnTo>
                            <a:pt x="396" y="39"/>
                          </a:lnTo>
                          <a:lnTo>
                            <a:pt x="366" y="34"/>
                          </a:lnTo>
                          <a:lnTo>
                            <a:pt x="338" y="31"/>
                          </a:lnTo>
                          <a:lnTo>
                            <a:pt x="311" y="27"/>
                          </a:lnTo>
                          <a:lnTo>
                            <a:pt x="286" y="24"/>
                          </a:lnTo>
                          <a:lnTo>
                            <a:pt x="262" y="20"/>
                          </a:lnTo>
                          <a:lnTo>
                            <a:pt x="241" y="17"/>
                          </a:lnTo>
                          <a:lnTo>
                            <a:pt x="220" y="13"/>
                          </a:lnTo>
                          <a:lnTo>
                            <a:pt x="203" y="11"/>
                          </a:lnTo>
                          <a:lnTo>
                            <a:pt x="187" y="9"/>
                          </a:lnTo>
                          <a:lnTo>
                            <a:pt x="174" y="6"/>
                          </a:lnTo>
                          <a:lnTo>
                            <a:pt x="164" y="5"/>
                          </a:lnTo>
                          <a:lnTo>
                            <a:pt x="156" y="4"/>
                          </a:lnTo>
                          <a:lnTo>
                            <a:pt x="151" y="3"/>
                          </a:lnTo>
                          <a:lnTo>
                            <a:pt x="150" y="3"/>
                          </a:lnTo>
                          <a:lnTo>
                            <a:pt x="143" y="9"/>
                          </a:lnTo>
                          <a:lnTo>
                            <a:pt x="127" y="26"/>
                          </a:lnTo>
                          <a:lnTo>
                            <a:pt x="103" y="56"/>
                          </a:lnTo>
                          <a:lnTo>
                            <a:pt x="75" y="95"/>
                          </a:lnTo>
                          <a:lnTo>
                            <a:pt x="48" y="145"/>
                          </a:lnTo>
                          <a:lnTo>
                            <a:pt x="23" y="205"/>
                          </a:lnTo>
                          <a:lnTo>
                            <a:pt x="7" y="274"/>
                          </a:lnTo>
                          <a:lnTo>
                            <a:pt x="0" y="352"/>
                          </a:lnTo>
                          <a:lnTo>
                            <a:pt x="7" y="428"/>
                          </a:lnTo>
                          <a:lnTo>
                            <a:pt x="26" y="493"/>
                          </a:lnTo>
                          <a:lnTo>
                            <a:pt x="52" y="547"/>
                          </a:lnTo>
                          <a:lnTo>
                            <a:pt x="83" y="590"/>
                          </a:lnTo>
                          <a:lnTo>
                            <a:pt x="113" y="622"/>
                          </a:lnTo>
                          <a:lnTo>
                            <a:pt x="140" y="645"/>
                          </a:lnTo>
                          <a:lnTo>
                            <a:pt x="158" y="658"/>
                          </a:lnTo>
                          <a:lnTo>
                            <a:pt x="165" y="662"/>
                          </a:lnTo>
                          <a:lnTo>
                            <a:pt x="161" y="653"/>
                          </a:lnTo>
                          <a:lnTo>
                            <a:pt x="150" y="628"/>
                          </a:lnTo>
                          <a:lnTo>
                            <a:pt x="136" y="590"/>
                          </a:lnTo>
                          <a:lnTo>
                            <a:pt x="119" y="541"/>
                          </a:lnTo>
                          <a:lnTo>
                            <a:pt x="104" y="487"/>
                          </a:lnTo>
                          <a:lnTo>
                            <a:pt x="91" y="429"/>
                          </a:lnTo>
                          <a:lnTo>
                            <a:pt x="86" y="372"/>
                          </a:lnTo>
                          <a:lnTo>
                            <a:pt x="87" y="318"/>
                          </a:lnTo>
                          <a:lnTo>
                            <a:pt x="98" y="255"/>
                          </a:lnTo>
                          <a:lnTo>
                            <a:pt x="113" y="205"/>
                          </a:lnTo>
                          <a:lnTo>
                            <a:pt x="132" y="165"/>
                          </a:lnTo>
                          <a:lnTo>
                            <a:pt x="150" y="136"/>
                          </a:lnTo>
                          <a:lnTo>
                            <a:pt x="169" y="115"/>
                          </a:lnTo>
                          <a:lnTo>
                            <a:pt x="184" y="101"/>
                          </a:lnTo>
                          <a:lnTo>
                            <a:pt x="194" y="94"/>
                          </a:lnTo>
                          <a:lnTo>
                            <a:pt x="197" y="92"/>
                          </a:lnTo>
                          <a:lnTo>
                            <a:pt x="203" y="93"/>
                          </a:lnTo>
                          <a:lnTo>
                            <a:pt x="219" y="95"/>
                          </a:lnTo>
                          <a:lnTo>
                            <a:pt x="245" y="100"/>
                          </a:lnTo>
                          <a:lnTo>
                            <a:pt x="278" y="106"/>
                          </a:lnTo>
                          <a:lnTo>
                            <a:pt x="318" y="111"/>
                          </a:lnTo>
                          <a:lnTo>
                            <a:pt x="366" y="118"/>
                          </a:lnTo>
                          <a:lnTo>
                            <a:pt x="417" y="126"/>
                          </a:lnTo>
                          <a:lnTo>
                            <a:pt x="473" y="133"/>
                          </a:lnTo>
                          <a:lnTo>
                            <a:pt x="530" y="141"/>
                          </a:lnTo>
                          <a:lnTo>
                            <a:pt x="590" y="148"/>
                          </a:lnTo>
                          <a:lnTo>
                            <a:pt x="650" y="154"/>
                          </a:lnTo>
                          <a:lnTo>
                            <a:pt x="709" y="160"/>
                          </a:lnTo>
                          <a:lnTo>
                            <a:pt x="767" y="163"/>
                          </a:lnTo>
                          <a:lnTo>
                            <a:pt x="822" y="165"/>
                          </a:lnTo>
                          <a:lnTo>
                            <a:pt x="873" y="165"/>
                          </a:lnTo>
                          <a:lnTo>
                            <a:pt x="918" y="164"/>
                          </a:lnTo>
                          <a:lnTo>
                            <a:pt x="956" y="162"/>
                          </a:lnTo>
                          <a:lnTo>
                            <a:pt x="994" y="159"/>
                          </a:lnTo>
                          <a:lnTo>
                            <a:pt x="1030" y="154"/>
                          </a:lnTo>
                          <a:lnTo>
                            <a:pt x="1067" y="149"/>
                          </a:lnTo>
                          <a:lnTo>
                            <a:pt x="1104" y="145"/>
                          </a:lnTo>
                          <a:lnTo>
                            <a:pt x="1140" y="139"/>
                          </a:lnTo>
                          <a:lnTo>
                            <a:pt x="1174" y="133"/>
                          </a:lnTo>
                          <a:lnTo>
                            <a:pt x="1209" y="127"/>
                          </a:lnTo>
                          <a:lnTo>
                            <a:pt x="1242" y="121"/>
                          </a:lnTo>
                          <a:lnTo>
                            <a:pt x="1276" y="115"/>
                          </a:lnTo>
                          <a:lnTo>
                            <a:pt x="1308" y="108"/>
                          </a:lnTo>
                          <a:lnTo>
                            <a:pt x="1338" y="101"/>
                          </a:lnTo>
                          <a:lnTo>
                            <a:pt x="1369" y="93"/>
                          </a:lnTo>
                          <a:lnTo>
                            <a:pt x="1398" y="86"/>
                          </a:lnTo>
                          <a:lnTo>
                            <a:pt x="1426" y="79"/>
                          </a:lnTo>
                          <a:lnTo>
                            <a:pt x="1452" y="72"/>
                          </a:lnTo>
                          <a:lnTo>
                            <a:pt x="1477" y="65"/>
                          </a:lnTo>
                          <a:lnTo>
                            <a:pt x="1502" y="58"/>
                          </a:lnTo>
                          <a:lnTo>
                            <a:pt x="1525" y="51"/>
                          </a:lnTo>
                          <a:lnTo>
                            <a:pt x="1547" y="44"/>
                          </a:lnTo>
                          <a:lnTo>
                            <a:pt x="1567" y="39"/>
                          </a:lnTo>
                          <a:lnTo>
                            <a:pt x="1586" y="33"/>
                          </a:lnTo>
                          <a:lnTo>
                            <a:pt x="1603" y="27"/>
                          </a:lnTo>
                          <a:lnTo>
                            <a:pt x="1618" y="21"/>
                          </a:lnTo>
                          <a:lnTo>
                            <a:pt x="1633" y="17"/>
                          </a:lnTo>
                          <a:lnTo>
                            <a:pt x="1645" y="12"/>
                          </a:lnTo>
                          <a:lnTo>
                            <a:pt x="1656" y="9"/>
                          </a:lnTo>
                          <a:lnTo>
                            <a:pt x="1664" y="5"/>
                          </a:lnTo>
                          <a:lnTo>
                            <a:pt x="1671" y="3"/>
                          </a:lnTo>
                          <a:lnTo>
                            <a:pt x="1676" y="1"/>
                          </a:lnTo>
                          <a:lnTo>
                            <a:pt x="1679" y="0"/>
                          </a:lnTo>
                          <a:lnTo>
                            <a:pt x="168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523440" y="3098160"/>
                      <a:ext cx="28656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9" h="91">
                          <a:moveTo>
                            <a:pt x="539" y="0"/>
                          </a:moveTo>
                          <a:lnTo>
                            <a:pt x="537" y="0"/>
                          </a:lnTo>
                          <a:lnTo>
                            <a:pt x="531" y="2"/>
                          </a:lnTo>
                          <a:lnTo>
                            <a:pt x="523" y="4"/>
                          </a:lnTo>
                          <a:lnTo>
                            <a:pt x="510" y="7"/>
                          </a:lnTo>
                          <a:lnTo>
                            <a:pt x="496" y="11"/>
                          </a:lnTo>
                          <a:lnTo>
                            <a:pt x="479" y="14"/>
                          </a:lnTo>
                          <a:lnTo>
                            <a:pt x="461" y="17"/>
                          </a:lnTo>
                          <a:lnTo>
                            <a:pt x="440" y="22"/>
                          </a:lnTo>
                          <a:lnTo>
                            <a:pt x="418" y="26"/>
                          </a:lnTo>
                          <a:lnTo>
                            <a:pt x="396" y="30"/>
                          </a:lnTo>
                          <a:lnTo>
                            <a:pt x="373" y="34"/>
                          </a:lnTo>
                          <a:lnTo>
                            <a:pt x="349" y="37"/>
                          </a:lnTo>
                          <a:lnTo>
                            <a:pt x="326" y="40"/>
                          </a:lnTo>
                          <a:lnTo>
                            <a:pt x="304" y="44"/>
                          </a:lnTo>
                          <a:lnTo>
                            <a:pt x="282" y="46"/>
                          </a:lnTo>
                          <a:lnTo>
                            <a:pt x="261" y="47"/>
                          </a:lnTo>
                          <a:lnTo>
                            <a:pt x="240" y="49"/>
                          </a:lnTo>
                          <a:lnTo>
                            <a:pt x="219" y="51"/>
                          </a:lnTo>
                          <a:lnTo>
                            <a:pt x="196" y="52"/>
                          </a:lnTo>
                          <a:lnTo>
                            <a:pt x="174" y="54"/>
                          </a:lnTo>
                          <a:lnTo>
                            <a:pt x="152" y="57"/>
                          </a:lnTo>
                          <a:lnTo>
                            <a:pt x="130" y="59"/>
                          </a:lnTo>
                          <a:lnTo>
                            <a:pt x="109" y="61"/>
                          </a:lnTo>
                          <a:lnTo>
                            <a:pt x="90" y="64"/>
                          </a:lnTo>
                          <a:lnTo>
                            <a:pt x="70" y="66"/>
                          </a:lnTo>
                          <a:lnTo>
                            <a:pt x="54" y="68"/>
                          </a:lnTo>
                          <a:lnTo>
                            <a:pt x="38" y="70"/>
                          </a:lnTo>
                          <a:lnTo>
                            <a:pt x="25" y="72"/>
                          </a:lnTo>
                          <a:lnTo>
                            <a:pt x="15" y="73"/>
                          </a:lnTo>
                          <a:lnTo>
                            <a:pt x="7" y="74"/>
                          </a:lnTo>
                          <a:lnTo>
                            <a:pt x="1" y="75"/>
                          </a:lnTo>
                          <a:lnTo>
                            <a:pt x="0" y="75"/>
                          </a:lnTo>
                          <a:lnTo>
                            <a:pt x="1" y="75"/>
                          </a:lnTo>
                          <a:lnTo>
                            <a:pt x="5" y="76"/>
                          </a:lnTo>
                          <a:lnTo>
                            <a:pt x="12" y="77"/>
                          </a:lnTo>
                          <a:lnTo>
                            <a:pt x="22" y="79"/>
                          </a:lnTo>
                          <a:lnTo>
                            <a:pt x="33" y="80"/>
                          </a:lnTo>
                          <a:lnTo>
                            <a:pt x="47" y="81"/>
                          </a:lnTo>
                          <a:lnTo>
                            <a:pt x="62" y="83"/>
                          </a:lnTo>
                          <a:lnTo>
                            <a:pt x="79" y="84"/>
                          </a:lnTo>
                          <a:lnTo>
                            <a:pt x="98" y="87"/>
                          </a:lnTo>
                          <a:lnTo>
                            <a:pt x="116" y="88"/>
                          </a:lnTo>
                          <a:lnTo>
                            <a:pt x="137" y="89"/>
                          </a:lnTo>
                          <a:lnTo>
                            <a:pt x="158" y="90"/>
                          </a:lnTo>
                          <a:lnTo>
                            <a:pt x="178" y="91"/>
                          </a:lnTo>
                          <a:lnTo>
                            <a:pt x="199" y="91"/>
                          </a:lnTo>
                          <a:lnTo>
                            <a:pt x="221" y="91"/>
                          </a:lnTo>
                          <a:lnTo>
                            <a:pt x="242" y="90"/>
                          </a:lnTo>
                          <a:lnTo>
                            <a:pt x="258" y="89"/>
                          </a:lnTo>
                          <a:lnTo>
                            <a:pt x="276" y="88"/>
                          </a:lnTo>
                          <a:lnTo>
                            <a:pt x="295" y="85"/>
                          </a:lnTo>
                          <a:lnTo>
                            <a:pt x="314" y="83"/>
                          </a:lnTo>
                          <a:lnTo>
                            <a:pt x="333" y="81"/>
                          </a:lnTo>
                          <a:lnTo>
                            <a:pt x="352" y="77"/>
                          </a:lnTo>
                          <a:lnTo>
                            <a:pt x="372" y="75"/>
                          </a:lnTo>
                          <a:lnTo>
                            <a:pt x="390" y="72"/>
                          </a:lnTo>
                          <a:lnTo>
                            <a:pt x="408" y="69"/>
                          </a:lnTo>
                          <a:lnTo>
                            <a:pt x="424" y="67"/>
                          </a:lnTo>
                          <a:lnTo>
                            <a:pt x="439" y="65"/>
                          </a:lnTo>
                          <a:lnTo>
                            <a:pt x="451" y="62"/>
                          </a:lnTo>
                          <a:lnTo>
                            <a:pt x="462" y="60"/>
                          </a:lnTo>
                          <a:lnTo>
                            <a:pt x="469" y="59"/>
                          </a:lnTo>
                          <a:lnTo>
                            <a:pt x="474" y="58"/>
                          </a:lnTo>
                          <a:lnTo>
                            <a:pt x="476" y="58"/>
                          </a:lnTo>
                          <a:lnTo>
                            <a:pt x="53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989280" y="3014280"/>
                      <a:ext cx="7668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179">
                          <a:moveTo>
                            <a:pt x="76" y="0"/>
                          </a:moveTo>
                          <a:lnTo>
                            <a:pt x="68" y="6"/>
                          </a:lnTo>
                          <a:lnTo>
                            <a:pt x="61" y="13"/>
                          </a:lnTo>
                          <a:lnTo>
                            <a:pt x="55" y="21"/>
                          </a:lnTo>
                          <a:lnTo>
                            <a:pt x="50" y="30"/>
                          </a:lnTo>
                          <a:lnTo>
                            <a:pt x="46" y="39"/>
                          </a:lnTo>
                          <a:lnTo>
                            <a:pt x="43" y="50"/>
                          </a:lnTo>
                          <a:lnTo>
                            <a:pt x="42" y="60"/>
                          </a:lnTo>
                          <a:lnTo>
                            <a:pt x="40" y="71"/>
                          </a:lnTo>
                          <a:lnTo>
                            <a:pt x="42" y="87"/>
                          </a:lnTo>
                          <a:lnTo>
                            <a:pt x="46" y="102"/>
                          </a:lnTo>
                          <a:lnTo>
                            <a:pt x="53" y="115"/>
                          </a:lnTo>
                          <a:lnTo>
                            <a:pt x="61" y="127"/>
                          </a:lnTo>
                          <a:lnTo>
                            <a:pt x="73" y="136"/>
                          </a:lnTo>
                          <a:lnTo>
                            <a:pt x="84" y="143"/>
                          </a:lnTo>
                          <a:lnTo>
                            <a:pt x="98" y="147"/>
                          </a:lnTo>
                          <a:lnTo>
                            <a:pt x="113" y="148"/>
                          </a:lnTo>
                          <a:lnTo>
                            <a:pt x="121" y="147"/>
                          </a:lnTo>
                          <a:lnTo>
                            <a:pt x="129" y="144"/>
                          </a:lnTo>
                          <a:lnTo>
                            <a:pt x="137" y="141"/>
                          </a:lnTo>
                          <a:lnTo>
                            <a:pt x="144" y="137"/>
                          </a:lnTo>
                          <a:lnTo>
                            <a:pt x="138" y="147"/>
                          </a:lnTo>
                          <a:lnTo>
                            <a:pt x="132" y="154"/>
                          </a:lnTo>
                          <a:lnTo>
                            <a:pt x="122" y="160"/>
                          </a:lnTo>
                          <a:lnTo>
                            <a:pt x="113" y="166"/>
                          </a:lnTo>
                          <a:lnTo>
                            <a:pt x="103" y="172"/>
                          </a:lnTo>
                          <a:lnTo>
                            <a:pt x="92" y="175"/>
                          </a:lnTo>
                          <a:lnTo>
                            <a:pt x="82" y="178"/>
                          </a:lnTo>
                          <a:lnTo>
                            <a:pt x="73" y="179"/>
                          </a:lnTo>
                          <a:lnTo>
                            <a:pt x="58" y="178"/>
                          </a:lnTo>
                          <a:lnTo>
                            <a:pt x="44" y="173"/>
                          </a:lnTo>
                          <a:lnTo>
                            <a:pt x="32" y="166"/>
                          </a:lnTo>
                          <a:lnTo>
                            <a:pt x="21" y="156"/>
                          </a:lnTo>
                          <a:lnTo>
                            <a:pt x="13" y="143"/>
                          </a:lnTo>
                          <a:lnTo>
                            <a:pt x="6" y="128"/>
                          </a:lnTo>
                          <a:lnTo>
                            <a:pt x="1" y="111"/>
                          </a:lnTo>
                          <a:lnTo>
                            <a:pt x="0" y="92"/>
                          </a:lnTo>
                          <a:lnTo>
                            <a:pt x="2" y="76"/>
                          </a:lnTo>
                          <a:lnTo>
                            <a:pt x="7" y="60"/>
                          </a:lnTo>
                          <a:lnTo>
                            <a:pt x="15" y="45"/>
                          </a:lnTo>
                          <a:lnTo>
                            <a:pt x="24" y="33"/>
                          </a:lnTo>
                          <a:lnTo>
                            <a:pt x="36" y="21"/>
                          </a:lnTo>
                          <a:lnTo>
                            <a:pt x="50" y="12"/>
                          </a:lnTo>
                          <a:lnTo>
                            <a:pt x="62" y="5"/>
                          </a:lnTo>
                          <a:lnTo>
                            <a:pt x="76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655920" y="2952720"/>
                      <a:ext cx="7452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1" h="168">
                          <a:moveTo>
                            <a:pt x="84" y="0"/>
                          </a:moveTo>
                          <a:lnTo>
                            <a:pt x="76" y="5"/>
                          </a:lnTo>
                          <a:lnTo>
                            <a:pt x="68" y="11"/>
                          </a:lnTo>
                          <a:lnTo>
                            <a:pt x="61" y="17"/>
                          </a:lnTo>
                          <a:lnTo>
                            <a:pt x="56" y="24"/>
                          </a:lnTo>
                          <a:lnTo>
                            <a:pt x="50" y="32"/>
                          </a:lnTo>
                          <a:lnTo>
                            <a:pt x="46" y="42"/>
                          </a:lnTo>
                          <a:lnTo>
                            <a:pt x="43" y="51"/>
                          </a:lnTo>
                          <a:lnTo>
                            <a:pt x="42" y="60"/>
                          </a:lnTo>
                          <a:lnTo>
                            <a:pt x="42" y="75"/>
                          </a:lnTo>
                          <a:lnTo>
                            <a:pt x="44" y="90"/>
                          </a:lnTo>
                          <a:lnTo>
                            <a:pt x="50" y="104"/>
                          </a:lnTo>
                          <a:lnTo>
                            <a:pt x="58" y="115"/>
                          </a:lnTo>
                          <a:lnTo>
                            <a:pt x="68" y="126"/>
                          </a:lnTo>
                          <a:lnTo>
                            <a:pt x="80" y="134"/>
                          </a:lnTo>
                          <a:lnTo>
                            <a:pt x="94" y="140"/>
                          </a:lnTo>
                          <a:lnTo>
                            <a:pt x="109" y="143"/>
                          </a:lnTo>
                          <a:lnTo>
                            <a:pt x="117" y="143"/>
                          </a:lnTo>
                          <a:lnTo>
                            <a:pt x="125" y="142"/>
                          </a:lnTo>
                          <a:lnTo>
                            <a:pt x="133" y="141"/>
                          </a:lnTo>
                          <a:lnTo>
                            <a:pt x="141" y="138"/>
                          </a:lnTo>
                          <a:lnTo>
                            <a:pt x="134" y="145"/>
                          </a:lnTo>
                          <a:lnTo>
                            <a:pt x="126" y="152"/>
                          </a:lnTo>
                          <a:lnTo>
                            <a:pt x="117" y="157"/>
                          </a:lnTo>
                          <a:lnTo>
                            <a:pt x="108" y="162"/>
                          </a:lnTo>
                          <a:lnTo>
                            <a:pt x="96" y="165"/>
                          </a:lnTo>
                          <a:lnTo>
                            <a:pt x="86" y="167"/>
                          </a:lnTo>
                          <a:lnTo>
                            <a:pt x="75" y="168"/>
                          </a:lnTo>
                          <a:lnTo>
                            <a:pt x="66" y="168"/>
                          </a:lnTo>
                          <a:lnTo>
                            <a:pt x="51" y="165"/>
                          </a:lnTo>
                          <a:lnTo>
                            <a:pt x="37" y="159"/>
                          </a:lnTo>
                          <a:lnTo>
                            <a:pt x="26" y="150"/>
                          </a:lnTo>
                          <a:lnTo>
                            <a:pt x="17" y="138"/>
                          </a:lnTo>
                          <a:lnTo>
                            <a:pt x="8" y="126"/>
                          </a:lnTo>
                          <a:lnTo>
                            <a:pt x="3" y="111"/>
                          </a:lnTo>
                          <a:lnTo>
                            <a:pt x="0" y="95"/>
                          </a:lnTo>
                          <a:lnTo>
                            <a:pt x="0" y="77"/>
                          </a:lnTo>
                          <a:lnTo>
                            <a:pt x="4" y="62"/>
                          </a:lnTo>
                          <a:lnTo>
                            <a:pt x="10" y="49"/>
                          </a:lnTo>
                          <a:lnTo>
                            <a:pt x="19" y="36"/>
                          </a:lnTo>
                          <a:lnTo>
                            <a:pt x="30" y="24"/>
                          </a:lnTo>
                          <a:lnTo>
                            <a:pt x="43" y="15"/>
                          </a:lnTo>
                          <a:lnTo>
                            <a:pt x="57" y="7"/>
                          </a:lnTo>
                          <a:lnTo>
                            <a:pt x="71" y="2"/>
                          </a:lnTo>
                          <a:lnTo>
                            <a:pt x="84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845640" y="2760840"/>
                      <a:ext cx="13284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8" h="302">
                          <a:moveTo>
                            <a:pt x="2" y="183"/>
                          </a:moveTo>
                          <a:lnTo>
                            <a:pt x="0" y="151"/>
                          </a:lnTo>
                          <a:lnTo>
                            <a:pt x="2" y="121"/>
                          </a:lnTo>
                          <a:lnTo>
                            <a:pt x="9" y="92"/>
                          </a:lnTo>
                          <a:lnTo>
                            <a:pt x="20" y="65"/>
                          </a:lnTo>
                          <a:lnTo>
                            <a:pt x="35" y="42"/>
                          </a:lnTo>
                          <a:lnTo>
                            <a:pt x="54" y="24"/>
                          </a:lnTo>
                          <a:lnTo>
                            <a:pt x="77" y="10"/>
                          </a:lnTo>
                          <a:lnTo>
                            <a:pt x="101" y="2"/>
                          </a:lnTo>
                          <a:lnTo>
                            <a:pt x="124" y="0"/>
                          </a:lnTo>
                          <a:lnTo>
                            <a:pt x="147" y="3"/>
                          </a:lnTo>
                          <a:lnTo>
                            <a:pt x="169" y="11"/>
                          </a:lnTo>
                          <a:lnTo>
                            <a:pt x="190" y="23"/>
                          </a:lnTo>
                          <a:lnTo>
                            <a:pt x="208" y="39"/>
                          </a:lnTo>
                          <a:lnTo>
                            <a:pt x="224" y="58"/>
                          </a:lnTo>
                          <a:lnTo>
                            <a:pt x="238" y="81"/>
                          </a:lnTo>
                          <a:lnTo>
                            <a:pt x="248" y="107"/>
                          </a:lnTo>
                          <a:lnTo>
                            <a:pt x="237" y="93"/>
                          </a:lnTo>
                          <a:lnTo>
                            <a:pt x="225" y="81"/>
                          </a:lnTo>
                          <a:lnTo>
                            <a:pt x="212" y="72"/>
                          </a:lnTo>
                          <a:lnTo>
                            <a:pt x="198" y="64"/>
                          </a:lnTo>
                          <a:lnTo>
                            <a:pt x="183" y="58"/>
                          </a:lnTo>
                          <a:lnTo>
                            <a:pt x="168" y="55"/>
                          </a:lnTo>
                          <a:lnTo>
                            <a:pt x="153" y="55"/>
                          </a:lnTo>
                          <a:lnTo>
                            <a:pt x="137" y="56"/>
                          </a:lnTo>
                          <a:lnTo>
                            <a:pt x="114" y="64"/>
                          </a:lnTo>
                          <a:lnTo>
                            <a:pt x="93" y="76"/>
                          </a:lnTo>
                          <a:lnTo>
                            <a:pt x="76" y="93"/>
                          </a:lnTo>
                          <a:lnTo>
                            <a:pt x="62" y="114"/>
                          </a:lnTo>
                          <a:lnTo>
                            <a:pt x="51" y="138"/>
                          </a:lnTo>
                          <a:lnTo>
                            <a:pt x="44" y="164"/>
                          </a:lnTo>
                          <a:lnTo>
                            <a:pt x="43" y="192"/>
                          </a:lnTo>
                          <a:lnTo>
                            <a:pt x="46" y="222"/>
                          </a:lnTo>
                          <a:lnTo>
                            <a:pt x="48" y="234"/>
                          </a:lnTo>
                          <a:lnTo>
                            <a:pt x="50" y="245"/>
                          </a:lnTo>
                          <a:lnTo>
                            <a:pt x="55" y="255"/>
                          </a:lnTo>
                          <a:lnTo>
                            <a:pt x="59" y="266"/>
                          </a:lnTo>
                          <a:lnTo>
                            <a:pt x="64" y="275"/>
                          </a:lnTo>
                          <a:lnTo>
                            <a:pt x="70" y="284"/>
                          </a:lnTo>
                          <a:lnTo>
                            <a:pt x="76" y="293"/>
                          </a:lnTo>
                          <a:lnTo>
                            <a:pt x="83" y="302"/>
                          </a:lnTo>
                          <a:lnTo>
                            <a:pt x="69" y="292"/>
                          </a:lnTo>
                          <a:lnTo>
                            <a:pt x="55" y="282"/>
                          </a:lnTo>
                          <a:lnTo>
                            <a:pt x="43" y="269"/>
                          </a:lnTo>
                          <a:lnTo>
                            <a:pt x="32" y="254"/>
                          </a:lnTo>
                          <a:lnTo>
                            <a:pt x="21" y="238"/>
                          </a:lnTo>
                          <a:lnTo>
                            <a:pt x="13" y="221"/>
                          </a:lnTo>
                          <a:lnTo>
                            <a:pt x="6" y="202"/>
                          </a:lnTo>
                          <a:lnTo>
                            <a:pt x="2" y="18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53" name=""/>
            <p:cNvGrpSpPr/>
            <p:nvPr/>
          </p:nvGrpSpPr>
          <p:grpSpPr>
            <a:xfrm>
              <a:off x="252720" y="4892760"/>
              <a:ext cx="1110600" cy="1091880"/>
              <a:chOff x="252720" y="4892760"/>
              <a:chExt cx="1110600" cy="1091880"/>
            </a:xfrm>
          </p:grpSpPr>
          <p:sp>
            <p:nvSpPr>
              <p:cNvPr id="154" name=""/>
              <p:cNvSpPr/>
              <p:nvPr/>
            </p:nvSpPr>
            <p:spPr>
              <a:xfrm>
                <a:off x="875880" y="5518080"/>
                <a:ext cx="306000" cy="177480"/>
              </a:xfrm>
              <a:custGeom>
                <a:avLst/>
                <a:gdLst/>
                <a:ahLst/>
                <a:rect l="l" t="t" r="r" b="b"/>
                <a:pathLst>
                  <a:path w="574" h="351">
                    <a:moveTo>
                      <a:pt x="574" y="0"/>
                    </a:moveTo>
                    <a:lnTo>
                      <a:pt x="571" y="3"/>
                    </a:lnTo>
                    <a:lnTo>
                      <a:pt x="563" y="13"/>
                    </a:lnTo>
                    <a:lnTo>
                      <a:pt x="549" y="28"/>
                    </a:lnTo>
                    <a:lnTo>
                      <a:pt x="530" y="49"/>
                    </a:lnTo>
                    <a:lnTo>
                      <a:pt x="509" y="73"/>
                    </a:lnTo>
                    <a:lnTo>
                      <a:pt x="483" y="101"/>
                    </a:lnTo>
                    <a:lnTo>
                      <a:pt x="456" y="130"/>
                    </a:lnTo>
                    <a:lnTo>
                      <a:pt x="427" y="160"/>
                    </a:lnTo>
                    <a:lnTo>
                      <a:pt x="396" y="191"/>
                    </a:lnTo>
                    <a:lnTo>
                      <a:pt x="365" y="222"/>
                    </a:lnTo>
                    <a:lnTo>
                      <a:pt x="334" y="251"/>
                    </a:lnTo>
                    <a:lnTo>
                      <a:pt x="304" y="277"/>
                    </a:lnTo>
                    <a:lnTo>
                      <a:pt x="276" y="301"/>
                    </a:lnTo>
                    <a:lnTo>
                      <a:pt x="249" y="321"/>
                    </a:lnTo>
                    <a:lnTo>
                      <a:pt x="225" y="336"/>
                    </a:lnTo>
                    <a:lnTo>
                      <a:pt x="206" y="345"/>
                    </a:lnTo>
                    <a:lnTo>
                      <a:pt x="187" y="350"/>
                    </a:lnTo>
                    <a:lnTo>
                      <a:pt x="169" y="351"/>
                    </a:lnTo>
                    <a:lnTo>
                      <a:pt x="150" y="350"/>
                    </a:lnTo>
                    <a:lnTo>
                      <a:pt x="133" y="347"/>
                    </a:lnTo>
                    <a:lnTo>
                      <a:pt x="115" y="342"/>
                    </a:lnTo>
                    <a:lnTo>
                      <a:pt x="97" y="336"/>
                    </a:lnTo>
                    <a:lnTo>
                      <a:pt x="81" y="328"/>
                    </a:lnTo>
                    <a:lnTo>
                      <a:pt x="66" y="320"/>
                    </a:lnTo>
                    <a:lnTo>
                      <a:pt x="53" y="311"/>
                    </a:lnTo>
                    <a:lnTo>
                      <a:pt x="39" y="302"/>
                    </a:lnTo>
                    <a:lnTo>
                      <a:pt x="28" y="294"/>
                    </a:lnTo>
                    <a:lnTo>
                      <a:pt x="18" y="286"/>
                    </a:lnTo>
                    <a:lnTo>
                      <a:pt x="10" y="279"/>
                    </a:lnTo>
                    <a:lnTo>
                      <a:pt x="4" y="275"/>
                    </a:lnTo>
                    <a:lnTo>
                      <a:pt x="1" y="271"/>
                    </a:lnTo>
                    <a:lnTo>
                      <a:pt x="0" y="270"/>
                    </a:lnTo>
                    <a:lnTo>
                      <a:pt x="4" y="271"/>
                    </a:lnTo>
                    <a:lnTo>
                      <a:pt x="16" y="275"/>
                    </a:lnTo>
                    <a:lnTo>
                      <a:pt x="33" y="279"/>
                    </a:lnTo>
                    <a:lnTo>
                      <a:pt x="56" y="283"/>
                    </a:lnTo>
                    <a:lnTo>
                      <a:pt x="84" y="285"/>
                    </a:lnTo>
                    <a:lnTo>
                      <a:pt x="114" y="283"/>
                    </a:lnTo>
                    <a:lnTo>
                      <a:pt x="146" y="277"/>
                    </a:lnTo>
                    <a:lnTo>
                      <a:pt x="178" y="264"/>
                    </a:lnTo>
                    <a:lnTo>
                      <a:pt x="196" y="254"/>
                    </a:lnTo>
                    <a:lnTo>
                      <a:pt x="220" y="240"/>
                    </a:lnTo>
                    <a:lnTo>
                      <a:pt x="247" y="224"/>
                    </a:lnTo>
                    <a:lnTo>
                      <a:pt x="276" y="205"/>
                    </a:lnTo>
                    <a:lnTo>
                      <a:pt x="308" y="184"/>
                    </a:lnTo>
                    <a:lnTo>
                      <a:pt x="342" y="162"/>
                    </a:lnTo>
                    <a:lnTo>
                      <a:pt x="375" y="139"/>
                    </a:lnTo>
                    <a:lnTo>
                      <a:pt x="408" y="116"/>
                    </a:lnTo>
                    <a:lnTo>
                      <a:pt x="441" y="93"/>
                    </a:lnTo>
                    <a:lnTo>
                      <a:pt x="472" y="72"/>
                    </a:lnTo>
                    <a:lnTo>
                      <a:pt x="499" y="53"/>
                    </a:lnTo>
                    <a:lnTo>
                      <a:pt x="525" y="35"/>
                    </a:lnTo>
                    <a:lnTo>
                      <a:pt x="545" y="20"/>
                    </a:lnTo>
                    <a:lnTo>
                      <a:pt x="560" y="9"/>
                    </a:lnTo>
                    <a:lnTo>
                      <a:pt x="571" y="2"/>
                    </a:lnTo>
                    <a:lnTo>
                      <a:pt x="5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11f75"/>
                  </a:solidFill>
                  <a:latin typeface="Arial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252720" y="4892760"/>
                <a:ext cx="1110600" cy="1091880"/>
                <a:chOff x="252720" y="4892760"/>
                <a:chExt cx="1110600" cy="10918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633600" y="5266440"/>
                  <a:ext cx="265680" cy="105120"/>
                </a:xfrm>
                <a:custGeom>
                  <a:avLst/>
                  <a:gdLst/>
                  <a:ahLst/>
                  <a:rect l="l" t="t" r="r" b="b"/>
                  <a:pathLst>
                    <a:path w="496" h="208">
                      <a:moveTo>
                        <a:pt x="496" y="129"/>
                      </a:moveTo>
                      <a:lnTo>
                        <a:pt x="495" y="130"/>
                      </a:lnTo>
                      <a:lnTo>
                        <a:pt x="492" y="133"/>
                      </a:lnTo>
                      <a:lnTo>
                        <a:pt x="485" y="138"/>
                      </a:lnTo>
                      <a:lnTo>
                        <a:pt x="477" y="144"/>
                      </a:lnTo>
                      <a:lnTo>
                        <a:pt x="465" y="151"/>
                      </a:lnTo>
                      <a:lnTo>
                        <a:pt x="453" y="159"/>
                      </a:lnTo>
                      <a:lnTo>
                        <a:pt x="436" y="167"/>
                      </a:lnTo>
                      <a:lnTo>
                        <a:pt x="419" y="175"/>
                      </a:lnTo>
                      <a:lnTo>
                        <a:pt x="400" y="183"/>
                      </a:lnTo>
                      <a:lnTo>
                        <a:pt x="378" y="190"/>
                      </a:lnTo>
                      <a:lnTo>
                        <a:pt x="355" y="197"/>
                      </a:lnTo>
                      <a:lnTo>
                        <a:pt x="329" y="203"/>
                      </a:lnTo>
                      <a:lnTo>
                        <a:pt x="302" y="206"/>
                      </a:lnTo>
                      <a:lnTo>
                        <a:pt x="273" y="208"/>
                      </a:lnTo>
                      <a:lnTo>
                        <a:pt x="243" y="208"/>
                      </a:lnTo>
                      <a:lnTo>
                        <a:pt x="211" y="206"/>
                      </a:lnTo>
                      <a:lnTo>
                        <a:pt x="144" y="197"/>
                      </a:lnTo>
                      <a:lnTo>
                        <a:pt x="91" y="185"/>
                      </a:lnTo>
                      <a:lnTo>
                        <a:pt x="53" y="172"/>
                      </a:lnTo>
                      <a:lnTo>
                        <a:pt x="25" y="155"/>
                      </a:lnTo>
                      <a:lnTo>
                        <a:pt x="8" y="139"/>
                      </a:lnTo>
                      <a:lnTo>
                        <a:pt x="0" y="122"/>
                      </a:lnTo>
                      <a:lnTo>
                        <a:pt x="0" y="105"/>
                      </a:lnTo>
                      <a:lnTo>
                        <a:pt x="6" y="87"/>
                      </a:lnTo>
                      <a:lnTo>
                        <a:pt x="16" y="70"/>
                      </a:lnTo>
                      <a:lnTo>
                        <a:pt x="29" y="54"/>
                      </a:lnTo>
                      <a:lnTo>
                        <a:pt x="45" y="39"/>
                      </a:lnTo>
                      <a:lnTo>
                        <a:pt x="61" y="26"/>
                      </a:lnTo>
                      <a:lnTo>
                        <a:pt x="75" y="15"/>
                      </a:lnTo>
                      <a:lnTo>
                        <a:pt x="88" y="7"/>
                      </a:lnTo>
                      <a:lnTo>
                        <a:pt x="96" y="2"/>
                      </a:lnTo>
                      <a:lnTo>
                        <a:pt x="99" y="0"/>
                      </a:lnTo>
                      <a:lnTo>
                        <a:pt x="98" y="1"/>
                      </a:lnTo>
                      <a:lnTo>
                        <a:pt x="96" y="5"/>
                      </a:lnTo>
                      <a:lnTo>
                        <a:pt x="92" y="10"/>
                      </a:lnTo>
                      <a:lnTo>
                        <a:pt x="88" y="18"/>
                      </a:lnTo>
                      <a:lnTo>
                        <a:pt x="83" y="28"/>
                      </a:lnTo>
                      <a:lnTo>
                        <a:pt x="79" y="38"/>
                      </a:lnTo>
                      <a:lnTo>
                        <a:pt x="77" y="49"/>
                      </a:lnTo>
                      <a:lnTo>
                        <a:pt x="76" y="61"/>
                      </a:lnTo>
                      <a:lnTo>
                        <a:pt x="77" y="74"/>
                      </a:lnTo>
                      <a:lnTo>
                        <a:pt x="81" y="86"/>
                      </a:lnTo>
                      <a:lnTo>
                        <a:pt x="88" y="98"/>
                      </a:lnTo>
                      <a:lnTo>
                        <a:pt x="99" y="109"/>
                      </a:lnTo>
                      <a:lnTo>
                        <a:pt x="114" y="121"/>
                      </a:lnTo>
                      <a:lnTo>
                        <a:pt x="135" y="130"/>
                      </a:lnTo>
                      <a:lnTo>
                        <a:pt x="160" y="138"/>
                      </a:lnTo>
                      <a:lnTo>
                        <a:pt x="192" y="144"/>
                      </a:lnTo>
                      <a:lnTo>
                        <a:pt x="220" y="147"/>
                      </a:lnTo>
                      <a:lnTo>
                        <a:pt x="248" y="150"/>
                      </a:lnTo>
                      <a:lnTo>
                        <a:pt x="274" y="151"/>
                      </a:lnTo>
                      <a:lnTo>
                        <a:pt x="301" y="151"/>
                      </a:lnTo>
                      <a:lnTo>
                        <a:pt x="327" y="150"/>
                      </a:lnTo>
                      <a:lnTo>
                        <a:pt x="352" y="148"/>
                      </a:lnTo>
                      <a:lnTo>
                        <a:pt x="377" y="147"/>
                      </a:lnTo>
                      <a:lnTo>
                        <a:pt x="398" y="145"/>
                      </a:lnTo>
                      <a:lnTo>
                        <a:pt x="419" y="142"/>
                      </a:lnTo>
                      <a:lnTo>
                        <a:pt x="439" y="139"/>
                      </a:lnTo>
                      <a:lnTo>
                        <a:pt x="455" y="137"/>
                      </a:lnTo>
                      <a:lnTo>
                        <a:pt x="469" y="135"/>
                      </a:lnTo>
                      <a:lnTo>
                        <a:pt x="480" y="132"/>
                      </a:lnTo>
                      <a:lnTo>
                        <a:pt x="489" y="130"/>
                      </a:lnTo>
                      <a:lnTo>
                        <a:pt x="494" y="129"/>
                      </a:lnTo>
                      <a:lnTo>
                        <a:pt x="496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81480" y="5172480"/>
                  <a:ext cx="234720" cy="141120"/>
                </a:xfrm>
                <a:custGeom>
                  <a:avLst/>
                  <a:gdLst/>
                  <a:ahLst/>
                  <a:rect l="l" t="t" r="r" b="b"/>
                  <a:pathLst>
                    <a:path w="440" h="281">
                      <a:moveTo>
                        <a:pt x="0" y="205"/>
                      </a:moveTo>
                      <a:lnTo>
                        <a:pt x="0" y="203"/>
                      </a:lnTo>
                      <a:lnTo>
                        <a:pt x="0" y="196"/>
                      </a:lnTo>
                      <a:lnTo>
                        <a:pt x="1" y="185"/>
                      </a:lnTo>
                      <a:lnTo>
                        <a:pt x="3" y="171"/>
                      </a:lnTo>
                      <a:lnTo>
                        <a:pt x="5" y="155"/>
                      </a:lnTo>
                      <a:lnTo>
                        <a:pt x="10" y="136"/>
                      </a:lnTo>
                      <a:lnTo>
                        <a:pt x="17" y="117"/>
                      </a:lnTo>
                      <a:lnTo>
                        <a:pt x="26" y="96"/>
                      </a:lnTo>
                      <a:lnTo>
                        <a:pt x="39" y="76"/>
                      </a:lnTo>
                      <a:lnTo>
                        <a:pt x="54" y="58"/>
                      </a:lnTo>
                      <a:lnTo>
                        <a:pt x="72" y="41"/>
                      </a:lnTo>
                      <a:lnTo>
                        <a:pt x="94" y="26"/>
                      </a:lnTo>
                      <a:lnTo>
                        <a:pt x="121" y="13"/>
                      </a:lnTo>
                      <a:lnTo>
                        <a:pt x="151" y="5"/>
                      </a:lnTo>
                      <a:lnTo>
                        <a:pt x="186" y="0"/>
                      </a:lnTo>
                      <a:lnTo>
                        <a:pt x="228" y="1"/>
                      </a:lnTo>
                      <a:lnTo>
                        <a:pt x="267" y="7"/>
                      </a:lnTo>
                      <a:lnTo>
                        <a:pt x="300" y="19"/>
                      </a:lnTo>
                      <a:lnTo>
                        <a:pt x="330" y="34"/>
                      </a:lnTo>
                      <a:lnTo>
                        <a:pt x="354" y="53"/>
                      </a:lnTo>
                      <a:lnTo>
                        <a:pt x="375" y="74"/>
                      </a:lnTo>
                      <a:lnTo>
                        <a:pt x="392" y="98"/>
                      </a:lnTo>
                      <a:lnTo>
                        <a:pt x="406" y="122"/>
                      </a:lnTo>
                      <a:lnTo>
                        <a:pt x="417" y="148"/>
                      </a:lnTo>
                      <a:lnTo>
                        <a:pt x="425" y="173"/>
                      </a:lnTo>
                      <a:lnTo>
                        <a:pt x="432" y="197"/>
                      </a:lnTo>
                      <a:lnTo>
                        <a:pt x="435" y="220"/>
                      </a:lnTo>
                      <a:lnTo>
                        <a:pt x="437" y="240"/>
                      </a:lnTo>
                      <a:lnTo>
                        <a:pt x="440" y="257"/>
                      </a:lnTo>
                      <a:lnTo>
                        <a:pt x="440" y="270"/>
                      </a:lnTo>
                      <a:lnTo>
                        <a:pt x="440" y="278"/>
                      </a:lnTo>
                      <a:lnTo>
                        <a:pt x="440" y="281"/>
                      </a:lnTo>
                      <a:lnTo>
                        <a:pt x="438" y="279"/>
                      </a:lnTo>
                      <a:lnTo>
                        <a:pt x="435" y="272"/>
                      </a:lnTo>
                      <a:lnTo>
                        <a:pt x="430" y="263"/>
                      </a:lnTo>
                      <a:lnTo>
                        <a:pt x="423" y="249"/>
                      </a:lnTo>
                      <a:lnTo>
                        <a:pt x="414" y="234"/>
                      </a:lnTo>
                      <a:lnTo>
                        <a:pt x="404" y="216"/>
                      </a:lnTo>
                      <a:lnTo>
                        <a:pt x="391" y="197"/>
                      </a:lnTo>
                      <a:lnTo>
                        <a:pt x="376" y="178"/>
                      </a:lnTo>
                      <a:lnTo>
                        <a:pt x="360" y="158"/>
                      </a:lnTo>
                      <a:lnTo>
                        <a:pt x="343" y="140"/>
                      </a:lnTo>
                      <a:lnTo>
                        <a:pt x="324" y="121"/>
                      </a:lnTo>
                      <a:lnTo>
                        <a:pt x="304" y="104"/>
                      </a:lnTo>
                      <a:lnTo>
                        <a:pt x="282" y="90"/>
                      </a:lnTo>
                      <a:lnTo>
                        <a:pt x="259" y="79"/>
                      </a:lnTo>
                      <a:lnTo>
                        <a:pt x="233" y="71"/>
                      </a:lnTo>
                      <a:lnTo>
                        <a:pt x="208" y="66"/>
                      </a:lnTo>
                      <a:lnTo>
                        <a:pt x="174" y="65"/>
                      </a:lnTo>
                      <a:lnTo>
                        <a:pt x="142" y="67"/>
                      </a:lnTo>
                      <a:lnTo>
                        <a:pt x="115" y="73"/>
                      </a:lnTo>
                      <a:lnTo>
                        <a:pt x="92" y="81"/>
                      </a:lnTo>
                      <a:lnTo>
                        <a:pt x="72" y="91"/>
                      </a:lnTo>
                      <a:lnTo>
                        <a:pt x="55" y="103"/>
                      </a:lnTo>
                      <a:lnTo>
                        <a:pt x="41" y="115"/>
                      </a:lnTo>
                      <a:lnTo>
                        <a:pt x="30" y="129"/>
                      </a:lnTo>
                      <a:lnTo>
                        <a:pt x="20" y="143"/>
                      </a:lnTo>
                      <a:lnTo>
                        <a:pt x="13" y="157"/>
                      </a:lnTo>
                      <a:lnTo>
                        <a:pt x="8" y="170"/>
                      </a:lnTo>
                      <a:lnTo>
                        <a:pt x="4" y="181"/>
                      </a:lnTo>
                      <a:lnTo>
                        <a:pt x="2" y="192"/>
                      </a:lnTo>
                      <a:lnTo>
                        <a:pt x="1" y="198"/>
                      </a:lnTo>
                      <a:lnTo>
                        <a:pt x="0" y="203"/>
                      </a:lnTo>
                      <a:lnTo>
                        <a:pt x="0" y="2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48920" y="5352480"/>
                  <a:ext cx="451080" cy="632160"/>
                </a:xfrm>
                <a:custGeom>
                  <a:avLst/>
                  <a:gdLst/>
                  <a:ahLst/>
                  <a:rect l="l" t="t" r="r" b="b"/>
                  <a:pathLst>
                    <a:path w="847" h="1252">
                      <a:moveTo>
                        <a:pt x="6" y="1004"/>
                      </a:moveTo>
                      <a:lnTo>
                        <a:pt x="18" y="965"/>
                      </a:lnTo>
                      <a:lnTo>
                        <a:pt x="36" y="930"/>
                      </a:lnTo>
                      <a:lnTo>
                        <a:pt x="60" y="896"/>
                      </a:lnTo>
                      <a:lnTo>
                        <a:pt x="86" y="863"/>
                      </a:lnTo>
                      <a:lnTo>
                        <a:pt x="112" y="831"/>
                      </a:lnTo>
                      <a:lnTo>
                        <a:pt x="135" y="798"/>
                      </a:lnTo>
                      <a:lnTo>
                        <a:pt x="152" y="766"/>
                      </a:lnTo>
                      <a:lnTo>
                        <a:pt x="162" y="732"/>
                      </a:lnTo>
                      <a:lnTo>
                        <a:pt x="163" y="696"/>
                      </a:lnTo>
                      <a:lnTo>
                        <a:pt x="160" y="657"/>
                      </a:lnTo>
                      <a:lnTo>
                        <a:pt x="155" y="615"/>
                      </a:lnTo>
                      <a:lnTo>
                        <a:pt x="150" y="570"/>
                      </a:lnTo>
                      <a:lnTo>
                        <a:pt x="148" y="522"/>
                      </a:lnTo>
                      <a:lnTo>
                        <a:pt x="152" y="469"/>
                      </a:lnTo>
                      <a:lnTo>
                        <a:pt x="167" y="413"/>
                      </a:lnTo>
                      <a:lnTo>
                        <a:pt x="193" y="350"/>
                      </a:lnTo>
                      <a:lnTo>
                        <a:pt x="209" y="322"/>
                      </a:lnTo>
                      <a:lnTo>
                        <a:pt x="225" y="296"/>
                      </a:lnTo>
                      <a:lnTo>
                        <a:pt x="243" y="273"/>
                      </a:lnTo>
                      <a:lnTo>
                        <a:pt x="262" y="254"/>
                      </a:lnTo>
                      <a:lnTo>
                        <a:pt x="281" y="236"/>
                      </a:lnTo>
                      <a:lnTo>
                        <a:pt x="300" y="220"/>
                      </a:lnTo>
                      <a:lnTo>
                        <a:pt x="319" y="208"/>
                      </a:lnTo>
                      <a:lnTo>
                        <a:pt x="339" y="196"/>
                      </a:lnTo>
                      <a:lnTo>
                        <a:pt x="357" y="187"/>
                      </a:lnTo>
                      <a:lnTo>
                        <a:pt x="376" y="178"/>
                      </a:lnTo>
                      <a:lnTo>
                        <a:pt x="392" y="171"/>
                      </a:lnTo>
                      <a:lnTo>
                        <a:pt x="408" y="165"/>
                      </a:lnTo>
                      <a:lnTo>
                        <a:pt x="423" y="159"/>
                      </a:lnTo>
                      <a:lnTo>
                        <a:pt x="437" y="155"/>
                      </a:lnTo>
                      <a:lnTo>
                        <a:pt x="448" y="151"/>
                      </a:lnTo>
                      <a:lnTo>
                        <a:pt x="458" y="147"/>
                      </a:lnTo>
                      <a:lnTo>
                        <a:pt x="451" y="95"/>
                      </a:lnTo>
                      <a:lnTo>
                        <a:pt x="449" y="50"/>
                      </a:lnTo>
                      <a:lnTo>
                        <a:pt x="452" y="18"/>
                      </a:lnTo>
                      <a:lnTo>
                        <a:pt x="453" y="6"/>
                      </a:lnTo>
                      <a:lnTo>
                        <a:pt x="483" y="0"/>
                      </a:lnTo>
                      <a:lnTo>
                        <a:pt x="481" y="12"/>
                      </a:lnTo>
                      <a:lnTo>
                        <a:pt x="476" y="43"/>
                      </a:lnTo>
                      <a:lnTo>
                        <a:pt x="475" y="87"/>
                      </a:lnTo>
                      <a:lnTo>
                        <a:pt x="483" y="137"/>
                      </a:lnTo>
                      <a:lnTo>
                        <a:pt x="486" y="136"/>
                      </a:lnTo>
                      <a:lnTo>
                        <a:pt x="490" y="135"/>
                      </a:lnTo>
                      <a:lnTo>
                        <a:pt x="491" y="135"/>
                      </a:lnTo>
                      <a:lnTo>
                        <a:pt x="492" y="135"/>
                      </a:lnTo>
                      <a:lnTo>
                        <a:pt x="491" y="135"/>
                      </a:lnTo>
                      <a:lnTo>
                        <a:pt x="490" y="136"/>
                      </a:lnTo>
                      <a:lnTo>
                        <a:pt x="487" y="139"/>
                      </a:lnTo>
                      <a:lnTo>
                        <a:pt x="484" y="142"/>
                      </a:lnTo>
                      <a:lnTo>
                        <a:pt x="491" y="160"/>
                      </a:lnTo>
                      <a:lnTo>
                        <a:pt x="500" y="179"/>
                      </a:lnTo>
                      <a:lnTo>
                        <a:pt x="512" y="197"/>
                      </a:lnTo>
                      <a:lnTo>
                        <a:pt x="525" y="213"/>
                      </a:lnTo>
                      <a:lnTo>
                        <a:pt x="543" y="230"/>
                      </a:lnTo>
                      <a:lnTo>
                        <a:pt x="563" y="245"/>
                      </a:lnTo>
                      <a:lnTo>
                        <a:pt x="588" y="257"/>
                      </a:lnTo>
                      <a:lnTo>
                        <a:pt x="616" y="268"/>
                      </a:lnTo>
                      <a:lnTo>
                        <a:pt x="636" y="271"/>
                      </a:lnTo>
                      <a:lnTo>
                        <a:pt x="656" y="271"/>
                      </a:lnTo>
                      <a:lnTo>
                        <a:pt x="676" y="268"/>
                      </a:lnTo>
                      <a:lnTo>
                        <a:pt x="696" y="262"/>
                      </a:lnTo>
                      <a:lnTo>
                        <a:pt x="715" y="253"/>
                      </a:lnTo>
                      <a:lnTo>
                        <a:pt x="734" y="241"/>
                      </a:lnTo>
                      <a:lnTo>
                        <a:pt x="752" y="230"/>
                      </a:lnTo>
                      <a:lnTo>
                        <a:pt x="770" y="216"/>
                      </a:lnTo>
                      <a:lnTo>
                        <a:pt x="786" y="203"/>
                      </a:lnTo>
                      <a:lnTo>
                        <a:pt x="801" y="189"/>
                      </a:lnTo>
                      <a:lnTo>
                        <a:pt x="815" y="177"/>
                      </a:lnTo>
                      <a:lnTo>
                        <a:pt x="825" y="165"/>
                      </a:lnTo>
                      <a:lnTo>
                        <a:pt x="834" y="156"/>
                      </a:lnTo>
                      <a:lnTo>
                        <a:pt x="841" y="148"/>
                      </a:lnTo>
                      <a:lnTo>
                        <a:pt x="846" y="143"/>
                      </a:lnTo>
                      <a:lnTo>
                        <a:pt x="847" y="141"/>
                      </a:lnTo>
                      <a:lnTo>
                        <a:pt x="846" y="145"/>
                      </a:lnTo>
                      <a:lnTo>
                        <a:pt x="840" y="157"/>
                      </a:lnTo>
                      <a:lnTo>
                        <a:pt x="831" y="175"/>
                      </a:lnTo>
                      <a:lnTo>
                        <a:pt x="818" y="198"/>
                      </a:lnTo>
                      <a:lnTo>
                        <a:pt x="802" y="224"/>
                      </a:lnTo>
                      <a:lnTo>
                        <a:pt x="781" y="250"/>
                      </a:lnTo>
                      <a:lnTo>
                        <a:pt x="756" y="277"/>
                      </a:lnTo>
                      <a:lnTo>
                        <a:pt x="726" y="302"/>
                      </a:lnTo>
                      <a:lnTo>
                        <a:pt x="709" y="314"/>
                      </a:lnTo>
                      <a:lnTo>
                        <a:pt x="691" y="324"/>
                      </a:lnTo>
                      <a:lnTo>
                        <a:pt x="675" y="331"/>
                      </a:lnTo>
                      <a:lnTo>
                        <a:pt x="659" y="336"/>
                      </a:lnTo>
                      <a:lnTo>
                        <a:pt x="644" y="339"/>
                      </a:lnTo>
                      <a:lnTo>
                        <a:pt x="628" y="339"/>
                      </a:lnTo>
                      <a:lnTo>
                        <a:pt x="614" y="338"/>
                      </a:lnTo>
                      <a:lnTo>
                        <a:pt x="599" y="333"/>
                      </a:lnTo>
                      <a:lnTo>
                        <a:pt x="585" y="327"/>
                      </a:lnTo>
                      <a:lnTo>
                        <a:pt x="572" y="319"/>
                      </a:lnTo>
                      <a:lnTo>
                        <a:pt x="558" y="309"/>
                      </a:lnTo>
                      <a:lnTo>
                        <a:pt x="544" y="296"/>
                      </a:lnTo>
                      <a:lnTo>
                        <a:pt x="530" y="283"/>
                      </a:lnTo>
                      <a:lnTo>
                        <a:pt x="516" y="265"/>
                      </a:lnTo>
                      <a:lnTo>
                        <a:pt x="502" y="247"/>
                      </a:lnTo>
                      <a:lnTo>
                        <a:pt x="489" y="226"/>
                      </a:lnTo>
                      <a:lnTo>
                        <a:pt x="479" y="211"/>
                      </a:lnTo>
                      <a:lnTo>
                        <a:pt x="473" y="196"/>
                      </a:lnTo>
                      <a:lnTo>
                        <a:pt x="467" y="180"/>
                      </a:lnTo>
                      <a:lnTo>
                        <a:pt x="461" y="164"/>
                      </a:lnTo>
                      <a:lnTo>
                        <a:pt x="453" y="172"/>
                      </a:lnTo>
                      <a:lnTo>
                        <a:pt x="444" y="180"/>
                      </a:lnTo>
                      <a:lnTo>
                        <a:pt x="432" y="190"/>
                      </a:lnTo>
                      <a:lnTo>
                        <a:pt x="421" y="200"/>
                      </a:lnTo>
                      <a:lnTo>
                        <a:pt x="408" y="211"/>
                      </a:lnTo>
                      <a:lnTo>
                        <a:pt x="395" y="223"/>
                      </a:lnTo>
                      <a:lnTo>
                        <a:pt x="382" y="234"/>
                      </a:lnTo>
                      <a:lnTo>
                        <a:pt x="368" y="248"/>
                      </a:lnTo>
                      <a:lnTo>
                        <a:pt x="354" y="262"/>
                      </a:lnTo>
                      <a:lnTo>
                        <a:pt x="340" y="278"/>
                      </a:lnTo>
                      <a:lnTo>
                        <a:pt x="326" y="294"/>
                      </a:lnTo>
                      <a:lnTo>
                        <a:pt x="312" y="311"/>
                      </a:lnTo>
                      <a:lnTo>
                        <a:pt x="300" y="330"/>
                      </a:lnTo>
                      <a:lnTo>
                        <a:pt x="288" y="349"/>
                      </a:lnTo>
                      <a:lnTo>
                        <a:pt x="277" y="371"/>
                      </a:lnTo>
                      <a:lnTo>
                        <a:pt x="266" y="393"/>
                      </a:lnTo>
                      <a:lnTo>
                        <a:pt x="243" y="456"/>
                      </a:lnTo>
                      <a:lnTo>
                        <a:pt x="228" y="513"/>
                      </a:lnTo>
                      <a:lnTo>
                        <a:pt x="219" y="562"/>
                      </a:lnTo>
                      <a:lnTo>
                        <a:pt x="215" y="607"/>
                      </a:lnTo>
                      <a:lnTo>
                        <a:pt x="213" y="649"/>
                      </a:lnTo>
                      <a:lnTo>
                        <a:pt x="212" y="687"/>
                      </a:lnTo>
                      <a:lnTo>
                        <a:pt x="211" y="722"/>
                      </a:lnTo>
                      <a:lnTo>
                        <a:pt x="208" y="758"/>
                      </a:lnTo>
                      <a:lnTo>
                        <a:pt x="198" y="793"/>
                      </a:lnTo>
                      <a:lnTo>
                        <a:pt x="182" y="826"/>
                      </a:lnTo>
                      <a:lnTo>
                        <a:pt x="162" y="858"/>
                      </a:lnTo>
                      <a:lnTo>
                        <a:pt x="137" y="892"/>
                      </a:lnTo>
                      <a:lnTo>
                        <a:pt x="112" y="925"/>
                      </a:lnTo>
                      <a:lnTo>
                        <a:pt x="89" y="959"/>
                      </a:lnTo>
                      <a:lnTo>
                        <a:pt x="68" y="994"/>
                      </a:lnTo>
                      <a:lnTo>
                        <a:pt x="52" y="1031"/>
                      </a:lnTo>
                      <a:lnTo>
                        <a:pt x="44" y="1069"/>
                      </a:lnTo>
                      <a:lnTo>
                        <a:pt x="44" y="1108"/>
                      </a:lnTo>
                      <a:lnTo>
                        <a:pt x="50" y="1145"/>
                      </a:lnTo>
                      <a:lnTo>
                        <a:pt x="60" y="1180"/>
                      </a:lnTo>
                      <a:lnTo>
                        <a:pt x="71" y="1209"/>
                      </a:lnTo>
                      <a:lnTo>
                        <a:pt x="81" y="1232"/>
                      </a:lnTo>
                      <a:lnTo>
                        <a:pt x="89" y="1247"/>
                      </a:lnTo>
                      <a:lnTo>
                        <a:pt x="92" y="1252"/>
                      </a:lnTo>
                      <a:lnTo>
                        <a:pt x="88" y="1250"/>
                      </a:lnTo>
                      <a:lnTo>
                        <a:pt x="74" y="1241"/>
                      </a:lnTo>
                      <a:lnTo>
                        <a:pt x="57" y="1225"/>
                      </a:lnTo>
                      <a:lnTo>
                        <a:pt x="37" y="1200"/>
                      </a:lnTo>
                      <a:lnTo>
                        <a:pt x="19" y="1167"/>
                      </a:lnTo>
                      <a:lnTo>
                        <a:pt x="5" y="1124"/>
                      </a:lnTo>
                      <a:lnTo>
                        <a:pt x="0" y="1070"/>
                      </a:lnTo>
                      <a:lnTo>
                        <a:pt x="6" y="10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15680" y="5626080"/>
                  <a:ext cx="168480" cy="190800"/>
                </a:xfrm>
                <a:custGeom>
                  <a:avLst/>
                  <a:gdLst/>
                  <a:ahLst/>
                  <a:rect l="l" t="t" r="r" b="b"/>
                  <a:pathLst>
                    <a:path w="317" h="376">
                      <a:moveTo>
                        <a:pt x="95" y="376"/>
                      </a:moveTo>
                      <a:lnTo>
                        <a:pt x="90" y="374"/>
                      </a:lnTo>
                      <a:lnTo>
                        <a:pt x="80" y="365"/>
                      </a:lnTo>
                      <a:lnTo>
                        <a:pt x="69" y="344"/>
                      </a:lnTo>
                      <a:lnTo>
                        <a:pt x="65" y="306"/>
                      </a:lnTo>
                      <a:lnTo>
                        <a:pt x="66" y="279"/>
                      </a:lnTo>
                      <a:lnTo>
                        <a:pt x="69" y="245"/>
                      </a:lnTo>
                      <a:lnTo>
                        <a:pt x="76" y="209"/>
                      </a:lnTo>
                      <a:lnTo>
                        <a:pt x="89" y="171"/>
                      </a:lnTo>
                      <a:lnTo>
                        <a:pt x="106" y="136"/>
                      </a:lnTo>
                      <a:lnTo>
                        <a:pt x="133" y="102"/>
                      </a:lnTo>
                      <a:lnTo>
                        <a:pt x="166" y="75"/>
                      </a:lnTo>
                      <a:lnTo>
                        <a:pt x="210" y="54"/>
                      </a:lnTo>
                      <a:lnTo>
                        <a:pt x="236" y="48"/>
                      </a:lnTo>
                      <a:lnTo>
                        <a:pt x="258" y="46"/>
                      </a:lnTo>
                      <a:lnTo>
                        <a:pt x="277" y="48"/>
                      </a:lnTo>
                      <a:lnTo>
                        <a:pt x="291" y="53"/>
                      </a:lnTo>
                      <a:lnTo>
                        <a:pt x="303" y="59"/>
                      </a:lnTo>
                      <a:lnTo>
                        <a:pt x="311" y="64"/>
                      </a:lnTo>
                      <a:lnTo>
                        <a:pt x="316" y="69"/>
                      </a:lnTo>
                      <a:lnTo>
                        <a:pt x="317" y="70"/>
                      </a:lnTo>
                      <a:lnTo>
                        <a:pt x="317" y="54"/>
                      </a:lnTo>
                      <a:lnTo>
                        <a:pt x="313" y="50"/>
                      </a:lnTo>
                      <a:lnTo>
                        <a:pt x="305" y="42"/>
                      </a:lnTo>
                      <a:lnTo>
                        <a:pt x="293" y="32"/>
                      </a:lnTo>
                      <a:lnTo>
                        <a:pt x="274" y="21"/>
                      </a:lnTo>
                      <a:lnTo>
                        <a:pt x="253" y="9"/>
                      </a:lnTo>
                      <a:lnTo>
                        <a:pt x="228" y="2"/>
                      </a:lnTo>
                      <a:lnTo>
                        <a:pt x="202" y="0"/>
                      </a:lnTo>
                      <a:lnTo>
                        <a:pt x="172" y="4"/>
                      </a:lnTo>
                      <a:lnTo>
                        <a:pt x="129" y="23"/>
                      </a:lnTo>
                      <a:lnTo>
                        <a:pt x="92" y="48"/>
                      </a:lnTo>
                      <a:lnTo>
                        <a:pt x="62" y="79"/>
                      </a:lnTo>
                      <a:lnTo>
                        <a:pt x="38" y="116"/>
                      </a:lnTo>
                      <a:lnTo>
                        <a:pt x="20" y="158"/>
                      </a:lnTo>
                      <a:lnTo>
                        <a:pt x="7" y="200"/>
                      </a:lnTo>
                      <a:lnTo>
                        <a:pt x="1" y="245"/>
                      </a:lnTo>
                      <a:lnTo>
                        <a:pt x="0" y="290"/>
                      </a:lnTo>
                      <a:lnTo>
                        <a:pt x="5" y="318"/>
                      </a:lnTo>
                      <a:lnTo>
                        <a:pt x="16" y="338"/>
                      </a:lnTo>
                      <a:lnTo>
                        <a:pt x="31" y="353"/>
                      </a:lnTo>
                      <a:lnTo>
                        <a:pt x="49" y="364"/>
                      </a:lnTo>
                      <a:lnTo>
                        <a:pt x="66" y="371"/>
                      </a:lnTo>
                      <a:lnTo>
                        <a:pt x="81" y="374"/>
                      </a:lnTo>
                      <a:lnTo>
                        <a:pt x="91" y="376"/>
                      </a:lnTo>
                      <a:lnTo>
                        <a:pt x="95" y="3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92200" y="5548320"/>
                  <a:ext cx="156600" cy="216000"/>
                </a:xfrm>
                <a:custGeom>
                  <a:avLst/>
                  <a:gdLst/>
                  <a:ahLst/>
                  <a:rect l="l" t="t" r="r" b="b"/>
                  <a:pathLst>
                    <a:path w="293" h="430">
                      <a:moveTo>
                        <a:pt x="293" y="15"/>
                      </a:moveTo>
                      <a:lnTo>
                        <a:pt x="292" y="15"/>
                      </a:lnTo>
                      <a:lnTo>
                        <a:pt x="288" y="15"/>
                      </a:lnTo>
                      <a:lnTo>
                        <a:pt x="280" y="16"/>
                      </a:lnTo>
                      <a:lnTo>
                        <a:pt x="270" y="19"/>
                      </a:lnTo>
                      <a:lnTo>
                        <a:pt x="259" y="21"/>
                      </a:lnTo>
                      <a:lnTo>
                        <a:pt x="245" y="25"/>
                      </a:lnTo>
                      <a:lnTo>
                        <a:pt x="230" y="29"/>
                      </a:lnTo>
                      <a:lnTo>
                        <a:pt x="215" y="35"/>
                      </a:lnTo>
                      <a:lnTo>
                        <a:pt x="198" y="42"/>
                      </a:lnTo>
                      <a:lnTo>
                        <a:pt x="182" y="51"/>
                      </a:lnTo>
                      <a:lnTo>
                        <a:pt x="166" y="63"/>
                      </a:lnTo>
                      <a:lnTo>
                        <a:pt x="149" y="75"/>
                      </a:lnTo>
                      <a:lnTo>
                        <a:pt x="133" y="91"/>
                      </a:lnTo>
                      <a:lnTo>
                        <a:pt x="119" y="109"/>
                      </a:lnTo>
                      <a:lnTo>
                        <a:pt x="107" y="129"/>
                      </a:lnTo>
                      <a:lnTo>
                        <a:pt x="95" y="152"/>
                      </a:lnTo>
                      <a:lnTo>
                        <a:pt x="73" y="218"/>
                      </a:lnTo>
                      <a:lnTo>
                        <a:pt x="64" y="276"/>
                      </a:lnTo>
                      <a:lnTo>
                        <a:pt x="64" y="323"/>
                      </a:lnTo>
                      <a:lnTo>
                        <a:pt x="70" y="362"/>
                      </a:lnTo>
                      <a:lnTo>
                        <a:pt x="80" y="392"/>
                      </a:lnTo>
                      <a:lnTo>
                        <a:pt x="91" y="413"/>
                      </a:lnTo>
                      <a:lnTo>
                        <a:pt x="99" y="425"/>
                      </a:lnTo>
                      <a:lnTo>
                        <a:pt x="102" y="430"/>
                      </a:lnTo>
                      <a:lnTo>
                        <a:pt x="95" y="424"/>
                      </a:lnTo>
                      <a:lnTo>
                        <a:pt x="78" y="409"/>
                      </a:lnTo>
                      <a:lnTo>
                        <a:pt x="55" y="383"/>
                      </a:lnTo>
                      <a:lnTo>
                        <a:pt x="31" y="348"/>
                      </a:lnTo>
                      <a:lnTo>
                        <a:pt x="11" y="304"/>
                      </a:lnTo>
                      <a:lnTo>
                        <a:pt x="0" y="254"/>
                      </a:lnTo>
                      <a:lnTo>
                        <a:pt x="1" y="195"/>
                      </a:lnTo>
                      <a:lnTo>
                        <a:pt x="22" y="129"/>
                      </a:lnTo>
                      <a:lnTo>
                        <a:pt x="39" y="97"/>
                      </a:lnTo>
                      <a:lnTo>
                        <a:pt x="58" y="69"/>
                      </a:lnTo>
                      <a:lnTo>
                        <a:pt x="79" y="49"/>
                      </a:lnTo>
                      <a:lnTo>
                        <a:pt x="101" y="31"/>
                      </a:lnTo>
                      <a:lnTo>
                        <a:pt x="123" y="19"/>
                      </a:lnTo>
                      <a:lnTo>
                        <a:pt x="146" y="10"/>
                      </a:lnTo>
                      <a:lnTo>
                        <a:pt x="169" y="4"/>
                      </a:lnTo>
                      <a:lnTo>
                        <a:pt x="191" y="1"/>
                      </a:lnTo>
                      <a:lnTo>
                        <a:pt x="212" y="0"/>
                      </a:lnTo>
                      <a:lnTo>
                        <a:pt x="230" y="1"/>
                      </a:lnTo>
                      <a:lnTo>
                        <a:pt x="248" y="4"/>
                      </a:lnTo>
                      <a:lnTo>
                        <a:pt x="263" y="6"/>
                      </a:lnTo>
                      <a:lnTo>
                        <a:pt x="276" y="10"/>
                      </a:lnTo>
                      <a:lnTo>
                        <a:pt x="285" y="12"/>
                      </a:lnTo>
                      <a:lnTo>
                        <a:pt x="291" y="14"/>
                      </a:lnTo>
                      <a:lnTo>
                        <a:pt x="293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42320" y="5411880"/>
                  <a:ext cx="621000" cy="448200"/>
                </a:xfrm>
                <a:custGeom>
                  <a:avLst/>
                  <a:gdLst/>
                  <a:ahLst/>
                  <a:rect l="l" t="t" r="r" b="b"/>
                  <a:pathLst>
                    <a:path w="1164" h="888">
                      <a:moveTo>
                        <a:pt x="0" y="717"/>
                      </a:moveTo>
                      <a:lnTo>
                        <a:pt x="2" y="719"/>
                      </a:lnTo>
                      <a:lnTo>
                        <a:pt x="7" y="722"/>
                      </a:lnTo>
                      <a:lnTo>
                        <a:pt x="16" y="727"/>
                      </a:lnTo>
                      <a:lnTo>
                        <a:pt x="27" y="732"/>
                      </a:lnTo>
                      <a:lnTo>
                        <a:pt x="41" y="740"/>
                      </a:lnTo>
                      <a:lnTo>
                        <a:pt x="57" y="750"/>
                      </a:lnTo>
                      <a:lnTo>
                        <a:pt x="75" y="759"/>
                      </a:lnTo>
                      <a:lnTo>
                        <a:pt x="93" y="769"/>
                      </a:lnTo>
                      <a:lnTo>
                        <a:pt x="114" y="781"/>
                      </a:lnTo>
                      <a:lnTo>
                        <a:pt x="134" y="792"/>
                      </a:lnTo>
                      <a:lnTo>
                        <a:pt x="155" y="804"/>
                      </a:lnTo>
                      <a:lnTo>
                        <a:pt x="176" y="815"/>
                      </a:lnTo>
                      <a:lnTo>
                        <a:pt x="197" y="827"/>
                      </a:lnTo>
                      <a:lnTo>
                        <a:pt x="216" y="838"/>
                      </a:lnTo>
                      <a:lnTo>
                        <a:pt x="235" y="849"/>
                      </a:lnTo>
                      <a:lnTo>
                        <a:pt x="252" y="858"/>
                      </a:lnTo>
                      <a:lnTo>
                        <a:pt x="268" y="866"/>
                      </a:lnTo>
                      <a:lnTo>
                        <a:pt x="285" y="873"/>
                      </a:lnTo>
                      <a:lnTo>
                        <a:pt x="301" y="879"/>
                      </a:lnTo>
                      <a:lnTo>
                        <a:pt x="319" y="883"/>
                      </a:lnTo>
                      <a:lnTo>
                        <a:pt x="336" y="887"/>
                      </a:lnTo>
                      <a:lnTo>
                        <a:pt x="353" y="888"/>
                      </a:lnTo>
                      <a:lnTo>
                        <a:pt x="370" y="888"/>
                      </a:lnTo>
                      <a:lnTo>
                        <a:pt x="389" y="888"/>
                      </a:lnTo>
                      <a:lnTo>
                        <a:pt x="406" y="886"/>
                      </a:lnTo>
                      <a:lnTo>
                        <a:pt x="425" y="881"/>
                      </a:lnTo>
                      <a:lnTo>
                        <a:pt x="443" y="876"/>
                      </a:lnTo>
                      <a:lnTo>
                        <a:pt x="463" y="871"/>
                      </a:lnTo>
                      <a:lnTo>
                        <a:pt x="481" y="862"/>
                      </a:lnTo>
                      <a:lnTo>
                        <a:pt x="501" y="853"/>
                      </a:lnTo>
                      <a:lnTo>
                        <a:pt x="520" y="843"/>
                      </a:lnTo>
                      <a:lnTo>
                        <a:pt x="540" y="831"/>
                      </a:lnTo>
                      <a:lnTo>
                        <a:pt x="558" y="818"/>
                      </a:lnTo>
                      <a:lnTo>
                        <a:pt x="579" y="796"/>
                      </a:lnTo>
                      <a:lnTo>
                        <a:pt x="604" y="768"/>
                      </a:lnTo>
                      <a:lnTo>
                        <a:pt x="631" y="735"/>
                      </a:lnTo>
                      <a:lnTo>
                        <a:pt x="660" y="698"/>
                      </a:lnTo>
                      <a:lnTo>
                        <a:pt x="689" y="657"/>
                      </a:lnTo>
                      <a:lnTo>
                        <a:pt x="721" y="616"/>
                      </a:lnTo>
                      <a:lnTo>
                        <a:pt x="752" y="572"/>
                      </a:lnTo>
                      <a:lnTo>
                        <a:pt x="784" y="530"/>
                      </a:lnTo>
                      <a:lnTo>
                        <a:pt x="814" y="489"/>
                      </a:lnTo>
                      <a:lnTo>
                        <a:pt x="844" y="450"/>
                      </a:lnTo>
                      <a:lnTo>
                        <a:pt x="871" y="416"/>
                      </a:lnTo>
                      <a:lnTo>
                        <a:pt x="898" y="386"/>
                      </a:lnTo>
                      <a:lnTo>
                        <a:pt x="921" y="361"/>
                      </a:lnTo>
                      <a:lnTo>
                        <a:pt x="941" y="343"/>
                      </a:lnTo>
                      <a:lnTo>
                        <a:pt x="957" y="334"/>
                      </a:lnTo>
                      <a:lnTo>
                        <a:pt x="972" y="329"/>
                      </a:lnTo>
                      <a:lnTo>
                        <a:pt x="987" y="325"/>
                      </a:lnTo>
                      <a:lnTo>
                        <a:pt x="1003" y="319"/>
                      </a:lnTo>
                      <a:lnTo>
                        <a:pt x="1020" y="314"/>
                      </a:lnTo>
                      <a:lnTo>
                        <a:pt x="1036" y="308"/>
                      </a:lnTo>
                      <a:lnTo>
                        <a:pt x="1052" y="303"/>
                      </a:lnTo>
                      <a:lnTo>
                        <a:pt x="1068" y="297"/>
                      </a:lnTo>
                      <a:lnTo>
                        <a:pt x="1084" y="289"/>
                      </a:lnTo>
                      <a:lnTo>
                        <a:pt x="1099" y="281"/>
                      </a:lnTo>
                      <a:lnTo>
                        <a:pt x="1113" y="272"/>
                      </a:lnTo>
                      <a:lnTo>
                        <a:pt x="1126" y="262"/>
                      </a:lnTo>
                      <a:lnTo>
                        <a:pt x="1137" y="251"/>
                      </a:lnTo>
                      <a:lnTo>
                        <a:pt x="1147" y="237"/>
                      </a:lnTo>
                      <a:lnTo>
                        <a:pt x="1154" y="223"/>
                      </a:lnTo>
                      <a:lnTo>
                        <a:pt x="1159" y="207"/>
                      </a:lnTo>
                      <a:lnTo>
                        <a:pt x="1163" y="189"/>
                      </a:lnTo>
                      <a:lnTo>
                        <a:pt x="1164" y="158"/>
                      </a:lnTo>
                      <a:lnTo>
                        <a:pt x="1158" y="125"/>
                      </a:lnTo>
                      <a:lnTo>
                        <a:pt x="1148" y="93"/>
                      </a:lnTo>
                      <a:lnTo>
                        <a:pt x="1131" y="64"/>
                      </a:lnTo>
                      <a:lnTo>
                        <a:pt x="1108" y="39"/>
                      </a:lnTo>
                      <a:lnTo>
                        <a:pt x="1079" y="18"/>
                      </a:lnTo>
                      <a:lnTo>
                        <a:pt x="1043" y="4"/>
                      </a:lnTo>
                      <a:lnTo>
                        <a:pt x="1002" y="0"/>
                      </a:lnTo>
                      <a:lnTo>
                        <a:pt x="974" y="3"/>
                      </a:lnTo>
                      <a:lnTo>
                        <a:pt x="951" y="15"/>
                      </a:lnTo>
                      <a:lnTo>
                        <a:pt x="931" y="31"/>
                      </a:lnTo>
                      <a:lnTo>
                        <a:pt x="916" y="49"/>
                      </a:lnTo>
                      <a:lnTo>
                        <a:pt x="906" y="68"/>
                      </a:lnTo>
                      <a:lnTo>
                        <a:pt x="898" y="83"/>
                      </a:lnTo>
                      <a:lnTo>
                        <a:pt x="893" y="94"/>
                      </a:lnTo>
                      <a:lnTo>
                        <a:pt x="892" y="99"/>
                      </a:lnTo>
                      <a:lnTo>
                        <a:pt x="897" y="97"/>
                      </a:lnTo>
                      <a:lnTo>
                        <a:pt x="908" y="92"/>
                      </a:lnTo>
                      <a:lnTo>
                        <a:pt x="926" y="85"/>
                      </a:lnTo>
                      <a:lnTo>
                        <a:pt x="947" y="78"/>
                      </a:lnTo>
                      <a:lnTo>
                        <a:pt x="970" y="72"/>
                      </a:lnTo>
                      <a:lnTo>
                        <a:pt x="994" y="71"/>
                      </a:lnTo>
                      <a:lnTo>
                        <a:pt x="1015" y="74"/>
                      </a:lnTo>
                      <a:lnTo>
                        <a:pt x="1033" y="82"/>
                      </a:lnTo>
                      <a:lnTo>
                        <a:pt x="1048" y="95"/>
                      </a:lnTo>
                      <a:lnTo>
                        <a:pt x="1061" y="112"/>
                      </a:lnTo>
                      <a:lnTo>
                        <a:pt x="1073" y="130"/>
                      </a:lnTo>
                      <a:lnTo>
                        <a:pt x="1081" y="150"/>
                      </a:lnTo>
                      <a:lnTo>
                        <a:pt x="1087" y="168"/>
                      </a:lnTo>
                      <a:lnTo>
                        <a:pt x="1089" y="185"/>
                      </a:lnTo>
                      <a:lnTo>
                        <a:pt x="1086" y="200"/>
                      </a:lnTo>
                      <a:lnTo>
                        <a:pt x="1078" y="211"/>
                      </a:lnTo>
                      <a:lnTo>
                        <a:pt x="1055" y="227"/>
                      </a:lnTo>
                      <a:lnTo>
                        <a:pt x="1033" y="238"/>
                      </a:lnTo>
                      <a:lnTo>
                        <a:pt x="1012" y="246"/>
                      </a:lnTo>
                      <a:lnTo>
                        <a:pt x="992" y="254"/>
                      </a:lnTo>
                      <a:lnTo>
                        <a:pt x="972" y="264"/>
                      </a:lnTo>
                      <a:lnTo>
                        <a:pt x="950" y="273"/>
                      </a:lnTo>
                      <a:lnTo>
                        <a:pt x="928" y="287"/>
                      </a:lnTo>
                      <a:lnTo>
                        <a:pt x="904" y="305"/>
                      </a:lnTo>
                      <a:lnTo>
                        <a:pt x="893" y="317"/>
                      </a:lnTo>
                      <a:lnTo>
                        <a:pt x="876" y="334"/>
                      </a:lnTo>
                      <a:lnTo>
                        <a:pt x="855" y="359"/>
                      </a:lnTo>
                      <a:lnTo>
                        <a:pt x="831" y="389"/>
                      </a:lnTo>
                      <a:lnTo>
                        <a:pt x="802" y="423"/>
                      </a:lnTo>
                      <a:lnTo>
                        <a:pt x="772" y="459"/>
                      </a:lnTo>
                      <a:lnTo>
                        <a:pt x="740" y="499"/>
                      </a:lnTo>
                      <a:lnTo>
                        <a:pt x="707" y="539"/>
                      </a:lnTo>
                      <a:lnTo>
                        <a:pt x="673" y="579"/>
                      </a:lnTo>
                      <a:lnTo>
                        <a:pt x="640" y="618"/>
                      </a:lnTo>
                      <a:lnTo>
                        <a:pt x="609" y="655"/>
                      </a:lnTo>
                      <a:lnTo>
                        <a:pt x="579" y="689"/>
                      </a:lnTo>
                      <a:lnTo>
                        <a:pt x="552" y="719"/>
                      </a:lnTo>
                      <a:lnTo>
                        <a:pt x="528" y="742"/>
                      </a:lnTo>
                      <a:lnTo>
                        <a:pt x="509" y="759"/>
                      </a:lnTo>
                      <a:lnTo>
                        <a:pt x="495" y="769"/>
                      </a:lnTo>
                      <a:lnTo>
                        <a:pt x="472" y="780"/>
                      </a:lnTo>
                      <a:lnTo>
                        <a:pt x="451" y="789"/>
                      </a:lnTo>
                      <a:lnTo>
                        <a:pt x="432" y="795"/>
                      </a:lnTo>
                      <a:lnTo>
                        <a:pt x="413" y="799"/>
                      </a:lnTo>
                      <a:lnTo>
                        <a:pt x="397" y="801"/>
                      </a:lnTo>
                      <a:lnTo>
                        <a:pt x="381" y="803"/>
                      </a:lnTo>
                      <a:lnTo>
                        <a:pt x="367" y="801"/>
                      </a:lnTo>
                      <a:lnTo>
                        <a:pt x="353" y="800"/>
                      </a:lnTo>
                      <a:lnTo>
                        <a:pt x="342" y="797"/>
                      </a:lnTo>
                      <a:lnTo>
                        <a:pt x="329" y="793"/>
                      </a:lnTo>
                      <a:lnTo>
                        <a:pt x="319" y="789"/>
                      </a:lnTo>
                      <a:lnTo>
                        <a:pt x="307" y="784"/>
                      </a:lnTo>
                      <a:lnTo>
                        <a:pt x="297" y="778"/>
                      </a:lnTo>
                      <a:lnTo>
                        <a:pt x="286" y="773"/>
                      </a:lnTo>
                      <a:lnTo>
                        <a:pt x="277" y="767"/>
                      </a:lnTo>
                      <a:lnTo>
                        <a:pt x="267" y="762"/>
                      </a:lnTo>
                      <a:lnTo>
                        <a:pt x="254" y="757"/>
                      </a:lnTo>
                      <a:lnTo>
                        <a:pt x="239" y="750"/>
                      </a:lnTo>
                      <a:lnTo>
                        <a:pt x="221" y="742"/>
                      </a:lnTo>
                      <a:lnTo>
                        <a:pt x="201" y="733"/>
                      </a:lnTo>
                      <a:lnTo>
                        <a:pt x="180" y="725"/>
                      </a:lnTo>
                      <a:lnTo>
                        <a:pt x="159" y="717"/>
                      </a:lnTo>
                      <a:lnTo>
                        <a:pt x="136" y="708"/>
                      </a:lnTo>
                      <a:lnTo>
                        <a:pt x="114" y="700"/>
                      </a:lnTo>
                      <a:lnTo>
                        <a:pt x="93" y="692"/>
                      </a:lnTo>
                      <a:lnTo>
                        <a:pt x="72" y="684"/>
                      </a:lnTo>
                      <a:lnTo>
                        <a:pt x="54" y="677"/>
                      </a:lnTo>
                      <a:lnTo>
                        <a:pt x="38" y="671"/>
                      </a:lnTo>
                      <a:lnTo>
                        <a:pt x="25" y="666"/>
                      </a:lnTo>
                      <a:lnTo>
                        <a:pt x="15" y="662"/>
                      </a:lnTo>
                      <a:lnTo>
                        <a:pt x="8" y="660"/>
                      </a:lnTo>
                      <a:lnTo>
                        <a:pt x="5" y="659"/>
                      </a:lnTo>
                      <a:lnTo>
                        <a:pt x="0" y="7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903600" y="5391720"/>
                  <a:ext cx="186480" cy="82440"/>
                </a:xfrm>
                <a:custGeom>
                  <a:avLst/>
                  <a:gdLst/>
                  <a:ahLst/>
                  <a:rect l="l" t="t" r="r" b="b"/>
                  <a:pathLst>
                    <a:path w="350" h="163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5" y="2"/>
                      </a:lnTo>
                      <a:lnTo>
                        <a:pt x="10" y="2"/>
                      </a:lnTo>
                      <a:lnTo>
                        <a:pt x="16" y="1"/>
                      </a:lnTo>
                      <a:lnTo>
                        <a:pt x="23" y="0"/>
                      </a:lnTo>
                      <a:lnTo>
                        <a:pt x="32" y="0"/>
                      </a:lnTo>
                      <a:lnTo>
                        <a:pt x="42" y="0"/>
                      </a:lnTo>
                      <a:lnTo>
                        <a:pt x="54" y="1"/>
                      </a:lnTo>
                      <a:lnTo>
                        <a:pt x="67" y="3"/>
                      </a:lnTo>
                      <a:lnTo>
                        <a:pt x="84" y="5"/>
                      </a:lnTo>
                      <a:lnTo>
                        <a:pt x="101" y="10"/>
                      </a:lnTo>
                      <a:lnTo>
                        <a:pt x="119" y="15"/>
                      </a:lnTo>
                      <a:lnTo>
                        <a:pt x="141" y="22"/>
                      </a:lnTo>
                      <a:lnTo>
                        <a:pt x="163" y="31"/>
                      </a:lnTo>
                      <a:lnTo>
                        <a:pt x="188" y="41"/>
                      </a:lnTo>
                      <a:lnTo>
                        <a:pt x="232" y="63"/>
                      </a:lnTo>
                      <a:lnTo>
                        <a:pt x="268" y="85"/>
                      </a:lnTo>
                      <a:lnTo>
                        <a:pt x="297" y="106"/>
                      </a:lnTo>
                      <a:lnTo>
                        <a:pt x="317" y="124"/>
                      </a:lnTo>
                      <a:lnTo>
                        <a:pt x="332" y="140"/>
                      </a:lnTo>
                      <a:lnTo>
                        <a:pt x="343" y="152"/>
                      </a:lnTo>
                      <a:lnTo>
                        <a:pt x="348" y="160"/>
                      </a:lnTo>
                      <a:lnTo>
                        <a:pt x="350" y="163"/>
                      </a:lnTo>
                      <a:lnTo>
                        <a:pt x="347" y="162"/>
                      </a:lnTo>
                      <a:lnTo>
                        <a:pt x="343" y="160"/>
                      </a:lnTo>
                      <a:lnTo>
                        <a:pt x="335" y="155"/>
                      </a:lnTo>
                      <a:lnTo>
                        <a:pt x="325" y="149"/>
                      </a:lnTo>
                      <a:lnTo>
                        <a:pt x="313" y="142"/>
                      </a:lnTo>
                      <a:lnTo>
                        <a:pt x="299" y="134"/>
                      </a:lnTo>
                      <a:lnTo>
                        <a:pt x="284" y="126"/>
                      </a:lnTo>
                      <a:lnTo>
                        <a:pt x="268" y="117"/>
                      </a:lnTo>
                      <a:lnTo>
                        <a:pt x="251" y="108"/>
                      </a:lnTo>
                      <a:lnTo>
                        <a:pt x="234" y="99"/>
                      </a:lnTo>
                      <a:lnTo>
                        <a:pt x="218" y="90"/>
                      </a:lnTo>
                      <a:lnTo>
                        <a:pt x="203" y="81"/>
                      </a:lnTo>
                      <a:lnTo>
                        <a:pt x="188" y="73"/>
                      </a:lnTo>
                      <a:lnTo>
                        <a:pt x="176" y="68"/>
                      </a:lnTo>
                      <a:lnTo>
                        <a:pt x="164" y="62"/>
                      </a:lnTo>
                      <a:lnTo>
                        <a:pt x="156" y="57"/>
                      </a:lnTo>
                      <a:lnTo>
                        <a:pt x="138" y="49"/>
                      </a:lnTo>
                      <a:lnTo>
                        <a:pt x="115" y="41"/>
                      </a:lnTo>
                      <a:lnTo>
                        <a:pt x="88" y="32"/>
                      </a:lnTo>
                      <a:lnTo>
                        <a:pt x="63" y="24"/>
                      </a:lnTo>
                      <a:lnTo>
                        <a:pt x="39" y="16"/>
                      </a:lnTo>
                      <a:lnTo>
                        <a:pt x="18" y="10"/>
                      </a:lnTo>
                      <a:lnTo>
                        <a:pt x="4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025280" y="5468400"/>
                  <a:ext cx="61920" cy="138960"/>
                </a:xfrm>
                <a:custGeom>
                  <a:avLst/>
                  <a:gdLst/>
                  <a:ahLst/>
                  <a:rect l="l" t="t" r="r" b="b"/>
                  <a:pathLst>
                    <a:path w="115" h="276">
                      <a:moveTo>
                        <a:pt x="115" y="0"/>
                      </a:moveTo>
                      <a:lnTo>
                        <a:pt x="114" y="1"/>
                      </a:lnTo>
                      <a:lnTo>
                        <a:pt x="110" y="5"/>
                      </a:lnTo>
                      <a:lnTo>
                        <a:pt x="104" y="11"/>
                      </a:lnTo>
                      <a:lnTo>
                        <a:pt x="97" y="20"/>
                      </a:lnTo>
                      <a:lnTo>
                        <a:pt x="89" y="32"/>
                      </a:lnTo>
                      <a:lnTo>
                        <a:pt x="81" y="46"/>
                      </a:lnTo>
                      <a:lnTo>
                        <a:pt x="74" y="61"/>
                      </a:lnTo>
                      <a:lnTo>
                        <a:pt x="67" y="79"/>
                      </a:lnTo>
                      <a:lnTo>
                        <a:pt x="56" y="131"/>
                      </a:lnTo>
                      <a:lnTo>
                        <a:pt x="47" y="196"/>
                      </a:lnTo>
                      <a:lnTo>
                        <a:pt x="42" y="252"/>
                      </a:lnTo>
                      <a:lnTo>
                        <a:pt x="40" y="276"/>
                      </a:lnTo>
                      <a:lnTo>
                        <a:pt x="38" y="270"/>
                      </a:lnTo>
                      <a:lnTo>
                        <a:pt x="32" y="256"/>
                      </a:lnTo>
                      <a:lnTo>
                        <a:pt x="24" y="234"/>
                      </a:lnTo>
                      <a:lnTo>
                        <a:pt x="15" y="207"/>
                      </a:lnTo>
                      <a:lnTo>
                        <a:pt x="6" y="176"/>
                      </a:lnTo>
                      <a:lnTo>
                        <a:pt x="2" y="142"/>
                      </a:lnTo>
                      <a:lnTo>
                        <a:pt x="0" y="108"/>
                      </a:lnTo>
                      <a:lnTo>
                        <a:pt x="4" y="76"/>
                      </a:lnTo>
                      <a:lnTo>
                        <a:pt x="16" y="48"/>
                      </a:lnTo>
                      <a:lnTo>
                        <a:pt x="31" y="27"/>
                      </a:lnTo>
                      <a:lnTo>
                        <a:pt x="49" y="13"/>
                      </a:lnTo>
                      <a:lnTo>
                        <a:pt x="67" y="5"/>
                      </a:lnTo>
                      <a:lnTo>
                        <a:pt x="86" y="1"/>
                      </a:lnTo>
                      <a:lnTo>
                        <a:pt x="101" y="0"/>
                      </a:lnTo>
                      <a:lnTo>
                        <a:pt x="111" y="0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107360" y="5320800"/>
                  <a:ext cx="154800" cy="129240"/>
                </a:xfrm>
                <a:custGeom>
                  <a:avLst/>
                  <a:gdLst/>
                  <a:ahLst/>
                  <a:rect l="l" t="t" r="r" b="b"/>
                  <a:pathLst>
                    <a:path w="290" h="257">
                      <a:moveTo>
                        <a:pt x="275" y="191"/>
                      </a:moveTo>
                      <a:lnTo>
                        <a:pt x="277" y="185"/>
                      </a:lnTo>
                      <a:lnTo>
                        <a:pt x="283" y="169"/>
                      </a:lnTo>
                      <a:lnTo>
                        <a:pt x="288" y="146"/>
                      </a:lnTo>
                      <a:lnTo>
                        <a:pt x="290" y="119"/>
                      </a:lnTo>
                      <a:lnTo>
                        <a:pt x="285" y="89"/>
                      </a:lnTo>
                      <a:lnTo>
                        <a:pt x="271" y="60"/>
                      </a:lnTo>
                      <a:lnTo>
                        <a:pt x="246" y="35"/>
                      </a:lnTo>
                      <a:lnTo>
                        <a:pt x="206" y="15"/>
                      </a:lnTo>
                      <a:lnTo>
                        <a:pt x="187" y="10"/>
                      </a:lnTo>
                      <a:lnTo>
                        <a:pt x="170" y="6"/>
                      </a:lnTo>
                      <a:lnTo>
                        <a:pt x="154" y="2"/>
                      </a:lnTo>
                      <a:lnTo>
                        <a:pt x="138" y="1"/>
                      </a:lnTo>
                      <a:lnTo>
                        <a:pt x="123" y="0"/>
                      </a:lnTo>
                      <a:lnTo>
                        <a:pt x="109" y="1"/>
                      </a:lnTo>
                      <a:lnTo>
                        <a:pt x="95" y="2"/>
                      </a:lnTo>
                      <a:lnTo>
                        <a:pt x="83" y="6"/>
                      </a:lnTo>
                      <a:lnTo>
                        <a:pt x="71" y="10"/>
                      </a:lnTo>
                      <a:lnTo>
                        <a:pt x="60" y="16"/>
                      </a:lnTo>
                      <a:lnTo>
                        <a:pt x="49" y="24"/>
                      </a:lnTo>
                      <a:lnTo>
                        <a:pt x="40" y="32"/>
                      </a:lnTo>
                      <a:lnTo>
                        <a:pt x="31" y="43"/>
                      </a:lnTo>
                      <a:lnTo>
                        <a:pt x="22" y="55"/>
                      </a:lnTo>
                      <a:lnTo>
                        <a:pt x="14" y="69"/>
                      </a:lnTo>
                      <a:lnTo>
                        <a:pt x="7" y="84"/>
                      </a:lnTo>
                      <a:lnTo>
                        <a:pt x="0" y="112"/>
                      </a:lnTo>
                      <a:lnTo>
                        <a:pt x="1" y="142"/>
                      </a:lnTo>
                      <a:lnTo>
                        <a:pt x="8" y="170"/>
                      </a:lnTo>
                      <a:lnTo>
                        <a:pt x="18" y="197"/>
                      </a:lnTo>
                      <a:lnTo>
                        <a:pt x="31" y="221"/>
                      </a:lnTo>
                      <a:lnTo>
                        <a:pt x="42" y="240"/>
                      </a:lnTo>
                      <a:lnTo>
                        <a:pt x="50" y="252"/>
                      </a:lnTo>
                      <a:lnTo>
                        <a:pt x="54" y="257"/>
                      </a:lnTo>
                      <a:lnTo>
                        <a:pt x="53" y="251"/>
                      </a:lnTo>
                      <a:lnTo>
                        <a:pt x="50" y="235"/>
                      </a:lnTo>
                      <a:lnTo>
                        <a:pt x="48" y="212"/>
                      </a:lnTo>
                      <a:lnTo>
                        <a:pt x="47" y="184"/>
                      </a:lnTo>
                      <a:lnTo>
                        <a:pt x="47" y="155"/>
                      </a:lnTo>
                      <a:lnTo>
                        <a:pt x="50" y="129"/>
                      </a:lnTo>
                      <a:lnTo>
                        <a:pt x="57" y="106"/>
                      </a:lnTo>
                      <a:lnTo>
                        <a:pt x="70" y="92"/>
                      </a:lnTo>
                      <a:lnTo>
                        <a:pt x="90" y="82"/>
                      </a:lnTo>
                      <a:lnTo>
                        <a:pt x="111" y="74"/>
                      </a:lnTo>
                      <a:lnTo>
                        <a:pt x="133" y="69"/>
                      </a:lnTo>
                      <a:lnTo>
                        <a:pt x="155" y="68"/>
                      </a:lnTo>
                      <a:lnTo>
                        <a:pt x="175" y="69"/>
                      </a:lnTo>
                      <a:lnTo>
                        <a:pt x="193" y="73"/>
                      </a:lnTo>
                      <a:lnTo>
                        <a:pt x="209" y="79"/>
                      </a:lnTo>
                      <a:lnTo>
                        <a:pt x="222" y="89"/>
                      </a:lnTo>
                      <a:lnTo>
                        <a:pt x="232" y="101"/>
                      </a:lnTo>
                      <a:lnTo>
                        <a:pt x="242" y="116"/>
                      </a:lnTo>
                      <a:lnTo>
                        <a:pt x="251" y="134"/>
                      </a:lnTo>
                      <a:lnTo>
                        <a:pt x="259" y="151"/>
                      </a:lnTo>
                      <a:lnTo>
                        <a:pt x="266" y="166"/>
                      </a:lnTo>
                      <a:lnTo>
                        <a:pt x="270" y="180"/>
                      </a:lnTo>
                      <a:lnTo>
                        <a:pt x="274" y="188"/>
                      </a:lnTo>
                      <a:lnTo>
                        <a:pt x="275" y="1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96600" y="4892760"/>
                  <a:ext cx="482040" cy="465480"/>
                </a:xfrm>
                <a:custGeom>
                  <a:avLst/>
                  <a:gdLst/>
                  <a:ahLst/>
                  <a:rect l="l" t="t" r="r" b="b"/>
                  <a:pathLst>
                    <a:path w="904" h="923">
                      <a:moveTo>
                        <a:pt x="904" y="891"/>
                      </a:moveTo>
                      <a:lnTo>
                        <a:pt x="899" y="881"/>
                      </a:lnTo>
                      <a:lnTo>
                        <a:pt x="880" y="855"/>
                      </a:lnTo>
                      <a:lnTo>
                        <a:pt x="854" y="813"/>
                      </a:lnTo>
                      <a:lnTo>
                        <a:pt x="817" y="759"/>
                      </a:lnTo>
                      <a:lnTo>
                        <a:pt x="773" y="695"/>
                      </a:lnTo>
                      <a:lnTo>
                        <a:pt x="725" y="622"/>
                      </a:lnTo>
                      <a:lnTo>
                        <a:pt x="671" y="545"/>
                      </a:lnTo>
                      <a:lnTo>
                        <a:pt x="614" y="466"/>
                      </a:lnTo>
                      <a:lnTo>
                        <a:pt x="554" y="384"/>
                      </a:lnTo>
                      <a:lnTo>
                        <a:pt x="495" y="306"/>
                      </a:lnTo>
                      <a:lnTo>
                        <a:pt x="438" y="231"/>
                      </a:lnTo>
                      <a:lnTo>
                        <a:pt x="381" y="163"/>
                      </a:lnTo>
                      <a:lnTo>
                        <a:pt x="330" y="103"/>
                      </a:lnTo>
                      <a:lnTo>
                        <a:pt x="282" y="54"/>
                      </a:lnTo>
                      <a:lnTo>
                        <a:pt x="242" y="21"/>
                      </a:lnTo>
                      <a:lnTo>
                        <a:pt x="209" y="3"/>
                      </a:lnTo>
                      <a:lnTo>
                        <a:pt x="191" y="0"/>
                      </a:lnTo>
                      <a:lnTo>
                        <a:pt x="173" y="1"/>
                      </a:lnTo>
                      <a:lnTo>
                        <a:pt x="153" y="7"/>
                      </a:lnTo>
                      <a:lnTo>
                        <a:pt x="134" y="16"/>
                      </a:lnTo>
                      <a:lnTo>
                        <a:pt x="113" y="29"/>
                      </a:lnTo>
                      <a:lnTo>
                        <a:pt x="92" y="44"/>
                      </a:lnTo>
                      <a:lnTo>
                        <a:pt x="73" y="61"/>
                      </a:lnTo>
                      <a:lnTo>
                        <a:pt x="56" y="80"/>
                      </a:lnTo>
                      <a:lnTo>
                        <a:pt x="38" y="99"/>
                      </a:lnTo>
                      <a:lnTo>
                        <a:pt x="24" y="120"/>
                      </a:lnTo>
                      <a:lnTo>
                        <a:pt x="13" y="141"/>
                      </a:lnTo>
                      <a:lnTo>
                        <a:pt x="5" y="162"/>
                      </a:lnTo>
                      <a:lnTo>
                        <a:pt x="0" y="181"/>
                      </a:lnTo>
                      <a:lnTo>
                        <a:pt x="0" y="200"/>
                      </a:lnTo>
                      <a:lnTo>
                        <a:pt x="5" y="216"/>
                      </a:lnTo>
                      <a:lnTo>
                        <a:pt x="15" y="231"/>
                      </a:lnTo>
                      <a:lnTo>
                        <a:pt x="23" y="239"/>
                      </a:lnTo>
                      <a:lnTo>
                        <a:pt x="35" y="250"/>
                      </a:lnTo>
                      <a:lnTo>
                        <a:pt x="50" y="264"/>
                      </a:lnTo>
                      <a:lnTo>
                        <a:pt x="67" y="281"/>
                      </a:lnTo>
                      <a:lnTo>
                        <a:pt x="88" y="300"/>
                      </a:lnTo>
                      <a:lnTo>
                        <a:pt x="111" y="321"/>
                      </a:lnTo>
                      <a:lnTo>
                        <a:pt x="136" y="345"/>
                      </a:lnTo>
                      <a:lnTo>
                        <a:pt x="164" y="369"/>
                      </a:lnTo>
                      <a:lnTo>
                        <a:pt x="193" y="395"/>
                      </a:lnTo>
                      <a:lnTo>
                        <a:pt x="224" y="423"/>
                      </a:lnTo>
                      <a:lnTo>
                        <a:pt x="255" y="452"/>
                      </a:lnTo>
                      <a:lnTo>
                        <a:pt x="288" y="481"/>
                      </a:lnTo>
                      <a:lnTo>
                        <a:pt x="322" y="512"/>
                      </a:lnTo>
                      <a:lnTo>
                        <a:pt x="356" y="542"/>
                      </a:lnTo>
                      <a:lnTo>
                        <a:pt x="391" y="573"/>
                      </a:lnTo>
                      <a:lnTo>
                        <a:pt x="425" y="604"/>
                      </a:lnTo>
                      <a:lnTo>
                        <a:pt x="460" y="634"/>
                      </a:lnTo>
                      <a:lnTo>
                        <a:pt x="493" y="665"/>
                      </a:lnTo>
                      <a:lnTo>
                        <a:pt x="527" y="694"/>
                      </a:lnTo>
                      <a:lnTo>
                        <a:pt x="559" y="722"/>
                      </a:lnTo>
                      <a:lnTo>
                        <a:pt x="590" y="750"/>
                      </a:lnTo>
                      <a:lnTo>
                        <a:pt x="620" y="777"/>
                      </a:lnTo>
                      <a:lnTo>
                        <a:pt x="647" y="802"/>
                      </a:lnTo>
                      <a:lnTo>
                        <a:pt x="674" y="825"/>
                      </a:lnTo>
                      <a:lnTo>
                        <a:pt x="698" y="846"/>
                      </a:lnTo>
                      <a:lnTo>
                        <a:pt x="719" y="865"/>
                      </a:lnTo>
                      <a:lnTo>
                        <a:pt x="738" y="881"/>
                      </a:lnTo>
                      <a:lnTo>
                        <a:pt x="755" y="896"/>
                      </a:lnTo>
                      <a:lnTo>
                        <a:pt x="767" y="908"/>
                      </a:lnTo>
                      <a:lnTo>
                        <a:pt x="776" y="916"/>
                      </a:lnTo>
                      <a:lnTo>
                        <a:pt x="782" y="921"/>
                      </a:lnTo>
                      <a:lnTo>
                        <a:pt x="785" y="923"/>
                      </a:lnTo>
                      <a:lnTo>
                        <a:pt x="778" y="915"/>
                      </a:lnTo>
                      <a:lnTo>
                        <a:pt x="757" y="894"/>
                      </a:lnTo>
                      <a:lnTo>
                        <a:pt x="725" y="860"/>
                      </a:lnTo>
                      <a:lnTo>
                        <a:pt x="683" y="816"/>
                      </a:lnTo>
                      <a:lnTo>
                        <a:pt x="634" y="764"/>
                      </a:lnTo>
                      <a:lnTo>
                        <a:pt x="578" y="705"/>
                      </a:lnTo>
                      <a:lnTo>
                        <a:pt x="519" y="643"/>
                      </a:lnTo>
                      <a:lnTo>
                        <a:pt x="457" y="577"/>
                      </a:lnTo>
                      <a:lnTo>
                        <a:pt x="396" y="513"/>
                      </a:lnTo>
                      <a:lnTo>
                        <a:pt x="337" y="448"/>
                      </a:lnTo>
                      <a:lnTo>
                        <a:pt x="280" y="388"/>
                      </a:lnTo>
                      <a:lnTo>
                        <a:pt x="228" y="333"/>
                      </a:lnTo>
                      <a:lnTo>
                        <a:pt x="185" y="285"/>
                      </a:lnTo>
                      <a:lnTo>
                        <a:pt x="150" y="247"/>
                      </a:lnTo>
                      <a:lnTo>
                        <a:pt x="126" y="219"/>
                      </a:lnTo>
                      <a:lnTo>
                        <a:pt x="115" y="205"/>
                      </a:lnTo>
                      <a:lnTo>
                        <a:pt x="112" y="190"/>
                      </a:lnTo>
                      <a:lnTo>
                        <a:pt x="115" y="173"/>
                      </a:lnTo>
                      <a:lnTo>
                        <a:pt x="125" y="156"/>
                      </a:lnTo>
                      <a:lnTo>
                        <a:pt x="137" y="141"/>
                      </a:lnTo>
                      <a:lnTo>
                        <a:pt x="153" y="129"/>
                      </a:lnTo>
                      <a:lnTo>
                        <a:pt x="170" y="121"/>
                      </a:lnTo>
                      <a:lnTo>
                        <a:pt x="187" y="120"/>
                      </a:lnTo>
                      <a:lnTo>
                        <a:pt x="201" y="126"/>
                      </a:lnTo>
                      <a:lnTo>
                        <a:pt x="213" y="140"/>
                      </a:lnTo>
                      <a:lnTo>
                        <a:pt x="240" y="167"/>
                      </a:lnTo>
                      <a:lnTo>
                        <a:pt x="278" y="208"/>
                      </a:lnTo>
                      <a:lnTo>
                        <a:pt x="324" y="257"/>
                      </a:lnTo>
                      <a:lnTo>
                        <a:pt x="378" y="316"/>
                      </a:lnTo>
                      <a:lnTo>
                        <a:pt x="438" y="380"/>
                      </a:lnTo>
                      <a:lnTo>
                        <a:pt x="500" y="448"/>
                      </a:lnTo>
                      <a:lnTo>
                        <a:pt x="565" y="519"/>
                      </a:lnTo>
                      <a:lnTo>
                        <a:pt x="629" y="589"/>
                      </a:lnTo>
                      <a:lnTo>
                        <a:pt x="690" y="656"/>
                      </a:lnTo>
                      <a:lnTo>
                        <a:pt x="748" y="719"/>
                      </a:lnTo>
                      <a:lnTo>
                        <a:pt x="798" y="775"/>
                      </a:lnTo>
                      <a:lnTo>
                        <a:pt x="842" y="823"/>
                      </a:lnTo>
                      <a:lnTo>
                        <a:pt x="876" y="858"/>
                      </a:lnTo>
                      <a:lnTo>
                        <a:pt x="896" y="883"/>
                      </a:lnTo>
                      <a:lnTo>
                        <a:pt x="904" y="8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52720" y="5559480"/>
                  <a:ext cx="184320" cy="172440"/>
                </a:xfrm>
                <a:custGeom>
                  <a:avLst/>
                  <a:gdLst/>
                  <a:ahLst/>
                  <a:rect l="l" t="t" r="r" b="b"/>
                  <a:pathLst>
                    <a:path w="346" h="343">
                      <a:moveTo>
                        <a:pt x="211" y="266"/>
                      </a:moveTo>
                      <a:lnTo>
                        <a:pt x="182" y="263"/>
                      </a:lnTo>
                      <a:lnTo>
                        <a:pt x="154" y="255"/>
                      </a:lnTo>
                      <a:lnTo>
                        <a:pt x="130" y="242"/>
                      </a:lnTo>
                      <a:lnTo>
                        <a:pt x="109" y="224"/>
                      </a:lnTo>
                      <a:lnTo>
                        <a:pt x="91" y="203"/>
                      </a:lnTo>
                      <a:lnTo>
                        <a:pt x="78" y="179"/>
                      </a:lnTo>
                      <a:lnTo>
                        <a:pt x="70" y="152"/>
                      </a:lnTo>
                      <a:lnTo>
                        <a:pt x="67" y="123"/>
                      </a:lnTo>
                      <a:lnTo>
                        <a:pt x="68" y="104"/>
                      </a:lnTo>
                      <a:lnTo>
                        <a:pt x="71" y="85"/>
                      </a:lnTo>
                      <a:lnTo>
                        <a:pt x="78" y="67"/>
                      </a:lnTo>
                      <a:lnTo>
                        <a:pt x="86" y="51"/>
                      </a:lnTo>
                      <a:lnTo>
                        <a:pt x="97" y="36"/>
                      </a:lnTo>
                      <a:lnTo>
                        <a:pt x="109" y="22"/>
                      </a:lnTo>
                      <a:lnTo>
                        <a:pt x="123" y="11"/>
                      </a:lnTo>
                      <a:lnTo>
                        <a:pt x="138" y="0"/>
                      </a:lnTo>
                      <a:lnTo>
                        <a:pt x="109" y="8"/>
                      </a:lnTo>
                      <a:lnTo>
                        <a:pt x="83" y="22"/>
                      </a:lnTo>
                      <a:lnTo>
                        <a:pt x="60" y="38"/>
                      </a:lnTo>
                      <a:lnTo>
                        <a:pt x="39" y="59"/>
                      </a:lnTo>
                      <a:lnTo>
                        <a:pt x="23" y="83"/>
                      </a:lnTo>
                      <a:lnTo>
                        <a:pt x="10" y="110"/>
                      </a:lnTo>
                      <a:lnTo>
                        <a:pt x="2" y="138"/>
                      </a:lnTo>
                      <a:lnTo>
                        <a:pt x="0" y="170"/>
                      </a:lnTo>
                      <a:lnTo>
                        <a:pt x="3" y="204"/>
                      </a:lnTo>
                      <a:lnTo>
                        <a:pt x="14" y="237"/>
                      </a:lnTo>
                      <a:lnTo>
                        <a:pt x="30" y="266"/>
                      </a:lnTo>
                      <a:lnTo>
                        <a:pt x="50" y="293"/>
                      </a:lnTo>
                      <a:lnTo>
                        <a:pt x="76" y="313"/>
                      </a:lnTo>
                      <a:lnTo>
                        <a:pt x="106" y="330"/>
                      </a:lnTo>
                      <a:lnTo>
                        <a:pt x="138" y="340"/>
                      </a:lnTo>
                      <a:lnTo>
                        <a:pt x="173" y="343"/>
                      </a:lnTo>
                      <a:lnTo>
                        <a:pt x="207" y="340"/>
                      </a:lnTo>
                      <a:lnTo>
                        <a:pt x="241" y="330"/>
                      </a:lnTo>
                      <a:lnTo>
                        <a:pt x="269" y="313"/>
                      </a:lnTo>
                      <a:lnTo>
                        <a:pt x="296" y="293"/>
                      </a:lnTo>
                      <a:lnTo>
                        <a:pt x="317" y="266"/>
                      </a:lnTo>
                      <a:lnTo>
                        <a:pt x="333" y="237"/>
                      </a:lnTo>
                      <a:lnTo>
                        <a:pt x="343" y="204"/>
                      </a:lnTo>
                      <a:lnTo>
                        <a:pt x="346" y="170"/>
                      </a:lnTo>
                      <a:lnTo>
                        <a:pt x="346" y="168"/>
                      </a:lnTo>
                      <a:lnTo>
                        <a:pt x="346" y="168"/>
                      </a:lnTo>
                      <a:lnTo>
                        <a:pt x="346" y="168"/>
                      </a:lnTo>
                      <a:lnTo>
                        <a:pt x="346" y="167"/>
                      </a:lnTo>
                      <a:lnTo>
                        <a:pt x="338" y="188"/>
                      </a:lnTo>
                      <a:lnTo>
                        <a:pt x="327" y="208"/>
                      </a:lnTo>
                      <a:lnTo>
                        <a:pt x="312" y="224"/>
                      </a:lnTo>
                      <a:lnTo>
                        <a:pt x="296" y="239"/>
                      </a:lnTo>
                      <a:lnTo>
                        <a:pt x="276" y="250"/>
                      </a:lnTo>
                      <a:lnTo>
                        <a:pt x="255" y="259"/>
                      </a:lnTo>
                      <a:lnTo>
                        <a:pt x="234" y="264"/>
                      </a:lnTo>
                      <a:lnTo>
                        <a:pt x="211" y="2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11f7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1f7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11f75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11f75"/>
              </a:buClr>
              <a:buFont typeface="Wingdings 2" charset="2"/>
              <a:buChar char="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1f7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11f75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11f7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1f7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11f75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11f7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1f7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11f7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audio" Target="../media/voltage.wav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33360" y="1066320"/>
            <a:ext cx="6476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ree Years and Grow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2095560" y="52700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lthy Fo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the Athlete in Yo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01320" y="6377040"/>
            <a:ext cx="494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1f75"/>
                </a:solidFill>
                <a:latin typeface="Arial"/>
              </a:rPr>
              <a:t>Presented by Roy Olafsen, Marketing Manager</a:t>
            </a:r>
            <a:endParaRPr b="0" lang="en-US" sz="1800" spc="-1" strike="noStrike">
              <a:solidFill>
                <a:srgbClr val="311f75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335320" y="3354480"/>
            <a:ext cx="4298400" cy="1734840"/>
            <a:chOff x="2335320" y="3354480"/>
            <a:chExt cx="4298400" cy="1734840"/>
          </a:xfrm>
        </p:grpSpPr>
        <p:sp>
          <p:nvSpPr>
            <p:cNvPr id="208" name=""/>
            <p:cNvSpPr txBox="1"/>
            <p:nvPr/>
          </p:nvSpPr>
          <p:spPr>
            <a:xfrm>
              <a:off x="5436000" y="4014720"/>
              <a:ext cx="1197720" cy="107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4379040" y="3630240"/>
              <a:ext cx="1549800" cy="1459080"/>
              <a:chOff x="4379040" y="3630240"/>
              <a:chExt cx="1549800" cy="1459080"/>
            </a:xfrm>
          </p:grpSpPr>
          <p:sp>
            <p:nvSpPr>
              <p:cNvPr id="210" name=""/>
              <p:cNvSpPr/>
              <p:nvPr/>
            </p:nvSpPr>
            <p:spPr>
              <a:xfrm>
                <a:off x="4379040" y="3630240"/>
                <a:ext cx="1549800" cy="145908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11f75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814280" y="3787560"/>
                <a:ext cx="717480" cy="81288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11f75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 txBox="1"/>
            <p:nvPr/>
          </p:nvSpPr>
          <p:spPr>
            <a:xfrm>
              <a:off x="2335320" y="3354480"/>
              <a:ext cx="2889360" cy="103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217600" y="6362640"/>
            <a:ext cx="6537600" cy="0"/>
          </a:xfrm>
          <a:prstGeom prst="line">
            <a:avLst/>
          </a:prstGeom>
          <a:ln w="9360">
            <a:solidFill>
              <a:srgbClr val="311f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11f75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11f75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ound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1f75"/>
                </a:solidFill>
                <a:latin typeface="Arial"/>
              </a:rPr>
              <a:t>Gus Irvinelli, </a:t>
            </a: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an avid tennis player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1f75"/>
                </a:solidFill>
                <a:latin typeface="Arial"/>
              </a:rPr>
              <a:t>Julie Wolfe, </a:t>
            </a: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a well-known marathon runner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11f75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ir drea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Encourage people to enjoy healthy eating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Encourage participation in sports activities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2008080" y="1960560"/>
          <a:ext cx="6364440" cy="3719520"/>
        </p:xfrm>
        <a:graphic>
          <a:graphicData uri="http://schemas.openxmlformats.org/drawingml/2006/table">
            <a:tbl>
              <a:tblPr/>
              <a:tblGrid>
                <a:gridCol w="1933560"/>
                <a:gridCol w="1476360"/>
                <a:gridCol w="1478160"/>
                <a:gridCol w="1476360"/>
              </a:tblGrid>
              <a:tr h="871560">
                <a:tc>
                  <a:txBody>
                    <a:bodyPr lIns="274320" rIns="45720" tIns="27432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311f75"/>
                          </a:solidFill>
                          <a:latin typeface="Arial"/>
                        </a:rPr>
                        <a:t>(thousands)</a:t>
                      </a:r>
                      <a:endParaRPr b="0" lang="en-US" sz="13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b" marL="274320" marR="4572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22860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Year 1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22860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22860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Year 2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22860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22860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Year 3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22860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228600" rIns="228600" tIns="228600" bIns="2286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Revenue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22860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32004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00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32004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32004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00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32004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32004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0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32004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228600" rIns="228600" tIns="228600" bIns="2286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d Budget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22860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32004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32004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32004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32004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32004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8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32004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228600" rIns="228600" tIns="228600" bIns="2286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Profit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22860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32004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00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32004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32004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32004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32004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32004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nancial Histo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ere We’re Go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73105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1f75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ami in 0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Our first expansion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Financial plans approved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11f75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Angeles in 0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Architect plans completed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Site plan applications in the works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11f75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ve restaurants by 0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Yes, our accountant and banker say we can!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ime to Expan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1f75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go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Revenue growth of 300%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Five locations by the year 2007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11f75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Chef Michele Jenkins is busy creating new culinary treats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Marketing Manager Roy Olafsen is researching new locations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rojected Revenue Growt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206800" y="4237200"/>
            <a:ext cx="603000" cy="1330200"/>
            <a:chOff x="2206800" y="4237200"/>
            <a:chExt cx="603000" cy="1330200"/>
          </a:xfrm>
        </p:grpSpPr>
        <p:pic>
          <p:nvPicPr>
            <p:cNvPr id="224" name="" descr=""/>
            <p:cNvPicPr/>
            <p:nvPr/>
          </p:nvPicPr>
          <p:blipFill>
            <a:blip r:embed="rId1">
              <a:lum contrast="-12000"/>
            </a:blip>
            <a:srcRect l="22782" t="0" r="13316" b="0"/>
            <a:stretch/>
          </p:blipFill>
          <p:spPr>
            <a:xfrm>
              <a:off x="2206800" y="4240080"/>
              <a:ext cx="60300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2206800" y="4237200"/>
              <a:ext cx="603000" cy="1330200"/>
            </a:xfrm>
            <a:prstGeom prst="rect">
              <a:avLst/>
            </a:prstGeom>
            <a:solidFill>
              <a:srgbClr val="311f75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2027160" y="5622840"/>
            <a:ext cx="962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2004</a:t>
            </a:r>
            <a:endParaRPr b="0" lang="en-US" sz="2000" spc="-1" strike="noStrike">
              <a:solidFill>
                <a:srgbClr val="311f75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352680" y="3540240"/>
            <a:ext cx="925560" cy="2027160"/>
            <a:chOff x="3352680" y="3540240"/>
            <a:chExt cx="925560" cy="2027160"/>
          </a:xfrm>
        </p:grpSpPr>
        <p:pic>
          <p:nvPicPr>
            <p:cNvPr id="228" name="" descr=""/>
            <p:cNvPicPr/>
            <p:nvPr/>
          </p:nvPicPr>
          <p:blipFill>
            <a:blip r:embed="rId2">
              <a:lum contrast="-12000"/>
            </a:blip>
            <a:srcRect l="22782" t="0" r="13316" b="0"/>
            <a:stretch/>
          </p:blipFill>
          <p:spPr>
            <a:xfrm>
              <a:off x="3354480" y="3540240"/>
              <a:ext cx="923760" cy="20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3352680" y="3565440"/>
              <a:ext cx="924120" cy="1976400"/>
            </a:xfrm>
            <a:prstGeom prst="rect">
              <a:avLst/>
            </a:prstGeom>
            <a:solidFill>
              <a:srgbClr val="ff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265560" y="5622840"/>
            <a:ext cx="113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2005</a:t>
            </a:r>
            <a:endParaRPr b="0" lang="en-US" sz="2000" spc="-1" strike="noStrike">
              <a:solidFill>
                <a:srgbClr val="311f75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780080" y="2908440"/>
            <a:ext cx="1207800" cy="2658960"/>
            <a:chOff x="4780080" y="2908440"/>
            <a:chExt cx="1207800" cy="2658960"/>
          </a:xfrm>
        </p:grpSpPr>
        <p:pic>
          <p:nvPicPr>
            <p:cNvPr id="232" name="" descr=""/>
            <p:cNvPicPr/>
            <p:nvPr/>
          </p:nvPicPr>
          <p:blipFill>
            <a:blip r:embed="rId3">
              <a:lum contrast="-12000"/>
            </a:blip>
            <a:srcRect l="22782" t="0" r="13316" b="0"/>
            <a:stretch/>
          </p:blipFill>
          <p:spPr>
            <a:xfrm>
              <a:off x="4781520" y="2914560"/>
              <a:ext cx="120636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780080" y="2908440"/>
              <a:ext cx="1206360" cy="2658960"/>
            </a:xfrm>
            <a:prstGeom prst="rect">
              <a:avLst/>
            </a:prstGeom>
            <a:solidFill>
              <a:srgbClr val="3366cc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838760" y="5622840"/>
            <a:ext cx="1089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2006</a:t>
            </a:r>
            <a:endParaRPr b="0" lang="en-US" sz="2000" spc="-1" strike="noStrike">
              <a:solidFill>
                <a:srgbClr val="311f75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473880" y="1986120"/>
            <a:ext cx="1627200" cy="3581280"/>
            <a:chOff x="6473880" y="1986120"/>
            <a:chExt cx="1627200" cy="3581280"/>
          </a:xfrm>
        </p:grpSpPr>
        <p:pic>
          <p:nvPicPr>
            <p:cNvPr id="236" name="" descr=""/>
            <p:cNvPicPr/>
            <p:nvPr/>
          </p:nvPicPr>
          <p:blipFill>
            <a:blip r:embed="rId4">
              <a:lum contrast="-12000"/>
            </a:blip>
            <a:srcRect l="22782" t="0" r="13316" b="0"/>
            <a:stretch/>
          </p:blipFill>
          <p:spPr>
            <a:xfrm>
              <a:off x="6473880" y="1992240"/>
              <a:ext cx="1627200" cy="35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6473880" y="1986120"/>
              <a:ext cx="1627200" cy="3581280"/>
            </a:xfrm>
            <a:prstGeom prst="rect">
              <a:avLst/>
            </a:prstGeom>
            <a:solidFill>
              <a:srgbClr val="ff00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680160" y="5622840"/>
            <a:ext cx="1216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2007</a:t>
            </a:r>
            <a:endParaRPr b="0" lang="en-US" sz="2000" spc="-1" strike="noStrike">
              <a:solidFill>
                <a:srgbClr val="311f75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446480" y="1482840"/>
            <a:ext cx="6759360" cy="4242240"/>
            <a:chOff x="1446480" y="1482840"/>
            <a:chExt cx="6759360" cy="4242240"/>
          </a:xfrm>
        </p:grpSpPr>
        <p:sp>
          <p:nvSpPr>
            <p:cNvPr id="240" name=""/>
            <p:cNvSpPr/>
            <p:nvPr/>
          </p:nvSpPr>
          <p:spPr>
            <a:xfrm>
              <a:off x="2133720" y="1981080"/>
              <a:ext cx="6072120" cy="3579840"/>
            </a:xfrm>
            <a:custGeom>
              <a:avLst/>
              <a:gdLst/>
              <a:ahLst/>
              <a:rect l="l" t="t" r="r" b="b"/>
              <a:pathLst>
                <a:path w="3479" h="2255">
                  <a:moveTo>
                    <a:pt x="0" y="0"/>
                  </a:moveTo>
                  <a:lnTo>
                    <a:pt x="0" y="2254"/>
                  </a:lnTo>
                  <a:lnTo>
                    <a:pt x="3478" y="2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76480" y="5565600"/>
              <a:ext cx="69840" cy="0"/>
            </a:xfrm>
            <a:prstGeom prst="line">
              <a:avLst/>
            </a:prstGeom>
            <a:ln w="12600">
              <a:solidFill>
                <a:srgbClr val="311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76480" y="5119560"/>
              <a:ext cx="69840" cy="0"/>
            </a:xfrm>
            <a:prstGeom prst="line">
              <a:avLst/>
            </a:prstGeom>
            <a:ln w="12600">
              <a:solidFill>
                <a:srgbClr val="311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6480" y="4673520"/>
              <a:ext cx="69840" cy="0"/>
            </a:xfrm>
            <a:prstGeom prst="line">
              <a:avLst/>
            </a:prstGeom>
            <a:ln w="12600">
              <a:solidFill>
                <a:srgbClr val="311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76480" y="4227480"/>
              <a:ext cx="69840" cy="0"/>
            </a:xfrm>
            <a:prstGeom prst="line">
              <a:avLst/>
            </a:prstGeom>
            <a:ln w="12600">
              <a:solidFill>
                <a:srgbClr val="311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76480" y="3781440"/>
              <a:ext cx="69840" cy="0"/>
            </a:xfrm>
            <a:prstGeom prst="line">
              <a:avLst/>
            </a:prstGeom>
            <a:ln w="12600">
              <a:solidFill>
                <a:srgbClr val="311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76480" y="3335400"/>
              <a:ext cx="69840" cy="0"/>
            </a:xfrm>
            <a:prstGeom prst="line">
              <a:avLst/>
            </a:prstGeom>
            <a:ln w="12600">
              <a:solidFill>
                <a:srgbClr val="311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76480" y="2889360"/>
              <a:ext cx="69840" cy="0"/>
            </a:xfrm>
            <a:prstGeom prst="line">
              <a:avLst/>
            </a:prstGeom>
            <a:ln w="12600">
              <a:solidFill>
                <a:srgbClr val="311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76480" y="2443320"/>
              <a:ext cx="69840" cy="0"/>
            </a:xfrm>
            <a:prstGeom prst="line">
              <a:avLst/>
            </a:prstGeom>
            <a:ln w="12600">
              <a:solidFill>
                <a:srgbClr val="311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76480" y="1996920"/>
              <a:ext cx="69840" cy="0"/>
            </a:xfrm>
            <a:prstGeom prst="line">
              <a:avLst/>
            </a:prstGeom>
            <a:ln w="12600">
              <a:solidFill>
                <a:srgbClr val="311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37640" y="175572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16</a:t>
              </a:r>
              <a:endParaRPr b="0" lang="en-US" sz="20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37640" y="264960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12</a:t>
              </a:r>
              <a:endParaRPr b="0" lang="en-US" sz="20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08920" y="35402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8</a:t>
              </a:r>
              <a:endParaRPr b="0" lang="en-US" sz="20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08920" y="44337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4</a:t>
              </a:r>
              <a:endParaRPr b="0" lang="en-US" sz="20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08920" y="53276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0</a:t>
              </a:r>
              <a:endParaRPr b="0" lang="en-US" sz="20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46480" y="1482840"/>
              <a:ext cx="1204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11f75"/>
                  </a:solidFill>
                  <a:latin typeface="Arial"/>
                  <a:ea typeface="新細明體"/>
                </a:rPr>
                <a:t>(millions)</a:t>
              </a:r>
              <a:endParaRPr b="0" lang="en-US" sz="2000" spc="-1" strike="noStrike">
                <a:solidFill>
                  <a:srgbClr val="311f75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2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2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2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2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e’ve Come a Long Wa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23880" y="2209680"/>
            <a:ext cx="7010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1f75"/>
                </a:solidFill>
                <a:latin typeface="Arial"/>
              </a:rPr>
              <a:t>Steady revenue grow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1f75"/>
                </a:solidFill>
                <a:latin typeface="Arial"/>
              </a:rPr>
              <a:t>Innovative menu plan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1f75"/>
                </a:solidFill>
                <a:latin typeface="Arial"/>
              </a:rPr>
              <a:t>We know what our customers wa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30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30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30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1T15:57:32Z</dcterms:created>
  <dc:creator>Pat R. Graves</dc:creator>
  <dc:description/>
  <dc:language>en-US</dc:language>
  <cp:lastModifiedBy>Pat Graves</cp:lastModifiedBy>
  <dcterms:modified xsi:type="dcterms:W3CDTF">2004-02-08T21:50:02Z</dcterms:modified>
  <cp:revision>21</cp:revision>
  <dc:subject/>
  <dc:title>Three Years and Growing</dc:title>
</cp:coreProperties>
</file>