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051-4BCA-437C-9217-E395F9A1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D8B-765F-486F-8E8A-6E42A5D3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13D-D768-4F9F-A0C3-B7073BE6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5460-42CF-4E73-A01E-BAF5CA16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1FB5-3799-49E8-A293-A2A6476D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A4EA-54F5-4039-A5B7-270BAEDC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67D1-63C4-4289-874C-2B941401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2944-7819-4DE9-AC48-1DD888E1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57D7-89D2-4BDB-83A3-362D6D01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B5D8-D2BA-49FB-A0B4-0B90EE56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52E3-B89A-47C8-8D97-C1E2E938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A3E-2E9D-4717-97F3-90D917A9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B0A4-4504-47EF-A4B2-05AC9326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3ADA-2625-4F7C-B6AE-67F28C9E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BEF8-FF16-4C3C-8F79-1B0B217D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DB9F-B394-4F32-9DDC-6994DBDA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086F-E415-41CF-8B26-2F03496D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100A-B79F-41CD-AC93-6D294C2E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FCF-760E-4FAC-AE6F-333676C7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A651-FFAA-4774-B52A-D21064D2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4087-92C6-46CE-894E-3C4F0AB4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864-A9F4-4686-BDB2-D91FA87C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AB8-E11A-417C-B2D0-6889D8ED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330-4A89-4545-82EB-464FB3D0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4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5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9bb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F3EC-133D-47EA-B67B-E90362F4A19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56360" y="5913360"/>
            <a:ext cx="1805040" cy="706680"/>
            <a:chOff x="7056360" y="5913360"/>
            <a:chExt cx="1805040" cy="706680"/>
          </a:xfrm>
        </p:grpSpPr>
        <p:sp>
          <p:nvSpPr>
            <p:cNvPr id="45" name=""/>
            <p:cNvSpPr txBox="1"/>
            <p:nvPr/>
          </p:nvSpPr>
          <p:spPr>
            <a:xfrm>
              <a:off x="8358480" y="6182280"/>
              <a:ext cx="502920" cy="43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7914600" y="6025680"/>
              <a:ext cx="650880" cy="594360"/>
              <a:chOff x="7914600" y="6025680"/>
              <a:chExt cx="650880" cy="594360"/>
            </a:xfrm>
          </p:grpSpPr>
          <p:sp>
            <p:nvSpPr>
              <p:cNvPr id="47" name=""/>
              <p:cNvSpPr/>
              <p:nvPr/>
            </p:nvSpPr>
            <p:spPr>
              <a:xfrm>
                <a:off x="7914600" y="6025680"/>
                <a:ext cx="650880" cy="59436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097480" y="6089760"/>
                <a:ext cx="301320" cy="331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99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 txBox="1"/>
            <p:nvPr/>
          </p:nvSpPr>
          <p:spPr>
            <a:xfrm>
              <a:off x="7056360" y="5913360"/>
              <a:ext cx="1213200" cy="41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4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4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5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0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54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5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1233360"/>
            <a:ext cx="70549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9bb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DEB7-898D-4C19-9DF0-2910C657B1E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967280" y="4149720"/>
            <a:ext cx="3965400" cy="1616040"/>
            <a:chOff x="4967280" y="4149720"/>
            <a:chExt cx="3965400" cy="1616040"/>
          </a:xfrm>
        </p:grpSpPr>
        <p:sp>
          <p:nvSpPr>
            <p:cNvPr id="130" name=""/>
            <p:cNvSpPr txBox="1"/>
            <p:nvPr/>
          </p:nvSpPr>
          <p:spPr>
            <a:xfrm>
              <a:off x="7827840" y="4764600"/>
              <a:ext cx="1104840" cy="100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6852600" y="4406760"/>
              <a:ext cx="1429920" cy="1359000"/>
              <a:chOff x="6852600" y="4406760"/>
              <a:chExt cx="1429920" cy="1359000"/>
            </a:xfrm>
          </p:grpSpPr>
          <p:sp>
            <p:nvSpPr>
              <p:cNvPr id="132" name=""/>
              <p:cNvSpPr/>
              <p:nvPr/>
            </p:nvSpPr>
            <p:spPr>
              <a:xfrm>
                <a:off x="6852600" y="4406760"/>
                <a:ext cx="1429920" cy="13590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54000" y="4553280"/>
                <a:ext cx="662040" cy="75708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99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 txBox="1"/>
            <p:nvPr/>
          </p:nvSpPr>
          <p:spPr>
            <a:xfrm>
              <a:off x="4967280" y="4149720"/>
              <a:ext cx="2665440" cy="95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4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1233360"/>
            <a:ext cx="70549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9bb"/>
                </a:solidFill>
                <a:latin typeface="Verdana"/>
              </a:rPr>
              <a:t>Training Session</a:t>
            </a:r>
            <a:endParaRPr b="1" lang="en-US" sz="4800" spc="-1" strike="noStrike">
              <a:solidFill>
                <a:srgbClr val="fff9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4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9bb"/>
                </a:solidFill>
                <a:latin typeface="Verdana"/>
              </a:rPr>
              <a:t>Wait Staff Dress Code</a:t>
            </a: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for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ood 4 U logo polo shirt and apr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rk green or black knee-length sho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rk green or black socks, black athletic sho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k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der no circumstances will the wait staff wear skat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4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9bb"/>
                </a:solidFill>
                <a:latin typeface="Verdana"/>
              </a:rPr>
              <a:t>Host/Hostess Dress </a:t>
            </a:r>
            <a:r>
              <a:rPr b="1" lang="en-US" sz="3600" spc="-1" strike="noStrike">
                <a:solidFill>
                  <a:srgbClr val="fff9bb"/>
                </a:solidFill>
                <a:latin typeface="Verdana"/>
              </a:rPr>
              <a:t>Code</a:t>
            </a:r>
            <a:endParaRPr b="1" lang="en-US" sz="36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for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ood 4 U logo polo shi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rk green or black knee-length sho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rk green or black socks, black athletic sho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k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sts and hostesses may wear in-line skates on the job only after passing the Good 4 U tes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4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9bb"/>
                </a:solidFill>
                <a:latin typeface="Verdana"/>
              </a:rPr>
              <a:t>Guest Dress Code</a:t>
            </a:r>
            <a:endParaRPr b="1" lang="en-US" sz="4400" spc="-1" strike="noStrike">
              <a:solidFill>
                <a:srgbClr val="fff9b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skates ins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ests are required to check all sports equipment at the doo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bare fe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ests arriving on skates will be given slippers to wear while din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irts requir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irts are on sale for our guests’ convenience during summer month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2T23:17:14Z</dcterms:created>
  <dc:creator>Pat R. Graves</dc:creator>
  <dc:description/>
  <dc:language>en-US</dc:language>
  <cp:lastModifiedBy>Ms. Malnick</cp:lastModifiedBy>
  <cp:lastPrinted>1996-11-06T21:40:44Z</cp:lastPrinted>
  <dcterms:modified xsi:type="dcterms:W3CDTF">2004-03-26T01:04:25Z</dcterms:modified>
  <cp:revision>43</cp:revision>
  <dc:subject/>
  <dc:title>Good 4 U  Training Session</dc:title>
</cp:coreProperties>
</file>