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037-1C3E-4F3D-B3E0-95201B88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15D-FE73-4F4A-AF3E-6965D21B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5E3-C238-4CFF-BC27-11F65810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AA8-2EA7-4AB7-8223-318C8AAE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45DC-B126-4E6B-BBBF-D7146D72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9DC3-F2CC-48F3-BDCA-BE1A0D31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8234-EA13-496A-BA13-F48FE458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6025-E788-4995-9EE1-0B385E83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E188-B8E3-49C5-92E5-29099420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3B92-0B21-4130-876F-05877DD6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7B09-BF4B-4C66-8CFC-37E3635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4AD-9A74-4FC1-AF20-8EF4AB8F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568C-CF5E-45D0-A3CB-F5FBBF38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2C80-ABC1-4FF9-B1B3-960DBD7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D75D-4DD9-4223-87A0-CDCEEC9A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7C82-7D31-4ADA-983B-DB5E70DA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AB5B-758A-4A83-AD7B-BF0293CB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EE2-574A-4420-AE85-4FF50A6D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C11-54B1-480F-A66F-A1E0884A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A9D-A81C-42B5-9705-D2D65571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CF9-822A-445F-A5AA-7ADFFF54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707-20A1-4DBF-963E-F8DCA26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AD1-7D9A-4787-9028-CE6138A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FFB-ECE5-4869-851F-2D8E7DA5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6658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d6053"/>
                  </a:gs>
                  <a:gs pos="50000">
                    <a:srgbClr val="676a5c"/>
                  </a:gs>
                  <a:gs pos="100000">
                    <a:srgbClr val="5d605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75C6-6487-4163-B8CF-F5394C164D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6658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d6053"/>
                  </a:gs>
                  <a:gs pos="50000">
                    <a:srgbClr val="676a5c"/>
                  </a:gs>
                  <a:gs pos="100000">
                    <a:srgbClr val="5d605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294E-5516-4896-B1DD-83E5AD3F7C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767960"/>
            <a:ext cx="754380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Exercise 1-?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s of the PowerPoint Windo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tem listed on the File menu has the letter “A” underlin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name of the button on the Formatting toolbar with the letter “U” on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dbf4f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0:40:44Z</dcterms:created>
  <dc:creator>Pat R. Graves</dc:creator>
  <dc:description/>
  <dc:language>en-US</dc:language>
  <cp:lastModifiedBy>Pat Graves</cp:lastModifiedBy>
  <cp:lastPrinted>1996-03-25T13:31:15Z</cp:lastPrinted>
  <dcterms:modified xsi:type="dcterms:W3CDTF">2003-12-31T07:07:41Z</dcterms:modified>
  <cp:revision>31</cp:revision>
  <dc:subject/>
  <dc:title>Exercise 1-??</dc:title>
</cp:coreProperties>
</file>