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260-4794-40B1-851C-1747D8D0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244-0CB4-4245-83B4-48DD40F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A02-3552-4A47-81D5-7A25B8A2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480-4EDA-49CA-B6D1-8401C742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18B-E740-422C-9DAB-FD2ADEA6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834C-3816-47E7-A914-E83B53EC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6807-F81D-4CCA-99BE-EDF7AD4B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A646-DD02-4680-AB65-C0AF002F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0369-846F-44CF-A2DB-61AEA1C7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7BF9-0115-4B2E-BBFD-0E28224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4C57-8851-41F4-8845-6B57D68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32C-C4C3-403E-B2DC-E19BBD4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ABA2-FC9A-4887-9EDF-3768CDE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4EA-21D8-4D32-BFD6-6DD777D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D529-AD46-4303-BB78-940E7F4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192-C371-460E-A4FB-9BDA9829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BF40-39BF-4CF7-979E-4364C50E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EBB-375C-4731-A9F4-04FB1C7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C6F-F702-47AA-BC63-B66B8C5B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81D-AC9A-4646-802D-794CC684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0AB-3569-46A4-A702-E627577A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D5E-D934-49C6-BE35-4B8CFAA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C26-00A1-4F87-8250-98B15C1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4CE-F17F-4AAF-A934-783C65F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d8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48600" indent="-189720">
              <a:lnSpc>
                <a:spcPct val="120000"/>
              </a:lnSpc>
              <a:spcBef>
                <a:spcPts val="1749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28040" indent="-189720">
              <a:lnSpc>
                <a:spcPct val="120000"/>
              </a:lnSpc>
              <a:spcBef>
                <a:spcPts val="17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07480" indent="-1897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3487-69BC-4123-8F3C-ACB7692A21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752480"/>
            <a:ext cx="807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597800" y="873000"/>
            <a:ext cx="1146240" cy="854280"/>
            <a:chOff x="7597800" y="873000"/>
            <a:chExt cx="1146240" cy="854280"/>
          </a:xfrm>
        </p:grpSpPr>
        <p:sp>
          <p:nvSpPr>
            <p:cNvPr id="11" name=""/>
            <p:cNvSpPr/>
            <p:nvPr/>
          </p:nvSpPr>
          <p:spPr>
            <a:xfrm flipH="1">
              <a:off x="7597800" y="873000"/>
              <a:ext cx="1146240" cy="85428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7842960" y="1184400"/>
              <a:ext cx="520920" cy="384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7749360" y="1033560"/>
              <a:ext cx="406440" cy="2570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8181360" y="890640"/>
              <a:ext cx="485640" cy="52704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8657640" y="1228680"/>
              <a:ext cx="68040" cy="9864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8370720" y="1251000"/>
              <a:ext cx="300240" cy="2062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8292960" y="1554120"/>
              <a:ext cx="190800" cy="12852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7679520" y="1581120"/>
              <a:ext cx="136440" cy="460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8480520" y="1038240"/>
              <a:ext cx="33120" cy="493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8383680" y="1035000"/>
              <a:ext cx="33120" cy="4932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8305200" y="1241280"/>
              <a:ext cx="81000" cy="4788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7416720" y="6078600"/>
            <a:ext cx="1373400" cy="554040"/>
            <a:chOff x="7416720" y="6078600"/>
            <a:chExt cx="1373400" cy="554040"/>
          </a:xfrm>
        </p:grpSpPr>
        <p:sp>
          <p:nvSpPr>
            <p:cNvPr id="23" name=""/>
            <p:cNvSpPr txBox="1"/>
            <p:nvPr/>
          </p:nvSpPr>
          <p:spPr>
            <a:xfrm>
              <a:off x="8407440" y="6289560"/>
              <a:ext cx="38268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8069760" y="6166440"/>
              <a:ext cx="495000" cy="465840"/>
              <a:chOff x="8069760" y="6166440"/>
              <a:chExt cx="495000" cy="465840"/>
            </a:xfrm>
          </p:grpSpPr>
          <p:sp>
            <p:nvSpPr>
              <p:cNvPr id="25" name=""/>
              <p:cNvSpPr/>
              <p:nvPr/>
            </p:nvSpPr>
            <p:spPr>
              <a:xfrm>
                <a:off x="8069760" y="6166440"/>
                <a:ext cx="495000" cy="465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08720" y="6216480"/>
                <a:ext cx="229320" cy="25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d8db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" name=""/>
            <p:cNvSpPr txBox="1"/>
            <p:nvPr/>
          </p:nvSpPr>
          <p:spPr>
            <a:xfrm>
              <a:off x="7416720" y="6078600"/>
              <a:ext cx="923040" cy="3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d8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442200" cy="21272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26B9-A7C8-4931-8429-FB99CDE153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688080" y="1262160"/>
            <a:ext cx="2092320" cy="1576440"/>
            <a:chOff x="6688080" y="1262160"/>
            <a:chExt cx="2092320" cy="1576440"/>
          </a:xfrm>
        </p:grpSpPr>
        <p:sp>
          <p:nvSpPr>
            <p:cNvPr id="74" name=""/>
            <p:cNvSpPr/>
            <p:nvPr/>
          </p:nvSpPr>
          <p:spPr>
            <a:xfrm flipH="1">
              <a:off x="6688080" y="1262160"/>
              <a:ext cx="2092320" cy="157644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138440" y="1836720"/>
              <a:ext cx="950760" cy="708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966000" y="1560600"/>
              <a:ext cx="743040" cy="4712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755840" y="1293840"/>
              <a:ext cx="885960" cy="9730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624880" y="1917720"/>
              <a:ext cx="125280" cy="1825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099280" y="1959120"/>
              <a:ext cx="549360" cy="3808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958160" y="2517840"/>
              <a:ext cx="347760" cy="2379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39640" y="2568600"/>
              <a:ext cx="249480" cy="856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00880" y="1568520"/>
              <a:ext cx="60480" cy="889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124120" y="1562040"/>
              <a:ext cx="58680" cy="921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980480" y="1943280"/>
              <a:ext cx="147600" cy="871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48360" y="5445000"/>
            <a:ext cx="2812680" cy="1130040"/>
            <a:chOff x="6048360" y="5445000"/>
            <a:chExt cx="2812680" cy="1130040"/>
          </a:xfrm>
        </p:grpSpPr>
        <p:sp>
          <p:nvSpPr>
            <p:cNvPr id="86" name=""/>
            <p:cNvSpPr txBox="1"/>
            <p:nvPr/>
          </p:nvSpPr>
          <p:spPr>
            <a:xfrm>
              <a:off x="8077320" y="5875200"/>
              <a:ext cx="783720" cy="69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7385760" y="5624640"/>
              <a:ext cx="1014120" cy="950400"/>
              <a:chOff x="7385760" y="5624640"/>
              <a:chExt cx="1014120" cy="950400"/>
            </a:xfrm>
          </p:grpSpPr>
          <p:sp>
            <p:nvSpPr>
              <p:cNvPr id="88" name=""/>
              <p:cNvSpPr/>
              <p:nvPr/>
            </p:nvSpPr>
            <p:spPr>
              <a:xfrm>
                <a:off x="7385760" y="5624640"/>
                <a:ext cx="1014120" cy="95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0520" y="5726880"/>
                <a:ext cx="469440" cy="52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d8db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 txBox="1"/>
            <p:nvPr/>
          </p:nvSpPr>
          <p:spPr>
            <a:xfrm>
              <a:off x="6048360" y="5445000"/>
              <a:ext cx="1890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20000"/>
              </a:lnSpc>
              <a:spcBef>
                <a:spcPts val="1250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2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442200" cy="21272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New York Marathon</a:t>
            </a:r>
            <a:endParaRPr b="1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59280" y="3789360"/>
            <a:ext cx="471312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re-race Party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Entertainmen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lytes will be here for marathon eve, injecting mental energy for al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ie will again lead her famous pre-marathon “Pump-you-up” ch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Pre Marath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arbo Loading Menu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athon Ang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uge pile of angel hair with fat-free tomato sauce and sprinkled with tiny bite-sized meat b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gel Bona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gels brushed with a mixture of olive oil, garlic, and delicate herb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19T23:58:02Z</cp:lastPrinted>
  <dcterms:modified xsi:type="dcterms:W3CDTF">2003-12-31T07:04:51Z</dcterms:modified>
  <cp:revision>41</cp:revision>
  <dc:subject/>
  <dc:title>Good 4 U  New York Marathon Pre-Race Party</dc:title>
</cp:coreProperties>
</file>