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686-D369-42B9-99E8-AF6C7E56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D3F-3423-4B56-9694-413784FE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EDF-903E-4F11-9EAA-6E2FE9F8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D5B-14B2-42BF-9FE8-19C4A50B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F9FE-15AD-4EAA-92FE-7F31FFB8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4092-D25A-41A3-A0BB-7F9A8B6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CFB-BB2B-4179-A7CC-4A180116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88A-91C9-448C-B8C1-431206E3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3C78-80B6-4162-8AD5-743C364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08E1-FC92-4DFB-8764-7122AE6D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9176-BA52-4BE0-A4FD-8129D28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955-CCAD-47DB-8944-74041F8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D5C-C34F-4B1A-B50D-8344EC5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B8B-31DB-49AF-A12D-D0E7716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A60-7003-4160-891A-2C1DF0BC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CC3-1BA3-4066-84EA-790A46C9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003B-CA5F-4D3A-8350-63035ECF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04C-0B38-4017-91C5-C3B43201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0DA-61ED-4BD7-861A-4A6947B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B21-20BF-4423-A419-8F3A3DF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B68-0C19-4B97-845E-6767618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365-FD14-4631-ACB3-B0C603E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05C-2677-4FF4-A891-8A3DD8CD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9E2-469C-47C8-B05F-49820A5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4a4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E471-906F-414A-A68B-CF7EFBC3AB00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836640"/>
            <a:ext cx="3479760" cy="34797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4a4a70"/>
              </a:gs>
              <a:gs pos="100000">
                <a:srgbClr val="878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12DA-52C2-40EE-88BA-56483A0BE295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1376280"/>
            <a:ext cx="225720" cy="2463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457280"/>
            <a:ext cx="257040" cy="2332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6360" y="2000160"/>
            <a:ext cx="3004920" cy="1212480"/>
            <a:chOff x="576360" y="2000160"/>
            <a:chExt cx="3004920" cy="1212480"/>
          </a:xfrm>
        </p:grpSpPr>
        <p:sp>
          <p:nvSpPr>
            <p:cNvPr id="55" name=""/>
            <p:cNvSpPr txBox="1"/>
            <p:nvPr/>
          </p:nvSpPr>
          <p:spPr>
            <a:xfrm>
              <a:off x="2743920" y="2461680"/>
              <a:ext cx="837360" cy="75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04840" y="2192760"/>
              <a:ext cx="1083600" cy="1019880"/>
              <a:chOff x="2004840" y="2192760"/>
              <a:chExt cx="1083600" cy="1019880"/>
            </a:xfrm>
          </p:grpSpPr>
          <p:sp>
            <p:nvSpPr>
              <p:cNvPr id="57" name=""/>
              <p:cNvSpPr/>
              <p:nvPr/>
            </p:nvSpPr>
            <p:spPr>
              <a:xfrm>
                <a:off x="2004840" y="2192760"/>
                <a:ext cx="1083600" cy="1019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09040" y="2302560"/>
                <a:ext cx="501480" cy="568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 txBox="1"/>
            <p:nvPr/>
          </p:nvSpPr>
          <p:spPr>
            <a:xfrm>
              <a:off x="576360" y="2000160"/>
              <a:ext cx="201960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ew Additions to Our Menu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 New Dining Experienc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st Sweet Enoug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433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arob Pecan Yogurt Cream P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s light and fluffy desert has an all-natural grahm cracker crust, great flavor, and very little sugar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Key Lime Soufflé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striking lime flavor is Michelle’s secret. Made from organic key limes, sweetened with white grape juice, and thickened with organic egg whites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ango Supre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almon Tidbit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iny open-face salmon sandwich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ruity Chicken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3:44:30Z</cp:lastPrinted>
  <dcterms:modified xsi:type="dcterms:W3CDTF">2003-12-31T07:16:17Z</dcterms:modified>
  <cp:revision>29</cp:revision>
  <dc:subject/>
  <dc:title>Good 4 U  Fabulous Food</dc:title>
</cp:coreProperties>
</file>