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0338-FB15-4DA1-B378-34463634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CAE3-E7D1-4D78-B67E-E2646044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2D39-A23C-4DB4-96D0-8303FF6A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90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6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90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6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0A53-6CAA-4818-A95E-CF94DC00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AE6D-B88F-4E29-B5D1-84213DD4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D100-3242-433C-82F5-C7A772F2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040B-1083-4D33-9111-ABD67283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6B32-06EC-4529-ABFA-0B319CCC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6CFD-F75F-4241-A525-5078FCFA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50920" y="22824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377D-120B-4DC4-B2FB-238FA745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483D-D7E7-4C19-ADD0-32CD747C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52D8-C9E8-4E9A-9E9D-3B7C36C6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F626-78BB-439B-A6EA-11F19769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802E-2E7A-4BCE-8AA0-EC1F3A5B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54CA-C7E5-4EAA-83A8-68D0530A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EDA5-BCC0-478C-BE30-EC129DF5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90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90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9C3D-FD3E-4631-A148-F883CC45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DD8-05C6-45FF-BAB2-0E1893FC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7E6-F3EC-4503-A792-7B64A569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07EB-9ED4-4782-AFE3-4F8BFB3F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50920" y="22824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C5FB-182B-4009-8A2E-9C278AAA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574F-C930-4F4F-A90C-22312F2A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5364-56AF-457B-8FB5-C21B1972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0533-D6EB-4DF4-AC7D-7A6598E9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9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8f9cb"/>
                </a:gs>
                <a:gs pos="100000">
                  <a:srgbClr val="e8e9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f8f9cb"/>
                </a:gs>
                <a:gs pos="100000">
                  <a:srgbClr val="fefe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4AA0-BC93-4C2E-A451-DF9E4E219B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094520" y="6021360"/>
            <a:ext cx="1654200" cy="666720"/>
            <a:chOff x="7094520" y="6021360"/>
            <a:chExt cx="1654200" cy="666720"/>
          </a:xfrm>
        </p:grpSpPr>
        <p:sp>
          <p:nvSpPr>
            <p:cNvPr id="9" name=""/>
            <p:cNvSpPr txBox="1"/>
            <p:nvPr/>
          </p:nvSpPr>
          <p:spPr>
            <a:xfrm>
              <a:off x="8287920" y="6275160"/>
              <a:ext cx="46080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0" name=""/>
            <p:cNvGrpSpPr/>
            <p:nvPr/>
          </p:nvGrpSpPr>
          <p:grpSpPr>
            <a:xfrm>
              <a:off x="7880760" y="6127200"/>
              <a:ext cx="596520" cy="560520"/>
              <a:chOff x="7880760" y="6127200"/>
              <a:chExt cx="596520" cy="560520"/>
            </a:xfrm>
          </p:grpSpPr>
          <p:sp>
            <p:nvSpPr>
              <p:cNvPr id="11" name=""/>
              <p:cNvSpPr/>
              <p:nvPr/>
            </p:nvSpPr>
            <p:spPr>
              <a:xfrm>
                <a:off x="7880760" y="6127200"/>
                <a:ext cx="596520" cy="560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048160" y="6187320"/>
                <a:ext cx="276120" cy="31212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8f9cb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" name=""/>
            <p:cNvSpPr txBox="1"/>
            <p:nvPr/>
          </p:nvSpPr>
          <p:spPr>
            <a:xfrm>
              <a:off x="7094520" y="6021360"/>
              <a:ext cx="1112040" cy="39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9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8458200" cy="4400280"/>
            <a:chOff x="0" y="0"/>
            <a:chExt cx="8458200" cy="4400280"/>
          </a:xfrm>
        </p:grpSpPr>
        <p:sp>
          <p:nvSpPr>
            <p:cNvPr id="51" name=""/>
            <p:cNvSpPr/>
            <p:nvPr/>
          </p:nvSpPr>
          <p:spPr>
            <a:xfrm>
              <a:off x="0" y="1692360"/>
              <a:ext cx="8183520" cy="270792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f8f9cb"/>
                </a:gs>
                <a:gs pos="100000">
                  <a:srgbClr val="d1d2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8458200" cy="433584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f8f9cb"/>
                </a:gs>
                <a:gs pos="100000">
                  <a:srgbClr val="fefe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C104-0E3F-4D01-985C-CF60E3EC623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37800" y="399600"/>
            <a:ext cx="712620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00"/>
                </a:solidFill>
                <a:latin typeface="Tahoma"/>
              </a:rPr>
              <a:t>Click to edit the title text format</a:t>
            </a:r>
            <a:endParaRPr b="1" lang="en-US" sz="60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9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800" y="399600"/>
            <a:ext cx="712620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00"/>
                </a:solidFill>
                <a:latin typeface="Tahoma"/>
              </a:rPr>
              <a:t>Special Events</a:t>
            </a:r>
            <a:endParaRPr b="1" lang="en-US" sz="6000" spc="-1" strike="noStrike">
              <a:solidFill>
                <a:srgbClr val="996600"/>
              </a:solidFill>
              <a:latin typeface="Tahoma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960720" y="4041720"/>
            <a:ext cx="4788000" cy="2232000"/>
            <a:chOff x="3960720" y="4041720"/>
            <a:chExt cx="4788000" cy="2232000"/>
          </a:xfrm>
        </p:grpSpPr>
        <p:sp>
          <p:nvSpPr>
            <p:cNvPr id="96" name=""/>
            <p:cNvSpPr/>
            <p:nvPr/>
          </p:nvSpPr>
          <p:spPr>
            <a:xfrm>
              <a:off x="3960720" y="4041720"/>
              <a:ext cx="4788000" cy="22320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8f9c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4537080" y="5194440"/>
              <a:ext cx="3673440" cy="900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993366"/>
                    </a:solidFill>
                    <a:miter/>
                  </a:ln>
                  <a:solidFill>
                    <a:srgbClr val="993366"/>
                  </a:solidFill>
                  <a:latin typeface="Lucida Calligraphy"/>
                </a:rPr>
                <a:t>Healthy food for the athlete in you</a:t>
              </a:r>
              <a:endPara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3366"/>
                </a:solidFill>
                <a:latin typeface="Lucida Calligraphy"/>
                <a:ea typeface="Lucida Calligraphy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076720" y="4294440"/>
              <a:ext cx="2952720" cy="1163520"/>
              <a:chOff x="5076720" y="4294440"/>
              <a:chExt cx="2952720" cy="1163520"/>
            </a:xfrm>
          </p:grpSpPr>
          <p:sp>
            <p:nvSpPr>
              <p:cNvPr id="99" name=""/>
              <p:cNvSpPr txBox="1"/>
              <p:nvPr/>
            </p:nvSpPr>
            <p:spPr>
              <a:xfrm>
                <a:off x="7206840" y="4737240"/>
                <a:ext cx="822600" cy="72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a50021"/>
                    </a:solidFill>
                    <a:latin typeface="Georgia"/>
                  </a:rPr>
                  <a:t>U</a:t>
                </a:r>
                <a:endPara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  <a:ea typeface="Georgia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6480720" y="4479480"/>
                <a:ext cx="1064880" cy="978480"/>
                <a:chOff x="6480720" y="4479480"/>
                <a:chExt cx="1064880" cy="9784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480720" y="4479480"/>
                  <a:ext cx="1064880" cy="978480"/>
                </a:xfrm>
                <a:custGeom>
                  <a:avLst/>
                  <a:gdLst/>
                  <a:ahLst/>
                  <a:rect l="l" t="t" r="r" b="b"/>
                  <a:pathLst>
                    <a:path w="4828" h="4550">
                      <a:moveTo>
                        <a:pt x="4828" y="2723"/>
                      </a:moveTo>
                      <a:lnTo>
                        <a:pt x="4201" y="3603"/>
                      </a:lnTo>
                      <a:lnTo>
                        <a:pt x="3436" y="3615"/>
                      </a:lnTo>
                      <a:lnTo>
                        <a:pt x="3348" y="3906"/>
                      </a:lnTo>
                      <a:lnTo>
                        <a:pt x="3348" y="3906"/>
                      </a:lnTo>
                      <a:lnTo>
                        <a:pt x="3297" y="4190"/>
                      </a:lnTo>
                      <a:lnTo>
                        <a:pt x="3339" y="4397"/>
                      </a:lnTo>
                      <a:lnTo>
                        <a:pt x="3473" y="4521"/>
                      </a:lnTo>
                      <a:lnTo>
                        <a:pt x="3473" y="4521"/>
                      </a:lnTo>
                      <a:lnTo>
                        <a:pt x="3347" y="4550"/>
                      </a:lnTo>
                      <a:lnTo>
                        <a:pt x="1983" y="4550"/>
                      </a:lnTo>
                      <a:lnTo>
                        <a:pt x="2008" y="4521"/>
                      </a:lnTo>
                      <a:lnTo>
                        <a:pt x="2008" y="4521"/>
                      </a:lnTo>
                      <a:lnTo>
                        <a:pt x="2135" y="4474"/>
                      </a:lnTo>
                      <a:lnTo>
                        <a:pt x="2239" y="4417"/>
                      </a:lnTo>
                      <a:lnTo>
                        <a:pt x="2321" y="4352"/>
                      </a:lnTo>
                      <a:lnTo>
                        <a:pt x="2321" y="4352"/>
                      </a:lnTo>
                      <a:lnTo>
                        <a:pt x="2388" y="4271"/>
                      </a:lnTo>
                      <a:lnTo>
                        <a:pt x="2443" y="4169"/>
                      </a:lnTo>
                      <a:lnTo>
                        <a:pt x="2488" y="4043"/>
                      </a:lnTo>
                      <a:lnTo>
                        <a:pt x="2488" y="4043"/>
                      </a:lnTo>
                      <a:lnTo>
                        <a:pt x="2618" y="3615"/>
                      </a:lnTo>
                      <a:lnTo>
                        <a:pt x="0" y="3615"/>
                      </a:lnTo>
                      <a:lnTo>
                        <a:pt x="3299" y="0"/>
                      </a:lnTo>
                      <a:lnTo>
                        <a:pt x="4584" y="0"/>
                      </a:lnTo>
                      <a:lnTo>
                        <a:pt x="3654" y="3013"/>
                      </a:lnTo>
                      <a:lnTo>
                        <a:pt x="3654" y="3013"/>
                      </a:lnTo>
                      <a:lnTo>
                        <a:pt x="3835" y="3006"/>
                      </a:lnTo>
                      <a:lnTo>
                        <a:pt x="4061" y="2987"/>
                      </a:lnTo>
                      <a:lnTo>
                        <a:pt x="4238" y="2962"/>
                      </a:lnTo>
                      <a:lnTo>
                        <a:pt x="4238" y="2962"/>
                      </a:lnTo>
                      <a:lnTo>
                        <a:pt x="4439" y="2907"/>
                      </a:lnTo>
                      <a:lnTo>
                        <a:pt x="4636" y="2828"/>
                      </a:lnTo>
                      <a:lnTo>
                        <a:pt x="4828" y="2723"/>
                      </a:lnTo>
                      <a:lnTo>
                        <a:pt x="4828" y="2723"/>
                      </a:lnTo>
                    </a:path>
                  </a:pathLst>
                </a:custGeom>
                <a:solidFill>
                  <a:srgbClr val="ffcc66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779880" y="4584960"/>
                  <a:ext cx="492840" cy="545040"/>
                </a:xfrm>
                <a:custGeom>
                  <a:avLst/>
                  <a:gdLst/>
                  <a:ahLst/>
                  <a:rect l="l" t="t" r="r" b="b"/>
                  <a:pathLst>
                    <a:path w="2243" h="2533">
                      <a:moveTo>
                        <a:pt x="1481" y="2533"/>
                      </a:moveTo>
                      <a:lnTo>
                        <a:pt x="2243" y="0"/>
                      </a:lnTo>
                      <a:lnTo>
                        <a:pt x="0" y="2525"/>
                      </a:lnTo>
                      <a:lnTo>
                        <a:pt x="0" y="2525"/>
                      </a:lnTo>
                      <a:lnTo>
                        <a:pt x="203" y="2526"/>
                      </a:lnTo>
                      <a:lnTo>
                        <a:pt x="404" y="2526"/>
                      </a:lnTo>
                      <a:lnTo>
                        <a:pt x="606" y="2527"/>
                      </a:lnTo>
                      <a:lnTo>
                        <a:pt x="606" y="2527"/>
                      </a:lnTo>
                      <a:lnTo>
                        <a:pt x="798" y="2528"/>
                      </a:lnTo>
                      <a:lnTo>
                        <a:pt x="971" y="2529"/>
                      </a:lnTo>
                      <a:lnTo>
                        <a:pt x="1126" y="2531"/>
                      </a:lnTo>
                      <a:lnTo>
                        <a:pt x="1126" y="2531"/>
                      </a:lnTo>
                      <a:lnTo>
                        <a:pt x="1262" y="2532"/>
                      </a:lnTo>
                      <a:lnTo>
                        <a:pt x="1380" y="2533"/>
                      </a:lnTo>
                      <a:lnTo>
                        <a:pt x="1481" y="2533"/>
                      </a:lnTo>
                      <a:lnTo>
                        <a:pt x="1481" y="2533"/>
                      </a:lnTo>
                    </a:path>
                  </a:pathLst>
                </a:custGeom>
                <a:solidFill>
                  <a:srgbClr val="f8f9cb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 txBox="1"/>
              <p:nvPr/>
            </p:nvSpPr>
            <p:spPr>
              <a:xfrm>
                <a:off x="5076720" y="4294440"/>
                <a:ext cx="1985040" cy="691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7e"/>
                    </a:solidFill>
                    <a:latin typeface="Georgia"/>
                  </a:rPr>
                  <a:t>Good</a:t>
                </a:r>
                <a:endPara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  <a:ea typeface="Georgia"/>
                </a:endParaRPr>
              </a:p>
            </p:txBody>
          </p:sp>
        </p:grp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 flipH="1">
              <a:off x="5292360" y="5050080"/>
              <a:ext cx="1181160" cy="731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9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49500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ahoma"/>
              </a:rPr>
              <a:t>Spring Events</a:t>
            </a:r>
            <a:endParaRPr b="1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tional In-Line Skate demo t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stchester Girl’s Gymnastics team demonst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2T23:17:14Z</dcterms:created>
  <dc:creator>Pat R. Graves</dc:creator>
  <dc:description/>
  <dc:language>en-US</dc:language>
  <cp:lastModifiedBy>Pat Graves</cp:lastModifiedBy>
  <cp:lastPrinted>1996-03-25T14:15:21Z</cp:lastPrinted>
  <dcterms:modified xsi:type="dcterms:W3CDTF">2004-02-08T21:58:03Z</dcterms:modified>
  <cp:revision>46</cp:revision>
  <dc:subject/>
  <dc:title>Good 4 U  Special Events</dc:title>
</cp:coreProperties>
</file>