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342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4F2F-B5AF-47A5-B54D-0CC2C53FF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0617-DE13-433E-8CAC-E3696FEC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5D17-4E0F-49B5-B143-4CFE01CBF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37CF-126D-414B-8EE5-DB9032F1F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88D8-CE12-4429-911F-5CD0CE08E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C774-DF1B-4E7B-A6A0-8382FCDA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7B66-E867-43FE-8BE8-BC195A26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A217-2A51-499E-B387-68F81339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8FC6-2FAA-4FC5-BBFE-293A150E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160"/>
            <a:ext cx="7848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64F5-70D1-4439-8EAE-B0A0942A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6A0A-B9E9-4AEA-B056-7533482D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8238-FC6E-4759-B8F7-ACA47875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EB69-6F8E-40FD-8419-63DD8297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CC907-FFA9-422E-BA5E-1401BD35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9C7C-35BE-49CB-87F4-E574BC9E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E21E-B347-4C91-B76E-6DDCDEE1D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849C-7CE0-4F2F-8B72-CF938B089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210E-5529-4B5D-986C-C33EF3B3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39CE-D125-4CD4-BA67-1C226729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C3AC-F961-4ED7-8A07-6889805E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160"/>
            <a:ext cx="7848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2027-3F14-4B21-B0B5-E7C6EE0C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A332-201E-43C7-B315-DCB7761E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CBF6-9357-4675-B904-C5BEA69E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AA9C-69ED-458E-B924-97382705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8120" y="228600"/>
            <a:ext cx="8823600" cy="6095880"/>
          </a:xfrm>
          <a:prstGeom prst="roundRect">
            <a:avLst>
              <a:gd name="adj" fmla="val 11046"/>
            </a:avLst>
          </a:prstGeom>
          <a:noFill/>
          <a:ln w="28440">
            <a:solidFill>
              <a:srgbClr val="342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3421a7"/>
              </a:buClr>
              <a:buSzPct val="120000"/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400" y="6404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40404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3260-645F-42A5-A5C6-DD4DE422FBE2}" type="slidenum">
              <a:rPr b="1" lang="en-US" sz="14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2120" y="1709640"/>
            <a:ext cx="769608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456320" y="5084640"/>
            <a:ext cx="1400400" cy="16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6035760"/>
          </a:xfrm>
          <a:prstGeom prst="roundRect">
            <a:avLst>
              <a:gd name="adj" fmla="val 7912"/>
            </a:avLst>
          </a:prstGeom>
          <a:solidFill>
            <a:srgbClr val="342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9200" y="488880"/>
            <a:ext cx="8435880" cy="535320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753000"/>
            <a:ext cx="6400800" cy="232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i="1" lang="en-US" sz="39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69960" y="6375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08240" y="6375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37240" y="6375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747E-033C-40DE-9AE0-1FFAE67B5342}" type="slidenum">
              <a:rPr b="1" lang="en-US" sz="14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99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12280"/>
            <a:ext cx="77724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ff0000"/>
                </a:solidFill>
                <a:latin typeface="Arial Black"/>
              </a:rPr>
              <a:t>Fourth of July Celebration</a:t>
            </a:r>
            <a:endParaRPr b="0" i="1" lang="en-US" sz="3900" spc="-1" strike="noStrike">
              <a:solidFill>
                <a:srgbClr val="ff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181320" y="1463760"/>
            <a:ext cx="2646360" cy="318924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3027240" y="4595760"/>
            <a:ext cx="3087720" cy="1245960"/>
            <a:chOff x="3027240" y="4595760"/>
            <a:chExt cx="3087720" cy="1245960"/>
          </a:xfrm>
        </p:grpSpPr>
        <p:sp>
          <p:nvSpPr>
            <p:cNvPr id="91" name=""/>
            <p:cNvSpPr txBox="1"/>
            <p:nvPr/>
          </p:nvSpPr>
          <p:spPr>
            <a:xfrm>
              <a:off x="5254560" y="5069880"/>
              <a:ext cx="860400" cy="771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4495320" y="4793760"/>
              <a:ext cx="1113120" cy="1047960"/>
              <a:chOff x="4495320" y="4793760"/>
              <a:chExt cx="1113120" cy="1047960"/>
            </a:xfrm>
          </p:grpSpPr>
          <p:sp>
            <p:nvSpPr>
              <p:cNvPr id="93" name=""/>
              <p:cNvSpPr/>
              <p:nvPr/>
            </p:nvSpPr>
            <p:spPr>
              <a:xfrm>
                <a:off x="4495320" y="4793760"/>
                <a:ext cx="1113120" cy="104796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807800" y="4906440"/>
                <a:ext cx="515160" cy="58356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 txBox="1"/>
            <p:nvPr/>
          </p:nvSpPr>
          <p:spPr>
            <a:xfrm>
              <a:off x="3027240" y="4595760"/>
              <a:ext cx="2075400" cy="740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In-Line Skate Race in the Park</a:t>
            </a:r>
            <a:endParaRPr b="0" lang="en-US" sz="32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gistration is at 7:00 am on July 4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arting time is 8:15 a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arly registration forms must be postmarked no later than June 29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In-Line Skate Race Rules</a:t>
            </a:r>
            <a:endParaRPr b="0" lang="en-US" sz="32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ll racers must be wearing the following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421a7"/>
              </a:buClr>
              <a:buSzPct val="120000"/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lm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421a7"/>
              </a:buClr>
              <a:buSzPct val="120000"/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rist gua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421a7"/>
              </a:buClr>
              <a:buSzPct val="120000"/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bow and knee pa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acers under age 21 must have parent or guardian sign waiv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Special Menu Items</a:t>
            </a:r>
            <a:endParaRPr b="0" lang="en-US" sz="32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recracker Salsa and Chip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spcBef>
                <a:spcPts val="649"/>
              </a:spcBef>
              <a:buClr>
                <a:srgbClr val="3421a7"/>
              </a:buClr>
              <a:buSzPct val="120000"/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jalapenos and fresh organic tomato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atermelon Slurpe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spcBef>
                <a:spcPts val="649"/>
              </a:spcBef>
              <a:buClr>
                <a:srgbClr val="3421a7"/>
              </a:buClr>
              <a:buSzPct val="120000"/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cool treat for a hot summer d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d, White &amp; Blue Mouss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spcBef>
                <a:spcPts val="649"/>
              </a:spcBef>
              <a:buClr>
                <a:srgbClr val="3421a7"/>
              </a:buClr>
              <a:buSzPct val="120000"/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-fat vanilla mousse with raspberries and blueber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Entertainment</a:t>
            </a:r>
            <a:endParaRPr b="0" lang="en-US" sz="32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Electrolytes will pla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nce again, Marsha Miles will lead the danc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National In-Line Skate demo team will perfor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22T23:17:14Z</dcterms:created>
  <dc:creator>Pat R. Graves</dc:creator>
  <dc:description/>
  <dc:language>en-US</dc:language>
  <cp:lastModifiedBy>Pat Graves</cp:lastModifiedBy>
  <cp:lastPrinted>1996-11-06T21:28:40Z</cp:lastPrinted>
  <dcterms:modified xsi:type="dcterms:W3CDTF">2003-12-31T07:06:27Z</dcterms:modified>
  <cp:revision>37</cp:revision>
  <dc:subject/>
  <dc:title>Good 4 U  Fourth of July Celebration</dc:title>
</cp:coreProperties>
</file>