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93F-266F-4173-9A2C-E21BAC6B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E38-E2F8-4702-97F7-D82C3DD2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F42-E4FA-4899-AB55-84B9C3EF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E8C-2E3E-4303-88F2-89706E54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6228-830E-45B3-A94A-E04D126A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9E6-BFC7-4C89-9B30-D48E92DD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3B34-412E-4DBE-A08D-A7A6838B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26F4-D749-4B97-837C-8A1187F0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8E85-3489-4230-9E27-1DCB6FC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2720" y="380520"/>
            <a:ext cx="791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5060-7358-4D31-BFF5-79FB2606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49D8-5BBB-480C-A107-1605AA7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342-9907-44EF-B113-8D047346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0CBE-C44B-42E5-8894-E4FDF7E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6406-400C-439D-8E6F-493D1F3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C24E-2373-4F1A-9FAC-1DCD24DE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A77E-633B-4ACB-8E78-907EED16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1ABC-C290-4592-BB82-87AB88C6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F56-7B4D-407E-A909-DA5DAE43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BEA-C325-44F9-8755-AFF43241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0A2-AEB1-4C1E-BC85-41B9D561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2720" y="380520"/>
            <a:ext cx="791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10E-443E-4A9C-9E9B-7EAB928A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277-244A-4678-9112-C292ACE4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946-514C-4D3F-8423-5A3D518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89B-3995-4FF1-B5A9-238EF82D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EA8D-5B10-46F8-8A57-F017EF12E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65000"/>
              <a:buFont typeface="Monotype Sort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740040" y="1219320"/>
            <a:ext cx="1663920" cy="1158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571500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4e16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AD8A-47E7-4D98-90CB-50DBA6B4C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03200" y="380880"/>
            <a:ext cx="2943360" cy="205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676600"/>
            <a:ext cx="9144000" cy="2905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50000">
                <a:srgbClr val="ea4e16"/>
              </a:gs>
              <a:gs pos="100000">
                <a:srgbClr val="fde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1" i="1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i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65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571500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4e16"/>
                </a:solidFill>
                <a:latin typeface="Arial"/>
              </a:rPr>
              <a:t>Lunch Specials</a:t>
            </a:r>
            <a:endParaRPr b="1" lang="en-US" sz="5400" spc="-1" strike="noStrike">
              <a:solidFill>
                <a:srgbClr val="ea4e1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459240" y="4275000"/>
            <a:ext cx="2285640" cy="922320"/>
            <a:chOff x="3459240" y="4275000"/>
            <a:chExt cx="2285640" cy="922320"/>
          </a:xfrm>
        </p:grpSpPr>
        <p:sp>
          <p:nvSpPr>
            <p:cNvPr id="87" name=""/>
            <p:cNvSpPr txBox="1"/>
            <p:nvPr/>
          </p:nvSpPr>
          <p:spPr>
            <a:xfrm>
              <a:off x="5108040" y="462600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46080" y="4421520"/>
              <a:ext cx="824040" cy="775440"/>
              <a:chOff x="4546080" y="4421520"/>
              <a:chExt cx="824040" cy="775440"/>
            </a:xfrm>
          </p:grpSpPr>
          <p:sp>
            <p:nvSpPr>
              <p:cNvPr id="89" name=""/>
              <p:cNvSpPr/>
              <p:nvPr/>
            </p:nvSpPr>
            <p:spPr>
              <a:xfrm>
                <a:off x="4546080" y="442152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77560" y="450504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de3b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 txBox="1"/>
            <p:nvPr/>
          </p:nvSpPr>
          <p:spPr>
            <a:xfrm>
              <a:off x="3459240" y="427500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Appetizer Specials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5760" y="251316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ffed Spinach Bre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2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grain bread overstuffed with fresh spinach and feta cheese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ench Breadstick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5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Breadsticks loaded with poppy seeds and sesame seed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1640" y="251316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ukes and Yogurt Spre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2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Creamy spread served with your choice of whole-grain bread or cracker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egetable Stuffed Bre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6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5960"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grain bread overstuffed with sun-dried tomatoes, asparagus, and broccoli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Side Dish Specials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5131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lled Cucumber Sal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Cool crisp salad with fresh dill and lemon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ld Fashioned Cornbre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Thick and moist with whole corn kernel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atmeal Soda Bre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grain buttermilk bread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00600" y="25131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vory Wild Rice Soup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ild rice soup flavored with chestnut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n and Chili Relis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onderful side to add to one of our salad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 Bean Sal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Legumes marinated in balsamic vinegar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3ba"/>
            </a:gs>
            <a:gs pos="50000">
              <a:srgbClr val="fdfbf6"/>
            </a:gs>
            <a:gs pos="100000">
              <a:srgbClr val="fde3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2720" y="380520"/>
            <a:ext cx="7918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4e16"/>
                </a:solidFill>
                <a:latin typeface="Arial"/>
              </a:rPr>
              <a:t>Lunch Specials</a:t>
            </a:r>
            <a:endParaRPr b="1" lang="en-US" sz="4400" spc="-1" strike="noStrike">
              <a:solidFill>
                <a:srgbClr val="ea4e1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512800"/>
            <a:ext cx="411480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ummus Pita Pocke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Whole-wheat pita pocket filled with hummus and fresh veggies, seasoned with herbs and spice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ack Bean Chili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Savory vegetarian chili of black beans and diced vegetables, served in a hollowed-out sourdough loaf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23920" y="25131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icken with Peca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Chunky chicken served over a bed of wild rice, sprinkled with pecans and sliced peaches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esh Fruit Sal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rial Narrow"/>
              </a:rPr>
              <a:t>A refreshing and colorful blend of seasonal fruit, served with a creamy yogurt topping</a:t>
            </a:r>
            <a:endParaRPr b="0" i="1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2T14:01:28Z</dcterms:created>
  <dc:creator>Pat R. Graves</dc:creator>
  <dc:description/>
  <dc:language>en-US</dc:language>
  <cp:lastModifiedBy>Pat Graves</cp:lastModifiedBy>
  <cp:lastPrinted>1997-05-06T16:24:06Z</cp:lastPrinted>
  <dcterms:modified xsi:type="dcterms:W3CDTF">2004-03-12T22:53:58Z</dcterms:modified>
  <cp:revision>65</cp:revision>
  <dc:subject/>
  <dc:title>Lunch Specials</dc:title>
</cp:coreProperties>
</file>