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589-9FEC-466F-A328-DD4CE29B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842-21C6-4C88-ADE1-E26D8B6A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58B-2D40-459C-A2DD-8613AC5B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541-D684-4E5F-81B2-0F849CE4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440C-01EF-4F2A-835C-0E9FDFE6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89D-CC73-4EB1-9FF6-E4270E60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54FF-979B-40F2-A3F2-E1D114EB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70E-D415-47FE-8284-592B67F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95D-7971-40B4-AB0D-E52123A7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3F5-C303-49C5-8790-4DFA247F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3337-9AD1-4D14-BB95-24288D80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B3E-551F-49D3-9074-4B0DA7E9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31C-F909-4640-B5CA-7F45FC9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2E33-5EA6-48ED-9C99-233ADEB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E680-E498-4E0F-A194-20CD237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8C8-2DC1-4633-8593-C65F3426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EE98-5047-4B82-82F4-FF71EAE9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7DDE-F480-4986-BF6F-FFEC5764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A321-69FD-4E3B-AE46-55DF4A3F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D9A6-2AF0-49C6-8273-016A277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41FC-1A25-4C63-BDDF-B010474A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CB32-CD1C-4405-A5EC-F41A114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C44-8294-4EDE-BA83-05D9C561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C24D-A48A-44EB-B652-47C8977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652F-C1BD-4742-9E84-03E2B5F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31AA-FF60-4A0E-97E7-E0FB73E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AFCD-0C07-4128-BDDF-6F151BF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F21D-16F2-4602-927F-0E07BF9E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E6C5-8C70-47B6-8476-078795F3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7B85-5D1F-436A-8617-55917CEB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5D48-2533-4DDA-BB30-1BF6F8B9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0F1A-2748-4027-B2E0-122346BF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D98C-E369-4AAE-B6F4-94EBE82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66D-8431-4BE6-A794-D47F835B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9222-81C3-4B2A-8CA1-628A8B00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41AE9-2300-4CC2-90A0-A768BE42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3ABF-BB9F-4B30-9B6C-5B41AC57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40679-7F30-4A65-84BB-21798AC7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1C0E-6CE9-4BA1-B373-F299C27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4511-28DC-401B-9C35-259463FF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53BC-0CFF-4DBB-9DCA-EE901257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23E0-CBCC-43BA-83FC-F3FB4239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CC5D-4ACD-4F89-BAEB-ADA3F83E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FC9E-547E-4C98-A79A-59803003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775-7303-47C5-8E6B-C7BB00CC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E166-A7C2-4443-AF40-B6DA864B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C957A-CDF6-4309-8AC0-9B278C9A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8247-4F73-4034-BA4E-5BD4222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8901-0F03-4429-AA1F-92301580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D63B-D650-436B-9FC0-43623141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9FED-36C6-4029-B3CC-084EDAC0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0E32B-9EFA-4270-B30A-C7915A7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05069-680D-4E59-9DBF-B5F7964E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91A9-1245-47B1-8850-78FD229E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796DA-CEBE-40C4-9B54-FF605400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F10-D5F1-41AC-813D-CAAEA8E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CE81F-986B-4D52-B24A-7CEEA1ED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92FE8-7504-435F-95E4-4F3B81C0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D0D05-BAC4-4A6B-8163-7C71B38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C0A1E-7EC0-4633-9484-AF79E9D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DAF1-A115-4159-82FF-198A17D4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8DDDD-5174-441C-9E77-2FF43A43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79560" y="342720"/>
            <a:ext cx="793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A013-2A96-4B36-B75F-3DB3F71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9007-19B5-44CD-92C0-E8C067B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A0914-4444-4934-AC1B-E02C18FE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BB2F-74F8-4EE4-B6C1-A2A42FA1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BEA-9215-44C4-9F39-7C42E9D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F472-D7B8-458F-BB30-1727251F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F272-794A-4BD1-8D7D-5DF2085E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0604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32520" y="198108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7956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0604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32520" y="4130640"/>
            <a:ext cx="240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90CEF-C8D8-4BF0-A8FD-A754C3BB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08160" y="413064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BFA-B8D1-4D1A-AE57-7DF983D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1981080"/>
            <a:ext cx="364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9560" y="4130640"/>
            <a:ext cx="7472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840-E1B8-40A6-84F3-C95AFD2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CDCF-69D7-425A-8419-58CDA9D4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81000" y="-412920"/>
            <a:ext cx="9392400" cy="7001280"/>
            <a:chOff x="-81000" y="-412920"/>
            <a:chExt cx="9392400" cy="7001280"/>
          </a:xfrm>
        </p:grpSpPr>
        <p:grpSp>
          <p:nvGrpSpPr>
            <p:cNvPr id="8" name=""/>
            <p:cNvGrpSpPr/>
            <p:nvPr/>
          </p:nvGrpSpPr>
          <p:grpSpPr>
            <a:xfrm>
              <a:off x="7944840" y="2367000"/>
              <a:ext cx="1366560" cy="4221360"/>
              <a:chOff x="7944840" y="2367000"/>
              <a:chExt cx="1366560" cy="4221360"/>
            </a:xfrm>
          </p:grpSpPr>
          <p:sp>
            <p:nvSpPr>
              <p:cNvPr id="9" name=""/>
              <p:cNvSpPr/>
              <p:nvPr/>
            </p:nvSpPr>
            <p:spPr>
              <a:xfrm flipV="1" rot="900000">
                <a:off x="8118000" y="399708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 rot="900000">
                <a:off x="8112240" y="2476080"/>
                <a:ext cx="1031760" cy="142884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900000">
                <a:off x="8558280" y="521964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0f0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900000">
                <a:off x="8715240" y="624672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afa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-81000" y="-412920"/>
              <a:ext cx="2552040" cy="4375440"/>
              <a:chOff x="-81000" y="-412920"/>
              <a:chExt cx="2552040" cy="4375440"/>
            </a:xfrm>
          </p:grpSpPr>
          <p:sp>
            <p:nvSpPr>
              <p:cNvPr id="14" name=""/>
              <p:cNvSpPr/>
              <p:nvPr/>
            </p:nvSpPr>
            <p:spPr>
              <a:xfrm flipV="1">
                <a:off x="0" y="245880"/>
                <a:ext cx="863640" cy="102528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 rot="900000">
                <a:off x="1444680" y="-319680"/>
                <a:ext cx="882720" cy="1222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81000" y="3129120"/>
                <a:ext cx="808200" cy="833400"/>
              </a:xfrm>
              <a:custGeom>
                <a:avLst/>
                <a:gdLst/>
                <a:ahLst/>
                <a:rect l="l" t="t" r="r" b="b"/>
                <a:pathLst>
                  <a:path w="509" h="525">
                    <a:moveTo>
                      <a:pt x="215" y="287"/>
                    </a:moveTo>
                    <a:lnTo>
                      <a:pt x="126" y="525"/>
                    </a:lnTo>
                    <a:lnTo>
                      <a:pt x="254" y="305"/>
                    </a:lnTo>
                    <a:lnTo>
                      <a:pt x="379" y="525"/>
                    </a:lnTo>
                    <a:lnTo>
                      <a:pt x="291" y="287"/>
                    </a:lnTo>
                    <a:lnTo>
                      <a:pt x="509" y="262"/>
                    </a:lnTo>
                    <a:lnTo>
                      <a:pt x="292" y="239"/>
                    </a:lnTo>
                    <a:lnTo>
                      <a:pt x="379" y="0"/>
                    </a:lnTo>
                    <a:lnTo>
                      <a:pt x="253" y="218"/>
                    </a:lnTo>
                    <a:lnTo>
                      <a:pt x="126" y="0"/>
                    </a:lnTo>
                    <a:lnTo>
                      <a:pt x="214" y="243"/>
                    </a:lnTo>
                    <a:lnTo>
                      <a:pt x="0" y="262"/>
                    </a:lnTo>
                    <a:lnTo>
                      <a:pt x="214" y="285"/>
                    </a:lnTo>
                  </a:path>
                </a:pathLst>
              </a:custGeom>
              <a:gradFill rotWithShape="0">
                <a:gsLst>
                  <a:gs pos="0">
                    <a:srgbClr val="dfdf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900000">
                <a:off x="790560" y="75888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900000">
                <a:off x="189000" y="210024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0040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0992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1584-FA0B-4AEA-B416-5A892DB0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-121320"/>
            <a:ext cx="6015600" cy="3445560"/>
            <a:chOff x="0" y="-121320"/>
            <a:chExt cx="6015600" cy="3445560"/>
          </a:xfrm>
        </p:grpSpPr>
        <p:sp>
          <p:nvSpPr>
            <p:cNvPr id="62" name=""/>
            <p:cNvSpPr/>
            <p:nvPr/>
          </p:nvSpPr>
          <p:spPr>
            <a:xfrm flipV="1">
              <a:off x="0" y="1752480"/>
              <a:ext cx="1322280" cy="1571760"/>
            </a:xfrm>
            <a:custGeom>
              <a:avLst/>
              <a:gdLst/>
              <a:ahLst/>
              <a:rect l="l" t="t" r="r" b="b"/>
              <a:pathLst>
                <a:path w="833" h="990">
                  <a:moveTo>
                    <a:pt x="284" y="448"/>
                  </a:moveTo>
                  <a:lnTo>
                    <a:pt x="115" y="0"/>
                  </a:lnTo>
                  <a:lnTo>
                    <a:pt x="353" y="398"/>
                  </a:lnTo>
                  <a:lnTo>
                    <a:pt x="591" y="0"/>
                  </a:lnTo>
                  <a:lnTo>
                    <a:pt x="419" y="448"/>
                  </a:lnTo>
                  <a:lnTo>
                    <a:pt x="832" y="495"/>
                  </a:lnTo>
                  <a:lnTo>
                    <a:pt x="417" y="540"/>
                  </a:lnTo>
                  <a:lnTo>
                    <a:pt x="591" y="989"/>
                  </a:lnTo>
                  <a:lnTo>
                    <a:pt x="353" y="590"/>
                  </a:lnTo>
                  <a:lnTo>
                    <a:pt x="115" y="989"/>
                  </a:lnTo>
                  <a:lnTo>
                    <a:pt x="282" y="543"/>
                  </a:lnTo>
                  <a:lnTo>
                    <a:pt x="0" y="509"/>
                  </a:lnTo>
                  <a:lnTo>
                    <a:pt x="0" y="479"/>
                  </a:lnTo>
                  <a:lnTo>
                    <a:pt x="284" y="44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900000">
              <a:off x="593640" y="-360"/>
              <a:ext cx="1143000" cy="158148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739880" y="947160"/>
              <a:ext cx="1108080" cy="1143000"/>
            </a:xfrm>
            <a:custGeom>
              <a:avLst/>
              <a:gdLst/>
              <a:ahLst/>
              <a:rect l="l" t="t" r="r" b="b"/>
              <a:pathLst>
                <a:path w="698" h="720">
                  <a:moveTo>
                    <a:pt x="279" y="315"/>
                  </a:moveTo>
                  <a:lnTo>
                    <a:pt x="173" y="0"/>
                  </a:lnTo>
                  <a:lnTo>
                    <a:pt x="349" y="263"/>
                  </a:lnTo>
                  <a:lnTo>
                    <a:pt x="519" y="0"/>
                  </a:lnTo>
                  <a:lnTo>
                    <a:pt x="415" y="315"/>
                  </a:lnTo>
                  <a:lnTo>
                    <a:pt x="697" y="360"/>
                  </a:lnTo>
                  <a:lnTo>
                    <a:pt x="413" y="403"/>
                  </a:lnTo>
                  <a:lnTo>
                    <a:pt x="519" y="719"/>
                  </a:lnTo>
                  <a:lnTo>
                    <a:pt x="349" y="455"/>
                  </a:lnTo>
                  <a:lnTo>
                    <a:pt x="173" y="719"/>
                  </a:lnTo>
                  <a:lnTo>
                    <a:pt x="278" y="407"/>
                  </a:lnTo>
                  <a:lnTo>
                    <a:pt x="0" y="360"/>
                  </a:lnTo>
                  <a:lnTo>
                    <a:pt x="279" y="31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900000">
              <a:off x="3874680" y="1071360"/>
              <a:ext cx="782640" cy="108720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900000">
              <a:off x="2770200" y="0"/>
              <a:ext cx="1031760" cy="142884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"/>
            <p:cNvSpPr/>
            <p:nvPr/>
          </p:nvSpPr>
          <p:spPr>
            <a:xfrm rot="900000">
              <a:off x="4613400" y="511200"/>
              <a:ext cx="403200" cy="5587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"/>
            <p:cNvSpPr/>
            <p:nvPr/>
          </p:nvSpPr>
          <p:spPr>
            <a:xfrm rot="900000">
              <a:off x="5749920" y="307800"/>
              <a:ext cx="228600" cy="3175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173-F85B-4D42-8773-0F398E4B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-81000" y="-412920"/>
            <a:ext cx="9392400" cy="7001280"/>
            <a:chOff x="-81000" y="-412920"/>
            <a:chExt cx="9392400" cy="7001280"/>
          </a:xfrm>
        </p:grpSpPr>
        <p:grpSp>
          <p:nvGrpSpPr>
            <p:cNvPr id="114" name=""/>
            <p:cNvGrpSpPr/>
            <p:nvPr/>
          </p:nvGrpSpPr>
          <p:grpSpPr>
            <a:xfrm>
              <a:off x="7944840" y="2367000"/>
              <a:ext cx="1366560" cy="4221360"/>
              <a:chOff x="7944840" y="2367000"/>
              <a:chExt cx="1366560" cy="4221360"/>
            </a:xfrm>
          </p:grpSpPr>
          <p:sp>
            <p:nvSpPr>
              <p:cNvPr id="115" name=""/>
              <p:cNvSpPr/>
              <p:nvPr/>
            </p:nvSpPr>
            <p:spPr>
              <a:xfrm flipV="1" rot="900000">
                <a:off x="8118000" y="399708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 rot="900000">
                <a:off x="8112240" y="2476080"/>
                <a:ext cx="1031760" cy="142884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900000">
                <a:off x="8558280" y="521964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0f0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900000">
                <a:off x="8715240" y="624672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afa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-81000" y="-412920"/>
              <a:ext cx="2552040" cy="4375440"/>
              <a:chOff x="-81000" y="-412920"/>
              <a:chExt cx="2552040" cy="437544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0" y="245880"/>
                <a:ext cx="863640" cy="102528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 rot="900000">
                <a:off x="1444680" y="-319680"/>
                <a:ext cx="882720" cy="1222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-81000" y="3129120"/>
                <a:ext cx="808200" cy="833400"/>
              </a:xfrm>
              <a:custGeom>
                <a:avLst/>
                <a:gdLst/>
                <a:ahLst/>
                <a:rect l="l" t="t" r="r" b="b"/>
                <a:pathLst>
                  <a:path w="509" h="525">
                    <a:moveTo>
                      <a:pt x="215" y="287"/>
                    </a:moveTo>
                    <a:lnTo>
                      <a:pt x="126" y="525"/>
                    </a:lnTo>
                    <a:lnTo>
                      <a:pt x="254" y="305"/>
                    </a:lnTo>
                    <a:lnTo>
                      <a:pt x="379" y="525"/>
                    </a:lnTo>
                    <a:lnTo>
                      <a:pt x="291" y="287"/>
                    </a:lnTo>
                    <a:lnTo>
                      <a:pt x="509" y="262"/>
                    </a:lnTo>
                    <a:lnTo>
                      <a:pt x="292" y="239"/>
                    </a:lnTo>
                    <a:lnTo>
                      <a:pt x="379" y="0"/>
                    </a:lnTo>
                    <a:lnTo>
                      <a:pt x="253" y="218"/>
                    </a:lnTo>
                    <a:lnTo>
                      <a:pt x="126" y="0"/>
                    </a:lnTo>
                    <a:lnTo>
                      <a:pt x="214" y="243"/>
                    </a:lnTo>
                    <a:lnTo>
                      <a:pt x="0" y="262"/>
                    </a:lnTo>
                    <a:lnTo>
                      <a:pt x="214" y="285"/>
                    </a:lnTo>
                  </a:path>
                </a:pathLst>
              </a:custGeom>
              <a:gradFill rotWithShape="0">
                <a:gsLst>
                  <a:gs pos="0">
                    <a:srgbClr val="dfdf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900000">
                <a:off x="790560" y="75888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900000">
                <a:off x="189000" y="210024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320040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40992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7553-69C9-40BC-B640-B123D297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-121320"/>
            <a:ext cx="6015600" cy="3445560"/>
            <a:chOff x="0" y="-121320"/>
            <a:chExt cx="6015600" cy="3445560"/>
          </a:xfrm>
        </p:grpSpPr>
        <p:sp>
          <p:nvSpPr>
            <p:cNvPr id="168" name=""/>
            <p:cNvSpPr/>
            <p:nvPr/>
          </p:nvSpPr>
          <p:spPr>
            <a:xfrm flipV="1">
              <a:off x="0" y="1752480"/>
              <a:ext cx="1322280" cy="1571760"/>
            </a:xfrm>
            <a:custGeom>
              <a:avLst/>
              <a:gdLst/>
              <a:ahLst/>
              <a:rect l="l" t="t" r="r" b="b"/>
              <a:pathLst>
                <a:path w="833" h="990">
                  <a:moveTo>
                    <a:pt x="284" y="448"/>
                  </a:moveTo>
                  <a:lnTo>
                    <a:pt x="115" y="0"/>
                  </a:lnTo>
                  <a:lnTo>
                    <a:pt x="353" y="398"/>
                  </a:lnTo>
                  <a:lnTo>
                    <a:pt x="591" y="0"/>
                  </a:lnTo>
                  <a:lnTo>
                    <a:pt x="419" y="448"/>
                  </a:lnTo>
                  <a:lnTo>
                    <a:pt x="832" y="495"/>
                  </a:lnTo>
                  <a:lnTo>
                    <a:pt x="417" y="540"/>
                  </a:lnTo>
                  <a:lnTo>
                    <a:pt x="591" y="989"/>
                  </a:lnTo>
                  <a:lnTo>
                    <a:pt x="353" y="590"/>
                  </a:lnTo>
                  <a:lnTo>
                    <a:pt x="115" y="989"/>
                  </a:lnTo>
                  <a:lnTo>
                    <a:pt x="282" y="543"/>
                  </a:lnTo>
                  <a:lnTo>
                    <a:pt x="0" y="509"/>
                  </a:lnTo>
                  <a:lnTo>
                    <a:pt x="0" y="479"/>
                  </a:lnTo>
                  <a:lnTo>
                    <a:pt x="284" y="44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900000">
              <a:off x="593640" y="-360"/>
              <a:ext cx="1143000" cy="158148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739880" y="947160"/>
              <a:ext cx="1108080" cy="1143000"/>
            </a:xfrm>
            <a:custGeom>
              <a:avLst/>
              <a:gdLst/>
              <a:ahLst/>
              <a:rect l="l" t="t" r="r" b="b"/>
              <a:pathLst>
                <a:path w="698" h="720">
                  <a:moveTo>
                    <a:pt x="279" y="315"/>
                  </a:moveTo>
                  <a:lnTo>
                    <a:pt x="173" y="0"/>
                  </a:lnTo>
                  <a:lnTo>
                    <a:pt x="349" y="263"/>
                  </a:lnTo>
                  <a:lnTo>
                    <a:pt x="519" y="0"/>
                  </a:lnTo>
                  <a:lnTo>
                    <a:pt x="415" y="315"/>
                  </a:lnTo>
                  <a:lnTo>
                    <a:pt x="697" y="360"/>
                  </a:lnTo>
                  <a:lnTo>
                    <a:pt x="413" y="403"/>
                  </a:lnTo>
                  <a:lnTo>
                    <a:pt x="519" y="719"/>
                  </a:lnTo>
                  <a:lnTo>
                    <a:pt x="349" y="455"/>
                  </a:lnTo>
                  <a:lnTo>
                    <a:pt x="173" y="719"/>
                  </a:lnTo>
                  <a:lnTo>
                    <a:pt x="278" y="407"/>
                  </a:lnTo>
                  <a:lnTo>
                    <a:pt x="0" y="360"/>
                  </a:lnTo>
                  <a:lnTo>
                    <a:pt x="279" y="31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900000">
              <a:off x="3874680" y="1071360"/>
              <a:ext cx="782640" cy="108720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900000">
              <a:off x="2770200" y="0"/>
              <a:ext cx="1031760" cy="142884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900000">
              <a:off x="4613400" y="511200"/>
              <a:ext cx="403200" cy="5587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00000">
              <a:off x="5749920" y="307800"/>
              <a:ext cx="228600" cy="3175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ABF7-B3AD-4AD9-AF78-7BFDB227D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81000" y="-412920"/>
            <a:ext cx="9392400" cy="7001280"/>
            <a:chOff x="-81000" y="-412920"/>
            <a:chExt cx="9392400" cy="7001280"/>
          </a:xfrm>
        </p:grpSpPr>
        <p:grpSp>
          <p:nvGrpSpPr>
            <p:cNvPr id="219" name=""/>
            <p:cNvGrpSpPr/>
            <p:nvPr/>
          </p:nvGrpSpPr>
          <p:grpSpPr>
            <a:xfrm>
              <a:off x="7944840" y="2367000"/>
              <a:ext cx="1366560" cy="4221360"/>
              <a:chOff x="7944840" y="2367000"/>
              <a:chExt cx="1366560" cy="4221360"/>
            </a:xfrm>
          </p:grpSpPr>
          <p:sp>
            <p:nvSpPr>
              <p:cNvPr id="220" name=""/>
              <p:cNvSpPr/>
              <p:nvPr/>
            </p:nvSpPr>
            <p:spPr>
              <a:xfrm flipV="1" rot="900000">
                <a:off x="8118000" y="399708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 rot="900000">
                <a:off x="8112240" y="2476080"/>
                <a:ext cx="1031760" cy="142884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d1f5f5"/>
                  </a:gs>
                  <a:gs pos="100000">
                    <a:srgbClr val="00cc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00000">
                <a:off x="8558280" y="521964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0f0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900000">
                <a:off x="8715240" y="624672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afa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-81000" y="-412920"/>
              <a:ext cx="2552040" cy="4375440"/>
              <a:chOff x="-81000" y="-412920"/>
              <a:chExt cx="2552040" cy="437544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0" y="245880"/>
                <a:ext cx="863640" cy="102528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900000">
                <a:off x="1444680" y="-319680"/>
                <a:ext cx="882720" cy="1222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9e9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-81000" y="3129120"/>
                <a:ext cx="808200" cy="833400"/>
              </a:xfrm>
              <a:custGeom>
                <a:avLst/>
                <a:gdLst/>
                <a:ahLst/>
                <a:rect l="l" t="t" r="r" b="b"/>
                <a:pathLst>
                  <a:path w="509" h="525">
                    <a:moveTo>
                      <a:pt x="215" y="287"/>
                    </a:moveTo>
                    <a:lnTo>
                      <a:pt x="126" y="525"/>
                    </a:lnTo>
                    <a:lnTo>
                      <a:pt x="254" y="305"/>
                    </a:lnTo>
                    <a:lnTo>
                      <a:pt x="379" y="525"/>
                    </a:lnTo>
                    <a:lnTo>
                      <a:pt x="291" y="287"/>
                    </a:lnTo>
                    <a:lnTo>
                      <a:pt x="509" y="262"/>
                    </a:lnTo>
                    <a:lnTo>
                      <a:pt x="292" y="239"/>
                    </a:lnTo>
                    <a:lnTo>
                      <a:pt x="379" y="0"/>
                    </a:lnTo>
                    <a:lnTo>
                      <a:pt x="253" y="218"/>
                    </a:lnTo>
                    <a:lnTo>
                      <a:pt x="126" y="0"/>
                    </a:lnTo>
                    <a:lnTo>
                      <a:pt x="214" y="243"/>
                    </a:lnTo>
                    <a:lnTo>
                      <a:pt x="0" y="262"/>
                    </a:lnTo>
                    <a:lnTo>
                      <a:pt x="214" y="285"/>
                    </a:lnTo>
                  </a:path>
                </a:pathLst>
              </a:custGeom>
              <a:gradFill rotWithShape="0">
                <a:gsLst>
                  <a:gs pos="0">
                    <a:srgbClr val="dfdf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900000">
                <a:off x="790560" y="758880"/>
                <a:ext cx="403200" cy="5587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900000">
                <a:off x="189000" y="210024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200400"/>
            <a:ext cx="9131400" cy="11448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003399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09920"/>
            <a:ext cx="9131400" cy="38160"/>
          </a:xfrm>
          <a:prstGeom prst="rect">
            <a:avLst/>
          </a:prstGeom>
          <a:gradFill rotWithShape="0">
            <a:gsLst>
              <a:gs pos="0">
                <a:srgbClr val="76e0e6"/>
              </a:gs>
              <a:gs pos="50000">
                <a:srgbClr val="9999ff"/>
              </a:gs>
              <a:gs pos="100000">
                <a:srgbClr val="76e0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6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7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8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3E6-3119-4F69-9DD5-CB8DC2572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-121320"/>
            <a:ext cx="6015600" cy="3445560"/>
            <a:chOff x="0" y="-121320"/>
            <a:chExt cx="6015600" cy="3445560"/>
          </a:xfrm>
        </p:grpSpPr>
        <p:sp>
          <p:nvSpPr>
            <p:cNvPr id="273" name=""/>
            <p:cNvSpPr/>
            <p:nvPr/>
          </p:nvSpPr>
          <p:spPr>
            <a:xfrm flipV="1">
              <a:off x="0" y="1752480"/>
              <a:ext cx="1322280" cy="1571760"/>
            </a:xfrm>
            <a:custGeom>
              <a:avLst/>
              <a:gdLst/>
              <a:ahLst/>
              <a:rect l="l" t="t" r="r" b="b"/>
              <a:pathLst>
                <a:path w="833" h="990">
                  <a:moveTo>
                    <a:pt x="284" y="448"/>
                  </a:moveTo>
                  <a:lnTo>
                    <a:pt x="115" y="0"/>
                  </a:lnTo>
                  <a:lnTo>
                    <a:pt x="353" y="398"/>
                  </a:lnTo>
                  <a:lnTo>
                    <a:pt x="591" y="0"/>
                  </a:lnTo>
                  <a:lnTo>
                    <a:pt x="419" y="448"/>
                  </a:lnTo>
                  <a:lnTo>
                    <a:pt x="832" y="495"/>
                  </a:lnTo>
                  <a:lnTo>
                    <a:pt x="417" y="540"/>
                  </a:lnTo>
                  <a:lnTo>
                    <a:pt x="591" y="989"/>
                  </a:lnTo>
                  <a:lnTo>
                    <a:pt x="353" y="590"/>
                  </a:lnTo>
                  <a:lnTo>
                    <a:pt x="115" y="989"/>
                  </a:lnTo>
                  <a:lnTo>
                    <a:pt x="282" y="543"/>
                  </a:lnTo>
                  <a:lnTo>
                    <a:pt x="0" y="509"/>
                  </a:lnTo>
                  <a:lnTo>
                    <a:pt x="0" y="479"/>
                  </a:lnTo>
                  <a:lnTo>
                    <a:pt x="284" y="44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900000">
              <a:off x="593640" y="-360"/>
              <a:ext cx="1143000" cy="158148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1739880" y="947160"/>
              <a:ext cx="1108080" cy="1143000"/>
            </a:xfrm>
            <a:custGeom>
              <a:avLst/>
              <a:gdLst/>
              <a:ahLst/>
              <a:rect l="l" t="t" r="r" b="b"/>
              <a:pathLst>
                <a:path w="698" h="720">
                  <a:moveTo>
                    <a:pt x="279" y="315"/>
                  </a:moveTo>
                  <a:lnTo>
                    <a:pt x="173" y="0"/>
                  </a:lnTo>
                  <a:lnTo>
                    <a:pt x="349" y="263"/>
                  </a:lnTo>
                  <a:lnTo>
                    <a:pt x="519" y="0"/>
                  </a:lnTo>
                  <a:lnTo>
                    <a:pt x="415" y="315"/>
                  </a:lnTo>
                  <a:lnTo>
                    <a:pt x="697" y="360"/>
                  </a:lnTo>
                  <a:lnTo>
                    <a:pt x="413" y="403"/>
                  </a:lnTo>
                  <a:lnTo>
                    <a:pt x="519" y="719"/>
                  </a:lnTo>
                  <a:lnTo>
                    <a:pt x="349" y="455"/>
                  </a:lnTo>
                  <a:lnTo>
                    <a:pt x="173" y="719"/>
                  </a:lnTo>
                  <a:lnTo>
                    <a:pt x="278" y="407"/>
                  </a:lnTo>
                  <a:lnTo>
                    <a:pt x="0" y="360"/>
                  </a:lnTo>
                  <a:lnTo>
                    <a:pt x="279" y="31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 rot="900000">
              <a:off x="3874680" y="1071360"/>
              <a:ext cx="782640" cy="108720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 rot="900000">
              <a:off x="2770200" y="0"/>
              <a:ext cx="1031760" cy="142884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d1f5f5"/>
                </a:gs>
                <a:gs pos="100000">
                  <a:srgbClr val="00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900000">
              <a:off x="4613400" y="511200"/>
              <a:ext cx="403200" cy="5587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00000">
              <a:off x="5749920" y="307800"/>
              <a:ext cx="228600" cy="317520"/>
            </a:xfrm>
            <a:custGeom>
              <a:avLst/>
              <a:gdLst/>
              <a:ahLst/>
              <a:rect l="l" t="t" r="r" b="b"/>
              <a:pathLst>
                <a:path w="493" h="685">
                  <a:moveTo>
                    <a:pt x="0" y="173"/>
                  </a:moveTo>
                  <a:lnTo>
                    <a:pt x="223" y="295"/>
                  </a:lnTo>
                  <a:lnTo>
                    <a:pt x="246" y="0"/>
                  </a:lnTo>
                  <a:lnTo>
                    <a:pt x="268" y="295"/>
                  </a:lnTo>
                  <a:lnTo>
                    <a:pt x="490" y="169"/>
                  </a:lnTo>
                  <a:lnTo>
                    <a:pt x="290" y="343"/>
                  </a:lnTo>
                  <a:lnTo>
                    <a:pt x="492" y="514"/>
                  </a:lnTo>
                  <a:lnTo>
                    <a:pt x="268" y="390"/>
                  </a:lnTo>
                  <a:lnTo>
                    <a:pt x="246" y="684"/>
                  </a:lnTo>
                  <a:lnTo>
                    <a:pt x="223" y="390"/>
                  </a:lnTo>
                  <a:lnTo>
                    <a:pt x="0" y="514"/>
                  </a:lnTo>
                  <a:lnTo>
                    <a:pt x="201" y="343"/>
                  </a:lnTo>
                  <a:lnTo>
                    <a:pt x="0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Good 4 U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Employee of the Month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ontes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The Rules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ach employee is responsible for returning his/her completed survey forms from customers and fellow employe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voting period for each monthly contest runs from the first to the twentieth of each mon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Basic Qualifications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79560" y="1981080"/>
            <a:ext cx="708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ceptional survey reviews from custom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emplary survey reviews from fellow employe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ss quality assurance tes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97160" y="3952800"/>
            <a:ext cx="963720" cy="701640"/>
          </a:xfrm>
          <a:prstGeom prst="ellipse">
            <a:avLst/>
          </a:prstGeom>
          <a:solidFill>
            <a:srgbClr val="00ccc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/>
          <p:nvPr/>
        </p:nvSpPr>
        <p:spPr>
          <a:xfrm>
            <a:off x="5416560" y="3952800"/>
            <a:ext cx="963720" cy="701640"/>
          </a:xfrm>
          <a:prstGeom prst="ellipse">
            <a:avLst/>
          </a:prstGeom>
          <a:solidFill>
            <a:srgbClr val="00ccc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979560" y="1981080"/>
            <a:ext cx="747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me and picture posted in restaur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ree dinner at Good </a:t>
            </a:r>
            <a:r>
              <a:rPr b="0" i="1" lang="en-US" sz="3600" spc="-1" strike="noStrike">
                <a:solidFill>
                  <a:srgbClr val="000000"/>
                </a:solidFill>
                <a:latin typeface="Trebuchet MS"/>
              </a:rPr>
              <a:t>4 U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 one mont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week of additional paid vacation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Prizes Awarded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28760" y="1904760"/>
            <a:ext cx="766296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This Month’s Winner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195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Penelope Jone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aitress 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9560" y="342720"/>
            <a:ext cx="7935840" cy="1143000"/>
          </a:xfrm>
          <a:prstGeom prst="rect">
            <a:avLst/>
          </a:prstGeom>
          <a:noFill/>
          <a:ln w="0">
            <a:noFill/>
          </a:ln>
          <a:effectLst>
            <a:outerShdw dist="31565" dir="2700000" blurRad="0" rotWithShape="0">
              <a:srgbClr val="76e0e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Penelope Jones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98440" y="1980720"/>
            <a:ext cx="6981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Position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Chef’s assist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Years of Service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Tw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ason Andrews is a devoted employee. He goes out of his way to keep things running smoothly in the kitchen.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rebuchet MS"/>
              </a:rPr>
              <a:t>Hobbies:</a:t>
            </a: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-line skating, skiing, and woodworking. Jason is currently collecting low-sugar deserts for a cookbook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9T21:37:58Z</dcterms:created>
  <dc:creator>Pat R. Graves</dc:creator>
  <dc:description/>
  <dc:language>en-US</dc:language>
  <cp:lastModifiedBy>Pat Graves</cp:lastModifiedBy>
  <cp:lastPrinted>1997-05-06T20:31:28Z</cp:lastPrinted>
  <dcterms:modified xsi:type="dcterms:W3CDTF">2004-03-12T18:21:33Z</dcterms:modified>
  <cp:revision>36</cp:revision>
  <dc:subject/>
  <dc:title>Employee of the Month Contest</dc:title>
</cp:coreProperties>
</file>