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7452-2EAF-4C3E-B68E-797A69F29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947E-E91D-42D7-896C-32D7F78A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8DA0-BE5A-4B2A-A1BB-DC5104523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3B23-4752-4C30-AF2C-DEE3CD8A2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6AFD-55AD-46B4-8824-4C26CA76C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4BF5-A5A2-418B-9086-53302220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9C49-9CD1-40C7-99D1-69F8750E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007D-8015-40AF-9799-DD3CE787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E667-9D07-4D76-B40C-57E6F2E3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ACB9-F60A-4DF9-B4C2-86C42295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BE04-94EC-4308-BABB-9DA14214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A7C6-3E4E-4A09-8C59-4BA26F2E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0474-6228-43CD-B386-3370DADF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D19D-2BFB-4196-8047-71DC28AD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C5EC-9068-441B-849C-381434E7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8DEC-0326-483B-9E6F-31F2CC231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E126-1E81-4793-AF13-11E2EFB7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1D48-93AE-44A8-B546-85852CCF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8310-D1F5-4911-9C8F-91EC1360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2679-8FD1-490A-88D9-655B152D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62B6-AC02-4CBF-8EA0-9AAA17A6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0730-21DA-40B1-89ED-BB111335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E674-D296-481D-8AEA-B928546F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6E75-1710-4ECA-BB79-BD79E0ED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ED91-396A-42EF-BD0D-5B8667658A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6BD1-9EE0-466C-93D6-83CF0A2EC8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Inventory Day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4 U Training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ventory Procedur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ive 1 hour prior to your regula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to your supervisor for assig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your assigned work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ow to Count Equipmen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the serial number and model number whenever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 a description of the equipment's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don’t know, 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ow to Count Suppl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a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Blue dinner 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 the number of items fitting th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the number of items in open b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Green polo shirts, 5 3/4 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ventory Schedu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Y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3,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am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4,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cs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cy is extremel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to work 1 hour e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to work 10 hours on inventory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r comfortable clot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9T20:17:26Z</dcterms:created>
  <dc:creator>Pat R. Graves</dc:creator>
  <dc:description/>
  <dc:language>en-US</dc:language>
  <cp:lastModifiedBy>Pat Graves</cp:lastModifiedBy>
  <cp:lastPrinted>1997-05-05T01:14:14Z</cp:lastPrinted>
  <dcterms:modified xsi:type="dcterms:W3CDTF">2004-03-13T04:02:00Z</dcterms:modified>
  <cp:revision>55</cp:revision>
  <dc:subject/>
  <dc:title>Inventory Day</dc:title>
</cp:coreProperties>
</file>