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556-8D27-4ADD-84F0-335FD211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0781-EC68-4AFB-A051-FC2BFCDA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83A4-C9DA-44CF-9FCE-CD991786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547-8E4E-4FA3-B701-F69F759B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BD01-1651-4451-971B-60AF1DA5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D98B-F290-48D6-BE69-2472CB39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51E8-A75A-4A2A-9C78-9BB729BE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E001-E182-4908-9B60-826C0D75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1203-6007-41AD-BFB7-E2FEA04A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CC58-D30C-474B-BA31-AC213015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7B41-96EB-4634-9056-5F74CE56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D42-EF52-4BC5-AFEE-C47DB155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35BC-2584-4C0A-A989-51D568CC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B53C-40C4-4015-B236-C0AA4550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21D7-9CE2-490D-9447-C65E7322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1AB6-CA98-4F49-9574-0126C20B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9366-79C3-44DD-9761-08193BBF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9D2-429D-4BC9-A947-583F2543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3332-7D5A-4323-BAF2-1D0EB609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525B-A5CC-4163-8541-6211AB39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FD33-454E-46CC-B06E-45CCF7A6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2236-A8C2-4686-8DC0-F8D8A66B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F6A-1145-4606-A903-6F560F77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2460-B0E5-4DE4-916B-DE4BBAE2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690840" indent="-2656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2" marL="1062720" indent="-212400">
              <a:spcBef>
                <a:spcPts val="90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3" marL="1487880" indent="-21240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4" marL="1913040" indent="-212400"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5" marL="1913040" indent="-21240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6" marL="1913040" indent="-21240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CDBA-74C0-4DB8-BFD0-8954403435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A472-6636-40F5-8830-AC8620A72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836640"/>
            <a:ext cx="8137440" cy="4500360"/>
          </a:xfrm>
          <a:prstGeom prst="rightArrow">
            <a:avLst>
              <a:gd name="adj1" fmla="val 66981"/>
              <a:gd name="adj2" fmla="val 45648"/>
            </a:avLst>
          </a:prstGeom>
          <a:gradFill rotWithShape="0">
            <a:gsLst>
              <a:gs pos="0">
                <a:srgbClr val="2b877c"/>
              </a:gs>
              <a:gs pos="100000">
                <a:srgbClr val="56925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335640" y="3359160"/>
            <a:ext cx="2550960" cy="2743200"/>
            <a:chOff x="6335640" y="3359160"/>
            <a:chExt cx="2550960" cy="2743200"/>
          </a:xfrm>
        </p:grpSpPr>
        <p:pic>
          <p:nvPicPr>
            <p:cNvPr id="84" name="" descr=""/>
            <p:cNvPicPr/>
            <p:nvPr/>
          </p:nvPicPr>
          <p:blipFill>
            <a:blip r:embed="rId2">
              <a:lum contrast="-12000"/>
            </a:blip>
            <a:stretch/>
          </p:blipFill>
          <p:spPr>
            <a:xfrm>
              <a:off x="6993360" y="3570120"/>
              <a:ext cx="729360" cy="177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>
              <a:lum bright="-18000"/>
            </a:blip>
            <a:stretch/>
          </p:blipFill>
          <p:spPr>
            <a:xfrm>
              <a:off x="7545960" y="3516840"/>
              <a:ext cx="740880" cy="21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 flipH="1">
              <a:off x="6335640" y="3859200"/>
              <a:ext cx="761040" cy="11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7914600" y="3359160"/>
              <a:ext cx="972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971640" y="1809360"/>
            <a:ext cx="6121440" cy="25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0" lang="en-US" sz="6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1809360"/>
            <a:ext cx="6121440" cy="25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 Black"/>
              </a:rPr>
              <a:t>Spring Festival Marathon</a:t>
            </a:r>
            <a:endParaRPr b="0" lang="en-US" sz="6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008000" y="4941360"/>
            <a:ext cx="5796000" cy="6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April 24, 2005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079640" y="5877000"/>
            <a:ext cx="1871280" cy="755640"/>
            <a:chOff x="1079640" y="5877000"/>
            <a:chExt cx="1871280" cy="755640"/>
          </a:xfrm>
        </p:grpSpPr>
        <p:sp>
          <p:nvSpPr>
            <p:cNvPr id="129" name=""/>
            <p:cNvSpPr txBox="1"/>
            <p:nvPr/>
          </p:nvSpPr>
          <p:spPr>
            <a:xfrm>
              <a:off x="2429640" y="6164640"/>
              <a:ext cx="521280" cy="46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969560" y="5996880"/>
              <a:ext cx="674640" cy="635400"/>
              <a:chOff x="1969560" y="5996880"/>
              <a:chExt cx="674640" cy="635400"/>
            </a:xfrm>
          </p:grpSpPr>
          <p:sp>
            <p:nvSpPr>
              <p:cNvPr id="131" name=""/>
              <p:cNvSpPr/>
              <p:nvPr/>
            </p:nvSpPr>
            <p:spPr>
              <a:xfrm>
                <a:off x="1969560" y="5996880"/>
                <a:ext cx="674640" cy="6354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58920" y="6065280"/>
                <a:ext cx="312480" cy="35388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6fb56d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 txBox="1"/>
            <p:nvPr/>
          </p:nvSpPr>
          <p:spPr>
            <a:xfrm>
              <a:off x="1079640" y="5877000"/>
              <a:ext cx="125784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Black"/>
              </a:rPr>
              <a:t>The Day’s Schedule</a:t>
            </a:r>
            <a:endParaRPr b="0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1179000" y="2514600"/>
            <a:ext cx="6407640" cy="2651040"/>
          </a:xfrm>
          <a:prstGeom prst="rect">
            <a:avLst/>
          </a:prstGeom>
          <a:noFill/>
          <a:ln w="38160">
            <a:solidFill>
              <a:srgbClr val="99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228600" bIns="2286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eck i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7:30 a.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ace begin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:30 a.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elebrati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:00 p.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2T21:33:18Z</dcterms:created>
  <dc:creator>Pat R. Graves</dc:creator>
  <dc:description/>
  <dc:language>en-US</dc:language>
  <cp:lastModifiedBy>Pat Graves</cp:lastModifiedBy>
  <cp:lastPrinted>1997-05-06T16:23:26Z</cp:lastPrinted>
  <dcterms:modified xsi:type="dcterms:W3CDTF">2004-03-12T20:51:44Z</dcterms:modified>
  <cp:revision>23</cp:revision>
  <dc:subject/>
  <dc:title>Spring Festival Marathon</dc:title>
</cp:coreProperties>
</file>