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FD1-01F7-43E0-9F8B-016F35CD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A41-9C68-49B8-8432-3C0E953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9A4-F118-4D83-97A9-3A1D2A9B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90D-62C3-40B5-A311-C89D9F14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36E-54BD-4327-A543-F075FF71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9B8-F3F8-4889-996C-6960378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B01-43C3-4C92-8FF7-9ADFD2C1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647-5AEC-43DE-8538-BC6E21F4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7F5-D378-42D5-A289-FC8B4274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3AE-F5E7-4403-9CA1-F4A5AEF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830-FD3C-4E26-A6C3-081BECA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F36-B597-424A-AB1E-CF02C66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D995-257D-4C09-9B54-03D865D066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B5E-2631-456B-AC49-376D662D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4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s you to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stauran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cson,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w in Tuc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o juice 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é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nn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 Faji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y chicken, Monter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cheese, tomatoes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es wrapped in a flour tort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on Chicken Ro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9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ed boneless chicken brea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with spicy bread crumb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ressed with a Dijon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i Stir F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y shrimp with fresh gar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 served over 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f wild or white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3T22:08:07Z</dcterms:created>
  <dc:creator>Pat R. Graves</dc:creator>
  <dc:description/>
  <dc:language>en-US</dc:language>
  <cp:lastModifiedBy>Pat Graves</cp:lastModifiedBy>
  <cp:lastPrinted>1997-05-06T16:25:01Z</cp:lastPrinted>
  <dcterms:modified xsi:type="dcterms:W3CDTF">2004-03-06T03:38:07Z</dcterms:modified>
  <cp:revision>61</cp:revision>
  <dc:subject/>
  <dc:title>Welcome in Tucson</dc:title>
</cp:coreProperties>
</file>