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7557-D4B7-4E7B-A3DD-F0F850337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7080" y="151920"/>
            <a:ext cx="654984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55640" y="2781000"/>
            <a:ext cx="68025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655640" y="4512240"/>
            <a:ext cx="68025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B64D-DBCE-470D-8724-FF5E9E95C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7080" y="151920"/>
            <a:ext cx="654984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55640" y="2781000"/>
            <a:ext cx="33195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41520" y="2781000"/>
            <a:ext cx="33195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655640" y="4512240"/>
            <a:ext cx="33195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41520" y="4512240"/>
            <a:ext cx="33195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3C11-7772-45C3-BDCE-3FED940DC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7080" y="151920"/>
            <a:ext cx="654984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655640" y="2781000"/>
            <a:ext cx="219024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55680" y="2781000"/>
            <a:ext cx="219024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256080" y="2781000"/>
            <a:ext cx="219024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655640" y="4512240"/>
            <a:ext cx="219024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55680" y="4512240"/>
            <a:ext cx="219024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256080" y="4512240"/>
            <a:ext cx="219024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F17E-DDC7-40E4-B85C-BE5CA7E8C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40D00-969E-4652-A0AE-CFA047796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7080" y="151920"/>
            <a:ext cx="654984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655640" y="2781000"/>
            <a:ext cx="6802560" cy="33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6B7B6-AC25-4982-AA7F-880DE6F3C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97080" y="151920"/>
            <a:ext cx="654984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55640" y="2781000"/>
            <a:ext cx="680256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26802-7A08-4A48-A7A9-DC01CD13C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7080" y="151920"/>
            <a:ext cx="654984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55640" y="2781000"/>
            <a:ext cx="331956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41520" y="2781000"/>
            <a:ext cx="331956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6F809-1973-44C2-95C6-7DB84CB96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7080" y="151920"/>
            <a:ext cx="654984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4B9A4-079A-4A35-B337-1F3B433FE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297080" y="151920"/>
            <a:ext cx="65498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6B66C-251F-4265-AFEE-4D5D34E44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7080" y="151920"/>
            <a:ext cx="654984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655640" y="2781000"/>
            <a:ext cx="33195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41520" y="2781000"/>
            <a:ext cx="331956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655640" y="4512240"/>
            <a:ext cx="33195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6163A-ABEB-41B4-B18D-6D1F659F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7080" y="151920"/>
            <a:ext cx="654984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655640" y="2781000"/>
            <a:ext cx="6802560" cy="33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E423-A22D-414B-B393-E2C7939BE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7080" y="151920"/>
            <a:ext cx="654984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655640" y="2781000"/>
            <a:ext cx="331956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41520" y="2781000"/>
            <a:ext cx="33195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41520" y="4512240"/>
            <a:ext cx="33195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D99D9-230D-4413-BD4F-94937A6B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7080" y="151920"/>
            <a:ext cx="654984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55640" y="2781000"/>
            <a:ext cx="33195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41520" y="2781000"/>
            <a:ext cx="33195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655640" y="4512240"/>
            <a:ext cx="68025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9268B-EE90-42F9-AEE1-DCE77D5C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7080" y="151920"/>
            <a:ext cx="654984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55640" y="2781000"/>
            <a:ext cx="68025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655640" y="4512240"/>
            <a:ext cx="68025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787B2-6561-4C3F-A28C-A65C5912B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7080" y="151920"/>
            <a:ext cx="654984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655640" y="2781000"/>
            <a:ext cx="33195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41520" y="2781000"/>
            <a:ext cx="33195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655640" y="4512240"/>
            <a:ext cx="33195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41520" y="4512240"/>
            <a:ext cx="33195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96EB2-F1F4-4277-ADCD-6AB56E666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7080" y="151920"/>
            <a:ext cx="654984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55640" y="2781000"/>
            <a:ext cx="219024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55680" y="2781000"/>
            <a:ext cx="219024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256080" y="2781000"/>
            <a:ext cx="219024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655640" y="4512240"/>
            <a:ext cx="219024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955680" y="4512240"/>
            <a:ext cx="219024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256080" y="4512240"/>
            <a:ext cx="219024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D1261-FED5-4D3C-BEDF-5753F00FD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7080" y="151920"/>
            <a:ext cx="654984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55640" y="2781000"/>
            <a:ext cx="680256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5E0D-61F4-4581-867D-B3B3B02D3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7080" y="151920"/>
            <a:ext cx="654984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55640" y="2781000"/>
            <a:ext cx="331956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1520" y="2781000"/>
            <a:ext cx="331956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D0E2-55A3-4328-BC6F-BBCF85A7C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7080" y="151920"/>
            <a:ext cx="654984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F5A7-601E-444C-84B9-C27FDEAE1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97080" y="151920"/>
            <a:ext cx="65498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1AEE-189F-4476-BDD0-1C33708A3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7080" y="151920"/>
            <a:ext cx="654984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655640" y="2781000"/>
            <a:ext cx="33195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41520" y="2781000"/>
            <a:ext cx="331956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655640" y="4512240"/>
            <a:ext cx="33195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17F6-B7D3-42AA-BF4C-122D19BB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7080" y="151920"/>
            <a:ext cx="654984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55640" y="2781000"/>
            <a:ext cx="331956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2781000"/>
            <a:ext cx="33195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41520" y="4512240"/>
            <a:ext cx="33195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4A6D-FF19-4F97-87E4-9C45DBBD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7080" y="151920"/>
            <a:ext cx="654984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55640" y="2781000"/>
            <a:ext cx="33195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1520" y="2781000"/>
            <a:ext cx="33195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55640" y="4512240"/>
            <a:ext cx="68025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4201-AFD0-4610-92CA-FB5B664F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00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82160" cy="1949400"/>
          </a:xfrm>
          <a:custGeom>
            <a:avLst/>
            <a:gdLst/>
            <a:ahLst/>
            <a:rect l="l" t="t" r="r" b="b"/>
            <a:pathLst>
              <a:path w="5784" h="1228">
                <a:moveTo>
                  <a:pt x="0" y="0"/>
                </a:moveTo>
                <a:cubicBezTo>
                  <a:pt x="0" y="0"/>
                  <a:pt x="2904" y="12"/>
                  <a:pt x="5784" y="12"/>
                </a:cubicBezTo>
                <a:cubicBezTo>
                  <a:pt x="5772" y="912"/>
                  <a:pt x="5764" y="499"/>
                  <a:pt x="5776" y="1120"/>
                </a:cubicBezTo>
                <a:cubicBezTo>
                  <a:pt x="5553" y="1131"/>
                  <a:pt x="5518" y="1125"/>
                  <a:pt x="5337" y="1117"/>
                </a:cubicBezTo>
                <a:cubicBezTo>
                  <a:pt x="5157" y="1106"/>
                  <a:pt x="4917" y="1062"/>
                  <a:pt x="4696" y="1052"/>
                </a:cubicBezTo>
                <a:cubicBezTo>
                  <a:pt x="4475" y="1042"/>
                  <a:pt x="4248" y="1041"/>
                  <a:pt x="4008" y="1058"/>
                </a:cubicBezTo>
                <a:cubicBezTo>
                  <a:pt x="3768" y="1075"/>
                  <a:pt x="3493" y="1125"/>
                  <a:pt x="3256" y="1152"/>
                </a:cubicBezTo>
                <a:cubicBezTo>
                  <a:pt x="3019" y="1179"/>
                  <a:pt x="2857" y="1218"/>
                  <a:pt x="2586" y="1223"/>
                </a:cubicBezTo>
                <a:cubicBezTo>
                  <a:pt x="2315" y="1228"/>
                  <a:pt x="1916" y="1204"/>
                  <a:pt x="1628" y="1184"/>
                </a:cubicBezTo>
                <a:cubicBezTo>
                  <a:pt x="1340" y="1164"/>
                  <a:pt x="1127" y="1114"/>
                  <a:pt x="856" y="1100"/>
                </a:cubicBezTo>
                <a:cubicBezTo>
                  <a:pt x="585" y="1086"/>
                  <a:pt x="316" y="1088"/>
                  <a:pt x="0" y="1102"/>
                </a:cubicBezTo>
                <a:cubicBezTo>
                  <a:pt x="0" y="550"/>
                  <a:pt x="0" y="0"/>
                  <a:pt x="0" y="0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587FF-B583-4E7F-A80C-4632A15C6656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rot="129000">
            <a:off x="0" y="1434600"/>
            <a:ext cx="9144000" cy="609840"/>
          </a:xfrm>
          <a:custGeom>
            <a:avLst/>
            <a:gdLst/>
            <a:ahLst/>
            <a:rect l="l" t="t" r="r" b="b"/>
            <a:pathLst>
              <a:path w="2859" h="193">
                <a:moveTo>
                  <a:pt x="294" y="100"/>
                </a:moveTo>
                <a:cubicBezTo>
                  <a:pt x="354" y="93"/>
                  <a:pt x="306" y="101"/>
                  <a:pt x="358" y="103"/>
                </a:cubicBezTo>
                <a:cubicBezTo>
                  <a:pt x="410" y="105"/>
                  <a:pt x="494" y="108"/>
                  <a:pt x="604" y="114"/>
                </a:cubicBezTo>
                <a:cubicBezTo>
                  <a:pt x="729" y="126"/>
                  <a:pt x="824" y="129"/>
                  <a:pt x="1020" y="139"/>
                </a:cubicBezTo>
                <a:cubicBezTo>
                  <a:pt x="1216" y="150"/>
                  <a:pt x="1337" y="146"/>
                  <a:pt x="1440" y="135"/>
                </a:cubicBezTo>
                <a:cubicBezTo>
                  <a:pt x="1543" y="125"/>
                  <a:pt x="1664" y="88"/>
                  <a:pt x="1743" y="75"/>
                </a:cubicBezTo>
                <a:cubicBezTo>
                  <a:pt x="1822" y="64"/>
                  <a:pt x="1875" y="53"/>
                  <a:pt x="1976" y="39"/>
                </a:cubicBezTo>
                <a:cubicBezTo>
                  <a:pt x="2077" y="24"/>
                  <a:pt x="2227" y="0"/>
                  <a:pt x="2351" y="6"/>
                </a:cubicBezTo>
                <a:cubicBezTo>
                  <a:pt x="2475" y="10"/>
                  <a:pt x="2839" y="39"/>
                  <a:pt x="2859" y="63"/>
                </a:cubicBezTo>
                <a:lnTo>
                  <a:pt x="2525" y="91"/>
                </a:lnTo>
                <a:cubicBezTo>
                  <a:pt x="2298" y="52"/>
                  <a:pt x="2245" y="82"/>
                  <a:pt x="2072" y="92"/>
                </a:cubicBezTo>
                <a:cubicBezTo>
                  <a:pt x="1900" y="103"/>
                  <a:pt x="1843" y="102"/>
                  <a:pt x="1664" y="138"/>
                </a:cubicBezTo>
                <a:cubicBezTo>
                  <a:pt x="1485" y="174"/>
                  <a:pt x="1441" y="186"/>
                  <a:pt x="1145" y="186"/>
                </a:cubicBezTo>
                <a:cubicBezTo>
                  <a:pt x="849" y="185"/>
                  <a:pt x="751" y="193"/>
                  <a:pt x="460" y="186"/>
                </a:cubicBezTo>
                <a:cubicBezTo>
                  <a:pt x="285" y="178"/>
                  <a:pt x="2" y="164"/>
                  <a:pt x="0" y="143"/>
                </a:cubicBezTo>
                <a:lnTo>
                  <a:pt x="294" y="1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fbf0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-380880" y="-685800"/>
          <a:ext cx="2019240" cy="2355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80880" y="-685800"/>
                    <a:ext cx="2019240" cy="23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2519280" y="1143000"/>
            <a:ext cx="1305000" cy="152388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8153280" y="533520"/>
            <a:ext cx="1109880" cy="129528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4"/>
          <p:cNvSpPr>
            <a:spLocks noGrp="1"/>
          </p:cNvSpPr>
          <p:nvPr>
            <p:ph type="title"/>
          </p:nvPr>
        </p:nvSpPr>
        <p:spPr>
          <a:xfrm>
            <a:off x="1297080" y="151920"/>
            <a:ext cx="654984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655640" y="2781000"/>
            <a:ext cx="680256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lvl="1" marL="594360" indent="-228600">
              <a:spcBef>
                <a:spcPts val="799"/>
              </a:spcBef>
              <a:buClr>
                <a:srgbClr val="ffff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lvl="2" marL="914400" indent="-182880">
              <a:spcBef>
                <a:spcPts val="799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lvl="3" marL="1280160" indent="-182880">
              <a:spcBef>
                <a:spcPts val="799"/>
              </a:spcBef>
              <a:buClr>
                <a:srgbClr val="ffff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lvl="4" marL="1645920" indent="-182880">
              <a:spcBef>
                <a:spcPts val="799"/>
              </a:spcBef>
              <a:buClr>
                <a:srgbClr val="ffff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lvl="5" marL="1645920" indent="-182880">
              <a:spcBef>
                <a:spcPts val="799"/>
              </a:spcBef>
              <a:buClr>
                <a:srgbClr val="ffff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lvl="6" marL="1645920" indent="-182880">
              <a:spcBef>
                <a:spcPts val="799"/>
              </a:spcBef>
              <a:buClr>
                <a:srgbClr val="ffff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1" name=""/>
          <p:cNvSpPr/>
          <p:nvPr/>
        </p:nvSpPr>
        <p:spPr>
          <a:xfrm>
            <a:off x="0" y="5985000"/>
            <a:ext cx="9144000" cy="87300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100000">
                <a:srgbClr val="9c004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00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82160" cy="1617840"/>
          </a:xfrm>
          <a:custGeom>
            <a:avLst/>
            <a:gdLst/>
            <a:ahLst/>
            <a:rect l="l" t="t" r="r" b="b"/>
            <a:pathLst>
              <a:path w="5784" h="1019">
                <a:moveTo>
                  <a:pt x="0" y="0"/>
                </a:moveTo>
                <a:cubicBezTo>
                  <a:pt x="0" y="0"/>
                  <a:pt x="2904" y="10"/>
                  <a:pt x="5784" y="10"/>
                </a:cubicBezTo>
                <a:cubicBezTo>
                  <a:pt x="5780" y="836"/>
                  <a:pt x="5780" y="24"/>
                  <a:pt x="5780" y="840"/>
                </a:cubicBezTo>
                <a:cubicBezTo>
                  <a:pt x="5564" y="912"/>
                  <a:pt x="5511" y="893"/>
                  <a:pt x="5332" y="892"/>
                </a:cubicBezTo>
                <a:cubicBezTo>
                  <a:pt x="5153" y="891"/>
                  <a:pt x="4930" y="842"/>
                  <a:pt x="4708" y="836"/>
                </a:cubicBezTo>
                <a:cubicBezTo>
                  <a:pt x="4486" y="830"/>
                  <a:pt x="4236" y="838"/>
                  <a:pt x="3997" y="858"/>
                </a:cubicBezTo>
                <a:cubicBezTo>
                  <a:pt x="3758" y="878"/>
                  <a:pt x="3540" y="924"/>
                  <a:pt x="3276" y="956"/>
                </a:cubicBezTo>
                <a:cubicBezTo>
                  <a:pt x="2744" y="1012"/>
                  <a:pt x="2820" y="1013"/>
                  <a:pt x="2552" y="1016"/>
                </a:cubicBezTo>
                <a:cubicBezTo>
                  <a:pt x="2284" y="1019"/>
                  <a:pt x="1949" y="991"/>
                  <a:pt x="1668" y="972"/>
                </a:cubicBezTo>
                <a:cubicBezTo>
                  <a:pt x="1387" y="953"/>
                  <a:pt x="1146" y="909"/>
                  <a:pt x="868" y="900"/>
                </a:cubicBezTo>
                <a:cubicBezTo>
                  <a:pt x="590" y="891"/>
                  <a:pt x="308" y="880"/>
                  <a:pt x="0" y="917"/>
                </a:cubicBezTo>
                <a:cubicBezTo>
                  <a:pt x="0" y="458"/>
                  <a:pt x="0" y="0"/>
                  <a:pt x="0" y="0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2276640"/>
            <a:ext cx="810108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Comic Sans MS"/>
              </a:rPr>
              <a:t>Click to edit the title text format</a:t>
            </a:r>
            <a:endParaRPr b="1" lang="en-US" sz="6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41F77-93D5-4BB4-84E9-D7B297AB76C7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29000">
            <a:off x="-4320" y="1112400"/>
            <a:ext cx="9144000" cy="609840"/>
          </a:xfrm>
          <a:custGeom>
            <a:avLst/>
            <a:gdLst/>
            <a:ahLst/>
            <a:rect l="l" t="t" r="r" b="b"/>
            <a:pathLst>
              <a:path w="2859" h="193">
                <a:moveTo>
                  <a:pt x="294" y="100"/>
                </a:moveTo>
                <a:cubicBezTo>
                  <a:pt x="354" y="93"/>
                  <a:pt x="306" y="101"/>
                  <a:pt x="358" y="103"/>
                </a:cubicBezTo>
                <a:cubicBezTo>
                  <a:pt x="410" y="105"/>
                  <a:pt x="494" y="108"/>
                  <a:pt x="604" y="114"/>
                </a:cubicBezTo>
                <a:cubicBezTo>
                  <a:pt x="729" y="126"/>
                  <a:pt x="824" y="129"/>
                  <a:pt x="1020" y="139"/>
                </a:cubicBezTo>
                <a:cubicBezTo>
                  <a:pt x="1216" y="150"/>
                  <a:pt x="1337" y="146"/>
                  <a:pt x="1440" y="135"/>
                </a:cubicBezTo>
                <a:cubicBezTo>
                  <a:pt x="1543" y="125"/>
                  <a:pt x="1664" y="88"/>
                  <a:pt x="1743" y="75"/>
                </a:cubicBezTo>
                <a:cubicBezTo>
                  <a:pt x="1822" y="64"/>
                  <a:pt x="1875" y="53"/>
                  <a:pt x="1976" y="39"/>
                </a:cubicBezTo>
                <a:cubicBezTo>
                  <a:pt x="2077" y="24"/>
                  <a:pt x="2227" y="0"/>
                  <a:pt x="2351" y="6"/>
                </a:cubicBezTo>
                <a:cubicBezTo>
                  <a:pt x="2475" y="10"/>
                  <a:pt x="2839" y="39"/>
                  <a:pt x="2859" y="63"/>
                </a:cubicBezTo>
                <a:lnTo>
                  <a:pt x="2525" y="91"/>
                </a:lnTo>
                <a:cubicBezTo>
                  <a:pt x="2298" y="52"/>
                  <a:pt x="2245" y="82"/>
                  <a:pt x="2072" y="92"/>
                </a:cubicBezTo>
                <a:cubicBezTo>
                  <a:pt x="1900" y="103"/>
                  <a:pt x="1843" y="102"/>
                  <a:pt x="1664" y="138"/>
                </a:cubicBezTo>
                <a:cubicBezTo>
                  <a:pt x="1485" y="174"/>
                  <a:pt x="1441" y="186"/>
                  <a:pt x="1145" y="186"/>
                </a:cubicBezTo>
                <a:cubicBezTo>
                  <a:pt x="849" y="185"/>
                  <a:pt x="751" y="193"/>
                  <a:pt x="460" y="186"/>
                </a:cubicBezTo>
                <a:cubicBezTo>
                  <a:pt x="285" y="178"/>
                  <a:pt x="2" y="164"/>
                  <a:pt x="0" y="143"/>
                </a:cubicBezTo>
                <a:lnTo>
                  <a:pt x="294" y="1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fbf00"/>
              </a:gs>
              <a:gs pos="100000">
                <a:srgbClr val="000000"/>
              </a:gs>
            </a:gsLst>
            <a:lin ang="1067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2019240" cy="2355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109520" cy="1295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2514600" y="1143000"/>
            <a:ext cx="1305000" cy="15238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8153280" y="609480"/>
            <a:ext cx="1109880" cy="1295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5985000"/>
            <a:ext cx="9144000" cy="87300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100000">
                <a:srgbClr val="9c004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00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42560" y="2276640"/>
            <a:ext cx="810108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Comic Sans MS"/>
              </a:rPr>
              <a:t>New Year’s Eve</a:t>
            </a:r>
            <a:br>
              <a:rPr sz="6000"/>
            </a:br>
            <a:r>
              <a:rPr b="1" lang="en-US" sz="6000" spc="-1" strike="noStrike">
                <a:solidFill>
                  <a:srgbClr val="ffcc00"/>
                </a:solidFill>
                <a:latin typeface="Comic Sans MS"/>
              </a:rPr>
              <a:t>Bash</a:t>
            </a:r>
            <a:endParaRPr b="1" lang="en-US" sz="60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140000" y="4760640"/>
            <a:ext cx="500364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December 31, 2004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176720" y="6165720"/>
            <a:ext cx="1510920" cy="609840"/>
            <a:chOff x="4176720" y="6165720"/>
            <a:chExt cx="1510920" cy="609840"/>
          </a:xfrm>
        </p:grpSpPr>
        <p:sp>
          <p:nvSpPr>
            <p:cNvPr id="99" name=""/>
            <p:cNvSpPr txBox="1"/>
            <p:nvPr/>
          </p:nvSpPr>
          <p:spPr>
            <a:xfrm>
              <a:off x="5266800" y="6397920"/>
              <a:ext cx="420840" cy="37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4895280" y="6262560"/>
              <a:ext cx="545040" cy="513000"/>
              <a:chOff x="4895280" y="6262560"/>
              <a:chExt cx="545040" cy="513000"/>
            </a:xfrm>
          </p:grpSpPr>
          <p:sp>
            <p:nvSpPr>
              <p:cNvPr id="101" name=""/>
              <p:cNvSpPr/>
              <p:nvPr/>
            </p:nvSpPr>
            <p:spPr>
              <a:xfrm>
                <a:off x="4895280" y="6262560"/>
                <a:ext cx="545040" cy="51300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048280" y="6317640"/>
                <a:ext cx="252360" cy="28584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660033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sp>
          <p:nvSpPr>
            <p:cNvPr id="103" name=""/>
            <p:cNvSpPr txBox="1"/>
            <p:nvPr/>
          </p:nvSpPr>
          <p:spPr>
            <a:xfrm>
              <a:off x="4176720" y="6165720"/>
              <a:ext cx="1015920" cy="36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00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481640" y="28954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7080" y="151920"/>
            <a:ext cx="654984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Comic Sans MS"/>
              </a:rPr>
              <a:t>When and Where</a:t>
            </a:r>
            <a:endParaRPr b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655280" y="2781000"/>
            <a:ext cx="333396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579 West Alameda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Tucson, AZ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Festivities begin at 8 p.m.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24600" y="2781000"/>
            <a:ext cx="3333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Directions: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marL="312120" indent="-312120">
              <a:spcBef>
                <a:spcPts val="700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Take I85 south to exit 251W. Turn right off the exit and continue on Route 66 for 5 miles. Turn left on W. Alameda.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00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7080" y="151920"/>
            <a:ext cx="654984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Comic Sans MS"/>
              </a:rPr>
              <a:t>Evening Entertainment</a:t>
            </a:r>
            <a:endParaRPr b="1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76000" y="2565360"/>
            <a:ext cx="8567640" cy="42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Pauline Peter’s Comedy Review 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8 p.m. to 10 p.m.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Pauline will entertain you with a routine fresh from the Tucson Comedy Club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Big Bubba Chubba DJ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10 p.m. to 2 a.m.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Big Bubba will provide you with an array of music from the 1950’s to the new millennium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3T01:46:22Z</dcterms:created>
  <dc:creator>Pat R. Graves</dc:creator>
  <dc:description/>
  <dc:language>en-US</dc:language>
  <cp:lastModifiedBy>Student Name</cp:lastModifiedBy>
  <dcterms:modified xsi:type="dcterms:W3CDTF">2004-04-07T15:27:58Z</dcterms:modified>
  <cp:revision>10</cp:revision>
  <dc:subject/>
  <dc:title>New Year's Eve Bash</dc:title>
</cp:coreProperties>
</file>