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559-DE44-4FD7-AC96-BE9FEF70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17F-AFBC-4309-B1D5-2B5363A1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C0E-B3A5-4412-8BE0-F807BD6B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AC7-49EF-47D2-AC0B-CED87A68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691-F3E7-4022-88D6-12DCDC58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A53-F578-4DA4-9A2C-54ECFBB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11D-08B9-4616-83CF-D2D9F59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815-2531-4CF6-9FDB-B35337FB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57E-222C-4DA8-8718-39A74F40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3DA-151A-4CA0-86BA-F1B8A691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BE3-891B-430E-854E-33AB12E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246-C65E-481A-9F5E-963E5AF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3152-088E-4CD2-9C39-0B7439E7E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Jobs 4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29000" y="4876920"/>
            <a:ext cx="2285640" cy="922320"/>
            <a:chOff x="3429000" y="4876920"/>
            <a:chExt cx="2285640" cy="922320"/>
          </a:xfrm>
        </p:grpSpPr>
        <p:sp>
          <p:nvSpPr>
            <p:cNvPr id="44" name=""/>
            <p:cNvSpPr txBox="1"/>
            <p:nvPr/>
          </p:nvSpPr>
          <p:spPr>
            <a:xfrm>
              <a:off x="5077800" y="522792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15840" y="5023440"/>
              <a:ext cx="824040" cy="775440"/>
              <a:chOff x="4515840" y="5023440"/>
              <a:chExt cx="824040" cy="775440"/>
            </a:xfrm>
          </p:grpSpPr>
          <p:sp>
            <p:nvSpPr>
              <p:cNvPr id="46" name=""/>
              <p:cNvSpPr/>
              <p:nvPr/>
            </p:nvSpPr>
            <p:spPr>
              <a:xfrm>
                <a:off x="4515840" y="502344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747320" y="510696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 txBox="1"/>
            <p:nvPr/>
          </p:nvSpPr>
          <p:spPr>
            <a:xfrm>
              <a:off x="3429000" y="487692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4 U is Looking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d waiters and wai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ed, creative ch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chefs: If you’re willing to learn, we’re willing to train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talk to us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655800" cy="24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9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21:40:24Z</dcterms:created>
  <dc:creator>Marple</dc:creator>
  <dc:description/>
  <dc:language>en-US</dc:language>
  <cp:lastModifiedBy>Pat Graves</cp:lastModifiedBy>
  <dcterms:modified xsi:type="dcterms:W3CDTF">2004-03-15T18:11:30Z</dcterms:modified>
  <cp:revision>12</cp:revision>
  <dc:subject/>
  <dc:title>Great Jobs 4 U</dc:title>
</cp:coreProperties>
</file>