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D5BE-DE8D-43F0-B19D-C45B2D56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6BDC-0384-4BDA-B8E1-5D307AEC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C98E-D6A7-4964-8D0A-CF00C838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F818-164A-417B-9D92-7D216320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EFBD-189A-46CE-AA0C-C6E60E11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D8CD-DF54-4F9F-8EA2-4DC990E3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5634-554A-4103-A528-19640ED2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0A2-50B6-4D90-B6F5-105B117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77E8-A474-4623-9CD9-59047D4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0A4-2DA4-4F7B-959C-CE439EB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D83-A9D9-4E47-A114-C420978A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8273-33F7-46AC-BF0D-0D2B979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D838-F63A-4790-9736-2FD30C3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FC01-85DB-43C8-A07E-6533170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1DBA-1EA5-4226-A381-ED91E57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4BA-C609-4545-A3C6-D583DF5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4E3-0993-43BE-97C2-0A192F3F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5DCE-AAC7-4FBF-9DA8-D87DF0F8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3FA6-1712-441F-BE0A-EA77B3F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2B40-745A-435F-9A22-A241CC45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7ED9-9626-4DF8-9DDA-2FD9A558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C501-DDED-4ECA-A8EF-7AE64C37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E874-1772-4350-97FF-D501A7D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216D-36AD-412F-AB3C-56890B2B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b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26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e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c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7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7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4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5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77E4-7BF7-4B86-A1B3-38E54324E6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3a21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74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b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26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5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e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1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d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3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8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c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c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0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0000"/>
                </a:gs>
                <a:gs pos="100000">
                  <a:srgbClr val="7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59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0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74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2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746-F0C3-472E-B606-AB7CB60BA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3a21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ew Employee Orienta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087720" y="3086280"/>
            <a:ext cx="296856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’s 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Plans for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r Vi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ntion of Good 4 U is to establish itself as a franch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has been in business for thre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od at Good 4 U is low-fat, but not vegeta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We A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ere We’re Go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We’re Successfu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7909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y revenue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ovative menu pla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our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ves</dc:creator>
  <dc:description/>
  <dc:language>en-US</dc:language>
  <cp:lastModifiedBy>Ms. Malnick</cp:lastModifiedBy>
  <cp:lastPrinted>1996-12-06T20:40:08Z</cp:lastPrinted>
  <dcterms:modified xsi:type="dcterms:W3CDTF">2004-04-13T20:56:09Z</dcterms:modified>
  <cp:revision>36</cp:revision>
  <dc:subject/>
  <dc:title>New Employee Orientation</dc:title>
</cp:coreProperties>
</file>