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98B-569E-476A-BF2D-4C031AC1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378-B0E7-4CED-9FFB-4BD36BE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323-7288-43D4-9793-717528A4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19F-F212-495F-AEE3-A79EAA15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CD5-27E2-48AC-A06A-3F776370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E701-EAC5-45F1-AC22-51972BA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4B6-5FE6-43E4-A08E-856F04C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69F6-13A8-40A9-B4D4-BD98D0B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6FF1-34C5-4FEE-88A7-127E4CC4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79EA-FF00-428A-84B4-C5967A87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390-A6C1-4ABD-A00C-582F6CD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0E0-5400-46FB-AD1E-D63E2D97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8B4B-A268-44CB-9266-B8B9325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6116-ABC4-4CA6-B34F-B8E89AE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BA3-ED53-44C9-BEE7-7BCC519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D35E-25C8-46F8-B087-772A88BF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0EC6-F19D-4144-A7F1-82173DE5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B6D-B5D5-4A54-A812-B92C870C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681-96FF-4489-BCFA-EB777F5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3D5-220C-4F47-8718-C5443AC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EC6-B010-4469-925C-CFD9BEB1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2E9-CF0A-474A-B0D0-98296E6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CF6-D234-49CF-A493-E18E308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F1A-5B73-41BE-B939-4BDABA6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138-A21A-4B15-A1AC-631CFABF38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F93-DB70-4D4E-9D33-7AE5DA9EAD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cheduling Event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ood 4 U  Promotion Plan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special event per qu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ther factors taken int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ons will v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tatively Scheduled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In-Line Skate demo te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stchester Girl’s Gymnastics team demons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rm 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ny necessary schedule shif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ft schedule for ad co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schedule on Web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2741400" cy="192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6-08-23T19:57:42Z</cp:lastPrinted>
  <dcterms:modified xsi:type="dcterms:W3CDTF">2004-03-15T15:36:08Z</dcterms:modified>
  <cp:revision>39</cp:revision>
  <dc:subject/>
  <dc:title>Scheduling Events</dc:title>
</cp:coreProperties>
</file>