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44A-3A77-47AC-A6DB-720E32D1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53F-75D6-4D61-88F8-D2BCDEA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D2B-251D-4CD8-B506-0880E7B9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CDB-AD24-4BBA-8269-0204FCCA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9B68-D679-4D3C-BB7A-4AA4EA4E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BFB2-6779-4FFC-9E6A-DC1A007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9B96-69D7-4CCA-9AB6-F89B97D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C8BB-1655-4BA7-A660-464DAC01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05DF-BB55-4D5A-9234-89371ECA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EDA7-0B18-4375-B6B5-BD699C28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2A82-9814-46C0-9A31-AC5921B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54F-62AF-410D-95FC-1956A66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4F75-3804-46D2-8EDC-2C4FD4E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C3CE-EDEF-4C51-90D6-609120E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C851-2545-497B-BA35-69AB34F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459-578C-4B04-BE22-0B40ECE1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904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841B-3A6D-4E32-998D-9A0148C5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5A2-7CF9-44D4-827E-E271D1DD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95E-C61F-464B-8E09-804F8EA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906-0F3A-4BAE-8365-C5EBB61C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2A0-15BF-4E2D-BE06-6D10DAEF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1B7-A446-470C-8221-FEFD0B6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904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43A-6388-414D-BC65-67D5902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904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AE2-6F13-4120-9971-7D391C12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0506-A0FE-440C-9906-13384FB2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4400" y="127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ED9-437C-4DCE-AE3A-A7C34AB94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127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nerating Healthy Competi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7640" y="3262320"/>
            <a:ext cx="532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Con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99000" y="2095560"/>
            <a:ext cx="25545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excitement around healthy food com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ublicity for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creativity and new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o Participa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10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competitions for customers 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80200" y="1611360"/>
            <a:ext cx="3463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4 U Contest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-packed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fast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-free dess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 smoot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1650960" cy="143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1871640" cy="83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600200" cy="1443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5880" y="1828800"/>
            <a:ext cx="2073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Promotional Ev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Health Mara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walking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line skating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ce aerobics d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3505320"/>
            <a:ext cx="1496880" cy="1665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055600" cy="17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34320" y="1295280"/>
            <a:ext cx="17161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23:19:26Z</dcterms:created>
  <dc:creator>Pat R. Graves</dc:creator>
  <dc:description/>
  <dc:language>en-US</dc:language>
  <cp:lastModifiedBy>Pat Graves</cp:lastModifiedBy>
  <dcterms:modified xsi:type="dcterms:W3CDTF">2004-03-15T16:03:34Z</dcterms:modified>
  <cp:revision>38</cp:revision>
  <dc:subject/>
  <dc:title>Generating Healthy Competition</dc:title>
</cp:coreProperties>
</file>