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0F3009-799E-4525-87B4-2FE3402B7EEF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205251-DF41-4B72-A0DB-3D044DEBC31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970-A0F3-4DC4-AA88-8F46C7E3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DF0-7FAC-4D35-936D-928766BF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DFA-1BF3-4FA4-BDF3-7B66443C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9D2-4C26-4A69-9DFA-3AF39456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5736-DAFD-4180-A92A-BE0C9802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5181-B73C-4CA8-B310-469A2975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F32B-8147-48FA-BD96-18380FC8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4DDB-83ED-46B9-9617-F00E3409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046B-684C-4E1F-86AD-0E23FD9F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B917-B3DD-40D0-95E6-DADD175B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CB37-434F-48EB-8CB4-44824826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2F3-1F97-431E-84E2-9D422F79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DBE2-B681-46DF-B56C-B9C1D42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FC9D-B9E6-49B8-8C3B-518FE40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A71C-B82D-480E-9D43-AF12AC7E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F0FF-0242-4611-B3AB-6C7F7B33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B4F1-68F2-4C34-971D-39C93685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E20-7F51-4665-865D-C8637D55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12C-FB8D-4FD9-AF5D-CC91F73B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4DD-FC58-4D29-9A67-0C5A4873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1E8-1A2F-440F-8901-7E10189B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2E3-5E87-4ABD-8856-6F5D7809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91A-1E39-4985-B898-A75809F2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D1E-C5A1-4157-BE62-CB9B017F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A02E-7677-4C03-A079-F7B085BFCBD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8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BD9F-FB1B-44B0-B2AB-F86FB594D7AA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91360" y="1333440"/>
            <a:ext cx="129528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1:42Z</dcterms:modified>
  <cp:revision>102</cp:revision>
  <dc:subject/>
  <dc:title>Three Years and Growing</dc:title>
</cp:coreProperties>
</file>