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A7C-A4AC-48D3-A669-C2DA67B2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448-F1A9-4120-8C79-43D65D5B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2FE-5B1E-4D21-B1B3-2BEDEB44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8E9-687F-4562-A2CE-5D10D2B0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AFFD-88FB-4038-BFAB-E08AC782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0766-554F-44AF-8195-63649347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2839-A00A-415F-8D1F-5B616096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CC00-2B55-4AE3-AD58-53489809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7C04-5D5A-4944-BD41-DEF6FC5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72ED-C1B7-4EC2-8706-10E1D4D3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1D0E-FA97-4419-B6DD-AC6B3C01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DD2-A486-48F1-8995-5B8A8DD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1173-064B-410A-91F4-8DB350E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0562-5BF0-44EE-951C-B1140DF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E740-2CA5-4832-B9AF-8E5CE891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EF57-B368-454F-A63A-C1792E6D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8FC1-3B31-4E06-8391-8BB2A9D6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F73-DA14-498A-ADC9-0021CD96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AB8-8D47-40AB-ABDC-842FCFDC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072-21B4-4EE3-BDD3-40CBA415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053-7068-407A-92F0-BBB5DC43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C90-EEB3-43A9-814F-4E52C5F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3B4-3947-4CE1-92A0-12470C80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526-EBD6-467E-9A9B-ADB848F0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0DF0-B4E6-4E10-AC4E-0B8ED2388C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A56-0842-422E-9628-D09B1F5D62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nancial Summ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6480" y="3349800"/>
            <a:ext cx="3052800" cy="1231560"/>
            <a:chOff x="3246480" y="3349800"/>
            <a:chExt cx="3052800" cy="1231560"/>
          </a:xfrm>
        </p:grpSpPr>
        <p:sp>
          <p:nvSpPr>
            <p:cNvPr id="87" name=""/>
            <p:cNvSpPr txBox="1"/>
            <p:nvPr/>
          </p:nvSpPr>
          <p:spPr>
            <a:xfrm>
              <a:off x="5448600" y="3818520"/>
              <a:ext cx="85068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697640" y="3545640"/>
              <a:ext cx="1100520" cy="1035720"/>
              <a:chOff x="4697640" y="3545640"/>
              <a:chExt cx="1100520" cy="1035720"/>
            </a:xfrm>
          </p:grpSpPr>
          <p:sp>
            <p:nvSpPr>
              <p:cNvPr id="89" name=""/>
              <p:cNvSpPr/>
              <p:nvPr/>
            </p:nvSpPr>
            <p:spPr>
              <a:xfrm>
                <a:off x="4697640" y="3545640"/>
                <a:ext cx="1100520" cy="10357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6520" y="3657240"/>
                <a:ext cx="509400" cy="577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 txBox="1"/>
            <p:nvPr/>
          </p:nvSpPr>
          <p:spPr>
            <a:xfrm>
              <a:off x="3246480" y="3349800"/>
              <a:ext cx="2052000" cy="73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ghligh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rnings consistently on targ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imal seasonal fluctu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ady increase from previous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8T23:10:09Z</dcterms:created>
  <dc:creator>Pat R. Graves</dc:creator>
  <dc:description/>
  <dc:language>en-US</dc:language>
  <cp:lastModifiedBy>Pat Graves</cp:lastModifiedBy>
  <dcterms:modified xsi:type="dcterms:W3CDTF">2004-03-17T19:54:39Z</dcterms:modified>
  <cp:revision>4</cp:revision>
  <dc:subject/>
  <dc:title>Financial Summary</dc:title>
</cp:coreProperties>
</file>