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728-373C-46E6-A340-304AF635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92000" y="4344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5EE-8DAB-4509-9B92-719806C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B45-0BFB-4638-BFD5-4611D76F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684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2168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9200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5684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2168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DE6-5D44-4737-94EC-92606313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098-374A-4A95-B657-C00E54C2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710-CEF1-47BE-96E3-AE314099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84BF-DAEB-4607-B455-6FA28ACB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913D-A745-4ED3-BFF2-5689DBE8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D211-8B3C-40E5-AC3C-AF41311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30240"/>
            <a:ext cx="785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4F97-8A2B-43BC-8ECE-0D3CAF4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914-7CC5-4EF7-BE54-3EF35011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EE6-1D50-4C4E-9AC1-1880AB5A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616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18A-41F2-4FE8-AB90-FA9B3CF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7909-149F-46C1-9780-2920FE4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692000" y="4344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A49B-7B2E-4D52-94E1-46B6ABF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616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5374-84F2-453D-833F-3B5F8F4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5684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21680" y="2391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69200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5684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21680" y="4344840"/>
            <a:ext cx="22518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7E6B-20F5-4F4D-9C11-6947887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1E1-05DF-4AE2-8E62-C0D0ACE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059-7A05-40B7-BA37-DF311F5B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057-C334-4FE9-9B17-43E69F5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9720" y="30240"/>
            <a:ext cx="785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A0E-C4A2-4CDF-B572-3495A2C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70C-D7A4-4B7E-A4F7-F6F5D23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344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EF0-A104-4D5D-B340-49A8387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2391840"/>
            <a:ext cx="34131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92000" y="4344840"/>
            <a:ext cx="69944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852-9D7E-4C68-958C-D16C6F1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557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20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2001"/>
              </a:spcBef>
              <a:buClr>
                <a:srgbClr val="99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2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2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2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932-9C61-467F-A69F-6FBACC78CE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95400" y="-91800"/>
            <a:ext cx="1999080" cy="2055240"/>
            <a:chOff x="-95400" y="-91800"/>
            <a:chExt cx="1999080" cy="2055240"/>
          </a:xfrm>
        </p:grpSpPr>
        <p:sp>
          <p:nvSpPr>
            <p:cNvPr id="7" name=""/>
            <p:cNvSpPr/>
            <p:nvPr/>
          </p:nvSpPr>
          <p:spPr>
            <a:xfrm rot="370200">
              <a:off x="0" y="0"/>
              <a:ext cx="1808280" cy="187164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370200">
              <a:off x="-11520" y="216360"/>
              <a:ext cx="1473120" cy="16362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370200">
              <a:off x="-720" y="19080"/>
              <a:ext cx="1473120" cy="183420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370200">
              <a:off x="245520" y="215280"/>
              <a:ext cx="72360" cy="892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370200">
              <a:off x="1235880" y="1470600"/>
              <a:ext cx="77400" cy="9540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370200">
              <a:off x="727560" y="181440"/>
              <a:ext cx="101880" cy="1252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85800"/>
            <a:ext cx="9144000" cy="20732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-1939320" y="2709000"/>
            <a:ext cx="6858000" cy="1439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280" y="1179360"/>
            <a:ext cx="2584800" cy="2770560"/>
            <a:chOff x="467280" y="1179360"/>
            <a:chExt cx="2584800" cy="2770560"/>
          </a:xfrm>
        </p:grpSpPr>
        <p:sp>
          <p:nvSpPr>
            <p:cNvPr id="52" name=""/>
            <p:cNvSpPr/>
            <p:nvPr/>
          </p:nvSpPr>
          <p:spPr>
            <a:xfrm rot="370200">
              <a:off x="596520" y="1296720"/>
              <a:ext cx="2325600" cy="253512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370200">
              <a:off x="580680" y="1591560"/>
              <a:ext cx="1894320" cy="2215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370200">
              <a:off x="595080" y="1323720"/>
              <a:ext cx="1894320" cy="248436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370200">
              <a:off x="916920" y="1593720"/>
              <a:ext cx="93240" cy="1209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370200">
              <a:off x="2182320" y="3285720"/>
              <a:ext cx="99720" cy="1292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370200">
              <a:off x="1537560" y="1544400"/>
              <a:ext cx="131040" cy="1695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1873080"/>
            <a:ext cx="59022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226040" y="56754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632-659E-454D-9325-86D3497DE3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1500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9966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125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5640" y="1873080"/>
            <a:ext cx="59022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nancial Analys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38760" y="3948120"/>
            <a:ext cx="45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Events Reve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84160" y="6257880"/>
            <a:ext cx="1268640" cy="512640"/>
            <a:chOff x="884160" y="6257880"/>
            <a:chExt cx="1268640" cy="512640"/>
          </a:xfrm>
        </p:grpSpPr>
        <p:sp>
          <p:nvSpPr>
            <p:cNvPr id="102" name=""/>
            <p:cNvSpPr txBox="1"/>
            <p:nvPr/>
          </p:nvSpPr>
          <p:spPr>
            <a:xfrm>
              <a:off x="1799280" y="6453000"/>
              <a:ext cx="35352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487160" y="6339240"/>
              <a:ext cx="457200" cy="431280"/>
              <a:chOff x="1487160" y="6339240"/>
              <a:chExt cx="457200" cy="431280"/>
            </a:xfrm>
          </p:grpSpPr>
          <p:sp>
            <p:nvSpPr>
              <p:cNvPr id="104" name=""/>
              <p:cNvSpPr/>
              <p:nvPr/>
            </p:nvSpPr>
            <p:spPr>
              <a:xfrm>
                <a:off x="1487160" y="6339240"/>
                <a:ext cx="457200" cy="4312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5320" y="6385680"/>
                <a:ext cx="211680" cy="2401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aaaac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884160" y="6257880"/>
              <a:ext cx="85284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4 Highligh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7388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earnings every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earnings from sponsored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enue Sourc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92000" y="2391840"/>
            <a:ext cx="6994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ed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qu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66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9720" y="30240"/>
            <a:ext cx="7854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4 Special Events Reven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12960" y="2065320"/>
          <a:ext cx="793728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2065320"/>
                    <a:ext cx="793728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7T19:36:12Z</dcterms:created>
  <dc:creator>Pat R. Graves</dc:creator>
  <dc:description/>
  <dc:language>en-US</dc:language>
  <cp:lastModifiedBy>Pat Graves</cp:lastModifiedBy>
  <cp:lastPrinted>1996-12-06T15:55:36Z</cp:lastPrinted>
  <dcterms:modified xsi:type="dcterms:W3CDTF">2004-03-17T21:45:53Z</dcterms:modified>
  <cp:revision>45</cp:revision>
  <dc:subject/>
  <dc:title>Special Event Revenue</dc:title>
</cp:coreProperties>
</file>