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B68-77A4-4D79-8276-887B7F45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24C-84F1-498C-AA71-3E4AECAD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F9F-0CE8-4CC5-B246-244DE903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265-708A-4FDA-A914-19FB9932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A8EE-54CB-461C-AC55-8348D8C0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AE32-2131-447D-ACDB-10A5C030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39C-58FE-43B3-BF57-E5CD303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AC4-3338-4E4D-A9DE-ACE5F2FF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05A0-2409-45EB-8A81-743FDF0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686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44A-6D01-4E08-BF8E-2F62034F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D011-9DCA-49A1-96FF-6F8D95D7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D05-E290-4F74-AC8C-9DB933C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AFDB-A9F2-4745-991F-3241630F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5C7-A6D5-4ED5-BBAF-768B9960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51A9-C2CE-4FD6-8CBF-81EC551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BA7F-622F-433E-901E-AF6162CF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3DC8-430B-4BB3-8988-BFC4C885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EA5-0D32-4376-9901-F650C97A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2B5-BD1A-4D3C-B124-B1B50D7F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48A-BD6D-4079-A553-8D1652D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686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1FB-4E8F-4F21-AA7D-7D068A82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8B3-FBBC-45FE-B08E-6A5274A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865-741E-458B-873C-F3F14A3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F85-FD0F-42C8-B5DF-5C90A25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76200"/>
            <a:ext cx="9144000" cy="13827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5F4F-4691-4C10-8D96-EBEB339ADB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585800"/>
            <a:ext cx="9144000" cy="20732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9720" y="1676520"/>
            <a:ext cx="6018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A07C-88E4-4831-8EE9-5E27C8731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-1823400" y="2709000"/>
            <a:ext cx="6858000" cy="1439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9720" y="1676520"/>
            <a:ext cx="6018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Financial Analysis</a:t>
            </a:r>
            <a:endParaRPr b="1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39720" y="3886200"/>
            <a:ext cx="5102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t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56000" y="5041800"/>
            <a:ext cx="2285640" cy="922320"/>
            <a:chOff x="2556000" y="5041800"/>
            <a:chExt cx="2285640" cy="922320"/>
          </a:xfrm>
        </p:grpSpPr>
        <p:sp>
          <p:nvSpPr>
            <p:cNvPr id="88" name=""/>
            <p:cNvSpPr txBox="1"/>
            <p:nvPr/>
          </p:nvSpPr>
          <p:spPr>
            <a:xfrm>
              <a:off x="4204800" y="539280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642840" y="5188320"/>
              <a:ext cx="824040" cy="775440"/>
              <a:chOff x="3642840" y="5188320"/>
              <a:chExt cx="824040" cy="775440"/>
            </a:xfrm>
          </p:grpSpPr>
          <p:sp>
            <p:nvSpPr>
              <p:cNvPr id="90" name=""/>
              <p:cNvSpPr/>
              <p:nvPr/>
            </p:nvSpPr>
            <p:spPr>
              <a:xfrm>
                <a:off x="3642840" y="518832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74320" y="527184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2b5481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2556000" y="504180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Highlights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gins show steady incr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tly above industry a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gins increase as franchise exp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Forecast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gins expected to improve further with Miami op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d technology expected to reduce costs and increase marg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argin Analysis, 2002–2004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7T17:17:32Z</dcterms:created>
  <dc:creator>Pat R. Graves</dc:creator>
  <dc:description/>
  <dc:language>en-US</dc:language>
  <cp:lastModifiedBy>Student Name</cp:lastModifiedBy>
  <cp:lastPrinted>1996-12-06T15:59:14Z</cp:lastPrinted>
  <dcterms:modified xsi:type="dcterms:W3CDTF">2004-04-09T20:04:48Z</dcterms:modified>
  <cp:revision>35</cp:revision>
  <dc:subject/>
  <dc:title>Financial Summary--Part 3</dc:title>
</cp:coreProperties>
</file>