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598-AB56-4AAC-9539-51D9B239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6A5-03E6-45F9-A4AD-C9B32ADB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138-57C9-49EB-B220-2F5BC284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F65-EF79-40E5-BD76-F031F2C4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1FF2-D2D0-4926-BC10-90FBF1D8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3D76-5892-4466-A2FD-460A2139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868F-DA02-4FAE-8939-BE282935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6C06-5079-4D09-BCA7-CAAB6FEC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2740-8FB2-4C3F-B4E0-4B2D033C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4D60-0DA8-4809-9D69-A44D5893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A23E-5DEA-4E21-A00F-D2664C43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248-7A9A-4446-A51A-0354290B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383D-B666-4E1A-BF80-10804584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A1D3-3557-4420-8661-E2C6287E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2AEF-E804-4E13-B08F-D680D081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6130-DFE0-40B6-A9E4-E4399746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C3BD-B7DF-498C-B855-6BBEE2FE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75C-8D7A-431D-BE8D-9089CB34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A5C-6025-47EC-8B64-AEC03A95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14E-4B2E-4540-9C3D-7B532561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A7E-48EB-4D37-9A2F-404569B7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3E8C-B47A-4CE2-94ED-B252221D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6D5-534A-41EB-9ED4-96D507FA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DA8-55E7-48B1-87E3-20008C7C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589D-BE8C-4E22-88A8-635E97D583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79800"/>
            <a:ext cx="7918560" cy="164880"/>
          </a:xfrm>
          <a:prstGeom prst="roundRect">
            <a:avLst>
              <a:gd name="adj" fmla="val 49995"/>
            </a:avLst>
          </a:prstGeom>
          <a:solidFill>
            <a:srgbClr val="9900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78E0-D5F8-45D4-AB75-4934779535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6816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66"/>
                </a:solidFill>
                <a:latin typeface="Times New Roman"/>
              </a:rPr>
              <a:t>Expense Analysis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522320"/>
            <a:ext cx="6400800" cy="96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ypical Restaurant Expen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745080" y="3687840"/>
            <a:ext cx="1555200" cy="561960"/>
            <a:chOff x="3745080" y="3687840"/>
            <a:chExt cx="1555200" cy="561960"/>
          </a:xfrm>
        </p:grpSpPr>
        <p:sp>
          <p:nvSpPr>
            <p:cNvPr id="86" name=""/>
            <p:cNvSpPr/>
            <p:nvPr/>
          </p:nvSpPr>
          <p:spPr>
            <a:xfrm>
              <a:off x="4920480" y="3892320"/>
              <a:ext cx="379800" cy="357480"/>
            </a:xfrm>
            <a:custGeom>
              <a:avLst/>
              <a:gdLst/>
              <a:ahLst/>
              <a:rect l="l" t="t" r="r" b="b"/>
              <a:pathLst>
                <a:path w="3215" h="3020">
                  <a:moveTo>
                    <a:pt x="0" y="181"/>
                  </a:moveTo>
                  <a:lnTo>
                    <a:pt x="15" y="4"/>
                  </a:lnTo>
                  <a:lnTo>
                    <a:pt x="1491" y="1"/>
                  </a:lnTo>
                  <a:lnTo>
                    <a:pt x="1471" y="179"/>
                  </a:lnTo>
                  <a:lnTo>
                    <a:pt x="1213" y="196"/>
                  </a:lnTo>
                  <a:lnTo>
                    <a:pt x="1213" y="196"/>
                  </a:lnTo>
                  <a:lnTo>
                    <a:pt x="1140" y="204"/>
                  </a:lnTo>
                  <a:lnTo>
                    <a:pt x="1083" y="220"/>
                  </a:lnTo>
                  <a:lnTo>
                    <a:pt x="1045" y="246"/>
                  </a:lnTo>
                  <a:lnTo>
                    <a:pt x="1045" y="246"/>
                  </a:lnTo>
                  <a:lnTo>
                    <a:pt x="1025" y="289"/>
                  </a:lnTo>
                  <a:lnTo>
                    <a:pt x="1005" y="378"/>
                  </a:lnTo>
                  <a:lnTo>
                    <a:pt x="986" y="512"/>
                  </a:lnTo>
                  <a:lnTo>
                    <a:pt x="986" y="512"/>
                  </a:lnTo>
                  <a:lnTo>
                    <a:pt x="980" y="556"/>
                  </a:lnTo>
                  <a:lnTo>
                    <a:pt x="976" y="595"/>
                  </a:lnTo>
                  <a:lnTo>
                    <a:pt x="973" y="627"/>
                  </a:lnTo>
                  <a:lnTo>
                    <a:pt x="973" y="627"/>
                  </a:lnTo>
                  <a:lnTo>
                    <a:pt x="966" y="709"/>
                  </a:lnTo>
                  <a:lnTo>
                    <a:pt x="936" y="918"/>
                  </a:lnTo>
                  <a:lnTo>
                    <a:pt x="927" y="1098"/>
                  </a:lnTo>
                  <a:lnTo>
                    <a:pt x="871" y="1485"/>
                  </a:lnTo>
                  <a:lnTo>
                    <a:pt x="830" y="2046"/>
                  </a:lnTo>
                  <a:lnTo>
                    <a:pt x="830" y="2046"/>
                  </a:lnTo>
                  <a:lnTo>
                    <a:pt x="827" y="2199"/>
                  </a:lnTo>
                  <a:lnTo>
                    <a:pt x="845" y="2336"/>
                  </a:lnTo>
                  <a:lnTo>
                    <a:pt x="886" y="2450"/>
                  </a:lnTo>
                  <a:lnTo>
                    <a:pt x="886" y="2450"/>
                  </a:lnTo>
                  <a:lnTo>
                    <a:pt x="937" y="2522"/>
                  </a:lnTo>
                  <a:lnTo>
                    <a:pt x="999" y="2566"/>
                  </a:lnTo>
                  <a:lnTo>
                    <a:pt x="1083" y="2605"/>
                  </a:lnTo>
                  <a:lnTo>
                    <a:pt x="1083" y="2605"/>
                  </a:lnTo>
                  <a:lnTo>
                    <a:pt x="1204" y="2644"/>
                  </a:lnTo>
                  <a:lnTo>
                    <a:pt x="1342" y="2666"/>
                  </a:lnTo>
                  <a:lnTo>
                    <a:pt x="1471" y="2671"/>
                  </a:lnTo>
                  <a:lnTo>
                    <a:pt x="1471" y="2671"/>
                  </a:lnTo>
                  <a:lnTo>
                    <a:pt x="1592" y="2665"/>
                  </a:lnTo>
                  <a:lnTo>
                    <a:pt x="1677" y="2653"/>
                  </a:lnTo>
                  <a:lnTo>
                    <a:pt x="1790" y="2633"/>
                  </a:lnTo>
                  <a:lnTo>
                    <a:pt x="1790" y="2633"/>
                  </a:lnTo>
                  <a:lnTo>
                    <a:pt x="1862" y="2616"/>
                  </a:lnTo>
                  <a:lnTo>
                    <a:pt x="1926" y="2596"/>
                  </a:lnTo>
                  <a:lnTo>
                    <a:pt x="1979" y="2572"/>
                  </a:lnTo>
                  <a:lnTo>
                    <a:pt x="1979" y="2572"/>
                  </a:lnTo>
                  <a:lnTo>
                    <a:pt x="2040" y="2530"/>
                  </a:lnTo>
                  <a:lnTo>
                    <a:pt x="2079" y="2486"/>
                  </a:lnTo>
                  <a:lnTo>
                    <a:pt x="2109" y="2444"/>
                  </a:lnTo>
                  <a:lnTo>
                    <a:pt x="2109" y="2444"/>
                  </a:lnTo>
                  <a:lnTo>
                    <a:pt x="2162" y="2363"/>
                  </a:lnTo>
                  <a:lnTo>
                    <a:pt x="2197" y="2287"/>
                  </a:lnTo>
                  <a:lnTo>
                    <a:pt x="2226" y="2214"/>
                  </a:lnTo>
                  <a:lnTo>
                    <a:pt x="2226" y="2214"/>
                  </a:lnTo>
                  <a:lnTo>
                    <a:pt x="2264" y="2097"/>
                  </a:lnTo>
                  <a:lnTo>
                    <a:pt x="2297" y="1945"/>
                  </a:lnTo>
                  <a:lnTo>
                    <a:pt x="2324" y="1754"/>
                  </a:lnTo>
                  <a:lnTo>
                    <a:pt x="2324" y="1754"/>
                  </a:lnTo>
                  <a:lnTo>
                    <a:pt x="2349" y="1534"/>
                  </a:lnTo>
                  <a:lnTo>
                    <a:pt x="2370" y="1300"/>
                  </a:lnTo>
                  <a:lnTo>
                    <a:pt x="2389" y="1056"/>
                  </a:lnTo>
                  <a:lnTo>
                    <a:pt x="2403" y="801"/>
                  </a:lnTo>
                  <a:lnTo>
                    <a:pt x="2417" y="537"/>
                  </a:lnTo>
                  <a:lnTo>
                    <a:pt x="2417" y="537"/>
                  </a:lnTo>
                  <a:lnTo>
                    <a:pt x="2422" y="418"/>
                  </a:lnTo>
                  <a:lnTo>
                    <a:pt x="2422" y="418"/>
                  </a:lnTo>
                  <a:lnTo>
                    <a:pt x="2422" y="340"/>
                  </a:lnTo>
                  <a:lnTo>
                    <a:pt x="2415" y="280"/>
                  </a:lnTo>
                  <a:lnTo>
                    <a:pt x="2396" y="242"/>
                  </a:lnTo>
                  <a:lnTo>
                    <a:pt x="2396" y="242"/>
                  </a:lnTo>
                  <a:lnTo>
                    <a:pt x="2351" y="202"/>
                  </a:lnTo>
                  <a:lnTo>
                    <a:pt x="2301" y="179"/>
                  </a:lnTo>
                  <a:lnTo>
                    <a:pt x="2246" y="172"/>
                  </a:lnTo>
                  <a:lnTo>
                    <a:pt x="2246" y="172"/>
                  </a:lnTo>
                  <a:lnTo>
                    <a:pt x="2039" y="176"/>
                  </a:lnTo>
                  <a:lnTo>
                    <a:pt x="2010" y="170"/>
                  </a:lnTo>
                  <a:lnTo>
                    <a:pt x="2035" y="0"/>
                  </a:lnTo>
                  <a:lnTo>
                    <a:pt x="3215" y="1"/>
                  </a:lnTo>
                  <a:lnTo>
                    <a:pt x="3204" y="165"/>
                  </a:lnTo>
                  <a:lnTo>
                    <a:pt x="3204" y="165"/>
                  </a:lnTo>
                  <a:lnTo>
                    <a:pt x="3146" y="177"/>
                  </a:lnTo>
                  <a:lnTo>
                    <a:pt x="3084" y="188"/>
                  </a:lnTo>
                  <a:lnTo>
                    <a:pt x="3023" y="194"/>
                  </a:lnTo>
                  <a:lnTo>
                    <a:pt x="3023" y="194"/>
                  </a:lnTo>
                  <a:lnTo>
                    <a:pt x="2937" y="205"/>
                  </a:lnTo>
                  <a:lnTo>
                    <a:pt x="2882" y="217"/>
                  </a:lnTo>
                  <a:lnTo>
                    <a:pt x="2856" y="227"/>
                  </a:lnTo>
                  <a:lnTo>
                    <a:pt x="2856" y="227"/>
                  </a:lnTo>
                  <a:lnTo>
                    <a:pt x="2836" y="249"/>
                  </a:lnTo>
                  <a:lnTo>
                    <a:pt x="2823" y="276"/>
                  </a:lnTo>
                  <a:lnTo>
                    <a:pt x="2815" y="310"/>
                  </a:lnTo>
                  <a:lnTo>
                    <a:pt x="2815" y="310"/>
                  </a:lnTo>
                  <a:lnTo>
                    <a:pt x="2812" y="342"/>
                  </a:lnTo>
                  <a:lnTo>
                    <a:pt x="2809" y="379"/>
                  </a:lnTo>
                  <a:lnTo>
                    <a:pt x="2807" y="427"/>
                  </a:lnTo>
                  <a:lnTo>
                    <a:pt x="2807" y="427"/>
                  </a:lnTo>
                  <a:lnTo>
                    <a:pt x="2805" y="473"/>
                  </a:lnTo>
                  <a:lnTo>
                    <a:pt x="2799" y="538"/>
                  </a:lnTo>
                  <a:lnTo>
                    <a:pt x="2789" y="621"/>
                  </a:lnTo>
                  <a:lnTo>
                    <a:pt x="2789" y="621"/>
                  </a:lnTo>
                  <a:lnTo>
                    <a:pt x="2784" y="670"/>
                  </a:lnTo>
                  <a:lnTo>
                    <a:pt x="2780" y="711"/>
                  </a:lnTo>
                  <a:lnTo>
                    <a:pt x="2777" y="745"/>
                  </a:lnTo>
                  <a:lnTo>
                    <a:pt x="2777" y="745"/>
                  </a:lnTo>
                  <a:lnTo>
                    <a:pt x="2773" y="775"/>
                  </a:lnTo>
                  <a:lnTo>
                    <a:pt x="2771" y="804"/>
                  </a:lnTo>
                  <a:lnTo>
                    <a:pt x="2768" y="837"/>
                  </a:lnTo>
                  <a:lnTo>
                    <a:pt x="2768" y="837"/>
                  </a:lnTo>
                  <a:lnTo>
                    <a:pt x="2759" y="944"/>
                  </a:lnTo>
                  <a:lnTo>
                    <a:pt x="2749" y="1052"/>
                  </a:lnTo>
                  <a:lnTo>
                    <a:pt x="2739" y="1163"/>
                  </a:lnTo>
                  <a:lnTo>
                    <a:pt x="2739" y="1163"/>
                  </a:lnTo>
                  <a:lnTo>
                    <a:pt x="2706" y="1617"/>
                  </a:lnTo>
                  <a:lnTo>
                    <a:pt x="2706" y="1617"/>
                  </a:lnTo>
                  <a:lnTo>
                    <a:pt x="2689" y="1891"/>
                  </a:lnTo>
                  <a:lnTo>
                    <a:pt x="2675" y="2099"/>
                  </a:lnTo>
                  <a:lnTo>
                    <a:pt x="2652" y="2239"/>
                  </a:lnTo>
                  <a:lnTo>
                    <a:pt x="2652" y="2239"/>
                  </a:lnTo>
                  <a:lnTo>
                    <a:pt x="2617" y="2335"/>
                  </a:lnTo>
                  <a:lnTo>
                    <a:pt x="2580" y="2416"/>
                  </a:lnTo>
                  <a:lnTo>
                    <a:pt x="2538" y="2483"/>
                  </a:lnTo>
                  <a:lnTo>
                    <a:pt x="2538" y="2483"/>
                  </a:lnTo>
                  <a:lnTo>
                    <a:pt x="2469" y="2578"/>
                  </a:lnTo>
                  <a:lnTo>
                    <a:pt x="2389" y="2676"/>
                  </a:lnTo>
                  <a:lnTo>
                    <a:pt x="2291" y="2762"/>
                  </a:lnTo>
                  <a:lnTo>
                    <a:pt x="2291" y="2762"/>
                  </a:lnTo>
                  <a:lnTo>
                    <a:pt x="2181" y="2835"/>
                  </a:lnTo>
                  <a:lnTo>
                    <a:pt x="2059" y="2901"/>
                  </a:lnTo>
                  <a:lnTo>
                    <a:pt x="1901" y="2956"/>
                  </a:lnTo>
                  <a:lnTo>
                    <a:pt x="1901" y="2956"/>
                  </a:lnTo>
                  <a:lnTo>
                    <a:pt x="1663" y="3002"/>
                  </a:lnTo>
                  <a:lnTo>
                    <a:pt x="1455" y="3020"/>
                  </a:lnTo>
                  <a:lnTo>
                    <a:pt x="1276" y="3020"/>
                  </a:lnTo>
                  <a:lnTo>
                    <a:pt x="1276" y="3020"/>
                  </a:lnTo>
                  <a:lnTo>
                    <a:pt x="1052" y="2991"/>
                  </a:lnTo>
                  <a:lnTo>
                    <a:pt x="846" y="2935"/>
                  </a:lnTo>
                  <a:lnTo>
                    <a:pt x="669" y="2870"/>
                  </a:lnTo>
                  <a:lnTo>
                    <a:pt x="669" y="2870"/>
                  </a:lnTo>
                  <a:lnTo>
                    <a:pt x="529" y="2801"/>
                  </a:lnTo>
                  <a:lnTo>
                    <a:pt x="416" y="2720"/>
                  </a:lnTo>
                  <a:lnTo>
                    <a:pt x="331" y="2625"/>
                  </a:lnTo>
                  <a:lnTo>
                    <a:pt x="331" y="2625"/>
                  </a:lnTo>
                  <a:lnTo>
                    <a:pt x="270" y="2516"/>
                  </a:lnTo>
                  <a:lnTo>
                    <a:pt x="229" y="2385"/>
                  </a:lnTo>
                  <a:lnTo>
                    <a:pt x="209" y="2234"/>
                  </a:lnTo>
                  <a:lnTo>
                    <a:pt x="209" y="2234"/>
                  </a:lnTo>
                  <a:lnTo>
                    <a:pt x="205" y="2108"/>
                  </a:lnTo>
                  <a:lnTo>
                    <a:pt x="214" y="1949"/>
                  </a:lnTo>
                  <a:lnTo>
                    <a:pt x="234" y="1760"/>
                  </a:lnTo>
                  <a:lnTo>
                    <a:pt x="234" y="1760"/>
                  </a:lnTo>
                  <a:lnTo>
                    <a:pt x="367" y="692"/>
                  </a:lnTo>
                  <a:lnTo>
                    <a:pt x="367" y="692"/>
                  </a:lnTo>
                  <a:lnTo>
                    <a:pt x="389" y="477"/>
                  </a:lnTo>
                  <a:lnTo>
                    <a:pt x="395" y="335"/>
                  </a:lnTo>
                  <a:lnTo>
                    <a:pt x="384" y="266"/>
                  </a:lnTo>
                  <a:lnTo>
                    <a:pt x="384" y="266"/>
                  </a:lnTo>
                  <a:lnTo>
                    <a:pt x="334" y="226"/>
                  </a:lnTo>
                  <a:lnTo>
                    <a:pt x="237" y="200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57" y="187"/>
                  </a:lnTo>
                  <a:lnTo>
                    <a:pt x="26" y="185"/>
                  </a:lnTo>
                  <a:lnTo>
                    <a:pt x="0" y="181"/>
                  </a:lnTo>
                  <a:lnTo>
                    <a:pt x="0" y="181"/>
                  </a:lnTo>
                </a:path>
              </a:pathLst>
            </a:custGeom>
            <a:solidFill>
              <a:srgbClr val="ffffcc"/>
            </a:solidFill>
            <a:ln w="32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720" y="3773880"/>
              <a:ext cx="499680" cy="471600"/>
            </a:xfrm>
            <a:custGeom>
              <a:avLst/>
              <a:gdLst/>
              <a:ahLst/>
              <a:rect l="l" t="t" r="r" b="b"/>
              <a:pathLst>
                <a:path w="4240" h="3993">
                  <a:moveTo>
                    <a:pt x="4240" y="2390"/>
                  </a:moveTo>
                  <a:lnTo>
                    <a:pt x="3689" y="3163"/>
                  </a:lnTo>
                  <a:lnTo>
                    <a:pt x="3016" y="3173"/>
                  </a:lnTo>
                  <a:lnTo>
                    <a:pt x="2940" y="3428"/>
                  </a:lnTo>
                  <a:lnTo>
                    <a:pt x="2940" y="3428"/>
                  </a:lnTo>
                  <a:lnTo>
                    <a:pt x="2894" y="3678"/>
                  </a:lnTo>
                  <a:lnTo>
                    <a:pt x="2932" y="3859"/>
                  </a:lnTo>
                  <a:lnTo>
                    <a:pt x="3049" y="3969"/>
                  </a:lnTo>
                  <a:lnTo>
                    <a:pt x="3049" y="3969"/>
                  </a:lnTo>
                  <a:lnTo>
                    <a:pt x="2938" y="3993"/>
                  </a:lnTo>
                  <a:lnTo>
                    <a:pt x="1740" y="3993"/>
                  </a:lnTo>
                  <a:lnTo>
                    <a:pt x="1762" y="3969"/>
                  </a:lnTo>
                  <a:lnTo>
                    <a:pt x="1762" y="3969"/>
                  </a:lnTo>
                  <a:lnTo>
                    <a:pt x="1874" y="3926"/>
                  </a:lnTo>
                  <a:lnTo>
                    <a:pt x="1965" y="3876"/>
                  </a:lnTo>
                  <a:lnTo>
                    <a:pt x="2037" y="3820"/>
                  </a:lnTo>
                  <a:lnTo>
                    <a:pt x="2037" y="3820"/>
                  </a:lnTo>
                  <a:lnTo>
                    <a:pt x="2096" y="3749"/>
                  </a:lnTo>
                  <a:lnTo>
                    <a:pt x="2145" y="3659"/>
                  </a:lnTo>
                  <a:lnTo>
                    <a:pt x="2185" y="3549"/>
                  </a:lnTo>
                  <a:lnTo>
                    <a:pt x="2185" y="3549"/>
                  </a:lnTo>
                  <a:lnTo>
                    <a:pt x="2298" y="3173"/>
                  </a:lnTo>
                  <a:lnTo>
                    <a:pt x="0" y="3173"/>
                  </a:lnTo>
                  <a:lnTo>
                    <a:pt x="2897" y="0"/>
                  </a:lnTo>
                  <a:lnTo>
                    <a:pt x="4025" y="0"/>
                  </a:lnTo>
                  <a:lnTo>
                    <a:pt x="3208" y="2645"/>
                  </a:lnTo>
                  <a:lnTo>
                    <a:pt x="3208" y="2645"/>
                  </a:lnTo>
                  <a:lnTo>
                    <a:pt x="3368" y="2638"/>
                  </a:lnTo>
                  <a:lnTo>
                    <a:pt x="3566" y="2621"/>
                  </a:lnTo>
                  <a:lnTo>
                    <a:pt x="3720" y="2600"/>
                  </a:lnTo>
                  <a:lnTo>
                    <a:pt x="3720" y="2600"/>
                  </a:lnTo>
                  <a:lnTo>
                    <a:pt x="3899" y="2551"/>
                  </a:lnTo>
                  <a:lnTo>
                    <a:pt x="4071" y="2481"/>
                  </a:lnTo>
                  <a:lnTo>
                    <a:pt x="4240" y="2390"/>
                  </a:lnTo>
                  <a:lnTo>
                    <a:pt x="4240" y="2390"/>
                  </a:lnTo>
                  <a:close/>
                  <a:moveTo>
                    <a:pt x="2487" y="2654"/>
                  </a:moveTo>
                  <a:lnTo>
                    <a:pt x="3157" y="431"/>
                  </a:lnTo>
                  <a:lnTo>
                    <a:pt x="1188" y="2647"/>
                  </a:lnTo>
                  <a:lnTo>
                    <a:pt x="1188" y="2647"/>
                  </a:lnTo>
                  <a:lnTo>
                    <a:pt x="1365" y="2648"/>
                  </a:lnTo>
                  <a:lnTo>
                    <a:pt x="1542" y="2649"/>
                  </a:lnTo>
                  <a:lnTo>
                    <a:pt x="1718" y="2650"/>
                  </a:lnTo>
                  <a:lnTo>
                    <a:pt x="1718" y="2650"/>
                  </a:lnTo>
                  <a:lnTo>
                    <a:pt x="1888" y="2650"/>
                  </a:lnTo>
                  <a:lnTo>
                    <a:pt x="2039" y="2651"/>
                  </a:lnTo>
                  <a:lnTo>
                    <a:pt x="2176" y="2652"/>
                  </a:lnTo>
                  <a:lnTo>
                    <a:pt x="2176" y="2652"/>
                  </a:lnTo>
                  <a:lnTo>
                    <a:pt x="2295" y="2654"/>
                  </a:lnTo>
                  <a:lnTo>
                    <a:pt x="2398" y="2654"/>
                  </a:lnTo>
                  <a:lnTo>
                    <a:pt x="2487" y="2654"/>
                  </a:lnTo>
                  <a:lnTo>
                    <a:pt x="2487" y="2654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5080" y="3687840"/>
              <a:ext cx="1076760" cy="309600"/>
            </a:xfrm>
            <a:custGeom>
              <a:avLst/>
              <a:gdLst/>
              <a:ahLst/>
              <a:rect l="l" t="t" r="r" b="b"/>
              <a:pathLst>
                <a:path w="9131" h="2620">
                  <a:moveTo>
                    <a:pt x="2418" y="230"/>
                  </a:moveTo>
                  <a:lnTo>
                    <a:pt x="2429" y="279"/>
                  </a:lnTo>
                  <a:lnTo>
                    <a:pt x="2439" y="353"/>
                  </a:lnTo>
                  <a:lnTo>
                    <a:pt x="2451" y="450"/>
                  </a:lnTo>
                  <a:lnTo>
                    <a:pt x="2451" y="450"/>
                  </a:lnTo>
                  <a:lnTo>
                    <a:pt x="2460" y="550"/>
                  </a:lnTo>
                  <a:lnTo>
                    <a:pt x="2467" y="630"/>
                  </a:lnTo>
                  <a:lnTo>
                    <a:pt x="2469" y="692"/>
                  </a:lnTo>
                  <a:lnTo>
                    <a:pt x="2469" y="692"/>
                  </a:lnTo>
                  <a:lnTo>
                    <a:pt x="2467" y="711"/>
                  </a:lnTo>
                  <a:lnTo>
                    <a:pt x="2463" y="735"/>
                  </a:lnTo>
                  <a:lnTo>
                    <a:pt x="2455" y="762"/>
                  </a:lnTo>
                  <a:lnTo>
                    <a:pt x="2455" y="762"/>
                  </a:lnTo>
                  <a:lnTo>
                    <a:pt x="2401" y="759"/>
                  </a:lnTo>
                  <a:lnTo>
                    <a:pt x="2351" y="754"/>
                  </a:lnTo>
                  <a:lnTo>
                    <a:pt x="2308" y="747"/>
                  </a:lnTo>
                  <a:lnTo>
                    <a:pt x="2308" y="747"/>
                  </a:lnTo>
                  <a:lnTo>
                    <a:pt x="2216" y="615"/>
                  </a:lnTo>
                  <a:lnTo>
                    <a:pt x="2143" y="521"/>
                  </a:lnTo>
                  <a:lnTo>
                    <a:pt x="2092" y="462"/>
                  </a:lnTo>
                  <a:lnTo>
                    <a:pt x="2092" y="462"/>
                  </a:lnTo>
                  <a:lnTo>
                    <a:pt x="2007" y="396"/>
                  </a:lnTo>
                  <a:lnTo>
                    <a:pt x="1908" y="333"/>
                  </a:lnTo>
                  <a:lnTo>
                    <a:pt x="1792" y="280"/>
                  </a:lnTo>
                  <a:lnTo>
                    <a:pt x="1792" y="280"/>
                  </a:lnTo>
                  <a:lnTo>
                    <a:pt x="1698" y="249"/>
                  </a:lnTo>
                  <a:lnTo>
                    <a:pt x="1595" y="230"/>
                  </a:lnTo>
                  <a:lnTo>
                    <a:pt x="1482" y="225"/>
                  </a:lnTo>
                  <a:lnTo>
                    <a:pt x="1482" y="225"/>
                  </a:lnTo>
                  <a:lnTo>
                    <a:pt x="1267" y="256"/>
                  </a:lnTo>
                  <a:lnTo>
                    <a:pt x="1069" y="353"/>
                  </a:lnTo>
                  <a:lnTo>
                    <a:pt x="889" y="512"/>
                  </a:lnTo>
                  <a:lnTo>
                    <a:pt x="889" y="512"/>
                  </a:lnTo>
                  <a:lnTo>
                    <a:pt x="777" y="675"/>
                  </a:lnTo>
                  <a:lnTo>
                    <a:pt x="697" y="873"/>
                  </a:lnTo>
                  <a:lnTo>
                    <a:pt x="650" y="1105"/>
                  </a:lnTo>
                  <a:lnTo>
                    <a:pt x="633" y="1373"/>
                  </a:lnTo>
                  <a:lnTo>
                    <a:pt x="633" y="1373"/>
                  </a:lnTo>
                  <a:lnTo>
                    <a:pt x="645" y="1550"/>
                  </a:lnTo>
                  <a:lnTo>
                    <a:pt x="678" y="1724"/>
                  </a:lnTo>
                  <a:lnTo>
                    <a:pt x="733" y="1894"/>
                  </a:lnTo>
                  <a:lnTo>
                    <a:pt x="733" y="1894"/>
                  </a:lnTo>
                  <a:lnTo>
                    <a:pt x="811" y="2050"/>
                  </a:lnTo>
                  <a:lnTo>
                    <a:pt x="911" y="2182"/>
                  </a:lnTo>
                  <a:lnTo>
                    <a:pt x="1033" y="2290"/>
                  </a:lnTo>
                  <a:lnTo>
                    <a:pt x="1033" y="2290"/>
                  </a:lnTo>
                  <a:lnTo>
                    <a:pt x="1173" y="2370"/>
                  </a:lnTo>
                  <a:lnTo>
                    <a:pt x="1330" y="2417"/>
                  </a:lnTo>
                  <a:lnTo>
                    <a:pt x="1502" y="2432"/>
                  </a:lnTo>
                  <a:lnTo>
                    <a:pt x="1502" y="2432"/>
                  </a:lnTo>
                  <a:lnTo>
                    <a:pt x="1592" y="2429"/>
                  </a:lnTo>
                  <a:lnTo>
                    <a:pt x="1684" y="2419"/>
                  </a:lnTo>
                  <a:lnTo>
                    <a:pt x="1779" y="2400"/>
                  </a:lnTo>
                  <a:lnTo>
                    <a:pt x="1779" y="2400"/>
                  </a:lnTo>
                  <a:lnTo>
                    <a:pt x="1826" y="2387"/>
                  </a:lnTo>
                  <a:lnTo>
                    <a:pt x="1867" y="2366"/>
                  </a:lnTo>
                  <a:lnTo>
                    <a:pt x="1900" y="2339"/>
                  </a:lnTo>
                  <a:lnTo>
                    <a:pt x="1900" y="2339"/>
                  </a:lnTo>
                  <a:lnTo>
                    <a:pt x="1920" y="2315"/>
                  </a:lnTo>
                  <a:lnTo>
                    <a:pt x="1934" y="2283"/>
                  </a:lnTo>
                  <a:lnTo>
                    <a:pt x="1943" y="2246"/>
                  </a:lnTo>
                  <a:lnTo>
                    <a:pt x="1943" y="2246"/>
                  </a:lnTo>
                  <a:lnTo>
                    <a:pt x="1952" y="2162"/>
                  </a:lnTo>
                  <a:lnTo>
                    <a:pt x="1958" y="2055"/>
                  </a:lnTo>
                  <a:lnTo>
                    <a:pt x="1959" y="1929"/>
                  </a:lnTo>
                  <a:lnTo>
                    <a:pt x="1959" y="1929"/>
                  </a:lnTo>
                  <a:lnTo>
                    <a:pt x="1959" y="1808"/>
                  </a:lnTo>
                  <a:lnTo>
                    <a:pt x="1957" y="1717"/>
                  </a:lnTo>
                  <a:lnTo>
                    <a:pt x="1953" y="1653"/>
                  </a:lnTo>
                  <a:lnTo>
                    <a:pt x="1953" y="1653"/>
                  </a:lnTo>
                  <a:lnTo>
                    <a:pt x="1944" y="1635"/>
                  </a:lnTo>
                  <a:lnTo>
                    <a:pt x="1935" y="1623"/>
                  </a:lnTo>
                  <a:lnTo>
                    <a:pt x="1926" y="1616"/>
                  </a:lnTo>
                  <a:lnTo>
                    <a:pt x="1926" y="1616"/>
                  </a:lnTo>
                  <a:lnTo>
                    <a:pt x="1912" y="1608"/>
                  </a:lnTo>
                  <a:lnTo>
                    <a:pt x="1884" y="1599"/>
                  </a:lnTo>
                  <a:lnTo>
                    <a:pt x="1845" y="1588"/>
                  </a:lnTo>
                  <a:lnTo>
                    <a:pt x="1845" y="1588"/>
                  </a:lnTo>
                  <a:lnTo>
                    <a:pt x="1665" y="1542"/>
                  </a:lnTo>
                  <a:lnTo>
                    <a:pt x="1665" y="1542"/>
                  </a:lnTo>
                  <a:lnTo>
                    <a:pt x="1631" y="1531"/>
                  </a:lnTo>
                  <a:lnTo>
                    <a:pt x="1607" y="1521"/>
                  </a:lnTo>
                  <a:lnTo>
                    <a:pt x="1593" y="1508"/>
                  </a:lnTo>
                  <a:lnTo>
                    <a:pt x="1593" y="1508"/>
                  </a:lnTo>
                  <a:lnTo>
                    <a:pt x="1591" y="1493"/>
                  </a:lnTo>
                  <a:lnTo>
                    <a:pt x="1588" y="1480"/>
                  </a:lnTo>
                  <a:lnTo>
                    <a:pt x="1588" y="1471"/>
                  </a:lnTo>
                  <a:lnTo>
                    <a:pt x="1588" y="1471"/>
                  </a:lnTo>
                  <a:lnTo>
                    <a:pt x="1591" y="1451"/>
                  </a:lnTo>
                  <a:lnTo>
                    <a:pt x="1596" y="1426"/>
                  </a:lnTo>
                  <a:lnTo>
                    <a:pt x="1603" y="1396"/>
                  </a:lnTo>
                  <a:lnTo>
                    <a:pt x="1603" y="1396"/>
                  </a:lnTo>
                  <a:lnTo>
                    <a:pt x="1625" y="1390"/>
                  </a:lnTo>
                  <a:lnTo>
                    <a:pt x="1642" y="1385"/>
                  </a:lnTo>
                  <a:lnTo>
                    <a:pt x="1653" y="1384"/>
                  </a:lnTo>
                  <a:lnTo>
                    <a:pt x="1653" y="1384"/>
                  </a:lnTo>
                  <a:lnTo>
                    <a:pt x="1793" y="1386"/>
                  </a:lnTo>
                  <a:lnTo>
                    <a:pt x="1920" y="1392"/>
                  </a:lnTo>
                  <a:lnTo>
                    <a:pt x="2034" y="1400"/>
                  </a:lnTo>
                  <a:lnTo>
                    <a:pt x="2034" y="1400"/>
                  </a:lnTo>
                  <a:lnTo>
                    <a:pt x="2072" y="1402"/>
                  </a:lnTo>
                  <a:lnTo>
                    <a:pt x="2113" y="1404"/>
                  </a:lnTo>
                  <a:lnTo>
                    <a:pt x="2157" y="1404"/>
                  </a:lnTo>
                  <a:lnTo>
                    <a:pt x="2157" y="1404"/>
                  </a:lnTo>
                  <a:lnTo>
                    <a:pt x="2475" y="1400"/>
                  </a:lnTo>
                  <a:lnTo>
                    <a:pt x="2609" y="1396"/>
                  </a:lnTo>
                  <a:lnTo>
                    <a:pt x="2609" y="1396"/>
                  </a:lnTo>
                  <a:lnTo>
                    <a:pt x="2635" y="1396"/>
                  </a:lnTo>
                  <a:lnTo>
                    <a:pt x="2680" y="1397"/>
                  </a:lnTo>
                  <a:lnTo>
                    <a:pt x="2745" y="1400"/>
                  </a:lnTo>
                  <a:lnTo>
                    <a:pt x="2745" y="1400"/>
                  </a:lnTo>
                  <a:lnTo>
                    <a:pt x="2747" y="1432"/>
                  </a:lnTo>
                  <a:lnTo>
                    <a:pt x="2747" y="1460"/>
                  </a:lnTo>
                  <a:lnTo>
                    <a:pt x="2747" y="1485"/>
                  </a:lnTo>
                  <a:lnTo>
                    <a:pt x="2747" y="1485"/>
                  </a:lnTo>
                  <a:lnTo>
                    <a:pt x="2746" y="1500"/>
                  </a:lnTo>
                  <a:lnTo>
                    <a:pt x="2741" y="1517"/>
                  </a:lnTo>
                  <a:lnTo>
                    <a:pt x="2733" y="1533"/>
                  </a:lnTo>
                  <a:lnTo>
                    <a:pt x="2733" y="1533"/>
                  </a:lnTo>
                  <a:lnTo>
                    <a:pt x="2705" y="1547"/>
                  </a:lnTo>
                  <a:lnTo>
                    <a:pt x="2666" y="1563"/>
                  </a:lnTo>
                  <a:lnTo>
                    <a:pt x="2616" y="1581"/>
                  </a:lnTo>
                  <a:lnTo>
                    <a:pt x="2616" y="1581"/>
                  </a:lnTo>
                  <a:lnTo>
                    <a:pt x="2569" y="1599"/>
                  </a:lnTo>
                  <a:lnTo>
                    <a:pt x="2538" y="1611"/>
                  </a:lnTo>
                  <a:lnTo>
                    <a:pt x="2523" y="1620"/>
                  </a:lnTo>
                  <a:lnTo>
                    <a:pt x="2523" y="1620"/>
                  </a:lnTo>
                  <a:lnTo>
                    <a:pt x="2513" y="1632"/>
                  </a:lnTo>
                  <a:lnTo>
                    <a:pt x="2506" y="1648"/>
                  </a:lnTo>
                  <a:lnTo>
                    <a:pt x="2501" y="1668"/>
                  </a:lnTo>
                  <a:lnTo>
                    <a:pt x="2501" y="1668"/>
                  </a:lnTo>
                  <a:lnTo>
                    <a:pt x="2498" y="1708"/>
                  </a:lnTo>
                  <a:lnTo>
                    <a:pt x="2496" y="1784"/>
                  </a:lnTo>
                  <a:lnTo>
                    <a:pt x="2495" y="1898"/>
                  </a:lnTo>
                  <a:lnTo>
                    <a:pt x="2495" y="1898"/>
                  </a:lnTo>
                  <a:lnTo>
                    <a:pt x="2495" y="2029"/>
                  </a:lnTo>
                  <a:lnTo>
                    <a:pt x="2494" y="2120"/>
                  </a:lnTo>
                  <a:lnTo>
                    <a:pt x="2492" y="2170"/>
                  </a:lnTo>
                  <a:lnTo>
                    <a:pt x="2492" y="2170"/>
                  </a:lnTo>
                  <a:lnTo>
                    <a:pt x="2488" y="2250"/>
                  </a:lnTo>
                  <a:lnTo>
                    <a:pt x="2486" y="2304"/>
                  </a:lnTo>
                  <a:lnTo>
                    <a:pt x="2485" y="2331"/>
                  </a:lnTo>
                  <a:lnTo>
                    <a:pt x="2485" y="2331"/>
                  </a:lnTo>
                  <a:lnTo>
                    <a:pt x="2483" y="2373"/>
                  </a:lnTo>
                  <a:lnTo>
                    <a:pt x="2476" y="2402"/>
                  </a:lnTo>
                  <a:lnTo>
                    <a:pt x="2464" y="2420"/>
                  </a:lnTo>
                  <a:lnTo>
                    <a:pt x="2464" y="2420"/>
                  </a:lnTo>
                  <a:lnTo>
                    <a:pt x="2401" y="2457"/>
                  </a:lnTo>
                  <a:lnTo>
                    <a:pt x="2284" y="2498"/>
                  </a:lnTo>
                  <a:lnTo>
                    <a:pt x="2115" y="2542"/>
                  </a:lnTo>
                  <a:lnTo>
                    <a:pt x="2115" y="2542"/>
                  </a:lnTo>
                  <a:lnTo>
                    <a:pt x="1909" y="2580"/>
                  </a:lnTo>
                  <a:lnTo>
                    <a:pt x="1682" y="2603"/>
                  </a:lnTo>
                  <a:lnTo>
                    <a:pt x="1434" y="2612"/>
                  </a:lnTo>
                  <a:lnTo>
                    <a:pt x="1434" y="2612"/>
                  </a:lnTo>
                  <a:lnTo>
                    <a:pt x="1260" y="2606"/>
                  </a:lnTo>
                  <a:lnTo>
                    <a:pt x="1103" y="2592"/>
                  </a:lnTo>
                  <a:lnTo>
                    <a:pt x="961" y="2570"/>
                  </a:lnTo>
                  <a:lnTo>
                    <a:pt x="961" y="2570"/>
                  </a:lnTo>
                  <a:lnTo>
                    <a:pt x="834" y="2537"/>
                  </a:lnTo>
                  <a:lnTo>
                    <a:pt x="721" y="2496"/>
                  </a:lnTo>
                  <a:lnTo>
                    <a:pt x="620" y="2447"/>
                  </a:lnTo>
                  <a:lnTo>
                    <a:pt x="620" y="2447"/>
                  </a:lnTo>
                  <a:lnTo>
                    <a:pt x="500" y="2370"/>
                  </a:lnTo>
                  <a:lnTo>
                    <a:pt x="391" y="2282"/>
                  </a:lnTo>
                  <a:lnTo>
                    <a:pt x="295" y="2184"/>
                  </a:lnTo>
                  <a:lnTo>
                    <a:pt x="295" y="2184"/>
                  </a:lnTo>
                  <a:lnTo>
                    <a:pt x="213" y="2079"/>
                  </a:lnTo>
                  <a:lnTo>
                    <a:pt x="145" y="1968"/>
                  </a:lnTo>
                  <a:lnTo>
                    <a:pt x="94" y="1851"/>
                  </a:lnTo>
                  <a:lnTo>
                    <a:pt x="94" y="1851"/>
                  </a:lnTo>
                  <a:lnTo>
                    <a:pt x="42" y="1682"/>
                  </a:lnTo>
                  <a:lnTo>
                    <a:pt x="12" y="1513"/>
                  </a:lnTo>
                  <a:lnTo>
                    <a:pt x="0" y="1345"/>
                  </a:lnTo>
                  <a:lnTo>
                    <a:pt x="0" y="1345"/>
                  </a:lnTo>
                  <a:lnTo>
                    <a:pt x="16" y="1154"/>
                  </a:lnTo>
                  <a:lnTo>
                    <a:pt x="62" y="962"/>
                  </a:lnTo>
                  <a:lnTo>
                    <a:pt x="138" y="770"/>
                  </a:lnTo>
                  <a:lnTo>
                    <a:pt x="138" y="770"/>
                  </a:lnTo>
                  <a:lnTo>
                    <a:pt x="214" y="634"/>
                  </a:lnTo>
                  <a:lnTo>
                    <a:pt x="308" y="508"/>
                  </a:lnTo>
                  <a:lnTo>
                    <a:pt x="421" y="392"/>
                  </a:lnTo>
                  <a:lnTo>
                    <a:pt x="421" y="392"/>
                  </a:lnTo>
                  <a:lnTo>
                    <a:pt x="553" y="286"/>
                  </a:lnTo>
                  <a:lnTo>
                    <a:pt x="705" y="196"/>
                  </a:lnTo>
                  <a:lnTo>
                    <a:pt x="877" y="122"/>
                  </a:lnTo>
                  <a:lnTo>
                    <a:pt x="877" y="122"/>
                  </a:lnTo>
                  <a:lnTo>
                    <a:pt x="1066" y="67"/>
                  </a:lnTo>
                  <a:lnTo>
                    <a:pt x="1264" y="33"/>
                  </a:lnTo>
                  <a:lnTo>
                    <a:pt x="1474" y="22"/>
                  </a:lnTo>
                  <a:lnTo>
                    <a:pt x="1474" y="22"/>
                  </a:lnTo>
                  <a:lnTo>
                    <a:pt x="1506" y="23"/>
                  </a:lnTo>
                  <a:lnTo>
                    <a:pt x="1550" y="26"/>
                  </a:lnTo>
                  <a:lnTo>
                    <a:pt x="1605" y="31"/>
                  </a:lnTo>
                  <a:lnTo>
                    <a:pt x="1605" y="31"/>
                  </a:lnTo>
                  <a:lnTo>
                    <a:pt x="1765" y="37"/>
                  </a:lnTo>
                  <a:lnTo>
                    <a:pt x="1918" y="58"/>
                  </a:lnTo>
                  <a:lnTo>
                    <a:pt x="2063" y="91"/>
                  </a:lnTo>
                  <a:lnTo>
                    <a:pt x="2063" y="91"/>
                  </a:lnTo>
                  <a:lnTo>
                    <a:pt x="2198" y="132"/>
                  </a:lnTo>
                  <a:lnTo>
                    <a:pt x="2316" y="179"/>
                  </a:lnTo>
                  <a:lnTo>
                    <a:pt x="2418" y="230"/>
                  </a:lnTo>
                  <a:lnTo>
                    <a:pt x="2418" y="230"/>
                  </a:lnTo>
                  <a:close/>
                  <a:moveTo>
                    <a:pt x="4486" y="1159"/>
                  </a:moveTo>
                  <a:lnTo>
                    <a:pt x="4565" y="1243"/>
                  </a:lnTo>
                  <a:lnTo>
                    <a:pt x="4629" y="1334"/>
                  </a:lnTo>
                  <a:lnTo>
                    <a:pt x="4679" y="1433"/>
                  </a:lnTo>
                  <a:lnTo>
                    <a:pt x="4679" y="1433"/>
                  </a:lnTo>
                  <a:lnTo>
                    <a:pt x="4715" y="1535"/>
                  </a:lnTo>
                  <a:lnTo>
                    <a:pt x="4735" y="1632"/>
                  </a:lnTo>
                  <a:lnTo>
                    <a:pt x="4742" y="1726"/>
                  </a:lnTo>
                  <a:lnTo>
                    <a:pt x="4742" y="1726"/>
                  </a:lnTo>
                  <a:lnTo>
                    <a:pt x="4732" y="1888"/>
                  </a:lnTo>
                  <a:lnTo>
                    <a:pt x="4705" y="2026"/>
                  </a:lnTo>
                  <a:lnTo>
                    <a:pt x="4659" y="2142"/>
                  </a:lnTo>
                  <a:lnTo>
                    <a:pt x="4659" y="2142"/>
                  </a:lnTo>
                  <a:lnTo>
                    <a:pt x="4566" y="2288"/>
                  </a:lnTo>
                  <a:lnTo>
                    <a:pt x="4455" y="2405"/>
                  </a:lnTo>
                  <a:lnTo>
                    <a:pt x="4324" y="2495"/>
                  </a:lnTo>
                  <a:lnTo>
                    <a:pt x="4324" y="2495"/>
                  </a:lnTo>
                  <a:lnTo>
                    <a:pt x="4174" y="2557"/>
                  </a:lnTo>
                  <a:lnTo>
                    <a:pt x="4011" y="2596"/>
                  </a:lnTo>
                  <a:lnTo>
                    <a:pt x="3831" y="2608"/>
                  </a:lnTo>
                  <a:lnTo>
                    <a:pt x="3831" y="2608"/>
                  </a:lnTo>
                  <a:lnTo>
                    <a:pt x="3632" y="2594"/>
                  </a:lnTo>
                  <a:lnTo>
                    <a:pt x="3455" y="2549"/>
                  </a:lnTo>
                  <a:lnTo>
                    <a:pt x="3299" y="2474"/>
                  </a:lnTo>
                  <a:lnTo>
                    <a:pt x="3299" y="2474"/>
                  </a:lnTo>
                  <a:lnTo>
                    <a:pt x="3167" y="2379"/>
                  </a:lnTo>
                  <a:lnTo>
                    <a:pt x="3063" y="2278"/>
                  </a:lnTo>
                  <a:lnTo>
                    <a:pt x="2987" y="2167"/>
                  </a:lnTo>
                  <a:lnTo>
                    <a:pt x="2987" y="2167"/>
                  </a:lnTo>
                  <a:lnTo>
                    <a:pt x="2935" y="2044"/>
                  </a:lnTo>
                  <a:lnTo>
                    <a:pt x="2903" y="1901"/>
                  </a:lnTo>
                  <a:lnTo>
                    <a:pt x="2893" y="1742"/>
                  </a:lnTo>
                  <a:lnTo>
                    <a:pt x="2893" y="1742"/>
                  </a:lnTo>
                  <a:lnTo>
                    <a:pt x="2897" y="1655"/>
                  </a:lnTo>
                  <a:lnTo>
                    <a:pt x="2913" y="1569"/>
                  </a:lnTo>
                  <a:lnTo>
                    <a:pt x="2937" y="1482"/>
                  </a:lnTo>
                  <a:lnTo>
                    <a:pt x="2937" y="1482"/>
                  </a:lnTo>
                  <a:lnTo>
                    <a:pt x="2970" y="1399"/>
                  </a:lnTo>
                  <a:lnTo>
                    <a:pt x="3011" y="1324"/>
                  </a:lnTo>
                  <a:lnTo>
                    <a:pt x="3059" y="1255"/>
                  </a:lnTo>
                  <a:lnTo>
                    <a:pt x="3059" y="1255"/>
                  </a:lnTo>
                  <a:lnTo>
                    <a:pt x="3113" y="1195"/>
                  </a:lnTo>
                  <a:lnTo>
                    <a:pt x="3169" y="1141"/>
                  </a:lnTo>
                  <a:lnTo>
                    <a:pt x="3230" y="1094"/>
                  </a:lnTo>
                  <a:lnTo>
                    <a:pt x="3230" y="1094"/>
                  </a:lnTo>
                  <a:lnTo>
                    <a:pt x="3319" y="1037"/>
                  </a:lnTo>
                  <a:lnTo>
                    <a:pt x="3410" y="994"/>
                  </a:lnTo>
                  <a:lnTo>
                    <a:pt x="3501" y="961"/>
                  </a:lnTo>
                  <a:lnTo>
                    <a:pt x="3501" y="961"/>
                  </a:lnTo>
                  <a:lnTo>
                    <a:pt x="3598" y="940"/>
                  </a:lnTo>
                  <a:lnTo>
                    <a:pt x="3707" y="926"/>
                  </a:lnTo>
                  <a:lnTo>
                    <a:pt x="3829" y="922"/>
                  </a:lnTo>
                  <a:lnTo>
                    <a:pt x="3829" y="922"/>
                  </a:lnTo>
                  <a:lnTo>
                    <a:pt x="4090" y="948"/>
                  </a:lnTo>
                  <a:lnTo>
                    <a:pt x="4309" y="1027"/>
                  </a:lnTo>
                  <a:lnTo>
                    <a:pt x="4486" y="1159"/>
                  </a:lnTo>
                  <a:lnTo>
                    <a:pt x="4486" y="1159"/>
                  </a:lnTo>
                  <a:close/>
                  <a:moveTo>
                    <a:pt x="3385" y="1826"/>
                  </a:moveTo>
                  <a:lnTo>
                    <a:pt x="3395" y="1963"/>
                  </a:lnTo>
                  <a:lnTo>
                    <a:pt x="3404" y="2054"/>
                  </a:lnTo>
                  <a:lnTo>
                    <a:pt x="3410" y="2101"/>
                  </a:lnTo>
                  <a:lnTo>
                    <a:pt x="3410" y="2101"/>
                  </a:lnTo>
                  <a:lnTo>
                    <a:pt x="3431" y="2183"/>
                  </a:lnTo>
                  <a:lnTo>
                    <a:pt x="3459" y="2257"/>
                  </a:lnTo>
                  <a:lnTo>
                    <a:pt x="3494" y="2324"/>
                  </a:lnTo>
                  <a:lnTo>
                    <a:pt x="3494" y="2324"/>
                  </a:lnTo>
                  <a:lnTo>
                    <a:pt x="3524" y="2362"/>
                  </a:lnTo>
                  <a:lnTo>
                    <a:pt x="3567" y="2397"/>
                  </a:lnTo>
                  <a:lnTo>
                    <a:pt x="3620" y="2429"/>
                  </a:lnTo>
                  <a:lnTo>
                    <a:pt x="3620" y="2429"/>
                  </a:lnTo>
                  <a:lnTo>
                    <a:pt x="3683" y="2455"/>
                  </a:lnTo>
                  <a:lnTo>
                    <a:pt x="3753" y="2470"/>
                  </a:lnTo>
                  <a:lnTo>
                    <a:pt x="3831" y="2476"/>
                  </a:lnTo>
                  <a:lnTo>
                    <a:pt x="3831" y="2476"/>
                  </a:lnTo>
                  <a:lnTo>
                    <a:pt x="3924" y="2466"/>
                  </a:lnTo>
                  <a:lnTo>
                    <a:pt x="4007" y="2437"/>
                  </a:lnTo>
                  <a:lnTo>
                    <a:pt x="4080" y="2387"/>
                  </a:lnTo>
                  <a:lnTo>
                    <a:pt x="4080" y="2387"/>
                  </a:lnTo>
                  <a:lnTo>
                    <a:pt x="4140" y="2316"/>
                  </a:lnTo>
                  <a:lnTo>
                    <a:pt x="4189" y="2222"/>
                  </a:lnTo>
                  <a:lnTo>
                    <a:pt x="4224" y="2105"/>
                  </a:lnTo>
                  <a:lnTo>
                    <a:pt x="4224" y="2105"/>
                  </a:lnTo>
                  <a:lnTo>
                    <a:pt x="4240" y="2004"/>
                  </a:lnTo>
                  <a:lnTo>
                    <a:pt x="4249" y="1867"/>
                  </a:lnTo>
                  <a:lnTo>
                    <a:pt x="4253" y="1695"/>
                  </a:lnTo>
                  <a:lnTo>
                    <a:pt x="4253" y="1695"/>
                  </a:lnTo>
                  <a:lnTo>
                    <a:pt x="4239" y="1483"/>
                  </a:lnTo>
                  <a:lnTo>
                    <a:pt x="4198" y="1319"/>
                  </a:lnTo>
                  <a:lnTo>
                    <a:pt x="4132" y="1199"/>
                  </a:lnTo>
                  <a:lnTo>
                    <a:pt x="4132" y="1199"/>
                  </a:lnTo>
                  <a:lnTo>
                    <a:pt x="4043" y="1118"/>
                  </a:lnTo>
                  <a:lnTo>
                    <a:pt x="3937" y="1070"/>
                  </a:lnTo>
                  <a:lnTo>
                    <a:pt x="3814" y="1054"/>
                  </a:lnTo>
                  <a:lnTo>
                    <a:pt x="3814" y="1054"/>
                  </a:lnTo>
                  <a:lnTo>
                    <a:pt x="3716" y="1062"/>
                  </a:lnTo>
                  <a:lnTo>
                    <a:pt x="3631" y="1091"/>
                  </a:lnTo>
                  <a:lnTo>
                    <a:pt x="3556" y="1136"/>
                  </a:lnTo>
                  <a:lnTo>
                    <a:pt x="3556" y="1136"/>
                  </a:lnTo>
                  <a:lnTo>
                    <a:pt x="3496" y="1200"/>
                  </a:lnTo>
                  <a:lnTo>
                    <a:pt x="3448" y="1282"/>
                  </a:lnTo>
                  <a:lnTo>
                    <a:pt x="3414" y="1381"/>
                  </a:lnTo>
                  <a:lnTo>
                    <a:pt x="3414" y="1381"/>
                  </a:lnTo>
                  <a:lnTo>
                    <a:pt x="3400" y="1477"/>
                  </a:lnTo>
                  <a:lnTo>
                    <a:pt x="3389" y="1625"/>
                  </a:lnTo>
                  <a:lnTo>
                    <a:pt x="3385" y="1826"/>
                  </a:lnTo>
                  <a:lnTo>
                    <a:pt x="3385" y="1826"/>
                  </a:lnTo>
                  <a:close/>
                  <a:moveTo>
                    <a:pt x="6558" y="1159"/>
                  </a:moveTo>
                  <a:lnTo>
                    <a:pt x="6637" y="1243"/>
                  </a:lnTo>
                  <a:lnTo>
                    <a:pt x="6701" y="1334"/>
                  </a:lnTo>
                  <a:lnTo>
                    <a:pt x="6750" y="1433"/>
                  </a:lnTo>
                  <a:lnTo>
                    <a:pt x="6750" y="1433"/>
                  </a:lnTo>
                  <a:lnTo>
                    <a:pt x="6785" y="1535"/>
                  </a:lnTo>
                  <a:lnTo>
                    <a:pt x="6807" y="1632"/>
                  </a:lnTo>
                  <a:lnTo>
                    <a:pt x="6814" y="1726"/>
                  </a:lnTo>
                  <a:lnTo>
                    <a:pt x="6814" y="1726"/>
                  </a:lnTo>
                  <a:lnTo>
                    <a:pt x="6804" y="1888"/>
                  </a:lnTo>
                  <a:lnTo>
                    <a:pt x="6777" y="2026"/>
                  </a:lnTo>
                  <a:lnTo>
                    <a:pt x="6731" y="2142"/>
                  </a:lnTo>
                  <a:lnTo>
                    <a:pt x="6731" y="2142"/>
                  </a:lnTo>
                  <a:lnTo>
                    <a:pt x="6638" y="2288"/>
                  </a:lnTo>
                  <a:lnTo>
                    <a:pt x="6527" y="2405"/>
                  </a:lnTo>
                  <a:lnTo>
                    <a:pt x="6395" y="2495"/>
                  </a:lnTo>
                  <a:lnTo>
                    <a:pt x="6395" y="2495"/>
                  </a:lnTo>
                  <a:lnTo>
                    <a:pt x="6246" y="2557"/>
                  </a:lnTo>
                  <a:lnTo>
                    <a:pt x="6083" y="2596"/>
                  </a:lnTo>
                  <a:lnTo>
                    <a:pt x="5903" y="2608"/>
                  </a:lnTo>
                  <a:lnTo>
                    <a:pt x="5903" y="2608"/>
                  </a:lnTo>
                  <a:lnTo>
                    <a:pt x="5704" y="2594"/>
                  </a:lnTo>
                  <a:lnTo>
                    <a:pt x="5527" y="2549"/>
                  </a:lnTo>
                  <a:lnTo>
                    <a:pt x="5370" y="2474"/>
                  </a:lnTo>
                  <a:lnTo>
                    <a:pt x="5370" y="2474"/>
                  </a:lnTo>
                  <a:lnTo>
                    <a:pt x="5239" y="2379"/>
                  </a:lnTo>
                  <a:lnTo>
                    <a:pt x="5135" y="2278"/>
                  </a:lnTo>
                  <a:lnTo>
                    <a:pt x="5058" y="2167"/>
                  </a:lnTo>
                  <a:lnTo>
                    <a:pt x="5058" y="2167"/>
                  </a:lnTo>
                  <a:lnTo>
                    <a:pt x="5007" y="2044"/>
                  </a:lnTo>
                  <a:lnTo>
                    <a:pt x="4975" y="1901"/>
                  </a:lnTo>
                  <a:lnTo>
                    <a:pt x="4965" y="1742"/>
                  </a:lnTo>
                  <a:lnTo>
                    <a:pt x="4965" y="1742"/>
                  </a:lnTo>
                  <a:lnTo>
                    <a:pt x="4970" y="1655"/>
                  </a:lnTo>
                  <a:lnTo>
                    <a:pt x="4985" y="1569"/>
                  </a:lnTo>
                  <a:lnTo>
                    <a:pt x="5009" y="1482"/>
                  </a:lnTo>
                  <a:lnTo>
                    <a:pt x="5009" y="1482"/>
                  </a:lnTo>
                  <a:lnTo>
                    <a:pt x="5042" y="1399"/>
                  </a:lnTo>
                  <a:lnTo>
                    <a:pt x="5083" y="1324"/>
                  </a:lnTo>
                  <a:lnTo>
                    <a:pt x="5131" y="1255"/>
                  </a:lnTo>
                  <a:lnTo>
                    <a:pt x="5131" y="1255"/>
                  </a:lnTo>
                  <a:lnTo>
                    <a:pt x="5184" y="1195"/>
                  </a:lnTo>
                  <a:lnTo>
                    <a:pt x="5240" y="1141"/>
                  </a:lnTo>
                  <a:lnTo>
                    <a:pt x="5302" y="1094"/>
                  </a:lnTo>
                  <a:lnTo>
                    <a:pt x="5302" y="1094"/>
                  </a:lnTo>
                  <a:lnTo>
                    <a:pt x="5391" y="1037"/>
                  </a:lnTo>
                  <a:lnTo>
                    <a:pt x="5482" y="994"/>
                  </a:lnTo>
                  <a:lnTo>
                    <a:pt x="5572" y="961"/>
                  </a:lnTo>
                  <a:lnTo>
                    <a:pt x="5572" y="961"/>
                  </a:lnTo>
                  <a:lnTo>
                    <a:pt x="5670" y="940"/>
                  </a:lnTo>
                  <a:lnTo>
                    <a:pt x="5778" y="926"/>
                  </a:lnTo>
                  <a:lnTo>
                    <a:pt x="5901" y="922"/>
                  </a:lnTo>
                  <a:lnTo>
                    <a:pt x="5901" y="922"/>
                  </a:lnTo>
                  <a:lnTo>
                    <a:pt x="6162" y="948"/>
                  </a:lnTo>
                  <a:lnTo>
                    <a:pt x="6381" y="1027"/>
                  </a:lnTo>
                  <a:lnTo>
                    <a:pt x="6558" y="1159"/>
                  </a:lnTo>
                  <a:lnTo>
                    <a:pt x="6558" y="1159"/>
                  </a:lnTo>
                  <a:close/>
                  <a:moveTo>
                    <a:pt x="5457" y="1826"/>
                  </a:moveTo>
                  <a:lnTo>
                    <a:pt x="5467" y="1963"/>
                  </a:lnTo>
                  <a:lnTo>
                    <a:pt x="5476" y="2054"/>
                  </a:lnTo>
                  <a:lnTo>
                    <a:pt x="5482" y="2101"/>
                  </a:lnTo>
                  <a:lnTo>
                    <a:pt x="5482" y="2101"/>
                  </a:lnTo>
                  <a:lnTo>
                    <a:pt x="5503" y="2183"/>
                  </a:lnTo>
                  <a:lnTo>
                    <a:pt x="5531" y="2257"/>
                  </a:lnTo>
                  <a:lnTo>
                    <a:pt x="5565" y="2324"/>
                  </a:lnTo>
                  <a:lnTo>
                    <a:pt x="5565" y="2324"/>
                  </a:lnTo>
                  <a:lnTo>
                    <a:pt x="5596" y="2362"/>
                  </a:lnTo>
                  <a:lnTo>
                    <a:pt x="5638" y="2397"/>
                  </a:lnTo>
                  <a:lnTo>
                    <a:pt x="5692" y="2429"/>
                  </a:lnTo>
                  <a:lnTo>
                    <a:pt x="5692" y="2429"/>
                  </a:lnTo>
                  <a:lnTo>
                    <a:pt x="5754" y="2455"/>
                  </a:lnTo>
                  <a:lnTo>
                    <a:pt x="5825" y="2470"/>
                  </a:lnTo>
                  <a:lnTo>
                    <a:pt x="5903" y="2476"/>
                  </a:lnTo>
                  <a:lnTo>
                    <a:pt x="5903" y="2476"/>
                  </a:lnTo>
                  <a:lnTo>
                    <a:pt x="5996" y="2466"/>
                  </a:lnTo>
                  <a:lnTo>
                    <a:pt x="6078" y="2437"/>
                  </a:lnTo>
                  <a:lnTo>
                    <a:pt x="6150" y="2387"/>
                  </a:lnTo>
                  <a:lnTo>
                    <a:pt x="6150" y="2387"/>
                  </a:lnTo>
                  <a:lnTo>
                    <a:pt x="6212" y="2316"/>
                  </a:lnTo>
                  <a:lnTo>
                    <a:pt x="6260" y="2222"/>
                  </a:lnTo>
                  <a:lnTo>
                    <a:pt x="6295" y="2105"/>
                  </a:lnTo>
                  <a:lnTo>
                    <a:pt x="6295" y="2105"/>
                  </a:lnTo>
                  <a:lnTo>
                    <a:pt x="6312" y="2004"/>
                  </a:lnTo>
                  <a:lnTo>
                    <a:pt x="6321" y="1867"/>
                  </a:lnTo>
                  <a:lnTo>
                    <a:pt x="6325" y="1695"/>
                  </a:lnTo>
                  <a:lnTo>
                    <a:pt x="6325" y="1695"/>
                  </a:lnTo>
                  <a:lnTo>
                    <a:pt x="6311" y="1483"/>
                  </a:lnTo>
                  <a:lnTo>
                    <a:pt x="6270" y="1319"/>
                  </a:lnTo>
                  <a:lnTo>
                    <a:pt x="6204" y="1199"/>
                  </a:lnTo>
                  <a:lnTo>
                    <a:pt x="6204" y="1199"/>
                  </a:lnTo>
                  <a:lnTo>
                    <a:pt x="6114" y="1118"/>
                  </a:lnTo>
                  <a:lnTo>
                    <a:pt x="6009" y="1070"/>
                  </a:lnTo>
                  <a:lnTo>
                    <a:pt x="5886" y="1054"/>
                  </a:lnTo>
                  <a:lnTo>
                    <a:pt x="5886" y="1054"/>
                  </a:lnTo>
                  <a:lnTo>
                    <a:pt x="5788" y="1062"/>
                  </a:lnTo>
                  <a:lnTo>
                    <a:pt x="5702" y="1091"/>
                  </a:lnTo>
                  <a:lnTo>
                    <a:pt x="5628" y="1136"/>
                  </a:lnTo>
                  <a:lnTo>
                    <a:pt x="5628" y="1136"/>
                  </a:lnTo>
                  <a:lnTo>
                    <a:pt x="5568" y="1200"/>
                  </a:lnTo>
                  <a:lnTo>
                    <a:pt x="5520" y="1282"/>
                  </a:lnTo>
                  <a:lnTo>
                    <a:pt x="5486" y="1381"/>
                  </a:lnTo>
                  <a:lnTo>
                    <a:pt x="5486" y="1381"/>
                  </a:lnTo>
                  <a:lnTo>
                    <a:pt x="5472" y="1477"/>
                  </a:lnTo>
                  <a:lnTo>
                    <a:pt x="5461" y="1625"/>
                  </a:lnTo>
                  <a:lnTo>
                    <a:pt x="5457" y="1826"/>
                  </a:lnTo>
                  <a:lnTo>
                    <a:pt x="5457" y="1826"/>
                  </a:lnTo>
                  <a:close/>
                  <a:moveTo>
                    <a:pt x="7417" y="1085"/>
                  </a:moveTo>
                  <a:lnTo>
                    <a:pt x="7482" y="1046"/>
                  </a:lnTo>
                  <a:lnTo>
                    <a:pt x="7546" y="1015"/>
                  </a:lnTo>
                  <a:lnTo>
                    <a:pt x="7607" y="992"/>
                  </a:lnTo>
                  <a:lnTo>
                    <a:pt x="7607" y="992"/>
                  </a:lnTo>
                  <a:lnTo>
                    <a:pt x="7677" y="974"/>
                  </a:lnTo>
                  <a:lnTo>
                    <a:pt x="7763" y="958"/>
                  </a:lnTo>
                  <a:lnTo>
                    <a:pt x="7867" y="947"/>
                  </a:lnTo>
                  <a:lnTo>
                    <a:pt x="7867" y="947"/>
                  </a:lnTo>
                  <a:lnTo>
                    <a:pt x="7979" y="947"/>
                  </a:lnTo>
                  <a:lnTo>
                    <a:pt x="7979" y="947"/>
                  </a:lnTo>
                  <a:lnTo>
                    <a:pt x="8123" y="962"/>
                  </a:lnTo>
                  <a:lnTo>
                    <a:pt x="8264" y="1011"/>
                  </a:lnTo>
                  <a:lnTo>
                    <a:pt x="8401" y="1092"/>
                  </a:lnTo>
                  <a:lnTo>
                    <a:pt x="8401" y="1092"/>
                  </a:lnTo>
                  <a:lnTo>
                    <a:pt x="8405" y="1046"/>
                  </a:lnTo>
                  <a:lnTo>
                    <a:pt x="8402" y="917"/>
                  </a:lnTo>
                  <a:lnTo>
                    <a:pt x="8410" y="709"/>
                  </a:lnTo>
                  <a:lnTo>
                    <a:pt x="8410" y="709"/>
                  </a:lnTo>
                  <a:lnTo>
                    <a:pt x="8405" y="520"/>
                  </a:lnTo>
                  <a:lnTo>
                    <a:pt x="8387" y="382"/>
                  </a:lnTo>
                  <a:lnTo>
                    <a:pt x="8359" y="297"/>
                  </a:lnTo>
                  <a:lnTo>
                    <a:pt x="8359" y="297"/>
                  </a:lnTo>
                  <a:lnTo>
                    <a:pt x="8333" y="268"/>
                  </a:lnTo>
                  <a:lnTo>
                    <a:pt x="8297" y="250"/>
                  </a:lnTo>
                  <a:lnTo>
                    <a:pt x="8253" y="242"/>
                  </a:lnTo>
                  <a:lnTo>
                    <a:pt x="8253" y="242"/>
                  </a:lnTo>
                  <a:lnTo>
                    <a:pt x="8206" y="237"/>
                  </a:lnTo>
                  <a:lnTo>
                    <a:pt x="8164" y="229"/>
                  </a:lnTo>
                  <a:lnTo>
                    <a:pt x="8131" y="217"/>
                  </a:lnTo>
                  <a:lnTo>
                    <a:pt x="8131" y="217"/>
                  </a:lnTo>
                  <a:lnTo>
                    <a:pt x="8131" y="124"/>
                  </a:lnTo>
                  <a:lnTo>
                    <a:pt x="8131" y="124"/>
                  </a:lnTo>
                  <a:lnTo>
                    <a:pt x="8159" y="117"/>
                  </a:lnTo>
                  <a:lnTo>
                    <a:pt x="8192" y="112"/>
                  </a:lnTo>
                  <a:lnTo>
                    <a:pt x="8230" y="111"/>
                  </a:lnTo>
                  <a:lnTo>
                    <a:pt x="8230" y="111"/>
                  </a:lnTo>
                  <a:lnTo>
                    <a:pt x="8282" y="106"/>
                  </a:lnTo>
                  <a:lnTo>
                    <a:pt x="8361" y="93"/>
                  </a:lnTo>
                  <a:lnTo>
                    <a:pt x="8464" y="72"/>
                  </a:lnTo>
                  <a:lnTo>
                    <a:pt x="8464" y="72"/>
                  </a:lnTo>
                  <a:lnTo>
                    <a:pt x="8533" y="58"/>
                  </a:lnTo>
                  <a:lnTo>
                    <a:pt x="8733" y="13"/>
                  </a:lnTo>
                  <a:lnTo>
                    <a:pt x="8733" y="13"/>
                  </a:lnTo>
                  <a:lnTo>
                    <a:pt x="8768" y="6"/>
                  </a:lnTo>
                  <a:lnTo>
                    <a:pt x="8793" y="2"/>
                  </a:lnTo>
                  <a:lnTo>
                    <a:pt x="8807" y="0"/>
                  </a:lnTo>
                  <a:lnTo>
                    <a:pt x="8807" y="0"/>
                  </a:lnTo>
                  <a:lnTo>
                    <a:pt x="8816" y="1"/>
                  </a:lnTo>
                  <a:lnTo>
                    <a:pt x="8826" y="2"/>
                  </a:lnTo>
                  <a:lnTo>
                    <a:pt x="8840" y="4"/>
                  </a:lnTo>
                  <a:lnTo>
                    <a:pt x="8840" y="4"/>
                  </a:lnTo>
                  <a:lnTo>
                    <a:pt x="8847" y="29"/>
                  </a:lnTo>
                  <a:lnTo>
                    <a:pt x="8850" y="49"/>
                  </a:lnTo>
                  <a:lnTo>
                    <a:pt x="8851" y="64"/>
                  </a:lnTo>
                  <a:lnTo>
                    <a:pt x="8851" y="64"/>
                  </a:lnTo>
                  <a:lnTo>
                    <a:pt x="8849" y="94"/>
                  </a:lnTo>
                  <a:lnTo>
                    <a:pt x="8849" y="128"/>
                  </a:lnTo>
                  <a:lnTo>
                    <a:pt x="8849" y="128"/>
                  </a:lnTo>
                  <a:lnTo>
                    <a:pt x="8850" y="183"/>
                  </a:lnTo>
                  <a:lnTo>
                    <a:pt x="8851" y="279"/>
                  </a:lnTo>
                  <a:lnTo>
                    <a:pt x="8855" y="416"/>
                  </a:lnTo>
                  <a:lnTo>
                    <a:pt x="8855" y="416"/>
                  </a:lnTo>
                  <a:lnTo>
                    <a:pt x="8855" y="519"/>
                  </a:lnTo>
                  <a:lnTo>
                    <a:pt x="8857" y="575"/>
                  </a:lnTo>
                  <a:lnTo>
                    <a:pt x="8855" y="671"/>
                  </a:lnTo>
                  <a:lnTo>
                    <a:pt x="8861" y="872"/>
                  </a:lnTo>
                  <a:lnTo>
                    <a:pt x="8857" y="990"/>
                  </a:lnTo>
                  <a:lnTo>
                    <a:pt x="8857" y="990"/>
                  </a:lnTo>
                  <a:lnTo>
                    <a:pt x="8855" y="1050"/>
                  </a:lnTo>
                  <a:lnTo>
                    <a:pt x="8854" y="1132"/>
                  </a:lnTo>
                  <a:lnTo>
                    <a:pt x="8853" y="1232"/>
                  </a:lnTo>
                  <a:lnTo>
                    <a:pt x="8853" y="1232"/>
                  </a:lnTo>
                  <a:lnTo>
                    <a:pt x="8853" y="1250"/>
                  </a:lnTo>
                  <a:lnTo>
                    <a:pt x="8854" y="1266"/>
                  </a:lnTo>
                  <a:lnTo>
                    <a:pt x="8855" y="1280"/>
                  </a:lnTo>
                  <a:lnTo>
                    <a:pt x="8855" y="1280"/>
                  </a:lnTo>
                  <a:lnTo>
                    <a:pt x="8855" y="1352"/>
                  </a:lnTo>
                  <a:lnTo>
                    <a:pt x="8855" y="1352"/>
                  </a:lnTo>
                  <a:lnTo>
                    <a:pt x="8854" y="1371"/>
                  </a:lnTo>
                  <a:lnTo>
                    <a:pt x="8853" y="1386"/>
                  </a:lnTo>
                  <a:lnTo>
                    <a:pt x="8853" y="1398"/>
                  </a:lnTo>
                  <a:lnTo>
                    <a:pt x="8853" y="1398"/>
                  </a:lnTo>
                  <a:lnTo>
                    <a:pt x="8854" y="1421"/>
                  </a:lnTo>
                  <a:lnTo>
                    <a:pt x="8855" y="1448"/>
                  </a:lnTo>
                  <a:lnTo>
                    <a:pt x="8859" y="1481"/>
                  </a:lnTo>
                  <a:lnTo>
                    <a:pt x="8859" y="1481"/>
                  </a:lnTo>
                  <a:lnTo>
                    <a:pt x="8859" y="1588"/>
                  </a:lnTo>
                  <a:lnTo>
                    <a:pt x="8857" y="1628"/>
                  </a:lnTo>
                  <a:lnTo>
                    <a:pt x="8857" y="1628"/>
                  </a:lnTo>
                  <a:lnTo>
                    <a:pt x="8855" y="1670"/>
                  </a:lnTo>
                  <a:lnTo>
                    <a:pt x="8854" y="1721"/>
                  </a:lnTo>
                  <a:lnTo>
                    <a:pt x="8853" y="1782"/>
                  </a:lnTo>
                  <a:lnTo>
                    <a:pt x="8853" y="1782"/>
                  </a:lnTo>
                  <a:lnTo>
                    <a:pt x="8854" y="1846"/>
                  </a:lnTo>
                  <a:lnTo>
                    <a:pt x="8855" y="1907"/>
                  </a:lnTo>
                  <a:lnTo>
                    <a:pt x="8857" y="1963"/>
                  </a:lnTo>
                  <a:lnTo>
                    <a:pt x="8857" y="1963"/>
                  </a:lnTo>
                  <a:lnTo>
                    <a:pt x="8858" y="1984"/>
                  </a:lnTo>
                  <a:lnTo>
                    <a:pt x="8859" y="2004"/>
                  </a:lnTo>
                  <a:lnTo>
                    <a:pt x="8859" y="2023"/>
                  </a:lnTo>
                  <a:lnTo>
                    <a:pt x="8859" y="2023"/>
                  </a:lnTo>
                  <a:lnTo>
                    <a:pt x="8859" y="2167"/>
                  </a:lnTo>
                  <a:lnTo>
                    <a:pt x="8859" y="2167"/>
                  </a:lnTo>
                  <a:lnTo>
                    <a:pt x="8859" y="2216"/>
                  </a:lnTo>
                  <a:lnTo>
                    <a:pt x="8861" y="2272"/>
                  </a:lnTo>
                  <a:lnTo>
                    <a:pt x="8864" y="2332"/>
                  </a:lnTo>
                  <a:lnTo>
                    <a:pt x="8864" y="2332"/>
                  </a:lnTo>
                  <a:lnTo>
                    <a:pt x="8899" y="2346"/>
                  </a:lnTo>
                  <a:lnTo>
                    <a:pt x="8958" y="2356"/>
                  </a:lnTo>
                  <a:lnTo>
                    <a:pt x="9041" y="2364"/>
                  </a:lnTo>
                  <a:lnTo>
                    <a:pt x="9041" y="2364"/>
                  </a:lnTo>
                  <a:lnTo>
                    <a:pt x="9069" y="2366"/>
                  </a:lnTo>
                  <a:lnTo>
                    <a:pt x="9096" y="2370"/>
                  </a:lnTo>
                  <a:lnTo>
                    <a:pt x="9119" y="2374"/>
                  </a:lnTo>
                  <a:lnTo>
                    <a:pt x="9119" y="2374"/>
                  </a:lnTo>
                  <a:lnTo>
                    <a:pt x="9125" y="2391"/>
                  </a:lnTo>
                  <a:lnTo>
                    <a:pt x="9128" y="2405"/>
                  </a:lnTo>
                  <a:lnTo>
                    <a:pt x="9131" y="2416"/>
                  </a:lnTo>
                  <a:lnTo>
                    <a:pt x="9131" y="2416"/>
                  </a:lnTo>
                  <a:lnTo>
                    <a:pt x="9128" y="2429"/>
                  </a:lnTo>
                  <a:lnTo>
                    <a:pt x="9123" y="2447"/>
                  </a:lnTo>
                  <a:lnTo>
                    <a:pt x="9115" y="2468"/>
                  </a:lnTo>
                  <a:lnTo>
                    <a:pt x="9115" y="2468"/>
                  </a:lnTo>
                  <a:lnTo>
                    <a:pt x="9060" y="2479"/>
                  </a:lnTo>
                  <a:lnTo>
                    <a:pt x="9001" y="2490"/>
                  </a:lnTo>
                  <a:lnTo>
                    <a:pt x="8942" y="2497"/>
                  </a:lnTo>
                  <a:lnTo>
                    <a:pt x="8942" y="2497"/>
                  </a:lnTo>
                  <a:lnTo>
                    <a:pt x="8776" y="2522"/>
                  </a:lnTo>
                  <a:lnTo>
                    <a:pt x="8645" y="2553"/>
                  </a:lnTo>
                  <a:lnTo>
                    <a:pt x="8550" y="2590"/>
                  </a:lnTo>
                  <a:lnTo>
                    <a:pt x="8550" y="2590"/>
                  </a:lnTo>
                  <a:lnTo>
                    <a:pt x="8515" y="2606"/>
                  </a:lnTo>
                  <a:lnTo>
                    <a:pt x="8489" y="2617"/>
                  </a:lnTo>
                  <a:lnTo>
                    <a:pt x="8472" y="2620"/>
                  </a:lnTo>
                  <a:lnTo>
                    <a:pt x="8472" y="2620"/>
                  </a:lnTo>
                  <a:lnTo>
                    <a:pt x="8456" y="2620"/>
                  </a:lnTo>
                  <a:lnTo>
                    <a:pt x="8439" y="2619"/>
                  </a:lnTo>
                  <a:lnTo>
                    <a:pt x="8420" y="2617"/>
                  </a:lnTo>
                  <a:lnTo>
                    <a:pt x="8420" y="2617"/>
                  </a:lnTo>
                  <a:lnTo>
                    <a:pt x="8421" y="2596"/>
                  </a:lnTo>
                  <a:lnTo>
                    <a:pt x="8422" y="2581"/>
                  </a:lnTo>
                  <a:lnTo>
                    <a:pt x="8422" y="2572"/>
                  </a:lnTo>
                  <a:lnTo>
                    <a:pt x="8422" y="2572"/>
                  </a:lnTo>
                  <a:lnTo>
                    <a:pt x="8421" y="2495"/>
                  </a:lnTo>
                  <a:lnTo>
                    <a:pt x="8419" y="2439"/>
                  </a:lnTo>
                  <a:lnTo>
                    <a:pt x="8417" y="2404"/>
                  </a:lnTo>
                  <a:lnTo>
                    <a:pt x="8417" y="2404"/>
                  </a:lnTo>
                  <a:lnTo>
                    <a:pt x="8394" y="2416"/>
                  </a:lnTo>
                  <a:lnTo>
                    <a:pt x="8369" y="2429"/>
                  </a:lnTo>
                  <a:lnTo>
                    <a:pt x="8342" y="2445"/>
                  </a:lnTo>
                  <a:lnTo>
                    <a:pt x="8342" y="2445"/>
                  </a:lnTo>
                  <a:lnTo>
                    <a:pt x="8255" y="2491"/>
                  </a:lnTo>
                  <a:lnTo>
                    <a:pt x="8172" y="2527"/>
                  </a:lnTo>
                  <a:lnTo>
                    <a:pt x="8096" y="2552"/>
                  </a:lnTo>
                  <a:lnTo>
                    <a:pt x="8096" y="2552"/>
                  </a:lnTo>
                  <a:lnTo>
                    <a:pt x="8018" y="2569"/>
                  </a:lnTo>
                  <a:lnTo>
                    <a:pt x="7934" y="2578"/>
                  </a:lnTo>
                  <a:lnTo>
                    <a:pt x="7843" y="2582"/>
                  </a:lnTo>
                  <a:lnTo>
                    <a:pt x="7843" y="2582"/>
                  </a:lnTo>
                  <a:lnTo>
                    <a:pt x="7684" y="2571"/>
                  </a:lnTo>
                  <a:lnTo>
                    <a:pt x="7550" y="2541"/>
                  </a:lnTo>
                  <a:lnTo>
                    <a:pt x="7438" y="2490"/>
                  </a:lnTo>
                  <a:lnTo>
                    <a:pt x="7438" y="2490"/>
                  </a:lnTo>
                  <a:lnTo>
                    <a:pt x="7304" y="2393"/>
                  </a:lnTo>
                  <a:lnTo>
                    <a:pt x="7200" y="2285"/>
                  </a:lnTo>
                  <a:lnTo>
                    <a:pt x="7128" y="2166"/>
                  </a:lnTo>
                  <a:lnTo>
                    <a:pt x="7128" y="2166"/>
                  </a:lnTo>
                  <a:lnTo>
                    <a:pt x="7081" y="2035"/>
                  </a:lnTo>
                  <a:lnTo>
                    <a:pt x="7052" y="1897"/>
                  </a:lnTo>
                  <a:lnTo>
                    <a:pt x="7043" y="1751"/>
                  </a:lnTo>
                  <a:lnTo>
                    <a:pt x="7043" y="1751"/>
                  </a:lnTo>
                  <a:lnTo>
                    <a:pt x="7084" y="1504"/>
                  </a:lnTo>
                  <a:lnTo>
                    <a:pt x="7209" y="1282"/>
                  </a:lnTo>
                  <a:lnTo>
                    <a:pt x="7417" y="1085"/>
                  </a:lnTo>
                  <a:lnTo>
                    <a:pt x="7417" y="1085"/>
                  </a:lnTo>
                  <a:close/>
                  <a:moveTo>
                    <a:pt x="8038" y="2362"/>
                  </a:moveTo>
                  <a:lnTo>
                    <a:pt x="8065" y="2365"/>
                  </a:lnTo>
                  <a:lnTo>
                    <a:pt x="8089" y="2366"/>
                  </a:lnTo>
                  <a:lnTo>
                    <a:pt x="8110" y="2366"/>
                  </a:lnTo>
                  <a:lnTo>
                    <a:pt x="8110" y="2366"/>
                  </a:lnTo>
                  <a:lnTo>
                    <a:pt x="8156" y="2363"/>
                  </a:lnTo>
                  <a:lnTo>
                    <a:pt x="8204" y="2353"/>
                  </a:lnTo>
                  <a:lnTo>
                    <a:pt x="8253" y="2339"/>
                  </a:lnTo>
                  <a:lnTo>
                    <a:pt x="8253" y="2339"/>
                  </a:lnTo>
                  <a:lnTo>
                    <a:pt x="8304" y="2318"/>
                  </a:lnTo>
                  <a:lnTo>
                    <a:pt x="8357" y="2292"/>
                  </a:lnTo>
                  <a:lnTo>
                    <a:pt x="8413" y="2260"/>
                  </a:lnTo>
                  <a:lnTo>
                    <a:pt x="8413" y="2260"/>
                  </a:lnTo>
                  <a:lnTo>
                    <a:pt x="8414" y="2223"/>
                  </a:lnTo>
                  <a:lnTo>
                    <a:pt x="8414" y="2196"/>
                  </a:lnTo>
                  <a:lnTo>
                    <a:pt x="8414" y="2180"/>
                  </a:lnTo>
                  <a:lnTo>
                    <a:pt x="8414" y="2180"/>
                  </a:lnTo>
                  <a:lnTo>
                    <a:pt x="8413" y="1827"/>
                  </a:lnTo>
                  <a:lnTo>
                    <a:pt x="8406" y="1582"/>
                  </a:lnTo>
                  <a:lnTo>
                    <a:pt x="8396" y="1445"/>
                  </a:lnTo>
                  <a:lnTo>
                    <a:pt x="8396" y="1445"/>
                  </a:lnTo>
                  <a:lnTo>
                    <a:pt x="8370" y="1342"/>
                  </a:lnTo>
                  <a:lnTo>
                    <a:pt x="8327" y="1254"/>
                  </a:lnTo>
                  <a:lnTo>
                    <a:pt x="8264" y="1186"/>
                  </a:lnTo>
                  <a:lnTo>
                    <a:pt x="8264" y="1186"/>
                  </a:lnTo>
                  <a:lnTo>
                    <a:pt x="8186" y="1136"/>
                  </a:lnTo>
                  <a:lnTo>
                    <a:pt x="8097" y="1105"/>
                  </a:lnTo>
                  <a:lnTo>
                    <a:pt x="7999" y="1096"/>
                  </a:lnTo>
                  <a:lnTo>
                    <a:pt x="7999" y="1096"/>
                  </a:lnTo>
                  <a:lnTo>
                    <a:pt x="7942" y="1099"/>
                  </a:lnTo>
                  <a:lnTo>
                    <a:pt x="7884" y="1109"/>
                  </a:lnTo>
                  <a:lnTo>
                    <a:pt x="7830" y="1126"/>
                  </a:lnTo>
                  <a:lnTo>
                    <a:pt x="7830" y="1126"/>
                  </a:lnTo>
                  <a:lnTo>
                    <a:pt x="7781" y="1150"/>
                  </a:lnTo>
                  <a:lnTo>
                    <a:pt x="7738" y="1179"/>
                  </a:lnTo>
                  <a:lnTo>
                    <a:pt x="7701" y="1216"/>
                  </a:lnTo>
                  <a:lnTo>
                    <a:pt x="7701" y="1216"/>
                  </a:lnTo>
                  <a:lnTo>
                    <a:pt x="7655" y="1275"/>
                  </a:lnTo>
                  <a:lnTo>
                    <a:pt x="7618" y="1339"/>
                  </a:lnTo>
                  <a:lnTo>
                    <a:pt x="7588" y="1408"/>
                  </a:lnTo>
                  <a:lnTo>
                    <a:pt x="7588" y="1408"/>
                  </a:lnTo>
                  <a:lnTo>
                    <a:pt x="7559" y="1506"/>
                  </a:lnTo>
                  <a:lnTo>
                    <a:pt x="7542" y="1600"/>
                  </a:lnTo>
                  <a:lnTo>
                    <a:pt x="7536" y="1689"/>
                  </a:lnTo>
                  <a:lnTo>
                    <a:pt x="7536" y="1689"/>
                  </a:lnTo>
                  <a:lnTo>
                    <a:pt x="7551" y="1882"/>
                  </a:lnTo>
                  <a:lnTo>
                    <a:pt x="7598" y="2043"/>
                  </a:lnTo>
                  <a:lnTo>
                    <a:pt x="7675" y="2170"/>
                  </a:lnTo>
                  <a:lnTo>
                    <a:pt x="7675" y="2170"/>
                  </a:lnTo>
                  <a:lnTo>
                    <a:pt x="7777" y="2266"/>
                  </a:lnTo>
                  <a:lnTo>
                    <a:pt x="7898" y="2329"/>
                  </a:lnTo>
                  <a:lnTo>
                    <a:pt x="8038" y="2362"/>
                  </a:lnTo>
                  <a:lnTo>
                    <a:pt x="8038" y="2362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od &amp; Beverag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est line item expen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ximity to suppliers hel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olume purchase agreements will hel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yroll &amp; Benef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ries from region to reg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icult to cont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York costs are the high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preci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nual capital equipment depreciation is sm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equipment has a short life span and is expen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utos and trucks are l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ease Expen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r Central Park location is expens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ther locations are much more reason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16:21:36Z</dcterms:created>
  <dc:creator>Pat R. Graves</dc:creator>
  <dc:description/>
  <dc:language>en-US</dc:language>
  <cp:lastModifiedBy>Student Name</cp:lastModifiedBy>
  <dcterms:modified xsi:type="dcterms:W3CDTF">2004-04-09T19:53:02Z</dcterms:modified>
  <cp:revision>17</cp:revision>
  <dc:subject/>
  <dc:title>Expense Analysis</dc:title>
</cp:coreProperties>
</file>