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A75-354A-4D2C-BD5A-AD5A4BD3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4640" y="377676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90F-A0F4-4E94-A7C8-5438664A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4640" y="377676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77676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750-A577-4BDC-9683-4F21B1CD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1000" y="162720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162720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4640" y="377676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1000" y="377676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77676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F50-EECC-49C2-9755-B0220FC4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B567-16D1-44F2-B1EB-8786B4C7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74640" y="16272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3AFE-C918-4FF8-968E-63D270B5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AA4F-4060-40CB-B97D-12E8D4EE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62720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745B-775D-423F-9B21-5FAE44AF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18F0-22CE-4C71-81D3-9F44CEDC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53416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89C3-FE0D-4895-92C9-57BB2F78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62720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640" y="377676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BDC1-BE66-4C4B-99AA-6219EFCB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4640" y="16272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7DD-F40A-4404-B8DB-0BC2E246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5400" y="377676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FAF2-C1D7-444B-8B64-E80FDC69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74640" y="377676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8418-9E71-46D8-9EDB-28CC81E3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74640" y="377676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F7D9-879D-4FE7-B3DF-E644F335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74640" y="377676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5400" y="377676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A67C-17BB-4E71-88DC-B4AA106B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1000" y="162720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67360" y="162720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74640" y="377676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1000" y="377676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67360" y="377676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203B-4BE3-418C-99D3-94192ACC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DDE-0D76-405C-A82E-30FC0551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720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25C-AA04-473C-AA7D-FC9D21BA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E2C-75EB-42EC-A6CF-65237598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53416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5DC-2965-441A-9115-DEDF1A17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720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4640" y="377676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53E-FC9F-48A2-B9F2-0FE9A86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77676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B12-5FAF-4B57-979D-39FBD531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464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720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4640" y="377676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EFB-5786-4980-89E8-5305065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4640" y="16272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2184-7877-4233-B745-C74490AC6D61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4520" y="1290600"/>
            <a:ext cx="8454960" cy="4788000"/>
          </a:xfrm>
          <a:prstGeom prst="rect">
            <a:avLst/>
          </a:prstGeom>
          <a:noFill/>
          <a:ln w="540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43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49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557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6666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69EE-4505-4CB6-B97F-D641D518E1AB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344760" y="2352600"/>
            <a:ext cx="5450040" cy="4683960"/>
            <a:chOff x="3344760" y="2352600"/>
            <a:chExt cx="5450040" cy="4683960"/>
          </a:xfrm>
        </p:grpSpPr>
        <p:sp>
          <p:nvSpPr>
            <p:cNvPr id="59" name=""/>
            <p:cNvSpPr/>
            <p:nvPr/>
          </p:nvSpPr>
          <p:spPr>
            <a:xfrm>
              <a:off x="7512120" y="325116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46880" y="296712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8900000">
              <a:off x="4011120" y="407052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3500000">
              <a:off x="6050520" y="594792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6200000">
              <a:off x="7021440" y="454176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3344760" y="235260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8100000">
              <a:off x="5412240" y="41842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4557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ff"/>
                </a:solidFill>
                <a:latin typeface="Arial Black"/>
              </a:rPr>
              <a:t>Financial Analysis</a:t>
            </a:r>
            <a:endParaRPr b="0" lang="en-US" sz="6000" spc="-1" strike="noStrike">
              <a:solidFill>
                <a:srgbClr val="6666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5400" y="2795400"/>
            <a:ext cx="6399000" cy="18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Good 4 U Restaurants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stomer Vis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4640" y="1627200"/>
          <a:ext cx="78264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627200"/>
                    <a:ext cx="78264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-Shirts by Reg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68560" y="1627200"/>
          <a:ext cx="6838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1627200"/>
                    <a:ext cx="6838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0948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7T17:56:28Z</dcterms:created>
  <dc:creator>Pat R. Graves</dc:creator>
  <dc:description/>
  <dc:language>en-US</dc:language>
  <cp:lastModifiedBy>Student Name</cp:lastModifiedBy>
  <cp:lastPrinted>1997-07-03T18:50:15Z</cp:lastPrinted>
  <dcterms:modified xsi:type="dcterms:W3CDTF">2004-04-09T20:10:21Z</dcterms:modified>
  <cp:revision>61</cp:revision>
  <dc:subject/>
  <dc:title>Financial Analysis</dc:title>
</cp:coreProperties>
</file>