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AB5-BC08-4C54-A837-C4BF0FC3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76080" y="439380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E0C-82C0-4A2D-82A3-7265002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976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C53-A215-49FF-A0F5-421DC1F8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976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380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7608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976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380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830-80B0-4E51-99E0-0A128AFD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FA7-EDE0-4AB3-A85F-D83C6BAE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B76F-0D7D-438F-86D3-F959904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BC3-E2DD-47C9-974E-4EB9F920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28F-D915-446B-9D9A-F9DB378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95E-B877-4AB4-8912-0CDF661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30480" y="205200"/>
            <a:ext cx="78832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4E64-6EB6-4928-87C3-FB6FED0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6C2-29EF-41EC-8937-48D37A9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6A6-3684-4234-8663-58DB4EF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976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3A23-8F9F-4DE6-BDB0-773F09B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0BC1-A644-495D-AC44-B1A2A2E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76080" y="439380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956-0539-4601-A008-89DF2AE3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976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CA0-4995-4834-A7CE-FA902928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1976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3800" y="244908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7608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1976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3800" y="4393800"/>
            <a:ext cx="23270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86D-418D-4DDC-95E2-6762B784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A44-CA44-4CB0-8F2C-67489A2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645-4D13-426A-BAD9-9E8F732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85-CA51-4E7C-A03F-802611CF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30480" y="205200"/>
            <a:ext cx="78832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339-77B3-489D-92BA-A7F002C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C0C-AD9E-46F7-BA2B-9B9A32A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9760" y="439380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055-3341-45D6-80F1-4D01D4A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2449080"/>
            <a:ext cx="35269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76080" y="4393800"/>
            <a:ext cx="722772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D38-0B2E-43F8-8519-9CDCF7A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3196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9d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30480" y="205200"/>
            <a:ext cx="78832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FFBA-1D69-4D54-8827-7DA0B261D1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533520" cy="390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1040" indent="-40104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16480" indent="-3135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034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7040" indent="-203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 flipV="1" rot="16200000">
            <a:off x="4494960" y="-858960"/>
            <a:ext cx="152280" cy="8564400"/>
          </a:xfrm>
          <a:custGeom>
            <a:avLst/>
            <a:gdLst/>
            <a:ahLst/>
            <a:rect l="l" t="t" r="r" b="b"/>
            <a:pathLst>
              <a:path w="1699" h="3264">
                <a:moveTo>
                  <a:pt x="91" y="526"/>
                </a:moveTo>
                <a:cubicBezTo>
                  <a:pt x="116" y="403"/>
                  <a:pt x="152" y="257"/>
                  <a:pt x="211" y="175"/>
                </a:cubicBezTo>
                <a:cubicBezTo>
                  <a:pt x="270" y="93"/>
                  <a:pt x="345" y="56"/>
                  <a:pt x="443" y="32"/>
                </a:cubicBezTo>
                <a:cubicBezTo>
                  <a:pt x="541" y="8"/>
                  <a:pt x="675" y="36"/>
                  <a:pt x="802" y="32"/>
                </a:cubicBezTo>
                <a:cubicBezTo>
                  <a:pt x="929" y="28"/>
                  <a:pt x="1093" y="11"/>
                  <a:pt x="1206" y="10"/>
                </a:cubicBezTo>
                <a:cubicBezTo>
                  <a:pt x="1319" y="9"/>
                  <a:pt x="1407" y="0"/>
                  <a:pt x="1482" y="25"/>
                </a:cubicBezTo>
                <a:cubicBezTo>
                  <a:pt x="1557" y="50"/>
                  <a:pt x="1626" y="97"/>
                  <a:pt x="1655" y="160"/>
                </a:cubicBezTo>
                <a:cubicBezTo>
                  <a:pt x="1684" y="223"/>
                  <a:pt x="1669" y="310"/>
                  <a:pt x="1655" y="406"/>
                </a:cubicBezTo>
                <a:cubicBezTo>
                  <a:pt x="1641" y="502"/>
                  <a:pt x="1587" y="608"/>
                  <a:pt x="1572" y="736"/>
                </a:cubicBezTo>
                <a:cubicBezTo>
                  <a:pt x="1557" y="864"/>
                  <a:pt x="1555" y="1036"/>
                  <a:pt x="1565" y="1177"/>
                </a:cubicBezTo>
                <a:cubicBezTo>
                  <a:pt x="1575" y="1318"/>
                  <a:pt x="1611" y="1405"/>
                  <a:pt x="1632" y="1581"/>
                </a:cubicBezTo>
                <a:cubicBezTo>
                  <a:pt x="1653" y="1757"/>
                  <a:pt x="1699" y="2024"/>
                  <a:pt x="1692" y="2232"/>
                </a:cubicBezTo>
                <a:cubicBezTo>
                  <a:pt x="1685" y="2440"/>
                  <a:pt x="1598" y="2693"/>
                  <a:pt x="1587" y="2830"/>
                </a:cubicBezTo>
                <a:cubicBezTo>
                  <a:pt x="1576" y="2967"/>
                  <a:pt x="1634" y="2988"/>
                  <a:pt x="1625" y="3055"/>
                </a:cubicBezTo>
                <a:cubicBezTo>
                  <a:pt x="1616" y="3122"/>
                  <a:pt x="1585" y="3204"/>
                  <a:pt x="1535" y="3234"/>
                </a:cubicBezTo>
                <a:cubicBezTo>
                  <a:pt x="1485" y="3264"/>
                  <a:pt x="1427" y="3239"/>
                  <a:pt x="1325" y="3234"/>
                </a:cubicBezTo>
                <a:cubicBezTo>
                  <a:pt x="1223" y="3229"/>
                  <a:pt x="1057" y="3202"/>
                  <a:pt x="921" y="3204"/>
                </a:cubicBezTo>
                <a:cubicBezTo>
                  <a:pt x="785" y="3206"/>
                  <a:pt x="641" y="3255"/>
                  <a:pt x="510" y="3249"/>
                </a:cubicBezTo>
                <a:cubicBezTo>
                  <a:pt x="379" y="3243"/>
                  <a:pt x="214" y="3217"/>
                  <a:pt x="136" y="3167"/>
                </a:cubicBezTo>
                <a:cubicBezTo>
                  <a:pt x="58" y="3117"/>
                  <a:pt x="45" y="3036"/>
                  <a:pt x="39" y="2950"/>
                </a:cubicBezTo>
                <a:cubicBezTo>
                  <a:pt x="33" y="2864"/>
                  <a:pt x="89" y="2771"/>
                  <a:pt x="99" y="2651"/>
                </a:cubicBezTo>
                <a:cubicBezTo>
                  <a:pt x="109" y="2531"/>
                  <a:pt x="114" y="2372"/>
                  <a:pt x="99" y="2232"/>
                </a:cubicBezTo>
                <a:cubicBezTo>
                  <a:pt x="84" y="2092"/>
                  <a:pt x="18" y="1975"/>
                  <a:pt x="9" y="1813"/>
                </a:cubicBezTo>
                <a:cubicBezTo>
                  <a:pt x="0" y="1651"/>
                  <a:pt x="37" y="1409"/>
                  <a:pt x="46" y="1259"/>
                </a:cubicBezTo>
                <a:cubicBezTo>
                  <a:pt x="55" y="1109"/>
                  <a:pt x="52" y="1036"/>
                  <a:pt x="61" y="915"/>
                </a:cubicBezTo>
                <a:cubicBezTo>
                  <a:pt x="70" y="794"/>
                  <a:pt x="66" y="649"/>
                  <a:pt x="91" y="526"/>
                </a:cubicBezTo>
                <a:close/>
              </a:path>
            </a:pathLst>
          </a:custGeom>
          <a:solidFill>
            <a:srgbClr val="c9d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6440" y="896760"/>
            <a:ext cx="6881760" cy="1922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3D8C-C3E6-45C9-9833-384DB9C155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191040"/>
            <a:ext cx="533520" cy="390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117360" algn="ctr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324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6440" y="896760"/>
            <a:ext cx="6881760" cy="1922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Comic Sans MS"/>
              </a:rPr>
              <a:t>Financial Analysis Part 4</a:t>
            </a:r>
            <a:endParaRPr b="1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949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pparel Sale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1077400">
            <a:off x="5262120" y="2392200"/>
            <a:ext cx="33400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30480" y="538920"/>
            <a:ext cx="7883280" cy="764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-Shirts outsold all other products combi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ity of products sold at special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new product lines: bike jerseys &amp; vis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0480" y="538920"/>
            <a:ext cx="7883280" cy="764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Next Stage</a:t>
            </a:r>
            <a:endParaRPr b="1" lang="en-US" sz="44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76080" y="2449080"/>
            <a:ext cx="7227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emark licensing increasing significant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ing with major NYC retail out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 products under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Student Name</cp:lastModifiedBy>
  <dcterms:modified xsi:type="dcterms:W3CDTF">2004-04-09T20:57:31Z</dcterms:modified>
  <cp:revision>19156</cp:revision>
  <dc:subject/>
  <dc:title>Financial Analysis--Part 4</dc:title>
</cp:coreProperties>
</file>