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2DA-AD07-4D51-8310-E24B9643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9CA-A9E3-408E-A918-7F37FCE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66E-564C-4DC4-BDFC-4165F456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BEA-F7D3-4169-BE59-2DCE6C81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B65-7A29-43FF-81E9-4CF7AC3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E38-7887-4D66-BF2E-99194B5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E93-973C-41FD-ACE5-4E538A2A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344-AE55-4027-BCC7-292B318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A70-61F7-4E96-A66B-13C56E9E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012-8A5E-4131-A968-4EA358C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FB0-F8D3-4A70-938C-85DF1C0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A3F-5ED2-46A9-BDEC-A0A1F7B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314-658D-4A3B-903D-9062CC64F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62160"/>
            <a:ext cx="77724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2–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ady Growth in All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nings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ings show consistent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earnings currently twice the industry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ss income figures include pre-tax industry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Francisco’s growth is im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r franchises are catching up quic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3:13:16Z</dcterms:created>
  <dc:creator>Pat R. Graves</dc:creator>
  <dc:description/>
  <dc:language>en-US</dc:language>
  <cp:lastModifiedBy>Ms. Malnick</cp:lastModifiedBy>
  <dcterms:modified xsi:type="dcterms:W3CDTF">2004-04-13T21:18:54Z</dcterms:modified>
  <cp:revision>13</cp:revision>
  <dc:subject/>
  <dc:title>Earnings</dc:title>
</cp:coreProperties>
</file>