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106D59-001D-4810-931F-D2DD7CD52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d5c7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76197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762120" y="4113720"/>
            <a:ext cx="76197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1C4B35-1B58-4C0D-BD6C-74677C7B4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d5c7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371808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66320" y="1904760"/>
            <a:ext cx="371808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762120" y="4113720"/>
            <a:ext cx="371808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66320" y="4113720"/>
            <a:ext cx="371808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94D5ED-4D1A-4D3B-B007-BD6623DDB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d5c7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245340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338640" y="1904760"/>
            <a:ext cx="245340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5915160" y="1904760"/>
            <a:ext cx="245340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762120" y="4113720"/>
            <a:ext cx="245340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338640" y="4113720"/>
            <a:ext cx="245340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5915160" y="4113720"/>
            <a:ext cx="245340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CA8E3E-CFEF-464E-ABAA-C8144DAAC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D2AF3-D7A8-4360-A4A2-99235F0EC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d5c7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762120" y="1904760"/>
            <a:ext cx="7619760" cy="42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A190C-FC82-4573-AB83-2331CAE3D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d5c7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7619760" cy="42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9F543-52AE-4FCB-A5A2-8A3310248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d5c7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3718080" cy="42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66320" y="1904760"/>
            <a:ext cx="3718080" cy="42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0FC26-E000-40CC-84F8-1792E3D17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d5c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FB55A-13D0-45C3-9D54-C4B8A5506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D5B9F-A0EA-4FA9-8EAD-E95DE44EB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d5c7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371808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66320" y="1904760"/>
            <a:ext cx="3718080" cy="42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762120" y="4113720"/>
            <a:ext cx="371808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5CA40-E52A-4AC1-BE02-E022E2715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d5c7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762120" y="1904760"/>
            <a:ext cx="7619760" cy="42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69CB2E-0C23-4A0E-8957-EDF10FF0B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d5c7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3718080" cy="42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66320" y="1904760"/>
            <a:ext cx="371808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66320" y="4113720"/>
            <a:ext cx="371808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09AA0-3F2A-4204-93DF-336C58B2F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d5c7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371808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66320" y="1904760"/>
            <a:ext cx="371808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762120" y="4113720"/>
            <a:ext cx="76197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64547-D12A-4D9E-8EE1-1C1AC8503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d5c7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76197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762120" y="4113720"/>
            <a:ext cx="76197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1B758-848D-4C38-BA0D-6548F6926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d5c7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371808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66320" y="1904760"/>
            <a:ext cx="371808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762120" y="4113720"/>
            <a:ext cx="371808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66320" y="4113720"/>
            <a:ext cx="371808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256E4-1114-4C00-B44F-64D4F28BE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d5c7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245340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338640" y="1904760"/>
            <a:ext cx="245340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5915160" y="1904760"/>
            <a:ext cx="245340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762120" y="4113720"/>
            <a:ext cx="245340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338640" y="4113720"/>
            <a:ext cx="245340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5915160" y="4113720"/>
            <a:ext cx="245340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3C28A-3836-4EAC-9CDD-7FF099695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d5c7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7619760" cy="42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7EAB52-D6D7-45FF-98C9-0F98DBFA5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d5c7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3718080" cy="42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66320" y="1904760"/>
            <a:ext cx="3718080" cy="42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61F553-8E7A-4A30-9C29-3121CE057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d5c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572D88-7FC9-484F-AA92-E66291279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CB40B2-F0D6-42DE-9A32-DCB9550A6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d5c7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371808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66320" y="1904760"/>
            <a:ext cx="3718080" cy="42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762120" y="4113720"/>
            <a:ext cx="371808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C13BFA-65EA-47C5-80EB-9F9CD714C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d5c7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3718080" cy="42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66320" y="1904760"/>
            <a:ext cx="371808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66320" y="4113720"/>
            <a:ext cx="371808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6F9949-59EF-4025-B2D0-79F8451AA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d5c7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371808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66320" y="1904760"/>
            <a:ext cx="371808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762120" y="4113720"/>
            <a:ext cx="761976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47DDA7-CF57-4926-A15A-9B9A87A44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312a"/>
            </a:gs>
            <a:gs pos="100000">
              <a:srgbClr val="686b5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86b5d"/>
                </a:gs>
                <a:gs pos="100000">
                  <a:srgbClr val="5e605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86b5d"/>
                </a:gs>
                <a:gs pos="100000">
                  <a:srgbClr val="5e605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86b5d"/>
                </a:gs>
                <a:gs pos="100000">
                  <a:srgbClr val="5e605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86b5d"/>
                </a:gs>
                <a:gs pos="100000">
                  <a:srgbClr val="5e605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86b5d"/>
                </a:gs>
                <a:gs pos="100000">
                  <a:srgbClr val="5e605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86b5d"/>
                </a:gs>
                <a:gs pos="100000">
                  <a:srgbClr val="5e605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86b5d"/>
                </a:gs>
                <a:gs pos="100000">
                  <a:srgbClr val="5e605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75a4e"/>
                </a:gs>
                <a:gs pos="100000">
                  <a:srgbClr val="686b5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e5046"/>
                </a:gs>
                <a:gs pos="100000">
                  <a:srgbClr val="686b5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84a40"/>
                </a:gs>
                <a:gs pos="100000">
                  <a:srgbClr val="686b5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e4038"/>
                </a:gs>
                <a:gs pos="100000">
                  <a:srgbClr val="686b5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312a"/>
                </a:gs>
                <a:gs pos="100000">
                  <a:srgbClr val="686b5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f201b"/>
                </a:gs>
                <a:gs pos="100000">
                  <a:srgbClr val="686b5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2"/>
                </a:gs>
                <a:gs pos="100000">
                  <a:srgbClr val="686b5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86b5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86b5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83a32"/>
                </a:gs>
                <a:gs pos="100000">
                  <a:srgbClr val="686b5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1433a"/>
                </a:gs>
                <a:gs pos="100000">
                  <a:srgbClr val="686b5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1433a"/>
                </a:gs>
                <a:gs pos="100000">
                  <a:srgbClr val="686b5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84a40"/>
                </a:gs>
                <a:gs pos="100000">
                  <a:srgbClr val="686b5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2332d"/>
                </a:gs>
                <a:gs pos="100000">
                  <a:srgbClr val="686b5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b3d35"/>
                </a:gs>
                <a:gs pos="100000">
                  <a:srgbClr val="686b5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e4038"/>
                </a:gs>
                <a:gs pos="100000">
                  <a:srgbClr val="686b5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e4038"/>
                </a:gs>
                <a:gs pos="100000">
                  <a:srgbClr val="686b5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e4038"/>
                </a:gs>
                <a:gs pos="100000">
                  <a:srgbClr val="686b5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e4038"/>
                </a:gs>
                <a:gs pos="100000">
                  <a:srgbClr val="686b5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5473d"/>
                </a:gs>
                <a:gs pos="100000">
                  <a:srgbClr val="686b5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5473d"/>
                </a:gs>
                <a:gs pos="100000">
                  <a:srgbClr val="686b5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5473d"/>
                </a:gs>
                <a:gs pos="100000">
                  <a:srgbClr val="686b5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e4038"/>
                </a:gs>
                <a:gs pos="100000">
                  <a:srgbClr val="686b5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83a32"/>
                </a:gs>
                <a:gs pos="100000">
                  <a:srgbClr val="686b5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5362f"/>
                </a:gs>
                <a:gs pos="100000">
                  <a:srgbClr val="686b5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5473d"/>
                </a:gs>
                <a:gs pos="100000">
                  <a:srgbClr val="686b5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84a40"/>
                </a:gs>
                <a:gs pos="100000">
                  <a:srgbClr val="686b5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5473d"/>
                </a:gs>
                <a:gs pos="100000">
                  <a:srgbClr val="686b5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5473d"/>
                </a:gs>
                <a:gs pos="100000">
                  <a:srgbClr val="686b5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5473d"/>
                </a:gs>
                <a:gs pos="100000">
                  <a:srgbClr val="686b5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5473d"/>
                </a:gs>
                <a:gs pos="100000">
                  <a:srgbClr val="686b5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84a40"/>
                </a:gs>
                <a:gs pos="100000">
                  <a:srgbClr val="686b5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e5046"/>
                </a:gs>
                <a:gs pos="100000">
                  <a:srgbClr val="686b5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84a40"/>
                </a:gs>
                <a:gs pos="100000">
                  <a:srgbClr val="686b5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5473d"/>
                </a:gs>
                <a:gs pos="100000">
                  <a:srgbClr val="686b5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84a40"/>
                </a:gs>
                <a:gs pos="100000">
                  <a:srgbClr val="686b5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84a40"/>
                </a:gs>
                <a:gs pos="100000">
                  <a:srgbClr val="686b5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5473d"/>
                </a:gs>
                <a:gs pos="100000">
                  <a:srgbClr val="686b5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84a40"/>
                </a:gs>
                <a:gs pos="100000">
                  <a:srgbClr val="686b5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84a40"/>
                </a:gs>
                <a:gs pos="100000">
                  <a:srgbClr val="686b5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84a40"/>
                </a:gs>
                <a:gs pos="100000">
                  <a:srgbClr val="686b5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84a40"/>
                </a:gs>
                <a:gs pos="100000">
                  <a:srgbClr val="686b5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e4038"/>
                </a:gs>
                <a:gs pos="100000">
                  <a:srgbClr val="686b5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e4038"/>
                </a:gs>
                <a:gs pos="100000">
                  <a:srgbClr val="686b5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84a40"/>
                </a:gs>
                <a:gs pos="100000">
                  <a:srgbClr val="686b5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e5046"/>
                </a:gs>
                <a:gs pos="100000">
                  <a:srgbClr val="686b5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e5046"/>
                </a:gs>
                <a:gs pos="100000">
                  <a:srgbClr val="686b5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e5046"/>
                </a:gs>
                <a:gs pos="100000">
                  <a:srgbClr val="686b5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15449"/>
                </a:gs>
                <a:gs pos="100000">
                  <a:srgbClr val="686b5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15449"/>
                </a:gs>
                <a:gs pos="100000">
                  <a:srgbClr val="686b5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15449"/>
                </a:gs>
                <a:gs pos="100000">
                  <a:srgbClr val="686b5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15449"/>
                </a:gs>
                <a:gs pos="100000">
                  <a:srgbClr val="686b5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15449"/>
                </a:gs>
                <a:gs pos="100000">
                  <a:srgbClr val="686b5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15449"/>
                </a:gs>
                <a:gs pos="100000">
                  <a:srgbClr val="686b5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4574b"/>
                </a:gs>
                <a:gs pos="100000">
                  <a:srgbClr val="686b5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4574b"/>
                </a:gs>
                <a:gs pos="100000">
                  <a:srgbClr val="686b5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4574b"/>
                </a:gs>
                <a:gs pos="100000">
                  <a:srgbClr val="686b5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75a4e"/>
                </a:gs>
                <a:gs pos="100000">
                  <a:srgbClr val="686b5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75a4e"/>
                </a:gs>
                <a:gs pos="100000">
                  <a:srgbClr val="686b5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15449"/>
                </a:gs>
                <a:gs pos="100000">
                  <a:srgbClr val="686b5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15449"/>
                </a:gs>
                <a:gs pos="100000">
                  <a:srgbClr val="686b5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e5046"/>
                </a:gs>
                <a:gs pos="100000">
                  <a:srgbClr val="686b5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84a40"/>
                </a:gs>
                <a:gs pos="100000">
                  <a:srgbClr val="686b5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4574b"/>
                </a:gs>
                <a:gs pos="100000">
                  <a:srgbClr val="686b5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4574b"/>
                </a:gs>
                <a:gs pos="100000">
                  <a:srgbClr val="686b5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4574b"/>
                </a:gs>
                <a:gs pos="100000">
                  <a:srgbClr val="686b5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4574b"/>
                </a:gs>
                <a:gs pos="100000">
                  <a:srgbClr val="686b5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75a4e"/>
                </a:gs>
                <a:gs pos="100000">
                  <a:srgbClr val="686b5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4574b"/>
                </a:gs>
                <a:gs pos="100000">
                  <a:srgbClr val="686b5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4574b"/>
                </a:gs>
                <a:gs pos="100000">
                  <a:srgbClr val="686b5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4574b"/>
                </a:gs>
                <a:gs pos="100000">
                  <a:srgbClr val="686b5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4574b"/>
                </a:gs>
                <a:gs pos="100000">
                  <a:srgbClr val="686b5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b5d51"/>
                </a:gs>
                <a:gs pos="100000">
                  <a:srgbClr val="686b5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d51"/>
                </a:gs>
                <a:gs pos="100000">
                  <a:srgbClr val="686b5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e6054"/>
                </a:gs>
                <a:gs pos="100000">
                  <a:srgbClr val="686b5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b5d51"/>
                </a:gs>
                <a:gs pos="100000">
                  <a:srgbClr val="686b5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e5046"/>
                </a:gs>
                <a:gs pos="100000">
                  <a:srgbClr val="686b5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e5046"/>
                </a:gs>
                <a:gs pos="100000">
                  <a:srgbClr val="686b5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4574b"/>
                </a:gs>
                <a:gs pos="100000">
                  <a:srgbClr val="686b5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4574b"/>
                </a:gs>
                <a:gs pos="100000">
                  <a:srgbClr val="686b5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4574b"/>
                </a:gs>
                <a:gs pos="100000">
                  <a:srgbClr val="686b5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4574b"/>
                </a:gs>
                <a:gs pos="100000">
                  <a:srgbClr val="686b5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5473d"/>
                </a:gs>
                <a:gs pos="100000">
                  <a:srgbClr val="686b5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5473d"/>
                </a:gs>
                <a:gs pos="100000">
                  <a:srgbClr val="686b5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831"/>
                </a:gs>
                <a:gs pos="100000">
                  <a:srgbClr val="5b5e5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831"/>
                </a:gs>
                <a:gs pos="100000">
                  <a:srgbClr val="5b5e5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831"/>
                </a:gs>
                <a:gs pos="100000">
                  <a:srgbClr val="5b5e5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831"/>
                </a:gs>
                <a:gs pos="100000">
                  <a:srgbClr val="5b5e5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831"/>
                </a:gs>
                <a:gs pos="100000">
                  <a:srgbClr val="5b5e5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831"/>
                </a:gs>
                <a:gs pos="100000">
                  <a:srgbClr val="5b5e5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831"/>
                </a:gs>
                <a:gs pos="100000">
                  <a:srgbClr val="5b5e5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831"/>
                </a:gs>
                <a:gs pos="100000">
                  <a:srgbClr val="5b5e5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831"/>
                </a:gs>
                <a:gs pos="100000">
                  <a:srgbClr val="5b5e5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831"/>
                </a:gs>
                <a:gs pos="100000">
                  <a:srgbClr val="5b5e5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52f"/>
                </a:gs>
                <a:gs pos="100000">
                  <a:srgbClr val="5b5e5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52f"/>
                </a:gs>
                <a:gs pos="100000">
                  <a:srgbClr val="5b5e5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c42"/>
                </a:gs>
                <a:gs pos="100000">
                  <a:srgbClr val="5b5e5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c42"/>
                </a:gs>
                <a:gs pos="100000">
                  <a:srgbClr val="5b5e5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831"/>
                </a:gs>
                <a:gs pos="100000">
                  <a:srgbClr val="5b5e5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831"/>
                </a:gs>
                <a:gs pos="100000">
                  <a:srgbClr val="5b5e5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84a40"/>
                </a:gs>
                <a:gs pos="100000">
                  <a:srgbClr val="686b5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e5046"/>
                </a:gs>
                <a:gs pos="100000">
                  <a:srgbClr val="686b5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15449"/>
                </a:gs>
                <a:gs pos="100000">
                  <a:srgbClr val="686b5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15449"/>
                </a:gs>
                <a:gs pos="100000">
                  <a:srgbClr val="686b5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4574b"/>
                </a:gs>
                <a:gs pos="100000">
                  <a:srgbClr val="686b5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4574b"/>
                </a:gs>
                <a:gs pos="100000">
                  <a:srgbClr val="686b5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75a4e"/>
                </a:gs>
                <a:gs pos="100000">
                  <a:srgbClr val="686b5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75a4e"/>
                </a:gs>
                <a:gs pos="100000">
                  <a:srgbClr val="686b5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4574b"/>
                </a:gs>
                <a:gs pos="100000">
                  <a:srgbClr val="686b5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b5d51"/>
                </a:gs>
                <a:gs pos="100000">
                  <a:srgbClr val="686b5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e6054"/>
                </a:gs>
                <a:gs pos="100000">
                  <a:srgbClr val="686b5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e6054"/>
                </a:gs>
                <a:gs pos="100000">
                  <a:srgbClr val="686b5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e6054"/>
                </a:gs>
                <a:gs pos="100000">
                  <a:srgbClr val="686b5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5473d"/>
                </a:gs>
                <a:gs pos="100000">
                  <a:srgbClr val="686b5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5473d"/>
                </a:gs>
                <a:gs pos="100000">
                  <a:srgbClr val="686b5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5473d"/>
                </a:gs>
                <a:gs pos="100000">
                  <a:srgbClr val="686b5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e5046"/>
                </a:gs>
                <a:gs pos="100000">
                  <a:srgbClr val="686b5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4574b"/>
                </a:gs>
                <a:gs pos="100000">
                  <a:srgbClr val="686b5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75a4e"/>
                </a:gs>
                <a:gs pos="100000">
                  <a:srgbClr val="686b5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75a4e"/>
                </a:gs>
                <a:gs pos="100000">
                  <a:srgbClr val="686b5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e6054"/>
                </a:gs>
                <a:gs pos="100000">
                  <a:srgbClr val="686b5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e6054"/>
                </a:gs>
                <a:gs pos="100000">
                  <a:srgbClr val="686b5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e6054"/>
                </a:gs>
                <a:gs pos="100000">
                  <a:srgbClr val="686b5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e6054"/>
                </a:gs>
                <a:gs pos="100000">
                  <a:srgbClr val="686b5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e6054"/>
                </a:gs>
                <a:gs pos="100000">
                  <a:srgbClr val="686b5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e6054"/>
                </a:gs>
                <a:gs pos="100000">
                  <a:srgbClr val="686b5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e6054"/>
                </a:gs>
                <a:gs pos="100000">
                  <a:srgbClr val="686b5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84a40"/>
                </a:gs>
                <a:gs pos="100000">
                  <a:srgbClr val="686b5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15449"/>
                </a:gs>
                <a:gs pos="100000">
                  <a:srgbClr val="686b5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15449"/>
                </a:gs>
                <a:gs pos="100000">
                  <a:srgbClr val="686b5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4574b"/>
                </a:gs>
                <a:gs pos="100000">
                  <a:srgbClr val="686b5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b5d51"/>
                </a:gs>
                <a:gs pos="100000">
                  <a:srgbClr val="686b5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15449"/>
                </a:gs>
                <a:gs pos="100000">
                  <a:srgbClr val="686b5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4574b"/>
                </a:gs>
                <a:gs pos="100000">
                  <a:srgbClr val="686b5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75a4e"/>
                </a:gs>
                <a:gs pos="100000">
                  <a:srgbClr val="686b5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b5d51"/>
                </a:gs>
                <a:gs pos="100000">
                  <a:srgbClr val="686b5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b5d51"/>
                </a:gs>
                <a:gs pos="100000">
                  <a:srgbClr val="686b5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75a4e"/>
                </a:gs>
                <a:gs pos="100000">
                  <a:srgbClr val="686b5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b5d51"/>
                </a:gs>
                <a:gs pos="100000">
                  <a:srgbClr val="686b5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e6054"/>
                </a:gs>
                <a:gs pos="100000">
                  <a:srgbClr val="686b5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b5d51"/>
                </a:gs>
                <a:gs pos="100000">
                  <a:srgbClr val="686b5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b5d51"/>
                </a:gs>
                <a:gs pos="100000">
                  <a:srgbClr val="686b5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e6054"/>
                </a:gs>
                <a:gs pos="100000">
                  <a:srgbClr val="686b5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e6054"/>
                </a:gs>
                <a:gs pos="100000">
                  <a:srgbClr val="686b5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e6054"/>
                </a:gs>
                <a:gs pos="100000">
                  <a:srgbClr val="686b5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e6054"/>
                </a:gs>
                <a:gs pos="100000">
                  <a:srgbClr val="686b5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e6054"/>
                </a:gs>
                <a:gs pos="100000">
                  <a:srgbClr val="686b5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e6054"/>
                </a:gs>
                <a:gs pos="100000">
                  <a:srgbClr val="686b5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e6054"/>
                </a:gs>
                <a:gs pos="100000">
                  <a:srgbClr val="686b5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e6054"/>
                </a:gs>
                <a:gs pos="100000">
                  <a:srgbClr val="686b5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e6054"/>
                </a:gs>
                <a:gs pos="100000">
                  <a:srgbClr val="686b5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e6054"/>
                </a:gs>
                <a:gs pos="100000">
                  <a:srgbClr val="686b5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e6054"/>
                </a:gs>
                <a:gs pos="100000">
                  <a:srgbClr val="686b5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e6054"/>
                </a:gs>
                <a:gs pos="100000">
                  <a:srgbClr val="686b5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e6054"/>
                </a:gs>
                <a:gs pos="100000">
                  <a:srgbClr val="686b5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e6054"/>
                </a:gs>
                <a:gs pos="100000">
                  <a:srgbClr val="686b5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e6054"/>
                </a:gs>
                <a:gs pos="100000">
                  <a:srgbClr val="686b5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e6054"/>
                </a:gs>
                <a:gs pos="100000">
                  <a:srgbClr val="686b5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75a4e"/>
                </a:gs>
                <a:gs pos="100000">
                  <a:srgbClr val="686b5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15449"/>
                </a:gs>
                <a:gs pos="100000">
                  <a:srgbClr val="686b5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e5046"/>
                </a:gs>
                <a:gs pos="100000">
                  <a:srgbClr val="686b5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e5046"/>
                </a:gs>
                <a:gs pos="100000">
                  <a:srgbClr val="686b5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e6054"/>
                </a:gs>
                <a:gs pos="100000">
                  <a:srgbClr val="686b5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e6054"/>
                </a:gs>
                <a:gs pos="100000">
                  <a:srgbClr val="686b5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e6054"/>
                </a:gs>
                <a:gs pos="100000">
                  <a:srgbClr val="686b5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e6054"/>
                </a:gs>
                <a:gs pos="100000">
                  <a:srgbClr val="686b5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e6054"/>
                </a:gs>
                <a:gs pos="100000">
                  <a:srgbClr val="686b5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e6054"/>
                </a:gs>
                <a:gs pos="100000">
                  <a:srgbClr val="686b5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e6054"/>
                </a:gs>
                <a:gs pos="100000">
                  <a:srgbClr val="686b5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e6054"/>
                </a:gs>
                <a:gs pos="100000">
                  <a:srgbClr val="686b5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e6054"/>
                </a:gs>
                <a:gs pos="100000">
                  <a:srgbClr val="686b5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52f"/>
                </a:gs>
                <a:gs pos="100000">
                  <a:srgbClr val="5b5e5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52f"/>
                </a:gs>
                <a:gs pos="100000">
                  <a:srgbClr val="5b5e5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52f"/>
                </a:gs>
                <a:gs pos="100000">
                  <a:srgbClr val="5b5e5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52f"/>
                </a:gs>
                <a:gs pos="100000">
                  <a:srgbClr val="5b5e5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52f"/>
                </a:gs>
                <a:gs pos="100000">
                  <a:srgbClr val="5b5e5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52f"/>
                </a:gs>
                <a:gs pos="100000">
                  <a:srgbClr val="5b5e5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52f"/>
                </a:gs>
                <a:gs pos="100000">
                  <a:srgbClr val="5b5e5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52f"/>
                </a:gs>
                <a:gs pos="100000">
                  <a:srgbClr val="5b5e5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32c"/>
                </a:gs>
                <a:gs pos="100000">
                  <a:srgbClr val="5b5e5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52f"/>
                </a:gs>
                <a:gs pos="100000">
                  <a:srgbClr val="5b5e5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52f"/>
                </a:gs>
                <a:gs pos="100000">
                  <a:srgbClr val="5b5e5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52f"/>
                </a:gs>
                <a:gs pos="100000">
                  <a:srgbClr val="5b5e5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c42"/>
                </a:gs>
                <a:gs pos="100000">
                  <a:srgbClr val="5b5e5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c42"/>
                </a:gs>
                <a:gs pos="100000">
                  <a:srgbClr val="5b5e5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c42"/>
                </a:gs>
                <a:gs pos="100000">
                  <a:srgbClr val="5b5e5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a2b26"/>
                </a:gs>
                <a:gs pos="100000">
                  <a:srgbClr val="4f514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a2b26"/>
                </a:gs>
                <a:gs pos="100000">
                  <a:srgbClr val="4f514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1e1f1b"/>
                </a:gs>
                <a:gs pos="100000">
                  <a:srgbClr val="4f514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1e1f1b"/>
                </a:gs>
                <a:gs pos="100000">
                  <a:srgbClr val="4f514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a2b26"/>
                </a:gs>
                <a:gs pos="100000">
                  <a:srgbClr val="4f514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a2b26"/>
                </a:gs>
                <a:gs pos="100000">
                  <a:srgbClr val="4f514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1e1f1b"/>
                </a:gs>
                <a:gs pos="100000">
                  <a:srgbClr val="4f514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a2b26"/>
                </a:gs>
                <a:gs pos="100000">
                  <a:srgbClr val="4f514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a2b26"/>
                </a:gs>
                <a:gs pos="100000">
                  <a:srgbClr val="4f514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1e1f1b"/>
                </a:gs>
                <a:gs pos="100000">
                  <a:srgbClr val="4f514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a2b26"/>
                </a:gs>
                <a:gs pos="100000">
                  <a:srgbClr val="4f514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a2b26"/>
                </a:gs>
                <a:gs pos="100000">
                  <a:srgbClr val="4f514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a2b26"/>
                </a:gs>
                <a:gs pos="100000">
                  <a:srgbClr val="4f514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a2b26"/>
                </a:gs>
                <a:gs pos="100000">
                  <a:srgbClr val="4f514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a2b26"/>
                </a:gs>
                <a:gs pos="100000">
                  <a:srgbClr val="4f514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d2e28"/>
                </a:gs>
                <a:gs pos="100000">
                  <a:srgbClr val="4f514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d2e28"/>
                </a:gs>
                <a:gs pos="100000">
                  <a:srgbClr val="4f514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a2b26"/>
                </a:gs>
                <a:gs pos="100000">
                  <a:srgbClr val="4f514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84a40"/>
                </a:gs>
                <a:gs pos="100000">
                  <a:srgbClr val="686b5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e5046"/>
                </a:gs>
                <a:gs pos="100000">
                  <a:srgbClr val="686b5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e6054"/>
                </a:gs>
                <a:gs pos="100000">
                  <a:srgbClr val="686b5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1e1f1b"/>
                </a:gs>
                <a:gs pos="100000">
                  <a:srgbClr val="4f514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8EADB-62CC-4C40-971E-EFF5FE883D4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762120" y="1904760"/>
            <a:ext cx="7619760" cy="42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406800" indent="-406800">
              <a:spcBef>
                <a:spcPts val="15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62840" indent="-253800">
              <a:spcBef>
                <a:spcPts val="1599"/>
              </a:spcBef>
              <a:buClr>
                <a:srgbClr val="e1d09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68120" indent="-203400">
              <a:spcBef>
                <a:spcPts val="15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424160" indent="-203400">
              <a:spcBef>
                <a:spcPts val="1599"/>
              </a:spcBef>
              <a:buClr>
                <a:srgbClr val="e1d09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830960" indent="-203400">
              <a:spcBef>
                <a:spcPts val="15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830960" indent="-203400">
              <a:spcBef>
                <a:spcPts val="15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830960" indent="-203400">
              <a:spcBef>
                <a:spcPts val="15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d5c7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ccd5c7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0" y="1447920"/>
            <a:ext cx="9144000" cy="185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332d"/>
            </a:gs>
            <a:gs pos="100000">
              <a:srgbClr val="686b5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8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9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86b5d"/>
                </a:gs>
                <a:gs pos="100000">
                  <a:srgbClr val="5e605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86b5d"/>
                </a:gs>
                <a:gs pos="100000">
                  <a:srgbClr val="5e605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86b5d"/>
                </a:gs>
                <a:gs pos="100000">
                  <a:srgbClr val="5e605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86b5d"/>
                </a:gs>
                <a:gs pos="100000">
                  <a:srgbClr val="5e605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86b5d"/>
                </a:gs>
                <a:gs pos="100000">
                  <a:srgbClr val="5e605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86b5d"/>
                </a:gs>
                <a:gs pos="100000">
                  <a:srgbClr val="5e605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86b5d"/>
                </a:gs>
                <a:gs pos="100000">
                  <a:srgbClr val="5e605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75a4e"/>
                </a:gs>
                <a:gs pos="100000">
                  <a:srgbClr val="686b5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e5046"/>
                </a:gs>
                <a:gs pos="100000">
                  <a:srgbClr val="686b5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84a40"/>
                </a:gs>
                <a:gs pos="100000">
                  <a:srgbClr val="686b5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e4038"/>
                </a:gs>
                <a:gs pos="100000">
                  <a:srgbClr val="686b5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312a"/>
                </a:gs>
                <a:gs pos="100000">
                  <a:srgbClr val="686b5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f201b"/>
                </a:gs>
                <a:gs pos="100000">
                  <a:srgbClr val="686b5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2"/>
                </a:gs>
                <a:gs pos="100000">
                  <a:srgbClr val="686b5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86b5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86b5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83a32"/>
                </a:gs>
                <a:gs pos="100000">
                  <a:srgbClr val="686b5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1433a"/>
                </a:gs>
                <a:gs pos="100000">
                  <a:srgbClr val="686b5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1433a"/>
                </a:gs>
                <a:gs pos="100000">
                  <a:srgbClr val="686b5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84a40"/>
                </a:gs>
                <a:gs pos="100000">
                  <a:srgbClr val="686b5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2332d"/>
                </a:gs>
                <a:gs pos="100000">
                  <a:srgbClr val="686b5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b3d35"/>
                </a:gs>
                <a:gs pos="100000">
                  <a:srgbClr val="686b5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e4038"/>
                </a:gs>
                <a:gs pos="100000">
                  <a:srgbClr val="686b5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e4038"/>
                </a:gs>
                <a:gs pos="100000">
                  <a:srgbClr val="686b5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e4038"/>
                </a:gs>
                <a:gs pos="100000">
                  <a:srgbClr val="686b5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e4038"/>
                </a:gs>
                <a:gs pos="100000">
                  <a:srgbClr val="686b5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5473d"/>
                </a:gs>
                <a:gs pos="100000">
                  <a:srgbClr val="686b5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5473d"/>
                </a:gs>
                <a:gs pos="100000">
                  <a:srgbClr val="686b5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5473d"/>
                </a:gs>
                <a:gs pos="100000">
                  <a:srgbClr val="686b5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e4038"/>
                </a:gs>
                <a:gs pos="100000">
                  <a:srgbClr val="686b5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83a32"/>
                </a:gs>
                <a:gs pos="100000">
                  <a:srgbClr val="686b5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5362f"/>
                </a:gs>
                <a:gs pos="100000">
                  <a:srgbClr val="686b5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5473d"/>
                </a:gs>
                <a:gs pos="100000">
                  <a:srgbClr val="686b5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84a40"/>
                </a:gs>
                <a:gs pos="100000">
                  <a:srgbClr val="686b5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5473d"/>
                </a:gs>
                <a:gs pos="100000">
                  <a:srgbClr val="686b5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5473d"/>
                </a:gs>
                <a:gs pos="100000">
                  <a:srgbClr val="686b5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5473d"/>
                </a:gs>
                <a:gs pos="100000">
                  <a:srgbClr val="686b5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5473d"/>
                </a:gs>
                <a:gs pos="100000">
                  <a:srgbClr val="686b5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84a40"/>
                </a:gs>
                <a:gs pos="100000">
                  <a:srgbClr val="686b5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e5046"/>
                </a:gs>
                <a:gs pos="100000">
                  <a:srgbClr val="686b5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84a40"/>
                </a:gs>
                <a:gs pos="100000">
                  <a:srgbClr val="686b5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5473d"/>
                </a:gs>
                <a:gs pos="100000">
                  <a:srgbClr val="686b5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84a40"/>
                </a:gs>
                <a:gs pos="100000">
                  <a:srgbClr val="686b5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84a40"/>
                </a:gs>
                <a:gs pos="100000">
                  <a:srgbClr val="686b5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5473d"/>
                </a:gs>
                <a:gs pos="100000">
                  <a:srgbClr val="686b5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84a40"/>
                </a:gs>
                <a:gs pos="100000">
                  <a:srgbClr val="686b5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84a40"/>
                </a:gs>
                <a:gs pos="100000">
                  <a:srgbClr val="686b5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84a40"/>
                </a:gs>
                <a:gs pos="100000">
                  <a:srgbClr val="686b5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84a40"/>
                </a:gs>
                <a:gs pos="100000">
                  <a:srgbClr val="686b5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e4038"/>
                </a:gs>
                <a:gs pos="100000">
                  <a:srgbClr val="686b5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e4038"/>
                </a:gs>
                <a:gs pos="100000">
                  <a:srgbClr val="686b5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84a40"/>
                </a:gs>
                <a:gs pos="100000">
                  <a:srgbClr val="686b5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e5046"/>
                </a:gs>
                <a:gs pos="100000">
                  <a:srgbClr val="686b5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e5046"/>
                </a:gs>
                <a:gs pos="100000">
                  <a:srgbClr val="686b5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e5046"/>
                </a:gs>
                <a:gs pos="100000">
                  <a:srgbClr val="686b5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15449"/>
                </a:gs>
                <a:gs pos="100000">
                  <a:srgbClr val="686b5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15449"/>
                </a:gs>
                <a:gs pos="100000">
                  <a:srgbClr val="686b5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15449"/>
                </a:gs>
                <a:gs pos="100000">
                  <a:srgbClr val="686b5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15449"/>
                </a:gs>
                <a:gs pos="100000">
                  <a:srgbClr val="686b5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15449"/>
                </a:gs>
                <a:gs pos="100000">
                  <a:srgbClr val="686b5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15449"/>
                </a:gs>
                <a:gs pos="100000">
                  <a:srgbClr val="686b5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4574b"/>
                </a:gs>
                <a:gs pos="100000">
                  <a:srgbClr val="686b5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4574b"/>
                </a:gs>
                <a:gs pos="100000">
                  <a:srgbClr val="686b5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4574b"/>
                </a:gs>
                <a:gs pos="100000">
                  <a:srgbClr val="686b5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75a4e"/>
                </a:gs>
                <a:gs pos="100000">
                  <a:srgbClr val="686b5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75a4e"/>
                </a:gs>
                <a:gs pos="100000">
                  <a:srgbClr val="686b5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15449"/>
                </a:gs>
                <a:gs pos="100000">
                  <a:srgbClr val="686b5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15449"/>
                </a:gs>
                <a:gs pos="100000">
                  <a:srgbClr val="686b5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e5046"/>
                </a:gs>
                <a:gs pos="100000">
                  <a:srgbClr val="686b5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84a40"/>
                </a:gs>
                <a:gs pos="100000">
                  <a:srgbClr val="686b5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4574b"/>
                </a:gs>
                <a:gs pos="100000">
                  <a:srgbClr val="686b5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4574b"/>
                </a:gs>
                <a:gs pos="100000">
                  <a:srgbClr val="686b5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4574b"/>
                </a:gs>
                <a:gs pos="100000">
                  <a:srgbClr val="686b5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4574b"/>
                </a:gs>
                <a:gs pos="100000">
                  <a:srgbClr val="686b5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75a4e"/>
                </a:gs>
                <a:gs pos="100000">
                  <a:srgbClr val="686b5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4574b"/>
                </a:gs>
                <a:gs pos="100000">
                  <a:srgbClr val="686b5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4574b"/>
                </a:gs>
                <a:gs pos="100000">
                  <a:srgbClr val="686b5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4574b"/>
                </a:gs>
                <a:gs pos="100000">
                  <a:srgbClr val="686b5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4574b"/>
                </a:gs>
                <a:gs pos="100000">
                  <a:srgbClr val="686b5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b5d51"/>
                </a:gs>
                <a:gs pos="100000">
                  <a:srgbClr val="686b5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d51"/>
                </a:gs>
                <a:gs pos="100000">
                  <a:srgbClr val="686b5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e6054"/>
                </a:gs>
                <a:gs pos="100000">
                  <a:srgbClr val="686b5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b5d51"/>
                </a:gs>
                <a:gs pos="100000">
                  <a:srgbClr val="686b5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e5046"/>
                </a:gs>
                <a:gs pos="100000">
                  <a:srgbClr val="686b5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e5046"/>
                </a:gs>
                <a:gs pos="100000">
                  <a:srgbClr val="686b5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4574b"/>
                </a:gs>
                <a:gs pos="100000">
                  <a:srgbClr val="686b5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4574b"/>
                </a:gs>
                <a:gs pos="100000">
                  <a:srgbClr val="686b5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4574b"/>
                </a:gs>
                <a:gs pos="100000">
                  <a:srgbClr val="686b5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4574b"/>
                </a:gs>
                <a:gs pos="100000">
                  <a:srgbClr val="686b5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5473d"/>
                </a:gs>
                <a:gs pos="100000">
                  <a:srgbClr val="686b5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5473d"/>
                </a:gs>
                <a:gs pos="100000">
                  <a:srgbClr val="686b5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831"/>
                </a:gs>
                <a:gs pos="100000">
                  <a:srgbClr val="5b5e5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831"/>
                </a:gs>
                <a:gs pos="100000">
                  <a:srgbClr val="5b5e5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831"/>
                </a:gs>
                <a:gs pos="100000">
                  <a:srgbClr val="5b5e5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831"/>
                </a:gs>
                <a:gs pos="100000">
                  <a:srgbClr val="5b5e5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831"/>
                </a:gs>
                <a:gs pos="100000">
                  <a:srgbClr val="5b5e5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831"/>
                </a:gs>
                <a:gs pos="100000">
                  <a:srgbClr val="5b5e5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831"/>
                </a:gs>
                <a:gs pos="100000">
                  <a:srgbClr val="5b5e5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831"/>
                </a:gs>
                <a:gs pos="100000">
                  <a:srgbClr val="5b5e5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831"/>
                </a:gs>
                <a:gs pos="100000">
                  <a:srgbClr val="5b5e5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831"/>
                </a:gs>
                <a:gs pos="100000">
                  <a:srgbClr val="5b5e5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52f"/>
                </a:gs>
                <a:gs pos="100000">
                  <a:srgbClr val="5b5e5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52f"/>
                </a:gs>
                <a:gs pos="100000">
                  <a:srgbClr val="5b5e5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c42"/>
                </a:gs>
                <a:gs pos="100000">
                  <a:srgbClr val="5b5e5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c42"/>
                </a:gs>
                <a:gs pos="100000">
                  <a:srgbClr val="5b5e5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831"/>
                </a:gs>
                <a:gs pos="100000">
                  <a:srgbClr val="5b5e5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831"/>
                </a:gs>
                <a:gs pos="100000">
                  <a:srgbClr val="5b5e5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84a40"/>
                </a:gs>
                <a:gs pos="100000">
                  <a:srgbClr val="686b5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e5046"/>
                </a:gs>
                <a:gs pos="100000">
                  <a:srgbClr val="686b5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15449"/>
                </a:gs>
                <a:gs pos="100000">
                  <a:srgbClr val="686b5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15449"/>
                </a:gs>
                <a:gs pos="100000">
                  <a:srgbClr val="686b5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4574b"/>
                </a:gs>
                <a:gs pos="100000">
                  <a:srgbClr val="686b5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4574b"/>
                </a:gs>
                <a:gs pos="100000">
                  <a:srgbClr val="686b5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75a4e"/>
                </a:gs>
                <a:gs pos="100000">
                  <a:srgbClr val="686b5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75a4e"/>
                </a:gs>
                <a:gs pos="100000">
                  <a:srgbClr val="686b5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4574b"/>
                </a:gs>
                <a:gs pos="100000">
                  <a:srgbClr val="686b5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b5d51"/>
                </a:gs>
                <a:gs pos="100000">
                  <a:srgbClr val="686b5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e6054"/>
                </a:gs>
                <a:gs pos="100000">
                  <a:srgbClr val="686b5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e6054"/>
                </a:gs>
                <a:gs pos="100000">
                  <a:srgbClr val="686b5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e6054"/>
                </a:gs>
                <a:gs pos="100000">
                  <a:srgbClr val="686b5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5473d"/>
                </a:gs>
                <a:gs pos="100000">
                  <a:srgbClr val="686b5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5473d"/>
                </a:gs>
                <a:gs pos="100000">
                  <a:srgbClr val="686b5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5473d"/>
                </a:gs>
                <a:gs pos="100000">
                  <a:srgbClr val="686b5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e5046"/>
                </a:gs>
                <a:gs pos="100000">
                  <a:srgbClr val="686b5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4574b"/>
                </a:gs>
                <a:gs pos="100000">
                  <a:srgbClr val="686b5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75a4e"/>
                </a:gs>
                <a:gs pos="100000">
                  <a:srgbClr val="686b5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75a4e"/>
                </a:gs>
                <a:gs pos="100000">
                  <a:srgbClr val="686b5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e6054"/>
                </a:gs>
                <a:gs pos="100000">
                  <a:srgbClr val="686b5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e6054"/>
                </a:gs>
                <a:gs pos="100000">
                  <a:srgbClr val="686b5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e6054"/>
                </a:gs>
                <a:gs pos="100000">
                  <a:srgbClr val="686b5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e6054"/>
                </a:gs>
                <a:gs pos="100000">
                  <a:srgbClr val="686b5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e6054"/>
                </a:gs>
                <a:gs pos="100000">
                  <a:srgbClr val="686b5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e6054"/>
                </a:gs>
                <a:gs pos="100000">
                  <a:srgbClr val="686b5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e6054"/>
                </a:gs>
                <a:gs pos="100000">
                  <a:srgbClr val="686b5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84a40"/>
                </a:gs>
                <a:gs pos="100000">
                  <a:srgbClr val="686b5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15449"/>
                </a:gs>
                <a:gs pos="100000">
                  <a:srgbClr val="686b5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15449"/>
                </a:gs>
                <a:gs pos="100000">
                  <a:srgbClr val="686b5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4574b"/>
                </a:gs>
                <a:gs pos="100000">
                  <a:srgbClr val="686b5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b5d51"/>
                </a:gs>
                <a:gs pos="100000">
                  <a:srgbClr val="686b5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15449"/>
                </a:gs>
                <a:gs pos="100000">
                  <a:srgbClr val="686b5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4574b"/>
                </a:gs>
                <a:gs pos="100000">
                  <a:srgbClr val="686b5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75a4e"/>
                </a:gs>
                <a:gs pos="100000">
                  <a:srgbClr val="686b5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b5d51"/>
                </a:gs>
                <a:gs pos="100000">
                  <a:srgbClr val="686b5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b5d51"/>
                </a:gs>
                <a:gs pos="100000">
                  <a:srgbClr val="686b5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75a4e"/>
                </a:gs>
                <a:gs pos="100000">
                  <a:srgbClr val="686b5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b5d51"/>
                </a:gs>
                <a:gs pos="100000">
                  <a:srgbClr val="686b5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e6054"/>
                </a:gs>
                <a:gs pos="100000">
                  <a:srgbClr val="686b5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b5d51"/>
                </a:gs>
                <a:gs pos="100000">
                  <a:srgbClr val="686b5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b5d51"/>
                </a:gs>
                <a:gs pos="100000">
                  <a:srgbClr val="686b5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e6054"/>
                </a:gs>
                <a:gs pos="100000">
                  <a:srgbClr val="686b5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e6054"/>
                </a:gs>
                <a:gs pos="100000">
                  <a:srgbClr val="686b5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e6054"/>
                </a:gs>
                <a:gs pos="100000">
                  <a:srgbClr val="686b5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e6054"/>
                </a:gs>
                <a:gs pos="100000">
                  <a:srgbClr val="686b5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e6054"/>
                </a:gs>
                <a:gs pos="100000">
                  <a:srgbClr val="686b5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e6054"/>
                </a:gs>
                <a:gs pos="100000">
                  <a:srgbClr val="686b5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e6054"/>
                </a:gs>
                <a:gs pos="100000">
                  <a:srgbClr val="686b5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e6054"/>
                </a:gs>
                <a:gs pos="100000">
                  <a:srgbClr val="686b5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e6054"/>
                </a:gs>
                <a:gs pos="100000">
                  <a:srgbClr val="686b5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e6054"/>
                </a:gs>
                <a:gs pos="100000">
                  <a:srgbClr val="686b5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e6054"/>
                </a:gs>
                <a:gs pos="100000">
                  <a:srgbClr val="686b5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e6054"/>
                </a:gs>
                <a:gs pos="100000">
                  <a:srgbClr val="686b5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e6054"/>
                </a:gs>
                <a:gs pos="100000">
                  <a:srgbClr val="686b5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e6054"/>
                </a:gs>
                <a:gs pos="100000">
                  <a:srgbClr val="686b5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e6054"/>
                </a:gs>
                <a:gs pos="100000">
                  <a:srgbClr val="686b5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e6054"/>
                </a:gs>
                <a:gs pos="100000">
                  <a:srgbClr val="686b5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75a4e"/>
                </a:gs>
                <a:gs pos="100000">
                  <a:srgbClr val="686b5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15449"/>
                </a:gs>
                <a:gs pos="100000">
                  <a:srgbClr val="686b5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e5046"/>
                </a:gs>
                <a:gs pos="100000">
                  <a:srgbClr val="686b5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e5046"/>
                </a:gs>
                <a:gs pos="100000">
                  <a:srgbClr val="686b5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e6054"/>
                </a:gs>
                <a:gs pos="100000">
                  <a:srgbClr val="686b5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e6054"/>
                </a:gs>
                <a:gs pos="100000">
                  <a:srgbClr val="686b5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e6054"/>
                </a:gs>
                <a:gs pos="100000">
                  <a:srgbClr val="686b5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e6054"/>
                </a:gs>
                <a:gs pos="100000">
                  <a:srgbClr val="686b5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e6054"/>
                </a:gs>
                <a:gs pos="100000">
                  <a:srgbClr val="686b5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e6054"/>
                </a:gs>
                <a:gs pos="100000">
                  <a:srgbClr val="686b5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e6054"/>
                </a:gs>
                <a:gs pos="100000">
                  <a:srgbClr val="686b5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e6054"/>
                </a:gs>
                <a:gs pos="100000">
                  <a:srgbClr val="686b5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e6054"/>
                </a:gs>
                <a:gs pos="100000">
                  <a:srgbClr val="686b5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52f"/>
                </a:gs>
                <a:gs pos="100000">
                  <a:srgbClr val="5b5e5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52f"/>
                </a:gs>
                <a:gs pos="100000">
                  <a:srgbClr val="5b5e5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52f"/>
                </a:gs>
                <a:gs pos="100000">
                  <a:srgbClr val="5b5e5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52f"/>
                </a:gs>
                <a:gs pos="100000">
                  <a:srgbClr val="5b5e5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52f"/>
                </a:gs>
                <a:gs pos="100000">
                  <a:srgbClr val="5b5e5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52f"/>
                </a:gs>
                <a:gs pos="100000">
                  <a:srgbClr val="5b5e5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52f"/>
                </a:gs>
                <a:gs pos="100000">
                  <a:srgbClr val="5b5e5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52f"/>
                </a:gs>
                <a:gs pos="100000">
                  <a:srgbClr val="5b5e5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32c"/>
                </a:gs>
                <a:gs pos="100000">
                  <a:srgbClr val="5b5e5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52f"/>
                </a:gs>
                <a:gs pos="100000">
                  <a:srgbClr val="5b5e5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52f"/>
                </a:gs>
                <a:gs pos="100000">
                  <a:srgbClr val="5b5e5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52f"/>
                </a:gs>
                <a:gs pos="100000">
                  <a:srgbClr val="5b5e5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c42"/>
                </a:gs>
                <a:gs pos="100000">
                  <a:srgbClr val="5b5e5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c42"/>
                </a:gs>
                <a:gs pos="100000">
                  <a:srgbClr val="5b5e5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c42"/>
                </a:gs>
                <a:gs pos="100000">
                  <a:srgbClr val="5b5e5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83a32"/>
                </a:gs>
                <a:gs pos="100000">
                  <a:srgbClr val="686b5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83a32"/>
                </a:gs>
                <a:gs pos="100000">
                  <a:srgbClr val="686b5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82924"/>
                </a:gs>
                <a:gs pos="100000">
                  <a:srgbClr val="686b5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82924"/>
                </a:gs>
                <a:gs pos="100000">
                  <a:srgbClr val="686b5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83a32"/>
                </a:gs>
                <a:gs pos="100000">
                  <a:srgbClr val="686b5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83a32"/>
                </a:gs>
                <a:gs pos="100000">
                  <a:srgbClr val="686b5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82924"/>
                </a:gs>
                <a:gs pos="100000">
                  <a:srgbClr val="686b5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83a32"/>
                </a:gs>
                <a:gs pos="100000">
                  <a:srgbClr val="686b5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83a32"/>
                </a:gs>
                <a:gs pos="100000">
                  <a:srgbClr val="686b5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82924"/>
                </a:gs>
                <a:gs pos="100000">
                  <a:srgbClr val="686b5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83a32"/>
                </a:gs>
                <a:gs pos="100000">
                  <a:srgbClr val="686b5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83a32"/>
                </a:gs>
                <a:gs pos="100000">
                  <a:srgbClr val="686b5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83a32"/>
                </a:gs>
                <a:gs pos="100000">
                  <a:srgbClr val="686b5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83a32"/>
                </a:gs>
                <a:gs pos="100000">
                  <a:srgbClr val="686b5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83a32"/>
                </a:gs>
                <a:gs pos="100000">
                  <a:srgbClr val="686b5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b3d35"/>
                </a:gs>
                <a:gs pos="100000">
                  <a:srgbClr val="686b5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b3d35"/>
                </a:gs>
                <a:gs pos="100000">
                  <a:srgbClr val="686b5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83a32"/>
                </a:gs>
                <a:gs pos="100000">
                  <a:srgbClr val="686b5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84a40"/>
                </a:gs>
                <a:gs pos="100000">
                  <a:srgbClr val="686b5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e5046"/>
                </a:gs>
                <a:gs pos="100000">
                  <a:srgbClr val="686b5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e6054"/>
                </a:gs>
                <a:gs pos="100000">
                  <a:srgbClr val="686b5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82924"/>
                </a:gs>
                <a:gs pos="100000">
                  <a:srgbClr val="686b5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2742840" y="837720"/>
            <a:ext cx="61722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d5c7"/>
                </a:solidFill>
                <a:latin typeface="Arial"/>
              </a:rPr>
              <a:t>Click to edit the title text format</a:t>
            </a:r>
            <a:endParaRPr b="1" lang="en-US" sz="6000" spc="-1" strike="noStrike">
              <a:solidFill>
                <a:srgbClr val="ccd5c7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6D7C8-A900-43A8-B3D5-403E1DF9905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8" name="" descr=""/>
          <p:cNvPicPr/>
          <p:nvPr/>
        </p:nvPicPr>
        <p:blipFill>
          <a:blip r:embed="rId2"/>
          <a:stretch/>
        </p:blipFill>
        <p:spPr>
          <a:xfrm>
            <a:off x="0" y="3505320"/>
            <a:ext cx="9144000" cy="3045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57240" algn="ctr">
              <a:spcBef>
                <a:spcPts val="1199"/>
              </a:spcBef>
              <a:buClr>
                <a:srgbClr val="aaa854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1001"/>
              </a:spcBef>
              <a:buClr>
                <a:srgbClr val="e1d09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1001"/>
              </a:spcBef>
              <a:buClr>
                <a:srgbClr val="aaa854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332d"/>
            </a:gs>
            <a:gs pos="100000">
              <a:srgbClr val="686b5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2742840" y="837720"/>
            <a:ext cx="61722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d5c7"/>
                </a:solidFill>
                <a:latin typeface="Arial"/>
              </a:rPr>
              <a:t>Menu Changes</a:t>
            </a:r>
            <a:endParaRPr b="1" lang="en-US" sz="6000" spc="-1" strike="noStrike">
              <a:solidFill>
                <a:srgbClr val="ccd5c7"/>
              </a:solidFill>
              <a:latin typeface="Arial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6477120" y="4343400"/>
            <a:ext cx="2285640" cy="922320"/>
            <a:chOff x="6477120" y="4343400"/>
            <a:chExt cx="2285640" cy="922320"/>
          </a:xfrm>
        </p:grpSpPr>
        <p:sp>
          <p:nvSpPr>
            <p:cNvPr id="518" name=""/>
            <p:cNvSpPr txBox="1"/>
            <p:nvPr/>
          </p:nvSpPr>
          <p:spPr>
            <a:xfrm>
              <a:off x="8125920" y="4694400"/>
              <a:ext cx="636840" cy="571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a50021"/>
                  </a:solidFill>
                  <a:latin typeface="Georgia"/>
                </a:rPr>
                <a:t>U</a:t>
              </a:r>
              <a:endParaRPr b="1" lang="en-US" sz="8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Georgia"/>
                <a:ea typeface="Georgia"/>
              </a:endParaRPr>
            </a:p>
          </p:txBody>
        </p:sp>
        <p:grpSp>
          <p:nvGrpSpPr>
            <p:cNvPr id="519" name=""/>
            <p:cNvGrpSpPr/>
            <p:nvPr/>
          </p:nvGrpSpPr>
          <p:grpSpPr>
            <a:xfrm>
              <a:off x="7563960" y="4489920"/>
              <a:ext cx="824040" cy="775440"/>
              <a:chOff x="7563960" y="4489920"/>
              <a:chExt cx="824040" cy="775440"/>
            </a:xfrm>
          </p:grpSpPr>
          <p:sp>
            <p:nvSpPr>
              <p:cNvPr id="520" name=""/>
              <p:cNvSpPr/>
              <p:nvPr/>
            </p:nvSpPr>
            <p:spPr>
              <a:xfrm>
                <a:off x="7563960" y="4489920"/>
                <a:ext cx="824040" cy="775440"/>
              </a:xfrm>
              <a:custGeom>
                <a:avLst/>
                <a:gdLst/>
                <a:ahLst/>
                <a:rect l="l" t="t" r="r" b="b"/>
                <a:pathLst>
                  <a:path w="4828" h="4550">
                    <a:moveTo>
                      <a:pt x="4828" y="2723"/>
                    </a:moveTo>
                    <a:lnTo>
                      <a:pt x="4201" y="3603"/>
                    </a:lnTo>
                    <a:lnTo>
                      <a:pt x="3436" y="3615"/>
                    </a:lnTo>
                    <a:lnTo>
                      <a:pt x="3348" y="3906"/>
                    </a:lnTo>
                    <a:lnTo>
                      <a:pt x="3348" y="3906"/>
                    </a:lnTo>
                    <a:lnTo>
                      <a:pt x="3297" y="4190"/>
                    </a:lnTo>
                    <a:lnTo>
                      <a:pt x="3339" y="4397"/>
                    </a:lnTo>
                    <a:lnTo>
                      <a:pt x="3473" y="4521"/>
                    </a:lnTo>
                    <a:lnTo>
                      <a:pt x="3473" y="4521"/>
                    </a:lnTo>
                    <a:lnTo>
                      <a:pt x="3347" y="4550"/>
                    </a:lnTo>
                    <a:lnTo>
                      <a:pt x="1983" y="4550"/>
                    </a:lnTo>
                    <a:lnTo>
                      <a:pt x="2008" y="4521"/>
                    </a:lnTo>
                    <a:lnTo>
                      <a:pt x="2008" y="4521"/>
                    </a:lnTo>
                    <a:lnTo>
                      <a:pt x="2135" y="4474"/>
                    </a:lnTo>
                    <a:lnTo>
                      <a:pt x="2239" y="4417"/>
                    </a:lnTo>
                    <a:lnTo>
                      <a:pt x="2321" y="4352"/>
                    </a:lnTo>
                    <a:lnTo>
                      <a:pt x="2321" y="4352"/>
                    </a:lnTo>
                    <a:lnTo>
                      <a:pt x="2388" y="4271"/>
                    </a:lnTo>
                    <a:lnTo>
                      <a:pt x="2443" y="4169"/>
                    </a:lnTo>
                    <a:lnTo>
                      <a:pt x="2488" y="4043"/>
                    </a:lnTo>
                    <a:lnTo>
                      <a:pt x="2488" y="4043"/>
                    </a:lnTo>
                    <a:lnTo>
                      <a:pt x="2618" y="3615"/>
                    </a:lnTo>
                    <a:lnTo>
                      <a:pt x="0" y="3615"/>
                    </a:lnTo>
                    <a:lnTo>
                      <a:pt x="3299" y="0"/>
                    </a:lnTo>
                    <a:lnTo>
                      <a:pt x="4584" y="0"/>
                    </a:lnTo>
                    <a:lnTo>
                      <a:pt x="3654" y="3013"/>
                    </a:lnTo>
                    <a:lnTo>
                      <a:pt x="3654" y="3013"/>
                    </a:lnTo>
                    <a:lnTo>
                      <a:pt x="3835" y="3006"/>
                    </a:lnTo>
                    <a:lnTo>
                      <a:pt x="4061" y="2987"/>
                    </a:lnTo>
                    <a:lnTo>
                      <a:pt x="4238" y="2962"/>
                    </a:lnTo>
                    <a:lnTo>
                      <a:pt x="4238" y="2962"/>
                    </a:lnTo>
                    <a:lnTo>
                      <a:pt x="4439" y="2907"/>
                    </a:lnTo>
                    <a:lnTo>
                      <a:pt x="4636" y="2828"/>
                    </a:lnTo>
                    <a:lnTo>
                      <a:pt x="4828" y="2723"/>
                    </a:lnTo>
                    <a:lnTo>
                      <a:pt x="4828" y="2723"/>
                    </a:lnTo>
                  </a:path>
                </a:pathLst>
              </a:custGeom>
              <a:solidFill>
                <a:srgbClr val="ffcc66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7795440" y="4573440"/>
                <a:ext cx="381600" cy="432000"/>
              </a:xfrm>
              <a:custGeom>
                <a:avLst/>
                <a:gdLst/>
                <a:ahLst/>
                <a:rect l="l" t="t" r="r" b="b"/>
                <a:pathLst>
                  <a:path w="2243" h="2533">
                    <a:moveTo>
                      <a:pt x="1481" y="2533"/>
                    </a:moveTo>
                    <a:lnTo>
                      <a:pt x="2243" y="0"/>
                    </a:lnTo>
                    <a:lnTo>
                      <a:pt x="0" y="2525"/>
                    </a:lnTo>
                    <a:lnTo>
                      <a:pt x="0" y="2525"/>
                    </a:lnTo>
                    <a:lnTo>
                      <a:pt x="203" y="2526"/>
                    </a:lnTo>
                    <a:lnTo>
                      <a:pt x="404" y="2526"/>
                    </a:lnTo>
                    <a:lnTo>
                      <a:pt x="606" y="2527"/>
                    </a:lnTo>
                    <a:lnTo>
                      <a:pt x="606" y="2527"/>
                    </a:lnTo>
                    <a:lnTo>
                      <a:pt x="798" y="2528"/>
                    </a:lnTo>
                    <a:lnTo>
                      <a:pt x="971" y="2529"/>
                    </a:lnTo>
                    <a:lnTo>
                      <a:pt x="1126" y="2531"/>
                    </a:lnTo>
                    <a:lnTo>
                      <a:pt x="1126" y="2531"/>
                    </a:lnTo>
                    <a:lnTo>
                      <a:pt x="1262" y="2532"/>
                    </a:lnTo>
                    <a:lnTo>
                      <a:pt x="1380" y="2533"/>
                    </a:lnTo>
                    <a:lnTo>
                      <a:pt x="1481" y="2533"/>
                    </a:lnTo>
                    <a:lnTo>
                      <a:pt x="1481" y="2533"/>
                    </a:lnTo>
                  </a:path>
                </a:pathLst>
              </a:custGeom>
              <a:solidFill>
                <a:srgbClr val="686b5d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22" name=""/>
            <p:cNvSpPr txBox="1"/>
            <p:nvPr/>
          </p:nvSpPr>
          <p:spPr>
            <a:xfrm>
              <a:off x="6477120" y="4343400"/>
              <a:ext cx="1536480" cy="547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7e"/>
                  </a:solidFill>
                  <a:latin typeface="Georgia"/>
                </a:rPr>
                <a:t>Good</a:t>
              </a:r>
              <a:endParaRPr b="1" lang="en-US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7e"/>
                </a:solidFill>
                <a:latin typeface="Georgia"/>
                <a:ea typeface="Georgi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312a"/>
            </a:gs>
            <a:gs pos="100000">
              <a:srgbClr val="686b5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d5c7"/>
                </a:solidFill>
                <a:latin typeface="Arial"/>
              </a:rPr>
              <a:t>Customer Preferences</a:t>
            </a:r>
            <a:endParaRPr b="1" lang="en-US" sz="4400" spc="-1" strike="noStrike">
              <a:solidFill>
                <a:srgbClr val="ccd5c7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7619760" cy="42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15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taurant constantly monitoring the ordering habits of its patr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15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efs required to provide a rough weekly tally of entree ord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312a"/>
            </a:gs>
            <a:gs pos="100000">
              <a:srgbClr val="686b5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d5c7"/>
                </a:solidFill>
                <a:latin typeface="Arial"/>
              </a:rPr>
              <a:t>Menu Changes 2004</a:t>
            </a:r>
            <a:endParaRPr b="1" lang="en-US" sz="4400" spc="-1" strike="noStrike">
              <a:solidFill>
                <a:srgbClr val="ccd5c7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7619760" cy="42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15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nagement detected a significant increase in orders of vegetarian entré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5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ad chef added three new vegetarian entrees, dropped one meat entré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5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ff Cook-off winning dishes will be on the new menu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312a"/>
            </a:gs>
            <a:gs pos="100000">
              <a:srgbClr val="686b5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762120" y="2133720"/>
            <a:ext cx="7619760" cy="4114800"/>
          </a:xfrm>
          <a:prstGeom prst="rect">
            <a:avLst/>
          </a:prstGeom>
          <a:blipFill rotWithShape="0">
            <a:blip r:embed="rId1">
              <a:alphaModFix amt="50000"/>
            </a:blip>
            <a:srcRect/>
            <a:stretch/>
          </a:blipFill>
          <a:ln w="9360">
            <a:solidFill>
              <a:srgbClr val="aaa8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d5c7"/>
                </a:solidFill>
                <a:latin typeface="Arial"/>
              </a:rPr>
              <a:t>Menu Analysis</a:t>
            </a:r>
            <a:endParaRPr b="1" lang="en-US" sz="4400" spc="-1" strike="noStrike">
              <a:solidFill>
                <a:srgbClr val="ccd5c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312a"/>
            </a:gs>
            <a:gs pos="100000">
              <a:srgbClr val="686b5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9" name=""/>
          <p:cNvGraphicFramePr/>
          <p:nvPr/>
        </p:nvGraphicFramePr>
        <p:xfrm>
          <a:off x="533520" y="533520"/>
          <a:ext cx="8076960" cy="5943600"/>
        </p:xfrm>
        <a:graphic>
          <a:graphicData uri="http://schemas.openxmlformats.org/drawingml/2006/table">
            <a:tbl>
              <a:tblPr/>
              <a:tblGrid>
                <a:gridCol w="1616040"/>
                <a:gridCol w="3230640"/>
                <a:gridCol w="3230280"/>
              </a:tblGrid>
              <a:tr h="94716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aff Cook-off Featured Dish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aaa854"/>
                      </a:solidFill>
                    </a:lnL>
                    <a:lnR w="5760">
                      <a:solidFill>
                        <a:srgbClr val="aaa854"/>
                      </a:solidFill>
                    </a:lnR>
                    <a:lnT w="13680">
                      <a:solidFill>
                        <a:srgbClr val="aaa854"/>
                      </a:solidFill>
                    </a:lnT>
                    <a:lnB w="5760">
                      <a:solidFill>
                        <a:srgbClr val="aaa854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a854"/>
                      </a:solidFill>
                    </a:lnL>
                    <a:lnR w="13680">
                      <a:solidFill>
                        <a:srgbClr val="aaa854"/>
                      </a:solidFill>
                    </a:lnR>
                    <a:lnT w="13680">
                      <a:solidFill>
                        <a:srgbClr val="aaa854"/>
                      </a:solidFill>
                    </a:lnT>
                    <a:lnB w="5760">
                      <a:solidFill>
                        <a:srgbClr val="aaa854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nth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aaa854"/>
                      </a:solidFill>
                    </a:lnL>
                    <a:lnR w="5760">
                      <a:solidFill>
                        <a:srgbClr val="aaa854"/>
                      </a:solidFill>
                    </a:lnR>
                    <a:lnT w="5760">
                      <a:solidFill>
                        <a:srgbClr val="aaa854"/>
                      </a:solidFill>
                    </a:lnT>
                    <a:lnB w="5760">
                      <a:solidFill>
                        <a:srgbClr val="aaa85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eatured Cook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a854"/>
                      </a:solidFill>
                    </a:lnL>
                    <a:lnR w="5760">
                      <a:solidFill>
                        <a:srgbClr val="aaa854"/>
                      </a:solidFill>
                    </a:lnR>
                    <a:lnT w="5760">
                      <a:solidFill>
                        <a:srgbClr val="aaa854"/>
                      </a:solidFill>
                    </a:lnT>
                    <a:lnB w="5760">
                      <a:solidFill>
                        <a:srgbClr val="aaa85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eatured Dish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a854"/>
                      </a:solidFill>
                    </a:lnL>
                    <a:lnR w="13680">
                      <a:solidFill>
                        <a:srgbClr val="aaa854"/>
                      </a:solidFill>
                    </a:lnR>
                    <a:lnT w="5760">
                      <a:solidFill>
                        <a:srgbClr val="aaa854"/>
                      </a:solidFill>
                    </a:lnT>
                    <a:lnB w="5760">
                      <a:solidFill>
                        <a:srgbClr val="aaa854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cd5c7"/>
                          </a:solidFill>
                          <a:latin typeface="Arial"/>
                        </a:rPr>
                        <a:t>Ja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aaa854"/>
                      </a:solidFill>
                    </a:lnL>
                    <a:lnR w="5760">
                      <a:solidFill>
                        <a:srgbClr val="aaa854"/>
                      </a:solidFill>
                    </a:lnR>
                    <a:lnT w="5760">
                      <a:solidFill>
                        <a:srgbClr val="aaa854"/>
                      </a:solidFill>
                    </a:lnT>
                    <a:lnB w="5760">
                      <a:solidFill>
                        <a:srgbClr val="aaa85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cd5c7"/>
                          </a:solidFill>
                          <a:latin typeface="Arial"/>
                        </a:rPr>
                        <a:t>Susan Smith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a854"/>
                      </a:solidFill>
                    </a:lnL>
                    <a:lnR w="5760">
                      <a:solidFill>
                        <a:srgbClr val="aaa854"/>
                      </a:solidFill>
                    </a:lnR>
                    <a:lnT w="5760">
                      <a:solidFill>
                        <a:srgbClr val="aaa854"/>
                      </a:solidFill>
                    </a:lnT>
                    <a:lnB w="5760">
                      <a:solidFill>
                        <a:srgbClr val="aaa85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cd5c7"/>
                          </a:solidFill>
                          <a:latin typeface="Arial"/>
                        </a:rPr>
                        <a:t>No-Guilt Cherry Cheesecak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a854"/>
                      </a:solidFill>
                    </a:lnL>
                    <a:lnR w="13680">
                      <a:solidFill>
                        <a:srgbClr val="aaa854"/>
                      </a:solidFill>
                    </a:lnR>
                    <a:lnT w="5760">
                      <a:solidFill>
                        <a:srgbClr val="aaa854"/>
                      </a:solidFill>
                    </a:lnT>
                    <a:lnB w="5760">
                      <a:solidFill>
                        <a:srgbClr val="aaa854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cd5c7"/>
                          </a:solidFill>
                          <a:latin typeface="Arial"/>
                        </a:rPr>
                        <a:t>Fe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aaa854"/>
                      </a:solidFill>
                    </a:lnL>
                    <a:lnR w="5760">
                      <a:solidFill>
                        <a:srgbClr val="aaa854"/>
                      </a:solidFill>
                    </a:lnR>
                    <a:lnT w="5760">
                      <a:solidFill>
                        <a:srgbClr val="aaa854"/>
                      </a:solidFill>
                    </a:lnT>
                    <a:lnB w="5760">
                      <a:solidFill>
                        <a:srgbClr val="aaa85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cd5c7"/>
                          </a:solidFill>
                          <a:latin typeface="Arial"/>
                        </a:rPr>
                        <a:t>Wanda Jack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a854"/>
                      </a:solidFill>
                    </a:lnL>
                    <a:lnR w="5760">
                      <a:solidFill>
                        <a:srgbClr val="aaa854"/>
                      </a:solidFill>
                    </a:lnR>
                    <a:lnT w="5760">
                      <a:solidFill>
                        <a:srgbClr val="aaa854"/>
                      </a:solidFill>
                    </a:lnT>
                    <a:lnB w="5760">
                      <a:solidFill>
                        <a:srgbClr val="aaa85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a854"/>
                      </a:solidFill>
                    </a:lnL>
                    <a:lnR w="13680">
                      <a:solidFill>
                        <a:srgbClr val="aaa854"/>
                      </a:solidFill>
                    </a:lnR>
                    <a:lnT w="5760">
                      <a:solidFill>
                        <a:srgbClr val="aaa854"/>
                      </a:solidFill>
                    </a:lnT>
                    <a:lnB w="5760">
                      <a:solidFill>
                        <a:srgbClr val="aaa854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cd5c7"/>
                          </a:solidFill>
                          <a:latin typeface="Arial"/>
                        </a:rPr>
                        <a:t>Ma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cd5c7"/>
                          </a:solidFill>
                          <a:latin typeface="Arial"/>
                        </a:rPr>
                        <a:t>Ap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aaa854"/>
                      </a:solidFill>
                    </a:lnL>
                    <a:lnR w="5760">
                      <a:solidFill>
                        <a:srgbClr val="aaa854"/>
                      </a:solidFill>
                    </a:lnR>
                    <a:lnT w="5760">
                      <a:solidFill>
                        <a:srgbClr val="aaa854"/>
                      </a:solidFill>
                    </a:lnT>
                    <a:lnB w="5760">
                      <a:solidFill>
                        <a:srgbClr val="aaa85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cd5c7"/>
                          </a:solidFill>
                          <a:latin typeface="Arial"/>
                        </a:rPr>
                        <a:t>Chuck Warde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a854"/>
                      </a:solidFill>
                    </a:lnL>
                    <a:lnR w="5760">
                      <a:solidFill>
                        <a:srgbClr val="aaa854"/>
                      </a:solidFill>
                    </a:lnR>
                    <a:lnT w="5760">
                      <a:solidFill>
                        <a:srgbClr val="aaa854"/>
                      </a:solidFill>
                    </a:lnT>
                    <a:lnB w="5760">
                      <a:solidFill>
                        <a:srgbClr val="aaa85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cd5c7"/>
                          </a:solidFill>
                          <a:latin typeface="Arial"/>
                        </a:rPr>
                        <a:t>Deluxe Veggie burger with Caramelized Garlic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a854"/>
                      </a:solidFill>
                    </a:lnL>
                    <a:lnR w="13680">
                      <a:solidFill>
                        <a:srgbClr val="aaa854"/>
                      </a:solidFill>
                    </a:lnR>
                    <a:lnT w="5760">
                      <a:solidFill>
                        <a:srgbClr val="aaa854"/>
                      </a:solidFill>
                    </a:lnT>
                    <a:lnB w="5760">
                      <a:solidFill>
                        <a:srgbClr val="aaa854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cd5c7"/>
                          </a:solidFill>
                          <a:latin typeface="Arial"/>
                        </a:rPr>
                        <a:t>Ma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cd5c7"/>
                          </a:solidFill>
                          <a:latin typeface="Arial"/>
                        </a:rPr>
                        <a:t>Ju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aaa854"/>
                      </a:solidFill>
                    </a:lnL>
                    <a:lnR w="5760">
                      <a:solidFill>
                        <a:srgbClr val="aaa854"/>
                      </a:solidFill>
                    </a:lnR>
                    <a:lnT w="5760">
                      <a:solidFill>
                        <a:srgbClr val="aaa854"/>
                      </a:solidFill>
                    </a:lnT>
                    <a:lnB w="5760">
                      <a:solidFill>
                        <a:srgbClr val="aaa85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cd5c7"/>
                          </a:solidFill>
                          <a:latin typeface="Arial"/>
                        </a:rPr>
                        <a:t>Lauren Hoosick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a854"/>
                      </a:solidFill>
                    </a:lnL>
                    <a:lnR w="5760">
                      <a:solidFill>
                        <a:srgbClr val="aaa854"/>
                      </a:solidFill>
                    </a:lnR>
                    <a:lnT w="5760">
                      <a:solidFill>
                        <a:srgbClr val="aaa854"/>
                      </a:solidFill>
                    </a:lnT>
                    <a:lnB w="5760">
                      <a:solidFill>
                        <a:srgbClr val="aaa85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cd5c7"/>
                          </a:solidFill>
                          <a:latin typeface="Arial"/>
                        </a:rPr>
                        <a:t>Mango Supreme Salad with Raspberry Vinaigret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a854"/>
                      </a:solidFill>
                    </a:lnL>
                    <a:lnR w="13680">
                      <a:solidFill>
                        <a:srgbClr val="aaa854"/>
                      </a:solidFill>
                    </a:lnR>
                    <a:lnT w="5760">
                      <a:solidFill>
                        <a:srgbClr val="aaa854"/>
                      </a:solidFill>
                    </a:lnT>
                    <a:lnB w="5760">
                      <a:solidFill>
                        <a:srgbClr val="aaa854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cd5c7"/>
                          </a:solidFill>
                          <a:latin typeface="Arial"/>
                        </a:rPr>
                        <a:t>Ju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cd5c7"/>
                          </a:solidFill>
                          <a:latin typeface="Arial"/>
                        </a:rPr>
                        <a:t>Aug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aaa854"/>
                      </a:solidFill>
                    </a:lnL>
                    <a:lnR w="5760">
                      <a:solidFill>
                        <a:srgbClr val="aaa854"/>
                      </a:solidFill>
                    </a:lnR>
                    <a:lnT w="5760">
                      <a:solidFill>
                        <a:srgbClr val="aaa854"/>
                      </a:solidFill>
                    </a:lnT>
                    <a:lnB w="5760">
                      <a:solidFill>
                        <a:srgbClr val="aaa85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cd5c7"/>
                          </a:solidFill>
                          <a:latin typeface="Arial"/>
                        </a:rPr>
                        <a:t>Alvin Domin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a854"/>
                      </a:solidFill>
                    </a:lnL>
                    <a:lnR w="5760">
                      <a:solidFill>
                        <a:srgbClr val="aaa854"/>
                      </a:solidFill>
                    </a:lnR>
                    <a:lnT w="5760">
                      <a:solidFill>
                        <a:srgbClr val="aaa854"/>
                      </a:solidFill>
                    </a:lnT>
                    <a:lnB w="5760">
                      <a:solidFill>
                        <a:srgbClr val="aaa85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cd5c7"/>
                          </a:solidFill>
                          <a:latin typeface="Arial"/>
                        </a:rPr>
                        <a:t>Tex-Mex Tofu with Black Beans and Jalapeno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a854"/>
                      </a:solidFill>
                    </a:lnL>
                    <a:lnR w="13680">
                      <a:solidFill>
                        <a:srgbClr val="aaa854"/>
                      </a:solidFill>
                    </a:lnR>
                    <a:lnT w="5760">
                      <a:solidFill>
                        <a:srgbClr val="aaa854"/>
                      </a:solidFill>
                    </a:lnT>
                    <a:lnB w="5760">
                      <a:solidFill>
                        <a:srgbClr val="aaa854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cd5c7"/>
                          </a:solidFill>
                          <a:latin typeface="Arial"/>
                        </a:rPr>
                        <a:t>Sep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cd5c7"/>
                          </a:solidFill>
                          <a:latin typeface="Arial"/>
                        </a:rPr>
                        <a:t>Oc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aaa854"/>
                      </a:solidFill>
                    </a:lnL>
                    <a:lnR w="5760">
                      <a:solidFill>
                        <a:srgbClr val="aaa854"/>
                      </a:solidFill>
                    </a:lnR>
                    <a:lnT w="5760">
                      <a:solidFill>
                        <a:srgbClr val="aaa854"/>
                      </a:solidFill>
                    </a:lnT>
                    <a:lnB w="5760">
                      <a:solidFill>
                        <a:srgbClr val="aaa85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cd5c7"/>
                          </a:solidFill>
                          <a:latin typeface="Arial"/>
                        </a:rPr>
                        <a:t>Gus Irvinell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a854"/>
                      </a:solidFill>
                    </a:lnL>
                    <a:lnR w="5760">
                      <a:solidFill>
                        <a:srgbClr val="aaa854"/>
                      </a:solidFill>
                    </a:lnR>
                    <a:lnT w="5760">
                      <a:solidFill>
                        <a:srgbClr val="aaa854"/>
                      </a:solidFill>
                    </a:lnT>
                    <a:lnB w="5760">
                      <a:solidFill>
                        <a:srgbClr val="aaa85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cd5c7"/>
                          </a:solidFill>
                          <a:latin typeface="Arial"/>
                        </a:rPr>
                        <a:t>Chicken Hash with Spiced and Diced Red Potatoes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a854"/>
                      </a:solidFill>
                    </a:lnL>
                    <a:lnR w="13680">
                      <a:solidFill>
                        <a:srgbClr val="aaa854"/>
                      </a:solidFill>
                    </a:lnR>
                    <a:lnT w="5760">
                      <a:solidFill>
                        <a:srgbClr val="aaa854"/>
                      </a:solidFill>
                    </a:lnT>
                    <a:lnB w="5760">
                      <a:solidFill>
                        <a:srgbClr val="aaa854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cd5c7"/>
                          </a:solidFill>
                          <a:latin typeface="Arial"/>
                        </a:rPr>
                        <a:t>Nov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cd5c7"/>
                          </a:solidFill>
                          <a:latin typeface="Arial"/>
                        </a:rPr>
                        <a:t>Dec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aaa854"/>
                      </a:solidFill>
                    </a:lnL>
                    <a:lnR w="5760">
                      <a:solidFill>
                        <a:srgbClr val="aaa854"/>
                      </a:solidFill>
                    </a:lnR>
                    <a:lnT w="5760">
                      <a:solidFill>
                        <a:srgbClr val="aaa854"/>
                      </a:solidFill>
                    </a:lnT>
                    <a:lnB w="13680">
                      <a:solidFill>
                        <a:srgbClr val="aaa85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cd5c7"/>
                          </a:solidFill>
                          <a:latin typeface="Arial"/>
                        </a:rPr>
                        <a:t>Roy Olafse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a854"/>
                      </a:solidFill>
                    </a:lnL>
                    <a:lnR w="5760">
                      <a:solidFill>
                        <a:srgbClr val="aaa854"/>
                      </a:solidFill>
                    </a:lnR>
                    <a:lnT w="5760">
                      <a:solidFill>
                        <a:srgbClr val="aaa854"/>
                      </a:solidFill>
                    </a:lnT>
                    <a:lnB w="13680">
                      <a:solidFill>
                        <a:srgbClr val="aaa85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cd5c7"/>
                          </a:solidFill>
                          <a:latin typeface="Arial"/>
                        </a:rPr>
                        <a:t>Hot Spiced Norwegian Fruit Soup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a854"/>
                      </a:solidFill>
                    </a:lnL>
                    <a:lnR w="13680">
                      <a:solidFill>
                        <a:srgbClr val="aaa854"/>
                      </a:solidFill>
                    </a:lnR>
                    <a:lnT w="5760">
                      <a:solidFill>
                        <a:srgbClr val="aaa854"/>
                      </a:solidFill>
                    </a:lnT>
                    <a:lnB w="13680">
                      <a:solidFill>
                        <a:srgbClr val="aaa854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5-04T15:13:58Z</dcterms:created>
  <dc:creator>Pat R. Graves</dc:creator>
  <dc:description/>
  <dc:language>en-US</dc:language>
  <cp:lastModifiedBy>Ms. Malnick</cp:lastModifiedBy>
  <dcterms:modified xsi:type="dcterms:W3CDTF">2004-04-13T21:33:18Z</dcterms:modified>
  <cp:revision>24</cp:revision>
  <dc:subject/>
  <dc:title>Menu Changes</dc:title>
</cp:coreProperties>
</file>