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A88-8DFA-45A2-997A-F17A8EA8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481-8257-4344-B7E9-F1A9183E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D0C-D830-4C6B-AF62-301D182C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C5DD-E94D-4747-820D-2AB64A01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A5AB-3526-44D1-A9DE-9485DEC8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1FB2-5549-439C-ACEE-65D9C67C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C383-08FA-4083-94DE-DEA28A1D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029A-9EDD-43D2-A250-22D64B16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4849-8D40-4867-A6B8-DDF5950A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6613-E525-4159-BBC7-914FDF08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22EE-3D9F-4D1A-BF48-03703747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54F-A683-4BFC-AF51-7AD283F3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E23F-9471-4AF6-A284-31C3F969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43AF-3B31-44AB-9554-0F380141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CB7D-0D70-4EBC-927B-1A817CD6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A7A1-294C-4622-B3BD-470701DD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25F0-1360-4985-9FEB-6C62ECB9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846-7720-4FD6-B99E-F329C1E8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EC9E-9638-470D-AA5F-C2211479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0D45-0EE0-4C49-A754-0E63E8EE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BBEE-E30C-489A-86A6-2361A064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97A4-B8BB-432C-B67D-2AE058D9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869-2725-452E-A116-18BFD1E9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96D-8A02-4C8B-A7B8-ADEDE1E4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00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6699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66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6699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1652-485C-4B41-9E88-03503106013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9E98-E7D2-4785-BDEA-215D37D2BD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86FB-D871-4F84-983D-8E6819F6EB2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2210-FDDE-47A6-8E0F-D53AE0AEF3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6699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336699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336699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Management Briefing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Employment Summary 200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mployment Levels 2003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600200" y="1828800"/>
          <a:ext cx="6095880" cy="406368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t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r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-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t-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Highligh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00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ll-time employees down 9% from 200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9900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crease in part-time and tempora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9900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t reduction in payroll due to smaller benefit pay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mployment Levels 2004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09480" y="1981080"/>
          <a:ext cx="7925040" cy="4038840"/>
        </p:xfrm>
        <a:graphic>
          <a:graphicData uri="http://schemas.openxmlformats.org/drawingml/2006/table">
            <a:tbl>
              <a:tblPr/>
              <a:tblGrid>
                <a:gridCol w="1905120"/>
                <a:gridCol w="1295280"/>
                <a:gridCol w="1600200"/>
                <a:gridCol w="1600200"/>
                <a:gridCol w="1524240"/>
              </a:tblGrid>
              <a:tr h="609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imated Proje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m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itch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vi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ric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-tim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t-tim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18T14:07:48Z</dcterms:created>
  <dc:creator>Marple</dc:creator>
  <dc:description/>
  <dc:language>en-US</dc:language>
  <cp:lastModifiedBy>Pat Graves</cp:lastModifiedBy>
  <cp:lastPrinted>1997-07-23T14:26:02Z</cp:lastPrinted>
  <dcterms:modified xsi:type="dcterms:W3CDTF">2004-03-18T06:52:03Z</dcterms:modified>
  <cp:revision>47</cp:revision>
  <dc:subject/>
  <dc:title>Management Summary</dc:title>
</cp:coreProperties>
</file>