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07BF-8F83-402F-9188-772147F5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7A0A-4EF5-4D1A-B19D-AFF7F5A7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7D84-8A41-46E4-B581-4AE3BD44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A326-778F-4F49-80BA-D9E8324B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49B8-E1D3-4D35-A454-02B7B2A5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419-6327-470F-810C-DA059C0B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7FCF-EBCD-400F-AC56-C5F6B95C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6850-D935-4DDA-BF92-1184EBDA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881B-7FBC-4B9B-8480-A643CBFB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23E2-CFE2-4379-BC53-A815C97E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9501-9336-48D9-8FA7-36002D89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3677-EDB7-4F8F-BBCB-ED66A999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65AC-D62E-4A1F-A95A-7720F4EE9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rvations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rvations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aurant currently accepts no re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ment considering instituting reservations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receive steady reservation requests, especially for di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rvations: 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management to control volume more effici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eature of higher-caliber restaur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rvations: Dis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eres with image of casual d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alienate steady custo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known how it would affect walk-in traf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rvation Reques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 Daily Nu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4T15:22:50Z</dcterms:created>
  <dc:creator>Pat R. Graaves</dc:creator>
  <dc:description/>
  <dc:language>en-US</dc:language>
  <cp:lastModifiedBy>Pat Graves</cp:lastModifiedBy>
  <cp:lastPrinted>1997-10-13T15:32:24Z</cp:lastPrinted>
  <dcterms:modified xsi:type="dcterms:W3CDTF">2004-03-19T03:28:50Z</dcterms:modified>
  <cp:revision>24</cp:revision>
  <dc:subject/>
  <dc:title>Operations</dc:title>
</cp:coreProperties>
</file>