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417-28CE-4079-8236-A4CDAC4B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5DE-7ED6-47B3-B4B2-E0738274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F57-F1AD-4508-ACC8-16DB1902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265-8F79-4ED5-B960-978BB064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BF35-9F03-4529-AF32-74F44361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FB3E-8884-4903-9048-78E8745A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7BDE-D7ED-438C-BDE6-E5327BC7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3CF-8EA1-4C2E-AB7D-5BC06D1F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CE1F-409D-4FE5-9FAA-05A77CA8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021B-389C-4861-9F56-273973C4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35F-2631-43B2-AA4D-4036017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698-1E5D-4D44-AE5C-A5EAACB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2EEE-4DDD-4765-BA89-6C16F49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2279-E4BF-4895-A8DA-FCFFE26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A28-2564-4022-A00C-F77B4E54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8525-56D0-4C66-B6EB-1FFB218D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3A1-E66C-4A0B-8E14-FF4F7E39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496-A352-4F18-BFE8-62BD788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D02-1988-4AA4-A6E4-02116135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AF4-6683-412B-B0FC-D7D150DA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C52-272A-4C10-8D26-5022F92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F96-DAD4-4632-8B11-5084F6C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E3B-443F-4140-AB7A-DDEE27C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F47-376F-4E51-92B8-3390FAEB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66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66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B1E-9844-4C87-A6C6-E935841EC5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E7A-A411-4E93-A700-01E43FE691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60B-8ED5-49DD-AB76-48AA2A26764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AF2-A767-47B2-BB81-7F1C84E63E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336699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Management Briefing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Employment Summary 200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ighligh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l-time employees down 9% from 200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ase in part-time and tempor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 reduction in payroll due to smaller benefit pay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4:07:48Z</dcterms:created>
  <dc:creator>Marple</dc:creator>
  <dc:description/>
  <dc:language>en-US</dc:language>
  <cp:lastModifiedBy>Pat Graves</cp:lastModifiedBy>
  <cp:lastPrinted>1997-07-23T14:26:02Z</cp:lastPrinted>
  <dcterms:modified xsi:type="dcterms:W3CDTF">2004-03-18T06:52:32Z</dcterms:modified>
  <cp:revision>48</cp:revision>
  <dc:subject/>
  <dc:title>Management Summary</dc:title>
</cp:coreProperties>
</file>