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17A-991B-40D7-820D-B0429E8D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A4D-5C5F-425E-B122-C571CF7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619-AAC3-486B-A992-5586F26B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EF2-D8F2-4BE0-A921-BD11E6F6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F3E-8AED-4B91-A8DB-3FCD536A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991-B7CC-4D2A-A12A-6C56CAE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1A3-5AD7-4231-A140-A54A1E3D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2D-D095-4AAF-8DCE-0903139B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520-B988-4A07-8BC9-23E8A12C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13C-AFDF-48D3-B414-7558207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7B6-AB40-40B6-B253-82B8019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42C-52F8-46DF-A091-E1617FE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C427-46C0-4FFC-BC0D-CB7EB2D0A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and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Goals,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marketing strategy to measure return on 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corporate awareness and special ev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program for promoting group sales and conventio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Expense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hletic event 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s, coupon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02:41:25Z</dcterms:created>
  <dc:creator>Pat R. Graves</dc:creator>
  <dc:description/>
  <dc:language>en-US</dc:language>
  <cp:lastModifiedBy>Ms. Malnick</cp:lastModifiedBy>
  <cp:lastPrinted>1999-05-11T11:58:27Z</cp:lastPrinted>
  <dcterms:modified xsi:type="dcterms:W3CDTF">2004-04-13T21:37:01Z</dcterms:modified>
  <cp:revision>19</cp:revision>
  <dc:subject/>
  <dc:title>Marketing Summary</dc:title>
</cp:coreProperties>
</file>