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497-4F62-40E2-967F-A883A795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D33-B98F-4CBD-8F37-C4B60754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462-29E1-433C-A25D-B865C4F6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BF0-7343-403E-AB04-159DFC58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44A3-8E67-46A5-94DA-DDAB0780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9F97-A57A-4504-B31C-4F6451AB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95F4-307B-449A-8215-D9E49BC4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AEE4-F75F-4737-B031-0A0D3C85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41FC-EB26-4BDC-97A3-5075A96E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79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FD42-B5C0-4936-82FF-9A319CB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EA1E-F0C4-4DA5-A4D6-A08B697E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C63-03B5-4011-9ABC-B1762448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EC69-BF42-4D84-BD76-C24D4E8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3FB4-074F-41FB-9A2B-5AF19CE6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B7E6-5833-4C20-ADE6-8BD6AFA4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73E-977D-4507-A718-9012284E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5B9A-A079-4A77-8580-576AD5B1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793-6BA5-4C85-9A02-44836BBA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E19-A185-4697-B12D-84B9554B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45C-C364-46C7-AF83-8C2D57BC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79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A05-1A88-4168-8C4E-7576C3E8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DA3-4E1C-4097-A356-9B151B91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C27-42EE-43F3-9109-8978B3C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377-1271-464B-81C7-5687381E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C3C4-82E0-4FC7-A716-01B0C5550F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81160" y="1752480"/>
            <a:ext cx="6781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cc00"/>
                </a:solidFill>
                <a:latin typeface="Times New Roman"/>
              </a:rPr>
              <a:t>Click to edit the title text format</a:t>
            </a:r>
            <a:endParaRPr b="1" lang="en-US" sz="6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D765-D2F7-48DE-894E-C9C649CDB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1160" y="3352680"/>
            <a:ext cx="6781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cc00"/>
                </a:solidFill>
                <a:latin typeface="Times New Roman"/>
              </a:rPr>
              <a:t>Advertising Analysis</a:t>
            </a:r>
            <a:endParaRPr b="1" lang="en-US" sz="66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429000" y="3886200"/>
            <a:ext cx="2285640" cy="922320"/>
            <a:chOff x="3429000" y="3886200"/>
            <a:chExt cx="2285640" cy="922320"/>
          </a:xfrm>
        </p:grpSpPr>
        <p:sp>
          <p:nvSpPr>
            <p:cNvPr id="87" name=""/>
            <p:cNvSpPr txBox="1"/>
            <p:nvPr/>
          </p:nvSpPr>
          <p:spPr>
            <a:xfrm>
              <a:off x="5077800" y="423720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15840" y="4032720"/>
              <a:ext cx="824040" cy="775440"/>
              <a:chOff x="4515840" y="4032720"/>
              <a:chExt cx="824040" cy="775440"/>
            </a:xfrm>
          </p:grpSpPr>
          <p:sp>
            <p:nvSpPr>
              <p:cNvPr id="89" name=""/>
              <p:cNvSpPr/>
              <p:nvPr/>
            </p:nvSpPr>
            <p:spPr>
              <a:xfrm>
                <a:off x="4515840" y="403272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47320" y="411624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 txBox="1"/>
            <p:nvPr/>
          </p:nvSpPr>
          <p:spPr>
            <a:xfrm>
              <a:off x="3429000" y="388620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Newspaper Advertising</a:t>
            </a: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, timely, good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appears every Wednesday in food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28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Radio Advertising</a:t>
            </a: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beat and humo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s run daily in morning driv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10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Mailers</a:t>
            </a: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ful and appealing postcards and cou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er sent six times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12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Yellow Pages</a:t>
            </a:r>
            <a:endParaRPr b="1" lang="en-US" sz="5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active display, prominent pla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 appears in all metro e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6% of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at R. Graves</dc:creator>
  <dc:description/>
  <dc:language>en-US</dc:language>
  <cp:lastModifiedBy>Pat Graves</cp:lastModifiedBy>
  <cp:lastPrinted>1997-07-25T21:23:40Z</cp:lastPrinted>
  <dcterms:modified xsi:type="dcterms:W3CDTF">2004-03-19T05:26:43Z</dcterms:modified>
  <cp:revision>32</cp:revision>
  <dc:subject/>
  <dc:title>Advertising Analysis</dc:title>
</cp:coreProperties>
</file>