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CBF2-8466-4D1B-BFB6-2E13880FB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159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610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685600" y="4407840"/>
            <a:ext cx="610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C403-066C-43AD-8A81-5AAB1D36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159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81292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685600" y="440784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812920" y="440784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0E4B-39B5-42AE-8D27-6E09FB7FB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159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49120" y="349200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12640" y="349200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685600" y="440784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749120" y="440784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812640" y="440784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3D49-9DCB-462A-A250-64AFA3072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99CB1-CFFC-46A7-B4B7-F0BEC4705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159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739C-4A36-49C5-A662-0D426654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159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8897-2C60-4058-9511-3CACC08B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159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2977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812920" y="3492000"/>
            <a:ext cx="2977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8F46D-87F1-4003-AB1A-066DCB4B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159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BE16-0A00-4C2B-A358-56629044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159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8A85-9DF0-422B-B37B-AEE5DC7D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159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812920" y="3492000"/>
            <a:ext cx="2977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685600" y="440784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7675-C4D3-4349-A34B-83D2DCA8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159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FC0A-6A91-472C-94C3-14540CFDB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159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2977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1292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12920" y="440784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7D8A-056C-49E0-8CB5-02DACC3B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159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81292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685600" y="4407840"/>
            <a:ext cx="610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0742D-3F50-4F05-89A3-27F7450C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159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610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685600" y="4407840"/>
            <a:ext cx="610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19AE-5E67-4470-9B4B-BBB42156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159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81292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685600" y="440784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812920" y="440784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27AC-71A0-4C4C-9FD9-DCF913A2C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159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9120" y="349200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12640" y="349200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685600" y="440784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749120" y="440784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812640" y="440784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6F7F-BA17-483D-BA18-D884DE4FC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159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6C7D-B13C-4269-A66A-9F187573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159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2977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812920" y="3492000"/>
            <a:ext cx="2977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3CA8-D638-49E5-867C-D4707B85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159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B22A-C5E4-4A21-A976-1E6F3EA6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159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F563-CB95-4009-8B37-B70499E0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159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812920" y="3492000"/>
            <a:ext cx="2977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685600" y="440784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E1B8-41F0-489F-AD07-16B50C75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159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2977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81292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12920" y="440784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2337-9856-439D-AD4D-64495EB4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159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1292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685600" y="4407840"/>
            <a:ext cx="610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F372-4CCA-4BE0-830D-8E1424A9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45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34AF-ADDE-4A4B-B500-13BEAFF382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1676520"/>
            <a:ext cx="609588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45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159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CF37-3E72-4BC1-A435-50B9B00C8C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3200400"/>
            <a:ext cx="609624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159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4T17:17:44Z</dcterms:created>
  <dc:creator>Margaret Marple</dc:creator>
  <dc:description/>
  <dc:language>en-US</dc:language>
  <cp:lastModifiedBy>Margaret Marple</cp:lastModifiedBy>
  <dcterms:modified xsi:type="dcterms:W3CDTF">2001-08-04T21:23:25Z</dcterms:modified>
  <cp:revision>3</cp:revision>
  <dc:subject/>
  <dc:title>Slide 1</dc:title>
</cp:coreProperties>
</file>