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654-FD21-48A5-9722-AE3D1EA9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991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24280" y="3232080"/>
            <a:ext cx="419112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24280" y="4369680"/>
            <a:ext cx="419112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88A8-9D43-4AFD-83C2-397F5F4D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991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724280" y="3232080"/>
            <a:ext cx="204516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72040" y="3232080"/>
            <a:ext cx="204516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724280" y="4369680"/>
            <a:ext cx="204516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72040" y="4369680"/>
            <a:ext cx="204516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A666-1D87-46B4-89B1-733FE465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991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24280" y="3232080"/>
            <a:ext cx="134928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141240" y="3232080"/>
            <a:ext cx="134928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558560" y="3232080"/>
            <a:ext cx="134928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724280" y="4369680"/>
            <a:ext cx="134928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6141240" y="4369680"/>
            <a:ext cx="134928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7558560" y="4369680"/>
            <a:ext cx="134928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5BE-4AD6-40D8-91AA-DE591E65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C666-4183-4371-9259-D0AE2B16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991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724280" y="3232080"/>
            <a:ext cx="4191120" cy="21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E291-EE28-4933-88BE-A624DE76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991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724280" y="3232080"/>
            <a:ext cx="4191120" cy="21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90DA-7BA4-49E3-B40B-16F3F6B8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991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24280" y="3232080"/>
            <a:ext cx="2045160" cy="21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040" y="3232080"/>
            <a:ext cx="2045160" cy="21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C561-6565-48D5-A915-4070A5E7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991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DECE-F249-4EE0-9633-F11E9BE1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43000" y="1295280"/>
            <a:ext cx="69912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2FDF-5B69-47EF-9BFE-87CD7690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991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24280" y="3232080"/>
            <a:ext cx="204516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72040" y="3232080"/>
            <a:ext cx="2045160" cy="21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280" y="4369680"/>
            <a:ext cx="204516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AB98-AECD-4DF9-91DF-41807E10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991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724280" y="3232080"/>
            <a:ext cx="4191120" cy="21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179E-1C90-4BE1-BA54-8D6191EF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991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24280" y="3232080"/>
            <a:ext cx="2045160" cy="21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72040" y="3232080"/>
            <a:ext cx="204516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72040" y="4369680"/>
            <a:ext cx="204516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F085-A226-4E14-ADD6-8F17A057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991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24280" y="3232080"/>
            <a:ext cx="204516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72040" y="3232080"/>
            <a:ext cx="204516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24280" y="4369680"/>
            <a:ext cx="419112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AC8F-EDA9-4CC5-8B98-3898F077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991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724280" y="3232080"/>
            <a:ext cx="419112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4280" y="4369680"/>
            <a:ext cx="419112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F23D-61AE-4685-8171-D27CBDE8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991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24280" y="3232080"/>
            <a:ext cx="204516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72040" y="3232080"/>
            <a:ext cx="204516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24280" y="4369680"/>
            <a:ext cx="204516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72040" y="4369680"/>
            <a:ext cx="204516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0612-6A66-412E-BA9C-97969B25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991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724280" y="3232080"/>
            <a:ext cx="134928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141240" y="3232080"/>
            <a:ext cx="134928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558560" y="3232080"/>
            <a:ext cx="134928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24280" y="4369680"/>
            <a:ext cx="134928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6141240" y="4369680"/>
            <a:ext cx="134928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558560" y="4369680"/>
            <a:ext cx="134928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9691-15AD-4B90-BB1C-A5ECB25C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991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24280" y="3232080"/>
            <a:ext cx="4191120" cy="21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359B-998A-4775-92E3-58D29A66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991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24280" y="3232080"/>
            <a:ext cx="2045160" cy="21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872040" y="3232080"/>
            <a:ext cx="2045160" cy="21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1132-625F-429A-925A-EE9926D7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991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3BB5-AD0C-4CD4-92B8-B2DDFA7F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1295280"/>
            <a:ext cx="69912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C7E1-B15F-4D89-B030-F41524DD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991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24280" y="3232080"/>
            <a:ext cx="204516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72040" y="3232080"/>
            <a:ext cx="2045160" cy="21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24280" y="4369680"/>
            <a:ext cx="204516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997D-0120-415C-8B5C-F1104282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991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24280" y="3232080"/>
            <a:ext cx="2045160" cy="21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72040" y="3232080"/>
            <a:ext cx="204516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040" y="4369680"/>
            <a:ext cx="204516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B09F-C834-4087-B70E-3401072B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991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24280" y="3232080"/>
            <a:ext cx="204516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72040" y="3232080"/>
            <a:ext cx="204516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24280" y="4369680"/>
            <a:ext cx="4191120" cy="10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9128-FFA9-4084-8B9A-80E6BA9E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8383a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0"/>
            <a:ext cx="845820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AB7E-14F0-4F60-8C30-0C5C618ECA63}" type="slidenum">
              <a:rPr b="1" lang="en-US" sz="2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1426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676520" y="2361960"/>
            <a:ext cx="7238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400"/>
              </a:spcBef>
              <a:buClr>
                <a:srgbClr val="c68d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668520" indent="-257040">
              <a:spcBef>
                <a:spcPts val="1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ccccff"/>
              </a:solidFill>
              <a:latin typeface="Arial"/>
            </a:endParaRPr>
          </a:p>
          <a:p>
            <a:pPr lvl="2" marL="1028520" indent="-205560">
              <a:spcBef>
                <a:spcPts val="1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ccccff"/>
              </a:solidFill>
              <a:latin typeface="Arial"/>
            </a:endParaRPr>
          </a:p>
          <a:p>
            <a:pPr lvl="3" marL="1440000" indent="-205560">
              <a:spcBef>
                <a:spcPts val="1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ccccff"/>
              </a:solidFill>
              <a:latin typeface="Arial"/>
            </a:endParaRPr>
          </a:p>
          <a:p>
            <a:pPr lvl="4" marL="1851480" indent="-205560">
              <a:spcBef>
                <a:spcPts val="14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ccccff"/>
              </a:solidFill>
              <a:latin typeface="Arial"/>
            </a:endParaRPr>
          </a:p>
          <a:p>
            <a:pPr lvl="5" marL="1851480" indent="-205560">
              <a:spcBef>
                <a:spcPts val="14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ccccff"/>
              </a:solidFill>
              <a:latin typeface="Arial"/>
            </a:endParaRPr>
          </a:p>
          <a:p>
            <a:pPr lvl="6" marL="1851480" indent="-205560">
              <a:spcBef>
                <a:spcPts val="14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1077840" y="1600200"/>
            <a:ext cx="806616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4680" y="147600"/>
            <a:ext cx="1142640" cy="461880"/>
            <a:chOff x="7924680" y="147600"/>
            <a:chExt cx="1142640" cy="461880"/>
          </a:xfrm>
        </p:grpSpPr>
        <p:sp>
          <p:nvSpPr>
            <p:cNvPr id="9" name=""/>
            <p:cNvSpPr txBox="1"/>
            <p:nvPr/>
          </p:nvSpPr>
          <p:spPr>
            <a:xfrm>
              <a:off x="8749080" y="323280"/>
              <a:ext cx="318240" cy="28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0" name=""/>
            <p:cNvGrpSpPr/>
            <p:nvPr/>
          </p:nvGrpSpPr>
          <p:grpSpPr>
            <a:xfrm>
              <a:off x="8467920" y="221040"/>
              <a:ext cx="412200" cy="388440"/>
              <a:chOff x="8467920" y="221040"/>
              <a:chExt cx="412200" cy="388440"/>
            </a:xfrm>
          </p:grpSpPr>
          <p:sp>
            <p:nvSpPr>
              <p:cNvPr id="11" name=""/>
              <p:cNvSpPr/>
              <p:nvPr/>
            </p:nvSpPr>
            <p:spPr>
              <a:xfrm>
                <a:off x="8467920" y="221040"/>
                <a:ext cx="412200" cy="3884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583480" y="262800"/>
                <a:ext cx="190800" cy="2163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00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" name=""/>
            <p:cNvSpPr txBox="1"/>
            <p:nvPr/>
          </p:nvSpPr>
          <p:spPr>
            <a:xfrm>
              <a:off x="7924680" y="147600"/>
              <a:ext cx="768240" cy="27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gradFill rotWithShape="0">
            <a:gsLst>
              <a:gs pos="0">
                <a:srgbClr val="8383ad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90720"/>
            <a:ext cx="5181480" cy="1904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D1AD-4015-4E64-A8E2-8AD1B3F5E955}" type="slidenum">
              <a:rPr b="1" lang="en-US" sz="2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991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  <a:p>
            <a:pPr lvl="1" marL="457200"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991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dvertising Analysi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724280" y="3232080"/>
            <a:ext cx="4191120" cy="21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Print Advertising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981080" y="3505320"/>
            <a:ext cx="2285640" cy="922320"/>
            <a:chOff x="1981080" y="3505320"/>
            <a:chExt cx="2285640" cy="922320"/>
          </a:xfrm>
        </p:grpSpPr>
        <p:sp>
          <p:nvSpPr>
            <p:cNvPr id="96" name=""/>
            <p:cNvSpPr txBox="1"/>
            <p:nvPr/>
          </p:nvSpPr>
          <p:spPr>
            <a:xfrm>
              <a:off x="3629880" y="3856320"/>
              <a:ext cx="6368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3067920" y="3651840"/>
              <a:ext cx="824040" cy="775440"/>
              <a:chOff x="3067920" y="3651840"/>
              <a:chExt cx="824040" cy="775440"/>
            </a:xfrm>
          </p:grpSpPr>
          <p:sp>
            <p:nvSpPr>
              <p:cNvPr id="98" name=""/>
              <p:cNvSpPr/>
              <p:nvPr/>
            </p:nvSpPr>
            <p:spPr>
              <a:xfrm>
                <a:off x="3067920" y="3651840"/>
                <a:ext cx="824040" cy="7754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299400" y="3735360"/>
                <a:ext cx="381600" cy="4320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00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 txBox="1"/>
            <p:nvPr/>
          </p:nvSpPr>
          <p:spPr>
            <a:xfrm>
              <a:off x="1981080" y="3505320"/>
              <a:ext cx="1536480" cy="54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09:35:56Z</dcterms:created>
  <dc:creator>Pat R. Graves</dc:creator>
  <dc:description/>
  <dc:language>en-US</dc:language>
  <cp:lastModifiedBy>Pat Graves</cp:lastModifiedBy>
  <dcterms:modified xsi:type="dcterms:W3CDTF">2004-03-19T05:17:10Z</dcterms:modified>
  <cp:revision>17</cp:revision>
  <dc:subject/>
  <dc:title>Advertising Analysis</dc:title>
</cp:coreProperties>
</file>