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C5D-01FF-4A79-A3BE-57DE5E19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ACF-5183-4380-B23A-1851C107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390-0991-448C-B797-0461E274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77E-FDC9-4C60-A4A3-1FCE6A8C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C8B5-F397-45FD-B369-51D9C646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5EB5-C961-476F-8409-052874A8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B55A-3C8C-461B-B58E-C7C590C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438D-BA68-43CB-80EE-525C3EF3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3A61-F36D-4DB6-B974-6844D7C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43C-C628-40F1-8DCC-B50EF403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95D-8F47-414F-8D1B-F0795E9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EEE-35CE-4474-B131-20B690FD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3E03-6F4B-447B-B80A-3DB349C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8FCF-7A67-47C1-AFA5-66ABE43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0ABA-8FF9-4DDF-8B91-F0005B8A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1D3B-4C53-4BB1-967E-A0DB5D3A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B1C-1638-4C04-A01B-B3D4F276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B5A-4ACB-48B8-ABC4-5A117E7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21D-F848-4211-8706-B7BFB219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9A1-26FA-477A-B74A-43F650BD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DAB-EF99-4E2D-A653-B7D7A8C5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38B-915F-404B-B011-97963CF5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A04-0FA0-40C1-B7B7-9CC7955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9C3-5638-4205-80BF-DC8EDC6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22860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812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C31-440F-4D9E-8171-E456AFA122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52C-51C9-44F9-8AA3-A904CF69E7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22400" algn="ctr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792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1219320"/>
            <a:ext cx="6858000" cy="2286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ood 4 U</a:t>
            </a:r>
            <a:br>
              <a:rPr sz="4400"/>
            </a:b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Operation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Summ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pital Planning, 200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e leasing agreements when fiscally pr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depletion of working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pital Expense Categor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tchen and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ing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(including company vehic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9T17:59:56Z</dcterms:created>
  <dc:creator>Pat R. Graves</dc:creator>
  <dc:description/>
  <dc:language>en-US</dc:language>
  <cp:lastModifiedBy>Pat Graves</cp:lastModifiedBy>
  <dcterms:modified xsi:type="dcterms:W3CDTF">2004-03-19T03:26:15Z</dcterms:modified>
  <cp:revision>8</cp:revision>
  <dc:subject/>
  <dc:title>Management Summary 2</dc:title>
</cp:coreProperties>
</file>