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028D0-1ECE-4588-BF10-8BAEE6E4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294A-84A1-4355-96B5-172CD2AA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1166-7981-44ED-B271-CDCF4550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F80D-515B-406B-89EA-77708F3B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0AA3-2151-4C4B-826B-7A76BB82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7E34-AE9B-4FFD-80A5-B4CDF67A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412A-0DF9-4C68-9533-E5A3487B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8F07-C62D-4C68-A07B-F5D03291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616A-6B5A-49F2-8280-EA931F85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2E9E-A9E7-43B5-9EE4-1A133027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FE99-0549-4353-A556-BA898CE6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49C76-D99E-437D-B1A1-D6501366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603E-CD6F-4D9A-8621-C3DBFC97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2FCF-ED56-4642-A514-A0A3423C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F340-41D2-4AEB-966F-302B2FCC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A835-3062-4C64-A10A-876D9344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ED49-50C4-4379-8CCA-C6E456F6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C5C55-E97F-4B9C-80BA-CB4FC49A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D658-E33B-48A4-B2B1-223402B4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F8A35-B0C7-49B8-A909-57EAA0B4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262CB-E128-4FC4-B357-A84C3475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ED06-90AC-4695-8EA0-F6A5288E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0734-724B-474E-AA03-DFC40942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04D6F-7818-4A74-93CB-2C745BFF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64CD-7CB1-4BCE-B171-F41D6B80167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5080" y="1689480"/>
            <a:ext cx="7593840" cy="165024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DAB4-F376-461A-8987-09D095EA558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775080" y="1689480"/>
            <a:ext cx="7593840" cy="165024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Operations Managemen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hele Jenkins, Operations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sible for daily operation of restaur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ties divided between kitchen and servi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Kitchen and Service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u planning an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l preparation and fac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ting and reser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e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7T18:50:50Z</dcterms:created>
  <dc:creator>Pat R. Graves</dc:creator>
  <dc:description/>
  <dc:language>en-US</dc:language>
  <cp:lastModifiedBy>Pat Graves</cp:lastModifiedBy>
  <dcterms:modified xsi:type="dcterms:W3CDTF">2004-03-21T00:46:28Z</dcterms:modified>
  <cp:revision>3</cp:revision>
  <dc:subject/>
  <dc:title>Management Structure</dc:title>
</cp:coreProperties>
</file>