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CD2A7-2CD3-4B04-9C86-EE4ED282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EB6F5-6CE1-423A-9F64-A9A8467C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CB632-67FB-4E8F-9B05-ED9CF8ED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88DE7-CA4B-4517-9A56-B0D5105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5EDB-5F7F-4DEC-B483-D0068F35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150C-0135-4947-8850-9EAB17F9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EFD1-0C32-45D5-8A03-AA976F9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F4BFA-5F97-4933-B2B5-A3534AA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390A1-B399-4CD4-806A-8704467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9CC6D-8DBF-4ABE-8AB4-B29A67FB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4F89-2CCF-44D1-B5D2-534E71E4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08CA6-CFE6-4AD5-97D0-E76ACEAC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" name="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ffff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67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200" cy="6845400"/>
            <a:chOff x="0" y="0"/>
            <a:chExt cx="9142200" cy="6845400"/>
          </a:xfrm>
        </p:grpSpPr>
        <p:sp>
          <p:nvSpPr>
            <p:cNvPr id="45" name=""/>
            <p:cNvSpPr/>
            <p:nvPr/>
          </p:nvSpPr>
          <p:spPr>
            <a:xfrm>
              <a:off x="1413720" y="104688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6440" y="71136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ffff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CBB-D780-4402-8EBF-488A4DD7397D}" type="slidenum">
              <a:rPr b="0" lang="en-US" sz="1400" spc="-1" strike="noStrike">
                <a:solidFill>
                  <a:srgbClr val="99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990033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6765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Food Preparation</a:t>
            </a:r>
            <a:endParaRPr b="1" lang="en-US" sz="5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3657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Kitchen Manage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Kitchens of Good 4 U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Kitchen operations include: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Menu design and planning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Meal preparation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Facilities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Ours is among the most cost-efficient and productive in the industry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ff6fe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Kitchen Responsibilities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5800" y="2402280"/>
            <a:ext cx="7781400" cy="3247920"/>
            <a:chOff x="685800" y="2402280"/>
            <a:chExt cx="7781400" cy="3247920"/>
          </a:xfrm>
        </p:grpSpPr>
        <p:cxnSp>
          <p:nvCxnSpPr>
            <p:cNvPr id="95" name="_s31749"/>
            <p:cNvCxnSpPr>
              <a:stCxn id="96" idx="0"/>
              <a:endCxn id="97" idx="2"/>
            </p:cNvCxnSpPr>
            <p:nvPr/>
          </p:nvCxnSpPr>
          <p:spPr>
            <a:xfrm flipV="1" rot="16200000">
              <a:off x="6802200" y="3688920"/>
              <a:ext cx="185040" cy="1156320"/>
            </a:xfrm>
            <a:prstGeom prst="bentConnector3">
              <a:avLst>
                <a:gd name="adj1" fmla="val 49902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98" name="_s31750"/>
            <p:cNvCxnSpPr>
              <a:stCxn id="99" idx="0"/>
              <a:endCxn id="97" idx="2"/>
            </p:cNvCxnSpPr>
            <p:nvPr/>
          </p:nvCxnSpPr>
          <p:spPr>
            <a:xfrm flipH="1" flipV="1" rot="5400000">
              <a:off x="5643720" y="3686760"/>
              <a:ext cx="185040" cy="1161000"/>
            </a:xfrm>
            <a:prstGeom prst="bentConnector3">
              <a:avLst>
                <a:gd name="adj1" fmla="val 49902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0" name="_s31751"/>
            <p:cNvCxnSpPr>
              <a:stCxn id="97" idx="0"/>
              <a:endCxn id="101" idx="2"/>
            </p:cNvCxnSpPr>
            <p:nvPr/>
          </p:nvCxnSpPr>
          <p:spPr>
            <a:xfrm flipV="1" rot="16200000">
              <a:off x="5355000" y="2586240"/>
              <a:ext cx="185040" cy="1738440"/>
            </a:xfrm>
            <a:prstGeom prst="bentConnector3">
              <a:avLst>
                <a:gd name="adj1" fmla="val 49902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2" name="_s31752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4194720" y="3164040"/>
              <a:ext cx="185040" cy="583200"/>
            </a:xfrm>
            <a:prstGeom prst="bentConnector3">
              <a:avLst>
                <a:gd name="adj1" fmla="val 49902"/>
              </a:avLst>
            </a:prstGeom>
            <a:ln w="28440">
              <a:solidFill>
                <a:srgbClr val="990033"/>
              </a:solidFill>
              <a:miter/>
            </a:ln>
          </p:spPr>
        </p:cxnSp>
        <p:cxnSp>
          <p:nvCxnSpPr>
            <p:cNvPr id="104" name="_s31753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3036600" y="2005920"/>
              <a:ext cx="185040" cy="2899080"/>
            </a:xfrm>
            <a:prstGeom prst="bentConnector3">
              <a:avLst>
                <a:gd name="adj1" fmla="val 49902"/>
              </a:avLst>
            </a:prstGeom>
            <a:ln w="28440">
              <a:solidFill>
                <a:srgbClr val="990033"/>
              </a:solidFill>
              <a:miter/>
            </a:ln>
          </p:spPr>
        </p:cxnSp>
        <p:sp>
          <p:nvSpPr>
            <p:cNvPr id="101" name="_s31754"/>
            <p:cNvSpPr/>
            <p:nvPr/>
          </p:nvSpPr>
          <p:spPr>
            <a:xfrm>
              <a:off x="3584160" y="2402280"/>
              <a:ext cx="1986480" cy="961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Kitchen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Eric Dennis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Assistant Chef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5" name="_s31755"/>
            <p:cNvSpPr/>
            <p:nvPr/>
          </p:nvSpPr>
          <p:spPr>
            <a:xfrm>
              <a:off x="685800" y="3548160"/>
              <a:ext cx="1986480" cy="6267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Senior Cook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G. Robinson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103" name="_s31756"/>
            <p:cNvSpPr/>
            <p:nvPr/>
          </p:nvSpPr>
          <p:spPr>
            <a:xfrm>
              <a:off x="3003480" y="3548160"/>
              <a:ext cx="1986840" cy="6267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Weekend Cook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S. Stefano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97" name="_s31757"/>
            <p:cNvSpPr/>
            <p:nvPr/>
          </p:nvSpPr>
          <p:spPr>
            <a:xfrm>
              <a:off x="5322240" y="3548160"/>
              <a:ext cx="1986840" cy="6267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Facilities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T. Conway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99" name="_s31758"/>
            <p:cNvSpPr/>
            <p:nvPr/>
          </p:nvSpPr>
          <p:spPr>
            <a:xfrm>
              <a:off x="4161600" y="4359600"/>
              <a:ext cx="1986840" cy="12906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Dishwashers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P. Redmond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L. Freeman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E. Stein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  <p:sp>
          <p:nvSpPr>
            <p:cNvPr id="96" name="_s31759"/>
            <p:cNvSpPr/>
            <p:nvPr/>
          </p:nvSpPr>
          <p:spPr>
            <a:xfrm>
              <a:off x="6480360" y="4359600"/>
              <a:ext cx="1986840" cy="12906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Janitors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S. Stuart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L. Hoosek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Tahoma"/>
                </a:rPr>
                <a:t>D. Johnson</a:t>
              </a:r>
              <a:endParaRPr b="0" lang="en-US" sz="1300" spc="-1" strike="noStrike">
                <a:solidFill>
                  <a:srgbClr val="99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1T00:09:40Z</dcterms:created>
  <dc:creator>Pat R. Graves</dc:creator>
  <dc:description/>
  <dc:language>en-US</dc:language>
  <cp:lastModifiedBy>Pat Graves</cp:lastModifiedBy>
  <cp:lastPrinted>1996-10-01T13:11:46Z</cp:lastPrinted>
  <dcterms:modified xsi:type="dcterms:W3CDTF">2004-03-21T16:30:18Z</dcterms:modified>
  <cp:revision>32</cp:revision>
  <dc:subject/>
  <dc:title>Food Preparation</dc:title>
</cp:coreProperties>
</file>