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950-C536-4C73-911E-2415993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69D-4D47-4D59-AEF3-22748ED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D71-680D-404B-9319-3A5B35B4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360-E0E7-4EB7-9D0D-2D2BF435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35D-C43F-4C9F-8508-99C3E39C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ED8C-5B87-47F5-A85C-72D52B1E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AF49-E710-4D18-8035-AADD3D2C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28E3-1D66-4671-B787-DA381758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7FFC-4D70-4B24-8865-54746A8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6CFA-CEDA-499E-9E2B-81D8FC96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545A-D25A-4087-BD16-B2C7804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4A6-EA09-449A-B8C0-E53D18EF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CA64-3F16-44A7-8EA5-59F75A6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8F56-CE36-4855-993A-4D4B9075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7C78-6EC9-4FD5-A8E7-2ED1140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651-466E-4325-9120-9DD817DB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95A4-2BC6-4100-ACC6-8A38A2DB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531-64A2-4DD5-9862-ABD12D3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B00-72FD-4EA9-B7D5-64BA00F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B73-17A6-4910-9EF2-454A09E2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09480" y="0"/>
            <a:ext cx="78487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BD6-69D9-4E05-888D-E720CF4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7AD-1425-4D42-9CEC-53E4E07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A13-6517-4178-86D6-5ECF527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9D3-753F-4F82-93A3-0D35F9F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3D00-756C-4038-A739-B4C9A3DA2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1371600"/>
            <a:ext cx="8498880" cy="228600"/>
            <a:chOff x="304920" y="1371600"/>
            <a:chExt cx="8498880" cy="228600"/>
          </a:xfrm>
        </p:grpSpPr>
        <p:sp>
          <p:nvSpPr>
            <p:cNvPr id="6" name=""/>
            <p:cNvSpPr/>
            <p:nvPr/>
          </p:nvSpPr>
          <p:spPr>
            <a:xfrm>
              <a:off x="30492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53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0652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7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095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603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129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637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145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2671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179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3687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9213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4721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229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75560" y="137160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5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276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676-D758-4E50-A1DC-29029EE42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048120"/>
            <a:ext cx="8498880" cy="228600"/>
            <a:chOff x="304920" y="3048120"/>
            <a:chExt cx="8498880" cy="228600"/>
          </a:xfrm>
        </p:grpSpPr>
        <p:sp>
          <p:nvSpPr>
            <p:cNvPr id="64" name=""/>
            <p:cNvSpPr/>
            <p:nvPr/>
          </p:nvSpPr>
          <p:spPr>
            <a:xfrm>
              <a:off x="30492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53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652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587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095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603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129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637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45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671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179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687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213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721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229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75560" y="3048120"/>
              <a:ext cx="228240" cy="22860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60093"/>
              </a:buClr>
              <a:buFont typeface="Wingdings 2" charset="2"/>
              <a:buChar char="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 Black"/>
              </a:rPr>
              <a:t>Personnel Procedures</a:t>
            </a:r>
            <a:endParaRPr b="0" lang="en-US" sz="66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29000" y="4114800"/>
            <a:ext cx="5410080" cy="175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ndling Employee Grievan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Do It Right!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a good liste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take s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employee to manager fir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ak with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follow 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</a:rPr>
              <a:t>Issues</a:t>
            </a:r>
            <a:endParaRPr b="0" lang="en-US" sz="4400" spc="-1" strike="noStrike">
              <a:solidFill>
                <a:srgbClr val="66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 all convers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all EEOC complaints to Senior Manag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5:36:12Z</dcterms:created>
  <dc:creator>Pat R. Graves</dc:creator>
  <dc:description/>
  <dc:language>en-US</dc:language>
  <cp:lastModifiedBy>Student Name</cp:lastModifiedBy>
  <dcterms:modified xsi:type="dcterms:W3CDTF">2004-04-11T04:24:31Z</dcterms:modified>
  <cp:revision>7</cp:revision>
  <dc:subject/>
  <dc:title>Personnel Procedures</dc:title>
</cp:coreProperties>
</file>