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E38-BD72-4F57-80D4-BD6A5012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505-2AE3-4B3D-B1A8-D97626C8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DDE-5898-4419-9A37-40F24A13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0D7-7EFD-451A-A5FA-89ABE37A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7808-D439-4422-B7CB-2784B5A2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7DB4-F2B8-44B5-A0F8-BDBEEE88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BF9F-25BD-4FEF-85A4-743A3E61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3612-1E7D-4600-BC91-5DB7080A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8672-8ADC-454C-870E-8F991440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C29C-F2A4-4CA1-8F7E-7567C4C6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370A-DFCA-4238-B954-D52D9E83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4CD-C5C7-4CC1-88ED-D47EF8C8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5E12-3A35-4E31-9A19-70F2D2B6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A60B-4DB8-48E7-A649-6A971E7E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1BEC-B6B0-455D-8D5C-538ACA19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15C5-94B1-4870-8ADE-F42DC909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5763-5F70-4BAE-B394-1699CD1F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A66-B204-413B-8417-70E06075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6C16-32F2-4656-8C36-39885D87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3BF-87AA-4576-A851-5F3E9DB9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C2ED-B32F-47B5-86D8-F42F3DAB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4B3-94C4-4BAA-918B-4084B9AA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4052-18DB-420D-A64D-277D6EBF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273A-2ED1-4F74-9E1A-2A4F1FAD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12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EB14-EAB3-4AF9-BA01-1CB182CAF68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4f5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4f56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1AC2-20E5-444C-B585-C0E32170FC9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MIS Department Change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477120" y="4573440"/>
            <a:ext cx="1599840" cy="646200"/>
            <a:chOff x="6477120" y="4573440"/>
            <a:chExt cx="1599840" cy="646200"/>
          </a:xfrm>
        </p:grpSpPr>
        <p:sp>
          <p:nvSpPr>
            <p:cNvPr id="210" name=""/>
            <p:cNvSpPr txBox="1"/>
            <p:nvPr/>
          </p:nvSpPr>
          <p:spPr>
            <a:xfrm>
              <a:off x="7631280" y="4819320"/>
              <a:ext cx="445680" cy="40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7237800" y="4676040"/>
              <a:ext cx="577080" cy="543600"/>
              <a:chOff x="7237800" y="4676040"/>
              <a:chExt cx="577080" cy="543600"/>
            </a:xfrm>
          </p:grpSpPr>
          <p:sp>
            <p:nvSpPr>
              <p:cNvPr id="212" name=""/>
              <p:cNvSpPr/>
              <p:nvPr/>
            </p:nvSpPr>
            <p:spPr>
              <a:xfrm>
                <a:off x="7237800" y="4676040"/>
                <a:ext cx="577080" cy="5436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399800" y="4734360"/>
                <a:ext cx="267120" cy="3027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40458c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 txBox="1"/>
            <p:nvPr/>
          </p:nvSpPr>
          <p:spPr>
            <a:xfrm>
              <a:off x="6477120" y="4573440"/>
              <a:ext cx="1075680" cy="383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IS Department Expan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f89f7"/>
              </a:buClr>
              <a:buSzPct val="12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 Department divided into two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r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f89f7"/>
              </a:buClr>
              <a:buSzPct val="12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new positions cre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Administr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ount Mana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ior Program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1T20:09:16Z</dcterms:created>
  <dc:creator>Pat R. Graves</dc:creator>
  <dc:description/>
  <dc:language>en-US</dc:language>
  <cp:lastModifiedBy>Pat Graves</cp:lastModifiedBy>
  <cp:lastPrinted>1997-08-01T14:52:26Z</cp:lastPrinted>
  <dcterms:modified xsi:type="dcterms:W3CDTF">2004-03-21T18:21:10Z</dcterms:modified>
  <cp:revision>31</cp:revision>
  <dc:subject/>
  <dc:title>MIS Department Changes</dc:title>
</cp:coreProperties>
</file>