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B586-AC74-4104-B521-66066A971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5497-D7C9-4D2E-8607-C68BD470F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C489-E60C-4C95-9CC5-D84A08754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A554-FD07-4B3A-AB6A-EB5A76876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644F-D948-4529-BB57-AFD3C1DA5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1C86-D26F-4230-9815-E444BBFB6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85D8-6C27-4F80-9EA1-7BA4414C3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B27C-4DD3-4762-BA48-294F63FC4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BD1D-1EB9-459B-A197-45A25139C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3383-8E9E-44BD-8F39-7881A9F4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2655-F709-4393-A106-94692181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E17D-9F68-4BD2-867E-9CE033FF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6220F-736F-4140-B4C6-B26316E85F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85800" y="2933640"/>
            <a:ext cx="8001000" cy="3375000"/>
            <a:chOff x="685800" y="2933640"/>
            <a:chExt cx="8001000" cy="3375000"/>
          </a:xfrm>
        </p:grpSpPr>
        <p:sp>
          <p:nvSpPr>
            <p:cNvPr id="42" name=""/>
            <p:cNvSpPr txBox="1"/>
            <p:nvPr/>
          </p:nvSpPr>
          <p:spPr>
            <a:xfrm>
              <a:off x="2253240" y="3600000"/>
              <a:ext cx="4637520" cy="2041560"/>
            </a:xfrm>
            <a:prstGeom prst="rect">
              <a:avLst/>
            </a:prstGeom>
            <a:solidFill>
              <a:srgbClr val="960096"/>
            </a:solidFill>
            <a:ln cap="rnd" w="38160">
              <a:solidFill>
                <a:srgbClr val="1c001c"/>
              </a:solidFill>
              <a:custDash>
                <a:ds d="100000" sp="1000"/>
              </a:custDash>
              <a:miter/>
            </a:ln>
          </p:spPr>
          <p:txBody>
            <a:bodyPr lIns="90000" rIns="90000" tIns="46800" bIns="4680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New Year’s Bash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December 31, 1999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New York City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85800" y="2933640"/>
              <a:ext cx="8001000" cy="3375000"/>
            </a:xfrm>
            <a:custGeom>
              <a:avLst/>
              <a:gdLst>
                <a:gd name="textAreaLeft" fmla="*/ 1826280 w 8001000"/>
                <a:gd name="textAreaRight" fmla="*/ 6174720 w 8001000"/>
                <a:gd name="textAreaTop" fmla="*/ 770400 h 3375000"/>
                <a:gd name="textAreaBottom" fmla="*/ 2604600 h 3375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cc00cc"/>
            </a:solidFill>
            <a:ln cap="rnd" w="38160">
              <a:solidFill>
                <a:srgbClr val="1c001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Arial"/>
                </a:rPr>
                <a:t>New Year’s Bash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Arial"/>
                </a:rPr>
                <a:t>December 31, 2004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Arial"/>
                </a:rPr>
                <a:t>New York City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" name=""/>
          <p:cNvSpPr txBox="1"/>
          <p:nvPr/>
        </p:nvSpPr>
        <p:spPr>
          <a:xfrm>
            <a:off x="609480" y="304920"/>
            <a:ext cx="792504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Good 4 U</a:t>
            </a:r>
            <a:endParaRPr b="0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9T15:31:49Z</dcterms:created>
  <dc:creator>Pat R. Graves</dc:creator>
  <dc:description/>
  <dc:language>en-US</dc:language>
  <cp:lastModifiedBy>Pat Graves</cp:lastModifiedBy>
  <dcterms:modified xsi:type="dcterms:W3CDTF">2004-03-21T18:17:50Z</dcterms:modified>
  <cp:revision>6</cp:revision>
  <dc:subject/>
  <dc:title>New Year's Bash</dc:title>
</cp:coreProperties>
</file>