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710-2B94-4DE2-B6CD-ED0A6C46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B73-718C-4025-A140-29BC2628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DD8-CA7A-4301-A45E-7090F7A4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99C-28B8-467F-9769-710120DA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F099-11B9-42C8-AC29-7EF3ED9A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CBBA-75B9-4337-8EAF-F20E4EC5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94E0-6755-43A2-9C99-63554947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AEBD-F02A-43DF-94BA-D8D31FF7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B64-1AC1-4F29-AF8F-A00E1B1E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292320" y="75960"/>
            <a:ext cx="9752400" cy="67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D7D2-05E8-42DB-8A57-CE765BDF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9498-97FA-49B1-80FB-4F0814D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18B-4332-44E1-AA15-AF9A783A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6DA6-6EDA-4827-A017-AC8BF14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9F2E-DB94-40A7-A2B8-B00CB41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3482-B897-4D1F-BBB1-BE1A699D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D3A-1B34-4CB7-BA6C-1944F491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424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0760" y="194940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424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0760" y="4115520"/>
            <a:ext cx="24534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A195-340A-4097-AA74-B19FC6C6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99C-BB8D-492C-8EB7-B6A7AFD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444-8DB8-4C2C-8EE7-D14B4F36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F57-3D3E-43FA-88E1-D04C34D1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292320" y="75960"/>
            <a:ext cx="9752400" cy="672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7B4-7DA5-486E-BD25-5885BE87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BFB-7C50-4A1D-81B0-42DC9E2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11552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52C-1BC2-43D5-A367-AF7ACF8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noFill/>
          <a:ln w="0">
            <a:noFill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49400"/>
            <a:ext cx="37184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115520"/>
            <a:ext cx="762012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B3B-08F6-4CB4-940B-F228E673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292320" y="75960"/>
            <a:ext cx="9752400" cy="145152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851040" indent="-285840">
              <a:spcBef>
                <a:spcPts val="799"/>
              </a:spcBef>
              <a:buClr>
                <a:srgbClr val="4c4cc6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2" marL="119376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A49-DDBB-4F45-B00F-9A08121E4AEE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7280" y="1159920"/>
            <a:ext cx="9718560" cy="211500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9388-2D13-4389-A6F3-0AC2A0CA54D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  <a:p>
            <a:pPr lvl="2" marL="914400" indent="50760" algn="ctr">
              <a:spcBef>
                <a:spcPts val="601"/>
              </a:spcBef>
              <a:buClr>
                <a:srgbClr val="808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287640" y="1571040"/>
            <a:ext cx="9719280" cy="129312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182880" bIns="18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Retail Sale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581280" y="3255840"/>
            <a:ext cx="2285640" cy="922320"/>
            <a:chOff x="3581280" y="3255840"/>
            <a:chExt cx="2285640" cy="922320"/>
          </a:xfrm>
        </p:grpSpPr>
        <p:sp>
          <p:nvSpPr>
            <p:cNvPr id="84" name=""/>
            <p:cNvSpPr txBox="1"/>
            <p:nvPr/>
          </p:nvSpPr>
          <p:spPr>
            <a:xfrm>
              <a:off x="5230080" y="360684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668120" y="3402360"/>
              <a:ext cx="824040" cy="775440"/>
              <a:chOff x="4668120" y="3402360"/>
              <a:chExt cx="824040" cy="775440"/>
            </a:xfrm>
          </p:grpSpPr>
          <p:sp>
            <p:nvSpPr>
              <p:cNvPr id="86" name=""/>
              <p:cNvSpPr/>
              <p:nvPr/>
            </p:nvSpPr>
            <p:spPr>
              <a:xfrm>
                <a:off x="4668120" y="340236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99600" y="348588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3581280" y="325584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292680" y="408960"/>
            <a:ext cx="9754200" cy="78156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tail Perform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-Shirts outsold all other products combined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Majority of products sold at special events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wo new product lines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851040" indent="-285840">
              <a:spcBef>
                <a:spcPts val="700"/>
              </a:spcBef>
              <a:buClr>
                <a:srgbClr val="4c4cc6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Bike jerseys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  <a:p>
            <a:pPr lvl="1" marL="851040" indent="-285840">
              <a:spcBef>
                <a:spcPts val="700"/>
              </a:spcBef>
              <a:buClr>
                <a:srgbClr val="4c4cc6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Visors</a:t>
            </a:r>
            <a:endParaRPr b="0" lang="en-US" sz="28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292680" y="408960"/>
            <a:ext cx="9754200" cy="781560"/>
          </a:xfrm>
          <a:prstGeom prst="rect">
            <a:avLst/>
          </a:prstGeom>
          <a:solidFill>
            <a:srgbClr val="4c4cc6"/>
          </a:solidFill>
          <a:ln w="114480">
            <a:solidFill>
              <a:srgbClr val="808080"/>
            </a:solidFill>
            <a:miter/>
          </a:ln>
        </p:spPr>
        <p:txBody>
          <a:bodyPr lIns="685800" rIns="6858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rection of Ret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1949400"/>
            <a:ext cx="76201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rademark licensing increasing significantly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egotiating with major NYC retail outlets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450720" indent="-450720">
              <a:spcBef>
                <a:spcPts val="799"/>
              </a:spcBef>
              <a:buClr>
                <a:srgbClr val="cc3399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ew products under development</a:t>
            </a:r>
            <a:endParaRPr b="0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a2a2"/>
            </a:gs>
            <a:gs pos="50000">
              <a:srgbClr val="ffffff"/>
            </a:gs>
            <a:gs pos="100000">
              <a:srgbClr val="a2a2a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3840" y="1567080"/>
            <a:ext cx="8895960" cy="1676160"/>
            <a:chOff x="123840" y="1567080"/>
            <a:chExt cx="8895960" cy="1676160"/>
          </a:xfrm>
        </p:grpSpPr>
        <p:cxnSp>
          <p:nvCxnSpPr>
            <p:cNvPr id="94" name="_s2086"/>
            <p:cNvCxnSpPr>
              <a:stCxn id="95" idx="0"/>
              <a:endCxn id="96" idx="2"/>
            </p:cNvCxnSpPr>
            <p:nvPr/>
          </p:nvCxnSpPr>
          <p:spPr>
            <a:xfrm flipV="1" rot="16200000">
              <a:off x="8031240" y="2154960"/>
              <a:ext cx="210600" cy="112644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7" name="_s2084"/>
            <p:cNvCxnSpPr>
              <a:stCxn id="98" idx="0"/>
              <a:endCxn id="96" idx="2"/>
            </p:cNvCxnSpPr>
            <p:nvPr/>
          </p:nvCxnSpPr>
          <p:spPr>
            <a:xfrm flipV="1" rot="16200000">
              <a:off x="7656480" y="2529720"/>
              <a:ext cx="210600" cy="37656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_s2082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7281720" y="2530800"/>
              <a:ext cx="210600" cy="37512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1" name="_s2080"/>
            <p:cNvCxnSpPr>
              <a:stCxn id="102" idx="0"/>
              <a:endCxn id="96" idx="2"/>
            </p:cNvCxnSpPr>
            <p:nvPr/>
          </p:nvCxnSpPr>
          <p:spPr>
            <a:xfrm flipH="1" flipV="1" rot="5400000">
              <a:off x="6905880" y="2154960"/>
              <a:ext cx="210600" cy="112644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3" name="_s207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029200" y="2154960"/>
              <a:ext cx="210600" cy="112644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6" name="_s2076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4654440" y="2529720"/>
              <a:ext cx="210600" cy="37656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" name="_s2074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4279680" y="2530800"/>
              <a:ext cx="210600" cy="37512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" name="_s2072"/>
            <p:cNvCxnSpPr>
              <a:stCxn id="111" idx="0"/>
              <a:endCxn id="105" idx="2"/>
            </p:cNvCxnSpPr>
            <p:nvPr/>
          </p:nvCxnSpPr>
          <p:spPr>
            <a:xfrm flipH="1" flipV="1" rot="5400000">
              <a:off x="3903840" y="2154960"/>
              <a:ext cx="210600" cy="112644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2" name="_s2070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2027160" y="2154960"/>
              <a:ext cx="210600" cy="112644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5" name="_s2068"/>
            <p:cNvCxnSpPr>
              <a:stCxn id="116" idx="0"/>
              <a:endCxn id="114" idx="2"/>
            </p:cNvCxnSpPr>
            <p:nvPr/>
          </p:nvCxnSpPr>
          <p:spPr>
            <a:xfrm flipV="1" rot="16200000">
              <a:off x="1652400" y="2529720"/>
              <a:ext cx="210600" cy="37656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7" name="_s2066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1277280" y="2530800"/>
              <a:ext cx="210600" cy="37512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9" name="_s2064"/>
            <p:cNvCxnSpPr>
              <a:stCxn id="120" idx="0"/>
              <a:endCxn id="114" idx="2"/>
            </p:cNvCxnSpPr>
            <p:nvPr/>
          </p:nvCxnSpPr>
          <p:spPr>
            <a:xfrm flipH="1" flipV="1" rot="5400000">
              <a:off x="901440" y="2154960"/>
              <a:ext cx="210600" cy="1126440"/>
            </a:xfrm>
            <a:prstGeom prst="bentConnector3">
              <a:avLst>
                <a:gd name="adj1" fmla="val 4948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1" name="_s2062"/>
            <p:cNvCxnSpPr>
              <a:stCxn id="96" idx="0"/>
              <a:endCxn id="122" idx="2"/>
            </p:cNvCxnSpPr>
            <p:nvPr/>
          </p:nvCxnSpPr>
          <p:spPr>
            <a:xfrm flipV="1" rot="16200000">
              <a:off x="5967360" y="587160"/>
              <a:ext cx="210600" cy="3002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3" name="_s2060"/>
            <p:cNvCxnSpPr>
              <a:stCxn id="105" idx="0"/>
              <a:endCxn id="122" idx="2"/>
            </p:cNvCxnSpPr>
            <p:nvPr/>
          </p:nvCxnSpPr>
          <p:spPr>
            <a:xfrm flipV="1">
              <a:off x="4571640" y="1983240"/>
              <a:ext cx="1080" cy="2106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4" name="_s2058"/>
            <p:cNvCxnSpPr>
              <a:stCxn id="114" idx="0"/>
              <a:endCxn id="122" idx="2"/>
            </p:cNvCxnSpPr>
            <p:nvPr/>
          </p:nvCxnSpPr>
          <p:spPr>
            <a:xfrm flipH="1" flipV="1" rot="5400000">
              <a:off x="2965680" y="587160"/>
              <a:ext cx="210600" cy="30027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2" name="_s2056"/>
            <p:cNvSpPr/>
            <p:nvPr/>
          </p:nvSpPr>
          <p:spPr>
            <a:xfrm>
              <a:off x="3486960" y="1567080"/>
              <a:ext cx="2169720" cy="41652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Retail Items - Spring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7"/>
            <p:cNvSpPr/>
            <p:nvPr/>
          </p:nvSpPr>
          <p:spPr>
            <a:xfrm>
              <a:off x="1249560" y="219384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th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2059"/>
            <p:cNvSpPr/>
            <p:nvPr/>
          </p:nvSpPr>
          <p:spPr>
            <a:xfrm>
              <a:off x="4251600" y="219384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 G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2061"/>
            <p:cNvSpPr/>
            <p:nvPr/>
          </p:nvSpPr>
          <p:spPr>
            <a:xfrm>
              <a:off x="7253640" y="219384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orts G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3"/>
            <p:cNvSpPr/>
            <p:nvPr/>
          </p:nvSpPr>
          <p:spPr>
            <a:xfrm>
              <a:off x="12384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nim Shi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5"/>
            <p:cNvSpPr/>
            <p:nvPr/>
          </p:nvSpPr>
          <p:spPr>
            <a:xfrm>
              <a:off x="87408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ylon Sho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67"/>
            <p:cNvSpPr/>
            <p:nvPr/>
          </p:nvSpPr>
          <p:spPr>
            <a:xfrm>
              <a:off x="162468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ke Jerse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2069"/>
            <p:cNvSpPr/>
            <p:nvPr/>
          </p:nvSpPr>
          <p:spPr>
            <a:xfrm>
              <a:off x="237528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eat P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71"/>
            <p:cNvSpPr/>
            <p:nvPr/>
          </p:nvSpPr>
          <p:spPr>
            <a:xfrm>
              <a:off x="312588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cket H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73"/>
            <p:cNvSpPr/>
            <p:nvPr/>
          </p:nvSpPr>
          <p:spPr>
            <a:xfrm>
              <a:off x="387612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n Vis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75"/>
            <p:cNvSpPr/>
            <p:nvPr/>
          </p:nvSpPr>
          <p:spPr>
            <a:xfrm>
              <a:off x="462672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weat Ba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2077"/>
            <p:cNvSpPr/>
            <p:nvPr/>
          </p:nvSpPr>
          <p:spPr>
            <a:xfrm>
              <a:off x="537732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ball H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2079"/>
            <p:cNvSpPr/>
            <p:nvPr/>
          </p:nvSpPr>
          <p:spPr>
            <a:xfrm>
              <a:off x="612792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ter Bott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2081"/>
            <p:cNvSpPr/>
            <p:nvPr/>
          </p:nvSpPr>
          <p:spPr>
            <a:xfrm>
              <a:off x="687852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 Pa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2083"/>
            <p:cNvSpPr/>
            <p:nvPr/>
          </p:nvSpPr>
          <p:spPr>
            <a:xfrm>
              <a:off x="762912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rist Gu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085"/>
            <p:cNvSpPr/>
            <p:nvPr/>
          </p:nvSpPr>
          <p:spPr>
            <a:xfrm>
              <a:off x="8379360" y="2823480"/>
              <a:ext cx="640440" cy="419760"/>
            </a:xfrm>
            <a:prstGeom prst="rect">
              <a:avLst/>
            </a:prstGeom>
            <a:solidFill>
              <a:srgbClr val="4c4cc6"/>
            </a:solidFill>
            <a:ln w="12600">
              <a:solidFill>
                <a:srgbClr val="4c4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ercise M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20:37:43Z</dcterms:created>
  <dc:creator>Pat R. Graves</dc:creator>
  <dc:description/>
  <dc:language>en-US</dc:language>
  <cp:lastModifiedBy>Ms. Malnick</cp:lastModifiedBy>
  <dcterms:modified xsi:type="dcterms:W3CDTF">2004-04-13T21:57:41Z</dcterms:modified>
  <cp:revision>11</cp:revision>
  <dc:subject/>
  <dc:title>Retail Sales</dc:title>
</cp:coreProperties>
</file>