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EA9-67E3-4FAC-80F9-8CD20A77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2BA-D9F8-4E9A-A760-69E02BBA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83E-996C-4388-AEA7-353D8F41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A2C-7A61-4B6B-971D-7F01761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492-861A-4E99-A88B-9AAF4BA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FCC-7256-4E89-8158-52CDF39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134-07D9-43CB-8325-D02F1C80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0DB-4FD5-4DB4-A3F5-C0548B4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981-8311-4F74-8775-A20AA01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554-E4C0-424B-BB33-0FCFACC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E52-3252-4D60-ABAB-F5D02A5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318-5D3E-478D-8A42-09D349F5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65A-A243-4C9F-8E55-FAA65A492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coun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Head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full-time and part-tim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number of part-time weekend employees, especially service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count changes seas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Headcount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ermanent part-time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he number of full-time service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ruit college students for part-time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comprehensive benefits package for all part-ti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5T20:04:54Z</dcterms:created>
  <dc:creator>Marple</dc:creator>
  <dc:description/>
  <dc:language>en-US</dc:language>
  <cp:lastModifiedBy>Pat Graves</cp:lastModifiedBy>
  <dcterms:modified xsi:type="dcterms:W3CDTF">2004-03-21T20:41:03Z</dcterms:modified>
  <cp:revision>10</cp:revision>
  <dc:subject/>
  <dc:title>Headcount Analysis</dc:title>
</cp:coreProperties>
</file>