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7A4-DA3D-4F85-BCEA-56EF943C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037-B259-468C-B059-19631AD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CE0-DEF5-45B6-824A-12E7D61B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7024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720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328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7024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3720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7B6-69D5-4B06-861C-E1421864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BDDB-08A1-49B8-A263-33682730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DE71-D9B9-49B5-B367-C795E29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8A10-1106-4340-B5EA-22C44190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344A-3FA9-4C95-BCEE-49CBCD9E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A9A-D0F9-42F8-B0A0-9F802FAD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16CF-8F12-4464-A6C3-86DA69C1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B783-DFD5-458A-9327-1260A75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A1E-81FB-4E99-9160-AF781085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E467-16AA-4136-96A0-AA2DFC2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E49-1D90-4AA2-B9CD-1B449F4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EC46-6233-48DF-8D9E-600E30B3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F412-81FB-4390-90DD-1A9AA017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7024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37200" y="209664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0328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7024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37200" y="4203720"/>
            <a:ext cx="263484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D0A-D582-41B9-9F15-75F1DEE3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FFE-3348-497E-A51A-5A26461F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13B-083F-4305-B1A2-3D5421E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214-54AC-4D85-952E-E067CB78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1D0-5CBA-442A-919D-74D188C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8B7-26B9-4D66-9EB3-84F14ADB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96920" y="420372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17D-55A5-4A97-AD81-45C1F79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920" y="2096640"/>
            <a:ext cx="39934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203720"/>
            <a:ext cx="81835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F25-02B0-4BB7-90D2-E56A5596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925F-97A8-49B3-AB31-2ECC8BB6E3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6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439F-FF36-4318-9F87-E8536B7C26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ccccff"/>
                </a:solidFill>
                <a:latin typeface="Arial"/>
              </a:rPr>
              <a:t>Diet and Exercise</a:t>
            </a:r>
            <a:endParaRPr b="1" lang="en-US" sz="6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92280"/>
            <a:ext cx="6248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Walk to Good Health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hort walks several times each day keep your heart in shap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lking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Reduces the risk of heart disease and cancer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owers cholesterol, blood pressure, and stress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lking is a mood elevat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Walkers’ Breakfast</a:t>
            </a:r>
            <a:endParaRPr b="1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2096640"/>
            <a:ext cx="81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alf-hour walks through Central Park led by a Good 4 U gu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Weekdays starting at 5:30, 6:30, and 7:30 a.m.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Weekends starting at 8, 9, and 10 a.m.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arn discounts on Good 4 U breakfa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Coupons earned for miles walked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Coupons earned for healthy meals ordered</a:t>
            </a:r>
            <a:endParaRPr b="1" lang="en-US" sz="26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Student Name</cp:lastModifiedBy>
  <cp:lastPrinted>1996-12-10T19:20:34Z</cp:lastPrinted>
  <dcterms:modified xsi:type="dcterms:W3CDTF">2004-04-11T04:26:03Z</dcterms:modified>
  <cp:revision>52</cp:revision>
  <dc:subject/>
  <dc:title>Be Heart Smart! </dc:title>
</cp:coreProperties>
</file>