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7DF-0A76-4B28-B4C6-5906C6F8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D92-9DE1-4BD0-A04E-92B44D09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D5C-199F-407B-8D29-796900A0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FC7-1AC1-4F71-B027-BFCD27FD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CAB0-7F63-4570-8381-3C62DB06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DBBC-AD7E-45FB-A58C-3822E095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7F69-1822-4BA2-AE32-4900D16B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5746-F5DA-4563-929D-4DADCFED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9B97-4FEA-4A3C-A3D8-1A539904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7541-A678-4CBF-B018-EF7B5988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417A-DB0E-41E3-A250-3915E1CE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D0E-0413-433B-B015-F9BD8E58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DDE1-6A26-46C7-8759-EA544BDD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A3FE-18B2-4DDB-8890-5140D616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F11-3EF6-48B1-B215-4F0BA249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BD7D-066A-4D4F-ACDD-7F55EE4B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3EB1-3A28-40BB-907A-98D21580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242-5B35-43BA-AAED-BC8716CD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1C2-11BE-41A5-93BC-BF1B0F0E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7E1-DD7C-424B-BF76-32C7374F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B63-08A7-4F77-9F28-26530A33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281-F8EE-4523-9ADB-08D93D0B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C77-D26C-4377-83D3-D1CA4F7D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810-331A-4DBE-8CF2-676486D9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"/>
          <p:cNvSpPr/>
          <p:nvPr/>
        </p:nvSpPr>
        <p:spPr>
          <a:xfrm>
            <a:off x="533520" y="-12600"/>
            <a:ext cx="8610480" cy="866520"/>
          </a:xfrm>
          <a:prstGeom prst="rect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3C3B-E09D-48E9-B4E0-2B0D7146E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167520"/>
            <a:ext cx="1371240" cy="538200"/>
            <a:chOff x="7620120" y="6167520"/>
            <a:chExt cx="1371240" cy="538200"/>
          </a:xfrm>
        </p:grpSpPr>
        <p:sp>
          <p:nvSpPr>
            <p:cNvPr id="47" name=""/>
            <p:cNvSpPr txBox="1"/>
            <p:nvPr/>
          </p:nvSpPr>
          <p:spPr>
            <a:xfrm>
              <a:off x="8609400" y="6372360"/>
              <a:ext cx="3819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8272080" y="6252840"/>
              <a:ext cx="494640" cy="452520"/>
              <a:chOff x="8272080" y="6252840"/>
              <a:chExt cx="494640" cy="452520"/>
            </a:xfrm>
          </p:grpSpPr>
          <p:sp>
            <p:nvSpPr>
              <p:cNvPr id="49" name=""/>
              <p:cNvSpPr/>
              <p:nvPr/>
            </p:nvSpPr>
            <p:spPr>
              <a:xfrm>
                <a:off x="8272080" y="6252840"/>
                <a:ext cx="4946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11040" y="6301440"/>
                <a:ext cx="22896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 txBox="1"/>
            <p:nvPr/>
          </p:nvSpPr>
          <p:spPr>
            <a:xfrm>
              <a:off x="7620120" y="6167520"/>
              <a:ext cx="921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87480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33520" y="914400"/>
            <a:ext cx="8610480" cy="1752480"/>
          </a:xfrm>
          <a:prstGeom prst="rect">
            <a:avLst/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F9E6-222D-4CC3-BC5C-00029AB81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Employee Meeting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1320" y="5105520"/>
            <a:ext cx="2895480" cy="1168200"/>
            <a:chOff x="5791320" y="5105520"/>
            <a:chExt cx="2895480" cy="1168200"/>
          </a:xfrm>
        </p:grpSpPr>
        <p:sp>
          <p:nvSpPr>
            <p:cNvPr id="175" name=""/>
            <p:cNvSpPr txBox="1"/>
            <p:nvPr/>
          </p:nvSpPr>
          <p:spPr>
            <a:xfrm>
              <a:off x="7880040" y="5550120"/>
              <a:ext cx="806760" cy="72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167960" y="5291280"/>
              <a:ext cx="1044000" cy="982440"/>
              <a:chOff x="7167960" y="5291280"/>
              <a:chExt cx="1044000" cy="98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167960" y="5291280"/>
                <a:ext cx="1044000" cy="982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1000" y="5397120"/>
                <a:ext cx="483120" cy="54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5791320" y="5105520"/>
              <a:ext cx="19461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ganization Chang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3:04:04Z</dcterms:created>
  <dc:creator>Pat R. Graves</dc:creator>
  <dc:description/>
  <dc:language>en-US</dc:language>
  <cp:lastModifiedBy>Student Name</cp:lastModifiedBy>
  <dcterms:modified xsi:type="dcterms:W3CDTF">2004-04-11T04:30:03Z</dcterms:modified>
  <cp:revision>16</cp:revision>
  <dc:subject/>
  <dc:title>Employee Meeting</dc:title>
</cp:coreProperties>
</file>