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844-3969-4AA5-8D16-568B31AB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979-8878-4019-9D61-357E0F1E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CE2-3C4A-4001-B30F-4C3E07C9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9BD-FDB1-43A2-9A5D-3167850C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F9BA-357B-4D93-BB1E-E2167C81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2E2E-E50C-4E58-84DB-DEBAB9DE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25D0-7B69-4361-A096-AB2766BB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D105-8C59-4F1D-B2EB-AE3D660F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231E-ADD4-441D-8BCD-84C625D6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CABC-E39F-499F-8289-D0AA3C50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B61E-B1B8-4E3F-978B-D626D24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CC2-410E-4BC2-B7DC-E116E206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094F-C1D1-4CF9-917E-ECAFA30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60B-F3C5-4C46-950B-554F3B9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261-49BB-4BA0-B6E3-81F3A691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51C7-4DB2-404E-AEAD-8A5834BB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26F-409E-4169-B758-91AF1C87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918-0960-48A4-B9CF-FCE65272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403-AAFE-413A-BC6D-6275454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2E5-77DF-49B5-B78F-AD9C720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326-018C-4500-97C5-D1B49997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890-FC70-4C2D-A929-64A9FD4D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58C-3E83-4CFC-84FE-5019A10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5AB-9409-4C02-A1CC-C7BD4245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5d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c5d69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D3E-7D9E-47FA-A194-4544CA6B04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595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595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5d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D4EC-F8CD-4EB5-87A5-A95346C2AE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575"/>
              </a:spcBef>
              <a:buClr>
                <a:srgbClr val="c5d69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Operations 2004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ervations Poli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812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 Policy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taurant currently accepts no reserv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agement considering instituting reservations poli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urrently receive steady reservation requests, especially for dinn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: Advantages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management to control volume more efficient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feature of higher-caliber restaura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: Disadvantages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feres with image of casual di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alienate steady custom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t known how it would affect walk-in traff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22:50Z</dcterms:created>
  <dc:creator>Pat R. Graves</dc:creator>
  <dc:description/>
  <dc:language>en-US</dc:language>
  <cp:lastModifiedBy>Pat Graves</cp:lastModifiedBy>
  <cp:lastPrinted>1997-10-13T15:32:24Z</cp:lastPrinted>
  <dcterms:modified xsi:type="dcterms:W3CDTF">2004-03-31T20:15:24Z</dcterms:modified>
  <cp:revision>33</cp:revision>
  <dc:subject/>
  <dc:title>Reservations Policy</dc:title>
</cp:coreProperties>
</file>