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E1D-8BC2-49FD-8D64-8A722E40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E08-58A3-4D2E-A921-40280A0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9EF-A94C-449E-A839-141473DF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889-32CC-4E3A-948F-0FD0892B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541C-E528-4A52-BBE7-CE420FCA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D89-6653-4FCB-A838-7630E66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9F0-0343-4C29-ABAC-AFA67856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763E-285C-4CB6-865C-335C362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364-5776-4410-94A4-06B9CB7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08DB-ED78-4B2D-90AF-0290F69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5F1-2063-44A6-98D1-ED310AD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821-9040-49C7-A72F-3105F481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9E4-A28A-4977-B3DE-72A1705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A1A1-551F-4942-A058-6289074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7047-39AC-4284-A18E-88C70AA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EBE-25B1-474D-9DC7-D71092DF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0458-5D73-4078-A28A-0DE208CF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175-08F8-4242-B2D1-1B48579E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B13-D9D8-4A75-A340-0CAD0A3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781-A111-4858-8BDB-E882DEC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066-F7A1-41CD-B036-F5642664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007-5D18-47BF-8D12-0F53135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E3C-1C0F-49E0-AF81-861467E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97E-A76F-4BFC-93DD-8B01412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552-80B1-4014-999C-BB2DB77D9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E5D5-798C-43D3-B069-9401DCD02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16T04:37:52Z</dcterms:modified>
  <cp:revision>22</cp:revision>
  <dc:subject/>
  <dc:title>Marketing Our Restaurant</dc:title>
</cp:coreProperties>
</file>