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85800" y="42760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4276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68480" y="4276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85800" y="4276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313800" y="4276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941440" y="4276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85800" y="4276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68480" y="4276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85800" y="42760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85800" y="42760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4276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68480" y="4276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685800" y="4276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313800" y="4276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5941440" y="4276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85800" y="4276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68480" y="4276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85800" y="42760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6760" cy="3297240"/>
            <a:chOff x="6273360" y="-21600"/>
            <a:chExt cx="2966760" cy="329724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3068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4" name=""/>
            <p:cNvSpPr/>
            <p:nvPr/>
          </p:nvSpPr>
          <p:spPr>
            <a:xfrm>
              <a:off x="7797960" y="1444680"/>
              <a:ext cx="1006200" cy="753840"/>
            </a:xfrm>
            <a:prstGeom prst="ellipse">
              <a:avLst/>
            </a:prstGeom>
            <a:gradFill rotWithShape="0">
              <a:gsLst>
                <a:gs pos="0">
                  <a:srgbClr val="af273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159760" y="1774800"/>
              <a:ext cx="243000" cy="141480"/>
            </a:xfrm>
            <a:prstGeom prst="ellipse">
              <a:avLst/>
            </a:prstGeom>
            <a:gradFill rotWithShape="0">
              <a:gsLst>
                <a:gs pos="0">
                  <a:srgbClr val="ff8b17"/>
                </a:gs>
                <a:gs pos="100000">
                  <a:srgbClr val="af273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329520" y="0"/>
              <a:ext cx="1004760" cy="754200"/>
            </a:xfrm>
            <a:prstGeom prst="ellipse">
              <a:avLst/>
            </a:prstGeom>
            <a:gradFill rotWithShape="0">
              <a:gsLst>
                <a:gs pos="0">
                  <a:srgbClr val="af273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689880" y="330120"/>
              <a:ext cx="242640" cy="141480"/>
            </a:xfrm>
            <a:prstGeom prst="ellipse">
              <a:avLst/>
            </a:prstGeom>
            <a:gradFill rotWithShape="0">
              <a:gsLst>
                <a:gs pos="0">
                  <a:srgbClr val="ff8b17"/>
                </a:gs>
                <a:gs pos="100000">
                  <a:srgbClr val="af273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grpSp>
          <p:nvGrpSpPr>
            <p:cNvPr id="8" name=""/>
            <p:cNvGrpSpPr/>
            <p:nvPr/>
          </p:nvGrpSpPr>
          <p:grpSpPr>
            <a:xfrm>
              <a:off x="6991200" y="403200"/>
              <a:ext cx="1498680" cy="1104840"/>
              <a:chOff x="6991200" y="403200"/>
              <a:chExt cx="1498680" cy="1104840"/>
            </a:xfrm>
          </p:grpSpPr>
          <p:sp>
            <p:nvSpPr>
              <p:cNvPr id="9" name=""/>
              <p:cNvSpPr/>
              <p:nvPr/>
            </p:nvSpPr>
            <p:spPr>
              <a:xfrm>
                <a:off x="6991200" y="403200"/>
                <a:ext cx="1498680" cy="1104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564320" y="808200"/>
                <a:ext cx="297000" cy="207720"/>
              </a:xfrm>
              <a:prstGeom prst="ellipse">
                <a:avLst/>
              </a:prstGeom>
              <a:gradFill rotWithShape="0">
                <a:gsLst>
                  <a:gs pos="0">
                    <a:srgbClr val="ffe103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 rot="2711400">
              <a:off x="7761600" y="1132920"/>
              <a:ext cx="882720" cy="16020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ffe1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rot="2711400">
              <a:off x="8404560" y="1600560"/>
              <a:ext cx="474840" cy="25092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rot="2103600">
              <a:off x="7811640" y="1022400"/>
              <a:ext cx="930240" cy="17784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ffe1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rot="2103600">
              <a:off x="8575560" y="1425600"/>
              <a:ext cx="500040" cy="27936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e1f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rot="1582800">
              <a:off x="7827840" y="925560"/>
              <a:ext cx="890640" cy="15552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ffe1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1582800">
              <a:off x="8621640" y="1226880"/>
              <a:ext cx="478080" cy="24444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e1f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80000">
              <a:off x="7841880" y="823680"/>
              <a:ext cx="860400" cy="17136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ffe1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080000">
              <a:off x="8648280" y="1029960"/>
              <a:ext cx="461880" cy="27000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e1f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463200">
              <a:off x="7859880" y="711000"/>
              <a:ext cx="792000" cy="16020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ffe1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463200">
              <a:off x="8635680" y="797040"/>
              <a:ext cx="425520" cy="25056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e1f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21515400">
              <a:off x="7872120" y="646200"/>
              <a:ext cx="720720" cy="11268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ffe1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21515400">
              <a:off x="8588160" y="636120"/>
              <a:ext cx="387360" cy="17640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e1f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20797200">
              <a:off x="7848720" y="565200"/>
              <a:ext cx="633240" cy="10944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ffe1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20797200">
              <a:off x="8474040" y="457200"/>
              <a:ext cx="339840" cy="17136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e1f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rot="18888600">
              <a:off x="6791400" y="1195200"/>
              <a:ext cx="884160" cy="16092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e103"/>
                </a:gs>
                <a:gs pos="100000">
                  <a:srgbClr val="fe1f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rot="18888600">
              <a:off x="6555960" y="1664280"/>
              <a:ext cx="474480" cy="25092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flipH="1" rot="19496400">
              <a:off x="6671160" y="1112760"/>
              <a:ext cx="930240" cy="17820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e103"/>
                </a:gs>
                <a:gs pos="100000">
                  <a:srgbClr val="fe1f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flipH="1" rot="19496400">
              <a:off x="6338160" y="1515960"/>
              <a:ext cx="500040" cy="27936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flipH="1" rot="20017200">
              <a:off x="6696000" y="1017720"/>
              <a:ext cx="890640" cy="15552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e103"/>
                </a:gs>
                <a:gs pos="100000">
                  <a:srgbClr val="fe1f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H="1" rot="20017200">
              <a:off x="6314400" y="1319040"/>
              <a:ext cx="477720" cy="24264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H="1" rot="20520000">
              <a:off x="6711480" y="915480"/>
              <a:ext cx="860400" cy="17136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e103"/>
                </a:gs>
                <a:gs pos="100000">
                  <a:srgbClr val="fe1f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H="1" rot="20520000">
              <a:off x="6303600" y="1120320"/>
              <a:ext cx="461880" cy="27036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 flipH="1" rot="21136800">
              <a:off x="6761880" y="801720"/>
              <a:ext cx="792360" cy="16020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e103"/>
                </a:gs>
                <a:gs pos="100000">
                  <a:srgbClr val="fe1f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 flipH="1" rot="21136800">
              <a:off x="6352200" y="887400"/>
              <a:ext cx="425520" cy="25056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 flipH="1" rot="84600">
              <a:off x="6820560" y="736560"/>
              <a:ext cx="720720" cy="11268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e103"/>
                </a:gs>
                <a:gs pos="100000">
                  <a:srgbClr val="fe1f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flipH="1" rot="84600">
              <a:off x="6438600" y="726840"/>
              <a:ext cx="387360" cy="17568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 rot="802800">
              <a:off x="6932520" y="655560"/>
              <a:ext cx="633600" cy="10908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e103"/>
                </a:gs>
                <a:gs pos="100000">
                  <a:srgbClr val="fe1f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flipH="1" rot="802800">
              <a:off x="6600960" y="547200"/>
              <a:ext cx="339480" cy="17172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grpSp>
          <p:nvGrpSpPr>
            <p:cNvPr id="39" name=""/>
            <p:cNvGrpSpPr/>
            <p:nvPr/>
          </p:nvGrpSpPr>
          <p:grpSpPr>
            <a:xfrm>
              <a:off x="6637680" y="390240"/>
              <a:ext cx="967680" cy="452880"/>
              <a:chOff x="6637680" y="390240"/>
              <a:chExt cx="967680" cy="452880"/>
            </a:xfrm>
          </p:grpSpPr>
          <p:sp>
            <p:nvSpPr>
              <p:cNvPr id="40" name=""/>
              <p:cNvSpPr/>
              <p:nvPr/>
            </p:nvSpPr>
            <p:spPr>
              <a:xfrm flipH="1" rot="1278000">
                <a:off x="6973200" y="620280"/>
                <a:ext cx="633240" cy="11124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e103"/>
                  </a:gs>
                  <a:gs pos="100000">
                    <a:srgbClr val="fe1f0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flipH="1" rot="1278000">
                <a:off x="6657480" y="446040"/>
                <a:ext cx="339840" cy="17460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6751080" y="221760"/>
              <a:ext cx="902520" cy="627840"/>
              <a:chOff x="6751080" y="221760"/>
              <a:chExt cx="902520" cy="627840"/>
            </a:xfrm>
          </p:grpSpPr>
          <p:sp>
            <p:nvSpPr>
              <p:cNvPr id="43" name=""/>
              <p:cNvSpPr/>
              <p:nvPr/>
            </p:nvSpPr>
            <p:spPr>
              <a:xfrm flipH="1" rot="2028600">
                <a:off x="7042680" y="572760"/>
                <a:ext cx="633600" cy="10944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e103"/>
                  </a:gs>
                  <a:gs pos="100000">
                    <a:srgbClr val="fe1f0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flipH="1" rot="2028600">
                <a:off x="6770520" y="301320"/>
                <a:ext cx="339840" cy="17316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45" name=""/>
            <p:cNvGrpSpPr/>
            <p:nvPr/>
          </p:nvGrpSpPr>
          <p:grpSpPr>
            <a:xfrm>
              <a:off x="6867360" y="57960"/>
              <a:ext cx="826560" cy="761760"/>
              <a:chOff x="6867360" y="57960"/>
              <a:chExt cx="826560" cy="761760"/>
            </a:xfrm>
          </p:grpSpPr>
          <p:sp>
            <p:nvSpPr>
              <p:cNvPr id="46" name=""/>
              <p:cNvSpPr/>
              <p:nvPr/>
            </p:nvSpPr>
            <p:spPr>
              <a:xfrm flipH="1" rot="2664600">
                <a:off x="7105680" y="501120"/>
                <a:ext cx="641160" cy="10980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e103"/>
                  </a:gs>
                  <a:gs pos="100000">
                    <a:srgbClr val="fe1f0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flipH="1" rot="2664600">
                <a:off x="6878520" y="153720"/>
                <a:ext cx="344520" cy="17280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7111080" y="16560"/>
              <a:ext cx="609120" cy="785880"/>
              <a:chOff x="7111080" y="16560"/>
              <a:chExt cx="609120" cy="785880"/>
            </a:xfrm>
          </p:grpSpPr>
          <p:sp>
            <p:nvSpPr>
              <p:cNvPr id="49" name=""/>
              <p:cNvSpPr/>
              <p:nvPr/>
            </p:nvSpPr>
            <p:spPr>
              <a:xfrm flipH="1" rot="3474000">
                <a:off x="7239960" y="477720"/>
                <a:ext cx="565200" cy="11124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e103"/>
                  </a:gs>
                  <a:gs pos="100000">
                    <a:srgbClr val="fe1f0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flipH="1" rot="3474000">
                <a:off x="7112520" y="104400"/>
                <a:ext cx="303480" cy="17280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7288920" y="-21600"/>
              <a:ext cx="464760" cy="808920"/>
              <a:chOff x="7288920" y="-21600"/>
              <a:chExt cx="464760" cy="808920"/>
            </a:xfrm>
          </p:grpSpPr>
          <p:sp>
            <p:nvSpPr>
              <p:cNvPr id="52" name=""/>
              <p:cNvSpPr/>
              <p:nvPr/>
            </p:nvSpPr>
            <p:spPr>
              <a:xfrm flipH="1" rot="4126800">
                <a:off x="7332480" y="459720"/>
                <a:ext cx="542880" cy="10944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e103"/>
                  </a:gs>
                  <a:gs pos="100000">
                    <a:srgbClr val="fe1f0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 rot="4126800">
                <a:off x="7276320" y="59040"/>
                <a:ext cx="291960" cy="17316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7792200" y="272520"/>
              <a:ext cx="964080" cy="462600"/>
              <a:chOff x="7792200" y="272520"/>
              <a:chExt cx="964080" cy="462600"/>
            </a:xfrm>
          </p:grpSpPr>
          <p:sp>
            <p:nvSpPr>
              <p:cNvPr id="55" name=""/>
              <p:cNvSpPr/>
              <p:nvPr/>
            </p:nvSpPr>
            <p:spPr>
              <a:xfrm rot="20274000">
                <a:off x="7789680" y="509400"/>
                <a:ext cx="631800" cy="11088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ffe10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0274000">
                <a:off x="8395920" y="329760"/>
                <a:ext cx="339840" cy="17316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e1f0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57" name=""/>
            <p:cNvGrpSpPr/>
            <p:nvPr/>
          </p:nvGrpSpPr>
          <p:grpSpPr>
            <a:xfrm>
              <a:off x="7737120" y="135720"/>
              <a:ext cx="916200" cy="606240"/>
              <a:chOff x="7737120" y="135720"/>
              <a:chExt cx="916200" cy="606240"/>
            </a:xfrm>
          </p:grpSpPr>
          <p:sp>
            <p:nvSpPr>
              <p:cNvPr id="58" name=""/>
              <p:cNvSpPr/>
              <p:nvPr/>
            </p:nvSpPr>
            <p:spPr>
              <a:xfrm rot="19678800">
                <a:off x="7718040" y="471240"/>
                <a:ext cx="633600" cy="11088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ffe10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9678800">
                <a:off x="8292600" y="212400"/>
                <a:ext cx="339840" cy="17460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e1f0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 flipH="1" rot="4578600">
              <a:off x="7420320" y="486360"/>
              <a:ext cx="526680" cy="7452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e103"/>
                </a:gs>
                <a:gs pos="100000">
                  <a:srgbClr val="fe1f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 rot="4578600">
              <a:off x="7431120" y="100440"/>
              <a:ext cx="282600" cy="11916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7665480" y="-11520"/>
              <a:ext cx="497880" cy="790560"/>
              <a:chOff x="7665480" y="-11520"/>
              <a:chExt cx="497880" cy="790560"/>
            </a:xfrm>
          </p:grpSpPr>
          <p:sp>
            <p:nvSpPr>
              <p:cNvPr id="63" name=""/>
              <p:cNvSpPr/>
              <p:nvPr/>
            </p:nvSpPr>
            <p:spPr>
              <a:xfrm rot="17742000">
                <a:off x="7553880" y="465480"/>
                <a:ext cx="544680" cy="9504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ffe10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17742000">
                <a:off x="7887600" y="78120"/>
                <a:ext cx="291960" cy="14760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e1f0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7663320" y="38880"/>
              <a:ext cx="785520" cy="747360"/>
              <a:chOff x="7663320" y="38880"/>
              <a:chExt cx="785520" cy="747360"/>
            </a:xfrm>
          </p:grpSpPr>
          <p:sp>
            <p:nvSpPr>
              <p:cNvPr id="66" name=""/>
              <p:cNvSpPr/>
              <p:nvPr/>
            </p:nvSpPr>
            <p:spPr>
              <a:xfrm rot="18822600">
                <a:off x="7621560" y="455400"/>
                <a:ext cx="592200" cy="13788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ffe10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8822600">
                <a:off x="8102160" y="120240"/>
                <a:ext cx="317520" cy="21600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e1f0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7709040" y="-360"/>
              <a:ext cx="177480" cy="745560"/>
              <a:chOff x="7709040" y="-360"/>
              <a:chExt cx="177480" cy="745560"/>
            </a:xfrm>
          </p:grpSpPr>
          <p:sp>
            <p:nvSpPr>
              <p:cNvPr id="69" name=""/>
              <p:cNvSpPr/>
              <p:nvPr/>
            </p:nvSpPr>
            <p:spPr>
              <a:xfrm rot="16696200">
                <a:off x="7521480" y="477720"/>
                <a:ext cx="488880" cy="4428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ffe10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440" bIns="-144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16696200">
                <a:off x="7702560" y="99360"/>
                <a:ext cx="261720" cy="6840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e1f0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6710760" y="929880"/>
              <a:ext cx="913320" cy="1248480"/>
              <a:chOff x="6710760" y="929880"/>
              <a:chExt cx="913320" cy="1248480"/>
            </a:xfrm>
          </p:grpSpPr>
          <p:sp>
            <p:nvSpPr>
              <p:cNvPr id="72" name=""/>
              <p:cNvSpPr/>
              <p:nvPr/>
            </p:nvSpPr>
            <p:spPr>
              <a:xfrm flipH="1" rot="18336000">
                <a:off x="6859440" y="1255680"/>
                <a:ext cx="884160" cy="16020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e103"/>
                  </a:gs>
                  <a:gs pos="100000">
                    <a:srgbClr val="fe1f0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18336000">
                <a:off x="6713280" y="1786680"/>
                <a:ext cx="474840" cy="25092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7015680" y="979920"/>
              <a:ext cx="615600" cy="1247040"/>
              <a:chOff x="7015680" y="979920"/>
              <a:chExt cx="615600" cy="1247040"/>
            </a:xfrm>
          </p:grpSpPr>
          <p:sp>
            <p:nvSpPr>
              <p:cNvPr id="75" name=""/>
              <p:cNvSpPr/>
              <p:nvPr/>
            </p:nvSpPr>
            <p:spPr>
              <a:xfrm flipH="1" rot="17543400">
                <a:off x="6992640" y="1308240"/>
                <a:ext cx="817560" cy="15984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e103"/>
                  </a:gs>
                  <a:gs pos="100000">
                    <a:srgbClr val="fe1f0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17543400">
                <a:off x="6995520" y="1850760"/>
                <a:ext cx="438120" cy="25128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7311240" y="1000080"/>
              <a:ext cx="364320" cy="1217880"/>
              <a:chOff x="7311240" y="1000080"/>
              <a:chExt cx="364320" cy="1217880"/>
            </a:xfrm>
          </p:grpSpPr>
          <p:sp>
            <p:nvSpPr>
              <p:cNvPr id="78" name=""/>
              <p:cNvSpPr/>
              <p:nvPr/>
            </p:nvSpPr>
            <p:spPr>
              <a:xfrm flipH="1" rot="16870800">
                <a:off x="7134840" y="1326960"/>
                <a:ext cx="785880" cy="14472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e103"/>
                  </a:gs>
                  <a:gs pos="100000">
                    <a:srgbClr val="fe1f0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16870800">
                <a:off x="7251480" y="1877040"/>
                <a:ext cx="420840" cy="22536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798320" y="910080"/>
              <a:ext cx="951480" cy="1229040"/>
              <a:chOff x="7798320" y="910080"/>
              <a:chExt cx="951480" cy="1229040"/>
            </a:xfrm>
          </p:grpSpPr>
          <p:sp>
            <p:nvSpPr>
              <p:cNvPr id="81" name=""/>
              <p:cNvSpPr/>
              <p:nvPr/>
            </p:nvSpPr>
            <p:spPr>
              <a:xfrm rot="3144000">
                <a:off x="7689240" y="1229040"/>
                <a:ext cx="884160" cy="16020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ffe10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3144000">
                <a:off x="8267400" y="1747440"/>
                <a:ext cx="474840" cy="25236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7787160" y="955080"/>
              <a:ext cx="732240" cy="1262880"/>
              <a:chOff x="7787160" y="955080"/>
              <a:chExt cx="732240" cy="1262880"/>
            </a:xfrm>
          </p:grpSpPr>
          <p:sp>
            <p:nvSpPr>
              <p:cNvPr id="84" name=""/>
              <p:cNvSpPr/>
              <p:nvPr/>
            </p:nvSpPr>
            <p:spPr>
              <a:xfrm rot="3745200">
                <a:off x="7628040" y="1288800"/>
                <a:ext cx="846360" cy="15408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ffe10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3745200">
                <a:off x="8080200" y="1839960"/>
                <a:ext cx="454320" cy="24120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7757640" y="1004760"/>
              <a:ext cx="509760" cy="1242720"/>
              <a:chOff x="7757640" y="1004760"/>
              <a:chExt cx="509760" cy="1242720"/>
            </a:xfrm>
          </p:grpSpPr>
          <p:sp>
            <p:nvSpPr>
              <p:cNvPr id="87" name=""/>
              <p:cNvSpPr/>
              <p:nvPr/>
            </p:nvSpPr>
            <p:spPr>
              <a:xfrm rot="4286400">
                <a:off x="7536960" y="1351080"/>
                <a:ext cx="820800" cy="12528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ffe10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4286400">
                <a:off x="7882200" y="1907280"/>
                <a:ext cx="441360" cy="19836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7733880" y="1058760"/>
              <a:ext cx="290160" cy="1155240"/>
              <a:chOff x="7733880" y="1058760"/>
              <a:chExt cx="290160" cy="1155240"/>
            </a:xfrm>
          </p:grpSpPr>
          <p:sp>
            <p:nvSpPr>
              <p:cNvPr id="90" name=""/>
              <p:cNvSpPr/>
              <p:nvPr/>
            </p:nvSpPr>
            <p:spPr>
              <a:xfrm rot="4898400">
                <a:off x="7474320" y="1377360"/>
                <a:ext cx="753840" cy="12708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ffe10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4898400">
                <a:off x="7694280" y="1900080"/>
                <a:ext cx="404640" cy="19836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7501320" y="1078200"/>
              <a:ext cx="275400" cy="1130040"/>
              <a:chOff x="7501320" y="1078200"/>
              <a:chExt cx="275400" cy="1130040"/>
            </a:xfrm>
          </p:grpSpPr>
          <p:sp>
            <p:nvSpPr>
              <p:cNvPr id="93" name=""/>
              <p:cNvSpPr/>
              <p:nvPr/>
            </p:nvSpPr>
            <p:spPr>
              <a:xfrm rot="5755200">
                <a:off x="7323120" y="1401480"/>
                <a:ext cx="736560" cy="9504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e103"/>
                  </a:gs>
                  <a:gs pos="100000">
                    <a:srgbClr val="fe1f0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5755200">
                <a:off x="7398720" y="1928160"/>
                <a:ext cx="395280" cy="15084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 flipH="1">
              <a:off x="7296120" y="1222200"/>
              <a:ext cx="249120" cy="758880"/>
            </a:xfrm>
            <a:custGeom>
              <a:avLst/>
              <a:gdLst/>
              <a:ahLst/>
              <a:rect l="l" t="t" r="r" b="b"/>
              <a:pathLst>
                <a:path w="776" h="2368">
                  <a:moveTo>
                    <a:pt x="0" y="64"/>
                  </a:moveTo>
                  <a:cubicBezTo>
                    <a:pt x="112" y="32"/>
                    <a:pt x="224" y="0"/>
                    <a:pt x="240" y="16"/>
                  </a:cubicBezTo>
                  <a:cubicBezTo>
                    <a:pt x="256" y="32"/>
                    <a:pt x="80" y="136"/>
                    <a:pt x="96" y="160"/>
                  </a:cubicBezTo>
                  <a:cubicBezTo>
                    <a:pt x="112" y="184"/>
                    <a:pt x="320" y="136"/>
                    <a:pt x="336" y="160"/>
                  </a:cubicBezTo>
                  <a:cubicBezTo>
                    <a:pt x="352" y="184"/>
                    <a:pt x="184" y="272"/>
                    <a:pt x="192" y="304"/>
                  </a:cubicBezTo>
                  <a:cubicBezTo>
                    <a:pt x="200" y="336"/>
                    <a:pt x="368" y="328"/>
                    <a:pt x="384" y="352"/>
                  </a:cubicBezTo>
                  <a:cubicBezTo>
                    <a:pt x="400" y="376"/>
                    <a:pt x="272" y="424"/>
                    <a:pt x="288" y="448"/>
                  </a:cubicBezTo>
                  <a:cubicBezTo>
                    <a:pt x="304" y="472"/>
                    <a:pt x="464" y="472"/>
                    <a:pt x="480" y="496"/>
                  </a:cubicBezTo>
                  <a:cubicBezTo>
                    <a:pt x="496" y="520"/>
                    <a:pt x="376" y="568"/>
                    <a:pt x="384" y="592"/>
                  </a:cubicBezTo>
                  <a:cubicBezTo>
                    <a:pt x="392" y="616"/>
                    <a:pt x="512" y="616"/>
                    <a:pt x="528" y="640"/>
                  </a:cubicBezTo>
                  <a:cubicBezTo>
                    <a:pt x="544" y="664"/>
                    <a:pt x="472" y="704"/>
                    <a:pt x="480" y="736"/>
                  </a:cubicBezTo>
                  <a:cubicBezTo>
                    <a:pt x="488" y="768"/>
                    <a:pt x="560" y="800"/>
                    <a:pt x="576" y="832"/>
                  </a:cubicBezTo>
                  <a:cubicBezTo>
                    <a:pt x="592" y="864"/>
                    <a:pt x="560" y="888"/>
                    <a:pt x="576" y="928"/>
                  </a:cubicBezTo>
                  <a:cubicBezTo>
                    <a:pt x="592" y="968"/>
                    <a:pt x="664" y="1024"/>
                    <a:pt x="672" y="1072"/>
                  </a:cubicBezTo>
                  <a:cubicBezTo>
                    <a:pt x="680" y="1120"/>
                    <a:pt x="616" y="1176"/>
                    <a:pt x="624" y="1216"/>
                  </a:cubicBezTo>
                  <a:cubicBezTo>
                    <a:pt x="632" y="1256"/>
                    <a:pt x="712" y="1272"/>
                    <a:pt x="720" y="1312"/>
                  </a:cubicBezTo>
                  <a:cubicBezTo>
                    <a:pt x="728" y="1352"/>
                    <a:pt x="672" y="1408"/>
                    <a:pt x="672" y="1456"/>
                  </a:cubicBezTo>
                  <a:cubicBezTo>
                    <a:pt x="672" y="1504"/>
                    <a:pt x="720" y="1560"/>
                    <a:pt x="720" y="1600"/>
                  </a:cubicBezTo>
                  <a:cubicBezTo>
                    <a:pt x="720" y="1640"/>
                    <a:pt x="664" y="1656"/>
                    <a:pt x="672" y="1696"/>
                  </a:cubicBezTo>
                  <a:cubicBezTo>
                    <a:pt x="680" y="1736"/>
                    <a:pt x="760" y="1792"/>
                    <a:pt x="768" y="1840"/>
                  </a:cubicBezTo>
                  <a:cubicBezTo>
                    <a:pt x="776" y="1888"/>
                    <a:pt x="720" y="1928"/>
                    <a:pt x="720" y="1984"/>
                  </a:cubicBezTo>
                  <a:cubicBezTo>
                    <a:pt x="720" y="2040"/>
                    <a:pt x="768" y="2136"/>
                    <a:pt x="768" y="2176"/>
                  </a:cubicBezTo>
                  <a:cubicBezTo>
                    <a:pt x="768" y="2216"/>
                    <a:pt x="720" y="2192"/>
                    <a:pt x="720" y="2224"/>
                  </a:cubicBezTo>
                  <a:cubicBezTo>
                    <a:pt x="720" y="2256"/>
                    <a:pt x="744" y="2312"/>
                    <a:pt x="768" y="2368"/>
                  </a:cubicBezTo>
                </a:path>
              </a:pathLst>
            </a:custGeom>
            <a:noFill/>
            <a:ln w="9360">
              <a:solidFill>
                <a:srgbClr val="ff8b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6842880" y="911160"/>
              <a:ext cx="2181240" cy="2364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534" y="352"/>
                  </a:moveTo>
                  <a:arcTo wR="10800" hR="10800" stAng="-4520282" swAng="46324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3534" y="352"/>
                  </a:moveTo>
                  <a:arcTo wR="10800" hR="10800" stAng="-4520282" swAng="4632450"/>
                </a:path>
              </a:pathLst>
            </a:custGeom>
            <a:noFill/>
            <a:ln w="9360">
              <a:solidFill>
                <a:srgbClr val="fe1f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7691040" y="234000"/>
              <a:ext cx="1549080" cy="209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52" y="16026"/>
                  </a:moveTo>
                  <a:arcTo wR="10800" hR="10800" stAng="1736257" swAng="70008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52" y="16026"/>
                  </a:moveTo>
                  <a:arcTo wR="10800" hR="10800" stAng="1736257" swAng="7000867"/>
                </a:path>
              </a:pathLst>
            </a:custGeom>
            <a:noFill/>
            <a:ln w="9360">
              <a:solidFill>
                <a:srgbClr val="ff8b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6954840" y="758880"/>
              <a:ext cx="949680" cy="2363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130" y="643"/>
                  </a:moveTo>
                  <a:arcTo wR="10800" hR="10800" stAng="-6591856" swAng="6704025"/>
                  <a:lnTo>
                    <a:pt x="10800" y="10800"/>
                  </a:lnTo>
                  <a:close/>
                </a:path>
                <a:path fill="none" w="21600" h="21600">
                  <a:moveTo>
                    <a:pt x="7130" y="643"/>
                  </a:moveTo>
                  <a:arcTo wR="10800" hR="10800" stAng="-6591856" swAng="6704025"/>
                </a:path>
              </a:pathLst>
            </a:custGeom>
            <a:noFill/>
            <a:ln w="9360">
              <a:solidFill>
                <a:srgbClr val="ff8b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6502320" y="822240"/>
              <a:ext cx="1466640" cy="2360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364" y="953"/>
                  </a:moveTo>
                  <a:arcTo wR="10800" hR="10800" stAng="-6855230" swAng="6967398"/>
                  <a:lnTo>
                    <a:pt x="10800" y="10800"/>
                  </a:lnTo>
                  <a:close/>
                </a:path>
                <a:path fill="none" w="21600" h="21600">
                  <a:moveTo>
                    <a:pt x="6364" y="953"/>
                  </a:moveTo>
                  <a:arcTo wR="10800" hR="10800" stAng="-6855230" swAng="6967398"/>
                </a:path>
              </a:pathLst>
            </a:custGeom>
            <a:noFill/>
            <a:ln w="9360">
              <a:solidFill>
                <a:srgbClr val="fe1f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6411240" y="600120"/>
              <a:ext cx="1528200" cy="2363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373" y="2121"/>
                  </a:moveTo>
                  <a:arcTo wR="10800" hR="10800" stAng="-7591271" swAng="7703439"/>
                  <a:lnTo>
                    <a:pt x="10800" y="10800"/>
                  </a:lnTo>
                  <a:close/>
                </a:path>
                <a:path fill="none" w="21600" h="21600">
                  <a:moveTo>
                    <a:pt x="4373" y="2121"/>
                  </a:moveTo>
                  <a:arcTo wR="10800" hR="10800" stAng="-7591271" swAng="7703439"/>
                </a:path>
              </a:pathLst>
            </a:custGeom>
            <a:noFill/>
            <a:ln w="9360">
              <a:solidFill>
                <a:srgbClr val="fe1f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714440" y="771480"/>
              <a:ext cx="241920" cy="2363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194" y="2256"/>
                  </a:moveTo>
                  <a:arcTo wR="10800" hR="10800" stAng="-7662683" swAng="7774851"/>
                  <a:lnTo>
                    <a:pt x="10800" y="10800"/>
                  </a:lnTo>
                  <a:close/>
                </a:path>
                <a:path fill="none" w="21600" h="21600">
                  <a:moveTo>
                    <a:pt x="4194" y="2256"/>
                  </a:moveTo>
                  <a:arcTo wR="10800" hR="10800" stAng="-7662683" swAng="7774851"/>
                </a:path>
              </a:pathLst>
            </a:custGeom>
            <a:noFill/>
            <a:ln w="9360">
              <a:solidFill>
                <a:srgbClr val="ff8b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689960" y="765000"/>
              <a:ext cx="637560" cy="2364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194" y="2256"/>
                  </a:moveTo>
                  <a:arcTo wR="10800" hR="10800" stAng="-7662683" swAng="7774851"/>
                  <a:lnTo>
                    <a:pt x="10800" y="10800"/>
                  </a:lnTo>
                  <a:close/>
                </a:path>
                <a:path fill="none" w="21600" h="21600">
                  <a:moveTo>
                    <a:pt x="4194" y="2256"/>
                  </a:moveTo>
                  <a:arcTo wR="10800" hR="10800" stAng="-7662683" swAng="7774851"/>
                </a:path>
              </a:pathLst>
            </a:custGeom>
            <a:noFill/>
            <a:ln w="9360">
              <a:solidFill>
                <a:srgbClr val="fe1f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82040" y="606600"/>
              <a:ext cx="907560" cy="2363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194" y="2256"/>
                  </a:moveTo>
                  <a:arcTo wR="10800" hR="10800" stAng="-7662683" swAng="7774851"/>
                  <a:lnTo>
                    <a:pt x="10800" y="10800"/>
                  </a:lnTo>
                  <a:close/>
                </a:path>
                <a:path fill="none" w="21600" h="21600">
                  <a:moveTo>
                    <a:pt x="4194" y="2256"/>
                  </a:moveTo>
                  <a:arcTo wR="10800" hR="10800" stAng="-7662683" swAng="7774851"/>
                </a:path>
              </a:pathLst>
            </a:custGeom>
            <a:noFill/>
            <a:ln w="9360">
              <a:solidFill>
                <a:srgbClr val="ff8b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999560" y="1352520"/>
              <a:ext cx="247680" cy="758880"/>
            </a:xfrm>
            <a:custGeom>
              <a:avLst/>
              <a:gdLst/>
              <a:ahLst/>
              <a:rect l="l" t="t" r="r" b="b"/>
              <a:pathLst>
                <a:path w="776" h="2368">
                  <a:moveTo>
                    <a:pt x="0" y="64"/>
                  </a:moveTo>
                  <a:cubicBezTo>
                    <a:pt x="112" y="32"/>
                    <a:pt x="224" y="0"/>
                    <a:pt x="240" y="16"/>
                  </a:cubicBezTo>
                  <a:cubicBezTo>
                    <a:pt x="256" y="32"/>
                    <a:pt x="80" y="136"/>
                    <a:pt x="96" y="160"/>
                  </a:cubicBezTo>
                  <a:cubicBezTo>
                    <a:pt x="112" y="184"/>
                    <a:pt x="320" y="136"/>
                    <a:pt x="336" y="160"/>
                  </a:cubicBezTo>
                  <a:cubicBezTo>
                    <a:pt x="352" y="184"/>
                    <a:pt x="184" y="272"/>
                    <a:pt x="192" y="304"/>
                  </a:cubicBezTo>
                  <a:cubicBezTo>
                    <a:pt x="200" y="336"/>
                    <a:pt x="368" y="328"/>
                    <a:pt x="384" y="352"/>
                  </a:cubicBezTo>
                  <a:cubicBezTo>
                    <a:pt x="400" y="376"/>
                    <a:pt x="272" y="424"/>
                    <a:pt x="288" y="448"/>
                  </a:cubicBezTo>
                  <a:cubicBezTo>
                    <a:pt x="304" y="472"/>
                    <a:pt x="464" y="472"/>
                    <a:pt x="480" y="496"/>
                  </a:cubicBezTo>
                  <a:cubicBezTo>
                    <a:pt x="496" y="520"/>
                    <a:pt x="376" y="568"/>
                    <a:pt x="384" y="592"/>
                  </a:cubicBezTo>
                  <a:cubicBezTo>
                    <a:pt x="392" y="616"/>
                    <a:pt x="512" y="616"/>
                    <a:pt x="528" y="640"/>
                  </a:cubicBezTo>
                  <a:cubicBezTo>
                    <a:pt x="544" y="664"/>
                    <a:pt x="472" y="704"/>
                    <a:pt x="480" y="736"/>
                  </a:cubicBezTo>
                  <a:cubicBezTo>
                    <a:pt x="488" y="768"/>
                    <a:pt x="560" y="800"/>
                    <a:pt x="576" y="832"/>
                  </a:cubicBezTo>
                  <a:cubicBezTo>
                    <a:pt x="592" y="864"/>
                    <a:pt x="560" y="888"/>
                    <a:pt x="576" y="928"/>
                  </a:cubicBezTo>
                  <a:cubicBezTo>
                    <a:pt x="592" y="968"/>
                    <a:pt x="664" y="1024"/>
                    <a:pt x="672" y="1072"/>
                  </a:cubicBezTo>
                  <a:cubicBezTo>
                    <a:pt x="680" y="1120"/>
                    <a:pt x="616" y="1176"/>
                    <a:pt x="624" y="1216"/>
                  </a:cubicBezTo>
                  <a:cubicBezTo>
                    <a:pt x="632" y="1256"/>
                    <a:pt x="712" y="1272"/>
                    <a:pt x="720" y="1312"/>
                  </a:cubicBezTo>
                  <a:cubicBezTo>
                    <a:pt x="728" y="1352"/>
                    <a:pt x="672" y="1408"/>
                    <a:pt x="672" y="1456"/>
                  </a:cubicBezTo>
                  <a:cubicBezTo>
                    <a:pt x="672" y="1504"/>
                    <a:pt x="720" y="1560"/>
                    <a:pt x="720" y="1600"/>
                  </a:cubicBezTo>
                  <a:cubicBezTo>
                    <a:pt x="720" y="1640"/>
                    <a:pt x="664" y="1656"/>
                    <a:pt x="672" y="1696"/>
                  </a:cubicBezTo>
                  <a:cubicBezTo>
                    <a:pt x="680" y="1736"/>
                    <a:pt x="760" y="1792"/>
                    <a:pt x="768" y="1840"/>
                  </a:cubicBezTo>
                  <a:cubicBezTo>
                    <a:pt x="776" y="1888"/>
                    <a:pt x="720" y="1928"/>
                    <a:pt x="720" y="1984"/>
                  </a:cubicBezTo>
                  <a:cubicBezTo>
                    <a:pt x="720" y="2040"/>
                    <a:pt x="768" y="2136"/>
                    <a:pt x="768" y="2176"/>
                  </a:cubicBezTo>
                  <a:cubicBezTo>
                    <a:pt x="768" y="2216"/>
                    <a:pt x="720" y="2192"/>
                    <a:pt x="720" y="2224"/>
                  </a:cubicBezTo>
                  <a:cubicBezTo>
                    <a:pt x="720" y="2256"/>
                    <a:pt x="744" y="2312"/>
                    <a:pt x="768" y="2368"/>
                  </a:cubicBezTo>
                </a:path>
              </a:pathLst>
            </a:custGeom>
            <a:noFill/>
            <a:ln w="9360">
              <a:solidFill>
                <a:srgbClr val="ff8b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 rot="19660800">
              <a:off x="7612200" y="1103400"/>
              <a:ext cx="225360" cy="428040"/>
            </a:xfrm>
            <a:custGeom>
              <a:avLst/>
              <a:gdLst/>
              <a:ahLst/>
              <a:rect l="l" t="t" r="r" b="b"/>
              <a:pathLst>
                <a:path w="776" h="2368">
                  <a:moveTo>
                    <a:pt x="0" y="64"/>
                  </a:moveTo>
                  <a:cubicBezTo>
                    <a:pt x="112" y="32"/>
                    <a:pt x="224" y="0"/>
                    <a:pt x="240" y="16"/>
                  </a:cubicBezTo>
                  <a:cubicBezTo>
                    <a:pt x="256" y="32"/>
                    <a:pt x="80" y="136"/>
                    <a:pt x="96" y="160"/>
                  </a:cubicBezTo>
                  <a:cubicBezTo>
                    <a:pt x="112" y="184"/>
                    <a:pt x="320" y="136"/>
                    <a:pt x="336" y="160"/>
                  </a:cubicBezTo>
                  <a:cubicBezTo>
                    <a:pt x="352" y="184"/>
                    <a:pt x="184" y="272"/>
                    <a:pt x="192" y="304"/>
                  </a:cubicBezTo>
                  <a:cubicBezTo>
                    <a:pt x="200" y="336"/>
                    <a:pt x="368" y="328"/>
                    <a:pt x="384" y="352"/>
                  </a:cubicBezTo>
                  <a:cubicBezTo>
                    <a:pt x="400" y="376"/>
                    <a:pt x="272" y="424"/>
                    <a:pt x="288" y="448"/>
                  </a:cubicBezTo>
                  <a:cubicBezTo>
                    <a:pt x="304" y="472"/>
                    <a:pt x="464" y="472"/>
                    <a:pt x="480" y="496"/>
                  </a:cubicBezTo>
                  <a:cubicBezTo>
                    <a:pt x="496" y="520"/>
                    <a:pt x="376" y="568"/>
                    <a:pt x="384" y="592"/>
                  </a:cubicBezTo>
                  <a:cubicBezTo>
                    <a:pt x="392" y="616"/>
                    <a:pt x="512" y="616"/>
                    <a:pt x="528" y="640"/>
                  </a:cubicBezTo>
                  <a:cubicBezTo>
                    <a:pt x="544" y="664"/>
                    <a:pt x="472" y="704"/>
                    <a:pt x="480" y="736"/>
                  </a:cubicBezTo>
                  <a:cubicBezTo>
                    <a:pt x="488" y="768"/>
                    <a:pt x="560" y="800"/>
                    <a:pt x="576" y="832"/>
                  </a:cubicBezTo>
                  <a:cubicBezTo>
                    <a:pt x="592" y="864"/>
                    <a:pt x="560" y="888"/>
                    <a:pt x="576" y="928"/>
                  </a:cubicBezTo>
                  <a:cubicBezTo>
                    <a:pt x="592" y="968"/>
                    <a:pt x="664" y="1024"/>
                    <a:pt x="672" y="1072"/>
                  </a:cubicBezTo>
                  <a:cubicBezTo>
                    <a:pt x="680" y="1120"/>
                    <a:pt x="616" y="1176"/>
                    <a:pt x="624" y="1216"/>
                  </a:cubicBezTo>
                  <a:cubicBezTo>
                    <a:pt x="632" y="1256"/>
                    <a:pt x="712" y="1272"/>
                    <a:pt x="720" y="1312"/>
                  </a:cubicBezTo>
                  <a:cubicBezTo>
                    <a:pt x="728" y="1352"/>
                    <a:pt x="672" y="1408"/>
                    <a:pt x="672" y="1456"/>
                  </a:cubicBezTo>
                  <a:cubicBezTo>
                    <a:pt x="672" y="1504"/>
                    <a:pt x="720" y="1560"/>
                    <a:pt x="720" y="1600"/>
                  </a:cubicBezTo>
                  <a:cubicBezTo>
                    <a:pt x="720" y="1640"/>
                    <a:pt x="664" y="1656"/>
                    <a:pt x="672" y="1696"/>
                  </a:cubicBezTo>
                  <a:cubicBezTo>
                    <a:pt x="680" y="1736"/>
                    <a:pt x="760" y="1792"/>
                    <a:pt x="768" y="1840"/>
                  </a:cubicBezTo>
                  <a:cubicBezTo>
                    <a:pt x="776" y="1888"/>
                    <a:pt x="720" y="1928"/>
                    <a:pt x="720" y="1984"/>
                  </a:cubicBezTo>
                  <a:cubicBezTo>
                    <a:pt x="720" y="2040"/>
                    <a:pt x="768" y="2136"/>
                    <a:pt x="768" y="2176"/>
                  </a:cubicBezTo>
                  <a:cubicBezTo>
                    <a:pt x="768" y="2216"/>
                    <a:pt x="720" y="2192"/>
                    <a:pt x="720" y="2224"/>
                  </a:cubicBezTo>
                  <a:cubicBezTo>
                    <a:pt x="720" y="2256"/>
                    <a:pt x="744" y="2312"/>
                    <a:pt x="768" y="2368"/>
                  </a:cubicBezTo>
                </a:path>
              </a:pathLst>
            </a:custGeom>
            <a:noFill/>
            <a:ln w="9360">
              <a:solidFill>
                <a:srgbClr val="ffe1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6341400" y="417600"/>
              <a:ext cx="1528200" cy="2363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85" y="3141"/>
                  </a:moveTo>
                  <a:arcTo wR="10800" hR="10800" stAng="-8090128" swAng="8202296"/>
                  <a:lnTo>
                    <a:pt x="10800" y="10800"/>
                  </a:lnTo>
                  <a:close/>
                </a:path>
                <a:path fill="none" w="21600" h="21600">
                  <a:moveTo>
                    <a:pt x="3185" y="3141"/>
                  </a:moveTo>
                  <a:arcTo wR="10800" hR="10800" stAng="-8090128" swAng="8202296"/>
                </a:path>
              </a:pathLst>
            </a:custGeom>
            <a:noFill/>
            <a:ln w="9360">
              <a:solidFill>
                <a:srgbClr val="fe1f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6474240" y="160200"/>
              <a:ext cx="1283760" cy="236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85" y="5008"/>
                  </a:moveTo>
                  <a:arcTo wR="10800" hR="10800" stAng="-8854059" swAng="5805659"/>
                  <a:lnTo>
                    <a:pt x="10800" y="10800"/>
                  </a:lnTo>
                  <a:close/>
                </a:path>
                <a:path fill="none" w="21600" h="21600">
                  <a:moveTo>
                    <a:pt x="1685" y="5008"/>
                  </a:moveTo>
                  <a:arcTo wR="10800" hR="10800" stAng="-8854059" swAng="5805659"/>
                </a:path>
              </a:pathLst>
            </a:custGeom>
            <a:noFill/>
            <a:ln w="9360">
              <a:solidFill>
                <a:srgbClr val="ff8b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617960" y="657360"/>
              <a:ext cx="541080" cy="2364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194" y="2256"/>
                  </a:moveTo>
                  <a:arcTo wR="10800" hR="10800" stAng="-7662683" swAng="5630217"/>
                  <a:lnTo>
                    <a:pt x="10800" y="10800"/>
                  </a:lnTo>
                  <a:close/>
                </a:path>
                <a:path fill="none" w="21600" h="21600">
                  <a:moveTo>
                    <a:pt x="4194" y="2256"/>
                  </a:moveTo>
                  <a:arcTo wR="10800" hR="10800" stAng="-7662683" swAng="5630217"/>
                </a:path>
              </a:pathLst>
            </a:custGeom>
            <a:noFill/>
            <a:ln w="9360">
              <a:solidFill>
                <a:srgbClr val="ffe1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6554880" y="1284120"/>
              <a:ext cx="557280" cy="782640"/>
            </a:xfrm>
            <a:custGeom>
              <a:avLst/>
              <a:gdLst/>
              <a:ahLst/>
              <a:rect l="l" t="t" r="r" b="b"/>
              <a:pathLst>
                <a:path w="776" h="2368">
                  <a:moveTo>
                    <a:pt x="0" y="64"/>
                  </a:moveTo>
                  <a:cubicBezTo>
                    <a:pt x="112" y="32"/>
                    <a:pt x="224" y="0"/>
                    <a:pt x="240" y="16"/>
                  </a:cubicBezTo>
                  <a:cubicBezTo>
                    <a:pt x="256" y="32"/>
                    <a:pt x="80" y="136"/>
                    <a:pt x="96" y="160"/>
                  </a:cubicBezTo>
                  <a:cubicBezTo>
                    <a:pt x="112" y="184"/>
                    <a:pt x="320" y="136"/>
                    <a:pt x="336" y="160"/>
                  </a:cubicBezTo>
                  <a:cubicBezTo>
                    <a:pt x="352" y="184"/>
                    <a:pt x="184" y="272"/>
                    <a:pt x="192" y="304"/>
                  </a:cubicBezTo>
                  <a:cubicBezTo>
                    <a:pt x="200" y="336"/>
                    <a:pt x="368" y="328"/>
                    <a:pt x="384" y="352"/>
                  </a:cubicBezTo>
                  <a:cubicBezTo>
                    <a:pt x="400" y="376"/>
                    <a:pt x="272" y="424"/>
                    <a:pt x="288" y="448"/>
                  </a:cubicBezTo>
                  <a:cubicBezTo>
                    <a:pt x="304" y="472"/>
                    <a:pt x="464" y="472"/>
                    <a:pt x="480" y="496"/>
                  </a:cubicBezTo>
                  <a:cubicBezTo>
                    <a:pt x="496" y="520"/>
                    <a:pt x="376" y="568"/>
                    <a:pt x="384" y="592"/>
                  </a:cubicBezTo>
                  <a:cubicBezTo>
                    <a:pt x="392" y="616"/>
                    <a:pt x="512" y="616"/>
                    <a:pt x="528" y="640"/>
                  </a:cubicBezTo>
                  <a:cubicBezTo>
                    <a:pt x="544" y="664"/>
                    <a:pt x="472" y="704"/>
                    <a:pt x="480" y="736"/>
                  </a:cubicBezTo>
                  <a:cubicBezTo>
                    <a:pt x="488" y="768"/>
                    <a:pt x="560" y="800"/>
                    <a:pt x="576" y="832"/>
                  </a:cubicBezTo>
                  <a:cubicBezTo>
                    <a:pt x="592" y="864"/>
                    <a:pt x="560" y="888"/>
                    <a:pt x="576" y="928"/>
                  </a:cubicBezTo>
                  <a:cubicBezTo>
                    <a:pt x="592" y="968"/>
                    <a:pt x="664" y="1024"/>
                    <a:pt x="672" y="1072"/>
                  </a:cubicBezTo>
                  <a:cubicBezTo>
                    <a:pt x="680" y="1120"/>
                    <a:pt x="616" y="1176"/>
                    <a:pt x="624" y="1216"/>
                  </a:cubicBezTo>
                  <a:cubicBezTo>
                    <a:pt x="632" y="1256"/>
                    <a:pt x="712" y="1272"/>
                    <a:pt x="720" y="1312"/>
                  </a:cubicBezTo>
                  <a:cubicBezTo>
                    <a:pt x="728" y="1352"/>
                    <a:pt x="672" y="1408"/>
                    <a:pt x="672" y="1456"/>
                  </a:cubicBezTo>
                  <a:cubicBezTo>
                    <a:pt x="672" y="1504"/>
                    <a:pt x="720" y="1560"/>
                    <a:pt x="720" y="1600"/>
                  </a:cubicBezTo>
                  <a:cubicBezTo>
                    <a:pt x="720" y="1640"/>
                    <a:pt x="664" y="1656"/>
                    <a:pt x="672" y="1696"/>
                  </a:cubicBezTo>
                  <a:cubicBezTo>
                    <a:pt x="680" y="1736"/>
                    <a:pt x="760" y="1792"/>
                    <a:pt x="768" y="1840"/>
                  </a:cubicBezTo>
                  <a:cubicBezTo>
                    <a:pt x="776" y="1888"/>
                    <a:pt x="720" y="1928"/>
                    <a:pt x="720" y="1984"/>
                  </a:cubicBezTo>
                  <a:cubicBezTo>
                    <a:pt x="720" y="2040"/>
                    <a:pt x="768" y="2136"/>
                    <a:pt x="768" y="2176"/>
                  </a:cubicBezTo>
                  <a:cubicBezTo>
                    <a:pt x="768" y="2216"/>
                    <a:pt x="720" y="2192"/>
                    <a:pt x="720" y="2224"/>
                  </a:cubicBezTo>
                  <a:cubicBezTo>
                    <a:pt x="720" y="2256"/>
                    <a:pt x="744" y="2312"/>
                    <a:pt x="768" y="2368"/>
                  </a:cubicBezTo>
                </a:path>
              </a:pathLst>
            </a:custGeom>
            <a:noFill/>
            <a:ln w="9360">
              <a:solidFill>
                <a:srgbClr val="fe1f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6815880" y="458640"/>
              <a:ext cx="357480" cy="781200"/>
            </a:xfrm>
            <a:custGeom>
              <a:avLst/>
              <a:gdLst/>
              <a:ahLst/>
              <a:rect l="l" t="t" r="r" b="b"/>
              <a:pathLst>
                <a:path w="776" h="2368">
                  <a:moveTo>
                    <a:pt x="0" y="64"/>
                  </a:moveTo>
                  <a:cubicBezTo>
                    <a:pt x="112" y="32"/>
                    <a:pt x="224" y="0"/>
                    <a:pt x="240" y="16"/>
                  </a:cubicBezTo>
                  <a:cubicBezTo>
                    <a:pt x="256" y="32"/>
                    <a:pt x="80" y="136"/>
                    <a:pt x="96" y="160"/>
                  </a:cubicBezTo>
                  <a:cubicBezTo>
                    <a:pt x="112" y="184"/>
                    <a:pt x="320" y="136"/>
                    <a:pt x="336" y="160"/>
                  </a:cubicBezTo>
                  <a:cubicBezTo>
                    <a:pt x="352" y="184"/>
                    <a:pt x="184" y="272"/>
                    <a:pt x="192" y="304"/>
                  </a:cubicBezTo>
                  <a:cubicBezTo>
                    <a:pt x="200" y="336"/>
                    <a:pt x="368" y="328"/>
                    <a:pt x="384" y="352"/>
                  </a:cubicBezTo>
                  <a:cubicBezTo>
                    <a:pt x="400" y="376"/>
                    <a:pt x="272" y="424"/>
                    <a:pt x="288" y="448"/>
                  </a:cubicBezTo>
                  <a:cubicBezTo>
                    <a:pt x="304" y="472"/>
                    <a:pt x="464" y="472"/>
                    <a:pt x="480" y="496"/>
                  </a:cubicBezTo>
                  <a:cubicBezTo>
                    <a:pt x="496" y="520"/>
                    <a:pt x="376" y="568"/>
                    <a:pt x="384" y="592"/>
                  </a:cubicBezTo>
                  <a:cubicBezTo>
                    <a:pt x="392" y="616"/>
                    <a:pt x="512" y="616"/>
                    <a:pt x="528" y="640"/>
                  </a:cubicBezTo>
                  <a:cubicBezTo>
                    <a:pt x="544" y="664"/>
                    <a:pt x="472" y="704"/>
                    <a:pt x="480" y="736"/>
                  </a:cubicBezTo>
                  <a:cubicBezTo>
                    <a:pt x="488" y="768"/>
                    <a:pt x="560" y="800"/>
                    <a:pt x="576" y="832"/>
                  </a:cubicBezTo>
                  <a:cubicBezTo>
                    <a:pt x="592" y="864"/>
                    <a:pt x="560" y="888"/>
                    <a:pt x="576" y="928"/>
                  </a:cubicBezTo>
                  <a:cubicBezTo>
                    <a:pt x="592" y="968"/>
                    <a:pt x="664" y="1024"/>
                    <a:pt x="672" y="1072"/>
                  </a:cubicBezTo>
                  <a:cubicBezTo>
                    <a:pt x="680" y="1120"/>
                    <a:pt x="616" y="1176"/>
                    <a:pt x="624" y="1216"/>
                  </a:cubicBezTo>
                  <a:cubicBezTo>
                    <a:pt x="632" y="1256"/>
                    <a:pt x="712" y="1272"/>
                    <a:pt x="720" y="1312"/>
                  </a:cubicBezTo>
                  <a:cubicBezTo>
                    <a:pt x="728" y="1352"/>
                    <a:pt x="672" y="1408"/>
                    <a:pt x="672" y="1456"/>
                  </a:cubicBezTo>
                  <a:cubicBezTo>
                    <a:pt x="672" y="1504"/>
                    <a:pt x="720" y="1560"/>
                    <a:pt x="720" y="1600"/>
                  </a:cubicBezTo>
                  <a:cubicBezTo>
                    <a:pt x="720" y="1640"/>
                    <a:pt x="664" y="1656"/>
                    <a:pt x="672" y="1696"/>
                  </a:cubicBezTo>
                  <a:cubicBezTo>
                    <a:pt x="680" y="1736"/>
                    <a:pt x="760" y="1792"/>
                    <a:pt x="768" y="1840"/>
                  </a:cubicBezTo>
                  <a:cubicBezTo>
                    <a:pt x="776" y="1888"/>
                    <a:pt x="720" y="1928"/>
                    <a:pt x="720" y="1984"/>
                  </a:cubicBezTo>
                  <a:cubicBezTo>
                    <a:pt x="720" y="2040"/>
                    <a:pt x="768" y="2136"/>
                    <a:pt x="768" y="2176"/>
                  </a:cubicBezTo>
                  <a:cubicBezTo>
                    <a:pt x="768" y="2216"/>
                    <a:pt x="720" y="2192"/>
                    <a:pt x="720" y="2224"/>
                  </a:cubicBezTo>
                  <a:cubicBezTo>
                    <a:pt x="720" y="2256"/>
                    <a:pt x="744" y="2312"/>
                    <a:pt x="768" y="2368"/>
                  </a:cubicBezTo>
                </a:path>
              </a:pathLst>
            </a:custGeom>
            <a:noFill/>
            <a:ln w="9360">
              <a:solidFill>
                <a:srgbClr val="fe1f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7227720" y="225360"/>
              <a:ext cx="214560" cy="781200"/>
            </a:xfrm>
            <a:custGeom>
              <a:avLst/>
              <a:gdLst/>
              <a:ahLst/>
              <a:rect l="l" t="t" r="r" b="b"/>
              <a:pathLst>
                <a:path w="776" h="2368">
                  <a:moveTo>
                    <a:pt x="0" y="64"/>
                  </a:moveTo>
                  <a:cubicBezTo>
                    <a:pt x="112" y="32"/>
                    <a:pt x="224" y="0"/>
                    <a:pt x="240" y="16"/>
                  </a:cubicBezTo>
                  <a:cubicBezTo>
                    <a:pt x="256" y="32"/>
                    <a:pt x="80" y="136"/>
                    <a:pt x="96" y="160"/>
                  </a:cubicBezTo>
                  <a:cubicBezTo>
                    <a:pt x="112" y="184"/>
                    <a:pt x="320" y="136"/>
                    <a:pt x="336" y="160"/>
                  </a:cubicBezTo>
                  <a:cubicBezTo>
                    <a:pt x="352" y="184"/>
                    <a:pt x="184" y="272"/>
                    <a:pt x="192" y="304"/>
                  </a:cubicBezTo>
                  <a:cubicBezTo>
                    <a:pt x="200" y="336"/>
                    <a:pt x="368" y="328"/>
                    <a:pt x="384" y="352"/>
                  </a:cubicBezTo>
                  <a:cubicBezTo>
                    <a:pt x="400" y="376"/>
                    <a:pt x="272" y="424"/>
                    <a:pt x="288" y="448"/>
                  </a:cubicBezTo>
                  <a:cubicBezTo>
                    <a:pt x="304" y="472"/>
                    <a:pt x="464" y="472"/>
                    <a:pt x="480" y="496"/>
                  </a:cubicBezTo>
                  <a:cubicBezTo>
                    <a:pt x="496" y="520"/>
                    <a:pt x="376" y="568"/>
                    <a:pt x="384" y="592"/>
                  </a:cubicBezTo>
                  <a:cubicBezTo>
                    <a:pt x="392" y="616"/>
                    <a:pt x="512" y="616"/>
                    <a:pt x="528" y="640"/>
                  </a:cubicBezTo>
                  <a:cubicBezTo>
                    <a:pt x="544" y="664"/>
                    <a:pt x="472" y="704"/>
                    <a:pt x="480" y="736"/>
                  </a:cubicBezTo>
                  <a:cubicBezTo>
                    <a:pt x="488" y="768"/>
                    <a:pt x="560" y="800"/>
                    <a:pt x="576" y="832"/>
                  </a:cubicBezTo>
                  <a:cubicBezTo>
                    <a:pt x="592" y="864"/>
                    <a:pt x="560" y="888"/>
                    <a:pt x="576" y="928"/>
                  </a:cubicBezTo>
                  <a:cubicBezTo>
                    <a:pt x="592" y="968"/>
                    <a:pt x="664" y="1024"/>
                    <a:pt x="672" y="1072"/>
                  </a:cubicBezTo>
                  <a:cubicBezTo>
                    <a:pt x="680" y="1120"/>
                    <a:pt x="616" y="1176"/>
                    <a:pt x="624" y="1216"/>
                  </a:cubicBezTo>
                  <a:cubicBezTo>
                    <a:pt x="632" y="1256"/>
                    <a:pt x="712" y="1272"/>
                    <a:pt x="720" y="1312"/>
                  </a:cubicBezTo>
                  <a:cubicBezTo>
                    <a:pt x="728" y="1352"/>
                    <a:pt x="672" y="1408"/>
                    <a:pt x="672" y="1456"/>
                  </a:cubicBezTo>
                  <a:cubicBezTo>
                    <a:pt x="672" y="1504"/>
                    <a:pt x="720" y="1560"/>
                    <a:pt x="720" y="1600"/>
                  </a:cubicBezTo>
                  <a:cubicBezTo>
                    <a:pt x="720" y="1640"/>
                    <a:pt x="664" y="1656"/>
                    <a:pt x="672" y="1696"/>
                  </a:cubicBezTo>
                  <a:cubicBezTo>
                    <a:pt x="680" y="1736"/>
                    <a:pt x="760" y="1792"/>
                    <a:pt x="768" y="1840"/>
                  </a:cubicBezTo>
                  <a:cubicBezTo>
                    <a:pt x="776" y="1888"/>
                    <a:pt x="720" y="1928"/>
                    <a:pt x="720" y="1984"/>
                  </a:cubicBezTo>
                  <a:cubicBezTo>
                    <a:pt x="720" y="2040"/>
                    <a:pt x="768" y="2136"/>
                    <a:pt x="768" y="2176"/>
                  </a:cubicBezTo>
                  <a:cubicBezTo>
                    <a:pt x="768" y="2216"/>
                    <a:pt x="720" y="2192"/>
                    <a:pt x="720" y="2224"/>
                  </a:cubicBezTo>
                  <a:cubicBezTo>
                    <a:pt x="720" y="2256"/>
                    <a:pt x="744" y="2312"/>
                    <a:pt x="768" y="2368"/>
                  </a:cubicBezTo>
                </a:path>
              </a:pathLst>
            </a:custGeom>
            <a:noFill/>
            <a:ln w="9360">
              <a:solidFill>
                <a:srgbClr val="fe1f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562960" y="1170000"/>
              <a:ext cx="517680" cy="822240"/>
            </a:xfrm>
            <a:custGeom>
              <a:avLst/>
              <a:gdLst/>
              <a:ahLst/>
              <a:rect l="l" t="t" r="r" b="b"/>
              <a:pathLst>
                <a:path w="776" h="2368">
                  <a:moveTo>
                    <a:pt x="0" y="64"/>
                  </a:moveTo>
                  <a:cubicBezTo>
                    <a:pt x="112" y="32"/>
                    <a:pt x="224" y="0"/>
                    <a:pt x="240" y="16"/>
                  </a:cubicBezTo>
                  <a:cubicBezTo>
                    <a:pt x="256" y="32"/>
                    <a:pt x="80" y="136"/>
                    <a:pt x="96" y="160"/>
                  </a:cubicBezTo>
                  <a:cubicBezTo>
                    <a:pt x="112" y="184"/>
                    <a:pt x="320" y="136"/>
                    <a:pt x="336" y="160"/>
                  </a:cubicBezTo>
                  <a:cubicBezTo>
                    <a:pt x="352" y="184"/>
                    <a:pt x="184" y="272"/>
                    <a:pt x="192" y="304"/>
                  </a:cubicBezTo>
                  <a:cubicBezTo>
                    <a:pt x="200" y="336"/>
                    <a:pt x="368" y="328"/>
                    <a:pt x="384" y="352"/>
                  </a:cubicBezTo>
                  <a:cubicBezTo>
                    <a:pt x="400" y="376"/>
                    <a:pt x="272" y="424"/>
                    <a:pt x="288" y="448"/>
                  </a:cubicBezTo>
                  <a:cubicBezTo>
                    <a:pt x="304" y="472"/>
                    <a:pt x="464" y="472"/>
                    <a:pt x="480" y="496"/>
                  </a:cubicBezTo>
                  <a:cubicBezTo>
                    <a:pt x="496" y="520"/>
                    <a:pt x="376" y="568"/>
                    <a:pt x="384" y="592"/>
                  </a:cubicBezTo>
                  <a:cubicBezTo>
                    <a:pt x="392" y="616"/>
                    <a:pt x="512" y="616"/>
                    <a:pt x="528" y="640"/>
                  </a:cubicBezTo>
                  <a:cubicBezTo>
                    <a:pt x="544" y="664"/>
                    <a:pt x="472" y="704"/>
                    <a:pt x="480" y="736"/>
                  </a:cubicBezTo>
                  <a:cubicBezTo>
                    <a:pt x="488" y="768"/>
                    <a:pt x="560" y="800"/>
                    <a:pt x="576" y="832"/>
                  </a:cubicBezTo>
                  <a:cubicBezTo>
                    <a:pt x="592" y="864"/>
                    <a:pt x="560" y="888"/>
                    <a:pt x="576" y="928"/>
                  </a:cubicBezTo>
                  <a:cubicBezTo>
                    <a:pt x="592" y="968"/>
                    <a:pt x="664" y="1024"/>
                    <a:pt x="672" y="1072"/>
                  </a:cubicBezTo>
                  <a:cubicBezTo>
                    <a:pt x="680" y="1120"/>
                    <a:pt x="616" y="1176"/>
                    <a:pt x="624" y="1216"/>
                  </a:cubicBezTo>
                  <a:cubicBezTo>
                    <a:pt x="632" y="1256"/>
                    <a:pt x="712" y="1272"/>
                    <a:pt x="720" y="1312"/>
                  </a:cubicBezTo>
                  <a:cubicBezTo>
                    <a:pt x="728" y="1352"/>
                    <a:pt x="672" y="1408"/>
                    <a:pt x="672" y="1456"/>
                  </a:cubicBezTo>
                  <a:cubicBezTo>
                    <a:pt x="672" y="1504"/>
                    <a:pt x="720" y="1560"/>
                    <a:pt x="720" y="1600"/>
                  </a:cubicBezTo>
                  <a:cubicBezTo>
                    <a:pt x="720" y="1640"/>
                    <a:pt x="664" y="1656"/>
                    <a:pt x="672" y="1696"/>
                  </a:cubicBezTo>
                  <a:cubicBezTo>
                    <a:pt x="680" y="1736"/>
                    <a:pt x="760" y="1792"/>
                    <a:pt x="768" y="1840"/>
                  </a:cubicBezTo>
                  <a:cubicBezTo>
                    <a:pt x="776" y="1888"/>
                    <a:pt x="720" y="1928"/>
                    <a:pt x="720" y="1984"/>
                  </a:cubicBezTo>
                  <a:cubicBezTo>
                    <a:pt x="720" y="2040"/>
                    <a:pt x="768" y="2136"/>
                    <a:pt x="768" y="2176"/>
                  </a:cubicBezTo>
                  <a:cubicBezTo>
                    <a:pt x="768" y="2216"/>
                    <a:pt x="720" y="2192"/>
                    <a:pt x="720" y="2224"/>
                  </a:cubicBezTo>
                  <a:cubicBezTo>
                    <a:pt x="720" y="2256"/>
                    <a:pt x="744" y="2312"/>
                    <a:pt x="768" y="2368"/>
                  </a:cubicBezTo>
                </a:path>
              </a:pathLst>
            </a:custGeom>
            <a:noFill/>
            <a:ln w="9360">
              <a:solidFill>
                <a:srgbClr val="ff8b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294760" y="754200"/>
              <a:ext cx="777960" cy="547560"/>
            </a:xfrm>
            <a:custGeom>
              <a:avLst/>
              <a:gdLst/>
              <a:ahLst/>
              <a:rect l="l" t="t" r="r" b="b"/>
              <a:pathLst>
                <a:path w="776" h="2368">
                  <a:moveTo>
                    <a:pt x="0" y="64"/>
                  </a:moveTo>
                  <a:cubicBezTo>
                    <a:pt x="112" y="32"/>
                    <a:pt x="224" y="0"/>
                    <a:pt x="240" y="16"/>
                  </a:cubicBezTo>
                  <a:cubicBezTo>
                    <a:pt x="256" y="32"/>
                    <a:pt x="80" y="136"/>
                    <a:pt x="96" y="160"/>
                  </a:cubicBezTo>
                  <a:cubicBezTo>
                    <a:pt x="112" y="184"/>
                    <a:pt x="320" y="136"/>
                    <a:pt x="336" y="160"/>
                  </a:cubicBezTo>
                  <a:cubicBezTo>
                    <a:pt x="352" y="184"/>
                    <a:pt x="184" y="272"/>
                    <a:pt x="192" y="304"/>
                  </a:cubicBezTo>
                  <a:cubicBezTo>
                    <a:pt x="200" y="336"/>
                    <a:pt x="368" y="328"/>
                    <a:pt x="384" y="352"/>
                  </a:cubicBezTo>
                  <a:cubicBezTo>
                    <a:pt x="400" y="376"/>
                    <a:pt x="272" y="424"/>
                    <a:pt x="288" y="448"/>
                  </a:cubicBezTo>
                  <a:cubicBezTo>
                    <a:pt x="304" y="472"/>
                    <a:pt x="464" y="472"/>
                    <a:pt x="480" y="496"/>
                  </a:cubicBezTo>
                  <a:cubicBezTo>
                    <a:pt x="496" y="520"/>
                    <a:pt x="376" y="568"/>
                    <a:pt x="384" y="592"/>
                  </a:cubicBezTo>
                  <a:cubicBezTo>
                    <a:pt x="392" y="616"/>
                    <a:pt x="512" y="616"/>
                    <a:pt x="528" y="640"/>
                  </a:cubicBezTo>
                  <a:cubicBezTo>
                    <a:pt x="544" y="664"/>
                    <a:pt x="472" y="704"/>
                    <a:pt x="480" y="736"/>
                  </a:cubicBezTo>
                  <a:cubicBezTo>
                    <a:pt x="488" y="768"/>
                    <a:pt x="560" y="800"/>
                    <a:pt x="576" y="832"/>
                  </a:cubicBezTo>
                  <a:cubicBezTo>
                    <a:pt x="592" y="864"/>
                    <a:pt x="560" y="888"/>
                    <a:pt x="576" y="928"/>
                  </a:cubicBezTo>
                  <a:cubicBezTo>
                    <a:pt x="592" y="968"/>
                    <a:pt x="664" y="1024"/>
                    <a:pt x="672" y="1072"/>
                  </a:cubicBezTo>
                  <a:cubicBezTo>
                    <a:pt x="680" y="1120"/>
                    <a:pt x="616" y="1176"/>
                    <a:pt x="624" y="1216"/>
                  </a:cubicBezTo>
                  <a:cubicBezTo>
                    <a:pt x="632" y="1256"/>
                    <a:pt x="712" y="1272"/>
                    <a:pt x="720" y="1312"/>
                  </a:cubicBezTo>
                  <a:cubicBezTo>
                    <a:pt x="728" y="1352"/>
                    <a:pt x="672" y="1408"/>
                    <a:pt x="672" y="1456"/>
                  </a:cubicBezTo>
                  <a:cubicBezTo>
                    <a:pt x="672" y="1504"/>
                    <a:pt x="720" y="1560"/>
                    <a:pt x="720" y="1600"/>
                  </a:cubicBezTo>
                  <a:cubicBezTo>
                    <a:pt x="720" y="1640"/>
                    <a:pt x="664" y="1656"/>
                    <a:pt x="672" y="1696"/>
                  </a:cubicBezTo>
                  <a:cubicBezTo>
                    <a:pt x="680" y="1736"/>
                    <a:pt x="760" y="1792"/>
                    <a:pt x="768" y="1840"/>
                  </a:cubicBezTo>
                  <a:cubicBezTo>
                    <a:pt x="776" y="1888"/>
                    <a:pt x="720" y="1928"/>
                    <a:pt x="720" y="1984"/>
                  </a:cubicBezTo>
                  <a:cubicBezTo>
                    <a:pt x="720" y="2040"/>
                    <a:pt x="768" y="2136"/>
                    <a:pt x="768" y="2176"/>
                  </a:cubicBezTo>
                  <a:cubicBezTo>
                    <a:pt x="768" y="2216"/>
                    <a:pt x="720" y="2192"/>
                    <a:pt x="720" y="2224"/>
                  </a:cubicBezTo>
                  <a:cubicBezTo>
                    <a:pt x="720" y="2256"/>
                    <a:pt x="744" y="2312"/>
                    <a:pt x="768" y="2368"/>
                  </a:cubicBezTo>
                </a:path>
              </a:pathLst>
            </a:custGeom>
            <a:noFill/>
            <a:ln w="9360">
              <a:solidFill>
                <a:srgbClr val="fe1f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323200" y="173160"/>
              <a:ext cx="339840" cy="734760"/>
            </a:xfrm>
            <a:custGeom>
              <a:avLst/>
              <a:gdLst/>
              <a:ahLst/>
              <a:rect l="l" t="t" r="r" b="b"/>
              <a:pathLst>
                <a:path w="776" h="2368">
                  <a:moveTo>
                    <a:pt x="0" y="64"/>
                  </a:moveTo>
                  <a:cubicBezTo>
                    <a:pt x="112" y="32"/>
                    <a:pt x="224" y="0"/>
                    <a:pt x="240" y="16"/>
                  </a:cubicBezTo>
                  <a:cubicBezTo>
                    <a:pt x="256" y="32"/>
                    <a:pt x="80" y="136"/>
                    <a:pt x="96" y="160"/>
                  </a:cubicBezTo>
                  <a:cubicBezTo>
                    <a:pt x="112" y="184"/>
                    <a:pt x="320" y="136"/>
                    <a:pt x="336" y="160"/>
                  </a:cubicBezTo>
                  <a:cubicBezTo>
                    <a:pt x="352" y="184"/>
                    <a:pt x="184" y="272"/>
                    <a:pt x="192" y="304"/>
                  </a:cubicBezTo>
                  <a:cubicBezTo>
                    <a:pt x="200" y="336"/>
                    <a:pt x="368" y="328"/>
                    <a:pt x="384" y="352"/>
                  </a:cubicBezTo>
                  <a:cubicBezTo>
                    <a:pt x="400" y="376"/>
                    <a:pt x="272" y="424"/>
                    <a:pt x="288" y="448"/>
                  </a:cubicBezTo>
                  <a:cubicBezTo>
                    <a:pt x="304" y="472"/>
                    <a:pt x="464" y="472"/>
                    <a:pt x="480" y="496"/>
                  </a:cubicBezTo>
                  <a:cubicBezTo>
                    <a:pt x="496" y="520"/>
                    <a:pt x="376" y="568"/>
                    <a:pt x="384" y="592"/>
                  </a:cubicBezTo>
                  <a:cubicBezTo>
                    <a:pt x="392" y="616"/>
                    <a:pt x="512" y="616"/>
                    <a:pt x="528" y="640"/>
                  </a:cubicBezTo>
                  <a:cubicBezTo>
                    <a:pt x="544" y="664"/>
                    <a:pt x="472" y="704"/>
                    <a:pt x="480" y="736"/>
                  </a:cubicBezTo>
                  <a:cubicBezTo>
                    <a:pt x="488" y="768"/>
                    <a:pt x="560" y="800"/>
                    <a:pt x="576" y="832"/>
                  </a:cubicBezTo>
                  <a:cubicBezTo>
                    <a:pt x="592" y="864"/>
                    <a:pt x="560" y="888"/>
                    <a:pt x="576" y="928"/>
                  </a:cubicBezTo>
                  <a:cubicBezTo>
                    <a:pt x="592" y="968"/>
                    <a:pt x="664" y="1024"/>
                    <a:pt x="672" y="1072"/>
                  </a:cubicBezTo>
                  <a:cubicBezTo>
                    <a:pt x="680" y="1120"/>
                    <a:pt x="616" y="1176"/>
                    <a:pt x="624" y="1216"/>
                  </a:cubicBezTo>
                  <a:cubicBezTo>
                    <a:pt x="632" y="1256"/>
                    <a:pt x="712" y="1272"/>
                    <a:pt x="720" y="1312"/>
                  </a:cubicBezTo>
                  <a:cubicBezTo>
                    <a:pt x="728" y="1352"/>
                    <a:pt x="672" y="1408"/>
                    <a:pt x="672" y="1456"/>
                  </a:cubicBezTo>
                  <a:cubicBezTo>
                    <a:pt x="672" y="1504"/>
                    <a:pt x="720" y="1560"/>
                    <a:pt x="720" y="1600"/>
                  </a:cubicBezTo>
                  <a:cubicBezTo>
                    <a:pt x="720" y="1640"/>
                    <a:pt x="664" y="1656"/>
                    <a:pt x="672" y="1696"/>
                  </a:cubicBezTo>
                  <a:cubicBezTo>
                    <a:pt x="680" y="1736"/>
                    <a:pt x="760" y="1792"/>
                    <a:pt x="768" y="1840"/>
                  </a:cubicBezTo>
                  <a:cubicBezTo>
                    <a:pt x="776" y="1888"/>
                    <a:pt x="720" y="1928"/>
                    <a:pt x="720" y="1984"/>
                  </a:cubicBezTo>
                  <a:cubicBezTo>
                    <a:pt x="720" y="2040"/>
                    <a:pt x="768" y="2136"/>
                    <a:pt x="768" y="2176"/>
                  </a:cubicBezTo>
                  <a:cubicBezTo>
                    <a:pt x="768" y="2216"/>
                    <a:pt x="720" y="2192"/>
                    <a:pt x="720" y="2224"/>
                  </a:cubicBezTo>
                  <a:cubicBezTo>
                    <a:pt x="720" y="2256"/>
                    <a:pt x="744" y="2312"/>
                    <a:pt x="768" y="2368"/>
                  </a:cubicBezTo>
                </a:path>
              </a:pathLst>
            </a:custGeom>
            <a:noFill/>
            <a:ln w="9360">
              <a:solidFill>
                <a:srgbClr val="fe1f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20253000">
              <a:off x="7986600" y="783720"/>
              <a:ext cx="228600" cy="430200"/>
            </a:xfrm>
            <a:custGeom>
              <a:avLst/>
              <a:gdLst/>
              <a:ahLst/>
              <a:rect l="l" t="t" r="r" b="b"/>
              <a:pathLst>
                <a:path w="776" h="2368">
                  <a:moveTo>
                    <a:pt x="0" y="64"/>
                  </a:moveTo>
                  <a:cubicBezTo>
                    <a:pt x="112" y="32"/>
                    <a:pt x="224" y="0"/>
                    <a:pt x="240" y="16"/>
                  </a:cubicBezTo>
                  <a:cubicBezTo>
                    <a:pt x="256" y="32"/>
                    <a:pt x="80" y="136"/>
                    <a:pt x="96" y="160"/>
                  </a:cubicBezTo>
                  <a:cubicBezTo>
                    <a:pt x="112" y="184"/>
                    <a:pt x="320" y="136"/>
                    <a:pt x="336" y="160"/>
                  </a:cubicBezTo>
                  <a:cubicBezTo>
                    <a:pt x="352" y="184"/>
                    <a:pt x="184" y="272"/>
                    <a:pt x="192" y="304"/>
                  </a:cubicBezTo>
                  <a:cubicBezTo>
                    <a:pt x="200" y="336"/>
                    <a:pt x="368" y="328"/>
                    <a:pt x="384" y="352"/>
                  </a:cubicBezTo>
                  <a:cubicBezTo>
                    <a:pt x="400" y="376"/>
                    <a:pt x="272" y="424"/>
                    <a:pt x="288" y="448"/>
                  </a:cubicBezTo>
                  <a:cubicBezTo>
                    <a:pt x="304" y="472"/>
                    <a:pt x="464" y="472"/>
                    <a:pt x="480" y="496"/>
                  </a:cubicBezTo>
                  <a:cubicBezTo>
                    <a:pt x="496" y="520"/>
                    <a:pt x="376" y="568"/>
                    <a:pt x="384" y="592"/>
                  </a:cubicBezTo>
                  <a:cubicBezTo>
                    <a:pt x="392" y="616"/>
                    <a:pt x="512" y="616"/>
                    <a:pt x="528" y="640"/>
                  </a:cubicBezTo>
                  <a:cubicBezTo>
                    <a:pt x="544" y="664"/>
                    <a:pt x="472" y="704"/>
                    <a:pt x="480" y="736"/>
                  </a:cubicBezTo>
                  <a:cubicBezTo>
                    <a:pt x="488" y="768"/>
                    <a:pt x="560" y="800"/>
                    <a:pt x="576" y="832"/>
                  </a:cubicBezTo>
                  <a:cubicBezTo>
                    <a:pt x="592" y="864"/>
                    <a:pt x="560" y="888"/>
                    <a:pt x="576" y="928"/>
                  </a:cubicBezTo>
                  <a:cubicBezTo>
                    <a:pt x="592" y="968"/>
                    <a:pt x="664" y="1024"/>
                    <a:pt x="672" y="1072"/>
                  </a:cubicBezTo>
                  <a:cubicBezTo>
                    <a:pt x="680" y="1120"/>
                    <a:pt x="616" y="1176"/>
                    <a:pt x="624" y="1216"/>
                  </a:cubicBezTo>
                  <a:cubicBezTo>
                    <a:pt x="632" y="1256"/>
                    <a:pt x="712" y="1272"/>
                    <a:pt x="720" y="1312"/>
                  </a:cubicBezTo>
                  <a:cubicBezTo>
                    <a:pt x="728" y="1352"/>
                    <a:pt x="672" y="1408"/>
                    <a:pt x="672" y="1456"/>
                  </a:cubicBezTo>
                  <a:cubicBezTo>
                    <a:pt x="672" y="1504"/>
                    <a:pt x="720" y="1560"/>
                    <a:pt x="720" y="1600"/>
                  </a:cubicBezTo>
                  <a:cubicBezTo>
                    <a:pt x="720" y="1640"/>
                    <a:pt x="664" y="1656"/>
                    <a:pt x="672" y="1696"/>
                  </a:cubicBezTo>
                  <a:cubicBezTo>
                    <a:pt x="680" y="1736"/>
                    <a:pt x="760" y="1792"/>
                    <a:pt x="768" y="1840"/>
                  </a:cubicBezTo>
                  <a:cubicBezTo>
                    <a:pt x="776" y="1888"/>
                    <a:pt x="720" y="1928"/>
                    <a:pt x="720" y="1984"/>
                  </a:cubicBezTo>
                  <a:cubicBezTo>
                    <a:pt x="720" y="2040"/>
                    <a:pt x="768" y="2136"/>
                    <a:pt x="768" y="2176"/>
                  </a:cubicBezTo>
                  <a:cubicBezTo>
                    <a:pt x="768" y="2216"/>
                    <a:pt x="720" y="2192"/>
                    <a:pt x="720" y="2224"/>
                  </a:cubicBezTo>
                  <a:cubicBezTo>
                    <a:pt x="720" y="2256"/>
                    <a:pt x="744" y="2312"/>
                    <a:pt x="768" y="2368"/>
                  </a:cubicBezTo>
                </a:path>
              </a:pathLst>
            </a:custGeom>
            <a:noFill/>
            <a:ln w="9360">
              <a:solidFill>
                <a:srgbClr val="ffe1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rot="1347000">
              <a:off x="7178040" y="771480"/>
              <a:ext cx="225360" cy="432000"/>
            </a:xfrm>
            <a:custGeom>
              <a:avLst/>
              <a:gdLst/>
              <a:ahLst/>
              <a:rect l="l" t="t" r="r" b="b"/>
              <a:pathLst>
                <a:path w="776" h="2368">
                  <a:moveTo>
                    <a:pt x="0" y="64"/>
                  </a:moveTo>
                  <a:cubicBezTo>
                    <a:pt x="112" y="32"/>
                    <a:pt x="224" y="0"/>
                    <a:pt x="240" y="16"/>
                  </a:cubicBezTo>
                  <a:cubicBezTo>
                    <a:pt x="256" y="32"/>
                    <a:pt x="80" y="136"/>
                    <a:pt x="96" y="160"/>
                  </a:cubicBezTo>
                  <a:cubicBezTo>
                    <a:pt x="112" y="184"/>
                    <a:pt x="320" y="136"/>
                    <a:pt x="336" y="160"/>
                  </a:cubicBezTo>
                  <a:cubicBezTo>
                    <a:pt x="352" y="184"/>
                    <a:pt x="184" y="272"/>
                    <a:pt x="192" y="304"/>
                  </a:cubicBezTo>
                  <a:cubicBezTo>
                    <a:pt x="200" y="336"/>
                    <a:pt x="368" y="328"/>
                    <a:pt x="384" y="352"/>
                  </a:cubicBezTo>
                  <a:cubicBezTo>
                    <a:pt x="400" y="376"/>
                    <a:pt x="272" y="424"/>
                    <a:pt x="288" y="448"/>
                  </a:cubicBezTo>
                  <a:cubicBezTo>
                    <a:pt x="304" y="472"/>
                    <a:pt x="464" y="472"/>
                    <a:pt x="480" y="496"/>
                  </a:cubicBezTo>
                  <a:cubicBezTo>
                    <a:pt x="496" y="520"/>
                    <a:pt x="376" y="568"/>
                    <a:pt x="384" y="592"/>
                  </a:cubicBezTo>
                  <a:cubicBezTo>
                    <a:pt x="392" y="616"/>
                    <a:pt x="512" y="616"/>
                    <a:pt x="528" y="640"/>
                  </a:cubicBezTo>
                  <a:cubicBezTo>
                    <a:pt x="544" y="664"/>
                    <a:pt x="472" y="704"/>
                    <a:pt x="480" y="736"/>
                  </a:cubicBezTo>
                  <a:cubicBezTo>
                    <a:pt x="488" y="768"/>
                    <a:pt x="560" y="800"/>
                    <a:pt x="576" y="832"/>
                  </a:cubicBezTo>
                  <a:cubicBezTo>
                    <a:pt x="592" y="864"/>
                    <a:pt x="560" y="888"/>
                    <a:pt x="576" y="928"/>
                  </a:cubicBezTo>
                  <a:cubicBezTo>
                    <a:pt x="592" y="968"/>
                    <a:pt x="664" y="1024"/>
                    <a:pt x="672" y="1072"/>
                  </a:cubicBezTo>
                  <a:cubicBezTo>
                    <a:pt x="680" y="1120"/>
                    <a:pt x="616" y="1176"/>
                    <a:pt x="624" y="1216"/>
                  </a:cubicBezTo>
                  <a:cubicBezTo>
                    <a:pt x="632" y="1256"/>
                    <a:pt x="712" y="1272"/>
                    <a:pt x="720" y="1312"/>
                  </a:cubicBezTo>
                  <a:cubicBezTo>
                    <a:pt x="728" y="1352"/>
                    <a:pt x="672" y="1408"/>
                    <a:pt x="672" y="1456"/>
                  </a:cubicBezTo>
                  <a:cubicBezTo>
                    <a:pt x="672" y="1504"/>
                    <a:pt x="720" y="1560"/>
                    <a:pt x="720" y="1600"/>
                  </a:cubicBezTo>
                  <a:cubicBezTo>
                    <a:pt x="720" y="1640"/>
                    <a:pt x="664" y="1656"/>
                    <a:pt x="672" y="1696"/>
                  </a:cubicBezTo>
                  <a:cubicBezTo>
                    <a:pt x="680" y="1736"/>
                    <a:pt x="760" y="1792"/>
                    <a:pt x="768" y="1840"/>
                  </a:cubicBezTo>
                  <a:cubicBezTo>
                    <a:pt x="776" y="1888"/>
                    <a:pt x="720" y="1928"/>
                    <a:pt x="720" y="1984"/>
                  </a:cubicBezTo>
                  <a:cubicBezTo>
                    <a:pt x="720" y="2040"/>
                    <a:pt x="768" y="2136"/>
                    <a:pt x="768" y="2176"/>
                  </a:cubicBezTo>
                  <a:cubicBezTo>
                    <a:pt x="768" y="2216"/>
                    <a:pt x="720" y="2192"/>
                    <a:pt x="720" y="2224"/>
                  </a:cubicBezTo>
                  <a:cubicBezTo>
                    <a:pt x="720" y="2256"/>
                    <a:pt x="744" y="2312"/>
                    <a:pt x="768" y="2368"/>
                  </a:cubicBezTo>
                </a:path>
              </a:pathLst>
            </a:custGeom>
            <a:noFill/>
            <a:ln w="9360">
              <a:solidFill>
                <a:srgbClr val="ffe1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365040" indent="-365040">
              <a:spcBef>
                <a:spcPts val="1049"/>
              </a:spcBef>
              <a:spcAft>
                <a:spcPts val="1049"/>
              </a:spcAft>
              <a:buClr>
                <a:srgbClr val="fe1f08"/>
              </a:buClr>
              <a:buSzPct val="11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870120" indent="-412560"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SzPct val="70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1148040" indent="-185040">
              <a:spcBef>
                <a:spcPts val="1049"/>
              </a:spcBef>
              <a:spcAft>
                <a:spcPts val="1049"/>
              </a:spcAft>
              <a:buClr>
                <a:srgbClr val="ffcc00"/>
              </a:buClr>
              <a:buSzPct val="6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3" marL="1425600" indent="-185040">
              <a:spcBef>
                <a:spcPts val="1049"/>
              </a:spcBef>
              <a:spcAft>
                <a:spcPts val="1049"/>
              </a:spcAft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4" marL="1703520" indent="-185040">
              <a:spcBef>
                <a:spcPts val="1049"/>
              </a:spcBef>
              <a:spcAft>
                <a:spcPts val="1049"/>
              </a:spcAft>
              <a:buClr>
                <a:srgbClr val="ffcc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5" marL="1703520" indent="-185040">
              <a:spcBef>
                <a:spcPts val="1049"/>
              </a:spcBef>
              <a:spcAft>
                <a:spcPts val="1049"/>
              </a:spcAft>
              <a:buClr>
                <a:srgbClr val="ffcc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6" marL="1703520" indent="-185040">
              <a:spcBef>
                <a:spcPts val="1049"/>
              </a:spcBef>
              <a:spcAft>
                <a:spcPts val="1049"/>
              </a:spcAft>
              <a:buClr>
                <a:srgbClr val="ffcc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"/>
          <p:cNvSpPr/>
          <p:nvPr/>
        </p:nvSpPr>
        <p:spPr>
          <a:xfrm>
            <a:off x="-15840" y="5832360"/>
            <a:ext cx="9326520" cy="1089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997680" y="6207120"/>
            <a:ext cx="1904760" cy="581040"/>
            <a:chOff x="6997680" y="6207120"/>
            <a:chExt cx="1904760" cy="581040"/>
          </a:xfrm>
        </p:grpSpPr>
        <p:sp>
          <p:nvSpPr>
            <p:cNvPr id="121" name=""/>
            <p:cNvSpPr txBox="1"/>
            <p:nvPr/>
          </p:nvSpPr>
          <p:spPr>
            <a:xfrm>
              <a:off x="8371800" y="6428160"/>
              <a:ext cx="530640" cy="36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7903440" y="6299280"/>
              <a:ext cx="686880" cy="488520"/>
              <a:chOff x="7903440" y="6299280"/>
              <a:chExt cx="686880" cy="488520"/>
            </a:xfrm>
          </p:grpSpPr>
          <p:sp>
            <p:nvSpPr>
              <p:cNvPr id="123" name=""/>
              <p:cNvSpPr/>
              <p:nvPr/>
            </p:nvSpPr>
            <p:spPr>
              <a:xfrm>
                <a:off x="7903440" y="6299280"/>
                <a:ext cx="686880" cy="48852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096400" y="6351840"/>
                <a:ext cx="317880" cy="27216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 txBox="1"/>
            <p:nvPr/>
          </p:nvSpPr>
          <p:spPr>
            <a:xfrm>
              <a:off x="6997680" y="6207120"/>
              <a:ext cx="1280520" cy="34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2010960" y="245520"/>
            <a:ext cx="7128360" cy="7923600"/>
            <a:chOff x="2010960" y="245520"/>
            <a:chExt cx="7128360" cy="7923600"/>
          </a:xfrm>
        </p:grpSpPr>
        <p:grpSp>
          <p:nvGrpSpPr>
            <p:cNvPr id="163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64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3735360" y="1266840"/>
              <a:ext cx="3600360" cy="2651040"/>
            </a:xfrm>
            <a:prstGeom prst="ellipse">
              <a:avLst/>
            </a:prstGeom>
            <a:gradFill rotWithShape="0">
              <a:gsLst>
                <a:gs pos="0">
                  <a:srgbClr val="af273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110200" y="2236680"/>
              <a:ext cx="714240" cy="500040"/>
            </a:xfrm>
            <a:prstGeom prst="ellipse">
              <a:avLst/>
            </a:prstGeom>
            <a:gradFill rotWithShape="0">
              <a:gsLst>
                <a:gs pos="0">
                  <a:srgbClr val="ffe103"/>
                </a:gs>
                <a:gs pos="100000">
                  <a:srgbClr val="af273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2010960" y="245520"/>
              <a:ext cx="6891120" cy="5452200"/>
              <a:chOff x="2010960" y="245520"/>
              <a:chExt cx="6891120" cy="545220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5762160" y="2322000"/>
                <a:ext cx="2558520" cy="2742840"/>
                <a:chOff x="5762160" y="2322000"/>
                <a:chExt cx="2558520" cy="2742840"/>
              </a:xfrm>
            </p:grpSpPr>
            <p:sp>
              <p:nvSpPr>
                <p:cNvPr id="170" name=""/>
                <p:cNvSpPr/>
                <p:nvPr/>
              </p:nvSpPr>
              <p:spPr>
                <a:xfrm rot="2711400">
                  <a:off x="5584680" y="3018960"/>
                  <a:ext cx="2125440" cy="38448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rot="2711400">
                  <a:off x="7134120" y="4145400"/>
                  <a:ext cx="1140480" cy="6040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5787720" y="2148480"/>
                <a:ext cx="3040200" cy="2529360"/>
                <a:chOff x="5787720" y="2148480"/>
                <a:chExt cx="3040200" cy="2529360"/>
              </a:xfrm>
            </p:grpSpPr>
            <p:sp>
              <p:nvSpPr>
                <p:cNvPr id="173" name=""/>
                <p:cNvSpPr/>
                <p:nvPr/>
              </p:nvSpPr>
              <p:spPr>
                <a:xfrm rot="2103600">
                  <a:off x="5707440" y="2751840"/>
                  <a:ext cx="2236680" cy="42768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rot="2103600">
                  <a:off x="7543080" y="3722040"/>
                  <a:ext cx="1200600" cy="67176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5776200" y="2065320"/>
                <a:ext cx="3096360" cy="1992600"/>
                <a:chOff x="5776200" y="2065320"/>
                <a:chExt cx="3096360" cy="1992600"/>
              </a:xfrm>
            </p:grpSpPr>
            <p:sp>
              <p:nvSpPr>
                <p:cNvPr id="176" name=""/>
                <p:cNvSpPr/>
                <p:nvPr/>
              </p:nvSpPr>
              <p:spPr>
                <a:xfrm rot="1582800">
                  <a:off x="5747760" y="2521080"/>
                  <a:ext cx="2140560" cy="37440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582800">
                  <a:off x="7652520" y="3246120"/>
                  <a:ext cx="1149120" cy="58680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5768280" y="1970280"/>
                <a:ext cx="3133800" cy="1608120"/>
                <a:chOff x="5768280" y="1970280"/>
                <a:chExt cx="3133800" cy="1608120"/>
              </a:xfrm>
            </p:grpSpPr>
            <p:sp>
              <p:nvSpPr>
                <p:cNvPr id="179" name=""/>
                <p:cNvSpPr/>
                <p:nvPr/>
              </p:nvSpPr>
              <p:spPr>
                <a:xfrm rot="1080000">
                  <a:off x="5781240" y="2279520"/>
                  <a:ext cx="2067480" cy="4129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rot="1080000">
                  <a:off x="7718400" y="2774160"/>
                  <a:ext cx="1110600" cy="64836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5806080" y="1879920"/>
                <a:ext cx="2940120" cy="1001880"/>
                <a:chOff x="5806080" y="1879920"/>
                <a:chExt cx="2940120" cy="1001880"/>
              </a:xfrm>
            </p:grpSpPr>
            <p:sp>
              <p:nvSpPr>
                <p:cNvPr id="182" name=""/>
                <p:cNvSpPr/>
                <p:nvPr/>
              </p:nvSpPr>
              <p:spPr>
                <a:xfrm rot="463200">
                  <a:off x="5823000" y="2005920"/>
                  <a:ext cx="1904760" cy="38448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 rot="463200">
                  <a:off x="7686720" y="2212920"/>
                  <a:ext cx="1023480" cy="6026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5851440" y="1815480"/>
                <a:ext cx="2658600" cy="446040"/>
                <a:chOff x="5851440" y="1815480"/>
                <a:chExt cx="2658600" cy="446040"/>
              </a:xfrm>
            </p:grpSpPr>
            <p:sp>
              <p:nvSpPr>
                <p:cNvPr id="185" name=""/>
                <p:cNvSpPr/>
                <p:nvPr/>
              </p:nvSpPr>
              <p:spPr>
                <a:xfrm rot="21515400">
                  <a:off x="5854320" y="1851120"/>
                  <a:ext cx="1730880" cy="27000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rot="21515400">
                  <a:off x="7575480" y="1827000"/>
                  <a:ext cx="929520" cy="42300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5788440" y="1303920"/>
                <a:ext cx="2364120" cy="787320"/>
                <a:chOff x="5788440" y="1303920"/>
                <a:chExt cx="2364120" cy="787320"/>
              </a:xfrm>
            </p:grpSpPr>
            <p:sp>
              <p:nvSpPr>
                <p:cNvPr id="188" name=""/>
                <p:cNvSpPr/>
                <p:nvPr/>
              </p:nvSpPr>
              <p:spPr>
                <a:xfrm rot="20797200">
                  <a:off x="5798160" y="1653840"/>
                  <a:ext cx="1520280" cy="26496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rot="20797200">
                  <a:off x="7299000" y="1392480"/>
                  <a:ext cx="816480" cy="4165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2646720" y="2473920"/>
                <a:ext cx="2556720" cy="2742120"/>
                <a:chOff x="2646720" y="2473920"/>
                <a:chExt cx="2556720" cy="2742120"/>
              </a:xfrm>
            </p:grpSpPr>
            <p:sp>
              <p:nvSpPr>
                <p:cNvPr id="191" name=""/>
                <p:cNvSpPr/>
                <p:nvPr/>
              </p:nvSpPr>
              <p:spPr>
                <a:xfrm flipH="1" rot="18888600">
                  <a:off x="3254400" y="3170880"/>
                  <a:ext cx="2125800" cy="38448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flipH="1" rot="18888600">
                  <a:off x="2692440" y="4296240"/>
                  <a:ext cx="1140840" cy="6040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2085120" y="2366640"/>
                <a:ext cx="3041280" cy="2529720"/>
                <a:chOff x="2085120" y="2366640"/>
                <a:chExt cx="3041280" cy="2529720"/>
              </a:xfrm>
            </p:grpSpPr>
            <p:sp>
              <p:nvSpPr>
                <p:cNvPr id="194" name=""/>
                <p:cNvSpPr/>
                <p:nvPr/>
              </p:nvSpPr>
              <p:spPr>
                <a:xfrm flipH="1" rot="19496400">
                  <a:off x="2969640" y="2970000"/>
                  <a:ext cx="2236680" cy="42768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 flipH="1" rot="19496400">
                  <a:off x="2169360" y="3939840"/>
                  <a:ext cx="1200960" cy="6724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2040840" y="2283480"/>
                <a:ext cx="3096360" cy="1992600"/>
                <a:chOff x="2040840" y="2283480"/>
                <a:chExt cx="3096360" cy="1992600"/>
              </a:xfrm>
            </p:grpSpPr>
            <p:sp>
              <p:nvSpPr>
                <p:cNvPr id="197" name=""/>
                <p:cNvSpPr/>
                <p:nvPr/>
              </p:nvSpPr>
              <p:spPr>
                <a:xfrm flipH="1" rot="20017200">
                  <a:off x="3023640" y="2739240"/>
                  <a:ext cx="2140920" cy="3751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flipH="1" rot="20017200">
                  <a:off x="2111040" y="3464280"/>
                  <a:ext cx="1149120" cy="58716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2010960" y="2188440"/>
                <a:ext cx="3134160" cy="1607760"/>
                <a:chOff x="2010960" y="2188440"/>
                <a:chExt cx="3134160" cy="1607760"/>
              </a:xfrm>
            </p:grpSpPr>
            <p:sp>
              <p:nvSpPr>
                <p:cNvPr id="200" name=""/>
                <p:cNvSpPr/>
                <p:nvPr/>
              </p:nvSpPr>
              <p:spPr>
                <a:xfrm flipH="1" rot="20520000">
                  <a:off x="3063600" y="2497680"/>
                  <a:ext cx="2067840" cy="4129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flipH="1" rot="20520000">
                  <a:off x="2083680" y="2991960"/>
                  <a:ext cx="1110600" cy="64836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2166120" y="2098080"/>
                <a:ext cx="2940840" cy="1002240"/>
                <a:chOff x="2166120" y="2098080"/>
                <a:chExt cx="2940840" cy="1002240"/>
              </a:xfrm>
            </p:grpSpPr>
            <p:sp>
              <p:nvSpPr>
                <p:cNvPr id="203" name=""/>
                <p:cNvSpPr/>
                <p:nvPr/>
              </p:nvSpPr>
              <p:spPr>
                <a:xfrm flipH="1" rot="21136800">
                  <a:off x="3184560" y="2224080"/>
                  <a:ext cx="1904760" cy="3848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flipH="1" rot="21136800">
                  <a:off x="2201400" y="2431080"/>
                  <a:ext cx="1023120" cy="60300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2403720" y="2033640"/>
                <a:ext cx="2658600" cy="446040"/>
                <a:chOff x="2403720" y="2033640"/>
                <a:chExt cx="2658600" cy="446040"/>
              </a:xfrm>
            </p:grpSpPr>
            <p:sp>
              <p:nvSpPr>
                <p:cNvPr id="206" name=""/>
                <p:cNvSpPr/>
                <p:nvPr/>
              </p:nvSpPr>
              <p:spPr>
                <a:xfrm flipH="1" rot="84600">
                  <a:off x="3327840" y="2069640"/>
                  <a:ext cx="1730880" cy="26928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H="1" rot="84600">
                  <a:off x="2408760" y="2044800"/>
                  <a:ext cx="929520" cy="42300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2760840" y="1522440"/>
                <a:ext cx="2363760" cy="787320"/>
                <a:chOff x="2760840" y="1522440"/>
                <a:chExt cx="2363760" cy="787320"/>
              </a:xfrm>
            </p:grpSpPr>
            <p:sp>
              <p:nvSpPr>
                <p:cNvPr id="209" name=""/>
                <p:cNvSpPr/>
                <p:nvPr/>
              </p:nvSpPr>
              <p:spPr>
                <a:xfrm flipH="1" rot="802800">
                  <a:off x="3594240" y="1872360"/>
                  <a:ext cx="1520280" cy="26496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H="1" rot="802800">
                  <a:off x="2797560" y="1611000"/>
                  <a:ext cx="816120" cy="4165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2887200" y="1236600"/>
                <a:ext cx="2325240" cy="1084320"/>
                <a:chOff x="2887200" y="1236600"/>
                <a:chExt cx="2325240" cy="1084320"/>
              </a:xfrm>
            </p:grpSpPr>
            <p:sp>
              <p:nvSpPr>
                <p:cNvPr id="212" name=""/>
                <p:cNvSpPr/>
                <p:nvPr/>
              </p:nvSpPr>
              <p:spPr>
                <a:xfrm flipH="1" rot="1278000">
                  <a:off x="3695760" y="1788480"/>
                  <a:ext cx="1520280" cy="26496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flipH="1" rot="1278000">
                  <a:off x="2934360" y="1370520"/>
                  <a:ext cx="816480" cy="4165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3160440" y="831240"/>
                <a:ext cx="2170800" cy="1508040"/>
                <a:chOff x="3160440" y="831240"/>
                <a:chExt cx="2170800" cy="1508040"/>
              </a:xfrm>
            </p:grpSpPr>
            <p:sp>
              <p:nvSpPr>
                <p:cNvPr id="215" name=""/>
                <p:cNvSpPr/>
                <p:nvPr/>
              </p:nvSpPr>
              <p:spPr>
                <a:xfrm flipH="1" rot="2028600">
                  <a:off x="3864960" y="1673640"/>
                  <a:ext cx="1520280" cy="26496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flipH="1" rot="2028600">
                  <a:off x="3207240" y="1022760"/>
                  <a:ext cx="816120" cy="4168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3437640" y="436320"/>
                <a:ext cx="1987200" cy="1831320"/>
                <a:chOff x="3437640" y="436320"/>
                <a:chExt cx="1987200" cy="1831320"/>
              </a:xfrm>
            </p:grpSpPr>
            <p:sp>
              <p:nvSpPr>
                <p:cNvPr id="218" name=""/>
                <p:cNvSpPr/>
                <p:nvPr/>
              </p:nvSpPr>
              <p:spPr>
                <a:xfrm flipH="1" rot="2664600">
                  <a:off x="4009680" y="1500840"/>
                  <a:ext cx="1542600" cy="26496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 rot="2664600">
                  <a:off x="3464280" y="666720"/>
                  <a:ext cx="828360" cy="41616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4026960" y="335520"/>
                <a:ext cx="1461240" cy="1885680"/>
                <a:chOff x="4026960" y="335520"/>
                <a:chExt cx="1461240" cy="1885680"/>
              </a:xfrm>
            </p:grpSpPr>
            <p:sp>
              <p:nvSpPr>
                <p:cNvPr id="221" name=""/>
                <p:cNvSpPr/>
                <p:nvPr/>
              </p:nvSpPr>
              <p:spPr>
                <a:xfrm flipH="1" rot="3474000">
                  <a:off x="4336920" y="1443600"/>
                  <a:ext cx="1356480" cy="26496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flipH="1" rot="3474000">
                  <a:off x="4032360" y="546120"/>
                  <a:ext cx="729000" cy="4168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4448160" y="245520"/>
                <a:ext cx="1121760" cy="1946520"/>
                <a:chOff x="4448160" y="245520"/>
                <a:chExt cx="1121760" cy="1946520"/>
              </a:xfrm>
            </p:grpSpPr>
            <p:sp>
              <p:nvSpPr>
                <p:cNvPr id="224" name=""/>
                <p:cNvSpPr/>
                <p:nvPr/>
              </p:nvSpPr>
              <p:spPr>
                <a:xfrm flipH="1" rot="4126800">
                  <a:off x="4555080" y="1401840"/>
                  <a:ext cx="1308240" cy="26496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 flipH="1" rot="4126800">
                  <a:off x="4417560" y="440280"/>
                  <a:ext cx="702720" cy="4165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5661720" y="952560"/>
                <a:ext cx="2317320" cy="1112040"/>
                <a:chOff x="5661720" y="952560"/>
                <a:chExt cx="2317320" cy="1112040"/>
              </a:xfrm>
            </p:grpSpPr>
            <p:sp>
              <p:nvSpPr>
                <p:cNvPr id="227" name=""/>
                <p:cNvSpPr/>
                <p:nvPr/>
              </p:nvSpPr>
              <p:spPr>
                <a:xfrm rot="20274000">
                  <a:off x="5655600" y="1523160"/>
                  <a:ext cx="1519920" cy="26496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rot="20274000">
                  <a:off x="7114320" y="1090800"/>
                  <a:ext cx="816120" cy="4165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" name=""/>
              <p:cNvGrpSpPr/>
              <p:nvPr/>
            </p:nvGrpSpPr>
            <p:grpSpPr>
              <a:xfrm>
                <a:off x="5529600" y="626400"/>
                <a:ext cx="2198880" cy="1451160"/>
                <a:chOff x="5529600" y="626400"/>
                <a:chExt cx="2198880" cy="1451160"/>
              </a:xfrm>
            </p:grpSpPr>
            <p:sp>
              <p:nvSpPr>
                <p:cNvPr id="230" name=""/>
                <p:cNvSpPr/>
                <p:nvPr/>
              </p:nvSpPr>
              <p:spPr>
                <a:xfrm rot="19678800">
                  <a:off x="5483880" y="1429560"/>
                  <a:ext cx="1519920" cy="26496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rot="19678800">
                  <a:off x="6863760" y="810720"/>
                  <a:ext cx="816120" cy="4168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"/>
              <p:cNvSpPr/>
              <p:nvPr/>
            </p:nvSpPr>
            <p:spPr>
              <a:xfrm flipH="1" rot="4578600">
                <a:off x="4766400" y="1466280"/>
                <a:ext cx="1266120" cy="17856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e103"/>
                  </a:gs>
                  <a:gs pos="100000">
                    <a:srgbClr val="fe1f0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 rot="4578600">
                <a:off x="4794480" y="538560"/>
                <a:ext cx="680760" cy="28224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grpSp>
            <p:nvGrpSpPr>
              <p:cNvPr id="234" name=""/>
              <p:cNvGrpSpPr/>
              <p:nvPr/>
            </p:nvGrpSpPr>
            <p:grpSpPr>
              <a:xfrm>
                <a:off x="5355720" y="270000"/>
                <a:ext cx="1196280" cy="1901160"/>
                <a:chOff x="5355720" y="270000"/>
                <a:chExt cx="1196280" cy="1901160"/>
              </a:xfrm>
            </p:grpSpPr>
            <p:sp>
              <p:nvSpPr>
                <p:cNvPr id="235" name=""/>
                <p:cNvSpPr/>
                <p:nvPr/>
              </p:nvSpPr>
              <p:spPr>
                <a:xfrm rot="17742000">
                  <a:off x="5086800" y="1418400"/>
                  <a:ext cx="1309680" cy="22680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rot="17742000">
                  <a:off x="5888160" y="485280"/>
                  <a:ext cx="702360" cy="3560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5347440" y="388800"/>
                <a:ext cx="1891440" cy="1796760"/>
                <a:chOff x="5347440" y="388800"/>
                <a:chExt cx="1891440" cy="1796760"/>
              </a:xfrm>
            </p:grpSpPr>
            <p:sp>
              <p:nvSpPr>
                <p:cNvPr id="238" name=""/>
                <p:cNvSpPr/>
                <p:nvPr/>
              </p:nvSpPr>
              <p:spPr>
                <a:xfrm rot="18822600">
                  <a:off x="5247360" y="1389600"/>
                  <a:ext cx="1424160" cy="3326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rot="18822600">
                  <a:off x="6404040" y="584280"/>
                  <a:ext cx="764280" cy="5212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5458320" y="292680"/>
                <a:ext cx="426960" cy="1795320"/>
                <a:chOff x="5458320" y="292680"/>
                <a:chExt cx="426960" cy="1795320"/>
              </a:xfrm>
            </p:grpSpPr>
            <p:sp>
              <p:nvSpPr>
                <p:cNvPr id="241" name=""/>
                <p:cNvSpPr/>
                <p:nvPr/>
              </p:nvSpPr>
              <p:spPr>
                <a:xfrm rot="16696200">
                  <a:off x="5007240" y="1445760"/>
                  <a:ext cx="1175760" cy="1058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 rot="16696200">
                  <a:off x="5442120" y="533880"/>
                  <a:ext cx="631080" cy="16596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3062880" y="2530440"/>
                <a:ext cx="2195280" cy="3003480"/>
                <a:chOff x="3062880" y="2530440"/>
                <a:chExt cx="2195280" cy="3003480"/>
              </a:xfrm>
            </p:grpSpPr>
            <p:sp>
              <p:nvSpPr>
                <p:cNvPr id="244" name=""/>
                <p:cNvSpPr/>
                <p:nvPr/>
              </p:nvSpPr>
              <p:spPr>
                <a:xfrm flipH="1" rot="18336000">
                  <a:off x="3420000" y="3314160"/>
                  <a:ext cx="2125440" cy="38448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8336000">
                  <a:off x="3069720" y="4592160"/>
                  <a:ext cx="1140480" cy="6040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3791520" y="2650320"/>
                <a:ext cx="1482840" cy="3000240"/>
                <a:chOff x="3791520" y="2650320"/>
                <a:chExt cx="1482840" cy="3000240"/>
              </a:xfrm>
            </p:grpSpPr>
            <p:sp>
              <p:nvSpPr>
                <p:cNvPr id="247" name=""/>
                <p:cNvSpPr/>
                <p:nvPr/>
              </p:nvSpPr>
              <p:spPr>
                <a:xfrm flipH="1" rot="17543400">
                  <a:off x="3737880" y="3440160"/>
                  <a:ext cx="1966680" cy="3848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flipH="1" rot="17543400">
                  <a:off x="3743640" y="4745520"/>
                  <a:ext cx="1055160" cy="603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4509000" y="2703240"/>
                <a:ext cx="874800" cy="2927520"/>
                <a:chOff x="4509000" y="2703240"/>
                <a:chExt cx="874800" cy="2927520"/>
              </a:xfrm>
            </p:grpSpPr>
            <p:sp>
              <p:nvSpPr>
                <p:cNvPr id="250" name=""/>
                <p:cNvSpPr/>
                <p:nvPr/>
              </p:nvSpPr>
              <p:spPr>
                <a:xfrm flipH="1" rot="16870800">
                  <a:off x="4087440" y="3489120"/>
                  <a:ext cx="1886760" cy="3463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flipH="1" rot="16870800">
                  <a:off x="4367520" y="4808880"/>
                  <a:ext cx="1012320" cy="5443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5678280" y="2482920"/>
                <a:ext cx="2280240" cy="2953800"/>
                <a:chOff x="5678280" y="2482920"/>
                <a:chExt cx="2280240" cy="2953800"/>
              </a:xfrm>
            </p:grpSpPr>
            <p:sp>
              <p:nvSpPr>
                <p:cNvPr id="253" name=""/>
                <p:cNvSpPr/>
                <p:nvPr/>
              </p:nvSpPr>
              <p:spPr>
                <a:xfrm rot="3144000">
                  <a:off x="5415840" y="3250080"/>
                  <a:ext cx="2125800" cy="38448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rot="3144000">
                  <a:off x="6800760" y="4498200"/>
                  <a:ext cx="1140480" cy="6040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5648400" y="2593440"/>
                <a:ext cx="1758240" cy="3032280"/>
                <a:chOff x="5648400" y="2593440"/>
                <a:chExt cx="1758240" cy="3032280"/>
              </a:xfrm>
            </p:grpSpPr>
            <p:sp>
              <p:nvSpPr>
                <p:cNvPr id="256" name=""/>
                <p:cNvSpPr/>
                <p:nvPr/>
              </p:nvSpPr>
              <p:spPr>
                <a:xfrm rot="3745200">
                  <a:off x="5265360" y="3395880"/>
                  <a:ext cx="2034360" cy="3686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rot="3745200">
                  <a:off x="6352200" y="4719240"/>
                  <a:ext cx="1091160" cy="57816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5576400" y="2710800"/>
                <a:ext cx="1224720" cy="2986920"/>
                <a:chOff x="5576400" y="2710800"/>
                <a:chExt cx="1224720" cy="2986920"/>
              </a:xfrm>
            </p:grpSpPr>
            <p:sp>
              <p:nvSpPr>
                <p:cNvPr id="259" name=""/>
                <p:cNvSpPr/>
                <p:nvPr/>
              </p:nvSpPr>
              <p:spPr>
                <a:xfrm rot="4286400">
                  <a:off x="5047200" y="3542760"/>
                  <a:ext cx="1973880" cy="3031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 rot="4286400">
                  <a:off x="5877360" y="4881600"/>
                  <a:ext cx="1059120" cy="4759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5521320" y="2840760"/>
                <a:ext cx="696960" cy="2777400"/>
                <a:chOff x="5521320" y="2840760"/>
                <a:chExt cx="696960" cy="2777400"/>
              </a:xfrm>
            </p:grpSpPr>
            <p:sp>
              <p:nvSpPr>
                <p:cNvPr id="262" name=""/>
                <p:cNvSpPr/>
                <p:nvPr/>
              </p:nvSpPr>
              <p:spPr>
                <a:xfrm rot="4898400">
                  <a:off x="4896000" y="3608280"/>
                  <a:ext cx="1814040" cy="3031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rot="4898400">
                  <a:off x="5425200" y="4863960"/>
                  <a:ext cx="974160" cy="47556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4960800" y="2887560"/>
                <a:ext cx="663480" cy="2717640"/>
                <a:chOff x="4960800" y="2887560"/>
                <a:chExt cx="663480" cy="2717640"/>
              </a:xfrm>
            </p:grpSpPr>
            <p:sp>
              <p:nvSpPr>
                <p:cNvPr id="265" name=""/>
                <p:cNvSpPr/>
                <p:nvPr/>
              </p:nvSpPr>
              <p:spPr>
                <a:xfrm rot="5755200">
                  <a:off x="4531680" y="3664800"/>
                  <a:ext cx="1771920" cy="23148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 rot="5755200">
                  <a:off x="4714920" y="4931640"/>
                  <a:ext cx="950760" cy="3632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7" name=""/>
            <p:cNvGrpSpPr/>
            <p:nvPr/>
          </p:nvGrpSpPr>
          <p:grpSpPr>
            <a:xfrm>
              <a:off x="2174760" y="682560"/>
              <a:ext cx="6964560" cy="7270560"/>
              <a:chOff x="2174760" y="682560"/>
              <a:chExt cx="6964560" cy="7270560"/>
            </a:xfrm>
          </p:grpSpPr>
          <p:grpSp>
            <p:nvGrpSpPr>
              <p:cNvPr id="268" name=""/>
              <p:cNvGrpSpPr/>
              <p:nvPr/>
            </p:nvGrpSpPr>
            <p:grpSpPr>
              <a:xfrm>
                <a:off x="2174760" y="682560"/>
                <a:ext cx="6964560" cy="7270560"/>
                <a:chOff x="2174760" y="682560"/>
                <a:chExt cx="6964560" cy="7270560"/>
              </a:xfrm>
            </p:grpSpPr>
            <p:sp>
              <p:nvSpPr>
                <p:cNvPr id="269" name=""/>
                <p:cNvSpPr/>
                <p:nvPr/>
              </p:nvSpPr>
              <p:spPr>
                <a:xfrm flipV="1">
                  <a:off x="5416200" y="857880"/>
                  <a:ext cx="3723120" cy="5046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0252" y="16026"/>
                      </a:moveTo>
                      <a:arcTo wR="10800" hR="10800" stAng="1736257" swAng="700086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0252" y="16026"/>
                      </a:moveTo>
                      <a:arcTo wR="10800" hR="10800" stAng="1736257" swAng="7000867"/>
                    </a:path>
                  </a:pathLst>
                </a:custGeom>
                <a:noFill/>
                <a:ln w="9360">
                  <a:solidFill>
                    <a:srgbClr val="ff8b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 flipH="1">
                  <a:off x="2561400" y="2270880"/>
                  <a:ext cx="3524040" cy="5682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364" y="953"/>
                      </a:moveTo>
                      <a:arcTo wR="10800" hR="10800" stAng="-6855230" swAng="696739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364" y="953"/>
                      </a:moveTo>
                      <a:arcTo wR="10800" hR="10800" stAng="-6855230" swAng="6967398"/>
                    </a:path>
                  </a:pathLst>
                </a:custGeom>
                <a:noFill/>
                <a:ln w="9360">
                  <a:solidFill>
                    <a:srgbClr val="fe1f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5395680" y="1752840"/>
                  <a:ext cx="2181600" cy="5682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194" y="2256"/>
                      </a:moveTo>
                      <a:arcTo wR="10800" hR="10800" stAng="-7662683" swAng="777485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194" y="2256"/>
                      </a:moveTo>
                      <a:arcTo wR="10800" hR="10800" stAng="-7662683" swAng="7774851"/>
                    </a:path>
                  </a:pathLst>
                </a:custGeom>
                <a:noFill/>
                <a:ln w="9360">
                  <a:solidFill>
                    <a:srgbClr val="ff8b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 flipH="1">
                  <a:off x="2174760" y="1299240"/>
                  <a:ext cx="3674160" cy="5682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185" y="3141"/>
                      </a:moveTo>
                      <a:arcTo wR="10800" hR="10800" stAng="-8090128" swAng="820229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185" y="3141"/>
                      </a:moveTo>
                      <a:arcTo wR="10800" hR="10800" stAng="-8090128" swAng="8202296"/>
                    </a:path>
                  </a:pathLst>
                </a:custGeom>
                <a:noFill/>
                <a:ln w="9360">
                  <a:solidFill>
                    <a:srgbClr val="fe1f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flipH="1">
                  <a:off x="2488320" y="682560"/>
                  <a:ext cx="3090600" cy="5682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685" y="5008"/>
                      </a:moveTo>
                      <a:arcTo wR="10800" hR="10800" stAng="-8854059" swAng="58056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685" y="5008"/>
                      </a:moveTo>
                      <a:arcTo wR="10800" hR="10800" stAng="-8854059" swAng="5805659"/>
                    </a:path>
                  </a:pathLst>
                </a:custGeom>
                <a:noFill/>
                <a:ln w="9360">
                  <a:solidFill>
                    <a:srgbClr val="ff8b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5237640" y="1876320"/>
                  <a:ext cx="1306080" cy="5682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194" y="2256"/>
                      </a:moveTo>
                      <a:arcTo wR="10800" hR="10800" stAng="-7662683" swAng="563021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194" y="2256"/>
                      </a:moveTo>
                      <a:arcTo wR="10800" hR="10800" stAng="-7662683" swAng="5630217"/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H="1">
                  <a:off x="4302720" y="836640"/>
                  <a:ext cx="515160" cy="18795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e1f0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6" name=""/>
              <p:cNvSpPr/>
              <p:nvPr/>
            </p:nvSpPr>
            <p:spPr>
              <a:xfrm rot="20253000">
                <a:off x="6128640" y="218196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78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3" name=""/>
          <p:cNvSpPr/>
          <p:nvPr/>
        </p:nvSpPr>
        <p:spPr>
          <a:xfrm>
            <a:off x="-15840" y="5832360"/>
            <a:ext cx="9326520" cy="1089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997680" y="6207120"/>
            <a:ext cx="1904760" cy="581040"/>
            <a:chOff x="6997680" y="6207120"/>
            <a:chExt cx="1904760" cy="581040"/>
          </a:xfrm>
        </p:grpSpPr>
        <p:sp>
          <p:nvSpPr>
            <p:cNvPr id="295" name=""/>
            <p:cNvSpPr txBox="1"/>
            <p:nvPr/>
          </p:nvSpPr>
          <p:spPr>
            <a:xfrm>
              <a:off x="8371800" y="6428160"/>
              <a:ext cx="530640" cy="36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7903440" y="6299280"/>
              <a:ext cx="686880" cy="488520"/>
              <a:chOff x="7903440" y="6299280"/>
              <a:chExt cx="686880" cy="488520"/>
            </a:xfrm>
          </p:grpSpPr>
          <p:sp>
            <p:nvSpPr>
              <p:cNvPr id="297" name=""/>
              <p:cNvSpPr/>
              <p:nvPr/>
            </p:nvSpPr>
            <p:spPr>
              <a:xfrm>
                <a:off x="7903440" y="6299280"/>
                <a:ext cx="686880" cy="48852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8096400" y="6351840"/>
                <a:ext cx="317880" cy="27216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299" name=""/>
            <p:cNvSpPr txBox="1"/>
            <p:nvPr/>
          </p:nvSpPr>
          <p:spPr>
            <a:xfrm>
              <a:off x="6997680" y="6207120"/>
              <a:ext cx="1280520" cy="34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indent="274680" algn="ctr">
              <a:buClr>
                <a:srgbClr val="ffcc00"/>
              </a:buClr>
              <a:buSzPct val="60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indent="160200" algn="ctr"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indent="46080" algn="ctr">
              <a:buClr>
                <a:srgbClr val="ffcc00"/>
              </a:buClr>
              <a:buFont typeface="Arial Black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 indent="46080">
              <a:spcBef>
                <a:spcPts val="451"/>
              </a:spcBef>
              <a:buClr>
                <a:srgbClr val="ffcc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 indent="46080">
              <a:spcBef>
                <a:spcPts val="451"/>
              </a:spcBef>
              <a:buClr>
                <a:srgbClr val="ffcc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5360" y="41842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orth of July Celebr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-Line Skating Race in the Park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1049"/>
              </a:spcBef>
              <a:spcAft>
                <a:spcPts val="1049"/>
              </a:spcAft>
              <a:buClr>
                <a:srgbClr val="fe1f08"/>
              </a:buClr>
              <a:buSzPct val="11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Registraton is at 7:00 am on July 4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450720" indent="-450720">
              <a:spcBef>
                <a:spcPts val="1049"/>
              </a:spcBef>
              <a:spcAft>
                <a:spcPts val="1049"/>
              </a:spcAft>
              <a:buClr>
                <a:srgbClr val="fe1f08"/>
              </a:buClr>
              <a:buSzPct val="11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tarting time is 8:15 am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450720" indent="-450720">
              <a:spcBef>
                <a:spcPts val="1049"/>
              </a:spcBef>
              <a:spcAft>
                <a:spcPts val="1049"/>
              </a:spcAft>
              <a:buClr>
                <a:srgbClr val="fe1f08"/>
              </a:buClr>
              <a:buSzPct val="11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Early registration forms must be postmarked no later than June 29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pecial Menu Item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7846920" cy="42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1049"/>
              </a:spcBef>
              <a:spcAft>
                <a:spcPts val="1049"/>
              </a:spcAft>
              <a:buClr>
                <a:srgbClr val="fe1f08"/>
              </a:buClr>
              <a:buSzPct val="11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Firecracker salsa and chip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1074600" indent="-509400">
              <a:buClr>
                <a:srgbClr val="ffffff"/>
              </a:buClr>
              <a:buSzPct val="70000"/>
              <a:buFont typeface="Wingdings" charset="2"/>
              <a:buChar char="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Generously laden with jalapenos and fresh organic tomatoe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450720" indent="-450720">
              <a:spcBef>
                <a:spcPts val="1049"/>
              </a:spcBef>
              <a:spcAft>
                <a:spcPts val="1049"/>
              </a:spcAft>
              <a:buClr>
                <a:srgbClr val="fe1f08"/>
              </a:buClr>
              <a:buSzPct val="11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Watermelon slurpe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1074600" indent="-509400">
              <a:buClr>
                <a:srgbClr val="ffffff"/>
              </a:buClr>
              <a:buSzPct val="70000"/>
              <a:buFont typeface="Wingdings" charset="2"/>
              <a:buChar char="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A cool treat for a hot summer day, and no seeds to spoil the fu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450720" indent="-450720">
              <a:spcBef>
                <a:spcPts val="1049"/>
              </a:spcBef>
              <a:spcAft>
                <a:spcPts val="1049"/>
              </a:spcAft>
              <a:buClr>
                <a:srgbClr val="fe1f08"/>
              </a:buClr>
              <a:buSzPct val="11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Red, white &amp; blue mouss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1074600" indent="-509400">
              <a:buClr>
                <a:srgbClr val="ffffff"/>
              </a:buClr>
              <a:buSzPct val="70000"/>
              <a:buFont typeface="Wingdings" charset="2"/>
              <a:buChar char="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Low-fat vanilla mousse with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rasberries and blueberrie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kating Race Rul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1049"/>
              </a:spcBef>
              <a:spcAft>
                <a:spcPts val="1049"/>
              </a:spcAft>
              <a:buClr>
                <a:srgbClr val="fe1f08"/>
              </a:buClr>
              <a:buSzPct val="11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ll racers must be wearing the following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1074600" indent="-509400">
              <a:lnSpc>
                <a:spcPct val="120000"/>
              </a:lnSpc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Helme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1074600" indent="-509400">
              <a:lnSpc>
                <a:spcPct val="120000"/>
              </a:lnSpc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Wrist guard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1074600" indent="-509400">
              <a:lnSpc>
                <a:spcPct val="120000"/>
              </a:lnSpc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Elbow and knee pad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450720" indent="-450720">
              <a:spcBef>
                <a:spcPts val="1049"/>
              </a:spcBef>
              <a:spcAft>
                <a:spcPts val="1049"/>
              </a:spcAft>
              <a:buClr>
                <a:srgbClr val="fe1f08"/>
              </a:buClr>
              <a:buSzPct val="11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Racers under age 18 must have parent or gurdian sign waiver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NTERTAINMEN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1049"/>
              </a:spcBef>
              <a:spcAft>
                <a:spcPts val="1049"/>
              </a:spcAft>
              <a:buClr>
                <a:srgbClr val="fe1f08"/>
              </a:buClr>
              <a:buSzPct val="11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Electrolytes will pla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450720" indent="-450720">
              <a:spcBef>
                <a:spcPts val="1049"/>
              </a:spcBef>
              <a:spcAft>
                <a:spcPts val="1049"/>
              </a:spcAft>
              <a:buClr>
                <a:srgbClr val="fe1f08"/>
              </a:buClr>
              <a:buSzPct val="11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Once again, Marsha Miles will lead the dancing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450720" indent="-450720">
              <a:spcBef>
                <a:spcPts val="1049"/>
              </a:spcBef>
              <a:spcAft>
                <a:spcPts val="1049"/>
              </a:spcAft>
              <a:buClr>
                <a:srgbClr val="fe1f08"/>
              </a:buClr>
              <a:buSzPct val="11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National In-Line Skate demo team will perform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03T14:33:06Z</dcterms:created>
  <dc:creator>Pat R. Graves</dc:creator>
  <dc:description/>
  <dc:language>en-US</dc:language>
  <cp:lastModifiedBy>Student name</cp:lastModifiedBy>
  <dcterms:modified xsi:type="dcterms:W3CDTF">2004-04-01T05:11:33Z</dcterms:modified>
  <cp:revision>23</cp:revision>
  <dc:subject/>
  <dc:title>Good 4 U  Fourth of July Celebration</dc:title>
</cp:coreProperties>
</file>