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31C-2A85-4ABC-9849-47221102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63F-A726-4542-AD3E-58350963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C51-6A71-49E4-BF12-F2D89111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BD7-619B-428E-B023-09322465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4FBF-0A59-4324-B113-0789E12F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F5E1-F9AA-46F3-BFE9-5294DC52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2FC9-5502-45FC-8613-468076E3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396E-0F91-4936-A01F-AD78CC96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BA7C-410A-479B-BAB2-4F674D08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4B4F-8D78-41F3-BB16-F19BCFEB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99DA-512F-421A-B235-5E11472B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02C-CD2E-4BFD-91D1-7784773C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E975-F906-487A-A335-F1C5F388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4C02-3089-41FC-8F09-0BCDF5CC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EFD0-0D45-4DD0-B736-35FCB3AC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B05B-1A99-4840-BD27-F25FC182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30FF-17CF-4522-AA8A-3841FF90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54E-A82C-4749-A0FC-92709A73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7ED-82A4-4B65-8784-3176DA80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1302-B3D3-4517-924D-2B7B1DEF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9E9-78EF-4732-9FF3-986FE46B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F39-CDBF-43B3-A78D-5140C2DB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635-7544-4F0D-9047-7FED7D71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717-0435-40D1-A40E-CC623FF3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16292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1440"/>
            <a:ext cx="7543800" cy="381240"/>
          </a:xfrm>
          <a:prstGeom prst="rect">
            <a:avLst/>
          </a:prstGeom>
          <a:gradFill rotWithShape="0">
            <a:gsLst>
              <a:gs pos="0">
                <a:srgbClr val="a1da56"/>
              </a:gs>
              <a:gs pos="100000">
                <a:srgbClr val="7aa5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00200" y="382680"/>
            <a:ext cx="7543800" cy="75960"/>
          </a:xfrm>
          <a:prstGeom prst="rect">
            <a:avLst/>
          </a:prstGeom>
          <a:gradFill rotWithShape="0">
            <a:gsLst>
              <a:gs pos="0">
                <a:srgbClr val="fee168"/>
              </a:gs>
              <a:gs pos="100000">
                <a:srgbClr val="dac1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665360" y="0"/>
            <a:ext cx="747864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2280" y="1916280"/>
            <a:ext cx="6858000" cy="4941720"/>
          </a:xfrm>
          <a:custGeom>
            <a:avLst/>
            <a:gdLst/>
            <a:ahLst/>
            <a:rect l="l" t="t" r="r" b="b"/>
            <a:pathLst>
              <a:path w="4320" h="3264">
                <a:moveTo>
                  <a:pt x="0" y="3264"/>
                </a:moveTo>
                <a:lnTo>
                  <a:pt x="0" y="0"/>
                </a:lnTo>
                <a:lnTo>
                  <a:pt x="4320" y="0"/>
                </a:lnTo>
              </a:path>
            </a:pathLst>
          </a:custGeom>
          <a:noFill/>
          <a:ln w="9360">
            <a:solidFill>
              <a:srgbClr val="fee1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52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0336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34144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798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700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2" marL="1193760" indent="-228600">
              <a:spcBef>
                <a:spcPts val="700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E992-8E12-4352-B1FB-BE29F523CD21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352680"/>
            <a:ext cx="5781600" cy="149040"/>
            <a:chOff x="0" y="3352680"/>
            <a:chExt cx="5781600" cy="149040"/>
          </a:xfrm>
        </p:grpSpPr>
        <p:sp>
          <p:nvSpPr>
            <p:cNvPr id="51" name=""/>
            <p:cNvSpPr/>
            <p:nvPr/>
          </p:nvSpPr>
          <p:spPr>
            <a:xfrm>
              <a:off x="0" y="3438360"/>
              <a:ext cx="5781600" cy="1800"/>
            </a:xfrm>
            <a:custGeom>
              <a:avLst/>
              <a:gdLst/>
              <a:ahLst/>
              <a:rect l="l" t="t" r="r" b="b"/>
              <a:pathLst>
                <a:path w="3642" h="1">
                  <a:moveTo>
                    <a:pt x="0" y="0"/>
                  </a:moveTo>
                  <a:lnTo>
                    <a:pt x="3642" y="0"/>
                  </a:lnTo>
                </a:path>
              </a:pathLst>
            </a:custGeom>
            <a:noFill/>
            <a:ln w="9360">
              <a:solidFill>
                <a:srgbClr val="fee1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523880" y="3352680"/>
              <a:ext cx="2663640" cy="149040"/>
              <a:chOff x="1523880" y="3352680"/>
              <a:chExt cx="2663640" cy="149040"/>
            </a:xfrm>
          </p:grpSpPr>
          <p:sp>
            <p:nvSpPr>
              <p:cNvPr id="53" name=""/>
              <p:cNvSpPr/>
              <p:nvPr/>
            </p:nvSpPr>
            <p:spPr>
              <a:xfrm>
                <a:off x="15238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6196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04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0384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2CE6-F4D5-4C96-959E-B34F0F0B479E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44000" cy="2438280"/>
            <a:chOff x="0" y="0"/>
            <a:chExt cx="9144000" cy="243828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243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600200" y="0"/>
              <a:ext cx="7543800" cy="458640"/>
              <a:chOff x="1600200" y="0"/>
              <a:chExt cx="7543800" cy="458640"/>
            </a:xfrm>
          </p:grpSpPr>
          <p:sp>
            <p:nvSpPr>
              <p:cNvPr id="63" name=""/>
              <p:cNvSpPr/>
              <p:nvPr/>
            </p:nvSpPr>
            <p:spPr>
              <a:xfrm>
                <a:off x="1600200" y="1440"/>
                <a:ext cx="7543800" cy="380880"/>
              </a:xfrm>
              <a:prstGeom prst="rect">
                <a:avLst/>
              </a:prstGeom>
              <a:gradFill rotWithShape="0">
                <a:gsLst>
                  <a:gs pos="0">
                    <a:srgbClr val="a1da56"/>
                  </a:gs>
                  <a:gs pos="100000">
                    <a:srgbClr val="7aa5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00200" y="382320"/>
                <a:ext cx="7543800" cy="76320"/>
              </a:xfrm>
              <a:prstGeom prst="rect">
                <a:avLst/>
              </a:prstGeom>
              <a:gradFill rotWithShape="0">
                <a:gsLst>
                  <a:gs pos="0">
                    <a:srgbClr val="fee168"/>
                  </a:gs>
                  <a:gs pos="100000">
                    <a:srgbClr val="dac1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5360" y="0"/>
                <a:ext cx="7478640" cy="31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lvl="2" marL="914400" indent="50760" algn="ctr">
              <a:spcBef>
                <a:spcPts val="499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c395e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539720"/>
            <a:ext cx="8534160" cy="143208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2c395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Good 4 U</a:t>
            </a:r>
            <a:br>
              <a:rPr sz="60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ummertime Samples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33160" y="3809880"/>
            <a:ext cx="81090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1da56"/>
                </a:solidFill>
                <a:latin typeface="Tahoma"/>
              </a:rPr>
              <a:t>Food Sample Planning Session</a:t>
            </a:r>
            <a:endParaRPr b="0" lang="en-US" sz="44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r the Annual Franchise Convent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o be held in Minneapoli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etizer Speci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Mango Suprem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Ripe mango slices served on a bed of lettuce and topped with raspberry vinaigrette dressing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almon Tidbit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Tiny open-face salmon sandwich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ruity Chicke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chicken strips with fresh orange and pineapple slices</a:t>
            </a: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Main Cou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ex-Mex Tofu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tofu slices with low-fat barbecue sauce, jalapenos, black beans, and Julie’s special spic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hicken and Potato Salad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cold in a baked taco shell with plenty of lettuce and veggi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Swordfish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in a light dill sauce with wild ri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ser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Papaya Sunda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Icy papaya sherbet served with raspberry yogurt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Bananas and Peache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Bananas and peaches wrapped in soft taco shells, grilled, and topped with vanilla yogurt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Rice Pudding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Julie’s unique low-fat pudding, served warm with cherry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22:17:06Z</dcterms:created>
  <dc:creator>Pat R. Graves</dc:creator>
  <dc:description/>
  <dc:language>en-US</dc:language>
  <cp:lastModifiedBy>Student Name</cp:lastModifiedBy>
  <dcterms:modified xsi:type="dcterms:W3CDTF">2004-04-03T05:01:29Z</dcterms:modified>
  <cp:revision>29</cp:revision>
  <dc:subject/>
  <dc:title>Summertime Samples</dc:title>
</cp:coreProperties>
</file>