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DFD-7EEC-4195-9683-E54DE575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762-92C6-4730-B5D2-808C45F4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B1D-5279-47DF-A55B-276034DA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11D-6782-4DEA-9908-0D44A499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2476-6610-41D3-8A9C-3D300A8B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5489-06E9-47E5-88C0-2C757471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A335-E29F-40B0-8E7F-276A58BB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0861-BE38-49A4-A582-94DA3DDF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8969-28BB-4434-8BAF-37DA9EB8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5385-7764-42D4-969B-F29C2712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C64C-CFEC-46C9-BE9A-99E4E1E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265-5192-42CB-BFCD-0776B06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CB3F-1A28-4E96-85BC-6DD6842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302C-BE0D-428F-8792-EC3DBA84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B0D7-01C7-4642-9698-4DFBD22C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F940-DD6A-43BF-A6D1-B017561F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8918-35BF-48BB-9301-C1295DA8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0C3-1EC9-4DC9-9F4C-6B238895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C9B-4D28-4E2E-96A6-EC986629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2AE-21E0-4C00-8EA0-102D2E77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6FF-CF41-4D9C-AD1F-4FAD17C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040-367F-4DFF-B561-B7C89017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35C-BD93-4802-8BCD-F66E409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2E4-5561-4474-A0FD-2DF7F62C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572B-CD7E-4C18-B62B-D6FC160E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6FA5-6E88-4565-8B11-E518D4F83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 and Potato Sal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cold in a baked taco shell with plenty of lettuce and veggi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 Pu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Pat Graves</cp:lastModifiedBy>
  <dcterms:modified xsi:type="dcterms:W3CDTF">2004-03-31T22:18:25Z</dcterms:modified>
  <cp:revision>6</cp:revision>
  <dc:subject/>
  <dc:title>Summertime Samples</dc:title>
</cp:coreProperties>
</file>