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60C5-7F60-4DF9-9F91-0948815D7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221360"/>
            <a:ext cx="82296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A387-8F1B-47A9-916D-CF0CB6EB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158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133360"/>
            <a:ext cx="40158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221360"/>
            <a:ext cx="40158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221360"/>
            <a:ext cx="40158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A3A6-0FA7-4F51-8727-299F6EFC0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26496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133360"/>
            <a:ext cx="26496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133360"/>
            <a:ext cx="26496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221360"/>
            <a:ext cx="26496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221360"/>
            <a:ext cx="26496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221360"/>
            <a:ext cx="26496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E8B6-7D1B-4089-B2F7-208B75C8E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CAD3-BAD4-4B35-ADA1-CDEDF36E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3F04-54E7-48AE-B755-BF08226D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70B7-D305-4959-871E-63EF0B9D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158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133360"/>
            <a:ext cx="40158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FC6B-2002-46F2-B53B-5A7395DE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6A49-9FA0-4862-A401-E54D4BD6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60D4-1B07-47B2-94AF-D62753E5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158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133360"/>
            <a:ext cx="40158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1360"/>
            <a:ext cx="40158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AF4B-FAA6-451F-8959-05C8B17D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7A87-F690-4DCC-9465-A3300B26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158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133360"/>
            <a:ext cx="40158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221360"/>
            <a:ext cx="40158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1B92-2F75-4A83-8AD8-FA67E2FF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158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133360"/>
            <a:ext cx="40158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221360"/>
            <a:ext cx="82296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2461-03EE-483E-A9AF-EC343E2A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221360"/>
            <a:ext cx="82296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1A6D-3E5C-416F-8F30-397D34A3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158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133360"/>
            <a:ext cx="40158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221360"/>
            <a:ext cx="40158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221360"/>
            <a:ext cx="40158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A5D4-910A-4AD3-9D1C-EF4369A45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26496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133360"/>
            <a:ext cx="26496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133360"/>
            <a:ext cx="26496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221360"/>
            <a:ext cx="26496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221360"/>
            <a:ext cx="26496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221360"/>
            <a:ext cx="26496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944A-B5CC-49AD-B467-A73E3AF3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C83F-B279-4DD1-8866-DFB1AB68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158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133360"/>
            <a:ext cx="40158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F351-39B8-47FE-9A52-0A189F00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F543-4B6B-4276-AEA2-41966BE0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CFA8-8E66-4279-B28C-373FA6BA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158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133360"/>
            <a:ext cx="40158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221360"/>
            <a:ext cx="40158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2D1A-6BA7-4EF6-B83F-4B1A982F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158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133360"/>
            <a:ext cx="40158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221360"/>
            <a:ext cx="40158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BC06-6D3B-41EB-8BEF-A4A87983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158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133360"/>
            <a:ext cx="40158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21360"/>
            <a:ext cx="82296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09CC-F602-4E1A-89FE-0914F59C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99ff9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cc99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81B5-00B6-463A-AC19-A636F172424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99ff99"/>
                </a:solidFill>
                <a:latin typeface="Verdana"/>
              </a:rPr>
              <a:t>Click to edit the title text format</a:t>
            </a:r>
            <a:endParaRPr b="1" lang="en-US" sz="5800" spc="-1" strike="noStrike">
              <a:solidFill>
                <a:srgbClr val="99ff99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DE3E-DACE-4036-BA2F-172FA60D6B9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cc99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99ff99"/>
                </a:solidFill>
                <a:latin typeface="Verdana"/>
              </a:rPr>
              <a:t>Financial Analysis</a:t>
            </a:r>
            <a:endParaRPr b="1" lang="en-US" sz="5800" spc="-1" strike="noStrike">
              <a:solidFill>
                <a:srgbClr val="99ff99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6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pecial Events Revenue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New Yor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9880" y="6273720"/>
            <a:ext cx="1447560" cy="584280"/>
            <a:chOff x="3809880" y="6273720"/>
            <a:chExt cx="1447560" cy="584280"/>
          </a:xfrm>
        </p:grpSpPr>
        <p:sp>
          <p:nvSpPr>
            <p:cNvPr id="94" name=""/>
            <p:cNvSpPr txBox="1"/>
            <p:nvPr/>
          </p:nvSpPr>
          <p:spPr>
            <a:xfrm>
              <a:off x="4854240" y="6496200"/>
              <a:ext cx="40320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498200" y="6366600"/>
              <a:ext cx="522000" cy="491400"/>
              <a:chOff x="4498200" y="6366600"/>
              <a:chExt cx="522000" cy="491400"/>
            </a:xfrm>
          </p:grpSpPr>
          <p:sp>
            <p:nvSpPr>
              <p:cNvPr id="96" name=""/>
              <p:cNvSpPr/>
              <p:nvPr/>
            </p:nvSpPr>
            <p:spPr>
              <a:xfrm>
                <a:off x="4498200" y="6366600"/>
                <a:ext cx="522000" cy="49140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44720" y="6419520"/>
                <a:ext cx="241560" cy="2736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 txBox="1"/>
            <p:nvPr/>
          </p:nvSpPr>
          <p:spPr>
            <a:xfrm>
              <a:off x="3809880" y="6273720"/>
              <a:ext cx="973080" cy="34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Verdana"/>
              </a:rPr>
              <a:t>2004 Highlights</a:t>
            </a:r>
            <a:endParaRPr b="0" lang="en-US" sz="4400" spc="-1" strike="noStrike">
              <a:solidFill>
                <a:srgbClr val="99ff9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gnificant earnings every mont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ramatic earnings from sponsored ev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Verdana"/>
              </a:rPr>
              <a:t>Revenue Sources</a:t>
            </a:r>
            <a:endParaRPr b="0" lang="en-US" sz="4400" spc="-1" strike="noStrike">
              <a:solidFill>
                <a:srgbClr val="99ff9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onsored ev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nque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ivate part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99"/>
                </a:solidFill>
                <a:latin typeface="Verdana"/>
              </a:rPr>
              <a:t>2004 Special Events Revenue</a:t>
            </a:r>
            <a:endParaRPr b="0" lang="en-US" sz="4000" spc="-1" strike="noStrike">
              <a:solidFill>
                <a:srgbClr val="99ff99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920" y="1974960"/>
          <a:ext cx="7939080" cy="456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1974960"/>
                    <a:ext cx="7939080" cy="45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07T19:36:12Z</dcterms:created>
  <dc:creator>Pat R. Graves</dc:creator>
  <dc:description/>
  <dc:language>en-US</dc:language>
  <cp:lastModifiedBy>Pat Graves</cp:lastModifiedBy>
  <cp:lastPrinted>1996-12-06T15:55:36Z</cp:lastPrinted>
  <dcterms:modified xsi:type="dcterms:W3CDTF">2004-03-31T21:15:42Z</dcterms:modified>
  <cp:revision>52</cp:revision>
  <dc:subject/>
  <dc:title>Financial Analysis</dc:title>
</cp:coreProperties>
</file>