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BAF-E0AA-4CA1-9B09-0F7AF2861BC9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30400" y="698040"/>
            <a:ext cx="459720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1eb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7595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7595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E6E-2D4B-4436-8198-36415AA028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1840" y="69840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come to the Good 4 U marketing department beverage sales present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31840" y="69840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sure that you are all very well aware that beverage sales account for a very healthy share of our bottom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our focus is on healthy eating and a healthy lifestyle, its not a surprise that healthy beverages outsell the not so healthy, for example, coff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re’s no clear winner in the healthy beverage department. Our customers like having a variety of healthy drinks from which to cho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1840" y="69840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kling waters: We offer seven varieties, including fruit-flav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uit juices: Besides the obvious, we offer many exotic blends and change the offerings regularly, depending on the seasonal availability of fresh frui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bal teas: We have all the popular flavors, but shy away from the purely medicinal t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f coffee/tea: All our decaf products are water processed for safety and pu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1840" y="69840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alize that many healthy lifestyles include an occasional soda and at least some caffeine, so these items are on our menu as well as the more healthy bever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F0B-9B55-4125-AE9F-70193E54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4725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4725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A30-4243-4E96-A2ED-C24D688E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33396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A7F-FA32-498A-8C61-2747E5C5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10280" y="190476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08320" y="190476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510280" y="409392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108320" y="409392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0FE-338B-4D62-960D-9475F686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A28-ECBB-4283-9DB2-99E2C730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4725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C409-49D2-4933-B1A4-179061B8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4725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6CEC-C1F3-4EF3-BC48-690208AB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E0E6-2107-47E5-8777-04AD65EE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5976-FF14-415E-8E15-77885F9E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07F-E633-4ECA-9890-251FF918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DB0-F8BA-4E71-B7C5-4767C9D1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4725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A3C-A43B-43A9-954A-29137EBF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33396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D34-8B2B-4E4B-8BAF-8E9470A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4725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BF36-258B-4312-9AB9-35AA243C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4725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4725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D66D-25A4-4591-8C96-B7980CF2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33396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4F2D-16FC-436A-B53B-8AD8468A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510280" y="190476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08320" y="190476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510280" y="409392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108320" y="4093920"/>
            <a:ext cx="1521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FEF4-7498-43F1-AB2D-C5A6B223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4725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F57-8CB0-482F-B3C3-0C775415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916-032B-483A-A515-CD1B875B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C9A-A978-4F10-B16A-893D407E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C06-62E5-469A-B728-1A7C6E1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D0A-D162-4F42-840B-B14AD6E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333960" y="409392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FEA-9E7F-4AE6-8DDB-89731F1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33960" y="1904760"/>
            <a:ext cx="230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4725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BAE-86A0-45B1-A3AA-949E4BC1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c3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90f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1eb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4725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spcBef>
                <a:spcPts val="700"/>
              </a:spcBef>
              <a:buClr>
                <a:srgbClr val="ea70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spcBef>
                <a:spcPts val="700"/>
              </a:spcBef>
              <a:buClr>
                <a:srgbClr val="5c51e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spcBef>
                <a:spcPts val="700"/>
              </a:spcBef>
              <a:buClr>
                <a:srgbClr val="90f0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5831-831D-4695-8C53-D85B398260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c3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90f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3276720"/>
            <a:ext cx="4892400" cy="75960"/>
          </a:xfrm>
          <a:prstGeom prst="rect">
            <a:avLst/>
          </a:prstGeom>
          <a:solidFill>
            <a:srgbClr val="90f09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21608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1eb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A665-3109-4C5B-AC89-BC41F024192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5c51eb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0f09e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17880" y="484920"/>
            <a:ext cx="402084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51eb"/>
                </a:solidFill>
                <a:latin typeface="Verdana"/>
              </a:rPr>
              <a:t>Good 4 U </a:t>
            </a:r>
            <a:br>
              <a:rPr sz="5400"/>
            </a:br>
            <a:r>
              <a:rPr b="1" lang="en-US" sz="5400" spc="-1" strike="noStrike">
                <a:solidFill>
                  <a:srgbClr val="5c51eb"/>
                </a:solidFill>
                <a:latin typeface="Verdana"/>
              </a:rPr>
              <a:t>Beverage </a:t>
            </a:r>
            <a:br>
              <a:rPr sz="5400"/>
            </a:br>
            <a:r>
              <a:rPr b="1" lang="en-US" sz="5400" spc="-1" strike="noStrike">
                <a:solidFill>
                  <a:srgbClr val="5c51eb"/>
                </a:solidFill>
                <a:latin typeface="Verdana"/>
              </a:rPr>
              <a:t>Sales</a:t>
            </a:r>
            <a:endParaRPr b="1" lang="en-US" sz="5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817880" y="3962160"/>
            <a:ext cx="388620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kind of drinks do we sell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91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1eb"/>
                </a:solidFill>
                <a:latin typeface="Verdana"/>
              </a:rPr>
              <a:t>Beverage Revenue</a:t>
            </a: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571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st year we sold nearly $2.5 million in beverag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ealthy beverages outsold less healthy by a nearly 3-1 margi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r customers clearly prefer a wide variety of healthy drink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49160" cy="335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1eb"/>
                </a:solidFill>
                <a:latin typeface="Verdana"/>
              </a:rPr>
              <a:t>Beverage Sales</a:t>
            </a: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47640" y="2133720"/>
          <a:ext cx="874080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133720"/>
                    <a:ext cx="874080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1eb"/>
                </a:solidFill>
                <a:latin typeface="Verdana"/>
              </a:rPr>
              <a:t>Healthy Drinks</a:t>
            </a: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4725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arkling wat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uit juic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erbal te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caf coffee/te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00800" y="2057400"/>
            <a:ext cx="1878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51eb"/>
                </a:solidFill>
                <a:latin typeface="Verdana"/>
              </a:rPr>
              <a:t>Less Healthy Drinks</a:t>
            </a:r>
            <a:endParaRPr b="1" lang="en-US" sz="4400" spc="-1" strike="noStrike">
              <a:solidFill>
                <a:srgbClr val="5c51e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4725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das (colas with caffeine, etc.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a7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ffee &amp; teas with caffein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2039760" cy="266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092320" cy="16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1T19:13:46Z</dcterms:created>
  <dc:creator>Pat R. Graves</dc:creator>
  <dc:description/>
  <dc:language>en-US</dc:language>
  <cp:lastModifiedBy>Student name</cp:lastModifiedBy>
  <cp:lastPrinted>1996-12-13T20:34:32Z</cp:lastPrinted>
  <dcterms:modified xsi:type="dcterms:W3CDTF">2004-04-01T01:35:45Z</dcterms:modified>
  <cp:revision>29</cp:revision>
  <dc:subject/>
  <dc:title>Good 4 U Beverage Sales</dc:title>
</cp:coreProperties>
</file>