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8BFA-9B5A-41B4-AEDC-F88CEB56B651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477720" y="647640"/>
            <a:ext cx="5902560" cy="442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E57-AE19-4BC0-A6A9-B8D17222A8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come to the Good 4 U Apparel Sales and Forecast discus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always will enjoy brisk sales. Our t-shirts come in a variety of bright and subtle colors and now sport the new Good 4 U lo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most of our promotional products sell mainly at special events, for example at our annual bike-a-thon and July 4 celebration, t-shirts sell well all year round at our restaurants as w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seen interest pick up in our bike jerseys and visors and expect them to do well in the coming seas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mark licensing is a relatively new pursuit for Good 4 U. We expect that this area will grow in the next ye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really exciting is the good reception we’re getting from New York City retail outlets. Several stores plan to carry our line this sum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w York buyers are genuinely enthusiastic about our prod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will keep the largest share of our product mix, but bike jerseys are on the incre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ee customers wearing these stylish jerseys even when they are not riding their bik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have become quite the fashion it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 will still enjoy the highest sales volume in 2005, but Miami and Los Angeles are catching 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you can see from the chart, most of the extra sales in New York come from t-shir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ies and gentlemen, this concludes the Apparel section of our financial conference. Thank you for attend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9D1-E5F2-47DC-924B-D0CE89DA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17C-720E-4E99-977C-B967A11E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D32-18B5-48ED-B5DA-789E9749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D1A-96B3-45C1-9208-E9A070EB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1C4D-3A2F-4006-9CBF-C6BE848D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D19B-0209-4043-BD72-C328F5A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8C8C-95E2-488D-9DEC-1D71EE8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B6A1-44C9-45DF-A8FB-70FF4420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6CA-12D3-49DC-A40D-8319AB6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682-2027-4CC7-9181-E1CBD25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EC82-26AE-46AE-9304-ADF156CF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B7F-642F-4181-AA1A-B9EC2B9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A7D7-957A-4EBD-91CA-38A1E8E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F773-E737-4ED6-B042-AE8E234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A78F-72D4-4EA8-B9C0-2798F09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EAE2-F73D-4F47-9F5D-9418962D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5AF9-446B-4952-A837-BAA49571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990-EB41-4D1C-B9B3-8AFE6D0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B09-FBD3-4E7C-8916-0DB22A7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38F-33E9-43CD-8FBA-8BCFC6A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4AC-0A16-44B0-8879-E529CF57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0CF-F8EE-4B6E-A094-56D4F77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890-5550-49BD-BD9F-79CB420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5C4-1A71-440A-9FCF-3EB2499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6C2-CB8C-4311-8D78-2732230444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533520"/>
            <a:ext cx="8398080" cy="5562360"/>
            <a:chOff x="380880" y="533520"/>
            <a:chExt cx="8398080" cy="5562360"/>
          </a:xfrm>
        </p:grpSpPr>
        <p:sp>
          <p:nvSpPr>
            <p:cNvPr id="46" name=""/>
            <p:cNvSpPr/>
            <p:nvPr/>
          </p:nvSpPr>
          <p:spPr>
            <a:xfrm>
              <a:off x="380880" y="533520"/>
              <a:ext cx="8398080" cy="55623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609480"/>
              <a:ext cx="8229600" cy="540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657240"/>
              <a:ext cx="731520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E934-2124-4B0D-B45D-C93A5B0A29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Financial Analysis:</a:t>
            </a:r>
            <a:br>
              <a:rPr sz="4800"/>
            </a:b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The New Millennium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 Black"/>
              </a:rPr>
              <a:t>Apparel Sales</a:t>
            </a:r>
            <a:endParaRPr b="0" lang="en-US" sz="4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-shirts will continue to outsell all other products combi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ity of products will sell at special ev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ke jerseys and visors will do we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demark licensing will continue to increase significa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 NYC retail outlets will carry our 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ur new products generate enthusiasm with NYC buy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Mix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702612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0261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Sales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379600"/>
          <a:ext cx="740088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79600"/>
                    <a:ext cx="740088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Student Name</cp:lastModifiedBy>
  <dcterms:modified xsi:type="dcterms:W3CDTF">2004-04-02T03:38:25Z</dcterms:modified>
  <cp:revision>19164</cp:revision>
  <dc:subject/>
  <dc:title>Financial Analysis</dc:title>
</cp:coreProperties>
</file>