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DBF4-AA18-4278-AB67-4A88E015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2AA0-50AC-4310-95C3-224D588F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69B-5DFC-4C25-A97A-DB78DDDE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68F-BE55-4ABC-B452-72DE44AE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FC08-EEA1-424B-AF9A-DA3B6003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A6F5-B142-4784-8456-7D949A9B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E1A8-D82B-441A-8456-ACBD68B3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9DA6-9F26-4D12-A2D7-7382F369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592B-AD3B-4349-BEA1-4B930609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26CD-C4E4-46F2-8651-2A647FCA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F043-49AB-4202-9D60-6FA982C5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6AC6-DDE1-484E-9E1D-79637EC3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3230-A282-4D7E-BF1B-5BD4741A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B4F8-6353-4DF9-80B0-A046F154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C1A6-D71A-4ADC-B17C-33DB939C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F117-686F-4132-8D70-9ACEDEF3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13C1-A2A8-4F70-805E-31B35462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820-1366-4CD3-9E28-57215DC2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09DF-9E2B-40FA-A919-B2316E7D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A91D-AF42-4F64-9243-B012E24A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2C3A-63DC-4928-B701-57607486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0F5-2ECB-415A-8565-DCBF8819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418-57E6-4A0A-8C34-CC396ADE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512C-DD04-4B17-8B27-AD71AA14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5889-478A-4117-BB26-BA4183A939A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DFBA-8416-47D3-89F0-17D56151912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533160" y="456840"/>
            <a:ext cx="80010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540160"/>
            <a:ext cx="678168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268200"/>
            <a:ext cx="9144000" cy="446040"/>
            <a:chOff x="0" y="268200"/>
            <a:chExt cx="9144000" cy="446040"/>
          </a:xfrm>
        </p:grpSpPr>
        <p:sp>
          <p:nvSpPr>
            <p:cNvPr id="48" name=""/>
            <p:cNvSpPr/>
            <p:nvPr/>
          </p:nvSpPr>
          <p:spPr>
            <a:xfrm>
              <a:off x="0" y="268200"/>
              <a:ext cx="9144000" cy="446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68200"/>
              <a:ext cx="9144000" cy="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704880"/>
              <a:ext cx="9144000" cy="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0010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Lunch Special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3200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4 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305240" y="3562200"/>
            <a:ext cx="455760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ppetizer Specia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75760" y="2513160"/>
            <a:ext cx="42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ffed Spinach Bre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ole-grain bread overstuffed with fresh spinach and feta che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nch Breadstick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readsticks loaded with poppy seeds and sesame s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1640" y="2513160"/>
            <a:ext cx="42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kes and Yogurt Sprea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reamy spread served with your choice of whole-grain bread or crack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getable Stuffed Brea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ole-grain bread overstuffed with sun-dried tomatoes, asparagus, and brocco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de Dish Specia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251316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lled Cucumber Sal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37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ool crisp salad with fresh dill and lem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lapeno Cornbre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37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ick and moist with whole corn ker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atmeal Soda Bre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37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ole-grain buttermilk b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0600" y="251316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vory Wild Rice Sou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14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d rice soup flavored with chestnu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n and Chili Relis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14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onderful side to add to one of our sal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 Bean Sala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14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egumes marinated in balsamic vine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unch Specia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2513160"/>
            <a:ext cx="41148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mmus Pita Pocke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37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ole-wheat pita pocket filled with hummus and fresh veggies, seasoned with herbs and sp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ack Bean Chili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37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avory vegetarian chili of black beans and diced vegetables, served in a hollowed-out sourdough loa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23920" y="2513160"/>
            <a:ext cx="396252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cken with Peca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unky chicken served over a bed of wild rice, sprinkled with pecans and sliced pea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sh Fruit Sala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refreshing and colorful blend of seasonal fruit, served with a creamy yogurt top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2T14:01:28Z</dcterms:created>
  <dc:creator>Marple</dc:creator>
  <dc:description/>
  <dc:language>en-US</dc:language>
  <cp:lastModifiedBy>Student name</cp:lastModifiedBy>
  <cp:lastPrinted>1997-05-06T16:24:06Z</cp:lastPrinted>
  <dcterms:modified xsi:type="dcterms:W3CDTF">2004-04-01T05:06:52Z</dcterms:modified>
  <cp:revision>71</cp:revision>
  <dc:subject/>
  <dc:title>Good 4 U</dc:title>
</cp:coreProperties>
</file>