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62D-6D7C-492F-866B-1EF12EA4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480-4491-41CE-8A4C-375CECD3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A89-9B91-4F9C-ACC1-5572F9CE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EC1-6287-4AFC-B6B0-BDF312DC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CE2E-DB4D-4835-9CAF-9F230B4C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8EF8-981D-4A5A-8F60-B3AA5893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F45-C2C7-4E49-8802-300E63A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57DF-1FBF-46F0-A112-8D68E59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B629-7612-4BFA-B739-BEDB92EB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2823-C625-494A-AFCD-E4376454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64D-4E82-4CBE-9FD5-77EC608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F8F-285C-46A5-BD16-5F5D2FA9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57B-D44B-4352-9950-2C9D4E6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36F-175E-4B20-AA37-69B2115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459C-11A6-4EF6-BEA4-3148428D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16A7-7EB7-46D9-BC7B-647F06C1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C206-7B25-4AD9-91CE-C14F6A61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880-A79B-4CB0-8CEF-49525D6E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630-DE9A-4D99-B71A-C426CDC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DDC-C389-4951-8126-19A7492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EA9-5C35-4CCB-9F96-4E5625E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C92-D97D-403D-912A-BE87128B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53A-647E-4266-BB8C-AD05370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725-1D8F-4176-9BB2-1881E57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B66-ABB0-4959-82BC-0510A1D5CD70}" type="slidenum">
              <a:rPr b="0" lang="en-US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166-B1E1-4A7C-A321-160B3B8BBE4F}" type="slidenum">
              <a:rPr b="0" lang="en-US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Marketing Strategy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962160"/>
            <a:ext cx="61023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ood 4 U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320" y="3468600"/>
            <a:ext cx="4876560" cy="32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ek potential investo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vestigate the firm Marketing Strategic Management System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search the World Wide Web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view potential customer base for food preferen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view potential customer base for sports preferen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Use customer interview results to develop menu plan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lect a location with the greatest exposur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Use customer interview results to develop interior sports design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ost Analysi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iami costs have soared in the 3rd quarter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New York costs have remained stead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657600" y="1925640"/>
          <a:ext cx="5257800" cy="439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925640"/>
                    <a:ext cx="525780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Student name</cp:lastModifiedBy>
  <cp:lastPrinted>1996-12-06T17:08:44Z</cp:lastPrinted>
  <dcterms:modified xsi:type="dcterms:W3CDTF">2004-04-01T03:11:03Z</dcterms:modified>
  <cp:revision>33</cp:revision>
  <dc:subject/>
  <dc:title>Marketing Strategy</dc:title>
</cp:coreProperties>
</file>