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BAA-4387-4966-8980-393846D6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2B8-F16D-4601-BEAF-3AB847BE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BD6-1912-4C96-A225-EE68D59B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E2E-D9D1-48D1-9BF1-27142179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8400-8C7D-48E4-9920-2BD6DC51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3238-3225-4B61-B5AB-2E479EB5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7785-328D-4F85-B73B-7E2D1689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60A8-BF25-441D-9C81-132D48E0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1F05-5A70-4CB0-8384-67862D83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5156-363A-472C-8359-EBB851FB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EC15-DE30-4FB9-A332-E27255A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478-931C-469F-9D8E-35DDDCA7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365F-BC02-4D28-8B8D-E6C9D2C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1B2C-91DF-4F97-B9F3-C6E63FE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D26A-4379-4A26-A6A9-A141E48E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D6BB-4B3E-4582-8A0F-61006E07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2533-7595-4F86-A502-C988A011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9E6-385A-4E94-94C2-4C279A45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1AD-59AA-4938-80EB-29629219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0BE-6C51-4B87-9D99-7F20D215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9D2-A2C7-4193-ABD9-5B37D388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379-8898-41AC-BE38-95536FCE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768-4512-46D6-A94D-DA5B5DD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F4B-2CA7-4D71-AA94-DC5AF156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4885-DE6A-4BE2-A309-C0AB6865FD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6529-C9CE-4F04-9448-8594A23682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ranchis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formation Packa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itchen Essential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06600" y="1719000"/>
            <a:ext cx="613080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Caloric r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4 U stone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omputer Equipmen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05000" y="1719360"/>
            <a:ext cx="65325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-speed computer (network serv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 cash regis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ndard Good 4 U restaurant software pack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05120" y="1828800"/>
            <a:ext cx="6476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mployee Hiring Practice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6800" y="1719360"/>
            <a:ext cx="7425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rst-level managers must have five years management experi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13640" y="2362320"/>
            <a:ext cx="4741920" cy="206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005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ggie Bu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sh Fruit Comb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semary Chic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ample Menu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9-04T01:40:22Z</cp:lastPrinted>
  <dcterms:modified xsi:type="dcterms:W3CDTF">2004-04-01T05:49:14Z</dcterms:modified>
  <cp:revision>50</cp:revision>
  <dc:subject/>
  <dc:title>Franchise Information</dc:title>
</cp:coreProperties>
</file>