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commentAuthors.xml><?xml version="1.0" encoding="utf-8"?>
<p:cmAuthorLst xmlns:p="http://schemas.openxmlformats.org/presentationml/2006/main">
  <p:cmAuthor id="0" name="Joleigh Rupert" initials="JR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1-05-06T15:27:40.178000000" idx="1">
    <p:pos x="10" y="10"/>
    <p:text>This would be better if "Good 4 U" were replaced with the logo, but I don't have it.</p:text>
  </p:cm>
</p:cmLst>
</file>

<file path=ppt/comments/comment2.xml><?xml version="1.0" encoding="utf-8"?>
<p:cmLst xmlns:p="http://schemas.openxmlformats.org/presentationml/2006/main">
  <p:cm authorId="0" dt="2001-05-06T15:29:17.789000000" idx="2">
    <p:pos x="10" y="10"/>
    <p:text>Each of these bullets could be expanded into a separate slid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7B6-56E5-4EB0-8C1A-15F63303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C41-5780-4EAD-828F-E3B0D213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61C-D384-4F5E-9C40-00B9E792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7B1-D530-4C5E-A57C-4BE18359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D28E-E701-4EE7-A1CB-E90FEAB0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F7E0-F320-4B5F-BEDA-15322C19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49D0-57BD-472B-985E-4B771EC6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5A54-1841-4796-8E22-3D17D60A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3096-A8CB-41FC-8A9D-833A64B8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6F74-7CD8-4C41-BFA7-9493BB21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76DB-B912-4211-8676-79FDED86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250-9CF4-4140-A558-82F4F2DA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88E5-617A-43C2-99FE-37F34689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BE08-A8F9-409A-9AF8-9081D1D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7681-9C08-4FBC-90A0-BB7F02DA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AA74-E146-41AE-8407-05B00B6A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F15D-A132-44FB-BD57-FA2A35AF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7BF-D5B7-4165-80DA-30A1C8F2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F1B-0409-4458-A0F1-BA412FD2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BAB-0781-4E9C-AB94-B8EB7926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D3C-21C7-4129-AD83-F7D23674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997-9D29-4BD2-B1FC-A7ADEE40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D0C-8A03-4154-B2EC-F155B57A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96E-80BE-4888-BB7A-C2DE6F54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6F03-6698-4BD3-A3F4-5C577F5195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30FF-06AA-492C-89A0-683254CF52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4 U 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79640" y="1881360"/>
            <a:ext cx="698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keting Our Busines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g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ur st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erful at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16T04:39:21Z</dcterms:modified>
  <cp:revision>27</cp:revision>
  <dc:subject/>
  <dc:title>Marketing Our Busi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20642769</vt:r8>
  </property>
  <property fmtid="{D5CDD505-2E9C-101B-9397-08002B2CF9AE}" pid="3" name="_AuthorEmail">
    <vt:lpwstr>jrupert123@hotmail.com</vt:lpwstr>
  </property>
  <property fmtid="{D5CDD505-2E9C-101B-9397-08002B2CF9AE}" pid="4" name="_AuthorEmailDisplayName">
    <vt:lpwstr>Joleigh Rupert</vt:lpwstr>
  </property>
  <property fmtid="{D5CDD505-2E9C-101B-9397-08002B2CF9AE}" pid="5" name="_EmailEntryID">
    <vt:lpwstr>000000005A7EF4CA0B07F64B9F2B45583D8ABF07E4012000</vt:lpwstr>
  </property>
  <property fmtid="{D5CDD505-2E9C-101B-9397-08002B2CF9AE}" pid="6" name="_EmailSubject">
    <vt:lpwstr>Please review 'JWOriginal'</vt:lpwstr>
  </property>
  <property fmtid="{D5CDD505-2E9C-101B-9397-08002B2CF9AE}" pid="7" name="_ReviewCycleID">
    <vt:r8>-928995816</vt:r8>
  </property>
  <property fmtid="{D5CDD505-2E9C-101B-9397-08002B2CF9AE}" pid="8" name="_ReviewingToolsShownOnce">
    <vt:lpwstr/>
  </property>
</Properties>
</file>