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BE6-DD8B-4E17-B4B3-B8BEA6C7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62A-02D8-4176-AC07-0C31AC95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2A9-96E9-45F1-A652-FBA9F66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C9F-DEFE-47F2-81D2-08873493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9CF-3802-45CC-85EA-750BA542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4CEE-217E-4594-BFBF-6128FB67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0182-FB45-498D-96C5-B263BE0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ABD-18B6-4939-88C2-516E1CA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29B9-82BA-49E3-A7C2-F0A56E01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761-3AE3-4F31-AA21-5D3F0D2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CD38-1592-425E-9A83-B52D546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C95-2C46-4B07-A8D1-DA61815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7348-86A2-4EC8-9F1A-6F9599B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0EE-B27B-4223-87AE-0AD4DB3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EEA-742D-4280-9651-43C4C8C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90AC-704A-4991-B626-C96EAB2E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FE33-3670-4A4C-AAAE-272AB0EA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ACD-B919-4FBE-885E-EC45C5F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BF4-0C1A-4EBF-92BA-5C2EB4E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C2A-9653-4FB2-ADED-994261C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EF2-A3CE-4BA5-A91F-13579B35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4F0-3AF3-44BB-8DA7-0593D8F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3D1-EE0F-4796-A0A0-501F40F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109-1FC4-4CCE-9109-4D6AF4B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EE3-F4E0-497B-8FC2-4E2E3AAD0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242-CC65-4AAB-8018-0330E88627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16T04:39:54Z</dcterms:modified>
  <cp:revision>22</cp:revision>
  <dc:subject/>
  <dc:title>Marketing Our Business</dc:title>
</cp:coreProperties>
</file>