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drumroll.wav" ContentType="audio/x-wav"/>
  <Override PartName="/ppt/media/applause.wav" ContentType="audio/x-wav"/>
  <Override PartName="/ppt/media/image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EDB8-6CEA-4DB3-8DDE-AA5EFE6F3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ure to elaborate on healthy eating. Mention Michelle’s new menu items and the new customer preferences study now under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first year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e to start-up costs mostly, and, of course, inexperi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we learned the value of a big advertising budg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ure to elaborate on healthy eating. Mention Michelle’s new menu items and the new customer preferences study now under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EDC3-3770-4AC5-AB97-25E64D44D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107B-6ED6-4333-8DB4-6A0F313F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C5AF-C22C-4DE3-895A-83B62F2A6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13FF-F9C1-4A1A-A4DB-0A6538596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5CED-9D56-4E43-9516-85C322812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63F3-EADE-4682-8C4E-C0DAFC12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2817-1EB3-4011-9E11-5A5D1B8D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55E6-3AF5-4745-B89C-AA1E7428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3525-132F-49C2-8F31-F19BA0EA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7620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3A7A-D711-4E4A-8472-68238C11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BB97-CE9D-4344-83CC-C5FE0B70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3E05-57C2-4923-8CC4-51F293A4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68C7-1672-424B-A29E-835DB87F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EB8E6-4292-4760-870A-A7A2E008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46C5-8113-4B27-81F5-3F25E780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B660-7E6B-437E-857A-E0FC7AA30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E484-95F1-4384-A604-C62E88EDE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3949-630B-42A9-B094-7651981B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DBA6-04A4-4048-A572-D3C9D1AF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EE95-F04B-4477-8609-955E54C6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7620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5EDB-1DB9-4D2A-B886-4AE23DDF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7371-CBF8-4069-9D24-A5F9682F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280B-6298-4DC4-845F-C8CF3A49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052E-C0A8-496C-97A8-C1DB2390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533520"/>
            <a:ext cx="8305920" cy="5715000"/>
          </a:xfrm>
          <a:prstGeom prst="roundRect">
            <a:avLst>
              <a:gd name="adj" fmla="val 13727"/>
            </a:avLst>
          </a:prstGeom>
          <a:noFill/>
          <a:ln w="507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2280"/>
            <a:ext cx="8534520" cy="1219320"/>
          </a:xfrm>
          <a:prstGeom prst="pie">
            <a:avLst/>
          </a:prstGeom>
          <a:solidFill>
            <a:srgbClr val="272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219320"/>
            <a:ext cx="8077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620120" cy="914400"/>
          </a:xfrm>
          <a:prstGeom prst="rect">
            <a:avLst/>
          </a:prstGeom>
          <a:solidFill>
            <a:srgbClr val="27277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7277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2727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72777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3720" y="632448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2727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72777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391160" y="63244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272777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625F-AD85-4F75-8727-5B9B27406533}" type="slidenum">
              <a:rPr b="0" lang="en-US" sz="2000" spc="-1" strike="noStrike">
                <a:solidFill>
                  <a:srgbClr val="272777"/>
                </a:solidFill>
                <a:latin typeface="Arial Black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180200" y="5684760"/>
            <a:ext cx="1099800" cy="444600"/>
            <a:chOff x="7180200" y="5684760"/>
            <a:chExt cx="1099800" cy="444600"/>
          </a:xfrm>
        </p:grpSpPr>
        <p:sp>
          <p:nvSpPr>
            <p:cNvPr id="9" name=""/>
            <p:cNvSpPr txBox="1"/>
            <p:nvPr/>
          </p:nvSpPr>
          <p:spPr>
            <a:xfrm>
              <a:off x="7973640" y="5853960"/>
              <a:ext cx="306360" cy="275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10" name=""/>
            <p:cNvGrpSpPr/>
            <p:nvPr/>
          </p:nvGrpSpPr>
          <p:grpSpPr>
            <a:xfrm>
              <a:off x="7703280" y="5755320"/>
              <a:ext cx="396720" cy="374040"/>
              <a:chOff x="7703280" y="5755320"/>
              <a:chExt cx="396720" cy="374040"/>
            </a:xfrm>
          </p:grpSpPr>
          <p:sp>
            <p:nvSpPr>
              <p:cNvPr id="11" name=""/>
              <p:cNvSpPr/>
              <p:nvPr/>
            </p:nvSpPr>
            <p:spPr>
              <a:xfrm>
                <a:off x="7703280" y="5755320"/>
                <a:ext cx="396720" cy="3740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814520" y="5795640"/>
                <a:ext cx="183600" cy="20844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" name=""/>
            <p:cNvSpPr txBox="1"/>
            <p:nvPr/>
          </p:nvSpPr>
          <p:spPr>
            <a:xfrm>
              <a:off x="7180200" y="5684760"/>
              <a:ext cx="739440" cy="264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2070000"/>
            <a:ext cx="7391520" cy="335304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927000"/>
            <a:ext cx="716292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384200"/>
            <a:ext cx="8991720" cy="1828800"/>
          </a:xfrm>
          <a:prstGeom prst="pie">
            <a:avLst/>
          </a:prstGeom>
          <a:solidFill>
            <a:srgbClr val="272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060720"/>
            <a:ext cx="83059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1612440"/>
            <a:ext cx="8077320" cy="1295640"/>
          </a:xfrm>
          <a:prstGeom prst="rect">
            <a:avLst/>
          </a:prstGeom>
          <a:solidFill>
            <a:srgbClr val="27277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152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2727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72777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2727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72777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70866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272777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C67B-1F97-4E55-B1ED-15A042DAD8A0}" type="slidenum">
              <a:rPr b="0" lang="en-US" sz="2000" spc="-1" strike="noStrike">
                <a:solidFill>
                  <a:srgbClr val="272777"/>
                </a:solidFill>
                <a:latin typeface="Arial Black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056360" y="5842080"/>
            <a:ext cx="1820520" cy="734760"/>
            <a:chOff x="7056360" y="5842080"/>
            <a:chExt cx="1820520" cy="734760"/>
          </a:xfrm>
        </p:grpSpPr>
        <p:sp>
          <p:nvSpPr>
            <p:cNvPr id="59" name=""/>
            <p:cNvSpPr txBox="1"/>
            <p:nvPr/>
          </p:nvSpPr>
          <p:spPr>
            <a:xfrm>
              <a:off x="8369640" y="6121800"/>
              <a:ext cx="507240" cy="455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7922160" y="5958720"/>
              <a:ext cx="656640" cy="617760"/>
              <a:chOff x="7922160" y="5958720"/>
              <a:chExt cx="656640" cy="617760"/>
            </a:xfrm>
          </p:grpSpPr>
          <p:sp>
            <p:nvSpPr>
              <p:cNvPr id="61" name=""/>
              <p:cNvSpPr/>
              <p:nvPr/>
            </p:nvSpPr>
            <p:spPr>
              <a:xfrm>
                <a:off x="7922160" y="5958720"/>
                <a:ext cx="656640" cy="61776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106480" y="6025320"/>
                <a:ext cx="303840" cy="34416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" name=""/>
            <p:cNvSpPr txBox="1"/>
            <p:nvPr/>
          </p:nvSpPr>
          <p:spPr>
            <a:xfrm>
              <a:off x="7056360" y="5842080"/>
              <a:ext cx="1224000" cy="436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drumroll.wav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1612440"/>
            <a:ext cx="8077320" cy="1295640"/>
          </a:xfrm>
          <a:prstGeom prst="rect">
            <a:avLst/>
          </a:prstGeom>
          <a:solidFill>
            <a:srgbClr val="27277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Arial Black"/>
              </a:rPr>
              <a:t>Three Years and Growing</a:t>
            </a:r>
            <a:endParaRPr b="0" lang="en-US" sz="4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lthy Food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the Athlete in You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5280" y="6377040"/>
            <a:ext cx="430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resented by Roy Olafsen, Marketing 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620120" cy="914400"/>
          </a:xfrm>
          <a:prstGeom prst="rect">
            <a:avLst/>
          </a:prstGeom>
          <a:solidFill>
            <a:srgbClr val="27277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jected Revenue Growth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873080" y="3917880"/>
            <a:ext cx="527400" cy="1162080"/>
            <a:chOff x="1873080" y="3917880"/>
            <a:chExt cx="527400" cy="1162080"/>
          </a:xfrm>
        </p:grpSpPr>
        <p:pic>
          <p:nvPicPr>
            <p:cNvPr id="113" name="" descr=""/>
            <p:cNvPicPr/>
            <p:nvPr/>
          </p:nvPicPr>
          <p:blipFill>
            <a:blip r:embed="rId1">
              <a:lum contrast="-12000"/>
            </a:blip>
            <a:srcRect l="22782" t="0" r="13316" b="0"/>
            <a:stretch/>
          </p:blipFill>
          <p:spPr>
            <a:xfrm>
              <a:off x="1873080" y="3920040"/>
              <a:ext cx="527400" cy="115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873080" y="3917880"/>
              <a:ext cx="527400" cy="1162080"/>
            </a:xfrm>
            <a:prstGeom prst="rect">
              <a:avLst/>
            </a:prstGeom>
            <a:solidFill>
              <a:srgbClr val="0000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714680" y="5421240"/>
            <a:ext cx="841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898720" y="3311640"/>
            <a:ext cx="819360" cy="1768320"/>
            <a:chOff x="2898720" y="3311640"/>
            <a:chExt cx="819360" cy="1768320"/>
          </a:xfrm>
        </p:grpSpPr>
        <p:pic>
          <p:nvPicPr>
            <p:cNvPr id="117" name="" descr=""/>
            <p:cNvPicPr/>
            <p:nvPr/>
          </p:nvPicPr>
          <p:blipFill>
            <a:blip r:embed="rId2">
              <a:lum contrast="-12000"/>
            </a:blip>
            <a:srcRect l="22782" t="0" r="13316" b="0"/>
            <a:stretch/>
          </p:blipFill>
          <p:spPr>
            <a:xfrm>
              <a:off x="2898720" y="3311640"/>
              <a:ext cx="80820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2909880" y="3335040"/>
              <a:ext cx="808200" cy="1723680"/>
            </a:xfrm>
            <a:prstGeom prst="rect">
              <a:avLst/>
            </a:prstGeom>
            <a:solidFill>
              <a:srgbClr val="272777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822400" y="5421240"/>
            <a:ext cx="987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191120" y="2755800"/>
            <a:ext cx="1056960" cy="2324160"/>
            <a:chOff x="4191120" y="2755800"/>
            <a:chExt cx="1056960" cy="2324160"/>
          </a:xfrm>
        </p:grpSpPr>
        <p:pic>
          <p:nvPicPr>
            <p:cNvPr id="121" name="" descr=""/>
            <p:cNvPicPr/>
            <p:nvPr/>
          </p:nvPicPr>
          <p:blipFill>
            <a:blip r:embed="rId3">
              <a:lum contrast="-12000"/>
            </a:blip>
            <a:srcRect l="22782" t="0" r="13316" b="0"/>
            <a:stretch/>
          </p:blipFill>
          <p:spPr>
            <a:xfrm>
              <a:off x="4192200" y="2760840"/>
              <a:ext cx="1055880" cy="23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4191120" y="2755800"/>
              <a:ext cx="1055880" cy="2324160"/>
            </a:xfrm>
            <a:prstGeom prst="rect">
              <a:avLst/>
            </a:prstGeom>
            <a:solidFill>
              <a:srgbClr val="996666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4245120" y="5421240"/>
            <a:ext cx="952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791320" y="1952640"/>
            <a:ext cx="1422360" cy="3127320"/>
            <a:chOff x="5791320" y="1952640"/>
            <a:chExt cx="1422360" cy="3127320"/>
          </a:xfrm>
        </p:grpSpPr>
        <p:pic>
          <p:nvPicPr>
            <p:cNvPr id="125" name="" descr=""/>
            <p:cNvPicPr/>
            <p:nvPr/>
          </p:nvPicPr>
          <p:blipFill>
            <a:blip r:embed="rId4">
              <a:lum contrast="-12000"/>
            </a:blip>
            <a:srcRect l="22782" t="0" r="13316" b="0"/>
            <a:stretch/>
          </p:blipFill>
          <p:spPr>
            <a:xfrm>
              <a:off x="5791320" y="1957680"/>
              <a:ext cx="1422360" cy="31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5791320" y="1952640"/>
              <a:ext cx="1422360" cy="3127320"/>
            </a:xfrm>
            <a:prstGeom prst="rect">
              <a:avLst/>
            </a:prstGeom>
            <a:solidFill>
              <a:srgbClr val="99cc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5970600" y="5410080"/>
            <a:ext cx="1063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265040" y="1523880"/>
            <a:ext cx="5906880" cy="3755520"/>
            <a:chOff x="1265040" y="1523880"/>
            <a:chExt cx="5906880" cy="3755520"/>
          </a:xfrm>
        </p:grpSpPr>
        <p:sp>
          <p:nvSpPr>
            <p:cNvPr id="129" name=""/>
            <p:cNvSpPr/>
            <p:nvPr/>
          </p:nvSpPr>
          <p:spPr>
            <a:xfrm>
              <a:off x="1865880" y="1958760"/>
              <a:ext cx="5306040" cy="3126600"/>
            </a:xfrm>
            <a:custGeom>
              <a:avLst/>
              <a:gdLst/>
              <a:ahLst/>
              <a:rect l="l" t="t" r="r" b="b"/>
              <a:pathLst>
                <a:path w="3479" h="2255">
                  <a:moveTo>
                    <a:pt x="0" y="0"/>
                  </a:moveTo>
                  <a:lnTo>
                    <a:pt x="0" y="2254"/>
                  </a:lnTo>
                  <a:lnTo>
                    <a:pt x="3478" y="2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15840" y="5089680"/>
              <a:ext cx="6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15840" y="4700160"/>
              <a:ext cx="6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15840" y="4310640"/>
              <a:ext cx="6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15840" y="3921120"/>
              <a:ext cx="6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815840" y="3531240"/>
              <a:ext cx="6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15840" y="3141720"/>
              <a:ext cx="6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15840" y="2752200"/>
              <a:ext cx="6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815840" y="2362680"/>
              <a:ext cx="6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15840" y="1972800"/>
              <a:ext cx="6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404360" y="1762200"/>
              <a:ext cx="46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04360" y="2542680"/>
              <a:ext cx="46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74200" y="332064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74200" y="410112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474200" y="488196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65040" y="1523880"/>
              <a:ext cx="1204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(mill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5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1612440"/>
            <a:ext cx="8077320" cy="1295640"/>
          </a:xfrm>
          <a:prstGeom prst="rect">
            <a:avLst/>
          </a:prstGeom>
          <a:solidFill>
            <a:srgbClr val="27277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Arial Black"/>
              </a:rPr>
              <a:t>Presenting Good 4 U</a:t>
            </a:r>
            <a:endParaRPr b="0" lang="en-US" sz="4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un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cial Hist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We’re Go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enue Proje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We’re Go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620120" cy="914400"/>
          </a:xfrm>
          <a:prstGeom prst="rect">
            <a:avLst/>
          </a:prstGeom>
          <a:solidFill>
            <a:srgbClr val="27277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s Irvinel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7277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s is an avid tennis p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ie Wol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7277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lie is a well-known marathon ru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dr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7277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people to enjoy healthy e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7277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participation in sports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620120" cy="914400"/>
          </a:xfrm>
          <a:prstGeom prst="rect">
            <a:avLst/>
          </a:prstGeom>
          <a:solidFill>
            <a:srgbClr val="27277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620120" cy="914400"/>
          </a:xfrm>
          <a:prstGeom prst="rect">
            <a:avLst/>
          </a:prstGeom>
          <a:solidFill>
            <a:srgbClr val="27277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Financial History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419120" y="2090880"/>
          <a:ext cx="6008760" cy="31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9120" y="2090880"/>
                    <a:ext cx="6008760" cy="31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1084320" y="56844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620120" cy="914400"/>
          </a:xfrm>
          <a:prstGeom prst="rect">
            <a:avLst/>
          </a:prstGeom>
          <a:solidFill>
            <a:srgbClr val="27277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Where We’re Going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ami in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Angeles in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7277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itect plans are compl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7277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e plan applictions are in th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ve restaurants by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7277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, our accountant and banker say we c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620120" cy="914400"/>
          </a:xfrm>
          <a:prstGeom prst="rect">
            <a:avLst/>
          </a:prstGeom>
          <a:solidFill>
            <a:srgbClr val="27277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ime to Expand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7277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nue growth of 3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7277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ve locations by the year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7277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f Michelle Jenkins is busy creating new culinary trea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7277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ing manager Roy Olafsen is diligently researching new lo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620120" cy="914400"/>
          </a:xfrm>
          <a:prstGeom prst="rect">
            <a:avLst/>
          </a:prstGeom>
          <a:solidFill>
            <a:srgbClr val="27277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We’ve Come a Long Way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ady revenue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novative menu plan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know what our customers w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5T15:47:04Z</dcterms:created>
  <dc:creator>Pat R. Graves</dc:creator>
  <dc:description/>
  <dc:language>en-US</dc:language>
  <cp:lastModifiedBy>Pat Graves</cp:lastModifiedBy>
  <dcterms:modified xsi:type="dcterms:W3CDTF">2003-12-31T07:16:06Z</dcterms:modified>
  <cp:revision>29</cp:revision>
  <dc:subject/>
  <dc:title>Three Years and Growing</dc:title>
</cp:coreProperties>
</file>