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260-6560-457B-BA7B-05EA4DA9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5FC-5A28-46A3-B702-FEDA02C1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C59-D2BD-4AFD-87CB-8AC2AF87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27F-8A91-4D52-96C8-EDA117AF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11AC-0DFE-4DD7-921B-31052252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1830-6E8A-4FC8-B275-3B8EB69B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1A5A-41E3-4927-B424-98F44F17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F6D4-F082-4706-9107-B7C6A457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72AF-EF3A-4143-8CA5-9465F4B2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351000"/>
            <a:ext cx="7361280" cy="65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B837-DE7F-41AD-B066-B7BC3359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6BD4-D976-4D9A-92C3-A1AD8DB3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DEE-51B6-4A21-9F04-DF591035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B5AF-817B-4A37-822C-C186A92A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69D2-56EC-4EE3-B528-10A30A3A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74E3-27E5-47CB-907B-3AF111E5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D4F0-CA2B-4598-8F5A-91369974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D747-3BFD-4CDF-B305-E28471B9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1CA-9673-4754-A816-2AF0588A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7E9-A718-46C2-9FCB-0E1B1CF1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306-75A8-46EF-8D03-EDB17A23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351000"/>
            <a:ext cx="7361280" cy="65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FF7-86A2-4E08-8C65-5BC38570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204-57EF-4CB7-9040-A7D50C13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09A-750B-4272-8CB2-EDEC2E61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5E9-4283-4816-829D-7FA126CB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4a4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a4a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5782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4569-5D61-4F28-B0F0-BF897AE33FBB}" type="slidenum">
              <a:rPr b="0" lang="en-US" sz="2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836640"/>
            <a:ext cx="3479760" cy="347976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65360"/>
            <a:ext cx="4643280" cy="1942920"/>
          </a:xfrm>
          <a:prstGeom prst="rect">
            <a:avLst/>
          </a:prstGeom>
          <a:gradFill rotWithShape="0">
            <a:gsLst>
              <a:gs pos="0">
                <a:srgbClr val="4a4a70"/>
              </a:gs>
              <a:gs pos="100000">
                <a:srgbClr val="8787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1665360"/>
            <a:ext cx="4643280" cy="19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a4a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32360" y="1915920"/>
            <a:ext cx="5075280" cy="15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2506-C946-4220-9946-44599D975982}" type="slidenum">
              <a:rPr b="0" lang="en-US" sz="2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1376280"/>
            <a:ext cx="225720" cy="2463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48720" y="1457280"/>
            <a:ext cx="257040" cy="2332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6360" y="2000160"/>
            <a:ext cx="3004920" cy="1212480"/>
            <a:chOff x="576360" y="2000160"/>
            <a:chExt cx="3004920" cy="1212480"/>
          </a:xfrm>
        </p:grpSpPr>
        <p:sp>
          <p:nvSpPr>
            <p:cNvPr id="55" name=""/>
            <p:cNvSpPr txBox="1"/>
            <p:nvPr/>
          </p:nvSpPr>
          <p:spPr>
            <a:xfrm>
              <a:off x="2743920" y="2461680"/>
              <a:ext cx="837360" cy="75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04840" y="2192760"/>
              <a:ext cx="1083600" cy="1019880"/>
              <a:chOff x="2004840" y="2192760"/>
              <a:chExt cx="1083600" cy="1019880"/>
            </a:xfrm>
          </p:grpSpPr>
          <p:sp>
            <p:nvSpPr>
              <p:cNvPr id="57" name=""/>
              <p:cNvSpPr/>
              <p:nvPr/>
            </p:nvSpPr>
            <p:spPr>
              <a:xfrm>
                <a:off x="2004840" y="2192760"/>
                <a:ext cx="1083600" cy="10198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309040" y="2302560"/>
                <a:ext cx="501480" cy="5680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 txBox="1"/>
            <p:nvPr/>
          </p:nvSpPr>
          <p:spPr>
            <a:xfrm>
              <a:off x="576360" y="2000160"/>
              <a:ext cx="201960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5782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32360" y="1915920"/>
            <a:ext cx="5075280" cy="15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abulous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032000" y="4076640"/>
            <a:ext cx="421164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New Additions to Our Menu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32360" y="1915920"/>
            <a:ext cx="5075280" cy="15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abulous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032000" y="4076640"/>
            <a:ext cx="421164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 New Dining Experienc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sta Deligh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06360" y="1974960"/>
            <a:ext cx="7785360" cy="39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ettuccine à la Juli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savory dish with a light cream sauce, spinach, sun-dried tomatoes, a touch of garlic, and Julie’s secret herb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Michelle’s Primavera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licately flavored low-fat cream sauce with asparagus, squash, and baby carrots served on organic past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sta Deligh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06360" y="1974960"/>
            <a:ext cx="7785360" cy="39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ettuccine à la Juli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savory dish with a light cream sauce, spinach, sun-dried tomatoes, a touch of garlic, and Julie’s secret herb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Michelle’s Primavera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licately flavored low-fat cream sauce with asparagus, squash, and baby carrots served on organic past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ust Sweet Enoug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06360" y="1974960"/>
            <a:ext cx="7785360" cy="433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arob Pecan Yogurt Cream Pi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is light and fluffy desert has an all-natural grahm cracker crust, great flavor, and very little sugar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Key Lime Soufflé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striking lime flavor is Michelle’s secret. Made from organic key limes, sweetened with white grape juice, and thickened with organic egg whites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etizer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Mango Supre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almon Tidbit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iny open-face salmon sandwich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ruity Chicken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03-25T13:44:30Z</cp:lastPrinted>
  <dcterms:modified xsi:type="dcterms:W3CDTF">2003-12-31T07:16:17Z</dcterms:modified>
  <cp:revision>29</cp:revision>
  <dc:subject/>
  <dc:title>Good 4 U  Fabulous Food</dc:title>
</cp:coreProperties>
</file>