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BA6-ADFE-42C3-B06F-D9C8BAB3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30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30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2E3-A253-40F9-95DC-8BB3C056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134600" y="413064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719-AFDB-4646-9005-98F8A3F0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961360" y="198108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7280" y="198108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2961360" y="413064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237280" y="413064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CE4-172E-41A5-B0D5-4D78ABB3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0366-C6A0-409F-B57E-F587BD3C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30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887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4CD0-82F5-4329-A76A-AE930311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3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D52D-50E2-4E64-87BE-0AD56EE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CD77-5BCD-4C0C-93B2-10E767A1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10CE-87FC-41CA-8FCC-07E43486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967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60887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0E00-715D-4584-A209-593A6AA8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4BC2-ECBF-483B-AC44-B072C8E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30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887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E73-822B-407C-B7C5-87ED5EFC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34600" y="413064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AD3F-0358-4721-9CAF-BE786D8C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30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0A7E-4270-403E-B09A-3BF1EF0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30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30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DD53-7E75-4990-AA12-A411E1C3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134600" y="413064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7F6D-D6FA-499F-B69A-22610541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61360" y="198108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37280" y="198108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961360" y="413064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237280" y="4130640"/>
            <a:ext cx="216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28F1-AB86-4F64-AE50-873A6491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3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DE3-2074-4CF1-9631-2750A5F8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31D-E2DB-4AFF-A39E-7D629A23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CBE-230F-41A0-860A-C71E7551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3967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60887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FFD-0285-4B6C-91B6-A76F8330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9D6-8F19-4090-B31B-91A41E02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34600" y="413064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084-C61A-4D1F-B891-0D32A284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34600" y="1981080"/>
            <a:ext cx="328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30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F98-932E-4F44-9215-CA0DDE0C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afc3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9A6F-4FC8-4EC2-8DFD-3D1EBCCB46C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8995-A5F8-4F82-84A4-2A72B1CEA9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3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0887c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9c61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" name="" descr=""/>
          <p:cNvPicPr/>
          <p:nvPr/>
        </p:nvPicPr>
        <p:blipFill>
          <a:blip r:embed="rId2"/>
          <a:stretch/>
        </p:blipFill>
        <p:spPr>
          <a:xfrm>
            <a:off x="6313320" y="4214880"/>
            <a:ext cx="2830680" cy="2643120"/>
          </a:xfrm>
          <a:prstGeom prst="rect">
            <a:avLst/>
          </a:prstGeom>
          <a:ln w="0">
            <a:noFill/>
          </a:ln>
        </p:spPr>
      </p:pic>
      <p:grpSp>
        <p:nvGrpSpPr>
          <p:cNvPr id="22" name=""/>
          <p:cNvGrpSpPr/>
          <p:nvPr/>
        </p:nvGrpSpPr>
        <p:grpSpPr>
          <a:xfrm>
            <a:off x="71280" y="6442200"/>
            <a:ext cx="1008360" cy="299880"/>
            <a:chOff x="71280" y="6442200"/>
            <a:chExt cx="1008360" cy="299880"/>
          </a:xfrm>
        </p:grpSpPr>
        <p:sp>
          <p:nvSpPr>
            <p:cNvPr id="23" name=""/>
            <p:cNvSpPr txBox="1"/>
            <p:nvPr/>
          </p:nvSpPr>
          <p:spPr>
            <a:xfrm>
              <a:off x="798840" y="6556320"/>
              <a:ext cx="280800" cy="18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4" name=""/>
            <p:cNvGrpSpPr/>
            <p:nvPr/>
          </p:nvGrpSpPr>
          <p:grpSpPr>
            <a:xfrm>
              <a:off x="550800" y="6489720"/>
              <a:ext cx="363600" cy="252360"/>
              <a:chOff x="550800" y="6489720"/>
              <a:chExt cx="363600" cy="252360"/>
            </a:xfrm>
          </p:grpSpPr>
          <p:sp>
            <p:nvSpPr>
              <p:cNvPr id="25" name=""/>
              <p:cNvSpPr/>
              <p:nvPr/>
            </p:nvSpPr>
            <p:spPr>
              <a:xfrm>
                <a:off x="550800" y="6489720"/>
                <a:ext cx="363600" cy="2523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52680" y="6516720"/>
                <a:ext cx="168480" cy="1407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afc3b5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" name=""/>
            <p:cNvSpPr txBox="1"/>
            <p:nvPr/>
          </p:nvSpPr>
          <p:spPr>
            <a:xfrm>
              <a:off x="71280" y="6442200"/>
              <a:ext cx="677880" cy="17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afc3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aabcae"/>
                </a:gs>
                <a:gs pos="100000">
                  <a:srgbClr val="9aaa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920" y="549360"/>
            <a:ext cx="7989840" cy="21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Verdana"/>
              </a:rPr>
              <a:t>Click to edit the title text format</a:t>
            </a:r>
            <a:endParaRPr b="1" lang="en-US" sz="66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E38D-732C-45F4-856D-A63A5AFA4DC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FD54-7D3F-4A0F-9DDC-5AFE72D97C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887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0887c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0887c"/>
              </a:buClr>
              <a:buSzPct val="70000"/>
              <a:buFont typeface="Wingdings 2" charset="2"/>
              <a:buChar char="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09c61"/>
              </a:buClr>
              <a:buSzPct val="70000"/>
              <a:buFont typeface="Wingdings 2" charset="2"/>
              <a:buChar char="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289080" y="-27000"/>
            <a:ext cx="64929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76720" y="260280"/>
            <a:ext cx="468144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Verdana"/>
              </a:rPr>
              <a:t>Creating a Resort Presence</a:t>
            </a:r>
            <a:endParaRPr b="1" lang="en-US" sz="66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688000" y="4113000"/>
            <a:ext cx="3240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887c"/>
                </a:solidFill>
                <a:latin typeface="Verdana"/>
              </a:rPr>
              <a:t>Student Name</a:t>
            </a:r>
            <a:endParaRPr b="1" lang="en-US" sz="2800" spc="-1" strike="noStrike">
              <a:solidFill>
                <a:srgbClr val="60887c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050920" y="5769000"/>
            <a:ext cx="720720" cy="250920"/>
            <a:chOff x="2050920" y="5769000"/>
            <a:chExt cx="720720" cy="250920"/>
          </a:xfrm>
        </p:grpSpPr>
        <p:sp>
          <p:nvSpPr>
            <p:cNvPr id="125" name=""/>
            <p:cNvSpPr txBox="1"/>
            <p:nvPr/>
          </p:nvSpPr>
          <p:spPr>
            <a:xfrm>
              <a:off x="2570760" y="5864400"/>
              <a:ext cx="20088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393640" y="5808600"/>
              <a:ext cx="259920" cy="210960"/>
              <a:chOff x="2393640" y="5808600"/>
              <a:chExt cx="259920" cy="210960"/>
            </a:xfrm>
          </p:grpSpPr>
          <p:sp>
            <p:nvSpPr>
              <p:cNvPr id="127" name=""/>
              <p:cNvSpPr/>
              <p:nvPr/>
            </p:nvSpPr>
            <p:spPr>
              <a:xfrm>
                <a:off x="2393640" y="5808600"/>
                <a:ext cx="259920" cy="2109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66720" y="5831280"/>
                <a:ext cx="120240" cy="1173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afc3b5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 txBox="1"/>
            <p:nvPr/>
          </p:nvSpPr>
          <p:spPr>
            <a:xfrm>
              <a:off x="2050920" y="5769000"/>
              <a:ext cx="48456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</a:rPr>
              <a:t>Customer Requirements</a:t>
            </a: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2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lthy eating opportun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scale restau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urmet-quality d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4 U can provide the ambiance, quality, and healthfulness vacationers deman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</a:rPr>
              <a:t>Benefits to Good 4 U</a:t>
            </a: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3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name associated with leisure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Good 4 U Revenue Potent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</a:rPr>
              <a:t>New Restaurants Planned</a:t>
            </a: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3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52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eputation for healthful f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eputation for gourmet-quality f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eputation for a fun atmo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</a:rPr>
              <a:t>Our Strengths</a:t>
            </a: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</a:rPr>
              <a:t>Financial Benefits</a:t>
            </a: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taurants mean more 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enlarging our operation, we can streamline administrative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margin will r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</a:rPr>
              <a:t>Key Benefits</a:t>
            </a: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3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ize the key benefits provided by the product, service, or idea being promo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3b5"/>
            </a:gs>
            <a:gs pos="100000">
              <a:srgbClr val="cbd8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Verdana"/>
              </a:rPr>
              <a:t>Next Steps</a:t>
            </a:r>
            <a:endParaRPr b="1" lang="en-US" sz="4400" spc="-1" strike="noStrike">
              <a:solidFill>
                <a:srgbClr val="6600cc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383920"/>
            <a:ext cx="673092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e possible restaurant sites in resort 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focus groups to determine customer needs in resort 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a65a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 cost o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-36360" y="1305000"/>
            <a:ext cx="9226440" cy="874800"/>
            <a:chOff x="-36360" y="1305000"/>
            <a:chExt cx="9226440" cy="8748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-36360" y="1305000"/>
              <a:ext cx="616608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3024360" y="1305000"/>
              <a:ext cx="6165720" cy="87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R. Graves</dc:creator>
  <dc:description/>
  <dc:language>en-US</dc:language>
  <cp:lastModifiedBy>Ms. Malnick</cp:lastModifiedBy>
  <dcterms:modified xsi:type="dcterms:W3CDTF">2004-03-26T01:23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1</vt:r8>
  </property>
</Properties>
</file>