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C81-8E7A-4C87-A846-97F5E999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0000" y="39348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9DE-3A43-4525-8A52-A323F967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928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FBF-D546-412F-B4DB-40D9DB40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7432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864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000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7432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864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69B-F63C-4658-A939-220B8608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0D8-FE69-410B-982A-A8B1E81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0B2-AAFD-4CE8-A5E4-FB2F759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9E9-2E76-4B7D-A24A-5EA1247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C58C-EA82-42BA-AF0E-303BA5F2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0C2-F109-4046-A1E0-91AEAC71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25000"/>
            <a:ext cx="7924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708-8604-4553-B646-6FFED0D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A5FA-C1CD-4C9F-9D90-21A1FC5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9AD-90D7-43B3-8B93-CE118CC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928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E578-41A6-4F1B-92BA-E655BF8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BF44-A7BB-47CA-9C85-D0DB8C3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40000" y="39348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B06D-D760-4AB9-89FF-265FD1C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928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4F76-E591-4B7D-83B1-E2E5A6EF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432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8640" y="19890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4000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432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8640" y="3934800"/>
            <a:ext cx="23180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F1D-862C-4291-B793-63AC58DD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C0D-1963-4386-9590-556A5F0C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8CF-6AA4-4CE5-AB1B-FF384AAE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4A1-08F5-4D8D-A85B-B5A8C764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225000"/>
            <a:ext cx="7924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56C-035D-4F38-A6D5-E2672C65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D8F-2F2F-49D0-9C50-324A8048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9280" y="39348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5E8-CF09-4229-A424-B83B518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9280" y="1989000"/>
            <a:ext cx="351324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3934800"/>
            <a:ext cx="71992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92-9FF1-4E67-9E97-1BAD2D4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eeb1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516-6C22-4595-B873-652E1CEF0FA4}" type="slidenum">
              <a:rPr b="1" lang="en-US" sz="26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360" y="-27000"/>
            <a:ext cx="8459640" cy="13683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 rot="5400000">
            <a:off x="-2817720" y="3321000"/>
            <a:ext cx="6858000" cy="216000"/>
          </a:xfrm>
          <a:prstGeom prst="roundRect">
            <a:avLst>
              <a:gd name="adj" fmla="val 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584360" cy="6858000"/>
          </a:xfrm>
          <a:prstGeom prst="rect">
            <a:avLst/>
          </a:prstGeom>
          <a:solidFill>
            <a:srgbClr val="eeb1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981000"/>
            <a:ext cx="8459640" cy="1905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rot="5400000">
            <a:off x="-1774080" y="3285360"/>
            <a:ext cx="6858000" cy="287280"/>
          </a:xfrm>
          <a:prstGeom prst="roundRect">
            <a:avLst>
              <a:gd name="adj" fmla="val 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B7AA-650F-45C9-B4E6-30F0445CE652}" type="slidenum">
              <a:rPr b="1" lang="en-US" sz="26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079640" y="1089000"/>
            <a:ext cx="84088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b104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eeb104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089000"/>
            <a:ext cx="84088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b104"/>
                </a:solidFill>
                <a:latin typeface="Arial"/>
              </a:rPr>
              <a:t>Your Choice of Automobile</a:t>
            </a:r>
            <a:endParaRPr b="1" lang="en-US" sz="5400" spc="-1" strike="noStrike">
              <a:solidFill>
                <a:srgbClr val="eeb104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54364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661080" y="5421240"/>
            <a:ext cx="25192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alespers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eneral Description of Automobile 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se two or more bullets to outline general features of the automobile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stomer Expectations or Need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st two or more features of the automobile that will meet specific customer needs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s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f your product is more expensive than the competition, list some reasons why customers would benefit from a better product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f it is less expensive, list two or more bullets describing how you are able to offer a less expensive product and still be profitable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arrant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st two or more points about the automobile warranty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0000" y="1989000"/>
            <a:ext cx="7199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cribe the overall benefits of this automobile, and why your audience should purchase this automobile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33cccc"/>
              </a:gs>
              <a:gs pos="100000">
                <a:srgbClr val="1e797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33cccc"/>
              </a:gs>
              <a:gs pos="100000">
                <a:srgbClr val="1e797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Ms. Malnick</cp:lastModifiedBy>
  <dcterms:modified xsi:type="dcterms:W3CDTF">2004-03-26T01:27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