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5A5-9B7B-4A56-8F37-1697C31C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1BD-C164-4EE6-B7C0-4AAA29DD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E23-576F-4A4E-B4CD-CA90C42F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108-8377-4510-81B6-4A4B4632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053A-5848-4922-B889-53CB206F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3812-C2A4-487E-A60A-336AD4C2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94C7-EA25-4809-B5A5-F9095135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D89C-A502-46C9-B471-7D2CF12B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6CF6-B1CF-49A4-BCC8-EC212023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55560" y="380520"/>
            <a:ext cx="78026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0BB6-6607-452E-85B5-ECED5CF8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92CE-500B-4676-85C7-6322632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4DE-AC77-4351-AF95-FBEB55FD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52FA-C251-4C2A-BCFA-CA00D94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7662-FBA1-42F7-82E0-7D27DAD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6514-62AB-4A27-B526-08D12B1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6FF8-5CCE-4C34-9385-055DBA90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5E38-9537-461B-8AA4-5AC30A1B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A8B-9CE9-49E9-B336-E663296A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2EF-8B68-494F-BB20-F46E8140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F63-BFCB-4548-B664-C398A2C7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55560" y="380520"/>
            <a:ext cx="78026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83C-892D-4ECE-B5D5-A9404389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294-4E1A-4B8E-A3FA-EF0A6A6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DCC-E18B-4799-8C61-C23EFFA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3CA-2996-4486-B385-6850B67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681360"/>
            <a:ext cx="3816000" cy="3169800"/>
            <a:chOff x="0" y="3681360"/>
            <a:chExt cx="3816000" cy="3169800"/>
          </a:xfrm>
        </p:grpSpPr>
        <p:sp>
          <p:nvSpPr>
            <p:cNvPr id="1" name=""/>
            <p:cNvSpPr/>
            <p:nvPr/>
          </p:nvSpPr>
          <p:spPr>
            <a:xfrm>
              <a:off x="0" y="3766680"/>
              <a:ext cx="3816000" cy="3078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81360"/>
              <a:ext cx="3303000" cy="316980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154040"/>
              <a:ext cx="3108600" cy="2690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827880"/>
              <a:ext cx="3108600" cy="301680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2240" y="4237560"/>
              <a:ext cx="153000" cy="1465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36360" y="6114240"/>
              <a:ext cx="163800" cy="1569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09040" y="4133520"/>
              <a:ext cx="215640" cy="2059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FB98-B538-4FA9-9604-354D2B6C6A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108000" y="5734080"/>
            <a:ext cx="1904760" cy="581040"/>
            <a:chOff x="108000" y="5734080"/>
            <a:chExt cx="1904760" cy="581040"/>
          </a:xfrm>
        </p:grpSpPr>
        <p:sp>
          <p:nvSpPr>
            <p:cNvPr id="14" name=""/>
            <p:cNvSpPr txBox="1"/>
            <p:nvPr/>
          </p:nvSpPr>
          <p:spPr>
            <a:xfrm>
              <a:off x="1482120" y="595512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1013760" y="5826240"/>
              <a:ext cx="686880" cy="488520"/>
              <a:chOff x="1013760" y="5826240"/>
              <a:chExt cx="686880" cy="488520"/>
            </a:xfrm>
          </p:grpSpPr>
          <p:sp>
            <p:nvSpPr>
              <p:cNvPr id="16" name=""/>
              <p:cNvSpPr/>
              <p:nvPr/>
            </p:nvSpPr>
            <p:spPr>
              <a:xfrm>
                <a:off x="1013760" y="582624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206720" y="587880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8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 txBox="1"/>
            <p:nvPr/>
          </p:nvSpPr>
          <p:spPr>
            <a:xfrm>
              <a:off x="108000" y="573408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3681360"/>
            <a:ext cx="3816000" cy="3169800"/>
            <a:chOff x="0" y="3681360"/>
            <a:chExt cx="3816000" cy="3169800"/>
          </a:xfrm>
        </p:grpSpPr>
        <p:sp>
          <p:nvSpPr>
            <p:cNvPr id="56" name=""/>
            <p:cNvSpPr/>
            <p:nvPr/>
          </p:nvSpPr>
          <p:spPr>
            <a:xfrm>
              <a:off x="0" y="3766680"/>
              <a:ext cx="3816000" cy="3078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681360"/>
              <a:ext cx="3303000" cy="316980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4154040"/>
              <a:ext cx="3108600" cy="2690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827880"/>
              <a:ext cx="3108600" cy="301680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2240" y="4237560"/>
              <a:ext cx="153000" cy="1465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36360" y="6114240"/>
              <a:ext cx="163800" cy="1569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09040" y="4133520"/>
              <a:ext cx="215640" cy="2059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ba00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191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7B12-5657-4C44-9188-9D43496E50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9191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ADVERTISING ANALYSI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23640" y="3753000"/>
            <a:ext cx="4032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967280" y="5192640"/>
            <a:ext cx="3862080" cy="1177560"/>
            <a:chOff x="4967280" y="5192640"/>
            <a:chExt cx="3862080" cy="1177560"/>
          </a:xfrm>
        </p:grpSpPr>
        <p:sp>
          <p:nvSpPr>
            <p:cNvPr id="107" name=""/>
            <p:cNvSpPr txBox="1"/>
            <p:nvPr/>
          </p:nvSpPr>
          <p:spPr>
            <a:xfrm>
              <a:off x="7753320" y="5640840"/>
              <a:ext cx="1076040" cy="72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803640" y="5379840"/>
              <a:ext cx="1392480" cy="990360"/>
              <a:chOff x="6803640" y="5379840"/>
              <a:chExt cx="1392480" cy="990360"/>
            </a:xfrm>
          </p:grpSpPr>
          <p:sp>
            <p:nvSpPr>
              <p:cNvPr id="109" name=""/>
              <p:cNvSpPr/>
              <p:nvPr/>
            </p:nvSpPr>
            <p:spPr>
              <a:xfrm>
                <a:off x="6803640" y="5379840"/>
                <a:ext cx="1392480" cy="9903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94600" y="5486400"/>
                <a:ext cx="644760" cy="55152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8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 txBox="1"/>
            <p:nvPr/>
          </p:nvSpPr>
          <p:spPr>
            <a:xfrm>
              <a:off x="4967280" y="5192640"/>
              <a:ext cx="2595960" cy="69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our current advertsing plan work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and analyze each me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pics of Discus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wspaper A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, timely, good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appears every Wednesday in Food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28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o A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beat and humo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s run daily during morning driv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10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il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ful and appealing postcards and cou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er sent six times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12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Yellow Pages A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active display, prominent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appears in all metro e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6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This Mea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 strong statement that summarizes how you feel or think about this 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key points you want your audience to re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560" y="380520"/>
            <a:ext cx="780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xt Step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effectiveness vs.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at R. Graves</dc:creator>
  <dc:description/>
  <dc:language>en-US</dc:language>
  <cp:lastModifiedBy>Pat Graves</cp:lastModifiedBy>
  <cp:lastPrinted>1996-11-12T18:04:54Z</cp:lastPrinted>
  <dcterms:modified xsi:type="dcterms:W3CDTF">2003-12-31T07:15:07Z</dcterms:modified>
  <cp:revision>24</cp:revision>
  <dc:subject/>
  <dc:title>ADVERTISING ANALYSIS</dc:title>
</cp:coreProperties>
</file>