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8709-2AF8-4076-90C6-337D665F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08F-9F9B-479D-80A9-DED2E222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01A8-F30F-4615-9FA2-C87A62CA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90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6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499E-5B57-4054-A12A-6E3781A7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6C30-D4D9-4396-9631-72CDA812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0CCC-69DC-4D59-B206-122E3281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F040-A6F3-456B-9817-974790DB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C5D7-B42E-4B9E-9191-9A6274BA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0A4A-7DAB-45DE-B660-6A85371E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4C7B-20E4-420B-BD13-422CE717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8E7C-B388-4672-B45C-C4F8AA3F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9249-5EFA-4C8B-8BBD-F35917B2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D2A1-F510-41C5-977D-B72ACCB5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0D81-842A-4E9B-95AB-FAC3FAA1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E769-A8A7-474B-82C2-40B2D0C3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9F40-2549-4166-8F23-70B671D0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90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C0A2-5A7A-4667-91F1-80B5F803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01A-CE1C-4BE5-8FC9-51E305D1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D4A-1812-485B-AAAB-2E061586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C037-D366-4E1D-A01E-29CC328D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727-08B4-4A63-8EE3-386216E5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E6C-3409-4120-B2A1-B3BC0EDF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31E6-3B3F-4484-9AFD-6D09E392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6FA-B432-4BDB-933D-D1E66EC1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a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cdae6"/>
                </a:gs>
                <a:gs pos="100000">
                  <a:srgbClr val="bfcc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5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ccdae6"/>
                </a:gs>
                <a:gs pos="100000">
                  <a:srgbClr val="e5edf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5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5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lvl="1" marL="853920" indent="-285480">
              <a:spcBef>
                <a:spcPts val="799"/>
              </a:spcBef>
              <a:buClr>
                <a:srgbClr val="00005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lvl="2" marL="11970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5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5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5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5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5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5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08A8-5501-43E7-9509-C4D128641338}" type="slidenum">
              <a:rPr b="0" lang="en-US" sz="1400" spc="-1" strike="noStrike">
                <a:solidFill>
                  <a:srgbClr val="00005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6551640" y="6067440"/>
            <a:ext cx="1736640" cy="530280"/>
            <a:chOff x="6551640" y="6067440"/>
            <a:chExt cx="1736640" cy="530280"/>
          </a:xfrm>
        </p:grpSpPr>
        <p:sp>
          <p:nvSpPr>
            <p:cNvPr id="9" name=""/>
            <p:cNvSpPr txBox="1"/>
            <p:nvPr/>
          </p:nvSpPr>
          <p:spPr>
            <a:xfrm>
              <a:off x="7804440" y="6269040"/>
              <a:ext cx="483840" cy="328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7377120" y="6151680"/>
              <a:ext cx="626040" cy="446040"/>
              <a:chOff x="7377120" y="6151680"/>
              <a:chExt cx="626040" cy="446040"/>
            </a:xfrm>
          </p:grpSpPr>
          <p:sp>
            <p:nvSpPr>
              <p:cNvPr id="11" name=""/>
              <p:cNvSpPr/>
              <p:nvPr/>
            </p:nvSpPr>
            <p:spPr>
              <a:xfrm>
                <a:off x="7377120" y="6151680"/>
                <a:ext cx="626040" cy="4460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5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552800" y="6199560"/>
                <a:ext cx="289800" cy="2484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ccdae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50"/>
                  </a:solidFill>
                  <a:latin typeface="Times New Roman"/>
                </a:endParaRPr>
              </a:p>
            </p:txBody>
          </p:sp>
        </p:grpSp>
        <p:sp>
          <p:nvSpPr>
            <p:cNvPr id="13" name=""/>
            <p:cNvSpPr txBox="1"/>
            <p:nvPr/>
          </p:nvSpPr>
          <p:spPr>
            <a:xfrm>
              <a:off x="6551640" y="6067440"/>
              <a:ext cx="1167120" cy="31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a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1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ccdae6"/>
                </a:gs>
                <a:gs pos="100000">
                  <a:srgbClr val="acb7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5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ccdae6"/>
                </a:gs>
                <a:gs pos="100000">
                  <a:srgbClr val="e5edf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5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5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5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5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5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5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0065-54BC-4415-BE97-5D4A2F686BA6}" type="slidenum">
              <a:rPr b="0" lang="en-US" sz="1000" spc="-1" strike="noStrike">
                <a:solidFill>
                  <a:srgbClr val="00005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4360" y="3429000"/>
            <a:ext cx="7773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50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50"/>
              </a:solidFill>
              <a:latin typeface="Tahoma"/>
            </a:endParaRPr>
          </a:p>
          <a:p>
            <a:pPr lvl="2" marL="914400" indent="54000" algn="ctr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5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5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5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5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5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5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a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3607920"/>
            <a:ext cx="820908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50"/>
                </a:solidFill>
                <a:latin typeface="Tahoma"/>
              </a:rPr>
              <a:t>Special Events Market</a:t>
            </a:r>
            <a:endParaRPr b="1" lang="en-US" sz="5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Student Name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78000" y="1197000"/>
            <a:ext cx="4788000" cy="2232000"/>
            <a:chOff x="2178000" y="1197000"/>
            <a:chExt cx="4788000" cy="2232000"/>
          </a:xfrm>
        </p:grpSpPr>
        <p:sp>
          <p:nvSpPr>
            <p:cNvPr id="97" name=""/>
            <p:cNvSpPr/>
            <p:nvPr/>
          </p:nvSpPr>
          <p:spPr>
            <a:xfrm>
              <a:off x="2178000" y="1197000"/>
              <a:ext cx="4788000" cy="2232000"/>
            </a:xfrm>
            <a:prstGeom prst="ellipse">
              <a:avLst/>
            </a:prstGeom>
            <a:gradFill rotWithShape="0">
              <a:gsLst>
                <a:gs pos="0">
                  <a:srgbClr val="96d5d4"/>
                </a:gs>
                <a:gs pos="100000">
                  <a:srgbClr val="ccda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50"/>
                </a:solidFill>
                <a:latin typeface="Times New Roman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2754360" y="2349720"/>
              <a:ext cx="3673440" cy="900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3366"/>
                    </a:solidFill>
                    <a:miter/>
                  </a:ln>
                  <a:solidFill>
                    <a:srgbClr val="993366"/>
                  </a:solidFill>
                  <a:latin typeface="Lucida Calligraphy"/>
                </a:rPr>
                <a:t>Healthy food for the athlete in you</a:t>
              </a:r>
              <a:endPara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3366"/>
                </a:solidFill>
                <a:latin typeface="Lucida Calligraphy"/>
                <a:ea typeface="Lucida Calligraphy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294000" y="1449720"/>
              <a:ext cx="2952720" cy="1163520"/>
              <a:chOff x="3294000" y="1449720"/>
              <a:chExt cx="2952720" cy="1163520"/>
            </a:xfrm>
          </p:grpSpPr>
          <p:sp>
            <p:nvSpPr>
              <p:cNvPr id="100" name=""/>
              <p:cNvSpPr txBox="1"/>
              <p:nvPr/>
            </p:nvSpPr>
            <p:spPr>
              <a:xfrm>
                <a:off x="5424120" y="1892520"/>
                <a:ext cx="822600" cy="72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a50021"/>
                    </a:solidFill>
                    <a:latin typeface="Georgia"/>
                  </a:rPr>
                  <a:t>U</a:t>
                </a:r>
                <a:endPara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  <a:ea typeface="Georgia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4698000" y="1634760"/>
                <a:ext cx="1064880" cy="978480"/>
                <a:chOff x="4698000" y="1634760"/>
                <a:chExt cx="1064880" cy="9784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698000" y="1634760"/>
                  <a:ext cx="1064880" cy="978480"/>
                </a:xfrm>
                <a:custGeom>
                  <a:avLst/>
                  <a:gdLst/>
                  <a:ahLst/>
                  <a:rect l="l" t="t" r="r" b="b"/>
                  <a:pathLst>
                    <a:path w="4828" h="4550">
                      <a:moveTo>
                        <a:pt x="4828" y="2723"/>
                      </a:moveTo>
                      <a:lnTo>
                        <a:pt x="4201" y="3603"/>
                      </a:lnTo>
                      <a:lnTo>
                        <a:pt x="3436" y="3615"/>
                      </a:lnTo>
                      <a:lnTo>
                        <a:pt x="3348" y="3906"/>
                      </a:lnTo>
                      <a:lnTo>
                        <a:pt x="3348" y="3906"/>
                      </a:lnTo>
                      <a:lnTo>
                        <a:pt x="3297" y="4190"/>
                      </a:lnTo>
                      <a:lnTo>
                        <a:pt x="3339" y="4397"/>
                      </a:lnTo>
                      <a:lnTo>
                        <a:pt x="3473" y="4521"/>
                      </a:lnTo>
                      <a:lnTo>
                        <a:pt x="3473" y="4521"/>
                      </a:lnTo>
                      <a:lnTo>
                        <a:pt x="3347" y="4550"/>
                      </a:lnTo>
                      <a:lnTo>
                        <a:pt x="1983" y="4550"/>
                      </a:lnTo>
                      <a:lnTo>
                        <a:pt x="2008" y="4521"/>
                      </a:lnTo>
                      <a:lnTo>
                        <a:pt x="2008" y="4521"/>
                      </a:lnTo>
                      <a:lnTo>
                        <a:pt x="2135" y="4474"/>
                      </a:lnTo>
                      <a:lnTo>
                        <a:pt x="2239" y="4417"/>
                      </a:lnTo>
                      <a:lnTo>
                        <a:pt x="2321" y="4352"/>
                      </a:lnTo>
                      <a:lnTo>
                        <a:pt x="2321" y="4352"/>
                      </a:lnTo>
                      <a:lnTo>
                        <a:pt x="2388" y="4271"/>
                      </a:lnTo>
                      <a:lnTo>
                        <a:pt x="2443" y="4169"/>
                      </a:lnTo>
                      <a:lnTo>
                        <a:pt x="2488" y="4043"/>
                      </a:lnTo>
                      <a:lnTo>
                        <a:pt x="2488" y="4043"/>
                      </a:lnTo>
                      <a:lnTo>
                        <a:pt x="2618" y="3615"/>
                      </a:lnTo>
                      <a:lnTo>
                        <a:pt x="0" y="3615"/>
                      </a:lnTo>
                      <a:lnTo>
                        <a:pt x="3299" y="0"/>
                      </a:lnTo>
                      <a:lnTo>
                        <a:pt x="4584" y="0"/>
                      </a:lnTo>
                      <a:lnTo>
                        <a:pt x="3654" y="3013"/>
                      </a:lnTo>
                      <a:lnTo>
                        <a:pt x="3654" y="3013"/>
                      </a:lnTo>
                      <a:lnTo>
                        <a:pt x="3835" y="3006"/>
                      </a:lnTo>
                      <a:lnTo>
                        <a:pt x="4061" y="2987"/>
                      </a:lnTo>
                      <a:lnTo>
                        <a:pt x="4238" y="2962"/>
                      </a:lnTo>
                      <a:lnTo>
                        <a:pt x="4238" y="2962"/>
                      </a:lnTo>
                      <a:lnTo>
                        <a:pt x="4439" y="2907"/>
                      </a:lnTo>
                      <a:lnTo>
                        <a:pt x="4636" y="2828"/>
                      </a:lnTo>
                      <a:lnTo>
                        <a:pt x="4828" y="2723"/>
                      </a:lnTo>
                      <a:lnTo>
                        <a:pt x="4828" y="2723"/>
                      </a:lnTo>
                    </a:path>
                  </a:pathLst>
                </a:custGeom>
                <a:solidFill>
                  <a:srgbClr val="ffcc66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5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997160" y="1740240"/>
                  <a:ext cx="492840" cy="545040"/>
                </a:xfrm>
                <a:custGeom>
                  <a:avLst/>
                  <a:gdLst/>
                  <a:ahLst/>
                  <a:rect l="l" t="t" r="r" b="b"/>
                  <a:pathLst>
                    <a:path w="2243" h="2533">
                      <a:moveTo>
                        <a:pt x="1481" y="2533"/>
                      </a:moveTo>
                      <a:lnTo>
                        <a:pt x="2243" y="0"/>
                      </a:lnTo>
                      <a:lnTo>
                        <a:pt x="0" y="2525"/>
                      </a:lnTo>
                      <a:lnTo>
                        <a:pt x="0" y="2525"/>
                      </a:lnTo>
                      <a:lnTo>
                        <a:pt x="203" y="2526"/>
                      </a:lnTo>
                      <a:lnTo>
                        <a:pt x="404" y="2526"/>
                      </a:lnTo>
                      <a:lnTo>
                        <a:pt x="606" y="2527"/>
                      </a:lnTo>
                      <a:lnTo>
                        <a:pt x="606" y="2527"/>
                      </a:lnTo>
                      <a:lnTo>
                        <a:pt x="798" y="2528"/>
                      </a:lnTo>
                      <a:lnTo>
                        <a:pt x="971" y="2529"/>
                      </a:lnTo>
                      <a:lnTo>
                        <a:pt x="1126" y="2531"/>
                      </a:lnTo>
                      <a:lnTo>
                        <a:pt x="1126" y="2531"/>
                      </a:lnTo>
                      <a:lnTo>
                        <a:pt x="1262" y="2532"/>
                      </a:lnTo>
                      <a:lnTo>
                        <a:pt x="1380" y="2533"/>
                      </a:lnTo>
                      <a:lnTo>
                        <a:pt x="1481" y="2533"/>
                      </a:lnTo>
                      <a:lnTo>
                        <a:pt x="1481" y="2533"/>
                      </a:lnTo>
                    </a:path>
                  </a:pathLst>
                </a:custGeom>
                <a:solidFill>
                  <a:srgbClr val="ccdae6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5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 txBox="1"/>
              <p:nvPr/>
            </p:nvSpPr>
            <p:spPr>
              <a:xfrm>
                <a:off x="3294000" y="1449720"/>
                <a:ext cx="1985040" cy="691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7e"/>
                    </a:solidFill>
                    <a:latin typeface="Georgia"/>
                  </a:rPr>
                  <a:t>Good</a:t>
                </a:r>
                <a:endPara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  <a:ea typeface="Georgia"/>
                </a:endParaRPr>
              </a:p>
            </p:txBody>
          </p:sp>
        </p:grp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 flipH="1">
              <a:off x="3509640" y="2205360"/>
              <a:ext cx="1181160" cy="731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a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862280"/>
            <a:ext cx="7773840" cy="28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50"/>
                </a:solidFill>
                <a:latin typeface="Tahoma"/>
              </a:rPr>
              <a:t>Bringing food and health into the 21st century</a:t>
            </a:r>
            <a:endParaRPr b="1" lang="en-US" sz="4800" spc="-1" strike="noStrike">
              <a:solidFill>
                <a:srgbClr val="00005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a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95360"/>
            <a:ext cx="85341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50"/>
                </a:solidFill>
                <a:latin typeface="Tahoma"/>
              </a:rPr>
              <a:t>Objective</a:t>
            </a: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Encourage corporations to use Good 4 U for special events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a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95360"/>
            <a:ext cx="85341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50"/>
                </a:solidFill>
                <a:latin typeface="Tahoma"/>
              </a:rPr>
              <a:t>Customer Requirements</a:t>
            </a: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Healthy food that tastes good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marL="453960" indent="-45396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Something different”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marL="453960" indent="-45396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Accommodations for large groups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a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95360"/>
            <a:ext cx="85341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50"/>
                </a:solidFill>
                <a:latin typeface="Tahoma"/>
              </a:rPr>
              <a:t>Good 4 U Provides</a:t>
            </a: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Low-fat, natural foods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marL="453960" indent="-45396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Innovative menu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marL="453960" indent="-45396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Three stars from the </a:t>
            </a:r>
            <a:r>
              <a:rPr b="0" i="1" lang="en-US" sz="3200" spc="-1" strike="noStrike">
                <a:solidFill>
                  <a:srgbClr val="000050"/>
                </a:solidFill>
                <a:latin typeface="Tahoma"/>
              </a:rPr>
              <a:t>New York Times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marL="453960" indent="-45396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Private dining for 25-500 people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a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95360"/>
            <a:ext cx="85341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50"/>
                </a:solidFill>
                <a:latin typeface="Tahoma"/>
              </a:rPr>
              <a:t>Next Steps</a:t>
            </a:r>
            <a:endParaRPr b="1" lang="en-US" sz="4400" spc="-1" strike="noStrike">
              <a:solidFill>
                <a:srgbClr val="00005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Develop mailing list for targeted companies 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marL="453960" indent="-45396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Develop price plan based on group size and level of service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marL="453960" indent="-45396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Send promotional mailer to target companies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  <a:p>
            <a:pPr marL="453960" indent="-453960">
              <a:spcBef>
                <a:spcPts val="799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0"/>
                </a:solidFill>
                <a:latin typeface="Tahoma"/>
              </a:rPr>
              <a:t>Prepare sales force for telephone follow-up</a:t>
            </a:r>
            <a:endParaRPr b="0" lang="en-US" sz="3200" spc="-1" strike="noStrike">
              <a:solidFill>
                <a:srgbClr val="00005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Pat R. Graves</dc:creator>
  <dc:description/>
  <dc:language>en-US</dc:language>
  <cp:lastModifiedBy>Ms. Malnick</cp:lastModifiedBy>
  <cp:lastPrinted>1997-09-04T19:09:54Z</cp:lastPrinted>
  <dcterms:modified xsi:type="dcterms:W3CDTF">2004-03-26T01:25:54Z</dcterms:modified>
  <cp:revision>26</cp:revision>
  <dc:subject/>
  <dc:title>Good 4 U Restaurant </dc:title>
</cp:coreProperties>
</file>