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C86-5939-4F1C-9844-CF2EBC18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196-6FDD-453D-8012-93EE2DE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86E-A7C8-4F7C-AEF2-127EEF4A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AE9-3944-4683-85ED-050D45EE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0685-9F61-4412-815D-EC379584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7D75-83DF-479C-BAA5-6C58CB85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0F4E-133C-4F3F-A1A6-0124AC6E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2587-9407-4E35-9295-9943793C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0B6-C90C-4D5C-95AB-8B3E4A24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84000" y="80280"/>
            <a:ext cx="72579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513-023F-4BFB-A7FA-1B1F4E30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E50-15B5-463E-B012-85FC97A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8AA-EDBB-44BF-A961-5E2A7C8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7F91-0AA2-440E-AC78-D6943C8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2114-CD76-485F-B461-AE189E6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426-5544-4031-916C-700AF8C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D00-67FB-4815-86F8-B32CEA56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0664-88DC-449B-844F-244E514A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3D7-EE2E-4A94-8A94-694FA7C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1FF-3FE1-4D47-BE88-80E64D78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39B-386B-4DF2-B2FA-6D542D0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584000" y="80280"/>
            <a:ext cx="72579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87E-62A3-4536-8311-88AAE58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50F-D226-4C4A-958A-70B4420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A8E-BFB1-47F1-A8D0-EA74D44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098-7D32-4361-B176-5155C8E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0362-22B2-460F-9F60-BB2CB5E9B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7956720" y="6129360"/>
            <a:ext cx="1008000" cy="299880"/>
            <a:chOff x="7956720" y="6129360"/>
            <a:chExt cx="1008000" cy="299880"/>
          </a:xfrm>
        </p:grpSpPr>
        <p:sp>
          <p:nvSpPr>
            <p:cNvPr id="14" name=""/>
            <p:cNvSpPr txBox="1"/>
            <p:nvPr/>
          </p:nvSpPr>
          <p:spPr>
            <a:xfrm>
              <a:off x="8683920" y="6243480"/>
              <a:ext cx="280800" cy="18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8435880" y="6176880"/>
              <a:ext cx="363240" cy="252360"/>
              <a:chOff x="8435880" y="6176880"/>
              <a:chExt cx="363240" cy="252360"/>
            </a:xfrm>
          </p:grpSpPr>
          <p:sp>
            <p:nvSpPr>
              <p:cNvPr id="16" name=""/>
              <p:cNvSpPr/>
              <p:nvPr/>
            </p:nvSpPr>
            <p:spPr>
              <a:xfrm>
                <a:off x="8435880" y="6176880"/>
                <a:ext cx="363240" cy="252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37760" y="6203880"/>
                <a:ext cx="168120" cy="140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33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 txBox="1"/>
            <p:nvPr/>
          </p:nvSpPr>
          <p:spPr>
            <a:xfrm>
              <a:off x="7956720" y="6129360"/>
              <a:ext cx="677520" cy="17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-36360" y="-27000"/>
            <a:ext cx="9180360" cy="1413000"/>
            <a:chOff x="-36360" y="-27000"/>
            <a:chExt cx="9180360" cy="1413000"/>
          </a:xfrm>
        </p:grpSpPr>
        <p:pic>
          <p:nvPicPr>
            <p:cNvPr id="20" name="" descr=""/>
            <p:cNvPicPr/>
            <p:nvPr/>
          </p:nvPicPr>
          <p:blipFill>
            <a:blip r:embed="rId2"/>
            <a:stretch/>
          </p:blipFill>
          <p:spPr>
            <a:xfrm>
              <a:off x="-36360" y="-27000"/>
              <a:ext cx="141120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"/>
            <p:cNvSpPr/>
            <p:nvPr/>
          </p:nvSpPr>
          <p:spPr>
            <a:xfrm>
              <a:off x="1332000" y="-27000"/>
              <a:ext cx="7812000" cy="1413000"/>
            </a:xfrm>
            <a:prstGeom prst="rect">
              <a:avLst/>
            </a:prstGeom>
            <a:solidFill>
              <a:srgbClr val="f9c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5"/>
          <p:cNvSpPr>
            <a:spLocks noGrp="1"/>
          </p:cNvSpPr>
          <p:nvPr>
            <p:ph type="title"/>
          </p:nvPr>
        </p:nvSpPr>
        <p:spPr>
          <a:xfrm>
            <a:off x="1584000" y="80280"/>
            <a:ext cx="7257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6920" y="1700280"/>
            <a:ext cx="8317080" cy="1260360"/>
          </a:xfrm>
          <a:prstGeom prst="rect">
            <a:avLst/>
          </a:prstGeom>
          <a:solidFill>
            <a:srgbClr val="f9c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21160" y="2924280"/>
            <a:ext cx="3930840" cy="3933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93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0F1E-4F63-42AF-85EB-548A15BA2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5661000"/>
            <a:ext cx="2412720" cy="828720"/>
            <a:chOff x="1116000" y="5661000"/>
            <a:chExt cx="2412720" cy="828720"/>
          </a:xfrm>
        </p:grpSpPr>
        <p:sp>
          <p:nvSpPr>
            <p:cNvPr id="75" name=""/>
            <p:cNvSpPr txBox="1"/>
            <p:nvPr/>
          </p:nvSpPr>
          <p:spPr>
            <a:xfrm>
              <a:off x="2856600" y="5976360"/>
              <a:ext cx="6721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63320" y="5792760"/>
              <a:ext cx="870120" cy="696960"/>
              <a:chOff x="2263320" y="5792760"/>
              <a:chExt cx="870120" cy="696960"/>
            </a:xfrm>
          </p:grpSpPr>
          <p:sp>
            <p:nvSpPr>
              <p:cNvPr id="77" name=""/>
              <p:cNvSpPr/>
              <p:nvPr/>
            </p:nvSpPr>
            <p:spPr>
              <a:xfrm>
                <a:off x="2263320" y="5792760"/>
                <a:ext cx="870120" cy="6969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07760" y="5867640"/>
                <a:ext cx="402840" cy="388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9933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1116000" y="5661000"/>
              <a:ext cx="162180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700280"/>
            <a:ext cx="8317080" cy="1260360"/>
          </a:xfrm>
          <a:prstGeom prst="rect">
            <a:avLst/>
          </a:prstGeom>
          <a:solidFill>
            <a:srgbClr val="f9c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952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Lunchtime Takeout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08000" y="3176280"/>
            <a:ext cx="3384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"/>
              </a:rPr>
              <a:t>Studen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1160" y="2924280"/>
            <a:ext cx="3930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84000" y="384840"/>
            <a:ext cx="725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Why Takeout Service?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workers are often ru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or’s takeout food is fat-laden and lacking in nu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have expressed an overwhelming interest a healthy takeout altern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84000" y="384840"/>
            <a:ext cx="725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How Do We Get Started?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our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ften would you use our takeout serv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want to see on the men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will you pay for a takeout lun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the prof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necessary staff changes increase cos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charge the same as for our eat-in lunch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cost of takeout packag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84000" y="81000"/>
            <a:ext cx="7257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Takeout is Good for Good 4 U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stomers want take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ways complaining about the quality of existing takeou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acilities are underutilized during the middle of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urrently schedule only half of our kitchen staff capacity during weekday lunchtim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out will increase our revenues and pro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4000" y="384840"/>
            <a:ext cx="725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How Do We Get Started?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ustomer survey is cru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vey will assure us that we’re delivering what our customers w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be sure that takeout will be prof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do our homework and get a good understanding of the costs, we will assure a successful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14:25:52Z</dcterms:created>
  <dc:creator>Pat R. Graves</dc:creator>
  <dc:description/>
  <dc:language>en-US</dc:language>
  <cp:lastModifiedBy>Ms. Malnick</cp:lastModifiedBy>
  <dcterms:modified xsi:type="dcterms:W3CDTF">2004-03-26T01:25:13Z</dcterms:modified>
  <cp:revision>12</cp:revision>
  <dc:subject/>
  <dc:title>Lunchtime Takeout Service</dc:title>
</cp:coreProperties>
</file>