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33"/>
                </a:solidFill>
                <a:latin typeface="Arial Black"/>
              </a:rPr>
              <a:t>Click to move the slide</a:t>
            </a:r>
            <a:endParaRPr b="0" lang="en-US" sz="48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F44E-F2E0-4A8D-9A18-B9CB75D08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62080" y="711360"/>
            <a:ext cx="4532400" cy="3398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7760" cy="4094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businesses are sponsoring this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854-464E-4A5C-A06B-7295E664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ADE8-2AA4-4578-8900-901EFDD2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B02-3597-4FD7-BDE6-90ADB7D7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2435-33B2-4C0C-82AC-ABB2E7F0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99A4-0E99-4259-9EC6-7AFDA9B0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9A6E-0910-4187-AAC4-5ACEC8A2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81C2-1254-497B-B4B7-E48743BE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7DF6-5751-473B-B9D4-E7BDC398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FAAE-B0B6-4909-9FE1-A829A3FB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7883-14B5-44D5-A0EA-CD256AEB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D0EA-A15F-4E3B-8952-38F0F5CC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10F6-A621-4559-9AEC-33BE77E2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1534-6823-490C-9A9D-4B85278E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81CC-3FA9-4693-994E-BA743AB7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814A-6529-477D-A279-761DA961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AA36-A3CC-4B6D-9B51-C992E093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AF9A-DB30-4796-9D8B-C5BA39C9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412-C446-4136-A4E8-EAE10DE3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030-60B6-4750-B79C-5393F82F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A5F-8341-4B48-A711-263476E2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E9CA-6B08-4CF5-9D91-1D5DC35A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CC3-6A96-4671-B0E1-9C082E68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2BB-5C1E-4477-822D-4C3069E1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0473-E3A5-491A-AD76-11EE3852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28600" y="1981080"/>
            <a:ext cx="7391520" cy="204840"/>
            <a:chOff x="228600" y="1981080"/>
            <a:chExt cx="7391520" cy="204840"/>
          </a:xfrm>
        </p:grpSpPr>
        <p:sp>
          <p:nvSpPr>
            <p:cNvPr id="4" name=""/>
            <p:cNvSpPr/>
            <p:nvPr/>
          </p:nvSpPr>
          <p:spPr>
            <a:xfrm>
              <a:off x="609480" y="1981080"/>
              <a:ext cx="7010640" cy="203760"/>
            </a:xfrm>
            <a:prstGeom prst="roundRect">
              <a:avLst>
                <a:gd name="adj" fmla="val 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28600" y="1981080"/>
              <a:ext cx="393840" cy="204840"/>
            </a:xfrm>
            <a:prstGeom prst="flowChartDelay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A9C0-8B58-4024-AF72-D8E73F6CB89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7056360" y="5661000"/>
            <a:ext cx="1687680" cy="514440"/>
            <a:chOff x="7056360" y="5661000"/>
            <a:chExt cx="1687680" cy="514440"/>
          </a:xfrm>
        </p:grpSpPr>
        <p:sp>
          <p:nvSpPr>
            <p:cNvPr id="12" name=""/>
            <p:cNvSpPr txBox="1"/>
            <p:nvPr/>
          </p:nvSpPr>
          <p:spPr>
            <a:xfrm>
              <a:off x="8273880" y="5856840"/>
              <a:ext cx="470160" cy="31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7858800" y="5742720"/>
              <a:ext cx="608400" cy="432720"/>
              <a:chOff x="7858800" y="5742720"/>
              <a:chExt cx="608400" cy="432720"/>
            </a:xfrm>
          </p:grpSpPr>
          <p:sp>
            <p:nvSpPr>
              <p:cNvPr id="14" name=""/>
              <p:cNvSpPr/>
              <p:nvPr/>
            </p:nvSpPr>
            <p:spPr>
              <a:xfrm>
                <a:off x="7858800" y="5742720"/>
                <a:ext cx="608400" cy="4327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029440" y="5789160"/>
                <a:ext cx="281520" cy="241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 txBox="1"/>
            <p:nvPr/>
          </p:nvSpPr>
          <p:spPr>
            <a:xfrm>
              <a:off x="7056360" y="5661000"/>
              <a:ext cx="1134360" cy="30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635280" y="4497480"/>
            <a:ext cx="4876920" cy="137880"/>
            <a:chOff x="3635280" y="4497480"/>
            <a:chExt cx="4876920" cy="137880"/>
          </a:xfrm>
        </p:grpSpPr>
        <p:sp>
          <p:nvSpPr>
            <p:cNvPr id="57" name=""/>
            <p:cNvSpPr/>
            <p:nvPr/>
          </p:nvSpPr>
          <p:spPr>
            <a:xfrm flipH="1">
              <a:off x="3635280" y="4497480"/>
              <a:ext cx="4626000" cy="137160"/>
            </a:xfrm>
            <a:prstGeom prst="roundRect">
              <a:avLst>
                <a:gd name="adj" fmla="val 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251920" y="4497480"/>
              <a:ext cx="260280" cy="137880"/>
            </a:xfrm>
            <a:prstGeom prst="flowChartDelay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D721-FBDF-4961-8768-2565A941657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33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990033"/>
              </a:solidFill>
              <a:latin typeface="Arial Black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832280" y="5111640"/>
            <a:ext cx="2379600" cy="725400"/>
            <a:chOff x="4832280" y="5111640"/>
            <a:chExt cx="2379600" cy="725400"/>
          </a:xfrm>
        </p:grpSpPr>
        <p:sp>
          <p:nvSpPr>
            <p:cNvPr id="64" name=""/>
            <p:cNvSpPr txBox="1"/>
            <p:nvPr/>
          </p:nvSpPr>
          <p:spPr>
            <a:xfrm>
              <a:off x="6548760" y="5387760"/>
              <a:ext cx="66312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5963400" y="5226840"/>
              <a:ext cx="857880" cy="610200"/>
              <a:chOff x="5963400" y="5226840"/>
              <a:chExt cx="857880" cy="610200"/>
            </a:xfrm>
          </p:grpSpPr>
          <p:sp>
            <p:nvSpPr>
              <p:cNvPr id="66" name=""/>
              <p:cNvSpPr/>
              <p:nvPr/>
            </p:nvSpPr>
            <p:spPr>
              <a:xfrm>
                <a:off x="5963400" y="5226840"/>
                <a:ext cx="857880" cy="6102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204240" y="5292360"/>
                <a:ext cx="397080" cy="3398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 txBox="1"/>
            <p:nvPr/>
          </p:nvSpPr>
          <p:spPr>
            <a:xfrm>
              <a:off x="4832280" y="5111640"/>
              <a:ext cx="1599480" cy="43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33"/>
                </a:solidFill>
                <a:latin typeface="Arial Black"/>
              </a:rPr>
              <a:t>Cooking Contest </a:t>
            </a:r>
            <a:endParaRPr b="0" lang="en-US" sz="48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717800" y="2976120"/>
            <a:ext cx="4127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how Us Your Favorite Healthy Dish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 Black"/>
              </a:rPr>
              <a:t>Ingredients to Use</a:t>
            </a: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e syr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n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ive o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b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 Black"/>
              </a:rPr>
              <a:t>Awards</a:t>
            </a:r>
            <a:endParaRPr b="0" lang="en-US" sz="3600" spc="-1" strike="noStrike">
              <a:solidFill>
                <a:srgbClr val="990033"/>
              </a:solidFill>
              <a:latin typeface="Arial Black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z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ce: Four Friday dinn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ce: Two brun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 lunch local entrant awards ceremo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ze with three catego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1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 to 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 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0T21:45:06Z</dcterms:created>
  <dc:creator>Marple</dc:creator>
  <dc:description/>
  <dc:language>en-US</dc:language>
  <cp:lastModifiedBy>Pat Graves</cp:lastModifiedBy>
  <dcterms:modified xsi:type="dcterms:W3CDTF">2004-01-05T06:32:21Z</dcterms:modified>
  <cp:revision>11</cp:revision>
  <dc:subject/>
  <dc:title>A Good 4 U Recipe Contest </dc:title>
</cp:coreProperties>
</file>