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B47-DA99-4C65-BA5A-50E9C632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4FE-BB8A-4E07-840C-66FD3906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DCF-8D0B-4B89-B56F-5DB52795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B60-FC6B-45CF-BA4C-EF4A2E71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15D2-7570-49B9-AD83-A4669268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955D-02D6-4D26-A63E-63E74F9A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A84D-8941-476F-9394-AFC5E743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ECAD-7328-4FF2-B583-54923492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82A6-7560-4D5D-9162-23BCB889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70106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D696-7609-4707-9B98-117A7F01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2BF3-8D7A-42A7-B026-F551981D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8D35-8326-4165-AA03-0BF0B978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60E7-9EDC-4841-BAD2-B8E692E6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F5E5-D670-435A-A978-40230E58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F105-CDD0-406F-A494-B5A0121B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D3E3-BD13-41BE-AA2C-9B6312BA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CA8E-B12B-4583-B78F-9595FD02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667-B147-45A0-B724-BF7ABE78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2B5-91F6-420F-A60A-12AEBBB4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9432-B49D-4602-84CE-7F66234A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70106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7B0B-C051-4187-AC5C-D5BA3242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7A2-37D3-4985-8B98-50BC0676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889B-7611-46E9-A745-54C6EC94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EF4-45D8-4FB6-B773-ACCFC75B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b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66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54C0-0490-419A-BFA3-16DADA20C1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457200"/>
            <a:ext cx="0" cy="129528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990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990720"/>
            <a:ext cx="228600" cy="2286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990720"/>
            <a:ext cx="228600" cy="2286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b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EFFE-3B04-41E4-8735-CED8469D29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 2" charset="2"/>
              <a:buChar char="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b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Food Safety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Good 4 U employee training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b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Should We Be Safe?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No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akes time &amp; effor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sts mone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y bother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Yes!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ealthy ima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ide &amp; ethic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void lawsui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ay in busines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b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Ensuring Food Safety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ports to USDA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od handler training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Management inspection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afety supervisors on-sit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b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Our Food Handling Practices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ean uniforms are required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Gloves, hair nets, and beard nets must be worn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Washing before and after handling food is mandatory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moking is not permitted anywher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b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Food Procurement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Our suppliers ar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imarily organic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imarily local grow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We insist on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sts for pesticide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eshness &amp; cleanlin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b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Inspections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gular USDA inspection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gular internal inspection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raining inspection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chedul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Pat Graves</dc:creator>
  <dc:description/>
  <dc:language>en-US</dc:language>
  <cp:lastModifiedBy>Pat Graves</cp:lastModifiedBy>
  <cp:lastPrinted>1997-05-19T02:01:46Z</cp:lastPrinted>
  <dcterms:modified xsi:type="dcterms:W3CDTF">2004-02-02T07:32:06Z</dcterms:modified>
  <cp:revision>22</cp:revision>
  <dc:subject/>
  <dc:title>First in Food Safety</dc:title>
</cp:coreProperties>
</file>