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25546-5A3B-4661-9780-3F7F6DD5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B8E5-D6E3-432C-A5F7-064CE484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D7BC-F377-4C56-82E0-C18A1C3F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06C4-4960-4500-9C81-EFC11F3B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209F-70F0-4049-B61A-5C48F353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53CD-0A97-4BFF-94B3-F2E591B7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D83A-A465-4BF8-A933-AC50CC8F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D348-89A1-40DC-AA0B-3A458275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1633-230F-4C5B-B894-005E2B04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2BEA-5F94-4515-805A-2F68B045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C082-8C16-4736-9425-5B44551D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FD84-20FE-406C-9009-CCDD05F9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9DE4-31BF-44CB-9677-B3C698DB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48A0-07DC-4862-86B4-A686432B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EB1F-9434-4B1A-8BB5-120815E3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C277-9CAD-47FB-A94C-C3CFC7B7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2F53-098F-4FE7-A24C-1B3CEFDD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10EC-3D82-491F-8822-780A8F5C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0CDB-6794-402B-8E38-8A570787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BF809-8259-4953-8411-21765211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FD1F-FD41-4D76-B609-AF84ABC4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8231-3AD3-480F-B5D2-F5FAC072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38A3-C54C-48FD-82A8-AE1EB473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57481-6E00-4021-9893-A4AF463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554D-BA1B-4682-BF67-FA663F24FA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" name=""/>
          <p:cNvGrpSpPr/>
          <p:nvPr/>
        </p:nvGrpSpPr>
        <p:grpSpPr>
          <a:xfrm>
            <a:off x="6975360" y="5661000"/>
            <a:ext cx="1484280" cy="452520"/>
            <a:chOff x="6975360" y="5661000"/>
            <a:chExt cx="1484280" cy="452520"/>
          </a:xfrm>
        </p:grpSpPr>
        <p:sp>
          <p:nvSpPr>
            <p:cNvPr id="28" name=""/>
            <p:cNvSpPr txBox="1"/>
            <p:nvPr/>
          </p:nvSpPr>
          <p:spPr>
            <a:xfrm>
              <a:off x="8046000" y="5833080"/>
              <a:ext cx="413640" cy="280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7680960" y="5733000"/>
              <a:ext cx="534960" cy="380520"/>
              <a:chOff x="7680960" y="5733000"/>
              <a:chExt cx="534960" cy="380520"/>
            </a:xfrm>
          </p:grpSpPr>
          <p:sp>
            <p:nvSpPr>
              <p:cNvPr id="30" name=""/>
              <p:cNvSpPr/>
              <p:nvPr/>
            </p:nvSpPr>
            <p:spPr>
              <a:xfrm>
                <a:off x="7680960" y="5733000"/>
                <a:ext cx="534960" cy="380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831080" y="5774040"/>
                <a:ext cx="247680" cy="2120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d8784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" name=""/>
            <p:cNvSpPr txBox="1"/>
            <p:nvPr/>
          </p:nvSpPr>
          <p:spPr>
            <a:xfrm>
              <a:off x="6975360" y="5661000"/>
              <a:ext cx="997560" cy="26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89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DDB9-BDA9-4CFF-8A42-0602D6498D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56000" y="4581360"/>
            <a:ext cx="2484360" cy="900360"/>
            <a:chOff x="3456000" y="4581360"/>
            <a:chExt cx="2484360" cy="900360"/>
          </a:xfrm>
        </p:grpSpPr>
        <p:sp>
          <p:nvSpPr>
            <p:cNvPr id="96" name=""/>
            <p:cNvSpPr txBox="1"/>
            <p:nvPr/>
          </p:nvSpPr>
          <p:spPr>
            <a:xfrm>
              <a:off x="5248080" y="4924080"/>
              <a:ext cx="692280" cy="55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637160" y="4724280"/>
              <a:ext cx="895680" cy="757080"/>
              <a:chOff x="4637160" y="4724280"/>
              <a:chExt cx="895680" cy="757080"/>
            </a:xfrm>
          </p:grpSpPr>
          <p:sp>
            <p:nvSpPr>
              <p:cNvPr id="98" name=""/>
              <p:cNvSpPr/>
              <p:nvPr/>
            </p:nvSpPr>
            <p:spPr>
              <a:xfrm>
                <a:off x="4637160" y="4724280"/>
                <a:ext cx="895680" cy="7570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888800" y="4805640"/>
                <a:ext cx="414720" cy="4215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d8784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 txBox="1"/>
            <p:nvPr/>
          </p:nvSpPr>
          <p:spPr>
            <a:xfrm>
              <a:off x="3456000" y="4581360"/>
              <a:ext cx="1669680" cy="53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089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8dec6"/>
                </a:solidFill>
                <a:latin typeface="Tahoma"/>
              </a:rPr>
              <a:t>Recipe Contest </a:t>
            </a:r>
            <a:endParaRPr b="1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2989440"/>
            <a:ext cx="64008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dec6"/>
                </a:solidFill>
                <a:latin typeface="Tahoma"/>
              </a:rPr>
              <a:t>Ingredients to Avoid</a:t>
            </a: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n syr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ficial sweete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dec6"/>
                </a:solidFill>
                <a:latin typeface="Tahoma"/>
              </a:rPr>
              <a:t>Judging Criteria</a:t>
            </a: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s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gredi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shness and var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lthful bal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0T21:45:06Z</dcterms:created>
  <dc:creator>Marple</dc:creator>
  <dc:description/>
  <dc:language>en-US</dc:language>
  <cp:lastModifiedBy>Pat Graves</cp:lastModifiedBy>
  <dcterms:modified xsi:type="dcterms:W3CDTF">2004-01-05T06:28:54Z</dcterms:modified>
  <cp:revision>9</cp:revision>
  <dc:subject/>
  <dc:title>A Good 4 U Recipe Contest </dc:title>
</cp:coreProperties>
</file>