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F58-9405-489B-9D22-C74C57B0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543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294920" y="4168080"/>
            <a:ext cx="7543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DAE-4D0A-46A5-A4F6-55E90A7F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60600" y="20602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294920" y="41680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60600" y="41680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76B-A379-4798-9590-AEEDFD59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24289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45520" y="2060280"/>
            <a:ext cx="24289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96480" y="2060280"/>
            <a:ext cx="24289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294920" y="4168080"/>
            <a:ext cx="24289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845520" y="4168080"/>
            <a:ext cx="24289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96480" y="4168080"/>
            <a:ext cx="24289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EA8-E364-48C7-ABBA-76428AF3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9923-080D-4FEA-98FB-6BD552B8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94920" y="2060280"/>
            <a:ext cx="754380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01BB-1E3F-48A0-9127-AC670B52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5438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D2F7-24D6-4E5F-B9EB-E0D25EC5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36813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0600" y="2060280"/>
            <a:ext cx="36813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C14C-F4CA-4F49-8EE7-F11A7C99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4D98-DA3C-4851-BA8F-10BE3FFD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60F1-7D06-4BE6-81F4-7F76C4AC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0600" y="2060280"/>
            <a:ext cx="36813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4920" y="41680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9151-B385-467B-A032-14E2A8ED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294920" y="2060280"/>
            <a:ext cx="754380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D0F-A5ED-407D-B911-74FD4743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36813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0600" y="20602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160600" y="41680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AF13-CED9-4EF4-A534-DCD9FCED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0600" y="20602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68080"/>
            <a:ext cx="7543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BE64-F891-47EC-A270-CE4EE7E8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543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94920" y="4168080"/>
            <a:ext cx="7543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52AB-560E-4864-869F-76A41320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60600" y="20602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4920" y="41680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60600" y="41680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63C4-8A36-4227-B3D9-C98C9D5D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24289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5520" y="2060280"/>
            <a:ext cx="24289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96480" y="2060280"/>
            <a:ext cx="24289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94920" y="4168080"/>
            <a:ext cx="24289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845520" y="4168080"/>
            <a:ext cx="24289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396480" y="4168080"/>
            <a:ext cx="242892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BD31-904E-4586-A4C4-9B0791B9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5438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CBD-CB91-4F26-9BDD-43FAC611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36813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0600" y="2060280"/>
            <a:ext cx="36813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362-2445-419C-A89D-BB48A03E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917-7039-43EF-907E-94DEDB7E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203-7A9D-4519-8660-7EDA758B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0600" y="2060280"/>
            <a:ext cx="36813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1680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B1A-3B6D-4D4C-8816-970CC2FE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36813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0600" y="20602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60600" y="41680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9D97-E8FB-4A6A-BAE1-40A003F1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0600" y="2060280"/>
            <a:ext cx="36813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168080"/>
            <a:ext cx="7543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279-BF88-40F2-B78E-C97518C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a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cdae6"/>
                </a:gs>
                <a:gs pos="100000">
                  <a:srgbClr val="bfcc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5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ccdae6"/>
                </a:gs>
                <a:gs pos="100000">
                  <a:srgbClr val="e5edf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5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5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94920" y="2060280"/>
            <a:ext cx="75438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0280" indent="-44028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lvl="1" marL="828000" indent="-276840">
              <a:spcBef>
                <a:spcPts val="799"/>
              </a:spcBef>
              <a:buClr>
                <a:srgbClr val="00005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lvl="2" marL="1161000" indent="-2214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lvl="3" marL="1551960" indent="-221400">
              <a:spcBef>
                <a:spcPts val="799"/>
              </a:spcBef>
              <a:buClr>
                <a:srgbClr val="00005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lvl="4" marL="1995480" indent="-2214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lvl="5" marL="1995480" indent="-221400">
              <a:spcBef>
                <a:spcPts val="799"/>
              </a:spcBef>
              <a:buClr>
                <a:srgbClr val="000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lvl="6" marL="1995480" indent="-221400">
              <a:spcBef>
                <a:spcPts val="799"/>
              </a:spcBef>
              <a:buClr>
                <a:srgbClr val="000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5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5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5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5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5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20ED-21D9-4B2E-BB0E-6AB5E2239285}" type="slidenum">
              <a:rPr b="0" lang="en-US" sz="1400" spc="-1" strike="noStrike">
                <a:solidFill>
                  <a:srgbClr val="00005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308720" y="5492880"/>
            <a:ext cx="1440000" cy="672840"/>
            <a:chOff x="7308720" y="5492880"/>
            <a:chExt cx="1440000" cy="672840"/>
          </a:xfrm>
        </p:grpSpPr>
        <p:sp>
          <p:nvSpPr>
            <p:cNvPr id="9" name=""/>
            <p:cNvSpPr/>
            <p:nvPr/>
          </p:nvSpPr>
          <p:spPr>
            <a:xfrm>
              <a:off x="7308720" y="5492880"/>
              <a:ext cx="1440000" cy="672840"/>
            </a:xfrm>
            <a:prstGeom prst="ellipse">
              <a:avLst/>
            </a:prstGeom>
            <a:gradFill rotWithShape="0">
              <a:gsLst>
                <a:gs pos="0">
                  <a:srgbClr val="96d5d4"/>
                </a:gs>
                <a:gs pos="100000">
                  <a:srgbClr val="ccda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50"/>
                </a:solidFill>
                <a:latin typeface="Times New Roman"/>
              </a:endParaRPr>
            </a:p>
          </p:txBody>
        </p:sp>
        <p:sp>
          <p:nvSpPr>
            <p:cNvPr id="10" name=""/>
            <p:cNvSpPr txBox="1"/>
            <p:nvPr/>
          </p:nvSpPr>
          <p:spPr>
            <a:xfrm>
              <a:off x="7481880" y="5840280"/>
              <a:ext cx="1104840" cy="271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3366"/>
                    </a:solidFill>
                    <a:miter/>
                  </a:ln>
                  <a:solidFill>
                    <a:srgbClr val="993366"/>
                  </a:solidFill>
                  <a:latin typeface="Lucida Calligraphy"/>
                </a:rPr>
                <a:t>Healthy food for the athlete in you</a:t>
              </a:r>
              <a:endPara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latin typeface="Lucida Calligraphy"/>
                <a:ea typeface="Lucida Calligraphy"/>
              </a:endParaRPr>
            </a:p>
          </p:txBody>
        </p:sp>
        <p:grpSp>
          <p:nvGrpSpPr>
            <p:cNvPr id="11" name=""/>
            <p:cNvGrpSpPr/>
            <p:nvPr/>
          </p:nvGrpSpPr>
          <p:grpSpPr>
            <a:xfrm>
              <a:off x="7644240" y="5568840"/>
              <a:ext cx="888120" cy="350640"/>
              <a:chOff x="7644240" y="5568840"/>
              <a:chExt cx="888120" cy="350640"/>
            </a:xfrm>
          </p:grpSpPr>
          <p:sp>
            <p:nvSpPr>
              <p:cNvPr id="12" name=""/>
              <p:cNvSpPr txBox="1"/>
              <p:nvPr/>
            </p:nvSpPr>
            <p:spPr>
              <a:xfrm>
                <a:off x="8285040" y="5702400"/>
                <a:ext cx="247320" cy="217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a50021"/>
                    </a:solidFill>
                    <a:latin typeface="Georgia"/>
                  </a:rPr>
                  <a:t>U</a:t>
                </a:r>
                <a:endPara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  <a:ea typeface="Georgia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066520" y="5624640"/>
                <a:ext cx="320040" cy="294840"/>
                <a:chOff x="8066520" y="5624640"/>
                <a:chExt cx="320040" cy="2948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066520" y="5624640"/>
                  <a:ext cx="320040" cy="294840"/>
                </a:xfrm>
                <a:custGeom>
                  <a:avLst/>
                  <a:gdLst/>
                  <a:ahLst/>
                  <a:rect l="l" t="t" r="r" b="b"/>
                  <a:pathLst>
                    <a:path w="4828" h="4550">
                      <a:moveTo>
                        <a:pt x="4828" y="2723"/>
                      </a:moveTo>
                      <a:lnTo>
                        <a:pt x="4201" y="3603"/>
                      </a:lnTo>
                      <a:lnTo>
                        <a:pt x="3436" y="3615"/>
                      </a:lnTo>
                      <a:lnTo>
                        <a:pt x="3348" y="3906"/>
                      </a:lnTo>
                      <a:lnTo>
                        <a:pt x="3348" y="3906"/>
                      </a:lnTo>
                      <a:lnTo>
                        <a:pt x="3297" y="4190"/>
                      </a:lnTo>
                      <a:lnTo>
                        <a:pt x="3339" y="4397"/>
                      </a:lnTo>
                      <a:lnTo>
                        <a:pt x="3473" y="4521"/>
                      </a:lnTo>
                      <a:lnTo>
                        <a:pt x="3473" y="4521"/>
                      </a:lnTo>
                      <a:lnTo>
                        <a:pt x="3347" y="4550"/>
                      </a:lnTo>
                      <a:lnTo>
                        <a:pt x="1983" y="4550"/>
                      </a:lnTo>
                      <a:lnTo>
                        <a:pt x="2008" y="4521"/>
                      </a:lnTo>
                      <a:lnTo>
                        <a:pt x="2008" y="4521"/>
                      </a:lnTo>
                      <a:lnTo>
                        <a:pt x="2135" y="4474"/>
                      </a:lnTo>
                      <a:lnTo>
                        <a:pt x="2239" y="4417"/>
                      </a:lnTo>
                      <a:lnTo>
                        <a:pt x="2321" y="4352"/>
                      </a:lnTo>
                      <a:lnTo>
                        <a:pt x="2321" y="4352"/>
                      </a:lnTo>
                      <a:lnTo>
                        <a:pt x="2388" y="4271"/>
                      </a:lnTo>
                      <a:lnTo>
                        <a:pt x="2443" y="4169"/>
                      </a:lnTo>
                      <a:lnTo>
                        <a:pt x="2488" y="4043"/>
                      </a:lnTo>
                      <a:lnTo>
                        <a:pt x="2488" y="4043"/>
                      </a:lnTo>
                      <a:lnTo>
                        <a:pt x="2618" y="3615"/>
                      </a:lnTo>
                      <a:lnTo>
                        <a:pt x="0" y="3615"/>
                      </a:lnTo>
                      <a:lnTo>
                        <a:pt x="3299" y="0"/>
                      </a:lnTo>
                      <a:lnTo>
                        <a:pt x="4584" y="0"/>
                      </a:lnTo>
                      <a:lnTo>
                        <a:pt x="3654" y="3013"/>
                      </a:lnTo>
                      <a:lnTo>
                        <a:pt x="3654" y="3013"/>
                      </a:lnTo>
                      <a:lnTo>
                        <a:pt x="3835" y="3006"/>
                      </a:lnTo>
                      <a:lnTo>
                        <a:pt x="4061" y="2987"/>
                      </a:lnTo>
                      <a:lnTo>
                        <a:pt x="4238" y="2962"/>
                      </a:lnTo>
                      <a:lnTo>
                        <a:pt x="4238" y="2962"/>
                      </a:lnTo>
                      <a:lnTo>
                        <a:pt x="4439" y="2907"/>
                      </a:lnTo>
                      <a:lnTo>
                        <a:pt x="4636" y="2828"/>
                      </a:lnTo>
                      <a:lnTo>
                        <a:pt x="4828" y="2723"/>
                      </a:lnTo>
                      <a:lnTo>
                        <a:pt x="4828" y="2723"/>
                      </a:lnTo>
                    </a:path>
                  </a:pathLst>
                </a:custGeom>
                <a:solidFill>
                  <a:srgbClr val="ffcc66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5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56160" y="5656320"/>
                  <a:ext cx="148320" cy="164160"/>
                </a:xfrm>
                <a:custGeom>
                  <a:avLst/>
                  <a:gdLst/>
                  <a:ahLst/>
                  <a:rect l="l" t="t" r="r" b="b"/>
                  <a:pathLst>
                    <a:path w="2243" h="2533">
                      <a:moveTo>
                        <a:pt x="1481" y="2533"/>
                      </a:moveTo>
                      <a:lnTo>
                        <a:pt x="2243" y="0"/>
                      </a:lnTo>
                      <a:lnTo>
                        <a:pt x="0" y="2525"/>
                      </a:lnTo>
                      <a:lnTo>
                        <a:pt x="0" y="2525"/>
                      </a:lnTo>
                      <a:lnTo>
                        <a:pt x="203" y="2526"/>
                      </a:lnTo>
                      <a:lnTo>
                        <a:pt x="404" y="2526"/>
                      </a:lnTo>
                      <a:lnTo>
                        <a:pt x="606" y="2527"/>
                      </a:lnTo>
                      <a:lnTo>
                        <a:pt x="606" y="2527"/>
                      </a:lnTo>
                      <a:lnTo>
                        <a:pt x="798" y="2528"/>
                      </a:lnTo>
                      <a:lnTo>
                        <a:pt x="971" y="2529"/>
                      </a:lnTo>
                      <a:lnTo>
                        <a:pt x="1126" y="2531"/>
                      </a:lnTo>
                      <a:lnTo>
                        <a:pt x="1126" y="2531"/>
                      </a:lnTo>
                      <a:lnTo>
                        <a:pt x="1262" y="2532"/>
                      </a:lnTo>
                      <a:lnTo>
                        <a:pt x="1380" y="2533"/>
                      </a:lnTo>
                      <a:lnTo>
                        <a:pt x="1481" y="2533"/>
                      </a:lnTo>
                      <a:lnTo>
                        <a:pt x="1481" y="2533"/>
                      </a:lnTo>
                    </a:path>
                  </a:pathLst>
                </a:custGeom>
                <a:solidFill>
                  <a:srgbClr val="ccdae6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5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" name=""/>
              <p:cNvSpPr txBox="1"/>
              <p:nvPr/>
            </p:nvSpPr>
            <p:spPr>
              <a:xfrm>
                <a:off x="7644240" y="5568840"/>
                <a:ext cx="596880" cy="208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7e"/>
                    </a:solidFill>
                    <a:latin typeface="Georgia"/>
                  </a:rPr>
                  <a:t>Good</a:t>
                </a:r>
                <a:endPara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  <a:ea typeface="Georgia"/>
                </a:endParaRPr>
              </a:p>
            </p:txBody>
          </p:sp>
        </p:grpSp>
        <p:pic>
          <p:nvPicPr>
            <p:cNvPr id="17" name="" descr=""/>
            <p:cNvPicPr/>
            <p:nvPr/>
          </p:nvPicPr>
          <p:blipFill>
            <a:blip r:embed="rId2"/>
            <a:stretch/>
          </p:blipFill>
          <p:spPr>
            <a:xfrm flipH="1">
              <a:off x="7709040" y="5796720"/>
              <a:ext cx="354960" cy="220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a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8458200" cy="3428640"/>
            <a:chOff x="0" y="0"/>
            <a:chExt cx="8458200" cy="3428640"/>
          </a:xfrm>
        </p:grpSpPr>
        <p:sp>
          <p:nvSpPr>
            <p:cNvPr id="55" name=""/>
            <p:cNvSpPr/>
            <p:nvPr/>
          </p:nvSpPr>
          <p:spPr>
            <a:xfrm>
              <a:off x="0" y="1318680"/>
              <a:ext cx="8183520" cy="21099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ccdae6"/>
                </a:gs>
                <a:gs pos="100000">
                  <a:srgbClr val="acb7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5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0"/>
              <a:ext cx="8458200" cy="337860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ccdae6"/>
                </a:gs>
                <a:gs pos="100000">
                  <a:srgbClr val="e5edf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5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5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5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5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5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5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6529-B164-4E96-B648-4EA33250976E}" type="slidenum">
              <a:rPr b="0" lang="en-US" sz="1000" spc="-1" strike="noStrike">
                <a:solidFill>
                  <a:srgbClr val="00005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3132000" y="583920"/>
            <a:ext cx="5545440" cy="24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50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000050"/>
              </a:solidFill>
              <a:latin typeface="Tahom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24000" y="3716280"/>
            <a:ext cx="4787640" cy="2232000"/>
            <a:chOff x="324000" y="3716280"/>
            <a:chExt cx="4787640" cy="2232000"/>
          </a:xfrm>
        </p:grpSpPr>
        <p:sp>
          <p:nvSpPr>
            <p:cNvPr id="62" name=""/>
            <p:cNvSpPr/>
            <p:nvPr/>
          </p:nvSpPr>
          <p:spPr>
            <a:xfrm>
              <a:off x="324000" y="3716280"/>
              <a:ext cx="4787640" cy="2232000"/>
            </a:xfrm>
            <a:prstGeom prst="ellipse">
              <a:avLst/>
            </a:prstGeom>
            <a:gradFill rotWithShape="0">
              <a:gsLst>
                <a:gs pos="0">
                  <a:srgbClr val="96d5d4"/>
                </a:gs>
                <a:gs pos="100000">
                  <a:srgbClr val="ccda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50"/>
                </a:solidFill>
                <a:latin typeface="Times New Roman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900000" y="4869000"/>
              <a:ext cx="3673080" cy="90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3366"/>
                    </a:solidFill>
                    <a:miter/>
                  </a:ln>
                  <a:solidFill>
                    <a:srgbClr val="993366"/>
                  </a:solidFill>
                  <a:latin typeface="Lucida Calligraphy"/>
                </a:rPr>
                <a:t>Healthy food for the athlete in you</a:t>
              </a:r>
              <a:endPara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latin typeface="Lucida Calligraphy"/>
                <a:ea typeface="Lucida Calligraphy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1439640" y="3969000"/>
              <a:ext cx="2952360" cy="1163520"/>
              <a:chOff x="1439640" y="3969000"/>
              <a:chExt cx="2952360" cy="1163520"/>
            </a:xfrm>
          </p:grpSpPr>
          <p:sp>
            <p:nvSpPr>
              <p:cNvPr id="65" name=""/>
              <p:cNvSpPr txBox="1"/>
              <p:nvPr/>
            </p:nvSpPr>
            <p:spPr>
              <a:xfrm>
                <a:off x="3569400" y="4411800"/>
                <a:ext cx="822600" cy="72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a50021"/>
                    </a:solidFill>
                    <a:latin typeface="Georgia"/>
                  </a:rPr>
                  <a:t>U</a:t>
                </a:r>
                <a:endPara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  <a:ea typeface="Georgia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2843280" y="4154040"/>
                <a:ext cx="1064520" cy="978480"/>
                <a:chOff x="2843280" y="4154040"/>
                <a:chExt cx="1064520" cy="97848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2843280" y="4154040"/>
                  <a:ext cx="1064520" cy="978480"/>
                </a:xfrm>
                <a:custGeom>
                  <a:avLst/>
                  <a:gdLst/>
                  <a:ahLst/>
                  <a:rect l="l" t="t" r="r" b="b"/>
                  <a:pathLst>
                    <a:path w="4828" h="4550">
                      <a:moveTo>
                        <a:pt x="4828" y="2723"/>
                      </a:moveTo>
                      <a:lnTo>
                        <a:pt x="4201" y="3603"/>
                      </a:lnTo>
                      <a:lnTo>
                        <a:pt x="3436" y="3615"/>
                      </a:lnTo>
                      <a:lnTo>
                        <a:pt x="3348" y="3906"/>
                      </a:lnTo>
                      <a:lnTo>
                        <a:pt x="3348" y="3906"/>
                      </a:lnTo>
                      <a:lnTo>
                        <a:pt x="3297" y="4190"/>
                      </a:lnTo>
                      <a:lnTo>
                        <a:pt x="3339" y="4397"/>
                      </a:lnTo>
                      <a:lnTo>
                        <a:pt x="3473" y="4521"/>
                      </a:lnTo>
                      <a:lnTo>
                        <a:pt x="3473" y="4521"/>
                      </a:lnTo>
                      <a:lnTo>
                        <a:pt x="3347" y="4550"/>
                      </a:lnTo>
                      <a:lnTo>
                        <a:pt x="1983" y="4550"/>
                      </a:lnTo>
                      <a:lnTo>
                        <a:pt x="2008" y="4521"/>
                      </a:lnTo>
                      <a:lnTo>
                        <a:pt x="2008" y="4521"/>
                      </a:lnTo>
                      <a:lnTo>
                        <a:pt x="2135" y="4474"/>
                      </a:lnTo>
                      <a:lnTo>
                        <a:pt x="2239" y="4417"/>
                      </a:lnTo>
                      <a:lnTo>
                        <a:pt x="2321" y="4352"/>
                      </a:lnTo>
                      <a:lnTo>
                        <a:pt x="2321" y="4352"/>
                      </a:lnTo>
                      <a:lnTo>
                        <a:pt x="2388" y="4271"/>
                      </a:lnTo>
                      <a:lnTo>
                        <a:pt x="2443" y="4169"/>
                      </a:lnTo>
                      <a:lnTo>
                        <a:pt x="2488" y="4043"/>
                      </a:lnTo>
                      <a:lnTo>
                        <a:pt x="2488" y="4043"/>
                      </a:lnTo>
                      <a:lnTo>
                        <a:pt x="2618" y="3615"/>
                      </a:lnTo>
                      <a:lnTo>
                        <a:pt x="0" y="3615"/>
                      </a:lnTo>
                      <a:lnTo>
                        <a:pt x="3299" y="0"/>
                      </a:lnTo>
                      <a:lnTo>
                        <a:pt x="4584" y="0"/>
                      </a:lnTo>
                      <a:lnTo>
                        <a:pt x="3654" y="3013"/>
                      </a:lnTo>
                      <a:lnTo>
                        <a:pt x="3654" y="3013"/>
                      </a:lnTo>
                      <a:lnTo>
                        <a:pt x="3835" y="3006"/>
                      </a:lnTo>
                      <a:lnTo>
                        <a:pt x="4061" y="2987"/>
                      </a:lnTo>
                      <a:lnTo>
                        <a:pt x="4238" y="2962"/>
                      </a:lnTo>
                      <a:lnTo>
                        <a:pt x="4238" y="2962"/>
                      </a:lnTo>
                      <a:lnTo>
                        <a:pt x="4439" y="2907"/>
                      </a:lnTo>
                      <a:lnTo>
                        <a:pt x="4636" y="2828"/>
                      </a:lnTo>
                      <a:lnTo>
                        <a:pt x="4828" y="2723"/>
                      </a:lnTo>
                      <a:lnTo>
                        <a:pt x="4828" y="2723"/>
                      </a:lnTo>
                    </a:path>
                  </a:pathLst>
                </a:custGeom>
                <a:solidFill>
                  <a:srgbClr val="ffcc66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5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142080" y="4259520"/>
                  <a:ext cx="492840" cy="545040"/>
                </a:xfrm>
                <a:custGeom>
                  <a:avLst/>
                  <a:gdLst/>
                  <a:ahLst/>
                  <a:rect l="l" t="t" r="r" b="b"/>
                  <a:pathLst>
                    <a:path w="2243" h="2533">
                      <a:moveTo>
                        <a:pt x="1481" y="2533"/>
                      </a:moveTo>
                      <a:lnTo>
                        <a:pt x="2243" y="0"/>
                      </a:lnTo>
                      <a:lnTo>
                        <a:pt x="0" y="2525"/>
                      </a:lnTo>
                      <a:lnTo>
                        <a:pt x="0" y="2525"/>
                      </a:lnTo>
                      <a:lnTo>
                        <a:pt x="203" y="2526"/>
                      </a:lnTo>
                      <a:lnTo>
                        <a:pt x="404" y="2526"/>
                      </a:lnTo>
                      <a:lnTo>
                        <a:pt x="606" y="2527"/>
                      </a:lnTo>
                      <a:lnTo>
                        <a:pt x="606" y="2527"/>
                      </a:lnTo>
                      <a:lnTo>
                        <a:pt x="798" y="2528"/>
                      </a:lnTo>
                      <a:lnTo>
                        <a:pt x="971" y="2529"/>
                      </a:lnTo>
                      <a:lnTo>
                        <a:pt x="1126" y="2531"/>
                      </a:lnTo>
                      <a:lnTo>
                        <a:pt x="1126" y="2531"/>
                      </a:lnTo>
                      <a:lnTo>
                        <a:pt x="1262" y="2532"/>
                      </a:lnTo>
                      <a:lnTo>
                        <a:pt x="1380" y="2533"/>
                      </a:lnTo>
                      <a:lnTo>
                        <a:pt x="1481" y="2533"/>
                      </a:lnTo>
                      <a:lnTo>
                        <a:pt x="1481" y="2533"/>
                      </a:lnTo>
                    </a:path>
                  </a:pathLst>
                </a:custGeom>
                <a:solidFill>
                  <a:srgbClr val="ccdae6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5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 txBox="1"/>
              <p:nvPr/>
            </p:nvSpPr>
            <p:spPr>
              <a:xfrm>
                <a:off x="1439640" y="3969000"/>
                <a:ext cx="1984680" cy="691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7e"/>
                    </a:solidFill>
                    <a:latin typeface="Georgia"/>
                  </a:rPr>
                  <a:t>Good</a:t>
                </a:r>
                <a:endPara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  <a:ea typeface="Georgia"/>
                </a:endParaRPr>
              </a:p>
            </p:txBody>
          </p:sp>
        </p:grpSp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 flipH="1">
              <a:off x="1655640" y="4724640"/>
              <a:ext cx="1180800" cy="73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5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50"/>
              </a:solidFill>
              <a:latin typeface="Tahoma"/>
            </a:endParaRPr>
          </a:p>
          <a:p>
            <a:pPr lvl="2" marL="914400" indent="54000" algn="ctr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5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5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5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5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5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5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a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583920"/>
            <a:ext cx="5545440" cy="24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50"/>
                </a:solidFill>
                <a:latin typeface="Tahoma"/>
              </a:rPr>
              <a:t>Special Events Market</a:t>
            </a:r>
            <a:endParaRPr b="1" lang="en-US" sz="5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616720" y="3428640"/>
            <a:ext cx="31320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0"/>
                </a:solidFill>
                <a:latin typeface="Tahoma"/>
              </a:rPr>
              <a:t>Student Name</a:t>
            </a:r>
            <a:endParaRPr b="1" lang="en-US" sz="3200" spc="-1" strike="noStrike">
              <a:solidFill>
                <a:srgbClr val="00005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a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7800" y="1591920"/>
            <a:ext cx="5326200" cy="24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50"/>
                </a:solidFill>
                <a:latin typeface="Tahoma"/>
              </a:rPr>
              <a:t>Bringing food and health into the 21st century</a:t>
            </a:r>
            <a:endParaRPr b="1" lang="en-US" sz="4800" spc="-1" strike="noStrike">
              <a:solidFill>
                <a:srgbClr val="00005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a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50"/>
                </a:solidFill>
                <a:latin typeface="Tahoma"/>
              </a:rPr>
              <a:t>Objective</a:t>
            </a: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5438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Encourage corporations to use Good 4 U for special events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a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9536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50"/>
                </a:solidFill>
                <a:latin typeface="Tahoma"/>
              </a:rPr>
              <a:t>Customer Requirements</a:t>
            </a: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5438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Healthy food that tastes good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Something different”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Accommodations for large groups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a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9536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50"/>
                </a:solidFill>
                <a:latin typeface="Tahoma"/>
              </a:rPr>
              <a:t>Good 4 U Provides</a:t>
            </a: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5438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Low-fat, natural foods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Innovative menu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Three stars from the </a:t>
            </a:r>
            <a:r>
              <a:rPr b="0" i="1" lang="en-US" sz="3200" spc="-1" strike="noStrike">
                <a:solidFill>
                  <a:srgbClr val="000050"/>
                </a:solidFill>
                <a:latin typeface="Tahoma"/>
              </a:rPr>
              <a:t>New York Times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Private dining for 25–500 people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a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9536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50"/>
                </a:solidFill>
                <a:latin typeface="Tahoma"/>
              </a:rPr>
              <a:t>Next Steps</a:t>
            </a: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5438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1920" indent="-42192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Develop mailing list for targeted companies 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marL="421920" indent="-42192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Develop price plan based on group size and level of service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marL="421920" indent="-42192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Send promotional mailer to target companies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marL="421920" indent="-42192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Prepare sales force for </a:t>
            </a:r>
            <a:br>
              <a:rPr sz="3200"/>
            </a:b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telephone follow-up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Pat Graves</dc:creator>
  <dc:description/>
  <dc:language>en-US</dc:language>
  <cp:lastModifiedBy>Ms. Malnick</cp:lastModifiedBy>
  <cp:lastPrinted>1997-09-04T19:09:54Z</cp:lastPrinted>
  <dcterms:modified xsi:type="dcterms:W3CDTF">2004-03-24T19:34:18Z</dcterms:modified>
  <cp:revision>24</cp:revision>
  <dc:subject/>
  <dc:title>Good 4 U Restaurant </dc:title>
</cp:coreProperties>
</file>