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B24-E714-4DF9-A602-2F78459C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F56-8EEA-4240-8E43-58F965CF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F87-C2DD-4247-97F6-CB5065AB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036-830C-4CA2-8A83-33E6DB93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2A08-95FA-4EF7-AFC9-771FAD74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388C-BDAC-491E-8AAD-E5C32FA3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F9C8-30A6-4F5E-B09D-55CA7093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6B62-9088-45E2-BC29-74C2AD73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97CF-DAA7-4C94-A419-FA66B3FD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7FAB-17A2-4A58-8EE1-F7B8758E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5036-43E9-45FD-B6D4-DDDC7321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582-3535-4528-A403-C6907BAA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B4C-50B9-4921-95EE-1B2815C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E620-F1AF-4961-A9EC-6C10974E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7B3A-1121-4160-9EA6-55E39027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4C4-A52A-405A-8573-2B988AF6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263A-CAB5-455D-876E-44842A4A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563-2329-4B0E-A659-C6D0C49E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9A9-4B62-4C77-83E9-DAE222A4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2DF-F9CE-459A-8806-41532C7B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3CF-BBA5-4A74-A42F-5659E4B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538-5398-4D5B-A2FB-13A9B906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24F-B2B1-4D6C-8011-DDB1F09B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04A-37B9-40CE-B997-9F0FB98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404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4040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6BBB-7AB1-4F1E-BABD-86050912EDB2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709640"/>
            <a:ext cx="769608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5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69960" y="6375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08240" y="6375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37240" y="6375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0EC0-A7B5-4E7A-9D2B-1B4C41B21DF3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ff0000"/>
                </a:solidFill>
                <a:latin typeface="Arial Black"/>
              </a:rPr>
              <a:t>Food Safety First</a:t>
            </a:r>
            <a:endParaRPr b="0" i="1" lang="en-US" sz="5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120" y="4652640"/>
            <a:ext cx="5410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mployee Trai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84640" y="3753000"/>
            <a:ext cx="2572920" cy="784080"/>
            <a:chOff x="3284640" y="3753000"/>
            <a:chExt cx="2572920" cy="784080"/>
          </a:xfrm>
        </p:grpSpPr>
        <p:sp>
          <p:nvSpPr>
            <p:cNvPr id="90" name=""/>
            <p:cNvSpPr txBox="1"/>
            <p:nvPr/>
          </p:nvSpPr>
          <p:spPr>
            <a:xfrm>
              <a:off x="5140800" y="4051440"/>
              <a:ext cx="716760" cy="48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507920" y="3877560"/>
              <a:ext cx="927720" cy="659520"/>
              <a:chOff x="4507920" y="3877560"/>
              <a:chExt cx="927720" cy="659520"/>
            </a:xfrm>
          </p:grpSpPr>
          <p:sp>
            <p:nvSpPr>
              <p:cNvPr id="92" name=""/>
              <p:cNvSpPr/>
              <p:nvPr/>
            </p:nvSpPr>
            <p:spPr>
              <a:xfrm>
                <a:off x="4507920" y="3877560"/>
                <a:ext cx="927720" cy="659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68560" y="3948480"/>
                <a:ext cx="429480" cy="36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 txBox="1"/>
            <p:nvPr/>
          </p:nvSpPr>
          <p:spPr>
            <a:xfrm>
              <a:off x="3284640" y="3753000"/>
              <a:ext cx="1729440" cy="46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Promoting Food Safety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ourage proper food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t management insp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site safety supervis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s to US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Food Handling Rules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ves, hair nets, and beard nets requ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h before and after handling f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ees wear clean uni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smo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Food Procuremen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 your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local gr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y organic f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fresh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cleanli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for pestic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01:27:54Z</dcterms:created>
  <dc:creator>Pat Graves</dc:creator>
  <dc:description/>
  <dc:language>en-US</dc:language>
  <cp:lastModifiedBy>Ms. Malnick</cp:lastModifiedBy>
  <cp:lastPrinted>1997-05-19T01:32:24Z</cp:lastPrinted>
  <dcterms:modified xsi:type="dcterms:W3CDTF">2004-03-25T23:12:23Z</dcterms:modified>
  <cp:revision>16</cp:revision>
  <dc:subject/>
  <dc:title>Food Safety First</dc:title>
</cp:coreProperties>
</file>