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340-8C93-4CDC-A099-96BD95D2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D84-488F-42AE-8D14-AF4B2D60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3A3-B961-4982-97EB-5DF6B9BF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C64-F676-4F94-9F9D-9A7AF86B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02B8-1261-4FE1-9BAF-14A23E13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948-E380-4854-9FEC-AAAD4444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994A-5BEC-4CB5-A786-932B6D9A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4F76-A995-4ACB-8C7C-3A6DEBD7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1CB4-4352-4AA1-B799-C7C087D2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B977-C8F0-493F-B267-10B328F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4EC3-1A4E-48F7-A507-8D8C365F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04F-6710-4FC2-9ADF-CE3BD7B7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A352-680D-4E80-ABD5-DFF926CE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FA81-B9E6-40DD-81B7-6D2BE7FA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E278-8F56-4787-8157-94AAD017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BE03-DAB4-4E1B-9277-E1307A32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22DB-313F-49C4-9D77-C2B51CD1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D4E-AFFE-41B7-AE6C-806A9BA8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A9C-E219-4FCE-93B5-F7DE88BA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B00-72CD-426D-8451-E0170E10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2BF-5923-422A-884B-A1857870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35E-ABF7-4F3B-BD19-ED98F840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691-A107-45A1-A798-992DC2B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41A-CC0C-4ECB-88E7-C38417F8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b6c75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E67D-A750-40C4-A66A-223EE26EC8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e5e"/>
                </a:gs>
                <a:gs pos="50000">
                  <a:srgbClr val="e9e77f"/>
                </a:gs>
                <a:gs pos="100000">
                  <a:srgbClr val="697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b6c75"/>
                </a:gs>
                <a:gs pos="100000">
                  <a:srgbClr val="697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e5e"/>
                </a:gs>
                <a:gs pos="100000">
                  <a:srgbClr val="6b6c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9FC-9CF3-4276-AC3E-F838397CB7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The Food Guide Pyramid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ff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12840" y="4903920"/>
            <a:ext cx="1904760" cy="581040"/>
            <a:chOff x="1212840" y="4903920"/>
            <a:chExt cx="1904760" cy="581040"/>
          </a:xfrm>
        </p:grpSpPr>
        <p:sp>
          <p:nvSpPr>
            <p:cNvPr id="112" name=""/>
            <p:cNvSpPr txBox="1"/>
            <p:nvPr/>
          </p:nvSpPr>
          <p:spPr>
            <a:xfrm>
              <a:off x="2586960" y="51249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118600" y="4996080"/>
              <a:ext cx="686880" cy="488520"/>
              <a:chOff x="2118600" y="4996080"/>
              <a:chExt cx="686880" cy="488520"/>
            </a:xfrm>
          </p:grpSpPr>
          <p:sp>
            <p:nvSpPr>
              <p:cNvPr id="114" name=""/>
              <p:cNvSpPr/>
              <p:nvPr/>
            </p:nvSpPr>
            <p:spPr>
              <a:xfrm>
                <a:off x="2118600" y="49960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311560" y="50486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75863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 txBox="1"/>
            <p:nvPr/>
          </p:nvSpPr>
          <p:spPr>
            <a:xfrm>
              <a:off x="1212840" y="49039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Basic Food Grou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s, oils &amp; sw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k, yogurt &amp; che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n meat, poultry, fish, eggs, beans &amp; nu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getables &amp; fr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e, bread &amp; p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ow to Have a Healthy Diet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e whole grain bread, rice &amp; p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e nonfat or low-fat sel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t moderately - watch cal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 fat to under 30% of total cal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969480"/>
            <a:ext cx="75438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Right Proportion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39560" y="1889280"/>
            <a:ext cx="8264880" cy="4538520"/>
            <a:chOff x="439560" y="1889280"/>
            <a:chExt cx="8264880" cy="4538520"/>
          </a:xfrm>
        </p:grpSpPr>
        <p:sp>
          <p:nvSpPr>
            <p:cNvPr id="123" name=""/>
            <p:cNvSpPr/>
            <p:nvPr/>
          </p:nvSpPr>
          <p:spPr>
            <a:xfrm>
              <a:off x="439560" y="5742000"/>
              <a:ext cx="8264880" cy="685800"/>
            </a:xfrm>
            <a:prstGeom prst="rect">
              <a:avLst/>
            </a:prstGeom>
            <a:solidFill>
              <a:srgbClr val="677481"/>
            </a:solidFill>
            <a:ln w="0">
              <a:noFill/>
            </a:ln>
            <a:effectLst>
              <a:outerShdw dist="17819" dir="2700000" blurRad="0" rotWithShape="0">
                <a:srgbClr val="3d45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Narrow"/>
                </a:rPr>
                <a:t>Rice, bread, pas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04920" y="4970520"/>
              <a:ext cx="6734160" cy="685800"/>
            </a:xfrm>
            <a:prstGeom prst="rect">
              <a:avLst/>
            </a:prstGeom>
            <a:solidFill>
              <a:srgbClr val="677481"/>
            </a:solidFill>
            <a:ln w="0">
              <a:noFill/>
            </a:ln>
            <a:effectLst>
              <a:outerShdw dist="17819" dir="2700000" blurRad="0" rotWithShape="0">
                <a:srgbClr val="3d45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Narrow"/>
                </a:rPr>
                <a:t>Vegetab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51200" y="4200480"/>
              <a:ext cx="5241600" cy="684360"/>
            </a:xfrm>
            <a:prstGeom prst="rect">
              <a:avLst/>
            </a:prstGeom>
            <a:solidFill>
              <a:srgbClr val="677481"/>
            </a:solidFill>
            <a:ln w="0">
              <a:noFill/>
            </a:ln>
            <a:effectLst>
              <a:outerShdw dist="17819" dir="2700000" blurRad="0" rotWithShape="0">
                <a:srgbClr val="3d45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Narrow"/>
                </a:rPr>
                <a:t>Fru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92440" y="3430440"/>
              <a:ext cx="3759120" cy="685800"/>
            </a:xfrm>
            <a:prstGeom prst="rect">
              <a:avLst/>
            </a:prstGeom>
            <a:solidFill>
              <a:srgbClr val="677481"/>
            </a:solidFill>
            <a:ln w="0">
              <a:noFill/>
            </a:ln>
            <a:effectLst>
              <a:outerShdw dist="17819" dir="2700000" blurRad="0" rotWithShape="0">
                <a:srgbClr val="3d45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Narrow"/>
                </a:rPr>
                <a:t>Meat, poultry, fish,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 Narrow"/>
                </a:rPr>
                <a:t>eggs, beans, nu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84440" y="2658960"/>
              <a:ext cx="2175120" cy="685800"/>
            </a:xfrm>
            <a:prstGeom prst="rect">
              <a:avLst/>
            </a:prstGeom>
            <a:solidFill>
              <a:srgbClr val="677481"/>
            </a:solidFill>
            <a:ln w="0">
              <a:noFill/>
            </a:ln>
            <a:effectLst>
              <a:outerShdw dist="17819" dir="2700000" blurRad="0" rotWithShape="0">
                <a:srgbClr val="3d45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Narrow"/>
                </a:rPr>
                <a:t>Milk, yogurt,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 Narrow"/>
                </a:rPr>
                <a:t>chee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1040" y="1889280"/>
              <a:ext cx="1501920" cy="685800"/>
            </a:xfrm>
            <a:prstGeom prst="rect">
              <a:avLst/>
            </a:prstGeom>
            <a:solidFill>
              <a:srgbClr val="677481"/>
            </a:solidFill>
            <a:ln w="0">
              <a:noFill/>
            </a:ln>
            <a:effectLst>
              <a:outerShdw dist="17819" dir="2700000" blurRad="0" rotWithShape="0">
                <a:srgbClr val="3d45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Narrow"/>
                </a:rPr>
                <a:t>Fats, oils,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 Narrow"/>
                </a:rPr>
                <a:t>swee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Good Eating Habit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F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 fat to less than 30% of total cal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getar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protein comp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3T22:46:22Z</dcterms:created>
  <dc:creator>Pat Graves</dc:creator>
  <dc:description/>
  <dc:language>en-US</dc:language>
  <cp:lastModifiedBy>Ms. Malnick</cp:lastModifiedBy>
  <cp:lastPrinted>1997-05-17T01:39:46Z</cp:lastPrinted>
  <dcterms:modified xsi:type="dcterms:W3CDTF">2004-03-25T23:10:16Z</dcterms:modified>
  <cp:revision>39</cp:revision>
  <dc:subject/>
  <dc:title>The USDA Food Guide Pyramid</dc:title>
</cp:coreProperties>
</file>