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633-8CE9-455D-A5A8-50902D7C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2FC-828F-463C-9F63-77F83539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45A-D0FC-48FA-A5F7-7358212D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258-A0C3-402C-948C-AF4A5181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C4A-8735-420D-8F98-B97AFF4B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621-37C9-4E7D-9FB4-4335E75E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1AC-C58B-4B69-973E-528A8A03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76E-F2D0-49C8-AF99-0D359280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4C6-7EA8-450B-B1FE-4A7BDAA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31D-E134-4981-A6CD-32832D66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FA5-9EB0-44CC-9EB8-55D3122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982-3414-499F-917F-7AFAAAE3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7028-B32A-45E8-81AF-B361FE0FF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Honey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4 U Product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roduct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ey can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red hon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made with h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d teas and fruit-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se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ing sale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ion honeys among ingred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honey breads for des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 honey samplers with tea and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 Sales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charges vary with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 delivery required for perish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6T20:08:09Z</dcterms:created>
  <dc:creator>Pat R. Graves</dc:creator>
  <dc:description/>
  <dc:language>en-US</dc:language>
  <cp:lastModifiedBy>Pat Graves</cp:lastModifiedBy>
  <cp:lastPrinted>1997-05-23T18:15:10Z</cp:lastPrinted>
  <dcterms:modified xsi:type="dcterms:W3CDTF">2004-03-09T06:50:20Z</dcterms:modified>
  <cp:revision>15</cp:revision>
  <dc:subject/>
  <dc:title>Natural Honey Products</dc:title>
</cp:coreProperties>
</file>