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014-16F4-4177-A3C3-D498B5A1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063-C40A-4F7B-89F1-64609D8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C66-BACB-44B2-A055-44608BBD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8C4-FE5B-45CF-9201-A13D923E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EF2-201D-4957-B92E-976B1116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7BD-DC54-4A04-9F96-6EBDC0C6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C9A-E7B8-48C3-96A3-F39C0125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67F-9E5E-41DB-98CF-194E3DFA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791-3C1A-4BC7-87B1-FB2119A3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D30-4E4B-4F21-90D5-65F5FBA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4B6-CC9E-4CF2-BA5E-7D2AEEA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643C-88C7-459A-A7BC-E1A763F5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960-C939-4BA3-A3C3-C6EE3BCE9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to Evaluate Advertising Me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rketing Series Training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dollar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new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Categ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nic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Traini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Ou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4T22:15:38Z</dcterms:created>
  <dc:creator>Pat R. Graves</dc:creator>
  <dc:description/>
  <dc:language>en-US</dc:language>
  <cp:lastModifiedBy>Pat Graves</cp:lastModifiedBy>
  <cp:lastPrinted>1996-12-04T22:31:20Z</cp:lastPrinted>
  <dcterms:modified xsi:type="dcterms:W3CDTF">2004-03-09T06:50:59Z</dcterms:modified>
  <cp:revision>15</cp:revision>
  <dc:subject/>
  <dc:title>Selecting Advertising Media</dc:title>
</cp:coreProperties>
</file>