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735-6159-4FCB-8F61-F66C4ACF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509-E2D4-4B0A-9E91-B499EB6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160-419B-42BC-82F9-7CD1A52B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1E2A-86FA-4A1F-BFD9-892C20AD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A199-4240-48BD-B34A-D2057C42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F1D9-E5BE-4D2D-9FD7-137DACCB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4A5E-8675-4BE3-B4EB-BB01626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8ED7-CD3A-4C2A-A771-0200A8E1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F297-EA39-4232-A543-33BA1A5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5725-984D-4387-B2C2-DDE8C2B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D1CC-00D7-4DA9-BADD-B13662E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3B6-C3D9-4524-8D4D-7B8E8D01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2195-3BF2-4BAD-9C8E-9397CCA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6F5B-3F11-4923-AE83-E4F6624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32A1-4080-4F5D-97B1-63119F10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1121-497E-4477-8F44-BD0512FF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791-4097-473F-BC33-91C3149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2E9-77D8-4535-920C-B842C2F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DD4-9554-4E9D-B93A-BD2C39F0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905-6003-4AE1-9490-A29906E1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2BB-DC6C-4D30-8CE5-0FEAC4F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7E35-74DF-485C-9974-6A71B37D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209-3096-4FE2-8904-AF8B3BC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12B-8B51-44D6-9F3B-B0D2455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FD08-918F-4F73-90CF-8E7DE7CD6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CB26-D981-46D9-82D7-400DE6631F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lecting Advertising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4 U Media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5T13:55:58Z</dcterms:created>
  <dc:creator>Pat R. Graves</dc:creator>
  <dc:description/>
  <dc:language>en-US</dc:language>
  <cp:lastModifiedBy>Pat Graves</cp:lastModifiedBy>
  <cp:lastPrinted>1997-09-15T14:39:46Z</cp:lastPrinted>
  <dcterms:modified xsi:type="dcterms:W3CDTF">2004-03-09T06:40:36Z</dcterms:modified>
  <cp:revision>9</cp:revision>
  <dc:subject/>
  <dc:title>Selecting Advertising Media</dc:title>
</cp:coreProperties>
</file>