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56FB-6CCA-4252-81D3-8921A0B5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54B-A91A-410C-85F5-3BEE0638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F51-F9F0-4F7D-9FDD-E64CFF14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F56-17E7-497E-854B-577B2796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1681-6B5D-41B0-A7CB-748292EA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79E3-5F4F-46A5-86E8-93DCBEC2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E2DE-825D-43E9-945B-E1D88667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9E08-38C4-43F9-8F9E-BA41B6F9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208E-5C50-4E64-8211-A3DF727F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7683-87D7-4A3D-BDE7-C86B9235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0C2C-2D8E-46EA-85F6-AF5ADFFD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535-2178-4892-80D3-EB1C8CF5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D9F5-D0BF-4D3F-B335-4ABEFEE4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31ED-CA24-4BEE-A41F-D431C9AD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77C8-8CAB-45F9-88C2-7AA8C34B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E7A3-5CBA-47F0-B1EA-C22DEBF3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7853-C190-47E8-AE0F-37503184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522-0B35-4DF7-95ED-6602A60B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9E9-D843-4F82-A231-88C659B4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EF9-C896-44E9-B6FC-4C53F7A2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BB5-7DC7-4B76-BEBA-EF1E38F0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45A-7879-4817-99E8-B46178A0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32A-A9CD-41BF-A544-9162ADDD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6E7-4420-4CBF-B274-C62F97FE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8120" y="228600"/>
            <a:ext cx="8823600" cy="6095880"/>
          </a:xfrm>
          <a:prstGeom prst="roundRect">
            <a:avLst>
              <a:gd name="adj" fmla="val 11046"/>
            </a:avLst>
          </a:prstGeom>
          <a:noFill/>
          <a:ln w="50760">
            <a:solidFill>
              <a:srgbClr val="f4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98A5-72A6-496E-9CA3-66BB03608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709640"/>
            <a:ext cx="76960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4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8A6F-CC32-4081-AD59-1A349305A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Marketing Strategy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35280" y="4724280"/>
            <a:ext cx="5410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ining Ses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311640" y="3683160"/>
            <a:ext cx="2607840" cy="795240"/>
            <a:chOff x="3311640" y="3683160"/>
            <a:chExt cx="2607840" cy="795240"/>
          </a:xfrm>
        </p:grpSpPr>
        <p:sp>
          <p:nvSpPr>
            <p:cNvPr id="90" name=""/>
            <p:cNvSpPr txBox="1"/>
            <p:nvPr/>
          </p:nvSpPr>
          <p:spPr>
            <a:xfrm>
              <a:off x="5193000" y="3985920"/>
              <a:ext cx="72648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551480" y="3809520"/>
              <a:ext cx="940320" cy="668880"/>
              <a:chOff x="4551480" y="3809520"/>
              <a:chExt cx="940320" cy="668880"/>
            </a:xfrm>
          </p:grpSpPr>
          <p:sp>
            <p:nvSpPr>
              <p:cNvPr id="92" name=""/>
              <p:cNvSpPr/>
              <p:nvPr/>
            </p:nvSpPr>
            <p:spPr>
              <a:xfrm>
                <a:off x="4551480" y="3809520"/>
                <a:ext cx="940320" cy="6688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815360" y="3881520"/>
                <a:ext cx="435240" cy="372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 txBox="1"/>
            <p:nvPr/>
          </p:nvSpPr>
          <p:spPr>
            <a:xfrm>
              <a:off x="3311640" y="3683160"/>
              <a:ext cx="1753200" cy="47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1a07"/>
                </a:solidFill>
                <a:latin typeface="Arial Black"/>
              </a:rPr>
              <a:t>Objectives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k potential inves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igate the firm Marketing Strategic Management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the World Wide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1a07"/>
                </a:solidFill>
                <a:latin typeface="Arial Black"/>
              </a:rPr>
              <a:t>Customer Requirements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otential customer base for food prefer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otential customer base for sports prefer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1a07"/>
                </a:solidFill>
                <a:latin typeface="Arial Black"/>
              </a:rPr>
              <a:t>Meeting the Needs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ustomer interview results to develop menu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a location with the greatest expo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ustomer interview results to develop interior sports desig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1a07"/>
                </a:solidFill>
                <a:latin typeface="Arial Black"/>
              </a:rPr>
              <a:t>Cost Analysis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3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ami costs have soared in the 3rd quar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York costs have remained stea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4360" y="2092320"/>
          <a:ext cx="382464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4360" y="2092320"/>
                    <a:ext cx="38246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Graves</dc:creator>
  <dc:description/>
  <dc:language>en-US</dc:language>
  <cp:lastModifiedBy>Pat Graves</cp:lastModifiedBy>
  <cp:lastPrinted>1996-12-06T17:08:44Z</cp:lastPrinted>
  <dcterms:modified xsi:type="dcterms:W3CDTF">2004-02-02T05:44:33Z</dcterms:modified>
  <cp:revision>34</cp:revision>
  <dc:subject/>
  <dc:title>Marketing Strategy</dc:title>
</cp:coreProperties>
</file>