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Impact"/>
              </a:rPr>
              <a:t>Click to move the slide</a:t>
            </a:r>
            <a:endParaRPr b="0" lang="en-US" sz="48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49F9-E533-4DC2-B795-3E697CE7A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62080" y="711360"/>
            <a:ext cx="4532400" cy="3398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7760" cy="4094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businesses are sponsoring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810-5144-46BD-A789-C4E25965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32000" y="442152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0F7-E25D-488F-BAD7-4E326629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6012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679-01B6-4DDA-91C3-407385F1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6212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9224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3200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6212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9224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1E4-701D-440F-A67D-36999845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8FAF-CE6E-4B1E-9A7C-585CF0A0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44FA-F950-40B5-83EE-DD52FFD8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A950-5F38-4B8F-AEF0-CB6BF2F6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5719-167B-4958-9A72-EDC5BBBF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3A24-5EF3-4B3E-BCE3-D2A41BBE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9E31-61A6-4B47-85CC-A1A4925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F16B-5539-4CEA-9101-655557CC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E34-D9B9-4EDD-8F4F-4D058DC6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6012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8F10-AC1C-4018-8643-9A1EA823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D3F4-3D89-429F-98F8-3AF9061F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232000" y="442152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3FE6-CD87-4648-B915-BEC2BE35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6012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4B7B-30D4-4C0E-92C3-C003938E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6212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92240" y="260028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23200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36212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92240" y="4421520"/>
            <a:ext cx="20282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E024-0D00-4DB9-80B4-F0BF6DD9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C25-DBC8-44FC-B411-A2389357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9AC-B611-43DE-BCE5-B40B5C78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80D-D204-4D1E-95DC-9E87A801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877-1D69-4761-8292-9629659E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399-6DC4-49E3-8EB8-6FC61952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60120" y="442152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879-43AE-4665-96EA-E67CC89E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0120" y="2600280"/>
            <a:ext cx="307404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32000" y="4421520"/>
            <a:ext cx="6299280" cy="16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FF1-02F5-41BC-B5EC-BAE3976E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44D9-A8F4-4329-B0DF-7193D35BE9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1680" y="4889520"/>
            <a:ext cx="5187960" cy="195120"/>
            <a:chOff x="3631680" y="4889520"/>
            <a:chExt cx="5187960" cy="195120"/>
          </a:xfrm>
        </p:grpSpPr>
        <p:sp>
          <p:nvSpPr>
            <p:cNvPr id="52" name=""/>
            <p:cNvSpPr/>
            <p:nvPr/>
          </p:nvSpPr>
          <p:spPr>
            <a:xfrm flipH="1">
              <a:off x="3631320" y="4889520"/>
              <a:ext cx="4920840" cy="194040"/>
            </a:xfrm>
            <a:prstGeom prst="roundRect">
              <a:avLst>
                <a:gd name="adj" fmla="val 0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42800" y="4889520"/>
              <a:ext cx="276840" cy="195120"/>
            </a:xfrm>
            <a:prstGeom prst="flowChartDelay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CDBE-2795-4F76-AC15-5218A94AA5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3399"/>
              </a:solidFill>
              <a:latin typeface="Impact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516720" y="5265720"/>
            <a:ext cx="2285640" cy="922320"/>
            <a:chOff x="6516720" y="5265720"/>
            <a:chExt cx="2285640" cy="922320"/>
          </a:xfrm>
        </p:grpSpPr>
        <p:sp>
          <p:nvSpPr>
            <p:cNvPr id="59" name=""/>
            <p:cNvSpPr txBox="1"/>
            <p:nvPr/>
          </p:nvSpPr>
          <p:spPr>
            <a:xfrm>
              <a:off x="8165520" y="561672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603560" y="5412240"/>
              <a:ext cx="824040" cy="775440"/>
              <a:chOff x="7603560" y="5412240"/>
              <a:chExt cx="824040" cy="775440"/>
            </a:xfrm>
          </p:grpSpPr>
          <p:sp>
            <p:nvSpPr>
              <p:cNvPr id="61" name=""/>
              <p:cNvSpPr/>
              <p:nvPr/>
            </p:nvSpPr>
            <p:spPr>
              <a:xfrm>
                <a:off x="7603560" y="541224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35040" y="549576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 txBox="1"/>
            <p:nvPr/>
          </p:nvSpPr>
          <p:spPr>
            <a:xfrm>
              <a:off x="6516720" y="526572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Impact"/>
              </a:rPr>
              <a:t>Cooking Contest </a:t>
            </a:r>
            <a:endParaRPr b="0" lang="en-US" sz="48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680000" y="3333240"/>
            <a:ext cx="2851200" cy="17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 Us Your Favorite Healthy D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Impact"/>
              </a:rPr>
              <a:t>Ingredients to Use</a:t>
            </a: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e syr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ive o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b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Impact"/>
              </a:rPr>
              <a:t>Awards</a:t>
            </a:r>
            <a:endParaRPr b="0" lang="en-US" sz="40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32000" y="2600280"/>
            <a:ext cx="62992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z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ce: Four Friday dinn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ce: Two bru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lunch to all entrants at awards ceremo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zewinn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to 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0T21:45:06Z</dcterms:created>
  <dc:creator>Pat Graves</dc:creator>
  <dc:description/>
  <dc:language>en-US</dc:language>
  <cp:lastModifiedBy>Pat Graves</cp:lastModifiedBy>
  <dcterms:modified xsi:type="dcterms:W3CDTF">2004-02-02T04:46:08Z</dcterms:modified>
  <cp:revision>10</cp:revision>
  <dc:subject/>
  <dc:title>A Good 4 U Recipe Contest </dc:title>
</cp:coreProperties>
</file>