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7309-AFF3-4E27-8477-931833386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6C07-D4DC-42DF-AC6C-11A867BCE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02880" y="4347720"/>
            <a:ext cx="504972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CE3-DB36-4C8A-AB4D-E4FF4512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4FA-59C2-4E99-9289-C23AE352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695-1757-420E-A331-830683B5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EFB-6165-457C-BAF9-2640165D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F65-4A56-4ADF-B6D9-A95ABA3F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0188-8041-4CE4-9D72-ECF3696A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FB8-E6EC-4CF1-8395-66C20565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AA4-2CAE-402E-A4DB-3BB29B84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837-11F9-4579-A5CF-6F24EB63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300D-107B-4A8B-883A-32226E5E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114-2B32-495B-8AF9-858A623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17A-1D44-4DE5-959B-97D96669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BEF6-9E57-4D41-B842-DB340372D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Honey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4 U Product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roduct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made with h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ey can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red hon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ning Sales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ion honeys in spec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honey breads for des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 honey samplers with tea and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5T23:12:02Z</dcterms:created>
  <dc:creator>Pat Graves</dc:creator>
  <dc:description/>
  <dc:language>en-US</dc:language>
  <cp:lastModifiedBy>Pat Graves</cp:lastModifiedBy>
  <dcterms:modified xsi:type="dcterms:W3CDTF">2004-02-02T07:04:45Z</dcterms:modified>
  <cp:revision>2</cp:revision>
  <dc:subject/>
  <dc:title>Natural Honey Products</dc:title>
</cp:coreProperties>
</file>