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5F10-90A1-4B1B-9AE7-369DE534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6867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87640" y="4167360"/>
            <a:ext cx="6867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BF96-B994-4718-8397-91570E76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07000" y="201780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87640" y="416736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07000" y="416736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A53F-5702-4E68-9C12-4E6F5085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2211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09640" y="2017800"/>
            <a:ext cx="2211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31640" y="2017800"/>
            <a:ext cx="2211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87640" y="4167360"/>
            <a:ext cx="2211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09640" y="4167360"/>
            <a:ext cx="2211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31640" y="4167360"/>
            <a:ext cx="2211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9CB0-BA6C-4D03-8BAA-26032112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FF5F-1B71-4BC7-8895-49778EFB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087640" y="2017800"/>
            <a:ext cx="6867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5318-F506-43C1-A82C-669CB2A8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686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8A49-42E5-4553-BDA8-7353C2F9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3351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07000" y="2017800"/>
            <a:ext cx="3351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1589-8E5C-4078-A479-E0C497A9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4333-A2D6-4324-8177-1F199B26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332000" y="259920"/>
            <a:ext cx="78120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C7FF-E439-449D-84B8-C04D97A8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07000" y="2017800"/>
            <a:ext cx="3351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087640" y="416736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DDD7-63B6-43A3-BC94-88A4984F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87640" y="2017800"/>
            <a:ext cx="6867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BFCC-675E-4227-BAD6-B46630A2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3351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07000" y="201780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07000" y="416736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28A4-7225-470C-A477-7B544A7E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607000" y="201780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087640" y="4167360"/>
            <a:ext cx="6867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AD3D-CBAA-4F5C-A08A-FFC57573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6867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087640" y="4167360"/>
            <a:ext cx="6867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4963-15A8-480D-AB0B-742A752E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607000" y="201780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087640" y="416736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607000" y="416736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AA88-72E4-4DAF-83AE-F32B190E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2211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09640" y="2017800"/>
            <a:ext cx="2211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31640" y="2017800"/>
            <a:ext cx="2211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2087640" y="4167360"/>
            <a:ext cx="2211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4409640" y="4167360"/>
            <a:ext cx="2211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731640" y="4167360"/>
            <a:ext cx="2211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C224-3CB4-4BC6-89A4-69337DB4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686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A9FC-7E33-4D61-8481-A54590DD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3351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07000" y="2017800"/>
            <a:ext cx="3351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7C15-9043-4997-9A77-85E9AA94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E8C5-A320-40C9-BA67-AF3D9857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32000" y="259920"/>
            <a:ext cx="78120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E0AF-674F-488F-8232-CC3832FE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7000" y="2017800"/>
            <a:ext cx="3351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87640" y="416736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847D-C1FB-4FBC-82EC-09986006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3351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7000" y="201780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07000" y="416736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7AD0-F378-435E-A237-2BA0A5BF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07000" y="2017800"/>
            <a:ext cx="3351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87640" y="4167360"/>
            <a:ext cx="6867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8842-5166-4058-8A62-31CEC726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332000" cy="6858000"/>
            <a:chOff x="0" y="0"/>
            <a:chExt cx="1332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836640" cy="68580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03440" y="0"/>
              <a:ext cx="628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511280" y="1521000"/>
            <a:ext cx="7632720" cy="14436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087640" y="2017800"/>
            <a:ext cx="686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7ABC-C476-4EEF-AF29-32EF07A58F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2663280" cy="6854760"/>
            <a:chOff x="0" y="0"/>
            <a:chExt cx="2663280" cy="68547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638360" cy="68547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34240" y="0"/>
              <a:ext cx="122904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00360" y="3679920"/>
            <a:ext cx="5542560" cy="2413080"/>
            <a:chOff x="3600360" y="3679920"/>
            <a:chExt cx="5542560" cy="2413080"/>
          </a:xfrm>
        </p:grpSpPr>
        <p:sp>
          <p:nvSpPr>
            <p:cNvPr id="49" name=""/>
            <p:cNvSpPr/>
            <p:nvPr/>
          </p:nvSpPr>
          <p:spPr>
            <a:xfrm flipH="1">
              <a:off x="5974200" y="3679920"/>
              <a:ext cx="3168360" cy="24130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00360" y="3679920"/>
              <a:ext cx="2772000" cy="24130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 flipH="1" flipV="1">
            <a:off x="3599640" y="3428280"/>
            <a:ext cx="5543640" cy="25236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48000" y="1089000"/>
            <a:ext cx="631512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A141-4FBA-4478-A30F-61E3BF7542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666880" y="4257720"/>
            <a:ext cx="1904760" cy="581040"/>
            <a:chOff x="2666880" y="4257720"/>
            <a:chExt cx="1904760" cy="581040"/>
          </a:xfrm>
        </p:grpSpPr>
        <p:sp>
          <p:nvSpPr>
            <p:cNvPr id="57" name=""/>
            <p:cNvSpPr txBox="1"/>
            <p:nvPr/>
          </p:nvSpPr>
          <p:spPr>
            <a:xfrm>
              <a:off x="4041000" y="4478760"/>
              <a:ext cx="530640" cy="3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3572640" y="4349880"/>
              <a:ext cx="686880" cy="488520"/>
              <a:chOff x="3572640" y="4349880"/>
              <a:chExt cx="686880" cy="488520"/>
            </a:xfrm>
          </p:grpSpPr>
          <p:sp>
            <p:nvSpPr>
              <p:cNvPr id="59" name=""/>
              <p:cNvSpPr/>
              <p:nvPr/>
            </p:nvSpPr>
            <p:spPr>
              <a:xfrm>
                <a:off x="3572640" y="4349880"/>
                <a:ext cx="686880" cy="488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65600" y="4402440"/>
                <a:ext cx="317880" cy="2721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 txBox="1"/>
            <p:nvPr/>
          </p:nvSpPr>
          <p:spPr>
            <a:xfrm>
              <a:off x="2666880" y="4257720"/>
              <a:ext cx="1280520" cy="34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48000" y="1089000"/>
            <a:ext cx="631512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Marketing Our Business</a:t>
            </a:r>
            <a:endParaRPr b="1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184720" y="4137120"/>
            <a:ext cx="3959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mployee Training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lements of Marketing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6867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verti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y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e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off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arketing Is About People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686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ct employees and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 the best from yourself and 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What Are We Marketing?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6867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foo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merchand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812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arketing Our Staff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87640" y="2017800"/>
            <a:ext cx="686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ff courtes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iter sugg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pt meal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5T19:51:12Z</dcterms:created>
  <dc:creator>Pat Graves</dc:creator>
  <dc:description/>
  <dc:language>en-US</dc:language>
  <cp:lastModifiedBy>Pat Graves</cp:lastModifiedBy>
  <cp:lastPrinted>1997-05-23T15:21:30Z</cp:lastPrinted>
  <dcterms:modified xsi:type="dcterms:W3CDTF">2004-02-02T05:34:10Z</dcterms:modified>
  <cp:revision>22</cp:revision>
  <dc:subject/>
  <dc:title>Marketing Our Restaurant</dc:title>
</cp:coreProperties>
</file>