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756D-468D-4AA1-8294-13E40E946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24CA-E1C2-47FC-BF10-2D6976AC3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BFA5-6B53-4162-BCCD-9FAFC0C72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53D7-02CB-4463-8853-41C77B079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87A0C-EF1A-4420-9F7B-E5C4CDF0B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BFCD5-E6C2-466C-9F75-A6B7E3314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B3839-F8BC-4DF8-87C8-7104AECF6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B47B3-D1C3-449A-973F-5D5AD310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270A7-965D-4DE8-9D32-D33D896CA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8747E-27B8-46B7-BB13-B3A58EBDB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CB462-B378-4B5B-969F-DDB2A714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58CB-111E-4834-8426-541DAB9FD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0A721-E9AD-4EEF-BC06-0FBB9686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48266-5006-4AB7-BD04-98C89C0A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F2F61-1121-40B8-857C-84F689936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4AACE-26C0-4D55-8CB0-09754AF50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EE73C-EE61-48E6-A0B2-BF0D9B194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81DC-E571-4009-B246-901B92EA0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09BD-B3E9-43FE-88A4-BE28B441C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EFC0-E674-424E-8B98-F167EA1B9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F7D0-BED2-4101-8212-5FADCCE33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84E8-8A72-4310-BD31-9BC3F174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48EB-E959-4D63-BEAF-57ADCDEC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E781-E321-47CB-B56B-372723B7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clouds_3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D4196-9A74-4CFB-90AE-D29B43C067EA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clouds_3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B2843-48C8-4C2A-8611-69075A8D8250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 Black"/>
              </a:rPr>
              <a:t>Good 4 U Restaurant</a:t>
            </a:r>
            <a:endParaRPr b="0" lang="en-US" sz="44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Recycling Program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3600360" y="5300640"/>
            <a:ext cx="1904760" cy="581040"/>
            <a:chOff x="3600360" y="5300640"/>
            <a:chExt cx="1904760" cy="581040"/>
          </a:xfrm>
        </p:grpSpPr>
        <p:sp>
          <p:nvSpPr>
            <p:cNvPr id="87" name=""/>
            <p:cNvSpPr txBox="1"/>
            <p:nvPr/>
          </p:nvSpPr>
          <p:spPr>
            <a:xfrm>
              <a:off x="4974480" y="5521680"/>
              <a:ext cx="530640" cy="36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4506120" y="5392800"/>
              <a:ext cx="686880" cy="488520"/>
              <a:chOff x="4506120" y="5392800"/>
              <a:chExt cx="686880" cy="488520"/>
            </a:xfrm>
          </p:grpSpPr>
          <p:sp>
            <p:nvSpPr>
              <p:cNvPr id="89" name=""/>
              <p:cNvSpPr/>
              <p:nvPr/>
            </p:nvSpPr>
            <p:spPr>
              <a:xfrm>
                <a:off x="4506120" y="5392800"/>
                <a:ext cx="686880" cy="48852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699080" y="5445360"/>
                <a:ext cx="317880" cy="27216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00b1f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91" name=""/>
            <p:cNvSpPr txBox="1"/>
            <p:nvPr/>
          </p:nvSpPr>
          <p:spPr>
            <a:xfrm>
              <a:off x="3600360" y="5300640"/>
              <a:ext cx="1280520" cy="34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 Black"/>
              </a:rPr>
              <a:t>Recycling for the Future</a:t>
            </a:r>
            <a:endParaRPr b="0" lang="en-US" sz="44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Reduce wast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Reduce cost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Help reduce landfill overload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 Black"/>
              </a:rPr>
              <a:t>Goals</a:t>
            </a:r>
            <a:endParaRPr b="0" lang="en-US" sz="44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Recycle more of our wast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Use recycled product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romote community recyclng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 Black"/>
              </a:rPr>
              <a:t>Available Options</a:t>
            </a:r>
            <a:endParaRPr b="0" lang="en-US" sz="44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Use local recycling carter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mall fe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ome recyclables pay for themselv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onate deposit items to school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harge extra costs to advertising account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 Black"/>
              </a:rPr>
              <a:t>Summary</a:t>
            </a:r>
            <a:endParaRPr b="0" lang="en-US" sz="44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ontract with local recycler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Order recycled product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nstall bins for customer recycling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luminum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Glas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lastic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Newspape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Pat R. Graves</dc:creator>
  <dc:description/>
  <dc:language>en-US</dc:language>
  <cp:lastModifiedBy>Pat Graves</cp:lastModifiedBy>
  <cp:lastPrinted>1996-10-02T02:41:14Z</cp:lastPrinted>
  <dcterms:modified xsi:type="dcterms:W3CDTF">2004-03-09T07:28:28Z</dcterms:modified>
  <cp:revision>15</cp:revision>
  <dc:subject/>
  <dc:title>Good 4 U Restaurant</dc:title>
</cp:coreProperties>
</file>