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9B9-7CBD-4591-8A3D-4DAB20CB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B43-4D97-4FCE-A00B-BD23C81A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A44-A15F-40F3-A761-9E5F8539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B51-4B6E-471E-BE09-D264AA96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122-9D31-44AE-8355-554BB064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DDA-3360-46D5-8C38-06B5866E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05F-BF48-477D-80DD-55C76FF4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389-BC55-41EE-B46D-F0C2491F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BC2-03A5-4719-ACC0-515C15D0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C00-88A4-4505-8F93-376B0BDA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398-23EF-43C3-A80E-20690B68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85A-F501-45C3-A36C-9BD64E97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2483-4136-446F-8CC9-6B0B42907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to Evaluate Advertising Me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rketing Series Training 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effe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dollar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new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 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nic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t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llbo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a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 Training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Our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4T22:15:38Z</dcterms:created>
  <dc:creator>Pat R. Graves</dc:creator>
  <dc:description/>
  <dc:language>en-US</dc:language>
  <cp:lastModifiedBy>Pat Graves</cp:lastModifiedBy>
  <cp:lastPrinted>1996-12-04T22:31:20Z</cp:lastPrinted>
  <dcterms:modified xsi:type="dcterms:W3CDTF">2004-02-07T18:40:51Z</dcterms:modified>
  <cp:revision>15</cp:revision>
  <dc:subject/>
  <dc:title>Selecting Advertising Media</dc:title>
</cp:coreProperties>
</file>