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453B-503A-4201-9F7E-2040E77B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9440-2482-41CE-A76B-2ECED44D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5EAB-FBF6-4B3A-81A0-5BB009BC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3D10-4E61-4140-8FC6-3953D262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46FF-A118-4E71-9017-3FBB6899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070F-9594-4D81-B133-3AC9BE2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DC74-E2CF-4BBA-A53C-B0538580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B1E9-33C7-4EC7-81EF-BADD8CA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792-F72E-41E5-92BE-7AE69E81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CC30-D582-4B6D-B45D-0533E8EB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898D-BA19-46F1-83A2-24850E8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AAAE-F166-4533-B2E7-4790B56D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6AD9-8C73-4DA4-8008-5842391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D375-E2DA-44E4-9A75-C5A0F2B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0F55-CA2A-484E-9769-127D9892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FCFA-55B7-49B8-BB66-6C975C4A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3123-3594-40B1-AEFD-D17EFD05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9DE8-8EC3-423C-998C-65A804C8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5B48-960B-4522-826B-EE38F939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1DEA-27F9-4AAA-A3A3-3E972A13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E58E-DF9A-455A-AFEF-C1FF2339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BC0FF-B0E7-4295-B9ED-8966E38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8737-5636-41C6-9389-854A552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BBDF-19B5-44AE-B82B-DD1FA98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C3C8-B2B0-431D-8E2A-F262EC80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020000" y="5697360"/>
            <a:ext cx="1619280" cy="492480"/>
            <a:chOff x="7020000" y="5697360"/>
            <a:chExt cx="1619280" cy="492480"/>
          </a:xfrm>
        </p:grpSpPr>
        <p:sp>
          <p:nvSpPr>
            <p:cNvPr id="16" name=""/>
            <p:cNvSpPr txBox="1"/>
            <p:nvPr/>
          </p:nvSpPr>
          <p:spPr>
            <a:xfrm>
              <a:off x="8188200" y="5884920"/>
              <a:ext cx="4510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7789680" y="5775480"/>
              <a:ext cx="583920" cy="414360"/>
              <a:chOff x="7789680" y="5775480"/>
              <a:chExt cx="583920" cy="414360"/>
            </a:xfrm>
          </p:grpSpPr>
          <p:sp>
            <p:nvSpPr>
              <p:cNvPr id="18" name=""/>
              <p:cNvSpPr/>
              <p:nvPr/>
            </p:nvSpPr>
            <p:spPr>
              <a:xfrm>
                <a:off x="7789680" y="5775480"/>
                <a:ext cx="583920" cy="414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953480" y="5820120"/>
                <a:ext cx="270360" cy="2307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 txBox="1"/>
            <p:nvPr/>
          </p:nvSpPr>
          <p:spPr>
            <a:xfrm>
              <a:off x="7020000" y="5697360"/>
              <a:ext cx="1088280" cy="29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A032-8463-4BCC-925E-3D1A9F09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74560" y="4797360"/>
            <a:ext cx="2305080" cy="703440"/>
            <a:chOff x="574560" y="4797360"/>
            <a:chExt cx="2305080" cy="703440"/>
          </a:xfrm>
        </p:grpSpPr>
        <p:sp>
          <p:nvSpPr>
            <p:cNvPr id="76" name=""/>
            <p:cNvSpPr txBox="1"/>
            <p:nvPr/>
          </p:nvSpPr>
          <p:spPr>
            <a:xfrm>
              <a:off x="2237400" y="5065200"/>
              <a:ext cx="642240" cy="43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670400" y="4908960"/>
              <a:ext cx="831240" cy="591480"/>
              <a:chOff x="1670400" y="4908960"/>
              <a:chExt cx="831240" cy="591480"/>
            </a:xfrm>
          </p:grpSpPr>
          <p:sp>
            <p:nvSpPr>
              <p:cNvPr id="78" name=""/>
              <p:cNvSpPr/>
              <p:nvPr/>
            </p:nvSpPr>
            <p:spPr>
              <a:xfrm>
                <a:off x="1670400" y="4908960"/>
                <a:ext cx="831240" cy="5914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03680" y="4972680"/>
                <a:ext cx="384840" cy="3294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 txBox="1"/>
            <p:nvPr/>
          </p:nvSpPr>
          <p:spPr>
            <a:xfrm>
              <a:off x="574560" y="4797360"/>
              <a:ext cx="1549440" cy="41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Power Walk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ood Concessio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14240" y="53341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vember 200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Opport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new customers to ou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sales to current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Good 4 U nam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Considera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Walk event will bring new customers to Good 4 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rts and fitness activities boost interest in the Good 4 U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Walk Conc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4 U sn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b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4 U m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 sandwi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go m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erts and fruit p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y can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tional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-shirts and water bot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 flyers and f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s” fly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ons for Power Walk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0:57:26Z</dcterms:created>
  <dc:creator>Pat R. Graves</dc:creator>
  <dc:description/>
  <dc:language>en-US</dc:language>
  <cp:lastModifiedBy>Ms. Malnick</cp:lastModifiedBy>
  <cp:lastPrinted>1997-06-06T01:53:14Z</cp:lastPrinted>
  <dcterms:modified xsi:type="dcterms:W3CDTF">2004-04-02T18:23:28Z</dcterms:modified>
  <cp:revision>29</cp:revision>
  <dc:subject/>
  <dc:title>Power Walk Food Concession</dc:title>
</cp:coreProperties>
</file>