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D5E0-089E-42A9-8977-465A957A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D6ED-787A-48B5-BD7C-02949411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E952-C5D3-49E4-88DC-9D0F77610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D992-E453-4B7C-B53E-C3C75821E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A3F8-E231-4D04-9CB4-BACF0CA1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3422-D3F9-4C34-9D34-415B0CE2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13A6-23C4-4A16-91B4-D488417C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354F-1890-404F-BA48-43E6D748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61F9-06C8-4D31-A4E6-168AF398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A3ED-4207-482C-943C-E3CCDDF9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11B5-12CD-4E54-98FC-2C3395F4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BAF4-54C7-4736-9EBF-B5B0DA60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B8CB-B1B9-449A-BCD9-95528C38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6C0F-BBD1-47D4-BC3D-DF614443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A1BD-12BD-4FFE-8266-20448AB2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14DE-B722-4F3E-84AD-E2A63A989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DE98-950F-4F2E-A019-53E903CC5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C92C-A8FB-41B4-927F-11EC6F6B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AC10-EB87-47E7-AF66-B821E01E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A55C-FBDA-480F-BC16-B70B3B3C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C2A4-89BE-4B52-AA12-D5E03E08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2EDD-867E-46C2-AEB3-5ED3295C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8B2C-94AE-48AF-94AD-08869625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F210-99FA-4402-97CD-DE458873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clouds_3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68ca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6b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16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6b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6b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16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6b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cc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6b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6b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6b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1D38-A612-49AA-ADC3-AD2418240E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louds_3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68ca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EFAB-E931-4A0F-90A0-6CAE17EEB9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6b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16b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b16b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cc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6b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b16b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16b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6b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16b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cc33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6b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16b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6b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16b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16b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16b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68ca"/>
                </a:solidFill>
                <a:latin typeface="Arial Black"/>
              </a:rPr>
              <a:t>Menu Additions: Seafood</a:t>
            </a: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6bff"/>
                </a:solidFill>
                <a:latin typeface="Arial"/>
              </a:rPr>
              <a:t>Good 4 U Server Training</a:t>
            </a: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68ca"/>
                </a:solidFill>
                <a:latin typeface="Arial Black"/>
              </a:rPr>
              <a:t>Shellfish</a:t>
            </a: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b16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16bff"/>
                </a:solidFill>
                <a:latin typeface="Arial"/>
              </a:rPr>
              <a:t>Oysters</a:t>
            </a:r>
            <a:endParaRPr b="0" lang="en-US" sz="2800" spc="-1" strike="noStrike">
              <a:solidFill>
                <a:srgbClr val="b16b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16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16bff"/>
                </a:solidFill>
                <a:latin typeface="Arial"/>
              </a:rPr>
              <a:t>Clams</a:t>
            </a:r>
            <a:endParaRPr b="0" lang="en-US" sz="2800" spc="-1" strike="noStrike">
              <a:solidFill>
                <a:srgbClr val="b16b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16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16bff"/>
                </a:solidFill>
                <a:latin typeface="Arial"/>
              </a:rPr>
              <a:t>Shrimp</a:t>
            </a:r>
            <a:endParaRPr b="0" lang="en-US" sz="2800" spc="-1" strike="noStrike">
              <a:solidFill>
                <a:srgbClr val="b16b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16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16bff"/>
                </a:solidFill>
                <a:latin typeface="Arial"/>
              </a:rPr>
              <a:t>Crab</a:t>
            </a:r>
            <a:endParaRPr b="0" lang="en-US" sz="2800" spc="-1" strike="noStrike">
              <a:solidFill>
                <a:srgbClr val="b16b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16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16bff"/>
                </a:solidFill>
                <a:latin typeface="Arial"/>
              </a:rPr>
              <a:t>Lobster</a:t>
            </a:r>
            <a:endParaRPr b="0" lang="en-US" sz="2800" spc="-1" strike="noStrike">
              <a:solidFill>
                <a:srgbClr val="b16b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68ca"/>
                </a:solidFill>
                <a:latin typeface="Arial Black"/>
              </a:rPr>
              <a:t>Specialties</a:t>
            </a: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6bff"/>
                </a:solidFill>
                <a:latin typeface="Arial"/>
              </a:rPr>
              <a:t>Sea vegetables</a:t>
            </a: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16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16bff"/>
                </a:solidFill>
                <a:latin typeface="Arial"/>
              </a:rPr>
              <a:t>Dulse</a:t>
            </a:r>
            <a:endParaRPr b="0" lang="en-US" sz="2800" spc="-1" strike="noStrike">
              <a:solidFill>
                <a:srgbClr val="b16b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16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16bff"/>
                </a:solidFill>
                <a:latin typeface="Arial"/>
              </a:rPr>
              <a:t>Hijiki</a:t>
            </a:r>
            <a:endParaRPr b="0" lang="en-US" sz="2800" spc="-1" strike="noStrike">
              <a:solidFill>
                <a:srgbClr val="b16b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16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16bff"/>
                </a:solidFill>
                <a:latin typeface="Arial"/>
              </a:rPr>
              <a:t>Arame</a:t>
            </a:r>
            <a:endParaRPr b="0" lang="en-US" sz="2800" spc="-1" strike="noStrike">
              <a:solidFill>
                <a:srgbClr val="b16b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6bff"/>
                </a:solidFill>
                <a:latin typeface="Arial"/>
              </a:rPr>
              <a:t>Trout</a:t>
            </a: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6bff"/>
                </a:solidFill>
                <a:latin typeface="Arial"/>
              </a:rPr>
              <a:t>Bass </a:t>
            </a: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68ca"/>
                </a:solidFill>
                <a:latin typeface="Arial Black"/>
              </a:rPr>
              <a:t>Saltwater Fish</a:t>
            </a: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6bff"/>
                </a:solidFill>
                <a:latin typeface="Arial"/>
              </a:rPr>
              <a:t>Halibut</a:t>
            </a: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6bff"/>
                </a:solidFill>
                <a:latin typeface="Arial"/>
              </a:rPr>
              <a:t>Catfish</a:t>
            </a: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6bff"/>
                </a:solidFill>
                <a:latin typeface="Arial"/>
              </a:rPr>
              <a:t>Tuna</a:t>
            </a: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68ca"/>
                </a:solidFill>
                <a:latin typeface="Arial Black"/>
              </a:rPr>
              <a:t>Freshwater Fish</a:t>
            </a:r>
            <a:endParaRPr b="0" lang="en-US" sz="4400" spc="-1" strike="noStrike">
              <a:solidFill>
                <a:srgbClr val="2668ca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6bff"/>
                </a:solidFill>
                <a:latin typeface="Arial"/>
              </a:rPr>
              <a:t>Sushi</a:t>
            </a: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6bff"/>
                </a:solidFill>
                <a:latin typeface="Arial"/>
              </a:rPr>
              <a:t>Sashimi</a:t>
            </a: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6bff"/>
                </a:solidFill>
                <a:latin typeface="Arial"/>
              </a:rPr>
              <a:t>Swordfish</a:t>
            </a:r>
            <a:endParaRPr b="0" lang="en-US" sz="3200" spc="-1" strike="noStrike">
              <a:solidFill>
                <a:srgbClr val="b16b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18T17:40:52Z</dcterms:created>
  <dc:creator>Pat R. Graves</dc:creator>
  <dc:description/>
  <dc:language>en-US</dc:language>
  <cp:lastModifiedBy>Pat Graves</cp:lastModifiedBy>
  <cp:lastPrinted>1998-10-28T19:37:32Z</cp:lastPrinted>
  <dcterms:modified xsi:type="dcterms:W3CDTF">2004-02-07T22:23:08Z</dcterms:modified>
  <cp:revision>15</cp:revision>
  <dc:subject/>
  <dc:title>New Seafood Menu</dc:title>
</cp:coreProperties>
</file>