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35DB-B4BC-4FB2-8310-52AE50BD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FCEE-1D1F-43EB-B1BF-AFF4A84C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718D-91E1-4821-BEBC-FB38B1EF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178-DD23-4CEE-926E-E5685DD7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CE53-96D8-409A-8DFE-29E7B30E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C43-8D8A-4EC0-990F-8F5A5253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6945-AFD0-4DAD-85EF-5985C24A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F3D3-8C73-4A0A-9B2F-3C336D1C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642-0DAA-4991-ABB7-D6A5E79A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20B4-B16F-44F2-9EE4-01DC31B8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24F-9383-42A6-AA0D-7A7C6968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55C8-61B5-40D6-AF28-1BDA4413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B76D-9EFF-4E58-8982-399944748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Seafood Me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4 U Server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food Categ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twater F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shwater F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llf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18T17:40:52Z</dcterms:created>
  <dc:creator>Pat R. Graves</dc:creator>
  <dc:description/>
  <dc:language>en-US</dc:language>
  <cp:lastModifiedBy>Pat Graves</cp:lastModifiedBy>
  <dcterms:modified xsi:type="dcterms:W3CDTF">2004-02-07T23:16:25Z</dcterms:modified>
  <cp:revision>8</cp:revision>
  <dc:subject/>
  <dc:title>New Seafood Menu</dc:title>
</cp:coreProperties>
</file>