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6D4-8DC6-415D-95AE-27D2D586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68B-98A2-493D-8CC6-B0EB0EC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6B4-7047-41D1-BD74-0F472D9D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351-82DF-44A9-B7F0-22C11CFB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551-1A93-4DEB-80DE-718ADE60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50B-F19C-42EB-A114-3445B7B3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5FD3-9DF6-4B96-91DF-40700B0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4BB1-8642-44F2-8136-25FCD094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7772-879C-4F3D-AEC1-96E59D7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DFF9-DF05-4E14-BF10-0AC850A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336-F8C3-49F9-8F58-31B0578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880-6EA6-40C0-BF40-3EABCF7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D4C-2682-4D11-9D7A-A758A2B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12F4-C613-411C-ADC2-EA80896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F57E-F9F2-425F-9E30-79C92BF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18A5-636A-4F74-A5D3-324191F3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1560-05A4-463B-9813-BC284855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EED-664B-4DC7-AE87-C0AEBEA4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9CF-5AB6-4542-8D7A-CC80E10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673-C484-4B29-BC5D-5594A41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3967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46B-AAA7-47D2-B18D-7018DBD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784-DD00-4172-890B-7F35A70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090-EC12-47CB-85DB-2A46D16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B57-45B8-463E-9C53-F514AAC6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32B-6413-4ACC-AE35-48AFECA3174F}" type="slidenum">
              <a:rPr b="0" lang="en-US" sz="1000" spc="-1" strike="noStrike">
                <a:solidFill>
                  <a:srgbClr val="e6e6d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3f2d9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3cc33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295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6e6d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9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6e6d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84A3-B125-4C7E-BC85-6A97F3247168}" type="slidenum">
              <a:rPr b="0" lang="en-US" sz="1000" spc="-1" strike="noStrike">
                <a:solidFill>
                  <a:srgbClr val="e6e6d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3f2d9"/>
              </a:buClr>
              <a:buSzPct val="70000"/>
              <a:buFont typeface="Wingdings 2" charset="2"/>
              <a:buChar char="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6e6d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6e6d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cc33"/>
              </a:buClr>
              <a:buSzPct val="70000"/>
              <a:buFont typeface="Wingdings 2" charset="2"/>
              <a:buChar char="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6e6da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3f2d9"/>
                </a:solidFill>
                <a:latin typeface="Verdana"/>
              </a:rPr>
              <a:t>Sponsor a Walking Event</a:t>
            </a:r>
            <a:endParaRPr b="0" lang="en-US" sz="48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80920" y="38862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Promotional Training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August 2004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108920" y="6156360"/>
            <a:ext cx="1904760" cy="581040"/>
            <a:chOff x="7108920" y="6156360"/>
            <a:chExt cx="1904760" cy="581040"/>
          </a:xfrm>
        </p:grpSpPr>
        <p:sp>
          <p:nvSpPr>
            <p:cNvPr id="117" name=""/>
            <p:cNvSpPr txBox="1"/>
            <p:nvPr/>
          </p:nvSpPr>
          <p:spPr>
            <a:xfrm>
              <a:off x="8483040" y="637740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8014320" y="6248520"/>
              <a:ext cx="686880" cy="488520"/>
              <a:chOff x="8014320" y="6248520"/>
              <a:chExt cx="686880" cy="488520"/>
            </a:xfrm>
          </p:grpSpPr>
          <p:sp>
            <p:nvSpPr>
              <p:cNvPr id="119" name=""/>
              <p:cNvSpPr/>
              <p:nvPr/>
            </p:nvSpPr>
            <p:spPr>
              <a:xfrm>
                <a:off x="8014320" y="624852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6e6d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07280" y="630108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2952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6e6da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7108920" y="6156360"/>
              <a:ext cx="128016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Increase customer awareness of Good 4 U Restaurant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Attract target clientel (fitness, health, and sports participants)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da"/>
                </a:solidFill>
                <a:latin typeface="Verdana"/>
              </a:rPr>
              <a:t>Interest a wider clientele (good food, community events)</a:t>
            </a:r>
            <a:endParaRPr b="0" lang="en-US" sz="20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Advertise Power Walking Event for Healthy Heart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Organize powerwalking training seminars and walk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Interest other sponsor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Establish the Power Walk as an annual even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chedule “paths for every pace”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Advertising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87800" y="1981080"/>
            <a:ext cx="437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lyer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Web page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Training Seminars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raining lectures held in Good 4 U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Banquet room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Conducted by local marathon winners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raining walks held in Central Park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da"/>
                </a:solidFill>
                <a:latin typeface="Verdana"/>
              </a:rPr>
              <a:t>Good 4 U sports drinks and bananas provided free</a:t>
            </a:r>
            <a:endParaRPr b="0" lang="en-US" sz="28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Verdana"/>
              </a:rPr>
              <a:t>Sponsors</a:t>
            </a:r>
            <a:endParaRPr b="0" lang="en-US" sz="4400" spc="-1" strike="noStrike">
              <a:solidFill>
                <a:srgbClr val="f3f2d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76320" y="1917720"/>
            <a:ext cx="57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Running shoe companie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Health clinics/HMO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9966"/>
              </a:buClr>
              <a:buSzPct val="70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ruit packers and distributors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4T18:34:58Z</dcterms:created>
  <dc:creator>Pat R. Graves</dc:creator>
  <dc:description/>
  <dc:language>en-US</dc:language>
  <cp:lastModifiedBy>Ms. Malnick</cp:lastModifiedBy>
  <dcterms:modified xsi:type="dcterms:W3CDTF">2004-04-02T18:30:33Z</dcterms:modified>
  <cp:revision>9</cp:revision>
  <dc:subject/>
  <dc:title>Sponsor a Walking Event</dc:title>
</cp:coreProperties>
</file>