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1866-3B6D-490A-B1B0-2BA66156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7A971-8D85-4E0E-9CE9-B6BD7012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ED6F-0747-48BE-B39F-4A1B5A48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E081C-4D57-496A-B9EF-8114EB73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D4EA-2D60-4AF1-8FC7-67AE6F0E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1E6B-2C56-4A85-979F-F4874DC9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5383-F032-41B2-930A-FD3DE260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F973-CB55-4AF1-8893-EB0725A5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D743-E806-46E6-9D05-9BEA49C6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F28F-BD21-44D7-BFB8-A63E815D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00B7-09C8-436C-836D-7B56C89E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F5F7C-57BF-4FFF-BE53-42D39238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30D4-11C1-41DC-A06B-C7243C97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EB9A-0AEA-4B20-AB81-CFEABF09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4E1A-AD87-4686-8862-0FDD3215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20A2-61DC-49D7-BC06-14FD4579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F4FF-55F2-426A-8667-F198338B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4FF8-CF81-4561-AF84-709D225B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6E10-1D4D-4B2C-8659-743F3FF7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9EC4-2949-4B14-B190-84265376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B003-088D-460E-8948-09D46A76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2933-993F-4856-8D6B-0964889B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61B8-B1FC-43DC-8B74-D6D277E1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05180-7E33-4238-AC5F-AD638298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781680" y="6273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6083-3BD8-483F-AAC2-748B5BF8186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457200" y="6235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0280" indent="-4402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lvl="1" marL="1008360" indent="-456840">
              <a:spcBef>
                <a:spcPts val="9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lvl="2" marL="1341000" indent="-22140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lvl="3" marL="1673640" indent="-221400">
              <a:spcBef>
                <a:spcPts val="9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lvl="4" marL="2006280" indent="-22140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lvl="5" marL="2006280" indent="-22140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lvl="6" marL="2006280" indent="-22140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2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CED5-7E6F-479C-BCF9-6B33529A60F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lvl="1" marL="4431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886680" indent="232560" algn="ctr">
              <a:spcBef>
                <a:spcPts val="700"/>
              </a:spcBef>
              <a:buClr>
                <a:srgbClr val="33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330200" indent="121320" algn="ctr">
              <a:spcBef>
                <a:spcPts val="601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4" marL="1773720" indent="10800" algn="ctr">
              <a:spcBef>
                <a:spcPts val="601"/>
              </a:spcBef>
              <a:buClr>
                <a:srgbClr val="33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5" marL="1773720" indent="1080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6" marL="1773720" indent="1080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5373360"/>
            <a:ext cx="64008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iet and Exercis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328920" y="4365720"/>
            <a:ext cx="2484360" cy="757080"/>
            <a:chOff x="3328920" y="4365720"/>
            <a:chExt cx="2484360" cy="757080"/>
          </a:xfrm>
        </p:grpSpPr>
        <p:sp>
          <p:nvSpPr>
            <p:cNvPr id="301" name=""/>
            <p:cNvSpPr txBox="1"/>
            <p:nvPr/>
          </p:nvSpPr>
          <p:spPr>
            <a:xfrm>
              <a:off x="5121000" y="4653720"/>
              <a:ext cx="692280" cy="46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510080" y="4485960"/>
              <a:ext cx="895680" cy="636840"/>
              <a:chOff x="4510080" y="4485960"/>
              <a:chExt cx="895680" cy="636840"/>
            </a:xfrm>
          </p:grpSpPr>
          <p:sp>
            <p:nvSpPr>
              <p:cNvPr id="303" name=""/>
              <p:cNvSpPr/>
              <p:nvPr/>
            </p:nvSpPr>
            <p:spPr>
              <a:xfrm>
                <a:off x="4510080" y="4485960"/>
                <a:ext cx="895680" cy="6368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61720" y="4554360"/>
                <a:ext cx="414720" cy="3546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eaeaea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 txBox="1"/>
            <p:nvPr/>
          </p:nvSpPr>
          <p:spPr>
            <a:xfrm>
              <a:off x="3328920" y="4365720"/>
              <a:ext cx="1669680" cy="44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Heart Smart Living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Exercise regularly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453960" indent="-453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Eat right at hom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453960" indent="-45396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Eat right when you’re ou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lvl="1" marL="1039680" indent="-4712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ealthy meal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1039680" indent="-4712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ports drink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1039680" indent="-4712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sserts that are good for you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Walk to good health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3920" indent="-40392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HORT WALKS SEVERAL TIMES EACH DAY KEEP YOUR HEART IN SHAP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403920" indent="-40392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Walking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lvl="1" marL="925200" indent="-4194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duces the risk of heart disease and cancer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925200" indent="-4194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owers cholesterol, blood pressure, and stres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403920" indent="-40392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Walking is a mood elevato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Walkers Breakfast with Good 4 U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9240" indent="-39924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Half-hour walks through Central Park led by a Good 4 U guid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lvl="1" marL="914760" indent="-41436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ekdays starting at 5:30, 6:30, and 7:30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914760" indent="-41436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ekends starting at 8, 9, and 10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99240" indent="-39924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Earn discounts on Good 4 U breakfast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lvl="1" marL="914760" indent="-41436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upons earned for miles walked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914760" indent="-41436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upons earned for healthy meals ordered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9a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Join Our Team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Earn Good 4 U discount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453960" indent="-453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Eat right on us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2T03:31:04Z</dcterms:created>
  <dc:creator>Pat R. Graves</dc:creator>
  <dc:description/>
  <dc:language>en-US</dc:language>
  <cp:lastModifiedBy>Pat Graves</cp:lastModifiedBy>
  <cp:lastPrinted>1996-12-10T19:20:34Z</cp:lastPrinted>
  <dcterms:modified xsi:type="dcterms:W3CDTF">2004-02-06T17:11:17Z</dcterms:modified>
  <cp:revision>38</cp:revision>
  <dc:subject/>
  <dc:title>Be Heart Smart! </dc:title>
</cp:coreProperties>
</file>