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A10-68A5-4AE0-B757-58B02508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81547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00280" y="3770280"/>
            <a:ext cx="81547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E06-92D5-4583-AAAE-87517F61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9160" y="206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0280" y="377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79160" y="377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65D-D969-40FB-8489-00E8DCBF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262548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7520" y="2060280"/>
            <a:ext cx="262548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14400" y="2060280"/>
            <a:ext cx="262548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00280" y="3770280"/>
            <a:ext cx="262548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7520" y="3770280"/>
            <a:ext cx="262548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14400" y="3770280"/>
            <a:ext cx="262548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B0D-BD0E-47B6-A14A-C6B7868F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3C7B-4713-4663-B423-A9303A37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00280" y="2060280"/>
            <a:ext cx="815472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102F-EE62-49D7-BB8B-96AEB9A3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81547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3D7D-71B9-4129-828C-B3BBE7EA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3979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9160" y="2060280"/>
            <a:ext cx="3979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F26A-4B13-47AF-86D9-E1F49940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6C60-2394-4F52-B335-EB195549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50720" y="8172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D4DE-7637-4CC8-8ACA-680095A9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9160" y="2060280"/>
            <a:ext cx="3979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0280" y="377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812B-CABB-489E-9F89-B364E604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00280" y="2060280"/>
            <a:ext cx="815472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AFE-78C6-4BF1-B3A1-7E47679C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3979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79160" y="206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79160" y="377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3864-3178-48C5-A06A-3B4ED3A1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79160" y="206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00280" y="3770280"/>
            <a:ext cx="81547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1E3E-A024-43DC-A482-5458E69F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81547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00280" y="3770280"/>
            <a:ext cx="81547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058F-AEFA-4E04-BDF1-ED6C0266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79160" y="206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00280" y="377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79160" y="377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26A8-1BF3-4986-8EAB-8A502EE1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262548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57520" y="2060280"/>
            <a:ext cx="262548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314400" y="2060280"/>
            <a:ext cx="262548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00280" y="3770280"/>
            <a:ext cx="262548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557520" y="3770280"/>
            <a:ext cx="262548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314400" y="3770280"/>
            <a:ext cx="262548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F7DF-A90E-4E6C-88D2-2AB7F705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81547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995-B4D0-4C60-A3D5-7004D686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3979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9160" y="2060280"/>
            <a:ext cx="3979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4D2-DE9D-4232-87E1-A9D154D2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2EE-2283-4B97-A7F5-64A9B137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50720" y="8172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1FE-8790-41DF-9BF9-98F63DBC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9160" y="2060280"/>
            <a:ext cx="3979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00280" y="377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1C6-257F-4F33-990C-90C753AC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3979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9160" y="206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79160" y="377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1D2-ACFE-4C50-A40B-2D1AA0D7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2060280"/>
            <a:ext cx="3979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3770280"/>
            <a:ext cx="81547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4F5-4942-4C51-95D1-B96D109C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964680" y="-3380760"/>
            <a:ext cx="1214280" cy="91440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3420-BB16-43FF-AF3A-9E0AB7BEA6B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502920" y="0"/>
            <a:ext cx="720720" cy="6858000"/>
            <a:chOff x="502920" y="0"/>
            <a:chExt cx="720720" cy="6858000"/>
          </a:xfrm>
        </p:grpSpPr>
        <p:sp>
          <p:nvSpPr>
            <p:cNvPr id="5" name=""/>
            <p:cNvSpPr/>
            <p:nvPr/>
          </p:nvSpPr>
          <p:spPr>
            <a:xfrm flipH="1" rot="5400000">
              <a:off x="-2526840" y="3353760"/>
              <a:ext cx="6858000" cy="150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5400000">
              <a:off x="-2745720" y="3248640"/>
              <a:ext cx="6858000" cy="3603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5400000">
              <a:off x="-2385360" y="3249000"/>
              <a:ext cx="6858000" cy="360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 rot="5400000">
            <a:off x="4279680" y="-2763720"/>
            <a:ext cx="584280" cy="914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5400000">
            <a:off x="4298760" y="-3786120"/>
            <a:ext cx="546120" cy="914400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00280" y="2060280"/>
            <a:ext cx="81547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  <a:p>
            <a:pPr lvl="1" marL="586800" indent="-22572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  <a:p>
            <a:pPr lvl="3" marL="1263960" indent="-18036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  <a:p>
            <a:pPr lvl="4" marL="1625040" indent="-18036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  <a:p>
            <a:pPr lvl="5" marL="1625040" indent="-180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  <a:p>
            <a:pPr lvl="6" marL="1625040" indent="-180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539640" y="0"/>
            <a:ext cx="2229120" cy="6858000"/>
            <a:chOff x="539640" y="0"/>
            <a:chExt cx="2229120" cy="6858000"/>
          </a:xfrm>
        </p:grpSpPr>
        <p:sp>
          <p:nvSpPr>
            <p:cNvPr id="49" name=""/>
            <p:cNvSpPr/>
            <p:nvPr/>
          </p:nvSpPr>
          <p:spPr>
            <a:xfrm>
              <a:off x="934920" y="0"/>
              <a:ext cx="1366920" cy="68580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01840" y="0"/>
              <a:ext cx="46692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9640" y="0"/>
              <a:ext cx="466920" cy="685800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 flipV="1">
            <a:off x="1871640" y="1412640"/>
            <a:ext cx="8693280" cy="55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360" y="1413000"/>
            <a:ext cx="9144000" cy="1872720"/>
            <a:chOff x="-360" y="1413000"/>
            <a:chExt cx="9144000" cy="1872720"/>
          </a:xfrm>
        </p:grpSpPr>
        <p:sp>
          <p:nvSpPr>
            <p:cNvPr id="56" name=""/>
            <p:cNvSpPr/>
            <p:nvPr/>
          </p:nvSpPr>
          <p:spPr>
            <a:xfrm flipH="1">
              <a:off x="-720" y="1809720"/>
              <a:ext cx="9143640" cy="8632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601720"/>
              <a:ext cx="9143640" cy="6840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413000"/>
              <a:ext cx="9143640" cy="684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CEB4-5602-4D5D-BF66-DD7E90ED12D9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1371600" y="253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25480" y="3760920"/>
            <a:ext cx="1706760" cy="520560"/>
            <a:chOff x="825480" y="3760920"/>
            <a:chExt cx="1706760" cy="520560"/>
          </a:xfrm>
        </p:grpSpPr>
        <p:sp>
          <p:nvSpPr>
            <p:cNvPr id="62" name=""/>
            <p:cNvSpPr txBox="1"/>
            <p:nvPr/>
          </p:nvSpPr>
          <p:spPr>
            <a:xfrm>
              <a:off x="2056680" y="3958920"/>
              <a:ext cx="475560" cy="32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1636920" y="3843720"/>
              <a:ext cx="615240" cy="437760"/>
              <a:chOff x="1636920" y="3843720"/>
              <a:chExt cx="615240" cy="437760"/>
            </a:xfrm>
          </p:grpSpPr>
          <p:sp>
            <p:nvSpPr>
              <p:cNvPr id="64" name=""/>
              <p:cNvSpPr/>
              <p:nvPr/>
            </p:nvSpPr>
            <p:spPr>
              <a:xfrm>
                <a:off x="1636920" y="3843720"/>
                <a:ext cx="615240" cy="4377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809720" y="3890880"/>
                <a:ext cx="284760" cy="24372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 txBox="1"/>
            <p:nvPr/>
          </p:nvSpPr>
          <p:spPr>
            <a:xfrm>
              <a:off x="825480" y="3760920"/>
              <a:ext cx="1147320" cy="30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73080" y="4851360"/>
            <a:ext cx="1363680" cy="1846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253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Food Concession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Power Walk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November 2004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81547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troduce new customers to Good 4 U food and products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mprove sales to current customers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Gain name recognition with potential customers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Market Conditions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81547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Power Walk event brings new customers to Good 4 U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crease in sports and fitness creates interest in Good 4 U product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Advertising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0280" y="2060280"/>
            <a:ext cx="81547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T-shirts and water bottles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Menu flyers and folders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Specials” flyers 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Coupons for Power Walk participants</a:t>
            </a:r>
            <a:endParaRPr b="0" lang="en-US" sz="3200" spc="-1" strike="noStrike">
              <a:solidFill>
                <a:srgbClr val="96969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0720" y="817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Sports Drinks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768000">
            <a:off x="965160" y="3013200"/>
            <a:ext cx="22399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0:57:26Z</dcterms:created>
  <dc:creator>Pat R. Graves</dc:creator>
  <dc:description/>
  <dc:language>en-US</dc:language>
  <cp:lastModifiedBy>Ms. Malnick</cp:lastModifiedBy>
  <cp:lastPrinted>1997-06-05T18:43:40Z</cp:lastPrinted>
  <dcterms:modified xsi:type="dcterms:W3CDTF">2004-04-02T18:28:48Z</dcterms:modified>
  <cp:revision>25</cp:revision>
  <dc:subject/>
  <dc:title>Power Walk Food Concession</dc:title>
</cp:coreProperties>
</file>