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0B7-9A89-4911-8421-0ECB3EA2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0AB-21A7-41F1-B1B2-2272444D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8C9-D5BA-47CD-8E59-3336C242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B26-1C44-4F6C-AD52-D0B07F82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31E2-4297-4D26-A9B4-C295C6D9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5965-1A74-4F5C-A162-8B091312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A9CD-18D3-4D9D-A83C-43129124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000C-359C-4056-8E6B-864BFA7E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43DF-EFAC-4A88-9E30-86F4DECF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1453-341C-4325-91BB-6A158BBC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0FBF-8FB6-4A47-9C13-90E5B9EC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969-142B-471E-A528-24A1B942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5C1F-4038-4C6E-8095-88BB42B6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58A1-0ED7-4561-90C3-1E01EBBB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3456-B5DB-47A0-8BBA-04A5E06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7E95-9893-43A1-8765-CE6FFB5B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B71D-B044-4537-95B2-A1EF307B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85E-8CF7-4247-B860-A761A0E1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E48-EBF4-42B1-9326-A7169067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ECB-9C3B-4D9E-BF25-0560AD2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639-855E-4C3A-812C-8EAC59A8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2B1-E71E-46DD-9E46-746154AB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6F1-BFBF-45D0-B53F-FE7BFB54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98A-036A-4ACB-8A42-6AF63B2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EA15-2E4E-4EE2-8AEC-93A7B6DC17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45720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99072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99072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990720"/>
            <a:ext cx="228600" cy="22860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3D4D-ACD6-45C9-9057-22EC5C043D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b6b2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ower Wal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16360" y="3645000"/>
            <a:ext cx="3888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68360" y="3681360"/>
            <a:ext cx="2340000" cy="714240"/>
            <a:chOff x="2268360" y="3681360"/>
            <a:chExt cx="2340000" cy="714240"/>
          </a:xfrm>
        </p:grpSpPr>
        <p:sp>
          <p:nvSpPr>
            <p:cNvPr id="93" name=""/>
            <p:cNvSpPr txBox="1"/>
            <p:nvPr/>
          </p:nvSpPr>
          <p:spPr>
            <a:xfrm>
              <a:off x="3956400" y="3953160"/>
              <a:ext cx="651960" cy="44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80760" y="3794760"/>
              <a:ext cx="843840" cy="600840"/>
              <a:chOff x="3380760" y="3794760"/>
              <a:chExt cx="843840" cy="600840"/>
            </a:xfrm>
          </p:grpSpPr>
          <p:sp>
            <p:nvSpPr>
              <p:cNvPr id="95" name=""/>
              <p:cNvSpPr/>
              <p:nvPr/>
            </p:nvSpPr>
            <p:spPr>
              <a:xfrm>
                <a:off x="3380760" y="3794760"/>
                <a:ext cx="843840" cy="600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617640" y="3859560"/>
                <a:ext cx="390600" cy="3348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66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 txBox="1"/>
            <p:nvPr/>
          </p:nvSpPr>
          <p:spPr>
            <a:xfrm>
              <a:off x="2268360" y="3681360"/>
              <a:ext cx="157284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e Walk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26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11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Park l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pect Park l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walks gui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ee refreshments afterw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al Park Walk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uter loop (approx. 6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ner loop (approx. 4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ervoir (approx. 1.5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spect Park Walk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uter loop (approx. 3.3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ddle loop (approx. 2.7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ner loop (approx. 2.1 mi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1T23:23:12Z</dcterms:created>
  <dc:creator>Pat R. Graves</dc:creator>
  <dc:description/>
  <dc:language>en-US</dc:language>
  <cp:lastModifiedBy>Ms. Malnick</cp:lastModifiedBy>
  <cp:lastPrinted>1997-06-05T14:58:14Z</cp:lastPrinted>
  <dcterms:modified xsi:type="dcterms:W3CDTF">2004-04-02T18:28:16Z</dcterms:modified>
  <cp:revision>35</cp:revision>
  <dc:subject/>
  <dc:title>Power Walking</dc:title>
</cp:coreProperties>
</file>