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301-12F9-4E4A-B057-473701D8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E4A-385C-437B-BF35-BF5D871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6CB-0A65-4DEB-ABB1-367F0804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1E3-15AF-4A0A-934B-6302648E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38C-1666-4D69-8AB7-D8D892A4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B115-64E7-42AD-A921-9B7D2EE2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6CF-A44A-4651-8F8B-0DF41F2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AF4E-B3B0-4DA3-A7DB-57ADD40F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4C59-596A-4A88-BABA-FEF79A5C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360" y="351000"/>
            <a:ext cx="71578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0FF-8CEE-453B-856C-9DBDD726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8A4-A9BD-4BD4-8B8F-C57B311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52A-E131-4FE6-BBAB-AA173E56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E649-9A67-4CB9-BC7F-6134FAB4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4ACD-2D23-4D2D-9AB2-4AB1872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8508-2D05-458D-B082-40386E1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BF1B-E13A-4CF4-B441-EBD392D7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469-3302-4DD1-A3F6-834709B9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97A-4A4B-4F8E-B90C-E26C705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551-CF5C-4BFD-98A0-F86F08D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F7B-F085-4F99-B15A-5C68905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351000"/>
            <a:ext cx="71578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BA8-71D6-4152-8772-9E39046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530-5082-479C-B337-61F3E50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C23-5F8C-41A1-B1E0-EBAE8F4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88E-D5BF-47CF-913B-02743B5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0D0-76D8-4B6F-AE50-10F4FFC360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aac9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AF8A-BFFA-409F-8C59-742F8A3E24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388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209600"/>
            <a:ext cx="261720" cy="13716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2221"/>
                </a:solidFill>
                <a:latin typeface="Arial"/>
              </a:rPr>
              <a:t>Power Walking</a:t>
            </a: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29160" y="4047840"/>
            <a:ext cx="39765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y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812960" y="3762360"/>
            <a:ext cx="2633400" cy="803160"/>
            <a:chOff x="1812960" y="3762360"/>
            <a:chExt cx="2633400" cy="803160"/>
          </a:xfrm>
        </p:grpSpPr>
        <p:sp>
          <p:nvSpPr>
            <p:cNvPr id="94" name=""/>
            <p:cNvSpPr txBox="1"/>
            <p:nvPr/>
          </p:nvSpPr>
          <p:spPr>
            <a:xfrm>
              <a:off x="3712680" y="4068000"/>
              <a:ext cx="733680" cy="49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065040" y="3889800"/>
              <a:ext cx="949680" cy="675360"/>
              <a:chOff x="3065040" y="3889800"/>
              <a:chExt cx="949680" cy="675360"/>
            </a:xfrm>
          </p:grpSpPr>
          <p:sp>
            <p:nvSpPr>
              <p:cNvPr id="96" name=""/>
              <p:cNvSpPr/>
              <p:nvPr/>
            </p:nvSpPr>
            <p:spPr>
              <a:xfrm>
                <a:off x="3065040" y="3889800"/>
                <a:ext cx="949680" cy="6753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31800" y="3962520"/>
                <a:ext cx="439560" cy="376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 txBox="1"/>
            <p:nvPr/>
          </p:nvSpPr>
          <p:spPr>
            <a:xfrm>
              <a:off x="1812960" y="3762360"/>
              <a:ext cx="1770120" cy="47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2221"/>
                </a:solidFill>
                <a:latin typeface="Arial"/>
              </a:rPr>
              <a:t>Walk with Us!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26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aton by September 20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ark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2221"/>
                </a:solidFill>
                <a:latin typeface="Arial"/>
              </a:rPr>
              <a:t>Central Park Power Walk Paths</a:t>
            </a:r>
            <a:endParaRPr b="0" lang="en-US" sz="1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loop (approx. 6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loop (approx. 4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(approx. 1.5 m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2221"/>
                </a:solidFill>
                <a:latin typeface="Arial"/>
              </a:rPr>
              <a:t>Power Walks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athon: 26.2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Marathon: 13.1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Paths: 4 times around the reser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72221"/>
                </a:solidFill>
                <a:latin typeface="Arial"/>
              </a:rPr>
              <a:t>Good 4 U Sponsorship</a:t>
            </a:r>
            <a:endParaRPr b="0" lang="en-US" sz="6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power walk t-shi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WATER BOT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35100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2221"/>
                </a:solidFill>
                <a:latin typeface="Arial"/>
              </a:rPr>
              <a:t>Good 4 U Training Headquarters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w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1T23:23:12Z</dcterms:created>
  <dc:creator>Pat R. Graves</dc:creator>
  <dc:description/>
  <dc:language>en-US</dc:language>
  <cp:lastModifiedBy>Pat Graves</cp:lastModifiedBy>
  <cp:lastPrinted>1996-12-13T19:30:40Z</cp:lastPrinted>
  <dcterms:modified xsi:type="dcterms:W3CDTF">2004-02-06T18:01:43Z</dcterms:modified>
  <cp:revision>27</cp:revision>
  <dc:subject/>
  <dc:title>Power Walking</dc:title>
</cp:coreProperties>
</file>