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B4A-A061-4CB8-AB76-969A05F4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0FE-D611-42A8-A7F0-D8B578C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A2B-CA38-4A29-8277-3C225BB2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9FD-05CC-47AB-A083-A11293DF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68E-6742-403A-AE2E-05788B8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A882-1CE1-4417-AE41-5A653D4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BA8-D3E4-4561-8EF3-A62DC51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773-3C33-4C64-8D48-A913B8FE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CF67-E506-4A35-8D59-362EFDB5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779-8210-4B65-8F3F-A0A14ED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089-D5EF-4514-AFD4-5080A76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713-8A14-41EB-B640-4DEE69F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34F3-FB29-41FF-9463-305D04E5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2CD-4BCE-4B03-A5A9-5A6D647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37D-FAF5-44E9-921D-4B6BF4E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5CBC-D101-4F27-B1C3-FF990601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B46-69E9-4DF5-A137-1BC25546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1C2-AE9E-446C-BE3D-6A9BBF3E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C75-560B-495D-BF2C-09050C0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123-4C1B-4B02-86A5-B3E895F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DB6-B458-48CB-BAE6-D965DDC0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2E9-879D-4880-AEFC-91E78F7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4CC-F7E8-47D3-9D97-B1B537B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9C1-DC26-4901-BA6E-92ADDD2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F26-A4C2-4234-8706-9957833CCABB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55EF-A225-474D-8A67-7011872565D7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3120" y="3583080"/>
            <a:ext cx="576360" cy="641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16120" y="1690560"/>
            <a:ext cx="574560" cy="642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1320" y="1066680"/>
            <a:ext cx="585720" cy="635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3583080"/>
            <a:ext cx="583920" cy="641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1320" y="1690560"/>
            <a:ext cx="58572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2324160"/>
            <a:ext cx="583920" cy="633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16120" y="2324160"/>
            <a:ext cx="574560" cy="633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3120" y="2948040"/>
            <a:ext cx="576360" cy="644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1560" y="2948040"/>
            <a:ext cx="583920" cy="644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6a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6a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ales Analysi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Good 4 U</a:t>
            </a:r>
            <a:br>
              <a:rPr sz="3600"/>
            </a:b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Franchise Training</a:t>
            </a:r>
            <a:endParaRPr b="0" lang="en-US" sz="36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Sales Strategy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Targeting health-conscious individual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Offering low-fat menu option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Asset to the local community with employee volunteer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2529000"/>
            <a:ext cx="35625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ipping Sales</a:t>
            </a:r>
            <a:br>
              <a:rPr sz="4000"/>
            </a:b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o Your Advantage</a:t>
            </a:r>
            <a:endParaRPr b="0" lang="en-US" sz="4000" spc="-1" strike="noStrike">
              <a:solidFill>
                <a:srgbClr val="6a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Annual Predicted Sales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44840" y="1978200"/>
          <a:ext cx="5119560" cy="41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978200"/>
                    <a:ext cx="511956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2:42:14Z</dcterms:created>
  <dc:creator>Pat R. Graves</dc:creator>
  <dc:description/>
  <dc:language>en-US</dc:language>
  <cp:lastModifiedBy>Pat Graves</cp:lastModifiedBy>
  <dcterms:modified xsi:type="dcterms:W3CDTF">2004-02-29T17:25:05Z</dcterms:modified>
  <cp:revision>11</cp:revision>
  <dc:subject/>
  <dc:title>Sales Analysis</dc:title>
</cp:coreProperties>
</file>