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258-6188-4494-AEAE-45E7EAE1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94C-2EBC-4B5D-B437-EA977780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06B-9FC5-46DA-8A71-D0D270D2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C3D-5A2B-4C82-9B57-67418AE0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E84D-A842-4A9F-9EE9-9A65E175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3316-6DB0-429C-9A7A-E2FC427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12B8-D0C0-4559-8424-F692B5F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600-34CC-42DF-BEAF-C2CC875B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3C16-D31D-41A4-BA8E-2DFB263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638-C0B7-4B05-8EBF-626E8B7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CD6-28F0-4DE8-96B8-D8A21A4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64E-489C-4AAC-AED5-0B38816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28E-E509-43DF-B02B-DBCE52D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516F-839F-43AA-904A-DD8A514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2332-8920-4777-A15F-CA7F0F6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916-C906-45CA-99C9-E5951D4E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9947-3B7C-4907-80AC-84283628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B2F-299B-4C73-AA25-8440236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375-D562-46FC-9DB8-598BABA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320-65A6-4737-BAE2-CCB460AD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63E-4608-42E2-8AEC-EC20F06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2B4-2F28-457E-B8A7-D3D2407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550-BD88-4F76-A7C4-834F076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BCF-97CB-4532-A12F-646B4F2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83560" y="1592280"/>
            <a:ext cx="1828800" cy="18252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76520"/>
            <a:ext cx="8305920" cy="0"/>
          </a:xfrm>
          <a:prstGeom prst="line">
            <a:avLst/>
          </a:prstGeom>
          <a:ln w="190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E938-98EF-43A7-9848-E41D5F665D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05320"/>
            <a:ext cx="7772400" cy="2438280"/>
          </a:xfrm>
          <a:prstGeom prst="rect">
            <a:avLst/>
          </a:prstGeom>
          <a:solidFill>
            <a:srgbClr val="891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8240" y="3733920"/>
            <a:ext cx="76485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6668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504960" y="63849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800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E96-364B-493D-841B-F0A6332FF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90720" cy="0"/>
          </a:xfrm>
          <a:prstGeom prst="line">
            <a:avLst/>
          </a:prstGeom>
          <a:ln w="507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3720" y="533520"/>
            <a:ext cx="2438640" cy="30456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685800"/>
            <a:ext cx="807732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48040" y="5002200"/>
            <a:ext cx="1984320" cy="817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Franchise Training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les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ing health-conscious individu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ing low-fat menu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 to the local community with employee volunte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76560" y="1904760"/>
            <a:ext cx="3809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nual Predicted S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6000" y="1990800"/>
          <a:ext cx="659124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990800"/>
                    <a:ext cx="65912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Food and Good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2097000"/>
            <a:ext cx="3656160" cy="247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765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mission is to provide good healthy food and good healthy f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franchise training is designed to help you meet these go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r Staf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 Irvinelli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ie Wolfe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y Olafsen, Market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elle Jenkins, Head Ch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uck Warden, MIS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Suzi Marabella, Train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6-12-06T01:33:42Z</cp:lastPrinted>
  <dcterms:modified xsi:type="dcterms:W3CDTF">2004-02-29T19:38:57Z</dcterms:modified>
  <cp:revision>44</cp:revision>
  <dc:subject/>
  <dc:title>Good 4 U Franchise Training</dc:title>
</cp:coreProperties>
</file>