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EDE-9C46-433B-A480-1B095E95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103-C3FA-486E-9CDE-C582C5E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E7F-E907-4909-9AEA-56135836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EA7-48B4-4480-AB1F-A1E2CB8A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8FF5-EFB1-4E9F-9294-E2FF41F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7B93-4BF3-46EE-B6AA-B046743B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AB4-ABE1-49DF-A272-AB7BC4F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05B-27B3-41C1-B350-608A31BE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89C-A44E-476D-85DF-180F1D08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1C6-91DE-485D-BE03-E8BBD20D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F2ED-08CF-4C5E-8049-F73BDB2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F32-811B-4042-B96B-064B539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E58-D6A7-4580-A3C5-D459683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F24D-C3D7-43FA-AA2F-6E1A282D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EA8-9A7C-4A64-A578-9D8284F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642-517F-4738-A4EA-D6BCF25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A7B-333F-448E-AB37-AED9255B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B07-8336-4668-BEAB-916A32CC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45E-FCE1-42CE-A5A3-D240BD4B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1C2-4455-4F2B-8F41-3621341F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6F2-7242-441D-8C8D-27BCC50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DF5-A9E9-4A30-98C0-32B4A8F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A81-8CBF-4C78-9DDF-BC51FAC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57E-DAB4-4499-B728-E3FA413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11600"/>
            <a:ext cx="9144000" cy="4046040"/>
            <a:chOff x="0" y="2811600"/>
            <a:chExt cx="9144000" cy="404604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487400"/>
              <a:ext cx="4876920" cy="60912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602240"/>
              <a:ext cx="4267080" cy="1942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811600"/>
              <a:ext cx="3811680" cy="195552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811600"/>
              <a:ext cx="3124080" cy="120960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4305240"/>
              <a:ext cx="295200" cy="1900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4171680"/>
              <a:ext cx="29376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3287520"/>
              <a:ext cx="838080" cy="4363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571920"/>
              <a:ext cx="1144800" cy="485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373200"/>
              <a:ext cx="3809880" cy="139824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3316320"/>
              <a:ext cx="915840" cy="40896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979720"/>
              <a:ext cx="7920" cy="108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3116160"/>
              <a:ext cx="1136520" cy="60768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978000"/>
              <a:ext cx="504720" cy="35712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592520"/>
              <a:ext cx="4119480" cy="148068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5126040"/>
              <a:ext cx="4322880" cy="17316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35D-4E64-4B6E-AFB6-49EE712E2636}" type="slidenum">
              <a:rPr b="0" lang="en-US" sz="1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529000"/>
            <a:ext cx="9144000" cy="4046040"/>
            <a:chOff x="0" y="2529000"/>
            <a:chExt cx="9144000" cy="404604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204800"/>
              <a:ext cx="4876920" cy="60912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319640"/>
              <a:ext cx="4267080" cy="1942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529000"/>
              <a:ext cx="3811680" cy="195552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529000"/>
              <a:ext cx="3124080" cy="120960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4022640"/>
              <a:ext cx="295200" cy="1900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889080"/>
              <a:ext cx="29376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3004920"/>
              <a:ext cx="838080" cy="4363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289320"/>
              <a:ext cx="1144800" cy="485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90600"/>
              <a:ext cx="3809880" cy="139824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3033720"/>
              <a:ext cx="915840" cy="40896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97120"/>
              <a:ext cx="7920" cy="108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833560"/>
              <a:ext cx="1136520" cy="60768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95400"/>
              <a:ext cx="504720" cy="35712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309920"/>
              <a:ext cx="4119480" cy="148068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843440"/>
              <a:ext cx="4322880" cy="17316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12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42A-3CA1-4233-AE74-1E773B870C9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512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New Employee Orientation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400720" y="4760640"/>
            <a:ext cx="33480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53120" y="6058080"/>
            <a:ext cx="180360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story of Company &amp; Company Vi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o’s Wh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History of Company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intention of Good 4 U is to establish itself as a franchi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od 4 U has been in business for three yea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food at Good 4 U is low-fat, but not vegetaria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aves</dc:creator>
  <dc:description/>
  <dc:language>en-US</dc:language>
  <cp:lastModifiedBy>Student Name</cp:lastModifiedBy>
  <cp:lastPrinted>1996-12-06T20:40:08Z</cp:lastPrinted>
  <dcterms:modified xsi:type="dcterms:W3CDTF">2004-04-11T20:04:14Z</dcterms:modified>
  <cp:revision>30</cp:revision>
  <dc:subject/>
  <dc:title>New Employee Orientation</dc:title>
</cp:coreProperties>
</file>