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5D1-9F6A-43AD-B557-26B963AF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67C-9ECC-430A-B01D-00748B35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09E-8350-4650-856F-254D102E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9D5-94B4-4048-8A1D-5BB0F8E0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6F08-606B-4B1D-8D58-8B13FF37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B76B-4B63-43C0-8C70-1718260D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8B77-1F9B-424D-AADD-1D68A1AA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A82A-B6AB-42DF-B2B6-0A8459BA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38C1-79E2-40FC-BE5F-6049695A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3836-EE6A-47E7-B766-6CE2E46B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BEC2-8D0D-42CD-BB6A-A57211A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0C1-3DCC-4394-A075-C9CA95A3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F798-EB18-42FA-9963-8DDB01A2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654F-6B35-4F36-AF64-4A78AA91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B89B-5E11-45D0-8FB4-9881E7FB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8F4E-1C0D-4841-92AE-C15BBEEC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A7F3-4D14-45C5-8E19-1B250EC9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D61-F505-463C-AF9A-186B0949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B09-DB99-46EF-86FE-CC837184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C3A-B733-4321-AC5D-FB9FE85A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8FD-24F1-4380-AF66-83B6CECB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426-5933-4CAC-986F-033CAF5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E33-A93F-49CE-8C7C-ED4AC2D3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2E4-B93B-4DED-9A42-78E63B2A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6809-2C1D-4573-B832-9A0CE79DDF7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5D7B-8106-4502-8D05-908F9BB8044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Pic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25760" y="3141720"/>
            <a:ext cx="1825560" cy="1379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16320" y="473508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88000" y="205740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424120" y="47350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8T04:12:42Z</dcterms:modified>
  <cp:revision>9</cp:revision>
  <dc:subject/>
  <dc:title>Slide 1</dc:title>
</cp:coreProperties>
</file>