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866-33E3-4C16-907D-5FA5F9F7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882B-D399-4349-8205-C5B742A3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838-198D-4F9C-AD78-DAAE1124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38B-C7B1-4D6A-848D-EDA2BB3B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02EE-9E0E-43BE-AA66-55C50C9E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8E6B-30AC-43F8-B8A2-4BC46614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8184-8F81-4607-A7C8-A06277F5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DE5F-56B0-4425-983E-C96A123B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1BB4-073C-4F12-9D08-54128A3A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75960" y="4377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0891-FE96-4D75-8578-ACE42AF3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2586-E404-48AE-9F07-607B47AB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901-0F31-46E7-8249-12D94C89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5BC9-0094-4326-85A2-FAA6FAB8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089D-B849-458A-BF01-AE3B7E03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E5AC-976B-46F1-97EF-F7D04904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2A82-AD7B-46D5-B14D-C8792801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C33C-3325-40B2-ADA3-DDFA2661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57E-33D5-45E1-BB4F-620E0650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2E7-B7CA-4D39-A794-7C383C09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D73-7F3F-4447-9962-C52501C1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5960" y="4377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D366-426F-4C0F-A7B1-09B7EDF4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7251-D48B-48A1-9DAA-07DA6F71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FE9-2A30-4653-B366-73C460DB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2A2-E55C-4A5A-A95D-9C5C4392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00cc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3" marL="1681200" indent="-38592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4" marL="2070000" indent="-387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5" marL="2070000" indent="-387360">
              <a:spcBef>
                <a:spcPts val="700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6" marL="2070000" indent="-387360">
              <a:spcBef>
                <a:spcPts val="700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D18F-A2C2-4BD6-B9A4-3421DA3A53D5}" type="slidenum">
              <a:rPr b="0" lang="en-US" sz="10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87280" y="1600200"/>
            <a:ext cx="7056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FA2D-84F6-491D-B16B-644C86D9B66B}" type="slidenum">
              <a:rPr b="0" lang="en-US" sz="10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320" y="1160640"/>
            <a:ext cx="1800000" cy="2160360"/>
          </a:xfrm>
          <a:prstGeom prst="diamond">
            <a:avLst/>
          </a:prstGeom>
          <a:gradFill rotWithShape="0">
            <a:gsLst>
              <a:gs pos="0">
                <a:srgbClr val="00cc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93760" y="1996920"/>
            <a:ext cx="1241280" cy="501480"/>
            <a:chOff x="293760" y="1996920"/>
            <a:chExt cx="1241280" cy="501480"/>
          </a:xfrm>
        </p:grpSpPr>
        <p:sp>
          <p:nvSpPr>
            <p:cNvPr id="49" name=""/>
            <p:cNvSpPr txBox="1"/>
            <p:nvPr/>
          </p:nvSpPr>
          <p:spPr>
            <a:xfrm>
              <a:off x="1189080" y="2187720"/>
              <a:ext cx="345960" cy="31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883800" y="2076480"/>
              <a:ext cx="447480" cy="421920"/>
              <a:chOff x="883800" y="2076480"/>
              <a:chExt cx="447480" cy="421920"/>
            </a:xfrm>
          </p:grpSpPr>
          <p:sp>
            <p:nvSpPr>
              <p:cNvPr id="51" name=""/>
              <p:cNvSpPr/>
              <p:nvPr/>
            </p:nvSpPr>
            <p:spPr>
              <a:xfrm>
                <a:off x="883800" y="2076480"/>
                <a:ext cx="447480" cy="4219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09440" y="2121840"/>
                <a:ext cx="207000" cy="2350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5d8c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 txBox="1"/>
            <p:nvPr/>
          </p:nvSpPr>
          <p:spPr>
            <a:xfrm>
              <a:off x="293760" y="1996920"/>
              <a:ext cx="834480" cy="29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00cc99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87280" y="1600200"/>
            <a:ext cx="7056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Marketing Strategy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16360" y="3581280"/>
            <a:ext cx="4108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eek potential investor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nvestigate the firm Marketing Strategic Management System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Research the World Wide Web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stomer Requir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arget health-conscious area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tudy traffic patterns in selected area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nterview potential customer base for food preference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nterview potential customer base for sports preference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eting the Nee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Use customer interview results to develop menu plan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elect a location with the greatest exposur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Use customer interview results to develop interior sports design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5960" y="4377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Miami costs have soared in the 3rd Quarter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New York costs have remained stead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343400" y="2062080"/>
          <a:ext cx="426708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062080"/>
                    <a:ext cx="426708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Pat R. Graves</dc:creator>
  <dc:description/>
  <dc:language>en-US</dc:language>
  <cp:lastModifiedBy>Student Name</cp:lastModifiedBy>
  <cp:lastPrinted>1996-12-06T17:08:44Z</cp:lastPrinted>
  <dcterms:modified xsi:type="dcterms:W3CDTF">2004-04-11T20:02:08Z</dcterms:modified>
  <cp:revision>30</cp:revision>
  <dc:subject/>
  <dc:title>Marketing Strategy</dc:title>
</cp:coreProperties>
</file>