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230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C79-187C-49F7-AE7C-964C0A90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F13-E2D8-48A8-AE0A-983B91E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904-6602-48E9-92D2-FFB39BA7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604-BB7D-4BC2-8659-A586FA5F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A1E5-74F6-4315-BE25-AF22FDD5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2075-2C9F-47E7-B383-37E4E3D9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3298-ACEA-4F31-8E62-39CDC5C3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F8A-5F20-485D-82C9-9A56D7F4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241B-A783-463C-BAD3-503B585F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B5C9-1C9B-493A-A59C-B1B4713F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295-DEAF-4FA2-9FC0-973AF661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2C3-C34E-43C7-AE1D-75C23073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0814-085D-45BB-A787-FA242F1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AA0D-BDB5-4955-B16B-C8C65C2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CB20-51BD-4BE2-90EF-675E73F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2DD9-F079-4890-835D-512557F5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F6C5-1EE2-4F6E-8E39-5168E367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323-D4BC-45BC-9E0F-0BD6F066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D9D-3A51-479E-A328-2FA848BE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8C8-6A33-4032-9F0F-7553023F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90E-0184-4915-8F04-DEB0ED6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78E-8549-4248-9226-852DA77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03-5FEF-421D-AD19-06E9978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419-5001-433E-BC28-263DBB3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26F4-D84D-4469-8978-2AF7C30D9C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75248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5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DC2-D561-424C-AF08-3760BB5F5A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99"/>
                </a:solidFill>
                <a:latin typeface="Impact"/>
              </a:rPr>
              <a:t>Franchise Training</a:t>
            </a:r>
            <a:endParaRPr b="0" lang="en-US" sz="5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equired Equipmen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aloric industria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ub-Zero refrig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cook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stone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ida fla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rojected Sal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4680" y="1981080"/>
          <a:ext cx="6556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981080"/>
                    <a:ext cx="6556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Hiring Practic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fs must have a culinary degree from an accredited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iters and waitresses must have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24T17:26:58Z</cp:lastPrinted>
  <dcterms:modified xsi:type="dcterms:W3CDTF">2004-04-11T20:06:05Z</dcterms:modified>
  <cp:revision>37</cp:revision>
  <dc:subject/>
  <dc:title>Good 4 U Franchise Training</dc:title>
</cp:coreProperties>
</file>