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2FD-6B77-4DD0-9A3E-FF855255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9A0-6303-4928-856A-0B39EAD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3E3-2130-4EAC-B99B-3A7749D2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3BD-69B8-4375-AAF9-C9029376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1598-637D-4DA7-9D5C-B6F53CBE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4D24-DFB3-4C99-B7D6-33AA520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873-6648-4305-885A-5718B4C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603C-985B-493B-A485-7F76D0EF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5782-C1AD-4BA7-87B5-4D3FD2A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4EC-0E30-444F-8573-1930002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815-90D3-4851-A69A-1FF99A3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EF5-08E3-41FF-820E-9932D71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60A6-EE77-4CED-9BFB-0168840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0DB8-6B71-46A5-BC9F-5690B45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40D5-FC84-4BFC-9040-5D8A210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681F-9F10-4165-977E-200879C4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8EC-D2A1-4872-ADAD-AF3DF430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DB7-E936-4BE7-BF75-06B8CE7A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62F-3452-43A4-8778-B5783D4F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39F-8A05-44BE-B7D2-4F48FB0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0EE-5CB7-4184-92A8-03269EB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C07-F18B-4D8B-B69D-5EFBC280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FBD-C546-4092-9F1C-E9E59E7B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1B2-7692-43F4-9157-11CA4A4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3FB-D074-46C5-95E3-2BFA1B3E87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7998-4A2A-4360-96F5-038EE48818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ttracting Inves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Special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vestors Wan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8800" y="2209680"/>
            <a:ext cx="2892600" cy="32004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ple</dc:creator>
  <dc:description/>
  <dc:language>en-US</dc:language>
  <cp:lastModifiedBy>Pat Graves</cp:lastModifiedBy>
  <cp:lastPrinted>1996-11-27T23:10:18Z</cp:lastPrinted>
  <dcterms:modified xsi:type="dcterms:W3CDTF">2004-03-01T03:32:41Z</dcterms:modified>
  <cp:revision>27</cp:revision>
  <dc:subject/>
  <dc:title>Attracting Investors</dc:title>
</cp:coreProperties>
</file>