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46CC-7FF6-41D3-A8DC-A153C9DB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58A9-56DE-4B2C-B051-C95A5406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81B2-D662-4F25-A235-AC0E6AF9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DCCB0-3D06-4224-B2CB-6F434F51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DCB3-5A72-4205-B5A2-B0389DC4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1111-8D88-4214-9810-1A7074B7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B7AD-4AD7-48E5-B82F-14119EAC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E61F3-8D27-402E-99F5-772E6425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F5FA-F05E-4E82-AC2E-02F7FE38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E667-DBFF-4A26-B8AD-7490CD29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6ABD-584E-42DF-B146-6C050410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8849-3871-4160-9AE7-A23D22CD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A390-5667-45F2-8A86-37272943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CC55-4A67-4B9C-BEE1-AE51E27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4B13-553B-4694-9D3C-8FA6828B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48FA-B927-4942-9C06-B18CF779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78020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0360"/>
            <a:ext cx="264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BD8E-0249-454D-89FA-75901CDF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3D3E5-AED7-441C-AA2F-2EFCFF3C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3619-AC70-42C8-9311-8B23581D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9361-AAE6-44D7-B1DD-63F5C90D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E6C2-E443-4C7B-A13D-41067BA5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F954-5036-409D-BC69-DFC6FB81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036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F315-DF25-4B35-AD0E-F0800D90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0200"/>
            <a:ext cx="40158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0124-B9B7-4203-ADE1-9447347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1FD1-D2EB-4083-ACA8-7CB49C0746D2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2"/>
          </p:nvPr>
        </p:nvSpPr>
        <p:spPr>
          <a:xfrm>
            <a:off x="457200" y="6235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body"/>
          </p:nvPr>
        </p:nvSpPr>
        <p:spPr>
          <a:xfrm>
            <a:off x="457200" y="1780200"/>
            <a:ext cx="8229600" cy="4173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14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75000"/>
              </a:lnSpc>
              <a:spcBef>
                <a:spcPts val="1400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lnSpc>
                <a:spcPct val="75000"/>
              </a:lnSpc>
              <a:spcBef>
                <a:spcPts val="1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380600" y="1844640"/>
            <a:ext cx="63802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FBB4-422A-4C84-844C-FCE6F05B4F14}" type="slidenum">
              <a:rPr b="0" lang="en-US" sz="10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75000"/>
              </a:lnSpc>
              <a:spcBef>
                <a:spcPts val="1049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876"/>
              </a:spcBef>
              <a:buClr>
                <a:srgbClr val="a8669b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876"/>
              </a:spcBef>
              <a:buClr>
                <a:srgbClr val="d79d69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762120" y="685800"/>
            <a:ext cx="7696080" cy="5448240"/>
          </a:xfrm>
          <a:prstGeom prst="rect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380600" y="1442520"/>
            <a:ext cx="63802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Good 4 U</a:t>
            </a:r>
            <a:br>
              <a:rPr sz="5400"/>
            </a:br>
            <a:r>
              <a:rPr b="1" lang="en-US" sz="5400" spc="-1" strike="noStrike">
                <a:solidFill>
                  <a:srgbClr val="dfdef6"/>
                </a:solidFill>
                <a:latin typeface="Garamond"/>
              </a:rPr>
              <a:t>Franchise Training</a:t>
            </a:r>
            <a:endParaRPr b="1" lang="en-US" sz="5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380960" y="3792240"/>
            <a:ext cx="304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bruary 1, 2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653000" y="3346560"/>
            <a:ext cx="251460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Required Restaurant Equipment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35200" y="2321640"/>
            <a:ext cx="5673600" cy="340884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Caloric industrial r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cook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stonewa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e-packag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225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6"/>
          <a:stretch/>
        </p:blipFill>
        <p:spPr>
          <a:xfrm>
            <a:off x="5432400" y="4165560"/>
            <a:ext cx="2797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Sample Menu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2" name=""/>
          <p:cNvSpPr/>
          <p:nvPr/>
        </p:nvSpPr>
        <p:spPr>
          <a:xfrm>
            <a:off x="730080" y="1523880"/>
            <a:ext cx="7683840" cy="4254480"/>
          </a:xfrm>
          <a:custGeom>
            <a:avLst/>
            <a:gdLst>
              <a:gd name="textAreaLeft" fmla="*/ 1753920 w 7683840"/>
              <a:gd name="textAreaRight" fmla="*/ 5929920 w 7683840"/>
              <a:gd name="textAreaTop" fmla="*/ 971280 h 4254480"/>
              <a:gd name="textAreaBottom" fmla="*/ 3283200 h 425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4 U Veggie Bu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ply Good Shrimp Sal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Fruit Co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re’s Lemon Dill 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Projected Annual Sal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831960" y="1762200"/>
          <a:ext cx="747684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62200"/>
                    <a:ext cx="747684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Garamond"/>
              </a:rPr>
              <a:t>Franchising Opportunities</a:t>
            </a:r>
            <a:endParaRPr b="1" lang="en-US" sz="48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27" name=""/>
          <p:cNvSpPr/>
          <p:nvPr/>
        </p:nvSpPr>
        <p:spPr>
          <a:xfrm>
            <a:off x="552600" y="2408400"/>
            <a:ext cx="8038800" cy="3193920"/>
          </a:xfrm>
          <a:prstGeom prst="triangle">
            <a:avLst>
              <a:gd name="adj" fmla="val 49995"/>
            </a:avLst>
          </a:prstGeom>
          <a:solidFill>
            <a:srgbClr val="8755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lbuquerqu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spen, Austin, Boston, Chicag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nver, Jackson Hole, Kansas Cit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emphis, Philadelphia, Santa F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eattle, and Tuc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033800" y="1981080"/>
            <a:ext cx="1076400" cy="1076400"/>
          </a:xfrm>
          <a:prstGeom prst="ellipse">
            <a:avLst/>
          </a:prstGeom>
          <a:solidFill>
            <a:srgbClr val="8755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ef6"/>
                </a:solidFill>
                <a:latin typeface="Garamond"/>
              </a:rPr>
              <a:t>Employee Hiring Practices</a:t>
            </a:r>
            <a:endParaRPr b="1" lang="en-US" sz="4400" spc="-1" strike="noStrike">
              <a:solidFill>
                <a:srgbClr val="dfdef6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970000" y="2115720"/>
            <a:ext cx="5259240" cy="3417480"/>
          </a:xfrm>
          <a:prstGeom prst="rect">
            <a:avLst/>
          </a:prstGeom>
          <a:noFill/>
          <a:ln w="0">
            <a:noFill/>
          </a:ln>
        </p:spPr>
        <p:txBody>
          <a:bodyPr lIns="365760" rIns="274320" tIns="274320" bIns="274320" anchor="ctr">
            <a:normAutofit/>
          </a:bodyPr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5480" y="1665360"/>
            <a:ext cx="1612800" cy="161280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8720" y="3025800"/>
            <a:ext cx="1606680" cy="160812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25480" y="4371840"/>
            <a:ext cx="1612800" cy="1613160"/>
          </a:xfrm>
          <a:prstGeom prst="diamond">
            <a:avLst/>
          </a:prstGeom>
          <a:solidFill>
            <a:srgbClr val="52527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1T21:29:33Z</dcterms:created>
  <dc:creator>Pat R. Graves</dc:creator>
  <dc:description/>
  <dc:language>en-US</dc:language>
  <cp:lastModifiedBy>Ms. Malnick</cp:lastModifiedBy>
  <dcterms:modified xsi:type="dcterms:W3CDTF">2004-04-12T15:50:21Z</dcterms:modified>
  <cp:revision>16</cp:revision>
  <dc:subject/>
  <dc:title>Good 4 U Franchise Training</dc:title>
</cp:coreProperties>
</file>