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230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0A26-4611-42C3-B5EB-ACF1791C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B5EF-D25A-4E78-8F6A-8EC12827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472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E25-B6B0-4D45-81B5-E623C02D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6400" y="1981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7720" y="1981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6400" y="41706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7720" y="41706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8E19-F51C-4C38-B7C4-582103F7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DC42-5E9E-4F2D-904A-AF28DE7C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DF43-EEA4-4C04-8269-042FEF54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94AB-3983-408E-9825-915C316D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9167-5097-4984-99E5-8733A31E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660E-646E-433E-A486-CFF5CB63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CDD0-F8D7-4188-ABFB-F420FA65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AD62-3456-4E32-9716-49E34A6E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A49-8B22-49FF-B8C3-04C35183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2472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5206-0B1D-404D-B006-CA068B26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E7EC-6D4A-4967-8D4D-C723E30F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6DA4-A820-4FA5-87B6-71B162B9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2472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C356-5CA4-4871-8622-5D95A8F35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16400" y="1981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47720" y="1981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16400" y="41706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47720" y="41706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58E9-4387-4124-8DAC-BE313647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99B7-D062-4B83-9468-95DA73A0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C64C-1127-4DE3-AB3F-CC2E99FE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62D7-ED70-4F3C-B019-892DD9EF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AA4-2038-4D9D-8F5D-34B8B569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4C4D-D41D-45A1-8EDC-7416B14B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472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1435-F6DC-496F-B968-A5FC949F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0618-C79C-4E36-BF87-C6F8CDCE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42E8-1430-4618-8807-3BCDA16348F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1752480"/>
            <a:ext cx="80773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58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2B5A-70DA-458B-96E3-3C092674A9E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99"/>
                </a:solidFill>
                <a:latin typeface="Impact"/>
              </a:rPr>
              <a:t>Franchise Training</a:t>
            </a:r>
            <a:endParaRPr b="0" lang="en-US" sz="58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Required Equipment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Caloric industria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Sub-Zero refrig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4 U cookware (pre-packag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4 U stoneware (pre-packag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ida fla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Projected Sale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4680" y="1981080"/>
          <a:ext cx="65563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4680" y="1981080"/>
                    <a:ext cx="65563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Hiring Practice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-level managers must have five years of management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fs must have a culinary degree from an accredited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iters and waitresses must have re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20:17:26Z</dcterms:created>
  <dc:creator>Pat R. Graves</dc:creator>
  <dc:description/>
  <dc:language>en-US</dc:language>
  <cp:lastModifiedBy>Ms. Malnick</cp:lastModifiedBy>
  <cp:lastPrinted>1997-09-24T17:26:58Z</cp:lastPrinted>
  <dcterms:modified xsi:type="dcterms:W3CDTF">2004-04-12T15:50:34Z</dcterms:modified>
  <cp:revision>37</cp:revision>
  <dc:subject/>
  <dc:title>Good 4 U Franchise Training</dc:title>
</cp:coreProperties>
</file>