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97D-FD6F-4FE6-B045-0294A877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828-04DC-4AE8-A214-C4139383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6F6-F5CF-45AE-B902-0B68D49D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816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500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816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500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98F-65A3-4E15-B5B2-7944EC54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E101-B7E7-401D-98E9-3360B371E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F232-8E67-4999-BB2F-A642998F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31D5-4E68-4239-9E66-A785AD86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8D65-02B1-4FC5-894E-11D01847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7416-C19C-4F08-962C-B6631BA6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4D68-AE48-4A7F-9F5C-EFDF280F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1976-88D5-428B-81E7-9D0D2AF5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49A-21F9-43D0-9E6D-4C1D2E73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9190-F8EC-477A-AFE8-83F51CDD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9945-0F46-4644-A752-EF0EFA8F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75F7-70D4-4D11-A69E-112DC6E0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F359-F11F-4933-8398-44DE1B4A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816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500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816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500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03B9-61A5-43AC-AAA2-359786C5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F0D1-98B3-4B7E-80A9-DBDAA6EB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0CA9-D19C-468F-B1CD-7DC2E364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631-7A18-49F0-A1C3-8BCFA850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6C0-AB15-4DBA-BDC1-82F9255C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E23-3565-40E3-B739-7C0E634A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AF5D-70FE-4B68-938F-8BFA0A39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77E-2F11-43A8-B0B1-A1F3FA55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1d9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1d9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754D-B8B3-4223-9676-A72AD4C06434}" type="slidenum">
              <a:rPr b="0" lang="en-US" sz="10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1d9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1d9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C086-6A07-433F-AD1A-A5A9814F2ECB}" type="slidenum">
              <a:rPr b="0" lang="en-US" sz="10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cc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Good 4 U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Grand Opening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Miami Beach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flipH="1">
            <a:off x="2971800" y="2514600"/>
            <a:ext cx="32004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Projected Sales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95240" y="1860480"/>
          <a:ext cx="7550280" cy="397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240" y="1860480"/>
                    <a:ext cx="755028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Our Newest Location 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23920" y="1778040"/>
            <a:ext cx="5096160" cy="3280680"/>
          </a:xfrm>
          <a:prstGeom prst="rect">
            <a:avLst/>
          </a:prstGeom>
          <a:noFill/>
          <a:ln w="0">
            <a:noFill/>
          </a:ln>
        </p:spPr>
        <p:txBody>
          <a:bodyPr lIns="274320" rIns="274320" tIns="320040" bIns="320040" anchor="ctr" anchorCtr="1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555 South Beach Stree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Tropical Breezes Center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Miami Beach, Florida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8" name=""/>
          <p:cNvSpPr/>
          <p:nvPr/>
        </p:nvSpPr>
        <p:spPr>
          <a:xfrm>
            <a:off x="4629240" y="4968720"/>
            <a:ext cx="1305000" cy="1051200"/>
          </a:xfrm>
          <a:prstGeom prst="star5">
            <a:avLst/>
          </a:prstGeom>
          <a:solidFill>
            <a:srgbClr val="7b6d47"/>
          </a:solidFill>
          <a:ln w="12600">
            <a:solidFill>
              <a:srgbClr val="efd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48360" y="4968720"/>
            <a:ext cx="1305000" cy="1051200"/>
          </a:xfrm>
          <a:prstGeom prst="star5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9760" y="4968720"/>
            <a:ext cx="1305000" cy="1051200"/>
          </a:xfrm>
          <a:prstGeom prst="star5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90640" y="4968720"/>
            <a:ext cx="1305000" cy="1051200"/>
          </a:xfrm>
          <a:prstGeom prst="star5">
            <a:avLst/>
          </a:prstGeom>
          <a:solidFill>
            <a:srgbClr val="7b6d47"/>
          </a:solidFill>
          <a:ln w="12600">
            <a:solidFill>
              <a:srgbClr val="efd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1T19:23:02Z</dcterms:created>
  <dc:creator>Pat R. Graves</dc:creator>
  <dc:description/>
  <dc:language>en-US</dc:language>
  <cp:lastModifiedBy>Pat Graves</cp:lastModifiedBy>
  <cp:lastPrinted>1997-06-23T10:57:03Z</cp:lastPrinted>
  <dcterms:modified xsi:type="dcterms:W3CDTF">2004-03-01T04:13:15Z</dcterms:modified>
  <cp:revision>40</cp:revision>
  <dc:subject/>
  <dc:title>Good 4 U</dc:title>
</cp:coreProperties>
</file>