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2F3-5942-4835-8ADA-D5766793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033D-A93B-4CEA-8606-8D912D55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80C-9777-4A37-A8A7-DE5F2527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26D-DC2B-4423-B012-D76252EA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BED2-470F-4617-B99F-BBB9E677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69A1-D80E-4F65-85EB-8DDA67A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3C25-B779-493B-A6C1-2C58F1FD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6D3A-0127-477E-B5A2-FA6928E3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D7AE-F8F0-4732-92F0-BBA56227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B9B3-3FD9-4BA3-A24D-26022FB4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EAB3-A1D4-48FD-94F0-5B77B6F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C68A-20D5-483C-A81B-5712DF5E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9ECD-D1F2-478C-AFC3-25DCF071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2562-BE58-4FF7-AF7D-FFC03D9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F7B9-47B9-4E8B-8ACD-CB7072C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2F8A-2EB7-493B-820B-23FEB4AA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3868-3002-4A6A-8224-1037B5E6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00DC-7D19-456A-8466-43AAAA55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012-C56C-4E7D-9944-8AEF08DB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B8E6-4DC6-4144-976B-C37E8347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5F3-3F79-44B6-A066-6B4A578E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41D-F418-46B7-BD37-EE40B05D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9D9-3902-4E9E-AEAC-C8948A9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BDB1-AF3A-4F16-AEA5-3AD226D2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4d6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254F-440E-491B-9F27-3CC8F03C4D3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F19E-D466-4BAE-8F78-502FD443B19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Good 4 U</a:t>
            </a:r>
            <a:br>
              <a:rPr sz="4400"/>
            </a:b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Franchise Training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e 5,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Sales Strategy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rgeting health-conscious individu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ering low-fat menu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t to the local community with employee volunt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151080" y="4648320"/>
          <a:ext cx="2841840" cy="12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51080" y="4648320"/>
                    <a:ext cx="284184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Annual Predicted Sales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57080" y="2517840"/>
          <a:ext cx="6259680" cy="39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517840"/>
                    <a:ext cx="6259680" cy="39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Good Food and Good Times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95760" cy="4114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Our Staff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s Irvinelli, Co-Fou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lie Wolfe, Co-Fou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Olafsen, Market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hele Jenkins, Head Che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uck Warden, MIS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a Suzi Marabella, Training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Pat Graves</cp:lastModifiedBy>
  <cp:lastPrinted>1997-06-23T15:37:06Z</cp:lastPrinted>
  <dcterms:modified xsi:type="dcterms:W3CDTF">2004-03-01T16:34:03Z</dcterms:modified>
  <cp:revision>42</cp:revision>
  <dc:subject/>
  <dc:title>Good 4 U Franchise Training</dc:title>
</cp:coreProperties>
</file>