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BB9-5FFE-4D3F-BDB9-5F859B87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83D-4C64-4DA2-9E3E-FBFB2093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BB2-6B5F-4861-8C14-3134762A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5668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60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6976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5668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04360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BAD-BF52-45D2-9D48-B857CD8C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34E0-0DDD-416A-852F-8427E3AC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DE3C-400B-46BA-896B-10C107D1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53C3-FF31-4BBB-80AC-E508AB93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656E-DEA7-43EF-A391-8FBC077A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196B-5F1D-40B1-A750-39C8A596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67C4-797E-4F07-A4AE-A4D59227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EFBD-AA95-4BBD-8791-23881CC6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1DC9-FB3A-4507-B545-5CC74B18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BE48-35AE-4C8E-B902-719BC972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F8C1-2AF8-42F9-AF80-60BFF5CE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4F52-158C-4772-B0FE-CC9318B4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59F7-942C-4C52-8905-B8545EAD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5668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43600" y="196704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6976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5668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043600" y="3930480"/>
            <a:ext cx="1987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C4AC-8318-4FC6-BC5F-82283496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6D9-1A90-4EEE-AAFF-8228F863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6B3-61FD-4CE4-91C4-8C99FC71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4F9-B60C-4E01-8347-BB23682C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999-D4DE-4F36-9BAE-A9B12ED7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34B-E1F5-4AA5-94E2-DF942DEF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32360" y="393048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A40-6E4B-4E19-A32E-C0E57D52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32360" y="1967040"/>
            <a:ext cx="301176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69760" y="3930480"/>
            <a:ext cx="6172200" cy="179280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9C9-7928-4CFF-A521-C93CF7A2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645240"/>
            <a:ext cx="8078760" cy="225360"/>
          </a:xfrm>
          <a:prstGeom prst="rect">
            <a:avLst/>
          </a:prstGeom>
          <a:gradFill rotWithShape="0">
            <a:gsLst>
              <a:gs pos="0">
                <a:srgbClr val="cfc7b5"/>
              </a:gs>
              <a:gs pos="100000">
                <a:srgbClr val="8e7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8078760" cy="200160"/>
          </a:xfrm>
          <a:prstGeom prst="rect">
            <a:avLst/>
          </a:pr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77240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b9b09c"/>
              </a:gs>
              <a:gs pos="100000">
                <a:srgbClr val="8e7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866000" y="1440"/>
            <a:ext cx="88920" cy="685800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4323960" y="3316320"/>
            <a:ext cx="6858000" cy="22536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1600 h 225360"/>
              <a:gd name="textAreaBottom" fmla="*/ 20376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 fontScale="89000"/>
          </a:bodyPr>
          <a:p>
            <a:pPr marL="305280" indent="-3052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3" marL="1424160" indent="-203400">
              <a:spcBef>
                <a:spcPts val="700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4" marL="1830960" indent="-203400">
              <a:spcBef>
                <a:spcPts val="70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5" marL="1830960" indent="-203400">
              <a:spcBef>
                <a:spcPts val="70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6" marL="1830960" indent="-203400">
              <a:spcBef>
                <a:spcPts val="700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D9F7-1A55-4B4D-B8DC-019F9633A39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77240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b9b09c"/>
              </a:gs>
              <a:gs pos="100000">
                <a:srgbClr val="8e7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629400"/>
            <a:ext cx="7772400" cy="241200"/>
          </a:xfrm>
          <a:prstGeom prst="rect">
            <a:avLst/>
          </a:prstGeom>
          <a:gradFill rotWithShape="0">
            <a:gsLst>
              <a:gs pos="0">
                <a:srgbClr val="cfc7b5"/>
              </a:gs>
              <a:gs pos="100000">
                <a:srgbClr val="8e7f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848720" cy="193680"/>
          </a:xfrm>
          <a:prstGeom prst="rect">
            <a:avLst/>
          </a:pr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323960" y="3316320"/>
            <a:ext cx="6858000" cy="225360"/>
          </a:xfrm>
          <a:custGeom>
            <a:avLst/>
            <a:gdLst>
              <a:gd name="textAreaLeft" fmla="*/ 662400 w 6858000"/>
              <a:gd name="textAreaRight" fmla="*/ 6195600 w 6858000"/>
              <a:gd name="textAreaTop" fmla="*/ 21600 h 225360"/>
              <a:gd name="textAreaBottom" fmla="*/ 203760 h 2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993" y="21600"/>
                </a:lnTo>
                <a:lnTo>
                  <a:pt x="607" y="21600"/>
                </a:lnTo>
                <a:close/>
              </a:path>
            </a:pathLst>
          </a:custGeom>
          <a:gradFill rotWithShape="0">
            <a:gsLst>
              <a:gs pos="0">
                <a:srgbClr val="8e7f5e"/>
              </a:gs>
              <a:gs pos="100000">
                <a:srgbClr val="cfc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256A-A61E-4DFE-AF82-9351810AC117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697200" y="4876920"/>
            <a:ext cx="235908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866000" y="1440"/>
            <a:ext cx="88920" cy="6858000"/>
          </a:xfrm>
          <a:prstGeom prst="rect">
            <a:avLst/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Attracting Investor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Strategic Planning Sessio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Objective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Market ourselves as an attractive franchise investment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Tell the story of our succes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New York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Miami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Los Angeles</a:t>
            </a:r>
            <a:endParaRPr b="1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Our Specialtie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w-fat menu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Non-alcoholic beverage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Vegetarian meal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Fresh-baked bread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Key Benefit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Quick return of invested fund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Name recognitio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Healthy” image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c7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53f35"/>
                </a:solidFill>
                <a:latin typeface="Arial"/>
              </a:rPr>
              <a:t>Next Steps</a:t>
            </a:r>
            <a:endParaRPr b="1" lang="en-US" sz="4400" spc="-1" strike="noStrike">
              <a:solidFill>
                <a:srgbClr val="853f3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9760" y="1967040"/>
            <a:ext cx="6172200" cy="3759120"/>
          </a:xfrm>
          <a:prstGeom prst="rect">
            <a:avLst/>
          </a:prstGeom>
          <a:noFill/>
          <a:ln w="0">
            <a:noFill/>
          </a:ln>
        </p:spPr>
        <p:txBody>
          <a:bodyPr lIns="274320" rIns="365760" tIns="274320" bIns="274320" anchor="ctr" anchorCtr="1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omplete the business pla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Complete the marketing plan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Locate interested investor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Investigate other funding options</a:t>
            </a:r>
            <a:endParaRPr b="1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Marple</dc:creator>
  <dc:description/>
  <dc:language>en-US</dc:language>
  <cp:lastModifiedBy>Margaret Marple</cp:lastModifiedBy>
  <cp:lastPrinted>1996-11-27T23:10:18Z</cp:lastPrinted>
  <dcterms:modified xsi:type="dcterms:W3CDTF">2001-07-02T19:54:12Z</dcterms:modified>
  <cp:revision>31</cp:revision>
  <dc:subject/>
  <dc:title>Attracting Investors</dc:title>
</cp:coreProperties>
</file>