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3E69-4C52-45C8-826A-676C339EF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04920" y="394848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F544-58A2-4554-9925-2608261B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784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45FD-E935-4419-A8FA-5E402FC1E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1906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760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0492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1906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760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A34A-9FC8-4C86-8822-05C67DD1B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25D4-0D48-4CC1-8E4C-E60071D9F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2D84-AC43-40C6-9A0C-0EA12EA1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BE42-217D-4A23-9853-BB4EE81C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7755-D1F3-4B6C-8F25-6CEEE3C4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7128-BBBF-4000-8E5E-750A8D65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7A5F-7ACB-4607-BA4C-E222F6AD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E5A4-A970-42A1-B2E8-8AC41ADF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BBAE-DECC-4074-96FF-7B2BF5A5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784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F9C8-47A8-4E27-9F92-76404D75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9754-85FB-4AB6-A9AA-C32A8505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04920" y="394848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CD5B-AA42-48D7-8C11-5DC48B46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784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0445-F7E4-4448-9ED8-B94AB1A32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1906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760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30492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1906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760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3871-C106-459F-BDBD-CD4E2AE4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AC46-F073-4471-98D2-FCF62CE5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1BFF-D26D-4CB5-BEA9-1B50EF85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3FCE-AD3F-4EBC-9664-CC930B1A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33AF-8ECA-4E87-91DF-70EC1222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8BA7-775B-436A-AECA-196FA0E2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784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0EB0-4EA6-42E5-BE24-B7223433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F44D-D9B4-4948-8C51-FE1FA0D8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811600"/>
            <a:ext cx="9144000" cy="4046040"/>
            <a:chOff x="0" y="2811600"/>
            <a:chExt cx="9144000" cy="404604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487400"/>
              <a:ext cx="4876920" cy="609120"/>
            </a:xfrm>
            <a:prstGeom prst="rect">
              <a:avLst/>
            </a:prstGeom>
            <a:gradFill rotWithShape="0">
              <a:gsLst>
                <a:gs pos="0">
                  <a:srgbClr val="e5e1b1"/>
                </a:gs>
                <a:gs pos="50000">
                  <a:srgbClr val="f5f0bd"/>
                </a:gs>
                <a:gs pos="100000">
                  <a:srgbClr val="e5e1b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602240"/>
              <a:ext cx="4267080" cy="194256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811600"/>
              <a:ext cx="3811680" cy="195552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811600"/>
              <a:ext cx="3124080" cy="120960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4305240"/>
              <a:ext cx="295200" cy="19008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4171680"/>
              <a:ext cx="29376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3287520"/>
              <a:ext cx="838080" cy="43632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571920"/>
              <a:ext cx="1144800" cy="48528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373200"/>
              <a:ext cx="3809880" cy="139824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3316320"/>
              <a:ext cx="915840" cy="40896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979720"/>
              <a:ext cx="7920" cy="108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3116160"/>
              <a:ext cx="1136520" cy="60768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978000"/>
              <a:ext cx="504720" cy="35712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592520"/>
              <a:ext cx="4119480" cy="148068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5126040"/>
              <a:ext cx="4322880" cy="173160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d9d6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7E94-317C-4950-9E56-3915C6DC1CA0}" type="slidenum">
              <a:rPr b="0" lang="en-US" sz="18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d9d6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64b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529000"/>
            <a:ext cx="9144000" cy="4046040"/>
            <a:chOff x="0" y="2529000"/>
            <a:chExt cx="9144000" cy="404604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204800"/>
              <a:ext cx="4876920" cy="609120"/>
            </a:xfrm>
            <a:prstGeom prst="rect">
              <a:avLst/>
            </a:prstGeom>
            <a:gradFill rotWithShape="0">
              <a:gsLst>
                <a:gs pos="0">
                  <a:srgbClr val="e5e1b1"/>
                </a:gs>
                <a:gs pos="50000">
                  <a:srgbClr val="f5f0bd"/>
                </a:gs>
                <a:gs pos="100000">
                  <a:srgbClr val="e5e1b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319640"/>
              <a:ext cx="4267080" cy="194256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529000"/>
              <a:ext cx="3811680" cy="195552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529000"/>
              <a:ext cx="3124080" cy="120960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4022640"/>
              <a:ext cx="295200" cy="19008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889080"/>
              <a:ext cx="29376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3004920"/>
              <a:ext cx="838080" cy="43632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289320"/>
              <a:ext cx="1144800" cy="48528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90600"/>
              <a:ext cx="3809880" cy="139824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3033720"/>
              <a:ext cx="915840" cy="40896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97120"/>
              <a:ext cx="7920" cy="108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833560"/>
              <a:ext cx="1136520" cy="60768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95400"/>
              <a:ext cx="504720" cy="35712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309920"/>
              <a:ext cx="4119480" cy="148068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fe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843440"/>
              <a:ext cx="4322880" cy="173160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f5f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512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d9d69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9AA7-9B78-4E72-B0F2-B834DC8C9D22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d9d69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64b00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512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d9d69"/>
                </a:solidFill>
                <a:latin typeface="Garamond"/>
              </a:rPr>
              <a:t>New Employee Orientation</a:t>
            </a:r>
            <a:endParaRPr b="1" lang="en-US" sz="5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400720" y="4760640"/>
            <a:ext cx="33480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053120" y="6058080"/>
            <a:ext cx="1803600" cy="74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d9d69"/>
                </a:solidFill>
                <a:latin typeface="Garamond"/>
              </a:rPr>
              <a:t>Agenda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elcom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istory of Company &amp; Company Visio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o’s Wh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00000" y="1798560"/>
            <a:ext cx="725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d9d69"/>
                </a:solidFill>
                <a:latin typeface="Garamond"/>
              </a:rPr>
              <a:t>History of Company</a:t>
            </a:r>
            <a:endParaRPr b="1" lang="en-US" sz="4400" spc="-1" strike="noStrike">
              <a:solidFill>
                <a:srgbClr val="bd9d6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 intention of Good 4 U is to establish itself as a franchis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Good 4 U has been in business for three year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 food at Good 4 U is low-fat, but not vegetaria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42:18Z</dcterms:created>
  <dc:creator>Pat R. Graaves</dc:creator>
  <dc:description/>
  <dc:language>en-US</dc:language>
  <cp:lastModifiedBy>Ms. Malnick</cp:lastModifiedBy>
  <cp:lastPrinted>1996-12-06T20:40:08Z</cp:lastPrinted>
  <dcterms:modified xsi:type="dcterms:W3CDTF">2004-04-12T15:49:50Z</dcterms:modified>
  <cp:revision>30</cp:revision>
  <dc:subject/>
  <dc:title>New Employee Orientation</dc:title>
</cp:coreProperties>
</file>