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4440-B803-4ADB-870A-524C5E5B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01760" y="2752560"/>
            <a:ext cx="654156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01760" y="4230000"/>
            <a:ext cx="654156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F256-CA76-4390-BFF2-DD132534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01760" y="275256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3720" y="275256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01760" y="423000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3720" y="423000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BFE9-25DF-49A3-8186-1F2AE93F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01760" y="2752560"/>
            <a:ext cx="210600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3600" y="2752560"/>
            <a:ext cx="210600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25080" y="2752560"/>
            <a:ext cx="210600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01760" y="4230000"/>
            <a:ext cx="210600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3600" y="4230000"/>
            <a:ext cx="210600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25080" y="4230000"/>
            <a:ext cx="210600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09BE-6952-40C8-85BE-8EAC7A92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8701-45A6-45F6-991E-2E86295C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01760" y="2752560"/>
            <a:ext cx="6541560" cy="28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F793-7745-45BC-AE22-4B311094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01760" y="2752560"/>
            <a:ext cx="6541560" cy="2828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EFAB-66B6-431F-A75D-C206B3D8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01760" y="2752560"/>
            <a:ext cx="3192120" cy="2828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3720" y="2752560"/>
            <a:ext cx="3192120" cy="2828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02BA-C758-4207-B50C-3E1DA6A6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1383-A0C5-4FDB-85F0-36760F29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DC3B-3A67-4D10-B794-ADBB1359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01760" y="275256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3720" y="2752560"/>
            <a:ext cx="3192120" cy="2828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01760" y="423000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C0F2-4DBB-43FF-AEC3-078AF289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01760" y="2752560"/>
            <a:ext cx="6541560" cy="28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9EB-DF71-4C4F-A367-D1F3B59E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01760" y="2752560"/>
            <a:ext cx="3192120" cy="2828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3720" y="275256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3720" y="423000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82DF-1FF5-47E6-83E5-3133D245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01760" y="275256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3720" y="275256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01760" y="4230000"/>
            <a:ext cx="654156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D9AD-2905-40A1-8E5B-211793AA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01760" y="2752560"/>
            <a:ext cx="654156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01760" y="4230000"/>
            <a:ext cx="654156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45AA-7920-44F9-9A6E-5CF6DD4D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01760" y="275256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3720" y="275256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01760" y="423000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3720" y="423000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9779-24C1-4C5E-A057-C2C7A528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01760" y="2752560"/>
            <a:ext cx="210600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3600" y="2752560"/>
            <a:ext cx="210600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25080" y="2752560"/>
            <a:ext cx="210600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01760" y="4230000"/>
            <a:ext cx="210600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3600" y="4230000"/>
            <a:ext cx="210600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25080" y="4230000"/>
            <a:ext cx="210600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3DE4-CE08-40BE-B416-6A6A093C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01760" y="2752560"/>
            <a:ext cx="6541560" cy="2828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7FB4-9949-4335-9D9A-E781B776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01760" y="2752560"/>
            <a:ext cx="3192120" cy="2828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3720" y="2752560"/>
            <a:ext cx="3192120" cy="2828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BF4C-816F-451C-9CE5-8D9274D1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B1A-5077-436F-94EF-735F11E7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438-36A6-4181-8600-2D5DC5F0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01760" y="275256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3720" y="2752560"/>
            <a:ext cx="3192120" cy="2828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01760" y="423000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005-935E-458B-B4EE-29AA253A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01760" y="2752560"/>
            <a:ext cx="3192120" cy="28285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3720" y="275256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3720" y="423000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2D15-257A-42A2-9DDA-A0498164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01760" y="275256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3720" y="2752560"/>
            <a:ext cx="319212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 fontScale="6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01760" y="4230000"/>
            <a:ext cx="6541560" cy="13489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365760" bIns="3657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C30B-4ED8-4468-8525-47848C76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01760" y="2752560"/>
            <a:ext cx="6541560" cy="2828520"/>
          </a:xfrm>
          <a:prstGeom prst="rect">
            <a:avLst/>
          </a:prstGeom>
          <a:solidFill>
            <a:srgbClr val="666699">
              <a:alpha val="79000"/>
            </a:srgbClr>
          </a:solidFill>
          <a:ln w="9360">
            <a:solidFill>
              <a:srgbClr val="ffffff"/>
            </a:solidFill>
            <a:miter/>
          </a:ln>
        </p:spPr>
        <p:txBody>
          <a:bodyPr lIns="365760" rIns="365760" tIns="365760" bIns="365760" anchor="ctr" anchorCtr="1">
            <a:normAutofit fontScale="52000"/>
          </a:bodyPr>
          <a:p>
            <a:pPr marL="237600" indent="-237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45680" indent="-14832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623880" indent="-118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831960" indent="-1188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069560" indent="-118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069560" indent="-1188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069560" indent="-1188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B320-5806-4DB6-B626-5866FC561C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64040" y="1708200"/>
            <a:ext cx="780840" cy="7808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343400" y="1708200"/>
            <a:ext cx="782640" cy="7808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622760" y="1708200"/>
            <a:ext cx="781200" cy="7808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4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385E-2D5A-432D-94EF-584F23F796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2889360"/>
            <a:ext cx="1112760" cy="11113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78160" y="2889360"/>
            <a:ext cx="1113120" cy="11113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5240" y="2889360"/>
            <a:ext cx="1112760" cy="11113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5716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7164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nnual Meeting of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Franchise Owner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171880" y="4255920"/>
            <a:ext cx="4806720" cy="162288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txBody>
          <a:bodyPr lIns="365760" rIns="365760" tIns="365760" bIns="365760" anchor="ctr" anchorCtr="1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ood 4 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te and Tim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760" y="2752560"/>
            <a:ext cx="7314480" cy="28285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txBody>
          <a:bodyPr lIns="365760" rIns="365760" tIns="365760" bIns="365760" anchor="ctr" anchorCtr="1">
            <a:normAutofit fontScale="92000"/>
          </a:bodyPr>
          <a:p>
            <a:pPr marL="420480" indent="-420480">
              <a:spcBef>
                <a:spcPts val="901"/>
              </a:spcBef>
              <a:tabLst>
                <a:tab algn="l" pos="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anuary 24, 2005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:00 a.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20480" indent="-420480">
              <a:spcBef>
                <a:spcPts val="901"/>
              </a:spcBef>
              <a:tabLst>
                <a:tab algn="l" pos="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ebruary 22, 2005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:30 a.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20480" indent="-420480">
              <a:spcBef>
                <a:spcPts val="901"/>
              </a:spcBef>
              <a:tabLst>
                <a:tab algn="l" pos="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rch 15, 2005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9:30 a.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eting Loc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2752560"/>
            <a:ext cx="3041280" cy="28285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txBody>
          <a:bodyPr lIns="365760" rIns="365760" tIns="365760" bIns="365760" anchor="ctr" anchorCtr="1">
            <a:normAutofit fontScale="97000"/>
          </a:bodyPr>
          <a:p>
            <a:pPr marL="443160" indent="-4431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s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3160" indent="-4431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Y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43160" indent="-4431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nsas 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881960" y="2752560"/>
            <a:ext cx="3042720" cy="28285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txBody>
          <a:bodyPr lIns="365760" rIns="365760" tIns="365760" bIns="365760" anchor="ctr" anchorCtr="1">
            <a:normAutofit/>
          </a:bodyPr>
          <a:p>
            <a:pPr marL="457200" indent="-457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ca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ll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uest Speak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301760" y="2752560"/>
            <a:ext cx="6541560" cy="28285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txBody>
          <a:bodyPr lIns="365760" rIns="365760" tIns="365760" bIns="365760" anchor="ctr" anchorCtr="1">
            <a:normAutofit/>
          </a:bodyPr>
          <a:p>
            <a:pPr marL="457200" indent="-4572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ulie Wolf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us Irvinell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oy Olafs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22:31:17Z</dcterms:created>
  <dc:creator>Pat R. Graves</dc:creator>
  <dc:description/>
  <dc:language>en-US</dc:language>
  <cp:lastModifiedBy>Pat Graves</cp:lastModifiedBy>
  <dcterms:modified xsi:type="dcterms:W3CDTF">2004-03-01T08:49:15Z</dcterms:modified>
  <cp:revision>6</cp:revision>
  <dc:subject/>
  <dc:title>Slide 1</dc:title>
</cp:coreProperties>
</file>