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D9D-8AE1-408A-AD98-DD159E08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4625-7661-4657-8122-D2746B56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4B54-277F-49DD-AA10-07F1A570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7130-EA3C-461F-8618-24C4FD71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BE2C-72F9-4AF2-9007-3F4D03C4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E74A-2B07-419A-8FA3-33E9294B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E4AB-F04F-4DC1-888D-29667E7F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7E81-74A4-4407-A073-0D7B436B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F53D-F0D6-4E6A-94EF-FCE385CB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EB7E-87F5-4EE4-B4AA-46142D3E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3B39-A4B0-4F3B-9551-EF33DBC1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2084-50B3-4CD4-9888-24F9589A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3636-E888-4CCE-BB07-710B212B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149A-A64D-4217-B020-137F31F6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C9A5-65CB-4BD8-8D62-CF2FD45E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547E-E48D-416C-AB6C-C464F90E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3C3F-B767-4EAF-86EF-63066304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292-93E1-4C57-B658-22AC3BFA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5D2-6562-40FC-A8A2-7660F45B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5CF-870E-46B9-BAA7-C710B788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44C-3566-40AE-86BB-466500AD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995-3B71-45C5-B2F1-A2146E33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C83-5539-4E1F-AAC5-8E5B3249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205-5185-435E-83CC-571D6332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8120" y="228600"/>
            <a:ext cx="8823600" cy="6095880"/>
          </a:xfrm>
          <a:prstGeom prst="roundRect">
            <a:avLst>
              <a:gd name="adj" fmla="val 11046"/>
            </a:avLst>
          </a:prstGeom>
          <a:noFill/>
          <a:ln w="50760">
            <a:solidFill>
              <a:srgbClr val="f4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8BE8-C325-486A-8626-D7887B09F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1709640"/>
            <a:ext cx="76960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f4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4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96B7-5D01-41B9-A4B1-7E4C43417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1a07"/>
                </a:solidFill>
                <a:latin typeface="Arial Black"/>
              </a:rPr>
              <a:t>Marketing Strategy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835280" y="4724280"/>
            <a:ext cx="5410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raining Sess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311640" y="3683160"/>
            <a:ext cx="2607840" cy="795240"/>
            <a:chOff x="3311640" y="3683160"/>
            <a:chExt cx="2607840" cy="795240"/>
          </a:xfrm>
        </p:grpSpPr>
        <p:sp>
          <p:nvSpPr>
            <p:cNvPr id="90" name=""/>
            <p:cNvSpPr txBox="1"/>
            <p:nvPr/>
          </p:nvSpPr>
          <p:spPr>
            <a:xfrm>
              <a:off x="5193000" y="3985920"/>
              <a:ext cx="726480" cy="49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4551480" y="3809520"/>
              <a:ext cx="940320" cy="668880"/>
              <a:chOff x="4551480" y="3809520"/>
              <a:chExt cx="940320" cy="668880"/>
            </a:xfrm>
          </p:grpSpPr>
          <p:sp>
            <p:nvSpPr>
              <p:cNvPr id="92" name=""/>
              <p:cNvSpPr/>
              <p:nvPr/>
            </p:nvSpPr>
            <p:spPr>
              <a:xfrm>
                <a:off x="4551480" y="3809520"/>
                <a:ext cx="940320" cy="66888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815360" y="3881520"/>
                <a:ext cx="435240" cy="3726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 txBox="1"/>
            <p:nvPr/>
          </p:nvSpPr>
          <p:spPr>
            <a:xfrm>
              <a:off x="3311640" y="3683160"/>
              <a:ext cx="1753200" cy="47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1a07"/>
                </a:solidFill>
                <a:latin typeface="Arial Black"/>
              </a:rPr>
              <a:t>Objectives</a:t>
            </a: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k potential inves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igate the firm Marketing Strategic Management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 the World Wide We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1a07"/>
                </a:solidFill>
                <a:latin typeface="Arial Black"/>
              </a:rPr>
              <a:t>Customer Requirements</a:t>
            </a: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health-conscious ar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 traffic patterns in selected ar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iew potential customer base for food prefer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iew potential customer base for sports prefere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1a07"/>
                </a:solidFill>
                <a:latin typeface="Arial Black"/>
              </a:rPr>
              <a:t>Meeting the Needs</a:t>
            </a: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ustomer interview results to develop menu pl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a location with the greatest expo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customer interview results to develop interior sports desig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1a07"/>
                </a:solidFill>
                <a:latin typeface="Arial Black"/>
              </a:rPr>
              <a:t>Cost Analysis</a:t>
            </a: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73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ami costs have soared in the 3rd quar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York costs have remained stea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4360" y="2092320"/>
          <a:ext cx="3824640" cy="32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4360" y="2092320"/>
                    <a:ext cx="382464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Pat Graves</dc:creator>
  <dc:description/>
  <dc:language>en-US</dc:language>
  <cp:lastModifiedBy>Pat Graves</cp:lastModifiedBy>
  <cp:lastPrinted>1996-12-06T17:08:44Z</cp:lastPrinted>
  <dcterms:modified xsi:type="dcterms:W3CDTF">2004-03-01T17:00:32Z</dcterms:modified>
  <cp:revision>34</cp:revision>
  <dc:subject/>
  <dc:title>Marketing Strategy</dc:title>
</cp:coreProperties>
</file>