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021-C24B-4D1A-894E-35554BF9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1B1-0A42-4707-8D60-9709BF34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789-C3E5-43A6-8B40-42D9F56E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8552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6960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0144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8552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6960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4A2-370C-43FD-B698-C972940D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3044-E8EA-4ACE-A410-8E1110BF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C34A-9F1A-46F0-8D04-0CBC3F1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547D-F40C-4E93-AA5D-1D3A68B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2DA4-FBA9-47C0-A289-DAAA352D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34E7-6939-40EE-A625-5BD9B28D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FA6-8E9E-4F99-99FF-D21AF700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136-7E00-4DAA-A018-D9B55B24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440-7CA1-44FC-B937-BCFADFEB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FD9F-EFA1-4756-A342-8EFA993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C61C-0B46-4111-A60E-00D5A23A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684B-6A67-4DAE-804D-3544EAFB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192C-B678-4FC4-A33E-DD0DF36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8552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0" y="263232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80144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8552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969600" y="4181040"/>
            <a:ext cx="246060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647C-E62A-4A34-A048-C6A53C7D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52D-160D-40F3-8889-5376B1FF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3DC5-7B51-4007-96CD-98B0B22D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F88-F742-444A-9ADD-6B24B5B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9F1-46E1-4935-9FCF-231024E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840-2BDF-43FB-ADCE-E1BEC012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296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7520" y="418104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3087-070A-4769-9823-A0EE42C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0144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7520" y="2632320"/>
            <a:ext cx="37292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01440" y="4181040"/>
            <a:ext cx="7642440" cy="14140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37160" bIns="13716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599-8102-493F-A188-4D74EC84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01440" y="2632320"/>
            <a:ext cx="7642440" cy="2964960"/>
          </a:xfrm>
          <a:prstGeom prst="rect">
            <a:avLst/>
          </a:prstGeom>
          <a:solidFill>
            <a:srgbClr val="990099"/>
          </a:solidFill>
          <a:ln w="38160">
            <a:solidFill>
              <a:srgbClr val="ff9933"/>
            </a:solidFill>
            <a:miter/>
          </a:ln>
        </p:spPr>
        <p:txBody>
          <a:bodyPr lIns="182880" rIns="182880" tIns="137160" bIns="137160" anchor="ctr" anchorCtr="1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90320" indent="-188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75420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05588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357560" indent="-150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357560" indent="-150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357560" indent="-1508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4D4B-9680-42CF-9346-BB6F2A1323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85800" y="1089000"/>
            <a:ext cx="8528040" cy="1403280"/>
            <a:chOff x="685800" y="1089000"/>
            <a:chExt cx="8528040" cy="1403280"/>
          </a:xfrm>
        </p:grpSpPr>
        <p:sp>
          <p:nvSpPr>
            <p:cNvPr id="6" name=""/>
            <p:cNvSpPr/>
            <p:nvPr/>
          </p:nvSpPr>
          <p:spPr>
            <a:xfrm>
              <a:off x="685800" y="1676520"/>
              <a:ext cx="77724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461360" y="1089000"/>
              <a:ext cx="1752480" cy="1403280"/>
            </a:xfrm>
            <a:prstGeom prst="sun">
              <a:avLst>
                <a:gd name="adj" fmla="val 41949"/>
              </a:avLst>
            </a:prstGeom>
            <a:gradFill rotWithShape="0">
              <a:gsLst>
                <a:gs pos="0">
                  <a:srgbClr val="ffc32d"/>
                </a:gs>
                <a:gs pos="100000">
                  <a:srgbClr val="f4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C01C-5943-481C-8053-2991F8201D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482920"/>
            <a:ext cx="8528040" cy="1403280"/>
            <a:chOff x="685800" y="2482920"/>
            <a:chExt cx="8528040" cy="1403280"/>
          </a:xfrm>
        </p:grpSpPr>
        <p:sp>
          <p:nvSpPr>
            <p:cNvPr id="49" name=""/>
            <p:cNvSpPr/>
            <p:nvPr/>
          </p:nvSpPr>
          <p:spPr>
            <a:xfrm>
              <a:off x="685800" y="3070440"/>
              <a:ext cx="77724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8200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1360" y="2482920"/>
              <a:ext cx="1752480" cy="1403280"/>
            </a:xfrm>
            <a:prstGeom prst="sun">
              <a:avLst>
                <a:gd name="adj" fmla="val 41949"/>
              </a:avLst>
            </a:prstGeom>
            <a:gradFill rotWithShape="0">
              <a:gsLst>
                <a:gs pos="0">
                  <a:srgbClr val="ffc32d"/>
                </a:gs>
                <a:gs pos="100000">
                  <a:srgbClr val="f411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44316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8866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33020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177372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1773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177372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Good 4 U - Miami Beach</a:t>
            </a:r>
            <a:endParaRPr b="1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1440" y="3850200"/>
            <a:ext cx="6401160" cy="1846800"/>
          </a:xfrm>
          <a:prstGeom prst="rect">
            <a:avLst/>
          </a:prstGeom>
          <a:solidFill>
            <a:srgbClr val="990099"/>
          </a:solidFill>
          <a:ln w="38160">
            <a:solidFill>
              <a:srgbClr val="ff9933"/>
            </a:solidFill>
            <a:miter/>
          </a:ln>
        </p:spPr>
        <p:txBody>
          <a:bodyPr lIns="182880" rIns="182880" tIns="137160" bIns="137160" anchor="ctr" anchorCtr="1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Grand Opening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Food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01440" y="2942280"/>
            <a:ext cx="7642440" cy="2345040"/>
          </a:xfrm>
          <a:prstGeom prst="rect">
            <a:avLst/>
          </a:prstGeom>
          <a:solidFill>
            <a:srgbClr val="990099"/>
          </a:solidFill>
          <a:ln w="38160">
            <a:solidFill>
              <a:srgbClr val="ff9933"/>
            </a:solidFill>
            <a:miter/>
          </a:ln>
        </p:spPr>
        <p:txBody>
          <a:bodyPr lIns="182880" rIns="182880" tIns="137160" bIns="137160" anchor="ctr" anchorCtr="1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cal delicac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ffet lun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ourmet dinner speci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lthy beverage open b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Entertainment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801440" y="2958480"/>
            <a:ext cx="7642440" cy="2312640"/>
          </a:xfrm>
          <a:prstGeom prst="rect">
            <a:avLst/>
          </a:prstGeom>
          <a:solidFill>
            <a:srgbClr val="990099"/>
          </a:solidFill>
          <a:ln w="38160">
            <a:solidFill>
              <a:srgbClr val="ff9933"/>
            </a:solidFill>
            <a:miter/>
          </a:ln>
        </p:spPr>
        <p:txBody>
          <a:bodyPr lIns="182880" rIns="182880" tIns="137160" bIns="13716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caliber local tal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tionally known M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003b"/>
            </a:gs>
            <a:gs pos="50000">
              <a:srgbClr val="0f0082"/>
            </a:gs>
            <a:gs pos="100000">
              <a:srgbClr val="06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Publicity</a:t>
            </a:r>
            <a:endParaRPr b="1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801440" y="2989800"/>
            <a:ext cx="7642440" cy="2452680"/>
          </a:xfrm>
          <a:prstGeom prst="rect">
            <a:avLst/>
          </a:prstGeom>
          <a:solidFill>
            <a:srgbClr val="990099"/>
          </a:solidFill>
          <a:ln w="38160">
            <a:solidFill>
              <a:srgbClr val="ff9933"/>
            </a:solidFill>
            <a:miter/>
          </a:ln>
        </p:spPr>
        <p:txBody>
          <a:bodyPr lIns="182880" rIns="182880" tIns="137160" bIns="13716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tendance by entertainment and sports celebr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ess kits sent to all local print and broadcast med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7T13:51:52Z</dcterms:created>
  <dc:creator>Pat R. Graves</dc:creator>
  <dc:description/>
  <dc:language>en-US</dc:language>
  <cp:lastModifiedBy>Ms. Malnick</cp:lastModifiedBy>
  <dcterms:modified xsi:type="dcterms:W3CDTF">2004-04-02T20:23:42Z</dcterms:modified>
  <cp:revision>9</cp:revision>
  <dc:subject/>
  <dc:title>Good 4 U- Miami Beach</dc:title>
</cp:coreProperties>
</file>