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DAC8-8F62-4F35-84D1-C7ABF2C39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805C-538F-4D7A-9BBA-E6CE5697E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57D5-2E20-4AB1-ACE4-AB1E61993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0B54-3115-495A-88E2-6D1057944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F4013-942E-4418-892F-ECAF96C7C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1B108-7840-4EA2-AF2F-861FD50E4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7A5E1-E1B0-46C1-B0F8-81FEAC291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1211D-9F84-40B4-84D7-1A720C7BC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B2CD3-D7C2-4F82-9442-09EDF87FF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9A74E-82AC-44ED-BD03-11E38FFDC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FD16C-E128-4DD6-8347-5FB03F4AC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6EFE-0CBE-4E04-BEF0-645A45ABE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603BF-4659-4220-BF69-101C04E73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0764F-06A7-4E32-96B8-52482FF1B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65B53-123B-45AE-9048-860398372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0ABB8-A7D4-47E4-BAAE-806208104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E00EB-30B1-449E-9958-B509E48EB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1D62-1D35-40C4-B6F0-6D6064318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3219-0BF5-4AB2-B9BD-8B1E7C136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5E40-BC76-4A23-B0D5-A212E7D13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DA93-F792-4D91-BAA7-B65190C12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F364-F33D-4E71-B0B5-CE3BE3335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152E-DA13-4A00-B902-A6650BD35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1BBA-7F2D-4E5C-8067-E53A95D60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2A367-614B-419E-B8BC-72DFCE8B0B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d6edee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2A13F-D0E9-43B6-A3F9-326E789A26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 Black"/>
              </a:rPr>
              <a:t>Good 4 U</a:t>
            </a: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’s Coo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222120" y="304920"/>
          <a:ext cx="1055880" cy="120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2120" y="304920"/>
                    <a:ext cx="1055880" cy="12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304920" y="4572000"/>
            <a:ext cx="1019160" cy="19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Healthy Food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rty vegetable s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opical fruit sal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inach souff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semary chic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A Healthy Business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231920" y="1986120"/>
          <a:ext cx="7219800" cy="402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31920" y="1986120"/>
                    <a:ext cx="7219800" cy="40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Equipment You’ll Need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Caloric industrial ra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Sub-Zero refriger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-packaged cook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-packaged stone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ida fla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692360" y="2884320"/>
            <a:ext cx="2219400" cy="22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26T19:12:51Z</dcterms:created>
  <dc:creator>Pat R. Graves</dc:creator>
  <dc:description/>
  <dc:language>en-US</dc:language>
  <cp:lastModifiedBy>Student Name</cp:lastModifiedBy>
  <dcterms:modified xsi:type="dcterms:W3CDTF">2004-04-11T20:51:31Z</dcterms:modified>
  <cp:revision>6</cp:revision>
  <dc:subject/>
  <dc:title>Good 4 U Cooking</dc:title>
</cp:coreProperties>
</file>