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CC65-ADD3-456F-8315-59CDC50B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50E-56DF-44F2-9842-8B2DD650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FBD-6255-4A6F-A293-DC02F7D9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15E-6961-4E34-9FA6-A615F241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102D-E886-436B-891B-77A7B094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DB65-568F-4E8C-A6D5-6E130A0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469-EE17-43B8-9ED7-1EEEFF3B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6148-4CF6-4171-979F-46075C77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54A-A2F1-49CA-B67D-3F07D6F0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E3A5-C51E-4A53-BB8E-15D9FB30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1C92-C7A0-4D95-A2F8-09B52BF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A21-E81A-45EC-9CAB-B5AFAE83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F684-B437-431D-94FE-CAA74A9B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25AA-7E94-4435-BFF2-4250C583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5D7F-88DE-423B-9F96-0DEF7EBA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FCC1-38B1-4763-9184-59831B77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907F-EFCC-4AB7-A36B-2A504BBF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DE4-836C-4A56-8CC9-76BB142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76D-BD26-4530-919A-B06FCE06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43C-98CF-4373-823C-35254361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2CC-9A85-4824-8689-FFCDBA5F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D89-36C5-437F-B99D-EAFFCA9E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1DC-4D1A-49AA-B754-5E82810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E7A-384C-4EE0-88DC-DF26395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8759-DA84-44F7-AB04-5CE843C43E81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2F9E-B039-46F2-BEDA-A1AE0AB5211B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2286000"/>
            <a:ext cx="7923240" cy="0"/>
          </a:xfrm>
          <a:prstGeom prst="line">
            <a:avLst/>
          </a:prstGeom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514600"/>
            <a:ext cx="7924680" cy="0"/>
          </a:xfrm>
          <a:prstGeom prst="line">
            <a:avLst/>
          </a:prstGeom>
          <a:ln w="76320">
            <a:solidFill>
              <a:srgbClr val="4c5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0760" y="2743200"/>
            <a:ext cx="7923240" cy="0"/>
          </a:xfrm>
          <a:prstGeom prst="line">
            <a:avLst/>
          </a:prstGeom>
          <a:ln w="76320">
            <a:solidFill>
              <a:srgbClr val="8f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2971800"/>
            <a:ext cx="7923240" cy="0"/>
          </a:xfrm>
          <a:prstGeom prst="line">
            <a:avLst/>
          </a:prstGeom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35200" y="2584440"/>
            <a:ext cx="214776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otential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or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1160" y="3030480"/>
            <a:ext cx="2147760" cy="128448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ystems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1720" y="2517840"/>
            <a:ext cx="214812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Research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Web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8400" y="21906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776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4760" y="5478480"/>
            <a:ext cx="37130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6200" y="5000760"/>
            <a:ext cx="317160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4680" y="4533840"/>
            <a:ext cx="26546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2040" y="26496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09800" y="447840"/>
            <a:ext cx="23256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45080" y="2098800"/>
            <a:ext cx="30366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52:19Z</dcterms:modified>
  <cp:revision>7</cp:revision>
  <dc:subject/>
  <dc:title>Slide 1</dc:title>
</cp:coreProperties>
</file>