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9426-87C9-4A8B-97A9-7C629547E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68880"/>
            <a:ext cx="8229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386C-6B6B-4B9E-B6FE-B95E899E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4015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437920"/>
            <a:ext cx="4015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68880"/>
            <a:ext cx="4015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68880"/>
            <a:ext cx="4015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7D5C-F8C0-45C3-BBB4-F24ABCEE1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2649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437920"/>
            <a:ext cx="2649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437920"/>
            <a:ext cx="2649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68880"/>
            <a:ext cx="2649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68880"/>
            <a:ext cx="2649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68880"/>
            <a:ext cx="2649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E29F-911F-43B5-9DFD-729A166E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BF6A-CE87-4CCA-8ECD-BC3D2C87F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CE81-1F1B-420D-BCFA-13468155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B862-1700-41E5-98B2-FB86B9D1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4015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437920"/>
            <a:ext cx="4015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9F04-2D43-48A4-8DEA-23D7DDFE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C0EB-910B-4DF6-BA6C-DD6A82E3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A637-E0C8-4809-AB28-8CBAE0A0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4015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437920"/>
            <a:ext cx="4015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68880"/>
            <a:ext cx="4015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C4A3-F8F8-4ED1-8FBC-F6A9AC3B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0D56-AABD-4E36-ADFF-57150D19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4015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437920"/>
            <a:ext cx="4015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68880"/>
            <a:ext cx="4015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DFC5-A984-45EF-A712-BF15ACA2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4015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437920"/>
            <a:ext cx="4015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68880"/>
            <a:ext cx="8229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12F2-B020-45FD-9FF3-4E4DF141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68880"/>
            <a:ext cx="8229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4E4A-A5D5-4ED4-822F-4C72336E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4015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437920"/>
            <a:ext cx="4015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68880"/>
            <a:ext cx="4015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68880"/>
            <a:ext cx="4015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304C-58D8-464C-8E5B-3A42305AC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2649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437920"/>
            <a:ext cx="2649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437920"/>
            <a:ext cx="2649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68880"/>
            <a:ext cx="2649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68880"/>
            <a:ext cx="2649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68880"/>
            <a:ext cx="2649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EBD6-0249-4260-8F14-904CC9F26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19D1-7914-4320-BFF9-5B0BCE2B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4015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437920"/>
            <a:ext cx="4015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7CF1-8C97-460C-B241-06B58D7F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2911-903A-4CFE-815E-AFA3B748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97F6-46E4-4854-901F-DA32CDCA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4015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437920"/>
            <a:ext cx="4015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68880"/>
            <a:ext cx="4015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2926-A0A9-4A59-9425-AE439128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4015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437920"/>
            <a:ext cx="4015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68880"/>
            <a:ext cx="4015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1739-7EB4-4FEE-B11A-A940D7C4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4015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437920"/>
            <a:ext cx="4015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68880"/>
            <a:ext cx="8229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6B9C-F798-414B-9852-A256B870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d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65E6-B27D-44E8-9E85-B4093F6F793B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d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0D4E-28F2-41F7-A788-826E8FA14652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d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902200" y="45720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ood 4 U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7364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ook what we have cook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6629400" y="106668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38880" y="83808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0" y="91440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43828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01000" y="121932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43800" y="45720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05920" y="68580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129528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924680" y="91440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96080" y="60948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10280" y="76212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121932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86600" y="45720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43800" y="114300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60948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68580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76212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3352680"/>
            <a:ext cx="152280" cy="381240"/>
          </a:xfrm>
          <a:prstGeom prst="diamond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3429000"/>
            <a:ext cx="152280" cy="380880"/>
          </a:xfrm>
          <a:prstGeom prst="diamond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3238560"/>
            <a:ext cx="152640" cy="380880"/>
          </a:xfrm>
          <a:prstGeom prst="diamond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d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icious Healthy Mea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ood 4 U Veggie Burg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mply Good Shrimp Sala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ood Fruit Comb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ndre’s Lemon Dill Chicke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d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 Growth Busines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68240" y="2629080"/>
          <a:ext cx="7572600" cy="32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2629080"/>
                    <a:ext cx="7572600" cy="32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rot="16200000">
            <a:off x="4305240" y="4838400"/>
            <a:ext cx="228600" cy="2590920"/>
          </a:xfrm>
          <a:prstGeom prst="upArrow">
            <a:avLst>
              <a:gd name="adj1" fmla="val 48611"/>
              <a:gd name="adj2" fmla="val 17137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d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quired Equip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aloric industrial rang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b-Zero refrigerato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e-packaged cookware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e-packaged stonewar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eida flatwar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21T20:17:50Z</dcterms:created>
  <dc:creator>Pat R. Graves</dc:creator>
  <dc:description/>
  <dc:language>en-US</dc:language>
  <cp:lastModifiedBy>Pat Graves</cp:lastModifiedBy>
  <cp:lastPrinted>1997-09-29T14:04:34Z</cp:lastPrinted>
  <dcterms:modified xsi:type="dcterms:W3CDTF">2004-03-01T22:15:33Z</dcterms:modified>
  <cp:revision>46</cp:revision>
  <dc:subject/>
  <dc:title>Good 4 U Cooking</dc:title>
</cp:coreProperties>
</file>