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E71-2AAE-4B1C-A894-53D792BE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E2A-DB8D-47BE-A241-A1C2E7BB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AE4-5DF9-4F21-A7BC-E68B3F92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A9F-75CF-4C27-8985-85DA6CD0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5928-6A4B-48A8-9249-FC723522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E668-0FD2-4AE3-A5A0-6DC1B94C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9132-19DE-4034-8076-10EFE846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2C87-2F52-488E-93C7-C86724BF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54C9-C36C-4C76-AC55-83F89C2F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CFE4-A02D-4059-B086-32AE49BF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E0CF-9D74-4FA7-94E4-C7672288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FBE-F1C5-48A6-A563-E0F360FF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CEA5-D97B-4629-8E56-C07D22D6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E506-511A-4419-B841-1B38014A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EEF7-3690-4232-A56D-82B94D7A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E782-A3BB-455C-8A04-BC0FCAAA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9B37-F1BD-4347-9480-4BD8B2E3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792-6EE5-437C-B674-DD0EA91E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F794-869C-463C-93A0-A365ACE8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1B3-3F83-48F1-9F49-58585708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D61-5861-4832-801B-3F416B98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72E-33E6-42DC-9CD9-55F21517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718-4733-4663-9B68-81989730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7F4-86AD-4D06-805B-1348584D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F8CE-AFC7-4AF3-A5F5-CDD36AA823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EC29-DE63-46C1-AB23-2721E780A6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81952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81952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12408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89548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281952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97180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97180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320040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04812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289548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89548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320040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97180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289548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812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304812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327672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3124080"/>
            <a:ext cx="228600" cy="228600"/>
          </a:xfrm>
          <a:prstGeom prst="diamond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 Black"/>
              </a:rPr>
              <a:t>Franchise Information Package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886040" y="3581280"/>
            <a:ext cx="3333600" cy="2116080"/>
          </a:xfrm>
          <a:prstGeom prst="flowChartDecision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60280" y="4144680"/>
            <a:ext cx="19875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ood 4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Kitchen Essentials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Caloric r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 stone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omputer Equipmen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tium computer (network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cash reg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Good 4 U restaurant software pack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05120" y="1828800"/>
            <a:ext cx="6476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Employee Hiring Practices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-level managers must have five years of management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973080" y="3429000"/>
            <a:ext cx="7313400" cy="3336840"/>
          </a:xfrm>
          <a:prstGeom prst="diamond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5120" y="4032360"/>
            <a:ext cx="4434120" cy="19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Veggie Burg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Simply Good Shrimp Sal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Fresh Fruit Comb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Rosemary Chicke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Sample Menu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9-04T01:40:22Z</cp:lastPrinted>
  <dcterms:modified xsi:type="dcterms:W3CDTF">2004-04-11T20:50:09Z</dcterms:modified>
  <cp:revision>50</cp:revision>
  <dc:subject/>
  <dc:title>Franchise Information</dc:title>
</cp:coreProperties>
</file>