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1C0A-76E0-4351-8171-4C1DB8D5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FE3E-0F90-4916-9697-7D89FECA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F237-48AA-4375-A109-01476E96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EBFC-C2C2-4E74-A4DB-26766BCD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DAFA-BA23-4B43-87D1-580CA163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2D5D-4919-4046-91FB-5E043F9E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3ACD-82F9-48BD-9C3C-FD796916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CC62-AE2F-4D02-A423-C88C2D48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C175-AE87-4ADE-B195-9C0B33C4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ABCD-994C-4957-8287-843056C1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4660-8FBF-4337-A89E-81393ADC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EAD6-C1F2-42A3-A472-BED1796C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6B15-CAED-4D1A-A20B-19ED100E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A623-AA1F-463A-939C-227A645A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7BB6-2680-483B-8057-091DCCF8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B5F4-06F6-4A89-86C0-48B5E9CA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074D-99EC-461A-BCCA-40C00766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D4442-5F60-49ED-ABBA-27FAA419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AF1E-70D0-4393-99CE-91613F69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2B46-515C-49C7-881E-897370C0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FA7C-AABC-44E0-9375-1DA86AF6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E20B-6C55-4B64-BB0C-3D025542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2E29-9FE4-42EA-ABA6-50D9E609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DDC6-DA9C-49E2-84D6-03D6819C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5E8C-BD56-4662-8B44-45B898FB68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7C6E-A58A-45A8-8C5B-5374A19AC4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Good 4 U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ff Training Sche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2895480" y="3441600"/>
            <a:ext cx="33530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23:58:07Z</dcterms:created>
  <dc:creator>Pat R. Graves</dc:creator>
  <dc:description/>
  <dc:language>en-US</dc:language>
  <cp:lastModifiedBy>Pat Graves</cp:lastModifiedBy>
  <dcterms:modified xsi:type="dcterms:W3CDTF">2004-03-05T16:44:59Z</dcterms:modified>
  <cp:revision>4</cp:revision>
  <dc:subject/>
  <dc:title>Staff Training</dc:title>
</cp:coreProperties>
</file>