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0E3-90FF-4EBD-88FE-3653A2AD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414-B224-4788-9BB4-E4C45D6C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D96-D189-4709-8A97-D61009C7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E0D0-942E-4289-B6A6-D23A1733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F3F3-8E44-47CC-89C6-77284395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4B52-BF91-4CDC-86E9-A7E51F54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B2E2-960C-48F2-A1A7-727EBE32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494C-91F5-4C13-94D3-E598B06C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0155-9ADC-4D2F-8F73-C0A0B21A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72880" y="277920"/>
            <a:ext cx="8599680" cy="76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C589-62ED-4D42-8A6D-3D29F15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4ABC-195E-413D-8889-EC61A1F2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9C9-CB21-4212-8302-91C7012D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BE2E-8EF7-4D69-B528-16197706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BEF5-FBE7-4298-A9FD-899E4AD0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768F-3864-4B59-A63D-8457A4A7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ACEA-5F5E-457E-A6C5-B8B4926C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550-11B2-41A0-BA82-53D6F709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A21-B6EB-46AF-8F93-D2F205A1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7B2-BD9B-44C0-8B5C-A89C3A37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F7F-030D-4ED9-912F-97B7F73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72880" y="277920"/>
            <a:ext cx="8599680" cy="76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104-640C-48FE-87C6-74560CBB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429-7F8F-4E4B-9176-0AB5B819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26E-5EDD-4F97-AB4F-2950914F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070-0509-40D6-843B-28EA3C92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784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57843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9547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ED78-8951-47F5-B50F-DD33B9ADB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de3bd"/>
                </a:gs>
                <a:gs pos="100000">
                  <a:srgbClr val="0099cc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de3bd"/>
                </a:gs>
                <a:gs pos="100000">
                  <a:srgbClr val="0099cc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7843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59A0-37D2-42DF-897B-612B5714D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5479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54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954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547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954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9547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60400" y="3897360"/>
            <a:ext cx="74232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95479"/>
                </a:solidFill>
                <a:latin typeface="Arial"/>
              </a:rPr>
              <a:t>Our Newest Franchise</a:t>
            </a:r>
            <a:endParaRPr b="1" lang="en-US" sz="5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600200" y="137160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957843"/>
                  </a:outerShdw>
                </a:effectLst>
                <a:latin typeface="Impact"/>
              </a:rPr>
              <a:t>Good 4 U - Miami</a:t>
            </a:r>
            <a:endParaRPr b="0" lang="en-US" sz="48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957843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7843"/>
                </a:solidFill>
                <a:latin typeface="Arial"/>
              </a:rPr>
              <a:t>We’re Growing</a:t>
            </a: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62080" y="1981080"/>
          <a:ext cx="681984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1981080"/>
                    <a:ext cx="681984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7843"/>
                </a:solidFill>
                <a:latin typeface="Arial"/>
              </a:rPr>
              <a:t>What We Offer</a:t>
            </a: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Beachfront setting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Patio juice bar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Boardwalk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ame great menu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19:23:02Z</dcterms:created>
  <dc:creator>Pat R. Graves</dc:creator>
  <dc:description/>
  <dc:language>en-US</dc:language>
  <cp:lastModifiedBy>Pat Graves</cp:lastModifiedBy>
  <cp:lastPrinted>1997-06-29T15:56:28Z</cp:lastPrinted>
  <dcterms:modified xsi:type="dcterms:W3CDTF">2004-03-04T05:47:07Z</dcterms:modified>
  <cp:revision>42</cp:revision>
  <dc:subject/>
  <dc:title>Good 4 U New Franchise</dc:title>
</cp:coreProperties>
</file>