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35C-C8D0-4829-8FF3-E1646F9B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7D2-85AD-4BA2-9616-119E980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619-B1FE-40D2-982C-B3A33BA8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1E5C-3662-40AF-9AD2-E9729BDE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8044-F7B3-46FA-9DA1-5097847B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DC0-00DE-488E-A610-0A842056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24E7-223E-4022-B5DE-CC297209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09A4-337A-4CE3-9576-7F01F0C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66CB-789D-4F6B-AF2C-9C76F9A5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747F-4CD1-4DE6-82ED-D98CEF46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D629-B52F-419B-8AA0-67DC1F0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192-A839-46CD-BA50-BFD4E32B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A9CF-F117-4A07-B947-EFDBF64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F62-403E-475A-A7FB-B357CB7C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0B3-3D91-4D06-B4B2-C77C54C5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389-DF01-4AA4-8309-BC283F70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BFE8-0C77-446E-99EE-07AE743D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F63-43CC-4B88-A249-EDAEE80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BCF4-3CCA-4D89-BA68-A701DEDB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682-764D-42F1-8CCD-4D657CA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1C5-90F7-45F4-A898-C507ADF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463-554B-4862-950E-0C02E70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CE1-46DF-4832-82C6-CA1BC4E8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4F4-D013-4A63-8391-E913956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70AB-B28F-43C7-8951-8A6C3B65CE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289080" cy="6858000"/>
            <a:chOff x="0" y="0"/>
            <a:chExt cx="289080" cy="685800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136440" cy="6858000"/>
            </a:xfrm>
            <a:prstGeom prst="rect">
              <a:avLst/>
            </a:prstGeom>
            <a:gradFill rotWithShape="0">
              <a:gsLst>
                <a:gs pos="0">
                  <a:srgbClr val="ce9b89"/>
                </a:gs>
                <a:gs pos="100000">
                  <a:srgbClr val="be7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0"/>
              <a:ext cx="136800" cy="6858000"/>
            </a:xfrm>
            <a:prstGeom prst="rect">
              <a:avLst/>
            </a:prstGeom>
            <a:gradFill rotWithShape="0">
              <a:gsLst>
                <a:gs pos="0">
                  <a:srgbClr val="fe7c5b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6B79-87E0-485C-84F6-E4A1F05CD3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289080" cy="6858000"/>
            <a:chOff x="0" y="0"/>
            <a:chExt cx="289080" cy="685800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6440" cy="6858000"/>
            </a:xfrm>
            <a:prstGeom prst="rect">
              <a:avLst/>
            </a:prstGeom>
            <a:gradFill rotWithShape="0">
              <a:gsLst>
                <a:gs pos="0">
                  <a:srgbClr val="ce9b89"/>
                </a:gs>
                <a:gs pos="100000">
                  <a:srgbClr val="be7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0"/>
              <a:ext cx="136800" cy="6858000"/>
            </a:xfrm>
            <a:prstGeom prst="rect">
              <a:avLst/>
            </a:prstGeom>
            <a:gradFill rotWithShape="0">
              <a:gsLst>
                <a:gs pos="0">
                  <a:srgbClr val="fe7c5b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43400" y="1828800"/>
            <a:ext cx="3886200" cy="3886200"/>
          </a:xfrm>
          <a:prstGeom prst="diamond">
            <a:avLst/>
          </a:prstGeom>
          <a:gradFill rotWithShape="0">
            <a:gsLst>
              <a:gs pos="0">
                <a:srgbClr val="a921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Review of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dvertising Media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72000" y="3487680"/>
            <a:ext cx="1729080" cy="696960"/>
            <a:chOff x="5472000" y="3487680"/>
            <a:chExt cx="1729080" cy="696960"/>
          </a:xfrm>
        </p:grpSpPr>
        <p:sp>
          <p:nvSpPr>
            <p:cNvPr id="97" name=""/>
            <p:cNvSpPr txBox="1"/>
            <p:nvPr/>
          </p:nvSpPr>
          <p:spPr>
            <a:xfrm>
              <a:off x="6719400" y="3753000"/>
              <a:ext cx="4816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93880" y="3598560"/>
              <a:ext cx="623520" cy="586080"/>
              <a:chOff x="6293880" y="3598560"/>
              <a:chExt cx="623520" cy="5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6293880" y="3598560"/>
                <a:ext cx="623520" cy="586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68840" y="3661560"/>
                <a:ext cx="288720" cy="3265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72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 txBox="1"/>
            <p:nvPr/>
          </p:nvSpPr>
          <p:spPr>
            <a:xfrm>
              <a:off x="5472000" y="3487680"/>
              <a:ext cx="1162080" cy="41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opics of Discussi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828800"/>
            <a:ext cx="3048120" cy="1066680"/>
          </a:xfrm>
          <a:prstGeom prst="rightArrow">
            <a:avLst>
              <a:gd name="adj1" fmla="val 59852"/>
              <a:gd name="adj2" fmla="val 71439"/>
            </a:avLst>
          </a:prstGeom>
          <a:gradFill rotWithShape="0">
            <a:gsLst>
              <a:gs pos="0">
                <a:srgbClr val="ae2200"/>
              </a:gs>
              <a:gs pos="50000">
                <a:srgbClr val="ff3300"/>
              </a:gs>
              <a:gs pos="100000">
                <a:srgbClr val="ae2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edia Effectivenes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7680" y="2171520"/>
            <a:ext cx="3968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spap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llow Pa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 ma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ext Step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26920" y="2276280"/>
            <a:ext cx="6740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 effectiveness vs. c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t with account execu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up next year’s media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1676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15238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5238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295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6:19:56Z</dcterms:created>
  <dc:creator>Pat R. Graves</dc:creator>
  <dc:description/>
  <dc:language>en-US</dc:language>
  <cp:lastModifiedBy>Pat Graves</cp:lastModifiedBy>
  <dcterms:modified xsi:type="dcterms:W3CDTF">2004-03-04T06:17:33Z</dcterms:modified>
  <cp:revision>24</cp:revision>
  <dc:subject/>
  <dc:title>Advertising Media</dc:title>
</cp:coreProperties>
</file>