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C0B-9BA3-46F5-B679-9F0B4406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8BD-73C3-41C6-BAA4-0B9F7E9B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09B-8663-47D6-8CE4-50E99D08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B46-8E87-499D-9A11-70752CAD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C1EC-5B76-4EED-8DB4-1E2386A7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76AF-CBA5-4F8A-9C1A-826790D4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567D-AD73-46E5-A7EE-EEDC03D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66E2-D8D2-4895-A1BF-A7E35EB2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6209-C21E-4FF9-962A-8337ACF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D084-0AE8-42F0-B9EC-4180BA1E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5CE8-CE48-4962-B2F3-718F385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5167-FDEA-4ECA-8E89-8A8E5D1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0328-B1DB-4120-9CDF-6267E79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752C-16CD-4DF7-923D-0D1AB70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98A-09A6-4384-AA5E-D2F7644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5DD7-685E-4DEE-AC6E-9EBFD5BCA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A442-C010-446F-9672-60A4B9C3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49C-E7CB-4D15-8D1E-2F79D512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943-8CA0-4F6D-8046-A1198D3C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8F1-018F-469D-960D-12251A9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AEB-5485-4847-B94C-522109C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9DF-663C-4FFA-9CEC-2592277F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E18-EBC5-495B-816B-F9B6C1B9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AAD-A722-44B1-A4C1-9171BDCE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57DD-B354-49CC-9776-225D0614846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976D-7DED-4965-A1A6-E5A87C3CE9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aramond"/>
              </a:rPr>
              <a:t>Good 4 U</a:t>
            </a:r>
            <a:endParaRPr b="0" lang="en-US" sz="5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ood Food and Goo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Sample Menu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4 U Veggie Bur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y Good Shrimp Sal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Fruit Com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e’s Lemon Dill Chic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Our Staff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hele Jenk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s Irvinel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y Olaf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lie Wol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na Suzi Marb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ck War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8920" y="2384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What We Offer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-conscious philoso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-fat menu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od outreach program and health education to the local commun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17680" y="1522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How We Hire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49440" y="1599840"/>
            <a:ext cx="4437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-level managers must have five years of management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fs must have a culinary degree from an accredited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iters and waitresses must have 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73664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10-01T13:10:12Z</cp:lastPrinted>
  <dcterms:modified xsi:type="dcterms:W3CDTF">2004-04-11T20:50:49Z</dcterms:modified>
  <cp:revision>34</cp:revision>
  <dc:subject/>
  <dc:title>Good Food Good Times</dc:title>
</cp:coreProperties>
</file>