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ED6-885D-40E4-8880-774DB390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529-142E-40D9-8CB4-E80F1096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4E3-7503-418C-892C-DCB9E972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FCC-B173-4299-9949-77B51964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BE4A-2ADF-4AD6-9312-AEC43989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3635-9F2A-4069-B0D2-808B1070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2534-9407-499F-8A9E-B925EE85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6E36-C845-4E22-9EE4-91866F1D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686F-2A79-4105-8C65-DEB1AEE2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920D-B940-4D01-A239-1A3FC421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5050-DEC7-41AB-99A3-531D408D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6B6E-7F6D-45E3-A4C8-523D28D1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4C01-AE3A-4184-9009-78BA3428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BA1D-7553-4DAF-8510-CD8E3C14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89F0-A1BD-459C-9418-8F66181B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CD23-CA14-46AA-970D-57FE43F0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D3EE-9144-424D-B82F-91BE9578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B65D-CE97-44DA-8C5E-70F71A60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F45-6513-44F8-A70A-E9154041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BBC8-8613-4CA6-90EE-705B087D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DDA-30A6-4721-9E87-0119D139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C20-E06D-40C7-9194-A8C053A0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F49-EE4D-4773-A336-C2AC5496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7C7-DE90-4F59-B7DE-3179FF1E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3840" y="3348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3960" y="1519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396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185E-2CCE-4CFB-99E4-14D76BA915C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3840" y="3348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1A13-1DEC-4E21-AB84-EBC59B345B3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6640" y="3381480"/>
            <a:ext cx="1932120" cy="3049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4T21:40:09Z</dcterms:created>
  <dc:creator>Pat R. Graves</dc:creator>
  <dc:description/>
  <dc:language>en-US</dc:language>
  <cp:lastModifiedBy>Pat Graves</cp:lastModifiedBy>
  <dcterms:modified xsi:type="dcterms:W3CDTF">2004-03-05T16:44:29Z</dcterms:modified>
  <cp:revision>7</cp:revision>
  <dc:subject/>
  <dc:title>Restaurant Franchise Opportunities</dc:title>
</cp:coreProperties>
</file>