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AE1B-3056-4D1B-AD9E-0DB85AB3A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240" y="1828800"/>
            <a:ext cx="7086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583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240" y="4802040"/>
            <a:ext cx="3583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13DE-1C21-4583-BA3C-F1FF455B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1828800"/>
            <a:ext cx="7086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1748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07600" y="3886200"/>
            <a:ext cx="1748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240" y="4802040"/>
            <a:ext cx="1748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3207600" y="4802040"/>
            <a:ext cx="1748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062C-F289-47B6-A0BD-24FEBF600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1828800"/>
            <a:ext cx="7086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11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2640" y="3886200"/>
            <a:ext cx="11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794400" y="3886200"/>
            <a:ext cx="11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240" y="4802040"/>
            <a:ext cx="11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2582640" y="4802040"/>
            <a:ext cx="11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3794400" y="4802040"/>
            <a:ext cx="11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CBEC-94B0-4DFB-BCDE-0CDE2FE66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D9C8-FBE7-4294-A1AE-F85F933B5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1828800"/>
            <a:ext cx="7086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358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4E53-2E57-4F5D-8059-CFBBCDC5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1828800"/>
            <a:ext cx="7086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583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5FDE-B20E-4674-A04C-821559F6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1828800"/>
            <a:ext cx="7086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1748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07600" y="3886200"/>
            <a:ext cx="1748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650D-470F-4859-997B-C931155B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1828800"/>
            <a:ext cx="7086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67F0-EE6B-453A-9882-12BC604C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371240" y="1828800"/>
            <a:ext cx="7086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21AB-9AC3-48AB-ACB7-8A46AF8F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1828800"/>
            <a:ext cx="7086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1748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07600" y="3886200"/>
            <a:ext cx="1748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371240" y="4802040"/>
            <a:ext cx="1748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7029-E783-4EE0-B130-8538D405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1828800"/>
            <a:ext cx="7086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358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5C5D-D60E-4727-9DA3-277B6B35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1828800"/>
            <a:ext cx="7086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1748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07600" y="3886200"/>
            <a:ext cx="1748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207600" y="4802040"/>
            <a:ext cx="1748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B566-A831-4228-A48D-F499B05A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1828800"/>
            <a:ext cx="7086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1748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07600" y="3886200"/>
            <a:ext cx="1748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371240" y="4802040"/>
            <a:ext cx="3583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819C-00FE-4925-A8D7-6822A5DA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1828800"/>
            <a:ext cx="7086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583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371240" y="4802040"/>
            <a:ext cx="3583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A30F-FD6E-4976-95EA-8D621427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1828800"/>
            <a:ext cx="7086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1748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07600" y="3886200"/>
            <a:ext cx="1748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371240" y="4802040"/>
            <a:ext cx="1748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207600" y="4802040"/>
            <a:ext cx="1748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43958-10AF-4897-8C44-6A0752246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1828800"/>
            <a:ext cx="7086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11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582640" y="3886200"/>
            <a:ext cx="11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794400" y="3886200"/>
            <a:ext cx="11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371240" y="4802040"/>
            <a:ext cx="11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2582640" y="4802040"/>
            <a:ext cx="11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3794400" y="4802040"/>
            <a:ext cx="11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9577-04FB-4F9D-A24F-21B2DA1A1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1828800"/>
            <a:ext cx="7086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3583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825F-3AF9-4168-BC1E-2775D431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1828800"/>
            <a:ext cx="7086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1748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207600" y="3886200"/>
            <a:ext cx="1748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6B8B-63B7-48BC-8527-DAF1EAE9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1828800"/>
            <a:ext cx="7086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06CF-6770-45FC-8236-58C9F99E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371240" y="1828800"/>
            <a:ext cx="7086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BF5A-1873-4417-8B95-E0D8E37A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240" y="1828800"/>
            <a:ext cx="7086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1748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07600" y="3886200"/>
            <a:ext cx="1748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240" y="4802040"/>
            <a:ext cx="1748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94D5-B313-4E5F-957A-272384C8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240" y="1828800"/>
            <a:ext cx="7086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1748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07600" y="3886200"/>
            <a:ext cx="1748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207600" y="4802040"/>
            <a:ext cx="1748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BFCE-D5BB-4E89-8B84-7B3D7FD4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1828800"/>
            <a:ext cx="7086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240" y="3886200"/>
            <a:ext cx="1748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07600" y="3886200"/>
            <a:ext cx="1748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240" y="4802040"/>
            <a:ext cx="3583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EBEB-7170-4127-9CED-69D957AB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8990-EE6E-4DB6-8FFA-5947EF68C2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1828800"/>
            <a:ext cx="7086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04C6-938E-4372-AF8C-BAC5D92B71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543800" y="2743200"/>
            <a:ext cx="1330200" cy="3754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124080" y="2743200"/>
            <a:ext cx="1501920" cy="3656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4876920" y="3352680"/>
            <a:ext cx="1014120" cy="2907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6095880" y="4038480"/>
            <a:ext cx="1041480" cy="15922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1828800"/>
            <a:ext cx="7086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5027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5T15:55:47Z</dcterms:created>
  <dc:creator>Pat R. Graves</dc:creator>
  <dc:description/>
  <dc:language>en-US</dc:language>
  <cp:lastModifiedBy>Pat Graves</cp:lastModifiedBy>
  <dcterms:modified xsi:type="dcterms:W3CDTF">2004-03-05T16:44:34Z</dcterms:modified>
  <cp:revision>5</cp:revision>
  <dc:subject/>
  <dc:title>Fall Festival Marathon</dc:title>
</cp:coreProperties>
</file>