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E7F-2B13-4A9F-A5A3-069B5995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3E5-6779-4B97-B01B-E34EF83D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AAB-C3F1-4BD9-905E-50E898B4A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99E-4071-4AAF-B1DF-781A981D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A86D8-8D4B-4AC3-9C41-BE19E72D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3238D-8233-4AE1-9522-AF26B052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70E5B-B99F-42F3-9EA1-A351D8F5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4878B-0139-4FB9-82F0-C5AD9782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5BC16-804B-40EF-A9E8-6889B683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0D87B-A678-42BB-8686-F754857A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F8843-37D1-4425-BB08-1545DE6F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738-50BF-4FF7-B247-C3D35F8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A3874-D059-4E1E-A8ED-82B66E4F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4DD32-6F3F-4390-9219-7DFA7E57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85852-2340-4698-8032-7AC90DF6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B5F2D-7709-4D88-A4BB-5B43EFF6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18309-74F0-4754-99E0-AED57918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3CB-757D-4288-99C7-A2A3CE72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58F-A8FB-43B4-88B7-E3EF9211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855-04F8-4F3D-BF9B-C379819D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E28-8569-4F1F-9DE2-019735CF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44C-167B-49C2-A072-C7D7EBB9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24A-27AC-4356-AB5D-4C951CAA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289-2450-4AFF-9DE9-241A80F8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801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6801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680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7F66-DBF7-4E22-AACE-AA67DB54F4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81E4-1AAC-4924-B212-38657E67BE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6801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6801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440000" y="2023920"/>
            <a:ext cx="6588000" cy="14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66"/>
                  </a:outerShdw>
                </a:effectLst>
                <a:latin typeface="Impact"/>
              </a:rPr>
              <a:t>Good 4 U-Miami</a:t>
            </a:r>
            <a:endParaRPr b="1" lang="en-US" sz="6000" spc="1" strike="noStrike">
              <a:ln w="1908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10800000"/>
              </a:gradFill>
              <a:effectLst>
                <a:outerShdw dist="71785" dir="2700000" blurRad="0" rotWithShape="0">
                  <a:srgbClr val="00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elcomes Yo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553080" y="4114800"/>
            <a:ext cx="26416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2133720"/>
            <a:ext cx="3656160" cy="36558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bc01"/>
              </a:gs>
              <a:gs pos="100000">
                <a:srgbClr val="ff680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1584360" y="762120"/>
            <a:ext cx="60120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66"/>
                  </a:outerShdw>
                </a:effectLst>
                <a:latin typeface="Impact"/>
              </a:rPr>
              <a:t>The Good 4 U Concept</a:t>
            </a:r>
            <a:endParaRPr b="1" lang="en-US" sz="6000" spc="1" strike="noStrike">
              <a:ln w="1908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10800000"/>
              </a:gradFill>
              <a:effectLst>
                <a:outerShdw dist="71785" dir="2700000" blurRad="0" rotWithShape="0">
                  <a:srgbClr val="000066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16684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health-conscious restaur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2286000"/>
            <a:ext cx="685800" cy="6858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6801"/>
              </a:gs>
              <a:gs pos="100000">
                <a:srgbClr val="ffbc0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66680" y="838080"/>
            <a:ext cx="5722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66"/>
                  </a:outerShdw>
                </a:effectLst>
                <a:latin typeface="Impact"/>
              </a:rPr>
              <a:t>A Unique Setting</a:t>
            </a:r>
            <a:endParaRPr b="1" lang="en-US" sz="6000" spc="1" strike="noStrike">
              <a:ln w="1908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10800000"/>
              </a:gradFill>
              <a:effectLst>
                <a:outerShdw dist="71785" dir="2700000" blurRad="0" rotWithShape="0">
                  <a:srgbClr val="000066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320" y="4038480"/>
            <a:ext cx="7486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ealthy dining in the su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52480" y="2286000"/>
            <a:ext cx="5722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66"/>
                  </a:outerShdw>
                </a:effectLst>
                <a:latin typeface="Impact"/>
              </a:rPr>
              <a:t>Come Visit</a:t>
            </a:r>
            <a:endParaRPr b="1" lang="en-US" sz="6000" spc="1" strike="noStrike">
              <a:ln w="1908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10800000"/>
              </a:gradFill>
              <a:effectLst>
                <a:outerShdw dist="71785" dir="2700000" blurRad="0" rotWithShape="0">
                  <a:srgbClr val="000066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20:46:16Z</dcterms:created>
  <dc:creator>Pat R. Graves</dc:creator>
  <dc:description/>
  <dc:language>en-US</dc:language>
  <cp:lastModifiedBy>Pat Graves</cp:lastModifiedBy>
  <cp:lastPrinted>1997-09-03T23:04:16Z</cp:lastPrinted>
  <dcterms:modified xsi:type="dcterms:W3CDTF">2004-03-04T07:47:06Z</dcterms:modified>
  <cp:revision>25</cp:revision>
  <dc:subject/>
  <dc:title>Welcome</dc:title>
</cp:coreProperties>
</file>