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988-8CF5-4BA3-A7F7-C2D82B5A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666A-6E63-4773-92A3-F217F503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98E-015F-4A55-8B90-594085A3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902-8BC4-45DE-9706-4E460A1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62D-1623-45AB-AA5B-22735F3E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2A20-AA83-4EAC-A890-BCEC75DE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B3F5-78C0-4D77-B572-EFDDC6BD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ABEF-B8B8-4353-958E-BB7FF193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0916-57C4-49FF-9DB0-F34956F7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A6BA-52D7-4E30-99B6-EF2F6BDE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766A-17B7-44E6-8EE9-803C563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807-915D-4518-AEFF-FDAF3EE5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89AB-2DF5-4A26-8F82-16CEC561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3AB-83CF-4466-A765-EB6137F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86EA-33F5-4368-ABFC-08FB6462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D2A7-ED88-41D6-A6BC-C8793EC3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7DAF-470D-471C-8617-FC00814C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17D-69A4-4E83-97D7-E9A03221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C35-F585-4872-8F3A-ECA9D02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39D4-3ED7-42A5-9296-6474E648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C41-D475-4D7D-B8DA-318E3C00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1F3-0774-4E91-8343-4529C1F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976-7F55-4C41-B8B3-795B7F02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7DF-92AB-4041-930C-8348B4D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388-E254-49B7-A650-EFE6F4D317F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8A9-480E-433A-B124-F637FF9E887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New Employee Orientation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istory of Company &amp; Company Vi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ho’s Wh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story of Compa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e intention of Good 4 U is to establish itself as a successful franchi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Good 4 U has been in business for five yea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e food at Good 4 U is low-fat, but not vegetaria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ves</dc:creator>
  <dc:description/>
  <dc:language>en-US</dc:language>
  <cp:lastModifiedBy>Student Name</cp:lastModifiedBy>
  <cp:lastPrinted>1996-12-06T20:40:08Z</cp:lastPrinted>
  <dcterms:modified xsi:type="dcterms:W3CDTF">2004-04-11T20:51:57Z</dcterms:modified>
  <cp:revision>29</cp:revision>
  <dc:subject/>
  <dc:title>New Employee Orientation</dc:title>
</cp:coreProperties>
</file>