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4ED-0BEA-4C53-AE65-89E37707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6DB-3A22-4037-A17E-F6AFA352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59E-42CD-47CD-ABBA-53B17C17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5F2-48A3-4AB7-A799-B22560C8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9C27-6F77-4AF0-8006-8F166A57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2AD8-493C-4803-9032-656BA015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ED10-7999-4DCD-B0B2-097D5DEA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42D3-D333-4DFC-9136-6F1043C1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6D84-361E-42FE-994A-7D2FC48C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7901-319E-4686-803F-9B7171F2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3175-2ECF-4651-A035-B0523060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B64-A2A3-47E8-B710-24686458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8E57-8FA2-44EA-B7E4-494C0CB1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B44B-8C74-4BAE-B0DB-14E3E71B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7032-C013-4836-BA50-4E7A33B3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1F0C-318E-4704-8097-BA76E3DA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40A6-C6AB-456B-B0D4-77A307A2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4EB-333B-42B0-93C4-DAAF124A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C3A-AE1B-4991-AF32-459FA41E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75C-AD83-4709-9B2D-183A612E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8C0-BF5A-406B-8D0E-C743C0B2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6E7-82ED-4EE6-A321-270C7388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DD2-9328-4102-A592-F935E02E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7F5-014B-44A0-B416-262FCB26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A299-7C01-4F74-B5BD-C550DD1CC9A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E5A2-B93E-4701-926A-5397C2B8C4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Franchise Training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ne 5,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Sales Strategy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geting health-conscious individu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ering low-fat menu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t to the local community with employee volunt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151080" y="4648320"/>
          <a:ext cx="2841840" cy="12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4648320"/>
                    <a:ext cx="284184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Annual Predicted Sales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7080" y="2517840"/>
          <a:ext cx="6259680" cy="39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2517840"/>
                    <a:ext cx="625968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Good Food and Good Times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9576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Our Staff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s Irvinelli, Co-Fou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lie Wolfe, Co-Fou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Olafsen, Marketing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hele Jenkins, Head Che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uck Warden, MIS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a Suzi Marabella, Training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Pat Graves</cp:lastModifiedBy>
  <cp:lastPrinted>1997-06-23T15:37:06Z</cp:lastPrinted>
  <dcterms:modified xsi:type="dcterms:W3CDTF">2004-03-08T06:28:37Z</dcterms:modified>
  <cp:revision>42</cp:revision>
  <dc:subject/>
  <dc:title>Good 4 U Franchise Training</dc:title>
</cp:coreProperties>
</file>