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DC8-9B32-465F-8132-B57772E8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996-E740-45EB-BEFB-06D1BA31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B0D-114B-430D-A037-85C2EB47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677-CFE5-45B8-B5AB-147F8D8E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31D7-7538-482D-8AB3-6CD1CC88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400-C239-44EB-AE61-DFB9879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EC34-F8B1-4092-B730-B254159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1604-CB99-4486-8D99-401C5BCC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39C-251A-4633-BFD7-A96D519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2720" y="380520"/>
            <a:ext cx="791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CB8F-86EC-41F3-9A0A-65E12D0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EFA-6CF3-4274-A6E0-3192903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A84-94F2-4F4B-8C9A-9AC00EA1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22D2-A480-45D1-87BC-3F27603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C6BF-FD4C-499C-8943-A07CBEC0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127-A94A-4D65-B804-8F75C15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4A75-7185-4F35-86B5-7FD006FA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4E1-7CCB-4C95-AFC7-4F79E2A6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AF5-1A99-4A78-8C44-3322B9E1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C4E-1FC5-4D7A-B971-1D27D817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8D2-4725-460A-AD51-DE339DEF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2720" y="380520"/>
            <a:ext cx="791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6FE-9548-4949-9F50-0BAD626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B13-79C2-46A2-A3B4-B8022BAD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B6F-56BD-4337-9158-5D33C73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893-3F26-45E9-B9E3-6713B7F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241200"/>
            <a:ext cx="8813520" cy="6319800"/>
          </a:xfrm>
          <a:prstGeom prst="rect">
            <a:avLst/>
          </a:prstGeom>
          <a:noFill/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EC5-975F-426B-A54F-D24B2DE82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65000"/>
              <a:buFont typeface="Monotype Sort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40040" y="1219320"/>
            <a:ext cx="1663920" cy="1158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5240" y="1778040"/>
            <a:ext cx="8813520" cy="2336760"/>
          </a:xfrm>
          <a:prstGeom prst="rect">
            <a:avLst/>
          </a:prstGeom>
          <a:noFill/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508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4CBA-4969-4925-A220-6D6BEEB99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03200" y="380880"/>
            <a:ext cx="2943360" cy="205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i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65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Arial Narrow"/>
              </a:rPr>
              <a:t>Lunch Specials</a:t>
            </a:r>
            <a:endParaRPr b="1" i="1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479760" y="2130480"/>
            <a:ext cx="2285640" cy="922320"/>
            <a:chOff x="3479760" y="2130480"/>
            <a:chExt cx="2285640" cy="922320"/>
          </a:xfrm>
        </p:grpSpPr>
        <p:sp>
          <p:nvSpPr>
            <p:cNvPr id="88" name=""/>
            <p:cNvSpPr txBox="1"/>
            <p:nvPr/>
          </p:nvSpPr>
          <p:spPr>
            <a:xfrm>
              <a:off x="5128560" y="248148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66600" y="2277000"/>
              <a:ext cx="824040" cy="775440"/>
              <a:chOff x="4566600" y="2277000"/>
              <a:chExt cx="824040" cy="775440"/>
            </a:xfrm>
          </p:grpSpPr>
          <p:sp>
            <p:nvSpPr>
              <p:cNvPr id="90" name=""/>
              <p:cNvSpPr/>
              <p:nvPr/>
            </p:nvSpPr>
            <p:spPr>
              <a:xfrm>
                <a:off x="4566600" y="227700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98080" y="236052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de3b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479760" y="213048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Appetizer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5760" y="25131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ffed Spinach B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read overstuffed with fresh spinach and feta cheese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nch Breadstic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5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Breadsticks loaded with poppy seeds and sesame seed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131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kes and Yogurt Sp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reamy spread served with your choice of whole-grain bread or cracker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getable Stuffed B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6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read overstuffed with sun-dried tomatoes, asparagus, and broccoli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Side Dish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lled Cucumber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ool crisp salad with fresh dill and lemon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ld Fashioned Cornbre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Thick and moist with whole corn kernel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atmeal Soda Bre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uttermilk bread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060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vory Wild Rice Sou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ild rice soup flavored with chestnut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n and Chili Relis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onderful side to add to one of our salad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 Bean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Legumes marinated in balsamic vinegar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Lunch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mus Pita Pocke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wheat pita pocket filled with hummus and fresh veggies, seasoned with herbs and spice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ack Bean Chili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Savory vegetarian chili of black beans and diced vegetables, served in a hollowed-out sourdough loaf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3920" y="25131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icken with Pec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hunky chicken served over a bed of wild rice, sprinkled with pecans and sliced peache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sh Fruit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A refreshing and colorful blend of seasonal fruit, served with a creamy yogurt topping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4:01:28Z</dcterms:created>
  <dc:creator>Pat R. Graves</dc:creator>
  <dc:description/>
  <dc:language>en-US</dc:language>
  <cp:lastModifiedBy>Pat Graves</cp:lastModifiedBy>
  <cp:lastPrinted>1997-05-06T16:24:06Z</cp:lastPrinted>
  <dcterms:modified xsi:type="dcterms:W3CDTF">2004-03-08T16:04:39Z</dcterms:modified>
  <cp:revision>63</cp:revision>
  <dc:subject/>
  <dc:title>Lunch Specials</dc:title>
</cp:coreProperties>
</file>