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DF5E-2555-4AB7-AEAE-D1437D320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2f2f2"/>
              </a:solidFill>
              <a:latin typeface="Arial Rounded MT 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04840" y="922680"/>
            <a:ext cx="6934320" cy="27756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411480" bIns="4114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104840" y="3962520"/>
            <a:ext cx="6934320" cy="27756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411480" bIns="4114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F26F-98BC-40D6-815F-1AA0534CC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2f2f2"/>
              </a:solidFill>
              <a:latin typeface="Arial Rounded MT Bol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04840" y="922680"/>
            <a:ext cx="3383640" cy="27756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411480" bIns="4114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58040" y="922680"/>
            <a:ext cx="3383640" cy="27756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411480" bIns="4114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104840" y="3962520"/>
            <a:ext cx="3383640" cy="27756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411480" bIns="4114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58040" y="3962520"/>
            <a:ext cx="3383640" cy="27756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411480" bIns="4114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3879-7146-4637-BE23-4D91699D9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2f2f2"/>
              </a:solidFill>
              <a:latin typeface="Arial Rounded MT Bol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04840" y="922680"/>
            <a:ext cx="2232720" cy="27756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411480" bIns="4114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449520" y="922680"/>
            <a:ext cx="2232720" cy="27756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411480" bIns="4114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794200" y="922680"/>
            <a:ext cx="2232720" cy="27756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411480" bIns="4114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104840" y="3962520"/>
            <a:ext cx="2232720" cy="27756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411480" bIns="4114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449520" y="3962520"/>
            <a:ext cx="2232720" cy="27756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411480" bIns="4114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794200" y="3962520"/>
            <a:ext cx="2232720" cy="27756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411480" bIns="4114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EC3A-B520-46EB-9068-CD2033B75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74820-59FD-4F80-B943-7338016A5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2f2f2"/>
              </a:solidFill>
              <a:latin typeface="Arial Rounded MT Bol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104840" y="922680"/>
            <a:ext cx="6934320" cy="58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D2DEF-397C-47FF-9E98-ED39461CC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2f2f2"/>
              </a:solidFill>
              <a:latin typeface="Arial Rounded MT Bol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04840" y="922680"/>
            <a:ext cx="6934320" cy="58194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411480" bIns="4114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60D89-CDF3-403A-8541-DE3090AE4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2f2f2"/>
              </a:solidFill>
              <a:latin typeface="Arial Rounded MT Bol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04840" y="922680"/>
            <a:ext cx="3383640" cy="58194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411480" bIns="4114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58040" y="922680"/>
            <a:ext cx="3383640" cy="58194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411480" bIns="4114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AC6B5-A095-4942-BA3A-F08FB242C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2f2f2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F2DBD-F83A-4F5D-97F2-7A6362E6A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79449-B73C-4900-A9B5-CF1870040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2f2f2"/>
              </a:solidFill>
              <a:latin typeface="Arial Rounded MT Bol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04840" y="922680"/>
            <a:ext cx="3383640" cy="27756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411480" bIns="4114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8040" y="922680"/>
            <a:ext cx="3383640" cy="58194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411480" bIns="4114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04840" y="3962520"/>
            <a:ext cx="3383640" cy="27756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411480" bIns="4114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BFCD3-23ED-4F18-B812-F696A3AF3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2f2f2"/>
              </a:solidFill>
              <a:latin typeface="Arial Rounded MT Bol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104840" y="922680"/>
            <a:ext cx="6934320" cy="58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E79C-F5EB-42EC-BF02-90A64F65D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2f2f2"/>
              </a:solidFill>
              <a:latin typeface="Arial Rounded MT Bol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04840" y="922680"/>
            <a:ext cx="3383640" cy="58194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411480" bIns="4114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8040" y="922680"/>
            <a:ext cx="3383640" cy="27756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411480" bIns="4114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58040" y="3962520"/>
            <a:ext cx="3383640" cy="27756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411480" bIns="4114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5FB7F-CBFC-4B9F-AFD4-A8C0EFBBB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2f2f2"/>
              </a:solidFill>
              <a:latin typeface="Arial Rounded MT Bol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04840" y="922680"/>
            <a:ext cx="3383640" cy="27756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411480" bIns="4114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8040" y="922680"/>
            <a:ext cx="3383640" cy="27756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411480" bIns="4114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104840" y="3962520"/>
            <a:ext cx="6934320" cy="27756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411480" bIns="4114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87C25-3C8A-4F22-A6D6-BD49CA59F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2f2f2"/>
              </a:solidFill>
              <a:latin typeface="Arial Rounded MT Bol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04840" y="922680"/>
            <a:ext cx="6934320" cy="27756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411480" bIns="4114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104840" y="3962520"/>
            <a:ext cx="6934320" cy="27756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411480" bIns="4114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EB12D-695A-4146-B92A-028CBE737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2f2f2"/>
              </a:solidFill>
              <a:latin typeface="Arial Rounded MT Bol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04840" y="922680"/>
            <a:ext cx="3383640" cy="27756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411480" bIns="4114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58040" y="922680"/>
            <a:ext cx="3383640" cy="27756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411480" bIns="4114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104840" y="3962520"/>
            <a:ext cx="3383640" cy="27756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411480" bIns="4114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58040" y="3962520"/>
            <a:ext cx="3383640" cy="27756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411480" bIns="4114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392CF-2328-453D-9CF6-082731E4B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2f2f2"/>
              </a:solidFill>
              <a:latin typeface="Arial Rounded MT Bol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04840" y="922680"/>
            <a:ext cx="2232720" cy="27756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411480" bIns="4114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449520" y="922680"/>
            <a:ext cx="2232720" cy="27756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411480" bIns="4114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794200" y="922680"/>
            <a:ext cx="2232720" cy="27756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411480" bIns="4114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104840" y="3962520"/>
            <a:ext cx="2232720" cy="27756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411480" bIns="4114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449520" y="3962520"/>
            <a:ext cx="2232720" cy="27756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411480" bIns="4114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794200" y="3962520"/>
            <a:ext cx="2232720" cy="27756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411480" bIns="4114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F6E6C-9422-4021-99C9-ABA5364D4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2f2f2"/>
              </a:solidFill>
              <a:latin typeface="Arial Rounded MT Bol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04840" y="922680"/>
            <a:ext cx="6934320" cy="58194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411480" bIns="4114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53A9-5E08-4B6F-B26C-C073A3A4A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2f2f2"/>
              </a:solidFill>
              <a:latin typeface="Arial Rounded MT Bol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04840" y="922680"/>
            <a:ext cx="3383640" cy="58194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411480" bIns="4114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8040" y="922680"/>
            <a:ext cx="3383640" cy="58194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411480" bIns="4114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3BF3-6287-48AD-9339-1FCE56662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2f2f2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61FA-20F9-47C7-8207-7DF0140BB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1A40-627E-470D-A387-A9CC60CC6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2f2f2"/>
              </a:solidFill>
              <a:latin typeface="Arial Rounded MT 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04840" y="922680"/>
            <a:ext cx="3383640" cy="27756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411480" bIns="4114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58040" y="922680"/>
            <a:ext cx="3383640" cy="58194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411480" bIns="4114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04840" y="3962520"/>
            <a:ext cx="3383640" cy="27756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411480" bIns="4114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C547-07D2-43BE-8E9A-F3461B6AE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2f2f2"/>
              </a:solidFill>
              <a:latin typeface="Arial Rounded MT 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04840" y="922680"/>
            <a:ext cx="3383640" cy="58194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411480" bIns="4114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58040" y="922680"/>
            <a:ext cx="3383640" cy="27756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411480" bIns="4114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58040" y="3962520"/>
            <a:ext cx="3383640" cy="27756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411480" bIns="4114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496E-72BA-410A-B089-06FDB3402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2f2f2"/>
              </a:solidFill>
              <a:latin typeface="Arial Rounded MT Bol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04840" y="922680"/>
            <a:ext cx="3383640" cy="27756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411480" bIns="4114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8040" y="922680"/>
            <a:ext cx="3383640" cy="27756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411480" bIns="4114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04840" y="3962520"/>
            <a:ext cx="6934320" cy="27756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411480" bIns="4114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F303-B2B9-4FD8-BBC6-BB6F48472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ad74"/>
            </a:gs>
            <a:gs pos="100000">
              <a:srgbClr val="e2dd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000000"/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2f2f2"/>
                </a:solidFill>
                <a:latin typeface="Arial Rounded MT Bold"/>
              </a:rPr>
              <a:t>Click to edit the title text format</a:t>
            </a:r>
            <a:endParaRPr b="1" lang="en-US" sz="6000" spc="-1" strike="noStrike">
              <a:solidFill>
                <a:srgbClr val="f2f2f2"/>
              </a:solidFill>
              <a:latin typeface="Arial Rounded MT 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4C4DF-E9E4-46D3-9D7E-B8FDD39C10B4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1104840" y="922680"/>
            <a:ext cx="6934320" cy="5819400"/>
          </a:xfrm>
          <a:prstGeom prst="rect">
            <a:avLst/>
          </a:prstGeom>
          <a:solidFill>
            <a:srgbClr val="898555"/>
          </a:solidFill>
          <a:ln cap="sq" w="38160">
            <a:solidFill>
              <a:srgbClr val="000000"/>
            </a:solidFill>
            <a:miter/>
          </a:ln>
        </p:spPr>
        <p:txBody>
          <a:bodyPr lIns="365760" rIns="365760" tIns="411480" bIns="411480" anchor="ctr" anchorCtr="1">
            <a:normAutofit/>
          </a:bodyPr>
          <a:p>
            <a:pPr marL="343080" indent="-343080">
              <a:spcBef>
                <a:spcPts val="799"/>
              </a:spcBef>
              <a:buClr>
                <a:srgbClr val="a4603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4" marL="2057400" indent="-228600">
              <a:spcBef>
                <a:spcPts val="799"/>
              </a:spcBef>
              <a:buClr>
                <a:srgbClr val="898555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6723000" y="5829480"/>
            <a:ext cx="2136960" cy="863280"/>
            <a:chOff x="6723000" y="5829480"/>
            <a:chExt cx="2136960" cy="863280"/>
          </a:xfrm>
        </p:grpSpPr>
        <p:sp>
          <p:nvSpPr>
            <p:cNvPr id="6" name=""/>
            <p:cNvSpPr txBox="1"/>
            <p:nvPr/>
          </p:nvSpPr>
          <p:spPr>
            <a:xfrm>
              <a:off x="8264520" y="6158160"/>
              <a:ext cx="595440" cy="534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a50021"/>
                  </a:solidFill>
                  <a:latin typeface="Georgia"/>
                </a:rPr>
                <a:t>U</a:t>
              </a:r>
              <a:endParaRPr b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Georgia"/>
                <a:ea typeface="Georgia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7738920" y="5966640"/>
              <a:ext cx="770400" cy="726120"/>
              <a:chOff x="7738920" y="5966640"/>
              <a:chExt cx="770400" cy="726120"/>
            </a:xfrm>
          </p:grpSpPr>
          <p:sp>
            <p:nvSpPr>
              <p:cNvPr id="8" name=""/>
              <p:cNvSpPr/>
              <p:nvPr/>
            </p:nvSpPr>
            <p:spPr>
              <a:xfrm>
                <a:off x="7738920" y="5966640"/>
                <a:ext cx="770400" cy="726120"/>
              </a:xfrm>
              <a:custGeom>
                <a:avLst/>
                <a:gdLst/>
                <a:ahLst/>
                <a:rect l="l" t="t" r="r" b="b"/>
                <a:pathLst>
                  <a:path w="4828" h="4550">
                    <a:moveTo>
                      <a:pt x="4828" y="2723"/>
                    </a:moveTo>
                    <a:lnTo>
                      <a:pt x="4201" y="3603"/>
                    </a:lnTo>
                    <a:lnTo>
                      <a:pt x="3436" y="3615"/>
                    </a:lnTo>
                    <a:lnTo>
                      <a:pt x="3348" y="3906"/>
                    </a:lnTo>
                    <a:lnTo>
                      <a:pt x="3348" y="3906"/>
                    </a:lnTo>
                    <a:lnTo>
                      <a:pt x="3297" y="4190"/>
                    </a:lnTo>
                    <a:lnTo>
                      <a:pt x="3339" y="4397"/>
                    </a:lnTo>
                    <a:lnTo>
                      <a:pt x="3473" y="4521"/>
                    </a:lnTo>
                    <a:lnTo>
                      <a:pt x="3473" y="4521"/>
                    </a:lnTo>
                    <a:lnTo>
                      <a:pt x="3347" y="4550"/>
                    </a:lnTo>
                    <a:lnTo>
                      <a:pt x="1983" y="4550"/>
                    </a:lnTo>
                    <a:lnTo>
                      <a:pt x="2008" y="4521"/>
                    </a:lnTo>
                    <a:lnTo>
                      <a:pt x="2008" y="4521"/>
                    </a:lnTo>
                    <a:lnTo>
                      <a:pt x="2135" y="4474"/>
                    </a:lnTo>
                    <a:lnTo>
                      <a:pt x="2239" y="4417"/>
                    </a:lnTo>
                    <a:lnTo>
                      <a:pt x="2321" y="4352"/>
                    </a:lnTo>
                    <a:lnTo>
                      <a:pt x="2321" y="4352"/>
                    </a:lnTo>
                    <a:lnTo>
                      <a:pt x="2388" y="4271"/>
                    </a:lnTo>
                    <a:lnTo>
                      <a:pt x="2443" y="4169"/>
                    </a:lnTo>
                    <a:lnTo>
                      <a:pt x="2488" y="4043"/>
                    </a:lnTo>
                    <a:lnTo>
                      <a:pt x="2488" y="4043"/>
                    </a:lnTo>
                    <a:lnTo>
                      <a:pt x="2618" y="3615"/>
                    </a:lnTo>
                    <a:lnTo>
                      <a:pt x="0" y="3615"/>
                    </a:lnTo>
                    <a:lnTo>
                      <a:pt x="3299" y="0"/>
                    </a:lnTo>
                    <a:lnTo>
                      <a:pt x="4584" y="0"/>
                    </a:lnTo>
                    <a:lnTo>
                      <a:pt x="3654" y="3013"/>
                    </a:lnTo>
                    <a:lnTo>
                      <a:pt x="3654" y="3013"/>
                    </a:lnTo>
                    <a:lnTo>
                      <a:pt x="3835" y="3006"/>
                    </a:lnTo>
                    <a:lnTo>
                      <a:pt x="4061" y="2987"/>
                    </a:lnTo>
                    <a:lnTo>
                      <a:pt x="4238" y="2962"/>
                    </a:lnTo>
                    <a:lnTo>
                      <a:pt x="4238" y="2962"/>
                    </a:lnTo>
                    <a:lnTo>
                      <a:pt x="4439" y="2907"/>
                    </a:lnTo>
                    <a:lnTo>
                      <a:pt x="4636" y="2828"/>
                    </a:lnTo>
                    <a:lnTo>
                      <a:pt x="4828" y="2723"/>
                    </a:lnTo>
                    <a:lnTo>
                      <a:pt x="4828" y="2723"/>
                    </a:lnTo>
                  </a:path>
                </a:pathLst>
              </a:custGeom>
              <a:solidFill>
                <a:srgbClr val="ffcc66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955280" y="6044760"/>
                <a:ext cx="356760" cy="404640"/>
              </a:xfrm>
              <a:custGeom>
                <a:avLst/>
                <a:gdLst/>
                <a:ahLst/>
                <a:rect l="l" t="t" r="r" b="b"/>
                <a:pathLst>
                  <a:path w="2243" h="2533">
                    <a:moveTo>
                      <a:pt x="1481" y="2533"/>
                    </a:moveTo>
                    <a:lnTo>
                      <a:pt x="2243" y="0"/>
                    </a:lnTo>
                    <a:lnTo>
                      <a:pt x="0" y="2525"/>
                    </a:lnTo>
                    <a:lnTo>
                      <a:pt x="0" y="2525"/>
                    </a:lnTo>
                    <a:lnTo>
                      <a:pt x="203" y="2526"/>
                    </a:lnTo>
                    <a:lnTo>
                      <a:pt x="404" y="2526"/>
                    </a:lnTo>
                    <a:lnTo>
                      <a:pt x="606" y="2527"/>
                    </a:lnTo>
                    <a:lnTo>
                      <a:pt x="606" y="2527"/>
                    </a:lnTo>
                    <a:lnTo>
                      <a:pt x="798" y="2528"/>
                    </a:lnTo>
                    <a:lnTo>
                      <a:pt x="971" y="2529"/>
                    </a:lnTo>
                    <a:lnTo>
                      <a:pt x="1126" y="2531"/>
                    </a:lnTo>
                    <a:lnTo>
                      <a:pt x="1126" y="2531"/>
                    </a:lnTo>
                    <a:lnTo>
                      <a:pt x="1262" y="2532"/>
                    </a:lnTo>
                    <a:lnTo>
                      <a:pt x="1380" y="2533"/>
                    </a:lnTo>
                    <a:lnTo>
                      <a:pt x="1481" y="2533"/>
                    </a:lnTo>
                    <a:lnTo>
                      <a:pt x="1481" y="2533"/>
                    </a:lnTo>
                  </a:path>
                </a:pathLst>
              </a:custGeom>
              <a:solidFill>
                <a:srgbClr val="e2ddd4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" name=""/>
            <p:cNvSpPr txBox="1"/>
            <p:nvPr/>
          </p:nvSpPr>
          <p:spPr>
            <a:xfrm>
              <a:off x="6723000" y="5829480"/>
              <a:ext cx="1436400" cy="512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7e"/>
                  </a:solidFill>
                  <a:latin typeface="Georgia"/>
                </a:rPr>
                <a:t>Good</a:t>
              </a:r>
              <a:endPara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7e"/>
                </a:solidFill>
                <a:latin typeface="Georgia"/>
                <a:ea typeface="Georgi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ad74"/>
            </a:gs>
            <a:gs pos="100000">
              <a:srgbClr val="e2dd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737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2f2f2"/>
                </a:solidFill>
                <a:latin typeface="Arial Rounded MT Bold"/>
              </a:rPr>
              <a:t>Click to edit the title text format</a:t>
            </a:r>
            <a:endParaRPr b="1" lang="en-US" sz="7200" spc="-1" strike="noStrike">
              <a:solidFill>
                <a:srgbClr val="f2f2f2"/>
              </a:solidFill>
              <a:latin typeface="Arial Rounded MT Bol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3BCD5-98C5-4604-81EE-D7FFFB3D84E2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45252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905040" algn="ctr"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lvl="3" marL="1357560" algn="ctr">
              <a:spcBef>
                <a:spcPts val="601"/>
              </a:spcBef>
              <a:buClr>
                <a:srgbClr val="000000"/>
              </a:buClr>
              <a:buFont typeface="Arial Rounded MT Bol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lvl="4" marL="1810440" algn="ctr">
              <a:spcBef>
                <a:spcPts val="601"/>
              </a:spcBef>
              <a:buClr>
                <a:srgbClr val="898555"/>
              </a:buClr>
              <a:buFont typeface="Arial Rounded MT Bold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lvl="5" marL="1810440"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lvl="6" marL="1810440"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ad74"/>
            </a:gs>
            <a:gs pos="100000">
              <a:srgbClr val="e2dd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737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2f2f2"/>
                </a:solidFill>
                <a:latin typeface="Arial Rounded MT Bold"/>
              </a:rPr>
              <a:t>Nutrition Seminar </a:t>
            </a:r>
            <a:endParaRPr b="1" lang="en-US" sz="6600" spc="-1" strike="noStrike">
              <a:solidFill>
                <a:srgbClr val="f2f2f2"/>
              </a:solidFill>
              <a:latin typeface="Arial Rounded MT Bol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676520" y="3367080"/>
            <a:ext cx="5790960" cy="2424240"/>
          </a:xfrm>
          <a:prstGeom prst="rect">
            <a:avLst/>
          </a:prstGeom>
          <a:solidFill>
            <a:srgbClr val="e2ddd4"/>
          </a:solidFill>
          <a:ln cap="sq" w="190440">
            <a:solidFill>
              <a:srgbClr val="898555"/>
            </a:solidFill>
            <a:miter/>
          </a:ln>
        </p:spPr>
        <p:txBody>
          <a:bodyPr lIns="365760" rIns="365760" tIns="411480" bIns="411480" anchor="t" anchorCtr="1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 Rounded MT Bold"/>
              </a:rPr>
              <a:t>Sponsored by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3430440" y="4495680"/>
            <a:ext cx="2285640" cy="922320"/>
            <a:chOff x="3430440" y="4495680"/>
            <a:chExt cx="2285640" cy="922320"/>
          </a:xfrm>
        </p:grpSpPr>
        <p:sp>
          <p:nvSpPr>
            <p:cNvPr id="91" name=""/>
            <p:cNvSpPr txBox="1"/>
            <p:nvPr/>
          </p:nvSpPr>
          <p:spPr>
            <a:xfrm>
              <a:off x="5079240" y="4846680"/>
              <a:ext cx="636840" cy="571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a50021"/>
                  </a:solidFill>
                  <a:latin typeface="Georgia"/>
                </a:rPr>
                <a:t>U</a:t>
              </a:r>
              <a:endParaRPr b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Georgia"/>
                <a:ea typeface="Georgia"/>
              </a:endParaRPr>
            </a:p>
          </p:txBody>
        </p:sp>
        <p:grpSp>
          <p:nvGrpSpPr>
            <p:cNvPr id="92" name=""/>
            <p:cNvGrpSpPr/>
            <p:nvPr/>
          </p:nvGrpSpPr>
          <p:grpSpPr>
            <a:xfrm>
              <a:off x="4517280" y="4642200"/>
              <a:ext cx="824040" cy="775440"/>
              <a:chOff x="4517280" y="4642200"/>
              <a:chExt cx="824040" cy="775440"/>
            </a:xfrm>
          </p:grpSpPr>
          <p:sp>
            <p:nvSpPr>
              <p:cNvPr id="93" name=""/>
              <p:cNvSpPr/>
              <p:nvPr/>
            </p:nvSpPr>
            <p:spPr>
              <a:xfrm>
                <a:off x="4517280" y="4642200"/>
                <a:ext cx="824040" cy="775440"/>
              </a:xfrm>
              <a:custGeom>
                <a:avLst/>
                <a:gdLst/>
                <a:ahLst/>
                <a:rect l="l" t="t" r="r" b="b"/>
                <a:pathLst>
                  <a:path w="4828" h="4550">
                    <a:moveTo>
                      <a:pt x="4828" y="2723"/>
                    </a:moveTo>
                    <a:lnTo>
                      <a:pt x="4201" y="3603"/>
                    </a:lnTo>
                    <a:lnTo>
                      <a:pt x="3436" y="3615"/>
                    </a:lnTo>
                    <a:lnTo>
                      <a:pt x="3348" y="3906"/>
                    </a:lnTo>
                    <a:lnTo>
                      <a:pt x="3348" y="3906"/>
                    </a:lnTo>
                    <a:lnTo>
                      <a:pt x="3297" y="4190"/>
                    </a:lnTo>
                    <a:lnTo>
                      <a:pt x="3339" y="4397"/>
                    </a:lnTo>
                    <a:lnTo>
                      <a:pt x="3473" y="4521"/>
                    </a:lnTo>
                    <a:lnTo>
                      <a:pt x="3473" y="4521"/>
                    </a:lnTo>
                    <a:lnTo>
                      <a:pt x="3347" y="4550"/>
                    </a:lnTo>
                    <a:lnTo>
                      <a:pt x="1983" y="4550"/>
                    </a:lnTo>
                    <a:lnTo>
                      <a:pt x="2008" y="4521"/>
                    </a:lnTo>
                    <a:lnTo>
                      <a:pt x="2008" y="4521"/>
                    </a:lnTo>
                    <a:lnTo>
                      <a:pt x="2135" y="4474"/>
                    </a:lnTo>
                    <a:lnTo>
                      <a:pt x="2239" y="4417"/>
                    </a:lnTo>
                    <a:lnTo>
                      <a:pt x="2321" y="4352"/>
                    </a:lnTo>
                    <a:lnTo>
                      <a:pt x="2321" y="4352"/>
                    </a:lnTo>
                    <a:lnTo>
                      <a:pt x="2388" y="4271"/>
                    </a:lnTo>
                    <a:lnTo>
                      <a:pt x="2443" y="4169"/>
                    </a:lnTo>
                    <a:lnTo>
                      <a:pt x="2488" y="4043"/>
                    </a:lnTo>
                    <a:lnTo>
                      <a:pt x="2488" y="4043"/>
                    </a:lnTo>
                    <a:lnTo>
                      <a:pt x="2618" y="3615"/>
                    </a:lnTo>
                    <a:lnTo>
                      <a:pt x="0" y="3615"/>
                    </a:lnTo>
                    <a:lnTo>
                      <a:pt x="3299" y="0"/>
                    </a:lnTo>
                    <a:lnTo>
                      <a:pt x="4584" y="0"/>
                    </a:lnTo>
                    <a:lnTo>
                      <a:pt x="3654" y="3013"/>
                    </a:lnTo>
                    <a:lnTo>
                      <a:pt x="3654" y="3013"/>
                    </a:lnTo>
                    <a:lnTo>
                      <a:pt x="3835" y="3006"/>
                    </a:lnTo>
                    <a:lnTo>
                      <a:pt x="4061" y="2987"/>
                    </a:lnTo>
                    <a:lnTo>
                      <a:pt x="4238" y="2962"/>
                    </a:lnTo>
                    <a:lnTo>
                      <a:pt x="4238" y="2962"/>
                    </a:lnTo>
                    <a:lnTo>
                      <a:pt x="4439" y="2907"/>
                    </a:lnTo>
                    <a:lnTo>
                      <a:pt x="4636" y="2828"/>
                    </a:lnTo>
                    <a:lnTo>
                      <a:pt x="4828" y="2723"/>
                    </a:lnTo>
                    <a:lnTo>
                      <a:pt x="4828" y="2723"/>
                    </a:lnTo>
                  </a:path>
                </a:pathLst>
              </a:custGeom>
              <a:solidFill>
                <a:srgbClr val="ffcc66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4748760" y="4725720"/>
                <a:ext cx="381600" cy="432000"/>
              </a:xfrm>
              <a:custGeom>
                <a:avLst/>
                <a:gdLst/>
                <a:ahLst/>
                <a:rect l="l" t="t" r="r" b="b"/>
                <a:pathLst>
                  <a:path w="2243" h="2533">
                    <a:moveTo>
                      <a:pt x="1481" y="2533"/>
                    </a:moveTo>
                    <a:lnTo>
                      <a:pt x="2243" y="0"/>
                    </a:lnTo>
                    <a:lnTo>
                      <a:pt x="0" y="2525"/>
                    </a:lnTo>
                    <a:lnTo>
                      <a:pt x="0" y="2525"/>
                    </a:lnTo>
                    <a:lnTo>
                      <a:pt x="203" y="2526"/>
                    </a:lnTo>
                    <a:lnTo>
                      <a:pt x="404" y="2526"/>
                    </a:lnTo>
                    <a:lnTo>
                      <a:pt x="606" y="2527"/>
                    </a:lnTo>
                    <a:lnTo>
                      <a:pt x="606" y="2527"/>
                    </a:lnTo>
                    <a:lnTo>
                      <a:pt x="798" y="2528"/>
                    </a:lnTo>
                    <a:lnTo>
                      <a:pt x="971" y="2529"/>
                    </a:lnTo>
                    <a:lnTo>
                      <a:pt x="1126" y="2531"/>
                    </a:lnTo>
                    <a:lnTo>
                      <a:pt x="1126" y="2531"/>
                    </a:lnTo>
                    <a:lnTo>
                      <a:pt x="1262" y="2532"/>
                    </a:lnTo>
                    <a:lnTo>
                      <a:pt x="1380" y="2533"/>
                    </a:lnTo>
                    <a:lnTo>
                      <a:pt x="1481" y="2533"/>
                    </a:lnTo>
                    <a:lnTo>
                      <a:pt x="1481" y="2533"/>
                    </a:lnTo>
                  </a:path>
                </a:pathLst>
              </a:custGeom>
              <a:solidFill>
                <a:srgbClr val="e2ddd4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" name=""/>
            <p:cNvSpPr txBox="1"/>
            <p:nvPr/>
          </p:nvSpPr>
          <p:spPr>
            <a:xfrm>
              <a:off x="3430440" y="4495680"/>
              <a:ext cx="1536480" cy="547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7e"/>
                  </a:solidFill>
                  <a:latin typeface="Georgia"/>
                </a:rPr>
                <a:t>Good</a:t>
              </a:r>
              <a:endPara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7e"/>
                </a:solidFill>
                <a:latin typeface="Georgia"/>
                <a:ea typeface="Georgi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ad74"/>
            </a:gs>
            <a:gs pos="100000">
              <a:srgbClr val="e2dd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000000"/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2f2f2"/>
                </a:solidFill>
                <a:latin typeface="Arial Rounded MT Bold"/>
              </a:rPr>
              <a:t>Who Should Attend</a:t>
            </a:r>
            <a:endParaRPr b="1" lang="en-US" sz="6000" spc="-1" strike="noStrike">
              <a:solidFill>
                <a:srgbClr val="f2f2f2"/>
              </a:solidFill>
              <a:latin typeface="Arial Rounded MT Bol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04840" y="1965240"/>
            <a:ext cx="6934320" cy="3587760"/>
          </a:xfrm>
          <a:prstGeom prst="rect">
            <a:avLst/>
          </a:prstGeom>
          <a:solidFill>
            <a:srgbClr val="898555"/>
          </a:solidFill>
          <a:ln cap="sq" w="38160">
            <a:solidFill>
              <a:srgbClr val="000000"/>
            </a:solidFill>
            <a:miter/>
          </a:ln>
        </p:spPr>
        <p:txBody>
          <a:bodyPr lIns="365760" rIns="365760" tIns="411480" bIns="411480" anchor="ctr" anchorCtr="1">
            <a:normAutofit/>
          </a:bodyPr>
          <a:p>
            <a:pPr marL="343080" indent="-343080">
              <a:spcBef>
                <a:spcPts val="799"/>
              </a:spcBef>
              <a:buClr>
                <a:srgbClr val="a4603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Good 4 U chefs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a4603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Athletes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a4603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Health-care professionals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a4603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Individuals interested in healthy eating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ad74"/>
            </a:gs>
            <a:gs pos="100000">
              <a:srgbClr val="e2dd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57200" y="1504800"/>
            <a:ext cx="8229600" cy="4191120"/>
          </a:xfrm>
          <a:prstGeom prst="rect">
            <a:avLst/>
          </a:prstGeom>
          <a:solidFill>
            <a:srgbClr val="898555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000000"/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2f2f2"/>
                </a:solidFill>
                <a:latin typeface="Arial Rounded MT Bold"/>
              </a:rPr>
              <a:t>When and Where</a:t>
            </a:r>
            <a:endParaRPr b="1" lang="en-US" sz="6000" spc="-1" strike="noStrike">
              <a:solidFill>
                <a:srgbClr val="f2f2f2"/>
              </a:solidFill>
              <a:latin typeface="Arial Rounded MT Bold"/>
            </a:endParaRPr>
          </a:p>
        </p:txBody>
      </p:sp>
      <p:sp>
        <p:nvSpPr>
          <p:cNvPr id="100" name=""/>
          <p:cNvSpPr/>
          <p:nvPr/>
        </p:nvSpPr>
        <p:spPr>
          <a:xfrm>
            <a:off x="990720" y="1657440"/>
            <a:ext cx="3809880" cy="1218960"/>
          </a:xfrm>
          <a:prstGeom prst="rightArrow">
            <a:avLst>
              <a:gd name="adj1" fmla="val 50000"/>
              <a:gd name="adj2" fmla="val 78138"/>
            </a:avLst>
          </a:prstGeom>
          <a:gradFill rotWithShape="0">
            <a:gsLst>
              <a:gs pos="0">
                <a:srgbClr val="e2ddd4"/>
              </a:gs>
              <a:gs pos="100000">
                <a:srgbClr val="e9e6e0">
                  <a:alpha val="3019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ebruary 14-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1847880"/>
            <a:ext cx="3200400" cy="838080"/>
          </a:xfrm>
          <a:prstGeom prst="rect">
            <a:avLst/>
          </a:prstGeom>
          <a:solidFill>
            <a:srgbClr val="e2ddd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Miam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2952720"/>
            <a:ext cx="3809880" cy="1219320"/>
          </a:xfrm>
          <a:prstGeom prst="rightArrow">
            <a:avLst>
              <a:gd name="adj1" fmla="val 50000"/>
              <a:gd name="adj2" fmla="val 78115"/>
            </a:avLst>
          </a:prstGeom>
          <a:gradFill rotWithShape="0">
            <a:gsLst>
              <a:gs pos="0">
                <a:srgbClr val="e2ddd4"/>
              </a:gs>
              <a:gs pos="100000">
                <a:srgbClr val="e9e6e0">
                  <a:alpha val="3019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May 10-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952880" y="3143160"/>
            <a:ext cx="3200400" cy="838440"/>
          </a:xfrm>
          <a:prstGeom prst="rect">
            <a:avLst/>
          </a:prstGeom>
          <a:solidFill>
            <a:srgbClr val="e2ddd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an Francis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90720" y="4286160"/>
            <a:ext cx="3809880" cy="1219320"/>
          </a:xfrm>
          <a:prstGeom prst="rightArrow">
            <a:avLst>
              <a:gd name="adj1" fmla="val 50000"/>
              <a:gd name="adj2" fmla="val 78115"/>
            </a:avLst>
          </a:prstGeom>
          <a:gradFill rotWithShape="0">
            <a:gsLst>
              <a:gs pos="0">
                <a:srgbClr val="e2ddd4"/>
              </a:gs>
              <a:gs pos="100000">
                <a:srgbClr val="e9e6e0">
                  <a:alpha val="3019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eptember 8-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952880" y="4476600"/>
            <a:ext cx="3200400" cy="838440"/>
          </a:xfrm>
          <a:prstGeom prst="rect">
            <a:avLst/>
          </a:prstGeom>
          <a:solidFill>
            <a:srgbClr val="e2ddd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New Y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ad74"/>
            </a:gs>
            <a:gs pos="100000">
              <a:srgbClr val="e2dd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000000"/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2f2f2"/>
                </a:solidFill>
                <a:latin typeface="Arial Rounded MT Bold"/>
              </a:rPr>
              <a:t>Daily Activities</a:t>
            </a:r>
            <a:endParaRPr b="1" lang="en-US" sz="6000" spc="-1" strike="noStrike">
              <a:solidFill>
                <a:srgbClr val="f2f2f2"/>
              </a:solidFill>
              <a:latin typeface="Arial Rounded MT Bol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830240"/>
            <a:ext cx="7925040" cy="3587760"/>
          </a:xfrm>
          <a:prstGeom prst="rect">
            <a:avLst/>
          </a:prstGeom>
          <a:solidFill>
            <a:srgbClr val="898555"/>
          </a:solidFill>
          <a:ln cap="sq" w="38160">
            <a:solidFill>
              <a:srgbClr val="000000"/>
            </a:solidFill>
            <a:miter/>
          </a:ln>
        </p:spPr>
        <p:txBody>
          <a:bodyPr lIns="365760" rIns="365760" tIns="411480" bIns="411480" anchor="ctr" anchorCtr="1">
            <a:normAutofit/>
          </a:bodyPr>
          <a:p>
            <a:pPr marL="343080" indent="-343080">
              <a:spcBef>
                <a:spcPts val="799"/>
              </a:spcBef>
              <a:buClr>
                <a:srgbClr val="a4603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Nutrition lectures in the morning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a4603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Healthy food sampling at lunchtime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a4603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Leisure activities in the afternoon 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a4603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Discussion groups in the evening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ad74"/>
            </a:gs>
            <a:gs pos="100000">
              <a:srgbClr val="e2dd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000000"/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2f2f2"/>
                </a:solidFill>
                <a:latin typeface="Arial Rounded MT Bold"/>
              </a:rPr>
              <a:t>Leisure Activities</a:t>
            </a:r>
            <a:endParaRPr b="1" lang="en-US" sz="6000" spc="-1" strike="noStrike">
              <a:solidFill>
                <a:srgbClr val="f2f2f2"/>
              </a:solidFill>
              <a:latin typeface="Arial Rounded MT Bol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04840" y="1837800"/>
            <a:ext cx="6934320" cy="3684600"/>
          </a:xfrm>
          <a:prstGeom prst="rect">
            <a:avLst/>
          </a:prstGeom>
          <a:solidFill>
            <a:srgbClr val="898555"/>
          </a:solidFill>
          <a:ln cap="sq" w="38160">
            <a:solidFill>
              <a:srgbClr val="000000"/>
            </a:solidFill>
            <a:miter/>
          </a:ln>
        </p:spPr>
        <p:txBody>
          <a:bodyPr lIns="365760" rIns="365760" tIns="411480" bIns="411480" anchor="ctr" anchorCtr="1">
            <a:normAutofit/>
          </a:bodyPr>
          <a:p>
            <a:pPr marL="343080" indent="-343080">
              <a:spcBef>
                <a:spcPts val="799"/>
              </a:spcBef>
              <a:buClr>
                <a:srgbClr val="a4603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ailing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a4603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ishing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a4603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Golf clinic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a4603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In-line skate clinic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a4603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Healthy cooking clinic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ad74"/>
            </a:gs>
            <a:gs pos="100000">
              <a:srgbClr val="e2dd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000000"/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2f2f2"/>
                </a:solidFill>
                <a:latin typeface="Arial Rounded MT Bold"/>
              </a:rPr>
              <a:t>Cost/Accommodations</a:t>
            </a:r>
            <a:endParaRPr b="1" lang="en-US" sz="5400" spc="-1" strike="noStrike">
              <a:solidFill>
                <a:srgbClr val="f2f2f2"/>
              </a:solidFill>
              <a:latin typeface="Arial Rounded MT Bol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55440"/>
            <a:ext cx="8229600" cy="3978360"/>
          </a:xfrm>
          <a:prstGeom prst="rect">
            <a:avLst/>
          </a:prstGeom>
          <a:solidFill>
            <a:srgbClr val="898555"/>
          </a:solidFill>
          <a:ln cap="sq" w="38160">
            <a:solidFill>
              <a:srgbClr val="000000"/>
            </a:solidFill>
            <a:miter/>
          </a:ln>
        </p:spPr>
        <p:txBody>
          <a:bodyPr lIns="365760" rIns="365760" tIns="411480" bIns="411480" anchor="ctr" anchorCtr="1">
            <a:normAutofit/>
          </a:bodyPr>
          <a:p>
            <a:pPr marL="343080" indent="-343080">
              <a:spcBef>
                <a:spcPts val="799"/>
              </a:spcBef>
              <a:buClr>
                <a:srgbClr val="a4603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All-inclusive cost is  $900 for each person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a4603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Includes room for 3 nights, all meals, scheduled activities, and gratuities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a4603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Cost based on double occupancy. For single occupancy add $250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ad74"/>
            </a:gs>
            <a:gs pos="100000">
              <a:srgbClr val="e2dd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000000"/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2f2f2"/>
                </a:solidFill>
                <a:latin typeface="Arial Rounded MT Bold"/>
              </a:rPr>
              <a:t>To Good Health!</a:t>
            </a:r>
            <a:endParaRPr b="1" lang="en-US" sz="6000" spc="-1" strike="noStrike">
              <a:solidFill>
                <a:srgbClr val="f2f2f2"/>
              </a:solidFill>
              <a:latin typeface="Arial Rounded MT Bold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914400" y="4046400"/>
            <a:ext cx="3429000" cy="22021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3308400" y="3559320"/>
            <a:ext cx="2787480" cy="16221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28600" y="1295280"/>
            <a:ext cx="3657600" cy="24256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5105520" y="1523880"/>
            <a:ext cx="3657600" cy="24321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5637240" y="4778280"/>
            <a:ext cx="2744640" cy="16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2T20:16:01Z</dcterms:created>
  <dc:creator>Pat R. Graves</dc:creator>
  <dc:description/>
  <dc:language>en-US</dc:language>
  <cp:lastModifiedBy>Ms. Malnick</cp:lastModifiedBy>
  <dcterms:modified xsi:type="dcterms:W3CDTF">2004-04-07T00:05:55Z</dcterms:modified>
  <cp:revision>11</cp:revision>
  <dc:subject/>
  <dc:title>Nutrition Seminar </dc:title>
</cp:coreProperties>
</file>