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6C6-F7A6-4FC5-A229-0EA3503A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8A8-EFD9-4E00-A2E5-464FD8D0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8A9-3A77-4042-A0DE-3348424D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662-5FC8-4088-903B-5A1C3066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5ACD-AC89-4697-8E25-8E925E32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9041-951A-4673-8B3F-EA1D86B0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1B91-001C-4F54-874D-BD69E9EC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942B-25BF-4BD0-9DB1-42A24D47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224A-F2AA-47A0-AB3C-9CE214B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657D-C025-4FDE-8474-0301106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51DD-2DF4-451D-8A15-D836D98F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5FB-759B-4F4C-BBC8-F67860C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E7C4-65B2-4CF0-88D6-39CF899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1139-AA5F-468C-9F61-7C88C13D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C924-FD23-47D8-BD00-34B06533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80BF-C3BE-4665-9780-1B07EF71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6763-47C1-40D4-A73B-E86A2A9D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588-F13E-46FE-BFA8-99345D16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507-2F76-44A9-ABFC-ABF0204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199-51AC-4AE8-9E62-159775AF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BB1-ABEF-491E-AAA0-7693FCB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35B-12CD-43F8-AC5D-EA167E8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6A8-40BA-47CE-B423-7B966FB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1FE-7C71-40EA-B773-2C0DF9E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7E3-CABF-416D-ACAD-B2C0DA062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2A44-86FB-4AAB-9F12-005946224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od 4 U Retrea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520" y="3892320"/>
            <a:ext cx="5790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lthy getaways to regenerate your energy and creativ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Good 4 U Retrea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ni va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portunity to unwind in a healthy atmo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 for your healthy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treat Fea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-class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food with gourmet fl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paced meditative nature w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d bicycle tours (all ability leve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ing lectures on sports physiology and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005 Retreat Schedu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930320"/>
            <a:ext cx="6705360" cy="53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rch 22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rida’s Evergl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July 4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’s San Juan Is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October 4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nt’s Northeast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November  8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ah’s Canyon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4:12:28Z</dcterms:created>
  <dc:creator>Pat R. Graves</dc:creator>
  <dc:description/>
  <dc:language>en-US</dc:language>
  <cp:lastModifiedBy>Ms. Malnick</cp:lastModifiedBy>
  <dcterms:modified xsi:type="dcterms:W3CDTF">2004-04-07T00:12:26Z</dcterms:modified>
  <cp:revision>9</cp:revision>
  <dc:subject/>
  <dc:title>Good 4 U Retreats</dc:title>
</cp:coreProperties>
</file>