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373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D5F0-12F9-4FD5-B01C-135729C3F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81A1-A3AA-4096-BA87-BF799A86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BF76-6E20-4F81-85A3-1E94CE08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D62E-1EA2-4F07-997B-6A41656B2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1AD4-1FEE-470C-8E7F-E8C75DE4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868C-EC26-4DCB-8B4C-441CB191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3B63-AB9E-4C73-853D-725B556E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6453-5E7C-4378-B4B5-50C59226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C3CA-7BBA-4F00-B6A8-8F5B521A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C9BA-069F-4847-B3E6-10F39956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6883-B5BA-4892-B00C-62CC4665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3AB2-EE52-4C08-BBFD-1B9EDCF2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C12B-3B13-45B9-A91B-9E80F9D32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to Evaluate Advertising Med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rketing Series Training S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urn on Inves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effectiv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profi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dollar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new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o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a Categ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spap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nic 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ld Wide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t 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p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l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llbo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az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ing Training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 Our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4T22:15:38Z</dcterms:created>
  <dc:creator>Pat R. Graves</dc:creator>
  <dc:description/>
  <dc:language>en-US</dc:language>
  <cp:lastModifiedBy>Pat Graves</cp:lastModifiedBy>
  <cp:lastPrinted>1996-12-04T22:31:20Z</cp:lastPrinted>
  <dcterms:modified xsi:type="dcterms:W3CDTF">2004-03-10T17:38:04Z</dcterms:modified>
  <cp:revision>15</cp:revision>
  <dc:subject/>
  <dc:title>Selecting Advertising Media</dc:title>
</cp:coreProperties>
</file>