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FAC-1FD0-40A1-A733-95E80205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547640" y="41680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0EB-FC90-4A5C-BC18-566B9409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8860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A0A-31E6-4BBE-8FD6-CE600349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40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204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5476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840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204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C7E-3C2A-4897-BD10-E006B9C4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F8C-7BCA-4E39-9B6C-9CF45BB5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BF29-C8F4-4369-8A9A-BF87B33F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874-325C-4239-BD44-A50B128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430-3868-4C3F-9F95-44A9C7B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AB0A-6503-4DF9-A97C-0E6B5BAB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3000" y="380520"/>
            <a:ext cx="78026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8394-05DD-456C-A25B-F8F07FD9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A34-9FA2-4EC9-AF5D-D50D49C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3C1-9FE0-48C1-B570-7963C1D8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860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4CA-5D77-40D2-AE3A-31B9435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09E-FED5-41C7-ACCC-6CBC075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47640" y="41680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373D-C8E7-48E5-AA0C-EC80F035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860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585-81F9-4C1C-9374-0E446BF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40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0440" y="20602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476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40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20440" y="4168080"/>
            <a:ext cx="2224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9F92-F7CF-4F98-85AB-A9B4ABF0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25C-6A3C-413A-92F1-7EAD461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F67-8333-42A4-A5CE-3E279D6F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914-57A7-4A5A-9D82-9C50CD7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73000" y="380520"/>
            <a:ext cx="78026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0C3-F160-4A93-B801-A7303BFE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120-D572-45C5-9197-C6BC1FC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88600" y="41680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A0E-4579-40D3-A92D-5F8938D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8600" y="2060280"/>
            <a:ext cx="33721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7640" y="4168080"/>
            <a:ext cx="691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A3B-92A1-4639-B185-1499464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828-146F-4ADC-B4EE-FB5E2E6C73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216000" y="6059520"/>
            <a:ext cx="1331280" cy="538200"/>
            <a:chOff x="216000" y="6059520"/>
            <a:chExt cx="1331280" cy="538200"/>
          </a:xfrm>
        </p:grpSpPr>
        <p:sp>
          <p:nvSpPr>
            <p:cNvPr id="14" name=""/>
            <p:cNvSpPr txBox="1"/>
            <p:nvPr/>
          </p:nvSpPr>
          <p:spPr>
            <a:xfrm>
              <a:off x="1176480" y="6264360"/>
              <a:ext cx="37080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849240" y="6144840"/>
              <a:ext cx="480240" cy="452520"/>
              <a:chOff x="849240" y="6144840"/>
              <a:chExt cx="480240" cy="452520"/>
            </a:xfrm>
          </p:grpSpPr>
          <p:sp>
            <p:nvSpPr>
              <p:cNvPr id="16" name=""/>
              <p:cNvSpPr/>
              <p:nvPr/>
            </p:nvSpPr>
            <p:spPr>
              <a:xfrm>
                <a:off x="849240" y="6144840"/>
                <a:ext cx="4802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83880" y="6193440"/>
                <a:ext cx="22248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 txBox="1"/>
            <p:nvPr/>
          </p:nvSpPr>
          <p:spPr>
            <a:xfrm>
              <a:off x="216000" y="6059520"/>
              <a:ext cx="894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20680" y="1484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287A-1FAE-4D09-91CF-34790FD733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873000"/>
            <a:ext cx="8456760" cy="1727280"/>
          </a:xfrm>
          <a:prstGeom prst="roundRect">
            <a:avLst>
              <a:gd name="adj" fmla="val 16667"/>
            </a:avLst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6000" y="6059520"/>
            <a:ext cx="1331280" cy="538200"/>
            <a:chOff x="216000" y="6059520"/>
            <a:chExt cx="1331280" cy="538200"/>
          </a:xfrm>
        </p:grpSpPr>
        <p:sp>
          <p:nvSpPr>
            <p:cNvPr id="107" name=""/>
            <p:cNvSpPr txBox="1"/>
            <p:nvPr/>
          </p:nvSpPr>
          <p:spPr>
            <a:xfrm>
              <a:off x="1176480" y="6264360"/>
              <a:ext cx="37080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849240" y="6144840"/>
              <a:ext cx="480240" cy="452520"/>
              <a:chOff x="849240" y="6144840"/>
              <a:chExt cx="480240" cy="452520"/>
            </a:xfrm>
          </p:grpSpPr>
          <p:sp>
            <p:nvSpPr>
              <p:cNvPr id="109" name=""/>
              <p:cNvSpPr/>
              <p:nvPr/>
            </p:nvSpPr>
            <p:spPr>
              <a:xfrm>
                <a:off x="849240" y="6144840"/>
                <a:ext cx="4802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83880" y="6193440"/>
                <a:ext cx="22248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 txBox="1"/>
            <p:nvPr/>
          </p:nvSpPr>
          <p:spPr>
            <a:xfrm>
              <a:off x="216000" y="6059520"/>
              <a:ext cx="894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20320" y="973080"/>
            <a:ext cx="80233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 Black"/>
              </a:rPr>
              <a:t>Advertising Analysis</a:t>
            </a:r>
            <a:endParaRPr b="0" lang="en-US" sz="4800" spc="-1" strike="noStrike">
              <a:solidFill>
                <a:srgbClr val="ffff99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ur current advertising plan work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and analyze each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Topics of Discussion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976640"/>
            <a:ext cx="3024360" cy="1044720"/>
          </a:xfrm>
          <a:prstGeom prst="roundRect">
            <a:avLst>
              <a:gd name="adj" fmla="val 16667"/>
            </a:avLst>
          </a:prstGeom>
          <a:solidFill>
            <a:srgbClr val="66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35280" y="3517920"/>
            <a:ext cx="3024000" cy="1044720"/>
          </a:xfrm>
          <a:prstGeom prst="roundRect">
            <a:avLst>
              <a:gd name="adj" fmla="val 16667"/>
            </a:avLst>
          </a:prstGeom>
          <a:solidFill>
            <a:srgbClr val="66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058840"/>
            <a:ext cx="3024360" cy="1044720"/>
          </a:xfrm>
          <a:prstGeom prst="roundRect">
            <a:avLst>
              <a:gd name="adj" fmla="val 16667"/>
            </a:avLst>
          </a:prstGeom>
          <a:solidFill>
            <a:srgbClr val="66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Newspaper Ads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, timely, good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every Wednesday in Food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28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Radio Ads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beat and humor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s run daily during morning dri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0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Mailers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ful and appealing postcards and cou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er sent six times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2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Yellow Pages Ads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active display, prominen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in all metro e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6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What This Means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key points you want your audience to re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300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Next Steps </a:t>
            </a:r>
            <a:endParaRPr b="0" lang="en-US" sz="44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91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effectiveness vs.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at R. Graves</dc:creator>
  <dc:description/>
  <dc:language>en-US</dc:language>
  <cp:lastModifiedBy>Student Name</cp:lastModifiedBy>
  <cp:lastPrinted>1996-11-12T18:04:54Z</cp:lastPrinted>
  <dcterms:modified xsi:type="dcterms:W3CDTF">2004-04-05T05:07:09Z</dcterms:modified>
  <cp:revision>24</cp:revision>
  <dc:subject/>
  <dc:title>Advertising Analysis</dc:title>
</cp:coreProperties>
</file>