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36F-3031-4614-8B0E-DFEDF0F1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299-0211-4C62-BBF6-25EE1BC3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46C-2861-44E7-A44A-334BD263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62B-4AA3-457D-AA15-422C2CC1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9DF4-2DB6-4505-B149-C37A75FF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F0F7-A18D-4E7A-923F-415905F4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BF8D-E3D1-475F-B4EC-09818B39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1F61-1A22-400E-BBA3-8A2087A6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996C-B409-4209-A7CE-EF46548D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A066-C2BD-498C-8E3F-7956C251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2A08-BD1C-4B55-98C2-8598229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845-B24C-4EF8-9CAF-A980CFC2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852C-6247-4CC0-97DD-B56B8D5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913D-3B0F-4D41-8351-37C78C72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2E51-ACDF-4D51-9404-7E5B0CA7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205E-6FF6-4D32-B898-EF3F8FBB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D1F4-B64F-4E7A-846B-D1528FCD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2CA-5315-4CA5-A128-9D1304BF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114-6667-4171-8028-7F5E9DE8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AC2-5426-4BB3-A118-3FA9A7E1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F79-9599-42ED-8A6E-391E2F40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DDB-6498-4067-9E03-60FC4941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726-F666-4A9A-91FB-1073164F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931-0322-4A3F-BC34-213E41D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709a"/>
            </a:gs>
            <a:gs pos="50000">
              <a:srgbClr val="f5e9ef"/>
            </a:gs>
            <a:gs pos="100000">
              <a:srgbClr val="c470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5729-D0CE-4702-8B4A-B47221E7E5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709a"/>
            </a:gs>
            <a:gs pos="50000">
              <a:srgbClr val="f5e9ef"/>
            </a:gs>
            <a:gs pos="100000">
              <a:srgbClr val="c470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E57-B7D3-430D-B7F1-55B6A9C1F64A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709a"/>
            </a:gs>
            <a:gs pos="50000">
              <a:srgbClr val="f5e9ef"/>
            </a:gs>
            <a:gs pos="100000">
              <a:srgbClr val="c470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634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Operations, 2004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rvations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709a"/>
            </a:gs>
            <a:gs pos="50000">
              <a:srgbClr val="f5e9ef"/>
            </a:gs>
            <a:gs pos="100000">
              <a:srgbClr val="c470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servations Polic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aurant currently accepts no reser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considering instituting reservations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receive steady reservation requests, especially for di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709a"/>
            </a:gs>
            <a:gs pos="50000">
              <a:srgbClr val="f5e9ef"/>
            </a:gs>
            <a:gs pos="100000">
              <a:srgbClr val="c470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servations: Advantag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management to control volume more effici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eature of higher-caliber restau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709a"/>
            </a:gs>
            <a:gs pos="50000">
              <a:srgbClr val="f5e9ef"/>
            </a:gs>
            <a:gs pos="100000">
              <a:srgbClr val="c470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servations: Disadvantag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eres with image of casual d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ienate steady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known how it would affect walk-in traf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22:50Z</dcterms:created>
  <dc:creator>Pat R. Graves</dc:creator>
  <dc:description/>
  <dc:language>en-US</dc:language>
  <cp:lastModifiedBy>Pat Graves</cp:lastModifiedBy>
  <cp:lastPrinted>1997-10-13T15:32:24Z</cp:lastPrinted>
  <dcterms:modified xsi:type="dcterms:W3CDTF">2004-03-08T08:25:07Z</dcterms:modified>
  <cp:revision>28</cp:revision>
  <dc:subject/>
  <dc:title>Operations</dc:title>
</cp:coreProperties>
</file>