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EA9-3368-428E-8365-5A6C89B0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7026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34720" y="4130640"/>
            <a:ext cx="7026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A7D-F7FE-42B8-9A02-5A031CB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3472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3508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18D-2793-4298-AF56-9B6B5728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360" y="198108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6360" y="198108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34720" y="413064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360" y="413064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6360" y="413064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4A8-8332-4EC1-9759-9B880EC4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0B67-B09C-47C5-9602-EF707A7A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A5A2-A3B6-4706-86FA-DAEA8434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782-241B-401F-8BFE-C70F4B1B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1FBF-0D92-41C5-95EE-00462147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FE11-771E-4E5D-8B05-B3E723A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35080" y="342720"/>
            <a:ext cx="757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C36F-EB99-4E21-BA79-82920598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3472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3EBF-78F7-4274-A7C6-3231C248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5D1-06E6-4285-BFD0-FCFAF34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3508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66FE-2621-4F5A-8586-75D99E2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34720" y="4130640"/>
            <a:ext cx="7026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4CB-3B22-4356-A7CD-0FC0EB6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7026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34720" y="4130640"/>
            <a:ext cx="7026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086E-3E36-4A85-BCE9-E1ED318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3472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3508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102-63CC-4A10-A3B6-32E69B11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10360" y="198108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86360" y="198108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34720" y="413064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10360" y="413064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86360" y="4130640"/>
            <a:ext cx="2262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E3C2-269A-40C3-85FA-F2B2BF83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503-57CC-4832-86DE-56209F73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D0D-40CA-4C14-A23C-926EE39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D51-2425-447B-842C-FF403B9A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35080" y="342720"/>
            <a:ext cx="757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3A4-385F-4A54-B44D-FE60DCB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472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979-638F-4B10-93B1-FA7823A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35080" y="413064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3BD-68E1-4FA8-9020-B6F7B041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5080" y="1981080"/>
            <a:ext cx="3428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34720" y="4130640"/>
            <a:ext cx="7026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93A-D4EA-4668-B971-1188338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33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A2EE-BD1E-4CA4-ADA5-05EED5C3283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81000" y="-412920"/>
            <a:ext cx="9392400" cy="7001280"/>
            <a:chOff x="-81000" y="-412920"/>
            <a:chExt cx="9392400" cy="7001280"/>
          </a:xfrm>
        </p:grpSpPr>
        <p:grpSp>
          <p:nvGrpSpPr>
            <p:cNvPr id="8" name=""/>
            <p:cNvGrpSpPr/>
            <p:nvPr/>
          </p:nvGrpSpPr>
          <p:grpSpPr>
            <a:xfrm>
              <a:off x="7944840" y="2367000"/>
              <a:ext cx="1366560" cy="4221360"/>
              <a:chOff x="7944840" y="2367000"/>
              <a:chExt cx="1366560" cy="4221360"/>
            </a:xfrm>
          </p:grpSpPr>
          <p:sp>
            <p:nvSpPr>
              <p:cNvPr id="9" name=""/>
              <p:cNvSpPr/>
              <p:nvPr/>
            </p:nvSpPr>
            <p:spPr>
              <a:xfrm flipV="1" rot="900000">
                <a:off x="8118000" y="399708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cec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 rot="900000">
                <a:off x="8112240" y="2476080"/>
                <a:ext cx="1031760" cy="142884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cec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900000">
                <a:off x="8558280" y="521964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0e2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900000">
                <a:off x="8715240" y="624672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af6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-81000" y="-412920"/>
              <a:ext cx="2552040" cy="4375440"/>
              <a:chOff x="-81000" y="-412920"/>
              <a:chExt cx="2552040" cy="4375440"/>
            </a:xfrm>
          </p:grpSpPr>
          <p:sp>
            <p:nvSpPr>
              <p:cNvPr id="14" name=""/>
              <p:cNvSpPr/>
              <p:nvPr/>
            </p:nvSpPr>
            <p:spPr>
              <a:xfrm flipV="1">
                <a:off x="0" y="245880"/>
                <a:ext cx="863640" cy="102528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e9d5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 rot="900000">
                <a:off x="1444680" y="-319680"/>
                <a:ext cx="882720" cy="1222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9d4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81000" y="3129120"/>
                <a:ext cx="808200" cy="833400"/>
              </a:xfrm>
              <a:custGeom>
                <a:avLst/>
                <a:gdLst/>
                <a:ahLst/>
                <a:rect l="l" t="t" r="r" b="b"/>
                <a:pathLst>
                  <a:path w="509" h="525">
                    <a:moveTo>
                      <a:pt x="215" y="287"/>
                    </a:moveTo>
                    <a:lnTo>
                      <a:pt x="126" y="525"/>
                    </a:lnTo>
                    <a:lnTo>
                      <a:pt x="254" y="305"/>
                    </a:lnTo>
                    <a:lnTo>
                      <a:pt x="379" y="525"/>
                    </a:lnTo>
                    <a:lnTo>
                      <a:pt x="291" y="287"/>
                    </a:lnTo>
                    <a:lnTo>
                      <a:pt x="509" y="262"/>
                    </a:lnTo>
                    <a:lnTo>
                      <a:pt x="292" y="239"/>
                    </a:lnTo>
                    <a:lnTo>
                      <a:pt x="379" y="0"/>
                    </a:lnTo>
                    <a:lnTo>
                      <a:pt x="253" y="218"/>
                    </a:lnTo>
                    <a:lnTo>
                      <a:pt x="126" y="0"/>
                    </a:lnTo>
                    <a:lnTo>
                      <a:pt x="214" y="243"/>
                    </a:lnTo>
                    <a:lnTo>
                      <a:pt x="0" y="262"/>
                    </a:lnTo>
                    <a:lnTo>
                      <a:pt x="214" y="285"/>
                    </a:lnTo>
                  </a:path>
                </a:pathLst>
              </a:custGeom>
              <a:gradFill rotWithShape="0">
                <a:gsLst>
                  <a:gs pos="0">
                    <a:srgbClr val="dfc0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900000">
                <a:off x="790560" y="75888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cd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900000">
                <a:off x="189000" y="210024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cdfe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511440"/>
            <a:ext cx="91314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720960"/>
            <a:ext cx="9131400" cy="38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33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816200"/>
            <a:ext cx="7662960" cy="156672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Trebuchet MS"/>
              </a:rPr>
              <a:t>Click to edit the title text format</a:t>
            </a:r>
            <a:endParaRPr b="1" lang="en-US" sz="6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EBA-6F51-44F2-82DA-09291AEF07D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-121320"/>
            <a:ext cx="6015600" cy="3445560"/>
            <a:chOff x="0" y="-121320"/>
            <a:chExt cx="6015600" cy="3445560"/>
          </a:xfrm>
        </p:grpSpPr>
        <p:sp>
          <p:nvSpPr>
            <p:cNvPr id="62" name=""/>
            <p:cNvSpPr/>
            <p:nvPr/>
          </p:nvSpPr>
          <p:spPr>
            <a:xfrm flipV="1">
              <a:off x="0" y="1752480"/>
              <a:ext cx="1322280" cy="1571760"/>
            </a:xfrm>
            <a:custGeom>
              <a:avLst/>
              <a:gdLst/>
              <a:ahLst/>
              <a:rect l="l" t="t" r="r" b="b"/>
              <a:pathLst>
                <a:path w="833" h="990">
                  <a:moveTo>
                    <a:pt x="284" y="448"/>
                  </a:moveTo>
                  <a:lnTo>
                    <a:pt x="115" y="0"/>
                  </a:lnTo>
                  <a:lnTo>
                    <a:pt x="353" y="398"/>
                  </a:lnTo>
                  <a:lnTo>
                    <a:pt x="591" y="0"/>
                  </a:lnTo>
                  <a:lnTo>
                    <a:pt x="419" y="448"/>
                  </a:lnTo>
                  <a:lnTo>
                    <a:pt x="832" y="495"/>
                  </a:lnTo>
                  <a:lnTo>
                    <a:pt x="417" y="540"/>
                  </a:lnTo>
                  <a:lnTo>
                    <a:pt x="591" y="989"/>
                  </a:lnTo>
                  <a:lnTo>
                    <a:pt x="353" y="590"/>
                  </a:lnTo>
                  <a:lnTo>
                    <a:pt x="115" y="989"/>
                  </a:lnTo>
                  <a:lnTo>
                    <a:pt x="282" y="543"/>
                  </a:lnTo>
                  <a:lnTo>
                    <a:pt x="0" y="509"/>
                  </a:lnTo>
                  <a:lnTo>
                    <a:pt x="0" y="479"/>
                  </a:lnTo>
                  <a:lnTo>
                    <a:pt x="284" y="44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900000">
              <a:off x="593640" y="-360"/>
              <a:ext cx="1143000" cy="158148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739880" y="947160"/>
              <a:ext cx="1108080" cy="1143000"/>
            </a:xfrm>
            <a:custGeom>
              <a:avLst/>
              <a:gdLst/>
              <a:ahLst/>
              <a:rect l="l" t="t" r="r" b="b"/>
              <a:pathLst>
                <a:path w="698" h="720">
                  <a:moveTo>
                    <a:pt x="279" y="315"/>
                  </a:moveTo>
                  <a:lnTo>
                    <a:pt x="173" y="0"/>
                  </a:lnTo>
                  <a:lnTo>
                    <a:pt x="349" y="263"/>
                  </a:lnTo>
                  <a:lnTo>
                    <a:pt x="519" y="0"/>
                  </a:lnTo>
                  <a:lnTo>
                    <a:pt x="415" y="315"/>
                  </a:lnTo>
                  <a:lnTo>
                    <a:pt x="697" y="360"/>
                  </a:lnTo>
                  <a:lnTo>
                    <a:pt x="413" y="403"/>
                  </a:lnTo>
                  <a:lnTo>
                    <a:pt x="519" y="719"/>
                  </a:lnTo>
                  <a:lnTo>
                    <a:pt x="349" y="455"/>
                  </a:lnTo>
                  <a:lnTo>
                    <a:pt x="173" y="719"/>
                  </a:lnTo>
                  <a:lnTo>
                    <a:pt x="278" y="407"/>
                  </a:lnTo>
                  <a:lnTo>
                    <a:pt x="0" y="360"/>
                  </a:lnTo>
                  <a:lnTo>
                    <a:pt x="279" y="31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900000">
              <a:off x="3874680" y="1071360"/>
              <a:ext cx="782640" cy="108720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ecec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900000">
              <a:off x="2770200" y="0"/>
              <a:ext cx="1031760" cy="142884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ecec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900000">
              <a:off x="4613400" y="511200"/>
              <a:ext cx="403200" cy="5587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00000">
              <a:off x="5749920" y="307800"/>
              <a:ext cx="228600" cy="3175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3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8760" y="1816200"/>
            <a:ext cx="7662960" cy="156672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Trebuchet MS"/>
              </a:rPr>
              <a:t>Good 4 U</a:t>
            </a:r>
            <a:endParaRPr b="1" lang="en-US" sz="6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mployee of the Month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tes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rebuchet MS"/>
              </a:rPr>
              <a:t>The Rules</a:t>
            </a: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ach employee is responsible for returning his/her completed survey forms from customers and fellow employees.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voting period for each monthly contest runs from the first to the twentieth of each month.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rebuchet MS"/>
              </a:rPr>
              <a:t>Basic Qualifications</a:t>
            </a: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4720" y="1981080"/>
            <a:ext cx="66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xceptional survey reviews from customer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xemplary survey reviews from fellow employee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Pass quality assurance testing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97160" y="3952800"/>
            <a:ext cx="963720" cy="701640"/>
          </a:xfrm>
          <a:prstGeom prst="ellipse">
            <a:avLst/>
          </a:prstGeom>
          <a:solidFill>
            <a:srgbClr val="9999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3952800"/>
            <a:ext cx="963720" cy="701640"/>
          </a:xfrm>
          <a:prstGeom prst="ellipse">
            <a:avLst/>
          </a:prstGeom>
          <a:solidFill>
            <a:srgbClr val="9999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34720" y="1981080"/>
            <a:ext cx="70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Name and picture posted in restauran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ree dinner at Good </a:t>
            </a: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4 U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or one month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One week of additional paid vacation!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rebuchet MS"/>
              </a:rPr>
              <a:t>Prizes Awarded</a:t>
            </a: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28760" y="1816200"/>
            <a:ext cx="7662960" cy="156672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Trebuchet MS"/>
              </a:rPr>
              <a:t>This Month’s Winner</a:t>
            </a:r>
            <a:endParaRPr b="1" lang="en-US" sz="6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195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Jason Andrew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hef’s Assistant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5080" y="342720"/>
            <a:ext cx="757872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rebuchet MS"/>
              </a:rPr>
              <a:t>Jason Andrews</a:t>
            </a:r>
            <a:endParaRPr b="1" lang="en-US" sz="44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98440" y="1980720"/>
            <a:ext cx="6981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rebuchet MS"/>
              </a:rPr>
              <a:t>Position: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Chef’s assistan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rebuchet MS"/>
              </a:rPr>
              <a:t>Years of Service: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Two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Jason Andrews is a devoted employee. He goes out of his way to keep things running smoothly in the kitchen.”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rebuchet MS"/>
              </a:rPr>
              <a:t>Hobbies:</a:t>
            </a:r>
            <a:r>
              <a:rPr b="0" lang="en-US" sz="28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In-line skating, skiing, and woodworking. Jason is currently collecting low-sugar deserts for a cookbook.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9T21:37:58Z</dcterms:created>
  <dc:creator>Pat R. Graves</dc:creator>
  <dc:description/>
  <dc:language>en-US</dc:language>
  <cp:lastModifiedBy>Pat Graves</cp:lastModifiedBy>
  <cp:lastPrinted>1997-05-06T20:31:28Z</cp:lastPrinted>
  <dcterms:modified xsi:type="dcterms:W3CDTF">2004-03-10T23:39:23Z</dcterms:modified>
  <cp:revision>35</cp:revision>
  <dc:subject/>
  <dc:title>Employee of the Month Contest</dc:title>
</cp:coreProperties>
</file>