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B27-F21D-41C5-B678-CCB92A9B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91D-987B-4538-9717-AD682C9B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CF5-07C9-4FF6-9C2C-B9AB8BAE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03048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7516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03048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37516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79C-6794-451A-B833-39F766E0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97AE-8A7A-4C51-89CE-467A8956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CA12-7076-4611-9B49-B5FA355E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AAA4-FFEC-416A-BD47-D3C1F1DE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C172-FF7D-4F3E-91E9-0B243A2E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F889-9E9B-422D-8A36-42E40335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440" y="29700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1710-B1DD-46BB-86A7-AF1FE276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0210-619C-4A86-BC82-BC5C17B9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71E-28DA-4712-BE69-33D0B795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D84D-61F8-46D0-9C29-9606120C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D21B-66D3-4B1F-9D40-E4C3094F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FD64-91B3-4BDF-A973-B5D31A95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CC18-649C-4433-BC45-8ECCA190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3048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7516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03048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37516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FD0A-055E-4DDC-A6AA-CB3F1AE3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59B-9889-4587-AF67-3118CDA0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B19-A062-469F-BE54-FC41C54C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D99-A2F6-43ED-9369-6465571A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440" y="29700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671-1270-4000-AA3F-F373D6AD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828C-CAD8-4F1C-8B35-7A2CD10D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980-7DC9-449D-9A70-6743A36F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388-585F-4B77-9932-ECC0A29F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48600" indent="-189720">
              <a:lnSpc>
                <a:spcPct val="120000"/>
              </a:lnSpc>
              <a:spcBef>
                <a:spcPts val="17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28040" indent="-189720">
              <a:lnSpc>
                <a:spcPct val="120000"/>
              </a:lnSpc>
              <a:spcBef>
                <a:spcPts val="1749"/>
              </a:spcBef>
              <a:buClr>
                <a:srgbClr val="f29b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07480" indent="-189720"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707480" indent="-18972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707480" indent="-18972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4DBE-767F-453D-AA25-C7D2B420AE9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65360"/>
            <a:ext cx="91440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46120" y="789120"/>
            <a:ext cx="1146240" cy="853920"/>
            <a:chOff x="546120" y="789120"/>
            <a:chExt cx="1146240" cy="853920"/>
          </a:xfrm>
        </p:grpSpPr>
        <p:sp>
          <p:nvSpPr>
            <p:cNvPr id="7" name=""/>
            <p:cNvSpPr/>
            <p:nvPr/>
          </p:nvSpPr>
          <p:spPr>
            <a:xfrm flipH="1">
              <a:off x="546120" y="789120"/>
              <a:ext cx="1146240" cy="853920"/>
            </a:xfrm>
            <a:custGeom>
              <a:avLst/>
              <a:gdLst/>
              <a:ahLst/>
              <a:rect l="l" t="t" r="r" b="b"/>
              <a:pathLst>
                <a:path w="2033" h="1517">
                  <a:moveTo>
                    <a:pt x="2017" y="1359"/>
                  </a:moveTo>
                  <a:lnTo>
                    <a:pt x="2001" y="1338"/>
                  </a:lnTo>
                  <a:lnTo>
                    <a:pt x="1987" y="1321"/>
                  </a:lnTo>
                  <a:lnTo>
                    <a:pt x="1976" y="1308"/>
                  </a:lnTo>
                  <a:lnTo>
                    <a:pt x="1965" y="1298"/>
                  </a:lnTo>
                  <a:lnTo>
                    <a:pt x="1957" y="1291"/>
                  </a:lnTo>
                  <a:lnTo>
                    <a:pt x="1950" y="1288"/>
                  </a:lnTo>
                  <a:lnTo>
                    <a:pt x="1947" y="1285"/>
                  </a:lnTo>
                  <a:lnTo>
                    <a:pt x="1946" y="1284"/>
                  </a:lnTo>
                  <a:lnTo>
                    <a:pt x="1967" y="1274"/>
                  </a:lnTo>
                  <a:lnTo>
                    <a:pt x="1958" y="1237"/>
                  </a:lnTo>
                  <a:lnTo>
                    <a:pt x="1957" y="1237"/>
                  </a:lnTo>
                  <a:lnTo>
                    <a:pt x="1955" y="1236"/>
                  </a:lnTo>
                  <a:lnTo>
                    <a:pt x="1952" y="1235"/>
                  </a:lnTo>
                  <a:lnTo>
                    <a:pt x="1946" y="1234"/>
                  </a:lnTo>
                  <a:lnTo>
                    <a:pt x="1940" y="1234"/>
                  </a:lnTo>
                  <a:lnTo>
                    <a:pt x="1933" y="1235"/>
                  </a:lnTo>
                  <a:lnTo>
                    <a:pt x="1926" y="1237"/>
                  </a:lnTo>
                  <a:lnTo>
                    <a:pt x="1918" y="1240"/>
                  </a:lnTo>
                  <a:lnTo>
                    <a:pt x="1911" y="1245"/>
                  </a:lnTo>
                  <a:lnTo>
                    <a:pt x="1904" y="1250"/>
                  </a:lnTo>
                  <a:lnTo>
                    <a:pt x="1897" y="1255"/>
                  </a:lnTo>
                  <a:lnTo>
                    <a:pt x="1890" y="1260"/>
                  </a:lnTo>
                  <a:lnTo>
                    <a:pt x="1885" y="1261"/>
                  </a:lnTo>
                  <a:lnTo>
                    <a:pt x="1882" y="1261"/>
                  </a:lnTo>
                  <a:lnTo>
                    <a:pt x="1878" y="1262"/>
                  </a:lnTo>
                  <a:lnTo>
                    <a:pt x="1867" y="1262"/>
                  </a:lnTo>
                  <a:lnTo>
                    <a:pt x="1855" y="1262"/>
                  </a:lnTo>
                  <a:lnTo>
                    <a:pt x="1836" y="1261"/>
                  </a:lnTo>
                  <a:lnTo>
                    <a:pt x="1816" y="1260"/>
                  </a:lnTo>
                  <a:lnTo>
                    <a:pt x="1789" y="1257"/>
                  </a:lnTo>
                  <a:lnTo>
                    <a:pt x="1759" y="1251"/>
                  </a:lnTo>
                  <a:lnTo>
                    <a:pt x="1753" y="1250"/>
                  </a:lnTo>
                  <a:lnTo>
                    <a:pt x="1748" y="1247"/>
                  </a:lnTo>
                  <a:lnTo>
                    <a:pt x="1742" y="1246"/>
                  </a:lnTo>
                  <a:lnTo>
                    <a:pt x="1736" y="1244"/>
                  </a:lnTo>
                  <a:lnTo>
                    <a:pt x="1729" y="1242"/>
                  </a:lnTo>
                  <a:lnTo>
                    <a:pt x="1723" y="1239"/>
                  </a:lnTo>
                  <a:lnTo>
                    <a:pt x="1718" y="1237"/>
                  </a:lnTo>
                  <a:lnTo>
                    <a:pt x="1711" y="1234"/>
                  </a:lnTo>
                  <a:lnTo>
                    <a:pt x="1721" y="1220"/>
                  </a:lnTo>
                  <a:lnTo>
                    <a:pt x="1612" y="1108"/>
                  </a:lnTo>
                  <a:lnTo>
                    <a:pt x="1614" y="1105"/>
                  </a:lnTo>
                  <a:lnTo>
                    <a:pt x="1617" y="1095"/>
                  </a:lnTo>
                  <a:lnTo>
                    <a:pt x="1619" y="1085"/>
                  </a:lnTo>
                  <a:lnTo>
                    <a:pt x="1614" y="1073"/>
                  </a:lnTo>
                  <a:lnTo>
                    <a:pt x="1613" y="1071"/>
                  </a:lnTo>
                  <a:lnTo>
                    <a:pt x="1610" y="1069"/>
                  </a:lnTo>
                  <a:lnTo>
                    <a:pt x="1609" y="1068"/>
                  </a:lnTo>
                  <a:lnTo>
                    <a:pt x="1608" y="1065"/>
                  </a:lnTo>
                  <a:lnTo>
                    <a:pt x="1650" y="1053"/>
                  </a:lnTo>
                  <a:lnTo>
                    <a:pt x="1246" y="623"/>
                  </a:lnTo>
                  <a:lnTo>
                    <a:pt x="1259" y="607"/>
                  </a:lnTo>
                  <a:lnTo>
                    <a:pt x="1273" y="591"/>
                  </a:lnTo>
                  <a:lnTo>
                    <a:pt x="1287" y="573"/>
                  </a:lnTo>
                  <a:lnTo>
                    <a:pt x="1302" y="556"/>
                  </a:lnTo>
                  <a:lnTo>
                    <a:pt x="1317" y="539"/>
                  </a:lnTo>
                  <a:lnTo>
                    <a:pt x="1333" y="522"/>
                  </a:lnTo>
                  <a:lnTo>
                    <a:pt x="1349" y="505"/>
                  </a:lnTo>
                  <a:lnTo>
                    <a:pt x="1365" y="489"/>
                  </a:lnTo>
                  <a:lnTo>
                    <a:pt x="1380" y="475"/>
                  </a:lnTo>
                  <a:lnTo>
                    <a:pt x="1395" y="462"/>
                  </a:lnTo>
                  <a:lnTo>
                    <a:pt x="1410" y="450"/>
                  </a:lnTo>
                  <a:lnTo>
                    <a:pt x="1425" y="440"/>
                  </a:lnTo>
                  <a:lnTo>
                    <a:pt x="1438" y="431"/>
                  </a:lnTo>
                  <a:lnTo>
                    <a:pt x="1450" y="425"/>
                  </a:lnTo>
                  <a:lnTo>
                    <a:pt x="1462" y="420"/>
                  </a:lnTo>
                  <a:lnTo>
                    <a:pt x="1472" y="419"/>
                  </a:lnTo>
                  <a:lnTo>
                    <a:pt x="1486" y="420"/>
                  </a:lnTo>
                  <a:lnTo>
                    <a:pt x="1502" y="427"/>
                  </a:lnTo>
                  <a:lnTo>
                    <a:pt x="1518" y="436"/>
                  </a:lnTo>
                  <a:lnTo>
                    <a:pt x="1537" y="450"/>
                  </a:lnTo>
                  <a:lnTo>
                    <a:pt x="1555" y="467"/>
                  </a:lnTo>
                  <a:lnTo>
                    <a:pt x="1575" y="488"/>
                  </a:lnTo>
                  <a:lnTo>
                    <a:pt x="1594" y="512"/>
                  </a:lnTo>
                  <a:lnTo>
                    <a:pt x="1614" y="539"/>
                  </a:lnTo>
                  <a:lnTo>
                    <a:pt x="1596" y="564"/>
                  </a:lnTo>
                  <a:lnTo>
                    <a:pt x="1581" y="588"/>
                  </a:lnTo>
                  <a:lnTo>
                    <a:pt x="1569" y="610"/>
                  </a:lnTo>
                  <a:lnTo>
                    <a:pt x="1561" y="630"/>
                  </a:lnTo>
                  <a:lnTo>
                    <a:pt x="1555" y="647"/>
                  </a:lnTo>
                  <a:lnTo>
                    <a:pt x="1554" y="663"/>
                  </a:lnTo>
                  <a:lnTo>
                    <a:pt x="1556" y="676"/>
                  </a:lnTo>
                  <a:lnTo>
                    <a:pt x="1562" y="687"/>
                  </a:lnTo>
                  <a:lnTo>
                    <a:pt x="1576" y="702"/>
                  </a:lnTo>
                  <a:lnTo>
                    <a:pt x="1596" y="719"/>
                  </a:lnTo>
                  <a:lnTo>
                    <a:pt x="1619" y="734"/>
                  </a:lnTo>
                  <a:lnTo>
                    <a:pt x="1643" y="747"/>
                  </a:lnTo>
                  <a:lnTo>
                    <a:pt x="1668" y="758"/>
                  </a:lnTo>
                  <a:lnTo>
                    <a:pt x="1692" y="766"/>
                  </a:lnTo>
                  <a:lnTo>
                    <a:pt x="1714" y="768"/>
                  </a:lnTo>
                  <a:lnTo>
                    <a:pt x="1731" y="766"/>
                  </a:lnTo>
                  <a:lnTo>
                    <a:pt x="1740" y="761"/>
                  </a:lnTo>
                  <a:lnTo>
                    <a:pt x="1745" y="755"/>
                  </a:lnTo>
                  <a:lnTo>
                    <a:pt x="1748" y="750"/>
                  </a:lnTo>
                  <a:lnTo>
                    <a:pt x="1749" y="745"/>
                  </a:lnTo>
                  <a:lnTo>
                    <a:pt x="1749" y="742"/>
                  </a:lnTo>
                  <a:lnTo>
                    <a:pt x="1748" y="738"/>
                  </a:lnTo>
                  <a:lnTo>
                    <a:pt x="1748" y="735"/>
                  </a:lnTo>
                  <a:lnTo>
                    <a:pt x="1746" y="731"/>
                  </a:lnTo>
                  <a:lnTo>
                    <a:pt x="1755" y="732"/>
                  </a:lnTo>
                  <a:lnTo>
                    <a:pt x="1761" y="734"/>
                  </a:lnTo>
                  <a:lnTo>
                    <a:pt x="1768" y="735"/>
                  </a:lnTo>
                  <a:lnTo>
                    <a:pt x="1775" y="735"/>
                  </a:lnTo>
                  <a:lnTo>
                    <a:pt x="1780" y="734"/>
                  </a:lnTo>
                  <a:lnTo>
                    <a:pt x="1784" y="732"/>
                  </a:lnTo>
                  <a:lnTo>
                    <a:pt x="1789" y="731"/>
                  </a:lnTo>
                  <a:lnTo>
                    <a:pt x="1793" y="729"/>
                  </a:lnTo>
                  <a:lnTo>
                    <a:pt x="1796" y="727"/>
                  </a:lnTo>
                  <a:lnTo>
                    <a:pt x="1798" y="723"/>
                  </a:lnTo>
                  <a:lnTo>
                    <a:pt x="1799" y="720"/>
                  </a:lnTo>
                  <a:lnTo>
                    <a:pt x="1799" y="715"/>
                  </a:lnTo>
                  <a:lnTo>
                    <a:pt x="1798" y="708"/>
                  </a:lnTo>
                  <a:lnTo>
                    <a:pt x="1795" y="700"/>
                  </a:lnTo>
                  <a:lnTo>
                    <a:pt x="1790" y="691"/>
                  </a:lnTo>
                  <a:lnTo>
                    <a:pt x="1782" y="681"/>
                  </a:lnTo>
                  <a:lnTo>
                    <a:pt x="1771" y="669"/>
                  </a:lnTo>
                  <a:lnTo>
                    <a:pt x="1758" y="655"/>
                  </a:lnTo>
                  <a:lnTo>
                    <a:pt x="1743" y="641"/>
                  </a:lnTo>
                  <a:lnTo>
                    <a:pt x="1726" y="625"/>
                  </a:lnTo>
                  <a:lnTo>
                    <a:pt x="1734" y="609"/>
                  </a:lnTo>
                  <a:lnTo>
                    <a:pt x="1740" y="592"/>
                  </a:lnTo>
                  <a:lnTo>
                    <a:pt x="1737" y="573"/>
                  </a:lnTo>
                  <a:lnTo>
                    <a:pt x="1728" y="556"/>
                  </a:lnTo>
                  <a:lnTo>
                    <a:pt x="1723" y="552"/>
                  </a:lnTo>
                  <a:lnTo>
                    <a:pt x="1719" y="548"/>
                  </a:lnTo>
                  <a:lnTo>
                    <a:pt x="1714" y="543"/>
                  </a:lnTo>
                  <a:lnTo>
                    <a:pt x="1710" y="540"/>
                  </a:lnTo>
                  <a:lnTo>
                    <a:pt x="1708" y="539"/>
                  </a:lnTo>
                  <a:lnTo>
                    <a:pt x="1707" y="535"/>
                  </a:lnTo>
                  <a:lnTo>
                    <a:pt x="1705" y="527"/>
                  </a:lnTo>
                  <a:lnTo>
                    <a:pt x="1702" y="517"/>
                  </a:lnTo>
                  <a:lnTo>
                    <a:pt x="1696" y="503"/>
                  </a:lnTo>
                  <a:lnTo>
                    <a:pt x="1689" y="487"/>
                  </a:lnTo>
                  <a:lnTo>
                    <a:pt x="1681" y="469"/>
                  </a:lnTo>
                  <a:lnTo>
                    <a:pt x="1670" y="449"/>
                  </a:lnTo>
                  <a:lnTo>
                    <a:pt x="1658" y="427"/>
                  </a:lnTo>
                  <a:lnTo>
                    <a:pt x="1644" y="405"/>
                  </a:lnTo>
                  <a:lnTo>
                    <a:pt x="1629" y="383"/>
                  </a:lnTo>
                  <a:lnTo>
                    <a:pt x="1610" y="361"/>
                  </a:lnTo>
                  <a:lnTo>
                    <a:pt x="1591" y="340"/>
                  </a:lnTo>
                  <a:lnTo>
                    <a:pt x="1569" y="319"/>
                  </a:lnTo>
                  <a:lnTo>
                    <a:pt x="1545" y="300"/>
                  </a:lnTo>
                  <a:lnTo>
                    <a:pt x="1518" y="283"/>
                  </a:lnTo>
                  <a:lnTo>
                    <a:pt x="1489" y="268"/>
                  </a:lnTo>
                  <a:lnTo>
                    <a:pt x="1461" y="259"/>
                  </a:lnTo>
                  <a:lnTo>
                    <a:pt x="1430" y="255"/>
                  </a:lnTo>
                  <a:lnTo>
                    <a:pt x="1397" y="257"/>
                  </a:lnTo>
                  <a:lnTo>
                    <a:pt x="1363" y="262"/>
                  </a:lnTo>
                  <a:lnTo>
                    <a:pt x="1327" y="272"/>
                  </a:lnTo>
                  <a:lnTo>
                    <a:pt x="1292" y="284"/>
                  </a:lnTo>
                  <a:lnTo>
                    <a:pt x="1257" y="298"/>
                  </a:lnTo>
                  <a:lnTo>
                    <a:pt x="1221" y="315"/>
                  </a:lnTo>
                  <a:lnTo>
                    <a:pt x="1188" y="333"/>
                  </a:lnTo>
                  <a:lnTo>
                    <a:pt x="1154" y="352"/>
                  </a:lnTo>
                  <a:lnTo>
                    <a:pt x="1124" y="371"/>
                  </a:lnTo>
                  <a:lnTo>
                    <a:pt x="1095" y="389"/>
                  </a:lnTo>
                  <a:lnTo>
                    <a:pt x="1070" y="406"/>
                  </a:lnTo>
                  <a:lnTo>
                    <a:pt x="1048" y="422"/>
                  </a:lnTo>
                  <a:lnTo>
                    <a:pt x="1029" y="436"/>
                  </a:lnTo>
                  <a:lnTo>
                    <a:pt x="1015" y="447"/>
                  </a:lnTo>
                  <a:lnTo>
                    <a:pt x="1004" y="427"/>
                  </a:lnTo>
                  <a:lnTo>
                    <a:pt x="989" y="402"/>
                  </a:lnTo>
                  <a:lnTo>
                    <a:pt x="971" y="372"/>
                  </a:lnTo>
                  <a:lnTo>
                    <a:pt x="949" y="337"/>
                  </a:lnTo>
                  <a:lnTo>
                    <a:pt x="925" y="299"/>
                  </a:lnTo>
                  <a:lnTo>
                    <a:pt x="898" y="260"/>
                  </a:lnTo>
                  <a:lnTo>
                    <a:pt x="870" y="221"/>
                  </a:lnTo>
                  <a:lnTo>
                    <a:pt x="838" y="181"/>
                  </a:lnTo>
                  <a:lnTo>
                    <a:pt x="805" y="143"/>
                  </a:lnTo>
                  <a:lnTo>
                    <a:pt x="772" y="107"/>
                  </a:lnTo>
                  <a:lnTo>
                    <a:pt x="736" y="75"/>
                  </a:lnTo>
                  <a:lnTo>
                    <a:pt x="700" y="47"/>
                  </a:lnTo>
                  <a:lnTo>
                    <a:pt x="663" y="24"/>
                  </a:lnTo>
                  <a:lnTo>
                    <a:pt x="628" y="8"/>
                  </a:lnTo>
                  <a:lnTo>
                    <a:pt x="591" y="0"/>
                  </a:lnTo>
                  <a:lnTo>
                    <a:pt x="555" y="1"/>
                  </a:lnTo>
                  <a:lnTo>
                    <a:pt x="522" y="10"/>
                  </a:lnTo>
                  <a:lnTo>
                    <a:pt x="487" y="25"/>
                  </a:lnTo>
                  <a:lnTo>
                    <a:pt x="450" y="47"/>
                  </a:lnTo>
                  <a:lnTo>
                    <a:pt x="413" y="73"/>
                  </a:lnTo>
                  <a:lnTo>
                    <a:pt x="376" y="104"/>
                  </a:lnTo>
                  <a:lnTo>
                    <a:pt x="340" y="139"/>
                  </a:lnTo>
                  <a:lnTo>
                    <a:pt x="303" y="177"/>
                  </a:lnTo>
                  <a:lnTo>
                    <a:pt x="268" y="217"/>
                  </a:lnTo>
                  <a:lnTo>
                    <a:pt x="236" y="258"/>
                  </a:lnTo>
                  <a:lnTo>
                    <a:pt x="205" y="299"/>
                  </a:lnTo>
                  <a:lnTo>
                    <a:pt x="177" y="341"/>
                  </a:lnTo>
                  <a:lnTo>
                    <a:pt x="154" y="381"/>
                  </a:lnTo>
                  <a:lnTo>
                    <a:pt x="133" y="419"/>
                  </a:lnTo>
                  <a:lnTo>
                    <a:pt x="118" y="455"/>
                  </a:lnTo>
                  <a:lnTo>
                    <a:pt x="108" y="486"/>
                  </a:lnTo>
                  <a:lnTo>
                    <a:pt x="103" y="513"/>
                  </a:lnTo>
                  <a:lnTo>
                    <a:pt x="103" y="527"/>
                  </a:lnTo>
                  <a:lnTo>
                    <a:pt x="106" y="539"/>
                  </a:lnTo>
                  <a:lnTo>
                    <a:pt x="109" y="548"/>
                  </a:lnTo>
                  <a:lnTo>
                    <a:pt x="114" y="556"/>
                  </a:lnTo>
                  <a:lnTo>
                    <a:pt x="120" y="562"/>
                  </a:lnTo>
                  <a:lnTo>
                    <a:pt x="125" y="565"/>
                  </a:lnTo>
                  <a:lnTo>
                    <a:pt x="131" y="569"/>
                  </a:lnTo>
                  <a:lnTo>
                    <a:pt x="136" y="571"/>
                  </a:lnTo>
                  <a:lnTo>
                    <a:pt x="155" y="576"/>
                  </a:lnTo>
                  <a:lnTo>
                    <a:pt x="175" y="579"/>
                  </a:lnTo>
                  <a:lnTo>
                    <a:pt x="197" y="583"/>
                  </a:lnTo>
                  <a:lnTo>
                    <a:pt x="220" y="585"/>
                  </a:lnTo>
                  <a:lnTo>
                    <a:pt x="243" y="586"/>
                  </a:lnTo>
                  <a:lnTo>
                    <a:pt x="266" y="586"/>
                  </a:lnTo>
                  <a:lnTo>
                    <a:pt x="289" y="586"/>
                  </a:lnTo>
                  <a:lnTo>
                    <a:pt x="312" y="585"/>
                  </a:lnTo>
                  <a:lnTo>
                    <a:pt x="334" y="584"/>
                  </a:lnTo>
                  <a:lnTo>
                    <a:pt x="355" y="583"/>
                  </a:lnTo>
                  <a:lnTo>
                    <a:pt x="374" y="581"/>
                  </a:lnTo>
                  <a:lnTo>
                    <a:pt x="393" y="579"/>
                  </a:lnTo>
                  <a:lnTo>
                    <a:pt x="410" y="578"/>
                  </a:lnTo>
                  <a:lnTo>
                    <a:pt x="424" y="576"/>
                  </a:lnTo>
                  <a:lnTo>
                    <a:pt x="436" y="575"/>
                  </a:lnTo>
                  <a:lnTo>
                    <a:pt x="446" y="573"/>
                  </a:lnTo>
                  <a:lnTo>
                    <a:pt x="569" y="763"/>
                  </a:lnTo>
                  <a:lnTo>
                    <a:pt x="559" y="773"/>
                  </a:lnTo>
                  <a:lnTo>
                    <a:pt x="548" y="783"/>
                  </a:lnTo>
                  <a:lnTo>
                    <a:pt x="534" y="795"/>
                  </a:lnTo>
                  <a:lnTo>
                    <a:pt x="520" y="806"/>
                  </a:lnTo>
                  <a:lnTo>
                    <a:pt x="507" y="818"/>
                  </a:lnTo>
                  <a:lnTo>
                    <a:pt x="491" y="830"/>
                  </a:lnTo>
                  <a:lnTo>
                    <a:pt x="474" y="842"/>
                  </a:lnTo>
                  <a:lnTo>
                    <a:pt x="458" y="853"/>
                  </a:lnTo>
                  <a:lnTo>
                    <a:pt x="442" y="864"/>
                  </a:lnTo>
                  <a:lnTo>
                    <a:pt x="425" y="873"/>
                  </a:lnTo>
                  <a:lnTo>
                    <a:pt x="409" y="881"/>
                  </a:lnTo>
                  <a:lnTo>
                    <a:pt x="393" y="888"/>
                  </a:lnTo>
                  <a:lnTo>
                    <a:pt x="378" y="893"/>
                  </a:lnTo>
                  <a:lnTo>
                    <a:pt x="363" y="896"/>
                  </a:lnTo>
                  <a:lnTo>
                    <a:pt x="350" y="896"/>
                  </a:lnTo>
                  <a:lnTo>
                    <a:pt x="337" y="895"/>
                  </a:lnTo>
                  <a:lnTo>
                    <a:pt x="319" y="889"/>
                  </a:lnTo>
                  <a:lnTo>
                    <a:pt x="303" y="881"/>
                  </a:lnTo>
                  <a:lnTo>
                    <a:pt x="289" y="872"/>
                  </a:lnTo>
                  <a:lnTo>
                    <a:pt x="276" y="861"/>
                  </a:lnTo>
                  <a:lnTo>
                    <a:pt x="265" y="851"/>
                  </a:lnTo>
                  <a:lnTo>
                    <a:pt x="255" y="841"/>
                  </a:lnTo>
                  <a:lnTo>
                    <a:pt x="247" y="830"/>
                  </a:lnTo>
                  <a:lnTo>
                    <a:pt x="240" y="821"/>
                  </a:lnTo>
                  <a:lnTo>
                    <a:pt x="246" y="811"/>
                  </a:lnTo>
                  <a:lnTo>
                    <a:pt x="254" y="797"/>
                  </a:lnTo>
                  <a:lnTo>
                    <a:pt x="264" y="781"/>
                  </a:lnTo>
                  <a:lnTo>
                    <a:pt x="272" y="761"/>
                  </a:lnTo>
                  <a:lnTo>
                    <a:pt x="279" y="742"/>
                  </a:lnTo>
                  <a:lnTo>
                    <a:pt x="283" y="721"/>
                  </a:lnTo>
                  <a:lnTo>
                    <a:pt x="284" y="701"/>
                  </a:lnTo>
                  <a:lnTo>
                    <a:pt x="282" y="682"/>
                  </a:lnTo>
                  <a:lnTo>
                    <a:pt x="277" y="670"/>
                  </a:lnTo>
                  <a:lnTo>
                    <a:pt x="270" y="660"/>
                  </a:lnTo>
                  <a:lnTo>
                    <a:pt x="261" y="652"/>
                  </a:lnTo>
                  <a:lnTo>
                    <a:pt x="250" y="645"/>
                  </a:lnTo>
                  <a:lnTo>
                    <a:pt x="242" y="643"/>
                  </a:lnTo>
                  <a:lnTo>
                    <a:pt x="234" y="640"/>
                  </a:lnTo>
                  <a:lnTo>
                    <a:pt x="226" y="639"/>
                  </a:lnTo>
                  <a:lnTo>
                    <a:pt x="217" y="639"/>
                  </a:lnTo>
                  <a:lnTo>
                    <a:pt x="208" y="639"/>
                  </a:lnTo>
                  <a:lnTo>
                    <a:pt x="199" y="640"/>
                  </a:lnTo>
                  <a:lnTo>
                    <a:pt x="190" y="643"/>
                  </a:lnTo>
                  <a:lnTo>
                    <a:pt x="181" y="646"/>
                  </a:lnTo>
                  <a:lnTo>
                    <a:pt x="171" y="639"/>
                  </a:lnTo>
                  <a:lnTo>
                    <a:pt x="158" y="631"/>
                  </a:lnTo>
                  <a:lnTo>
                    <a:pt x="140" y="621"/>
                  </a:lnTo>
                  <a:lnTo>
                    <a:pt x="121" y="611"/>
                  </a:lnTo>
                  <a:lnTo>
                    <a:pt x="100" y="604"/>
                  </a:lnTo>
                  <a:lnTo>
                    <a:pt x="80" y="601"/>
                  </a:lnTo>
                  <a:lnTo>
                    <a:pt x="61" y="603"/>
                  </a:lnTo>
                  <a:lnTo>
                    <a:pt x="45" y="611"/>
                  </a:lnTo>
                  <a:lnTo>
                    <a:pt x="32" y="630"/>
                  </a:lnTo>
                  <a:lnTo>
                    <a:pt x="31" y="647"/>
                  </a:lnTo>
                  <a:lnTo>
                    <a:pt x="35" y="663"/>
                  </a:lnTo>
                  <a:lnTo>
                    <a:pt x="43" y="677"/>
                  </a:lnTo>
                  <a:lnTo>
                    <a:pt x="46" y="681"/>
                  </a:lnTo>
                  <a:lnTo>
                    <a:pt x="48" y="685"/>
                  </a:lnTo>
                  <a:lnTo>
                    <a:pt x="49" y="689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46" y="696"/>
                  </a:lnTo>
                  <a:lnTo>
                    <a:pt x="41" y="699"/>
                  </a:lnTo>
                  <a:lnTo>
                    <a:pt x="35" y="701"/>
                  </a:lnTo>
                  <a:lnTo>
                    <a:pt x="31" y="704"/>
                  </a:lnTo>
                  <a:lnTo>
                    <a:pt x="24" y="707"/>
                  </a:lnTo>
                  <a:lnTo>
                    <a:pt x="17" y="710"/>
                  </a:lnTo>
                  <a:lnTo>
                    <a:pt x="10" y="716"/>
                  </a:lnTo>
                  <a:lnTo>
                    <a:pt x="4" y="722"/>
                  </a:lnTo>
                  <a:lnTo>
                    <a:pt x="1" y="730"/>
                  </a:lnTo>
                  <a:lnTo>
                    <a:pt x="0" y="740"/>
                  </a:lnTo>
                  <a:lnTo>
                    <a:pt x="1" y="753"/>
                  </a:lnTo>
                  <a:lnTo>
                    <a:pt x="5" y="768"/>
                  </a:lnTo>
                  <a:lnTo>
                    <a:pt x="15" y="785"/>
                  </a:lnTo>
                  <a:lnTo>
                    <a:pt x="26" y="799"/>
                  </a:lnTo>
                  <a:lnTo>
                    <a:pt x="39" y="812"/>
                  </a:lnTo>
                  <a:lnTo>
                    <a:pt x="53" y="821"/>
                  </a:lnTo>
                  <a:lnTo>
                    <a:pt x="67" y="828"/>
                  </a:lnTo>
                  <a:lnTo>
                    <a:pt x="79" y="833"/>
                  </a:lnTo>
                  <a:lnTo>
                    <a:pt x="92" y="835"/>
                  </a:lnTo>
                  <a:lnTo>
                    <a:pt x="102" y="836"/>
                  </a:lnTo>
                  <a:lnTo>
                    <a:pt x="155" y="849"/>
                  </a:lnTo>
                  <a:lnTo>
                    <a:pt x="160" y="858"/>
                  </a:lnTo>
                  <a:lnTo>
                    <a:pt x="164" y="869"/>
                  </a:lnTo>
                  <a:lnTo>
                    <a:pt x="173" y="884"/>
                  </a:lnTo>
                  <a:lnTo>
                    <a:pt x="181" y="901"/>
                  </a:lnTo>
                  <a:lnTo>
                    <a:pt x="191" y="918"/>
                  </a:lnTo>
                  <a:lnTo>
                    <a:pt x="204" y="936"/>
                  </a:lnTo>
                  <a:lnTo>
                    <a:pt x="216" y="956"/>
                  </a:lnTo>
                  <a:lnTo>
                    <a:pt x="231" y="974"/>
                  </a:lnTo>
                  <a:lnTo>
                    <a:pt x="247" y="993"/>
                  </a:lnTo>
                  <a:lnTo>
                    <a:pt x="266" y="1010"/>
                  </a:lnTo>
                  <a:lnTo>
                    <a:pt x="284" y="1026"/>
                  </a:lnTo>
                  <a:lnTo>
                    <a:pt x="305" y="1040"/>
                  </a:lnTo>
                  <a:lnTo>
                    <a:pt x="327" y="1052"/>
                  </a:lnTo>
                  <a:lnTo>
                    <a:pt x="350" y="1060"/>
                  </a:lnTo>
                  <a:lnTo>
                    <a:pt x="375" y="1064"/>
                  </a:lnTo>
                  <a:lnTo>
                    <a:pt x="401" y="1065"/>
                  </a:lnTo>
                  <a:lnTo>
                    <a:pt x="423" y="1064"/>
                  </a:lnTo>
                  <a:lnTo>
                    <a:pt x="446" y="1062"/>
                  </a:lnTo>
                  <a:lnTo>
                    <a:pt x="467" y="1060"/>
                  </a:lnTo>
                  <a:lnTo>
                    <a:pt x="488" y="1057"/>
                  </a:lnTo>
                  <a:lnTo>
                    <a:pt x="510" y="1054"/>
                  </a:lnTo>
                  <a:lnTo>
                    <a:pt x="531" y="1050"/>
                  </a:lnTo>
                  <a:lnTo>
                    <a:pt x="550" y="1046"/>
                  </a:lnTo>
                  <a:lnTo>
                    <a:pt x="570" y="1042"/>
                  </a:lnTo>
                  <a:lnTo>
                    <a:pt x="587" y="1038"/>
                  </a:lnTo>
                  <a:lnTo>
                    <a:pt x="605" y="1033"/>
                  </a:lnTo>
                  <a:lnTo>
                    <a:pt x="621" y="1030"/>
                  </a:lnTo>
                  <a:lnTo>
                    <a:pt x="636" y="1025"/>
                  </a:lnTo>
                  <a:lnTo>
                    <a:pt x="650" y="1022"/>
                  </a:lnTo>
                  <a:lnTo>
                    <a:pt x="661" y="1018"/>
                  </a:lnTo>
                  <a:lnTo>
                    <a:pt x="671" y="1015"/>
                  </a:lnTo>
                  <a:lnTo>
                    <a:pt x="681" y="1012"/>
                  </a:lnTo>
                  <a:lnTo>
                    <a:pt x="691" y="1025"/>
                  </a:lnTo>
                  <a:lnTo>
                    <a:pt x="701" y="1038"/>
                  </a:lnTo>
                  <a:lnTo>
                    <a:pt x="713" y="1050"/>
                  </a:lnTo>
                  <a:lnTo>
                    <a:pt x="724" y="1063"/>
                  </a:lnTo>
                  <a:lnTo>
                    <a:pt x="737" y="1077"/>
                  </a:lnTo>
                  <a:lnTo>
                    <a:pt x="750" y="1091"/>
                  </a:lnTo>
                  <a:lnTo>
                    <a:pt x="762" y="1105"/>
                  </a:lnTo>
                  <a:lnTo>
                    <a:pt x="775" y="1118"/>
                  </a:lnTo>
                  <a:lnTo>
                    <a:pt x="782" y="1176"/>
                  </a:lnTo>
                  <a:lnTo>
                    <a:pt x="765" y="1184"/>
                  </a:lnTo>
                  <a:lnTo>
                    <a:pt x="747" y="1194"/>
                  </a:lnTo>
                  <a:lnTo>
                    <a:pt x="728" y="1204"/>
                  </a:lnTo>
                  <a:lnTo>
                    <a:pt x="709" y="1214"/>
                  </a:lnTo>
                  <a:lnTo>
                    <a:pt x="690" y="1225"/>
                  </a:lnTo>
                  <a:lnTo>
                    <a:pt x="670" y="1236"/>
                  </a:lnTo>
                  <a:lnTo>
                    <a:pt x="651" y="1247"/>
                  </a:lnTo>
                  <a:lnTo>
                    <a:pt x="632" y="1258"/>
                  </a:lnTo>
                  <a:lnTo>
                    <a:pt x="616" y="1268"/>
                  </a:lnTo>
                  <a:lnTo>
                    <a:pt x="599" y="1278"/>
                  </a:lnTo>
                  <a:lnTo>
                    <a:pt x="582" y="1290"/>
                  </a:lnTo>
                  <a:lnTo>
                    <a:pt x="564" y="1302"/>
                  </a:lnTo>
                  <a:lnTo>
                    <a:pt x="547" y="1313"/>
                  </a:lnTo>
                  <a:lnTo>
                    <a:pt x="531" y="1326"/>
                  </a:lnTo>
                  <a:lnTo>
                    <a:pt x="515" y="1337"/>
                  </a:lnTo>
                  <a:lnTo>
                    <a:pt x="500" y="1348"/>
                  </a:lnTo>
                  <a:lnTo>
                    <a:pt x="485" y="1359"/>
                  </a:lnTo>
                  <a:lnTo>
                    <a:pt x="472" y="1368"/>
                  </a:lnTo>
                  <a:lnTo>
                    <a:pt x="461" y="1378"/>
                  </a:lnTo>
                  <a:lnTo>
                    <a:pt x="450" y="1384"/>
                  </a:lnTo>
                  <a:lnTo>
                    <a:pt x="442" y="1391"/>
                  </a:lnTo>
                  <a:lnTo>
                    <a:pt x="436" y="1396"/>
                  </a:lnTo>
                  <a:lnTo>
                    <a:pt x="432" y="1398"/>
                  </a:lnTo>
                  <a:lnTo>
                    <a:pt x="431" y="1399"/>
                  </a:lnTo>
                  <a:lnTo>
                    <a:pt x="420" y="1408"/>
                  </a:lnTo>
                  <a:lnTo>
                    <a:pt x="412" y="1405"/>
                  </a:lnTo>
                  <a:lnTo>
                    <a:pt x="404" y="1402"/>
                  </a:lnTo>
                  <a:lnTo>
                    <a:pt x="395" y="1397"/>
                  </a:lnTo>
                  <a:lnTo>
                    <a:pt x="386" y="1393"/>
                  </a:lnTo>
                  <a:lnTo>
                    <a:pt x="378" y="1386"/>
                  </a:lnTo>
                  <a:lnTo>
                    <a:pt x="370" y="1379"/>
                  </a:lnTo>
                  <a:lnTo>
                    <a:pt x="363" y="1369"/>
                  </a:lnTo>
                  <a:lnTo>
                    <a:pt x="357" y="1360"/>
                  </a:lnTo>
                  <a:lnTo>
                    <a:pt x="351" y="1344"/>
                  </a:lnTo>
                  <a:lnTo>
                    <a:pt x="345" y="1328"/>
                  </a:lnTo>
                  <a:lnTo>
                    <a:pt x="341" y="1314"/>
                  </a:lnTo>
                  <a:lnTo>
                    <a:pt x="336" y="1302"/>
                  </a:lnTo>
                  <a:lnTo>
                    <a:pt x="330" y="1292"/>
                  </a:lnTo>
                  <a:lnTo>
                    <a:pt x="323" y="1285"/>
                  </a:lnTo>
                  <a:lnTo>
                    <a:pt x="315" y="1282"/>
                  </a:lnTo>
                  <a:lnTo>
                    <a:pt x="305" y="1282"/>
                  </a:lnTo>
                  <a:lnTo>
                    <a:pt x="293" y="1289"/>
                  </a:lnTo>
                  <a:lnTo>
                    <a:pt x="284" y="1302"/>
                  </a:lnTo>
                  <a:lnTo>
                    <a:pt x="277" y="1319"/>
                  </a:lnTo>
                  <a:lnTo>
                    <a:pt x="274" y="1341"/>
                  </a:lnTo>
                  <a:lnTo>
                    <a:pt x="276" y="1364"/>
                  </a:lnTo>
                  <a:lnTo>
                    <a:pt x="282" y="1386"/>
                  </a:lnTo>
                  <a:lnTo>
                    <a:pt x="296" y="1408"/>
                  </a:lnTo>
                  <a:lnTo>
                    <a:pt x="315" y="1425"/>
                  </a:lnTo>
                  <a:lnTo>
                    <a:pt x="338" y="1439"/>
                  </a:lnTo>
                  <a:lnTo>
                    <a:pt x="357" y="1449"/>
                  </a:lnTo>
                  <a:lnTo>
                    <a:pt x="374" y="1457"/>
                  </a:lnTo>
                  <a:lnTo>
                    <a:pt x="387" y="1462"/>
                  </a:lnTo>
                  <a:lnTo>
                    <a:pt x="397" y="1465"/>
                  </a:lnTo>
                  <a:lnTo>
                    <a:pt x="404" y="1467"/>
                  </a:lnTo>
                  <a:lnTo>
                    <a:pt x="409" y="1469"/>
                  </a:lnTo>
                  <a:lnTo>
                    <a:pt x="410" y="1469"/>
                  </a:lnTo>
                  <a:lnTo>
                    <a:pt x="394" y="1486"/>
                  </a:lnTo>
                  <a:lnTo>
                    <a:pt x="416" y="1517"/>
                  </a:lnTo>
                  <a:lnTo>
                    <a:pt x="417" y="1517"/>
                  </a:lnTo>
                  <a:lnTo>
                    <a:pt x="419" y="1517"/>
                  </a:lnTo>
                  <a:lnTo>
                    <a:pt x="424" y="1516"/>
                  </a:lnTo>
                  <a:lnTo>
                    <a:pt x="428" y="1515"/>
                  </a:lnTo>
                  <a:lnTo>
                    <a:pt x="434" y="1512"/>
                  </a:lnTo>
                  <a:lnTo>
                    <a:pt x="440" y="1509"/>
                  </a:lnTo>
                  <a:lnTo>
                    <a:pt x="446" y="1504"/>
                  </a:lnTo>
                  <a:lnTo>
                    <a:pt x="451" y="1499"/>
                  </a:lnTo>
                  <a:lnTo>
                    <a:pt x="456" y="1493"/>
                  </a:lnTo>
                  <a:lnTo>
                    <a:pt x="461" y="1486"/>
                  </a:lnTo>
                  <a:lnTo>
                    <a:pt x="464" y="1479"/>
                  </a:lnTo>
                  <a:lnTo>
                    <a:pt x="469" y="1473"/>
                  </a:lnTo>
                  <a:lnTo>
                    <a:pt x="469" y="1473"/>
                  </a:lnTo>
                  <a:lnTo>
                    <a:pt x="479" y="1469"/>
                  </a:lnTo>
                  <a:lnTo>
                    <a:pt x="481" y="1467"/>
                  </a:lnTo>
                  <a:lnTo>
                    <a:pt x="487" y="1465"/>
                  </a:lnTo>
                  <a:lnTo>
                    <a:pt x="495" y="1462"/>
                  </a:lnTo>
                  <a:lnTo>
                    <a:pt x="507" y="1456"/>
                  </a:lnTo>
                  <a:lnTo>
                    <a:pt x="520" y="1450"/>
                  </a:lnTo>
                  <a:lnTo>
                    <a:pt x="535" y="1443"/>
                  </a:lnTo>
                  <a:lnTo>
                    <a:pt x="554" y="1435"/>
                  </a:lnTo>
                  <a:lnTo>
                    <a:pt x="573" y="1427"/>
                  </a:lnTo>
                  <a:lnTo>
                    <a:pt x="594" y="1418"/>
                  </a:lnTo>
                  <a:lnTo>
                    <a:pt x="616" y="1409"/>
                  </a:lnTo>
                  <a:lnTo>
                    <a:pt x="639" y="1399"/>
                  </a:lnTo>
                  <a:lnTo>
                    <a:pt x="662" y="1390"/>
                  </a:lnTo>
                  <a:lnTo>
                    <a:pt x="686" y="1381"/>
                  </a:lnTo>
                  <a:lnTo>
                    <a:pt x="711" y="1373"/>
                  </a:lnTo>
                  <a:lnTo>
                    <a:pt x="734" y="1365"/>
                  </a:lnTo>
                  <a:lnTo>
                    <a:pt x="757" y="1357"/>
                  </a:lnTo>
                  <a:lnTo>
                    <a:pt x="762" y="1355"/>
                  </a:lnTo>
                  <a:lnTo>
                    <a:pt x="768" y="1353"/>
                  </a:lnTo>
                  <a:lnTo>
                    <a:pt x="774" y="1351"/>
                  </a:lnTo>
                  <a:lnTo>
                    <a:pt x="780" y="1350"/>
                  </a:lnTo>
                  <a:lnTo>
                    <a:pt x="784" y="1348"/>
                  </a:lnTo>
                  <a:lnTo>
                    <a:pt x="790" y="1346"/>
                  </a:lnTo>
                  <a:lnTo>
                    <a:pt x="796" y="1344"/>
                  </a:lnTo>
                  <a:lnTo>
                    <a:pt x="802" y="1343"/>
                  </a:lnTo>
                  <a:lnTo>
                    <a:pt x="810" y="1401"/>
                  </a:lnTo>
                  <a:lnTo>
                    <a:pt x="1390" y="1311"/>
                  </a:lnTo>
                  <a:lnTo>
                    <a:pt x="1569" y="1408"/>
                  </a:lnTo>
                  <a:lnTo>
                    <a:pt x="1623" y="1342"/>
                  </a:lnTo>
                  <a:lnTo>
                    <a:pt x="1629" y="1344"/>
                  </a:lnTo>
                  <a:lnTo>
                    <a:pt x="1634" y="1345"/>
                  </a:lnTo>
                  <a:lnTo>
                    <a:pt x="1639" y="1348"/>
                  </a:lnTo>
                  <a:lnTo>
                    <a:pt x="1645" y="1349"/>
                  </a:lnTo>
                  <a:lnTo>
                    <a:pt x="1650" y="1351"/>
                  </a:lnTo>
                  <a:lnTo>
                    <a:pt x="1655" y="1353"/>
                  </a:lnTo>
                  <a:lnTo>
                    <a:pt x="1661" y="1355"/>
                  </a:lnTo>
                  <a:lnTo>
                    <a:pt x="1667" y="1357"/>
                  </a:lnTo>
                  <a:lnTo>
                    <a:pt x="1687" y="1361"/>
                  </a:lnTo>
                  <a:lnTo>
                    <a:pt x="1706" y="1365"/>
                  </a:lnTo>
                  <a:lnTo>
                    <a:pt x="1726" y="1367"/>
                  </a:lnTo>
                  <a:lnTo>
                    <a:pt x="1746" y="1367"/>
                  </a:lnTo>
                  <a:lnTo>
                    <a:pt x="1766" y="1367"/>
                  </a:lnTo>
                  <a:lnTo>
                    <a:pt x="1786" y="1365"/>
                  </a:lnTo>
                  <a:lnTo>
                    <a:pt x="1804" y="1363"/>
                  </a:lnTo>
                  <a:lnTo>
                    <a:pt x="1822" y="1359"/>
                  </a:lnTo>
                  <a:lnTo>
                    <a:pt x="1839" y="1356"/>
                  </a:lnTo>
                  <a:lnTo>
                    <a:pt x="1855" y="1352"/>
                  </a:lnTo>
                  <a:lnTo>
                    <a:pt x="1869" y="1348"/>
                  </a:lnTo>
                  <a:lnTo>
                    <a:pt x="1881" y="1344"/>
                  </a:lnTo>
                  <a:lnTo>
                    <a:pt x="1892" y="1341"/>
                  </a:lnTo>
                  <a:lnTo>
                    <a:pt x="1901" y="1337"/>
                  </a:lnTo>
                  <a:lnTo>
                    <a:pt x="1907" y="1335"/>
                  </a:lnTo>
                  <a:lnTo>
                    <a:pt x="1911" y="1334"/>
                  </a:lnTo>
                  <a:lnTo>
                    <a:pt x="1918" y="1340"/>
                  </a:lnTo>
                  <a:lnTo>
                    <a:pt x="1925" y="1345"/>
                  </a:lnTo>
                  <a:lnTo>
                    <a:pt x="1932" y="1353"/>
                  </a:lnTo>
                  <a:lnTo>
                    <a:pt x="1939" y="1361"/>
                  </a:lnTo>
                  <a:lnTo>
                    <a:pt x="1945" y="1371"/>
                  </a:lnTo>
                  <a:lnTo>
                    <a:pt x="1950" y="1381"/>
                  </a:lnTo>
                  <a:lnTo>
                    <a:pt x="1954" y="1393"/>
                  </a:lnTo>
                  <a:lnTo>
                    <a:pt x="1955" y="1404"/>
                  </a:lnTo>
                  <a:lnTo>
                    <a:pt x="1954" y="1437"/>
                  </a:lnTo>
                  <a:lnTo>
                    <a:pt x="1953" y="1465"/>
                  </a:lnTo>
                  <a:lnTo>
                    <a:pt x="1958" y="1486"/>
                  </a:lnTo>
                  <a:lnTo>
                    <a:pt x="1975" y="1496"/>
                  </a:lnTo>
                  <a:lnTo>
                    <a:pt x="1987" y="1494"/>
                  </a:lnTo>
                  <a:lnTo>
                    <a:pt x="2001" y="1486"/>
                  </a:lnTo>
                  <a:lnTo>
                    <a:pt x="2014" y="1471"/>
                  </a:lnTo>
                  <a:lnTo>
                    <a:pt x="2024" y="1452"/>
                  </a:lnTo>
                  <a:lnTo>
                    <a:pt x="2031" y="1431"/>
                  </a:lnTo>
                  <a:lnTo>
                    <a:pt x="2033" y="1408"/>
                  </a:lnTo>
                  <a:lnTo>
                    <a:pt x="2029" y="1383"/>
                  </a:lnTo>
                  <a:lnTo>
                    <a:pt x="2017" y="1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791280" y="1100160"/>
              <a:ext cx="520920" cy="383760"/>
            </a:xfrm>
            <a:custGeom>
              <a:avLst/>
              <a:gdLst/>
              <a:ahLst/>
              <a:rect l="l" t="t" r="r" b="b"/>
              <a:pathLst>
                <a:path w="925" h="683">
                  <a:moveTo>
                    <a:pt x="0" y="362"/>
                  </a:moveTo>
                  <a:lnTo>
                    <a:pt x="10" y="372"/>
                  </a:lnTo>
                  <a:lnTo>
                    <a:pt x="19" y="382"/>
                  </a:lnTo>
                  <a:lnTo>
                    <a:pt x="28" y="391"/>
                  </a:lnTo>
                  <a:lnTo>
                    <a:pt x="38" y="399"/>
                  </a:lnTo>
                  <a:lnTo>
                    <a:pt x="50" y="408"/>
                  </a:lnTo>
                  <a:lnTo>
                    <a:pt x="60" y="415"/>
                  </a:lnTo>
                  <a:lnTo>
                    <a:pt x="72" y="423"/>
                  </a:lnTo>
                  <a:lnTo>
                    <a:pt x="85" y="429"/>
                  </a:lnTo>
                  <a:lnTo>
                    <a:pt x="97" y="435"/>
                  </a:lnTo>
                  <a:lnTo>
                    <a:pt x="110" y="438"/>
                  </a:lnTo>
                  <a:lnTo>
                    <a:pt x="123" y="442"/>
                  </a:lnTo>
                  <a:lnTo>
                    <a:pt x="135" y="444"/>
                  </a:lnTo>
                  <a:lnTo>
                    <a:pt x="149" y="444"/>
                  </a:lnTo>
                  <a:lnTo>
                    <a:pt x="163" y="444"/>
                  </a:lnTo>
                  <a:lnTo>
                    <a:pt x="178" y="442"/>
                  </a:lnTo>
                  <a:lnTo>
                    <a:pt x="192" y="437"/>
                  </a:lnTo>
                  <a:lnTo>
                    <a:pt x="227" y="413"/>
                  </a:lnTo>
                  <a:lnTo>
                    <a:pt x="257" y="373"/>
                  </a:lnTo>
                  <a:lnTo>
                    <a:pt x="283" y="319"/>
                  </a:lnTo>
                  <a:lnTo>
                    <a:pt x="302" y="256"/>
                  </a:lnTo>
                  <a:lnTo>
                    <a:pt x="318" y="190"/>
                  </a:lnTo>
                  <a:lnTo>
                    <a:pt x="331" y="120"/>
                  </a:lnTo>
                  <a:lnTo>
                    <a:pt x="340" y="56"/>
                  </a:lnTo>
                  <a:lnTo>
                    <a:pt x="347" y="0"/>
                  </a:lnTo>
                  <a:lnTo>
                    <a:pt x="353" y="29"/>
                  </a:lnTo>
                  <a:lnTo>
                    <a:pt x="360" y="59"/>
                  </a:lnTo>
                  <a:lnTo>
                    <a:pt x="370" y="89"/>
                  </a:lnTo>
                  <a:lnTo>
                    <a:pt x="382" y="118"/>
                  </a:lnTo>
                  <a:lnTo>
                    <a:pt x="396" y="142"/>
                  </a:lnTo>
                  <a:lnTo>
                    <a:pt x="413" y="163"/>
                  </a:lnTo>
                  <a:lnTo>
                    <a:pt x="433" y="178"/>
                  </a:lnTo>
                  <a:lnTo>
                    <a:pt x="456" y="185"/>
                  </a:lnTo>
                  <a:lnTo>
                    <a:pt x="467" y="186"/>
                  </a:lnTo>
                  <a:lnTo>
                    <a:pt x="477" y="186"/>
                  </a:lnTo>
                  <a:lnTo>
                    <a:pt x="488" y="185"/>
                  </a:lnTo>
                  <a:lnTo>
                    <a:pt x="498" y="184"/>
                  </a:lnTo>
                  <a:lnTo>
                    <a:pt x="507" y="180"/>
                  </a:lnTo>
                  <a:lnTo>
                    <a:pt x="517" y="177"/>
                  </a:lnTo>
                  <a:lnTo>
                    <a:pt x="525" y="171"/>
                  </a:lnTo>
                  <a:lnTo>
                    <a:pt x="533" y="165"/>
                  </a:lnTo>
                  <a:lnTo>
                    <a:pt x="545" y="152"/>
                  </a:lnTo>
                  <a:lnTo>
                    <a:pt x="555" y="135"/>
                  </a:lnTo>
                  <a:lnTo>
                    <a:pt x="562" y="120"/>
                  </a:lnTo>
                  <a:lnTo>
                    <a:pt x="566" y="105"/>
                  </a:lnTo>
                  <a:lnTo>
                    <a:pt x="925" y="486"/>
                  </a:lnTo>
                  <a:lnTo>
                    <a:pt x="293" y="683"/>
                  </a:lnTo>
                  <a:lnTo>
                    <a:pt x="291" y="680"/>
                  </a:lnTo>
                  <a:lnTo>
                    <a:pt x="284" y="675"/>
                  </a:lnTo>
                  <a:lnTo>
                    <a:pt x="272" y="665"/>
                  </a:lnTo>
                  <a:lnTo>
                    <a:pt x="259" y="653"/>
                  </a:lnTo>
                  <a:lnTo>
                    <a:pt x="241" y="638"/>
                  </a:lnTo>
                  <a:lnTo>
                    <a:pt x="223" y="620"/>
                  </a:lnTo>
                  <a:lnTo>
                    <a:pt x="202" y="602"/>
                  </a:lnTo>
                  <a:lnTo>
                    <a:pt x="180" y="582"/>
                  </a:lnTo>
                  <a:lnTo>
                    <a:pt x="158" y="563"/>
                  </a:lnTo>
                  <a:lnTo>
                    <a:pt x="136" y="542"/>
                  </a:lnTo>
                  <a:lnTo>
                    <a:pt x="116" y="523"/>
                  </a:lnTo>
                  <a:lnTo>
                    <a:pt x="95" y="504"/>
                  </a:lnTo>
                  <a:lnTo>
                    <a:pt x="78" y="487"/>
                  </a:lnTo>
                  <a:lnTo>
                    <a:pt x="61" y="472"/>
                  </a:lnTo>
                  <a:lnTo>
                    <a:pt x="50" y="459"/>
                  </a:lnTo>
                  <a:lnTo>
                    <a:pt x="41" y="450"/>
                  </a:lnTo>
                  <a:lnTo>
                    <a:pt x="42" y="449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97680" y="949320"/>
              <a:ext cx="406440" cy="256680"/>
            </a:xfrm>
            <a:custGeom>
              <a:avLst/>
              <a:gdLst/>
              <a:ahLst/>
              <a:rect l="l" t="t" r="r" b="b"/>
              <a:pathLst>
                <a:path w="723" h="454">
                  <a:moveTo>
                    <a:pt x="437" y="11"/>
                  </a:moveTo>
                  <a:lnTo>
                    <a:pt x="460" y="23"/>
                  </a:lnTo>
                  <a:lnTo>
                    <a:pt x="483" y="38"/>
                  </a:lnTo>
                  <a:lnTo>
                    <a:pt x="505" y="57"/>
                  </a:lnTo>
                  <a:lnTo>
                    <a:pt x="526" y="76"/>
                  </a:lnTo>
                  <a:lnTo>
                    <a:pt x="544" y="98"/>
                  </a:lnTo>
                  <a:lnTo>
                    <a:pt x="562" y="121"/>
                  </a:lnTo>
                  <a:lnTo>
                    <a:pt x="580" y="146"/>
                  </a:lnTo>
                  <a:lnTo>
                    <a:pt x="596" y="169"/>
                  </a:lnTo>
                  <a:lnTo>
                    <a:pt x="611" y="192"/>
                  </a:lnTo>
                  <a:lnTo>
                    <a:pt x="623" y="214"/>
                  </a:lnTo>
                  <a:lnTo>
                    <a:pt x="635" y="234"/>
                  </a:lnTo>
                  <a:lnTo>
                    <a:pt x="644" y="253"/>
                  </a:lnTo>
                  <a:lnTo>
                    <a:pt x="652" y="268"/>
                  </a:lnTo>
                  <a:lnTo>
                    <a:pt x="658" y="279"/>
                  </a:lnTo>
                  <a:lnTo>
                    <a:pt x="663" y="288"/>
                  </a:lnTo>
                  <a:lnTo>
                    <a:pt x="665" y="292"/>
                  </a:lnTo>
                  <a:lnTo>
                    <a:pt x="668" y="303"/>
                  </a:lnTo>
                  <a:lnTo>
                    <a:pt x="665" y="317"/>
                  </a:lnTo>
                  <a:lnTo>
                    <a:pt x="658" y="328"/>
                  </a:lnTo>
                  <a:lnTo>
                    <a:pt x="655" y="333"/>
                  </a:lnTo>
                  <a:lnTo>
                    <a:pt x="645" y="345"/>
                  </a:lnTo>
                  <a:lnTo>
                    <a:pt x="647" y="346"/>
                  </a:lnTo>
                  <a:lnTo>
                    <a:pt x="651" y="349"/>
                  </a:lnTo>
                  <a:lnTo>
                    <a:pt x="655" y="353"/>
                  </a:lnTo>
                  <a:lnTo>
                    <a:pt x="656" y="354"/>
                  </a:lnTo>
                  <a:lnTo>
                    <a:pt x="665" y="362"/>
                  </a:lnTo>
                  <a:lnTo>
                    <a:pt x="675" y="371"/>
                  </a:lnTo>
                  <a:lnTo>
                    <a:pt x="685" y="379"/>
                  </a:lnTo>
                  <a:lnTo>
                    <a:pt x="694" y="389"/>
                  </a:lnTo>
                  <a:lnTo>
                    <a:pt x="702" y="397"/>
                  </a:lnTo>
                  <a:lnTo>
                    <a:pt x="710" y="405"/>
                  </a:lnTo>
                  <a:lnTo>
                    <a:pt x="717" y="412"/>
                  </a:lnTo>
                  <a:lnTo>
                    <a:pt x="723" y="419"/>
                  </a:lnTo>
                  <a:lnTo>
                    <a:pt x="717" y="417"/>
                  </a:lnTo>
                  <a:lnTo>
                    <a:pt x="710" y="416"/>
                  </a:lnTo>
                  <a:lnTo>
                    <a:pt x="703" y="414"/>
                  </a:lnTo>
                  <a:lnTo>
                    <a:pt x="695" y="412"/>
                  </a:lnTo>
                  <a:lnTo>
                    <a:pt x="687" y="409"/>
                  </a:lnTo>
                  <a:lnTo>
                    <a:pt x="679" y="407"/>
                  </a:lnTo>
                  <a:lnTo>
                    <a:pt x="670" y="404"/>
                  </a:lnTo>
                  <a:lnTo>
                    <a:pt x="662" y="400"/>
                  </a:lnTo>
                  <a:lnTo>
                    <a:pt x="648" y="427"/>
                  </a:lnTo>
                  <a:lnTo>
                    <a:pt x="657" y="434"/>
                  </a:lnTo>
                  <a:lnTo>
                    <a:pt x="666" y="440"/>
                  </a:lnTo>
                  <a:lnTo>
                    <a:pt x="673" y="449"/>
                  </a:lnTo>
                  <a:lnTo>
                    <a:pt x="678" y="454"/>
                  </a:lnTo>
                  <a:lnTo>
                    <a:pt x="666" y="454"/>
                  </a:lnTo>
                  <a:lnTo>
                    <a:pt x="651" y="450"/>
                  </a:lnTo>
                  <a:lnTo>
                    <a:pt x="633" y="443"/>
                  </a:lnTo>
                  <a:lnTo>
                    <a:pt x="613" y="435"/>
                  </a:lnTo>
                  <a:lnTo>
                    <a:pt x="594" y="423"/>
                  </a:lnTo>
                  <a:lnTo>
                    <a:pt x="575" y="411"/>
                  </a:lnTo>
                  <a:lnTo>
                    <a:pt x="559" y="398"/>
                  </a:lnTo>
                  <a:lnTo>
                    <a:pt x="546" y="384"/>
                  </a:lnTo>
                  <a:lnTo>
                    <a:pt x="544" y="378"/>
                  </a:lnTo>
                  <a:lnTo>
                    <a:pt x="545" y="370"/>
                  </a:lnTo>
                  <a:lnTo>
                    <a:pt x="547" y="359"/>
                  </a:lnTo>
                  <a:lnTo>
                    <a:pt x="553" y="344"/>
                  </a:lnTo>
                  <a:lnTo>
                    <a:pt x="561" y="328"/>
                  </a:lnTo>
                  <a:lnTo>
                    <a:pt x="573" y="308"/>
                  </a:lnTo>
                  <a:lnTo>
                    <a:pt x="588" y="287"/>
                  </a:lnTo>
                  <a:lnTo>
                    <a:pt x="605" y="263"/>
                  </a:lnTo>
                  <a:lnTo>
                    <a:pt x="612" y="255"/>
                  </a:lnTo>
                  <a:lnTo>
                    <a:pt x="605" y="246"/>
                  </a:lnTo>
                  <a:lnTo>
                    <a:pt x="588" y="220"/>
                  </a:lnTo>
                  <a:lnTo>
                    <a:pt x="568" y="196"/>
                  </a:lnTo>
                  <a:lnTo>
                    <a:pt x="547" y="172"/>
                  </a:lnTo>
                  <a:lnTo>
                    <a:pt x="526" y="150"/>
                  </a:lnTo>
                  <a:lnTo>
                    <a:pt x="503" y="131"/>
                  </a:lnTo>
                  <a:lnTo>
                    <a:pt x="479" y="117"/>
                  </a:lnTo>
                  <a:lnTo>
                    <a:pt x="455" y="108"/>
                  </a:lnTo>
                  <a:lnTo>
                    <a:pt x="432" y="104"/>
                  </a:lnTo>
                  <a:lnTo>
                    <a:pt x="415" y="106"/>
                  </a:lnTo>
                  <a:lnTo>
                    <a:pt x="398" y="113"/>
                  </a:lnTo>
                  <a:lnTo>
                    <a:pt x="378" y="124"/>
                  </a:lnTo>
                  <a:lnTo>
                    <a:pt x="358" y="136"/>
                  </a:lnTo>
                  <a:lnTo>
                    <a:pt x="339" y="152"/>
                  </a:lnTo>
                  <a:lnTo>
                    <a:pt x="318" y="170"/>
                  </a:lnTo>
                  <a:lnTo>
                    <a:pt x="297" y="189"/>
                  </a:lnTo>
                  <a:lnTo>
                    <a:pt x="278" y="209"/>
                  </a:lnTo>
                  <a:lnTo>
                    <a:pt x="259" y="228"/>
                  </a:lnTo>
                  <a:lnTo>
                    <a:pt x="242" y="248"/>
                  </a:lnTo>
                  <a:lnTo>
                    <a:pt x="225" y="268"/>
                  </a:lnTo>
                  <a:lnTo>
                    <a:pt x="211" y="285"/>
                  </a:lnTo>
                  <a:lnTo>
                    <a:pt x="198" y="301"/>
                  </a:lnTo>
                  <a:lnTo>
                    <a:pt x="188" y="314"/>
                  </a:lnTo>
                  <a:lnTo>
                    <a:pt x="180" y="324"/>
                  </a:lnTo>
                  <a:lnTo>
                    <a:pt x="175" y="330"/>
                  </a:lnTo>
                  <a:lnTo>
                    <a:pt x="167" y="340"/>
                  </a:lnTo>
                  <a:lnTo>
                    <a:pt x="172" y="345"/>
                  </a:lnTo>
                  <a:lnTo>
                    <a:pt x="170" y="358"/>
                  </a:lnTo>
                  <a:lnTo>
                    <a:pt x="165" y="375"/>
                  </a:lnTo>
                  <a:lnTo>
                    <a:pt x="157" y="393"/>
                  </a:lnTo>
                  <a:lnTo>
                    <a:pt x="143" y="409"/>
                  </a:lnTo>
                  <a:lnTo>
                    <a:pt x="138" y="413"/>
                  </a:lnTo>
                  <a:lnTo>
                    <a:pt x="133" y="416"/>
                  </a:lnTo>
                  <a:lnTo>
                    <a:pt x="127" y="420"/>
                  </a:lnTo>
                  <a:lnTo>
                    <a:pt x="121" y="421"/>
                  </a:lnTo>
                  <a:lnTo>
                    <a:pt x="114" y="422"/>
                  </a:lnTo>
                  <a:lnTo>
                    <a:pt x="107" y="423"/>
                  </a:lnTo>
                  <a:lnTo>
                    <a:pt x="99" y="423"/>
                  </a:lnTo>
                  <a:lnTo>
                    <a:pt x="91" y="422"/>
                  </a:lnTo>
                  <a:lnTo>
                    <a:pt x="69" y="412"/>
                  </a:lnTo>
                  <a:lnTo>
                    <a:pt x="50" y="391"/>
                  </a:lnTo>
                  <a:lnTo>
                    <a:pt x="35" y="360"/>
                  </a:lnTo>
                  <a:lnTo>
                    <a:pt x="23" y="323"/>
                  </a:lnTo>
                  <a:lnTo>
                    <a:pt x="14" y="285"/>
                  </a:lnTo>
                  <a:lnTo>
                    <a:pt x="7" y="246"/>
                  </a:lnTo>
                  <a:lnTo>
                    <a:pt x="2" y="210"/>
                  </a:lnTo>
                  <a:lnTo>
                    <a:pt x="0" y="180"/>
                  </a:lnTo>
                  <a:lnTo>
                    <a:pt x="15" y="169"/>
                  </a:lnTo>
                  <a:lnTo>
                    <a:pt x="34" y="156"/>
                  </a:lnTo>
                  <a:lnTo>
                    <a:pt x="55" y="140"/>
                  </a:lnTo>
                  <a:lnTo>
                    <a:pt x="80" y="124"/>
                  </a:lnTo>
                  <a:lnTo>
                    <a:pt x="107" y="106"/>
                  </a:lnTo>
                  <a:lnTo>
                    <a:pt x="136" y="89"/>
                  </a:lnTo>
                  <a:lnTo>
                    <a:pt x="166" y="72"/>
                  </a:lnTo>
                  <a:lnTo>
                    <a:pt x="198" y="56"/>
                  </a:lnTo>
                  <a:lnTo>
                    <a:pt x="229" y="40"/>
                  </a:lnTo>
                  <a:lnTo>
                    <a:pt x="262" y="27"/>
                  </a:lnTo>
                  <a:lnTo>
                    <a:pt x="294" y="15"/>
                  </a:lnTo>
                  <a:lnTo>
                    <a:pt x="326" y="7"/>
                  </a:lnTo>
                  <a:lnTo>
                    <a:pt x="356" y="2"/>
                  </a:lnTo>
                  <a:lnTo>
                    <a:pt x="385" y="0"/>
                  </a:lnTo>
                  <a:lnTo>
                    <a:pt x="413" y="3"/>
                  </a:lnTo>
                  <a:lnTo>
                    <a:pt x="4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1129680" y="806400"/>
              <a:ext cx="485640" cy="526680"/>
            </a:xfrm>
            <a:custGeom>
              <a:avLst/>
              <a:gdLst/>
              <a:ahLst/>
              <a:rect l="l" t="t" r="r" b="b"/>
              <a:pathLst>
                <a:path w="862" h="935">
                  <a:moveTo>
                    <a:pt x="326" y="510"/>
                  </a:moveTo>
                  <a:lnTo>
                    <a:pt x="317" y="511"/>
                  </a:lnTo>
                  <a:lnTo>
                    <a:pt x="315" y="511"/>
                  </a:lnTo>
                  <a:lnTo>
                    <a:pt x="308" y="512"/>
                  </a:lnTo>
                  <a:lnTo>
                    <a:pt x="298" y="515"/>
                  </a:lnTo>
                  <a:lnTo>
                    <a:pt x="283" y="516"/>
                  </a:lnTo>
                  <a:lnTo>
                    <a:pt x="266" y="518"/>
                  </a:lnTo>
                  <a:lnTo>
                    <a:pt x="247" y="519"/>
                  </a:lnTo>
                  <a:lnTo>
                    <a:pt x="225" y="522"/>
                  </a:lnTo>
                  <a:lnTo>
                    <a:pt x="202" y="523"/>
                  </a:lnTo>
                  <a:lnTo>
                    <a:pt x="178" y="524"/>
                  </a:lnTo>
                  <a:lnTo>
                    <a:pt x="154" y="525"/>
                  </a:lnTo>
                  <a:lnTo>
                    <a:pt x="128" y="525"/>
                  </a:lnTo>
                  <a:lnTo>
                    <a:pt x="103" y="524"/>
                  </a:lnTo>
                  <a:lnTo>
                    <a:pt x="78" y="523"/>
                  </a:lnTo>
                  <a:lnTo>
                    <a:pt x="53" y="521"/>
                  </a:lnTo>
                  <a:lnTo>
                    <a:pt x="31" y="516"/>
                  </a:lnTo>
                  <a:lnTo>
                    <a:pt x="11" y="511"/>
                  </a:lnTo>
                  <a:lnTo>
                    <a:pt x="8" y="510"/>
                  </a:lnTo>
                  <a:lnTo>
                    <a:pt x="4" y="506"/>
                  </a:lnTo>
                  <a:lnTo>
                    <a:pt x="1" y="497"/>
                  </a:lnTo>
                  <a:lnTo>
                    <a:pt x="0" y="485"/>
                  </a:lnTo>
                  <a:lnTo>
                    <a:pt x="5" y="459"/>
                  </a:lnTo>
                  <a:lnTo>
                    <a:pt x="15" y="429"/>
                  </a:lnTo>
                  <a:lnTo>
                    <a:pt x="29" y="396"/>
                  </a:lnTo>
                  <a:lnTo>
                    <a:pt x="49" y="360"/>
                  </a:lnTo>
                  <a:lnTo>
                    <a:pt x="72" y="322"/>
                  </a:lnTo>
                  <a:lnTo>
                    <a:pt x="97" y="283"/>
                  </a:lnTo>
                  <a:lnTo>
                    <a:pt x="127" y="244"/>
                  </a:lnTo>
                  <a:lnTo>
                    <a:pt x="158" y="205"/>
                  </a:lnTo>
                  <a:lnTo>
                    <a:pt x="190" y="167"/>
                  </a:lnTo>
                  <a:lnTo>
                    <a:pt x="225" y="131"/>
                  </a:lnTo>
                  <a:lnTo>
                    <a:pt x="260" y="98"/>
                  </a:lnTo>
                  <a:lnTo>
                    <a:pt x="295" y="69"/>
                  </a:lnTo>
                  <a:lnTo>
                    <a:pt x="330" y="42"/>
                  </a:lnTo>
                  <a:lnTo>
                    <a:pt x="363" y="23"/>
                  </a:lnTo>
                  <a:lnTo>
                    <a:pt x="396" y="8"/>
                  </a:lnTo>
                  <a:lnTo>
                    <a:pt x="427" y="0"/>
                  </a:lnTo>
                  <a:lnTo>
                    <a:pt x="460" y="0"/>
                  </a:lnTo>
                  <a:lnTo>
                    <a:pt x="496" y="9"/>
                  </a:lnTo>
                  <a:lnTo>
                    <a:pt x="530" y="26"/>
                  </a:lnTo>
                  <a:lnTo>
                    <a:pt x="566" y="52"/>
                  </a:lnTo>
                  <a:lnTo>
                    <a:pt x="602" y="82"/>
                  </a:lnTo>
                  <a:lnTo>
                    <a:pt x="636" y="116"/>
                  </a:lnTo>
                  <a:lnTo>
                    <a:pt x="670" y="154"/>
                  </a:lnTo>
                  <a:lnTo>
                    <a:pt x="702" y="194"/>
                  </a:lnTo>
                  <a:lnTo>
                    <a:pt x="733" y="236"/>
                  </a:lnTo>
                  <a:lnTo>
                    <a:pt x="761" y="276"/>
                  </a:lnTo>
                  <a:lnTo>
                    <a:pt x="786" y="315"/>
                  </a:lnTo>
                  <a:lnTo>
                    <a:pt x="809" y="351"/>
                  </a:lnTo>
                  <a:lnTo>
                    <a:pt x="829" y="383"/>
                  </a:lnTo>
                  <a:lnTo>
                    <a:pt x="844" y="410"/>
                  </a:lnTo>
                  <a:lnTo>
                    <a:pt x="855" y="429"/>
                  </a:lnTo>
                  <a:lnTo>
                    <a:pt x="862" y="442"/>
                  </a:lnTo>
                  <a:lnTo>
                    <a:pt x="858" y="499"/>
                  </a:lnTo>
                  <a:lnTo>
                    <a:pt x="850" y="568"/>
                  </a:lnTo>
                  <a:lnTo>
                    <a:pt x="839" y="644"/>
                  </a:lnTo>
                  <a:lnTo>
                    <a:pt x="824" y="721"/>
                  </a:lnTo>
                  <a:lnTo>
                    <a:pt x="805" y="795"/>
                  </a:lnTo>
                  <a:lnTo>
                    <a:pt x="780" y="857"/>
                  </a:lnTo>
                  <a:lnTo>
                    <a:pt x="753" y="904"/>
                  </a:lnTo>
                  <a:lnTo>
                    <a:pt x="719" y="929"/>
                  </a:lnTo>
                  <a:lnTo>
                    <a:pt x="699" y="934"/>
                  </a:lnTo>
                  <a:lnTo>
                    <a:pt x="678" y="935"/>
                  </a:lnTo>
                  <a:lnTo>
                    <a:pt x="657" y="931"/>
                  </a:lnTo>
                  <a:lnTo>
                    <a:pt x="638" y="924"/>
                  </a:lnTo>
                  <a:lnTo>
                    <a:pt x="619" y="913"/>
                  </a:lnTo>
                  <a:lnTo>
                    <a:pt x="601" y="901"/>
                  </a:lnTo>
                  <a:lnTo>
                    <a:pt x="585" y="886"/>
                  </a:lnTo>
                  <a:lnTo>
                    <a:pt x="568" y="871"/>
                  </a:lnTo>
                  <a:lnTo>
                    <a:pt x="555" y="855"/>
                  </a:lnTo>
                  <a:lnTo>
                    <a:pt x="542" y="840"/>
                  </a:lnTo>
                  <a:lnTo>
                    <a:pt x="530" y="825"/>
                  </a:lnTo>
                  <a:lnTo>
                    <a:pt x="521" y="811"/>
                  </a:lnTo>
                  <a:lnTo>
                    <a:pt x="514" y="799"/>
                  </a:lnTo>
                  <a:lnTo>
                    <a:pt x="508" y="790"/>
                  </a:lnTo>
                  <a:lnTo>
                    <a:pt x="505" y="784"/>
                  </a:lnTo>
                  <a:lnTo>
                    <a:pt x="504" y="782"/>
                  </a:lnTo>
                  <a:lnTo>
                    <a:pt x="326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1605960" y="1144440"/>
              <a:ext cx="68040" cy="98280"/>
            </a:xfrm>
            <a:custGeom>
              <a:avLst/>
              <a:gdLst/>
              <a:ahLst/>
              <a:rect l="l" t="t" r="r" b="b"/>
              <a:pathLst>
                <a:path w="121" h="175">
                  <a:moveTo>
                    <a:pt x="3" y="124"/>
                  </a:moveTo>
                  <a:lnTo>
                    <a:pt x="0" y="115"/>
                  </a:lnTo>
                  <a:lnTo>
                    <a:pt x="0" y="109"/>
                  </a:lnTo>
                  <a:lnTo>
                    <a:pt x="4" y="105"/>
                  </a:lnTo>
                  <a:lnTo>
                    <a:pt x="13" y="100"/>
                  </a:lnTo>
                  <a:lnTo>
                    <a:pt x="20" y="98"/>
                  </a:lnTo>
                  <a:lnTo>
                    <a:pt x="27" y="93"/>
                  </a:lnTo>
                  <a:lnTo>
                    <a:pt x="34" y="89"/>
                  </a:lnTo>
                  <a:lnTo>
                    <a:pt x="41" y="83"/>
                  </a:lnTo>
                  <a:lnTo>
                    <a:pt x="50" y="69"/>
                  </a:lnTo>
                  <a:lnTo>
                    <a:pt x="50" y="54"/>
                  </a:lnTo>
                  <a:lnTo>
                    <a:pt x="46" y="41"/>
                  </a:lnTo>
                  <a:lnTo>
                    <a:pt x="39" y="30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4" y="3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60" y="2"/>
                  </a:lnTo>
                  <a:lnTo>
                    <a:pt x="71" y="6"/>
                  </a:lnTo>
                  <a:lnTo>
                    <a:pt x="84" y="10"/>
                  </a:lnTo>
                  <a:lnTo>
                    <a:pt x="96" y="17"/>
                  </a:lnTo>
                  <a:lnTo>
                    <a:pt x="109" y="24"/>
                  </a:lnTo>
                  <a:lnTo>
                    <a:pt x="121" y="31"/>
                  </a:lnTo>
                  <a:lnTo>
                    <a:pt x="117" y="33"/>
                  </a:lnTo>
                  <a:lnTo>
                    <a:pt x="114" y="37"/>
                  </a:lnTo>
                  <a:lnTo>
                    <a:pt x="110" y="39"/>
                  </a:lnTo>
                  <a:lnTo>
                    <a:pt x="107" y="43"/>
                  </a:lnTo>
                  <a:lnTo>
                    <a:pt x="99" y="51"/>
                  </a:lnTo>
                  <a:lnTo>
                    <a:pt x="90" y="59"/>
                  </a:lnTo>
                  <a:lnTo>
                    <a:pt x="83" y="68"/>
                  </a:lnTo>
                  <a:lnTo>
                    <a:pt x="76" y="77"/>
                  </a:lnTo>
                  <a:lnTo>
                    <a:pt x="71" y="86"/>
                  </a:lnTo>
                  <a:lnTo>
                    <a:pt x="68" y="97"/>
                  </a:lnTo>
                  <a:lnTo>
                    <a:pt x="65" y="106"/>
                  </a:lnTo>
                  <a:lnTo>
                    <a:pt x="66" y="115"/>
                  </a:lnTo>
                  <a:lnTo>
                    <a:pt x="70" y="123"/>
                  </a:lnTo>
                  <a:lnTo>
                    <a:pt x="76" y="129"/>
                  </a:lnTo>
                  <a:lnTo>
                    <a:pt x="83" y="135"/>
                  </a:lnTo>
                  <a:lnTo>
                    <a:pt x="92" y="137"/>
                  </a:lnTo>
                  <a:lnTo>
                    <a:pt x="96" y="138"/>
                  </a:lnTo>
                  <a:lnTo>
                    <a:pt x="102" y="139"/>
                  </a:lnTo>
                  <a:lnTo>
                    <a:pt x="107" y="141"/>
                  </a:lnTo>
                  <a:lnTo>
                    <a:pt x="111" y="141"/>
                  </a:lnTo>
                  <a:lnTo>
                    <a:pt x="106" y="147"/>
                  </a:lnTo>
                  <a:lnTo>
                    <a:pt x="100" y="153"/>
                  </a:lnTo>
                  <a:lnTo>
                    <a:pt x="94" y="159"/>
                  </a:lnTo>
                  <a:lnTo>
                    <a:pt x="88" y="165"/>
                  </a:lnTo>
                  <a:lnTo>
                    <a:pt x="84" y="168"/>
                  </a:lnTo>
                  <a:lnTo>
                    <a:pt x="79" y="172"/>
                  </a:lnTo>
                  <a:lnTo>
                    <a:pt x="76" y="174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0" y="173"/>
                  </a:lnTo>
                  <a:lnTo>
                    <a:pt x="50" y="169"/>
                  </a:lnTo>
                  <a:lnTo>
                    <a:pt x="40" y="165"/>
                  </a:lnTo>
                  <a:lnTo>
                    <a:pt x="30" y="158"/>
                  </a:lnTo>
                  <a:lnTo>
                    <a:pt x="19" y="149"/>
                  </a:lnTo>
                  <a:lnTo>
                    <a:pt x="10" y="137"/>
                  </a:lnTo>
                  <a:lnTo>
                    <a:pt x="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319040" y="1166760"/>
              <a:ext cx="300240" cy="205920"/>
            </a:xfrm>
            <a:custGeom>
              <a:avLst/>
              <a:gdLst/>
              <a:ahLst/>
              <a:rect l="l" t="t" r="r" b="b"/>
              <a:pathLst>
                <a:path w="535" h="366">
                  <a:moveTo>
                    <a:pt x="272" y="366"/>
                  </a:moveTo>
                  <a:lnTo>
                    <a:pt x="248" y="365"/>
                  </a:lnTo>
                  <a:lnTo>
                    <a:pt x="225" y="359"/>
                  </a:lnTo>
                  <a:lnTo>
                    <a:pt x="203" y="350"/>
                  </a:lnTo>
                  <a:lnTo>
                    <a:pt x="182" y="338"/>
                  </a:lnTo>
                  <a:lnTo>
                    <a:pt x="163" y="321"/>
                  </a:lnTo>
                  <a:lnTo>
                    <a:pt x="146" y="304"/>
                  </a:lnTo>
                  <a:lnTo>
                    <a:pt x="129" y="286"/>
                  </a:lnTo>
                  <a:lnTo>
                    <a:pt x="114" y="267"/>
                  </a:lnTo>
                  <a:lnTo>
                    <a:pt x="101" y="248"/>
                  </a:lnTo>
                  <a:lnTo>
                    <a:pt x="89" y="229"/>
                  </a:lnTo>
                  <a:lnTo>
                    <a:pt x="79" y="211"/>
                  </a:lnTo>
                  <a:lnTo>
                    <a:pt x="71" y="195"/>
                  </a:lnTo>
                  <a:lnTo>
                    <a:pt x="64" y="182"/>
                  </a:lnTo>
                  <a:lnTo>
                    <a:pt x="59" y="171"/>
                  </a:lnTo>
                  <a:lnTo>
                    <a:pt x="56" y="164"/>
                  </a:lnTo>
                  <a:lnTo>
                    <a:pt x="55" y="161"/>
                  </a:lnTo>
                  <a:lnTo>
                    <a:pt x="51" y="154"/>
                  </a:lnTo>
                  <a:lnTo>
                    <a:pt x="17" y="145"/>
                  </a:lnTo>
                  <a:lnTo>
                    <a:pt x="22" y="141"/>
                  </a:lnTo>
                  <a:lnTo>
                    <a:pt x="27" y="135"/>
                  </a:lnTo>
                  <a:lnTo>
                    <a:pt x="33" y="130"/>
                  </a:lnTo>
                  <a:lnTo>
                    <a:pt x="37" y="124"/>
                  </a:lnTo>
                  <a:lnTo>
                    <a:pt x="42" y="119"/>
                  </a:lnTo>
                  <a:lnTo>
                    <a:pt x="45" y="114"/>
                  </a:lnTo>
                  <a:lnTo>
                    <a:pt x="49" y="109"/>
                  </a:lnTo>
                  <a:lnTo>
                    <a:pt x="52" y="106"/>
                  </a:lnTo>
                  <a:lnTo>
                    <a:pt x="50" y="104"/>
                  </a:lnTo>
                  <a:lnTo>
                    <a:pt x="59" y="103"/>
                  </a:lnTo>
                  <a:lnTo>
                    <a:pt x="66" y="100"/>
                  </a:lnTo>
                  <a:lnTo>
                    <a:pt x="71" y="99"/>
                  </a:lnTo>
                  <a:lnTo>
                    <a:pt x="74" y="97"/>
                  </a:lnTo>
                  <a:lnTo>
                    <a:pt x="56" y="73"/>
                  </a:lnTo>
                  <a:lnTo>
                    <a:pt x="55" y="73"/>
                  </a:lnTo>
                  <a:lnTo>
                    <a:pt x="53" y="74"/>
                  </a:lnTo>
                  <a:lnTo>
                    <a:pt x="50" y="74"/>
                  </a:lnTo>
                  <a:lnTo>
                    <a:pt x="44" y="75"/>
                  </a:lnTo>
                  <a:lnTo>
                    <a:pt x="37" y="75"/>
                  </a:lnTo>
                  <a:lnTo>
                    <a:pt x="28" y="75"/>
                  </a:lnTo>
                  <a:lnTo>
                    <a:pt x="15" y="73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63"/>
                  </a:lnTo>
                  <a:lnTo>
                    <a:pt x="6" y="54"/>
                  </a:lnTo>
                  <a:lnTo>
                    <a:pt x="14" y="43"/>
                  </a:lnTo>
                  <a:lnTo>
                    <a:pt x="28" y="29"/>
                  </a:lnTo>
                  <a:lnTo>
                    <a:pt x="37" y="22"/>
                  </a:lnTo>
                  <a:lnTo>
                    <a:pt x="47" y="15"/>
                  </a:lnTo>
                  <a:lnTo>
                    <a:pt x="57" y="9"/>
                  </a:lnTo>
                  <a:lnTo>
                    <a:pt x="68" y="5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1" y="3"/>
                  </a:lnTo>
                  <a:lnTo>
                    <a:pt x="117" y="7"/>
                  </a:lnTo>
                  <a:lnTo>
                    <a:pt x="121" y="10"/>
                  </a:lnTo>
                  <a:lnTo>
                    <a:pt x="125" y="15"/>
                  </a:lnTo>
                  <a:lnTo>
                    <a:pt x="127" y="21"/>
                  </a:lnTo>
                  <a:lnTo>
                    <a:pt x="128" y="35"/>
                  </a:lnTo>
                  <a:lnTo>
                    <a:pt x="127" y="51"/>
                  </a:lnTo>
                  <a:lnTo>
                    <a:pt x="123" y="68"/>
                  </a:lnTo>
                  <a:lnTo>
                    <a:pt x="116" y="85"/>
                  </a:lnTo>
                  <a:lnTo>
                    <a:pt x="109" y="101"/>
                  </a:lnTo>
                  <a:lnTo>
                    <a:pt x="101" y="116"/>
                  </a:lnTo>
                  <a:lnTo>
                    <a:pt x="94" y="129"/>
                  </a:lnTo>
                  <a:lnTo>
                    <a:pt x="87" y="139"/>
                  </a:lnTo>
                  <a:lnTo>
                    <a:pt x="79" y="150"/>
                  </a:lnTo>
                  <a:lnTo>
                    <a:pt x="83" y="159"/>
                  </a:lnTo>
                  <a:lnTo>
                    <a:pt x="90" y="171"/>
                  </a:lnTo>
                  <a:lnTo>
                    <a:pt x="100" y="183"/>
                  </a:lnTo>
                  <a:lnTo>
                    <a:pt x="111" y="197"/>
                  </a:lnTo>
                  <a:lnTo>
                    <a:pt x="125" y="210"/>
                  </a:lnTo>
                  <a:lnTo>
                    <a:pt x="140" y="224"/>
                  </a:lnTo>
                  <a:lnTo>
                    <a:pt x="158" y="236"/>
                  </a:lnTo>
                  <a:lnTo>
                    <a:pt x="179" y="247"/>
                  </a:lnTo>
                  <a:lnTo>
                    <a:pt x="203" y="255"/>
                  </a:lnTo>
                  <a:lnTo>
                    <a:pt x="219" y="257"/>
                  </a:lnTo>
                  <a:lnTo>
                    <a:pt x="235" y="257"/>
                  </a:lnTo>
                  <a:lnTo>
                    <a:pt x="253" y="255"/>
                  </a:lnTo>
                  <a:lnTo>
                    <a:pt x="270" y="250"/>
                  </a:lnTo>
                  <a:lnTo>
                    <a:pt x="288" y="243"/>
                  </a:lnTo>
                  <a:lnTo>
                    <a:pt x="306" y="234"/>
                  </a:lnTo>
                  <a:lnTo>
                    <a:pt x="324" y="225"/>
                  </a:lnTo>
                  <a:lnTo>
                    <a:pt x="343" y="214"/>
                  </a:lnTo>
                  <a:lnTo>
                    <a:pt x="360" y="203"/>
                  </a:lnTo>
                  <a:lnTo>
                    <a:pt x="376" y="190"/>
                  </a:lnTo>
                  <a:lnTo>
                    <a:pt x="392" y="179"/>
                  </a:lnTo>
                  <a:lnTo>
                    <a:pt x="407" y="166"/>
                  </a:lnTo>
                  <a:lnTo>
                    <a:pt x="421" y="154"/>
                  </a:lnTo>
                  <a:lnTo>
                    <a:pt x="434" y="144"/>
                  </a:lnTo>
                  <a:lnTo>
                    <a:pt x="445" y="134"/>
                  </a:lnTo>
                  <a:lnTo>
                    <a:pt x="454" y="126"/>
                  </a:lnTo>
                  <a:lnTo>
                    <a:pt x="487" y="192"/>
                  </a:lnTo>
                  <a:lnTo>
                    <a:pt x="489" y="209"/>
                  </a:lnTo>
                  <a:lnTo>
                    <a:pt x="494" y="227"/>
                  </a:lnTo>
                  <a:lnTo>
                    <a:pt x="499" y="249"/>
                  </a:lnTo>
                  <a:lnTo>
                    <a:pt x="507" y="272"/>
                  </a:lnTo>
                  <a:lnTo>
                    <a:pt x="512" y="281"/>
                  </a:lnTo>
                  <a:lnTo>
                    <a:pt x="518" y="291"/>
                  </a:lnTo>
                  <a:lnTo>
                    <a:pt x="526" y="304"/>
                  </a:lnTo>
                  <a:lnTo>
                    <a:pt x="535" y="318"/>
                  </a:lnTo>
                  <a:lnTo>
                    <a:pt x="526" y="320"/>
                  </a:lnTo>
                  <a:lnTo>
                    <a:pt x="514" y="324"/>
                  </a:lnTo>
                  <a:lnTo>
                    <a:pt x="502" y="327"/>
                  </a:lnTo>
                  <a:lnTo>
                    <a:pt x="489" y="331"/>
                  </a:lnTo>
                  <a:lnTo>
                    <a:pt x="474" y="334"/>
                  </a:lnTo>
                  <a:lnTo>
                    <a:pt x="459" y="339"/>
                  </a:lnTo>
                  <a:lnTo>
                    <a:pt x="443" y="342"/>
                  </a:lnTo>
                  <a:lnTo>
                    <a:pt x="426" y="346"/>
                  </a:lnTo>
                  <a:lnTo>
                    <a:pt x="407" y="349"/>
                  </a:lnTo>
                  <a:lnTo>
                    <a:pt x="389" y="353"/>
                  </a:lnTo>
                  <a:lnTo>
                    <a:pt x="370" y="356"/>
                  </a:lnTo>
                  <a:lnTo>
                    <a:pt x="352" y="358"/>
                  </a:lnTo>
                  <a:lnTo>
                    <a:pt x="332" y="362"/>
                  </a:lnTo>
                  <a:lnTo>
                    <a:pt x="312" y="364"/>
                  </a:lnTo>
                  <a:lnTo>
                    <a:pt x="292" y="365"/>
                  </a:lnTo>
                  <a:lnTo>
                    <a:pt x="272" y="3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41280" y="1469880"/>
              <a:ext cx="190800" cy="128160"/>
            </a:xfrm>
            <a:custGeom>
              <a:avLst/>
              <a:gdLst/>
              <a:ahLst/>
              <a:rect l="l" t="t" r="r" b="b"/>
              <a:pathLst>
                <a:path w="337" h="229">
                  <a:moveTo>
                    <a:pt x="286" y="121"/>
                  </a:moveTo>
                  <a:lnTo>
                    <a:pt x="267" y="128"/>
                  </a:lnTo>
                  <a:lnTo>
                    <a:pt x="246" y="135"/>
                  </a:lnTo>
                  <a:lnTo>
                    <a:pt x="227" y="142"/>
                  </a:lnTo>
                  <a:lnTo>
                    <a:pt x="206" y="150"/>
                  </a:lnTo>
                  <a:lnTo>
                    <a:pt x="185" y="158"/>
                  </a:lnTo>
                  <a:lnTo>
                    <a:pt x="165" y="166"/>
                  </a:lnTo>
                  <a:lnTo>
                    <a:pt x="146" y="173"/>
                  </a:lnTo>
                  <a:lnTo>
                    <a:pt x="126" y="181"/>
                  </a:lnTo>
                  <a:lnTo>
                    <a:pt x="108" y="189"/>
                  </a:lnTo>
                  <a:lnTo>
                    <a:pt x="91" y="196"/>
                  </a:lnTo>
                  <a:lnTo>
                    <a:pt x="74" y="203"/>
                  </a:lnTo>
                  <a:lnTo>
                    <a:pt x="59" y="210"/>
                  </a:lnTo>
                  <a:lnTo>
                    <a:pt x="47" y="215"/>
                  </a:lnTo>
                  <a:lnTo>
                    <a:pt x="35" y="221"/>
                  </a:lnTo>
                  <a:lnTo>
                    <a:pt x="25" y="226"/>
                  </a:lnTo>
                  <a:lnTo>
                    <a:pt x="17" y="229"/>
                  </a:lnTo>
                  <a:lnTo>
                    <a:pt x="0" y="207"/>
                  </a:lnTo>
                  <a:lnTo>
                    <a:pt x="6" y="203"/>
                  </a:lnTo>
                  <a:lnTo>
                    <a:pt x="13" y="197"/>
                  </a:lnTo>
                  <a:lnTo>
                    <a:pt x="23" y="190"/>
                  </a:lnTo>
                  <a:lnTo>
                    <a:pt x="32" y="182"/>
                  </a:lnTo>
                  <a:lnTo>
                    <a:pt x="43" y="175"/>
                  </a:lnTo>
                  <a:lnTo>
                    <a:pt x="55" y="166"/>
                  </a:lnTo>
                  <a:lnTo>
                    <a:pt x="66" y="158"/>
                  </a:lnTo>
                  <a:lnTo>
                    <a:pt x="79" y="149"/>
                  </a:lnTo>
                  <a:lnTo>
                    <a:pt x="93" y="139"/>
                  </a:lnTo>
                  <a:lnTo>
                    <a:pt x="106" y="129"/>
                  </a:lnTo>
                  <a:lnTo>
                    <a:pt x="119" y="120"/>
                  </a:lnTo>
                  <a:lnTo>
                    <a:pt x="133" y="111"/>
                  </a:lnTo>
                  <a:lnTo>
                    <a:pt x="147" y="101"/>
                  </a:lnTo>
                  <a:lnTo>
                    <a:pt x="161" y="92"/>
                  </a:lnTo>
                  <a:lnTo>
                    <a:pt x="175" y="84"/>
                  </a:lnTo>
                  <a:lnTo>
                    <a:pt x="187" y="76"/>
                  </a:lnTo>
                  <a:lnTo>
                    <a:pt x="204" y="67"/>
                  </a:lnTo>
                  <a:lnTo>
                    <a:pt x="221" y="56"/>
                  </a:lnTo>
                  <a:lnTo>
                    <a:pt x="238" y="46"/>
                  </a:lnTo>
                  <a:lnTo>
                    <a:pt x="257" y="37"/>
                  </a:lnTo>
                  <a:lnTo>
                    <a:pt x="274" y="27"/>
                  </a:lnTo>
                  <a:lnTo>
                    <a:pt x="291" y="17"/>
                  </a:lnTo>
                  <a:lnTo>
                    <a:pt x="308" y="8"/>
                  </a:lnTo>
                  <a:lnTo>
                    <a:pt x="324" y="0"/>
                  </a:lnTo>
                  <a:lnTo>
                    <a:pt x="337" y="105"/>
                  </a:lnTo>
                  <a:lnTo>
                    <a:pt x="331" y="107"/>
                  </a:lnTo>
                  <a:lnTo>
                    <a:pt x="324" y="109"/>
                  </a:lnTo>
                  <a:lnTo>
                    <a:pt x="319" y="111"/>
                  </a:lnTo>
                  <a:lnTo>
                    <a:pt x="312" y="113"/>
                  </a:lnTo>
                  <a:lnTo>
                    <a:pt x="306" y="115"/>
                  </a:lnTo>
                  <a:lnTo>
                    <a:pt x="299" y="116"/>
                  </a:lnTo>
                  <a:lnTo>
                    <a:pt x="293" y="119"/>
                  </a:lnTo>
                  <a:lnTo>
                    <a:pt x="286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627840" y="1496880"/>
              <a:ext cx="136440" cy="45720"/>
            </a:xfrm>
            <a:custGeom>
              <a:avLst/>
              <a:gdLst/>
              <a:ahLst/>
              <a:rect l="l" t="t" r="r" b="b"/>
              <a:pathLst>
                <a:path w="243" h="80">
                  <a:moveTo>
                    <a:pt x="33" y="71"/>
                  </a:moveTo>
                  <a:lnTo>
                    <a:pt x="25" y="69"/>
                  </a:lnTo>
                  <a:lnTo>
                    <a:pt x="16" y="65"/>
                  </a:lnTo>
                  <a:lnTo>
                    <a:pt x="8" y="63"/>
                  </a:lnTo>
                  <a:lnTo>
                    <a:pt x="0" y="59"/>
                  </a:lnTo>
                  <a:lnTo>
                    <a:pt x="48" y="0"/>
                  </a:lnTo>
                  <a:lnTo>
                    <a:pt x="56" y="4"/>
                  </a:lnTo>
                  <a:lnTo>
                    <a:pt x="64" y="8"/>
                  </a:lnTo>
                  <a:lnTo>
                    <a:pt x="72" y="11"/>
                  </a:lnTo>
                  <a:lnTo>
                    <a:pt x="80" y="15"/>
                  </a:lnTo>
                  <a:lnTo>
                    <a:pt x="87" y="17"/>
                  </a:lnTo>
                  <a:lnTo>
                    <a:pt x="95" y="19"/>
                  </a:lnTo>
                  <a:lnTo>
                    <a:pt x="103" y="21"/>
                  </a:lnTo>
                  <a:lnTo>
                    <a:pt x="110" y="24"/>
                  </a:lnTo>
                  <a:lnTo>
                    <a:pt x="133" y="28"/>
                  </a:lnTo>
                  <a:lnTo>
                    <a:pt x="155" y="31"/>
                  </a:lnTo>
                  <a:lnTo>
                    <a:pt x="174" y="33"/>
                  </a:lnTo>
                  <a:lnTo>
                    <a:pt x="191" y="34"/>
                  </a:lnTo>
                  <a:lnTo>
                    <a:pt x="205" y="35"/>
                  </a:lnTo>
                  <a:lnTo>
                    <a:pt x="218" y="35"/>
                  </a:lnTo>
                  <a:lnTo>
                    <a:pt x="228" y="35"/>
                  </a:lnTo>
                  <a:lnTo>
                    <a:pt x="236" y="35"/>
                  </a:lnTo>
                  <a:lnTo>
                    <a:pt x="243" y="54"/>
                  </a:lnTo>
                  <a:lnTo>
                    <a:pt x="236" y="56"/>
                  </a:lnTo>
                  <a:lnTo>
                    <a:pt x="227" y="59"/>
                  </a:lnTo>
                  <a:lnTo>
                    <a:pt x="216" y="62"/>
                  </a:lnTo>
                  <a:lnTo>
                    <a:pt x="206" y="65"/>
                  </a:lnTo>
                  <a:lnTo>
                    <a:pt x="194" y="69"/>
                  </a:lnTo>
                  <a:lnTo>
                    <a:pt x="181" y="71"/>
                  </a:lnTo>
                  <a:lnTo>
                    <a:pt x="168" y="73"/>
                  </a:lnTo>
                  <a:lnTo>
                    <a:pt x="154" y="76"/>
                  </a:lnTo>
                  <a:lnTo>
                    <a:pt x="139" y="78"/>
                  </a:lnTo>
                  <a:lnTo>
                    <a:pt x="124" y="79"/>
                  </a:lnTo>
                  <a:lnTo>
                    <a:pt x="109" y="80"/>
                  </a:lnTo>
                  <a:lnTo>
                    <a:pt x="93" y="80"/>
                  </a:lnTo>
                  <a:lnTo>
                    <a:pt x="78" y="79"/>
                  </a:lnTo>
                  <a:lnTo>
                    <a:pt x="63" y="78"/>
                  </a:lnTo>
                  <a:lnTo>
                    <a:pt x="48" y="74"/>
                  </a:lnTo>
                  <a:lnTo>
                    <a:pt x="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428840" y="954000"/>
              <a:ext cx="33120" cy="4896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22" y="0"/>
                  </a:moveTo>
                  <a:lnTo>
                    <a:pt x="20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23" y="8"/>
                  </a:lnTo>
                  <a:lnTo>
                    <a:pt x="32" y="16"/>
                  </a:lnTo>
                  <a:lnTo>
                    <a:pt x="37" y="27"/>
                  </a:lnTo>
                  <a:lnTo>
                    <a:pt x="40" y="42"/>
                  </a:lnTo>
                  <a:lnTo>
                    <a:pt x="40" y="45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6" y="42"/>
                  </a:lnTo>
                  <a:lnTo>
                    <a:pt x="32" y="36"/>
                  </a:lnTo>
                  <a:lnTo>
                    <a:pt x="26" y="33"/>
                  </a:lnTo>
                  <a:lnTo>
                    <a:pt x="19" y="32"/>
                  </a:lnTo>
                  <a:lnTo>
                    <a:pt x="11" y="34"/>
                  </a:lnTo>
                  <a:lnTo>
                    <a:pt x="5" y="41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4" y="85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6" y="86"/>
                  </a:lnTo>
                  <a:lnTo>
                    <a:pt x="27" y="86"/>
                  </a:lnTo>
                  <a:lnTo>
                    <a:pt x="28" y="86"/>
                  </a:lnTo>
                  <a:lnTo>
                    <a:pt x="41" y="81"/>
                  </a:lnTo>
                  <a:lnTo>
                    <a:pt x="50" y="71"/>
                  </a:lnTo>
                  <a:lnTo>
                    <a:pt x="57" y="57"/>
                  </a:lnTo>
                  <a:lnTo>
                    <a:pt x="58" y="40"/>
                  </a:lnTo>
                  <a:lnTo>
                    <a:pt x="57" y="31"/>
                  </a:lnTo>
                  <a:lnTo>
                    <a:pt x="53" y="24"/>
                  </a:lnTo>
                  <a:lnTo>
                    <a:pt x="50" y="16"/>
                  </a:lnTo>
                  <a:lnTo>
                    <a:pt x="45" y="10"/>
                  </a:lnTo>
                  <a:lnTo>
                    <a:pt x="41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32000" y="950760"/>
              <a:ext cx="33120" cy="4896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58" y="41"/>
                  </a:moveTo>
                  <a:lnTo>
                    <a:pt x="57" y="32"/>
                  </a:lnTo>
                  <a:lnTo>
                    <a:pt x="54" y="24"/>
                  </a:lnTo>
                  <a:lnTo>
                    <a:pt x="51" y="17"/>
                  </a:lnTo>
                  <a:lnTo>
                    <a:pt x="46" y="11"/>
                  </a:lnTo>
                  <a:lnTo>
                    <a:pt x="42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23" y="8"/>
                  </a:lnTo>
                  <a:lnTo>
                    <a:pt x="31" y="17"/>
                  </a:lnTo>
                  <a:lnTo>
                    <a:pt x="37" y="29"/>
                  </a:lnTo>
                  <a:lnTo>
                    <a:pt x="39" y="42"/>
                  </a:lnTo>
                  <a:lnTo>
                    <a:pt x="39" y="45"/>
                  </a:lnTo>
                  <a:lnTo>
                    <a:pt x="39" y="47"/>
                  </a:lnTo>
                  <a:lnTo>
                    <a:pt x="39" y="48"/>
                  </a:lnTo>
                  <a:lnTo>
                    <a:pt x="39" y="51"/>
                  </a:lnTo>
                  <a:lnTo>
                    <a:pt x="36" y="44"/>
                  </a:lnTo>
                  <a:lnTo>
                    <a:pt x="31" y="38"/>
                  </a:lnTo>
                  <a:lnTo>
                    <a:pt x="26" y="34"/>
                  </a:lnTo>
                  <a:lnTo>
                    <a:pt x="19" y="33"/>
                  </a:lnTo>
                  <a:lnTo>
                    <a:pt x="11" y="36"/>
                  </a:lnTo>
                  <a:lnTo>
                    <a:pt x="5" y="42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28" y="87"/>
                  </a:lnTo>
                  <a:lnTo>
                    <a:pt x="29" y="87"/>
                  </a:lnTo>
                  <a:lnTo>
                    <a:pt x="42" y="83"/>
                  </a:lnTo>
                  <a:lnTo>
                    <a:pt x="51" y="72"/>
                  </a:lnTo>
                  <a:lnTo>
                    <a:pt x="57" y="59"/>
                  </a:lnTo>
                  <a:lnTo>
                    <a:pt x="5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253520" y="1157040"/>
              <a:ext cx="81000" cy="4752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90" y="84"/>
                  </a:moveTo>
                  <a:lnTo>
                    <a:pt x="108" y="81"/>
                  </a:lnTo>
                  <a:lnTo>
                    <a:pt x="120" y="71"/>
                  </a:lnTo>
                  <a:lnTo>
                    <a:pt x="129" y="58"/>
                  </a:lnTo>
                  <a:lnTo>
                    <a:pt x="136" y="43"/>
                  </a:lnTo>
                  <a:lnTo>
                    <a:pt x="141" y="27"/>
                  </a:lnTo>
                  <a:lnTo>
                    <a:pt x="143" y="14"/>
                  </a:lnTo>
                  <a:lnTo>
                    <a:pt x="144" y="3"/>
                  </a:lnTo>
                  <a:lnTo>
                    <a:pt x="144" y="0"/>
                  </a:lnTo>
                  <a:lnTo>
                    <a:pt x="143" y="2"/>
                  </a:lnTo>
                  <a:lnTo>
                    <a:pt x="139" y="7"/>
                  </a:lnTo>
                  <a:lnTo>
                    <a:pt x="132" y="14"/>
                  </a:lnTo>
                  <a:lnTo>
                    <a:pt x="123" y="22"/>
                  </a:lnTo>
                  <a:lnTo>
                    <a:pt x="111" y="30"/>
                  </a:lnTo>
                  <a:lnTo>
                    <a:pt x="98" y="37"/>
                  </a:lnTo>
                  <a:lnTo>
                    <a:pt x="83" y="43"/>
                  </a:lnTo>
                  <a:lnTo>
                    <a:pt x="67" y="46"/>
                  </a:lnTo>
                  <a:lnTo>
                    <a:pt x="51" y="46"/>
                  </a:lnTo>
                  <a:lnTo>
                    <a:pt x="37" y="45"/>
                  </a:lnTo>
                  <a:lnTo>
                    <a:pt x="27" y="43"/>
                  </a:lnTo>
                  <a:lnTo>
                    <a:pt x="17" y="40"/>
                  </a:lnTo>
                  <a:lnTo>
                    <a:pt x="10" y="37"/>
                  </a:lnTo>
                  <a:lnTo>
                    <a:pt x="5" y="33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7" y="39"/>
                  </a:lnTo>
                  <a:lnTo>
                    <a:pt x="15" y="47"/>
                  </a:lnTo>
                  <a:lnTo>
                    <a:pt x="27" y="58"/>
                  </a:lnTo>
                  <a:lnTo>
                    <a:pt x="40" y="67"/>
                  </a:lnTo>
                  <a:lnTo>
                    <a:pt x="55" y="75"/>
                  </a:lnTo>
                  <a:lnTo>
                    <a:pt x="72" y="82"/>
                  </a:lnTo>
                  <a:lnTo>
                    <a:pt x="9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 rot="5400000">
            <a:off x="-3285360" y="3285360"/>
            <a:ext cx="6858000" cy="287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128000" y="6124680"/>
            <a:ext cx="1625400" cy="652320"/>
            <a:chOff x="7128000" y="6124680"/>
            <a:chExt cx="1625400" cy="652320"/>
          </a:xfrm>
        </p:grpSpPr>
        <p:sp>
          <p:nvSpPr>
            <p:cNvPr id="20" name=""/>
            <p:cNvSpPr txBox="1"/>
            <p:nvPr/>
          </p:nvSpPr>
          <p:spPr>
            <a:xfrm>
              <a:off x="8300520" y="6373080"/>
              <a:ext cx="452880" cy="403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7900560" y="6228360"/>
              <a:ext cx="586080" cy="548640"/>
              <a:chOff x="7900560" y="6228360"/>
              <a:chExt cx="586080" cy="548640"/>
            </a:xfrm>
          </p:grpSpPr>
          <p:sp>
            <p:nvSpPr>
              <p:cNvPr id="22" name=""/>
              <p:cNvSpPr/>
              <p:nvPr/>
            </p:nvSpPr>
            <p:spPr>
              <a:xfrm>
                <a:off x="7900560" y="6228360"/>
                <a:ext cx="586080" cy="5486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065080" y="6287400"/>
                <a:ext cx="271440" cy="305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" name=""/>
            <p:cNvSpPr txBox="1"/>
            <p:nvPr/>
          </p:nvSpPr>
          <p:spPr>
            <a:xfrm>
              <a:off x="7128000" y="6124680"/>
              <a:ext cx="1092600" cy="38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Impact"/>
              </a:rPr>
              <a:t>Click to edit the title text format</a:t>
            </a:r>
            <a:endParaRPr b="1" lang="en-US" sz="58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57B6-B939-4907-8A8F-02E8779F6E7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048360" y="5445000"/>
            <a:ext cx="2812680" cy="1130040"/>
            <a:chOff x="6048360" y="5445000"/>
            <a:chExt cx="2812680" cy="1130040"/>
          </a:xfrm>
        </p:grpSpPr>
        <p:sp>
          <p:nvSpPr>
            <p:cNvPr id="66" name=""/>
            <p:cNvSpPr txBox="1"/>
            <p:nvPr/>
          </p:nvSpPr>
          <p:spPr>
            <a:xfrm>
              <a:off x="8077320" y="5875200"/>
              <a:ext cx="783720" cy="69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7385760" y="5624640"/>
              <a:ext cx="1014120" cy="950400"/>
              <a:chOff x="7385760" y="5624640"/>
              <a:chExt cx="1014120" cy="950400"/>
            </a:xfrm>
          </p:grpSpPr>
          <p:sp>
            <p:nvSpPr>
              <p:cNvPr id="68" name=""/>
              <p:cNvSpPr/>
              <p:nvPr/>
            </p:nvSpPr>
            <p:spPr>
              <a:xfrm>
                <a:off x="7385760" y="5624640"/>
                <a:ext cx="1014120" cy="950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70520" y="5726880"/>
                <a:ext cx="469440" cy="5295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 txBox="1"/>
            <p:nvPr/>
          </p:nvSpPr>
          <p:spPr>
            <a:xfrm>
              <a:off x="6048360" y="5445000"/>
              <a:ext cx="1890720" cy="67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0" y="1197000"/>
            <a:ext cx="2092320" cy="1576440"/>
            <a:chOff x="0" y="1197000"/>
            <a:chExt cx="2092320" cy="1576440"/>
          </a:xfrm>
        </p:grpSpPr>
        <p:sp>
          <p:nvSpPr>
            <p:cNvPr id="72" name=""/>
            <p:cNvSpPr/>
            <p:nvPr/>
          </p:nvSpPr>
          <p:spPr>
            <a:xfrm flipH="1">
              <a:off x="0" y="1197000"/>
              <a:ext cx="2092320" cy="1576440"/>
            </a:xfrm>
            <a:custGeom>
              <a:avLst/>
              <a:gdLst/>
              <a:ahLst/>
              <a:rect l="l" t="t" r="r" b="b"/>
              <a:pathLst>
                <a:path w="2033" h="1517">
                  <a:moveTo>
                    <a:pt x="2017" y="1359"/>
                  </a:moveTo>
                  <a:lnTo>
                    <a:pt x="2001" y="1338"/>
                  </a:lnTo>
                  <a:lnTo>
                    <a:pt x="1987" y="1321"/>
                  </a:lnTo>
                  <a:lnTo>
                    <a:pt x="1976" y="1308"/>
                  </a:lnTo>
                  <a:lnTo>
                    <a:pt x="1965" y="1298"/>
                  </a:lnTo>
                  <a:lnTo>
                    <a:pt x="1957" y="1291"/>
                  </a:lnTo>
                  <a:lnTo>
                    <a:pt x="1950" y="1288"/>
                  </a:lnTo>
                  <a:lnTo>
                    <a:pt x="1947" y="1285"/>
                  </a:lnTo>
                  <a:lnTo>
                    <a:pt x="1946" y="1284"/>
                  </a:lnTo>
                  <a:lnTo>
                    <a:pt x="1967" y="1274"/>
                  </a:lnTo>
                  <a:lnTo>
                    <a:pt x="1958" y="1237"/>
                  </a:lnTo>
                  <a:lnTo>
                    <a:pt x="1957" y="1237"/>
                  </a:lnTo>
                  <a:lnTo>
                    <a:pt x="1955" y="1236"/>
                  </a:lnTo>
                  <a:lnTo>
                    <a:pt x="1952" y="1235"/>
                  </a:lnTo>
                  <a:lnTo>
                    <a:pt x="1946" y="1234"/>
                  </a:lnTo>
                  <a:lnTo>
                    <a:pt x="1940" y="1234"/>
                  </a:lnTo>
                  <a:lnTo>
                    <a:pt x="1933" y="1235"/>
                  </a:lnTo>
                  <a:lnTo>
                    <a:pt x="1926" y="1237"/>
                  </a:lnTo>
                  <a:lnTo>
                    <a:pt x="1918" y="1240"/>
                  </a:lnTo>
                  <a:lnTo>
                    <a:pt x="1911" y="1245"/>
                  </a:lnTo>
                  <a:lnTo>
                    <a:pt x="1904" y="1250"/>
                  </a:lnTo>
                  <a:lnTo>
                    <a:pt x="1897" y="1255"/>
                  </a:lnTo>
                  <a:lnTo>
                    <a:pt x="1890" y="1260"/>
                  </a:lnTo>
                  <a:lnTo>
                    <a:pt x="1885" y="1261"/>
                  </a:lnTo>
                  <a:lnTo>
                    <a:pt x="1882" y="1261"/>
                  </a:lnTo>
                  <a:lnTo>
                    <a:pt x="1878" y="1262"/>
                  </a:lnTo>
                  <a:lnTo>
                    <a:pt x="1867" y="1262"/>
                  </a:lnTo>
                  <a:lnTo>
                    <a:pt x="1855" y="1262"/>
                  </a:lnTo>
                  <a:lnTo>
                    <a:pt x="1836" y="1261"/>
                  </a:lnTo>
                  <a:lnTo>
                    <a:pt x="1816" y="1260"/>
                  </a:lnTo>
                  <a:lnTo>
                    <a:pt x="1789" y="1257"/>
                  </a:lnTo>
                  <a:lnTo>
                    <a:pt x="1759" y="1251"/>
                  </a:lnTo>
                  <a:lnTo>
                    <a:pt x="1753" y="1250"/>
                  </a:lnTo>
                  <a:lnTo>
                    <a:pt x="1748" y="1247"/>
                  </a:lnTo>
                  <a:lnTo>
                    <a:pt x="1742" y="1246"/>
                  </a:lnTo>
                  <a:lnTo>
                    <a:pt x="1736" y="1244"/>
                  </a:lnTo>
                  <a:lnTo>
                    <a:pt x="1729" y="1242"/>
                  </a:lnTo>
                  <a:lnTo>
                    <a:pt x="1723" y="1239"/>
                  </a:lnTo>
                  <a:lnTo>
                    <a:pt x="1718" y="1237"/>
                  </a:lnTo>
                  <a:lnTo>
                    <a:pt x="1711" y="1234"/>
                  </a:lnTo>
                  <a:lnTo>
                    <a:pt x="1721" y="1220"/>
                  </a:lnTo>
                  <a:lnTo>
                    <a:pt x="1612" y="1108"/>
                  </a:lnTo>
                  <a:lnTo>
                    <a:pt x="1614" y="1105"/>
                  </a:lnTo>
                  <a:lnTo>
                    <a:pt x="1617" y="1095"/>
                  </a:lnTo>
                  <a:lnTo>
                    <a:pt x="1619" y="1085"/>
                  </a:lnTo>
                  <a:lnTo>
                    <a:pt x="1614" y="1073"/>
                  </a:lnTo>
                  <a:lnTo>
                    <a:pt x="1613" y="1071"/>
                  </a:lnTo>
                  <a:lnTo>
                    <a:pt x="1610" y="1069"/>
                  </a:lnTo>
                  <a:lnTo>
                    <a:pt x="1609" y="1068"/>
                  </a:lnTo>
                  <a:lnTo>
                    <a:pt x="1608" y="1065"/>
                  </a:lnTo>
                  <a:lnTo>
                    <a:pt x="1650" y="1053"/>
                  </a:lnTo>
                  <a:lnTo>
                    <a:pt x="1246" y="623"/>
                  </a:lnTo>
                  <a:lnTo>
                    <a:pt x="1259" y="607"/>
                  </a:lnTo>
                  <a:lnTo>
                    <a:pt x="1273" y="591"/>
                  </a:lnTo>
                  <a:lnTo>
                    <a:pt x="1287" y="573"/>
                  </a:lnTo>
                  <a:lnTo>
                    <a:pt x="1302" y="556"/>
                  </a:lnTo>
                  <a:lnTo>
                    <a:pt x="1317" y="539"/>
                  </a:lnTo>
                  <a:lnTo>
                    <a:pt x="1333" y="522"/>
                  </a:lnTo>
                  <a:lnTo>
                    <a:pt x="1349" y="505"/>
                  </a:lnTo>
                  <a:lnTo>
                    <a:pt x="1365" y="489"/>
                  </a:lnTo>
                  <a:lnTo>
                    <a:pt x="1380" y="475"/>
                  </a:lnTo>
                  <a:lnTo>
                    <a:pt x="1395" y="462"/>
                  </a:lnTo>
                  <a:lnTo>
                    <a:pt x="1410" y="450"/>
                  </a:lnTo>
                  <a:lnTo>
                    <a:pt x="1425" y="440"/>
                  </a:lnTo>
                  <a:lnTo>
                    <a:pt x="1438" y="431"/>
                  </a:lnTo>
                  <a:lnTo>
                    <a:pt x="1450" y="425"/>
                  </a:lnTo>
                  <a:lnTo>
                    <a:pt x="1462" y="420"/>
                  </a:lnTo>
                  <a:lnTo>
                    <a:pt x="1472" y="419"/>
                  </a:lnTo>
                  <a:lnTo>
                    <a:pt x="1486" y="420"/>
                  </a:lnTo>
                  <a:lnTo>
                    <a:pt x="1502" y="427"/>
                  </a:lnTo>
                  <a:lnTo>
                    <a:pt x="1518" y="436"/>
                  </a:lnTo>
                  <a:lnTo>
                    <a:pt x="1537" y="450"/>
                  </a:lnTo>
                  <a:lnTo>
                    <a:pt x="1555" y="467"/>
                  </a:lnTo>
                  <a:lnTo>
                    <a:pt x="1575" y="488"/>
                  </a:lnTo>
                  <a:lnTo>
                    <a:pt x="1594" y="512"/>
                  </a:lnTo>
                  <a:lnTo>
                    <a:pt x="1614" y="539"/>
                  </a:lnTo>
                  <a:lnTo>
                    <a:pt x="1596" y="564"/>
                  </a:lnTo>
                  <a:lnTo>
                    <a:pt x="1581" y="588"/>
                  </a:lnTo>
                  <a:lnTo>
                    <a:pt x="1569" y="610"/>
                  </a:lnTo>
                  <a:lnTo>
                    <a:pt x="1561" y="630"/>
                  </a:lnTo>
                  <a:lnTo>
                    <a:pt x="1555" y="647"/>
                  </a:lnTo>
                  <a:lnTo>
                    <a:pt x="1554" y="663"/>
                  </a:lnTo>
                  <a:lnTo>
                    <a:pt x="1556" y="676"/>
                  </a:lnTo>
                  <a:lnTo>
                    <a:pt x="1562" y="687"/>
                  </a:lnTo>
                  <a:lnTo>
                    <a:pt x="1576" y="702"/>
                  </a:lnTo>
                  <a:lnTo>
                    <a:pt x="1596" y="719"/>
                  </a:lnTo>
                  <a:lnTo>
                    <a:pt x="1619" y="734"/>
                  </a:lnTo>
                  <a:lnTo>
                    <a:pt x="1643" y="747"/>
                  </a:lnTo>
                  <a:lnTo>
                    <a:pt x="1668" y="758"/>
                  </a:lnTo>
                  <a:lnTo>
                    <a:pt x="1692" y="766"/>
                  </a:lnTo>
                  <a:lnTo>
                    <a:pt x="1714" y="768"/>
                  </a:lnTo>
                  <a:lnTo>
                    <a:pt x="1731" y="766"/>
                  </a:lnTo>
                  <a:lnTo>
                    <a:pt x="1740" y="761"/>
                  </a:lnTo>
                  <a:lnTo>
                    <a:pt x="1745" y="755"/>
                  </a:lnTo>
                  <a:lnTo>
                    <a:pt x="1748" y="750"/>
                  </a:lnTo>
                  <a:lnTo>
                    <a:pt x="1749" y="745"/>
                  </a:lnTo>
                  <a:lnTo>
                    <a:pt x="1749" y="742"/>
                  </a:lnTo>
                  <a:lnTo>
                    <a:pt x="1748" y="738"/>
                  </a:lnTo>
                  <a:lnTo>
                    <a:pt x="1748" y="735"/>
                  </a:lnTo>
                  <a:lnTo>
                    <a:pt x="1746" y="731"/>
                  </a:lnTo>
                  <a:lnTo>
                    <a:pt x="1755" y="732"/>
                  </a:lnTo>
                  <a:lnTo>
                    <a:pt x="1761" y="734"/>
                  </a:lnTo>
                  <a:lnTo>
                    <a:pt x="1768" y="735"/>
                  </a:lnTo>
                  <a:lnTo>
                    <a:pt x="1775" y="735"/>
                  </a:lnTo>
                  <a:lnTo>
                    <a:pt x="1780" y="734"/>
                  </a:lnTo>
                  <a:lnTo>
                    <a:pt x="1784" y="732"/>
                  </a:lnTo>
                  <a:lnTo>
                    <a:pt x="1789" y="731"/>
                  </a:lnTo>
                  <a:lnTo>
                    <a:pt x="1793" y="729"/>
                  </a:lnTo>
                  <a:lnTo>
                    <a:pt x="1796" y="727"/>
                  </a:lnTo>
                  <a:lnTo>
                    <a:pt x="1798" y="723"/>
                  </a:lnTo>
                  <a:lnTo>
                    <a:pt x="1799" y="720"/>
                  </a:lnTo>
                  <a:lnTo>
                    <a:pt x="1799" y="715"/>
                  </a:lnTo>
                  <a:lnTo>
                    <a:pt x="1798" y="708"/>
                  </a:lnTo>
                  <a:lnTo>
                    <a:pt x="1795" y="700"/>
                  </a:lnTo>
                  <a:lnTo>
                    <a:pt x="1790" y="691"/>
                  </a:lnTo>
                  <a:lnTo>
                    <a:pt x="1782" y="681"/>
                  </a:lnTo>
                  <a:lnTo>
                    <a:pt x="1771" y="669"/>
                  </a:lnTo>
                  <a:lnTo>
                    <a:pt x="1758" y="655"/>
                  </a:lnTo>
                  <a:lnTo>
                    <a:pt x="1743" y="641"/>
                  </a:lnTo>
                  <a:lnTo>
                    <a:pt x="1726" y="625"/>
                  </a:lnTo>
                  <a:lnTo>
                    <a:pt x="1734" y="609"/>
                  </a:lnTo>
                  <a:lnTo>
                    <a:pt x="1740" y="592"/>
                  </a:lnTo>
                  <a:lnTo>
                    <a:pt x="1737" y="573"/>
                  </a:lnTo>
                  <a:lnTo>
                    <a:pt x="1728" y="556"/>
                  </a:lnTo>
                  <a:lnTo>
                    <a:pt x="1723" y="552"/>
                  </a:lnTo>
                  <a:lnTo>
                    <a:pt x="1719" y="548"/>
                  </a:lnTo>
                  <a:lnTo>
                    <a:pt x="1714" y="543"/>
                  </a:lnTo>
                  <a:lnTo>
                    <a:pt x="1710" y="540"/>
                  </a:lnTo>
                  <a:lnTo>
                    <a:pt x="1708" y="539"/>
                  </a:lnTo>
                  <a:lnTo>
                    <a:pt x="1707" y="535"/>
                  </a:lnTo>
                  <a:lnTo>
                    <a:pt x="1705" y="527"/>
                  </a:lnTo>
                  <a:lnTo>
                    <a:pt x="1702" y="517"/>
                  </a:lnTo>
                  <a:lnTo>
                    <a:pt x="1696" y="503"/>
                  </a:lnTo>
                  <a:lnTo>
                    <a:pt x="1689" y="487"/>
                  </a:lnTo>
                  <a:lnTo>
                    <a:pt x="1681" y="469"/>
                  </a:lnTo>
                  <a:lnTo>
                    <a:pt x="1670" y="449"/>
                  </a:lnTo>
                  <a:lnTo>
                    <a:pt x="1658" y="427"/>
                  </a:lnTo>
                  <a:lnTo>
                    <a:pt x="1644" y="405"/>
                  </a:lnTo>
                  <a:lnTo>
                    <a:pt x="1629" y="383"/>
                  </a:lnTo>
                  <a:lnTo>
                    <a:pt x="1610" y="361"/>
                  </a:lnTo>
                  <a:lnTo>
                    <a:pt x="1591" y="340"/>
                  </a:lnTo>
                  <a:lnTo>
                    <a:pt x="1569" y="319"/>
                  </a:lnTo>
                  <a:lnTo>
                    <a:pt x="1545" y="300"/>
                  </a:lnTo>
                  <a:lnTo>
                    <a:pt x="1518" y="283"/>
                  </a:lnTo>
                  <a:lnTo>
                    <a:pt x="1489" y="268"/>
                  </a:lnTo>
                  <a:lnTo>
                    <a:pt x="1461" y="259"/>
                  </a:lnTo>
                  <a:lnTo>
                    <a:pt x="1430" y="255"/>
                  </a:lnTo>
                  <a:lnTo>
                    <a:pt x="1397" y="257"/>
                  </a:lnTo>
                  <a:lnTo>
                    <a:pt x="1363" y="262"/>
                  </a:lnTo>
                  <a:lnTo>
                    <a:pt x="1327" y="272"/>
                  </a:lnTo>
                  <a:lnTo>
                    <a:pt x="1292" y="284"/>
                  </a:lnTo>
                  <a:lnTo>
                    <a:pt x="1257" y="298"/>
                  </a:lnTo>
                  <a:lnTo>
                    <a:pt x="1221" y="315"/>
                  </a:lnTo>
                  <a:lnTo>
                    <a:pt x="1188" y="333"/>
                  </a:lnTo>
                  <a:lnTo>
                    <a:pt x="1154" y="352"/>
                  </a:lnTo>
                  <a:lnTo>
                    <a:pt x="1124" y="371"/>
                  </a:lnTo>
                  <a:lnTo>
                    <a:pt x="1095" y="389"/>
                  </a:lnTo>
                  <a:lnTo>
                    <a:pt x="1070" y="406"/>
                  </a:lnTo>
                  <a:lnTo>
                    <a:pt x="1048" y="422"/>
                  </a:lnTo>
                  <a:lnTo>
                    <a:pt x="1029" y="436"/>
                  </a:lnTo>
                  <a:lnTo>
                    <a:pt x="1015" y="447"/>
                  </a:lnTo>
                  <a:lnTo>
                    <a:pt x="1004" y="427"/>
                  </a:lnTo>
                  <a:lnTo>
                    <a:pt x="989" y="402"/>
                  </a:lnTo>
                  <a:lnTo>
                    <a:pt x="971" y="372"/>
                  </a:lnTo>
                  <a:lnTo>
                    <a:pt x="949" y="337"/>
                  </a:lnTo>
                  <a:lnTo>
                    <a:pt x="925" y="299"/>
                  </a:lnTo>
                  <a:lnTo>
                    <a:pt x="898" y="260"/>
                  </a:lnTo>
                  <a:lnTo>
                    <a:pt x="870" y="221"/>
                  </a:lnTo>
                  <a:lnTo>
                    <a:pt x="838" y="181"/>
                  </a:lnTo>
                  <a:lnTo>
                    <a:pt x="805" y="143"/>
                  </a:lnTo>
                  <a:lnTo>
                    <a:pt x="772" y="107"/>
                  </a:lnTo>
                  <a:lnTo>
                    <a:pt x="736" y="75"/>
                  </a:lnTo>
                  <a:lnTo>
                    <a:pt x="700" y="47"/>
                  </a:lnTo>
                  <a:lnTo>
                    <a:pt x="663" y="24"/>
                  </a:lnTo>
                  <a:lnTo>
                    <a:pt x="628" y="8"/>
                  </a:lnTo>
                  <a:lnTo>
                    <a:pt x="591" y="0"/>
                  </a:lnTo>
                  <a:lnTo>
                    <a:pt x="555" y="1"/>
                  </a:lnTo>
                  <a:lnTo>
                    <a:pt x="522" y="10"/>
                  </a:lnTo>
                  <a:lnTo>
                    <a:pt x="487" y="25"/>
                  </a:lnTo>
                  <a:lnTo>
                    <a:pt x="450" y="47"/>
                  </a:lnTo>
                  <a:lnTo>
                    <a:pt x="413" y="73"/>
                  </a:lnTo>
                  <a:lnTo>
                    <a:pt x="376" y="104"/>
                  </a:lnTo>
                  <a:lnTo>
                    <a:pt x="340" y="139"/>
                  </a:lnTo>
                  <a:lnTo>
                    <a:pt x="303" y="177"/>
                  </a:lnTo>
                  <a:lnTo>
                    <a:pt x="268" y="217"/>
                  </a:lnTo>
                  <a:lnTo>
                    <a:pt x="236" y="258"/>
                  </a:lnTo>
                  <a:lnTo>
                    <a:pt x="205" y="299"/>
                  </a:lnTo>
                  <a:lnTo>
                    <a:pt x="177" y="341"/>
                  </a:lnTo>
                  <a:lnTo>
                    <a:pt x="154" y="381"/>
                  </a:lnTo>
                  <a:lnTo>
                    <a:pt x="133" y="419"/>
                  </a:lnTo>
                  <a:lnTo>
                    <a:pt x="118" y="455"/>
                  </a:lnTo>
                  <a:lnTo>
                    <a:pt x="108" y="486"/>
                  </a:lnTo>
                  <a:lnTo>
                    <a:pt x="103" y="513"/>
                  </a:lnTo>
                  <a:lnTo>
                    <a:pt x="103" y="527"/>
                  </a:lnTo>
                  <a:lnTo>
                    <a:pt x="106" y="539"/>
                  </a:lnTo>
                  <a:lnTo>
                    <a:pt x="109" y="548"/>
                  </a:lnTo>
                  <a:lnTo>
                    <a:pt x="114" y="556"/>
                  </a:lnTo>
                  <a:lnTo>
                    <a:pt x="120" y="562"/>
                  </a:lnTo>
                  <a:lnTo>
                    <a:pt x="125" y="565"/>
                  </a:lnTo>
                  <a:lnTo>
                    <a:pt x="131" y="569"/>
                  </a:lnTo>
                  <a:lnTo>
                    <a:pt x="136" y="571"/>
                  </a:lnTo>
                  <a:lnTo>
                    <a:pt x="155" y="576"/>
                  </a:lnTo>
                  <a:lnTo>
                    <a:pt x="175" y="579"/>
                  </a:lnTo>
                  <a:lnTo>
                    <a:pt x="197" y="583"/>
                  </a:lnTo>
                  <a:lnTo>
                    <a:pt x="220" y="585"/>
                  </a:lnTo>
                  <a:lnTo>
                    <a:pt x="243" y="586"/>
                  </a:lnTo>
                  <a:lnTo>
                    <a:pt x="266" y="586"/>
                  </a:lnTo>
                  <a:lnTo>
                    <a:pt x="289" y="586"/>
                  </a:lnTo>
                  <a:lnTo>
                    <a:pt x="312" y="585"/>
                  </a:lnTo>
                  <a:lnTo>
                    <a:pt x="334" y="584"/>
                  </a:lnTo>
                  <a:lnTo>
                    <a:pt x="355" y="583"/>
                  </a:lnTo>
                  <a:lnTo>
                    <a:pt x="374" y="581"/>
                  </a:lnTo>
                  <a:lnTo>
                    <a:pt x="393" y="579"/>
                  </a:lnTo>
                  <a:lnTo>
                    <a:pt x="410" y="578"/>
                  </a:lnTo>
                  <a:lnTo>
                    <a:pt x="424" y="576"/>
                  </a:lnTo>
                  <a:lnTo>
                    <a:pt x="436" y="575"/>
                  </a:lnTo>
                  <a:lnTo>
                    <a:pt x="446" y="573"/>
                  </a:lnTo>
                  <a:lnTo>
                    <a:pt x="569" y="763"/>
                  </a:lnTo>
                  <a:lnTo>
                    <a:pt x="559" y="773"/>
                  </a:lnTo>
                  <a:lnTo>
                    <a:pt x="548" y="783"/>
                  </a:lnTo>
                  <a:lnTo>
                    <a:pt x="534" y="795"/>
                  </a:lnTo>
                  <a:lnTo>
                    <a:pt x="520" y="806"/>
                  </a:lnTo>
                  <a:lnTo>
                    <a:pt x="507" y="818"/>
                  </a:lnTo>
                  <a:lnTo>
                    <a:pt x="491" y="830"/>
                  </a:lnTo>
                  <a:lnTo>
                    <a:pt x="474" y="842"/>
                  </a:lnTo>
                  <a:lnTo>
                    <a:pt x="458" y="853"/>
                  </a:lnTo>
                  <a:lnTo>
                    <a:pt x="442" y="864"/>
                  </a:lnTo>
                  <a:lnTo>
                    <a:pt x="425" y="873"/>
                  </a:lnTo>
                  <a:lnTo>
                    <a:pt x="409" y="881"/>
                  </a:lnTo>
                  <a:lnTo>
                    <a:pt x="393" y="888"/>
                  </a:lnTo>
                  <a:lnTo>
                    <a:pt x="378" y="893"/>
                  </a:lnTo>
                  <a:lnTo>
                    <a:pt x="363" y="896"/>
                  </a:lnTo>
                  <a:lnTo>
                    <a:pt x="350" y="896"/>
                  </a:lnTo>
                  <a:lnTo>
                    <a:pt x="337" y="895"/>
                  </a:lnTo>
                  <a:lnTo>
                    <a:pt x="319" y="889"/>
                  </a:lnTo>
                  <a:lnTo>
                    <a:pt x="303" y="881"/>
                  </a:lnTo>
                  <a:lnTo>
                    <a:pt x="289" y="872"/>
                  </a:lnTo>
                  <a:lnTo>
                    <a:pt x="276" y="861"/>
                  </a:lnTo>
                  <a:lnTo>
                    <a:pt x="265" y="851"/>
                  </a:lnTo>
                  <a:lnTo>
                    <a:pt x="255" y="841"/>
                  </a:lnTo>
                  <a:lnTo>
                    <a:pt x="247" y="830"/>
                  </a:lnTo>
                  <a:lnTo>
                    <a:pt x="240" y="821"/>
                  </a:lnTo>
                  <a:lnTo>
                    <a:pt x="246" y="811"/>
                  </a:lnTo>
                  <a:lnTo>
                    <a:pt x="254" y="797"/>
                  </a:lnTo>
                  <a:lnTo>
                    <a:pt x="264" y="781"/>
                  </a:lnTo>
                  <a:lnTo>
                    <a:pt x="272" y="761"/>
                  </a:lnTo>
                  <a:lnTo>
                    <a:pt x="279" y="742"/>
                  </a:lnTo>
                  <a:lnTo>
                    <a:pt x="283" y="721"/>
                  </a:lnTo>
                  <a:lnTo>
                    <a:pt x="284" y="701"/>
                  </a:lnTo>
                  <a:lnTo>
                    <a:pt x="282" y="682"/>
                  </a:lnTo>
                  <a:lnTo>
                    <a:pt x="277" y="670"/>
                  </a:lnTo>
                  <a:lnTo>
                    <a:pt x="270" y="660"/>
                  </a:lnTo>
                  <a:lnTo>
                    <a:pt x="261" y="652"/>
                  </a:lnTo>
                  <a:lnTo>
                    <a:pt x="250" y="645"/>
                  </a:lnTo>
                  <a:lnTo>
                    <a:pt x="242" y="643"/>
                  </a:lnTo>
                  <a:lnTo>
                    <a:pt x="234" y="640"/>
                  </a:lnTo>
                  <a:lnTo>
                    <a:pt x="226" y="639"/>
                  </a:lnTo>
                  <a:lnTo>
                    <a:pt x="217" y="639"/>
                  </a:lnTo>
                  <a:lnTo>
                    <a:pt x="208" y="639"/>
                  </a:lnTo>
                  <a:lnTo>
                    <a:pt x="199" y="640"/>
                  </a:lnTo>
                  <a:lnTo>
                    <a:pt x="190" y="643"/>
                  </a:lnTo>
                  <a:lnTo>
                    <a:pt x="181" y="646"/>
                  </a:lnTo>
                  <a:lnTo>
                    <a:pt x="171" y="639"/>
                  </a:lnTo>
                  <a:lnTo>
                    <a:pt x="158" y="631"/>
                  </a:lnTo>
                  <a:lnTo>
                    <a:pt x="140" y="621"/>
                  </a:lnTo>
                  <a:lnTo>
                    <a:pt x="121" y="611"/>
                  </a:lnTo>
                  <a:lnTo>
                    <a:pt x="100" y="604"/>
                  </a:lnTo>
                  <a:lnTo>
                    <a:pt x="80" y="601"/>
                  </a:lnTo>
                  <a:lnTo>
                    <a:pt x="61" y="603"/>
                  </a:lnTo>
                  <a:lnTo>
                    <a:pt x="45" y="611"/>
                  </a:lnTo>
                  <a:lnTo>
                    <a:pt x="32" y="630"/>
                  </a:lnTo>
                  <a:lnTo>
                    <a:pt x="31" y="647"/>
                  </a:lnTo>
                  <a:lnTo>
                    <a:pt x="35" y="663"/>
                  </a:lnTo>
                  <a:lnTo>
                    <a:pt x="43" y="677"/>
                  </a:lnTo>
                  <a:lnTo>
                    <a:pt x="46" y="681"/>
                  </a:lnTo>
                  <a:lnTo>
                    <a:pt x="48" y="685"/>
                  </a:lnTo>
                  <a:lnTo>
                    <a:pt x="49" y="689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46" y="696"/>
                  </a:lnTo>
                  <a:lnTo>
                    <a:pt x="41" y="699"/>
                  </a:lnTo>
                  <a:lnTo>
                    <a:pt x="35" y="701"/>
                  </a:lnTo>
                  <a:lnTo>
                    <a:pt x="31" y="704"/>
                  </a:lnTo>
                  <a:lnTo>
                    <a:pt x="24" y="707"/>
                  </a:lnTo>
                  <a:lnTo>
                    <a:pt x="17" y="710"/>
                  </a:lnTo>
                  <a:lnTo>
                    <a:pt x="10" y="716"/>
                  </a:lnTo>
                  <a:lnTo>
                    <a:pt x="4" y="722"/>
                  </a:lnTo>
                  <a:lnTo>
                    <a:pt x="1" y="730"/>
                  </a:lnTo>
                  <a:lnTo>
                    <a:pt x="0" y="740"/>
                  </a:lnTo>
                  <a:lnTo>
                    <a:pt x="1" y="753"/>
                  </a:lnTo>
                  <a:lnTo>
                    <a:pt x="5" y="768"/>
                  </a:lnTo>
                  <a:lnTo>
                    <a:pt x="15" y="785"/>
                  </a:lnTo>
                  <a:lnTo>
                    <a:pt x="26" y="799"/>
                  </a:lnTo>
                  <a:lnTo>
                    <a:pt x="39" y="812"/>
                  </a:lnTo>
                  <a:lnTo>
                    <a:pt x="53" y="821"/>
                  </a:lnTo>
                  <a:lnTo>
                    <a:pt x="67" y="828"/>
                  </a:lnTo>
                  <a:lnTo>
                    <a:pt x="79" y="833"/>
                  </a:lnTo>
                  <a:lnTo>
                    <a:pt x="92" y="835"/>
                  </a:lnTo>
                  <a:lnTo>
                    <a:pt x="102" y="836"/>
                  </a:lnTo>
                  <a:lnTo>
                    <a:pt x="155" y="849"/>
                  </a:lnTo>
                  <a:lnTo>
                    <a:pt x="160" y="858"/>
                  </a:lnTo>
                  <a:lnTo>
                    <a:pt x="164" y="869"/>
                  </a:lnTo>
                  <a:lnTo>
                    <a:pt x="173" y="884"/>
                  </a:lnTo>
                  <a:lnTo>
                    <a:pt x="181" y="901"/>
                  </a:lnTo>
                  <a:lnTo>
                    <a:pt x="191" y="918"/>
                  </a:lnTo>
                  <a:lnTo>
                    <a:pt x="204" y="936"/>
                  </a:lnTo>
                  <a:lnTo>
                    <a:pt x="216" y="956"/>
                  </a:lnTo>
                  <a:lnTo>
                    <a:pt x="231" y="974"/>
                  </a:lnTo>
                  <a:lnTo>
                    <a:pt x="247" y="993"/>
                  </a:lnTo>
                  <a:lnTo>
                    <a:pt x="266" y="1010"/>
                  </a:lnTo>
                  <a:lnTo>
                    <a:pt x="284" y="1026"/>
                  </a:lnTo>
                  <a:lnTo>
                    <a:pt x="305" y="1040"/>
                  </a:lnTo>
                  <a:lnTo>
                    <a:pt x="327" y="1052"/>
                  </a:lnTo>
                  <a:lnTo>
                    <a:pt x="350" y="1060"/>
                  </a:lnTo>
                  <a:lnTo>
                    <a:pt x="375" y="1064"/>
                  </a:lnTo>
                  <a:lnTo>
                    <a:pt x="401" y="1065"/>
                  </a:lnTo>
                  <a:lnTo>
                    <a:pt x="423" y="1064"/>
                  </a:lnTo>
                  <a:lnTo>
                    <a:pt x="446" y="1062"/>
                  </a:lnTo>
                  <a:lnTo>
                    <a:pt x="467" y="1060"/>
                  </a:lnTo>
                  <a:lnTo>
                    <a:pt x="488" y="1057"/>
                  </a:lnTo>
                  <a:lnTo>
                    <a:pt x="510" y="1054"/>
                  </a:lnTo>
                  <a:lnTo>
                    <a:pt x="531" y="1050"/>
                  </a:lnTo>
                  <a:lnTo>
                    <a:pt x="550" y="1046"/>
                  </a:lnTo>
                  <a:lnTo>
                    <a:pt x="570" y="1042"/>
                  </a:lnTo>
                  <a:lnTo>
                    <a:pt x="587" y="1038"/>
                  </a:lnTo>
                  <a:lnTo>
                    <a:pt x="605" y="1033"/>
                  </a:lnTo>
                  <a:lnTo>
                    <a:pt x="621" y="1030"/>
                  </a:lnTo>
                  <a:lnTo>
                    <a:pt x="636" y="1025"/>
                  </a:lnTo>
                  <a:lnTo>
                    <a:pt x="650" y="1022"/>
                  </a:lnTo>
                  <a:lnTo>
                    <a:pt x="661" y="1018"/>
                  </a:lnTo>
                  <a:lnTo>
                    <a:pt x="671" y="1015"/>
                  </a:lnTo>
                  <a:lnTo>
                    <a:pt x="681" y="1012"/>
                  </a:lnTo>
                  <a:lnTo>
                    <a:pt x="691" y="1025"/>
                  </a:lnTo>
                  <a:lnTo>
                    <a:pt x="701" y="1038"/>
                  </a:lnTo>
                  <a:lnTo>
                    <a:pt x="713" y="1050"/>
                  </a:lnTo>
                  <a:lnTo>
                    <a:pt x="724" y="1063"/>
                  </a:lnTo>
                  <a:lnTo>
                    <a:pt x="737" y="1077"/>
                  </a:lnTo>
                  <a:lnTo>
                    <a:pt x="750" y="1091"/>
                  </a:lnTo>
                  <a:lnTo>
                    <a:pt x="762" y="1105"/>
                  </a:lnTo>
                  <a:lnTo>
                    <a:pt x="775" y="1118"/>
                  </a:lnTo>
                  <a:lnTo>
                    <a:pt x="782" y="1176"/>
                  </a:lnTo>
                  <a:lnTo>
                    <a:pt x="765" y="1184"/>
                  </a:lnTo>
                  <a:lnTo>
                    <a:pt x="747" y="1194"/>
                  </a:lnTo>
                  <a:lnTo>
                    <a:pt x="728" y="1204"/>
                  </a:lnTo>
                  <a:lnTo>
                    <a:pt x="709" y="1214"/>
                  </a:lnTo>
                  <a:lnTo>
                    <a:pt x="690" y="1225"/>
                  </a:lnTo>
                  <a:lnTo>
                    <a:pt x="670" y="1236"/>
                  </a:lnTo>
                  <a:lnTo>
                    <a:pt x="651" y="1247"/>
                  </a:lnTo>
                  <a:lnTo>
                    <a:pt x="632" y="1258"/>
                  </a:lnTo>
                  <a:lnTo>
                    <a:pt x="616" y="1268"/>
                  </a:lnTo>
                  <a:lnTo>
                    <a:pt x="599" y="1278"/>
                  </a:lnTo>
                  <a:lnTo>
                    <a:pt x="582" y="1290"/>
                  </a:lnTo>
                  <a:lnTo>
                    <a:pt x="564" y="1302"/>
                  </a:lnTo>
                  <a:lnTo>
                    <a:pt x="547" y="1313"/>
                  </a:lnTo>
                  <a:lnTo>
                    <a:pt x="531" y="1326"/>
                  </a:lnTo>
                  <a:lnTo>
                    <a:pt x="515" y="1337"/>
                  </a:lnTo>
                  <a:lnTo>
                    <a:pt x="500" y="1348"/>
                  </a:lnTo>
                  <a:lnTo>
                    <a:pt x="485" y="1359"/>
                  </a:lnTo>
                  <a:lnTo>
                    <a:pt x="472" y="1368"/>
                  </a:lnTo>
                  <a:lnTo>
                    <a:pt x="461" y="1378"/>
                  </a:lnTo>
                  <a:lnTo>
                    <a:pt x="450" y="1384"/>
                  </a:lnTo>
                  <a:lnTo>
                    <a:pt x="442" y="1391"/>
                  </a:lnTo>
                  <a:lnTo>
                    <a:pt x="436" y="1396"/>
                  </a:lnTo>
                  <a:lnTo>
                    <a:pt x="432" y="1398"/>
                  </a:lnTo>
                  <a:lnTo>
                    <a:pt x="431" y="1399"/>
                  </a:lnTo>
                  <a:lnTo>
                    <a:pt x="420" y="1408"/>
                  </a:lnTo>
                  <a:lnTo>
                    <a:pt x="412" y="1405"/>
                  </a:lnTo>
                  <a:lnTo>
                    <a:pt x="404" y="1402"/>
                  </a:lnTo>
                  <a:lnTo>
                    <a:pt x="395" y="1397"/>
                  </a:lnTo>
                  <a:lnTo>
                    <a:pt x="386" y="1393"/>
                  </a:lnTo>
                  <a:lnTo>
                    <a:pt x="378" y="1386"/>
                  </a:lnTo>
                  <a:lnTo>
                    <a:pt x="370" y="1379"/>
                  </a:lnTo>
                  <a:lnTo>
                    <a:pt x="363" y="1369"/>
                  </a:lnTo>
                  <a:lnTo>
                    <a:pt x="357" y="1360"/>
                  </a:lnTo>
                  <a:lnTo>
                    <a:pt x="351" y="1344"/>
                  </a:lnTo>
                  <a:lnTo>
                    <a:pt x="345" y="1328"/>
                  </a:lnTo>
                  <a:lnTo>
                    <a:pt x="341" y="1314"/>
                  </a:lnTo>
                  <a:lnTo>
                    <a:pt x="336" y="1302"/>
                  </a:lnTo>
                  <a:lnTo>
                    <a:pt x="330" y="1292"/>
                  </a:lnTo>
                  <a:lnTo>
                    <a:pt x="323" y="1285"/>
                  </a:lnTo>
                  <a:lnTo>
                    <a:pt x="315" y="1282"/>
                  </a:lnTo>
                  <a:lnTo>
                    <a:pt x="305" y="1282"/>
                  </a:lnTo>
                  <a:lnTo>
                    <a:pt x="293" y="1289"/>
                  </a:lnTo>
                  <a:lnTo>
                    <a:pt x="284" y="1302"/>
                  </a:lnTo>
                  <a:lnTo>
                    <a:pt x="277" y="1319"/>
                  </a:lnTo>
                  <a:lnTo>
                    <a:pt x="274" y="1341"/>
                  </a:lnTo>
                  <a:lnTo>
                    <a:pt x="276" y="1364"/>
                  </a:lnTo>
                  <a:lnTo>
                    <a:pt x="282" y="1386"/>
                  </a:lnTo>
                  <a:lnTo>
                    <a:pt x="296" y="1408"/>
                  </a:lnTo>
                  <a:lnTo>
                    <a:pt x="315" y="1425"/>
                  </a:lnTo>
                  <a:lnTo>
                    <a:pt x="338" y="1439"/>
                  </a:lnTo>
                  <a:lnTo>
                    <a:pt x="357" y="1449"/>
                  </a:lnTo>
                  <a:lnTo>
                    <a:pt x="374" y="1457"/>
                  </a:lnTo>
                  <a:lnTo>
                    <a:pt x="387" y="1462"/>
                  </a:lnTo>
                  <a:lnTo>
                    <a:pt x="397" y="1465"/>
                  </a:lnTo>
                  <a:lnTo>
                    <a:pt x="404" y="1467"/>
                  </a:lnTo>
                  <a:lnTo>
                    <a:pt x="409" y="1469"/>
                  </a:lnTo>
                  <a:lnTo>
                    <a:pt x="410" y="1469"/>
                  </a:lnTo>
                  <a:lnTo>
                    <a:pt x="394" y="1486"/>
                  </a:lnTo>
                  <a:lnTo>
                    <a:pt x="416" y="1517"/>
                  </a:lnTo>
                  <a:lnTo>
                    <a:pt x="417" y="1517"/>
                  </a:lnTo>
                  <a:lnTo>
                    <a:pt x="419" y="1517"/>
                  </a:lnTo>
                  <a:lnTo>
                    <a:pt x="424" y="1516"/>
                  </a:lnTo>
                  <a:lnTo>
                    <a:pt x="428" y="1515"/>
                  </a:lnTo>
                  <a:lnTo>
                    <a:pt x="434" y="1512"/>
                  </a:lnTo>
                  <a:lnTo>
                    <a:pt x="440" y="1509"/>
                  </a:lnTo>
                  <a:lnTo>
                    <a:pt x="446" y="1504"/>
                  </a:lnTo>
                  <a:lnTo>
                    <a:pt x="451" y="1499"/>
                  </a:lnTo>
                  <a:lnTo>
                    <a:pt x="456" y="1493"/>
                  </a:lnTo>
                  <a:lnTo>
                    <a:pt x="461" y="1486"/>
                  </a:lnTo>
                  <a:lnTo>
                    <a:pt x="464" y="1479"/>
                  </a:lnTo>
                  <a:lnTo>
                    <a:pt x="469" y="1473"/>
                  </a:lnTo>
                  <a:lnTo>
                    <a:pt x="469" y="1473"/>
                  </a:lnTo>
                  <a:lnTo>
                    <a:pt x="479" y="1469"/>
                  </a:lnTo>
                  <a:lnTo>
                    <a:pt x="481" y="1467"/>
                  </a:lnTo>
                  <a:lnTo>
                    <a:pt x="487" y="1465"/>
                  </a:lnTo>
                  <a:lnTo>
                    <a:pt x="495" y="1462"/>
                  </a:lnTo>
                  <a:lnTo>
                    <a:pt x="507" y="1456"/>
                  </a:lnTo>
                  <a:lnTo>
                    <a:pt x="520" y="1450"/>
                  </a:lnTo>
                  <a:lnTo>
                    <a:pt x="535" y="1443"/>
                  </a:lnTo>
                  <a:lnTo>
                    <a:pt x="554" y="1435"/>
                  </a:lnTo>
                  <a:lnTo>
                    <a:pt x="573" y="1427"/>
                  </a:lnTo>
                  <a:lnTo>
                    <a:pt x="594" y="1418"/>
                  </a:lnTo>
                  <a:lnTo>
                    <a:pt x="616" y="1409"/>
                  </a:lnTo>
                  <a:lnTo>
                    <a:pt x="639" y="1399"/>
                  </a:lnTo>
                  <a:lnTo>
                    <a:pt x="662" y="1390"/>
                  </a:lnTo>
                  <a:lnTo>
                    <a:pt x="686" y="1381"/>
                  </a:lnTo>
                  <a:lnTo>
                    <a:pt x="711" y="1373"/>
                  </a:lnTo>
                  <a:lnTo>
                    <a:pt x="734" y="1365"/>
                  </a:lnTo>
                  <a:lnTo>
                    <a:pt x="757" y="1357"/>
                  </a:lnTo>
                  <a:lnTo>
                    <a:pt x="762" y="1355"/>
                  </a:lnTo>
                  <a:lnTo>
                    <a:pt x="768" y="1353"/>
                  </a:lnTo>
                  <a:lnTo>
                    <a:pt x="774" y="1351"/>
                  </a:lnTo>
                  <a:lnTo>
                    <a:pt x="780" y="1350"/>
                  </a:lnTo>
                  <a:lnTo>
                    <a:pt x="784" y="1348"/>
                  </a:lnTo>
                  <a:lnTo>
                    <a:pt x="790" y="1346"/>
                  </a:lnTo>
                  <a:lnTo>
                    <a:pt x="796" y="1344"/>
                  </a:lnTo>
                  <a:lnTo>
                    <a:pt x="802" y="1343"/>
                  </a:lnTo>
                  <a:lnTo>
                    <a:pt x="810" y="1401"/>
                  </a:lnTo>
                  <a:lnTo>
                    <a:pt x="1390" y="1311"/>
                  </a:lnTo>
                  <a:lnTo>
                    <a:pt x="1569" y="1408"/>
                  </a:lnTo>
                  <a:lnTo>
                    <a:pt x="1623" y="1342"/>
                  </a:lnTo>
                  <a:lnTo>
                    <a:pt x="1629" y="1344"/>
                  </a:lnTo>
                  <a:lnTo>
                    <a:pt x="1634" y="1345"/>
                  </a:lnTo>
                  <a:lnTo>
                    <a:pt x="1639" y="1348"/>
                  </a:lnTo>
                  <a:lnTo>
                    <a:pt x="1645" y="1349"/>
                  </a:lnTo>
                  <a:lnTo>
                    <a:pt x="1650" y="1351"/>
                  </a:lnTo>
                  <a:lnTo>
                    <a:pt x="1655" y="1353"/>
                  </a:lnTo>
                  <a:lnTo>
                    <a:pt x="1661" y="1355"/>
                  </a:lnTo>
                  <a:lnTo>
                    <a:pt x="1667" y="1357"/>
                  </a:lnTo>
                  <a:lnTo>
                    <a:pt x="1687" y="1361"/>
                  </a:lnTo>
                  <a:lnTo>
                    <a:pt x="1706" y="1365"/>
                  </a:lnTo>
                  <a:lnTo>
                    <a:pt x="1726" y="1367"/>
                  </a:lnTo>
                  <a:lnTo>
                    <a:pt x="1746" y="1367"/>
                  </a:lnTo>
                  <a:lnTo>
                    <a:pt x="1766" y="1367"/>
                  </a:lnTo>
                  <a:lnTo>
                    <a:pt x="1786" y="1365"/>
                  </a:lnTo>
                  <a:lnTo>
                    <a:pt x="1804" y="1363"/>
                  </a:lnTo>
                  <a:lnTo>
                    <a:pt x="1822" y="1359"/>
                  </a:lnTo>
                  <a:lnTo>
                    <a:pt x="1839" y="1356"/>
                  </a:lnTo>
                  <a:lnTo>
                    <a:pt x="1855" y="1352"/>
                  </a:lnTo>
                  <a:lnTo>
                    <a:pt x="1869" y="1348"/>
                  </a:lnTo>
                  <a:lnTo>
                    <a:pt x="1881" y="1344"/>
                  </a:lnTo>
                  <a:lnTo>
                    <a:pt x="1892" y="1341"/>
                  </a:lnTo>
                  <a:lnTo>
                    <a:pt x="1901" y="1337"/>
                  </a:lnTo>
                  <a:lnTo>
                    <a:pt x="1907" y="1335"/>
                  </a:lnTo>
                  <a:lnTo>
                    <a:pt x="1911" y="1334"/>
                  </a:lnTo>
                  <a:lnTo>
                    <a:pt x="1918" y="1340"/>
                  </a:lnTo>
                  <a:lnTo>
                    <a:pt x="1925" y="1345"/>
                  </a:lnTo>
                  <a:lnTo>
                    <a:pt x="1932" y="1353"/>
                  </a:lnTo>
                  <a:lnTo>
                    <a:pt x="1939" y="1361"/>
                  </a:lnTo>
                  <a:lnTo>
                    <a:pt x="1945" y="1371"/>
                  </a:lnTo>
                  <a:lnTo>
                    <a:pt x="1950" y="1381"/>
                  </a:lnTo>
                  <a:lnTo>
                    <a:pt x="1954" y="1393"/>
                  </a:lnTo>
                  <a:lnTo>
                    <a:pt x="1955" y="1404"/>
                  </a:lnTo>
                  <a:lnTo>
                    <a:pt x="1954" y="1437"/>
                  </a:lnTo>
                  <a:lnTo>
                    <a:pt x="1953" y="1465"/>
                  </a:lnTo>
                  <a:lnTo>
                    <a:pt x="1958" y="1486"/>
                  </a:lnTo>
                  <a:lnTo>
                    <a:pt x="1975" y="1496"/>
                  </a:lnTo>
                  <a:lnTo>
                    <a:pt x="1987" y="1494"/>
                  </a:lnTo>
                  <a:lnTo>
                    <a:pt x="2001" y="1486"/>
                  </a:lnTo>
                  <a:lnTo>
                    <a:pt x="2014" y="1471"/>
                  </a:lnTo>
                  <a:lnTo>
                    <a:pt x="2024" y="1452"/>
                  </a:lnTo>
                  <a:lnTo>
                    <a:pt x="2031" y="1431"/>
                  </a:lnTo>
                  <a:lnTo>
                    <a:pt x="2033" y="1408"/>
                  </a:lnTo>
                  <a:lnTo>
                    <a:pt x="2029" y="1383"/>
                  </a:lnTo>
                  <a:lnTo>
                    <a:pt x="2017" y="1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50360" y="1771560"/>
              <a:ext cx="950760" cy="708120"/>
            </a:xfrm>
            <a:custGeom>
              <a:avLst/>
              <a:gdLst/>
              <a:ahLst/>
              <a:rect l="l" t="t" r="r" b="b"/>
              <a:pathLst>
                <a:path w="925" h="683">
                  <a:moveTo>
                    <a:pt x="0" y="362"/>
                  </a:moveTo>
                  <a:lnTo>
                    <a:pt x="10" y="372"/>
                  </a:lnTo>
                  <a:lnTo>
                    <a:pt x="19" y="382"/>
                  </a:lnTo>
                  <a:lnTo>
                    <a:pt x="28" y="391"/>
                  </a:lnTo>
                  <a:lnTo>
                    <a:pt x="38" y="399"/>
                  </a:lnTo>
                  <a:lnTo>
                    <a:pt x="50" y="408"/>
                  </a:lnTo>
                  <a:lnTo>
                    <a:pt x="60" y="415"/>
                  </a:lnTo>
                  <a:lnTo>
                    <a:pt x="72" y="423"/>
                  </a:lnTo>
                  <a:lnTo>
                    <a:pt x="85" y="429"/>
                  </a:lnTo>
                  <a:lnTo>
                    <a:pt x="97" y="435"/>
                  </a:lnTo>
                  <a:lnTo>
                    <a:pt x="110" y="438"/>
                  </a:lnTo>
                  <a:lnTo>
                    <a:pt x="123" y="442"/>
                  </a:lnTo>
                  <a:lnTo>
                    <a:pt x="135" y="444"/>
                  </a:lnTo>
                  <a:lnTo>
                    <a:pt x="149" y="444"/>
                  </a:lnTo>
                  <a:lnTo>
                    <a:pt x="163" y="444"/>
                  </a:lnTo>
                  <a:lnTo>
                    <a:pt x="178" y="442"/>
                  </a:lnTo>
                  <a:lnTo>
                    <a:pt x="192" y="437"/>
                  </a:lnTo>
                  <a:lnTo>
                    <a:pt x="227" y="413"/>
                  </a:lnTo>
                  <a:lnTo>
                    <a:pt x="257" y="373"/>
                  </a:lnTo>
                  <a:lnTo>
                    <a:pt x="283" y="319"/>
                  </a:lnTo>
                  <a:lnTo>
                    <a:pt x="302" y="256"/>
                  </a:lnTo>
                  <a:lnTo>
                    <a:pt x="318" y="190"/>
                  </a:lnTo>
                  <a:lnTo>
                    <a:pt x="331" y="120"/>
                  </a:lnTo>
                  <a:lnTo>
                    <a:pt x="340" y="56"/>
                  </a:lnTo>
                  <a:lnTo>
                    <a:pt x="347" y="0"/>
                  </a:lnTo>
                  <a:lnTo>
                    <a:pt x="353" y="29"/>
                  </a:lnTo>
                  <a:lnTo>
                    <a:pt x="360" y="59"/>
                  </a:lnTo>
                  <a:lnTo>
                    <a:pt x="370" y="89"/>
                  </a:lnTo>
                  <a:lnTo>
                    <a:pt x="382" y="118"/>
                  </a:lnTo>
                  <a:lnTo>
                    <a:pt x="396" y="142"/>
                  </a:lnTo>
                  <a:lnTo>
                    <a:pt x="413" y="163"/>
                  </a:lnTo>
                  <a:lnTo>
                    <a:pt x="433" y="178"/>
                  </a:lnTo>
                  <a:lnTo>
                    <a:pt x="456" y="185"/>
                  </a:lnTo>
                  <a:lnTo>
                    <a:pt x="467" y="186"/>
                  </a:lnTo>
                  <a:lnTo>
                    <a:pt x="477" y="186"/>
                  </a:lnTo>
                  <a:lnTo>
                    <a:pt x="488" y="185"/>
                  </a:lnTo>
                  <a:lnTo>
                    <a:pt x="498" y="184"/>
                  </a:lnTo>
                  <a:lnTo>
                    <a:pt x="507" y="180"/>
                  </a:lnTo>
                  <a:lnTo>
                    <a:pt x="517" y="177"/>
                  </a:lnTo>
                  <a:lnTo>
                    <a:pt x="525" y="171"/>
                  </a:lnTo>
                  <a:lnTo>
                    <a:pt x="533" y="165"/>
                  </a:lnTo>
                  <a:lnTo>
                    <a:pt x="545" y="152"/>
                  </a:lnTo>
                  <a:lnTo>
                    <a:pt x="555" y="135"/>
                  </a:lnTo>
                  <a:lnTo>
                    <a:pt x="562" y="120"/>
                  </a:lnTo>
                  <a:lnTo>
                    <a:pt x="566" y="105"/>
                  </a:lnTo>
                  <a:lnTo>
                    <a:pt x="925" y="486"/>
                  </a:lnTo>
                  <a:lnTo>
                    <a:pt x="293" y="683"/>
                  </a:lnTo>
                  <a:lnTo>
                    <a:pt x="291" y="680"/>
                  </a:lnTo>
                  <a:lnTo>
                    <a:pt x="284" y="675"/>
                  </a:lnTo>
                  <a:lnTo>
                    <a:pt x="272" y="665"/>
                  </a:lnTo>
                  <a:lnTo>
                    <a:pt x="259" y="653"/>
                  </a:lnTo>
                  <a:lnTo>
                    <a:pt x="241" y="638"/>
                  </a:lnTo>
                  <a:lnTo>
                    <a:pt x="223" y="620"/>
                  </a:lnTo>
                  <a:lnTo>
                    <a:pt x="202" y="602"/>
                  </a:lnTo>
                  <a:lnTo>
                    <a:pt x="180" y="582"/>
                  </a:lnTo>
                  <a:lnTo>
                    <a:pt x="158" y="563"/>
                  </a:lnTo>
                  <a:lnTo>
                    <a:pt x="136" y="542"/>
                  </a:lnTo>
                  <a:lnTo>
                    <a:pt x="116" y="523"/>
                  </a:lnTo>
                  <a:lnTo>
                    <a:pt x="95" y="504"/>
                  </a:lnTo>
                  <a:lnTo>
                    <a:pt x="78" y="487"/>
                  </a:lnTo>
                  <a:lnTo>
                    <a:pt x="61" y="472"/>
                  </a:lnTo>
                  <a:lnTo>
                    <a:pt x="50" y="459"/>
                  </a:lnTo>
                  <a:lnTo>
                    <a:pt x="41" y="450"/>
                  </a:lnTo>
                  <a:lnTo>
                    <a:pt x="42" y="449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77920" y="1495440"/>
              <a:ext cx="743040" cy="471240"/>
            </a:xfrm>
            <a:custGeom>
              <a:avLst/>
              <a:gdLst/>
              <a:ahLst/>
              <a:rect l="l" t="t" r="r" b="b"/>
              <a:pathLst>
                <a:path w="723" h="454">
                  <a:moveTo>
                    <a:pt x="437" y="11"/>
                  </a:moveTo>
                  <a:lnTo>
                    <a:pt x="460" y="23"/>
                  </a:lnTo>
                  <a:lnTo>
                    <a:pt x="483" y="38"/>
                  </a:lnTo>
                  <a:lnTo>
                    <a:pt x="505" y="57"/>
                  </a:lnTo>
                  <a:lnTo>
                    <a:pt x="526" y="76"/>
                  </a:lnTo>
                  <a:lnTo>
                    <a:pt x="544" y="98"/>
                  </a:lnTo>
                  <a:lnTo>
                    <a:pt x="562" y="121"/>
                  </a:lnTo>
                  <a:lnTo>
                    <a:pt x="580" y="146"/>
                  </a:lnTo>
                  <a:lnTo>
                    <a:pt x="596" y="169"/>
                  </a:lnTo>
                  <a:lnTo>
                    <a:pt x="611" y="192"/>
                  </a:lnTo>
                  <a:lnTo>
                    <a:pt x="623" y="214"/>
                  </a:lnTo>
                  <a:lnTo>
                    <a:pt x="635" y="234"/>
                  </a:lnTo>
                  <a:lnTo>
                    <a:pt x="644" y="253"/>
                  </a:lnTo>
                  <a:lnTo>
                    <a:pt x="652" y="268"/>
                  </a:lnTo>
                  <a:lnTo>
                    <a:pt x="658" y="279"/>
                  </a:lnTo>
                  <a:lnTo>
                    <a:pt x="663" y="288"/>
                  </a:lnTo>
                  <a:lnTo>
                    <a:pt x="665" y="292"/>
                  </a:lnTo>
                  <a:lnTo>
                    <a:pt x="668" y="303"/>
                  </a:lnTo>
                  <a:lnTo>
                    <a:pt x="665" y="317"/>
                  </a:lnTo>
                  <a:lnTo>
                    <a:pt x="658" y="328"/>
                  </a:lnTo>
                  <a:lnTo>
                    <a:pt x="655" y="333"/>
                  </a:lnTo>
                  <a:lnTo>
                    <a:pt x="645" y="345"/>
                  </a:lnTo>
                  <a:lnTo>
                    <a:pt x="647" y="346"/>
                  </a:lnTo>
                  <a:lnTo>
                    <a:pt x="651" y="349"/>
                  </a:lnTo>
                  <a:lnTo>
                    <a:pt x="655" y="353"/>
                  </a:lnTo>
                  <a:lnTo>
                    <a:pt x="656" y="354"/>
                  </a:lnTo>
                  <a:lnTo>
                    <a:pt x="665" y="362"/>
                  </a:lnTo>
                  <a:lnTo>
                    <a:pt x="675" y="371"/>
                  </a:lnTo>
                  <a:lnTo>
                    <a:pt x="685" y="379"/>
                  </a:lnTo>
                  <a:lnTo>
                    <a:pt x="694" y="389"/>
                  </a:lnTo>
                  <a:lnTo>
                    <a:pt x="702" y="397"/>
                  </a:lnTo>
                  <a:lnTo>
                    <a:pt x="710" y="405"/>
                  </a:lnTo>
                  <a:lnTo>
                    <a:pt x="717" y="412"/>
                  </a:lnTo>
                  <a:lnTo>
                    <a:pt x="723" y="419"/>
                  </a:lnTo>
                  <a:lnTo>
                    <a:pt x="717" y="417"/>
                  </a:lnTo>
                  <a:lnTo>
                    <a:pt x="710" y="416"/>
                  </a:lnTo>
                  <a:lnTo>
                    <a:pt x="703" y="414"/>
                  </a:lnTo>
                  <a:lnTo>
                    <a:pt x="695" y="412"/>
                  </a:lnTo>
                  <a:lnTo>
                    <a:pt x="687" y="409"/>
                  </a:lnTo>
                  <a:lnTo>
                    <a:pt x="679" y="407"/>
                  </a:lnTo>
                  <a:lnTo>
                    <a:pt x="670" y="404"/>
                  </a:lnTo>
                  <a:lnTo>
                    <a:pt x="662" y="400"/>
                  </a:lnTo>
                  <a:lnTo>
                    <a:pt x="648" y="427"/>
                  </a:lnTo>
                  <a:lnTo>
                    <a:pt x="657" y="434"/>
                  </a:lnTo>
                  <a:lnTo>
                    <a:pt x="666" y="440"/>
                  </a:lnTo>
                  <a:lnTo>
                    <a:pt x="673" y="449"/>
                  </a:lnTo>
                  <a:lnTo>
                    <a:pt x="678" y="454"/>
                  </a:lnTo>
                  <a:lnTo>
                    <a:pt x="666" y="454"/>
                  </a:lnTo>
                  <a:lnTo>
                    <a:pt x="651" y="450"/>
                  </a:lnTo>
                  <a:lnTo>
                    <a:pt x="633" y="443"/>
                  </a:lnTo>
                  <a:lnTo>
                    <a:pt x="613" y="435"/>
                  </a:lnTo>
                  <a:lnTo>
                    <a:pt x="594" y="423"/>
                  </a:lnTo>
                  <a:lnTo>
                    <a:pt x="575" y="411"/>
                  </a:lnTo>
                  <a:lnTo>
                    <a:pt x="559" y="398"/>
                  </a:lnTo>
                  <a:lnTo>
                    <a:pt x="546" y="384"/>
                  </a:lnTo>
                  <a:lnTo>
                    <a:pt x="544" y="378"/>
                  </a:lnTo>
                  <a:lnTo>
                    <a:pt x="545" y="370"/>
                  </a:lnTo>
                  <a:lnTo>
                    <a:pt x="547" y="359"/>
                  </a:lnTo>
                  <a:lnTo>
                    <a:pt x="553" y="344"/>
                  </a:lnTo>
                  <a:lnTo>
                    <a:pt x="561" y="328"/>
                  </a:lnTo>
                  <a:lnTo>
                    <a:pt x="573" y="308"/>
                  </a:lnTo>
                  <a:lnTo>
                    <a:pt x="588" y="287"/>
                  </a:lnTo>
                  <a:lnTo>
                    <a:pt x="605" y="263"/>
                  </a:lnTo>
                  <a:lnTo>
                    <a:pt x="612" y="255"/>
                  </a:lnTo>
                  <a:lnTo>
                    <a:pt x="605" y="246"/>
                  </a:lnTo>
                  <a:lnTo>
                    <a:pt x="588" y="220"/>
                  </a:lnTo>
                  <a:lnTo>
                    <a:pt x="568" y="196"/>
                  </a:lnTo>
                  <a:lnTo>
                    <a:pt x="547" y="172"/>
                  </a:lnTo>
                  <a:lnTo>
                    <a:pt x="526" y="150"/>
                  </a:lnTo>
                  <a:lnTo>
                    <a:pt x="503" y="131"/>
                  </a:lnTo>
                  <a:lnTo>
                    <a:pt x="479" y="117"/>
                  </a:lnTo>
                  <a:lnTo>
                    <a:pt x="455" y="108"/>
                  </a:lnTo>
                  <a:lnTo>
                    <a:pt x="432" y="104"/>
                  </a:lnTo>
                  <a:lnTo>
                    <a:pt x="415" y="106"/>
                  </a:lnTo>
                  <a:lnTo>
                    <a:pt x="398" y="113"/>
                  </a:lnTo>
                  <a:lnTo>
                    <a:pt x="378" y="124"/>
                  </a:lnTo>
                  <a:lnTo>
                    <a:pt x="358" y="136"/>
                  </a:lnTo>
                  <a:lnTo>
                    <a:pt x="339" y="152"/>
                  </a:lnTo>
                  <a:lnTo>
                    <a:pt x="318" y="170"/>
                  </a:lnTo>
                  <a:lnTo>
                    <a:pt x="297" y="189"/>
                  </a:lnTo>
                  <a:lnTo>
                    <a:pt x="278" y="209"/>
                  </a:lnTo>
                  <a:lnTo>
                    <a:pt x="259" y="228"/>
                  </a:lnTo>
                  <a:lnTo>
                    <a:pt x="242" y="248"/>
                  </a:lnTo>
                  <a:lnTo>
                    <a:pt x="225" y="268"/>
                  </a:lnTo>
                  <a:lnTo>
                    <a:pt x="211" y="285"/>
                  </a:lnTo>
                  <a:lnTo>
                    <a:pt x="198" y="301"/>
                  </a:lnTo>
                  <a:lnTo>
                    <a:pt x="188" y="314"/>
                  </a:lnTo>
                  <a:lnTo>
                    <a:pt x="180" y="324"/>
                  </a:lnTo>
                  <a:lnTo>
                    <a:pt x="175" y="330"/>
                  </a:lnTo>
                  <a:lnTo>
                    <a:pt x="167" y="340"/>
                  </a:lnTo>
                  <a:lnTo>
                    <a:pt x="172" y="345"/>
                  </a:lnTo>
                  <a:lnTo>
                    <a:pt x="170" y="358"/>
                  </a:lnTo>
                  <a:lnTo>
                    <a:pt x="165" y="375"/>
                  </a:lnTo>
                  <a:lnTo>
                    <a:pt x="157" y="393"/>
                  </a:lnTo>
                  <a:lnTo>
                    <a:pt x="143" y="409"/>
                  </a:lnTo>
                  <a:lnTo>
                    <a:pt x="138" y="413"/>
                  </a:lnTo>
                  <a:lnTo>
                    <a:pt x="133" y="416"/>
                  </a:lnTo>
                  <a:lnTo>
                    <a:pt x="127" y="420"/>
                  </a:lnTo>
                  <a:lnTo>
                    <a:pt x="121" y="421"/>
                  </a:lnTo>
                  <a:lnTo>
                    <a:pt x="114" y="422"/>
                  </a:lnTo>
                  <a:lnTo>
                    <a:pt x="107" y="423"/>
                  </a:lnTo>
                  <a:lnTo>
                    <a:pt x="99" y="423"/>
                  </a:lnTo>
                  <a:lnTo>
                    <a:pt x="91" y="422"/>
                  </a:lnTo>
                  <a:lnTo>
                    <a:pt x="69" y="412"/>
                  </a:lnTo>
                  <a:lnTo>
                    <a:pt x="50" y="391"/>
                  </a:lnTo>
                  <a:lnTo>
                    <a:pt x="35" y="360"/>
                  </a:lnTo>
                  <a:lnTo>
                    <a:pt x="23" y="323"/>
                  </a:lnTo>
                  <a:lnTo>
                    <a:pt x="14" y="285"/>
                  </a:lnTo>
                  <a:lnTo>
                    <a:pt x="7" y="246"/>
                  </a:lnTo>
                  <a:lnTo>
                    <a:pt x="2" y="210"/>
                  </a:lnTo>
                  <a:lnTo>
                    <a:pt x="0" y="180"/>
                  </a:lnTo>
                  <a:lnTo>
                    <a:pt x="15" y="169"/>
                  </a:lnTo>
                  <a:lnTo>
                    <a:pt x="34" y="156"/>
                  </a:lnTo>
                  <a:lnTo>
                    <a:pt x="55" y="140"/>
                  </a:lnTo>
                  <a:lnTo>
                    <a:pt x="80" y="124"/>
                  </a:lnTo>
                  <a:lnTo>
                    <a:pt x="107" y="106"/>
                  </a:lnTo>
                  <a:lnTo>
                    <a:pt x="136" y="89"/>
                  </a:lnTo>
                  <a:lnTo>
                    <a:pt x="166" y="72"/>
                  </a:lnTo>
                  <a:lnTo>
                    <a:pt x="198" y="56"/>
                  </a:lnTo>
                  <a:lnTo>
                    <a:pt x="229" y="40"/>
                  </a:lnTo>
                  <a:lnTo>
                    <a:pt x="262" y="27"/>
                  </a:lnTo>
                  <a:lnTo>
                    <a:pt x="294" y="15"/>
                  </a:lnTo>
                  <a:lnTo>
                    <a:pt x="326" y="7"/>
                  </a:lnTo>
                  <a:lnTo>
                    <a:pt x="356" y="2"/>
                  </a:lnTo>
                  <a:lnTo>
                    <a:pt x="385" y="0"/>
                  </a:lnTo>
                  <a:lnTo>
                    <a:pt x="413" y="3"/>
                  </a:lnTo>
                  <a:lnTo>
                    <a:pt x="4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067760" y="1228680"/>
              <a:ext cx="885960" cy="973080"/>
            </a:xfrm>
            <a:custGeom>
              <a:avLst/>
              <a:gdLst/>
              <a:ahLst/>
              <a:rect l="l" t="t" r="r" b="b"/>
              <a:pathLst>
                <a:path w="862" h="935">
                  <a:moveTo>
                    <a:pt x="326" y="510"/>
                  </a:moveTo>
                  <a:lnTo>
                    <a:pt x="317" y="511"/>
                  </a:lnTo>
                  <a:lnTo>
                    <a:pt x="315" y="511"/>
                  </a:lnTo>
                  <a:lnTo>
                    <a:pt x="308" y="512"/>
                  </a:lnTo>
                  <a:lnTo>
                    <a:pt x="298" y="515"/>
                  </a:lnTo>
                  <a:lnTo>
                    <a:pt x="283" y="516"/>
                  </a:lnTo>
                  <a:lnTo>
                    <a:pt x="266" y="518"/>
                  </a:lnTo>
                  <a:lnTo>
                    <a:pt x="247" y="519"/>
                  </a:lnTo>
                  <a:lnTo>
                    <a:pt x="225" y="522"/>
                  </a:lnTo>
                  <a:lnTo>
                    <a:pt x="202" y="523"/>
                  </a:lnTo>
                  <a:lnTo>
                    <a:pt x="178" y="524"/>
                  </a:lnTo>
                  <a:lnTo>
                    <a:pt x="154" y="525"/>
                  </a:lnTo>
                  <a:lnTo>
                    <a:pt x="128" y="525"/>
                  </a:lnTo>
                  <a:lnTo>
                    <a:pt x="103" y="524"/>
                  </a:lnTo>
                  <a:lnTo>
                    <a:pt x="78" y="523"/>
                  </a:lnTo>
                  <a:lnTo>
                    <a:pt x="53" y="521"/>
                  </a:lnTo>
                  <a:lnTo>
                    <a:pt x="31" y="516"/>
                  </a:lnTo>
                  <a:lnTo>
                    <a:pt x="11" y="511"/>
                  </a:lnTo>
                  <a:lnTo>
                    <a:pt x="8" y="510"/>
                  </a:lnTo>
                  <a:lnTo>
                    <a:pt x="4" y="506"/>
                  </a:lnTo>
                  <a:lnTo>
                    <a:pt x="1" y="497"/>
                  </a:lnTo>
                  <a:lnTo>
                    <a:pt x="0" y="485"/>
                  </a:lnTo>
                  <a:lnTo>
                    <a:pt x="5" y="459"/>
                  </a:lnTo>
                  <a:lnTo>
                    <a:pt x="15" y="429"/>
                  </a:lnTo>
                  <a:lnTo>
                    <a:pt x="29" y="396"/>
                  </a:lnTo>
                  <a:lnTo>
                    <a:pt x="49" y="360"/>
                  </a:lnTo>
                  <a:lnTo>
                    <a:pt x="72" y="322"/>
                  </a:lnTo>
                  <a:lnTo>
                    <a:pt x="97" y="283"/>
                  </a:lnTo>
                  <a:lnTo>
                    <a:pt x="127" y="244"/>
                  </a:lnTo>
                  <a:lnTo>
                    <a:pt x="158" y="205"/>
                  </a:lnTo>
                  <a:lnTo>
                    <a:pt x="190" y="167"/>
                  </a:lnTo>
                  <a:lnTo>
                    <a:pt x="225" y="131"/>
                  </a:lnTo>
                  <a:lnTo>
                    <a:pt x="260" y="98"/>
                  </a:lnTo>
                  <a:lnTo>
                    <a:pt x="295" y="69"/>
                  </a:lnTo>
                  <a:lnTo>
                    <a:pt x="330" y="42"/>
                  </a:lnTo>
                  <a:lnTo>
                    <a:pt x="363" y="23"/>
                  </a:lnTo>
                  <a:lnTo>
                    <a:pt x="396" y="8"/>
                  </a:lnTo>
                  <a:lnTo>
                    <a:pt x="427" y="0"/>
                  </a:lnTo>
                  <a:lnTo>
                    <a:pt x="460" y="0"/>
                  </a:lnTo>
                  <a:lnTo>
                    <a:pt x="496" y="9"/>
                  </a:lnTo>
                  <a:lnTo>
                    <a:pt x="530" y="26"/>
                  </a:lnTo>
                  <a:lnTo>
                    <a:pt x="566" y="52"/>
                  </a:lnTo>
                  <a:lnTo>
                    <a:pt x="602" y="82"/>
                  </a:lnTo>
                  <a:lnTo>
                    <a:pt x="636" y="116"/>
                  </a:lnTo>
                  <a:lnTo>
                    <a:pt x="670" y="154"/>
                  </a:lnTo>
                  <a:lnTo>
                    <a:pt x="702" y="194"/>
                  </a:lnTo>
                  <a:lnTo>
                    <a:pt x="733" y="236"/>
                  </a:lnTo>
                  <a:lnTo>
                    <a:pt x="761" y="276"/>
                  </a:lnTo>
                  <a:lnTo>
                    <a:pt x="786" y="315"/>
                  </a:lnTo>
                  <a:lnTo>
                    <a:pt x="809" y="351"/>
                  </a:lnTo>
                  <a:lnTo>
                    <a:pt x="829" y="383"/>
                  </a:lnTo>
                  <a:lnTo>
                    <a:pt x="844" y="410"/>
                  </a:lnTo>
                  <a:lnTo>
                    <a:pt x="855" y="429"/>
                  </a:lnTo>
                  <a:lnTo>
                    <a:pt x="862" y="442"/>
                  </a:lnTo>
                  <a:lnTo>
                    <a:pt x="858" y="499"/>
                  </a:lnTo>
                  <a:lnTo>
                    <a:pt x="850" y="568"/>
                  </a:lnTo>
                  <a:lnTo>
                    <a:pt x="839" y="644"/>
                  </a:lnTo>
                  <a:lnTo>
                    <a:pt x="824" y="721"/>
                  </a:lnTo>
                  <a:lnTo>
                    <a:pt x="805" y="795"/>
                  </a:lnTo>
                  <a:lnTo>
                    <a:pt x="780" y="857"/>
                  </a:lnTo>
                  <a:lnTo>
                    <a:pt x="753" y="904"/>
                  </a:lnTo>
                  <a:lnTo>
                    <a:pt x="719" y="929"/>
                  </a:lnTo>
                  <a:lnTo>
                    <a:pt x="699" y="934"/>
                  </a:lnTo>
                  <a:lnTo>
                    <a:pt x="678" y="935"/>
                  </a:lnTo>
                  <a:lnTo>
                    <a:pt x="657" y="931"/>
                  </a:lnTo>
                  <a:lnTo>
                    <a:pt x="638" y="924"/>
                  </a:lnTo>
                  <a:lnTo>
                    <a:pt x="619" y="913"/>
                  </a:lnTo>
                  <a:lnTo>
                    <a:pt x="601" y="901"/>
                  </a:lnTo>
                  <a:lnTo>
                    <a:pt x="585" y="886"/>
                  </a:lnTo>
                  <a:lnTo>
                    <a:pt x="568" y="871"/>
                  </a:lnTo>
                  <a:lnTo>
                    <a:pt x="555" y="855"/>
                  </a:lnTo>
                  <a:lnTo>
                    <a:pt x="542" y="840"/>
                  </a:lnTo>
                  <a:lnTo>
                    <a:pt x="530" y="825"/>
                  </a:lnTo>
                  <a:lnTo>
                    <a:pt x="521" y="811"/>
                  </a:lnTo>
                  <a:lnTo>
                    <a:pt x="514" y="799"/>
                  </a:lnTo>
                  <a:lnTo>
                    <a:pt x="508" y="790"/>
                  </a:lnTo>
                  <a:lnTo>
                    <a:pt x="505" y="784"/>
                  </a:lnTo>
                  <a:lnTo>
                    <a:pt x="504" y="782"/>
                  </a:lnTo>
                  <a:lnTo>
                    <a:pt x="326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36800" y="1852560"/>
              <a:ext cx="125280" cy="182520"/>
            </a:xfrm>
            <a:custGeom>
              <a:avLst/>
              <a:gdLst/>
              <a:ahLst/>
              <a:rect l="l" t="t" r="r" b="b"/>
              <a:pathLst>
                <a:path w="121" h="175">
                  <a:moveTo>
                    <a:pt x="3" y="124"/>
                  </a:moveTo>
                  <a:lnTo>
                    <a:pt x="0" y="115"/>
                  </a:lnTo>
                  <a:lnTo>
                    <a:pt x="0" y="109"/>
                  </a:lnTo>
                  <a:lnTo>
                    <a:pt x="4" y="105"/>
                  </a:lnTo>
                  <a:lnTo>
                    <a:pt x="13" y="100"/>
                  </a:lnTo>
                  <a:lnTo>
                    <a:pt x="20" y="98"/>
                  </a:lnTo>
                  <a:lnTo>
                    <a:pt x="27" y="93"/>
                  </a:lnTo>
                  <a:lnTo>
                    <a:pt x="34" y="89"/>
                  </a:lnTo>
                  <a:lnTo>
                    <a:pt x="41" y="83"/>
                  </a:lnTo>
                  <a:lnTo>
                    <a:pt x="50" y="69"/>
                  </a:lnTo>
                  <a:lnTo>
                    <a:pt x="50" y="54"/>
                  </a:lnTo>
                  <a:lnTo>
                    <a:pt x="46" y="41"/>
                  </a:lnTo>
                  <a:lnTo>
                    <a:pt x="39" y="30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4" y="3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60" y="2"/>
                  </a:lnTo>
                  <a:lnTo>
                    <a:pt x="71" y="6"/>
                  </a:lnTo>
                  <a:lnTo>
                    <a:pt x="84" y="10"/>
                  </a:lnTo>
                  <a:lnTo>
                    <a:pt x="96" y="17"/>
                  </a:lnTo>
                  <a:lnTo>
                    <a:pt x="109" y="24"/>
                  </a:lnTo>
                  <a:lnTo>
                    <a:pt x="121" y="31"/>
                  </a:lnTo>
                  <a:lnTo>
                    <a:pt x="117" y="33"/>
                  </a:lnTo>
                  <a:lnTo>
                    <a:pt x="114" y="37"/>
                  </a:lnTo>
                  <a:lnTo>
                    <a:pt x="110" y="39"/>
                  </a:lnTo>
                  <a:lnTo>
                    <a:pt x="107" y="43"/>
                  </a:lnTo>
                  <a:lnTo>
                    <a:pt x="99" y="51"/>
                  </a:lnTo>
                  <a:lnTo>
                    <a:pt x="90" y="59"/>
                  </a:lnTo>
                  <a:lnTo>
                    <a:pt x="83" y="68"/>
                  </a:lnTo>
                  <a:lnTo>
                    <a:pt x="76" y="77"/>
                  </a:lnTo>
                  <a:lnTo>
                    <a:pt x="71" y="86"/>
                  </a:lnTo>
                  <a:lnTo>
                    <a:pt x="68" y="97"/>
                  </a:lnTo>
                  <a:lnTo>
                    <a:pt x="65" y="106"/>
                  </a:lnTo>
                  <a:lnTo>
                    <a:pt x="66" y="115"/>
                  </a:lnTo>
                  <a:lnTo>
                    <a:pt x="70" y="123"/>
                  </a:lnTo>
                  <a:lnTo>
                    <a:pt x="76" y="129"/>
                  </a:lnTo>
                  <a:lnTo>
                    <a:pt x="83" y="135"/>
                  </a:lnTo>
                  <a:lnTo>
                    <a:pt x="92" y="137"/>
                  </a:lnTo>
                  <a:lnTo>
                    <a:pt x="96" y="138"/>
                  </a:lnTo>
                  <a:lnTo>
                    <a:pt x="102" y="139"/>
                  </a:lnTo>
                  <a:lnTo>
                    <a:pt x="107" y="141"/>
                  </a:lnTo>
                  <a:lnTo>
                    <a:pt x="111" y="141"/>
                  </a:lnTo>
                  <a:lnTo>
                    <a:pt x="106" y="147"/>
                  </a:lnTo>
                  <a:lnTo>
                    <a:pt x="100" y="153"/>
                  </a:lnTo>
                  <a:lnTo>
                    <a:pt x="94" y="159"/>
                  </a:lnTo>
                  <a:lnTo>
                    <a:pt x="88" y="165"/>
                  </a:lnTo>
                  <a:lnTo>
                    <a:pt x="84" y="168"/>
                  </a:lnTo>
                  <a:lnTo>
                    <a:pt x="79" y="172"/>
                  </a:lnTo>
                  <a:lnTo>
                    <a:pt x="76" y="174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0" y="173"/>
                  </a:lnTo>
                  <a:lnTo>
                    <a:pt x="50" y="169"/>
                  </a:lnTo>
                  <a:lnTo>
                    <a:pt x="40" y="165"/>
                  </a:lnTo>
                  <a:lnTo>
                    <a:pt x="30" y="158"/>
                  </a:lnTo>
                  <a:lnTo>
                    <a:pt x="19" y="149"/>
                  </a:lnTo>
                  <a:lnTo>
                    <a:pt x="10" y="137"/>
                  </a:lnTo>
                  <a:lnTo>
                    <a:pt x="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411200" y="1893960"/>
              <a:ext cx="549360" cy="380880"/>
            </a:xfrm>
            <a:custGeom>
              <a:avLst/>
              <a:gdLst/>
              <a:ahLst/>
              <a:rect l="l" t="t" r="r" b="b"/>
              <a:pathLst>
                <a:path w="535" h="366">
                  <a:moveTo>
                    <a:pt x="272" y="366"/>
                  </a:moveTo>
                  <a:lnTo>
                    <a:pt x="248" y="365"/>
                  </a:lnTo>
                  <a:lnTo>
                    <a:pt x="225" y="359"/>
                  </a:lnTo>
                  <a:lnTo>
                    <a:pt x="203" y="350"/>
                  </a:lnTo>
                  <a:lnTo>
                    <a:pt x="182" y="338"/>
                  </a:lnTo>
                  <a:lnTo>
                    <a:pt x="163" y="321"/>
                  </a:lnTo>
                  <a:lnTo>
                    <a:pt x="146" y="304"/>
                  </a:lnTo>
                  <a:lnTo>
                    <a:pt x="129" y="286"/>
                  </a:lnTo>
                  <a:lnTo>
                    <a:pt x="114" y="267"/>
                  </a:lnTo>
                  <a:lnTo>
                    <a:pt x="101" y="248"/>
                  </a:lnTo>
                  <a:lnTo>
                    <a:pt x="89" y="229"/>
                  </a:lnTo>
                  <a:lnTo>
                    <a:pt x="79" y="211"/>
                  </a:lnTo>
                  <a:lnTo>
                    <a:pt x="71" y="195"/>
                  </a:lnTo>
                  <a:lnTo>
                    <a:pt x="64" y="182"/>
                  </a:lnTo>
                  <a:lnTo>
                    <a:pt x="59" y="171"/>
                  </a:lnTo>
                  <a:lnTo>
                    <a:pt x="56" y="164"/>
                  </a:lnTo>
                  <a:lnTo>
                    <a:pt x="55" y="161"/>
                  </a:lnTo>
                  <a:lnTo>
                    <a:pt x="51" y="154"/>
                  </a:lnTo>
                  <a:lnTo>
                    <a:pt x="17" y="145"/>
                  </a:lnTo>
                  <a:lnTo>
                    <a:pt x="22" y="141"/>
                  </a:lnTo>
                  <a:lnTo>
                    <a:pt x="27" y="135"/>
                  </a:lnTo>
                  <a:lnTo>
                    <a:pt x="33" y="130"/>
                  </a:lnTo>
                  <a:lnTo>
                    <a:pt x="37" y="124"/>
                  </a:lnTo>
                  <a:lnTo>
                    <a:pt x="42" y="119"/>
                  </a:lnTo>
                  <a:lnTo>
                    <a:pt x="45" y="114"/>
                  </a:lnTo>
                  <a:lnTo>
                    <a:pt x="49" y="109"/>
                  </a:lnTo>
                  <a:lnTo>
                    <a:pt x="52" y="106"/>
                  </a:lnTo>
                  <a:lnTo>
                    <a:pt x="50" y="104"/>
                  </a:lnTo>
                  <a:lnTo>
                    <a:pt x="59" y="103"/>
                  </a:lnTo>
                  <a:lnTo>
                    <a:pt x="66" y="100"/>
                  </a:lnTo>
                  <a:lnTo>
                    <a:pt x="71" y="99"/>
                  </a:lnTo>
                  <a:lnTo>
                    <a:pt x="74" y="97"/>
                  </a:lnTo>
                  <a:lnTo>
                    <a:pt x="56" y="73"/>
                  </a:lnTo>
                  <a:lnTo>
                    <a:pt x="55" y="73"/>
                  </a:lnTo>
                  <a:lnTo>
                    <a:pt x="53" y="74"/>
                  </a:lnTo>
                  <a:lnTo>
                    <a:pt x="50" y="74"/>
                  </a:lnTo>
                  <a:lnTo>
                    <a:pt x="44" y="75"/>
                  </a:lnTo>
                  <a:lnTo>
                    <a:pt x="37" y="75"/>
                  </a:lnTo>
                  <a:lnTo>
                    <a:pt x="28" y="75"/>
                  </a:lnTo>
                  <a:lnTo>
                    <a:pt x="15" y="73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63"/>
                  </a:lnTo>
                  <a:lnTo>
                    <a:pt x="6" y="54"/>
                  </a:lnTo>
                  <a:lnTo>
                    <a:pt x="14" y="43"/>
                  </a:lnTo>
                  <a:lnTo>
                    <a:pt x="28" y="29"/>
                  </a:lnTo>
                  <a:lnTo>
                    <a:pt x="37" y="22"/>
                  </a:lnTo>
                  <a:lnTo>
                    <a:pt x="47" y="15"/>
                  </a:lnTo>
                  <a:lnTo>
                    <a:pt x="57" y="9"/>
                  </a:lnTo>
                  <a:lnTo>
                    <a:pt x="68" y="5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1" y="3"/>
                  </a:lnTo>
                  <a:lnTo>
                    <a:pt x="117" y="7"/>
                  </a:lnTo>
                  <a:lnTo>
                    <a:pt x="121" y="10"/>
                  </a:lnTo>
                  <a:lnTo>
                    <a:pt x="125" y="15"/>
                  </a:lnTo>
                  <a:lnTo>
                    <a:pt x="127" y="21"/>
                  </a:lnTo>
                  <a:lnTo>
                    <a:pt x="128" y="35"/>
                  </a:lnTo>
                  <a:lnTo>
                    <a:pt x="127" y="51"/>
                  </a:lnTo>
                  <a:lnTo>
                    <a:pt x="123" y="68"/>
                  </a:lnTo>
                  <a:lnTo>
                    <a:pt x="116" y="85"/>
                  </a:lnTo>
                  <a:lnTo>
                    <a:pt x="109" y="101"/>
                  </a:lnTo>
                  <a:lnTo>
                    <a:pt x="101" y="116"/>
                  </a:lnTo>
                  <a:lnTo>
                    <a:pt x="94" y="129"/>
                  </a:lnTo>
                  <a:lnTo>
                    <a:pt x="87" y="139"/>
                  </a:lnTo>
                  <a:lnTo>
                    <a:pt x="79" y="150"/>
                  </a:lnTo>
                  <a:lnTo>
                    <a:pt x="83" y="159"/>
                  </a:lnTo>
                  <a:lnTo>
                    <a:pt x="90" y="171"/>
                  </a:lnTo>
                  <a:lnTo>
                    <a:pt x="100" y="183"/>
                  </a:lnTo>
                  <a:lnTo>
                    <a:pt x="111" y="197"/>
                  </a:lnTo>
                  <a:lnTo>
                    <a:pt x="125" y="210"/>
                  </a:lnTo>
                  <a:lnTo>
                    <a:pt x="140" y="224"/>
                  </a:lnTo>
                  <a:lnTo>
                    <a:pt x="158" y="236"/>
                  </a:lnTo>
                  <a:lnTo>
                    <a:pt x="179" y="247"/>
                  </a:lnTo>
                  <a:lnTo>
                    <a:pt x="203" y="255"/>
                  </a:lnTo>
                  <a:lnTo>
                    <a:pt x="219" y="257"/>
                  </a:lnTo>
                  <a:lnTo>
                    <a:pt x="235" y="257"/>
                  </a:lnTo>
                  <a:lnTo>
                    <a:pt x="253" y="255"/>
                  </a:lnTo>
                  <a:lnTo>
                    <a:pt x="270" y="250"/>
                  </a:lnTo>
                  <a:lnTo>
                    <a:pt x="288" y="243"/>
                  </a:lnTo>
                  <a:lnTo>
                    <a:pt x="306" y="234"/>
                  </a:lnTo>
                  <a:lnTo>
                    <a:pt x="324" y="225"/>
                  </a:lnTo>
                  <a:lnTo>
                    <a:pt x="343" y="214"/>
                  </a:lnTo>
                  <a:lnTo>
                    <a:pt x="360" y="203"/>
                  </a:lnTo>
                  <a:lnTo>
                    <a:pt x="376" y="190"/>
                  </a:lnTo>
                  <a:lnTo>
                    <a:pt x="392" y="179"/>
                  </a:lnTo>
                  <a:lnTo>
                    <a:pt x="407" y="166"/>
                  </a:lnTo>
                  <a:lnTo>
                    <a:pt x="421" y="154"/>
                  </a:lnTo>
                  <a:lnTo>
                    <a:pt x="434" y="144"/>
                  </a:lnTo>
                  <a:lnTo>
                    <a:pt x="445" y="134"/>
                  </a:lnTo>
                  <a:lnTo>
                    <a:pt x="454" y="126"/>
                  </a:lnTo>
                  <a:lnTo>
                    <a:pt x="487" y="192"/>
                  </a:lnTo>
                  <a:lnTo>
                    <a:pt x="489" y="209"/>
                  </a:lnTo>
                  <a:lnTo>
                    <a:pt x="494" y="227"/>
                  </a:lnTo>
                  <a:lnTo>
                    <a:pt x="499" y="249"/>
                  </a:lnTo>
                  <a:lnTo>
                    <a:pt x="507" y="272"/>
                  </a:lnTo>
                  <a:lnTo>
                    <a:pt x="512" y="281"/>
                  </a:lnTo>
                  <a:lnTo>
                    <a:pt x="518" y="291"/>
                  </a:lnTo>
                  <a:lnTo>
                    <a:pt x="526" y="304"/>
                  </a:lnTo>
                  <a:lnTo>
                    <a:pt x="535" y="318"/>
                  </a:lnTo>
                  <a:lnTo>
                    <a:pt x="526" y="320"/>
                  </a:lnTo>
                  <a:lnTo>
                    <a:pt x="514" y="324"/>
                  </a:lnTo>
                  <a:lnTo>
                    <a:pt x="502" y="327"/>
                  </a:lnTo>
                  <a:lnTo>
                    <a:pt x="489" y="331"/>
                  </a:lnTo>
                  <a:lnTo>
                    <a:pt x="474" y="334"/>
                  </a:lnTo>
                  <a:lnTo>
                    <a:pt x="459" y="339"/>
                  </a:lnTo>
                  <a:lnTo>
                    <a:pt x="443" y="342"/>
                  </a:lnTo>
                  <a:lnTo>
                    <a:pt x="426" y="346"/>
                  </a:lnTo>
                  <a:lnTo>
                    <a:pt x="407" y="349"/>
                  </a:lnTo>
                  <a:lnTo>
                    <a:pt x="389" y="353"/>
                  </a:lnTo>
                  <a:lnTo>
                    <a:pt x="370" y="356"/>
                  </a:lnTo>
                  <a:lnTo>
                    <a:pt x="352" y="358"/>
                  </a:lnTo>
                  <a:lnTo>
                    <a:pt x="332" y="362"/>
                  </a:lnTo>
                  <a:lnTo>
                    <a:pt x="312" y="364"/>
                  </a:lnTo>
                  <a:lnTo>
                    <a:pt x="292" y="365"/>
                  </a:lnTo>
                  <a:lnTo>
                    <a:pt x="272" y="3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1270080" y="2452680"/>
              <a:ext cx="347760" cy="237960"/>
            </a:xfrm>
            <a:custGeom>
              <a:avLst/>
              <a:gdLst/>
              <a:ahLst/>
              <a:rect l="l" t="t" r="r" b="b"/>
              <a:pathLst>
                <a:path w="337" h="229">
                  <a:moveTo>
                    <a:pt x="286" y="121"/>
                  </a:moveTo>
                  <a:lnTo>
                    <a:pt x="267" y="128"/>
                  </a:lnTo>
                  <a:lnTo>
                    <a:pt x="246" y="135"/>
                  </a:lnTo>
                  <a:lnTo>
                    <a:pt x="227" y="142"/>
                  </a:lnTo>
                  <a:lnTo>
                    <a:pt x="206" y="150"/>
                  </a:lnTo>
                  <a:lnTo>
                    <a:pt x="185" y="158"/>
                  </a:lnTo>
                  <a:lnTo>
                    <a:pt x="165" y="166"/>
                  </a:lnTo>
                  <a:lnTo>
                    <a:pt x="146" y="173"/>
                  </a:lnTo>
                  <a:lnTo>
                    <a:pt x="126" y="181"/>
                  </a:lnTo>
                  <a:lnTo>
                    <a:pt x="108" y="189"/>
                  </a:lnTo>
                  <a:lnTo>
                    <a:pt x="91" y="196"/>
                  </a:lnTo>
                  <a:lnTo>
                    <a:pt x="74" y="203"/>
                  </a:lnTo>
                  <a:lnTo>
                    <a:pt x="59" y="210"/>
                  </a:lnTo>
                  <a:lnTo>
                    <a:pt x="47" y="215"/>
                  </a:lnTo>
                  <a:lnTo>
                    <a:pt x="35" y="221"/>
                  </a:lnTo>
                  <a:lnTo>
                    <a:pt x="25" y="226"/>
                  </a:lnTo>
                  <a:lnTo>
                    <a:pt x="17" y="229"/>
                  </a:lnTo>
                  <a:lnTo>
                    <a:pt x="0" y="207"/>
                  </a:lnTo>
                  <a:lnTo>
                    <a:pt x="6" y="203"/>
                  </a:lnTo>
                  <a:lnTo>
                    <a:pt x="13" y="197"/>
                  </a:lnTo>
                  <a:lnTo>
                    <a:pt x="23" y="190"/>
                  </a:lnTo>
                  <a:lnTo>
                    <a:pt x="32" y="182"/>
                  </a:lnTo>
                  <a:lnTo>
                    <a:pt x="43" y="175"/>
                  </a:lnTo>
                  <a:lnTo>
                    <a:pt x="55" y="166"/>
                  </a:lnTo>
                  <a:lnTo>
                    <a:pt x="66" y="158"/>
                  </a:lnTo>
                  <a:lnTo>
                    <a:pt x="79" y="149"/>
                  </a:lnTo>
                  <a:lnTo>
                    <a:pt x="93" y="139"/>
                  </a:lnTo>
                  <a:lnTo>
                    <a:pt x="106" y="129"/>
                  </a:lnTo>
                  <a:lnTo>
                    <a:pt x="119" y="120"/>
                  </a:lnTo>
                  <a:lnTo>
                    <a:pt x="133" y="111"/>
                  </a:lnTo>
                  <a:lnTo>
                    <a:pt x="147" y="101"/>
                  </a:lnTo>
                  <a:lnTo>
                    <a:pt x="161" y="92"/>
                  </a:lnTo>
                  <a:lnTo>
                    <a:pt x="175" y="84"/>
                  </a:lnTo>
                  <a:lnTo>
                    <a:pt x="187" y="76"/>
                  </a:lnTo>
                  <a:lnTo>
                    <a:pt x="204" y="67"/>
                  </a:lnTo>
                  <a:lnTo>
                    <a:pt x="221" y="56"/>
                  </a:lnTo>
                  <a:lnTo>
                    <a:pt x="238" y="46"/>
                  </a:lnTo>
                  <a:lnTo>
                    <a:pt x="257" y="37"/>
                  </a:lnTo>
                  <a:lnTo>
                    <a:pt x="274" y="27"/>
                  </a:lnTo>
                  <a:lnTo>
                    <a:pt x="291" y="17"/>
                  </a:lnTo>
                  <a:lnTo>
                    <a:pt x="308" y="8"/>
                  </a:lnTo>
                  <a:lnTo>
                    <a:pt x="324" y="0"/>
                  </a:lnTo>
                  <a:lnTo>
                    <a:pt x="337" y="105"/>
                  </a:lnTo>
                  <a:lnTo>
                    <a:pt x="331" y="107"/>
                  </a:lnTo>
                  <a:lnTo>
                    <a:pt x="324" y="109"/>
                  </a:lnTo>
                  <a:lnTo>
                    <a:pt x="319" y="111"/>
                  </a:lnTo>
                  <a:lnTo>
                    <a:pt x="312" y="113"/>
                  </a:lnTo>
                  <a:lnTo>
                    <a:pt x="306" y="115"/>
                  </a:lnTo>
                  <a:lnTo>
                    <a:pt x="299" y="116"/>
                  </a:lnTo>
                  <a:lnTo>
                    <a:pt x="293" y="119"/>
                  </a:lnTo>
                  <a:lnTo>
                    <a:pt x="286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51560" y="2503440"/>
              <a:ext cx="249480" cy="85680"/>
            </a:xfrm>
            <a:custGeom>
              <a:avLst/>
              <a:gdLst/>
              <a:ahLst/>
              <a:rect l="l" t="t" r="r" b="b"/>
              <a:pathLst>
                <a:path w="243" h="80">
                  <a:moveTo>
                    <a:pt x="33" y="71"/>
                  </a:moveTo>
                  <a:lnTo>
                    <a:pt x="25" y="69"/>
                  </a:lnTo>
                  <a:lnTo>
                    <a:pt x="16" y="65"/>
                  </a:lnTo>
                  <a:lnTo>
                    <a:pt x="8" y="63"/>
                  </a:lnTo>
                  <a:lnTo>
                    <a:pt x="0" y="59"/>
                  </a:lnTo>
                  <a:lnTo>
                    <a:pt x="48" y="0"/>
                  </a:lnTo>
                  <a:lnTo>
                    <a:pt x="56" y="4"/>
                  </a:lnTo>
                  <a:lnTo>
                    <a:pt x="64" y="8"/>
                  </a:lnTo>
                  <a:lnTo>
                    <a:pt x="72" y="11"/>
                  </a:lnTo>
                  <a:lnTo>
                    <a:pt x="80" y="15"/>
                  </a:lnTo>
                  <a:lnTo>
                    <a:pt x="87" y="17"/>
                  </a:lnTo>
                  <a:lnTo>
                    <a:pt x="95" y="19"/>
                  </a:lnTo>
                  <a:lnTo>
                    <a:pt x="103" y="21"/>
                  </a:lnTo>
                  <a:lnTo>
                    <a:pt x="110" y="24"/>
                  </a:lnTo>
                  <a:lnTo>
                    <a:pt x="133" y="28"/>
                  </a:lnTo>
                  <a:lnTo>
                    <a:pt x="155" y="31"/>
                  </a:lnTo>
                  <a:lnTo>
                    <a:pt x="174" y="33"/>
                  </a:lnTo>
                  <a:lnTo>
                    <a:pt x="191" y="34"/>
                  </a:lnTo>
                  <a:lnTo>
                    <a:pt x="205" y="35"/>
                  </a:lnTo>
                  <a:lnTo>
                    <a:pt x="218" y="35"/>
                  </a:lnTo>
                  <a:lnTo>
                    <a:pt x="228" y="35"/>
                  </a:lnTo>
                  <a:lnTo>
                    <a:pt x="236" y="35"/>
                  </a:lnTo>
                  <a:lnTo>
                    <a:pt x="243" y="54"/>
                  </a:lnTo>
                  <a:lnTo>
                    <a:pt x="236" y="56"/>
                  </a:lnTo>
                  <a:lnTo>
                    <a:pt x="227" y="59"/>
                  </a:lnTo>
                  <a:lnTo>
                    <a:pt x="216" y="62"/>
                  </a:lnTo>
                  <a:lnTo>
                    <a:pt x="206" y="65"/>
                  </a:lnTo>
                  <a:lnTo>
                    <a:pt x="194" y="69"/>
                  </a:lnTo>
                  <a:lnTo>
                    <a:pt x="181" y="71"/>
                  </a:lnTo>
                  <a:lnTo>
                    <a:pt x="168" y="73"/>
                  </a:lnTo>
                  <a:lnTo>
                    <a:pt x="154" y="76"/>
                  </a:lnTo>
                  <a:lnTo>
                    <a:pt x="139" y="78"/>
                  </a:lnTo>
                  <a:lnTo>
                    <a:pt x="124" y="79"/>
                  </a:lnTo>
                  <a:lnTo>
                    <a:pt x="109" y="80"/>
                  </a:lnTo>
                  <a:lnTo>
                    <a:pt x="93" y="80"/>
                  </a:lnTo>
                  <a:lnTo>
                    <a:pt x="78" y="79"/>
                  </a:lnTo>
                  <a:lnTo>
                    <a:pt x="63" y="78"/>
                  </a:lnTo>
                  <a:lnTo>
                    <a:pt x="48" y="74"/>
                  </a:lnTo>
                  <a:lnTo>
                    <a:pt x="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12800" y="1503360"/>
              <a:ext cx="60480" cy="8892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22" y="0"/>
                  </a:moveTo>
                  <a:lnTo>
                    <a:pt x="20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23" y="8"/>
                  </a:lnTo>
                  <a:lnTo>
                    <a:pt x="32" y="16"/>
                  </a:lnTo>
                  <a:lnTo>
                    <a:pt x="37" y="27"/>
                  </a:lnTo>
                  <a:lnTo>
                    <a:pt x="40" y="42"/>
                  </a:lnTo>
                  <a:lnTo>
                    <a:pt x="40" y="45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6" y="42"/>
                  </a:lnTo>
                  <a:lnTo>
                    <a:pt x="32" y="36"/>
                  </a:lnTo>
                  <a:lnTo>
                    <a:pt x="26" y="33"/>
                  </a:lnTo>
                  <a:lnTo>
                    <a:pt x="19" y="32"/>
                  </a:lnTo>
                  <a:lnTo>
                    <a:pt x="11" y="34"/>
                  </a:lnTo>
                  <a:lnTo>
                    <a:pt x="5" y="41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4" y="85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6" y="86"/>
                  </a:lnTo>
                  <a:lnTo>
                    <a:pt x="27" y="86"/>
                  </a:lnTo>
                  <a:lnTo>
                    <a:pt x="28" y="86"/>
                  </a:lnTo>
                  <a:lnTo>
                    <a:pt x="41" y="81"/>
                  </a:lnTo>
                  <a:lnTo>
                    <a:pt x="50" y="71"/>
                  </a:lnTo>
                  <a:lnTo>
                    <a:pt x="57" y="57"/>
                  </a:lnTo>
                  <a:lnTo>
                    <a:pt x="58" y="40"/>
                  </a:lnTo>
                  <a:lnTo>
                    <a:pt x="57" y="31"/>
                  </a:lnTo>
                  <a:lnTo>
                    <a:pt x="53" y="24"/>
                  </a:lnTo>
                  <a:lnTo>
                    <a:pt x="50" y="16"/>
                  </a:lnTo>
                  <a:lnTo>
                    <a:pt x="45" y="10"/>
                  </a:lnTo>
                  <a:lnTo>
                    <a:pt x="41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1436040" y="1496880"/>
              <a:ext cx="58680" cy="9216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58" y="41"/>
                  </a:moveTo>
                  <a:lnTo>
                    <a:pt x="57" y="32"/>
                  </a:lnTo>
                  <a:lnTo>
                    <a:pt x="54" y="24"/>
                  </a:lnTo>
                  <a:lnTo>
                    <a:pt x="51" y="17"/>
                  </a:lnTo>
                  <a:lnTo>
                    <a:pt x="46" y="11"/>
                  </a:lnTo>
                  <a:lnTo>
                    <a:pt x="42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23" y="8"/>
                  </a:lnTo>
                  <a:lnTo>
                    <a:pt x="31" y="17"/>
                  </a:lnTo>
                  <a:lnTo>
                    <a:pt x="37" y="29"/>
                  </a:lnTo>
                  <a:lnTo>
                    <a:pt x="39" y="42"/>
                  </a:lnTo>
                  <a:lnTo>
                    <a:pt x="39" y="45"/>
                  </a:lnTo>
                  <a:lnTo>
                    <a:pt x="39" y="47"/>
                  </a:lnTo>
                  <a:lnTo>
                    <a:pt x="39" y="48"/>
                  </a:lnTo>
                  <a:lnTo>
                    <a:pt x="39" y="51"/>
                  </a:lnTo>
                  <a:lnTo>
                    <a:pt x="36" y="44"/>
                  </a:lnTo>
                  <a:lnTo>
                    <a:pt x="31" y="38"/>
                  </a:lnTo>
                  <a:lnTo>
                    <a:pt x="26" y="34"/>
                  </a:lnTo>
                  <a:lnTo>
                    <a:pt x="19" y="33"/>
                  </a:lnTo>
                  <a:lnTo>
                    <a:pt x="11" y="36"/>
                  </a:lnTo>
                  <a:lnTo>
                    <a:pt x="5" y="42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28" y="87"/>
                  </a:lnTo>
                  <a:lnTo>
                    <a:pt x="29" y="87"/>
                  </a:lnTo>
                  <a:lnTo>
                    <a:pt x="42" y="83"/>
                  </a:lnTo>
                  <a:lnTo>
                    <a:pt x="51" y="72"/>
                  </a:lnTo>
                  <a:lnTo>
                    <a:pt x="57" y="59"/>
                  </a:lnTo>
                  <a:lnTo>
                    <a:pt x="5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292400" y="1878120"/>
              <a:ext cx="147600" cy="8712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90" y="84"/>
                  </a:moveTo>
                  <a:lnTo>
                    <a:pt x="108" y="81"/>
                  </a:lnTo>
                  <a:lnTo>
                    <a:pt x="120" y="71"/>
                  </a:lnTo>
                  <a:lnTo>
                    <a:pt x="129" y="58"/>
                  </a:lnTo>
                  <a:lnTo>
                    <a:pt x="136" y="43"/>
                  </a:lnTo>
                  <a:lnTo>
                    <a:pt x="141" y="27"/>
                  </a:lnTo>
                  <a:lnTo>
                    <a:pt x="143" y="14"/>
                  </a:lnTo>
                  <a:lnTo>
                    <a:pt x="144" y="3"/>
                  </a:lnTo>
                  <a:lnTo>
                    <a:pt x="144" y="0"/>
                  </a:lnTo>
                  <a:lnTo>
                    <a:pt x="143" y="2"/>
                  </a:lnTo>
                  <a:lnTo>
                    <a:pt x="139" y="7"/>
                  </a:lnTo>
                  <a:lnTo>
                    <a:pt x="132" y="14"/>
                  </a:lnTo>
                  <a:lnTo>
                    <a:pt x="123" y="22"/>
                  </a:lnTo>
                  <a:lnTo>
                    <a:pt x="111" y="30"/>
                  </a:lnTo>
                  <a:lnTo>
                    <a:pt x="98" y="37"/>
                  </a:lnTo>
                  <a:lnTo>
                    <a:pt x="83" y="43"/>
                  </a:lnTo>
                  <a:lnTo>
                    <a:pt x="67" y="46"/>
                  </a:lnTo>
                  <a:lnTo>
                    <a:pt x="51" y="46"/>
                  </a:lnTo>
                  <a:lnTo>
                    <a:pt x="37" y="45"/>
                  </a:lnTo>
                  <a:lnTo>
                    <a:pt x="27" y="43"/>
                  </a:lnTo>
                  <a:lnTo>
                    <a:pt x="17" y="40"/>
                  </a:lnTo>
                  <a:lnTo>
                    <a:pt x="10" y="37"/>
                  </a:lnTo>
                  <a:lnTo>
                    <a:pt x="5" y="33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7" y="39"/>
                  </a:lnTo>
                  <a:lnTo>
                    <a:pt x="15" y="47"/>
                  </a:lnTo>
                  <a:lnTo>
                    <a:pt x="27" y="58"/>
                  </a:lnTo>
                  <a:lnTo>
                    <a:pt x="40" y="67"/>
                  </a:lnTo>
                  <a:lnTo>
                    <a:pt x="55" y="75"/>
                  </a:lnTo>
                  <a:lnTo>
                    <a:pt x="72" y="82"/>
                  </a:lnTo>
                  <a:lnTo>
                    <a:pt x="9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0" y="2816280"/>
            <a:ext cx="9144000" cy="28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20000"/>
              </a:lnSpc>
              <a:spcBef>
                <a:spcPts val="1125"/>
              </a:spcBef>
              <a:buClr>
                <a:srgbClr val="f29b0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20000"/>
              </a:lnSpc>
              <a:spcBef>
                <a:spcPts val="1125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Impact"/>
              </a:rPr>
              <a:t>New York Marathon</a:t>
            </a:r>
            <a:endParaRPr b="1" lang="en-US" sz="58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64000" y="3270240"/>
            <a:ext cx="5108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e-race Part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Entertainment</a:t>
            </a: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Electrolytes will be here for marathon eve, injecting mental energy for al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ulie will again lead her famous pre-marathon “Pump-you-up” cha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Pre Marathon</a:t>
            </a:r>
            <a:br>
              <a:rPr sz="4400"/>
            </a:b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Carbo Loading Menu</a:t>
            </a: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rathon Ang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huge pile of angel hair with fat-free tomato sauce and sprinkled with tiny bite-sized meat bal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agel Bonanz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gels brushed with a mixture of olive oil, garlic, and delicate herb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Pat Graves</cp:lastModifiedBy>
  <cp:lastPrinted>1996-11-19T23:58:02Z</cp:lastPrinted>
  <dcterms:modified xsi:type="dcterms:W3CDTF">2004-03-08T06:12:30Z</dcterms:modified>
  <cp:revision>43</cp:revision>
  <dc:subject/>
  <dc:title>New York Marathon Pre-Race Party</dc:title>
</cp:coreProperties>
</file>