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2127-46E8-49A1-A1DF-6A10C2EBA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6172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69760" y="3930480"/>
            <a:ext cx="6172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A6FD-A38D-4523-B6D8-2B25BD5E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32360" y="196704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9760" y="393048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32360" y="393048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E8A9-E2B7-474E-9075-F52207771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1987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956680" y="1967040"/>
            <a:ext cx="1987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600" y="1967040"/>
            <a:ext cx="1987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69760" y="3930480"/>
            <a:ext cx="1987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956680" y="3930480"/>
            <a:ext cx="1987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043600" y="3930480"/>
            <a:ext cx="1987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6338-CBC6-4D92-9C81-2EDE10C66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AB12-B506-4FCA-8F71-415A48E3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69760" y="1967040"/>
            <a:ext cx="617220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29B9-2E14-4E92-B53C-55292E3E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6172200" cy="375912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5FE5-6E7A-4B33-A3A2-7C10D39D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3011760" cy="375912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032360" y="1967040"/>
            <a:ext cx="3011760" cy="375912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4E7E-ABF0-49AD-B542-77EB9433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FC80-06A5-45C4-B68A-7409C46F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7CBF-E2FD-44F1-AD42-EE9FFE1E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32360" y="1967040"/>
            <a:ext cx="3011760" cy="375912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69760" y="393048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ABBB-1FF5-4EEB-AD1C-5A6AF487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69760" y="1967040"/>
            <a:ext cx="617220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9E1F-28D6-4347-9B72-DCBC685B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3011760" cy="375912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32360" y="196704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032360" y="393048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DFBF-0B1C-4032-AEEA-AD388C32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32360" y="196704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69760" y="3930480"/>
            <a:ext cx="6172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6905-70AD-4A24-BED7-C8AA6A31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6172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69760" y="3930480"/>
            <a:ext cx="6172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690F-BEC8-4813-9681-6DA5BF3D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032360" y="196704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69760" y="393048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032360" y="393048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AF00-FA99-4352-98F4-524E9067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1987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56680" y="1967040"/>
            <a:ext cx="1987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43600" y="1967040"/>
            <a:ext cx="1987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69760" y="3930480"/>
            <a:ext cx="1987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2956680" y="3930480"/>
            <a:ext cx="1987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043600" y="3930480"/>
            <a:ext cx="1987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AE8B-E9CA-4D22-9F2F-F9D84CE96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6172200" cy="375912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0D75-9544-4081-BEC5-85301770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3011760" cy="375912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32360" y="1967040"/>
            <a:ext cx="3011760" cy="375912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E427-00A5-4DC8-AEB0-56444F2B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CB2B-52A6-421E-80CD-DA0453CD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6BF0-70C7-46C7-BF59-773363A0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32360" y="1967040"/>
            <a:ext cx="3011760" cy="375912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69760" y="393048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545B-9A5F-4C71-BD03-C21DEEC3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3011760" cy="375912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32360" y="196704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32360" y="393048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20F1-19CD-4C31-81D3-26A82053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032360" y="196704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69760" y="3930480"/>
            <a:ext cx="6172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A474-4E89-4B11-80B9-98375FED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645240"/>
            <a:ext cx="8078760" cy="225360"/>
          </a:xfrm>
          <a:prstGeom prst="rect">
            <a:avLst/>
          </a:prstGeom>
          <a:gradFill rotWithShape="0">
            <a:gsLst>
              <a:gs pos="0">
                <a:srgbClr val="cfc7b5"/>
              </a:gs>
              <a:gs pos="100000">
                <a:srgbClr val="8e7f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8078760" cy="200160"/>
          </a:xfrm>
          <a:prstGeom prst="rect">
            <a:avLst/>
          </a:prstGeom>
          <a:gradFill rotWithShape="0">
            <a:gsLst>
              <a:gs pos="0">
                <a:srgbClr val="8e7f5e"/>
              </a:gs>
              <a:gs pos="100000">
                <a:srgbClr val="cfc7b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77240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b9b09c"/>
              </a:gs>
              <a:gs pos="100000">
                <a:srgbClr val="8e7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866000" y="1440"/>
            <a:ext cx="88920" cy="6858000"/>
          </a:xfrm>
          <a:prstGeom prst="rect">
            <a:avLst/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5400000">
            <a:off x="4323960" y="3316320"/>
            <a:ext cx="6858000" cy="225360"/>
          </a:xfrm>
          <a:custGeom>
            <a:avLst/>
            <a:gdLst>
              <a:gd name="textAreaLeft" fmla="*/ 662400 w 6858000"/>
              <a:gd name="textAreaRight" fmla="*/ 6195600 w 6858000"/>
              <a:gd name="textAreaTop" fmla="*/ 21600 h 225360"/>
              <a:gd name="textAreaBottom" fmla="*/ 203760 h 2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993" y="21600"/>
                </a:lnTo>
                <a:lnTo>
                  <a:pt x="607" y="21600"/>
                </a:lnTo>
                <a:close/>
              </a:path>
            </a:pathLst>
          </a:custGeom>
          <a:gradFill rotWithShape="0">
            <a:gsLst>
              <a:gs pos="0">
                <a:srgbClr val="8e7f5e"/>
              </a:gs>
              <a:gs pos="100000">
                <a:srgbClr val="cfc7b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69760" y="1967040"/>
            <a:ext cx="6172200" cy="375912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 fontScale="89000"/>
          </a:bodyPr>
          <a:p>
            <a:pPr marL="305280" indent="-3052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017000" indent="-2034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lvl="3" marL="1424160" indent="-203400">
              <a:spcBef>
                <a:spcPts val="700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lvl="4" marL="1830960" indent="-203400">
              <a:spcBef>
                <a:spcPts val="700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lvl="5" marL="1830960" indent="-203400">
              <a:spcBef>
                <a:spcPts val="700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lvl="6" marL="1830960" indent="-203400">
              <a:spcBef>
                <a:spcPts val="700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8702-9ACE-4273-8869-EAA1D9488429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77240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b9b09c"/>
              </a:gs>
              <a:gs pos="100000">
                <a:srgbClr val="8e7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629400"/>
            <a:ext cx="7772400" cy="241200"/>
          </a:xfrm>
          <a:prstGeom prst="rect">
            <a:avLst/>
          </a:prstGeom>
          <a:gradFill rotWithShape="0">
            <a:gsLst>
              <a:gs pos="0">
                <a:srgbClr val="cfc7b5"/>
              </a:gs>
              <a:gs pos="100000">
                <a:srgbClr val="8e7f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848720" cy="193680"/>
          </a:xfrm>
          <a:prstGeom prst="rect">
            <a:avLst/>
          </a:prstGeom>
          <a:gradFill rotWithShape="0">
            <a:gsLst>
              <a:gs pos="0">
                <a:srgbClr val="8e7f5e"/>
              </a:gs>
              <a:gs pos="100000">
                <a:srgbClr val="cfc7b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4323960" y="3316320"/>
            <a:ext cx="6858000" cy="225360"/>
          </a:xfrm>
          <a:custGeom>
            <a:avLst/>
            <a:gdLst>
              <a:gd name="textAreaLeft" fmla="*/ 662400 w 6858000"/>
              <a:gd name="textAreaRight" fmla="*/ 6195600 w 6858000"/>
              <a:gd name="textAreaTop" fmla="*/ 21600 h 225360"/>
              <a:gd name="textAreaBottom" fmla="*/ 203760 h 2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993" y="21600"/>
                </a:lnTo>
                <a:lnTo>
                  <a:pt x="607" y="21600"/>
                </a:lnTo>
                <a:close/>
              </a:path>
            </a:pathLst>
          </a:custGeom>
          <a:gradFill rotWithShape="0">
            <a:gsLst>
              <a:gs pos="0">
                <a:srgbClr val="8e7f5e"/>
              </a:gs>
              <a:gs pos="100000">
                <a:srgbClr val="cfc7b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58A5-4125-42F1-9D28-542DBE11B5B7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866000" y="1440"/>
            <a:ext cx="88920" cy="6858000"/>
          </a:xfrm>
          <a:prstGeom prst="rect">
            <a:avLst/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438360" y="4797360"/>
            <a:ext cx="2285640" cy="922320"/>
            <a:chOff x="3438360" y="4797360"/>
            <a:chExt cx="2285640" cy="922320"/>
          </a:xfrm>
        </p:grpSpPr>
        <p:sp>
          <p:nvSpPr>
            <p:cNvPr id="56" name=""/>
            <p:cNvSpPr txBox="1"/>
            <p:nvPr/>
          </p:nvSpPr>
          <p:spPr>
            <a:xfrm>
              <a:off x="5087160" y="5148360"/>
              <a:ext cx="63684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525200" y="4943880"/>
              <a:ext cx="824040" cy="775440"/>
              <a:chOff x="4525200" y="4943880"/>
              <a:chExt cx="824040" cy="775440"/>
            </a:xfrm>
          </p:grpSpPr>
          <p:sp>
            <p:nvSpPr>
              <p:cNvPr id="58" name=""/>
              <p:cNvSpPr/>
              <p:nvPr/>
            </p:nvSpPr>
            <p:spPr>
              <a:xfrm>
                <a:off x="4525200" y="4943880"/>
                <a:ext cx="824040" cy="7754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f1311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756680" y="5027400"/>
                <a:ext cx="381600" cy="4320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cfc7b5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f1311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 txBox="1"/>
            <p:nvPr/>
          </p:nvSpPr>
          <p:spPr>
            <a:xfrm>
              <a:off x="3438360" y="4797360"/>
              <a:ext cx="1536480" cy="54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53f35"/>
                </a:solidFill>
                <a:latin typeface="Arial"/>
              </a:rPr>
              <a:t>Attracting Investors</a:t>
            </a: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Strategic Planning Session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53f35"/>
                </a:solidFill>
                <a:latin typeface="Arial"/>
              </a:rPr>
              <a:t>Objectives</a:t>
            </a: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6172200" cy="375912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Market ourselves as an attractive franchise investment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Tell the story of our success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New York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Miami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Los Angeles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53f35"/>
                </a:solidFill>
                <a:latin typeface="Arial"/>
              </a:rPr>
              <a:t>Our Specialties</a:t>
            </a: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6172200" cy="375912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Low-fat menus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Non-alcoholic beverages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Vegetarian meals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Fresh-baked breads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53f35"/>
                </a:solidFill>
                <a:latin typeface="Arial"/>
              </a:rPr>
              <a:t>Key Benefits</a:t>
            </a: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6172200" cy="375912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Quick return of invested funds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Name recognition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Healthy” image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53f35"/>
                </a:solidFill>
                <a:latin typeface="Arial"/>
              </a:rPr>
              <a:t>Next Steps</a:t>
            </a: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6172200" cy="375912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Complete the business plan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Complete the marketing plan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Locate interested investors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Investigate other funding options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6:36Z</dcterms:created>
  <dc:creator>Marple</dc:creator>
  <dc:description/>
  <dc:language>en-US</dc:language>
  <cp:lastModifiedBy>Student Name</cp:lastModifiedBy>
  <cp:lastPrinted>1996-11-27T23:10:18Z</cp:lastPrinted>
  <dcterms:modified xsi:type="dcterms:W3CDTF">2004-04-05T05:26:27Z</dcterms:modified>
  <cp:revision>32</cp:revision>
  <dc:subject/>
  <dc:title>Attracting Investors</dc:title>
</cp:coreProperties>
</file>