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D11-FA68-443D-A352-FDE1875D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96F-FF3D-476D-AB2A-D178B3A5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C73-D4B8-4D18-88CB-EF65E14C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682-879A-4DC9-B2F5-D1C91FC2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671-4A22-487D-982C-A0C391F8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8269-087C-4CD3-AF19-F06EA03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5481-4D4B-4E88-A95B-D713D0C2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F9F5-175D-432A-B3B4-B7046CA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995-9FE1-4129-896C-2916EDF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386-827E-48C0-8DBB-D317A011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DB9-0206-41F4-9DA0-CF48CD3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895-0F52-470D-8668-D46D249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3EBF-D905-4E18-9EFD-0EE951C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D19-9456-4E3B-8501-554718D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7B2-7C4D-4519-B226-CC12B6B9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D75-5A0D-4255-9766-13E5372C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BF87-44A2-4F60-816F-FF4FC5F8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0EA-92C1-4A94-8ECF-647A602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FA1-4BD6-4EAD-B00D-F455F39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A0D-0350-4B39-8292-95780F6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5DE-E284-4395-830F-F399AB68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60C-A414-4116-9A76-2B569BC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DFE-CDF0-44E9-846F-878558B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365-FD72-4652-BA2A-4F77E29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63C-E3BA-4108-AD4F-6327C6F449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05C-9FD4-4CB5-A286-2BF6A8869D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Three Years and Growing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y F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the Athlete in Y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o We Ar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us Irvinelli, an avid tennis play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ulie Wolfe, a well-known marathon runn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ir dre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courage people to enjoy healthy ea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courage participation in sports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here We’re Going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ami in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ur first expan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ncial plans appro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s Angeles in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chitect plans comple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te plan applications in the wor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ve restaurants by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es, our accountant and banker say we can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ime to Expan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ur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venue growth of 30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ve locations by the year 200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f Michelle Jenkins is busy creating new culinary trea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keting Manager Roy Olafsen is researching new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4:45:54Z</dcterms:created>
  <dc:creator>Pat R. Graves</dc:creator>
  <dc:description/>
  <dc:language>en-US</dc:language>
  <cp:lastModifiedBy>Pat Graves</cp:lastModifiedBy>
  <dcterms:modified xsi:type="dcterms:W3CDTF">2004-03-10T17:34:33Z</dcterms:modified>
  <cp:revision>5</cp:revision>
  <dc:subject/>
  <dc:title>Three Years and Growing</dc:title>
</cp:coreProperties>
</file>