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99cc00"/>
                </a:solidFill>
                <a:latin typeface="Tahoma"/>
              </a:rPr>
              <a:t>Click to move the slide</a:t>
            </a:r>
            <a:endParaRPr b="1" lang="en-US" sz="63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806-3B5E-4E9B-85C9-1BFCAACF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66E-3BF6-446C-A5E8-47AA22ED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ED6-9EA1-468F-93CE-95D78B6E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282F-DEF5-44C4-A08B-E22E903B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elaborate on healthy eating. Mention Michelle’s new menu items and the new customer preferences study now under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D289-C186-4CA7-A5EF-38868542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FF7-CE1D-4C97-83C0-5A8781E2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419652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A1A-2725-4C76-AFAC-AE17EAC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115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0F5-E2D5-48EC-94A7-79DE1876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2180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464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0932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2180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464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352-4385-4725-AA0A-438FB58E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C18-BC22-4E6E-8DED-E4701948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32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6E5-6A3F-4C84-8535-8B31290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1C93-991D-4FCA-B172-F2880C0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3A1C-77FB-40DD-8D6F-5EBF6C22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75E7-B3F9-4231-A014-70B0D4D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6EF-2F4C-4802-AF36-1AB9272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6B86-2F1F-46ED-A1A7-C279C15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0932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1E0-075E-4B48-BAA1-88489360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115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0BC-A824-47E9-8890-CCD130B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CB3C-440B-4F62-BC29-8121FCA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09320" y="419652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2A82-A235-4C96-8A3C-4AA20CEF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115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E9C-7A44-41F2-8EC0-F479022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180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4640" y="228600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0932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2180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4640" y="4196520"/>
            <a:ext cx="201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0810-654B-4ABA-8941-04BFCFE3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221-7C10-4B72-9308-B72011EC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8FD-A321-40B9-8B85-2D691A4E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246-6BAB-4760-BBBB-1AC62A35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1F2-E7A9-48BA-B707-168D240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551-70C8-47EB-B073-4AA1FBBF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11520" y="419652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3C0-F28C-468C-9840-60119D2B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093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11520" y="2286000"/>
            <a:ext cx="3049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09320" y="4196520"/>
            <a:ext cx="6248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E3A-21C6-45C6-84CC-BF2261F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66"/>
              </a:gs>
              <a:gs pos="100000">
                <a:srgbClr val="99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228600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EBEB-8E97-4AD2-A1E6-19BB86A02D38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66"/>
              </a:gs>
              <a:gs pos="100000">
                <a:srgbClr val="99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99cc00"/>
                </a:solidFill>
                <a:latin typeface="Tahoma"/>
              </a:rPr>
              <a:t>Click to edit the title text format</a:t>
            </a:r>
            <a:endParaRPr b="1" lang="en-US" sz="63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737-F098-403E-815B-8DBEE5112B4F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73944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99cc00"/>
                </a:solidFill>
                <a:latin typeface="Tahoma"/>
              </a:rPr>
              <a:t>Performance Comparisons</a:t>
            </a:r>
            <a:endParaRPr b="1" lang="en-US" sz="5700" spc="-1" strike="noStrike">
              <a:solidFill>
                <a:srgbClr val="99cc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57800" y="5562720"/>
            <a:ext cx="1676160" cy="676080"/>
            <a:chOff x="5257800" y="5562720"/>
            <a:chExt cx="1676160" cy="676080"/>
          </a:xfrm>
        </p:grpSpPr>
        <p:sp>
          <p:nvSpPr>
            <p:cNvPr id="97" name=""/>
            <p:cNvSpPr txBox="1"/>
            <p:nvPr/>
          </p:nvSpPr>
          <p:spPr>
            <a:xfrm>
              <a:off x="6467040" y="5820120"/>
              <a:ext cx="46692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054840" y="5670000"/>
              <a:ext cx="604440" cy="568440"/>
              <a:chOff x="6054840" y="5670000"/>
              <a:chExt cx="604440" cy="56844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5670000"/>
                <a:ext cx="604440" cy="568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24400" y="5731200"/>
                <a:ext cx="279720" cy="3168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 txBox="1"/>
            <p:nvPr/>
          </p:nvSpPr>
          <p:spPr>
            <a:xfrm>
              <a:off x="5257800" y="5562720"/>
              <a:ext cx="1126800" cy="40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Sales by Region</a:t>
            </a:r>
            <a:br>
              <a:rPr sz="4400"/>
            </a:b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 2002 to 2004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397240"/>
          <a:ext cx="815364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97240"/>
                    <a:ext cx="81536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We’re Growing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1981080"/>
          <a:ext cx="7569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7569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Financial History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2590920"/>
          <a:ext cx="7619760" cy="3255840"/>
        </p:xfrm>
        <a:graphic>
          <a:graphicData uri="http://schemas.openxmlformats.org/drawingml/2006/table">
            <a:tbl>
              <a:tblPr/>
              <a:tblGrid>
                <a:gridCol w="2133360"/>
                <a:gridCol w="1828800"/>
                <a:gridCol w="1766880"/>
                <a:gridCol w="1890720"/>
              </a:tblGrid>
              <a:tr h="7617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thousands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Year 1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Year 2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Year 3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319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Revenue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,0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,2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,0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301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 Budget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25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319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rofit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2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5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,0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36576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Past Performance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743200"/>
          <a:ext cx="6438960" cy="36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64389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We’ve Come a Long Way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We know what our customers want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Innovative menu planning 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Steady revenue growth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Reservation Requests</a:t>
            </a:r>
            <a:br>
              <a:rPr sz="4400"/>
            </a:b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Average Daily Number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666880"/>
          <a:ext cx="8076960" cy="2351160"/>
        </p:xfrm>
        <a:graphic>
          <a:graphicData uri="http://schemas.openxmlformats.org/drawingml/2006/table">
            <a:tbl>
              <a:tblPr/>
              <a:tblGrid>
                <a:gridCol w="1981080"/>
                <a:gridCol w="1828800"/>
                <a:gridCol w="1447920"/>
                <a:gridCol w="1447560"/>
                <a:gridCol w="13716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reakfast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runch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unch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inner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eekdays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5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5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eekends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8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1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Holidays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6858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5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6858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94</a:t>
                      </a:r>
                      <a:endParaRPr b="0" lang="en-US" sz="2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Sales Forecast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711440"/>
          <a:ext cx="8610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11440"/>
                    <a:ext cx="8610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2002 Sales Categories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43040" y="1523880"/>
          <a:ext cx="660096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1523880"/>
                    <a:ext cx="66009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219320" y="62784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pparel includes revenue from trademark licensing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ahoma"/>
              </a:rPr>
              <a:t>2004 Special Events Revenue</a:t>
            </a:r>
            <a:endParaRPr b="1" lang="en-US" sz="4000" spc="-1" strike="noStrike">
              <a:solidFill>
                <a:srgbClr val="99cc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16120" y="1949400"/>
          <a:ext cx="84042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949400"/>
                    <a:ext cx="84042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6:51:58Z</dcterms:created>
  <dc:creator>Pat R. Graves</dc:creator>
  <dc:description/>
  <dc:language>en-US</dc:language>
  <cp:lastModifiedBy>Pat Graves</cp:lastModifiedBy>
  <dcterms:modified xsi:type="dcterms:W3CDTF">2004-03-10T21:36:50Z</dcterms:modified>
  <cp:revision>19</cp:revision>
  <dc:subject/>
  <dc:title>We're Growing</dc:title>
</cp:coreProperties>
</file>