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CE7-6C8E-4D57-839C-7CEB90A1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DD6-CEA9-4F48-B99B-FAD0B1B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705-BDA7-4B93-9414-8AABA9F2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8A82-ED9D-40E8-AAC5-79F43B25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FA1E-92E2-41A8-8D68-639F2FD7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84A4-0A7F-41F1-8CBB-376761A5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829B-FDFA-411D-AB2B-31F4ACC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961A-C963-41AB-B2A9-95806E3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9AF6-FEDF-4421-A955-8024C21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E9DD-22DB-46E9-8079-8DBF9032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2CAE-1F17-4A55-B6F8-9BC3188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5867-EEE9-48A3-837F-7232D8A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EC3A-F040-4AC2-849E-F522969F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472A-B3E0-4B3C-8889-8055A33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7C1-C92A-450F-BF20-F4DC356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E5DB-6C1D-4B6B-9094-3AE5231B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BF2-852E-41A5-8309-F35D97C0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72D-55D8-4EE0-990D-8F8D17C8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F66-1E6B-4A56-BEEB-88811EF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A92-CB53-4BA1-AD26-2766EC6D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351000"/>
            <a:ext cx="7361280" cy="65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72B-7291-479E-A7A0-6D244C2A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A86-669E-4646-8662-7C85CD3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40C4-83AF-4796-8788-ABBA517E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96D1-FD6E-44E4-854B-0BBD16AF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4a4a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64C5-9149-4CAF-8A39-B86596CC078F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836640"/>
            <a:ext cx="3479760" cy="34797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4a4a70"/>
              </a:gs>
              <a:gs pos="100000">
                <a:srgbClr val="8787a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1665360"/>
            <a:ext cx="4643280" cy="19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4a4a7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9A38-656D-4889-9BBC-A35A9432EEF7}" type="slidenum">
              <a:rPr b="0" lang="en-US" sz="2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1376280"/>
            <a:ext cx="225720" cy="246384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1457280"/>
            <a:ext cx="257040" cy="23320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6360" y="2000160"/>
            <a:ext cx="3004920" cy="1212480"/>
            <a:chOff x="576360" y="2000160"/>
            <a:chExt cx="3004920" cy="1212480"/>
          </a:xfrm>
        </p:grpSpPr>
        <p:sp>
          <p:nvSpPr>
            <p:cNvPr id="55" name=""/>
            <p:cNvSpPr txBox="1"/>
            <p:nvPr/>
          </p:nvSpPr>
          <p:spPr>
            <a:xfrm>
              <a:off x="2743920" y="2461680"/>
              <a:ext cx="837360" cy="75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04840" y="2192760"/>
              <a:ext cx="1083600" cy="1019880"/>
              <a:chOff x="2004840" y="2192760"/>
              <a:chExt cx="1083600" cy="1019880"/>
            </a:xfrm>
          </p:grpSpPr>
          <p:sp>
            <p:nvSpPr>
              <p:cNvPr id="57" name=""/>
              <p:cNvSpPr/>
              <p:nvPr/>
            </p:nvSpPr>
            <p:spPr>
              <a:xfrm>
                <a:off x="2004840" y="2192760"/>
                <a:ext cx="1083600" cy="1019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309040" y="2302560"/>
                <a:ext cx="501480" cy="568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 txBox="1"/>
            <p:nvPr/>
          </p:nvSpPr>
          <p:spPr>
            <a:xfrm>
              <a:off x="576360" y="2000160"/>
              <a:ext cx="2019600" cy="72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5782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New Additions to Our Menu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32360" y="1915920"/>
            <a:ext cx="5075280" cy="15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abulous 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032000" y="4076640"/>
            <a:ext cx="421164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 New Dining Experienc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ta Deligh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39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ettuccine à la Jul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savory dish with a light cream sauce, spinach, sun-dried tomatoes, a touch of garlic, and Julie’s secret herb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ichelle’s Primavera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licately flavored low-fat cream sauce with asparagus, squash, and baby carrots served on organic past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st Sweet Enoug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6360" y="1974960"/>
            <a:ext cx="7785360" cy="433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Carob Pecan Yogurt Cream Pie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is light and fluffy desert has an all-natural grahm cracker crust, great flavor, and very little sugar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Key Lime Soufflé</a:t>
            </a:r>
            <a:endParaRPr b="1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striking lime flavor is Michelle’s secret. Made from organic key limes, sweetened with white grape juice, and thickened with organic egg whites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351000"/>
            <a:ext cx="73612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ppetizer Speci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ango Suprem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Ripe mango slices served on a bed of lettuce and topped with raspberry vinaigrette dressing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almon Tidbit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iny open-face salmon sandwich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ruity Chicken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782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Grilled chicken strips with fresh orange and pineapple slices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03-25T13:44:30Z</cp:lastPrinted>
  <dcterms:modified xsi:type="dcterms:W3CDTF">2003-12-31T07:16:17Z</dcterms:modified>
  <cp:revision>29</cp:revision>
  <dc:subject/>
  <dc:title>Good 4 U  Fabulous Food</dc:title>
</cp:coreProperties>
</file>