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AA3-3E44-4570-8813-0E6AAD3A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BCBC-8986-47B8-9ED3-D3FD79B6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4CDB-12B3-4F7A-8D93-AD874ECE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BEA5-A383-4512-8480-E8965DEE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A59C-1699-4544-9547-97F23F15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6074-717C-4A0E-B02F-10B8E96F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08F7-0FEC-4E12-AD24-67101389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471D-90D9-4A08-B70E-EBFDF0E7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BC6A-7708-4CF8-8DE6-166165D2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D780-7E57-4512-B574-A9CF1953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6E2B-9A4F-4532-97A6-7605D96B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EA32-8CDA-4153-841B-E6D81A4E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18BF-1BA5-49D7-B2EB-79D792B8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3FDA-E1BF-415E-9D7B-16CCF76C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674D-F873-4B2B-A51F-FB6069CF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DCA9-9540-43B6-A61C-F8FC42C9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8AE2-2646-42D6-AC9E-E27856C9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FA4A-DCD8-41AB-966C-032034AB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7D9-BE9B-4BAF-A85B-ACF06F2D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602F-7376-4B89-97C3-388AAFD0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71A-5C2D-4574-8976-952DBA7B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5E9-5947-4723-8B2D-3CF0AAFD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217D-A5CC-474F-9746-FCE68BBF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343B-3E07-4D52-9D5D-9E6A20DD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clouds_3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68ca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16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16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cc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6F4F-B802-4D5B-AB58-5E81AA4FAD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louds_3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68ca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158A-33AC-480B-84D6-0CCA3628F1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6b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b16b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6b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b16b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16b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6b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16b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cc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6b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16b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6b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16b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6b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16b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68ca"/>
                </a:solidFill>
                <a:latin typeface="Arial Black"/>
              </a:rPr>
              <a:t>Menu Additions: Seafood</a:t>
            </a: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Good 4 U Server Training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68ca"/>
                </a:solidFill>
                <a:latin typeface="Arial Black"/>
              </a:rPr>
              <a:t>Shellfish</a:t>
            </a: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b16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6bff"/>
                </a:solidFill>
                <a:latin typeface="Arial"/>
              </a:rPr>
              <a:t>Oysters</a:t>
            </a:r>
            <a:endParaRPr b="0" lang="en-US" sz="2800" spc="-1" strike="noStrike">
              <a:solidFill>
                <a:srgbClr val="b16b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6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6bff"/>
                </a:solidFill>
                <a:latin typeface="Arial"/>
              </a:rPr>
              <a:t>Clams</a:t>
            </a:r>
            <a:endParaRPr b="0" lang="en-US" sz="2800" spc="-1" strike="noStrike">
              <a:solidFill>
                <a:srgbClr val="b16b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6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6bff"/>
                </a:solidFill>
                <a:latin typeface="Arial"/>
              </a:rPr>
              <a:t>Shrimp</a:t>
            </a:r>
            <a:endParaRPr b="0" lang="en-US" sz="2800" spc="-1" strike="noStrike">
              <a:solidFill>
                <a:srgbClr val="b16b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6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6bff"/>
                </a:solidFill>
                <a:latin typeface="Arial"/>
              </a:rPr>
              <a:t>Crab</a:t>
            </a:r>
            <a:endParaRPr b="0" lang="en-US" sz="2800" spc="-1" strike="noStrike">
              <a:solidFill>
                <a:srgbClr val="b16b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6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6bff"/>
                </a:solidFill>
                <a:latin typeface="Arial"/>
              </a:rPr>
              <a:t>Lobster</a:t>
            </a:r>
            <a:endParaRPr b="0" lang="en-US" sz="2800" spc="-1" strike="noStrike">
              <a:solidFill>
                <a:srgbClr val="b16b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68ca"/>
                </a:solidFill>
                <a:latin typeface="Arial Black"/>
              </a:rPr>
              <a:t>Specialties</a:t>
            </a: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Sea vegetables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6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6bff"/>
                </a:solidFill>
                <a:latin typeface="Arial"/>
              </a:rPr>
              <a:t>Dulse</a:t>
            </a:r>
            <a:endParaRPr b="0" lang="en-US" sz="2800" spc="-1" strike="noStrike">
              <a:solidFill>
                <a:srgbClr val="b16b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6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6bff"/>
                </a:solidFill>
                <a:latin typeface="Arial"/>
              </a:rPr>
              <a:t>Hijiki</a:t>
            </a:r>
            <a:endParaRPr b="0" lang="en-US" sz="2800" spc="-1" strike="noStrike">
              <a:solidFill>
                <a:srgbClr val="b16b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6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6bff"/>
                </a:solidFill>
                <a:latin typeface="Arial"/>
              </a:rPr>
              <a:t>Arame</a:t>
            </a:r>
            <a:endParaRPr b="0" lang="en-US" sz="2800" spc="-1" strike="noStrike">
              <a:solidFill>
                <a:srgbClr val="b16b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Trout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Bass 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68ca"/>
                </a:solidFill>
                <a:latin typeface="Arial Black"/>
              </a:rPr>
              <a:t>Saltwater Fish</a:t>
            </a: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Halibut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Catfish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Tuna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68ca"/>
                </a:solidFill>
                <a:latin typeface="Arial Black"/>
              </a:rPr>
              <a:t>Freshwater Fish</a:t>
            </a: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Sushi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Sashimi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Swordfish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18T17:40:52Z</dcterms:created>
  <dc:creator>Pat R. Graves</dc:creator>
  <dc:description/>
  <dc:language>en-US</dc:language>
  <cp:lastModifiedBy>Pat Graves</cp:lastModifiedBy>
  <cp:lastPrinted>1998-10-28T19:37:32Z</cp:lastPrinted>
  <dcterms:modified xsi:type="dcterms:W3CDTF">2004-02-07T22:23:08Z</dcterms:modified>
  <cp:revision>15</cp:revision>
  <dc:subject/>
  <dc:title>New Seafood Menu</dc:title>
</cp:coreProperties>
</file>