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D97-1BF7-4F74-8C1B-415C8D10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A44-E904-4392-A1BF-33FE525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76D-57BA-4AC0-BBAE-E403D76C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3DB-EB79-472F-8D31-4DA44D7B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DD0-D2D6-4ADC-A50F-8D0217C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F9B-DF47-475B-97ED-EA6868F6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25A-DBD0-4EE0-80C2-FD98CC9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CB6-4D3C-47EA-9C47-918988B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A27-9C37-4F0F-81A4-8FD07DA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9EA-CCF3-484C-9EA7-D9230A6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726-CDF8-4448-AABE-E9F34762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296-FF30-4AAE-A20C-DB02A32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F500-2427-4141-990B-9D120847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Seafood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 Serve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food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water 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water 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l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7:40:52Z</dcterms:created>
  <dc:creator>Pat R. Graves</dc:creator>
  <dc:description/>
  <dc:language>en-US</dc:language>
  <cp:lastModifiedBy>Pat Graves</cp:lastModifiedBy>
  <dcterms:modified xsi:type="dcterms:W3CDTF">2004-02-07T23:16:25Z</dcterms:modified>
  <cp:revision>8</cp:revision>
  <dc:subject/>
  <dc:title>New Seafood Menu</dc:title>
</cp:coreProperties>
</file>