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247E-BEB9-4CAC-921F-05DB74BD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A71-EDF8-4C89-9866-51814D6D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CE2-A4EF-4B72-B047-D35CF333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C1E-CA56-42FA-B551-48861A5C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3460-9BF5-411E-B5F3-B48D6AC3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2B48-EDFA-4D5A-A553-80436AC8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1CCD-13BC-4AC3-8533-2C7A53DF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A91A-D60D-4CBF-9D3B-855DA54C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F001-AC2B-4F21-A004-2A86181B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8DDC-3A9B-4AC7-9DC0-C6824582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76FD-9AE3-469F-B494-42D1DBF0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488-AE56-41F4-832E-2C8D7619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E8FF-49A1-4B39-BC91-5DA098A7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4862-E995-4ABC-92B1-DB6508CE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C2A0-D940-445E-828F-13A0F0AD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E4AD-9F1F-4140-BC3F-0BAE19F4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BA36-F66B-4D8E-BC51-EDC29846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981-2FAE-46EE-AC1B-6B30AA39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00C-A0A2-40B7-9160-3A6B2362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CF8-98B6-477D-A9EB-9CECA563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777-BF1D-4ADD-8F6A-2346D546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484-027A-4F81-9A67-16F51667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E34-033F-4FA5-82A0-EA1F9548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37B-CE62-490E-A4AA-CF9B1D64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3840" y="3348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3960" y="1519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396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EF3C-542F-4724-978F-0147C8BF71C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3840" y="3348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AF56-8EF1-4EB9-B842-8755B8787D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66640" y="3381480"/>
            <a:ext cx="1932120" cy="3049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4T21:40:09Z</dcterms:created>
  <dc:creator>Pat R. Graves</dc:creator>
  <dc:description/>
  <dc:language>en-US</dc:language>
  <cp:lastModifiedBy>Pat Graves</cp:lastModifiedBy>
  <dcterms:modified xsi:type="dcterms:W3CDTF">2004-03-05T16:44:29Z</dcterms:modified>
  <cp:revision>7</cp:revision>
  <dc:subject/>
  <dc:title>Restaurant Franchise Opportunities</dc:title>
</cp:coreProperties>
</file>