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4C75-F9AD-4945-8691-CB2CC06F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7155-EDF9-4E4A-9DFE-DC9BC691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4322-610B-44C7-A30E-0B55366E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0A6D-4D94-422A-804B-4EF31481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F51D-A8AF-4AC5-AD50-C4F97E8E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5159-AED0-4A5F-84CD-4209C43A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F637-AB1D-4CEC-A179-90B917D5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668D-6D72-4D9D-B323-6AB05596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F6F4-6969-4A42-A162-4B0EEA8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D1C1-35DB-4682-867D-2AE625FE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BD7C-580C-4D84-A6C2-23C8D2C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B6C4-7045-4498-9743-4C88E153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0421-D9C4-4197-8DEF-744AC52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7B4F-8EB0-4F92-83E5-E9FBD3CE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A9FF-5F23-448F-B3DA-5D4D7E56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5631-FD2E-4CF4-BE7A-B9CF7A65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DF14-6E88-49B3-9DB2-9C26CDAA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3517-FBBB-4645-B3EB-9B692EB2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90DB-2D18-48FB-8E32-649F5BED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30E5-48C7-4C81-9E60-5F6A618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7C7A-7C26-49A9-9DE8-B620D078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89A3-93B5-495F-8F93-4C308B6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E58A-B4F6-4326-AF70-5D1CBC0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F8F9-FBD8-49FC-8C9E-9360910C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8E83-D84B-4B06-9E6A-7957DBB521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3756-83A9-4C69-BBF9-4F050F38CB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Good 4 U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ff Training Sche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895480" y="3441600"/>
            <a:ext cx="33530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23:58:07Z</dcterms:created>
  <dc:creator>Pat R. Graves</dc:creator>
  <dc:description/>
  <dc:language>en-US</dc:language>
  <cp:lastModifiedBy>Pat Graves</cp:lastModifiedBy>
  <dcterms:modified xsi:type="dcterms:W3CDTF">2004-03-05T16:44:59Z</dcterms:modified>
  <cp:revision>4</cp:revision>
  <dc:subject/>
  <dc:title>Staff Training</dc:title>
</cp:coreProperties>
</file>