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B11B-A2BD-4D2C-9B32-7C062E72C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240" y="1828800"/>
            <a:ext cx="7086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583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371240" y="4802040"/>
            <a:ext cx="3583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0133-B60D-49B5-BE61-438534FB7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1828800"/>
            <a:ext cx="7086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1748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07600" y="3886200"/>
            <a:ext cx="1748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371240" y="4802040"/>
            <a:ext cx="1748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3207600" y="4802040"/>
            <a:ext cx="1748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F99E-2C8F-4F87-8705-7DB375E18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1828800"/>
            <a:ext cx="7086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11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582640" y="3886200"/>
            <a:ext cx="11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794400" y="3886200"/>
            <a:ext cx="11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371240" y="4802040"/>
            <a:ext cx="11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2582640" y="4802040"/>
            <a:ext cx="11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3794400" y="4802040"/>
            <a:ext cx="11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DF63-9480-40F8-B061-321D1E18B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561E7-71DB-4B68-9583-75652E65B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240" y="1828800"/>
            <a:ext cx="7086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3583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87D27-18C7-4B3B-AEF8-63216E77B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240" y="1828800"/>
            <a:ext cx="7086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5830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94F4B-93B2-4616-B08E-FB24DF126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240" y="1828800"/>
            <a:ext cx="7086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1748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07600" y="3886200"/>
            <a:ext cx="1748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1F3FB-82C3-4E5B-BAB9-F3A3C2C04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1828800"/>
            <a:ext cx="7086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A29AA-B50F-4371-84CD-A078881A3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371240" y="1828800"/>
            <a:ext cx="7086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09448-875B-42B5-BC87-C3546BBF6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1828800"/>
            <a:ext cx="7086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1748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07600" y="3886200"/>
            <a:ext cx="1748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371240" y="4802040"/>
            <a:ext cx="1748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E7EB0-4550-4CF9-8EDD-D01257A5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1828800"/>
            <a:ext cx="7086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3583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2893-23A3-41FE-BCFA-073131906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1828800"/>
            <a:ext cx="7086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1748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07600" y="3886200"/>
            <a:ext cx="1748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207600" y="4802040"/>
            <a:ext cx="1748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665DB-E93C-43DC-A5F4-F1FBA6ED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240" y="1828800"/>
            <a:ext cx="7086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1748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07600" y="3886200"/>
            <a:ext cx="1748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371240" y="4802040"/>
            <a:ext cx="3583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5922C-B28A-4363-AF6A-B35E591B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240" y="1828800"/>
            <a:ext cx="7086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583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371240" y="4802040"/>
            <a:ext cx="3583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D39A7-528D-4F5F-9505-2F646D2B3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1828800"/>
            <a:ext cx="7086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1748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07600" y="3886200"/>
            <a:ext cx="1748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371240" y="4802040"/>
            <a:ext cx="1748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3207600" y="4802040"/>
            <a:ext cx="1748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71105-CF41-47E7-A279-14A5EE9F8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240" y="1828800"/>
            <a:ext cx="7086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11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582640" y="3886200"/>
            <a:ext cx="11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794400" y="3886200"/>
            <a:ext cx="11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371240" y="4802040"/>
            <a:ext cx="11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2582640" y="4802040"/>
            <a:ext cx="11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3794400" y="4802040"/>
            <a:ext cx="11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D31B8-FEAA-43A7-86E7-0492B74BE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1828800"/>
            <a:ext cx="7086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5830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75CD-2B40-4122-8621-C49FA2E35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1828800"/>
            <a:ext cx="7086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1748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207600" y="3886200"/>
            <a:ext cx="1748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2007-8230-4C1E-901D-083C6E72C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1828800"/>
            <a:ext cx="7086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82A5-87E7-4D33-8854-78DE77CF6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1371240" y="1828800"/>
            <a:ext cx="7086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0BBD-3634-4386-8D00-AAB776C7C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240" y="1828800"/>
            <a:ext cx="7086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1748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07600" y="3886200"/>
            <a:ext cx="1748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240" y="4802040"/>
            <a:ext cx="1748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26FB-AA21-499E-B14F-45DC99C8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71240" y="1828800"/>
            <a:ext cx="7086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1748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07600" y="3886200"/>
            <a:ext cx="1748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207600" y="4802040"/>
            <a:ext cx="1748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3087-FE0C-4FFC-81BA-E6DCF197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240" y="1828800"/>
            <a:ext cx="7086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1748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07600" y="3886200"/>
            <a:ext cx="1748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371240" y="4802040"/>
            <a:ext cx="3583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4B63-2F41-4352-8F22-04AC3E57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1BC0D-A47F-49C2-9EB6-BBD3A4C8AF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240" y="1828800"/>
            <a:ext cx="7086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2D8AC-E503-4C0D-9CF6-157EFB7857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543800" y="2743200"/>
            <a:ext cx="1330200" cy="3754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3124080" y="2743200"/>
            <a:ext cx="1501920" cy="36561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4876920" y="3352680"/>
            <a:ext cx="1014120" cy="2907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6095880" y="4038480"/>
            <a:ext cx="1041480" cy="15922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240" y="1828800"/>
            <a:ext cx="7086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5027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5T15:55:47Z</dcterms:created>
  <dc:creator>Pat R. Graves</dc:creator>
  <dc:description/>
  <dc:language>en-US</dc:language>
  <cp:lastModifiedBy>Pat Graves</cp:lastModifiedBy>
  <dcterms:modified xsi:type="dcterms:W3CDTF">2004-03-05T16:44:34Z</dcterms:modified>
  <cp:revision>5</cp:revision>
  <dc:subject/>
  <dc:title>Fall Festival Marathon</dc:title>
</cp:coreProperties>
</file>