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28F-FAA5-45F6-A269-3A570142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2AF-F78E-4BB4-BCA5-32E4CF7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3A3-2DEE-4F9E-947D-987635ED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A95-D183-4C66-BC42-1291032B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643-51CC-4B0A-B6A7-68E0EE83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7D2-2993-4E8A-B2D2-D929F913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DB5-D070-4F90-B640-8F0989A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CD0-BFF2-4C60-B1ED-D209799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EC5-4CD6-47EB-A24E-3A4CD969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A4E-4AF6-4CCD-BD7B-9547B67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2BD-0A2B-4DE8-B794-0CD6C93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F1F-3D13-4540-80B9-36C25BA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206-CDF2-448F-8B46-90DA2FCE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Jobs 4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29000" y="4876920"/>
            <a:ext cx="2285640" cy="922320"/>
            <a:chOff x="3429000" y="4876920"/>
            <a:chExt cx="2285640" cy="922320"/>
          </a:xfrm>
        </p:grpSpPr>
        <p:sp>
          <p:nvSpPr>
            <p:cNvPr id="44" name=""/>
            <p:cNvSpPr txBox="1"/>
            <p:nvPr/>
          </p:nvSpPr>
          <p:spPr>
            <a:xfrm>
              <a:off x="5077800" y="522792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15840" y="5023440"/>
              <a:ext cx="824040" cy="775440"/>
              <a:chOff x="4515840" y="5023440"/>
              <a:chExt cx="824040" cy="775440"/>
            </a:xfrm>
          </p:grpSpPr>
          <p:sp>
            <p:nvSpPr>
              <p:cNvPr id="46" name=""/>
              <p:cNvSpPr/>
              <p:nvPr/>
            </p:nvSpPr>
            <p:spPr>
              <a:xfrm>
                <a:off x="4515840" y="502344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747320" y="510696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 txBox="1"/>
            <p:nvPr/>
          </p:nvSpPr>
          <p:spPr>
            <a:xfrm>
              <a:off x="3429000" y="487692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4 U is Looking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d waiters and wai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ed, creative ch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chefs: If you’re willing to learn, we’re willing to train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talk to us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655800" cy="24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9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21:40:24Z</dcterms:created>
  <dc:creator>Marple</dc:creator>
  <dc:description/>
  <dc:language>en-US</dc:language>
  <cp:lastModifiedBy>Pat Graves</cp:lastModifiedBy>
  <dcterms:modified xsi:type="dcterms:W3CDTF">2004-03-15T18:11:30Z</dcterms:modified>
  <cp:revision>12</cp:revision>
  <dc:subject/>
  <dc:title>Great Jobs 4 U</dc:title>
</cp:coreProperties>
</file>