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5FB-A60C-489A-90B5-819332ED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2FD-B631-45C8-85AC-8AAD9AD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970-4458-4955-A116-54F563CF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960-E81F-43F6-B3C2-1FDD9028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293C-3A18-449A-8BCD-27C934CE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F50-E057-483C-B705-D09673F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6F2-1073-4D3C-8150-D0E28B5F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384-15FB-49A7-BBB8-72928FA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02F-33BE-4D24-AD5D-EAB87A2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8F59-2158-4D5D-9A86-4C25B0B9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24C-1532-4901-9F12-AAF1D5AB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7FD-C79F-4ED0-820D-7EA0762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F6D7-A379-4933-8D10-36F52AF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013-549B-4B67-9BE1-861FF0C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A16-13E5-4EE4-8C9B-745DA707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02F5-DE0A-4F02-B614-6330147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78FE-B641-40B9-8861-F6F72290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DA7-51EC-43AA-A789-C83E38F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D48-ABD3-4F89-85EA-67584401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8A4-3A41-4E05-97D1-FECDC03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AD1-C7D9-4600-98B4-334B2CF2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A19-0F08-4F4C-958B-A6DBFF1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E55-F271-4FB5-8041-6F9AF65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5DF-0BEF-4FCC-9D46-B934894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51B-83B3-4F6C-9CFF-BCD4342505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B67C-9ADF-41EC-928E-145F9F0521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cheduling Event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ood 4 U  Promotion Plan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special event per qu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ther factors taken int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s will v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tatively Scheduled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In-Line Skate demo te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stchester Girl’s Gymnastics team demons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rm 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ny necessary schedule shif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ft schedule for ad co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schedule on Web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2741400" cy="192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6-08-23T19:57:42Z</cp:lastPrinted>
  <dcterms:modified xsi:type="dcterms:W3CDTF">2004-03-15T15:36:08Z</dcterms:modified>
  <cp:revision>39</cp:revision>
  <dc:subject/>
  <dc:title>Scheduling Events</dc:title>
</cp:coreProperties>
</file>