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09BC-A544-4486-9BAF-F2435AEFC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904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D5F6-AC33-4FCE-A2DF-4F1BFC57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904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904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86E6-4CD2-44CE-BEE3-0FDE4DB8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904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904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904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D24D-CAC7-4374-A373-FFD8A4E95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AC23-EFAD-4DD4-88A6-01B57C0CD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3B2E-5DAE-4D65-AD13-51CB9900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995B-3C4E-467B-9396-3D64CE24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EED4-D0BA-4B51-8AE0-66193058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0754-5F41-4D4D-A1CE-B036B607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DBDB-48A7-46C8-A62A-F175B3AB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904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EE84-B74E-4E50-A70E-AFC7E0A9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B50B-CCA0-41A6-8954-33333547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904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C1F3-3D98-4796-83E8-57F8265E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904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E22F-2AE1-453C-8516-C1EF71A4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904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99B0-3987-400E-B0DB-351336F1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904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904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EEF7-EC7E-445E-BF8A-5BB4DA69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904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904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904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80BD-5B5E-440D-B9BC-D5E593C9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C7AE-76FE-431D-8265-FDF367F2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F892-F307-4B3B-9B15-9BBA73DC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00BD-FA22-48BD-A489-1B384332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9D8D-5031-49A8-91B4-354334C6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904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1324-E95B-46A8-833D-BA0A1303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904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FCF9-9C21-4209-9AF7-7179553E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904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A09D-BC27-4424-9BBD-6F5110BA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BB00-D83E-440C-BA99-3790D8AAC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4400" y="1277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6A3C-194F-4CEF-BE94-0B22C9F5E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4400" y="1277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enerating Healthy Competition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7640" y="3262320"/>
            <a:ext cx="5321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4 U Con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99000" y="2095560"/>
            <a:ext cx="255456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excitement around healthy food compe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publicity for restau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creativity and new reci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o Participat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1055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4 U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4 U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e competitions for customers and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80200" y="1611360"/>
            <a:ext cx="34639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od 4 U Contest Idea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0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t b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0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-packed pa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0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y fast f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0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-free dess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0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uit smoot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3124080"/>
            <a:ext cx="1650960" cy="1430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343400" y="1371600"/>
            <a:ext cx="1871640" cy="830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477120" y="4038480"/>
            <a:ext cx="1600200" cy="1443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095880" y="1828800"/>
            <a:ext cx="207324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ther Promotional Eve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0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Health Marat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0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walking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0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-line skating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0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nce aerobics d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629400" y="3505320"/>
            <a:ext cx="1496880" cy="1665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2055600" cy="1704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934320" y="1295280"/>
            <a:ext cx="17161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1T23:19:26Z</dcterms:created>
  <dc:creator>Pat R. Graves</dc:creator>
  <dc:description/>
  <dc:language>en-US</dc:language>
  <cp:lastModifiedBy>Pat Graves</cp:lastModifiedBy>
  <dcterms:modified xsi:type="dcterms:W3CDTF">2004-03-15T16:03:34Z</dcterms:modified>
  <cp:revision>38</cp:revision>
  <dc:subject/>
  <dc:title>Generating Healthy Competition</dc:title>
</cp:coreProperties>
</file>