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C03-E76C-40A4-A122-2825A50E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862-9AC3-4A9D-AEF5-38FBF730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863-3966-45C8-A129-D338CDA2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FBA-ACCD-4C2A-B6DE-8A615995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FC1-7B73-40E4-8DCD-EEF9C104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E64-FCE2-45DB-8610-B6232F4E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76C-1471-4965-8C7D-BCBBA1D3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DD5-B753-48F6-BC33-BDF727BC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818-D450-4BB8-B903-B3743D3D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F89-0C47-4B96-8740-3637CD4D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887-2DEF-46F2-BE6C-EF2CB3BE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459-A2D0-484C-A292-AC1EA8B9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28D3-3989-492B-ABDD-AE2215A5A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coun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4 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Headco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full-time and part-time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number of part-time weekend employees, especially service 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count changes seas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 Headcount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permanent part-time pos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he number of full-time service pos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ruit college students for part-time 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comprehensive benefits package for all part-ti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5T20:04:54Z</dcterms:created>
  <dc:creator>Marple</dc:creator>
  <dc:description/>
  <dc:language>en-US</dc:language>
  <cp:lastModifiedBy>Pat Graves</cp:lastModifiedBy>
  <dcterms:modified xsi:type="dcterms:W3CDTF">2004-03-21T20:41:03Z</dcterms:modified>
  <cp:revision>10</cp:revision>
  <dc:subject/>
  <dc:title>Headcount Analysis</dc:title>
</cp:coreProperties>
</file>