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A03-7DDA-4246-B028-362372D6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624-39D6-47E4-9D42-8B33F658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F82-6E6D-4F51-AC38-51A68F96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107-DA2E-4D5E-B04C-D4072E26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3D3C-CD49-4052-ABFA-F1F5BC37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01A-7B04-41DD-AAEE-4995F566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46C-47DC-437A-94E0-42E06DB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C81-4F89-4C25-8A94-F26DA19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628-E2B7-4C81-B532-7B66816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EF70-DFAF-4CED-9ADB-5A7ACBF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B0EE-9236-428A-B8AB-D3D1D0B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992-8A48-4BF9-B041-DF13558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AD3D-C432-47A8-A17D-9E7BC6F2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69B-9EBA-46B7-9D5C-16FAA99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80B0-2B30-4AD0-87B1-40145AD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83E7-9B23-4A3B-85D6-1CF4CE91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5FE7-1D04-4C6A-A3B6-3E2C5AB9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D14-06A7-46D7-967F-4E72558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24C-7495-4674-A134-DF9CC895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8C0-9065-4752-8C65-7F8D33F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42F-6A8C-406B-A506-0FD47BC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8E6-21C1-4217-A3AF-2A4DC63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B4D-7482-4A7D-8A9F-96A44F1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6DF-BE69-47C2-AEE1-4440434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AA9C-E180-4372-A3A8-B0D3387AA7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FF4-9B40-4AB5-9CC6-FD8D679F3E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ranchis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formation Pack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itchen Essential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06600" y="1719000"/>
            <a:ext cx="613080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Caloric r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4 U stone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omputer Equipmen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05000" y="1719360"/>
            <a:ext cx="6532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-speed computer (network serv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 cash regis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 Good 4 U restaurant software pack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5120" y="1828800"/>
            <a:ext cx="6476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mployee Hiring Practic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6800" y="1719360"/>
            <a:ext cx="7425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-level managers must have five years management exper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13640" y="2362320"/>
            <a:ext cx="4741920" cy="206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005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gie 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sh Fruit Com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semary Chic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ample Menu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04T01:40:22Z</cp:lastPrinted>
  <dcterms:modified xsi:type="dcterms:W3CDTF">2004-04-01T05:49:14Z</dcterms:modified>
  <cp:revision>50</cp:revision>
  <dc:subject/>
  <dc:title>Franchise Information</dc:title>
</cp:coreProperties>
</file>