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Impact"/>
              </a:rPr>
              <a:t>Click to move the slide</a:t>
            </a:r>
            <a:endParaRPr b="0" lang="en-US" sz="48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06B2-CC5B-42AE-9994-470CCFBB0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62080" y="711360"/>
            <a:ext cx="4532400" cy="3398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7760" cy="4094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businesses are sponsoring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647-49F6-44A9-A501-07F72EFF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32000" y="442152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E63-44E3-485A-8330-68AAFAD2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6012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5B9-F0AC-4ED3-A211-9AF5A429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6212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9224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3200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6212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9224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42F-8708-4B0F-BC99-78B59657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B339-F88B-466B-9432-C57003CF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1D05-0756-46A2-9196-86D90FB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012C-6D79-4241-AC6C-2DEA5256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DCBF-D201-4312-B13D-6031F186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C841-ABDB-49CD-B13E-A6D1427A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6300-A0BB-47BA-9F87-D9FDFCFF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B17A-74E1-45BA-A59E-10D0E05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87A-E984-4C6B-858B-B2CA672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6012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D0FF-2F84-4540-9BA8-9D8D3910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B6FA-0717-4055-A7B3-3D8F27F6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232000" y="442152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2FE9-5959-4251-8BDD-431B4D70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6012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2723-B046-4C0B-9D8B-9BAA27F2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6212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9224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23200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36212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9224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2D20-7C34-44FD-A8F1-543369A6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A06-18A4-4FB8-93B2-948449D6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5A5-90E7-41C8-B750-E4E5E53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269-C547-4932-8208-69455A8F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E97-E6A6-4B38-BEE0-24442CD7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433-FED9-45CB-A120-D617D12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6012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D94-897C-4536-895A-E63B020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C41-5337-48FD-97B2-633CD03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77EC-CCE4-4A14-BB8F-4A31A606A1B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1680" y="4889520"/>
            <a:ext cx="5187960" cy="195120"/>
            <a:chOff x="3631680" y="4889520"/>
            <a:chExt cx="5187960" cy="195120"/>
          </a:xfrm>
        </p:grpSpPr>
        <p:sp>
          <p:nvSpPr>
            <p:cNvPr id="52" name=""/>
            <p:cNvSpPr/>
            <p:nvPr/>
          </p:nvSpPr>
          <p:spPr>
            <a:xfrm flipH="1">
              <a:off x="3631320" y="4889520"/>
              <a:ext cx="4920840" cy="194040"/>
            </a:xfrm>
            <a:prstGeom prst="roundRect">
              <a:avLst>
                <a:gd name="adj" fmla="val 0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42800" y="4889520"/>
              <a:ext cx="276840" cy="195120"/>
            </a:xfrm>
            <a:prstGeom prst="flowChartDelay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5595-D90D-47C5-AF32-F1E3424B14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3399"/>
              </a:solidFill>
              <a:latin typeface="Impact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516720" y="5265720"/>
            <a:ext cx="2285640" cy="922320"/>
            <a:chOff x="6516720" y="5265720"/>
            <a:chExt cx="2285640" cy="922320"/>
          </a:xfrm>
        </p:grpSpPr>
        <p:sp>
          <p:nvSpPr>
            <p:cNvPr id="59" name=""/>
            <p:cNvSpPr txBox="1"/>
            <p:nvPr/>
          </p:nvSpPr>
          <p:spPr>
            <a:xfrm>
              <a:off x="8165520" y="561672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603560" y="5412240"/>
              <a:ext cx="824040" cy="775440"/>
              <a:chOff x="7603560" y="5412240"/>
              <a:chExt cx="824040" cy="775440"/>
            </a:xfrm>
          </p:grpSpPr>
          <p:sp>
            <p:nvSpPr>
              <p:cNvPr id="61" name=""/>
              <p:cNvSpPr/>
              <p:nvPr/>
            </p:nvSpPr>
            <p:spPr>
              <a:xfrm>
                <a:off x="7603560" y="541224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35040" y="549576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 txBox="1"/>
            <p:nvPr/>
          </p:nvSpPr>
          <p:spPr>
            <a:xfrm>
              <a:off x="6516720" y="526572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Impact"/>
              </a:rPr>
              <a:t>Cooking Contest </a:t>
            </a:r>
            <a:endParaRPr b="0" lang="en-US" sz="48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0000" y="3333240"/>
            <a:ext cx="2851200" cy="17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 Us Your Favorite Healthy D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Impact"/>
              </a:rPr>
              <a:t>Ingredients to Use</a:t>
            </a: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 syr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ive o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Impact"/>
              </a:rPr>
              <a:t>Awards</a:t>
            </a: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z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ce: Four Friday din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ce: Two bru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lunch to all entrants at awards ceremo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zewin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to 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0T21:45:06Z</dcterms:created>
  <dc:creator>Pat Graves</dc:creator>
  <dc:description/>
  <dc:language>en-US</dc:language>
  <cp:lastModifiedBy>Pat Graves</cp:lastModifiedBy>
  <dcterms:modified xsi:type="dcterms:W3CDTF">2004-02-02T04:46:08Z</dcterms:modified>
  <cp:revision>10</cp:revision>
  <dc:subject/>
  <dc:title>A Good 4 U Recipe Contest </dc:title>
</cp:coreProperties>
</file>