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561-1444-4F79-A645-F6CA3EB0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49F-C9C9-42EE-A1E4-2FF99C95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139-1804-4CB9-A1A6-C925E5C5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34C-4F61-47DD-8E23-34BD5A01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9EA4-AB95-4CF4-9707-E47E593C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65D8-AB18-4ABD-86C5-96E45722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6578-77CA-416C-A893-8D5B56AF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E93B-ABFE-4AD0-8204-0331068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5129-0AB7-440C-A986-C8F6221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1092-5A57-486E-9343-80F10EA9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59F0-725F-4C83-A5A9-3D4F141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C69-EC6C-499D-A77A-6745EEE4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5F8E-3DCE-4660-ACA4-ACFA6CD9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2ED2-45E4-4371-82C1-C35D1A55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0830-ED7B-48DE-9AF4-55D43BD9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A6D1-EFC3-4A93-B05F-A4FE3479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258B-31FE-47A8-94A6-1C8031D8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C2A-3C05-48D5-AC06-E03D9776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274-1EE5-4C30-BFED-D4E8B55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2F7-5ED9-4272-A7D4-16CA644B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1E5-AEDE-4379-A129-0F17BA18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5B7-0809-4D44-840A-43D8AF9B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54A-9ED2-4D70-B981-F3CCBA3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3FA-5B22-426D-89A1-AA62C8EA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2" marL="1108440" indent="-221400">
              <a:spcBef>
                <a:spcPts val="9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3" marL="1551960" indent="-221400">
              <a:spcBef>
                <a:spcPts val="9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4" marL="1995480" indent="-221400">
              <a:spcBef>
                <a:spcPts val="9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5" marL="1995480" indent="-221400">
              <a:spcBef>
                <a:spcPts val="9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6" marL="1995480" indent="-221400">
              <a:spcBef>
                <a:spcPts val="9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936-3FDD-418B-A169-8CB9D037C32B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0760" cy="2819520"/>
          </a:xfrm>
          <a:custGeom>
            <a:avLst/>
            <a:gdLst/>
            <a:ahLst/>
            <a:rect l="l" t="t" r="r" b="b"/>
            <a:pathLst>
              <a:path w="5740" h="1906">
                <a:moveTo>
                  <a:pt x="0" y="0"/>
                </a:moveTo>
                <a:lnTo>
                  <a:pt x="0" y="1906"/>
                </a:lnTo>
                <a:lnTo>
                  <a:pt x="5740" y="1906"/>
                </a:lnTo>
                <a:lnTo>
                  <a:pt x="57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deaf"/>
              </a:gs>
              <a:gs pos="100000">
                <a:srgbClr val="f9f0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068640"/>
            <a:ext cx="5867280" cy="3789360"/>
          </a:xfrm>
          <a:custGeom>
            <a:avLst/>
            <a:gdLst/>
            <a:ahLst/>
            <a:rect l="l" t="t" r="r" b="b"/>
            <a:pathLst>
              <a:path w="3007" h="2085">
                <a:moveTo>
                  <a:pt x="1427" y="441"/>
                </a:moveTo>
                <a:lnTo>
                  <a:pt x="1433" y="474"/>
                </a:lnTo>
                <a:lnTo>
                  <a:pt x="1444" y="501"/>
                </a:lnTo>
                <a:lnTo>
                  <a:pt x="1460" y="528"/>
                </a:lnTo>
                <a:lnTo>
                  <a:pt x="1482" y="550"/>
                </a:lnTo>
                <a:lnTo>
                  <a:pt x="1541" y="593"/>
                </a:lnTo>
                <a:lnTo>
                  <a:pt x="1623" y="637"/>
                </a:lnTo>
                <a:lnTo>
                  <a:pt x="1715" y="670"/>
                </a:lnTo>
                <a:lnTo>
                  <a:pt x="1818" y="702"/>
                </a:lnTo>
                <a:lnTo>
                  <a:pt x="1927" y="735"/>
                </a:lnTo>
                <a:lnTo>
                  <a:pt x="2041" y="762"/>
                </a:lnTo>
                <a:lnTo>
                  <a:pt x="2155" y="789"/>
                </a:lnTo>
                <a:lnTo>
                  <a:pt x="2269" y="822"/>
                </a:lnTo>
                <a:lnTo>
                  <a:pt x="2372" y="849"/>
                </a:lnTo>
                <a:lnTo>
                  <a:pt x="2464" y="882"/>
                </a:lnTo>
                <a:lnTo>
                  <a:pt x="2551" y="920"/>
                </a:lnTo>
                <a:lnTo>
                  <a:pt x="2616" y="958"/>
                </a:lnTo>
                <a:lnTo>
                  <a:pt x="2638" y="980"/>
                </a:lnTo>
                <a:lnTo>
                  <a:pt x="2659" y="1007"/>
                </a:lnTo>
                <a:lnTo>
                  <a:pt x="2676" y="1029"/>
                </a:lnTo>
                <a:lnTo>
                  <a:pt x="2681" y="1056"/>
                </a:lnTo>
                <a:lnTo>
                  <a:pt x="2681" y="1083"/>
                </a:lnTo>
                <a:lnTo>
                  <a:pt x="2676" y="1105"/>
                </a:lnTo>
                <a:lnTo>
                  <a:pt x="2665" y="1127"/>
                </a:lnTo>
                <a:lnTo>
                  <a:pt x="2643" y="1149"/>
                </a:lnTo>
                <a:lnTo>
                  <a:pt x="2616" y="1170"/>
                </a:lnTo>
                <a:lnTo>
                  <a:pt x="2583" y="1187"/>
                </a:lnTo>
                <a:lnTo>
                  <a:pt x="2545" y="1208"/>
                </a:lnTo>
                <a:lnTo>
                  <a:pt x="2502" y="1225"/>
                </a:lnTo>
                <a:lnTo>
                  <a:pt x="2448" y="1241"/>
                </a:lnTo>
                <a:lnTo>
                  <a:pt x="2388" y="1257"/>
                </a:lnTo>
                <a:lnTo>
                  <a:pt x="2328" y="1274"/>
                </a:lnTo>
                <a:lnTo>
                  <a:pt x="2258" y="1290"/>
                </a:lnTo>
                <a:lnTo>
                  <a:pt x="2106" y="1328"/>
                </a:lnTo>
                <a:lnTo>
                  <a:pt x="1932" y="1372"/>
                </a:lnTo>
                <a:lnTo>
                  <a:pt x="1742" y="1421"/>
                </a:lnTo>
                <a:lnTo>
                  <a:pt x="1531" y="1475"/>
                </a:lnTo>
                <a:lnTo>
                  <a:pt x="1308" y="1540"/>
                </a:lnTo>
                <a:lnTo>
                  <a:pt x="1069" y="1617"/>
                </a:lnTo>
                <a:lnTo>
                  <a:pt x="820" y="1709"/>
                </a:lnTo>
                <a:lnTo>
                  <a:pt x="554" y="1818"/>
                </a:lnTo>
                <a:lnTo>
                  <a:pt x="282" y="1943"/>
                </a:lnTo>
                <a:lnTo>
                  <a:pt x="0" y="2085"/>
                </a:lnTo>
                <a:lnTo>
                  <a:pt x="152" y="2085"/>
                </a:lnTo>
                <a:lnTo>
                  <a:pt x="244" y="2074"/>
                </a:lnTo>
                <a:lnTo>
                  <a:pt x="386" y="1992"/>
                </a:lnTo>
                <a:lnTo>
                  <a:pt x="537" y="1910"/>
                </a:lnTo>
                <a:lnTo>
                  <a:pt x="700" y="1834"/>
                </a:lnTo>
                <a:lnTo>
                  <a:pt x="879" y="1763"/>
                </a:lnTo>
                <a:lnTo>
                  <a:pt x="1064" y="1693"/>
                </a:lnTo>
                <a:lnTo>
                  <a:pt x="1259" y="1622"/>
                </a:lnTo>
                <a:lnTo>
                  <a:pt x="1661" y="1497"/>
                </a:lnTo>
                <a:lnTo>
                  <a:pt x="1748" y="1470"/>
                </a:lnTo>
                <a:lnTo>
                  <a:pt x="1845" y="1442"/>
                </a:lnTo>
                <a:lnTo>
                  <a:pt x="2046" y="1393"/>
                </a:lnTo>
                <a:lnTo>
                  <a:pt x="2252" y="1339"/>
                </a:lnTo>
                <a:lnTo>
                  <a:pt x="2458" y="1285"/>
                </a:lnTo>
                <a:lnTo>
                  <a:pt x="2551" y="1263"/>
                </a:lnTo>
                <a:lnTo>
                  <a:pt x="2643" y="1236"/>
                </a:lnTo>
                <a:lnTo>
                  <a:pt x="2730" y="1214"/>
                </a:lnTo>
                <a:lnTo>
                  <a:pt x="2806" y="1192"/>
                </a:lnTo>
                <a:lnTo>
                  <a:pt x="2876" y="1170"/>
                </a:lnTo>
                <a:lnTo>
                  <a:pt x="2931" y="1149"/>
                </a:lnTo>
                <a:lnTo>
                  <a:pt x="2974" y="1132"/>
                </a:lnTo>
                <a:lnTo>
                  <a:pt x="3007" y="1116"/>
                </a:lnTo>
                <a:lnTo>
                  <a:pt x="3007" y="871"/>
                </a:lnTo>
                <a:lnTo>
                  <a:pt x="2941" y="860"/>
                </a:lnTo>
                <a:lnTo>
                  <a:pt x="2860" y="844"/>
                </a:lnTo>
                <a:lnTo>
                  <a:pt x="2773" y="827"/>
                </a:lnTo>
                <a:lnTo>
                  <a:pt x="2670" y="806"/>
                </a:lnTo>
                <a:lnTo>
                  <a:pt x="2567" y="784"/>
                </a:lnTo>
                <a:lnTo>
                  <a:pt x="2458" y="757"/>
                </a:lnTo>
                <a:lnTo>
                  <a:pt x="2241" y="702"/>
                </a:lnTo>
                <a:lnTo>
                  <a:pt x="2138" y="670"/>
                </a:lnTo>
                <a:lnTo>
                  <a:pt x="2046" y="637"/>
                </a:lnTo>
                <a:lnTo>
                  <a:pt x="1959" y="604"/>
                </a:lnTo>
                <a:lnTo>
                  <a:pt x="1883" y="566"/>
                </a:lnTo>
                <a:lnTo>
                  <a:pt x="1824" y="534"/>
                </a:lnTo>
                <a:lnTo>
                  <a:pt x="1780" y="495"/>
                </a:lnTo>
                <a:lnTo>
                  <a:pt x="1769" y="474"/>
                </a:lnTo>
                <a:lnTo>
                  <a:pt x="1758" y="457"/>
                </a:lnTo>
                <a:lnTo>
                  <a:pt x="1753" y="436"/>
                </a:lnTo>
                <a:lnTo>
                  <a:pt x="1758" y="419"/>
                </a:lnTo>
                <a:lnTo>
                  <a:pt x="1780" y="381"/>
                </a:lnTo>
                <a:lnTo>
                  <a:pt x="1813" y="343"/>
                </a:lnTo>
                <a:lnTo>
                  <a:pt x="1862" y="316"/>
                </a:lnTo>
                <a:lnTo>
                  <a:pt x="1921" y="289"/>
                </a:lnTo>
                <a:lnTo>
                  <a:pt x="1986" y="267"/>
                </a:lnTo>
                <a:lnTo>
                  <a:pt x="2062" y="245"/>
                </a:lnTo>
                <a:lnTo>
                  <a:pt x="2149" y="229"/>
                </a:lnTo>
                <a:lnTo>
                  <a:pt x="2236" y="213"/>
                </a:lnTo>
                <a:lnTo>
                  <a:pt x="2431" y="180"/>
                </a:lnTo>
                <a:lnTo>
                  <a:pt x="2627" y="158"/>
                </a:lnTo>
                <a:lnTo>
                  <a:pt x="2827" y="125"/>
                </a:lnTo>
                <a:lnTo>
                  <a:pt x="2920" y="109"/>
                </a:lnTo>
                <a:lnTo>
                  <a:pt x="3007" y="87"/>
                </a:lnTo>
                <a:lnTo>
                  <a:pt x="3007" y="0"/>
                </a:lnTo>
                <a:lnTo>
                  <a:pt x="2909" y="22"/>
                </a:lnTo>
                <a:lnTo>
                  <a:pt x="2795" y="44"/>
                </a:lnTo>
                <a:lnTo>
                  <a:pt x="2676" y="66"/>
                </a:lnTo>
                <a:lnTo>
                  <a:pt x="2551" y="82"/>
                </a:lnTo>
                <a:lnTo>
                  <a:pt x="2285" y="120"/>
                </a:lnTo>
                <a:lnTo>
                  <a:pt x="2155" y="136"/>
                </a:lnTo>
                <a:lnTo>
                  <a:pt x="2030" y="158"/>
                </a:lnTo>
                <a:lnTo>
                  <a:pt x="1905" y="174"/>
                </a:lnTo>
                <a:lnTo>
                  <a:pt x="1791" y="202"/>
                </a:lnTo>
                <a:lnTo>
                  <a:pt x="1688" y="229"/>
                </a:lnTo>
                <a:lnTo>
                  <a:pt x="1601" y="261"/>
                </a:lnTo>
                <a:lnTo>
                  <a:pt x="1525" y="300"/>
                </a:lnTo>
                <a:lnTo>
                  <a:pt x="1471" y="338"/>
                </a:lnTo>
                <a:lnTo>
                  <a:pt x="1455" y="359"/>
                </a:lnTo>
                <a:lnTo>
                  <a:pt x="1438" y="387"/>
                </a:lnTo>
                <a:lnTo>
                  <a:pt x="1427" y="414"/>
                </a:lnTo>
                <a:lnTo>
                  <a:pt x="1427" y="441"/>
                </a:lnTo>
                <a:lnTo>
                  <a:pt x="1427" y="4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16000" y="800280"/>
            <a:ext cx="7272000" cy="6057360"/>
            <a:chOff x="1116000" y="800280"/>
            <a:chExt cx="7272000" cy="6057360"/>
          </a:xfrm>
        </p:grpSpPr>
        <p:sp>
          <p:nvSpPr>
            <p:cNvPr id="53" name=""/>
            <p:cNvSpPr/>
            <p:nvPr/>
          </p:nvSpPr>
          <p:spPr>
            <a:xfrm>
              <a:off x="1116000" y="3611520"/>
              <a:ext cx="6050160" cy="3246120"/>
            </a:xfrm>
            <a:custGeom>
              <a:avLst/>
              <a:gdLst/>
              <a:ahLst/>
              <a:rect l="l" t="t" r="r" b="b"/>
              <a:pathLst>
                <a:path w="2882" h="1671">
                  <a:moveTo>
                    <a:pt x="2773" y="544"/>
                  </a:moveTo>
                  <a:lnTo>
                    <a:pt x="2740" y="528"/>
                  </a:lnTo>
                  <a:lnTo>
                    <a:pt x="2692" y="506"/>
                  </a:lnTo>
                  <a:lnTo>
                    <a:pt x="2632" y="484"/>
                  </a:lnTo>
                  <a:lnTo>
                    <a:pt x="2561" y="457"/>
                  </a:lnTo>
                  <a:lnTo>
                    <a:pt x="2480" y="424"/>
                  </a:lnTo>
                  <a:lnTo>
                    <a:pt x="2388" y="397"/>
                  </a:lnTo>
                  <a:lnTo>
                    <a:pt x="2203" y="343"/>
                  </a:lnTo>
                  <a:lnTo>
                    <a:pt x="2078" y="310"/>
                  </a:lnTo>
                  <a:lnTo>
                    <a:pt x="1970" y="277"/>
                  </a:lnTo>
                  <a:lnTo>
                    <a:pt x="1878" y="245"/>
                  </a:lnTo>
                  <a:lnTo>
                    <a:pt x="1807" y="212"/>
                  </a:lnTo>
                  <a:lnTo>
                    <a:pt x="1742" y="179"/>
                  </a:lnTo>
                  <a:lnTo>
                    <a:pt x="1693" y="152"/>
                  </a:lnTo>
                  <a:lnTo>
                    <a:pt x="1655" y="125"/>
                  </a:lnTo>
                  <a:lnTo>
                    <a:pt x="1628" y="103"/>
                  </a:lnTo>
                  <a:lnTo>
                    <a:pt x="1606" y="81"/>
                  </a:lnTo>
                  <a:lnTo>
                    <a:pt x="1590" y="60"/>
                  </a:lnTo>
                  <a:lnTo>
                    <a:pt x="1585" y="43"/>
                  </a:lnTo>
                  <a:lnTo>
                    <a:pt x="1579" y="27"/>
                  </a:lnTo>
                  <a:lnTo>
                    <a:pt x="1585" y="5"/>
                  </a:lnTo>
                  <a:lnTo>
                    <a:pt x="1585" y="0"/>
                  </a:lnTo>
                  <a:lnTo>
                    <a:pt x="1568" y="27"/>
                  </a:lnTo>
                  <a:lnTo>
                    <a:pt x="1557" y="49"/>
                  </a:lnTo>
                  <a:lnTo>
                    <a:pt x="1557" y="76"/>
                  </a:lnTo>
                  <a:lnTo>
                    <a:pt x="1568" y="98"/>
                  </a:lnTo>
                  <a:lnTo>
                    <a:pt x="1590" y="120"/>
                  </a:lnTo>
                  <a:lnTo>
                    <a:pt x="1617" y="141"/>
                  </a:lnTo>
                  <a:lnTo>
                    <a:pt x="1650" y="163"/>
                  </a:lnTo>
                  <a:lnTo>
                    <a:pt x="1688" y="185"/>
                  </a:lnTo>
                  <a:lnTo>
                    <a:pt x="1737" y="207"/>
                  </a:lnTo>
                  <a:lnTo>
                    <a:pt x="1791" y="228"/>
                  </a:lnTo>
                  <a:lnTo>
                    <a:pt x="1905" y="267"/>
                  </a:lnTo>
                  <a:lnTo>
                    <a:pt x="2040" y="310"/>
                  </a:lnTo>
                  <a:lnTo>
                    <a:pt x="2182" y="348"/>
                  </a:lnTo>
                  <a:lnTo>
                    <a:pt x="2285" y="381"/>
                  </a:lnTo>
                  <a:lnTo>
                    <a:pt x="2382" y="408"/>
                  </a:lnTo>
                  <a:lnTo>
                    <a:pt x="2464" y="435"/>
                  </a:lnTo>
                  <a:lnTo>
                    <a:pt x="2540" y="462"/>
                  </a:lnTo>
                  <a:lnTo>
                    <a:pt x="2605" y="484"/>
                  </a:lnTo>
                  <a:lnTo>
                    <a:pt x="2659" y="506"/>
                  </a:lnTo>
                  <a:lnTo>
                    <a:pt x="2708" y="528"/>
                  </a:lnTo>
                  <a:lnTo>
                    <a:pt x="2740" y="544"/>
                  </a:lnTo>
                  <a:lnTo>
                    <a:pt x="2768" y="560"/>
                  </a:lnTo>
                  <a:lnTo>
                    <a:pt x="2784" y="577"/>
                  </a:lnTo>
                  <a:lnTo>
                    <a:pt x="2795" y="593"/>
                  </a:lnTo>
                  <a:lnTo>
                    <a:pt x="2800" y="615"/>
                  </a:lnTo>
                  <a:lnTo>
                    <a:pt x="2795" y="642"/>
                  </a:lnTo>
                  <a:lnTo>
                    <a:pt x="2784" y="664"/>
                  </a:lnTo>
                  <a:lnTo>
                    <a:pt x="2762" y="691"/>
                  </a:lnTo>
                  <a:lnTo>
                    <a:pt x="2730" y="713"/>
                  </a:lnTo>
                  <a:lnTo>
                    <a:pt x="2692" y="735"/>
                  </a:lnTo>
                  <a:lnTo>
                    <a:pt x="2643" y="756"/>
                  </a:lnTo>
                  <a:lnTo>
                    <a:pt x="2589" y="778"/>
                  </a:lnTo>
                  <a:lnTo>
                    <a:pt x="2529" y="800"/>
                  </a:lnTo>
                  <a:lnTo>
                    <a:pt x="2458" y="822"/>
                  </a:lnTo>
                  <a:lnTo>
                    <a:pt x="2382" y="843"/>
                  </a:lnTo>
                  <a:lnTo>
                    <a:pt x="2301" y="865"/>
                  </a:lnTo>
                  <a:lnTo>
                    <a:pt x="2214" y="887"/>
                  </a:lnTo>
                  <a:lnTo>
                    <a:pt x="2030" y="930"/>
                  </a:lnTo>
                  <a:lnTo>
                    <a:pt x="1823" y="979"/>
                  </a:lnTo>
                  <a:lnTo>
                    <a:pt x="1606" y="1034"/>
                  </a:lnTo>
                  <a:lnTo>
                    <a:pt x="1378" y="1094"/>
                  </a:lnTo>
                  <a:lnTo>
                    <a:pt x="1145" y="1164"/>
                  </a:lnTo>
                  <a:lnTo>
                    <a:pt x="912" y="1241"/>
                  </a:lnTo>
                  <a:lnTo>
                    <a:pt x="673" y="1328"/>
                  </a:lnTo>
                  <a:lnTo>
                    <a:pt x="440" y="1431"/>
                  </a:lnTo>
                  <a:lnTo>
                    <a:pt x="217" y="1545"/>
                  </a:lnTo>
                  <a:lnTo>
                    <a:pt x="0" y="1671"/>
                  </a:lnTo>
                  <a:lnTo>
                    <a:pt x="353" y="1671"/>
                  </a:lnTo>
                  <a:lnTo>
                    <a:pt x="554" y="1567"/>
                  </a:lnTo>
                  <a:lnTo>
                    <a:pt x="754" y="1469"/>
                  </a:lnTo>
                  <a:lnTo>
                    <a:pt x="955" y="1388"/>
                  </a:lnTo>
                  <a:lnTo>
                    <a:pt x="1145" y="1311"/>
                  </a:lnTo>
                  <a:lnTo>
                    <a:pt x="1335" y="1241"/>
                  </a:lnTo>
                  <a:lnTo>
                    <a:pt x="1519" y="1186"/>
                  </a:lnTo>
                  <a:lnTo>
                    <a:pt x="1693" y="1132"/>
                  </a:lnTo>
                  <a:lnTo>
                    <a:pt x="1861" y="1083"/>
                  </a:lnTo>
                  <a:lnTo>
                    <a:pt x="2019" y="1045"/>
                  </a:lnTo>
                  <a:lnTo>
                    <a:pt x="2165" y="1007"/>
                  </a:lnTo>
                  <a:lnTo>
                    <a:pt x="2301" y="974"/>
                  </a:lnTo>
                  <a:lnTo>
                    <a:pt x="2426" y="947"/>
                  </a:lnTo>
                  <a:lnTo>
                    <a:pt x="2534" y="914"/>
                  </a:lnTo>
                  <a:lnTo>
                    <a:pt x="2626" y="892"/>
                  </a:lnTo>
                  <a:lnTo>
                    <a:pt x="2702" y="865"/>
                  </a:lnTo>
                  <a:lnTo>
                    <a:pt x="2762" y="838"/>
                  </a:lnTo>
                  <a:lnTo>
                    <a:pt x="2800" y="816"/>
                  </a:lnTo>
                  <a:lnTo>
                    <a:pt x="2827" y="794"/>
                  </a:lnTo>
                  <a:lnTo>
                    <a:pt x="2849" y="767"/>
                  </a:lnTo>
                  <a:lnTo>
                    <a:pt x="2865" y="745"/>
                  </a:lnTo>
                  <a:lnTo>
                    <a:pt x="2876" y="724"/>
                  </a:lnTo>
                  <a:lnTo>
                    <a:pt x="2882" y="702"/>
                  </a:lnTo>
                  <a:lnTo>
                    <a:pt x="2876" y="658"/>
                  </a:lnTo>
                  <a:lnTo>
                    <a:pt x="2854" y="620"/>
                  </a:lnTo>
                  <a:lnTo>
                    <a:pt x="2833" y="588"/>
                  </a:lnTo>
                  <a:lnTo>
                    <a:pt x="2800" y="560"/>
                  </a:lnTo>
                  <a:lnTo>
                    <a:pt x="2773" y="544"/>
                  </a:lnTo>
                  <a:lnTo>
                    <a:pt x="2773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06320" y="800280"/>
              <a:ext cx="4081680" cy="3228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44640"/>
            <a:ext cx="56498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0456-6E09-49DA-B2EC-CD729CB7516E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2" marL="914400" algn="ctr"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44640"/>
            <a:ext cx="56498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Tahoma"/>
              </a:rPr>
              <a:t>Franchise Training</a:t>
            </a:r>
            <a:endParaRPr b="1" lang="en-US" sz="60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47280" y="3933360"/>
            <a:ext cx="4064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January 15, 2005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2000" y="6248520"/>
            <a:ext cx="1478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Required Restaurant Equipmen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wo Caloric industrial range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hree Sub-Zero refrigerator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4 U cookware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(pre-packaged)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4 U stoneware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(pre-packaged)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Oneida flatware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2740320" cy="4816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7680" y="634536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b2500"/>
                </a:solidFill>
                <a:latin typeface="Arial Narrow"/>
              </a:rPr>
              <a:t>Ask for our list of wholesale appliance dealers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Employee Hiring Practices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Chefs must have a culinary degree from an accredited school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Waiters and waitresses must have reference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64000" y="2097000"/>
            <a:ext cx="2657520" cy="3049560"/>
            <a:chOff x="5364000" y="2097000"/>
            <a:chExt cx="2657520" cy="30495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13554" t="21501" r="34685" b="0"/>
            <a:stretch/>
          </p:blipFill>
          <p:spPr>
            <a:xfrm>
              <a:off x="5364000" y="2097000"/>
              <a:ext cx="2657520" cy="30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5364000" y="2097000"/>
              <a:ext cx="2657520" cy="304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bfbfa7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4b25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43360" y="2685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Required Office Equipmen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Computer (server)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wo computer workstation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Laser printer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Four cash register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Restaurant software 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package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36480" y="1989000"/>
            <a:ext cx="35211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Annual Sales Per Division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11320" y="1812960"/>
          <a:ext cx="693396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1812960"/>
                    <a:ext cx="693396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Sample Menu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4 U Veggie Burger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Simply Good Shrimp Salad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Fruit Combo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Andre’s Lemon Dill Chicken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946680" y="286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952640"/>
            <a:ext cx="44276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6-12T16:22:38Z</cp:lastPrinted>
  <dcterms:modified xsi:type="dcterms:W3CDTF">2004-04-11T20:08:57Z</dcterms:modified>
  <cp:revision>48</cp:revision>
  <dc:subject/>
  <dc:title>Good 4 U Franchise Training</dc:title>
</cp:coreProperties>
</file>