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4C32-243C-4045-A0DF-B069A770F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5660-28EA-450F-9C21-6F21BFEF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6159-719A-4F2A-B35A-E343DF393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06AE-3A12-4EBC-9A89-58146779F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0366-6F06-46B3-B424-865D41FC1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A738-D18B-48E9-A21D-213B1AA2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848D-CD30-4680-9D7D-1A765680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2F55-1CEE-494A-8F2A-ECC355EF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9FA5-29EA-4C52-97C4-0DD6858E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0986-ECB3-4BF2-A8BB-8405AD2F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6572-1337-442E-B8A3-B8F312B3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1C03-98C0-4B0B-9E56-90480C9D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51AF-0145-448B-82E9-F90D3744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B78A-A77A-45DA-BE5B-F7E4AC0A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C5D8-48F4-4F82-B1F0-8F27DD97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2EB1-8599-4757-ADDA-9EE7F3B74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DB3E-810A-4020-93E6-157D1CC8F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A201-9FA8-427D-B554-18FCEE9A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76ED-4A2B-443E-AA58-A4BAF55E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ACC4-BAD4-49D5-A0AF-5DCC37FE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E188-0B1F-49C8-96D4-B6679DE4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45E5-55C0-4E7C-85FF-D07B182E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D279-DA27-4D8C-BE15-BCDF0FCD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46D8-5810-4623-9ECA-A02A1240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AABE-2B97-4130-BCEA-C952F57717A0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0265-1B5F-474E-A512-4875ECD3303C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00280" y="2868120"/>
            <a:ext cx="7543800" cy="2377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lcome to our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ew restaurant in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eautiful Miami Beach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11240" y="2734200"/>
            <a:ext cx="7122960" cy="2980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Miami’s first truly health-conscious restauran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Low-fat and tasteful varieties to please the beachcomber appetite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835280" y="1628640"/>
            <a:ext cx="5473440" cy="363708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36720" y="3392640"/>
            <a:ext cx="5472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35280" y="2960640"/>
            <a:ext cx="54734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35280" y="2529000"/>
            <a:ext cx="54007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35280" y="2097000"/>
            <a:ext cx="54007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35280" y="3824280"/>
            <a:ext cx="55083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71640" y="4329000"/>
            <a:ext cx="53643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5280" y="4797360"/>
            <a:ext cx="54370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47640" y="-360"/>
            <a:ext cx="0" cy="61657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47640" y="0"/>
            <a:ext cx="1660680" cy="62006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47640" y="0"/>
            <a:ext cx="3579840" cy="62006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47640" y="-28800"/>
            <a:ext cx="6229440" cy="62290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11280" y="1274400"/>
            <a:ext cx="8532720" cy="49258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47640" y="3879720"/>
            <a:ext cx="8532720" cy="22860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9440" y="6200640"/>
            <a:ext cx="84596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ur Name, Sol 6-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Miami Pictur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25760" y="3141720"/>
            <a:ext cx="1825560" cy="1379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16320" y="4735080"/>
            <a:ext cx="204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ach scen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788000" y="2057400"/>
            <a:ext cx="2830320" cy="2643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424120" y="4735080"/>
            <a:ext cx="155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lm 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4T02:34:28Z</dcterms:created>
  <dc:creator>Pat R. Graves</dc:creator>
  <dc:description/>
  <dc:language>en-US</dc:language>
  <cp:lastModifiedBy>Pat Graves</cp:lastModifiedBy>
  <dcterms:modified xsi:type="dcterms:W3CDTF">2004-02-28T07:03:34Z</dcterms:modified>
  <cp:revision>11</cp:revision>
  <dc:subject/>
  <dc:title>Slide 1</dc:title>
</cp:coreProperties>
</file>