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179-35BD-4B48-B434-41FE8D9C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EB7-A827-44AE-A9A9-F6AA3D6C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BA4-5F19-4E10-A7BE-902D176F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372-EA58-4DFB-A195-C74DCEC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85D-7A0F-48E0-801F-CA39FA43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7A4A-F20C-4150-8B56-512B59D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2AA-78D0-4ADD-BCB0-3B754C14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028-CD61-466F-91C5-C2874A0F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6D1-E21F-4483-B8DD-17D8AD6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C568-8F79-4D5B-992B-99DB656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EFC6-BE55-40BB-B284-FEA88A3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15F-5BEE-4C4D-93F1-DBD92D15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6BE6-8450-4D2C-A250-EDE999B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AAC-917A-43C9-8BDD-AEE958F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0B0-77C4-4783-ADEF-61E58666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43C5-18F3-4F30-B167-70F5ACFD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5AA-79EA-4A50-8DA9-19C1A923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4E7-AEDC-4A9F-B133-11759AB8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94F-AC7E-4428-9ABD-729920B2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095-2E65-4962-81FA-BB918131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6DC-4A5A-4271-9864-1D55D9D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0C6-ACC1-4B50-8A16-6967032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69E-9183-4DB2-8E22-DFB69CB0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40F-F566-44C1-851A-2E69171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9DD-A2D3-46C9-A290-A543DA2A15F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89C-34F0-4821-8C69-69CA0076AC2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0968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707" t="14484" r="5765" b="11840"/>
          <a:stretch/>
        </p:blipFill>
        <p:spPr>
          <a:xfrm>
            <a:off x="3203640" y="1665360"/>
            <a:ext cx="2698560" cy="340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20700000">
            <a:off x="3771720" y="4586040"/>
            <a:ext cx="3925800" cy="129528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92560" y="594972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73680" y="2158920"/>
            <a:ext cx="3913200" cy="365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4360" y="58989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2160" y="34257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9:08:50Z</dcterms:modified>
  <cp:revision>19</cp:revision>
  <dc:subject/>
  <dc:title>Slide 1</dc:title>
</cp:coreProperties>
</file>