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8906F-68F1-42D9-A88C-29106D2DE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822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1120" y="3473640"/>
            <a:ext cx="822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F869B-8F44-4D19-A433-0BFEED42A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8160" y="157428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1120" y="347364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8160" y="347364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D8516-656B-4028-9F8A-16535044B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264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3560" y="1574280"/>
            <a:ext cx="264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6000" y="1574280"/>
            <a:ext cx="264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1120" y="3473640"/>
            <a:ext cx="264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3560" y="3473640"/>
            <a:ext cx="264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6000" y="3473640"/>
            <a:ext cx="264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15773-A7D4-40B8-BE64-E47AA6086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4F901-AEF3-4464-BB93-993B970D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1120" y="1574280"/>
            <a:ext cx="8229600" cy="36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05987-3393-41F2-AA4D-BBC104F3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822960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8C5E5-B25F-4FEE-A84E-DFE874BB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401580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8160" y="1574280"/>
            <a:ext cx="401580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9FCB9-6564-4661-B54B-C8ECBB53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40429-CA3F-41D7-BF6B-0471655C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2B77F-3628-4705-B0CD-D3A110EE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8160" y="1574280"/>
            <a:ext cx="401580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1120" y="347364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00488-4704-4A01-9C34-FC5954C9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1120" y="1574280"/>
            <a:ext cx="8229600" cy="36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9421D-D4D3-44A2-A133-A2CD8A460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401580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8160" y="157428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8160" y="347364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BF94D-F003-4E38-AF73-0E8C2B04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8160" y="157428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1120" y="3473640"/>
            <a:ext cx="822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E66DC-E3A9-464E-AD07-3BF5821D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822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1120" y="3473640"/>
            <a:ext cx="822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076DB-CF00-47EA-9496-ED14F0BB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8160" y="157428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1120" y="347364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8160" y="347364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D71BD-4C14-4037-878C-E87F4F45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264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3560" y="1574280"/>
            <a:ext cx="264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6000" y="1574280"/>
            <a:ext cx="264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1120" y="3473640"/>
            <a:ext cx="264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3560" y="3473640"/>
            <a:ext cx="264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6000" y="3473640"/>
            <a:ext cx="264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0DD1F-2F05-4905-B8EC-D4732815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822960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E8728-8F8F-4F63-A54D-30FFBF81A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401580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8160" y="1574280"/>
            <a:ext cx="401580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38FD0-4438-42BE-A808-B489CF99D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07B4D-CF19-42A5-ACFC-C6A5B1AF5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FD7A1-0C6A-424E-A8C5-21DCBB7CB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8160" y="1574280"/>
            <a:ext cx="401580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1120" y="347364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59967-D6C3-4394-8FCD-B232FA6D6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401580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8160" y="157428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8160" y="347364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A3E8B-4B63-4755-A484-794254ADA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8160" y="157428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1120" y="3473640"/>
            <a:ext cx="822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379F1-5302-4C58-B208-4D056F299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1120" y="1574280"/>
            <a:ext cx="822960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F532-E776-4008-97C2-D7F9A6FB3F1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03600" cy="25081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 txBox="1"/>
          <p:nvPr/>
        </p:nvSpPr>
        <p:spPr>
          <a:xfrm>
            <a:off x="301680" y="5938920"/>
            <a:ext cx="1292040" cy="565200"/>
          </a:xfrm>
          <a:prstGeom prst="rect">
            <a:avLst/>
          </a:prstGeom>
        </p:spPr>
        <p:txBody>
          <a:bodyPr wrap="none" lIns="91800" rIns="91800" anchor="ctr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ood 4 U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3E0A-46C0-4DEC-8263-058575746CF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429000" y="596880"/>
            <a:ext cx="5292720" cy="1479600"/>
          </a:xfrm>
          <a:prstGeom prst="rect">
            <a:avLst/>
          </a:prstGeom>
        </p:spPr>
        <p:txBody>
          <a:bodyPr wrap="none" lIns="91800" rIns="91800" anchor="ctr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ood 4 U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00280" y="2868120"/>
            <a:ext cx="7543800" cy="2377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lcome to our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w restaurant 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eautiful Miami Beac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27640" y="1041480"/>
            <a:ext cx="4246560" cy="2832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61936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92904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523872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54840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58080" y="5710320"/>
            <a:ext cx="123660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11240" y="2734200"/>
            <a:ext cx="7122960" cy="2980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Miami’s first truly health-conscious restauran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Low-fat and tasteful varieties to please the beachcomber appetit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20600" y="1066680"/>
            <a:ext cx="71298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908440" y="1305000"/>
            <a:ext cx="3271680" cy="41130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5707" t="14484" r="5765" b="11840"/>
          <a:stretch/>
        </p:blipFill>
        <p:spPr>
          <a:xfrm>
            <a:off x="3203640" y="1665360"/>
            <a:ext cx="2698560" cy="3406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20700000">
            <a:off x="3771720" y="4586040"/>
            <a:ext cx="3925800" cy="1295280"/>
          </a:xfrm>
          <a:custGeom>
            <a:avLst/>
            <a:gdLst>
              <a:gd name="textAreaLeft" fmla="*/ 896040 w 3925800"/>
              <a:gd name="textAreaRight" fmla="*/ 3029760 w 39258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Grand Opening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02:34:28Z</dcterms:created>
  <dc:creator>Pat R. Graves</dc:creator>
  <dc:description/>
  <dc:language>en-US</dc:language>
  <cp:lastModifiedBy>Pat Graves</cp:lastModifiedBy>
  <dcterms:modified xsi:type="dcterms:W3CDTF">2004-02-29T16:42:53Z</dcterms:modified>
  <cp:revision>22</cp:revision>
  <dc:subject/>
  <dc:title>Slide 1</dc:title>
</cp:coreProperties>
</file>