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8AF-5546-4918-888B-975B3410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F6C-1E9C-421E-BD09-C554FA1C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33D-BED9-441F-A63E-5F028641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134-C6AC-46DC-90E0-31F38225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89F2-5D87-4E3D-B171-34DD80D1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DBB-A6CE-496F-B592-F7BAEC2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C903-3B7B-4357-8C8D-2DB94B0E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C4FF-EE9E-4B6E-80B8-97A11DE2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DC91-C41D-430B-B553-F4D55209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7BD0-599F-42CE-89A3-EEA2A98E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5692-F057-450F-A48D-A4B9563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7E8-073D-4196-BEDA-5805D70E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A1A1-EE38-4A38-B2A1-3C09D09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78BE-7A84-4CFB-8B7C-4F41450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A86-A52A-4C6C-80ED-5341DEDE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8544-6D77-4AD4-ACA3-E16CA56F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5749-EA10-4F7A-A4CB-5CBF0478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9C8-0147-410A-AAAA-F5F259C6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1FC-EFE9-4C2C-8E23-C2355A3D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08A-E0DC-4380-B20D-EA4A7979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C94-2D55-423B-B026-BAE0918F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7DB-190F-4398-99E7-44EA01A1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4E5-B208-4732-8831-93103691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D67-5C13-4F7C-B315-608F5B47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8993-0E7E-4E79-9D8B-CA8119D2F8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4940-8742-4928-B72F-FA4F94C36C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15320" y="82440"/>
            <a:ext cx="115416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42960" y="2073240"/>
            <a:ext cx="648504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ttracting Investo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67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investors to establish Good 4 U as a franch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it the current business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re a marketing consulting fi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2235240"/>
            <a:ext cx="2987640" cy="2457360"/>
          </a:xfrm>
          <a:prstGeom prst="bevel">
            <a:avLst>
              <a:gd name="adj" fmla="val 637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vestors are our building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r Specialt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c fruit and vege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ju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ovative cuis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08240" y="1614600"/>
            <a:ext cx="233676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62520" y="1417680"/>
            <a:ext cx="3753000" cy="24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vestors Want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ro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el or storefr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with tourism, such as Miami or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b appe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8800" y="1743120"/>
            <a:ext cx="3584520" cy="476388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49960" y="1947960"/>
            <a:ext cx="3070080" cy="42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V="1">
            <a:off x="2478240" y="4510080"/>
            <a:ext cx="6356160" cy="170352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health-conscious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high-profil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traffic patterns in selected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700000">
            <a:off x="3447720" y="5587560"/>
            <a:ext cx="1279440" cy="426960"/>
          </a:xfrm>
          <a:prstGeom prst="rightArrow">
            <a:avLst>
              <a:gd name="adj1" fmla="val 50000"/>
              <a:gd name="adj2" fmla="val 749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700000">
            <a:off x="5059080" y="5149440"/>
            <a:ext cx="1279440" cy="426960"/>
          </a:xfrm>
          <a:prstGeom prst="rightArrow">
            <a:avLst>
              <a:gd name="adj1" fmla="val 50000"/>
              <a:gd name="adj2" fmla="val 749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700000">
            <a:off x="6670440" y="4711320"/>
            <a:ext cx="1279440" cy="426960"/>
          </a:xfrm>
          <a:prstGeom prst="rightArrow">
            <a:avLst>
              <a:gd name="adj1" fmla="val 50000"/>
              <a:gd name="adj2" fmla="val 749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Ms. Malnick</cp:lastModifiedBy>
  <cp:lastPrinted>1996-11-27T23:10:18Z</cp:lastPrinted>
  <dcterms:modified xsi:type="dcterms:W3CDTF">2004-04-02T19:53:18Z</dcterms:modified>
  <cp:revision>30</cp:revision>
  <dc:subject/>
  <dc:title>Attracting Investors</dc:title>
</cp:coreProperties>
</file>