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D2E-E494-4E5C-9E66-37669786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DE6-8368-477F-9AE8-26B8BAA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A46-5D05-40BC-BBF3-64157EF5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558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4840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636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558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4840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1E1-6769-4C64-A402-53A399E5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F791-2E36-4DFC-B4FD-9C25FBD2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DAF3-8E2B-4EDD-BE47-C9FD40C2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59C8-8F3E-4EB4-829B-2066FC22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9118-EF9C-4761-B411-8AE8AE4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CDD-5DCE-4045-85EA-2BF502E8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92360" y="228240"/>
            <a:ext cx="714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F862-0DCC-415C-A8DB-C288E22D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DDBF-5287-47D2-9464-ED908F3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4F0-C341-4092-B156-3A54B974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437-63E6-4E0A-AE72-DEA52096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589E-EDE6-4778-B7D9-5D3AC8E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AFD6-B4C0-44F1-B908-8D68C7BA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D6B5-8933-44C6-AB60-FA8431F7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558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840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636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558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840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ABC-171B-4F83-BDDF-D54F5EB6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6C5-7310-42C9-BF04-A40A40E3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925-1B3B-4E64-8CB4-A9947ADE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24C-39CA-4119-9235-433D4B3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2360" y="228240"/>
            <a:ext cx="714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92C-26E0-4777-B34D-D87C6F8E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3AA-888A-4BF9-A67A-B0D832B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852-EEE9-4C87-A080-CDD0A55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9A5-4220-4F59-9F38-3A513765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A8C-BA38-46EA-9EFB-7C9EEDD5D8F3}" type="slidenum">
              <a:rPr b="0" lang="en-US" sz="18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280" y="36360"/>
            <a:ext cx="1365480" cy="2707920"/>
            <a:chOff x="71280" y="36360"/>
            <a:chExt cx="1365480" cy="270792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1280" y="36360"/>
              <a:ext cx="1361880" cy="902520"/>
            </a:xfrm>
            <a:prstGeom prst="rect">
              <a:avLst/>
            </a:prstGeom>
            <a:ln w="76320">
              <a:solidFill>
                <a:srgbClr val="c64b00"/>
              </a:solidFill>
              <a:miter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1280" y="935280"/>
              <a:ext cx="1365480" cy="902520"/>
            </a:xfrm>
            <a:prstGeom prst="rect">
              <a:avLst/>
            </a:prstGeom>
            <a:ln w="76320">
              <a:solidFill>
                <a:srgbClr val="c64b00"/>
              </a:solidFill>
              <a:miter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71280" y="1841760"/>
              <a:ext cx="1365480" cy="902520"/>
            </a:xfrm>
            <a:prstGeom prst="rect">
              <a:avLst/>
            </a:prstGeom>
            <a:ln w="76320">
              <a:solidFill>
                <a:srgbClr val="c64b00"/>
              </a:solidFill>
              <a:miter/>
            </a:ln>
          </p:spPr>
        </p:pic>
      </p:grpSp>
      <p:sp>
        <p:nvSpPr>
          <p:cNvPr id="9" name=""/>
          <p:cNvSpPr/>
          <p:nvPr/>
        </p:nvSpPr>
        <p:spPr>
          <a:xfrm>
            <a:off x="1476360" y="1484280"/>
            <a:ext cx="7667640" cy="0"/>
          </a:xfrm>
          <a:prstGeom prst="line">
            <a:avLst/>
          </a:prstGeom>
          <a:ln w="76320">
            <a:solidFill>
              <a:srgbClr val="c64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71640" y="297000"/>
            <a:ext cx="46400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4b00"/>
                </a:solidFill>
                <a:latin typeface="Georgia"/>
              </a:rPr>
              <a:t>Click to edit the title text format</a:t>
            </a:r>
            <a:endParaRPr b="1" lang="en-US" sz="5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E476-8846-43D5-A037-2D3063808B74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46640" cy="2286000"/>
          </a:xfrm>
          <a:prstGeom prst="rect">
            <a:avLst/>
          </a:prstGeom>
          <a:ln w="76320">
            <a:solidFill>
              <a:srgbClr val="c64b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456000" cy="2286000"/>
          </a:xfrm>
          <a:prstGeom prst="rect">
            <a:avLst/>
          </a:prstGeom>
          <a:ln w="76320">
            <a:solidFill>
              <a:srgbClr val="c64b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3456000" cy="2286000"/>
          </a:xfrm>
          <a:prstGeom prst="rect">
            <a:avLst/>
          </a:prstGeom>
          <a:ln w="76320">
            <a:solidFill>
              <a:srgbClr val="c64b00"/>
            </a:solidFill>
            <a:miter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71640" y="297000"/>
            <a:ext cx="46400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4b00"/>
                </a:solidFill>
                <a:latin typeface="Georgia"/>
              </a:rPr>
              <a:t>New Employee Orientation</a:t>
            </a:r>
            <a:endParaRPr b="1" lang="en-US" sz="5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43280" y="3753000"/>
            <a:ext cx="36720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w Hires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urrent Dat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20476800">
            <a:off x="7305480" y="6106680"/>
            <a:ext cx="18032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Agenda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elcom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y History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y Vision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o’s Who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History of Company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intention of Good 4 U is to establish itself as a franchis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ood 4 U has been in business for three years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food at Good 4 U is low-fat, but not vegetarian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Who’s Who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Julie Wolfe and Gus Irvinelli are co-owners of the restaurant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ichele Jenkins is the head chef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Roy Olafsen is the marketing manager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Summary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ood 4 U is growing rapidly with our new franchising philosophy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Our healthy living message has worldwide appea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e are relying on you, our new employees, to help us grow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32000" y="2492280"/>
            <a:ext cx="568800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Welcome to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Good 4 U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aves</dc:creator>
  <dc:description/>
  <dc:language>en-US</dc:language>
  <cp:lastModifiedBy>Student Name</cp:lastModifiedBy>
  <cp:lastPrinted>1996-12-06T20:40:08Z</cp:lastPrinted>
  <dcterms:modified xsi:type="dcterms:W3CDTF">2004-04-11T20:04:07Z</dcterms:modified>
  <cp:revision>33</cp:revision>
  <dc:subject/>
  <dc:title>New Employee Orientation</dc:title>
</cp:coreProperties>
</file>