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EF0A-AF82-428A-A17B-B037C8FC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DCEA-4C13-4BE1-B526-CE62CFF3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3740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3740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EAB8-C5A1-4022-BB03-E9ED2D45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312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4852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312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4852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B551-006B-4FE7-986D-61B9E0CB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30AB-6F40-4966-9011-D52D2F43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3772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F5DF-F4E4-4FC6-A574-0E746087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7F35-455B-40EE-90AA-445D04F9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740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0426-29EF-475B-B63C-95A7A336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24FA-74AD-4F9C-A484-092BC600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772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3306-C41D-4F6F-8E4C-B433C796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740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77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0DEF-1986-4DBE-8A2D-9142D585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EA18-2C9D-49BC-A0B0-B68B9F9B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3740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3740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CB97-6B4E-4E56-B4FC-7DE18304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740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772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801A-A7A2-4376-B6AE-1F17E44D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3772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2F8F-D2AB-4E5E-A12F-BF54ACA6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740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77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93740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59AC-39F0-4AFD-AF4D-D297632A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4312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4852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3772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4312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4852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5812-9D1F-4C0D-89A3-8144D2D6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D4F6-3C35-4478-A482-E17BF2BA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740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20D0-8EBD-4AD3-BC55-8FCCFF88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904E-2513-4673-A96D-008C1432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83772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DF3B-8858-44B7-B042-06FEFEB8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740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9D0E-A8C0-43B5-B1A2-7D661356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740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3740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31B7-1D41-4672-9274-8B036478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740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677D-EC51-4AD0-A3DA-AFF56F11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6a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6a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6a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6a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a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B5B7-F924-4E23-9DDA-432011A8157B}" type="slidenum">
              <a:rPr b="0" lang="en-US" sz="1000" spc="-1" strike="noStrike">
                <a:solidFill>
                  <a:srgbClr val="6a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8584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12920" y="135000"/>
            <a:ext cx="873108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9680" y="135000"/>
            <a:ext cx="137880" cy="1411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47560" y="0"/>
            <a:ext cx="139680" cy="1382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47560" y="135000"/>
            <a:ext cx="139680" cy="1411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74680" y="274680"/>
            <a:ext cx="136440" cy="1382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31760" y="136440"/>
            <a:ext cx="141120" cy="138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09680" y="271440"/>
            <a:ext cx="137880" cy="1382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274680" y="409680"/>
            <a:ext cx="136440" cy="1364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a0000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a0000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a0000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a0000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a0000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6a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a0000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6a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a0000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6a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6a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6a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6a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a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A44B-C548-4B3D-BA5D-BC5A46B25B0D}" type="slidenum">
              <a:rPr b="0" lang="en-US" sz="1000" spc="-1" strike="noStrike">
                <a:solidFill>
                  <a:srgbClr val="6a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3120" y="3583080"/>
            <a:ext cx="576360" cy="64116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16120" y="1690560"/>
            <a:ext cx="574560" cy="6429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1320" y="1066680"/>
            <a:ext cx="585720" cy="6350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1560" y="3583080"/>
            <a:ext cx="583920" cy="6411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1320" y="1690560"/>
            <a:ext cx="585720" cy="64296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1560" y="2324160"/>
            <a:ext cx="583920" cy="6332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324160"/>
            <a:ext cx="582480" cy="633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16120" y="2324160"/>
            <a:ext cx="574560" cy="6332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3120" y="2948040"/>
            <a:ext cx="576360" cy="6444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1560" y="2948040"/>
            <a:ext cx="583920" cy="6444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a0000"/>
              </a:solidFill>
              <a:latin typeface="Arial Narrow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0000"/>
                </a:solidFill>
                <a:latin typeface="Arial Narrow"/>
              </a:rPr>
              <a:t>Second Outline Level</a:t>
            </a:r>
            <a:endParaRPr b="1" lang="en-US" sz="2000" spc="-1" strike="noStrike">
              <a:solidFill>
                <a:srgbClr val="6a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6a0000"/>
              </a:solidFill>
              <a:latin typeface="Arial Narrow"/>
            </a:endParaRPr>
          </a:p>
          <a:p>
            <a:pPr lvl="3" marL="1371600" algn="ctr">
              <a:spcBef>
                <a:spcPts val="451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0000"/>
                </a:solidFill>
                <a:latin typeface="Arial Narrow"/>
              </a:rPr>
              <a:t>Fourth Outline Level</a:t>
            </a:r>
            <a:endParaRPr b="1" lang="en-US" sz="1800" spc="-1" strike="noStrike">
              <a:solidFill>
                <a:srgbClr val="6a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0000"/>
                </a:solidFill>
                <a:latin typeface="Arial Narrow"/>
              </a:rPr>
              <a:t>Fifth Outline Level</a:t>
            </a:r>
            <a:endParaRPr b="1" lang="en-US" sz="2000" spc="-1" strike="noStrike">
              <a:solidFill>
                <a:srgbClr val="6a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6a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0000"/>
                </a:solidFill>
                <a:latin typeface="Arial Narrow"/>
              </a:rPr>
              <a:t>Sixth Outline Level</a:t>
            </a:r>
            <a:endParaRPr b="1" lang="en-US" sz="2000" spc="-1" strike="noStrike">
              <a:solidFill>
                <a:srgbClr val="6a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6a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0000"/>
                </a:solidFill>
                <a:latin typeface="Arial Narrow"/>
              </a:rPr>
              <a:t>Seventh Outline Level</a:t>
            </a:r>
            <a:endParaRPr b="1" lang="en-US" sz="2000" spc="-1" strike="noStrike">
              <a:solidFill>
                <a:srgbClr val="6a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Sales Analysi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0000"/>
                </a:solidFill>
                <a:latin typeface="Arial Narrow"/>
              </a:rPr>
              <a:t>Good 4 U</a:t>
            </a:r>
            <a:br>
              <a:rPr sz="3600"/>
            </a:br>
            <a:r>
              <a:rPr b="0" lang="en-US" sz="3600" spc="-1" strike="noStrike">
                <a:solidFill>
                  <a:srgbClr val="6a0000"/>
                </a:solidFill>
                <a:latin typeface="Arial Narrow"/>
              </a:rPr>
              <a:t>Franchise Training</a:t>
            </a:r>
            <a:endParaRPr b="0" lang="en-US" sz="3600" spc="-1" strike="noStrike">
              <a:solidFill>
                <a:srgbClr val="6a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0000"/>
                </a:solidFill>
                <a:latin typeface="Arial Black"/>
              </a:rPr>
              <a:t>Sales Strategy</a:t>
            </a: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4648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a0000"/>
                </a:solidFill>
                <a:latin typeface="Arial Narrow"/>
              </a:rPr>
              <a:t>Targeting health-conscious individuals</a:t>
            </a:r>
            <a:endParaRPr b="1" lang="en-US" sz="3400" spc="-1" strike="noStrike">
              <a:solidFill>
                <a:srgbClr val="6a0000"/>
              </a:solidFill>
              <a:latin typeface="Arial Narrow"/>
            </a:endParaRPr>
          </a:p>
          <a:p>
            <a:pPr marL="343080" indent="-343080">
              <a:spcBef>
                <a:spcPts val="8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a0000"/>
                </a:solidFill>
                <a:latin typeface="Arial Narrow"/>
              </a:rPr>
              <a:t>Offering low-fat menu options</a:t>
            </a:r>
            <a:endParaRPr b="1" lang="en-US" sz="3400" spc="-1" strike="noStrike">
              <a:solidFill>
                <a:srgbClr val="6a0000"/>
              </a:solidFill>
              <a:latin typeface="Arial Narrow"/>
            </a:endParaRPr>
          </a:p>
          <a:p>
            <a:pPr marL="343080" indent="-343080">
              <a:spcBef>
                <a:spcPts val="8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a0000"/>
                </a:solidFill>
                <a:latin typeface="Arial Narrow"/>
              </a:rPr>
              <a:t>Asset to the local community with employee volunteers</a:t>
            </a:r>
            <a:endParaRPr b="1" lang="en-US" sz="3400" spc="-1" strike="noStrike">
              <a:solidFill>
                <a:srgbClr val="6a0000"/>
              </a:solidFill>
              <a:latin typeface="Arial Narrow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19640" y="2529000"/>
            <a:ext cx="356256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0000"/>
                </a:solidFill>
                <a:latin typeface="Arial Black"/>
              </a:rPr>
              <a:t>Tipping Sales</a:t>
            </a:r>
            <a:br>
              <a:rPr sz="4000"/>
            </a:br>
            <a:r>
              <a:rPr b="0" lang="en-US" sz="4000" spc="-1" strike="noStrike">
                <a:solidFill>
                  <a:srgbClr val="6a0000"/>
                </a:solidFill>
                <a:latin typeface="Arial Black"/>
              </a:rPr>
              <a:t>To Your Advantage</a:t>
            </a:r>
            <a:endParaRPr b="0" lang="en-US" sz="40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912960" y="4113360"/>
            <a:ext cx="7313400" cy="685800"/>
          </a:xfrm>
          <a:prstGeom prst="rect">
            <a:avLst/>
          </a:prstGeom>
          <a:solidFill>
            <a:srgbClr val="cc3300"/>
          </a:solidFill>
          <a:ln w="28440">
            <a:solidFill>
              <a:srgbClr val="6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Perfect Planning Requires Balance</a:t>
            </a:r>
            <a:endParaRPr b="0" lang="en-US" sz="36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27280" y="4834080"/>
            <a:ext cx="1729080" cy="1584360"/>
          </a:xfrm>
          <a:prstGeom prst="triangle">
            <a:avLst>
              <a:gd name="adj" fmla="val 50000"/>
            </a:avLst>
          </a:prstGeom>
          <a:solidFill>
            <a:srgbClr val="cc3300"/>
          </a:solidFill>
          <a:ln w="28440">
            <a:solidFill>
              <a:srgbClr val="6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63640" y="2924280"/>
            <a:ext cx="1189080" cy="1189080"/>
          </a:xfrm>
          <a:prstGeom prst="ellipse">
            <a:avLst/>
          </a:prstGeom>
          <a:solidFill>
            <a:srgbClr val="cc3300"/>
          </a:solidFill>
          <a:ln w="28440">
            <a:solidFill>
              <a:srgbClr val="6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2924280"/>
            <a:ext cx="1189080" cy="1189080"/>
          </a:xfrm>
          <a:prstGeom prst="ellipse">
            <a:avLst/>
          </a:prstGeom>
          <a:solidFill>
            <a:srgbClr val="cc3300"/>
          </a:solidFill>
          <a:ln w="28440">
            <a:solidFill>
              <a:srgbClr val="6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63640" y="2168640"/>
            <a:ext cx="7308720" cy="0"/>
          </a:xfrm>
          <a:prstGeom prst="line">
            <a:avLst/>
          </a:prstGeom>
          <a:ln w="28440">
            <a:solidFill>
              <a:srgbClr val="6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6-2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0D3F-81E0-4EAA-B37A-3229BD133D6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D9879-D7AB-4A09-B7DA-D74AF48F65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0000"/>
                </a:solidFill>
                <a:latin typeface="Arial Black"/>
              </a:rPr>
              <a:t>Annual Predicted Sales</a:t>
            </a: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444840" y="1978200"/>
          <a:ext cx="5119560" cy="41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4840" y="1978200"/>
                    <a:ext cx="5119560" cy="41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2666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8T22:42:14Z</dcterms:created>
  <dc:creator>Pat R. Graves</dc:creator>
  <dc:description/>
  <dc:language>en-US</dc:language>
  <cp:lastModifiedBy>Pat Graves</cp:lastModifiedBy>
  <dcterms:modified xsi:type="dcterms:W3CDTF">2004-02-29T17:21:36Z</dcterms:modified>
  <cp:revision>11</cp:revision>
  <dc:subject/>
  <dc:title>Sales Analysis</dc:title>
</cp:coreProperties>
</file>