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680-4D77-4F89-803F-F2D5D2D7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3A8-800A-4550-9FC4-5560C09E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D7C-18E4-42AB-A975-6D0C0469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FDD-7F0A-4672-8ADF-AC17FCCC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5BAD-8597-4900-AAA5-97516B24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FBA9-3416-405E-9B62-4B9EBFD3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1238-7A00-450F-AA3E-1E9CB0A9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99F3-8A4D-4808-B97A-04F19D33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BAAA-1A41-4D1D-B768-56F7B242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33D6-68D6-42A7-95AE-A3C2189A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5F2B-7205-47C6-9260-4F6EB9E4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464-27DE-4C56-9D1F-779645F2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FFB5-0C24-4F65-9DC5-DF964AA7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51B3-AF4A-4057-8531-66EFCADB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4770-D2EF-47C3-969C-7306D30F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4D65-7DC6-45F0-9D6F-E0EDEA7D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E6DE-9EAB-49F4-A665-9832BBB0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753-C065-4687-A91B-9E80F2EF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12D-7998-48CD-8428-0C23ABD1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E78-4F4E-42C2-ADF9-F3DAEEE2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699D-6F6C-435D-9D4C-61F5BCCE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D9F-7CDF-4BFF-9145-89A420D1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BD4-6184-46D9-B160-1B9CCE5E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1C9-4BCD-4F69-AC8A-AFFECBA5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4CB6-07E6-413D-9BAE-3991E3B466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3480" y="620640"/>
            <a:ext cx="77947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65BB-8FB1-4A95-AD01-690D24CB01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44680" y="5554800"/>
            <a:ext cx="1482480" cy="610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3480" y="620640"/>
            <a:ext cx="77947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  <a:ea typeface="SimSun"/>
              </a:rPr>
              <a:t>Franchise Owners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724000" y="2448000"/>
            <a:ext cx="326412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Annual Meet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38360" y="3092400"/>
            <a:ext cx="5749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SimSun"/>
              </a:rPr>
              <a:t>Good 4 U Menu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Good 4 U Veggie Bur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Simply Good Shrimp Sal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Good Fruit Comb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Andre’s Lemon Dill Chick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 rot="20392800">
            <a:off x="3754440" y="4668480"/>
            <a:ext cx="423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Verdana"/>
              </a:rPr>
              <a:t>Low fat, low carb selec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SimSun"/>
              </a:rPr>
              <a:t>Franchise Recognition Program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Use the finest quality ingredi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Recognize crea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Encourage safety in all areas of op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Create a healthy and fun atmosphere for guests and staf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SimSun"/>
              </a:rPr>
              <a:t>Promoting Excellenc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1720800" y="2244600"/>
            <a:ext cx="5854680" cy="3154320"/>
          </a:xfrm>
          <a:custGeom>
            <a:avLst/>
            <a:gdLst>
              <a:gd name="textAreaLeft" fmla="*/ 1336320 w 5854680"/>
              <a:gd name="textAreaRight" fmla="*/ 4518360 w 5854680"/>
              <a:gd name="textAreaTop" fmla="*/ 720000 h 3154320"/>
              <a:gd name="textAreaBottom" fmla="*/ 2434320 h 3154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Good 4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al of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23:48:09Z</dcterms:created>
  <dc:creator>Pat Graves</dc:creator>
  <dc:description/>
  <dc:language>en-US</dc:language>
  <cp:lastModifiedBy>Pat Graves</cp:lastModifiedBy>
  <dcterms:modified xsi:type="dcterms:W3CDTF">2004-03-01T02:10:40Z</dcterms:modified>
  <cp:revision>3</cp:revision>
  <dc:subject/>
  <dc:title>Franchise Owners</dc:title>
</cp:coreProperties>
</file>