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FA7-F165-41CE-8D24-9DA833CD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83E-6FFB-429C-A1DF-44C18A1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66A-F059-4C6A-9B82-379D0F87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253-5329-4D04-B1CA-DD091DD5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948A-5A4C-496B-BB2F-5A64AD34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C8C5-7C65-4199-8FB4-DD0490B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170-6602-40D3-8B16-20D6770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F1E-68C8-49FC-83C0-40385D7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E585-12AD-4B91-8F23-C6D6BA8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B0BD-CD3C-408A-B2E6-6258E45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0E2-8DDA-4164-97D0-8494433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A6C-6511-48B6-9BCB-71CE393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4295-324C-455E-B8BB-6FBB0A2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EDBC-98BD-4F51-9E62-E491AA4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3F5-B914-49AA-AAB2-09C47A4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4DD-62E2-4775-A72C-04E4D34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D9D9-8932-4EF3-BEAE-3BA39CCD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AC1-6BF9-4B75-AE12-D9572506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923-5478-4CF7-BA4D-E3ABA43A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7E7-F1F8-449B-A270-23B42E2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983-3C57-4BE6-95B7-A8AE4E7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A1A-4E01-45E7-BF02-03DBADE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2F3-563E-45AC-9C4A-D0B8445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381-F6C3-4FAB-951D-1D2BAEA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83560" y="1592280"/>
            <a:ext cx="1828800" cy="18252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76520"/>
            <a:ext cx="8305920" cy="0"/>
          </a:xfrm>
          <a:prstGeom prst="line">
            <a:avLst/>
          </a:prstGeom>
          <a:ln w="190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BE5-F587-4CB5-ADB2-50B287705EA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2944-EF24-405B-9A64-C157A9497B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05320"/>
            <a:ext cx="7772400" cy="2438280"/>
          </a:xfrm>
          <a:prstGeom prst="rect">
            <a:avLst/>
          </a:prstGeom>
          <a:solidFill>
            <a:srgbClr val="891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8240" y="3733920"/>
            <a:ext cx="76485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6668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42CF-A672-403D-BFAF-51565090326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504960" y="63849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800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C1B1-6751-4FB5-B127-D0B9C9525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90720" cy="0"/>
          </a:xfrm>
          <a:prstGeom prst="line">
            <a:avLst/>
          </a:prstGeom>
          <a:ln w="507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3720" y="533520"/>
            <a:ext cx="2438640" cy="30456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685800"/>
            <a:ext cx="807732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48040" y="5002200"/>
            <a:ext cx="1984320" cy="817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Franchise Training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les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ing health-conscious individu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ing low-fat menu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 to the local community with employee volunte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1881360"/>
            <a:ext cx="3683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nual Predicted S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6000" y="1990800"/>
          <a:ext cx="659124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990800"/>
                    <a:ext cx="65912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20106000">
            <a:off x="5219640" y="2909880"/>
            <a:ext cx="1695600" cy="303120"/>
          </a:xfrm>
          <a:prstGeom prst="leftArrow">
            <a:avLst>
              <a:gd name="adj1" fmla="val 50000"/>
              <a:gd name="adj2" fmla="val 139846"/>
            </a:avLst>
          </a:prstGeom>
          <a:solidFill>
            <a:srgbClr val="a0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313000"/>
            <a:ext cx="19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Angeles division sales expected to double in the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Food and Good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914400" y="2097000"/>
            <a:ext cx="3656160" cy="2475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65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mission is to provide good healthy food and good healthy f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franchise training is designed to help you meet these go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4761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finest produ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r Staf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 Irvinelli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ie Wolfe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y Olafsen, Market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elle Jenkins, Head Ch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uck Warden, MIS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Suzi Marabella, Train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260280"/>
            <a:ext cx="3384720" cy="3216240"/>
          </a:xfrm>
          <a:prstGeom prst="star5">
            <a:avLst/>
          </a:prstGeom>
          <a:solidFill>
            <a:srgbClr val="a0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6-12-06T01:33:42Z</cp:lastPrinted>
  <dcterms:modified xsi:type="dcterms:W3CDTF">2004-02-29T19:59:25Z</dcterms:modified>
  <cp:revision>45</cp:revision>
  <dc:subject/>
  <dc:title>Good 4 U Franchise Training</dc:title>
</cp:coreProperties>
</file>