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E861-36C9-4BF2-A8B1-D56EB5337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E550-7746-4A85-B4F0-587D0A5B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3A22-6E49-4ADF-BD97-857870104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2CBF-312E-4069-9A81-7FB7FE0EB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9EC0-166B-42E7-9E1F-1ECAA6DEA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B631-93A0-45A5-959B-A0BB7A6B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2DD72-DBD8-4EE5-B9E1-337A6706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9B592-88C6-44D9-8BAD-64211C6C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DB28-CE00-4DD1-95C2-DBA92352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F1E68-C07F-4AFB-8C87-D562D889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7F21C-DE14-494E-A575-D3814F52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45AF-F065-42B2-8794-E1882DA3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3075F-EF5D-42FD-86A7-6A913155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6AADE-6DD1-4FC2-8E01-A004538C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FA32-5620-4B5D-8CE5-28ECAD8A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CE29C-D040-4695-BBBA-2B443A0F2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A628-8510-4799-80D4-6719147A5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4136-20D1-4D3B-9E42-D8C6A4AC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5D99-E6FF-49DE-9F2A-3EBEB9C9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F85A-D29F-4BF9-98F0-7F30B2EC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3063-FF79-46D1-9105-D360C39D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6230-7BF7-4C7A-91AD-D2F587F9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586B-D7E5-478C-943B-721EF427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DD0C-CEF2-4544-B698-FD7EAF9E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66B2-B5C0-4DCE-9370-F12FBBB481B7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58D1-9D51-4A2F-BAA1-60D44797F94E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00280" y="2868120"/>
            <a:ext cx="7543800" cy="2377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457200" bIns="4572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lcome to our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new restaurant in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eautiful Miami Beach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11240" y="2734200"/>
            <a:ext cx="7122960" cy="2980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457200" bIns="4572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Miami’s first truly health-conscious restaurant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Low-fat and tasteful varieties to please the beachcomber appetite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835280" y="1628640"/>
            <a:ext cx="5473440" cy="3637080"/>
          </a:xfrm>
          <a:prstGeom prst="rect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36720" y="3392640"/>
            <a:ext cx="5472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35280" y="2960640"/>
            <a:ext cx="54734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35280" y="2529000"/>
            <a:ext cx="54007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35280" y="2097000"/>
            <a:ext cx="54007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35280" y="3824280"/>
            <a:ext cx="550836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71640" y="4329000"/>
            <a:ext cx="536436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5280" y="4797360"/>
            <a:ext cx="54370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47640" y="-360"/>
            <a:ext cx="0" cy="61657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47640" y="0"/>
            <a:ext cx="1660680" cy="62006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47640" y="0"/>
            <a:ext cx="3579840" cy="62006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47640" y="-28800"/>
            <a:ext cx="6229440" cy="62290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11280" y="1274400"/>
            <a:ext cx="8532720" cy="49258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47640" y="3879720"/>
            <a:ext cx="8532720" cy="22860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9440" y="6200640"/>
            <a:ext cx="84596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63640" y="1844640"/>
            <a:ext cx="1600200" cy="1600200"/>
          </a:xfrm>
          <a:prstGeom prst="rect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475000" y="1305000"/>
            <a:ext cx="4113000" cy="4113000"/>
          </a:xfrm>
          <a:prstGeom prst="rect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20700000">
            <a:off x="4032000" y="4652640"/>
            <a:ext cx="3925800" cy="1295280"/>
          </a:xfrm>
          <a:custGeom>
            <a:avLst/>
            <a:gdLst>
              <a:gd name="textAreaLeft" fmla="*/ 896040 w 3925800"/>
              <a:gd name="textAreaRight" fmla="*/ 3029760 w 39258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Grand Opening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448000" y="1305000"/>
            <a:ext cx="4113000" cy="4113000"/>
          </a:xfrm>
          <a:prstGeom prst="rect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32720" y="368280"/>
            <a:ext cx="755640" cy="71748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08720" y="368280"/>
            <a:ext cx="934920" cy="88920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03640" y="512640"/>
            <a:ext cx="1008360" cy="95904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19640" y="1484280"/>
            <a:ext cx="1152720" cy="109548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0000" y="1881360"/>
            <a:ext cx="1081080" cy="102708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24360" y="2924280"/>
            <a:ext cx="1656000" cy="157320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43280" y="4041720"/>
            <a:ext cx="1189080" cy="113040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42920" y="2960640"/>
            <a:ext cx="1584360" cy="150660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932360" y="4581360"/>
            <a:ext cx="1547640" cy="147168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2708280"/>
            <a:ext cx="1224000" cy="116352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84360" y="1015920"/>
            <a:ext cx="1582560" cy="150516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95640" y="476280"/>
            <a:ext cx="1692360" cy="160812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3640" y="2060640"/>
            <a:ext cx="1908000" cy="181296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63640" y="4545000"/>
            <a:ext cx="1979640" cy="188136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96000" y="4724280"/>
            <a:ext cx="1800360" cy="171144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59640" y="1376280"/>
            <a:ext cx="504720" cy="47952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04000" y="2852640"/>
            <a:ext cx="900000" cy="85572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84720" y="2852640"/>
            <a:ext cx="1044360" cy="99216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113360"/>
            <a:ext cx="1511280" cy="143640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35280" y="5121360"/>
            <a:ext cx="1333440" cy="126684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Miami Pictur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25760" y="3141720"/>
            <a:ext cx="1825560" cy="13795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516320" y="4735080"/>
            <a:ext cx="204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each scen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788000" y="2057400"/>
            <a:ext cx="2830320" cy="2643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424120" y="4735080"/>
            <a:ext cx="155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lm tre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4T02:34:28Z</dcterms:created>
  <dc:creator>Pat R. Graves</dc:creator>
  <dc:description/>
  <dc:language>en-US</dc:language>
  <cp:lastModifiedBy>Pat Graves</cp:lastModifiedBy>
  <dcterms:modified xsi:type="dcterms:W3CDTF">2004-02-29T04:38:35Z</dcterms:modified>
  <cp:revision>14</cp:revision>
  <dc:subject/>
  <dc:title>Slide 1</dc:title>
</cp:coreProperties>
</file>