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wmf" ContentType="image/x-wmf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318FB-AAF3-4C1E-80D3-28005F929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B7DA5-9A28-420C-84B5-C6D58DDB6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043A1-6814-4FDC-977E-192CB97A6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D9157-42C9-4361-B538-A167B0408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35118-44CA-4164-A430-ED9E6EF03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AF10B-9055-4DC0-A9CB-7312ED9A8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75876-2CFF-4CAE-ADD1-954100843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4E4BB-4E9E-48EC-9382-F8E2A9299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46725-74FE-43A1-834E-1EAF87BAA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86A82-843D-4C47-8226-0D08A2B27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712F1-B8AC-4A21-A777-7384C571D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6857C-F38D-410E-A5F8-31E1F86DD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66104-3047-4A02-AB46-2F2E9DABA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7AA58-DECB-46F6-8F2B-1A0C3B2F4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D8E4F-1AF8-49E4-A871-AF742EE0E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E5BA8-1DC6-4B16-947B-5F7137212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67D8F-4055-4AA3-A40A-50653F3C9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26F83-6694-491C-8FBC-60F010711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5C5AA-8159-487B-B495-7E53AA6DD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14F8F-A523-4B6A-BFEA-3C0A4D780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59E49-9467-4138-BF2D-D14F5439F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83E0E-F0BD-44DF-8770-636518766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B7580-4AB5-404B-8D1C-4E2492F74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49DB0-38EC-41C3-9EAB-3E3B3D7C2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69d4"/>
            </a:gs>
            <a:gs pos="100000">
              <a:srgbClr val="e3eef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6FE67-C4E8-4BDE-953B-7F5F69406726}" type="slidenum">
              <a:rPr b="0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703600" cy="2508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69d4"/>
            </a:gs>
            <a:gs pos="100000">
              <a:srgbClr val="e3eef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A0413-C231-40B2-B91E-F78F7BCD9839}" type="slidenum">
              <a:rPr b="0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69d4"/>
            </a:gs>
            <a:gs pos="100000">
              <a:srgbClr val="e3eef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800280" y="2868120"/>
            <a:ext cx="7543800" cy="237708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0" rIns="457200" tIns="457200" bIns="4572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Welcome to our</a:t>
            </a:r>
            <a:br>
              <a:rPr sz="3200"/>
            </a:b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new restaurant in </a:t>
            </a:r>
            <a:br>
              <a:rPr sz="3200"/>
            </a:b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beautiful Miami Beach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4427640" y="1041480"/>
            <a:ext cx="4246560" cy="28321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0" y="5710320"/>
            <a:ext cx="1236600" cy="11476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1309680" y="5710320"/>
            <a:ext cx="1236600" cy="11476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2619360" y="5710320"/>
            <a:ext cx="1236600" cy="114768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5"/>
          <a:stretch/>
        </p:blipFill>
        <p:spPr>
          <a:xfrm>
            <a:off x="3929040" y="5710320"/>
            <a:ext cx="1236600" cy="11476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6"/>
          <a:stretch/>
        </p:blipFill>
        <p:spPr>
          <a:xfrm>
            <a:off x="5238720" y="5710320"/>
            <a:ext cx="1236600" cy="11476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7"/>
          <a:stretch/>
        </p:blipFill>
        <p:spPr>
          <a:xfrm>
            <a:off x="6548400" y="5710320"/>
            <a:ext cx="1236600" cy="11476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8"/>
          <a:stretch/>
        </p:blipFill>
        <p:spPr>
          <a:xfrm>
            <a:off x="7858080" y="5710320"/>
            <a:ext cx="1236600" cy="114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69d4"/>
            </a:gs>
            <a:gs pos="100000">
              <a:srgbClr val="e3eef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011240" y="2734200"/>
            <a:ext cx="7122960" cy="298008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0" rIns="457200" tIns="457200" bIns="457200" anchor="ctr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Miami’s first truly health-conscious restaurant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Low-fat and tasteful varieties to please the beachcomber appetite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020600" y="1066680"/>
            <a:ext cx="7129800" cy="17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69d4"/>
            </a:gs>
            <a:gs pos="100000">
              <a:srgbClr val="e3eef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835280" y="1628640"/>
            <a:ext cx="5473440" cy="3637080"/>
          </a:xfrm>
          <a:prstGeom prst="rect">
            <a:avLst/>
          </a:prstGeom>
          <a:solidFill>
            <a:srgbClr val="fffff7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836720" y="3392640"/>
            <a:ext cx="5472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 anchorCtr="1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835280" y="2960640"/>
            <a:ext cx="547344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 anchorCtr="1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35280" y="2529000"/>
            <a:ext cx="540072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 anchorCtr="1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835280" y="2097000"/>
            <a:ext cx="540072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 anchorCtr="1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835280" y="3824280"/>
            <a:ext cx="550836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 anchorCtr="1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871640" y="4329000"/>
            <a:ext cx="536436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 anchorCtr="1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835280" y="4797360"/>
            <a:ext cx="543708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 anchorCtr="1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647640" y="-360"/>
            <a:ext cx="0" cy="616572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 anchorCtr="1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647640" y="0"/>
            <a:ext cx="1660680" cy="620064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 anchorCtr="1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647640" y="0"/>
            <a:ext cx="3579840" cy="620064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 anchorCtr="1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647640" y="-28800"/>
            <a:ext cx="6229440" cy="622908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 anchorCtr="1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611280" y="1274400"/>
            <a:ext cx="8532720" cy="492588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 anchorCtr="1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647640" y="3879720"/>
            <a:ext cx="8532720" cy="228600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 anchorCtr="1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49440" y="6200640"/>
            <a:ext cx="845964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 anchorCtr="1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69d4"/>
            </a:gs>
            <a:gs pos="100000">
              <a:srgbClr val="e3eef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863640" y="1844640"/>
            <a:ext cx="1600200" cy="1600200"/>
          </a:xfrm>
          <a:prstGeom prst="rect">
            <a:avLst/>
          </a:prstGeom>
          <a:solidFill>
            <a:srgbClr val="fffff7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69d4"/>
            </a:gs>
            <a:gs pos="100000">
              <a:srgbClr val="e3eef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2908440" y="1305000"/>
            <a:ext cx="3271680" cy="4113000"/>
          </a:xfrm>
          <a:prstGeom prst="rect">
            <a:avLst/>
          </a:prstGeom>
          <a:solidFill>
            <a:srgbClr val="fffff7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rot="20700000">
            <a:off x="4584240" y="4967280"/>
            <a:ext cx="3926160" cy="1295280"/>
          </a:xfrm>
          <a:custGeom>
            <a:avLst/>
            <a:gdLst>
              <a:gd name="textAreaLeft" fmla="*/ 896040 w 3926160"/>
              <a:gd name="textAreaRight" fmla="*/ 3030120 w 3926160"/>
              <a:gd name="textAreaTop" fmla="*/ 295560 h 1295280"/>
              <a:gd name="textAreaBottom" fmla="*/ 99972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7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Grand Opening!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3213000" y="1509840"/>
            <a:ext cx="2532240" cy="36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69d4"/>
            </a:gs>
            <a:gs pos="100000">
              <a:srgbClr val="e3eef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2448000" y="1305000"/>
            <a:ext cx="4113000" cy="4113000"/>
          </a:xfrm>
          <a:prstGeom prst="rect">
            <a:avLst/>
          </a:prstGeom>
          <a:solidFill>
            <a:srgbClr val="fffff7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632720" y="368280"/>
            <a:ext cx="755640" cy="717480"/>
          </a:xfrm>
          <a:prstGeom prst="star5">
            <a:avLst/>
          </a:prstGeom>
          <a:solidFill>
            <a:srgbClr val="fffff7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408720" y="368280"/>
            <a:ext cx="934920" cy="889200"/>
          </a:xfrm>
          <a:prstGeom prst="star5">
            <a:avLst/>
          </a:prstGeom>
          <a:solidFill>
            <a:srgbClr val="fffff7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003640" y="512640"/>
            <a:ext cx="1008360" cy="959040"/>
          </a:xfrm>
          <a:prstGeom prst="star5">
            <a:avLst/>
          </a:prstGeom>
          <a:solidFill>
            <a:srgbClr val="fffff7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119640" y="1484280"/>
            <a:ext cx="1152720" cy="1095480"/>
          </a:xfrm>
          <a:prstGeom prst="star5">
            <a:avLst/>
          </a:prstGeom>
          <a:solidFill>
            <a:srgbClr val="fffff7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680000" y="1881360"/>
            <a:ext cx="1081080" cy="1027080"/>
          </a:xfrm>
          <a:prstGeom prst="star5">
            <a:avLst/>
          </a:prstGeom>
          <a:solidFill>
            <a:srgbClr val="fffff7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724360" y="2924280"/>
            <a:ext cx="1656000" cy="1573200"/>
          </a:xfrm>
          <a:prstGeom prst="star5">
            <a:avLst/>
          </a:prstGeom>
          <a:solidFill>
            <a:srgbClr val="fffff7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743280" y="4041720"/>
            <a:ext cx="1189080" cy="1130400"/>
          </a:xfrm>
          <a:prstGeom prst="star5">
            <a:avLst/>
          </a:prstGeom>
          <a:solidFill>
            <a:srgbClr val="fffff7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042920" y="2960640"/>
            <a:ext cx="1584360" cy="1506600"/>
          </a:xfrm>
          <a:prstGeom prst="star5">
            <a:avLst/>
          </a:prstGeom>
          <a:solidFill>
            <a:srgbClr val="fffff7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932360" y="4581360"/>
            <a:ext cx="1547640" cy="1471680"/>
          </a:xfrm>
          <a:prstGeom prst="star5">
            <a:avLst/>
          </a:prstGeom>
          <a:solidFill>
            <a:srgbClr val="fffff7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908000" y="2708280"/>
            <a:ext cx="1224000" cy="1163520"/>
          </a:xfrm>
          <a:prstGeom prst="star5">
            <a:avLst/>
          </a:prstGeom>
          <a:solidFill>
            <a:srgbClr val="fffff7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84360" y="1015920"/>
            <a:ext cx="1582560" cy="1505160"/>
          </a:xfrm>
          <a:prstGeom prst="star5">
            <a:avLst/>
          </a:prstGeom>
          <a:solidFill>
            <a:srgbClr val="fffff7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095640" y="476280"/>
            <a:ext cx="1692360" cy="1608120"/>
          </a:xfrm>
          <a:prstGeom prst="star5">
            <a:avLst/>
          </a:prstGeom>
          <a:solidFill>
            <a:srgbClr val="fffff7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203640" y="2060640"/>
            <a:ext cx="1908000" cy="1812960"/>
          </a:xfrm>
          <a:prstGeom prst="star5">
            <a:avLst/>
          </a:prstGeom>
          <a:solidFill>
            <a:srgbClr val="fffff7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763640" y="4545000"/>
            <a:ext cx="1979640" cy="1881360"/>
          </a:xfrm>
          <a:prstGeom prst="star5">
            <a:avLst/>
          </a:prstGeom>
          <a:solidFill>
            <a:srgbClr val="fffff7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796000" y="4724280"/>
            <a:ext cx="1800360" cy="1711440"/>
          </a:xfrm>
          <a:prstGeom prst="star5">
            <a:avLst/>
          </a:prstGeom>
          <a:solidFill>
            <a:srgbClr val="fffff7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559640" y="1376280"/>
            <a:ext cx="504720" cy="479520"/>
          </a:xfrm>
          <a:prstGeom prst="star5">
            <a:avLst/>
          </a:prstGeom>
          <a:solidFill>
            <a:srgbClr val="fffff7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804000" y="2852640"/>
            <a:ext cx="900000" cy="855720"/>
          </a:xfrm>
          <a:prstGeom prst="star5">
            <a:avLst/>
          </a:prstGeom>
          <a:solidFill>
            <a:srgbClr val="fffff7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284720" y="2852640"/>
            <a:ext cx="1044360" cy="992160"/>
          </a:xfrm>
          <a:prstGeom prst="star5">
            <a:avLst/>
          </a:prstGeom>
          <a:solidFill>
            <a:srgbClr val="fffff7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4113360"/>
            <a:ext cx="1511280" cy="1436400"/>
          </a:xfrm>
          <a:prstGeom prst="star5">
            <a:avLst/>
          </a:prstGeom>
          <a:solidFill>
            <a:srgbClr val="fffff7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635280" y="5121360"/>
            <a:ext cx="1333440" cy="1266840"/>
          </a:xfrm>
          <a:prstGeom prst="star5">
            <a:avLst/>
          </a:prstGeom>
          <a:solidFill>
            <a:srgbClr val="fffff7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69d4"/>
            </a:gs>
            <a:gs pos="100000">
              <a:srgbClr val="e3eef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Miami Images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492560" y="5949720"/>
            <a:ext cx="2045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Beach scen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873680" y="2158920"/>
            <a:ext cx="3913200" cy="36543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6084360" y="5898960"/>
            <a:ext cx="15580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Palm tre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722160" y="3425760"/>
            <a:ext cx="3657600" cy="24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4T02:34:28Z</dcterms:created>
  <dc:creator>Pat R. Graves</dc:creator>
  <dc:description/>
  <dc:language>en-US</dc:language>
  <cp:lastModifiedBy>Pat Graves</cp:lastModifiedBy>
  <dcterms:modified xsi:type="dcterms:W3CDTF">2004-02-29T08:24:22Z</dcterms:modified>
  <cp:revision>17</cp:revision>
  <dc:subject/>
  <dc:title>Slide 1</dc:title>
</cp:coreProperties>
</file>