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CC5-A794-4510-BB73-2F50F416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7138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71680" y="4130640"/>
            <a:ext cx="7138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6C4-F688-4258-9A9E-83FEAA81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000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71680" y="413064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0000" y="413064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D1D-09DC-497C-9D6C-23430B40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9640" y="198108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71680" y="413064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9640" y="413064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6C34-0EE3-4E11-8E1A-30C0C3E4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B5AC-BD06-4D95-AADD-85CB4D4B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71680" y="1981080"/>
            <a:ext cx="7138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4AFC-3608-4FBD-8683-833EB87A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713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B0DF-D5CB-4A1B-8D3B-8B972F61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348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0000" y="1981080"/>
            <a:ext cx="348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49D2-978A-4C47-A9C3-6534B4B8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F583-A798-41D4-8773-0CCA922E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61600" y="88560"/>
            <a:ext cx="66582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6204-AEE5-40A4-A223-48D34ED4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30000" y="1981080"/>
            <a:ext cx="348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71680" y="413064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A74C-A261-4645-B073-1267F73E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71680" y="1981080"/>
            <a:ext cx="7138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6162-6E6A-4468-AED3-8A49AE1A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348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000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30000" y="413064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94A5-8116-4516-91D2-BA4B299D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3000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71680" y="4130640"/>
            <a:ext cx="7138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D1E9-620B-40ED-BADC-C0BE6018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7138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71680" y="4130640"/>
            <a:ext cx="7138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1064-62C8-4FAC-A390-D6AF545B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3000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71680" y="413064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30000" y="413064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981C-7161-4969-A2B6-53187EA5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99640" y="198108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71680" y="413064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99640" y="413064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9AD8-D4C6-44F5-9B93-394F2A28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713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0E0-BDC1-48BE-9CB1-4E44B7B4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348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0000" y="1981080"/>
            <a:ext cx="348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3F10-DAD0-4B9E-B939-0E5B5915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FED8-AE98-4F72-AD48-869394D0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61600" y="88560"/>
            <a:ext cx="66582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CD68-8FF6-4086-991A-72747046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0000" y="1981080"/>
            <a:ext cx="348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71680" y="413064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8D8-3048-41EE-AAB6-E2E7B309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348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000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0000" y="413064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DBE9-3E3D-4AE2-8ADB-86B12F8A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000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71680" y="4130640"/>
            <a:ext cx="7138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514C-8964-4936-9715-382DCA46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71680" y="1981080"/>
            <a:ext cx="713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00cc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293840" indent="-40320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3" marL="1681200" indent="-38592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4" marL="2070000" indent="-38736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5" marL="2070000" indent="-387360">
              <a:spcBef>
                <a:spcPts val="700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6" marL="2070000" indent="-387360">
              <a:spcBef>
                <a:spcPts val="700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E68E-3924-4D62-9B56-D7FB2665E2CF}" type="slidenum">
              <a:rPr b="0" lang="en-US" sz="10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95360"/>
            <a:ext cx="9144000" cy="108000"/>
          </a:xfrm>
          <a:prstGeom prst="rect">
            <a:avLst/>
          </a:prstGeom>
          <a:gradFill rotWithShape="0">
            <a:gsLst>
              <a:gs pos="0">
                <a:srgbClr val="00465e">
                  <a:alpha val="0"/>
                </a:srgbClr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62080" y="1227240"/>
            <a:ext cx="950760" cy="441360"/>
          </a:xfrm>
          <a:prstGeom prst="diamond">
            <a:avLst/>
          </a:prstGeom>
          <a:gradFill rotWithShape="0">
            <a:gsLst>
              <a:gs pos="0">
                <a:srgbClr val="00cc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676520"/>
            <a:ext cx="4724280" cy="11430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1676520"/>
            <a:ext cx="4724280" cy="1143000"/>
          </a:xfrm>
          <a:prstGeom prst="rect">
            <a:avLst/>
          </a:prstGeom>
          <a:gradFill rotWithShape="0">
            <a:gsLst>
              <a:gs pos="0">
                <a:srgbClr val="005d8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98800" y="1600200"/>
            <a:ext cx="704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203B-0399-4894-9CCE-442D0093AB72}" type="slidenum">
              <a:rPr b="0" lang="en-US" sz="10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320" y="1160640"/>
            <a:ext cx="1800000" cy="2160360"/>
          </a:xfrm>
          <a:prstGeom prst="diamond">
            <a:avLst/>
          </a:prstGeom>
          <a:gradFill rotWithShape="0">
            <a:gsLst>
              <a:gs pos="0">
                <a:srgbClr val="00cc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93760" y="1996920"/>
            <a:ext cx="1241280" cy="501480"/>
            <a:chOff x="293760" y="1996920"/>
            <a:chExt cx="1241280" cy="501480"/>
          </a:xfrm>
        </p:grpSpPr>
        <p:sp>
          <p:nvSpPr>
            <p:cNvPr id="51" name=""/>
            <p:cNvSpPr txBox="1"/>
            <p:nvPr/>
          </p:nvSpPr>
          <p:spPr>
            <a:xfrm>
              <a:off x="1189080" y="2187720"/>
              <a:ext cx="345960" cy="31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883800" y="2076480"/>
              <a:ext cx="447480" cy="421920"/>
              <a:chOff x="883800" y="2076480"/>
              <a:chExt cx="447480" cy="421920"/>
            </a:xfrm>
          </p:grpSpPr>
          <p:sp>
            <p:nvSpPr>
              <p:cNvPr id="53" name=""/>
              <p:cNvSpPr/>
              <p:nvPr/>
            </p:nvSpPr>
            <p:spPr>
              <a:xfrm>
                <a:off x="883800" y="2076480"/>
                <a:ext cx="447480" cy="4219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09440" y="2121840"/>
                <a:ext cx="207000" cy="23508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5d8c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 txBox="1"/>
            <p:nvPr/>
          </p:nvSpPr>
          <p:spPr>
            <a:xfrm>
              <a:off x="293760" y="1996920"/>
              <a:ext cx="834480" cy="29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00cc99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98800" y="1600200"/>
            <a:ext cx="704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Marketing Strategy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4243320" y="3325680"/>
            <a:ext cx="4287960" cy="3049560"/>
          </a:xfrm>
          <a:prstGeom prst="rect">
            <a:avLst/>
          </a:prstGeom>
          <a:solidFill>
            <a:srgbClr val="00cc99"/>
          </a:solidFill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3657600" cy="2425680"/>
          </a:xfrm>
          <a:prstGeom prst="rect">
            <a:avLst/>
          </a:prstGeom>
          <a:ln w="38160">
            <a:solidFill>
              <a:srgbClr val="005d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1320" y="1980720"/>
            <a:ext cx="4003560" cy="40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eek potential investor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Investigate the firm Marketing Strategic Management System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Research the World Wide Web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81680" y="2263680"/>
            <a:ext cx="2916360" cy="2808360"/>
          </a:xfrm>
          <a:prstGeom prst="rect">
            <a:avLst/>
          </a:prstGeom>
          <a:solidFill>
            <a:srgbClr val="00cc99"/>
          </a:solidFill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4163" t="5305" r="33898" b="7107"/>
          <a:stretch/>
        </p:blipFill>
        <p:spPr>
          <a:xfrm>
            <a:off x="6189840" y="2603520"/>
            <a:ext cx="2265120" cy="2152800"/>
          </a:xfrm>
          <a:prstGeom prst="rect">
            <a:avLst/>
          </a:prstGeom>
          <a:ln w="38160">
            <a:solidFill>
              <a:srgbClr val="005d8c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ustomer Requirement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713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arget health-conscious area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tudy traffic patterns in selected area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Interview potential customer base for food preference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Interview potential customer base for sports preference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st Analysi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1320" y="1981080"/>
            <a:ext cx="349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Miami costs have soared in the 3rd Quarter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New York costs have remained steady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856040" y="1928880"/>
          <a:ext cx="397692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040" y="1928880"/>
                    <a:ext cx="39769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eeting the Nee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713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Use customer interview results to develop menu plan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elect a location with the greatest exposur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Use customer interview results to develop interior sports design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Pat R. Graves</dc:creator>
  <dc:description/>
  <dc:language>en-US</dc:language>
  <cp:lastModifiedBy>Student Name</cp:lastModifiedBy>
  <cp:lastPrinted>1996-12-06T17:08:44Z</cp:lastPrinted>
  <dcterms:modified xsi:type="dcterms:W3CDTF">2004-04-11T20:01:50Z</dcterms:modified>
  <cp:revision>32</cp:revision>
  <dc:subject/>
  <dc:title>Marketing Strategy</dc:title>
</cp:coreProperties>
</file>