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D99-49AB-45C2-8A08-356442B9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FC5-EB24-427E-86C2-DFEE9F7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EA7-BC55-4175-A4BA-A4A1F094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646-0D7A-431A-ACA5-6D556BF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C28-CB6D-4CBD-A6A4-6D2FB686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96A-9A74-4D4E-93BD-73CBC1BC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CE8-A2D4-4F70-9F92-C7C959E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9B0C-3B83-4E32-A9D5-3E039C5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32D9-3CC5-475C-810C-8210DC07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2C8E-1F2D-4362-9AD5-E89DCBF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AD22-0C9E-44F4-B120-F24D30B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749-28DC-4FCC-A75E-4737F2CA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4D9-5681-4972-9343-2162186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B027-1382-412E-BBF4-6AEE613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D47-C986-4FD3-9B58-65E3E60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A9CB-BD3B-4313-968E-C22B6E48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887A-47B2-42E0-8889-815E17FA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1B9-D053-4842-8235-F50B2A14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E6-82C1-48A7-813A-72E99BD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1A9-2428-46C3-AB05-8EAEDE2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BAD-C6AB-42B5-85DF-49AF1F08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985-BB68-4AA8-99A5-1DB138F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4F0-5FD7-4CB1-958A-2F96F0C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1D9-865B-42CE-9163-2B7FAA3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709-05B4-4E76-A6BF-D98DEFAE790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84E-8D45-40A7-B406-E6BCAF08108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1628640"/>
            <a:ext cx="208908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35280" y="3681000"/>
            <a:ext cx="230508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967280" y="3681360"/>
            <a:ext cx="2268720" cy="154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76360" y="1663560"/>
            <a:ext cx="2195640" cy="1405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5080" y="2924280"/>
            <a:ext cx="1511280" cy="900000"/>
          </a:xfrm>
          <a:prstGeom prst="ellipse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8T06:28:42Z</dcterms:modified>
  <cp:revision>10</cp:revision>
  <dc:subject/>
  <dc:title>Slide 1</dc:title>
</cp:coreProperties>
</file>