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F05-1E91-4B37-803B-FD53A8FE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693-4370-44C6-A296-3F4191BA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FD2-A2DD-4A1D-92C5-E47C97D0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F99-F31B-492F-82B9-E64156AB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89CF-A968-424B-AF69-237BF470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6916-A477-48B7-8647-57E25C2C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D3AC-7C58-488B-A590-C34DE543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00C3-5754-4F03-9300-1E1D606E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CE0D-EC4D-4AB6-B2AD-AA620A65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327F-5AC2-4BEE-8150-482629DA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C408-C401-46A5-9E71-FF8B4C89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C10-0C8E-4A6B-B9CB-53083536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673F-57AD-4189-A731-1EDDF409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C325-13BD-485A-9DDD-9B011B6D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D00D-55B1-41DA-8B66-FB46FA8E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D451-6D6F-4653-9499-9E0F73EB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7B24-0511-4A99-BD3D-454BA124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44A2-F45D-44A9-B462-3F80DE2D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AC0-3205-4C89-A4B2-792E212D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325-1397-43BF-85C1-1AD23D70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7C1-95D3-47DB-9898-DF5171CC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6116-DCC8-4261-9C1B-B19784BD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48F8-4DDB-42CB-AF69-2ABC0CC5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045-92CA-4DFB-A290-D56C785E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ED9C-D22E-4C42-BD9B-C9C7D39E360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0655-8056-4770-897B-BE9B749E881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00280" y="2868120"/>
            <a:ext cx="7543800" cy="2377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lcome to ou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w restaurant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eautiful Miami Bea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11240" y="2734200"/>
            <a:ext cx="7122960" cy="2980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Miami’s first truly health-conscious restaura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Low-fat and tasteful varieties to please the beachcomber appeti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35280" y="1628640"/>
            <a:ext cx="5473440" cy="363708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36720" y="3392640"/>
            <a:ext cx="5472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2960640"/>
            <a:ext cx="54734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35280" y="2529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5280" y="2097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3824280"/>
            <a:ext cx="5508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1640" y="4329000"/>
            <a:ext cx="5364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4797360"/>
            <a:ext cx="543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47640" y="-360"/>
            <a:ext cx="0" cy="6165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47640" y="0"/>
            <a:ext cx="166068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47640" y="0"/>
            <a:ext cx="357984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47640" y="-28800"/>
            <a:ext cx="6229440" cy="622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11280" y="1274400"/>
            <a:ext cx="8532720" cy="4925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47640" y="3879720"/>
            <a:ext cx="8532720" cy="2286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9440" y="6200640"/>
            <a:ext cx="84596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 6-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63640" y="1844640"/>
            <a:ext cx="1600200" cy="16002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475000" y="1305000"/>
            <a:ext cx="411300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59280" y="512640"/>
            <a:ext cx="3925800" cy="1295640"/>
          </a:xfrm>
          <a:custGeom>
            <a:avLst/>
            <a:gdLst>
              <a:gd name="textAreaLeft" fmla="*/ 896040 w 3925800"/>
              <a:gd name="textAreaRight" fmla="*/ 3029760 w 392580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Grand Opening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448000" y="1305000"/>
            <a:ext cx="411300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720" y="368280"/>
            <a:ext cx="755640" cy="7174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08720" y="368280"/>
            <a:ext cx="934920" cy="8892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512640"/>
            <a:ext cx="1008360" cy="9590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9640" y="1484280"/>
            <a:ext cx="1152720" cy="10954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0000" y="1881360"/>
            <a:ext cx="1081080" cy="10270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2924280"/>
            <a:ext cx="1656000" cy="15732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43280" y="4041720"/>
            <a:ext cx="1189080" cy="11304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2960640"/>
            <a:ext cx="1584360" cy="15066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4581360"/>
            <a:ext cx="1547640" cy="14716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2708280"/>
            <a:ext cx="1224000" cy="11635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84360" y="1015920"/>
            <a:ext cx="1582560" cy="15051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95640" y="476280"/>
            <a:ext cx="1692360" cy="16081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2060640"/>
            <a:ext cx="1908000" cy="18129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4545000"/>
            <a:ext cx="1979640" cy="18813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4724280"/>
            <a:ext cx="1800360" cy="17114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9640" y="1376280"/>
            <a:ext cx="504720" cy="4795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04000" y="2852640"/>
            <a:ext cx="900000" cy="8557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2852640"/>
            <a:ext cx="1044360" cy="9921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113360"/>
            <a:ext cx="1511280" cy="14364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121360"/>
            <a:ext cx="1333440" cy="12668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iami Pic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25760" y="3141720"/>
            <a:ext cx="1825560" cy="1379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16320" y="4735080"/>
            <a:ext cx="204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ach sce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88000" y="2057400"/>
            <a:ext cx="2830320" cy="2643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424120" y="473508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lm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2:34:28Z</dcterms:created>
  <dc:creator>Pat R. Graves</dc:creator>
  <dc:description/>
  <dc:language>en-US</dc:language>
  <cp:lastModifiedBy>Pat Graves</cp:lastModifiedBy>
  <dcterms:modified xsi:type="dcterms:W3CDTF">2004-02-29T04:28:17Z</dcterms:modified>
  <cp:revision>13</cp:revision>
  <dc:subject/>
  <dc:title>Slide 1</dc:title>
</cp:coreProperties>
</file>