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F404-4F5F-49EB-98B1-66830C199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6681-6E17-43B3-BB29-251C473E5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A5B2-C96B-4F64-B1A7-7AEFA7991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42BE-379E-446C-BD25-F7DAD02C3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EFA15-4D37-412B-BFF7-F410FEC55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C0CF5-8F02-4B77-A81A-1524D227F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F5B14-E0B6-43B9-8D08-6179A05F3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1EC1D-D542-4297-B0A4-DD2F9CDA0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2D133-4B45-48D9-B520-A50102AB4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C0898-9139-4CF5-8E75-92E2264E6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915A0-1171-4B06-A50C-41060ED0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0A1F-F2B0-4AE5-BFD9-65C82468C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7F2BC-30B0-4751-92F6-33737CDE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2F1F9-2B11-4750-8F9C-573F8934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A48C2-D2B8-4183-9D68-4CFE9F5A0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956EC-A45E-4089-9266-295A9E28E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B59E2-05DD-4ECC-A93D-1D5AC7CE3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EE37-22E9-4564-B096-4780C9BDF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EF94-BA77-4319-A566-8BD329267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6B10-2D57-4484-99EB-9644A3000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FC0F-3849-4877-95BF-258E31816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7525-1E5B-4542-AE74-EB24ABC5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9417-36E5-4E5E-B2F7-103C1D6D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5F27-5F20-4E71-B26B-802BD127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47A8B-53AE-4949-B24E-C25AF84E8A3A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C61F8-7C24-4DCF-BADC-DB8EC75E5549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00280" y="2868120"/>
            <a:ext cx="7543800" cy="23770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0" rIns="457200" tIns="457200" bIns="4572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elcome to our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new restaurant in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beautiful Miami Beach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011240" y="2734200"/>
            <a:ext cx="7122960" cy="29800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0" rIns="457200" tIns="457200" bIns="4572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Miami’s first truly health-conscious restaurant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Low-fat and tasteful varieties to please the beachcomber appetite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835280" y="1628640"/>
            <a:ext cx="5473440" cy="3637080"/>
          </a:xfrm>
          <a:prstGeom prst="rect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36720" y="3392640"/>
            <a:ext cx="5472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35280" y="2960640"/>
            <a:ext cx="547344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35280" y="2529000"/>
            <a:ext cx="540072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35280" y="2097000"/>
            <a:ext cx="540072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35280" y="3824280"/>
            <a:ext cx="550836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71640" y="4329000"/>
            <a:ext cx="536436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5280" y="4797360"/>
            <a:ext cx="543708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47640" y="-360"/>
            <a:ext cx="0" cy="61657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47640" y="0"/>
            <a:ext cx="1660680" cy="62006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647640" y="0"/>
            <a:ext cx="3579840" cy="62006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647640" y="-28800"/>
            <a:ext cx="6229440" cy="62290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11280" y="1274400"/>
            <a:ext cx="8532720" cy="49258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647640" y="3879720"/>
            <a:ext cx="8532720" cy="22860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9440" y="6200640"/>
            <a:ext cx="845964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ur Name, Sol 6-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63640" y="1844640"/>
            <a:ext cx="2521080" cy="2521080"/>
          </a:xfrm>
          <a:prstGeom prst="rect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20000" y="4869000"/>
            <a:ext cx="1438200" cy="1441440"/>
          </a:xfrm>
          <a:prstGeom prst="ellipse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Miami Pictur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25760" y="3141720"/>
            <a:ext cx="1825560" cy="13795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516320" y="4735080"/>
            <a:ext cx="204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each scen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788000" y="2057400"/>
            <a:ext cx="2830320" cy="26431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424120" y="4735080"/>
            <a:ext cx="1558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alm tre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4T02:34:28Z</dcterms:created>
  <dc:creator>Pat R. Graves</dc:creator>
  <dc:description/>
  <dc:language>en-US</dc:language>
  <cp:lastModifiedBy>Pat Graves</cp:lastModifiedBy>
  <dcterms:modified xsi:type="dcterms:W3CDTF">2004-02-29T02:56:43Z</dcterms:modified>
  <cp:revision>12</cp:revision>
  <dc:subject/>
  <dc:title>Slide 1</dc:title>
</cp:coreProperties>
</file>