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A98-AEA9-4E4D-B8E5-C2BF1CC7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BA4-230B-4C2F-A212-E55E0FB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219-B1F5-4737-B5BA-291DAB12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3DD-0E92-4D76-9A0D-BB57FD60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C53B-2F36-423D-9298-83DAF22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761-B054-4401-AE55-4A0575D9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62D4-FCBE-4EDA-BA98-5E546C3F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E861-7CE3-44EE-8903-9D595DBD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62C3-23DE-4353-B64D-BC775E99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CABA-4A44-49F2-9786-276CADB1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7AB0-7D79-4988-8F40-D602F00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4B9-5D4F-44D9-831C-6EC8554E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493E-2180-4C6C-AF4E-C4C80CD6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B975-BD23-444A-B4E6-9C08B3F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73E-065E-4A78-B01D-A1E3A0C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34C9-874A-428B-90A5-38DFE075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3D25-B78F-43FE-9659-F04ED1D0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934-9090-4AAF-A608-2CC37F3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5FF-488C-4A5D-A349-DBDC5553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224-B652-41F2-BA06-9B214E73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4D1-68B7-4133-87D4-A90774F6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CC3-9335-4512-99A5-E7691FB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479-FA3F-4A36-A9EC-43AD4D3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A27-5991-45DF-8AE0-FBAFF76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8F68-14AF-48DE-983B-CEC28F3AF5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75248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326360" y="5999040"/>
            <a:ext cx="1414440" cy="5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5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51D5-612C-49A3-BF6D-9D9F520FBC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55920" y="4491000"/>
            <a:ext cx="230832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gust 4, 200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01720" y="1120680"/>
            <a:ext cx="585792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ranchise Training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equired Equipmen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aloric industria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ub-Zero refrig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cook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stone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ida fla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rojected Sal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4680" y="1981080"/>
          <a:ext cx="6556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981080"/>
                    <a:ext cx="6556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Hiring Practic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fs must have a culinary degree from an accredited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iters and waitresses must have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24T17:26:58Z</cp:lastPrinted>
  <dcterms:modified xsi:type="dcterms:W3CDTF">2004-04-11T20:08:02Z</dcterms:modified>
  <cp:revision>37</cp:revision>
  <dc:subject/>
  <dc:title>Good 4 U Franchise Training</dc:title>
</cp:coreProperties>
</file>