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79C-6810-40D6-A5A8-618C5F48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32B-7E45-45BE-9F73-1128FB8B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D55C-B916-4250-83FF-B1E26FE5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6B02-6D43-4DA7-9773-4FF6D430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786B-977C-4969-9D52-352A74A5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1992-241F-475D-ADB3-2CA45013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7D56-B95B-4FCD-A8D3-7289F33F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861B-EEF1-4C4E-BEDA-6F5BFE33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B824-6A71-477C-976F-AA674B1B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4B0D-46CC-440B-9AA3-DCD660B1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3A32-64FD-4BCD-B587-71D37A83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AE9C-7651-486B-B84F-D165AB1C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7B4C-458A-4950-8511-EBB03867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E35F-3F35-4811-9125-9D7C1A25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34E6-3056-4348-B5BC-9D7AE7E1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2297-5C14-4402-82FF-18590C25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ED12-C0EF-4D5A-991B-E7EB2163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4A3-DD59-4F75-BBB6-DA6AAC1A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44C7-7B12-47C6-B6AE-B412DD84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1F7-4F19-4600-A2B4-766D96E2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14D9-32DE-4E91-85BA-4DF6EDA7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3F7-3005-42C7-9C7A-B02E5D64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719F-422B-4A55-BE1D-019F3B06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3D85-B119-47A1-A18E-057E01C5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18C4-A892-468A-B2F7-9FB9F78E4D1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E751-2EB2-49D6-931E-C98A53FF3F9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00280" y="2868120"/>
            <a:ext cx="7543800" cy="2377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come to ou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w restaurant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autiful Miami Bea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27640" y="1041480"/>
            <a:ext cx="42465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11240" y="2734200"/>
            <a:ext cx="7122960" cy="2980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iami’s first truly health-conscious restaura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Low-fat and tasteful varieties to please the beachcomber appet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20600" y="1066680"/>
            <a:ext cx="71298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35280" y="1628640"/>
            <a:ext cx="5473440" cy="363708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36720" y="3392640"/>
            <a:ext cx="5472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2960640"/>
            <a:ext cx="54734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2529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097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3824280"/>
            <a:ext cx="5508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71640" y="4329000"/>
            <a:ext cx="5364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4797360"/>
            <a:ext cx="543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47640" y="-360"/>
            <a:ext cx="0" cy="6165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47640" y="0"/>
            <a:ext cx="166068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47640" y="0"/>
            <a:ext cx="357984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47640" y="-28800"/>
            <a:ext cx="6229440" cy="622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11280" y="1274400"/>
            <a:ext cx="8532720" cy="4925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47640" y="3879720"/>
            <a:ext cx="8532720" cy="2286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9440" y="6200640"/>
            <a:ext cx="84596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63640" y="1844640"/>
            <a:ext cx="1600200" cy="16002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908440" y="1305000"/>
            <a:ext cx="327168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700000">
            <a:off x="4584240" y="4967280"/>
            <a:ext cx="3926160" cy="1295280"/>
          </a:xfrm>
          <a:custGeom>
            <a:avLst/>
            <a:gdLst>
              <a:gd name="textAreaLeft" fmla="*/ 896040 w 3926160"/>
              <a:gd name="textAreaRight" fmla="*/ 3030120 w 39261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Grand Opening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13000" y="1509840"/>
            <a:ext cx="253224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48000" y="1305000"/>
            <a:ext cx="411300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720" y="368280"/>
            <a:ext cx="755640" cy="7174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8720" y="368280"/>
            <a:ext cx="934920" cy="8892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512640"/>
            <a:ext cx="1008360" cy="9590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9640" y="1484280"/>
            <a:ext cx="1152720" cy="10954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0000" y="1881360"/>
            <a:ext cx="1081080" cy="10270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24360" y="2924280"/>
            <a:ext cx="1656000" cy="15732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43280" y="4041720"/>
            <a:ext cx="1189080" cy="11304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2960640"/>
            <a:ext cx="1584360" cy="15066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4581360"/>
            <a:ext cx="1547640" cy="14716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2708280"/>
            <a:ext cx="1224000" cy="11635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84360" y="1015920"/>
            <a:ext cx="1582560" cy="15051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95640" y="476280"/>
            <a:ext cx="1692360" cy="16081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3640" y="2060640"/>
            <a:ext cx="1908000" cy="18129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4545000"/>
            <a:ext cx="1979640" cy="18813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6000" y="4724280"/>
            <a:ext cx="1800360" cy="17114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9640" y="1376280"/>
            <a:ext cx="504720" cy="4795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2852640"/>
            <a:ext cx="900000" cy="8557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84720" y="2852640"/>
            <a:ext cx="1044360" cy="9921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13360"/>
            <a:ext cx="1511280" cy="14364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5121360"/>
            <a:ext cx="1333440" cy="12668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iami Imag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16320" y="3830400"/>
            <a:ext cx="204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ach sce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89640" y="1854360"/>
            <a:ext cx="2830320" cy="2643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310080" y="442404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lm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673280" y="2373480"/>
            <a:ext cx="182556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2:34:28Z</dcterms:created>
  <dc:creator>Pat R. Graves</dc:creator>
  <dc:description/>
  <dc:language>en-US</dc:language>
  <cp:lastModifiedBy>Osborne</cp:lastModifiedBy>
  <dcterms:modified xsi:type="dcterms:W3CDTF">2005-05-17T18:36:04Z</dcterms:modified>
  <cp:revision>17</cp:revision>
  <dc:subject/>
  <dc:title>Slide 1</dc:title>
</cp:coreProperties>
</file>