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064-3DF8-455A-A939-A5715708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F96-B822-41B8-8009-5241BE9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D2E-FA60-4C2C-B530-A2A67194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123-08C4-4001-BFFC-34A7C4E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055D-4DAC-4480-AB48-71595817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951E-27B8-47CD-9CF5-ADAB559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896-11E7-4B93-BB97-EF32E17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10F-C0EF-49AB-B148-764E1042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16E3-9029-4A21-A13F-16517E5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F49-829B-4F26-A480-9BA8FDE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AE0-4B42-4444-BD1D-85278DF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764-72B7-47A6-95E0-D129D42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BA6-F85F-44B5-B5C3-DD73621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DCC7-61EA-4D15-BEC9-D16A4A3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40C-0632-49D9-8F0F-7EA79CF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28CF-AC4E-4BD7-9AE4-4C8A016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864-F14E-4777-8EDA-7D055DAB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9EB-958C-4BBE-A694-A081B72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C4E-F6E9-4E4D-92AB-045E226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6B-0B36-4557-A332-D331BC3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3A3-B8D4-4680-A605-A84846E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AAD-3CD9-4EA2-B51A-CD6C1D2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3C7-F305-4272-AE5F-CCF26C4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D76-DB82-47CA-A372-D22E171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2C5-7482-42D2-A2A9-B29404B07C6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260-7E7E-49B1-8597-EA52B9684BE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6320" y="383040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10400" y="124632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62520" y="383040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46280" y="130644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840280" y="425448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8:14:32Z</dcterms:modified>
  <cp:revision>16</cp:revision>
  <dc:subject/>
  <dc:title>Slide 1</dc:title>
</cp:coreProperties>
</file>