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D077-D85E-4CD2-AA68-5988DBB0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ED8A-3D55-42BC-9419-0F0B76F1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C494-E473-4396-A675-5B462A57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9814-D19F-4FB1-BFA2-10DE53E4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C7B7-893B-41DD-AD1E-D0D6D28B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351-81D0-460B-A1F8-B55F4D9C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E554-3A79-4B59-AF42-BA71E372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DFC6-FB7E-45BF-A07D-21B529F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F07B-BDAC-4CCD-AE0D-185DA5F8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E431-44C8-471E-9C67-924421C8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DE0A-6C7F-4866-BE64-77D1A17F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114D-F108-43B8-85CC-9EFEE1C7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D84E-8F05-4C01-BC0C-922A8AB3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925E-F4F3-40E9-8B90-0D4331E5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488E-60B6-4245-94C9-FA6AD047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0D48-CB25-47A3-AE91-14AB2EF5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B1A0-298D-4A6F-939A-E04532C3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3F60-7E82-4C43-822A-51FFEAB0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6665-5957-4F3F-8EDE-0532738F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9B55-27A3-48FD-95E5-45C4103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A66D-DDA0-4BDB-B15C-9A922FF5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58D6-2E4B-469A-A0D4-C72B28C5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1A19-6F37-4B4D-A7CF-2442000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D5C3D-7C97-43B3-BAD2-190955A8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0214-FD63-45E5-BDF0-4D3F6071292D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68AA-FA1B-4D6D-9B8E-425DC3E0C754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653000" y="3346560"/>
            <a:ext cx="2514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1960" y="1762200"/>
          <a:ext cx="7476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62200"/>
                    <a:ext cx="7476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7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solidFill>
            <a:srgbClr val="8755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solidFill>
            <a:srgbClr val="8755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8720" y="3025800"/>
            <a:ext cx="1606680" cy="160812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Ms. Malnick</cp:lastModifiedBy>
  <dcterms:modified xsi:type="dcterms:W3CDTF">2004-04-12T15:50:21Z</dcterms:modified>
  <cp:revision>16</cp:revision>
  <dc:subject/>
  <dc:title>Good 4 U Franchise Training</dc:title>
</cp:coreProperties>
</file>