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lick to move the slid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4B20-5F56-46DF-B05B-029B40935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 students to click the Fill Color arrow to display the fill color op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methods to recolor an i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Click the Recolor Picture button on the Picture toolbar, and click </a:t>
            </a:r>
            <a:r>
              <a:rPr b="0" lang="en-US" sz="1200" spc="-1" strike="noStrike">
                <a:solidFill>
                  <a:srgbClr val="000000"/>
                </a:solidFill>
                <a:latin typeface="Futura"/>
              </a:rPr>
              <a:t>Colors</a:t>
            </a:r>
            <a:r>
              <a:rPr b="0" lang="en-US" sz="1200" spc="-1" strike="noStrike">
                <a:solidFill>
                  <a:srgbClr val="ff001a"/>
                </a:solidFill>
                <a:latin typeface="Futur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to change any color in the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he Recolor Picture button on the Picture toolbar, and click Fills to change only the background or fill colors in the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Inform students that extra colors are available in the Colors dialog box. This dialog box has two </a:t>
            </a: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tabs—</a:t>
            </a:r>
            <a:r>
              <a:rPr b="0" lang="en-US" sz="1200" spc="-1" strike="noStrike">
                <a:solidFill>
                  <a:srgbClr val="000000"/>
                </a:solidFill>
                <a:latin typeface="Futura"/>
              </a:rPr>
              <a:t>Standard </a:t>
            </a: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Futura"/>
              </a:rPr>
              <a:t>Custom</a:t>
            </a: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Palatino-Italic"/>
              </a:rPr>
              <a:t>Standard</a:t>
            </a:r>
            <a:r>
              <a:rPr b="0" lang="en-US" sz="1200" spc="-1" strike="noStrike">
                <a:solidFill>
                  <a:srgbClr val="000000"/>
                </a:solidFill>
                <a:latin typeface="Palatino-Italic"/>
              </a:rPr>
              <a:t> colors</a:t>
            </a:r>
            <a:r>
              <a:rPr b="0" i="1" lang="en-US" sz="1200" spc="-1" strike="noStrike">
                <a:solidFill>
                  <a:srgbClr val="000000"/>
                </a:solidFill>
                <a:latin typeface="Palatino-Ital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are premixed color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 colors are colors that users create using the Custom t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Explain the terms hue, saturation, and luminance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Hue—the actual name of the color that users sel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Saturation—the intensity of th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Luminance—the brightness of the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users apply a gradient fill to an object, the colors in it blend (or shade) into one another. </a:t>
            </a: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A gradient fill can consist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One color blending to bl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Two colors that blend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A preset combination of multiple colors that are built into Power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-Condensed"/>
              </a:rPr>
              <a:t>Explain to students that the two transparency sliders enable users to set the transparency, so that it increases or decreases from one end of an object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-Condensed"/>
              </a:rPr>
              <a:t>Also, tell them that the gradient fill transparency settings make it possible to “tailor” a preset gradient fill’s colors to blend with a presentation’s color sch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-Condensed"/>
              </a:rPr>
              <a:t>Remind students that the Format AutoShape dialog box enables them to create the same fill effects as the Fill Color button on the Drawing tool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Futura"/>
              </a:rPr>
              <a:t>Pattern</a:t>
            </a:r>
            <a:r>
              <a:rPr b="0" lang="en-US" sz="1200" spc="-1" strike="noStrike">
                <a:solidFill>
                  <a:srgbClr val="ff001a"/>
                </a:solidFill>
                <a:latin typeface="Futur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tab on the Fill Effects dialog box allows users to choose from 48 two-color patterns to apply to PowerPoint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-Roman"/>
              </a:rPr>
              <a:t>Inform students that additional line style options are available in the Format AutoShape, Format Text Box, and Format Picture dialog box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-Condensed"/>
              </a:rPr>
              <a:t>Also, discuss the difference between the Line Style and Dash Style butt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 students that they can also use the Format AutoShape dialog box to draw arrows and to control the placing of an arrowhead on either end or both ends of a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users draw an object on a slide, the color of the object—its fill color—is determined by the presentation’s color sche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7720" y="36594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7400" y="129528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7720" y="36594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37400" y="36594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3120" y="129528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48520" y="129528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7720" y="36594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3120" y="36594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48520" y="3659400"/>
            <a:ext cx="257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37400" y="129528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057400" y="0"/>
            <a:ext cx="495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37400" y="129528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7720" y="36594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904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7400" y="129528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37400" y="365940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7400" y="1295280"/>
            <a:ext cx="3904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7720" y="3659400"/>
            <a:ext cx="8001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19920" indent="-217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54440" indent="-217080">
              <a:lnSpc>
                <a:spcPct val="2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954440" indent="-217080">
              <a:lnSpc>
                <a:spcPct val="2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954440" indent="-217080">
              <a:lnSpc>
                <a:spcPct val="2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Lesson 7-Working with Lines, Fills, and Colors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86040" y="164304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hange the Fill Color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of AutoShapes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change the fill color of AutoShapes in two way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the Fill Color button on the Drawing toolb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the Colors and Lines tab in the Format AutoShape dialog bo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Remove Fill Colors and Borders from AutoShapes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remove the fill color from an object by choosing No Fill in the Fill Color option on the Drawing toolb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remove the borders from an object by choosing No Line in the Line Color option on the Drawing toolb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Use Recolor to 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olor an Image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lor is used to change a Clip Art image’s colors to match the color scheme of a presen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color feature can only be used with Microsoft Windows Metafil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tmapped images (.jpg, .gif, or .png) cannot be recolored without image editing progra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Use Recolor to 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olor an Imag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571680" y="58672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loring a Microsoft Windows Meta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1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3120" y="1905120"/>
            <a:ext cx="85377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Work with an Extended Range of Colors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ose a standard col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 a custom col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just transparency settin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hoose a Standard Color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571680" y="53341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ing with standard co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89160" y="1600200"/>
            <a:ext cx="2965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reate a Custom Color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2578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ing with custom co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19320" y="1892160"/>
            <a:ext cx="63878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djust Transparency Settings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arent colors enhance a presentation’s color settin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lide’s background will show through if an AutoShape’s fill is transparen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dd Patterns, Gradient Fills, and Textures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y a gradient fill to an AutoSha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y a gradient fill to add dimen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y a gradient fill to a text placehol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a fill pattern to an AutoSha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a textured fill to an AutoSha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a picture fill to an AutoSha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y a pattern to a bor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pply a Gradient Fill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to an AutoShap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571680" y="56386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l Effects dialog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519264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Overview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the line color and line style of AutoShap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the fill color of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 with an extended range of col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patterns, gradient fills, and textu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e Format Painter tool to copy format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just presentation color settin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pply a Gradient Fill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to an AutoShap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571680" y="51055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ransparency for a gradient 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47840" y="1822320"/>
            <a:ext cx="46483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pply a Gradient Fill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to Add Dimension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71680" y="56386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ing gradient f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44560" y="1311120"/>
            <a:ext cx="5653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pply a Gradient Fill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to a Text Placeholder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dient fills can be applied to text placeholders in the same way as they are applied to AutoShap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arency settings are controlled by two sliders – the From setting controls color 1, and the To setting controls color 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dd a Fill Pattern 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to an AutoShap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571680" y="5943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ng a pattern fill to an ob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620800" y="1219320"/>
            <a:ext cx="53038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dd a Textured Fill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to an AutoShap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6019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osing a textured 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638440" y="1295280"/>
            <a:ext cx="54388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dd a Picture Fill 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to an AutoShap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71680" y="57150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cture tab on the Fill Effects dialog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" y="1177920"/>
            <a:ext cx="7081920" cy="450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7848720" y="5486400"/>
          <a:ext cx="137160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5486400"/>
                    <a:ext cx="13716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pply a Pattern to a Border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attern can be applied to the border of an object, a line, or an arr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hoice of colors in a pattern can soften or accent the effect of the bor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Use the Format Painter Tool to Copy Formatting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formatting from one object to another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object formatting to a different sl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opy Formatting from One Object to Another Object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ing the format of an object also copies the default setting associated with 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s that may be copied include text, fill, and outline format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324480" y="5334120"/>
          <a:ext cx="1371600" cy="119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334120"/>
                    <a:ext cx="137160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7772400" y="5334120"/>
          <a:ext cx="1371600" cy="119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72400" y="5334120"/>
                    <a:ext cx="137160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opy Formatting to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 Different Slide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ting of various objects can be copied from one slide to ano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s that may be copied include text, fill, and outline format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hange the Line Color and Line Style of AutoShapes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y a bor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the border line sty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the border line col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and format arrow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ing the format AutoShape dialog bo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djust Presentation 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olor Settings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ose the grayscale ver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ose the black and white op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hoose the Grayscale Version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571680" y="5334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ing grayscale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1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66960" y="1546200"/>
            <a:ext cx="541008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hoose the Black and White Version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lack and white version of a presentation is accessed through the Color/Grayscale butt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option puts all objects in a pure black and white set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use this option to save ink when printing and make notes in handouts easy to re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Summary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PowerPoint objects can be visually enhanced by adding borders and fill eff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rder effects include solid lines, dashed lines, and patterned lines in any thickness (weight) or colo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l effects include solid colors, patterns, gradients, textures, and pictu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rders and fill effects can be removed from a PowerPoint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Summary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color picture button on the picture toolbar can be used to change the color of Microsoft Windows Metafi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lors dialog box provides premixed colors on the Standard tab and user-defined colors on the Custom ta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tern fills have 48 varieties, including vertical, horizontal, and diagonal lines; checks; and do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rmat Painter is used to copy all formatting associated with the selected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Apply a Border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astest way to apply a border to an object is to use the Line Style butt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e style refers to the type of border or outline of an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ine style options include single, double, and triple lines of varying line weigh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weight of a line is its thickness, measured in poi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467480" y="5486400"/>
          <a:ext cx="1371600" cy="12002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67480" y="5486400"/>
                    <a:ext cx="13716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hange the Border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Line Style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ne styles include solid line, square dot, dash, and combinations of dashes and dot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ash style is a pattern of dashes and dots that make up a l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Point offers a variety of dash styles to apply to lines and bor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hange the Border Line Color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change the color of a border in two way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he Line Color button on the Drawing toolb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the Colors and Lines tab in the Format AutoShape dialog bo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Draw and Format Arrows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s can draw lines with attached arrowheads by using the Arrow button on the Drawing toolb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rowheads can be added to existing lines by using the Arrow Style butt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row style options include varieties of arrowheads, dots, and diamon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Using the Format AutoShape Dialog Box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ormat AutoShape dialog box is used to apply different types of formatting to all PowerPoint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ialog box contains more options that are not available on the toolba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hange the Fill </a:t>
            </a:r>
            <a:br>
              <a:rPr sz="2400"/>
            </a:br>
            <a:r>
              <a:rPr b="1" i="1" lang="en-US" sz="2400" spc="-1" strike="noStrike">
                <a:solidFill>
                  <a:srgbClr val="333399"/>
                </a:solidFill>
                <a:latin typeface="Verdana"/>
              </a:rPr>
              <a:t>Color of Objects </a:t>
            </a:r>
            <a:endParaRPr b="1" i="1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the fill color of AutoShap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ve fill colors and borders from AutoShap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recolor to color an im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1:23:19Z</dcterms:created>
  <dc:creator>Zenobia</dc:creator>
  <dc:description/>
  <dc:language>en-US</dc:language>
  <cp:lastModifiedBy>Administrator</cp:lastModifiedBy>
  <dcterms:modified xsi:type="dcterms:W3CDTF">2004-07-26T16:23:40Z</dcterms:modified>
  <cp:revision>320</cp:revision>
  <dc:subject/>
  <dc:title>Overview </dc:title>
</cp:coreProperties>
</file>