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1A4-CE29-44F5-BDDD-87F35B08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B8B-CEC3-45A1-804C-BA3A1744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415-E181-4F07-BFD1-D954B879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567-1A47-448B-A7C3-F2720B98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DCE8-E5ED-41D4-A114-85224826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0759-47EB-4108-B301-8C61078B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BC8E-9CEF-43C5-83AF-0FFEB73F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C05E-FD85-438E-8978-C15475B0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3CE9-8D59-49E0-A3F3-992F06AA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2D0C-C03A-48BE-8F97-B85CDF6C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E78E-6E00-457B-876D-12D28702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DC7-7712-40A6-B324-BE3DD10C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BEB3-4761-428F-9180-3D6B236A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52FC-5DBB-4DFE-9150-4A217CC1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7982-46A7-4EA1-BD4A-19358D87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981E-C70A-4935-8069-8479DA36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3ADE-A739-4000-99A0-7CD0EA5D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64A-AE83-49D3-8551-CBBA6C6F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61D-7220-4B0C-8262-E3DF6348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8AF-0408-434C-A9C9-0A8876D4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FDF-F0BA-4D98-805B-3E8F0704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791-F9BA-41AA-8C07-B0FB8947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790-73C7-48E0-B906-1C3F4E1D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886-B1C1-4E7F-B47B-D16FE32E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A9E0-EC50-4423-84AA-3FB8A4692400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5ACE-87AC-4845-AE94-1A3CE8E54127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3e2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23e2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23e2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23e2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09840" y="851040"/>
            <a:ext cx="65624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Marketing Strategy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220760" y="2286000"/>
            <a:ext cx="7923240" cy="0"/>
          </a:xfrm>
          <a:prstGeom prst="line">
            <a:avLst/>
          </a:prstGeom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2514600"/>
            <a:ext cx="7924680" cy="0"/>
          </a:xfrm>
          <a:prstGeom prst="line">
            <a:avLst/>
          </a:prstGeom>
          <a:ln w="76320">
            <a:solidFill>
              <a:srgbClr val="4c5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20760" y="2743200"/>
            <a:ext cx="7923240" cy="0"/>
          </a:xfrm>
          <a:prstGeom prst="line">
            <a:avLst/>
          </a:prstGeom>
          <a:ln w="76320">
            <a:solidFill>
              <a:srgbClr val="8f5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20760" y="2971800"/>
            <a:ext cx="792324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8f5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7480" y="5931000"/>
            <a:ext cx="990000" cy="399960"/>
            <a:chOff x="87480" y="5931000"/>
            <a:chExt cx="990000" cy="399960"/>
          </a:xfrm>
        </p:grpSpPr>
        <p:sp>
          <p:nvSpPr>
            <p:cNvPr id="89" name=""/>
            <p:cNvSpPr txBox="1"/>
            <p:nvPr/>
          </p:nvSpPr>
          <p:spPr>
            <a:xfrm>
              <a:off x="801720" y="6083280"/>
              <a:ext cx="2757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558360" y="5994360"/>
              <a:ext cx="357120" cy="336240"/>
              <a:chOff x="558360" y="5994360"/>
              <a:chExt cx="357120" cy="336240"/>
            </a:xfrm>
          </p:grpSpPr>
          <p:sp>
            <p:nvSpPr>
              <p:cNvPr id="91" name=""/>
              <p:cNvSpPr/>
              <p:nvPr/>
            </p:nvSpPr>
            <p:spPr>
              <a:xfrm>
                <a:off x="558360" y="5994360"/>
                <a:ext cx="357120" cy="3362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8440" y="6030360"/>
                <a:ext cx="165240" cy="18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523e2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87480" y="5931000"/>
              <a:ext cx="665640" cy="23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530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835200" y="2584440"/>
            <a:ext cx="2147760" cy="1284120"/>
          </a:xfrm>
          <a:prstGeom prst="rect">
            <a:avLst/>
          </a:prstGeom>
          <a:solidFill>
            <a:srgbClr val="dfc08d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eek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Potential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estor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51160" y="3030480"/>
            <a:ext cx="2147760" cy="1284480"/>
          </a:xfrm>
          <a:prstGeom prst="rect">
            <a:avLst/>
          </a:prstGeom>
          <a:solidFill>
            <a:srgbClr val="dfc08d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estigate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ystems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1720" y="2517840"/>
            <a:ext cx="2148120" cy="1284120"/>
          </a:xfrm>
          <a:prstGeom prst="rect">
            <a:avLst/>
          </a:prstGeom>
          <a:solidFill>
            <a:srgbClr val="dfc08d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Research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the Web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355680"/>
            <a:ext cx="418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ustomer Requirement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71640" y="2073240"/>
            <a:ext cx="704376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arget health-conscious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tudy traffic patterns in selected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Interview potential customer base 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food preferences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ports preferences 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68400" y="219060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35200" y="2457360"/>
            <a:ext cx="1973520" cy="1973520"/>
          </a:xfrm>
          <a:prstGeom prst="ellipse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17760" y="5950080"/>
            <a:ext cx="4307040" cy="4744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eek ideas from everyone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14760" y="5478480"/>
            <a:ext cx="3713040" cy="47448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olve all in decision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6200" y="5000760"/>
            <a:ext cx="3171600" cy="4744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result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4680" y="4533840"/>
            <a:ext cx="2654640" cy="47484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credit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2040" y="264960"/>
            <a:ext cx="4281480" cy="1432080"/>
          </a:xfrm>
          <a:custGeom>
            <a:avLst/>
            <a:gdLst>
              <a:gd name="textAreaLeft" fmla="*/ 673200 w 4281480"/>
              <a:gd name="textAreaRight" fmla="*/ 3608280 w 4281480"/>
              <a:gd name="textAreaTop" fmla="*/ 143280 h 1432080"/>
              <a:gd name="textAreaBottom" fmla="*/ 906480 h 1432080"/>
            </a:gdLst>
            <a:ahLst/>
            <a:rect l="textAreaLeft" t="textAreaTop" r="textAreaRight" b="textAreaBottom"/>
            <a:pathLst>
              <a:path w="21600" h="21600">
                <a:moveTo>
                  <a:pt x="0" y="7926"/>
                </a:moveTo>
                <a:arcTo wR="21600" hR="35746" stAng="-6553957" swAng="407911"/>
                <a:lnTo>
                  <a:pt x="3396" y="2166"/>
                </a:lnTo>
                <a:arcTo wR="21600" hR="35746" stAng="-6146046" swAng="1492091"/>
                <a:lnTo>
                  <a:pt x="18204" y="5303"/>
                </a:lnTo>
                <a:arcTo wR="21600" hR="35746" stAng="-4653954" swAng="407911"/>
                <a:lnTo>
                  <a:pt x="18900" y="12582"/>
                </a:lnTo>
                <a:lnTo>
                  <a:pt x="21600" y="21600"/>
                </a:lnTo>
                <a:lnTo>
                  <a:pt x="21600" y="21600"/>
                </a:lnTo>
                <a:arcTo wR="21600" hR="35746" stAng="-4246043" swAng="-693215"/>
                <a:lnTo>
                  <a:pt x="15504" y="14532"/>
                </a:lnTo>
                <a:arcTo wR="21600" hR="35746" stAng="-4939258" swAng="-921484"/>
                <a:lnTo>
                  <a:pt x="6096" y="17669"/>
                </a:lnTo>
                <a:arcTo wR="21600" hR="35746" stAng="-5860742" swAng="-693215"/>
                <a:lnTo>
                  <a:pt x="2700" y="12582"/>
                </a:lnTo>
                <a:close/>
              </a:path>
              <a:path fill="none" w="21600" h="21600">
                <a:moveTo>
                  <a:pt x="6096" y="14532"/>
                </a:moveTo>
                <a:arcTo wR="21600" hR="35746" stAng="-5860742" swAng="-285304"/>
                <a:lnTo>
                  <a:pt x="6096" y="17669"/>
                </a:lnTo>
              </a:path>
              <a:path fill="none" w="21600" h="21600">
                <a:moveTo>
                  <a:pt x="15504" y="14532"/>
                </a:moveTo>
                <a:arcTo wR="21600" hR="35746" stAng="-4939258" swAng="285304"/>
                <a:lnTo>
                  <a:pt x="15504" y="17669"/>
                </a:lnTo>
              </a:path>
              <a:path fill="none" w="21600" h="21600">
                <a:moveTo>
                  <a:pt x="3396" y="5303"/>
                </a:moveTo>
                <a:lnTo>
                  <a:pt x="3396" y="15840"/>
                </a:lnTo>
              </a:path>
              <a:path fill="none" w="21600" h="21600">
                <a:moveTo>
                  <a:pt x="18204" y="5303"/>
                </a:moveTo>
                <a:lnTo>
                  <a:pt x="18204" y="15840"/>
                </a:lnTo>
              </a:path>
            </a:pathLst>
          </a:custGeom>
          <a:gradFill rotWithShape="0">
            <a:gsLst>
              <a:gs pos="0">
                <a:srgbClr val="dfc08d"/>
              </a:gs>
              <a:gs pos="50000">
                <a:srgbClr val="ffffcc"/>
              </a:gs>
              <a:gs pos="100000">
                <a:srgbClr val="dfc08d"/>
              </a:gs>
            </a:gsLst>
            <a:lin ang="108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09800" y="447840"/>
            <a:ext cx="232560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2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 </a:t>
            </a: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Teamwork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45080" y="2098800"/>
            <a:ext cx="303660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6:28:05Z</dcterms:created>
  <dc:creator>Pat Graves</dc:creator>
  <dc:description/>
  <dc:language>en-US</dc:language>
  <cp:lastModifiedBy>Pat Graves</cp:lastModifiedBy>
  <dcterms:modified xsi:type="dcterms:W3CDTF">2004-03-04T04:52:19Z</dcterms:modified>
  <cp:revision>7</cp:revision>
  <dc:subject/>
  <dc:title>Slide 1</dc:title>
</cp:coreProperties>
</file>