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F86-CEC1-4AFB-94F6-950DEE15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F42-D6E6-457A-8649-E90E8B1F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361-D726-4B83-86D6-153F0C30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BF4-FC96-4682-B470-25DDFD35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D2D7-0093-46D6-9A1F-162DA515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8BA9-C01C-4F45-859F-6EE8338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B98C-82A6-4B95-9045-9BD0124F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B701-D15E-45C0-A917-BFC41103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EACC-444B-474E-94E4-CD85AC5C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440" y="29700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187-FB01-4604-8E06-50DE5AC9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6764-0686-44EB-BD7B-1611377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C68-22F3-4F40-A680-757E0E3B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A1D3-E3B5-4EB1-B756-E7EF0BEE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0373-664B-4935-BD7E-7FCD717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698-613D-4BD3-9514-E4BCD23A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D24-6217-4D52-8330-666A8E46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3A94-C3D5-41F3-B21D-BDE8E58B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21D-45AF-4111-B874-32E1F59C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62E-B091-4450-AB31-6CA86CFF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729-95BA-4790-9466-903495CD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440" y="29700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60E-614B-4C65-B95B-82DEB5CC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745-7676-4DA4-AD19-458CAF5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761-1963-41E2-9018-034F0E94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B2C-BAEB-4B3D-ABF3-3EFA6039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48600" indent="-189720"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28040" indent="-189720">
              <a:lnSpc>
                <a:spcPct val="120000"/>
              </a:lnSpc>
              <a:spcBef>
                <a:spcPts val="1749"/>
              </a:spcBef>
              <a:buClr>
                <a:srgbClr val="f29b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07480" indent="-18972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140C-5FE1-4E2C-A2E6-F70B5B5DDD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65360"/>
            <a:ext cx="9144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46120" y="789120"/>
            <a:ext cx="1146240" cy="853920"/>
            <a:chOff x="546120" y="789120"/>
            <a:chExt cx="1146240" cy="853920"/>
          </a:xfrm>
        </p:grpSpPr>
        <p:sp>
          <p:nvSpPr>
            <p:cNvPr id="7" name=""/>
            <p:cNvSpPr/>
            <p:nvPr/>
          </p:nvSpPr>
          <p:spPr>
            <a:xfrm flipH="1">
              <a:off x="546120" y="789120"/>
              <a:ext cx="1146240" cy="85392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791280" y="1100160"/>
              <a:ext cx="520920" cy="38376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97680" y="949320"/>
              <a:ext cx="406440" cy="25668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1129680" y="806400"/>
              <a:ext cx="485640" cy="52668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1605960" y="1144440"/>
              <a:ext cx="68040" cy="9828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319040" y="1166760"/>
              <a:ext cx="300240" cy="20592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41280" y="1469880"/>
              <a:ext cx="190800" cy="12816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627840" y="1496880"/>
              <a:ext cx="136440" cy="4572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428840" y="954000"/>
              <a:ext cx="33120" cy="4896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32000" y="950760"/>
              <a:ext cx="33120" cy="4896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253520" y="1157040"/>
              <a:ext cx="81000" cy="4752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 rot="5400000">
            <a:off x="-3285360" y="3285360"/>
            <a:ext cx="685800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128000" y="6124680"/>
            <a:ext cx="1625400" cy="652320"/>
            <a:chOff x="7128000" y="6124680"/>
            <a:chExt cx="1625400" cy="652320"/>
          </a:xfrm>
        </p:grpSpPr>
        <p:sp>
          <p:nvSpPr>
            <p:cNvPr id="20" name=""/>
            <p:cNvSpPr txBox="1"/>
            <p:nvPr/>
          </p:nvSpPr>
          <p:spPr>
            <a:xfrm>
              <a:off x="8300520" y="6373080"/>
              <a:ext cx="452880" cy="40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7900560" y="6228360"/>
              <a:ext cx="586080" cy="548640"/>
              <a:chOff x="7900560" y="6228360"/>
              <a:chExt cx="586080" cy="548640"/>
            </a:xfrm>
          </p:grpSpPr>
          <p:sp>
            <p:nvSpPr>
              <p:cNvPr id="22" name=""/>
              <p:cNvSpPr/>
              <p:nvPr/>
            </p:nvSpPr>
            <p:spPr>
              <a:xfrm>
                <a:off x="7900560" y="6228360"/>
                <a:ext cx="586080" cy="5486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065080" y="6287400"/>
                <a:ext cx="271440" cy="305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 txBox="1"/>
            <p:nvPr/>
          </p:nvSpPr>
          <p:spPr>
            <a:xfrm>
              <a:off x="7128000" y="6124680"/>
              <a:ext cx="1092600" cy="38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Impact"/>
              </a:rPr>
              <a:t>Click to edit the title text format</a:t>
            </a:r>
            <a:endParaRPr b="1" lang="en-US" sz="58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1B5-B6A6-4DCB-8B64-83CEFC7C86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48360" y="5445000"/>
            <a:ext cx="2812680" cy="1130040"/>
            <a:chOff x="6048360" y="5445000"/>
            <a:chExt cx="2812680" cy="1130040"/>
          </a:xfrm>
        </p:grpSpPr>
        <p:sp>
          <p:nvSpPr>
            <p:cNvPr id="66" name=""/>
            <p:cNvSpPr txBox="1"/>
            <p:nvPr/>
          </p:nvSpPr>
          <p:spPr>
            <a:xfrm>
              <a:off x="8077320" y="5875200"/>
              <a:ext cx="783720" cy="69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7385760" y="5624640"/>
              <a:ext cx="1014120" cy="950400"/>
              <a:chOff x="7385760" y="5624640"/>
              <a:chExt cx="1014120" cy="950400"/>
            </a:xfrm>
          </p:grpSpPr>
          <p:sp>
            <p:nvSpPr>
              <p:cNvPr id="68" name=""/>
              <p:cNvSpPr/>
              <p:nvPr/>
            </p:nvSpPr>
            <p:spPr>
              <a:xfrm>
                <a:off x="7385760" y="5624640"/>
                <a:ext cx="1014120" cy="95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70520" y="5726880"/>
                <a:ext cx="469440" cy="529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 txBox="1"/>
            <p:nvPr/>
          </p:nvSpPr>
          <p:spPr>
            <a:xfrm>
              <a:off x="6048360" y="5445000"/>
              <a:ext cx="1890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0" y="1197000"/>
            <a:ext cx="2092320" cy="1576440"/>
            <a:chOff x="0" y="1197000"/>
            <a:chExt cx="2092320" cy="1576440"/>
          </a:xfrm>
        </p:grpSpPr>
        <p:sp>
          <p:nvSpPr>
            <p:cNvPr id="72" name=""/>
            <p:cNvSpPr/>
            <p:nvPr/>
          </p:nvSpPr>
          <p:spPr>
            <a:xfrm flipH="1">
              <a:off x="0" y="1197000"/>
              <a:ext cx="2092320" cy="157644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50360" y="1771560"/>
              <a:ext cx="950760" cy="70812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77920" y="1495440"/>
              <a:ext cx="743040" cy="47124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067760" y="1228680"/>
              <a:ext cx="885960" cy="97308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36800" y="1852560"/>
              <a:ext cx="125280" cy="18252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411200" y="1893960"/>
              <a:ext cx="549360" cy="38088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270080" y="2452680"/>
              <a:ext cx="347760" cy="23796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51560" y="2503440"/>
              <a:ext cx="249480" cy="8568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12800" y="1503360"/>
              <a:ext cx="60480" cy="889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436040" y="1496880"/>
              <a:ext cx="58680" cy="9216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292400" y="1878120"/>
              <a:ext cx="147600" cy="8712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0" y="2816280"/>
            <a:ext cx="914400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20000"/>
              </a:lnSpc>
              <a:spcBef>
                <a:spcPts val="1125"/>
              </a:spcBef>
              <a:buClr>
                <a:srgbClr val="f29b0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20000"/>
              </a:lnSpc>
              <a:spcBef>
                <a:spcPts val="1125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Impact"/>
              </a:rPr>
              <a:t>New York Marathon</a:t>
            </a:r>
            <a:endParaRPr b="1" lang="en-US" sz="58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64000" y="3270240"/>
            <a:ext cx="5108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e-race Part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ntertainment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lectrolytes will be here for marathon eve, injecting mental energy for al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ulie will again lead her famous pre-marathon “Pump-you-up” cha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Pre Marathon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Carbo Loading Menu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rathon Ang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huge pile of angel hair with fat-free tomato sauce and sprinkled with tiny bite-sized meat bal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gel Bonanz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gels brushed with a mixture of olive oil, garlic, and delicate herb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11-19T23:58:02Z</cp:lastPrinted>
  <dcterms:modified xsi:type="dcterms:W3CDTF">2004-03-08T06:12:30Z</dcterms:modified>
  <cp:revision>43</cp:revision>
  <dc:subject/>
  <dc:title>New York Marathon Pre-Race Party</dc:title>
</cp:coreProperties>
</file>