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71D-FD8B-4BFF-BDB5-1C3615ED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677-ECC7-4100-9951-EB50F0B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65F-A426-4681-A7DF-17FBD667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5EA-D711-4017-9F3A-26325E6C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1491-4B13-4592-B03E-C7B719CE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8BD-5E41-4CA7-B93E-9D912C0B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D708-3950-469E-A37B-3B1DE203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D23-B1F9-423B-B77C-8BC83A7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810-F30A-43D6-927D-DE4E3DBF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335A-7F5E-4D35-B7A9-9231D2C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7C6A-CF2A-4ECF-8FF3-09314A7F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9FB-AAAA-44F2-8208-D5F9C70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6B5-EC9C-4E72-BAB3-3793272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147-3896-4519-9C04-E250A0A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296-9256-405C-A1ED-1BE073B5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5FE-40EF-44A6-BF84-B821470E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5BA-EEA1-4EEA-8447-28D98D55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2BA-DDE1-4D96-A99E-59A9FBA5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2F-E998-427E-804A-1193A32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805-DD76-436B-B911-6A541B6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677-E293-4922-9752-EE40ED2D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DA3-0677-423F-8421-A7564A9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ABC-8C2E-468E-B665-1C77938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2F1-B367-4CFE-8EB0-970C76F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D484-CE7D-4840-824A-91AECA6FBC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920-5288-4C1C-9F81-63C581335B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Franchise Training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5,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Sales Strategy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ing health-conscious individ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ring low-fat menu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t to the local community with employee volunt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51080" y="4648320"/>
          <a:ext cx="284184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4648320"/>
                    <a:ext cx="2841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nnual Predicted Sal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7080" y="2517840"/>
          <a:ext cx="625968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517840"/>
                    <a:ext cx="625968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Food and Good Tim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Our Staff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 Irvinelli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lie Wolfe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Olafsen,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Head Ch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uck Warden, MI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a Suzi Marabella, Train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7-06-23T15:37:06Z</cp:lastPrinted>
  <dcterms:modified xsi:type="dcterms:W3CDTF">2004-03-08T06:28:37Z</dcterms:modified>
  <cp:revision>42</cp:revision>
  <dc:subject/>
  <dc:title>Good 4 U Franchise Training</dc:title>
</cp:coreProperties>
</file>