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831-BE48-4E4E-8190-D5438323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7F5-E6FF-42F4-B287-8115EA2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6D1-4DCE-4FCB-994C-7BF9C13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4952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420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484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4952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420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082-2B38-4074-B8C1-1D49A8D8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0A48-18BE-4802-9B88-54212C53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593F-DE0D-40CC-A8C8-FF0E1AA3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29A9-A067-476F-815D-01E66D5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2F25-8AB1-46C3-BD82-5CB26B75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E9A3-C30D-4432-A277-886691F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3E15-A111-4D44-94F6-C802E49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B00E-E5ED-4A7F-80B1-B57640D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1C4-D0FE-48B3-B695-95149ED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405-A9F9-41DA-937F-71A001C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422D-11C4-458D-88A0-5DD1B7D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6AE7-BC75-44EC-9F8E-B44B277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EF1-C573-4CD1-9AAD-FFB9720A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952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420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0484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952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420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F464-52EB-46E4-8983-D9E858DD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500-812D-44EF-8671-B514774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500-CAA7-42BB-8C9A-C79DE7E9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DD5-E8CB-46D6-841F-147DE24A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A73-390F-48A3-A608-F0E3EC54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7B3-141C-4CF4-9628-ABF173E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226-5565-467D-9B91-48376DA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4D1-9D26-462F-AC7C-0E9B076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Click to edit the title text format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A893-5F45-464B-8C98-17A5474D6A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89855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723000" y="5829480"/>
            <a:ext cx="2136960" cy="863280"/>
            <a:chOff x="6723000" y="5829480"/>
            <a:chExt cx="2136960" cy="863280"/>
          </a:xfrm>
        </p:grpSpPr>
        <p:sp>
          <p:nvSpPr>
            <p:cNvPr id="6" name=""/>
            <p:cNvSpPr txBox="1"/>
            <p:nvPr/>
          </p:nvSpPr>
          <p:spPr>
            <a:xfrm>
              <a:off x="8264520" y="6158160"/>
              <a:ext cx="595440" cy="53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738920" y="5966640"/>
              <a:ext cx="770400" cy="726120"/>
              <a:chOff x="7738920" y="5966640"/>
              <a:chExt cx="770400" cy="726120"/>
            </a:xfrm>
          </p:grpSpPr>
          <p:sp>
            <p:nvSpPr>
              <p:cNvPr id="8" name=""/>
              <p:cNvSpPr/>
              <p:nvPr/>
            </p:nvSpPr>
            <p:spPr>
              <a:xfrm>
                <a:off x="7738920" y="5966640"/>
                <a:ext cx="770400" cy="7261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955280" y="6044760"/>
                <a:ext cx="356760" cy="404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2ddd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 txBox="1"/>
            <p:nvPr/>
          </p:nvSpPr>
          <p:spPr>
            <a:xfrm>
              <a:off x="6723000" y="5829480"/>
              <a:ext cx="143640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 Rounded MT Bold"/>
              </a:rPr>
              <a:t>Click to edit the title text format</a:t>
            </a:r>
            <a:endParaRPr b="1" lang="en-US" sz="72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0F8-7C59-421B-8507-649E9686E6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2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5756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10440" algn="ctr">
              <a:spcBef>
                <a:spcPts val="601"/>
              </a:spcBef>
              <a:buClr>
                <a:srgbClr val="898555"/>
              </a:buClr>
              <a:buFont typeface="Arial Rounded MT Bol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1044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1044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2f2"/>
                </a:solidFill>
                <a:latin typeface="Arial Rounded MT Bold"/>
              </a:rPr>
              <a:t>Nutrition Seminar </a:t>
            </a:r>
            <a:endParaRPr b="1" lang="en-US" sz="66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3367080"/>
            <a:ext cx="5790960" cy="2424240"/>
          </a:xfrm>
          <a:prstGeom prst="rect">
            <a:avLst/>
          </a:prstGeom>
          <a:solidFill>
            <a:srgbClr val="e2ddd4"/>
          </a:solidFill>
          <a:ln cap="sq" w="190440">
            <a:solidFill>
              <a:srgbClr val="898555"/>
            </a:solidFill>
            <a:miter/>
          </a:ln>
        </p:spPr>
        <p:txBody>
          <a:bodyPr lIns="365760" rIns="365760" tIns="411480" bIns="41148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Sponsored b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430440" y="4495680"/>
            <a:ext cx="2285640" cy="922320"/>
            <a:chOff x="3430440" y="4495680"/>
            <a:chExt cx="2285640" cy="922320"/>
          </a:xfrm>
        </p:grpSpPr>
        <p:sp>
          <p:nvSpPr>
            <p:cNvPr id="91" name=""/>
            <p:cNvSpPr txBox="1"/>
            <p:nvPr/>
          </p:nvSpPr>
          <p:spPr>
            <a:xfrm>
              <a:off x="5079240" y="484668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17280" y="4642200"/>
              <a:ext cx="824040" cy="775440"/>
              <a:chOff x="4517280" y="4642200"/>
              <a:chExt cx="824040" cy="775440"/>
            </a:xfrm>
          </p:grpSpPr>
          <p:sp>
            <p:nvSpPr>
              <p:cNvPr id="93" name=""/>
              <p:cNvSpPr/>
              <p:nvPr/>
            </p:nvSpPr>
            <p:spPr>
              <a:xfrm>
                <a:off x="4517280" y="464220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48760" y="472572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2ddd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430440" y="449568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Who Should Attend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04840" y="1965240"/>
            <a:ext cx="6934320" cy="35877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ood 4 U chef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thle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-care profession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dividuals interested in healthy eat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504800"/>
            <a:ext cx="8229600" cy="4191120"/>
          </a:xfrm>
          <a:prstGeom prst="rect">
            <a:avLst/>
          </a:prstGeom>
          <a:solidFill>
            <a:srgbClr val="89855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When and Where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657440"/>
            <a:ext cx="3809880" cy="1218960"/>
          </a:xfrm>
          <a:prstGeom prst="rightArrow">
            <a:avLst>
              <a:gd name="adj1" fmla="val 50000"/>
              <a:gd name="adj2" fmla="val 78138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ebruary 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847880"/>
            <a:ext cx="3200400" cy="83808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952720"/>
            <a:ext cx="3809880" cy="1219320"/>
          </a:xfrm>
          <a:prstGeom prst="rightArrow">
            <a:avLst>
              <a:gd name="adj1" fmla="val 50000"/>
              <a:gd name="adj2" fmla="val 78115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y 10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143160"/>
            <a:ext cx="3200400" cy="83844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286160"/>
            <a:ext cx="3809880" cy="1219320"/>
          </a:xfrm>
          <a:prstGeom prst="rightArrow">
            <a:avLst>
              <a:gd name="adj1" fmla="val 50000"/>
              <a:gd name="adj2" fmla="val 78115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ptember 8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476600"/>
            <a:ext cx="3200400" cy="83844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Daily Activities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30240"/>
            <a:ext cx="7925040" cy="35877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utrition lectures in the morn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y food sampling at lunchtim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eisure activities in the afternoon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ussion groups in the even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Leisure Activities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04840" y="1837800"/>
            <a:ext cx="6934320" cy="368460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il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olf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-line skate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y cooking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Arial Rounded MT Bold"/>
              </a:rPr>
              <a:t>Cost/Accommodations</a:t>
            </a:r>
            <a:endParaRPr b="1" lang="en-US" sz="54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55440"/>
            <a:ext cx="8229600" cy="39783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l-inclusive cost is  $900 for each pers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cludes room for 3 nights, all meals, scheduled activities, and gratuiti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st based on double occupancy. For single occupancy add $250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To Good Health!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4046400"/>
            <a:ext cx="3429000" cy="220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08400" y="3559320"/>
            <a:ext cx="2787480" cy="1622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637240" y="4778280"/>
            <a:ext cx="27446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16:01Z</dcterms:created>
  <dc:creator>Pat R. Graves</dc:creator>
  <dc:description/>
  <dc:language>en-US</dc:language>
  <cp:lastModifiedBy>Ms. Malnick</cp:lastModifiedBy>
  <dcterms:modified xsi:type="dcterms:W3CDTF">2004-04-07T00:05:55Z</dcterms:modified>
  <cp:revision>11</cp:revision>
  <dc:subject/>
  <dc:title>Nutrition Seminar </dc:title>
</cp:coreProperties>
</file>