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1.png" ContentType="image/png"/>
  <Override PartName="/ppt/media/image6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20.wmf" ContentType="image/x-wmf"/>
  <Override PartName="/ppt/media/image4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5.png" ContentType="image/png"/>
  <Override PartName="/ppt/media/image3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Click to move the slide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AEBE-8AB7-40F0-BFFD-73765E196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-Roman"/>
              </a:rPr>
              <a:t>To further customize the look of a design template, users can modify or delete existing objects (lines, shapes, images) and add their own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-Condensed"/>
              </a:rPr>
              <a:t>Advise students to emphasize slide titles more than the body text and to use one or two fonts in a presen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explain to students how changing a color in a color scheme is different from using a color that is not part of a color scheme. Also, remind students that objects colored with color scheme colors will change color when a different scheme is applied. Objects colored with colors that are not part of the color scheme will remain unchanged when a different color scheme is a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-Condensed"/>
              </a:rPr>
              <a:t>Inform students that PowerPoint saves templates in the Templates fol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 students that they can apply a design template or a color scheme from another presentation to a new presentation or a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-Roman"/>
              </a:rPr>
              <a:t>Inform students that the </a:t>
            </a:r>
            <a:r>
              <a:rPr b="0" lang="en-US" sz="1200" spc="-1" strike="noStrike">
                <a:solidFill>
                  <a:srgbClr val="000000"/>
                </a:solidFill>
                <a:latin typeface="Palatino-Bold"/>
              </a:rPr>
              <a:t>Browse </a:t>
            </a:r>
            <a:r>
              <a:rPr b="0" lang="en-US" sz="1200" spc="-1" strike="noStrike">
                <a:solidFill>
                  <a:srgbClr val="000000"/>
                </a:solidFill>
                <a:latin typeface="Palatino-Roman"/>
              </a:rPr>
              <a:t>command at the bottom of the Slide Design task pane opens the Apply Design Template dialog box. </a:t>
            </a:r>
            <a:r>
              <a:rPr b="0" lang="en-US" sz="1200" spc="-1" strike="noStrike">
                <a:solidFill>
                  <a:srgbClr val="000000"/>
                </a:solidFill>
                <a:latin typeface="Futura"/>
              </a:rPr>
              <a:t>They can also open the Slide Design task pane by double-clicking the current template name in the center of the status bar (below the Slide pan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way to apply a design from another presentation is to open the presentation and use the Format Painter button to copy the design from a slide thumbnail to selected slide thumbnails in the other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 students that they can change background effects for an entire presentation or a slide. The effects can be solid colors, gradient fills, textures, or pictures. There are many ways to change a background – </a:t>
            </a:r>
            <a:r>
              <a:rPr b="0" lang="en-US" sz="1200" spc="-1" strike="noStrike">
                <a:solidFill>
                  <a:srgbClr val="000000"/>
                </a:solidFill>
                <a:latin typeface="Palatino-Roman"/>
              </a:rPr>
              <a:t>choose </a:t>
            </a:r>
            <a:r>
              <a:rPr b="0" lang="en-US" sz="1200" spc="-1" strike="noStrike">
                <a:solidFill>
                  <a:srgbClr val="000000"/>
                </a:solidFill>
                <a:latin typeface="Futura"/>
              </a:rPr>
              <a:t>Format</a:t>
            </a:r>
            <a:r>
              <a:rPr b="0" lang="en-US" sz="1200" spc="-1" strike="noStrike">
                <a:solidFill>
                  <a:srgbClr val="000000"/>
                </a:solidFill>
                <a:latin typeface="Palatino-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Futura"/>
              </a:rPr>
              <a:t>Background</a:t>
            </a:r>
            <a:r>
              <a:rPr b="0" lang="en-US" sz="1200" spc="-1" strike="noStrike">
                <a:solidFill>
                  <a:srgbClr val="000000"/>
                </a:solidFill>
                <a:latin typeface="Palatino-Roman"/>
              </a:rPr>
              <a:t>; 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dd an object or objects to the slide and title mas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SsymbolsTwo"/>
              </a:rPr>
              <a:t>Ensure that </a:t>
            </a:r>
            <a:r>
              <a:rPr b="0" lang="en-US" sz="1200" spc="-1" strike="noStrike">
                <a:solidFill>
                  <a:srgbClr val="000000"/>
                </a:solidFill>
                <a:latin typeface="Futura-Condensed"/>
              </a:rPr>
              <a:t>students a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re of the difference between</a:t>
            </a:r>
            <a:r>
              <a:rPr b="0" lang="en-US" sz="1200" spc="-1" strike="noStrike">
                <a:solidFill>
                  <a:srgbClr val="000000"/>
                </a:solidFill>
                <a:latin typeface="Futura-Condensed"/>
              </a:rPr>
              <a:t> the Apply and the Apply to All butt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7720" y="36594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7400" y="129528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7720" y="36594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37400" y="36594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43120" y="129528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48520" y="129528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7720" y="36594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43120" y="36594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48520" y="36594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37400" y="129528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057400" y="0"/>
            <a:ext cx="4952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0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37400" y="129528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7720" y="36594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7400" y="129528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37400" y="36594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7400" y="129528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36594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295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2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2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19920" indent="-217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954440" indent="-217080">
              <a:lnSpc>
                <a:spcPct val="2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954440" indent="-217080">
              <a:lnSpc>
                <a:spcPct val="2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954440" indent="-217080">
              <a:lnSpc>
                <a:spcPct val="2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package" Target="../embeddings/oleObject1.ppt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package" Target="../embeddings/oleObject1.ppt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Lesson 9-Customizing Templates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786040" y="1643040"/>
            <a:ext cx="3571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Rearrange Template Graphics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571680" y="4648320"/>
            <a:ext cx="8001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rranging template 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98760" y="2362320"/>
            <a:ext cx="59464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Reposition Template Placeholders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51814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holder position on the title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286000" y="1684440"/>
            <a:ext cx="45543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Reposition Template Placeholders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51814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holder position on the slide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543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Change Template Placeholder Font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nts can be changed in the master slide to make the text easier to re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s can select and edit font colors, sizes, and effect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Create a New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Design Template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 the slide master backgrou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it color schem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ert a title slide mas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drawing tools to create background graphic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ert graphics on a templ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e a new templat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Change the Slide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Master Background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s can apply a background, AutoShapes, lines, and pictures to the slide master and the title mas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ont, size, color, and position of text placeholders can be customized to meet a desig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Edit Color Scheme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333440" y="548640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iting a Color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93800" y="1434960"/>
            <a:ext cx="57546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Insert a Title Slide Master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1333440" y="51814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ing a new title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05280" y="1724040"/>
            <a:ext cx="31334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Use Drawing Tools to Create Background Graphics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1333440" y="56386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ted title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86080" y="1276200"/>
            <a:ext cx="621000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Insert Graphics 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on a Template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s can add graphics to the design template to enhance a presentation’s the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s can add more than one picture to slide mast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Overview 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 with backgroun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ize an existing design templ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a new design templ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ly design templates and color schemes from other present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Save a New Template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1333440" y="55627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 desig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887480" y="1249200"/>
            <a:ext cx="536724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Apply Design Templates and Color Schemes from Other Presentations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ly templates from other sour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ly a customized design from another present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py a color scheme from another present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Apply Templates from Other Sources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mplates available in other folders can also be applied to a present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rowse button in the Slide Design task pane can be used to locate the desired templ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315200" y="5657760"/>
          <a:ext cx="1371600" cy="1200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5657760"/>
                    <a:ext cx="13716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Apply a Customized Design from Another Presentation 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5257800"/>
            <a:ext cx="7925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oosing a presentation file to apply its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871640" y="1677960"/>
            <a:ext cx="5367240" cy="350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7391520" y="5657760"/>
          <a:ext cx="1371600" cy="120024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91520" y="5657760"/>
                    <a:ext cx="13716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Copy a Color Scheme from Another Presentation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ormat Painter tool is used to copy the color scheme from a master slide thumbnail in one presentation to a master slide thumbnail in another present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pying from and to slide thumbnails changes the design templ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620120" y="5638680"/>
          <a:ext cx="1371600" cy="12002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0120" y="5638680"/>
                    <a:ext cx="13716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Summary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ackground dialog box (Format, Background) is used to apply a background effect to one or more slides in a presen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pply to All command in the Background dialog box applies a background effect to all slides in a presen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Summary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color schemes can be customiz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s can customize a predesigned template by rearranging graphics, changing the background, repositioning placeholders, and changing font treat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users use the Format Painter button on a master thumbnail, it copies only the color scheme and the background effe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Work with Backgrounds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 background color for an entire present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a picture background for an entire present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 the background for an individual sli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mit slide master graphics from an individual slid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Change Background Color for an Entire Presentation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2171880" y="472428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ckground dialog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46640" y="2146320"/>
            <a:ext cx="2250720" cy="256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7391520" y="5657760"/>
          <a:ext cx="1371600" cy="120024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91520" y="5657760"/>
                    <a:ext cx="13716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Create a Picture Background for an 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Entire Presentation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55627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cting a picture for a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847960" y="1295280"/>
            <a:ext cx="3446640" cy="417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7391520" y="5334120"/>
          <a:ext cx="1371600" cy="119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91520" y="5334120"/>
                    <a:ext cx="1371600" cy="11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Change the Background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for an Individual Slide 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s can add different backgrounds to one or more slides in a present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y can do this by clicking Apply button in the Background dialog box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Omit Slide Master Graphics from an Individual Slide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s can eliminate master slide graphics on an individual slide by using the Background dialog box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ing Omit background graphics from master option allows users to customize the design of a slide or a selection of slid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Customize an Existing Design Template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 presentation backgrou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rrange template graphic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osition template placehold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 template placeholder fo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Change Presentation Background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571680" y="5638680"/>
            <a:ext cx="800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ing the background color on a title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65200" y="1278000"/>
            <a:ext cx="621180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1:23:19Z</dcterms:created>
  <dc:creator>Zenobia</dc:creator>
  <dc:description/>
  <dc:language>en-US</dc:language>
  <cp:lastModifiedBy>Administrator</cp:lastModifiedBy>
  <dcterms:modified xsi:type="dcterms:W3CDTF">2004-07-26T14:25:24Z</dcterms:modified>
  <cp:revision>306</cp:revision>
  <dc:subject/>
  <dc:title>Overview </dc:title>
</cp:coreProperties>
</file>