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0B695F-B7CA-40D8-B75C-F3A1638454C1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58840" y="701280"/>
            <a:ext cx="4616640" cy="345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794800"/>
            <a:ext cx="30034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30480" y="8794800"/>
            <a:ext cx="30038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180EF4-53EC-4F1B-8AFC-F9B102A14E1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60640" y="701640"/>
            <a:ext cx="4613040" cy="3459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23400" y="4397040"/>
            <a:ext cx="5086440" cy="4167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6A1-004D-44AB-920C-8E156128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95D-7E06-4E0C-AEF6-A684F51D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D97-C4C9-487F-924B-9C5439CE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94C-3BBE-4994-B13B-0A340C8D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2060-3718-47DB-BB33-BAE948E5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298F-CCC6-418C-8CCC-4987A7CF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3144-299A-4245-BCF1-A5AF129A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B25F-C297-4ED5-8565-9CFEF220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DF52-DF72-482B-A1DC-85B09976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2265-98DA-451E-BA84-299CA4C8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EC61-40DC-4C04-8CB4-F1C11047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A64-C85F-4900-AE25-CAB85CB9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2B5F-AA18-4962-8FF4-89FA3FE2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79E2-F095-4D0D-A515-DDB9E01E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00DC-563B-4862-8BA2-0F68E67D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DD66-8738-464C-B96E-F95CCD79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519B-7214-4658-A6FA-9AC77C3F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056-F1B6-4E27-8185-B584E376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79A-0C00-47D8-A2FF-44CC710E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7DE-B99D-4BB7-A673-5CB6DCAC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54120" y="228600"/>
            <a:ext cx="7556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9A3-0261-488D-9914-F8B0DA05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332-7F3D-43D7-A638-69FE2CEB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C0A-8C10-4D04-AC9C-F0506753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B4E-6439-4EC3-B713-979AD7FF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8534520" cy="1219320"/>
            <a:chOff x="0" y="152280"/>
            <a:chExt cx="8534520" cy="1219320"/>
          </a:xfrm>
        </p:grpSpPr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94D3-E51C-4012-9B3B-1BB898F5AE0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434880" y="893880"/>
            <a:ext cx="8048520" cy="1820880"/>
          </a:xfrm>
          <a:prstGeom prst="roundRect">
            <a:avLst>
              <a:gd name="adj" fmla="val 16667"/>
            </a:avLst>
          </a:prstGeom>
          <a:solidFill>
            <a:srgbClr val="75878b"/>
          </a:solidFill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7587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1297080"/>
            <a:ext cx="8991720" cy="1828800"/>
            <a:chOff x="0" y="1297080"/>
            <a:chExt cx="8991720" cy="1828800"/>
          </a:xfrm>
        </p:grpSpPr>
        <p:sp>
          <p:nvSpPr>
            <p:cNvPr id="48" name=""/>
            <p:cNvSpPr/>
            <p:nvPr/>
          </p:nvSpPr>
          <p:spPr>
            <a:xfrm>
              <a:off x="0" y="129708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7360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3D60-8936-40A0-B94D-FD37651279C8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33956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ree Years and Gro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4786200"/>
            <a:ext cx="6629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for the Athlete in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63720" y="3670200"/>
            <a:ext cx="54990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e002a"/>
                    </a:gs>
                  </a:gsLst>
                  <a:lin ang="5400000"/>
                </a:gradFill>
                <a:latin typeface="Impact"/>
              </a:rPr>
              <a:t>Healthy Food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de002a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91360" y="1333440"/>
            <a:ext cx="129528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 Bega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Irvinell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s came from a tennis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 Wolf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ie’s a well-known marathon ru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219400"/>
            <a:ext cx="231840" cy="231840"/>
          </a:xfrm>
          <a:prstGeom prst="star5">
            <a:avLst/>
          </a:prstGeom>
          <a:solidFill>
            <a:srgbClr val="efeb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ancial Histo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68280" y="1955880"/>
          <a:ext cx="6502680" cy="36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1955880"/>
                    <a:ext cx="650268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We’re Grow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9840" y="1873080"/>
            <a:ext cx="531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ami in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Angeles in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restaurants by 200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3886200"/>
            <a:ext cx="696960" cy="2319480"/>
          </a:xfrm>
          <a:prstGeom prst="upArrow">
            <a:avLst>
              <a:gd name="adj1" fmla="val 71296"/>
              <a:gd name="adj2" fmla="val 69703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89800" y="2971800"/>
            <a:ext cx="696960" cy="3233880"/>
          </a:xfrm>
          <a:prstGeom prst="upArrow">
            <a:avLst>
              <a:gd name="adj1" fmla="val 71296"/>
              <a:gd name="adj2" fmla="val 97182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04200" y="2057400"/>
            <a:ext cx="696960" cy="4148280"/>
          </a:xfrm>
          <a:prstGeom prst="upArrow">
            <a:avLst>
              <a:gd name="adj1" fmla="val 71296"/>
              <a:gd name="adj2" fmla="val 124660"/>
            </a:avLst>
          </a:prstGeom>
          <a:gradFill rotWithShape="0">
            <a:gsLst>
              <a:gs pos="0">
                <a:srgbClr val="ffcc00"/>
              </a:gs>
              <a:gs pos="100000">
                <a:srgbClr val="65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 to Exp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174600">
              <a:spcBef>
                <a:spcPts val="700"/>
              </a:spcBef>
              <a:buClr>
                <a:srgbClr val="ffff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4120" y="228600"/>
            <a:ext cx="755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ve Come a Long 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2400" y="2161800"/>
            <a:ext cx="809604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Steady revenue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Innovative menu plannin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We know our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Pat R. Graves</dc:creator>
  <dc:description/>
  <dc:language>en-US</dc:language>
  <cp:lastModifiedBy>Pat Graves</cp:lastModifiedBy>
  <cp:lastPrinted>1997-08-11T17:17:08Z</cp:lastPrinted>
  <dcterms:modified xsi:type="dcterms:W3CDTF">2004-03-24T23:11:42Z</dcterms:modified>
  <cp:revision>102</cp:revision>
  <dc:subject/>
  <dc:title>Three Years and Growing</dc:title>
</cp:coreProperties>
</file>