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150-A89C-42B4-A55C-67964909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11A-A9A9-4B22-8386-9AB4AA25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B3C-8214-404B-BD73-783BD7A4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13E-40E4-49B6-883E-BF9C31C3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1D70-20B7-43C2-89D0-8A14B131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D7FB-37BF-4D49-92AC-9B9F9E5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76D5-1F93-4275-A9B9-24E6896F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8B45-E885-4661-867C-3B58BDD0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9A0C-DD11-47D6-922F-7CE4154D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1E1E-F38F-4352-A7C9-A1C35E4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1194-A8BF-42BB-A541-E2B3A156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BB4-922B-435A-B596-4452216D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A575-CB35-4B09-836A-9D0D3E43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F5B8-AC4C-4835-ADB9-73A3312B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7305-3333-4681-B102-C5BCFE38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1C97-C228-4996-8267-E413E90E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C4B7-4F6C-4CDC-96E6-E9EFD5A6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B9D-179B-42C9-ADDD-B7047E32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3A7-ADD3-4399-831A-4497F489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390-5A2C-4067-A41F-1358CE3C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-3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141-1702-48AD-8D44-DE85C7BA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98A-D021-4DE6-8274-746E9C9C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4C7-B6C2-4E13-A54E-DC4B59F3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AB9-9F02-4564-96B6-FB54DF5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"/>
          <p:cNvSpPr/>
          <p:nvPr/>
        </p:nvSpPr>
        <p:spPr>
          <a:xfrm>
            <a:off x="533520" y="-12600"/>
            <a:ext cx="8610480" cy="866520"/>
          </a:xfrm>
          <a:prstGeom prst="rect">
            <a:avLst/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8716-4D77-4048-8951-6BEBC6E3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0120" y="6167520"/>
            <a:ext cx="1371240" cy="538200"/>
            <a:chOff x="7620120" y="6167520"/>
            <a:chExt cx="1371240" cy="538200"/>
          </a:xfrm>
        </p:grpSpPr>
        <p:sp>
          <p:nvSpPr>
            <p:cNvPr id="47" name=""/>
            <p:cNvSpPr txBox="1"/>
            <p:nvPr/>
          </p:nvSpPr>
          <p:spPr>
            <a:xfrm>
              <a:off x="8609400" y="6372360"/>
              <a:ext cx="381960" cy="3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8272080" y="6252840"/>
              <a:ext cx="494640" cy="452520"/>
              <a:chOff x="8272080" y="6252840"/>
              <a:chExt cx="494640" cy="452520"/>
            </a:xfrm>
          </p:grpSpPr>
          <p:sp>
            <p:nvSpPr>
              <p:cNvPr id="49" name=""/>
              <p:cNvSpPr/>
              <p:nvPr/>
            </p:nvSpPr>
            <p:spPr>
              <a:xfrm>
                <a:off x="8272080" y="6252840"/>
                <a:ext cx="494640" cy="452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11040" y="6301440"/>
                <a:ext cx="228960" cy="25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 txBox="1"/>
            <p:nvPr/>
          </p:nvSpPr>
          <p:spPr>
            <a:xfrm>
              <a:off x="7620120" y="6167520"/>
              <a:ext cx="921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33520" y="87480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533520" y="914400"/>
            <a:ext cx="8610480" cy="1752480"/>
          </a:xfrm>
          <a:prstGeom prst="rect">
            <a:avLst/>
          </a:pr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480A-D31A-4BBF-A916-4B1D8CBCF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</a:rPr>
              <a:t>Employee Meeting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91320" y="5105520"/>
            <a:ext cx="2895480" cy="1168200"/>
            <a:chOff x="5791320" y="5105520"/>
            <a:chExt cx="2895480" cy="1168200"/>
          </a:xfrm>
        </p:grpSpPr>
        <p:sp>
          <p:nvSpPr>
            <p:cNvPr id="175" name=""/>
            <p:cNvSpPr txBox="1"/>
            <p:nvPr/>
          </p:nvSpPr>
          <p:spPr>
            <a:xfrm>
              <a:off x="7880040" y="5550120"/>
              <a:ext cx="806760" cy="72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167960" y="5291280"/>
              <a:ext cx="1044000" cy="982440"/>
              <a:chOff x="7167960" y="5291280"/>
              <a:chExt cx="1044000" cy="982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167960" y="5291280"/>
                <a:ext cx="1044000" cy="982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61000" y="5397120"/>
                <a:ext cx="483120" cy="54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5791320" y="5105520"/>
              <a:ext cx="19461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-33840"/>
            <a:ext cx="8229600" cy="88740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ganization Chang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ord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7T13:04:04Z</dcterms:created>
  <dc:creator>Pat R. Graves</dc:creator>
  <dc:description/>
  <dc:language>en-US</dc:language>
  <cp:lastModifiedBy>Student Name</cp:lastModifiedBy>
  <dcterms:modified xsi:type="dcterms:W3CDTF">2004-04-11T04:30:03Z</dcterms:modified>
  <cp:revision>16</cp:revision>
  <dc:subject/>
  <dc:title>Employee Meeting</dc:title>
</cp:coreProperties>
</file>