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7D8-BBE8-4E1F-B582-6FD3B699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95E-9863-45A4-85B3-B81D9D41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C6B-CAFF-43E3-B10E-DB6A292A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EF0-CF27-47E8-BE79-243B3015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6484-76FF-4C8A-966E-B62BECC7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CD6C-A694-4411-AF37-4DC1E78E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F37A-B237-41B0-B470-68172A91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B515-7B3B-4BAA-A147-C78586AD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92D1-51AB-4A0D-A924-4A72EAD0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E6BC-2C3E-4978-8650-063DA79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0358-94A2-4662-BBEF-5A66A50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E4F-1E39-4AC6-9274-0009C2B2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663-E3B3-42A6-AA62-9063CDC6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EC28-0A9E-4B96-9DF6-05C9DAF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2AFF-12C7-4592-A408-BBC81AD0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29D3-9083-47BA-B6CD-34A8C3E0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ED8E-F861-4AAF-95E5-D9C7588D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693-74D9-43DF-86CA-7115F58D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BD1-5775-4AE2-91AE-BD77272F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891-201B-42CC-A8FC-E311C482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50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17B-AA86-46BB-9C18-6BAC0E1A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960-F241-416C-923F-D92F72C6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088-69CD-4CCB-B7EB-B6839C35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39F-BA45-42EA-AA02-B9413194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9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8f9cb"/>
                </a:gs>
                <a:gs pos="100000">
                  <a:srgbClr val="e8e9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8f9cb"/>
                </a:gs>
                <a:gs pos="100000">
                  <a:srgbClr val="fefe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0C5C-DCEF-48C0-84FB-184D895E89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094520" y="6021360"/>
            <a:ext cx="1654200" cy="666720"/>
            <a:chOff x="7094520" y="6021360"/>
            <a:chExt cx="1654200" cy="666720"/>
          </a:xfrm>
        </p:grpSpPr>
        <p:sp>
          <p:nvSpPr>
            <p:cNvPr id="9" name=""/>
            <p:cNvSpPr txBox="1"/>
            <p:nvPr/>
          </p:nvSpPr>
          <p:spPr>
            <a:xfrm>
              <a:off x="8287920" y="6275160"/>
              <a:ext cx="4608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7880760" y="6127200"/>
              <a:ext cx="596520" cy="560520"/>
              <a:chOff x="7880760" y="6127200"/>
              <a:chExt cx="596520" cy="560520"/>
            </a:xfrm>
          </p:grpSpPr>
          <p:sp>
            <p:nvSpPr>
              <p:cNvPr id="11" name=""/>
              <p:cNvSpPr/>
              <p:nvPr/>
            </p:nvSpPr>
            <p:spPr>
              <a:xfrm>
                <a:off x="7880760" y="6127200"/>
                <a:ext cx="596520" cy="560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048160" y="6187320"/>
                <a:ext cx="276120" cy="31212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8f9cb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 txBox="1"/>
            <p:nvPr/>
          </p:nvSpPr>
          <p:spPr>
            <a:xfrm>
              <a:off x="7094520" y="6021360"/>
              <a:ext cx="1112040" cy="39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9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8f9cb"/>
                </a:gs>
                <a:gs pos="100000">
                  <a:srgbClr val="d1d2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8f9cb"/>
                </a:gs>
                <a:gs pos="100000">
                  <a:srgbClr val="fefe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0534-2C61-4F84-A943-E80CCB7569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37800" y="399600"/>
            <a:ext cx="71262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9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" y="399600"/>
            <a:ext cx="71262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Tahoma"/>
              </a:rPr>
              <a:t>Special Events</a:t>
            </a:r>
            <a:endParaRPr b="1" lang="en-US" sz="6000" spc="-1" strike="noStrike">
              <a:solidFill>
                <a:srgbClr val="996600"/>
              </a:solidFill>
              <a:latin typeface="Tahom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16360" y="2816280"/>
            <a:ext cx="4788000" cy="2232000"/>
            <a:chOff x="3816360" y="2816280"/>
            <a:chExt cx="4788000" cy="2232000"/>
          </a:xfrm>
        </p:grpSpPr>
        <p:sp>
          <p:nvSpPr>
            <p:cNvPr id="96" name=""/>
            <p:cNvSpPr/>
            <p:nvPr/>
          </p:nvSpPr>
          <p:spPr>
            <a:xfrm>
              <a:off x="3816360" y="2816280"/>
              <a:ext cx="4788000" cy="2232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8f9c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392720" y="3969000"/>
              <a:ext cx="3673440" cy="9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993366"/>
                  </a:solidFill>
                  <a:latin typeface="Lucida Calligraphy"/>
                </a:rPr>
                <a:t>Healthy food for the athlete in you</a:t>
              </a:r>
              <a:endPara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Lucida Calligraphy"/>
                <a:ea typeface="Lucida Calligraphy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932360" y="3069000"/>
              <a:ext cx="2952720" cy="1163520"/>
              <a:chOff x="4932360" y="3069000"/>
              <a:chExt cx="2952720" cy="1163520"/>
            </a:xfrm>
          </p:grpSpPr>
          <p:sp>
            <p:nvSpPr>
              <p:cNvPr id="99" name=""/>
              <p:cNvSpPr txBox="1"/>
              <p:nvPr/>
            </p:nvSpPr>
            <p:spPr>
              <a:xfrm>
                <a:off x="7062480" y="3511800"/>
                <a:ext cx="822600" cy="72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a50021"/>
                    </a:solidFill>
                    <a:latin typeface="Georgia"/>
                  </a:rPr>
                  <a:t>U</a:t>
                </a:r>
                <a:endPara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  <a:ea typeface="Georgia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6336360" y="3254040"/>
                <a:ext cx="1064880" cy="978480"/>
                <a:chOff x="6336360" y="3254040"/>
                <a:chExt cx="1064880" cy="9784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336360" y="3254040"/>
                  <a:ext cx="1064880" cy="978480"/>
                </a:xfrm>
                <a:custGeom>
                  <a:avLst/>
                  <a:gdLst/>
                  <a:ahLst/>
                  <a:rect l="l" t="t" r="r" b="b"/>
                  <a:pathLst>
                    <a:path w="4828" h="4550">
                      <a:moveTo>
                        <a:pt x="4828" y="2723"/>
                      </a:moveTo>
                      <a:lnTo>
                        <a:pt x="4201" y="3603"/>
                      </a:lnTo>
                      <a:lnTo>
                        <a:pt x="3436" y="3615"/>
                      </a:lnTo>
                      <a:lnTo>
                        <a:pt x="3348" y="3906"/>
                      </a:lnTo>
                      <a:lnTo>
                        <a:pt x="3348" y="3906"/>
                      </a:lnTo>
                      <a:lnTo>
                        <a:pt x="3297" y="4190"/>
                      </a:lnTo>
                      <a:lnTo>
                        <a:pt x="3339" y="4397"/>
                      </a:lnTo>
                      <a:lnTo>
                        <a:pt x="3473" y="4521"/>
                      </a:lnTo>
                      <a:lnTo>
                        <a:pt x="3473" y="4521"/>
                      </a:lnTo>
                      <a:lnTo>
                        <a:pt x="3347" y="4550"/>
                      </a:lnTo>
                      <a:lnTo>
                        <a:pt x="1983" y="4550"/>
                      </a:lnTo>
                      <a:lnTo>
                        <a:pt x="2008" y="4521"/>
                      </a:lnTo>
                      <a:lnTo>
                        <a:pt x="2008" y="4521"/>
                      </a:lnTo>
                      <a:lnTo>
                        <a:pt x="2135" y="4474"/>
                      </a:lnTo>
                      <a:lnTo>
                        <a:pt x="2239" y="4417"/>
                      </a:lnTo>
                      <a:lnTo>
                        <a:pt x="2321" y="4352"/>
                      </a:lnTo>
                      <a:lnTo>
                        <a:pt x="2321" y="4352"/>
                      </a:lnTo>
                      <a:lnTo>
                        <a:pt x="2388" y="4271"/>
                      </a:lnTo>
                      <a:lnTo>
                        <a:pt x="2443" y="4169"/>
                      </a:lnTo>
                      <a:lnTo>
                        <a:pt x="2488" y="4043"/>
                      </a:lnTo>
                      <a:lnTo>
                        <a:pt x="2488" y="4043"/>
                      </a:lnTo>
                      <a:lnTo>
                        <a:pt x="2618" y="3615"/>
                      </a:lnTo>
                      <a:lnTo>
                        <a:pt x="0" y="3615"/>
                      </a:lnTo>
                      <a:lnTo>
                        <a:pt x="3299" y="0"/>
                      </a:lnTo>
                      <a:lnTo>
                        <a:pt x="4584" y="0"/>
                      </a:lnTo>
                      <a:lnTo>
                        <a:pt x="3654" y="3013"/>
                      </a:lnTo>
                      <a:lnTo>
                        <a:pt x="3654" y="3013"/>
                      </a:lnTo>
                      <a:lnTo>
                        <a:pt x="3835" y="3006"/>
                      </a:lnTo>
                      <a:lnTo>
                        <a:pt x="4061" y="2987"/>
                      </a:lnTo>
                      <a:lnTo>
                        <a:pt x="4238" y="2962"/>
                      </a:lnTo>
                      <a:lnTo>
                        <a:pt x="4238" y="2962"/>
                      </a:lnTo>
                      <a:lnTo>
                        <a:pt x="4439" y="2907"/>
                      </a:lnTo>
                      <a:lnTo>
                        <a:pt x="4636" y="2828"/>
                      </a:lnTo>
                      <a:lnTo>
                        <a:pt x="4828" y="2723"/>
                      </a:lnTo>
                      <a:lnTo>
                        <a:pt x="4828" y="2723"/>
                      </a:lnTo>
                    </a:path>
                  </a:pathLst>
                </a:custGeom>
                <a:solidFill>
                  <a:srgbClr val="ffcc6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635520" y="3359520"/>
                  <a:ext cx="492840" cy="545040"/>
                </a:xfrm>
                <a:custGeom>
                  <a:avLst/>
                  <a:gdLst/>
                  <a:ahLst/>
                  <a:rect l="l" t="t" r="r" b="b"/>
                  <a:pathLst>
                    <a:path w="2243" h="2533">
                      <a:moveTo>
                        <a:pt x="1481" y="2533"/>
                      </a:moveTo>
                      <a:lnTo>
                        <a:pt x="2243" y="0"/>
                      </a:lnTo>
                      <a:lnTo>
                        <a:pt x="0" y="2525"/>
                      </a:lnTo>
                      <a:lnTo>
                        <a:pt x="0" y="2525"/>
                      </a:lnTo>
                      <a:lnTo>
                        <a:pt x="203" y="2526"/>
                      </a:lnTo>
                      <a:lnTo>
                        <a:pt x="404" y="2526"/>
                      </a:lnTo>
                      <a:lnTo>
                        <a:pt x="606" y="2527"/>
                      </a:lnTo>
                      <a:lnTo>
                        <a:pt x="606" y="2527"/>
                      </a:lnTo>
                      <a:lnTo>
                        <a:pt x="798" y="2528"/>
                      </a:lnTo>
                      <a:lnTo>
                        <a:pt x="971" y="2529"/>
                      </a:lnTo>
                      <a:lnTo>
                        <a:pt x="1126" y="2531"/>
                      </a:lnTo>
                      <a:lnTo>
                        <a:pt x="1126" y="2531"/>
                      </a:lnTo>
                      <a:lnTo>
                        <a:pt x="1262" y="2532"/>
                      </a:lnTo>
                      <a:lnTo>
                        <a:pt x="1380" y="2533"/>
                      </a:lnTo>
                      <a:lnTo>
                        <a:pt x="1481" y="2533"/>
                      </a:lnTo>
                      <a:lnTo>
                        <a:pt x="1481" y="2533"/>
                      </a:lnTo>
                    </a:path>
                  </a:pathLst>
                </a:custGeom>
                <a:solidFill>
                  <a:srgbClr val="f8f9cb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 txBox="1"/>
              <p:nvPr/>
            </p:nvSpPr>
            <p:spPr>
              <a:xfrm>
                <a:off x="4932360" y="3069000"/>
                <a:ext cx="1985040" cy="69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7e"/>
                    </a:solidFill>
                    <a:latin typeface="Georgia"/>
                  </a:rPr>
                  <a:t>Good</a:t>
                </a:r>
                <a:endPara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  <a:ea typeface="Georgia"/>
                </a:endParaRPr>
              </a:p>
            </p:txBody>
          </p:sp>
        </p:grp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 flipH="1">
              <a:off x="5148000" y="3824640"/>
              <a:ext cx="1181160" cy="73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9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49500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ahoma"/>
              </a:rPr>
              <a:t>Spring Events</a:t>
            </a: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In-Line Skate demo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graph session with aerobic video star Marsha M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stchester Girl’s Gymnastics team demon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03-25T14:15:21Z</cp:lastPrinted>
  <dcterms:modified xsi:type="dcterms:W3CDTF">2003-12-31T07:18:28Z</dcterms:modified>
  <cp:revision>44</cp:revision>
  <dc:subject/>
  <dc:title>Good 4 U  Special Events</dc:title>
</cp:coreProperties>
</file>