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720" y="-21600"/>
            <a:ext cx="2966400" cy="3297240"/>
            <a:chOff x="6273720" y="-21600"/>
            <a:chExt cx="296640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4680"/>
              <a:ext cx="1006200" cy="753840"/>
              <a:chOff x="7797960" y="1444680"/>
              <a:chExt cx="100620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4680"/>
                <a:ext cx="10062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48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30120"/>
                <a:ext cx="24264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720" y="-21600"/>
              <a:ext cx="2966400" cy="3297240"/>
              <a:chOff x="6273720" y="-21600"/>
              <a:chExt cx="2966400" cy="3297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4320" y="808200"/>
                  <a:ext cx="29700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720" y="-21600"/>
                <a:ext cx="2867040" cy="2268720"/>
                <a:chOff x="6273720" y="-21600"/>
                <a:chExt cx="2867040" cy="22687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480"/>
                  <a:ext cx="1062360" cy="1139760"/>
                  <a:chOff x="7835400" y="843480"/>
                  <a:chExt cx="1062360" cy="11397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1600" y="1132920"/>
                    <a:ext cx="88344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092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120" y="771480"/>
                  <a:ext cx="1265040" cy="1051560"/>
                  <a:chOff x="7845120" y="771480"/>
                  <a:chExt cx="1265040" cy="10515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102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560" y="1425600"/>
                    <a:ext cx="49968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39720" y="735480"/>
                  <a:ext cx="1289520" cy="829440"/>
                  <a:chOff x="7839720" y="735480"/>
                  <a:chExt cx="1289520" cy="8294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7480" y="925200"/>
                    <a:ext cx="891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1280" y="1226880"/>
                    <a:ext cx="47844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6480" y="695160"/>
                  <a:ext cx="1304280" cy="669600"/>
                  <a:chOff x="7836480" y="695160"/>
                  <a:chExt cx="1304280" cy="6696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1880" y="823680"/>
                    <a:ext cx="86040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7920" y="1029960"/>
                    <a:ext cx="4622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8800"/>
                  <a:ext cx="1223640" cy="416160"/>
                  <a:chOff x="7852680" y="658800"/>
                  <a:chExt cx="1223640" cy="4161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11000"/>
                    <a:ext cx="7927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7040"/>
                    <a:ext cx="4258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040" y="631800"/>
                  <a:ext cx="1107000" cy="185760"/>
                  <a:chOff x="7871040" y="631800"/>
                  <a:chExt cx="1107000" cy="18576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120" y="646560"/>
                    <a:ext cx="7203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520" y="636120"/>
                    <a:ext cx="3870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20120"/>
                  <a:ext cx="984600" cy="326520"/>
                  <a:chOff x="7844760" y="420120"/>
                  <a:chExt cx="984600" cy="326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8720" y="5652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7200"/>
                    <a:ext cx="34020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5760"/>
                  <a:ext cx="1063080" cy="1140840"/>
                  <a:chOff x="6538320" y="905760"/>
                  <a:chExt cx="106308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89960" y="119592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392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840"/>
                  <a:ext cx="1265040" cy="1051920"/>
                  <a:chOff x="6303960" y="861840"/>
                  <a:chExt cx="1265040" cy="105192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520" y="111276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880" y="1515960"/>
                    <a:ext cx="49968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600" y="827640"/>
                  <a:ext cx="1289160" cy="828000"/>
                  <a:chOff x="6285600" y="827640"/>
                  <a:chExt cx="1289160" cy="82800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7360"/>
                    <a:ext cx="8913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8320"/>
                    <a:ext cx="47880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720" y="786960"/>
                  <a:ext cx="1303560" cy="668160"/>
                  <a:chOff x="6273720" y="786960"/>
                  <a:chExt cx="1303560" cy="66816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480" y="91548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1040"/>
                    <a:ext cx="4622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160" y="749160"/>
                  <a:ext cx="1224000" cy="416880"/>
                  <a:chOff x="6338160" y="749160"/>
                  <a:chExt cx="1224000" cy="41688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2240" y="801720"/>
                    <a:ext cx="7927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920" y="887760"/>
                    <a:ext cx="4258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722520"/>
                  <a:ext cx="1106640" cy="185040"/>
                  <a:chOff x="6436440" y="722520"/>
                  <a:chExt cx="1106640" cy="1850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37280"/>
                    <a:ext cx="7203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880" y="726840"/>
                    <a:ext cx="38700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840" y="510840"/>
                  <a:ext cx="984600" cy="326160"/>
                  <a:chOff x="6585840" y="510840"/>
                  <a:chExt cx="984600" cy="3261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880" y="65556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960" y="547560"/>
                    <a:ext cx="3398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7680" y="390240"/>
                  <a:ext cx="967320" cy="452520"/>
                  <a:chOff x="6637680" y="390240"/>
                  <a:chExt cx="967320" cy="4525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3200" y="620640"/>
                    <a:ext cx="6325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480" y="44604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0720" y="221760"/>
                  <a:ext cx="902880" cy="627480"/>
                  <a:chOff x="6750720" y="221760"/>
                  <a:chExt cx="902880" cy="6274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040" y="57204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69440" y="30132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8320"/>
                  <a:ext cx="825120" cy="761400"/>
                  <a:chOff x="6867720" y="58320"/>
                  <a:chExt cx="825120" cy="7614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880" y="500760"/>
                    <a:ext cx="641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160" y="154080"/>
                    <a:ext cx="3445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6560"/>
                  <a:ext cx="609480" cy="785160"/>
                  <a:chOff x="7111080" y="16560"/>
                  <a:chExt cx="609480" cy="7851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1040" y="477720"/>
                    <a:ext cx="5648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4040"/>
                    <a:ext cx="303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4400" cy="809280"/>
                  <a:chOff x="7289280" y="-21600"/>
                  <a:chExt cx="464400" cy="8092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1760" y="459000"/>
                    <a:ext cx="5439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5960" y="59400"/>
                    <a:ext cx="29196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560" y="272520"/>
                  <a:ext cx="963720" cy="462960"/>
                  <a:chOff x="7792560" y="27252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040" y="51012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6640" y="32976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120" y="135720"/>
                  <a:ext cx="915840" cy="605880"/>
                  <a:chOff x="7737120" y="135720"/>
                  <a:chExt cx="915840" cy="6058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040" y="4712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2600" y="21240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20320" y="486360"/>
                  <a:ext cx="52668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600" cy="119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520"/>
                  <a:ext cx="497880" cy="790560"/>
                  <a:chOff x="7665480" y="-11520"/>
                  <a:chExt cx="49788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5840"/>
                    <a:ext cx="5446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88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3320" y="38880"/>
                  <a:ext cx="785880" cy="747360"/>
                  <a:chOff x="7663320" y="3888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560" y="45504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800" y="12024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9040" y="0"/>
                  <a:ext cx="177480" cy="744480"/>
                  <a:chOff x="7709040" y="0"/>
                  <a:chExt cx="177480" cy="7444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480" y="478080"/>
                    <a:ext cx="4881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2200" y="100080"/>
                    <a:ext cx="262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480" y="930240"/>
                  <a:ext cx="911880" cy="1248120"/>
                  <a:chOff x="6711480" y="930240"/>
                  <a:chExt cx="911880" cy="12481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344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360" y="178668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5680" y="979920"/>
                  <a:ext cx="614880" cy="1247040"/>
                  <a:chOff x="7015680" y="979920"/>
                  <a:chExt cx="614880" cy="12470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8240"/>
                    <a:ext cx="8175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5520" y="185076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680" y="1001160"/>
                  <a:ext cx="362520" cy="1218240"/>
                  <a:chOff x="7312680" y="1001160"/>
                  <a:chExt cx="362520" cy="1218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5920" y="1328040"/>
                    <a:ext cx="7851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3280" y="187740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720"/>
                  <a:ext cx="950760" cy="1229400"/>
                  <a:chOff x="7798680" y="909720"/>
                  <a:chExt cx="95076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68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7400" y="174780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5440"/>
                  <a:ext cx="732960" cy="1261800"/>
                  <a:chOff x="7786440" y="95544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16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24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7640" y="1004760"/>
                  <a:ext cx="510120" cy="1242360"/>
                  <a:chOff x="7757640" y="1004760"/>
                  <a:chExt cx="510120" cy="12423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7320" y="1350720"/>
                    <a:ext cx="8211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3280" y="1907640"/>
                    <a:ext cx="44064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520" cy="1154880"/>
                  <a:chOff x="7733880" y="1058760"/>
                  <a:chExt cx="29052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60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920" y="1899720"/>
                    <a:ext cx="405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680" y="1078200"/>
                  <a:ext cx="274680" cy="1129680"/>
                  <a:chOff x="7501680" y="1078200"/>
                  <a:chExt cx="274680" cy="11296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48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9080" y="1928160"/>
                    <a:ext cx="39528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2880" y="911160"/>
                <a:ext cx="218124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1040" y="234000"/>
                <a:ext cx="1549080" cy="209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840" y="758880"/>
                <a:ext cx="94968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6640" cy="236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600120"/>
                <a:ext cx="152820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440" y="771480"/>
                <a:ext cx="24192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9960" y="765000"/>
                <a:ext cx="637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040" y="606600"/>
                <a:ext cx="90756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2200" y="1103400"/>
                <a:ext cx="225360" cy="428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400" y="417600"/>
                <a:ext cx="152820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4240" y="160200"/>
                <a:ext cx="12837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960" y="657360"/>
                <a:ext cx="54108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41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8640"/>
                <a:ext cx="35748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796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71480"/>
                <a:ext cx="22536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f5f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95960" y="6200640"/>
            <a:ext cx="1904760" cy="581040"/>
            <a:chOff x="7095960" y="6200640"/>
            <a:chExt cx="1904760" cy="581040"/>
          </a:xfrm>
        </p:grpSpPr>
        <p:sp>
          <p:nvSpPr>
            <p:cNvPr id="139" name=""/>
            <p:cNvSpPr txBox="1"/>
            <p:nvPr/>
          </p:nvSpPr>
          <p:spPr>
            <a:xfrm>
              <a:off x="8470080" y="64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8001720" y="6292800"/>
              <a:ext cx="686880" cy="488520"/>
              <a:chOff x="8001720" y="6292800"/>
              <a:chExt cx="686880" cy="488520"/>
            </a:xfrm>
          </p:grpSpPr>
          <p:sp>
            <p:nvSpPr>
              <p:cNvPr id="141" name=""/>
              <p:cNvSpPr/>
              <p:nvPr/>
            </p:nvSpPr>
            <p:spPr>
              <a:xfrm>
                <a:off x="8001720" y="62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94680" y="63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 txBox="1"/>
            <p:nvPr/>
          </p:nvSpPr>
          <p:spPr>
            <a:xfrm>
              <a:off x="7095960" y="62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10960" y="253080"/>
            <a:ext cx="7128360" cy="7924320"/>
            <a:chOff x="2010960" y="253080"/>
            <a:chExt cx="7128360" cy="7924320"/>
          </a:xfrm>
        </p:grpSpPr>
        <p:grpSp>
          <p:nvGrpSpPr>
            <p:cNvPr id="181" name=""/>
            <p:cNvGrpSpPr/>
            <p:nvPr/>
          </p:nvGrpSpPr>
          <p:grpSpPr>
            <a:xfrm>
              <a:off x="3483000" y="961920"/>
              <a:ext cx="946080" cy="709560"/>
              <a:chOff x="3483000" y="961920"/>
              <a:chExt cx="946080" cy="709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483000" y="96192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2840" y="127332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010960" y="253080"/>
              <a:ext cx="7128360" cy="7707960"/>
              <a:chOff x="2010960" y="253080"/>
              <a:chExt cx="7128360" cy="770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010960" y="253080"/>
                <a:ext cx="6891480" cy="5452560"/>
                <a:chOff x="2010960" y="253080"/>
                <a:chExt cx="6891480" cy="5452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35360" y="1274760"/>
                  <a:ext cx="3600360" cy="2651040"/>
                  <a:chOff x="3735360" y="1274760"/>
                  <a:chExt cx="3600360" cy="26510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735360" y="1274760"/>
                    <a:ext cx="360036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110200" y="224460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010960" y="253080"/>
                  <a:ext cx="6891480" cy="5452560"/>
                  <a:chOff x="2010960" y="253080"/>
                  <a:chExt cx="6891480" cy="545256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63240" y="2330640"/>
                    <a:ext cx="2558160" cy="2742120"/>
                    <a:chOff x="5763240" y="2330640"/>
                    <a:chExt cx="2558160" cy="274212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711400">
                      <a:off x="5585760" y="3027600"/>
                      <a:ext cx="21250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711400">
                      <a:off x="7135200" y="415332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87000" y="2156760"/>
                    <a:ext cx="3040560" cy="2529000"/>
                    <a:chOff x="5787000" y="2156760"/>
                    <a:chExt cx="3040560" cy="25290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2103600">
                      <a:off x="5706720" y="2760120"/>
                      <a:ext cx="223668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2103600">
                      <a:off x="7542720" y="3730320"/>
                      <a:ext cx="120060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76560" y="2073240"/>
                    <a:ext cx="3096360" cy="1992960"/>
                    <a:chOff x="5776560" y="2073240"/>
                    <a:chExt cx="3096360" cy="199296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582800">
                      <a:off x="5748480" y="2529000"/>
                      <a:ext cx="214020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582800">
                      <a:off x="7652880" y="32544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768640" y="1978200"/>
                    <a:ext cx="3133800" cy="1608120"/>
                    <a:chOff x="5768640" y="1978200"/>
                    <a:chExt cx="3133800" cy="160812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1080000">
                      <a:off x="5781600" y="228744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1080000">
                      <a:off x="7718760" y="278208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06080" y="1888560"/>
                    <a:ext cx="2939760" cy="1001880"/>
                    <a:chOff x="5806080" y="1888560"/>
                    <a:chExt cx="2939760" cy="100188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463200">
                      <a:off x="5823000" y="201456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463200">
                      <a:off x="7686360" y="222156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851800" y="1823760"/>
                    <a:ext cx="2658600" cy="445320"/>
                    <a:chOff x="5851800" y="1823760"/>
                    <a:chExt cx="2658600" cy="445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1515400">
                      <a:off x="5854680" y="185940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1515400">
                      <a:off x="7575840" y="1835280"/>
                      <a:ext cx="92952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5789160" y="1312920"/>
                    <a:ext cx="2363040" cy="785880"/>
                    <a:chOff x="5789160" y="1312920"/>
                    <a:chExt cx="2363040" cy="78588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rot="20797200">
                      <a:off x="5798880" y="1662120"/>
                      <a:ext cx="151956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20797200">
                      <a:off x="7298640" y="140184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646360" y="2481840"/>
                    <a:ext cx="2557800" cy="2742120"/>
                    <a:chOff x="2646360" y="2481840"/>
                    <a:chExt cx="2557800" cy="27421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8888600">
                      <a:off x="3255480" y="3179160"/>
                      <a:ext cx="21261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8888600">
                      <a:off x="2692080" y="430416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85840" y="2374920"/>
                    <a:ext cx="3041280" cy="2530080"/>
                    <a:chOff x="2085840" y="2374920"/>
                    <a:chExt cx="3041280" cy="25300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19496400">
                      <a:off x="2970360" y="297828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19496400">
                      <a:off x="2170080" y="394848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40840" y="2291760"/>
                    <a:ext cx="3096360" cy="1992240"/>
                    <a:chOff x="2040840" y="2291760"/>
                    <a:chExt cx="3096360" cy="19922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017200">
                      <a:off x="3024360" y="274752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017200">
                      <a:off x="2111040" y="347256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010960" y="2197440"/>
                    <a:ext cx="3134160" cy="1607760"/>
                    <a:chOff x="2010960" y="2197440"/>
                    <a:chExt cx="3134160" cy="160776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0520000">
                      <a:off x="3063600" y="2506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0520000">
                      <a:off x="2083680" y="3000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167200" y="2106000"/>
                    <a:ext cx="2941200" cy="1001520"/>
                    <a:chOff x="2167200" y="2106000"/>
                    <a:chExt cx="2941200" cy="10015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21136800">
                      <a:off x="3186000" y="223200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21136800">
                      <a:off x="2202480" y="243900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403360" y="2041200"/>
                    <a:ext cx="2658600" cy="446760"/>
                    <a:chOff x="2403360" y="2041200"/>
                    <a:chExt cx="2658600" cy="44676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4600">
                      <a:off x="3327480" y="207720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4600">
                      <a:off x="2408400" y="2052360"/>
                      <a:ext cx="92952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761560" y="1530720"/>
                    <a:ext cx="2362680" cy="787680"/>
                    <a:chOff x="2761560" y="1530720"/>
                    <a:chExt cx="2362680" cy="78768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802800">
                      <a:off x="3593880" y="188064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802800">
                      <a:off x="2798640" y="1619280"/>
                      <a:ext cx="8154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2887560" y="1245600"/>
                    <a:ext cx="2324880" cy="1083240"/>
                    <a:chOff x="2887560" y="1245600"/>
                    <a:chExt cx="2324880" cy="10832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1278000">
                      <a:off x="3695760" y="179676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1278000">
                      <a:off x="2935080" y="13791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160800" y="839880"/>
                    <a:ext cx="2170080" cy="1508040"/>
                    <a:chOff x="3160800" y="839880"/>
                    <a:chExt cx="2170080" cy="15080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028600">
                      <a:off x="3865680" y="168228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028600">
                      <a:off x="3207240" y="1031400"/>
                      <a:ext cx="8157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3437640" y="444240"/>
                    <a:ext cx="1987200" cy="1831680"/>
                    <a:chOff x="3437640" y="444240"/>
                    <a:chExt cx="1987200" cy="1831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2664600">
                      <a:off x="4009680" y="150912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2664600">
                      <a:off x="3464280" y="67464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028040" y="343440"/>
                    <a:ext cx="1460520" cy="1886040"/>
                    <a:chOff x="4028040" y="343440"/>
                    <a:chExt cx="1460520" cy="18860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3474000">
                      <a:off x="4337280" y="145188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3474000">
                      <a:off x="4033080" y="554400"/>
                      <a:ext cx="72900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4449600" y="253080"/>
                    <a:ext cx="1121400" cy="1947240"/>
                    <a:chOff x="4449600" y="253080"/>
                    <a:chExt cx="1121400" cy="19472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rot="4126800">
                      <a:off x="4556160" y="140940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4126800">
                      <a:off x="4419000" y="448200"/>
                      <a:ext cx="7030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662440" y="960120"/>
                    <a:ext cx="2316960" cy="1112760"/>
                    <a:chOff x="5662440" y="960120"/>
                    <a:chExt cx="2316960" cy="11127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20274000">
                      <a:off x="5656320" y="1531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20274000">
                      <a:off x="7114680" y="1098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530320" y="634680"/>
                    <a:ext cx="2197800" cy="1451160"/>
                    <a:chOff x="5530320" y="634680"/>
                    <a:chExt cx="2197800" cy="14511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rot="19678800">
                      <a:off x="5484960" y="1437840"/>
                      <a:ext cx="1519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19678800">
                      <a:off x="6863760" y="819000"/>
                      <a:ext cx="8157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 flipH="1" rot="4578600">
                    <a:off x="4766760" y="1474200"/>
                    <a:ext cx="12654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4578600">
                    <a:off x="4795200" y="54612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54640" y="278280"/>
                    <a:ext cx="1198080" cy="1901160"/>
                    <a:chOff x="5354640" y="278280"/>
                    <a:chExt cx="1198080" cy="19011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7742000">
                      <a:off x="5086080" y="1425960"/>
                      <a:ext cx="13100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7742000">
                      <a:off x="5888160" y="493560"/>
                      <a:ext cx="70272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348520" y="397080"/>
                    <a:ext cx="1891440" cy="1796400"/>
                    <a:chOff x="5348520" y="397080"/>
                    <a:chExt cx="1891440" cy="17964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8822600">
                      <a:off x="5248800" y="1397160"/>
                      <a:ext cx="14238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8822600">
                      <a:off x="6405120" y="59256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5457600" y="300960"/>
                    <a:ext cx="428400" cy="1796040"/>
                    <a:chOff x="5457600" y="300960"/>
                    <a:chExt cx="428400" cy="17960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rot="16696200">
                      <a:off x="5006160" y="145404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rot="16696200">
                      <a:off x="5442480" y="541800"/>
                      <a:ext cx="63144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63240" y="2538000"/>
                    <a:ext cx="2195640" cy="3003480"/>
                    <a:chOff x="3063240" y="2538000"/>
                    <a:chExt cx="2195640" cy="30034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8336000">
                      <a:off x="3420720" y="332172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8336000">
                      <a:off x="3070080" y="459972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792240" y="2658240"/>
                    <a:ext cx="1482840" cy="3000240"/>
                    <a:chOff x="3792240" y="2658240"/>
                    <a:chExt cx="1482840" cy="300024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7543400">
                      <a:off x="3738600" y="344808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7543400">
                      <a:off x="3744360" y="475344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508640" y="2711520"/>
                    <a:ext cx="874440" cy="2926800"/>
                    <a:chOff x="4508640" y="2711520"/>
                    <a:chExt cx="874440" cy="2926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flipH="1" rot="16870800">
                      <a:off x="4087080" y="3497400"/>
                      <a:ext cx="188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 rot="16870800">
                      <a:off x="4366440" y="4817520"/>
                      <a:ext cx="101232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77920" y="2490840"/>
                    <a:ext cx="2280960" cy="2953080"/>
                    <a:chOff x="5677920" y="2490840"/>
                    <a:chExt cx="2280960" cy="29530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144000">
                      <a:off x="5415840" y="3257640"/>
                      <a:ext cx="212544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144000">
                      <a:off x="6801480" y="4505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647680" y="2602080"/>
                    <a:ext cx="1758240" cy="3032280"/>
                    <a:chOff x="5647680" y="2602080"/>
                    <a:chExt cx="1758240" cy="30322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3745200">
                      <a:off x="5265000" y="3404520"/>
                      <a:ext cx="203400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3745200">
                      <a:off x="6351480" y="472788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75680" y="2719440"/>
                    <a:ext cx="1225440" cy="2986200"/>
                    <a:chOff x="5575680" y="2719440"/>
                    <a:chExt cx="1225440" cy="29862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286400">
                      <a:off x="5046480" y="3551400"/>
                      <a:ext cx="19735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286400">
                      <a:off x="5877360" y="4889880"/>
                      <a:ext cx="105876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520960" y="2848320"/>
                    <a:ext cx="698400" cy="2778840"/>
                    <a:chOff x="5520960" y="2848320"/>
                    <a:chExt cx="698400" cy="27788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4898400">
                      <a:off x="4895640" y="361620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4898400">
                      <a:off x="5425200" y="487188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4961520" y="2896200"/>
                    <a:ext cx="663120" cy="2717640"/>
                    <a:chOff x="4961520" y="2896200"/>
                    <a:chExt cx="663120" cy="271764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5755200">
                      <a:off x="4532040" y="367344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5755200">
                      <a:off x="4715280" y="494100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2174760" y="690480"/>
                <a:ext cx="6964560" cy="7270560"/>
                <a:chOff x="2174760" y="690480"/>
                <a:chExt cx="6964560" cy="72705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2174760" y="690480"/>
                  <a:ext cx="6964560" cy="7270560"/>
                  <a:chOff x="2174760" y="690480"/>
                  <a:chExt cx="6964560" cy="72705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V="1">
                    <a:off x="5416200" y="865800"/>
                    <a:ext cx="3723120" cy="5046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561400" y="2278800"/>
                    <a:ext cx="352404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395680" y="1760760"/>
                    <a:ext cx="218160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2174760" y="1307160"/>
                    <a:ext cx="367416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2488320" y="690480"/>
                    <a:ext cx="3090600" cy="568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237640" y="1884240"/>
                    <a:ext cx="1306080" cy="568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4302720" y="844560"/>
                    <a:ext cx="51516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" name=""/>
                <p:cNvSpPr/>
                <p:nvPr/>
              </p:nvSpPr>
              <p:spPr>
                <a:xfrm rot="20253000">
                  <a:off x="6128640" y="2189880"/>
                  <a:ext cx="54504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2342880" y="720720"/>
              <a:ext cx="6410520" cy="7456680"/>
              <a:chOff x="2342880" y="720720"/>
              <a:chExt cx="6410520" cy="74566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4467960" y="324324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84000" y="2495160"/>
                <a:ext cx="5231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645000" y="2130480"/>
                <a:ext cx="229104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342520" y="1746360"/>
                <a:ext cx="36738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215892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12240" y="2144520"/>
                <a:ext cx="153576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54560" y="355428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 rot="19660800">
                <a:off x="5223960" y="2955240"/>
                <a:ext cx="5446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687040" y="3392640"/>
                <a:ext cx="133812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317760" y="1406520"/>
                <a:ext cx="85752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12120" y="311616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65920" y="2117880"/>
                <a:ext cx="18734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35760" y="72072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347000">
                <a:off x="4182840" y="2162160"/>
                <a:ext cx="54396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f5f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095960" y="6200640"/>
            <a:ext cx="1904760" cy="581040"/>
            <a:chOff x="7095960" y="6200640"/>
            <a:chExt cx="1904760" cy="581040"/>
          </a:xfrm>
        </p:grpSpPr>
        <p:sp>
          <p:nvSpPr>
            <p:cNvPr id="316" name=""/>
            <p:cNvSpPr txBox="1"/>
            <p:nvPr/>
          </p:nvSpPr>
          <p:spPr>
            <a:xfrm>
              <a:off x="8470080" y="64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8001720" y="6292800"/>
              <a:ext cx="686880" cy="488520"/>
              <a:chOff x="8001720" y="6292800"/>
              <a:chExt cx="686880" cy="488520"/>
            </a:xfrm>
          </p:grpSpPr>
          <p:sp>
            <p:nvSpPr>
              <p:cNvPr id="318" name=""/>
              <p:cNvSpPr/>
              <p:nvPr/>
            </p:nvSpPr>
            <p:spPr>
              <a:xfrm>
                <a:off x="8001720" y="62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94680" y="63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 txBox="1"/>
            <p:nvPr/>
          </p:nvSpPr>
          <p:spPr>
            <a:xfrm>
              <a:off x="7095960" y="62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5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25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New Year’s Eve Party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16360" y="4616280"/>
            <a:ext cx="399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lanning Sess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8640" y="1981080"/>
            <a:ext cx="742968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udition band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Charlie’s Dingbat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e Electrolyte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Pure Power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tact Marsha Mil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s she willing to lead dance-style aerobics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s she available New Year’s Eve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Menu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3600" y="1952280"/>
            <a:ext cx="7412040" cy="28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ichelle needs suggestions by November 1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taff tasting party to be held December 5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enu printing deadline is December 10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6T13:31:02Z</cp:lastPrinted>
  <dcterms:modified xsi:type="dcterms:W3CDTF">2003-12-31T07:18:02Z</dcterms:modified>
  <cp:revision>35</cp:revision>
  <dc:subject/>
  <dc:title>Good 4 U  New Year's Eve Party</dc:title>
</cp:coreProperties>
</file>