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5BB0-DD97-49AF-9E5D-02C22F9E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3AE0-4F92-4D44-A214-3AFF3840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3429-F24E-4672-8A89-1C80B4C7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95F1-AA23-4111-A449-083E69D9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9C16-FF36-4C2D-881F-7B1264AC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1C12-DFCA-4D9E-A966-619680D7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07B5-CB0B-4819-B80B-C8EC7ADE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5DE8-9030-40F8-8289-78F91482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9EBA-DDB8-42BB-9570-68061145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25B2-E77E-40C0-BC42-CA753198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A94E-35EE-44CE-904F-6CD2016C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6456-E338-40C9-BF62-07E57056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A6F1-0C29-41A0-8640-6DD9D32F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B022-1FD0-4363-8415-4877AAA6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5DAC-CD9B-4168-9998-BE13F052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489F-FB72-4E2B-97BB-C0243A4C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200D-B3F0-4CE3-970B-51AA474E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FBBE-2F2A-45AB-B6C4-062FB7B6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343B-A2DA-43AB-9163-6785AB36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A5D-4F3A-4CDE-9DD4-583C7C54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29D5-7E5A-4EB8-87AC-28727467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11E3-6ADA-4BB6-A64D-FDFA35F1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C151-92DE-4D8E-811E-A09FFCA6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D293-4AD1-4E25-B7AD-6B3390F8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6658"/>
                  </a:gs>
                  <a:gs pos="100000">
                    <a:srgbClr val="676a5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d6053"/>
                  </a:gs>
                  <a:gs pos="50000">
                    <a:srgbClr val="676a5c"/>
                  </a:gs>
                  <a:gs pos="100000">
                    <a:srgbClr val="5d605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FC67-DD7B-4D89-A709-6F4BBA1FD1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b7b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dbf4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7b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dbf4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6658"/>
                  </a:gs>
                  <a:gs pos="100000">
                    <a:srgbClr val="676a5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d6053"/>
                  </a:gs>
                  <a:gs pos="50000">
                    <a:srgbClr val="676a5c"/>
                  </a:gs>
                  <a:gs pos="100000">
                    <a:srgbClr val="5d605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91B6-0959-472C-92A5-1A50003471B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dbf4f"/>
              </a:buClr>
              <a:buSzPct val="80000"/>
              <a:buFont typeface="Wingdings 3" charset="2"/>
              <a:buChar char="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7b6a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ddbf4f"/>
              </a:buClr>
              <a:buSzPct val="80000"/>
              <a:buFont typeface="Wingdings 3" charset="2"/>
              <a:buChar char="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767960"/>
            <a:ext cx="754380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ahoma"/>
              </a:rPr>
              <a:t>Exercise 1-21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’s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rts of the PowerPoint Wind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your nam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7b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swer: Student’s N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tem listed on the File menu has the letter “A” underlin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7b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swer: Save 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name of the button on the Formatting toolbar with the letter “U” on i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7b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swer: Under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2T20:40:44Z</dcterms:created>
  <dc:creator>Pat R. Graves</dc:creator>
  <dc:description/>
  <dc:language>en-US</dc:language>
  <cp:lastModifiedBy>Pat Graves</cp:lastModifiedBy>
  <cp:lastPrinted>1996-03-25T13:31:15Z</cp:lastPrinted>
  <dcterms:modified xsi:type="dcterms:W3CDTF">2003-12-31T07:19:38Z</dcterms:modified>
  <cp:revision>33</cp:revision>
  <dc:subject/>
  <dc:title>Exercise 1-??</dc:title>
</cp:coreProperties>
</file>