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239-11BB-451D-9E4B-70004253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640-3252-4E79-A3AC-7F32B044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14E-2599-456D-AD11-1246492A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306-AEC9-4B10-A56B-FC534F01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675E-0398-41C0-8E27-627C68D6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D23A-FE03-4AF5-8464-F1B2DD55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5E72-F784-45CA-86F3-10EA5C1D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501D-5B6B-4961-BBC8-1C86874F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BB76-F208-442F-8CC4-BF96227D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041E-97EE-4F48-A8D8-44D099F1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A864-8B37-4AA0-A5CB-2A8F3B9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51A-2147-4456-A78F-F9F85A5D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D955-8B16-4FDB-8318-79725BDE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E99E-74A7-4111-8752-2D3B399F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F942-75E4-4917-B7CD-9429459A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2512-E105-400D-B910-4E36ECF9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0059-AA01-45AE-B02A-93367450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87B-55AB-43E6-99BD-F97CF081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717-CE7D-43B9-9619-D31BC448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B5E-09CE-415B-98C0-D48A5882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8EC-7C75-48CF-A1C4-E3309A70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8EC-89A8-4735-BCD5-A5219A01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EDE-A5DC-4287-86B9-54C1419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ABB-056A-4084-BEC8-C2BB470D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d8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48600" indent="-189720">
              <a:lnSpc>
                <a:spcPct val="120000"/>
              </a:lnSpc>
              <a:spcBef>
                <a:spcPts val="1749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28040" indent="-189720">
              <a:lnSpc>
                <a:spcPct val="120000"/>
              </a:lnSpc>
              <a:spcBef>
                <a:spcPts val="17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07480" indent="-1897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1D1-02D6-4CBF-A5C2-F999FA51E1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752480"/>
            <a:ext cx="807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597800" y="873000"/>
            <a:ext cx="1146240" cy="854280"/>
            <a:chOff x="7597800" y="873000"/>
            <a:chExt cx="1146240" cy="854280"/>
          </a:xfrm>
        </p:grpSpPr>
        <p:sp>
          <p:nvSpPr>
            <p:cNvPr id="11" name=""/>
            <p:cNvSpPr/>
            <p:nvPr/>
          </p:nvSpPr>
          <p:spPr>
            <a:xfrm flipH="1">
              <a:off x="7597800" y="873000"/>
              <a:ext cx="1146240" cy="85428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7842960" y="1184400"/>
              <a:ext cx="520920" cy="38412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7749360" y="1033560"/>
              <a:ext cx="406440" cy="25704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8181360" y="890640"/>
              <a:ext cx="485640" cy="52704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8657640" y="1228680"/>
              <a:ext cx="68040" cy="9864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8370720" y="1251000"/>
              <a:ext cx="300240" cy="20628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8292960" y="1554120"/>
              <a:ext cx="190800" cy="12852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7679520" y="1581120"/>
              <a:ext cx="136440" cy="4608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8480520" y="1038240"/>
              <a:ext cx="33120" cy="493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8383680" y="1035000"/>
              <a:ext cx="33120" cy="4932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8305200" y="1241280"/>
              <a:ext cx="81000" cy="4788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7416720" y="6078600"/>
            <a:ext cx="1373400" cy="554040"/>
            <a:chOff x="7416720" y="6078600"/>
            <a:chExt cx="1373400" cy="554040"/>
          </a:xfrm>
        </p:grpSpPr>
        <p:sp>
          <p:nvSpPr>
            <p:cNvPr id="23" name=""/>
            <p:cNvSpPr txBox="1"/>
            <p:nvPr/>
          </p:nvSpPr>
          <p:spPr>
            <a:xfrm>
              <a:off x="8407440" y="6289560"/>
              <a:ext cx="38268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4" name=""/>
            <p:cNvGrpSpPr/>
            <p:nvPr/>
          </p:nvGrpSpPr>
          <p:grpSpPr>
            <a:xfrm>
              <a:off x="8069760" y="6166440"/>
              <a:ext cx="495000" cy="465840"/>
              <a:chOff x="8069760" y="6166440"/>
              <a:chExt cx="495000" cy="465840"/>
            </a:xfrm>
          </p:grpSpPr>
          <p:sp>
            <p:nvSpPr>
              <p:cNvPr id="25" name=""/>
              <p:cNvSpPr/>
              <p:nvPr/>
            </p:nvSpPr>
            <p:spPr>
              <a:xfrm>
                <a:off x="8069760" y="6166440"/>
                <a:ext cx="495000" cy="465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208720" y="6216480"/>
                <a:ext cx="229320" cy="25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d8db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" name=""/>
            <p:cNvSpPr txBox="1"/>
            <p:nvPr/>
          </p:nvSpPr>
          <p:spPr>
            <a:xfrm>
              <a:off x="7416720" y="6078600"/>
              <a:ext cx="923040" cy="32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d8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442200" cy="21272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7721-1B5D-490A-81D6-74E5CEE5D2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7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688080" y="1262160"/>
            <a:ext cx="2092320" cy="1576440"/>
            <a:chOff x="6688080" y="1262160"/>
            <a:chExt cx="2092320" cy="1576440"/>
          </a:xfrm>
        </p:grpSpPr>
        <p:sp>
          <p:nvSpPr>
            <p:cNvPr id="74" name=""/>
            <p:cNvSpPr/>
            <p:nvPr/>
          </p:nvSpPr>
          <p:spPr>
            <a:xfrm flipH="1">
              <a:off x="6688080" y="1262160"/>
              <a:ext cx="2092320" cy="157644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138440" y="1836720"/>
              <a:ext cx="950760" cy="70812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966000" y="1560600"/>
              <a:ext cx="743040" cy="47124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755840" y="1293840"/>
              <a:ext cx="885960" cy="9730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624880" y="1917720"/>
              <a:ext cx="125280" cy="1825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099280" y="1959120"/>
              <a:ext cx="549360" cy="38088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958160" y="2517840"/>
              <a:ext cx="347760" cy="2379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39640" y="2568600"/>
              <a:ext cx="249480" cy="8568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00880" y="1568520"/>
              <a:ext cx="60480" cy="889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124120" y="1562040"/>
              <a:ext cx="58680" cy="921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980480" y="1943280"/>
              <a:ext cx="147600" cy="871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48360" y="5445000"/>
            <a:ext cx="2812680" cy="1130040"/>
            <a:chOff x="6048360" y="5445000"/>
            <a:chExt cx="2812680" cy="1130040"/>
          </a:xfrm>
        </p:grpSpPr>
        <p:sp>
          <p:nvSpPr>
            <p:cNvPr id="86" name=""/>
            <p:cNvSpPr txBox="1"/>
            <p:nvPr/>
          </p:nvSpPr>
          <p:spPr>
            <a:xfrm>
              <a:off x="8077320" y="5875200"/>
              <a:ext cx="783720" cy="69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7385760" y="5624640"/>
              <a:ext cx="1014120" cy="950400"/>
              <a:chOff x="7385760" y="5624640"/>
              <a:chExt cx="1014120" cy="950400"/>
            </a:xfrm>
          </p:grpSpPr>
          <p:sp>
            <p:nvSpPr>
              <p:cNvPr id="88" name=""/>
              <p:cNvSpPr/>
              <p:nvPr/>
            </p:nvSpPr>
            <p:spPr>
              <a:xfrm>
                <a:off x="7385760" y="5624640"/>
                <a:ext cx="1014120" cy="95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0520" y="5726880"/>
                <a:ext cx="469440" cy="52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d8db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 txBox="1"/>
            <p:nvPr/>
          </p:nvSpPr>
          <p:spPr>
            <a:xfrm>
              <a:off x="6048360" y="5445000"/>
              <a:ext cx="1890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20000"/>
              </a:lnSpc>
              <a:spcBef>
                <a:spcPts val="1250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20000"/>
              </a:lnSpc>
              <a:spcBef>
                <a:spcPts val="1125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442200" cy="21272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New York Marathon</a:t>
            </a:r>
            <a:endParaRPr b="1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59280" y="3789360"/>
            <a:ext cx="471312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re-race Party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Entertainmen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lytes will be here on marathon eve, charging up the run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lie will again lead her famous “Pump-you-up” pre-marathon ch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Pre-Marath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arbo Loading Menu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athon Ang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untain of angel hair pasta served with fat-free tomato sauce and tiny bite-sized meatb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gel Bona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gels brushed with a mixture of olive oil, garlic, and delicate herb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19T23:58:02Z</cp:lastPrinted>
  <dcterms:modified xsi:type="dcterms:W3CDTF">2003-12-31T07:20:54Z</dcterms:modified>
  <cp:revision>43</cp:revision>
  <dc:subject/>
  <dc:title>Good 4 U  New York Marathon Pre-Race Party</dc:title>
</cp:coreProperties>
</file>