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EE3-BDA6-4F33-B6B4-757C7D75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1E9-10EA-45AA-AFEB-F8DCB1A9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39C-4D60-4CB0-A85A-B37C9753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DC9-EFA9-40F9-B51F-E2BBE2B4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F4DF-70C2-47F8-A254-8F44B1BA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18D8-846A-4F88-A3F4-8BE07EE1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0DC8-EF6B-4CD0-817E-01971F2F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49E0-6786-4E75-B4EC-EB07BF7F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631C-293A-443B-A7D2-DCD2B95D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7579-0D2E-46AB-A30A-5B8543F6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B3F7-C5E2-401A-B02A-518C55F6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5D9-E375-43B8-8BF4-01747FA5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4382-08B7-4DD8-A86D-A5D90AA3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5F00-0248-4CF7-982E-3A0E50A4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D45C-FDF0-4473-97D5-18B0EA57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53A7-055E-4035-8BF8-3FFF5F9E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5068-F345-4BFA-A332-59458F34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36B-0B76-4D82-B22C-9002FF47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280-9452-4F05-813E-05A66CBB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B52-41E5-4DD0-A5E4-D6BF55F2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8AB-3741-4B39-BB45-FBF6C045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2AF-0618-41CF-9DFF-E40DAF74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C78-4F12-450D-8E6B-8B2FD487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0E7-746D-408F-B823-7D9C5CBC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4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9bb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340D-9BB8-422A-8AEE-2E9CDA0C084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56360" y="5913360"/>
            <a:ext cx="1805040" cy="706680"/>
            <a:chOff x="7056360" y="5913360"/>
            <a:chExt cx="1805040" cy="706680"/>
          </a:xfrm>
        </p:grpSpPr>
        <p:sp>
          <p:nvSpPr>
            <p:cNvPr id="45" name=""/>
            <p:cNvSpPr txBox="1"/>
            <p:nvPr/>
          </p:nvSpPr>
          <p:spPr>
            <a:xfrm>
              <a:off x="8358480" y="6182280"/>
              <a:ext cx="502920" cy="43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7914600" y="6025680"/>
              <a:ext cx="650880" cy="594360"/>
              <a:chOff x="7914600" y="6025680"/>
              <a:chExt cx="650880" cy="594360"/>
            </a:xfrm>
          </p:grpSpPr>
          <p:sp>
            <p:nvSpPr>
              <p:cNvPr id="47" name=""/>
              <p:cNvSpPr/>
              <p:nvPr/>
            </p:nvSpPr>
            <p:spPr>
              <a:xfrm>
                <a:off x="7914600" y="6025680"/>
                <a:ext cx="650880" cy="5943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097480" y="6089760"/>
                <a:ext cx="301320" cy="331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99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 txBox="1"/>
            <p:nvPr/>
          </p:nvSpPr>
          <p:spPr>
            <a:xfrm>
              <a:off x="7056360" y="5913360"/>
              <a:ext cx="1213200" cy="41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4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0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233360"/>
            <a:ext cx="70549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9bb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2F73-F36A-493A-8110-83C69A0FD9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967280" y="4149720"/>
            <a:ext cx="3965400" cy="1616040"/>
            <a:chOff x="4967280" y="4149720"/>
            <a:chExt cx="3965400" cy="1616040"/>
          </a:xfrm>
        </p:grpSpPr>
        <p:sp>
          <p:nvSpPr>
            <p:cNvPr id="130" name=""/>
            <p:cNvSpPr txBox="1"/>
            <p:nvPr/>
          </p:nvSpPr>
          <p:spPr>
            <a:xfrm>
              <a:off x="7827840" y="4764600"/>
              <a:ext cx="1104840" cy="100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852600" y="4406760"/>
              <a:ext cx="1429920" cy="1359000"/>
              <a:chOff x="6852600" y="4406760"/>
              <a:chExt cx="1429920" cy="1359000"/>
            </a:xfrm>
          </p:grpSpPr>
          <p:sp>
            <p:nvSpPr>
              <p:cNvPr id="132" name=""/>
              <p:cNvSpPr/>
              <p:nvPr/>
            </p:nvSpPr>
            <p:spPr>
              <a:xfrm>
                <a:off x="6852600" y="4406760"/>
                <a:ext cx="1429920" cy="13590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54000" y="4553280"/>
                <a:ext cx="662040" cy="7570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99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 txBox="1"/>
            <p:nvPr/>
          </p:nvSpPr>
          <p:spPr>
            <a:xfrm>
              <a:off x="4967280" y="4149720"/>
              <a:ext cx="2665440" cy="95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4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1233360"/>
            <a:ext cx="70549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9bb"/>
                </a:solidFill>
                <a:latin typeface="Verdana"/>
              </a:rPr>
              <a:t>Personnel Training Session</a:t>
            </a:r>
            <a:endParaRPr b="1" lang="en-US" sz="4800" spc="-1" strike="noStrike">
              <a:solidFill>
                <a:srgbClr val="fff9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4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9bb"/>
                </a:solidFill>
                <a:latin typeface="Verdana"/>
              </a:rPr>
              <a:t>Wait Staff Dress Code</a:t>
            </a: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fo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od 4 U logo polo shirt and apr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rk green or black knee-length sho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rk green or black socks, black athletic sho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 no circumstances will the wait staff wear skates while on the jo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4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9bb"/>
                </a:solidFill>
                <a:latin typeface="Verdana"/>
              </a:rPr>
              <a:t>Host/Hostess Dress </a:t>
            </a:r>
            <a:r>
              <a:rPr b="1" lang="en-US" sz="3600" spc="-1" strike="noStrike">
                <a:solidFill>
                  <a:srgbClr val="fff9bb"/>
                </a:solidFill>
                <a:latin typeface="Verdana"/>
              </a:rPr>
              <a:t>Code</a:t>
            </a:r>
            <a:endParaRPr b="1" lang="en-US" sz="36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fo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od 4 U logo polo shi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rk green or black knee-length sho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rk green or black socks, black athletic sho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sts and hostesses may wear in-line skates on the job only after passing the Good 4 U proficiency tes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4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9bb"/>
                </a:solidFill>
                <a:latin typeface="Verdana"/>
              </a:rPr>
              <a:t>Guest Dress Code</a:t>
            </a: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skates ins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ests are required to check all sports equipment at the do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bare fe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ests arriving on skates will be given slippers to wear while di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irts requir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-shirts will be on sale for our guests’ convenience during summer month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Pat Graves</cp:lastModifiedBy>
  <cp:lastPrinted>1996-11-06T21:40:44Z</cp:lastPrinted>
  <dcterms:modified xsi:type="dcterms:W3CDTF">2003-12-31T07:17:13Z</dcterms:modified>
  <cp:revision>42</cp:revision>
  <dc:subject/>
  <dc:title>Good 4 U  Training Session</dc:title>
</cp:coreProperties>
</file>