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8B3-A2D5-483B-8DBA-DFF99E5D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EAE-F37F-4C28-9D1A-9E9B0A5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0B7-6557-4FF7-BB49-54EF1DF5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FB8-16B8-42E1-93D6-84AA9CBF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F883-AE1C-46E8-A348-53064053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7F27-CB63-4168-B06E-20D29A0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458-FEE7-42B1-B5E9-C9DDD6FA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ADB-A4A3-4DB0-AE43-ACBBFF1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5083-0E45-4F09-B836-2C1E361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0E66-0CE6-4AB8-8635-6F26C0A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58B2-36C0-42ED-8501-B51F859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369-9314-46FA-9C5C-5A61036A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F285-21CA-4863-9CCE-811BA19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428-5397-4537-96D9-5FAE4AE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EB66-42DC-4E86-A631-D3EAA52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668-CFAB-470E-A7D4-69974AA8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7D2-4490-4B45-AD45-55734969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B2A-E63E-4824-B75A-EC025694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357-38DC-4416-9D90-9AED2D5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365-0675-42E4-96E9-30D2E469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A39-8844-4D4C-B370-63E866CA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B59-A353-4138-BF30-5C139CA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2FE-8C29-43EF-ACCA-17EE4D8E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9FB-E2B7-4D88-9190-A0ACBDC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496-BF0C-4735-B0CC-91435E4E42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1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449000"/>
            <a:ext cx="77943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417-79EC-4067-AB35-30E8F40EC1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628280"/>
            <a:ext cx="77943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raining Session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656748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ent’s Nam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day’s Dat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480000" y="5553000"/>
            <a:ext cx="2197440" cy="812880"/>
            <a:chOff x="6480000" y="5553000"/>
            <a:chExt cx="2197440" cy="812880"/>
          </a:xfrm>
        </p:grpSpPr>
        <p:sp>
          <p:nvSpPr>
            <p:cNvPr id="100" name=""/>
            <p:cNvSpPr txBox="1"/>
            <p:nvPr/>
          </p:nvSpPr>
          <p:spPr>
            <a:xfrm>
              <a:off x="8065080" y="5862240"/>
              <a:ext cx="612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524720" y="5682240"/>
              <a:ext cx="792360" cy="683640"/>
              <a:chOff x="7524720" y="5682240"/>
              <a:chExt cx="792360" cy="683640"/>
            </a:xfrm>
          </p:grpSpPr>
          <p:sp>
            <p:nvSpPr>
              <p:cNvPr id="102" name=""/>
              <p:cNvSpPr/>
              <p:nvPr/>
            </p:nvSpPr>
            <p:spPr>
              <a:xfrm>
                <a:off x="7524720" y="5682240"/>
                <a:ext cx="792360" cy="6836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47200" y="5755680"/>
                <a:ext cx="366840" cy="380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 txBox="1"/>
            <p:nvPr/>
          </p:nvSpPr>
          <p:spPr>
            <a:xfrm>
              <a:off x="6480000" y="5553000"/>
              <a:ext cx="147708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Wait Staff Dress Co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4 U logo polo shirt and ap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knee-length sh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socks, black athletic sh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no circumstances will the wait staff wear sk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Host/Hostess Dress Co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4 U logo polo shi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knee-length sh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socks, black athletic sh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s and hostesses may wear in-line skates on the job only after passing the Good 4 U t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uest Dress Co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 skates insi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ests are required to check all sports equipment at the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 bare fee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ests arriving on skates will be given slippers to wear while d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hirts requir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rts are on sale for our guests’ convenience during summer mo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06T21:40:44Z</cp:lastPrinted>
  <dcterms:modified xsi:type="dcterms:W3CDTF">2003-12-31T07:18:50Z</dcterms:modified>
  <cp:revision>41</cp:revision>
  <dc:subject/>
  <dc:title>Good 4 U  Training Session</dc:title>
</cp:coreProperties>
</file>