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230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2EBA-81D9-4512-B413-C4ACB292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7A6C-78E8-41FA-8DDD-F7144BF7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9ACD-FB6B-4BDE-A11F-6D321355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E7EE-0E72-4CCC-946F-73EC7DDF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E6FF-2933-4881-ABD5-0BCB2122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9553-BA07-4992-B7B5-67759EE2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CE15-E81C-4644-B728-0A21A4D7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0686-9F43-4B2B-A760-427BE8B5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F929-5C26-4A94-A44A-A714A9CB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16000" y="226800"/>
            <a:ext cx="7480080" cy="56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E8F6-2E3B-4CEE-905F-D5A33D7E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C34F-9E78-484D-8E33-64FBB654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F1B5-9CAE-4B7F-993F-C24A4760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4760-3ED6-4251-AF7E-02D3E4C2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4AC2-1FB7-4BAD-B055-273CBEA4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D877-8786-43DE-B36A-924B7863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3F1E-F8B9-4478-B11C-F396C61F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611C-1791-49A8-B41A-BBFBC101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07BE-20D0-4CEA-AB12-8374F5C3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A58A-4CD2-4886-9A62-A9196CE9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42AE-04FE-48AB-84D2-C4C0F2D1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16000" y="226800"/>
            <a:ext cx="7480080" cy="56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2FCA-FE43-4EF1-84C8-8D98B7B8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B80E-5938-4A5B-9596-53CA839C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3CAD-EB89-4F41-8536-C3D042F2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8B0F-1663-4CCD-B2B8-76BD71E0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9528-3844-4AD9-85B3-9FDE318482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53400" y="0"/>
            <a:ext cx="1314360" cy="6872400"/>
          </a:xfrm>
          <a:prstGeom prst="rect">
            <a:avLst/>
          </a:prstGeom>
          <a:solidFill>
            <a:srgbClr val="cfc7b5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6966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91D9-C0C9-4430-A773-E80BEA3E35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53400" y="4680"/>
            <a:ext cx="1314360" cy="6872400"/>
          </a:xfrm>
          <a:prstGeom prst="rect">
            <a:avLst/>
          </a:prstGeom>
          <a:solidFill>
            <a:srgbClr val="cfc7b5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6966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729"/>
                </a:solidFill>
                <a:latin typeface="Arial"/>
              </a:rPr>
              <a:t>Fabulous Food</a:t>
            </a:r>
            <a:endParaRPr b="1" lang="en-US" sz="5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2268360" y="4699080"/>
            <a:ext cx="439128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Additions to Our Men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413080" y="2924280"/>
            <a:ext cx="2842920" cy="1146240"/>
            <a:chOff x="2413080" y="2924280"/>
            <a:chExt cx="2842920" cy="1146240"/>
          </a:xfrm>
        </p:grpSpPr>
        <p:sp>
          <p:nvSpPr>
            <p:cNvPr id="197" name=""/>
            <p:cNvSpPr txBox="1"/>
            <p:nvPr/>
          </p:nvSpPr>
          <p:spPr>
            <a:xfrm>
              <a:off x="4464000" y="3360600"/>
              <a:ext cx="792000" cy="70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3764880" y="3106440"/>
              <a:ext cx="1025280" cy="963720"/>
              <a:chOff x="3764880" y="3106440"/>
              <a:chExt cx="1025280" cy="963720"/>
            </a:xfrm>
          </p:grpSpPr>
          <p:sp>
            <p:nvSpPr>
              <p:cNvPr id="199" name=""/>
              <p:cNvSpPr/>
              <p:nvPr/>
            </p:nvSpPr>
            <p:spPr>
              <a:xfrm>
                <a:off x="3764880" y="3106440"/>
                <a:ext cx="1025280" cy="9637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052880" y="3210120"/>
                <a:ext cx="474480" cy="5367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0eed8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 txBox="1"/>
            <p:nvPr/>
          </p:nvSpPr>
          <p:spPr>
            <a:xfrm>
              <a:off x="2413080" y="2924280"/>
              <a:ext cx="1911240" cy="680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729"/>
                </a:solidFill>
                <a:latin typeface="Arial"/>
              </a:rPr>
              <a:t>Pasta Delights</a:t>
            </a: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ttuccine à la Ju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avory dish with a light cream sauce, spinach, sun-dried tomatoes, a touch of garlic, and Julie’s secret h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ele’s Primav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cately flavored low-fat cream sauce with asparagus, squash, and baby carrots served on organic p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729"/>
                </a:solidFill>
                <a:latin typeface="Arial"/>
              </a:rPr>
              <a:t>Just Sweet Enough</a:t>
            </a: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ob Pecan Yogurt Cream 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ight and fluffy dessert has an all-natural graham cracker crust, great flavor, and very little sug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Lime Souff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nse lime flavor is chef Michele’s secret. Made from organic key limes, sweetened with white grape juice, and thickened with organic egg whi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22T23:17:14Z</dcterms:created>
  <dc:creator>Pat R. Graves</dc:creator>
  <dc:description/>
  <dc:language>en-US</dc:language>
  <cp:lastModifiedBy>Pat Graves</cp:lastModifiedBy>
  <cp:lastPrinted>1996-03-25T13:44:30Z</cp:lastPrinted>
  <dcterms:modified xsi:type="dcterms:W3CDTF">2003-12-31T07:19:15Z</dcterms:modified>
  <cp:revision>28</cp:revision>
  <dc:subject/>
  <dc:title>Good 4 U  Fabulous Food</dc:title>
</cp:coreProperties>
</file>