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8E6-3860-49CC-B804-AAC77F13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73DF-3114-4FAF-8390-EFF87BDE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0CF-6CB7-46CA-9712-D975AD6D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5F3C-549A-4E63-B807-FE50F5E3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E8C3-ED0A-436B-9DA1-20856B78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9D57-234B-45D2-B04D-41B0B612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578D-6669-422D-AD74-DCFE3D9F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3FBB-3400-452F-B2DB-E1F51D22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48A7-B651-42E9-B139-108E20E5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1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927A-B5C0-49E2-AEB0-F65BC5E3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5D10-108D-4614-BDD8-C8CD877D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F70D-28AD-4484-8BD5-9E3542EF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02F0-4DFE-43C0-AFCC-E42885D2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0B82-BD04-4E9D-8054-4650B725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10F5-C933-4047-886B-4A9E6BF5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3C58-1E8E-49FD-AC64-E23900BA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BB41-C5F4-494B-A477-ECC279CB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2F49-FCC4-4412-AFD7-33F58B1C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AAB5-112D-4C66-86BF-E44D99D1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D10D-88B4-4960-BDAF-3F71BA14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1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FFA-621F-4FE4-9AEE-82927683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112F-87C9-48ED-9363-341C4B42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67F-5232-470D-BFDD-983BAD9A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092-0F0C-4916-AA85-DAF12CE0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8120" y="228600"/>
            <a:ext cx="8823600" cy="6095880"/>
          </a:xfrm>
          <a:prstGeom prst="roundRect">
            <a:avLst>
              <a:gd name="adj" fmla="val 11046"/>
            </a:avLst>
          </a:prstGeom>
          <a:noFill/>
          <a:ln w="28440">
            <a:solidFill>
              <a:srgbClr val="342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421a7"/>
              </a:buClr>
              <a:buSzPct val="120000"/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404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40404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E2F4-8771-46DF-A180-4862AAC04214}" type="slidenum">
              <a:rPr b="1" lang="en-US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1709640"/>
            <a:ext cx="76960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456320" y="5084640"/>
            <a:ext cx="14004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6035760"/>
          </a:xfrm>
          <a:prstGeom prst="roundRect">
            <a:avLst>
              <a:gd name="adj" fmla="val 7912"/>
            </a:avLst>
          </a:prstGeom>
          <a:solidFill>
            <a:srgbClr val="342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9200" y="488880"/>
            <a:ext cx="8435880" cy="535320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753000"/>
            <a:ext cx="6400800" cy="232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i="1" lang="en-US" sz="3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9960" y="6375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08240" y="6375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37240" y="6375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1322-559B-4540-8FFC-4CED0BA36DA3}" type="slidenum">
              <a:rPr b="1" lang="en-US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1228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ff0000"/>
                </a:solidFill>
                <a:latin typeface="Arial Black"/>
              </a:rPr>
              <a:t>Fourth of July Celebration</a:t>
            </a:r>
            <a:endParaRPr b="0" i="1" lang="en-US" sz="39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181320" y="1463760"/>
            <a:ext cx="2646360" cy="31892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3027240" y="4595760"/>
            <a:ext cx="3087720" cy="1245960"/>
            <a:chOff x="3027240" y="4595760"/>
            <a:chExt cx="3087720" cy="1245960"/>
          </a:xfrm>
        </p:grpSpPr>
        <p:sp>
          <p:nvSpPr>
            <p:cNvPr id="91" name=""/>
            <p:cNvSpPr txBox="1"/>
            <p:nvPr/>
          </p:nvSpPr>
          <p:spPr>
            <a:xfrm>
              <a:off x="5254560" y="5069880"/>
              <a:ext cx="860400" cy="77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495320" y="4793760"/>
              <a:ext cx="1113120" cy="1047960"/>
              <a:chOff x="4495320" y="4793760"/>
              <a:chExt cx="1113120" cy="1047960"/>
            </a:xfrm>
          </p:grpSpPr>
          <p:sp>
            <p:nvSpPr>
              <p:cNvPr id="93" name=""/>
              <p:cNvSpPr/>
              <p:nvPr/>
            </p:nvSpPr>
            <p:spPr>
              <a:xfrm>
                <a:off x="4495320" y="4793760"/>
                <a:ext cx="1113120" cy="104796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07800" y="4906440"/>
                <a:ext cx="515160" cy="5835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 txBox="1"/>
            <p:nvPr/>
          </p:nvSpPr>
          <p:spPr>
            <a:xfrm>
              <a:off x="3027240" y="4595760"/>
              <a:ext cx="2075400" cy="74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In-Line Skate Race in the Park</a:t>
            </a: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gistration is at 7:00 a.m. on July 4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rting time is 8:15 a.m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arly registration forms must be postmarked no later than June 25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In-Line Skate Race Rules</a:t>
            </a: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l racers must be wearing the following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421a7"/>
              </a:buClr>
              <a:buSzPct val="120000"/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421a7"/>
              </a:buClr>
              <a:buSzPct val="120000"/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st gu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421a7"/>
              </a:buClr>
              <a:buSzPct val="120000"/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bow and knee pa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cers under age 18 must have parent or guardian sign waiv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Special Menu Items</a:t>
            </a: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recracker Salsa and Chip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spcBef>
                <a:spcPts val="649"/>
              </a:spcBef>
              <a:buClr>
                <a:srgbClr val="3421a7"/>
              </a:buClr>
              <a:buSzPct val="120000"/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jalapenos and fresh organic tomato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atermelon Slurpe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spcBef>
                <a:spcPts val="649"/>
              </a:spcBef>
              <a:buClr>
                <a:srgbClr val="3421a7"/>
              </a:buClr>
              <a:buSzPct val="120000"/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ol treat for a hot summer 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d, White &amp; Blue Mous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spcBef>
                <a:spcPts val="649"/>
              </a:spcBef>
              <a:buClr>
                <a:srgbClr val="3421a7"/>
              </a:buClr>
              <a:buSzPct val="120000"/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-fat vanilla mousse with raspberries and blueber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Entertainment</a:t>
            </a: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Electrolytes will pl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ce again, Marsha Miles will lead the danc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National In-Line Skate demo team will perfor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2T23:17:14Z</dcterms:created>
  <dc:creator>Pat R. Graves</dc:creator>
  <dc:description/>
  <dc:language>en-US</dc:language>
  <cp:lastModifiedBy>Pat Graves</cp:lastModifiedBy>
  <cp:lastPrinted>1996-11-06T21:28:40Z</cp:lastPrinted>
  <dcterms:modified xsi:type="dcterms:W3CDTF">2003-12-31T07:17:38Z</dcterms:modified>
  <cp:revision>38</cp:revision>
  <dc:subject/>
  <dc:title>Good 4 U  Fourth of July Celebration</dc:title>
</cp:coreProperties>
</file>