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CC0-3BBC-4FD3-8760-AB2DF1B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F7C-4EC4-42E4-B2EA-DD17790E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236-A7AF-4F84-8C3B-294347A1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556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60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5564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556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60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79E-B4D1-4343-8E33-D6C1449E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406-D035-4301-B31A-8906A2A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3F7-07D1-41B3-8726-3FA7583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2F23-DB7B-4206-969E-AAEFAEF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78B5-E741-453F-9579-E7361B2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035-12A0-4293-BFFF-7DE7AE1A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97080" y="151920"/>
            <a:ext cx="65498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CFDC-85E1-4F5A-80E9-2E3CEA05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51E-0F2A-44C8-B3E8-93E964E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761-1808-4356-9C80-B135DDF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C577-EB70-4943-A2F2-CF51E2C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9E7-3ACB-490B-830A-ECCF102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3DC5-716F-4BDF-B847-58D6ECA9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17F-E2D2-4070-94B9-E2B1F046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556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560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65564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556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560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68A-488E-4F3D-8B15-A665EC29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4C8-E4A6-4773-BE25-6F4D24B0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7EF-5FC7-472B-BA92-84233618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26F-130B-4549-9F91-47ED978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7080" y="151920"/>
            <a:ext cx="65498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4AC-5823-47C1-A738-78743FA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5AC-B5DF-4065-9733-81BA625D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416-FF94-4561-A825-02F5457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0F8-09C6-494D-A51C-196CAF0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82160" cy="1949400"/>
          </a:xfrm>
          <a:custGeom>
            <a:avLst/>
            <a:gdLst/>
            <a:ahLst/>
            <a:rect l="l" t="t" r="r" b="b"/>
            <a:pathLst>
              <a:path w="5784" h="1228">
                <a:moveTo>
                  <a:pt x="0" y="0"/>
                </a:moveTo>
                <a:cubicBezTo>
                  <a:pt x="0" y="0"/>
                  <a:pt x="2904" y="12"/>
                  <a:pt x="5784" y="12"/>
                </a:cubicBezTo>
                <a:cubicBezTo>
                  <a:pt x="5772" y="912"/>
                  <a:pt x="5764" y="499"/>
                  <a:pt x="5776" y="1120"/>
                </a:cubicBezTo>
                <a:cubicBezTo>
                  <a:pt x="5553" y="1131"/>
                  <a:pt x="5518" y="1125"/>
                  <a:pt x="5337" y="1117"/>
                </a:cubicBezTo>
                <a:cubicBezTo>
                  <a:pt x="5157" y="1106"/>
                  <a:pt x="4917" y="1062"/>
                  <a:pt x="4696" y="1052"/>
                </a:cubicBezTo>
                <a:cubicBezTo>
                  <a:pt x="4475" y="1042"/>
                  <a:pt x="4248" y="1041"/>
                  <a:pt x="4008" y="1058"/>
                </a:cubicBezTo>
                <a:cubicBezTo>
                  <a:pt x="3768" y="1075"/>
                  <a:pt x="3493" y="1125"/>
                  <a:pt x="3256" y="1152"/>
                </a:cubicBezTo>
                <a:cubicBezTo>
                  <a:pt x="3019" y="1179"/>
                  <a:pt x="2857" y="1218"/>
                  <a:pt x="2586" y="1223"/>
                </a:cubicBezTo>
                <a:cubicBezTo>
                  <a:pt x="2315" y="1228"/>
                  <a:pt x="1916" y="1204"/>
                  <a:pt x="1628" y="1184"/>
                </a:cubicBezTo>
                <a:cubicBezTo>
                  <a:pt x="1340" y="1164"/>
                  <a:pt x="1127" y="1114"/>
                  <a:pt x="856" y="1100"/>
                </a:cubicBezTo>
                <a:cubicBezTo>
                  <a:pt x="585" y="1086"/>
                  <a:pt x="316" y="1088"/>
                  <a:pt x="0" y="1102"/>
                </a:cubicBezTo>
                <a:cubicBezTo>
                  <a:pt x="0" y="550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FEB-9096-42C6-BCD2-A3C6F2CD358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000">
            <a:off x="0" y="1434600"/>
            <a:ext cx="9144000" cy="609840"/>
          </a:xfrm>
          <a:custGeom>
            <a:avLst/>
            <a:gdLst/>
            <a:ahLst/>
            <a:rect l="l" t="t" r="r" b="b"/>
            <a:pathLst>
              <a:path w="2859" h="193">
                <a:moveTo>
                  <a:pt x="294" y="100"/>
                </a:moveTo>
                <a:cubicBezTo>
                  <a:pt x="354" y="93"/>
                  <a:pt x="306" y="101"/>
                  <a:pt x="358" y="103"/>
                </a:cubicBezTo>
                <a:cubicBezTo>
                  <a:pt x="410" y="105"/>
                  <a:pt x="494" y="108"/>
                  <a:pt x="604" y="114"/>
                </a:cubicBezTo>
                <a:cubicBezTo>
                  <a:pt x="729" y="126"/>
                  <a:pt x="824" y="129"/>
                  <a:pt x="1020" y="139"/>
                </a:cubicBezTo>
                <a:cubicBezTo>
                  <a:pt x="1216" y="150"/>
                  <a:pt x="1337" y="146"/>
                  <a:pt x="1440" y="135"/>
                </a:cubicBezTo>
                <a:cubicBezTo>
                  <a:pt x="1543" y="125"/>
                  <a:pt x="1664" y="88"/>
                  <a:pt x="1743" y="75"/>
                </a:cubicBezTo>
                <a:cubicBezTo>
                  <a:pt x="1822" y="64"/>
                  <a:pt x="1875" y="53"/>
                  <a:pt x="1976" y="39"/>
                </a:cubicBezTo>
                <a:cubicBezTo>
                  <a:pt x="2077" y="24"/>
                  <a:pt x="2227" y="0"/>
                  <a:pt x="2351" y="6"/>
                </a:cubicBezTo>
                <a:cubicBezTo>
                  <a:pt x="2475" y="10"/>
                  <a:pt x="2839" y="39"/>
                  <a:pt x="2859" y="63"/>
                </a:cubicBezTo>
                <a:lnTo>
                  <a:pt x="2525" y="91"/>
                </a:lnTo>
                <a:cubicBezTo>
                  <a:pt x="2298" y="52"/>
                  <a:pt x="2245" y="82"/>
                  <a:pt x="2072" y="92"/>
                </a:cubicBezTo>
                <a:cubicBezTo>
                  <a:pt x="1900" y="103"/>
                  <a:pt x="1843" y="102"/>
                  <a:pt x="1664" y="138"/>
                </a:cubicBezTo>
                <a:cubicBezTo>
                  <a:pt x="1485" y="174"/>
                  <a:pt x="1441" y="186"/>
                  <a:pt x="1145" y="186"/>
                </a:cubicBezTo>
                <a:cubicBezTo>
                  <a:pt x="849" y="185"/>
                  <a:pt x="751" y="193"/>
                  <a:pt x="460" y="186"/>
                </a:cubicBezTo>
                <a:cubicBezTo>
                  <a:pt x="285" y="178"/>
                  <a:pt x="2" y="164"/>
                  <a:pt x="0" y="143"/>
                </a:cubicBezTo>
                <a:lnTo>
                  <a:pt x="294" y="1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-380880" y="-685800"/>
          <a:ext cx="2019240" cy="23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-685800"/>
                    <a:ext cx="201924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519280" y="114300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53280" y="53352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85000"/>
            <a:ext cx="9144000" cy="873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100000">
                <a:srgbClr val="9c00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82160" cy="1617840"/>
          </a:xfrm>
          <a:custGeom>
            <a:avLst/>
            <a:gdLst/>
            <a:ahLst/>
            <a:rect l="l" t="t" r="r" b="b"/>
            <a:pathLst>
              <a:path w="5784" h="1019">
                <a:moveTo>
                  <a:pt x="0" y="0"/>
                </a:moveTo>
                <a:cubicBezTo>
                  <a:pt x="0" y="0"/>
                  <a:pt x="2904" y="10"/>
                  <a:pt x="5784" y="10"/>
                </a:cubicBezTo>
                <a:cubicBezTo>
                  <a:pt x="5780" y="836"/>
                  <a:pt x="5780" y="24"/>
                  <a:pt x="5780" y="840"/>
                </a:cubicBezTo>
                <a:cubicBezTo>
                  <a:pt x="5564" y="912"/>
                  <a:pt x="5511" y="893"/>
                  <a:pt x="5332" y="892"/>
                </a:cubicBezTo>
                <a:cubicBezTo>
                  <a:pt x="5153" y="891"/>
                  <a:pt x="4930" y="842"/>
                  <a:pt x="4708" y="836"/>
                </a:cubicBezTo>
                <a:cubicBezTo>
                  <a:pt x="4486" y="830"/>
                  <a:pt x="4236" y="838"/>
                  <a:pt x="3997" y="858"/>
                </a:cubicBezTo>
                <a:cubicBezTo>
                  <a:pt x="3758" y="878"/>
                  <a:pt x="3540" y="924"/>
                  <a:pt x="3276" y="956"/>
                </a:cubicBezTo>
                <a:cubicBezTo>
                  <a:pt x="2744" y="1012"/>
                  <a:pt x="2820" y="1013"/>
                  <a:pt x="2552" y="1016"/>
                </a:cubicBezTo>
                <a:cubicBezTo>
                  <a:pt x="2284" y="1019"/>
                  <a:pt x="1949" y="991"/>
                  <a:pt x="1668" y="972"/>
                </a:cubicBezTo>
                <a:cubicBezTo>
                  <a:pt x="1387" y="953"/>
                  <a:pt x="1146" y="909"/>
                  <a:pt x="868" y="900"/>
                </a:cubicBezTo>
                <a:cubicBezTo>
                  <a:pt x="590" y="891"/>
                  <a:pt x="308" y="880"/>
                  <a:pt x="0" y="917"/>
                </a:cubicBezTo>
                <a:cubicBezTo>
                  <a:pt x="0" y="458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810108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466B-1C8E-47F9-BED1-D046CAA9D2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9000">
            <a:off x="-4320" y="1112400"/>
            <a:ext cx="9144000" cy="609840"/>
          </a:xfrm>
          <a:custGeom>
            <a:avLst/>
            <a:gdLst/>
            <a:ahLst/>
            <a:rect l="l" t="t" r="r" b="b"/>
            <a:pathLst>
              <a:path w="2859" h="193">
                <a:moveTo>
                  <a:pt x="294" y="100"/>
                </a:moveTo>
                <a:cubicBezTo>
                  <a:pt x="354" y="93"/>
                  <a:pt x="306" y="101"/>
                  <a:pt x="358" y="103"/>
                </a:cubicBezTo>
                <a:cubicBezTo>
                  <a:pt x="410" y="105"/>
                  <a:pt x="494" y="108"/>
                  <a:pt x="604" y="114"/>
                </a:cubicBezTo>
                <a:cubicBezTo>
                  <a:pt x="729" y="126"/>
                  <a:pt x="824" y="129"/>
                  <a:pt x="1020" y="139"/>
                </a:cubicBezTo>
                <a:cubicBezTo>
                  <a:pt x="1216" y="150"/>
                  <a:pt x="1337" y="146"/>
                  <a:pt x="1440" y="135"/>
                </a:cubicBezTo>
                <a:cubicBezTo>
                  <a:pt x="1543" y="125"/>
                  <a:pt x="1664" y="88"/>
                  <a:pt x="1743" y="75"/>
                </a:cubicBezTo>
                <a:cubicBezTo>
                  <a:pt x="1822" y="64"/>
                  <a:pt x="1875" y="53"/>
                  <a:pt x="1976" y="39"/>
                </a:cubicBezTo>
                <a:cubicBezTo>
                  <a:pt x="2077" y="24"/>
                  <a:pt x="2227" y="0"/>
                  <a:pt x="2351" y="6"/>
                </a:cubicBezTo>
                <a:cubicBezTo>
                  <a:pt x="2475" y="10"/>
                  <a:pt x="2839" y="39"/>
                  <a:pt x="2859" y="63"/>
                </a:cubicBezTo>
                <a:lnTo>
                  <a:pt x="2525" y="91"/>
                </a:lnTo>
                <a:cubicBezTo>
                  <a:pt x="2298" y="52"/>
                  <a:pt x="2245" y="82"/>
                  <a:pt x="2072" y="92"/>
                </a:cubicBezTo>
                <a:cubicBezTo>
                  <a:pt x="1900" y="103"/>
                  <a:pt x="1843" y="102"/>
                  <a:pt x="1664" y="138"/>
                </a:cubicBezTo>
                <a:cubicBezTo>
                  <a:pt x="1485" y="174"/>
                  <a:pt x="1441" y="186"/>
                  <a:pt x="1145" y="186"/>
                </a:cubicBezTo>
                <a:cubicBezTo>
                  <a:pt x="849" y="185"/>
                  <a:pt x="751" y="193"/>
                  <a:pt x="460" y="186"/>
                </a:cubicBezTo>
                <a:cubicBezTo>
                  <a:pt x="285" y="178"/>
                  <a:pt x="2" y="164"/>
                  <a:pt x="0" y="143"/>
                </a:cubicBezTo>
                <a:lnTo>
                  <a:pt x="294" y="1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2019240" cy="235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514600" y="114300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153280" y="609480"/>
            <a:ext cx="1109880" cy="129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985000"/>
            <a:ext cx="9144000" cy="873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100000">
                <a:srgbClr val="9c00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810108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New Year’s Eve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Bash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40000" y="4760640"/>
            <a:ext cx="50036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cember 31, 2004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76720" y="6165720"/>
            <a:ext cx="1510920" cy="609840"/>
            <a:chOff x="4176720" y="6165720"/>
            <a:chExt cx="1510920" cy="609840"/>
          </a:xfrm>
        </p:grpSpPr>
        <p:sp>
          <p:nvSpPr>
            <p:cNvPr id="99" name=""/>
            <p:cNvSpPr txBox="1"/>
            <p:nvPr/>
          </p:nvSpPr>
          <p:spPr>
            <a:xfrm>
              <a:off x="5266800" y="6397920"/>
              <a:ext cx="420840" cy="37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895280" y="6262560"/>
              <a:ext cx="545040" cy="513000"/>
              <a:chOff x="4895280" y="6262560"/>
              <a:chExt cx="545040" cy="513000"/>
            </a:xfrm>
          </p:grpSpPr>
          <p:sp>
            <p:nvSpPr>
              <p:cNvPr id="101" name=""/>
              <p:cNvSpPr/>
              <p:nvPr/>
            </p:nvSpPr>
            <p:spPr>
              <a:xfrm>
                <a:off x="4895280" y="6262560"/>
                <a:ext cx="545040" cy="5130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48280" y="6317640"/>
                <a:ext cx="252360" cy="2858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66003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4176720" y="6165720"/>
              <a:ext cx="10159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81640" y="2895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When and Where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511360"/>
            <a:ext cx="731376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579 West Alamed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Tucson, AZ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Festivities begin at 8 p.m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46000" y="4905360"/>
            <a:ext cx="74520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Directions: 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Take I85 south to exit 251W. Turn right off the exit and continue on Route 66 for 5 miles. Turn left on W. Alameda.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Evening Menu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07800" y="2057400"/>
            <a:ext cx="274176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Comic Sans MS"/>
              </a:rPr>
              <a:t>Appetiz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Shrimp Cocktai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Spinach and Feta Pi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Veggies and Di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Spring Ro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5160" y="3733920"/>
            <a:ext cx="274176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Comic Sans MS"/>
              </a:rPr>
              <a:t>Main Cour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Broiled Chick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Poached Salm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Pasta Primaver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6040"/>
            <a:ext cx="2741760" cy="2514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Comic Sans MS"/>
              </a:rPr>
              <a:t>Side Dish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Corn Relis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Sautéed Gree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Garden Sal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Potato Sal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4114800"/>
            <a:ext cx="2741760" cy="2514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Comic Sans MS"/>
              </a:rPr>
              <a:t>Desser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Fresh Frui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Frozen Yogur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Pecan Pi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Sorb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Evening Entertainmen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8240" y="2735640"/>
            <a:ext cx="8148600" cy="3737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Pauline Peter’s Comedy Review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0011"/>
                </a:solidFill>
                <a:latin typeface="Comic Sans MS"/>
              </a:rPr>
              <a:t>8 p.m. to 10 p.m.</a:t>
            </a:r>
            <a:br>
              <a:rPr sz="2800"/>
            </a:br>
            <a:r>
              <a:rPr b="0" lang="en-US" sz="2800" spc="-1" strike="noStrike">
                <a:solidFill>
                  <a:srgbClr val="220011"/>
                </a:solidFill>
                <a:latin typeface="Comic Sans MS"/>
              </a:rPr>
              <a:t>Pauline will entertain you with a routine fresh from the Tucson Comedy Club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Big Bubba Chubba DJ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0011"/>
                </a:solidFill>
                <a:latin typeface="Comic Sans MS"/>
              </a:rPr>
              <a:t>10 p.m. to 2 a.m.</a:t>
            </a:r>
            <a:br>
              <a:rPr sz="2800"/>
            </a:br>
            <a:r>
              <a:rPr b="0" lang="en-US" sz="2800" spc="-1" strike="noStrike">
                <a:solidFill>
                  <a:srgbClr val="220011"/>
                </a:solidFill>
                <a:latin typeface="Comic Sans MS"/>
              </a:rPr>
              <a:t>Big Bubba will provide you with an array of music from the 1950’s to the new millennium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1:46:22Z</dcterms:created>
  <dc:creator>Pat R. Graves</dc:creator>
  <dc:description/>
  <dc:language>en-US</dc:language>
  <cp:lastModifiedBy>Student Name</cp:lastModifiedBy>
  <dcterms:modified xsi:type="dcterms:W3CDTF">2004-04-07T15:29:12Z</dcterms:modified>
  <cp:revision>11</cp:revision>
  <dc:subject/>
  <dc:title>New Year's Eve Bash</dc:title>
</cp:coreProperties>
</file>