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E7D-A7C6-48F0-8B53-6273F772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4CE-B77C-4477-9632-0BE7193D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B66-7034-4A0C-9959-6436BA2A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631-73CC-45AB-9FC5-B82D053B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EC75-9BC3-4BC2-8EA9-0B7D1DD7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7752-BFE1-4EBF-B080-DF8A58A1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1A8B-AE55-4E8E-B5CE-504EA384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188F-C40D-443E-85C6-2244F34A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EE60-062D-4AB9-BF4C-D4D585BB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55B6-BA53-43A1-98D6-C513A496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9C98-981B-4AF6-8215-F47D817C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1BE5-9B1C-4C00-99E4-32F75493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9B52-8E23-4B72-95BD-A12F4F53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2AC0-9B8E-44D2-B1E8-5D1944E8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81AF-896A-4FBA-862D-B5C11BCD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1C65-8E48-4AB6-9706-B625E7FB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FB6C-4098-4750-A690-5A09B415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682-CAA1-40EE-84BA-19E8BB55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76E8-B132-4C06-8D9B-CBD70671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E14-5239-4C91-81F2-3AA73846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653-AA34-4F10-A8FF-8640C08A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E40-8ED1-4BC0-BF23-B8912E17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0FB-1DB8-4FCE-9AC9-71F6DC31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899-CC94-4668-94C0-7B4FACE7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2" marL="1062720" indent="-212400">
              <a:spcBef>
                <a:spcPts val="9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3" marL="1487880" indent="-21240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4" marL="1913040" indent="-212400"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5" marL="1913040" indent="-21240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6" marL="1913040" indent="-21240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5B93-559C-4393-AE69-5D6279D99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9C79-69B6-48B1-B2E3-0B41D20A0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836640"/>
            <a:ext cx="8137440" cy="4500360"/>
          </a:xfrm>
          <a:prstGeom prst="rightArrow">
            <a:avLst>
              <a:gd name="adj1" fmla="val 66981"/>
              <a:gd name="adj2" fmla="val 45648"/>
            </a:avLst>
          </a:prstGeom>
          <a:gradFill rotWithShape="0">
            <a:gsLst>
              <a:gs pos="0">
                <a:srgbClr val="2b877c"/>
              </a:gs>
              <a:gs pos="100000">
                <a:srgbClr val="56925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335640" y="3359160"/>
            <a:ext cx="2550960" cy="2743200"/>
            <a:chOff x="6335640" y="3359160"/>
            <a:chExt cx="2550960" cy="2743200"/>
          </a:xfrm>
        </p:grpSpPr>
        <p:pic>
          <p:nvPicPr>
            <p:cNvPr id="84" name="" descr=""/>
            <p:cNvPicPr/>
            <p:nvPr/>
          </p:nvPicPr>
          <p:blipFill>
            <a:blip r:embed="rId2">
              <a:lum contrast="-12000"/>
            </a:blip>
            <a:stretch/>
          </p:blipFill>
          <p:spPr>
            <a:xfrm>
              <a:off x="6993360" y="3570120"/>
              <a:ext cx="729360" cy="177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>
              <a:lum bright="-18000"/>
            </a:blip>
            <a:stretch/>
          </p:blipFill>
          <p:spPr>
            <a:xfrm>
              <a:off x="7545960" y="3516840"/>
              <a:ext cx="740880" cy="21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 flipH="1">
              <a:off x="6335640" y="3859200"/>
              <a:ext cx="761040" cy="11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7914600" y="3359160"/>
              <a:ext cx="972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971640" y="1809360"/>
            <a:ext cx="6121440" cy="25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0" lang="en-US" sz="6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1809360"/>
            <a:ext cx="6121440" cy="25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 Black"/>
              </a:rPr>
              <a:t>Spring Festival Marathon</a:t>
            </a:r>
            <a:endParaRPr b="0" lang="en-US" sz="6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08000" y="4941360"/>
            <a:ext cx="5796000" cy="6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April 24, 2005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79640" y="5877000"/>
            <a:ext cx="1871280" cy="755640"/>
            <a:chOff x="1079640" y="5877000"/>
            <a:chExt cx="1871280" cy="755640"/>
          </a:xfrm>
        </p:grpSpPr>
        <p:sp>
          <p:nvSpPr>
            <p:cNvPr id="129" name=""/>
            <p:cNvSpPr txBox="1"/>
            <p:nvPr/>
          </p:nvSpPr>
          <p:spPr>
            <a:xfrm>
              <a:off x="2429640" y="6164640"/>
              <a:ext cx="521280" cy="46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969560" y="5996880"/>
              <a:ext cx="674640" cy="635400"/>
              <a:chOff x="1969560" y="5996880"/>
              <a:chExt cx="674640" cy="635400"/>
            </a:xfrm>
          </p:grpSpPr>
          <p:sp>
            <p:nvSpPr>
              <p:cNvPr id="131" name=""/>
              <p:cNvSpPr/>
              <p:nvPr/>
            </p:nvSpPr>
            <p:spPr>
              <a:xfrm>
                <a:off x="1969560" y="5996880"/>
                <a:ext cx="674640" cy="635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58920" y="6065280"/>
                <a:ext cx="312480" cy="3538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6fb56d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 txBox="1"/>
            <p:nvPr/>
          </p:nvSpPr>
          <p:spPr>
            <a:xfrm>
              <a:off x="1079640" y="5877000"/>
              <a:ext cx="125784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Black"/>
              </a:rPr>
              <a:t>The Day’s Schedule</a:t>
            </a: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1417680" y="2514600"/>
            <a:ext cx="6307200" cy="2651040"/>
          </a:xfrm>
          <a:prstGeom prst="rect">
            <a:avLst/>
          </a:prstGeom>
          <a:gradFill rotWithShape="0">
            <a:gsLst>
              <a:gs pos="0">
                <a:srgbClr val="6fb56d"/>
              </a:gs>
              <a:gs pos="100000">
                <a:srgbClr val="2b877c"/>
              </a:gs>
            </a:gsLst>
            <a:lin ang="5400000"/>
          </a:gradFill>
          <a:ln w="38160">
            <a:solidFill>
              <a:srgbClr val="99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228600" bIns="2286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r" pos="4525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eck i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:3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a.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25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ace begin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a.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25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elebrat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:0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p.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Black"/>
              </a:rPr>
              <a:t>Station Assignments</a:t>
            </a: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371600" y="2313000"/>
            <a:ext cx="6399000" cy="3090960"/>
            <a:chOff x="1371600" y="2313000"/>
            <a:chExt cx="6399000" cy="3090960"/>
          </a:xfrm>
        </p:grpSpPr>
        <p:sp>
          <p:nvSpPr>
            <p:cNvPr id="138" name=""/>
            <p:cNvSpPr/>
            <p:nvPr/>
          </p:nvSpPr>
          <p:spPr>
            <a:xfrm>
              <a:off x="1371600" y="2313000"/>
              <a:ext cx="6399000" cy="641520"/>
            </a:xfrm>
            <a:prstGeom prst="rect">
              <a:avLst/>
            </a:prstGeom>
            <a:solidFill>
              <a:srgbClr val="2b8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ctr" pos="3657600"/>
                  <a:tab algn="r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ff33"/>
                  </a:solidFill>
                  <a:latin typeface="Arial"/>
                </a:rPr>
                <a:t>Description</a:t>
              </a:r>
              <a:r>
                <a:rPr b="0" lang="en-US" sz="3600" spc="-1" strike="noStrike">
                  <a:solidFill>
                    <a:srgbClr val="99ff33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99ff33"/>
                  </a:solidFill>
                  <a:latin typeface="Arial"/>
                </a:rPr>
                <a:t>Class</a:t>
              </a:r>
              <a:r>
                <a:rPr b="0" lang="en-US" sz="3600" spc="-1" strike="noStrike">
                  <a:solidFill>
                    <a:srgbClr val="99ff33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99ff33"/>
                  </a:solidFill>
                  <a:latin typeface="Arial"/>
                </a:rPr>
                <a:t>Statio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71600" y="2960640"/>
              <a:ext cx="6399000" cy="2443320"/>
            </a:xfrm>
            <a:prstGeom prst="rect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2b87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3543480"/>
                  <a:tab algn="l" pos="5715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nder 18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3543480"/>
                  <a:tab algn="l" pos="5715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8-39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3543480"/>
                  <a:tab algn="l" pos="5715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0-54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3543480"/>
                  <a:tab algn="l" pos="5715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55 and Over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2T21:33:18Z</dcterms:created>
  <dc:creator>Pat R. Graves</dc:creator>
  <dc:description/>
  <dc:language>en-US</dc:language>
  <cp:lastModifiedBy>Pat Graves</cp:lastModifiedBy>
  <cp:lastPrinted>1997-05-06T16:23:26Z</cp:lastPrinted>
  <dcterms:modified xsi:type="dcterms:W3CDTF">2004-03-12T21:23:35Z</dcterms:modified>
  <cp:revision>23</cp:revision>
  <dc:subject/>
  <dc:title>Spring Festival Marathon</dc:title>
</cp:coreProperties>
</file>