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BC9-EE46-471C-AE9A-3906371A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2600" y="53607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F85-C90F-4200-96EA-47A903A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0432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F63-9D53-4B51-8A10-1F9EAD0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8884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6508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260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8884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6508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550-44E3-4ACE-B969-BC5D3EA7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FDD6-34BA-48BD-B0B3-FE9397D3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3A5-3EAD-4392-A5EF-46555FC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C70-FF03-43B7-B291-4A04D5B4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191-2AA1-46EF-B790-50E045B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BC5-A454-4AE0-8DC3-FF8E4066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14440" y="507600"/>
            <a:ext cx="58291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860E-D421-4B07-BDB5-60C64DA1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2493-9ED9-4374-9183-2415671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8F5-CE50-4873-876E-C682D1C1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0432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EF88-C6F8-427A-8536-0986D44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DCB4-B127-4F3A-9D41-87E3180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2600" y="53607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A3C8-C363-4AC7-8A66-C1233908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60432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0AE-C99C-4774-85D9-4DF02BB4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8884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65080" y="22845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260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8884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65080" y="5360760"/>
            <a:ext cx="169128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478-E4EF-4931-ACD5-17955C6F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9A8-2876-4040-B0A9-59C310F0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13B-C4C0-40BB-A260-8723020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A9A-59BF-4D02-8539-9D133AA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507600"/>
            <a:ext cx="58291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A69-7E7A-42C0-B5CF-851EFFB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589-4714-44FD-A47E-4D0CC26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04320" y="53607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97D-6B00-4E00-8407-ABAA4E3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4320" y="2284560"/>
            <a:ext cx="256320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2600" y="5360760"/>
            <a:ext cx="5252760" cy="280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27C-6AED-4742-AE7C-82235B6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Bookman Old Style"/>
              </a:rPr>
              <a:t>Click to edit the title text format</a:t>
            </a: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43264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105-AA7B-4F52-905C-46DD159AA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76280" y="1368360"/>
            <a:ext cx="6029280" cy="457200"/>
          </a:xfrm>
          <a:prstGeom prst="rightArrow">
            <a:avLst>
              <a:gd name="adj1" fmla="val 47222"/>
              <a:gd name="adj2" fmla="val 112337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7920" y="1295280"/>
            <a:ext cx="582948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Bookman Old Style"/>
              </a:rPr>
              <a:t>Click to edit the title text format</a:t>
            </a:r>
            <a:endParaRPr b="1" i="1" lang="en-US" sz="40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4080" y="843264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150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438-F0E5-43D4-B940-F232DCB3A5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4640" y="2771640"/>
            <a:ext cx="6029640" cy="677880"/>
          </a:xfrm>
          <a:prstGeom prst="rightArrow">
            <a:avLst>
              <a:gd name="adj1" fmla="val 47222"/>
              <a:gd name="adj2" fmla="val 75771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451"/>
              </a:spcBef>
              <a:buClr>
                <a:srgbClr val="ff99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Bookman Old Styl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920" y="1279440"/>
            <a:ext cx="582948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Bookman Old Style"/>
              </a:rPr>
              <a:t>Equipment Upgrades</a:t>
            </a:r>
            <a:endParaRPr b="1" i="1" lang="en-US" sz="40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98400" y="3655800"/>
            <a:ext cx="2795400" cy="23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Good 4 U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ranchise Meet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July 12, 2004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Bookman Old Style"/>
              </a:rPr>
              <a:t>Why Upgrades Are Required</a:t>
            </a:r>
            <a:endParaRPr b="1" i="1" lang="en-US" sz="28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3800" y="2268360"/>
            <a:ext cx="4570200" cy="35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ood 4 U is always striving to serve customers better. In order to achieve the highest standard of service, all franchise locations must be using the best available equipment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"/>
          <p:cNvSpPr/>
          <p:nvPr/>
        </p:nvSpPr>
        <p:spPr>
          <a:xfrm>
            <a:off x="1268280" y="5040360"/>
            <a:ext cx="4570560" cy="319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Bookman Old Style"/>
                <a:ea typeface="Arial Unicode MS"/>
              </a:rPr>
              <a:t>Equipment </a:t>
            </a:r>
            <a:br>
              <a:rPr sz="2800"/>
            </a:br>
            <a:r>
              <a:rPr b="1" i="1" lang="en-US" sz="2800" spc="-1" strike="noStrike">
                <a:solidFill>
                  <a:srgbClr val="cc0066"/>
                </a:solidFill>
                <a:latin typeface="Bookman Old Style"/>
                <a:ea typeface="Arial Unicode MS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4240" y="6084720"/>
            <a:ext cx="238788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tche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5680" y="6804000"/>
            <a:ext cx="142020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4600" y="7524720"/>
            <a:ext cx="262872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Bookman Old Style"/>
              </a:rPr>
              <a:t>Kitchen Equipment</a:t>
            </a: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an Magic crepe mak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ing Koffee cappuccino machin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iracle Heat infrared warming stati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Chopper heavy-duty food processor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Bookman Old Style"/>
              </a:rPr>
              <a:t>New Tableware </a:t>
            </a: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2284200"/>
            <a:ext cx="5484600" cy="54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alifornia Stone place setting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rest Evening pattern with rich, vibrant color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specially designed for Good 4 U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tting Edge flatwa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legant twisted steel patter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eavy-weight bronze-tone stainless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ew England Linens napki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sign compliments stoneware patter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urable fabric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507600"/>
            <a:ext cx="58291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Bookman Old Style"/>
              </a:rPr>
              <a:t>Computer Equipment</a:t>
            </a:r>
            <a:endParaRPr b="1" i="1" lang="en-US" sz="3200" spc="-1" strike="noStrike">
              <a:solidFill>
                <a:srgbClr val="cc00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2284560"/>
            <a:ext cx="52527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acer Feather-light lap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del ZAP-1000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acer color laser pri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del 10XCPP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ightStream ISDN compatible network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6640" y="4788000"/>
            <a:ext cx="2562120" cy="38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23:18:36Z</dcterms:created>
  <dc:creator>Pat R. Graves</dc:creator>
  <dc:description/>
  <dc:language>en-US</dc:language>
  <cp:lastModifiedBy>Ms. Malnick</cp:lastModifiedBy>
  <dcterms:modified xsi:type="dcterms:W3CDTF">2004-04-08T00:23:09Z</dcterms:modified>
  <cp:revision>11</cp:revision>
  <dc:subject/>
  <dc:title>Equipment Upgrades</dc:title>
</cp:coreProperties>
</file>