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391-357A-4BD2-80BB-AF11195F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9720" y="2017800"/>
            <a:ext cx="6514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9720" y="4167360"/>
            <a:ext cx="6514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572-40AB-4489-88AC-81E80624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9720" y="2017800"/>
            <a:ext cx="317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78360" y="2017800"/>
            <a:ext cx="317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9720" y="4167360"/>
            <a:ext cx="317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78360" y="4167360"/>
            <a:ext cx="317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E0D-FB5B-4D7C-AC5E-5B181450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9720" y="2017800"/>
            <a:ext cx="209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42560" y="2017800"/>
            <a:ext cx="209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45760" y="2017800"/>
            <a:ext cx="209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9720" y="4167360"/>
            <a:ext cx="209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42560" y="4167360"/>
            <a:ext cx="209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45760" y="4167360"/>
            <a:ext cx="209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5C2-4C1E-445E-9A99-6F641BF1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3AA9-2949-416A-AC13-F01D29EC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439720" y="2017800"/>
            <a:ext cx="6514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B4E3-DAEC-4543-9FEF-E4889E62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9720" y="2017800"/>
            <a:ext cx="65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E4A6-E53C-43D6-9022-96276C1A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9720" y="2017800"/>
            <a:ext cx="317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78360" y="2017800"/>
            <a:ext cx="317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4EF1-D45F-405F-BD4C-6B534D35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7FF5-1322-4A8F-96E4-647C8C90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478240" y="102960"/>
            <a:ext cx="666576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E6CB-F732-4F25-BAC5-C0C31937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9720" y="2017800"/>
            <a:ext cx="317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78360" y="2017800"/>
            <a:ext cx="317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439720" y="4167360"/>
            <a:ext cx="317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E2DD-3605-48E2-9776-A5BD1229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9720" y="2017800"/>
            <a:ext cx="6514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889-D681-4F5A-9075-DBA25A46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9720" y="2017800"/>
            <a:ext cx="317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78360" y="2017800"/>
            <a:ext cx="317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778360" y="4167360"/>
            <a:ext cx="317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0998-0231-455C-974E-3CD16383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9720" y="2017800"/>
            <a:ext cx="317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78360" y="2017800"/>
            <a:ext cx="317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439720" y="4167360"/>
            <a:ext cx="6514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6EEF-7FB9-4255-8B46-8D89A86A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39720" y="2017800"/>
            <a:ext cx="6514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439720" y="4167360"/>
            <a:ext cx="6514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1AAA-974A-4177-9550-EC376DDE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9720" y="2017800"/>
            <a:ext cx="317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78360" y="2017800"/>
            <a:ext cx="317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439720" y="4167360"/>
            <a:ext cx="317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78360" y="4167360"/>
            <a:ext cx="317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65CC-F4C6-4BEF-BEEB-E994BCD1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39720" y="2017800"/>
            <a:ext cx="209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2560" y="2017800"/>
            <a:ext cx="209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45760" y="2017800"/>
            <a:ext cx="209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439720" y="4167360"/>
            <a:ext cx="209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642560" y="4167360"/>
            <a:ext cx="209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845760" y="4167360"/>
            <a:ext cx="209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7547-82C6-4267-8BD5-DC5E06B7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9720" y="2017800"/>
            <a:ext cx="65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FAD-43C0-4C63-9D4A-0AF6EDCB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9720" y="2017800"/>
            <a:ext cx="317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78360" y="2017800"/>
            <a:ext cx="317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6E4-94BA-4848-81BE-BFC4DF3A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5F33-7046-461D-A805-C976F260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78240" y="102960"/>
            <a:ext cx="666576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A6A-9D4B-4A93-886C-5F0CB3CF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9720" y="2017800"/>
            <a:ext cx="317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78360" y="2017800"/>
            <a:ext cx="317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9720" y="4167360"/>
            <a:ext cx="317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332-8D70-4F0B-BB22-BC356C89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9720" y="2017800"/>
            <a:ext cx="317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78360" y="2017800"/>
            <a:ext cx="317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78360" y="4167360"/>
            <a:ext cx="317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4711-2488-43BE-B6FF-561D91F0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9720" y="2017800"/>
            <a:ext cx="317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78360" y="2017800"/>
            <a:ext cx="317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9720" y="4167360"/>
            <a:ext cx="6514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2C5-2503-4EF1-9F55-A77513CB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400000">
            <a:off x="-1608480" y="4233960"/>
            <a:ext cx="4822920" cy="228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19360" y="1554120"/>
            <a:ext cx="7313400" cy="228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oper Black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439720" y="2017800"/>
            <a:ext cx="65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99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F1BE-9FDF-44FB-A414-6ECFFD1B86D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6600" y="222120"/>
            <a:ext cx="2408400" cy="187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0800000">
            <a:off x="0" y="2661480"/>
            <a:ext cx="6973920" cy="252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c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9600" y="556920"/>
            <a:ext cx="7772400" cy="196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oper Black"/>
              </a:rPr>
              <a:t>Click to edit the title text format</a:t>
            </a:r>
            <a:endParaRPr b="0" lang="en-US" sz="60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3C4C-BCF1-4D3C-913B-F49B307129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21080" y="2344680"/>
            <a:ext cx="5722920" cy="4446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9600" y="556920"/>
            <a:ext cx="7772400" cy="196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oper Black"/>
              </a:rPr>
              <a:t>Good 4 U</a:t>
            </a:r>
            <a:br>
              <a:rPr sz="6000"/>
            </a:br>
            <a:r>
              <a:rPr b="0" lang="en-US" sz="6000" spc="-1" strike="noStrike">
                <a:solidFill>
                  <a:srgbClr val="3333cc"/>
                </a:solidFill>
                <a:latin typeface="Cooper Black"/>
              </a:rPr>
              <a:t>Softball Schedule</a:t>
            </a:r>
            <a:endParaRPr b="0" lang="en-US" sz="60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49000" y="3657240"/>
            <a:ext cx="38862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Spring/Summer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004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oper Black"/>
              </a:rPr>
              <a:t>July/August Schedule</a:t>
            </a: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463760" y="2163600"/>
            <a:ext cx="7532640" cy="4084560"/>
            <a:chOff x="1463760" y="2163600"/>
            <a:chExt cx="7532640" cy="4084560"/>
          </a:xfrm>
        </p:grpSpPr>
        <p:sp>
          <p:nvSpPr>
            <p:cNvPr id="91" name=""/>
            <p:cNvSpPr/>
            <p:nvPr/>
          </p:nvSpPr>
          <p:spPr>
            <a:xfrm>
              <a:off x="1463760" y="2163600"/>
              <a:ext cx="74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660680"/>
                  <a:tab algn="l" pos="4067280"/>
                  <a:tab algn="l" pos="61117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oper Black"/>
                </a:rPr>
                <a:t>Date</a:t>
              </a:r>
              <a:r>
                <a:rPr b="0" lang="en-US" sz="2400" spc="-1" strike="noStrike">
                  <a:solidFill>
                    <a:srgbClr val="000000"/>
                  </a:solidFill>
                  <a:latin typeface="Cooper Black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oper Black"/>
                </a:rPr>
                <a:t>Opponent</a:t>
              </a:r>
              <a:r>
                <a:rPr b="0" lang="en-US" sz="2400" spc="-1" strike="noStrike">
                  <a:solidFill>
                    <a:srgbClr val="000000"/>
                  </a:solidFill>
                  <a:latin typeface="Cooper Black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oper Black"/>
                </a:rPr>
                <a:t>Loca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Cooper Black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oper Black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63760" y="2693880"/>
              <a:ext cx="7532640" cy="35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155600"/>
                  <a:tab algn="l" pos="4356000"/>
                  <a:tab algn="l" pos="628020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7/8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American Sports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Away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5:4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155600"/>
                  <a:tab algn="l" pos="4356000"/>
                  <a:tab algn="l" pos="628020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7/15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Jim Jones Pie Co.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Home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6: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155600"/>
                  <a:tab algn="l" pos="4356000"/>
                  <a:tab algn="l" pos="628020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7/22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Smith’s Shoes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Home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6: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155600"/>
                  <a:tab algn="l" pos="4356000"/>
                  <a:tab algn="l" pos="628020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7/29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Ace Factory Supply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Away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5:4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155600"/>
                  <a:tab algn="l" pos="4356000"/>
                  <a:tab algn="l" pos="628020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8/5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American Sports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Home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6: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155600"/>
                  <a:tab algn="l" pos="4356000"/>
                  <a:tab algn="l" pos="628020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8/12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Jim Jones Pie Co.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Away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6:1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155600"/>
                  <a:tab algn="l" pos="4356000"/>
                  <a:tab algn="l" pos="628020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8/19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Smith’s Shoes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Away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6:1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155600"/>
                  <a:tab algn="l" pos="4356000"/>
                  <a:tab algn="l" pos="628020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8/26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Ace Factory Supply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Home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6: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36840" y="2574720"/>
              <a:ext cx="69310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oper Black"/>
              </a:rPr>
              <a:t>Team Members</a:t>
            </a: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99960" y="1968480"/>
            <a:ext cx="31813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Team 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hester Frank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indy Water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ave Ander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Gary Seltz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Jennifer Simpso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Jerry Tayl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Jimmy Jon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illie Wilk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enelope Paulse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5520" y="1968120"/>
            <a:ext cx="31813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Team B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Bill Mis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Bob Green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Jane Farb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John Letterma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Katherine Phillip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ry Peterse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atrick Dougla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enny Dougla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Rocky Stonewal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755720" y="2502000"/>
            <a:ext cx="6497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2044800"/>
            <a:ext cx="0" cy="4813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78240" y="102960"/>
            <a:ext cx="6665760" cy="14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oper Black"/>
              </a:rPr>
              <a:t>Awards Dinner</a:t>
            </a:r>
            <a:endParaRPr b="0" lang="en-US" sz="4400" spc="-1" strike="noStrike">
              <a:solidFill>
                <a:srgbClr val="3333cc"/>
              </a:solidFill>
              <a:latin typeface="Cooper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1906560" y="2828160"/>
            <a:ext cx="6190920" cy="182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82880" bIns="1828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oper Black"/>
              </a:rPr>
              <a:t>Thursday, September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oper Black"/>
              </a:rPr>
              <a:t>American Sports Playing 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oper Black"/>
              </a:rPr>
              <a:t>Rain Date: Sunday, September 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5:02:56Z</dcterms:created>
  <dc:creator>Pat Graves</dc:creator>
  <dc:description/>
  <dc:language>en-US</dc:language>
  <cp:lastModifiedBy>Pat Graves</cp:lastModifiedBy>
  <dcterms:modified xsi:type="dcterms:W3CDTF">2004-03-13T06:30:14Z</dcterms:modified>
  <cp:revision>5</cp:revision>
  <dc:subject/>
  <dc:title>Slide 1</dc:title>
</cp:coreProperties>
</file>