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C0F-3B16-4D5A-9355-E3855979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98968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644000"/>
            <a:ext cx="598968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F91-D23F-45A7-981C-7DA1B6AD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52656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0DA-AD0E-4C94-864E-2E065C80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82560" y="171936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07920" y="171936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64400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482560" y="464400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507920" y="464400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275-8D41-44D0-98E9-ADE2441C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08B4-FAAE-43C9-9912-38083686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5989680" cy="55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8BFB-D0DE-445F-9D5F-8E7F322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98968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B6D-E379-48AE-BE04-9D37FCBF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D836-9E55-4743-B968-0E61341A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5F8C-BE5D-41B0-AFB9-B432611E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6685-2275-4298-B9CE-8A7F202B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574E-2B88-4BEF-B256-5FBC674D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5989680" cy="55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040-5140-488F-80C0-F165C1F0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2656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7EA5-3DE2-486B-B299-F800DC7A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644000"/>
            <a:ext cx="598968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6DF-19AA-4419-BEE1-C8E31C13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98968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644000"/>
            <a:ext cx="598968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062D-D218-4753-88F3-8C8BC349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52656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B9AD-57E4-4694-868D-E7EB707A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482560" y="171936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07920" y="171936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64400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482560" y="464400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507920" y="4644000"/>
            <a:ext cx="192852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93F0-E75A-4B95-A856-093AE068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98968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C0A-F314-4E16-AED0-91FE369A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DBB-E01B-4FAF-97AA-64DDF257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8C6-E85B-405D-A3AE-23BA9F2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CB3-B0AD-461C-8041-E5261B5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6C0-48FD-42FB-B7D3-B75918C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55987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26560" y="464400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DF0-6314-4436-B000-78CD1225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26560" y="1719360"/>
            <a:ext cx="292284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644000"/>
            <a:ext cx="5989680" cy="2670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669-D7F4-4BB0-895C-F22018A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5989680" cy="5598720"/>
          </a:xfrm>
          <a:prstGeom prst="rect">
            <a:avLst/>
          </a:prstGeom>
          <a:gradFill rotWithShape="0">
            <a:gsLst>
              <a:gs pos="0">
                <a:srgbClr val="cc9900">
                  <a:alpha val="25098"/>
                </a:srgbClr>
              </a:gs>
              <a:gs pos="100000">
                <a:srgbClr val="cc3300">
                  <a:alpha val="75294"/>
                </a:srgbClr>
              </a:gs>
            </a:gsLst>
            <a:lin ang="8100000"/>
          </a:gradFill>
          <a:ln w="38160">
            <a:solidFill>
              <a:srgbClr val="7c1302"/>
            </a:solidFill>
            <a:miter/>
          </a:ln>
        </p:spPr>
        <p:txBody>
          <a:bodyPr lIns="457200" rIns="457200" tIns="457200" bIns="45720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74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74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74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B921-8B8B-4744-8362-E17AE1AB2AA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94F-A7CC-4748-84AC-3331CF4B90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7c1302"/>
                </a:solidFill>
                <a:latin typeface="Arial Narrow"/>
              </a:rPr>
              <a:t>Click to edit the title text format</a:t>
            </a:r>
            <a:endParaRPr b="1" lang="en-US" sz="61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D9B9-73EC-4621-9532-A9DCAB93A5A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C45B-2781-45A8-875A-36C955D087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4651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-3031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-2520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-25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-25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7c1302"/>
                </a:solidFill>
                <a:latin typeface="Arial Narrow"/>
              </a:rPr>
              <a:t>Good 4 U</a:t>
            </a:r>
            <a:endParaRPr b="1" lang="en-US" sz="61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52560" y="3049560"/>
            <a:ext cx="5245200" cy="2819520"/>
          </a:xfrm>
          <a:prstGeom prst="rect">
            <a:avLst/>
          </a:prstGeom>
          <a:gradFill rotWithShape="0">
            <a:gsLst>
              <a:gs pos="0">
                <a:srgbClr val="cc9900">
                  <a:alpha val="25098"/>
                </a:srgbClr>
              </a:gs>
              <a:gs pos="100000">
                <a:srgbClr val="7c1302">
                  <a:alpha val="75294"/>
                </a:srgbClr>
              </a:gs>
            </a:gsLst>
            <a:lin ang="8100000"/>
          </a:gradFill>
          <a:ln w="38160">
            <a:solidFill>
              <a:srgbClr val="7c1302"/>
            </a:solidFill>
            <a:miter/>
          </a:ln>
        </p:spPr>
        <p:txBody>
          <a:bodyPr lIns="457200" rIns="457200" tIns="457200" bIns="4572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comes you to 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restaurant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cson, 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7280" y="469800"/>
            <a:ext cx="34927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 Narrow"/>
              </a:rPr>
              <a:t>What’s New in Tucson</a:t>
            </a: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87640" y="2528640"/>
            <a:ext cx="3362400" cy="2508120"/>
          </a:xfrm>
          <a:prstGeom prst="rect">
            <a:avLst/>
          </a:prstGeom>
          <a:gradFill rotWithShape="0">
            <a:gsLst>
              <a:gs pos="0">
                <a:srgbClr val="cc9900">
                  <a:alpha val="25098"/>
                </a:srgbClr>
              </a:gs>
              <a:gs pos="100000">
                <a:srgbClr val="cc3300">
                  <a:alpha val="75294"/>
                </a:srgbClr>
              </a:gs>
            </a:gsLst>
            <a:lin ang="8100000"/>
          </a:gradFill>
          <a:ln w="38160">
            <a:solidFill>
              <a:srgbClr val="7c1302"/>
            </a:solidFill>
            <a:miter/>
          </a:ln>
        </p:spPr>
        <p:txBody>
          <a:bodyPr lIns="457200" rIns="457200" tIns="457200" bIns="45720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ert 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o juice b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lth s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 Narrow"/>
              </a:rPr>
              <a:t>Appetizers</a:t>
            </a: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3360" y="2637000"/>
            <a:ext cx="5595840" cy="2458800"/>
          </a:xfrm>
          <a:prstGeom prst="rect">
            <a:avLst/>
          </a:prstGeom>
          <a:gradFill rotWithShape="0">
            <a:gsLst>
              <a:gs pos="0">
                <a:srgbClr val="cc9900">
                  <a:alpha val="25098"/>
                </a:srgbClr>
              </a:gs>
              <a:gs pos="100000">
                <a:srgbClr val="cc3300">
                  <a:alpha val="75294"/>
                </a:srgbClr>
              </a:gs>
            </a:gsLst>
            <a:lin ang="8100000"/>
          </a:gradFill>
          <a:ln w="38160">
            <a:solidFill>
              <a:srgbClr val="7c1302"/>
            </a:solidFill>
            <a:miter/>
          </a:ln>
        </p:spPr>
        <p:txBody>
          <a:bodyPr lIns="457200" rIns="457200" tIns="457200" bIns="4572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d Rice Sou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ll Cucumber Sala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Bean Sala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 Narrow"/>
              </a:rPr>
              <a:t>Specials</a:t>
            </a:r>
            <a:endParaRPr b="1" lang="en-US" sz="4800" spc="-1" strike="noStrike">
              <a:solidFill>
                <a:srgbClr val="7c1302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6896160" cy="4868640"/>
          </a:xfrm>
          <a:prstGeom prst="rect">
            <a:avLst/>
          </a:prstGeom>
          <a:gradFill rotWithShape="0">
            <a:gsLst>
              <a:gs pos="0">
                <a:srgbClr val="cc9900">
                  <a:alpha val="25098"/>
                </a:srgbClr>
              </a:gs>
              <a:gs pos="100000">
                <a:srgbClr val="cc3300">
                  <a:alpha val="75294"/>
                </a:srgbClr>
              </a:gs>
            </a:gsLst>
            <a:lin ang="8100000"/>
          </a:gradFill>
          <a:ln w="38160">
            <a:solidFill>
              <a:srgbClr val="7c1302"/>
            </a:solidFill>
            <a:miter/>
          </a:ln>
        </p:spPr>
        <p:txBody>
          <a:bodyPr lIns="457200" rIns="457200" tIns="274320" bIns="27432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r" pos="45720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tré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nne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r" pos="45720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cken Fajit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.5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-29664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r" pos="45720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Chunky chicken, Monterey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Jack cheese, tomatoes, an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olives wrapped in a flour tor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r" pos="45720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jon Chicken Ro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.9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-29664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r" pos="45720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Rolled boneless chicken breas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filled with spicy bread crumb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and dressed with a Dijon sa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r" pos="45720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i Stir F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.2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.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-29664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r" pos="45720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Tasty shrimp with fresh garden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vegetables served over your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choice of wild or white 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3T22:08:07Z</dcterms:created>
  <dc:creator>Pat R. Graves</dc:creator>
  <dc:description/>
  <dc:language>en-US</dc:language>
  <cp:lastModifiedBy>Pat Graves</cp:lastModifiedBy>
  <cp:lastPrinted>1997-05-06T16:25:01Z</cp:lastPrinted>
  <dcterms:modified xsi:type="dcterms:W3CDTF">2004-03-13T03:49:57Z</dcterms:modified>
  <cp:revision>64</cp:revision>
  <dc:subject/>
  <dc:title>Welcome in Tucson</dc:title>
</cp:coreProperties>
</file>