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B0F-88C8-42D4-A8F1-255D9CA5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8E3-EDD2-48C0-B17B-DE51A6E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132-7FD6-45CD-8692-10B0A816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F11-81E4-45E6-9550-20B0A47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77D-4AAA-4DD2-AD24-7199B6ED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A8E-9F30-4FBF-82C4-63FAC80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906F-5F8B-4826-A5F7-7FB4E31B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7EB-2622-4E38-9086-71E78A3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261-C42E-4979-B31C-C49AEC2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8B7-0830-4011-BD52-7B487A4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E3E-187F-4531-89F0-93F24020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818-892F-4978-AB58-7093A13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EFCA-A59D-419C-8905-6B8EB7F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C4B9-C0DB-48E5-9E94-C4F2680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392D-41E2-4C23-81FA-C8D73F8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1CC2-5C1E-456D-9E33-82751D05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E8D7-FF86-4CFA-9777-60389AF6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4F6-CB0B-4CD9-921E-279479FC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B7C-2EB9-42EA-B04D-B118E5B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D42-444C-4665-9C9C-2608AB3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FCC-EC9D-498B-9EC1-B9BC9B74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45C-CDD9-4673-B6E9-FD2DCBB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7A8-14C1-4B84-8A98-C1193EF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62F-B7DC-4D37-B127-CD34960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F6B-E825-4E07-977E-35100D0C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81000" y="-412920"/>
            <a:ext cx="9392400" cy="7001280"/>
            <a:chOff x="-81000" y="-412920"/>
            <a:chExt cx="9392400" cy="7001280"/>
          </a:xfrm>
        </p:grpSpPr>
        <p:grpSp>
          <p:nvGrpSpPr>
            <p:cNvPr id="8" name=""/>
            <p:cNvGrpSpPr/>
            <p:nvPr/>
          </p:nvGrpSpPr>
          <p:grpSpPr>
            <a:xfrm>
              <a:off x="7944840" y="2367000"/>
              <a:ext cx="1366560" cy="4221360"/>
              <a:chOff x="7944840" y="2367000"/>
              <a:chExt cx="1366560" cy="4221360"/>
            </a:xfrm>
          </p:grpSpPr>
          <p:sp>
            <p:nvSpPr>
              <p:cNvPr id="9" name=""/>
              <p:cNvSpPr/>
              <p:nvPr/>
            </p:nvSpPr>
            <p:spPr>
              <a:xfrm flipV="1" rot="900000">
                <a:off x="8118000" y="399708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 rot="900000">
                <a:off x="8112240" y="2476080"/>
                <a:ext cx="1031760" cy="142884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900000">
                <a:off x="8558280" y="521964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0f0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900000">
                <a:off x="8715240" y="62467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afa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-81000" y="-412920"/>
              <a:ext cx="2552040" cy="4375440"/>
              <a:chOff x="-81000" y="-412920"/>
              <a:chExt cx="2552040" cy="4375440"/>
            </a:xfrm>
          </p:grpSpPr>
          <p:sp>
            <p:nvSpPr>
              <p:cNvPr id="14" name=""/>
              <p:cNvSpPr/>
              <p:nvPr/>
            </p:nvSpPr>
            <p:spPr>
              <a:xfrm flipV="1">
                <a:off x="0" y="245880"/>
                <a:ext cx="863640" cy="102528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 rot="900000">
                <a:off x="1444680" y="-319680"/>
                <a:ext cx="882720" cy="1222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81000" y="3129120"/>
                <a:ext cx="808200" cy="833400"/>
              </a:xfrm>
              <a:custGeom>
                <a:avLst/>
                <a:gdLst/>
                <a:ahLst/>
                <a:rect l="l" t="t" r="r" b="b"/>
                <a:pathLst>
                  <a:path w="509" h="525">
                    <a:moveTo>
                      <a:pt x="215" y="287"/>
                    </a:moveTo>
                    <a:lnTo>
                      <a:pt x="126" y="525"/>
                    </a:lnTo>
                    <a:lnTo>
                      <a:pt x="254" y="305"/>
                    </a:lnTo>
                    <a:lnTo>
                      <a:pt x="379" y="525"/>
                    </a:lnTo>
                    <a:lnTo>
                      <a:pt x="291" y="287"/>
                    </a:lnTo>
                    <a:lnTo>
                      <a:pt x="509" y="262"/>
                    </a:lnTo>
                    <a:lnTo>
                      <a:pt x="292" y="239"/>
                    </a:lnTo>
                    <a:lnTo>
                      <a:pt x="379" y="0"/>
                    </a:lnTo>
                    <a:lnTo>
                      <a:pt x="253" y="218"/>
                    </a:lnTo>
                    <a:lnTo>
                      <a:pt x="126" y="0"/>
                    </a:lnTo>
                    <a:lnTo>
                      <a:pt x="214" y="243"/>
                    </a:lnTo>
                    <a:lnTo>
                      <a:pt x="0" y="262"/>
                    </a:lnTo>
                    <a:lnTo>
                      <a:pt x="214" y="285"/>
                    </a:lnTo>
                  </a:path>
                </a:pathLst>
              </a:custGeom>
              <a:gradFill rotWithShape="0">
                <a:gsLst>
                  <a:gs pos="0">
                    <a:srgbClr val="dfdf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900000">
                <a:off x="790560" y="75888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900000">
                <a:off x="189000" y="210024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0040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0992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6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E76-7A2A-4EAE-BEC6-F94D751A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-121320"/>
            <a:ext cx="6015600" cy="3445560"/>
            <a:chOff x="0" y="-121320"/>
            <a:chExt cx="6015600" cy="3445560"/>
          </a:xfrm>
        </p:grpSpPr>
        <p:sp>
          <p:nvSpPr>
            <p:cNvPr id="62" name=""/>
            <p:cNvSpPr/>
            <p:nvPr/>
          </p:nvSpPr>
          <p:spPr>
            <a:xfrm flipV="1">
              <a:off x="0" y="1752480"/>
              <a:ext cx="1322280" cy="1571760"/>
            </a:xfrm>
            <a:custGeom>
              <a:avLst/>
              <a:gdLst/>
              <a:ahLst/>
              <a:rect l="l" t="t" r="r" b="b"/>
              <a:pathLst>
                <a:path w="833" h="990">
                  <a:moveTo>
                    <a:pt x="284" y="448"/>
                  </a:moveTo>
                  <a:lnTo>
                    <a:pt x="115" y="0"/>
                  </a:lnTo>
                  <a:lnTo>
                    <a:pt x="353" y="398"/>
                  </a:lnTo>
                  <a:lnTo>
                    <a:pt x="591" y="0"/>
                  </a:lnTo>
                  <a:lnTo>
                    <a:pt x="419" y="448"/>
                  </a:lnTo>
                  <a:lnTo>
                    <a:pt x="832" y="495"/>
                  </a:lnTo>
                  <a:lnTo>
                    <a:pt x="417" y="540"/>
                  </a:lnTo>
                  <a:lnTo>
                    <a:pt x="591" y="989"/>
                  </a:lnTo>
                  <a:lnTo>
                    <a:pt x="353" y="590"/>
                  </a:lnTo>
                  <a:lnTo>
                    <a:pt x="115" y="989"/>
                  </a:lnTo>
                  <a:lnTo>
                    <a:pt x="282" y="543"/>
                  </a:lnTo>
                  <a:lnTo>
                    <a:pt x="0" y="509"/>
                  </a:lnTo>
                  <a:lnTo>
                    <a:pt x="0" y="479"/>
                  </a:lnTo>
                  <a:lnTo>
                    <a:pt x="284" y="4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900000">
              <a:off x="593640" y="-360"/>
              <a:ext cx="1143000" cy="158148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739880" y="947160"/>
              <a:ext cx="1108080" cy="1143000"/>
            </a:xfrm>
            <a:custGeom>
              <a:avLst/>
              <a:gdLst/>
              <a:ahLst/>
              <a:rect l="l" t="t" r="r" b="b"/>
              <a:pathLst>
                <a:path w="698" h="720">
                  <a:moveTo>
                    <a:pt x="279" y="315"/>
                  </a:moveTo>
                  <a:lnTo>
                    <a:pt x="173" y="0"/>
                  </a:lnTo>
                  <a:lnTo>
                    <a:pt x="349" y="263"/>
                  </a:lnTo>
                  <a:lnTo>
                    <a:pt x="519" y="0"/>
                  </a:lnTo>
                  <a:lnTo>
                    <a:pt x="415" y="315"/>
                  </a:lnTo>
                  <a:lnTo>
                    <a:pt x="697" y="360"/>
                  </a:lnTo>
                  <a:lnTo>
                    <a:pt x="413" y="403"/>
                  </a:lnTo>
                  <a:lnTo>
                    <a:pt x="519" y="719"/>
                  </a:lnTo>
                  <a:lnTo>
                    <a:pt x="349" y="455"/>
                  </a:lnTo>
                  <a:lnTo>
                    <a:pt x="173" y="719"/>
                  </a:lnTo>
                  <a:lnTo>
                    <a:pt x="278" y="407"/>
                  </a:lnTo>
                  <a:lnTo>
                    <a:pt x="0" y="360"/>
                  </a:lnTo>
                  <a:lnTo>
                    <a:pt x="279" y="31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900000">
              <a:off x="3874680" y="1071360"/>
              <a:ext cx="782640" cy="108720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900000">
              <a:off x="2770200" y="0"/>
              <a:ext cx="1031760" cy="142884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00000">
              <a:off x="4613400" y="511200"/>
              <a:ext cx="403200" cy="5587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00000">
              <a:off x="5749920" y="307800"/>
              <a:ext cx="228600" cy="3175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rebuchet MS"/>
              </a:rPr>
              <a:t>Good 4 U</a:t>
            </a:r>
            <a:endParaRPr b="1" lang="en-US" sz="6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mployee of the Mont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t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The Rule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employee is responsible for returning his/her completed survey forms from customers and fellow employe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voting period for each monthly contest runs from the first to the twentieth of each mon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Basic Qualification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08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ceptional survey reviews from custom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emplary survey reviews from fellow employe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ss quality assurance tes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4080" y="3537000"/>
            <a:ext cx="963720" cy="701640"/>
          </a:xfrm>
          <a:prstGeom prst="ellipse">
            <a:avLst/>
          </a:prstGeom>
          <a:solidFill>
            <a:srgbClr val="76e0e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537000"/>
            <a:ext cx="963720" cy="701640"/>
          </a:xfrm>
          <a:prstGeom prst="ellipse">
            <a:avLst/>
          </a:prstGeom>
          <a:solidFill>
            <a:srgbClr val="76e0e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me and picture posted in restaur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ee dinner at Good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4 U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one mont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ne week of additional paid vacation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Prizes Awarded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rebuchet MS"/>
              </a:rPr>
              <a:t>This Month’s Winner</a:t>
            </a:r>
            <a:endParaRPr b="1" lang="en-US" sz="6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95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elope Jon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res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Penelope Jone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98440" y="1980720"/>
            <a:ext cx="6545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ositio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aitr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Years of Service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ou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nelope Jones is a devoted hard-working employee. She goes out of her way to offer quality customer service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Hobbies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-line skating, golf, line dancing, and reading. Penelope is currently collecting low-fat recipes for a cookboo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9T21:37:58Z</dcterms:created>
  <dc:creator>Pat R. Graves</dc:creator>
  <dc:description/>
  <dc:language>en-US</dc:language>
  <cp:lastModifiedBy>Pat Graves</cp:lastModifiedBy>
  <cp:lastPrinted>1997-05-06T20:31:28Z</cp:lastPrinted>
  <dcterms:modified xsi:type="dcterms:W3CDTF">2004-03-12T18:40:41Z</dcterms:modified>
  <cp:revision>37</cp:revision>
  <dc:subject/>
  <dc:title>Employee of the Month Contest</dc:title>
</cp:coreProperties>
</file>