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31F-0F6D-4899-A01D-B7C049AB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06F-54E6-4314-9DEB-24B954A6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51B-6619-4640-B6E3-055F6A1A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513-6F9F-4C27-92B8-39AAADA7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0752-9B4C-45C7-B44C-9BA8C753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00B8-E8F4-434F-8DBF-CA2170EB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203E-AB92-44C4-A3A5-5084E357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B7DB-3569-4D25-A216-9C48B7E6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BA2C-F442-4DEB-B413-41BF96C0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97E5-9204-4DED-A862-723EFB77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A584-AE51-4B01-8707-B5E1D929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AF6-5B29-4463-A3AF-AC222111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CC8D-6186-4320-8745-309FEFCB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BDFE-D40B-4811-ADDE-8C8D4885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EC2F-0A01-472B-BAA9-DA22FEA6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143C-6571-473F-A8A7-2058435E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6E20-4BCF-4979-B9D3-ABF1057E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D2E-01EB-4746-8645-A31C1C1D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FC6-4355-43DC-8407-ED0FB836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073-B502-4ED2-AFA7-8E7F1FCA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A7D-4921-4A6E-8C53-47075472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00A-D4F8-40B8-B691-BEEB05F9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860-312B-4356-85A7-E409FD33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309-E7BB-4C75-8456-3625D8D2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599"/>
              </a:spcBef>
              <a:buClr>
                <a:srgbClr val="9966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85840">
              <a:lnSpc>
                <a:spcPct val="90000"/>
              </a:lnSpc>
              <a:spcBef>
                <a:spcPts val="15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28600">
              <a:lnSpc>
                <a:spcPct val="90000"/>
              </a:lnSpc>
              <a:spcBef>
                <a:spcPts val="15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lnSpc>
                <a:spcPct val="90000"/>
              </a:lnSpc>
              <a:spcBef>
                <a:spcPts val="15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5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C4D1-A2FA-4A51-BA7A-6AF505119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A86D-16F9-4B79-A155-C6DF9BA21B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7136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nventory Da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4 U Training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entory Proced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14680" y="1599840"/>
            <a:ext cx="5713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5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ve 1 hour prior to your regula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o your supervisor for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your assigned work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ow to Count Equip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44560" y="1599840"/>
            <a:ext cx="5654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599"/>
              </a:spcBef>
              <a:buClr>
                <a:srgbClr val="9966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serial number and model number whenever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99"/>
              </a:spcBef>
              <a:buClr>
                <a:srgbClr val="9966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a description of the equipment'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99"/>
              </a:spcBef>
              <a:buClr>
                <a:srgbClr val="9966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know, 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ow to Count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82560" y="1599840"/>
            <a:ext cx="5978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599"/>
              </a:spcBef>
              <a:buClr>
                <a:srgbClr val="9966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a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: Blue dinner 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99"/>
              </a:spcBef>
              <a:buClr>
                <a:srgbClr val="9966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number of items fitting th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99"/>
              </a:spcBef>
              <a:buClr>
                <a:srgbClr val="9966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the number of items in open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: Green polo shirts, 5 3/4 bo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entory Sche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6520" y="2502000"/>
            <a:ext cx="5497560" cy="31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3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a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4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c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6560" y="1599840"/>
            <a:ext cx="5330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599"/>
              </a:spcBef>
              <a:buClr>
                <a:srgbClr val="9966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 is extremel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99"/>
              </a:spcBef>
              <a:buClr>
                <a:srgbClr val="9966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o work 1 hour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99"/>
              </a:spcBef>
              <a:buClr>
                <a:srgbClr val="9966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o work 10 hours on invento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99"/>
              </a:spcBef>
              <a:buClr>
                <a:srgbClr val="9966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r comfortable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Pat Graves</cp:lastModifiedBy>
  <cp:lastPrinted>1997-05-05T01:14:14Z</cp:lastPrinted>
  <dcterms:modified xsi:type="dcterms:W3CDTF">2004-03-13T04:02:55Z</dcterms:modified>
  <cp:revision>56</cp:revision>
  <dc:subject/>
  <dc:title>Inventory Day</dc:title>
</cp:coreProperties>
</file>