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51B-647C-45C1-8E53-75EE54FE6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291-2CB0-4534-AEB1-90CED02B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 employees that they can also find directions on the employee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 employees to bring their musical instruments for our sing-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8FD-401C-4BE0-ABAC-C04C214E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52C-FFE4-42F6-BAFF-BFCA0BE7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877-0D59-4136-AF7D-546EC9F4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235-1B79-4EE5-BBE0-31C7068A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560-2893-40DD-BA6A-FA24E82D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CA02-4F55-4E82-A6BF-1925665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B8D-F250-4323-93AF-D355ECF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CC1E-4968-4ED0-B83E-BD80CD2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9AA-A752-40E2-96D1-01541A7E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DE3-A9FF-4713-A2C3-B8B34256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C26F-B20E-4578-AF8F-2F29AC9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095-5EC8-4AF0-A647-43CD2172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011F-200D-48E3-9B66-D43CC36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1BA-0256-4F5E-8D0B-1733C1E5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B82-138F-41E3-AACA-35EC8A9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01D-3177-4048-9172-D6724436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B01-1E09-400E-8284-D90F3AA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624-154F-417D-AEB4-0853CDEA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762-B3C7-4654-B8D0-B4D78C1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394-FF9E-48B8-8812-AA9596A3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3AA-21FD-4D2A-8724-7141EFD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DC5-099E-4ADB-8A92-87B8889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76A-E38E-4ED7-8F0B-5061E99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3F4-D461-489C-B5B7-5382A7C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992-B09A-4561-B01C-D1A715517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FF6-3348-4656-A06A-93436CF2A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95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7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8317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icnic Committee Award Winn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708280"/>
            <a:ext cx="802800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58920" y="2852640"/>
            <a:ext cx="6399360" cy="2647800"/>
            <a:chOff x="1258920" y="2852640"/>
            <a:chExt cx="6399360" cy="2647800"/>
          </a:xfrm>
        </p:grpSpPr>
        <p:sp>
          <p:nvSpPr>
            <p:cNvPr id="108" name=""/>
            <p:cNvSpPr/>
            <p:nvPr/>
          </p:nvSpPr>
          <p:spPr>
            <a:xfrm>
              <a:off x="1258920" y="3274920"/>
              <a:ext cx="6399360" cy="2225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in Hale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orts Progra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8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2.7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ip Franci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2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7.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lly Berbe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usi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9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cy Marv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ite Plannin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6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7.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indy Washingt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1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.9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8920" y="2852640"/>
              <a:ext cx="6399360" cy="415800"/>
            </a:xfrm>
            <a:prstGeom prst="rect">
              <a:avLst/>
            </a:prstGeom>
            <a:solidFill>
              <a:srgbClr val="9933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1800"/>
                  <a:tab algn="ctr" pos="457200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ponsibilit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tensi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2480" y="2379960"/>
            <a:ext cx="3161520" cy="3827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457200" rIns="457200" tIns="274320" bIns="27432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33760" y="1944720"/>
            <a:ext cx="3797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50920" y="1231560"/>
            <a:ext cx="5004000" cy="6036480"/>
          </a:xfrm>
          <a:prstGeom prst="diamond">
            <a:avLst/>
          </a:prstGeom>
          <a:gradFill rotWithShape="0">
            <a:gsLst>
              <a:gs pos="0">
                <a:srgbClr val="9933ff"/>
              </a:gs>
              <a:gs pos="100000">
                <a:srgbClr val="5000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e you at the beach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7:50:29Z</dcterms:modified>
  <cp:revision>12</cp:revision>
  <dc:subject/>
  <dc:title>Annual Picnic </dc:title>
</cp:coreProperties>
</file>