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1DF-092C-4BD1-8D92-3BFBFF9A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54F-D8EE-4A0C-A49C-DCB3EE92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6E6-A144-4A4D-8FEF-F7BCE888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8BC-5C6B-4A6E-A15F-729764EB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B8A0-6D92-4661-808E-451E86E7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43D9-F8CB-450F-B56C-922B3D8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B0E5-4E19-410F-9E13-B50A6A9F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093D-F121-44C2-8385-0BFBDED8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1135-CA32-4C8B-A9CC-B61097D7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181E-41BE-48DB-BC8F-59783FC2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76C5-118E-4585-A709-DA5A0858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27E-3B9E-4CDF-B59A-BFA8E645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EF41-2C6F-46E0-AC4A-2BD32A1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4C83-48ED-4345-8B01-00BA411B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4E8A-B924-4D1A-BF31-11E54CB2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A70F-6E3A-4E1B-96EE-A4C78182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944A-1F5A-45CF-9390-CA793BCA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4B1-2A39-4179-A584-DF1DCB8B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835-888C-472F-973E-4798AECA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9E8-E595-423F-BC30-2E12FCB1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01A-F5AD-410B-9D8C-8A45DE26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A80-94B5-47B8-BCED-A13D4AD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D0F-4579-466D-9F84-653B9B32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8C9-1A9C-4995-AF2E-FCE4661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89000"/>
            <a:ext cx="9144000" cy="900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9933ff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888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4FA5-D1E2-445C-819D-DE54594F0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35640" y="6524640"/>
            <a:ext cx="4608360" cy="1443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" y="511200"/>
            <a:ext cx="8439120" cy="8383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653F-2873-4A3D-99FE-20AB7DB19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27370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771560" y="1905120"/>
            <a:ext cx="56008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833640" y="5985000"/>
            <a:ext cx="1476720" cy="595080"/>
            <a:chOff x="3833640" y="5985000"/>
            <a:chExt cx="1476720" cy="595080"/>
          </a:xfrm>
        </p:grpSpPr>
        <p:sp>
          <p:nvSpPr>
            <p:cNvPr id="88" name=""/>
            <p:cNvSpPr txBox="1"/>
            <p:nvPr/>
          </p:nvSpPr>
          <p:spPr>
            <a:xfrm>
              <a:off x="4898880" y="6211440"/>
              <a:ext cx="411480" cy="36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535640" y="6079680"/>
              <a:ext cx="532440" cy="500400"/>
              <a:chOff x="4535640" y="6079680"/>
              <a:chExt cx="532440" cy="500400"/>
            </a:xfrm>
          </p:grpSpPr>
          <p:sp>
            <p:nvSpPr>
              <p:cNvPr id="90" name=""/>
              <p:cNvSpPr/>
              <p:nvPr/>
            </p:nvSpPr>
            <p:spPr>
              <a:xfrm>
                <a:off x="4535640" y="6079680"/>
                <a:ext cx="532440" cy="50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85040" y="6133320"/>
                <a:ext cx="246600" cy="278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33c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3833640" y="5985000"/>
              <a:ext cx="992520" cy="35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 rot="20172600">
            <a:off x="678960" y="2576160"/>
            <a:ext cx="1916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Annu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2360" y="3078000"/>
            <a:ext cx="5916600" cy="13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059280" y="148428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July 2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ime and Location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year’s picnic will be held at Clark’s Beach, conveniently located in the north end of t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nic starts at 3:00 p.m. Good 4 U will close at 2:30 p.m. the day of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rections to Clark’s Beach, contact one of the committe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8317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Picnic Committee Award Winne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708280"/>
            <a:ext cx="802800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58920" y="2852640"/>
            <a:ext cx="6399360" cy="2647800"/>
            <a:chOff x="1258920" y="2852640"/>
            <a:chExt cx="6399360" cy="2647800"/>
          </a:xfrm>
        </p:grpSpPr>
        <p:sp>
          <p:nvSpPr>
            <p:cNvPr id="101" name=""/>
            <p:cNvSpPr/>
            <p:nvPr/>
          </p:nvSpPr>
          <p:spPr>
            <a:xfrm>
              <a:off x="1258920" y="3274920"/>
              <a:ext cx="6399360" cy="2225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rin Haley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ports Program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798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2.7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ip Franci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ctiviti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2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7.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lly Berbe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usi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799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.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acy Marve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ite Plannin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6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7.4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indy Washingto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1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.9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8920" y="2852640"/>
              <a:ext cx="6399360" cy="415800"/>
            </a:xfrm>
            <a:prstGeom prst="rect">
              <a:avLst/>
            </a:prstGeom>
            <a:solidFill>
              <a:srgbClr val="9933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ctr" pos="2971800"/>
                  <a:tab algn="ctr" pos="4572000"/>
                  <a:tab algn="r" pos="6172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sponsibility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xtensio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52280" y="4876920"/>
            <a:ext cx="5943600" cy="2270160"/>
            <a:chOff x="152280" y="4876920"/>
            <a:chExt cx="5943600" cy="22701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52280" y="4876920"/>
              <a:ext cx="3426120" cy="22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2092320" y="5065560"/>
              <a:ext cx="4003560" cy="1944720"/>
              <a:chOff x="2092320" y="5065560"/>
              <a:chExt cx="4003560" cy="1944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092320" y="5065560"/>
                <a:ext cx="1927080" cy="1944720"/>
                <a:chOff x="2092320" y="5065560"/>
                <a:chExt cx="1927080" cy="1944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214720" y="5065560"/>
                  <a:ext cx="1804680" cy="1871640"/>
                </a:xfrm>
                <a:custGeom>
                  <a:avLst/>
                  <a:gdLst/>
                  <a:ahLst/>
                  <a:rect l="l" t="t" r="r" b="b"/>
                  <a:pathLst>
                    <a:path w="1137" h="1179">
                      <a:moveTo>
                        <a:pt x="1061" y="865"/>
                      </a:moveTo>
                      <a:lnTo>
                        <a:pt x="1094" y="836"/>
                      </a:lnTo>
                      <a:lnTo>
                        <a:pt x="1116" y="809"/>
                      </a:lnTo>
                      <a:lnTo>
                        <a:pt x="1130" y="783"/>
                      </a:lnTo>
                      <a:lnTo>
                        <a:pt x="1137" y="761"/>
                      </a:lnTo>
                      <a:lnTo>
                        <a:pt x="1137" y="739"/>
                      </a:lnTo>
                      <a:lnTo>
                        <a:pt x="1132" y="720"/>
                      </a:lnTo>
                      <a:lnTo>
                        <a:pt x="1122" y="703"/>
                      </a:lnTo>
                      <a:lnTo>
                        <a:pt x="1111" y="686"/>
                      </a:lnTo>
                      <a:lnTo>
                        <a:pt x="1104" y="678"/>
                      </a:lnTo>
                      <a:lnTo>
                        <a:pt x="1092" y="665"/>
                      </a:lnTo>
                      <a:lnTo>
                        <a:pt x="1079" y="649"/>
                      </a:lnTo>
                      <a:lnTo>
                        <a:pt x="1064" y="632"/>
                      </a:lnTo>
                      <a:lnTo>
                        <a:pt x="1045" y="611"/>
                      </a:lnTo>
                      <a:lnTo>
                        <a:pt x="1025" y="587"/>
                      </a:lnTo>
                      <a:lnTo>
                        <a:pt x="1004" y="562"/>
                      </a:lnTo>
                      <a:lnTo>
                        <a:pt x="982" y="535"/>
                      </a:lnTo>
                      <a:lnTo>
                        <a:pt x="957" y="506"/>
                      </a:lnTo>
                      <a:lnTo>
                        <a:pt x="932" y="476"/>
                      </a:lnTo>
                      <a:lnTo>
                        <a:pt x="907" y="445"/>
                      </a:lnTo>
                      <a:lnTo>
                        <a:pt x="881" y="414"/>
                      </a:lnTo>
                      <a:lnTo>
                        <a:pt x="855" y="382"/>
                      </a:lnTo>
                      <a:lnTo>
                        <a:pt x="829" y="349"/>
                      </a:lnTo>
                      <a:lnTo>
                        <a:pt x="803" y="318"/>
                      </a:lnTo>
                      <a:lnTo>
                        <a:pt x="778" y="286"/>
                      </a:lnTo>
                      <a:lnTo>
                        <a:pt x="793" y="269"/>
                      </a:lnTo>
                      <a:lnTo>
                        <a:pt x="802" y="246"/>
                      </a:lnTo>
                      <a:lnTo>
                        <a:pt x="805" y="220"/>
                      </a:lnTo>
                      <a:lnTo>
                        <a:pt x="804" y="191"/>
                      </a:lnTo>
                      <a:lnTo>
                        <a:pt x="798" y="160"/>
                      </a:lnTo>
                      <a:lnTo>
                        <a:pt x="788" y="128"/>
                      </a:lnTo>
                      <a:lnTo>
                        <a:pt x="772" y="96"/>
                      </a:lnTo>
                      <a:lnTo>
                        <a:pt x="752" y="63"/>
                      </a:lnTo>
                      <a:lnTo>
                        <a:pt x="732" y="41"/>
                      </a:lnTo>
                      <a:lnTo>
                        <a:pt x="707" y="25"/>
                      </a:lnTo>
                      <a:lnTo>
                        <a:pt x="678" y="12"/>
                      </a:lnTo>
                      <a:lnTo>
                        <a:pt x="646" y="5"/>
                      </a:lnTo>
                      <a:lnTo>
                        <a:pt x="611" y="1"/>
                      </a:lnTo>
                      <a:lnTo>
                        <a:pt x="575" y="0"/>
                      </a:lnTo>
                      <a:lnTo>
                        <a:pt x="538" y="2"/>
                      </a:lnTo>
                      <a:lnTo>
                        <a:pt x="501" y="7"/>
                      </a:lnTo>
                      <a:lnTo>
                        <a:pt x="462" y="15"/>
                      </a:lnTo>
                      <a:lnTo>
                        <a:pt x="425" y="22"/>
                      </a:lnTo>
                      <a:lnTo>
                        <a:pt x="390" y="32"/>
                      </a:lnTo>
                      <a:lnTo>
                        <a:pt x="357" y="43"/>
                      </a:lnTo>
                      <a:lnTo>
                        <a:pt x="327" y="55"/>
                      </a:lnTo>
                      <a:lnTo>
                        <a:pt x="299" y="66"/>
                      </a:lnTo>
                      <a:lnTo>
                        <a:pt x="277" y="76"/>
                      </a:lnTo>
                      <a:lnTo>
                        <a:pt x="260" y="86"/>
                      </a:lnTo>
                      <a:lnTo>
                        <a:pt x="244" y="97"/>
                      </a:lnTo>
                      <a:lnTo>
                        <a:pt x="224" y="112"/>
                      </a:lnTo>
                      <a:lnTo>
                        <a:pt x="201" y="131"/>
                      </a:lnTo>
                      <a:lnTo>
                        <a:pt x="178" y="153"/>
                      </a:lnTo>
                      <a:lnTo>
                        <a:pt x="153" y="177"/>
                      </a:lnTo>
                      <a:lnTo>
                        <a:pt x="128" y="204"/>
                      </a:lnTo>
                      <a:lnTo>
                        <a:pt x="103" y="232"/>
                      </a:lnTo>
                      <a:lnTo>
                        <a:pt x="79" y="264"/>
                      </a:lnTo>
                      <a:lnTo>
                        <a:pt x="58" y="295"/>
                      </a:lnTo>
                      <a:lnTo>
                        <a:pt x="38" y="327"/>
                      </a:lnTo>
                      <a:lnTo>
                        <a:pt x="22" y="359"/>
                      </a:lnTo>
                      <a:lnTo>
                        <a:pt x="10" y="392"/>
                      </a:lnTo>
                      <a:lnTo>
                        <a:pt x="2" y="424"/>
                      </a:lnTo>
                      <a:lnTo>
                        <a:pt x="0" y="455"/>
                      </a:lnTo>
                      <a:lnTo>
                        <a:pt x="4" y="484"/>
                      </a:lnTo>
                      <a:lnTo>
                        <a:pt x="14" y="512"/>
                      </a:lnTo>
                      <a:lnTo>
                        <a:pt x="32" y="545"/>
                      </a:lnTo>
                      <a:lnTo>
                        <a:pt x="55" y="574"/>
                      </a:lnTo>
                      <a:lnTo>
                        <a:pt x="78" y="598"/>
                      </a:lnTo>
                      <a:lnTo>
                        <a:pt x="103" y="618"/>
                      </a:lnTo>
                      <a:lnTo>
                        <a:pt x="128" y="632"/>
                      </a:lnTo>
                      <a:lnTo>
                        <a:pt x="153" y="640"/>
                      </a:lnTo>
                      <a:lnTo>
                        <a:pt x="176" y="642"/>
                      </a:lnTo>
                      <a:lnTo>
                        <a:pt x="199" y="637"/>
                      </a:lnTo>
                      <a:lnTo>
                        <a:pt x="215" y="674"/>
                      </a:lnTo>
                      <a:lnTo>
                        <a:pt x="232" y="711"/>
                      </a:lnTo>
                      <a:lnTo>
                        <a:pt x="248" y="749"/>
                      </a:lnTo>
                      <a:lnTo>
                        <a:pt x="265" y="787"/>
                      </a:lnTo>
                      <a:lnTo>
                        <a:pt x="281" y="824"/>
                      </a:lnTo>
                      <a:lnTo>
                        <a:pt x="297" y="862"/>
                      </a:lnTo>
                      <a:lnTo>
                        <a:pt x="312" y="898"/>
                      </a:lnTo>
                      <a:lnTo>
                        <a:pt x="327" y="933"/>
                      </a:lnTo>
                      <a:lnTo>
                        <a:pt x="340" y="965"/>
                      </a:lnTo>
                      <a:lnTo>
                        <a:pt x="353" y="996"/>
                      </a:lnTo>
                      <a:lnTo>
                        <a:pt x="364" y="1025"/>
                      </a:lnTo>
                      <a:lnTo>
                        <a:pt x="375" y="1050"/>
                      </a:lnTo>
                      <a:lnTo>
                        <a:pt x="384" y="1073"/>
                      </a:lnTo>
                      <a:lnTo>
                        <a:pt x="391" y="1092"/>
                      </a:lnTo>
                      <a:lnTo>
                        <a:pt x="398" y="1107"/>
                      </a:lnTo>
                      <a:lnTo>
                        <a:pt x="403" y="1118"/>
                      </a:lnTo>
                      <a:lnTo>
                        <a:pt x="411" y="1135"/>
                      </a:lnTo>
                      <a:lnTo>
                        <a:pt x="422" y="1151"/>
                      </a:lnTo>
                      <a:lnTo>
                        <a:pt x="437" y="1165"/>
                      </a:lnTo>
                      <a:lnTo>
                        <a:pt x="456" y="1174"/>
                      </a:lnTo>
                      <a:lnTo>
                        <a:pt x="480" y="1179"/>
                      </a:lnTo>
                      <a:lnTo>
                        <a:pt x="509" y="1179"/>
                      </a:lnTo>
                      <a:lnTo>
                        <a:pt x="543" y="1171"/>
                      </a:lnTo>
                      <a:lnTo>
                        <a:pt x="584" y="1156"/>
                      </a:lnTo>
                      <a:lnTo>
                        <a:pt x="601" y="1145"/>
                      </a:lnTo>
                      <a:lnTo>
                        <a:pt x="625" y="1132"/>
                      </a:lnTo>
                      <a:lnTo>
                        <a:pt x="652" y="1114"/>
                      </a:lnTo>
                      <a:lnTo>
                        <a:pt x="685" y="1096"/>
                      </a:lnTo>
                      <a:lnTo>
                        <a:pt x="718" y="1074"/>
                      </a:lnTo>
                      <a:lnTo>
                        <a:pt x="754" y="1052"/>
                      </a:lnTo>
                      <a:lnTo>
                        <a:pt x="793" y="1030"/>
                      </a:lnTo>
                      <a:lnTo>
                        <a:pt x="831" y="1006"/>
                      </a:lnTo>
                      <a:lnTo>
                        <a:pt x="869" y="982"/>
                      </a:lnTo>
                      <a:lnTo>
                        <a:pt x="906" y="960"/>
                      </a:lnTo>
                      <a:lnTo>
                        <a:pt x="941" y="939"/>
                      </a:lnTo>
                      <a:lnTo>
                        <a:pt x="974" y="919"/>
                      </a:lnTo>
                      <a:lnTo>
                        <a:pt x="1003" y="902"/>
                      </a:lnTo>
                      <a:lnTo>
                        <a:pt x="1028" y="885"/>
                      </a:lnTo>
                      <a:lnTo>
                        <a:pt x="1048" y="874"/>
                      </a:lnTo>
                      <a:lnTo>
                        <a:pt x="1061" y="865"/>
                      </a:lnTo>
                      <a:close/>
                    </a:path>
                  </a:pathLst>
                </a:custGeom>
                <a:solidFill>
                  <a:srgbClr val="d8aa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92320" y="5202000"/>
                  <a:ext cx="1041480" cy="1808280"/>
                </a:xfrm>
                <a:custGeom>
                  <a:avLst/>
                  <a:gdLst/>
                  <a:ahLst/>
                  <a:rect l="l" t="t" r="r" b="b"/>
                  <a:pathLst>
                    <a:path w="656" h="1139">
                      <a:moveTo>
                        <a:pt x="337" y="0"/>
                      </a:moveTo>
                      <a:lnTo>
                        <a:pt x="316" y="11"/>
                      </a:lnTo>
                      <a:lnTo>
                        <a:pt x="291" y="26"/>
                      </a:lnTo>
                      <a:lnTo>
                        <a:pt x="262" y="47"/>
                      </a:lnTo>
                      <a:lnTo>
                        <a:pt x="232" y="72"/>
                      </a:lnTo>
                      <a:lnTo>
                        <a:pt x="201" y="99"/>
                      </a:lnTo>
                      <a:lnTo>
                        <a:pt x="169" y="130"/>
                      </a:lnTo>
                      <a:lnTo>
                        <a:pt x="138" y="164"/>
                      </a:lnTo>
                      <a:lnTo>
                        <a:pt x="108" y="199"/>
                      </a:lnTo>
                      <a:lnTo>
                        <a:pt x="81" y="235"/>
                      </a:lnTo>
                      <a:lnTo>
                        <a:pt x="56" y="272"/>
                      </a:lnTo>
                      <a:lnTo>
                        <a:pt x="33" y="309"/>
                      </a:lnTo>
                      <a:lnTo>
                        <a:pt x="17" y="345"/>
                      </a:lnTo>
                      <a:lnTo>
                        <a:pt x="6" y="382"/>
                      </a:lnTo>
                      <a:lnTo>
                        <a:pt x="0" y="415"/>
                      </a:lnTo>
                      <a:lnTo>
                        <a:pt x="1" y="446"/>
                      </a:lnTo>
                      <a:lnTo>
                        <a:pt x="11" y="475"/>
                      </a:lnTo>
                      <a:lnTo>
                        <a:pt x="30" y="507"/>
                      </a:lnTo>
                      <a:lnTo>
                        <a:pt x="52" y="536"/>
                      </a:lnTo>
                      <a:lnTo>
                        <a:pt x="76" y="561"/>
                      </a:lnTo>
                      <a:lnTo>
                        <a:pt x="101" y="579"/>
                      </a:lnTo>
                      <a:lnTo>
                        <a:pt x="125" y="594"/>
                      </a:lnTo>
                      <a:lnTo>
                        <a:pt x="150" y="603"/>
                      </a:lnTo>
                      <a:lnTo>
                        <a:pt x="174" y="604"/>
                      </a:lnTo>
                      <a:lnTo>
                        <a:pt x="196" y="599"/>
                      </a:lnTo>
                      <a:lnTo>
                        <a:pt x="212" y="636"/>
                      </a:lnTo>
                      <a:lnTo>
                        <a:pt x="230" y="674"/>
                      </a:lnTo>
                      <a:lnTo>
                        <a:pt x="246" y="711"/>
                      </a:lnTo>
                      <a:lnTo>
                        <a:pt x="262" y="750"/>
                      </a:lnTo>
                      <a:lnTo>
                        <a:pt x="278" y="787"/>
                      </a:lnTo>
                      <a:lnTo>
                        <a:pt x="294" y="824"/>
                      </a:lnTo>
                      <a:lnTo>
                        <a:pt x="309" y="860"/>
                      </a:lnTo>
                      <a:lnTo>
                        <a:pt x="324" y="895"/>
                      </a:lnTo>
                      <a:lnTo>
                        <a:pt x="338" y="927"/>
                      </a:lnTo>
                      <a:lnTo>
                        <a:pt x="350" y="959"/>
                      </a:lnTo>
                      <a:lnTo>
                        <a:pt x="362" y="987"/>
                      </a:lnTo>
                      <a:lnTo>
                        <a:pt x="373" y="1012"/>
                      </a:lnTo>
                      <a:lnTo>
                        <a:pt x="381" y="1036"/>
                      </a:lnTo>
                      <a:lnTo>
                        <a:pt x="389" y="1054"/>
                      </a:lnTo>
                      <a:lnTo>
                        <a:pt x="395" y="1069"/>
                      </a:lnTo>
                      <a:lnTo>
                        <a:pt x="400" y="1080"/>
                      </a:lnTo>
                      <a:lnTo>
                        <a:pt x="404" y="1089"/>
                      </a:lnTo>
                      <a:lnTo>
                        <a:pt x="409" y="1098"/>
                      </a:lnTo>
                      <a:lnTo>
                        <a:pt x="415" y="1107"/>
                      </a:lnTo>
                      <a:lnTo>
                        <a:pt x="422" y="1115"/>
                      </a:lnTo>
                      <a:lnTo>
                        <a:pt x="430" y="1123"/>
                      </a:lnTo>
                      <a:lnTo>
                        <a:pt x="440" y="1129"/>
                      </a:lnTo>
                      <a:lnTo>
                        <a:pt x="452" y="1134"/>
                      </a:lnTo>
                      <a:lnTo>
                        <a:pt x="466" y="1136"/>
                      </a:lnTo>
                      <a:lnTo>
                        <a:pt x="481" y="1139"/>
                      </a:lnTo>
                      <a:lnTo>
                        <a:pt x="498" y="1138"/>
                      </a:lnTo>
                      <a:lnTo>
                        <a:pt x="518" y="1134"/>
                      </a:lnTo>
                      <a:lnTo>
                        <a:pt x="540" y="1129"/>
                      </a:lnTo>
                      <a:lnTo>
                        <a:pt x="565" y="1120"/>
                      </a:lnTo>
                      <a:lnTo>
                        <a:pt x="593" y="1108"/>
                      </a:lnTo>
                      <a:lnTo>
                        <a:pt x="623" y="1092"/>
                      </a:lnTo>
                      <a:lnTo>
                        <a:pt x="656" y="1073"/>
                      </a:lnTo>
                      <a:lnTo>
                        <a:pt x="615" y="1088"/>
                      </a:lnTo>
                      <a:lnTo>
                        <a:pt x="581" y="1095"/>
                      </a:lnTo>
                      <a:lnTo>
                        <a:pt x="553" y="1095"/>
                      </a:lnTo>
                      <a:lnTo>
                        <a:pt x="531" y="1090"/>
                      </a:lnTo>
                      <a:lnTo>
                        <a:pt x="512" y="1080"/>
                      </a:lnTo>
                      <a:lnTo>
                        <a:pt x="498" y="1067"/>
                      </a:lnTo>
                      <a:lnTo>
                        <a:pt x="488" y="1049"/>
                      </a:lnTo>
                      <a:lnTo>
                        <a:pt x="480" y="1032"/>
                      </a:lnTo>
                      <a:lnTo>
                        <a:pt x="475" y="1021"/>
                      </a:lnTo>
                      <a:lnTo>
                        <a:pt x="468" y="1006"/>
                      </a:lnTo>
                      <a:lnTo>
                        <a:pt x="461" y="987"/>
                      </a:lnTo>
                      <a:lnTo>
                        <a:pt x="452" y="964"/>
                      </a:lnTo>
                      <a:lnTo>
                        <a:pt x="441" y="939"/>
                      </a:lnTo>
                      <a:lnTo>
                        <a:pt x="430" y="910"/>
                      </a:lnTo>
                      <a:lnTo>
                        <a:pt x="417" y="879"/>
                      </a:lnTo>
                      <a:lnTo>
                        <a:pt x="404" y="847"/>
                      </a:lnTo>
                      <a:lnTo>
                        <a:pt x="389" y="812"/>
                      </a:lnTo>
                      <a:lnTo>
                        <a:pt x="374" y="776"/>
                      </a:lnTo>
                      <a:lnTo>
                        <a:pt x="358" y="738"/>
                      </a:lnTo>
                      <a:lnTo>
                        <a:pt x="342" y="701"/>
                      </a:lnTo>
                      <a:lnTo>
                        <a:pt x="325" y="663"/>
                      </a:lnTo>
                      <a:lnTo>
                        <a:pt x="309" y="625"/>
                      </a:lnTo>
                      <a:lnTo>
                        <a:pt x="292" y="588"/>
                      </a:lnTo>
                      <a:lnTo>
                        <a:pt x="276" y="551"/>
                      </a:lnTo>
                      <a:lnTo>
                        <a:pt x="253" y="556"/>
                      </a:lnTo>
                      <a:lnTo>
                        <a:pt x="230" y="554"/>
                      </a:lnTo>
                      <a:lnTo>
                        <a:pt x="205" y="546"/>
                      </a:lnTo>
                      <a:lnTo>
                        <a:pt x="180" y="532"/>
                      </a:lnTo>
                      <a:lnTo>
                        <a:pt x="155" y="512"/>
                      </a:lnTo>
                      <a:lnTo>
                        <a:pt x="132" y="488"/>
                      </a:lnTo>
                      <a:lnTo>
                        <a:pt x="109" y="459"/>
                      </a:lnTo>
                      <a:lnTo>
                        <a:pt x="91" y="426"/>
                      </a:lnTo>
                      <a:lnTo>
                        <a:pt x="81" y="398"/>
                      </a:lnTo>
                      <a:lnTo>
                        <a:pt x="77" y="369"/>
                      </a:lnTo>
                      <a:lnTo>
                        <a:pt x="79" y="338"/>
                      </a:lnTo>
                      <a:lnTo>
                        <a:pt x="87" y="306"/>
                      </a:lnTo>
                      <a:lnTo>
                        <a:pt x="99" y="273"/>
                      </a:lnTo>
                      <a:lnTo>
                        <a:pt x="115" y="241"/>
                      </a:lnTo>
                      <a:lnTo>
                        <a:pt x="135" y="209"/>
                      </a:lnTo>
                      <a:lnTo>
                        <a:pt x="156" y="178"/>
                      </a:lnTo>
                      <a:lnTo>
                        <a:pt x="180" y="146"/>
                      </a:lnTo>
                      <a:lnTo>
                        <a:pt x="205" y="118"/>
                      </a:lnTo>
                      <a:lnTo>
                        <a:pt x="230" y="91"/>
                      </a:lnTo>
                      <a:lnTo>
                        <a:pt x="255" y="67"/>
                      </a:lnTo>
                      <a:lnTo>
                        <a:pt x="278" y="45"/>
                      </a:lnTo>
                      <a:lnTo>
                        <a:pt x="301" y="26"/>
                      </a:lnTo>
                      <a:lnTo>
                        <a:pt x="321" y="11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7c2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056040" y="5202000"/>
                <a:ext cx="1071360" cy="1482480"/>
                <a:chOff x="3056040" y="5202000"/>
                <a:chExt cx="1071360" cy="14824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056040" y="5594040"/>
                  <a:ext cx="1071360" cy="1090440"/>
                </a:xfrm>
                <a:custGeom>
                  <a:avLst/>
                  <a:gdLst/>
                  <a:ahLst/>
                  <a:rect l="l" t="t" r="r" b="b"/>
                  <a:pathLst>
                    <a:path w="675" h="687">
                      <a:moveTo>
                        <a:pt x="284" y="110"/>
                      </a:moveTo>
                      <a:lnTo>
                        <a:pt x="276" y="113"/>
                      </a:lnTo>
                      <a:lnTo>
                        <a:pt x="266" y="115"/>
                      </a:lnTo>
                      <a:lnTo>
                        <a:pt x="254" y="115"/>
                      </a:lnTo>
                      <a:lnTo>
                        <a:pt x="242" y="115"/>
                      </a:lnTo>
                      <a:lnTo>
                        <a:pt x="228" y="115"/>
                      </a:lnTo>
                      <a:lnTo>
                        <a:pt x="215" y="114"/>
                      </a:lnTo>
                      <a:lnTo>
                        <a:pt x="200" y="114"/>
                      </a:lnTo>
                      <a:lnTo>
                        <a:pt x="185" y="113"/>
                      </a:lnTo>
                      <a:lnTo>
                        <a:pt x="169" y="113"/>
                      </a:lnTo>
                      <a:lnTo>
                        <a:pt x="154" y="113"/>
                      </a:lnTo>
                      <a:lnTo>
                        <a:pt x="139" y="114"/>
                      </a:lnTo>
                      <a:lnTo>
                        <a:pt x="124" y="115"/>
                      </a:lnTo>
                      <a:lnTo>
                        <a:pt x="109" y="119"/>
                      </a:lnTo>
                      <a:lnTo>
                        <a:pt x="95" y="123"/>
                      </a:lnTo>
                      <a:lnTo>
                        <a:pt x="83" y="129"/>
                      </a:lnTo>
                      <a:lnTo>
                        <a:pt x="71" y="136"/>
                      </a:lnTo>
                      <a:lnTo>
                        <a:pt x="48" y="155"/>
                      </a:lnTo>
                      <a:lnTo>
                        <a:pt x="30" y="179"/>
                      </a:lnTo>
                      <a:lnTo>
                        <a:pt x="13" y="207"/>
                      </a:lnTo>
                      <a:lnTo>
                        <a:pt x="3" y="241"/>
                      </a:lnTo>
                      <a:lnTo>
                        <a:pt x="0" y="278"/>
                      </a:lnTo>
                      <a:lnTo>
                        <a:pt x="3" y="320"/>
                      </a:lnTo>
                      <a:lnTo>
                        <a:pt x="17" y="369"/>
                      </a:lnTo>
                      <a:lnTo>
                        <a:pt x="39" y="421"/>
                      </a:lnTo>
                      <a:lnTo>
                        <a:pt x="54" y="449"/>
                      </a:lnTo>
                      <a:lnTo>
                        <a:pt x="73" y="473"/>
                      </a:lnTo>
                      <a:lnTo>
                        <a:pt x="94" y="497"/>
                      </a:lnTo>
                      <a:lnTo>
                        <a:pt x="117" y="519"/>
                      </a:lnTo>
                      <a:lnTo>
                        <a:pt x="139" y="541"/>
                      </a:lnTo>
                      <a:lnTo>
                        <a:pt x="164" y="559"/>
                      </a:lnTo>
                      <a:lnTo>
                        <a:pt x="189" y="577"/>
                      </a:lnTo>
                      <a:lnTo>
                        <a:pt x="213" y="593"/>
                      </a:lnTo>
                      <a:lnTo>
                        <a:pt x="237" y="609"/>
                      </a:lnTo>
                      <a:lnTo>
                        <a:pt x="259" y="621"/>
                      </a:lnTo>
                      <a:lnTo>
                        <a:pt x="282" y="634"/>
                      </a:lnTo>
                      <a:lnTo>
                        <a:pt x="300" y="645"/>
                      </a:lnTo>
                      <a:lnTo>
                        <a:pt x="318" y="655"/>
                      </a:lnTo>
                      <a:lnTo>
                        <a:pt x="332" y="662"/>
                      </a:lnTo>
                      <a:lnTo>
                        <a:pt x="341" y="670"/>
                      </a:lnTo>
                      <a:lnTo>
                        <a:pt x="348" y="676"/>
                      </a:lnTo>
                      <a:lnTo>
                        <a:pt x="358" y="684"/>
                      </a:lnTo>
                      <a:lnTo>
                        <a:pt x="370" y="687"/>
                      </a:lnTo>
                      <a:lnTo>
                        <a:pt x="384" y="686"/>
                      </a:lnTo>
                      <a:lnTo>
                        <a:pt x="397" y="682"/>
                      </a:lnTo>
                      <a:lnTo>
                        <a:pt x="411" y="675"/>
                      </a:lnTo>
                      <a:lnTo>
                        <a:pt x="421" y="667"/>
                      </a:lnTo>
                      <a:lnTo>
                        <a:pt x="430" y="659"/>
                      </a:lnTo>
                      <a:lnTo>
                        <a:pt x="432" y="651"/>
                      </a:lnTo>
                      <a:lnTo>
                        <a:pt x="440" y="655"/>
                      </a:lnTo>
                      <a:lnTo>
                        <a:pt x="445" y="657"/>
                      </a:lnTo>
                      <a:lnTo>
                        <a:pt x="451" y="660"/>
                      </a:lnTo>
                      <a:lnTo>
                        <a:pt x="456" y="661"/>
                      </a:lnTo>
                      <a:lnTo>
                        <a:pt x="460" y="661"/>
                      </a:lnTo>
                      <a:lnTo>
                        <a:pt x="464" y="661"/>
                      </a:lnTo>
                      <a:lnTo>
                        <a:pt x="469" y="660"/>
                      </a:lnTo>
                      <a:lnTo>
                        <a:pt x="476" y="660"/>
                      </a:lnTo>
                      <a:lnTo>
                        <a:pt x="486" y="657"/>
                      </a:lnTo>
                      <a:lnTo>
                        <a:pt x="492" y="651"/>
                      </a:lnTo>
                      <a:lnTo>
                        <a:pt x="498" y="641"/>
                      </a:lnTo>
                      <a:lnTo>
                        <a:pt x="504" y="626"/>
                      </a:lnTo>
                      <a:lnTo>
                        <a:pt x="512" y="631"/>
                      </a:lnTo>
                      <a:lnTo>
                        <a:pt x="523" y="633"/>
                      </a:lnTo>
                      <a:lnTo>
                        <a:pt x="535" y="633"/>
                      </a:lnTo>
                      <a:lnTo>
                        <a:pt x="550" y="629"/>
                      </a:lnTo>
                      <a:lnTo>
                        <a:pt x="564" y="624"/>
                      </a:lnTo>
                      <a:lnTo>
                        <a:pt x="575" y="616"/>
                      </a:lnTo>
                      <a:lnTo>
                        <a:pt x="583" y="606"/>
                      </a:lnTo>
                      <a:lnTo>
                        <a:pt x="585" y="594"/>
                      </a:lnTo>
                      <a:lnTo>
                        <a:pt x="590" y="574"/>
                      </a:lnTo>
                      <a:lnTo>
                        <a:pt x="602" y="541"/>
                      </a:lnTo>
                      <a:lnTo>
                        <a:pt x="620" y="497"/>
                      </a:lnTo>
                      <a:lnTo>
                        <a:pt x="638" y="446"/>
                      </a:lnTo>
                      <a:lnTo>
                        <a:pt x="656" y="389"/>
                      </a:lnTo>
                      <a:lnTo>
                        <a:pt x="670" y="327"/>
                      </a:lnTo>
                      <a:lnTo>
                        <a:pt x="675" y="264"/>
                      </a:lnTo>
                      <a:lnTo>
                        <a:pt x="668" y="202"/>
                      </a:lnTo>
                      <a:lnTo>
                        <a:pt x="662" y="174"/>
                      </a:lnTo>
                      <a:lnTo>
                        <a:pt x="653" y="148"/>
                      </a:lnTo>
                      <a:lnTo>
                        <a:pt x="645" y="124"/>
                      </a:lnTo>
                      <a:lnTo>
                        <a:pt x="634" y="103"/>
                      </a:lnTo>
                      <a:lnTo>
                        <a:pt x="622" y="84"/>
                      </a:lnTo>
                      <a:lnTo>
                        <a:pt x="610" y="67"/>
                      </a:lnTo>
                      <a:lnTo>
                        <a:pt x="597" y="53"/>
                      </a:lnTo>
                      <a:lnTo>
                        <a:pt x="584" y="41"/>
                      </a:lnTo>
                      <a:lnTo>
                        <a:pt x="570" y="29"/>
                      </a:lnTo>
                      <a:lnTo>
                        <a:pt x="555" y="21"/>
                      </a:lnTo>
                      <a:lnTo>
                        <a:pt x="540" y="13"/>
                      </a:lnTo>
                      <a:lnTo>
                        <a:pt x="525" y="8"/>
                      </a:lnTo>
                      <a:lnTo>
                        <a:pt x="510" y="5"/>
                      </a:lnTo>
                      <a:lnTo>
                        <a:pt x="496" y="1"/>
                      </a:lnTo>
                      <a:lnTo>
                        <a:pt x="482" y="0"/>
                      </a:lnTo>
                      <a:lnTo>
                        <a:pt x="467" y="0"/>
                      </a:lnTo>
                      <a:lnTo>
                        <a:pt x="440" y="5"/>
                      </a:lnTo>
                      <a:lnTo>
                        <a:pt x="412" y="16"/>
                      </a:lnTo>
                      <a:lnTo>
                        <a:pt x="386" y="31"/>
                      </a:lnTo>
                      <a:lnTo>
                        <a:pt x="363" y="49"/>
                      </a:lnTo>
                      <a:lnTo>
                        <a:pt x="340" y="68"/>
                      </a:lnTo>
                      <a:lnTo>
                        <a:pt x="319" y="85"/>
                      </a:lnTo>
                      <a:lnTo>
                        <a:pt x="300" y="100"/>
                      </a:lnTo>
                      <a:lnTo>
                        <a:pt x="284" y="1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75000" y="5202000"/>
                  <a:ext cx="331920" cy="573120"/>
                </a:xfrm>
                <a:custGeom>
                  <a:avLst/>
                  <a:gdLst/>
                  <a:ahLst/>
                  <a:rect l="l" t="t" r="r" b="b"/>
                  <a:pathLst>
                    <a:path w="209" h="361">
                      <a:moveTo>
                        <a:pt x="85" y="361"/>
                      </a:moveTo>
                      <a:lnTo>
                        <a:pt x="58" y="355"/>
                      </a:lnTo>
                      <a:lnTo>
                        <a:pt x="39" y="345"/>
                      </a:lnTo>
                      <a:lnTo>
                        <a:pt x="22" y="332"/>
                      </a:lnTo>
                      <a:lnTo>
                        <a:pt x="10" y="316"/>
                      </a:lnTo>
                      <a:lnTo>
                        <a:pt x="3" y="298"/>
                      </a:lnTo>
                      <a:lnTo>
                        <a:pt x="0" y="276"/>
                      </a:lnTo>
                      <a:lnTo>
                        <a:pt x="1" y="253"/>
                      </a:lnTo>
                      <a:lnTo>
                        <a:pt x="7" y="228"/>
                      </a:lnTo>
                      <a:lnTo>
                        <a:pt x="16" y="201"/>
                      </a:lnTo>
                      <a:lnTo>
                        <a:pt x="30" y="173"/>
                      </a:lnTo>
                      <a:lnTo>
                        <a:pt x="47" y="145"/>
                      </a:lnTo>
                      <a:lnTo>
                        <a:pt x="68" y="116"/>
                      </a:lnTo>
                      <a:lnTo>
                        <a:pt x="93" y="86"/>
                      </a:lnTo>
                      <a:lnTo>
                        <a:pt x="122" y="58"/>
                      </a:lnTo>
                      <a:lnTo>
                        <a:pt x="154" y="29"/>
                      </a:lnTo>
                      <a:lnTo>
                        <a:pt x="190" y="0"/>
                      </a:lnTo>
                      <a:lnTo>
                        <a:pt x="203" y="49"/>
                      </a:lnTo>
                      <a:lnTo>
                        <a:pt x="209" y="106"/>
                      </a:lnTo>
                      <a:lnTo>
                        <a:pt x="209" y="166"/>
                      </a:lnTo>
                      <a:lnTo>
                        <a:pt x="203" y="225"/>
                      </a:lnTo>
                      <a:lnTo>
                        <a:pt x="186" y="279"/>
                      </a:lnTo>
                      <a:lnTo>
                        <a:pt x="163" y="322"/>
                      </a:lnTo>
                      <a:lnTo>
                        <a:pt x="129" y="351"/>
                      </a:lnTo>
                      <a:lnTo>
                        <a:pt x="85" y="361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481560" y="5270040"/>
                  <a:ext cx="177480" cy="478080"/>
                </a:xfrm>
                <a:custGeom>
                  <a:avLst/>
                  <a:gdLst/>
                  <a:ahLst/>
                  <a:rect l="l" t="t" r="r" b="b"/>
                  <a:pathLst>
                    <a:path w="112" h="301">
                      <a:moveTo>
                        <a:pt x="11" y="301"/>
                      </a:moveTo>
                      <a:lnTo>
                        <a:pt x="0" y="283"/>
                      </a:lnTo>
                      <a:lnTo>
                        <a:pt x="1" y="255"/>
                      </a:lnTo>
                      <a:lnTo>
                        <a:pt x="11" y="216"/>
                      </a:lnTo>
                      <a:lnTo>
                        <a:pt x="30" y="171"/>
                      </a:lnTo>
                      <a:lnTo>
                        <a:pt x="51" y="124"/>
                      </a:lnTo>
                      <a:lnTo>
                        <a:pt x="73" y="78"/>
                      </a:lnTo>
                      <a:lnTo>
                        <a:pt x="96" y="34"/>
                      </a:lnTo>
                      <a:lnTo>
                        <a:pt x="112" y="0"/>
                      </a:lnTo>
                      <a:lnTo>
                        <a:pt x="102" y="31"/>
                      </a:lnTo>
                      <a:lnTo>
                        <a:pt x="87" y="71"/>
                      </a:lnTo>
                      <a:lnTo>
                        <a:pt x="70" y="115"/>
                      </a:lnTo>
                      <a:lnTo>
                        <a:pt x="51" y="163"/>
                      </a:lnTo>
                      <a:lnTo>
                        <a:pt x="34" y="207"/>
                      </a:lnTo>
                      <a:lnTo>
                        <a:pt x="19" y="248"/>
                      </a:lnTo>
                      <a:lnTo>
                        <a:pt x="11" y="281"/>
                      </a:lnTo>
                      <a:lnTo>
                        <a:pt x="11" y="301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44920" y="5778000"/>
                  <a:ext cx="320760" cy="812880"/>
                </a:xfrm>
                <a:custGeom>
                  <a:avLst/>
                  <a:gdLst/>
                  <a:ahLst/>
                  <a:rect l="l" t="t" r="r" b="b"/>
                  <a:pathLst>
                    <a:path w="202" h="512">
                      <a:moveTo>
                        <a:pt x="135" y="512"/>
                      </a:moveTo>
                      <a:lnTo>
                        <a:pt x="153" y="481"/>
                      </a:lnTo>
                      <a:lnTo>
                        <a:pt x="168" y="444"/>
                      </a:lnTo>
                      <a:lnTo>
                        <a:pt x="180" y="405"/>
                      </a:lnTo>
                      <a:lnTo>
                        <a:pt x="191" y="362"/>
                      </a:lnTo>
                      <a:lnTo>
                        <a:pt x="197" y="318"/>
                      </a:lnTo>
                      <a:lnTo>
                        <a:pt x="202" y="273"/>
                      </a:lnTo>
                      <a:lnTo>
                        <a:pt x="202" y="229"/>
                      </a:lnTo>
                      <a:lnTo>
                        <a:pt x="199" y="186"/>
                      </a:lnTo>
                      <a:lnTo>
                        <a:pt x="191" y="145"/>
                      </a:lnTo>
                      <a:lnTo>
                        <a:pt x="180" y="106"/>
                      </a:lnTo>
                      <a:lnTo>
                        <a:pt x="163" y="73"/>
                      </a:lnTo>
                      <a:lnTo>
                        <a:pt x="142" y="45"/>
                      </a:lnTo>
                      <a:lnTo>
                        <a:pt x="114" y="23"/>
                      </a:lnTo>
                      <a:lnTo>
                        <a:pt x="82" y="8"/>
                      </a:lnTo>
                      <a:lnTo>
                        <a:pt x="45" y="0"/>
                      </a:lnTo>
                      <a:lnTo>
                        <a:pt x="0" y="3"/>
                      </a:lnTo>
                      <a:lnTo>
                        <a:pt x="10" y="14"/>
                      </a:lnTo>
                      <a:lnTo>
                        <a:pt x="17" y="24"/>
                      </a:lnTo>
                      <a:lnTo>
                        <a:pt x="24" y="33"/>
                      </a:lnTo>
                      <a:lnTo>
                        <a:pt x="28" y="42"/>
                      </a:lnTo>
                      <a:lnTo>
                        <a:pt x="31" y="50"/>
                      </a:lnTo>
                      <a:lnTo>
                        <a:pt x="31" y="59"/>
                      </a:lnTo>
                      <a:lnTo>
                        <a:pt x="28" y="66"/>
                      </a:lnTo>
                      <a:lnTo>
                        <a:pt x="24" y="75"/>
                      </a:lnTo>
                      <a:lnTo>
                        <a:pt x="37" y="76"/>
                      </a:lnTo>
                      <a:lnTo>
                        <a:pt x="50" y="83"/>
                      </a:lnTo>
                      <a:lnTo>
                        <a:pt x="60" y="90"/>
                      </a:lnTo>
                      <a:lnTo>
                        <a:pt x="66" y="100"/>
                      </a:lnTo>
                      <a:lnTo>
                        <a:pt x="69" y="111"/>
                      </a:lnTo>
                      <a:lnTo>
                        <a:pt x="69" y="121"/>
                      </a:lnTo>
                      <a:lnTo>
                        <a:pt x="65" y="130"/>
                      </a:lnTo>
                      <a:lnTo>
                        <a:pt x="55" y="137"/>
                      </a:lnTo>
                      <a:lnTo>
                        <a:pt x="68" y="142"/>
                      </a:lnTo>
                      <a:lnTo>
                        <a:pt x="78" y="150"/>
                      </a:lnTo>
                      <a:lnTo>
                        <a:pt x="87" y="160"/>
                      </a:lnTo>
                      <a:lnTo>
                        <a:pt x="92" y="172"/>
                      </a:lnTo>
                      <a:lnTo>
                        <a:pt x="94" y="185"/>
                      </a:lnTo>
                      <a:lnTo>
                        <a:pt x="93" y="197"/>
                      </a:lnTo>
                      <a:lnTo>
                        <a:pt x="88" y="208"/>
                      </a:lnTo>
                      <a:lnTo>
                        <a:pt x="79" y="218"/>
                      </a:lnTo>
                      <a:lnTo>
                        <a:pt x="92" y="224"/>
                      </a:lnTo>
                      <a:lnTo>
                        <a:pt x="102" y="233"/>
                      </a:lnTo>
                      <a:lnTo>
                        <a:pt x="108" y="244"/>
                      </a:lnTo>
                      <a:lnTo>
                        <a:pt x="112" y="257"/>
                      </a:lnTo>
                      <a:lnTo>
                        <a:pt x="112" y="269"/>
                      </a:lnTo>
                      <a:lnTo>
                        <a:pt x="109" y="280"/>
                      </a:lnTo>
                      <a:lnTo>
                        <a:pt x="102" y="291"/>
                      </a:lnTo>
                      <a:lnTo>
                        <a:pt x="91" y="300"/>
                      </a:lnTo>
                      <a:lnTo>
                        <a:pt x="101" y="309"/>
                      </a:lnTo>
                      <a:lnTo>
                        <a:pt x="108" y="319"/>
                      </a:lnTo>
                      <a:lnTo>
                        <a:pt x="113" y="329"/>
                      </a:lnTo>
                      <a:lnTo>
                        <a:pt x="115" y="341"/>
                      </a:lnTo>
                      <a:lnTo>
                        <a:pt x="115" y="351"/>
                      </a:lnTo>
                      <a:lnTo>
                        <a:pt x="112" y="361"/>
                      </a:lnTo>
                      <a:lnTo>
                        <a:pt x="104" y="370"/>
                      </a:lnTo>
                      <a:lnTo>
                        <a:pt x="93" y="375"/>
                      </a:lnTo>
                      <a:lnTo>
                        <a:pt x="98" y="385"/>
                      </a:lnTo>
                      <a:lnTo>
                        <a:pt x="107" y="398"/>
                      </a:lnTo>
                      <a:lnTo>
                        <a:pt x="115" y="415"/>
                      </a:lnTo>
                      <a:lnTo>
                        <a:pt x="124" y="433"/>
                      </a:lnTo>
                      <a:lnTo>
                        <a:pt x="133" y="453"/>
                      </a:lnTo>
                      <a:lnTo>
                        <a:pt x="138" y="473"/>
                      </a:lnTo>
                      <a:lnTo>
                        <a:pt x="139" y="493"/>
                      </a:lnTo>
                      <a:lnTo>
                        <a:pt x="135" y="512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368520" y="5783040"/>
                  <a:ext cx="366840" cy="812520"/>
                </a:xfrm>
                <a:custGeom>
                  <a:avLst/>
                  <a:gdLst/>
                  <a:ahLst/>
                  <a:rect l="l" t="t" r="r" b="b"/>
                  <a:pathLst>
                    <a:path w="231" h="512">
                      <a:moveTo>
                        <a:pt x="126" y="75"/>
                      </a:moveTo>
                      <a:lnTo>
                        <a:pt x="111" y="63"/>
                      </a:lnTo>
                      <a:lnTo>
                        <a:pt x="106" y="48"/>
                      </a:lnTo>
                      <a:lnTo>
                        <a:pt x="106" y="27"/>
                      </a:lnTo>
                      <a:lnTo>
                        <a:pt x="112" y="0"/>
                      </a:lnTo>
                      <a:lnTo>
                        <a:pt x="72" y="19"/>
                      </a:lnTo>
                      <a:lnTo>
                        <a:pt x="41" y="42"/>
                      </a:lnTo>
                      <a:lnTo>
                        <a:pt x="20" y="71"/>
                      </a:lnTo>
                      <a:lnTo>
                        <a:pt x="7" y="103"/>
                      </a:lnTo>
                      <a:lnTo>
                        <a:pt x="0" y="138"/>
                      </a:lnTo>
                      <a:lnTo>
                        <a:pt x="2" y="175"/>
                      </a:lnTo>
                      <a:lnTo>
                        <a:pt x="9" y="214"/>
                      </a:lnTo>
                      <a:lnTo>
                        <a:pt x="21" y="254"/>
                      </a:lnTo>
                      <a:lnTo>
                        <a:pt x="39" y="293"/>
                      </a:lnTo>
                      <a:lnTo>
                        <a:pt x="60" y="333"/>
                      </a:lnTo>
                      <a:lnTo>
                        <a:pt x="85" y="371"/>
                      </a:lnTo>
                      <a:lnTo>
                        <a:pt x="112" y="407"/>
                      </a:lnTo>
                      <a:lnTo>
                        <a:pt x="141" y="439"/>
                      </a:lnTo>
                      <a:lnTo>
                        <a:pt x="171" y="468"/>
                      </a:lnTo>
                      <a:lnTo>
                        <a:pt x="202" y="492"/>
                      </a:lnTo>
                      <a:lnTo>
                        <a:pt x="231" y="512"/>
                      </a:lnTo>
                      <a:lnTo>
                        <a:pt x="219" y="497"/>
                      </a:lnTo>
                      <a:lnTo>
                        <a:pt x="212" y="479"/>
                      </a:lnTo>
                      <a:lnTo>
                        <a:pt x="207" y="459"/>
                      </a:lnTo>
                      <a:lnTo>
                        <a:pt x="204" y="438"/>
                      </a:lnTo>
                      <a:lnTo>
                        <a:pt x="203" y="417"/>
                      </a:lnTo>
                      <a:lnTo>
                        <a:pt x="204" y="398"/>
                      </a:lnTo>
                      <a:lnTo>
                        <a:pt x="204" y="383"/>
                      </a:lnTo>
                      <a:lnTo>
                        <a:pt x="204" y="373"/>
                      </a:lnTo>
                      <a:lnTo>
                        <a:pt x="192" y="336"/>
                      </a:lnTo>
                      <a:lnTo>
                        <a:pt x="180" y="292"/>
                      </a:lnTo>
                      <a:lnTo>
                        <a:pt x="168" y="246"/>
                      </a:lnTo>
                      <a:lnTo>
                        <a:pt x="157" y="200"/>
                      </a:lnTo>
                      <a:lnTo>
                        <a:pt x="147" y="158"/>
                      </a:lnTo>
                      <a:lnTo>
                        <a:pt x="138" y="121"/>
                      </a:lnTo>
                      <a:lnTo>
                        <a:pt x="131" y="92"/>
                      </a:lnTo>
                      <a:lnTo>
                        <a:pt x="126" y="75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629160" y="5741640"/>
                <a:ext cx="1790640" cy="1182960"/>
                <a:chOff x="3629160" y="5741640"/>
                <a:chExt cx="1790640" cy="11829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629160" y="5741640"/>
                  <a:ext cx="1790640" cy="1182960"/>
                </a:xfrm>
                <a:custGeom>
                  <a:avLst/>
                  <a:gdLst/>
                  <a:ahLst/>
                  <a:rect l="l" t="t" r="r" b="b"/>
                  <a:pathLst>
                    <a:path w="1128" h="745">
                      <a:moveTo>
                        <a:pt x="0" y="493"/>
                      </a:moveTo>
                      <a:lnTo>
                        <a:pt x="1" y="480"/>
                      </a:lnTo>
                      <a:lnTo>
                        <a:pt x="12" y="465"/>
                      </a:lnTo>
                      <a:lnTo>
                        <a:pt x="24" y="453"/>
                      </a:lnTo>
                      <a:lnTo>
                        <a:pt x="29" y="448"/>
                      </a:lnTo>
                      <a:lnTo>
                        <a:pt x="37" y="446"/>
                      </a:lnTo>
                      <a:lnTo>
                        <a:pt x="46" y="444"/>
                      </a:lnTo>
                      <a:lnTo>
                        <a:pt x="55" y="447"/>
                      </a:lnTo>
                      <a:lnTo>
                        <a:pt x="65" y="449"/>
                      </a:lnTo>
                      <a:lnTo>
                        <a:pt x="73" y="453"/>
                      </a:lnTo>
                      <a:lnTo>
                        <a:pt x="82" y="457"/>
                      </a:lnTo>
                      <a:lnTo>
                        <a:pt x="91" y="461"/>
                      </a:lnTo>
                      <a:lnTo>
                        <a:pt x="97" y="462"/>
                      </a:lnTo>
                      <a:lnTo>
                        <a:pt x="104" y="462"/>
                      </a:lnTo>
                      <a:lnTo>
                        <a:pt x="111" y="462"/>
                      </a:lnTo>
                      <a:lnTo>
                        <a:pt x="117" y="458"/>
                      </a:lnTo>
                      <a:lnTo>
                        <a:pt x="123" y="454"/>
                      </a:lnTo>
                      <a:lnTo>
                        <a:pt x="128" y="448"/>
                      </a:lnTo>
                      <a:lnTo>
                        <a:pt x="132" y="441"/>
                      </a:lnTo>
                      <a:lnTo>
                        <a:pt x="137" y="432"/>
                      </a:lnTo>
                      <a:lnTo>
                        <a:pt x="140" y="421"/>
                      </a:lnTo>
                      <a:lnTo>
                        <a:pt x="145" y="407"/>
                      </a:lnTo>
                      <a:lnTo>
                        <a:pt x="152" y="392"/>
                      </a:lnTo>
                      <a:lnTo>
                        <a:pt x="160" y="376"/>
                      </a:lnTo>
                      <a:lnTo>
                        <a:pt x="169" y="361"/>
                      </a:lnTo>
                      <a:lnTo>
                        <a:pt x="178" y="346"/>
                      </a:lnTo>
                      <a:lnTo>
                        <a:pt x="186" y="336"/>
                      </a:lnTo>
                      <a:lnTo>
                        <a:pt x="195" y="329"/>
                      </a:lnTo>
                      <a:lnTo>
                        <a:pt x="203" y="327"/>
                      </a:lnTo>
                      <a:lnTo>
                        <a:pt x="209" y="330"/>
                      </a:lnTo>
                      <a:lnTo>
                        <a:pt x="214" y="336"/>
                      </a:lnTo>
                      <a:lnTo>
                        <a:pt x="218" y="344"/>
                      </a:lnTo>
                      <a:lnTo>
                        <a:pt x="222" y="351"/>
                      </a:lnTo>
                      <a:lnTo>
                        <a:pt x="226" y="359"/>
                      </a:lnTo>
                      <a:lnTo>
                        <a:pt x="231" y="365"/>
                      </a:lnTo>
                      <a:lnTo>
                        <a:pt x="237" y="367"/>
                      </a:lnTo>
                      <a:lnTo>
                        <a:pt x="246" y="367"/>
                      </a:lnTo>
                      <a:lnTo>
                        <a:pt x="256" y="362"/>
                      </a:lnTo>
                      <a:lnTo>
                        <a:pt x="262" y="354"/>
                      </a:lnTo>
                      <a:lnTo>
                        <a:pt x="267" y="342"/>
                      </a:lnTo>
                      <a:lnTo>
                        <a:pt x="273" y="327"/>
                      </a:lnTo>
                      <a:lnTo>
                        <a:pt x="277" y="319"/>
                      </a:lnTo>
                      <a:lnTo>
                        <a:pt x="283" y="310"/>
                      </a:lnTo>
                      <a:lnTo>
                        <a:pt x="290" y="300"/>
                      </a:lnTo>
                      <a:lnTo>
                        <a:pt x="297" y="291"/>
                      </a:lnTo>
                      <a:lnTo>
                        <a:pt x="305" y="284"/>
                      </a:lnTo>
                      <a:lnTo>
                        <a:pt x="312" y="278"/>
                      </a:lnTo>
                      <a:lnTo>
                        <a:pt x="319" y="275"/>
                      </a:lnTo>
                      <a:lnTo>
                        <a:pt x="327" y="276"/>
                      </a:lnTo>
                      <a:lnTo>
                        <a:pt x="336" y="285"/>
                      </a:lnTo>
                      <a:lnTo>
                        <a:pt x="339" y="299"/>
                      </a:lnTo>
                      <a:lnTo>
                        <a:pt x="344" y="309"/>
                      </a:lnTo>
                      <a:lnTo>
                        <a:pt x="358" y="308"/>
                      </a:lnTo>
                      <a:lnTo>
                        <a:pt x="370" y="298"/>
                      </a:lnTo>
                      <a:lnTo>
                        <a:pt x="373" y="286"/>
                      </a:lnTo>
                      <a:lnTo>
                        <a:pt x="373" y="276"/>
                      </a:lnTo>
                      <a:lnTo>
                        <a:pt x="380" y="269"/>
                      </a:lnTo>
                      <a:lnTo>
                        <a:pt x="388" y="267"/>
                      </a:lnTo>
                      <a:lnTo>
                        <a:pt x="396" y="265"/>
                      </a:lnTo>
                      <a:lnTo>
                        <a:pt x="405" y="263"/>
                      </a:lnTo>
                      <a:lnTo>
                        <a:pt x="414" y="263"/>
                      </a:lnTo>
                      <a:lnTo>
                        <a:pt x="424" y="263"/>
                      </a:lnTo>
                      <a:lnTo>
                        <a:pt x="433" y="265"/>
                      </a:lnTo>
                      <a:lnTo>
                        <a:pt x="440" y="269"/>
                      </a:lnTo>
                      <a:lnTo>
                        <a:pt x="447" y="274"/>
                      </a:lnTo>
                      <a:lnTo>
                        <a:pt x="454" y="281"/>
                      </a:lnTo>
                      <a:lnTo>
                        <a:pt x="460" y="288"/>
                      </a:lnTo>
                      <a:lnTo>
                        <a:pt x="467" y="295"/>
                      </a:lnTo>
                      <a:lnTo>
                        <a:pt x="474" y="301"/>
                      </a:lnTo>
                      <a:lnTo>
                        <a:pt x="480" y="305"/>
                      </a:lnTo>
                      <a:lnTo>
                        <a:pt x="485" y="308"/>
                      </a:lnTo>
                      <a:lnTo>
                        <a:pt x="491" y="308"/>
                      </a:lnTo>
                      <a:lnTo>
                        <a:pt x="496" y="304"/>
                      </a:lnTo>
                      <a:lnTo>
                        <a:pt x="506" y="289"/>
                      </a:lnTo>
                      <a:lnTo>
                        <a:pt x="510" y="264"/>
                      </a:lnTo>
                      <a:lnTo>
                        <a:pt x="516" y="238"/>
                      </a:lnTo>
                      <a:lnTo>
                        <a:pt x="529" y="224"/>
                      </a:lnTo>
                      <a:lnTo>
                        <a:pt x="539" y="224"/>
                      </a:lnTo>
                      <a:lnTo>
                        <a:pt x="548" y="225"/>
                      </a:lnTo>
                      <a:lnTo>
                        <a:pt x="557" y="229"/>
                      </a:lnTo>
                      <a:lnTo>
                        <a:pt x="565" y="233"/>
                      </a:lnTo>
                      <a:lnTo>
                        <a:pt x="573" y="237"/>
                      </a:lnTo>
                      <a:lnTo>
                        <a:pt x="580" y="239"/>
                      </a:lnTo>
                      <a:lnTo>
                        <a:pt x="587" y="239"/>
                      </a:lnTo>
                      <a:lnTo>
                        <a:pt x="593" y="238"/>
                      </a:lnTo>
                      <a:lnTo>
                        <a:pt x="598" y="234"/>
                      </a:lnTo>
                      <a:lnTo>
                        <a:pt x="602" y="230"/>
                      </a:lnTo>
                      <a:lnTo>
                        <a:pt x="604" y="225"/>
                      </a:lnTo>
                      <a:lnTo>
                        <a:pt x="608" y="219"/>
                      </a:lnTo>
                      <a:lnTo>
                        <a:pt x="611" y="214"/>
                      </a:lnTo>
                      <a:lnTo>
                        <a:pt x="616" y="209"/>
                      </a:lnTo>
                      <a:lnTo>
                        <a:pt x="623" y="203"/>
                      </a:lnTo>
                      <a:lnTo>
                        <a:pt x="631" y="198"/>
                      </a:lnTo>
                      <a:lnTo>
                        <a:pt x="640" y="193"/>
                      </a:lnTo>
                      <a:lnTo>
                        <a:pt x="648" y="191"/>
                      </a:lnTo>
                      <a:lnTo>
                        <a:pt x="654" y="189"/>
                      </a:lnTo>
                      <a:lnTo>
                        <a:pt x="659" y="188"/>
                      </a:lnTo>
                      <a:lnTo>
                        <a:pt x="662" y="187"/>
                      </a:lnTo>
                      <a:lnTo>
                        <a:pt x="666" y="186"/>
                      </a:lnTo>
                      <a:lnTo>
                        <a:pt x="670" y="183"/>
                      </a:lnTo>
                      <a:lnTo>
                        <a:pt x="675" y="179"/>
                      </a:lnTo>
                      <a:lnTo>
                        <a:pt x="680" y="171"/>
                      </a:lnTo>
                      <a:lnTo>
                        <a:pt x="687" y="156"/>
                      </a:lnTo>
                      <a:lnTo>
                        <a:pt x="693" y="136"/>
                      </a:lnTo>
                      <a:lnTo>
                        <a:pt x="701" y="115"/>
                      </a:lnTo>
                      <a:lnTo>
                        <a:pt x="710" y="94"/>
                      </a:lnTo>
                      <a:lnTo>
                        <a:pt x="718" y="74"/>
                      </a:lnTo>
                      <a:lnTo>
                        <a:pt x="728" y="60"/>
                      </a:lnTo>
                      <a:lnTo>
                        <a:pt x="738" y="51"/>
                      </a:lnTo>
                      <a:lnTo>
                        <a:pt x="748" y="49"/>
                      </a:lnTo>
                      <a:lnTo>
                        <a:pt x="756" y="50"/>
                      </a:lnTo>
                      <a:lnTo>
                        <a:pt x="762" y="54"/>
                      </a:lnTo>
                      <a:lnTo>
                        <a:pt x="768" y="58"/>
                      </a:lnTo>
                      <a:lnTo>
                        <a:pt x="772" y="63"/>
                      </a:lnTo>
                      <a:lnTo>
                        <a:pt x="777" y="65"/>
                      </a:lnTo>
                      <a:lnTo>
                        <a:pt x="780" y="66"/>
                      </a:lnTo>
                      <a:lnTo>
                        <a:pt x="784" y="64"/>
                      </a:lnTo>
                      <a:lnTo>
                        <a:pt x="793" y="53"/>
                      </a:lnTo>
                      <a:lnTo>
                        <a:pt x="802" y="40"/>
                      </a:lnTo>
                      <a:lnTo>
                        <a:pt x="812" y="30"/>
                      </a:lnTo>
                      <a:lnTo>
                        <a:pt x="820" y="24"/>
                      </a:lnTo>
                      <a:lnTo>
                        <a:pt x="828" y="29"/>
                      </a:lnTo>
                      <a:lnTo>
                        <a:pt x="834" y="39"/>
                      </a:lnTo>
                      <a:lnTo>
                        <a:pt x="840" y="50"/>
                      </a:lnTo>
                      <a:lnTo>
                        <a:pt x="851" y="51"/>
                      </a:lnTo>
                      <a:lnTo>
                        <a:pt x="860" y="40"/>
                      </a:lnTo>
                      <a:lnTo>
                        <a:pt x="863" y="23"/>
                      </a:lnTo>
                      <a:lnTo>
                        <a:pt x="866" y="7"/>
                      </a:lnTo>
                      <a:lnTo>
                        <a:pt x="876" y="0"/>
                      </a:lnTo>
                      <a:lnTo>
                        <a:pt x="886" y="3"/>
                      </a:lnTo>
                      <a:lnTo>
                        <a:pt x="897" y="7"/>
                      </a:lnTo>
                      <a:lnTo>
                        <a:pt x="910" y="12"/>
                      </a:lnTo>
                      <a:lnTo>
                        <a:pt x="922" y="17"/>
                      </a:lnTo>
                      <a:lnTo>
                        <a:pt x="933" y="22"/>
                      </a:lnTo>
                      <a:lnTo>
                        <a:pt x="943" y="25"/>
                      </a:lnTo>
                      <a:lnTo>
                        <a:pt x="950" y="28"/>
                      </a:lnTo>
                      <a:lnTo>
                        <a:pt x="952" y="29"/>
                      </a:lnTo>
                      <a:lnTo>
                        <a:pt x="950" y="36"/>
                      </a:lnTo>
                      <a:lnTo>
                        <a:pt x="948" y="50"/>
                      </a:lnTo>
                      <a:lnTo>
                        <a:pt x="951" y="61"/>
                      </a:lnTo>
                      <a:lnTo>
                        <a:pt x="966" y="58"/>
                      </a:lnTo>
                      <a:lnTo>
                        <a:pt x="977" y="51"/>
                      </a:lnTo>
                      <a:lnTo>
                        <a:pt x="989" y="46"/>
                      </a:lnTo>
                      <a:lnTo>
                        <a:pt x="1002" y="43"/>
                      </a:lnTo>
                      <a:lnTo>
                        <a:pt x="1014" y="39"/>
                      </a:lnTo>
                      <a:lnTo>
                        <a:pt x="1027" y="38"/>
                      </a:lnTo>
                      <a:lnTo>
                        <a:pt x="1039" y="36"/>
                      </a:lnTo>
                      <a:lnTo>
                        <a:pt x="1049" y="36"/>
                      </a:lnTo>
                      <a:lnTo>
                        <a:pt x="1059" y="36"/>
                      </a:lnTo>
                      <a:lnTo>
                        <a:pt x="1068" y="39"/>
                      </a:lnTo>
                      <a:lnTo>
                        <a:pt x="1075" y="43"/>
                      </a:lnTo>
                      <a:lnTo>
                        <a:pt x="1080" y="48"/>
                      </a:lnTo>
                      <a:lnTo>
                        <a:pt x="1086" y="54"/>
                      </a:lnTo>
                      <a:lnTo>
                        <a:pt x="1091" y="61"/>
                      </a:lnTo>
                      <a:lnTo>
                        <a:pt x="1095" y="68"/>
                      </a:lnTo>
                      <a:lnTo>
                        <a:pt x="1100" y="74"/>
                      </a:lnTo>
                      <a:lnTo>
                        <a:pt x="1106" y="79"/>
                      </a:lnTo>
                      <a:lnTo>
                        <a:pt x="1110" y="86"/>
                      </a:lnTo>
                      <a:lnTo>
                        <a:pt x="1105" y="91"/>
                      </a:lnTo>
                      <a:lnTo>
                        <a:pt x="1096" y="99"/>
                      </a:lnTo>
                      <a:lnTo>
                        <a:pt x="1092" y="110"/>
                      </a:lnTo>
                      <a:lnTo>
                        <a:pt x="1094" y="117"/>
                      </a:lnTo>
                      <a:lnTo>
                        <a:pt x="1099" y="122"/>
                      </a:lnTo>
                      <a:lnTo>
                        <a:pt x="1105" y="127"/>
                      </a:lnTo>
                      <a:lnTo>
                        <a:pt x="1112" y="132"/>
                      </a:lnTo>
                      <a:lnTo>
                        <a:pt x="1119" y="137"/>
                      </a:lnTo>
                      <a:lnTo>
                        <a:pt x="1125" y="142"/>
                      </a:lnTo>
                      <a:lnTo>
                        <a:pt x="1128" y="147"/>
                      </a:lnTo>
                      <a:lnTo>
                        <a:pt x="1128" y="153"/>
                      </a:lnTo>
                      <a:lnTo>
                        <a:pt x="1126" y="160"/>
                      </a:lnTo>
                      <a:lnTo>
                        <a:pt x="1121" y="165"/>
                      </a:lnTo>
                      <a:lnTo>
                        <a:pt x="1115" y="171"/>
                      </a:lnTo>
                      <a:lnTo>
                        <a:pt x="1107" y="176"/>
                      </a:lnTo>
                      <a:lnTo>
                        <a:pt x="1099" y="181"/>
                      </a:lnTo>
                      <a:lnTo>
                        <a:pt x="1092" y="186"/>
                      </a:lnTo>
                      <a:lnTo>
                        <a:pt x="1087" y="192"/>
                      </a:lnTo>
                      <a:lnTo>
                        <a:pt x="1085" y="199"/>
                      </a:lnTo>
                      <a:lnTo>
                        <a:pt x="1086" y="217"/>
                      </a:lnTo>
                      <a:lnTo>
                        <a:pt x="1092" y="235"/>
                      </a:lnTo>
                      <a:lnTo>
                        <a:pt x="1095" y="255"/>
                      </a:lnTo>
                      <a:lnTo>
                        <a:pt x="1091" y="273"/>
                      </a:lnTo>
                      <a:lnTo>
                        <a:pt x="1086" y="280"/>
                      </a:lnTo>
                      <a:lnTo>
                        <a:pt x="1080" y="286"/>
                      </a:lnTo>
                      <a:lnTo>
                        <a:pt x="1074" y="291"/>
                      </a:lnTo>
                      <a:lnTo>
                        <a:pt x="1068" y="294"/>
                      </a:lnTo>
                      <a:lnTo>
                        <a:pt x="1060" y="296"/>
                      </a:lnTo>
                      <a:lnTo>
                        <a:pt x="1054" y="298"/>
                      </a:lnTo>
                      <a:lnTo>
                        <a:pt x="1046" y="298"/>
                      </a:lnTo>
                      <a:lnTo>
                        <a:pt x="1040" y="296"/>
                      </a:lnTo>
                      <a:lnTo>
                        <a:pt x="1032" y="296"/>
                      </a:lnTo>
                      <a:lnTo>
                        <a:pt x="1022" y="298"/>
                      </a:lnTo>
                      <a:lnTo>
                        <a:pt x="1010" y="301"/>
                      </a:lnTo>
                      <a:lnTo>
                        <a:pt x="999" y="306"/>
                      </a:lnTo>
                      <a:lnTo>
                        <a:pt x="989" y="313"/>
                      </a:lnTo>
                      <a:lnTo>
                        <a:pt x="983" y="319"/>
                      </a:lnTo>
                      <a:lnTo>
                        <a:pt x="981" y="325"/>
                      </a:lnTo>
                      <a:lnTo>
                        <a:pt x="984" y="330"/>
                      </a:lnTo>
                      <a:lnTo>
                        <a:pt x="991" y="339"/>
                      </a:lnTo>
                      <a:lnTo>
                        <a:pt x="997" y="354"/>
                      </a:lnTo>
                      <a:lnTo>
                        <a:pt x="1002" y="371"/>
                      </a:lnTo>
                      <a:lnTo>
                        <a:pt x="1007" y="391"/>
                      </a:lnTo>
                      <a:lnTo>
                        <a:pt x="1008" y="410"/>
                      </a:lnTo>
                      <a:lnTo>
                        <a:pt x="1008" y="427"/>
                      </a:lnTo>
                      <a:lnTo>
                        <a:pt x="1003" y="441"/>
                      </a:lnTo>
                      <a:lnTo>
                        <a:pt x="995" y="448"/>
                      </a:lnTo>
                      <a:lnTo>
                        <a:pt x="986" y="449"/>
                      </a:lnTo>
                      <a:lnTo>
                        <a:pt x="974" y="447"/>
                      </a:lnTo>
                      <a:lnTo>
                        <a:pt x="964" y="443"/>
                      </a:lnTo>
                      <a:lnTo>
                        <a:pt x="956" y="437"/>
                      </a:lnTo>
                      <a:lnTo>
                        <a:pt x="946" y="432"/>
                      </a:lnTo>
                      <a:lnTo>
                        <a:pt x="936" y="429"/>
                      </a:lnTo>
                      <a:lnTo>
                        <a:pt x="926" y="431"/>
                      </a:lnTo>
                      <a:lnTo>
                        <a:pt x="916" y="438"/>
                      </a:lnTo>
                      <a:lnTo>
                        <a:pt x="904" y="459"/>
                      </a:lnTo>
                      <a:lnTo>
                        <a:pt x="902" y="477"/>
                      </a:lnTo>
                      <a:lnTo>
                        <a:pt x="905" y="492"/>
                      </a:lnTo>
                      <a:lnTo>
                        <a:pt x="902" y="500"/>
                      </a:lnTo>
                      <a:lnTo>
                        <a:pt x="897" y="503"/>
                      </a:lnTo>
                      <a:lnTo>
                        <a:pt x="890" y="503"/>
                      </a:lnTo>
                      <a:lnTo>
                        <a:pt x="880" y="503"/>
                      </a:lnTo>
                      <a:lnTo>
                        <a:pt x="870" y="503"/>
                      </a:lnTo>
                      <a:lnTo>
                        <a:pt x="859" y="502"/>
                      </a:lnTo>
                      <a:lnTo>
                        <a:pt x="849" y="502"/>
                      </a:lnTo>
                      <a:lnTo>
                        <a:pt x="840" y="502"/>
                      </a:lnTo>
                      <a:lnTo>
                        <a:pt x="833" y="503"/>
                      </a:lnTo>
                      <a:lnTo>
                        <a:pt x="824" y="512"/>
                      </a:lnTo>
                      <a:lnTo>
                        <a:pt x="819" y="526"/>
                      </a:lnTo>
                      <a:lnTo>
                        <a:pt x="817" y="543"/>
                      </a:lnTo>
                      <a:lnTo>
                        <a:pt x="813" y="559"/>
                      </a:lnTo>
                      <a:lnTo>
                        <a:pt x="808" y="565"/>
                      </a:lnTo>
                      <a:lnTo>
                        <a:pt x="799" y="570"/>
                      </a:lnTo>
                      <a:lnTo>
                        <a:pt x="788" y="574"/>
                      </a:lnTo>
                      <a:lnTo>
                        <a:pt x="774" y="577"/>
                      </a:lnTo>
                      <a:lnTo>
                        <a:pt x="759" y="581"/>
                      </a:lnTo>
                      <a:lnTo>
                        <a:pt x="747" y="584"/>
                      </a:lnTo>
                      <a:lnTo>
                        <a:pt x="735" y="586"/>
                      </a:lnTo>
                      <a:lnTo>
                        <a:pt x="726" y="589"/>
                      </a:lnTo>
                      <a:lnTo>
                        <a:pt x="718" y="604"/>
                      </a:lnTo>
                      <a:lnTo>
                        <a:pt x="718" y="631"/>
                      </a:lnTo>
                      <a:lnTo>
                        <a:pt x="718" y="659"/>
                      </a:lnTo>
                      <a:lnTo>
                        <a:pt x="711" y="678"/>
                      </a:lnTo>
                      <a:lnTo>
                        <a:pt x="701" y="681"/>
                      </a:lnTo>
                      <a:lnTo>
                        <a:pt x="687" y="679"/>
                      </a:lnTo>
                      <a:lnTo>
                        <a:pt x="672" y="676"/>
                      </a:lnTo>
                      <a:lnTo>
                        <a:pt x="656" y="669"/>
                      </a:lnTo>
                      <a:lnTo>
                        <a:pt x="641" y="663"/>
                      </a:lnTo>
                      <a:lnTo>
                        <a:pt x="628" y="658"/>
                      </a:lnTo>
                      <a:lnTo>
                        <a:pt x="616" y="655"/>
                      </a:lnTo>
                      <a:lnTo>
                        <a:pt x="609" y="655"/>
                      </a:lnTo>
                      <a:lnTo>
                        <a:pt x="602" y="662"/>
                      </a:lnTo>
                      <a:lnTo>
                        <a:pt x="594" y="673"/>
                      </a:lnTo>
                      <a:lnTo>
                        <a:pt x="585" y="686"/>
                      </a:lnTo>
                      <a:lnTo>
                        <a:pt x="573" y="697"/>
                      </a:lnTo>
                      <a:lnTo>
                        <a:pt x="564" y="701"/>
                      </a:lnTo>
                      <a:lnTo>
                        <a:pt x="554" y="701"/>
                      </a:lnTo>
                      <a:lnTo>
                        <a:pt x="543" y="699"/>
                      </a:lnTo>
                      <a:lnTo>
                        <a:pt x="531" y="697"/>
                      </a:lnTo>
                      <a:lnTo>
                        <a:pt x="520" y="693"/>
                      </a:lnTo>
                      <a:lnTo>
                        <a:pt x="510" y="689"/>
                      </a:lnTo>
                      <a:lnTo>
                        <a:pt x="500" y="687"/>
                      </a:lnTo>
                      <a:lnTo>
                        <a:pt x="492" y="684"/>
                      </a:lnTo>
                      <a:lnTo>
                        <a:pt x="486" y="684"/>
                      </a:lnTo>
                      <a:lnTo>
                        <a:pt x="480" y="689"/>
                      </a:lnTo>
                      <a:lnTo>
                        <a:pt x="475" y="697"/>
                      </a:lnTo>
                      <a:lnTo>
                        <a:pt x="469" y="706"/>
                      </a:lnTo>
                      <a:lnTo>
                        <a:pt x="462" y="715"/>
                      </a:lnTo>
                      <a:lnTo>
                        <a:pt x="457" y="725"/>
                      </a:lnTo>
                      <a:lnTo>
                        <a:pt x="451" y="734"/>
                      </a:lnTo>
                      <a:lnTo>
                        <a:pt x="445" y="740"/>
                      </a:lnTo>
                      <a:lnTo>
                        <a:pt x="436" y="743"/>
                      </a:lnTo>
                      <a:lnTo>
                        <a:pt x="425" y="743"/>
                      </a:lnTo>
                      <a:lnTo>
                        <a:pt x="411" y="740"/>
                      </a:lnTo>
                      <a:lnTo>
                        <a:pt x="396" y="735"/>
                      </a:lnTo>
                      <a:lnTo>
                        <a:pt x="382" y="730"/>
                      </a:lnTo>
                      <a:lnTo>
                        <a:pt x="369" y="727"/>
                      </a:lnTo>
                      <a:lnTo>
                        <a:pt x="357" y="723"/>
                      </a:lnTo>
                      <a:lnTo>
                        <a:pt x="349" y="723"/>
                      </a:lnTo>
                      <a:lnTo>
                        <a:pt x="343" y="724"/>
                      </a:lnTo>
                      <a:lnTo>
                        <a:pt x="336" y="728"/>
                      </a:lnTo>
                      <a:lnTo>
                        <a:pt x="328" y="730"/>
                      </a:lnTo>
                      <a:lnTo>
                        <a:pt x="319" y="734"/>
                      </a:lnTo>
                      <a:lnTo>
                        <a:pt x="311" y="738"/>
                      </a:lnTo>
                      <a:lnTo>
                        <a:pt x="301" y="742"/>
                      </a:lnTo>
                      <a:lnTo>
                        <a:pt x="291" y="744"/>
                      </a:lnTo>
                      <a:lnTo>
                        <a:pt x="280" y="745"/>
                      </a:lnTo>
                      <a:lnTo>
                        <a:pt x="270" y="743"/>
                      </a:lnTo>
                      <a:lnTo>
                        <a:pt x="262" y="738"/>
                      </a:lnTo>
                      <a:lnTo>
                        <a:pt x="256" y="729"/>
                      </a:lnTo>
                      <a:lnTo>
                        <a:pt x="251" y="718"/>
                      </a:lnTo>
                      <a:lnTo>
                        <a:pt x="245" y="707"/>
                      </a:lnTo>
                      <a:lnTo>
                        <a:pt x="240" y="697"/>
                      </a:lnTo>
                      <a:lnTo>
                        <a:pt x="232" y="688"/>
                      </a:lnTo>
                      <a:lnTo>
                        <a:pt x="222" y="682"/>
                      </a:lnTo>
                      <a:lnTo>
                        <a:pt x="213" y="677"/>
                      </a:lnTo>
                      <a:lnTo>
                        <a:pt x="201" y="673"/>
                      </a:lnTo>
                      <a:lnTo>
                        <a:pt x="191" y="671"/>
                      </a:lnTo>
                      <a:lnTo>
                        <a:pt x="181" y="668"/>
                      </a:lnTo>
                      <a:lnTo>
                        <a:pt x="170" y="666"/>
                      </a:lnTo>
                      <a:lnTo>
                        <a:pt x="160" y="664"/>
                      </a:lnTo>
                      <a:lnTo>
                        <a:pt x="149" y="663"/>
                      </a:lnTo>
                      <a:lnTo>
                        <a:pt x="138" y="662"/>
                      </a:lnTo>
                      <a:lnTo>
                        <a:pt x="127" y="659"/>
                      </a:lnTo>
                      <a:lnTo>
                        <a:pt x="118" y="655"/>
                      </a:lnTo>
                      <a:lnTo>
                        <a:pt x="111" y="647"/>
                      </a:lnTo>
                      <a:lnTo>
                        <a:pt x="103" y="640"/>
                      </a:lnTo>
                      <a:lnTo>
                        <a:pt x="97" y="631"/>
                      </a:lnTo>
                      <a:lnTo>
                        <a:pt x="92" y="622"/>
                      </a:lnTo>
                      <a:lnTo>
                        <a:pt x="87" y="613"/>
                      </a:lnTo>
                      <a:lnTo>
                        <a:pt x="82" y="607"/>
                      </a:lnTo>
                      <a:lnTo>
                        <a:pt x="77" y="600"/>
                      </a:lnTo>
                      <a:lnTo>
                        <a:pt x="70" y="590"/>
                      </a:lnTo>
                      <a:lnTo>
                        <a:pt x="62" y="576"/>
                      </a:lnTo>
                      <a:lnTo>
                        <a:pt x="52" y="561"/>
                      </a:lnTo>
                      <a:lnTo>
                        <a:pt x="41" y="545"/>
                      </a:lnTo>
                      <a:lnTo>
                        <a:pt x="29" y="528"/>
                      </a:lnTo>
                      <a:lnTo>
                        <a:pt x="15" y="510"/>
                      </a:lnTo>
                      <a:lnTo>
                        <a:pt x="0" y="4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92520" y="5787720"/>
                  <a:ext cx="1683000" cy="1108080"/>
                </a:xfrm>
                <a:custGeom>
                  <a:avLst/>
                  <a:gdLst/>
                  <a:ahLst/>
                  <a:rect l="l" t="t" r="r" b="b"/>
                  <a:pathLst>
                    <a:path w="1060" h="698">
                      <a:moveTo>
                        <a:pt x="0" y="465"/>
                      </a:moveTo>
                      <a:lnTo>
                        <a:pt x="1" y="455"/>
                      </a:lnTo>
                      <a:lnTo>
                        <a:pt x="10" y="444"/>
                      </a:lnTo>
                      <a:lnTo>
                        <a:pt x="19" y="435"/>
                      </a:lnTo>
                      <a:lnTo>
                        <a:pt x="22" y="432"/>
                      </a:lnTo>
                      <a:lnTo>
                        <a:pt x="30" y="429"/>
                      </a:lnTo>
                      <a:lnTo>
                        <a:pt x="37" y="429"/>
                      </a:lnTo>
                      <a:lnTo>
                        <a:pt x="46" y="433"/>
                      </a:lnTo>
                      <a:lnTo>
                        <a:pt x="55" y="437"/>
                      </a:lnTo>
                      <a:lnTo>
                        <a:pt x="63" y="442"/>
                      </a:lnTo>
                      <a:lnTo>
                        <a:pt x="72" y="445"/>
                      </a:lnTo>
                      <a:lnTo>
                        <a:pt x="79" y="448"/>
                      </a:lnTo>
                      <a:lnTo>
                        <a:pt x="87" y="448"/>
                      </a:lnTo>
                      <a:lnTo>
                        <a:pt x="94" y="447"/>
                      </a:lnTo>
                      <a:lnTo>
                        <a:pt x="101" y="443"/>
                      </a:lnTo>
                      <a:lnTo>
                        <a:pt x="108" y="439"/>
                      </a:lnTo>
                      <a:lnTo>
                        <a:pt x="114" y="434"/>
                      </a:lnTo>
                      <a:lnTo>
                        <a:pt x="119" y="427"/>
                      </a:lnTo>
                      <a:lnTo>
                        <a:pt x="125" y="419"/>
                      </a:lnTo>
                      <a:lnTo>
                        <a:pt x="130" y="409"/>
                      </a:lnTo>
                      <a:lnTo>
                        <a:pt x="134" y="399"/>
                      </a:lnTo>
                      <a:lnTo>
                        <a:pt x="138" y="387"/>
                      </a:lnTo>
                      <a:lnTo>
                        <a:pt x="143" y="375"/>
                      </a:lnTo>
                      <a:lnTo>
                        <a:pt x="148" y="361"/>
                      </a:lnTo>
                      <a:lnTo>
                        <a:pt x="153" y="348"/>
                      </a:lnTo>
                      <a:lnTo>
                        <a:pt x="159" y="337"/>
                      </a:lnTo>
                      <a:lnTo>
                        <a:pt x="164" y="329"/>
                      </a:lnTo>
                      <a:lnTo>
                        <a:pt x="170" y="324"/>
                      </a:lnTo>
                      <a:lnTo>
                        <a:pt x="176" y="322"/>
                      </a:lnTo>
                      <a:lnTo>
                        <a:pt x="183" y="325"/>
                      </a:lnTo>
                      <a:lnTo>
                        <a:pt x="188" y="330"/>
                      </a:lnTo>
                      <a:lnTo>
                        <a:pt x="194" y="336"/>
                      </a:lnTo>
                      <a:lnTo>
                        <a:pt x="199" y="341"/>
                      </a:lnTo>
                      <a:lnTo>
                        <a:pt x="205" y="347"/>
                      </a:lnTo>
                      <a:lnTo>
                        <a:pt x="211" y="351"/>
                      </a:lnTo>
                      <a:lnTo>
                        <a:pt x="219" y="352"/>
                      </a:lnTo>
                      <a:lnTo>
                        <a:pt x="226" y="350"/>
                      </a:lnTo>
                      <a:lnTo>
                        <a:pt x="238" y="342"/>
                      </a:lnTo>
                      <a:lnTo>
                        <a:pt x="245" y="336"/>
                      </a:lnTo>
                      <a:lnTo>
                        <a:pt x="247" y="327"/>
                      </a:lnTo>
                      <a:lnTo>
                        <a:pt x="251" y="315"/>
                      </a:lnTo>
                      <a:lnTo>
                        <a:pt x="255" y="306"/>
                      </a:lnTo>
                      <a:lnTo>
                        <a:pt x="260" y="299"/>
                      </a:lnTo>
                      <a:lnTo>
                        <a:pt x="266" y="291"/>
                      </a:lnTo>
                      <a:lnTo>
                        <a:pt x="272" y="284"/>
                      </a:lnTo>
                      <a:lnTo>
                        <a:pt x="279" y="279"/>
                      </a:lnTo>
                      <a:lnTo>
                        <a:pt x="286" y="275"/>
                      </a:lnTo>
                      <a:lnTo>
                        <a:pt x="293" y="273"/>
                      </a:lnTo>
                      <a:lnTo>
                        <a:pt x="299" y="274"/>
                      </a:lnTo>
                      <a:lnTo>
                        <a:pt x="308" y="281"/>
                      </a:lnTo>
                      <a:lnTo>
                        <a:pt x="313" y="292"/>
                      </a:lnTo>
                      <a:lnTo>
                        <a:pt x="319" y="300"/>
                      </a:lnTo>
                      <a:lnTo>
                        <a:pt x="333" y="299"/>
                      </a:lnTo>
                      <a:lnTo>
                        <a:pt x="347" y="287"/>
                      </a:lnTo>
                      <a:lnTo>
                        <a:pt x="354" y="271"/>
                      </a:lnTo>
                      <a:lnTo>
                        <a:pt x="359" y="258"/>
                      </a:lnTo>
                      <a:lnTo>
                        <a:pt x="369" y="249"/>
                      </a:lnTo>
                      <a:lnTo>
                        <a:pt x="376" y="246"/>
                      </a:lnTo>
                      <a:lnTo>
                        <a:pt x="384" y="246"/>
                      </a:lnTo>
                      <a:lnTo>
                        <a:pt x="391" y="246"/>
                      </a:lnTo>
                      <a:lnTo>
                        <a:pt x="399" y="249"/>
                      </a:lnTo>
                      <a:lnTo>
                        <a:pt x="406" y="251"/>
                      </a:lnTo>
                      <a:lnTo>
                        <a:pt x="412" y="255"/>
                      </a:lnTo>
                      <a:lnTo>
                        <a:pt x="420" y="260"/>
                      </a:lnTo>
                      <a:lnTo>
                        <a:pt x="426" y="266"/>
                      </a:lnTo>
                      <a:lnTo>
                        <a:pt x="432" y="271"/>
                      </a:lnTo>
                      <a:lnTo>
                        <a:pt x="439" y="276"/>
                      </a:lnTo>
                      <a:lnTo>
                        <a:pt x="445" y="281"/>
                      </a:lnTo>
                      <a:lnTo>
                        <a:pt x="451" y="284"/>
                      </a:lnTo>
                      <a:lnTo>
                        <a:pt x="457" y="285"/>
                      </a:lnTo>
                      <a:lnTo>
                        <a:pt x="463" y="285"/>
                      </a:lnTo>
                      <a:lnTo>
                        <a:pt x="470" y="284"/>
                      </a:lnTo>
                      <a:lnTo>
                        <a:pt x="475" y="279"/>
                      </a:lnTo>
                      <a:lnTo>
                        <a:pt x="483" y="265"/>
                      </a:lnTo>
                      <a:lnTo>
                        <a:pt x="488" y="240"/>
                      </a:lnTo>
                      <a:lnTo>
                        <a:pt x="494" y="217"/>
                      </a:lnTo>
                      <a:lnTo>
                        <a:pt x="508" y="204"/>
                      </a:lnTo>
                      <a:lnTo>
                        <a:pt x="517" y="204"/>
                      </a:lnTo>
                      <a:lnTo>
                        <a:pt x="527" y="205"/>
                      </a:lnTo>
                      <a:lnTo>
                        <a:pt x="535" y="209"/>
                      </a:lnTo>
                      <a:lnTo>
                        <a:pt x="544" y="213"/>
                      </a:lnTo>
                      <a:lnTo>
                        <a:pt x="553" y="218"/>
                      </a:lnTo>
                      <a:lnTo>
                        <a:pt x="560" y="220"/>
                      </a:lnTo>
                      <a:lnTo>
                        <a:pt x="567" y="222"/>
                      </a:lnTo>
                      <a:lnTo>
                        <a:pt x="573" y="219"/>
                      </a:lnTo>
                      <a:lnTo>
                        <a:pt x="579" y="210"/>
                      </a:lnTo>
                      <a:lnTo>
                        <a:pt x="583" y="199"/>
                      </a:lnTo>
                      <a:lnTo>
                        <a:pt x="589" y="188"/>
                      </a:lnTo>
                      <a:lnTo>
                        <a:pt x="603" y="177"/>
                      </a:lnTo>
                      <a:lnTo>
                        <a:pt x="611" y="173"/>
                      </a:lnTo>
                      <a:lnTo>
                        <a:pt x="620" y="172"/>
                      </a:lnTo>
                      <a:lnTo>
                        <a:pt x="627" y="173"/>
                      </a:lnTo>
                      <a:lnTo>
                        <a:pt x="635" y="174"/>
                      </a:lnTo>
                      <a:lnTo>
                        <a:pt x="641" y="177"/>
                      </a:lnTo>
                      <a:lnTo>
                        <a:pt x="647" y="178"/>
                      </a:lnTo>
                      <a:lnTo>
                        <a:pt x="654" y="178"/>
                      </a:lnTo>
                      <a:lnTo>
                        <a:pt x="659" y="176"/>
                      </a:lnTo>
                      <a:lnTo>
                        <a:pt x="663" y="167"/>
                      </a:lnTo>
                      <a:lnTo>
                        <a:pt x="667" y="151"/>
                      </a:lnTo>
                      <a:lnTo>
                        <a:pt x="671" y="130"/>
                      </a:lnTo>
                      <a:lnTo>
                        <a:pt x="676" y="106"/>
                      </a:lnTo>
                      <a:lnTo>
                        <a:pt x="681" y="82"/>
                      </a:lnTo>
                      <a:lnTo>
                        <a:pt x="687" y="62"/>
                      </a:lnTo>
                      <a:lnTo>
                        <a:pt x="695" y="46"/>
                      </a:lnTo>
                      <a:lnTo>
                        <a:pt x="703" y="38"/>
                      </a:lnTo>
                      <a:lnTo>
                        <a:pt x="713" y="35"/>
                      </a:lnTo>
                      <a:lnTo>
                        <a:pt x="721" y="38"/>
                      </a:lnTo>
                      <a:lnTo>
                        <a:pt x="729" y="41"/>
                      </a:lnTo>
                      <a:lnTo>
                        <a:pt x="736" y="46"/>
                      </a:lnTo>
                      <a:lnTo>
                        <a:pt x="742" y="51"/>
                      </a:lnTo>
                      <a:lnTo>
                        <a:pt x="748" y="55"/>
                      </a:lnTo>
                      <a:lnTo>
                        <a:pt x="753" y="56"/>
                      </a:lnTo>
                      <a:lnTo>
                        <a:pt x="757" y="55"/>
                      </a:lnTo>
                      <a:lnTo>
                        <a:pt x="764" y="45"/>
                      </a:lnTo>
                      <a:lnTo>
                        <a:pt x="772" y="33"/>
                      </a:lnTo>
                      <a:lnTo>
                        <a:pt x="779" y="24"/>
                      </a:lnTo>
                      <a:lnTo>
                        <a:pt x="788" y="19"/>
                      </a:lnTo>
                      <a:lnTo>
                        <a:pt x="791" y="19"/>
                      </a:lnTo>
                      <a:lnTo>
                        <a:pt x="796" y="23"/>
                      </a:lnTo>
                      <a:lnTo>
                        <a:pt x="801" y="26"/>
                      </a:lnTo>
                      <a:lnTo>
                        <a:pt x="806" y="31"/>
                      </a:lnTo>
                      <a:lnTo>
                        <a:pt x="811" y="36"/>
                      </a:lnTo>
                      <a:lnTo>
                        <a:pt x="816" y="40"/>
                      </a:lnTo>
                      <a:lnTo>
                        <a:pt x="823" y="43"/>
                      </a:lnTo>
                      <a:lnTo>
                        <a:pt x="829" y="41"/>
                      </a:lnTo>
                      <a:lnTo>
                        <a:pt x="837" y="31"/>
                      </a:lnTo>
                      <a:lnTo>
                        <a:pt x="840" y="18"/>
                      </a:lnTo>
                      <a:lnTo>
                        <a:pt x="844" y="5"/>
                      </a:lnTo>
                      <a:lnTo>
                        <a:pt x="852" y="0"/>
                      </a:lnTo>
                      <a:lnTo>
                        <a:pt x="860" y="3"/>
                      </a:lnTo>
                      <a:lnTo>
                        <a:pt x="869" y="6"/>
                      </a:lnTo>
                      <a:lnTo>
                        <a:pt x="878" y="10"/>
                      </a:lnTo>
                      <a:lnTo>
                        <a:pt x="887" y="16"/>
                      </a:lnTo>
                      <a:lnTo>
                        <a:pt x="896" y="21"/>
                      </a:lnTo>
                      <a:lnTo>
                        <a:pt x="902" y="26"/>
                      </a:lnTo>
                      <a:lnTo>
                        <a:pt x="907" y="29"/>
                      </a:lnTo>
                      <a:lnTo>
                        <a:pt x="908" y="30"/>
                      </a:lnTo>
                      <a:lnTo>
                        <a:pt x="907" y="36"/>
                      </a:lnTo>
                      <a:lnTo>
                        <a:pt x="905" y="50"/>
                      </a:lnTo>
                      <a:lnTo>
                        <a:pt x="908" y="60"/>
                      </a:lnTo>
                      <a:lnTo>
                        <a:pt x="923" y="57"/>
                      </a:lnTo>
                      <a:lnTo>
                        <a:pt x="933" y="50"/>
                      </a:lnTo>
                      <a:lnTo>
                        <a:pt x="943" y="44"/>
                      </a:lnTo>
                      <a:lnTo>
                        <a:pt x="953" y="36"/>
                      </a:lnTo>
                      <a:lnTo>
                        <a:pt x="963" y="29"/>
                      </a:lnTo>
                      <a:lnTo>
                        <a:pt x="973" y="24"/>
                      </a:lnTo>
                      <a:lnTo>
                        <a:pt x="982" y="19"/>
                      </a:lnTo>
                      <a:lnTo>
                        <a:pt x="990" y="16"/>
                      </a:lnTo>
                      <a:lnTo>
                        <a:pt x="999" y="16"/>
                      </a:lnTo>
                      <a:lnTo>
                        <a:pt x="1006" y="18"/>
                      </a:lnTo>
                      <a:lnTo>
                        <a:pt x="1013" y="21"/>
                      </a:lnTo>
                      <a:lnTo>
                        <a:pt x="1018" y="26"/>
                      </a:lnTo>
                      <a:lnTo>
                        <a:pt x="1023" y="33"/>
                      </a:lnTo>
                      <a:lnTo>
                        <a:pt x="1026" y="39"/>
                      </a:lnTo>
                      <a:lnTo>
                        <a:pt x="1031" y="45"/>
                      </a:lnTo>
                      <a:lnTo>
                        <a:pt x="1035" y="50"/>
                      </a:lnTo>
                      <a:lnTo>
                        <a:pt x="1040" y="55"/>
                      </a:lnTo>
                      <a:lnTo>
                        <a:pt x="1045" y="61"/>
                      </a:lnTo>
                      <a:lnTo>
                        <a:pt x="1040" y="66"/>
                      </a:lnTo>
                      <a:lnTo>
                        <a:pt x="1031" y="72"/>
                      </a:lnTo>
                      <a:lnTo>
                        <a:pt x="1028" y="84"/>
                      </a:lnTo>
                      <a:lnTo>
                        <a:pt x="1033" y="96"/>
                      </a:lnTo>
                      <a:lnTo>
                        <a:pt x="1045" y="105"/>
                      </a:lnTo>
                      <a:lnTo>
                        <a:pt x="1056" y="113"/>
                      </a:lnTo>
                      <a:lnTo>
                        <a:pt x="1060" y="125"/>
                      </a:lnTo>
                      <a:lnTo>
                        <a:pt x="1057" y="130"/>
                      </a:lnTo>
                      <a:lnTo>
                        <a:pt x="1052" y="131"/>
                      </a:lnTo>
                      <a:lnTo>
                        <a:pt x="1046" y="132"/>
                      </a:lnTo>
                      <a:lnTo>
                        <a:pt x="1040" y="132"/>
                      </a:lnTo>
                      <a:lnTo>
                        <a:pt x="1033" y="132"/>
                      </a:lnTo>
                      <a:lnTo>
                        <a:pt x="1026" y="133"/>
                      </a:lnTo>
                      <a:lnTo>
                        <a:pt x="1023" y="136"/>
                      </a:lnTo>
                      <a:lnTo>
                        <a:pt x="1020" y="142"/>
                      </a:lnTo>
                      <a:lnTo>
                        <a:pt x="1023" y="159"/>
                      </a:lnTo>
                      <a:lnTo>
                        <a:pt x="1030" y="181"/>
                      </a:lnTo>
                      <a:lnTo>
                        <a:pt x="1036" y="202"/>
                      </a:lnTo>
                      <a:lnTo>
                        <a:pt x="1034" y="220"/>
                      </a:lnTo>
                      <a:lnTo>
                        <a:pt x="1029" y="228"/>
                      </a:lnTo>
                      <a:lnTo>
                        <a:pt x="1024" y="233"/>
                      </a:lnTo>
                      <a:lnTo>
                        <a:pt x="1019" y="236"/>
                      </a:lnTo>
                      <a:lnTo>
                        <a:pt x="1013" y="240"/>
                      </a:lnTo>
                      <a:lnTo>
                        <a:pt x="1006" y="241"/>
                      </a:lnTo>
                      <a:lnTo>
                        <a:pt x="1000" y="243"/>
                      </a:lnTo>
                      <a:lnTo>
                        <a:pt x="994" y="243"/>
                      </a:lnTo>
                      <a:lnTo>
                        <a:pt x="988" y="241"/>
                      </a:lnTo>
                      <a:lnTo>
                        <a:pt x="980" y="243"/>
                      </a:lnTo>
                      <a:lnTo>
                        <a:pt x="969" y="246"/>
                      </a:lnTo>
                      <a:lnTo>
                        <a:pt x="957" y="253"/>
                      </a:lnTo>
                      <a:lnTo>
                        <a:pt x="944" y="261"/>
                      </a:lnTo>
                      <a:lnTo>
                        <a:pt x="933" y="271"/>
                      </a:lnTo>
                      <a:lnTo>
                        <a:pt x="924" y="280"/>
                      </a:lnTo>
                      <a:lnTo>
                        <a:pt x="921" y="287"/>
                      </a:lnTo>
                      <a:lnTo>
                        <a:pt x="923" y="294"/>
                      </a:lnTo>
                      <a:lnTo>
                        <a:pt x="929" y="301"/>
                      </a:lnTo>
                      <a:lnTo>
                        <a:pt x="937" y="312"/>
                      </a:lnTo>
                      <a:lnTo>
                        <a:pt x="946" y="326"/>
                      </a:lnTo>
                      <a:lnTo>
                        <a:pt x="952" y="341"/>
                      </a:lnTo>
                      <a:lnTo>
                        <a:pt x="957" y="357"/>
                      </a:lnTo>
                      <a:lnTo>
                        <a:pt x="959" y="371"/>
                      </a:lnTo>
                      <a:lnTo>
                        <a:pt x="958" y="382"/>
                      </a:lnTo>
                      <a:lnTo>
                        <a:pt x="951" y="388"/>
                      </a:lnTo>
                      <a:lnTo>
                        <a:pt x="939" y="391"/>
                      </a:lnTo>
                      <a:lnTo>
                        <a:pt x="928" y="389"/>
                      </a:lnTo>
                      <a:lnTo>
                        <a:pt x="915" y="386"/>
                      </a:lnTo>
                      <a:lnTo>
                        <a:pt x="901" y="382"/>
                      </a:lnTo>
                      <a:lnTo>
                        <a:pt x="887" y="380"/>
                      </a:lnTo>
                      <a:lnTo>
                        <a:pt x="874" y="378"/>
                      </a:lnTo>
                      <a:lnTo>
                        <a:pt x="862" y="381"/>
                      </a:lnTo>
                      <a:lnTo>
                        <a:pt x="851" y="388"/>
                      </a:lnTo>
                      <a:lnTo>
                        <a:pt x="840" y="409"/>
                      </a:lnTo>
                      <a:lnTo>
                        <a:pt x="841" y="429"/>
                      </a:lnTo>
                      <a:lnTo>
                        <a:pt x="845" y="445"/>
                      </a:lnTo>
                      <a:lnTo>
                        <a:pt x="845" y="455"/>
                      </a:lnTo>
                      <a:lnTo>
                        <a:pt x="840" y="457"/>
                      </a:lnTo>
                      <a:lnTo>
                        <a:pt x="834" y="457"/>
                      </a:lnTo>
                      <a:lnTo>
                        <a:pt x="826" y="454"/>
                      </a:lnTo>
                      <a:lnTo>
                        <a:pt x="816" y="452"/>
                      </a:lnTo>
                      <a:lnTo>
                        <a:pt x="808" y="449"/>
                      </a:lnTo>
                      <a:lnTo>
                        <a:pt x="799" y="448"/>
                      </a:lnTo>
                      <a:lnTo>
                        <a:pt x="790" y="447"/>
                      </a:lnTo>
                      <a:lnTo>
                        <a:pt x="784" y="448"/>
                      </a:lnTo>
                      <a:lnTo>
                        <a:pt x="775" y="458"/>
                      </a:lnTo>
                      <a:lnTo>
                        <a:pt x="769" y="475"/>
                      </a:lnTo>
                      <a:lnTo>
                        <a:pt x="765" y="495"/>
                      </a:lnTo>
                      <a:lnTo>
                        <a:pt x="762" y="511"/>
                      </a:lnTo>
                      <a:lnTo>
                        <a:pt x="757" y="518"/>
                      </a:lnTo>
                      <a:lnTo>
                        <a:pt x="749" y="523"/>
                      </a:lnTo>
                      <a:lnTo>
                        <a:pt x="738" y="527"/>
                      </a:lnTo>
                      <a:lnTo>
                        <a:pt x="726" y="531"/>
                      </a:lnTo>
                      <a:lnTo>
                        <a:pt x="712" y="535"/>
                      </a:lnTo>
                      <a:lnTo>
                        <a:pt x="700" y="537"/>
                      </a:lnTo>
                      <a:lnTo>
                        <a:pt x="690" y="540"/>
                      </a:lnTo>
                      <a:lnTo>
                        <a:pt x="681" y="542"/>
                      </a:lnTo>
                      <a:lnTo>
                        <a:pt x="673" y="556"/>
                      </a:lnTo>
                      <a:lnTo>
                        <a:pt x="673" y="582"/>
                      </a:lnTo>
                      <a:lnTo>
                        <a:pt x="673" y="608"/>
                      </a:lnTo>
                      <a:lnTo>
                        <a:pt x="665" y="627"/>
                      </a:lnTo>
                      <a:lnTo>
                        <a:pt x="655" y="629"/>
                      </a:lnTo>
                      <a:lnTo>
                        <a:pt x="642" y="627"/>
                      </a:lnTo>
                      <a:lnTo>
                        <a:pt x="626" y="622"/>
                      </a:lnTo>
                      <a:lnTo>
                        <a:pt x="610" y="616"/>
                      </a:lnTo>
                      <a:lnTo>
                        <a:pt x="594" y="610"/>
                      </a:lnTo>
                      <a:lnTo>
                        <a:pt x="579" y="603"/>
                      </a:lnTo>
                      <a:lnTo>
                        <a:pt x="568" y="600"/>
                      </a:lnTo>
                      <a:lnTo>
                        <a:pt x="560" y="600"/>
                      </a:lnTo>
                      <a:lnTo>
                        <a:pt x="555" y="607"/>
                      </a:lnTo>
                      <a:lnTo>
                        <a:pt x="553" y="621"/>
                      </a:lnTo>
                      <a:lnTo>
                        <a:pt x="548" y="634"/>
                      </a:lnTo>
                      <a:lnTo>
                        <a:pt x="538" y="647"/>
                      </a:lnTo>
                      <a:lnTo>
                        <a:pt x="529" y="649"/>
                      </a:lnTo>
                      <a:lnTo>
                        <a:pt x="518" y="649"/>
                      </a:lnTo>
                      <a:lnTo>
                        <a:pt x="506" y="647"/>
                      </a:lnTo>
                      <a:lnTo>
                        <a:pt x="492" y="642"/>
                      </a:lnTo>
                      <a:lnTo>
                        <a:pt x="480" y="636"/>
                      </a:lnTo>
                      <a:lnTo>
                        <a:pt x="467" y="631"/>
                      </a:lnTo>
                      <a:lnTo>
                        <a:pt x="457" y="626"/>
                      </a:lnTo>
                      <a:lnTo>
                        <a:pt x="450" y="623"/>
                      </a:lnTo>
                      <a:lnTo>
                        <a:pt x="444" y="624"/>
                      </a:lnTo>
                      <a:lnTo>
                        <a:pt x="439" y="629"/>
                      </a:lnTo>
                      <a:lnTo>
                        <a:pt x="434" y="638"/>
                      </a:lnTo>
                      <a:lnTo>
                        <a:pt x="430" y="649"/>
                      </a:lnTo>
                      <a:lnTo>
                        <a:pt x="425" y="661"/>
                      </a:lnTo>
                      <a:lnTo>
                        <a:pt x="420" y="671"/>
                      </a:lnTo>
                      <a:lnTo>
                        <a:pt x="415" y="680"/>
                      </a:lnTo>
                      <a:lnTo>
                        <a:pt x="409" y="687"/>
                      </a:lnTo>
                      <a:lnTo>
                        <a:pt x="401" y="689"/>
                      </a:lnTo>
                      <a:lnTo>
                        <a:pt x="390" y="688"/>
                      </a:lnTo>
                      <a:lnTo>
                        <a:pt x="376" y="685"/>
                      </a:lnTo>
                      <a:lnTo>
                        <a:pt x="363" y="680"/>
                      </a:lnTo>
                      <a:lnTo>
                        <a:pt x="349" y="675"/>
                      </a:lnTo>
                      <a:lnTo>
                        <a:pt x="335" y="671"/>
                      </a:lnTo>
                      <a:lnTo>
                        <a:pt x="324" y="668"/>
                      </a:lnTo>
                      <a:lnTo>
                        <a:pt x="317" y="667"/>
                      </a:lnTo>
                      <a:lnTo>
                        <a:pt x="312" y="669"/>
                      </a:lnTo>
                      <a:lnTo>
                        <a:pt x="307" y="673"/>
                      </a:lnTo>
                      <a:lnTo>
                        <a:pt x="302" y="678"/>
                      </a:lnTo>
                      <a:lnTo>
                        <a:pt x="297" y="683"/>
                      </a:lnTo>
                      <a:lnTo>
                        <a:pt x="291" y="688"/>
                      </a:lnTo>
                      <a:lnTo>
                        <a:pt x="284" y="693"/>
                      </a:lnTo>
                      <a:lnTo>
                        <a:pt x="277" y="697"/>
                      </a:lnTo>
                      <a:lnTo>
                        <a:pt x="267" y="698"/>
                      </a:lnTo>
                      <a:lnTo>
                        <a:pt x="258" y="697"/>
                      </a:lnTo>
                      <a:lnTo>
                        <a:pt x="251" y="692"/>
                      </a:lnTo>
                      <a:lnTo>
                        <a:pt x="246" y="683"/>
                      </a:lnTo>
                      <a:lnTo>
                        <a:pt x="241" y="673"/>
                      </a:lnTo>
                      <a:lnTo>
                        <a:pt x="236" y="663"/>
                      </a:lnTo>
                      <a:lnTo>
                        <a:pt x="231" y="653"/>
                      </a:lnTo>
                      <a:lnTo>
                        <a:pt x="224" y="644"/>
                      </a:lnTo>
                      <a:lnTo>
                        <a:pt x="215" y="639"/>
                      </a:lnTo>
                      <a:lnTo>
                        <a:pt x="205" y="636"/>
                      </a:lnTo>
                      <a:lnTo>
                        <a:pt x="195" y="632"/>
                      </a:lnTo>
                      <a:lnTo>
                        <a:pt x="185" y="628"/>
                      </a:lnTo>
                      <a:lnTo>
                        <a:pt x="175" y="624"/>
                      </a:lnTo>
                      <a:lnTo>
                        <a:pt x="164" y="622"/>
                      </a:lnTo>
                      <a:lnTo>
                        <a:pt x="153" y="620"/>
                      </a:lnTo>
                      <a:lnTo>
                        <a:pt x="143" y="618"/>
                      </a:lnTo>
                      <a:lnTo>
                        <a:pt x="132" y="618"/>
                      </a:lnTo>
                      <a:lnTo>
                        <a:pt x="122" y="617"/>
                      </a:lnTo>
                      <a:lnTo>
                        <a:pt x="114" y="612"/>
                      </a:lnTo>
                      <a:lnTo>
                        <a:pt x="109" y="607"/>
                      </a:lnTo>
                      <a:lnTo>
                        <a:pt x="104" y="600"/>
                      </a:lnTo>
                      <a:lnTo>
                        <a:pt x="101" y="592"/>
                      </a:lnTo>
                      <a:lnTo>
                        <a:pt x="97" y="585"/>
                      </a:lnTo>
                      <a:lnTo>
                        <a:pt x="93" y="578"/>
                      </a:lnTo>
                      <a:lnTo>
                        <a:pt x="89" y="572"/>
                      </a:lnTo>
                      <a:lnTo>
                        <a:pt x="83" y="566"/>
                      </a:lnTo>
                      <a:lnTo>
                        <a:pt x="76" y="556"/>
                      </a:lnTo>
                      <a:lnTo>
                        <a:pt x="66" y="544"/>
                      </a:lnTo>
                      <a:lnTo>
                        <a:pt x="55" y="529"/>
                      </a:lnTo>
                      <a:lnTo>
                        <a:pt x="42" y="513"/>
                      </a:lnTo>
                      <a:lnTo>
                        <a:pt x="28" y="496"/>
                      </a:lnTo>
                      <a:lnTo>
                        <a:pt x="15" y="480"/>
                      </a:lnTo>
                      <a:lnTo>
                        <a:pt x="0" y="465"/>
                      </a:lnTo>
                      <a:close/>
                    </a:path>
                  </a:pathLst>
                </a:custGeom>
                <a:solidFill>
                  <a:srgbClr val="63f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273560" y="6232320"/>
                  <a:ext cx="54000" cy="339840"/>
                </a:xfrm>
                <a:custGeom>
                  <a:avLst/>
                  <a:gdLst/>
                  <a:ahLst/>
                  <a:rect l="l" t="t" r="r" b="b"/>
                  <a:pathLst>
                    <a:path w="34" h="214">
                      <a:moveTo>
                        <a:pt x="0" y="214"/>
                      </a:moveTo>
                      <a:lnTo>
                        <a:pt x="17" y="184"/>
                      </a:lnTo>
                      <a:lnTo>
                        <a:pt x="22" y="127"/>
                      </a:lnTo>
                      <a:lnTo>
                        <a:pt x="18" y="59"/>
                      </a:lnTo>
                      <a:lnTo>
                        <a:pt x="10" y="0"/>
                      </a:lnTo>
                      <a:lnTo>
                        <a:pt x="28" y="45"/>
                      </a:lnTo>
                      <a:lnTo>
                        <a:pt x="34" y="107"/>
                      </a:lnTo>
                      <a:lnTo>
                        <a:pt x="33" y="168"/>
                      </a:lnTo>
                      <a:lnTo>
                        <a:pt x="27" y="203"/>
                      </a:lnTo>
                      <a:lnTo>
                        <a:pt x="15" y="207"/>
                      </a:lnTo>
                      <a:lnTo>
                        <a:pt x="12" y="210"/>
                      </a:lnTo>
                      <a:lnTo>
                        <a:pt x="9" y="211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496040" y="6114960"/>
                  <a:ext cx="168120" cy="320760"/>
                </a:xfrm>
                <a:custGeom>
                  <a:avLst/>
                  <a:gdLst/>
                  <a:ahLst/>
                  <a:rect l="l" t="t" r="r" b="b"/>
                  <a:pathLst>
                    <a:path w="106" h="202">
                      <a:moveTo>
                        <a:pt x="13" y="202"/>
                      </a:moveTo>
                      <a:lnTo>
                        <a:pt x="18" y="196"/>
                      </a:lnTo>
                      <a:lnTo>
                        <a:pt x="26" y="186"/>
                      </a:lnTo>
                      <a:lnTo>
                        <a:pt x="33" y="175"/>
                      </a:lnTo>
                      <a:lnTo>
                        <a:pt x="42" y="162"/>
                      </a:lnTo>
                      <a:lnTo>
                        <a:pt x="49" y="150"/>
                      </a:lnTo>
                      <a:lnTo>
                        <a:pt x="57" y="137"/>
                      </a:lnTo>
                      <a:lnTo>
                        <a:pt x="62" y="127"/>
                      </a:lnTo>
                      <a:lnTo>
                        <a:pt x="63" y="121"/>
                      </a:lnTo>
                      <a:lnTo>
                        <a:pt x="61" y="115"/>
                      </a:lnTo>
                      <a:lnTo>
                        <a:pt x="54" y="106"/>
                      </a:lnTo>
                      <a:lnTo>
                        <a:pt x="46" y="95"/>
                      </a:lnTo>
                      <a:lnTo>
                        <a:pt x="36" y="83"/>
                      </a:lnTo>
                      <a:lnTo>
                        <a:pt x="23" y="71"/>
                      </a:lnTo>
                      <a:lnTo>
                        <a:pt x="13" y="60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8" y="53"/>
                      </a:lnTo>
                      <a:lnTo>
                        <a:pt x="19" y="60"/>
                      </a:lnTo>
                      <a:lnTo>
                        <a:pt x="31" y="69"/>
                      </a:lnTo>
                      <a:lnTo>
                        <a:pt x="43" y="79"/>
                      </a:lnTo>
                      <a:lnTo>
                        <a:pt x="53" y="87"/>
                      </a:lnTo>
                      <a:lnTo>
                        <a:pt x="63" y="96"/>
                      </a:lnTo>
                      <a:lnTo>
                        <a:pt x="69" y="102"/>
                      </a:lnTo>
                      <a:lnTo>
                        <a:pt x="73" y="107"/>
                      </a:lnTo>
                      <a:lnTo>
                        <a:pt x="77" y="99"/>
                      </a:lnTo>
                      <a:lnTo>
                        <a:pt x="82" y="85"/>
                      </a:lnTo>
                      <a:lnTo>
                        <a:pt x="88" y="70"/>
                      </a:lnTo>
                      <a:lnTo>
                        <a:pt x="94" y="53"/>
                      </a:lnTo>
                      <a:lnTo>
                        <a:pt x="100" y="36"/>
                      </a:lnTo>
                      <a:lnTo>
                        <a:pt x="105" y="22"/>
                      </a:lnTo>
                      <a:lnTo>
                        <a:pt x="106" y="9"/>
                      </a:lnTo>
                      <a:lnTo>
                        <a:pt x="106" y="0"/>
                      </a:lnTo>
                      <a:lnTo>
                        <a:pt x="106" y="17"/>
                      </a:lnTo>
                      <a:lnTo>
                        <a:pt x="103" y="40"/>
                      </a:lnTo>
                      <a:lnTo>
                        <a:pt x="95" y="66"/>
                      </a:lnTo>
                      <a:lnTo>
                        <a:pt x="87" y="95"/>
                      </a:lnTo>
                      <a:lnTo>
                        <a:pt x="77" y="122"/>
                      </a:lnTo>
                      <a:lnTo>
                        <a:pt x="67" y="146"/>
                      </a:lnTo>
                      <a:lnTo>
                        <a:pt x="59" y="165"/>
                      </a:lnTo>
                      <a:lnTo>
                        <a:pt x="54" y="173"/>
                      </a:lnTo>
                      <a:lnTo>
                        <a:pt x="51" y="177"/>
                      </a:lnTo>
                      <a:lnTo>
                        <a:pt x="44" y="181"/>
                      </a:lnTo>
                      <a:lnTo>
                        <a:pt x="38" y="186"/>
                      </a:lnTo>
                      <a:lnTo>
                        <a:pt x="31" y="191"/>
                      </a:lnTo>
                      <a:lnTo>
                        <a:pt x="24" y="194"/>
                      </a:lnTo>
                      <a:lnTo>
                        <a:pt x="18" y="198"/>
                      </a:lnTo>
                      <a:lnTo>
                        <a:pt x="15" y="201"/>
                      </a:lnTo>
                      <a:lnTo>
                        <a:pt x="13" y="20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19760" y="6322680"/>
                  <a:ext cx="108000" cy="308160"/>
                </a:xfrm>
                <a:custGeom>
                  <a:avLst/>
                  <a:gdLst/>
                  <a:ahLst/>
                  <a:rect l="l" t="t" r="r" b="b"/>
                  <a:pathLst>
                    <a:path w="68" h="194">
                      <a:moveTo>
                        <a:pt x="0" y="193"/>
                      </a:moveTo>
                      <a:lnTo>
                        <a:pt x="8" y="183"/>
                      </a:lnTo>
                      <a:lnTo>
                        <a:pt x="19" y="160"/>
                      </a:lnTo>
                      <a:lnTo>
                        <a:pt x="32" y="131"/>
                      </a:lnTo>
                      <a:lnTo>
                        <a:pt x="46" y="97"/>
                      </a:lnTo>
                      <a:lnTo>
                        <a:pt x="57" y="63"/>
                      </a:lnTo>
                      <a:lnTo>
                        <a:pt x="66" y="34"/>
                      </a:lnTo>
                      <a:lnTo>
                        <a:pt x="68" y="11"/>
                      </a:lnTo>
                      <a:lnTo>
                        <a:pt x="63" y="0"/>
                      </a:lnTo>
                      <a:lnTo>
                        <a:pt x="67" y="19"/>
                      </a:lnTo>
                      <a:lnTo>
                        <a:pt x="65" y="45"/>
                      </a:lnTo>
                      <a:lnTo>
                        <a:pt x="60" y="76"/>
                      </a:lnTo>
                      <a:lnTo>
                        <a:pt x="52" y="108"/>
                      </a:lnTo>
                      <a:lnTo>
                        <a:pt x="44" y="139"/>
                      </a:lnTo>
                      <a:lnTo>
                        <a:pt x="34" y="165"/>
                      </a:lnTo>
                      <a:lnTo>
                        <a:pt x="25" y="184"/>
                      </a:lnTo>
                      <a:lnTo>
                        <a:pt x="19" y="193"/>
                      </a:lnTo>
                      <a:lnTo>
                        <a:pt x="11" y="194"/>
                      </a:lnTo>
                      <a:lnTo>
                        <a:pt x="8" y="194"/>
                      </a:lnTo>
                      <a:lnTo>
                        <a:pt x="5" y="194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676680" y="5884560"/>
                  <a:ext cx="1568520" cy="793800"/>
                </a:xfrm>
                <a:custGeom>
                  <a:avLst/>
                  <a:gdLst/>
                  <a:ahLst/>
                  <a:rect l="l" t="t" r="r" b="b"/>
                  <a:pathLst>
                    <a:path w="988" h="500">
                      <a:moveTo>
                        <a:pt x="0" y="410"/>
                      </a:moveTo>
                      <a:lnTo>
                        <a:pt x="1" y="400"/>
                      </a:lnTo>
                      <a:lnTo>
                        <a:pt x="10" y="389"/>
                      </a:lnTo>
                      <a:lnTo>
                        <a:pt x="19" y="380"/>
                      </a:lnTo>
                      <a:lnTo>
                        <a:pt x="22" y="377"/>
                      </a:lnTo>
                      <a:lnTo>
                        <a:pt x="31" y="389"/>
                      </a:lnTo>
                      <a:lnTo>
                        <a:pt x="41" y="402"/>
                      </a:lnTo>
                      <a:lnTo>
                        <a:pt x="52" y="413"/>
                      </a:lnTo>
                      <a:lnTo>
                        <a:pt x="63" y="423"/>
                      </a:lnTo>
                      <a:lnTo>
                        <a:pt x="76" y="433"/>
                      </a:lnTo>
                      <a:lnTo>
                        <a:pt x="89" y="441"/>
                      </a:lnTo>
                      <a:lnTo>
                        <a:pt x="104" y="449"/>
                      </a:lnTo>
                      <a:lnTo>
                        <a:pt x="120" y="455"/>
                      </a:lnTo>
                      <a:lnTo>
                        <a:pt x="137" y="460"/>
                      </a:lnTo>
                      <a:lnTo>
                        <a:pt x="156" y="465"/>
                      </a:lnTo>
                      <a:lnTo>
                        <a:pt x="176" y="468"/>
                      </a:lnTo>
                      <a:lnTo>
                        <a:pt x="199" y="469"/>
                      </a:lnTo>
                      <a:lnTo>
                        <a:pt x="222" y="468"/>
                      </a:lnTo>
                      <a:lnTo>
                        <a:pt x="248" y="466"/>
                      </a:lnTo>
                      <a:lnTo>
                        <a:pt x="277" y="463"/>
                      </a:lnTo>
                      <a:lnTo>
                        <a:pt x="307" y="458"/>
                      </a:lnTo>
                      <a:lnTo>
                        <a:pt x="342" y="448"/>
                      </a:lnTo>
                      <a:lnTo>
                        <a:pt x="381" y="431"/>
                      </a:lnTo>
                      <a:lnTo>
                        <a:pt x="425" y="409"/>
                      </a:lnTo>
                      <a:lnTo>
                        <a:pt x="472" y="382"/>
                      </a:lnTo>
                      <a:lnTo>
                        <a:pt x="522" y="351"/>
                      </a:lnTo>
                      <a:lnTo>
                        <a:pt x="574" y="317"/>
                      </a:lnTo>
                      <a:lnTo>
                        <a:pt x="626" y="280"/>
                      </a:lnTo>
                      <a:lnTo>
                        <a:pt x="678" y="241"/>
                      </a:lnTo>
                      <a:lnTo>
                        <a:pt x="729" y="204"/>
                      </a:lnTo>
                      <a:lnTo>
                        <a:pt x="779" y="165"/>
                      </a:lnTo>
                      <a:lnTo>
                        <a:pt x="825" y="129"/>
                      </a:lnTo>
                      <a:lnTo>
                        <a:pt x="869" y="94"/>
                      </a:lnTo>
                      <a:lnTo>
                        <a:pt x="907" y="63"/>
                      </a:lnTo>
                      <a:lnTo>
                        <a:pt x="941" y="37"/>
                      </a:lnTo>
                      <a:lnTo>
                        <a:pt x="968" y="16"/>
                      </a:lnTo>
                      <a:lnTo>
                        <a:pt x="988" y="0"/>
                      </a:lnTo>
                      <a:lnTo>
                        <a:pt x="968" y="22"/>
                      </a:lnTo>
                      <a:lnTo>
                        <a:pt x="941" y="51"/>
                      </a:lnTo>
                      <a:lnTo>
                        <a:pt x="906" y="83"/>
                      </a:lnTo>
                      <a:lnTo>
                        <a:pt x="865" y="119"/>
                      </a:lnTo>
                      <a:lnTo>
                        <a:pt x="819" y="159"/>
                      </a:lnTo>
                      <a:lnTo>
                        <a:pt x="769" y="200"/>
                      </a:lnTo>
                      <a:lnTo>
                        <a:pt x="717" y="242"/>
                      </a:lnTo>
                      <a:lnTo>
                        <a:pt x="663" y="285"/>
                      </a:lnTo>
                      <a:lnTo>
                        <a:pt x="610" y="325"/>
                      </a:lnTo>
                      <a:lnTo>
                        <a:pt x="555" y="363"/>
                      </a:lnTo>
                      <a:lnTo>
                        <a:pt x="504" y="399"/>
                      </a:lnTo>
                      <a:lnTo>
                        <a:pt x="455" y="430"/>
                      </a:lnTo>
                      <a:lnTo>
                        <a:pt x="410" y="456"/>
                      </a:lnTo>
                      <a:lnTo>
                        <a:pt x="369" y="476"/>
                      </a:lnTo>
                      <a:lnTo>
                        <a:pt x="335" y="490"/>
                      </a:lnTo>
                      <a:lnTo>
                        <a:pt x="308" y="495"/>
                      </a:lnTo>
                      <a:lnTo>
                        <a:pt x="286" y="496"/>
                      </a:lnTo>
                      <a:lnTo>
                        <a:pt x="263" y="497"/>
                      </a:lnTo>
                      <a:lnTo>
                        <a:pt x="241" y="499"/>
                      </a:lnTo>
                      <a:lnTo>
                        <a:pt x="220" y="499"/>
                      </a:lnTo>
                      <a:lnTo>
                        <a:pt x="199" y="500"/>
                      </a:lnTo>
                      <a:lnTo>
                        <a:pt x="179" y="499"/>
                      </a:lnTo>
                      <a:lnTo>
                        <a:pt x="159" y="497"/>
                      </a:lnTo>
                      <a:lnTo>
                        <a:pt x="139" y="495"/>
                      </a:lnTo>
                      <a:lnTo>
                        <a:pt x="120" y="491"/>
                      </a:lnTo>
                      <a:lnTo>
                        <a:pt x="102" y="486"/>
                      </a:lnTo>
                      <a:lnTo>
                        <a:pt x="83" y="479"/>
                      </a:lnTo>
                      <a:lnTo>
                        <a:pt x="66" y="470"/>
                      </a:lnTo>
                      <a:lnTo>
                        <a:pt x="48" y="459"/>
                      </a:lnTo>
                      <a:lnTo>
                        <a:pt x="32" y="445"/>
                      </a:lnTo>
                      <a:lnTo>
                        <a:pt x="16" y="429"/>
                      </a:lnTo>
                      <a:lnTo>
                        <a:pt x="0" y="41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799160" y="5865480"/>
                  <a:ext cx="243000" cy="365400"/>
                </a:xfrm>
                <a:custGeom>
                  <a:avLst/>
                  <a:gdLst/>
                  <a:ahLst/>
                  <a:rect l="l" t="t" r="r" b="b"/>
                  <a:pathLst>
                    <a:path w="153" h="230">
                      <a:moveTo>
                        <a:pt x="0" y="230"/>
                      </a:moveTo>
                      <a:lnTo>
                        <a:pt x="9" y="221"/>
                      </a:lnTo>
                      <a:lnTo>
                        <a:pt x="17" y="207"/>
                      </a:lnTo>
                      <a:lnTo>
                        <a:pt x="27" y="190"/>
                      </a:lnTo>
                      <a:lnTo>
                        <a:pt x="36" y="170"/>
                      </a:lnTo>
                      <a:lnTo>
                        <a:pt x="43" y="150"/>
                      </a:lnTo>
                      <a:lnTo>
                        <a:pt x="48" y="133"/>
                      </a:lnTo>
                      <a:lnTo>
                        <a:pt x="51" y="118"/>
                      </a:lnTo>
                      <a:lnTo>
                        <a:pt x="50" y="108"/>
                      </a:lnTo>
                      <a:lnTo>
                        <a:pt x="45" y="100"/>
                      </a:lnTo>
                      <a:lnTo>
                        <a:pt x="40" y="89"/>
                      </a:lnTo>
                      <a:lnTo>
                        <a:pt x="34" y="78"/>
                      </a:lnTo>
                      <a:lnTo>
                        <a:pt x="27" y="65"/>
                      </a:lnTo>
                      <a:lnTo>
                        <a:pt x="20" y="53"/>
                      </a:lnTo>
                      <a:lnTo>
                        <a:pt x="14" y="41"/>
                      </a:lnTo>
                      <a:lnTo>
                        <a:pt x="7" y="31"/>
                      </a:lnTo>
                      <a:lnTo>
                        <a:pt x="2" y="23"/>
                      </a:lnTo>
                      <a:lnTo>
                        <a:pt x="11" y="33"/>
                      </a:lnTo>
                      <a:lnTo>
                        <a:pt x="21" y="46"/>
                      </a:lnTo>
                      <a:lnTo>
                        <a:pt x="30" y="60"/>
                      </a:lnTo>
                      <a:lnTo>
                        <a:pt x="37" y="75"/>
                      </a:lnTo>
                      <a:lnTo>
                        <a:pt x="46" y="88"/>
                      </a:lnTo>
                      <a:lnTo>
                        <a:pt x="52" y="99"/>
                      </a:lnTo>
                      <a:lnTo>
                        <a:pt x="60" y="105"/>
                      </a:lnTo>
                      <a:lnTo>
                        <a:pt x="65" y="105"/>
                      </a:lnTo>
                      <a:lnTo>
                        <a:pt x="75" y="87"/>
                      </a:lnTo>
                      <a:lnTo>
                        <a:pt x="81" y="54"/>
                      </a:lnTo>
                      <a:lnTo>
                        <a:pt x="84" y="21"/>
                      </a:lnTo>
                      <a:lnTo>
                        <a:pt x="84" y="0"/>
                      </a:lnTo>
                      <a:lnTo>
                        <a:pt x="87" y="32"/>
                      </a:lnTo>
                      <a:lnTo>
                        <a:pt x="82" y="70"/>
                      </a:lnTo>
                      <a:lnTo>
                        <a:pt x="73" y="105"/>
                      </a:lnTo>
                      <a:lnTo>
                        <a:pt x="62" y="128"/>
                      </a:lnTo>
                      <a:lnTo>
                        <a:pt x="72" y="121"/>
                      </a:lnTo>
                      <a:lnTo>
                        <a:pt x="86" y="110"/>
                      </a:lnTo>
                      <a:lnTo>
                        <a:pt x="101" y="95"/>
                      </a:lnTo>
                      <a:lnTo>
                        <a:pt x="117" y="78"/>
                      </a:lnTo>
                      <a:lnTo>
                        <a:pt x="132" y="59"/>
                      </a:lnTo>
                      <a:lnTo>
                        <a:pt x="144" y="42"/>
                      </a:lnTo>
                      <a:lnTo>
                        <a:pt x="152" y="26"/>
                      </a:lnTo>
                      <a:lnTo>
                        <a:pt x="153" y="12"/>
                      </a:lnTo>
                      <a:lnTo>
                        <a:pt x="147" y="33"/>
                      </a:lnTo>
                      <a:lnTo>
                        <a:pt x="137" y="54"/>
                      </a:lnTo>
                      <a:lnTo>
                        <a:pt x="123" y="75"/>
                      </a:lnTo>
                      <a:lnTo>
                        <a:pt x="107" y="94"/>
                      </a:lnTo>
                      <a:lnTo>
                        <a:pt x="91" y="111"/>
                      </a:lnTo>
                      <a:lnTo>
                        <a:pt x="77" y="126"/>
                      </a:lnTo>
                      <a:lnTo>
                        <a:pt x="67" y="140"/>
                      </a:lnTo>
                      <a:lnTo>
                        <a:pt x="61" y="150"/>
                      </a:lnTo>
                      <a:lnTo>
                        <a:pt x="53" y="166"/>
                      </a:lnTo>
                      <a:lnTo>
                        <a:pt x="46" y="182"/>
                      </a:lnTo>
                      <a:lnTo>
                        <a:pt x="39" y="196"/>
                      </a:lnTo>
                      <a:lnTo>
                        <a:pt x="34" y="207"/>
                      </a:lnTo>
                      <a:lnTo>
                        <a:pt x="24" y="213"/>
                      </a:lnTo>
                      <a:lnTo>
                        <a:pt x="16" y="218"/>
                      </a:lnTo>
                      <a:lnTo>
                        <a:pt x="7" y="22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029120" y="6676920"/>
                  <a:ext cx="432000" cy="189000"/>
                </a:xfrm>
                <a:custGeom>
                  <a:avLst/>
                  <a:gdLst/>
                  <a:ahLst/>
                  <a:rect l="l" t="t" r="r" b="b"/>
                  <a:pathLst>
                    <a:path w="272" h="119">
                      <a:moveTo>
                        <a:pt x="0" y="3"/>
                      </a:moveTo>
                      <a:lnTo>
                        <a:pt x="7" y="11"/>
                      </a:lnTo>
                      <a:lnTo>
                        <a:pt x="21" y="26"/>
                      </a:lnTo>
                      <a:lnTo>
                        <a:pt x="41" y="44"/>
                      </a:lnTo>
                      <a:lnTo>
                        <a:pt x="66" y="64"/>
                      </a:lnTo>
                      <a:lnTo>
                        <a:pt x="92" y="84"/>
                      </a:lnTo>
                      <a:lnTo>
                        <a:pt x="118" y="100"/>
                      </a:lnTo>
                      <a:lnTo>
                        <a:pt x="142" y="114"/>
                      </a:lnTo>
                      <a:lnTo>
                        <a:pt x="162" y="119"/>
                      </a:lnTo>
                      <a:lnTo>
                        <a:pt x="153" y="113"/>
                      </a:lnTo>
                      <a:lnTo>
                        <a:pt x="143" y="107"/>
                      </a:lnTo>
                      <a:lnTo>
                        <a:pt x="133" y="99"/>
                      </a:lnTo>
                      <a:lnTo>
                        <a:pt x="123" y="92"/>
                      </a:lnTo>
                      <a:lnTo>
                        <a:pt x="112" y="84"/>
                      </a:lnTo>
                      <a:lnTo>
                        <a:pt x="102" y="75"/>
                      </a:lnTo>
                      <a:lnTo>
                        <a:pt x="94" y="67"/>
                      </a:lnTo>
                      <a:lnTo>
                        <a:pt x="85" y="58"/>
                      </a:lnTo>
                      <a:lnTo>
                        <a:pt x="96" y="58"/>
                      </a:lnTo>
                      <a:lnTo>
                        <a:pt x="116" y="57"/>
                      </a:lnTo>
                      <a:lnTo>
                        <a:pt x="143" y="53"/>
                      </a:lnTo>
                      <a:lnTo>
                        <a:pt x="174" y="51"/>
                      </a:lnTo>
                      <a:lnTo>
                        <a:pt x="205" y="48"/>
                      </a:lnTo>
                      <a:lnTo>
                        <a:pt x="234" y="48"/>
                      </a:lnTo>
                      <a:lnTo>
                        <a:pt x="258" y="52"/>
                      </a:lnTo>
                      <a:lnTo>
                        <a:pt x="272" y="58"/>
                      </a:lnTo>
                      <a:lnTo>
                        <a:pt x="264" y="54"/>
                      </a:lnTo>
                      <a:lnTo>
                        <a:pt x="253" y="52"/>
                      </a:lnTo>
                      <a:lnTo>
                        <a:pt x="240" y="49"/>
                      </a:lnTo>
                      <a:lnTo>
                        <a:pt x="227" y="47"/>
                      </a:lnTo>
                      <a:lnTo>
                        <a:pt x="212" y="47"/>
                      </a:lnTo>
                      <a:lnTo>
                        <a:pt x="197" y="46"/>
                      </a:lnTo>
                      <a:lnTo>
                        <a:pt x="181" y="46"/>
                      </a:lnTo>
                      <a:lnTo>
                        <a:pt x="166" y="46"/>
                      </a:lnTo>
                      <a:lnTo>
                        <a:pt x="149" y="46"/>
                      </a:lnTo>
                      <a:lnTo>
                        <a:pt x="135" y="46"/>
                      </a:lnTo>
                      <a:lnTo>
                        <a:pt x="121" y="47"/>
                      </a:lnTo>
                      <a:lnTo>
                        <a:pt x="107" y="48"/>
                      </a:lnTo>
                      <a:lnTo>
                        <a:pt x="95" y="49"/>
                      </a:lnTo>
                      <a:lnTo>
                        <a:pt x="85" y="49"/>
                      </a:lnTo>
                      <a:lnTo>
                        <a:pt x="77" y="51"/>
                      </a:lnTo>
                      <a:lnTo>
                        <a:pt x="71" y="52"/>
                      </a:lnTo>
                      <a:lnTo>
                        <a:pt x="64" y="48"/>
                      </a:lnTo>
                      <a:lnTo>
                        <a:pt x="56" y="42"/>
                      </a:lnTo>
                      <a:lnTo>
                        <a:pt x="49" y="34"/>
                      </a:lnTo>
                      <a:lnTo>
                        <a:pt x="41" y="27"/>
                      </a:lnTo>
                      <a:lnTo>
                        <a:pt x="35" y="18"/>
                      </a:lnTo>
                      <a:lnTo>
                        <a:pt x="29" y="11"/>
                      </a:lnTo>
                      <a:lnTo>
                        <a:pt x="24" y="5"/>
                      </a:lnTo>
                      <a:lnTo>
                        <a:pt x="2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45200" y="6581520"/>
                  <a:ext cx="361800" cy="154080"/>
                </a:xfrm>
                <a:custGeom>
                  <a:avLst/>
                  <a:gdLst/>
                  <a:ahLst/>
                  <a:rect l="l" t="t" r="r" b="b"/>
                  <a:pathLst>
                    <a:path w="228" h="97">
                      <a:moveTo>
                        <a:pt x="0" y="12"/>
                      </a:moveTo>
                      <a:lnTo>
                        <a:pt x="6" y="15"/>
                      </a:lnTo>
                      <a:lnTo>
                        <a:pt x="15" y="20"/>
                      </a:lnTo>
                      <a:lnTo>
                        <a:pt x="26" y="25"/>
                      </a:lnTo>
                      <a:lnTo>
                        <a:pt x="39" y="32"/>
                      </a:lnTo>
                      <a:lnTo>
                        <a:pt x="51" y="40"/>
                      </a:lnTo>
                      <a:lnTo>
                        <a:pt x="66" y="47"/>
                      </a:lnTo>
                      <a:lnTo>
                        <a:pt x="82" y="56"/>
                      </a:lnTo>
                      <a:lnTo>
                        <a:pt x="98" y="63"/>
                      </a:lnTo>
                      <a:lnTo>
                        <a:pt x="114" y="72"/>
                      </a:lnTo>
                      <a:lnTo>
                        <a:pt x="132" y="78"/>
                      </a:lnTo>
                      <a:lnTo>
                        <a:pt x="149" y="86"/>
                      </a:lnTo>
                      <a:lnTo>
                        <a:pt x="165" y="91"/>
                      </a:lnTo>
                      <a:lnTo>
                        <a:pt x="183" y="94"/>
                      </a:lnTo>
                      <a:lnTo>
                        <a:pt x="198" y="97"/>
                      </a:lnTo>
                      <a:lnTo>
                        <a:pt x="214" y="97"/>
                      </a:lnTo>
                      <a:lnTo>
                        <a:pt x="228" y="94"/>
                      </a:lnTo>
                      <a:lnTo>
                        <a:pt x="215" y="94"/>
                      </a:lnTo>
                      <a:lnTo>
                        <a:pt x="203" y="93"/>
                      </a:lnTo>
                      <a:lnTo>
                        <a:pt x="188" y="89"/>
                      </a:lnTo>
                      <a:lnTo>
                        <a:pt x="172" y="84"/>
                      </a:lnTo>
                      <a:lnTo>
                        <a:pt x="156" y="80"/>
                      </a:lnTo>
                      <a:lnTo>
                        <a:pt x="139" y="72"/>
                      </a:lnTo>
                      <a:lnTo>
                        <a:pt x="122" y="66"/>
                      </a:lnTo>
                      <a:lnTo>
                        <a:pt x="106" y="57"/>
                      </a:lnTo>
                      <a:lnTo>
                        <a:pt x="90" y="50"/>
                      </a:lnTo>
                      <a:lnTo>
                        <a:pt x="75" y="41"/>
                      </a:lnTo>
                      <a:lnTo>
                        <a:pt x="61" y="32"/>
                      </a:lnTo>
                      <a:lnTo>
                        <a:pt x="49" y="25"/>
                      </a:lnTo>
                      <a:lnTo>
                        <a:pt x="37" y="17"/>
                      </a:lnTo>
                      <a:lnTo>
                        <a:pt x="30" y="11"/>
                      </a:lnTo>
                      <a:lnTo>
                        <a:pt x="24" y="5"/>
                      </a:lnTo>
                      <a:lnTo>
                        <a:pt x="20" y="0"/>
                      </a:lnTo>
                      <a:lnTo>
                        <a:pt x="15" y="5"/>
                      </a:lnTo>
                      <a:lnTo>
                        <a:pt x="13" y="6"/>
                      </a:lnTo>
                      <a:lnTo>
                        <a:pt x="9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505400" y="6470640"/>
                  <a:ext cx="446040" cy="134640"/>
                </a:xfrm>
                <a:custGeom>
                  <a:avLst/>
                  <a:gdLst/>
                  <a:ahLst/>
                  <a:rect l="l" t="t" r="r" b="b"/>
                  <a:pathLst>
                    <a:path w="281" h="85">
                      <a:moveTo>
                        <a:pt x="0" y="20"/>
                      </a:moveTo>
                      <a:lnTo>
                        <a:pt x="5" y="23"/>
                      </a:lnTo>
                      <a:lnTo>
                        <a:pt x="12" y="26"/>
                      </a:lnTo>
                      <a:lnTo>
                        <a:pt x="22" y="30"/>
                      </a:lnTo>
                      <a:lnTo>
                        <a:pt x="35" y="35"/>
                      </a:lnTo>
                      <a:lnTo>
                        <a:pt x="48" y="41"/>
                      </a:lnTo>
                      <a:lnTo>
                        <a:pt x="64" y="48"/>
                      </a:lnTo>
                      <a:lnTo>
                        <a:pt x="81" y="54"/>
                      </a:lnTo>
                      <a:lnTo>
                        <a:pt x="98" y="59"/>
                      </a:lnTo>
                      <a:lnTo>
                        <a:pt x="115" y="65"/>
                      </a:lnTo>
                      <a:lnTo>
                        <a:pt x="133" y="70"/>
                      </a:lnTo>
                      <a:lnTo>
                        <a:pt x="149" y="75"/>
                      </a:lnTo>
                      <a:lnTo>
                        <a:pt x="165" y="80"/>
                      </a:lnTo>
                      <a:lnTo>
                        <a:pt x="180" y="82"/>
                      </a:lnTo>
                      <a:lnTo>
                        <a:pt x="194" y="84"/>
                      </a:lnTo>
                      <a:lnTo>
                        <a:pt x="205" y="85"/>
                      </a:lnTo>
                      <a:lnTo>
                        <a:pt x="214" y="84"/>
                      </a:lnTo>
                      <a:lnTo>
                        <a:pt x="202" y="82"/>
                      </a:lnTo>
                      <a:lnTo>
                        <a:pt x="187" y="79"/>
                      </a:lnTo>
                      <a:lnTo>
                        <a:pt x="171" y="75"/>
                      </a:lnTo>
                      <a:lnTo>
                        <a:pt x="155" y="69"/>
                      </a:lnTo>
                      <a:lnTo>
                        <a:pt x="138" y="64"/>
                      </a:lnTo>
                      <a:lnTo>
                        <a:pt x="123" y="57"/>
                      </a:lnTo>
                      <a:lnTo>
                        <a:pt x="110" y="53"/>
                      </a:lnTo>
                      <a:lnTo>
                        <a:pt x="102" y="48"/>
                      </a:lnTo>
                      <a:lnTo>
                        <a:pt x="114" y="40"/>
                      </a:lnTo>
                      <a:lnTo>
                        <a:pt x="133" y="33"/>
                      </a:lnTo>
                      <a:lnTo>
                        <a:pt x="158" y="24"/>
                      </a:lnTo>
                      <a:lnTo>
                        <a:pt x="185" y="16"/>
                      </a:lnTo>
                      <a:lnTo>
                        <a:pt x="214" y="9"/>
                      </a:lnTo>
                      <a:lnTo>
                        <a:pt x="240" y="5"/>
                      </a:lnTo>
                      <a:lnTo>
                        <a:pt x="263" y="4"/>
                      </a:lnTo>
                      <a:lnTo>
                        <a:pt x="281" y="8"/>
                      </a:lnTo>
                      <a:lnTo>
                        <a:pt x="265" y="2"/>
                      </a:lnTo>
                      <a:lnTo>
                        <a:pt x="241" y="0"/>
                      </a:lnTo>
                      <a:lnTo>
                        <a:pt x="211" y="4"/>
                      </a:lnTo>
                      <a:lnTo>
                        <a:pt x="179" y="9"/>
                      </a:lnTo>
                      <a:lnTo>
                        <a:pt x="148" y="16"/>
                      </a:lnTo>
                      <a:lnTo>
                        <a:pt x="120" y="24"/>
                      </a:lnTo>
                      <a:lnTo>
                        <a:pt x="98" y="31"/>
                      </a:lnTo>
                      <a:lnTo>
                        <a:pt x="87" y="39"/>
                      </a:lnTo>
                      <a:lnTo>
                        <a:pt x="74" y="36"/>
                      </a:lnTo>
                      <a:lnTo>
                        <a:pt x="62" y="33"/>
                      </a:lnTo>
                      <a:lnTo>
                        <a:pt x="51" y="29"/>
                      </a:lnTo>
                      <a:lnTo>
                        <a:pt x="40" y="25"/>
                      </a:lnTo>
                      <a:lnTo>
                        <a:pt x="30" y="23"/>
                      </a:lnTo>
                      <a:lnTo>
                        <a:pt x="21" y="19"/>
                      </a:lnTo>
                      <a:lnTo>
                        <a:pt x="15" y="15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7" y="15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783320" y="6225840"/>
                  <a:ext cx="350640" cy="154080"/>
                </a:xfrm>
                <a:custGeom>
                  <a:avLst/>
                  <a:gdLst/>
                  <a:ahLst/>
                  <a:rect l="l" t="t" r="r" b="b"/>
                  <a:pathLst>
                    <a:path w="221" h="97">
                      <a:moveTo>
                        <a:pt x="0" y="45"/>
                      </a:moveTo>
                      <a:lnTo>
                        <a:pt x="5" y="46"/>
                      </a:lnTo>
                      <a:lnTo>
                        <a:pt x="14" y="47"/>
                      </a:lnTo>
                      <a:lnTo>
                        <a:pt x="26" y="49"/>
                      </a:lnTo>
                      <a:lnTo>
                        <a:pt x="40" y="50"/>
                      </a:lnTo>
                      <a:lnTo>
                        <a:pt x="55" y="51"/>
                      </a:lnTo>
                      <a:lnTo>
                        <a:pt x="72" y="54"/>
                      </a:lnTo>
                      <a:lnTo>
                        <a:pt x="90" y="55"/>
                      </a:lnTo>
                      <a:lnTo>
                        <a:pt x="108" y="57"/>
                      </a:lnTo>
                      <a:lnTo>
                        <a:pt x="127" y="61"/>
                      </a:lnTo>
                      <a:lnTo>
                        <a:pt x="145" y="65"/>
                      </a:lnTo>
                      <a:lnTo>
                        <a:pt x="163" y="68"/>
                      </a:lnTo>
                      <a:lnTo>
                        <a:pt x="179" y="72"/>
                      </a:lnTo>
                      <a:lnTo>
                        <a:pt x="193" y="78"/>
                      </a:lnTo>
                      <a:lnTo>
                        <a:pt x="205" y="83"/>
                      </a:lnTo>
                      <a:lnTo>
                        <a:pt x="215" y="90"/>
                      </a:lnTo>
                      <a:lnTo>
                        <a:pt x="221" y="97"/>
                      </a:lnTo>
                      <a:lnTo>
                        <a:pt x="211" y="87"/>
                      </a:lnTo>
                      <a:lnTo>
                        <a:pt x="200" y="78"/>
                      </a:lnTo>
                      <a:lnTo>
                        <a:pt x="185" y="71"/>
                      </a:lnTo>
                      <a:lnTo>
                        <a:pt x="170" y="63"/>
                      </a:lnTo>
                      <a:lnTo>
                        <a:pt x="155" y="59"/>
                      </a:lnTo>
                      <a:lnTo>
                        <a:pt x="142" y="55"/>
                      </a:lnTo>
                      <a:lnTo>
                        <a:pt x="129" y="51"/>
                      </a:lnTo>
                      <a:lnTo>
                        <a:pt x="119" y="50"/>
                      </a:lnTo>
                      <a:lnTo>
                        <a:pt x="124" y="44"/>
                      </a:lnTo>
                      <a:lnTo>
                        <a:pt x="134" y="36"/>
                      </a:lnTo>
                      <a:lnTo>
                        <a:pt x="145" y="27"/>
                      </a:lnTo>
                      <a:lnTo>
                        <a:pt x="158" y="20"/>
                      </a:lnTo>
                      <a:lnTo>
                        <a:pt x="172" y="14"/>
                      </a:lnTo>
                      <a:lnTo>
                        <a:pt x="185" y="8"/>
                      </a:lnTo>
                      <a:lnTo>
                        <a:pt x="196" y="3"/>
                      </a:lnTo>
                      <a:lnTo>
                        <a:pt x="206" y="0"/>
                      </a:lnTo>
                      <a:lnTo>
                        <a:pt x="191" y="3"/>
                      </a:lnTo>
                      <a:lnTo>
                        <a:pt x="175" y="8"/>
                      </a:lnTo>
                      <a:lnTo>
                        <a:pt x="158" y="13"/>
                      </a:lnTo>
                      <a:lnTo>
                        <a:pt x="142" y="20"/>
                      </a:lnTo>
                      <a:lnTo>
                        <a:pt x="127" y="26"/>
                      </a:lnTo>
                      <a:lnTo>
                        <a:pt x="116" y="34"/>
                      </a:lnTo>
                      <a:lnTo>
                        <a:pt x="107" y="39"/>
                      </a:lnTo>
                      <a:lnTo>
                        <a:pt x="102" y="44"/>
                      </a:lnTo>
                      <a:lnTo>
                        <a:pt x="93" y="42"/>
                      </a:lnTo>
                      <a:lnTo>
                        <a:pt x="81" y="41"/>
                      </a:lnTo>
                      <a:lnTo>
                        <a:pt x="68" y="40"/>
                      </a:lnTo>
                      <a:lnTo>
                        <a:pt x="56" y="37"/>
                      </a:lnTo>
                      <a:lnTo>
                        <a:pt x="44" y="36"/>
                      </a:lnTo>
                      <a:lnTo>
                        <a:pt x="32" y="35"/>
                      </a:lnTo>
                      <a:lnTo>
                        <a:pt x="22" y="34"/>
                      </a:lnTo>
                      <a:lnTo>
                        <a:pt x="16" y="32"/>
                      </a:lnTo>
                      <a:lnTo>
                        <a:pt x="15" y="34"/>
                      </a:lnTo>
                      <a:lnTo>
                        <a:pt x="11" y="36"/>
                      </a:lnTo>
                      <a:lnTo>
                        <a:pt x="6" y="4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02200" y="5987880"/>
                  <a:ext cx="322560" cy="163440"/>
                </a:xfrm>
                <a:custGeom>
                  <a:avLst/>
                  <a:gdLst/>
                  <a:ahLst/>
                  <a:rect l="l" t="t" r="r" b="b"/>
                  <a:pathLst>
                    <a:path w="203" h="103">
                      <a:moveTo>
                        <a:pt x="0" y="82"/>
                      </a:moveTo>
                      <a:lnTo>
                        <a:pt x="6" y="82"/>
                      </a:lnTo>
                      <a:lnTo>
                        <a:pt x="14" y="80"/>
                      </a:lnTo>
                      <a:lnTo>
                        <a:pt x="22" y="78"/>
                      </a:lnTo>
                      <a:lnTo>
                        <a:pt x="32" y="74"/>
                      </a:lnTo>
                      <a:lnTo>
                        <a:pt x="43" y="70"/>
                      </a:lnTo>
                      <a:lnTo>
                        <a:pt x="53" y="67"/>
                      </a:lnTo>
                      <a:lnTo>
                        <a:pt x="63" y="64"/>
                      </a:lnTo>
                      <a:lnTo>
                        <a:pt x="73" y="62"/>
                      </a:lnTo>
                      <a:lnTo>
                        <a:pt x="86" y="64"/>
                      </a:lnTo>
                      <a:lnTo>
                        <a:pt x="98" y="68"/>
                      </a:lnTo>
                      <a:lnTo>
                        <a:pt x="113" y="73"/>
                      </a:lnTo>
                      <a:lnTo>
                        <a:pt x="127" y="78"/>
                      </a:lnTo>
                      <a:lnTo>
                        <a:pt x="140" y="85"/>
                      </a:lnTo>
                      <a:lnTo>
                        <a:pt x="153" y="92"/>
                      </a:lnTo>
                      <a:lnTo>
                        <a:pt x="163" y="98"/>
                      </a:lnTo>
                      <a:lnTo>
                        <a:pt x="169" y="103"/>
                      </a:lnTo>
                      <a:lnTo>
                        <a:pt x="165" y="95"/>
                      </a:lnTo>
                      <a:lnTo>
                        <a:pt x="158" y="87"/>
                      </a:lnTo>
                      <a:lnTo>
                        <a:pt x="148" y="78"/>
                      </a:lnTo>
                      <a:lnTo>
                        <a:pt x="135" y="70"/>
                      </a:lnTo>
                      <a:lnTo>
                        <a:pt x="123" y="63"/>
                      </a:lnTo>
                      <a:lnTo>
                        <a:pt x="112" y="57"/>
                      </a:lnTo>
                      <a:lnTo>
                        <a:pt x="101" y="53"/>
                      </a:lnTo>
                      <a:lnTo>
                        <a:pt x="93" y="52"/>
                      </a:lnTo>
                      <a:lnTo>
                        <a:pt x="104" y="43"/>
                      </a:lnTo>
                      <a:lnTo>
                        <a:pt x="118" y="34"/>
                      </a:lnTo>
                      <a:lnTo>
                        <a:pt x="133" y="24"/>
                      </a:lnTo>
                      <a:lnTo>
                        <a:pt x="148" y="16"/>
                      </a:lnTo>
                      <a:lnTo>
                        <a:pt x="164" y="8"/>
                      </a:lnTo>
                      <a:lnTo>
                        <a:pt x="179" y="2"/>
                      </a:lnTo>
                      <a:lnTo>
                        <a:pt x="193" y="0"/>
                      </a:lnTo>
                      <a:lnTo>
                        <a:pt x="203" y="0"/>
                      </a:lnTo>
                      <a:lnTo>
                        <a:pt x="189" y="0"/>
                      </a:lnTo>
                      <a:lnTo>
                        <a:pt x="173" y="3"/>
                      </a:lnTo>
                      <a:lnTo>
                        <a:pt x="153" y="10"/>
                      </a:lnTo>
                      <a:lnTo>
                        <a:pt x="133" y="17"/>
                      </a:lnTo>
                      <a:lnTo>
                        <a:pt x="113" y="26"/>
                      </a:lnTo>
                      <a:lnTo>
                        <a:pt x="96" y="34"/>
                      </a:lnTo>
                      <a:lnTo>
                        <a:pt x="81" y="42"/>
                      </a:lnTo>
                      <a:lnTo>
                        <a:pt x="71" y="47"/>
                      </a:lnTo>
                      <a:lnTo>
                        <a:pt x="65" y="51"/>
                      </a:lnTo>
                      <a:lnTo>
                        <a:pt x="57" y="54"/>
                      </a:lnTo>
                      <a:lnTo>
                        <a:pt x="50" y="57"/>
                      </a:lnTo>
                      <a:lnTo>
                        <a:pt x="41" y="61"/>
                      </a:lnTo>
                      <a:lnTo>
                        <a:pt x="34" y="63"/>
                      </a:lnTo>
                      <a:lnTo>
                        <a:pt x="26" y="64"/>
                      </a:lnTo>
                      <a:lnTo>
                        <a:pt x="20" y="66"/>
                      </a:lnTo>
                      <a:lnTo>
                        <a:pt x="15" y="66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670280" y="6116400"/>
                <a:ext cx="1425600" cy="530280"/>
                <a:chOff x="4670280" y="6116400"/>
                <a:chExt cx="1425600" cy="530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684320" y="6116400"/>
                  <a:ext cx="1411560" cy="415800"/>
                </a:xfrm>
                <a:custGeom>
                  <a:avLst/>
                  <a:gdLst/>
                  <a:ahLst/>
                  <a:rect l="l" t="t" r="r" b="b"/>
                  <a:pathLst>
                    <a:path w="889" h="262">
                      <a:moveTo>
                        <a:pt x="889" y="187"/>
                      </a:moveTo>
                      <a:lnTo>
                        <a:pt x="886" y="168"/>
                      </a:lnTo>
                      <a:lnTo>
                        <a:pt x="877" y="150"/>
                      </a:lnTo>
                      <a:lnTo>
                        <a:pt x="864" y="132"/>
                      </a:lnTo>
                      <a:lnTo>
                        <a:pt x="844" y="116"/>
                      </a:lnTo>
                      <a:lnTo>
                        <a:pt x="819" y="100"/>
                      </a:lnTo>
                      <a:lnTo>
                        <a:pt x="790" y="85"/>
                      </a:lnTo>
                      <a:lnTo>
                        <a:pt x="759" y="71"/>
                      </a:lnTo>
                      <a:lnTo>
                        <a:pt x="725" y="59"/>
                      </a:lnTo>
                      <a:lnTo>
                        <a:pt x="688" y="46"/>
                      </a:lnTo>
                      <a:lnTo>
                        <a:pt x="652" y="36"/>
                      </a:lnTo>
                      <a:lnTo>
                        <a:pt x="614" y="27"/>
                      </a:lnTo>
                      <a:lnTo>
                        <a:pt x="577" y="19"/>
                      </a:lnTo>
                      <a:lnTo>
                        <a:pt x="539" y="13"/>
                      </a:lnTo>
                      <a:lnTo>
                        <a:pt x="505" y="7"/>
                      </a:lnTo>
                      <a:lnTo>
                        <a:pt x="471" y="4"/>
                      </a:lnTo>
                      <a:lnTo>
                        <a:pt x="441" y="2"/>
                      </a:lnTo>
                      <a:lnTo>
                        <a:pt x="411" y="0"/>
                      </a:lnTo>
                      <a:lnTo>
                        <a:pt x="379" y="0"/>
                      </a:lnTo>
                      <a:lnTo>
                        <a:pt x="345" y="0"/>
                      </a:lnTo>
                      <a:lnTo>
                        <a:pt x="311" y="0"/>
                      </a:lnTo>
                      <a:lnTo>
                        <a:pt x="275" y="2"/>
                      </a:lnTo>
                      <a:lnTo>
                        <a:pt x="240" y="4"/>
                      </a:lnTo>
                      <a:lnTo>
                        <a:pt x="204" y="7"/>
                      </a:lnTo>
                      <a:lnTo>
                        <a:pt x="170" y="10"/>
                      </a:lnTo>
                      <a:lnTo>
                        <a:pt x="138" y="15"/>
                      </a:lnTo>
                      <a:lnTo>
                        <a:pt x="107" y="22"/>
                      </a:lnTo>
                      <a:lnTo>
                        <a:pt x="80" y="29"/>
                      </a:lnTo>
                      <a:lnTo>
                        <a:pt x="56" y="38"/>
                      </a:lnTo>
                      <a:lnTo>
                        <a:pt x="35" y="48"/>
                      </a:lnTo>
                      <a:lnTo>
                        <a:pt x="19" y="59"/>
                      </a:lnTo>
                      <a:lnTo>
                        <a:pt x="6" y="73"/>
                      </a:lnTo>
                      <a:lnTo>
                        <a:pt x="0" y="87"/>
                      </a:lnTo>
                      <a:lnTo>
                        <a:pt x="0" y="104"/>
                      </a:lnTo>
                      <a:lnTo>
                        <a:pt x="5" y="119"/>
                      </a:lnTo>
                      <a:lnTo>
                        <a:pt x="17" y="133"/>
                      </a:lnTo>
                      <a:lnTo>
                        <a:pt x="34" y="147"/>
                      </a:lnTo>
                      <a:lnTo>
                        <a:pt x="56" y="161"/>
                      </a:lnTo>
                      <a:lnTo>
                        <a:pt x="81" y="173"/>
                      </a:lnTo>
                      <a:lnTo>
                        <a:pt x="111" y="186"/>
                      </a:lnTo>
                      <a:lnTo>
                        <a:pt x="143" y="197"/>
                      </a:lnTo>
                      <a:lnTo>
                        <a:pt x="179" y="208"/>
                      </a:lnTo>
                      <a:lnTo>
                        <a:pt x="216" y="218"/>
                      </a:lnTo>
                      <a:lnTo>
                        <a:pt x="256" y="227"/>
                      </a:lnTo>
                      <a:lnTo>
                        <a:pt x="297" y="234"/>
                      </a:lnTo>
                      <a:lnTo>
                        <a:pt x="338" y="240"/>
                      </a:lnTo>
                      <a:lnTo>
                        <a:pt x="379" y="247"/>
                      </a:lnTo>
                      <a:lnTo>
                        <a:pt x="420" y="250"/>
                      </a:lnTo>
                      <a:lnTo>
                        <a:pt x="461" y="254"/>
                      </a:lnTo>
                      <a:lnTo>
                        <a:pt x="501" y="257"/>
                      </a:lnTo>
                      <a:lnTo>
                        <a:pt x="539" y="258"/>
                      </a:lnTo>
                      <a:lnTo>
                        <a:pt x="578" y="260"/>
                      </a:lnTo>
                      <a:lnTo>
                        <a:pt x="615" y="262"/>
                      </a:lnTo>
                      <a:lnTo>
                        <a:pt x="651" y="262"/>
                      </a:lnTo>
                      <a:lnTo>
                        <a:pt x="686" y="262"/>
                      </a:lnTo>
                      <a:lnTo>
                        <a:pt x="718" y="260"/>
                      </a:lnTo>
                      <a:lnTo>
                        <a:pt x="749" y="258"/>
                      </a:lnTo>
                      <a:lnTo>
                        <a:pt x="778" y="254"/>
                      </a:lnTo>
                      <a:lnTo>
                        <a:pt x="803" y="249"/>
                      </a:lnTo>
                      <a:lnTo>
                        <a:pt x="826" y="244"/>
                      </a:lnTo>
                      <a:lnTo>
                        <a:pt x="846" y="235"/>
                      </a:lnTo>
                      <a:lnTo>
                        <a:pt x="862" y="227"/>
                      </a:lnTo>
                      <a:lnTo>
                        <a:pt x="875" y="216"/>
                      </a:lnTo>
                      <a:lnTo>
                        <a:pt x="884" y="202"/>
                      </a:lnTo>
                      <a:lnTo>
                        <a:pt x="889" y="187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70280" y="6254640"/>
                  <a:ext cx="1425600" cy="392040"/>
                </a:xfrm>
                <a:custGeom>
                  <a:avLst/>
                  <a:gdLst/>
                  <a:ahLst/>
                  <a:rect l="l" t="t" r="r" b="b"/>
                  <a:pathLst>
                    <a:path w="898" h="247">
                      <a:moveTo>
                        <a:pt x="898" y="100"/>
                      </a:moveTo>
                      <a:lnTo>
                        <a:pt x="893" y="115"/>
                      </a:lnTo>
                      <a:lnTo>
                        <a:pt x="884" y="129"/>
                      </a:lnTo>
                      <a:lnTo>
                        <a:pt x="871" y="140"/>
                      </a:lnTo>
                      <a:lnTo>
                        <a:pt x="855" y="148"/>
                      </a:lnTo>
                      <a:lnTo>
                        <a:pt x="835" y="157"/>
                      </a:lnTo>
                      <a:lnTo>
                        <a:pt x="812" y="162"/>
                      </a:lnTo>
                      <a:lnTo>
                        <a:pt x="787" y="167"/>
                      </a:lnTo>
                      <a:lnTo>
                        <a:pt x="758" y="171"/>
                      </a:lnTo>
                      <a:lnTo>
                        <a:pt x="727" y="173"/>
                      </a:lnTo>
                      <a:lnTo>
                        <a:pt x="695" y="175"/>
                      </a:lnTo>
                      <a:lnTo>
                        <a:pt x="660" y="175"/>
                      </a:lnTo>
                      <a:lnTo>
                        <a:pt x="624" y="175"/>
                      </a:lnTo>
                      <a:lnTo>
                        <a:pt x="587" y="173"/>
                      </a:lnTo>
                      <a:lnTo>
                        <a:pt x="548" y="171"/>
                      </a:lnTo>
                      <a:lnTo>
                        <a:pt x="510" y="170"/>
                      </a:lnTo>
                      <a:lnTo>
                        <a:pt x="470" y="167"/>
                      </a:lnTo>
                      <a:lnTo>
                        <a:pt x="429" y="163"/>
                      </a:lnTo>
                      <a:lnTo>
                        <a:pt x="388" y="160"/>
                      </a:lnTo>
                      <a:lnTo>
                        <a:pt x="347" y="153"/>
                      </a:lnTo>
                      <a:lnTo>
                        <a:pt x="306" y="147"/>
                      </a:lnTo>
                      <a:lnTo>
                        <a:pt x="265" y="140"/>
                      </a:lnTo>
                      <a:lnTo>
                        <a:pt x="225" y="131"/>
                      </a:lnTo>
                      <a:lnTo>
                        <a:pt x="188" y="121"/>
                      </a:lnTo>
                      <a:lnTo>
                        <a:pt x="152" y="110"/>
                      </a:lnTo>
                      <a:lnTo>
                        <a:pt x="120" y="99"/>
                      </a:lnTo>
                      <a:lnTo>
                        <a:pt x="90" y="86"/>
                      </a:lnTo>
                      <a:lnTo>
                        <a:pt x="65" y="74"/>
                      </a:lnTo>
                      <a:lnTo>
                        <a:pt x="43" y="60"/>
                      </a:lnTo>
                      <a:lnTo>
                        <a:pt x="26" y="46"/>
                      </a:lnTo>
                      <a:lnTo>
                        <a:pt x="14" y="32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6" y="20"/>
                      </a:lnTo>
                      <a:lnTo>
                        <a:pt x="4" y="40"/>
                      </a:lnTo>
                      <a:lnTo>
                        <a:pt x="2" y="59"/>
                      </a:lnTo>
                      <a:lnTo>
                        <a:pt x="0" y="73"/>
                      </a:lnTo>
                      <a:lnTo>
                        <a:pt x="0" y="89"/>
                      </a:lnTo>
                      <a:lnTo>
                        <a:pt x="6" y="104"/>
                      </a:lnTo>
                      <a:lnTo>
                        <a:pt x="18" y="119"/>
                      </a:lnTo>
                      <a:lnTo>
                        <a:pt x="35" y="134"/>
                      </a:lnTo>
                      <a:lnTo>
                        <a:pt x="56" y="147"/>
                      </a:lnTo>
                      <a:lnTo>
                        <a:pt x="82" y="160"/>
                      </a:lnTo>
                      <a:lnTo>
                        <a:pt x="112" y="172"/>
                      </a:lnTo>
                      <a:lnTo>
                        <a:pt x="144" y="183"/>
                      </a:lnTo>
                      <a:lnTo>
                        <a:pt x="180" y="194"/>
                      </a:lnTo>
                      <a:lnTo>
                        <a:pt x="218" y="203"/>
                      </a:lnTo>
                      <a:lnTo>
                        <a:pt x="258" y="212"/>
                      </a:lnTo>
                      <a:lnTo>
                        <a:pt x="299" y="221"/>
                      </a:lnTo>
                      <a:lnTo>
                        <a:pt x="340" y="227"/>
                      </a:lnTo>
                      <a:lnTo>
                        <a:pt x="381" y="232"/>
                      </a:lnTo>
                      <a:lnTo>
                        <a:pt x="422" y="237"/>
                      </a:lnTo>
                      <a:lnTo>
                        <a:pt x="463" y="239"/>
                      </a:lnTo>
                      <a:lnTo>
                        <a:pt x="502" y="242"/>
                      </a:lnTo>
                      <a:lnTo>
                        <a:pt x="541" y="243"/>
                      </a:lnTo>
                      <a:lnTo>
                        <a:pt x="579" y="245"/>
                      </a:lnTo>
                      <a:lnTo>
                        <a:pt x="617" y="247"/>
                      </a:lnTo>
                      <a:lnTo>
                        <a:pt x="653" y="247"/>
                      </a:lnTo>
                      <a:lnTo>
                        <a:pt x="688" y="247"/>
                      </a:lnTo>
                      <a:lnTo>
                        <a:pt x="720" y="245"/>
                      </a:lnTo>
                      <a:lnTo>
                        <a:pt x="751" y="243"/>
                      </a:lnTo>
                      <a:lnTo>
                        <a:pt x="778" y="240"/>
                      </a:lnTo>
                      <a:lnTo>
                        <a:pt x="804" y="235"/>
                      </a:lnTo>
                      <a:lnTo>
                        <a:pt x="828" y="229"/>
                      </a:lnTo>
                      <a:lnTo>
                        <a:pt x="848" y="222"/>
                      </a:lnTo>
                      <a:lnTo>
                        <a:pt x="864" y="212"/>
                      </a:lnTo>
                      <a:lnTo>
                        <a:pt x="876" y="201"/>
                      </a:lnTo>
                      <a:lnTo>
                        <a:pt x="885" y="187"/>
                      </a:lnTo>
                      <a:lnTo>
                        <a:pt x="890" y="172"/>
                      </a:lnTo>
                      <a:lnTo>
                        <a:pt x="890" y="156"/>
                      </a:lnTo>
                      <a:lnTo>
                        <a:pt x="894" y="135"/>
                      </a:lnTo>
                      <a:lnTo>
                        <a:pt x="896" y="114"/>
                      </a:lnTo>
                      <a:lnTo>
                        <a:pt x="898" y="10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214600" y="6316200"/>
                  <a:ext cx="227160" cy="144720"/>
                </a:xfrm>
                <a:custGeom>
                  <a:avLst/>
                  <a:gdLst/>
                  <a:ahLst/>
                  <a:rect l="l" t="t" r="r" b="b"/>
                  <a:pathLst>
                    <a:path w="143" h="91">
                      <a:moveTo>
                        <a:pt x="133" y="0"/>
                      </a:moveTo>
                      <a:lnTo>
                        <a:pt x="143" y="91"/>
                      </a:lnTo>
                      <a:lnTo>
                        <a:pt x="0" y="77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79720" y="6237000"/>
                  <a:ext cx="536400" cy="169920"/>
                </a:xfrm>
                <a:custGeom>
                  <a:avLst/>
                  <a:gdLst/>
                  <a:ahLst/>
                  <a:rect l="l" t="t" r="r" b="b"/>
                  <a:pathLst>
                    <a:path w="338" h="107">
                      <a:moveTo>
                        <a:pt x="338" y="38"/>
                      </a:moveTo>
                      <a:lnTo>
                        <a:pt x="191" y="107"/>
                      </a:lnTo>
                      <a:lnTo>
                        <a:pt x="0" y="0"/>
                      </a:lnTo>
                      <a:lnTo>
                        <a:pt x="338" y="38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514840" y="6310080"/>
                  <a:ext cx="355320" cy="156960"/>
                </a:xfrm>
                <a:custGeom>
                  <a:avLst/>
                  <a:gdLst/>
                  <a:ahLst/>
                  <a:rect l="l" t="t" r="r" b="b"/>
                  <a:pathLst>
                    <a:path w="224" h="99">
                      <a:moveTo>
                        <a:pt x="8" y="0"/>
                      </a:moveTo>
                      <a:lnTo>
                        <a:pt x="224" y="94"/>
                      </a:lnTo>
                      <a:lnTo>
                        <a:pt x="0" y="9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11560" y="6165720"/>
                  <a:ext cx="369720" cy="99720"/>
                </a:xfrm>
                <a:custGeom>
                  <a:avLst/>
                  <a:gdLst/>
                  <a:ahLst/>
                  <a:rect l="l" t="t" r="r" b="b"/>
                  <a:pathLst>
                    <a:path w="233" h="63">
                      <a:moveTo>
                        <a:pt x="233" y="63"/>
                      </a:moveTo>
                      <a:lnTo>
                        <a:pt x="147" y="0"/>
                      </a:lnTo>
                      <a:lnTo>
                        <a:pt x="0" y="10"/>
                      </a:lnTo>
                      <a:lnTo>
                        <a:pt x="233" y="6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335200" y="6165720"/>
                  <a:ext cx="292320" cy="83880"/>
                </a:xfrm>
                <a:custGeom>
                  <a:avLst/>
                  <a:gdLst/>
                  <a:ahLst/>
                  <a:rect l="l" t="t" r="r" b="b"/>
                  <a:pathLst>
                    <a:path w="184" h="53">
                      <a:moveTo>
                        <a:pt x="76" y="53"/>
                      </a:moveTo>
                      <a:lnTo>
                        <a:pt x="184" y="19"/>
                      </a:lnTo>
                      <a:lnTo>
                        <a:pt x="0" y="0"/>
                      </a:lnTo>
                      <a:lnTo>
                        <a:pt x="76" y="5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554440" y="6273360"/>
                  <a:ext cx="444600" cy="135000"/>
                </a:xfrm>
                <a:custGeom>
                  <a:avLst/>
                  <a:gdLst/>
                  <a:ahLst/>
                  <a:rect l="l" t="t" r="r" b="b"/>
                  <a:pathLst>
                    <a:path w="280" h="85">
                      <a:moveTo>
                        <a:pt x="0" y="0"/>
                      </a:moveTo>
                      <a:lnTo>
                        <a:pt x="280" y="85"/>
                      </a:lnTo>
                      <a:lnTo>
                        <a:pt x="20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667120" y="639720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7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76760" y="639108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841720" y="63021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2" y="25"/>
                      </a:moveTo>
                      <a:lnTo>
                        <a:pt x="7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2" y="2"/>
                      </a:lnTo>
                      <a:lnTo>
                        <a:pt x="27" y="5"/>
                      </a:lnTo>
                      <a:lnTo>
                        <a:pt x="30" y="9"/>
                      </a:lnTo>
                      <a:lnTo>
                        <a:pt x="33" y="14"/>
                      </a:lnTo>
                      <a:lnTo>
                        <a:pt x="32" y="19"/>
                      </a:lnTo>
                      <a:lnTo>
                        <a:pt x="29" y="24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2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39960" y="618768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8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205240" y="6179760"/>
                  <a:ext cx="50760" cy="396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11" y="24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4"/>
                      </a:lnTo>
                      <a:lnTo>
                        <a:pt x="30" y="9"/>
                      </a:lnTo>
                      <a:lnTo>
                        <a:pt x="32" y="14"/>
                      </a:lnTo>
                      <a:lnTo>
                        <a:pt x="31" y="19"/>
                      </a:lnTo>
                      <a:lnTo>
                        <a:pt x="29" y="23"/>
                      </a:lnTo>
                      <a:lnTo>
                        <a:pt x="24" y="25"/>
                      </a:lnTo>
                      <a:lnTo>
                        <a:pt x="17" y="25"/>
                      </a:lnTo>
                      <a:lnTo>
                        <a:pt x="11" y="24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44760" y="629424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3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5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29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3240" y="631476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7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8" y="23"/>
                      </a:lnTo>
                      <a:lnTo>
                        <a:pt x="23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333760" y="6392520"/>
                  <a:ext cx="5076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11" y="25"/>
                      </a:move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7" y="27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946400" y="6273360"/>
                  <a:ext cx="52560" cy="4140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8"/>
                      </a:lnTo>
                      <a:lnTo>
                        <a:pt x="33" y="15"/>
                      </a:lnTo>
                      <a:lnTo>
                        <a:pt x="31" y="20"/>
                      </a:lnTo>
                      <a:lnTo>
                        <a:pt x="29" y="23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51360" y="6292440"/>
                  <a:ext cx="41040" cy="3348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9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4"/>
                      </a:lnTo>
                      <a:lnTo>
                        <a:pt x="25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3" y="19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376600" y="6348240"/>
                  <a:ext cx="41400" cy="349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9" y="21"/>
                      </a:moveTo>
                      <a:lnTo>
                        <a:pt x="5" y="17"/>
                      </a:lnTo>
                      <a:lnTo>
                        <a:pt x="1" y="14"/>
                      </a:lnTo>
                      <a:lnTo>
                        <a:pt x="0" y="10"/>
                      </a:lnTo>
                      <a:lnTo>
                        <a:pt x="1" y="6"/>
                      </a:lnTo>
                      <a:lnTo>
                        <a:pt x="4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5" y="9"/>
                      </a:lnTo>
                      <a:lnTo>
                        <a:pt x="26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2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547960" y="6340320"/>
                  <a:ext cx="3996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4" y="9"/>
                      </a:lnTo>
                      <a:lnTo>
                        <a:pt x="25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What’s on the Menu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8000" y="2383920"/>
            <a:ext cx="344160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ggie bur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sted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n on the 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2760" y="2387520"/>
            <a:ext cx="369432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food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green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he Entertainment Committe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And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ice Dix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F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 W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Pi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30510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3:46:20Z</dcterms:created>
  <dc:creator>Pat R. Graves</dc:creator>
  <dc:description/>
  <dc:language>en-US</dc:language>
  <cp:lastModifiedBy>Pat Graves</cp:lastModifiedBy>
  <dcterms:modified xsi:type="dcterms:W3CDTF">2004-03-12T15:56:03Z</dcterms:modified>
  <cp:revision>9</cp:revision>
  <dc:subject/>
  <dc:title>Annual Picnic </dc:title>
</cp:coreProperties>
</file>