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C22-FA32-4480-8A76-96501E04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7A7-E778-4CB2-A193-8920EEF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76D-9359-45E1-A870-0F08AFD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99F-08E3-48E7-9B45-239CA085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9E67-32A5-4A62-80B3-D07D92F6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2B97-0E01-4567-8BDA-FBF182B7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D384-E847-4391-B26C-97B2F88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F5EB-3BDC-4821-9570-8A7B7CF1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EBF9-8A41-4B6E-807E-E19BF20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84080" y="47160"/>
            <a:ext cx="664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00D8-6A73-42ED-9A93-45B5D76A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9BB2-8C1B-48F1-B6F4-7029350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332-DFB7-45BA-B8D3-3F767BA6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2F52-5689-49E9-86E0-494B058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9CB2-AF4E-4D40-A31B-8158D6DF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521-1289-4084-93F7-1288F155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48C8-9555-48C4-A21A-12B3BE4C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5BEB-0880-4344-AB1E-9439E2B6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733-9B3A-4B4F-978B-D5C3BE8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D76-CB6F-4539-871F-42D559D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7A6-A94D-4CE4-ADFE-EAC4952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84080" y="47160"/>
            <a:ext cx="664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8D3-6FFC-4FA8-BE58-0C5A9F5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2B2-D392-4427-8C51-714ABC6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2EA-40BB-4BB1-BE87-53A0E37B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1E8-84DC-43B6-99FC-A8B18D7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4BCD-C126-4F72-9A29-17FE78E216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ACD2-A4FA-456F-B46C-52A787B56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65000"/>
              <a:buFont typeface="Monotype Sort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3560" cy="1158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2920" y="421920"/>
            <a:ext cx="5207040" cy="22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4e1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CA6-3DCD-4969-AB35-B755F82B59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1DC-95EA-4F04-9B7A-9C71BA24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520" y="434880"/>
          <a:ext cx="3632400" cy="25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434880"/>
                    <a:ext cx="36324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2965320"/>
            <a:ext cx="9144000" cy="2905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50000">
                <a:srgbClr val="ea4e16"/>
              </a:gs>
              <a:gs pos="100000">
                <a:srgbClr val="fde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i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65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2920" y="421920"/>
            <a:ext cx="5207040" cy="22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4e16"/>
                </a:solidFill>
                <a:latin typeface="Arial"/>
              </a:rPr>
              <a:t>Lunch Specials</a:t>
            </a:r>
            <a:endParaRPr b="1" lang="en-US" sz="5400" spc="-1" strike="noStrike">
              <a:solidFill>
                <a:srgbClr val="ea4e1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668760" y="4275000"/>
            <a:ext cx="2285640" cy="922320"/>
            <a:chOff x="3668760" y="4275000"/>
            <a:chExt cx="2285640" cy="922320"/>
          </a:xfrm>
        </p:grpSpPr>
        <p:sp>
          <p:nvSpPr>
            <p:cNvPr id="88" name=""/>
            <p:cNvSpPr txBox="1"/>
            <p:nvPr/>
          </p:nvSpPr>
          <p:spPr>
            <a:xfrm>
              <a:off x="5317560" y="462600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755600" y="4421520"/>
              <a:ext cx="824040" cy="775440"/>
              <a:chOff x="4755600" y="4421520"/>
              <a:chExt cx="824040" cy="775440"/>
            </a:xfrm>
          </p:grpSpPr>
          <p:sp>
            <p:nvSpPr>
              <p:cNvPr id="90" name=""/>
              <p:cNvSpPr/>
              <p:nvPr/>
            </p:nvSpPr>
            <p:spPr>
              <a:xfrm>
                <a:off x="4755600" y="442152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87080" y="450504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de3b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668760" y="427500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Appetizer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5760" y="15987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ffed Spinach B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read overstuffed with fresh spinach and feta cheese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nch Breadstic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5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Breadsticks loaded with poppy seeds and sesame seed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15987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kes and Yogurt Sp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reamy spread served with your choice of whole-grain bread or cracker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getable Stuffed B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6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read overstuffed with sun-dried tomatoes, asparagus, and broccoli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Side Dish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8760"/>
            <a:ext cx="4114800" cy="46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lled Cucumber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ool crisp salad with fresh dill and lemon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ld Fashioned Cornbre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Thick and moist with whole corn kernel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atmeal Soda Bre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uttermilk bread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0600" y="1598760"/>
            <a:ext cx="4114800" cy="465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vory Wild Rice Sou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ild rice soup flavored with chestnut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n and Chili Relis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onderful side to add to one of our salad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 Bean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Legumes marinated in balsamic vinegar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47160"/>
            <a:ext cx="6646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Lunch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411480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mus Pita Pocke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wheat pita pocket filled with hummus and fresh veggies, seasoned with herbs and spice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ack Bean Chili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Savory vegetarian chili of black beans and diced vegetables, served in a hollowed-out sourdough loaf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3920" y="1598760"/>
            <a:ext cx="3962520" cy="47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icken with Pec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hunky chicken served over a bed of wild rice, sprinkled with pecans and sliced peache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sh Fruit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A refreshing and colorful blend of seasonal fruit, served with a creamy yogurt topping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4:01:28Z</dcterms:created>
  <dc:creator>Pat R. Graves</dc:creator>
  <dc:description/>
  <dc:language>en-US</dc:language>
  <cp:lastModifiedBy>Pat Graves</cp:lastModifiedBy>
  <cp:lastPrinted>1997-05-06T16:24:06Z</cp:lastPrinted>
  <dcterms:modified xsi:type="dcterms:W3CDTF">2004-03-12T23:15:08Z</dcterms:modified>
  <cp:revision>65</cp:revision>
  <dc:subject/>
  <dc:title>Lunch Specials</dc:title>
</cp:coreProperties>
</file>