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C4EB96-820B-4ACD-BE04-BF62FC33EEAC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ACB07D-7C19-44EF-BF3C-80AD1DE959F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E37-21B3-4E11-8445-E1F7AFEB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5F0-C286-47E8-9508-04543FA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988-BE43-43FD-AA52-512CBEEC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586-CB2F-45B6-A78D-88446F96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A7A6-707C-47D3-9688-938D2902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FF8-8E7C-4866-AA0D-876340F0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F4A1-952E-4AF2-9DCB-63971FA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F69E-2141-485D-BB53-AFD4EB40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4EDE-1047-4C6E-AE34-F665BA5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722-F94F-49DE-BFD3-5336BF8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52D-1EBC-4F31-9296-7C1F6F8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DFD-A317-4B8D-8414-D9588B2F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8D6-1813-4879-B59E-B422172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1314-33BA-4C8E-BEDB-0CB4183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B8E-FA4E-43A5-9789-7431CF5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097-336E-4137-8225-D65055CD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4ADB-FE28-4BA3-8D66-4C601FDA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065-24F2-40F1-94BD-A848055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146-4D3E-4770-91F0-6FE7439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ED5-4C47-48EA-AC48-9957325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1C0-A6EA-4C04-AECF-40A1F32E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EDD-4077-4D4F-907E-E557C86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65F-A9DC-4306-992E-11CC79C6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93D-318F-4D00-9C4A-DA329EF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7334-7666-41B7-AA0A-B4AF1C2575C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E1F-BD27-4B75-8C79-C0D23F9C793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3:12Z</dcterms:modified>
  <cp:revision>103</cp:revision>
  <dc:subject/>
  <dc:title>Three Years and Growing</dc:title>
</cp:coreProperties>
</file>