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chimes.wav" ContentType="audio/x-wav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BD4791-61E1-4D45-B856-A481B14AFF2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E34B4E-D4E8-4F87-9C32-04499859666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F00-5ED1-4934-8169-F119D7BD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321-EDF9-4E50-9DF1-E17C022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AD2-39F7-436C-B909-CAE9F521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88F-ABAE-451D-9106-D8E1A047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D31-268F-436B-A283-A55F24D7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2D1-2CF7-4FF4-9037-B194D44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6674-89BF-4C24-8C5A-E67D634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2CD7-135A-429F-802D-444746D4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5E9D-1017-42E7-A352-BFF4F223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E3FD-D2D3-4ACE-8FFF-503639A4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169-0B13-406B-9E48-B5313BC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F13-9D9D-4548-B1A3-9F657C2B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5436-F213-4E27-8D66-146DAFC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6F2-2FFB-4359-A8DA-D92232F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1F2C-2995-40FA-9D59-5D9F776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1003-C2B7-488E-9A45-4E7EED5D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AE45-1664-4F59-A50B-6C6C6E12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76E-30E7-4CC9-821A-BCA86B8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FCB-A49B-4AF9-B400-75DB4D2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01B-926D-4D2D-ACE1-1049438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4FC-41E5-49F5-A04C-49ED498D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4F9-EBBB-48AD-A865-4294DE7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FCB-A4C7-4DD0-989A-7BBD36F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4EE-B906-467F-8551-C69DBFF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08B-B6B7-4FE5-920C-983EC1989158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B40-A508-4027-9FBD-18F960A6647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62480" y="7219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2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7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62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63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5:44Z</dcterms:modified>
  <cp:revision>108</cp:revision>
  <dc:subject/>
  <dc:title>Three Years and Growing</dc:title>
</cp:coreProperties>
</file>