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120-2C3D-42A6-ABFC-EEF3F177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B68-5A73-4ABB-806C-AD2E0BFE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88B-47E9-4DD8-882B-8339D3F1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B06-E4DD-492F-838B-9E1D7063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756F-3344-4E02-AB5A-696742D7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0248-AB08-4DED-9727-879D0A67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9805-FA41-44E1-88B2-06326C1B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0791-C2D8-47C9-A08E-FD1A1B7C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DF86-7CFB-46D7-B892-39F2411F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7FA6-C80D-4A49-B542-06C41B13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87FF-17CC-47FA-B544-DAB2F6DE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CBE-42B3-4D74-A9A9-CE7718EF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1FA6-30CA-4371-B5BC-7B8F3588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24EF-A185-46DB-8AEC-6F47A8CE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4394-04D0-460C-84D3-75626890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D04F-3865-466F-9DEF-0BB2A07E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405F-9E1E-473C-BF3C-509FBED5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4C5E-B021-4CB5-A3DF-9205AD55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152-7D58-4EEC-9363-57E9F689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8EA-6505-486C-82F1-C5355F38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3E6-DE89-4292-958F-EE228461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B8ED-4C33-4CD6-AEB2-0373AC1D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C18B-55DE-4EC0-8B12-150E4C35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D8A3-00C6-47C7-9D74-4C9FE3D6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132C-25BA-431D-9240-3E20AD8F9B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21D3-C8F5-40DA-A64D-C845E0995DE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 Black"/>
              </a:rPr>
              <a:t>Generating Healthy Competition</a:t>
            </a:r>
            <a:endParaRPr b="0" lang="en-US" sz="5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Con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54200" cy="4154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48148E-006 L 0.61181 0.37153 E">
                                      <p:cBhvr>
                                        <p:cTn id="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oncep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excitement around healthy food competi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publicity for restau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creativity and new recip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09720" y="3932280"/>
            <a:ext cx="3862440" cy="27255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Who Participates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od 4 U custom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od 4 U staf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parate competitions for customers and staf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80200" y="1611360"/>
            <a:ext cx="3463920" cy="346860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Good 4 U Contest Ideas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3750"/>
              </a:spcAft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est bre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750"/>
              </a:spcAft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wer-packed pas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750"/>
              </a:spcAft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y fast fo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750"/>
              </a:spcAft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t-free desse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750"/>
              </a:spcAft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ruit smooth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70280" y="3124080"/>
            <a:ext cx="1651320" cy="1430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343400" y="1371600"/>
            <a:ext cx="1871640" cy="830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477120" y="4038480"/>
            <a:ext cx="1600200" cy="1443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095880" y="1828800"/>
            <a:ext cx="2073240" cy="128124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Other Promotional Events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3750"/>
              </a:spcAft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w Health Marath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750"/>
              </a:spcAft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wer walking ev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750"/>
              </a:spcAft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-line skating ev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750"/>
              </a:spcAft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nce aerobics disc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629400" y="3505320"/>
            <a:ext cx="1496880" cy="1665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105520" y="2057400"/>
            <a:ext cx="2055600" cy="1704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934320" y="1295280"/>
            <a:ext cx="1716120" cy="1766880"/>
          </a:xfrm>
          <a:prstGeom prst="rect">
            <a:avLst/>
          </a:prstGeom>
          <a:ln w="0">
            <a:noFill/>
          </a:ln>
        </p:spPr>
      </p:pic>
    </p:spTree>
  </p:cSld>
  <p:transition advTm="22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1T23:19:26Z</dcterms:created>
  <dc:creator>Pat R. Graves</dc:creator>
  <dc:description/>
  <dc:language>en-US</dc:language>
  <cp:lastModifiedBy>Pat Graves</cp:lastModifiedBy>
  <dcterms:modified xsi:type="dcterms:W3CDTF">2004-03-15T16:41:32Z</dcterms:modified>
  <cp:revision>42</cp:revision>
  <dc:subject/>
  <dc:title>Generating Healthy Competition</dc:title>
</cp:coreProperties>
</file>