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373EDB-78DA-4DC5-A42E-04DCFF1DB0C7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58840" y="701280"/>
            <a:ext cx="4616640" cy="34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79480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30480" y="879480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7088E1-A327-4029-9FBF-B75BC82FC74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9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04F-F0A8-419E-842F-30892DCC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1E9-9070-4BB8-986A-2353FEBF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8D4-E909-46CB-979D-81048242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F2E-3F94-489E-A330-A450E722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14B4-0D90-44C5-B470-03034FB6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DF3E-F6F8-4DB9-B9A5-888AF717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2088-AADE-4668-9FFC-5AE80A69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BD13-E5DD-42ED-B662-32443503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A231-1F01-4F17-A15E-56AFDF5D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B5E5-303A-4499-B3DF-21CFDBF4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C7BE-C5FD-400B-ACC1-9808640C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283-76A6-4753-9C8C-77CF0028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FACA-B45C-4D48-A8C5-FF693F5C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28E0-CE11-40B8-8952-93ACB163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B71D-EE7E-4F22-9692-2F92C430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F62A-94B3-43BB-8C3B-11ABB08A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EF37-F329-4DD6-8E81-7F5BFD42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B3D-2B61-48B0-956A-CEC9A080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324-2A34-486B-8832-518A9FD8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3C6-BFE8-4613-ACE4-5D2F7A61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659-4847-4938-89E8-DC24A82D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590-595A-4D9E-9A6A-8ADCA030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442-4F6A-4B02-9363-091CE562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7EA-712E-44E5-9D13-56646A87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8534520" cy="1219320"/>
            <a:chOff x="0" y="152280"/>
            <a:chExt cx="8534520" cy="1219320"/>
          </a:xfrm>
        </p:grpSpPr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6DEA-7CB3-4C81-9FA9-E0EF9775C470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434880" y="893880"/>
            <a:ext cx="8048520" cy="1820880"/>
          </a:xfrm>
          <a:prstGeom prst="roundRect">
            <a:avLst>
              <a:gd name="adj" fmla="val 16667"/>
            </a:avLst>
          </a:prstGeom>
          <a:solidFill>
            <a:srgbClr val="75878b"/>
          </a:solidFill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1297080"/>
            <a:ext cx="8991720" cy="1828800"/>
            <a:chOff x="0" y="1297080"/>
            <a:chExt cx="8991720" cy="1828800"/>
          </a:xfrm>
        </p:grpSpPr>
        <p:sp>
          <p:nvSpPr>
            <p:cNvPr id="48" name=""/>
            <p:cNvSpPr/>
            <p:nvPr/>
          </p:nvSpPr>
          <p:spPr>
            <a:xfrm>
              <a:off x="0" y="129708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7360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4A39-DC12-4AFA-AF9B-9CF4A7E6EC94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ree Years and Gro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4786200"/>
            <a:ext cx="6629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r the Athlete i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63720" y="3670200"/>
            <a:ext cx="54990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e002a"/>
                    </a:gs>
                  </a:gsLst>
                  <a:lin ang="5400000"/>
                </a:gradFill>
                <a:latin typeface="Impact"/>
              </a:rPr>
              <a:t>Healthy Food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e002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095560" y="1333440"/>
            <a:ext cx="1295280" cy="162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29792 C 0.02639 0.44259 0.15902 0.52662 0.30225 0.49352 C 0.45069 0.45996 0.55451 0.32176 0.53576 0.17708 C 0.51718 0.03218 0.62066 -0.10579 0.76909 -0.13981 C 0.91284 -0.17292 1.04514 -0.08866 1.06371 0.05602 E">
                                      <p:cBhvr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 Beg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21940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92480" y="324972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animClr clrSpc="rgb">
                                      <p:cBhvr>
                                        <p:cTn id="58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0000"/>
                                      </p:to>
                                    </p:animClr>
                                    <p:set>
                                      <p:cBhvr>
                                        <p:cTn id="59" dur="2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ncial Histo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68280" y="1955880"/>
          <a:ext cx="65026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955880"/>
                    <a:ext cx="65026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’re Grow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9840" y="1873080"/>
            <a:ext cx="531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ami in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Angeles in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restaurants by 200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75400" y="3886200"/>
            <a:ext cx="696960" cy="2319480"/>
          </a:xfrm>
          <a:prstGeom prst="upArrow">
            <a:avLst>
              <a:gd name="adj1" fmla="val 71296"/>
              <a:gd name="adj2" fmla="val 69703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89800" y="2971800"/>
            <a:ext cx="696960" cy="3233880"/>
          </a:xfrm>
          <a:prstGeom prst="upArrow">
            <a:avLst>
              <a:gd name="adj1" fmla="val 71296"/>
              <a:gd name="adj2" fmla="val 97182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04200" y="2057400"/>
            <a:ext cx="696960" cy="4148280"/>
          </a:xfrm>
          <a:prstGeom prst="upArrow">
            <a:avLst>
              <a:gd name="adj1" fmla="val 71296"/>
              <a:gd name="adj2" fmla="val 124660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to Expa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ve Come a Long 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400" y="2161800"/>
            <a:ext cx="8096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Steady revenue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Innovative menu plan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We know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68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68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7-08-11T17:17:08Z</cp:lastPrinted>
  <dcterms:modified xsi:type="dcterms:W3CDTF">2004-03-24T23:15:19Z</dcterms:modified>
  <cp:revision>107</cp:revision>
  <dc:subject/>
  <dc:title>Three Years and Growing</dc:title>
</cp:coreProperties>
</file>