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34200" cy="9259888"/>
  <p:custShowLst>
    <p:custShow name="Vision" id="0">
      <p:sldLst>
        <p:sld r:id="rId6"/>
        <p:sld r:id="rId9"/>
      </p:sldLst>
    </p:custShow>
    <p:custShow name="About us" id="1">
      <p:sldLst>
        <p:sld r:id="rId7"/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A0514-9BFD-4BE2-9BCF-8BD52F8D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20B8C-3D46-4422-9B73-11B95D63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79F01-F94C-4FFF-AFD7-CD044339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AC0C-4B0A-415A-BAB9-D45C9AA7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4396-4581-4EC9-9549-0E2E2422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4062-A4C1-41B7-95BB-C7C042D2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DBAF-CA79-4CAF-B74A-291BB53A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BA5E-A172-4555-836F-C47A04D1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E0F2-1762-4672-A231-EA410EE1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4BCB-1D54-4BA8-91A7-9BB00B56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E56D-09B0-47BB-9604-95CDC8FD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CB11E-DAE5-47F5-A6F7-8C6E91C8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CC89-9B3F-410A-9E82-F14472C0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8B59-DAEB-4C91-AA8C-199EF0A5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BD21-37D3-482D-8C78-F3C798DC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4469-CC88-4E93-9BEE-DC04A7F1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AE8A-D18C-4D0A-923A-BE29AEE4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7821C-396F-4807-BB21-FD7C3A28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183B-89C7-4920-BBB6-200C692A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6D78A-393B-452A-B7BA-AABEB0BE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44686-C22A-416E-B359-DA2BD3F0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0C20A-9063-44C7-A280-4096FF40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2F3C-344E-427C-A7D6-8E84F525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E7D2F-123C-4DAE-97F9-3B9C152C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74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74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74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74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74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74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74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4d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3b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26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4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51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51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e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490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4d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4d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4d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4d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4d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4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41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d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4d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c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4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4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5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5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4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4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5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4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4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5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4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4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4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4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4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7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7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4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5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A2F2-3326-4E98-A9A7-F2366B298A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3a21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74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74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74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74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74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74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74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4d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3b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26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4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51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51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e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490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4d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4d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4d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4d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4d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4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41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d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4d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c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4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4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32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32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2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4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2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4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32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5ECD-5E97-4DC1-BE34-14456003AF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d3a21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New Employee Orientation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3087720" y="3086280"/>
          <a:ext cx="2968560" cy="25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7720" y="3086280"/>
                    <a:ext cx="296856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>
            <a:off x="7391520" y="5943600"/>
            <a:ext cx="1447560" cy="609480"/>
          </a:xfrm>
          <a:custGeom>
            <a:avLst/>
            <a:gdLst>
              <a:gd name="textAreaLeft" fmla="*/ 39240 w 1447560"/>
              <a:gd name="textAreaRight" fmla="*/ 1408320 w 14475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1284" h="21600">
                <a:moveTo>
                  <a:pt x="0" y="0"/>
                </a:moveTo>
                <a:lnTo>
                  <a:pt x="51284" y="0"/>
                </a:lnTo>
                <a:lnTo>
                  <a:pt x="51284" y="21600"/>
                </a:lnTo>
                <a:lnTo>
                  <a:pt x="0" y="21600"/>
                </a:lnTo>
                <a:close/>
              </a:path>
              <a:path fill="lightenLess" w="51284" h="21600">
                <a:moveTo>
                  <a:pt x="0" y="0"/>
                </a:moveTo>
                <a:lnTo>
                  <a:pt x="51284" y="0"/>
                </a:lnTo>
                <a:lnTo>
                  <a:pt x="49884" y="1400"/>
                </a:lnTo>
                <a:lnTo>
                  <a:pt x="1400" y="1400"/>
                </a:lnTo>
                <a:close/>
              </a:path>
              <a:path fill="darken" w="51284" h="21600">
                <a:moveTo>
                  <a:pt x="51284" y="0"/>
                </a:moveTo>
                <a:lnTo>
                  <a:pt x="51284" y="21600"/>
                </a:lnTo>
                <a:lnTo>
                  <a:pt x="49884" y="20200"/>
                </a:lnTo>
                <a:lnTo>
                  <a:pt x="49884" y="1400"/>
                </a:lnTo>
                <a:close/>
              </a:path>
              <a:path fill="darkenLess" w="51284" h="21600">
                <a:moveTo>
                  <a:pt x="512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84" y="20200"/>
                </a:lnTo>
                <a:close/>
              </a:path>
              <a:path fill="lighten" w="512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e7960"/>
                </a:solidFill>
                <a:latin typeface="Arial"/>
              </a:rPr>
              <a:t>Vi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391520" y="5029200"/>
            <a:ext cx="1447560" cy="609480"/>
          </a:xfrm>
          <a:custGeom>
            <a:avLst/>
            <a:gdLst>
              <a:gd name="textAreaLeft" fmla="*/ 39240 w 1447560"/>
              <a:gd name="textAreaRight" fmla="*/ 1408320 w 14475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1284" h="21600">
                <a:moveTo>
                  <a:pt x="0" y="0"/>
                </a:moveTo>
                <a:lnTo>
                  <a:pt x="51284" y="0"/>
                </a:lnTo>
                <a:lnTo>
                  <a:pt x="51284" y="21600"/>
                </a:lnTo>
                <a:lnTo>
                  <a:pt x="0" y="21600"/>
                </a:lnTo>
                <a:close/>
              </a:path>
              <a:path fill="lightenLess" w="51284" h="21600">
                <a:moveTo>
                  <a:pt x="0" y="0"/>
                </a:moveTo>
                <a:lnTo>
                  <a:pt x="51284" y="0"/>
                </a:lnTo>
                <a:lnTo>
                  <a:pt x="49884" y="1400"/>
                </a:lnTo>
                <a:lnTo>
                  <a:pt x="1400" y="1400"/>
                </a:lnTo>
                <a:close/>
              </a:path>
              <a:path fill="darken" w="51284" h="21600">
                <a:moveTo>
                  <a:pt x="51284" y="0"/>
                </a:moveTo>
                <a:lnTo>
                  <a:pt x="51284" y="21600"/>
                </a:lnTo>
                <a:lnTo>
                  <a:pt x="49884" y="20200"/>
                </a:lnTo>
                <a:lnTo>
                  <a:pt x="49884" y="1400"/>
                </a:lnTo>
                <a:close/>
              </a:path>
              <a:path fill="darkenLess" w="51284" h="21600">
                <a:moveTo>
                  <a:pt x="512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84" y="20200"/>
                </a:lnTo>
                <a:close/>
              </a:path>
              <a:path fill="lighten" w="512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e7960"/>
                </a:solidFill>
                <a:latin typeface="Arial"/>
              </a:rPr>
              <a:t>About 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xit" presetID="1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523880" y="1828800"/>
            <a:ext cx="6096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ny 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’s W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Plans for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900000" y="1798560"/>
            <a:ext cx="725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ur Vis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16256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ntion of Good 4 U is to establish itself as a franch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4 U has been in business for three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od at Good 4 U is low-fat, but not vegetar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We A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u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s Irvinell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s came from a tennis 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 Wolf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’s a well-known marathon ru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r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people to enjoy healthy 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participation in sports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ere We’re Go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nue growth of 3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locations by the yea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f Michelle Jenkins is busy creating new culinary trea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ing manager Roy Olafsen is diligently researching new 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y We’re Successfu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676520" y="2209320"/>
            <a:ext cx="579096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ady revenue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novative menu plann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know our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2:18Z</dcterms:created>
  <dc:creator>Pat R. Graves</dc:creator>
  <dc:description/>
  <dc:language>en-US</dc:language>
  <cp:lastModifiedBy>Ms. Malnick</cp:lastModifiedBy>
  <cp:lastPrinted>1996-12-06T20:40:08Z</cp:lastPrinted>
  <dcterms:modified xsi:type="dcterms:W3CDTF">2004-04-13T20:56:06Z</dcterms:modified>
  <cp:revision>37</cp:revision>
  <dc:subject/>
  <dc:title>New Employee Orientation</dc:title>
</cp:coreProperties>
</file>