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33600" cy="92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34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30480" y="0"/>
            <a:ext cx="30038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E8CBCCB-4322-4339-8C3E-AAE393097836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58840" y="701280"/>
            <a:ext cx="4616640" cy="34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23400" y="4397040"/>
            <a:ext cx="5086440" cy="4167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794800"/>
            <a:ext cx="30034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30480" y="8794800"/>
            <a:ext cx="30038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11DF1C3-0450-4DD5-A533-AF8E313CF33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60640" y="701640"/>
            <a:ext cx="4613040" cy="3459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23400" y="4397040"/>
            <a:ext cx="5086440" cy="4167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irst year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start-up costs mostly, and, of course, in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we learned the value of a big advertising budg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E51-66A4-4DE5-98F6-C5A2EE9D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6D40-2032-4653-A84A-54B3B791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508E-8CF4-4E57-8BF5-F1630263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0189-CC30-42DF-BD94-8AA334EC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CBA2-96D6-4214-9419-C47330C7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2BC0-8857-4065-BA90-7A7E0201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E846-1B8F-471A-8EAD-E8BD6084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6F06-6A97-4C2B-927D-5B15EEF7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CB4F-5523-42E5-B2B4-BB9A2B56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54120" y="228600"/>
            <a:ext cx="7556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D949-9DB0-4EC3-9277-3B83000F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3AD4-0643-4E35-B516-79699A3B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0019-E18B-4188-A6C0-2337F3A0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52E5-E723-4F8E-A073-19A2CF67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0350-3F3F-4FF0-A419-900E7BC2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24E6-ED56-4EED-B402-AFDAA218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B05A-3259-4A67-91D2-1E145946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982D-1745-4199-BF7E-FAF6B0A3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D55-B13E-4458-92EC-EB0221FD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467-A072-443D-A4B9-FBB295A0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6004-4182-4E8B-AE75-037A2CA1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54120" y="228600"/>
            <a:ext cx="7556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AEB2-B044-41B4-995D-09A8D38D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89C-3C46-4E19-9E99-B869D938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2CC3-AAB0-49C2-9FFF-7389E3C1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80B-815D-46DE-A1AC-521322EB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533520"/>
            <a:ext cx="8305920" cy="571500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52280"/>
            <a:ext cx="8534520" cy="1219320"/>
            <a:chOff x="0" y="152280"/>
            <a:chExt cx="8534520" cy="1219320"/>
          </a:xfrm>
        </p:grpSpPr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99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98CF-5824-4844-96FB-89118116A9FF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434880" y="893880"/>
            <a:ext cx="8048520" cy="1820880"/>
          </a:xfrm>
          <a:prstGeom prst="roundRect">
            <a:avLst>
              <a:gd name="adj" fmla="val 16667"/>
            </a:avLst>
          </a:prstGeom>
          <a:solidFill>
            <a:srgbClr val="75878b"/>
          </a:solidFill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070000"/>
            <a:ext cx="7391520" cy="33530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1297080"/>
            <a:ext cx="8991720" cy="1828800"/>
            <a:chOff x="0" y="1297080"/>
            <a:chExt cx="8991720" cy="1828800"/>
          </a:xfrm>
        </p:grpSpPr>
        <p:sp>
          <p:nvSpPr>
            <p:cNvPr id="48" name=""/>
            <p:cNvSpPr/>
            <p:nvPr/>
          </p:nvSpPr>
          <p:spPr>
            <a:xfrm>
              <a:off x="0" y="1297080"/>
              <a:ext cx="8991720" cy="18288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973600"/>
              <a:ext cx="8305920" cy="0"/>
            </a:xfrm>
            <a:prstGeom prst="line">
              <a:avLst/>
            </a:prstGeom>
            <a:ln w="507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33956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B286-D03D-4F3A-BD23-AD651087B484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33956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od 4 U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ree Years and Grow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4786200"/>
            <a:ext cx="6629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for the Athlete in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63720" y="3670200"/>
            <a:ext cx="549900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de002a"/>
                    </a:gs>
                  </a:gsLst>
                  <a:lin ang="5400000"/>
                </a:gradFill>
                <a:latin typeface="Impact"/>
              </a:rPr>
              <a:t>Healthy Food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de002a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2095560" y="1333440"/>
            <a:ext cx="1295280" cy="162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29792 C 0.02639 0.44259 0.15902 0.52662 0.30225 0.49352 C 0.45069 0.45996 0.55451 0.32176 0.53576 0.17708 C 0.51718 0.03218 0.62066 -0.10579 0.76909 -0.13981 C 0.91284 -0.17292 1.04514 -0.08866 1.06371 0.05602 E">
                                      <p:cBhvr>
                                        <p:cTn id="17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We Bega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Irvinell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came from a tennis 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 Wolf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’s a well-known marathon ru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people to enjoy healthy 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participation in sports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219400"/>
            <a:ext cx="231840" cy="231840"/>
          </a:xfrm>
          <a:prstGeom prst="star5">
            <a:avLst/>
          </a:prstGeom>
          <a:solidFill>
            <a:srgbClr val="efeb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animClr clrSpc="rgb">
                                      <p:cBhvr>
                                        <p:cTn id="27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set>
                                      <p:cBhvr>
                                        <p:cTn id="28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84320" y="5684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ancial Histor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68280" y="1955880"/>
          <a:ext cx="6502680" cy="364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1955880"/>
                    <a:ext cx="650268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We’re Grow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9840" y="1873080"/>
            <a:ext cx="5311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ami in 20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s Angeles in 20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ve restaurants by 200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75400" y="3886200"/>
            <a:ext cx="696960" cy="2319480"/>
          </a:xfrm>
          <a:prstGeom prst="upArrow">
            <a:avLst>
              <a:gd name="adj1" fmla="val 71296"/>
              <a:gd name="adj2" fmla="val 69703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89800" y="2971800"/>
            <a:ext cx="696960" cy="3233880"/>
          </a:xfrm>
          <a:prstGeom prst="upArrow">
            <a:avLst>
              <a:gd name="adj1" fmla="val 71296"/>
              <a:gd name="adj2" fmla="val 97182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04200" y="2057400"/>
            <a:ext cx="696960" cy="4148280"/>
          </a:xfrm>
          <a:prstGeom prst="upArrow">
            <a:avLst>
              <a:gd name="adj1" fmla="val 71296"/>
              <a:gd name="adj2" fmla="val 124660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 to Expan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nue growth of 3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locations by the yea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f Michelle Jenkins is busy creating new culinary trea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ing manager Roy Olafsen is diligently researching new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68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68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’ve Come a Long Wa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2400" y="2161800"/>
            <a:ext cx="809604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Steady revenue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Innovative menu planning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We know our custom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3:34Z</dcterms:created>
  <dc:creator>Pat R. Graves</dc:creator>
  <dc:description/>
  <dc:language>en-US</dc:language>
  <cp:lastModifiedBy>Pat Graves</cp:lastModifiedBy>
  <cp:lastPrinted>1997-08-11T17:17:08Z</cp:lastPrinted>
  <dcterms:modified xsi:type="dcterms:W3CDTF">2004-03-24T23:13:42Z</dcterms:modified>
  <cp:revision>104</cp:revision>
  <dc:subject/>
  <dc:title>Three Years and Growing</dc:title>
</cp:coreProperties>
</file>