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chimes.wav" ContentType="audio/x-wav"/>
  <Override PartName="/ppt/media/image3.wmf" ContentType="image/x-wmf"/>
  <Override PartName="/ppt/media/image4.png" ContentType="image/png"/>
  <Override PartName="/ppt/media/image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34200" cy="9259888"/>
  <p:custShowLst>
    <p:custShow name="Financial" id="0">
      <p:sldLst>
        <p:sld r:id="rId8"/>
        <p:sld r:id="rId9"/>
        <p:sld r:id="rId11"/>
      </p:sldLst>
    </p:custShow>
    <p:custShow name="Background" id="1">
      <p:sldLst>
        <p:sld r:id="rId7"/>
        <p:sld r:id="rId9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AA42AD-D370-42B0-B7A5-DD2E8801642D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B1293E-B390-4F4E-95EF-6F6C72F29D1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B7D-75CC-427F-BDE0-7B6A6262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AEC-92B8-4DCF-9627-6B88F033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E80-FC17-441A-B02E-8BB0B17D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87E-8408-402A-9AC8-313B96E3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EA13-F8E9-469B-83D8-70CD5A1B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018D-646A-4ABA-BE76-B3C4840B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12BF-5E05-4CBC-8FCD-33FDE084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A85D-A0AD-439E-835F-A91CBDC1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7482-0511-40B5-8610-70A4A521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61A8-A8DE-481C-91C0-6FC8B1CF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BEF9-F12D-4E11-8840-665AC578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238-5D19-4A06-933E-42683C3D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7FEA-50B8-4AA2-9198-ED03B770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1BE5-953E-4EA1-B57C-585D6E2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301E-7DB5-4826-A8B4-8BE606B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246F-40C8-4D61-BF1C-643A1E3C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1EB8-0450-4D32-959A-8EE5A373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ACD-00B3-4D37-86F3-ACE1840D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07F-7EC5-442A-B344-DC935377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B54-521C-436D-B0E6-B5A7F20E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B3B-7E72-42F7-B2CC-17536166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CC2-D3E6-4585-802B-49B54500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5DC-B2FE-4E0D-B322-414B3174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C7A-FD85-49CA-88C0-C6FBE75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76AF-95F2-4074-9601-2B8EDD38AAA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8440" y="399960"/>
            <a:ext cx="657360" cy="657360"/>
          </a:xfrm>
          <a:custGeom>
            <a:avLst/>
            <a:gdLst>
              <a:gd name="textAreaLeft" fmla="*/ 42480 w 657360"/>
              <a:gd name="textAreaRight" fmla="*/ 614880 w 657360"/>
              <a:gd name="textAreaTop" fmla="*/ 42480 h 657360"/>
              <a:gd name="textAreaBottom" fmla="*/ 614880 h 6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9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EBF0-D535-421E-B24E-3B0C2148CDB5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362480" y="7219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480" y="6143760"/>
            <a:ext cx="1628640" cy="571320"/>
          </a:xfrm>
          <a:custGeom>
            <a:avLst/>
            <a:gdLst>
              <a:gd name="textAreaLeft" fmla="*/ 36720 w 1628640"/>
              <a:gd name="textAreaRight" fmla="*/ 1591920 w 16286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61549" h="21600">
                <a:moveTo>
                  <a:pt x="0" y="0"/>
                </a:moveTo>
                <a:lnTo>
                  <a:pt x="61549" y="0"/>
                </a:lnTo>
                <a:lnTo>
                  <a:pt x="61549" y="21600"/>
                </a:lnTo>
                <a:lnTo>
                  <a:pt x="0" y="21600"/>
                </a:lnTo>
                <a:close/>
              </a:path>
              <a:path fill="lightenLess" w="61549" h="21600">
                <a:moveTo>
                  <a:pt x="0" y="0"/>
                </a:moveTo>
                <a:lnTo>
                  <a:pt x="61549" y="0"/>
                </a:lnTo>
                <a:lnTo>
                  <a:pt x="60149" y="1400"/>
                </a:lnTo>
                <a:lnTo>
                  <a:pt x="1400" y="1400"/>
                </a:lnTo>
                <a:close/>
              </a:path>
              <a:path fill="darken" w="61549" h="21600">
                <a:moveTo>
                  <a:pt x="61549" y="0"/>
                </a:moveTo>
                <a:lnTo>
                  <a:pt x="61549" y="21600"/>
                </a:lnTo>
                <a:lnTo>
                  <a:pt x="60149" y="20200"/>
                </a:lnTo>
                <a:lnTo>
                  <a:pt x="60149" y="1400"/>
                </a:lnTo>
                <a:close/>
              </a:path>
              <a:path fill="darkenLess" w="61549" h="21600">
                <a:moveTo>
                  <a:pt x="6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49" y="20200"/>
                </a:lnTo>
                <a:close/>
              </a:path>
              <a:path fill="lighten" w="6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480" y="5659560"/>
            <a:ext cx="1628640" cy="571320"/>
          </a:xfrm>
          <a:custGeom>
            <a:avLst/>
            <a:gdLst>
              <a:gd name="textAreaLeft" fmla="*/ 36720 w 1628640"/>
              <a:gd name="textAreaRight" fmla="*/ 1591920 w 16286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61549" h="21600">
                <a:moveTo>
                  <a:pt x="0" y="0"/>
                </a:moveTo>
                <a:lnTo>
                  <a:pt x="61549" y="0"/>
                </a:lnTo>
                <a:lnTo>
                  <a:pt x="61549" y="21600"/>
                </a:lnTo>
                <a:lnTo>
                  <a:pt x="0" y="21600"/>
                </a:lnTo>
                <a:close/>
              </a:path>
              <a:path fill="lightenLess" w="61549" h="21600">
                <a:moveTo>
                  <a:pt x="0" y="0"/>
                </a:moveTo>
                <a:lnTo>
                  <a:pt x="61549" y="0"/>
                </a:lnTo>
                <a:lnTo>
                  <a:pt x="60149" y="1400"/>
                </a:lnTo>
                <a:lnTo>
                  <a:pt x="1400" y="1400"/>
                </a:lnTo>
                <a:close/>
              </a:path>
              <a:path fill="darken" w="61549" h="21600">
                <a:moveTo>
                  <a:pt x="61549" y="0"/>
                </a:moveTo>
                <a:lnTo>
                  <a:pt x="61549" y="21600"/>
                </a:lnTo>
                <a:lnTo>
                  <a:pt x="60149" y="20200"/>
                </a:lnTo>
                <a:lnTo>
                  <a:pt x="60149" y="1400"/>
                </a:lnTo>
                <a:close/>
              </a:path>
              <a:path fill="darkenLess" w="61549" h="21600">
                <a:moveTo>
                  <a:pt x="6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49" y="20200"/>
                </a:lnTo>
                <a:close/>
              </a:path>
              <a:path fill="lighten" w="6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00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cussion Poi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Where We B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Financial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Where We’re G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Time to Exp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We’ve Come a Long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92480" y="324972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2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90840" y="478152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8:40Z</dcterms:modified>
  <cp:revision>111</cp:revision>
  <dc:subject/>
  <dc:title>Three Years and Growing</dc:title>
</cp:coreProperties>
</file>