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chimes.wav" ContentType="audio/x-wav"/>
  <Override PartName="/ppt/media/image3.wmf" ContentType="image/x-wmf"/>
  <Override PartName="/ppt/media/image4.png" ContentType="image/png"/>
  <Override PartName="/ppt/media/image5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336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30480" y="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E9A7A2-6587-44E0-B59B-E702A25CA8E3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58840" y="701280"/>
            <a:ext cx="4616640" cy="34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79480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30480" y="879480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AD99FB-7D15-47B6-AA39-DD770F1B814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60640" y="701640"/>
            <a:ext cx="4613040" cy="3459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irst year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start-up costs mostly, and, of course, in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we learned the value of a big advertising bud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50A-96B5-44B3-B775-A9961B26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FE7-A592-4F7E-9335-6360CD63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C8D-1B64-4159-9D6E-5AE5F44E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A90-AE38-43B2-B1EB-7A21415B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9007-5961-4059-AB51-A418FE75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F732-B0C9-41C1-833B-B1127C56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0A3B-71A0-459C-B397-D0DD26BB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44E7-DEAD-42D4-A91B-0DEC1A0E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6FDF-9F19-409E-A491-EF6D7D30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2AC8-6E01-445B-A2AF-57DD2684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E367-7ED8-4EEA-812E-F3DCFB6A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BC3-C904-404A-9031-F91EB7F1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0A09-A0D8-4F6D-88F3-A0CC8EAA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C026-537A-4466-BFF3-801CD91C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1663-830D-4F37-859E-69E1240C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0665-9466-4439-BA09-1B4F4CA2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E0F6-1778-43E0-A9DF-93865904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EFE-F313-47C4-B015-C2F30371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D4C-E0F0-42AB-A2D6-985AD696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803-5D91-4106-BC09-5A6693F2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F1C-7A92-4DF2-869D-7F8D9484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473-FCAC-4875-AD04-AB7712FE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5EC-834E-4734-BEE9-442D2229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465-9BFC-45C8-BD8C-CB1E74CD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533520"/>
            <a:ext cx="8305920" cy="571500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8534520" cy="1219320"/>
            <a:chOff x="0" y="152280"/>
            <a:chExt cx="8534520" cy="1219320"/>
          </a:xfrm>
        </p:grpSpPr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6D93-05E9-40AF-9925-963EDCEA64CD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434880" y="893880"/>
            <a:ext cx="8048520" cy="1820880"/>
          </a:xfrm>
          <a:prstGeom prst="roundRect">
            <a:avLst>
              <a:gd name="adj" fmla="val 16667"/>
            </a:avLst>
          </a:prstGeom>
          <a:solidFill>
            <a:srgbClr val="75878b"/>
          </a:solidFill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70000"/>
            <a:ext cx="7391520" cy="3353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1297080"/>
            <a:ext cx="8991720" cy="1828800"/>
            <a:chOff x="0" y="1297080"/>
            <a:chExt cx="8991720" cy="1828800"/>
          </a:xfrm>
        </p:grpSpPr>
        <p:sp>
          <p:nvSpPr>
            <p:cNvPr id="48" name=""/>
            <p:cNvSpPr/>
            <p:nvPr/>
          </p:nvSpPr>
          <p:spPr>
            <a:xfrm>
              <a:off x="0" y="1297080"/>
              <a:ext cx="8991720" cy="18288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973600"/>
              <a:ext cx="8305920" cy="0"/>
            </a:xfrm>
            <a:prstGeom prst="line">
              <a:avLst/>
            </a:prstGeom>
            <a:ln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A6EF-7CEB-48D1-B9EC-CC04453F5D8A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 4 U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ree Years and Gro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4786200"/>
            <a:ext cx="6629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for the Athlete in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63720" y="3670200"/>
            <a:ext cx="54990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e002a"/>
                    </a:gs>
                  </a:gsLst>
                  <a:lin ang="5400000"/>
                </a:gradFill>
                <a:latin typeface="Impact"/>
              </a:rPr>
              <a:t>Healthy Food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de002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095560" y="1333440"/>
            <a:ext cx="1295280" cy="1622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362480" y="7219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29792 C 0.02639 0.44259 0.15902 0.52662 0.30225 0.49352 C 0.45069 0.45996 0.55451 0.32176 0.53576 0.17708 C 0.51718 0.03218 0.62066 -0.10579 0.76909 -0.13981 C 0.91284 -0.17292 1.04514 -0.08866 1.06371 0.05602 E">
                                      <p:cBhvr>
                                        <p:cTn id="19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 Bega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Irvinell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came from a tennis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Wolf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’s a well-known marathon ru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people to enjoy healthy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rticipation in sports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05160" y="221940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92480" y="324972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2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set>
                                      <p:cBhvr>
                                        <p:cTn id="61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84320" y="568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ancial Histo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68280" y="1955880"/>
          <a:ext cx="6502680" cy="36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955880"/>
                    <a:ext cx="650268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’re Grow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9840" y="1873080"/>
            <a:ext cx="5311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ami in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 Angeles in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restaurants by 200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75400" y="3886200"/>
            <a:ext cx="696960" cy="2319480"/>
          </a:xfrm>
          <a:prstGeom prst="upArrow">
            <a:avLst>
              <a:gd name="adj1" fmla="val 71296"/>
              <a:gd name="adj2" fmla="val 69703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89800" y="2971800"/>
            <a:ext cx="696960" cy="3233880"/>
          </a:xfrm>
          <a:prstGeom prst="upArrow">
            <a:avLst>
              <a:gd name="adj1" fmla="val 71296"/>
              <a:gd name="adj2" fmla="val 97182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04200" y="2057400"/>
            <a:ext cx="696960" cy="4148280"/>
          </a:xfrm>
          <a:prstGeom prst="upArrow">
            <a:avLst>
              <a:gd name="adj1" fmla="val 71296"/>
              <a:gd name="adj2" fmla="val 124660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2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 to Expa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 growth of 3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locations by the yea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 Michelle Jenkins is busy creating new culinary tre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manager Roy Olafsen is diligently researching new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’ve Come a Long Wa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2400" y="2161800"/>
            <a:ext cx="809604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Steady revenue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Innovative menu plann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We know our cust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390840" y="4781520"/>
            <a:ext cx="2076480" cy="2076480"/>
          </a:xfrm>
          <a:prstGeom prst="rect">
            <a:avLst/>
          </a:prstGeom>
          <a:ln w="0">
            <a:noFill/>
          </a:ln>
        </p:spPr>
      </p:pic>
    </p:spTree>
  </p:cSld>
  <p:transition advTm="30000"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Pat R. Graves</dc:creator>
  <dc:description/>
  <dc:language>en-US</dc:language>
  <cp:lastModifiedBy>Pat Graves</cp:lastModifiedBy>
  <cp:lastPrinted>1997-08-11T17:17:08Z</cp:lastPrinted>
  <dcterms:modified xsi:type="dcterms:W3CDTF">2004-03-24T23:16:42Z</dcterms:modified>
  <cp:revision>108</cp:revision>
  <dc:subject/>
  <dc:title>Three Years and Growing</dc:title>
</cp:coreProperties>
</file>