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A76-EBEA-4708-8671-570EBACE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555-DE8E-444E-B817-E0787B3F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D08-DF98-47F6-A7AD-02C54D29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7C0-BD59-4E61-888D-D8682E3A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AB50-2B89-4BC4-8EC3-EE0F6207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6210-F0F0-44DC-9289-419E95B5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5BF4-53F6-41AA-A187-C206533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7E40-1353-4A27-9F29-D2F8656F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91B0-E676-4CB8-BA5A-69F772AC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3072-975E-4ABD-B498-D6FD4E63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AA80-C426-45DF-9876-258BF58F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7DA-654F-4054-BEFF-21F8C0B7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A156-CDA9-4F00-9496-8397847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BE9B-F514-4A9F-BB61-6795418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6075-5DA7-492D-BD48-9693647B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CEDE-9CE6-47EE-95B7-1519C093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9A84-BFBE-4CB7-8F4E-A25F35CE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9DB-E075-405F-A89B-F4EA808B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C69-CCCF-4F14-9B90-5BD315C9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1CA-4624-403C-A2B8-DACBC0D7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405-483E-46FB-B7BA-D8D25000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3BB-DD56-41FC-A6DE-6D24D05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1A7-A90A-4D8F-BE6B-3F0B2D46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D58-B595-4AD0-B407-020B56C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8D7-236C-425A-BF88-1F127A9B29BA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828800"/>
            <a:ext cx="7848360" cy="533520"/>
          </a:xfrm>
          <a:prstGeom prst="rightArrow">
            <a:avLst>
              <a:gd name="adj1" fmla="val 50000"/>
              <a:gd name="adj2" fmla="val 126129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313B-070D-4233-8EAB-AE9E6EF3691B}" type="slidenum">
              <a:rPr b="1" lang="en-US" sz="26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736200" y="132192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200400"/>
            <a:ext cx="7848720" cy="533520"/>
          </a:xfrm>
          <a:prstGeom prst="rightArrow">
            <a:avLst>
              <a:gd name="adj1" fmla="val 50000"/>
              <a:gd name="adj2" fmla="val 126135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36200" y="132192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heduling Ev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65360" y="48070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Good 4 U  Promotion Planning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1870200" cy="1870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Overall Statu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pecial event per qu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factors taken into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s will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8077320" y="5943600"/>
            <a:ext cx="685800" cy="609480"/>
          </a:xfrm>
          <a:custGeom>
            <a:avLst/>
            <a:gdLst>
              <a:gd name="textAreaLeft" fmla="*/ 99720 w 685800"/>
              <a:gd name="textAreaRight" fmla="*/ 586080 w 685800"/>
              <a:gd name="textAreaTop" fmla="*/ 99720 h 609480"/>
              <a:gd name="textAreaBottom" fmla="*/ 50976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0759" y="3544"/>
                </a:lnTo>
                <a:lnTo>
                  <a:pt x="3544" y="3544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0759" y="18056"/>
                </a:lnTo>
                <a:lnTo>
                  <a:pt x="20759" y="3544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3544" y="18056"/>
                </a:lnTo>
                <a:lnTo>
                  <a:pt x="20759" y="18056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3544" y="3544"/>
                </a:lnTo>
                <a:lnTo>
                  <a:pt x="3544" y="18056"/>
                </a:lnTo>
                <a:close/>
              </a:path>
              <a:path fill="darken" w="24303" h="21600">
                <a:moveTo>
                  <a:pt x="12152" y="5392"/>
                </a:moveTo>
                <a:arcTo wR="5408" hR="5408" stAng="16200000" swAng="-5400000"/>
                <a:arcTo wR="5408" hR="5408" stAng="10800000" swAng="-5400000"/>
                <a:arcTo wR="5408" hR="5408" stAng="5400000" swAng="-5400000"/>
                <a:arcTo wR="5408" hR="5408" stAng="0" swAng="-5400000"/>
                <a:close/>
              </a:path>
              <a:path fill="lighten" w="24303" h="21600">
                <a:moveTo>
                  <a:pt x="12152" y="5680"/>
                </a:moveTo>
                <a:arcTo wR="1384" hR="1384" stAng="16200000" swAng="-5400000"/>
                <a:arcTo wR="1384" hR="1384" stAng="10800000" swAng="-5400000"/>
                <a:arcTo wR="1384" hR="1384" stAng="5400000" swAng="-5400000"/>
                <a:arcTo wR="1384" hR="1384" stAng="0" swAng="-5400000"/>
                <a:close/>
              </a:path>
              <a:path fill="lighten" w="24303" h="21600">
                <a:moveTo>
                  <a:pt x="10163" y="8811"/>
                </a:moveTo>
                <a:lnTo>
                  <a:pt x="13146" y="8811"/>
                </a:lnTo>
                <a:lnTo>
                  <a:pt x="13146" y="14213"/>
                </a:lnTo>
                <a:lnTo>
                  <a:pt x="14140" y="14213"/>
                </a:lnTo>
                <a:lnTo>
                  <a:pt x="14140" y="14925"/>
                </a:lnTo>
                <a:lnTo>
                  <a:pt x="10163" y="14925"/>
                </a:lnTo>
                <a:lnTo>
                  <a:pt x="10163" y="14213"/>
                </a:lnTo>
                <a:lnTo>
                  <a:pt x="11157" y="14213"/>
                </a:lnTo>
                <a:lnTo>
                  <a:pt x="11157" y="9510"/>
                </a:lnTo>
                <a:lnTo>
                  <a:pt x="10163" y="951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Tentatively Scheduled Even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In-Line Skate demo te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stchester Girl’s Gymnastics team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8077320" y="5943600"/>
            <a:ext cx="685800" cy="609480"/>
          </a:xfrm>
          <a:custGeom>
            <a:avLst/>
            <a:gdLst>
              <a:gd name="textAreaLeft" fmla="*/ 110520 w 685800"/>
              <a:gd name="textAreaRight" fmla="*/ 575280 w 685800"/>
              <a:gd name="textAreaTop" fmla="*/ 110520 h 609480"/>
              <a:gd name="textAreaBottom" fmla="*/ 49896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0382" y="3921"/>
                </a:lnTo>
                <a:lnTo>
                  <a:pt x="3921" y="3921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0382" y="17679"/>
                </a:lnTo>
                <a:lnTo>
                  <a:pt x="20382" y="3921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20382" y="17679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  <a:path fill="darken" w="24303" h="21600">
                <a:moveTo>
                  <a:pt x="7024" y="8380"/>
                </a:moveTo>
                <a:lnTo>
                  <a:pt x="9591" y="8380"/>
                </a:lnTo>
                <a:lnTo>
                  <a:pt x="9591" y="12284"/>
                </a:lnTo>
                <a:cubicBezTo>
                  <a:pt x="9591" y="12959"/>
                  <a:pt x="10177" y="13494"/>
                  <a:pt x="10935" y="13494"/>
                </a:cubicBezTo>
                <a:lnTo>
                  <a:pt x="12152" y="13494"/>
                </a:lnTo>
                <a:cubicBezTo>
                  <a:pt x="12910" y="13494"/>
                  <a:pt x="13496" y="12959"/>
                  <a:pt x="13496" y="12284"/>
                </a:cubicBezTo>
                <a:lnTo>
                  <a:pt x="13496" y="8380"/>
                </a:lnTo>
                <a:lnTo>
                  <a:pt x="12152" y="8380"/>
                </a:lnTo>
                <a:lnTo>
                  <a:pt x="14718" y="5813"/>
                </a:lnTo>
                <a:lnTo>
                  <a:pt x="17406" y="8380"/>
                </a:lnTo>
                <a:lnTo>
                  <a:pt x="16062" y="8380"/>
                </a:lnTo>
                <a:lnTo>
                  <a:pt x="16062" y="12284"/>
                </a:lnTo>
                <a:cubicBezTo>
                  <a:pt x="16062" y="14310"/>
                  <a:pt x="14177" y="16182"/>
                  <a:pt x="12152" y="16182"/>
                </a:cubicBezTo>
                <a:lnTo>
                  <a:pt x="10935" y="16182"/>
                </a:lnTo>
                <a:cubicBezTo>
                  <a:pt x="8910" y="16182"/>
                  <a:pt x="7024" y="14310"/>
                  <a:pt x="7024" y="12284"/>
                </a:cubicBez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Promotional Idea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819520"/>
            <a:ext cx="4267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cultural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 with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14172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rm 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y necessary schedule shi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schedule for ad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 schedule on Web home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6-08-23T19:57:42Z</cp:lastPrinted>
  <dcterms:modified xsi:type="dcterms:W3CDTF">2004-03-15T15:37:22Z</dcterms:modified>
  <cp:revision>40</cp:revision>
  <dc:subject/>
  <dc:title>Scheduling Events</dc:title>
</cp:coreProperties>
</file>