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chimes.wav" ContentType="audio/x-wav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33600" cy="925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348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30480" y="0"/>
            <a:ext cx="30038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54AD4FC-5EB6-4F1B-93A0-56034BC25329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58840" y="701280"/>
            <a:ext cx="4616640" cy="345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23400" y="4397040"/>
            <a:ext cx="5086440" cy="4167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794800"/>
            <a:ext cx="300348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30480" y="8794800"/>
            <a:ext cx="30038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4B763C3-638B-49D9-9612-0B42A3133A1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60640" y="701640"/>
            <a:ext cx="4613040" cy="3459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23400" y="4397040"/>
            <a:ext cx="5086440" cy="4167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first year 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start-up costs mostly, and, of course, in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we learned the value of a big advertising budg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6FF8-3DAC-440B-A461-FC082DA4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CCD5-7EC7-4229-8342-B955D326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A879-DF2C-4937-BE92-B40E5BE4F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16A8-6023-4AC7-9DCB-7D3774F21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95DF-F0BE-4DF0-8378-1CD5196D2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B94C-072D-4BC0-8786-D1A9A3FA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AEAA-B355-4BD7-ADD2-FDFF50F9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7A48-C996-4D8B-AF70-19A2E9DA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6884-A28A-45C0-91B4-275B1892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54120" y="228600"/>
            <a:ext cx="7556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7635-8DF7-4536-9321-DF400855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9253-FEF3-41F0-97EC-10036BFF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7C0A-C09F-47D0-9522-FC0FF4E6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AFF4-9EBB-46B0-A77B-A97CE87B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B159-3426-4E43-8DD2-1960FF54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3737-104B-4371-AC3F-C6679E07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1E69-9285-42B5-998C-CD8CFDE77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F845-8D98-4CC3-A152-50308CA6A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9A17-2545-4BC0-A892-684C29F4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B3F4-DBF1-461B-A4EB-6A8A7A71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1D99-17E6-4027-B9C5-1B67F23F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54120" y="228600"/>
            <a:ext cx="7556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6830-2171-41D3-903A-FFA5249B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A49F-B4F8-4B99-A755-F98CFB72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6EB2-9345-4FFF-9C64-08A99CE8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0CA1-EF1F-4106-8CA2-C0DD1696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533520"/>
            <a:ext cx="8305920" cy="5715000"/>
          </a:xfrm>
          <a:prstGeom prst="roundRect">
            <a:avLst>
              <a:gd name="adj" fmla="val 13727"/>
            </a:avLst>
          </a:prstGeom>
          <a:noFill/>
          <a:ln w="50760">
            <a:solidFill>
              <a:srgbClr val="7587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52280"/>
            <a:ext cx="8534520" cy="1219320"/>
            <a:chOff x="0" y="152280"/>
            <a:chExt cx="8534520" cy="1219320"/>
          </a:xfrm>
        </p:grpSpPr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2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99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5878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5878b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90D8-09E7-458F-8689-1E166EBA18C3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434880" y="893880"/>
            <a:ext cx="8048520" cy="1820880"/>
          </a:xfrm>
          <a:prstGeom prst="roundRect">
            <a:avLst>
              <a:gd name="adj" fmla="val 16667"/>
            </a:avLst>
          </a:prstGeom>
          <a:solidFill>
            <a:srgbClr val="75878b"/>
          </a:solidFill>
          <a:ln w="50760">
            <a:solidFill>
              <a:srgbClr val="7587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070000"/>
            <a:ext cx="7391520" cy="33530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7587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1297080"/>
            <a:ext cx="8991720" cy="1828800"/>
            <a:chOff x="0" y="1297080"/>
            <a:chExt cx="8991720" cy="1828800"/>
          </a:xfrm>
        </p:grpSpPr>
        <p:sp>
          <p:nvSpPr>
            <p:cNvPr id="48" name=""/>
            <p:cNvSpPr/>
            <p:nvPr/>
          </p:nvSpPr>
          <p:spPr>
            <a:xfrm>
              <a:off x="0" y="1297080"/>
              <a:ext cx="8991720" cy="182880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973600"/>
              <a:ext cx="8305920" cy="0"/>
            </a:xfrm>
            <a:prstGeom prst="line">
              <a:avLst/>
            </a:prstGeom>
            <a:ln w="50760">
              <a:solidFill>
                <a:srgbClr val="2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339560"/>
            <a:ext cx="8077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81D7-7C1B-4E9C-AD26-301581DAC880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5878b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5878b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339560"/>
            <a:ext cx="8077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od 4 U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ree Years and Grow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4786200"/>
            <a:ext cx="6629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for the Athlete in Yo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63720" y="3670200"/>
            <a:ext cx="5499000" cy="9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de002a"/>
                    </a:gs>
                  </a:gsLst>
                  <a:lin ang="5400000"/>
                </a:gradFill>
                <a:latin typeface="Impact"/>
              </a:rPr>
              <a:t>Healthy Food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de002a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2095560" y="1333440"/>
            <a:ext cx="1295280" cy="162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29792 C 0.02639 0.44259 0.15902 0.52662 0.30225 0.49352 C 0.45069 0.45996 0.55451 0.32176 0.53576 0.17708 C 0.51718 0.03218 0.62066 -0.10579 0.76909 -0.13981 C 0.91284 -0.17292 1.04514 -0.08866 1.06371 0.05602 E">
                                      <p:cBhvr>
                                        <p:cTn id="17" dur="3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re We Bega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un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s Irvinelli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s came from a tennis back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ie Wolf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ie’s a well-known marathon run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Dre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people to enjoy healthy e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 participation in sports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219400"/>
            <a:ext cx="231840" cy="231840"/>
          </a:xfrm>
          <a:prstGeom prst="star5">
            <a:avLst/>
          </a:prstGeom>
          <a:solidFill>
            <a:srgbClr val="efeb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60000"/>
                                      </p:to>
                                    </p:animClr>
                                    <p:animClr clrSpc="rgb">
                                      <p:cBhvr>
                                        <p:cTn id="27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60000"/>
                                      </p:to>
                                    </p:animClr>
                                    <p:set>
                                      <p:cBhvr>
                                        <p:cTn id="28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84320" y="5684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ancial Histor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68280" y="1955880"/>
          <a:ext cx="6502680" cy="364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8280" y="1955880"/>
                    <a:ext cx="6502680" cy="36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re We’re Grow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99840" y="1873080"/>
            <a:ext cx="5311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ami in 200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s Angeles in 200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ve restaurants by 200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75400" y="3886200"/>
            <a:ext cx="696960" cy="2319480"/>
          </a:xfrm>
          <a:prstGeom prst="upArrow">
            <a:avLst>
              <a:gd name="adj1" fmla="val 71296"/>
              <a:gd name="adj2" fmla="val 69703"/>
            </a:avLst>
          </a:prstGeom>
          <a:gradFill rotWithShape="0">
            <a:gsLst>
              <a:gs pos="0">
                <a:srgbClr val="ffcc00"/>
              </a:gs>
              <a:gs pos="100000">
                <a:srgbClr val="655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89800" y="2971800"/>
            <a:ext cx="696960" cy="3233880"/>
          </a:xfrm>
          <a:prstGeom prst="upArrow">
            <a:avLst>
              <a:gd name="adj1" fmla="val 71296"/>
              <a:gd name="adj2" fmla="val 97182"/>
            </a:avLst>
          </a:prstGeom>
          <a:gradFill rotWithShape="0">
            <a:gsLst>
              <a:gs pos="0">
                <a:srgbClr val="ffcc00"/>
              </a:gs>
              <a:gs pos="100000">
                <a:srgbClr val="655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04200" y="2057400"/>
            <a:ext cx="696960" cy="4148280"/>
          </a:xfrm>
          <a:prstGeom prst="upArrow">
            <a:avLst>
              <a:gd name="adj1" fmla="val 71296"/>
              <a:gd name="adj2" fmla="val 124660"/>
            </a:avLst>
          </a:prstGeom>
          <a:gradFill rotWithShape="0">
            <a:gsLst>
              <a:gs pos="0">
                <a:srgbClr val="ffcc00"/>
              </a:gs>
              <a:gs pos="100000">
                <a:srgbClr val="655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 to Expand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enue growth of 30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ve locations by the yea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f Michelle Jenkins is busy creating new culinary trea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ing manager Roy Olafsen is diligently researching new 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68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768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e’ve Come a Long Wa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2400" y="2161800"/>
            <a:ext cx="809604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Arial"/>
              </a:rPr>
              <a:t>Steady revenue grow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Arial"/>
              </a:rPr>
              <a:t>Innovative menu planning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Arial"/>
              </a:rPr>
              <a:t>We know our custom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6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768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43:34Z</dcterms:created>
  <dc:creator>Pat R. Graves</dc:creator>
  <dc:description/>
  <dc:language>en-US</dc:language>
  <cp:lastModifiedBy>Pat Graves</cp:lastModifiedBy>
  <cp:lastPrinted>1997-08-11T17:17:08Z</cp:lastPrinted>
  <dcterms:modified xsi:type="dcterms:W3CDTF">2004-03-24T23:14:04Z</dcterms:modified>
  <cp:revision>105</cp:revision>
  <dc:subject/>
  <dc:title>Three Years and Growing</dc:title>
</cp:coreProperties>
</file>