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chimes.wav" ContentType="audio/x-wav"/>
  <Override PartName="/ppt/media/image3.wmf" ContentType="image/x-wmf"/>
  <Override PartName="/ppt/media/image4.png" ContentType="image/png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  <p:custShowLst>
    <p:custShow name="Financial" id="0">
      <p:sldLst>
        <p:sld r:id="rId5"/>
        <p:sld r:id="rId7"/>
        <p:sld r:id="rId8"/>
        <p:sld r:id="rId10"/>
      </p:sldLst>
    </p:custShow>
    <p:custShow name="Background" id="1">
      <p:sldLst>
        <p:sld r:id="rId5"/>
        <p:sld r:id="rId6"/>
        <p:sld r:id="rId8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5F477D-61C7-4EFE-8EDA-602C9BC5D134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4D13FF-9299-4AEA-B209-83CC351EAAB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913-812D-4C0B-AB03-DC6A5541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A59-B259-42EE-A19A-3645B33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0A6-4F00-40CF-AF74-CAC3817E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3AA-9B8C-4265-B62B-2F112FC3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D1EA-77A8-49D9-BBB2-4ADE264A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133-6622-4E04-91CD-2D8F508A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ECBF-D936-4B14-9725-B4B0570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5AE3-2880-45AC-9581-BF6387C3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705E-800C-49FF-A1DC-3DBAC62D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F339-B512-4932-824E-7BDBA6B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5DC-6E83-4D16-A892-7EB4B40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06B-7CC4-4C82-96BB-9698F748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333-8A19-4EB6-A36A-2C31BC65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4238-D08A-4E4D-878D-0A134DE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1A4B-E26C-4EE5-B3E0-A1221D4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7DBC-3C63-4AC0-A6C5-106A980F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F477-2337-4561-9A49-83E34F7D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B50-5B0D-4C5D-868C-138E546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A23-ECF4-4E9F-93C3-463F2E50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C4C-074D-4FF5-8A53-5F80DEF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EE6-2D3C-4E3D-BA3E-F68EEBFD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3E8-8851-4D38-9C90-57731B3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57E-715A-48D3-8CF9-AA39973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30C-0D0F-4136-9F23-8B4E5D2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65D-139C-42CF-868F-F2A45AC24CB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5B2-99F1-4F39-A139-62ACD9D3BA3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62480" y="7219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9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92480" y="324972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390840" y="478152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7:11Z</dcterms:modified>
  <cp:revision>109</cp:revision>
  <dc:subject/>
  <dc:title>Three Years and Growing</dc:title>
</cp:coreProperties>
</file>