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CBD4F2-04BC-459D-A721-D4C3CBEF55F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2DA7A4-17A2-442D-AB8F-BC573819ED7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7B8-B939-4DC1-8E3B-EC2F9008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406-50F0-4F67-B241-A955AB2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C14-7278-4B91-9CF1-5546F4E6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7DA-E727-49A1-8A5F-9522AAC3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1E50-B602-43E8-B410-9B76C8B3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5F4C-FA98-4A2F-ADF7-0FD466BD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981-B898-42E1-9D1E-5F95E25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62F7-E7F4-4619-8FC3-7F4C8444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CCFA-44D8-42D5-BA0C-546CFD92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AEFE-9866-4A5C-B749-C46DF865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7CEA-B126-45D0-A178-F849BD68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ED5-2CFE-44D3-B0C8-1A86909E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24F0-F8E7-4568-9400-AF7F6818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9E0D-19AE-4618-93C1-D203458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713-52C5-407B-B144-FEE7A09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7956-760E-44C4-8845-19A9231A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8259-15F7-49C2-972C-8702B087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644-F8A4-426C-897C-BEA2D25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909-C616-464B-A124-CB374A94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DEC-C088-4520-A8BD-EBE3E421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C57-F8F7-4BB1-98D4-8DE7985B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207-2F72-4CD9-876A-56CFEE2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E74-BF63-4532-85A9-245CCF6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872-436B-4500-8DC4-63C92BF4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35B2-E84E-4C7B-BA82-21899EB68C0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FF4-DC6A-4FF7-9592-083C62E503A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4:50Z</dcterms:modified>
  <cp:revision>106</cp:revision>
  <dc:subject/>
  <dc:title>Three Years and Growing</dc:title>
</cp:coreProperties>
</file>