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chimes.wav" ContentType="audio/x-wav"/>
  <Override PartName="/ppt/media/image3.wmf" ContentType="image/x-wmf"/>
  <Override PartName="/ppt/media/image4.png" ContentType="image/png"/>
  <Override PartName="/ppt/media/image5.gif" ContentType="image/gi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934200" cy="9259888"/>
  <p:custShowLst>
    <p:custShow name="Financial" id="0">
      <p:sldLst>
        <p:sld r:id="rId7"/>
        <p:sld r:id="rId8"/>
        <p:sld r:id="rId10"/>
      </p:sldLst>
    </p:custShow>
    <p:custShow name="Background" id="1">
      <p:sldLst>
        <p:sld r:id="rId6"/>
        <p:sld r:id="rId8"/>
        <p:sld r:id="rId10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933600" cy="925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0348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930480" y="0"/>
            <a:ext cx="300384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BEC6A87-6CB8-4DCB-902A-811EC640D712}" type="datetime">
              <a:rPr b="0" i="1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58840" y="701280"/>
            <a:ext cx="4616640" cy="3459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23400" y="4397040"/>
            <a:ext cx="5086440" cy="41670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794800"/>
            <a:ext cx="300348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930480" y="8794800"/>
            <a:ext cx="300384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C329F2E-853D-45B9-BA9B-3550BF3B873E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60640" y="701640"/>
            <a:ext cx="4613040" cy="34592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23400" y="4397040"/>
            <a:ext cx="5086440" cy="4167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 first year lo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e to start-up costs mostly, and, of course, inexperi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how we learned the value of a big advertising budg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9088-6D8F-4318-BA8C-51D73C16F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0CB3-A15A-4D07-B35A-F8CD0B1CA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C4A0-694A-46F4-9189-8CD71BBA7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7970-D123-40B8-9BC4-690604836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F705C-D091-4523-9F60-959E375D6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235C3-8C9E-46C7-8C59-3843CFC29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03BB9-7A16-4C64-A820-43546A779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88384-85FF-45C8-BD51-28FA5D519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FD760-F67A-4326-B2E1-0762F2DE5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54120" y="228600"/>
            <a:ext cx="7556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5A5C4-E528-4F0D-9928-8B54E1EAE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C0506-B017-4518-A27D-66368840B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65A2-992F-4D06-88AC-17053C68A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0ADD5-8458-4F58-9F71-1CD68E3FC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37204-87E4-4C81-A2D3-2F25B7B29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1D29E-043F-4940-A751-CB7169E97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1D8DF-391D-4A56-A187-F3D985E1C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E196A-6EC2-4297-98FA-0A811912C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C829-12D7-4F59-8E88-876D178DD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2516-D726-49B5-8A7F-BB15CCBFA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DE76-3405-4934-B9D0-2EDC596CA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54120" y="228600"/>
            <a:ext cx="7556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20EA-434D-4BD1-AC6A-79F53DE39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3705-F1DA-4443-A220-AABEBDFEA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C0C9-4BFD-4E73-BA24-C8EDE211B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6246-3C10-4240-88B4-BBB006F25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533520"/>
            <a:ext cx="8305920" cy="5715000"/>
          </a:xfrm>
          <a:prstGeom prst="roundRect">
            <a:avLst>
              <a:gd name="adj" fmla="val 13727"/>
            </a:avLst>
          </a:prstGeom>
          <a:noFill/>
          <a:ln w="50760">
            <a:solidFill>
              <a:srgbClr val="7587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152280"/>
            <a:ext cx="8534520" cy="1219320"/>
            <a:chOff x="0" y="152280"/>
            <a:chExt cx="8534520" cy="1219320"/>
          </a:xfrm>
        </p:grpSpPr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2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174600">
              <a:spcBef>
                <a:spcPts val="799"/>
              </a:spcBef>
              <a:buClr>
                <a:srgbClr val="ffffff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5878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5878b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BFBB0-7EDA-4D53-BCA8-29B68EE794D5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-434880" y="893880"/>
            <a:ext cx="8048520" cy="1820880"/>
          </a:xfrm>
          <a:prstGeom prst="roundRect">
            <a:avLst>
              <a:gd name="adj" fmla="val 16667"/>
            </a:avLst>
          </a:prstGeom>
          <a:solidFill>
            <a:srgbClr val="75878b"/>
          </a:solidFill>
          <a:ln w="50760">
            <a:solidFill>
              <a:srgbClr val="7587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070000"/>
            <a:ext cx="7391520" cy="335304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7587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1297080"/>
            <a:ext cx="8991720" cy="1828800"/>
            <a:chOff x="0" y="1297080"/>
            <a:chExt cx="8991720" cy="1828800"/>
          </a:xfrm>
        </p:grpSpPr>
        <p:sp>
          <p:nvSpPr>
            <p:cNvPr id="48" name=""/>
            <p:cNvSpPr/>
            <p:nvPr/>
          </p:nvSpPr>
          <p:spPr>
            <a:xfrm>
              <a:off x="0" y="1297080"/>
              <a:ext cx="8991720" cy="1828800"/>
            </a:xfrm>
            <a:prstGeom prst="pi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2973600"/>
              <a:ext cx="8305920" cy="0"/>
            </a:xfrm>
            <a:prstGeom prst="line">
              <a:avLst/>
            </a:prstGeom>
            <a:ln w="50760">
              <a:solidFill>
                <a:srgbClr val="2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339560"/>
            <a:ext cx="807732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5B665-1C84-44D8-9E14-ACE39F572354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5878b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75878b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1339560"/>
            <a:ext cx="807732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ood 4 U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ree Years and Growing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66320" y="4786200"/>
            <a:ext cx="6629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Arial"/>
              </a:rPr>
              <a:t>for the Athlete in Yo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63720" y="3670200"/>
            <a:ext cx="5499000" cy="97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de002a"/>
                    </a:gs>
                  </a:gsLst>
                  <a:lin ang="5400000"/>
                </a:gradFill>
                <a:latin typeface="Impact"/>
              </a:rPr>
              <a:t>Healthy Food 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de002a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2095560" y="1333440"/>
            <a:ext cx="1295280" cy="16225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362480" y="7219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14480" y="6143760"/>
            <a:ext cx="1628640" cy="571320"/>
          </a:xfrm>
          <a:custGeom>
            <a:avLst/>
            <a:gdLst>
              <a:gd name="textAreaLeft" fmla="*/ 36720 w 1628640"/>
              <a:gd name="textAreaRight" fmla="*/ 1591920 w 162864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61549" h="21600">
                <a:moveTo>
                  <a:pt x="0" y="0"/>
                </a:moveTo>
                <a:lnTo>
                  <a:pt x="61549" y="0"/>
                </a:lnTo>
                <a:lnTo>
                  <a:pt x="61549" y="21600"/>
                </a:lnTo>
                <a:lnTo>
                  <a:pt x="0" y="21600"/>
                </a:lnTo>
                <a:close/>
              </a:path>
              <a:path fill="lightenLess" w="61549" h="21600">
                <a:moveTo>
                  <a:pt x="0" y="0"/>
                </a:moveTo>
                <a:lnTo>
                  <a:pt x="61549" y="0"/>
                </a:lnTo>
                <a:lnTo>
                  <a:pt x="60149" y="1400"/>
                </a:lnTo>
                <a:lnTo>
                  <a:pt x="1400" y="1400"/>
                </a:lnTo>
                <a:close/>
              </a:path>
              <a:path fill="darken" w="61549" h="21600">
                <a:moveTo>
                  <a:pt x="61549" y="0"/>
                </a:moveTo>
                <a:lnTo>
                  <a:pt x="61549" y="21600"/>
                </a:lnTo>
                <a:lnTo>
                  <a:pt x="60149" y="20200"/>
                </a:lnTo>
                <a:lnTo>
                  <a:pt x="60149" y="1400"/>
                </a:lnTo>
                <a:close/>
              </a:path>
              <a:path fill="darkenLess" w="61549" h="21600">
                <a:moveTo>
                  <a:pt x="61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149" y="20200"/>
                </a:lnTo>
                <a:close/>
              </a:path>
              <a:path fill="lighten" w="61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2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0000"/>
                </a:solidFill>
                <a:latin typeface="Arial"/>
              </a:rPr>
              <a:t>Backgrou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14480" y="5659560"/>
            <a:ext cx="1628640" cy="571320"/>
          </a:xfrm>
          <a:custGeom>
            <a:avLst/>
            <a:gdLst>
              <a:gd name="textAreaLeft" fmla="*/ 36720 w 1628640"/>
              <a:gd name="textAreaRight" fmla="*/ 1591920 w 162864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61549" h="21600">
                <a:moveTo>
                  <a:pt x="0" y="0"/>
                </a:moveTo>
                <a:lnTo>
                  <a:pt x="61549" y="0"/>
                </a:lnTo>
                <a:lnTo>
                  <a:pt x="61549" y="21600"/>
                </a:lnTo>
                <a:lnTo>
                  <a:pt x="0" y="21600"/>
                </a:lnTo>
                <a:close/>
              </a:path>
              <a:path fill="lightenLess" w="61549" h="21600">
                <a:moveTo>
                  <a:pt x="0" y="0"/>
                </a:moveTo>
                <a:lnTo>
                  <a:pt x="61549" y="0"/>
                </a:lnTo>
                <a:lnTo>
                  <a:pt x="60149" y="1400"/>
                </a:lnTo>
                <a:lnTo>
                  <a:pt x="1400" y="1400"/>
                </a:lnTo>
                <a:close/>
              </a:path>
              <a:path fill="darken" w="61549" h="21600">
                <a:moveTo>
                  <a:pt x="61549" y="0"/>
                </a:moveTo>
                <a:lnTo>
                  <a:pt x="61549" y="21600"/>
                </a:lnTo>
                <a:lnTo>
                  <a:pt x="60149" y="20200"/>
                </a:lnTo>
                <a:lnTo>
                  <a:pt x="60149" y="1400"/>
                </a:lnTo>
                <a:close/>
              </a:path>
              <a:path fill="darkenLess" w="61549" h="21600">
                <a:moveTo>
                  <a:pt x="61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149" y="20200"/>
                </a:lnTo>
                <a:close/>
              </a:path>
              <a:path fill="lighten" w="61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2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0000"/>
                </a:solidFill>
                <a:latin typeface="Arial"/>
              </a:rPr>
              <a:t>Financi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20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3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8000"/>
                            </p:stCondLst>
                            <p:childTnLst>
                              <p:par>
                                <p:cTn id="18" nodeType="after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0.29792 C 0.02639 0.44259 0.15902 0.52662 0.30225 0.49352 C 0.45069 0.45996 0.55451 0.32176 0.53576 0.17708 C 0.51718 0.03218 0.62066 -0.10579 0.76909 -0.13981 C 0.91284 -0.17292 1.04514 -0.08866 1.06371 0.05602 E">
                                      <p:cBhvr>
                                        <p:cTn id="19" dur="3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ere We Bega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oun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174600">
              <a:spcBef>
                <a:spcPts val="700"/>
              </a:spcBef>
              <a:buClr>
                <a:srgbClr val="ffffff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us Irvinelli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us came from a tennis backgrou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174600">
              <a:spcBef>
                <a:spcPts val="700"/>
              </a:spcBef>
              <a:buClr>
                <a:srgbClr val="ffffff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lie Wolf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lie’s a well-known marathon run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ir Dre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174600">
              <a:spcBef>
                <a:spcPts val="700"/>
              </a:spcBef>
              <a:buClr>
                <a:srgbClr val="ffffff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t people to enjoy healthy e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174600">
              <a:spcBef>
                <a:spcPts val="700"/>
              </a:spcBef>
              <a:buClr>
                <a:srgbClr val="ffffff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courage participation in sports activ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05160" y="2219400"/>
            <a:ext cx="231840" cy="231840"/>
          </a:xfrm>
          <a:prstGeom prst="star5">
            <a:avLst/>
          </a:prstGeom>
          <a:solidFill>
            <a:srgbClr val="efebd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600" bIns="306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92480" y="3249720"/>
            <a:ext cx="231840" cy="231840"/>
          </a:xfrm>
          <a:prstGeom prst="star5">
            <a:avLst/>
          </a:prstGeom>
          <a:solidFill>
            <a:srgbClr val="efebd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600" bIns="306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22000"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mph" presetID="27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250" autoRev="1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260000"/>
                                      </p:to>
                                    </p:animClr>
                                    <p:animClr clrSpc="rgb">
                                      <p:cBhvr>
                                        <p:cTn id="45" dur="250" autoRev="1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60000"/>
                                      </p:to>
                                    </p:animClr>
                                    <p:set>
                                      <p:cBhvr>
                                        <p:cTn id="46" dur="250" autoRev="1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5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500"/>
                            </p:stCondLst>
                            <p:childTnLst>
                              <p:par>
                                <p:cTn id="58" nodeType="afterEffect" fill="hold" presetClass="emph" presetID="27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" dur="250" autoRev="1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260000"/>
                                      </p:to>
                                    </p:animClr>
                                    <p:animClr clrSpc="rgb">
                                      <p:cBhvr>
                                        <p:cTn id="60" dur="250" autoRev="1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60000"/>
                                      </p:to>
                                    </p:animClr>
                                    <p:set>
                                      <p:cBhvr>
                                        <p:cTn id="61" dur="250" autoRev="1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4000"/>
                            </p:stCondLst>
                            <p:childTnLst>
                              <p:par>
                                <p:cTn id="6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084320" y="56844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inancial History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268280" y="1955880"/>
          <a:ext cx="6502680" cy="3647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8280" y="1955880"/>
                    <a:ext cx="6502680" cy="36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5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ere We’re Grow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99840" y="1873080"/>
            <a:ext cx="5311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iami in 200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s Angeles in 200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ve restaurants by 200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75400" y="3886200"/>
            <a:ext cx="696960" cy="2319480"/>
          </a:xfrm>
          <a:prstGeom prst="upArrow">
            <a:avLst>
              <a:gd name="adj1" fmla="val 71296"/>
              <a:gd name="adj2" fmla="val 69703"/>
            </a:avLst>
          </a:prstGeom>
          <a:gradFill rotWithShape="0">
            <a:gsLst>
              <a:gs pos="0">
                <a:srgbClr val="ffcc00"/>
              </a:gs>
              <a:gs pos="100000">
                <a:srgbClr val="6551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589800" y="2971800"/>
            <a:ext cx="696960" cy="3233880"/>
          </a:xfrm>
          <a:prstGeom prst="upArrow">
            <a:avLst>
              <a:gd name="adj1" fmla="val 71296"/>
              <a:gd name="adj2" fmla="val 97182"/>
            </a:avLst>
          </a:prstGeom>
          <a:gradFill rotWithShape="0">
            <a:gsLst>
              <a:gs pos="0">
                <a:srgbClr val="ffcc00"/>
              </a:gs>
              <a:gs pos="100000">
                <a:srgbClr val="6551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504200" y="2057400"/>
            <a:ext cx="696960" cy="4148280"/>
          </a:xfrm>
          <a:prstGeom prst="upArrow">
            <a:avLst>
              <a:gd name="adj1" fmla="val 71296"/>
              <a:gd name="adj2" fmla="val 124660"/>
            </a:avLst>
          </a:prstGeom>
          <a:gradFill rotWithShape="0">
            <a:gsLst>
              <a:gs pos="0">
                <a:srgbClr val="ffcc00"/>
              </a:gs>
              <a:gs pos="100000">
                <a:srgbClr val="6551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12000">
    <p:fad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 to Expand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r Go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174600">
              <a:spcBef>
                <a:spcPts val="700"/>
              </a:spcBef>
              <a:buClr>
                <a:srgbClr val="ffffff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enue growth of 30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174600">
              <a:spcBef>
                <a:spcPts val="700"/>
              </a:spcBef>
              <a:buClr>
                <a:srgbClr val="ffffff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ve locations by the year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l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174600">
              <a:spcBef>
                <a:spcPts val="700"/>
              </a:spcBef>
              <a:buClr>
                <a:srgbClr val="ffffff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f Michelle Jenkins is busy creating new culinary trea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174600">
              <a:spcBef>
                <a:spcPts val="700"/>
              </a:spcBef>
              <a:buClr>
                <a:srgbClr val="ffffff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keting manager Roy Olafsen is diligently researching new lo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wedge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768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5" dur="768" fill="hold"/>
                                        <p:tgtEl>
                                          <p:spTgt spid="1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7" dur="768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9" dur="768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e’ve Come a Long Way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82400" y="2161800"/>
            <a:ext cx="8096040" cy="25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cc"/>
                </a:solidFill>
                <a:latin typeface="Arial"/>
              </a:rPr>
              <a:t>Steady revenue growt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cc"/>
                </a:solidFill>
                <a:latin typeface="Arial"/>
              </a:rPr>
              <a:t>Innovative menu planning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cc"/>
                </a:solidFill>
                <a:latin typeface="Arial"/>
              </a:rPr>
              <a:t>We know our custome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390840" y="4781520"/>
            <a:ext cx="2076480" cy="2076480"/>
          </a:xfrm>
          <a:prstGeom prst="rect">
            <a:avLst/>
          </a:prstGeom>
          <a:ln w="0">
            <a:noFill/>
          </a:ln>
        </p:spPr>
      </p:pic>
    </p:spTree>
  </p:cSld>
  <p:transition advTm="30000">
    <p:wedg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768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2" dur="768" fill="hold"/>
                                        <p:tgtEl>
                                          <p:spTgt spid="1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4" dur="768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6" dur="768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0" dur="1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1:43:34Z</dcterms:created>
  <dc:creator>Pat R. Graves</dc:creator>
  <dc:description/>
  <dc:language>en-US</dc:language>
  <cp:lastModifiedBy>Pat Graves</cp:lastModifiedBy>
  <cp:lastPrinted>1997-08-11T17:17:08Z</cp:lastPrinted>
  <dcterms:modified xsi:type="dcterms:W3CDTF">2004-03-24T23:17:42Z</dcterms:modified>
  <cp:revision>110</cp:revision>
  <dc:subject/>
  <dc:title>Three Years and Growing</dc:title>
</cp:coreProperties>
</file>