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608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2040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608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2040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91B43-8A17-4CE4-8941-F1963014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6B2EB-E9B1-47B2-9B52-E4EBF505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7C1E9-7F86-41EB-B384-9B970147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A416D-D06D-4260-98D2-CEEA7ACE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D3AEA-2AA0-4C51-9286-CE8B090F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1E576-B5AA-4FD9-9544-C975A86F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86782-E7D8-4F41-9384-70ED5949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BCE2F-220C-4B36-8DFF-81E34A8A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8650A-65A4-4321-B0E2-C19F57E1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98149-7FFA-46C2-A702-4928A290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E56E4-8D29-480F-977C-237D0417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608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2040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608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2040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A4B11-2EBF-4AEF-86B9-EAFDF7A2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ff6fe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1" name=""/>
            <p:cNvSpPr/>
            <p:nvPr/>
          </p:nvSpPr>
          <p:spPr>
            <a:xfrm>
              <a:off x="1413720" y="105804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6440" y="72252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ffff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16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67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ff6fe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2200" cy="6845400"/>
            <a:chOff x="0" y="0"/>
            <a:chExt cx="9142200" cy="6845400"/>
          </a:xfrm>
        </p:grpSpPr>
        <p:sp>
          <p:nvSpPr>
            <p:cNvPr id="45" name=""/>
            <p:cNvSpPr/>
            <p:nvPr/>
          </p:nvSpPr>
          <p:spPr>
            <a:xfrm>
              <a:off x="1413720" y="104688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6440" y="71136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ffff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6765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662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20D9-4D9D-42A0-9F0A-FDEBD761F4DD}" type="slidenum">
              <a:rPr b="0" lang="en-US" sz="1400" spc="-1" strike="noStrike">
                <a:solidFill>
                  <a:srgbClr val="99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lick to edit the outline text forma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990033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990033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990033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990033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990033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990033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ff6fe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6765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ahoma"/>
              </a:rPr>
              <a:t>Food Preparation</a:t>
            </a:r>
            <a:endParaRPr b="1" lang="en-US" sz="5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04960" y="3657600"/>
            <a:ext cx="4267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Kitchen Managemen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ff6fe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Kitchens of Good 4 U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Kitchen operations include: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Menu design and planning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Meal preparation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Facilities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Ours is among the most cost-efficient and productive in the industry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ff6fe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Kitchen Responsibilities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04920" y="1447920"/>
            <a:ext cx="8381880" cy="4827240"/>
            <a:chOff x="304920" y="1447920"/>
            <a:chExt cx="8381880" cy="4827240"/>
          </a:xfrm>
        </p:grpSpPr>
        <p:cxnSp>
          <p:nvCxnSpPr>
            <p:cNvPr id="95" name="_s31769"/>
            <p:cNvCxnSpPr>
              <a:stCxn id="96" idx="0"/>
              <a:endCxn id="97" idx="2"/>
            </p:cNvCxnSpPr>
            <p:nvPr/>
          </p:nvCxnSpPr>
          <p:spPr>
            <a:xfrm flipV="1" rot="16200000">
              <a:off x="6019560" y="1040760"/>
              <a:ext cx="214560" cy="325980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990033"/>
              </a:solidFill>
              <a:miter/>
            </a:ln>
          </p:spPr>
        </p:cxnSp>
        <p:cxnSp>
          <p:nvCxnSpPr>
            <p:cNvPr id="98" name="_s31768"/>
            <p:cNvCxnSpPr>
              <a:stCxn id="99" idx="0"/>
              <a:endCxn id="97" idx="2"/>
            </p:cNvCxnSpPr>
            <p:nvPr/>
          </p:nvCxnSpPr>
          <p:spPr>
            <a:xfrm flipV="1" rot="16200000">
              <a:off x="4933800" y="2126520"/>
              <a:ext cx="214560" cy="108792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990033"/>
              </a:solidFill>
              <a:miter/>
            </a:ln>
          </p:spPr>
        </p:cxnSp>
        <p:cxnSp>
          <p:nvCxnSpPr>
            <p:cNvPr id="100" name="_s31767"/>
            <p:cNvCxnSpPr>
              <a:stCxn id="101" idx="0"/>
              <a:endCxn id="97" idx="2"/>
            </p:cNvCxnSpPr>
            <p:nvPr/>
          </p:nvCxnSpPr>
          <p:spPr>
            <a:xfrm flipH="1" flipV="1" rot="5400000">
              <a:off x="3846960" y="2127240"/>
              <a:ext cx="214560" cy="108684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990033"/>
              </a:solidFill>
              <a:miter/>
            </a:ln>
          </p:spPr>
        </p:cxnSp>
        <p:cxnSp>
          <p:nvCxnSpPr>
            <p:cNvPr id="102" name="_s31766"/>
            <p:cNvCxnSpPr>
              <a:stCxn id="103" idx="0"/>
              <a:endCxn id="97" idx="2"/>
            </p:cNvCxnSpPr>
            <p:nvPr/>
          </p:nvCxnSpPr>
          <p:spPr>
            <a:xfrm flipH="1" flipV="1" rot="5400000">
              <a:off x="2759760" y="1040040"/>
              <a:ext cx="214560" cy="326160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990033"/>
              </a:solidFill>
              <a:miter/>
            </a:ln>
          </p:spPr>
        </p:cxnSp>
        <p:cxnSp>
          <p:nvCxnSpPr>
            <p:cNvPr id="104" name="_s31763"/>
            <p:cNvCxnSpPr>
              <a:stCxn id="105" idx="1"/>
              <a:endCxn id="99" idx="2"/>
            </p:cNvCxnSpPr>
            <p:nvPr/>
          </p:nvCxnSpPr>
          <p:spPr>
            <a:xfrm rot="10800000">
              <a:off x="5582520" y="3505680"/>
              <a:ext cx="310320" cy="1874160"/>
            </a:xfrm>
            <a:prstGeom prst="bentConnector2">
              <a:avLst/>
            </a:prstGeom>
            <a:ln w="28440">
              <a:solidFill>
                <a:srgbClr val="990033"/>
              </a:solidFill>
              <a:miter/>
            </a:ln>
          </p:spPr>
        </p:cxnSp>
        <p:cxnSp>
          <p:nvCxnSpPr>
            <p:cNvPr id="106" name="_s31761"/>
            <p:cNvCxnSpPr>
              <a:stCxn id="107" idx="1"/>
              <a:endCxn id="99" idx="2"/>
            </p:cNvCxnSpPr>
            <p:nvPr/>
          </p:nvCxnSpPr>
          <p:spPr>
            <a:xfrm rot="10800000">
              <a:off x="5582520" y="3505680"/>
              <a:ext cx="310320" cy="657720"/>
            </a:xfrm>
            <a:prstGeom prst="bentConnector2">
              <a:avLst/>
            </a:prstGeom>
            <a:ln w="28440">
              <a:solidFill>
                <a:srgbClr val="990033"/>
              </a:solidFill>
              <a:miter/>
            </a:ln>
          </p:spPr>
        </p:cxnSp>
        <p:cxnSp>
          <p:nvCxnSpPr>
            <p:cNvPr id="108" name="_s31749"/>
            <p:cNvCxnSpPr>
              <a:stCxn id="109" idx="3"/>
              <a:endCxn id="101" idx="2"/>
            </p:cNvCxnSpPr>
            <p:nvPr/>
          </p:nvCxnSpPr>
          <p:spPr>
            <a:xfrm flipV="1">
              <a:off x="3098880" y="3505680"/>
              <a:ext cx="313200" cy="2185560"/>
            </a:xfrm>
            <a:prstGeom prst="bentConnector2">
              <a:avLst/>
            </a:prstGeom>
            <a:ln w="28440">
              <a:solidFill>
                <a:srgbClr val="990033"/>
              </a:solidFill>
              <a:miter/>
            </a:ln>
          </p:spPr>
        </p:cxnSp>
        <p:cxnSp>
          <p:nvCxnSpPr>
            <p:cNvPr id="110" name="_s31750"/>
            <p:cNvCxnSpPr>
              <a:stCxn id="111" idx="3"/>
              <a:endCxn id="101" idx="2"/>
            </p:cNvCxnSpPr>
            <p:nvPr/>
          </p:nvCxnSpPr>
          <p:spPr>
            <a:xfrm flipV="1">
              <a:off x="3098880" y="3505680"/>
              <a:ext cx="313200" cy="813240"/>
            </a:xfrm>
            <a:prstGeom prst="bentConnector2">
              <a:avLst/>
            </a:prstGeom>
            <a:ln w="28440">
              <a:solidFill>
                <a:srgbClr val="990033"/>
              </a:solidFill>
              <a:miter/>
            </a:ln>
          </p:spPr>
        </p:cxnSp>
        <p:sp>
          <p:nvSpPr>
            <p:cNvPr id="97" name="_s31754"/>
            <p:cNvSpPr/>
            <p:nvPr/>
          </p:nvSpPr>
          <p:spPr>
            <a:xfrm>
              <a:off x="3565440" y="1447920"/>
              <a:ext cx="1860480" cy="11160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ahoma"/>
                </a:rPr>
                <a:t>Kitchen</a:t>
              </a:r>
              <a:endParaRPr b="0" lang="en-US" sz="20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ahoma"/>
                </a:rPr>
                <a:t>Eric Dennis</a:t>
              </a:r>
              <a:endParaRPr b="0" lang="en-US" sz="20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ahoma"/>
                </a:rPr>
                <a:t>Assistant Chef</a:t>
              </a:r>
              <a:endParaRPr b="0" lang="en-US" sz="20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99" name="_s31755"/>
            <p:cNvSpPr/>
            <p:nvPr/>
          </p:nvSpPr>
          <p:spPr>
            <a:xfrm>
              <a:off x="4653000" y="2778120"/>
              <a:ext cx="1860480" cy="728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ahoma"/>
                </a:rPr>
                <a:t>Senior Cook</a:t>
              </a:r>
              <a:endParaRPr b="0" lang="en-US" sz="20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ahoma"/>
                </a:rPr>
                <a:t>G. Robinson</a:t>
              </a:r>
              <a:endParaRPr b="0" lang="en-US" sz="20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96" name="_s31756"/>
            <p:cNvSpPr/>
            <p:nvPr/>
          </p:nvSpPr>
          <p:spPr>
            <a:xfrm>
              <a:off x="6824520" y="2778120"/>
              <a:ext cx="1862280" cy="728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ahoma"/>
                </a:rPr>
                <a:t>Weekend Cook</a:t>
              </a:r>
              <a:endParaRPr b="0" lang="en-US" sz="20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ahoma"/>
                </a:rPr>
                <a:t>S. Stefano</a:t>
              </a:r>
              <a:endParaRPr b="0" lang="en-US" sz="20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101" name="_s31757"/>
            <p:cNvSpPr/>
            <p:nvPr/>
          </p:nvSpPr>
          <p:spPr>
            <a:xfrm>
              <a:off x="2479680" y="2778120"/>
              <a:ext cx="1862280" cy="728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ahoma"/>
                </a:rPr>
                <a:t>Facilities</a:t>
              </a:r>
              <a:endParaRPr b="0" lang="en-US" sz="20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ahoma"/>
                </a:rPr>
                <a:t>T. Conway</a:t>
              </a:r>
              <a:endParaRPr b="0" lang="en-US" sz="20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111" name="_s31758"/>
            <p:cNvSpPr/>
            <p:nvPr/>
          </p:nvSpPr>
          <p:spPr>
            <a:xfrm>
              <a:off x="1236600" y="3684600"/>
              <a:ext cx="1862280" cy="1266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Tahoma"/>
                </a:rPr>
                <a:t>Dishwashers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Tahoma"/>
                </a:rPr>
                <a:t>P. Redmond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Tahoma"/>
                </a:rPr>
                <a:t>L. Freeman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Tahoma"/>
                </a:rPr>
                <a:t>E. Stein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109" name="_s31759"/>
            <p:cNvSpPr/>
            <p:nvPr/>
          </p:nvSpPr>
          <p:spPr>
            <a:xfrm>
              <a:off x="1236600" y="5107320"/>
              <a:ext cx="1862280" cy="1167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Tahoma"/>
                </a:rPr>
                <a:t>Janitors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Tahoma"/>
                </a:rPr>
                <a:t>S. Stuart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Tahoma"/>
                </a:rPr>
                <a:t>L. Hoosek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Tahoma"/>
                </a:rPr>
                <a:t>D. Johnson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107" name="_s31760"/>
            <p:cNvSpPr/>
            <p:nvPr/>
          </p:nvSpPr>
          <p:spPr>
            <a:xfrm>
              <a:off x="5892840" y="3684600"/>
              <a:ext cx="1861920" cy="955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Pastry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G. Gordon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J. Lemmer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105" name="_s31762"/>
            <p:cNvSpPr/>
            <p:nvPr/>
          </p:nvSpPr>
          <p:spPr>
            <a:xfrm>
              <a:off x="5892840" y="4795920"/>
              <a:ext cx="1861920" cy="1167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Cooks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L. Tilson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S. Mason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J. Fulman</a:t>
              </a:r>
              <a:endParaRPr b="0" lang="en-US" sz="17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103" name="_s31764"/>
            <p:cNvSpPr/>
            <p:nvPr/>
          </p:nvSpPr>
          <p:spPr>
            <a:xfrm>
              <a:off x="304920" y="2778120"/>
              <a:ext cx="1863720" cy="694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Banquets</a:t>
              </a:r>
              <a:endParaRPr b="0" lang="en-US" sz="20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. Domina</a:t>
              </a:r>
              <a:endParaRPr b="0" lang="en-US" sz="20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2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F0325-6FC5-4D4C-8543-2C139A327B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1T00:09:40Z</dcterms:created>
  <dc:creator>Pat R. Graves</dc:creator>
  <dc:description/>
  <dc:language>en-US</dc:language>
  <cp:lastModifiedBy>Pat Graves</cp:lastModifiedBy>
  <cp:lastPrinted>1996-10-01T13:11:46Z</cp:lastPrinted>
  <dcterms:modified xsi:type="dcterms:W3CDTF">2004-03-21T16:54:52Z</dcterms:modified>
  <cp:revision>33</cp:revision>
  <dc:subject/>
  <dc:title>Food Preparation</dc:title>
</cp:coreProperties>
</file>