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EA3E-AB1C-436F-BB98-C7B458AD1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1517-0386-4BC4-8369-7E05D50C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9D95-B45B-4CFE-A25F-033C82F8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C5D6-CA6D-4AB9-9B48-CCF2E488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6E71-CA52-4607-963A-890AB14A0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EB79-2C0A-473C-8592-CADF568E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32FE-D360-46C4-9C4F-C9A1F01A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AF87-E14F-4541-8EED-578942C9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83EC-07D6-4D00-900C-ADB01168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09480" y="-338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FE4F-D049-4C84-96EE-AA1D762B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DA61-A5E6-4B07-93D3-2CF45040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7945-BF44-4F8C-BB90-8E66B6ED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7079-278C-4C7C-BC01-A9844F3D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049D-4836-4416-BA7E-A04C0E0D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56E0-2EC1-4469-9176-8BD8F63A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ACAB-154D-4155-ABB4-20BE130B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E781-8D8D-492F-B50B-19DB25926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E650-CD30-492F-B4B7-2E53873C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7FF2-C0FD-4EA1-B4EA-8154C28A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50AC-DD4C-4791-AFF5-747A95E6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-338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09C3-5935-4BF3-94D5-8FB8FFB2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37E7-BC07-4D23-AC33-9CCB403D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8398-5A48-4D70-B8B8-7DF3E6E7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03FE-E5EC-40F9-A89F-FE0B827D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b8b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0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282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2929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99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b7b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9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b8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"/>
          <p:cNvSpPr/>
          <p:nvPr/>
        </p:nvSpPr>
        <p:spPr>
          <a:xfrm>
            <a:off x="533520" y="-12600"/>
            <a:ext cx="8610480" cy="866520"/>
          </a:xfrm>
          <a:prstGeom prst="rect">
            <a:avLst/>
          </a:prstGeom>
          <a:solidFill>
            <a:srgbClr val="0000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698E-AE52-4912-955D-2836B8C4D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7620120" y="6167520"/>
            <a:ext cx="1371240" cy="538200"/>
            <a:chOff x="7620120" y="6167520"/>
            <a:chExt cx="1371240" cy="538200"/>
          </a:xfrm>
        </p:grpSpPr>
        <p:sp>
          <p:nvSpPr>
            <p:cNvPr id="47" name=""/>
            <p:cNvSpPr txBox="1"/>
            <p:nvPr/>
          </p:nvSpPr>
          <p:spPr>
            <a:xfrm>
              <a:off x="8609400" y="6372360"/>
              <a:ext cx="381960" cy="33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8272080" y="6252840"/>
              <a:ext cx="494640" cy="452520"/>
              <a:chOff x="8272080" y="6252840"/>
              <a:chExt cx="494640" cy="452520"/>
            </a:xfrm>
          </p:grpSpPr>
          <p:sp>
            <p:nvSpPr>
              <p:cNvPr id="49" name=""/>
              <p:cNvSpPr/>
              <p:nvPr/>
            </p:nvSpPr>
            <p:spPr>
              <a:xfrm>
                <a:off x="8272080" y="6252840"/>
                <a:ext cx="494640" cy="452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411040" y="6301440"/>
                <a:ext cx="228960" cy="2520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 txBox="1"/>
            <p:nvPr/>
          </p:nvSpPr>
          <p:spPr>
            <a:xfrm>
              <a:off x="7620120" y="6167520"/>
              <a:ext cx="921960" cy="319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533520" y="874800"/>
            <a:ext cx="861048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9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b8b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0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282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2929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99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b7b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9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b8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"/>
          <p:cNvSpPr/>
          <p:nvPr/>
        </p:nvSpPr>
        <p:spPr>
          <a:xfrm>
            <a:off x="533520" y="914400"/>
            <a:ext cx="8610480" cy="1752480"/>
          </a:xfrm>
          <a:prstGeom prst="rect">
            <a:avLst/>
          </a:prstGeom>
          <a:solidFill>
            <a:srgbClr val="0000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819C-DAA5-4F27-AA52-B1C3A0CC1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1828800"/>
          </a:xfrm>
          <a:prstGeom prst="rect">
            <a:avLst/>
          </a:prstGeom>
          <a:noFill/>
          <a:ln w="0">
            <a:noFill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Click to edit the title text format</a:t>
            </a:r>
            <a:endParaRPr b="1" lang="en-US" sz="5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2666880"/>
            <a:ext cx="861048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1828800"/>
          </a:xfrm>
          <a:prstGeom prst="rect">
            <a:avLst/>
          </a:prstGeom>
          <a:noFill/>
          <a:ln w="0">
            <a:noFill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Employee Meeting</a:t>
            </a:r>
            <a:endParaRPr b="1" lang="en-US" sz="5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85800" y="28195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cember 200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791320" y="5105520"/>
            <a:ext cx="2895480" cy="1168200"/>
            <a:chOff x="5791320" y="5105520"/>
            <a:chExt cx="2895480" cy="1168200"/>
          </a:xfrm>
        </p:grpSpPr>
        <p:sp>
          <p:nvSpPr>
            <p:cNvPr id="175" name=""/>
            <p:cNvSpPr txBox="1"/>
            <p:nvPr/>
          </p:nvSpPr>
          <p:spPr>
            <a:xfrm>
              <a:off x="7880040" y="5550120"/>
              <a:ext cx="806760" cy="72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7167960" y="5291280"/>
              <a:ext cx="1044000" cy="982440"/>
              <a:chOff x="7167960" y="5291280"/>
              <a:chExt cx="1044000" cy="982440"/>
            </a:xfrm>
          </p:grpSpPr>
          <p:sp>
            <p:nvSpPr>
              <p:cNvPr id="177" name=""/>
              <p:cNvSpPr/>
              <p:nvPr/>
            </p:nvSpPr>
            <p:spPr>
              <a:xfrm>
                <a:off x="7167960" y="5291280"/>
                <a:ext cx="1044000" cy="9824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461000" y="5397120"/>
                <a:ext cx="483120" cy="5472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 txBox="1"/>
            <p:nvPr/>
          </p:nvSpPr>
          <p:spPr>
            <a:xfrm>
              <a:off x="5791320" y="5105520"/>
              <a:ext cx="1946160" cy="69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Organization Change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 order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process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ew Purchasing Procedure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181160" y="1555920"/>
            <a:ext cx="6783480" cy="4344840"/>
            <a:chOff x="1181160" y="1555920"/>
            <a:chExt cx="6783480" cy="4344840"/>
          </a:xfrm>
        </p:grpSpPr>
        <p:sp>
          <p:nvSpPr>
            <p:cNvPr id="184" name=""/>
            <p:cNvSpPr/>
            <p:nvPr/>
          </p:nvSpPr>
          <p:spPr>
            <a:xfrm>
              <a:off x="1181160" y="1555920"/>
              <a:ext cx="2286000" cy="914400"/>
            </a:xfrm>
            <a:prstGeom prst="rightArrow">
              <a:avLst>
                <a:gd name="adj1" fmla="val 73259"/>
                <a:gd name="adj2" fmla="val 67014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et purchase pre-approv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81160" y="3005280"/>
              <a:ext cx="2286000" cy="914400"/>
            </a:xfrm>
            <a:prstGeom prst="flowChartAlternateProcess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t vendor approv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81160" y="4986360"/>
              <a:ext cx="2286000" cy="914400"/>
            </a:xfrm>
            <a:prstGeom prst="flowChartAlternateProcess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gotiate pr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41960" y="1555920"/>
              <a:ext cx="2286000" cy="914400"/>
            </a:xfrm>
            <a:prstGeom prst="flowChartAlternateProcess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te suppl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07080" y="3005280"/>
              <a:ext cx="3157560" cy="914400"/>
            </a:xfrm>
            <a:prstGeom prst="flowChartDecision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pproved vendor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43400" y="5100480"/>
              <a:ext cx="2286000" cy="685800"/>
            </a:xfrm>
            <a:prstGeom prst="flowChartTerminator">
              <a:avLst/>
            </a:prstGeom>
            <a:solidFill>
              <a:srgbClr val="3db76b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lace or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0" name=""/>
            <p:cNvCxnSpPr>
              <a:stCxn id="184" idx="0"/>
              <a:endCxn id="187" idx="1"/>
            </p:cNvCxnSpPr>
            <p:nvPr/>
          </p:nvCxnSpPr>
          <p:spPr>
            <a:xfrm>
              <a:off x="3467160" y="2012760"/>
              <a:ext cx="1775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1" name=""/>
            <p:cNvCxnSpPr>
              <a:stCxn id="187" idx="2"/>
              <a:endCxn id="188" idx="0"/>
            </p:cNvCxnSpPr>
            <p:nvPr/>
          </p:nvCxnSpPr>
          <p:spPr>
            <a:xfrm>
              <a:off x="6384960" y="2470320"/>
              <a:ext cx="2160" cy="535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2" name=""/>
            <p:cNvCxnSpPr>
              <a:stCxn id="185" idx="2"/>
              <a:endCxn id="186" idx="0"/>
            </p:cNvCxnSpPr>
            <p:nvPr/>
          </p:nvCxnSpPr>
          <p:spPr>
            <a:xfrm>
              <a:off x="2323800" y="3919320"/>
              <a:ext cx="1080" cy="106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>
              <a:stCxn id="186" idx="3"/>
              <a:endCxn id="189" idx="1"/>
            </p:cNvCxnSpPr>
            <p:nvPr/>
          </p:nvCxnSpPr>
          <p:spPr>
            <a:xfrm>
              <a:off x="3467160" y="5443200"/>
              <a:ext cx="1776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4" name=""/>
            <p:cNvSpPr/>
            <p:nvPr/>
          </p:nvSpPr>
          <p:spPr>
            <a:xfrm>
              <a:off x="6209280" y="4229280"/>
              <a:ext cx="35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5" name=""/>
            <p:cNvCxnSpPr>
              <a:stCxn id="188" idx="2"/>
              <a:endCxn id="194" idx="0"/>
            </p:cNvCxnSpPr>
            <p:nvPr/>
          </p:nvCxnSpPr>
          <p:spPr>
            <a:xfrm flipH="1">
              <a:off x="6384600" y="3919680"/>
              <a:ext cx="2160" cy="310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6" name=""/>
            <p:cNvSpPr/>
            <p:nvPr/>
          </p:nvSpPr>
          <p:spPr>
            <a:xfrm>
              <a:off x="3990600" y="334008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7" name=""/>
            <p:cNvCxnSpPr>
              <a:stCxn id="194" idx="2"/>
              <a:endCxn id="186" idx="0"/>
            </p:cNvCxnSpPr>
            <p:nvPr/>
          </p:nvCxnSpPr>
          <p:spPr>
            <a:xfrm rot="5400000">
              <a:off x="4097520" y="2699640"/>
              <a:ext cx="513360" cy="4061520"/>
            </a:xfrm>
            <a:prstGeom prst="bentConnector3">
              <a:avLst>
                <a:gd name="adj1" fmla="val 4982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8" name=""/>
            <p:cNvCxnSpPr>
              <a:stCxn id="196" idx="1"/>
              <a:endCxn id="185" idx="3"/>
            </p:cNvCxnSpPr>
            <p:nvPr/>
          </p:nvCxnSpPr>
          <p:spPr>
            <a:xfrm flipH="1">
              <a:off x="3466800" y="3462120"/>
              <a:ext cx="524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9" name=""/>
            <p:cNvCxnSpPr>
              <a:stCxn id="188" idx="1"/>
              <a:endCxn id="196" idx="3"/>
            </p:cNvCxnSpPr>
            <p:nvPr/>
          </p:nvCxnSpPr>
          <p:spPr>
            <a:xfrm flipH="1">
              <a:off x="4249440" y="3462120"/>
              <a:ext cx="55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r name, Sol14-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BB9E0B-954D-4E7A-9A29-0854EB4703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7T13:04:04Z</dcterms:created>
  <dc:creator>Pat R. Graves</dc:creator>
  <dc:description/>
  <dc:language>en-US</dc:language>
  <cp:lastModifiedBy>Ms. Malnick</cp:lastModifiedBy>
  <dcterms:modified xsi:type="dcterms:W3CDTF">2004-04-13T22:00:03Z</dcterms:modified>
  <cp:revision>17</cp:revision>
  <dc:subject/>
  <dc:title>Employee Meeting</dc:title>
</cp:coreProperties>
</file>