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280" y="420372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9692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024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3720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28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7024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3720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D217B-251C-4C1E-ADF4-B9A13565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31F4B-DBBB-49C0-B2EE-04418A0D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1DAE3-4F61-4350-B707-DE853E63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39855-DADE-436B-9071-7CBCE2E4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97BB0-28BB-4C9F-9D24-A1BC8315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5A1E2-E44B-4389-9F64-00449419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FD1BB-0548-4D08-B449-0F009C8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77BDB-8D24-48AA-A991-9FE7F15D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8752C-1C16-48A9-BA3A-1F01B0EE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420372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1019B-1533-467B-8A83-A047DB1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FA451-8B23-4AEE-A1EB-585C4E8E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35C9C-F83D-45D8-98FA-37EAE8F1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9692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BA62-C05D-432D-8C48-31FCE6632E5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779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6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075D-B349-4C2D-9954-5C56C61ECDE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76EC-9319-4C1D-8286-FE597A9310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9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ccccff"/>
                </a:solidFill>
                <a:latin typeface="Arial"/>
              </a:rPr>
              <a:t>Diet and Exercise</a:t>
            </a:r>
            <a:endParaRPr b="1" lang="en-US" sz="6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48880" y="3392280"/>
            <a:ext cx="6248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Heart Smart Living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92360" y="2390760"/>
            <a:ext cx="5759280" cy="3430080"/>
            <a:chOff x="1692360" y="2390760"/>
            <a:chExt cx="5759280" cy="3430080"/>
          </a:xfrm>
        </p:grpSpPr>
        <p:sp>
          <p:nvSpPr>
            <p:cNvPr id="152" name="_s59401"/>
            <p:cNvSpPr/>
            <p:nvPr/>
          </p:nvSpPr>
          <p:spPr>
            <a:xfrm>
              <a:off x="3394080" y="2390760"/>
              <a:ext cx="2332080" cy="2332080"/>
            </a:xfrm>
            <a:custGeom>
              <a:avLst/>
              <a:gdLst>
                <a:gd name="textAreaLeft" fmla="*/ 0 w 2332080"/>
                <a:gd name="textAreaRight" fmla="*/ 2332440 w 233208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666699"/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_s59406"/>
            <p:cNvSpPr/>
            <p:nvPr/>
          </p:nvSpPr>
          <p:spPr>
            <a:xfrm rot="5400000">
              <a:off x="4184640" y="2939760"/>
              <a:ext cx="2332080" cy="2332080"/>
            </a:xfrm>
            <a:custGeom>
              <a:avLst/>
              <a:gdLst>
                <a:gd name="textAreaLeft" fmla="*/ 0 w 2332080"/>
                <a:gd name="textAreaRight" fmla="*/ 2332440 w 233208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666699"/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59402"/>
            <p:cNvSpPr/>
            <p:nvPr/>
          </p:nvSpPr>
          <p:spPr>
            <a:xfrm rot="10800000">
              <a:off x="3394080" y="3489120"/>
              <a:ext cx="2332080" cy="2331720"/>
            </a:xfrm>
            <a:custGeom>
              <a:avLst/>
              <a:gdLst>
                <a:gd name="textAreaLeft" fmla="*/ 0 w 2332080"/>
                <a:gd name="textAreaRight" fmla="*/ 2332440 w 233208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666699"/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_s59404"/>
            <p:cNvSpPr/>
            <p:nvPr/>
          </p:nvSpPr>
          <p:spPr>
            <a:xfrm rot="16200000">
              <a:off x="2556000" y="2940120"/>
              <a:ext cx="2332080" cy="2332080"/>
            </a:xfrm>
            <a:custGeom>
              <a:avLst/>
              <a:gdLst>
                <a:gd name="textAreaLeft" fmla="*/ 0 w 2332080"/>
                <a:gd name="textAreaRight" fmla="*/ 2332440 w 233208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666699"/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_s59399"/>
            <p:cNvSpPr/>
            <p:nvPr/>
          </p:nvSpPr>
          <p:spPr>
            <a:xfrm>
              <a:off x="5180040" y="2529000"/>
              <a:ext cx="2270160" cy="8794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t enoug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lee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_s59400"/>
            <p:cNvSpPr/>
            <p:nvPr/>
          </p:nvSpPr>
          <p:spPr>
            <a:xfrm>
              <a:off x="1693800" y="4781520"/>
              <a:ext cx="2244960" cy="8794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at righ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t ho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_s59403"/>
            <p:cNvSpPr/>
            <p:nvPr/>
          </p:nvSpPr>
          <p:spPr>
            <a:xfrm>
              <a:off x="1692360" y="2530440"/>
              <a:ext cx="2244600" cy="8794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rci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ularl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_s59405"/>
            <p:cNvSpPr/>
            <p:nvPr/>
          </p:nvSpPr>
          <p:spPr>
            <a:xfrm>
              <a:off x="5181480" y="4780080"/>
              <a:ext cx="2270160" cy="8794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at right wh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’re 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25C8E-21E1-448C-BBEB-AB81BAA52C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Walk to Good Health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hort walks several times each day keep your heart in shap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alking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Reduces the risk of heart disease and cancer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Lowers cholesterol, blood pressure, and stress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alking is a mood elevat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89A77-2949-4E81-B72D-38844436D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Walkers Breakfast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alf-hour walks through Central Park led by a Good 4 U gu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Weekdays starting at 5:30, 6:30, and 7:30 a.m.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Weekends starting at 8, 9, and 10 a.m.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arn discounts on Good 4 U breakfa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Coupons earned for miles walked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Coupons earned for healthy meals ordered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87974-64DB-452B-A55B-4DB36543D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Do What’s Good 4 U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06840" y="1538640"/>
            <a:ext cx="5504760" cy="5045400"/>
            <a:chOff x="1806840" y="1538640"/>
            <a:chExt cx="5504760" cy="5045400"/>
          </a:xfrm>
        </p:grpSpPr>
        <p:sp>
          <p:nvSpPr>
            <p:cNvPr id="166" name="_s66574"/>
            <p:cNvSpPr/>
            <p:nvPr/>
          </p:nvSpPr>
          <p:spPr>
            <a:xfrm flipH="1">
              <a:off x="3231000" y="5028840"/>
              <a:ext cx="668880" cy="387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_s66573"/>
            <p:cNvSpPr/>
            <p:nvPr/>
          </p:nvSpPr>
          <p:spPr>
            <a:xfrm>
              <a:off x="1806840" y="5031000"/>
              <a:ext cx="1528200" cy="1550520"/>
            </a:xfrm>
            <a:prstGeom prst="ellipse">
              <a:avLst/>
            </a:prstGeom>
            <a:gradFill rotWithShape="0">
              <a:gsLst>
                <a:gs pos="0">
                  <a:srgbClr val="4837c7"/>
                </a:gs>
                <a:gs pos="100000">
                  <a:srgbClr val="21195b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Walk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With U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_s66572"/>
            <p:cNvSpPr/>
            <p:nvPr/>
          </p:nvSpPr>
          <p:spPr>
            <a:xfrm>
              <a:off x="5217840" y="5028840"/>
              <a:ext cx="666360" cy="39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_s66571"/>
            <p:cNvSpPr/>
            <p:nvPr/>
          </p:nvSpPr>
          <p:spPr>
            <a:xfrm>
              <a:off x="5783400" y="5033520"/>
              <a:ext cx="1528200" cy="1550520"/>
            </a:xfrm>
            <a:prstGeom prst="ellipse">
              <a:avLst/>
            </a:prstGeom>
            <a:gradFill rotWithShape="0">
              <a:gsLst>
                <a:gs pos="0">
                  <a:srgbClr val="4837c7"/>
                </a:gs>
                <a:gs pos="100000">
                  <a:srgbClr val="21195b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Play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With U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_s66570"/>
            <p:cNvSpPr/>
            <p:nvPr/>
          </p:nvSpPr>
          <p:spPr>
            <a:xfrm flipV="1">
              <a:off x="4559400" y="3086640"/>
              <a:ext cx="0" cy="78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_s66569"/>
            <p:cNvSpPr/>
            <p:nvPr/>
          </p:nvSpPr>
          <p:spPr>
            <a:xfrm>
              <a:off x="3795840" y="1538640"/>
              <a:ext cx="1528200" cy="1550520"/>
            </a:xfrm>
            <a:prstGeom prst="ellipse">
              <a:avLst/>
            </a:prstGeom>
            <a:gradFill rotWithShape="0">
              <a:gsLst>
                <a:gs pos="0">
                  <a:srgbClr val="4837c7"/>
                </a:gs>
                <a:gs pos="100000">
                  <a:srgbClr val="21195b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Eat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With U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_s66568"/>
            <p:cNvSpPr/>
            <p:nvPr/>
          </p:nvSpPr>
          <p:spPr>
            <a:xfrm>
              <a:off x="3795840" y="3868920"/>
              <a:ext cx="1528200" cy="1550520"/>
            </a:xfrm>
            <a:prstGeom prst="ellipse">
              <a:avLst/>
            </a:prstGeom>
            <a:gradFill rotWithShape="0">
              <a:gsLst>
                <a:gs pos="0">
                  <a:srgbClr val="4837c7"/>
                </a:gs>
                <a:gs pos="100000">
                  <a:srgbClr val="21195b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Joi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Our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am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3DC3E-CB2B-4A45-974A-34F3B0C91D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Student Name</cp:lastModifiedBy>
  <cp:lastPrinted>1996-12-10T19:20:34Z</cp:lastPrinted>
  <dcterms:modified xsi:type="dcterms:W3CDTF">2004-04-11T04:50:40Z</dcterms:modified>
  <cp:revision>53</cp:revision>
  <dc:subject/>
  <dc:title>Be Heart Smart! </dc:title>
</cp:coreProperties>
</file>