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369-EA64-45F7-B570-192CA452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2E2-B0BD-4506-83AC-1C228386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C2E-95DA-485F-B5A6-33EABC6E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F5B-50C4-4997-8527-34F06E07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E28-2DAA-47F1-A84C-D1AD5877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13A-9701-41C2-B440-3A6840C9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145-9C7F-4DA2-9F09-FC1D0AC4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B2D-91A6-401F-97A9-439FA51F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159-431C-4A6D-933B-D29D43AA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2E2-B16D-416D-AA4D-A9F004B3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7E2-684D-4B3D-9663-4622BDB5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360-CADA-4860-B958-09462083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6D48-C40E-4676-8C4B-EA7075FE9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2933640"/>
            <a:ext cx="8001000" cy="3375000"/>
            <a:chOff x="685800" y="2933640"/>
            <a:chExt cx="8001000" cy="3375000"/>
          </a:xfrm>
        </p:grpSpPr>
        <p:sp>
          <p:nvSpPr>
            <p:cNvPr id="42" name=""/>
            <p:cNvSpPr txBox="1"/>
            <p:nvPr/>
          </p:nvSpPr>
          <p:spPr>
            <a:xfrm>
              <a:off x="2253240" y="3600000"/>
              <a:ext cx="4637520" cy="2041560"/>
            </a:xfrm>
            <a:prstGeom prst="rect">
              <a:avLst/>
            </a:prstGeom>
            <a:solidFill>
              <a:srgbClr val="960096"/>
            </a:solidFill>
            <a:ln cap="rnd" w="38160">
              <a:solidFill>
                <a:srgbClr val="1c001c"/>
              </a:solidFill>
              <a:custDash>
                <a:ds d="100000" sp="1000"/>
              </a:custDash>
              <a:miter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New Year’s Bas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ecember 31, 1999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New York Cit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5800" y="2933640"/>
              <a:ext cx="8001000" cy="3375000"/>
            </a:xfrm>
            <a:custGeom>
              <a:avLst/>
              <a:gdLst>
                <a:gd name="textAreaLeft" fmla="*/ 1826280 w 8001000"/>
                <a:gd name="textAreaRight" fmla="*/ 6174720 w 8001000"/>
                <a:gd name="textAreaTop" fmla="*/ 770400 h 3375000"/>
                <a:gd name="textAreaBottom" fmla="*/ 2604600 h 337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00cc"/>
            </a:solidFill>
            <a:ln cap="rnd" w="38160">
              <a:solidFill>
                <a:srgbClr val="1c001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New Year’s Bas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December 31, 200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New York Cit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"/>
          <p:cNvSpPr txBox="1"/>
          <p:nvPr/>
        </p:nvSpPr>
        <p:spPr>
          <a:xfrm>
            <a:off x="609480" y="304920"/>
            <a:ext cx="7925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4 U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179280"/>
            <a:ext cx="784872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Year's Eve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ervations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592360"/>
            <a:ext cx="1981440" cy="68580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 fri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75560" y="4541760"/>
            <a:ext cx="673200" cy="89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05320" y="1906560"/>
            <a:ext cx="868320" cy="912960"/>
          </a:xfrm>
          <a:prstGeom prst="rect">
            <a:avLst/>
          </a:prstGeom>
          <a:ln w="0">
            <a:noFill/>
          </a:ln>
        </p:spPr>
      </p:pic>
      <p:cxnSp>
        <p:nvCxnSpPr>
          <p:cNvPr id="49" name=""/>
          <p:cNvCxnSpPr>
            <a:stCxn id="46" idx="0"/>
            <a:endCxn id="48" idx="1"/>
          </p:cNvCxnSpPr>
          <p:nvPr/>
        </p:nvCxnSpPr>
        <p:spPr>
          <a:xfrm flipV="1">
            <a:off x="2361960" y="2363400"/>
            <a:ext cx="1143720" cy="57240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334120" y="2135160"/>
            <a:ext cx="3047760" cy="1295280"/>
          </a:xfrm>
          <a:prstGeom prst="diamond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t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3659040"/>
            <a:ext cx="28191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 more fri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4268880"/>
            <a:ext cx="3047760" cy="914400"/>
          </a:xfrm>
          <a:prstGeom prst="parallelogram">
            <a:avLst>
              <a:gd name="adj" fmla="val 8332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od 4 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878360"/>
            <a:ext cx="3657600" cy="1523880"/>
          </a:xfrm>
          <a:custGeom>
            <a:avLst/>
            <a:gdLst>
              <a:gd name="textAreaLeft" fmla="*/ 834840 w 3657600"/>
              <a:gd name="textAreaRight" fmla="*/ 2822760 w 365760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600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 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a gr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629400" y="5716440"/>
            <a:ext cx="868320" cy="912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4876920"/>
            <a:ext cx="762120" cy="666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8" idx="3"/>
            <a:endCxn id="50" idx="1"/>
          </p:cNvCxnSpPr>
          <p:nvPr/>
        </p:nvCxnSpPr>
        <p:spPr>
          <a:xfrm>
            <a:off x="4373640" y="2363760"/>
            <a:ext cx="961200" cy="419760"/>
          </a:xfrm>
          <a:prstGeom prst="curvedConnector5">
            <a:avLst>
              <a:gd name="adj1" fmla="val 49906"/>
              <a:gd name="adj2" fmla="val 49957"/>
              <a:gd name="adj3" fmla="val 49906"/>
            </a:avLst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7" name=""/>
          <p:cNvCxnSpPr>
            <a:stCxn id="50" idx="2"/>
            <a:endCxn id="51" idx="3"/>
          </p:cNvCxnSpPr>
          <p:nvPr/>
        </p:nvCxnSpPr>
        <p:spPr>
          <a:xfrm rot="5400000">
            <a:off x="5504400" y="2649240"/>
            <a:ext cx="572400" cy="2134440"/>
          </a:xfrm>
          <a:prstGeom prst="curvedConnector2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" name=""/>
          <p:cNvCxnSpPr>
            <a:stCxn id="51" idx="0"/>
            <a:endCxn id="48" idx="2"/>
          </p:cNvCxnSpPr>
          <p:nvPr/>
        </p:nvCxnSpPr>
        <p:spPr>
          <a:xfrm flipH="1" flipV="1" rot="5400000">
            <a:off x="3207240" y="2926080"/>
            <a:ext cx="840240" cy="626040"/>
          </a:xfrm>
          <a:prstGeom prst="curvedConnector5">
            <a:avLst>
              <a:gd name="adj1" fmla="val 50064"/>
              <a:gd name="adj2" fmla="val 50000"/>
              <a:gd name="adj3" fmla="val 50064"/>
            </a:avLst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9" name=""/>
          <p:cNvCxnSpPr>
            <a:stCxn id="50" idx="3"/>
            <a:endCxn id="52" idx="0"/>
          </p:cNvCxnSpPr>
          <p:nvPr/>
        </p:nvCxnSpPr>
        <p:spPr>
          <a:xfrm flipH="1">
            <a:off x="7238160" y="2782800"/>
            <a:ext cx="1143720" cy="1486800"/>
          </a:xfrm>
          <a:prstGeom prst="curvedConnector5">
            <a:avLst>
              <a:gd name="adj1" fmla="val -19993"/>
              <a:gd name="adj2" fmla="val 35892"/>
              <a:gd name="adj3" fmla="val -19993"/>
            </a:avLst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0" name=""/>
          <p:cNvCxnSpPr>
            <a:stCxn id="52" idx="4"/>
            <a:endCxn id="54" idx="3"/>
          </p:cNvCxnSpPr>
          <p:nvPr/>
        </p:nvCxnSpPr>
        <p:spPr>
          <a:xfrm flipH="1" rot="16200000">
            <a:off x="6681600" y="5358240"/>
            <a:ext cx="991080" cy="640440"/>
          </a:xfrm>
          <a:prstGeom prst="curvedConnector5">
            <a:avLst>
              <a:gd name="adj1" fmla="val 26889"/>
              <a:gd name="adj2" fmla="val 67716"/>
              <a:gd name="adj3" fmla="val 26889"/>
            </a:avLst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1" name=""/>
          <p:cNvCxnSpPr>
            <a:stCxn id="54" idx="1"/>
            <a:endCxn id="53" idx="0"/>
          </p:cNvCxnSpPr>
          <p:nvPr/>
        </p:nvCxnSpPr>
        <p:spPr>
          <a:xfrm rot="10800000">
            <a:off x="4494960" y="5639760"/>
            <a:ext cx="2134440" cy="533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5684760" y="35053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26840" y="32907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9480" y="152280"/>
            <a:ext cx="784872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Year's Eve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nu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839240" y="1545120"/>
            <a:ext cx="5276160" cy="5213160"/>
            <a:chOff x="1839240" y="1545120"/>
            <a:chExt cx="5276160" cy="5213160"/>
          </a:xfrm>
        </p:grpSpPr>
        <p:sp>
          <p:nvSpPr>
            <p:cNvPr id="66" name="_s10267"/>
            <p:cNvSpPr/>
            <p:nvPr/>
          </p:nvSpPr>
          <p:spPr>
            <a:xfrm flipH="1" flipV="1">
              <a:off x="3534120" y="3091320"/>
              <a:ext cx="557640" cy="66276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10266"/>
            <p:cNvSpPr/>
            <p:nvPr/>
          </p:nvSpPr>
          <p:spPr>
            <a:xfrm>
              <a:off x="2545200" y="2026800"/>
              <a:ext cx="1203480" cy="1203480"/>
            </a:xfrm>
            <a:prstGeom prst="ellipse">
              <a:avLst/>
            </a:prstGeom>
            <a:solidFill>
              <a:srgbClr val="6f029a"/>
            </a:solidFill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pr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o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10265"/>
            <p:cNvSpPr/>
            <p:nvPr/>
          </p:nvSpPr>
          <p:spPr>
            <a:xfrm flipH="1" flipV="1">
              <a:off x="3034440" y="3959280"/>
              <a:ext cx="854280" cy="15012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_s10264"/>
            <p:cNvSpPr/>
            <p:nvPr/>
          </p:nvSpPr>
          <p:spPr>
            <a:xfrm>
              <a:off x="1839240" y="3253680"/>
              <a:ext cx="1203480" cy="1203480"/>
            </a:xfrm>
            <a:prstGeom prst="ellipse">
              <a:avLst/>
            </a:prstGeom>
            <a:solidFill>
              <a:srgbClr val="6f029a"/>
            </a:solidFill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_s10263"/>
            <p:cNvSpPr/>
            <p:nvPr/>
          </p:nvSpPr>
          <p:spPr>
            <a:xfrm flipH="1">
              <a:off x="3210480" y="4511520"/>
              <a:ext cx="750960" cy="43488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_s10262"/>
            <p:cNvSpPr/>
            <p:nvPr/>
          </p:nvSpPr>
          <p:spPr>
            <a:xfrm>
              <a:off x="2086920" y="4646520"/>
              <a:ext cx="1203480" cy="1202760"/>
            </a:xfrm>
            <a:prstGeom prst="ellipse">
              <a:avLst/>
            </a:prstGeom>
            <a:solidFill>
              <a:srgbClr val="6f029a"/>
            </a:solidFill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auté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reen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_s10261"/>
            <p:cNvSpPr/>
            <p:nvPr/>
          </p:nvSpPr>
          <p:spPr>
            <a:xfrm flipH="1">
              <a:off x="3979080" y="4772880"/>
              <a:ext cx="296280" cy="81504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_s10260"/>
            <p:cNvSpPr/>
            <p:nvPr/>
          </p:nvSpPr>
          <p:spPr>
            <a:xfrm>
              <a:off x="3171600" y="5554800"/>
              <a:ext cx="1203480" cy="1203480"/>
            </a:xfrm>
            <a:prstGeom prst="ellipse">
              <a:avLst/>
            </a:prstGeom>
            <a:solidFill>
              <a:srgbClr val="6f029a"/>
            </a:solidFill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egg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&amp; Di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_s10259"/>
            <p:cNvSpPr/>
            <p:nvPr/>
          </p:nvSpPr>
          <p:spPr>
            <a:xfrm>
              <a:off x="4683240" y="4771080"/>
              <a:ext cx="296640" cy="81504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_s10258"/>
            <p:cNvSpPr/>
            <p:nvPr/>
          </p:nvSpPr>
          <p:spPr>
            <a:xfrm>
              <a:off x="4585680" y="5553000"/>
              <a:ext cx="1203480" cy="1203480"/>
            </a:xfrm>
            <a:prstGeom prst="ellipse">
              <a:avLst/>
            </a:prstGeom>
            <a:solidFill>
              <a:srgbClr val="6f029a"/>
            </a:solidFill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eanu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o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_s10257"/>
            <p:cNvSpPr/>
            <p:nvPr/>
          </p:nvSpPr>
          <p:spPr>
            <a:xfrm>
              <a:off x="4995360" y="4507560"/>
              <a:ext cx="750960" cy="43488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_s10256"/>
            <p:cNvSpPr/>
            <p:nvPr/>
          </p:nvSpPr>
          <p:spPr>
            <a:xfrm>
              <a:off x="5668200" y="4642560"/>
              <a:ext cx="1203480" cy="1203480"/>
            </a:xfrm>
            <a:prstGeom prst="ellipse">
              <a:avLst/>
            </a:prstGeom>
            <a:solidFill>
              <a:srgbClr val="6f029a"/>
            </a:solidFill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ec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i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_s10255"/>
            <p:cNvSpPr/>
            <p:nvPr/>
          </p:nvSpPr>
          <p:spPr>
            <a:xfrm flipV="1">
              <a:off x="5065920" y="3956040"/>
              <a:ext cx="853920" cy="14976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_s10254"/>
            <p:cNvSpPr/>
            <p:nvPr/>
          </p:nvSpPr>
          <p:spPr>
            <a:xfrm>
              <a:off x="5912280" y="3249720"/>
              <a:ext cx="1203120" cy="1203480"/>
            </a:xfrm>
            <a:prstGeom prst="ellipse">
              <a:avLst/>
            </a:prstGeom>
            <a:solidFill>
              <a:srgbClr val="6f029a"/>
            </a:solidFill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re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rui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_s10253"/>
            <p:cNvSpPr/>
            <p:nvPr/>
          </p:nvSpPr>
          <p:spPr>
            <a:xfrm flipV="1">
              <a:off x="4861080" y="3087360"/>
              <a:ext cx="557640" cy="66492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_s10252"/>
            <p:cNvSpPr/>
            <p:nvPr/>
          </p:nvSpPr>
          <p:spPr>
            <a:xfrm>
              <a:off x="5204160" y="2026800"/>
              <a:ext cx="1203480" cy="1203480"/>
            </a:xfrm>
            <a:prstGeom prst="ellipse">
              <a:avLst/>
            </a:prstGeom>
            <a:solidFill>
              <a:srgbClr val="6f029a"/>
            </a:solidFill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f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_s10251"/>
            <p:cNvSpPr/>
            <p:nvPr/>
          </p:nvSpPr>
          <p:spPr>
            <a:xfrm flipV="1">
              <a:off x="4476600" y="2746080"/>
              <a:ext cx="0" cy="86580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_s10250"/>
            <p:cNvSpPr/>
            <p:nvPr/>
          </p:nvSpPr>
          <p:spPr>
            <a:xfrm>
              <a:off x="3875760" y="1545120"/>
              <a:ext cx="1203480" cy="1203480"/>
            </a:xfrm>
            <a:prstGeom prst="ellipse">
              <a:avLst/>
            </a:prstGeom>
            <a:solidFill>
              <a:srgbClr val="6f029a"/>
            </a:solidFill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oach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alm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10249"/>
            <p:cNvSpPr/>
            <p:nvPr/>
          </p:nvSpPr>
          <p:spPr>
            <a:xfrm>
              <a:off x="3696120" y="3353040"/>
              <a:ext cx="1706760" cy="1708560"/>
            </a:xfrm>
            <a:custGeom>
              <a:avLst/>
              <a:gdLst>
                <a:gd name="textAreaLeft" fmla="*/ 389520 w 1706760"/>
                <a:gd name="textAreaRight" fmla="*/ 1317240 w 1706760"/>
                <a:gd name="textAreaTop" fmla="*/ 389880 h 1708560"/>
                <a:gd name="textAreaBottom" fmla="*/ 1318680 h 170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76320">
              <a:solidFill>
                <a:srgbClr val="6f02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f029a"/>
                  </a:solidFill>
                  <a:latin typeface="Arial"/>
                </a:rPr>
                <a:t>Grea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f029a"/>
                  </a:solidFill>
                  <a:latin typeface="Arial"/>
                </a:rPr>
                <a:t>Foo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9T15:31:49Z</dcterms:created>
  <dc:creator>Pat R. Graves</dc:creator>
  <dc:description/>
  <dc:language>en-US</dc:language>
  <cp:lastModifiedBy>Student Name</cp:lastModifiedBy>
  <dcterms:modified xsi:type="dcterms:W3CDTF">2004-04-11T04:54:00Z</dcterms:modified>
  <cp:revision>6</cp:revision>
  <dc:subject/>
  <dc:title>New Year's Bash</dc:title>
</cp:coreProperties>
</file>