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102-48FE-4FC3-9730-F8AA6975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B11-6F38-4A5F-9503-2AC8802B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078-153B-45CB-B962-5863A8D9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18A-C2F9-40DB-A713-DFEB9E33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08C0-42F2-49FC-8565-3B5ECBB8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A47C-CF6D-468B-990B-84A9AD46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B581-9235-47DE-A66C-483D0D7A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317C-CB3A-46B4-B981-59106CEF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05DE-C4F7-4652-B649-B23C3A12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C4DF-2787-4A6A-AE74-CB76F4F5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5B9F-F4A9-41CA-8B65-CA4FEA83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A421-F99F-4D5E-94A6-82A3C12E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F834-0AB4-47C1-8996-B27AD12A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93FF-C95D-4A46-BC1A-1448130B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E558-A1C2-4F39-8BEF-37823C2F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3F5E-7C2C-41CA-A073-39F252CC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FB56-079F-4BFE-8CAF-0A85F830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819-46FB-4C60-A6EA-1E8CDFED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3BA-5D8A-4423-A985-669B855E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9DD-8D81-4638-B62D-14525D8D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4A3-C88F-4199-B2AB-546ABA73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81DB-6C65-4324-8E44-877BBDD1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C1C-F58F-44B7-97F0-0D4CBAE5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76F-78AD-4C63-B2A4-414C9D0B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12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6330-A08E-4634-8129-7AA59C64F6F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4f5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EDB5-11CB-4739-9F28-E334E3531A9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MIS Department Change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477120" y="4573440"/>
            <a:ext cx="1599840" cy="646200"/>
            <a:chOff x="6477120" y="4573440"/>
            <a:chExt cx="1599840" cy="646200"/>
          </a:xfrm>
        </p:grpSpPr>
        <p:sp>
          <p:nvSpPr>
            <p:cNvPr id="210" name=""/>
            <p:cNvSpPr txBox="1"/>
            <p:nvPr/>
          </p:nvSpPr>
          <p:spPr>
            <a:xfrm>
              <a:off x="7631280" y="4819320"/>
              <a:ext cx="445680" cy="40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7237800" y="4676040"/>
              <a:ext cx="577080" cy="543600"/>
              <a:chOff x="7237800" y="4676040"/>
              <a:chExt cx="577080" cy="543600"/>
            </a:xfrm>
          </p:grpSpPr>
          <p:sp>
            <p:nvSpPr>
              <p:cNvPr id="212" name=""/>
              <p:cNvSpPr/>
              <p:nvPr/>
            </p:nvSpPr>
            <p:spPr>
              <a:xfrm>
                <a:off x="7237800" y="4676040"/>
                <a:ext cx="577080" cy="5436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399800" y="4734360"/>
                <a:ext cx="267120" cy="3027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40458c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 txBox="1"/>
            <p:nvPr/>
          </p:nvSpPr>
          <p:spPr>
            <a:xfrm>
              <a:off x="6477120" y="4573440"/>
              <a:ext cx="1075680" cy="383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IS Department Expa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f89f7"/>
              </a:buClr>
              <a:buSzPct val="12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 Department divided into two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r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f89f7"/>
              </a:buClr>
              <a:buSzPct val="12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new positions cre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Administr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ount Mana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ior Program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IS Department Organiz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838080" y="1905120"/>
            <a:ext cx="7772400" cy="4065480"/>
            <a:chOff x="838080" y="1905120"/>
            <a:chExt cx="7772400" cy="4065480"/>
          </a:xfrm>
        </p:grpSpPr>
        <p:cxnSp>
          <p:nvCxnSpPr>
            <p:cNvPr id="219" name="_s19482"/>
            <p:cNvCxnSpPr>
              <a:stCxn id="220" idx="3"/>
              <a:endCxn id="221" idx="2"/>
            </p:cNvCxnSpPr>
            <p:nvPr/>
          </p:nvCxnSpPr>
          <p:spPr>
            <a:xfrm flipV="1">
              <a:off x="7129440" y="4074480"/>
              <a:ext cx="372240" cy="1654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2" name="_s19480"/>
            <p:cNvCxnSpPr>
              <a:stCxn id="223" idx="3"/>
              <a:endCxn id="221" idx="2"/>
            </p:cNvCxnSpPr>
            <p:nvPr/>
          </p:nvCxnSpPr>
          <p:spPr>
            <a:xfrm flipV="1">
              <a:off x="7129440" y="4074480"/>
              <a:ext cx="372240" cy="1005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4" name="_s19478"/>
            <p:cNvCxnSpPr>
              <a:stCxn id="225" idx="3"/>
              <a:endCxn id="221" idx="2"/>
            </p:cNvCxnSpPr>
            <p:nvPr/>
          </p:nvCxnSpPr>
          <p:spPr>
            <a:xfrm flipV="1">
              <a:off x="7129440" y="4075200"/>
              <a:ext cx="372240" cy="35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19476"/>
            <p:cNvCxnSpPr>
              <a:stCxn id="227" idx="1"/>
              <a:endCxn id="228" idx="2"/>
            </p:cNvCxnSpPr>
            <p:nvPr/>
          </p:nvCxnSpPr>
          <p:spPr>
            <a:xfrm rot="10800000">
              <a:off x="1948680" y="4074480"/>
              <a:ext cx="370800" cy="1005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19474"/>
            <p:cNvCxnSpPr>
              <a:stCxn id="230" idx="1"/>
              <a:endCxn id="228" idx="2"/>
            </p:cNvCxnSpPr>
            <p:nvPr/>
          </p:nvCxnSpPr>
          <p:spPr>
            <a:xfrm rot="10800000">
              <a:off x="1948680" y="4075200"/>
              <a:ext cx="370800" cy="35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1" name="_s19472"/>
            <p:cNvCxnSpPr>
              <a:stCxn id="232" idx="3"/>
              <a:endCxn id="233" idx="2"/>
            </p:cNvCxnSpPr>
            <p:nvPr/>
          </p:nvCxnSpPr>
          <p:spPr>
            <a:xfrm flipV="1">
              <a:off x="4354200" y="2590560"/>
              <a:ext cx="370440" cy="396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4" name="_s19469"/>
            <p:cNvCxnSpPr>
              <a:stCxn id="221" idx="0"/>
              <a:endCxn id="233" idx="2"/>
            </p:cNvCxnSpPr>
            <p:nvPr/>
          </p:nvCxnSpPr>
          <p:spPr>
            <a:xfrm flipV="1" rot="16200000">
              <a:off x="5672160" y="1641600"/>
              <a:ext cx="880200" cy="2777400"/>
            </a:xfrm>
            <a:prstGeom prst="bentConnector3">
              <a:avLst>
                <a:gd name="adj1" fmla="val 129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5" name="_s19468"/>
            <p:cNvCxnSpPr>
              <a:stCxn id="228" idx="0"/>
              <a:endCxn id="233" idx="2"/>
            </p:cNvCxnSpPr>
            <p:nvPr/>
          </p:nvCxnSpPr>
          <p:spPr>
            <a:xfrm flipH="1" flipV="1" rot="5400000">
              <a:off x="2896920" y="1642680"/>
              <a:ext cx="880200" cy="2775600"/>
            </a:xfrm>
            <a:prstGeom prst="bentConnector3">
              <a:avLst>
                <a:gd name="adj1" fmla="val 129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3" name="_s19464"/>
            <p:cNvSpPr/>
            <p:nvPr/>
          </p:nvSpPr>
          <p:spPr>
            <a:xfrm>
              <a:off x="3105000" y="1905120"/>
              <a:ext cx="3238560" cy="685800"/>
            </a:xfrm>
            <a:prstGeom prst="roundRect">
              <a:avLst>
                <a:gd name="adj" fmla="val 16667"/>
              </a:avLst>
            </a:prstGeom>
            <a:solidFill>
              <a:srgbClr val="8d8d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Department He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Chuck Ward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Information Manag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_s19465"/>
            <p:cNvSpPr/>
            <p:nvPr/>
          </p:nvSpPr>
          <p:spPr>
            <a:xfrm>
              <a:off x="838080" y="3470400"/>
              <a:ext cx="2221200" cy="604800"/>
            </a:xfrm>
            <a:prstGeom prst="roundRect">
              <a:avLst>
                <a:gd name="adj" fmla="val 16667"/>
              </a:avLst>
            </a:prstGeom>
            <a:solidFill>
              <a:srgbClr val="8d8d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T. Reill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Assistant Mg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_s19466"/>
            <p:cNvSpPr/>
            <p:nvPr/>
          </p:nvSpPr>
          <p:spPr>
            <a:xfrm>
              <a:off x="6389640" y="3470400"/>
              <a:ext cx="2220840" cy="604800"/>
            </a:xfrm>
            <a:prstGeom prst="roundRect">
              <a:avLst>
                <a:gd name="adj" fmla="val 16667"/>
              </a:avLst>
            </a:prstGeom>
            <a:solidFill>
              <a:srgbClr val="8d8d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User System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T. Donet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Assistant Mg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_s19471"/>
            <p:cNvSpPr/>
            <p:nvPr/>
          </p:nvSpPr>
          <p:spPr>
            <a:xfrm>
              <a:off x="2133720" y="2743200"/>
              <a:ext cx="2220840" cy="484200"/>
            </a:xfrm>
            <a:prstGeom prst="roundRect">
              <a:avLst>
                <a:gd name="adj" fmla="val 16667"/>
              </a:avLst>
            </a:prstGeom>
            <a:solidFill>
              <a:srgbClr val="8d8d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J. Samuels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_s19473"/>
            <p:cNvSpPr/>
            <p:nvPr/>
          </p:nvSpPr>
          <p:spPr>
            <a:xfrm>
              <a:off x="2319480" y="4191120"/>
              <a:ext cx="2219040" cy="484200"/>
            </a:xfrm>
            <a:prstGeom prst="roundRect">
              <a:avLst>
                <a:gd name="adj" fmla="val 16667"/>
              </a:avLst>
            </a:prstGeom>
            <a:solidFill>
              <a:srgbClr val="8d8d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Senior Programm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D. Kenna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_s19475"/>
            <p:cNvSpPr/>
            <p:nvPr/>
          </p:nvSpPr>
          <p:spPr>
            <a:xfrm>
              <a:off x="2319480" y="4836960"/>
              <a:ext cx="2219040" cy="484200"/>
            </a:xfrm>
            <a:prstGeom prst="roundRect">
              <a:avLst>
                <a:gd name="adj" fmla="val 16667"/>
              </a:avLst>
            </a:prstGeom>
            <a:solidFill>
              <a:srgbClr val="8d8d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Hardware Buy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B. Hy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_s19477"/>
            <p:cNvSpPr/>
            <p:nvPr/>
          </p:nvSpPr>
          <p:spPr>
            <a:xfrm>
              <a:off x="4910040" y="4191120"/>
              <a:ext cx="2219400" cy="484200"/>
            </a:xfrm>
            <a:prstGeom prst="roundRect">
              <a:avLst>
                <a:gd name="adj" fmla="val 16667"/>
              </a:avLst>
            </a:prstGeom>
            <a:solidFill>
              <a:srgbClr val="8d8d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Account Manag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J. Key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_s19479"/>
            <p:cNvSpPr/>
            <p:nvPr/>
          </p:nvSpPr>
          <p:spPr>
            <a:xfrm>
              <a:off x="4910040" y="4836960"/>
              <a:ext cx="2219400" cy="484200"/>
            </a:xfrm>
            <a:prstGeom prst="roundRect">
              <a:avLst>
                <a:gd name="adj" fmla="val 16667"/>
              </a:avLst>
            </a:prstGeom>
            <a:solidFill>
              <a:srgbClr val="8d8d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Network Admi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J. W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_s19481"/>
            <p:cNvSpPr/>
            <p:nvPr/>
          </p:nvSpPr>
          <p:spPr>
            <a:xfrm>
              <a:off x="4911840" y="5486400"/>
              <a:ext cx="2217600" cy="484200"/>
            </a:xfrm>
            <a:prstGeom prst="roundRect">
              <a:avLst>
                <a:gd name="adj" fmla="val 16667"/>
              </a:avLst>
            </a:prstGeom>
            <a:solidFill>
              <a:srgbClr val="8d8d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Database Admi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K. Gonza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2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72F05-D52F-4432-872E-490D5AD39D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1T20:09:16Z</dcterms:created>
  <dc:creator>Pat R. Graves</dc:creator>
  <dc:description/>
  <dc:language>en-US</dc:language>
  <cp:lastModifiedBy>Pat Graves</cp:lastModifiedBy>
  <cp:lastPrinted>1997-08-01T14:52:26Z</cp:lastPrinted>
  <dcterms:modified xsi:type="dcterms:W3CDTF">2004-03-21T18:41:04Z</dcterms:modified>
  <cp:revision>32</cp:revision>
  <dc:subject/>
  <dc:title>MIS Department Changes</dc:title>
</cp:coreProperties>
</file>