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0F03-7E38-49C6-84E1-085C3523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D449-4D09-41FD-983E-3A5C57A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47AF-F34D-42B2-9D02-E334AB3D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B6DF-4D90-4DBC-AEC8-71ED5C58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0D75-CD20-42ED-AFF8-E12C7088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E6F-9660-41EE-9F01-A0BD9018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F985-E1AE-42E8-B861-D964E1C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971-C623-4963-9F4A-98333BB9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9FD4-E6D1-48A5-88C4-086678B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F1B-2A42-4455-B038-FE89DD4B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DE47-5C47-4898-8308-45586F8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874C-CEEC-4A1B-BB1E-2F22165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8D90-4DD0-4D16-B16B-8A70BD2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FF3-F7F6-4FEA-9707-CA27852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F521-1A64-4E47-B923-703B9B9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7CE-46B1-442C-B9CF-9800F91D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F952-1E2A-43A4-8C2F-6600210A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1A9E-C5ED-483B-9788-31FDA94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5AFA-C872-4705-9B1C-99D7E66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ABCE-7BF2-4EA7-8AA5-687DFA4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A686-1D88-47A3-8D4F-94A7C8DB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E0BB-95FF-44CB-A08D-E0B868A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DB0B-0B16-44B0-AC5B-60A2109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B353-B16C-4497-83DE-7B34AF6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19E-0D01-4791-A0A2-FF42CC93F0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5080" y="1689480"/>
            <a:ext cx="7593840" cy="165024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  <a:effectLst>
            <a:outerShdw dist="107932" dir="13500000" blurRad="0" rotWithShape="0">
              <a:srgbClr val="c9c6a5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AF7-DDD1-41AF-8126-03834088F0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  <a:effectLst>
            <a:outerShdw dist="107932" dir="13500000" blurRad="0" rotWithShape="0">
              <a:srgbClr val="c9c6a5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perations Managemen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Operation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for daily operation of restaur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ties divided between kitchen and ser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Kitchen and Servic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planning an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l preparation and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ting and re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4920" y="1617840"/>
            <a:ext cx="8381160" cy="4494600"/>
            <a:chOff x="304920" y="1617840"/>
            <a:chExt cx="8381160" cy="4494600"/>
          </a:xfrm>
        </p:grpSpPr>
        <p:cxnSp>
          <p:nvCxnSpPr>
            <p:cNvPr id="134" name="_s13333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6968520" y="4201920"/>
              <a:ext cx="562320" cy="10116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3331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5881680" y="4126680"/>
              <a:ext cx="562320" cy="11624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3329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2585880" y="4165200"/>
              <a:ext cx="562320" cy="10850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3327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1499040" y="4163400"/>
              <a:ext cx="562320" cy="10893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3324"/>
            <p:cNvCxnSpPr>
              <a:stCxn id="136" idx="0"/>
              <a:endCxn id="145" idx="2"/>
            </p:cNvCxnSpPr>
            <p:nvPr/>
          </p:nvCxnSpPr>
          <p:spPr>
            <a:xfrm flipV="1" rot="16200000">
              <a:off x="5300640" y="1859760"/>
              <a:ext cx="562320" cy="232452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3323"/>
            <p:cNvCxnSpPr>
              <a:stCxn id="141" idx="0"/>
              <a:endCxn id="145" idx="2"/>
            </p:cNvCxnSpPr>
            <p:nvPr/>
          </p:nvCxnSpPr>
          <p:spPr>
            <a:xfrm flipH="1" flipV="1" rot="5400000">
              <a:off x="3091320" y="1974240"/>
              <a:ext cx="562320" cy="209592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13319"/>
            <p:cNvSpPr/>
            <p:nvPr/>
          </p:nvSpPr>
          <p:spPr>
            <a:xfrm>
              <a:off x="2589840" y="1617840"/>
              <a:ext cx="3658680" cy="1123560"/>
            </a:xfrm>
            <a:prstGeom prst="roundRect">
              <a:avLst>
                <a:gd name="adj" fmla="val 16667"/>
              </a:avLst>
            </a:prstGeom>
            <a:solidFill>
              <a:srgbClr val="b0ac9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Michele Jenki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ad Chef &amp; Operations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3320"/>
            <p:cNvSpPr/>
            <p:nvPr/>
          </p:nvSpPr>
          <p:spPr>
            <a:xfrm>
              <a:off x="1065960" y="3303360"/>
              <a:ext cx="2515680" cy="1123560"/>
            </a:xfrm>
            <a:prstGeom prst="roundRect">
              <a:avLst>
                <a:gd name="adj" fmla="val 16667"/>
              </a:avLst>
            </a:prstGeom>
            <a:solidFill>
              <a:srgbClr val="c9c6a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ric Denn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sst Chef &amp; Kitchen Mg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3321"/>
            <p:cNvSpPr/>
            <p:nvPr/>
          </p:nvSpPr>
          <p:spPr>
            <a:xfrm>
              <a:off x="5485320" y="3303360"/>
              <a:ext cx="2515680" cy="1123560"/>
            </a:xfrm>
            <a:prstGeom prst="roundRect">
              <a:avLst>
                <a:gd name="adj" fmla="val 16667"/>
              </a:avLst>
            </a:prstGeom>
            <a:solidFill>
              <a:srgbClr val="c9c6a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audia P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itre d’ &amp; Service Mg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3326"/>
            <p:cNvSpPr/>
            <p:nvPr/>
          </p:nvSpPr>
          <p:spPr>
            <a:xfrm>
              <a:off x="304920" y="4988880"/>
              <a:ext cx="1862280" cy="1123560"/>
            </a:xfrm>
            <a:prstGeom prst="roundRect">
              <a:avLst>
                <a:gd name="adj" fmla="val 16667"/>
              </a:avLst>
            </a:prstGeom>
            <a:solidFill>
              <a:srgbClr val="dddcc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. Robins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. Co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3328"/>
            <p:cNvSpPr/>
            <p:nvPr/>
          </p:nvSpPr>
          <p:spPr>
            <a:xfrm>
              <a:off x="2477880" y="4988880"/>
              <a:ext cx="1862280" cy="1123560"/>
            </a:xfrm>
            <a:prstGeom prst="roundRect">
              <a:avLst>
                <a:gd name="adj" fmla="val 16667"/>
              </a:avLst>
            </a:prstGeom>
            <a:solidFill>
              <a:srgbClr val="dddcc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. Stef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. Cook, Weeke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330"/>
            <p:cNvSpPr/>
            <p:nvPr/>
          </p:nvSpPr>
          <p:spPr>
            <a:xfrm>
              <a:off x="4650840" y="4988880"/>
              <a:ext cx="1862280" cy="1123560"/>
            </a:xfrm>
            <a:prstGeom prst="roundRect">
              <a:avLst>
                <a:gd name="adj" fmla="val 16667"/>
              </a:avLst>
            </a:prstGeom>
            <a:solidFill>
              <a:srgbClr val="dddcc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. Do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nqu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3332"/>
            <p:cNvSpPr/>
            <p:nvPr/>
          </p:nvSpPr>
          <p:spPr>
            <a:xfrm>
              <a:off x="6823800" y="4988880"/>
              <a:ext cx="1862280" cy="1123560"/>
            </a:xfrm>
            <a:prstGeom prst="roundRect">
              <a:avLst>
                <a:gd name="adj" fmla="val 16667"/>
              </a:avLst>
            </a:prstGeom>
            <a:solidFill>
              <a:srgbClr val="dddcc5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. Conw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cilities &amp; Ma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Your Name, Sol14-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68C3EC-DE27-4CC0-B5EE-81BFDEB90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8:50:50Z</dcterms:created>
  <dc:creator>Pat R. Graves</dc:creator>
  <dc:description/>
  <dc:language>en-US</dc:language>
  <cp:lastModifiedBy>Pat Graves</cp:lastModifiedBy>
  <dcterms:modified xsi:type="dcterms:W3CDTF">2004-03-21T00:46:35Z</dcterms:modified>
  <cp:revision>4</cp:revision>
  <dc:subject/>
  <dc:title>Management Structure</dc:title>
</cp:coreProperties>
</file>