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770-690F-4EC2-88D0-F22918CC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B92-9275-4BC4-BCB7-56DDC1A5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7DD-9D0C-4441-B587-14F2492C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7C2-2F9C-46CE-B5C3-B0C02856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FD6F-885C-408B-8724-82279F1D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F9DA-3BE5-4CCC-B3D8-FB0B18CF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750E-09AB-4A59-B929-011CAEBF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1DE2-ADDF-4478-8020-F9DB9E87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F8BA-8355-4CEE-B8E5-E2F97212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935D-6BFC-4939-A6DF-869D3211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1C0E-28B9-4790-ADFC-66555A19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7DF-5160-4EEA-A5EA-59D9F796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1F16-B698-4AB0-9C90-241AD3B5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86DA-4F20-401A-A0E5-A048DA7E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D085-1F80-4BE3-BFCE-56C894C7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7211-793A-4DA2-AF3A-234E5949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6FEA-2139-4DF8-A1A2-C79311B8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E75-290D-44F5-A43D-BC8FE8DD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06E-DC81-489D-AA8D-BC3C7752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BDA-0182-410C-A403-A06322E6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69B-5749-4D9C-81DC-CC7B6B89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CBE-50EC-41DB-B754-AE4B516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5B6-4577-4099-836F-3CC07E2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64F-390C-4563-966B-A8C36AA2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"/>
          <p:cNvSpPr/>
          <p:nvPr/>
        </p:nvSpPr>
        <p:spPr>
          <a:xfrm>
            <a:off x="533520" y="-12600"/>
            <a:ext cx="8610480" cy="866520"/>
          </a:xfrm>
          <a:prstGeom prst="rect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832-9717-4E7B-8F9E-DD9A0C429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167520"/>
            <a:ext cx="1371240" cy="538200"/>
            <a:chOff x="7620120" y="6167520"/>
            <a:chExt cx="1371240" cy="538200"/>
          </a:xfrm>
        </p:grpSpPr>
        <p:sp>
          <p:nvSpPr>
            <p:cNvPr id="47" name=""/>
            <p:cNvSpPr txBox="1"/>
            <p:nvPr/>
          </p:nvSpPr>
          <p:spPr>
            <a:xfrm>
              <a:off x="8609400" y="6372360"/>
              <a:ext cx="3819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8272080" y="6252840"/>
              <a:ext cx="494640" cy="452520"/>
              <a:chOff x="8272080" y="6252840"/>
              <a:chExt cx="494640" cy="452520"/>
            </a:xfrm>
          </p:grpSpPr>
          <p:sp>
            <p:nvSpPr>
              <p:cNvPr id="49" name=""/>
              <p:cNvSpPr/>
              <p:nvPr/>
            </p:nvSpPr>
            <p:spPr>
              <a:xfrm>
                <a:off x="8272080" y="6252840"/>
                <a:ext cx="4946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11040" y="6301440"/>
                <a:ext cx="22896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 txBox="1"/>
            <p:nvPr/>
          </p:nvSpPr>
          <p:spPr>
            <a:xfrm>
              <a:off x="7620120" y="6167520"/>
              <a:ext cx="921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87480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33520" y="914400"/>
            <a:ext cx="8610480" cy="1752480"/>
          </a:xfrm>
          <a:prstGeom prst="rect">
            <a:avLst/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2B9E-50F1-4C14-A70C-FBE8B8674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Employee Meeting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1320" y="5105520"/>
            <a:ext cx="2895480" cy="1168200"/>
            <a:chOff x="5791320" y="5105520"/>
            <a:chExt cx="2895480" cy="1168200"/>
          </a:xfrm>
        </p:grpSpPr>
        <p:sp>
          <p:nvSpPr>
            <p:cNvPr id="175" name=""/>
            <p:cNvSpPr txBox="1"/>
            <p:nvPr/>
          </p:nvSpPr>
          <p:spPr>
            <a:xfrm>
              <a:off x="7880040" y="5550120"/>
              <a:ext cx="806760" cy="72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167960" y="5291280"/>
              <a:ext cx="1044000" cy="982440"/>
              <a:chOff x="7167960" y="5291280"/>
              <a:chExt cx="1044000" cy="98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167960" y="5291280"/>
                <a:ext cx="1044000" cy="982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1000" y="5397120"/>
                <a:ext cx="483120" cy="54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5791320" y="5105520"/>
              <a:ext cx="19461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ganization Chang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Management Struct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3200" y="1189080"/>
            <a:ext cx="8881920" cy="5132160"/>
            <a:chOff x="133200" y="1189080"/>
            <a:chExt cx="8881920" cy="5132160"/>
          </a:xfrm>
        </p:grpSpPr>
        <p:cxnSp>
          <p:nvCxnSpPr>
            <p:cNvPr id="184" name="_s20529"/>
            <p:cNvCxnSpPr>
              <a:stCxn id="185" idx="1"/>
              <a:endCxn id="186" idx="2"/>
            </p:cNvCxnSpPr>
            <p:nvPr/>
          </p:nvCxnSpPr>
          <p:spPr>
            <a:xfrm rot="10800000">
              <a:off x="1032480" y="3502800"/>
              <a:ext cx="191160" cy="254376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87" name="_s20527"/>
            <p:cNvCxnSpPr>
              <a:stCxn id="188" idx="1"/>
              <a:endCxn id="186" idx="2"/>
            </p:cNvCxnSpPr>
            <p:nvPr/>
          </p:nvCxnSpPr>
          <p:spPr>
            <a:xfrm rot="10800000">
              <a:off x="1032480" y="3502800"/>
              <a:ext cx="191160" cy="186444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89" name="_s20526"/>
            <p:cNvCxnSpPr>
              <a:stCxn id="190" idx="0"/>
              <a:endCxn id="191" idx="2"/>
            </p:cNvCxnSpPr>
            <p:nvPr/>
          </p:nvCxnSpPr>
          <p:spPr>
            <a:xfrm flipV="1" rot="16200000">
              <a:off x="5757840" y="547560"/>
              <a:ext cx="1010520" cy="354240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2" name="_s20524"/>
            <p:cNvCxnSpPr>
              <a:stCxn id="193" idx="0"/>
              <a:endCxn id="191" idx="2"/>
            </p:cNvCxnSpPr>
            <p:nvPr/>
          </p:nvCxnSpPr>
          <p:spPr>
            <a:xfrm flipV="1" rot="16200000">
              <a:off x="4780800" y="1524600"/>
              <a:ext cx="1010520" cy="158832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4" name="_s20523"/>
            <p:cNvCxnSpPr>
              <a:stCxn id="195" idx="2"/>
              <a:endCxn id="196" idx="2"/>
            </p:cNvCxnSpPr>
            <p:nvPr/>
          </p:nvCxnSpPr>
          <p:spPr>
            <a:xfrm rot="10800000">
              <a:off x="5853600" y="4278960"/>
              <a:ext cx="272160" cy="42300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7" name="_s20522"/>
            <p:cNvCxnSpPr/>
            <p:nvPr/>
          </p:nvCxnSpPr>
          <p:spPr>
            <a:xfrm flipV="1">
              <a:off x="6670440" y="3523320"/>
              <a:ext cx="1364400" cy="215028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8" name="_s20521"/>
            <p:cNvCxnSpPr>
              <a:stCxn id="196" idx="3"/>
              <a:endCxn id="190" idx="2"/>
            </p:cNvCxnSpPr>
            <p:nvPr/>
          </p:nvCxnSpPr>
          <p:spPr>
            <a:xfrm flipV="1">
              <a:off x="6670440" y="3503160"/>
              <a:ext cx="1364400" cy="50400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9" name="_s20511"/>
            <p:cNvCxnSpPr>
              <a:stCxn id="200" idx="1"/>
              <a:endCxn id="186" idx="2"/>
            </p:cNvCxnSpPr>
            <p:nvPr/>
          </p:nvCxnSpPr>
          <p:spPr>
            <a:xfrm rot="10800000">
              <a:off x="950760" y="3502800"/>
              <a:ext cx="273240" cy="50544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1" name="_s20509"/>
            <p:cNvCxnSpPr>
              <a:stCxn id="202" idx="1"/>
              <a:endCxn id="186" idx="2"/>
            </p:cNvCxnSpPr>
            <p:nvPr/>
          </p:nvCxnSpPr>
          <p:spPr>
            <a:xfrm rot="10800000">
              <a:off x="1032480" y="3502800"/>
              <a:ext cx="191160" cy="118512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3" name="_s20505"/>
            <p:cNvCxnSpPr>
              <a:stCxn id="204" idx="6"/>
              <a:endCxn id="191" idx="2"/>
            </p:cNvCxnSpPr>
            <p:nvPr/>
          </p:nvCxnSpPr>
          <p:spPr>
            <a:xfrm flipV="1">
              <a:off x="4218840" y="1813680"/>
              <a:ext cx="273960" cy="44676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5" name="_s20495"/>
            <p:cNvCxnSpPr>
              <a:stCxn id="206" idx="0"/>
              <a:endCxn id="207" idx="2"/>
            </p:cNvCxnSpPr>
            <p:nvPr/>
          </p:nvCxnSpPr>
          <p:spPr>
            <a:xfrm flipV="1">
              <a:off x="3947400" y="3502800"/>
              <a:ext cx="2520" cy="23076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8" name="_s20485"/>
            <p:cNvCxnSpPr>
              <a:stCxn id="207" idx="0"/>
              <a:endCxn id="191" idx="2"/>
            </p:cNvCxnSpPr>
            <p:nvPr/>
          </p:nvCxnSpPr>
          <p:spPr>
            <a:xfrm flipH="1" flipV="1" rot="5400000">
              <a:off x="3714840" y="2046240"/>
              <a:ext cx="1010520" cy="54540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9" name="_s20487"/>
            <p:cNvCxnSpPr>
              <a:stCxn id="186" idx="0"/>
              <a:endCxn id="191" idx="2"/>
            </p:cNvCxnSpPr>
            <p:nvPr/>
          </p:nvCxnSpPr>
          <p:spPr>
            <a:xfrm flipH="1" flipV="1" rot="5400000">
              <a:off x="2216520" y="547920"/>
              <a:ext cx="1010520" cy="354240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sp>
          <p:nvSpPr>
            <p:cNvPr id="191" name="_s20488"/>
            <p:cNvSpPr/>
            <p:nvPr/>
          </p:nvSpPr>
          <p:spPr>
            <a:xfrm>
              <a:off x="2984400" y="1189080"/>
              <a:ext cx="3016080" cy="6253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Julie Wolfe &amp; Gus Irvinel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-ow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489"/>
            <p:cNvSpPr/>
            <p:nvPr/>
          </p:nvSpPr>
          <p:spPr>
            <a:xfrm>
              <a:off x="133200" y="2824200"/>
              <a:ext cx="17985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chael Pet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ministration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20490"/>
            <p:cNvSpPr/>
            <p:nvPr/>
          </p:nvSpPr>
          <p:spPr>
            <a:xfrm>
              <a:off x="7216560" y="2824200"/>
              <a:ext cx="17985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les &amp; Marke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Roy Olaf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arketing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491"/>
            <p:cNvSpPr/>
            <p:nvPr/>
          </p:nvSpPr>
          <p:spPr>
            <a:xfrm>
              <a:off x="3130200" y="2824200"/>
              <a:ext cx="17985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chele Jenki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d Che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492"/>
            <p:cNvSpPr/>
            <p:nvPr/>
          </p:nvSpPr>
          <p:spPr>
            <a:xfrm>
              <a:off x="5179680" y="2824200"/>
              <a:ext cx="18003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Chuck Ward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S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20494"/>
            <p:cNvSpPr/>
            <p:nvPr/>
          </p:nvSpPr>
          <p:spPr>
            <a:xfrm>
              <a:off x="3130200" y="3733560"/>
              <a:ext cx="1635120" cy="546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ric Denn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496"/>
            <p:cNvSpPr/>
            <p:nvPr/>
          </p:nvSpPr>
          <p:spPr>
            <a:xfrm>
              <a:off x="1223640" y="5094360"/>
              <a:ext cx="1635120" cy="54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essie Smit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498"/>
            <p:cNvSpPr/>
            <p:nvPr/>
          </p:nvSpPr>
          <p:spPr>
            <a:xfrm>
              <a:off x="6125760" y="4427280"/>
              <a:ext cx="1635120" cy="547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an Mahone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20500"/>
            <p:cNvSpPr/>
            <p:nvPr/>
          </p:nvSpPr>
          <p:spPr>
            <a:xfrm>
              <a:off x="5036760" y="3733560"/>
              <a:ext cx="1633680" cy="546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la Nel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0502"/>
            <p:cNvSpPr/>
            <p:nvPr/>
          </p:nvSpPr>
          <p:spPr>
            <a:xfrm>
              <a:off x="5035320" y="5379840"/>
              <a:ext cx="1635120" cy="546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van John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504"/>
            <p:cNvSpPr/>
            <p:nvPr/>
          </p:nvSpPr>
          <p:spPr>
            <a:xfrm>
              <a:off x="2585880" y="1987560"/>
              <a:ext cx="1633320" cy="54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oy Scot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20508"/>
            <p:cNvSpPr/>
            <p:nvPr/>
          </p:nvSpPr>
          <p:spPr>
            <a:xfrm>
              <a:off x="1223640" y="4413240"/>
              <a:ext cx="1635120" cy="549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ris Dav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20510"/>
            <p:cNvSpPr/>
            <p:nvPr/>
          </p:nvSpPr>
          <p:spPr>
            <a:xfrm>
              <a:off x="1223640" y="3733560"/>
              <a:ext cx="1633680" cy="5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ll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rah Conn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528"/>
            <p:cNvSpPr/>
            <p:nvPr/>
          </p:nvSpPr>
          <p:spPr>
            <a:xfrm>
              <a:off x="1223640" y="5771880"/>
              <a:ext cx="1635120" cy="549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ayrol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ohn Lar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FE98E-0185-4929-B76E-F27171424A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Purchasing Proced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181160" y="1555920"/>
            <a:ext cx="6783480" cy="4344840"/>
            <a:chOff x="1181160" y="1555920"/>
            <a:chExt cx="6783480" cy="4344840"/>
          </a:xfrm>
        </p:grpSpPr>
        <p:sp>
          <p:nvSpPr>
            <p:cNvPr id="213" name=""/>
            <p:cNvSpPr/>
            <p:nvPr/>
          </p:nvSpPr>
          <p:spPr>
            <a:xfrm>
              <a:off x="1181160" y="1555920"/>
              <a:ext cx="2286000" cy="914400"/>
            </a:xfrm>
            <a:prstGeom prst="rightArrow">
              <a:avLst>
                <a:gd name="adj1" fmla="val 73259"/>
                <a:gd name="adj2" fmla="val 67014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t purchase pre-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1160" y="300528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vendor 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81160" y="498636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otiate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41960" y="155592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e 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7080" y="3005280"/>
              <a:ext cx="3157560" cy="914400"/>
            </a:xfrm>
            <a:prstGeom prst="flowChartDecision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roved vendo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3400" y="5100480"/>
              <a:ext cx="2286000" cy="685800"/>
            </a:xfrm>
            <a:prstGeom prst="flowChartTerminator">
              <a:avLst/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ce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3" idx="0"/>
              <a:endCxn id="216" idx="1"/>
            </p:cNvCxnSpPr>
            <p:nvPr/>
          </p:nvCxnSpPr>
          <p:spPr>
            <a:xfrm>
              <a:off x="3467160" y="2012760"/>
              <a:ext cx="177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216" idx="2"/>
              <a:endCxn id="217" idx="0"/>
            </p:cNvCxnSpPr>
            <p:nvPr/>
          </p:nvCxnSpPr>
          <p:spPr>
            <a:xfrm>
              <a:off x="6384960" y="2470320"/>
              <a:ext cx="2160" cy="53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4" idx="2"/>
              <a:endCxn id="215" idx="0"/>
            </p:cNvCxnSpPr>
            <p:nvPr/>
          </p:nvCxnSpPr>
          <p:spPr>
            <a:xfrm>
              <a:off x="2323800" y="391932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5" idx="3"/>
              <a:endCxn id="218" idx="1"/>
            </p:cNvCxnSpPr>
            <p:nvPr/>
          </p:nvCxnSpPr>
          <p:spPr>
            <a:xfrm>
              <a:off x="3467160" y="5443200"/>
              <a:ext cx="177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6209280" y="42292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"/>
            <p:cNvCxnSpPr>
              <a:stCxn id="217" idx="2"/>
              <a:endCxn id="223" idx="0"/>
            </p:cNvCxnSpPr>
            <p:nvPr/>
          </p:nvCxnSpPr>
          <p:spPr>
            <a:xfrm flipH="1">
              <a:off x="6384600" y="3919680"/>
              <a:ext cx="2160" cy="31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5" name=""/>
            <p:cNvSpPr/>
            <p:nvPr/>
          </p:nvSpPr>
          <p:spPr>
            <a:xfrm>
              <a:off x="3990600" y="334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"/>
            <p:cNvCxnSpPr>
              <a:stCxn id="223" idx="2"/>
              <a:endCxn id="215" idx="0"/>
            </p:cNvCxnSpPr>
            <p:nvPr/>
          </p:nvCxnSpPr>
          <p:spPr>
            <a:xfrm rot="5400000">
              <a:off x="4097520" y="2699640"/>
              <a:ext cx="513360" cy="4061520"/>
            </a:xfrm>
            <a:prstGeom prst="bentConnector3">
              <a:avLst>
                <a:gd name="adj1" fmla="val 4982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" name=""/>
            <p:cNvCxnSpPr>
              <a:stCxn id="225" idx="1"/>
              <a:endCxn id="214" idx="3"/>
            </p:cNvCxnSpPr>
            <p:nvPr/>
          </p:nvCxnSpPr>
          <p:spPr>
            <a:xfrm flipH="1">
              <a:off x="3466800" y="3462120"/>
              <a:ext cx="52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7" idx="1"/>
              <a:endCxn id="225" idx="3"/>
            </p:cNvCxnSpPr>
            <p:nvPr/>
          </p:nvCxnSpPr>
          <p:spPr>
            <a:xfrm flipH="1">
              <a:off x="4249440" y="3462120"/>
              <a:ext cx="55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DD0A4-985F-436F-86C2-A8693FD766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Customer Philosophy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810440" y="1104120"/>
            <a:ext cx="5198760" cy="5198400"/>
            <a:chOff x="1810440" y="1104120"/>
            <a:chExt cx="5198760" cy="5198400"/>
          </a:xfrm>
        </p:grpSpPr>
        <p:sp>
          <p:nvSpPr>
            <p:cNvPr id="231" name="_s24581"/>
            <p:cNvSpPr/>
            <p:nvPr/>
          </p:nvSpPr>
          <p:spPr>
            <a:xfrm flipH="1">
              <a:off x="3110040" y="3703680"/>
              <a:ext cx="64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24582"/>
            <p:cNvSpPr/>
            <p:nvPr/>
          </p:nvSpPr>
          <p:spPr>
            <a:xfrm>
              <a:off x="1810440" y="3053880"/>
              <a:ext cx="1299600" cy="1299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Resolv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roblem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romptl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24583"/>
            <p:cNvSpPr/>
            <p:nvPr/>
          </p:nvSpPr>
          <p:spPr>
            <a:xfrm>
              <a:off x="4410000" y="4353480"/>
              <a:ext cx="0" cy="64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24584"/>
            <p:cNvSpPr/>
            <p:nvPr/>
          </p:nvSpPr>
          <p:spPr>
            <a:xfrm>
              <a:off x="3760200" y="5002920"/>
              <a:ext cx="1299600" cy="12996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rov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excell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24585"/>
            <p:cNvSpPr/>
            <p:nvPr/>
          </p:nvSpPr>
          <p:spPr>
            <a:xfrm>
              <a:off x="5059800" y="3703680"/>
              <a:ext cx="64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24586"/>
            <p:cNvSpPr/>
            <p:nvPr/>
          </p:nvSpPr>
          <p:spPr>
            <a:xfrm>
              <a:off x="5709600" y="3053880"/>
              <a:ext cx="1299600" cy="1299600"/>
            </a:xfrm>
            <a:prstGeom prst="ellipse">
              <a:avLst/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rov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urteo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servic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24587"/>
            <p:cNvSpPr/>
            <p:nvPr/>
          </p:nvSpPr>
          <p:spPr>
            <a:xfrm flipV="1">
              <a:off x="4410000" y="2403720"/>
              <a:ext cx="0" cy="64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24588"/>
            <p:cNvSpPr/>
            <p:nvPr/>
          </p:nvSpPr>
          <p:spPr>
            <a:xfrm>
              <a:off x="3760200" y="1104120"/>
              <a:ext cx="1299600" cy="1299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Satisf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nee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24589"/>
            <p:cNvSpPr/>
            <p:nvPr/>
          </p:nvSpPr>
          <p:spPr>
            <a:xfrm>
              <a:off x="3760200" y="3053880"/>
              <a:ext cx="1299600" cy="1299600"/>
            </a:xfrm>
            <a:custGeom>
              <a:avLst/>
              <a:gdLst>
                <a:gd name="textAreaLeft" fmla="*/ 296640 w 1299600"/>
                <a:gd name="textAreaRight" fmla="*/ 1002960 w 1299600"/>
                <a:gd name="textAreaTop" fmla="*/ 296640 h 1299600"/>
                <a:gd name="textAreaBottom" fmla="*/ 1002960 h 129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2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2A89B-EFE4-491F-806D-48ECAD222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Development Cycl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333160" y="1482120"/>
            <a:ext cx="4476960" cy="4478040"/>
            <a:chOff x="2333160" y="1482120"/>
            <a:chExt cx="4476960" cy="4478040"/>
          </a:xfrm>
        </p:grpSpPr>
        <p:sp>
          <p:nvSpPr>
            <p:cNvPr id="242" name="_s25610"/>
            <p:cNvSpPr/>
            <p:nvPr/>
          </p:nvSpPr>
          <p:spPr>
            <a:xfrm>
              <a:off x="3049200" y="1482120"/>
              <a:ext cx="3044880" cy="3045600"/>
            </a:xfrm>
            <a:custGeom>
              <a:avLst/>
              <a:gdLst>
                <a:gd name="textAreaLeft" fmla="*/ 0 w 3044880"/>
                <a:gd name="textAreaRight" fmla="*/ 3045240 w 3044880"/>
                <a:gd name="textAreaTop" fmla="*/ 0 h 3045600"/>
                <a:gd name="textAreaBottom" fmla="*/ 3045960 h 30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25615"/>
            <p:cNvSpPr/>
            <p:nvPr/>
          </p:nvSpPr>
          <p:spPr>
            <a:xfrm rot="5400000">
              <a:off x="3764880" y="2198160"/>
              <a:ext cx="3045600" cy="3044880"/>
            </a:xfrm>
            <a:custGeom>
              <a:avLst/>
              <a:gdLst>
                <a:gd name="textAreaLeft" fmla="*/ 0 w 3045600"/>
                <a:gd name="textAreaRight" fmla="*/ 3045960 w 3045600"/>
                <a:gd name="textAreaTop" fmla="*/ 0 h 3044880"/>
                <a:gd name="textAreaBottom" fmla="*/ 3045240 h 304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5611"/>
            <p:cNvSpPr/>
            <p:nvPr/>
          </p:nvSpPr>
          <p:spPr>
            <a:xfrm rot="10800000">
              <a:off x="3049200" y="2914560"/>
              <a:ext cx="3044880" cy="3045600"/>
            </a:xfrm>
            <a:custGeom>
              <a:avLst/>
              <a:gdLst>
                <a:gd name="textAreaLeft" fmla="*/ 0 w 3044880"/>
                <a:gd name="textAreaRight" fmla="*/ 3045240 w 3044880"/>
                <a:gd name="textAreaTop" fmla="*/ 0 h 3045600"/>
                <a:gd name="textAreaBottom" fmla="*/ 3045960 h 30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25613"/>
            <p:cNvSpPr/>
            <p:nvPr/>
          </p:nvSpPr>
          <p:spPr>
            <a:xfrm rot="16200000">
              <a:off x="2332800" y="2198520"/>
              <a:ext cx="3045600" cy="3044880"/>
            </a:xfrm>
            <a:custGeom>
              <a:avLst/>
              <a:gdLst>
                <a:gd name="textAreaLeft" fmla="*/ 0 w 3045600"/>
                <a:gd name="textAreaRight" fmla="*/ 3045960 w 3045600"/>
                <a:gd name="textAreaTop" fmla="*/ 0 h 3044880"/>
                <a:gd name="textAreaBottom" fmla="*/ 3045240 h 304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25608"/>
            <p:cNvSpPr/>
            <p:nvPr/>
          </p:nvSpPr>
          <p:spPr>
            <a:xfrm>
              <a:off x="5382000" y="1760760"/>
              <a:ext cx="1147680" cy="1147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Surve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nee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5609"/>
            <p:cNvSpPr/>
            <p:nvPr/>
          </p:nvSpPr>
          <p:spPr>
            <a:xfrm>
              <a:off x="2611800" y="4531680"/>
              <a:ext cx="1147680" cy="1147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Develo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roduc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5612"/>
            <p:cNvSpPr/>
            <p:nvPr/>
          </p:nvSpPr>
          <p:spPr>
            <a:xfrm>
              <a:off x="2611800" y="1760760"/>
              <a:ext cx="1147680" cy="1147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Introduc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roduc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5614"/>
            <p:cNvSpPr/>
            <p:nvPr/>
          </p:nvSpPr>
          <p:spPr>
            <a:xfrm>
              <a:off x="5382000" y="4531680"/>
              <a:ext cx="1147680" cy="1147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nalyz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surve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49CFE-B599-41EC-978F-8F6D757CFD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3:04:04Z</dcterms:created>
  <dc:creator>Pat R. Graves</dc:creator>
  <dc:description/>
  <dc:language>en-US</dc:language>
  <cp:lastModifiedBy>Student Name</cp:lastModifiedBy>
  <dcterms:modified xsi:type="dcterms:W3CDTF">2004-04-11T04:46:33Z</dcterms:modified>
  <cp:revision>22</cp:revision>
  <dc:subject/>
  <dc:title>Employee Meeting</dc:title>
</cp:coreProperties>
</file>