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E2F-B2F9-4CFC-B825-055B836C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4B8-560D-4AC6-BFE7-FF915DB7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E49-D395-43F2-93C0-3DE163AD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55C-1BC3-4A93-B266-6B392F0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0BBB-7D47-4E2E-8995-01ECD61C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B8F8-4E66-454A-9931-80F5F5CB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2CF1-1A60-4C21-95F5-B650BC50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DD1-9103-4AE7-A98F-F8AB420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21EB-4A29-4825-954F-80432CE6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63B6-B23E-44BD-947F-892038E8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4E7C-0EFB-4ED9-B6C4-B2C5A1F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5ED-8512-4DB6-8B37-5C49FA90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0935-69CA-454F-8E23-56991AE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2CA8-804B-4F9F-8F85-AB16D32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3E14-A9F5-4C53-B34C-906F2A87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2097-5074-4880-94C0-2F407122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32FA-17F4-4531-B4DD-43FD6999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AAB-14F9-4311-82DC-3D1BB2C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458-1366-4017-A3F1-8428F4D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39A-2576-4CAA-B120-2E29D4B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09480" y="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7B4-71FE-4AFF-A389-2EFE7F49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F86-DFF9-483C-9E0E-DBD3F0A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430-AEC8-4771-8B59-5927110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F57-CCC1-4862-A42F-5E94AC1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139-AAB1-4CCF-90B4-839D1112E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1371600"/>
            <a:ext cx="8498880" cy="228600"/>
            <a:chOff x="304920" y="1371600"/>
            <a:chExt cx="8498880" cy="228600"/>
          </a:xfrm>
        </p:grpSpPr>
        <p:sp>
          <p:nvSpPr>
            <p:cNvPr id="6" name=""/>
            <p:cNvSpPr/>
            <p:nvPr/>
          </p:nvSpPr>
          <p:spPr>
            <a:xfrm>
              <a:off x="30492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53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0652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7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095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603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129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637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145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2671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179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3687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9213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4721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229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755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5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276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F429-54E2-4C55-ACE9-F7EE1AD33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048120"/>
            <a:ext cx="8498880" cy="228600"/>
            <a:chOff x="304920" y="3048120"/>
            <a:chExt cx="8498880" cy="228600"/>
          </a:xfrm>
        </p:grpSpPr>
        <p:sp>
          <p:nvSpPr>
            <p:cNvPr id="64" name=""/>
            <p:cNvSpPr/>
            <p:nvPr/>
          </p:nvSpPr>
          <p:spPr>
            <a:xfrm>
              <a:off x="30492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53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652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587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095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603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129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637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45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671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179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687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213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721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229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755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 Black"/>
              </a:rPr>
              <a:t>Personnel Procedures</a:t>
            </a:r>
            <a:endParaRPr b="0" lang="en-US" sz="66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29000" y="4114800"/>
            <a:ext cx="5410080" cy="175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ndling Employee Grievan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Do It Right!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a good liste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take s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employee to manager fir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with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follow 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Issues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 all convers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all EEOC complaints to Senior Manag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Procedures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2590920"/>
            <a:ext cx="8229600" cy="2781360"/>
            <a:chOff x="457200" y="2590920"/>
            <a:chExt cx="8229600" cy="2781360"/>
          </a:xfrm>
        </p:grpSpPr>
        <p:sp>
          <p:nvSpPr>
            <p:cNvPr id="125" name=""/>
            <p:cNvSpPr/>
            <p:nvPr/>
          </p:nvSpPr>
          <p:spPr>
            <a:xfrm>
              <a:off x="457200" y="2666880"/>
              <a:ext cx="1676520" cy="1143000"/>
            </a:xfrm>
            <a:prstGeom prst="rightArrow">
              <a:avLst>
                <a:gd name="adj1" fmla="val 58630"/>
                <a:gd name="adj2" fmla="val 35372"/>
              </a:avLst>
            </a:prstGeom>
            <a:solidFill>
              <a:srgbClr val="d60093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sten 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rieva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819520" y="2590920"/>
              <a:ext cx="2819520" cy="2781360"/>
              <a:chOff x="2819520" y="2590920"/>
              <a:chExt cx="2819520" cy="2781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048120" y="2590920"/>
                <a:ext cx="2362320" cy="1295280"/>
              </a:xfrm>
              <a:prstGeom prst="flowChartDecision">
                <a:avLst/>
              </a:prstGeom>
              <a:solidFill>
                <a:srgbClr val="6ded45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mploye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lked to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nager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19520" y="4610160"/>
                <a:ext cx="2819520" cy="762120"/>
              </a:xfrm>
              <a:prstGeom prst="flowChartTerminator">
                <a:avLst/>
              </a:prstGeom>
              <a:solidFill>
                <a:srgbClr val="6600cc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ave employee discuss with manag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867640" y="2857680"/>
              <a:ext cx="2819160" cy="2514600"/>
              <a:chOff x="5867640" y="2857680"/>
              <a:chExt cx="2819160" cy="2514600"/>
            </a:xfrm>
          </p:grpSpPr>
          <p:sp>
            <p:nvSpPr>
              <p:cNvPr id="130" name=""/>
              <p:cNvSpPr/>
              <p:nvPr/>
            </p:nvSpPr>
            <p:spPr>
              <a:xfrm>
                <a:off x="6496200" y="2857680"/>
                <a:ext cx="1562040" cy="761760"/>
              </a:xfrm>
              <a:prstGeom prst="flowChartProcess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romis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ollow-u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7640" y="4610160"/>
                <a:ext cx="2819160" cy="762120"/>
              </a:xfrm>
              <a:prstGeom prst="flowChartTerminator">
                <a:avLst/>
              </a:prstGeom>
              <a:solidFill>
                <a:srgbClr val="6600cc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scuss grievanc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with manag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32" name=""/>
            <p:cNvCxnSpPr>
              <a:stCxn id="127" idx="3"/>
              <a:endCxn id="130" idx="1"/>
            </p:cNvCxnSpPr>
            <p:nvPr/>
          </p:nvCxnSpPr>
          <p:spPr>
            <a:xfrm>
              <a:off x="5410440" y="3238200"/>
              <a:ext cx="1086480" cy="1080"/>
            </a:xfrm>
            <a:prstGeom prst="straightConnector1">
              <a:avLst/>
            </a:prstGeom>
            <a:ln w="57240">
              <a:solidFill>
                <a:srgbClr val="dddddd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7" idx="2"/>
              <a:endCxn id="128" idx="0"/>
            </p:cNvCxnSpPr>
            <p:nvPr/>
          </p:nvCxnSpPr>
          <p:spPr>
            <a:xfrm>
              <a:off x="4228920" y="3885840"/>
              <a:ext cx="1080" cy="724680"/>
            </a:xfrm>
            <a:prstGeom prst="straightConnector1">
              <a:avLst/>
            </a:prstGeom>
            <a:ln w="572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5640120" y="28954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72120" y="40384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25" idx="0"/>
              <a:endCxn id="127" idx="1"/>
            </p:cNvCxnSpPr>
            <p:nvPr/>
          </p:nvCxnSpPr>
          <p:spPr>
            <a:xfrm>
              <a:off x="2133720" y="3238200"/>
              <a:ext cx="915120" cy="1080"/>
            </a:xfrm>
            <a:prstGeom prst="straightConnector1">
              <a:avLst/>
            </a:prstGeom>
            <a:ln w="57240">
              <a:solidFill>
                <a:srgbClr val="dddddd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0" idx="2"/>
              <a:endCxn id="131" idx="0"/>
            </p:cNvCxnSpPr>
            <p:nvPr/>
          </p:nvCxnSpPr>
          <p:spPr>
            <a:xfrm>
              <a:off x="7277040" y="3619440"/>
              <a:ext cx="1080" cy="991440"/>
            </a:xfrm>
            <a:prstGeom prst="straightConnector1">
              <a:avLst/>
            </a:prstGeom>
            <a:ln w="57240">
              <a:solidFill>
                <a:srgbClr val="dddddd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422E5-5E34-4B37-B86E-37DDC8D9BF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5:36:12Z</dcterms:created>
  <dc:creator>Pat R. Graves</dc:creator>
  <dc:description/>
  <dc:language>en-US</dc:language>
  <cp:lastModifiedBy>Student Name</cp:lastModifiedBy>
  <dcterms:modified xsi:type="dcterms:W3CDTF">2004-04-11T04:48:39Z</dcterms:modified>
  <cp:revision>9</cp:revision>
  <dc:subject/>
  <dc:title>Personnel Procedures</dc:title>
</cp:coreProperties>
</file>