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79C-8FF3-403E-A7FE-CAA524F6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DBB-23DA-4ED1-AA5B-C1CCC01A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26E-048B-4215-A09F-7AE4C34A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0A6-7104-4516-82BA-036B727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098-391E-4E45-BBC0-986CDB10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58A-ADB4-4EF0-92BE-E69A775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A3F-3FAD-4D23-80DA-DE6C03E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307-4075-407A-9B31-6B5976CF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FF2-DC2C-4BF9-9433-B4DDA9D3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2058-51D6-4D08-AC72-BD16969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9FDA-F33E-4077-86B0-6ADB128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E7D-A24C-440E-9D64-AB222D0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E9C-70FD-4206-AE53-EE8E0BF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B4E-2138-4463-AF15-78293F8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711-2A4E-4A6B-8BBA-738B934B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925-BA32-4D0E-BAEC-C16B5A0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D6E-5214-4431-874B-A80F04F5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399-C495-4A14-B84B-1D06D8B1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9EF-5820-4698-8229-3666DF7F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CD2-AEFC-4996-9721-1F8926AB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5B0-1E73-4F16-B1E6-653745C1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01C-D287-487A-B780-34CB1D1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A80-3A79-4A06-AE93-2B0478E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43A-6861-4312-808E-992EF65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652-BF75-40A0-8A62-10ACFB4A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C6E-EF6B-4022-97A6-01C78FCC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00040" y="1920960"/>
            <a:ext cx="8228880" cy="3529080"/>
            <a:chOff x="500040" y="1920960"/>
            <a:chExt cx="8228880" cy="3529080"/>
          </a:xfrm>
        </p:grpSpPr>
        <p:cxnSp>
          <p:nvCxnSpPr>
            <p:cNvPr id="184" name="_s1640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701320" y="224460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6407"/>
            <p:cNvCxnSpPr>
              <a:stCxn id="188" idx="0"/>
              <a:endCxn id="186" idx="2"/>
            </p:cNvCxnSpPr>
            <p:nvPr/>
          </p:nvCxnSpPr>
          <p:spPr>
            <a:xfrm flipV="1">
              <a:off x="4614120" y="3332160"/>
              <a:ext cx="3240" cy="70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6406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820960" y="224496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6402"/>
            <p:cNvSpPr/>
            <p:nvPr/>
          </p:nvSpPr>
          <p:spPr>
            <a:xfrm>
              <a:off x="3380040" y="192096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6403"/>
            <p:cNvSpPr/>
            <p:nvPr/>
          </p:nvSpPr>
          <p:spPr>
            <a:xfrm>
              <a:off x="50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6404"/>
            <p:cNvSpPr/>
            <p:nvPr/>
          </p:nvSpPr>
          <p:spPr>
            <a:xfrm>
              <a:off x="338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6405"/>
            <p:cNvSpPr/>
            <p:nvPr/>
          </p:nvSpPr>
          <p:spPr>
            <a:xfrm>
              <a:off x="626040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193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3" idx="0"/>
              <a:endCxn id="196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6" idx="2"/>
              <a:endCxn id="197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4" idx="2"/>
              <a:endCxn id="195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5" idx="3"/>
              <a:endCxn id="198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"/>
            <p:cNvCxnSpPr>
              <a:stCxn id="197" idx="2"/>
              <a:endCxn id="203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3" idx="2"/>
              <a:endCxn id="195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205" idx="1"/>
              <a:endCxn id="194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197" idx="1"/>
              <a:endCxn id="205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63F15-E4FD-4CD6-922F-033C97B3F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56:00Z</dcterms:modified>
  <cp:revision>16</cp:revision>
  <dc:subject/>
  <dc:title>Employee Meeting</dc:title>
</cp:coreProperties>
</file>