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D14-5F62-4734-AAAB-208E9F5C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A28-E33D-4782-A9F5-9F35619F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8CE-DC61-4B60-BE3B-BF2271DE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626-BA30-4689-9AAD-14F875FD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72A7-CF56-4E1E-A1E5-EFDE49FB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3D37-EB66-49A4-B98F-814AD1A7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06F-A04F-4453-BA7C-9BED36AE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944A-3AF6-4DB5-93A1-35369C5A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023D-32E7-4B9E-9C77-7727A42D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C83D-900B-46CE-B6FC-2423AEEC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2534-17CE-4356-862A-ED60E7D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89D-BB27-470E-970E-F472E95C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B2F-8EE1-4BF0-A284-17B1D08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4977-DEEB-4A65-B75A-CE18CD9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CDE6-5844-45E1-BA3B-F3BA076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315C-A967-4B1C-84C1-6B5813A7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0A3-F3C4-469B-A27A-20301FA0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87C-A274-44D0-A3C9-A5FF9E35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F03-ADC4-4DA5-8517-406D74E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54D-19DB-4DAE-B040-C30FD8B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C60-3EBE-4782-A397-49A2CC61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3EA-CA29-40EC-8A19-3F611AB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F0D-0177-445B-832C-902A1DC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A53-040B-442C-A4F5-FD3306B6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FB18-3A67-4DC1-810E-2F965771A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5AD4-456C-44E5-AE06-DD93A9A2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00040" y="1920960"/>
            <a:ext cx="8228880" cy="3529080"/>
            <a:chOff x="500040" y="1920960"/>
            <a:chExt cx="8228880" cy="3529080"/>
          </a:xfrm>
        </p:grpSpPr>
        <p:cxnSp>
          <p:nvCxnSpPr>
            <p:cNvPr id="184" name="_s1640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701320" y="224460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6407"/>
            <p:cNvCxnSpPr>
              <a:stCxn id="188" idx="0"/>
              <a:endCxn id="186" idx="2"/>
            </p:cNvCxnSpPr>
            <p:nvPr/>
          </p:nvCxnSpPr>
          <p:spPr>
            <a:xfrm flipV="1">
              <a:off x="4614120" y="3332160"/>
              <a:ext cx="3240" cy="70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6406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2820960" y="2244960"/>
              <a:ext cx="706320" cy="2880720"/>
            </a:xfrm>
            <a:prstGeom prst="bentConnector3">
              <a:avLst>
                <a:gd name="adj1" fmla="val 125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6402"/>
            <p:cNvSpPr/>
            <p:nvPr/>
          </p:nvSpPr>
          <p:spPr>
            <a:xfrm>
              <a:off x="3380040" y="192096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Julie Wolfe &amp;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Gus Irvinell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6403"/>
            <p:cNvSpPr/>
            <p:nvPr/>
          </p:nvSpPr>
          <p:spPr>
            <a:xfrm>
              <a:off x="50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6404"/>
            <p:cNvSpPr/>
            <p:nvPr/>
          </p:nvSpPr>
          <p:spPr>
            <a:xfrm>
              <a:off x="338004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6405"/>
            <p:cNvSpPr/>
            <p:nvPr/>
          </p:nvSpPr>
          <p:spPr>
            <a:xfrm>
              <a:off x="6260400" y="4038480"/>
              <a:ext cx="2468520" cy="14115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Management Struct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38120" y="1920960"/>
            <a:ext cx="8229240" cy="3530160"/>
            <a:chOff x="438120" y="1920960"/>
            <a:chExt cx="8229240" cy="3530160"/>
          </a:xfrm>
        </p:grpSpPr>
        <p:cxnSp>
          <p:nvCxnSpPr>
            <p:cNvPr id="193" name="_s20511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1773000" y="4647240"/>
              <a:ext cx="321840" cy="144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2050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2296440" y="4123800"/>
              <a:ext cx="321840" cy="104832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20505"/>
            <p:cNvCxnSpPr>
              <a:stCxn id="199" idx="3"/>
              <a:endCxn id="200" idx="2"/>
            </p:cNvCxnSpPr>
            <p:nvPr/>
          </p:nvCxnSpPr>
          <p:spPr>
            <a:xfrm flipV="1">
              <a:off x="4663800" y="2562840"/>
              <a:ext cx="149040" cy="6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20503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438520" y="4123800"/>
              <a:ext cx="321840" cy="104832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20501"/>
            <p:cNvCxnSpPr>
              <a:stCxn id="205" idx="0"/>
              <a:endCxn id="203" idx="2"/>
            </p:cNvCxnSpPr>
            <p:nvPr/>
          </p:nvCxnSpPr>
          <p:spPr>
            <a:xfrm flipV="1" rot="16200000">
              <a:off x="4915080" y="4647240"/>
              <a:ext cx="321840" cy="180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499"/>
            <p:cNvCxnSpPr>
              <a:stCxn id="207" idx="0"/>
              <a:endCxn id="203" idx="2"/>
            </p:cNvCxnSpPr>
            <p:nvPr/>
          </p:nvCxnSpPr>
          <p:spPr>
            <a:xfrm flipH="1" flipV="1" rot="5400000">
              <a:off x="4391280" y="4124880"/>
              <a:ext cx="321840" cy="104688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20497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7795800" y="4385880"/>
              <a:ext cx="321840" cy="52416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20495"/>
            <p:cNvCxnSpPr>
              <a:stCxn id="212" idx="0"/>
              <a:endCxn id="210" idx="2"/>
            </p:cNvCxnSpPr>
            <p:nvPr/>
          </p:nvCxnSpPr>
          <p:spPr>
            <a:xfrm flipH="1" flipV="1" rot="5400000">
              <a:off x="7271280" y="4386240"/>
              <a:ext cx="321840" cy="52416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0493"/>
            <p:cNvCxnSpPr>
              <a:stCxn id="214" idx="0"/>
              <a:endCxn id="195" idx="2"/>
            </p:cNvCxnSpPr>
            <p:nvPr/>
          </p:nvCxnSpPr>
          <p:spPr>
            <a:xfrm flipH="1" flipV="1" rot="5400000">
              <a:off x="1249200" y="4124520"/>
              <a:ext cx="321840" cy="1047240"/>
            </a:xfrm>
            <a:prstGeom prst="bentConnector3">
              <a:avLst>
                <a:gd name="adj1" fmla="val 356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0485"/>
            <p:cNvCxnSpPr>
              <a:stCxn id="210" idx="0"/>
              <a:endCxn id="200" idx="2"/>
            </p:cNvCxnSpPr>
            <p:nvPr/>
          </p:nvCxnSpPr>
          <p:spPr>
            <a:xfrm flipV="1" rot="16200000">
              <a:off x="5612040" y="1762920"/>
              <a:ext cx="1283040" cy="2882520"/>
            </a:xfrm>
            <a:prstGeom prst="bentConnector3">
              <a:avLst>
                <a:gd name="adj1" fmla="val 88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20486"/>
            <p:cNvCxnSpPr>
              <a:stCxn id="203" idx="0"/>
              <a:endCxn id="200" idx="2"/>
            </p:cNvCxnSpPr>
            <p:nvPr/>
          </p:nvCxnSpPr>
          <p:spPr>
            <a:xfrm flipV="1" rot="16200000">
              <a:off x="4302720" y="3072240"/>
              <a:ext cx="1283040" cy="263520"/>
            </a:xfrm>
            <a:prstGeom prst="bentConnector3">
              <a:avLst>
                <a:gd name="adj1" fmla="val 88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0487"/>
            <p:cNvCxnSpPr>
              <a:stCxn id="195" idx="0"/>
              <a:endCxn id="200" idx="2"/>
            </p:cNvCxnSpPr>
            <p:nvPr/>
          </p:nvCxnSpPr>
          <p:spPr>
            <a:xfrm flipH="1" flipV="1" rot="5400000">
              <a:off x="2731320" y="1764360"/>
              <a:ext cx="1283040" cy="2879640"/>
            </a:xfrm>
            <a:prstGeom prst="bentConnector3">
              <a:avLst>
                <a:gd name="adj1" fmla="val 88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0" name="_s20488"/>
            <p:cNvSpPr/>
            <p:nvPr/>
          </p:nvSpPr>
          <p:spPr>
            <a:xfrm>
              <a:off x="4364640" y="1920960"/>
              <a:ext cx="897840" cy="64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Julie Wolfe &amp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Gus Irvinell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o-own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489"/>
            <p:cNvSpPr/>
            <p:nvPr/>
          </p:nvSpPr>
          <p:spPr>
            <a:xfrm>
              <a:off x="1484640" y="3845520"/>
              <a:ext cx="897840" cy="6422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ael Pe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ministration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20490"/>
            <p:cNvSpPr/>
            <p:nvPr/>
          </p:nvSpPr>
          <p:spPr>
            <a:xfrm>
              <a:off x="4626720" y="3845520"/>
              <a:ext cx="897840" cy="6422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les &amp; 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Roy Olaf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arketing Mg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491"/>
            <p:cNvSpPr/>
            <p:nvPr/>
          </p:nvSpPr>
          <p:spPr>
            <a:xfrm>
              <a:off x="7246080" y="3845520"/>
              <a:ext cx="897840" cy="6422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ichele Jenki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d Ch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0492"/>
            <p:cNvSpPr/>
            <p:nvPr/>
          </p:nvSpPr>
          <p:spPr>
            <a:xfrm>
              <a:off x="438120" y="4808880"/>
              <a:ext cx="897840" cy="64224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uck Ward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20494"/>
            <p:cNvSpPr/>
            <p:nvPr/>
          </p:nvSpPr>
          <p:spPr>
            <a:xfrm>
              <a:off x="6721920" y="4808880"/>
              <a:ext cx="897840" cy="6397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ric Denn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20496"/>
            <p:cNvSpPr/>
            <p:nvPr/>
          </p:nvSpPr>
          <p:spPr>
            <a:xfrm>
              <a:off x="7769520" y="4808880"/>
              <a:ext cx="897840" cy="6397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essie Smi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98"/>
            <p:cNvSpPr/>
            <p:nvPr/>
          </p:nvSpPr>
          <p:spPr>
            <a:xfrm>
              <a:off x="3580200" y="4808880"/>
              <a:ext cx="897840" cy="6397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an Mahone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0500"/>
            <p:cNvSpPr/>
            <p:nvPr/>
          </p:nvSpPr>
          <p:spPr>
            <a:xfrm>
              <a:off x="4627800" y="4808880"/>
              <a:ext cx="896760" cy="6397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rchandi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la Nel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0502"/>
            <p:cNvSpPr/>
            <p:nvPr/>
          </p:nvSpPr>
          <p:spPr>
            <a:xfrm>
              <a:off x="5674320" y="4808880"/>
              <a:ext cx="897840" cy="63972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van Johns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504"/>
            <p:cNvSpPr/>
            <p:nvPr/>
          </p:nvSpPr>
          <p:spPr>
            <a:xfrm>
              <a:off x="3767040" y="2884320"/>
              <a:ext cx="896760" cy="64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oy Scot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508"/>
            <p:cNvSpPr/>
            <p:nvPr/>
          </p:nvSpPr>
          <p:spPr>
            <a:xfrm>
              <a:off x="2532240" y="4808880"/>
              <a:ext cx="897840" cy="64224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ris Dav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510"/>
            <p:cNvSpPr/>
            <p:nvPr/>
          </p:nvSpPr>
          <p:spPr>
            <a:xfrm>
              <a:off x="1485720" y="4808880"/>
              <a:ext cx="896760" cy="642240"/>
            </a:xfrm>
            <a:prstGeom prst="roundRect">
              <a:avLst>
                <a:gd name="adj" fmla="val 16667"/>
              </a:avLst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rah Conn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ew Purchasing Procedu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81160" y="1555920"/>
            <a:ext cx="6783480" cy="4344840"/>
            <a:chOff x="1181160" y="1555920"/>
            <a:chExt cx="6783480" cy="4344840"/>
          </a:xfrm>
        </p:grpSpPr>
        <p:sp>
          <p:nvSpPr>
            <p:cNvPr id="222" name=""/>
            <p:cNvSpPr/>
            <p:nvPr/>
          </p:nvSpPr>
          <p:spPr>
            <a:xfrm>
              <a:off x="1181160" y="1555920"/>
              <a:ext cx="2286000" cy="914400"/>
            </a:xfrm>
            <a:prstGeom prst="rightArrow">
              <a:avLst>
                <a:gd name="adj1" fmla="val 73259"/>
                <a:gd name="adj2" fmla="val 6701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t purchase pre-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81160" y="300528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vendor appr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81160" y="498636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tiate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41960" y="1555920"/>
              <a:ext cx="2286000" cy="91440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e 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7080" y="3005280"/>
              <a:ext cx="3157560" cy="914400"/>
            </a:xfrm>
            <a:prstGeom prst="flowChartDecision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roved vend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43400" y="5100480"/>
              <a:ext cx="2286000" cy="685800"/>
            </a:xfrm>
            <a:prstGeom prst="flowChartTerminator">
              <a:avLst/>
            </a:prstGeom>
            <a:solidFill>
              <a:srgbClr val="3db76b"/>
            </a:solidFill>
            <a:ln w="9360">
              <a:solidFill>
                <a:srgbClr val="000000"/>
              </a:solidFill>
              <a:miter/>
            </a:ln>
            <a:effectLst>
              <a:outerShdw dist="143570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ce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"/>
            <p:cNvCxnSpPr>
              <a:stCxn id="222" idx="0"/>
              <a:endCxn id="225" idx="1"/>
            </p:cNvCxnSpPr>
            <p:nvPr/>
          </p:nvCxnSpPr>
          <p:spPr>
            <a:xfrm>
              <a:off x="3467160" y="2012760"/>
              <a:ext cx="177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5" idx="2"/>
              <a:endCxn id="226" idx="0"/>
            </p:cNvCxnSpPr>
            <p:nvPr/>
          </p:nvCxnSpPr>
          <p:spPr>
            <a:xfrm>
              <a:off x="6384960" y="2470320"/>
              <a:ext cx="216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23" idx="2"/>
              <a:endCxn id="224" idx="0"/>
            </p:cNvCxnSpPr>
            <p:nvPr/>
          </p:nvCxnSpPr>
          <p:spPr>
            <a:xfrm>
              <a:off x="2323800" y="391932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24" idx="3"/>
              <a:endCxn id="227" idx="1"/>
            </p:cNvCxnSpPr>
            <p:nvPr/>
          </p:nvCxnSpPr>
          <p:spPr>
            <a:xfrm>
              <a:off x="3467160" y="5443200"/>
              <a:ext cx="177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6209280" y="42292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"/>
            <p:cNvCxnSpPr>
              <a:stCxn id="226" idx="2"/>
              <a:endCxn id="232" idx="0"/>
            </p:cNvCxnSpPr>
            <p:nvPr/>
          </p:nvCxnSpPr>
          <p:spPr>
            <a:xfrm flipH="1">
              <a:off x="6384600" y="3919680"/>
              <a:ext cx="21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3990600" y="334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"/>
            <p:cNvCxnSpPr>
              <a:stCxn id="232" idx="2"/>
              <a:endCxn id="224" idx="0"/>
            </p:cNvCxnSpPr>
            <p:nvPr/>
          </p:nvCxnSpPr>
          <p:spPr>
            <a:xfrm rot="5400000">
              <a:off x="4097520" y="2699640"/>
              <a:ext cx="513360" cy="4061520"/>
            </a:xfrm>
            <a:prstGeom prst="bentConnector3">
              <a:avLst>
                <a:gd name="adj1" fmla="val 498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4" idx="1"/>
              <a:endCxn id="223" idx="3"/>
            </p:cNvCxnSpPr>
            <p:nvPr/>
          </p:nvCxnSpPr>
          <p:spPr>
            <a:xfrm flipH="1">
              <a:off x="3466800" y="34621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26" idx="1"/>
              <a:endCxn id="234" idx="3"/>
            </p:cNvCxnSpPr>
            <p:nvPr/>
          </p:nvCxnSpPr>
          <p:spPr>
            <a:xfrm flipH="1">
              <a:off x="4249440" y="3462120"/>
              <a:ext cx="55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14-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3F887-A0F9-4DA0-99E4-753B17F88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39:27Z</dcterms:modified>
  <cp:revision>17</cp:revision>
  <dc:subject/>
  <dc:title>Employee Meeting</dc:title>
</cp:coreProperties>
</file>