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5BB-D246-44B3-8163-3062271F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762012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115520"/>
            <a:ext cx="762012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412-EB9A-48CD-B803-796E1BDD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264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8DC-FCDA-42B7-ADF3-E12BDA89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4240" y="194940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0760" y="194940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11552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4240" y="411552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0760" y="411552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9E4-685B-46CC-B002-D28F46E7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9683-D605-4721-99ED-23463592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B5E4-81AF-4943-940C-73D0E34E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1EFB-A3E3-47FE-8986-A36D7357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7182-822C-4914-9362-48345709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B04C-6BC8-4268-8B46-EB5FF501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292320" y="75960"/>
            <a:ext cx="9752400" cy="67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9E0D-4609-4165-BCA5-0873E902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D355-FCAA-4AA6-B00F-CB8D0D46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E4D-F762-4FD7-BDFE-FD022768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264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9139-3A27-4783-B2CE-3ABBA479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115520"/>
            <a:ext cx="762012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08F8-08C6-446A-9EC5-489BEF5E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762012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115520"/>
            <a:ext cx="762012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AF43-DF9B-4C3D-B33F-3454EE64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264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DB65-A66E-4AAE-BBE2-8CCAAF3C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4240" y="194940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0760" y="194940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11552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4240" y="411552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0760" y="411552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BF76-328D-4B17-90BA-0D5B7B44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531-BBAF-4295-BD5B-F322C9BA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981-CD89-4885-9FD2-0CBC1110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91F-409C-4EA9-A927-16B5D64C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292320" y="75960"/>
            <a:ext cx="9752400" cy="67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88A-FB5C-4169-84FA-9901A33D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FF3-AFAF-4870-A9EA-78B2565D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264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56C-1180-484F-A147-59D27E7C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115520"/>
            <a:ext cx="762012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BC7-6D01-49F2-8C12-6837CD39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solidFill>
            <a:srgbClr val="4c4cc6"/>
          </a:solidFill>
          <a:ln w="114480">
            <a:solidFill>
              <a:srgbClr val="808080"/>
            </a:solidFill>
            <a:miter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1" marL="851040" indent="-285840">
              <a:spcBef>
                <a:spcPts val="799"/>
              </a:spcBef>
              <a:buClr>
                <a:srgbClr val="4c4cc6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2" marL="1193760" indent="-22860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4C98-FFAC-422D-BEC3-D68B17C8AD3E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87280" y="1159920"/>
            <a:ext cx="9718560" cy="2115000"/>
          </a:xfrm>
          <a:prstGeom prst="rect">
            <a:avLst/>
          </a:prstGeom>
          <a:solidFill>
            <a:srgbClr val="4c4cc6"/>
          </a:solidFill>
          <a:ln w="114480">
            <a:solidFill>
              <a:srgbClr val="808080"/>
            </a:solidFill>
            <a:miter/>
          </a:ln>
        </p:spPr>
        <p:txBody>
          <a:bodyPr lIns="685800" rIns="6858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11EF-A02E-4E6F-AC6A-5F40DDEA9A4D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 Black"/>
            </a:endParaRPr>
          </a:p>
          <a:p>
            <a:pPr lvl="2" marL="914400" indent="50760" algn="ctr">
              <a:spcBef>
                <a:spcPts val="601"/>
              </a:spcBef>
              <a:buClr>
                <a:srgbClr val="808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-287640" y="1571040"/>
            <a:ext cx="9719280" cy="1293120"/>
          </a:xfrm>
          <a:prstGeom prst="rect">
            <a:avLst/>
          </a:prstGeom>
          <a:solidFill>
            <a:srgbClr val="4c4cc6"/>
          </a:solidFill>
          <a:ln w="114480">
            <a:solidFill>
              <a:srgbClr val="808080"/>
            </a:solidFill>
            <a:miter/>
          </a:ln>
        </p:spPr>
        <p:txBody>
          <a:bodyPr lIns="685800" rIns="685800" tIns="182880" bIns="18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Retail Sale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581280" y="3255840"/>
            <a:ext cx="2285640" cy="922320"/>
            <a:chOff x="3581280" y="3255840"/>
            <a:chExt cx="2285640" cy="922320"/>
          </a:xfrm>
        </p:grpSpPr>
        <p:sp>
          <p:nvSpPr>
            <p:cNvPr id="84" name=""/>
            <p:cNvSpPr txBox="1"/>
            <p:nvPr/>
          </p:nvSpPr>
          <p:spPr>
            <a:xfrm>
              <a:off x="5230080" y="360684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668120" y="3402360"/>
              <a:ext cx="824040" cy="775440"/>
              <a:chOff x="4668120" y="3402360"/>
              <a:chExt cx="824040" cy="775440"/>
            </a:xfrm>
          </p:grpSpPr>
          <p:sp>
            <p:nvSpPr>
              <p:cNvPr id="86" name=""/>
              <p:cNvSpPr/>
              <p:nvPr/>
            </p:nvSpPr>
            <p:spPr>
              <a:xfrm>
                <a:off x="4668120" y="340236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899600" y="348588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 txBox="1"/>
            <p:nvPr/>
          </p:nvSpPr>
          <p:spPr>
            <a:xfrm>
              <a:off x="3581280" y="325584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292680" y="408960"/>
            <a:ext cx="9754200" cy="781560"/>
          </a:xfrm>
          <a:prstGeom prst="rect">
            <a:avLst/>
          </a:prstGeom>
          <a:solidFill>
            <a:srgbClr val="4c4cc6"/>
          </a:solidFill>
          <a:ln w="114480">
            <a:solidFill>
              <a:srgbClr val="808080"/>
            </a:solidFill>
            <a:miter/>
          </a:ln>
        </p:spPr>
        <p:txBody>
          <a:bodyPr lIns="685800" rIns="685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tail Performa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-Shirts outsold all other products combined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Majority of products sold at special events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wo new product lines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1" marL="851040" indent="-285840">
              <a:spcBef>
                <a:spcPts val="700"/>
              </a:spcBef>
              <a:buClr>
                <a:srgbClr val="4c4cc6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Bike jerseys</a:t>
            </a:r>
            <a:endParaRPr b="0" lang="en-US" sz="2800" spc="-1" strike="noStrike">
              <a:solidFill>
                <a:srgbClr val="808080"/>
              </a:solidFill>
              <a:latin typeface="Arial Black"/>
            </a:endParaRPr>
          </a:p>
          <a:p>
            <a:pPr lvl="1" marL="851040" indent="-285840">
              <a:spcBef>
                <a:spcPts val="700"/>
              </a:spcBef>
              <a:buClr>
                <a:srgbClr val="4c4cc6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Visors</a:t>
            </a:r>
            <a:endParaRPr b="0" lang="en-US" sz="2800" spc="-1" strike="noStrike">
              <a:solidFill>
                <a:srgbClr val="808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-292680" y="408960"/>
            <a:ext cx="9754200" cy="781560"/>
          </a:xfrm>
          <a:prstGeom prst="rect">
            <a:avLst/>
          </a:prstGeom>
          <a:solidFill>
            <a:srgbClr val="4c4cc6"/>
          </a:solidFill>
          <a:ln w="114480">
            <a:solidFill>
              <a:srgbClr val="808080"/>
            </a:solidFill>
            <a:miter/>
          </a:ln>
        </p:spPr>
        <p:txBody>
          <a:bodyPr lIns="685800" rIns="685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rection of Retai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rademark licensing increasing significantly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Negotiating with major NYC retail outlets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New products under development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404640" y="1233360"/>
            <a:ext cx="8358480" cy="3035520"/>
            <a:chOff x="404640" y="1233360"/>
            <a:chExt cx="8358480" cy="3035520"/>
          </a:xfrm>
        </p:grpSpPr>
        <p:cxnSp>
          <p:nvCxnSpPr>
            <p:cNvPr id="94" name="_s2086"/>
            <p:cNvCxnSpPr>
              <a:stCxn id="95" idx="1"/>
              <a:endCxn id="96" idx="2"/>
            </p:cNvCxnSpPr>
            <p:nvPr/>
          </p:nvCxnSpPr>
          <p:spPr>
            <a:xfrm rot="10800000">
              <a:off x="6516000" y="2720160"/>
              <a:ext cx="327600" cy="12614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7" name="_s2084"/>
            <p:cNvCxnSpPr>
              <a:stCxn id="98" idx="1"/>
              <a:endCxn id="96" idx="2"/>
            </p:cNvCxnSpPr>
            <p:nvPr/>
          </p:nvCxnSpPr>
          <p:spPr>
            <a:xfrm rot="10800000">
              <a:off x="6516000" y="2720160"/>
              <a:ext cx="327600" cy="897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9" name="_s2082"/>
            <p:cNvCxnSpPr>
              <a:stCxn id="100" idx="1"/>
              <a:endCxn id="96" idx="2"/>
            </p:cNvCxnSpPr>
            <p:nvPr/>
          </p:nvCxnSpPr>
          <p:spPr>
            <a:xfrm rot="10800000">
              <a:off x="6516000" y="2720160"/>
              <a:ext cx="327600" cy="5803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1" name="_s2080"/>
            <p:cNvCxnSpPr>
              <a:stCxn id="102" idx="1"/>
              <a:endCxn id="96" idx="2"/>
            </p:cNvCxnSpPr>
            <p:nvPr/>
          </p:nvCxnSpPr>
          <p:spPr>
            <a:xfrm rot="10800000">
              <a:off x="6516000" y="2720160"/>
              <a:ext cx="327600" cy="2642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3" name="_s2078"/>
            <p:cNvCxnSpPr>
              <a:stCxn id="104" idx="1"/>
              <a:endCxn id="105" idx="2"/>
            </p:cNvCxnSpPr>
            <p:nvPr/>
          </p:nvCxnSpPr>
          <p:spPr>
            <a:xfrm rot="10800000">
              <a:off x="3939480" y="2720160"/>
              <a:ext cx="329040" cy="12614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6" name="_s2076"/>
            <p:cNvCxnSpPr>
              <a:stCxn id="107" idx="1"/>
              <a:endCxn id="105" idx="2"/>
            </p:cNvCxnSpPr>
            <p:nvPr/>
          </p:nvCxnSpPr>
          <p:spPr>
            <a:xfrm rot="10800000">
              <a:off x="3939480" y="2720160"/>
              <a:ext cx="329040" cy="897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" name="_s2074"/>
            <p:cNvCxnSpPr>
              <a:stCxn id="109" idx="1"/>
              <a:endCxn id="105" idx="2"/>
            </p:cNvCxnSpPr>
            <p:nvPr/>
          </p:nvCxnSpPr>
          <p:spPr>
            <a:xfrm rot="10800000">
              <a:off x="3939480" y="2720160"/>
              <a:ext cx="329040" cy="5803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0" name="_s2072"/>
            <p:cNvCxnSpPr>
              <a:stCxn id="111" idx="1"/>
              <a:endCxn id="105" idx="2"/>
            </p:cNvCxnSpPr>
            <p:nvPr/>
          </p:nvCxnSpPr>
          <p:spPr>
            <a:xfrm rot="10800000">
              <a:off x="3939480" y="2720160"/>
              <a:ext cx="329040" cy="2642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2" name="_s2070"/>
            <p:cNvCxnSpPr>
              <a:stCxn id="113" idx="1"/>
              <a:endCxn id="114" idx="2"/>
            </p:cNvCxnSpPr>
            <p:nvPr/>
          </p:nvCxnSpPr>
          <p:spPr>
            <a:xfrm rot="10800000">
              <a:off x="1364400" y="2720160"/>
              <a:ext cx="327960" cy="12614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5" name="_s2068"/>
            <p:cNvCxnSpPr>
              <a:stCxn id="116" idx="1"/>
              <a:endCxn id="114" idx="2"/>
            </p:cNvCxnSpPr>
            <p:nvPr/>
          </p:nvCxnSpPr>
          <p:spPr>
            <a:xfrm rot="10800000">
              <a:off x="1364400" y="2720160"/>
              <a:ext cx="327960" cy="897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7" name="_s2066"/>
            <p:cNvCxnSpPr>
              <a:stCxn id="118" idx="1"/>
              <a:endCxn id="114" idx="2"/>
            </p:cNvCxnSpPr>
            <p:nvPr/>
          </p:nvCxnSpPr>
          <p:spPr>
            <a:xfrm rot="10800000">
              <a:off x="1364400" y="2720160"/>
              <a:ext cx="327960" cy="5803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9" name="_s2064"/>
            <p:cNvCxnSpPr>
              <a:stCxn id="120" idx="1"/>
              <a:endCxn id="114" idx="2"/>
            </p:cNvCxnSpPr>
            <p:nvPr/>
          </p:nvCxnSpPr>
          <p:spPr>
            <a:xfrm rot="10800000">
              <a:off x="1364400" y="2720160"/>
              <a:ext cx="327960" cy="2642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1" name="_s2062"/>
            <p:cNvCxnSpPr>
              <a:stCxn id="96" idx="0"/>
              <a:endCxn id="122" idx="2"/>
            </p:cNvCxnSpPr>
            <p:nvPr/>
          </p:nvCxnSpPr>
          <p:spPr>
            <a:xfrm flipV="1" rot="16200000">
              <a:off x="5299560" y="825480"/>
              <a:ext cx="187920" cy="2247120"/>
            </a:xfrm>
            <a:prstGeom prst="bentConnector3">
              <a:avLst>
                <a:gd name="adj1" fmla="val 49904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3" name="_s2060"/>
            <p:cNvCxnSpPr>
              <a:stCxn id="105" idx="0"/>
              <a:endCxn id="122" idx="2"/>
            </p:cNvCxnSpPr>
            <p:nvPr/>
          </p:nvCxnSpPr>
          <p:spPr>
            <a:xfrm flipH="1" flipV="1" rot="5400000">
              <a:off x="4011120" y="1783800"/>
              <a:ext cx="187920" cy="330840"/>
            </a:xfrm>
            <a:prstGeom prst="bentConnector3">
              <a:avLst>
                <a:gd name="adj1" fmla="val 49904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4" name="_s2058"/>
            <p:cNvCxnSpPr>
              <a:stCxn id="114" idx="0"/>
              <a:endCxn id="122" idx="2"/>
            </p:cNvCxnSpPr>
            <p:nvPr/>
          </p:nvCxnSpPr>
          <p:spPr>
            <a:xfrm flipH="1" flipV="1" rot="5400000">
              <a:off x="2723760" y="496440"/>
              <a:ext cx="187920" cy="2905560"/>
            </a:xfrm>
            <a:prstGeom prst="bentConnector3">
              <a:avLst>
                <a:gd name="adj1" fmla="val 49904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22" name="_s2056"/>
            <p:cNvSpPr/>
            <p:nvPr/>
          </p:nvSpPr>
          <p:spPr>
            <a:xfrm>
              <a:off x="1425600" y="1233360"/>
              <a:ext cx="5688000" cy="57168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c4cc6"/>
                  </a:solidFill>
                  <a:latin typeface="Arial Black"/>
                </a:rPr>
                <a:t>New Retail Items - Spring 2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7"/>
            <p:cNvSpPr/>
            <p:nvPr/>
          </p:nvSpPr>
          <p:spPr>
            <a:xfrm>
              <a:off x="404640" y="2093760"/>
              <a:ext cx="1919520" cy="5763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Arial Black"/>
                </a:rPr>
                <a:t>Clot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2059"/>
            <p:cNvSpPr/>
            <p:nvPr/>
          </p:nvSpPr>
          <p:spPr>
            <a:xfrm>
              <a:off x="2981160" y="2093760"/>
              <a:ext cx="1917720" cy="5763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Arial Black"/>
                </a:rPr>
                <a:t>Head G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2061"/>
            <p:cNvSpPr/>
            <p:nvPr/>
          </p:nvSpPr>
          <p:spPr>
            <a:xfrm>
              <a:off x="5556240" y="2093760"/>
              <a:ext cx="1919160" cy="5763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Arial Black"/>
                </a:rPr>
                <a:t>Sports G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63"/>
            <p:cNvSpPr/>
            <p:nvPr/>
          </p:nvSpPr>
          <p:spPr>
            <a:xfrm>
              <a:off x="1692360" y="2695680"/>
              <a:ext cx="19191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Denim Shi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65"/>
            <p:cNvSpPr/>
            <p:nvPr/>
          </p:nvSpPr>
          <p:spPr>
            <a:xfrm>
              <a:off x="1692360" y="3011400"/>
              <a:ext cx="1919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Nylon Sho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67"/>
            <p:cNvSpPr/>
            <p:nvPr/>
          </p:nvSpPr>
          <p:spPr>
            <a:xfrm>
              <a:off x="1692360" y="3328920"/>
              <a:ext cx="1919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Bike Jerse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2069"/>
            <p:cNvSpPr/>
            <p:nvPr/>
          </p:nvSpPr>
          <p:spPr>
            <a:xfrm>
              <a:off x="1692360" y="3692520"/>
              <a:ext cx="1919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weat P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71"/>
            <p:cNvSpPr/>
            <p:nvPr/>
          </p:nvSpPr>
          <p:spPr>
            <a:xfrm>
              <a:off x="4268880" y="2695680"/>
              <a:ext cx="1917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Bucket Ha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73"/>
            <p:cNvSpPr/>
            <p:nvPr/>
          </p:nvSpPr>
          <p:spPr>
            <a:xfrm>
              <a:off x="4268880" y="3011400"/>
              <a:ext cx="1917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un Vi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2075"/>
            <p:cNvSpPr/>
            <p:nvPr/>
          </p:nvSpPr>
          <p:spPr>
            <a:xfrm>
              <a:off x="4268880" y="3328920"/>
              <a:ext cx="1917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weat Ba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2077"/>
            <p:cNvSpPr/>
            <p:nvPr/>
          </p:nvSpPr>
          <p:spPr>
            <a:xfrm>
              <a:off x="4268880" y="3692520"/>
              <a:ext cx="1917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Baseball Ha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2079"/>
            <p:cNvSpPr/>
            <p:nvPr/>
          </p:nvSpPr>
          <p:spPr>
            <a:xfrm>
              <a:off x="6843600" y="2695680"/>
              <a:ext cx="19195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Water Bott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2081"/>
            <p:cNvSpPr/>
            <p:nvPr/>
          </p:nvSpPr>
          <p:spPr>
            <a:xfrm>
              <a:off x="6843600" y="3011400"/>
              <a:ext cx="1919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Back P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2083"/>
            <p:cNvSpPr/>
            <p:nvPr/>
          </p:nvSpPr>
          <p:spPr>
            <a:xfrm>
              <a:off x="6843600" y="3328920"/>
              <a:ext cx="1919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Wrist Gua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085"/>
            <p:cNvSpPr/>
            <p:nvPr/>
          </p:nvSpPr>
          <p:spPr>
            <a:xfrm>
              <a:off x="6843600" y="3692520"/>
              <a:ext cx="1919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Exercise Ma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 Sol14-2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CF419-067C-47A0-B22E-3D50766630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20:37:43Z</dcterms:created>
  <dc:creator>Pat R. Graves</dc:creator>
  <dc:description/>
  <dc:language>en-US</dc:language>
  <cp:lastModifiedBy>Ms. Malnick</cp:lastModifiedBy>
  <dcterms:modified xsi:type="dcterms:W3CDTF">2004-04-13T21:57:44Z</dcterms:modified>
  <cp:revision>12</cp:revision>
  <dc:subject/>
  <dc:title>Retail Sales</dc:title>
</cp:coreProperties>
</file>