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8A4-1AD8-4459-BCF2-B73D632F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B81-C718-40D7-B629-0503F3D3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B8B-70A4-4180-A591-90027094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EF8-7A17-4ADD-B1B7-1AB6526F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1842-EA82-4A50-B8D4-A1A8C8A8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84B-4B3E-4965-BAFF-D5C77CB1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2FAF-FF83-4162-8E58-94BB579C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463B-BDA1-4207-9373-9432392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3C2-E0DC-4ED9-91DB-AF17C74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52A5-50CA-4E48-AA36-A751705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B07D-6519-420F-85F1-7D68791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6F0-6156-41B1-A68D-7AA1C633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A4B1-0740-4D0E-976D-C420E83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73AB-5E44-4208-9211-727DC3B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9D58-D751-4234-88FA-227ADBE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0F0-662B-44D3-A585-B8151451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787-FBE4-4F12-9DE8-DF58EA4F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D01-108E-4AE0-8E9B-E049A21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2FA-A452-437F-BDA8-FFA6C6B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585-7609-4D14-8AF8-DD330FB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034-4894-41C8-A2C1-3ED0CF68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97A-80E0-4127-B811-4D69BDD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2E6-F859-4BE6-BE87-718A9B1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2F8-A42F-4A1C-8003-674D973F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0B7-BAD5-49C6-8B6B-5C04CBD859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F9FD-BCB2-4B80-B60E-C5FD1A4C3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52:09Z</dcterms:modified>
  <cp:revision>22</cp:revision>
  <dc:subject/>
  <dc:title>Marketing Our Restaurant</dc:title>
</cp:coreProperties>
</file>