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commentAuthors.xml><?xml version="1.0" encoding="utf-8"?>
<p:cmAuthorLst xmlns:p="http://schemas.openxmlformats.org/presentationml/2006/main">
  <p:cmAuthor id="0" name="Pat Graves" initials="PG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<Relationship Id="rId10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4-03-27T20:44:10.250000000" idx="1">
    <p:pos x="10" y="10"/>
    <p:text>This would be better if "Good 4 U" was replaced with the logo, but I don't have it.</p:text>
  </p:cm>
</p:cmLst>
</file>

<file path=ppt/comments/comment2.xml><?xml version="1.0" encoding="utf-8"?>
<p:cmLst xmlns:p="http://schemas.openxmlformats.org/presentationml/2006/main">
  <p:cm authorId="0" dt="2004-03-27T20:44:43.171000000" idx="2">
    <p:pos x="10" y="10"/>
    <p:text>Each of these bullets could be expanded into a separate slide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1BF-D00F-4354-B9C0-9BC83082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EA4B-BF15-4B31-824B-BD7021BF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A245-7CB8-4D61-9C9A-AACC8155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D77-62E1-4155-8A40-64EFD371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88E5-E087-45C0-80B3-FB05CAF6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3BB3-B62D-475F-8D60-30106413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AB62-9400-4232-95FB-60B65CE8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5668-687E-4567-9F2F-A478E622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B5AC-095C-4719-9951-D980EE02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0437-10EF-40BE-84E2-2A1D0B4D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7CBE-6840-41FD-8CCD-01D04B1D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505D-A7C2-4CDA-98F4-CF56CF6D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4A1C-F40D-4E21-960E-949C6DA3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9022-EF6F-4940-9196-2C67F907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9632-016A-4626-B4E7-53651223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357C-21BB-49A0-BC08-777F8C47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A836-DB25-48F7-82A7-7A080800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BA10-20F8-442C-A3E9-C025A8AE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D0B-96FF-4A56-944B-1BDE3E3A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E2B-19B9-4BE0-8084-E7143821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F090-3574-4324-8F11-1B94B28C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51D2-F473-4106-BA3D-03BF7CFC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3083-805F-4325-BF2F-88CD85DB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14C-C2DA-47D5-82CD-4FBB91AC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4F36-6ABA-4BC5-AC00-09321D16DA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F01D-582D-48DA-B496-03D8ECF3F7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4 U Employee 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24000" y="2444760"/>
            <a:ext cx="676908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1c1c1c"/>
                  </a:solidFill>
                  <a:miter/>
                </a:ln>
                <a:solidFill>
                  <a:srgbClr val="3333cc"/>
                </a:solidFill>
                <a:effectLst>
                  <a:outerShdw dist="63504" dir="7616091" blurRad="0" rotWithShape="0">
                    <a:srgbClr val="1c1c1c"/>
                  </a:outerShdw>
                </a:effectLst>
                <a:latin typeface="Tahoma"/>
              </a:rPr>
              <a:t>Marketing Our Business</a:t>
            </a:r>
            <a:endParaRPr b="1" lang="en-US" sz="4800" spc="1" strike="noStrike">
              <a:ln w="12600">
                <a:solidFill>
                  <a:srgbClr val="1c1c1c"/>
                </a:solidFill>
                <a:miter/>
              </a:ln>
              <a:solidFill>
                <a:srgbClr val="3333cc"/>
              </a:solidFill>
              <a:effectLst>
                <a:outerShdw dist="63504" dir="7616091" blurRad="0" rotWithShape="0">
                  <a:srgbClr val="1c1c1c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ments of Mark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off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Is About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ct employees and gu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 the best from yourself and our sta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We Market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foo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merchand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Our Sta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ff courte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iter sugg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pt me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erful att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5T19:51:12Z</dcterms:created>
  <dc:creator>Pat R. Graves</dc:creator>
  <dc:description/>
  <dc:language>en-US</dc:language>
  <cp:lastModifiedBy>Pat Graves</cp:lastModifiedBy>
  <cp:lastPrinted>1997-05-23T15:21:30Z</cp:lastPrinted>
  <dcterms:modified xsi:type="dcterms:W3CDTF">2004-03-28T02:44:54Z</dcterms:modified>
  <cp:revision>23</cp:revision>
  <dc:subject/>
  <dc:title>Marketing Our Restaurant</dc:title>
</cp:coreProperties>
</file>