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69E-1F37-488B-B38E-17C4F757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1CC-2BAA-4525-8A47-4F261E5B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23D-F41B-4FFE-9E4B-00F1A952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FE7-54F4-41B6-BA65-BE0F59FA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BC74-17F5-486A-8688-4F237379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31AE-3F40-4816-AD28-0ED3518B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F5B9-9377-47E4-B99A-AB0CC58B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D584-F383-4E73-A747-259407E4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C2EA-834E-415E-BB53-56F314D1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97ED-07E2-491A-8644-C183368D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895F-FCAE-4268-841D-0D681D8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9D4-1649-40C7-BAA7-3D82DD38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D18D-1A0A-4A3C-8219-8579FB0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07F7-F690-4D18-B548-F50BE403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6BBB-6ADE-4BC4-8E05-BD50B02C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4DF6-76ED-4128-8A8A-E99AE179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078C-F217-45E3-A4CB-8A3AF0F3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E26-D8EA-4C24-B5CE-F953A0EB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90B-0695-404B-B907-95093785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B5C-CCC5-427E-9CAA-CD1DF91C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664-939F-4575-B468-7EB1AD4F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9F2-C284-442A-AA1A-1277B33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8AA-4CDD-4ED8-BCB5-946083D7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3A5-402F-4E46-AD18-5FE5E3CA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983B-D9ED-4EB8-BFF6-950C4713D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3E52-49CA-4B3A-9F2B-084D2544C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602080" y="4975200"/>
            <a:ext cx="3956040" cy="1494000"/>
            <a:chOff x="2602080" y="4975200"/>
            <a:chExt cx="3956040" cy="1494000"/>
          </a:xfrm>
        </p:grpSpPr>
        <p:sp>
          <p:nvSpPr>
            <p:cNvPr id="100" name=""/>
            <p:cNvSpPr/>
            <p:nvPr/>
          </p:nvSpPr>
          <p:spPr>
            <a:xfrm>
              <a:off x="2602080" y="4975200"/>
              <a:ext cx="3956040" cy="1494000"/>
            </a:xfrm>
            <a:custGeom>
              <a:avLst/>
              <a:gdLst>
                <a:gd name="textAreaLeft" fmla="*/ 902880 w 3956040"/>
                <a:gd name="textAreaRight" fmla="*/ 3053160 w 3956040"/>
                <a:gd name="textAreaTop" fmla="*/ 340920 h 1494000"/>
                <a:gd name="textAreaBottom" fmla="*/ 1153080 h 14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718080" y="5367240"/>
              <a:ext cx="1712880" cy="7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 Salad and Tomato W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cold on Romaine lettuce with shredded carrots and cele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 Pu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Reviewer 1</cp:lastModifiedBy>
  <dcterms:modified xsi:type="dcterms:W3CDTF">2004-03-31T23:12:28Z</dcterms:modified>
  <cp:revision>7</cp:revision>
  <dc:subject/>
  <dc:title>Summertime Samples</dc:title>
</cp:coreProperties>
</file>