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98D-7D06-4FAE-A6EB-2BEF6982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651-B2BA-4D33-8CC6-CF31CD3E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1F5-DA93-4F6F-AB3F-A95D2808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6DE-E991-44EF-AD10-6CB2D078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19B3-E413-4181-A9EA-8A0DA00B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A3FA-58B2-4FC4-AF45-59E2A252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FA0E-CF60-46C7-90A6-AFEC3E45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D752-D9F1-44A6-A664-2ECE30DA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75F4-4BD0-4D4F-BFE1-C7072F4A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4834-C4D9-4B01-B575-1A3892E5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8416-B80F-4E5C-B6C5-690399C9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E0D-2DC8-439D-95BE-A49443AF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9F31-A796-4135-AB98-D5BA8060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FFF6-5476-4577-AA5C-198D3BF0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D72A-5974-4770-B645-560DB09E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21A3-4D06-4B47-9E4F-A103B760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C518-C0DC-4DF1-ADB2-4550DC02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A8B-8CF6-4E31-B8A0-EEAA7146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9EA-1F58-435C-974D-DCE7E7BE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816D-5310-470F-9037-1B511A71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4AC-199F-4CCA-A66F-36A68473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C81-1601-45EB-88E2-BF2A0CDD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FA9-370B-4822-BADD-264084F3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CB1-C3C1-44F2-8D9E-3623E913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C8E3-6E57-4388-A733-3BFE60B4B0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CE22-1E3B-4089-A3A8-E325257CA9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4 U Employee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Mark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of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Is About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ct employees and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 the best from yourself and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We Marke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o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merchand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eting Our Sta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ff court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er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 me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9:51:12Z</dcterms:created>
  <dc:creator>Pat R. Graves</dc:creator>
  <dc:description/>
  <dc:language>en-US</dc:language>
  <cp:lastModifiedBy>Pat Graves</cp:lastModifiedBy>
  <cp:lastPrinted>1997-05-23T15:21:30Z</cp:lastPrinted>
  <dcterms:modified xsi:type="dcterms:W3CDTF">2004-03-28T02:52:09Z</dcterms:modified>
  <cp:revision>22</cp:revision>
  <dc:subject/>
  <dc:title>Marketing Our Restaurant</dc:title>
</cp:coreProperties>
</file>