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Pat Graves" initials="PG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27T20:44:10.250000000" idx="1">
    <p:pos x="10" y="10"/>
    <p:text>This would be better if "Good 4 U" was replaced with the logo, but I don't have it.</p:text>
  </p:cm>
  <p:cm authorId="0" dt="2004-03-27T20:38:00.687000000" idx="2">
    <p:pos x="123" y="123"/>
    <p:text>I found the Logo1 picture file and inserted it.
I hope you like the colors I used.</p:text>
  </p:cm>
</p:cmLst>
</file>

<file path=ppt/comments/comment3.xml><?xml version="1.0" encoding="utf-8"?>
<p:cmLst xmlns:p="http://schemas.openxmlformats.org/presentationml/2006/main">
  <p:cm authorId="0" dt="2004-03-27T20:39:47.484000000" idx="3">
    <p:pos x="10" y="10"/>
    <p:text>This slide would be more effective if a picture of happy people was insert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043-6C06-4FC2-9420-C8FF9EE8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F20-E547-4809-947A-86CFA3F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EC3-0E91-4F17-85C3-05037E27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214-F08E-4E80-B495-B43D5D20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D4B8-0B76-442A-BD62-4ACD3D92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CC5B-0F7F-463E-BCD2-75B53419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9F6-C371-4806-BB1B-FD8CDEAA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B01A-F028-4304-8AF0-92A98299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439-8B35-4FE4-AFBE-C10AEB8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CF2-D6A7-4A54-8239-8D1F144C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4AEF-1233-4CAF-B6B0-F1ED9FD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20B-6167-461D-B29D-E42BA0FE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2F53-C594-4519-AE3A-AF3A360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55D9-06F4-42FA-9400-7487B0C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B616-58F6-42C2-ABAC-5186D4D5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D58C-B4B6-4449-A30A-0617DE94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745-BD41-4917-97F2-B0AFC36D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EA2-4865-428C-8DAF-B829E44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DB1-B5BD-45F6-B508-01A1517B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996-44D3-4E6C-B9F4-6C7EAB60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E05-C081-4305-A5B0-3990A9EC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377-9A21-4B26-8EE2-72F4C58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7E1-7E6D-481B-8E8F-2C0AF32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DEE-960B-479F-956A-CCE762D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97CA-3AFF-41C9-841A-469E1B822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CD7-2227-48FF-9EE4-F01867C7DE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40000" y="5049720"/>
            <a:ext cx="64008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24000" y="2444760"/>
            <a:ext cx="67690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1c1c1c"/>
                  </a:solidFill>
                  <a:miter/>
                </a:ln>
                <a:solidFill>
                  <a:srgbClr val="3333cc"/>
                </a:solidFill>
                <a:effectLst>
                  <a:outerShdw dist="63504" dir="7616091" blurRad="0" rotWithShape="0">
                    <a:srgbClr val="1c1c1c"/>
                  </a:outerShdw>
                </a:effectLst>
                <a:latin typeface="Tahoma"/>
              </a:rPr>
              <a:t>Marketing Our Business</a:t>
            </a:r>
            <a:endParaRPr b="1" lang="en-US" sz="4800" spc="1" strike="noStrike">
              <a:ln w="12600">
                <a:solidFill>
                  <a:srgbClr val="1c1c1c"/>
                </a:solidFill>
                <a:miter/>
              </a:ln>
              <a:solidFill>
                <a:srgbClr val="3333cc"/>
              </a:solidFill>
              <a:effectLst>
                <a:outerShdw dist="63504" dir="7616091" blurRad="0" rotWithShape="0">
                  <a:srgbClr val="1c1c1c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00360" y="3860640"/>
            <a:ext cx="1871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g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re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rful 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3:42:50Z</dcterms:modified>
  <cp:revision>24</cp:revision>
  <dc:subject/>
  <dc:title>Marketing Our Restaurant</dc:title>
</cp:coreProperties>
</file>