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Pat Graves" initials="PG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27T20:38:00.687000000" idx="1">
    <p:pos x="10" y="10"/>
    <p:text>I found the Logo1 picture file and inserted it.
I hope you like the colors I used.</p:text>
  </p:cm>
</p:cmLst>
</file>

<file path=ppt/comments/comment3.xml><?xml version="1.0" encoding="utf-8"?>
<p:cmLst xmlns:p="http://schemas.openxmlformats.org/presentationml/2006/main">
  <p:cm authorId="0" dt="2004-03-27T20:39:47.484000000" idx="2">
    <p:pos x="10" y="10"/>
    <p:text>This slide would be more effective if a picture of happy people was insert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D28-E255-40D6-9D57-27CD817E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3AC-23C9-4C53-B28C-3D25B38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EEF-EF94-42D6-BA90-D0F1C211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87E-2104-4CE2-A931-7417DCA3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ED02-4E09-4E1A-9E8E-9F2103FE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4D76-0D70-4ECB-BF0E-F2E0FDD1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59E1-FC32-4DAD-B29E-6E62AB5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FEF7-5C80-4998-9866-F503F68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A042-0262-40DB-BB12-6864B908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A203-21AE-4E47-B89E-27A5A368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D3F-E9C7-4890-AF61-F3BF492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512-8D00-444C-AC8E-8F0DF5EF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ECDA-9D90-4F8C-88C4-004D27C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AF0-CE34-4A92-8D2F-BB316B8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C32-2C05-4BF2-92A2-53E604A4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19E3-E0F8-4060-9638-EE09D760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71C4-25AA-4E4F-ADD8-1BC14872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AC1-61C1-405B-A066-3E17F20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291-29E4-4283-B4FE-D1DED9C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E4E-F221-4D91-8359-5900669E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CD9-429F-402B-BA4D-64697CF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E4D-B2B4-43C4-B1F0-F0E2F44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34C-E56D-4000-BE85-91899F73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569-DF47-47D5-BA25-2309143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C14-0865-4474-95FC-850600EEC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7774-4E09-4EFD-BCF4-EB74DF67AD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0000" y="5049720"/>
            <a:ext cx="64008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00360" y="3860640"/>
            <a:ext cx="1871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re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2:39:48Z</dcterms:modified>
  <cp:revision>24</cp:revision>
  <dc:subject/>
  <dc:title>Marketing Our Restaurant</dc:title>
</cp:coreProperties>
</file>