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816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-3816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6F4-C3AD-4943-960A-52FC24AA59E6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477720" y="647640"/>
            <a:ext cx="5902560" cy="442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724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724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DBB2-DFC9-4EA1-A1B5-FC29B66FF8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come to the Good 4 U Apparel Sales and Forecast discus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-shirts always will enjoy brisk sales. Our t-shirts come in a variety of bright and subtle colors and now sport the new Good 4 U lo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most of our promotional products sell mainly at special events, for example at our annual bike-a-thon and July 4 celebration, t-shirts sell well all year round at our restaurants as we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have seen interest pick up in our bike jerseys and visors and expect them to do well in the coming seas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mark licensing is a relatively new pursuit for Good 4 U. We expect that this area will grow in the next ye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really exciting is the good reception we’re getting from New York City retail outlets. Several stores plan to carry our line this sum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w York buyers are genuinely enthusiastic about our produ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-shirts will keep the largest share of our product mix, but bike jerseys are on the increa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ee customers wearing these stylish jerseys even when they are not riding their bik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have become quite the fashion ite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 will still enjoy the highest sales volume in 2005, but Miami and Los Angeles are catching 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you can see from the chart, most of the extra sales in New York come from t-shir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dies and gentlemen, this concludes the Apparel section of our financial conference. Thank you for attend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297-C154-4BDE-9596-A7A3F3C9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0B5-8647-414E-9545-5A831D08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51C-26AB-46F6-B289-AD614C3C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4BE-882F-4E65-8CAF-48E5CD74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3085-19F2-43A1-9F23-0D2BDDB6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FF60-D9E9-4C54-BE2E-DCB5D7AD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9649-C55B-466A-8F9B-B7350A5F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2EC6-BC82-4C9B-95B9-D361F236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CA3-68A5-4853-A545-D423B361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4A01-3D67-4105-88A7-8EB2662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2D0E-AA8F-464D-8A13-1721297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3A3-D2CB-4389-9CA0-C50FD9BB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F5FD-5293-4018-ABEC-72DE7972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0A5A-5423-44F8-BC21-27E89E2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B7F0-A654-401D-A707-D30A549D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F2E0-BCEF-428D-8443-A75548B2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2760-A9F1-4B68-A7A2-4208506E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21F-49C4-45AE-8652-63E1A880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69D-C5E3-4174-A87F-329D77BD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A62-483F-4863-9E33-04AF2976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31E-356E-4341-A012-65665780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5B1-6AFA-47D8-AC59-0818592B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C4A-0E2B-4E56-B85A-584798B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9A3-4897-4DF3-9BBF-015EB05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7321-7EAD-4249-B571-DD1BCF7DFE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533520"/>
            <a:ext cx="8398080" cy="5562360"/>
            <a:chOff x="380880" y="533520"/>
            <a:chExt cx="8398080" cy="5562360"/>
          </a:xfrm>
        </p:grpSpPr>
        <p:sp>
          <p:nvSpPr>
            <p:cNvPr id="46" name=""/>
            <p:cNvSpPr/>
            <p:nvPr/>
          </p:nvSpPr>
          <p:spPr>
            <a:xfrm>
              <a:off x="380880" y="533520"/>
              <a:ext cx="8398080" cy="55623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609480"/>
              <a:ext cx="8229600" cy="540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657240"/>
              <a:ext cx="731520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8AC-C6C8-4C87-A135-2A7AE5B5B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Financial Analysis:</a:t>
            </a:r>
            <a:br>
              <a:rPr sz="4800"/>
            </a:b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The New Millennium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 Black"/>
              </a:rPr>
              <a:t>Apparel Sales</a:t>
            </a:r>
            <a:endParaRPr b="0" lang="en-US" sz="47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-shirts will continue to outsell all other products combi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jority of products will sell at special ev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ke jerseys and visors will do we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demark licensing will continue to increase significa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jor NYC retail outlets will carry our 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ur new products generate enthusiasm with NYC buy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pparel Mix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Projection 2005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752480"/>
          <a:ext cx="702612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02612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pparel Sales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Projection 2005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379600"/>
          <a:ext cx="740088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79600"/>
                    <a:ext cx="740088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R. Graves</dc:creator>
  <dc:description/>
  <dc:language>en-US</dc:language>
  <cp:lastModifiedBy>Pat Graves</cp:lastModifiedBy>
  <dcterms:modified xsi:type="dcterms:W3CDTF">2004-03-28T22:23:05Z</dcterms:modified>
  <cp:revision>19164</cp:revision>
  <dc:subject/>
  <dc:title>Financial Analysis</dc:title>
</cp:coreProperties>
</file>