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comments/comment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eviewer 2" initials="R2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31T17:38:13.921000000" idx="1">
    <p:pos x="10" y="10"/>
    <p:text>Please change the font to Comic Sans MS because we need a more relaxed font for this summertime theme.</p:text>
  </p:cm>
</p:cmLst>
</file>

<file path=ppt/comments/comment3.xml><?xml version="1.0" encoding="utf-8"?>
<p:cmLst xmlns:p="http://schemas.openxmlformats.org/presentationml/2006/main">
  <p:cm authorId="0" dt="2004-03-31T17:38:38.578000000" idx="2">
    <p:pos x="10" y="10"/>
    <p:text>I don't like the chicken and potato salad entree.</p:text>
  </p:cm>
</p:cmLst>
</file>

<file path=ppt/comments/comment4.xml><?xml version="1.0" encoding="utf-8"?>
<p:cmLst xmlns:p="http://schemas.openxmlformats.org/presentationml/2006/main">
  <p:cm authorId="0" dt="2004-03-31T17:38:51.640000000" idx="3">
    <p:pos x="10" y="10"/>
    <p:text>The last dessert needs a jazzier name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CBA-A90D-44E3-B22B-4D94E192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14B-1C6F-4AF5-BA67-F6F88C1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D92-E680-4B20-AF2E-25FF118F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105-E8FA-44B9-BB53-CC363F37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3159-03B7-443C-8B1F-E6DB491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DA6C-69CB-4024-B009-C4471FC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20D-B75B-4B5B-8A85-6AF79C14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7302-14F0-4316-90E3-43FCFF0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3DF3-6F22-4B46-9B0B-400137F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B3E2-22CE-430F-93AB-23F8B33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CFEB-880E-4D27-BEB1-6358A5E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20A-0309-4F7F-BF17-E192C4C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EC1-083C-4C7A-B246-505448D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D837-D6A1-446F-A0EF-99BFBCE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5033-7A7A-4C9C-8927-1F81EAF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181-8B68-4EB6-97C7-90698D3C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22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67640" y="19810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22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67640" y="4146480"/>
            <a:ext cx="2576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2D8-CBBC-419E-BF49-FEE2D181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2E9-7CB1-4153-85C0-BFF3F52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1D3-2A7C-4638-B610-2767C88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54C-48CB-4F11-BF2F-EF37CD5E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CCA-F939-4C6D-98C5-F9F9DD55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DED-ED6F-4F72-8F91-BDC2BAD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6520" y="41464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67D-CDEC-49CA-A8E1-6B753B17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1981080"/>
            <a:ext cx="3904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480"/>
            <a:ext cx="8001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6DF-71CB-46B1-B81F-A47DF15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C2B-D652-451A-9504-CE30F58F2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3520" y="123840"/>
            <a:ext cx="8076960" cy="1432080"/>
            <a:chOff x="533520" y="123840"/>
            <a:chExt cx="8076960" cy="1432080"/>
          </a:xfrm>
        </p:grpSpPr>
        <p:grpSp>
          <p:nvGrpSpPr>
            <p:cNvPr id="6" name=""/>
            <p:cNvGrpSpPr/>
            <p:nvPr/>
          </p:nvGrpSpPr>
          <p:grpSpPr>
            <a:xfrm>
              <a:off x="533520" y="123840"/>
              <a:ext cx="8076960" cy="157320"/>
              <a:chOff x="533520" y="123840"/>
              <a:chExt cx="8076960" cy="157320"/>
            </a:xfrm>
          </p:grpSpPr>
          <p:sp>
            <p:nvSpPr>
              <p:cNvPr id="7" name=""/>
              <p:cNvSpPr/>
              <p:nvPr/>
            </p:nvSpPr>
            <p:spPr>
              <a:xfrm>
                <a:off x="538200" y="123840"/>
                <a:ext cx="8072280" cy="157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8108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3520" y="1398600"/>
              <a:ext cx="8076960" cy="157320"/>
              <a:chOff x="533520" y="1398600"/>
              <a:chExt cx="8076960" cy="157320"/>
            </a:xfrm>
          </p:grpSpPr>
          <p:sp>
            <p:nvSpPr>
              <p:cNvPr id="10" name=""/>
              <p:cNvSpPr/>
              <p:nvPr/>
            </p:nvSpPr>
            <p:spPr>
              <a:xfrm>
                <a:off x="538200" y="139860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33520" y="145584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53A9-B49A-4A31-8481-F58698348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129440" cy="1746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1981080"/>
            <a:ext cx="8076960" cy="1865520"/>
            <a:chOff x="533520" y="1981080"/>
            <a:chExt cx="8076960" cy="1865520"/>
          </a:xfrm>
        </p:grpSpPr>
        <p:grpSp>
          <p:nvGrpSpPr>
            <p:cNvPr id="54" name=""/>
            <p:cNvGrpSpPr/>
            <p:nvPr/>
          </p:nvGrpSpPr>
          <p:grpSpPr>
            <a:xfrm>
              <a:off x="533520" y="1981080"/>
              <a:ext cx="8076960" cy="157320"/>
              <a:chOff x="533520" y="1981080"/>
              <a:chExt cx="8076960" cy="157320"/>
            </a:xfrm>
          </p:grpSpPr>
          <p:sp>
            <p:nvSpPr>
              <p:cNvPr id="55" name=""/>
              <p:cNvSpPr/>
              <p:nvPr/>
            </p:nvSpPr>
            <p:spPr>
              <a:xfrm>
                <a:off x="538200" y="1981080"/>
                <a:ext cx="8072280" cy="157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3520" y="20383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33520" y="3689280"/>
              <a:ext cx="8076960" cy="157320"/>
              <a:chOff x="533520" y="3689280"/>
              <a:chExt cx="8076960" cy="157320"/>
            </a:xfrm>
          </p:grpSpPr>
          <p:sp>
            <p:nvSpPr>
              <p:cNvPr id="58" name=""/>
              <p:cNvSpPr/>
              <p:nvPr/>
            </p:nvSpPr>
            <p:spPr>
              <a:xfrm>
                <a:off x="538200" y="3689280"/>
                <a:ext cx="8072280" cy="157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33520" y="3746520"/>
                <a:ext cx="8076960" cy="42840"/>
              </a:xfrm>
              <a:prstGeom prst="rect">
                <a:avLst/>
              </a:prstGeom>
              <a:solidFill>
                <a:srgbClr val="339933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omic Sans MS"/>
              </a:rPr>
              <a:t>Summertime Samples</a:t>
            </a:r>
            <a:endParaRPr b="1" lang="en-US" sz="48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ghtful New Culinary Trea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Appetizer Special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go Supr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ipe mango slices served on a bed of lettuce and topped with raspberry vinaigrette dressing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mon Tidb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iny open-face salmon sandwich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uity Chic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chicken strips with fresh orange and pineapple slice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The Main Course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-Mex Tof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rilled tofu slices with low-fat barbecue sauce, jalapenos, black beans, and Julie’s special spic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cken and Potato Sal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cold in a baked taco shell with plenty of lettuce and veggies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Swordf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rved in a light dill sauce with wild ri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Desserts</a:t>
            </a:r>
            <a:endParaRPr b="1" lang="en-US" sz="4400" spc="-1" strike="noStrike">
              <a:solidFill>
                <a:srgbClr val="cc0066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paya Sund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cy papaya sherbet served with raspberry yogurt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lled Bananas and Pea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nanas and peaches wrapped in soft taco shells, grilled, and topped with vanilla yogurt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lie’s Cherry Jubilee Pud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ulie’s unique low-fat pudding, served warm with cherry sauce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24:27Z</dcterms:created>
  <dc:creator>Pat R. Graves</dc:creator>
  <dc:description/>
  <dc:language>en-US</dc:language>
  <cp:lastModifiedBy>Reviewer 2</cp:lastModifiedBy>
  <dcterms:modified xsi:type="dcterms:W3CDTF">2004-03-31T23:39:40Z</dcterms:modified>
  <cp:revision>7</cp:revision>
  <dc:subject/>
  <dc:title>Summertime Samples</dc:title>
</cp:coreProperties>
</file>