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6B5-7936-4EFA-847E-A55AEC06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C3F-5436-42C0-9EB0-D01DDD3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F57-E190-40AF-921C-58F58341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F29-3AE9-4E2C-B864-1E890F34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7D64-2091-4340-87CA-B1C51FF9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BB07-66B2-4599-9455-3AE36F5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9853-4488-450B-9401-E88C180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0BBD-A010-44A9-B533-145E6DCC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864D-4B83-4FD6-8BB2-09B2590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D22E-F21F-43F2-ACC1-2530C15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E114-72F7-4CC3-A328-89E786F8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834-308F-49E0-97E8-AF36928A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9028-9646-46AD-BC96-1169B44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037D-D69F-49CF-84DB-2DE8A666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2C5B-EACB-4B9B-A1B9-91B4FB93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0DFC-DDCE-4BE2-91EE-5F01BDE4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EF2D-3A00-4649-B0B5-ECFCBA6D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C89-2728-4749-AF33-0622E5B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1C2-9547-4537-BDDA-005A65C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594-4FDB-46E8-9AEF-9420C7F5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440-2AE8-4711-A82C-6F7BD0B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92C-3A3F-49B6-BCE9-95D5304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113-0A03-4CC6-A4F3-206D0AA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11A-90F9-4E29-8EFC-D9A18373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D2A-D6E9-4B40-8132-90426CCA3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6B2F-0214-49C0-A771-703F1E070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 and Potato Sal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cold in a baked taco shell with plenty of lettuce and veggi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e Pu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Pat Graves</cp:lastModifiedBy>
  <dcterms:modified xsi:type="dcterms:W3CDTF">2004-03-31T22:19:21Z</dcterms:modified>
  <cp:revision>6</cp:revision>
  <dc:subject/>
  <dc:title>Summertime Samples</dc:title>
</cp:coreProperties>
</file>