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B7B6-C7B5-40D3-A68D-EEC104A4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192-7676-4D73-B37F-AF851A53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FA0-1D4B-43D7-B4C2-A7D0A2ED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622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676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622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676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C655-57A4-42C6-9035-5B80DCBD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CAB3-1CF7-4272-84E8-46A5E712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2396-4AD3-4629-A867-FA5BEC44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F2CA-CE30-4C31-8531-D2BDD084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6112-B41B-4AC2-A7C8-94A6340E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ACD9-AC5F-4EE5-A266-2B3B509D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185B-0DDE-4BD4-91F5-81275FC2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7529-6B69-4CEA-9A71-F03A7966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DB01-FE22-418E-9A19-9C01C5E7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2309-DA63-4CEA-AC2B-0F83FFD1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DB3E-1ED8-4F18-9BF1-05F4F712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8528-3C70-4855-A330-1E9FA7A2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CEE4-37FE-4853-BE78-1AB1883F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622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676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68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622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676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1E95-525D-4C4F-80FB-A32E3B78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415-C797-47B4-B5D8-6FE77A6C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184-2D68-4C9F-93AC-BB7813BE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3B5F-267D-4C4C-81A2-BBCCB292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300-8591-4BC0-875B-3E5A3A1E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05F-6AA7-4F27-9DA4-DB1391B4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597F-6D2A-4D62-8D3A-58850547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46D-4CCD-44E7-9F05-D0C1D06C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E422-68C6-465A-8DF9-14D23DC66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33520" y="123840"/>
            <a:ext cx="8076960" cy="1432080"/>
            <a:chOff x="533520" y="123840"/>
            <a:chExt cx="8076960" cy="1432080"/>
          </a:xfrm>
        </p:grpSpPr>
        <p:grpSp>
          <p:nvGrpSpPr>
            <p:cNvPr id="6" name=""/>
            <p:cNvGrpSpPr/>
            <p:nvPr/>
          </p:nvGrpSpPr>
          <p:grpSpPr>
            <a:xfrm>
              <a:off x="533520" y="123840"/>
              <a:ext cx="8076960" cy="157320"/>
              <a:chOff x="533520" y="123840"/>
              <a:chExt cx="8076960" cy="157320"/>
            </a:xfrm>
          </p:grpSpPr>
          <p:sp>
            <p:nvSpPr>
              <p:cNvPr id="7" name=""/>
              <p:cNvSpPr/>
              <p:nvPr/>
            </p:nvSpPr>
            <p:spPr>
              <a:xfrm>
                <a:off x="538200" y="123840"/>
                <a:ext cx="8072280" cy="157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8108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533520" y="1398600"/>
              <a:ext cx="8076960" cy="157320"/>
              <a:chOff x="533520" y="1398600"/>
              <a:chExt cx="8076960" cy="157320"/>
            </a:xfrm>
          </p:grpSpPr>
          <p:sp>
            <p:nvSpPr>
              <p:cNvPr id="10" name=""/>
              <p:cNvSpPr/>
              <p:nvPr/>
            </p:nvSpPr>
            <p:spPr>
              <a:xfrm>
                <a:off x="538200" y="1398600"/>
                <a:ext cx="8072280" cy="157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33520" y="145584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8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50B0-F0C8-4FBA-9182-595B1F1FC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66680" y="304920"/>
            <a:ext cx="7129440" cy="174600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33520" y="1981080"/>
            <a:ext cx="8076960" cy="1865520"/>
            <a:chOff x="533520" y="1981080"/>
            <a:chExt cx="8076960" cy="1865520"/>
          </a:xfrm>
        </p:grpSpPr>
        <p:grpSp>
          <p:nvGrpSpPr>
            <p:cNvPr id="54" name=""/>
            <p:cNvGrpSpPr/>
            <p:nvPr/>
          </p:nvGrpSpPr>
          <p:grpSpPr>
            <a:xfrm>
              <a:off x="533520" y="1981080"/>
              <a:ext cx="8076960" cy="157320"/>
              <a:chOff x="533520" y="1981080"/>
              <a:chExt cx="8076960" cy="157320"/>
            </a:xfrm>
          </p:grpSpPr>
          <p:sp>
            <p:nvSpPr>
              <p:cNvPr id="55" name=""/>
              <p:cNvSpPr/>
              <p:nvPr/>
            </p:nvSpPr>
            <p:spPr>
              <a:xfrm>
                <a:off x="538200" y="1981080"/>
                <a:ext cx="8072280" cy="157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3520" y="203832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533520" y="3689280"/>
              <a:ext cx="8076960" cy="157320"/>
              <a:chOff x="533520" y="3689280"/>
              <a:chExt cx="8076960" cy="157320"/>
            </a:xfrm>
          </p:grpSpPr>
          <p:sp>
            <p:nvSpPr>
              <p:cNvPr id="58" name=""/>
              <p:cNvSpPr/>
              <p:nvPr/>
            </p:nvSpPr>
            <p:spPr>
              <a:xfrm>
                <a:off x="538200" y="3689280"/>
                <a:ext cx="8072280" cy="1573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33520" y="374652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8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Times New Roman"/>
              </a:rPr>
              <a:t>Summertime Samples</a:t>
            </a:r>
            <a:endParaRPr b="1" lang="en-US" sz="4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ightful New Culinary Tr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Appetizer Specials</a:t>
            </a: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go Su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ipe mango slices served on a bed of lettuce and topped with raspberry vinaigrette dressing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mon Tid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ny open-face salmon sandwich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uity Chic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illed chicken strips with fresh orange and pineapple slic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The Main Course</a:t>
            </a: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-Mex Tof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illed tofu slices with low-fat barbecue sauce, jalapenos, black beans, and Julie’s special sp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cken and Potato Sal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ved cold in a baked taco shell with plenty of lettuce and veggi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lled Swordf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ved in a light dill sauce with wild 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Desserts</a:t>
            </a: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aya Sund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cy papaya sherbet served with raspberry yogurt sau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lled Bananas and Pe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nanas and peaches wrapped in soft taco shells, grilled, and topped with vanilla yogur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e Pud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ulie’s unique low-fat pudding, served warm with cherry sau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24:27Z</dcterms:created>
  <dc:creator>Pat R. Graves</dc:creator>
  <dc:description/>
  <dc:language>en-US</dc:language>
  <cp:lastModifiedBy>Pat Graves</cp:lastModifiedBy>
  <dcterms:modified xsi:type="dcterms:W3CDTF">2004-03-31T22:19:21Z</dcterms:modified>
  <cp:revision>6</cp:revision>
  <dc:subject/>
  <dc:title>Summertime Samples</dc:title>
</cp:coreProperties>
</file>