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eviewer 2" initials="R2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31T17:38:13.921000000" idx="1">
    <p:pos x="10" y="10"/>
    <p:text>Please change the font to Comic Sans MS because we need a more relaxed font for this summertime theme.</p:text>
  </p:cm>
</p:cmLst>
</file>

<file path=ppt/comments/comment3.xml><?xml version="1.0" encoding="utf-8"?>
<p:cmLst xmlns:p="http://schemas.openxmlformats.org/presentationml/2006/main">
  <p:cm authorId="0" dt="2004-03-31T17:38:38.578000000" idx="2">
    <p:pos x="10" y="10"/>
    <p:text>I don't like the chicken and potato salad entree.</p:text>
  </p:cm>
</p:cmLst>
</file>

<file path=ppt/comments/comment4.xml><?xml version="1.0" encoding="utf-8"?>
<p:cmLst xmlns:p="http://schemas.openxmlformats.org/presentationml/2006/main">
  <p:cm authorId="0" dt="2004-03-31T17:38:51.640000000" idx="3">
    <p:pos x="10" y="10"/>
    <p:text>The last dessert needs a jazzier nam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959-9AFE-453C-86D8-958A7379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19A-C12A-4527-B2BF-12BD1F5B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CCD-D2F8-4432-B3CE-00729E98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847-C20F-45FD-9C6F-0FBFDF83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F7D8-F8A4-458D-B3AF-8FC73CA3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0F2A-FC76-4B39-9BEC-6CEA4874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1301-5881-4605-B26C-08C8CE8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282E-7DCD-40B7-8F30-327688D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3E4D-BBA7-47DC-983F-BEAEFFEA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0D1-ABC7-4079-88A3-490248DA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3457-CFFE-42D8-B53B-FC2396D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C55-D827-4953-87BC-FB9AE9E8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C85D-B6B6-4055-8615-27D0EBF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877-9C5D-47BC-B871-4DCC56A0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2806-0D3A-48C0-9B04-935383C7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FA11-FA4B-4CC4-8263-E80EF91D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1FC2-EFEA-4444-BD57-AC333021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EA2-6B73-4F0D-92BB-CAD8A8A9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5DF-9391-4649-BFA7-9F331303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31C-D663-43BD-8CE4-C1863C9F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D08-9664-43FB-BCC7-2DBDEE4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67C-8FCA-4C6F-B02D-EE434DF9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E53-38AF-4177-BEFD-E45696C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B09-FEA5-479D-8D6F-B6432443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6BE-6201-4E72-9406-BEFC4DCD6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FD5-1FF6-4151-9D62-424E44A3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02080" y="4975200"/>
            <a:ext cx="3956040" cy="1494000"/>
            <a:chOff x="2602080" y="4975200"/>
            <a:chExt cx="3956040" cy="1494000"/>
          </a:xfrm>
        </p:grpSpPr>
        <p:sp>
          <p:nvSpPr>
            <p:cNvPr id="100" name=""/>
            <p:cNvSpPr/>
            <p:nvPr/>
          </p:nvSpPr>
          <p:spPr>
            <a:xfrm>
              <a:off x="2602080" y="4975200"/>
              <a:ext cx="3956040" cy="1494000"/>
            </a:xfrm>
            <a:custGeom>
              <a:avLst/>
              <a:gdLst>
                <a:gd name="textAreaLeft" fmla="*/ 902880 w 3956040"/>
                <a:gd name="textAreaRight" fmla="*/ 3053160 w 3956040"/>
                <a:gd name="textAreaTop" fmla="*/ 340920 h 1494000"/>
                <a:gd name="textAreaBottom" fmla="*/ 1153080 h 14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718080" y="5367240"/>
              <a:ext cx="171288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cken Salad and Tomato Wed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cold on Romaine lettuce with shredded carrots and celery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e Pud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Student name</cp:lastModifiedBy>
  <dcterms:modified xsi:type="dcterms:W3CDTF">2004-03-31T23:43:58Z</dcterms:modified>
  <cp:revision>8</cp:revision>
  <dc:subject/>
  <dc:title>Summertime Samples</dc:title>
</cp:coreProperties>
</file>