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5E06-D348-431A-B529-690988B128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CF71-49B3-41A1-B799-6935F9778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y Olafsen will take care of convention details, including room reservations for all attendees. Due date--one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e Jenkins and her staff will take care of food preparation issues, including ordering food and arranging for kitchen equipment. Due date: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nu change is required. The Chicken and Potato Salad did not get good test reviews. Replace it with Black Bean Chicken Sal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e Jenkins will test. Due date three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--Do we have enough refrigerator sp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57FC-3A24-48E5-AC87-8E6D52AC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C9CB-7AFD-44AC-87A2-B406F071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745A-B144-4A76-B4B1-3E2CB481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C8B4-7545-499F-ACBC-08269B63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A078-9D14-47FC-8E5B-3D6001AE1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29B1-6B05-45AC-BC3F-E2876FC0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9A57-313C-47C6-9AFA-D0E7357B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D990-2CC4-4C75-954D-94107D0F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6642-9098-45F4-ABAC-EC3A237F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ABA7-7987-420A-8559-80D2B39D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BBCA-B49B-48DC-8BB5-B84434C6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D01C-2253-4296-9704-4A14F3F4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755E-1AA8-40A5-8C1A-0DB63CB1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8B4E-D87F-4C2C-B1E6-9E039DF4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6979-E3D4-40C9-96B4-5EB60DC5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4486-2DC5-4FF1-B564-D31C42F1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3769-32B2-4FE6-B8C9-C71F42A2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D5B2-49C0-4E32-8BD2-3310E077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8BED-0FF7-4824-B810-5E75BD62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2DDE-9F78-4210-87F1-481CDBDB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13EE-E10D-47AD-81CA-D2B053B8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3666-9EC6-47C7-835D-80F3F20F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2D33-AED9-4178-B8F2-24EF64B6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D960-DD9E-412D-BB34-717E1078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162920" cy="1828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00200" y="1440"/>
            <a:ext cx="7543800" cy="381240"/>
          </a:xfrm>
          <a:prstGeom prst="rect">
            <a:avLst/>
          </a:prstGeom>
          <a:gradFill rotWithShape="0">
            <a:gsLst>
              <a:gs pos="0">
                <a:srgbClr val="a1da56"/>
              </a:gs>
              <a:gs pos="100000">
                <a:srgbClr val="7aa5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600200" y="382680"/>
            <a:ext cx="7543800" cy="75960"/>
          </a:xfrm>
          <a:prstGeom prst="rect">
            <a:avLst/>
          </a:prstGeom>
          <a:gradFill rotWithShape="0">
            <a:gsLst>
              <a:gs pos="0">
                <a:srgbClr val="fee168"/>
              </a:gs>
              <a:gs pos="100000">
                <a:srgbClr val="dac1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665360" y="0"/>
            <a:ext cx="7478640" cy="317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2280" y="1916280"/>
            <a:ext cx="6858000" cy="4941720"/>
          </a:xfrm>
          <a:custGeom>
            <a:avLst/>
            <a:gdLst/>
            <a:ahLst/>
            <a:rect l="l" t="t" r="r" b="b"/>
            <a:pathLst>
              <a:path w="4320" h="3264">
                <a:moveTo>
                  <a:pt x="0" y="3264"/>
                </a:moveTo>
                <a:lnTo>
                  <a:pt x="0" y="0"/>
                </a:lnTo>
                <a:lnTo>
                  <a:pt x="4320" y="0"/>
                </a:lnTo>
              </a:path>
            </a:pathLst>
          </a:custGeom>
          <a:noFill/>
          <a:ln w="9360">
            <a:solidFill>
              <a:srgbClr val="fee1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65280" y="1828800"/>
            <a:ext cx="14904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03360" y="1828800"/>
            <a:ext cx="14940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341440" y="1828800"/>
            <a:ext cx="14940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179880" y="1828800"/>
            <a:ext cx="14904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700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2" marL="1193760" indent="-228600">
              <a:spcBef>
                <a:spcPts val="700"/>
              </a:spcBef>
              <a:buClr>
                <a:srgbClr val="fee16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0c0c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4DE1-EC13-4225-8112-FCBD8F98AABE}" type="slidenum">
              <a:rPr b="0" lang="en-US" sz="1400" spc="-1" strike="noStrike">
                <a:solidFill>
                  <a:srgbClr val="2c395e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3352680"/>
            <a:ext cx="5781600" cy="149040"/>
            <a:chOff x="0" y="3352680"/>
            <a:chExt cx="5781600" cy="149040"/>
          </a:xfrm>
        </p:grpSpPr>
        <p:sp>
          <p:nvSpPr>
            <p:cNvPr id="51" name=""/>
            <p:cNvSpPr/>
            <p:nvPr/>
          </p:nvSpPr>
          <p:spPr>
            <a:xfrm>
              <a:off x="0" y="3438360"/>
              <a:ext cx="5781600" cy="1800"/>
            </a:xfrm>
            <a:custGeom>
              <a:avLst/>
              <a:gdLst/>
              <a:ahLst/>
              <a:rect l="l" t="t" r="r" b="b"/>
              <a:pathLst>
                <a:path w="3642" h="1">
                  <a:moveTo>
                    <a:pt x="0" y="0"/>
                  </a:moveTo>
                  <a:lnTo>
                    <a:pt x="3642" y="0"/>
                  </a:lnTo>
                </a:path>
              </a:pathLst>
            </a:custGeom>
            <a:noFill/>
            <a:ln w="9360">
              <a:solidFill>
                <a:srgbClr val="fee1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2c395e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1523880" y="3352680"/>
              <a:ext cx="2663640" cy="149040"/>
              <a:chOff x="1523880" y="3352680"/>
              <a:chExt cx="2663640" cy="149040"/>
            </a:xfrm>
          </p:grpSpPr>
          <p:sp>
            <p:nvSpPr>
              <p:cNvPr id="53" name=""/>
              <p:cNvSpPr/>
              <p:nvPr/>
            </p:nvSpPr>
            <p:spPr>
              <a:xfrm>
                <a:off x="1523880" y="3352680"/>
                <a:ext cx="14904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361960" y="3352680"/>
                <a:ext cx="14940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00040" y="3352680"/>
                <a:ext cx="14940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038480" y="3352680"/>
                <a:ext cx="14904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F2F4-37AA-4E73-8EA3-381427283085}" type="slidenum">
              <a:rPr b="0" lang="en-US" sz="1400" spc="-1" strike="noStrike">
                <a:solidFill>
                  <a:srgbClr val="2c395e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0"/>
            <a:ext cx="9144000" cy="2438280"/>
            <a:chOff x="0" y="0"/>
            <a:chExt cx="9144000" cy="2438280"/>
          </a:xfrm>
        </p:grpSpPr>
        <p:sp>
          <p:nvSpPr>
            <p:cNvPr id="61" name=""/>
            <p:cNvSpPr/>
            <p:nvPr/>
          </p:nvSpPr>
          <p:spPr>
            <a:xfrm>
              <a:off x="0" y="0"/>
              <a:ext cx="9144000" cy="2438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c395e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1600200" y="0"/>
              <a:ext cx="7543800" cy="458640"/>
              <a:chOff x="1600200" y="0"/>
              <a:chExt cx="7543800" cy="458640"/>
            </a:xfrm>
          </p:grpSpPr>
          <p:sp>
            <p:nvSpPr>
              <p:cNvPr id="63" name=""/>
              <p:cNvSpPr/>
              <p:nvPr/>
            </p:nvSpPr>
            <p:spPr>
              <a:xfrm>
                <a:off x="1600200" y="1440"/>
                <a:ext cx="7543800" cy="380880"/>
              </a:xfrm>
              <a:prstGeom prst="rect">
                <a:avLst/>
              </a:prstGeom>
              <a:gradFill rotWithShape="0">
                <a:gsLst>
                  <a:gs pos="0">
                    <a:srgbClr val="a1da56"/>
                  </a:gs>
                  <a:gs pos="100000">
                    <a:srgbClr val="7aa5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00200" y="382320"/>
                <a:ext cx="7543800" cy="76320"/>
              </a:xfrm>
              <a:prstGeom prst="rect">
                <a:avLst/>
              </a:prstGeom>
              <a:gradFill rotWithShape="0">
                <a:gsLst>
                  <a:gs pos="0">
                    <a:srgbClr val="fee168"/>
                  </a:gs>
                  <a:gs pos="100000">
                    <a:srgbClr val="dac1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pic>
            <p:nvPicPr>
              <p:cNvPr id="6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65360" y="0"/>
                <a:ext cx="7478640" cy="31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lvl="2" marL="914400" indent="50760" algn="ctr">
              <a:spcBef>
                <a:spcPts val="499"/>
              </a:spcBef>
              <a:buClr>
                <a:srgbClr val="fee16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95e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2c395e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c0c0c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Good 4 U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Summertime Samples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23880" y="3654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od Sample Planning Sessio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r the Annual Franchise Conventio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o be held in Minneapoli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transition spd="med" advTm="11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ppetizer Speci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Mango Supreme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Ripe mango slices served on a bed of lettuce and topped with raspberry vinaigrette dressing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almon Tidbit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Tiny open-face salmon sandwich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ruity Chicke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Grilled chicken strips with fresh orange and pineapple slices</a:t>
            </a: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transition spd="med" advTm="11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idden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Main Cour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ex-Mex Tofu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Grilled tofu slices with low-fat barbecue sauce, jalapenos, black beans, and Julie’s special spic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hicken and Potato Salad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rved cold in a baked taco shell with plenty of lettuce and veggi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Grilled Swordfish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rved in a light dill sauce with wild ri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transition spd="med" advTm="11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ser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Papaya Sundae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Icy papaya sherbet served with raspberry yogurt sau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Grilled Bananas and Peache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Bananas and peaches wrapped in soft taco shells, grilled, and topped with vanilla yogurt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Rice Pudding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Julie’s unique low-fat pudding, served warm with cherry sau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transition spd="med" advTm="1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1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6T22:17:06Z</dcterms:created>
  <dc:creator>Pat R. Graves</dc:creator>
  <dc:description/>
  <dc:language>en-US</dc:language>
  <cp:lastModifiedBy>Student Name</cp:lastModifiedBy>
  <dcterms:modified xsi:type="dcterms:W3CDTF">2004-04-03T04:47:46Z</dcterms:modified>
  <cp:revision>33</cp:revision>
  <dc:subject/>
  <dc:title>Summertime Samples</dc:title>
</cp:coreProperties>
</file>