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962C-2A39-4430-8903-3D5675B3C6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E729-C6C2-4082-956E-B1AC91ACD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y Olafsen will take care of convention details, including room reservations for all attendees. Due date--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and her staff will take care of food preparation issues, including ordering food and arranging for kitchen equipment. Due date: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nu change is required. The Chicken and Potato Salad did not get good test reviews. Replace it with Black Bean Chicken Sal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will test. Due date three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--Do we have enough refrigerator sp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F65-952E-48AD-8CE0-CF9A996E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C11D-D7E3-4350-9E2E-1539F755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6E85-37F1-41C5-B7A7-E570B5E1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51D-E1D8-478B-AABF-FBD9965C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981F-7D8E-4362-A907-DE8768C2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4FB6-6535-4506-B38E-DEFCA79B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FBDA-18E0-4D49-8CCC-1A337307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91E1-0A29-4891-88AA-672BB792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97A8-9908-41FF-A013-61FF5DBE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7678-EFF2-49B7-833F-C38E364C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7D8B-21E3-404D-9874-A1930927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3D9-BF57-4919-A446-9BAA858C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E723-753C-412D-9CFC-6C8F4D4B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DA3C-0A42-412A-BADF-6A8D51C0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7B6E-0C35-4755-9A7C-FC0FE1F6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5264-1386-4063-8B6B-792C6FAE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DD58-4E5E-44A1-9274-537F52BF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71F-7AEE-4664-B4E8-187BE3B6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9D2-FA0C-4935-BD2F-4F2708FC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EF4-66C1-417E-B047-9F60EC44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4430-9FD2-4FE2-84A4-B117257C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639F-1C61-4F6D-96C6-80C20C41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3A4-236E-4220-8592-8BEBBB38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242D-4C79-46FF-BA4A-1EC9AC82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16292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00200" y="1440"/>
            <a:ext cx="7543800" cy="381240"/>
          </a:xfrm>
          <a:prstGeom prst="rect">
            <a:avLst/>
          </a:prstGeom>
          <a:gradFill rotWithShape="0">
            <a:gsLst>
              <a:gs pos="0">
                <a:srgbClr val="a1da56"/>
              </a:gs>
              <a:gs pos="100000">
                <a:srgbClr val="7aa5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600200" y="382680"/>
            <a:ext cx="7543800" cy="75960"/>
          </a:xfrm>
          <a:prstGeom prst="rect">
            <a:avLst/>
          </a:prstGeom>
          <a:gradFill rotWithShape="0">
            <a:gsLst>
              <a:gs pos="0">
                <a:srgbClr val="fee168"/>
              </a:gs>
              <a:gs pos="100000">
                <a:srgbClr val="dac1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665360" y="0"/>
            <a:ext cx="7478640" cy="317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2280" y="1916280"/>
            <a:ext cx="6858000" cy="4941720"/>
          </a:xfrm>
          <a:custGeom>
            <a:avLst/>
            <a:gdLst/>
            <a:ahLst/>
            <a:rect l="l" t="t" r="r" b="b"/>
            <a:pathLst>
              <a:path w="4320" h="3264">
                <a:moveTo>
                  <a:pt x="0" y="3264"/>
                </a:moveTo>
                <a:lnTo>
                  <a:pt x="0" y="0"/>
                </a:lnTo>
                <a:lnTo>
                  <a:pt x="4320" y="0"/>
                </a:lnTo>
              </a:path>
            </a:pathLst>
          </a:custGeom>
          <a:noFill/>
          <a:ln w="9360">
            <a:solidFill>
              <a:srgbClr val="fee1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52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0336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34144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798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700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2" marL="1193760" indent="-228600">
              <a:spcBef>
                <a:spcPts val="700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7C40-C461-4D56-B5B3-B1432C10D4B7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352680"/>
            <a:ext cx="5781600" cy="149040"/>
            <a:chOff x="0" y="3352680"/>
            <a:chExt cx="5781600" cy="149040"/>
          </a:xfrm>
        </p:grpSpPr>
        <p:sp>
          <p:nvSpPr>
            <p:cNvPr id="51" name=""/>
            <p:cNvSpPr/>
            <p:nvPr/>
          </p:nvSpPr>
          <p:spPr>
            <a:xfrm>
              <a:off x="0" y="3438360"/>
              <a:ext cx="5781600" cy="1800"/>
            </a:xfrm>
            <a:custGeom>
              <a:avLst/>
              <a:gdLst/>
              <a:ahLst/>
              <a:rect l="l" t="t" r="r" b="b"/>
              <a:pathLst>
                <a:path w="3642" h="1">
                  <a:moveTo>
                    <a:pt x="0" y="0"/>
                  </a:moveTo>
                  <a:lnTo>
                    <a:pt x="3642" y="0"/>
                  </a:lnTo>
                </a:path>
              </a:pathLst>
            </a:custGeom>
            <a:noFill/>
            <a:ln w="9360">
              <a:solidFill>
                <a:srgbClr val="fee1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1523880" y="3352680"/>
              <a:ext cx="2663640" cy="149040"/>
              <a:chOff x="1523880" y="3352680"/>
              <a:chExt cx="2663640" cy="149040"/>
            </a:xfrm>
          </p:grpSpPr>
          <p:sp>
            <p:nvSpPr>
              <p:cNvPr id="53" name=""/>
              <p:cNvSpPr/>
              <p:nvPr/>
            </p:nvSpPr>
            <p:spPr>
              <a:xfrm>
                <a:off x="1523880" y="33526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61960" y="33526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00040" y="33526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038480" y="33526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1581-C2C2-494E-AAD5-A43B51169FE1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0"/>
            <a:ext cx="9144000" cy="2438280"/>
            <a:chOff x="0" y="0"/>
            <a:chExt cx="9144000" cy="243828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9144000" cy="243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1600200" y="0"/>
              <a:ext cx="7543800" cy="458640"/>
              <a:chOff x="1600200" y="0"/>
              <a:chExt cx="7543800" cy="458640"/>
            </a:xfrm>
          </p:grpSpPr>
          <p:sp>
            <p:nvSpPr>
              <p:cNvPr id="63" name=""/>
              <p:cNvSpPr/>
              <p:nvPr/>
            </p:nvSpPr>
            <p:spPr>
              <a:xfrm>
                <a:off x="1600200" y="1440"/>
                <a:ext cx="7543800" cy="380880"/>
              </a:xfrm>
              <a:prstGeom prst="rect">
                <a:avLst/>
              </a:prstGeom>
              <a:gradFill rotWithShape="0">
                <a:gsLst>
                  <a:gs pos="0">
                    <a:srgbClr val="a1da56"/>
                  </a:gs>
                  <a:gs pos="100000">
                    <a:srgbClr val="7aa5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00200" y="382320"/>
                <a:ext cx="7543800" cy="76320"/>
              </a:xfrm>
              <a:prstGeom prst="rect">
                <a:avLst/>
              </a:prstGeom>
              <a:gradFill rotWithShape="0">
                <a:gsLst>
                  <a:gs pos="0">
                    <a:srgbClr val="fee168"/>
                  </a:gs>
                  <a:gs pos="100000">
                    <a:srgbClr val="dac1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pic>
            <p:nvPicPr>
              <p:cNvPr id="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65360" y="0"/>
                <a:ext cx="7478640" cy="31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lvl="2" marL="914400" indent="50760" algn="ctr">
              <a:spcBef>
                <a:spcPts val="499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c395e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Good 4 U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Summertime Samples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23880" y="3654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od Sample Planning Sess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r the Annual Franchise Convent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o be held in Minneapoli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76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ppetizer Speci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Mango Suprem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Ripe mango slices served on a bed of lettuce and topped with raspberry vinaigrette dressing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almon Tidbit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Tiny open-face salmon sandwich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ruity Chicke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chicken strips with fresh orange and pineapple slices</a:t>
            </a: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dden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Main Cour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ex-Mex Tofu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tofu slices with low-fat barbecue sauce, jalapenos, black beans, and Julie’s special spic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hicken and Potato Salad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cold in a baked taco shell with plenty of lettuce and veggi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Swordfish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in a light dill sauce with wild ri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ser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Papaya Sunda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Icy papaya sherbet served with raspberry yogurt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Bananas and Peache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Bananas and peaches wrapped in soft taco shells, grilled, and topped with vanilla yogurt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Rice Pudding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Julie’s unique low-fat pudding, served warm with cherry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22:17:06Z</dcterms:created>
  <dc:creator>Pat R. Graves</dc:creator>
  <dc:description/>
  <dc:language>en-US</dc:language>
  <cp:lastModifiedBy>Student Name</cp:lastModifiedBy>
  <dcterms:modified xsi:type="dcterms:W3CDTF">2004-04-03T04:48:15Z</dcterms:modified>
  <cp:revision>34</cp:revision>
  <dc:subject/>
  <dc:title>Summertime Samples</dc:title>
</cp:coreProperties>
</file>