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37388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C6A0-1832-4D0E-BEEA-3751F5EBE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4845-06BD-4455-A6D6-E03DE8D57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0407-D8AE-4D0D-8AA2-C7162D463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E3DC-A4A6-45F1-B1A6-481A50960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D8B37-CF05-47D3-95BB-63FD9A835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99A02-249C-435A-B685-400E6CDC7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620E8-5946-4A59-AEFC-9CE682195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7844A-007F-4099-8F52-130FBA7C1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7DDA0-224E-421D-A819-AE734FC35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06E20-B9FB-405D-AD55-5C5395670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EE14A-3B74-4335-BE9E-48817D7C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B052-D8D5-48FB-90C1-FC6CD05AF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908F1-0EF2-40EC-BE76-C5A87A41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AFB6E-4297-4183-ACD3-DCF038D3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85A8D-6996-4891-A23B-A60F8D02E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FEA55-FF5D-4BD8-AC99-1A9FB2BC7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B9EB7-DD70-4367-87E2-25DFCC725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ECA8-251A-4470-82F7-EC9A12E6B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E24D-49E6-43A1-B65E-477CD9071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8EA0-07CC-4B3F-9770-125C85F9D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B24E-4AD0-48A1-8258-C1E40C3D2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0D59-4205-4ABC-89E1-AF922660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EF12-F024-4A9E-A2F9-B0AFBA89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CF15-2E8E-4AF8-9C97-F0F9178B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9C9CC-E178-496B-A04E-CF290554674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0B95F-0926-4A72-AA7C-53097E76B15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rketing Our Busin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od 4 U Employee Trai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ments of Marke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vertis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unity 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e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al ev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al off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rketing Is About Peo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pect employees and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ct the best from yourself and oth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We Market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r foo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r merchand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r 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rketing Our Staff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ff courtes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iter sugges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mpt meal 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2-05T19:51:12Z</dcterms:created>
  <dc:creator>Pat R. Graves</dc:creator>
  <dc:description/>
  <dc:language>en-US</dc:language>
  <cp:lastModifiedBy>Pat Graves</cp:lastModifiedBy>
  <cp:lastPrinted>1997-05-23T15:21:30Z</cp:lastPrinted>
  <dcterms:modified xsi:type="dcterms:W3CDTF">2004-03-27T07:26:28Z</dcterms:modified>
  <cp:revision>22</cp:revision>
  <dc:subject/>
  <dc:title>Marketing Our Restaurant</dc:title>
</cp:coreProperties>
</file>