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2" initials="R2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31T17:38:13.921000000" idx="1">
    <p:pos x="10" y="10"/>
    <p:text>Please change the font to Comic Sans MS because we need a more relaxed font for this summertime theme.</p:text>
  </p:cm>
</p:cmLst>
</file>

<file path=ppt/comments/comment3.xml><?xml version="1.0" encoding="utf-8"?>
<p:cmLst xmlns:p="http://schemas.openxmlformats.org/presentationml/2006/main">
  <p:cm authorId="0" dt="2004-03-31T17:38:38.578000000" idx="2">
    <p:pos x="10" y="10"/>
    <p:text>I don't like the chicken and potato salad entree.</p:text>
  </p:cm>
</p:cmLst>
</file>

<file path=ppt/comments/comment4.xml><?xml version="1.0" encoding="utf-8"?>
<p:cmLst xmlns:p="http://schemas.openxmlformats.org/presentationml/2006/main">
  <p:cm authorId="0" dt="2004-03-31T17:38:51.640000000" idx="3">
    <p:pos x="10" y="10"/>
    <p:text>The last dessert needs a jazzier nam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3FF-7749-474B-B17C-20DCDA2D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147-59C1-49D0-940C-547FB1EA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3BE-3009-4098-ACDF-BD57C7CC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6E8-5A45-4B63-ADD5-155873E2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6484-D6FD-48BC-83C2-961AF720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BBE1-EEF6-4F32-9C55-EE921BD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04E-C804-41AA-B837-A70F83EA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5E76-2A38-4E3B-B11C-BFD07B4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3D68-4725-44A4-B3EF-10EBE86C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D233-A101-4B2D-A59D-40344A3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4F70-CB6B-49C6-BCA7-5ED87E4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DE0-34A5-4148-8CC8-4E5503DB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80E-B61A-4536-831C-EE5C476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094A-B7FE-4FAF-AF1C-110D27D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9C1D-AFCA-463A-8165-EE0D01CD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5B4-72B0-40B3-A727-823EDD38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5BC1-6C64-4E44-9C73-4FC1A22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A2F-8000-41F3-9791-188D8B6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24D-72E8-4C05-8C7E-2E27A231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B39-8871-4490-BA2A-2584A67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7B5-D081-4767-BAED-65B6574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AE2-B59D-4086-B891-6018FAB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E45-43D2-4E11-A125-9161202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CF7-25C9-4645-8728-D492141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87C2-F601-442E-B9EB-9BEE00689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05ED-68FB-44ED-AA4A-239EFF943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02080" y="4975200"/>
            <a:ext cx="3956040" cy="1494000"/>
            <a:chOff x="2602080" y="4975200"/>
            <a:chExt cx="3956040" cy="1494000"/>
          </a:xfrm>
        </p:grpSpPr>
        <p:sp>
          <p:nvSpPr>
            <p:cNvPr id="100" name=""/>
            <p:cNvSpPr/>
            <p:nvPr/>
          </p:nvSpPr>
          <p:spPr>
            <a:xfrm>
              <a:off x="2602080" y="4975200"/>
              <a:ext cx="3956040" cy="1494000"/>
            </a:xfrm>
            <a:custGeom>
              <a:avLst/>
              <a:gdLst>
                <a:gd name="textAreaLeft" fmla="*/ 902880 w 3956040"/>
                <a:gd name="textAreaRight" fmla="*/ 3053160 w 3956040"/>
                <a:gd name="textAreaTop" fmla="*/ 340920 h 1494000"/>
                <a:gd name="textAreaBottom" fmla="*/ 1153080 h 14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718080" y="5367240"/>
              <a:ext cx="171288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cken Salad and Tomato Wed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cold on Romaine lettuce with shredded carrots and celery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e Pud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Student name</cp:lastModifiedBy>
  <dcterms:modified xsi:type="dcterms:W3CDTF">2004-03-31T23:43:58Z</dcterms:modified>
  <cp:revision>8</cp:revision>
  <dc:subject/>
  <dc:title>Summertime Samples</dc:title>
</cp:coreProperties>
</file>