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E38C-69D0-47E1-B1B5-970D7BC84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BFFE-F2F2-4A94-9969-6E88F0DA3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4B3-A9F5-4296-8FBA-B55B8A9F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9FF-6D90-4D4B-9621-FADECA58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605-2CC0-4723-B90E-20EDD787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7A4-1DC2-4D73-AAC5-F8309053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B723-D171-4D0F-888F-64DF2D84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21E4-BEE4-4BE6-AE77-95F1AB53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CA36-0F4D-4EB3-8160-DC61CF7F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C767-FA9C-4439-84EC-F30531D1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9B0-7FE1-461B-A5CB-D84EAF36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0454-EF4F-4646-B617-35475768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DF3A-7A46-44CB-8DBA-644AC36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3A4-DCAB-4845-8B56-8393B7FD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5D00-9201-46C7-B2A2-E4B8425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DE41-F30B-45AB-9E49-CA9F79D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1867-8609-4D88-BBB0-566C42AF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7906-5625-40E0-B667-62354962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4B23-34DF-4D2F-BEB1-B5CD4637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F9F-8D6F-40F0-B5B2-1DE542E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80C-443B-4427-8B60-1F512300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293-3442-4D59-B626-39C65277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604-3DC5-4F90-89D4-0108EB66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F12-54BD-4FC8-B7DB-AE80EB7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0BE-1548-4DEC-B24E-DCB958D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94A-27C8-40E8-9821-3993CE2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6D6B-54D0-48EF-9DA7-DFEDC1742441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7F3-89F0-4440-BB3A-778500CE0852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47:46Z</dcterms:modified>
  <cp:revision>33</cp:revision>
  <dc:subject/>
  <dc:title>Summertime Samples</dc:title>
</cp:coreProperties>
</file>