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816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-3816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E3C0-6B69-48CB-BE1C-67D19E9C4662}" type="datetime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477720" y="647640"/>
            <a:ext cx="5902560" cy="442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 Black"/>
              </a:rPr>
              <a:t>Click to move the slide</a:t>
            </a:r>
            <a:endParaRPr b="0" lang="en-US" sz="48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457200" y="5295960"/>
            <a:ext cx="5943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7249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7249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4DD0-0A35-4AA7-B4AF-7913C3C9226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480960" y="647640"/>
            <a:ext cx="5896080" cy="44229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5295960"/>
            <a:ext cx="5943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lcome to the Good 4 U Apparel Sales and Forecast discuss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480960" y="647640"/>
            <a:ext cx="5896080" cy="44229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5295960"/>
            <a:ext cx="5943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-shirts always will enjoy brisk sales. Our t-shirts come in a variety of bright and subtle colors and now sport the new Good 4 U log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hough most of our promotional products sell mainly at special events, for example at our annual bike-a-thon and July 4 celebration, t-shirts sell well all year round at our restaurants as wel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have seen interest pick up in our bike jerseys and visors and expect them to do well in the coming seas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480960" y="647640"/>
            <a:ext cx="5896080" cy="44229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5295960"/>
            <a:ext cx="5943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demark licensing is a relatively new pursuit for Good 4 U. We expect that this area will grow in the next ye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really exciting is the good reception we’re getting from New York City retail outlets. Several stores plan to carry our line this sum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ew York buyers are genuinely enthusiastic about our produ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480960" y="647640"/>
            <a:ext cx="5896080" cy="4422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5295960"/>
            <a:ext cx="5943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-shirts will keep the largest share of our product mix, but bike jerseys are on the increas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ee customers wearing these stylish jerseys even when they are not riding their bik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have become quite the fashion item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480960" y="647640"/>
            <a:ext cx="5896080" cy="4422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5295960"/>
            <a:ext cx="5943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York will still enjoy the highest sales volume in 2005, but Miami and Los Angeles are catching up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you can see from the chart, most of the extra sales in New York come from t-shir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dies and gentlemen, this concludes the Apparel section of our financial conference. Thank you for attending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2EDC-F815-44B9-84E2-4B4A29A8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408348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69A1-98DA-4645-98E6-C6B2C99F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40834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40834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3EA7-914F-48EE-AAA3-FC4FA8E7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21333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21333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40834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40834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40834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126-385B-4D64-8E1D-483D4966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85FB-3FD0-4049-9C46-FBF36A9A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E0D3-0ADF-4D67-B6E1-766B2A0E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7C76-CB87-4A30-B957-28B521AC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951E-206E-4C07-8FF3-7174BD7A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7169-B8D5-47E9-BC8A-E276D842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DE3A-CA1A-4360-8EED-2E86902F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834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A2B9-D2F8-4FC7-8689-5B3B9681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5029-8265-41AB-92ED-B7D226D5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40834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CD01-BF4F-4B44-8F7D-03FA0872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408348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CDF0-FE2D-4804-8609-FAE67C2D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408348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7988-E2BF-4B78-9A27-46AF6580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40834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40834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0153-F650-427E-8EC1-0BE79757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21333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21333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40834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40834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40834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4D54-4FEF-454A-B79A-FB6231AA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1CCE-4CE2-4FCE-B72A-C170E9D1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FB45-5533-4200-AB77-B17EFD94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E38E-40E8-4420-B43A-414E06AF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B2DC-B926-47F8-AE2E-7A3B72B5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40834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FAE2-541D-4F50-9F96-AABE7A6E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40834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CD99-E21F-4833-8C0A-39362267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21333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408348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1C55-17B4-4753-98FA-354DA242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74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74"/>
              </a:spcBef>
              <a:buClr>
                <a:srgbClr val="ffcc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74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614D-7381-41AE-95CA-72E87A9A11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533520"/>
            <a:ext cx="8398080" cy="5562360"/>
            <a:chOff x="380880" y="533520"/>
            <a:chExt cx="8398080" cy="5562360"/>
          </a:xfrm>
        </p:grpSpPr>
        <p:sp>
          <p:nvSpPr>
            <p:cNvPr id="46" name=""/>
            <p:cNvSpPr/>
            <p:nvPr/>
          </p:nvSpPr>
          <p:spPr>
            <a:xfrm>
              <a:off x="380880" y="533520"/>
              <a:ext cx="8398080" cy="556236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609480"/>
              <a:ext cx="8229600" cy="5409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657240"/>
              <a:ext cx="7315200" cy="0"/>
            </a:xfrm>
            <a:prstGeom prst="line">
              <a:avLst/>
            </a:prstGeom>
            <a:ln w="7632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D06A-7A9E-465B-AB54-7BDE9AB52D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6960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 Black"/>
              </a:rPr>
              <a:t>Financial Analysis:</a:t>
            </a:r>
            <a:br>
              <a:rPr sz="4800"/>
            </a:br>
            <a:r>
              <a:rPr b="0" lang="en-US" sz="4800" spc="-1" strike="noStrike">
                <a:solidFill>
                  <a:srgbClr val="cc0000"/>
                </a:solidFill>
                <a:latin typeface="Arial Black"/>
              </a:rPr>
              <a:t>The New Millennium</a:t>
            </a:r>
            <a:endParaRPr b="0" lang="en-US" sz="48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 Black"/>
              </a:rPr>
              <a:t>Apparel Sales</a:t>
            </a:r>
            <a:endParaRPr b="0" lang="en-US" sz="47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-shirts will continue to outsell all other products combin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jority of products will sell at special eve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ike jerseys and visors will do wel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The Future</a:t>
            </a: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rademark licensing will continue to increase significantl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jor NYC retail outlets will carry our l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99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ur new products generate enthusiasm with NYC buy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Apparel Mix </a:t>
            </a:r>
            <a:br>
              <a:rPr sz="4000"/>
            </a:b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Projection 2005</a:t>
            </a: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752480"/>
          <a:ext cx="7026120" cy="41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7026120" cy="41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Apparel Sales </a:t>
            </a:r>
            <a:br>
              <a:rPr sz="4000"/>
            </a:b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Projection 2005</a:t>
            </a:r>
            <a:endParaRPr b="0" lang="en-US" sz="4000" spc="-1" strike="noStrike">
              <a:solidFill>
                <a:srgbClr val="cc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2379600"/>
          <a:ext cx="7400880" cy="348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79600"/>
                    <a:ext cx="7400880" cy="34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t R. Graves</dc:creator>
  <dc:description/>
  <dc:language>en-US</dc:language>
  <cp:lastModifiedBy>Pat Graves</cp:lastModifiedBy>
  <dcterms:modified xsi:type="dcterms:W3CDTF">2004-03-28T22:23:05Z</dcterms:modified>
  <cp:revision>19164</cp:revision>
  <dc:subject/>
  <dc:title>Financial Analysis</dc:title>
</cp:coreProperties>
</file>