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312-D419-45AF-B36A-D3A0A6ED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AFE-6337-4644-AB47-5E232D7C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365-1AD9-40BD-BCB2-33B710F2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EB1-1E86-425F-93EF-BE659934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F992-B205-4BBA-AF22-0B3F2E35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7B54-F31F-4026-AAAD-D1728844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D3DF-6C1D-4907-AEB0-03927FC4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50F2-665B-403D-91A3-6DDA11DA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8629-216F-414B-8A44-ADFBEEF6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B32F-DEDB-43C3-B182-2FA71CA6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7087-AD6D-4D4D-A82A-9405C3A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50E-4553-4A10-9A3D-DE61E216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7160-4D61-4F40-ACE1-ED6519D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C73A-50BD-4EC6-AF8E-F8086FB2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2091-2A7A-4F55-BE05-1421D377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0096-F841-4CA5-823A-F5ACCA82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A335-4A30-4CB4-AD9F-05D100B7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F73-BF7F-4DCB-8EFA-A64CC47E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945-F865-4B94-9838-77D7C6D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7F1-220F-4D89-B4F5-C76D828C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0D4-384C-4771-8521-FE00EF23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5FE-AF3D-40AC-8E49-C5159D0B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DE1-658E-4695-A5F3-499EEED2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4FA-613D-4AF3-9CEF-873913D1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75E0-CF76-4255-B7B2-3386798F96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4200-8877-42CF-BDA4-F8D65ACE0F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7T07:26:28Z</dcterms:modified>
  <cp:revision>22</cp:revision>
  <dc:subject/>
  <dc:title>Marketing Our Restaurant</dc:title>
</cp:coreProperties>
</file>