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1630-0411-4C39-AA65-691953894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8A1-21D5-4225-BA48-35B466BB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B22-64F9-470C-A21B-547420B0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9760" y="42832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C2D-2BCD-4DBC-98D6-A5D09A71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8068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141-3C5B-4F5E-A1BB-2C9B80A8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5608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1240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9976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5608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1240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E96-08CD-440A-97E0-D302C585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493B-2DBE-4CC2-B316-958C77A0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9613-78EA-4DEA-AD5A-944D213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8D35-3F45-4B5B-A390-C31CEF4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7AE9-A36D-426D-B856-4D3C4C96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81D1-90CC-41D4-9859-E78D198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997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5FC1-217F-42D5-A936-77DD089C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5495-A57A-47BE-A09B-2029BA9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AB2-D858-4892-9A6F-63CA02D7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068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8791-3380-49F5-9086-E6674A3D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24DF-833F-4479-9FF9-C0CEDE8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99760" y="42832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D522-7FDD-40A1-A51F-08B8D44F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068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B3F-8A29-4D2B-918B-47B53608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5608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2400" y="2133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9976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5608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2400" y="42832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9B8-8C88-4AE5-9CE8-8DC42C37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309-2646-4B5E-8D54-6AF9CBBC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062-5C9A-48EA-97F8-8F0FD9C1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315-753B-496B-8EDB-789CA4CE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997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1DC-03F6-4142-959B-3818FA6C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D0F-60A0-4B6C-995C-0119E77E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80680" y="42832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ADA-9377-4733-AB81-7412595F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0680" y="21337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760" y="42832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216-1F29-418C-9B2D-F95E472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05824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800360" y="1440"/>
            <a:ext cx="848664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00360" y="382680"/>
            <a:ext cx="848664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873080" y="0"/>
            <a:ext cx="841392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71360" y="1916280"/>
            <a:ext cx="771552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7720" y="1828800"/>
            <a:ext cx="16812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0560" y="1828800"/>
            <a:ext cx="16848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633760" y="1828800"/>
            <a:ext cx="16812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76600" y="1828800"/>
            <a:ext cx="16848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9976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4296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007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D39A-3972-4BDA-B4E3-AFB50926F0C0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6503760" cy="149040"/>
            <a:chOff x="0" y="3352680"/>
            <a:chExt cx="650376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650376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713960" y="3352680"/>
              <a:ext cx="2996280" cy="149040"/>
              <a:chOff x="1713960" y="3352680"/>
              <a:chExt cx="299628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713960" y="3352680"/>
                <a:ext cx="167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56800" y="3352680"/>
                <a:ext cx="16776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599640" y="3352680"/>
                <a:ext cx="16776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42840" y="3352680"/>
                <a:ext cx="167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73720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E19D-A2BA-400B-B739-DE117700BC14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10286640" cy="2438280"/>
            <a:chOff x="0" y="0"/>
            <a:chExt cx="1028664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1028664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800000" y="0"/>
              <a:ext cx="8486280" cy="458640"/>
              <a:chOff x="1800000" y="0"/>
              <a:chExt cx="848628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800000" y="1440"/>
                <a:ext cx="848628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00000" y="382320"/>
                <a:ext cx="848628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73080" y="0"/>
                <a:ext cx="841320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771120" y="1219320"/>
            <a:ext cx="8744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1120" y="1219320"/>
            <a:ext cx="8744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14680" y="3654000"/>
            <a:ext cx="720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97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97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4:53:13Z</dcterms:modified>
  <cp:revision>35</cp:revision>
  <dc:subject/>
  <dc:title>Summertime Samples</dc:title>
</cp:coreProperties>
</file>