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56F-3223-44D9-859E-92B7B8EA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1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5F7-FCB8-4CC8-839D-25A10F8E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CC0-3F98-43D8-9657-40EFB744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E21-55EB-4CDF-B44D-6796F0E3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AB1F-EAD3-46FD-82AD-5FAB9A5B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0CC-CD03-429B-903E-DA97F0B6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4E44-1A63-4D04-9E4E-C170F539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AE65-E8B6-4218-B265-10FAA196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FFE-BB85-47AE-B711-4B21D820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3B70-699A-4491-BAA8-929FFF3E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3C7B-7A04-49D4-B5D5-383813A8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DD2-FF03-4AAB-B540-5CC53841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065B-204F-4AD8-8F8E-17155AD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A618-40DB-4775-9E86-9E62FDE9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221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0FB-4355-46F0-8BB1-74BB165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B09D-5B44-4EEF-BE09-38180445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221360"/>
            <a:ext cx="264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30D1-2777-46F6-A7FD-E257DC5D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5FB-5161-49E9-AA45-27F497DC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2BB-CF11-4E8D-BEAE-A9A94FD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091-547C-4F04-8CE0-EA4A895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38D-34E8-4BCD-BCDF-B086F5A1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F9A-3787-48D1-898E-36E75633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1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E07-C6E9-491B-B9E2-B6A2866C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136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AB6-925C-4179-9D23-FAC917D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7087-232E-461C-8AED-4E2CDCA0729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ff99"/>
                </a:solidFill>
                <a:latin typeface="Verdana"/>
              </a:rPr>
              <a:t>Click to edit the title text format</a:t>
            </a:r>
            <a:endParaRPr b="1" lang="en-US" sz="58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CD47-07EB-406E-8D44-B2705DF9EF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ff99"/>
                </a:solidFill>
                <a:latin typeface="Verdana"/>
              </a:rPr>
              <a:t>Financial Analysis</a:t>
            </a:r>
            <a:endParaRPr b="1" lang="en-US" sz="58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pecial Events Revenue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ew Y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9880" y="6273720"/>
            <a:ext cx="1447560" cy="584280"/>
            <a:chOff x="3809880" y="6273720"/>
            <a:chExt cx="1447560" cy="584280"/>
          </a:xfrm>
        </p:grpSpPr>
        <p:sp>
          <p:nvSpPr>
            <p:cNvPr id="94" name=""/>
            <p:cNvSpPr txBox="1"/>
            <p:nvPr/>
          </p:nvSpPr>
          <p:spPr>
            <a:xfrm>
              <a:off x="4854240" y="6496200"/>
              <a:ext cx="4032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498200" y="6366600"/>
              <a:ext cx="522000" cy="491400"/>
              <a:chOff x="4498200" y="6366600"/>
              <a:chExt cx="522000" cy="491400"/>
            </a:xfrm>
          </p:grpSpPr>
          <p:sp>
            <p:nvSpPr>
              <p:cNvPr id="96" name=""/>
              <p:cNvSpPr/>
              <p:nvPr/>
            </p:nvSpPr>
            <p:spPr>
              <a:xfrm>
                <a:off x="4498200" y="6366600"/>
                <a:ext cx="522000" cy="491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44720" y="6419520"/>
                <a:ext cx="241560" cy="273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 txBox="1"/>
            <p:nvPr/>
          </p:nvSpPr>
          <p:spPr>
            <a:xfrm>
              <a:off x="3809880" y="6273720"/>
              <a:ext cx="973080" cy="34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Verdana"/>
              </a:rPr>
              <a:t>2004 Highlights</a:t>
            </a: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ificant earnings every mon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amatic earnings from sponsored ev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Verdana"/>
              </a:rPr>
              <a:t>Revenue Sources</a:t>
            </a:r>
            <a:endParaRPr b="0" lang="en-US" sz="4400" spc="-1" strike="noStrike">
              <a:solidFill>
                <a:srgbClr val="99ff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nsored ev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nqu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 par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Verdana"/>
              </a:rPr>
              <a:t>2004 Special Events Revenue</a:t>
            </a:r>
            <a:endParaRPr b="0" lang="en-US" sz="4000" spc="-1" strike="noStrike">
              <a:solidFill>
                <a:srgbClr val="99ff99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920" y="1974960"/>
          <a:ext cx="793908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974960"/>
                    <a:ext cx="793908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21:29:53Z</dcterms:created>
  <dc:creator>Pat R. Graves</dc:creator>
  <dc:description/>
  <dc:language>en-US</dc:language>
  <cp:lastModifiedBy>Pat Graves</cp:lastModifiedBy>
  <dcterms:modified xsi:type="dcterms:W3CDTF">2004-03-31T21:30:07Z</dcterms:modified>
  <cp:revision>53</cp:revision>
  <dc:subject/>
  <dc:title>Financial Analysis</dc:title>
</cp:coreProperties>
</file>