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0672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29040" y="-1800"/>
            <a:ext cx="300672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B8D0AE6-D85C-4B45-A2CB-3E8EF340DD2B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1440" y="8796240"/>
            <a:ext cx="30067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29040" y="8796240"/>
            <a:ext cx="30067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5ACC14C-EE58-4D66-A5D8-3DC182633F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keting Strategy Meeting was called to order on Monday, November 8, 2004, at 1:1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generally agreed that there are too many areas targeted in the current marketing strategy and that items will be prioritized to create a stronger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Jane Kry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: 1/25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trategy for targeting potential customers' health conscious inte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Eric D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2/7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questionnaire to determine customers' food preferences and develop a plan for doing a surv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Michael P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: 3/14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the high costs associated with the Miami operation and develop a cost-containment plan for Mi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C93-96B5-4158-80F3-939E6EDA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387-7CE8-4394-930B-B5647BB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3D7-051F-4511-A774-C3631EF7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391-8A49-44E9-9CFB-E843D042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5932-1801-4CC1-9758-B1E73251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B1E9-1738-46D9-B787-839FF059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B0A0-500E-416A-89D3-9241DE7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08B-7A0D-4EAF-8365-C8D6F08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B880-BD8D-4B67-AD97-DEE549A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E9F-6E80-4960-A6B4-9A4A2AAC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0F7F-967D-4E2D-9B14-94902210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38E-DFCD-40DA-859A-B0D1FED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31E-E22E-43D5-BF87-6478845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215-9B24-40FA-B458-02F2EE6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CC7-145E-4464-B4C0-12ECF32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3EB0-9BEF-406D-8A2F-088E4746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3B45-C9A7-4CF6-8BC3-FD4C043E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20C-309B-4BBB-A4FF-9806954E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489-EEC9-4C59-B72B-ADF72FD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DE3-633B-453E-B32D-28DD536B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FB8-8A48-4B8E-BBFA-3BA6247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39E-CCAF-4B07-A097-A6FF2DB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CD9-54E1-4851-920D-E86875A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6DE-C6ED-4345-BF07-6B4F9240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AD9-DAB9-423F-9EB9-8BED9C09C744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D6EF-3928-41E5-BC99-F98CA4CE327F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arketing Strategy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962160"/>
            <a:ext cx="6102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od 4 U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468600"/>
            <a:ext cx="4876560" cy="32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vestigate the firm Marketing Strategic Management System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ost Analysi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iami costs have soared in the 3rd quarter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New York costs have remained stead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57600" y="1925640"/>
          <a:ext cx="5257800" cy="43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925640"/>
                    <a:ext cx="52578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01T04:06:42Z</dcterms:modified>
  <cp:revision>36</cp:revision>
  <dc:subject/>
  <dc:title>Marketing Strategy</dc:title>
</cp:coreProperties>
</file>