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0" y="70056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r>
              <a:rPr b="1" lang="en-US" sz="5400" spc="-1" strike="noStrike">
                <a:solidFill>
                  <a:srgbClr val="660033"/>
                </a:solidFill>
                <a:latin typeface="Trebuchet MS"/>
              </a:rPr>
              <a:t>Click to move the slide</a:t>
            </a:r>
            <a:endParaRPr b="1" lang="en-US" sz="5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79040"/>
            <a:ext cx="54860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Roy Olafsen, Marketing Manager, opened the meeting at 2:00 p.m. on October 4, 2004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Action item: Research reservation policy studies on the Web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Assigned to: Evan Johnson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Due date: October 25, 2004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Action item: Create a chart detailing seating capacity and turnaround time for each restaurant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Assigned to: Lila Nelson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Due date: November 1, 2004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A heated discussion took place concerning the advantages and disadvantages of a reservations policy. Everyone agreed to put the reservations policy on hold for six months pending further feasibility studies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FBC1-21DC-4730-8F47-700DEF427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7724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4330800"/>
            <a:ext cx="77724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E1EC-8700-4ABD-8502-D84A2EC9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236232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433080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433080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3658-5280-4C0E-8934-36584DEC6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250236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2362320"/>
            <a:ext cx="250236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2362320"/>
            <a:ext cx="250236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4330800"/>
            <a:ext cx="250236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4330800"/>
            <a:ext cx="250236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4330800"/>
            <a:ext cx="250236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3AA0-44A4-4621-AB5A-706666143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94A0-F9E4-4C9B-9CB1-28B39260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2362320"/>
            <a:ext cx="7772400" cy="37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ACBA-2A82-413A-9A17-9F84874A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7724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54EC-D8BB-4436-A18F-1F454E08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37926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2362320"/>
            <a:ext cx="37926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E376-2002-45AE-945F-79ACFC7F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8FC4-6C42-4385-AFC7-DE80BD3E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2E1B-138A-4B52-AB56-351FB4A5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2362320"/>
            <a:ext cx="37926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433080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487D-7996-440F-99E9-84755B12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2362320"/>
            <a:ext cx="7772400" cy="37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962D-FD62-4124-8726-676A9EF8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37926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236232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433080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6859-0613-4B1D-8600-5EEDE709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236232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4330800"/>
            <a:ext cx="77724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4413-55E2-4E65-85D6-E227BA2A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7724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4330800"/>
            <a:ext cx="77724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1D06-81D9-48E1-B161-755A3B6C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236232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433080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433080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BCFC-BC75-42C0-B49C-B8D9BB166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250236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2362320"/>
            <a:ext cx="250236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2362320"/>
            <a:ext cx="250236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4330800"/>
            <a:ext cx="250236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4330800"/>
            <a:ext cx="250236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4330800"/>
            <a:ext cx="250236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4CE3-C365-4811-A629-731ECB760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7724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20CA-6092-4920-ACAF-BE9BAA75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37926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2362320"/>
            <a:ext cx="37926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1EEE-CCED-48A9-B31B-2F04313C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0A97-D4E4-4A99-89E3-5F18D5F3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9822-BF1B-438A-AC92-6D619491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2362320"/>
            <a:ext cx="37926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433080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72FB-AAFE-468D-AE5A-19772079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37926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236232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433080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DF75-997B-4664-8B12-18D47B70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2362320"/>
            <a:ext cx="37926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4330800"/>
            <a:ext cx="7772400" cy="17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6291-CED5-4D6B-89F7-3275C56A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5d6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5955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0033"/>
                </a:solidFill>
                <a:latin typeface="Trebuchet MS"/>
              </a:rPr>
              <a:t>Click to edit the title text format</a:t>
            </a: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2362320"/>
            <a:ext cx="77724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5d69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c5d69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FD59-1657-4A93-A217-7747EB249D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5955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5955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5955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5d6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5955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33"/>
                </a:solidFill>
                <a:latin typeface="Trebuchet MS"/>
              </a:rPr>
              <a:t>Click to edit the title text format</a:t>
            </a:r>
            <a:endParaRPr b="1" lang="en-US" sz="5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88FC-F7AE-422F-89ED-15171841F2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575"/>
              </a:spcBef>
              <a:buClr>
                <a:srgbClr val="c5d69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95a3d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95a3d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33"/>
                </a:solidFill>
                <a:latin typeface="Trebuchet MS"/>
              </a:rPr>
              <a:t>Operations 2004</a:t>
            </a:r>
            <a:endParaRPr b="1" lang="en-US" sz="5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servations Polic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8125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0033"/>
                </a:solidFill>
                <a:latin typeface="Trebuchet MS"/>
              </a:rPr>
              <a:t>Reservations Policy</a:t>
            </a: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7724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5d69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staurant currently accepts no reservatio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c5d69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anagement considering instituting reservations polic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c5d69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urrently receive steady reservation requests, especially for dinn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0033"/>
                </a:solidFill>
                <a:latin typeface="Trebuchet MS"/>
              </a:rPr>
              <a:t>Reservations: Advantages</a:t>
            </a: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7724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5d69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llows management to control volume more efficientl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c5d69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feature of higher-caliber restauran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0033"/>
                </a:solidFill>
                <a:latin typeface="Trebuchet MS"/>
              </a:rPr>
              <a:t>Reservations: Disadvantages</a:t>
            </a:r>
            <a:endParaRPr b="1" lang="en-US" sz="42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7724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5d69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terferes with image of casual din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c5d69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ay alienate steady custome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c5d69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ot known how it would affect walk-in traffic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4T15:22:50Z</dcterms:created>
  <dc:creator>Pat R. Graves</dc:creator>
  <dc:description/>
  <dc:language>en-US</dc:language>
  <cp:lastModifiedBy>Pat Graves</cp:lastModifiedBy>
  <cp:lastPrinted>1997-10-13T15:32:24Z</cp:lastPrinted>
  <dcterms:modified xsi:type="dcterms:W3CDTF">2004-03-31T21:09:10Z</dcterms:modified>
  <cp:revision>36</cp:revision>
  <dc:subject/>
  <dc:title>Reservations Policy</dc:title>
</cp:coreProperties>
</file>