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6F45-C926-4716-9D94-72C1DBFCF2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2BD1-8D58-4487-A8D0-BD6B96FFD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y Olafsen will take care of convention details, including room reservations for all attendees. Due date--one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e Jenkins and her staff will take care of food preparation issues, including ordering food and arranging for kitchen equipment. Due date: two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nu change is required. The Chicken and Potato Salad did not get good test reviews. Replace it with Black Bean Chicken Sal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e Jenkins will test. Due date three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--Do we have enough refrigerator sp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4FD5-4FDF-48FA-9FBC-038D1439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BA3C-89C5-48DA-BC35-786B8A1E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4A22-CE5D-470C-8376-28D2E271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E7FE-DCA2-45A8-9FA8-EE8EDCE0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0417-5864-447F-A6B8-43496B09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462C-D5EC-4B90-B4B0-8BAA0553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F67E-C65B-46A7-A060-C91E7761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AFF9-C2FB-40A0-B027-9C48D9E4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3569-9DC3-4EAB-9010-C0491926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C385-E7B5-4737-A976-50B9B727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AB40-E881-4E52-8352-96F97558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31CF-C573-4645-989A-49898D24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6B8C-46D6-43ED-889D-45E6D3B3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9098-77C9-4CAD-AB72-E82E6997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623A-997D-4FC0-BE4D-0DD4819C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5BB7-D2EF-4A53-AE90-CE9BDC2D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AAF8-C5D3-4BC0-B3DE-E1E12507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7A3-7208-44D4-B8E1-C571FD54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A4D0-B229-41DF-A136-A24747B8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EDD6-8F46-42AE-953E-907613EF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CA3E-E7B5-4B00-86A6-CF29C422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649A-D923-4181-A790-3BF67BC1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F15B-E5A7-4F1D-8D24-91FAFB77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B705-24CC-4C5E-8162-56AB1B42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162920" cy="1828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00200" y="1440"/>
            <a:ext cx="7543800" cy="381240"/>
          </a:xfrm>
          <a:prstGeom prst="rect">
            <a:avLst/>
          </a:prstGeom>
          <a:gradFill rotWithShape="0">
            <a:gsLst>
              <a:gs pos="0">
                <a:srgbClr val="a1da56"/>
              </a:gs>
              <a:gs pos="100000">
                <a:srgbClr val="7aa5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600200" y="382680"/>
            <a:ext cx="7543800" cy="75960"/>
          </a:xfrm>
          <a:prstGeom prst="rect">
            <a:avLst/>
          </a:prstGeom>
          <a:gradFill rotWithShape="0">
            <a:gsLst>
              <a:gs pos="0">
                <a:srgbClr val="fee168"/>
              </a:gs>
              <a:gs pos="100000">
                <a:srgbClr val="dac1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665360" y="0"/>
            <a:ext cx="7478640" cy="317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2280" y="1916280"/>
            <a:ext cx="6858000" cy="4941720"/>
          </a:xfrm>
          <a:custGeom>
            <a:avLst/>
            <a:gdLst/>
            <a:ahLst/>
            <a:rect l="l" t="t" r="r" b="b"/>
            <a:pathLst>
              <a:path w="4320" h="3264">
                <a:moveTo>
                  <a:pt x="0" y="3264"/>
                </a:moveTo>
                <a:lnTo>
                  <a:pt x="0" y="0"/>
                </a:lnTo>
                <a:lnTo>
                  <a:pt x="4320" y="0"/>
                </a:lnTo>
              </a:path>
            </a:pathLst>
          </a:custGeom>
          <a:noFill/>
          <a:ln w="9360">
            <a:solidFill>
              <a:srgbClr val="fee1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65280" y="1828800"/>
            <a:ext cx="14904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03360" y="1828800"/>
            <a:ext cx="14940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341440" y="1828800"/>
            <a:ext cx="14940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179880" y="1828800"/>
            <a:ext cx="14904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700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2" marL="1193760" indent="-228600">
              <a:spcBef>
                <a:spcPts val="700"/>
              </a:spcBef>
              <a:buClr>
                <a:srgbClr val="fee16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0c0c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3E78-B836-43A3-8CA4-EEEBA3841579}" type="slidenum">
              <a:rPr b="0" lang="en-US" sz="1400" spc="-1" strike="noStrike">
                <a:solidFill>
                  <a:srgbClr val="2c395e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3352680"/>
            <a:ext cx="5781600" cy="149040"/>
            <a:chOff x="0" y="3352680"/>
            <a:chExt cx="5781600" cy="149040"/>
          </a:xfrm>
        </p:grpSpPr>
        <p:sp>
          <p:nvSpPr>
            <p:cNvPr id="51" name=""/>
            <p:cNvSpPr/>
            <p:nvPr/>
          </p:nvSpPr>
          <p:spPr>
            <a:xfrm>
              <a:off x="0" y="3438360"/>
              <a:ext cx="5781600" cy="1800"/>
            </a:xfrm>
            <a:custGeom>
              <a:avLst/>
              <a:gdLst/>
              <a:ahLst/>
              <a:rect l="l" t="t" r="r" b="b"/>
              <a:pathLst>
                <a:path w="3642" h="1">
                  <a:moveTo>
                    <a:pt x="0" y="0"/>
                  </a:moveTo>
                  <a:lnTo>
                    <a:pt x="3642" y="0"/>
                  </a:lnTo>
                </a:path>
              </a:pathLst>
            </a:custGeom>
            <a:noFill/>
            <a:ln w="9360">
              <a:solidFill>
                <a:srgbClr val="fee1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2c395e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1523880" y="3352680"/>
              <a:ext cx="2663640" cy="149040"/>
              <a:chOff x="1523880" y="3352680"/>
              <a:chExt cx="2663640" cy="149040"/>
            </a:xfrm>
          </p:grpSpPr>
          <p:sp>
            <p:nvSpPr>
              <p:cNvPr id="53" name=""/>
              <p:cNvSpPr/>
              <p:nvPr/>
            </p:nvSpPr>
            <p:spPr>
              <a:xfrm>
                <a:off x="1523880" y="3352680"/>
                <a:ext cx="14904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361960" y="3352680"/>
                <a:ext cx="14940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00040" y="3352680"/>
                <a:ext cx="14940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038480" y="3352680"/>
                <a:ext cx="14904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7E70-5BA6-47B4-A747-5A2F7A38EEDB}" type="slidenum">
              <a:rPr b="0" lang="en-US" sz="1400" spc="-1" strike="noStrike">
                <a:solidFill>
                  <a:srgbClr val="2c395e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0"/>
            <a:ext cx="9144000" cy="2438280"/>
            <a:chOff x="0" y="0"/>
            <a:chExt cx="9144000" cy="2438280"/>
          </a:xfrm>
        </p:grpSpPr>
        <p:sp>
          <p:nvSpPr>
            <p:cNvPr id="61" name=""/>
            <p:cNvSpPr/>
            <p:nvPr/>
          </p:nvSpPr>
          <p:spPr>
            <a:xfrm>
              <a:off x="0" y="0"/>
              <a:ext cx="9144000" cy="2438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c395e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1600200" y="0"/>
              <a:ext cx="7543800" cy="458640"/>
              <a:chOff x="1600200" y="0"/>
              <a:chExt cx="7543800" cy="458640"/>
            </a:xfrm>
          </p:grpSpPr>
          <p:sp>
            <p:nvSpPr>
              <p:cNvPr id="63" name=""/>
              <p:cNvSpPr/>
              <p:nvPr/>
            </p:nvSpPr>
            <p:spPr>
              <a:xfrm>
                <a:off x="1600200" y="1440"/>
                <a:ext cx="7543800" cy="380880"/>
              </a:xfrm>
              <a:prstGeom prst="rect">
                <a:avLst/>
              </a:prstGeom>
              <a:gradFill rotWithShape="0">
                <a:gsLst>
                  <a:gs pos="0">
                    <a:srgbClr val="a1da56"/>
                  </a:gs>
                  <a:gs pos="100000">
                    <a:srgbClr val="7aa5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00200" y="382320"/>
                <a:ext cx="7543800" cy="76320"/>
              </a:xfrm>
              <a:prstGeom prst="rect">
                <a:avLst/>
              </a:prstGeom>
              <a:gradFill rotWithShape="0">
                <a:gsLst>
                  <a:gs pos="0">
                    <a:srgbClr val="fee168"/>
                  </a:gs>
                  <a:gs pos="100000">
                    <a:srgbClr val="dac1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pic>
            <p:nvPicPr>
              <p:cNvPr id="6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65360" y="0"/>
                <a:ext cx="7478640" cy="31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lvl="2" marL="914400" indent="50760" algn="ctr">
              <a:spcBef>
                <a:spcPts val="499"/>
              </a:spcBef>
              <a:buClr>
                <a:srgbClr val="fee16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95e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2c395e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c0c0c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Good 4 U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Summertime Samples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23880" y="3654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od Sample Planning Sessio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r the Annual Franchise Conventio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o be held in Minneapoli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76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ppetizer Speci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Mango Supreme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Ripe mango slices served on a bed of lettuce and topped with raspberry vinaigrette dressing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almon Tidbit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Tiny open-face salmon sandwich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ruity Chicke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Grilled chicken strips with fresh orange and pineapple slices</a:t>
            </a: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idden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Main Cour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ex-Mex Tofu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Grilled tofu slices with low-fat barbecue sauce, jalapenos, black beans, and Julie’s special spic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hicken and Potato Salad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rved cold in a baked taco shell with plenty of lettuce and veggi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Grilled Swordfish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rved in a light dill sauce with wild ri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ser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Papaya Sundae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Icy papaya sherbet served with raspberry yogurt sau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Grilled Bananas and Peache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Bananas and peaches wrapped in soft taco shells, grilled, and topped with vanilla yogurt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Rice Pudding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Julie’s unique low-fat pudding, served warm with cherry sau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6T22:17:06Z</dcterms:created>
  <dc:creator>Pat R. Graves</dc:creator>
  <dc:description/>
  <dc:language>en-US</dc:language>
  <cp:lastModifiedBy>Student Name</cp:lastModifiedBy>
  <dcterms:modified xsi:type="dcterms:W3CDTF">2004-04-03T04:48:15Z</dcterms:modified>
  <cp:revision>34</cp:revision>
  <dc:subject/>
  <dc:title>Summertime Samples</dc:title>
</cp:coreProperties>
</file>