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F02-6D19-4DBF-A63E-F678F95A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C0E-65FA-4F6C-872C-28E6F83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D1F-5B8C-410B-BE3C-67BFC2DA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DC3-7E28-43C6-865E-6757A8C7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8FF-A747-40C5-93D3-9304792C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C9E2-4258-4137-9F77-948BEB9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707A-40AD-4424-9541-E52A361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FD98-6667-4797-9640-F3038831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0C42-A674-43A8-9DB8-0297ACF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DEFA-FB4F-4331-A5CC-57F6BBC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47B-ACF6-47EF-80C4-E87A4C9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955-D3AC-4438-891B-FE995B6D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1F9-7F45-4440-BF70-E9625C7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4A5C-0669-4BAE-97BA-D150897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4250-7176-42A0-AC58-7AA37387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675-7A85-452C-8D29-086A8146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2797-51FF-45AE-9105-2ECF55D2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DDB-42D6-4B5D-BCF2-7FEB79C6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050-FA33-4A76-8B6B-CC994BA3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AED-DF09-4072-942F-173A389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62D-D1EF-4A1B-B229-6AFB0B82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376-66E9-45D5-B540-522C291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FE4-4E13-490C-BF74-0C21358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767-4A35-4914-BA95-CE1BC87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2FB0-7C92-4E5B-9FD9-119FAC844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DDE-6618-4130-9E93-07C8C1D6F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56800" y="4568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40160"/>
            <a:ext cx="76294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68200"/>
            <a:ext cx="10286640" cy="446040"/>
            <a:chOff x="0" y="268200"/>
            <a:chExt cx="10286640" cy="446040"/>
          </a:xfrm>
        </p:grpSpPr>
        <p:sp>
          <p:nvSpPr>
            <p:cNvPr id="48" name=""/>
            <p:cNvSpPr/>
            <p:nvPr/>
          </p:nvSpPr>
          <p:spPr>
            <a:xfrm>
              <a:off x="0" y="268200"/>
              <a:ext cx="10286640" cy="44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820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0488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456840"/>
            <a:ext cx="87436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85560" y="3429000"/>
            <a:ext cx="36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43440" y="3562200"/>
            <a:ext cx="51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ffed Spinach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fresh spinach and feta che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Breadstick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eadsticks loaded with poppy seeds and sesame s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500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kes and Yogurt Sp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eamy spread served with your choice of whole-grain bread or cr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getable Stuffed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sun-dried tomatoes, asparagus, and broc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is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lled Cucumber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ol crisp salad with fresh dill and le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lapeno Corn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ck and moist with whole corn ker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tmeal Soda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uttermilk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1000" y="20574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ory Wild Rice So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d rice soup flavored with chestn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n and Chili Relis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nderful side to add to one of our sal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Bean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gumes marinated in balsamic vine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mus Pita Pock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wheat pita pocket filled with hummus and fresh veggies, seasoned with herbs and sp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Bean Chil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vory vegetarian chili of black beans and diced vegetables, served in a hollowed-out sourdough lo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4960" y="2057040"/>
            <a:ext cx="4457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ken with Pec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unky chicken served over a bed of wild rice, sprinkled with pecans and sliced p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Fruit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refreshing and colorful blend of seasonal fruit, served with a creamy yogurt to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4:08Z</dcterms:created>
  <dc:creator>Pat R. Graves</dc:creator>
  <dc:description/>
  <dc:language>en-US</dc:language>
  <cp:lastModifiedBy>Student name</cp:lastModifiedBy>
  <dcterms:modified xsi:type="dcterms:W3CDTF">2004-04-01T05:04:14Z</dcterms:modified>
  <cp:revision>72</cp:revision>
  <dc:subject/>
  <dc:title>Lunch Specials</dc:title>
</cp:coreProperties>
</file>