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commentAuthors.xml><?xml version="1.0" encoding="utf-8"?>
<p:cmAuthorLst xmlns:p="http://schemas.openxmlformats.org/presentationml/2006/main">
  <p:cmAuthor id="0" name="Pat Graves" initials="PG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<Relationship Id="rId1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4-03-27T20:44:10.250000000" idx="1">
    <p:pos x="10" y="10"/>
    <p:text>This would be better if "Good 4 U" was replaced with the logo, but I don't have it.</p:text>
  </p:cm>
</p:cmLst>
</file>

<file path=ppt/comments/comment2.xml><?xml version="1.0" encoding="utf-8"?>
<p:cmLst xmlns:p="http://schemas.openxmlformats.org/presentationml/2006/main">
  <p:cm authorId="0" dt="2004-03-27T20:44:43.171000000" idx="2">
    <p:pos x="10" y="10"/>
    <p:text>Each of these bullets could be expanded into a separate slide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09F-0119-4074-8085-A97FCC3A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64B8-A5A9-4C9B-BE8A-012DB655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E53-65BA-4E3C-80AA-C5CDA954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89D7-44C4-412C-A34F-CB9B2D2E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9574-1D4C-4543-9618-53FD8475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DEEF-9A69-4337-BF37-A51E7F27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8E26-3735-4270-A294-5C2BB362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2944-8231-4B9D-93A6-97AE844A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0CCC-D00A-4773-976D-D78A6608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5299-D12C-466B-B1BE-B293A10F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065E-99E4-42E3-93CC-28D6D257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FDA-C0E0-4537-AE91-069ABE20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7738-0959-4369-A43D-218BD7FE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7C26-3D7C-4438-B888-4C28B390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3DB0-8692-4E3A-8D81-7A02602A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A6F0-D7E2-4A61-B617-8ADEC729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84D6-CE06-4B74-B8A9-AD55D64C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EE2-1E9A-4C6E-8E30-6A9993ED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BF3-0F8B-473A-A3B5-C165BF23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9F4-5496-458C-8368-0157AE41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43F-840A-48A8-9E31-4FBB28D9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ECF-04D6-48E2-BC5C-09653DD6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193-8837-4C23-99A0-207AE6ED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00B-0057-4AF0-8BA8-7DA77F0F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506C-2387-4EAC-8769-7C03DE3984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0956-10E6-4D54-B541-72AC7D95CA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4 U Employee 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24000" y="2444760"/>
            <a:ext cx="676908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1c1c1c"/>
                  </a:solidFill>
                  <a:miter/>
                </a:ln>
                <a:solidFill>
                  <a:srgbClr val="3333cc"/>
                </a:solidFill>
                <a:effectLst>
                  <a:outerShdw dist="63504" dir="7616091" blurRad="0" rotWithShape="0">
                    <a:srgbClr val="1c1c1c"/>
                  </a:outerShdw>
                </a:effectLst>
                <a:latin typeface="Tahoma"/>
              </a:rPr>
              <a:t>Marketing Our Business</a:t>
            </a:r>
            <a:endParaRPr b="1" lang="en-US" sz="4800" spc="1" strike="noStrike">
              <a:ln w="12600">
                <a:solidFill>
                  <a:srgbClr val="1c1c1c"/>
                </a:solidFill>
                <a:miter/>
              </a:ln>
              <a:solidFill>
                <a:srgbClr val="3333cc"/>
              </a:solidFill>
              <a:effectLst>
                <a:outerShdw dist="63504" dir="7616091" blurRad="0" rotWithShape="0">
                  <a:srgbClr val="1c1c1c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ments of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of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Is About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ct employees and gu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 the best from yourself and our sta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We Market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foo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merchand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Sta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ff courte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er 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pt me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erful att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5T19:51:12Z</dcterms:created>
  <dc:creator>Pat R. Graves</dc:creator>
  <dc:description/>
  <dc:language>en-US</dc:language>
  <cp:lastModifiedBy>Pat Graves</cp:lastModifiedBy>
  <cp:lastPrinted>1997-05-23T15:21:30Z</cp:lastPrinted>
  <dcterms:modified xsi:type="dcterms:W3CDTF">2004-03-28T02:44:54Z</dcterms:modified>
  <cp:revision>23</cp:revision>
  <dc:subject/>
  <dc:title>Marketing Our Restaurant</dc:title>
</cp:coreProperties>
</file>