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eviewer 2" initials="R2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31T17:38:13.921000000" idx="1">
    <p:pos x="10" y="10"/>
    <p:text>Please change the font to Comic Sans MS because we need a more relaxed font for this summertime theme.</p:text>
  </p:cm>
</p:cmLst>
</file>

<file path=ppt/comments/comment3.xml><?xml version="1.0" encoding="utf-8"?>
<p:cmLst xmlns:p="http://schemas.openxmlformats.org/presentationml/2006/main">
  <p:cm authorId="0" dt="2004-03-31T17:38:38.578000000" idx="2">
    <p:pos x="10" y="10"/>
    <p:text>I don't like the chicken and potato salad entree.</p:text>
  </p:cm>
</p:cmLst>
</file>

<file path=ppt/comments/comment4.xml><?xml version="1.0" encoding="utf-8"?>
<p:cmLst xmlns:p="http://schemas.openxmlformats.org/presentationml/2006/main">
  <p:cm authorId="0" dt="2004-03-31T17:38:51.640000000" idx="3">
    <p:pos x="10" y="10"/>
    <p:text>The last dessert needs a jazzier nam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2E2-16CD-4EA1-81F7-2F4BF9FD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CAA-DE55-40A0-B2BD-06BFA127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D57-745E-4BB8-BEBB-E25DCEC7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73D-1B77-43CD-B917-83BE7FA1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50A4-2612-4326-B026-96BA3031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A4EE-A7FE-4015-958A-CE5DB152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721B-4A4F-4E40-94A1-3C7CB6D3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0BEC-FA09-4D59-A5F7-8D34C871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973F-B6D1-4BF3-A499-52F2DEA6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4442-BF3F-4D55-80AA-B5D7082E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E906-487A-4339-BE80-0F87F8B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14E-52CC-4E18-BFF1-DDEF089F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1BDC-B2C4-4258-A7F0-1751F43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D5DE-89E2-4A32-A847-FF542BA7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D355-DBF9-4831-89B5-29B136E2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900A-C7CC-47FF-AC7C-415E0A22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75B0-C7EA-4488-AAC5-D5B84FE4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4E7-0B82-4CA1-B7BE-270F0CDE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AE1-E677-4F4F-9CDC-BC8B9793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4A6-97D4-4B31-A81F-3DFCD7CC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077-39CD-4F90-88CE-4F526F9C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C05-6BAE-4BF1-9A97-CD204A04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BC1-910F-4793-BF13-AF46EBF0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443-83FC-4AB8-9061-5E723112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9F44-A014-4201-91AA-E2EC65BA8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B1DB-16FF-4427-947A-E50DFE08E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cken and Potato Sal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cold in a baked taco shell with plenty of lettuce and veggi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lie’s Cherry Jubilee Pud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Reviewer 2</cp:lastModifiedBy>
  <dcterms:modified xsi:type="dcterms:W3CDTF">2004-03-31T23:39:40Z</dcterms:modified>
  <cp:revision>7</cp:revision>
  <dc:subject/>
  <dc:title>Summertime Samples</dc:title>
</cp:coreProperties>
</file>