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288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B2B1-F52D-433C-BA90-BB747AE2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8CAD-074D-4DB5-96EF-9E71092C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3539-39CA-47C0-BC49-7126066C7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42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44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0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42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44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A010-4E46-440D-8519-2A72266F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AE3D-4D51-4A9F-9B0E-9DC9E9E8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4B5C-1FF0-4051-8CA1-2E8B2E68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6CF5-2BC9-4128-AC45-33C87D71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4CF3-A7FE-4277-9443-2028A89F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3302-04F4-44E3-A18A-442BF25E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42720" y="-36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A4BA-50AA-4129-945C-4C8C8849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16B4-2797-42BF-BEEF-F66F0E05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E4B9-C3D7-43F2-8DFA-3BB61448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B6A8-4320-449B-AB5E-DA5ACB3A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1AE9-86D0-4245-ABCD-8C415827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5744-F2BF-4400-82EC-A1CFAA02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640F-D6E1-462B-90D0-D8E248A2B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442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7744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40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442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7744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35E5-7B84-403C-B1C3-8F236BD8D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9AA6-6524-400D-82BA-6BB420B3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E168-D904-4F99-9D6B-2DE817AC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3CB7-B5A8-422E-BA40-00C3B194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2720" y="-36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A7D2-A354-4AD4-B05B-238B9741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94C5-6572-49F6-8BA3-587B2BFE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559D-2A2C-4539-917F-86661574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C946-C2A7-495E-BE4A-CD761B1A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2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14080" y="624852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2289-5D49-44C0-AD18-8D3E3BCDAC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1028700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2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514080" y="624852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7372080" y="624852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3B19-7033-466E-84E3-866E429C28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856800" y="456840"/>
            <a:ext cx="8744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540160"/>
            <a:ext cx="762948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268200"/>
            <a:ext cx="10286640" cy="446040"/>
            <a:chOff x="0" y="268200"/>
            <a:chExt cx="10286640" cy="446040"/>
          </a:xfrm>
        </p:grpSpPr>
        <p:sp>
          <p:nvSpPr>
            <p:cNvPr id="48" name=""/>
            <p:cNvSpPr/>
            <p:nvPr/>
          </p:nvSpPr>
          <p:spPr>
            <a:xfrm>
              <a:off x="0" y="268200"/>
              <a:ext cx="10286640" cy="446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68200"/>
              <a:ext cx="10286640" cy="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704880"/>
              <a:ext cx="10286640" cy="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2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3080" y="456840"/>
            <a:ext cx="874368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unch Specials</a:t>
            </a:r>
            <a:endParaRPr b="1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85560" y="3429000"/>
            <a:ext cx="360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4 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843440" y="3562200"/>
            <a:ext cx="51274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2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ppetizer Special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057400"/>
            <a:ext cx="4832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uffed Spinach Brea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hole-grain bread overstuffed with fresh spinach and feta che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nch Breadstick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readsticks loaded with poppy seeds and sesame se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75000" y="2057400"/>
            <a:ext cx="4832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kes and Yogurt Sprea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2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reamy spread served with your choice of whole-grain bread or crack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2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getable Stuffed Brea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2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hole-grain bread overstuffed with sun-dried tomatoes, asparagus, and brocco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2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de Dish Special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18680" y="2057040"/>
            <a:ext cx="4629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lled Cucumber Sala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ool crisp salad with fresh dill and lem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alapeno Cornbrea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ick and moist with whole corn ker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atmeal Soda Brea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hole-grain buttermilk b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91000" y="2057400"/>
            <a:ext cx="4896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dec" pos="383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ory Wild Rice Sou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7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83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d rice soup flavored with chestnu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83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dec" pos="383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n and Chili Relis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83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onderful side to add to one of our sala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83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dec" pos="383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 Bean Sala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83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Legumes marinated in balsamic vineg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2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unch Special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18680" y="2057040"/>
            <a:ext cx="462924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mmus Pita Pocke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hole-wheat pita pocket filled with hummus and fresh veggies, seasoned with herbs and sp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lack Bean Chili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avory vegetarian chili of black beans and diced vegetables, served in a hollowed-out sourdough loa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04960" y="2057040"/>
            <a:ext cx="44578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icken with Peca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83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hunky chicken served over a bed of wild rice, sprinkled with pecans and sliced peac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283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sh Fruit Sala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83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 refreshing and colorful blend of seasonal fruit, served with a creamy yogurt to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05:04:08Z</dcterms:created>
  <dc:creator>Pat R. Graves</dc:creator>
  <dc:description/>
  <dc:language>en-US</dc:language>
  <cp:lastModifiedBy>Student name</cp:lastModifiedBy>
  <dcterms:modified xsi:type="dcterms:W3CDTF">2004-04-01T05:04:14Z</dcterms:modified>
  <cp:revision>72</cp:revision>
  <dc:subject/>
  <dc:title>Lunch Specials</dc:title>
</cp:coreProperties>
</file>