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0672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29040" y="-1800"/>
            <a:ext cx="300672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91AF581-49B3-4BB8-80DD-29098AC6C540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1440" y="8796240"/>
            <a:ext cx="30067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29040" y="8796240"/>
            <a:ext cx="30067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62BE3A2-F9FC-4D29-AF2F-83F4F584F6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rketing Strategy Meeting was called to order on Monday, November 8, 2004, at 1:15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generally agreed that there are too many areas targeted in the current marketing strategy and that items will be prioritized to create a stronger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: Jane Kry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: 1/25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trategy for targeting potential customers' health conscious inte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: Eric D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 2/7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questionnaire to determine customers' food preferences and develop a plan for doing a surv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208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398480"/>
            <a:ext cx="508644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: Michael P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e: 3/14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the high costs associated with the Miami operation and develop a cost-containment plan for Mi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6E4-2AD3-47FA-B978-D303ACEC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68F-5A8E-4E8B-A932-8E232C97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A8D-967D-4956-B807-FA639AC6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5AF-A893-4E45-A5A2-791A6B04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47E4-287F-45F7-9D8E-C71FDBDD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6B85-0EA1-458A-BC10-6A84433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81C9-01BD-47CA-8850-59CCA7D4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2AED-1812-4EFE-8935-35628E5F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72FF-9847-41E7-9DC7-F545DBBE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5808-B347-4799-8F55-557C17D5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126A-6E0F-4EE9-86EB-D5FCF79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E7E-D5D7-4D98-B49F-ACF6087B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BFC8-5433-432D-BEED-0CF2DD8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49C7-F42D-4938-861A-2C093F1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7BD1-5DEB-4FD8-A7FE-3A994B3B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20E1-23DC-4C9A-9442-15548BB4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E9EF-E812-483D-8150-283A1124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7A6-3620-4CB8-88E6-D50CD60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1D7-89C9-4101-BC7D-84D79815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096-F287-4A55-9AFA-F7A1993C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DDF-95DF-4538-974B-DA5561F5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999-E82E-49B5-98C6-CEB24C23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382-1705-483F-907A-5BB58679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AC2-622A-4CC1-B897-6E77F23E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F8F-BB5C-4477-90B1-A97E3288EFAA}" type="slidenum">
              <a:rPr b="0" lang="en-US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21F7-DC72-4975-894E-6F79B126C60C}" type="slidenum">
              <a:rPr b="0" lang="en-US" sz="2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Marketing Strategy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962160"/>
            <a:ext cx="61023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ood 4 U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468600"/>
            <a:ext cx="4876560" cy="32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ek potential investor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vestigate the firm Marketing Strategic Management System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esearch the World Wide Web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ustomer Requirement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arget health-conscious area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tudy traffic patterns in selected area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view potential customer base for food preferen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nterview potential customer base for sports preferenc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Meeting the Need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Use customer interview results to develop menu plan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lect a location with the greatest exposur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Use customer interview results to develop interior sports design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60009"/>
                </a:solidFill>
                <a:latin typeface="Arial"/>
              </a:rPr>
              <a:t>Cost Analysis</a:t>
            </a:r>
            <a:endParaRPr b="1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Miami costs have soared in the 3rd quarter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New York costs have remained steady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57600" y="1925640"/>
          <a:ext cx="5257800" cy="439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925640"/>
                    <a:ext cx="525780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Student name</cp:lastModifiedBy>
  <cp:lastPrinted>1996-12-06T17:08:44Z</cp:lastPrinted>
  <dcterms:modified xsi:type="dcterms:W3CDTF">2004-04-01T04:06:42Z</dcterms:modified>
  <cp:revision>36</cp:revision>
  <dc:subject/>
  <dc:title>Marketing Strategy</dc:title>
</cp:coreProperties>
</file>