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c395e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94BA-E2C8-47D7-A117-56009085E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72B9-1064-4431-AE9C-9E845BC72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y Olafsen will take care of convention details, including room reservations for all attendees. Due date--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and her staff will take care of food preparation issues, including ordering food and arranging for kitchen equipment. Due date: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nu change is required. The Chicken and Potato Salad did not get good test reviews. Replace it with Black Bean Chicken Sal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will test. Due date three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--Do we hve enough refrigerator sp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A6D-A312-49BE-92B9-C76F1737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CEA-218C-4ED1-A742-56293B35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B97-54DB-4C75-898C-64C3FDEA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00F-2D8F-496F-A63B-2FB66D71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294F-462A-4441-9F1C-B04A37DA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1CB3-F6AD-46F1-966C-F50C7135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687D-DF22-4567-95D6-9680A56A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AA49-55C2-456E-AE3A-AD2B8EA0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E2D2-DA3B-4276-90F2-23F72923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1EBE-E39F-4A1D-8CDA-B7082980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EEBB-FD39-4508-B67F-E432A9ED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1D2-F0BA-4F2D-B8FD-848449EF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C149-0EC8-4C6B-A4E9-D7EDFA04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5425-5DEF-420D-9FC1-922A62B4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DB12-6947-4B07-A2CD-C72F5449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06A4-6D53-4ADC-9B04-09F51F96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2345-A07B-4EC4-9DDD-0E6F4442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141-1702-4E07-BB37-C14988E7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0E2-F545-4414-A898-E57D4CCA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EA4-5315-4E50-B492-E54B9693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19C-794F-439B-AB94-0B6CA132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2E5-4BE1-4F8B-91C1-32BF2165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3AF-86CD-4899-9990-D9B8C95D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0F1-E480-404F-BE62-1509C11D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16292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c395e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1440"/>
            <a:ext cx="7543800" cy="381240"/>
          </a:xfrm>
          <a:prstGeom prst="rect">
            <a:avLst/>
          </a:prstGeom>
          <a:gradFill rotWithShape="0">
            <a:gsLst>
              <a:gs pos="0">
                <a:srgbClr val="a1da56"/>
              </a:gs>
              <a:gs pos="100000">
                <a:srgbClr val="7aa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c395e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382680"/>
            <a:ext cx="7543800" cy="75960"/>
          </a:xfrm>
          <a:prstGeom prst="rect">
            <a:avLst/>
          </a:prstGeom>
          <a:gradFill rotWithShape="0">
            <a:gsLst>
              <a:gs pos="0">
                <a:srgbClr val="fee168"/>
              </a:gs>
              <a:gs pos="100000">
                <a:srgbClr val="dac1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2c395e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665360" y="0"/>
            <a:ext cx="747864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1916280"/>
            <a:ext cx="6858000" cy="4941720"/>
          </a:xfrm>
          <a:custGeom>
            <a:avLst/>
            <a:gdLst/>
            <a:ahLst/>
            <a:rect l="l" t="t" r="r" b="b"/>
            <a:pathLst>
              <a:path w="4320" h="3264">
                <a:moveTo>
                  <a:pt x="0" y="3264"/>
                </a:moveTo>
                <a:lnTo>
                  <a:pt x="0" y="0"/>
                </a:lnTo>
                <a:lnTo>
                  <a:pt x="4320" y="0"/>
                </a:lnTo>
              </a:path>
            </a:pathLst>
          </a:custGeom>
          <a:noFill/>
          <a:ln w="9360">
            <a:solidFill>
              <a:srgbClr val="fee1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c395e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652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c395e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0336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c395e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34144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c395e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1798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c395e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700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2" marL="1193760" indent="-228600">
              <a:spcBef>
                <a:spcPts val="700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CD9C-DEBA-4257-82C3-49A39F1FB911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352680"/>
            <a:ext cx="5781600" cy="149040"/>
            <a:chOff x="0" y="3352680"/>
            <a:chExt cx="5781600" cy="149040"/>
          </a:xfrm>
        </p:grpSpPr>
        <p:sp>
          <p:nvSpPr>
            <p:cNvPr id="51" name=""/>
            <p:cNvSpPr/>
            <p:nvPr/>
          </p:nvSpPr>
          <p:spPr>
            <a:xfrm>
              <a:off x="0" y="343836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fee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c395e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523880" y="3352680"/>
              <a:ext cx="2663640" cy="149040"/>
              <a:chOff x="1523880" y="3352680"/>
              <a:chExt cx="2663640" cy="14904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c395e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6196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c395e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04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c395e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0384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c395e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BEBC-60DE-40BC-8D94-B331D0B0BF62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2438280"/>
            <a:chOff x="0" y="0"/>
            <a:chExt cx="9144000" cy="243828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243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c395e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600200" y="0"/>
              <a:ext cx="7543800" cy="458640"/>
              <a:chOff x="1600200" y="0"/>
              <a:chExt cx="7543800" cy="458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00200" y="1440"/>
                <a:ext cx="7543800" cy="380880"/>
              </a:xfrm>
              <a:prstGeom prst="rect">
                <a:avLst/>
              </a:prstGeom>
              <a:gradFill rotWithShape="0">
                <a:gsLst>
                  <a:gs pos="0">
                    <a:srgbClr val="a1da56"/>
                  </a:gs>
                  <a:gs pos="100000">
                    <a:srgbClr val="7aa5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c395e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00200" y="382320"/>
                <a:ext cx="7543800" cy="76320"/>
              </a:xfrm>
              <a:prstGeom prst="rect">
                <a:avLst/>
              </a:prstGeom>
              <a:gradFill rotWithShape="0">
                <a:gsLst>
                  <a:gs pos="0">
                    <a:srgbClr val="fee168"/>
                  </a:gs>
                  <a:gs pos="100000">
                    <a:srgbClr val="dac1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c395e"/>
                  </a:solidFill>
                  <a:latin typeface="Arial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5360" y="0"/>
                <a:ext cx="7478640" cy="31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lvl="2" marL="914400" indent="50760" algn="ctr">
              <a:spcBef>
                <a:spcPts val="499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ummertime Sample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3880" y="3654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od Sample Planning Sess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r the Annual Franchise Convent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o be held in Minneapoli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76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tizer Spec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Mango Suprem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almon Tidbit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Tiny open-face salmon sandwich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ruity Chicke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dden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Cou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ex-Mex Tofu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tofu slices with low-fat barbecue sauce, jalapenos, black beans, and Julie’s special spic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hicken and Potato Salad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cold in a baked taco shell with plenty of lettuce and veggi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Swordfish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in a light dill sauce with wild ri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se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Papaya Sunda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Icy papaya sherbet served with raspberry yogurt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Bananas and Peache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Bananas and peaches wrapped in soft taco shells, grilled, and topped with vanilla yogurt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Rice Pudding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Julie’s unique low-fat pudding, served warm with cherry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06:58:52Z</dcterms:created>
  <dc:creator>Pat R. Graves</dc:creator>
  <dc:description/>
  <dc:language>en-US</dc:language>
  <cp:lastModifiedBy>Pat Graves</cp:lastModifiedBy>
  <dcterms:modified xsi:type="dcterms:W3CDTF">2004-03-27T06:58:53Z</dcterms:modified>
  <cp:revision>34</cp:revision>
  <dc:subject/>
  <dc:title>Summertime Samples</dc:title>
</cp:coreProperties>
</file>