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0" y="7005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r>
              <a:rPr b="1" lang="en-US" sz="5400" spc="-1" strike="noStrike">
                <a:solidFill>
                  <a:srgbClr val="660033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79040"/>
            <a:ext cx="54860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Roy Olafsen, Marketing Manager, opened the meeting at 2:00 p.m. on October 4, 2004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ction item: Research reservation policy studies on the Web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ssigned to: Evan Johnso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Due date: October 25, 200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ction item: Create a chart detailing seating capacity and turnaround time for each restaurant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ssigned to: Lila Nelso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Due date: November 1, 200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 heated discussion took place concerning the advantages and disadvantages of a reservations policy. Everyone agreed to put the reservations policy on hold for six months pending further feasibility studie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939-7174-43C9-A67B-90DFC690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FA7-115F-48D3-9712-58C74F3A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84F-0553-42E0-B5FA-71CB8375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5EB-1C30-41FF-8DA3-1017275F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F75F-D7D5-4AF7-95C2-F5316FD9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2136-8D53-421E-8587-139FFA87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5181-A3E7-4956-ABC1-CAC4B287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DA84-0FB8-4F24-BFB6-3CBF4D84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D05A-C4DA-4D8B-B448-F019FBEB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C7EE-5847-4A6B-B2B2-414F50B2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1800-00F4-4394-BB3C-C53241DD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286-09D2-4EFA-9E7B-FFC16D2E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E4E2-A1B0-4F38-8C8A-0BABC14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F860-0690-4E73-B883-061464D7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9D10-578F-4E72-8543-2B68FCC6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2FCF-5627-44B7-8CD7-78D098E1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289F-16E3-48EC-B1B4-8C4A38DA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923-61E6-42D6-B3D0-862BB67F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B42-C204-4845-877D-458B545F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1D1-2626-4040-8D00-9E067F4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64C-7437-4519-A21A-2F51CB55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872-AF9E-4EB3-8B28-829BB5F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68F-2755-4396-9A97-EE89AEF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66D-1540-47C3-BF14-C11CD31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5d6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595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c5d69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534D-330D-45FB-82B9-2BA90E7077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595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595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595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5d6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595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A202-CEDC-41C8-BC9A-6C68CB08DB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575"/>
              </a:spcBef>
              <a:buClr>
                <a:srgbClr val="c5d69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rebuchet MS"/>
              </a:rPr>
              <a:t>Operations 2004</a:t>
            </a:r>
            <a:endParaRPr b="1" lang="en-US" sz="5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ervations Poli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12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Reservations Policy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taurant currently accepts no reserv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nagement considering instituting reservations poli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urrently receive steady reservation requests, especially for dinn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Reservations: Advantages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management to control volume more efficientl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feature of higher-caliber restaura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Reservations: Disadvantages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feres with image of casual di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y alienate steady custom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t known how it would affect walk-in traffi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22:50Z</dcterms:created>
  <dc:creator>Pat R. Graves</dc:creator>
  <dc:description/>
  <dc:language>en-US</dc:language>
  <cp:lastModifiedBy>Pat Graves</cp:lastModifiedBy>
  <cp:lastPrinted>1997-10-13T15:32:24Z</cp:lastPrinted>
  <dcterms:modified xsi:type="dcterms:W3CDTF">2004-03-31T21:09:10Z</dcterms:modified>
  <cp:revision>36</cp:revision>
  <dc:subject/>
  <dc:title>Reservations Policy</dc:title>
</cp:coreProperties>
</file>