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commentAuthors.xml><?xml version="1.0" encoding="utf-8"?>
<p:cmAuthorLst xmlns:p="http://schemas.openxmlformats.org/presentationml/2006/main">
  <p:cmAuthor id="0" name="Pat Graves" initials="PG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27T20:44:10.250000000" idx="1">
    <p:pos x="10" y="10"/>
    <p:text>This would be better if "Good 4 U" was replaced with the logo, but I don't have it.</p:text>
  </p:cm>
  <p:cm authorId="0" dt="2004-03-27T20:38:00.687000000" idx="2">
    <p:pos x="123" y="123"/>
    <p:text>I found the Logo1 picture file and inserted it.
I hope you like the colors I used.</p:text>
  </p:cm>
</p:cmLst>
</file>

<file path=ppt/comments/comment3.xml><?xml version="1.0" encoding="utf-8"?>
<p:cmLst xmlns:p="http://schemas.openxmlformats.org/presentationml/2006/main">
  <p:cm authorId="0" dt="2004-03-27T20:39:47.484000000" idx="3">
    <p:pos x="10" y="10"/>
    <p:text>This slide would be more effective if a picture of happy people was insert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B3A-0AD6-4C03-8C03-9F74F47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305-0D9E-43A5-B816-6B2BEB3F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CAE-EB46-4E56-BCF3-B15AB444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776-1D33-4D72-8E50-BB10A619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C2FD-E669-4BB1-AFC4-D849F660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F68-4B43-4C5D-A6A0-99177F32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C91-C45B-49F2-86D2-C11C400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2B99-4C75-4868-87C3-0CC01DE5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E02-345C-459D-A0DD-1F69930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DDD-5C6C-4ABB-AB6D-450B8878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3071-B82D-4D96-B8B6-B77C55B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41D-9A2E-4A1E-B4F8-267D3079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5D4-877D-4FDD-A1DC-FF9CD46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8EEA-64E2-47DC-97F6-E3B0256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2A0-AA54-4D63-A927-4C6159C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34D3-9FD5-43B5-8059-CDFDC63F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9614-76B1-46A8-A692-E7A7FD72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659-54B0-477D-BF3B-8306E9C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B94-7559-4601-9FBF-46ABFE7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F91-D3AC-4DD1-8623-B0B5E155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C90-4D52-4361-95FE-EED3677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E2E-8745-47B8-8EC6-CBF6EB7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C8B-E732-47DB-91C3-B459FF7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52C-FFA1-484F-A9E7-6DADE4D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C8C-ACEE-4963-8DA9-682C70FD55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2C8-3328-4ED1-B437-4CBD4786F4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40000" y="5049720"/>
            <a:ext cx="64008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24000" y="2444760"/>
            <a:ext cx="67690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1c1c1c"/>
                  </a:solidFill>
                  <a:miter/>
                </a:ln>
                <a:solidFill>
                  <a:srgbClr val="3333cc"/>
                </a:solidFill>
                <a:effectLst>
                  <a:outerShdw dist="63504" dir="7616091" blurRad="0" rotWithShape="0">
                    <a:srgbClr val="1c1c1c"/>
                  </a:outerShdw>
                </a:effectLst>
                <a:latin typeface="Tahoma"/>
              </a:rPr>
              <a:t>Marketing Our Business</a:t>
            </a:r>
            <a:endParaRPr b="1" lang="en-US" sz="4800" spc="1" strike="noStrike">
              <a:ln w="12600">
                <a:solidFill>
                  <a:srgbClr val="1c1c1c"/>
                </a:solidFill>
                <a:miter/>
              </a:ln>
              <a:solidFill>
                <a:srgbClr val="3333cc"/>
              </a:solidFill>
              <a:effectLst>
                <a:outerShdw dist="63504" dir="7616091" blurRad="0" rotWithShape="0">
                  <a:srgbClr val="1c1c1c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00360" y="3860640"/>
            <a:ext cx="1871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g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erful 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3:42:50Z</dcterms:modified>
  <cp:revision>24</cp:revision>
  <dc:subject/>
  <dc:title>Marketing Our Restaurant</dc:title>
</cp:coreProperties>
</file>