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534-5615-4D6E-B87C-D103F7F5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7BA-283B-4964-9C34-C4C8E468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813-A46B-4069-A9BB-4000E2C9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9C9-0533-4999-BC1E-D02C9F22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FD0F-ED2D-45B7-8E1E-4C73C70A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2B01-AA10-4975-B266-A1A8310B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2951-5E89-4E3F-8D77-5F685FB8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FAA1-2668-4788-BD6A-60CF44A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46B4-0E64-4F99-B988-C4B34FF7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F6F6-4CF1-4B73-8122-4D0FA391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65F4-997E-41FE-8288-A23E2375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B59-1A5C-4A7F-ABDB-5C8AA8E2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CD85-4F4A-486C-8C49-FD4865D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648C-84AD-423F-B115-7942FF4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B648-A8C3-4E3D-B89C-5566E8CA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8618-E17F-4E9B-9529-E84F12C3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7906-1C89-4718-9A70-626A5110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E5E-6F11-458D-B8F5-47C5001E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741-F4BE-440C-8BE1-413BB863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B07-70F2-49F7-916C-EF6AE331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354-F97D-462C-AEFE-03F7D428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8E8-1F18-4079-B8B4-05BEA38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0B7-73D2-4E2E-9597-78224F9D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274-086A-40D9-8EC0-6CB65B36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C00-EA06-4D00-9E5E-F5B7F2BEB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B610-A1B3-44CB-A146-8D129B3A8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602080" y="4975200"/>
            <a:ext cx="3956040" cy="1494000"/>
            <a:chOff x="2602080" y="4975200"/>
            <a:chExt cx="3956040" cy="1494000"/>
          </a:xfrm>
        </p:grpSpPr>
        <p:sp>
          <p:nvSpPr>
            <p:cNvPr id="100" name=""/>
            <p:cNvSpPr/>
            <p:nvPr/>
          </p:nvSpPr>
          <p:spPr>
            <a:xfrm>
              <a:off x="2602080" y="4975200"/>
              <a:ext cx="3956040" cy="1494000"/>
            </a:xfrm>
            <a:custGeom>
              <a:avLst/>
              <a:gdLst>
                <a:gd name="textAreaLeft" fmla="*/ 902880 w 3956040"/>
                <a:gd name="textAreaRight" fmla="*/ 3053160 w 3956040"/>
                <a:gd name="textAreaTop" fmla="*/ 340920 h 1494000"/>
                <a:gd name="textAreaBottom" fmla="*/ 1153080 h 14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718080" y="5367240"/>
              <a:ext cx="171288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 Salad and Tomato W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cold on Romaine lettuce with shredded carrots and cele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Pu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Reviewer 1</cp:lastModifiedBy>
  <dcterms:modified xsi:type="dcterms:W3CDTF">2004-03-31T23:12:28Z</dcterms:modified>
  <cp:revision>7</cp:revision>
  <dc:subject/>
  <dc:title>Summertime Samples</dc:title>
</cp:coreProperties>
</file>