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comments/comment1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eviewer 2" initials="R2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<Relationship Id="rId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31T17:38:13.921000000" idx="1">
    <p:pos x="10" y="10"/>
    <p:text>Please change the font to Comic Sans MS because we need a more relaxed font for this summertime theme.</p:text>
  </p:cm>
</p:cmLst>
</file>

<file path=ppt/comments/comment3.xml><?xml version="1.0" encoding="utf-8"?>
<p:cmLst xmlns:p="http://schemas.openxmlformats.org/presentationml/2006/main">
  <p:cm authorId="0" dt="2004-03-31T17:38:38.578000000" idx="2">
    <p:pos x="10" y="10"/>
    <p:text>I don't like the chicken and potato salad entree.</p:text>
  </p:cm>
</p:cmLst>
</file>

<file path=ppt/comments/comment4.xml><?xml version="1.0" encoding="utf-8"?>
<p:cmLst xmlns:p="http://schemas.openxmlformats.org/presentationml/2006/main">
  <p:cm authorId="0" dt="2004-03-31T17:38:51.640000000" idx="3">
    <p:pos x="10" y="10"/>
    <p:text>The last dessert needs a jazzier name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425-58A9-46C6-A87F-FF28C82F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B0FD-7D58-4AF5-9602-3D513B58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D27-CF85-42FE-ACFE-5E095E42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6E1-89A4-4B43-B939-0B8729B2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E31B-1E45-40B6-921D-3A90EA64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B4A9-64C6-4760-A1DD-762C2E57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1C9E-CCAA-4E2B-84FD-8F699CC3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248C-1AE1-4B26-8681-D68FB2E1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571D-1163-4DEF-9055-432BC935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5AC4-FC4C-46D5-B1C4-DFEABBDF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B109-A8A7-45BE-A3F4-2E3B1C53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D08-D1D4-4855-88B6-7343523B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B3B3-9D4C-43A8-95D4-5A329939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C171-1FE3-444B-8D09-EE696BC9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63E3-E75E-4FD2-BEB8-69E1E4E1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369C-9409-4F8B-AA08-3DF4611E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6317-C7D3-4D8A-B902-13CA9506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03F-3909-4E9D-A3E2-D407FFAB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52E-5E2B-4341-B2D4-C320119F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422-32AA-443C-95C7-DC24CAA7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FF83-1448-4A6D-96D8-A27046A9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C77-CA83-4BDB-AC78-753B1852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644-0A68-41DF-ADB7-615D0DFC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FA7-EDB3-4704-9212-BF734646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FB3F-7136-4CA9-A76A-3BF4106C1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3520" y="123840"/>
            <a:ext cx="8076960" cy="1432080"/>
            <a:chOff x="533520" y="123840"/>
            <a:chExt cx="8076960" cy="1432080"/>
          </a:xfrm>
        </p:grpSpPr>
        <p:grpSp>
          <p:nvGrpSpPr>
            <p:cNvPr id="6" name=""/>
            <p:cNvGrpSpPr/>
            <p:nvPr/>
          </p:nvGrpSpPr>
          <p:grpSpPr>
            <a:xfrm>
              <a:off x="533520" y="123840"/>
              <a:ext cx="8076960" cy="157320"/>
              <a:chOff x="533520" y="123840"/>
              <a:chExt cx="8076960" cy="157320"/>
            </a:xfrm>
          </p:grpSpPr>
          <p:sp>
            <p:nvSpPr>
              <p:cNvPr id="7" name=""/>
              <p:cNvSpPr/>
              <p:nvPr/>
            </p:nvSpPr>
            <p:spPr>
              <a:xfrm>
                <a:off x="538200" y="123840"/>
                <a:ext cx="8072280" cy="157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8108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33520" y="1398600"/>
              <a:ext cx="8076960" cy="157320"/>
              <a:chOff x="533520" y="1398600"/>
              <a:chExt cx="8076960" cy="157320"/>
            </a:xfrm>
          </p:grpSpPr>
          <p:sp>
            <p:nvSpPr>
              <p:cNvPr id="10" name=""/>
              <p:cNvSpPr/>
              <p:nvPr/>
            </p:nvSpPr>
            <p:spPr>
              <a:xfrm>
                <a:off x="538200" y="139860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33520" y="145584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ED62-E7E3-46A5-A374-31C38EA33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7129440" cy="1746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33520" y="1981080"/>
            <a:ext cx="8076960" cy="1865520"/>
            <a:chOff x="533520" y="1981080"/>
            <a:chExt cx="8076960" cy="1865520"/>
          </a:xfrm>
        </p:grpSpPr>
        <p:grpSp>
          <p:nvGrpSpPr>
            <p:cNvPr id="54" name=""/>
            <p:cNvGrpSpPr/>
            <p:nvPr/>
          </p:nvGrpSpPr>
          <p:grpSpPr>
            <a:xfrm>
              <a:off x="533520" y="1981080"/>
              <a:ext cx="8076960" cy="157320"/>
              <a:chOff x="533520" y="1981080"/>
              <a:chExt cx="8076960" cy="157320"/>
            </a:xfrm>
          </p:grpSpPr>
          <p:sp>
            <p:nvSpPr>
              <p:cNvPr id="55" name=""/>
              <p:cNvSpPr/>
              <p:nvPr/>
            </p:nvSpPr>
            <p:spPr>
              <a:xfrm>
                <a:off x="538200" y="198108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3520" y="20383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33520" y="3689280"/>
              <a:ext cx="8076960" cy="157320"/>
              <a:chOff x="533520" y="3689280"/>
              <a:chExt cx="8076960" cy="157320"/>
            </a:xfrm>
          </p:grpSpPr>
          <p:sp>
            <p:nvSpPr>
              <p:cNvPr id="58" name=""/>
              <p:cNvSpPr/>
              <p:nvPr/>
            </p:nvSpPr>
            <p:spPr>
              <a:xfrm>
                <a:off x="538200" y="3689280"/>
                <a:ext cx="8072280" cy="157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33520" y="37465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Comic Sans MS"/>
              </a:rPr>
              <a:t>Summertime Samples</a:t>
            </a:r>
            <a:endParaRPr b="1" lang="en-US" sz="48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lightful New Culinary Trea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Appetizer Specials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go Supre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ipe mango slices served on a bed of lettuce and topped with raspberry vinaigrette dressing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lmon Tidb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iny open-face salmon sandwiches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uity Chick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rilled chicken strips with fresh orange and pineapple slice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The Main Course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x-Mex Tof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rilled tofu slices with low-fat barbecue sauce, jalapenos, black beans, and Julie’s special spices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icken and Potato Sal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erved cold in a baked taco shell with plenty of lettuce and veggies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illed Swordf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erved in a light dill sauce with wild rice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Desserts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paya Sunda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cy papaya sherbet served with raspberry yogurt sauce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illed Bananas and Peac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Bananas and peaches wrapped in soft taco shells, grilled, and topped with vanilla yogurt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lie’s Cherry Jubilee Pud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Julie’s unique low-fat pudding, served warm with cherry sauce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24:27Z</dcterms:created>
  <dc:creator>Pat R. Graves</dc:creator>
  <dc:description/>
  <dc:language>en-US</dc:language>
  <cp:lastModifiedBy>Reviewer 2</cp:lastModifiedBy>
  <dcterms:modified xsi:type="dcterms:W3CDTF">2004-03-31T23:39:40Z</dcterms:modified>
  <cp:revision>7</cp:revision>
  <dc:subject/>
  <dc:title>Summertime Samples</dc:title>
</cp:coreProperties>
</file>