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2c395e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02951-6FD4-420E-9447-053A798B960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1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2AEA3-3136-4216-BA8F-A9A40FEE85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y Olafsen will take care of convention details, including room reservations for all attendees. Due date--one wee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chele Jenkins and her staff will take care of food preparation issues, including ordering food and arranging for kitchen equipment. Due date: two week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menu change is required. The Chicken and Potato Salad did not get good test reviews. Replace it with Black Bean Chicken Sala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chele Jenkins will test. Due date three week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--Do we have enough refrigerator spac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773D9-0980-46F2-A7DF-18E74C794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3352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CA2B1-EA7A-48C6-94F4-56A62679E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3352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162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67FDF-CC80-4BA3-AB6E-125818171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6152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78916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3352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6152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78916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B3A3E-1F08-423B-8E9D-33C10B0E6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01D89-5E15-486B-A720-9E6487BCF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A2422-3822-434D-85A3-A926D6AF3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8F654-B24E-4875-A654-8B2975259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99BAF-8E9D-454F-B688-55F48A4FB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AFC88-01C4-4F9A-B2E2-BD4E41F5F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53352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1C592-42EA-4543-91DC-CE8BD522A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3352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DFA1E-AC64-4872-A494-5B1B3FD6D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6C027-6741-4DE3-8488-5F684558D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162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F0E4E-34A1-459E-A072-7C26E9AA8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3352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E75F3-8397-44A2-AECF-9508ABC7C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3352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85C47-6599-4493-8EF8-221460AE8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3352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162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77F86-DB0A-4277-A460-DC72684D7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16152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78916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53352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16152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78916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FDE67-15C0-44D4-BE5E-EDCEBE78E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3D15F-60CD-488C-A955-4F67328AB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3706C-2371-4F69-B7BE-9EC27BF26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D21B6-D79C-4ACB-9C56-6936D2938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3352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B5AFA-5C3E-4D0F-938D-A0719DE1A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352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D5434-21D0-4FFB-8A66-74FF8A788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162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7206F-2B89-4F8F-AD77-960D13781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3352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E3F54-34DD-462F-945A-66E13D6EE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798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7162920" cy="18288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c395e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00200" y="1440"/>
            <a:ext cx="7543800" cy="381240"/>
          </a:xfrm>
          <a:prstGeom prst="rect">
            <a:avLst/>
          </a:prstGeom>
          <a:gradFill rotWithShape="0">
            <a:gsLst>
              <a:gs pos="0">
                <a:srgbClr val="a1da56"/>
              </a:gs>
              <a:gs pos="100000">
                <a:srgbClr val="7aa54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c395e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600200" y="382680"/>
            <a:ext cx="7543800" cy="75960"/>
          </a:xfrm>
          <a:prstGeom prst="rect">
            <a:avLst/>
          </a:prstGeom>
          <a:gradFill rotWithShape="0">
            <a:gsLst>
              <a:gs pos="0">
                <a:srgbClr val="fee168"/>
              </a:gs>
              <a:gs pos="100000">
                <a:srgbClr val="dac15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2c395e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3"/>
          <a:stretch/>
        </p:blipFill>
        <p:spPr>
          <a:xfrm>
            <a:off x="1665360" y="0"/>
            <a:ext cx="7478640" cy="31752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152280" y="1916280"/>
            <a:ext cx="6858000" cy="4941720"/>
          </a:xfrm>
          <a:custGeom>
            <a:avLst/>
            <a:gdLst/>
            <a:ahLst/>
            <a:rect l="l" t="t" r="r" b="b"/>
            <a:pathLst>
              <a:path w="4320" h="3264">
                <a:moveTo>
                  <a:pt x="0" y="3264"/>
                </a:moveTo>
                <a:lnTo>
                  <a:pt x="0" y="0"/>
                </a:lnTo>
                <a:lnTo>
                  <a:pt x="4320" y="0"/>
                </a:lnTo>
              </a:path>
            </a:pathLst>
          </a:custGeom>
          <a:noFill/>
          <a:ln w="9360">
            <a:solidFill>
              <a:srgbClr val="fee16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c395e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65280" y="1828800"/>
            <a:ext cx="149040" cy="149400"/>
          </a:xfrm>
          <a:prstGeom prst="ellipse">
            <a:avLst/>
          </a:prstGeom>
          <a:gradFill rotWithShape="0">
            <a:gsLst>
              <a:gs pos="0">
                <a:srgbClr val="618334"/>
              </a:gs>
              <a:gs pos="100000">
                <a:srgbClr val="a1da5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c395e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503360" y="1828800"/>
            <a:ext cx="149400" cy="149400"/>
          </a:xfrm>
          <a:prstGeom prst="ellipse">
            <a:avLst/>
          </a:prstGeom>
          <a:gradFill rotWithShape="0">
            <a:gsLst>
              <a:gs pos="0">
                <a:srgbClr val="618334"/>
              </a:gs>
              <a:gs pos="100000">
                <a:srgbClr val="a1da5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c395e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2341440" y="1828800"/>
            <a:ext cx="149400" cy="149400"/>
          </a:xfrm>
          <a:prstGeom prst="ellipse">
            <a:avLst/>
          </a:prstGeom>
          <a:gradFill rotWithShape="0">
            <a:gsLst>
              <a:gs pos="0">
                <a:srgbClr val="618334"/>
              </a:gs>
              <a:gs pos="100000">
                <a:srgbClr val="a1da5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c395e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3179880" y="1828800"/>
            <a:ext cx="149040" cy="149400"/>
          </a:xfrm>
          <a:prstGeom prst="ellipse">
            <a:avLst/>
          </a:prstGeom>
          <a:gradFill rotWithShape="0">
            <a:gsLst>
              <a:gs pos="0">
                <a:srgbClr val="618334"/>
              </a:gs>
              <a:gs pos="100000">
                <a:srgbClr val="a1da5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c395e"/>
              </a:solidFill>
              <a:latin typeface="Times New Roman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0720" indent="-450720">
              <a:spcBef>
                <a:spcPts val="700"/>
              </a:spcBef>
              <a:buClr>
                <a:srgbClr val="fee168"/>
              </a:buClr>
              <a:buFont typeface="Wingdings 2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c395e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  <a:p>
            <a:pPr lvl="1" marL="851040" indent="-285840">
              <a:spcBef>
                <a:spcPts val="700"/>
              </a:spcBef>
              <a:buClr>
                <a:srgbClr val="a1da56"/>
              </a:buClr>
              <a:buSzPct val="6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c395e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  <a:p>
            <a:pPr lvl="2" marL="1193760" indent="-228600">
              <a:spcBef>
                <a:spcPts val="700"/>
              </a:spcBef>
              <a:buClr>
                <a:srgbClr val="fee16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c395e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c0c0c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c395e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2c395e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c395e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2c395e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c395e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2c395e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c395e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c395e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c395e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297144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c395e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c395e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400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c395e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E7398-F405-45F9-B1EE-1E08717C3088}" type="slidenum">
              <a:rPr b="0" lang="en-US" sz="1400" spc="-1" strike="noStrike">
                <a:solidFill>
                  <a:srgbClr val="2c395e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798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3352680"/>
            <a:ext cx="5781600" cy="149040"/>
            <a:chOff x="0" y="3352680"/>
            <a:chExt cx="5781600" cy="149040"/>
          </a:xfrm>
        </p:grpSpPr>
        <p:sp>
          <p:nvSpPr>
            <p:cNvPr id="51" name=""/>
            <p:cNvSpPr/>
            <p:nvPr/>
          </p:nvSpPr>
          <p:spPr>
            <a:xfrm>
              <a:off x="0" y="3438360"/>
              <a:ext cx="5781600" cy="1800"/>
            </a:xfrm>
            <a:custGeom>
              <a:avLst/>
              <a:gdLst/>
              <a:ahLst/>
              <a:rect l="l" t="t" r="r" b="b"/>
              <a:pathLst>
                <a:path w="3642" h="1">
                  <a:moveTo>
                    <a:pt x="0" y="0"/>
                  </a:moveTo>
                  <a:lnTo>
                    <a:pt x="3642" y="0"/>
                  </a:lnTo>
                </a:path>
              </a:pathLst>
            </a:custGeom>
            <a:noFill/>
            <a:ln w="9360">
              <a:solidFill>
                <a:srgbClr val="fee16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2c395e"/>
                </a:solidFill>
                <a:latin typeface="Times New Roman"/>
              </a:endParaRPr>
            </a:p>
          </p:txBody>
        </p:sp>
        <p:grpSp>
          <p:nvGrpSpPr>
            <p:cNvPr id="52" name=""/>
            <p:cNvGrpSpPr/>
            <p:nvPr/>
          </p:nvGrpSpPr>
          <p:grpSpPr>
            <a:xfrm>
              <a:off x="1523880" y="3352680"/>
              <a:ext cx="2663640" cy="149040"/>
              <a:chOff x="1523880" y="3352680"/>
              <a:chExt cx="2663640" cy="149040"/>
            </a:xfrm>
          </p:grpSpPr>
          <p:sp>
            <p:nvSpPr>
              <p:cNvPr id="53" name=""/>
              <p:cNvSpPr/>
              <p:nvPr/>
            </p:nvSpPr>
            <p:spPr>
              <a:xfrm>
                <a:off x="1523880" y="3352680"/>
                <a:ext cx="149040" cy="149040"/>
              </a:xfrm>
              <a:prstGeom prst="ellipse">
                <a:avLst/>
              </a:prstGeom>
              <a:gradFill rotWithShape="0">
                <a:gsLst>
                  <a:gs pos="0">
                    <a:srgbClr val="618334"/>
                  </a:gs>
                  <a:gs pos="100000">
                    <a:srgbClr val="a1da5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c395e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361960" y="3352680"/>
                <a:ext cx="149400" cy="149040"/>
              </a:xfrm>
              <a:prstGeom prst="ellipse">
                <a:avLst/>
              </a:prstGeom>
              <a:gradFill rotWithShape="0">
                <a:gsLst>
                  <a:gs pos="0">
                    <a:srgbClr val="618334"/>
                  </a:gs>
                  <a:gs pos="100000">
                    <a:srgbClr val="a1da5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c395e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3200040" y="3352680"/>
                <a:ext cx="149400" cy="149040"/>
              </a:xfrm>
              <a:prstGeom prst="ellipse">
                <a:avLst/>
              </a:prstGeom>
              <a:gradFill rotWithShape="0">
                <a:gsLst>
                  <a:gs pos="0">
                    <a:srgbClr val="618334"/>
                  </a:gs>
                  <a:gs pos="100000">
                    <a:srgbClr val="a1da5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c395e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4038480" y="3352680"/>
                <a:ext cx="149040" cy="149040"/>
              </a:xfrm>
              <a:prstGeom prst="ellipse">
                <a:avLst/>
              </a:prstGeom>
              <a:gradFill rotWithShape="0">
                <a:gsLst>
                  <a:gs pos="0">
                    <a:srgbClr val="618334"/>
                  </a:gs>
                  <a:gs pos="100000">
                    <a:srgbClr val="a1da5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c395e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7" name="PlaceHolder 1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c395e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c395e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c395e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c395e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c395e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8A97B-55C2-4495-B273-C7B64BD05A78}" type="slidenum">
              <a:rPr b="0" lang="en-US" sz="1400" spc="-1" strike="noStrike">
                <a:solidFill>
                  <a:srgbClr val="2c395e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0" y="0"/>
            <a:ext cx="9144000" cy="2438280"/>
            <a:chOff x="0" y="0"/>
            <a:chExt cx="9144000" cy="2438280"/>
          </a:xfrm>
        </p:grpSpPr>
        <p:sp>
          <p:nvSpPr>
            <p:cNvPr id="61" name=""/>
            <p:cNvSpPr/>
            <p:nvPr/>
          </p:nvSpPr>
          <p:spPr>
            <a:xfrm>
              <a:off x="0" y="0"/>
              <a:ext cx="9144000" cy="24382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c395e"/>
                </a:solidFill>
                <a:latin typeface="Times New Roman"/>
              </a:endParaRPr>
            </a:p>
          </p:txBody>
        </p:sp>
        <p:grpSp>
          <p:nvGrpSpPr>
            <p:cNvPr id="62" name=""/>
            <p:cNvGrpSpPr/>
            <p:nvPr/>
          </p:nvGrpSpPr>
          <p:grpSpPr>
            <a:xfrm>
              <a:off x="1600200" y="0"/>
              <a:ext cx="7543800" cy="458640"/>
              <a:chOff x="1600200" y="0"/>
              <a:chExt cx="7543800" cy="458640"/>
            </a:xfrm>
          </p:grpSpPr>
          <p:sp>
            <p:nvSpPr>
              <p:cNvPr id="63" name=""/>
              <p:cNvSpPr/>
              <p:nvPr/>
            </p:nvSpPr>
            <p:spPr>
              <a:xfrm>
                <a:off x="1600200" y="1440"/>
                <a:ext cx="7543800" cy="380880"/>
              </a:xfrm>
              <a:prstGeom prst="rect">
                <a:avLst/>
              </a:prstGeom>
              <a:gradFill rotWithShape="0">
                <a:gsLst>
                  <a:gs pos="0">
                    <a:srgbClr val="a1da56"/>
                  </a:gs>
                  <a:gs pos="100000">
                    <a:srgbClr val="7aa54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c395e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00200" y="382320"/>
                <a:ext cx="7543800" cy="76320"/>
              </a:xfrm>
              <a:prstGeom prst="rect">
                <a:avLst/>
              </a:prstGeom>
              <a:gradFill rotWithShape="0">
                <a:gsLst>
                  <a:gs pos="0">
                    <a:srgbClr val="fee168"/>
                  </a:gs>
                  <a:gs pos="100000">
                    <a:srgbClr val="dac15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2c395e"/>
                  </a:solidFill>
                  <a:latin typeface="Times New Roman"/>
                </a:endParaRPr>
              </a:p>
            </p:txBody>
          </p:sp>
          <p:pic>
            <p:nvPicPr>
              <p:cNvPr id="65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1665360" y="0"/>
                <a:ext cx="7478640" cy="3175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66" name="PlaceHolder 4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c395e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c395e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2c395e"/>
              </a:solidFill>
              <a:latin typeface="Tahoma"/>
            </a:endParaRPr>
          </a:p>
          <a:p>
            <a:pPr lvl="2" marL="914400" indent="50760" algn="ctr">
              <a:spcBef>
                <a:spcPts val="499"/>
              </a:spcBef>
              <a:buClr>
                <a:srgbClr val="fee168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c395e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2c395e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c0c0c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c395e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2c395e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2c395e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c395e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2c395e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2c395e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c395e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2c395e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2c395e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c395e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2c395e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798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ahoma"/>
              </a:rPr>
              <a:t>Good 4 U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ahoma"/>
              </a:rPr>
              <a:t>Summertime Samples</a:t>
            </a:r>
            <a:endParaRPr b="1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523880" y="3654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c395e"/>
                </a:solidFill>
                <a:latin typeface="Tahoma"/>
              </a:rPr>
              <a:t>Food Sample Planning Session</a:t>
            </a: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c395e"/>
                </a:solidFill>
                <a:latin typeface="Tahoma"/>
              </a:rPr>
              <a:t>for the Annual Franchise Convention</a:t>
            </a: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c395e"/>
                </a:solidFill>
                <a:latin typeface="Tahoma"/>
              </a:rPr>
              <a:t>to be held in Minneapolis</a:t>
            </a: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</p:spTree>
  </p:cSld>
  <p:transition spd="med" advTm="11000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798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ppetizer Special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0720" indent="-450720">
              <a:spcBef>
                <a:spcPts val="700"/>
              </a:spcBef>
              <a:buClr>
                <a:srgbClr val="fee168"/>
              </a:buClr>
              <a:buFont typeface="Wingdings 2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c395e"/>
                </a:solidFill>
                <a:latin typeface="Tahoma"/>
              </a:rPr>
              <a:t>Mango Supreme</a:t>
            </a: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  <a:p>
            <a:pPr lvl="1" marL="851040" indent="-285840">
              <a:spcBef>
                <a:spcPts val="601"/>
              </a:spcBef>
              <a:buClr>
                <a:srgbClr val="a1da56"/>
              </a:buClr>
              <a:buSzPct val="6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c395e"/>
                </a:solidFill>
                <a:latin typeface="Tahoma"/>
              </a:rPr>
              <a:t>Ripe mango slices served on a bed of lettuce and topped with raspberry vinaigrette dressing</a:t>
            </a:r>
            <a:endParaRPr b="0" lang="en-US" sz="2400" spc="-1" strike="noStrike">
              <a:solidFill>
                <a:srgbClr val="2c395e"/>
              </a:solidFill>
              <a:latin typeface="Tahoma"/>
            </a:endParaRPr>
          </a:p>
          <a:p>
            <a:pPr marL="450720" indent="-450720">
              <a:spcBef>
                <a:spcPts val="700"/>
              </a:spcBef>
              <a:buClr>
                <a:srgbClr val="fee168"/>
              </a:buClr>
              <a:buFont typeface="Wingdings 2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c395e"/>
                </a:solidFill>
                <a:latin typeface="Tahoma"/>
              </a:rPr>
              <a:t>Salmon Tidbits</a:t>
            </a: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  <a:p>
            <a:pPr lvl="1" marL="851040" indent="-285840">
              <a:spcBef>
                <a:spcPts val="601"/>
              </a:spcBef>
              <a:buClr>
                <a:srgbClr val="a1da56"/>
              </a:buClr>
              <a:buSzPct val="6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c395e"/>
                </a:solidFill>
                <a:latin typeface="Tahoma"/>
              </a:rPr>
              <a:t>Tiny open-face salmon sandwiches</a:t>
            </a:r>
            <a:endParaRPr b="0" lang="en-US" sz="2400" spc="-1" strike="noStrike">
              <a:solidFill>
                <a:srgbClr val="2c395e"/>
              </a:solidFill>
              <a:latin typeface="Tahoma"/>
            </a:endParaRPr>
          </a:p>
          <a:p>
            <a:pPr marL="450720" indent="-450720">
              <a:spcBef>
                <a:spcPts val="700"/>
              </a:spcBef>
              <a:buClr>
                <a:srgbClr val="fee168"/>
              </a:buClr>
              <a:buFont typeface="Wingdings 2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c395e"/>
                </a:solidFill>
                <a:latin typeface="Tahoma"/>
              </a:rPr>
              <a:t>Fruity Chicken</a:t>
            </a: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  <a:p>
            <a:pPr lvl="1" marL="851040" indent="-285840">
              <a:spcBef>
                <a:spcPts val="601"/>
              </a:spcBef>
              <a:buClr>
                <a:srgbClr val="a1da56"/>
              </a:buClr>
              <a:buSzPct val="6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c395e"/>
                </a:solidFill>
                <a:latin typeface="Tahoma"/>
              </a:rPr>
              <a:t>Grilled chicken strips with fresh orange and pineapple slices</a:t>
            </a:r>
            <a:r>
              <a:rPr b="0" lang="en-US" sz="2400" spc="-1" strike="noStrike">
                <a:solidFill>
                  <a:srgbClr val="2c395e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2c395e"/>
              </a:solidFill>
              <a:latin typeface="Tahoma"/>
            </a:endParaRPr>
          </a:p>
        </p:txBody>
      </p:sp>
    </p:spTree>
  </p:cSld>
  <p:transition spd="med" advTm="11000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8798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Hidden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 advTm="11000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798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The Main Cours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0720" indent="-450720">
              <a:spcBef>
                <a:spcPts val="700"/>
              </a:spcBef>
              <a:buClr>
                <a:srgbClr val="fee168"/>
              </a:buClr>
              <a:buFont typeface="Wingdings 2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c395e"/>
                </a:solidFill>
                <a:latin typeface="Tahoma"/>
              </a:rPr>
              <a:t>Tex-Mex Tofu</a:t>
            </a: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  <a:p>
            <a:pPr lvl="1" marL="851040" indent="-285840">
              <a:spcBef>
                <a:spcPts val="601"/>
              </a:spcBef>
              <a:buClr>
                <a:srgbClr val="a1da56"/>
              </a:buClr>
              <a:buSzPct val="6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c395e"/>
                </a:solidFill>
                <a:latin typeface="Tahoma"/>
              </a:rPr>
              <a:t>Grilled tofu slices with low-fat barbecue sauce, jalapenos, black beans, and Julie’s special spices</a:t>
            </a:r>
            <a:endParaRPr b="0" lang="en-US" sz="2400" spc="-1" strike="noStrike">
              <a:solidFill>
                <a:srgbClr val="2c395e"/>
              </a:solidFill>
              <a:latin typeface="Tahoma"/>
            </a:endParaRPr>
          </a:p>
          <a:p>
            <a:pPr marL="450720" indent="-450720">
              <a:spcBef>
                <a:spcPts val="700"/>
              </a:spcBef>
              <a:buClr>
                <a:srgbClr val="fee168"/>
              </a:buClr>
              <a:buFont typeface="Wingdings 2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c395e"/>
                </a:solidFill>
                <a:latin typeface="Tahoma"/>
              </a:rPr>
              <a:t>Chicken and Potato Salad</a:t>
            </a: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  <a:p>
            <a:pPr lvl="1" marL="851040" indent="-285840">
              <a:spcBef>
                <a:spcPts val="601"/>
              </a:spcBef>
              <a:buClr>
                <a:srgbClr val="a1da56"/>
              </a:buClr>
              <a:buSzPct val="6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c395e"/>
                </a:solidFill>
                <a:latin typeface="Tahoma"/>
              </a:rPr>
              <a:t>Served cold in a baked taco shell with plenty of lettuce and veggies</a:t>
            </a:r>
            <a:endParaRPr b="0" lang="en-US" sz="2400" spc="-1" strike="noStrike">
              <a:solidFill>
                <a:srgbClr val="2c395e"/>
              </a:solidFill>
              <a:latin typeface="Tahoma"/>
            </a:endParaRPr>
          </a:p>
          <a:p>
            <a:pPr marL="450720" indent="-450720">
              <a:spcBef>
                <a:spcPts val="700"/>
              </a:spcBef>
              <a:buClr>
                <a:srgbClr val="fee168"/>
              </a:buClr>
              <a:buFont typeface="Wingdings 2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c395e"/>
                </a:solidFill>
                <a:latin typeface="Tahoma"/>
              </a:rPr>
              <a:t>Grilled Swordfish</a:t>
            </a: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  <a:p>
            <a:pPr lvl="1" marL="851040" indent="-285840">
              <a:spcBef>
                <a:spcPts val="601"/>
              </a:spcBef>
              <a:buClr>
                <a:srgbClr val="a1da56"/>
              </a:buClr>
              <a:buSzPct val="6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c395e"/>
                </a:solidFill>
                <a:latin typeface="Tahoma"/>
              </a:rPr>
              <a:t>Served in a light dill sauce with wild rice</a:t>
            </a:r>
            <a:endParaRPr b="0" lang="en-US" sz="24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2103480"/>
            <a:ext cx="3486240" cy="628560"/>
          </a:xfrm>
          <a:custGeom>
            <a:avLst/>
            <a:gdLst/>
            <a:ahLst/>
            <a:rect l="l" t="t" r="r" b="b"/>
            <a:pathLst>
              <a:path w="9685" h="1747">
                <a:moveTo>
                  <a:pt x="8826" y="5842"/>
                </a:moveTo>
                <a:cubicBezTo>
                  <a:pt x="7144" y="5842"/>
                  <a:pt x="5404" y="5757"/>
                  <a:pt x="3746" y="5874"/>
                </a:cubicBezTo>
                <a:cubicBezTo>
                  <a:pt x="3683" y="5878"/>
                  <a:pt x="3602" y="5902"/>
                  <a:pt x="3556" y="5906"/>
                </a:cubicBezTo>
                <a:cubicBezTo>
                  <a:pt x="3482" y="5913"/>
                  <a:pt x="3427" y="5922"/>
                  <a:pt x="3366" y="5937"/>
                </a:cubicBezTo>
                <a:cubicBezTo>
                  <a:pt x="3296" y="5954"/>
                  <a:pt x="3265" y="5982"/>
                  <a:pt x="3207" y="6001"/>
                </a:cubicBezTo>
                <a:cubicBezTo>
                  <a:pt x="3150" y="6020"/>
                  <a:pt x="3102" y="6038"/>
                  <a:pt x="3048" y="6064"/>
                </a:cubicBezTo>
                <a:cubicBezTo>
                  <a:pt x="2993" y="6091"/>
                  <a:pt x="2941" y="6124"/>
                  <a:pt x="2889" y="6160"/>
                </a:cubicBezTo>
                <a:cubicBezTo>
                  <a:pt x="2850" y="6187"/>
                  <a:pt x="2805" y="6215"/>
                  <a:pt x="2762" y="6255"/>
                </a:cubicBezTo>
                <a:cubicBezTo>
                  <a:pt x="2722" y="6292"/>
                  <a:pt x="2701" y="6308"/>
                  <a:pt x="2667" y="6350"/>
                </a:cubicBezTo>
                <a:cubicBezTo>
                  <a:pt x="2652" y="6368"/>
                  <a:pt x="2616" y="6408"/>
                  <a:pt x="2604" y="6445"/>
                </a:cubicBezTo>
                <a:cubicBezTo>
                  <a:pt x="2591" y="6485"/>
                  <a:pt x="2620" y="6470"/>
                  <a:pt x="2604" y="6509"/>
                </a:cubicBezTo>
                <a:cubicBezTo>
                  <a:pt x="2589" y="6546"/>
                  <a:pt x="2545" y="6633"/>
                  <a:pt x="2540" y="6668"/>
                </a:cubicBezTo>
                <a:cubicBezTo>
                  <a:pt x="2525" y="6781"/>
                  <a:pt x="2550" y="6922"/>
                  <a:pt x="2572" y="6985"/>
                </a:cubicBezTo>
                <a:cubicBezTo>
                  <a:pt x="2581" y="7012"/>
                  <a:pt x="2620" y="7091"/>
                  <a:pt x="2635" y="7112"/>
                </a:cubicBezTo>
                <a:cubicBezTo>
                  <a:pt x="2672" y="7164"/>
                  <a:pt x="2692" y="7152"/>
                  <a:pt x="2730" y="7207"/>
                </a:cubicBezTo>
                <a:cubicBezTo>
                  <a:pt x="2757" y="7245"/>
                  <a:pt x="2727" y="7240"/>
                  <a:pt x="2762" y="7271"/>
                </a:cubicBezTo>
                <a:cubicBezTo>
                  <a:pt x="2782" y="7289"/>
                  <a:pt x="2825" y="7310"/>
                  <a:pt x="2858" y="7334"/>
                </a:cubicBezTo>
                <a:cubicBezTo>
                  <a:pt x="2891" y="7358"/>
                  <a:pt x="2924" y="7386"/>
                  <a:pt x="2953" y="7398"/>
                </a:cubicBezTo>
                <a:cubicBezTo>
                  <a:pt x="2997" y="7416"/>
                  <a:pt x="3033" y="7417"/>
                  <a:pt x="3080" y="7430"/>
                </a:cubicBezTo>
                <a:cubicBezTo>
                  <a:pt x="3151" y="7450"/>
                  <a:pt x="3229" y="7474"/>
                  <a:pt x="3302" y="7493"/>
                </a:cubicBezTo>
                <a:cubicBezTo>
                  <a:pt x="3362" y="7509"/>
                  <a:pt x="3431" y="7510"/>
                  <a:pt x="3492" y="7525"/>
                </a:cubicBezTo>
                <a:cubicBezTo>
                  <a:pt x="3551" y="7540"/>
                  <a:pt x="3592" y="7542"/>
                  <a:pt x="3651" y="7556"/>
                </a:cubicBezTo>
                <a:cubicBezTo>
                  <a:pt x="3736" y="7576"/>
                  <a:pt x="3781" y="7586"/>
                  <a:pt x="3874" y="7588"/>
                </a:cubicBezTo>
                <a:cubicBezTo>
                  <a:pt x="4170" y="7595"/>
                  <a:pt x="4638" y="7588"/>
                  <a:pt x="4826" y="7588"/>
                </a:cubicBezTo>
                <a:cubicBezTo>
                  <a:pt x="5715" y="7588"/>
                  <a:pt x="6775" y="7588"/>
                  <a:pt x="7556" y="7588"/>
                </a:cubicBezTo>
                <a:cubicBezTo>
                  <a:pt x="7784" y="7588"/>
                  <a:pt x="8000" y="7568"/>
                  <a:pt x="8223" y="7556"/>
                </a:cubicBezTo>
                <a:cubicBezTo>
                  <a:pt x="8330" y="7550"/>
                  <a:pt x="8442" y="7532"/>
                  <a:pt x="8541" y="7525"/>
                </a:cubicBezTo>
                <a:cubicBezTo>
                  <a:pt x="8644" y="7518"/>
                  <a:pt x="8704" y="7511"/>
                  <a:pt x="8795" y="7493"/>
                </a:cubicBezTo>
                <a:cubicBezTo>
                  <a:pt x="8862" y="7479"/>
                  <a:pt x="8919" y="7486"/>
                  <a:pt x="8985" y="7461"/>
                </a:cubicBezTo>
                <a:cubicBezTo>
                  <a:pt x="9037" y="7441"/>
                  <a:pt x="9097" y="7420"/>
                  <a:pt x="9144" y="7398"/>
                </a:cubicBezTo>
                <a:cubicBezTo>
                  <a:pt x="9193" y="7375"/>
                  <a:pt x="9260" y="7362"/>
                  <a:pt x="9303" y="7334"/>
                </a:cubicBezTo>
                <a:cubicBezTo>
                  <a:pt x="9383" y="7282"/>
                  <a:pt x="9449" y="7182"/>
                  <a:pt x="9493" y="7112"/>
                </a:cubicBezTo>
                <a:cubicBezTo>
                  <a:pt x="9521" y="7068"/>
                  <a:pt x="9534" y="7028"/>
                  <a:pt x="9557" y="6985"/>
                </a:cubicBezTo>
                <a:cubicBezTo>
                  <a:pt x="9582" y="6938"/>
                  <a:pt x="9602" y="6907"/>
                  <a:pt x="9620" y="6858"/>
                </a:cubicBezTo>
                <a:cubicBezTo>
                  <a:pt x="9633" y="6821"/>
                  <a:pt x="9648" y="6767"/>
                  <a:pt x="9652" y="6731"/>
                </a:cubicBezTo>
                <a:cubicBezTo>
                  <a:pt x="9661" y="6660"/>
                  <a:pt x="9683" y="6498"/>
                  <a:pt x="9684" y="6477"/>
                </a:cubicBezTo>
                <a:cubicBezTo>
                  <a:pt x="9688" y="6422"/>
                  <a:pt x="9652" y="6322"/>
                  <a:pt x="9652" y="6318"/>
                </a:cubicBezTo>
                <a:cubicBezTo>
                  <a:pt x="9648" y="6243"/>
                  <a:pt x="9655" y="6278"/>
                  <a:pt x="9652" y="6223"/>
                </a:cubicBezTo>
                <a:cubicBezTo>
                  <a:pt x="9652" y="6212"/>
                  <a:pt x="9652" y="6202"/>
                  <a:pt x="9652" y="6191"/>
                </a:cubicBezTo>
                <a:cubicBezTo>
                  <a:pt x="9630" y="6173"/>
                  <a:pt x="9606" y="6142"/>
                  <a:pt x="9588" y="6128"/>
                </a:cubicBezTo>
                <a:cubicBezTo>
                  <a:pt x="9557" y="6105"/>
                  <a:pt x="9532" y="6107"/>
                  <a:pt x="9493" y="6064"/>
                </a:cubicBezTo>
                <a:cubicBezTo>
                  <a:pt x="9475" y="6044"/>
                  <a:pt x="9446" y="5978"/>
                  <a:pt x="9430" y="5969"/>
                </a:cubicBezTo>
                <a:cubicBezTo>
                  <a:pt x="9392" y="5948"/>
                  <a:pt x="9366" y="5949"/>
                  <a:pt x="9334" y="5937"/>
                </a:cubicBezTo>
                <a:cubicBezTo>
                  <a:pt x="9292" y="5921"/>
                  <a:pt x="9182" y="5910"/>
                  <a:pt x="9144" y="5906"/>
                </a:cubicBezTo>
                <a:cubicBezTo>
                  <a:pt x="9018" y="5894"/>
                  <a:pt x="8843" y="5888"/>
                  <a:pt x="8763" y="5874"/>
                </a:cubicBezTo>
              </a:path>
              <a:path w="9685" h="1747">
                <a:moveTo>
                  <a:pt x="0" y="7207"/>
                </a:moveTo>
                <a:cubicBezTo>
                  <a:pt x="0" y="7228"/>
                  <a:pt x="0" y="7250"/>
                  <a:pt x="0" y="727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c395e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903240" y="4765680"/>
            <a:ext cx="2994120" cy="573120"/>
          </a:xfrm>
          <a:custGeom>
            <a:avLst/>
            <a:gdLst/>
            <a:ahLst/>
            <a:rect l="l" t="t" r="r" b="b"/>
            <a:pathLst>
              <a:path w="8320" h="1588">
                <a:moveTo>
                  <a:pt x="3143" y="13398"/>
                </a:moveTo>
                <a:cubicBezTo>
                  <a:pt x="3218" y="13394"/>
                  <a:pt x="3308" y="13371"/>
                  <a:pt x="3366" y="13367"/>
                </a:cubicBezTo>
                <a:cubicBezTo>
                  <a:pt x="3462" y="13360"/>
                  <a:pt x="3563" y="13342"/>
                  <a:pt x="3651" y="13335"/>
                </a:cubicBezTo>
                <a:cubicBezTo>
                  <a:pt x="3849" y="13319"/>
                  <a:pt x="4065" y="13315"/>
                  <a:pt x="4254" y="13303"/>
                </a:cubicBezTo>
                <a:cubicBezTo>
                  <a:pt x="5887" y="13200"/>
                  <a:pt x="7554" y="13328"/>
                  <a:pt x="9176" y="13240"/>
                </a:cubicBezTo>
                <a:cubicBezTo>
                  <a:pt x="9337" y="13231"/>
                  <a:pt x="9514" y="13265"/>
                  <a:pt x="9652" y="13272"/>
                </a:cubicBezTo>
                <a:cubicBezTo>
                  <a:pt x="9769" y="13278"/>
                  <a:pt x="9893" y="13295"/>
                  <a:pt x="10001" y="13303"/>
                </a:cubicBezTo>
                <a:cubicBezTo>
                  <a:pt x="10109" y="13311"/>
                  <a:pt x="10219" y="13298"/>
                  <a:pt x="10319" y="13335"/>
                </a:cubicBezTo>
                <a:cubicBezTo>
                  <a:pt x="10383" y="13359"/>
                  <a:pt x="10491" y="13402"/>
                  <a:pt x="10541" y="13430"/>
                </a:cubicBezTo>
                <a:cubicBezTo>
                  <a:pt x="10585" y="13455"/>
                  <a:pt x="10631" y="13496"/>
                  <a:pt x="10668" y="13526"/>
                </a:cubicBezTo>
                <a:cubicBezTo>
                  <a:pt x="10690" y="13544"/>
                  <a:pt x="10763" y="13620"/>
                  <a:pt x="10763" y="13621"/>
                </a:cubicBezTo>
                <a:cubicBezTo>
                  <a:pt x="10798" y="13721"/>
                  <a:pt x="10801" y="13772"/>
                  <a:pt x="10827" y="13875"/>
                </a:cubicBezTo>
                <a:cubicBezTo>
                  <a:pt x="10827" y="13896"/>
                  <a:pt x="10827" y="13917"/>
                  <a:pt x="10827" y="13938"/>
                </a:cubicBezTo>
                <a:cubicBezTo>
                  <a:pt x="10801" y="13987"/>
                  <a:pt x="10772" y="14052"/>
                  <a:pt x="10732" y="14097"/>
                </a:cubicBezTo>
                <a:cubicBezTo>
                  <a:pt x="10664" y="14173"/>
                  <a:pt x="10664" y="14188"/>
                  <a:pt x="10573" y="14256"/>
                </a:cubicBezTo>
                <a:cubicBezTo>
                  <a:pt x="10486" y="14321"/>
                  <a:pt x="10380" y="14365"/>
                  <a:pt x="10287" y="14414"/>
                </a:cubicBezTo>
                <a:cubicBezTo>
                  <a:pt x="10215" y="14452"/>
                  <a:pt x="10182" y="14482"/>
                  <a:pt x="10096" y="14510"/>
                </a:cubicBezTo>
                <a:cubicBezTo>
                  <a:pt x="9992" y="14544"/>
                  <a:pt x="9915" y="14555"/>
                  <a:pt x="9811" y="14573"/>
                </a:cubicBezTo>
                <a:cubicBezTo>
                  <a:pt x="9698" y="14593"/>
                  <a:pt x="9578" y="14617"/>
                  <a:pt x="9462" y="14637"/>
                </a:cubicBezTo>
                <a:cubicBezTo>
                  <a:pt x="9330" y="14660"/>
                  <a:pt x="9216" y="14665"/>
                  <a:pt x="9080" y="14668"/>
                </a:cubicBezTo>
                <a:cubicBezTo>
                  <a:pt x="8884" y="14672"/>
                  <a:pt x="8701" y="14690"/>
                  <a:pt x="8509" y="14700"/>
                </a:cubicBezTo>
                <a:cubicBezTo>
                  <a:pt x="8203" y="14716"/>
                  <a:pt x="7889" y="14714"/>
                  <a:pt x="7588" y="14732"/>
                </a:cubicBezTo>
                <a:cubicBezTo>
                  <a:pt x="7302" y="14749"/>
                  <a:pt x="7012" y="14747"/>
                  <a:pt x="6731" y="14764"/>
                </a:cubicBezTo>
                <a:cubicBezTo>
                  <a:pt x="6610" y="14771"/>
                  <a:pt x="6501" y="14790"/>
                  <a:pt x="6382" y="14796"/>
                </a:cubicBezTo>
                <a:cubicBezTo>
                  <a:pt x="6234" y="14803"/>
                  <a:pt x="6075" y="14819"/>
                  <a:pt x="5937" y="14827"/>
                </a:cubicBezTo>
                <a:cubicBezTo>
                  <a:pt x="5165" y="14874"/>
                  <a:pt x="4349" y="14839"/>
                  <a:pt x="3588" y="14796"/>
                </a:cubicBezTo>
                <a:cubicBezTo>
                  <a:pt x="3487" y="14790"/>
                  <a:pt x="3386" y="14778"/>
                  <a:pt x="3302" y="14764"/>
                </a:cubicBezTo>
                <a:cubicBezTo>
                  <a:pt x="3185" y="14744"/>
                  <a:pt x="3070" y="14698"/>
                  <a:pt x="2953" y="14668"/>
                </a:cubicBezTo>
                <a:cubicBezTo>
                  <a:pt x="2897" y="14653"/>
                  <a:pt x="2784" y="14663"/>
                  <a:pt x="2730" y="14637"/>
                </a:cubicBezTo>
                <a:cubicBezTo>
                  <a:pt x="2689" y="14617"/>
                  <a:pt x="2652" y="14556"/>
                  <a:pt x="2635" y="14542"/>
                </a:cubicBezTo>
                <a:cubicBezTo>
                  <a:pt x="2590" y="14505"/>
                  <a:pt x="2563" y="14503"/>
                  <a:pt x="2540" y="14446"/>
                </a:cubicBezTo>
                <a:cubicBezTo>
                  <a:pt x="2516" y="14386"/>
                  <a:pt x="2509" y="14325"/>
                  <a:pt x="2508" y="14256"/>
                </a:cubicBezTo>
                <a:cubicBezTo>
                  <a:pt x="2506" y="14152"/>
                  <a:pt x="2532" y="14088"/>
                  <a:pt x="2572" y="14002"/>
                </a:cubicBezTo>
                <a:cubicBezTo>
                  <a:pt x="2600" y="13942"/>
                  <a:pt x="2630" y="13891"/>
                  <a:pt x="2667" y="13843"/>
                </a:cubicBezTo>
                <a:cubicBezTo>
                  <a:pt x="2705" y="13794"/>
                  <a:pt x="2743" y="13765"/>
                  <a:pt x="2794" y="13716"/>
                </a:cubicBezTo>
                <a:cubicBezTo>
                  <a:pt x="2840" y="13672"/>
                  <a:pt x="2840" y="13654"/>
                  <a:pt x="2889" y="13621"/>
                </a:cubicBezTo>
                <a:cubicBezTo>
                  <a:pt x="2933" y="13592"/>
                  <a:pt x="2973" y="13580"/>
                  <a:pt x="3016" y="13557"/>
                </a:cubicBezTo>
                <a:cubicBezTo>
                  <a:pt x="3060" y="13533"/>
                  <a:pt x="3128" y="13477"/>
                  <a:pt x="3175" y="13462"/>
                </a:cubicBezTo>
                <a:cubicBezTo>
                  <a:pt x="3226" y="13446"/>
                  <a:pt x="3285" y="13440"/>
                  <a:pt x="3334" y="13430"/>
                </a:cubicBezTo>
                <a:cubicBezTo>
                  <a:pt x="3345" y="13430"/>
                  <a:pt x="3355" y="13430"/>
                  <a:pt x="3366" y="1343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c395e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108080" y="3714840"/>
            <a:ext cx="3989520" cy="46080"/>
          </a:xfrm>
          <a:custGeom>
            <a:avLst/>
            <a:gdLst/>
            <a:ahLst/>
            <a:rect l="l" t="t" r="r" b="b"/>
            <a:pathLst>
              <a:path w="11081" h="128">
                <a:moveTo>
                  <a:pt x="3080" y="10319"/>
                </a:moveTo>
                <a:cubicBezTo>
                  <a:pt x="3157" y="10329"/>
                  <a:pt x="3223" y="10339"/>
                  <a:pt x="3302" y="10350"/>
                </a:cubicBezTo>
                <a:cubicBezTo>
                  <a:pt x="3434" y="10368"/>
                  <a:pt x="3577" y="10406"/>
                  <a:pt x="3715" y="10414"/>
                </a:cubicBezTo>
                <a:cubicBezTo>
                  <a:pt x="5252" y="10507"/>
                  <a:pt x="6822" y="10368"/>
                  <a:pt x="8350" y="10446"/>
                </a:cubicBezTo>
                <a:cubicBezTo>
                  <a:pt x="9372" y="10498"/>
                  <a:pt x="10462" y="10472"/>
                  <a:pt x="11462" y="10414"/>
                </a:cubicBezTo>
                <a:cubicBezTo>
                  <a:pt x="12355" y="10362"/>
                  <a:pt x="13265" y="10414"/>
                  <a:pt x="14160" y="10414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2c395e"/>
              </a:solidFill>
              <a:latin typeface="Times New Roman"/>
            </a:endParaRPr>
          </a:p>
        </p:txBody>
      </p:sp>
    </p:spTree>
  </p:cSld>
  <p:transition spd="med" advTm="11000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798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Dessert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0720" indent="-450720">
              <a:spcBef>
                <a:spcPts val="700"/>
              </a:spcBef>
              <a:buClr>
                <a:srgbClr val="fee168"/>
              </a:buClr>
              <a:buFont typeface="Wingdings 2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c395e"/>
                </a:solidFill>
                <a:latin typeface="Tahoma"/>
              </a:rPr>
              <a:t>Papaya Sundae</a:t>
            </a: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  <a:p>
            <a:pPr lvl="1" marL="851040" indent="-285840">
              <a:spcBef>
                <a:spcPts val="601"/>
              </a:spcBef>
              <a:buClr>
                <a:srgbClr val="a1da56"/>
              </a:buClr>
              <a:buSzPct val="6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c395e"/>
                </a:solidFill>
                <a:latin typeface="Tahoma"/>
              </a:rPr>
              <a:t>Icy papaya sherbet served with raspberry yogurt sauce</a:t>
            </a:r>
            <a:endParaRPr b="0" lang="en-US" sz="2400" spc="-1" strike="noStrike">
              <a:solidFill>
                <a:srgbClr val="2c395e"/>
              </a:solidFill>
              <a:latin typeface="Tahoma"/>
            </a:endParaRPr>
          </a:p>
          <a:p>
            <a:pPr marL="450720" indent="-450720">
              <a:spcBef>
                <a:spcPts val="700"/>
              </a:spcBef>
              <a:buClr>
                <a:srgbClr val="fee168"/>
              </a:buClr>
              <a:buFont typeface="Wingdings 2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c395e"/>
                </a:solidFill>
                <a:latin typeface="Tahoma"/>
              </a:rPr>
              <a:t>Grilled Bananas and Peaches</a:t>
            </a: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  <a:p>
            <a:pPr lvl="1" marL="851040" indent="-285840">
              <a:spcBef>
                <a:spcPts val="601"/>
              </a:spcBef>
              <a:buClr>
                <a:srgbClr val="a1da56"/>
              </a:buClr>
              <a:buSzPct val="6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c395e"/>
                </a:solidFill>
                <a:latin typeface="Tahoma"/>
              </a:rPr>
              <a:t>Bananas and peaches wrapped in soft taco shells, grilled, and topped with vanilla yogurt</a:t>
            </a:r>
            <a:endParaRPr b="0" lang="en-US" sz="2400" spc="-1" strike="noStrike">
              <a:solidFill>
                <a:srgbClr val="2c395e"/>
              </a:solidFill>
              <a:latin typeface="Tahoma"/>
            </a:endParaRPr>
          </a:p>
          <a:p>
            <a:pPr marL="450720" indent="-450720">
              <a:spcBef>
                <a:spcPts val="700"/>
              </a:spcBef>
              <a:buClr>
                <a:srgbClr val="fee168"/>
              </a:buClr>
              <a:buFont typeface="Wingdings 2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c395e"/>
                </a:solidFill>
                <a:latin typeface="Tahoma"/>
              </a:rPr>
              <a:t>Rice Pudding</a:t>
            </a: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  <a:p>
            <a:pPr lvl="1" marL="851040" indent="-285840">
              <a:spcBef>
                <a:spcPts val="601"/>
              </a:spcBef>
              <a:buClr>
                <a:srgbClr val="a1da56"/>
              </a:buClr>
              <a:buSzPct val="6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c395e"/>
                </a:solidFill>
                <a:latin typeface="Tahoma"/>
              </a:rPr>
              <a:t>Julie’s unique low-fat pudding, served warm with cherry sauce</a:t>
            </a:r>
            <a:endParaRPr b="0" lang="en-US" sz="2400" spc="-1" strike="noStrike">
              <a:solidFill>
                <a:srgbClr val="2c395e"/>
              </a:solidFill>
              <a:latin typeface="Tahoma"/>
            </a:endParaRPr>
          </a:p>
        </p:txBody>
      </p:sp>
    </p:spTree>
  </p:cSld>
  <p:transition spd="med" advTm="11000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798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028880" y="2503440"/>
            <a:ext cx="6114960" cy="1143000"/>
          </a:xfrm>
          <a:custGeom>
            <a:avLst/>
            <a:gdLst/>
            <a:ahLst/>
            <a:rect l="l" t="t" r="r" b="b"/>
            <a:pathLst>
              <a:path w="16987" h="3176">
                <a:moveTo>
                  <a:pt x="2921" y="7556"/>
                </a:moveTo>
                <a:cubicBezTo>
                  <a:pt x="2921" y="7949"/>
                  <a:pt x="2927" y="8349"/>
                  <a:pt x="2953" y="8731"/>
                </a:cubicBezTo>
                <a:cubicBezTo>
                  <a:pt x="2961" y="8846"/>
                  <a:pt x="2966" y="8937"/>
                  <a:pt x="2984" y="9049"/>
                </a:cubicBezTo>
                <a:cubicBezTo>
                  <a:pt x="2997" y="9133"/>
                  <a:pt x="2998" y="9220"/>
                  <a:pt x="3016" y="9303"/>
                </a:cubicBezTo>
                <a:cubicBezTo>
                  <a:pt x="3028" y="9359"/>
                  <a:pt x="3041" y="9396"/>
                  <a:pt x="3048" y="9462"/>
                </a:cubicBezTo>
                <a:cubicBezTo>
                  <a:pt x="3057" y="9549"/>
                  <a:pt x="3053" y="9604"/>
                  <a:pt x="3080" y="9652"/>
                </a:cubicBezTo>
                <a:cubicBezTo>
                  <a:pt x="3129" y="9740"/>
                  <a:pt x="3086" y="9683"/>
                  <a:pt x="3207" y="9716"/>
                </a:cubicBezTo>
                <a:cubicBezTo>
                  <a:pt x="3311" y="9744"/>
                  <a:pt x="3415" y="9758"/>
                  <a:pt x="3524" y="9779"/>
                </a:cubicBezTo>
                <a:cubicBezTo>
                  <a:pt x="3642" y="9802"/>
                  <a:pt x="3752" y="9808"/>
                  <a:pt x="3874" y="9811"/>
                </a:cubicBezTo>
                <a:cubicBezTo>
                  <a:pt x="3994" y="9814"/>
                  <a:pt x="4106" y="9824"/>
                  <a:pt x="4223" y="9842"/>
                </a:cubicBezTo>
                <a:cubicBezTo>
                  <a:pt x="4341" y="9860"/>
                  <a:pt x="4453" y="9894"/>
                  <a:pt x="4572" y="9906"/>
                </a:cubicBezTo>
                <a:cubicBezTo>
                  <a:pt x="4711" y="9920"/>
                  <a:pt x="4847" y="9914"/>
                  <a:pt x="4985" y="9938"/>
                </a:cubicBezTo>
                <a:cubicBezTo>
                  <a:pt x="5102" y="9958"/>
                  <a:pt x="5218" y="9981"/>
                  <a:pt x="5334" y="10001"/>
                </a:cubicBezTo>
                <a:cubicBezTo>
                  <a:pt x="5462" y="10024"/>
                  <a:pt x="5586" y="10015"/>
                  <a:pt x="5715" y="10033"/>
                </a:cubicBezTo>
                <a:cubicBezTo>
                  <a:pt x="5817" y="10047"/>
                  <a:pt x="5932" y="10077"/>
                  <a:pt x="6032" y="10096"/>
                </a:cubicBezTo>
                <a:cubicBezTo>
                  <a:pt x="6129" y="10114"/>
                  <a:pt x="6218" y="10125"/>
                  <a:pt x="6318" y="10128"/>
                </a:cubicBezTo>
                <a:cubicBezTo>
                  <a:pt x="6360" y="10129"/>
                  <a:pt x="6403" y="10128"/>
                  <a:pt x="6445" y="10128"/>
                </a:cubicBezTo>
                <a:cubicBezTo>
                  <a:pt x="6445" y="9789"/>
                  <a:pt x="6464" y="9468"/>
                  <a:pt x="6509" y="9144"/>
                </a:cubicBezTo>
                <a:cubicBezTo>
                  <a:pt x="6525" y="9026"/>
                  <a:pt x="6521" y="8912"/>
                  <a:pt x="6540" y="8795"/>
                </a:cubicBezTo>
                <a:cubicBezTo>
                  <a:pt x="6561" y="8666"/>
                  <a:pt x="6571" y="8506"/>
                  <a:pt x="6604" y="8382"/>
                </a:cubicBezTo>
                <a:cubicBezTo>
                  <a:pt x="6630" y="8284"/>
                  <a:pt x="6668" y="8156"/>
                  <a:pt x="6699" y="8064"/>
                </a:cubicBezTo>
                <a:cubicBezTo>
                  <a:pt x="6735" y="7957"/>
                  <a:pt x="6767" y="7854"/>
                  <a:pt x="6794" y="7747"/>
                </a:cubicBezTo>
                <a:cubicBezTo>
                  <a:pt x="6818" y="7652"/>
                  <a:pt x="6847" y="7590"/>
                  <a:pt x="6858" y="7493"/>
                </a:cubicBezTo>
                <a:cubicBezTo>
                  <a:pt x="6871" y="7380"/>
                  <a:pt x="6858" y="7258"/>
                  <a:pt x="6858" y="7144"/>
                </a:cubicBezTo>
                <a:cubicBezTo>
                  <a:pt x="6140" y="7144"/>
                  <a:pt x="5404" y="7123"/>
                  <a:pt x="4699" y="7176"/>
                </a:cubicBezTo>
                <a:cubicBezTo>
                  <a:pt x="4566" y="7186"/>
                  <a:pt x="4454" y="7204"/>
                  <a:pt x="4318" y="7207"/>
                </a:cubicBezTo>
                <a:cubicBezTo>
                  <a:pt x="4196" y="7210"/>
                  <a:pt x="4088" y="7219"/>
                  <a:pt x="3969" y="7239"/>
                </a:cubicBezTo>
                <a:cubicBezTo>
                  <a:pt x="3907" y="7249"/>
                  <a:pt x="3843" y="7261"/>
                  <a:pt x="3778" y="7271"/>
                </a:cubicBezTo>
                <a:cubicBezTo>
                  <a:pt x="3683" y="7286"/>
                  <a:pt x="3587" y="7287"/>
                  <a:pt x="3492" y="7302"/>
                </a:cubicBezTo>
                <a:cubicBezTo>
                  <a:pt x="3405" y="7315"/>
                  <a:pt x="3357" y="7315"/>
                  <a:pt x="3270" y="7334"/>
                </a:cubicBezTo>
                <a:cubicBezTo>
                  <a:pt x="3218" y="7345"/>
                  <a:pt x="3182" y="7364"/>
                  <a:pt x="3112" y="7366"/>
                </a:cubicBezTo>
                <a:cubicBezTo>
                  <a:pt x="3028" y="7368"/>
                  <a:pt x="2957" y="7386"/>
                  <a:pt x="2889" y="7398"/>
                </a:cubicBezTo>
                <a:cubicBezTo>
                  <a:pt x="2879" y="7398"/>
                  <a:pt x="2868" y="7398"/>
                  <a:pt x="2858" y="7398"/>
                </a:cubicBezTo>
              </a:path>
              <a:path w="16987" h="3176">
                <a:moveTo>
                  <a:pt x="9652" y="7334"/>
                </a:moveTo>
                <a:cubicBezTo>
                  <a:pt x="9652" y="7914"/>
                  <a:pt x="9393" y="9309"/>
                  <a:pt x="9684" y="9747"/>
                </a:cubicBezTo>
                <a:cubicBezTo>
                  <a:pt x="9728" y="9813"/>
                  <a:pt x="9754" y="9789"/>
                  <a:pt x="9811" y="9811"/>
                </a:cubicBezTo>
                <a:cubicBezTo>
                  <a:pt x="9936" y="9859"/>
                  <a:pt x="10059" y="9903"/>
                  <a:pt x="10192" y="9906"/>
                </a:cubicBezTo>
                <a:cubicBezTo>
                  <a:pt x="10331" y="9909"/>
                  <a:pt x="10468" y="9915"/>
                  <a:pt x="10604" y="9938"/>
                </a:cubicBezTo>
                <a:cubicBezTo>
                  <a:pt x="10764" y="9965"/>
                  <a:pt x="10919" y="9991"/>
                  <a:pt x="11081" y="10001"/>
                </a:cubicBezTo>
                <a:cubicBezTo>
                  <a:pt x="11357" y="10019"/>
                  <a:pt x="11631" y="10011"/>
                  <a:pt x="11906" y="10033"/>
                </a:cubicBezTo>
                <a:cubicBezTo>
                  <a:pt x="12152" y="10053"/>
                  <a:pt x="12799" y="10122"/>
                  <a:pt x="12986" y="10001"/>
                </a:cubicBezTo>
                <a:cubicBezTo>
                  <a:pt x="13051" y="9959"/>
                  <a:pt x="13021" y="9975"/>
                  <a:pt x="13049" y="9906"/>
                </a:cubicBezTo>
                <a:cubicBezTo>
                  <a:pt x="13077" y="9837"/>
                  <a:pt x="13069" y="9795"/>
                  <a:pt x="13081" y="9716"/>
                </a:cubicBezTo>
                <a:cubicBezTo>
                  <a:pt x="13095" y="9630"/>
                  <a:pt x="13134" y="9552"/>
                  <a:pt x="13144" y="9462"/>
                </a:cubicBezTo>
                <a:cubicBezTo>
                  <a:pt x="13155" y="9365"/>
                  <a:pt x="13168" y="9272"/>
                  <a:pt x="13176" y="9176"/>
                </a:cubicBezTo>
                <a:cubicBezTo>
                  <a:pt x="13209" y="8766"/>
                  <a:pt x="13173" y="8339"/>
                  <a:pt x="13208" y="7938"/>
                </a:cubicBezTo>
                <a:cubicBezTo>
                  <a:pt x="13216" y="7848"/>
                  <a:pt x="13233" y="7771"/>
                  <a:pt x="13240" y="7684"/>
                </a:cubicBezTo>
                <a:cubicBezTo>
                  <a:pt x="13250" y="7569"/>
                  <a:pt x="13240" y="7449"/>
                  <a:pt x="13240" y="7334"/>
                </a:cubicBezTo>
                <a:cubicBezTo>
                  <a:pt x="12745" y="7334"/>
                  <a:pt x="12262" y="7314"/>
                  <a:pt x="11779" y="7271"/>
                </a:cubicBezTo>
                <a:cubicBezTo>
                  <a:pt x="11216" y="7221"/>
                  <a:pt x="10587" y="7251"/>
                  <a:pt x="10033" y="7302"/>
                </a:cubicBezTo>
                <a:cubicBezTo>
                  <a:pt x="9908" y="7313"/>
                  <a:pt x="9778" y="7302"/>
                  <a:pt x="9652" y="7302"/>
                </a:cubicBezTo>
              </a:path>
              <a:path w="16987" h="3176">
                <a:moveTo>
                  <a:pt x="7048" y="8477"/>
                </a:moveTo>
                <a:cubicBezTo>
                  <a:pt x="7174" y="8477"/>
                  <a:pt x="7279" y="8490"/>
                  <a:pt x="7398" y="8509"/>
                </a:cubicBezTo>
                <a:cubicBezTo>
                  <a:pt x="7482" y="8522"/>
                  <a:pt x="7569" y="8536"/>
                  <a:pt x="7652" y="8541"/>
                </a:cubicBezTo>
                <a:cubicBezTo>
                  <a:pt x="7722" y="8545"/>
                  <a:pt x="7773" y="8568"/>
                  <a:pt x="7842" y="8572"/>
                </a:cubicBezTo>
                <a:cubicBezTo>
                  <a:pt x="8284" y="8596"/>
                  <a:pt x="8733" y="8572"/>
                  <a:pt x="9176" y="8572"/>
                </a:cubicBezTo>
                <a:cubicBezTo>
                  <a:pt x="9167" y="8510"/>
                  <a:pt x="9159" y="8505"/>
                  <a:pt x="9144" y="8477"/>
                </a:cubicBezTo>
                <a:cubicBezTo>
                  <a:pt x="9128" y="8447"/>
                  <a:pt x="9093" y="8391"/>
                  <a:pt x="9080" y="8382"/>
                </a:cubicBezTo>
                <a:cubicBezTo>
                  <a:pt x="9034" y="8349"/>
                  <a:pt x="9011" y="8342"/>
                  <a:pt x="8985" y="8318"/>
                </a:cubicBezTo>
                <a:cubicBezTo>
                  <a:pt x="8946" y="8281"/>
                  <a:pt x="8890" y="8249"/>
                  <a:pt x="8858" y="8223"/>
                </a:cubicBezTo>
                <a:cubicBezTo>
                  <a:pt x="8810" y="8183"/>
                  <a:pt x="8776" y="8163"/>
                  <a:pt x="8731" y="8128"/>
                </a:cubicBezTo>
                <a:cubicBezTo>
                  <a:pt x="8711" y="8113"/>
                  <a:pt x="8675" y="8077"/>
                  <a:pt x="8636" y="8064"/>
                </a:cubicBezTo>
                <a:cubicBezTo>
                  <a:pt x="8625" y="8064"/>
                  <a:pt x="8615" y="8064"/>
                  <a:pt x="8604" y="8064"/>
                </a:cubicBezTo>
                <a:cubicBezTo>
                  <a:pt x="8616" y="8079"/>
                  <a:pt x="8649" y="8144"/>
                  <a:pt x="8668" y="8160"/>
                </a:cubicBezTo>
                <a:cubicBezTo>
                  <a:pt x="8697" y="8185"/>
                  <a:pt x="8758" y="8194"/>
                  <a:pt x="8795" y="8223"/>
                </a:cubicBezTo>
                <a:cubicBezTo>
                  <a:pt x="8843" y="8260"/>
                  <a:pt x="8877" y="8284"/>
                  <a:pt x="8922" y="8318"/>
                </a:cubicBezTo>
                <a:cubicBezTo>
                  <a:pt x="8954" y="8343"/>
                  <a:pt x="8970" y="8347"/>
                  <a:pt x="9017" y="8382"/>
                </a:cubicBezTo>
                <a:cubicBezTo>
                  <a:pt x="9050" y="8407"/>
                  <a:pt x="9053" y="8419"/>
                  <a:pt x="9080" y="8446"/>
                </a:cubicBezTo>
                <a:cubicBezTo>
                  <a:pt x="9101" y="8467"/>
                  <a:pt x="9123" y="8488"/>
                  <a:pt x="9144" y="8509"/>
                </a:cubicBezTo>
                <a:cubicBezTo>
                  <a:pt x="9159" y="8523"/>
                  <a:pt x="9205" y="8550"/>
                  <a:pt x="9176" y="8604"/>
                </a:cubicBezTo>
                <a:cubicBezTo>
                  <a:pt x="9147" y="8659"/>
                  <a:pt x="9130" y="8695"/>
                  <a:pt x="9080" y="8731"/>
                </a:cubicBezTo>
                <a:cubicBezTo>
                  <a:pt x="9024" y="8771"/>
                  <a:pt x="9001" y="8773"/>
                  <a:pt x="8954" y="8826"/>
                </a:cubicBezTo>
                <a:cubicBezTo>
                  <a:pt x="8918" y="8866"/>
                  <a:pt x="8879" y="8901"/>
                  <a:pt x="8858" y="8922"/>
                </a:cubicBezTo>
                <a:cubicBezTo>
                  <a:pt x="8804" y="8976"/>
                  <a:pt x="8783" y="8957"/>
                  <a:pt x="8731" y="8985"/>
                </a:cubicBezTo>
                <a:cubicBezTo>
                  <a:pt x="8694" y="9005"/>
                  <a:pt x="8685" y="9010"/>
                  <a:pt x="8668" y="9049"/>
                </a:cubicBezTo>
                <a:cubicBezTo>
                  <a:pt x="8668" y="9059"/>
                  <a:pt x="8668" y="9070"/>
                  <a:pt x="8668" y="9080"/>
                </a:cubicBezTo>
              </a:path>
              <a:path w="16987" h="3176">
                <a:moveTo>
                  <a:pt x="13526" y="8636"/>
                </a:moveTo>
                <a:cubicBezTo>
                  <a:pt x="13599" y="8642"/>
                  <a:pt x="13649" y="8657"/>
                  <a:pt x="13716" y="8668"/>
                </a:cubicBezTo>
                <a:cubicBezTo>
                  <a:pt x="14145" y="8736"/>
                  <a:pt x="14644" y="8668"/>
                  <a:pt x="15081" y="8668"/>
                </a:cubicBezTo>
                <a:cubicBezTo>
                  <a:pt x="15073" y="8607"/>
                  <a:pt x="15065" y="8600"/>
                  <a:pt x="15050" y="8572"/>
                </a:cubicBezTo>
                <a:cubicBezTo>
                  <a:pt x="15038" y="8549"/>
                  <a:pt x="14997" y="8480"/>
                  <a:pt x="14986" y="8477"/>
                </a:cubicBezTo>
                <a:cubicBezTo>
                  <a:pt x="14939" y="8464"/>
                  <a:pt x="14906" y="8420"/>
                  <a:pt x="14891" y="8414"/>
                </a:cubicBezTo>
                <a:cubicBezTo>
                  <a:pt x="14850" y="8398"/>
                  <a:pt x="14802" y="8406"/>
                  <a:pt x="14764" y="8382"/>
                </a:cubicBezTo>
                <a:cubicBezTo>
                  <a:pt x="14713" y="8350"/>
                  <a:pt x="14705" y="8340"/>
                  <a:pt x="14668" y="8318"/>
                </a:cubicBezTo>
                <a:cubicBezTo>
                  <a:pt x="14640" y="8302"/>
                  <a:pt x="14565" y="8248"/>
                  <a:pt x="14605" y="8287"/>
                </a:cubicBezTo>
                <a:cubicBezTo>
                  <a:pt x="14643" y="8324"/>
                  <a:pt x="14621" y="8358"/>
                  <a:pt x="14668" y="8382"/>
                </a:cubicBezTo>
                <a:cubicBezTo>
                  <a:pt x="14715" y="8405"/>
                  <a:pt x="14729" y="8386"/>
                  <a:pt x="14764" y="8414"/>
                </a:cubicBezTo>
                <a:cubicBezTo>
                  <a:pt x="14811" y="8451"/>
                  <a:pt x="14863" y="8513"/>
                  <a:pt x="14891" y="8541"/>
                </a:cubicBezTo>
                <a:cubicBezTo>
                  <a:pt x="14914" y="8564"/>
                  <a:pt x="14961" y="8549"/>
                  <a:pt x="14986" y="8572"/>
                </a:cubicBezTo>
                <a:cubicBezTo>
                  <a:pt x="15006" y="8590"/>
                  <a:pt x="15035" y="8653"/>
                  <a:pt x="15050" y="8668"/>
                </a:cubicBezTo>
                <a:cubicBezTo>
                  <a:pt x="15047" y="8672"/>
                  <a:pt x="15020" y="8762"/>
                  <a:pt x="15018" y="8763"/>
                </a:cubicBezTo>
                <a:cubicBezTo>
                  <a:pt x="14968" y="8794"/>
                  <a:pt x="14931" y="8763"/>
                  <a:pt x="14891" y="8826"/>
                </a:cubicBezTo>
                <a:cubicBezTo>
                  <a:pt x="14858" y="8878"/>
                  <a:pt x="14845" y="8878"/>
                  <a:pt x="14796" y="8922"/>
                </a:cubicBezTo>
                <a:cubicBezTo>
                  <a:pt x="14768" y="8948"/>
                  <a:pt x="14741" y="8944"/>
                  <a:pt x="14700" y="8985"/>
                </a:cubicBezTo>
                <a:cubicBezTo>
                  <a:pt x="14659" y="9026"/>
                  <a:pt x="14663" y="9052"/>
                  <a:pt x="14637" y="9080"/>
                </a:cubicBezTo>
                <a:cubicBezTo>
                  <a:pt x="14620" y="9099"/>
                  <a:pt x="14571" y="9122"/>
                  <a:pt x="14542" y="9144"/>
                </a:cubicBezTo>
                <a:cubicBezTo>
                  <a:pt x="14542" y="9176"/>
                  <a:pt x="14542" y="9187"/>
                  <a:pt x="14510" y="9176"/>
                </a:cubicBezTo>
              </a:path>
              <a:path w="16987" h="3176">
                <a:moveTo>
                  <a:pt x="15558" y="7398"/>
                </a:moveTo>
                <a:cubicBezTo>
                  <a:pt x="15574" y="7454"/>
                  <a:pt x="15601" y="7495"/>
                  <a:pt x="15621" y="7556"/>
                </a:cubicBezTo>
                <a:cubicBezTo>
                  <a:pt x="15645" y="7629"/>
                  <a:pt x="15635" y="7703"/>
                  <a:pt x="15653" y="7779"/>
                </a:cubicBezTo>
                <a:cubicBezTo>
                  <a:pt x="15673" y="7861"/>
                  <a:pt x="15692" y="7954"/>
                  <a:pt x="15716" y="8033"/>
                </a:cubicBezTo>
                <a:cubicBezTo>
                  <a:pt x="15753" y="8152"/>
                  <a:pt x="15775" y="8228"/>
                  <a:pt x="15780" y="8350"/>
                </a:cubicBezTo>
                <a:cubicBezTo>
                  <a:pt x="15785" y="8464"/>
                  <a:pt x="15790" y="8560"/>
                  <a:pt x="15812" y="8668"/>
                </a:cubicBezTo>
                <a:cubicBezTo>
                  <a:pt x="15830" y="8755"/>
                  <a:pt x="15841" y="8831"/>
                  <a:pt x="15843" y="8922"/>
                </a:cubicBezTo>
                <a:cubicBezTo>
                  <a:pt x="15846" y="9042"/>
                  <a:pt x="15821" y="9169"/>
                  <a:pt x="15812" y="9271"/>
                </a:cubicBezTo>
                <a:cubicBezTo>
                  <a:pt x="15804" y="9365"/>
                  <a:pt x="15812" y="9463"/>
                  <a:pt x="15812" y="9557"/>
                </a:cubicBezTo>
                <a:cubicBezTo>
                  <a:pt x="16051" y="9557"/>
                  <a:pt x="16277" y="9584"/>
                  <a:pt x="16510" y="9588"/>
                </a:cubicBezTo>
                <a:cubicBezTo>
                  <a:pt x="17260" y="9602"/>
                  <a:pt x="18026" y="9573"/>
                  <a:pt x="18764" y="9620"/>
                </a:cubicBezTo>
                <a:cubicBezTo>
                  <a:pt x="18971" y="9633"/>
                  <a:pt x="19682" y="9711"/>
                  <a:pt x="19812" y="9588"/>
                </a:cubicBezTo>
                <a:cubicBezTo>
                  <a:pt x="19850" y="9553"/>
                  <a:pt x="19836" y="9529"/>
                  <a:pt x="19844" y="9462"/>
                </a:cubicBezTo>
                <a:cubicBezTo>
                  <a:pt x="19906" y="8952"/>
                  <a:pt x="19850" y="8374"/>
                  <a:pt x="19812" y="7874"/>
                </a:cubicBezTo>
                <a:cubicBezTo>
                  <a:pt x="19789" y="7571"/>
                  <a:pt x="19812" y="7257"/>
                  <a:pt x="19812" y="6953"/>
                </a:cubicBezTo>
                <a:cubicBezTo>
                  <a:pt x="19680" y="6953"/>
                  <a:pt x="19552" y="6976"/>
                  <a:pt x="19431" y="6985"/>
                </a:cubicBezTo>
                <a:cubicBezTo>
                  <a:pt x="19340" y="6992"/>
                  <a:pt x="19265" y="7010"/>
                  <a:pt x="19177" y="7017"/>
                </a:cubicBezTo>
                <a:cubicBezTo>
                  <a:pt x="19072" y="7026"/>
                  <a:pt x="18958" y="7040"/>
                  <a:pt x="18860" y="7048"/>
                </a:cubicBezTo>
                <a:cubicBezTo>
                  <a:pt x="17939" y="7123"/>
                  <a:pt x="16968" y="6998"/>
                  <a:pt x="16066" y="7080"/>
                </a:cubicBezTo>
                <a:cubicBezTo>
                  <a:pt x="16000" y="7086"/>
                  <a:pt x="15858" y="7111"/>
                  <a:pt x="15843" y="7112"/>
                </a:cubicBezTo>
                <a:cubicBezTo>
                  <a:pt x="15765" y="7119"/>
                  <a:pt x="15690" y="7132"/>
                  <a:pt x="15653" y="7144"/>
                </a:cubicBezTo>
                <a:cubicBezTo>
                  <a:pt x="15603" y="7161"/>
                  <a:pt x="15572" y="7164"/>
                  <a:pt x="15558" y="7207"/>
                </a:cubicBezTo>
                <a:cubicBezTo>
                  <a:pt x="15546" y="7244"/>
                  <a:pt x="15563" y="7295"/>
                  <a:pt x="15558" y="7334"/>
                </a:cubicBezTo>
              </a:path>
            </a:pathLst>
          </a:custGeom>
          <a:noFill/>
          <a:ln cap="rnd" w="3492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c395e"/>
              </a:solidFill>
              <a:latin typeface="Times New Roman"/>
            </a:endParaRPr>
          </a:p>
        </p:txBody>
      </p:sp>
    </p:spTree>
  </p:cSld>
  <p:transition spd="med" advTm="11000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4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0-16T22:17:06Z</dcterms:created>
  <dc:creator>Pat R. Graves</dc:creator>
  <dc:description/>
  <dc:language>en-US</dc:language>
  <cp:lastModifiedBy>Student Name</cp:lastModifiedBy>
  <dcterms:modified xsi:type="dcterms:W3CDTF">2004-04-03T04:38:07Z</dcterms:modified>
  <cp:revision>31</cp:revision>
  <dc:subject/>
  <dc:title>Summertime Samples</dc:title>
</cp:coreProperties>
</file>