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DEF-B630-434B-8EE7-E68539CD1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A369-D130-4CE9-87E1-B8E84DB61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AEC-14D4-48E7-A35B-B9C222DE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9760" y="42832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20C-BF8B-4A6E-BF5C-C3545349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8068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CDF-6F42-41A4-B471-8AC0550E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5608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1240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9976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5608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1240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C3E-08C2-4F4E-9B72-CED681F6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EB42-762B-4C71-A7DC-19AE2F1A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D50D-FAAD-4997-8CF3-DB4AE4B6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A10A-AC94-4686-AAE0-077061F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C099-2B57-427D-AC17-4DD354B9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715D-DE0D-42DD-B512-2A461E59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997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B8AB-4A35-4E17-8E70-8A13C14C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AAE3-B0EE-4F08-AAE5-0442F588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3B8-E5BB-4633-8CE9-EE7429C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068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0E89-B9FB-4C7F-813E-46559947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7BE5-FBAE-46BE-B2A7-C79845A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99760" y="42832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1845-CAC5-49EB-BC0A-68263446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068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27C7-F310-4427-93BC-8D0D0B27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5608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240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9976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5608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240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0D49-612A-40FA-9961-A474EEB7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DDC-D154-4C79-B0E9-BC75CFAB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2FD-72D8-4295-8A6B-49F6EFCA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4D6-C2AC-44F3-B78C-8EBAD8D9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997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84E-B503-4D98-A1CB-A2D83A26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980-708D-4C2C-A248-F9C1D5E5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8068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EC0-203B-48EF-9C93-B37B81B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D59-739B-4EFB-9B35-35D2956F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05824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800360" y="1440"/>
            <a:ext cx="848664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00360" y="382680"/>
            <a:ext cx="848664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873080" y="0"/>
            <a:ext cx="841392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71360" y="1916280"/>
            <a:ext cx="771552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7720" y="1828800"/>
            <a:ext cx="16812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0560" y="1828800"/>
            <a:ext cx="16848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633760" y="1828800"/>
            <a:ext cx="16812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76600" y="1828800"/>
            <a:ext cx="16848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9976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4296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2007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B4B-AF18-4B62-94A6-CF1A418DA850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6503760" cy="149040"/>
            <a:chOff x="0" y="3352680"/>
            <a:chExt cx="650376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650376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713960" y="3352680"/>
              <a:ext cx="2996280" cy="149040"/>
              <a:chOff x="1713960" y="3352680"/>
              <a:chExt cx="299628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713960" y="3352680"/>
                <a:ext cx="167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656800" y="3352680"/>
                <a:ext cx="16776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599640" y="3352680"/>
                <a:ext cx="16776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42840" y="3352680"/>
                <a:ext cx="167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73720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5318-69A4-4AD5-9D0A-B4CA294C2E71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10286640" cy="2438280"/>
            <a:chOff x="0" y="0"/>
            <a:chExt cx="1028664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1028664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800000" y="0"/>
              <a:ext cx="8486280" cy="458640"/>
              <a:chOff x="1800000" y="0"/>
              <a:chExt cx="848628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800000" y="1440"/>
                <a:ext cx="848628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00000" y="382320"/>
                <a:ext cx="848628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73080" y="0"/>
                <a:ext cx="841320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771120" y="1219320"/>
            <a:ext cx="8744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1120" y="1219320"/>
            <a:ext cx="8744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14680" y="3654000"/>
            <a:ext cx="720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4:53:13Z</dcterms:modified>
  <cp:revision>35</cp:revision>
  <dc:subject/>
  <dc:title>Summertime Samples</dc:title>
</cp:coreProperties>
</file>