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0288588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383B-9F22-455C-A56E-887084459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9258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080" y="3966480"/>
            <a:ext cx="9258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0883-FEC4-4B22-8AEB-E23180F27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408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5816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D293-75F0-4499-AB8A-A0850A920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4280" y="159984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74480" y="159984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4080" y="396648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4280" y="396648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774480" y="396648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16F4-A5B4-4B96-AF79-50EF5D261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7281D-7F21-4723-843A-329A49C83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14080" y="1599840"/>
            <a:ext cx="92581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14815-E0EF-4022-A26F-C5B7B425A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9258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EDAD8-99A5-4133-8A37-7EBF5B77A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24DB9-916C-4A26-9BFA-4EFCBD6AC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322B5-EFA1-4462-B18F-F2ADC35F5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42720" y="-360"/>
            <a:ext cx="9258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9F30E-145F-4B78-8BBF-594EFE478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408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BF1AB-C319-4B49-9C65-EB271941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14080" y="1599840"/>
            <a:ext cx="92581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4FA1-98F9-4203-924B-8A1CB6527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25816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4D1B4-A018-4777-BF81-30CC7DA9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4080" y="3966480"/>
            <a:ext cx="9258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7CAFC-FB98-4DDE-8AA7-6FB4869A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9258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4080" y="3966480"/>
            <a:ext cx="9258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CDEE2-4C6E-4683-90AF-0D3B73C23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408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25816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AD10E-C2A8-4FF7-859F-6034E7E36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44280" y="159984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774480" y="159984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4080" y="396648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44280" y="396648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774480" y="396648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F5809-2AA0-4BB4-ADCA-4365055E2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9258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D236-FD5C-4D44-AB8C-DFEA0AD1C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F0A7-8641-4A18-9BBA-4FB2F6A25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07F1-6280-45C8-9CBB-16D43DB4F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42720" y="-360"/>
            <a:ext cx="9258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5863-BE09-4D12-AD34-48EA9B5F7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08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B2B6-3E71-4442-B803-FA1EC5E8B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5816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82FC-0242-4208-B6EB-E7AD0261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4080" y="3966480"/>
            <a:ext cx="9258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D4C6-8B61-4C37-B943-39E487AD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2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14080" y="1599840"/>
            <a:ext cx="9258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14080" y="6248520"/>
            <a:ext cx="24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372080" y="6248520"/>
            <a:ext cx="24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F90DE-AA5C-418C-B0EB-EB5C6C408BA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342720" y="-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1219320"/>
            <a:ext cx="10287000" cy="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2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514080" y="6248520"/>
            <a:ext cx="24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7372080" y="6248520"/>
            <a:ext cx="24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1293A-0ABB-4E42-825C-6C09326F6DC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856800" y="456840"/>
            <a:ext cx="874404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540160"/>
            <a:ext cx="7629480" cy="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268200"/>
            <a:ext cx="10286640" cy="446040"/>
            <a:chOff x="0" y="268200"/>
            <a:chExt cx="10286640" cy="446040"/>
          </a:xfrm>
        </p:grpSpPr>
        <p:sp>
          <p:nvSpPr>
            <p:cNvPr id="48" name=""/>
            <p:cNvSpPr/>
            <p:nvPr/>
          </p:nvSpPr>
          <p:spPr>
            <a:xfrm>
              <a:off x="0" y="268200"/>
              <a:ext cx="10286640" cy="4460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268200"/>
              <a:ext cx="10286640" cy="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704880"/>
              <a:ext cx="10286640" cy="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2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3080" y="456840"/>
            <a:ext cx="874368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ffffff"/>
                </a:solidFill>
                <a:latin typeface="Arial"/>
              </a:rPr>
              <a:t>Lunch Specials</a:t>
            </a:r>
            <a:endParaRPr b="1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85560" y="3429000"/>
            <a:ext cx="3600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d 4 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843440" y="3562200"/>
            <a:ext cx="512748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2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ppetizer Special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2720" y="2057400"/>
            <a:ext cx="4832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uffed Spinach Brea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5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hole-grain bread overstuffed with fresh spinach and feta chee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5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ench Breadstick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5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readsticks loaded with poppy seeds and sesame see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75000" y="2057400"/>
            <a:ext cx="4832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dec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kes and Yogurt Sprea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2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dec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reamy spread served with your choice of whole-grain bread or crack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2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dec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dec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egetable Stuffed Brea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2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dec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hole-grain bread overstuffed with sun-dried tomatoes, asparagus, and broccol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dec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2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ide Dish Special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18680" y="2057040"/>
            <a:ext cx="4629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lled Cucumber Sala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5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ool crisp salad with fresh dill and lem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5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alapeno Cornbrea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5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hick and moist with whole corn kern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5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atmeal Soda Brea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5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hole-grain buttermilk br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391000" y="2057400"/>
            <a:ext cx="4896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dec" pos="3835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vory Wild Rice Soup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7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5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dec" pos="3835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ild rice soup flavored with chestnu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5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dec" pos="3835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dec" pos="3835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rn and Chili Relis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5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dec" pos="3835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onderful side to add to one of our sala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5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dec" pos="3835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dec" pos="3835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 Bean Sala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5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dec" pos="3835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Legumes marinated in balsamic vineg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2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unch Special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18680" y="2057040"/>
            <a:ext cx="462924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ummus Pita Pocket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.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5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hole-wheat pita pocket filled with hummus and fresh veggies, seasoned with herbs and sp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5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lack Bean Chili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.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5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avory vegetarian chili of black beans and diced vegetables, served in a hollowed-out sourdough loa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304960" y="2057040"/>
            <a:ext cx="445788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icken with Peca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283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hunky chicken served over a bed of wild rice, sprinkled with pecans and sliced peac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283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esh Fruit Sala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283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 refreshing and colorful blend of seasonal fruit, served with a creamy yogurt topp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12T14:01:28Z</dcterms:created>
  <dc:creator>Pat R. Graves</dc:creator>
  <dc:description/>
  <dc:language>en-US</dc:language>
  <cp:lastModifiedBy>Student name</cp:lastModifiedBy>
  <cp:lastPrinted>1997-05-06T16:24:06Z</cp:lastPrinted>
  <dcterms:modified xsi:type="dcterms:W3CDTF">2004-04-01T04:50:23Z</dcterms:modified>
  <cp:revision>71</cp:revision>
  <dc:subject/>
  <dc:title>Lunch Specials</dc:title>
</cp:coreProperties>
</file>