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9ACF-8C0C-416F-9D1E-764395D67E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E03F-A497-451D-A150-A918D54E4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y Olafsen will take care of convention details, including room reservations for all attendees. Due date--one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Jenkins and her staff will take care of food preparation issues, including ordering food and arranging for kitchen equipment. Due date: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nu change is required. The Chicken and Potato Salad did not get good test reviews. Replace it with Black Bean Chicken Sal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Jenkins will test. Due date three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--Do we have enough refrigerator sp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247-76ED-4AFC-B3CD-3C44F8A2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020-0254-43DE-BCDB-2D81A3A8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4AC-C5B6-490E-AF4E-0031FB28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7A31-9413-44AC-8CDC-8A162A71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A29D-C3D6-4647-817A-9140B051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2567-9983-41F9-BEB2-EE36B112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094A-EE55-4601-8090-8D4A4B94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B41D-F24B-42B2-A77D-B944970C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B674-099B-4E21-9FA8-827A88B0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8E8E-74D8-4815-B4BE-A13708B0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6CB7-42CE-4306-AFC2-E7CD96C7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2CE4-A292-48A8-BC24-1B8C800E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987F-A641-4F86-B6E5-CA1502B0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9BDE-DC05-41D2-93AE-6AAC2155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CBAF-3699-4C16-B987-5C1D9AC7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84D1-7E67-4687-822A-F8BEA2BA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D5A0-5B4C-4407-9A59-74D35932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91B-B361-4660-B760-9AFB08D6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75F-F1DE-4750-8CEC-EFD5E55C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5F10-FD33-4A33-854E-456BCC6D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6690-9699-4E5F-B4A4-FAE084F8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93D-1A24-4A33-B043-E1FAC8F2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21C2-55D9-4FD2-A69A-E5ECB9F3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D1C-9636-4543-B8AE-3F4CE946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162920" cy="182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00200" y="1440"/>
            <a:ext cx="7543800" cy="381240"/>
          </a:xfrm>
          <a:prstGeom prst="rect">
            <a:avLst/>
          </a:prstGeom>
          <a:gradFill rotWithShape="0">
            <a:gsLst>
              <a:gs pos="0">
                <a:srgbClr val="a1da56"/>
              </a:gs>
              <a:gs pos="100000">
                <a:srgbClr val="7aa5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600200" y="382680"/>
            <a:ext cx="7543800" cy="75960"/>
          </a:xfrm>
          <a:prstGeom prst="rect">
            <a:avLst/>
          </a:prstGeom>
          <a:gradFill rotWithShape="0">
            <a:gsLst>
              <a:gs pos="0">
                <a:srgbClr val="fee168"/>
              </a:gs>
              <a:gs pos="100000">
                <a:srgbClr val="dac1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665360" y="0"/>
            <a:ext cx="7478640" cy="317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2280" y="1916280"/>
            <a:ext cx="6858000" cy="4941720"/>
          </a:xfrm>
          <a:custGeom>
            <a:avLst/>
            <a:gdLst/>
            <a:ahLst/>
            <a:rect l="l" t="t" r="r" b="b"/>
            <a:pathLst>
              <a:path w="4320" h="3264">
                <a:moveTo>
                  <a:pt x="0" y="3264"/>
                </a:moveTo>
                <a:lnTo>
                  <a:pt x="0" y="0"/>
                </a:lnTo>
                <a:lnTo>
                  <a:pt x="4320" y="0"/>
                </a:lnTo>
              </a:path>
            </a:pathLst>
          </a:custGeom>
          <a:noFill/>
          <a:ln w="9360">
            <a:solidFill>
              <a:srgbClr val="fee1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65280" y="1828800"/>
            <a:ext cx="14904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03360" y="1828800"/>
            <a:ext cx="14940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341440" y="1828800"/>
            <a:ext cx="14940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79880" y="1828800"/>
            <a:ext cx="14904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700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2" marL="1193760" indent="-228600">
              <a:spcBef>
                <a:spcPts val="700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6226-84FF-4A3E-A99B-3801F2D2695A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352680"/>
            <a:ext cx="5781600" cy="149040"/>
            <a:chOff x="0" y="3352680"/>
            <a:chExt cx="5781600" cy="149040"/>
          </a:xfrm>
        </p:grpSpPr>
        <p:sp>
          <p:nvSpPr>
            <p:cNvPr id="51" name=""/>
            <p:cNvSpPr/>
            <p:nvPr/>
          </p:nvSpPr>
          <p:spPr>
            <a:xfrm>
              <a:off x="0" y="3438360"/>
              <a:ext cx="5781600" cy="1800"/>
            </a:xfrm>
            <a:custGeom>
              <a:avLst/>
              <a:gdLst/>
              <a:ahLst/>
              <a:rect l="l" t="t" r="r" b="b"/>
              <a:pathLst>
                <a:path w="3642" h="1">
                  <a:moveTo>
                    <a:pt x="0" y="0"/>
                  </a:moveTo>
                  <a:lnTo>
                    <a:pt x="3642" y="0"/>
                  </a:lnTo>
                </a:path>
              </a:pathLst>
            </a:custGeom>
            <a:noFill/>
            <a:ln w="9360">
              <a:solidFill>
                <a:srgbClr val="fee1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1523880" y="3352680"/>
              <a:ext cx="2663640" cy="149040"/>
              <a:chOff x="1523880" y="3352680"/>
              <a:chExt cx="2663640" cy="149040"/>
            </a:xfrm>
          </p:grpSpPr>
          <p:sp>
            <p:nvSpPr>
              <p:cNvPr id="53" name=""/>
              <p:cNvSpPr/>
              <p:nvPr/>
            </p:nvSpPr>
            <p:spPr>
              <a:xfrm>
                <a:off x="1523880" y="33526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61960" y="33526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00040" y="33526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038480" y="33526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138E-BB1F-4520-BABC-F51432C4136F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0"/>
            <a:ext cx="9144000" cy="2438280"/>
            <a:chOff x="0" y="0"/>
            <a:chExt cx="9144000" cy="243828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9144000" cy="2438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1600200" y="0"/>
              <a:ext cx="7543800" cy="458640"/>
              <a:chOff x="1600200" y="0"/>
              <a:chExt cx="7543800" cy="458640"/>
            </a:xfrm>
          </p:grpSpPr>
          <p:sp>
            <p:nvSpPr>
              <p:cNvPr id="63" name=""/>
              <p:cNvSpPr/>
              <p:nvPr/>
            </p:nvSpPr>
            <p:spPr>
              <a:xfrm>
                <a:off x="1600200" y="1440"/>
                <a:ext cx="7543800" cy="380880"/>
              </a:xfrm>
              <a:prstGeom prst="rect">
                <a:avLst/>
              </a:prstGeom>
              <a:gradFill rotWithShape="0">
                <a:gsLst>
                  <a:gs pos="0">
                    <a:srgbClr val="a1da56"/>
                  </a:gs>
                  <a:gs pos="100000">
                    <a:srgbClr val="7aa5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00200" y="382320"/>
                <a:ext cx="7543800" cy="76320"/>
              </a:xfrm>
              <a:prstGeom prst="rect">
                <a:avLst/>
              </a:prstGeom>
              <a:gradFill rotWithShape="0">
                <a:gsLst>
                  <a:gs pos="0">
                    <a:srgbClr val="fee168"/>
                  </a:gs>
                  <a:gs pos="100000">
                    <a:srgbClr val="dac1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pic>
            <p:nvPicPr>
              <p:cNvPr id="6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65360" y="0"/>
                <a:ext cx="7478640" cy="31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lvl="2" marL="914400" indent="50760" algn="ctr">
              <a:spcBef>
                <a:spcPts val="499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2c395e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Good 4 U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Summertime Samples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23880" y="3654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od Sample Planning Sessio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r the Annual Franchise Conventio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o be held in Minneapoli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ur Name, Sol15-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ppetizer Speci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Mango Suprem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Ripe mango slices served on a bed of lettuce and topped with raspberry vinaigrette dressing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almon Tidbit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Tiny open-face salmon sandwich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ruity Chicke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chicken strips with fresh orange and pineapple slices</a:t>
            </a: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dden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Main Cour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ex-Mex Tofu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tofu slices with low-fat barbecue sauce, jalapenos, black beans, and Julie’s special spic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hicken and Potato Salad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cold in a baked taco shell with plenty of lettuce and veggi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Swordfish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in a light dill sauce with wild ri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ser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Papaya Sunda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Icy papaya sherbet served with raspberry yogurt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Bananas and Peache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Bananas and peaches wrapped in soft taco shells, grilled, and topped with vanilla yogurt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Rice Pudding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Julie’s unique low-fat pudding, served warm with cherry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6T22:17:06Z</dcterms:created>
  <dc:creator>Pat R. Graves</dc:creator>
  <dc:description/>
  <dc:language>en-US</dc:language>
  <cp:lastModifiedBy>Student Name</cp:lastModifiedBy>
  <dcterms:modified xsi:type="dcterms:W3CDTF">2004-04-03T05:01:19Z</dcterms:modified>
  <cp:revision>36</cp:revision>
  <dc:subject/>
  <dc:title>Summertime Samples</dc:title>
</cp:coreProperties>
</file>