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commentAuthors.xml><?xml version="1.0" encoding="utf-8"?>
<p:cmAuthorLst xmlns:p="http://schemas.openxmlformats.org/presentationml/2006/main">
  <p:cmAuthor id="0" name="Pat Graves" initials="PG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27T20:38:00.687000000" idx="1">
    <p:pos x="10" y="10"/>
    <p:text>I found the Logo1 picture file and inserted it.
I hope you like the colors I used.</p:text>
  </p:cm>
</p:cmLst>
</file>

<file path=ppt/comments/comment3.xml><?xml version="1.0" encoding="utf-8"?>
<p:cmLst xmlns:p="http://schemas.openxmlformats.org/presentationml/2006/main">
  <p:cm authorId="0" dt="2004-03-27T20:39:47.484000000" idx="2">
    <p:pos x="10" y="10"/>
    <p:text>This slide would be more effective if a picture of happy people was insert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932-3C14-4B9B-8536-00676808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D68-624C-4E85-B716-329453ED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F5A-D9AC-4F58-86BD-4C7F9F62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4FA-B244-452A-BBD0-98481F7D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F95E-CC35-4375-A271-8FF66092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C8E4-D66C-4310-8312-0396585A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319-6EE7-4148-9FDB-99527B4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A431-7291-4264-93C6-054AF28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7396-3B5F-42EB-8E9F-6EE11A3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000A-28B7-4167-915F-141B7D47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170C-0490-48E3-87F2-1E695EF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807-F8A3-4092-BF4C-B74E40F9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BACF-5AB2-488A-BF09-D5EBA895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9CB2-9B29-4FD9-93ED-40AC2ED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1FE6-B849-4B1F-AB45-5ACB0A31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03B5-708C-486B-9C9B-6AE89EF8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C53A-7ECB-46BA-894F-1184418D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047-778F-44F9-8264-BD337EDA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2CD-0FF1-4B06-A8C8-14B5E10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E98-1408-4BA5-A741-1BD4F17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BFB-A6C9-4578-A2E4-D3135C16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1AB-CEB9-4B2D-8E58-D1FA5237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0D4-BE87-451F-8300-D0D65CC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9BD-1E33-4B95-B773-FE144F3E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146-60A3-4A5C-9A9A-88F77FA2B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781-63EE-4302-B50A-8940FD21AA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0000" y="5049720"/>
            <a:ext cx="64008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00360" y="3860640"/>
            <a:ext cx="18716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re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8T02:39:48Z</dcterms:modified>
  <cp:revision>24</cp:revision>
  <dc:subject/>
  <dc:title>Marketing Our Restaurant</dc:title>
</cp:coreProperties>
</file>