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288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931-5436-4C80-A341-1131AC60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91E-178B-47A5-973C-8B09B762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0BC-8FB3-4957-ABDE-145AF3DC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9B6-FFC1-4EA6-A712-4DE8AF53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D9BE-4F13-454C-B874-466DC167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98D9-50B3-443D-BA00-AE07825A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6F35-30ED-40D7-8990-62880517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F995-C41C-4CF9-B3EB-EF1B6C3C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F6EA-15E9-42E1-B9F4-97A7EA32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42720" y="-3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DCD1-11CF-41AF-9C3B-B930C31B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A111-A491-4678-9E9C-64005041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2F1-F285-4E16-9DE1-66782564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65A2-40E5-4936-98F1-C9D2CA4A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0DA0-DA24-4F18-A0F9-6331514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404A-B936-419D-B300-A7D4B771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BE1E-A7E1-4E88-988F-94B6E00F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8F49-F5CB-4F02-A39D-3BA2E7F9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080-61E1-4918-93CB-58451440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DCD-5DBD-41C4-8CF2-8BADDA57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FB7-ED2C-4C79-9188-31A8D2FE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-3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128-2163-4718-A0EF-917719B2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BD9-1148-4700-BDC6-11A2287C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F5F-F75A-4428-BB86-1D37B0FC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F2C-395F-4650-93C3-5A5B5057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14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6F9A-C1BE-46DF-8E01-434222CF40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514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A835-6634-470F-95EF-3C56B4AAF0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56800" y="456840"/>
            <a:ext cx="8744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40160"/>
            <a:ext cx="762948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68200"/>
            <a:ext cx="10286640" cy="446040"/>
            <a:chOff x="0" y="268200"/>
            <a:chExt cx="10286640" cy="446040"/>
          </a:xfrm>
        </p:grpSpPr>
        <p:sp>
          <p:nvSpPr>
            <p:cNvPr id="48" name=""/>
            <p:cNvSpPr/>
            <p:nvPr/>
          </p:nvSpPr>
          <p:spPr>
            <a:xfrm>
              <a:off x="0" y="268200"/>
              <a:ext cx="10286640" cy="44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68200"/>
              <a:ext cx="102866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704880"/>
              <a:ext cx="1028664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3080" y="456840"/>
            <a:ext cx="874368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unch Specials</a:t>
            </a:r>
            <a:endParaRPr b="1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85560" y="3429000"/>
            <a:ext cx="360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43440" y="3562200"/>
            <a:ext cx="51274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etizer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057400"/>
            <a:ext cx="483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ffed Spinach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read overstuffed with fresh spinach and feta che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nch Breadstick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readsticks loaded with poppy seeds and sesame s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5000" y="2057400"/>
            <a:ext cx="483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kes and Yogurt Sp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reamy spread served with your choice of whole-grain bread or crac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getable Stuffed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2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read overstuffed with sun-dried tomatoes, asparagus, and broc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dec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de Dish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8680" y="2057040"/>
            <a:ext cx="4629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lled Cucumber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ol crisp salad with fresh dill and lem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lapeno Corn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ck and moist with whole corn ker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atmeal Soda Bre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grain buttermilk b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1000" y="2057400"/>
            <a:ext cx="48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ory Wild Rice So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d rice soup flavored with chestnu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n and Chili Relis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onderful side to add to one of our sal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 Bean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gumes marinated in balsamic vine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unch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8680" y="2057040"/>
            <a:ext cx="46292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mmus Pita Pocke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ole-wheat pita pocket filled with hummus and fresh veggies, seasoned with herbs and sp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ack Bean Chil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5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avory vegetarian chili of black beans and diced vegetables, served in a hollowed-out sourdough lo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04960" y="2057040"/>
            <a:ext cx="4457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cken with Pec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hunky chicken served over a bed of wild rice, sprinkled with pecans and sliced pe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Fruit Sal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8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dec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refreshing and colorful blend of seasonal fruit, served with a creamy yogurt to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2T14:01:28Z</dcterms:created>
  <dc:creator>Pat R. Graves</dc:creator>
  <dc:description/>
  <dc:language>en-US</dc:language>
  <cp:lastModifiedBy>Student name</cp:lastModifiedBy>
  <cp:lastPrinted>1997-05-06T16:24:06Z</cp:lastPrinted>
  <dcterms:modified xsi:type="dcterms:W3CDTF">2004-04-01T04:50:23Z</dcterms:modified>
  <cp:revision>71</cp:revision>
  <dc:subject/>
  <dc:title>Lunch Specials</dc:title>
</cp:coreProperties>
</file>