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DFF-5692-4982-84B7-14C4E912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EDDA-96C1-401A-9717-A4167C41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CAB-2AF1-4F06-B599-5E1985CB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091-25A3-4998-B950-97524814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B3C0-0E39-41E1-9440-5F3E6C77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A825-059B-4B9C-9EB7-E376659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F868-6DD2-40BB-8BD1-DDC8B519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1A041-FB3B-441F-B6E7-52647534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B746-39BD-46D2-9A57-CEB29F50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0FEE-D391-4678-A937-E5416776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014F-29C3-4D9B-9129-001837FB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50E-8675-4D9D-88BC-61808F4F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3581-37D6-4885-9D52-58D89C92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9BF1-C2F7-422D-84E5-CF2A09D8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A5A3-547F-4E39-A71E-72F3559B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9680-BFA2-4916-AA35-9CD067719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727-2310-4DC5-965D-F5B8B079B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24B-6E59-4264-9FCC-C9E8C971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C57-E607-4C50-AE59-3E229B98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B17-C148-4DC3-BE00-BDB681A7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8786-9662-4C9F-BE8C-8F3C13CC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9433-A902-4A73-AF8A-4E73DDBE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A0B3-42D3-4373-9BE5-199E1B17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FF79-106C-44CC-9219-3BABBE2B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CBBF-B298-4CFC-8326-39CC4E4D316A}" type="slidenum"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6D68-A704-45F8-A253-4FDFAFB863FB}" type="slidenum">
              <a:rPr b="1" lang="en-US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Recipes for Good Health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A Good 4 U Conte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F4BB-A6AB-4512-82DA-F154F24BE98E}" type="slidenum">
              <a:t>1</a:t>
            </a:fld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od Catego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ats, poultry, fis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gg dish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Vegetarian entre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rea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ppetiz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ala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sta, potatoes, r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esser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145B-3648-4F89-8CA5-30E895700B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est Ru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mit written recipe and prepared dis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gister at Good 4 U restaurant on June 7 by 10 a.m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Judging begins promptly at no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Judgment of Good 4 U chefs is fina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40F-2F9F-417A-A463-FDCDBD95B9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testant Categori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Under 18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etween 18 and 50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ver 50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12F1-1DF8-410E-B204-9DE12790EB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udging Criter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gredi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shness and varie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ful balan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ast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extu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esen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FF7C-CC60-4F50-AF22-7DDACFF5AD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z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rst Prize: A month of Friday dinners at Good 4 U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Prize: Two brunch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ll Contestants:  Free luncheon at our Saturday awards ceremon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CAA-D3F7-4BDA-B334-2FC7DCB76E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4:51:40Z</dcterms:created>
  <dc:creator>Pat Graves</dc:creator>
  <dc:description/>
  <dc:language>en-US</dc:language>
  <cp:lastModifiedBy>Pat Graves</cp:lastModifiedBy>
  <dcterms:modified xsi:type="dcterms:W3CDTF">2004-01-05T05:01:19Z</dcterms:modified>
  <cp:revision>4</cp:revision>
  <dc:subject/>
  <dc:title>Recipes for Good Health</dc:title>
</cp:coreProperties>
</file>