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3C0-BDF4-4180-AA3F-57111702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F04-D1DE-42FB-AFC6-C35FA79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9709-F4E3-47E2-806F-694CD4470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6737-A0C6-4E6D-8868-B4771428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C798-87E3-4053-9468-48C7B2DC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3708-FDEF-44A4-93A0-D66FC097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66F2-3AFD-4484-8CF9-BFA85B0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734C-4590-4B2B-911E-277D11DF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0911-A223-48A7-8D9F-DBAC232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36EF-ACD5-4DBE-AC53-B8B5EC7B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2023-BDFA-4C18-9C4C-483E22F0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B466-A38A-4501-89F1-146D514B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693A-57E7-4693-B4A0-7E9A21C4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BA0B-E6F6-492E-8E7B-206D58FC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15AD-D090-4FCF-B521-875D2FE4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2BBB-E97B-4B6B-B0A2-09D71DBC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D4FD-4135-4BF1-85F0-8CC536F9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8C9-6261-4325-A6D2-5E4A36A9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9AD-7C49-49FD-8CFF-4EB3340D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1D95-5E62-4070-B256-93DF7C07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7AE-F176-488A-B2FA-6CC437FF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3B96-D4C0-45B8-A3D8-A205EFE5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69D6-3113-41AE-A9BA-A11F1F3C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C5D8-779F-49D2-BD76-163DE16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C577-3062-4729-9F07-211EEAC73AA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4021-7ED9-494E-B4BA-4C2F076CDC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First in Food Safety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Good 4 U Employee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mb dir="horz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Our Food Safety Program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od handler 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nagement inspectio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afety supervisors on-sit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s to US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afe Food-Handling Practice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r gloves, hair nets, and beard ne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ash hands before and after handling foo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ear clean uniform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No smok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Food Procuremen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Know your suppli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fer local grower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efer organic foo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943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ist on fresh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Insist on cleanlines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est for pesticid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4:00:18Z</dcterms:created>
  <dc:creator>Pat Graves</dc:creator>
  <dc:description/>
  <dc:language>en-US</dc:language>
  <cp:lastModifiedBy>Pat Graves</cp:lastModifiedBy>
  <dcterms:modified xsi:type="dcterms:W3CDTF">2004-01-05T04:06:51Z</dcterms:modified>
  <cp:revision>1</cp:revision>
  <dc:subject/>
  <dc:title>First in Food Safety</dc:title>
</cp:coreProperties>
</file>