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124-4759-4B1A-BBD9-B15CFDB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97F-38B1-4E8D-B173-ED8BAB9C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A95-D0FF-40D5-A89A-BDD9372E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2BE-4A62-49B0-939A-164CC93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D1C1-F989-47A4-8098-32DBE2E6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935-76D7-43FA-94EE-4932494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231-947D-4FC9-A836-6A818B4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86B-9BC1-4EAC-AAF0-6ED1F792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8E72-AF3A-4CF0-9156-445F8EC9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E2A8-1143-49B4-9655-CE906AA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A486-08EC-40B9-A243-DD431C86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DD1A-F369-4AFF-84BE-E1B29281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2A69-CAB0-4E97-AF2A-CC8E7C8EE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y Eat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Young Athle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4 U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Food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ts, oils, and swe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iry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t, poultry, fish, eggs, beans, and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uits and veg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, bread, and pa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a Healthy Di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 variety of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moderate am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low-fat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fresh, unprocessed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candy and junk f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5T02:54:56Z</dcterms:created>
  <dc:creator>Pat Graves</dc:creator>
  <dc:description/>
  <dc:language>en-US</dc:language>
  <cp:lastModifiedBy>Ms. Malnick</cp:lastModifiedBy>
  <dcterms:modified xsi:type="dcterms:W3CDTF">2004-03-25T23:23:12Z</dcterms:modified>
  <cp:revision>3</cp:revision>
  <dc:subject/>
  <dc:title>Healthy Eating for Young Athletes</dc:title>
</cp:coreProperties>
</file>