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FA04-CDEB-430D-A44E-7CFC3134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9BAF-27A2-47D8-B279-1AFFD869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E24E-3FD5-43BD-A6E0-562FAF96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65BF-82C3-4021-94FF-17020106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50ED-3CA8-4AC4-91BB-E992B567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AEF3-E234-405B-9CC8-F1F9CEAD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7BAD-209B-4891-965C-B67CB00B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2222C-7188-4056-AE78-0F8ACE73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B5C6-92C0-43DB-A211-5BB9CE85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7847-AC8A-4B6B-B896-F9307862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AB85E-A3DC-4386-ADB6-08FC9241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E0542-4D81-426E-8EF3-6F9DBBDBA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FEFD-2584-493C-8357-57255026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8646-0A82-4C91-BA94-FEF9B66B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08F1-3B12-4DE2-8A60-EA2950AB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4F25-91BE-4890-8797-A0D0C72C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4907-CA0F-4B51-AE76-0348B758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4A924-A5C7-4A01-9907-E9B40E7D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22E8E-7DDB-48C6-AD42-F4853C83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A70E6-A26F-4A33-B2E6-2BA7D2D9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8941B-A122-4501-ABBC-5B32E15E1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6775B-05E7-49E5-9FA3-95934593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7AF4-68A3-4AF4-B987-F7961B3B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C8603-4B11-4B8D-9284-B5E1B611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EB48D0-9BCA-41E1-9A89-D08EEA1D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75BB6-1157-467E-B447-42A0E6DF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37617-D804-48D3-9E78-8EB3BC45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306C01-7ACA-45ED-9FEF-A8C7E5E2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A83F6-7039-4D55-AC0C-90415D7BD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10D7F-4922-4935-983E-8221F4D5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3FEB2-B4BD-4ECF-8BA2-D3306EB61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60523-CDD2-44DA-9891-AB87991E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7FDB-6974-4BB4-9D0A-FB29B917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7C910-34BA-4D46-9221-3231F553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577C3-AE2D-4654-95B1-01C18711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09B2A-EA67-4036-B75E-CB45AE0E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02B3-51B0-4C76-9203-D053BB0A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B742B-68B6-414C-B418-A7ADD3F5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6AA9D-A110-4A96-9849-D1C8E329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39A4-221C-4C58-8D71-6B9A72AD9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5281F-19BA-4553-A04D-832DF1A1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BC136-9F9E-4DA0-A72A-72DC3293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BFFB-548B-4521-8D76-F5B4D360B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6DF6-0AB5-46A5-802F-3C20B838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E515-F4AB-45AB-9328-708AFF1DA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6ADE-5148-4177-BE93-B949E57C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EE1CA-3E66-4B16-A36D-60E3079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C84C-9623-41B9-B716-2557B63F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2158-D80E-4976-92C6-ED636A109D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351F-7C10-40C0-A429-C558942F9C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F617-3899-456E-8605-3F3CB45A1D9A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8225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6579-78C3-4C3A-8421-65D4B744C775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For the Pleasure of</a:t>
            </a:r>
            <a:br>
              <a:rPr sz="4500"/>
            </a:b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Your Compan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an Your Next Event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ith Good 4 U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cellent Servi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ut your employees and guests at 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make your company look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dhere to promised sched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provide a professional and courteou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guarantee customer satisf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Delightful Men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quality, healthy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ety to appeal to a broad range of tas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vents That Are Good 4 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energy 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ive lu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y celeb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ebrity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ertaining custo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nstrating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gh-Energy Fu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hletic dec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rts promo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etic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event tie-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Healthy Atmosphe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oke-fr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o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sell n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’ll gladly serve your 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Good 4 U Restauran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For the Pleasure of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Your Compan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Make Your Event Special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all Good 4 U 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800-555-1234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20:05:55Z</dcterms:created>
  <dc:creator>Pat Graves</dc:creator>
  <dc:description/>
  <dc:language>en-US</dc:language>
  <cp:lastModifiedBy>Pat Graves</cp:lastModifiedBy>
  <dcterms:modified xsi:type="dcterms:W3CDTF">2004-01-03T00:31:50Z</dcterms:modified>
  <cp:revision>6</cp:revision>
  <dc:subject/>
  <dc:title>For the Pleasure of Your Company</dc:title>
</cp:coreProperties>
</file>