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8dec6"/>
                </a:solidFill>
                <a:latin typeface="Tahoma"/>
              </a:rPr>
              <a:t>Click to move the slide</a:t>
            </a:r>
            <a:endParaRPr b="1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9CC3-99FD-41A7-A237-0259F4CFD8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62080" y="711360"/>
            <a:ext cx="4532400" cy="3398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7760" cy="40942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businesses are sponsoring this 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volunteer taste testers will be chosen from the entra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F429-FF08-4DCD-8533-D054FA50C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62080" y="711360"/>
            <a:ext cx="4532400" cy="3398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7760" cy="40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0694E-86FF-4636-98F8-FA57A661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F6552-7A0A-46F0-BE9F-38BAE077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12977-2D1F-44D3-9AF8-A251E216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6F4C0-8197-4A13-8603-D24BE225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03D5-C097-4D9B-A9B1-DBA50304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0277-EFB9-4A68-B36B-E1198E77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1208-E15F-4C29-BCFA-BFB43134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934C-E568-4BC4-AC63-A3438DF9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483B-921E-4D91-9B02-EE83779B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1309-A9BF-4ABB-868E-CAA98245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9A7DB-FA66-468A-B10D-6B67E419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B2CED-1528-4BB8-B461-5BBD5B97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3F18-AF07-41DB-9AAA-18A9C7E0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4B1B-BC69-4B80-9047-45451A0C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9D6C-DBDC-4581-B400-F6EE3DA8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2ACB-3E77-4C13-902F-695A8BFD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33C9-9082-4FB1-9665-C8EFBFB03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ED114-C2DA-4761-9CD8-70DF21F6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E4F39-3876-4BDB-BF0A-49863D62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A994C-F679-4A28-8E4F-E75F8921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056E0-F593-4342-83FE-8C1765CF7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BF9BB-737C-4454-BD63-4F9E5738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91D7C-3179-47FB-8CE6-044748EA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E8EDE-281D-493D-B63C-50AB8F5F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F32F-94C4-4D56-B384-07FE52D6B30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" name=""/>
          <p:cNvGrpSpPr/>
          <p:nvPr/>
        </p:nvGrpSpPr>
        <p:grpSpPr>
          <a:xfrm>
            <a:off x="6975360" y="5661000"/>
            <a:ext cx="1484280" cy="452520"/>
            <a:chOff x="6975360" y="5661000"/>
            <a:chExt cx="1484280" cy="452520"/>
          </a:xfrm>
        </p:grpSpPr>
        <p:sp>
          <p:nvSpPr>
            <p:cNvPr id="28" name=""/>
            <p:cNvSpPr txBox="1"/>
            <p:nvPr/>
          </p:nvSpPr>
          <p:spPr>
            <a:xfrm>
              <a:off x="8046000" y="5833080"/>
              <a:ext cx="413640" cy="280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7680960" y="5733000"/>
              <a:ext cx="534960" cy="380520"/>
              <a:chOff x="7680960" y="5733000"/>
              <a:chExt cx="534960" cy="380520"/>
            </a:xfrm>
          </p:grpSpPr>
          <p:sp>
            <p:nvSpPr>
              <p:cNvPr id="30" name=""/>
              <p:cNvSpPr/>
              <p:nvPr/>
            </p:nvSpPr>
            <p:spPr>
              <a:xfrm>
                <a:off x="7680960" y="5733000"/>
                <a:ext cx="534960" cy="380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831080" y="5774040"/>
                <a:ext cx="247680" cy="21204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d8784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" name=""/>
            <p:cNvSpPr txBox="1"/>
            <p:nvPr/>
          </p:nvSpPr>
          <p:spPr>
            <a:xfrm>
              <a:off x="6975360" y="5661000"/>
              <a:ext cx="997560" cy="26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5b59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0d87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85756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751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0a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5250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50000">
                  <a:srgbClr val="096462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0d8784"/>
                </a:gs>
                <a:gs pos="100000">
                  <a:srgbClr val="0a68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0a6866"/>
                </a:gs>
                <a:gs pos="100000">
                  <a:srgbClr val="0d878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525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5250"/>
                </a:gs>
                <a:gs pos="50000">
                  <a:srgbClr val="075755"/>
                </a:gs>
                <a:gs pos="100000">
                  <a:srgbClr val="0052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89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8dec6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5F43-081F-41F3-AB68-D97C493E4A1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456000" y="4581360"/>
            <a:ext cx="2484360" cy="900360"/>
            <a:chOff x="3456000" y="4581360"/>
            <a:chExt cx="2484360" cy="900360"/>
          </a:xfrm>
        </p:grpSpPr>
        <p:sp>
          <p:nvSpPr>
            <p:cNvPr id="96" name=""/>
            <p:cNvSpPr txBox="1"/>
            <p:nvPr/>
          </p:nvSpPr>
          <p:spPr>
            <a:xfrm>
              <a:off x="5248080" y="4924080"/>
              <a:ext cx="692280" cy="55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637160" y="4724280"/>
              <a:ext cx="895680" cy="757080"/>
              <a:chOff x="4637160" y="4724280"/>
              <a:chExt cx="895680" cy="757080"/>
            </a:xfrm>
          </p:grpSpPr>
          <p:sp>
            <p:nvSpPr>
              <p:cNvPr id="98" name=""/>
              <p:cNvSpPr/>
              <p:nvPr/>
            </p:nvSpPr>
            <p:spPr>
              <a:xfrm>
                <a:off x="4637160" y="4724280"/>
                <a:ext cx="895680" cy="75708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888800" y="4805640"/>
                <a:ext cx="414720" cy="4215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0d8784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 txBox="1"/>
            <p:nvPr/>
          </p:nvSpPr>
          <p:spPr>
            <a:xfrm>
              <a:off x="3456000" y="4581360"/>
              <a:ext cx="1669680" cy="534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b8dec6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089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8dec6"/>
                </a:solidFill>
                <a:latin typeface="Tahoma"/>
              </a:rPr>
              <a:t>Recipe Contest </a:t>
            </a:r>
            <a:endParaRPr b="1" lang="en-US" sz="48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2989440"/>
            <a:ext cx="6400800" cy="111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les, Judging, and Priz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8dec6"/>
                </a:solidFill>
                <a:latin typeface="Tahoma"/>
              </a:rPr>
              <a:t>Contest Rules</a:t>
            </a: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mit an original written recipe and d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od 4 U restaurant, Saturday, June 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0 a.m. to n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ging is from noon to 2 p.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ges’ decisions are fin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yone may enter except Good 4 U employees and their famil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8dec6"/>
                </a:solidFill>
                <a:latin typeface="Tahoma"/>
              </a:rPr>
              <a:t>Recipe Ingredients</a:t>
            </a: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ce syr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ne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live o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o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rn syr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ficial sweeten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S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55640" y="450720"/>
            <a:ext cx="7632720" cy="12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8dec6"/>
                </a:solidFill>
                <a:latin typeface="Tahoma"/>
              </a:rPr>
              <a:t>Awards</a:t>
            </a: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z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lace: Four Friday din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lace: Two brunch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e lunch local entrant awards ceremo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ze with three catego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 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8 to 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 5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7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8dec6"/>
                </a:solidFill>
                <a:latin typeface="Tahoma"/>
              </a:rPr>
              <a:t>Judging Criteria</a:t>
            </a:r>
            <a:endParaRPr b="1" lang="en-US" sz="4400" spc="-1" strike="noStrike">
              <a:solidFill>
                <a:srgbClr val="b8dec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s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x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ent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e0a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gredien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shness and varie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althful bal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0T21:45:06Z</dcterms:created>
  <dc:creator>Marple</dc:creator>
  <dc:description/>
  <dc:language>en-US</dc:language>
  <cp:lastModifiedBy>Pat Graves</cp:lastModifiedBy>
  <dcterms:modified xsi:type="dcterms:W3CDTF">2004-01-05T06:37:19Z</dcterms:modified>
  <cp:revision>10</cp:revision>
  <dc:subject/>
  <dc:title>A Good 4 U Recipe Contest </dc:title>
</cp:coreProperties>
</file>