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59564-8015-4DAD-9A59-C793B53E8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09CDD-8E48-4EFD-95E4-1FA3CEAA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1732-691E-4FFD-85C4-C53A2D55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AFAD-5EC5-4D1E-A8B7-A7492147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932B-315F-4B28-B58B-EA84ADAB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E5C4-1A8C-4342-86FD-21F343CB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83D4-555E-4EC1-BE7C-B57594A1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E5B9-95D1-4176-B2C3-E8958DAA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FB76-F6D0-43EC-B604-D36C374C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9848-84AF-434D-8BE7-0D1A153F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50A0-76B8-4065-9BEF-288E085C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180AB-EF73-4095-A24E-D33E4AF1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E8FD-16AB-4BC2-AD29-DC07BF03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30A6-3B60-4900-AA59-F2911523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3BEF-8ABE-4145-AB53-71AB5526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6E54-DFBD-4CE3-8193-A95B1715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2E62-F259-486A-8A99-DDAE007D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0939B-6CC5-4F29-B830-E10619F5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64ED11-F7AB-4F76-B6AD-D8F9A5C7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88A3EE-4A3F-4D33-A3FF-4D51063F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255D30-FC48-4A86-9DF1-03823EA8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A6E160-4CD2-4C27-8AC2-0144CAA2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B4C9-8FD6-48FA-B971-A46D0AE4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4D41ED-7A6F-4C44-829F-2DAD0B39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F312D1-38CE-406D-A57B-00AF6638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3DA4D9-7C3D-4592-8505-B37D7654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C4492-8FC3-40FB-8DD2-FA593B34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14E2C-144C-4831-8125-36DA0FB6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201E5E-131E-4E19-B31F-1BED92E0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052B1-35B3-46D6-993C-70A47A2D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6495B-A59E-41A6-BA79-707EF08D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684F0-2B6A-4BB4-9F0C-F25CCB8B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6D0B3-3BFD-416C-9790-81824738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8B58-80D4-46FC-A49E-B52D8605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91182-77E2-4AE4-964E-341B8EF4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FF70-04F6-4C24-B1B6-CB09B7E6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54EF8-60BC-4797-BEB8-E9EC1896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B0C01-06D7-427F-9582-16B12758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3F47-BFF6-4B05-B7BF-D0831EE6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EDE6C-F203-48CB-9877-6E40210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48484-8038-4A46-A249-B9C3743E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6352C-86C0-46F2-9D7A-A0F1B5AE5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9458B-790A-4ED0-AD12-2035323E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1777-48DF-4A3E-A75F-68E68316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4C0C-750A-427C-BEBB-4431C7B6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5DAD4-46F1-4012-9A3A-6DF18BD9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D05A3-F520-4E8F-A80E-19A400D3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21A42-602B-4242-B3DA-25DE68BD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E800-CBFC-4DFD-A817-34FA86DE53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BE10-8D95-467F-9179-55BF365333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1F3F-37BF-493F-86B9-95293982050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8225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9659-157A-4171-AEBB-F78246E420D2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For the Pleasure of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Your Compan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 Your Next Event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 Good 4 U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Fun Is Good 4 U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rts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etic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letic dec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cellent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ut your employees and guests at 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ake your company look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dhere to promised sche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rovide a professional and courteou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uarantee customer satisf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Delightful Men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quality, healthy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ety to appeal to a broad range of t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ple Men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neapple/grapefruit fiz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grain panca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fu faji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ern omel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nts That Are Good 4 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energy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ve lu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y celeb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ebrity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taining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ng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Healthy Atm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e-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ell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ll gladly serve your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or the Pleasure of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Your Compan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ke Your Event Speci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l Good 4 U 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800-555-1234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0:05:55Z</dcterms:created>
  <dc:creator>Pat Graves</dc:creator>
  <dc:description/>
  <dc:language>en-US</dc:language>
  <cp:lastModifiedBy>Pat Graves</cp:lastModifiedBy>
  <dcterms:modified xsi:type="dcterms:W3CDTF">2004-01-03T23:52:23Z</dcterms:modified>
  <cp:revision>8</cp:revision>
  <dc:subject/>
  <dc:title>For the Pleasure of Your Company</dc:title>
</cp:coreProperties>
</file>