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45B-F363-4DFA-8329-98800DE4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873B-D93D-4EB0-AF1B-98645A05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04FB-8B2F-41BC-9952-8BD18267D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6FEE-FA1C-446E-A4DF-5793352E6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71BE-75F4-45BB-B4C9-A09D7EA67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66CC-EC26-4699-BCBC-163A1481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1984-78EF-4FFA-A05E-768170FA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87DD-C64F-4550-A3FC-2E658BE1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3F9-B543-4318-8FC2-73247D97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363B-F1DD-43FC-BD83-6938FC17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25F5-4807-4787-B92D-7DA31683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078C-00D4-48B3-A244-EAFE141F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6892-A67A-4839-A398-DF79EB18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EF80-954E-4AB0-A786-C8FCD6B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9A607-AE4E-4DC8-ACE6-8F796C01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19294-B28E-4FE7-BF79-3177484D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543B-957A-4C9D-82D5-58CC6CAD7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70D-90A3-4930-A777-B24B7A88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4AA1-4962-4141-B611-2EFA31AC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69B-BFF6-4DE6-8B0C-153B6CE1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0544-89E3-44FD-8934-A30C4BA4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F26-7D0D-4157-BF4C-14C4DC0A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8D0E-301A-4B46-BEB1-3992D4D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221-096F-4F6F-B007-A95872E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9326-769C-4E90-AE35-ACDA043B5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B1F-B31E-4B82-96F1-0D81007D6D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rt Diet O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oosing Low-Fat Fo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ories from Fat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ead, Cereal, Rice, Pas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g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n tortil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ta br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ff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s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co sh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21840" y="285480"/>
            <a:ext cx="7650360" cy="13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lories from Fat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get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ea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getable ju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 3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nch f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 brow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ion r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3:18:59Z</dcterms:created>
  <dc:creator>Pat Graves</dc:creator>
  <dc:description/>
  <dc:language>en-US</dc:language>
  <cp:lastModifiedBy>Pat Graves</cp:lastModifiedBy>
  <dcterms:modified xsi:type="dcterms:W3CDTF">2004-01-05T03:27:48Z</dcterms:modified>
  <cp:revision>1</cp:revision>
  <dc:subject/>
  <dc:title>Smart Diet Options</dc:title>
</cp:coreProperties>
</file>