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BC232-A517-4A75-B038-015504858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61760" y="5331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748AE-C719-48AC-AEE1-69AB01077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61760" y="5331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AC139-0E4C-4A68-8166-332346462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61760" y="5331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7F89B-3A2B-48A1-AF7B-D6A031C75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2B095-8173-4AA6-96C3-5E16219DF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1760" y="5331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7FAE7-81EF-4DCA-99F6-28E0B0860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1760" y="5331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32885-5476-4741-9DC4-63538DFF3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1760" y="5331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292F8-63F7-4801-9889-BE4CA7EE0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1760" y="5331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F7EB0-C00A-45EE-A0BE-26B3569D3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761760" y="533160"/>
            <a:ext cx="7848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C1221-0EC5-4B27-80A2-3404F0389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1760" y="5331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69D6B-1AAC-472E-83EA-35518E816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5331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11B66-3662-4F6C-9D67-B5CFEE1FD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61760" y="5331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E711E-7F3C-4A6C-AD33-C01D84772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61760" y="5331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FA0F1-8B22-4116-A8BC-C52232882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61760" y="5331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9A032-F6F0-4A80-BCEE-FC85ECA69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1760" y="5331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7977F-5F29-40E9-B0B8-324E44642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61760" y="5331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B9EBD-E947-418E-92F2-B9A26CA8F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5331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0C5B2-9500-4067-8C70-86FE3B6ED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61760" y="5331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1D509-3207-4286-B596-52932B3E1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5331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D9A74-B893-43C2-A009-7A86EC6A9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61760" y="533160"/>
            <a:ext cx="7848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E0FA4-488B-446C-BC99-0CA7C4B68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61760" y="5331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DB1BC-9DA4-4C9A-A415-59B886B94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61760" y="5331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7CCDE-DD58-4E04-99B9-EB9F98F35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61760" y="5331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7403E-3C9D-495B-B6C3-9A1B15FDC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68120" y="228600"/>
            <a:ext cx="8823600" cy="6095880"/>
          </a:xfrm>
          <a:prstGeom prst="roundRect">
            <a:avLst>
              <a:gd name="adj" fmla="val 11046"/>
            </a:avLst>
          </a:prstGeom>
          <a:noFill/>
          <a:ln w="28440">
            <a:solidFill>
              <a:srgbClr val="2146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61760" y="5331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cc3300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21462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304e1c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ffff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4400" y="6404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33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33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858000" y="6404040"/>
            <a:ext cx="1295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cc33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CB961-4AE1-4607-B22E-661678B15E45}" type="slidenum">
              <a:rPr b="1" lang="en-US" sz="1400" spc="-1" strike="noStrike">
                <a:solidFill>
                  <a:srgbClr val="cc33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2120" y="1709640"/>
            <a:ext cx="7696080" cy="0"/>
          </a:xfrm>
          <a:prstGeom prst="line">
            <a:avLst/>
          </a:prstGeom>
          <a:ln w="38160">
            <a:solidFill>
              <a:srgbClr val="2146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304e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50760">
            <a:solidFill>
              <a:srgbClr val="2146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100" spc="-1" strike="noStrike">
                <a:solidFill>
                  <a:srgbClr val="cc3300"/>
                </a:solidFill>
                <a:latin typeface="Arial Black"/>
              </a:rPr>
              <a:t>Click to edit the title text format</a:t>
            </a:r>
            <a:endParaRPr b="0" i="1" lang="en-US" sz="41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669960" y="6375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33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108240" y="6375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33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33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6537240" y="6375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cc33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FAC9B-327B-4C3B-BD5D-EEE3C6BCD4CF}" type="slidenum">
              <a:rPr b="1" lang="en-US" sz="1400" spc="-1" strike="noStrike">
                <a:solidFill>
                  <a:srgbClr val="cc33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ffff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33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80808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100" spc="-1" strike="noStrike">
                <a:solidFill>
                  <a:srgbClr val="cc3300"/>
                </a:solidFill>
                <a:latin typeface="Arial Black"/>
              </a:rPr>
              <a:t>Food Safety First</a:t>
            </a:r>
            <a:endParaRPr b="0" i="1" lang="en-US" sz="41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752120" y="3566880"/>
            <a:ext cx="54104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Good 4 U </a:t>
            </a:r>
            <a:br>
              <a:rPr sz="3300"/>
            </a:b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Employee Training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1760" y="5331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cc3300"/>
                </a:solidFill>
                <a:latin typeface="Arial Black"/>
              </a:rPr>
              <a:t>Should We Be Safe?</a:t>
            </a:r>
            <a:endParaRPr b="0" lang="en-US" sz="33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763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21462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04e1c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akes time &amp; effor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04e1c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osts mone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04e1c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Why bother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94040" y="1905120"/>
            <a:ext cx="3763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21462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Yes!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04e1c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Healthy imag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04e1c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ride &amp; ethic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04e1c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Avoid lawsuit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04e1c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tay in busines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1760" y="5331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cc3300"/>
                </a:solidFill>
                <a:latin typeface="Arial Black"/>
              </a:rPr>
              <a:t>Promoting Food Safety</a:t>
            </a:r>
            <a:endParaRPr b="0" lang="en-US" sz="33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21462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ncourage proper food handling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21462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requent management inspect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21462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On-site safety supervisor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21462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ports to USDA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1760" y="5331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cc3300"/>
                </a:solidFill>
                <a:latin typeface="Arial Black"/>
              </a:rPr>
              <a:t>Food Handling Rules</a:t>
            </a:r>
            <a:endParaRPr b="0" lang="en-US" sz="33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21462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loves, hair nets, beard nets required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21462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ash before and after handling food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21462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mployees wear clean uniform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21462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o smoking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1760" y="5331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cc3300"/>
                </a:solidFill>
                <a:latin typeface="Arial Black"/>
              </a:rPr>
              <a:t>Food Procurement</a:t>
            </a:r>
            <a:endParaRPr b="0" lang="en-US" sz="33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21462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Know your supplier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04e1c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se local grow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04e1c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y organic foo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21462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sist 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04e1c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reshnes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04e1c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eanlines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04e1c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esting for pesticid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371920" y="1905120"/>
            <a:ext cx="3771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1760" y="5331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cc3300"/>
                </a:solidFill>
                <a:latin typeface="Arial Black"/>
              </a:rPr>
              <a:t>Inspections</a:t>
            </a:r>
            <a:endParaRPr b="0" lang="en-US" sz="33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21462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raining inspect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04e1c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chedule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04e1c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operativ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21462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evaluation inspect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21462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DA inspect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19T01:27:54Z</dcterms:created>
  <dc:creator>Marple</dc:creator>
  <dc:description/>
  <dc:language>en-US</dc:language>
  <cp:lastModifiedBy>Pat Graves</cp:lastModifiedBy>
  <cp:lastPrinted>1997-05-19T01:32:24Z</cp:lastPrinted>
  <dcterms:modified xsi:type="dcterms:W3CDTF">2004-01-05T04:40:18Z</dcterms:modified>
  <cp:revision>14</cp:revision>
  <dc:subject/>
  <dc:title>Food Safety First</dc:title>
</cp:coreProperties>
</file>