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6161-0FAB-4EB7-9BC8-61CC67CDB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4 U focuses on fun and ser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eep customers hap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an upbeat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act many organiz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ings we do to make the atmosphere fun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ing sports promo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zing energetic staff with a positive attitude to provide quick, efficient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ing with a theme that fosters a relaxed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the sample me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healthy bever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vegetarian and meat di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C72-DDFB-4EDE-AAFB-9028F189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B6B-5031-4C76-BBF5-7E07C6E9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88D-DC5E-44EF-B2A9-C2A59CA9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832-E5EA-4E72-9824-8B44488A7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1290-668C-4871-8A05-1C46A51E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5D7B1-51A1-43E8-93DE-6CA83F51E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37EE-E05C-47B3-9F99-DA9E2381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3717-18EE-4573-81E2-9A3F2E0D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EBC1-A23C-4BDA-B671-82EEA34D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F7CC-08DB-408D-B2E7-75C8332C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783-2E5E-4C3A-A03A-821E00F1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050F-04E6-42D5-AE0D-23756C17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383A-1162-4B8F-BC70-38170CC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B147-BDAD-4E8F-B18A-63A09FE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EA95-673B-4248-B7AE-87F8B8C4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A13F-BEA8-4561-B81E-A669C1B54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0D98-4AAF-481E-B270-E044C765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D0571-134A-486E-95CC-2E27B3C8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1E4D33-66AE-4966-A7F2-2BD38294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6FE6CA-3083-4F46-9F7F-1E529EA7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7B3077-19F4-4732-823C-10C5835F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FD218F-0CBE-4A0A-9F6F-E119F041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F53-8922-4E58-B534-1F577570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375C1-C2C3-4E4C-8CB7-A71D38EB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0A19A3-D035-4FC9-B8B8-7D740D07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CBFA6-29ED-4960-B51F-6F9C7D35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AB8C3-5310-427B-8FFB-A32525B4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EDB6B7-F87C-4FF5-88FD-A01FF5A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ECDB9-9271-4EA2-9123-EC6423F4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41DC1-25EA-4590-B3CE-5571C956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0E91C-413B-43C1-9BEE-DC54BCCDC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4E8C4-7629-4B65-B965-C5E5D5152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3C317-A330-4566-9B94-546803C0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929-B45D-4F3D-BF62-B684074B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5A46-8314-44FA-AA51-CBE6D30D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D1D39-8415-4EC9-A595-1B2DE6B0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5316-E7FA-4F22-93A4-E39DB855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3ECD1-4AA6-4C1D-B1CB-7357DE3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CD8A0-DE43-4A3A-97BB-03C01D99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BB209-BC91-4C03-88C7-91975406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B95EC-05E1-46E8-A45E-8ACA5922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DD2E2-9EEB-4820-8F3E-73A63FD82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0765-341C-413D-9E61-6913D03A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4AE-0ADF-4BF7-9B8C-D983F461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2353-D4C0-4FFD-A8E8-CACD90DD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1114-F300-4737-8625-0FCD8DFD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BFD-CEFF-4CC2-ACD6-EAD22BDA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7E3D-6C61-4B4D-8F8A-43CACB4F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D4A5-F805-4114-BAF9-4F8715F735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FF2E-DD23-41F0-B162-2B4B572A3B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4B99-7947-4204-812A-9F8DAB380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9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D9D-5CEB-4F82-9772-E0679CD029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5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troducing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Good 4 U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nday Brunc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very Sunda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rom 10 a.m. to 2 p.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un Is Good 4 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rt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etic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letic dec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ample Menu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ineapple/grapefruit fizz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ultigrain pancak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fu fajit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estern omele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3:55:45Z</dcterms:created>
  <dc:creator>Pat Graves</dc:creator>
  <dc:description/>
  <dc:language>en-US</dc:language>
  <cp:lastModifiedBy>Pat Graves</cp:lastModifiedBy>
  <dcterms:modified xsi:type="dcterms:W3CDTF">2004-01-04T01:03:16Z</dcterms:modified>
  <cp:revision>3</cp:revision>
  <dc:subject/>
  <dc:title>Introducing the Good 4 U Sunday Brunch</dc:title>
</cp:coreProperties>
</file>