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DA5C-B5E5-407A-96D1-E1C3372D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0509-774C-4198-B765-4F60FD2E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5E551-B77C-4D00-9470-BBE2824E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9592E-5E1B-4239-9966-9F66332D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00DA6-579C-49A6-A4F4-938B63F8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6586-3A5B-4002-8BCA-E6EEF979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E127-3B64-4E31-9960-A887BD2B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110C-A345-4444-B012-96980FE87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F07D-F7A8-4710-8BAD-658B6007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C41F-BB14-4A51-B8A7-B46840CF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D97D-C582-4EB8-A3A5-3BC59995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1A0DB-E950-40B3-9211-69083A6F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7F54-D04E-4BAF-9DF9-CFE04FEA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BFC2-2C08-4E4B-A6ED-61C8CEC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BF91-A309-4DF2-B101-146C4930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61A3-D29A-4985-B906-8572D07E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184CA-2163-4EB8-AF6A-95E329977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2601F-D282-4FAE-91C7-BEA1274D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A06DB-00D1-4919-A5AF-9FC58192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D7AE7-420B-49AD-8015-3316F63A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84EBC-39E8-4975-8233-9CE3C7E5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42AA7-60EE-400C-8D6D-72B13243F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0E6AC-DFC2-4B46-8F60-500AAF7A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15EC8-30FB-4BA4-B561-3D7F1D8F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71547-6E34-43FD-AA6A-7F67110A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1AD585-7BA1-494F-B53A-1527C08A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3983C-1BFB-4CE5-989A-5C1F822F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C816E-D1B0-46B0-9F6D-9B956450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B4299E-2B29-4567-AF59-EC5BECA54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B5E1A-1EBB-48EE-AA72-D4CC65F7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20151-973A-4E3E-B9CF-08849786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D9EA-2CB7-4F88-B3B9-2A68AE7B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106D4-0E33-4231-AEB6-23A8F14A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97294-2D91-447D-8AD4-814E9FAD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E9384-8503-4F3E-91C0-9F97B3DE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233C-9598-4533-A706-C8AA6A0A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CB579-7259-45D4-8622-0A9C7D06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8C0F-779C-4CE0-9831-B0F879A8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7EFA7-10A7-4B21-816B-74288AEC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E687A-0F22-4091-B808-CEF5B482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02BEE-EDFE-462E-B73E-85BBCA51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5D0C6-947B-41CC-BF2B-140E0F5E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004BB-7FEE-45D9-B190-B98CF926E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A246-3B8C-4F79-9C6A-BFCFC57B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6D19-9859-4F67-8F9A-C462413B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020CA-7FB0-4E23-88C5-C8DBE1D4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E0E0-29C8-48A3-BC38-D45B7FEB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5C04-F48A-41FF-81E5-6CD8279F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9F2-36C8-4504-9F9E-29A139B018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0238-56C0-41F8-A072-6F459797B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C6A82-2D77-476E-A1EF-FFCFF1DB9A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B977-D997-43A7-938B-0CBE5770A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or the Pleasure of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Your Compan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 Your Next Event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Good 4 U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cell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ut your employees and guests at 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ke your company look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dhere to promised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rovide a professional and courteous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uarantee customer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Delightful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quality, healthy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ty to appeal to a broad range of t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-Energy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letic de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rts pro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etic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event tie-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nts That Are Good 4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energy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ve lu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y cele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ebrity pro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taining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ng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Healthy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ell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ll gladly serve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0:05:55Z</dcterms:created>
  <dc:creator>Pat Graves</dc:creator>
  <dc:description/>
  <dc:language>en-US</dc:language>
  <cp:lastModifiedBy>Pat Graves</cp:lastModifiedBy>
  <dcterms:modified xsi:type="dcterms:W3CDTF">2004-01-02T23:27:23Z</dcterms:modified>
  <cp:revision>5</cp:revision>
  <dc:subject/>
  <dc:title>For the Pleasure of Your Company</dc:title>
</cp:coreProperties>
</file>