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78B-6309-4131-BF76-8D241673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4A5-BD51-4D3D-A91B-20CE971B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EF1E-47AD-4127-91D3-F6E7FCF7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C27-05BB-47F2-A2CA-FEFF63184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CB94-8D33-4C10-ABCE-4BBA6128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2F1A-9B8F-41BE-8C4E-6D8383C0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FB53-8B6B-4AA0-8B7A-9B09E85B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3DFF-CCCA-48E5-AAA2-04531B0E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E527-CC6A-4848-9C8A-88A9F3AF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216B-9783-4717-AE92-6CDD32C6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63285-4344-43E4-84DF-B1E82648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ED24-C42F-4776-AF88-79D7954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D12E-504F-493A-86CC-8DDC73D9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3A88-CB44-4507-8643-E99E5843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801C-6567-4121-B090-417E7062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F3ED-9B77-406B-998C-A4BB1B50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9E71-96D7-4C46-9E4C-38331671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087-9334-4C2B-8D8E-93DEE963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4B2-D2A4-4429-8AD5-C868411E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264-720C-4D20-8D21-FAC99D11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18BF-A4F9-4B91-8AD7-17312B7B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533-7F57-49D5-BB76-875479C8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E7D-0B99-4221-BAB9-0B4D4EBE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0824-835D-4F79-87A0-201470EA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8714-378E-4844-A9F8-2EC1721283F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436C-1832-4558-8A1D-034482BB4914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roducing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Good 4 U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nday Brun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very Sunda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om 10 a.m. to 2 p.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ample Men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ineapple/grapefruit fiz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ultigrain pancak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fu fajit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estern omel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3:55:45Z</dcterms:created>
  <dc:creator>Pat Graves</dc:creator>
  <dc:description/>
  <dc:language>en-US</dc:language>
  <cp:lastModifiedBy>Pat Graves</cp:lastModifiedBy>
  <dcterms:modified xsi:type="dcterms:W3CDTF">2004-01-03T00:04:43Z</dcterms:modified>
  <cp:revision>1</cp:revision>
  <dc:subject/>
  <dc:title>Introducing the Good 4 U Sunday Brunch</dc:title>
</cp:coreProperties>
</file>