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C7E-0DB9-401F-B5AE-21E1F70D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CB90-A478-4703-9369-DFBE162E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F91-94EF-431B-B303-2CF459CD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7162-8B35-4777-9F7F-2D51AEB5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FBC3-358E-464A-B0EC-5B9D45E2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AAAD-90CC-40BA-BBB6-CDFE1C20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9BAE-B91D-4432-B634-84A4F5CB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EF3F-6042-49C0-AE89-E5EF83CC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0819-9A5D-4DE8-B575-49F2389E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818D-C179-4535-9DCF-8F84CBA2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CB14-239B-43DD-89D5-9060B3EE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1A17-DB52-4610-B229-C9978EFE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91BF-C8E5-4D39-8C38-D3975C5E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295F-E65B-4399-9604-23C93E1E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5D7E-8B8A-4A04-A817-E83BE628F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CE9C-A6BA-4F35-A1BE-7F21A106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806A-5613-4726-98E2-6DCE3C53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EAC-22FA-42C0-9370-4F0A10CE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E6DE-B39C-4938-B40D-EADBBEC30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D948-26D4-4E67-9CBB-78A3238B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5800" y="4651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6FB9-AFDD-4FD2-966B-48654440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1271-AF08-4CAA-9481-8015A91A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AF1-065D-4F96-987A-BE055660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AD57-08A9-4479-9F9C-900E2701C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3dfcf"/>
                </a:gs>
                <a:gs pos="100000">
                  <a:srgbClr val="f3f1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44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d4d2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4d2cb"/>
                    </a:gs>
                    <a:gs pos="100000">
                      <a:srgbClr val="f3f1e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dcdad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4d2cb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e1da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4d2cb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cdad3"/>
                    </a:gs>
                    <a:gs pos="100000">
                      <a:srgbClr val="f3f1e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cdad3"/>
                    </a:gs>
                    <a:gs pos="100000">
                      <a:srgbClr val="f3f1e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f3f1e9"/>
                  </a:gs>
                  <a:gs pos="100000">
                    <a:srgbClr val="dcda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dcdad3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eae8e0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1da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cdcbc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d4d2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ad3"/>
                  </a:gs>
                  <a:gs pos="100000">
                    <a:srgbClr val="f3f1e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d2cb"/>
                  </a:gs>
                  <a:gs pos="100000">
                    <a:srgbClr val="f3f1e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d2cb"/>
                  </a:gs>
                  <a:gs pos="100000">
                    <a:srgbClr val="f3f1e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ad3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bc4"/>
                  </a:gs>
                  <a:gs pos="100000">
                    <a:srgbClr val="f3f1e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ad3"/>
                  </a:gs>
                  <a:gs pos="100000">
                    <a:srgbClr val="f3f1e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c6c4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3f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3f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d4d2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d4d2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d4d2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3f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2f0e8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2f0e8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2f0e9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ae8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f2f0e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2f0e8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2f0e8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d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d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d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d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dfcf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dfcf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d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e3e1da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e3e1d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2f0e8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e3e1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e1da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e3e1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8e0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dfcf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e3df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dfcf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e3df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4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4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4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4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4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EA57-DEDE-4338-BED6-8AA22A07E8E5}" type="slidenum">
              <a:rPr b="0" lang="en-US" sz="1000" spc="-1" strike="noStrike">
                <a:solidFill>
                  <a:srgbClr val="0000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2a4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816600" y="5684760"/>
            <a:ext cx="1806840" cy="649440"/>
            <a:chOff x="6816600" y="5684760"/>
            <a:chExt cx="1806840" cy="649440"/>
          </a:xfrm>
        </p:grpSpPr>
        <p:sp>
          <p:nvSpPr>
            <p:cNvPr id="70" name=""/>
            <p:cNvSpPr/>
            <p:nvPr/>
          </p:nvSpPr>
          <p:spPr>
            <a:xfrm>
              <a:off x="8182080" y="5919840"/>
              <a:ext cx="441360" cy="414360"/>
            </a:xfrm>
            <a:custGeom>
              <a:avLst/>
              <a:gdLst/>
              <a:ahLst/>
              <a:rect l="l" t="t" r="r" b="b"/>
              <a:pathLst>
                <a:path w="3329" h="3123">
                  <a:moveTo>
                    <a:pt x="0" y="188"/>
                  </a:moveTo>
                  <a:lnTo>
                    <a:pt x="15" y="4"/>
                  </a:lnTo>
                  <a:lnTo>
                    <a:pt x="1544" y="2"/>
                  </a:lnTo>
                  <a:lnTo>
                    <a:pt x="1523" y="185"/>
                  </a:lnTo>
                  <a:lnTo>
                    <a:pt x="1257" y="203"/>
                  </a:lnTo>
                  <a:lnTo>
                    <a:pt x="1257" y="203"/>
                  </a:lnTo>
                  <a:lnTo>
                    <a:pt x="1181" y="212"/>
                  </a:lnTo>
                  <a:lnTo>
                    <a:pt x="1123" y="227"/>
                  </a:lnTo>
                  <a:lnTo>
                    <a:pt x="1082" y="254"/>
                  </a:lnTo>
                  <a:lnTo>
                    <a:pt x="1082" y="254"/>
                  </a:lnTo>
                  <a:lnTo>
                    <a:pt x="1061" y="299"/>
                  </a:lnTo>
                  <a:lnTo>
                    <a:pt x="1042" y="391"/>
                  </a:lnTo>
                  <a:lnTo>
                    <a:pt x="1021" y="529"/>
                  </a:lnTo>
                  <a:lnTo>
                    <a:pt x="1021" y="529"/>
                  </a:lnTo>
                  <a:lnTo>
                    <a:pt x="1016" y="575"/>
                  </a:lnTo>
                  <a:lnTo>
                    <a:pt x="1012" y="615"/>
                  </a:lnTo>
                  <a:lnTo>
                    <a:pt x="1008" y="648"/>
                  </a:lnTo>
                  <a:lnTo>
                    <a:pt x="1008" y="648"/>
                  </a:lnTo>
                  <a:lnTo>
                    <a:pt x="1000" y="733"/>
                  </a:lnTo>
                  <a:lnTo>
                    <a:pt x="969" y="950"/>
                  </a:lnTo>
                  <a:lnTo>
                    <a:pt x="961" y="1135"/>
                  </a:lnTo>
                  <a:lnTo>
                    <a:pt x="901" y="1536"/>
                  </a:lnTo>
                  <a:lnTo>
                    <a:pt x="860" y="2116"/>
                  </a:lnTo>
                  <a:lnTo>
                    <a:pt x="860" y="2116"/>
                  </a:lnTo>
                  <a:lnTo>
                    <a:pt x="857" y="2275"/>
                  </a:lnTo>
                  <a:lnTo>
                    <a:pt x="874" y="2415"/>
                  </a:lnTo>
                  <a:lnTo>
                    <a:pt x="918" y="2535"/>
                  </a:lnTo>
                  <a:lnTo>
                    <a:pt x="918" y="2535"/>
                  </a:lnTo>
                  <a:lnTo>
                    <a:pt x="971" y="2609"/>
                  </a:lnTo>
                  <a:lnTo>
                    <a:pt x="1034" y="2653"/>
                  </a:lnTo>
                  <a:lnTo>
                    <a:pt x="1123" y="2694"/>
                  </a:lnTo>
                  <a:lnTo>
                    <a:pt x="1123" y="2694"/>
                  </a:lnTo>
                  <a:lnTo>
                    <a:pt x="1248" y="2734"/>
                  </a:lnTo>
                  <a:lnTo>
                    <a:pt x="1389" y="2758"/>
                  </a:lnTo>
                  <a:lnTo>
                    <a:pt x="1524" y="2763"/>
                  </a:lnTo>
                  <a:lnTo>
                    <a:pt x="1524" y="2763"/>
                  </a:lnTo>
                  <a:lnTo>
                    <a:pt x="1649" y="2756"/>
                  </a:lnTo>
                  <a:lnTo>
                    <a:pt x="1737" y="2745"/>
                  </a:lnTo>
                  <a:lnTo>
                    <a:pt x="1855" y="2722"/>
                  </a:lnTo>
                  <a:lnTo>
                    <a:pt x="1855" y="2722"/>
                  </a:lnTo>
                  <a:lnTo>
                    <a:pt x="1928" y="2706"/>
                  </a:lnTo>
                  <a:lnTo>
                    <a:pt x="1994" y="2686"/>
                  </a:lnTo>
                  <a:lnTo>
                    <a:pt x="2049" y="2661"/>
                  </a:lnTo>
                  <a:lnTo>
                    <a:pt x="2049" y="2661"/>
                  </a:lnTo>
                  <a:lnTo>
                    <a:pt x="2113" y="2617"/>
                  </a:lnTo>
                  <a:lnTo>
                    <a:pt x="2153" y="2570"/>
                  </a:lnTo>
                  <a:lnTo>
                    <a:pt x="2185" y="2527"/>
                  </a:lnTo>
                  <a:lnTo>
                    <a:pt x="2185" y="2527"/>
                  </a:lnTo>
                  <a:lnTo>
                    <a:pt x="2238" y="2444"/>
                  </a:lnTo>
                  <a:lnTo>
                    <a:pt x="2275" y="2364"/>
                  </a:lnTo>
                  <a:lnTo>
                    <a:pt x="2305" y="2290"/>
                  </a:lnTo>
                  <a:lnTo>
                    <a:pt x="2305" y="2290"/>
                  </a:lnTo>
                  <a:lnTo>
                    <a:pt x="2344" y="2170"/>
                  </a:lnTo>
                  <a:lnTo>
                    <a:pt x="2378" y="2011"/>
                  </a:lnTo>
                  <a:lnTo>
                    <a:pt x="2407" y="1815"/>
                  </a:lnTo>
                  <a:lnTo>
                    <a:pt x="2407" y="1815"/>
                  </a:lnTo>
                  <a:lnTo>
                    <a:pt x="2432" y="1586"/>
                  </a:lnTo>
                  <a:lnTo>
                    <a:pt x="2454" y="1344"/>
                  </a:lnTo>
                  <a:lnTo>
                    <a:pt x="2473" y="1092"/>
                  </a:lnTo>
                  <a:lnTo>
                    <a:pt x="2489" y="829"/>
                  </a:lnTo>
                  <a:lnTo>
                    <a:pt x="2503" y="555"/>
                  </a:lnTo>
                  <a:lnTo>
                    <a:pt x="2503" y="555"/>
                  </a:lnTo>
                  <a:lnTo>
                    <a:pt x="2509" y="433"/>
                  </a:lnTo>
                  <a:lnTo>
                    <a:pt x="2509" y="433"/>
                  </a:lnTo>
                  <a:lnTo>
                    <a:pt x="2509" y="352"/>
                  </a:lnTo>
                  <a:lnTo>
                    <a:pt x="2502" y="291"/>
                  </a:lnTo>
                  <a:lnTo>
                    <a:pt x="2481" y="250"/>
                  </a:lnTo>
                  <a:lnTo>
                    <a:pt x="2481" y="250"/>
                  </a:lnTo>
                  <a:lnTo>
                    <a:pt x="2436" y="210"/>
                  </a:lnTo>
                  <a:lnTo>
                    <a:pt x="2384" y="185"/>
                  </a:lnTo>
                  <a:lnTo>
                    <a:pt x="2326" y="179"/>
                  </a:lnTo>
                  <a:lnTo>
                    <a:pt x="2326" y="179"/>
                  </a:lnTo>
                  <a:lnTo>
                    <a:pt x="2111" y="183"/>
                  </a:lnTo>
                  <a:lnTo>
                    <a:pt x="2083" y="175"/>
                  </a:lnTo>
                  <a:lnTo>
                    <a:pt x="2109" y="0"/>
                  </a:lnTo>
                  <a:lnTo>
                    <a:pt x="3329" y="2"/>
                  </a:lnTo>
                  <a:lnTo>
                    <a:pt x="3318" y="171"/>
                  </a:lnTo>
                  <a:lnTo>
                    <a:pt x="3318" y="171"/>
                  </a:lnTo>
                  <a:lnTo>
                    <a:pt x="3257" y="184"/>
                  </a:lnTo>
                  <a:lnTo>
                    <a:pt x="3194" y="194"/>
                  </a:lnTo>
                  <a:lnTo>
                    <a:pt x="3130" y="201"/>
                  </a:lnTo>
                  <a:lnTo>
                    <a:pt x="3130" y="201"/>
                  </a:lnTo>
                  <a:lnTo>
                    <a:pt x="3041" y="213"/>
                  </a:lnTo>
                  <a:lnTo>
                    <a:pt x="2985" y="225"/>
                  </a:lnTo>
                  <a:lnTo>
                    <a:pt x="2958" y="236"/>
                  </a:lnTo>
                  <a:lnTo>
                    <a:pt x="2958" y="236"/>
                  </a:lnTo>
                  <a:lnTo>
                    <a:pt x="2938" y="257"/>
                  </a:lnTo>
                  <a:lnTo>
                    <a:pt x="2924" y="286"/>
                  </a:lnTo>
                  <a:lnTo>
                    <a:pt x="2916" y="321"/>
                  </a:lnTo>
                  <a:lnTo>
                    <a:pt x="2916" y="321"/>
                  </a:lnTo>
                  <a:lnTo>
                    <a:pt x="2912" y="353"/>
                  </a:lnTo>
                  <a:lnTo>
                    <a:pt x="2909" y="393"/>
                  </a:lnTo>
                  <a:lnTo>
                    <a:pt x="2908" y="442"/>
                  </a:lnTo>
                  <a:lnTo>
                    <a:pt x="2908" y="442"/>
                  </a:lnTo>
                  <a:lnTo>
                    <a:pt x="2904" y="489"/>
                  </a:lnTo>
                  <a:lnTo>
                    <a:pt x="2899" y="557"/>
                  </a:lnTo>
                  <a:lnTo>
                    <a:pt x="2889" y="643"/>
                  </a:lnTo>
                  <a:lnTo>
                    <a:pt x="2889" y="643"/>
                  </a:lnTo>
                  <a:lnTo>
                    <a:pt x="2883" y="693"/>
                  </a:lnTo>
                  <a:lnTo>
                    <a:pt x="2878" y="735"/>
                  </a:lnTo>
                  <a:lnTo>
                    <a:pt x="2875" y="770"/>
                  </a:lnTo>
                  <a:lnTo>
                    <a:pt x="2875" y="770"/>
                  </a:lnTo>
                  <a:lnTo>
                    <a:pt x="2872" y="801"/>
                  </a:lnTo>
                  <a:lnTo>
                    <a:pt x="2869" y="833"/>
                  </a:lnTo>
                  <a:lnTo>
                    <a:pt x="2867" y="865"/>
                  </a:lnTo>
                  <a:lnTo>
                    <a:pt x="2867" y="865"/>
                  </a:lnTo>
                  <a:lnTo>
                    <a:pt x="2857" y="976"/>
                  </a:lnTo>
                  <a:lnTo>
                    <a:pt x="2847" y="1088"/>
                  </a:lnTo>
                  <a:lnTo>
                    <a:pt x="2836" y="1203"/>
                  </a:lnTo>
                  <a:lnTo>
                    <a:pt x="2836" y="1203"/>
                  </a:lnTo>
                  <a:lnTo>
                    <a:pt x="2802" y="1672"/>
                  </a:lnTo>
                  <a:lnTo>
                    <a:pt x="2802" y="1672"/>
                  </a:lnTo>
                  <a:lnTo>
                    <a:pt x="2784" y="1955"/>
                  </a:lnTo>
                  <a:lnTo>
                    <a:pt x="2769" y="2172"/>
                  </a:lnTo>
                  <a:lnTo>
                    <a:pt x="2746" y="2316"/>
                  </a:lnTo>
                  <a:lnTo>
                    <a:pt x="2746" y="2316"/>
                  </a:lnTo>
                  <a:lnTo>
                    <a:pt x="2710" y="2415"/>
                  </a:lnTo>
                  <a:lnTo>
                    <a:pt x="2671" y="2499"/>
                  </a:lnTo>
                  <a:lnTo>
                    <a:pt x="2628" y="2568"/>
                  </a:lnTo>
                  <a:lnTo>
                    <a:pt x="2628" y="2568"/>
                  </a:lnTo>
                  <a:lnTo>
                    <a:pt x="2558" y="2667"/>
                  </a:lnTo>
                  <a:lnTo>
                    <a:pt x="2473" y="2768"/>
                  </a:lnTo>
                  <a:lnTo>
                    <a:pt x="2372" y="2856"/>
                  </a:lnTo>
                  <a:lnTo>
                    <a:pt x="2372" y="2856"/>
                  </a:lnTo>
                  <a:lnTo>
                    <a:pt x="2260" y="2932"/>
                  </a:lnTo>
                  <a:lnTo>
                    <a:pt x="2132" y="3001"/>
                  </a:lnTo>
                  <a:lnTo>
                    <a:pt x="1969" y="3057"/>
                  </a:lnTo>
                  <a:lnTo>
                    <a:pt x="1969" y="3057"/>
                  </a:lnTo>
                  <a:lnTo>
                    <a:pt x="1722" y="3105"/>
                  </a:lnTo>
                  <a:lnTo>
                    <a:pt x="1506" y="3123"/>
                  </a:lnTo>
                  <a:lnTo>
                    <a:pt x="1323" y="3123"/>
                  </a:lnTo>
                  <a:lnTo>
                    <a:pt x="1323" y="3123"/>
                  </a:lnTo>
                  <a:lnTo>
                    <a:pt x="1090" y="3094"/>
                  </a:lnTo>
                  <a:lnTo>
                    <a:pt x="876" y="3036"/>
                  </a:lnTo>
                  <a:lnTo>
                    <a:pt x="693" y="2969"/>
                  </a:lnTo>
                  <a:lnTo>
                    <a:pt x="693" y="2969"/>
                  </a:lnTo>
                  <a:lnTo>
                    <a:pt x="547" y="2898"/>
                  </a:lnTo>
                  <a:lnTo>
                    <a:pt x="431" y="2814"/>
                  </a:lnTo>
                  <a:lnTo>
                    <a:pt x="343" y="2716"/>
                  </a:lnTo>
                  <a:lnTo>
                    <a:pt x="343" y="2716"/>
                  </a:lnTo>
                  <a:lnTo>
                    <a:pt x="280" y="2601"/>
                  </a:lnTo>
                  <a:lnTo>
                    <a:pt x="238" y="2467"/>
                  </a:lnTo>
                  <a:lnTo>
                    <a:pt x="217" y="2311"/>
                  </a:lnTo>
                  <a:lnTo>
                    <a:pt x="217" y="2311"/>
                  </a:lnTo>
                  <a:lnTo>
                    <a:pt x="214" y="2179"/>
                  </a:lnTo>
                  <a:lnTo>
                    <a:pt x="222" y="2015"/>
                  </a:lnTo>
                  <a:lnTo>
                    <a:pt x="243" y="1820"/>
                  </a:lnTo>
                  <a:lnTo>
                    <a:pt x="243" y="1820"/>
                  </a:lnTo>
                  <a:lnTo>
                    <a:pt x="381" y="716"/>
                  </a:lnTo>
                  <a:lnTo>
                    <a:pt x="381" y="716"/>
                  </a:lnTo>
                  <a:lnTo>
                    <a:pt x="404" y="493"/>
                  </a:lnTo>
                  <a:lnTo>
                    <a:pt x="409" y="347"/>
                  </a:lnTo>
                  <a:lnTo>
                    <a:pt x="398" y="275"/>
                  </a:lnTo>
                  <a:lnTo>
                    <a:pt x="398" y="275"/>
                  </a:lnTo>
                  <a:lnTo>
                    <a:pt x="346" y="235"/>
                  </a:lnTo>
                  <a:lnTo>
                    <a:pt x="245" y="207"/>
                  </a:lnTo>
                  <a:lnTo>
                    <a:pt x="95" y="194"/>
                  </a:lnTo>
                  <a:lnTo>
                    <a:pt x="95" y="194"/>
                  </a:lnTo>
                  <a:lnTo>
                    <a:pt x="59" y="193"/>
                  </a:lnTo>
                  <a:lnTo>
                    <a:pt x="28" y="192"/>
                  </a:lnTo>
                  <a:lnTo>
                    <a:pt x="0" y="188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c223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44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82080" y="5919840"/>
              <a:ext cx="441360" cy="414360"/>
            </a:xfrm>
            <a:custGeom>
              <a:avLst/>
              <a:gdLst/>
              <a:ahLst/>
              <a:rect l="l" t="t" r="r" b="b"/>
              <a:pathLst>
                <a:path w="3329" h="3123">
                  <a:moveTo>
                    <a:pt x="0" y="187"/>
                  </a:moveTo>
                  <a:lnTo>
                    <a:pt x="15" y="4"/>
                  </a:lnTo>
                  <a:lnTo>
                    <a:pt x="1544" y="1"/>
                  </a:lnTo>
                  <a:lnTo>
                    <a:pt x="1523" y="185"/>
                  </a:lnTo>
                  <a:lnTo>
                    <a:pt x="1256" y="202"/>
                  </a:lnTo>
                  <a:lnTo>
                    <a:pt x="1256" y="202"/>
                  </a:lnTo>
                  <a:lnTo>
                    <a:pt x="1180" y="211"/>
                  </a:lnTo>
                  <a:lnTo>
                    <a:pt x="1122" y="227"/>
                  </a:lnTo>
                  <a:lnTo>
                    <a:pt x="1082" y="254"/>
                  </a:lnTo>
                  <a:lnTo>
                    <a:pt x="1082" y="254"/>
                  </a:lnTo>
                  <a:lnTo>
                    <a:pt x="1061" y="298"/>
                  </a:lnTo>
                  <a:lnTo>
                    <a:pt x="1041" y="391"/>
                  </a:lnTo>
                  <a:lnTo>
                    <a:pt x="1021" y="529"/>
                  </a:lnTo>
                  <a:lnTo>
                    <a:pt x="1021" y="529"/>
                  </a:lnTo>
                  <a:lnTo>
                    <a:pt x="1015" y="575"/>
                  </a:lnTo>
                  <a:lnTo>
                    <a:pt x="1011" y="615"/>
                  </a:lnTo>
                  <a:lnTo>
                    <a:pt x="1007" y="648"/>
                  </a:lnTo>
                  <a:lnTo>
                    <a:pt x="1007" y="648"/>
                  </a:lnTo>
                  <a:lnTo>
                    <a:pt x="1000" y="732"/>
                  </a:lnTo>
                  <a:lnTo>
                    <a:pt x="970" y="949"/>
                  </a:lnTo>
                  <a:lnTo>
                    <a:pt x="960" y="1135"/>
                  </a:lnTo>
                  <a:lnTo>
                    <a:pt x="902" y="1535"/>
                  </a:lnTo>
                  <a:lnTo>
                    <a:pt x="859" y="2116"/>
                  </a:lnTo>
                  <a:lnTo>
                    <a:pt x="859" y="2116"/>
                  </a:lnTo>
                  <a:lnTo>
                    <a:pt x="856" y="2274"/>
                  </a:lnTo>
                  <a:lnTo>
                    <a:pt x="875" y="2415"/>
                  </a:lnTo>
                  <a:lnTo>
                    <a:pt x="918" y="2534"/>
                  </a:lnTo>
                  <a:lnTo>
                    <a:pt x="918" y="2534"/>
                  </a:lnTo>
                  <a:lnTo>
                    <a:pt x="971" y="2608"/>
                  </a:lnTo>
                  <a:lnTo>
                    <a:pt x="1034" y="2653"/>
                  </a:lnTo>
                  <a:lnTo>
                    <a:pt x="1122" y="2693"/>
                  </a:lnTo>
                  <a:lnTo>
                    <a:pt x="1122" y="2693"/>
                  </a:lnTo>
                  <a:lnTo>
                    <a:pt x="1247" y="2734"/>
                  </a:lnTo>
                  <a:lnTo>
                    <a:pt x="1390" y="2757"/>
                  </a:lnTo>
                  <a:lnTo>
                    <a:pt x="1523" y="2762"/>
                  </a:lnTo>
                  <a:lnTo>
                    <a:pt x="1523" y="2762"/>
                  </a:lnTo>
                  <a:lnTo>
                    <a:pt x="1649" y="2756"/>
                  </a:lnTo>
                  <a:lnTo>
                    <a:pt x="1736" y="2744"/>
                  </a:lnTo>
                  <a:lnTo>
                    <a:pt x="1854" y="2722"/>
                  </a:lnTo>
                  <a:lnTo>
                    <a:pt x="1854" y="2722"/>
                  </a:lnTo>
                  <a:lnTo>
                    <a:pt x="1928" y="2705"/>
                  </a:lnTo>
                  <a:lnTo>
                    <a:pt x="1994" y="2685"/>
                  </a:lnTo>
                  <a:lnTo>
                    <a:pt x="2049" y="2660"/>
                  </a:lnTo>
                  <a:lnTo>
                    <a:pt x="2049" y="2660"/>
                  </a:lnTo>
                  <a:lnTo>
                    <a:pt x="2112" y="2616"/>
                  </a:lnTo>
                  <a:lnTo>
                    <a:pt x="2153" y="2570"/>
                  </a:lnTo>
                  <a:lnTo>
                    <a:pt x="2184" y="2527"/>
                  </a:lnTo>
                  <a:lnTo>
                    <a:pt x="2184" y="2527"/>
                  </a:lnTo>
                  <a:lnTo>
                    <a:pt x="2238" y="2443"/>
                  </a:lnTo>
                  <a:lnTo>
                    <a:pt x="2275" y="2365"/>
                  </a:lnTo>
                  <a:lnTo>
                    <a:pt x="2305" y="2289"/>
                  </a:lnTo>
                  <a:lnTo>
                    <a:pt x="2305" y="2289"/>
                  </a:lnTo>
                  <a:lnTo>
                    <a:pt x="2344" y="2169"/>
                  </a:lnTo>
                  <a:lnTo>
                    <a:pt x="2379" y="2011"/>
                  </a:lnTo>
                  <a:lnTo>
                    <a:pt x="2407" y="1814"/>
                  </a:lnTo>
                  <a:lnTo>
                    <a:pt x="2407" y="1814"/>
                  </a:lnTo>
                  <a:lnTo>
                    <a:pt x="2433" y="1586"/>
                  </a:lnTo>
                  <a:lnTo>
                    <a:pt x="2454" y="1344"/>
                  </a:lnTo>
                  <a:lnTo>
                    <a:pt x="2474" y="1092"/>
                  </a:lnTo>
                  <a:lnTo>
                    <a:pt x="2489" y="828"/>
                  </a:lnTo>
                  <a:lnTo>
                    <a:pt x="2503" y="555"/>
                  </a:lnTo>
                  <a:lnTo>
                    <a:pt x="2503" y="555"/>
                  </a:lnTo>
                  <a:lnTo>
                    <a:pt x="2508" y="432"/>
                  </a:lnTo>
                  <a:lnTo>
                    <a:pt x="2508" y="432"/>
                  </a:lnTo>
                  <a:lnTo>
                    <a:pt x="2508" y="351"/>
                  </a:lnTo>
                  <a:lnTo>
                    <a:pt x="2501" y="290"/>
                  </a:lnTo>
                  <a:lnTo>
                    <a:pt x="2481" y="250"/>
                  </a:lnTo>
                  <a:lnTo>
                    <a:pt x="2481" y="250"/>
                  </a:lnTo>
                  <a:lnTo>
                    <a:pt x="2435" y="209"/>
                  </a:lnTo>
                  <a:lnTo>
                    <a:pt x="2383" y="185"/>
                  </a:lnTo>
                  <a:lnTo>
                    <a:pt x="2326" y="178"/>
                  </a:lnTo>
                  <a:lnTo>
                    <a:pt x="2326" y="178"/>
                  </a:lnTo>
                  <a:lnTo>
                    <a:pt x="2111" y="182"/>
                  </a:lnTo>
                  <a:lnTo>
                    <a:pt x="2082" y="176"/>
                  </a:lnTo>
                  <a:lnTo>
                    <a:pt x="2108" y="0"/>
                  </a:lnTo>
                  <a:lnTo>
                    <a:pt x="3329" y="1"/>
                  </a:lnTo>
                  <a:lnTo>
                    <a:pt x="3318" y="170"/>
                  </a:lnTo>
                  <a:lnTo>
                    <a:pt x="3318" y="170"/>
                  </a:lnTo>
                  <a:lnTo>
                    <a:pt x="3257" y="183"/>
                  </a:lnTo>
                  <a:lnTo>
                    <a:pt x="3194" y="194"/>
                  </a:lnTo>
                  <a:lnTo>
                    <a:pt x="3130" y="200"/>
                  </a:lnTo>
                  <a:lnTo>
                    <a:pt x="3130" y="200"/>
                  </a:lnTo>
                  <a:lnTo>
                    <a:pt x="3042" y="212"/>
                  </a:lnTo>
                  <a:lnTo>
                    <a:pt x="2984" y="224"/>
                  </a:lnTo>
                  <a:lnTo>
                    <a:pt x="2957" y="235"/>
                  </a:lnTo>
                  <a:lnTo>
                    <a:pt x="2957" y="235"/>
                  </a:lnTo>
                  <a:lnTo>
                    <a:pt x="2937" y="257"/>
                  </a:lnTo>
                  <a:lnTo>
                    <a:pt x="2923" y="285"/>
                  </a:lnTo>
                  <a:lnTo>
                    <a:pt x="2915" y="320"/>
                  </a:lnTo>
                  <a:lnTo>
                    <a:pt x="2915" y="320"/>
                  </a:lnTo>
                  <a:lnTo>
                    <a:pt x="2912" y="353"/>
                  </a:lnTo>
                  <a:lnTo>
                    <a:pt x="2909" y="392"/>
                  </a:lnTo>
                  <a:lnTo>
                    <a:pt x="2907" y="442"/>
                  </a:lnTo>
                  <a:lnTo>
                    <a:pt x="2907" y="442"/>
                  </a:lnTo>
                  <a:lnTo>
                    <a:pt x="2904" y="489"/>
                  </a:lnTo>
                  <a:lnTo>
                    <a:pt x="2898" y="556"/>
                  </a:lnTo>
                  <a:lnTo>
                    <a:pt x="2888" y="642"/>
                  </a:lnTo>
                  <a:lnTo>
                    <a:pt x="2888" y="642"/>
                  </a:lnTo>
                  <a:lnTo>
                    <a:pt x="2883" y="693"/>
                  </a:lnTo>
                  <a:lnTo>
                    <a:pt x="2878" y="735"/>
                  </a:lnTo>
                  <a:lnTo>
                    <a:pt x="2875" y="770"/>
                  </a:lnTo>
                  <a:lnTo>
                    <a:pt x="2875" y="770"/>
                  </a:lnTo>
                  <a:lnTo>
                    <a:pt x="2871" y="801"/>
                  </a:lnTo>
                  <a:lnTo>
                    <a:pt x="2869" y="832"/>
                  </a:lnTo>
                  <a:lnTo>
                    <a:pt x="2867" y="865"/>
                  </a:lnTo>
                  <a:lnTo>
                    <a:pt x="2867" y="865"/>
                  </a:lnTo>
                  <a:lnTo>
                    <a:pt x="2857" y="976"/>
                  </a:lnTo>
                  <a:lnTo>
                    <a:pt x="2846" y="1088"/>
                  </a:lnTo>
                  <a:lnTo>
                    <a:pt x="2836" y="1202"/>
                  </a:lnTo>
                  <a:lnTo>
                    <a:pt x="2836" y="1202"/>
                  </a:lnTo>
                  <a:lnTo>
                    <a:pt x="2802" y="1672"/>
                  </a:lnTo>
                  <a:lnTo>
                    <a:pt x="2802" y="1672"/>
                  </a:lnTo>
                  <a:lnTo>
                    <a:pt x="2785" y="1955"/>
                  </a:lnTo>
                  <a:lnTo>
                    <a:pt x="2769" y="2171"/>
                  </a:lnTo>
                  <a:lnTo>
                    <a:pt x="2746" y="2315"/>
                  </a:lnTo>
                  <a:lnTo>
                    <a:pt x="2746" y="2315"/>
                  </a:lnTo>
                  <a:lnTo>
                    <a:pt x="2710" y="2414"/>
                  </a:lnTo>
                  <a:lnTo>
                    <a:pt x="2671" y="2498"/>
                  </a:lnTo>
                  <a:lnTo>
                    <a:pt x="2628" y="2567"/>
                  </a:lnTo>
                  <a:lnTo>
                    <a:pt x="2628" y="2567"/>
                  </a:lnTo>
                  <a:lnTo>
                    <a:pt x="2557" y="2666"/>
                  </a:lnTo>
                  <a:lnTo>
                    <a:pt x="2474" y="2767"/>
                  </a:lnTo>
                  <a:lnTo>
                    <a:pt x="2372" y="2856"/>
                  </a:lnTo>
                  <a:lnTo>
                    <a:pt x="2372" y="2856"/>
                  </a:lnTo>
                  <a:lnTo>
                    <a:pt x="2259" y="2931"/>
                  </a:lnTo>
                  <a:lnTo>
                    <a:pt x="2132" y="3000"/>
                  </a:lnTo>
                  <a:lnTo>
                    <a:pt x="1968" y="3056"/>
                  </a:lnTo>
                  <a:lnTo>
                    <a:pt x="1968" y="3056"/>
                  </a:lnTo>
                  <a:lnTo>
                    <a:pt x="1722" y="3105"/>
                  </a:lnTo>
                  <a:lnTo>
                    <a:pt x="1506" y="3123"/>
                  </a:lnTo>
                  <a:lnTo>
                    <a:pt x="1322" y="3123"/>
                  </a:lnTo>
                  <a:lnTo>
                    <a:pt x="1322" y="3123"/>
                  </a:lnTo>
                  <a:lnTo>
                    <a:pt x="1089" y="3093"/>
                  </a:lnTo>
                  <a:lnTo>
                    <a:pt x="876" y="3035"/>
                  </a:lnTo>
                  <a:lnTo>
                    <a:pt x="693" y="2968"/>
                  </a:lnTo>
                  <a:lnTo>
                    <a:pt x="693" y="2968"/>
                  </a:lnTo>
                  <a:lnTo>
                    <a:pt x="547" y="2897"/>
                  </a:lnTo>
                  <a:lnTo>
                    <a:pt x="431" y="2813"/>
                  </a:lnTo>
                  <a:lnTo>
                    <a:pt x="342" y="2715"/>
                  </a:lnTo>
                  <a:lnTo>
                    <a:pt x="342" y="2715"/>
                  </a:lnTo>
                  <a:lnTo>
                    <a:pt x="280" y="2602"/>
                  </a:lnTo>
                  <a:lnTo>
                    <a:pt x="237" y="2466"/>
                  </a:lnTo>
                  <a:lnTo>
                    <a:pt x="216" y="2310"/>
                  </a:lnTo>
                  <a:lnTo>
                    <a:pt x="216" y="2310"/>
                  </a:lnTo>
                  <a:lnTo>
                    <a:pt x="213" y="2179"/>
                  </a:lnTo>
                  <a:lnTo>
                    <a:pt x="221" y="2016"/>
                  </a:lnTo>
                  <a:lnTo>
                    <a:pt x="242" y="1819"/>
                  </a:lnTo>
                  <a:lnTo>
                    <a:pt x="242" y="1819"/>
                  </a:lnTo>
                  <a:lnTo>
                    <a:pt x="380" y="715"/>
                  </a:lnTo>
                  <a:lnTo>
                    <a:pt x="380" y="715"/>
                  </a:lnTo>
                  <a:lnTo>
                    <a:pt x="403" y="493"/>
                  </a:lnTo>
                  <a:lnTo>
                    <a:pt x="409" y="346"/>
                  </a:lnTo>
                  <a:lnTo>
                    <a:pt x="397" y="275"/>
                  </a:lnTo>
                  <a:lnTo>
                    <a:pt x="397" y="275"/>
                  </a:lnTo>
                  <a:lnTo>
                    <a:pt x="345" y="234"/>
                  </a:lnTo>
                  <a:lnTo>
                    <a:pt x="245" y="207"/>
                  </a:lnTo>
                  <a:lnTo>
                    <a:pt x="95" y="194"/>
                  </a:lnTo>
                  <a:lnTo>
                    <a:pt x="95" y="194"/>
                  </a:lnTo>
                  <a:lnTo>
                    <a:pt x="59" y="193"/>
                  </a:lnTo>
                  <a:lnTo>
                    <a:pt x="27" y="191"/>
                  </a:lnTo>
                  <a:lnTo>
                    <a:pt x="0" y="187"/>
                  </a:lnTo>
                  <a:lnTo>
                    <a:pt x="0" y="187"/>
                  </a:lnTo>
                </a:path>
              </a:pathLst>
            </a:custGeom>
            <a:noFill/>
            <a:ln w="1440">
              <a:solidFill>
                <a:srgbClr val="2b0e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44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777080" y="5783400"/>
              <a:ext cx="581040" cy="546120"/>
            </a:xfrm>
            <a:custGeom>
              <a:avLst/>
              <a:gdLst/>
              <a:ahLst/>
              <a:rect l="l" t="t" r="r" b="b"/>
              <a:pathLst>
                <a:path w="4390" h="4129">
                  <a:moveTo>
                    <a:pt x="4390" y="2471"/>
                  </a:moveTo>
                  <a:lnTo>
                    <a:pt x="3820" y="3270"/>
                  </a:lnTo>
                  <a:lnTo>
                    <a:pt x="3124" y="3281"/>
                  </a:lnTo>
                  <a:lnTo>
                    <a:pt x="3045" y="3545"/>
                  </a:lnTo>
                  <a:lnTo>
                    <a:pt x="3045" y="3545"/>
                  </a:lnTo>
                  <a:lnTo>
                    <a:pt x="2997" y="3803"/>
                  </a:lnTo>
                  <a:lnTo>
                    <a:pt x="3036" y="3990"/>
                  </a:lnTo>
                  <a:lnTo>
                    <a:pt x="3157" y="4104"/>
                  </a:lnTo>
                  <a:lnTo>
                    <a:pt x="3157" y="4104"/>
                  </a:lnTo>
                  <a:lnTo>
                    <a:pt x="3043" y="4129"/>
                  </a:lnTo>
                  <a:lnTo>
                    <a:pt x="1802" y="4129"/>
                  </a:lnTo>
                  <a:lnTo>
                    <a:pt x="1825" y="4104"/>
                  </a:lnTo>
                  <a:lnTo>
                    <a:pt x="1825" y="4104"/>
                  </a:lnTo>
                  <a:lnTo>
                    <a:pt x="1940" y="4060"/>
                  </a:lnTo>
                  <a:lnTo>
                    <a:pt x="2035" y="4008"/>
                  </a:lnTo>
                  <a:lnTo>
                    <a:pt x="2110" y="3950"/>
                  </a:lnTo>
                  <a:lnTo>
                    <a:pt x="2110" y="3950"/>
                  </a:lnTo>
                  <a:lnTo>
                    <a:pt x="2170" y="3877"/>
                  </a:lnTo>
                  <a:lnTo>
                    <a:pt x="2221" y="3783"/>
                  </a:lnTo>
                  <a:lnTo>
                    <a:pt x="2263" y="3670"/>
                  </a:lnTo>
                  <a:lnTo>
                    <a:pt x="2263" y="3670"/>
                  </a:lnTo>
                  <a:lnTo>
                    <a:pt x="2380" y="3281"/>
                  </a:lnTo>
                  <a:lnTo>
                    <a:pt x="0" y="3281"/>
                  </a:lnTo>
                  <a:lnTo>
                    <a:pt x="2999" y="0"/>
                  </a:lnTo>
                  <a:lnTo>
                    <a:pt x="4168" y="0"/>
                  </a:lnTo>
                  <a:lnTo>
                    <a:pt x="3322" y="2735"/>
                  </a:lnTo>
                  <a:lnTo>
                    <a:pt x="3322" y="2735"/>
                  </a:lnTo>
                  <a:lnTo>
                    <a:pt x="3487" y="2727"/>
                  </a:lnTo>
                  <a:lnTo>
                    <a:pt x="3693" y="2710"/>
                  </a:lnTo>
                  <a:lnTo>
                    <a:pt x="3852" y="2688"/>
                  </a:lnTo>
                  <a:lnTo>
                    <a:pt x="3852" y="2688"/>
                  </a:lnTo>
                  <a:lnTo>
                    <a:pt x="4037" y="2638"/>
                  </a:lnTo>
                  <a:lnTo>
                    <a:pt x="4215" y="2566"/>
                  </a:lnTo>
                  <a:lnTo>
                    <a:pt x="4390" y="2471"/>
                  </a:lnTo>
                  <a:lnTo>
                    <a:pt x="4390" y="2471"/>
                  </a:lnTo>
                  <a:close/>
                  <a:moveTo>
                    <a:pt x="2575" y="2744"/>
                  </a:moveTo>
                  <a:lnTo>
                    <a:pt x="3269" y="446"/>
                  </a:lnTo>
                  <a:lnTo>
                    <a:pt x="1230" y="2737"/>
                  </a:lnTo>
                  <a:lnTo>
                    <a:pt x="1230" y="2737"/>
                  </a:lnTo>
                  <a:lnTo>
                    <a:pt x="1413" y="2738"/>
                  </a:lnTo>
                  <a:lnTo>
                    <a:pt x="1597" y="2739"/>
                  </a:lnTo>
                  <a:lnTo>
                    <a:pt x="1779" y="2740"/>
                  </a:lnTo>
                  <a:lnTo>
                    <a:pt x="1779" y="2740"/>
                  </a:lnTo>
                  <a:lnTo>
                    <a:pt x="1955" y="2740"/>
                  </a:lnTo>
                  <a:lnTo>
                    <a:pt x="2112" y="2741"/>
                  </a:lnTo>
                  <a:lnTo>
                    <a:pt x="2253" y="2742"/>
                  </a:lnTo>
                  <a:lnTo>
                    <a:pt x="2253" y="2742"/>
                  </a:lnTo>
                  <a:lnTo>
                    <a:pt x="2376" y="2744"/>
                  </a:lnTo>
                  <a:lnTo>
                    <a:pt x="2483" y="2744"/>
                  </a:lnTo>
                  <a:lnTo>
                    <a:pt x="2575" y="2744"/>
                  </a:lnTo>
                  <a:lnTo>
                    <a:pt x="2575" y="2744"/>
                  </a:lnTo>
                  <a:close/>
                </a:path>
              </a:pathLst>
            </a:custGeom>
            <a:solidFill>
              <a:srgbClr val="e87b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44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77080" y="5783400"/>
              <a:ext cx="581040" cy="546120"/>
            </a:xfrm>
            <a:custGeom>
              <a:avLst/>
              <a:gdLst/>
              <a:ahLst/>
              <a:rect l="l" t="t" r="r" b="b"/>
              <a:pathLst>
                <a:path w="4390" h="4130">
                  <a:moveTo>
                    <a:pt x="4390" y="2472"/>
                  </a:moveTo>
                  <a:lnTo>
                    <a:pt x="3820" y="3270"/>
                  </a:lnTo>
                  <a:lnTo>
                    <a:pt x="3125" y="3281"/>
                  </a:lnTo>
                  <a:lnTo>
                    <a:pt x="3045" y="3545"/>
                  </a:lnTo>
                  <a:lnTo>
                    <a:pt x="3045" y="3545"/>
                  </a:lnTo>
                  <a:lnTo>
                    <a:pt x="2998" y="3803"/>
                  </a:lnTo>
                  <a:lnTo>
                    <a:pt x="3036" y="3991"/>
                  </a:lnTo>
                  <a:lnTo>
                    <a:pt x="3158" y="4104"/>
                  </a:lnTo>
                  <a:lnTo>
                    <a:pt x="3158" y="4104"/>
                  </a:lnTo>
                  <a:lnTo>
                    <a:pt x="3044" y="4130"/>
                  </a:lnTo>
                  <a:lnTo>
                    <a:pt x="1803" y="4130"/>
                  </a:lnTo>
                  <a:lnTo>
                    <a:pt x="1826" y="4104"/>
                  </a:lnTo>
                  <a:lnTo>
                    <a:pt x="1826" y="4104"/>
                  </a:lnTo>
                  <a:lnTo>
                    <a:pt x="1941" y="4061"/>
                  </a:lnTo>
                  <a:lnTo>
                    <a:pt x="2036" y="4009"/>
                  </a:lnTo>
                  <a:lnTo>
                    <a:pt x="2111" y="3950"/>
                  </a:lnTo>
                  <a:lnTo>
                    <a:pt x="2111" y="3950"/>
                  </a:lnTo>
                  <a:lnTo>
                    <a:pt x="2171" y="3877"/>
                  </a:lnTo>
                  <a:lnTo>
                    <a:pt x="2222" y="3784"/>
                  </a:lnTo>
                  <a:lnTo>
                    <a:pt x="2263" y="3670"/>
                  </a:lnTo>
                  <a:lnTo>
                    <a:pt x="2263" y="3670"/>
                  </a:lnTo>
                  <a:lnTo>
                    <a:pt x="2381" y="3281"/>
                  </a:lnTo>
                  <a:lnTo>
                    <a:pt x="0" y="3281"/>
                  </a:lnTo>
                  <a:lnTo>
                    <a:pt x="3000" y="0"/>
                  </a:lnTo>
                  <a:lnTo>
                    <a:pt x="4169" y="0"/>
                  </a:lnTo>
                  <a:lnTo>
                    <a:pt x="3323" y="2735"/>
                  </a:lnTo>
                  <a:lnTo>
                    <a:pt x="3323" y="2735"/>
                  </a:lnTo>
                  <a:lnTo>
                    <a:pt x="3487" y="2728"/>
                  </a:lnTo>
                  <a:lnTo>
                    <a:pt x="3693" y="2711"/>
                  </a:lnTo>
                  <a:lnTo>
                    <a:pt x="3853" y="2688"/>
                  </a:lnTo>
                  <a:lnTo>
                    <a:pt x="3853" y="2688"/>
                  </a:lnTo>
                  <a:lnTo>
                    <a:pt x="4037" y="2639"/>
                  </a:lnTo>
                  <a:lnTo>
                    <a:pt x="4216" y="2567"/>
                  </a:lnTo>
                  <a:lnTo>
                    <a:pt x="4390" y="2472"/>
                  </a:lnTo>
                  <a:lnTo>
                    <a:pt x="4390" y="2472"/>
                  </a:lnTo>
                </a:path>
              </a:pathLst>
            </a:custGeom>
            <a:noFill/>
            <a:ln w="1440">
              <a:solidFill>
                <a:srgbClr val="2b0e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44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40520" y="5842080"/>
              <a:ext cx="270000" cy="304560"/>
            </a:xfrm>
            <a:custGeom>
              <a:avLst/>
              <a:gdLst/>
              <a:ahLst/>
              <a:rect l="l" t="t" r="r" b="b"/>
              <a:pathLst>
                <a:path w="2039" h="2299">
                  <a:moveTo>
                    <a:pt x="1346" y="2299"/>
                  </a:moveTo>
                  <a:lnTo>
                    <a:pt x="2039" y="0"/>
                  </a:lnTo>
                  <a:lnTo>
                    <a:pt x="0" y="2291"/>
                  </a:lnTo>
                  <a:lnTo>
                    <a:pt x="0" y="2291"/>
                  </a:lnTo>
                  <a:lnTo>
                    <a:pt x="184" y="2292"/>
                  </a:lnTo>
                  <a:lnTo>
                    <a:pt x="367" y="2292"/>
                  </a:lnTo>
                  <a:lnTo>
                    <a:pt x="550" y="2293"/>
                  </a:lnTo>
                  <a:lnTo>
                    <a:pt x="550" y="2293"/>
                  </a:lnTo>
                  <a:lnTo>
                    <a:pt x="725" y="2294"/>
                  </a:lnTo>
                  <a:lnTo>
                    <a:pt x="883" y="2295"/>
                  </a:lnTo>
                  <a:lnTo>
                    <a:pt x="1023" y="2296"/>
                  </a:lnTo>
                  <a:lnTo>
                    <a:pt x="1023" y="2296"/>
                  </a:lnTo>
                  <a:lnTo>
                    <a:pt x="1147" y="2297"/>
                  </a:lnTo>
                  <a:lnTo>
                    <a:pt x="1254" y="2299"/>
                  </a:lnTo>
                  <a:lnTo>
                    <a:pt x="1346" y="2299"/>
                  </a:lnTo>
                  <a:lnTo>
                    <a:pt x="1346" y="2299"/>
                  </a:lnTo>
                </a:path>
              </a:pathLst>
            </a:custGeom>
            <a:noFill/>
            <a:ln w="1440">
              <a:solidFill>
                <a:srgbClr val="2b0e7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44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16600" y="5684760"/>
              <a:ext cx="1251000" cy="357120"/>
            </a:xfrm>
            <a:custGeom>
              <a:avLst/>
              <a:gdLst/>
              <a:ahLst/>
              <a:rect l="l" t="t" r="r" b="b"/>
              <a:pathLst>
                <a:path w="9454" h="2709">
                  <a:moveTo>
                    <a:pt x="2503" y="238"/>
                  </a:moveTo>
                  <a:lnTo>
                    <a:pt x="2514" y="289"/>
                  </a:lnTo>
                  <a:lnTo>
                    <a:pt x="2525" y="365"/>
                  </a:lnTo>
                  <a:lnTo>
                    <a:pt x="2537" y="465"/>
                  </a:lnTo>
                  <a:lnTo>
                    <a:pt x="2537" y="465"/>
                  </a:lnTo>
                  <a:lnTo>
                    <a:pt x="2547" y="569"/>
                  </a:lnTo>
                  <a:lnTo>
                    <a:pt x="2554" y="652"/>
                  </a:lnTo>
                  <a:lnTo>
                    <a:pt x="2555" y="715"/>
                  </a:lnTo>
                  <a:lnTo>
                    <a:pt x="2555" y="715"/>
                  </a:lnTo>
                  <a:lnTo>
                    <a:pt x="2554" y="736"/>
                  </a:lnTo>
                  <a:lnTo>
                    <a:pt x="2550" y="760"/>
                  </a:lnTo>
                  <a:lnTo>
                    <a:pt x="2541" y="788"/>
                  </a:lnTo>
                  <a:lnTo>
                    <a:pt x="2541" y="788"/>
                  </a:lnTo>
                  <a:lnTo>
                    <a:pt x="2485" y="785"/>
                  </a:lnTo>
                  <a:lnTo>
                    <a:pt x="2433" y="780"/>
                  </a:lnTo>
                  <a:lnTo>
                    <a:pt x="2389" y="772"/>
                  </a:lnTo>
                  <a:lnTo>
                    <a:pt x="2389" y="772"/>
                  </a:lnTo>
                  <a:lnTo>
                    <a:pt x="2294" y="635"/>
                  </a:lnTo>
                  <a:lnTo>
                    <a:pt x="2218" y="538"/>
                  </a:lnTo>
                  <a:lnTo>
                    <a:pt x="2165" y="478"/>
                  </a:lnTo>
                  <a:lnTo>
                    <a:pt x="2165" y="478"/>
                  </a:lnTo>
                  <a:lnTo>
                    <a:pt x="2077" y="409"/>
                  </a:lnTo>
                  <a:lnTo>
                    <a:pt x="1974" y="345"/>
                  </a:lnTo>
                  <a:lnTo>
                    <a:pt x="1855" y="290"/>
                  </a:lnTo>
                  <a:lnTo>
                    <a:pt x="1855" y="290"/>
                  </a:lnTo>
                  <a:lnTo>
                    <a:pt x="1757" y="257"/>
                  </a:lnTo>
                  <a:lnTo>
                    <a:pt x="1650" y="238"/>
                  </a:lnTo>
                  <a:lnTo>
                    <a:pt x="1534" y="233"/>
                  </a:lnTo>
                  <a:lnTo>
                    <a:pt x="1534" y="233"/>
                  </a:lnTo>
                  <a:lnTo>
                    <a:pt x="1311" y="265"/>
                  </a:lnTo>
                  <a:lnTo>
                    <a:pt x="1106" y="365"/>
                  </a:lnTo>
                  <a:lnTo>
                    <a:pt x="919" y="530"/>
                  </a:lnTo>
                  <a:lnTo>
                    <a:pt x="919" y="530"/>
                  </a:lnTo>
                  <a:lnTo>
                    <a:pt x="804" y="698"/>
                  </a:lnTo>
                  <a:lnTo>
                    <a:pt x="721" y="903"/>
                  </a:lnTo>
                  <a:lnTo>
                    <a:pt x="672" y="1143"/>
                  </a:lnTo>
                  <a:lnTo>
                    <a:pt x="655" y="1420"/>
                  </a:lnTo>
                  <a:lnTo>
                    <a:pt x="655" y="1420"/>
                  </a:lnTo>
                  <a:lnTo>
                    <a:pt x="667" y="1603"/>
                  </a:lnTo>
                  <a:lnTo>
                    <a:pt x="701" y="1783"/>
                  </a:lnTo>
                  <a:lnTo>
                    <a:pt x="759" y="1958"/>
                  </a:lnTo>
                  <a:lnTo>
                    <a:pt x="759" y="1958"/>
                  </a:lnTo>
                  <a:lnTo>
                    <a:pt x="838" y="2120"/>
                  </a:lnTo>
                  <a:lnTo>
                    <a:pt x="942" y="2257"/>
                  </a:lnTo>
                  <a:lnTo>
                    <a:pt x="1068" y="2368"/>
                  </a:lnTo>
                  <a:lnTo>
                    <a:pt x="1068" y="2368"/>
                  </a:lnTo>
                  <a:lnTo>
                    <a:pt x="1214" y="2451"/>
                  </a:lnTo>
                  <a:lnTo>
                    <a:pt x="1376" y="2499"/>
                  </a:lnTo>
                  <a:lnTo>
                    <a:pt x="1554" y="2515"/>
                  </a:lnTo>
                  <a:lnTo>
                    <a:pt x="1554" y="2515"/>
                  </a:lnTo>
                  <a:lnTo>
                    <a:pt x="1647" y="2512"/>
                  </a:lnTo>
                  <a:lnTo>
                    <a:pt x="1743" y="2501"/>
                  </a:lnTo>
                  <a:lnTo>
                    <a:pt x="1842" y="2482"/>
                  </a:lnTo>
                  <a:lnTo>
                    <a:pt x="1842" y="2482"/>
                  </a:lnTo>
                  <a:lnTo>
                    <a:pt x="1890" y="2468"/>
                  </a:lnTo>
                  <a:lnTo>
                    <a:pt x="1932" y="2446"/>
                  </a:lnTo>
                  <a:lnTo>
                    <a:pt x="1967" y="2418"/>
                  </a:lnTo>
                  <a:lnTo>
                    <a:pt x="1967" y="2418"/>
                  </a:lnTo>
                  <a:lnTo>
                    <a:pt x="1987" y="2394"/>
                  </a:lnTo>
                  <a:lnTo>
                    <a:pt x="2001" y="2361"/>
                  </a:lnTo>
                  <a:lnTo>
                    <a:pt x="2011" y="2322"/>
                  </a:lnTo>
                  <a:lnTo>
                    <a:pt x="2011" y="2322"/>
                  </a:lnTo>
                  <a:lnTo>
                    <a:pt x="2021" y="2235"/>
                  </a:lnTo>
                  <a:lnTo>
                    <a:pt x="2026" y="2125"/>
                  </a:lnTo>
                  <a:lnTo>
                    <a:pt x="2027" y="1995"/>
                  </a:lnTo>
                  <a:lnTo>
                    <a:pt x="2027" y="1995"/>
                  </a:lnTo>
                  <a:lnTo>
                    <a:pt x="2027" y="1870"/>
                  </a:lnTo>
                  <a:lnTo>
                    <a:pt x="2025" y="1775"/>
                  </a:lnTo>
                  <a:lnTo>
                    <a:pt x="2022" y="1709"/>
                  </a:lnTo>
                  <a:lnTo>
                    <a:pt x="2022" y="1709"/>
                  </a:lnTo>
                  <a:lnTo>
                    <a:pt x="2012" y="1691"/>
                  </a:lnTo>
                  <a:lnTo>
                    <a:pt x="2002" y="1678"/>
                  </a:lnTo>
                  <a:lnTo>
                    <a:pt x="1994" y="1671"/>
                  </a:lnTo>
                  <a:lnTo>
                    <a:pt x="1994" y="1671"/>
                  </a:lnTo>
                  <a:lnTo>
                    <a:pt x="1979" y="1663"/>
                  </a:lnTo>
                  <a:lnTo>
                    <a:pt x="1950" y="1653"/>
                  </a:lnTo>
                  <a:lnTo>
                    <a:pt x="1910" y="1642"/>
                  </a:lnTo>
                  <a:lnTo>
                    <a:pt x="1910" y="1642"/>
                  </a:lnTo>
                  <a:lnTo>
                    <a:pt x="1723" y="1594"/>
                  </a:lnTo>
                  <a:lnTo>
                    <a:pt x="1723" y="1594"/>
                  </a:lnTo>
                  <a:lnTo>
                    <a:pt x="1688" y="1583"/>
                  </a:lnTo>
                  <a:lnTo>
                    <a:pt x="1663" y="1573"/>
                  </a:lnTo>
                  <a:lnTo>
                    <a:pt x="1648" y="1560"/>
                  </a:lnTo>
                  <a:lnTo>
                    <a:pt x="1648" y="1560"/>
                  </a:lnTo>
                  <a:lnTo>
                    <a:pt x="1646" y="1544"/>
                  </a:lnTo>
                  <a:lnTo>
                    <a:pt x="1644" y="1531"/>
                  </a:lnTo>
                  <a:lnTo>
                    <a:pt x="1644" y="1521"/>
                  </a:lnTo>
                  <a:lnTo>
                    <a:pt x="1644" y="1521"/>
                  </a:lnTo>
                  <a:lnTo>
                    <a:pt x="1646" y="1500"/>
                  </a:lnTo>
                  <a:lnTo>
                    <a:pt x="1652" y="1475"/>
                  </a:lnTo>
                  <a:lnTo>
                    <a:pt x="1659" y="1443"/>
                  </a:lnTo>
                  <a:lnTo>
                    <a:pt x="1659" y="1443"/>
                  </a:lnTo>
                  <a:lnTo>
                    <a:pt x="1682" y="1437"/>
                  </a:lnTo>
                  <a:lnTo>
                    <a:pt x="1699" y="1433"/>
                  </a:lnTo>
                  <a:lnTo>
                    <a:pt x="1711" y="1432"/>
                  </a:lnTo>
                  <a:lnTo>
                    <a:pt x="1711" y="1432"/>
                  </a:lnTo>
                  <a:lnTo>
                    <a:pt x="1856" y="1434"/>
                  </a:lnTo>
                  <a:lnTo>
                    <a:pt x="1987" y="1439"/>
                  </a:lnTo>
                  <a:lnTo>
                    <a:pt x="2105" y="1448"/>
                  </a:lnTo>
                  <a:lnTo>
                    <a:pt x="2105" y="1448"/>
                  </a:lnTo>
                  <a:lnTo>
                    <a:pt x="2145" y="1450"/>
                  </a:lnTo>
                  <a:lnTo>
                    <a:pt x="2187" y="1452"/>
                  </a:lnTo>
                  <a:lnTo>
                    <a:pt x="2232" y="1452"/>
                  </a:lnTo>
                  <a:lnTo>
                    <a:pt x="2232" y="1452"/>
                  </a:lnTo>
                  <a:lnTo>
                    <a:pt x="2562" y="1448"/>
                  </a:lnTo>
                  <a:lnTo>
                    <a:pt x="2701" y="1443"/>
                  </a:lnTo>
                  <a:lnTo>
                    <a:pt x="2701" y="1443"/>
                  </a:lnTo>
                  <a:lnTo>
                    <a:pt x="2728" y="1443"/>
                  </a:lnTo>
                  <a:lnTo>
                    <a:pt x="2774" y="1444"/>
                  </a:lnTo>
                  <a:lnTo>
                    <a:pt x="2841" y="1448"/>
                  </a:lnTo>
                  <a:lnTo>
                    <a:pt x="2841" y="1448"/>
                  </a:lnTo>
                  <a:lnTo>
                    <a:pt x="2844" y="1481"/>
                  </a:lnTo>
                  <a:lnTo>
                    <a:pt x="2844" y="1510"/>
                  </a:lnTo>
                  <a:lnTo>
                    <a:pt x="2844" y="1536"/>
                  </a:lnTo>
                  <a:lnTo>
                    <a:pt x="2844" y="1536"/>
                  </a:lnTo>
                  <a:lnTo>
                    <a:pt x="2842" y="1551"/>
                  </a:lnTo>
                  <a:lnTo>
                    <a:pt x="2837" y="1568"/>
                  </a:lnTo>
                  <a:lnTo>
                    <a:pt x="2830" y="1586"/>
                  </a:lnTo>
                  <a:lnTo>
                    <a:pt x="2830" y="1586"/>
                  </a:lnTo>
                  <a:lnTo>
                    <a:pt x="2800" y="1600"/>
                  </a:lnTo>
                  <a:lnTo>
                    <a:pt x="2759" y="1616"/>
                  </a:lnTo>
                  <a:lnTo>
                    <a:pt x="2707" y="1635"/>
                  </a:lnTo>
                  <a:lnTo>
                    <a:pt x="2707" y="1635"/>
                  </a:lnTo>
                  <a:lnTo>
                    <a:pt x="2659" y="1653"/>
                  </a:lnTo>
                  <a:lnTo>
                    <a:pt x="2628" y="1666"/>
                  </a:lnTo>
                  <a:lnTo>
                    <a:pt x="2611" y="1675"/>
                  </a:lnTo>
                  <a:lnTo>
                    <a:pt x="2611" y="1675"/>
                  </a:lnTo>
                  <a:lnTo>
                    <a:pt x="2602" y="1688"/>
                  </a:lnTo>
                  <a:lnTo>
                    <a:pt x="2594" y="1704"/>
                  </a:lnTo>
                  <a:lnTo>
                    <a:pt x="2589" y="1725"/>
                  </a:lnTo>
                  <a:lnTo>
                    <a:pt x="2589" y="1725"/>
                  </a:lnTo>
                  <a:lnTo>
                    <a:pt x="2585" y="1767"/>
                  </a:lnTo>
                  <a:lnTo>
                    <a:pt x="2583" y="1845"/>
                  </a:lnTo>
                  <a:lnTo>
                    <a:pt x="2582" y="1963"/>
                  </a:lnTo>
                  <a:lnTo>
                    <a:pt x="2582" y="1963"/>
                  </a:lnTo>
                  <a:lnTo>
                    <a:pt x="2582" y="2098"/>
                  </a:lnTo>
                  <a:lnTo>
                    <a:pt x="2581" y="2192"/>
                  </a:lnTo>
                  <a:lnTo>
                    <a:pt x="2580" y="2244"/>
                  </a:lnTo>
                  <a:lnTo>
                    <a:pt x="2580" y="2244"/>
                  </a:lnTo>
                  <a:lnTo>
                    <a:pt x="2576" y="2327"/>
                  </a:lnTo>
                  <a:lnTo>
                    <a:pt x="2574" y="2383"/>
                  </a:lnTo>
                  <a:lnTo>
                    <a:pt x="2573" y="2411"/>
                  </a:lnTo>
                  <a:lnTo>
                    <a:pt x="2573" y="2411"/>
                  </a:lnTo>
                  <a:lnTo>
                    <a:pt x="2570" y="2454"/>
                  </a:lnTo>
                  <a:lnTo>
                    <a:pt x="2563" y="2484"/>
                  </a:lnTo>
                  <a:lnTo>
                    <a:pt x="2551" y="2502"/>
                  </a:lnTo>
                  <a:lnTo>
                    <a:pt x="2551" y="2502"/>
                  </a:lnTo>
                  <a:lnTo>
                    <a:pt x="2485" y="2541"/>
                  </a:lnTo>
                  <a:lnTo>
                    <a:pt x="2364" y="2583"/>
                  </a:lnTo>
                  <a:lnTo>
                    <a:pt x="2189" y="2628"/>
                  </a:lnTo>
                  <a:lnTo>
                    <a:pt x="2189" y="2628"/>
                  </a:lnTo>
                  <a:lnTo>
                    <a:pt x="1975" y="2668"/>
                  </a:lnTo>
                  <a:lnTo>
                    <a:pt x="1741" y="2692"/>
                  </a:lnTo>
                  <a:lnTo>
                    <a:pt x="1484" y="2701"/>
                  </a:lnTo>
                  <a:lnTo>
                    <a:pt x="1484" y="2701"/>
                  </a:lnTo>
                  <a:lnTo>
                    <a:pt x="1304" y="2695"/>
                  </a:lnTo>
                  <a:lnTo>
                    <a:pt x="1141" y="2680"/>
                  </a:lnTo>
                  <a:lnTo>
                    <a:pt x="994" y="2657"/>
                  </a:lnTo>
                  <a:lnTo>
                    <a:pt x="994" y="2657"/>
                  </a:lnTo>
                  <a:lnTo>
                    <a:pt x="862" y="2623"/>
                  </a:lnTo>
                  <a:lnTo>
                    <a:pt x="746" y="2581"/>
                  </a:lnTo>
                  <a:lnTo>
                    <a:pt x="641" y="2530"/>
                  </a:lnTo>
                  <a:lnTo>
                    <a:pt x="641" y="2530"/>
                  </a:lnTo>
                  <a:lnTo>
                    <a:pt x="517" y="2451"/>
                  </a:lnTo>
                  <a:lnTo>
                    <a:pt x="404" y="2360"/>
                  </a:lnTo>
                  <a:lnTo>
                    <a:pt x="305" y="2259"/>
                  </a:lnTo>
                  <a:lnTo>
                    <a:pt x="305" y="2259"/>
                  </a:lnTo>
                  <a:lnTo>
                    <a:pt x="220" y="2150"/>
                  </a:lnTo>
                  <a:lnTo>
                    <a:pt x="150" y="2035"/>
                  </a:lnTo>
                  <a:lnTo>
                    <a:pt x="97" y="1914"/>
                  </a:lnTo>
                  <a:lnTo>
                    <a:pt x="97" y="1914"/>
                  </a:lnTo>
                  <a:lnTo>
                    <a:pt x="43" y="1740"/>
                  </a:lnTo>
                  <a:lnTo>
                    <a:pt x="11" y="1564"/>
                  </a:lnTo>
                  <a:lnTo>
                    <a:pt x="0" y="1391"/>
                  </a:lnTo>
                  <a:lnTo>
                    <a:pt x="0" y="1391"/>
                  </a:lnTo>
                  <a:lnTo>
                    <a:pt x="16" y="1193"/>
                  </a:lnTo>
                  <a:lnTo>
                    <a:pt x="63" y="995"/>
                  </a:lnTo>
                  <a:lnTo>
                    <a:pt x="142" y="796"/>
                  </a:lnTo>
                  <a:lnTo>
                    <a:pt x="142" y="796"/>
                  </a:lnTo>
                  <a:lnTo>
                    <a:pt x="221" y="656"/>
                  </a:lnTo>
                  <a:lnTo>
                    <a:pt x="318" y="526"/>
                  </a:lnTo>
                  <a:lnTo>
                    <a:pt x="435" y="405"/>
                  </a:lnTo>
                  <a:lnTo>
                    <a:pt x="435" y="405"/>
                  </a:lnTo>
                  <a:lnTo>
                    <a:pt x="572" y="296"/>
                  </a:lnTo>
                  <a:lnTo>
                    <a:pt x="729" y="202"/>
                  </a:lnTo>
                  <a:lnTo>
                    <a:pt x="908" y="126"/>
                  </a:lnTo>
                  <a:lnTo>
                    <a:pt x="908" y="126"/>
                  </a:lnTo>
                  <a:lnTo>
                    <a:pt x="1103" y="69"/>
                  </a:lnTo>
                  <a:lnTo>
                    <a:pt x="1308" y="34"/>
                  </a:lnTo>
                  <a:lnTo>
                    <a:pt x="1525" y="22"/>
                  </a:lnTo>
                  <a:lnTo>
                    <a:pt x="1525" y="22"/>
                  </a:lnTo>
                  <a:lnTo>
                    <a:pt x="1559" y="24"/>
                  </a:lnTo>
                  <a:lnTo>
                    <a:pt x="1604" y="27"/>
                  </a:lnTo>
                  <a:lnTo>
                    <a:pt x="1661" y="32"/>
                  </a:lnTo>
                  <a:lnTo>
                    <a:pt x="1661" y="32"/>
                  </a:lnTo>
                  <a:lnTo>
                    <a:pt x="1826" y="39"/>
                  </a:lnTo>
                  <a:lnTo>
                    <a:pt x="1985" y="60"/>
                  </a:lnTo>
                  <a:lnTo>
                    <a:pt x="2135" y="94"/>
                  </a:lnTo>
                  <a:lnTo>
                    <a:pt x="2135" y="94"/>
                  </a:lnTo>
                  <a:lnTo>
                    <a:pt x="2276" y="137"/>
                  </a:lnTo>
                  <a:lnTo>
                    <a:pt x="2398" y="185"/>
                  </a:lnTo>
                  <a:lnTo>
                    <a:pt x="2503" y="238"/>
                  </a:lnTo>
                  <a:lnTo>
                    <a:pt x="2503" y="238"/>
                  </a:lnTo>
                  <a:close/>
                  <a:moveTo>
                    <a:pt x="4645" y="1199"/>
                  </a:moveTo>
                  <a:lnTo>
                    <a:pt x="4727" y="1285"/>
                  </a:lnTo>
                  <a:lnTo>
                    <a:pt x="4792" y="1380"/>
                  </a:lnTo>
                  <a:lnTo>
                    <a:pt x="4844" y="1482"/>
                  </a:lnTo>
                  <a:lnTo>
                    <a:pt x="4844" y="1482"/>
                  </a:lnTo>
                  <a:lnTo>
                    <a:pt x="4881" y="1588"/>
                  </a:lnTo>
                  <a:lnTo>
                    <a:pt x="4903" y="1688"/>
                  </a:lnTo>
                  <a:lnTo>
                    <a:pt x="4909" y="1785"/>
                  </a:lnTo>
                  <a:lnTo>
                    <a:pt x="4909" y="1785"/>
                  </a:lnTo>
                  <a:lnTo>
                    <a:pt x="4899" y="1952"/>
                  </a:lnTo>
                  <a:lnTo>
                    <a:pt x="4871" y="2095"/>
                  </a:lnTo>
                  <a:lnTo>
                    <a:pt x="4824" y="2215"/>
                  </a:lnTo>
                  <a:lnTo>
                    <a:pt x="4824" y="2215"/>
                  </a:lnTo>
                  <a:lnTo>
                    <a:pt x="4728" y="2366"/>
                  </a:lnTo>
                  <a:lnTo>
                    <a:pt x="4612" y="2487"/>
                  </a:lnTo>
                  <a:lnTo>
                    <a:pt x="4476" y="2580"/>
                  </a:lnTo>
                  <a:lnTo>
                    <a:pt x="4476" y="2580"/>
                  </a:lnTo>
                  <a:lnTo>
                    <a:pt x="4322" y="2645"/>
                  </a:lnTo>
                  <a:lnTo>
                    <a:pt x="4152" y="2684"/>
                  </a:lnTo>
                  <a:lnTo>
                    <a:pt x="3966" y="2697"/>
                  </a:lnTo>
                  <a:lnTo>
                    <a:pt x="3966" y="2697"/>
                  </a:lnTo>
                  <a:lnTo>
                    <a:pt x="3760" y="2682"/>
                  </a:lnTo>
                  <a:lnTo>
                    <a:pt x="3577" y="2636"/>
                  </a:lnTo>
                  <a:lnTo>
                    <a:pt x="3415" y="2558"/>
                  </a:lnTo>
                  <a:lnTo>
                    <a:pt x="3415" y="2558"/>
                  </a:lnTo>
                  <a:lnTo>
                    <a:pt x="3279" y="2460"/>
                  </a:lnTo>
                  <a:lnTo>
                    <a:pt x="3171" y="2356"/>
                  </a:lnTo>
                  <a:lnTo>
                    <a:pt x="3092" y="2241"/>
                  </a:lnTo>
                  <a:lnTo>
                    <a:pt x="3092" y="2241"/>
                  </a:lnTo>
                  <a:lnTo>
                    <a:pt x="3038" y="2113"/>
                  </a:lnTo>
                  <a:lnTo>
                    <a:pt x="3005" y="1966"/>
                  </a:lnTo>
                  <a:lnTo>
                    <a:pt x="2995" y="1801"/>
                  </a:lnTo>
                  <a:lnTo>
                    <a:pt x="2995" y="1801"/>
                  </a:lnTo>
                  <a:lnTo>
                    <a:pt x="2999" y="1712"/>
                  </a:lnTo>
                  <a:lnTo>
                    <a:pt x="3015" y="1622"/>
                  </a:lnTo>
                  <a:lnTo>
                    <a:pt x="3040" y="1533"/>
                  </a:lnTo>
                  <a:lnTo>
                    <a:pt x="3040" y="1533"/>
                  </a:lnTo>
                  <a:lnTo>
                    <a:pt x="3075" y="1447"/>
                  </a:lnTo>
                  <a:lnTo>
                    <a:pt x="3117" y="1369"/>
                  </a:lnTo>
                  <a:lnTo>
                    <a:pt x="3166" y="1298"/>
                  </a:lnTo>
                  <a:lnTo>
                    <a:pt x="3166" y="1298"/>
                  </a:lnTo>
                  <a:lnTo>
                    <a:pt x="3223" y="1235"/>
                  </a:lnTo>
                  <a:lnTo>
                    <a:pt x="3281" y="1179"/>
                  </a:lnTo>
                  <a:lnTo>
                    <a:pt x="3343" y="1131"/>
                  </a:lnTo>
                  <a:lnTo>
                    <a:pt x="3343" y="1131"/>
                  </a:lnTo>
                  <a:lnTo>
                    <a:pt x="3436" y="1073"/>
                  </a:lnTo>
                  <a:lnTo>
                    <a:pt x="3530" y="1028"/>
                  </a:lnTo>
                  <a:lnTo>
                    <a:pt x="3624" y="994"/>
                  </a:lnTo>
                  <a:lnTo>
                    <a:pt x="3624" y="994"/>
                  </a:lnTo>
                  <a:lnTo>
                    <a:pt x="3725" y="972"/>
                  </a:lnTo>
                  <a:lnTo>
                    <a:pt x="3838" y="958"/>
                  </a:lnTo>
                  <a:lnTo>
                    <a:pt x="3964" y="953"/>
                  </a:lnTo>
                  <a:lnTo>
                    <a:pt x="3964" y="953"/>
                  </a:lnTo>
                  <a:lnTo>
                    <a:pt x="4234" y="980"/>
                  </a:lnTo>
                  <a:lnTo>
                    <a:pt x="4461" y="1062"/>
                  </a:lnTo>
                  <a:lnTo>
                    <a:pt x="4645" y="1199"/>
                  </a:lnTo>
                  <a:lnTo>
                    <a:pt x="4645" y="1199"/>
                  </a:lnTo>
                  <a:close/>
                  <a:moveTo>
                    <a:pt x="3504" y="1888"/>
                  </a:moveTo>
                  <a:lnTo>
                    <a:pt x="3515" y="2029"/>
                  </a:lnTo>
                  <a:lnTo>
                    <a:pt x="3524" y="2124"/>
                  </a:lnTo>
                  <a:lnTo>
                    <a:pt x="3530" y="2173"/>
                  </a:lnTo>
                  <a:lnTo>
                    <a:pt x="3530" y="2173"/>
                  </a:lnTo>
                  <a:lnTo>
                    <a:pt x="3552" y="2258"/>
                  </a:lnTo>
                  <a:lnTo>
                    <a:pt x="3581" y="2334"/>
                  </a:lnTo>
                  <a:lnTo>
                    <a:pt x="3617" y="2403"/>
                  </a:lnTo>
                  <a:lnTo>
                    <a:pt x="3617" y="2403"/>
                  </a:lnTo>
                  <a:lnTo>
                    <a:pt x="3648" y="2442"/>
                  </a:lnTo>
                  <a:lnTo>
                    <a:pt x="3692" y="2479"/>
                  </a:lnTo>
                  <a:lnTo>
                    <a:pt x="3747" y="2512"/>
                  </a:lnTo>
                  <a:lnTo>
                    <a:pt x="3747" y="2512"/>
                  </a:lnTo>
                  <a:lnTo>
                    <a:pt x="3813" y="2539"/>
                  </a:lnTo>
                  <a:lnTo>
                    <a:pt x="3885" y="2554"/>
                  </a:lnTo>
                  <a:lnTo>
                    <a:pt x="3966" y="2561"/>
                  </a:lnTo>
                  <a:lnTo>
                    <a:pt x="3966" y="2561"/>
                  </a:lnTo>
                  <a:lnTo>
                    <a:pt x="4063" y="2550"/>
                  </a:lnTo>
                  <a:lnTo>
                    <a:pt x="4148" y="2520"/>
                  </a:lnTo>
                  <a:lnTo>
                    <a:pt x="4223" y="2468"/>
                  </a:lnTo>
                  <a:lnTo>
                    <a:pt x="4223" y="2468"/>
                  </a:lnTo>
                  <a:lnTo>
                    <a:pt x="4286" y="2395"/>
                  </a:lnTo>
                  <a:lnTo>
                    <a:pt x="4337" y="2298"/>
                  </a:lnTo>
                  <a:lnTo>
                    <a:pt x="4374" y="2177"/>
                  </a:lnTo>
                  <a:lnTo>
                    <a:pt x="4374" y="2177"/>
                  </a:lnTo>
                  <a:lnTo>
                    <a:pt x="4390" y="2072"/>
                  </a:lnTo>
                  <a:lnTo>
                    <a:pt x="4399" y="1930"/>
                  </a:lnTo>
                  <a:lnTo>
                    <a:pt x="4403" y="1753"/>
                  </a:lnTo>
                  <a:lnTo>
                    <a:pt x="4403" y="1753"/>
                  </a:lnTo>
                  <a:lnTo>
                    <a:pt x="4389" y="1534"/>
                  </a:lnTo>
                  <a:lnTo>
                    <a:pt x="4347" y="1364"/>
                  </a:lnTo>
                  <a:lnTo>
                    <a:pt x="4277" y="1240"/>
                  </a:lnTo>
                  <a:lnTo>
                    <a:pt x="4277" y="1240"/>
                  </a:lnTo>
                  <a:lnTo>
                    <a:pt x="4186" y="1156"/>
                  </a:lnTo>
                  <a:lnTo>
                    <a:pt x="4076" y="1106"/>
                  </a:lnTo>
                  <a:lnTo>
                    <a:pt x="3948" y="1090"/>
                  </a:lnTo>
                  <a:lnTo>
                    <a:pt x="3948" y="1090"/>
                  </a:lnTo>
                  <a:lnTo>
                    <a:pt x="3847" y="1099"/>
                  </a:lnTo>
                  <a:lnTo>
                    <a:pt x="3759" y="1128"/>
                  </a:lnTo>
                  <a:lnTo>
                    <a:pt x="3681" y="1175"/>
                  </a:lnTo>
                  <a:lnTo>
                    <a:pt x="3681" y="1175"/>
                  </a:lnTo>
                  <a:lnTo>
                    <a:pt x="3619" y="1241"/>
                  </a:lnTo>
                  <a:lnTo>
                    <a:pt x="3569" y="1326"/>
                  </a:lnTo>
                  <a:lnTo>
                    <a:pt x="3535" y="1428"/>
                  </a:lnTo>
                  <a:lnTo>
                    <a:pt x="3535" y="1428"/>
                  </a:lnTo>
                  <a:lnTo>
                    <a:pt x="3519" y="1527"/>
                  </a:lnTo>
                  <a:lnTo>
                    <a:pt x="3509" y="1680"/>
                  </a:lnTo>
                  <a:lnTo>
                    <a:pt x="3504" y="1888"/>
                  </a:lnTo>
                  <a:lnTo>
                    <a:pt x="3504" y="1888"/>
                  </a:lnTo>
                  <a:close/>
                  <a:moveTo>
                    <a:pt x="6790" y="1199"/>
                  </a:moveTo>
                  <a:lnTo>
                    <a:pt x="6872" y="1285"/>
                  </a:lnTo>
                  <a:lnTo>
                    <a:pt x="6938" y="1380"/>
                  </a:lnTo>
                  <a:lnTo>
                    <a:pt x="6989" y="1482"/>
                  </a:lnTo>
                  <a:lnTo>
                    <a:pt x="6989" y="1482"/>
                  </a:lnTo>
                  <a:lnTo>
                    <a:pt x="7025" y="1588"/>
                  </a:lnTo>
                  <a:lnTo>
                    <a:pt x="7048" y="1688"/>
                  </a:lnTo>
                  <a:lnTo>
                    <a:pt x="7054" y="1785"/>
                  </a:lnTo>
                  <a:lnTo>
                    <a:pt x="7054" y="1785"/>
                  </a:lnTo>
                  <a:lnTo>
                    <a:pt x="7045" y="1952"/>
                  </a:lnTo>
                  <a:lnTo>
                    <a:pt x="7017" y="2095"/>
                  </a:lnTo>
                  <a:lnTo>
                    <a:pt x="6969" y="2215"/>
                  </a:lnTo>
                  <a:lnTo>
                    <a:pt x="6969" y="2215"/>
                  </a:lnTo>
                  <a:lnTo>
                    <a:pt x="6873" y="2366"/>
                  </a:lnTo>
                  <a:lnTo>
                    <a:pt x="6758" y="2487"/>
                  </a:lnTo>
                  <a:lnTo>
                    <a:pt x="6621" y="2580"/>
                  </a:lnTo>
                  <a:lnTo>
                    <a:pt x="6621" y="2580"/>
                  </a:lnTo>
                  <a:lnTo>
                    <a:pt x="6467" y="2645"/>
                  </a:lnTo>
                  <a:lnTo>
                    <a:pt x="6298" y="2684"/>
                  </a:lnTo>
                  <a:lnTo>
                    <a:pt x="6112" y="2697"/>
                  </a:lnTo>
                  <a:lnTo>
                    <a:pt x="6112" y="2697"/>
                  </a:lnTo>
                  <a:lnTo>
                    <a:pt x="5906" y="2682"/>
                  </a:lnTo>
                  <a:lnTo>
                    <a:pt x="5722" y="2636"/>
                  </a:lnTo>
                  <a:lnTo>
                    <a:pt x="5560" y="2558"/>
                  </a:lnTo>
                  <a:lnTo>
                    <a:pt x="5560" y="2558"/>
                  </a:lnTo>
                  <a:lnTo>
                    <a:pt x="5424" y="2460"/>
                  </a:lnTo>
                  <a:lnTo>
                    <a:pt x="5316" y="2356"/>
                  </a:lnTo>
                  <a:lnTo>
                    <a:pt x="5236" y="2241"/>
                  </a:lnTo>
                  <a:lnTo>
                    <a:pt x="5236" y="2241"/>
                  </a:lnTo>
                  <a:lnTo>
                    <a:pt x="5183" y="2113"/>
                  </a:lnTo>
                  <a:lnTo>
                    <a:pt x="5151" y="1966"/>
                  </a:lnTo>
                  <a:lnTo>
                    <a:pt x="5140" y="1801"/>
                  </a:lnTo>
                  <a:lnTo>
                    <a:pt x="5140" y="1801"/>
                  </a:lnTo>
                  <a:lnTo>
                    <a:pt x="5146" y="1712"/>
                  </a:lnTo>
                  <a:lnTo>
                    <a:pt x="5161" y="1622"/>
                  </a:lnTo>
                  <a:lnTo>
                    <a:pt x="5185" y="1533"/>
                  </a:lnTo>
                  <a:lnTo>
                    <a:pt x="5185" y="1533"/>
                  </a:lnTo>
                  <a:lnTo>
                    <a:pt x="5220" y="1447"/>
                  </a:lnTo>
                  <a:lnTo>
                    <a:pt x="5262" y="1369"/>
                  </a:lnTo>
                  <a:lnTo>
                    <a:pt x="5312" y="1298"/>
                  </a:lnTo>
                  <a:lnTo>
                    <a:pt x="5312" y="1298"/>
                  </a:lnTo>
                  <a:lnTo>
                    <a:pt x="5367" y="1235"/>
                  </a:lnTo>
                  <a:lnTo>
                    <a:pt x="5425" y="1179"/>
                  </a:lnTo>
                  <a:lnTo>
                    <a:pt x="5489" y="1131"/>
                  </a:lnTo>
                  <a:lnTo>
                    <a:pt x="5489" y="1131"/>
                  </a:lnTo>
                  <a:lnTo>
                    <a:pt x="5582" y="1073"/>
                  </a:lnTo>
                  <a:lnTo>
                    <a:pt x="5676" y="1028"/>
                  </a:lnTo>
                  <a:lnTo>
                    <a:pt x="5769" y="994"/>
                  </a:lnTo>
                  <a:lnTo>
                    <a:pt x="5769" y="994"/>
                  </a:lnTo>
                  <a:lnTo>
                    <a:pt x="5870" y="972"/>
                  </a:lnTo>
                  <a:lnTo>
                    <a:pt x="5982" y="958"/>
                  </a:lnTo>
                  <a:lnTo>
                    <a:pt x="6110" y="953"/>
                  </a:lnTo>
                  <a:lnTo>
                    <a:pt x="6110" y="953"/>
                  </a:lnTo>
                  <a:lnTo>
                    <a:pt x="6380" y="980"/>
                  </a:lnTo>
                  <a:lnTo>
                    <a:pt x="6606" y="1062"/>
                  </a:lnTo>
                  <a:lnTo>
                    <a:pt x="6790" y="1199"/>
                  </a:lnTo>
                  <a:lnTo>
                    <a:pt x="6790" y="1199"/>
                  </a:lnTo>
                  <a:close/>
                  <a:moveTo>
                    <a:pt x="5650" y="1888"/>
                  </a:moveTo>
                  <a:lnTo>
                    <a:pt x="5661" y="2029"/>
                  </a:lnTo>
                  <a:lnTo>
                    <a:pt x="5669" y="2124"/>
                  </a:lnTo>
                  <a:lnTo>
                    <a:pt x="5676" y="2173"/>
                  </a:lnTo>
                  <a:lnTo>
                    <a:pt x="5676" y="2173"/>
                  </a:lnTo>
                  <a:lnTo>
                    <a:pt x="5697" y="2258"/>
                  </a:lnTo>
                  <a:lnTo>
                    <a:pt x="5726" y="2334"/>
                  </a:lnTo>
                  <a:lnTo>
                    <a:pt x="5762" y="2403"/>
                  </a:lnTo>
                  <a:lnTo>
                    <a:pt x="5762" y="2403"/>
                  </a:lnTo>
                  <a:lnTo>
                    <a:pt x="5793" y="2442"/>
                  </a:lnTo>
                  <a:lnTo>
                    <a:pt x="5838" y="2479"/>
                  </a:lnTo>
                  <a:lnTo>
                    <a:pt x="5893" y="2512"/>
                  </a:lnTo>
                  <a:lnTo>
                    <a:pt x="5893" y="2512"/>
                  </a:lnTo>
                  <a:lnTo>
                    <a:pt x="5957" y="2539"/>
                  </a:lnTo>
                  <a:lnTo>
                    <a:pt x="6031" y="2554"/>
                  </a:lnTo>
                  <a:lnTo>
                    <a:pt x="6112" y="2561"/>
                  </a:lnTo>
                  <a:lnTo>
                    <a:pt x="6112" y="2561"/>
                  </a:lnTo>
                  <a:lnTo>
                    <a:pt x="6208" y="2550"/>
                  </a:lnTo>
                  <a:lnTo>
                    <a:pt x="6293" y="2520"/>
                  </a:lnTo>
                  <a:lnTo>
                    <a:pt x="6368" y="2468"/>
                  </a:lnTo>
                  <a:lnTo>
                    <a:pt x="6368" y="2468"/>
                  </a:lnTo>
                  <a:lnTo>
                    <a:pt x="6431" y="2395"/>
                  </a:lnTo>
                  <a:lnTo>
                    <a:pt x="6481" y="2298"/>
                  </a:lnTo>
                  <a:lnTo>
                    <a:pt x="6518" y="2177"/>
                  </a:lnTo>
                  <a:lnTo>
                    <a:pt x="6518" y="2177"/>
                  </a:lnTo>
                  <a:lnTo>
                    <a:pt x="6535" y="2072"/>
                  </a:lnTo>
                  <a:lnTo>
                    <a:pt x="6545" y="1930"/>
                  </a:lnTo>
                  <a:lnTo>
                    <a:pt x="6548" y="1753"/>
                  </a:lnTo>
                  <a:lnTo>
                    <a:pt x="6548" y="1753"/>
                  </a:lnTo>
                  <a:lnTo>
                    <a:pt x="6534" y="1534"/>
                  </a:lnTo>
                  <a:lnTo>
                    <a:pt x="6492" y="1364"/>
                  </a:lnTo>
                  <a:lnTo>
                    <a:pt x="6423" y="1240"/>
                  </a:lnTo>
                  <a:lnTo>
                    <a:pt x="6423" y="1240"/>
                  </a:lnTo>
                  <a:lnTo>
                    <a:pt x="6330" y="1156"/>
                  </a:lnTo>
                  <a:lnTo>
                    <a:pt x="6221" y="1106"/>
                  </a:lnTo>
                  <a:lnTo>
                    <a:pt x="6094" y="1090"/>
                  </a:lnTo>
                  <a:lnTo>
                    <a:pt x="6094" y="1090"/>
                  </a:lnTo>
                  <a:lnTo>
                    <a:pt x="5992" y="1099"/>
                  </a:lnTo>
                  <a:lnTo>
                    <a:pt x="5903" y="1128"/>
                  </a:lnTo>
                  <a:lnTo>
                    <a:pt x="5827" y="1175"/>
                  </a:lnTo>
                  <a:lnTo>
                    <a:pt x="5827" y="1175"/>
                  </a:lnTo>
                  <a:lnTo>
                    <a:pt x="5764" y="1241"/>
                  </a:lnTo>
                  <a:lnTo>
                    <a:pt x="5715" y="1326"/>
                  </a:lnTo>
                  <a:lnTo>
                    <a:pt x="5680" y="1428"/>
                  </a:lnTo>
                  <a:lnTo>
                    <a:pt x="5680" y="1428"/>
                  </a:lnTo>
                  <a:lnTo>
                    <a:pt x="5665" y="1527"/>
                  </a:lnTo>
                  <a:lnTo>
                    <a:pt x="5654" y="1680"/>
                  </a:lnTo>
                  <a:lnTo>
                    <a:pt x="5650" y="1888"/>
                  </a:lnTo>
                  <a:lnTo>
                    <a:pt x="5650" y="1888"/>
                  </a:lnTo>
                  <a:close/>
                  <a:moveTo>
                    <a:pt x="7680" y="1122"/>
                  </a:moveTo>
                  <a:lnTo>
                    <a:pt x="7747" y="1081"/>
                  </a:lnTo>
                  <a:lnTo>
                    <a:pt x="7812" y="1049"/>
                  </a:lnTo>
                  <a:lnTo>
                    <a:pt x="7876" y="1025"/>
                  </a:lnTo>
                  <a:lnTo>
                    <a:pt x="7876" y="1025"/>
                  </a:lnTo>
                  <a:lnTo>
                    <a:pt x="7948" y="1007"/>
                  </a:lnTo>
                  <a:lnTo>
                    <a:pt x="8038" y="991"/>
                  </a:lnTo>
                  <a:lnTo>
                    <a:pt x="8145" y="979"/>
                  </a:lnTo>
                  <a:lnTo>
                    <a:pt x="8145" y="979"/>
                  </a:lnTo>
                  <a:lnTo>
                    <a:pt x="8262" y="979"/>
                  </a:lnTo>
                  <a:lnTo>
                    <a:pt x="8262" y="979"/>
                  </a:lnTo>
                  <a:lnTo>
                    <a:pt x="8411" y="995"/>
                  </a:lnTo>
                  <a:lnTo>
                    <a:pt x="8556" y="1046"/>
                  </a:lnTo>
                  <a:lnTo>
                    <a:pt x="8698" y="1129"/>
                  </a:lnTo>
                  <a:lnTo>
                    <a:pt x="8698" y="1129"/>
                  </a:lnTo>
                  <a:lnTo>
                    <a:pt x="8702" y="1081"/>
                  </a:lnTo>
                  <a:lnTo>
                    <a:pt x="8699" y="948"/>
                  </a:lnTo>
                  <a:lnTo>
                    <a:pt x="8708" y="733"/>
                  </a:lnTo>
                  <a:lnTo>
                    <a:pt x="8708" y="733"/>
                  </a:lnTo>
                  <a:lnTo>
                    <a:pt x="8702" y="537"/>
                  </a:lnTo>
                  <a:lnTo>
                    <a:pt x="8684" y="395"/>
                  </a:lnTo>
                  <a:lnTo>
                    <a:pt x="8655" y="307"/>
                  </a:lnTo>
                  <a:lnTo>
                    <a:pt x="8655" y="307"/>
                  </a:lnTo>
                  <a:lnTo>
                    <a:pt x="8628" y="277"/>
                  </a:lnTo>
                  <a:lnTo>
                    <a:pt x="8591" y="258"/>
                  </a:lnTo>
                  <a:lnTo>
                    <a:pt x="8544" y="250"/>
                  </a:lnTo>
                  <a:lnTo>
                    <a:pt x="8544" y="250"/>
                  </a:lnTo>
                  <a:lnTo>
                    <a:pt x="8496" y="245"/>
                  </a:lnTo>
                  <a:lnTo>
                    <a:pt x="8453" y="237"/>
                  </a:lnTo>
                  <a:lnTo>
                    <a:pt x="8418" y="224"/>
                  </a:lnTo>
                  <a:lnTo>
                    <a:pt x="8418" y="224"/>
                  </a:lnTo>
                  <a:lnTo>
                    <a:pt x="8418" y="128"/>
                  </a:lnTo>
                  <a:lnTo>
                    <a:pt x="8418" y="128"/>
                  </a:lnTo>
                  <a:lnTo>
                    <a:pt x="8447" y="120"/>
                  </a:lnTo>
                  <a:lnTo>
                    <a:pt x="8482" y="116"/>
                  </a:lnTo>
                  <a:lnTo>
                    <a:pt x="8521" y="115"/>
                  </a:lnTo>
                  <a:lnTo>
                    <a:pt x="8521" y="115"/>
                  </a:lnTo>
                  <a:lnTo>
                    <a:pt x="8575" y="110"/>
                  </a:lnTo>
                  <a:lnTo>
                    <a:pt x="8657" y="96"/>
                  </a:lnTo>
                  <a:lnTo>
                    <a:pt x="8764" y="74"/>
                  </a:lnTo>
                  <a:lnTo>
                    <a:pt x="8764" y="74"/>
                  </a:lnTo>
                  <a:lnTo>
                    <a:pt x="8835" y="60"/>
                  </a:lnTo>
                  <a:lnTo>
                    <a:pt x="9042" y="14"/>
                  </a:lnTo>
                  <a:lnTo>
                    <a:pt x="9042" y="14"/>
                  </a:lnTo>
                  <a:lnTo>
                    <a:pt x="9078" y="6"/>
                  </a:lnTo>
                  <a:lnTo>
                    <a:pt x="9104" y="2"/>
                  </a:lnTo>
                  <a:lnTo>
                    <a:pt x="9119" y="0"/>
                  </a:lnTo>
                  <a:lnTo>
                    <a:pt x="9119" y="0"/>
                  </a:lnTo>
                  <a:lnTo>
                    <a:pt x="9128" y="1"/>
                  </a:lnTo>
                  <a:lnTo>
                    <a:pt x="9138" y="2"/>
                  </a:lnTo>
                  <a:lnTo>
                    <a:pt x="9152" y="4"/>
                  </a:lnTo>
                  <a:lnTo>
                    <a:pt x="9152" y="4"/>
                  </a:lnTo>
                  <a:lnTo>
                    <a:pt x="9160" y="30"/>
                  </a:lnTo>
                  <a:lnTo>
                    <a:pt x="9163" y="50"/>
                  </a:lnTo>
                  <a:lnTo>
                    <a:pt x="9164" y="67"/>
                  </a:lnTo>
                  <a:lnTo>
                    <a:pt x="9164" y="67"/>
                  </a:lnTo>
                  <a:lnTo>
                    <a:pt x="9162" y="97"/>
                  </a:lnTo>
                  <a:lnTo>
                    <a:pt x="9162" y="132"/>
                  </a:lnTo>
                  <a:lnTo>
                    <a:pt x="9162" y="132"/>
                  </a:lnTo>
                  <a:lnTo>
                    <a:pt x="9163" y="189"/>
                  </a:lnTo>
                  <a:lnTo>
                    <a:pt x="9164" y="289"/>
                  </a:lnTo>
                  <a:lnTo>
                    <a:pt x="9169" y="430"/>
                  </a:lnTo>
                  <a:lnTo>
                    <a:pt x="9169" y="430"/>
                  </a:lnTo>
                  <a:lnTo>
                    <a:pt x="9169" y="536"/>
                  </a:lnTo>
                  <a:lnTo>
                    <a:pt x="9171" y="594"/>
                  </a:lnTo>
                  <a:lnTo>
                    <a:pt x="9169" y="694"/>
                  </a:lnTo>
                  <a:lnTo>
                    <a:pt x="9175" y="901"/>
                  </a:lnTo>
                  <a:lnTo>
                    <a:pt x="9171" y="1023"/>
                  </a:lnTo>
                  <a:lnTo>
                    <a:pt x="9171" y="1023"/>
                  </a:lnTo>
                  <a:lnTo>
                    <a:pt x="9169" y="1086"/>
                  </a:lnTo>
                  <a:lnTo>
                    <a:pt x="9167" y="1171"/>
                  </a:lnTo>
                  <a:lnTo>
                    <a:pt x="9166" y="1274"/>
                  </a:lnTo>
                  <a:lnTo>
                    <a:pt x="9166" y="1274"/>
                  </a:lnTo>
                  <a:lnTo>
                    <a:pt x="9166" y="1293"/>
                  </a:lnTo>
                  <a:lnTo>
                    <a:pt x="9167" y="1309"/>
                  </a:lnTo>
                  <a:lnTo>
                    <a:pt x="9169" y="1324"/>
                  </a:lnTo>
                  <a:lnTo>
                    <a:pt x="9169" y="1324"/>
                  </a:lnTo>
                  <a:lnTo>
                    <a:pt x="9169" y="1398"/>
                  </a:lnTo>
                  <a:lnTo>
                    <a:pt x="9169" y="1398"/>
                  </a:lnTo>
                  <a:lnTo>
                    <a:pt x="9167" y="1418"/>
                  </a:lnTo>
                  <a:lnTo>
                    <a:pt x="9166" y="1434"/>
                  </a:lnTo>
                  <a:lnTo>
                    <a:pt x="9166" y="1446"/>
                  </a:lnTo>
                  <a:lnTo>
                    <a:pt x="9166" y="1446"/>
                  </a:lnTo>
                  <a:lnTo>
                    <a:pt x="9167" y="1469"/>
                  </a:lnTo>
                  <a:lnTo>
                    <a:pt x="9169" y="1497"/>
                  </a:lnTo>
                  <a:lnTo>
                    <a:pt x="9173" y="1532"/>
                  </a:lnTo>
                  <a:lnTo>
                    <a:pt x="9173" y="1532"/>
                  </a:lnTo>
                  <a:lnTo>
                    <a:pt x="9173" y="1642"/>
                  </a:lnTo>
                  <a:lnTo>
                    <a:pt x="9171" y="1684"/>
                  </a:lnTo>
                  <a:lnTo>
                    <a:pt x="9171" y="1684"/>
                  </a:lnTo>
                  <a:lnTo>
                    <a:pt x="9169" y="1727"/>
                  </a:lnTo>
                  <a:lnTo>
                    <a:pt x="9167" y="1779"/>
                  </a:lnTo>
                  <a:lnTo>
                    <a:pt x="9166" y="1843"/>
                  </a:lnTo>
                  <a:lnTo>
                    <a:pt x="9166" y="1843"/>
                  </a:lnTo>
                  <a:lnTo>
                    <a:pt x="9167" y="1909"/>
                  </a:lnTo>
                  <a:lnTo>
                    <a:pt x="9169" y="1972"/>
                  </a:lnTo>
                  <a:lnTo>
                    <a:pt x="9171" y="2029"/>
                  </a:lnTo>
                  <a:lnTo>
                    <a:pt x="9171" y="2029"/>
                  </a:lnTo>
                  <a:lnTo>
                    <a:pt x="9172" y="2052"/>
                  </a:lnTo>
                  <a:lnTo>
                    <a:pt x="9173" y="2072"/>
                  </a:lnTo>
                  <a:lnTo>
                    <a:pt x="9173" y="2092"/>
                  </a:lnTo>
                  <a:lnTo>
                    <a:pt x="9173" y="2092"/>
                  </a:lnTo>
                  <a:lnTo>
                    <a:pt x="9173" y="2241"/>
                  </a:lnTo>
                  <a:lnTo>
                    <a:pt x="9173" y="2241"/>
                  </a:lnTo>
                  <a:lnTo>
                    <a:pt x="9173" y="2291"/>
                  </a:lnTo>
                  <a:lnTo>
                    <a:pt x="9175" y="2349"/>
                  </a:lnTo>
                  <a:lnTo>
                    <a:pt x="9177" y="2412"/>
                  </a:lnTo>
                  <a:lnTo>
                    <a:pt x="9177" y="2412"/>
                  </a:lnTo>
                  <a:lnTo>
                    <a:pt x="9214" y="2426"/>
                  </a:lnTo>
                  <a:lnTo>
                    <a:pt x="9275" y="2437"/>
                  </a:lnTo>
                  <a:lnTo>
                    <a:pt x="9361" y="2444"/>
                  </a:lnTo>
                  <a:lnTo>
                    <a:pt x="9361" y="2444"/>
                  </a:lnTo>
                  <a:lnTo>
                    <a:pt x="9390" y="2446"/>
                  </a:lnTo>
                  <a:lnTo>
                    <a:pt x="9418" y="2451"/>
                  </a:lnTo>
                  <a:lnTo>
                    <a:pt x="9442" y="2455"/>
                  </a:lnTo>
                  <a:lnTo>
                    <a:pt x="9442" y="2455"/>
                  </a:lnTo>
                  <a:lnTo>
                    <a:pt x="9448" y="2472"/>
                  </a:lnTo>
                  <a:lnTo>
                    <a:pt x="9451" y="2487"/>
                  </a:lnTo>
                  <a:lnTo>
                    <a:pt x="9454" y="2498"/>
                  </a:lnTo>
                  <a:lnTo>
                    <a:pt x="9454" y="2498"/>
                  </a:lnTo>
                  <a:lnTo>
                    <a:pt x="9451" y="2512"/>
                  </a:lnTo>
                  <a:lnTo>
                    <a:pt x="9446" y="2530"/>
                  </a:lnTo>
                  <a:lnTo>
                    <a:pt x="9437" y="2552"/>
                  </a:lnTo>
                  <a:lnTo>
                    <a:pt x="9437" y="2552"/>
                  </a:lnTo>
                  <a:lnTo>
                    <a:pt x="9380" y="2564"/>
                  </a:lnTo>
                  <a:lnTo>
                    <a:pt x="9320" y="2575"/>
                  </a:lnTo>
                  <a:lnTo>
                    <a:pt x="9258" y="2582"/>
                  </a:lnTo>
                  <a:lnTo>
                    <a:pt x="9258" y="2582"/>
                  </a:lnTo>
                  <a:lnTo>
                    <a:pt x="9086" y="2608"/>
                  </a:lnTo>
                  <a:lnTo>
                    <a:pt x="8950" y="2640"/>
                  </a:lnTo>
                  <a:lnTo>
                    <a:pt x="8852" y="2678"/>
                  </a:lnTo>
                  <a:lnTo>
                    <a:pt x="8852" y="2678"/>
                  </a:lnTo>
                  <a:lnTo>
                    <a:pt x="8817" y="2695"/>
                  </a:lnTo>
                  <a:lnTo>
                    <a:pt x="8790" y="2706"/>
                  </a:lnTo>
                  <a:lnTo>
                    <a:pt x="8771" y="2709"/>
                  </a:lnTo>
                  <a:lnTo>
                    <a:pt x="8771" y="2709"/>
                  </a:lnTo>
                  <a:lnTo>
                    <a:pt x="8755" y="2709"/>
                  </a:lnTo>
                  <a:lnTo>
                    <a:pt x="8738" y="2708"/>
                  </a:lnTo>
                  <a:lnTo>
                    <a:pt x="8718" y="2706"/>
                  </a:lnTo>
                  <a:lnTo>
                    <a:pt x="8718" y="2706"/>
                  </a:lnTo>
                  <a:lnTo>
                    <a:pt x="8719" y="2684"/>
                  </a:lnTo>
                  <a:lnTo>
                    <a:pt x="8720" y="2669"/>
                  </a:lnTo>
                  <a:lnTo>
                    <a:pt x="8720" y="2660"/>
                  </a:lnTo>
                  <a:lnTo>
                    <a:pt x="8720" y="2660"/>
                  </a:lnTo>
                  <a:lnTo>
                    <a:pt x="8719" y="2580"/>
                  </a:lnTo>
                  <a:lnTo>
                    <a:pt x="8717" y="2522"/>
                  </a:lnTo>
                  <a:lnTo>
                    <a:pt x="8715" y="2486"/>
                  </a:lnTo>
                  <a:lnTo>
                    <a:pt x="8715" y="2486"/>
                  </a:lnTo>
                  <a:lnTo>
                    <a:pt x="8691" y="2498"/>
                  </a:lnTo>
                  <a:lnTo>
                    <a:pt x="8665" y="2512"/>
                  </a:lnTo>
                  <a:lnTo>
                    <a:pt x="8637" y="2528"/>
                  </a:lnTo>
                  <a:lnTo>
                    <a:pt x="8637" y="2528"/>
                  </a:lnTo>
                  <a:lnTo>
                    <a:pt x="8547" y="2576"/>
                  </a:lnTo>
                  <a:lnTo>
                    <a:pt x="8461" y="2613"/>
                  </a:lnTo>
                  <a:lnTo>
                    <a:pt x="8383" y="2639"/>
                  </a:lnTo>
                  <a:lnTo>
                    <a:pt x="8383" y="2639"/>
                  </a:lnTo>
                  <a:lnTo>
                    <a:pt x="8302" y="2656"/>
                  </a:lnTo>
                  <a:lnTo>
                    <a:pt x="8215" y="2666"/>
                  </a:lnTo>
                  <a:lnTo>
                    <a:pt x="8120" y="2670"/>
                  </a:lnTo>
                  <a:lnTo>
                    <a:pt x="8120" y="2670"/>
                  </a:lnTo>
                  <a:lnTo>
                    <a:pt x="7956" y="2659"/>
                  </a:lnTo>
                  <a:lnTo>
                    <a:pt x="7817" y="2627"/>
                  </a:lnTo>
                  <a:lnTo>
                    <a:pt x="7701" y="2575"/>
                  </a:lnTo>
                  <a:lnTo>
                    <a:pt x="7701" y="2575"/>
                  </a:lnTo>
                  <a:lnTo>
                    <a:pt x="7562" y="2474"/>
                  </a:lnTo>
                  <a:lnTo>
                    <a:pt x="7455" y="2363"/>
                  </a:lnTo>
                  <a:lnTo>
                    <a:pt x="7381" y="2239"/>
                  </a:lnTo>
                  <a:lnTo>
                    <a:pt x="7381" y="2239"/>
                  </a:lnTo>
                  <a:lnTo>
                    <a:pt x="7331" y="2105"/>
                  </a:lnTo>
                  <a:lnTo>
                    <a:pt x="7302" y="1962"/>
                  </a:lnTo>
                  <a:lnTo>
                    <a:pt x="7292" y="1811"/>
                  </a:lnTo>
                  <a:lnTo>
                    <a:pt x="7292" y="1811"/>
                  </a:lnTo>
                  <a:lnTo>
                    <a:pt x="7334" y="1555"/>
                  </a:lnTo>
                  <a:lnTo>
                    <a:pt x="7464" y="1326"/>
                  </a:lnTo>
                  <a:lnTo>
                    <a:pt x="7680" y="1122"/>
                  </a:lnTo>
                  <a:lnTo>
                    <a:pt x="7680" y="1122"/>
                  </a:lnTo>
                  <a:close/>
                  <a:moveTo>
                    <a:pt x="8322" y="2442"/>
                  </a:moveTo>
                  <a:lnTo>
                    <a:pt x="8350" y="2445"/>
                  </a:lnTo>
                  <a:lnTo>
                    <a:pt x="8375" y="2446"/>
                  </a:lnTo>
                  <a:lnTo>
                    <a:pt x="8397" y="2446"/>
                  </a:lnTo>
                  <a:lnTo>
                    <a:pt x="8397" y="2446"/>
                  </a:lnTo>
                  <a:lnTo>
                    <a:pt x="8444" y="2443"/>
                  </a:lnTo>
                  <a:lnTo>
                    <a:pt x="8494" y="2433"/>
                  </a:lnTo>
                  <a:lnTo>
                    <a:pt x="8544" y="2418"/>
                  </a:lnTo>
                  <a:lnTo>
                    <a:pt x="8544" y="2418"/>
                  </a:lnTo>
                  <a:lnTo>
                    <a:pt x="8597" y="2397"/>
                  </a:lnTo>
                  <a:lnTo>
                    <a:pt x="8652" y="2370"/>
                  </a:lnTo>
                  <a:lnTo>
                    <a:pt x="8711" y="2338"/>
                  </a:lnTo>
                  <a:lnTo>
                    <a:pt x="8711" y="2338"/>
                  </a:lnTo>
                  <a:lnTo>
                    <a:pt x="8712" y="2299"/>
                  </a:lnTo>
                  <a:lnTo>
                    <a:pt x="8712" y="2271"/>
                  </a:lnTo>
                  <a:lnTo>
                    <a:pt x="8712" y="2255"/>
                  </a:lnTo>
                  <a:lnTo>
                    <a:pt x="8712" y="2255"/>
                  </a:lnTo>
                  <a:lnTo>
                    <a:pt x="8711" y="1889"/>
                  </a:lnTo>
                  <a:lnTo>
                    <a:pt x="8703" y="1636"/>
                  </a:lnTo>
                  <a:lnTo>
                    <a:pt x="8693" y="1494"/>
                  </a:lnTo>
                  <a:lnTo>
                    <a:pt x="8693" y="1494"/>
                  </a:lnTo>
                  <a:lnTo>
                    <a:pt x="8666" y="1387"/>
                  </a:lnTo>
                  <a:lnTo>
                    <a:pt x="8621" y="1297"/>
                  </a:lnTo>
                  <a:lnTo>
                    <a:pt x="8556" y="1227"/>
                  </a:lnTo>
                  <a:lnTo>
                    <a:pt x="8556" y="1227"/>
                  </a:lnTo>
                  <a:lnTo>
                    <a:pt x="8475" y="1175"/>
                  </a:lnTo>
                  <a:lnTo>
                    <a:pt x="8384" y="1143"/>
                  </a:lnTo>
                  <a:lnTo>
                    <a:pt x="8282" y="1133"/>
                  </a:lnTo>
                  <a:lnTo>
                    <a:pt x="8282" y="1133"/>
                  </a:lnTo>
                  <a:lnTo>
                    <a:pt x="8223" y="1136"/>
                  </a:lnTo>
                  <a:lnTo>
                    <a:pt x="8163" y="1147"/>
                  </a:lnTo>
                  <a:lnTo>
                    <a:pt x="8107" y="1164"/>
                  </a:lnTo>
                  <a:lnTo>
                    <a:pt x="8107" y="1164"/>
                  </a:lnTo>
                  <a:lnTo>
                    <a:pt x="8056" y="1189"/>
                  </a:lnTo>
                  <a:lnTo>
                    <a:pt x="8012" y="1219"/>
                  </a:lnTo>
                  <a:lnTo>
                    <a:pt x="7973" y="1257"/>
                  </a:lnTo>
                  <a:lnTo>
                    <a:pt x="7973" y="1257"/>
                  </a:lnTo>
                  <a:lnTo>
                    <a:pt x="7926" y="1318"/>
                  </a:lnTo>
                  <a:lnTo>
                    <a:pt x="7887" y="1384"/>
                  </a:lnTo>
                  <a:lnTo>
                    <a:pt x="7857" y="1456"/>
                  </a:lnTo>
                  <a:lnTo>
                    <a:pt x="7857" y="1456"/>
                  </a:lnTo>
                  <a:lnTo>
                    <a:pt x="7826" y="1558"/>
                  </a:lnTo>
                  <a:lnTo>
                    <a:pt x="7809" y="1655"/>
                  </a:lnTo>
                  <a:lnTo>
                    <a:pt x="7803" y="1746"/>
                  </a:lnTo>
                  <a:lnTo>
                    <a:pt x="7803" y="1746"/>
                  </a:lnTo>
                  <a:lnTo>
                    <a:pt x="7818" y="1946"/>
                  </a:lnTo>
                  <a:lnTo>
                    <a:pt x="7866" y="2112"/>
                  </a:lnTo>
                  <a:lnTo>
                    <a:pt x="7946" y="2244"/>
                  </a:lnTo>
                  <a:lnTo>
                    <a:pt x="7946" y="2244"/>
                  </a:lnTo>
                  <a:lnTo>
                    <a:pt x="8052" y="2343"/>
                  </a:lnTo>
                  <a:lnTo>
                    <a:pt x="8177" y="2409"/>
                  </a:lnTo>
                  <a:lnTo>
                    <a:pt x="8322" y="2442"/>
                  </a:lnTo>
                  <a:lnTo>
                    <a:pt x="8322" y="2442"/>
                  </a:lnTo>
                  <a:close/>
                </a:path>
              </a:pathLst>
            </a:custGeom>
            <a:solidFill>
              <a:srgbClr val="2b0e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44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3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3dfcf"/>
                </a:gs>
                <a:gs pos="100000">
                  <a:srgbClr val="f3f1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44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819520" y="4800600"/>
              <a:ext cx="6237000" cy="2048040"/>
              <a:chOff x="2819520" y="4800600"/>
              <a:chExt cx="6237000" cy="204804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3600360" y="6245280"/>
                <a:ext cx="1013040" cy="598320"/>
                <a:chOff x="3600360" y="6245280"/>
                <a:chExt cx="1013040" cy="59832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3600360" y="6245280"/>
                  <a:ext cx="1013040" cy="598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d4d2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673440" y="6283440"/>
                  <a:ext cx="862200" cy="527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4d2cb"/>
                    </a:gs>
                    <a:gs pos="100000">
                      <a:srgbClr val="f3f1e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3716280" y="6316560"/>
                  <a:ext cx="795240" cy="47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dcdad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759120" y="6345360"/>
                  <a:ext cx="704880" cy="4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4d2cb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786120" y="6357960"/>
                  <a:ext cx="655560" cy="38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e1da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868560" y="6391440"/>
                  <a:ext cx="48600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4d2cb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930480" y="6438960"/>
                  <a:ext cx="360360" cy="214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cdad3"/>
                    </a:gs>
                    <a:gs pos="100000">
                      <a:srgbClr val="f3f1e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4035600" y="6504120"/>
                  <a:ext cx="142560" cy="9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cdad3"/>
                    </a:gs>
                    <a:gs pos="100000">
                      <a:srgbClr val="f3f1e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5851440" y="6048360"/>
                <a:ext cx="844560" cy="519120"/>
              </a:xfrm>
              <a:prstGeom prst="ellipse">
                <a:avLst/>
              </a:prstGeom>
              <a:gradFill rotWithShape="0">
                <a:gsLst>
                  <a:gs pos="0">
                    <a:srgbClr val="f3f1e9"/>
                  </a:gs>
                  <a:gs pos="100000">
                    <a:srgbClr val="dcda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915160" y="6095880"/>
                <a:ext cx="717480" cy="436680"/>
              </a:xfrm>
              <a:prstGeom prst="ellipse">
                <a:avLst/>
              </a:prstGeom>
              <a:gradFill rotWithShape="0">
                <a:gsLst>
                  <a:gs pos="0">
                    <a:srgbClr val="dcdad3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004080" y="6146640"/>
                <a:ext cx="546120" cy="328680"/>
              </a:xfrm>
              <a:prstGeom prst="ellipse">
                <a:avLst/>
              </a:pr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67440" y="6184800"/>
                <a:ext cx="415800" cy="252360"/>
              </a:xfrm>
              <a:prstGeom prst="ellipse">
                <a:avLst/>
              </a:prstGeom>
              <a:gradFill rotWithShape="0">
                <a:gsLst>
                  <a:gs pos="0">
                    <a:srgbClr val="eae8e0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21440" y="6226200"/>
                <a:ext cx="304920" cy="169920"/>
              </a:xfrm>
              <a:prstGeom prst="ellipse">
                <a:avLst/>
              </a:pr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675400" y="5897520"/>
                <a:ext cx="60804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e1da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65840" y="6620040"/>
                <a:ext cx="70488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cdcbc4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599080" y="6200640"/>
                <a:ext cx="14148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d4d2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665680" y="5945040"/>
                <a:ext cx="119088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ad3"/>
                  </a:gs>
                  <a:gs pos="100000">
                    <a:srgbClr val="f3f1e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08720" y="5907240"/>
                <a:ext cx="15228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d2cb"/>
                  </a:gs>
                  <a:gs pos="100000">
                    <a:srgbClr val="f3f1e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627960" y="6429240"/>
                <a:ext cx="285480" cy="209520"/>
              </a:xfrm>
              <a:custGeom>
                <a:avLst/>
                <a:gdLst/>
                <a:ahLst/>
                <a:rect l="l" t="t" r="r" b="b"/>
                <a:pathLst>
                  <a:path w="179" h="132">
                    <a:moveTo>
                      <a:pt x="0" y="132"/>
                    </a:moveTo>
                    <a:lnTo>
                      <a:pt x="29" y="132"/>
                    </a:lnTo>
                    <a:lnTo>
                      <a:pt x="77" y="108"/>
                    </a:lnTo>
                    <a:lnTo>
                      <a:pt x="119" y="78"/>
                    </a:lnTo>
                    <a:lnTo>
                      <a:pt x="155" y="48"/>
                    </a:lnTo>
                    <a:lnTo>
                      <a:pt x="179" y="12"/>
                    </a:lnTo>
                    <a:lnTo>
                      <a:pt x="173" y="6"/>
                    </a:lnTo>
                    <a:lnTo>
                      <a:pt x="167" y="0"/>
                    </a:lnTo>
                    <a:lnTo>
                      <a:pt x="137" y="42"/>
                    </a:lnTo>
                    <a:lnTo>
                      <a:pt x="101" y="78"/>
                    </a:lnTo>
                    <a:lnTo>
                      <a:pt x="53" y="108"/>
                    </a:lnTo>
                    <a:lnTo>
                      <a:pt x="0" y="132"/>
                    </a:lnTo>
                    <a:lnTo>
                      <a:pt x="0" y="1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d2cb"/>
                  </a:gs>
                  <a:gs pos="100000">
                    <a:srgbClr val="f3f1e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ad3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dcbc4"/>
                  </a:gs>
                  <a:gs pos="100000">
                    <a:srgbClr val="f3f1e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cdad3"/>
                  </a:gs>
                  <a:gs pos="100000">
                    <a:srgbClr val="f3f1e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c6c4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3f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3f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d4d2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d4d2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d4d2c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3f1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2f0e8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2f0e8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2f0e9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e1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ae8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f2f0e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2f0e8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2f0e8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d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d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d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d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dfcf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3dfcf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1e9"/>
                  </a:gs>
                  <a:gs pos="100000">
                    <a:srgbClr val="e3df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207120" y="6267600"/>
                <a:ext cx="133200" cy="83880"/>
              </a:xfrm>
              <a:prstGeom prst="ellipse">
                <a:avLst/>
              </a:prstGeom>
              <a:gradFill rotWithShape="0">
                <a:gsLst>
                  <a:gs pos="0">
                    <a:srgbClr val="e3e1da"/>
                  </a:gs>
                  <a:gs pos="100000">
                    <a:srgbClr val="f3f1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44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7216920" y="5727600"/>
                <a:ext cx="822240" cy="506520"/>
                <a:chOff x="7216920" y="5727600"/>
                <a:chExt cx="822240" cy="5065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7216920" y="5727600"/>
                  <a:ext cx="822240" cy="50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e3e1d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267680" y="5762520"/>
                  <a:ext cx="707760" cy="43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2f0e8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318440" y="5794200"/>
                  <a:ext cx="612720" cy="370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e3e1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388280" y="5838840"/>
                  <a:ext cx="473040" cy="280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e1da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445520" y="5870520"/>
                  <a:ext cx="35244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e3e1d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521480" y="5918040"/>
                  <a:ext cx="200160" cy="128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ae8e0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dfcf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e3df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3dfcf"/>
                    </a:gs>
                    <a:gs pos="100000">
                      <a:srgbClr val="f3f1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3f1e9"/>
                    </a:gs>
                    <a:gs pos="100000">
                      <a:srgbClr val="e3dfc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39257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4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4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44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44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4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4105-D711-43CB-AAD6-CC0E6EA73138}" type="slidenum">
              <a:rPr b="0" lang="en-US" sz="1000" spc="-1" strike="noStrike">
                <a:solidFill>
                  <a:srgbClr val="00004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178000" y="2313000"/>
            <a:ext cx="4788000" cy="2232000"/>
            <a:chOff x="2178000" y="2313000"/>
            <a:chExt cx="4788000" cy="2232000"/>
          </a:xfrm>
        </p:grpSpPr>
        <p:sp>
          <p:nvSpPr>
            <p:cNvPr id="181" name=""/>
            <p:cNvSpPr/>
            <p:nvPr/>
          </p:nvSpPr>
          <p:spPr>
            <a:xfrm>
              <a:off x="2178000" y="2313000"/>
              <a:ext cx="4788000" cy="2232000"/>
            </a:xfrm>
            <a:prstGeom prst="ellipse">
              <a:avLst/>
            </a:prstGeom>
            <a:gradFill rotWithShape="0">
              <a:gsLst>
                <a:gs pos="0">
                  <a:srgbClr val="a2a4ac"/>
                </a:gs>
                <a:gs pos="100000">
                  <a:srgbClr val="e3dfc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44"/>
                </a:solidFill>
                <a:latin typeface="Times New Roman"/>
              </a:endParaRPr>
            </a:p>
          </p:txBody>
        </p:sp>
        <p:sp>
          <p:nvSpPr>
            <p:cNvPr id="182" name=""/>
            <p:cNvSpPr txBox="1"/>
            <p:nvPr/>
          </p:nvSpPr>
          <p:spPr>
            <a:xfrm>
              <a:off x="2754360" y="3465720"/>
              <a:ext cx="3673440" cy="9000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993366"/>
                    </a:solidFill>
                    <a:miter/>
                  </a:ln>
                  <a:solidFill>
                    <a:srgbClr val="993366"/>
                  </a:solidFill>
                  <a:latin typeface="Lucida Calligraphy"/>
                </a:rPr>
                <a:t>Healthy food for the athlete in you</a:t>
              </a:r>
              <a:endPara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993366"/>
                </a:solidFill>
                <a:latin typeface="Lucida Calligraphy"/>
                <a:ea typeface="Lucida Calligraphy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294000" y="2565720"/>
              <a:ext cx="2952720" cy="1163520"/>
              <a:chOff x="3294000" y="2565720"/>
              <a:chExt cx="2952720" cy="1163520"/>
            </a:xfrm>
          </p:grpSpPr>
          <p:sp>
            <p:nvSpPr>
              <p:cNvPr id="184" name=""/>
              <p:cNvSpPr txBox="1"/>
              <p:nvPr/>
            </p:nvSpPr>
            <p:spPr>
              <a:xfrm>
                <a:off x="5424120" y="3008520"/>
                <a:ext cx="822600" cy="72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a50021"/>
                    </a:solidFill>
                    <a:latin typeface="Georgia"/>
                  </a:rPr>
                  <a:t>U</a:t>
                </a:r>
                <a:endPara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  <a:ea typeface="Georgia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4698000" y="2750760"/>
                <a:ext cx="1064880" cy="978480"/>
                <a:chOff x="4698000" y="2750760"/>
                <a:chExt cx="1064880" cy="9784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698000" y="2750760"/>
                  <a:ext cx="1064880" cy="978480"/>
                </a:xfrm>
                <a:custGeom>
                  <a:avLst/>
                  <a:gdLst/>
                  <a:ahLst/>
                  <a:rect l="l" t="t" r="r" b="b"/>
                  <a:pathLst>
                    <a:path w="4828" h="4550">
                      <a:moveTo>
                        <a:pt x="4828" y="2723"/>
                      </a:moveTo>
                      <a:lnTo>
                        <a:pt x="4201" y="3603"/>
                      </a:lnTo>
                      <a:lnTo>
                        <a:pt x="3436" y="3615"/>
                      </a:lnTo>
                      <a:lnTo>
                        <a:pt x="3348" y="3906"/>
                      </a:lnTo>
                      <a:lnTo>
                        <a:pt x="3348" y="3906"/>
                      </a:lnTo>
                      <a:lnTo>
                        <a:pt x="3297" y="4190"/>
                      </a:lnTo>
                      <a:lnTo>
                        <a:pt x="3339" y="4397"/>
                      </a:lnTo>
                      <a:lnTo>
                        <a:pt x="3473" y="4521"/>
                      </a:lnTo>
                      <a:lnTo>
                        <a:pt x="3473" y="4521"/>
                      </a:lnTo>
                      <a:lnTo>
                        <a:pt x="3347" y="4550"/>
                      </a:lnTo>
                      <a:lnTo>
                        <a:pt x="1983" y="4550"/>
                      </a:lnTo>
                      <a:lnTo>
                        <a:pt x="2008" y="4521"/>
                      </a:lnTo>
                      <a:lnTo>
                        <a:pt x="2008" y="4521"/>
                      </a:lnTo>
                      <a:lnTo>
                        <a:pt x="2135" y="4474"/>
                      </a:lnTo>
                      <a:lnTo>
                        <a:pt x="2239" y="4417"/>
                      </a:lnTo>
                      <a:lnTo>
                        <a:pt x="2321" y="4352"/>
                      </a:lnTo>
                      <a:lnTo>
                        <a:pt x="2321" y="4352"/>
                      </a:lnTo>
                      <a:lnTo>
                        <a:pt x="2388" y="4271"/>
                      </a:lnTo>
                      <a:lnTo>
                        <a:pt x="2443" y="4169"/>
                      </a:lnTo>
                      <a:lnTo>
                        <a:pt x="2488" y="4043"/>
                      </a:lnTo>
                      <a:lnTo>
                        <a:pt x="2488" y="4043"/>
                      </a:lnTo>
                      <a:lnTo>
                        <a:pt x="2618" y="3615"/>
                      </a:lnTo>
                      <a:lnTo>
                        <a:pt x="0" y="3615"/>
                      </a:lnTo>
                      <a:lnTo>
                        <a:pt x="3299" y="0"/>
                      </a:lnTo>
                      <a:lnTo>
                        <a:pt x="4584" y="0"/>
                      </a:lnTo>
                      <a:lnTo>
                        <a:pt x="3654" y="3013"/>
                      </a:lnTo>
                      <a:lnTo>
                        <a:pt x="3654" y="3013"/>
                      </a:lnTo>
                      <a:lnTo>
                        <a:pt x="3835" y="3006"/>
                      </a:lnTo>
                      <a:lnTo>
                        <a:pt x="4061" y="2987"/>
                      </a:lnTo>
                      <a:lnTo>
                        <a:pt x="4238" y="2962"/>
                      </a:lnTo>
                      <a:lnTo>
                        <a:pt x="4238" y="2962"/>
                      </a:lnTo>
                      <a:lnTo>
                        <a:pt x="4439" y="2907"/>
                      </a:lnTo>
                      <a:lnTo>
                        <a:pt x="4636" y="2828"/>
                      </a:lnTo>
                      <a:lnTo>
                        <a:pt x="4828" y="2723"/>
                      </a:lnTo>
                      <a:lnTo>
                        <a:pt x="4828" y="2723"/>
                      </a:lnTo>
                    </a:path>
                  </a:pathLst>
                </a:custGeom>
                <a:solidFill>
                  <a:srgbClr val="ffcc66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997160" y="2856240"/>
                  <a:ext cx="492840" cy="545040"/>
                </a:xfrm>
                <a:custGeom>
                  <a:avLst/>
                  <a:gdLst/>
                  <a:ahLst/>
                  <a:rect l="l" t="t" r="r" b="b"/>
                  <a:pathLst>
                    <a:path w="2243" h="2533">
                      <a:moveTo>
                        <a:pt x="1481" y="2533"/>
                      </a:moveTo>
                      <a:lnTo>
                        <a:pt x="2243" y="0"/>
                      </a:lnTo>
                      <a:lnTo>
                        <a:pt x="0" y="2525"/>
                      </a:lnTo>
                      <a:lnTo>
                        <a:pt x="0" y="2525"/>
                      </a:lnTo>
                      <a:lnTo>
                        <a:pt x="203" y="2526"/>
                      </a:lnTo>
                      <a:lnTo>
                        <a:pt x="404" y="2526"/>
                      </a:lnTo>
                      <a:lnTo>
                        <a:pt x="606" y="2527"/>
                      </a:lnTo>
                      <a:lnTo>
                        <a:pt x="606" y="2527"/>
                      </a:lnTo>
                      <a:lnTo>
                        <a:pt x="798" y="2528"/>
                      </a:lnTo>
                      <a:lnTo>
                        <a:pt x="971" y="2529"/>
                      </a:lnTo>
                      <a:lnTo>
                        <a:pt x="1126" y="2531"/>
                      </a:lnTo>
                      <a:lnTo>
                        <a:pt x="1126" y="2531"/>
                      </a:lnTo>
                      <a:lnTo>
                        <a:pt x="1262" y="2532"/>
                      </a:lnTo>
                      <a:lnTo>
                        <a:pt x="1380" y="2533"/>
                      </a:lnTo>
                      <a:lnTo>
                        <a:pt x="1481" y="2533"/>
                      </a:lnTo>
                      <a:lnTo>
                        <a:pt x="1481" y="2533"/>
                      </a:lnTo>
                    </a:path>
                  </a:pathLst>
                </a:custGeom>
                <a:solidFill>
                  <a:srgbClr val="e3dfcf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4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 txBox="1"/>
              <p:nvPr/>
            </p:nvSpPr>
            <p:spPr>
              <a:xfrm>
                <a:off x="3294000" y="2565720"/>
                <a:ext cx="1985040" cy="691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7e"/>
                    </a:solidFill>
                    <a:latin typeface="Georgia"/>
                  </a:rPr>
                  <a:t>Good</a:t>
                </a:r>
                <a:endPara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  <a:ea typeface="Georgia"/>
                </a:endParaRPr>
              </a:p>
            </p:txBody>
          </p:sp>
        </p:grpSp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 flipH="1">
              <a:off x="3509640" y="3321360"/>
              <a:ext cx="1181160" cy="73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44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a2a4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4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44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9800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4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44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4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44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4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44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4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4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39257"/>
                </a:solidFill>
                <a:latin typeface="Arial"/>
              </a:rPr>
              <a:t>Good Eating Guide</a:t>
            </a:r>
            <a:endParaRPr b="1" lang="en-US" sz="5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Staff Training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"/>
              </a:rPr>
              <a:t>Basic Food Groups</a:t>
            </a: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Fats, oils, and sweets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Milk, yogurt, and cheese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Lean meat, poultry, fish, eggs, beans, and nuts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Fruits and vegetables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Whole grain bread, rice, cereal, and pasta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"/>
              </a:rPr>
              <a:t>Good Eating Habits</a:t>
            </a: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Variety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Balance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Moderation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Low Fat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Arial"/>
              </a:rPr>
              <a:t>Limit fat to less than 30% of total calories</a:t>
            </a:r>
            <a:endParaRPr b="0" lang="en-US" sz="2800" spc="-1" strike="noStrike">
              <a:solidFill>
                <a:srgbClr val="0000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Vegetarians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Arial"/>
              </a:rPr>
              <a:t>Include protein complements</a:t>
            </a:r>
            <a:endParaRPr b="0" lang="en-US" sz="2800" spc="-1" strike="noStrike">
              <a:solidFill>
                <a:srgbClr val="0000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"/>
              </a:rPr>
              <a:t>Healthy Proportions</a:t>
            </a: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Fats, oils, and sweets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Arial"/>
              </a:rPr>
              <a:t>Use sparingly</a:t>
            </a:r>
            <a:endParaRPr b="0" lang="en-US" sz="2800" spc="-1" strike="noStrike">
              <a:solidFill>
                <a:srgbClr val="0000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Milk, yogurt, and cheese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Arial"/>
              </a:rPr>
              <a:t>2 to 3 servings</a:t>
            </a:r>
            <a:endParaRPr b="0" lang="en-US" sz="2800" spc="-1" strike="noStrike">
              <a:solidFill>
                <a:srgbClr val="0000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Meat, poultry, fish, eggs, beans, and nuts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Arial"/>
              </a:rPr>
              <a:t>2 to 3 servings</a:t>
            </a:r>
            <a:endParaRPr b="0" lang="en-US" sz="2800" spc="-1" strike="noStrike">
              <a:solidFill>
                <a:srgbClr val="0000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fc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39257"/>
                </a:solidFill>
                <a:latin typeface="Arial"/>
              </a:rPr>
              <a:t>More Healthy Proportions</a:t>
            </a:r>
            <a:endParaRPr b="1" lang="en-US" sz="4400" spc="-1" strike="noStrike">
              <a:solidFill>
                <a:srgbClr val="b39257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Vegetables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Arial"/>
              </a:rPr>
              <a:t>3 to 5 servings</a:t>
            </a:r>
            <a:endParaRPr b="0" lang="en-US" sz="2800" spc="-1" strike="noStrike">
              <a:solidFill>
                <a:srgbClr val="0000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Fruit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Arial"/>
              </a:rPr>
              <a:t>2 to 4 servings</a:t>
            </a:r>
            <a:endParaRPr b="0" lang="en-US" sz="2800" spc="-1" strike="noStrike">
              <a:solidFill>
                <a:srgbClr val="00004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6633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4"/>
                </a:solidFill>
                <a:latin typeface="Arial"/>
              </a:rPr>
              <a:t>Whole grain bread, rice, and pasta</a:t>
            </a: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39257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4"/>
                </a:solidFill>
                <a:latin typeface="Arial"/>
              </a:rPr>
              <a:t>6 to 11 servings</a:t>
            </a:r>
            <a:endParaRPr b="0" lang="en-US" sz="2800" spc="-1" strike="noStrike">
              <a:solidFill>
                <a:srgbClr val="00004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4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3T22:46:22Z</dcterms:created>
  <dc:creator>Pat Graves</dc:creator>
  <dc:description/>
  <dc:language>en-US</dc:language>
  <cp:lastModifiedBy>Pat Graves</cp:lastModifiedBy>
  <cp:lastPrinted>1996-12-15T23:10:32Z</cp:lastPrinted>
  <dcterms:modified xsi:type="dcterms:W3CDTF">2004-03-09T02:01:39Z</dcterms:modified>
  <cp:revision>31</cp:revision>
  <dc:subject/>
  <dc:title>The USDA Food Guide Pyramid</dc:title>
</cp:coreProperties>
</file>