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9342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933600" cy="925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0" y="2340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3"/>
          </p:nvPr>
        </p:nvSpPr>
        <p:spPr>
          <a:xfrm>
            <a:off x="3929040" y="2340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116052-A8D9-4331-A34A-8BAB69BC5F04}" type="datetime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70000" y="720720"/>
            <a:ext cx="4594320" cy="344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923400" y="4398840"/>
            <a:ext cx="5086440" cy="414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4"/>
          </p:nvPr>
        </p:nvSpPr>
        <p:spPr>
          <a:xfrm>
            <a:off x="0" y="8774280"/>
            <a:ext cx="300528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5"/>
          </p:nvPr>
        </p:nvSpPr>
        <p:spPr>
          <a:xfrm>
            <a:off x="3929040" y="8774280"/>
            <a:ext cx="300528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FF3298-ABCF-4E64-9002-8366862310B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3240" y="72072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3400" y="4398840"/>
            <a:ext cx="5086440" cy="414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ind our staff about Good 4 U’s mission to serve healthy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menu items balance food proportions according to USDA guideli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3240" y="72072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3400" y="4398840"/>
            <a:ext cx="5086440" cy="414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DA has classified foods into five basic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3240" y="72072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23400" y="4398840"/>
            <a:ext cx="5086440" cy="414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whole grains and whole foods as opposed to processed foo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3240" y="72072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23400" y="4398840"/>
            <a:ext cx="5086440" cy="4145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ood diet consists of foods from each of the five main groups and may contain a little fat, oil, and sweete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4ABA-9D4D-4686-A74E-0F9FAF505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8AD8-F97D-4418-A8E8-30E0F30AC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DB0A-A200-42C9-9950-CE99FCC73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903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087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37160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903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087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25CD-95EC-47F1-AB46-E7966FDDA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8C4E-E4BF-47A6-B3E2-5AC5D60E6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89ED4-18C6-4C9E-B906-99FC98F7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E407-D811-429A-A043-1BB4DB28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ED7B-AD77-40F1-9338-58CC92BD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B627-FB91-44F3-9758-F8142280F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2057040" y="1143000"/>
            <a:ext cx="662940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1A2E-C0BB-4AF4-BA9C-BB01F394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B71E-27C0-4D4C-9B1C-474A15A4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E063-0682-483B-B5D1-05D3808D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2C0FD-E744-4007-A040-AD61BA66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DD46-5D3C-46F8-AF3D-515D213B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3CA57-8FB3-4E7E-8267-83C5397B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C671-83C5-4CBD-89DA-5091B2B92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903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087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37160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903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087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D0311-00EC-4C43-A2FB-5E71FE43A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29616-4CC8-4FF6-9B69-622837B32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CE8A8-88CD-492B-B9AC-75E7D87D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93560-DE41-4310-AC2E-799DD4F1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B4127-63ED-4D34-89AA-70C3B10A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B2615-8653-40A3-825A-A18760FC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CB0C-42DE-4D80-97C6-55207356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2057040" y="1143000"/>
            <a:ext cx="662940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82D0E-8B35-41DA-91A3-04A92009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D6145-7493-4629-96F0-FE879BFC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80534-DD09-487B-8B34-420C1AD8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375CE-5D81-404E-AF4C-41CAAF63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0624C-AB9A-49EE-A20F-F7DB22E7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AB526-974B-422C-8C80-D14775B65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6903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087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137160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6903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087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E5741-3314-4A2A-ACEF-D1EF0072A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2D6EA-6FB0-42E5-9BD3-E3176EA0D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C75F8-2A42-48E0-B7F4-BFEE4B1D1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AF69C-BA4A-4886-8648-30E51FA2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35F4-42DE-40AE-A4DC-56EA8630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8FC51-6F1D-42CF-9103-CA2D59CE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E2B0B-629B-4BDB-A2D7-87DC97EA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2057040" y="1143000"/>
            <a:ext cx="662940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3413B-E00E-4FE1-9AFE-80220D2D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97901-BCA7-4BE3-8325-C28EFECB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88A88-80B5-4331-BD0C-DFE7D53D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B34F4-2C8B-44A5-A913-55BFD5E1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DB1BF-1D74-429B-81EC-2E90C13E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42350-0AFB-4466-8F7C-9C8776199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6903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08760" y="396216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37160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6903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08760" y="4798080"/>
            <a:ext cx="22078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813DB-5EA9-4F04-9E37-819BA98FB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0CD1-0F7C-48EC-B556-8D0418AF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057040" y="1143000"/>
            <a:ext cx="662940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F25F-4074-4C82-920B-03C28E22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22AE-A68D-4EC5-A7EF-188ACA6A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85920" y="479808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CD4B-B64E-413F-8A0A-CBFA29D2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5920" y="3962160"/>
            <a:ext cx="33465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600" y="4798080"/>
            <a:ext cx="68580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43F8-E787-4FD7-9873-49832958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6b6c75"/>
                </a:gs>
                <a:gs pos="100000">
                  <a:srgbClr val="57586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75863"/>
                </a:gs>
                <a:gs pos="100000">
                  <a:srgbClr val="6b6c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863"/>
                  </a:gs>
                  <a:gs pos="100000">
                    <a:srgbClr val="6b6c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c75"/>
                  </a:gs>
                  <a:gs pos="100000">
                    <a:srgbClr val="57586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863"/>
                  </a:gs>
                  <a:gs pos="100000">
                    <a:srgbClr val="6b6c7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7e5e"/>
                  </a:gs>
                  <a:gs pos="100000">
                    <a:srgbClr val="6b6c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c75"/>
                  </a:gs>
                  <a:gs pos="100000">
                    <a:srgbClr val="697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7e5e"/>
                  </a:gs>
                  <a:gs pos="50000">
                    <a:srgbClr val="e9e77f"/>
                  </a:gs>
                  <a:gs pos="100000">
                    <a:srgbClr val="697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7e5e"/>
                  </a:gs>
                  <a:gs pos="100000">
                    <a:srgbClr val="6b6c7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c75"/>
                  </a:gs>
                  <a:gs pos="100000">
                    <a:srgbClr val="697e5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7e5e"/>
                  </a:gs>
                  <a:gs pos="50000">
                    <a:srgbClr val="e9e77f"/>
                  </a:gs>
                  <a:gs pos="100000">
                    <a:srgbClr val="697e5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9e7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9e7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e9e77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5AD9-B6CC-4D5A-BE46-4E128CA7F9E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8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c75"/>
                  </a:gs>
                  <a:gs pos="100000">
                    <a:srgbClr val="57586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863"/>
                  </a:gs>
                  <a:gs pos="100000">
                    <a:srgbClr val="6b6c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97e5e"/>
                </a:gs>
                <a:gs pos="50000">
                  <a:srgbClr val="e9e77f"/>
                </a:gs>
                <a:gs pos="100000">
                  <a:srgbClr val="697e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6b6c75"/>
                </a:gs>
                <a:gs pos="100000">
                  <a:srgbClr val="697e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97e5e"/>
                </a:gs>
                <a:gs pos="100000">
                  <a:srgbClr val="6b6c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863"/>
                  </a:gs>
                  <a:gs pos="100000">
                    <a:srgbClr val="6b6c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c75"/>
                  </a:gs>
                  <a:gs pos="100000">
                    <a:srgbClr val="57586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863"/>
                  </a:gs>
                  <a:gs pos="100000">
                    <a:srgbClr val="6b6c7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7e5e"/>
                  </a:gs>
                  <a:gs pos="100000">
                    <a:srgbClr val="6b6c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c75"/>
                  </a:gs>
                  <a:gs pos="100000">
                    <a:srgbClr val="697e5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7e5e"/>
                  </a:gs>
                  <a:gs pos="50000">
                    <a:srgbClr val="e9e77f"/>
                  </a:gs>
                  <a:gs pos="100000">
                    <a:srgbClr val="697e5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1676-DC54-4AE8-961D-5BE362949DF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11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FD6F-861D-47B2-893E-952B1667F7D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56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58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62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98B6-FF51-4179-9709-FBC4ECC245A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The Food Guide Pyramid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f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212840" y="4903920"/>
            <a:ext cx="1904760" cy="581040"/>
            <a:chOff x="1212840" y="4903920"/>
            <a:chExt cx="1904760" cy="581040"/>
          </a:xfrm>
        </p:grpSpPr>
        <p:sp>
          <p:nvSpPr>
            <p:cNvPr id="215" name=""/>
            <p:cNvSpPr txBox="1"/>
            <p:nvPr/>
          </p:nvSpPr>
          <p:spPr>
            <a:xfrm>
              <a:off x="2586960" y="5124960"/>
              <a:ext cx="530640" cy="36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2118600" y="4996080"/>
              <a:ext cx="686880" cy="488520"/>
              <a:chOff x="2118600" y="4996080"/>
              <a:chExt cx="686880" cy="488520"/>
            </a:xfrm>
          </p:grpSpPr>
          <p:sp>
            <p:nvSpPr>
              <p:cNvPr id="217" name=""/>
              <p:cNvSpPr/>
              <p:nvPr/>
            </p:nvSpPr>
            <p:spPr>
              <a:xfrm>
                <a:off x="2118600" y="4996080"/>
                <a:ext cx="686880" cy="48852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311560" y="5048640"/>
                <a:ext cx="317880" cy="27216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fffe1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9" name=""/>
            <p:cNvSpPr txBox="1"/>
            <p:nvPr/>
          </p:nvSpPr>
          <p:spPr>
            <a:xfrm>
              <a:off x="1212840" y="4903920"/>
              <a:ext cx="1280520" cy="34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Basic Food Group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s, oils &amp; swe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k, yogurt &amp; che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n meat, poultry, fish, eggs, beans &amp; n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getables &amp; fr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e, bread &amp; pa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ow to Have a Healthy Die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whole grain bread, rice &amp; pa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nonfat or low-fat sel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78000" y="1599840"/>
            <a:ext cx="380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t moderately - watch cal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 fat to under 30% of total cal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80820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Right Propor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439560" y="1889280"/>
            <a:ext cx="8264880" cy="4538520"/>
            <a:chOff x="439560" y="1889280"/>
            <a:chExt cx="8264880" cy="4538520"/>
          </a:xfrm>
        </p:grpSpPr>
        <p:sp>
          <p:nvSpPr>
            <p:cNvPr id="227" name=""/>
            <p:cNvSpPr/>
            <p:nvPr/>
          </p:nvSpPr>
          <p:spPr>
            <a:xfrm>
              <a:off x="439560" y="5742000"/>
              <a:ext cx="8264880" cy="6858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  <a:effectLst>
              <a:outerShdw dist="17819" dir="2700000" blurRad="0" rotWithShape="0">
                <a:srgbClr val="79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0033"/>
                  </a:solidFill>
                  <a:latin typeface="Arial Narrow"/>
                </a:rPr>
                <a:t>Rice, bread, pas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04920" y="4970520"/>
              <a:ext cx="6734160" cy="6858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  <a:effectLst>
              <a:outerShdw dist="17819" dir="2700000" blurRad="0" rotWithShape="0">
                <a:srgbClr val="79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0033"/>
                  </a:solidFill>
                  <a:latin typeface="Arial Narrow"/>
                </a:rPr>
                <a:t>Vegetabl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951200" y="4200480"/>
              <a:ext cx="5241600" cy="68436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  <a:effectLst>
              <a:outerShdw dist="17819" dir="2700000" blurRad="0" rotWithShape="0">
                <a:srgbClr val="79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0033"/>
                  </a:solidFill>
                  <a:latin typeface="Arial Narrow"/>
                </a:rPr>
                <a:t>Frui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692440" y="3430440"/>
              <a:ext cx="3759120" cy="6858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  <a:effectLst>
              <a:outerShdw dist="17819" dir="2700000" blurRad="0" rotWithShape="0">
                <a:srgbClr val="79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0033"/>
                  </a:solidFill>
                  <a:latin typeface="Arial Narrow"/>
                </a:rPr>
                <a:t>Meat, poultry, fish,</a:t>
              </a:r>
              <a:br>
                <a:rPr sz="2400"/>
              </a:br>
              <a:r>
                <a:rPr b="1" lang="en-US" sz="2400" spc="-1" strike="noStrike">
                  <a:solidFill>
                    <a:srgbClr val="330033"/>
                  </a:solidFill>
                  <a:latin typeface="Arial Narrow"/>
                </a:rPr>
                <a:t>eggs, beans, nu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484440" y="2658960"/>
              <a:ext cx="2175120" cy="6858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  <a:effectLst>
              <a:outerShdw dist="17819" dir="2700000" blurRad="0" rotWithShape="0">
                <a:srgbClr val="79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0033"/>
                  </a:solidFill>
                  <a:latin typeface="Arial Narrow"/>
                </a:rPr>
                <a:t>Milk, yogurt,</a:t>
              </a:r>
              <a:br>
                <a:rPr sz="2400"/>
              </a:br>
              <a:r>
                <a:rPr b="1" lang="en-US" sz="2400" spc="-1" strike="noStrike">
                  <a:solidFill>
                    <a:srgbClr val="330033"/>
                  </a:solidFill>
                  <a:latin typeface="Arial Narrow"/>
                </a:rPr>
                <a:t>chees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821040" y="1889280"/>
              <a:ext cx="1501920" cy="6858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  <a:effectLst>
              <a:outerShdw dist="17819" dir="2700000" blurRad="0" rotWithShape="0">
                <a:srgbClr val="79795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0033"/>
                  </a:solidFill>
                  <a:latin typeface="Arial Narrow"/>
                </a:rPr>
                <a:t>Fats, oils,</a:t>
              </a:r>
              <a:br>
                <a:rPr sz="2400"/>
              </a:br>
              <a:r>
                <a:rPr b="1" lang="en-US" sz="2400" spc="-1" strike="noStrike">
                  <a:solidFill>
                    <a:srgbClr val="330033"/>
                  </a:solidFill>
                  <a:latin typeface="Arial Narrow"/>
                </a:rPr>
                <a:t>swee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ood Eating Habi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F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mit fat to less than 30% of total calo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getar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lude protein comp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The Food Guide Pyramid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ealthy Way To 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212840" y="4903920"/>
            <a:ext cx="1904760" cy="581040"/>
            <a:chOff x="1212840" y="4903920"/>
            <a:chExt cx="1904760" cy="581040"/>
          </a:xfrm>
        </p:grpSpPr>
        <p:sp>
          <p:nvSpPr>
            <p:cNvPr id="238" name=""/>
            <p:cNvSpPr txBox="1"/>
            <p:nvPr/>
          </p:nvSpPr>
          <p:spPr>
            <a:xfrm>
              <a:off x="2586960" y="5124960"/>
              <a:ext cx="530640" cy="36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2118600" y="4996080"/>
              <a:ext cx="686880" cy="488520"/>
              <a:chOff x="2118600" y="4996080"/>
              <a:chExt cx="686880" cy="488520"/>
            </a:xfrm>
          </p:grpSpPr>
          <p:sp>
            <p:nvSpPr>
              <p:cNvPr id="240" name=""/>
              <p:cNvSpPr/>
              <p:nvPr/>
            </p:nvSpPr>
            <p:spPr>
              <a:xfrm>
                <a:off x="2118600" y="4996080"/>
                <a:ext cx="686880" cy="48852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311560" y="5048640"/>
                <a:ext cx="317880" cy="27216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ffffe1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2" name=""/>
            <p:cNvSpPr txBox="1"/>
            <p:nvPr/>
          </p:nvSpPr>
          <p:spPr>
            <a:xfrm>
              <a:off x="1212840" y="4903920"/>
              <a:ext cx="1280520" cy="345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03T22:46:22Z</dcterms:created>
  <dc:creator>Pat Graves</dc:creator>
  <dc:description/>
  <dc:language>en-US</dc:language>
  <cp:lastModifiedBy>Ms. Malnick</cp:lastModifiedBy>
  <cp:lastPrinted>1997-05-17T01:39:46Z</cp:lastPrinted>
  <dcterms:modified xsi:type="dcterms:W3CDTF">2004-03-25T23:24:41Z</dcterms:modified>
  <cp:revision>40</cp:revision>
  <dc:subject/>
  <dc:title>The USDA Food Guide Pyramid</dc:title>
</cp:coreProperties>
</file>