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9E8C-6BA2-4ADC-A8A8-5E30A9E2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AAF9-5A9F-4278-A341-B31F60E7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D4DD-AFDF-41BE-9B18-248DDAFB4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B252-DC41-4B94-80CB-285B2975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7BD0-CC02-4675-886B-1371E657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7F76-E590-4AED-820E-F65EFDDB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AF32-CFA5-4B1F-AD7E-649C4394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7187-49C2-4F37-889F-92C0902F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D696-EFDE-4248-AEA5-6E27DC9C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F8BA-8D57-4378-BB15-64B3E598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07ED-ED23-4BFC-8F76-3C38EBBA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574D-184B-4A1E-8AAE-3A1D6D38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84DD-EE3E-4E40-B896-13E64140A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the Pleasure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Comp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Your Next Ev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Good 4 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llent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ut your employees and guests at 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make your company look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dhere to promised sche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vide a professional and courteous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guarantee customer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ood 4 U Restaura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Delightful M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quality, healthy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ty to appeal to a broad range of ta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ood 4 U Restaura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gh-Energy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hletic dec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rts promo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ergetic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event tie-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ood 4 U Restaura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nts That Are Good 4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energy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ve lun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ny celeb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ebrity promo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taining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ng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ood 4 U Restaura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Healthy Atmosp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ke-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cohol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sell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’ll gladly serve your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ood 4 U Restaura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2T20:05:55Z</dcterms:created>
  <dc:creator>Pat Graves</dc:creator>
  <dc:description/>
  <dc:language>en-US</dc:language>
  <cp:lastModifiedBy>Pat Graves</cp:lastModifiedBy>
  <dcterms:modified xsi:type="dcterms:W3CDTF">2004-01-02T21:07:30Z</dcterms:modified>
  <cp:revision>2</cp:revision>
  <dc:subject/>
  <dc:title>For the Pleasure of Your Company</dc:title>
</cp:coreProperties>
</file>