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3887B-AF52-45DA-A702-E8F74568C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5873A-93D7-4CA5-AEDA-28243C05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3770-C905-4DED-8702-4B94250C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57581-7096-4FC5-8B24-74C514E27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7130-55A5-48EB-9058-DCEEE7D2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C278-F654-437C-9E5C-3DCFD61A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BDAE-AC53-4571-91E1-FE7A8823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85D5-1E3C-4365-8CEB-8D9929AF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F211-B60B-4AC9-843C-4435699A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B441-9369-40B7-BA16-9983840D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E14F-9E09-47FA-A408-B9EE2E21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E7D03-66F2-4385-B71F-302A2D418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87525-7501-4955-8E58-BAF4B80B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9C81-8EC1-437C-ADB8-E2CB31FA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4700-4ECF-41AE-BA03-9668709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DEE2B-4293-4B3E-9FA2-05FB87DA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CD57-5860-4D40-8CB8-E896161B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A918A-4E50-4DA1-9A39-328AB4B1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21F09-3D7D-4EAB-828C-3B31F40C2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F684D-4257-4136-A3D3-E97F89BB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EA4C0-3A06-4A05-9F3E-C9A2147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E834-156A-41D4-94E7-881621F8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69AE-BCD0-4603-BE84-86F716DC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BAB5-25EF-485B-B211-1B6CF97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5832-8DCB-480E-8B3D-2B4FFF9681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195C-153C-4370-AC7A-13C872B867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or the Pleasure of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Your Compan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 Your Next Event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Good 4 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xcellent Servic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put your employees and guests at 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make your company look g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adhere to promised sched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provide a professional and courteous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guarantee customer satisf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Delightful Men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quality, healthy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ety to appeal to a broad range of tas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High-Energy Fun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hletic dec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orts promo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etic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event tie-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Events That Are Good 4 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-energy mee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tive lu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cele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ebrity promo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46640" y="1981080"/>
            <a:ext cx="344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ertaining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ing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A Healthy Atmospher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-fr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cohol o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ell n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’ll gladly serve your 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0:05:55Z</dcterms:created>
  <dc:creator>Pat Graves</dc:creator>
  <dc:description/>
  <dc:language>en-US</dc:language>
  <cp:lastModifiedBy>Pat Graves</cp:lastModifiedBy>
  <dcterms:modified xsi:type="dcterms:W3CDTF">2004-01-02T22:21:15Z</dcterms:modified>
  <cp:revision>4</cp:revision>
  <dc:subject/>
  <dc:title>For the Pleasure of Your Company</dc:title>
</cp:coreProperties>
</file>