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0B5-F139-46AE-A1E4-E741323B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8E3B-39BD-432E-B38E-B5E2DAAF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C6E-A7F5-4218-8A3E-D958117C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70B-0953-4BB8-81C8-62E2F571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779E0-6602-41BA-A489-E38DA7C6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EA4F-63A8-4B71-9BB3-A0563FBB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DF60-22C5-479B-8FAB-C525873A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C5F2-03BC-4FB2-A3D9-55BFB03A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0389-F044-4AF2-8B8E-A5C46E92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E83F-C4D0-42F5-86EC-99AB2C5F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CACA6-420E-4773-867A-D1DF1115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7E9-1EE6-445E-AB91-4F1DE5F6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1978-50C1-4E8C-AFF0-31CDCF3E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46F7-E23B-4DE8-837B-06D95B00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3ACF-E8C2-4075-8B84-41E0894D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6BD2-D516-419D-81B4-3F8913FD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C971-EE83-4236-A5A9-E6D37AB64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EEFFC-5F60-491B-92F8-B4D9245B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0A290-18F2-40B7-A713-FF5B8879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3098B-1355-42F0-8DF1-3615D7DD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02CE7C-DCDA-45E6-AEED-4396907D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4BEAA-8BC8-41FB-98AE-4A5B3F48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78F-3C09-40E6-B0F6-FA511D7A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5D686C-A4B9-421C-84DE-9B9EB2C4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6C348-FF0F-44C4-A162-3856A3B0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1FEB4-C40A-4FB0-B176-2E2A2CA9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E515E4-95F9-42D9-850F-F8C1066B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6B0BC-05E3-4BE2-B679-0F45313D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2E188-BB08-4210-B69B-CD76EFA3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942C1C-4C99-48E5-BDD3-AFC5BFE7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B07FB-F0EB-4DD2-86BC-DCC874C2F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9859-DEF6-4DEE-8290-E549B2B8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531DE-59F2-4337-8AF3-4CCBF57C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C07-C3A7-4546-9227-14357204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DFF14-2469-4D90-964A-9E00E4B8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5E442-5CE0-4045-B934-53045FF9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C1651-DB0C-4D89-9348-9C895138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BE36-D06A-4672-8866-E5767F2C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AC2B6-CABD-4E3B-A6FF-3163EAB7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730D3-1834-4694-9844-CAE0C3DB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5F4E8-625C-4A70-AD4A-8F7BC105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F878F-22ED-4864-91C8-0926A2EE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4DE86-3B23-4B76-8AF8-2B4FBAF0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E504-BB19-4F2F-9045-7DA29902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80D-E3DD-4D57-A7DF-B78D4931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4C2-CE0F-491E-87E0-DB678A89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39A-80A5-459F-91F0-866F0F4E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E54-0542-4D13-AE6B-9588F1BB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2BBD-9376-45E9-9C32-043598646E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FA2C-162D-4A4F-9119-ED23B55C5D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C5EB-775B-487F-A131-1FDA6A4657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199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12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1AD3-FAA8-4DAA-A589-2D4BECFED1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255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Introducing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the Good 4 U</a:t>
            </a:r>
            <a:br>
              <a:rPr sz="4000"/>
            </a:b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unday Brunch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Every Sunday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rom 10 a.m. to 2 p.m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un Is Good 4 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rts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etic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letic dec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Sample Menu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Pineapple/grapefruit fizz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Multigrain pancak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ofu fajita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Western omele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3:55:45Z</dcterms:created>
  <dc:creator>Pat Graves</dc:creator>
  <dc:description/>
  <dc:language>en-US</dc:language>
  <cp:lastModifiedBy>Pat Graves</cp:lastModifiedBy>
  <dcterms:modified xsi:type="dcterms:W3CDTF">2004-01-03T23:52:41Z</dcterms:modified>
  <cp:revision>2</cp:revision>
  <dc:subject/>
  <dc:title>Introducing the Good 4 U Sunday Brunch</dc:title>
</cp:coreProperties>
</file>