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9B7-D35A-4FDB-BCE1-5D7C5CB0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53F-E7A7-4015-9A46-0C420CEA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E0C-8D26-441C-8704-72BDB08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81E-0C6C-4BCC-A0F7-631C3432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D412-19E8-4CD2-9A28-21AF77E1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2C5-5F80-4813-8836-4CC77929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DFED-F006-4DDF-A1AC-E4BF684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7A78-538D-42A8-BC28-88377C56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77F7-DE02-45CF-94CF-66C71B4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C363-A516-4AA2-9C47-2FD66977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C5AE-2D37-44DA-89BC-E65030F3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519-1C5F-42DB-9A94-3ED3CECA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6B4B-5227-4578-9590-30E1713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B60-81D4-4EDE-AD3C-1D5B8B1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63CB-6C49-4812-8F1B-FDAD323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772D-8595-4313-A03F-DB661155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FE3F-87AA-445E-BB94-04D9AE54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B5A-2233-4DAE-B54E-27569BC5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AB8-0699-4CCF-835D-1DC38E81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1FF-CB71-465B-AE20-4ED11DA3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A86-1B6A-470C-81E9-E0A4579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8C8-C647-46DD-83FF-6F8638C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855-452D-4221-AB1F-2E8B14F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9E4-2761-4C25-9EFF-76935DF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B7A2-DBE0-4C4E-8430-F1B4D4775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7609-5C69-457A-9116-DB71A52C1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roducing Our Honey Candies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ood 4 U’s New Healthy T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Exciting Flavor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xotic honey-lico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cintillating honey-cinna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abulous honey-fruit flav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ngy l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bust o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e ci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andy Types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oft-filled swee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ramatic sti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iscrete dr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Availability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t our restau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y phone or mail 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 attractive gift pac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5:04:20Z</dcterms:created>
  <dc:creator>Pat Graves</dc:creator>
  <dc:description/>
  <dc:language>en-US</dc:language>
  <cp:lastModifiedBy>Ms. Malnick</cp:lastModifiedBy>
  <dcterms:modified xsi:type="dcterms:W3CDTF">2004-03-30T18:19:35Z</dcterms:modified>
  <cp:revision>2</cp:revision>
  <dc:subject/>
  <dc:title>Introducing Our Honey Candies </dc:title>
</cp:coreProperties>
</file>