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81911-B123-416C-A3B9-FD01568C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D9946-148A-438C-9C3E-1F1D61D4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A864-2321-41C9-9B53-EF6A94C5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607E-1F89-466C-99F9-8BF72610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701E-F35D-46E6-B9CF-90224573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F593-5412-4FD4-8ECD-54BE806F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8A4B-2ED8-49EE-A856-3D9E8F0A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2334-949B-4FEE-881C-E83ED67F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6ECB-66B5-4F30-BCCE-91C33D10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B0F9-A2C4-42DB-B48F-ACA17EB5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2332-B2B5-42E9-8D71-BB899F29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178F-719C-4BD3-AA66-D33CAED3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F4D6-3BF7-4FEA-B8A5-CCCE42B6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7015-B7BB-43C1-9428-5FA53A06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162A-89B0-48D7-8261-98AD5C78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6ABE-29A2-4FED-921A-DC42BF29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9F99-82F0-498B-9DD5-99B919F3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29C1F-C062-4784-9A52-96050C4D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E87EB-73AB-4BAB-84F3-8F6F5D21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01F97-1F7E-433B-874C-21F3B198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858B0-C84F-473F-9C78-34C5BBC3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D8C8B-3CD3-4C6C-B898-439B5E0B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7086F-57F5-4019-A230-BA4929AD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EB109-051F-43B9-80FC-6BF021F0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8BA9-39B3-4ABE-9275-28712741DB32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00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38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D7DB-4A5E-489D-BFAA-3E406B749091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dvertising Campaig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ood 4 U Restauran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p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az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adc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rget Mark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-conscious ad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sports enthusia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iness professio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al Campaig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Health Marath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 4 Cele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04:20:27Z</dcterms:created>
  <dc:creator>Pat Graves</dc:creator>
  <dc:description/>
  <dc:language>en-US</dc:language>
  <cp:lastModifiedBy>Pat Graves</cp:lastModifiedBy>
  <dcterms:modified xsi:type="dcterms:W3CDTF">2004-03-09T06:14:25Z</dcterms:modified>
  <cp:revision>4</cp:revision>
  <dc:subject/>
  <dc:title>Advertising Campaign</dc:title>
</cp:coreProperties>
</file>