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925-677E-4FA7-9163-59D3B6F2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47E-E511-43F0-91A2-167791A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2A5-2B88-4598-9ED0-593506D1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6D1-AE4F-41EE-AE6A-AE84F6F6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4A03-D0EA-453B-8A29-3E55FF44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197B-A537-4C53-9E37-D2D28336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F80F-4643-46CC-A842-63FC069A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58B-DE07-486D-85B5-ED9A7FD9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347-2FE9-4731-87CE-9AD5B9CF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3A5C-00DC-40DC-A4B8-BE4D424E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CAA5-F092-43FC-8270-96BD7F1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C69-D6F5-4E52-A1D4-DC09BF0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6B6D-E625-4C0C-845B-D4A00B9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A33F-ACAE-4869-9922-11CD414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C60-2AAD-4976-8248-433DCF2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704-7DF5-4BA9-82B3-D0BCFE16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075-65D1-4206-8F26-D4C6B4DE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3D1-44B7-49CB-B924-337F8B75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20F-4BFD-4E99-AF4F-7A9C1E34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257-45B5-44FC-9BFB-4DF19286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78B-1C4D-4777-B710-F994EAA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7E7-5A94-4A2F-9A53-4E845F91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5DF-14E9-47EC-B2D7-4D719FD4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3D0-94C8-4C60-866F-E703986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309-50CF-447F-A8F1-727297BF8F04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60F8-DD50-4049-9058-9442EE742B81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okCon2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VendExp.xls" TargetMode="External"/><Relationship Id="rId2" Type="http://schemas.openxmlformats.org/officeDocument/2006/relationships/hyperlink" Target="http://www.mofga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ster Ide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Good 4 U Public Relations Training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staurant Topic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Menu ite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Contest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Ingredient profil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xot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Organ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93300"/>
                </a:solidFill>
                <a:uFillTx/>
                <a:latin typeface="Times New Roman"/>
                <a:hlinkClick r:id="rId1"/>
              </a:rPr>
              <a:t>Vendor Profi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Local organic farmer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Herb far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ecial Event Announce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New Health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3300"/>
                </a:solidFill>
                <a:uFillTx/>
                <a:latin typeface="Arial"/>
                <a:hlinkClick r:id="rId1" action="ppaction://hlinksldjump"/>
              </a:rPr>
              <a:t>Pasta party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Awards dinner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July 4 Celebrati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In-line skating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Bike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sta Par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spaghetti or fettuccine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iced tea or water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urpose: to give the runners energy to complete the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5:51:33Z</dcterms:created>
  <dc:creator>Pat Graves</dc:creator>
  <dc:description/>
  <dc:language>en-US</dc:language>
  <cp:lastModifiedBy>Pat Graves</cp:lastModifiedBy>
  <dcterms:modified xsi:type="dcterms:W3CDTF">2004-02-02T04:42:43Z</dcterms:modified>
  <cp:revision>8</cp:revision>
  <dc:subject/>
  <dc:title>Poster Ideas</dc:title>
</cp:coreProperties>
</file>