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525-1B7B-4E11-9339-F44E10B4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F6B-C266-415C-B963-340E0906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448-E1CB-4A09-8003-90EE0321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1A0-7962-4CB4-AFF1-3826F9CE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EE94-D83C-4965-B120-0DEDC1F2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0E57-4756-4D92-86CF-88AE8D59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9649-22D9-4185-BFE3-832E88CD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DF3C-F058-4E48-B13C-27C3BC99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E27C-64A2-49F3-ABC1-5104E933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36E6-005A-484D-B535-E8BCB8B4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5259-54A7-48F6-BCC7-DB5DFAC4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7A0-D8B8-4F3F-9DEE-34B9878D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729E-1379-4A1F-A947-060496C8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C72B-7CD3-4829-81FD-55F0AD0E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4974-FA2B-4858-B7F5-191B36A2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6C89-9742-4CE4-AE0F-1F376912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D64C-5EAF-40F4-8D87-47883043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458-8D6D-48EC-B393-BDC7B535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F1D-26CF-4539-9562-A45FE47C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64A-019A-4DE1-A19B-3EA7AF94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1FE-B618-4859-AA66-0A0875AA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B6C-E7D4-492D-82FE-3736CCC4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638-46FC-4986-9FC2-FBEA0E21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A9B-1D7D-46E1-966D-D88BFBEE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5029-5E01-4301-8C04-AAE95F49364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C9CC-38C8-4939-A3BD-F7472386006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file:///Foods1.doc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87240"/>
            <a:ext cx="6966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atural Honey Produc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od 4 U Product Trai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ew Product Lin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oney cand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Products made with hone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read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ced teas and fruit-ad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esser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arred honey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Gift Sales Servi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ift-wrapp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rotective packag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ift certificat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liver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tra charges vary with servic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press delivery required for perishabl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ining sales techniqu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ention honeys among ingredi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ffer honey breads for desser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rve honey samplers with tea and coffe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6T20:08:09Z</dcterms:created>
  <dc:creator>Pat Graves</dc:creator>
  <dc:description/>
  <dc:language>en-US</dc:language>
  <cp:lastModifiedBy>Pat Graves</cp:lastModifiedBy>
  <cp:lastPrinted>1997-05-23T18:15:10Z</cp:lastPrinted>
  <dcterms:modified xsi:type="dcterms:W3CDTF">2004-02-02T06:57:28Z</dcterms:modified>
  <cp:revision>15</cp:revision>
  <dc:subject/>
  <dc:title>Natural Honey Products</dc:title>
</cp:coreProperties>
</file>