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F16-0CA5-4526-BE4C-2FDDBEC0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E41-C35E-40CF-8F07-44B25B75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691-035A-4E0C-BFBB-5BFD9BC0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418-422B-4520-8B27-A8D94B44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005B-DC9C-49B5-97D6-52CB4930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F1C7-C8F2-47C0-8C6B-6ADC702B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B87D-E542-4654-85C0-1279C1AE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DA6A-F5B9-43B8-B012-6A254BB6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03CA-009D-4E71-91F0-6ECA0242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FA01-6741-4254-BBEB-DBA47E84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8806-BA2C-43E2-963F-AAABE0A3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317-A5A9-4E1A-8DEB-DA2154C0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5214-CBD8-461A-A34E-51910EC9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7FDD-34E5-4C2F-BF4A-063C0196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B21F-2B96-4350-9693-5D5427E5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E15D-4B55-4AB8-89FC-B650FA61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9591-3380-4959-94D7-6BCBBAE2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C40B-0ED5-4BAC-8A97-34F725A6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3C1A-B18D-4872-8E01-4AF8567B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FDF-5C1A-4A59-9212-653D7DE8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FD8-9C4E-444C-9B23-E97E5AE9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5CD-B7BE-4CCF-AD5B-AF7915F5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C9C-853C-4DE6-98AE-21F2ACD7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A05-F896-4FB9-963A-D3721F81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99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DD23-51FA-462A-967C-3F3EEE8F10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D5F8-95A6-4AF4-BA09-62F8C9698432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33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illybee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58868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ural Honey Product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Product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ew Product Lin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ec5a2"/>
                </a:solidFill>
                <a:uFillTx/>
                <a:latin typeface="Times New Roman"/>
                <a:hlinkClick r:id="rId1"/>
              </a:rPr>
              <a:t>Products made with ho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ney can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rred hone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SimSun"/>
              </a:rPr>
              <a:t>Honey Beverag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Iced t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Strawberry-hon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Honey and sp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Herb and honey (no caffe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Fruit-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Honey-lem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Apple-cranberry-hon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Strawberry-kiwi-hon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SimSun"/>
              </a:rPr>
              <a:t>Breads and Desserts with Hone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Honey c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Bakl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Banana br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Apple-spice br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SimSun"/>
              </a:rPr>
              <a:t>Jarred Honey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Colorado Grizz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Alaskan Mead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Florida Or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Flavor of the 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SimSun"/>
              </a:rPr>
              <a:t>Good for U Honey Promo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ney-tasting con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ead and honey samples at take-out cou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mentary honey candies after me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ning Sales Techniqu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tion honeys in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e honey samplers with tea and coff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 honey breads for dess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ift Sales Servic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i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a charges vary with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delivery required for perish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07:00:44Z</dcterms:created>
  <dc:creator>Pat Graves</dc:creator>
  <dc:description/>
  <dc:language>en-US</dc:language>
  <cp:lastModifiedBy>Pat Graves</cp:lastModifiedBy>
  <dcterms:modified xsi:type="dcterms:W3CDTF">2004-03-09T06:55:38Z</dcterms:modified>
  <cp:revision>3</cp:revision>
  <dc:subject/>
  <dc:title>Honey Beverages</dc:title>
</cp:coreProperties>
</file>