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F48-ED6D-48D8-93CB-2FBAD917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F64-C2AE-40CC-9B5E-38F5B10E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B7C-3FA2-44D2-9776-A839CB2E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603-E475-47F0-B907-B383C275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FE86-E99C-47D5-B45C-2A95DFED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9471-EFD2-4626-A117-BF781D1B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6CB8-D9ED-4027-9D71-8D606D64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3140-DF68-40A9-A92F-4A3A88C3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1D2C-6571-4D5B-9016-08C66708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24DC-1E61-431A-B4CC-53FD1EB6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3134-D817-4F6C-A58C-16E29143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308-7AFE-4FDA-9843-5824C2B0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9FE1-8B12-47EB-9101-91F928D1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7020-EB1A-480A-9315-7D184BC1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0F61-1E94-4D77-872E-0B74D3A6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BA7A-0A0A-4ADD-AB37-8BD1595A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B73E-7071-4766-B784-90FB9386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BA1-0A1B-453A-867D-70C62AC0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824-EF6B-4DEE-A7AB-3051CE58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DB3-626F-4657-B4A2-680E7EF7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0B1-E9A5-4EFD-8478-C62B974F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F71-7514-4DD0-8593-5BAC688F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C64-EC87-4F16-9419-726BD85A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377-5698-488A-8CB9-45A4CBC9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576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cccc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76f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76f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9289-3F17-4C10-B728-A6434F2D5073}" type="slidenum"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576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cccc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8FBB-01E5-43A2-8943-8E5FB42E4733}" type="slidenum"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cccc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76f2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76f2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ookCon2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VendExp.xls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oster Idea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Good 4 U Public Relations Training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Restaurant Topic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Menu item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Arial"/>
                <a:hlinkClick r:id="rId1"/>
              </a:rPr>
              <a:t>Contest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Ingredient profile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Exotic ingredients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Organic ingredients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993300"/>
                </a:solidFill>
                <a:uFillTx/>
                <a:latin typeface="Times New Roman"/>
                <a:hlinkClick r:id="rId1"/>
              </a:rPr>
              <a:t>Vendor Profil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Local organic farmer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Herb farm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Fisherie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pecial Event Announcemen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New Health Marathon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Pasta party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Awards dinner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July 4 Celebration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In-line skating race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Bike race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asta Part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hoice of spaghetti or fettuccine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hoice of iced tea or water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Purpose: to give the runners energy to complete the marathon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05:51:33Z</dcterms:created>
  <dc:creator>Pat Graves</dc:creator>
  <dc:description/>
  <dc:language>en-US</dc:language>
  <cp:lastModifiedBy>Pat Graves</cp:lastModifiedBy>
  <dcterms:modified xsi:type="dcterms:W3CDTF">2004-02-02T04:43:03Z</dcterms:modified>
  <cp:revision>6</cp:revision>
  <dc:subject/>
  <dc:title>Poster Ideas</dc:title>
</cp:coreProperties>
</file>