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619-F432-4AE0-9463-83D7835B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37D-3E7B-41B0-B618-ECD59834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A38-00A5-4BBF-A930-5342D572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689-8671-488E-9FB9-A2963C20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DD3E-6044-4A45-872F-FCF29FB9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8726-BF3A-4B20-84F8-2C9FB17D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CB61-D2C7-4AE3-A300-B2EE6776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314A-E319-4261-A5D4-4AA34A93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300E-C49D-410C-B6A6-5BCCADD5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CDED-A249-40D6-90EC-C5E0FDF5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BDB2-5785-4645-87F2-17222F9E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A0F-BC6F-4E31-8CE3-CAB6A318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FE84-1CAE-4832-B8BD-0D7F700A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D238-D18B-4213-9168-2BF315DF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AE94-2596-4110-99B3-5D257A1D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5EE1-8F4C-4C7E-9273-9F5181C7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ECA5-5D63-49CF-A225-61FFAE0D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613-11BE-4935-B5BE-650CB11F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7B1-5814-430E-B9D6-C21613A6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C32-E9BA-419D-A04A-6530D0CE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200-6FEE-4A4D-B37E-18E2621A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05A-FF93-4C1F-891C-EAFC024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C3D-0B50-492A-B6CE-7F2C7584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2D3-09F1-41D6-B88E-3004F45E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621D-7477-488A-ABBB-FFA07807A3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54C4-CB94-4283-96C4-46530A66462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motional Poster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 4 U Public Relations Trai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er Purp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 custom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mote our im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Sugg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 the number of text i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ggested Subj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u i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speci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liday ev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orts ev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large, simple tit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lor and graph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 the number of high-contrast col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0:06:27Z</dcterms:created>
  <dc:creator>Pat Graves</dc:creator>
  <dc:description/>
  <dc:language>en-US</dc:language>
  <cp:lastModifiedBy>Pat Graves</cp:lastModifiedBy>
  <dcterms:modified xsi:type="dcterms:W3CDTF">2004-02-02T04:43:41Z</dcterms:modified>
  <cp:revision>4</cp:revision>
  <dc:subject/>
  <dc:title>Promotional Posters</dc:title>
</cp:coreProperties>
</file>