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BED2-A511-45D7-8A0C-3AC1903D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CA56-7729-4968-AFB3-C0435E8E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BFA4-536E-43FA-A6EA-08B09D916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F197-2704-44CB-8ADE-9AF63671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A074-616D-4491-B3BC-1158D006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EC61-39C4-4DC5-8FAE-631F694E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EA6C-0A88-47A5-B351-0CBC25CA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0288-E766-44D6-9F19-4975E587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DF64-7B21-4208-A92D-C2A0F9DC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4806-1BF7-4A06-AAA6-7727BAC0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DAC4-A577-44C5-8F0E-559EDC9B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B594-302D-4CC7-9185-D50364EB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BCF6-C7A5-4E0C-BCB5-FF7EF982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E8F9-E868-4070-80BC-FF4470D7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EB4A-9726-47B7-B5F2-D5A39132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FD7E-274F-48E6-B90D-9541733A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37E6-DB86-45DA-A5F4-D73CDE783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66A2-0860-4E66-96AC-281607C3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E96F-23FE-4C7A-A0DB-296AEF41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5885-0BA9-47D9-80F5-CAA22947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1B6E-002A-4696-A765-DFCB1C06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7A7C-2058-40D5-83D3-9D74575C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0957-2CB8-4607-A495-91D6A2D8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E19E-FBA1-45A4-BE37-ECB35DD7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C094-11DF-4BFB-A75E-631AAD927B5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3C19-86A9-4C27-ABA5-727ECC29D38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omotional Poster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od 4 U Public Relations Trai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er Purpo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orm custom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mote our im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Sugg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ep it simp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color and graphic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mit the number of high-contrast col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large, simple tit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mit the number of text ite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ggested Subj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liday ev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orts ev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nu ite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ice specia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0:06:27Z</dcterms:created>
  <dc:creator>Pat Graves</dc:creator>
  <dc:description/>
  <dc:language>en-US</dc:language>
  <cp:lastModifiedBy>Pat Graves</cp:lastModifiedBy>
  <dcterms:modified xsi:type="dcterms:W3CDTF">2004-03-09T05:19:28Z</dcterms:modified>
  <cp:revision>5</cp:revision>
  <dc:subject/>
  <dc:title>Promotional Posters</dc:title>
</cp:coreProperties>
</file>