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13A-27BF-4939-84B5-BF09C7BD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EC7-21B2-45C5-BF9A-6AC9CC77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11F-CCE1-4361-BC3D-F30EDBBF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86B-6971-46AD-9048-A63879D4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17D2-976D-43AB-95B6-66E6DDF1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D08A-6A3B-4725-B1A0-8FF5474B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A18A-4BE6-4F51-9EE5-C2DBDE3C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77F3-92F2-4857-A3F2-176E87FA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B653-413A-4547-93BE-EEE5AA38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37A4-BA49-41F8-A726-83D56A94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6A12-DC37-4DD7-B60F-FD9AD3D0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283-2FD5-4FC6-8D20-A07622D7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AEC1-A71C-4969-B162-0AA689F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ED2A-B9CE-47B5-AB11-69BC9EDC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6546-ADEE-42E0-B57F-1AD752E9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0221-EA3A-4301-BE54-06666FE4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B05D-80B5-4ABB-8715-5BADAF7F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A8A-5ABB-42AA-962F-34BED263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CC2-ED5A-4BDE-BE37-69761946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8B4-D2D4-43C0-9F7A-80B15FE8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FB1-9F32-4DD2-A36A-E02AB054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7A0-4590-4ADE-9FC6-5287B0C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6CC-3260-49F6-971D-4927143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77E-E537-460E-B6E9-70AE314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43F3-E433-4FF3-A607-A536184417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B3A6-3C43-49AD-BD9C-60A1AA3578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Selecting Advertising Medi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 Media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Cost-Effectiveness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new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dollar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profi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Preferred Media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5T13:55:58Z</dcterms:created>
  <dc:creator>Pat Graves</dc:creator>
  <dc:description/>
  <dc:language>en-US</dc:language>
  <cp:lastModifiedBy>Pat Graves</cp:lastModifiedBy>
  <cp:lastPrinted>1997-09-15T14:39:46Z</cp:lastPrinted>
  <dcterms:modified xsi:type="dcterms:W3CDTF">2004-03-09T06:31:47Z</dcterms:modified>
  <cp:revision>11</cp:revision>
  <dc:subject/>
  <dc:title>Selecting Advertising Media</dc:title>
</cp:coreProperties>
</file>