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5FB9-0B93-475B-9A37-36053AE26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4DE1-9084-457D-AA63-EB39D8DFA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AAB6-53C4-48E2-A884-8B6301DD1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A538-F448-4427-8600-58C410F2C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56822-FCAB-4DBF-B70F-E5DF3A50C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6A2A6-5E54-476E-AB69-8A09EFDE3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DC55C-E400-4D69-869D-AF18B0FD7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617E7-7D94-4CD7-9806-460732720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B5C37-5D37-436F-9BA4-CB3132DE6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B9DAB-312A-4413-BECE-37218CD49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45E9B-33B2-43ED-95DC-5B90C88C4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84B9-3E42-4E97-8768-881FA6323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A2C4A-C10B-4699-86F2-4F8B805F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983FB-F227-40AB-8DAF-30366AC59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4FAF7-E9AF-48FF-A787-23DE0A7EC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E180F-322B-4A3D-B2B9-064554945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EBAC2-4F64-4633-A381-AF98E55AF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41E9-C335-4F89-BD7D-6F3BFA263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C9D8-7847-4449-A98F-7158341C2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CAFC-48EF-4D6C-A698-48F40161B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C726-1620-4DEB-84D3-132E78866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8F93-4C40-4FA1-9693-AE54D20BC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9BF4-0751-4125-B628-CB9E7E56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E542-9DF1-4B31-850F-5153DBF8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DCE30-3692-41FA-90EF-AA2FA85FE34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52136-6808-463A-A299-6E235686876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romotional Posters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ster Purpos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form custom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mote our imag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sign sugges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eep it simp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mit the number of text item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m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uggested Subjec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nu item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ice specia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liday even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ports even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ad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 large, simple titl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 color and graphic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mit the number of high-contrast colo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0:06:27Z</dcterms:created>
  <dc:creator>Pat Graves</dc:creator>
  <dc:description/>
  <dc:language>en-US</dc:language>
  <cp:lastModifiedBy>Pat Graves</cp:lastModifiedBy>
  <dcterms:modified xsi:type="dcterms:W3CDTF">2004-02-02T04:43:51Z</dcterms:modified>
  <cp:revision>3</cp:revision>
  <dc:subject/>
  <dc:title>Promotional Posters</dc:title>
</cp:coreProperties>
</file>