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FC2-F0A0-4AA0-84B3-30AD9B4F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AF7-0DCC-4D61-BA5C-FDC11216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0FA-20D3-49FB-B86C-C212B3B8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26C-116C-4453-96C6-8E92C4B0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C7C3-A4EB-45AA-9178-868268F3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185C-7CD1-4053-8E3B-D41C3413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778C-BABE-4C5A-8955-6D57C359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8E2A-22A1-45B5-A0AD-5FC55A36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1727-0E42-4FD6-9E49-62F67424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F980-4DC4-4A5D-8850-A94CD356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B716-FA36-44F4-9DD2-D01D1DC7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379-4DA2-497D-85D6-8E9E6A73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E70C-154D-4D2B-BD49-503195DA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B9B2-5A3C-4A75-9C77-3FFC482D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E2A3-39DD-4888-A6C0-EFBA198F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2657-9ECE-40EB-B63E-DB5E16AD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39C1-499E-494A-985C-B850CE2D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B4E-534F-4999-8684-E906363E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D5F-4EAB-497B-BF08-9AEFB767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82B-EB9C-45DA-8AAF-164A901D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9F9-672C-4A72-A7B3-DC2D1C2A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FEE-BBBD-4D60-8913-569BBCD3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044-C5D6-407C-BF4D-EAADAF23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BF1-8C4A-41DA-A349-323805BB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3E58-2266-4477-8E1B-C2F49CD6C2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D526-3291-4FB7-B928-FE49395B98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b4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797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797b9b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arketing Our Restaura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 Employee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ur Product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rchandi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od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Merchandis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neys and confe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-shir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05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Food services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-restaurant me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ke-out me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livered meals and cat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b4fb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-restaurant parties and mee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05:58:28Z</dcterms:created>
  <dc:creator>Pat Graves</dc:creator>
  <dc:description/>
  <dc:language>en-US</dc:language>
  <cp:lastModifiedBy>Pat Graves</cp:lastModifiedBy>
  <dcterms:modified xsi:type="dcterms:W3CDTF">2004-02-02T06:09:20Z</dcterms:modified>
  <cp:revision>2</cp:revision>
  <dc:subject/>
  <dc:title>Slide 1</dc:title>
</cp:coreProperties>
</file>