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065-9AA6-45B5-BDE9-4119D71B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9A2-0BF4-435C-A4BA-A8105816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FF9-13DE-4D63-A847-3E6F1372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1A2-CA5E-4C25-B2E7-A7ECB1F5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69B9-7D92-4197-81D4-1000BFDB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D743-5EB8-48AE-A100-63D55276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392B-A1A0-414B-B5CE-72086B5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877C-3A4A-44A6-A261-B89693E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ECC8-14EE-404F-AA4C-671DB401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C79D-7099-41FD-BC1B-EB0C3774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892D-AFC9-4FBC-9850-1DE969A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0F4-904D-496D-9FDA-BA7FC45F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EE1-D2AE-4AC3-80B1-ED054FF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0C01-E07E-4E87-8158-E139AE8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3677-2EC6-44EA-A3E3-E8517BC5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A5B0-AE06-4CAA-B607-7A0C75F0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E6D-AF03-440E-8B8B-B9C60F93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1083-C365-4A1D-81F0-8B3FD02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3F9-66CD-4753-B1B6-63A32ED0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E37-4C7D-40B3-B50C-4AC10B0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7DD-D1C1-4EF7-B78B-94E6B30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652-F7BC-430E-91E9-558A077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E03-7A8D-4E27-8DB0-47B8F79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D15-422A-4AE7-9DBF-724190DF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D1A-697A-4023-B652-C52021B05284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D1E2-22DC-4E82-A8C9-A71E485D5D6D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ster Ide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Good 4 U Public Relations Training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staurant Topic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Menu ite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Contest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Ingredient profil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Exot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Organ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endor Profil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Local organic farmer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Herb far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Fisheri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pecial Event Announceme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New Health Marath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Pasta party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Awards dinner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July 4 Celebrati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In-line skating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Bike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asta Part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hoice of spaghetti or fettuccine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hoice of iced tea or water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Purpose: to give the runners energy to complete the marath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05:51:33Z</dcterms:created>
  <dc:creator>Pat Graves</dc:creator>
  <dc:description/>
  <dc:language>en-US</dc:language>
  <cp:lastModifiedBy>Pat Graves</cp:lastModifiedBy>
  <dcterms:modified xsi:type="dcterms:W3CDTF">2004-02-02T04:43:13Z</dcterms:modified>
  <cp:revision>4</cp:revision>
  <dc:subject/>
  <dc:title>Poster Ideas</dc:title>
</cp:coreProperties>
</file>