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505-8881-49F3-AE1D-1A12B9AC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87640" y="416736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D57-C6C3-4D20-8A8F-704EC16C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0700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24C-D7EC-421C-B6A0-DD239438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09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1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87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09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1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F7D-F68B-43DA-BADA-31924418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37E1-F00E-4631-A9C3-B1EBE2B0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23EC-7321-488D-B305-C82A8D0B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A199-FDF1-414C-9033-8B4BFF7E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53DB-81BE-49B1-AD40-9106B83B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7DA5-5BED-439D-BFDA-CF3F4855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32000" y="259920"/>
            <a:ext cx="7812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2D0E-0EF4-4C99-8FB6-DAE5EEB4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C557-AF31-4243-A179-02DFD8DF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0D49-4EFB-4E5E-BB5D-02BB540F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0700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E810-7A22-4564-9EE5-A9718EB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793D-D13F-4D03-924C-F223F0B6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087640" y="416736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0021-6A0F-492E-AB65-8405D1B8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0700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9AC-DE23-4988-B186-66973607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09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31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087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409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731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15FD-7BFB-417C-99A4-4045D161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3E5-3775-4CD1-A22F-DFAA47D0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3CF-93A3-4235-9F29-ADAEF98C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BD2-3811-4B88-A1FA-FCDCFEC3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259920"/>
            <a:ext cx="7812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18D-F961-43DB-B378-EBD20BE7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6679-D7C7-493F-99DB-933A3A28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700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FF2-F02B-4A67-BF4F-2B1A7C40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1E2-B108-4689-B442-0289E58E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332000" cy="6858000"/>
            <a:chOff x="0" y="0"/>
            <a:chExt cx="1332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6640" cy="68580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03440" y="0"/>
              <a:ext cx="628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11280" y="1521000"/>
            <a:ext cx="7632720" cy="14436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72DF-7E91-4C56-A1E5-9B29956F05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2663280" cy="6854760"/>
            <a:chOff x="0" y="0"/>
            <a:chExt cx="2663280" cy="68547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638360" cy="6854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4240" y="0"/>
              <a:ext cx="122904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00360" y="3679920"/>
            <a:ext cx="5542560" cy="2413080"/>
            <a:chOff x="3600360" y="3679920"/>
            <a:chExt cx="5542560" cy="2413080"/>
          </a:xfrm>
        </p:grpSpPr>
        <p:sp>
          <p:nvSpPr>
            <p:cNvPr id="49" name=""/>
            <p:cNvSpPr/>
            <p:nvPr/>
          </p:nvSpPr>
          <p:spPr>
            <a:xfrm flipH="1">
              <a:off x="5974200" y="3679920"/>
              <a:ext cx="3168360" cy="24130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00360" y="3679920"/>
              <a:ext cx="2772000" cy="24130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 flipH="1" flipV="1">
            <a:off x="3599640" y="3428280"/>
            <a:ext cx="5543640" cy="25236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48000" y="1089000"/>
            <a:ext cx="631512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C216-C651-4057-85CD-2A7942E0AE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666880" y="4257720"/>
            <a:ext cx="1904760" cy="581040"/>
            <a:chOff x="2666880" y="4257720"/>
            <a:chExt cx="1904760" cy="581040"/>
          </a:xfrm>
        </p:grpSpPr>
        <p:sp>
          <p:nvSpPr>
            <p:cNvPr id="57" name=""/>
            <p:cNvSpPr txBox="1"/>
            <p:nvPr/>
          </p:nvSpPr>
          <p:spPr>
            <a:xfrm>
              <a:off x="4041000" y="44787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572640" y="4349880"/>
              <a:ext cx="686880" cy="488520"/>
              <a:chOff x="3572640" y="4349880"/>
              <a:chExt cx="686880" cy="488520"/>
            </a:xfrm>
          </p:grpSpPr>
          <p:sp>
            <p:nvSpPr>
              <p:cNvPr id="59" name=""/>
              <p:cNvSpPr/>
              <p:nvPr/>
            </p:nvSpPr>
            <p:spPr>
              <a:xfrm>
                <a:off x="3572640" y="43498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65600" y="44024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 txBox="1"/>
            <p:nvPr/>
          </p:nvSpPr>
          <p:spPr>
            <a:xfrm>
              <a:off x="2666880" y="42577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48000" y="1089000"/>
            <a:ext cx="631512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1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84720" y="4137120"/>
            <a:ext cx="3959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ployee Train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-wor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97640" y="2017800"/>
            <a:ext cx="335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ct the best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-work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ur Food 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t 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ed and cat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ur Merchandise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o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arel and access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ur Service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Graves</dc:creator>
  <dc:description/>
  <dc:language>en-US</dc:language>
  <cp:lastModifiedBy>Pat Graves</cp:lastModifiedBy>
  <cp:lastPrinted>1997-05-23T15:21:30Z</cp:lastPrinted>
  <dcterms:modified xsi:type="dcterms:W3CDTF">2004-02-02T06:44:22Z</dcterms:modified>
  <cp:revision>23</cp:revision>
  <dc:subject/>
  <dc:title>Marketing Our Restaurant</dc:title>
</cp:coreProperties>
</file>