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68E-F829-47B8-A4E9-B26BF9B3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A2D8-2933-4BBC-BCAD-8F68A59F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CF8-D920-40A8-AC4C-C16E3CE8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C81-7CCB-450F-AB4F-A597BE5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BA0-DBFE-4E0E-BEE5-CDF423D5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247-3DC9-46E5-B2E6-83CB2D8F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58D6-937B-4D7E-A22C-061B407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A313-C8B7-4947-856F-D5E0E7A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F3C-4B8A-4AE5-BCC1-5A513EE8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A6CA-C9CA-4D5F-9C02-59D3B66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FB91-E0EA-44BC-A2C2-CF6AAFC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C48-86E2-49E7-B5F1-2E5EBC2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E7ED-5543-4E47-AB9B-1FA6D02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B0F5-5740-40CA-BD21-EAE1C39A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52F-F265-4438-A458-BA428B7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63B-2594-47FA-9986-774EC133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E132-AA60-4AB1-BE89-3B8DD57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74F-CDD8-42CC-8DC3-186C9DEE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252-64F4-41F5-BB00-C7EBC72B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451-1EED-4AC6-966E-4A62DB7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074-2543-45BE-8F72-05526D7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F15-82A9-4191-A502-CB49543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5C5-3E93-4DCD-AF0C-4E59B38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E0A-27E6-4FD7-9C72-F052E94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13F-8102-4A9C-9D60-D01A99BD0D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d2d89"/>
                </a:gs>
                <a:gs pos="100000">
                  <a:srgbClr val="0000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DE13-8145-44F1-9203-41C11F5A29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Student%20files/Lesson%204/Market3.ppt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../../Student%20files/Lesson%204/Market4.ppt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c5ff"/>
                </a:solidFill>
                <a:latin typeface="Arial"/>
              </a:rPr>
              <a:t>How to Evaluate Advertising Media</a:t>
            </a:r>
            <a:endParaRPr b="0" lang="en-US" sz="40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arketing Series Training Se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Media Categories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Print Media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li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p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l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llboar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Electronic Media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evi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Return on Investmen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co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aluate effective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ditional profit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ditional dollar s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mber of new custom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c5ff"/>
                </a:solidFill>
                <a:latin typeface="Arial"/>
              </a:rPr>
              <a:t>Marketing Training:</a:t>
            </a:r>
            <a:br>
              <a:rPr sz="4000"/>
            </a:br>
            <a:r>
              <a:rPr b="0" lang="en-US" sz="4000" spc="-1" strike="noStrike">
                <a:solidFill>
                  <a:srgbClr val="c5c5ff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Verdana"/>
                <a:hlinkClick r:id="rId2"/>
              </a:rPr>
              <a:t>Marketing Strate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Verdana"/>
                <a:hlinkClick r:id="rId4"/>
              </a:rPr>
              <a:t>Marketing Our Busi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4T22:15:38Z</dcterms:created>
  <dc:creator>Pat Graves</dc:creator>
  <dc:description/>
  <dc:language>en-US</dc:language>
  <cp:lastModifiedBy>Pat Graves</cp:lastModifiedBy>
  <cp:lastPrinted>1996-12-04T22:31:20Z</cp:lastPrinted>
  <dcterms:modified xsi:type="dcterms:W3CDTF">2004-02-02T05:53:07Z</dcterms:modified>
  <cp:revision>15</cp:revision>
  <dc:subject/>
  <dc:title>Selecting Advertising Media</dc:title>
</cp:coreProperties>
</file>