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F83-2190-4EDF-85CA-E138EB9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981-26CD-443A-AF7E-D0A10D2A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385-815D-477A-BA00-51749A6F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C8A-E589-455A-9B81-FDCFA1C8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0CF3-6B38-462F-8166-989D94AC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E25-F71D-493C-8EB9-E3A80E1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2DAE-DD48-426B-8FD0-98493CE2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5809-3366-43E7-8FF4-DF725071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0CEC-FFF3-4339-9AB1-A960CC99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90A-4B91-4A79-B6FB-0515E72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7E39-72B9-4695-AA61-EB10A66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BD4-D79D-4D76-AF9A-BFC02FA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0E96-6AC9-4B1D-BF10-8904A15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96B2-7094-4762-9240-6FB2471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06DD-3DD1-4AE6-A590-AD4A3DC8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13A1-FC6B-4624-97B1-6FBFF1EA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EFD-9E43-4998-AE70-41D8E47C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C77-515A-46C7-9200-D2DB1415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B9E-3F20-4815-81A9-0D38ABAB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B53-2BB4-4C82-9260-89DF47A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731-C7BC-425D-95E9-70ACAF8E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9B8-DF87-428B-AE04-4B73AE1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0A4-5E23-4518-91D4-5E7F71F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9D6-BFCC-4672-A779-13B968B6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76f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FD0-70BF-4964-966A-C8C417706D23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76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6A09-B2D4-4433-9208-82C2C47C1AA0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76f2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ster Ide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Good 4 U Public Relations Training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Restaurant Topic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Menu ite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Contest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Ingredient profil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xot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Organic ingredients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Vendor Profil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Local organic farmer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Herb farm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Fisherie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Special Event Announcement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New Health Marath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Pasta party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Awards dinner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cc"/>
                </a:solidFill>
                <a:latin typeface="Arial"/>
              </a:rPr>
              <a:t>July 4 Celebration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In-line skating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76f2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Bike race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05:51:33Z</dcterms:created>
  <dc:creator>Pat Graves</dc:creator>
  <dc:description/>
  <dc:language>en-US</dc:language>
  <cp:lastModifiedBy>Pat Graves</cp:lastModifiedBy>
  <dcterms:modified xsi:type="dcterms:W3CDTF">2004-02-02T04:43:22Z</dcterms:modified>
  <cp:revision>3</cp:revision>
  <dc:subject/>
  <dc:title>Poster Ideas</dc:title>
</cp:coreProperties>
</file>