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F93E-4A95-4E9D-A70E-B316DC8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CE19-7280-425F-86A4-E45E4A4F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16C9-040D-4D31-A67A-63EA4D74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D956-7B45-43EA-97D7-AE52272E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516D-0C45-45FA-849F-52F5B65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AAC-ED5D-4306-A264-FDAA9A15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674-4B49-45FB-ADC8-16161A36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CC1-9288-436E-A19E-D7FB65D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5C9-E4CD-4647-85F6-500E032D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4AA9-B008-4C02-B1AB-06CCD565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147-8120-4E58-A867-C946D41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95A7-CD89-41D0-B6A2-078ED60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3259-518B-4628-9701-31933C7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E5D-995B-4561-A2DC-394D668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343-7433-4D0B-B8D6-76BABD5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053B-85D5-4105-A668-D22F7174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48C-3093-4D09-9100-9BFF5327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AB9A-2764-4F78-954A-D813F25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E679-690C-4E60-84E8-B3FA94DB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FC3F-45FE-41DD-86D2-77B04EA6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C028-C6CF-4ACE-8B89-427416AC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EDD-E90F-4C14-9590-A01CCB4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3AF7-8A5F-428F-8ECC-77E540F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C35D-1369-4B3B-8C5A-2A76A59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4E7-7D61-482E-9226-946F336D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AB1-544D-42DD-8D31-F305EDB5B3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3A3-EDC1-46A3-A387-CF2AB94898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DC7-1FBC-4652-9C8E-8C92E803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Impact"/>
              </a:rPr>
              <a:t>Heart</a:t>
            </a: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Smart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880B23-A8BB-433F-903C-C1ABBAC27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34920" y="1592280"/>
            <a:ext cx="5484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DA14457-1091-4229-BBBD-E406B0819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rt walks several times each day keep your heart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the risk of 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s cholesterol, blood pressure,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is a mood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3D646F4-3194-490D-ACC3-11707C706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73EE0D-A9F2-416C-B05C-2F6D98E6B4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8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7D391A6-AD65-41AA-87EA-8B0B98F660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4T16:00:26Z</dcterms:modified>
  <cp:revision>42</cp:revision>
  <dc:subject/>
  <dc:title>Be Heart Smart! </dc:title>
</cp:coreProperties>
</file>