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AA99-F6FA-475A-A38A-2D81AF92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2831-9045-456D-A2B8-3AC3B780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D755-08EA-4057-B5D6-F0567A7F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8DC5-95EB-4913-9482-08EE3701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A47E-9AEF-4C50-AC4D-2BB698E8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14D1-FF99-4717-BA9A-847CB57A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2D2A-F2EC-40DC-BB28-9DB3D88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37A8-76C9-4E0B-810A-BC66C5B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FF2-C4E8-4091-8B6B-F0B86A1C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AA12-BB38-4D0D-B586-EBD0DEF0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276E-B91B-4210-96A2-C4AA35D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E9B0-9454-42ED-8220-E7874583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044A-4BA7-416E-8C63-03AAEE5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E171-DF83-45E4-A1CD-DE2BEEC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EB19-6017-4AC7-A3D9-6F699660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B997-CFE7-4D57-B209-2B7B46EB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073-3B4E-448D-8768-63ECA7BA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EED9-BCE6-456A-83E8-873AF6F6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07FD-D127-4B19-8B54-3991338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DA72-E0A8-4F02-9913-9928BBC8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306C-D7B2-4C6B-BFD3-884ADB8B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22D4-AAF6-440C-9B98-61AB263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BC7D-3C5C-452C-AF5C-25A5DCCE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4D94-5868-445F-A5C2-70FC7FD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CFF-9495-44B9-9E0E-8FBDEC6A1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66D7-8334-4B66-A406-092DC5FC2C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4446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18800" indent="-4615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5040" indent="-2239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2239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392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392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392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171C-8AC8-47B7-A1AC-A9C3D9A48B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C1F-9595-4E08-88B0-4E5091CB4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97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528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116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Impact"/>
              </a:rPr>
              <a:t>Heart</a:t>
            </a: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Smart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Impact"/>
              </a:rPr>
              <a:t>Diet and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5227B7-B8EF-42DE-A2AE-D0FA347734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rt Smart Liv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when you’r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me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s 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serts that are good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0CE346A-AC7D-491C-864B-399B6B919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rt walks several times each day keep your heart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s the risk of heart disease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ers cholesterol, blood pressure,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is a mood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42C0AA6-D2DB-4BED-BB6E-F7BC6B3E31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s Breakfast with Good 4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-hour walks through Central Park led by a Good 4 U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days starting at 5:30, 6:30, and 7: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s starting at 8, 9,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discounts on Good 4 U breakf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miles 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healthy meals 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64B453F-6EC0-4926-A625-74E88C6603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oin Our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 Good 4 U dis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on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6EE480D-3368-4495-A755-A3B78D6105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Pat Graves</cp:lastModifiedBy>
  <cp:lastPrinted>1996-12-10T19:20:34Z</cp:lastPrinted>
  <dcterms:modified xsi:type="dcterms:W3CDTF">2004-02-02T15:18:43Z</dcterms:modified>
  <cp:revision>39</cp:revision>
  <dc:subject/>
  <dc:title>Be Heart Smart! </dc:title>
</cp:coreProperties>
</file>