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28A7-0CE6-4119-AAF9-6392CB20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47E9-F46B-44B8-AA8A-F7231063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1C03-4DBC-4178-B0A7-C646D11B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2A80-6EB4-49A1-93B8-CC3503CF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CA0C-3AC6-479E-AEE2-9DD054D7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5466-57B9-442E-8C53-C5CC555B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66B5-0370-4731-951E-6AF82AD5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205E-278A-41C8-920B-A46E7138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D89F-FD4E-4E3E-BA8C-D7135171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C226-96AD-44F3-9DDF-19AEA64A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BA6F-AE3A-4565-A190-1CA8C22D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7D88-9E88-49E3-A7FF-4CA1D0D6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D1D1-A649-43F0-8C52-BB482583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1666-461B-43F1-90AE-91932100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E876-42E5-45D8-A380-B4037540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C1A7-D102-47EB-9BEE-4A745ACA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8AA1-A517-4284-BF8D-0F9C2BD9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E2EC-8528-4DCE-B11A-5CBCA44F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4C70-CABB-48F7-B79A-1CDE507C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9702-8E86-41F0-84A5-43FE81E1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1686-20F6-479A-8BAC-ACB82299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7F5C-61E4-4A27-820B-4909A034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21EC-7C1B-46E9-9739-851CF280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8E1D-F8AF-4593-8BC0-42CFA45D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C999-A177-4877-9A53-6466305D1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2467-4697-43B3-A3E6-C775D4B0AA2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44460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18800" indent="-461520">
              <a:spcBef>
                <a:spcPts val="901"/>
              </a:spcBef>
              <a:buClr>
                <a:srgbClr val="ff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55040" indent="-22392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90920" indent="-22392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27160" indent="-22392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27160" indent="-22392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27160" indent="-22392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A890-6661-44ED-859E-C3BB6FCFB9C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B5C8-58AB-41BD-9C0B-D20131A8F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9760" algn="ctr">
              <a:spcBef>
                <a:spcPts val="700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25280" algn="ctr"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1160" algn="ctr">
              <a:spcBef>
                <a:spcPts val="601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Impact"/>
              </a:rPr>
              <a:t>Heart Smart!</a:t>
            </a:r>
            <a:endParaRPr b="0" lang="en-US" sz="5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02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t and 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328920" y="4365720"/>
            <a:ext cx="2484360" cy="757080"/>
            <a:chOff x="3328920" y="4365720"/>
            <a:chExt cx="2484360" cy="757080"/>
          </a:xfrm>
        </p:grpSpPr>
        <p:sp>
          <p:nvSpPr>
            <p:cNvPr id="301" name=""/>
            <p:cNvSpPr txBox="1"/>
            <p:nvPr/>
          </p:nvSpPr>
          <p:spPr>
            <a:xfrm>
              <a:off x="5121000" y="4653720"/>
              <a:ext cx="692280" cy="46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10080" y="4485960"/>
              <a:ext cx="895680" cy="636840"/>
              <a:chOff x="4510080" y="4485960"/>
              <a:chExt cx="895680" cy="6368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10080" y="4485960"/>
                <a:ext cx="895680" cy="636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61720" y="4554360"/>
                <a:ext cx="414720" cy="354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aeaea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 txBox="1"/>
            <p:nvPr/>
          </p:nvSpPr>
          <p:spPr>
            <a:xfrm>
              <a:off x="3328920" y="4365720"/>
              <a:ext cx="1669680" cy="44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Heart Smart Living</a:t>
            </a: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rcise regul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right at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right when you’re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99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 me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99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ts dr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99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serts that are good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18120" y="548316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consistent wherever you a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Walk to Good Health</a:t>
            </a: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walks several times each day keep your heart in sh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l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the risk of heart disease and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s cholesterol, blood pressure, and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lking is a mood elev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Walk to Good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Walk to Good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Walk to Good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Walk to Good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Walk to Good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Walkers Breakfast with Good 4 U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-hour walks through Central Park led by a Good 4 U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days starting at 5:30, 6:30, and 7: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ends starting at 8, 9,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n discounts on Good 4 U breakf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ons earned for miles wal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ons earned for healthy meals 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Join Our Team</a:t>
            </a: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lk with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with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what’s Good 4 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20615400">
            <a:off x="2784240" y="4545000"/>
            <a:ext cx="667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Join Our Team Toda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03:31:04Z</dcterms:created>
  <dc:creator>Pat R. Graves</dc:creator>
  <dc:description/>
  <dc:language>en-US</dc:language>
  <cp:lastModifiedBy>Pat Graves</cp:lastModifiedBy>
  <cp:lastPrinted>1996-12-10T19:20:34Z</cp:lastPrinted>
  <dcterms:modified xsi:type="dcterms:W3CDTF">2004-02-06T08:49:45Z</dcterms:modified>
  <cp:revision>48</cp:revision>
  <dc:subject/>
  <dc:title>Be Heart Smart! </dc:title>
</cp:coreProperties>
</file>