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B0E1-C7B9-4545-AEB6-0CD4B692D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967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2188-A82F-4F2B-8429-B87DA3D01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967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0A5F-51E7-4F98-AF1B-C660320DA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967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9B98-11B2-4A89-BCDC-741ABB823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51353-05DC-414D-A4F2-9F87B6761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967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27343-DD06-4CD0-A736-4B804EED3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967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E5DE2-55D5-420B-9DD4-5136150A3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967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C9323-D655-4C56-9B00-9BB7DAF70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967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59535-4AB6-40FE-BFF1-DE3DF0B43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685800" y="39672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96835-D0B2-4F4B-BCC9-5E15E7E69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967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194D4-DA65-4187-889E-AF633F01A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967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BEFE-9A6E-4D28-A367-32A11F38A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967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CB10F-42DD-4DDE-9558-044CAE32A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967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E7641-B80F-4ADF-9E28-F69F1EE83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967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3FA75-32B2-41FF-BEDF-6D4806543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967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A7001-E9F4-4857-8C09-34AB7D9B8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967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161E9-C393-4A3C-8246-3F39BD6BD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967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491B-67CE-43B8-872B-6DF95970A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3967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B084-7690-48B0-B121-8160C45F6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967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5676-5133-42C3-AE49-C5EA5DC48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685800" y="39672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49B9-53F7-4748-8653-E635EC428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3967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7A56-50A1-4848-B81F-7692260DB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967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4771-0030-48C3-9293-D95078C33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3967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2807-A544-482C-A353-3F3683DF6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95200"/>
            </a:gs>
            <a:gs pos="100000">
              <a:srgbClr val="76905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667b5b"/>
                </a:gs>
                <a:gs pos="100000">
                  <a:srgbClr val="2952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6e6d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667b5b"/>
                </a:gs>
                <a:gs pos="100000">
                  <a:srgbClr val="5c6f5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e6e6d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667b5b"/>
                </a:gs>
                <a:gs pos="100000">
                  <a:srgbClr val="5c6f5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e6e6da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667b5b"/>
                </a:gs>
                <a:gs pos="100000">
                  <a:srgbClr val="5c6f5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6e6da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667b5b"/>
                </a:gs>
                <a:gs pos="100000">
                  <a:srgbClr val="5c6f5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6e6da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667b5b"/>
                </a:gs>
                <a:gs pos="100000">
                  <a:srgbClr val="5c6f5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6e6da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667b5b"/>
                </a:gs>
                <a:gs pos="100000">
                  <a:srgbClr val="5c6f5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6e6da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667b5b"/>
                </a:gs>
                <a:gs pos="100000">
                  <a:srgbClr val="5c6f5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6e6da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667b5b"/>
                </a:gs>
                <a:gs pos="100000">
                  <a:srgbClr val="5c6f5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6e6da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667b5b"/>
                </a:gs>
                <a:gs pos="100000">
                  <a:srgbClr val="5c6f5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6e6da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667b5b"/>
                </a:gs>
                <a:gs pos="100000">
                  <a:srgbClr val="5c6f5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6e6da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667b5b"/>
                </a:gs>
                <a:gs pos="100000">
                  <a:srgbClr val="5c6f5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6e6da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667b5b"/>
                </a:gs>
                <a:gs pos="100000">
                  <a:srgbClr val="5c6f5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6e6da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667b5b"/>
                </a:gs>
                <a:gs pos="100000">
                  <a:srgbClr val="5c6f5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6e6da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667b5b"/>
                </a:gs>
                <a:gs pos="100000">
                  <a:srgbClr val="5c6f5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6e6da"/>
                </a:solidFill>
                <a:latin typeface="Times New Roman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967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6e6d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6e6da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6e6d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6e6da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6e6d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11434-2418-49F0-B744-C756F7B619DC}" type="slidenum">
              <a:rPr b="0" lang="en-US" sz="1000" spc="-1" strike="noStrike">
                <a:solidFill>
                  <a:srgbClr val="e6e6da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3f2d9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6e6da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e6e6d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6e6da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6e6d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6e6da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3f2d9"/>
              </a:buClr>
              <a:buSzPct val="70000"/>
              <a:buFont typeface="Wingdings 2" charset="2"/>
              <a:buChar char="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6e6da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e6e6da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e6e6d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6e6da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e6e6da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33cc33"/>
              </a:buClr>
              <a:buSzPct val="70000"/>
              <a:buFont typeface="Wingdings 2" charset="2"/>
              <a:buChar char="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6e6da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e6e6da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6e6da"/>
              </a:buClr>
              <a:buSzPct val="70000"/>
              <a:buFont typeface="Wingdings 2" charset="2"/>
              <a:buChar char="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6e6da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e6e6da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6e6da"/>
              </a:buClr>
              <a:buSzPct val="70000"/>
              <a:buFont typeface="Wingdings 2" charset="2"/>
              <a:buChar char="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6e6da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e6e6d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95200"/>
            </a:gs>
            <a:gs pos="100000">
              <a:srgbClr val="76905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667b5b"/>
                </a:gs>
                <a:gs pos="100000">
                  <a:srgbClr val="2952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6e6da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667b5b"/>
                </a:gs>
                <a:gs pos="100000">
                  <a:srgbClr val="5c6f5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e6e6da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667b5b"/>
                </a:gs>
                <a:gs pos="100000">
                  <a:srgbClr val="5c6f5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e6e6da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667b5b"/>
                </a:gs>
                <a:gs pos="100000">
                  <a:srgbClr val="5c6f5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6e6da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667b5b"/>
                </a:gs>
                <a:gs pos="100000">
                  <a:srgbClr val="5c6f5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6e6da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667b5b"/>
                </a:gs>
                <a:gs pos="100000">
                  <a:srgbClr val="5c6f5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6e6da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667b5b"/>
                </a:gs>
                <a:gs pos="100000">
                  <a:srgbClr val="5c6f5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6e6da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667b5b"/>
                </a:gs>
                <a:gs pos="100000">
                  <a:srgbClr val="5c6f5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6e6da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667b5b"/>
                </a:gs>
                <a:gs pos="100000">
                  <a:srgbClr val="5c6f5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6e6da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667b5b"/>
                </a:gs>
                <a:gs pos="100000">
                  <a:srgbClr val="5c6f5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6e6da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667b5b"/>
                </a:gs>
                <a:gs pos="100000">
                  <a:srgbClr val="5c6f5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6e6da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667b5b"/>
                </a:gs>
                <a:gs pos="100000">
                  <a:srgbClr val="5c6f5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6e6da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667b5b"/>
                </a:gs>
                <a:gs pos="100000">
                  <a:srgbClr val="5c6f5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6e6da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667b5b"/>
                </a:gs>
                <a:gs pos="100000">
                  <a:srgbClr val="5c6f5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6e6da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667b5b"/>
                </a:gs>
                <a:gs pos="100000">
                  <a:srgbClr val="5c6f5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6e6da"/>
                </a:solidFill>
                <a:latin typeface="Times New Roman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66840" y="917280"/>
            <a:ext cx="7772400" cy="15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Verdana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6e6d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6e6da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6e6d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6e6da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6e6d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8209A-2886-4553-9D05-9B5654F876EC}" type="slidenum">
              <a:rPr b="0" lang="en-US" sz="1000" spc="-1" strike="noStrike">
                <a:solidFill>
                  <a:srgbClr val="e6e6da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6e6da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e6e6d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6e6d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6e6d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3f2d9"/>
              </a:buClr>
              <a:buSzPct val="70000"/>
              <a:buFont typeface="Wingdings 2" charset="2"/>
              <a:buChar char="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6e6d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6e6d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6e6d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6e6d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6e6d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33cc33"/>
              </a:buClr>
              <a:buSzPct val="70000"/>
              <a:buFont typeface="Wingdings 2" charset="2"/>
              <a:buChar char="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6e6d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6e6d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6e6da"/>
              </a:buClr>
              <a:buSzPct val="70000"/>
              <a:buFont typeface="Wingdings 2" charset="2"/>
              <a:buChar char="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6e6d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6e6d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6e6da"/>
              </a:buClr>
              <a:buSzPct val="70000"/>
              <a:buFont typeface="Wingdings 2" charset="2"/>
              <a:buChar char="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6e6d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6e6d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95200"/>
            </a:gs>
            <a:gs pos="100000">
              <a:srgbClr val="76905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66840" y="917280"/>
            <a:ext cx="7772400" cy="15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Verdana"/>
              </a:rPr>
              <a:t>Sponsor a </a:t>
            </a:r>
            <a:br>
              <a:rPr sz="4800"/>
            </a:br>
            <a:r>
              <a:rPr b="1" lang="en-US" sz="4800" spc="-1" strike="noStrike">
                <a:solidFill>
                  <a:srgbClr val="ffffcc"/>
                </a:solidFill>
                <a:latin typeface="Verdana"/>
              </a:rPr>
              <a:t>Walking Event</a:t>
            </a:r>
            <a:endParaRPr b="1" lang="en-US" sz="48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328840" y="3265560"/>
            <a:ext cx="5486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6e6da"/>
                </a:solidFill>
                <a:latin typeface="Verdana"/>
              </a:rPr>
              <a:t>Promotional Training</a:t>
            </a:r>
            <a:endParaRPr b="1" lang="en-US" sz="3200" spc="-1" strike="noStrike">
              <a:solidFill>
                <a:srgbClr val="e6e6da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6e6da"/>
                </a:solidFill>
                <a:latin typeface="Verdana"/>
              </a:rPr>
              <a:t>August 2004</a:t>
            </a:r>
            <a:endParaRPr b="1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7108920" y="6156360"/>
            <a:ext cx="1904760" cy="581040"/>
            <a:chOff x="7108920" y="6156360"/>
            <a:chExt cx="1904760" cy="581040"/>
          </a:xfrm>
        </p:grpSpPr>
        <p:sp>
          <p:nvSpPr>
            <p:cNvPr id="117" name=""/>
            <p:cNvSpPr txBox="1"/>
            <p:nvPr/>
          </p:nvSpPr>
          <p:spPr>
            <a:xfrm>
              <a:off x="8483040" y="6377400"/>
              <a:ext cx="530640" cy="360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a50021"/>
                  </a:solidFill>
                  <a:latin typeface="Georgia"/>
                </a:rPr>
                <a:t>U</a:t>
              </a:r>
              <a:endParaRPr b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Georgia"/>
                <a:ea typeface="Georgia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8014320" y="6248520"/>
              <a:ext cx="686880" cy="488520"/>
              <a:chOff x="8014320" y="6248520"/>
              <a:chExt cx="686880" cy="488520"/>
            </a:xfrm>
          </p:grpSpPr>
          <p:sp>
            <p:nvSpPr>
              <p:cNvPr id="119" name=""/>
              <p:cNvSpPr/>
              <p:nvPr/>
            </p:nvSpPr>
            <p:spPr>
              <a:xfrm>
                <a:off x="8014320" y="6248520"/>
                <a:ext cx="686880" cy="488520"/>
              </a:xfrm>
              <a:custGeom>
                <a:avLst/>
                <a:gdLst/>
                <a:ahLst/>
                <a:rect l="l" t="t" r="r" b="b"/>
                <a:pathLst>
                  <a:path w="4828" h="4550">
                    <a:moveTo>
                      <a:pt x="4828" y="2723"/>
                    </a:moveTo>
                    <a:lnTo>
                      <a:pt x="4201" y="3603"/>
                    </a:lnTo>
                    <a:lnTo>
                      <a:pt x="3436" y="3615"/>
                    </a:lnTo>
                    <a:lnTo>
                      <a:pt x="3348" y="3906"/>
                    </a:lnTo>
                    <a:lnTo>
                      <a:pt x="3348" y="3906"/>
                    </a:lnTo>
                    <a:lnTo>
                      <a:pt x="3297" y="4190"/>
                    </a:lnTo>
                    <a:lnTo>
                      <a:pt x="3339" y="4397"/>
                    </a:lnTo>
                    <a:lnTo>
                      <a:pt x="3473" y="4521"/>
                    </a:lnTo>
                    <a:lnTo>
                      <a:pt x="3473" y="4521"/>
                    </a:lnTo>
                    <a:lnTo>
                      <a:pt x="3347" y="4550"/>
                    </a:lnTo>
                    <a:lnTo>
                      <a:pt x="1983" y="4550"/>
                    </a:lnTo>
                    <a:lnTo>
                      <a:pt x="2008" y="4521"/>
                    </a:lnTo>
                    <a:lnTo>
                      <a:pt x="2008" y="4521"/>
                    </a:lnTo>
                    <a:lnTo>
                      <a:pt x="2135" y="4474"/>
                    </a:lnTo>
                    <a:lnTo>
                      <a:pt x="2239" y="4417"/>
                    </a:lnTo>
                    <a:lnTo>
                      <a:pt x="2321" y="4352"/>
                    </a:lnTo>
                    <a:lnTo>
                      <a:pt x="2321" y="4352"/>
                    </a:lnTo>
                    <a:lnTo>
                      <a:pt x="2388" y="4271"/>
                    </a:lnTo>
                    <a:lnTo>
                      <a:pt x="2443" y="4169"/>
                    </a:lnTo>
                    <a:lnTo>
                      <a:pt x="2488" y="4043"/>
                    </a:lnTo>
                    <a:lnTo>
                      <a:pt x="2488" y="4043"/>
                    </a:lnTo>
                    <a:lnTo>
                      <a:pt x="2618" y="3615"/>
                    </a:lnTo>
                    <a:lnTo>
                      <a:pt x="0" y="3615"/>
                    </a:lnTo>
                    <a:lnTo>
                      <a:pt x="3299" y="0"/>
                    </a:lnTo>
                    <a:lnTo>
                      <a:pt x="4584" y="0"/>
                    </a:lnTo>
                    <a:lnTo>
                      <a:pt x="3654" y="3013"/>
                    </a:lnTo>
                    <a:lnTo>
                      <a:pt x="3654" y="3013"/>
                    </a:lnTo>
                    <a:lnTo>
                      <a:pt x="3835" y="3006"/>
                    </a:lnTo>
                    <a:lnTo>
                      <a:pt x="4061" y="2987"/>
                    </a:lnTo>
                    <a:lnTo>
                      <a:pt x="4238" y="2962"/>
                    </a:lnTo>
                    <a:lnTo>
                      <a:pt x="4238" y="2962"/>
                    </a:lnTo>
                    <a:lnTo>
                      <a:pt x="4439" y="2907"/>
                    </a:lnTo>
                    <a:lnTo>
                      <a:pt x="4636" y="2828"/>
                    </a:lnTo>
                    <a:lnTo>
                      <a:pt x="4828" y="2723"/>
                    </a:lnTo>
                    <a:lnTo>
                      <a:pt x="4828" y="2723"/>
                    </a:lnTo>
                  </a:path>
                </a:pathLst>
              </a:custGeom>
              <a:solidFill>
                <a:srgbClr val="ffcc66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6e6da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207280" y="6301080"/>
                <a:ext cx="317880" cy="272160"/>
              </a:xfrm>
              <a:custGeom>
                <a:avLst/>
                <a:gdLst/>
                <a:ahLst/>
                <a:rect l="l" t="t" r="r" b="b"/>
                <a:pathLst>
                  <a:path w="2243" h="2533">
                    <a:moveTo>
                      <a:pt x="1481" y="2533"/>
                    </a:moveTo>
                    <a:lnTo>
                      <a:pt x="2243" y="0"/>
                    </a:lnTo>
                    <a:lnTo>
                      <a:pt x="0" y="2525"/>
                    </a:lnTo>
                    <a:lnTo>
                      <a:pt x="0" y="2525"/>
                    </a:lnTo>
                    <a:lnTo>
                      <a:pt x="203" y="2526"/>
                    </a:lnTo>
                    <a:lnTo>
                      <a:pt x="404" y="2526"/>
                    </a:lnTo>
                    <a:lnTo>
                      <a:pt x="606" y="2527"/>
                    </a:lnTo>
                    <a:lnTo>
                      <a:pt x="606" y="2527"/>
                    </a:lnTo>
                    <a:lnTo>
                      <a:pt x="798" y="2528"/>
                    </a:lnTo>
                    <a:lnTo>
                      <a:pt x="971" y="2529"/>
                    </a:lnTo>
                    <a:lnTo>
                      <a:pt x="1126" y="2531"/>
                    </a:lnTo>
                    <a:lnTo>
                      <a:pt x="1126" y="2531"/>
                    </a:lnTo>
                    <a:lnTo>
                      <a:pt x="1262" y="2532"/>
                    </a:lnTo>
                    <a:lnTo>
                      <a:pt x="1380" y="2533"/>
                    </a:lnTo>
                    <a:lnTo>
                      <a:pt x="1481" y="2533"/>
                    </a:lnTo>
                    <a:lnTo>
                      <a:pt x="1481" y="2533"/>
                    </a:lnTo>
                  </a:path>
                </a:pathLst>
              </a:custGeom>
              <a:solidFill>
                <a:srgbClr val="2952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6e6da"/>
                  </a:solidFill>
                  <a:latin typeface="Times New Roman"/>
                </a:endParaRPr>
              </a:p>
            </p:txBody>
          </p:sp>
        </p:grpSp>
        <p:sp>
          <p:nvSpPr>
            <p:cNvPr id="121" name=""/>
            <p:cNvSpPr txBox="1"/>
            <p:nvPr/>
          </p:nvSpPr>
          <p:spPr>
            <a:xfrm>
              <a:off x="7108920" y="6156360"/>
              <a:ext cx="1280160" cy="345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7e"/>
                  </a:solidFill>
                  <a:latin typeface="Georgia"/>
                </a:rPr>
                <a:t>Good</a:t>
              </a:r>
              <a:endPara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7e"/>
                </a:solidFill>
                <a:latin typeface="Georgia"/>
                <a:ea typeface="Georgia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95200"/>
            </a:gs>
            <a:gs pos="100000">
              <a:srgbClr val="76905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967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Verdana"/>
              </a:rPr>
              <a:t>Agenda</a:t>
            </a:r>
            <a:endParaRPr b="1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3f2d9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6e6da"/>
                </a:solidFill>
                <a:latin typeface="Verdana"/>
              </a:rPr>
              <a:t>Increase Good 4 U name recognition</a:t>
            </a:r>
            <a:endParaRPr b="0" lang="en-US" sz="2800" spc="-1" strike="noStrike">
              <a:solidFill>
                <a:srgbClr val="e6e6d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3f2d9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6e6da"/>
                </a:solidFill>
                <a:latin typeface="Verdana"/>
              </a:rPr>
              <a:t>Attract target clientele </a:t>
            </a:r>
            <a:br>
              <a:rPr sz="2800"/>
            </a:br>
            <a:r>
              <a:rPr b="0" lang="en-US" sz="2800" spc="-1" strike="noStrike">
                <a:solidFill>
                  <a:srgbClr val="e6e6da"/>
                </a:solidFill>
                <a:latin typeface="Verdana"/>
              </a:rPr>
              <a:t>(fitness, health, and sports participants)</a:t>
            </a:r>
            <a:endParaRPr b="0" lang="en-US" sz="2800" spc="-1" strike="noStrike">
              <a:solidFill>
                <a:srgbClr val="e6e6d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3f2d9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6e6da"/>
                </a:solidFill>
                <a:latin typeface="Verdana"/>
              </a:rPr>
              <a:t>Interest a wider clientele </a:t>
            </a:r>
            <a:br>
              <a:rPr sz="2800"/>
            </a:br>
            <a:r>
              <a:rPr b="0" lang="en-US" sz="2800" spc="-1" strike="noStrike">
                <a:solidFill>
                  <a:srgbClr val="e6e6da"/>
                </a:solidFill>
                <a:latin typeface="Verdana"/>
              </a:rPr>
              <a:t>(good food, community events)</a:t>
            </a:r>
            <a:endParaRPr b="0" lang="en-US" sz="2800" spc="-1" strike="noStrike">
              <a:solidFill>
                <a:srgbClr val="e6e6da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95200"/>
            </a:gs>
            <a:gs pos="100000">
              <a:srgbClr val="76905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967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Verdana"/>
              </a:rPr>
              <a:t>Overview</a:t>
            </a:r>
            <a:endParaRPr b="1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3f2d9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6e6da"/>
                </a:solidFill>
                <a:latin typeface="Verdana"/>
              </a:rPr>
              <a:t>Organize training seminars</a:t>
            </a:r>
            <a:endParaRPr b="0" lang="en-US" sz="2800" spc="-1" strike="noStrike">
              <a:solidFill>
                <a:srgbClr val="e6e6d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3f2d9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6e6da"/>
                </a:solidFill>
                <a:latin typeface="Verdana"/>
              </a:rPr>
              <a:t>Interest other sponsors</a:t>
            </a:r>
            <a:endParaRPr b="0" lang="en-US" sz="2800" spc="-1" strike="noStrike">
              <a:solidFill>
                <a:srgbClr val="e6e6d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3f2d9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6e6da"/>
                </a:solidFill>
                <a:latin typeface="Verdana"/>
              </a:rPr>
              <a:t>Establish the Power Walk as an annual event</a:t>
            </a:r>
            <a:endParaRPr b="0" lang="en-US" sz="2800" spc="-1" strike="noStrike">
              <a:solidFill>
                <a:srgbClr val="e6e6d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3f2d9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6e6da"/>
                </a:solidFill>
                <a:latin typeface="Verdana"/>
              </a:rPr>
              <a:t>Schedule “paths for every pace” </a:t>
            </a:r>
            <a:endParaRPr b="0" lang="en-US" sz="2800" spc="-1" strike="noStrike">
              <a:solidFill>
                <a:srgbClr val="e6e6d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3f2d9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6e6da"/>
                </a:solidFill>
                <a:latin typeface="Verdana"/>
              </a:rPr>
              <a:t>Advertise power walking event for healthy hearts</a:t>
            </a:r>
            <a:endParaRPr b="0" lang="en-US" sz="2800" spc="-1" strike="noStrike">
              <a:solidFill>
                <a:srgbClr val="e6e6d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6e6da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95200"/>
            </a:gs>
            <a:gs pos="100000">
              <a:srgbClr val="76905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967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Verdana"/>
              </a:rPr>
              <a:t>Training Seminars</a:t>
            </a:r>
            <a:endParaRPr b="1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3f2d9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6e6da"/>
                </a:solidFill>
                <a:latin typeface="Verdana"/>
              </a:rPr>
              <a:t>Lectures in Good 4 U banquet room</a:t>
            </a:r>
            <a:endParaRPr b="0" lang="en-US" sz="2800" spc="-1" strike="noStrike">
              <a:solidFill>
                <a:srgbClr val="e6e6d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6e6da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6e6da"/>
                </a:solidFill>
                <a:latin typeface="Verdana"/>
              </a:rPr>
              <a:t>Conducted by local marathon winners</a:t>
            </a:r>
            <a:endParaRPr b="0" lang="en-US" sz="2800" spc="-1" strike="noStrike">
              <a:solidFill>
                <a:srgbClr val="e6e6d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3f2d9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6e6da"/>
                </a:solidFill>
                <a:latin typeface="Verdana"/>
              </a:rPr>
              <a:t>Training walks in Central Park</a:t>
            </a:r>
            <a:endParaRPr b="0" lang="en-US" sz="2800" spc="-1" strike="noStrike">
              <a:solidFill>
                <a:srgbClr val="e6e6d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6e6da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6e6da"/>
                </a:solidFill>
                <a:latin typeface="Verdana"/>
              </a:rPr>
              <a:t>Free bananas and Good 4 U sports drinks</a:t>
            </a:r>
            <a:endParaRPr b="0" lang="en-US" sz="2800" spc="-1" strike="noStrike">
              <a:solidFill>
                <a:srgbClr val="e6e6da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95200"/>
            </a:gs>
            <a:gs pos="100000">
              <a:srgbClr val="76905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967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Verdana"/>
              </a:rPr>
              <a:t>Sponsors</a:t>
            </a:r>
            <a:endParaRPr b="1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3f2d9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6e6da"/>
                </a:solidFill>
                <a:latin typeface="Verdana"/>
              </a:rPr>
              <a:t>Running shoe companies</a:t>
            </a:r>
            <a:endParaRPr b="0" lang="en-US" sz="2800" spc="-1" strike="noStrike">
              <a:solidFill>
                <a:srgbClr val="e6e6d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3f2d9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6e6da"/>
                </a:solidFill>
                <a:latin typeface="Verdana"/>
              </a:rPr>
              <a:t>Health clinics/HMOs</a:t>
            </a:r>
            <a:endParaRPr b="0" lang="en-US" sz="2800" spc="-1" strike="noStrike">
              <a:solidFill>
                <a:srgbClr val="e6e6d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3f2d9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6e6da"/>
                </a:solidFill>
                <a:latin typeface="Verdana"/>
              </a:rPr>
              <a:t>Fruit packers and distributors</a:t>
            </a:r>
            <a:endParaRPr b="0" lang="en-US" sz="2800" spc="-1" strike="noStrike">
              <a:solidFill>
                <a:srgbClr val="e6e6da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95200"/>
            </a:gs>
            <a:gs pos="100000">
              <a:srgbClr val="76905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967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Verdana"/>
              </a:rPr>
              <a:t>Annual Event</a:t>
            </a:r>
            <a:endParaRPr b="1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3f2d9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6e6da"/>
                </a:solidFill>
                <a:latin typeface="Verdana"/>
              </a:rPr>
              <a:t>Establish volunteer committees</a:t>
            </a:r>
            <a:endParaRPr b="0" lang="en-US" sz="2800" spc="-1" strike="noStrike">
              <a:solidFill>
                <a:srgbClr val="e6e6d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3f2d9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6e6da"/>
                </a:solidFill>
                <a:latin typeface="Verdana"/>
              </a:rPr>
              <a:t>Schedule year-round support events</a:t>
            </a:r>
            <a:endParaRPr b="0" lang="en-US" sz="2800" spc="-1" strike="noStrike">
              <a:solidFill>
                <a:srgbClr val="e6e6d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6e6da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6e6da"/>
                </a:solidFill>
                <a:latin typeface="Verdana"/>
              </a:rPr>
              <a:t>Training</a:t>
            </a:r>
            <a:endParaRPr b="0" lang="en-US" sz="2800" spc="-1" strike="noStrike">
              <a:solidFill>
                <a:srgbClr val="e6e6d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6e6da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6e6da"/>
                </a:solidFill>
                <a:latin typeface="Verdana"/>
              </a:rPr>
              <a:t>Practice walks</a:t>
            </a:r>
            <a:endParaRPr b="0" lang="en-US" sz="2800" spc="-1" strike="noStrike">
              <a:solidFill>
                <a:srgbClr val="e6e6d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6e6da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6e6da"/>
                </a:solidFill>
                <a:latin typeface="Verdana"/>
              </a:rPr>
              <a:t>Advertising</a:t>
            </a:r>
            <a:endParaRPr b="0" lang="en-US" sz="2800" spc="-1" strike="noStrike">
              <a:solidFill>
                <a:srgbClr val="e6e6d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95200"/>
            </a:gs>
            <a:gs pos="100000">
              <a:srgbClr val="76905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967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Verdana"/>
              </a:rPr>
              <a:t>Paths for Every Pace</a:t>
            </a:r>
            <a:endParaRPr b="1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3f2d9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6e6da"/>
                </a:solidFill>
                <a:latin typeface="Verdana"/>
              </a:rPr>
              <a:t>Beginner</a:t>
            </a:r>
            <a:endParaRPr b="0" lang="en-US" sz="2800" spc="-1" strike="noStrike">
              <a:solidFill>
                <a:srgbClr val="e6e6d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3f2d9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6e6da"/>
                </a:solidFill>
                <a:latin typeface="Verdana"/>
              </a:rPr>
              <a:t>Intermediate</a:t>
            </a:r>
            <a:endParaRPr b="0" lang="en-US" sz="2800" spc="-1" strike="noStrike">
              <a:solidFill>
                <a:srgbClr val="e6e6d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3f2d9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6e6da"/>
                </a:solidFill>
                <a:latin typeface="Verdana"/>
              </a:rPr>
              <a:t>Experienced</a:t>
            </a:r>
            <a:endParaRPr b="0" lang="en-US" sz="2800" spc="-1" strike="noStrike">
              <a:solidFill>
                <a:srgbClr val="e6e6d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95200"/>
            </a:gs>
            <a:gs pos="100000">
              <a:srgbClr val="76905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3967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Verdana"/>
              </a:rPr>
              <a:t>Advertising</a:t>
            </a:r>
            <a:endParaRPr b="1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3f2d9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6e6da"/>
                </a:solidFill>
                <a:latin typeface="Verdana"/>
              </a:rPr>
              <a:t>Newspapers</a:t>
            </a:r>
            <a:endParaRPr b="0" lang="en-US" sz="2800" spc="-1" strike="noStrike">
              <a:solidFill>
                <a:srgbClr val="e6e6d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3f2d9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6e6da"/>
                </a:solidFill>
                <a:latin typeface="Verdana"/>
              </a:rPr>
              <a:t>Flyers</a:t>
            </a:r>
            <a:endParaRPr b="0" lang="en-US" sz="2800" spc="-1" strike="noStrike">
              <a:solidFill>
                <a:srgbClr val="e6e6d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3f2d9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6e6da"/>
                </a:solidFill>
                <a:latin typeface="Verdana"/>
              </a:rPr>
              <a:t>Web page</a:t>
            </a:r>
            <a:endParaRPr b="0" lang="en-US" sz="2800" spc="-1" strike="noStrike">
              <a:solidFill>
                <a:srgbClr val="e6e6da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9-24T18:34:58Z</dcterms:created>
  <dc:creator>Pat R. Graves</dc:creator>
  <dc:description/>
  <dc:language>en-US</dc:language>
  <cp:lastModifiedBy>Ms. Malnick</cp:lastModifiedBy>
  <dcterms:modified xsi:type="dcterms:W3CDTF">2004-04-02T18:19:42Z</dcterms:modified>
  <cp:revision>11</cp:revision>
  <dc:subject/>
  <dc:title>Sponsor a Walking Event</dc:title>
</cp:coreProperties>
</file>