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80A2-D636-4DFB-A20E-435993FA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B373-36CE-45F4-BEBD-996C4C7F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C87E-F171-41F3-8651-674D01CB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7101-7747-46E7-A2A8-F4CA1415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C869-0194-4E71-BA71-DC743C83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3799-EA9B-4044-BBE9-30F935D7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A8F5-536B-4C24-B041-01952FEA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2BDC-43DD-43EB-8C38-3C4CDBF7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A0D8-3B30-408D-997C-20954797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13A4-335E-4175-9FC3-0E051B05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30A5-4965-4623-956C-DB4ACA13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134B-15D1-485D-BD52-031F013B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7882-2D38-41B2-921C-FD108744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7315-6B65-4574-8272-34602010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D460-D9B9-4B80-A141-6BA79D8F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999A-4C01-47C7-B6D0-DBCFE613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A136-A236-433C-B323-2603B5FB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D87B-AA2E-45A2-B6FB-741781B9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5571-9E70-4B01-84C3-EAC6FE2E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7529-C50F-4332-8218-ED9875C5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06FB-F6FF-47C4-82D5-639E48F0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0DF2-F5BF-47E0-800B-1292401E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C3A7-D930-48D2-A50E-5D6365D6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30F1-8CD8-4F6E-876B-9F068FC0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1B1B-58F8-4D9C-9272-65C551CFC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EF20-41DE-499F-AE1A-1378D9A32ED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4446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18800" indent="-46152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55040" indent="-22392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90920" indent="-22392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27160" indent="-22392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27160" indent="-22392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27160" indent="-22392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1EB9-0573-46D4-A609-1A45A13C66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3D9E-C801-46CE-8BD6-1AB63881B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9760" algn="ctr">
              <a:spcBef>
                <a:spcPts val="700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25280" algn="ctr"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1160" algn="ctr">
              <a:spcBef>
                <a:spcPts val="601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Impact"/>
              </a:rPr>
              <a:t>Heart</a:t>
            </a: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i="1" lang="en-US" sz="7200" spc="-1" strike="noStrike">
                <a:solidFill>
                  <a:srgbClr val="000000"/>
                </a:solidFill>
                <a:latin typeface="Impact"/>
              </a:rPr>
              <a:t>Smart</a:t>
            </a:r>
            <a:r>
              <a:rPr b="1" i="1" lang="en-US" sz="7200" spc="-1" strike="noStrike">
                <a:solidFill>
                  <a:srgbClr val="000000"/>
                </a:solidFill>
                <a:latin typeface="Impact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Impact"/>
              </a:rPr>
              <a:t>Diet and Exerc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328920" y="4365720"/>
            <a:ext cx="2484360" cy="757080"/>
            <a:chOff x="3328920" y="4365720"/>
            <a:chExt cx="2484360" cy="757080"/>
          </a:xfrm>
        </p:grpSpPr>
        <p:sp>
          <p:nvSpPr>
            <p:cNvPr id="301" name=""/>
            <p:cNvSpPr txBox="1"/>
            <p:nvPr/>
          </p:nvSpPr>
          <p:spPr>
            <a:xfrm>
              <a:off x="5121000" y="4653720"/>
              <a:ext cx="692280" cy="46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10080" y="4485960"/>
              <a:ext cx="895680" cy="636840"/>
              <a:chOff x="4510080" y="4485960"/>
              <a:chExt cx="895680" cy="6368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10080" y="4485960"/>
                <a:ext cx="895680" cy="636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61720" y="4554360"/>
                <a:ext cx="414720" cy="354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aeaea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 txBox="1"/>
            <p:nvPr/>
          </p:nvSpPr>
          <p:spPr>
            <a:xfrm>
              <a:off x="3328920" y="4365720"/>
              <a:ext cx="1669680" cy="44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ur name, Sol5-1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58E146E-8A01-4949-9BC6-1C4CB02824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rt Smart Liv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34920" y="1592280"/>
            <a:ext cx="5484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regu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right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right when you’r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me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 dr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serts that are good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1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99F899B-6E00-46C4-A59D-B560679254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SzPct val="2057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hort walks several times each day keep your heart i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2057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duces the risk of heart disease and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wers cholesterol, blood pressure,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lking is a mood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1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8B99B2A-46E3-4C19-9B1F-85946DFC26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ers Breakfast with Good 4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-hour walks through Central Park led by a Good 4 U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days starting at 5:30, 6:30, and 7: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ends starting at 8, 9,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n discounts on Good 4 U breakf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ons earned for miles wal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ons earned for healthy meals 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1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5F9E5DC-C566-4E4D-BF04-383E309D2E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oin Our 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81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 with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with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hat’s Good 4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1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6296369-C963-4ECC-9874-7C1EB20211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03:31:04Z</dcterms:created>
  <dc:creator>Pat R. Graves</dc:creator>
  <dc:description/>
  <dc:language>en-US</dc:language>
  <cp:lastModifiedBy>Pat Graves</cp:lastModifiedBy>
  <cp:lastPrinted>1996-12-10T19:20:34Z</cp:lastPrinted>
  <dcterms:modified xsi:type="dcterms:W3CDTF">2004-02-06T05:13:36Z</dcterms:modified>
  <cp:revision>43</cp:revision>
  <dc:subject/>
  <dc:title>Be Heart Smart! </dc:title>
</cp:coreProperties>
</file>