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0373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18B2-5516-4B00-AEFC-C432B61F9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2096-578B-4811-8C44-A225B893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99EA-2720-4A7F-941C-25BB13FC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551A-60DF-4796-A881-18FDEB25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43E9-B29A-4043-92E4-C0AE1E466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255D-3F61-42B2-B50F-EBC7BC76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359D-7FAF-41FC-AAB7-C75D2CA2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13FE-8452-4951-A896-A695575C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3369-9378-4DCB-9CEC-65A030F9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AE9D-1C28-4D87-8CC2-4FD77BE6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0906-EC07-4090-B9F2-B2656906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4198-8EDC-4A58-8F42-AE16B426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CF57-32BF-428C-827F-6A5F7EA6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79D5-847B-41D8-BAA4-99D847DA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1101-8656-414C-96FB-97ADFF22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D84D-2073-4672-9475-3BD4DE9CD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EDF0-EFD8-4B24-BAFA-5D6F377A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A760-7A05-494E-8F89-FFE32A5E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1426-0B2F-4BB4-9E80-C3D262F9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380C-3244-41E4-8D39-3E938285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2179-F4B3-4F7C-86E2-BA4857D6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8647-6DBE-404C-BFC9-FDC75B6A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474C-AF18-4C2E-AA50-91E63514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BCD2-20F7-4C8B-9503-A6394049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8D4A-B446-45DA-8116-569105F1703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B153-959A-4E60-9505-F0C5FF56310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Impact"/>
              </a:rPr>
              <a:t>Power Walking</a:t>
            </a: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716360" y="5553000"/>
            <a:ext cx="3888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66"/>
                </a:solidFill>
                <a:latin typeface="Arial"/>
              </a:rPr>
              <a:t>Community Fun</a:t>
            </a:r>
            <a:endParaRPr b="0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192720" y="3968640"/>
            <a:ext cx="2340000" cy="714240"/>
            <a:chOff x="6192720" y="3968640"/>
            <a:chExt cx="2340000" cy="714240"/>
          </a:xfrm>
        </p:grpSpPr>
        <p:sp>
          <p:nvSpPr>
            <p:cNvPr id="98" name=""/>
            <p:cNvSpPr txBox="1"/>
            <p:nvPr/>
          </p:nvSpPr>
          <p:spPr>
            <a:xfrm>
              <a:off x="7880760" y="4240440"/>
              <a:ext cx="651960" cy="44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7305120" y="4082040"/>
              <a:ext cx="843840" cy="600840"/>
              <a:chOff x="7305120" y="4082040"/>
              <a:chExt cx="843840" cy="600840"/>
            </a:xfrm>
          </p:grpSpPr>
          <p:sp>
            <p:nvSpPr>
              <p:cNvPr id="100" name=""/>
              <p:cNvSpPr/>
              <p:nvPr/>
            </p:nvSpPr>
            <p:spPr>
              <a:xfrm>
                <a:off x="7305120" y="4082040"/>
                <a:ext cx="843840" cy="6008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542000" y="4146840"/>
                <a:ext cx="390600" cy="3348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 txBox="1"/>
            <p:nvPr/>
          </p:nvSpPr>
          <p:spPr>
            <a:xfrm>
              <a:off x="6192720" y="3968640"/>
              <a:ext cx="1572840" cy="42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04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Impact"/>
              </a:rPr>
              <a:t>Come Walk!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ctober 26, 200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vember 11, 200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entral Park loop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spect Park loop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 walks guid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ee refreshments afterw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04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Impact"/>
              </a:rPr>
              <a:t>Central Park Walks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uter loop (approx. 6 mil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ner loop (approx. 4 mil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ervoir (approx. 1.5 mil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01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Impact"/>
              </a:rPr>
              <a:t>Prospect Park Walks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uter loop (approx. 3.3 mil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ddle loop (approx. 2.7 mil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ner loop (approx. 2.1 mil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1T23:23:12Z</dcterms:created>
  <dc:creator>Pat R. Graves</dc:creator>
  <dc:description/>
  <dc:language>en-US</dc:language>
  <cp:lastModifiedBy>Ms. Malnick</cp:lastModifiedBy>
  <cp:lastPrinted>1997-06-05T14:58:14Z</cp:lastPrinted>
  <dcterms:modified xsi:type="dcterms:W3CDTF">2004-04-02T18:16:47Z</dcterms:modified>
  <cp:revision>37</cp:revision>
  <dc:subject/>
  <dc:title>Power Walking</dc:title>
</cp:coreProperties>
</file>