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3C4-CE98-454A-818F-22B02CF5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25800" y="396720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28A-0E5F-4C12-8974-5DF37B9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2536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FDF-D51D-4246-BE54-2B386A8F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484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4424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2580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3484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4424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56-787D-4DB9-922B-FB21AC65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E5F2-B655-41D4-91B1-3C80E835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5980-9594-40E2-B909-4FFA5E76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07F9-5DD9-4F6D-8747-60A9A5C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B49A-F53C-4348-BDAC-7967DA1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AC8F-8E4B-4F7B-AB86-90F1855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50720" y="910800"/>
            <a:ext cx="779292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9CB-D0B0-4FCB-9576-81E9B7D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C00-8222-4B17-9668-42704E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A03-1EC5-4DF4-A8C7-1B1A25E0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2536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400-9BDE-4A8B-AD34-4E4B5E7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6E20-84F0-4826-8DF8-3473797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25800" y="396720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0B3-E103-4DFE-937C-0708EED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62536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D120-1292-4851-9748-5D5EE773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3484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4240" y="247284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12580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43484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744240" y="3967200"/>
            <a:ext cx="219888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FE4-29E5-4211-A875-9ADD322A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3A6-6D39-48C0-964C-DBAB10DD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F38-F037-438D-A718-38F96B8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7E9-7757-436A-B64A-64CC28E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910800"/>
            <a:ext cx="779292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411-D3CB-4427-828A-1624CBD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88E-0016-414E-B910-C99B7D88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25360" y="396720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9EA-39BA-42AD-B234-21C8F4F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25360" y="2472840"/>
            <a:ext cx="333252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5800" y="3967200"/>
            <a:ext cx="682920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89C-9CFC-4F03-8EAC-B44AEDD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964680" y="-3380760"/>
            <a:ext cx="1214280" cy="9144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lide </a:t>
            </a:r>
            <a:fld id="{B30DCDD7-FCC9-4B8C-9158-804B31B07849}" type="slidenum"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02920" y="0"/>
            <a:ext cx="720720" cy="6858000"/>
            <a:chOff x="502920" y="0"/>
            <a:chExt cx="720720" cy="6858000"/>
          </a:xfrm>
        </p:grpSpPr>
        <p:sp>
          <p:nvSpPr>
            <p:cNvPr id="5" name=""/>
            <p:cNvSpPr/>
            <p:nvPr/>
          </p:nvSpPr>
          <p:spPr>
            <a:xfrm flipH="1" rot="5400000">
              <a:off x="-2526840" y="3353760"/>
              <a:ext cx="6858000" cy="150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-2745720" y="3248640"/>
              <a:ext cx="6858000" cy="360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5400000">
              <a:off x="-2385360" y="3249000"/>
              <a:ext cx="6858000" cy="360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 rot="5400000">
            <a:off x="4279680" y="-2763720"/>
            <a:ext cx="584280" cy="914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4298760" y="-3786120"/>
            <a:ext cx="546120" cy="91440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05080" indent="-19404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777240" indent="-15516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087920" indent="-15516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398960" indent="-15516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398960" indent="-1551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398960" indent="-1551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39640" y="0"/>
            <a:ext cx="2229120" cy="6858000"/>
            <a:chOff x="539640" y="0"/>
            <a:chExt cx="2229120" cy="6858000"/>
          </a:xfrm>
        </p:grpSpPr>
        <p:sp>
          <p:nvSpPr>
            <p:cNvPr id="49" name=""/>
            <p:cNvSpPr/>
            <p:nvPr/>
          </p:nvSpPr>
          <p:spPr>
            <a:xfrm>
              <a:off x="934920" y="0"/>
              <a:ext cx="1366920" cy="68580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01840" y="0"/>
              <a:ext cx="466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640" y="0"/>
              <a:ext cx="466920" cy="685800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360" y="1413000"/>
            <a:ext cx="9144000" cy="1872720"/>
            <a:chOff x="-360" y="1413000"/>
            <a:chExt cx="9144000" cy="1872720"/>
          </a:xfrm>
        </p:grpSpPr>
        <p:sp>
          <p:nvSpPr>
            <p:cNvPr id="55" name=""/>
            <p:cNvSpPr/>
            <p:nvPr/>
          </p:nvSpPr>
          <p:spPr>
            <a:xfrm flipH="1">
              <a:off x="-720" y="1809720"/>
              <a:ext cx="9143640" cy="863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601720"/>
              <a:ext cx="9143640" cy="684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413000"/>
              <a:ext cx="9143640" cy="684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538-EBA2-4D1C-8D96-511F9478C870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1031760" y="1477440"/>
            <a:ext cx="762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24040" y="3759120"/>
            <a:ext cx="1706400" cy="520920"/>
            <a:chOff x="824040" y="3759120"/>
            <a:chExt cx="1706400" cy="520920"/>
          </a:xfrm>
        </p:grpSpPr>
        <p:sp>
          <p:nvSpPr>
            <p:cNvPr id="61" name=""/>
            <p:cNvSpPr txBox="1"/>
            <p:nvPr/>
          </p:nvSpPr>
          <p:spPr>
            <a:xfrm>
              <a:off x="2054880" y="3957480"/>
              <a:ext cx="475560" cy="3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35120" y="3841920"/>
              <a:ext cx="615240" cy="438120"/>
              <a:chOff x="1635120" y="3841920"/>
              <a:chExt cx="615240" cy="438120"/>
            </a:xfrm>
          </p:grpSpPr>
          <p:sp>
            <p:nvSpPr>
              <p:cNvPr id="63" name=""/>
              <p:cNvSpPr/>
              <p:nvPr/>
            </p:nvSpPr>
            <p:spPr>
              <a:xfrm>
                <a:off x="1635120" y="3841920"/>
                <a:ext cx="615240" cy="4381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07920" y="3889080"/>
                <a:ext cx="284760" cy="244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 txBox="1"/>
            <p:nvPr/>
          </p:nvSpPr>
          <p:spPr>
            <a:xfrm>
              <a:off x="824040" y="3759120"/>
              <a:ext cx="1146960" cy="30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4849920"/>
            <a:ext cx="1363680" cy="1846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ahoma"/>
              </a:rPr>
              <a:t>Click to edit the outline text format</a:t>
            </a:r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1760" y="1477440"/>
            <a:ext cx="762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Food Concession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8640" y="4137120"/>
            <a:ext cx="5257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ahoma"/>
              </a:rPr>
              <a:t>Power Walk</a:t>
            </a:r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ahoma"/>
              </a:rPr>
              <a:t>November 2004</a:t>
            </a:r>
            <a:endParaRPr b="1" i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0280" y="3757680"/>
            <a:ext cx="1706400" cy="520560"/>
            <a:chOff x="800280" y="3757680"/>
            <a:chExt cx="1706400" cy="520560"/>
          </a:xfrm>
        </p:grpSpPr>
        <p:sp>
          <p:nvSpPr>
            <p:cNvPr id="107" name=""/>
            <p:cNvSpPr txBox="1"/>
            <p:nvPr/>
          </p:nvSpPr>
          <p:spPr>
            <a:xfrm>
              <a:off x="2031120" y="3955680"/>
              <a:ext cx="475560" cy="3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11360" y="3840480"/>
              <a:ext cx="615240" cy="437760"/>
              <a:chOff x="1611360" y="3840480"/>
              <a:chExt cx="615240" cy="437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11360" y="3840480"/>
                <a:ext cx="615240" cy="4377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84160" y="3887640"/>
                <a:ext cx="284760" cy="2437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 txBox="1"/>
            <p:nvPr/>
          </p:nvSpPr>
          <p:spPr>
            <a:xfrm>
              <a:off x="800280" y="3757680"/>
              <a:ext cx="1146960" cy="30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47880" y="4848120"/>
            <a:ext cx="136368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e new customers to Good 4 U food and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sales to current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in name recognition with potential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7AF-0EB4-4578-84A9-E37F01AE7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Market Condi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Walk event brings new customers to Good 4 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sports and fitness creates interest in Good 4 U p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E5E-75C2-41D0-9AC4-4405F1E75E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dvertis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25800" y="2472840"/>
            <a:ext cx="68292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-shirts and water bot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u flyers and fol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s” fly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pons for Power Walk particip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4EB-B62A-4497-9904-AC9104DD40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9108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ports Drink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20810400">
            <a:off x="3409920" y="239364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oco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768000">
            <a:off x="1400040" y="3127320"/>
            <a:ext cx="2239920" cy="3390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20810400">
            <a:off x="4098960" y="301896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ectro Fiz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810400">
            <a:off x="4690440" y="362592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dro Coo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810400">
            <a:off x="5357160" y="432396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er L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810400">
            <a:off x="6058440" y="4894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wer Pu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0A1-81F1-4434-83E8-C8EF97F43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0:57:26Z</dcterms:created>
  <dc:creator>Pat R. Graves</dc:creator>
  <dc:description/>
  <dc:language>en-US</dc:language>
  <cp:lastModifiedBy>Ms. Malnick</cp:lastModifiedBy>
  <cp:lastPrinted>1997-06-05T18:43:40Z</cp:lastPrinted>
  <dcterms:modified xsi:type="dcterms:W3CDTF">2004-04-02T18:14:24Z</dcterms:modified>
  <cp:revision>26</cp:revision>
  <dc:subject/>
  <dc:title>Power Walk Food Concession</dc:title>
</cp:coreProperties>
</file>