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DDF0-77B3-483F-A6E4-DC1A98FA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027D-EF29-4EE0-AA55-C37C658E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3A65-E828-4F6D-B4BB-50BB8875C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35F1-88CD-40FE-96F9-3DC9EB734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B8CE-7593-4AAA-82F5-88DADF3D4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EAA4-B54E-474E-A60E-9799D3E8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5811-7163-4147-A2B3-E4C7C993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7413-9756-473F-97D2-21DDB3A7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B2AB-321C-4EAB-9F77-760B8208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40A5-86FF-43EE-98C0-AFF661F3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0851-8C27-48C4-A0BC-F25C5707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4BD0-1E89-4E27-83F6-3BA0AF63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B5BA-4270-44EE-B5A3-A6A238B5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8297-D740-427A-A692-68A0BD6B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1B21-7220-4D8D-AE46-EDC76D5C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1F9E-5167-479E-B970-802F659A3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9530-3C6C-4C2C-88E6-8ECFD3416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985A-9DEF-4983-970C-886EC7DF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27CD-B13A-4C37-AF85-21252E8A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3D40-312B-4ED7-A679-C6996449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5573-DDDA-4EC4-8D52-65FB8C01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02F4-715F-4BEB-B498-01154E13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C478-B857-466F-82CE-537D3596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B872-94B0-4731-BEA4-F4CC81CB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40000"/>
              <a:buFont typeface="Wingdings 2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BCF6-11E4-4D86-BC0D-B975B0D9648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E424-E27F-4524-8FF0-7DBCE34A271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9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algn="ctr"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algn="ctr"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algn="ctr">
              <a:spcBef>
                <a:spcPts val="47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Power Walking Event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71800" y="3427560"/>
            <a:ext cx="5710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Narrow"/>
              </a:rPr>
              <a:t>Good 4 U – November 2004</a:t>
            </a:r>
            <a:endParaRPr b="0" lang="en-US" sz="39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40000"/>
              <a:buFont typeface="Wingdings 2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ncrease recognition of Good 4 U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40000"/>
              <a:buFont typeface="Wingdings 2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Attract target clientel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(fitness and sports participants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40000"/>
              <a:buFont typeface="Wingdings 2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nterest a wider clientele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40000"/>
              <a:buFont typeface="Wingdings 2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Advertise power walking for health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40000"/>
              <a:buFont typeface="Wingdings 2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Organize power walking seminar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40000"/>
              <a:buFont typeface="Wingdings 2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nterest other sponsor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40000"/>
              <a:buFont typeface="Wingdings 2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Make power walking an annual even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40000"/>
              <a:buFont typeface="Wingdings 2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chedule “paths for every pace”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Participant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720" y="1827360"/>
            <a:ext cx="654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40000"/>
              <a:buFont typeface="Wingdings 2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Local sports figure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40000"/>
              <a:buFont typeface="Wingdings 2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Good 4 U staff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40000"/>
              <a:buFont typeface="Wingdings 2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ark personn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40000"/>
              <a:buFont typeface="Wingdings 2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ommunity member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7T16:56:48Z</dcterms:created>
  <dc:creator>Pat R. Graves</dc:creator>
  <dc:description/>
  <dc:language>en-US</dc:language>
  <cp:lastModifiedBy>Pat Graves</cp:lastModifiedBy>
  <dcterms:modified xsi:type="dcterms:W3CDTF">2004-02-07T17:28:01Z</dcterms:modified>
  <cp:revision>4</cp:revision>
  <dc:subject/>
  <dc:title>Power Walking Event Good 4 U – November 2004</dc:title>
</cp:coreProperties>
</file>