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E0F5-3680-4AE9-8AD5-2DAB6FD4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45DB-FFCD-47EF-8341-AB8F7A62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91A2-E0A2-42FD-AC02-53A673FC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ABD8-50B0-428D-8471-61366D54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5D61-8236-4BD2-AAF7-109B51B8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B994-FE11-460E-A98F-83B7CDB4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EE2D-B8B7-4BA3-9C41-0A125477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24CF-7A47-4A8F-B489-D6F9A7FB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2E76-0A62-45E7-905F-96A1D593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5D10-50F9-4CAC-B441-4870C6C9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F4EA-70E6-4B28-8F01-50A63BE5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D3B9-A1AC-4E51-B652-1B4108C3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C244-B33A-400B-8AB8-1C5687D3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CB9F-8E66-42C3-9FB4-9574DD4B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5833-1635-40FB-A4BC-DAC902F9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0599-AAD3-4A00-AD86-91D4DED1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D5CA-3D72-4511-B226-CFEBCFCB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4F7A-870A-4A48-84AB-9AD3B83E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92BB-F742-4B4A-A476-C0E99CEA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F754-AF4E-4471-92E3-6F21AA1F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2C4F-4EEE-4B31-B4B9-F7490E74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1C49-C1F9-4D87-8CF9-37691AA2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469E-30B4-4E05-8577-8362C817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F0E1-6BD9-4663-AE16-00DA31C8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4433-A45F-4CB1-AF01-7851CE04248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4572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0280" indent="-4402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1" marL="1008360" indent="-456840">
              <a:spcBef>
                <a:spcPts val="9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2" marL="1341000" indent="-22140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3" marL="1673640" indent="-221400">
              <a:spcBef>
                <a:spcPts val="9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4" marL="2006280" indent="-22140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5" marL="2006280" indent="-22140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6" marL="2006280" indent="-22140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29DA-BDB0-4EFA-893E-20C1F50D282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lvl="1" marL="4431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886680" indent="232560" algn="ctr">
              <a:spcBef>
                <a:spcPts val="700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330200" indent="121320" algn="ctr"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4" marL="1773720" indent="10800" algn="ctr">
              <a:spcBef>
                <a:spcPts val="601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5" marL="1773720" indent="1080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6" marL="1773720" indent="1080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Heart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mart!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5373360"/>
            <a:ext cx="64008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Diet and Exercise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328920" y="4365720"/>
            <a:ext cx="2484360" cy="757080"/>
            <a:chOff x="3328920" y="4365720"/>
            <a:chExt cx="2484360" cy="757080"/>
          </a:xfrm>
        </p:grpSpPr>
        <p:sp>
          <p:nvSpPr>
            <p:cNvPr id="301" name=""/>
            <p:cNvSpPr txBox="1"/>
            <p:nvPr/>
          </p:nvSpPr>
          <p:spPr>
            <a:xfrm>
              <a:off x="5121000" y="4653720"/>
              <a:ext cx="692280" cy="46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510080" y="4485960"/>
              <a:ext cx="895680" cy="636840"/>
              <a:chOff x="4510080" y="4485960"/>
              <a:chExt cx="895680" cy="636840"/>
            </a:xfrm>
          </p:grpSpPr>
          <p:sp>
            <p:nvSpPr>
              <p:cNvPr id="303" name=""/>
              <p:cNvSpPr/>
              <p:nvPr/>
            </p:nvSpPr>
            <p:spPr>
              <a:xfrm>
                <a:off x="4510080" y="4485960"/>
                <a:ext cx="895680" cy="6368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61720" y="4554360"/>
                <a:ext cx="414720" cy="3546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eaeaea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 txBox="1"/>
            <p:nvPr/>
          </p:nvSpPr>
          <p:spPr>
            <a:xfrm>
              <a:off x="3328920" y="4365720"/>
              <a:ext cx="1669680" cy="44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ur Name, Sol5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Heart Smart Living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xercise regularl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453960" indent="-453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t right at hom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453960" indent="-45396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t right when you’re ou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1" marL="1039680" indent="-4712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ealthy meal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1039680" indent="-4712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ports drink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1039680" indent="-4712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sserts that are good for you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3920" indent="-40392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HORT WALKS SEVERAL TIMES EACH DAY KEEP YOUR HEART IN SHAP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403920" indent="-40392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alking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1" marL="925200" indent="-4194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duces the risk of heart disease and cance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925200" indent="-4194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owers cholesterol, blood pressure, and stres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403920" indent="-40392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alking is a mood elevato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Walkers Breakfast with Good 4 U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9240" indent="-39924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Half-hour walks through Central Park led by a Good 4 U guid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1" marL="914760" indent="-41436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ekdays starting at 5:30, 6:30, and 7:30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914760" indent="-41436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ekends starting at 8, 9, and 10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99240" indent="-39924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rn discounts on Good 4 U breakfast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1" marL="914760" indent="-41436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upons earned for miles walked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914760" indent="-41436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upons earned for healthy meals ordered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Join Our Team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rn Good 4 U discount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453960" indent="-453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t right on u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2T03:31:04Z</dcterms:created>
  <dc:creator>Pat R. Graves</dc:creator>
  <dc:description/>
  <dc:language>en-US</dc:language>
  <cp:lastModifiedBy>Student Name</cp:lastModifiedBy>
  <cp:lastPrinted>1996-12-10T19:20:34Z</cp:lastPrinted>
  <dcterms:modified xsi:type="dcterms:W3CDTF">2004-07-07T04:36:10Z</dcterms:modified>
  <cp:revision>40</cp:revision>
  <dc:subject/>
  <dc:title>Be Heart Smart! </dc:title>
</cp:coreProperties>
</file>