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400-7ADA-4EAC-AB73-105BFFF1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84B5-F5B1-4A9E-BCDA-1D288D62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3E4-4203-40B5-878E-0488B8FE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A80-84A4-4C76-A537-9BFCEA8B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D93B-0BAF-49E5-8501-EF583FB4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14CA-DCE3-40C3-AD02-5D1CEEF5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996F-5B9D-41E8-A1CB-0F400F4D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17C7-9E81-4AF7-9CE3-253EEAB0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F401-5176-4B4B-A512-D48C6AB6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360" y="351000"/>
            <a:ext cx="7157880" cy="65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7CBA-5074-470F-8AE5-2E90A3B8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7CD9-2DC9-4608-B193-19BDC829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2E3-FD6B-4252-BD07-91533D13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95FC-147E-4F26-A5E9-A015ECB1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1EE2-4C05-4236-AB00-264EB028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AA6E-6E56-45DD-A923-0019FA71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7F3A-A347-47D6-97A6-0D7A1A33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BC7F-1869-4E05-A95A-97F85E61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255-76E5-464C-A65A-A8328390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AF4-2CBE-4362-9114-9D376A3C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6C1-2FDC-43A1-9C96-B5AD66D1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360" y="351000"/>
            <a:ext cx="7157880" cy="65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4CE-7028-46CC-B7CE-C38239C5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2DA-60EA-4BE2-99F6-394D1F76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10C-42CA-4260-BE53-3B72614A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CCC5-2130-49A9-9D4E-4FD75C91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9aac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aac9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8DFC-7338-4E2F-A76D-1FCF10B78D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2514600" cy="251460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676520"/>
            <a:ext cx="4724280" cy="1143000"/>
          </a:xfrm>
          <a:prstGeom prst="rect">
            <a:avLst/>
          </a:prstGeom>
          <a:solidFill>
            <a:srgbClr val="9aac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1676520"/>
            <a:ext cx="47242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aac9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835B-9A47-455F-8A10-0459F2F09F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3880"/>
            <a:ext cx="228600" cy="14493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848720" y="1209600"/>
            <a:ext cx="261720" cy="13716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Power Walking</a:t>
            </a:r>
            <a:endParaRPr b="0" lang="en-US" sz="54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29160" y="4047840"/>
            <a:ext cx="39765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ty F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812960" y="3762360"/>
            <a:ext cx="2633400" cy="803160"/>
            <a:chOff x="1812960" y="3762360"/>
            <a:chExt cx="2633400" cy="803160"/>
          </a:xfrm>
        </p:grpSpPr>
        <p:sp>
          <p:nvSpPr>
            <p:cNvPr id="94" name=""/>
            <p:cNvSpPr txBox="1"/>
            <p:nvPr/>
          </p:nvSpPr>
          <p:spPr>
            <a:xfrm>
              <a:off x="3712680" y="4068000"/>
              <a:ext cx="733680" cy="49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065040" y="3889800"/>
              <a:ext cx="949680" cy="675360"/>
              <a:chOff x="3065040" y="3889800"/>
              <a:chExt cx="949680" cy="675360"/>
            </a:xfrm>
          </p:grpSpPr>
          <p:sp>
            <p:nvSpPr>
              <p:cNvPr id="96" name=""/>
              <p:cNvSpPr/>
              <p:nvPr/>
            </p:nvSpPr>
            <p:spPr>
              <a:xfrm>
                <a:off x="3065040" y="3889800"/>
                <a:ext cx="949680" cy="6753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31800" y="3962520"/>
                <a:ext cx="439560" cy="376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 txBox="1"/>
            <p:nvPr/>
          </p:nvSpPr>
          <p:spPr>
            <a:xfrm>
              <a:off x="1812960" y="3762360"/>
              <a:ext cx="1770120" cy="47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Walk with Us!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26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ation by September 20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ark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entral Park Power Walk Paths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 loop (approx. 6 m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er loop (approx. 4 m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oir (approx. 1.5 m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Power Walks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athon: 26.2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 Marathon: 13.1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e Paths: 4 times around the reservo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ood 4 U Sponsorship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4 U power walk t-shi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4 U water bot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600680" cy="14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ood 4 U Training Headquarters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wa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wal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1T23:23:12Z</dcterms:created>
  <dc:creator>Pat R. Graves</dc:creator>
  <dc:description/>
  <dc:language>en-US</dc:language>
  <cp:lastModifiedBy>Pat Graves</cp:lastModifiedBy>
  <cp:lastPrinted>1996-12-13T19:30:40Z</cp:lastPrinted>
  <dcterms:modified xsi:type="dcterms:W3CDTF">2004-02-06T18:02:02Z</dcterms:modified>
  <cp:revision>28</cp:revision>
  <dc:subject/>
  <dc:title>Power Walking</dc:title>
</cp:coreProperties>
</file>