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22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22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203-7FE3-4A0D-8101-96DDA11F1232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9480" y="71424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1" lang="en-US" sz="6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65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09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709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ADB8-EE7E-4B78-9939-2E09F4246E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71424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65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cuss how waste reduction is cost-effec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71424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65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ntion our targeted percentages for the coming y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D0D-B7FF-4017-A7B5-1A9AA2DD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C4F-62BA-4BB0-9264-60677105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59B-10D9-40A7-84EB-C151E87B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219-E10E-42F4-BD3C-DCBB9C52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7F63-FDBB-438D-B0A1-D8269EC5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CA6F-6426-43EF-A21E-5343AD05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A20-F090-453C-A933-653A8976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E8B4-12C7-41C0-815D-93D58706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5F5-1AD1-43C4-AA88-171036CA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1F69-EF14-4908-8029-D10DFB5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E815-4D88-441F-914A-B6BDC3C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F25-FA82-4D54-99C5-024253A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CC3A-9384-4FAA-B29E-CA46CD6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63E-C84C-44FC-B395-26EAA22D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1E4-4261-4CDF-9477-B508332A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2CDB-F85D-4209-9EBF-D976A0BA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B670-0ACA-4A5E-89CB-41D130F5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A1D-40DA-45AA-A360-A4C0B0B3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B47-0D2A-43E9-B7F8-EDF5D982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22C-6104-44B0-BA7B-DA3D8D0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98B-8BA5-474B-ADF3-DFE2B6C8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A3D-BF25-4CD9-8C52-C8B747D6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26F-E42D-472E-8765-E9328A5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C8C-150A-4911-81C3-165A587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076D-28D5-49B3-A25D-15F8A46C1D1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7B1F-47A8-4024-8D98-EE404CB205A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Recycling Program</a:t>
            </a:r>
            <a:endParaRPr b="1" lang="en-US" sz="6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nagement Train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600360" y="5300640"/>
            <a:ext cx="1904760" cy="581040"/>
            <a:chOff x="3600360" y="5300640"/>
            <a:chExt cx="1904760" cy="581040"/>
          </a:xfrm>
        </p:grpSpPr>
        <p:sp>
          <p:nvSpPr>
            <p:cNvPr id="94" name=""/>
            <p:cNvSpPr txBox="1"/>
            <p:nvPr/>
          </p:nvSpPr>
          <p:spPr>
            <a:xfrm>
              <a:off x="4974480" y="552168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506120" y="5392800"/>
              <a:ext cx="686880" cy="488520"/>
              <a:chOff x="4506120" y="5392800"/>
              <a:chExt cx="686880" cy="488520"/>
            </a:xfrm>
          </p:grpSpPr>
          <p:sp>
            <p:nvSpPr>
              <p:cNvPr id="96" name=""/>
              <p:cNvSpPr/>
              <p:nvPr/>
            </p:nvSpPr>
            <p:spPr>
              <a:xfrm>
                <a:off x="4506120" y="539280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99080" y="544536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b1f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98" name=""/>
            <p:cNvSpPr txBox="1"/>
            <p:nvPr/>
          </p:nvSpPr>
          <p:spPr>
            <a:xfrm>
              <a:off x="3600360" y="530064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cycling for the Future</a:t>
            </a: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duce </a:t>
            </a: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wast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duce </a:t>
            </a: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cost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reduce </a:t>
            </a: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landfill overload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Goals</a:t>
            </a: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cycle more of our wast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se recycled produc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mote community recycl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Local Recyclers</a:t>
            </a: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2133720"/>
            <a:ext cx="38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ampton Pape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800-555-9876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54520" y="3968640"/>
            <a:ext cx="328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rion Mil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800-555-1234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066560" y="2133720"/>
            <a:ext cx="494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annon Box Compan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800-555-543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114440" y="3968640"/>
            <a:ext cx="42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dy’s Scrap Met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57040" indent="-257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800-555-6565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Available Options</a:t>
            </a: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se local recycling cart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Small fees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Some recyclables pay for themselves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nate deposit items to schoo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arge extra costs to advertising accou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tract with local recycl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rder recycled produc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stall bins for customer recycl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Aluminum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Glass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Plastic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Newspapers</a:t>
            </a:r>
            <a:endParaRPr b="0" i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Pat R. Graves</dc:creator>
  <dc:description/>
  <dc:language>en-US</dc:language>
  <cp:lastModifiedBy>Pat Graves</cp:lastModifiedBy>
  <cp:lastPrinted>1996-10-02T02:41:14Z</cp:lastPrinted>
  <dcterms:modified xsi:type="dcterms:W3CDTF">2004-03-31T18:21:16Z</dcterms:modified>
  <cp:revision>18</cp:revision>
  <dc:subject/>
  <dc:title>Good 4 U Restaurant</dc:title>
</cp:coreProperties>
</file>