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216E-F023-464E-A526-E3572DF5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6ED1-2D6B-4CEF-96DA-0DD9BE97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2967-C90C-471F-BFC5-6F37C7D4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460A-8C34-4B99-9F56-FFC6ECFC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7D5F-47F3-43EF-AE42-0071EEB9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3467-CA6B-478B-99B1-9511EA05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35EF-978C-4A32-A1DE-95E4DBC3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C573-7662-4AB2-A0F3-07434D22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3410-D02A-4FF6-B43D-FD19B4F6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A18A-9D7A-4DF1-8CEC-761ADD22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B09D-062E-41DE-AD43-920BBE3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25AE-B980-4B10-A2D5-F08C08E0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555A-CAB4-4ED3-A160-846007BB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ADD9-91B1-4F1C-AC88-4103EC2A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C95F-665F-4FF5-800B-3DF3F369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FCB6-2C4A-4ED3-B82E-8F8755C8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F446-11D8-42DE-97EC-9837BD1E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7288-85A6-4CFF-A5AB-A9F935DD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820A-8E90-4A5E-839A-CFD9BB1A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ECA1-4B10-4F8D-8564-B6DCFECB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F5A5-CDE5-4A1B-9738-54DE475B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4C4B-A6BF-4F50-BDA9-DB694566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33C0-1F2A-4ABB-B642-43103A4F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FA1A-0568-46DF-8FC9-07880284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297B-DFE6-4C5E-88A9-B601BA83F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1ECB-7239-4F12-A85F-BEF694CBFD7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44460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18800" indent="-461520">
              <a:spcBef>
                <a:spcPts val="901"/>
              </a:spcBef>
              <a:buClr>
                <a:srgbClr val="ff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55040" indent="-22392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90920" indent="-2239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27160" indent="-22392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27160" indent="-22392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27160" indent="-22392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30F4-B9A8-4811-9D69-3E3E296BAC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A791-814B-4960-8DCF-C69980440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9760" algn="ctr">
              <a:spcBef>
                <a:spcPts val="700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5280" algn="ctr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1160" algn="ctr">
              <a:spcBef>
                <a:spcPts val="601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Impact"/>
              </a:rPr>
              <a:t>Heart Smart!</a:t>
            </a:r>
            <a:endParaRPr b="0" lang="en-US" sz="5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02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t and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328920" y="4365720"/>
            <a:ext cx="2484360" cy="757080"/>
            <a:chOff x="3328920" y="4365720"/>
            <a:chExt cx="2484360" cy="757080"/>
          </a:xfrm>
        </p:grpSpPr>
        <p:sp>
          <p:nvSpPr>
            <p:cNvPr id="301" name=""/>
            <p:cNvSpPr txBox="1"/>
            <p:nvPr/>
          </p:nvSpPr>
          <p:spPr>
            <a:xfrm>
              <a:off x="5121000" y="4653720"/>
              <a:ext cx="692280" cy="46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10080" y="4485960"/>
              <a:ext cx="895680" cy="636840"/>
              <a:chOff x="4510080" y="4485960"/>
              <a:chExt cx="895680" cy="6368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10080" y="4485960"/>
                <a:ext cx="895680" cy="636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61720" y="4554360"/>
                <a:ext cx="414720" cy="354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aeae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3328920" y="4365720"/>
              <a:ext cx="1669680" cy="4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Heart Smart Living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rcise regul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at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when you’r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 me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s dr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serts that are good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walks several times each day keep your heart in 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l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he risk of heart disease and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s cholesterol, blood pressure, and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lking is a mood elev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Walk to Good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Walkers Breakfast with Good 4 U</a:t>
            </a:r>
            <a:endParaRPr b="0" lang="en-US" sz="36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-hour walks through Central Park led by a Good 4 U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days starting at 5:30, 6:30, and 7: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ends starting at 8, 9,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 discounts on Good 4 U breakf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miles wal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ff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healthy meals 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Join Our Team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lk with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with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901"/>
              </a:spcBef>
              <a:buClr>
                <a:srgbClr val="ff0000"/>
              </a:buClr>
              <a:buSzPct val="11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what’s Good 4 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Pat Graves</cp:lastModifiedBy>
  <cp:lastPrinted>1996-12-10T19:20:34Z</cp:lastPrinted>
  <dcterms:modified xsi:type="dcterms:W3CDTF">2004-02-06T07:53:56Z</dcterms:modified>
  <cp:revision>45</cp:revision>
  <dc:subject/>
  <dc:title>Be Heart Smart! </dc:title>
</cp:coreProperties>
</file>