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4E34-A74C-4623-ABC0-CDD82E7A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EA5F-0724-4C70-95A1-D2035933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2867-5E32-4798-A0D5-A713BD05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FE93-5029-4D71-8A37-CC3CBFEB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64E6-CE3D-4F80-910F-38BA8263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0DEE-D4A7-4BBB-BC9B-E19B5816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F293-350F-4FB8-A9F5-D19AFE4F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75F4-7079-4B7E-AD5C-644AE0DF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F999-80CC-4A2B-B369-54238800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C538-FA08-4FFC-A66B-EC475E3E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A65A-6397-4B93-ABE4-AF70A08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F86D-6A5D-4FEB-864E-D837770A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706A-FB81-4620-962E-069FECDC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59E6-16EB-427B-A7FB-37A3AC03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4802-98C9-4B37-9245-3317F05C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77AE-028D-4F3E-8545-BE5FEACB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8EE4-3348-4B8D-8691-CF375B41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7BA8-1292-4F60-8218-A8954392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46DD-CBAC-4D87-B478-7516AB0F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D138-F165-4EA6-8627-92DC8F90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A466-5759-46C3-B9FA-08F7EA13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6DF9-9015-44ED-BA9C-D6882514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B10A-311C-4123-A756-363DCF6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7966-87A6-446B-BE61-9E32154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5673-B4A3-4929-92F1-951AA1651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4446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18800" indent="-4615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55040" indent="-22392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90920" indent="-2239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27160" indent="-22392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27160" indent="-22392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27160" indent="-22392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F88D-DE86-429A-85B0-4F9F8C5A1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9760" algn="ctr">
              <a:spcBef>
                <a:spcPts val="700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25280" algn="ctr"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1160" algn="ctr">
              <a:spcBef>
                <a:spcPts val="601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Impact"/>
              </a:rPr>
              <a:t>Heart</a:t>
            </a: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Smar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5373360"/>
            <a:ext cx="64008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Impact"/>
              </a:rPr>
              <a:t>Diet and Exerc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328920" y="4365720"/>
            <a:ext cx="2484360" cy="757080"/>
            <a:chOff x="3328920" y="4365720"/>
            <a:chExt cx="2484360" cy="757080"/>
          </a:xfrm>
        </p:grpSpPr>
        <p:sp>
          <p:nvSpPr>
            <p:cNvPr id="301" name=""/>
            <p:cNvSpPr txBox="1"/>
            <p:nvPr/>
          </p:nvSpPr>
          <p:spPr>
            <a:xfrm>
              <a:off x="5121000" y="4653720"/>
              <a:ext cx="692280" cy="46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10080" y="4485960"/>
              <a:ext cx="895680" cy="636840"/>
              <a:chOff x="4510080" y="4485960"/>
              <a:chExt cx="895680" cy="6368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10080" y="4485960"/>
                <a:ext cx="895680" cy="636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61720" y="4554360"/>
                <a:ext cx="414720" cy="354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aeae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3328920" y="4365720"/>
              <a:ext cx="1669680" cy="44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Name, Sol5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rt Smart Liv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rcise regul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at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when you’r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 me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s dr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serts that are good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ort walks several times each day keep your heart 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duces the risk of heart disease and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wers cholesterol, blood pressure,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lking is a mood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rs Breakfast with Good 4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9240" indent="-39924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lf-hour walks through Central Park led by a Good 4 U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days starting at 5:30, 6:30, and 7: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ends starting at 8, 9, and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-39924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 discounts on Good 4 U breakfa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ons earned for miles 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ons earned for healthy meals o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oin Our 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 Good 4 U dis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on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Student Name</cp:lastModifiedBy>
  <cp:lastPrinted>1996-12-10T19:20:34Z</cp:lastPrinted>
  <dcterms:modified xsi:type="dcterms:W3CDTF">2004-07-07T04:35:30Z</dcterms:modified>
  <cp:revision>40</cp:revision>
  <dc:subject/>
  <dc:title>Be Heart Smart! </dc:title>
</cp:coreProperties>
</file>