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150-BBB9-40A1-9B33-0B9AE811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3FE-B097-4633-851F-551AD7A0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B38-07B9-40B5-9E71-C4B3AD68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A2B-858E-4698-B122-969786C3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47C0-F543-4E4C-85F2-732A2C62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708F-AAB2-418D-A098-8560F2B8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41BE-D16A-4B70-97E4-A7E92CB3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6482-1B4E-4199-B13F-375FA4E1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CE4D-6C14-428F-85A9-1BE4FBB7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7010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994E-D851-4F36-8830-974D81B5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3F3E-BB25-450A-98B0-E932051E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BF4-EDD3-4C70-BAFC-0A176F60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C1D2-148D-4083-8EDB-00A5CD78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B46C-5217-4193-9657-8D171C3A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B895-7DD1-47E9-901B-F4E83370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4F94-3906-41FE-9F8F-3E5CD7D1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94E4-B4D3-4F9B-9637-80FE7003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0DB-F81F-4908-8F8E-B5C502B0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B22-EE2D-4C67-8A77-7AA8DA56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B75-9293-4B7A-A052-2E0418CC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7010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35C-71DC-49B6-8535-99826401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FE2-7245-4191-AC1F-6D5F8F71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06C-B248-4BF2-89F2-62EF32E5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12F-C516-4F32-BE42-9F640A0D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b6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369E-EA02-4CB2-BAF7-1DB2EBAE8B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45720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99072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99072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990720"/>
            <a:ext cx="228600" cy="22860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0213-7F6E-4560-88DF-1CACC23EEC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b6b2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Black"/>
              </a:rPr>
              <a:t>Power Wal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16360" y="3645000"/>
            <a:ext cx="3888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unity Fu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68360" y="3681360"/>
            <a:ext cx="2340000" cy="714240"/>
            <a:chOff x="2268360" y="3681360"/>
            <a:chExt cx="2340000" cy="714240"/>
          </a:xfrm>
        </p:grpSpPr>
        <p:sp>
          <p:nvSpPr>
            <p:cNvPr id="93" name=""/>
            <p:cNvSpPr txBox="1"/>
            <p:nvPr/>
          </p:nvSpPr>
          <p:spPr>
            <a:xfrm>
              <a:off x="3956400" y="3953160"/>
              <a:ext cx="651960" cy="44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80760" y="3794760"/>
              <a:ext cx="843840" cy="600840"/>
              <a:chOff x="3380760" y="3794760"/>
              <a:chExt cx="843840" cy="600840"/>
            </a:xfrm>
          </p:grpSpPr>
          <p:sp>
            <p:nvSpPr>
              <p:cNvPr id="95" name=""/>
              <p:cNvSpPr/>
              <p:nvPr/>
            </p:nvSpPr>
            <p:spPr>
              <a:xfrm>
                <a:off x="3380760" y="3794760"/>
                <a:ext cx="843840" cy="600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617640" y="3859560"/>
                <a:ext cx="390600" cy="3348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66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 txBox="1"/>
            <p:nvPr/>
          </p:nvSpPr>
          <p:spPr>
            <a:xfrm>
              <a:off x="2268360" y="3681360"/>
              <a:ext cx="157284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 Black"/>
              </a:rPr>
              <a:t>Come Walk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cc00"/>
              </a:buClr>
              <a:buSzPct val="70000"/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ber 26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mber 11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cc00"/>
              </a:buClr>
              <a:buSzPct val="70000"/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Park lo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pect Park lo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cc00"/>
              </a:buClr>
              <a:buSzPct val="70000"/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walks gui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cc00"/>
              </a:buClr>
              <a:buSzPct val="70000"/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Fre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refreshments afterw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 Black"/>
              </a:rPr>
              <a:t>Central Park Walk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cc00"/>
              </a:buClr>
              <a:buSzPct val="70000"/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uter loop (approx. 6 mi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cc00"/>
              </a:buClr>
              <a:buSzPct val="70000"/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ner loop (approx. 4 mi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cc00"/>
              </a:buClr>
              <a:buSzPct val="70000"/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ervoir (approx. 1.5 mi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 Black"/>
              </a:rPr>
              <a:t>Prospect Park Walk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cc00"/>
              </a:buClr>
              <a:buSzPct val="70000"/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uter loop (approx. 3.3 mi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cc00"/>
              </a:buClr>
              <a:buSzPct val="70000"/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iddle loop (approx. 2.7 mi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cc00"/>
              </a:buClr>
              <a:buSzPct val="70000"/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ner loop (approx. 2.1 mi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1T23:23:12Z</dcterms:created>
  <dc:creator>Marple</dc:creator>
  <dc:description/>
  <dc:language>en-US</dc:language>
  <cp:lastModifiedBy>Ms. Malnick</cp:lastModifiedBy>
  <cp:lastPrinted>1997-06-05T14:58:14Z</cp:lastPrinted>
  <dcterms:modified xsi:type="dcterms:W3CDTF">2004-04-02T18:17:35Z</dcterms:modified>
  <cp:revision>35</cp:revision>
  <dc:subject/>
  <dc:title>Power Walking</dc:title>
</cp:coreProperties>
</file>