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656D-6D1F-424B-B919-6597E7C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E042-B01F-47D4-9D68-EFA51C8D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3C80-BD69-4FF7-AC78-CDB0B6C8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CCBC-3320-4130-8254-D5EE7DB6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F761-5AAE-4048-825B-30807A80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C3A6-D9A8-4561-8F0E-713A967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475-5677-4DA9-A515-C7D8FA43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759-9BC7-4ECC-ACC0-7B9201B9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DB4-D197-4A97-9243-4E854CC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898A-41A5-4544-80CC-87D881D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D2F-681A-4893-9FE9-10C4675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3528-D693-4D95-B49F-86B3561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9E5-73F8-4EF1-8092-1E475B6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FF10-FC67-47CA-9708-041260F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D228-1166-4F88-B1FF-A72766F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17B-488D-4B1C-99B6-CEBC299B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7764-471A-4563-94D6-161793C9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C98C-42D9-4BCC-A2E4-EFABAF2A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4226-04B4-47A8-9D87-5E6E53A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0714-E53C-4ECE-B6DD-BF6CA5CF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7DDC-6C7D-4C22-B42C-D3148C38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9802-BCA3-4D8F-B3D2-02C4063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AE35-2B7C-4D3B-8BFD-E3CEE2A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6D18-F015-47A2-929C-0AD5F26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F1BD-7BF1-4C98-9224-EABF9E5D1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020000" y="5697360"/>
            <a:ext cx="1619280" cy="492480"/>
            <a:chOff x="7020000" y="5697360"/>
            <a:chExt cx="1619280" cy="492480"/>
          </a:xfrm>
        </p:grpSpPr>
        <p:sp>
          <p:nvSpPr>
            <p:cNvPr id="16" name=""/>
            <p:cNvSpPr txBox="1"/>
            <p:nvPr/>
          </p:nvSpPr>
          <p:spPr>
            <a:xfrm>
              <a:off x="8188200" y="5884920"/>
              <a:ext cx="4510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7789680" y="5775480"/>
              <a:ext cx="583920" cy="414360"/>
              <a:chOff x="7789680" y="5775480"/>
              <a:chExt cx="583920" cy="414360"/>
            </a:xfrm>
          </p:grpSpPr>
          <p:sp>
            <p:nvSpPr>
              <p:cNvPr id="18" name=""/>
              <p:cNvSpPr/>
              <p:nvPr/>
            </p:nvSpPr>
            <p:spPr>
              <a:xfrm>
                <a:off x="7789680" y="5775480"/>
                <a:ext cx="583920" cy="414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953480" y="5820120"/>
                <a:ext cx="270360" cy="230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 txBox="1"/>
            <p:nvPr/>
          </p:nvSpPr>
          <p:spPr>
            <a:xfrm>
              <a:off x="7020000" y="5697360"/>
              <a:ext cx="1088280" cy="29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EE67-A85A-40F5-8EC6-5726DFC6E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560" y="4797360"/>
            <a:ext cx="2305080" cy="703440"/>
            <a:chOff x="574560" y="4797360"/>
            <a:chExt cx="2305080" cy="703440"/>
          </a:xfrm>
        </p:grpSpPr>
        <p:sp>
          <p:nvSpPr>
            <p:cNvPr id="76" name=""/>
            <p:cNvSpPr txBox="1"/>
            <p:nvPr/>
          </p:nvSpPr>
          <p:spPr>
            <a:xfrm>
              <a:off x="2237400" y="5065200"/>
              <a:ext cx="642240" cy="43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670400" y="4908960"/>
              <a:ext cx="831240" cy="591480"/>
              <a:chOff x="1670400" y="4908960"/>
              <a:chExt cx="831240" cy="591480"/>
            </a:xfrm>
          </p:grpSpPr>
          <p:sp>
            <p:nvSpPr>
              <p:cNvPr id="78" name=""/>
              <p:cNvSpPr/>
              <p:nvPr/>
            </p:nvSpPr>
            <p:spPr>
              <a:xfrm>
                <a:off x="1670400" y="4908960"/>
                <a:ext cx="831240" cy="5914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03680" y="4972680"/>
                <a:ext cx="384840" cy="3294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574560" y="4797360"/>
              <a:ext cx="1549440" cy="41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Power Walk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Food Concession</a:t>
            </a:r>
            <a:endParaRPr b="1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663640" y="562464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Business Opportunity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customers to ou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ales to current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od 4 U name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arketing Consideration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wer Walk event will bring new customers to Good 4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and fitness activities boost interest in the Good 4 U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Concession Product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sn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serts and fruit p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y ca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5520" y="1980720"/>
            <a:ext cx="371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me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sandw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go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omotional Products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shirts and water bo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flyers and 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s” fl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s for Power Walk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0:57:26Z</dcterms:created>
  <dc:creator>Pat R. Graves</dc:creator>
  <dc:description/>
  <dc:language>en-US</dc:language>
  <cp:lastModifiedBy>Ms. Malnick</cp:lastModifiedBy>
  <cp:lastPrinted>1997-06-06T01:53:14Z</cp:lastPrinted>
  <dcterms:modified xsi:type="dcterms:W3CDTF">2004-04-02T18:13:25Z</dcterms:modified>
  <cp:revision>29</cp:revision>
  <dc:subject/>
  <dc:title>Power Walk Food Concession</dc:title>
</cp:coreProperties>
</file>