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7066-F78D-4FC4-99E8-F66EA302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02CA-9871-486C-98D0-C0FC8874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5A91-0D84-44B6-896F-2869531E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3E80-E0D0-4362-9C06-D3A8E8FA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F635-90BA-44AD-AA64-03B9025D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1649-2F65-4192-BA9A-6ACD1921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B8A5-0F13-4A48-97C3-75F04CCA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A0D9-F2EC-4E59-94AC-51B783B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DE43-6005-4598-8EED-ED14DDB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200-9F41-4C55-8D08-4DDA0C1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836-30EE-4A3A-81DD-4176BD51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1E86-00F5-40F6-BDDB-3CF93BFC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D967-1CC5-4A32-9F25-7B4C675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538F-E36A-481E-A1D8-8C57C3E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4BED-06D4-4DF4-A78B-6389989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F2E5-9EFF-4D31-86A6-41DDAA9E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7594-5DAD-47C4-8880-1BDCFFCE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AF58-DACF-49B2-97B8-B67F4A6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5E80-816F-42BC-893B-62B8CA24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4822-AC1F-4B8B-8826-AE8FF48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0D8B-E2E6-4A8E-A915-454F6CD7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9927-FCCA-4DBE-8C22-FD043E5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7265-2BFC-4914-BC1F-9E19098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29BB-B6F1-4B0E-8CD2-FB085EA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9156-D0A4-4301-9447-9C41108C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E202-7F57-4986-9619-2B07C4891F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4446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18800" indent="-4615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5040" indent="-2239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22392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27160" indent="-22392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27160" indent="-22392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27160" indent="-22392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2C2-98CD-4684-97B3-C134DC74FB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D36-0573-4268-A461-04DB62CF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97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528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116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116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Impact"/>
              </a:rPr>
              <a:t>Heart</a:t>
            </a: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Smart</a:t>
            </a:r>
            <a:r>
              <a:rPr b="1" i="1" lang="en-US" sz="7200" spc="-1" strike="noStrike">
                <a:solidFill>
                  <a:srgbClr val="000000"/>
                </a:solidFill>
                <a:latin typeface="Impact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</a:rPr>
              <a:t>Diet and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6BC09A-7B14-47B1-A576-3BFDBFA87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7000" y="1600200"/>
            <a:ext cx="5484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right when you’r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me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serts that are goo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1C622BA-6D32-4F34-9753-D5BF2115EA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rt walks several times each day keep your heart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s the risk of heart disease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ers cholesterol, blood pressure,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lking is a mood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6C85295-E5A5-4CC8-A22E-7F9A5B1E0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hour walks through Central Park led by a Good 4 U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days starting at 5:30, 6:30, and 7: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s starting at 8, 9,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discounts on Good 4 U breakf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miles 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71240">
              <a:spcBef>
                <a:spcPts val="700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ons earned for healthy meals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C681269-864D-4018-BA75-3F503E50CF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8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 Good 4 U dis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right on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Your name, Sol5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100C85-B9F2-46EF-8A98-2C0BB1B0B5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2T15:49:09Z</dcterms:modified>
  <cp:revision>40</cp:revision>
  <dc:subject/>
  <dc:title>Be Heart Smart! </dc:title>
</cp:coreProperties>
</file>