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5787-71A0-4FF9-8D1D-53E86FD8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D22-B0B1-4152-8FD7-E2B1B0D2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D53-24AB-4E00-B656-E76BFC982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31A-350B-49DF-BDA1-B0244EC7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3606-D458-48F5-9B61-B06104538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7057-4700-43A8-AD4F-31438717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4B9F-7781-4428-9A7A-C751B9F3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416D-2C8D-44C0-BD83-013D716A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7E41-730D-4959-AA99-AD440D83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646B-A32B-4932-98C7-4A6C5299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B048-1DF5-4ECE-B8FD-58FFC974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FF7-65C8-4343-8325-306C5D4D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D32C-B556-42A6-BF44-3312C71E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23D3-4E7D-4850-B870-0AF4E385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1D4E-FAFA-4DCC-B2D0-1D8D3445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5327-FD70-46F5-BF67-489A9D87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E23-8752-4EB9-8D9F-75E68D69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D135-F11A-4EE5-974F-846AD2D2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13E7-846F-4F30-8040-96B4059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019-8453-4D5F-B336-406FE3CA3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56D-4BEE-4FFB-A30F-C486DC813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ABF-93D8-42AE-82C0-14A5D88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C9D-F1D2-4EB5-9212-D16A452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146-73D9-4C53-97AC-D21A82E3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3498-2874-4E97-A07A-5C48194B517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68F1-EA03-4108-B6F7-DBBC0349614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00280" y="2868120"/>
            <a:ext cx="7543800" cy="2377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elcome to our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w restaurant i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eautiful Miami Bea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11240" y="2734200"/>
            <a:ext cx="7122960" cy="2980080"/>
          </a:xfrm>
          <a:prstGeom prst="rect">
            <a:avLst/>
          </a:prstGeom>
          <a:solidFill>
            <a:srgbClr val="fffff7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0" rIns="457200" tIns="457200" bIns="457200" anchor="ctr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Miami’s first truly health-conscious restauran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Low-fat and tasteful varieties to please the beachcomber appetite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35280" y="1628640"/>
            <a:ext cx="5473440" cy="363708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35280" y="1628640"/>
            <a:ext cx="2089080" cy="1440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835280" y="3681000"/>
            <a:ext cx="2305080" cy="15843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967280" y="3681360"/>
            <a:ext cx="2268720" cy="1548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076360" y="1663560"/>
            <a:ext cx="2195640" cy="1405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5080" y="2924280"/>
            <a:ext cx="1511280" cy="900000"/>
          </a:xfrm>
          <a:prstGeom prst="ellipse">
            <a:avLst/>
          </a:prstGeom>
          <a:solidFill>
            <a:srgbClr val="fffff7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869d4"/>
            </a:gs>
            <a:gs pos="100000">
              <a:srgbClr val="e3eef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Miami Pictures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25760" y="3141720"/>
            <a:ext cx="1825560" cy="1379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16320" y="4735080"/>
            <a:ext cx="204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ach scen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88000" y="2057400"/>
            <a:ext cx="2830320" cy="2643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24120" y="4735080"/>
            <a:ext cx="1558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lm tre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4T02:34:28Z</dcterms:created>
  <dc:creator>Pat R. Graves</dc:creator>
  <dc:description/>
  <dc:language>en-US</dc:language>
  <cp:lastModifiedBy>Pat Graves</cp:lastModifiedBy>
  <dcterms:modified xsi:type="dcterms:W3CDTF">2004-02-28T06:28:42Z</dcterms:modified>
  <cp:revision>10</cp:revision>
  <dc:subject/>
  <dc:title>Slide 1</dc:title>
</cp:coreProperties>
</file>