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142A-3602-4CC3-88B9-1534C3F0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B433-962B-46DF-AB05-A7134A67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6899-8DFB-4680-8D64-AF7E888C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54B-A56D-4E7A-A8F6-7F7EF3A2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8360-A9CB-476E-A7CB-B847BDB4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5111-A6FE-4C3E-A0B1-C5CB8A88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DDFD-3001-459F-A57E-C17626C7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590C-D32A-4B49-BE28-C771B717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A81A-C088-423B-8A7B-05443ECA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8EF3-78A9-459F-B3C8-C34AD9DA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CB4B-DE10-4189-914F-E1352776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316C-31E4-474F-BA2D-B41471DD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7C10-F0FB-418B-9659-5361845A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D8FC-644A-490C-9508-ED4410A2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58C6-3DFA-44CE-8FEE-83F30C4A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A0A2-06DB-478A-BA9D-11C17CFA9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700F-FABF-4269-ADF6-BFBFD379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3FC6-D2D8-43ED-9C12-CB3DAEF9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AB6-E08B-45AF-8B89-431DAABB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0067-501C-46ED-A9EF-02D0FEC9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DDE-FBF4-4A1B-BEAB-B78ABFA1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7E3-9A25-4F05-9384-7C3823EC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A267-7D0C-4961-8264-D7DEAAFD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FDC-6532-4519-8861-720F24C8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8248-2298-45D1-A492-3E611A9BA55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2134-9A4D-4997-9A35-9BFCE0634EF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35280" y="1628640"/>
            <a:ext cx="5473440" cy="363708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36720" y="3392640"/>
            <a:ext cx="54720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2960640"/>
            <a:ext cx="54734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2529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2097000"/>
            <a:ext cx="54007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3824280"/>
            <a:ext cx="5508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1640" y="4329000"/>
            <a:ext cx="536436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4797360"/>
            <a:ext cx="543708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47640" y="-360"/>
            <a:ext cx="0" cy="6165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47640" y="0"/>
            <a:ext cx="166068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47640" y="0"/>
            <a:ext cx="3579840" cy="6200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647640" y="-28800"/>
            <a:ext cx="6229440" cy="6229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11280" y="1274400"/>
            <a:ext cx="8532720" cy="4925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47640" y="3879720"/>
            <a:ext cx="8532720" cy="2286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9440" y="6200640"/>
            <a:ext cx="84596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63640" y="1844640"/>
            <a:ext cx="1600200" cy="16002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475000" y="1305000"/>
            <a:ext cx="411300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20700000">
            <a:off x="4032000" y="4652640"/>
            <a:ext cx="3925800" cy="1295280"/>
          </a:xfrm>
          <a:custGeom>
            <a:avLst/>
            <a:gdLst>
              <a:gd name="textAreaLeft" fmla="*/ 896040 w 3925800"/>
              <a:gd name="textAreaRight" fmla="*/ 3029760 w 39258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Grand Opening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448000" y="1305000"/>
            <a:ext cx="4113000" cy="411300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720" y="368280"/>
            <a:ext cx="755640" cy="7174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408720" y="368280"/>
            <a:ext cx="934920" cy="8892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3640" y="512640"/>
            <a:ext cx="1008360" cy="9590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9640" y="1484280"/>
            <a:ext cx="1152720" cy="10954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0000" y="1881360"/>
            <a:ext cx="1081080" cy="10270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2924280"/>
            <a:ext cx="1656000" cy="15732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3280" y="4041720"/>
            <a:ext cx="1189080" cy="11304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42920" y="2960640"/>
            <a:ext cx="1584360" cy="15066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32360" y="4581360"/>
            <a:ext cx="1547640" cy="147168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8000" y="2708280"/>
            <a:ext cx="1224000" cy="11635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84360" y="1015920"/>
            <a:ext cx="1582560" cy="15051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95640" y="476280"/>
            <a:ext cx="1692360" cy="16081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2060640"/>
            <a:ext cx="1908000" cy="18129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63640" y="4545000"/>
            <a:ext cx="1979640" cy="18813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4724280"/>
            <a:ext cx="1800360" cy="17114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9640" y="1376280"/>
            <a:ext cx="504720" cy="4795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2852640"/>
            <a:ext cx="900000" cy="85572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4720" y="2852640"/>
            <a:ext cx="1044360" cy="99216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113360"/>
            <a:ext cx="1511280" cy="143640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5121360"/>
            <a:ext cx="1333440" cy="1266840"/>
          </a:xfrm>
          <a:prstGeom prst="star5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iami Pic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25760" y="3141720"/>
            <a:ext cx="1825560" cy="1379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516320" y="4735080"/>
            <a:ext cx="204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ach sce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88000" y="2057400"/>
            <a:ext cx="2830320" cy="2643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424120" y="47350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lm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Pat Graves</cp:lastModifiedBy>
  <dcterms:modified xsi:type="dcterms:W3CDTF">2004-02-29T04:38:35Z</dcterms:modified>
  <cp:revision>14</cp:revision>
  <dc:subject/>
  <dc:title>Slide 1</dc:title>
</cp:coreProperties>
</file>