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B14-F6AC-4701-98A4-F28605F8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A983-4307-43BB-B8F7-4ACD9CD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9EB0-E5FF-4B85-BC4C-89DEED05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410-7343-4F27-8707-F2EAB480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9AE-37F1-4BBB-BE3B-151E5C1D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880A-FEEA-43F5-BC88-BBC9DB9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BB06-B47D-479C-8264-F5F4FCCA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FB1-4C83-43A6-8FC1-B91E953D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6E8D-DD25-4B6C-BFAD-40BB5367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565F-C46E-4502-994C-CB71E2E5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5008-6F29-4E6A-8917-0BC21B2F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9A01-3275-4939-8494-E97B890B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2747-A160-4AAB-B257-FE5A7E33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95F4-54DD-4214-A61A-98632FC9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F061-62CA-49A5-8B70-1E1FE37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CACC-23C9-4CB3-B7F5-E9704326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C0E8-271C-4A52-AA96-07F7ED6C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4F5-C676-4FFD-BF43-A338A427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78C-35A5-49A3-904D-8EC984E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BD3E-CBB9-4F60-B219-611900EA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153-A29A-4896-9EA9-FBF61966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EE2B-260D-49AA-8100-18FFF3C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F93-B929-455C-8DFA-2B9C9EEC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CFEB-AC9F-45BA-B5A4-3E807E72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C04A-D39B-4C2F-BCA1-95DC5945AAC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06B29-D4A5-42BA-B07B-2A8DFAF8BCB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0968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700000">
            <a:off x="4584240" y="4967280"/>
            <a:ext cx="3926160" cy="1295280"/>
          </a:xfrm>
          <a:custGeom>
            <a:avLst/>
            <a:gdLst>
              <a:gd name="textAreaLeft" fmla="*/ 896040 w 3926160"/>
              <a:gd name="textAreaRight" fmla="*/ 3030120 w 39261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13000" y="150984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92560" y="594972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873680" y="2158920"/>
            <a:ext cx="3913200" cy="3654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84360" y="589896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22160" y="342576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8:24:22Z</dcterms:modified>
  <cp:revision>17</cp:revision>
  <dc:subject/>
  <dc:title>Slide 1</dc:title>
</cp:coreProperties>
</file>