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230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961-6C3E-40B1-ADC9-AF1A1EB8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373-176C-4F06-B9ED-0B1FF144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F41-6697-40F0-A693-26B74A16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1640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772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3E9-EEA9-419C-AA02-04AFAEDCE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02C7-283C-47BF-8FD5-8FF1EF7C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6786-EB22-4E03-8CE1-27545B5C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219D-84D1-4049-9AE8-68943676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1D90-7927-4107-ADFA-F7C1CD0D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B66C-4AF6-4221-A9F9-7E43B114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4C3B-ED40-4E8B-9197-79DBC6D6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7961-35AF-4BDE-BEE1-30BA1871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276-13B3-4A7D-8082-D3FBD6F0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AF22-C2F7-4FBD-9E58-40929E71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1B5C-9696-4D25-8C22-E7D7DAD3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E9AF-6C12-4B3F-92DA-A485D45A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CAF3-069E-49A2-BEB5-CBA95E96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41640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47720" y="198108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44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41640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47720" y="4170600"/>
            <a:ext cx="2600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7E85-C276-41F1-8EE4-1066E9D0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308-2B2F-486A-A3E0-F8E65420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E72-ED40-4601-8125-2803AB40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DD0-AE49-47FC-9AE7-69CB361B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244-3981-4FCC-A5CA-9F868A83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E1F-44DF-4B51-9B7F-7591B927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24720" y="417060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761-D10C-40FC-8DB8-3A89D09B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4720" y="1981080"/>
            <a:ext cx="39416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70600"/>
            <a:ext cx="8077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A1EC-58C1-4124-A600-D12F5ACC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5C53-A99B-460F-9A3C-355D78A39B0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752480"/>
            <a:ext cx="807732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326360" y="5999040"/>
            <a:ext cx="1414440" cy="58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99"/>
                </a:solidFill>
                <a:latin typeface="Impact"/>
              </a:rPr>
              <a:t>Click to edit the title text format</a:t>
            </a:r>
            <a:endParaRPr b="0" lang="en-US" sz="58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6170-4DFA-4D19-83A3-851DD3BEA6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1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55920" y="4491000"/>
            <a:ext cx="230832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gust 4, 200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01720" y="1120680"/>
            <a:ext cx="5857920" cy="16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ranchise Training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Required Equipment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Caloric industria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Sub-Zero refriger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4 U cookware (pre-packag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 4 U stoneware (pre-package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ida fla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Projected Sal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444680" y="1981080"/>
          <a:ext cx="65563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1981080"/>
                    <a:ext cx="65563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Impact"/>
              </a:rPr>
              <a:t>Hiring Practices</a:t>
            </a:r>
            <a:endParaRPr b="0" lang="en-US" sz="4400" spc="-1" strike="noStrike">
              <a:solidFill>
                <a:srgbClr val="000099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-level managers must have five years of management experi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fs must have a culinary degree from an accredited scho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iters and waitresses must have re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09-24T17:26:58Z</cp:lastPrinted>
  <dcterms:modified xsi:type="dcterms:W3CDTF">2004-04-11T20:08:02Z</dcterms:modified>
  <cp:revision>37</cp:revision>
  <dc:subject/>
  <dc:title>Good 4 U Franchise Training</dc:title>
</cp:coreProperties>
</file>