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2B6-58F2-45F4-B42E-BB521B99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13D-1558-4FA7-BB24-792D75FE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CFF4-0312-4B7D-BA2A-98C22584E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4CA4-A879-4CB3-A119-A0D9841CE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20C7-4B51-4AB9-90F7-874D31CB9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0AEF-69C3-47CE-A612-DCCBBE2B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F7B4-BF54-453B-9E0B-4344E6CA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BB67-0CE5-410D-971A-3CEA5DD4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B080-D3DA-4798-8B8E-9FB5EB9C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57C7-DB01-4398-9E16-A93D0A8F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8F09-8094-4F91-9BE2-C47A0D37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BB0D-4845-49F8-B54D-94857A20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5956-BECB-498F-9BE3-8EC483A4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9B8B-40E5-4D6E-8E67-41E0922E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CDF9-4014-40D6-8CBC-637487E3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1364-B338-40B3-ACF5-22F27C98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C886-88B5-446B-9DF6-D960EA9B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844-5986-4641-A466-9219D620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51A6-1638-4681-A8E2-53D15C8A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4368-3F25-48FE-A64A-A6F911F6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BEF4-9C88-4DFD-AAA2-85971EFE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EE43-E5DC-4744-A515-F15B2BA5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233-20C1-4346-91A0-46647AD1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4ADA-489A-455D-A5F8-6C938106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0FC3-E2D9-4A99-8DAB-66A7ED3757C2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64B1-DF31-4726-BC83-06152960916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35280" y="1628640"/>
            <a:ext cx="5473440" cy="3637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6720" y="3392640"/>
            <a:ext cx="5472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960640"/>
            <a:ext cx="5473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2529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2097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3824280"/>
            <a:ext cx="5508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1640" y="4329000"/>
            <a:ext cx="5364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4797360"/>
            <a:ext cx="543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7640" y="-360"/>
            <a:ext cx="0" cy="6165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47640" y="0"/>
            <a:ext cx="166068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47640" y="0"/>
            <a:ext cx="357984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7640" y="-28800"/>
            <a:ext cx="6229440" cy="622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11280" y="1274400"/>
            <a:ext cx="8532720" cy="4925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47640" y="3879720"/>
            <a:ext cx="8532720" cy="2286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9440" y="6200640"/>
            <a:ext cx="84596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 6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63640" y="1844640"/>
            <a:ext cx="1600200" cy="16002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75000" y="1305000"/>
            <a:ext cx="411300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59280" y="512640"/>
            <a:ext cx="3925800" cy="1295640"/>
          </a:xfrm>
          <a:custGeom>
            <a:avLst/>
            <a:gdLst>
              <a:gd name="textAreaLeft" fmla="*/ 896040 w 3925800"/>
              <a:gd name="textAreaRight" fmla="*/ 3029760 w 392580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rand Open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48000" y="1305000"/>
            <a:ext cx="411300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720" y="368280"/>
            <a:ext cx="755640" cy="717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08720" y="368280"/>
            <a:ext cx="934920" cy="889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512640"/>
            <a:ext cx="1008360" cy="9590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9640" y="1484280"/>
            <a:ext cx="1152720" cy="1095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0000" y="1881360"/>
            <a:ext cx="1081080" cy="10270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2924280"/>
            <a:ext cx="1656000" cy="1573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3280" y="4041720"/>
            <a:ext cx="1189080" cy="1130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960640"/>
            <a:ext cx="1584360" cy="15066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4581360"/>
            <a:ext cx="1547640" cy="14716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708280"/>
            <a:ext cx="1224000" cy="1163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84360" y="1015920"/>
            <a:ext cx="1582560" cy="1505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95640" y="476280"/>
            <a:ext cx="1692360" cy="16081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2060640"/>
            <a:ext cx="1908000" cy="18129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4545000"/>
            <a:ext cx="1979640" cy="18813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4724280"/>
            <a:ext cx="1800360" cy="17114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9640" y="1376280"/>
            <a:ext cx="504720" cy="479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2852640"/>
            <a:ext cx="900000" cy="8557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2852640"/>
            <a:ext cx="1044360" cy="992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13360"/>
            <a:ext cx="1511280" cy="1436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121360"/>
            <a:ext cx="1333440" cy="12668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Pic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25760" y="3141720"/>
            <a:ext cx="1825560" cy="1379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16320" y="473508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88000" y="2057400"/>
            <a:ext cx="2830320" cy="2643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24120" y="47350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9T04:28:17Z</dcterms:modified>
  <cp:revision>13</cp:revision>
  <dc:subject/>
  <dc:title>Slide 1</dc:title>
</cp:coreProperties>
</file>