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6828-5182-49F1-8124-A8158C13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73F-C3A8-418F-A176-8B6388B8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3FA-397B-466C-A825-2ABB45BAD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1A3-5CE8-42AA-8400-6618E395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7F91-0173-43AB-9831-21EDB774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54E3-D0C3-401F-B925-FC76E6E9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90BD-5FDD-4DC3-A998-F6EB7466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57B5-D902-4407-B16E-CC5AC7B1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FA71-8A83-4F39-8AB2-A3AA0D51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4F1F-45DB-43BE-B659-2C308BDE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DF8D-6F18-44FB-9128-7B524BD5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2B4C-9712-4B7D-8EBB-163A7CD9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3168-6689-4DC6-B54A-57B11E2C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E3F7-2114-465D-A933-A60C55D9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9BFF-6DCA-43DD-B055-A478B0AF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7342-29A9-437C-805E-75192AF4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0C1A-8024-4937-9473-3B7732BC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8D86-D96A-459E-AA48-1B714F4E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6960-4079-412D-A54A-EC80CAF9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F598-9F77-44B4-97ED-1A57DB6E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9AF-C915-4D27-BEC2-29D238AD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62C-6C53-42D2-8872-3FDD4CE4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897D-2804-4010-9C98-A541F43E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A149-2CB2-429A-841C-F3ED4AE2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83560" y="1592280"/>
            <a:ext cx="1828800" cy="182520"/>
          </a:xfrm>
          <a:prstGeom prst="rect">
            <a:avLst/>
          </a:pr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09480" cy="4876920"/>
          </a:xfrm>
          <a:prstGeom prst="rect">
            <a:avLst/>
          </a:prstGeom>
          <a:solidFill>
            <a:srgbClr val="4f91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76520"/>
            <a:ext cx="8305920" cy="0"/>
          </a:xfrm>
          <a:prstGeom prst="line">
            <a:avLst/>
          </a:prstGeom>
          <a:ln w="190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BCC4-12E4-4145-9E59-2CD70C6C19E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D940-EF7B-4504-A1C4-9442896F82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4f91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05320"/>
            <a:ext cx="7772400" cy="2438280"/>
          </a:xfrm>
          <a:prstGeom prst="rect">
            <a:avLst/>
          </a:prstGeom>
          <a:solidFill>
            <a:srgbClr val="8914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38240" y="3733920"/>
            <a:ext cx="7648560" cy="21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1066680" y="6384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511C-809E-44C1-97A9-39852028708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504960" y="63849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58000" y="6384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5123-0890-45F1-ACAD-CC442DD41D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876920"/>
            <a:ext cx="990720" cy="0"/>
          </a:xfrm>
          <a:prstGeom prst="line">
            <a:avLst/>
          </a:prstGeom>
          <a:ln w="5076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73720" y="533520"/>
            <a:ext cx="2438640" cy="304560"/>
          </a:xfrm>
          <a:prstGeom prst="rect">
            <a:avLst/>
          </a:pr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5040" y="685800"/>
            <a:ext cx="807732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48040" y="5002200"/>
            <a:ext cx="1984320" cy="8175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 Black"/>
              </a:rPr>
              <a:t>Franchise Training</a:t>
            </a:r>
            <a:endParaRPr b="0" lang="en-US" sz="4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ales Strate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ing health-conscious individu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ering low-fat menu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t to the local community with employee volunte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029200" y="1881360"/>
            <a:ext cx="36831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nual Predicted Sal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16000" y="1990800"/>
          <a:ext cx="6591240" cy="42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990800"/>
                    <a:ext cx="6591240" cy="42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 rot="20106000">
            <a:off x="5219640" y="2909880"/>
            <a:ext cx="1695600" cy="303120"/>
          </a:xfrm>
          <a:prstGeom prst="leftArrow">
            <a:avLst>
              <a:gd name="adj1" fmla="val 50000"/>
              <a:gd name="adj2" fmla="val 139846"/>
            </a:avLst>
          </a:prstGeom>
          <a:solidFill>
            <a:srgbClr val="a0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48360" y="2313000"/>
            <a:ext cx="190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 Angeles division sales expected to double in the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qua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ood Food and Good Tim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914400" y="2097000"/>
            <a:ext cx="3656160" cy="2475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765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mission is to provide good healthy food and good healthy fu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franchise training is designed to help you meet these goa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47610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the finest produc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ur Staf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s Irvinelli, Co-Fou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ie Wolfe, Co-Fou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y Olafsen, Marketing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helle Jenkins, Head Che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uck Warden, MIS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a Suzi Marabella, Training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59280" y="260280"/>
            <a:ext cx="3384720" cy="3216240"/>
          </a:xfrm>
          <a:prstGeom prst="star5">
            <a:avLst/>
          </a:prstGeom>
          <a:solidFill>
            <a:srgbClr val="a0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Pat Graves</cp:lastModifiedBy>
  <cp:lastPrinted>1996-12-06T01:33:42Z</cp:lastPrinted>
  <dcterms:modified xsi:type="dcterms:W3CDTF">2004-02-29T19:59:25Z</dcterms:modified>
  <cp:revision>45</cp:revision>
  <dc:subject/>
  <dc:title>Good 4 U Franchise Training</dc:title>
</cp:coreProperties>
</file>