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C488-4755-4DE4-A414-E471DC943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944D-3F19-46BC-AAFC-4ED813774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ED13-858B-44D3-8B58-7DB54F1A7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FB99-44E1-4E3E-A68E-F2B3EB243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81F1D-0071-4909-B10E-A184DF0F4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82E63-D68C-4CD7-AE9C-01331BC5F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A0877-F712-4C7F-B8C1-4213A8922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24502-56CD-4B66-BCA3-3A5F12EF5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41F57-58C9-4946-8B81-703F2D8BB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B302A-3855-4865-B4ED-A2C5E56B0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0D9A9-E025-4F3F-8145-97C0B8290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FFE0-D16F-415E-A834-3ACC719EA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DF899-911C-407F-B2EF-D603D4DEA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425C3-1AFD-4A82-9BCF-94DFD419A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7B764-2C9B-4335-A3BC-955819272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95066-31AE-45FD-B4A8-22A477137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C5FBA-637D-42F4-BEAC-75699E824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B063-0D4D-4BA5-9793-AECDAE80B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B2C5-75BC-4CA2-AF9B-B1D82C6AA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9F95-505D-4E09-B15B-72A5C4602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DCDE-621D-4401-978D-95FCF2DC5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D07C-96EB-40F9-9F7F-8DF05BED2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6953-D91B-4A45-9A78-1C9C2C6ED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AD89-4F8F-482B-A65F-5E34D8392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69d4"/>
            </a:gs>
            <a:gs pos="100000">
              <a:srgbClr val="e3eef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85988-1FC9-4A16-A18D-8359E12D7FD4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69d4"/>
            </a:gs>
            <a:gs pos="100000">
              <a:srgbClr val="e3eef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E9444-E91F-4277-AF9A-AB1946986369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69d4"/>
            </a:gs>
            <a:gs pos="100000">
              <a:srgbClr val="e3eef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800280" y="2868120"/>
            <a:ext cx="7543800" cy="237708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0" rIns="457200" tIns="457200" bIns="4572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Welcome to our</a:t>
            </a:r>
            <a:br>
              <a:rPr sz="3200"/>
            </a:b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new restaurant in </a:t>
            </a:r>
            <a:br>
              <a:rPr sz="3200"/>
            </a:b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beautiful Miami Beach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69d4"/>
            </a:gs>
            <a:gs pos="100000">
              <a:srgbClr val="e3eef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011240" y="2734200"/>
            <a:ext cx="7122960" cy="298008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0" rIns="457200" tIns="457200" bIns="457200" anchor="ctr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Miami’s first truly health-conscious restaurant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Low-fat and tasteful varieties to please the beachcomber appetite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69d4"/>
            </a:gs>
            <a:gs pos="100000">
              <a:srgbClr val="e3eef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835280" y="1628640"/>
            <a:ext cx="5473440" cy="3637080"/>
          </a:xfrm>
          <a:prstGeom prst="rect">
            <a:avLst/>
          </a:prstGeom>
          <a:solidFill>
            <a:srgbClr val="fffff7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836720" y="3392640"/>
            <a:ext cx="5472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 anchorCtr="1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835280" y="2960640"/>
            <a:ext cx="547344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 anchorCtr="1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835280" y="2529000"/>
            <a:ext cx="540072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 anchorCtr="1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835280" y="2097000"/>
            <a:ext cx="540072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 anchorCtr="1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835280" y="3824280"/>
            <a:ext cx="550836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 anchorCtr="1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871640" y="4329000"/>
            <a:ext cx="536436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 anchorCtr="1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835280" y="4797360"/>
            <a:ext cx="543708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 anchorCtr="1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47640" y="-360"/>
            <a:ext cx="0" cy="616572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 anchorCtr="1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647640" y="0"/>
            <a:ext cx="1660680" cy="620064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 anchorCtr="1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647640" y="0"/>
            <a:ext cx="3579840" cy="620064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 anchorCtr="1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647640" y="-28800"/>
            <a:ext cx="6229440" cy="622908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 anchorCtr="1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11280" y="1274400"/>
            <a:ext cx="8532720" cy="492588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 anchorCtr="1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647640" y="3879720"/>
            <a:ext cx="8532720" cy="228600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 anchorCtr="1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49440" y="6200640"/>
            <a:ext cx="845964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 anchorCtr="1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ur Name, Sol 6-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69d4"/>
            </a:gs>
            <a:gs pos="100000">
              <a:srgbClr val="e3eef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863640" y="1844640"/>
            <a:ext cx="2521080" cy="2521080"/>
          </a:xfrm>
          <a:prstGeom prst="rect">
            <a:avLst/>
          </a:prstGeom>
          <a:solidFill>
            <a:srgbClr val="fffff7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020000" y="4869000"/>
            <a:ext cx="1438200" cy="1441440"/>
          </a:xfrm>
          <a:prstGeom prst="ellipse">
            <a:avLst/>
          </a:prstGeom>
          <a:solidFill>
            <a:srgbClr val="fffff7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69d4"/>
            </a:gs>
            <a:gs pos="100000">
              <a:srgbClr val="e3eef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Miami Picture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625760" y="3141720"/>
            <a:ext cx="1825560" cy="13795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516320" y="4735080"/>
            <a:ext cx="2045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Beach scen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788000" y="2057400"/>
            <a:ext cx="2830320" cy="26431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5424120" y="4735080"/>
            <a:ext cx="1558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alm tre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4T02:34:28Z</dcterms:created>
  <dc:creator>Pat R. Graves</dc:creator>
  <dc:description/>
  <dc:language>en-US</dc:language>
  <cp:lastModifiedBy>Pat Graves</cp:lastModifiedBy>
  <dcterms:modified xsi:type="dcterms:W3CDTF">2004-02-29T02:56:43Z</dcterms:modified>
  <cp:revision>12</cp:revision>
  <dc:subject/>
  <dc:title>Slide 1</dc:title>
</cp:coreProperties>
</file>