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DEED-2574-4312-A935-74CD6B0B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8636-29EF-4CF4-8DC7-7EED5665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381-6A3D-4C09-A702-7FC68E1A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1558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4840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7636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1558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4840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280-1C81-4D75-917F-A5A22DE0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303C-CBA8-4115-91A7-854959D3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F1CC-7103-47CC-A34F-5FFB5392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94D-4AA9-4FCA-BE2B-44566D06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1A1A-DBFC-4466-9871-4A02ED29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DFB5-4907-4597-98E4-137F6351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692360" y="228240"/>
            <a:ext cx="714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0904-8A58-413B-8926-66FE7A00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BDE6-3A04-40FA-BA80-38BEA6A8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C76-4E0F-43C3-B761-2762E6FD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8E12-8741-422F-BAAC-5CFB970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548A-AC92-447A-9221-E6D5AC0B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F05D-15FF-437D-9678-5EC6C9AD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1755-9F06-4EF9-9FCC-60C6E1E53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5584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48400" y="20602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636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15584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48400" y="4168080"/>
            <a:ext cx="2278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ECC-182F-49CA-9945-D8CC6D43F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32F-2339-4E99-97FA-6CB477B0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0803-7490-40B7-A7B7-0F7A20CB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BB4-A62B-477C-8F11-9AC17A18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2360" y="228240"/>
            <a:ext cx="714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46E-FEEC-4329-BC53-0D526CF9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B533-B985-4027-8E9F-54488D6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89560" y="41680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33A-D265-45F4-9A3A-E18F0775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9560" y="2060280"/>
            <a:ext cx="34527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63640" y="4168080"/>
            <a:ext cx="70754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38C-792F-409E-BDD2-72611E4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Click to edit the title text format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F67B-607B-42EF-9719-0DEB429B2167}" type="slidenum">
              <a:rPr b="0" lang="en-US" sz="18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bd9d6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c64b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1280" y="36360"/>
            <a:ext cx="1365480" cy="2707920"/>
            <a:chOff x="71280" y="36360"/>
            <a:chExt cx="1365480" cy="2707920"/>
          </a:xfrm>
        </p:grpSpPr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71280" y="36360"/>
              <a:ext cx="13618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1280" y="935280"/>
              <a:ext cx="13654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  <p:pic>
          <p:nvPicPr>
            <p:cNvPr id="8" name="" descr=""/>
            <p:cNvPicPr/>
            <p:nvPr/>
          </p:nvPicPr>
          <p:blipFill>
            <a:blip r:embed="rId5"/>
            <a:stretch/>
          </p:blipFill>
          <p:spPr>
            <a:xfrm>
              <a:off x="71280" y="1841760"/>
              <a:ext cx="1365480" cy="902520"/>
            </a:xfrm>
            <a:prstGeom prst="rect">
              <a:avLst/>
            </a:prstGeom>
            <a:ln w="76320">
              <a:solidFill>
                <a:srgbClr val="c64b00"/>
              </a:solidFill>
              <a:miter/>
            </a:ln>
          </p:spPr>
        </p:pic>
      </p:grpSp>
      <p:sp>
        <p:nvSpPr>
          <p:cNvPr id="9" name=""/>
          <p:cNvSpPr/>
          <p:nvPr/>
        </p:nvSpPr>
        <p:spPr>
          <a:xfrm>
            <a:off x="1476360" y="1484280"/>
            <a:ext cx="7667640" cy="0"/>
          </a:xfrm>
          <a:prstGeom prst="line">
            <a:avLst/>
          </a:prstGeom>
          <a:ln w="76320">
            <a:solidFill>
              <a:srgbClr val="c64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71640" y="297000"/>
            <a:ext cx="4640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4b00"/>
                </a:solidFill>
                <a:latin typeface="Georgia"/>
              </a:rPr>
              <a:t>Click to edit the title text format</a:t>
            </a:r>
            <a:endParaRPr b="1" lang="en-US" sz="5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D9F4-ED8E-4F5C-B259-AC4FE7737955}" type="slidenum">
              <a:rPr b="0" lang="en-US" sz="10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44664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345600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3456000" cy="2286000"/>
          </a:xfrm>
          <a:prstGeom prst="rect">
            <a:avLst/>
          </a:prstGeom>
          <a:ln w="76320">
            <a:solidFill>
              <a:srgbClr val="c64b00"/>
            </a:solidFill>
            <a:miter/>
          </a:ln>
        </p:spPr>
      </p:pic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d9d69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64b00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71640" y="297000"/>
            <a:ext cx="4640040" cy="28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64b00"/>
                </a:solidFill>
                <a:latin typeface="Georgia"/>
              </a:rPr>
              <a:t>New Employee Orientation</a:t>
            </a:r>
            <a:endParaRPr b="1" lang="en-US" sz="5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43280" y="3753000"/>
            <a:ext cx="36720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ew Hires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urrent Dat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 rot="20476800">
            <a:off x="7305480" y="6106680"/>
            <a:ext cx="180324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Agenda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elcom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y Histor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Company Vision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ho’s Who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History of Company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intention of Good 4 U is to establish itself as a franchise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od 4 U has been in business for three years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The food at Good 4 U is low-fat, but not vegetarian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Who’s Who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Julie Wolfe and Gus Irvinelli are co-owners of the restaurant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Michele Jenkins is the head chef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Roy Olafsen is the marketing manager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360" y="228240"/>
            <a:ext cx="714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64b00"/>
                </a:solidFill>
                <a:latin typeface="Georgia"/>
              </a:rPr>
              <a:t>Summary</a:t>
            </a:r>
            <a:endParaRPr b="1" lang="en-US" sz="4400" spc="-1" strike="noStrike">
              <a:solidFill>
                <a:srgbClr val="c64b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640" y="2060280"/>
            <a:ext cx="7075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Good 4 U is growing rapidly with our new franchising philosophy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Our healthy living message has worldwide appeal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We are relying on you, our new employees, to help us grow</a:t>
            </a:r>
            <a:endParaRPr b="1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32000" y="2492280"/>
            <a:ext cx="5688000" cy="27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Welcome to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Georgia"/>
              </a:rPr>
              <a:t>Good 4 U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aves</dc:creator>
  <dc:description/>
  <dc:language>en-US</dc:language>
  <cp:lastModifiedBy>Student Name</cp:lastModifiedBy>
  <cp:lastPrinted>1996-12-06T20:40:08Z</cp:lastPrinted>
  <dcterms:modified xsi:type="dcterms:W3CDTF">2004-04-11T20:04:07Z</dcterms:modified>
  <cp:revision>33</cp:revision>
  <dc:subject/>
  <dc:title>New Employee Orientation</dc:title>
</cp:coreProperties>
</file>