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98F-0071-4DC3-90B7-0991849D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210-9E71-49A2-9FE6-0801E728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8FE7-5BC7-4D06-98DC-1DE9439D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31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85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31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85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24A-258B-4A36-97A5-C6CE6CE0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3E7E-5473-41A9-A299-2AC2FCBA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89C8-29C1-4658-97AA-187DD014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D825-1FF5-48B1-B856-891F8F85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0128-AA60-417A-9DA5-B72BE33E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EDA6-766D-4879-AFB3-9916875D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797F-FAB3-49BF-B8D3-40FCA386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9944-8351-4D2B-96AB-6782F951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50B-FEAB-47C8-98E5-4B913449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0524-FAAB-40FB-9AFE-6E5691EF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D38A-3F93-4277-8CB4-824B5277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0963-1304-48DB-A20E-F4FA4A3A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91B3-011D-4EE2-9C21-EEC1AD86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431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48520" y="19807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77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431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48520" y="40107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AAEB-6FA1-4F30-9DD9-E63A03556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FBA-D045-469D-9FD0-C5CB33CD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B0BC-883E-4926-980D-15D316C8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8EC-41BE-4647-B89F-43E3B58F3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772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4B60-C350-47FA-B7F4-3F56B8F8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FD6A-EFFC-408F-9332-B5654FB6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7400" y="40107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8E27-3FB4-4702-B6C1-D0928C11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7400" y="19807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107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9F55-E30B-4481-9435-A16B19EF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a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6CEE-E62D-4C39-9693-D60235D31EB0}" type="slidenum">
              <a:rPr b="0" lang="en-US" sz="1000" spc="-1" strike="noStrike">
                <a:solidFill>
                  <a:srgbClr val="6a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8584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12920" y="135000"/>
            <a:ext cx="8731080" cy="27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09680" y="135000"/>
            <a:ext cx="137880" cy="1411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47560" y="0"/>
            <a:ext cx="139680" cy="138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47560" y="135000"/>
            <a:ext cx="139680" cy="1411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74680" y="274680"/>
            <a:ext cx="136440" cy="138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31760" y="136440"/>
            <a:ext cx="141120" cy="138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09680" y="271440"/>
            <a:ext cx="137880" cy="1382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274680" y="409680"/>
            <a:ext cx="136440" cy="136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807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Click to edit the outline text format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Second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2" marL="1143000" indent="-228600">
              <a:spcBef>
                <a:spcPts val="75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Third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3" marL="1600200" indent="-228600">
              <a:spcBef>
                <a:spcPts val="751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Four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4" marL="2057400" indent="-228600"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Fif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5" marL="2057400" indent="-228600">
              <a:spcBef>
                <a:spcPts val="751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Six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  <a:p>
            <a:pPr lvl="6" marL="2057400" indent="-228600">
              <a:spcBef>
                <a:spcPts val="751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a0000"/>
                </a:solidFill>
                <a:latin typeface="Arial Narrow"/>
              </a:rPr>
              <a:t>Seventh Outline Level</a:t>
            </a:r>
            <a:endParaRPr b="1" lang="en-US" sz="3000" spc="-1" strike="noStrike">
              <a:solidFill>
                <a:srgbClr val="6a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6a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a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a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FAC2-90A0-4745-826B-1532D247EFA0}" type="slidenum">
              <a:rPr b="0" lang="en-US" sz="1000" spc="-1" strike="noStrike">
                <a:solidFill>
                  <a:srgbClr val="6a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16120" y="1690560"/>
            <a:ext cx="7427880" cy="25336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3120" y="3583080"/>
            <a:ext cx="576360" cy="6411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16120" y="1690560"/>
            <a:ext cx="574560" cy="6429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1320" y="1066680"/>
            <a:ext cx="585720" cy="6350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1560" y="3583080"/>
            <a:ext cx="583920" cy="6411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81320" y="1690560"/>
            <a:ext cx="585720" cy="64296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1560" y="2324160"/>
            <a:ext cx="583920" cy="63324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324160"/>
            <a:ext cx="582480" cy="633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16120" y="2324160"/>
            <a:ext cx="574560" cy="6332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3120" y="2948040"/>
            <a:ext cx="576360" cy="6444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1560" y="2948040"/>
            <a:ext cx="583920" cy="644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a0000"/>
              </a:solidFill>
              <a:latin typeface="Arial Narrow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Second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6a0000"/>
              </a:solidFill>
              <a:latin typeface="Arial Narrow"/>
            </a:endParaRPr>
          </a:p>
          <a:p>
            <a:pPr lvl="3" marL="1371600" algn="ctr">
              <a:spcBef>
                <a:spcPts val="451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a0000"/>
                </a:solidFill>
                <a:latin typeface="Arial Narrow"/>
              </a:rPr>
              <a:t>Fourth Outline Level</a:t>
            </a:r>
            <a:endParaRPr b="1" lang="en-US" sz="1800" spc="-1" strike="noStrike">
              <a:solidFill>
                <a:srgbClr val="6a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a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a0000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6a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Sales Analysis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Narrow"/>
              </a:rPr>
              <a:t>Good 4 U</a:t>
            </a:r>
            <a:br>
              <a:rPr sz="3600"/>
            </a:br>
            <a:r>
              <a:rPr b="0" lang="en-US" sz="3600" spc="-1" strike="noStrike">
                <a:solidFill>
                  <a:srgbClr val="6a0000"/>
                </a:solidFill>
                <a:latin typeface="Arial Narrow"/>
              </a:rPr>
              <a:t>Franchise Training</a:t>
            </a:r>
            <a:endParaRPr b="0" lang="en-US" sz="3600" spc="-1" strike="noStrike">
              <a:solidFill>
                <a:srgbClr val="6a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Sales Strategy</a:t>
            </a: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a0000"/>
                </a:solidFill>
                <a:latin typeface="Arial Narrow"/>
              </a:rPr>
              <a:t>Targeting health-conscious individuals</a:t>
            </a:r>
            <a:endParaRPr b="1" lang="en-US" sz="3400" spc="-1" strike="noStrike">
              <a:solidFill>
                <a:srgbClr val="6a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a0000"/>
                </a:solidFill>
                <a:latin typeface="Arial Narrow"/>
              </a:rPr>
              <a:t>Offering low-fat menu options</a:t>
            </a:r>
            <a:endParaRPr b="1" lang="en-US" sz="3400" spc="-1" strike="noStrike">
              <a:solidFill>
                <a:srgbClr val="6a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a0000"/>
                </a:solidFill>
                <a:latin typeface="Arial Narrow"/>
              </a:rPr>
              <a:t>Asset to the local community with employee volunteers</a:t>
            </a:r>
            <a:endParaRPr b="1" lang="en-US" sz="3400" spc="-1" strike="noStrike">
              <a:solidFill>
                <a:srgbClr val="6a0000"/>
              </a:solidFill>
              <a:latin typeface="Arial Narrow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19640" y="2529000"/>
            <a:ext cx="356256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a0000"/>
                </a:solidFill>
                <a:latin typeface="Arial Black"/>
              </a:rPr>
              <a:t>Tipping Sales</a:t>
            </a:r>
            <a:br>
              <a:rPr sz="4000"/>
            </a:br>
            <a:r>
              <a:rPr b="0" lang="en-US" sz="4000" spc="-1" strike="noStrike">
                <a:solidFill>
                  <a:srgbClr val="6a0000"/>
                </a:solidFill>
                <a:latin typeface="Arial Black"/>
              </a:rPr>
              <a:t>To Your Advantage</a:t>
            </a:r>
            <a:endParaRPr b="0" lang="en-US" sz="4000" spc="-1" strike="noStrike">
              <a:solidFill>
                <a:srgbClr val="6a0000"/>
              </a:solidFill>
              <a:latin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912960" y="4113360"/>
            <a:ext cx="7313400" cy="685800"/>
          </a:xfrm>
          <a:prstGeom prst="rect">
            <a:avLst/>
          </a:prstGeom>
          <a:solidFill>
            <a:srgbClr val="cc3300"/>
          </a:solidFill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erfect Planning Requires Balance</a:t>
            </a:r>
            <a:endParaRPr b="0" lang="en-US" sz="36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27280" y="4834080"/>
            <a:ext cx="1729080" cy="158436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640" y="2924280"/>
            <a:ext cx="1189080" cy="118908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2924280"/>
            <a:ext cx="1189080" cy="1189080"/>
          </a:xfrm>
          <a:prstGeom prst="ellipse">
            <a:avLst/>
          </a:prstGeom>
          <a:solidFill>
            <a:srgbClr val="cc3300"/>
          </a:solidFill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3640" y="2168640"/>
            <a:ext cx="7308720" cy="0"/>
          </a:xfrm>
          <a:prstGeom prst="line">
            <a:avLst/>
          </a:prstGeom>
          <a:ln w="28440">
            <a:solidFill>
              <a:srgbClr val="6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6a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ur Name, Sol6-2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919-5FE5-47EE-91BC-CFFF119070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7DDFA-7B86-40D5-8DDC-B0B147A0D1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a0000"/>
                </a:solidFill>
                <a:latin typeface="Arial Black"/>
              </a:rPr>
              <a:t>Annual Predicted Sales</a:t>
            </a:r>
            <a:endParaRPr b="0" lang="en-US" sz="3600" spc="-1" strike="noStrike">
              <a:solidFill>
                <a:srgbClr val="6a0000"/>
              </a:solidFill>
              <a:latin typeface="Arial Black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444840" y="1978200"/>
          <a:ext cx="5119560" cy="41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1978200"/>
                    <a:ext cx="5119560" cy="41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26668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22:42:14Z</dcterms:created>
  <dc:creator>Pat R. Graves</dc:creator>
  <dc:description/>
  <dc:language>en-US</dc:language>
  <cp:lastModifiedBy>Pat Graves</cp:lastModifiedBy>
  <dcterms:modified xsi:type="dcterms:W3CDTF">2004-02-29T17:21:36Z</dcterms:modified>
  <cp:revision>11</cp:revision>
  <dc:subject/>
  <dc:title>Sales Analysis</dc:title>
</cp:coreProperties>
</file>