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49B5-A0DD-4312-9BFB-CC5985794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1680" y="1981080"/>
            <a:ext cx="7138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71680" y="4130640"/>
            <a:ext cx="7138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8EBD-B9B4-4EA4-B099-4D3C8E6F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71680" y="1981080"/>
            <a:ext cx="348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30000" y="1981080"/>
            <a:ext cx="348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71680" y="4130640"/>
            <a:ext cx="348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30000" y="4130640"/>
            <a:ext cx="348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7920-E4DA-4A5B-B42C-D3FF1ABD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1680" y="1981080"/>
            <a:ext cx="229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29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99640" y="1981080"/>
            <a:ext cx="229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71680" y="4130640"/>
            <a:ext cx="229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29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99640" y="4130640"/>
            <a:ext cx="229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2E7E-4C32-412A-81D3-717F871FC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0EC6-66EC-491A-A174-CDBE9EB4C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71680" y="1981080"/>
            <a:ext cx="7138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1573-41E9-4A56-8324-E2B4F8FC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71680" y="1981080"/>
            <a:ext cx="713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9E18-1706-4102-BE6C-32BE08EC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1680" y="1981080"/>
            <a:ext cx="348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0000" y="1981080"/>
            <a:ext cx="348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B4B3-1A99-42AE-A09E-5DFAB272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6A93-D722-4632-9E20-37CFD856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461600" y="88560"/>
            <a:ext cx="66582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2F29-06E5-4A21-9CF1-59DE865A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71680" y="1981080"/>
            <a:ext cx="348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30000" y="1981080"/>
            <a:ext cx="348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71680" y="4130640"/>
            <a:ext cx="348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A515-BB95-4717-8003-35C01DC4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71680" y="1981080"/>
            <a:ext cx="7138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E038-C4AA-4CD1-A1E1-5FA498FF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71680" y="1981080"/>
            <a:ext cx="348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30000" y="1981080"/>
            <a:ext cx="348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30000" y="4130640"/>
            <a:ext cx="348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CBCD-6E60-4EF4-93BC-9DB95120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71680" y="1981080"/>
            <a:ext cx="348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30000" y="1981080"/>
            <a:ext cx="348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71680" y="4130640"/>
            <a:ext cx="7138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6C49-AF1B-4EBA-941E-989135EC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1680" y="1981080"/>
            <a:ext cx="7138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471680" y="4130640"/>
            <a:ext cx="7138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3601-405E-4033-8A8A-1ED62C80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71680" y="1981080"/>
            <a:ext cx="348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30000" y="1981080"/>
            <a:ext cx="348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71680" y="4130640"/>
            <a:ext cx="348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30000" y="4130640"/>
            <a:ext cx="348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848F-2DF0-4CAB-9F8C-102DAF925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71680" y="1981080"/>
            <a:ext cx="229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29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99640" y="1981080"/>
            <a:ext cx="229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471680" y="4130640"/>
            <a:ext cx="229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29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99640" y="4130640"/>
            <a:ext cx="229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D19C-1D16-496C-8019-9E1A1876B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71680" y="1981080"/>
            <a:ext cx="713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0094-483D-46B2-8BC0-CB0FA68C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71680" y="1981080"/>
            <a:ext cx="348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0000" y="1981080"/>
            <a:ext cx="348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2613-ED28-4F72-98A2-B43F8169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79AC-23F8-409F-9B3A-59BCF2B6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61600" y="88560"/>
            <a:ext cx="665820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A70F-9BA3-4798-9573-211816BD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71680" y="1981080"/>
            <a:ext cx="348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0000" y="1981080"/>
            <a:ext cx="348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71680" y="4130640"/>
            <a:ext cx="348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340A-8990-49CE-A2A7-CDF95BE2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71680" y="1981080"/>
            <a:ext cx="348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0000" y="1981080"/>
            <a:ext cx="348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30000" y="4130640"/>
            <a:ext cx="348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963B-48D3-4D34-94CE-6699A947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71680" y="1981080"/>
            <a:ext cx="348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30000" y="1981080"/>
            <a:ext cx="3483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71680" y="4130640"/>
            <a:ext cx="7138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AC48-AC34-470D-8799-34C0918D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71680" y="1981080"/>
            <a:ext cx="713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00cc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1293840" indent="-40320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lvl="3" marL="1681200" indent="-38592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lvl="4" marL="2070000" indent="-38736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lvl="5" marL="2070000" indent="-387360">
              <a:spcBef>
                <a:spcPts val="700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lvl="6" marL="2070000" indent="-387360">
              <a:spcBef>
                <a:spcPts val="700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BA8B-FC79-4F56-809A-2BD9131AC182}" type="slidenum">
              <a:rPr b="0" lang="en-US" sz="10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395360"/>
            <a:ext cx="9144000" cy="108000"/>
          </a:xfrm>
          <a:prstGeom prst="rect">
            <a:avLst/>
          </a:prstGeom>
          <a:gradFill rotWithShape="0">
            <a:gsLst>
              <a:gs pos="0">
                <a:srgbClr val="00465e">
                  <a:alpha val="0"/>
                </a:srgbClr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62080" y="1227240"/>
            <a:ext cx="950760" cy="441360"/>
          </a:xfrm>
          <a:prstGeom prst="diamond">
            <a:avLst/>
          </a:prstGeom>
          <a:gradFill rotWithShape="0">
            <a:gsLst>
              <a:gs pos="0">
                <a:srgbClr val="00cc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676520"/>
            <a:ext cx="4724280" cy="11430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1676520"/>
            <a:ext cx="4724280" cy="1143000"/>
          </a:xfrm>
          <a:prstGeom prst="rect">
            <a:avLst/>
          </a:prstGeom>
          <a:gradFill rotWithShape="0">
            <a:gsLst>
              <a:gs pos="0">
                <a:srgbClr val="005d8c"/>
              </a:gs>
              <a:gs pos="100000">
                <a:srgbClr val="00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98800" y="1600200"/>
            <a:ext cx="7045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8f8f8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8f8f8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6770-498C-4BC5-9B08-B4D9A62775BC}" type="slidenum">
              <a:rPr b="0" lang="en-US" sz="1000" spc="-1" strike="noStrike">
                <a:solidFill>
                  <a:srgbClr val="f8f8f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320" y="1160640"/>
            <a:ext cx="1800000" cy="2160360"/>
          </a:xfrm>
          <a:prstGeom prst="diamond">
            <a:avLst/>
          </a:prstGeom>
          <a:gradFill rotWithShape="0">
            <a:gsLst>
              <a:gs pos="0">
                <a:srgbClr val="00cc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93760" y="1996920"/>
            <a:ext cx="1241280" cy="501480"/>
            <a:chOff x="293760" y="1996920"/>
            <a:chExt cx="1241280" cy="501480"/>
          </a:xfrm>
        </p:grpSpPr>
        <p:sp>
          <p:nvSpPr>
            <p:cNvPr id="51" name=""/>
            <p:cNvSpPr txBox="1"/>
            <p:nvPr/>
          </p:nvSpPr>
          <p:spPr>
            <a:xfrm>
              <a:off x="1189080" y="2187720"/>
              <a:ext cx="345960" cy="31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883800" y="2076480"/>
              <a:ext cx="447480" cy="421920"/>
              <a:chOff x="883800" y="2076480"/>
              <a:chExt cx="447480" cy="421920"/>
            </a:xfrm>
          </p:grpSpPr>
          <p:sp>
            <p:nvSpPr>
              <p:cNvPr id="53" name=""/>
              <p:cNvSpPr/>
              <p:nvPr/>
            </p:nvSpPr>
            <p:spPr>
              <a:xfrm>
                <a:off x="883800" y="2076480"/>
                <a:ext cx="447480" cy="4219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009440" y="2121840"/>
                <a:ext cx="207000" cy="23508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05d8c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 txBox="1"/>
            <p:nvPr/>
          </p:nvSpPr>
          <p:spPr>
            <a:xfrm>
              <a:off x="293760" y="1996920"/>
              <a:ext cx="834480" cy="29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00cc99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00cc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98800" y="1600200"/>
            <a:ext cx="7045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Marketing Strategy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4243320" y="3325680"/>
            <a:ext cx="4287960" cy="3049560"/>
          </a:xfrm>
          <a:prstGeom prst="rect">
            <a:avLst/>
          </a:prstGeom>
          <a:solidFill>
            <a:srgbClr val="00cc99"/>
          </a:solidFill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0" y="3657600"/>
            <a:ext cx="3657600" cy="2425680"/>
          </a:xfrm>
          <a:prstGeom prst="rect">
            <a:avLst/>
          </a:prstGeom>
          <a:ln w="38160">
            <a:solidFill>
              <a:srgbClr val="005d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1320" y="1980720"/>
            <a:ext cx="4003560" cy="40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Seek potential investors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Investigate the firm Marketing Strategic Management Systems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Research the World Wide Web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881680" y="2263680"/>
            <a:ext cx="2916360" cy="2808360"/>
          </a:xfrm>
          <a:prstGeom prst="rect">
            <a:avLst/>
          </a:prstGeom>
          <a:solidFill>
            <a:srgbClr val="00cc99"/>
          </a:solidFill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4163" t="5305" r="33898" b="7107"/>
          <a:stretch/>
        </p:blipFill>
        <p:spPr>
          <a:xfrm>
            <a:off x="6189840" y="2603520"/>
            <a:ext cx="2265120" cy="2152800"/>
          </a:xfrm>
          <a:prstGeom prst="rect">
            <a:avLst/>
          </a:prstGeom>
          <a:ln w="38160">
            <a:solidFill>
              <a:srgbClr val="005d8c"/>
            </a:solidFill>
            <a:miter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ustomer Requirement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71680" y="1981080"/>
            <a:ext cx="713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Target health-conscious areas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Study traffic patterns in selected areas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Interview potential customer base for food preferences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Interview potential customer base for sports preferences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ost Analysi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1320" y="1981080"/>
            <a:ext cx="349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Miami costs have soared in the 3rd Quarter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New York costs have remained steady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856040" y="1928880"/>
          <a:ext cx="3976920" cy="36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040" y="1928880"/>
                    <a:ext cx="397692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d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61600" y="88560"/>
            <a:ext cx="66582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Meeting the Need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71680" y="1981080"/>
            <a:ext cx="713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Use customer interview results to develop menu plans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Select a location with the greatest exposure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00cc9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Use customer interview results to develop interior sports designs</a:t>
            </a:r>
            <a:endParaRPr b="1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6:36Z</dcterms:created>
  <dc:creator>Pat R. Graves</dc:creator>
  <dc:description/>
  <dc:language>en-US</dc:language>
  <cp:lastModifiedBy>Student Name</cp:lastModifiedBy>
  <cp:lastPrinted>1996-12-06T17:08:44Z</cp:lastPrinted>
  <dcterms:modified xsi:type="dcterms:W3CDTF">2004-04-11T20:01:50Z</dcterms:modified>
  <cp:revision>32</cp:revision>
  <dc:subject/>
  <dc:title>Marketing Strategy</dc:title>
</cp:coreProperties>
</file>