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85C-6247-4D76-8E80-4E99020D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B06A-0758-4210-86EA-7F52CFE8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4EEC-00BC-455D-AD0C-89436393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2AE-FA9F-41BB-B090-9F71A9E6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F263-097B-4E12-9A6D-A1BD740F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D1A8-003D-4A31-9998-06824320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87FB-6A86-4B76-8763-4C5F415D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B19E-866F-4B60-9B62-7E002827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9A2A-3560-43A3-9A1B-0ED39F9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62AB-AFC1-4A36-84AA-5F7D11A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A3B7-66F3-4412-8E36-5FFA408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D43F-8AB7-47E2-BC92-51B5CDA6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1EBA-B9EE-41F2-A1B8-7040CF4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32C5-144B-44DE-99C1-2294695D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BDBE-6195-426C-AA19-3FDB8ADC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1B64-172E-4AF7-8E11-FE3B4D6A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A359-A282-4B57-9D24-7C50F19A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3848-34DC-4DFC-90E8-9170575C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C690-4CBC-4495-9492-6F9C7ACD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93F-AA90-4B1D-8642-26A36721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15DC-6377-417A-97C9-00FCD485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002-7BF6-4FA6-8A1E-06A3DA60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2B9-30D9-44FB-BC44-2F1D061D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25F-6FA3-4945-B270-9ABE94B9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FD91-C33D-449D-B7BE-0331FD3639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63480" y="620640"/>
            <a:ext cx="77947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8433-ABAA-40B6-9542-F070D765EE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4680" y="5554800"/>
            <a:ext cx="1482480" cy="610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3480" y="620640"/>
            <a:ext cx="7794720" cy="17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  <a:ea typeface="SimSun"/>
              </a:rPr>
              <a:t>Franchise Owners</a:t>
            </a:r>
            <a:endParaRPr b="1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724000" y="2448000"/>
            <a:ext cx="326412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SimSun"/>
              </a:rPr>
              <a:t>Annual Meeting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438360" y="3092400"/>
            <a:ext cx="57499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Good 4 U Menu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Good 4 U Veggie Burg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Simply Good Shrimp Sal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Good Fruit Comb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Andre’s Lemon Dill Chick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 rot="20392800">
            <a:off x="3754440" y="4668480"/>
            <a:ext cx="423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Verdana"/>
              </a:rPr>
              <a:t>Low fat, low carb selec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Franchise Recognition Program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Use the finest quality ingredi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Recognize crea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Encourage safety in all areas of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  <a:ea typeface="SimSun"/>
              </a:rPr>
              <a:t>Create a healthy and fun atmosphere for guests and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SimSun"/>
              </a:rPr>
              <a:t>Promoting Excellence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720800" y="2244600"/>
            <a:ext cx="5854680" cy="3154320"/>
          </a:xfrm>
          <a:custGeom>
            <a:avLst/>
            <a:gdLst>
              <a:gd name="textAreaLeft" fmla="*/ 1336320 w 5854680"/>
              <a:gd name="textAreaRight" fmla="*/ 4518360 w 5854680"/>
              <a:gd name="textAreaTop" fmla="*/ 720000 h 3154320"/>
              <a:gd name="textAreaBottom" fmla="*/ 2434320 h 315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Good 4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al of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23:48:09Z</dcterms:created>
  <dc:creator>Pat Graves</dc:creator>
  <dc:description/>
  <dc:language>en-US</dc:language>
  <cp:lastModifiedBy>Pat Graves</cp:lastModifiedBy>
  <dcterms:modified xsi:type="dcterms:W3CDTF">2004-03-01T02:10:40Z</dcterms:modified>
  <cp:revision>3</cp:revision>
  <dc:subject/>
  <dc:title>Franchise Owners</dc:title>
</cp:coreProperties>
</file>