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5B8-0A9A-4289-8DF5-337BCA25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529-202D-4AEC-A35B-D05B3C27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585-7F79-4EE3-B9A3-624FD84E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F64-5B21-44EB-ADD2-481FF5AE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01AE-0FD1-47FC-ABFB-80C013A2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D84D-EDDC-4BDF-B89F-A2EA1F18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C95F-AB96-4236-BF38-E534693E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E9FD-1861-4815-9A64-C324FD83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D4A7-2489-48B2-839F-1996BE2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B3C7-695E-415F-9D2B-977E8043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402D-C764-40DF-8E65-8147E097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53F9-F400-41A1-A542-7368CD12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9922-7D01-4CBC-8755-0E77D5C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7199-16B8-42D2-B715-EC4112D4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68D3-07C2-4E8E-9C01-C631453D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C558-E6B8-4D59-9F04-170AE76E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6546A-682F-45DF-975F-77B7DCAB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A57-00C3-400D-BB50-0DF64B92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3B8-77D9-4B01-A066-3DBFEB2F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601-5A75-4EB1-9F2D-BA7F140B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28A-B273-43AE-A10E-97658819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80F-AFB3-40A1-9F3B-569F386E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6C5-5167-49B4-B2ED-EE5D0027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8F19-26AC-497B-8B17-BA892476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EF96-453A-4A3B-B462-527ED9DAD14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03600" cy="25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325A-A14C-4237-A052-CF8A42F1C812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1041480"/>
            <a:ext cx="4246560" cy="283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30968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61936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92904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523872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6548400" y="5710320"/>
            <a:ext cx="1236600" cy="11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7858080" y="5710320"/>
            <a:ext cx="1236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20600" y="1066680"/>
            <a:ext cx="7129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63640" y="1844640"/>
            <a:ext cx="1600200" cy="16002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908440" y="1305000"/>
            <a:ext cx="327168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700000">
            <a:off x="4584240" y="4967280"/>
            <a:ext cx="3926160" cy="1295280"/>
          </a:xfrm>
          <a:custGeom>
            <a:avLst/>
            <a:gdLst>
              <a:gd name="textAreaLeft" fmla="*/ 896040 w 3926160"/>
              <a:gd name="textAreaRight" fmla="*/ 3030120 w 39261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13000" y="1509840"/>
            <a:ext cx="2532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448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720" y="368280"/>
            <a:ext cx="755640" cy="717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08720" y="368280"/>
            <a:ext cx="934920" cy="889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512640"/>
            <a:ext cx="1008360" cy="9590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9640" y="1484280"/>
            <a:ext cx="1152720" cy="1095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0000" y="1881360"/>
            <a:ext cx="1081080" cy="10270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2924280"/>
            <a:ext cx="1656000" cy="1573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43280" y="4041720"/>
            <a:ext cx="1189080" cy="1130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2960640"/>
            <a:ext cx="1584360" cy="15066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4581360"/>
            <a:ext cx="1547640" cy="14716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8000" y="2708280"/>
            <a:ext cx="1224000" cy="1163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84360" y="1015920"/>
            <a:ext cx="1582560" cy="1505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95640" y="476280"/>
            <a:ext cx="1692360" cy="16081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060640"/>
            <a:ext cx="1908000" cy="18129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4545000"/>
            <a:ext cx="1979640" cy="18813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4724280"/>
            <a:ext cx="1800360" cy="17114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9640" y="1376280"/>
            <a:ext cx="504720" cy="479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04000" y="2852640"/>
            <a:ext cx="900000" cy="8557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84720" y="2852640"/>
            <a:ext cx="1044360" cy="992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113360"/>
            <a:ext cx="1511280" cy="1436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35280" y="5121360"/>
            <a:ext cx="1333440" cy="12668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Im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16320" y="383040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810400" y="124632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662520" y="383040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46280" y="130644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840280" y="4254480"/>
            <a:ext cx="27036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8:14:32Z</dcterms:modified>
  <cp:revision>16</cp:revision>
  <dc:subject/>
  <dc:title>Slide 1</dc:title>
</cp:coreProperties>
</file>