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94E-C2B6-4FA9-B062-E403A5F3F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0F29-7FEA-4B1D-909F-9284F4E7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EF6-28B2-4914-9107-5FC06D22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F98-C991-4756-ADFF-24FF90E5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2E77-85D6-48C5-BCFC-C77B21CE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6614-2753-4FD1-937B-ECD358469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57F4-EFDB-4E68-A23C-84672930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2A06-0186-4AD3-996B-44191743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E4AE-B05D-4353-B5B7-F7C9A19F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D07C-67B0-4170-936F-D8415FC5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2DFF-B5F0-4797-A437-981A648E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27A-E35B-4E3A-9A3F-C3B66BA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0883-DA70-40F2-82AA-0AE8CBB2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3C17-BAFE-4172-8F58-2AC236B9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8CF7-9A7D-4E39-B703-235CAE6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696C-DE4B-42FB-8B7A-A572BA6C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324C-E23C-4D61-92A6-59F7D7EF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A15-EDD8-4246-95F2-C8B6E88B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F27B-5169-4557-B6AC-D262D96B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474-0985-4D9D-A2AC-C0E82103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A95-858D-4847-8B24-CF1B9CE0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194B-048A-4FD5-BD7A-EC0F07C5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1E6A-6912-4933-B502-AA577789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D50-DB77-4F7A-B529-1EC58808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FB1E-9968-44EC-87C4-7759FE85251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7F5-7D77-4A7B-9F13-C85C44F0122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 6-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8T07:03:34Z</dcterms:modified>
  <cp:revision>11</cp:revision>
  <dc:subject/>
  <dc:title>Slide 1</dc:title>
</cp:coreProperties>
</file>