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11E5-1925-4E1F-B298-E4F0CDBE8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3BC8-4CB6-4D38-A6F6-9B3850AB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4541-F5C7-4F10-866D-4EB1613CF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02D9-6E6B-4E8E-8685-F5369E1A8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C562-04C4-4F9F-AB88-E51B7CD7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E0C0-7588-4657-876D-76200839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C3EE-5E0E-4B75-BFE3-22946902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6A11-A396-44B0-B693-1A437979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2DD7-3E91-4E8A-90C3-9270DB8E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FDFA-77AC-43F4-A31E-D96A2A09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AC33-BEDD-4B9B-ABF8-53086C7C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4A11-8B63-4EEC-BCE8-DAB6148F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07AC-EE8A-4FDE-94C6-AF76858B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EC0A-3FD3-4179-8DA6-9F5B0963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695B-D988-4F34-99E0-57425BA8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8E1F-95B7-4C16-BE66-B4B156400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F162-A63E-46B2-843A-59B1BC3DE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96E2-A70F-406C-847B-28790B53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BD28-3718-4BB7-9CD6-5B84141D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C50F-BFDA-44E7-A12C-0CFDB69E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41CD-3E6E-44DF-9061-035B594B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B0F1-02CC-4509-ADBB-F2ACD5F1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0FE5-3DCA-46AD-BD2E-634B7C95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C212-5C44-4D84-A430-0E421AB0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180A-466D-4B9B-88E7-2547F37C534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534D-EFF2-4266-AC1A-DF18FF9817F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915320" y="82440"/>
            <a:ext cx="1154160" cy="4762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542960" y="2073240"/>
            <a:ext cx="6485040" cy="17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ttracting Investors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6674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tain investors to establish Good 4 U as a franch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sit the current business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re a marketing consulting fi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91320" y="2235240"/>
            <a:ext cx="2987640" cy="2457360"/>
          </a:xfrm>
          <a:prstGeom prst="bevel">
            <a:avLst>
              <a:gd name="adj" fmla="val 637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vestors are our building bloc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Our Specialti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39434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c fruit and veget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sh ju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novative cuis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08240" y="1614600"/>
            <a:ext cx="2336760" cy="2158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62520" y="1417680"/>
            <a:ext cx="3753000" cy="245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vestors Want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-profile 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tel or storefro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ty with tourism, such as Miami or New Y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rb appea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68800" y="1743120"/>
            <a:ext cx="3584520" cy="4763880"/>
          </a:xfrm>
          <a:prstGeom prst="rect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49960" y="1947960"/>
            <a:ext cx="3070080" cy="425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 flipV="1">
            <a:off x="2478240" y="4510080"/>
            <a:ext cx="6356160" cy="170352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get health-conscious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get high-profile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traffic patterns in selected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20700000">
            <a:off x="3447720" y="5587560"/>
            <a:ext cx="1279440" cy="426960"/>
          </a:xfrm>
          <a:prstGeom prst="rightArrow">
            <a:avLst>
              <a:gd name="adj1" fmla="val 50000"/>
              <a:gd name="adj2" fmla="val 74916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20700000">
            <a:off x="5059080" y="5149440"/>
            <a:ext cx="1279440" cy="426960"/>
          </a:xfrm>
          <a:prstGeom prst="rightArrow">
            <a:avLst>
              <a:gd name="adj1" fmla="val 50000"/>
              <a:gd name="adj2" fmla="val 74916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20700000">
            <a:off x="6670440" y="4711320"/>
            <a:ext cx="1279440" cy="426960"/>
          </a:xfrm>
          <a:prstGeom prst="rightArrow">
            <a:avLst>
              <a:gd name="adj1" fmla="val 50000"/>
              <a:gd name="adj2" fmla="val 74916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6:36Z</dcterms:created>
  <dc:creator>Pat R. Graves</dc:creator>
  <dc:description/>
  <dc:language>en-US</dc:language>
  <cp:lastModifiedBy>Ms. Malnick</cp:lastModifiedBy>
  <cp:lastPrinted>1996-11-27T23:10:18Z</cp:lastPrinted>
  <dcterms:modified xsi:type="dcterms:W3CDTF">2004-04-02T19:53:18Z</dcterms:modified>
  <cp:revision>30</cp:revision>
  <dc:subject/>
  <dc:title>Attracting Investors</dc:title>
</cp:coreProperties>
</file>