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857-9426-4CD7-96A6-6EF66E49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4466-A6DE-4CF0-BC36-D8C970C5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157-1925-48F3-89BC-AB5E4482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816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500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816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500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4846-CD43-4D4E-A1AF-21C5A8284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1BBE-1D70-459C-8119-4F12D204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AFB3-7663-4E06-B518-37DADDAD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16E3-17E3-49A5-BD74-49F7B458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0C58-E304-4DB8-8FAD-90846292E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2434-40F0-44B0-85FD-8CF92356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3734-481B-4A6A-B938-5D0D193C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8A64-6BA0-49BF-BEE1-206E34AE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998-960E-4754-AAF0-7B73253E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3D31-06C4-45FE-B354-8496385E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5F5C-C467-40E4-AA43-5945B2E1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F18E-E6BE-4A43-8B00-0770F690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7F2C-2F1E-49F4-A548-838E885F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8816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75000" y="159984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0132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8816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75000" y="3949920"/>
            <a:ext cx="2748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317F-3855-4876-B14D-98D27B8AA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13F7-2C7D-4F24-B19D-A100A495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69A8-4946-44C8-BA59-CAEB0D36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E96D-BA9B-43EE-987E-4487BB1C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E04A-3E4E-454B-81A0-6615661D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BBA9-A932-4D6A-AD18-FD2FB607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6040" y="394992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EDC-02AE-47B9-A3AA-0B209DA5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165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49920"/>
            <a:ext cx="85374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663-EB0B-43EA-9D8E-A2747893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43200" y="2236680"/>
              <a:ext cx="6392880" cy="4613400"/>
              <a:chOff x="2743200" y="2236680"/>
              <a:chExt cx="6392880" cy="461340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1d9b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129280" y="2236680"/>
                <a:ext cx="3645000" cy="2332080"/>
              </a:xfrm>
              <a:custGeom>
                <a:avLst/>
                <a:gdLst/>
                <a:ahLst/>
                <a:rect l="l" t="t" r="r" b="b"/>
                <a:pathLst>
                  <a:path w="2296" h="1469">
                    <a:moveTo>
                      <a:pt x="771" y="1088"/>
                    </a:moveTo>
                    <a:lnTo>
                      <a:pt x="982" y="1061"/>
                    </a:lnTo>
                    <a:lnTo>
                      <a:pt x="1178" y="1034"/>
                    </a:lnTo>
                    <a:lnTo>
                      <a:pt x="1357" y="1012"/>
                    </a:lnTo>
                    <a:lnTo>
                      <a:pt x="1520" y="985"/>
                    </a:lnTo>
                    <a:lnTo>
                      <a:pt x="1666" y="957"/>
                    </a:lnTo>
                    <a:lnTo>
                      <a:pt x="1796" y="930"/>
                    </a:lnTo>
                    <a:lnTo>
                      <a:pt x="1916" y="897"/>
                    </a:lnTo>
                    <a:lnTo>
                      <a:pt x="2013" y="870"/>
                    </a:lnTo>
                    <a:lnTo>
                      <a:pt x="2100" y="832"/>
                    </a:lnTo>
                    <a:lnTo>
                      <a:pt x="2171" y="800"/>
                    </a:lnTo>
                    <a:lnTo>
                      <a:pt x="2220" y="756"/>
                    </a:lnTo>
                    <a:lnTo>
                      <a:pt x="2263" y="712"/>
                    </a:lnTo>
                    <a:lnTo>
                      <a:pt x="2285" y="669"/>
                    </a:lnTo>
                    <a:lnTo>
                      <a:pt x="2296" y="614"/>
                    </a:lnTo>
                    <a:lnTo>
                      <a:pt x="2290" y="560"/>
                    </a:lnTo>
                    <a:lnTo>
                      <a:pt x="2269" y="500"/>
                    </a:lnTo>
                    <a:lnTo>
                      <a:pt x="2241" y="457"/>
                    </a:lnTo>
                    <a:lnTo>
                      <a:pt x="2198" y="408"/>
                    </a:lnTo>
                    <a:lnTo>
                      <a:pt x="2144" y="364"/>
                    </a:lnTo>
                    <a:lnTo>
                      <a:pt x="2079" y="321"/>
                    </a:lnTo>
                    <a:lnTo>
                      <a:pt x="2008" y="277"/>
                    </a:lnTo>
                    <a:lnTo>
                      <a:pt x="1927" y="234"/>
                    </a:lnTo>
                    <a:lnTo>
                      <a:pt x="1769" y="157"/>
                    </a:lnTo>
                    <a:lnTo>
                      <a:pt x="1688" y="125"/>
                    </a:lnTo>
                    <a:lnTo>
                      <a:pt x="1612" y="92"/>
                    </a:lnTo>
                    <a:lnTo>
                      <a:pt x="1536" y="65"/>
                    </a:lnTo>
                    <a:lnTo>
                      <a:pt x="1476" y="43"/>
                    </a:lnTo>
                    <a:lnTo>
                      <a:pt x="1422" y="27"/>
                    </a:lnTo>
                    <a:lnTo>
                      <a:pt x="1384" y="10"/>
                    </a:lnTo>
                    <a:lnTo>
                      <a:pt x="1357" y="5"/>
                    </a:lnTo>
                    <a:lnTo>
                      <a:pt x="1346" y="0"/>
                    </a:lnTo>
                    <a:lnTo>
                      <a:pt x="1498" y="54"/>
                    </a:lnTo>
                    <a:lnTo>
                      <a:pt x="1655" y="119"/>
                    </a:lnTo>
                    <a:lnTo>
                      <a:pt x="1807" y="185"/>
                    </a:lnTo>
                    <a:lnTo>
                      <a:pt x="1948" y="255"/>
                    </a:lnTo>
                    <a:lnTo>
                      <a:pt x="2013" y="288"/>
                    </a:lnTo>
                    <a:lnTo>
                      <a:pt x="2068" y="326"/>
                    </a:lnTo>
                    <a:lnTo>
                      <a:pt x="2122" y="364"/>
                    </a:lnTo>
                    <a:lnTo>
                      <a:pt x="2171" y="402"/>
                    </a:lnTo>
                    <a:lnTo>
                      <a:pt x="2209" y="440"/>
                    </a:lnTo>
                    <a:lnTo>
                      <a:pt x="2236" y="478"/>
                    </a:lnTo>
                    <a:lnTo>
                      <a:pt x="2252" y="522"/>
                    </a:lnTo>
                    <a:lnTo>
                      <a:pt x="2263" y="560"/>
                    </a:lnTo>
                    <a:lnTo>
                      <a:pt x="2258" y="598"/>
                    </a:lnTo>
                    <a:lnTo>
                      <a:pt x="2241" y="636"/>
                    </a:lnTo>
                    <a:lnTo>
                      <a:pt x="2214" y="669"/>
                    </a:lnTo>
                    <a:lnTo>
                      <a:pt x="2171" y="702"/>
                    </a:lnTo>
                    <a:lnTo>
                      <a:pt x="2122" y="729"/>
                    </a:lnTo>
                    <a:lnTo>
                      <a:pt x="2062" y="756"/>
                    </a:lnTo>
                    <a:lnTo>
                      <a:pt x="1997" y="778"/>
                    </a:lnTo>
                    <a:lnTo>
                      <a:pt x="1921" y="800"/>
                    </a:lnTo>
                    <a:lnTo>
                      <a:pt x="1834" y="821"/>
                    </a:lnTo>
                    <a:lnTo>
                      <a:pt x="1748" y="843"/>
                    </a:lnTo>
                    <a:lnTo>
                      <a:pt x="1552" y="876"/>
                    </a:lnTo>
                    <a:lnTo>
                      <a:pt x="1351" y="908"/>
                    </a:lnTo>
                    <a:lnTo>
                      <a:pt x="1134" y="941"/>
                    </a:lnTo>
                    <a:lnTo>
                      <a:pt x="923" y="968"/>
                    </a:lnTo>
                    <a:lnTo>
                      <a:pt x="716" y="995"/>
                    </a:lnTo>
                    <a:lnTo>
                      <a:pt x="521" y="1028"/>
                    </a:lnTo>
                    <a:lnTo>
                      <a:pt x="434" y="1044"/>
                    </a:lnTo>
                    <a:lnTo>
                      <a:pt x="353" y="1066"/>
                    </a:lnTo>
                    <a:lnTo>
                      <a:pt x="277" y="1082"/>
                    </a:lnTo>
                    <a:lnTo>
                      <a:pt x="206" y="1104"/>
                    </a:lnTo>
                    <a:lnTo>
                      <a:pt x="147" y="1126"/>
                    </a:lnTo>
                    <a:lnTo>
                      <a:pt x="92" y="1148"/>
                    </a:lnTo>
                    <a:lnTo>
                      <a:pt x="54" y="1175"/>
                    </a:lnTo>
                    <a:lnTo>
                      <a:pt x="22" y="1202"/>
                    </a:lnTo>
                    <a:lnTo>
                      <a:pt x="6" y="1229"/>
                    </a:lnTo>
                    <a:lnTo>
                      <a:pt x="0" y="1262"/>
                    </a:lnTo>
                    <a:lnTo>
                      <a:pt x="11" y="1295"/>
                    </a:lnTo>
                    <a:lnTo>
                      <a:pt x="27" y="1327"/>
                    </a:lnTo>
                    <a:lnTo>
                      <a:pt x="54" y="1355"/>
                    </a:lnTo>
                    <a:lnTo>
                      <a:pt x="98" y="1382"/>
                    </a:lnTo>
                    <a:lnTo>
                      <a:pt x="141" y="1404"/>
                    </a:lnTo>
                    <a:lnTo>
                      <a:pt x="196" y="1425"/>
                    </a:lnTo>
                    <a:lnTo>
                      <a:pt x="261" y="1447"/>
                    </a:lnTo>
                    <a:lnTo>
                      <a:pt x="326" y="1469"/>
                    </a:lnTo>
                    <a:lnTo>
                      <a:pt x="266" y="1442"/>
                    </a:lnTo>
                    <a:lnTo>
                      <a:pt x="217" y="1414"/>
                    </a:lnTo>
                    <a:lnTo>
                      <a:pt x="174" y="1387"/>
                    </a:lnTo>
                    <a:lnTo>
                      <a:pt x="147" y="1360"/>
                    </a:lnTo>
                    <a:lnTo>
                      <a:pt x="125" y="1333"/>
                    </a:lnTo>
                    <a:lnTo>
                      <a:pt x="120" y="1306"/>
                    </a:lnTo>
                    <a:lnTo>
                      <a:pt x="125" y="1278"/>
                    </a:lnTo>
                    <a:lnTo>
                      <a:pt x="141" y="1257"/>
                    </a:lnTo>
                    <a:lnTo>
                      <a:pt x="174" y="1229"/>
                    </a:lnTo>
                    <a:lnTo>
                      <a:pt x="212" y="1208"/>
                    </a:lnTo>
                    <a:lnTo>
                      <a:pt x="272" y="1186"/>
                    </a:lnTo>
                    <a:lnTo>
                      <a:pt x="342" y="1164"/>
                    </a:lnTo>
                    <a:lnTo>
                      <a:pt x="423" y="1142"/>
                    </a:lnTo>
                    <a:lnTo>
                      <a:pt x="527" y="1121"/>
                    </a:lnTo>
                    <a:lnTo>
                      <a:pt x="641" y="1104"/>
                    </a:lnTo>
                    <a:lnTo>
                      <a:pt x="771" y="1088"/>
                    </a:lnTo>
                    <a:lnTo>
                      <a:pt x="771" y="10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1d9b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301320" y="1599840"/>
            <a:ext cx="85374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2" marL="1108440" indent="-221400">
              <a:spcBef>
                <a:spcPts val="9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3" marL="1551960" indent="-221400">
              <a:spcBef>
                <a:spcPts val="9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4" marL="1995480" indent="-221400">
              <a:spcBef>
                <a:spcPts val="9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5" marL="1995480" indent="-221400">
              <a:spcBef>
                <a:spcPts val="901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6" marL="1995480" indent="-221400">
              <a:spcBef>
                <a:spcPts val="901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0183-5DB1-4DF0-9E3F-5C3EB9A533FE}" type="slidenum">
              <a:rPr b="0" lang="en-US" sz="10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0760" cy="2819520"/>
          </a:xfrm>
          <a:custGeom>
            <a:avLst/>
            <a:gdLst/>
            <a:ahLst/>
            <a:rect l="l" t="t" r="r" b="b"/>
            <a:pathLst>
              <a:path w="5740" h="1906">
                <a:moveTo>
                  <a:pt x="0" y="0"/>
                </a:moveTo>
                <a:lnTo>
                  <a:pt x="0" y="1906"/>
                </a:lnTo>
                <a:lnTo>
                  <a:pt x="5740" y="1906"/>
                </a:lnTo>
                <a:lnTo>
                  <a:pt x="574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fdeaf"/>
              </a:gs>
              <a:gs pos="100000">
                <a:srgbClr val="f9f0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068640"/>
            <a:ext cx="5867280" cy="3789360"/>
          </a:xfrm>
          <a:custGeom>
            <a:avLst/>
            <a:gdLst/>
            <a:ahLst/>
            <a:rect l="l" t="t" r="r" b="b"/>
            <a:pathLst>
              <a:path w="3007" h="2085">
                <a:moveTo>
                  <a:pt x="1427" y="441"/>
                </a:moveTo>
                <a:lnTo>
                  <a:pt x="1433" y="474"/>
                </a:lnTo>
                <a:lnTo>
                  <a:pt x="1444" y="501"/>
                </a:lnTo>
                <a:lnTo>
                  <a:pt x="1460" y="528"/>
                </a:lnTo>
                <a:lnTo>
                  <a:pt x="1482" y="550"/>
                </a:lnTo>
                <a:lnTo>
                  <a:pt x="1541" y="593"/>
                </a:lnTo>
                <a:lnTo>
                  <a:pt x="1623" y="637"/>
                </a:lnTo>
                <a:lnTo>
                  <a:pt x="1715" y="670"/>
                </a:lnTo>
                <a:lnTo>
                  <a:pt x="1818" y="702"/>
                </a:lnTo>
                <a:lnTo>
                  <a:pt x="1927" y="735"/>
                </a:lnTo>
                <a:lnTo>
                  <a:pt x="2041" y="762"/>
                </a:lnTo>
                <a:lnTo>
                  <a:pt x="2155" y="789"/>
                </a:lnTo>
                <a:lnTo>
                  <a:pt x="2269" y="822"/>
                </a:lnTo>
                <a:lnTo>
                  <a:pt x="2372" y="849"/>
                </a:lnTo>
                <a:lnTo>
                  <a:pt x="2464" y="882"/>
                </a:lnTo>
                <a:lnTo>
                  <a:pt x="2551" y="920"/>
                </a:lnTo>
                <a:lnTo>
                  <a:pt x="2616" y="958"/>
                </a:lnTo>
                <a:lnTo>
                  <a:pt x="2638" y="980"/>
                </a:lnTo>
                <a:lnTo>
                  <a:pt x="2659" y="1007"/>
                </a:lnTo>
                <a:lnTo>
                  <a:pt x="2676" y="1029"/>
                </a:lnTo>
                <a:lnTo>
                  <a:pt x="2681" y="1056"/>
                </a:lnTo>
                <a:lnTo>
                  <a:pt x="2681" y="1083"/>
                </a:lnTo>
                <a:lnTo>
                  <a:pt x="2676" y="1105"/>
                </a:lnTo>
                <a:lnTo>
                  <a:pt x="2665" y="1127"/>
                </a:lnTo>
                <a:lnTo>
                  <a:pt x="2643" y="1149"/>
                </a:lnTo>
                <a:lnTo>
                  <a:pt x="2616" y="1170"/>
                </a:lnTo>
                <a:lnTo>
                  <a:pt x="2583" y="1187"/>
                </a:lnTo>
                <a:lnTo>
                  <a:pt x="2545" y="1208"/>
                </a:lnTo>
                <a:lnTo>
                  <a:pt x="2502" y="1225"/>
                </a:lnTo>
                <a:lnTo>
                  <a:pt x="2448" y="1241"/>
                </a:lnTo>
                <a:lnTo>
                  <a:pt x="2388" y="1257"/>
                </a:lnTo>
                <a:lnTo>
                  <a:pt x="2328" y="1274"/>
                </a:lnTo>
                <a:lnTo>
                  <a:pt x="2258" y="1290"/>
                </a:lnTo>
                <a:lnTo>
                  <a:pt x="2106" y="1328"/>
                </a:lnTo>
                <a:lnTo>
                  <a:pt x="1932" y="1372"/>
                </a:lnTo>
                <a:lnTo>
                  <a:pt x="1742" y="1421"/>
                </a:lnTo>
                <a:lnTo>
                  <a:pt x="1531" y="1475"/>
                </a:lnTo>
                <a:lnTo>
                  <a:pt x="1308" y="1540"/>
                </a:lnTo>
                <a:lnTo>
                  <a:pt x="1069" y="1617"/>
                </a:lnTo>
                <a:lnTo>
                  <a:pt x="820" y="1709"/>
                </a:lnTo>
                <a:lnTo>
                  <a:pt x="554" y="1818"/>
                </a:lnTo>
                <a:lnTo>
                  <a:pt x="282" y="1943"/>
                </a:lnTo>
                <a:lnTo>
                  <a:pt x="0" y="2085"/>
                </a:lnTo>
                <a:lnTo>
                  <a:pt x="152" y="2085"/>
                </a:lnTo>
                <a:lnTo>
                  <a:pt x="244" y="2074"/>
                </a:lnTo>
                <a:lnTo>
                  <a:pt x="386" y="1992"/>
                </a:lnTo>
                <a:lnTo>
                  <a:pt x="537" y="1910"/>
                </a:lnTo>
                <a:lnTo>
                  <a:pt x="700" y="1834"/>
                </a:lnTo>
                <a:lnTo>
                  <a:pt x="879" y="1763"/>
                </a:lnTo>
                <a:lnTo>
                  <a:pt x="1064" y="1693"/>
                </a:lnTo>
                <a:lnTo>
                  <a:pt x="1259" y="1622"/>
                </a:lnTo>
                <a:lnTo>
                  <a:pt x="1661" y="1497"/>
                </a:lnTo>
                <a:lnTo>
                  <a:pt x="1748" y="1470"/>
                </a:lnTo>
                <a:lnTo>
                  <a:pt x="1845" y="1442"/>
                </a:lnTo>
                <a:lnTo>
                  <a:pt x="2046" y="1393"/>
                </a:lnTo>
                <a:lnTo>
                  <a:pt x="2252" y="1339"/>
                </a:lnTo>
                <a:lnTo>
                  <a:pt x="2458" y="1285"/>
                </a:lnTo>
                <a:lnTo>
                  <a:pt x="2551" y="1263"/>
                </a:lnTo>
                <a:lnTo>
                  <a:pt x="2643" y="1236"/>
                </a:lnTo>
                <a:lnTo>
                  <a:pt x="2730" y="1214"/>
                </a:lnTo>
                <a:lnTo>
                  <a:pt x="2806" y="1192"/>
                </a:lnTo>
                <a:lnTo>
                  <a:pt x="2876" y="1170"/>
                </a:lnTo>
                <a:lnTo>
                  <a:pt x="2931" y="1149"/>
                </a:lnTo>
                <a:lnTo>
                  <a:pt x="2974" y="1132"/>
                </a:lnTo>
                <a:lnTo>
                  <a:pt x="3007" y="1116"/>
                </a:lnTo>
                <a:lnTo>
                  <a:pt x="3007" y="871"/>
                </a:lnTo>
                <a:lnTo>
                  <a:pt x="2941" y="860"/>
                </a:lnTo>
                <a:lnTo>
                  <a:pt x="2860" y="844"/>
                </a:lnTo>
                <a:lnTo>
                  <a:pt x="2773" y="827"/>
                </a:lnTo>
                <a:lnTo>
                  <a:pt x="2670" y="806"/>
                </a:lnTo>
                <a:lnTo>
                  <a:pt x="2567" y="784"/>
                </a:lnTo>
                <a:lnTo>
                  <a:pt x="2458" y="757"/>
                </a:lnTo>
                <a:lnTo>
                  <a:pt x="2241" y="702"/>
                </a:lnTo>
                <a:lnTo>
                  <a:pt x="2138" y="670"/>
                </a:lnTo>
                <a:lnTo>
                  <a:pt x="2046" y="637"/>
                </a:lnTo>
                <a:lnTo>
                  <a:pt x="1959" y="604"/>
                </a:lnTo>
                <a:lnTo>
                  <a:pt x="1883" y="566"/>
                </a:lnTo>
                <a:lnTo>
                  <a:pt x="1824" y="534"/>
                </a:lnTo>
                <a:lnTo>
                  <a:pt x="1780" y="495"/>
                </a:lnTo>
                <a:lnTo>
                  <a:pt x="1769" y="474"/>
                </a:lnTo>
                <a:lnTo>
                  <a:pt x="1758" y="457"/>
                </a:lnTo>
                <a:lnTo>
                  <a:pt x="1753" y="436"/>
                </a:lnTo>
                <a:lnTo>
                  <a:pt x="1758" y="419"/>
                </a:lnTo>
                <a:lnTo>
                  <a:pt x="1780" y="381"/>
                </a:lnTo>
                <a:lnTo>
                  <a:pt x="1813" y="343"/>
                </a:lnTo>
                <a:lnTo>
                  <a:pt x="1862" y="316"/>
                </a:lnTo>
                <a:lnTo>
                  <a:pt x="1921" y="289"/>
                </a:lnTo>
                <a:lnTo>
                  <a:pt x="1986" y="267"/>
                </a:lnTo>
                <a:lnTo>
                  <a:pt x="2062" y="245"/>
                </a:lnTo>
                <a:lnTo>
                  <a:pt x="2149" y="229"/>
                </a:lnTo>
                <a:lnTo>
                  <a:pt x="2236" y="213"/>
                </a:lnTo>
                <a:lnTo>
                  <a:pt x="2431" y="180"/>
                </a:lnTo>
                <a:lnTo>
                  <a:pt x="2627" y="158"/>
                </a:lnTo>
                <a:lnTo>
                  <a:pt x="2827" y="125"/>
                </a:lnTo>
                <a:lnTo>
                  <a:pt x="2920" y="109"/>
                </a:lnTo>
                <a:lnTo>
                  <a:pt x="3007" y="87"/>
                </a:lnTo>
                <a:lnTo>
                  <a:pt x="3007" y="0"/>
                </a:lnTo>
                <a:lnTo>
                  <a:pt x="2909" y="22"/>
                </a:lnTo>
                <a:lnTo>
                  <a:pt x="2795" y="44"/>
                </a:lnTo>
                <a:lnTo>
                  <a:pt x="2676" y="66"/>
                </a:lnTo>
                <a:lnTo>
                  <a:pt x="2551" y="82"/>
                </a:lnTo>
                <a:lnTo>
                  <a:pt x="2285" y="120"/>
                </a:lnTo>
                <a:lnTo>
                  <a:pt x="2155" y="136"/>
                </a:lnTo>
                <a:lnTo>
                  <a:pt x="2030" y="158"/>
                </a:lnTo>
                <a:lnTo>
                  <a:pt x="1905" y="174"/>
                </a:lnTo>
                <a:lnTo>
                  <a:pt x="1791" y="202"/>
                </a:lnTo>
                <a:lnTo>
                  <a:pt x="1688" y="229"/>
                </a:lnTo>
                <a:lnTo>
                  <a:pt x="1601" y="261"/>
                </a:lnTo>
                <a:lnTo>
                  <a:pt x="1525" y="300"/>
                </a:lnTo>
                <a:lnTo>
                  <a:pt x="1471" y="338"/>
                </a:lnTo>
                <a:lnTo>
                  <a:pt x="1455" y="359"/>
                </a:lnTo>
                <a:lnTo>
                  <a:pt x="1438" y="387"/>
                </a:lnTo>
                <a:lnTo>
                  <a:pt x="1427" y="414"/>
                </a:lnTo>
                <a:lnTo>
                  <a:pt x="1427" y="441"/>
                </a:lnTo>
                <a:lnTo>
                  <a:pt x="1427" y="4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116000" y="800280"/>
            <a:ext cx="7272000" cy="6057360"/>
            <a:chOff x="1116000" y="800280"/>
            <a:chExt cx="7272000" cy="6057360"/>
          </a:xfrm>
        </p:grpSpPr>
        <p:sp>
          <p:nvSpPr>
            <p:cNvPr id="53" name=""/>
            <p:cNvSpPr/>
            <p:nvPr/>
          </p:nvSpPr>
          <p:spPr>
            <a:xfrm>
              <a:off x="1116000" y="3611520"/>
              <a:ext cx="6050160" cy="3246120"/>
            </a:xfrm>
            <a:custGeom>
              <a:avLst/>
              <a:gdLst/>
              <a:ahLst/>
              <a:rect l="l" t="t" r="r" b="b"/>
              <a:pathLst>
                <a:path w="2882" h="1671">
                  <a:moveTo>
                    <a:pt x="2773" y="544"/>
                  </a:moveTo>
                  <a:lnTo>
                    <a:pt x="2740" y="528"/>
                  </a:lnTo>
                  <a:lnTo>
                    <a:pt x="2692" y="506"/>
                  </a:lnTo>
                  <a:lnTo>
                    <a:pt x="2632" y="484"/>
                  </a:lnTo>
                  <a:lnTo>
                    <a:pt x="2561" y="457"/>
                  </a:lnTo>
                  <a:lnTo>
                    <a:pt x="2480" y="424"/>
                  </a:lnTo>
                  <a:lnTo>
                    <a:pt x="2388" y="397"/>
                  </a:lnTo>
                  <a:lnTo>
                    <a:pt x="2203" y="343"/>
                  </a:lnTo>
                  <a:lnTo>
                    <a:pt x="2078" y="310"/>
                  </a:lnTo>
                  <a:lnTo>
                    <a:pt x="1970" y="277"/>
                  </a:lnTo>
                  <a:lnTo>
                    <a:pt x="1878" y="245"/>
                  </a:lnTo>
                  <a:lnTo>
                    <a:pt x="1807" y="212"/>
                  </a:lnTo>
                  <a:lnTo>
                    <a:pt x="1742" y="179"/>
                  </a:lnTo>
                  <a:lnTo>
                    <a:pt x="1693" y="152"/>
                  </a:lnTo>
                  <a:lnTo>
                    <a:pt x="1655" y="125"/>
                  </a:lnTo>
                  <a:lnTo>
                    <a:pt x="1628" y="103"/>
                  </a:lnTo>
                  <a:lnTo>
                    <a:pt x="1606" y="81"/>
                  </a:lnTo>
                  <a:lnTo>
                    <a:pt x="1590" y="60"/>
                  </a:lnTo>
                  <a:lnTo>
                    <a:pt x="1585" y="43"/>
                  </a:lnTo>
                  <a:lnTo>
                    <a:pt x="1579" y="27"/>
                  </a:lnTo>
                  <a:lnTo>
                    <a:pt x="1585" y="5"/>
                  </a:lnTo>
                  <a:lnTo>
                    <a:pt x="1585" y="0"/>
                  </a:lnTo>
                  <a:lnTo>
                    <a:pt x="1568" y="27"/>
                  </a:lnTo>
                  <a:lnTo>
                    <a:pt x="1557" y="49"/>
                  </a:lnTo>
                  <a:lnTo>
                    <a:pt x="1557" y="76"/>
                  </a:lnTo>
                  <a:lnTo>
                    <a:pt x="1568" y="98"/>
                  </a:lnTo>
                  <a:lnTo>
                    <a:pt x="1590" y="120"/>
                  </a:lnTo>
                  <a:lnTo>
                    <a:pt x="1617" y="141"/>
                  </a:lnTo>
                  <a:lnTo>
                    <a:pt x="1650" y="163"/>
                  </a:lnTo>
                  <a:lnTo>
                    <a:pt x="1688" y="185"/>
                  </a:lnTo>
                  <a:lnTo>
                    <a:pt x="1737" y="207"/>
                  </a:lnTo>
                  <a:lnTo>
                    <a:pt x="1791" y="228"/>
                  </a:lnTo>
                  <a:lnTo>
                    <a:pt x="1905" y="267"/>
                  </a:lnTo>
                  <a:lnTo>
                    <a:pt x="2040" y="310"/>
                  </a:lnTo>
                  <a:lnTo>
                    <a:pt x="2182" y="348"/>
                  </a:lnTo>
                  <a:lnTo>
                    <a:pt x="2285" y="381"/>
                  </a:lnTo>
                  <a:lnTo>
                    <a:pt x="2382" y="408"/>
                  </a:lnTo>
                  <a:lnTo>
                    <a:pt x="2464" y="435"/>
                  </a:lnTo>
                  <a:lnTo>
                    <a:pt x="2540" y="462"/>
                  </a:lnTo>
                  <a:lnTo>
                    <a:pt x="2605" y="484"/>
                  </a:lnTo>
                  <a:lnTo>
                    <a:pt x="2659" y="506"/>
                  </a:lnTo>
                  <a:lnTo>
                    <a:pt x="2708" y="528"/>
                  </a:lnTo>
                  <a:lnTo>
                    <a:pt x="2740" y="544"/>
                  </a:lnTo>
                  <a:lnTo>
                    <a:pt x="2768" y="560"/>
                  </a:lnTo>
                  <a:lnTo>
                    <a:pt x="2784" y="577"/>
                  </a:lnTo>
                  <a:lnTo>
                    <a:pt x="2795" y="593"/>
                  </a:lnTo>
                  <a:lnTo>
                    <a:pt x="2800" y="615"/>
                  </a:lnTo>
                  <a:lnTo>
                    <a:pt x="2795" y="642"/>
                  </a:lnTo>
                  <a:lnTo>
                    <a:pt x="2784" y="664"/>
                  </a:lnTo>
                  <a:lnTo>
                    <a:pt x="2762" y="691"/>
                  </a:lnTo>
                  <a:lnTo>
                    <a:pt x="2730" y="713"/>
                  </a:lnTo>
                  <a:lnTo>
                    <a:pt x="2692" y="735"/>
                  </a:lnTo>
                  <a:lnTo>
                    <a:pt x="2643" y="756"/>
                  </a:lnTo>
                  <a:lnTo>
                    <a:pt x="2589" y="778"/>
                  </a:lnTo>
                  <a:lnTo>
                    <a:pt x="2529" y="800"/>
                  </a:lnTo>
                  <a:lnTo>
                    <a:pt x="2458" y="822"/>
                  </a:lnTo>
                  <a:lnTo>
                    <a:pt x="2382" y="843"/>
                  </a:lnTo>
                  <a:lnTo>
                    <a:pt x="2301" y="865"/>
                  </a:lnTo>
                  <a:lnTo>
                    <a:pt x="2214" y="887"/>
                  </a:lnTo>
                  <a:lnTo>
                    <a:pt x="2030" y="930"/>
                  </a:lnTo>
                  <a:lnTo>
                    <a:pt x="1823" y="979"/>
                  </a:lnTo>
                  <a:lnTo>
                    <a:pt x="1606" y="1034"/>
                  </a:lnTo>
                  <a:lnTo>
                    <a:pt x="1378" y="1094"/>
                  </a:lnTo>
                  <a:lnTo>
                    <a:pt x="1145" y="1164"/>
                  </a:lnTo>
                  <a:lnTo>
                    <a:pt x="912" y="1241"/>
                  </a:lnTo>
                  <a:lnTo>
                    <a:pt x="673" y="1328"/>
                  </a:lnTo>
                  <a:lnTo>
                    <a:pt x="440" y="1431"/>
                  </a:lnTo>
                  <a:lnTo>
                    <a:pt x="217" y="1545"/>
                  </a:lnTo>
                  <a:lnTo>
                    <a:pt x="0" y="1671"/>
                  </a:lnTo>
                  <a:lnTo>
                    <a:pt x="353" y="1671"/>
                  </a:lnTo>
                  <a:lnTo>
                    <a:pt x="554" y="1567"/>
                  </a:lnTo>
                  <a:lnTo>
                    <a:pt x="754" y="1469"/>
                  </a:lnTo>
                  <a:lnTo>
                    <a:pt x="955" y="1388"/>
                  </a:lnTo>
                  <a:lnTo>
                    <a:pt x="1145" y="1311"/>
                  </a:lnTo>
                  <a:lnTo>
                    <a:pt x="1335" y="1241"/>
                  </a:lnTo>
                  <a:lnTo>
                    <a:pt x="1519" y="1186"/>
                  </a:lnTo>
                  <a:lnTo>
                    <a:pt x="1693" y="1132"/>
                  </a:lnTo>
                  <a:lnTo>
                    <a:pt x="1861" y="1083"/>
                  </a:lnTo>
                  <a:lnTo>
                    <a:pt x="2019" y="1045"/>
                  </a:lnTo>
                  <a:lnTo>
                    <a:pt x="2165" y="1007"/>
                  </a:lnTo>
                  <a:lnTo>
                    <a:pt x="2301" y="974"/>
                  </a:lnTo>
                  <a:lnTo>
                    <a:pt x="2426" y="947"/>
                  </a:lnTo>
                  <a:lnTo>
                    <a:pt x="2534" y="914"/>
                  </a:lnTo>
                  <a:lnTo>
                    <a:pt x="2626" y="892"/>
                  </a:lnTo>
                  <a:lnTo>
                    <a:pt x="2702" y="865"/>
                  </a:lnTo>
                  <a:lnTo>
                    <a:pt x="2762" y="838"/>
                  </a:lnTo>
                  <a:lnTo>
                    <a:pt x="2800" y="816"/>
                  </a:lnTo>
                  <a:lnTo>
                    <a:pt x="2827" y="794"/>
                  </a:lnTo>
                  <a:lnTo>
                    <a:pt x="2849" y="767"/>
                  </a:lnTo>
                  <a:lnTo>
                    <a:pt x="2865" y="745"/>
                  </a:lnTo>
                  <a:lnTo>
                    <a:pt x="2876" y="724"/>
                  </a:lnTo>
                  <a:lnTo>
                    <a:pt x="2882" y="702"/>
                  </a:lnTo>
                  <a:lnTo>
                    <a:pt x="2876" y="658"/>
                  </a:lnTo>
                  <a:lnTo>
                    <a:pt x="2854" y="620"/>
                  </a:lnTo>
                  <a:lnTo>
                    <a:pt x="2833" y="588"/>
                  </a:lnTo>
                  <a:lnTo>
                    <a:pt x="2800" y="560"/>
                  </a:lnTo>
                  <a:lnTo>
                    <a:pt x="2773" y="544"/>
                  </a:lnTo>
                  <a:lnTo>
                    <a:pt x="2773" y="5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06320" y="800280"/>
              <a:ext cx="4081680" cy="32288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44640"/>
            <a:ext cx="56498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Tahoma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25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9BE5-2750-4A91-B714-953ACA3DA7B1}" type="slidenum">
              <a:rPr b="0" lang="en-US" sz="10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Tahoma"/>
            </a:endParaRPr>
          </a:p>
          <a:p>
            <a:pPr lvl="2" marL="914400" algn="ctr">
              <a:spcBef>
                <a:spcPts val="700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b2500"/>
              </a:solidFill>
              <a:latin typeface="Tahoma"/>
            </a:endParaRPr>
          </a:p>
          <a:p>
            <a:pPr lvl="4" marL="1828800" algn="ctr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b2500"/>
              </a:solidFill>
              <a:latin typeface="Tahoma"/>
            </a:endParaRPr>
          </a:p>
          <a:p>
            <a:pPr lvl="5" marL="1828800">
              <a:spcBef>
                <a:spcPts val="601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b2500"/>
              </a:solidFill>
              <a:latin typeface="Tahoma"/>
            </a:endParaRPr>
          </a:p>
          <a:p>
            <a:pPr lvl="6" marL="1828800">
              <a:spcBef>
                <a:spcPts val="601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b25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944640"/>
            <a:ext cx="56498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Tahoma"/>
              </a:rPr>
              <a:t>Franchise Training</a:t>
            </a:r>
            <a:endParaRPr b="1" lang="en-US" sz="60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47280" y="3933360"/>
            <a:ext cx="40640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Tahoma"/>
              </a:rPr>
              <a:t>January 15, 2005</a:t>
            </a:r>
            <a:endParaRPr b="0" lang="en-US" sz="3600" spc="-1" strike="noStrike">
              <a:solidFill>
                <a:srgbClr val="4b25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92000" y="6248520"/>
            <a:ext cx="147816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Required Restaurant Equipment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652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Two Caloric industrial ranges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Three Sub-Zero refrigerators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Good 4 U cookware</a:t>
            </a:r>
            <a:br>
              <a:rPr sz="2800"/>
            </a:b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(pre-packaged)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Good 4 U stoneware</a:t>
            </a:r>
            <a:br>
              <a:rPr sz="2800"/>
            </a:b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(pre-packaged)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Oneida flatware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2740320" cy="4816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47680" y="634536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b2500"/>
                </a:solidFill>
                <a:latin typeface="Arial Narrow"/>
              </a:rPr>
              <a:t>Ask for our list of wholesale appliance dealers</a:t>
            </a:r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Employee Hiring Practices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First-level managers must have five years of management experience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Chefs must have a culinary degree from an accredited school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Waiters and waitresses must have references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364000" y="2097000"/>
            <a:ext cx="2657520" cy="3049560"/>
            <a:chOff x="5364000" y="2097000"/>
            <a:chExt cx="2657520" cy="304956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rcRect l="13554" t="21501" r="34685" b="0"/>
            <a:stretch/>
          </p:blipFill>
          <p:spPr>
            <a:xfrm>
              <a:off x="5364000" y="2097000"/>
              <a:ext cx="2657520" cy="30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 txBox="1"/>
            <p:nvPr/>
          </p:nvSpPr>
          <p:spPr>
            <a:xfrm>
              <a:off x="5364000" y="2097000"/>
              <a:ext cx="2657520" cy="304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bfbfa7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4b25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43360" y="26859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Required Office Equipment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652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Computer (server)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Two computer workstations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Laser printer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Four cash registers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Restaurant software </a:t>
            </a:r>
            <a:br>
              <a:rPr sz="2800"/>
            </a:b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package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636480" y="1989000"/>
            <a:ext cx="352116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Annual Sales Per Division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11320" y="1812960"/>
          <a:ext cx="6933960" cy="43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1320" y="1812960"/>
                    <a:ext cx="693396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Tahoma"/>
              </a:rPr>
              <a:t>Sample Menu</a:t>
            </a:r>
            <a:endParaRPr b="1" lang="en-US" sz="4400" spc="-1" strike="noStrike">
              <a:solidFill>
                <a:srgbClr val="a69564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46520" y="1599840"/>
            <a:ext cx="41925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Good 4 U Veggie Burger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Simply Good Shrimp Salad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Good Fruit Combo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ahoma"/>
              </a:rPr>
              <a:t>Andre’s Lemon Dill Chicken</a:t>
            </a:r>
            <a:endParaRPr b="0" lang="en-US" sz="2800" spc="-1" strike="noStrike">
              <a:solidFill>
                <a:srgbClr val="4b25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3946680" y="2865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952640"/>
            <a:ext cx="44276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Student Name</cp:lastModifiedBy>
  <cp:lastPrinted>1997-06-12T16:22:38Z</cp:lastPrinted>
  <dcterms:modified xsi:type="dcterms:W3CDTF">2004-04-11T20:08:57Z</dcterms:modified>
  <cp:revision>48</cp:revision>
  <dc:subject/>
  <dc:title>Good 4 U Franchise Training</dc:title>
</cp:coreProperties>
</file>