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DEFA-C7C6-4744-B6F7-48203217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1CD-206C-4BE7-9098-16C7DB0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D75F-7EC5-42CA-9792-539D3C0EC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694-8F41-4FD4-83DA-C07C2F94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BE7F-8F0E-435D-B11C-247A9F3D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E5F5-FF4C-40AF-8327-4C4EF02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D095-B1F8-4821-ABBD-14FF2EA1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F924-C0D0-4D94-B5D6-D7FA42DB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ACF5-A04B-48A6-9F46-09D879B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0356-FF9E-4DBD-85F2-E6E2266C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5A1C-3079-4E6E-92B7-27BB2584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1A58-9083-4F42-91F6-01E92C7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70D5-558C-4B3B-8015-2A070F6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84C5-5186-4410-B11C-29A7CD32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EB4C-6598-4ED6-8ABD-3488339B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397E-7911-4128-82AB-91A85532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BA7C-A86F-4913-8CFB-B0CF8075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3F72-7AC7-46A5-89D7-62DB059C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A69-04C9-401A-9D6A-81DAC185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831-13DA-4589-B236-4FF9E9A7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BC8B-81CA-453A-8A8D-451683CA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592-DFC9-4C4B-8797-BB8A06C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CBF-38EF-4363-8C22-B2AB3826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F89-49AA-4E8F-897C-3C4477C6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CE13-AC3B-42C5-926F-565B0ED6211A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F819-958E-4218-A0DB-BCC34059DB6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5707" t="14484" r="5765" b="11840"/>
          <a:stretch/>
        </p:blipFill>
        <p:spPr>
          <a:xfrm>
            <a:off x="3203640" y="1665360"/>
            <a:ext cx="2698560" cy="340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rot="20700000">
            <a:off x="3771720" y="45860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92560" y="594972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73680" y="2158920"/>
            <a:ext cx="3913200" cy="3654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4360" y="58989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22160" y="34257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9:08:50Z</dcterms:modified>
  <cp:revision>19</cp:revision>
  <dc:subject/>
  <dc:title>Slide 1</dc:title>
</cp:coreProperties>
</file>