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jpeg" ContentType="image/jpeg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79B0-2FA3-46B0-9479-EFE4538DF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7A89-C398-43D4-AC56-7AA0BAA0C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96D3-409E-4E30-A557-73522183E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ADB0-1CCC-4B13-9E04-5B6E41FC0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6B1E8-53EB-415A-BF6C-BC373F7C0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D6C28-8D01-4671-8F96-5700C5829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BC70B-16F9-4B81-B810-AB2885DDB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13010-E249-4B0A-9DDC-21202A122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50550-0829-4A0F-8572-B0FB67CF0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64B66-3BC0-4652-A6F8-6EAA06DBD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31960-8BE6-4EC7-BABD-5E0C2A86B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69FD-E498-4A89-9ED0-1700311EF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A53BD-7671-454F-8A04-6510DD5F7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1F02C-E723-4AA8-9A56-C8B9B82A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BC5B8-B24A-44F3-8069-FDBDBBA3E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C1F7B-81AB-4D55-A1A7-077C69D92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5A240-33C8-48ED-A171-BAEA425FF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7B14-5F62-40E4-B4BB-2A03EF5D6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ED45-1F9D-4043-8649-872DA3012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7837-E750-4908-8660-BC80075CC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564B-D0E5-4765-863B-58E458631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D8AE-BA36-4678-A553-89DB75911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0D67-D708-47ED-A9A6-3D987878F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9D7A-5D2F-4C97-A57C-11107997B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15460-03A7-4E8D-B0DC-41A23B51E2E8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E03B4-91E3-42A4-859C-12E4822EC320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800280" y="2868120"/>
            <a:ext cx="7543800" cy="23770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0" rIns="457200" tIns="457200" bIns="4572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Welcome to our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new restaurant in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beautiful Miami Beach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427640" y="1041480"/>
            <a:ext cx="424656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011240" y="2734200"/>
            <a:ext cx="7122960" cy="29800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0" rIns="457200" tIns="457200" bIns="4572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Miami’s first truly health-conscious restaurant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Low-fat and tasteful varieties to please the beachcomber appetite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20600" y="1066680"/>
            <a:ext cx="712980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835280" y="1628640"/>
            <a:ext cx="5473440" cy="3637080"/>
          </a:xfrm>
          <a:prstGeom prst="rect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36720" y="3392640"/>
            <a:ext cx="5472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835280" y="2960640"/>
            <a:ext cx="547344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835280" y="2529000"/>
            <a:ext cx="540072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35280" y="2097000"/>
            <a:ext cx="540072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35280" y="3824280"/>
            <a:ext cx="550836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71640" y="4329000"/>
            <a:ext cx="536436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835280" y="4797360"/>
            <a:ext cx="543708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647640" y="-360"/>
            <a:ext cx="0" cy="61657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647640" y="0"/>
            <a:ext cx="1660680" cy="62006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47640" y="0"/>
            <a:ext cx="3579840" cy="62006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647640" y="-28800"/>
            <a:ext cx="6229440" cy="62290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611280" y="1274400"/>
            <a:ext cx="8532720" cy="49258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47640" y="3879720"/>
            <a:ext cx="8532720" cy="22860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49440" y="6200640"/>
            <a:ext cx="845964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863640" y="1844640"/>
            <a:ext cx="1600200" cy="1600200"/>
          </a:xfrm>
          <a:prstGeom prst="rect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908440" y="1305000"/>
            <a:ext cx="3271680" cy="4113000"/>
          </a:xfrm>
          <a:prstGeom prst="rect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20700000">
            <a:off x="4584240" y="4967280"/>
            <a:ext cx="3926160" cy="1295280"/>
          </a:xfrm>
          <a:custGeom>
            <a:avLst/>
            <a:gdLst>
              <a:gd name="textAreaLeft" fmla="*/ 896040 w 3926160"/>
              <a:gd name="textAreaRight" fmla="*/ 3030120 w 392616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Grand Opening!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213000" y="1509840"/>
            <a:ext cx="2532240" cy="36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448000" y="1305000"/>
            <a:ext cx="4113000" cy="4113000"/>
          </a:xfrm>
          <a:prstGeom prst="rect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32720" y="368280"/>
            <a:ext cx="755640" cy="71748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08720" y="368280"/>
            <a:ext cx="934920" cy="88920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03640" y="512640"/>
            <a:ext cx="1008360" cy="95904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19640" y="1484280"/>
            <a:ext cx="1152720" cy="109548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80000" y="1881360"/>
            <a:ext cx="1081080" cy="102708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724360" y="2924280"/>
            <a:ext cx="1656000" cy="157320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43280" y="4041720"/>
            <a:ext cx="1189080" cy="113040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42920" y="2960640"/>
            <a:ext cx="1584360" cy="150660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2360" y="4581360"/>
            <a:ext cx="1547640" cy="147168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908000" y="2708280"/>
            <a:ext cx="1224000" cy="116352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84360" y="1015920"/>
            <a:ext cx="1582560" cy="150516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95640" y="476280"/>
            <a:ext cx="1692360" cy="160812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03640" y="2060640"/>
            <a:ext cx="1908000" cy="181296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63640" y="4545000"/>
            <a:ext cx="1979640" cy="188136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796000" y="4724280"/>
            <a:ext cx="1800360" cy="171144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559640" y="1376280"/>
            <a:ext cx="504720" cy="47952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04000" y="2852640"/>
            <a:ext cx="900000" cy="85572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84720" y="2852640"/>
            <a:ext cx="1044360" cy="99216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113360"/>
            <a:ext cx="1511280" cy="143640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635280" y="5121360"/>
            <a:ext cx="1333440" cy="126684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Miami Image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16320" y="3830400"/>
            <a:ext cx="204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each scen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810400" y="1246320"/>
            <a:ext cx="2830320" cy="26431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662520" y="3830400"/>
            <a:ext cx="1558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alm tre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746280" y="1306440"/>
            <a:ext cx="3657600" cy="24019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5840280" y="4254480"/>
            <a:ext cx="270360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4T02:34:28Z</dcterms:created>
  <dc:creator>Pat R. Graves</dc:creator>
  <dc:description/>
  <dc:language>en-US</dc:language>
  <cp:lastModifiedBy>Pat Graves</cp:lastModifiedBy>
  <dcterms:modified xsi:type="dcterms:W3CDTF">2004-02-29T08:14:43Z</dcterms:modified>
  <cp:revision>16</cp:revision>
  <dc:subject/>
  <dc:title>Slide 1</dc:title>
</cp:coreProperties>
</file>