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B11CD-629F-4F26-81FE-D070EAEFD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822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1120" y="3473640"/>
            <a:ext cx="822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EFAC5-DD5B-43AA-A323-2E2D807B8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112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816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F87B-4135-4B74-9DB7-E685B23E56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3560" y="157428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6000" y="157428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1120" y="347364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3560" y="347364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6000" y="347364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796E0-16B1-466F-87B7-590B0F50E5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5C8D6-A480-4494-A523-65957FE0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1120" y="1574280"/>
            <a:ext cx="8229600" cy="36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CDACA-4AA2-4C54-A187-4DFDF4C6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82296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C28D8-33F2-46BD-8DB7-F28831DC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FA6817-6D0A-4202-BA22-C075AE5E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650CA-5336-4070-89D0-036E11C8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AB981-75AE-4C41-A6EF-DA335EA7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112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062F9-CE1B-404A-B41D-9B33A08A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1120" y="1574280"/>
            <a:ext cx="8229600" cy="36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FDB1-7765-4B7A-912F-0846303B3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816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DB1B3-B30D-498E-A144-43AFA697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1120" y="3473640"/>
            <a:ext cx="822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1B8D5-A63A-4FD4-B104-1485B87C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822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1120" y="3473640"/>
            <a:ext cx="822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87667-7860-4D67-8D2A-69421B39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112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816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9FC532-BB88-444D-BE96-644CBF681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3560" y="157428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6000" y="157428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1120" y="347364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3560" y="347364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6000" y="3473640"/>
            <a:ext cx="264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5497A-A028-4A3B-BF20-409E782E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82296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AF3DE-2679-4F99-9B6B-ED1807D6B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3AAC0-4538-4A03-9D01-E73C2447E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74C3-E3E2-4273-B852-39E244EE4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212B2-BBA7-4FC3-9D74-7CED01E7E0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112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64080-C6AF-4B1E-8C3E-51205E0BA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8160" y="347364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E19B1-396A-436E-8DDA-CF0DB93CD6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112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8160" y="1574280"/>
            <a:ext cx="40158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1120" y="3473640"/>
            <a:ext cx="8229600" cy="17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263A5-2920-40ED-8184-508174998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1120" y="1574280"/>
            <a:ext cx="8229600" cy="36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537C-785E-4544-9659-A0DB96F0317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3600" cy="2508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 txBox="1"/>
          <p:nvPr/>
        </p:nvSpPr>
        <p:spPr>
          <a:xfrm>
            <a:off x="301680" y="5938920"/>
            <a:ext cx="1292040" cy="565200"/>
          </a:xfrm>
          <a:prstGeom prst="rect">
            <a:avLst/>
          </a:prstGeom>
        </p:spPr>
        <p:txBody>
          <a:bodyPr wrap="none" lIns="91800" rIns="91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od 4 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1559-31EA-49E2-AFF5-8B2B85AB722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429000" y="596880"/>
            <a:ext cx="5292720" cy="1479600"/>
          </a:xfrm>
          <a:prstGeom prst="rect">
            <a:avLst/>
          </a:prstGeom>
        </p:spPr>
        <p:txBody>
          <a:bodyPr wrap="none" lIns="91800" rIns="91800" anchor="ctr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Good 4 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27640" y="1041480"/>
            <a:ext cx="4246560" cy="2832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61936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2904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523872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4840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58080" y="5710320"/>
            <a:ext cx="1236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20600" y="1066680"/>
            <a:ext cx="7129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908440" y="1305000"/>
            <a:ext cx="327168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5707" t="14484" r="5765" b="11840"/>
          <a:stretch/>
        </p:blipFill>
        <p:spPr>
          <a:xfrm>
            <a:off x="3203640" y="1665360"/>
            <a:ext cx="2698560" cy="3406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20700000">
            <a:off x="3771720" y="4586040"/>
            <a:ext cx="3925800" cy="1295280"/>
          </a:xfrm>
          <a:custGeom>
            <a:avLst/>
            <a:gdLst>
              <a:gd name="textAreaLeft" fmla="*/ 896040 w 3925800"/>
              <a:gd name="textAreaRight" fmla="*/ 3029760 w 39258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16:42:53Z</dcterms:modified>
  <cp:revision>22</cp:revision>
  <dc:subject/>
  <dc:title>Slide 1</dc:title>
</cp:coreProperties>
</file>