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230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71F-9564-49D0-A66D-489577FE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902-031D-4B05-99A0-5086A5EA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526-7893-4274-BB2B-A5BD84F8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B80-9EBE-4A94-B3CB-19072029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D392-D189-4B25-953D-C5DB0814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CC62-92DD-413C-935B-AEB89280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C26D-4521-4487-8769-53618AB8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A5F7-39AD-4DEE-BB86-DB4FD416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85A8-7768-4669-AAEB-F92B615B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F785-4AFB-4D85-923F-47514F70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BA00-272E-4639-9087-BC9473EC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602-8A90-4E79-BAD6-33915F05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8F03-81F6-42E9-AC54-C4384AAB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D339-70E0-493F-A277-BEBEDF31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8A02-BB8F-4037-AF42-0F6D58C6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924A-A2B2-4B91-8BF2-9519A161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47ED-051A-420F-93E9-2D87E375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F8B-2F1C-4F80-84A2-D95BE199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D18-5CC4-4895-9C7F-CA6D4352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C36-05FF-4D73-AE19-AD28E3DB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A87-9DF6-4F59-A4FF-585DDA23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85F-3AD5-424C-8504-F2A939FB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1E5-28E2-4846-8096-F0B4BD08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8BC-252D-4BB9-AE1C-A1CBAB77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857D-4442-47B0-88DB-73B642A02A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3880" y="1538280"/>
            <a:ext cx="8458200" cy="4716360"/>
          </a:xfrm>
          <a:prstGeom prst="rect">
            <a:avLst/>
          </a:prstGeom>
          <a:noFill/>
          <a:ln w="127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0A3D-BA79-45BF-86C7-016C6C35F4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152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Franchise Training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77920" y="4265640"/>
            <a:ext cx="6988320" cy="2570040"/>
          </a:xfrm>
          <a:prstGeom prst="horizontalScroll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4143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86b5d"/>
                </a:solidFill>
                <a:latin typeface="Arial"/>
              </a:rPr>
              <a:t>Good 4 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32120" y="1365120"/>
            <a:ext cx="5321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Required Equipmen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Caloric industrial r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ub-Zero refrig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 cookware (pre-packag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 stoneware (pre-packag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ida fla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Projected Sal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30480" y="1600200"/>
          <a:ext cx="66801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600200"/>
                    <a:ext cx="6680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iring Practices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-level managers must have five years of management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fs must have a culinary degree from an accredited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iters and waitresses must have 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144880" y="2824200"/>
            <a:ext cx="4701960" cy="16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lcom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Student Name</cp:lastModifiedBy>
  <cp:lastPrinted>1997-09-24T17:26:58Z</cp:lastPrinted>
  <dcterms:modified xsi:type="dcterms:W3CDTF">2004-04-11T20:35:49Z</dcterms:modified>
  <cp:revision>38</cp:revision>
  <dc:subject/>
  <dc:title>Good 4 U Franchise Training</dc:title>
</cp:coreProperties>
</file>