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96A-0A89-41D1-8A20-5DC12B99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52C-882F-40A6-9401-32B703A7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C695-583F-445F-8F74-B2981214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5D3-514C-4953-BA72-AF8CE9D2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0168-0AB8-444D-92C0-A10F3D08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D58C-B9EC-4F6C-8A18-4D80352C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BC08-4327-4B15-979A-9B2A7239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33DA-40AD-42E7-B963-B5C5DB11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0A76-94D3-4F8C-BBCA-57322B6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80D4-FC46-44A2-9DB6-F30ECB20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58DC-32DE-4FD4-BD89-31820D7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F61-D273-40C6-ADD6-91C7506F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702B-0F78-44A4-93EA-4F1796E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2D50-4F02-40AF-887B-D3D2F44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ADB2-525D-4843-A81F-6AF40999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88D6-7879-4792-BB35-0D06ABEB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09A8-0E18-412B-A991-95877908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3B1-1AD8-48DF-8875-E259814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633-F8C4-41DF-95EC-527D5705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E22-CFB4-469B-8A8A-DA971244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03C-6959-4A49-8917-22254A96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590-E2B9-45A1-B483-9F3DA89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098-5185-497E-96DA-A838BDF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B1A-A11E-4B93-AAC7-E5EC7CCC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A75F-846C-455C-9DC4-EE944ABC3A7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251F-6C3D-412C-B24C-678F6DA9C6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Franchise Training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588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ne 5,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Sales Strategy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geting health-conscious individ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ering low-fat menu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t to the local community with employee volunt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166920" y="4653000"/>
          <a:ext cx="284184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4653000"/>
                    <a:ext cx="284184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Annual Predicted Sales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7080" y="2517840"/>
          <a:ext cx="6259680" cy="39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517840"/>
                    <a:ext cx="625968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822360" y="2287440"/>
            <a:ext cx="2088720" cy="703800"/>
          </a:xfrm>
          <a:prstGeom prst="borderCallout2">
            <a:avLst>
              <a:gd name="adj1" fmla="val 18750"/>
              <a:gd name="adj2" fmla="val -8333"/>
              <a:gd name="adj3" fmla="val 15449"/>
              <a:gd name="adj4" fmla="val -7393"/>
              <a:gd name="adj5" fmla="val 102810"/>
              <a:gd name="adj6" fmla="val -22625"/>
            </a:avLst>
          </a:prstGeom>
          <a:noFill/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ing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89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Good Food and Good Times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9576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51280" y="2565360"/>
            <a:ext cx="3803760" cy="2264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fbf0"/>
                </a:solidFill>
                <a:latin typeface="Tahoma"/>
              </a:rPr>
              <a:t>10% discount off the lunch menu, Monday through Thur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Our Staff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s Irvinelli, Co-Fou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lie Wolfe, Co-Fou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Olafsen, Market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ele Jenkins, Head Che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uck Warden, MIS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a Suzi Marabella, Train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Marple</dc:creator>
  <dc:description/>
  <dc:language>en-US</dc:language>
  <cp:lastModifiedBy>Pat Graves</cp:lastModifiedBy>
  <cp:lastPrinted>1997-06-23T15:37:06Z</cp:lastPrinted>
  <dcterms:modified xsi:type="dcterms:W3CDTF">2004-03-01T16:34:26Z</dcterms:modified>
  <cp:revision>42</cp:revision>
  <dc:subject/>
  <dc:title>Good 4 U Franchise Training</dc:title>
</cp:coreProperties>
</file>