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AC59-BA9E-4FCE-8FB0-125101FE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9FFA-741E-43BA-9F58-675B72D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4B5A-29AF-4A55-B454-FA71F1FC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1AAB-AAEB-4CC2-A145-093DCB0B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BFF8-5AE6-41A4-B23C-36DCC562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7221-8009-4A24-AC86-F1E5EC78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E98E-8157-4FC9-B9F6-E77CE90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1A68-734D-4FCE-BE95-2932B6B1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D179-BA07-489D-915E-0BCED819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6095-3B48-4BF9-8EC7-E6F24BC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7BB-EAB7-4C5B-9063-6BEE62A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76AE-BA8D-4997-A56C-F8E23ED0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3267-3FE0-4C79-A4DB-9022B5EC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D47A-20FF-4902-BDBC-154EF87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6511-6F27-4298-ADB7-2EAD78B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C2EF-7D46-4B2F-8098-66CEC44C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1D46-C00A-4DCF-9246-71E29D68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4DC0-02CB-43E7-8714-7C3D4506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79F5-CCA8-4EA2-B852-77A67835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1A48-361F-424F-9943-C216F92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288B-3B68-404F-9E78-52E50371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A77B-F507-4D0E-B6B1-7206373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6DB3-66D1-4E9C-905C-10C6C5ED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0DD-292B-43EF-90DE-AC9D4B12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721-25B1-464E-BC21-EED386638376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7289-2CB9-490E-9B1B-489E69D6ECB6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653000" y="3346560"/>
            <a:ext cx="2514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79d69"/>
          </a:solidFill>
          <a:ln cap="rnd" w="76320">
            <a:solidFill>
              <a:srgbClr val="a8669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001880" y="1773360"/>
          <a:ext cx="712620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773360"/>
                    <a:ext cx="712620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 flipH="1">
            <a:off x="7200720" y="1736640"/>
            <a:ext cx="1042920" cy="828720"/>
          </a:xfrm>
          <a:prstGeom prst="line">
            <a:avLst/>
          </a:prstGeom>
          <a:ln w="101520">
            <a:solidFill>
              <a:srgbClr val="a8669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solidFill>
            <a:srgbClr val="33cbb2">
              <a:alpha val="6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8720" y="3025800"/>
            <a:ext cx="1606680" cy="160812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Student Name</cp:lastModifiedBy>
  <dcterms:modified xsi:type="dcterms:W3CDTF">2004-04-11T20:35:32Z</dcterms:modified>
  <cp:revision>17</cp:revision>
  <dc:subject/>
  <dc:title>Good 4 U Franchise Training</dc:title>
</cp:coreProperties>
</file>