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FC5-9445-4A7A-B526-B3E9213B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E00-4584-477D-B913-2DC04164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71A-B6C0-425A-B97E-940C25BF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552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6960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0144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552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6960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215-D22B-41E8-9812-8A3596BE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0D69-453D-416F-832A-E1DAFC58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E5F-24DB-450E-8735-491227F1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16C6-8F45-476A-90B9-7A855D9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34C-AF74-4DB4-BADD-473DCDC9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360F-355C-49DF-9754-BE9FC00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80AB-34C2-44F8-845C-096F3CB5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2BE8-D8D1-4486-91FA-59DA2B1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35B-BD23-400F-B939-A616407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12D1-A464-49F3-BD9B-385A9D8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6E6B-B3E8-48B9-AA31-1E4DA5E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42EB-8B90-4A3B-89B3-7BA73DE4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7697-38C7-4FD3-BD85-1487BDF4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8552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80144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8552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6960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366C-D154-4D87-A106-151E9AD6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C7F-63B6-47ED-9BCB-4B7BC28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1B1-A51B-432F-9AB2-D04B1A9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D0E-9E76-4B2B-BEDA-8F85E2A9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DB6-AEDF-4AD9-A632-7CEDF014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290-AB1D-48B3-B2ED-83723B4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13D-A76A-4681-A8F4-2BFA161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C05-3333-4685-8D93-13B23A46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8100000"/>
          </a:gradFill>
          <a:ln w="0">
            <a:noFill/>
          </a:ln>
        </p:spPr>
        <p:txBody>
          <a:bodyPr lIns="182880" rIns="182880" tIns="137160" bIns="137160" anchor="ctr" anchorCtr="1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90320" indent="-188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54200" indent="-150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5880" indent="-150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357560" indent="-150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357560" indent="-1508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357560" indent="-1508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D906-1440-42A1-867C-FD559AC0B2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1089000"/>
            <a:ext cx="8528040" cy="1403280"/>
            <a:chOff x="685800" y="1089000"/>
            <a:chExt cx="8528040" cy="1403280"/>
          </a:xfrm>
        </p:grpSpPr>
        <p:sp>
          <p:nvSpPr>
            <p:cNvPr id="6" name=""/>
            <p:cNvSpPr/>
            <p:nvPr/>
          </p:nvSpPr>
          <p:spPr>
            <a:xfrm>
              <a:off x="685800" y="1676520"/>
              <a:ext cx="77724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461360" y="1089000"/>
              <a:ext cx="1752480" cy="1403280"/>
            </a:xfrm>
            <a:prstGeom prst="sun">
              <a:avLst>
                <a:gd name="adj" fmla="val 41949"/>
              </a:avLst>
            </a:prstGeom>
            <a:gradFill rotWithShape="0">
              <a:gsLst>
                <a:gs pos="0">
                  <a:srgbClr val="ffc32d"/>
                </a:gs>
                <a:gs pos="100000">
                  <a:srgbClr val="f4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29D-CD3D-4BB2-9641-40789EE2D0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2482920"/>
            <a:ext cx="8528040" cy="1403280"/>
            <a:chOff x="685800" y="2482920"/>
            <a:chExt cx="8528040" cy="1403280"/>
          </a:xfrm>
        </p:grpSpPr>
        <p:sp>
          <p:nvSpPr>
            <p:cNvPr id="49" name=""/>
            <p:cNvSpPr/>
            <p:nvPr/>
          </p:nvSpPr>
          <p:spPr>
            <a:xfrm>
              <a:off x="685800" y="3070440"/>
              <a:ext cx="77724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1360" y="2482920"/>
              <a:ext cx="1752480" cy="1403280"/>
            </a:xfrm>
            <a:prstGeom prst="sun">
              <a:avLst>
                <a:gd name="adj" fmla="val 41949"/>
              </a:avLst>
            </a:prstGeom>
            <a:gradFill rotWithShape="0">
              <a:gsLst>
                <a:gs pos="0">
                  <a:srgbClr val="ffc32d"/>
                </a:gs>
                <a:gs pos="100000">
                  <a:srgbClr val="f4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43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8866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3020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77372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773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773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Good 4 U - Miami Beach</a:t>
            </a:r>
            <a:endParaRPr b="1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81440" y="3850200"/>
            <a:ext cx="6401160" cy="18468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8100000"/>
          </a:gradFill>
          <a:ln w="0">
            <a:noFill/>
          </a:ln>
        </p:spPr>
        <p:txBody>
          <a:bodyPr lIns="182880" rIns="182880" tIns="137160" bIns="137160" anchor="ctr" anchorCtr="1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Grand Opening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Food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01440" y="2942280"/>
            <a:ext cx="7642440" cy="23450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8100000"/>
          </a:gradFill>
          <a:ln w="0">
            <a:noFill/>
          </a:ln>
        </p:spPr>
        <p:txBody>
          <a:bodyPr lIns="182880" rIns="182880" tIns="137160" bIns="137160" anchor="ctr" anchorCtr="1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al delica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ffet lun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urmet dinner spec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lthy beverage open b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ntertainmen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801440" y="2958480"/>
            <a:ext cx="7642440" cy="2312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8100000"/>
          </a:gradFill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caliber local tal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ionally known M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ity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01440" y="2989800"/>
            <a:ext cx="7642440" cy="24526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8100000"/>
          </a:gradFill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endance by entertainment and sports celebr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s kits sent to all local print and broadcast med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7T13:51:52Z</dcterms:created>
  <dc:creator>Pat R. Graves</dc:creator>
  <dc:description/>
  <dc:language>en-US</dc:language>
  <cp:lastModifiedBy>Student Name</cp:lastModifiedBy>
  <dcterms:modified xsi:type="dcterms:W3CDTF">2004-04-11T20:38:38Z</dcterms:modified>
  <cp:revision>10</cp:revision>
  <dc:subject/>
  <dc:title>Good 4 U- Miami Beach</dc:title>
</cp:coreProperties>
</file>