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0FFE-50CF-4C72-8E5B-05A75C86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5621-EA23-4061-9960-218C25B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1BFF-D7ED-4062-BD1F-618AF79C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A72D-FFF8-455A-9400-7117A710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639-002F-4AD1-9B4B-AED7311C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CB6-7EFA-411B-9F94-67A0B439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6D5-66BB-4D7C-BE78-2B5D17EA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6807-B45B-442D-8C3B-631B34B6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D1B7-2CA1-4CCF-85CA-FC3ADC4B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49D-874E-4E9F-828E-CE5420B8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224-E16A-4840-A2E4-8370237D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A44C-C90D-41B2-8D79-47E7E848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1D35-3D58-48A8-BD36-30E4BAD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A03D-85F0-4085-BC09-1DD348B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DEC0-0E29-47E7-AD05-CCAD2D68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2A19-D1F9-44EC-85E2-561C6FAF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A883-3D25-44F0-9BED-E162BC2C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3A0B-5192-437D-83E6-B81CA2D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9776-442C-4B86-8C21-D91DFC9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D0B4-2B02-4699-A803-9CE5D43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7876-6FB1-4C19-B696-820884AA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4BF6-0D98-40DF-A7EA-0AF8F45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69C1-6094-4EBE-AF21-EC84494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2E4F-6CD5-4408-BED9-395EDD90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E303-1548-4426-9694-8941CEDC8663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BAF-0590-467B-8B18-A4363A1642F8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478480" y="3517920"/>
            <a:ext cx="2514600" cy="221616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50000"/>
            </a:blip>
            <a:srcRect/>
            <a:stretch/>
          </a:blipFill>
          <a:ln cap="rnd" w="76320">
            <a:solidFill>
              <a:srgbClr val="a8669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001880" y="1773360"/>
          <a:ext cx="71262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73360"/>
                    <a:ext cx="71262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7200720" y="1736640"/>
            <a:ext cx="1042920" cy="828720"/>
          </a:xfrm>
          <a:prstGeom prst="line">
            <a:avLst/>
          </a:prstGeom>
          <a:ln w="101520">
            <a:solidFill>
              <a:srgbClr val="d79d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blipFill rotWithShape="0">
            <a:blip r:embed="rId1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gradFill rotWithShape="0">
            <a:gsLst>
              <a:gs pos="0">
                <a:srgbClr val="a8669b"/>
              </a:gs>
              <a:gs pos="100000">
                <a:srgbClr val="4a2d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6920" y="3033720"/>
            <a:ext cx="1606680" cy="160812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Student Name</cp:lastModifiedBy>
  <dcterms:modified xsi:type="dcterms:W3CDTF">2004-04-11T20:34:49Z</dcterms:modified>
  <cp:revision>22</cp:revision>
  <dc:subject/>
  <dc:title>Good 4 U Franchise Training</dc:title>
</cp:coreProperties>
</file>