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media/image11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86B07-E48D-456A-B353-5F2ED702B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822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4F476-8CE2-4C50-952D-ECC3AC35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036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B625E-AF0F-4B8F-BB9D-2197B5002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78020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78020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036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036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90224-4FCB-4ADF-9981-90B5AAFBF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F688-81D1-4BF6-887A-C0681E8E9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780200"/>
            <a:ext cx="8229600" cy="41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91F9-CF4A-4E6D-9B97-8A8D0ED7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82296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F596-19FD-4FDF-98AD-8682E3A6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69BB-C074-49C8-87B2-6DA02FD9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9B2D-4FFB-4514-9D28-D9ABDA9F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E1A3-F2E6-4A54-9816-13520AE7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5D2B-F33D-4B34-B854-29CBDF20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780200"/>
            <a:ext cx="8229600" cy="41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5A03B-DA98-4E51-85DE-08EDB0D5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036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E036-FF38-4A2A-84D2-6326D7E3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0237-F021-491D-BCD7-EF91590E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822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1C43-4F68-4657-A60A-E758C4A8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036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1372-16EE-40CC-8CEE-67FB0F84B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78020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78020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036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036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AC49-194B-4579-A0C3-C289881F5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82296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32EE7-F633-4BEE-AA5B-CEB06BE6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CC012-5EB7-43D4-B409-CB19750A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59F5D-84A2-427E-B477-7661FA97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394BC-6B01-4F4C-958F-A71E9514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1D059-3BC5-4E97-AD06-4DAD0680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036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D11DB-42EB-4C14-9083-0CF202AB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7A0EF-5FF3-4870-9ECF-A740D41E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1240" y="1305000"/>
            <a:ext cx="9350640" cy="5632560"/>
            <a:chOff x="-111240" y="130500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30240" y="163584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45720" y="178560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50760" y="189828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75960" y="203292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9280" y="221436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11240" y="241416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55520" y="26859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64880" y="29541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9640" y="32547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47760" y="36298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504720" y="415116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6120" y="456948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85840" y="464400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48000" y="48708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25280" y="555840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13640" y="661068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9400" y="374328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22200" y="53877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70000" y="57499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82160" y="622260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51000" y="51102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90080" y="33764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19160" y="30848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85720" y="28569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38120" y="25077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63560" y="234000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67040" y="218232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52240" y="206856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1080" y="192996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1560" y="26690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31560" y="472032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83680" y="422316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66760" y="5329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66840" y="4876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44440" y="57942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89320" y="4221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335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68680" y="453240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82600" y="450360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74560" y="421308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52560" y="4190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03760" y="39416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24360" y="36702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0480" y="34164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44840" y="36558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56080" y="30099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899320" y="28414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592960" y="3006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56040" y="28191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94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797360" y="34257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82920" y="38908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49480" y="3216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394000" y="34495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82800" y="36655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24120" y="32464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05040" y="28591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73480" y="30319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5588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19640" y="30211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52720" y="28335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38360" y="32227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0080" y="3435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5892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14240" y="28494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1360" y="3014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7880" y="3684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84480" y="34542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44520" y="392112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0560" y="31957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05080" y="26956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6552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0600" y="238752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27280" y="25290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49560" y="26794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84560" y="23972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05160" y="2689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14840" y="2538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53040" y="26733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1520" y="23972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960" y="25318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3880" y="23907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1200" y="26924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5240" y="25290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0160" y="239544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83280" y="26766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7380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88080" y="23875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0640" y="23986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84800" y="2697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78560" y="25495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27160" y="57960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14560" y="636912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0520" y="4902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25960" y="4548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06920" y="4232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48360" y="38923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1200" y="533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67400" y="3651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0440" y="31939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0080" y="34225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14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78520" y="28494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43840" y="26956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152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16880" y="239724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18480" y="226836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0040" y="2266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08480" y="2266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0240" y="216540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95720" y="204768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86200" y="18540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0360" y="216864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45000" y="193356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17760" y="20350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29080" y="228600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52480" y="22572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1920" y="203508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6280" y="21524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9760" y="182880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196040" y="216360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88320" y="228276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29520" y="214956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94320" y="214956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19800" y="1946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43320" y="175716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0600" y="1655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75120" y="16477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19360" y="202392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05000" y="2139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44560" y="2263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0080" y="167940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36840" y="16635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0120" y="168444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0200" y="203508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1960" y="184320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54560" y="19479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0640" y="17622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795840" y="16653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88040" y="229212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08400" y="2050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62520" y="183672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19360" y="17445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13000" y="184140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68560" y="21495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63800" y="19382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1120" y="17398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05240" y="204300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1240" y="21286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19200" y="1832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46240" y="1936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77920" y="17622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09640" y="184788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84200" y="17762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1320" y="192708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1720" y="18540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4400" y="195264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1120" y="1743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1080" y="207972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54320" y="15858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0760" y="160488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52920" y="159696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1240" y="158580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75240" y="14907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1280" y="157644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38440" y="225108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1440" y="24033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37320" y="203976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0200" y="192096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79680" y="143820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98720" y="14382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27400" y="137628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1440" y="13050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36960" y="137628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22680" y="146196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29040" y="151596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38280" y="152388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0280" y="150948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39920" y="638964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97360" y="58244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32520" y="4951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27880" y="456876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83160" y="5357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34040" y="421488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85040" y="392580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1240" y="36702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72520" y="32065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8120" y="3429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1920" y="3044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43760" y="2865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85320" y="26985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69280" y="25588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1520" y="24112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59520" y="645948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88080" y="58593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69360" y="58784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1520" y="642456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24480" y="53877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59720" y="49831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999560" y="54226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19800" y="455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94840" y="49435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18480" y="456732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67560" y="4240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75720" y="39463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34600" y="32544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85320" y="367020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34440" y="34513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2040" y="3065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23400" y="2871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2000" y="42512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11240" y="454500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-4680" y="39290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22320" y="2276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0080" y="636264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781680" y="6273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4416-F60B-46ED-AAB6-CDAC136E7979}" type="slidenum">
              <a:rPr b="0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2"/>
          </p:nvPr>
        </p:nvSpPr>
        <p:spPr>
          <a:xfrm>
            <a:off x="457200" y="6235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body"/>
          </p:nvPr>
        </p:nvSpPr>
        <p:spPr>
          <a:xfrm>
            <a:off x="457200" y="1780200"/>
            <a:ext cx="82296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14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1400"/>
              </a:spcBef>
              <a:buClr>
                <a:srgbClr val="a8669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75000"/>
              </a:lnSpc>
              <a:spcBef>
                <a:spcPts val="1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lnSpc>
                <a:spcPct val="75000"/>
              </a:lnSpc>
              <a:spcBef>
                <a:spcPts val="1400"/>
              </a:spcBef>
              <a:buClr>
                <a:srgbClr val="a8669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75000"/>
              </a:lnSpc>
              <a:spcBef>
                <a:spcPts val="1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lnSpc>
                <a:spcPct val="75000"/>
              </a:lnSpc>
              <a:spcBef>
                <a:spcPts val="1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lnSpc>
                <a:spcPct val="75000"/>
              </a:lnSpc>
              <a:spcBef>
                <a:spcPts val="1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380600" y="1844640"/>
            <a:ext cx="63802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ef6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D4BF-DD9C-41A4-98D8-41CFF92761CA}" type="slidenum">
              <a:rPr b="0" lang="en-US" sz="10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7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75000"/>
              </a:lnSpc>
              <a:spcBef>
                <a:spcPts val="1049"/>
              </a:spcBef>
              <a:buClr>
                <a:srgbClr val="d79d69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75000"/>
              </a:lnSpc>
              <a:spcBef>
                <a:spcPts val="876"/>
              </a:spcBef>
              <a:buClr>
                <a:srgbClr val="a8669b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75000"/>
              </a:lnSpc>
              <a:spcBef>
                <a:spcPts val="876"/>
              </a:spcBef>
              <a:buClr>
                <a:srgbClr val="d79d69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762120" y="685800"/>
            <a:ext cx="7696080" cy="5448240"/>
          </a:xfrm>
          <a:prstGeom prst="rect">
            <a:avLst/>
          </a:prstGeom>
          <a:solidFill>
            <a:srgbClr val="52527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380600" y="1442520"/>
            <a:ext cx="638028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ef6"/>
                </a:solidFill>
                <a:latin typeface="Garamond"/>
              </a:rPr>
              <a:t>Good 4 U</a:t>
            </a:r>
            <a:br>
              <a:rPr sz="5400"/>
            </a:br>
            <a:r>
              <a:rPr b="1" lang="en-US" sz="5400" spc="-1" strike="noStrike">
                <a:solidFill>
                  <a:srgbClr val="dfdef6"/>
                </a:solidFill>
                <a:latin typeface="Garamond"/>
              </a:rPr>
              <a:t>Franchise Training</a:t>
            </a:r>
            <a:endParaRPr b="1" lang="en-US" sz="5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380960" y="3792240"/>
            <a:ext cx="304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bruary 1, 20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5478480" y="3517920"/>
            <a:ext cx="2514600" cy="2216160"/>
          </a:xfrm>
          <a:prstGeom prst="rect">
            <a:avLst/>
          </a:prstGeom>
          <a:ln w="127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Garamond"/>
              </a:rPr>
              <a:t>Required Restaurant Equipment</a:t>
            </a: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35200" y="2321640"/>
            <a:ext cx="5673600" cy="3408840"/>
          </a:xfrm>
          <a:prstGeom prst="rect">
            <a:avLst/>
          </a:prstGeom>
          <a:gradFill rotWithShape="0">
            <a:gsLst>
              <a:gs pos="0">
                <a:srgbClr val="a8669b">
                  <a:alpha val="80392"/>
                </a:srgbClr>
              </a:gs>
              <a:gs pos="100000">
                <a:srgbClr val="52527c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marL="343080" indent="-343080">
              <a:lnSpc>
                <a:spcPct val="75000"/>
              </a:lnSpc>
              <a:spcBef>
                <a:spcPts val="1225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Caloric industrial r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225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Sub-Zero refrig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225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4 U cookwa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re-packag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225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4 U stonewa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re-packag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225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ida fla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6"/>
          <a:stretch/>
        </p:blipFill>
        <p:spPr>
          <a:xfrm>
            <a:off x="5432400" y="4165560"/>
            <a:ext cx="279720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Garamond"/>
              </a:rPr>
              <a:t>Sample Menu</a:t>
            </a: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522" name=""/>
          <p:cNvSpPr/>
          <p:nvPr/>
        </p:nvSpPr>
        <p:spPr>
          <a:xfrm>
            <a:off x="730080" y="1523880"/>
            <a:ext cx="7683840" cy="4254480"/>
          </a:xfrm>
          <a:custGeom>
            <a:avLst/>
            <a:gdLst>
              <a:gd name="textAreaLeft" fmla="*/ 1753920 w 7683840"/>
              <a:gd name="textAreaRight" fmla="*/ 5929920 w 768384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>
              <a:alphaModFix amt="50000"/>
            </a:blip>
            <a:srcRect/>
            <a:stretch/>
          </a:blipFill>
          <a:ln cap="rnd" w="76320">
            <a:solidFill>
              <a:srgbClr val="a8669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4 U Veggie Bur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y Good Shrimp Sal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Fruit Comb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re’s Lemon Dill Chic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Garamond"/>
              </a:rPr>
              <a:t>Projected Annual Sales</a:t>
            </a: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1001880" y="1773360"/>
          <a:ext cx="7126200" cy="44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1880" y="1773360"/>
                    <a:ext cx="7126200" cy="44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"/>
          <p:cNvSpPr/>
          <p:nvPr/>
        </p:nvSpPr>
        <p:spPr>
          <a:xfrm flipH="1">
            <a:off x="7200720" y="1736640"/>
            <a:ext cx="1042920" cy="828720"/>
          </a:xfrm>
          <a:prstGeom prst="line">
            <a:avLst/>
          </a:prstGeom>
          <a:ln w="101520">
            <a:solidFill>
              <a:srgbClr val="d79d6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Garamond"/>
              </a:rPr>
              <a:t>Franchising Opportunities</a:t>
            </a:r>
            <a:endParaRPr b="1" lang="en-US" sz="48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528" name=""/>
          <p:cNvSpPr/>
          <p:nvPr/>
        </p:nvSpPr>
        <p:spPr>
          <a:xfrm>
            <a:off x="552600" y="2408400"/>
            <a:ext cx="8038800" cy="3193920"/>
          </a:xfrm>
          <a:prstGeom prst="triangle">
            <a:avLst>
              <a:gd name="adj" fmla="val 49995"/>
            </a:avLst>
          </a:prstGeom>
          <a:blipFill rotWithShape="0">
            <a:blip r:embed="rId1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lbuquerqu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spen, Austin, Boston, Chicag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enver, Jackson Hole, Kansas City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emphis, Philadelphia, Santa F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eattle, and Tuc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033800" y="1981080"/>
            <a:ext cx="1076400" cy="1076400"/>
          </a:xfrm>
          <a:prstGeom prst="ellipse">
            <a:avLst/>
          </a:prstGeom>
          <a:gradFill rotWithShape="0">
            <a:gsLst>
              <a:gs pos="0">
                <a:srgbClr val="a8669b"/>
              </a:gs>
              <a:gs pos="100000">
                <a:srgbClr val="4a2d4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Garamond"/>
              </a:rPr>
              <a:t>Employee Hiring Practices</a:t>
            </a: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970000" y="2115720"/>
            <a:ext cx="5259240" cy="3417480"/>
          </a:xfrm>
          <a:prstGeom prst="rect">
            <a:avLst/>
          </a:prstGeom>
          <a:gradFill rotWithShape="0">
            <a:gsLst>
              <a:gs pos="0">
                <a:srgbClr val="a8669b">
                  <a:alpha val="80392"/>
                </a:srgbClr>
              </a:gs>
              <a:gs pos="100000">
                <a:srgbClr val="52527c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marL="343080" indent="-343080">
              <a:lnSpc>
                <a:spcPct val="75000"/>
              </a:lnSpc>
              <a:spcBef>
                <a:spcPts val="1225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-level managers must have five years of management exper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225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fs must have a culinary degree from an accredited 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225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iters and waitresses must have re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5480" y="1665360"/>
            <a:ext cx="1612800" cy="161280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26920" y="3033720"/>
            <a:ext cx="1606680" cy="160812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25480" y="4371840"/>
            <a:ext cx="1612800" cy="161316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1T21:29:33Z</dcterms:created>
  <dc:creator>Pat R. Graves</dc:creator>
  <dc:description/>
  <dc:language>en-US</dc:language>
  <cp:lastModifiedBy>Student Name</cp:lastModifiedBy>
  <dcterms:modified xsi:type="dcterms:W3CDTF">2004-04-11T20:34:34Z</dcterms:modified>
  <cp:revision>24</cp:revision>
  <dc:subject/>
  <dc:title>Good 4 U Franchise Training</dc:title>
</cp:coreProperties>
</file>