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735-170F-44BA-817E-9512A30B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95280" y="36108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C5B-4A09-472C-B575-79C31EBB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4724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2BA-9236-4450-AABA-30A33427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712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71860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9528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0712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71860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037-4C10-479C-B93F-945977AC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4154-0821-4C79-A203-24093386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30A1-6754-474A-8194-5C103494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E390-EC39-4045-821A-8CA6CD9E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064-BB74-4B58-A93A-8A97D5F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2109-130B-48C5-A3A5-B53C8520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6629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098-1D97-4110-AF19-B93955C5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187-BC0A-4F85-AECB-32C7B8D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601-B1EA-47F5-B4FF-09952C5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4724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3B00-C8FB-4465-ABD2-E55EA72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7929-6158-4E7A-8682-65B882D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95280" y="36108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E0E9-658E-42EB-910D-99365127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4724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0EF5-212A-4F1D-8DCF-B0BE7D2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712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8600" y="21333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9528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712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18600" y="36108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001-9DFA-4FC9-AC1D-3DA82183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1EF-B93F-4D3B-A918-C4254F9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DD7-DAD0-477A-80BC-85DDB0C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8FC-9FD4-4AAC-9C68-10B9633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057040" y="380880"/>
            <a:ext cx="6629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B1D-DE44-490F-ACD8-AB0C9706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139-213B-491A-9FA0-42FD820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47240" y="36108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A1A-FB69-4B7B-8BBE-16203121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7240" y="21333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36108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5D6-6437-4ED5-A2F5-DE9CAA0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35920" y="4925880"/>
            <a:ext cx="2008080" cy="1932120"/>
          </a:xfrm>
          <a:prstGeom prst="flowChartAlternateProcess">
            <a:avLst/>
          </a:prstGeom>
          <a:solidFill>
            <a:srgbClr val="6666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133720" cy="1752480"/>
          </a:xfrm>
          <a:prstGeom prst="flowChartAlternateProcess">
            <a:avLst/>
          </a:prstGeom>
          <a:solidFill>
            <a:srgbClr val="6666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295280" y="2133360"/>
            <a:ext cx="6541560" cy="2828520"/>
          </a:xfrm>
          <a:prstGeom prst="rect">
            <a:avLst/>
          </a:prstGeom>
          <a:solidFill>
            <a:srgbClr val="666699">
              <a:alpha val="79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 fontScale="52000"/>
          </a:bodyPr>
          <a:p>
            <a:pPr marL="237600" indent="-237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45680" indent="-14832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-118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831960" indent="-1188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069560" indent="-118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069560" indent="-118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069560" indent="-118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73C-5DBB-48B6-A43E-E350E6B64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2872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09680" y="609480"/>
            <a:ext cx="10940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81952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211880" y="5083200"/>
            <a:ext cx="1828800" cy="1609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103320" y="82440"/>
            <a:ext cx="1828800" cy="160992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335268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388620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41972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95288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48640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601992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655308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708660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762012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8153280" y="609480"/>
            <a:ext cx="1092240" cy="88920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263520" bIns="26352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52480" y="3200400"/>
            <a:ext cx="3657600" cy="3124080"/>
          </a:xfrm>
          <a:prstGeom prst="flowChartAlternateProcess">
            <a:avLst/>
          </a:prstGeom>
          <a:solidFill>
            <a:srgbClr val="6666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B5A7-896D-44DA-93CE-140790115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62120"/>
            <a:ext cx="2133360" cy="213048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76480" y="762120"/>
            <a:ext cx="2133720" cy="213048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762120"/>
            <a:ext cx="2133720" cy="2130480"/>
          </a:xfrm>
          <a:prstGeom prst="ellipse">
            <a:avLst/>
          </a:prstGeom>
          <a:gradFill rotWithShape="0">
            <a:gsLst>
              <a:gs pos="0">
                <a:srgbClr val="6d6fc5">
                  <a:alpha val="75294"/>
                </a:srgbClr>
              </a:gs>
              <a:gs pos="100000">
                <a:srgbClr val="4d4d4d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5760" rIns="365760" tIns="365760" bIns="3657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3352680"/>
            <a:ext cx="3124440" cy="2751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716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7164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nual Meeting of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ranchise Own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252040" y="4263840"/>
            <a:ext cx="3669120" cy="1834920"/>
          </a:xfrm>
          <a:prstGeom prst="rect">
            <a:avLst/>
          </a:prstGeom>
          <a:blipFill rotWithShape="0">
            <a:blip r:embed="rId2">
              <a:alphaModFix amt="75000"/>
            </a:blip>
            <a:stretch/>
          </a:blipFill>
          <a:ln w="0">
            <a:noFill/>
          </a:ln>
        </p:spPr>
        <p:txBody>
          <a:bodyPr lIns="365760" rIns="365760" tIns="365760" bIns="365760" anchor="ctr" anchorCtr="1">
            <a:no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od 4 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e and Ti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03600" y="2113200"/>
            <a:ext cx="7336800" cy="2622240"/>
          </a:xfrm>
          <a:prstGeom prst="rect">
            <a:avLst/>
          </a:prstGeom>
          <a:blipFill rotWithShape="0">
            <a:blip r:embed="rId2">
              <a:alphaModFix amt="75000"/>
            </a:blip>
            <a:stretch/>
          </a:blipFill>
          <a:ln w="0">
            <a:noFill/>
          </a:ln>
        </p:spPr>
        <p:txBody>
          <a:bodyPr lIns="365760" rIns="365760" tIns="365760" bIns="365760" anchor="ctr" anchorCtr="1">
            <a:normAutofit fontScale="92000"/>
          </a:bodyPr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nuary 24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:0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bruary 22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:3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ch 15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:3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eting 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6360" y="2044440"/>
            <a:ext cx="3067200" cy="2584440"/>
          </a:xfrm>
          <a:prstGeom prst="rect">
            <a:avLst/>
          </a:prstGeom>
          <a:blipFill rotWithShape="0">
            <a:blip r:embed="rId2">
              <a:alphaModFix amt="75000"/>
            </a:blip>
            <a:stretch/>
          </a:blipFill>
          <a:ln w="0">
            <a:noFill/>
          </a:ln>
        </p:spPr>
        <p:txBody>
          <a:bodyPr lIns="365760" rIns="365760" tIns="365760" bIns="365760" anchor="ctr" anchorCtr="1">
            <a:normAutofit fontScale="95000"/>
          </a:bodyPr>
          <a:p>
            <a:pPr marL="434160" indent="-43416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s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34160" indent="-43416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ansas C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0800" y="2046240"/>
            <a:ext cx="3065040" cy="2621880"/>
          </a:xfrm>
          <a:prstGeom prst="rect">
            <a:avLst/>
          </a:prstGeom>
          <a:blipFill rotWithShape="0">
            <a:blip r:embed="rId3">
              <a:alphaModFix amt="75000"/>
            </a:blip>
            <a:stretch/>
          </a:blipFill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icag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nv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ll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t Spea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39920" y="2065320"/>
            <a:ext cx="6580080" cy="2472840"/>
          </a:xfrm>
          <a:prstGeom prst="rect">
            <a:avLst/>
          </a:prstGeom>
          <a:blipFill rotWithShape="0">
            <a:blip r:embed="rId2">
              <a:alphaModFix amt="75000"/>
            </a:blip>
            <a:stretch/>
          </a:blipFill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lie Wolf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us Irvinel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y Olaf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31:17Z</dcterms:created>
  <dc:creator>Pat R. Graves</dc:creator>
  <dc:description/>
  <dc:language>en-US</dc:language>
  <cp:lastModifiedBy>Pat Graves</cp:lastModifiedBy>
  <dcterms:modified xsi:type="dcterms:W3CDTF">2004-03-01T14:54:33Z</dcterms:modified>
  <cp:revision>8</cp:revision>
  <dc:subject/>
  <dc:title>Slide 1</dc:title>
</cp:coreProperties>
</file>