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1F2C-6FFD-4FBE-BD0F-2298949D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FA55-C625-46BE-9610-8ACF3B7F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872B-925D-4F1B-BAB7-2F71C2F2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B86B-5962-4216-A412-2BF83FED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8732-D1DB-4411-A902-9A7E7FF7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26F4-BD9B-4139-9AFC-AA8EEF05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F92E-344D-4131-BC5E-699B8386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D380-3CCF-4288-B7EF-0526FC0A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4D8E-1CC2-43AF-8A66-50DA73AA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515F-8D1A-4F10-9B4C-D7223557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3EE4-337C-4B75-9BC9-2ADFE8DA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32E4-D221-49D7-A523-067283F5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BD41-0D52-4646-9B6D-3B51F5E0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1313-E42F-4867-96FA-512F8DB1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E13B-5C8F-48FE-9F68-A7F925F7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654A-C117-4E09-B990-D749C8B6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BC4D-F162-4B07-84B1-708B8F49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7BDE-A1A4-4DC7-8F39-20BEF047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A56D-3742-4409-862E-B0666D77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479B-721E-4370-87E8-B065E789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D1EF-70E1-4554-97B5-54C20406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6FBD-BD8A-4221-9697-E8FE134D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E721-853E-43CB-88D9-EC1521A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BBE0-161B-4EF8-8B12-1AC3C11A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7FFD-7D40-46C7-96E3-6609325DCF31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body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14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80600" y="1844640"/>
            <a:ext cx="6380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A150-0827-4AB4-B55E-2827AAD700A5}" type="slidenum">
              <a:rPr b="0" lang="en-US" sz="10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75000"/>
              </a:lnSpc>
              <a:spcBef>
                <a:spcPts val="1049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876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876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762120" y="685800"/>
            <a:ext cx="7696080" cy="5448240"/>
          </a:xfrm>
          <a:prstGeom prst="rect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80600" y="1442520"/>
            <a:ext cx="63802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Franchise Training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80960" y="3792240"/>
            <a:ext cx="304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2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653000" y="3346560"/>
            <a:ext cx="25146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Required Restaurant Equipmen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35200" y="2321640"/>
            <a:ext cx="5673600" cy="3408840"/>
          </a:xfrm>
          <a:prstGeom prst="rect">
            <a:avLst/>
          </a:prstGeom>
          <a:gradFill rotWithShape="0">
            <a:gsLst>
              <a:gs pos="0">
                <a:srgbClr val="a8669b">
                  <a:alpha val="80392"/>
                </a:srgbClr>
              </a:gs>
              <a:gs pos="100000">
                <a:srgbClr val="52527c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Caloric industrial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cook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stone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5432400" y="4165560"/>
            <a:ext cx="2797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Sample Menu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2" name=""/>
          <p:cNvSpPr/>
          <p:nvPr/>
        </p:nvSpPr>
        <p:spPr>
          <a:xfrm>
            <a:off x="730080" y="1523880"/>
            <a:ext cx="7683840" cy="4254480"/>
          </a:xfrm>
          <a:custGeom>
            <a:avLst/>
            <a:gdLst>
              <a:gd name="textAreaLeft" fmla="*/ 1753920 w 7683840"/>
              <a:gd name="textAreaRight" fmla="*/ 5929920 w 768384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50000"/>
            </a:blip>
            <a:srcRect/>
            <a:stretch/>
          </a:blipFill>
          <a:ln cap="rnd" w="76320">
            <a:solidFill>
              <a:srgbClr val="a8669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Veggie Bu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y Good Shrimp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ruit Co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’s Lemon Dill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Projected Annual Sal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001880" y="1773360"/>
          <a:ext cx="712620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1773360"/>
                    <a:ext cx="712620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 flipH="1">
            <a:off x="7200720" y="1736640"/>
            <a:ext cx="1042920" cy="828720"/>
          </a:xfrm>
          <a:prstGeom prst="line">
            <a:avLst/>
          </a:prstGeom>
          <a:ln w="101520">
            <a:solidFill>
              <a:srgbClr val="a8669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Garamond"/>
              </a:rPr>
              <a:t>Franchising Opportunities</a:t>
            </a:r>
            <a:endParaRPr b="1" lang="en-US" sz="48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552600" y="2408400"/>
            <a:ext cx="8038800" cy="3193920"/>
          </a:xfrm>
          <a:prstGeom prst="triangle">
            <a:avLst>
              <a:gd name="adj" fmla="val 49995"/>
            </a:avLst>
          </a:prstGeom>
          <a:blipFill rotWithShape="0">
            <a:blip r:embed="rId1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buquerq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spen, Austin, Boston, Chicag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nver, Jackson Hole, Kansas Cit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mphis, Philadelphia, Santa 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attle, and Tuc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033800" y="1981080"/>
            <a:ext cx="1076400" cy="1076400"/>
          </a:xfrm>
          <a:prstGeom prst="ellipse">
            <a:avLst/>
          </a:prstGeom>
          <a:gradFill rotWithShape="0">
            <a:gsLst>
              <a:gs pos="0">
                <a:srgbClr val="a8669b"/>
              </a:gs>
              <a:gs pos="100000">
                <a:srgbClr val="4a2d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Employee Hiring Practic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970000" y="2115720"/>
            <a:ext cx="5259240" cy="3417480"/>
          </a:xfrm>
          <a:prstGeom prst="rect">
            <a:avLst/>
          </a:prstGeom>
          <a:gradFill rotWithShape="0">
            <a:gsLst>
              <a:gs pos="0">
                <a:srgbClr val="a8669b">
                  <a:alpha val="80392"/>
                </a:srgbClr>
              </a:gs>
              <a:gs pos="100000">
                <a:srgbClr val="52527c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5480" y="1665360"/>
            <a:ext cx="1612800" cy="161280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8720" y="3025800"/>
            <a:ext cx="1606680" cy="160812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25480" y="4371840"/>
            <a:ext cx="1612800" cy="161316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21:29:33Z</dcterms:created>
  <dc:creator>Pat R. Graves</dc:creator>
  <dc:description/>
  <dc:language>en-US</dc:language>
  <cp:lastModifiedBy>Student Name</cp:lastModifiedBy>
  <dcterms:modified xsi:type="dcterms:W3CDTF">2004-04-11T20:35:21Z</dcterms:modified>
  <cp:revision>19</cp:revision>
  <dc:subject/>
  <dc:title>Good 4 U Franchise Training</dc:title>
</cp:coreProperties>
</file>