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FCCC-393F-419A-8DCB-85161E95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43C6-C17E-4B32-B94E-3FBA7BFE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896-6A2C-4C53-97A6-8A552B37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3202-6C41-46CC-9413-99A0FE8F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25D9-5A55-497F-83B1-29D01411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7E1A-6A98-4A77-9A4F-BC50CAD7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0ED1-0487-4AAE-BB35-B62D4BA1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4196-EB5E-4151-9F67-F9211869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2AC5-081D-4901-AB28-A934ABEF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E30B-1E4B-4C80-A0A3-70B47ED3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9BAD-4921-497B-BEDF-C6E80B3B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8D5C-DF20-4FBC-BFB0-2D0E2044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C4C5-C254-40B3-805D-FE3362D7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704F-7565-4193-9FAE-845D5892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6CA5-0F9D-4481-9249-E3789E94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3861-57D1-4AD0-AF0A-E5EAFA7C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428F-EB90-41F6-87A6-F30AD936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94E9-AB0C-4C6D-90FD-A6AC34E5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CE8-DB64-4225-89ED-BFBF7C6C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31A-D97C-479F-89A3-5A220969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0498-9150-43A0-B887-4D9F8020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CFF6-A684-44A2-B781-0377608E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C84E-BEAE-48B2-8BB7-9462F660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C2E-A844-4E56-8A2A-52BA22AC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1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8120" y="228600"/>
            <a:ext cx="8823600" cy="6095880"/>
          </a:xfrm>
          <a:prstGeom prst="roundRect">
            <a:avLst>
              <a:gd name="adj" fmla="val 11046"/>
            </a:avLst>
          </a:prstGeom>
          <a:gradFill rotWithShape="0">
            <a:gsLst>
              <a:gs pos="0">
                <a:srgbClr val="005986"/>
              </a:gs>
              <a:gs pos="100000">
                <a:srgbClr val="1e1551"/>
              </a:gs>
            </a:gsLst>
            <a:lin ang="10800000"/>
          </a:gradFill>
          <a:ln w="127080">
            <a:solidFill>
              <a:srgbClr val="005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6568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598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A322-B7C1-4560-9241-2CFBA2E59F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1709640"/>
            <a:ext cx="7696080" cy="0"/>
          </a:xfrm>
          <a:prstGeom prst="line">
            <a:avLst/>
          </a:prstGeom>
          <a:ln w="38160">
            <a:solidFill>
              <a:srgbClr val="565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1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ffffff"/>
              </a:gs>
              <a:gs pos="100000">
                <a:srgbClr val="00598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1e1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127080">
            <a:solidFill>
              <a:srgbClr val="005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6FD5-3CA3-4D8D-9D44-003C459838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ffff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1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835280" y="4724280"/>
            <a:ext cx="5410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raining Ses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311640" y="3683160"/>
            <a:ext cx="2607840" cy="795240"/>
            <a:chOff x="3311640" y="3683160"/>
            <a:chExt cx="2607840" cy="795240"/>
          </a:xfrm>
        </p:grpSpPr>
        <p:sp>
          <p:nvSpPr>
            <p:cNvPr id="89" name=""/>
            <p:cNvSpPr txBox="1"/>
            <p:nvPr/>
          </p:nvSpPr>
          <p:spPr>
            <a:xfrm>
              <a:off x="5193000" y="3985920"/>
              <a:ext cx="726480" cy="49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4551480" y="3809520"/>
              <a:ext cx="940320" cy="668880"/>
              <a:chOff x="4551480" y="3809520"/>
              <a:chExt cx="940320" cy="668880"/>
            </a:xfrm>
          </p:grpSpPr>
          <p:sp>
            <p:nvSpPr>
              <p:cNvPr id="91" name=""/>
              <p:cNvSpPr/>
              <p:nvPr/>
            </p:nvSpPr>
            <p:spPr>
              <a:xfrm>
                <a:off x="4551480" y="3809520"/>
                <a:ext cx="940320" cy="66888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815360" y="3881520"/>
                <a:ext cx="435240" cy="3726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1e1551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3311640" y="3683160"/>
              <a:ext cx="1753200" cy="47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94" name=""/>
          <p:cNvSpPr txBox="1"/>
          <p:nvPr/>
        </p:nvSpPr>
        <p:spPr>
          <a:xfrm>
            <a:off x="2124000" y="1233360"/>
            <a:ext cx="5033880" cy="14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0800000"/>
                </a:gradFill>
                <a:latin typeface="Arial Black"/>
              </a:rPr>
              <a:t>Marketing Strate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1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Objectives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6568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ek potential inves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6568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stigate the firm Marketing Strategic Management Sys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6568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earch the World Wide We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1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ustomer Requirements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6568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rget health-conscious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6568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udy traffic patterns in selected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6568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view potential customer base for food prefere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6568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view potential customer base for sports prefere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1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Meeting the Needs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6568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customer interview results to develop menu pl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6568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ect a location with the greatest expos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6568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customer interview results to develop interior sports desig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15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ost Analysis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73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6568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ami costs have soared in the 3rd Quar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6568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York costs have remained stea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4360" y="2092320"/>
          <a:ext cx="3824640" cy="32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4360" y="2092320"/>
                    <a:ext cx="382464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Pat Graves</dc:creator>
  <dc:description/>
  <dc:language>en-US</dc:language>
  <cp:lastModifiedBy>Student Name</cp:lastModifiedBy>
  <cp:lastPrinted>1996-12-06T17:08:44Z</cp:lastPrinted>
  <dcterms:modified xsi:type="dcterms:W3CDTF">2004-04-11T20:41:45Z</dcterms:modified>
  <cp:revision>36</cp:revision>
  <dc:subject/>
  <dc:title>Marketing Strategy</dc:title>
</cp:coreProperties>
</file>