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22937-D975-42B4-8D2D-8305C4A6C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822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6D8E3-60C5-4D05-84CF-539D1264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75BCA-F18F-4036-9A65-479408829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78020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78020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036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036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FA32F-0745-4ED8-BE5D-FA312D971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D544-1B7E-40FC-9320-13A614D21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780200"/>
            <a:ext cx="8229600" cy="41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DCC5-D4C1-40BC-A224-5E8C70F7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82296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288C-6B99-4578-A3A5-DA1CE81B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6027-B863-48CB-9489-7CEDEC48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B69E-568E-4366-B72C-4367B0C7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1155-6270-4646-8A55-3B9B5A67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655D-AAF5-4EFD-8070-93E7BC85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780200"/>
            <a:ext cx="8229600" cy="41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5C544-490A-477C-8FF5-62722CC1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ECB9-F72D-4A8F-A4B7-D86FEC0E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9F2F-4DBB-4E14-AD5B-B10AD762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822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190A-D9A6-47DC-B960-212B0D5B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678B-B251-426C-B550-1BCF42C2A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78020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78020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036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036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5E6A2-499E-467D-A8BC-A19333B5C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82296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1BF6F-95C3-41A1-9B91-7C22024A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61625-884D-4511-A6EB-761AC327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F8764-7C36-42EB-8226-6EF2B8C7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D0E95-F324-41C1-825E-DE1B89C6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BE1F0-E1D2-4E0E-9925-4EFD9D85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B92B3-798C-4D70-8DEA-35E3BB94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0C789-EFF4-4F03-9FF8-0EDD92B7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781680" y="6273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07C1-2DDD-459E-B6DB-BC1683ADE2CA}" type="slidenum">
              <a:rPr b="0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2"/>
          </p:nvPr>
        </p:nvSpPr>
        <p:spPr>
          <a:xfrm>
            <a:off x="457200" y="6235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body"/>
          </p:nvPr>
        </p:nvSpPr>
        <p:spPr>
          <a:xfrm>
            <a:off x="457200" y="1780200"/>
            <a:ext cx="82296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14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1400"/>
              </a:spcBef>
              <a:buClr>
                <a:srgbClr val="a8669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75000"/>
              </a:lnSpc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lnSpc>
                <a:spcPct val="75000"/>
              </a:lnSpc>
              <a:spcBef>
                <a:spcPts val="1400"/>
              </a:spcBef>
              <a:buClr>
                <a:srgbClr val="a8669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75000"/>
              </a:lnSpc>
              <a:spcBef>
                <a:spcPts val="1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lnSpc>
                <a:spcPct val="75000"/>
              </a:lnSpc>
              <a:spcBef>
                <a:spcPts val="1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lnSpc>
                <a:spcPct val="75000"/>
              </a:lnSpc>
              <a:spcBef>
                <a:spcPts val="1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380600" y="1844640"/>
            <a:ext cx="63802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ef6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1C6F-7757-47C5-83B9-DD62B780FB17}" type="slidenum">
              <a:rPr b="0" lang="en-US" sz="10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7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75000"/>
              </a:lnSpc>
              <a:spcBef>
                <a:spcPts val="1049"/>
              </a:spcBef>
              <a:buClr>
                <a:srgbClr val="d79d69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75000"/>
              </a:lnSpc>
              <a:spcBef>
                <a:spcPts val="876"/>
              </a:spcBef>
              <a:buClr>
                <a:srgbClr val="a8669b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75000"/>
              </a:lnSpc>
              <a:spcBef>
                <a:spcPts val="876"/>
              </a:spcBef>
              <a:buClr>
                <a:srgbClr val="d79d69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762120" y="685800"/>
            <a:ext cx="7696080" cy="5448240"/>
          </a:xfrm>
          <a:prstGeom prst="rect">
            <a:avLst/>
          </a:prstGeom>
          <a:solidFill>
            <a:srgbClr val="52527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380600" y="1442520"/>
            <a:ext cx="638028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ef6"/>
                </a:solidFill>
                <a:latin typeface="Garamond"/>
              </a:rPr>
              <a:t>Good 4 U</a:t>
            </a:r>
            <a:br>
              <a:rPr sz="5400"/>
            </a:br>
            <a:r>
              <a:rPr b="1" lang="en-US" sz="5400" spc="-1" strike="noStrike">
                <a:solidFill>
                  <a:srgbClr val="dfdef6"/>
                </a:solidFill>
                <a:latin typeface="Garamond"/>
              </a:rPr>
              <a:t>Franchise Training</a:t>
            </a:r>
            <a:endParaRPr b="1" lang="en-US" sz="5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380960" y="3792240"/>
            <a:ext cx="304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bruary 1, 20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4653000" y="3346560"/>
            <a:ext cx="251460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Garamond"/>
              </a:rPr>
              <a:t>Required Restaurant Equipment</a:t>
            </a: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35200" y="2321640"/>
            <a:ext cx="5673600" cy="3408840"/>
          </a:xfrm>
          <a:prstGeom prst="rect">
            <a:avLst/>
          </a:prstGeom>
          <a:gradFill rotWithShape="0">
            <a:gsLst>
              <a:gs pos="0">
                <a:srgbClr val="a8669b">
                  <a:alpha val="80392"/>
                </a:srgbClr>
              </a:gs>
              <a:gs pos="100000">
                <a:srgbClr val="52527c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marL="343080" indent="-343080">
              <a:lnSpc>
                <a:spcPct val="75000"/>
              </a:lnSpc>
              <a:spcBef>
                <a:spcPts val="1225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Caloric industrial r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225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Sub-Zero refrig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225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4 U cookwa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re-packag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225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4 U stonewa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re-packag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225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ida fla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6"/>
          <a:stretch/>
        </p:blipFill>
        <p:spPr>
          <a:xfrm>
            <a:off x="5432400" y="4165560"/>
            <a:ext cx="279720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Garamond"/>
              </a:rPr>
              <a:t>Sample Menu</a:t>
            </a: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22" name=""/>
          <p:cNvSpPr/>
          <p:nvPr/>
        </p:nvSpPr>
        <p:spPr>
          <a:xfrm>
            <a:off x="730080" y="1523880"/>
            <a:ext cx="7683840" cy="4254480"/>
          </a:xfrm>
          <a:custGeom>
            <a:avLst/>
            <a:gdLst>
              <a:gd name="textAreaLeft" fmla="*/ 1753920 w 7683840"/>
              <a:gd name="textAreaRight" fmla="*/ 5929920 w 768384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>
              <a:alphaModFix amt="50000"/>
            </a:blip>
            <a:srcRect/>
            <a:stretch/>
          </a:blipFill>
          <a:ln cap="rnd" w="76320">
            <a:solidFill>
              <a:srgbClr val="a8669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4 U Veggie Bur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y Good Shrimp Sal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Fruit Comb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re’s Lemon Dill Chic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Garamond"/>
              </a:rPr>
              <a:t>Projected Annual Sales</a:t>
            </a: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1001880" y="1773360"/>
          <a:ext cx="7126200" cy="44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1880" y="1773360"/>
                    <a:ext cx="7126200" cy="44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"/>
          <p:cNvSpPr/>
          <p:nvPr/>
        </p:nvSpPr>
        <p:spPr>
          <a:xfrm flipH="1">
            <a:off x="7200720" y="1736640"/>
            <a:ext cx="1042920" cy="828720"/>
          </a:xfrm>
          <a:prstGeom prst="line">
            <a:avLst/>
          </a:prstGeom>
          <a:ln w="101520">
            <a:solidFill>
              <a:srgbClr val="a8669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Garamond"/>
              </a:rPr>
              <a:t>Franchising Opportunities</a:t>
            </a:r>
            <a:endParaRPr b="1" lang="en-US" sz="48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28" name=""/>
          <p:cNvSpPr/>
          <p:nvPr/>
        </p:nvSpPr>
        <p:spPr>
          <a:xfrm>
            <a:off x="552600" y="2408400"/>
            <a:ext cx="8038800" cy="3193920"/>
          </a:xfrm>
          <a:prstGeom prst="triangle">
            <a:avLst>
              <a:gd name="adj" fmla="val 49995"/>
            </a:avLst>
          </a:prstGeom>
          <a:blipFill rotWithShape="0">
            <a:blip r:embed="rId1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lbuquerqu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spen, Austin, Boston, Chicag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nver, Jackson Hole, Kansas City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emphis, Philadelphia, Santa F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eattle, and Tuc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033800" y="1981080"/>
            <a:ext cx="1076400" cy="1076400"/>
          </a:xfrm>
          <a:prstGeom prst="ellipse">
            <a:avLst/>
          </a:prstGeom>
          <a:gradFill rotWithShape="0">
            <a:gsLst>
              <a:gs pos="0">
                <a:srgbClr val="a8669b"/>
              </a:gs>
              <a:gs pos="100000">
                <a:srgbClr val="4a2d4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Garamond"/>
              </a:rPr>
              <a:t>Employee Hiring Practices</a:t>
            </a: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970000" y="2115720"/>
            <a:ext cx="5259240" cy="3417480"/>
          </a:xfrm>
          <a:prstGeom prst="rect">
            <a:avLst/>
          </a:prstGeom>
          <a:gradFill rotWithShape="0">
            <a:gsLst>
              <a:gs pos="0">
                <a:srgbClr val="a8669b">
                  <a:alpha val="80392"/>
                </a:srgbClr>
              </a:gs>
              <a:gs pos="100000">
                <a:srgbClr val="52527c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marL="343080" indent="-343080">
              <a:lnSpc>
                <a:spcPct val="75000"/>
              </a:lnSpc>
              <a:spcBef>
                <a:spcPts val="1225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-level managers must have five years of management exper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225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fs must have a culinary degree from an accredited 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225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iters and waitresses must have re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5480" y="1665360"/>
            <a:ext cx="1612800" cy="1612800"/>
          </a:xfrm>
          <a:prstGeom prst="diamond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26920" y="3033720"/>
            <a:ext cx="1606680" cy="1608120"/>
          </a:xfrm>
          <a:prstGeom prst="diamond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25480" y="4371840"/>
            <a:ext cx="1612800" cy="161316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1T21:29:33Z</dcterms:created>
  <dc:creator>Pat R. Graves</dc:creator>
  <dc:description/>
  <dc:language>en-US</dc:language>
  <cp:lastModifiedBy>Student Name</cp:lastModifiedBy>
  <dcterms:modified xsi:type="dcterms:W3CDTF">2004-04-11T20:35:07Z</dcterms:modified>
  <cp:revision>20</cp:revision>
  <dc:subject/>
  <dc:title>Good 4 U Franchise Training</dc:title>
</cp:coreProperties>
</file>