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5F5-B94C-4A78-B0BD-101AC58A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69760" y="393048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74A-E872-4C8D-93CB-AC63D646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323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81A-49C0-4BBD-8105-D8EAEC3B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5668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60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6976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5668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04360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04E-F780-48BF-8DE8-1CE27B82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4D4F-FD74-41D9-A066-56946313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D74B-6BAF-4B24-887B-3DCA7468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4010-82FF-4EEA-8E72-DF5A34FC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8D46-C16D-4142-A180-13CE1C2F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0065-FF82-43E7-A8DB-BACC8B04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3409-496A-465A-8235-793B0BF0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4D33-488E-4DE3-AC26-6FB38EB9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C3C-D741-45AA-95AB-1BB50482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0323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BB06-1407-4F4A-8E38-E29A426A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9EE4-D64D-4732-B38F-B1E00FEE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69760" y="393048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BA63-00E2-4747-AE1A-4ECF6829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0323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2BD1-4188-4D1C-A13F-17D707A1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5668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4360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6976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5668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04360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8103-005C-4286-AF67-F179A629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1E1-B2EF-4AB8-8C4F-2ECF9329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99E-4422-4EEF-8308-6D3D218E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EE01-7E04-47B1-AE51-C78D4650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29F-04D6-4AAC-A8C3-D9352555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CAF-682F-4083-BD82-11AA38FE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323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D68-BF0F-4458-AABC-FFA6EED4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5B5-98BA-4F64-B2D7-DAECAA56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45240"/>
            <a:ext cx="8078760" cy="225360"/>
          </a:xfrm>
          <a:prstGeom prst="rect">
            <a:avLst/>
          </a:prstGeom>
          <a:gradFill rotWithShape="0">
            <a:gsLst>
              <a:gs pos="0">
                <a:srgbClr val="cfc7b5"/>
              </a:gs>
              <a:gs pos="100000">
                <a:srgbClr val="8e7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8078760" cy="200160"/>
          </a:xfrm>
          <a:prstGeom prst="rect">
            <a:avLst/>
          </a:prstGeom>
          <a:gradFill rotWithShape="0">
            <a:gsLst>
              <a:gs pos="0">
                <a:srgbClr val="8e7f5e"/>
              </a:gs>
              <a:gs pos="100000">
                <a:srgbClr val="cfc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b9b09c"/>
              </a:gs>
              <a:gs pos="100000">
                <a:srgbClr val="8e7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66000" y="1440"/>
            <a:ext cx="88920" cy="685800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4323960" y="3316320"/>
            <a:ext cx="6858000" cy="225360"/>
          </a:xfrm>
          <a:custGeom>
            <a:avLst/>
            <a:gdLst>
              <a:gd name="textAreaLeft" fmla="*/ 662400 w 6858000"/>
              <a:gd name="textAreaRight" fmla="*/ 6195600 w 6858000"/>
              <a:gd name="textAreaTop" fmla="*/ 21600 h 225360"/>
              <a:gd name="textAreaBottom" fmla="*/ 20376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8e7f5e"/>
              </a:gs>
              <a:gs pos="100000">
                <a:srgbClr val="cfc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solidFill>
            <a:srgbClr val="8e7f5e">
              <a:alpha val="70000"/>
            </a:srgbClr>
          </a:solidFill>
          <a:ln cap="rnd" w="76320">
            <a:solidFill>
              <a:srgbClr val="853f35"/>
            </a:solidFill>
            <a:custDash>
              <a:ds d="100000" sp="1000"/>
            </a:custDash>
            <a:miter/>
          </a:ln>
        </p:spPr>
        <p:txBody>
          <a:bodyPr lIns="274320" rIns="365760" tIns="274320" bIns="274320" anchor="ctr" anchorCtr="1">
            <a:normAutofit fontScale="89000"/>
          </a:bodyPr>
          <a:p>
            <a:pPr marL="305280" indent="-30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3" marL="1424160" indent="-203400">
              <a:spcBef>
                <a:spcPts val="700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4" marL="1830960" indent="-203400">
              <a:spcBef>
                <a:spcPts val="700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5" marL="1830960" indent="-203400">
              <a:spcBef>
                <a:spcPts val="700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6" marL="1830960" indent="-203400">
              <a:spcBef>
                <a:spcPts val="700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4681-F2C0-467C-876E-4A88C873A53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77240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b9b09c"/>
              </a:gs>
              <a:gs pos="100000">
                <a:srgbClr val="8e7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29400"/>
            <a:ext cx="7772400" cy="241200"/>
          </a:xfrm>
          <a:prstGeom prst="rect">
            <a:avLst/>
          </a:prstGeom>
          <a:gradFill rotWithShape="0">
            <a:gsLst>
              <a:gs pos="0">
                <a:srgbClr val="cfc7b5"/>
              </a:gs>
              <a:gs pos="100000">
                <a:srgbClr val="8e7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848720" cy="193680"/>
          </a:xfrm>
          <a:prstGeom prst="rect">
            <a:avLst/>
          </a:prstGeom>
          <a:gradFill rotWithShape="0">
            <a:gsLst>
              <a:gs pos="0">
                <a:srgbClr val="8e7f5e"/>
              </a:gs>
              <a:gs pos="100000">
                <a:srgbClr val="cfc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323960" y="3316320"/>
            <a:ext cx="6858000" cy="225360"/>
          </a:xfrm>
          <a:custGeom>
            <a:avLst/>
            <a:gdLst>
              <a:gd name="textAreaLeft" fmla="*/ 662400 w 6858000"/>
              <a:gd name="textAreaRight" fmla="*/ 6195600 w 6858000"/>
              <a:gd name="textAreaTop" fmla="*/ 21600 h 225360"/>
              <a:gd name="textAreaBottom" fmla="*/ 20376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8e7f5e"/>
              </a:gs>
              <a:gs pos="100000">
                <a:srgbClr val="cfc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9163-4BAB-4B16-8933-433B780C1A3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866000" y="1440"/>
            <a:ext cx="88920" cy="685800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4720" y="177300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53f35"/>
                </a:solidFill>
                <a:latin typeface="Arial"/>
              </a:rPr>
              <a:t>Attracting Investors</a:t>
            </a:r>
            <a:endParaRPr b="1" lang="en-US" sz="5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2098800"/>
          </a:xfrm>
          <a:prstGeom prst="rect">
            <a:avLst/>
          </a:prstGeom>
          <a:noFill/>
          <a:ln w="57240">
            <a:solidFill>
              <a:srgbClr val="853f35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trategic Planning Session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08360" y="4689360"/>
            <a:ext cx="2285640" cy="922320"/>
            <a:chOff x="4608360" y="4689360"/>
            <a:chExt cx="2285640" cy="922320"/>
          </a:xfrm>
        </p:grpSpPr>
        <p:sp>
          <p:nvSpPr>
            <p:cNvPr id="95" name=""/>
            <p:cNvSpPr txBox="1"/>
            <p:nvPr/>
          </p:nvSpPr>
          <p:spPr>
            <a:xfrm>
              <a:off x="6257160" y="504036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695200" y="4835880"/>
              <a:ext cx="824040" cy="775440"/>
              <a:chOff x="5695200" y="4835880"/>
              <a:chExt cx="824040" cy="775440"/>
            </a:xfrm>
          </p:grpSpPr>
          <p:sp>
            <p:nvSpPr>
              <p:cNvPr id="97" name=""/>
              <p:cNvSpPr/>
              <p:nvPr/>
            </p:nvSpPr>
            <p:spPr>
              <a:xfrm>
                <a:off x="5695200" y="483588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f1311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926680" y="491940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cfc7b5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f1311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 txBox="1"/>
            <p:nvPr/>
          </p:nvSpPr>
          <p:spPr>
            <a:xfrm>
              <a:off x="4608360" y="468936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solidFill>
            <a:srgbClr val="8e7f5e">
              <a:alpha val="70000"/>
            </a:srgbClr>
          </a:solidFill>
          <a:ln cap="rnd" w="76320">
            <a:solidFill>
              <a:srgbClr val="853f35"/>
            </a:solidFill>
            <a:custDash>
              <a:ds d="100000" sp="1000"/>
            </a:custDash>
            <a:miter/>
          </a:ln>
        </p:spPr>
        <p:txBody>
          <a:bodyPr lIns="274320" rIns="365760" tIns="274320" bIns="274320" anchor="ctr" anchorCtr="1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Market ourselves as an attractive franchise investment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Tell the story of our succes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New York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Miami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Los Angeles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Our Specialtie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solidFill>
            <a:srgbClr val="8e7f5e">
              <a:alpha val="70000"/>
            </a:srgbClr>
          </a:solidFill>
          <a:ln cap="rnd" w="76320">
            <a:solidFill>
              <a:srgbClr val="853f35"/>
            </a:solidFill>
            <a:custDash>
              <a:ds d="100000" sp="1000"/>
            </a:custDash>
            <a:miter/>
          </a:ln>
        </p:spPr>
        <p:txBody>
          <a:bodyPr lIns="274320" rIns="365760" tIns="274320" bIns="274320" anchor="ctr" anchorCtr="1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w-fat menu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Non-alcoholic beverage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Vegetarian meal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Fresh-baked bread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71640" y="1089000"/>
            <a:ext cx="252720" cy="1835280"/>
          </a:xfrm>
          <a:prstGeom prst="line">
            <a:avLst/>
          </a:prstGeom>
          <a:ln w="76320">
            <a:solidFill>
              <a:srgbClr val="2f131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Key Benefit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solidFill>
            <a:srgbClr val="8e7f5e">
              <a:alpha val="70000"/>
            </a:srgbClr>
          </a:solidFill>
          <a:ln cap="rnd" w="76320">
            <a:solidFill>
              <a:srgbClr val="853f35"/>
            </a:solidFill>
            <a:custDash>
              <a:ds d="100000" sp="1000"/>
            </a:custDash>
            <a:miter/>
          </a:ln>
        </p:spPr>
        <p:txBody>
          <a:bodyPr lIns="274320" rIns="365760" tIns="274320" bIns="274320" anchor="ctr" anchorCtr="1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Quick return of invested fund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Name recognition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Healthy” image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Next Step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solidFill>
            <a:srgbClr val="8e7f5e">
              <a:alpha val="70000"/>
            </a:srgbClr>
          </a:solidFill>
          <a:ln cap="rnd" w="76320">
            <a:solidFill>
              <a:srgbClr val="853f35"/>
            </a:solidFill>
            <a:custDash>
              <a:ds d="100000" sp="1000"/>
            </a:custDash>
            <a:miter/>
          </a:ln>
        </p:spPr>
        <p:txBody>
          <a:bodyPr lIns="274320" rIns="365760" tIns="274320" bIns="274320" anchor="ctr" anchorCtr="1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omplete the business plan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omplete the marketing plan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cate interested investor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Investigate other funding option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Marple</dc:creator>
  <dc:description/>
  <dc:language>en-US</dc:language>
  <cp:lastModifiedBy>Pat Graves</cp:lastModifiedBy>
  <cp:lastPrinted>1996-11-27T23:10:18Z</cp:lastPrinted>
  <dcterms:modified xsi:type="dcterms:W3CDTF">2004-03-01T08:48:27Z</dcterms:modified>
  <cp:revision>32</cp:revision>
  <dc:subject/>
  <dc:title>Attracting Investors</dc:title>
</cp:coreProperties>
</file>