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34200" cy="9259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E59F-B79A-41B2-95FD-AB18BAFB6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640D-7F21-4117-810C-A12502E10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D5DF-BBB9-43A9-A5F2-F24AA6C75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B65B-D989-4DC3-B2D8-E2E3DFC47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C1E2B-0B44-41C1-8FF8-123545352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9F0E2-14CF-485A-BECC-D7C6D25E8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63931-85DB-40D5-BAA1-6BF7BC017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2517C-7B72-4154-B4E9-9EA91633B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451E6-EA34-4D04-ADBF-D21F118D8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E3AE7-9FCA-4E38-ABA5-DD643C995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0FA19-AB5C-4AD1-8DEC-33EBD4A4E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2AFB-44D2-4083-BA4E-2A1E1F327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5D256-4FAF-4676-84EE-374D3BC7B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A9262-16DC-4A34-B0AD-97D5A9A54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26D39-CFD4-49FA-9AEE-0D238D9C6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F827E-2CFB-4C9B-8113-54923D900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10890-158A-4606-A967-CD84A8296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7CF0-9B1C-47E3-B69C-4C585F53C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3B5B-3CAD-4EB4-99C3-80669B9D3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6EC3-75B6-4FFD-A756-5004520DC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A821-5518-4E8C-AA70-DB1414736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B896-242E-493D-9C72-BC5F8EF61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F7E9-4D19-4878-98AB-CD2DDFEA6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835B-DF23-49F4-91A9-BDADA81C7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101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cc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7FF95-54F1-4C2C-AAF6-207356F921A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8016840" y="0"/>
            <a:ext cx="1127160" cy="179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101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0F520-C578-4298-8A8A-0E9348946E5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101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981080" y="4003200"/>
            <a:ext cx="6553440" cy="1752840"/>
          </a:xfrm>
          <a:prstGeom prst="rect">
            <a:avLst/>
          </a:prstGeom>
          <a:gradFill rotWithShape="0">
            <a:gsLst>
              <a:gs pos="0">
                <a:srgbClr val="757575">
                  <a:alpha val="50196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360440" y="1484280"/>
            <a:ext cx="705636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ac7"/>
                    </a:gs>
                    <a:gs pos="100000">
                      <a:srgbClr val="fee7f2"/>
                    </a:gs>
                  </a:gsLst>
                  <a:lin ang="5400000"/>
                </a:gradFill>
                <a:latin typeface="Arial Black"/>
              </a:rPr>
              <a:t>New Employee Orienta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ac7"/>
                  </a:gs>
                  <a:gs pos="100000">
                    <a:srgbClr val="fee7f2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313000" y="4375080"/>
            <a:ext cx="2308320" cy="9511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384960" y="2927520"/>
            <a:ext cx="2475000" cy="393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101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elco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istory of Company &amp; Company Vis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ho’s Wh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11280" y="415800"/>
            <a:ext cx="2647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ac7"/>
                    </a:gs>
                    <a:gs pos="100000">
                      <a:srgbClr val="fee7f2"/>
                    </a:gs>
                  </a:gsLst>
                  <a:lin ang="5400000"/>
                </a:gradFill>
                <a:latin typeface="Arial Black"/>
              </a:rPr>
              <a:t>Agend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ac7"/>
                  </a:gs>
                  <a:gs pos="100000">
                    <a:srgbClr val="fee7f2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101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00000" y="1798560"/>
            <a:ext cx="7253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727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intention of Good 4 U is to establish itself as a franchis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ood 4 U has been in business for three yea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food at Good 4 U is low-fat, but not vegetaria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801720" y="401760"/>
            <a:ext cx="606420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ac7"/>
                    </a:gs>
                    <a:gs pos="100000">
                      <a:srgbClr val="fee7f2"/>
                    </a:gs>
                  </a:gsLst>
                  <a:lin ang="5400000"/>
                </a:gradFill>
                <a:latin typeface="Arial Black"/>
              </a:rPr>
              <a:t>History of Compan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ac7"/>
                  </a:gs>
                  <a:gs pos="100000">
                    <a:srgbClr val="fee7f2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101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Julie Wolfe, Co-own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us Irvinelli, Co-own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ichele Jenkins, Head Chef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oy Olafsen, Marketing Manag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12720" y="341280"/>
            <a:ext cx="313236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ac7"/>
                    </a:gs>
                    <a:gs pos="100000">
                      <a:srgbClr val="fee7f2"/>
                    </a:gs>
                  </a:gsLst>
                  <a:lin ang="5400000"/>
                </a:gradFill>
                <a:latin typeface="Arial Black"/>
              </a:rPr>
              <a:t>Who’s Wh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ac7"/>
                  </a:gs>
                  <a:gs pos="100000">
                    <a:srgbClr val="fee7f2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101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-month probation perio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nnual salary increas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Quarterly stock purchase opti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nnual profit shar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85720" y="368280"/>
            <a:ext cx="3014640" cy="7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ac7"/>
                    </a:gs>
                    <a:gs pos="100000">
                      <a:srgbClr val="fee7f2"/>
                    </a:gs>
                  </a:gsLst>
                  <a:lin ang="5400000"/>
                </a:gradFill>
                <a:latin typeface="Arial Black"/>
              </a:rPr>
              <a:t>Summar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ac7"/>
                  </a:gs>
                  <a:gs pos="100000">
                    <a:srgbClr val="fee7f2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00" name=""/>
          <p:cNvSpPr/>
          <p:nvPr/>
        </p:nvSpPr>
        <p:spPr>
          <a:xfrm rot="20653800">
            <a:off x="3885840" y="4178160"/>
            <a:ext cx="3656160" cy="1600200"/>
          </a:xfrm>
          <a:custGeom>
            <a:avLst/>
            <a:gdLst>
              <a:gd name="textAreaLeft" fmla="*/ 834480 w 3656160"/>
              <a:gd name="textAreaRight" fmla="*/ 2821680 w 3656160"/>
              <a:gd name="textAreaTop" fmla="*/ 365040 h 1600200"/>
              <a:gd name="textAreaBottom" fmla="*/ 12351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bstant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3989520" y="3803760"/>
            <a:ext cx="1309680" cy="6429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1:42:18Z</dcterms:created>
  <dc:creator>Pat R. Graaves</dc:creator>
  <dc:description/>
  <dc:language>en-US</dc:language>
  <cp:lastModifiedBy>Student Name</cp:lastModifiedBy>
  <cp:lastPrinted>1996-12-06T20:40:08Z</cp:lastPrinted>
  <dcterms:modified xsi:type="dcterms:W3CDTF">2004-04-11T20:39:35Z</dcterms:modified>
  <cp:revision>33</cp:revision>
  <dc:subject/>
  <dc:title>New Employee Orientation</dc:title>
</cp:coreProperties>
</file>