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653-5467-42D7-9DED-2ABC1DD1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BE6-7325-4EAA-9DEF-D5EB9A6E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578-D3D5-4176-923B-1D84A2D8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816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500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816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500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B8A-85B6-46DD-B0C3-A37514EF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CCE1-61ED-4199-82A4-BFD22A89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35D6-2C2F-4CC5-9686-BF3C4256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AC18-B6BB-45C8-9E29-55D8410E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FDF9-9C71-49E9-8FC2-9CDD4BF3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FDDF-640A-4906-AC97-AD49B1BA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94AC-B291-4BD3-B0D4-84EC62FD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8F91-D564-408F-955C-925D02CA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36A-3E54-4A25-B780-9585BA26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A47F-E5B7-48F9-91F0-18C240D7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6194-86B5-41CA-B8AA-1C4AA990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10B1-1424-4AB5-97F0-F2B6314B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318A-C147-4D58-A942-23D8534B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816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500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816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500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442D-F2A0-46CA-BA32-273B8A42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1DB-4097-4399-82EA-48027DDC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6F3-D38A-4353-BE4A-A95BA0BB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521-0D8C-44BD-B037-C0B90F32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BC29-7360-4D4F-83C6-0119A376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E50-BCAD-4AD3-9E5C-E35B0F6E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11F-2D44-409E-BAE2-6ECD0D7E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6B0-2A45-430D-A4B2-448E9E0B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1d9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1d9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4DE7-5EB5-42B5-9A47-A1DC3F9FF271}" type="slidenum">
              <a:rPr b="0" lang="en-US" sz="10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1d9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1d9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Tahoma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8779-4260-4217-BFE3-279B93F5E4EC}" type="slidenum">
              <a:rPr b="0" lang="en-US" sz="10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Tahoma"/>
              </a:rPr>
              <a:t>Good 4 U</a:t>
            </a:r>
            <a:endParaRPr b="1" lang="en-US" sz="60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Tahoma"/>
              </a:rPr>
              <a:t>Grand Opening</a:t>
            </a: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Tahoma"/>
              </a:rPr>
              <a:t>Miami Beach</a:t>
            </a: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flipH="1">
            <a:off x="2971800" y="2514600"/>
            <a:ext cx="3200400" cy="1968480"/>
          </a:xfrm>
          <a:prstGeom prst="rect">
            <a:avLst/>
          </a:prstGeom>
          <a:ln w="254160">
            <a:solidFill>
              <a:srgbClr val="4b2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Projected Sales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60520" y="1860480"/>
          <a:ext cx="6219720" cy="39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860480"/>
                    <a:ext cx="6219720" cy="3978360"/>
                  </a:xfrm>
                  <a:prstGeom prst="rect">
                    <a:avLst/>
                  </a:prstGeom>
                  <a:ln w="254160">
                    <a:solidFill>
                      <a:srgbClr val="4b25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Our Newest Location 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920" y="2142720"/>
            <a:ext cx="6121440" cy="2551320"/>
          </a:xfrm>
          <a:prstGeom prst="rect">
            <a:avLst/>
          </a:prstGeom>
          <a:gradFill rotWithShape="0">
            <a:gsLst>
              <a:gs pos="0">
                <a:srgbClr val="000082">
                  <a:alpha val="25098"/>
                </a:srgbClr>
              </a:gs>
              <a:gs pos="50000">
                <a:srgbClr val="ff8200">
                  <a:alpha val="25098"/>
                </a:srgbClr>
              </a:gs>
              <a:gs pos="100000">
                <a:srgbClr val="000082">
                  <a:alpha val="25098"/>
                </a:srgbClr>
              </a:gs>
            </a:gsLst>
            <a:lin ang="8100000"/>
          </a:gradFill>
          <a:ln w="254160">
            <a:solidFill>
              <a:srgbClr val="4b2500"/>
            </a:solidFill>
            <a:miter/>
          </a:ln>
        </p:spPr>
        <p:txBody>
          <a:bodyPr lIns="274320" rIns="274320" tIns="320040" bIns="320040" anchor="ctr" anchorCtr="1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Tahoma"/>
              </a:rPr>
              <a:t>555 South Beach Street</a:t>
            </a: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Tahoma"/>
              </a:rPr>
              <a:t>Tropical Breezes Center</a:t>
            </a: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Tahoma"/>
              </a:rPr>
              <a:t>Miami Beach, Florida</a:t>
            </a: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629240" y="4968720"/>
            <a:ext cx="1305000" cy="1051200"/>
          </a:xfrm>
          <a:prstGeom prst="star5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48360" y="4968720"/>
            <a:ext cx="1305000" cy="1051200"/>
          </a:xfrm>
          <a:prstGeom prst="star5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9760" y="4968720"/>
            <a:ext cx="1305000" cy="1051200"/>
          </a:xfrm>
          <a:prstGeom prst="star5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90640" y="4968720"/>
            <a:ext cx="1305000" cy="1051200"/>
          </a:xfrm>
          <a:prstGeom prst="star5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1T19:23:02Z</dcterms:created>
  <dc:creator>Pat R. Graves</dc:creator>
  <dc:description/>
  <dc:language>en-US</dc:language>
  <cp:lastModifiedBy>Pat Graves</cp:lastModifiedBy>
  <cp:lastPrinted>1997-06-23T10:57:03Z</cp:lastPrinted>
  <dcterms:modified xsi:type="dcterms:W3CDTF">2004-03-16T00:20:10Z</dcterms:modified>
  <cp:revision>42</cp:revision>
  <dc:subject/>
  <dc:title>Good 4 U</dc:title>
</cp:coreProperties>
</file>