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1F19-7154-4412-8D96-3906C8271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B2FB-8EB7-4550-B092-72DFF1EF5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CB2C-FC3B-4C0C-B084-A7A5F3D38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3F4A-F9CE-4087-997E-E0F713BD6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CC501-E600-4CFE-A89E-002EA308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68FFC-BE99-4715-8EF1-C9ABDD66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BA341-76A9-442F-BC87-7A44EE173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E3303-E4B0-4172-92B8-23FD03383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9D9E-053B-4FD9-BAAB-B8EF5325D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5B18A-3426-4A49-8720-A907B4F92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9414-92A6-4CCD-BF1A-D21ED667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C46-7F09-44BB-BE75-01D8DA66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251F-7E0F-4DF3-A534-AB9DCEE4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1478A-377C-4384-A4B9-901EE30C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91AA-873E-48A5-9F17-276D2C44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8A26-C26F-4085-99FA-03AC29E11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0859-5FAA-4727-98A0-E65E8D8CE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D67B-52F5-4B9D-96E0-ED8263A5C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4A4E-7733-4750-BD38-250180A8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4A34-D6F8-4516-B0AD-267422A92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C6B-FB39-426A-9D54-5FFDFA48B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3A5C-2FE2-433E-8ABC-4D5368E75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E30C-BC29-4682-AE32-A44003B30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0B90-CB77-4AC7-B501-7CECBDD6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ADD59-1E9D-4335-995D-6C9C2D0F4F95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5819F-B726-4CDB-930E-74B7A2590E28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/>
          <p:nvPr/>
        </p:nvSpPr>
        <p:spPr>
          <a:xfrm>
            <a:off x="1220760" y="2286000"/>
            <a:ext cx="7923240" cy="0"/>
          </a:xfrm>
          <a:prstGeom prst="line">
            <a:avLst/>
          </a:prstGeom>
          <a:ln w="76320">
            <a:solidFill>
              <a:srgbClr val="bea9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19320" y="2514600"/>
            <a:ext cx="7924680" cy="0"/>
          </a:xfrm>
          <a:prstGeom prst="line">
            <a:avLst/>
          </a:prstGeom>
          <a:ln w="76320">
            <a:solidFill>
              <a:srgbClr val="bea9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20760" y="2743200"/>
            <a:ext cx="7923240" cy="0"/>
          </a:xfrm>
          <a:prstGeom prst="line">
            <a:avLst/>
          </a:prstGeom>
          <a:ln w="76320">
            <a:solidFill>
              <a:srgbClr val="bea9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20760" y="2971800"/>
            <a:ext cx="7923240" cy="0"/>
          </a:xfrm>
          <a:prstGeom prst="line">
            <a:avLst/>
          </a:prstGeom>
          <a:ln w="76320">
            <a:solidFill>
              <a:srgbClr val="bea9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96" name=""/>
          <p:cNvSpPr/>
          <p:nvPr/>
        </p:nvSpPr>
        <p:spPr>
          <a:xfrm>
            <a:off x="835200" y="2584440"/>
            <a:ext cx="2147760" cy="128412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otential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or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51160" y="3030480"/>
            <a:ext cx="2147760" cy="128448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ystems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111720" y="2517840"/>
            <a:ext cx="2148120" cy="128412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Research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Web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68400" y="21906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35200" y="245736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417760" y="5950080"/>
            <a:ext cx="430704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14760" y="5478480"/>
            <a:ext cx="3713040" cy="47448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6200" y="5000760"/>
            <a:ext cx="317160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4680" y="4533840"/>
            <a:ext cx="2654640" cy="4748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32040" y="26496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2809800" y="447840"/>
            <a:ext cx="23256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745080" y="2098800"/>
            <a:ext cx="3036600" cy="24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4T04:52:56Z</dcterms:modified>
  <cp:revision>10</cp:revision>
  <dc:subject/>
  <dc:title>Slide 1</dc:title>
</cp:coreProperties>
</file>