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9D4-B30F-41F2-B395-5F4DFEE56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5D7B-3790-4277-93AD-0639ADC7E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E780-7659-4B14-ABC4-6EC52F9CE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F1D-0442-4696-906E-5E1B59C3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9E0E6-FE87-456A-8965-F31983C53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9FFF-FED0-48D7-922A-DBDB8142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5B7EF-F1AB-4B41-A10A-CDE78AA30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AB0F-057E-4423-B165-7FCD9B9F9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298A-6F04-4826-9AA1-8653DA15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6BAE-18FB-4F7C-BFD2-BE8F3E8FF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C0A2A-076A-4FE8-9ED0-B2BA33C7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2660B-7BDC-4E57-9B4F-148C5C999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9C6E1-F2D1-4943-ADF5-3DE48506F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05DF-729F-4655-9010-5CEDACBA9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BA5B-4169-49E1-A309-66BC7117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8C269-7756-4121-9CBB-D50E53D05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15E18-DB4F-4ABD-8DC8-F70A91458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C8C6-D3DB-4E68-A41E-4C630FB9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E831C-9ADF-4653-9FC6-CA9AED93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9909-C088-485E-BA8C-BDE9BFE05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533A-F680-4E34-85C0-24C2F00A3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7BF0-F0EC-4033-A657-8A1D1C61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5C25-5986-454B-A9AD-A8239757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196C-202E-4FB9-A3FA-E0713468C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F7B2-42D1-4A6D-BF9D-5BCE6990E53C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AE042-824E-4DDE-B45A-67F26B71E996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84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89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1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74640" y="2709720"/>
            <a:ext cx="7794720" cy="1285920"/>
            <a:chOff x="674640" y="2709720"/>
            <a:chExt cx="7794720" cy="1285920"/>
          </a:xfrm>
        </p:grpSpPr>
        <p:sp>
          <p:nvSpPr>
            <p:cNvPr id="97" name=""/>
            <p:cNvSpPr/>
            <p:nvPr/>
          </p:nvSpPr>
          <p:spPr>
            <a:xfrm>
              <a:off x="674640" y="2711520"/>
              <a:ext cx="2147760" cy="128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eek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Potential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ors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974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dfc08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igate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Management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ystems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3216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Research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the Web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2236680" y="127620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0960" y="137628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9200" y="193032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5200" y="245736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419200" y="5950080"/>
            <a:ext cx="4307040" cy="4744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16200" y="5468760"/>
            <a:ext cx="3713040" cy="4748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986200" y="4991040"/>
            <a:ext cx="3171600" cy="47484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4680" y="4524480"/>
            <a:ext cx="2654640" cy="47448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216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40992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054240" y="2120760"/>
            <a:ext cx="303696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4T04:53:28Z</dcterms:modified>
  <cp:revision>14</cp:revision>
  <dc:subject/>
  <dc:title>Slide 1</dc:title>
</cp:coreProperties>
</file>