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8AD7-2E73-45D9-BEB2-BEE5C52B3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685800" y="441504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31E0-22F3-4B21-A9E3-515FDE21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222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41504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68480" y="441504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4389-B493-4CDA-91E1-F92177676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313800" y="22255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941440" y="22255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685800" y="441504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313800" y="441504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5941440" y="441504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906A-5608-46B9-B3C8-F66B76040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1AAA3-BEFA-48B8-946E-8ECDEC7D0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685800" y="2225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B040B-F91F-428E-8E8F-9E50BE140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10633-70AF-4B45-8668-FC495651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480" y="222552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61B8D-EC51-4ECA-A03E-E52574592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4D063-2300-4A3B-A311-D782D72DE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9B553-14A3-4EC1-9059-A93445CD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68480" y="222552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85800" y="441504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A562C-5FF6-4A20-A4AB-131BB7B8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685800" y="2225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1184-1146-4635-A4BE-FEB528B70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222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68480" y="441504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36501-9B2B-4812-A289-BE3777BD7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222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41504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B5CC6-66B3-43A1-BA82-806EF7D3E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85800" y="441504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3B1C7-561B-4444-9EE3-1087D91B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22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41504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68480" y="441504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82466-8E5F-45ED-AB02-3649505C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313800" y="22255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941440" y="222552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685800" y="441504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313800" y="441504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5941440" y="4415040"/>
            <a:ext cx="25023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38138-EE10-415D-ADF0-E4F1B919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4DCE-765B-4278-B74C-A25DCEB32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2552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E670-0E20-4F56-9B51-7651D138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9E1E-312C-4C47-A3E1-F851DA014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4E99-E6E6-4F26-89D9-276D321CF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222552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41504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D633-CB84-45C0-9E8B-AD23E7AF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3792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8480" y="222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68480" y="441504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EF7E-0604-4817-AB00-22CBC8F3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22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68480" y="2225520"/>
            <a:ext cx="3792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85800" y="4415040"/>
            <a:ext cx="7772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68DA-1092-465E-80C4-9A14744D5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225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B6AE9-E04A-4D30-B765-D09591F2175D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22200" y="1579680"/>
            <a:ext cx="8499600" cy="228600"/>
            <a:chOff x="322200" y="1579680"/>
            <a:chExt cx="8499600" cy="228600"/>
          </a:xfrm>
        </p:grpSpPr>
        <p:sp>
          <p:nvSpPr>
            <p:cNvPr id="6" name=""/>
            <p:cNvSpPr/>
            <p:nvPr/>
          </p:nvSpPr>
          <p:spPr>
            <a:xfrm>
              <a:off x="322200" y="157968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000" y="157968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424160" y="157968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976400" y="157968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527200" y="157968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078000" y="157968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630600" y="157968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181400" y="157968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732200" y="157968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284800" y="157968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35600" y="157968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386400" y="157968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939000" y="157968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7489800" y="157968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040600" y="157968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593200" y="157968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84280"/>
            <a:ext cx="7772400" cy="162072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Impact"/>
              </a:rPr>
              <a:t>Click to edit the title text format</a:t>
            </a:r>
            <a:endParaRPr b="0" lang="en-US" sz="6000" spc="-1" strike="noStrike">
              <a:solidFill>
                <a:srgbClr val="f8f8f8"/>
              </a:solidFill>
              <a:latin typeface="Impac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439560" y="5989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135240" y="60022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00760" y="597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EBFA-581B-462B-846F-81685D5EADDF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322200" y="3668760"/>
            <a:ext cx="8499600" cy="228600"/>
            <a:chOff x="322200" y="3668760"/>
            <a:chExt cx="8499600" cy="228600"/>
          </a:xfrm>
        </p:grpSpPr>
        <p:sp>
          <p:nvSpPr>
            <p:cNvPr id="63" name=""/>
            <p:cNvSpPr/>
            <p:nvPr/>
          </p:nvSpPr>
          <p:spPr>
            <a:xfrm>
              <a:off x="322200" y="366876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73000" y="366876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424160" y="366876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976400" y="366876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527200" y="366876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078000" y="366876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30600" y="366876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81400" y="366876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732200" y="366876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284800" y="366876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35600" y="366876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386400" y="366876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939000" y="366876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489800" y="366876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40600" y="366876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593200" y="3668760"/>
              <a:ext cx="228600" cy="228600"/>
            </a:xfrm>
            <a:prstGeom prst="ellipse">
              <a:avLst/>
            </a:prstGeom>
            <a:solidFill>
              <a:srgbClr val="9933ff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7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41720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2951280" y="4437000"/>
            <a:ext cx="319860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00"/>
              </a:gs>
              <a:gs pos="100000">
                <a:srgbClr val="34343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cc00"/>
                </a:solidFill>
                <a:latin typeface="Arial"/>
              </a:rPr>
              <a:t>Good 4 U</a:t>
            </a:r>
            <a:endParaRPr b="0" lang="en-US" sz="4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050920" y="333360"/>
            <a:ext cx="5040360" cy="1906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9933ff"/>
                </a:solid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New Employee</a:t>
            </a:r>
            <a:endParaRPr b="0" lang="en-US" sz="4400" spc="1" strike="noStrike">
              <a:ln w="19080">
                <a:solidFill>
                  <a:srgbClr val="00ff00"/>
                </a:solidFill>
                <a:miter/>
              </a:ln>
              <a:solidFill>
                <a:srgbClr val="9933ff"/>
              </a:solid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9933ff"/>
                </a:solid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Orientation</a:t>
            </a:r>
            <a:endParaRPr b="0" lang="en-US" sz="4400" spc="1" strike="noStrike">
              <a:ln w="19080">
                <a:solidFill>
                  <a:srgbClr val="00ff00"/>
                </a:solidFill>
                <a:miter/>
              </a:ln>
              <a:solidFill>
                <a:srgbClr val="9933ff"/>
              </a:solid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2225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History of Company &amp; Company Visio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Who’s Who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ummar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826920" y="441360"/>
            <a:ext cx="1743120" cy="67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9933ff"/>
                </a:solid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Agenda</a:t>
            </a:r>
            <a:endParaRPr b="0" lang="en-US" sz="4400" spc="1" strike="noStrike">
              <a:ln w="19080">
                <a:solidFill>
                  <a:srgbClr val="00ff00"/>
                </a:solidFill>
                <a:miter/>
              </a:ln>
              <a:solidFill>
                <a:srgbClr val="9933ff"/>
              </a:solid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685800" y="2225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e intention of Good 4 U is to establish itself as a successful franchise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Good 4 U has been in business for five year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e food at Good 4 U is low-fat, but not vegetarian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1798560"/>
            <a:ext cx="7253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26920" y="441360"/>
            <a:ext cx="4429440" cy="67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9933ff"/>
                </a:solid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History of the Company</a:t>
            </a:r>
            <a:endParaRPr b="0" lang="en-US" sz="4400" spc="1" strike="noStrike">
              <a:ln w="19080">
                <a:solidFill>
                  <a:srgbClr val="00ff00"/>
                </a:solidFill>
                <a:miter/>
              </a:ln>
              <a:solidFill>
                <a:srgbClr val="9933ff"/>
              </a:solid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685800" y="2225520"/>
            <a:ext cx="77724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Reinforce our message of healthy living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Describe our new franchising philosophy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00"/>
              </a:buClr>
              <a:buSzPct val="75000"/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Encourage fresh ideas from new employees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26920" y="441360"/>
            <a:ext cx="1944720" cy="676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9933ff"/>
                </a:solidFill>
                <a:effectLst>
                  <a:outerShdw dist="153753" dir="2700000" blurRad="0" rotWithShape="0">
                    <a:srgbClr val="000000">
                      <a:alpha val="50000"/>
                    </a:srgbClr>
                  </a:outerShdw>
                </a:effectLst>
                <a:latin typeface="Impact"/>
              </a:rPr>
              <a:t>Summary</a:t>
            </a:r>
            <a:endParaRPr b="0" lang="en-US" sz="4400" spc="1" strike="noStrike">
              <a:ln w="19080">
                <a:solidFill>
                  <a:srgbClr val="00ff00"/>
                </a:solidFill>
                <a:miter/>
              </a:ln>
              <a:solidFill>
                <a:srgbClr val="9933ff"/>
              </a:solidFill>
              <a:effectLst>
                <a:outerShdw dist="153753" dir="2700000" blurRad="0" rotWithShape="0">
                  <a:srgbClr val="000000">
                    <a:alpha val="5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42:18Z</dcterms:created>
  <dc:creator>Pat R. Graves</dc:creator>
  <dc:description/>
  <dc:language>en-US</dc:language>
  <cp:lastModifiedBy>Student Name</cp:lastModifiedBy>
  <cp:lastPrinted>1996-12-06T20:40:08Z</cp:lastPrinted>
  <dcterms:modified xsi:type="dcterms:W3CDTF">2004-04-11T20:55:12Z</dcterms:modified>
  <cp:revision>30</cp:revision>
  <dc:subject/>
  <dc:title>New Employee Orientation</dc:title>
</cp:coreProperties>
</file>