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9844-7AB7-4D11-B49E-03088694A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A416-654D-41F8-8E1A-EB6B21C7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44E84-0059-479F-8AB4-16539EB8F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22E5-2F80-4B92-84CB-9CC8FDBC1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0C40D-E153-41EF-A2CC-E0E701313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37587-948F-4398-BB31-56624499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07BBD-E2EE-4C63-899A-B520F9CD6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CF344-2D9D-4762-8467-E54FF4EA9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193D-8FD4-4870-B006-40AB1586E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54AB3-7016-4788-ADCD-A8F694477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A14FA-BE70-4A17-B07C-97FF5B4EC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547B-3DA7-45EE-982F-086C57D0B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7969-5F70-42DE-8592-B1B27DE51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3E0C3-8233-454D-B526-719FA3988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0F7CD-E1F2-4D72-94AD-46E6EF7C4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89AA-BF44-4660-B488-376C4883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205740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4182840"/>
            <a:ext cx="264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5243F-02E0-470A-A4F2-9D4A8C212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FF1B-1E29-4483-BC03-BF2CD4799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94DF-CD0F-44CC-84D0-F69261C6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5BC7-58D4-46CE-BBF9-A5D31B21C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DE09-FEA1-4778-A8A4-F493935D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1DF22-A199-4645-B59E-60717E81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418284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404-C75F-4BFF-96EA-B60C607D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2057400"/>
            <a:ext cx="40158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182840"/>
            <a:ext cx="8229600" cy="194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CB06-3C56-4303-9452-6A97C2CD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54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d3a21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CC1F7-228D-4AB8-93A8-E4E0FE79626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63520" y="1579680"/>
            <a:ext cx="8616960" cy="228600"/>
            <a:chOff x="263520" y="1579680"/>
            <a:chExt cx="8616960" cy="228600"/>
          </a:xfrm>
        </p:grpSpPr>
        <p:sp>
          <p:nvSpPr>
            <p:cNvPr id="6" name=""/>
            <p:cNvSpPr/>
            <p:nvPr/>
          </p:nvSpPr>
          <p:spPr>
            <a:xfrm>
              <a:off x="263520" y="157968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676920" y="157968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743120" y="157968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49200" y="157968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236680" y="157968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640" y="157968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197320" y="157968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730600" y="157968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3222720" y="157968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716280" y="157968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51880" y="157968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691240" y="157968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703760" y="157968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183360" y="157968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210200" y="157968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158320" y="157968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170840" y="157968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7664400" y="1579680"/>
              <a:ext cx="228600" cy="228600"/>
            </a:xfrm>
            <a:prstGeom prst="diamond">
              <a:avLst/>
            </a:prstGeom>
            <a:solidFill>
              <a:srgbClr val="d3a2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54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E8814-829C-4F86-B8DA-C9F669FEE32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263520" y="2819520"/>
            <a:ext cx="8616960" cy="228600"/>
            <a:chOff x="263520" y="2819520"/>
            <a:chExt cx="8616960" cy="228600"/>
          </a:xfrm>
        </p:grpSpPr>
        <p:sp>
          <p:nvSpPr>
            <p:cNvPr id="65" name=""/>
            <p:cNvSpPr/>
            <p:nvPr/>
          </p:nvSpPr>
          <p:spPr>
            <a:xfrm>
              <a:off x="263520" y="281952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676920" y="281952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743120" y="281952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49200" y="281952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236680" y="281952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755640" y="281952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197320" y="281952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30600" y="281952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22720" y="281952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716280" y="281952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651880" y="281952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691240" y="281952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703760" y="281952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83360" y="281952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0200" y="281952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158320" y="281952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170840" y="2819520"/>
              <a:ext cx="228600" cy="2286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64400" y="2819520"/>
              <a:ext cx="228600" cy="228600"/>
            </a:xfrm>
            <a:prstGeom prst="diamond">
              <a:avLst/>
            </a:prstGeom>
            <a:solidFill>
              <a:srgbClr val="d3a2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54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2905200" y="3581280"/>
            <a:ext cx="3333600" cy="2116080"/>
          </a:xfrm>
          <a:prstGeom prst="flowChartDecision">
            <a:avLst/>
          </a:prstGeom>
          <a:solidFill>
            <a:srgbClr val="cc3300"/>
          </a:soli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fd293"/>
                </a:solidFill>
                <a:latin typeface="Arial Black"/>
              </a:rPr>
              <a:t>Franchise Information Package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3578400" y="4349520"/>
            <a:ext cx="19872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Good 4 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54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Kitchen Essentials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Caloric rang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ree Sub-Zero refrigerato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ood 4 U stone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eida flatw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54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Computer Equipment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igh-performance computer (network server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er prin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 cash regi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Good 4 U restaurant software pack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54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905120" y="1828800"/>
            <a:ext cx="6476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Employee Hiring Practices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rst-level managers must have five years of management experi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efs must have a culinary degree from an accredited sch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3a219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aiters and waitresses must have re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50000">
              <a:srgbClr val="540000"/>
            </a:gs>
            <a:gs pos="100000">
              <a:srgbClr val="800000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204840" y="2360520"/>
            <a:ext cx="8734320" cy="3984840"/>
            <a:chOff x="204840" y="2360520"/>
            <a:chExt cx="8734320" cy="3984840"/>
          </a:xfrm>
        </p:grpSpPr>
        <p:sp>
          <p:nvSpPr>
            <p:cNvPr id="131" name=""/>
            <p:cNvSpPr/>
            <p:nvPr/>
          </p:nvSpPr>
          <p:spPr>
            <a:xfrm>
              <a:off x="204840" y="2360520"/>
              <a:ext cx="8734320" cy="3984840"/>
            </a:xfrm>
            <a:prstGeom prst="diamond">
              <a:avLst/>
            </a:prstGeom>
            <a:solidFill>
              <a:srgbClr val="be7960"/>
            </a:solidFill>
            <a:ln w="0">
              <a:noFill/>
            </a:ln>
            <a:effectLst>
              <a:outerShdw dist="91658" dir="2017659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88840" y="2647800"/>
              <a:ext cx="7313400" cy="3337200"/>
            </a:xfrm>
            <a:prstGeom prst="diamond">
              <a:avLst/>
            </a:prstGeom>
            <a:solidFill>
              <a:srgbClr val="cc3300"/>
            </a:solidFill>
            <a:ln w="0">
              <a:noFill/>
            </a:ln>
            <a:effectLst>
              <a:outerShdw dist="91658" dir="2017659" blurRad="0" rotWithShape="0">
                <a:srgbClr val="8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27040" y="3251160"/>
              <a:ext cx="4434120" cy="19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99"/>
                  </a:solidFill>
                  <a:latin typeface="Arial"/>
                </a:rPr>
                <a:t> </a:t>
              </a:r>
              <a:r>
                <a:rPr b="1" lang="en-US" sz="2600" spc="-1" strike="noStrike">
                  <a:solidFill>
                    <a:srgbClr val="ffff99"/>
                  </a:solidFill>
                  <a:latin typeface="Arial"/>
                </a:rPr>
                <a:t>Veggie Burger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99"/>
                  </a:solidFill>
                  <a:latin typeface="Arial"/>
                </a:rPr>
                <a:t>Simply Good Shrimp Salad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99"/>
                  </a:solidFill>
                  <a:latin typeface="Arial"/>
                </a:rPr>
                <a:t>Fresh Fruit Combo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ff99"/>
                  </a:solidFill>
                  <a:latin typeface="Arial"/>
                </a:rPr>
                <a:t>Rosemary Chicken</a:t>
              </a:r>
              <a:endParaRPr b="0" lang="en-US" sz="2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293"/>
                </a:solidFill>
                <a:latin typeface="Arial Black"/>
              </a:rPr>
              <a:t>Sample Menu</a:t>
            </a:r>
            <a:endParaRPr b="0" lang="en-US" sz="4400" spc="-1" strike="noStrike">
              <a:solidFill>
                <a:srgbClr val="dfd293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19T20:17:26Z</dcterms:created>
  <dc:creator>Pat R. Graves</dc:creator>
  <dc:description/>
  <dc:language>en-US</dc:language>
  <cp:lastModifiedBy>Student Name</cp:lastModifiedBy>
  <cp:lastPrinted>1997-09-04T01:40:22Z</cp:lastPrinted>
  <dcterms:modified xsi:type="dcterms:W3CDTF">2004-04-11T20:52:57Z</dcterms:modified>
  <cp:revision>51</cp:revision>
  <dc:subject/>
  <dc:title>Franchise Information</dc:title>
</cp:coreProperties>
</file>