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934200" cy="9259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69A2-3241-4CEA-BFF8-085A988C4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4268880"/>
            <a:ext cx="822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D2C-1C76-4E9D-BC43-AE96A01F9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43792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6888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426888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1C088-7CD3-4BD6-AEBD-FCF44B114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264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2437920"/>
            <a:ext cx="264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2437920"/>
            <a:ext cx="264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4268880"/>
            <a:ext cx="264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4268880"/>
            <a:ext cx="264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4268880"/>
            <a:ext cx="264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5421-22FF-449E-BF06-D6E55FE0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18CDC-6C8D-4DD6-BE43-76AA2ECBC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subTitle"/>
          </p:nvPr>
        </p:nvSpPr>
        <p:spPr>
          <a:xfrm>
            <a:off x="45720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4E1B9-418D-44AF-AE5B-DF9C6B518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47416-D1E1-45BD-816F-FE8273D8C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15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2437920"/>
            <a:ext cx="4015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E57A4-72C2-4F55-9CE9-F32E44CEF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514D-1E47-468F-BF8F-AD7284B9F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36D35-8177-421E-8DB9-ABD3718E4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2437920"/>
            <a:ext cx="4015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426888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B042D-EFBE-46D0-85CF-02BC96FA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B306-AEBE-4D62-939D-EED1655FF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15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243792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674240" y="426888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5EDFD-D66C-4FAD-806C-5A4881C3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243792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4268880"/>
            <a:ext cx="822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B32DD-FA3A-44ED-AA1F-D5A1D8BFC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57200" y="4268880"/>
            <a:ext cx="822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8730B-71EF-4D93-8CE5-80294C5D0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243792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6888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4674240" y="426888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79EAE-FF03-4797-A1F4-0AB674B0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264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3239640" y="2437920"/>
            <a:ext cx="264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022080" y="2437920"/>
            <a:ext cx="264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57200" y="4268880"/>
            <a:ext cx="264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6"/>
          <p:cNvSpPr>
            <a:spLocks noGrp="1"/>
          </p:cNvSpPr>
          <p:nvPr>
            <p:ph/>
          </p:nvPr>
        </p:nvSpPr>
        <p:spPr>
          <a:xfrm>
            <a:off x="3239640" y="4268880"/>
            <a:ext cx="264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9" name="PlaceHolder 7"/>
          <p:cNvSpPr>
            <a:spLocks noGrp="1"/>
          </p:cNvSpPr>
          <p:nvPr>
            <p:ph/>
          </p:nvPr>
        </p:nvSpPr>
        <p:spPr>
          <a:xfrm>
            <a:off x="6022080" y="4268880"/>
            <a:ext cx="264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AE108-6677-4319-9F10-EF9A4BF63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517C-D3E1-4CCE-9EA0-4A7AE5B7B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15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2437920"/>
            <a:ext cx="4015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BBFA-B83E-4AB6-BF61-FF3F8525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477A-3C05-439F-AC24-92BCFB3E7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FF49-2EDA-480F-8455-055B8F85C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2437920"/>
            <a:ext cx="4015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26888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F14C-FF41-44D0-AA6D-2DF8615B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15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243792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426888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2591-17E7-40EA-83C2-2C4F211B3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2437920"/>
            <a:ext cx="40158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4268880"/>
            <a:ext cx="8229600" cy="16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136E6-745E-4BF2-B4D6-2AE7D04F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d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623880" indent="-23976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2" marL="960120" indent="-19188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3" marL="1343880" indent="-191880">
              <a:spcBef>
                <a:spcPts val="799"/>
              </a:spcBef>
              <a:buClr>
                <a:srgbClr val="000000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4" marL="1728000" indent="-1918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5" marL="1728000" indent="-1918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6" marL="1728000" indent="-191880">
              <a:spcBef>
                <a:spcPts val="7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9AA47-8D32-4C02-8DAA-8E18EA557F8E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9360" y="0"/>
            <a:ext cx="9116640" cy="6865920"/>
            <a:chOff x="9360" y="0"/>
            <a:chExt cx="9116640" cy="6865920"/>
          </a:xfrm>
        </p:grpSpPr>
        <p:grpSp>
          <p:nvGrpSpPr>
            <p:cNvPr id="6" name=""/>
            <p:cNvGrpSpPr/>
            <p:nvPr/>
          </p:nvGrpSpPr>
          <p:grpSpPr>
            <a:xfrm>
              <a:off x="9360" y="0"/>
              <a:ext cx="9110880" cy="458640"/>
              <a:chOff x="9360" y="0"/>
              <a:chExt cx="9110880" cy="458640"/>
            </a:xfrm>
          </p:grpSpPr>
          <p:sp>
            <p:nvSpPr>
              <p:cNvPr id="7" name=""/>
              <p:cNvSpPr/>
              <p:nvPr/>
            </p:nvSpPr>
            <p:spPr>
              <a:xfrm>
                <a:off x="75564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73060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9124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71628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26352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15832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18336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65188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4312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6440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17084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421020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519732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470376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667692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22272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3668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124920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99540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97036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593100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95604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50328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39772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42312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89164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98288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90416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41060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44960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543708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94352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691668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346248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247644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148896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9360" y="23004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" name=""/>
            <p:cNvGrpSpPr/>
            <p:nvPr/>
          </p:nvGrpSpPr>
          <p:grpSpPr>
            <a:xfrm>
              <a:off x="15840" y="6407280"/>
              <a:ext cx="9110160" cy="458640"/>
              <a:chOff x="15840" y="6407280"/>
              <a:chExt cx="9110160" cy="458640"/>
            </a:xfrm>
          </p:grpSpPr>
          <p:sp>
            <p:nvSpPr>
              <p:cNvPr id="45" name=""/>
              <p:cNvSpPr/>
              <p:nvPr/>
            </p:nvSpPr>
            <p:spPr>
              <a:xfrm flipV="1">
                <a:off x="76176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V="1">
                <a:off x="273672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flipV="1">
                <a:off x="569736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flipV="1">
                <a:off x="372240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flipV="1">
                <a:off x="26964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V="1">
                <a:off x="816444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V="1">
                <a:off x="618948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V="1">
                <a:off x="865800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V="1">
                <a:off x="174924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flipV="1">
                <a:off x="767052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717696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421632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V="1">
                <a:off x="520344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flipV="1">
                <a:off x="470988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668304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V="1">
                <a:off x="322884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224280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125532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100152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297648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flipV="1">
                <a:off x="593712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396216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50940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V="1">
                <a:off x="840384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V="1">
                <a:off x="642924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V="1">
                <a:off x="889776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V="1">
                <a:off x="198900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V="1">
                <a:off x="791028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V="1">
                <a:off x="741672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V="1">
                <a:off x="445572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V="1">
                <a:off x="544320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V="1">
                <a:off x="494964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V="1">
                <a:off x="692280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V="1">
                <a:off x="346860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V="1">
                <a:off x="248256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V="1">
                <a:off x="149508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V="1">
                <a:off x="15840" y="640692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" name=""/>
          <p:cNvGrpSpPr/>
          <p:nvPr/>
        </p:nvGrpSpPr>
        <p:grpSpPr>
          <a:xfrm>
            <a:off x="4229280" y="1949400"/>
            <a:ext cx="685800" cy="380880"/>
            <a:chOff x="4229280" y="1949400"/>
            <a:chExt cx="685800" cy="380880"/>
          </a:xfrm>
        </p:grpSpPr>
        <p:sp>
          <p:nvSpPr>
            <p:cNvPr id="83" name=""/>
            <p:cNvSpPr/>
            <p:nvPr/>
          </p:nvSpPr>
          <p:spPr>
            <a:xfrm>
              <a:off x="4229280" y="1949400"/>
              <a:ext cx="152280" cy="380880"/>
            </a:xfrm>
            <a:prstGeom prst="diamond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96040" y="1949400"/>
              <a:ext cx="152280" cy="380880"/>
            </a:xfrm>
            <a:prstGeom prst="diamond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762440" y="1949400"/>
              <a:ext cx="152640" cy="380880"/>
            </a:xfrm>
            <a:prstGeom prst="diamond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d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E591-693A-44A0-AC74-1A8E1241D292}" type="slidenum">
              <a:rPr b="0" lang="en-US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9360" y="0"/>
            <a:ext cx="9116640" cy="6865920"/>
            <a:chOff x="9360" y="0"/>
            <a:chExt cx="9116640" cy="6865920"/>
          </a:xfrm>
        </p:grpSpPr>
        <p:grpSp>
          <p:nvGrpSpPr>
            <p:cNvPr id="127" name=""/>
            <p:cNvGrpSpPr/>
            <p:nvPr/>
          </p:nvGrpSpPr>
          <p:grpSpPr>
            <a:xfrm>
              <a:off x="9360" y="0"/>
              <a:ext cx="9110880" cy="458640"/>
              <a:chOff x="9360" y="0"/>
              <a:chExt cx="9110880" cy="458640"/>
            </a:xfrm>
          </p:grpSpPr>
          <p:sp>
            <p:nvSpPr>
              <p:cNvPr id="128" name=""/>
              <p:cNvSpPr/>
              <p:nvPr/>
            </p:nvSpPr>
            <p:spPr>
              <a:xfrm>
                <a:off x="75564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73060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69124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71628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6352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15832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18336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65188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4312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66440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17084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21020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9732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70376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67692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22272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23668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24920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99540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97036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93100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95604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0328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39772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42312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89164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198288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90416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41060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44960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3708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94352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91668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46248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47644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148896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360" y="23004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15840" y="6407280"/>
              <a:ext cx="9110160" cy="458640"/>
              <a:chOff x="15840" y="6407280"/>
              <a:chExt cx="9110160" cy="458640"/>
            </a:xfrm>
          </p:grpSpPr>
          <p:sp>
            <p:nvSpPr>
              <p:cNvPr id="166" name=""/>
              <p:cNvSpPr/>
              <p:nvPr/>
            </p:nvSpPr>
            <p:spPr>
              <a:xfrm flipV="1">
                <a:off x="76176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273672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569736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372240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flipV="1">
                <a:off x="26964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flipV="1">
                <a:off x="816444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618948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V="1">
                <a:off x="865800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flipV="1">
                <a:off x="174924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767052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V="1">
                <a:off x="717696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flipV="1">
                <a:off x="421632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 flipV="1">
                <a:off x="520344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flipV="1">
                <a:off x="470988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flipV="1">
                <a:off x="668304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flipV="1">
                <a:off x="322884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224280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flipV="1">
                <a:off x="125532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flipV="1">
                <a:off x="100152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297648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593712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flipV="1">
                <a:off x="396216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 flipV="1">
                <a:off x="50940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flipV="1">
                <a:off x="840384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V="1">
                <a:off x="642924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flipV="1">
                <a:off x="889776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flipV="1">
                <a:off x="198900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flipV="1">
                <a:off x="791028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flipV="1">
                <a:off x="741672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flipV="1">
                <a:off x="445572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flipV="1">
                <a:off x="544320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flipV="1">
                <a:off x="494964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flipV="1">
                <a:off x="692280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flipV="1">
                <a:off x="346860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248256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flipV="1">
                <a:off x="149508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15840" y="640692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Black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 Black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d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1981080"/>
            <a:ext cx="7772400" cy="14702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Arial Black"/>
              </a:rPr>
              <a:t>Good 4 U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371600" y="37364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Look what we have cooking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191120" y="3238560"/>
            <a:ext cx="685800" cy="380880"/>
            <a:chOff x="4191120" y="3238560"/>
            <a:chExt cx="685800" cy="380880"/>
          </a:xfrm>
        </p:grpSpPr>
        <p:sp>
          <p:nvSpPr>
            <p:cNvPr id="243" name=""/>
            <p:cNvSpPr/>
            <p:nvPr/>
          </p:nvSpPr>
          <p:spPr>
            <a:xfrm>
              <a:off x="4191120" y="3238560"/>
              <a:ext cx="152280" cy="380880"/>
            </a:xfrm>
            <a:prstGeom prst="diamond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57880" y="3238560"/>
              <a:ext cx="152280" cy="380880"/>
            </a:xfrm>
            <a:prstGeom prst="diamond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724280" y="3238560"/>
              <a:ext cx="152640" cy="380880"/>
            </a:xfrm>
            <a:prstGeom prst="diamond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9360" y="0"/>
            <a:ext cx="9116640" cy="6865920"/>
            <a:chOff x="9360" y="0"/>
            <a:chExt cx="9116640" cy="6865920"/>
          </a:xfrm>
        </p:grpSpPr>
        <p:grpSp>
          <p:nvGrpSpPr>
            <p:cNvPr id="247" name=""/>
            <p:cNvGrpSpPr/>
            <p:nvPr/>
          </p:nvGrpSpPr>
          <p:grpSpPr>
            <a:xfrm>
              <a:off x="9360" y="0"/>
              <a:ext cx="9110880" cy="458640"/>
              <a:chOff x="9360" y="0"/>
              <a:chExt cx="9110880" cy="458640"/>
            </a:xfrm>
          </p:grpSpPr>
          <p:sp>
            <p:nvSpPr>
              <p:cNvPr id="248" name=""/>
              <p:cNvSpPr/>
              <p:nvPr/>
            </p:nvSpPr>
            <p:spPr>
              <a:xfrm>
                <a:off x="75564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73060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69124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71628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6352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815832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18336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865188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74312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66440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17084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21020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19732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70376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67692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22272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3668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1249200" y="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99540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97036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93100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395604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0328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39772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42312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889164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198288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90416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41060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44960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43708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94352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91668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46248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47644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1488960" y="22536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9360" y="230040"/>
                <a:ext cx="22860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15840" y="6407280"/>
              <a:ext cx="9110160" cy="458640"/>
              <a:chOff x="15840" y="6407280"/>
              <a:chExt cx="9110160" cy="458640"/>
            </a:xfrm>
          </p:grpSpPr>
          <p:sp>
            <p:nvSpPr>
              <p:cNvPr id="286" name=""/>
              <p:cNvSpPr/>
              <p:nvPr/>
            </p:nvSpPr>
            <p:spPr>
              <a:xfrm flipV="1">
                <a:off x="76176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V="1">
                <a:off x="273672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flipV="1">
                <a:off x="569736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V="1">
                <a:off x="372240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V="1">
                <a:off x="26964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V="1">
                <a:off x="816444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V="1">
                <a:off x="618948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V="1">
                <a:off x="865800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V="1">
                <a:off x="174924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V="1">
                <a:off x="767052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V="1">
                <a:off x="717696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421632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20344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V="1">
                <a:off x="470988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V="1">
                <a:off x="668304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V="1">
                <a:off x="322884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224280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V="1">
                <a:off x="1255320" y="663696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V="1">
                <a:off x="100152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V="1">
                <a:off x="297648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593712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flipV="1">
                <a:off x="396216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V="1">
                <a:off x="50940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flipV="1">
                <a:off x="840384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642924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889776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V="1">
                <a:off x="198900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791028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741672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445572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544320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V="1">
                <a:off x="494964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flipV="1">
                <a:off x="692280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flipV="1">
                <a:off x="346860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flipV="1">
                <a:off x="248256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flipV="1">
                <a:off x="1495080" y="641160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flipV="1">
                <a:off x="15840" y="6406920"/>
                <a:ext cx="228240" cy="228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d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Delicious Healthy Meal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ood 4 U Veggie Burge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imply Good Shrimp Salad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Good Fruit Combo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Andre’s Lemon Dill Chicken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d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A Growth Business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326" name=""/>
          <p:cNvGraphicFramePr/>
          <p:nvPr/>
        </p:nvGraphicFramePr>
        <p:xfrm>
          <a:off x="768240" y="2629080"/>
          <a:ext cx="7572600" cy="32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8240" y="2629080"/>
                    <a:ext cx="7572600" cy="32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8" name=""/>
          <p:cNvSpPr/>
          <p:nvPr/>
        </p:nvSpPr>
        <p:spPr>
          <a:xfrm>
            <a:off x="8007480" y="2695680"/>
            <a:ext cx="203040" cy="2411280"/>
          </a:xfrm>
          <a:prstGeom prst="upArrow">
            <a:avLst>
              <a:gd name="adj1" fmla="val 48611"/>
              <a:gd name="adj2" fmla="val 179568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dfdf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Required Equipmen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aloric industrial rang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ub-Zero refrigerator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e-packaged cookware 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re-packaged stonewa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Oneida flatware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8-21T20:17:50Z</dcterms:created>
  <dc:creator>Pat R. Graves</dc:creator>
  <dc:description/>
  <dc:language>en-US</dc:language>
  <cp:lastModifiedBy>Pat Graves</cp:lastModifiedBy>
  <cp:lastPrinted>1997-09-29T14:04:34Z</cp:lastPrinted>
  <dcterms:modified xsi:type="dcterms:W3CDTF">2004-03-04T05:32:42Z</dcterms:modified>
  <cp:revision>47</cp:revision>
  <dc:subject/>
  <dc:title>Good 4 U Cooking</dc:title>
</cp:coreProperties>
</file>