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3C15-220D-4484-8492-E5E84B664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A277-A2B8-4CF3-AEE1-DCC3D6CC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347A-C74D-498B-85AF-F9057FA90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FB50-A36F-4820-B706-5BA651667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46210-392A-48AF-85B5-94E73DDE4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A1C82-7738-441F-9CD8-D8F333010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72E37-D4D2-482E-BF32-90D9906A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2CF1-26AC-4F70-A15D-0265F6B4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DBD02-57D2-420C-A183-FBD8F2DB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272880" y="277920"/>
            <a:ext cx="8599680" cy="76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77603-61A8-4A0D-B9BA-B110E236C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DC1D-709D-41F6-B39C-D3BBA266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649-CDC3-4AB5-8DD2-17DCA86BF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53AD9-1BD0-41C9-8AD4-8E0A9CC7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22C8-064C-4B5B-AFA4-24279C382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E4F48-E73D-4D00-9BEC-47DC1E7B9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F5C4A-9259-4747-A313-4EFAA8EB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BC5D-26E4-41F9-937B-2DDCC3BC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162E-2D82-4F91-AC4F-6CB525C3B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7BE-E3E6-4BDB-AEBF-9A9835A1F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61C6-5199-4588-BBCB-5B69A497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272880" y="277920"/>
            <a:ext cx="8599680" cy="76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565F-40B7-4BFE-8E4A-5C8908EC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5883-9F84-44E4-B1BB-F7B41993C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9CC-41C2-4DA4-88BC-B812F524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A694-C1BD-4E05-8EC4-CB2BD074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c9c696"/>
              </a:gs>
              <a:gs pos="100000">
                <a:srgbClr val="e6e3ac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72880" y="277920"/>
            <a:ext cx="8599680" cy="164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7843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57843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6e3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95479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99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F5E8-7A74-473D-86A8-41215492C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de3bd"/>
                </a:gs>
                <a:gs pos="100000">
                  <a:srgbClr val="0099cc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ede3bd"/>
                </a:gs>
                <a:gs pos="100000">
                  <a:srgbClr val="0099cc">
                    <a:alpha val="5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solidFill>
                <a:srgbClr val="0099c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solidFill>
                  <a:srgbClr val="0099cc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957843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44DF-9FBC-46AE-8509-B144AA187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95479"/>
                </a:solidFill>
                <a:latin typeface="Arial"/>
              </a:rPr>
              <a:t>Click to edit the outline text format</a:t>
            </a:r>
            <a:endParaRPr b="1" lang="en-US" sz="4400" spc="-1" strike="noStrike">
              <a:solidFill>
                <a:srgbClr val="09547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954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9547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6e3a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95479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9547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95479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99c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95479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9547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657600" y="3500280"/>
            <a:ext cx="1828800" cy="18288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57843"/>
              </a:gs>
              <a:gs pos="50000">
                <a:srgbClr val="ffcc99"/>
              </a:gs>
              <a:gs pos="100000">
                <a:srgbClr val="9578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860400" y="3911400"/>
            <a:ext cx="7423200" cy="100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91440" bIns="91440" anchor="t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95479"/>
                </a:solidFill>
                <a:latin typeface="Arial"/>
              </a:rPr>
              <a:t>Our Newest Franchise</a:t>
            </a:r>
            <a:endParaRPr b="1" lang="en-US" sz="5400" spc="-1" strike="noStrike">
              <a:solidFill>
                <a:srgbClr val="095479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600200" y="1371600"/>
            <a:ext cx="5943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1" strike="noStrike">
                <a:ln cap="sq" w="12600">
                  <a:solidFill>
                    <a:srgbClr val="000000"/>
                  </a:solidFill>
                  <a:miter/>
                </a:ln>
                <a:solidFill>
                  <a:srgbClr val="ffcc99"/>
                </a:solidFill>
                <a:effectLst>
                  <a:outerShdw dist="125751" dir="18900000" blurRad="0" rotWithShape="0">
                    <a:srgbClr val="957843"/>
                  </a:outerShdw>
                </a:effectLst>
                <a:latin typeface="Impact"/>
              </a:rPr>
              <a:t>Good 4 U - Miami</a:t>
            </a:r>
            <a:endParaRPr b="0" lang="en-US" sz="4800" spc="1" strike="noStrike">
              <a:ln cap="sq" w="12600">
                <a:solidFill>
                  <a:srgbClr val="000000"/>
                </a:solidFill>
                <a:miter/>
              </a:ln>
              <a:solidFill>
                <a:srgbClr val="ffcc99"/>
              </a:solidFill>
              <a:effectLst>
                <a:outerShdw dist="125751" dir="18900000" blurRad="0" rotWithShape="0">
                  <a:srgbClr val="957843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38680" y="193680"/>
            <a:ext cx="1371600" cy="13716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57843"/>
              </a:gs>
              <a:gs pos="50000">
                <a:srgbClr val="ffcc99"/>
              </a:gs>
              <a:gs pos="100000">
                <a:srgbClr val="9578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7843"/>
                </a:solidFill>
                <a:latin typeface="Arial"/>
              </a:rPr>
              <a:t>We’re Growing</a:t>
            </a: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162080" y="1981080"/>
          <a:ext cx="6819840" cy="424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62080" y="1981080"/>
                    <a:ext cx="6819840" cy="424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de3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772080" y="171360"/>
            <a:ext cx="1371600" cy="1371600"/>
          </a:xfrm>
          <a:prstGeom prst="sun">
            <a:avLst>
              <a:gd name="adj" fmla="val 25000"/>
            </a:avLst>
          </a:prstGeom>
          <a:gradFill rotWithShape="0">
            <a:gsLst>
              <a:gs pos="0">
                <a:srgbClr val="957843"/>
              </a:gs>
              <a:gs pos="50000">
                <a:srgbClr val="ffcc99"/>
              </a:gs>
              <a:gs pos="100000">
                <a:srgbClr val="95784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756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957843"/>
                </a:solidFill>
                <a:latin typeface="Arial"/>
              </a:rPr>
              <a:t>What We Offer</a:t>
            </a:r>
            <a:endParaRPr b="1" lang="en-US" sz="4800" spc="-1" strike="noStrike">
              <a:solidFill>
                <a:srgbClr val="957843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427120" y="2178000"/>
            <a:ext cx="4289760" cy="25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Beachfront setting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Patio juice bar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Boardwalk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5479"/>
                </a:solidFill>
                <a:latin typeface="Arial"/>
              </a:rPr>
              <a:t>Same great menu</a:t>
            </a:r>
            <a:endParaRPr b="1" lang="en-US" sz="3200" spc="-1" strike="noStrike">
              <a:solidFill>
                <a:srgbClr val="09547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19:23:02Z</dcterms:created>
  <dc:creator>Pat R. Graves</dc:creator>
  <dc:description/>
  <dc:language>en-US</dc:language>
  <cp:lastModifiedBy>Pat Graves</cp:lastModifiedBy>
  <cp:lastPrinted>1997-06-29T15:56:28Z</cp:lastPrinted>
  <dcterms:modified xsi:type="dcterms:W3CDTF">2004-03-04T05:47:20Z</dcterms:modified>
  <cp:revision>42</cp:revision>
  <dc:subject/>
  <dc:title>Good 4 U New Franchise</dc:title>
</cp:coreProperties>
</file>