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C42-C4A3-45A9-9F35-48650BD3E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3EEB-0C5B-4C82-A002-D1242EDA6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BD5C-35B9-47AB-8EAA-3F7081F9E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FDD3-0FC1-4035-AFBF-0754A6449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5853C-61B9-482D-9BE8-4574DF855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CAC8A-7CE3-4462-AB88-D979566EC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A5D40-37BB-4090-83AB-29D3EA16C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9314A-D484-4720-99C4-37A8141C1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2765-CF96-4D76-813E-5A976465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0E02-7A7D-48B4-8016-EC42F54D6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419F-3767-4E94-AC06-B4957AFCC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A40D-1F8A-4429-A597-776626714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E9300-70EF-460C-BF00-518A6A2A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9B21B-DFD1-470D-BC92-CF48CCD5A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82913-3743-4484-B5B5-B757F4B6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04E58-816C-44A0-9EC9-F3514C1DC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760F-357C-4101-8C87-6254C147D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2CE-FBF1-4223-B3B2-33AB02309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5F42-7D27-4A4A-BADD-C87D54593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EAC5-2C7F-4412-BDFB-31B1A091C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98C6-6569-46F7-BBCC-472BC32E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A906A-4A69-4252-A860-A5767A43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3D0F-6D67-4DD2-9136-666F30ABE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DF55-653A-41CB-A282-B3D292DD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14983-FC0E-459A-B202-4CAE2EAD315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0" y="0"/>
            <a:ext cx="289080" cy="6858000"/>
            <a:chOff x="0" y="0"/>
            <a:chExt cx="289080" cy="6858000"/>
          </a:xfrm>
        </p:grpSpPr>
        <p:sp>
          <p:nvSpPr>
            <p:cNvPr id="9" name=""/>
            <p:cNvSpPr/>
            <p:nvPr/>
          </p:nvSpPr>
          <p:spPr>
            <a:xfrm>
              <a:off x="0" y="0"/>
              <a:ext cx="136440" cy="6858000"/>
            </a:xfrm>
            <a:prstGeom prst="rect">
              <a:avLst/>
            </a:prstGeom>
            <a:gradFill rotWithShape="0">
              <a:gsLst>
                <a:gs pos="0">
                  <a:srgbClr val="ce9b89"/>
                </a:gs>
                <a:gs pos="100000">
                  <a:srgbClr val="be79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52280" y="0"/>
              <a:ext cx="136800" cy="6858000"/>
            </a:xfrm>
            <a:prstGeom prst="rect">
              <a:avLst/>
            </a:prstGeom>
            <a:gradFill rotWithShape="0">
              <a:gsLst>
                <a:gs pos="0">
                  <a:srgbClr val="fe7c5b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8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6CB1-E7BC-4149-8ECF-DF3781E5C46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0" y="0"/>
            <a:ext cx="289080" cy="6858000"/>
            <a:chOff x="0" y="0"/>
            <a:chExt cx="289080" cy="6858000"/>
          </a:xfrm>
        </p:grpSpPr>
        <p:sp>
          <p:nvSpPr>
            <p:cNvPr id="55" name=""/>
            <p:cNvSpPr/>
            <p:nvPr/>
          </p:nvSpPr>
          <p:spPr>
            <a:xfrm>
              <a:off x="0" y="0"/>
              <a:ext cx="136440" cy="6858000"/>
            </a:xfrm>
            <a:prstGeom prst="rect">
              <a:avLst/>
            </a:prstGeom>
            <a:gradFill rotWithShape="0">
              <a:gsLst>
                <a:gs pos="0">
                  <a:srgbClr val="ce9b89"/>
                </a:gs>
                <a:gs pos="100000">
                  <a:srgbClr val="be79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52280" y="0"/>
              <a:ext cx="136800" cy="6858000"/>
            </a:xfrm>
            <a:prstGeom prst="rect">
              <a:avLst/>
            </a:prstGeom>
            <a:gradFill rotWithShape="0">
              <a:gsLst>
                <a:gs pos="0">
                  <a:srgbClr val="fe7c5b"/>
                </a:gs>
                <a:gs pos="100000">
                  <a:srgbClr val="ff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356000" y="1844640"/>
            <a:ext cx="3886200" cy="3886200"/>
          </a:xfrm>
          <a:prstGeom prst="diamond">
            <a:avLst/>
          </a:prstGeom>
          <a:gradFill rotWithShape="0">
            <a:gsLst>
              <a:gs pos="0">
                <a:srgbClr val="a921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Review of </a:t>
            </a:r>
            <a:br>
              <a:rPr sz="5400"/>
            </a:b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Advertising Media</a:t>
            </a:r>
            <a:endParaRPr b="1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472000" y="3487680"/>
            <a:ext cx="1729080" cy="696960"/>
            <a:chOff x="5472000" y="3487680"/>
            <a:chExt cx="1729080" cy="696960"/>
          </a:xfrm>
        </p:grpSpPr>
        <p:sp>
          <p:nvSpPr>
            <p:cNvPr id="97" name=""/>
            <p:cNvSpPr txBox="1"/>
            <p:nvPr/>
          </p:nvSpPr>
          <p:spPr>
            <a:xfrm>
              <a:off x="6719400" y="3753000"/>
              <a:ext cx="48168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8" name=""/>
            <p:cNvGrpSpPr/>
            <p:nvPr/>
          </p:nvGrpSpPr>
          <p:grpSpPr>
            <a:xfrm>
              <a:off x="6293880" y="3598560"/>
              <a:ext cx="623520" cy="586080"/>
              <a:chOff x="6293880" y="3598560"/>
              <a:chExt cx="623520" cy="586080"/>
            </a:xfrm>
          </p:grpSpPr>
          <p:sp>
            <p:nvSpPr>
              <p:cNvPr id="99" name=""/>
              <p:cNvSpPr/>
              <p:nvPr/>
            </p:nvSpPr>
            <p:spPr>
              <a:xfrm>
                <a:off x="6293880" y="3598560"/>
                <a:ext cx="623520" cy="58608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68840" y="3661560"/>
                <a:ext cx="288720" cy="32652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72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01" name=""/>
            <p:cNvSpPr txBox="1"/>
            <p:nvPr/>
          </p:nvSpPr>
          <p:spPr>
            <a:xfrm>
              <a:off x="5472000" y="3487680"/>
              <a:ext cx="1162080" cy="414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Topics of Discussion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319480" y="2205000"/>
            <a:ext cx="5347800" cy="3924360"/>
            <a:chOff x="2319480" y="2205000"/>
            <a:chExt cx="5347800" cy="3924360"/>
          </a:xfrm>
        </p:grpSpPr>
        <p:sp>
          <p:nvSpPr>
            <p:cNvPr id="104" name=""/>
            <p:cNvSpPr/>
            <p:nvPr/>
          </p:nvSpPr>
          <p:spPr>
            <a:xfrm>
              <a:off x="4619520" y="5062680"/>
              <a:ext cx="3047760" cy="1066680"/>
            </a:xfrm>
            <a:prstGeom prst="rightArrow">
              <a:avLst>
                <a:gd name="adj1" fmla="val 59852"/>
                <a:gd name="adj2" fmla="val 71431"/>
              </a:avLst>
            </a:prstGeom>
            <a:gradFill rotWithShape="0">
              <a:gsLst>
                <a:gs pos="0">
                  <a:srgbClr val="ae2200"/>
                </a:gs>
                <a:gs pos="50000">
                  <a:srgbClr val="ff3300"/>
                </a:gs>
                <a:gs pos="100000">
                  <a:srgbClr val="ae2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Cost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852720" y="4110120"/>
              <a:ext cx="3047760" cy="1066680"/>
            </a:xfrm>
            <a:prstGeom prst="rightArrow">
              <a:avLst>
                <a:gd name="adj1" fmla="val 59852"/>
                <a:gd name="adj2" fmla="val 71431"/>
              </a:avLst>
            </a:prstGeom>
            <a:gradFill rotWithShape="0">
              <a:gsLst>
                <a:gs pos="0">
                  <a:srgbClr val="ae2200"/>
                </a:gs>
                <a:gs pos="50000">
                  <a:srgbClr val="ff3300"/>
                </a:gs>
                <a:gs pos="100000">
                  <a:srgbClr val="ae2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Effectiveness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85920" y="3157560"/>
              <a:ext cx="3047760" cy="1066680"/>
            </a:xfrm>
            <a:prstGeom prst="rightArrow">
              <a:avLst>
                <a:gd name="adj1" fmla="val 59852"/>
                <a:gd name="adj2" fmla="val 71431"/>
              </a:avLst>
            </a:prstGeom>
            <a:gradFill rotWithShape="0">
              <a:gsLst>
                <a:gs pos="0">
                  <a:srgbClr val="ae2200"/>
                </a:gs>
                <a:gs pos="50000">
                  <a:srgbClr val="ff3300"/>
                </a:gs>
                <a:gs pos="100000">
                  <a:srgbClr val="ae2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Frequenc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319480" y="2205000"/>
              <a:ext cx="3047760" cy="1066680"/>
            </a:xfrm>
            <a:prstGeom prst="rightArrow">
              <a:avLst>
                <a:gd name="adj1" fmla="val 59852"/>
                <a:gd name="adj2" fmla="val 71431"/>
              </a:avLst>
            </a:prstGeom>
            <a:gradFill rotWithShape="0">
              <a:gsLst>
                <a:gs pos="0">
                  <a:srgbClr val="ae2200"/>
                </a:gs>
                <a:gs pos="50000">
                  <a:srgbClr val="ff3300"/>
                </a:gs>
                <a:gs pos="100000">
                  <a:srgbClr val="ae22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ahoma"/>
                </a:rPr>
                <a:t>Quality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Media Effectivenes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87680" y="2171520"/>
            <a:ext cx="3968640" cy="24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wspap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8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llow Page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6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rect mai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"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di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%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0960" indent="0">
              <a:spcBef>
                <a:spcPts val="700"/>
              </a:spcBef>
              <a:buNone/>
              <a:tabLst>
                <a:tab algn="r" pos="37130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1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cc"/>
                </a:solidFill>
                <a:latin typeface="Tahoma"/>
              </a:rPr>
              <a:t>Next Steps</a:t>
            </a:r>
            <a:endParaRPr b="1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726920" y="2276280"/>
            <a:ext cx="67402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lyze effectiveness vs. co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et with account executiv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 up next year’s media pl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851280" y="10159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84800" y="10159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17960" y="10159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451480" y="10159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9-03T16:19:56Z</dcterms:created>
  <dc:creator>Pat R. Graves</dc:creator>
  <dc:description/>
  <dc:language>en-US</dc:language>
  <cp:lastModifiedBy>Pat Graves</cp:lastModifiedBy>
  <dcterms:modified xsi:type="dcterms:W3CDTF">2004-03-04T06:17:37Z</dcterms:modified>
  <cp:revision>23</cp:revision>
  <dc:subject/>
  <dc:title>Advertising Media</dc:title>
</cp:coreProperties>
</file>