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E02BB-AC70-4DDC-9D6B-3AABC76D7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0033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339AB-02FA-4910-A0D3-D55C02E11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0033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7A847-DFA0-46D2-93E7-753503CEF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0033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FCA6A-303B-4874-9632-B447456A8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4EE37-E508-4753-A26B-5034C9C6B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0033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6571A-A6E5-46D4-98B6-063C30932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0033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21E75-248B-41A3-88AD-DDFEA6C63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0033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B7B63-B7B7-473F-88BE-55519173F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0033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F0273-3170-43EA-BBEF-A24FD2268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BFC48-087B-4E7D-8DA6-8807B1CA0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0033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414F7-244B-42F5-87B7-4DF02A2FB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0033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0725C-C0E1-42BC-AE8C-C8225DA64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0033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23B44-7175-4E4C-9151-C9104C904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0033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FD543-121A-46EB-9FB3-EBB3EA0D1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0033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4AFD7-C5B9-412D-894B-BCAB69EAF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0033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AF6A5-3B48-4D9E-9F7B-5D03E9759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0033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2E8CC-84D6-4419-A9A0-A9D59C8F5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0033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B8E0C-2F49-4F79-86C5-CB2622F7B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0033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37EAA-E8E8-4B5C-880D-6E2C22C72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0033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69AE7-4156-42D7-8F39-8B74531C7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7D2DF-B7A4-45E4-A3B5-9CF3425F6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0033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26F7E-8A64-4EAA-A6C5-6DF3D1474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0033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DC962-2683-4097-8553-DB9F9FA82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0033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ED0C5-32E8-4394-B50C-F1E1D4B11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33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660033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23e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23e26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23e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23e26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523e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23e26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523e2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523e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23e26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523e2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523e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23e26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523e2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808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23e26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523e2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808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23e26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666520" y="594360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114440" y="59436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162920" y="5943600"/>
            <a:ext cx="1295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087A7-B984-4343-9576-D6FE46C7390E}" type="slidenum">
              <a:rPr b="0" lang="en-US" sz="1000" spc="-1" strike="noStrike">
                <a:solidFill>
                  <a:srgbClr val="808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3200400"/>
            <a:ext cx="7086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660033"/>
                </a:solidFill>
                <a:latin typeface="Arial Black"/>
              </a:rPr>
              <a:t>Click to edit the title text format</a:t>
            </a:r>
            <a:endParaRPr b="0" lang="en-US" sz="5600" spc="-1" strike="noStrike">
              <a:solidFill>
                <a:srgbClr val="660033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228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236196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54421-62AF-47FC-85DC-D827A61C4BA9}" type="slidenum">
              <a:rPr b="0" lang="en-US" sz="1000" spc="-1" strike="noStrike">
                <a:solidFill>
                  <a:srgbClr val="808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808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23e26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523e26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523e2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23e2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523e26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523e26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23e2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23e26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23e26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23e2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23e26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808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23e2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23e26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808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23e2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23e2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1509840" y="851040"/>
            <a:ext cx="6562440" cy="102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0">
                  <a:noFill/>
                </a:ln>
                <a:gradFill rotWithShape="0">
                  <a:gsLst>
                    <a:gs pos="0">
                      <a:srgbClr val="8f5f2f"/>
                    </a:gs>
                    <a:gs pos="100000">
                      <a:srgbClr val="660033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2d2015"/>
                  </a:outerShdw>
                </a:effectLst>
                <a:latin typeface="Impact"/>
              </a:rPr>
              <a:t>Marketing Strategy</a:t>
            </a:r>
            <a:endParaRPr b="0" lang="en-US" sz="6600" spc="1" strike="noStrike">
              <a:ln w="0">
                <a:noFill/>
              </a:ln>
              <a:gradFill rotWithShape="0">
                <a:gsLst>
                  <a:gs pos="0">
                    <a:srgbClr val="8f5f2f"/>
                  </a:gs>
                  <a:gs pos="100000">
                    <a:srgbClr val="660033"/>
                  </a:gs>
                </a:gsLst>
                <a:lin ang="8100000"/>
              </a:gradFill>
              <a:effectLst>
                <a:outerShdw dist="17819" dir="2700000" blurRad="0" rotWithShape="0">
                  <a:srgbClr val="2d2015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1219320" y="2286000"/>
            <a:ext cx="7924680" cy="457200"/>
            <a:chOff x="1219320" y="2286000"/>
            <a:chExt cx="7924680" cy="457200"/>
          </a:xfrm>
        </p:grpSpPr>
        <p:sp>
          <p:nvSpPr>
            <p:cNvPr id="84" name=""/>
            <p:cNvSpPr/>
            <p:nvPr/>
          </p:nvSpPr>
          <p:spPr>
            <a:xfrm>
              <a:off x="1220760" y="2286000"/>
              <a:ext cx="7923240" cy="0"/>
            </a:xfrm>
            <a:prstGeom prst="line">
              <a:avLst/>
            </a:prstGeom>
            <a:ln w="76320">
              <a:solidFill>
                <a:srgbClr val="bea9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808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219320" y="2514600"/>
              <a:ext cx="7924680" cy="0"/>
            </a:xfrm>
            <a:prstGeom prst="line">
              <a:avLst/>
            </a:prstGeom>
            <a:ln w="76320">
              <a:solidFill>
                <a:srgbClr val="bea9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808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220760" y="2743200"/>
              <a:ext cx="7923240" cy="0"/>
            </a:xfrm>
            <a:prstGeom prst="line">
              <a:avLst/>
            </a:prstGeom>
            <a:ln w="76320">
              <a:solidFill>
                <a:srgbClr val="bea9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808000"/>
                </a:solidFill>
                <a:latin typeface="Arial"/>
              </a:endParaRPr>
            </a:p>
          </p:txBody>
        </p:sp>
      </p:grpSp>
      <p:sp>
        <p:nvSpPr>
          <p:cNvPr id="87" name=""/>
          <p:cNvSpPr/>
          <p:nvPr/>
        </p:nvSpPr>
        <p:spPr>
          <a:xfrm>
            <a:off x="0" y="0"/>
            <a:ext cx="1219320" cy="6858000"/>
          </a:xfrm>
          <a:prstGeom prst="rect">
            <a:avLst/>
          </a:prstGeom>
          <a:solidFill>
            <a:srgbClr val="8f5f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808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87480" y="5931000"/>
            <a:ext cx="990000" cy="399960"/>
            <a:chOff x="87480" y="5931000"/>
            <a:chExt cx="990000" cy="399960"/>
          </a:xfrm>
        </p:grpSpPr>
        <p:sp>
          <p:nvSpPr>
            <p:cNvPr id="89" name=""/>
            <p:cNvSpPr txBox="1"/>
            <p:nvPr/>
          </p:nvSpPr>
          <p:spPr>
            <a:xfrm>
              <a:off x="801720" y="6083280"/>
              <a:ext cx="275760" cy="247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a50021"/>
                  </a:solidFill>
                  <a:latin typeface="Georgia"/>
                </a:rPr>
                <a:t>U</a:t>
              </a:r>
              <a:endParaRPr b="1" lang="en-US" sz="8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Georgia"/>
                <a:ea typeface="Georgia"/>
              </a:endParaRPr>
            </a:p>
          </p:txBody>
        </p:sp>
        <p:grpSp>
          <p:nvGrpSpPr>
            <p:cNvPr id="90" name=""/>
            <p:cNvGrpSpPr/>
            <p:nvPr/>
          </p:nvGrpSpPr>
          <p:grpSpPr>
            <a:xfrm>
              <a:off x="558360" y="5994360"/>
              <a:ext cx="357120" cy="336240"/>
              <a:chOff x="558360" y="5994360"/>
              <a:chExt cx="357120" cy="336240"/>
            </a:xfrm>
          </p:grpSpPr>
          <p:sp>
            <p:nvSpPr>
              <p:cNvPr id="91" name=""/>
              <p:cNvSpPr/>
              <p:nvPr/>
            </p:nvSpPr>
            <p:spPr>
              <a:xfrm>
                <a:off x="558360" y="5994360"/>
                <a:ext cx="357120" cy="336240"/>
              </a:xfrm>
              <a:custGeom>
                <a:avLst/>
                <a:gdLst/>
                <a:ahLst/>
                <a:rect l="l" t="t" r="r" b="b"/>
                <a:pathLst>
                  <a:path w="4828" h="4550">
                    <a:moveTo>
                      <a:pt x="4828" y="2723"/>
                    </a:moveTo>
                    <a:lnTo>
                      <a:pt x="4201" y="3603"/>
                    </a:lnTo>
                    <a:lnTo>
                      <a:pt x="3436" y="3615"/>
                    </a:lnTo>
                    <a:lnTo>
                      <a:pt x="3348" y="3906"/>
                    </a:lnTo>
                    <a:lnTo>
                      <a:pt x="3348" y="3906"/>
                    </a:lnTo>
                    <a:lnTo>
                      <a:pt x="3297" y="4190"/>
                    </a:lnTo>
                    <a:lnTo>
                      <a:pt x="3339" y="4397"/>
                    </a:lnTo>
                    <a:lnTo>
                      <a:pt x="3473" y="4521"/>
                    </a:lnTo>
                    <a:lnTo>
                      <a:pt x="3473" y="4521"/>
                    </a:lnTo>
                    <a:lnTo>
                      <a:pt x="3347" y="4550"/>
                    </a:lnTo>
                    <a:lnTo>
                      <a:pt x="1983" y="4550"/>
                    </a:lnTo>
                    <a:lnTo>
                      <a:pt x="2008" y="4521"/>
                    </a:lnTo>
                    <a:lnTo>
                      <a:pt x="2008" y="4521"/>
                    </a:lnTo>
                    <a:lnTo>
                      <a:pt x="2135" y="4474"/>
                    </a:lnTo>
                    <a:lnTo>
                      <a:pt x="2239" y="4417"/>
                    </a:lnTo>
                    <a:lnTo>
                      <a:pt x="2321" y="4352"/>
                    </a:lnTo>
                    <a:lnTo>
                      <a:pt x="2321" y="4352"/>
                    </a:lnTo>
                    <a:lnTo>
                      <a:pt x="2388" y="4271"/>
                    </a:lnTo>
                    <a:lnTo>
                      <a:pt x="2443" y="4169"/>
                    </a:lnTo>
                    <a:lnTo>
                      <a:pt x="2488" y="4043"/>
                    </a:lnTo>
                    <a:lnTo>
                      <a:pt x="2488" y="4043"/>
                    </a:lnTo>
                    <a:lnTo>
                      <a:pt x="2618" y="3615"/>
                    </a:lnTo>
                    <a:lnTo>
                      <a:pt x="0" y="3615"/>
                    </a:lnTo>
                    <a:lnTo>
                      <a:pt x="3299" y="0"/>
                    </a:lnTo>
                    <a:lnTo>
                      <a:pt x="4584" y="0"/>
                    </a:lnTo>
                    <a:lnTo>
                      <a:pt x="3654" y="3013"/>
                    </a:lnTo>
                    <a:lnTo>
                      <a:pt x="3654" y="3013"/>
                    </a:lnTo>
                    <a:lnTo>
                      <a:pt x="3835" y="3006"/>
                    </a:lnTo>
                    <a:lnTo>
                      <a:pt x="4061" y="2987"/>
                    </a:lnTo>
                    <a:lnTo>
                      <a:pt x="4238" y="2962"/>
                    </a:lnTo>
                    <a:lnTo>
                      <a:pt x="4238" y="2962"/>
                    </a:lnTo>
                    <a:lnTo>
                      <a:pt x="4439" y="2907"/>
                    </a:lnTo>
                    <a:lnTo>
                      <a:pt x="4636" y="2828"/>
                    </a:lnTo>
                    <a:lnTo>
                      <a:pt x="4828" y="2723"/>
                    </a:lnTo>
                    <a:lnTo>
                      <a:pt x="4828" y="2723"/>
                    </a:lnTo>
                  </a:path>
                </a:pathLst>
              </a:custGeom>
              <a:solidFill>
                <a:srgbClr val="ffcc66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808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658440" y="6030360"/>
                <a:ext cx="165240" cy="187200"/>
              </a:xfrm>
              <a:custGeom>
                <a:avLst/>
                <a:gdLst/>
                <a:ahLst/>
                <a:rect l="l" t="t" r="r" b="b"/>
                <a:pathLst>
                  <a:path w="2243" h="2533">
                    <a:moveTo>
                      <a:pt x="1481" y="2533"/>
                    </a:moveTo>
                    <a:lnTo>
                      <a:pt x="2243" y="0"/>
                    </a:lnTo>
                    <a:lnTo>
                      <a:pt x="0" y="2525"/>
                    </a:lnTo>
                    <a:lnTo>
                      <a:pt x="0" y="2525"/>
                    </a:lnTo>
                    <a:lnTo>
                      <a:pt x="203" y="2526"/>
                    </a:lnTo>
                    <a:lnTo>
                      <a:pt x="404" y="2526"/>
                    </a:lnTo>
                    <a:lnTo>
                      <a:pt x="606" y="2527"/>
                    </a:lnTo>
                    <a:lnTo>
                      <a:pt x="606" y="2527"/>
                    </a:lnTo>
                    <a:lnTo>
                      <a:pt x="798" y="2528"/>
                    </a:lnTo>
                    <a:lnTo>
                      <a:pt x="971" y="2529"/>
                    </a:lnTo>
                    <a:lnTo>
                      <a:pt x="1126" y="2531"/>
                    </a:lnTo>
                    <a:lnTo>
                      <a:pt x="1126" y="2531"/>
                    </a:lnTo>
                    <a:lnTo>
                      <a:pt x="1262" y="2532"/>
                    </a:lnTo>
                    <a:lnTo>
                      <a:pt x="1380" y="2533"/>
                    </a:lnTo>
                    <a:lnTo>
                      <a:pt x="1481" y="2533"/>
                    </a:lnTo>
                    <a:lnTo>
                      <a:pt x="1481" y="2533"/>
                    </a:lnTo>
                  </a:path>
                </a:pathLst>
              </a:custGeom>
              <a:solidFill>
                <a:srgbClr val="523e26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808000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 txBox="1"/>
            <p:nvPr/>
          </p:nvSpPr>
          <p:spPr>
            <a:xfrm>
              <a:off x="87480" y="5931000"/>
              <a:ext cx="665640" cy="237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7e"/>
                  </a:solidFill>
                  <a:latin typeface="Georgia"/>
                </a:rPr>
                <a:t>Good</a:t>
              </a:r>
              <a:endParaRPr b="1" lang="en-US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7e"/>
                </a:solidFill>
                <a:latin typeface="Georgia"/>
                <a:ea typeface="Georgia"/>
              </a:endParaRPr>
            </a:p>
          </p:txBody>
        </p:sp>
      </p:grp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4572000" y="3429000"/>
            <a:ext cx="4253040" cy="28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33"/>
                </a:solidFill>
                <a:latin typeface="Arial Black"/>
              </a:rPr>
              <a:t>Objectives</a:t>
            </a:r>
            <a:endParaRPr b="0" lang="en-US" sz="4000" spc="-1" strike="noStrike">
              <a:solidFill>
                <a:srgbClr val="660033"/>
              </a:solidFill>
              <a:latin typeface="Arial Black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674640" y="2709720"/>
            <a:ext cx="7794720" cy="1285920"/>
            <a:chOff x="674640" y="2709720"/>
            <a:chExt cx="7794720" cy="1285920"/>
          </a:xfrm>
        </p:grpSpPr>
        <p:sp>
          <p:nvSpPr>
            <p:cNvPr id="97" name=""/>
            <p:cNvSpPr/>
            <p:nvPr/>
          </p:nvSpPr>
          <p:spPr>
            <a:xfrm>
              <a:off x="674640" y="2711520"/>
              <a:ext cx="2147760" cy="128412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dfc08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43570" dir="8100000" blurRad="0" rotWithShape="0">
                <a:srgbClr val="8f5f2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0033"/>
                  </a:solidFill>
                  <a:latin typeface="Arial"/>
                </a:rPr>
                <a:t>Seek </a:t>
              </a:r>
              <a:endParaRPr b="0" lang="en-US" sz="2400" spc="-1" strike="noStrike">
                <a:solidFill>
                  <a:srgbClr val="808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0033"/>
                  </a:solidFill>
                  <a:latin typeface="Arial"/>
                </a:rPr>
                <a:t>Potential </a:t>
              </a:r>
              <a:endParaRPr b="0" lang="en-US" sz="2400" spc="-1" strike="noStrike">
                <a:solidFill>
                  <a:srgbClr val="808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0033"/>
                  </a:solidFill>
                  <a:latin typeface="Arial"/>
                </a:rPr>
                <a:t>Investors</a:t>
              </a:r>
              <a:endParaRPr b="0" lang="en-US" sz="2400" spc="-1" strike="noStrike">
                <a:solidFill>
                  <a:srgbClr val="808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97400" y="2709720"/>
              <a:ext cx="2147760" cy="1284480"/>
            </a:xfrm>
            <a:prstGeom prst="rect">
              <a:avLst/>
            </a:prstGeom>
            <a:gradFill rotWithShape="0">
              <a:gsLst>
                <a:gs pos="0">
                  <a:srgbClr val="dfc08d"/>
                </a:gs>
                <a:gs pos="100000">
                  <a:srgbClr val="ffff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43570" dir="8100000" blurRad="0" rotWithShape="0">
                <a:srgbClr val="8f5f2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0033"/>
                  </a:solidFill>
                  <a:latin typeface="Arial"/>
                </a:rPr>
                <a:t>Investigate </a:t>
              </a:r>
              <a:endParaRPr b="0" lang="en-US" sz="2400" spc="-1" strike="noStrike">
                <a:solidFill>
                  <a:srgbClr val="808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0033"/>
                  </a:solidFill>
                  <a:latin typeface="Arial"/>
                </a:rPr>
                <a:t>Management</a:t>
              </a:r>
              <a:endParaRPr b="0" lang="en-US" sz="2400" spc="-1" strike="noStrike">
                <a:solidFill>
                  <a:srgbClr val="808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0033"/>
                  </a:solidFill>
                  <a:latin typeface="Arial"/>
                </a:rPr>
                <a:t>Systems </a:t>
              </a:r>
              <a:endParaRPr b="0" lang="en-US" sz="2400" spc="-1" strike="noStrike">
                <a:solidFill>
                  <a:srgbClr val="808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321600" y="2709720"/>
              <a:ext cx="2147760" cy="128448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dfc08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43570" dir="8100000" blurRad="0" rotWithShape="0">
                <a:srgbClr val="8f5f2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0033"/>
                  </a:solidFill>
                  <a:latin typeface="Arial"/>
                </a:rPr>
                <a:t>Research </a:t>
              </a:r>
              <a:endParaRPr b="0" lang="en-US" sz="2400" spc="-1" strike="noStrike">
                <a:solidFill>
                  <a:srgbClr val="808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0033"/>
                  </a:solidFill>
                  <a:latin typeface="Arial"/>
                </a:rPr>
                <a:t>the Web </a:t>
              </a:r>
              <a:endParaRPr b="0" lang="en-US" sz="2400" spc="-1" strike="noStrike">
                <a:solidFill>
                  <a:srgbClr val="808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4572000" y="355680"/>
            <a:ext cx="4189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33"/>
                </a:solidFill>
                <a:latin typeface="Arial Black"/>
              </a:rPr>
              <a:t>Customer Requirements</a:t>
            </a:r>
            <a:endParaRPr b="0" lang="en-US" sz="4000" spc="-1" strike="noStrike">
              <a:solidFill>
                <a:srgbClr val="660033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871640" y="2073240"/>
            <a:ext cx="7043760" cy="371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23e26"/>
                </a:solidFill>
                <a:latin typeface="Arial"/>
              </a:rPr>
              <a:t>Target health-conscious areas</a:t>
            </a:r>
            <a:endParaRPr b="1" lang="en-US" sz="2800" spc="-1" strike="noStrike">
              <a:solidFill>
                <a:srgbClr val="523e2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23e26"/>
                </a:solidFill>
                <a:latin typeface="Arial"/>
              </a:rPr>
              <a:t>Study traffic patterns in selected areas</a:t>
            </a:r>
            <a:endParaRPr b="1" lang="en-US" sz="2800" spc="-1" strike="noStrike">
              <a:solidFill>
                <a:srgbClr val="523e2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23e26"/>
                </a:solidFill>
                <a:latin typeface="Arial"/>
              </a:rPr>
              <a:t>Interview potential customer base </a:t>
            </a:r>
            <a:endParaRPr b="1" lang="en-US" sz="28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23e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23e26"/>
                </a:solidFill>
                <a:latin typeface="Arial"/>
              </a:rPr>
              <a:t>food preferences</a:t>
            </a:r>
            <a:endParaRPr b="1" lang="en-US" sz="24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23e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23e26"/>
                </a:solidFill>
                <a:latin typeface="Arial"/>
              </a:rPr>
              <a:t>sports preferences </a:t>
            </a:r>
            <a:endParaRPr b="1" lang="en-US" sz="2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206360" y="2124000"/>
            <a:ext cx="514440" cy="408240"/>
          </a:xfrm>
          <a:custGeom>
            <a:avLst/>
            <a:gdLst>
              <a:gd name="textAreaLeft" fmla="*/ 89280 w 514440"/>
              <a:gd name="textAreaRight" fmla="*/ 425160 w 514440"/>
              <a:gd name="textAreaTop" fmla="*/ 101880 h 408240"/>
              <a:gd name="textAreaBottom" fmla="*/ 306360 h 4082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096" y="5400"/>
                </a:lnTo>
                <a:lnTo>
                  <a:pt x="14096" y="0"/>
                </a:lnTo>
                <a:lnTo>
                  <a:pt x="21600" y="10800"/>
                </a:lnTo>
                <a:lnTo>
                  <a:pt x="14096" y="21600"/>
                </a:lnTo>
                <a:lnTo>
                  <a:pt x="14096" y="16200"/>
                </a:lnTo>
                <a:lnTo>
                  <a:pt x="0" y="16200"/>
                </a:lnTo>
                <a:lnTo>
                  <a:pt x="3752" y="108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8f5f2f"/>
              </a:gs>
              <a:gs pos="100000">
                <a:srgbClr val="523e2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808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06360" y="2631960"/>
            <a:ext cx="514440" cy="408240"/>
          </a:xfrm>
          <a:custGeom>
            <a:avLst/>
            <a:gdLst>
              <a:gd name="textAreaLeft" fmla="*/ 89280 w 514440"/>
              <a:gd name="textAreaRight" fmla="*/ 425160 w 514440"/>
              <a:gd name="textAreaTop" fmla="*/ 101880 h 408240"/>
              <a:gd name="textAreaBottom" fmla="*/ 306360 h 4082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096" y="5400"/>
                </a:lnTo>
                <a:lnTo>
                  <a:pt x="14096" y="0"/>
                </a:lnTo>
                <a:lnTo>
                  <a:pt x="21600" y="10800"/>
                </a:lnTo>
                <a:lnTo>
                  <a:pt x="14096" y="21600"/>
                </a:lnTo>
                <a:lnTo>
                  <a:pt x="14096" y="16200"/>
                </a:lnTo>
                <a:lnTo>
                  <a:pt x="0" y="16200"/>
                </a:lnTo>
                <a:lnTo>
                  <a:pt x="3752" y="108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8f5f2f"/>
              </a:gs>
              <a:gs pos="100000">
                <a:srgbClr val="523e2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808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206360" y="3139920"/>
            <a:ext cx="514440" cy="408240"/>
          </a:xfrm>
          <a:custGeom>
            <a:avLst/>
            <a:gdLst>
              <a:gd name="textAreaLeft" fmla="*/ 89280 w 514440"/>
              <a:gd name="textAreaRight" fmla="*/ 425160 w 514440"/>
              <a:gd name="textAreaTop" fmla="*/ 101880 h 408240"/>
              <a:gd name="textAreaBottom" fmla="*/ 306360 h 4082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096" y="5400"/>
                </a:lnTo>
                <a:lnTo>
                  <a:pt x="14096" y="0"/>
                </a:lnTo>
                <a:lnTo>
                  <a:pt x="21600" y="10800"/>
                </a:lnTo>
                <a:lnTo>
                  <a:pt x="14096" y="21600"/>
                </a:lnTo>
                <a:lnTo>
                  <a:pt x="14096" y="16200"/>
                </a:lnTo>
                <a:lnTo>
                  <a:pt x="0" y="16200"/>
                </a:lnTo>
                <a:lnTo>
                  <a:pt x="3752" y="108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8f5f2f"/>
              </a:gs>
              <a:gs pos="100000">
                <a:srgbClr val="523e2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8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2236680" y="1276200"/>
            <a:ext cx="4453200" cy="4453200"/>
          </a:xfrm>
          <a:prstGeom prst="rect">
            <a:avLst/>
          </a:prstGeom>
          <a:solidFill>
            <a:srgbClr val="808000"/>
          </a:solidFill>
          <a:ln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808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550960" y="1376280"/>
            <a:ext cx="3802320" cy="4162680"/>
          </a:xfrm>
          <a:prstGeom prst="diamond">
            <a:avLst/>
          </a:prstGeom>
          <a:solidFill>
            <a:srgbClr val="dfc0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808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959200" y="1930320"/>
            <a:ext cx="3128760" cy="3129120"/>
          </a:xfrm>
          <a:prstGeom prst="rect">
            <a:avLst/>
          </a:prstGeom>
          <a:solidFill>
            <a:srgbClr val="bea99c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808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535200" y="2457360"/>
            <a:ext cx="1973520" cy="1973520"/>
          </a:xfrm>
          <a:prstGeom prst="ellipse">
            <a:avLst/>
          </a:prstGeom>
          <a:solidFill>
            <a:srgbClr val="660033"/>
          </a:solidFill>
          <a:ln w="93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8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2419200" y="5950080"/>
            <a:ext cx="4307040" cy="474480"/>
          </a:xfrm>
          <a:prstGeom prst="rect">
            <a:avLst/>
          </a:prstGeom>
          <a:solidFill>
            <a:srgbClr val="dfc0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Arial"/>
              </a:rPr>
              <a:t>Seek ideas from everyone</a:t>
            </a:r>
            <a:endParaRPr b="0" lang="en-US" sz="2400" spc="-1" strike="noStrike">
              <a:solidFill>
                <a:srgbClr val="808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716200" y="5468760"/>
            <a:ext cx="3713040" cy="474840"/>
          </a:xfrm>
          <a:prstGeom prst="rect">
            <a:avLst/>
          </a:prstGeom>
          <a:solidFill>
            <a:srgbClr val="bea9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Arial"/>
              </a:rPr>
              <a:t>Involve all in decisions</a:t>
            </a:r>
            <a:endParaRPr b="0" lang="en-US" sz="2400" spc="-1" strike="noStrike">
              <a:solidFill>
                <a:srgbClr val="808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986200" y="4991040"/>
            <a:ext cx="3171600" cy="474840"/>
          </a:xfrm>
          <a:prstGeom prst="rect">
            <a:avLst/>
          </a:prstGeom>
          <a:solidFill>
            <a:srgbClr val="dfc0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Arial"/>
              </a:rPr>
              <a:t>Share the results</a:t>
            </a:r>
            <a:endParaRPr b="0" lang="en-US" sz="2400" spc="-1" strike="noStrike">
              <a:solidFill>
                <a:srgbClr val="808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44680" y="4524480"/>
            <a:ext cx="2654640" cy="474480"/>
          </a:xfrm>
          <a:prstGeom prst="rect">
            <a:avLst/>
          </a:prstGeom>
          <a:solidFill>
            <a:srgbClr val="bea9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Arial"/>
              </a:rPr>
              <a:t>Share the credit</a:t>
            </a:r>
            <a:endParaRPr b="0" lang="en-US" sz="2400" spc="-1" strike="noStrike">
              <a:solidFill>
                <a:srgbClr val="808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432160" y="860400"/>
            <a:ext cx="4281480" cy="1432080"/>
          </a:xfrm>
          <a:custGeom>
            <a:avLst/>
            <a:gdLst>
              <a:gd name="textAreaLeft" fmla="*/ 673200 w 4281480"/>
              <a:gd name="textAreaRight" fmla="*/ 3608280 w 4281480"/>
              <a:gd name="textAreaTop" fmla="*/ 143280 h 1432080"/>
              <a:gd name="textAreaBottom" fmla="*/ 906480 h 1432080"/>
            </a:gdLst>
            <a:ahLst/>
            <a:rect l="textAreaLeft" t="textAreaTop" r="textAreaRight" b="textAreaBottom"/>
            <a:pathLst>
              <a:path w="21600" h="21600">
                <a:moveTo>
                  <a:pt x="0" y="7926"/>
                </a:moveTo>
                <a:arcTo wR="21600" hR="35746" stAng="-6553957" swAng="407911"/>
                <a:lnTo>
                  <a:pt x="3396" y="2166"/>
                </a:lnTo>
                <a:arcTo wR="21600" hR="35746" stAng="-6146046" swAng="1492091"/>
                <a:lnTo>
                  <a:pt x="18204" y="5303"/>
                </a:lnTo>
                <a:arcTo wR="21600" hR="35746" stAng="-4653954" swAng="407911"/>
                <a:lnTo>
                  <a:pt x="18900" y="12582"/>
                </a:lnTo>
                <a:lnTo>
                  <a:pt x="21600" y="21600"/>
                </a:lnTo>
                <a:lnTo>
                  <a:pt x="21600" y="21600"/>
                </a:lnTo>
                <a:arcTo wR="21600" hR="35746" stAng="-4246043" swAng="-693215"/>
                <a:lnTo>
                  <a:pt x="15504" y="14532"/>
                </a:lnTo>
                <a:arcTo wR="21600" hR="35746" stAng="-4939258" swAng="-921484"/>
                <a:lnTo>
                  <a:pt x="6096" y="17669"/>
                </a:lnTo>
                <a:arcTo wR="21600" hR="35746" stAng="-5860742" swAng="-693215"/>
                <a:lnTo>
                  <a:pt x="2700" y="12582"/>
                </a:lnTo>
                <a:close/>
              </a:path>
              <a:path fill="none" w="21600" h="21600">
                <a:moveTo>
                  <a:pt x="6096" y="14532"/>
                </a:moveTo>
                <a:arcTo wR="21600" hR="35746" stAng="-5860742" swAng="-285304"/>
                <a:lnTo>
                  <a:pt x="6096" y="17669"/>
                </a:lnTo>
              </a:path>
              <a:path fill="none" w="21600" h="21600">
                <a:moveTo>
                  <a:pt x="15504" y="14532"/>
                </a:moveTo>
                <a:arcTo wR="21600" hR="35746" stAng="-4939258" swAng="285304"/>
                <a:lnTo>
                  <a:pt x="15504" y="17669"/>
                </a:lnTo>
              </a:path>
              <a:path fill="none" w="21600" h="21600">
                <a:moveTo>
                  <a:pt x="3396" y="5303"/>
                </a:moveTo>
                <a:lnTo>
                  <a:pt x="3396" y="15840"/>
                </a:lnTo>
              </a:path>
              <a:path fill="none" w="21600" h="21600">
                <a:moveTo>
                  <a:pt x="18204" y="5303"/>
                </a:moveTo>
                <a:lnTo>
                  <a:pt x="18204" y="15840"/>
                </a:lnTo>
              </a:path>
            </a:pathLst>
          </a:custGeom>
          <a:gradFill rotWithShape="0">
            <a:gsLst>
              <a:gs pos="0">
                <a:srgbClr val="dfc08d"/>
              </a:gs>
              <a:gs pos="50000">
                <a:srgbClr val="ffffcc"/>
              </a:gs>
              <a:gs pos="100000">
                <a:srgbClr val="dfc08d"/>
              </a:gs>
            </a:gsLst>
            <a:lin ang="10800000"/>
          </a:gradFill>
          <a:ln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808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409920" y="1020600"/>
            <a:ext cx="2325600" cy="69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7270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0">
                  <a:noFill/>
                </a:ln>
                <a:gradFill rotWithShape="0">
                  <a:gsLst>
                    <a:gs pos="0">
                      <a:srgbClr val="8f5f2f"/>
                    </a:gs>
                    <a:gs pos="100000">
                      <a:srgbClr val="660033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2d2015"/>
                  </a:outerShdw>
                </a:effectLst>
                <a:latin typeface="Impact"/>
              </a:rPr>
              <a:t> </a:t>
            </a:r>
            <a:r>
              <a:rPr b="0" lang="en-US" sz="6600" spc="1" strike="noStrike">
                <a:ln w="0">
                  <a:noFill/>
                </a:ln>
                <a:gradFill rotWithShape="0">
                  <a:gsLst>
                    <a:gs pos="0">
                      <a:srgbClr val="8f5f2f"/>
                    </a:gs>
                    <a:gs pos="100000">
                      <a:srgbClr val="660033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2d2015"/>
                  </a:outerShdw>
                </a:effectLst>
                <a:latin typeface="Impact"/>
              </a:rPr>
              <a:t>Teamwork</a:t>
            </a:r>
            <a:endParaRPr b="0" lang="en-US" sz="6600" spc="1" strike="noStrike">
              <a:ln w="0">
                <a:noFill/>
              </a:ln>
              <a:gradFill rotWithShape="0">
                <a:gsLst>
                  <a:gs pos="0">
                    <a:srgbClr val="8f5f2f"/>
                  </a:gs>
                  <a:gs pos="100000">
                    <a:srgbClr val="660033"/>
                  </a:gs>
                </a:gsLst>
                <a:lin ang="8100000"/>
              </a:gradFill>
              <a:effectLst>
                <a:outerShdw dist="17819" dir="2700000" blurRad="0" rotWithShape="0">
                  <a:srgbClr val="2d2015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3054240" y="2120760"/>
            <a:ext cx="3036960" cy="243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16:28:05Z</dcterms:created>
  <dc:creator>Pat Graves</dc:creator>
  <dc:description/>
  <dc:language>en-US</dc:language>
  <cp:lastModifiedBy>Pat Graves</cp:lastModifiedBy>
  <dcterms:modified xsi:type="dcterms:W3CDTF">2004-03-04T04:53:54Z</dcterms:modified>
  <cp:revision>15</cp:revision>
  <dc:subject/>
  <dc:title>Slide 1</dc:title>
</cp:coreProperties>
</file>