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94C8-BEF3-4B6D-BE3E-8A02707B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3422-DC85-4EC8-A055-C9CEAAD31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9BE-79F6-4977-8C53-67E66E6CF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A29-3694-4832-98B1-EA3A10A5B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F7B13-0581-4498-822C-2D7381179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D49B-3216-4E8B-9AC1-D90A2483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5041-8244-4E0D-B6DA-DE9159621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08A6D-6F34-4331-8B30-965E39747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1AEC-7AA5-4D0F-BD5A-E9C71D66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CECD1-B9CF-4C96-A010-D6A356FE9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5911-6193-4820-A452-94F9D347C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B160-C19E-44AD-88EF-7F4341E7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AE8BA-0068-4ECA-B0EF-C7BFABE1E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F8172-FFED-415D-899C-3DF9DFE05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23EB9-E166-46E3-8781-4C3510D5A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3695-311A-4BE8-A585-B38C45C04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7584-09D5-4654-81A2-9DE6CB049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24A-BB91-4FEB-913B-B18F91281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C6E-9987-4A05-A035-5BE0A065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29F9-DD90-4A81-911E-681D5A60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DFA6-5A99-4D46-8D16-EBA244B1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826C-98DD-48C9-B3C7-E06C16EEA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8B9F-E925-4782-BF53-19DE8D34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4A327-F075-462E-98CC-6748F133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505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7E625-278A-4980-A0D3-7B5AC8A68053}" type="slidenum">
              <a:rPr b="0" lang="en-US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7157880" y="4979520"/>
            <a:ext cx="1962720" cy="1986480"/>
            <a:chOff x="7157880" y="4979520"/>
            <a:chExt cx="1962720" cy="1986480"/>
          </a:xfrm>
        </p:grpSpPr>
        <p:grpSp>
          <p:nvGrpSpPr>
            <p:cNvPr id="10" name=""/>
            <p:cNvGrpSpPr/>
            <p:nvPr/>
          </p:nvGrpSpPr>
          <p:grpSpPr>
            <a:xfrm>
              <a:off x="7548840" y="4979520"/>
              <a:ext cx="1571760" cy="1986480"/>
              <a:chOff x="7548840" y="4979520"/>
              <a:chExt cx="1571760" cy="1986480"/>
            </a:xfrm>
          </p:grpSpPr>
          <p:sp>
            <p:nvSpPr>
              <p:cNvPr id="11" name=""/>
              <p:cNvSpPr/>
              <p:nvPr/>
            </p:nvSpPr>
            <p:spPr>
              <a:xfrm rot="1519200">
                <a:off x="7884360" y="5086800"/>
                <a:ext cx="900360" cy="1771560"/>
              </a:xfrm>
              <a:custGeom>
                <a:avLst/>
                <a:gdLst/>
                <a:ahLst/>
                <a:rect l="l" t="t" r="r" b="b"/>
                <a:pathLst>
                  <a:path w="883" h="1731">
                    <a:moveTo>
                      <a:pt x="493" y="129"/>
                    </a:moveTo>
                    <a:lnTo>
                      <a:pt x="491" y="130"/>
                    </a:lnTo>
                    <a:lnTo>
                      <a:pt x="489" y="132"/>
                    </a:lnTo>
                    <a:lnTo>
                      <a:pt x="488" y="134"/>
                    </a:lnTo>
                    <a:lnTo>
                      <a:pt x="488" y="137"/>
                    </a:lnTo>
                    <a:lnTo>
                      <a:pt x="486" y="139"/>
                    </a:lnTo>
                    <a:lnTo>
                      <a:pt x="486" y="142"/>
                    </a:lnTo>
                    <a:lnTo>
                      <a:pt x="484" y="144"/>
                    </a:lnTo>
                    <a:lnTo>
                      <a:pt x="483" y="145"/>
                    </a:lnTo>
                    <a:lnTo>
                      <a:pt x="479" y="153"/>
                    </a:lnTo>
                    <a:lnTo>
                      <a:pt x="478" y="160"/>
                    </a:lnTo>
                    <a:lnTo>
                      <a:pt x="476" y="167"/>
                    </a:lnTo>
                    <a:lnTo>
                      <a:pt x="476" y="172"/>
                    </a:lnTo>
                    <a:lnTo>
                      <a:pt x="475" y="178"/>
                    </a:lnTo>
                    <a:lnTo>
                      <a:pt x="475" y="185"/>
                    </a:lnTo>
                    <a:lnTo>
                      <a:pt x="475" y="191"/>
                    </a:lnTo>
                    <a:lnTo>
                      <a:pt x="473" y="198"/>
                    </a:lnTo>
                    <a:lnTo>
                      <a:pt x="471" y="215"/>
                    </a:lnTo>
                    <a:lnTo>
                      <a:pt x="471" y="229"/>
                    </a:lnTo>
                    <a:lnTo>
                      <a:pt x="473" y="244"/>
                    </a:lnTo>
                    <a:lnTo>
                      <a:pt x="475" y="259"/>
                    </a:lnTo>
                    <a:lnTo>
                      <a:pt x="476" y="274"/>
                    </a:lnTo>
                    <a:lnTo>
                      <a:pt x="479" y="289"/>
                    </a:lnTo>
                    <a:lnTo>
                      <a:pt x="483" y="305"/>
                    </a:lnTo>
                    <a:lnTo>
                      <a:pt x="488" y="320"/>
                    </a:lnTo>
                    <a:lnTo>
                      <a:pt x="479" y="315"/>
                    </a:lnTo>
                    <a:lnTo>
                      <a:pt x="473" y="310"/>
                    </a:lnTo>
                    <a:lnTo>
                      <a:pt x="465" y="305"/>
                    </a:lnTo>
                    <a:lnTo>
                      <a:pt x="458" y="300"/>
                    </a:lnTo>
                    <a:lnTo>
                      <a:pt x="450" y="297"/>
                    </a:lnTo>
                    <a:lnTo>
                      <a:pt x="441" y="294"/>
                    </a:lnTo>
                    <a:lnTo>
                      <a:pt x="433" y="292"/>
                    </a:lnTo>
                    <a:lnTo>
                      <a:pt x="423" y="290"/>
                    </a:lnTo>
                    <a:lnTo>
                      <a:pt x="422" y="294"/>
                    </a:lnTo>
                    <a:lnTo>
                      <a:pt x="420" y="295"/>
                    </a:lnTo>
                    <a:lnTo>
                      <a:pt x="418" y="297"/>
                    </a:lnTo>
                    <a:lnTo>
                      <a:pt x="417" y="300"/>
                    </a:lnTo>
                    <a:lnTo>
                      <a:pt x="417" y="302"/>
                    </a:lnTo>
                    <a:lnTo>
                      <a:pt x="415" y="304"/>
                    </a:lnTo>
                    <a:lnTo>
                      <a:pt x="415" y="305"/>
                    </a:lnTo>
                    <a:lnTo>
                      <a:pt x="415" y="307"/>
                    </a:lnTo>
                    <a:lnTo>
                      <a:pt x="417" y="309"/>
                    </a:lnTo>
                    <a:lnTo>
                      <a:pt x="420" y="312"/>
                    </a:lnTo>
                    <a:lnTo>
                      <a:pt x="422" y="314"/>
                    </a:lnTo>
                    <a:lnTo>
                      <a:pt x="423" y="317"/>
                    </a:lnTo>
                    <a:lnTo>
                      <a:pt x="425" y="319"/>
                    </a:lnTo>
                    <a:lnTo>
                      <a:pt x="428" y="320"/>
                    </a:lnTo>
                    <a:lnTo>
                      <a:pt x="430" y="323"/>
                    </a:lnTo>
                    <a:lnTo>
                      <a:pt x="430" y="327"/>
                    </a:lnTo>
                    <a:lnTo>
                      <a:pt x="413" y="333"/>
                    </a:lnTo>
                    <a:lnTo>
                      <a:pt x="394" y="338"/>
                    </a:lnTo>
                    <a:lnTo>
                      <a:pt x="375" y="345"/>
                    </a:lnTo>
                    <a:lnTo>
                      <a:pt x="355" y="353"/>
                    </a:lnTo>
                    <a:lnTo>
                      <a:pt x="337" y="363"/>
                    </a:lnTo>
                    <a:lnTo>
                      <a:pt x="321" y="375"/>
                    </a:lnTo>
                    <a:lnTo>
                      <a:pt x="314" y="381"/>
                    </a:lnTo>
                    <a:lnTo>
                      <a:pt x="308" y="390"/>
                    </a:lnTo>
                    <a:lnTo>
                      <a:pt x="301" y="399"/>
                    </a:lnTo>
                    <a:lnTo>
                      <a:pt x="298" y="409"/>
                    </a:lnTo>
                    <a:lnTo>
                      <a:pt x="289" y="427"/>
                    </a:lnTo>
                    <a:lnTo>
                      <a:pt x="281" y="444"/>
                    </a:lnTo>
                    <a:lnTo>
                      <a:pt x="273" y="462"/>
                    </a:lnTo>
                    <a:lnTo>
                      <a:pt x="263" y="479"/>
                    </a:lnTo>
                    <a:lnTo>
                      <a:pt x="256" y="497"/>
                    </a:lnTo>
                    <a:lnTo>
                      <a:pt x="250" y="513"/>
                    </a:lnTo>
                    <a:lnTo>
                      <a:pt x="246" y="531"/>
                    </a:lnTo>
                    <a:lnTo>
                      <a:pt x="245" y="550"/>
                    </a:lnTo>
                    <a:lnTo>
                      <a:pt x="243" y="555"/>
                    </a:lnTo>
                    <a:lnTo>
                      <a:pt x="240" y="558"/>
                    </a:lnTo>
                    <a:lnTo>
                      <a:pt x="238" y="563"/>
                    </a:lnTo>
                    <a:lnTo>
                      <a:pt x="236" y="566"/>
                    </a:lnTo>
                    <a:lnTo>
                      <a:pt x="235" y="571"/>
                    </a:lnTo>
                    <a:lnTo>
                      <a:pt x="231" y="576"/>
                    </a:lnTo>
                    <a:lnTo>
                      <a:pt x="230" y="579"/>
                    </a:lnTo>
                    <a:lnTo>
                      <a:pt x="228" y="584"/>
                    </a:lnTo>
                    <a:lnTo>
                      <a:pt x="223" y="597"/>
                    </a:lnTo>
                    <a:lnTo>
                      <a:pt x="218" y="611"/>
                    </a:lnTo>
                    <a:lnTo>
                      <a:pt x="217" y="624"/>
                    </a:lnTo>
                    <a:lnTo>
                      <a:pt x="213" y="637"/>
                    </a:lnTo>
                    <a:lnTo>
                      <a:pt x="212" y="650"/>
                    </a:lnTo>
                    <a:lnTo>
                      <a:pt x="210" y="665"/>
                    </a:lnTo>
                    <a:lnTo>
                      <a:pt x="207" y="678"/>
                    </a:lnTo>
                    <a:lnTo>
                      <a:pt x="202" y="690"/>
                    </a:lnTo>
                    <a:lnTo>
                      <a:pt x="202" y="700"/>
                    </a:lnTo>
                    <a:lnTo>
                      <a:pt x="200" y="708"/>
                    </a:lnTo>
                    <a:lnTo>
                      <a:pt x="200" y="716"/>
                    </a:lnTo>
                    <a:lnTo>
                      <a:pt x="200" y="725"/>
                    </a:lnTo>
                    <a:lnTo>
                      <a:pt x="198" y="733"/>
                    </a:lnTo>
                    <a:lnTo>
                      <a:pt x="198" y="741"/>
                    </a:lnTo>
                    <a:lnTo>
                      <a:pt x="198" y="749"/>
                    </a:lnTo>
                    <a:lnTo>
                      <a:pt x="198" y="759"/>
                    </a:lnTo>
                    <a:lnTo>
                      <a:pt x="197" y="767"/>
                    </a:lnTo>
                    <a:lnTo>
                      <a:pt x="195" y="776"/>
                    </a:lnTo>
                    <a:lnTo>
                      <a:pt x="193" y="784"/>
                    </a:lnTo>
                    <a:lnTo>
                      <a:pt x="192" y="792"/>
                    </a:lnTo>
                    <a:lnTo>
                      <a:pt x="188" y="800"/>
                    </a:lnTo>
                    <a:lnTo>
                      <a:pt x="187" y="809"/>
                    </a:lnTo>
                    <a:lnTo>
                      <a:pt x="183" y="819"/>
                    </a:lnTo>
                    <a:lnTo>
                      <a:pt x="182" y="827"/>
                    </a:lnTo>
                    <a:lnTo>
                      <a:pt x="179" y="860"/>
                    </a:lnTo>
                    <a:lnTo>
                      <a:pt x="177" y="891"/>
                    </a:lnTo>
                    <a:lnTo>
                      <a:pt x="177" y="926"/>
                    </a:lnTo>
                    <a:lnTo>
                      <a:pt x="175" y="959"/>
                    </a:lnTo>
                    <a:lnTo>
                      <a:pt x="172" y="992"/>
                    </a:lnTo>
                    <a:lnTo>
                      <a:pt x="165" y="1025"/>
                    </a:lnTo>
                    <a:lnTo>
                      <a:pt x="160" y="1040"/>
                    </a:lnTo>
                    <a:lnTo>
                      <a:pt x="155" y="1056"/>
                    </a:lnTo>
                    <a:lnTo>
                      <a:pt x="149" y="1071"/>
                    </a:lnTo>
                    <a:lnTo>
                      <a:pt x="142" y="1088"/>
                    </a:lnTo>
                    <a:lnTo>
                      <a:pt x="142" y="1104"/>
                    </a:lnTo>
                    <a:lnTo>
                      <a:pt x="142" y="1121"/>
                    </a:lnTo>
                    <a:lnTo>
                      <a:pt x="139" y="1137"/>
                    </a:lnTo>
                    <a:lnTo>
                      <a:pt x="136" y="1155"/>
                    </a:lnTo>
                    <a:lnTo>
                      <a:pt x="131" y="1172"/>
                    </a:lnTo>
                    <a:lnTo>
                      <a:pt x="124" y="1188"/>
                    </a:lnTo>
                    <a:lnTo>
                      <a:pt x="117" y="1205"/>
                    </a:lnTo>
                    <a:lnTo>
                      <a:pt x="112" y="1221"/>
                    </a:lnTo>
                    <a:lnTo>
                      <a:pt x="109" y="1230"/>
                    </a:lnTo>
                    <a:lnTo>
                      <a:pt x="106" y="1238"/>
                    </a:lnTo>
                    <a:lnTo>
                      <a:pt x="102" y="1246"/>
                    </a:lnTo>
                    <a:lnTo>
                      <a:pt x="99" y="1253"/>
                    </a:lnTo>
                    <a:lnTo>
                      <a:pt x="96" y="1261"/>
                    </a:lnTo>
                    <a:lnTo>
                      <a:pt x="93" y="1269"/>
                    </a:lnTo>
                    <a:lnTo>
                      <a:pt x="91" y="1277"/>
                    </a:lnTo>
                    <a:lnTo>
                      <a:pt x="89" y="1284"/>
                    </a:lnTo>
                    <a:lnTo>
                      <a:pt x="83" y="1324"/>
                    </a:lnTo>
                    <a:lnTo>
                      <a:pt x="78" y="1362"/>
                    </a:lnTo>
                    <a:lnTo>
                      <a:pt x="73" y="1401"/>
                    </a:lnTo>
                    <a:lnTo>
                      <a:pt x="66" y="1441"/>
                    </a:lnTo>
                    <a:lnTo>
                      <a:pt x="58" y="1479"/>
                    </a:lnTo>
                    <a:lnTo>
                      <a:pt x="50" y="1518"/>
                    </a:lnTo>
                    <a:lnTo>
                      <a:pt x="43" y="1537"/>
                    </a:lnTo>
                    <a:lnTo>
                      <a:pt x="36" y="1556"/>
                    </a:lnTo>
                    <a:lnTo>
                      <a:pt x="30" y="1576"/>
                    </a:lnTo>
                    <a:lnTo>
                      <a:pt x="20" y="1594"/>
                    </a:lnTo>
                    <a:lnTo>
                      <a:pt x="16" y="1611"/>
                    </a:lnTo>
                    <a:lnTo>
                      <a:pt x="11" y="1626"/>
                    </a:lnTo>
                    <a:lnTo>
                      <a:pt x="7" y="1642"/>
                    </a:lnTo>
                    <a:lnTo>
                      <a:pt x="3" y="1659"/>
                    </a:lnTo>
                    <a:lnTo>
                      <a:pt x="2" y="1674"/>
                    </a:lnTo>
                    <a:lnTo>
                      <a:pt x="0" y="1690"/>
                    </a:lnTo>
                    <a:lnTo>
                      <a:pt x="2" y="1705"/>
                    </a:lnTo>
                    <a:lnTo>
                      <a:pt x="7" y="1720"/>
                    </a:lnTo>
                    <a:lnTo>
                      <a:pt x="10" y="1723"/>
                    </a:lnTo>
                    <a:lnTo>
                      <a:pt x="13" y="1725"/>
                    </a:lnTo>
                    <a:lnTo>
                      <a:pt x="16" y="1728"/>
                    </a:lnTo>
                    <a:lnTo>
                      <a:pt x="18" y="1730"/>
                    </a:lnTo>
                    <a:lnTo>
                      <a:pt x="21" y="1730"/>
                    </a:lnTo>
                    <a:lnTo>
                      <a:pt x="25" y="1731"/>
                    </a:lnTo>
                    <a:lnTo>
                      <a:pt x="28" y="1730"/>
                    </a:lnTo>
                    <a:lnTo>
                      <a:pt x="31" y="1730"/>
                    </a:lnTo>
                    <a:lnTo>
                      <a:pt x="43" y="1705"/>
                    </a:lnTo>
                    <a:lnTo>
                      <a:pt x="56" y="1682"/>
                    </a:lnTo>
                    <a:lnTo>
                      <a:pt x="71" y="1659"/>
                    </a:lnTo>
                    <a:lnTo>
                      <a:pt x="86" y="1636"/>
                    </a:lnTo>
                    <a:lnTo>
                      <a:pt x="102" y="1613"/>
                    </a:lnTo>
                    <a:lnTo>
                      <a:pt x="119" y="1589"/>
                    </a:lnTo>
                    <a:lnTo>
                      <a:pt x="136" y="1568"/>
                    </a:lnTo>
                    <a:lnTo>
                      <a:pt x="154" y="1548"/>
                    </a:lnTo>
                    <a:lnTo>
                      <a:pt x="159" y="1537"/>
                    </a:lnTo>
                    <a:lnTo>
                      <a:pt x="165" y="1527"/>
                    </a:lnTo>
                    <a:lnTo>
                      <a:pt x="172" y="1517"/>
                    </a:lnTo>
                    <a:lnTo>
                      <a:pt x="177" y="1505"/>
                    </a:lnTo>
                    <a:lnTo>
                      <a:pt x="183" y="1495"/>
                    </a:lnTo>
                    <a:lnTo>
                      <a:pt x="187" y="1484"/>
                    </a:lnTo>
                    <a:lnTo>
                      <a:pt x="190" y="1472"/>
                    </a:lnTo>
                    <a:lnTo>
                      <a:pt x="192" y="1461"/>
                    </a:lnTo>
                    <a:lnTo>
                      <a:pt x="197" y="1454"/>
                    </a:lnTo>
                    <a:lnTo>
                      <a:pt x="202" y="1447"/>
                    </a:lnTo>
                    <a:lnTo>
                      <a:pt x="205" y="1441"/>
                    </a:lnTo>
                    <a:lnTo>
                      <a:pt x="210" y="1433"/>
                    </a:lnTo>
                    <a:lnTo>
                      <a:pt x="213" y="1426"/>
                    </a:lnTo>
                    <a:lnTo>
                      <a:pt x="217" y="1419"/>
                    </a:lnTo>
                    <a:lnTo>
                      <a:pt x="222" y="1414"/>
                    </a:lnTo>
                    <a:lnTo>
                      <a:pt x="225" y="1408"/>
                    </a:lnTo>
                    <a:lnTo>
                      <a:pt x="243" y="1380"/>
                    </a:lnTo>
                    <a:lnTo>
                      <a:pt x="263" y="1353"/>
                    </a:lnTo>
                    <a:lnTo>
                      <a:pt x="283" y="1327"/>
                    </a:lnTo>
                    <a:lnTo>
                      <a:pt x="304" y="1302"/>
                    </a:lnTo>
                    <a:lnTo>
                      <a:pt x="324" y="1276"/>
                    </a:lnTo>
                    <a:lnTo>
                      <a:pt x="344" y="1249"/>
                    </a:lnTo>
                    <a:lnTo>
                      <a:pt x="362" y="1223"/>
                    </a:lnTo>
                    <a:lnTo>
                      <a:pt x="380" y="1193"/>
                    </a:lnTo>
                    <a:lnTo>
                      <a:pt x="380" y="1190"/>
                    </a:lnTo>
                    <a:lnTo>
                      <a:pt x="382" y="1188"/>
                    </a:lnTo>
                    <a:lnTo>
                      <a:pt x="382" y="1185"/>
                    </a:lnTo>
                    <a:lnTo>
                      <a:pt x="384" y="1182"/>
                    </a:lnTo>
                    <a:lnTo>
                      <a:pt x="385" y="1178"/>
                    </a:lnTo>
                    <a:lnTo>
                      <a:pt x="385" y="1175"/>
                    </a:lnTo>
                    <a:lnTo>
                      <a:pt x="387" y="1172"/>
                    </a:lnTo>
                    <a:lnTo>
                      <a:pt x="389" y="1170"/>
                    </a:lnTo>
                    <a:lnTo>
                      <a:pt x="390" y="1165"/>
                    </a:lnTo>
                    <a:lnTo>
                      <a:pt x="390" y="1160"/>
                    </a:lnTo>
                    <a:lnTo>
                      <a:pt x="390" y="1157"/>
                    </a:lnTo>
                    <a:lnTo>
                      <a:pt x="392" y="1154"/>
                    </a:lnTo>
                    <a:lnTo>
                      <a:pt x="392" y="1149"/>
                    </a:lnTo>
                    <a:lnTo>
                      <a:pt x="392" y="1145"/>
                    </a:lnTo>
                    <a:lnTo>
                      <a:pt x="392" y="1142"/>
                    </a:lnTo>
                    <a:lnTo>
                      <a:pt x="392" y="1139"/>
                    </a:lnTo>
                    <a:lnTo>
                      <a:pt x="392" y="1136"/>
                    </a:lnTo>
                    <a:lnTo>
                      <a:pt x="392" y="1132"/>
                    </a:lnTo>
                    <a:lnTo>
                      <a:pt x="392" y="1129"/>
                    </a:lnTo>
                    <a:lnTo>
                      <a:pt x="392" y="1126"/>
                    </a:lnTo>
                    <a:lnTo>
                      <a:pt x="392" y="1122"/>
                    </a:lnTo>
                    <a:lnTo>
                      <a:pt x="392" y="1121"/>
                    </a:lnTo>
                    <a:lnTo>
                      <a:pt x="392" y="1117"/>
                    </a:lnTo>
                    <a:lnTo>
                      <a:pt x="392" y="1114"/>
                    </a:lnTo>
                    <a:lnTo>
                      <a:pt x="395" y="1104"/>
                    </a:lnTo>
                    <a:lnTo>
                      <a:pt x="400" y="1093"/>
                    </a:lnTo>
                    <a:lnTo>
                      <a:pt x="405" y="1083"/>
                    </a:lnTo>
                    <a:lnTo>
                      <a:pt x="412" y="1074"/>
                    </a:lnTo>
                    <a:lnTo>
                      <a:pt x="418" y="1065"/>
                    </a:lnTo>
                    <a:lnTo>
                      <a:pt x="425" y="1056"/>
                    </a:lnTo>
                    <a:lnTo>
                      <a:pt x="432" y="1046"/>
                    </a:lnTo>
                    <a:lnTo>
                      <a:pt x="437" y="1036"/>
                    </a:lnTo>
                    <a:lnTo>
                      <a:pt x="468" y="995"/>
                    </a:lnTo>
                    <a:lnTo>
                      <a:pt x="499" y="952"/>
                    </a:lnTo>
                    <a:lnTo>
                      <a:pt x="532" y="913"/>
                    </a:lnTo>
                    <a:lnTo>
                      <a:pt x="564" y="871"/>
                    </a:lnTo>
                    <a:lnTo>
                      <a:pt x="595" y="830"/>
                    </a:lnTo>
                    <a:lnTo>
                      <a:pt x="623" y="787"/>
                    </a:lnTo>
                    <a:lnTo>
                      <a:pt x="637" y="766"/>
                    </a:lnTo>
                    <a:lnTo>
                      <a:pt x="650" y="743"/>
                    </a:lnTo>
                    <a:lnTo>
                      <a:pt x="661" y="720"/>
                    </a:lnTo>
                    <a:lnTo>
                      <a:pt x="673" y="697"/>
                    </a:lnTo>
                    <a:lnTo>
                      <a:pt x="678" y="685"/>
                    </a:lnTo>
                    <a:lnTo>
                      <a:pt x="683" y="675"/>
                    </a:lnTo>
                    <a:lnTo>
                      <a:pt x="686" y="663"/>
                    </a:lnTo>
                    <a:lnTo>
                      <a:pt x="690" y="654"/>
                    </a:lnTo>
                    <a:lnTo>
                      <a:pt x="691" y="642"/>
                    </a:lnTo>
                    <a:lnTo>
                      <a:pt x="694" y="630"/>
                    </a:lnTo>
                    <a:lnTo>
                      <a:pt x="696" y="621"/>
                    </a:lnTo>
                    <a:lnTo>
                      <a:pt x="698" y="609"/>
                    </a:lnTo>
                    <a:lnTo>
                      <a:pt x="701" y="588"/>
                    </a:lnTo>
                    <a:lnTo>
                      <a:pt x="704" y="566"/>
                    </a:lnTo>
                    <a:lnTo>
                      <a:pt x="704" y="545"/>
                    </a:lnTo>
                    <a:lnTo>
                      <a:pt x="703" y="523"/>
                    </a:lnTo>
                    <a:lnTo>
                      <a:pt x="699" y="502"/>
                    </a:lnTo>
                    <a:lnTo>
                      <a:pt x="694" y="482"/>
                    </a:lnTo>
                    <a:lnTo>
                      <a:pt x="688" y="460"/>
                    </a:lnTo>
                    <a:lnTo>
                      <a:pt x="681" y="441"/>
                    </a:lnTo>
                    <a:lnTo>
                      <a:pt x="680" y="434"/>
                    </a:lnTo>
                    <a:lnTo>
                      <a:pt x="676" y="429"/>
                    </a:lnTo>
                    <a:lnTo>
                      <a:pt x="673" y="424"/>
                    </a:lnTo>
                    <a:lnTo>
                      <a:pt x="668" y="419"/>
                    </a:lnTo>
                    <a:lnTo>
                      <a:pt x="663" y="416"/>
                    </a:lnTo>
                    <a:lnTo>
                      <a:pt x="661" y="413"/>
                    </a:lnTo>
                    <a:lnTo>
                      <a:pt x="660" y="408"/>
                    </a:lnTo>
                    <a:lnTo>
                      <a:pt x="661" y="403"/>
                    </a:lnTo>
                    <a:lnTo>
                      <a:pt x="632" y="376"/>
                    </a:lnTo>
                    <a:lnTo>
                      <a:pt x="648" y="371"/>
                    </a:lnTo>
                    <a:lnTo>
                      <a:pt x="666" y="365"/>
                    </a:lnTo>
                    <a:lnTo>
                      <a:pt x="685" y="358"/>
                    </a:lnTo>
                    <a:lnTo>
                      <a:pt x="703" y="350"/>
                    </a:lnTo>
                    <a:lnTo>
                      <a:pt x="721" y="342"/>
                    </a:lnTo>
                    <a:lnTo>
                      <a:pt x="737" y="333"/>
                    </a:lnTo>
                    <a:lnTo>
                      <a:pt x="754" y="325"/>
                    </a:lnTo>
                    <a:lnTo>
                      <a:pt x="771" y="317"/>
                    </a:lnTo>
                    <a:lnTo>
                      <a:pt x="774" y="315"/>
                    </a:lnTo>
                    <a:lnTo>
                      <a:pt x="777" y="312"/>
                    </a:lnTo>
                    <a:lnTo>
                      <a:pt x="780" y="310"/>
                    </a:lnTo>
                    <a:lnTo>
                      <a:pt x="782" y="309"/>
                    </a:lnTo>
                    <a:lnTo>
                      <a:pt x="785" y="305"/>
                    </a:lnTo>
                    <a:lnTo>
                      <a:pt x="787" y="302"/>
                    </a:lnTo>
                    <a:lnTo>
                      <a:pt x="789" y="300"/>
                    </a:lnTo>
                    <a:lnTo>
                      <a:pt x="790" y="297"/>
                    </a:lnTo>
                    <a:lnTo>
                      <a:pt x="787" y="292"/>
                    </a:lnTo>
                    <a:lnTo>
                      <a:pt x="784" y="289"/>
                    </a:lnTo>
                    <a:lnTo>
                      <a:pt x="779" y="286"/>
                    </a:lnTo>
                    <a:lnTo>
                      <a:pt x="772" y="286"/>
                    </a:lnTo>
                    <a:lnTo>
                      <a:pt x="767" y="286"/>
                    </a:lnTo>
                    <a:lnTo>
                      <a:pt x="761" y="286"/>
                    </a:lnTo>
                    <a:lnTo>
                      <a:pt x="754" y="287"/>
                    </a:lnTo>
                    <a:lnTo>
                      <a:pt x="749" y="287"/>
                    </a:lnTo>
                    <a:lnTo>
                      <a:pt x="734" y="290"/>
                    </a:lnTo>
                    <a:lnTo>
                      <a:pt x="721" y="294"/>
                    </a:lnTo>
                    <a:lnTo>
                      <a:pt x="708" y="297"/>
                    </a:lnTo>
                    <a:lnTo>
                      <a:pt x="694" y="300"/>
                    </a:lnTo>
                    <a:lnTo>
                      <a:pt x="680" y="305"/>
                    </a:lnTo>
                    <a:lnTo>
                      <a:pt x="666" y="310"/>
                    </a:lnTo>
                    <a:lnTo>
                      <a:pt x="653" y="317"/>
                    </a:lnTo>
                    <a:lnTo>
                      <a:pt x="640" y="322"/>
                    </a:lnTo>
                    <a:lnTo>
                      <a:pt x="671" y="290"/>
                    </a:lnTo>
                    <a:lnTo>
                      <a:pt x="704" y="259"/>
                    </a:lnTo>
                    <a:lnTo>
                      <a:pt x="741" y="229"/>
                    </a:lnTo>
                    <a:lnTo>
                      <a:pt x="777" y="198"/>
                    </a:lnTo>
                    <a:lnTo>
                      <a:pt x="794" y="182"/>
                    </a:lnTo>
                    <a:lnTo>
                      <a:pt x="810" y="165"/>
                    </a:lnTo>
                    <a:lnTo>
                      <a:pt x="827" y="149"/>
                    </a:lnTo>
                    <a:lnTo>
                      <a:pt x="840" y="132"/>
                    </a:lnTo>
                    <a:lnTo>
                      <a:pt x="853" y="112"/>
                    </a:lnTo>
                    <a:lnTo>
                      <a:pt x="865" y="94"/>
                    </a:lnTo>
                    <a:lnTo>
                      <a:pt x="875" y="73"/>
                    </a:lnTo>
                    <a:lnTo>
                      <a:pt x="883" y="51"/>
                    </a:lnTo>
                    <a:lnTo>
                      <a:pt x="881" y="48"/>
                    </a:lnTo>
                    <a:lnTo>
                      <a:pt x="878" y="45"/>
                    </a:lnTo>
                    <a:lnTo>
                      <a:pt x="875" y="41"/>
                    </a:lnTo>
                    <a:lnTo>
                      <a:pt x="871" y="40"/>
                    </a:lnTo>
                    <a:lnTo>
                      <a:pt x="868" y="40"/>
                    </a:lnTo>
                    <a:lnTo>
                      <a:pt x="865" y="40"/>
                    </a:lnTo>
                    <a:lnTo>
                      <a:pt x="862" y="40"/>
                    </a:lnTo>
                    <a:lnTo>
                      <a:pt x="857" y="40"/>
                    </a:lnTo>
                    <a:lnTo>
                      <a:pt x="848" y="41"/>
                    </a:lnTo>
                    <a:lnTo>
                      <a:pt x="842" y="45"/>
                    </a:lnTo>
                    <a:lnTo>
                      <a:pt x="833" y="50"/>
                    </a:lnTo>
                    <a:lnTo>
                      <a:pt x="827" y="53"/>
                    </a:lnTo>
                    <a:lnTo>
                      <a:pt x="820" y="58"/>
                    </a:lnTo>
                    <a:lnTo>
                      <a:pt x="814" y="63"/>
                    </a:lnTo>
                    <a:lnTo>
                      <a:pt x="807" y="68"/>
                    </a:lnTo>
                    <a:lnTo>
                      <a:pt x="799" y="73"/>
                    </a:lnTo>
                    <a:lnTo>
                      <a:pt x="774" y="91"/>
                    </a:lnTo>
                    <a:lnTo>
                      <a:pt x="751" y="112"/>
                    </a:lnTo>
                    <a:lnTo>
                      <a:pt x="729" y="132"/>
                    </a:lnTo>
                    <a:lnTo>
                      <a:pt x="708" y="153"/>
                    </a:lnTo>
                    <a:lnTo>
                      <a:pt x="686" y="175"/>
                    </a:lnTo>
                    <a:lnTo>
                      <a:pt x="666" y="196"/>
                    </a:lnTo>
                    <a:lnTo>
                      <a:pt x="648" y="220"/>
                    </a:lnTo>
                    <a:lnTo>
                      <a:pt x="630" y="243"/>
                    </a:lnTo>
                    <a:lnTo>
                      <a:pt x="630" y="239"/>
                    </a:lnTo>
                    <a:lnTo>
                      <a:pt x="630" y="234"/>
                    </a:lnTo>
                    <a:lnTo>
                      <a:pt x="632" y="231"/>
                    </a:lnTo>
                    <a:lnTo>
                      <a:pt x="633" y="228"/>
                    </a:lnTo>
                    <a:lnTo>
                      <a:pt x="635" y="224"/>
                    </a:lnTo>
                    <a:lnTo>
                      <a:pt x="637" y="220"/>
                    </a:lnTo>
                    <a:lnTo>
                      <a:pt x="638" y="215"/>
                    </a:lnTo>
                    <a:lnTo>
                      <a:pt x="640" y="210"/>
                    </a:lnTo>
                    <a:lnTo>
                      <a:pt x="648" y="188"/>
                    </a:lnTo>
                    <a:lnTo>
                      <a:pt x="656" y="168"/>
                    </a:lnTo>
                    <a:lnTo>
                      <a:pt x="665" y="147"/>
                    </a:lnTo>
                    <a:lnTo>
                      <a:pt x="671" y="127"/>
                    </a:lnTo>
                    <a:lnTo>
                      <a:pt x="678" y="107"/>
                    </a:lnTo>
                    <a:lnTo>
                      <a:pt x="683" y="86"/>
                    </a:lnTo>
                    <a:lnTo>
                      <a:pt x="688" y="64"/>
                    </a:lnTo>
                    <a:lnTo>
                      <a:pt x="693" y="41"/>
                    </a:lnTo>
                    <a:lnTo>
                      <a:pt x="693" y="36"/>
                    </a:lnTo>
                    <a:lnTo>
                      <a:pt x="693" y="30"/>
                    </a:lnTo>
                    <a:lnTo>
                      <a:pt x="691" y="23"/>
                    </a:lnTo>
                    <a:lnTo>
                      <a:pt x="690" y="18"/>
                    </a:lnTo>
                    <a:lnTo>
                      <a:pt x="688" y="13"/>
                    </a:lnTo>
                    <a:lnTo>
                      <a:pt x="685" y="8"/>
                    </a:lnTo>
                    <a:lnTo>
                      <a:pt x="681" y="3"/>
                    </a:lnTo>
                    <a:lnTo>
                      <a:pt x="676" y="0"/>
                    </a:lnTo>
                    <a:lnTo>
                      <a:pt x="666" y="2"/>
                    </a:lnTo>
                    <a:lnTo>
                      <a:pt x="656" y="5"/>
                    </a:lnTo>
                    <a:lnTo>
                      <a:pt x="648" y="10"/>
                    </a:lnTo>
                    <a:lnTo>
                      <a:pt x="642" y="17"/>
                    </a:lnTo>
                    <a:lnTo>
                      <a:pt x="635" y="23"/>
                    </a:lnTo>
                    <a:lnTo>
                      <a:pt x="628" y="31"/>
                    </a:lnTo>
                    <a:lnTo>
                      <a:pt x="623" y="38"/>
                    </a:lnTo>
                    <a:lnTo>
                      <a:pt x="617" y="46"/>
                    </a:lnTo>
                    <a:lnTo>
                      <a:pt x="613" y="51"/>
                    </a:lnTo>
                    <a:lnTo>
                      <a:pt x="610" y="56"/>
                    </a:lnTo>
                    <a:lnTo>
                      <a:pt x="607" y="61"/>
                    </a:lnTo>
                    <a:lnTo>
                      <a:pt x="604" y="66"/>
                    </a:lnTo>
                    <a:lnTo>
                      <a:pt x="600" y="71"/>
                    </a:lnTo>
                    <a:lnTo>
                      <a:pt x="599" y="76"/>
                    </a:lnTo>
                    <a:lnTo>
                      <a:pt x="597" y="81"/>
                    </a:lnTo>
                    <a:lnTo>
                      <a:pt x="594" y="87"/>
                    </a:lnTo>
                    <a:lnTo>
                      <a:pt x="587" y="106"/>
                    </a:lnTo>
                    <a:lnTo>
                      <a:pt x="579" y="122"/>
                    </a:lnTo>
                    <a:lnTo>
                      <a:pt x="572" y="139"/>
                    </a:lnTo>
                    <a:lnTo>
                      <a:pt x="567" y="155"/>
                    </a:lnTo>
                    <a:lnTo>
                      <a:pt x="561" y="173"/>
                    </a:lnTo>
                    <a:lnTo>
                      <a:pt x="557" y="190"/>
                    </a:lnTo>
                    <a:lnTo>
                      <a:pt x="552" y="208"/>
                    </a:lnTo>
                    <a:lnTo>
                      <a:pt x="549" y="228"/>
                    </a:lnTo>
                    <a:lnTo>
                      <a:pt x="537" y="167"/>
                    </a:lnTo>
                    <a:lnTo>
                      <a:pt x="534" y="160"/>
                    </a:lnTo>
                    <a:lnTo>
                      <a:pt x="532" y="153"/>
                    </a:lnTo>
                    <a:lnTo>
                      <a:pt x="529" y="147"/>
                    </a:lnTo>
                    <a:lnTo>
                      <a:pt x="526" y="142"/>
                    </a:lnTo>
                    <a:lnTo>
                      <a:pt x="522" y="135"/>
                    </a:lnTo>
                    <a:lnTo>
                      <a:pt x="518" y="130"/>
                    </a:lnTo>
                    <a:lnTo>
                      <a:pt x="511" y="127"/>
                    </a:lnTo>
                    <a:lnTo>
                      <a:pt x="504" y="124"/>
                    </a:lnTo>
                    <a:lnTo>
                      <a:pt x="503" y="124"/>
                    </a:lnTo>
                    <a:lnTo>
                      <a:pt x="501" y="125"/>
                    </a:lnTo>
                    <a:lnTo>
                      <a:pt x="499" y="125"/>
                    </a:lnTo>
                    <a:lnTo>
                      <a:pt x="498" y="125"/>
                    </a:lnTo>
                    <a:lnTo>
                      <a:pt x="496" y="125"/>
                    </a:lnTo>
                    <a:lnTo>
                      <a:pt x="496" y="127"/>
                    </a:lnTo>
                    <a:lnTo>
                      <a:pt x="494" y="127"/>
                    </a:lnTo>
                    <a:lnTo>
                      <a:pt x="493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rot="1519200">
                <a:off x="8648640" y="5321160"/>
                <a:ext cx="42480" cy="211320"/>
              </a:xfrm>
              <a:custGeom>
                <a:avLst/>
                <a:gdLst/>
                <a:ahLst/>
                <a:rect l="l" t="t" r="r" b="b"/>
                <a:pathLst>
                  <a:path w="42" h="207">
                    <a:moveTo>
                      <a:pt x="17" y="0"/>
                    </a:moveTo>
                    <a:lnTo>
                      <a:pt x="9" y="25"/>
                    </a:lnTo>
                    <a:lnTo>
                      <a:pt x="4" y="51"/>
                    </a:lnTo>
                    <a:lnTo>
                      <a:pt x="0" y="78"/>
                    </a:lnTo>
                    <a:lnTo>
                      <a:pt x="0" y="104"/>
                    </a:lnTo>
                    <a:lnTo>
                      <a:pt x="4" y="131"/>
                    </a:lnTo>
                    <a:lnTo>
                      <a:pt x="10" y="157"/>
                    </a:lnTo>
                    <a:lnTo>
                      <a:pt x="19" y="182"/>
                    </a:lnTo>
                    <a:lnTo>
                      <a:pt x="30" y="207"/>
                    </a:lnTo>
                    <a:lnTo>
                      <a:pt x="35" y="180"/>
                    </a:lnTo>
                    <a:lnTo>
                      <a:pt x="38" y="154"/>
                    </a:lnTo>
                    <a:lnTo>
                      <a:pt x="42" y="129"/>
                    </a:lnTo>
                    <a:lnTo>
                      <a:pt x="42" y="103"/>
                    </a:lnTo>
                    <a:lnTo>
                      <a:pt x="40" y="78"/>
                    </a:lnTo>
                    <a:lnTo>
                      <a:pt x="35" y="51"/>
                    </a:lnTo>
                    <a:lnTo>
                      <a:pt x="29" y="27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9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rot="1519200">
                <a:off x="7836480" y="5399640"/>
                <a:ext cx="682920" cy="1386360"/>
              </a:xfrm>
              <a:custGeom>
                <a:avLst/>
                <a:gdLst/>
                <a:ahLst/>
                <a:rect l="l" t="t" r="r" b="b"/>
                <a:pathLst>
                  <a:path w="670" h="1355">
                    <a:moveTo>
                      <a:pt x="316" y="28"/>
                    </a:moveTo>
                    <a:lnTo>
                      <a:pt x="301" y="49"/>
                    </a:lnTo>
                    <a:lnTo>
                      <a:pt x="288" y="71"/>
                    </a:lnTo>
                    <a:lnTo>
                      <a:pt x="276" y="92"/>
                    </a:lnTo>
                    <a:lnTo>
                      <a:pt x="266" y="115"/>
                    </a:lnTo>
                    <a:lnTo>
                      <a:pt x="258" y="140"/>
                    </a:lnTo>
                    <a:lnTo>
                      <a:pt x="250" y="163"/>
                    </a:lnTo>
                    <a:lnTo>
                      <a:pt x="243" y="188"/>
                    </a:lnTo>
                    <a:lnTo>
                      <a:pt x="237" y="211"/>
                    </a:lnTo>
                    <a:lnTo>
                      <a:pt x="235" y="216"/>
                    </a:lnTo>
                    <a:lnTo>
                      <a:pt x="232" y="219"/>
                    </a:lnTo>
                    <a:lnTo>
                      <a:pt x="230" y="224"/>
                    </a:lnTo>
                    <a:lnTo>
                      <a:pt x="227" y="229"/>
                    </a:lnTo>
                    <a:lnTo>
                      <a:pt x="225" y="233"/>
                    </a:lnTo>
                    <a:lnTo>
                      <a:pt x="223" y="237"/>
                    </a:lnTo>
                    <a:lnTo>
                      <a:pt x="220" y="241"/>
                    </a:lnTo>
                    <a:lnTo>
                      <a:pt x="218" y="246"/>
                    </a:lnTo>
                    <a:lnTo>
                      <a:pt x="220" y="254"/>
                    </a:lnTo>
                    <a:lnTo>
                      <a:pt x="223" y="259"/>
                    </a:lnTo>
                    <a:lnTo>
                      <a:pt x="228" y="264"/>
                    </a:lnTo>
                    <a:lnTo>
                      <a:pt x="235" y="269"/>
                    </a:lnTo>
                    <a:lnTo>
                      <a:pt x="242" y="272"/>
                    </a:lnTo>
                    <a:lnTo>
                      <a:pt x="248" y="275"/>
                    </a:lnTo>
                    <a:lnTo>
                      <a:pt x="253" y="280"/>
                    </a:lnTo>
                    <a:lnTo>
                      <a:pt x="258" y="285"/>
                    </a:lnTo>
                    <a:lnTo>
                      <a:pt x="253" y="287"/>
                    </a:lnTo>
                    <a:lnTo>
                      <a:pt x="248" y="287"/>
                    </a:lnTo>
                    <a:lnTo>
                      <a:pt x="243" y="285"/>
                    </a:lnTo>
                    <a:lnTo>
                      <a:pt x="237" y="284"/>
                    </a:lnTo>
                    <a:lnTo>
                      <a:pt x="232" y="282"/>
                    </a:lnTo>
                    <a:lnTo>
                      <a:pt x="227" y="279"/>
                    </a:lnTo>
                    <a:lnTo>
                      <a:pt x="222" y="275"/>
                    </a:lnTo>
                    <a:lnTo>
                      <a:pt x="215" y="272"/>
                    </a:lnTo>
                    <a:lnTo>
                      <a:pt x="215" y="282"/>
                    </a:lnTo>
                    <a:lnTo>
                      <a:pt x="213" y="290"/>
                    </a:lnTo>
                    <a:lnTo>
                      <a:pt x="210" y="300"/>
                    </a:lnTo>
                    <a:lnTo>
                      <a:pt x="208" y="308"/>
                    </a:lnTo>
                    <a:lnTo>
                      <a:pt x="205" y="318"/>
                    </a:lnTo>
                    <a:lnTo>
                      <a:pt x="204" y="327"/>
                    </a:lnTo>
                    <a:lnTo>
                      <a:pt x="202" y="337"/>
                    </a:lnTo>
                    <a:lnTo>
                      <a:pt x="200" y="345"/>
                    </a:lnTo>
                    <a:lnTo>
                      <a:pt x="200" y="358"/>
                    </a:lnTo>
                    <a:lnTo>
                      <a:pt x="199" y="370"/>
                    </a:lnTo>
                    <a:lnTo>
                      <a:pt x="197" y="383"/>
                    </a:lnTo>
                    <a:lnTo>
                      <a:pt x="197" y="394"/>
                    </a:lnTo>
                    <a:lnTo>
                      <a:pt x="197" y="406"/>
                    </a:lnTo>
                    <a:lnTo>
                      <a:pt x="200" y="417"/>
                    </a:lnTo>
                    <a:lnTo>
                      <a:pt x="204" y="422"/>
                    </a:lnTo>
                    <a:lnTo>
                      <a:pt x="207" y="426"/>
                    </a:lnTo>
                    <a:lnTo>
                      <a:pt x="212" y="431"/>
                    </a:lnTo>
                    <a:lnTo>
                      <a:pt x="218" y="434"/>
                    </a:lnTo>
                    <a:lnTo>
                      <a:pt x="220" y="436"/>
                    </a:lnTo>
                    <a:lnTo>
                      <a:pt x="223" y="437"/>
                    </a:lnTo>
                    <a:lnTo>
                      <a:pt x="227" y="437"/>
                    </a:lnTo>
                    <a:lnTo>
                      <a:pt x="230" y="439"/>
                    </a:lnTo>
                    <a:lnTo>
                      <a:pt x="232" y="440"/>
                    </a:lnTo>
                    <a:lnTo>
                      <a:pt x="235" y="442"/>
                    </a:lnTo>
                    <a:lnTo>
                      <a:pt x="237" y="445"/>
                    </a:lnTo>
                    <a:lnTo>
                      <a:pt x="240" y="450"/>
                    </a:lnTo>
                    <a:lnTo>
                      <a:pt x="233" y="452"/>
                    </a:lnTo>
                    <a:lnTo>
                      <a:pt x="228" y="452"/>
                    </a:lnTo>
                    <a:lnTo>
                      <a:pt x="222" y="450"/>
                    </a:lnTo>
                    <a:lnTo>
                      <a:pt x="217" y="449"/>
                    </a:lnTo>
                    <a:lnTo>
                      <a:pt x="210" y="445"/>
                    </a:lnTo>
                    <a:lnTo>
                      <a:pt x="205" y="442"/>
                    </a:lnTo>
                    <a:lnTo>
                      <a:pt x="200" y="439"/>
                    </a:lnTo>
                    <a:lnTo>
                      <a:pt x="195" y="436"/>
                    </a:lnTo>
                    <a:lnTo>
                      <a:pt x="189" y="447"/>
                    </a:lnTo>
                    <a:lnTo>
                      <a:pt x="184" y="460"/>
                    </a:lnTo>
                    <a:lnTo>
                      <a:pt x="182" y="473"/>
                    </a:lnTo>
                    <a:lnTo>
                      <a:pt x="179" y="487"/>
                    </a:lnTo>
                    <a:lnTo>
                      <a:pt x="179" y="502"/>
                    </a:lnTo>
                    <a:lnTo>
                      <a:pt x="177" y="515"/>
                    </a:lnTo>
                    <a:lnTo>
                      <a:pt x="175" y="528"/>
                    </a:lnTo>
                    <a:lnTo>
                      <a:pt x="175" y="540"/>
                    </a:lnTo>
                    <a:lnTo>
                      <a:pt x="175" y="548"/>
                    </a:lnTo>
                    <a:lnTo>
                      <a:pt x="175" y="554"/>
                    </a:lnTo>
                    <a:lnTo>
                      <a:pt x="177" y="561"/>
                    </a:lnTo>
                    <a:lnTo>
                      <a:pt x="179" y="568"/>
                    </a:lnTo>
                    <a:lnTo>
                      <a:pt x="180" y="574"/>
                    </a:lnTo>
                    <a:lnTo>
                      <a:pt x="185" y="579"/>
                    </a:lnTo>
                    <a:lnTo>
                      <a:pt x="189" y="584"/>
                    </a:lnTo>
                    <a:lnTo>
                      <a:pt x="195" y="589"/>
                    </a:lnTo>
                    <a:lnTo>
                      <a:pt x="197" y="589"/>
                    </a:lnTo>
                    <a:lnTo>
                      <a:pt x="197" y="591"/>
                    </a:lnTo>
                    <a:lnTo>
                      <a:pt x="199" y="591"/>
                    </a:lnTo>
                    <a:lnTo>
                      <a:pt x="199" y="591"/>
                    </a:lnTo>
                    <a:lnTo>
                      <a:pt x="200" y="591"/>
                    </a:lnTo>
                    <a:lnTo>
                      <a:pt x="200" y="591"/>
                    </a:lnTo>
                    <a:lnTo>
                      <a:pt x="200" y="592"/>
                    </a:lnTo>
                    <a:lnTo>
                      <a:pt x="202" y="592"/>
                    </a:lnTo>
                    <a:lnTo>
                      <a:pt x="202" y="592"/>
                    </a:lnTo>
                    <a:lnTo>
                      <a:pt x="204" y="594"/>
                    </a:lnTo>
                    <a:lnTo>
                      <a:pt x="204" y="596"/>
                    </a:lnTo>
                    <a:lnTo>
                      <a:pt x="202" y="596"/>
                    </a:lnTo>
                    <a:lnTo>
                      <a:pt x="202" y="597"/>
                    </a:lnTo>
                    <a:lnTo>
                      <a:pt x="202" y="599"/>
                    </a:lnTo>
                    <a:lnTo>
                      <a:pt x="200" y="599"/>
                    </a:lnTo>
                    <a:lnTo>
                      <a:pt x="199" y="599"/>
                    </a:lnTo>
                    <a:lnTo>
                      <a:pt x="195" y="597"/>
                    </a:lnTo>
                    <a:lnTo>
                      <a:pt x="192" y="597"/>
                    </a:lnTo>
                    <a:lnTo>
                      <a:pt x="189" y="596"/>
                    </a:lnTo>
                    <a:lnTo>
                      <a:pt x="185" y="594"/>
                    </a:lnTo>
                    <a:lnTo>
                      <a:pt x="184" y="594"/>
                    </a:lnTo>
                    <a:lnTo>
                      <a:pt x="180" y="592"/>
                    </a:lnTo>
                    <a:lnTo>
                      <a:pt x="177" y="592"/>
                    </a:lnTo>
                    <a:lnTo>
                      <a:pt x="175" y="592"/>
                    </a:lnTo>
                    <a:lnTo>
                      <a:pt x="174" y="597"/>
                    </a:lnTo>
                    <a:lnTo>
                      <a:pt x="175" y="601"/>
                    </a:lnTo>
                    <a:lnTo>
                      <a:pt x="177" y="606"/>
                    </a:lnTo>
                    <a:lnTo>
                      <a:pt x="179" y="609"/>
                    </a:lnTo>
                    <a:lnTo>
                      <a:pt x="182" y="612"/>
                    </a:lnTo>
                    <a:lnTo>
                      <a:pt x="185" y="615"/>
                    </a:lnTo>
                    <a:lnTo>
                      <a:pt x="190" y="619"/>
                    </a:lnTo>
                    <a:lnTo>
                      <a:pt x="194" y="622"/>
                    </a:lnTo>
                    <a:lnTo>
                      <a:pt x="192" y="624"/>
                    </a:lnTo>
                    <a:lnTo>
                      <a:pt x="190" y="625"/>
                    </a:lnTo>
                    <a:lnTo>
                      <a:pt x="189" y="625"/>
                    </a:lnTo>
                    <a:lnTo>
                      <a:pt x="187" y="625"/>
                    </a:lnTo>
                    <a:lnTo>
                      <a:pt x="184" y="625"/>
                    </a:lnTo>
                    <a:lnTo>
                      <a:pt x="180" y="625"/>
                    </a:lnTo>
                    <a:lnTo>
                      <a:pt x="179" y="625"/>
                    </a:lnTo>
                    <a:lnTo>
                      <a:pt x="175" y="625"/>
                    </a:lnTo>
                    <a:lnTo>
                      <a:pt x="174" y="630"/>
                    </a:lnTo>
                    <a:lnTo>
                      <a:pt x="174" y="637"/>
                    </a:lnTo>
                    <a:lnTo>
                      <a:pt x="172" y="642"/>
                    </a:lnTo>
                    <a:lnTo>
                      <a:pt x="172" y="648"/>
                    </a:lnTo>
                    <a:lnTo>
                      <a:pt x="170" y="653"/>
                    </a:lnTo>
                    <a:lnTo>
                      <a:pt x="169" y="658"/>
                    </a:lnTo>
                    <a:lnTo>
                      <a:pt x="167" y="663"/>
                    </a:lnTo>
                    <a:lnTo>
                      <a:pt x="164" y="670"/>
                    </a:lnTo>
                    <a:lnTo>
                      <a:pt x="162" y="676"/>
                    </a:lnTo>
                    <a:lnTo>
                      <a:pt x="159" y="683"/>
                    </a:lnTo>
                    <a:lnTo>
                      <a:pt x="156" y="688"/>
                    </a:lnTo>
                    <a:lnTo>
                      <a:pt x="152" y="695"/>
                    </a:lnTo>
                    <a:lnTo>
                      <a:pt x="149" y="701"/>
                    </a:lnTo>
                    <a:lnTo>
                      <a:pt x="149" y="706"/>
                    </a:lnTo>
                    <a:lnTo>
                      <a:pt x="147" y="713"/>
                    </a:lnTo>
                    <a:lnTo>
                      <a:pt x="151" y="718"/>
                    </a:lnTo>
                    <a:lnTo>
                      <a:pt x="152" y="721"/>
                    </a:lnTo>
                    <a:lnTo>
                      <a:pt x="156" y="726"/>
                    </a:lnTo>
                    <a:lnTo>
                      <a:pt x="159" y="729"/>
                    </a:lnTo>
                    <a:lnTo>
                      <a:pt x="161" y="733"/>
                    </a:lnTo>
                    <a:lnTo>
                      <a:pt x="164" y="736"/>
                    </a:lnTo>
                    <a:lnTo>
                      <a:pt x="165" y="739"/>
                    </a:lnTo>
                    <a:lnTo>
                      <a:pt x="169" y="741"/>
                    </a:lnTo>
                    <a:lnTo>
                      <a:pt x="172" y="743"/>
                    </a:lnTo>
                    <a:lnTo>
                      <a:pt x="172" y="743"/>
                    </a:lnTo>
                    <a:lnTo>
                      <a:pt x="174" y="743"/>
                    </a:lnTo>
                    <a:lnTo>
                      <a:pt x="174" y="744"/>
                    </a:lnTo>
                    <a:lnTo>
                      <a:pt x="175" y="744"/>
                    </a:lnTo>
                    <a:lnTo>
                      <a:pt x="175" y="746"/>
                    </a:lnTo>
                    <a:lnTo>
                      <a:pt x="175" y="746"/>
                    </a:lnTo>
                    <a:lnTo>
                      <a:pt x="175" y="747"/>
                    </a:lnTo>
                    <a:lnTo>
                      <a:pt x="175" y="747"/>
                    </a:lnTo>
                    <a:lnTo>
                      <a:pt x="170" y="749"/>
                    </a:lnTo>
                    <a:lnTo>
                      <a:pt x="167" y="747"/>
                    </a:lnTo>
                    <a:lnTo>
                      <a:pt x="162" y="747"/>
                    </a:lnTo>
                    <a:lnTo>
                      <a:pt x="157" y="746"/>
                    </a:lnTo>
                    <a:lnTo>
                      <a:pt x="152" y="743"/>
                    </a:lnTo>
                    <a:lnTo>
                      <a:pt x="149" y="739"/>
                    </a:lnTo>
                    <a:lnTo>
                      <a:pt x="144" y="736"/>
                    </a:lnTo>
                    <a:lnTo>
                      <a:pt x="141" y="733"/>
                    </a:lnTo>
                    <a:lnTo>
                      <a:pt x="139" y="743"/>
                    </a:lnTo>
                    <a:lnTo>
                      <a:pt x="137" y="751"/>
                    </a:lnTo>
                    <a:lnTo>
                      <a:pt x="139" y="759"/>
                    </a:lnTo>
                    <a:lnTo>
                      <a:pt x="142" y="767"/>
                    </a:lnTo>
                    <a:lnTo>
                      <a:pt x="147" y="774"/>
                    </a:lnTo>
                    <a:lnTo>
                      <a:pt x="152" y="780"/>
                    </a:lnTo>
                    <a:lnTo>
                      <a:pt x="159" y="787"/>
                    </a:lnTo>
                    <a:lnTo>
                      <a:pt x="165" y="792"/>
                    </a:lnTo>
                    <a:lnTo>
                      <a:pt x="139" y="785"/>
                    </a:lnTo>
                    <a:lnTo>
                      <a:pt x="137" y="792"/>
                    </a:lnTo>
                    <a:lnTo>
                      <a:pt x="136" y="797"/>
                    </a:lnTo>
                    <a:lnTo>
                      <a:pt x="134" y="804"/>
                    </a:lnTo>
                    <a:lnTo>
                      <a:pt x="132" y="809"/>
                    </a:lnTo>
                    <a:lnTo>
                      <a:pt x="131" y="815"/>
                    </a:lnTo>
                    <a:lnTo>
                      <a:pt x="129" y="820"/>
                    </a:lnTo>
                    <a:lnTo>
                      <a:pt x="126" y="825"/>
                    </a:lnTo>
                    <a:lnTo>
                      <a:pt x="122" y="830"/>
                    </a:lnTo>
                    <a:lnTo>
                      <a:pt x="119" y="840"/>
                    </a:lnTo>
                    <a:lnTo>
                      <a:pt x="116" y="848"/>
                    </a:lnTo>
                    <a:lnTo>
                      <a:pt x="113" y="858"/>
                    </a:lnTo>
                    <a:lnTo>
                      <a:pt x="111" y="866"/>
                    </a:lnTo>
                    <a:lnTo>
                      <a:pt x="108" y="876"/>
                    </a:lnTo>
                    <a:lnTo>
                      <a:pt x="104" y="884"/>
                    </a:lnTo>
                    <a:lnTo>
                      <a:pt x="101" y="894"/>
                    </a:lnTo>
                    <a:lnTo>
                      <a:pt x="96" y="903"/>
                    </a:lnTo>
                    <a:lnTo>
                      <a:pt x="96" y="908"/>
                    </a:lnTo>
                    <a:lnTo>
                      <a:pt x="96" y="913"/>
                    </a:lnTo>
                    <a:lnTo>
                      <a:pt x="99" y="917"/>
                    </a:lnTo>
                    <a:lnTo>
                      <a:pt x="103" y="921"/>
                    </a:lnTo>
                    <a:lnTo>
                      <a:pt x="108" y="924"/>
                    </a:lnTo>
                    <a:lnTo>
                      <a:pt x="111" y="927"/>
                    </a:lnTo>
                    <a:lnTo>
                      <a:pt x="114" y="931"/>
                    </a:lnTo>
                    <a:lnTo>
                      <a:pt x="118" y="934"/>
                    </a:lnTo>
                    <a:lnTo>
                      <a:pt x="119" y="936"/>
                    </a:lnTo>
                    <a:lnTo>
                      <a:pt x="122" y="936"/>
                    </a:lnTo>
                    <a:lnTo>
                      <a:pt x="126" y="937"/>
                    </a:lnTo>
                    <a:lnTo>
                      <a:pt x="127" y="937"/>
                    </a:lnTo>
                    <a:lnTo>
                      <a:pt x="131" y="939"/>
                    </a:lnTo>
                    <a:lnTo>
                      <a:pt x="132" y="939"/>
                    </a:lnTo>
                    <a:lnTo>
                      <a:pt x="134" y="942"/>
                    </a:lnTo>
                    <a:lnTo>
                      <a:pt x="134" y="946"/>
                    </a:lnTo>
                    <a:lnTo>
                      <a:pt x="127" y="946"/>
                    </a:lnTo>
                    <a:lnTo>
                      <a:pt x="121" y="946"/>
                    </a:lnTo>
                    <a:lnTo>
                      <a:pt x="116" y="944"/>
                    </a:lnTo>
                    <a:lnTo>
                      <a:pt x="109" y="942"/>
                    </a:lnTo>
                    <a:lnTo>
                      <a:pt x="103" y="939"/>
                    </a:lnTo>
                    <a:lnTo>
                      <a:pt x="98" y="937"/>
                    </a:lnTo>
                    <a:lnTo>
                      <a:pt x="93" y="932"/>
                    </a:lnTo>
                    <a:lnTo>
                      <a:pt x="88" y="929"/>
                    </a:lnTo>
                    <a:lnTo>
                      <a:pt x="86" y="931"/>
                    </a:lnTo>
                    <a:lnTo>
                      <a:pt x="84" y="934"/>
                    </a:lnTo>
                    <a:lnTo>
                      <a:pt x="84" y="936"/>
                    </a:lnTo>
                    <a:lnTo>
                      <a:pt x="83" y="937"/>
                    </a:lnTo>
                    <a:lnTo>
                      <a:pt x="83" y="941"/>
                    </a:lnTo>
                    <a:lnTo>
                      <a:pt x="81" y="942"/>
                    </a:lnTo>
                    <a:lnTo>
                      <a:pt x="81" y="946"/>
                    </a:lnTo>
                    <a:lnTo>
                      <a:pt x="79" y="947"/>
                    </a:lnTo>
                    <a:lnTo>
                      <a:pt x="78" y="950"/>
                    </a:lnTo>
                    <a:lnTo>
                      <a:pt x="78" y="954"/>
                    </a:lnTo>
                    <a:lnTo>
                      <a:pt x="78" y="957"/>
                    </a:lnTo>
                    <a:lnTo>
                      <a:pt x="78" y="959"/>
                    </a:lnTo>
                    <a:lnTo>
                      <a:pt x="78" y="962"/>
                    </a:lnTo>
                    <a:lnTo>
                      <a:pt x="79" y="965"/>
                    </a:lnTo>
                    <a:lnTo>
                      <a:pt x="81" y="967"/>
                    </a:lnTo>
                    <a:lnTo>
                      <a:pt x="81" y="969"/>
                    </a:lnTo>
                    <a:lnTo>
                      <a:pt x="84" y="972"/>
                    </a:lnTo>
                    <a:lnTo>
                      <a:pt x="86" y="975"/>
                    </a:lnTo>
                    <a:lnTo>
                      <a:pt x="89" y="979"/>
                    </a:lnTo>
                    <a:lnTo>
                      <a:pt x="91" y="982"/>
                    </a:lnTo>
                    <a:lnTo>
                      <a:pt x="94" y="985"/>
                    </a:lnTo>
                    <a:lnTo>
                      <a:pt x="96" y="988"/>
                    </a:lnTo>
                    <a:lnTo>
                      <a:pt x="98" y="990"/>
                    </a:lnTo>
                    <a:lnTo>
                      <a:pt x="101" y="992"/>
                    </a:lnTo>
                    <a:lnTo>
                      <a:pt x="101" y="993"/>
                    </a:lnTo>
                    <a:lnTo>
                      <a:pt x="101" y="995"/>
                    </a:lnTo>
                    <a:lnTo>
                      <a:pt x="103" y="995"/>
                    </a:lnTo>
                    <a:lnTo>
                      <a:pt x="103" y="997"/>
                    </a:lnTo>
                    <a:lnTo>
                      <a:pt x="103" y="997"/>
                    </a:lnTo>
                    <a:lnTo>
                      <a:pt x="103" y="997"/>
                    </a:lnTo>
                    <a:lnTo>
                      <a:pt x="103" y="998"/>
                    </a:lnTo>
                    <a:lnTo>
                      <a:pt x="103" y="998"/>
                    </a:lnTo>
                    <a:lnTo>
                      <a:pt x="75" y="987"/>
                    </a:lnTo>
                    <a:lnTo>
                      <a:pt x="75" y="995"/>
                    </a:lnTo>
                    <a:lnTo>
                      <a:pt x="75" y="1002"/>
                    </a:lnTo>
                    <a:lnTo>
                      <a:pt x="76" y="1008"/>
                    </a:lnTo>
                    <a:lnTo>
                      <a:pt x="78" y="1015"/>
                    </a:lnTo>
                    <a:lnTo>
                      <a:pt x="79" y="1021"/>
                    </a:lnTo>
                    <a:lnTo>
                      <a:pt x="84" y="1028"/>
                    </a:lnTo>
                    <a:lnTo>
                      <a:pt x="88" y="1035"/>
                    </a:lnTo>
                    <a:lnTo>
                      <a:pt x="93" y="1041"/>
                    </a:lnTo>
                    <a:lnTo>
                      <a:pt x="91" y="1041"/>
                    </a:lnTo>
                    <a:lnTo>
                      <a:pt x="89" y="1043"/>
                    </a:lnTo>
                    <a:lnTo>
                      <a:pt x="88" y="1041"/>
                    </a:lnTo>
                    <a:lnTo>
                      <a:pt x="84" y="1041"/>
                    </a:lnTo>
                    <a:lnTo>
                      <a:pt x="81" y="1040"/>
                    </a:lnTo>
                    <a:lnTo>
                      <a:pt x="79" y="1038"/>
                    </a:lnTo>
                    <a:lnTo>
                      <a:pt x="78" y="1036"/>
                    </a:lnTo>
                    <a:lnTo>
                      <a:pt x="75" y="1036"/>
                    </a:lnTo>
                    <a:lnTo>
                      <a:pt x="75" y="1041"/>
                    </a:lnTo>
                    <a:lnTo>
                      <a:pt x="73" y="1048"/>
                    </a:lnTo>
                    <a:lnTo>
                      <a:pt x="73" y="1053"/>
                    </a:lnTo>
                    <a:lnTo>
                      <a:pt x="73" y="1058"/>
                    </a:lnTo>
                    <a:lnTo>
                      <a:pt x="73" y="1063"/>
                    </a:lnTo>
                    <a:lnTo>
                      <a:pt x="75" y="1069"/>
                    </a:lnTo>
                    <a:lnTo>
                      <a:pt x="76" y="1074"/>
                    </a:lnTo>
                    <a:lnTo>
                      <a:pt x="79" y="1079"/>
                    </a:lnTo>
                    <a:lnTo>
                      <a:pt x="81" y="1081"/>
                    </a:lnTo>
                    <a:lnTo>
                      <a:pt x="81" y="1083"/>
                    </a:lnTo>
                    <a:lnTo>
                      <a:pt x="83" y="1083"/>
                    </a:lnTo>
                    <a:lnTo>
                      <a:pt x="83" y="1084"/>
                    </a:lnTo>
                    <a:lnTo>
                      <a:pt x="83" y="1086"/>
                    </a:lnTo>
                    <a:lnTo>
                      <a:pt x="84" y="1087"/>
                    </a:lnTo>
                    <a:lnTo>
                      <a:pt x="84" y="1087"/>
                    </a:lnTo>
                    <a:lnTo>
                      <a:pt x="84" y="1091"/>
                    </a:lnTo>
                    <a:lnTo>
                      <a:pt x="83" y="1091"/>
                    </a:lnTo>
                    <a:lnTo>
                      <a:pt x="83" y="1091"/>
                    </a:lnTo>
                    <a:lnTo>
                      <a:pt x="81" y="1092"/>
                    </a:lnTo>
                    <a:lnTo>
                      <a:pt x="79" y="1092"/>
                    </a:lnTo>
                    <a:lnTo>
                      <a:pt x="78" y="1092"/>
                    </a:lnTo>
                    <a:lnTo>
                      <a:pt x="76" y="1092"/>
                    </a:lnTo>
                    <a:lnTo>
                      <a:pt x="75" y="1091"/>
                    </a:lnTo>
                    <a:lnTo>
                      <a:pt x="73" y="1089"/>
                    </a:lnTo>
                    <a:lnTo>
                      <a:pt x="71" y="1089"/>
                    </a:lnTo>
                    <a:lnTo>
                      <a:pt x="71" y="1087"/>
                    </a:lnTo>
                    <a:lnTo>
                      <a:pt x="70" y="1087"/>
                    </a:lnTo>
                    <a:lnTo>
                      <a:pt x="70" y="1087"/>
                    </a:lnTo>
                    <a:lnTo>
                      <a:pt x="70" y="1086"/>
                    </a:lnTo>
                    <a:lnTo>
                      <a:pt x="68" y="1086"/>
                    </a:lnTo>
                    <a:lnTo>
                      <a:pt x="68" y="1086"/>
                    </a:lnTo>
                    <a:lnTo>
                      <a:pt x="68" y="1086"/>
                    </a:lnTo>
                    <a:lnTo>
                      <a:pt x="63" y="1097"/>
                    </a:lnTo>
                    <a:lnTo>
                      <a:pt x="60" y="1111"/>
                    </a:lnTo>
                    <a:lnTo>
                      <a:pt x="56" y="1122"/>
                    </a:lnTo>
                    <a:lnTo>
                      <a:pt x="53" y="1134"/>
                    </a:lnTo>
                    <a:lnTo>
                      <a:pt x="51" y="1147"/>
                    </a:lnTo>
                    <a:lnTo>
                      <a:pt x="48" y="1158"/>
                    </a:lnTo>
                    <a:lnTo>
                      <a:pt x="43" y="1170"/>
                    </a:lnTo>
                    <a:lnTo>
                      <a:pt x="40" y="1183"/>
                    </a:lnTo>
                    <a:lnTo>
                      <a:pt x="36" y="1190"/>
                    </a:lnTo>
                    <a:lnTo>
                      <a:pt x="35" y="1195"/>
                    </a:lnTo>
                    <a:lnTo>
                      <a:pt x="32" y="1200"/>
                    </a:lnTo>
                    <a:lnTo>
                      <a:pt x="30" y="1205"/>
                    </a:lnTo>
                    <a:lnTo>
                      <a:pt x="28" y="1211"/>
                    </a:lnTo>
                    <a:lnTo>
                      <a:pt x="28" y="1216"/>
                    </a:lnTo>
                    <a:lnTo>
                      <a:pt x="27" y="1221"/>
                    </a:lnTo>
                    <a:lnTo>
                      <a:pt x="25" y="1226"/>
                    </a:lnTo>
                    <a:lnTo>
                      <a:pt x="22" y="1234"/>
                    </a:lnTo>
                    <a:lnTo>
                      <a:pt x="18" y="1243"/>
                    </a:lnTo>
                    <a:lnTo>
                      <a:pt x="17" y="1253"/>
                    </a:lnTo>
                    <a:lnTo>
                      <a:pt x="13" y="1261"/>
                    </a:lnTo>
                    <a:lnTo>
                      <a:pt x="12" y="1269"/>
                    </a:lnTo>
                    <a:lnTo>
                      <a:pt x="8" y="1277"/>
                    </a:lnTo>
                    <a:lnTo>
                      <a:pt x="5" y="1286"/>
                    </a:lnTo>
                    <a:lnTo>
                      <a:pt x="3" y="1294"/>
                    </a:lnTo>
                    <a:lnTo>
                      <a:pt x="2" y="1302"/>
                    </a:lnTo>
                    <a:lnTo>
                      <a:pt x="0" y="1310"/>
                    </a:lnTo>
                    <a:lnTo>
                      <a:pt x="0" y="1319"/>
                    </a:lnTo>
                    <a:lnTo>
                      <a:pt x="0" y="1327"/>
                    </a:lnTo>
                    <a:lnTo>
                      <a:pt x="0" y="1335"/>
                    </a:lnTo>
                    <a:lnTo>
                      <a:pt x="2" y="1342"/>
                    </a:lnTo>
                    <a:lnTo>
                      <a:pt x="3" y="1348"/>
                    </a:lnTo>
                    <a:lnTo>
                      <a:pt x="8" y="1355"/>
                    </a:lnTo>
                    <a:lnTo>
                      <a:pt x="15" y="1333"/>
                    </a:lnTo>
                    <a:lnTo>
                      <a:pt x="23" y="1314"/>
                    </a:lnTo>
                    <a:lnTo>
                      <a:pt x="33" y="1294"/>
                    </a:lnTo>
                    <a:lnTo>
                      <a:pt x="45" y="1276"/>
                    </a:lnTo>
                    <a:lnTo>
                      <a:pt x="58" y="1257"/>
                    </a:lnTo>
                    <a:lnTo>
                      <a:pt x="71" y="1239"/>
                    </a:lnTo>
                    <a:lnTo>
                      <a:pt x="86" y="1221"/>
                    </a:lnTo>
                    <a:lnTo>
                      <a:pt x="101" y="1203"/>
                    </a:lnTo>
                    <a:lnTo>
                      <a:pt x="104" y="1198"/>
                    </a:lnTo>
                    <a:lnTo>
                      <a:pt x="108" y="1193"/>
                    </a:lnTo>
                    <a:lnTo>
                      <a:pt x="111" y="1188"/>
                    </a:lnTo>
                    <a:lnTo>
                      <a:pt x="114" y="1183"/>
                    </a:lnTo>
                    <a:lnTo>
                      <a:pt x="118" y="1178"/>
                    </a:lnTo>
                    <a:lnTo>
                      <a:pt x="122" y="1173"/>
                    </a:lnTo>
                    <a:lnTo>
                      <a:pt x="126" y="1168"/>
                    </a:lnTo>
                    <a:lnTo>
                      <a:pt x="129" y="1163"/>
                    </a:lnTo>
                    <a:lnTo>
                      <a:pt x="137" y="1140"/>
                    </a:lnTo>
                    <a:lnTo>
                      <a:pt x="147" y="1117"/>
                    </a:lnTo>
                    <a:lnTo>
                      <a:pt x="157" y="1096"/>
                    </a:lnTo>
                    <a:lnTo>
                      <a:pt x="169" y="1076"/>
                    </a:lnTo>
                    <a:lnTo>
                      <a:pt x="194" y="1035"/>
                    </a:lnTo>
                    <a:lnTo>
                      <a:pt x="222" y="995"/>
                    </a:lnTo>
                    <a:lnTo>
                      <a:pt x="250" y="957"/>
                    </a:lnTo>
                    <a:lnTo>
                      <a:pt x="280" y="921"/>
                    </a:lnTo>
                    <a:lnTo>
                      <a:pt x="308" y="883"/>
                    </a:lnTo>
                    <a:lnTo>
                      <a:pt x="336" y="845"/>
                    </a:lnTo>
                    <a:lnTo>
                      <a:pt x="337" y="840"/>
                    </a:lnTo>
                    <a:lnTo>
                      <a:pt x="341" y="837"/>
                    </a:lnTo>
                    <a:lnTo>
                      <a:pt x="342" y="833"/>
                    </a:lnTo>
                    <a:lnTo>
                      <a:pt x="344" y="830"/>
                    </a:lnTo>
                    <a:lnTo>
                      <a:pt x="346" y="825"/>
                    </a:lnTo>
                    <a:lnTo>
                      <a:pt x="347" y="822"/>
                    </a:lnTo>
                    <a:lnTo>
                      <a:pt x="347" y="818"/>
                    </a:lnTo>
                    <a:lnTo>
                      <a:pt x="347" y="815"/>
                    </a:lnTo>
                    <a:lnTo>
                      <a:pt x="351" y="797"/>
                    </a:lnTo>
                    <a:lnTo>
                      <a:pt x="354" y="779"/>
                    </a:lnTo>
                    <a:lnTo>
                      <a:pt x="357" y="759"/>
                    </a:lnTo>
                    <a:lnTo>
                      <a:pt x="362" y="741"/>
                    </a:lnTo>
                    <a:lnTo>
                      <a:pt x="367" y="723"/>
                    </a:lnTo>
                    <a:lnTo>
                      <a:pt x="374" y="706"/>
                    </a:lnTo>
                    <a:lnTo>
                      <a:pt x="379" y="696"/>
                    </a:lnTo>
                    <a:lnTo>
                      <a:pt x="385" y="688"/>
                    </a:lnTo>
                    <a:lnTo>
                      <a:pt x="390" y="681"/>
                    </a:lnTo>
                    <a:lnTo>
                      <a:pt x="399" y="673"/>
                    </a:lnTo>
                    <a:lnTo>
                      <a:pt x="409" y="655"/>
                    </a:lnTo>
                    <a:lnTo>
                      <a:pt x="420" y="639"/>
                    </a:lnTo>
                    <a:lnTo>
                      <a:pt x="432" y="622"/>
                    </a:lnTo>
                    <a:lnTo>
                      <a:pt x="443" y="606"/>
                    </a:lnTo>
                    <a:lnTo>
                      <a:pt x="470" y="576"/>
                    </a:lnTo>
                    <a:lnTo>
                      <a:pt x="496" y="544"/>
                    </a:lnTo>
                    <a:lnTo>
                      <a:pt x="523" y="515"/>
                    </a:lnTo>
                    <a:lnTo>
                      <a:pt x="547" y="483"/>
                    </a:lnTo>
                    <a:lnTo>
                      <a:pt x="559" y="467"/>
                    </a:lnTo>
                    <a:lnTo>
                      <a:pt x="571" y="449"/>
                    </a:lnTo>
                    <a:lnTo>
                      <a:pt x="579" y="432"/>
                    </a:lnTo>
                    <a:lnTo>
                      <a:pt x="589" y="412"/>
                    </a:lnTo>
                    <a:lnTo>
                      <a:pt x="594" y="401"/>
                    </a:lnTo>
                    <a:lnTo>
                      <a:pt x="599" y="391"/>
                    </a:lnTo>
                    <a:lnTo>
                      <a:pt x="605" y="381"/>
                    </a:lnTo>
                    <a:lnTo>
                      <a:pt x="612" y="371"/>
                    </a:lnTo>
                    <a:lnTo>
                      <a:pt x="619" y="360"/>
                    </a:lnTo>
                    <a:lnTo>
                      <a:pt x="625" y="350"/>
                    </a:lnTo>
                    <a:lnTo>
                      <a:pt x="632" y="338"/>
                    </a:lnTo>
                    <a:lnTo>
                      <a:pt x="638" y="327"/>
                    </a:lnTo>
                    <a:lnTo>
                      <a:pt x="643" y="317"/>
                    </a:lnTo>
                    <a:lnTo>
                      <a:pt x="647" y="307"/>
                    </a:lnTo>
                    <a:lnTo>
                      <a:pt x="650" y="297"/>
                    </a:lnTo>
                    <a:lnTo>
                      <a:pt x="653" y="285"/>
                    </a:lnTo>
                    <a:lnTo>
                      <a:pt x="655" y="275"/>
                    </a:lnTo>
                    <a:lnTo>
                      <a:pt x="658" y="264"/>
                    </a:lnTo>
                    <a:lnTo>
                      <a:pt x="660" y="254"/>
                    </a:lnTo>
                    <a:lnTo>
                      <a:pt x="662" y="242"/>
                    </a:lnTo>
                    <a:lnTo>
                      <a:pt x="662" y="237"/>
                    </a:lnTo>
                    <a:lnTo>
                      <a:pt x="663" y="233"/>
                    </a:lnTo>
                    <a:lnTo>
                      <a:pt x="663" y="228"/>
                    </a:lnTo>
                    <a:lnTo>
                      <a:pt x="665" y="223"/>
                    </a:lnTo>
                    <a:lnTo>
                      <a:pt x="667" y="218"/>
                    </a:lnTo>
                    <a:lnTo>
                      <a:pt x="667" y="214"/>
                    </a:lnTo>
                    <a:lnTo>
                      <a:pt x="668" y="209"/>
                    </a:lnTo>
                    <a:lnTo>
                      <a:pt x="668" y="204"/>
                    </a:lnTo>
                    <a:lnTo>
                      <a:pt x="668" y="200"/>
                    </a:lnTo>
                    <a:lnTo>
                      <a:pt x="670" y="195"/>
                    </a:lnTo>
                    <a:lnTo>
                      <a:pt x="668" y="190"/>
                    </a:lnTo>
                    <a:lnTo>
                      <a:pt x="668" y="185"/>
                    </a:lnTo>
                    <a:lnTo>
                      <a:pt x="668" y="180"/>
                    </a:lnTo>
                    <a:lnTo>
                      <a:pt x="668" y="176"/>
                    </a:lnTo>
                    <a:lnTo>
                      <a:pt x="668" y="171"/>
                    </a:lnTo>
                    <a:lnTo>
                      <a:pt x="668" y="167"/>
                    </a:lnTo>
                    <a:lnTo>
                      <a:pt x="667" y="160"/>
                    </a:lnTo>
                    <a:lnTo>
                      <a:pt x="667" y="152"/>
                    </a:lnTo>
                    <a:lnTo>
                      <a:pt x="665" y="143"/>
                    </a:lnTo>
                    <a:lnTo>
                      <a:pt x="663" y="137"/>
                    </a:lnTo>
                    <a:lnTo>
                      <a:pt x="662" y="130"/>
                    </a:lnTo>
                    <a:lnTo>
                      <a:pt x="658" y="124"/>
                    </a:lnTo>
                    <a:lnTo>
                      <a:pt x="655" y="117"/>
                    </a:lnTo>
                    <a:lnTo>
                      <a:pt x="650" y="110"/>
                    </a:lnTo>
                    <a:lnTo>
                      <a:pt x="647" y="114"/>
                    </a:lnTo>
                    <a:lnTo>
                      <a:pt x="642" y="114"/>
                    </a:lnTo>
                    <a:lnTo>
                      <a:pt x="638" y="115"/>
                    </a:lnTo>
                    <a:lnTo>
                      <a:pt x="633" y="115"/>
                    </a:lnTo>
                    <a:lnTo>
                      <a:pt x="629" y="115"/>
                    </a:lnTo>
                    <a:lnTo>
                      <a:pt x="624" y="115"/>
                    </a:lnTo>
                    <a:lnTo>
                      <a:pt x="620" y="117"/>
                    </a:lnTo>
                    <a:lnTo>
                      <a:pt x="615" y="120"/>
                    </a:lnTo>
                    <a:lnTo>
                      <a:pt x="615" y="124"/>
                    </a:lnTo>
                    <a:lnTo>
                      <a:pt x="614" y="127"/>
                    </a:lnTo>
                    <a:lnTo>
                      <a:pt x="614" y="130"/>
                    </a:lnTo>
                    <a:lnTo>
                      <a:pt x="612" y="133"/>
                    </a:lnTo>
                    <a:lnTo>
                      <a:pt x="609" y="137"/>
                    </a:lnTo>
                    <a:lnTo>
                      <a:pt x="607" y="140"/>
                    </a:lnTo>
                    <a:lnTo>
                      <a:pt x="604" y="142"/>
                    </a:lnTo>
                    <a:lnTo>
                      <a:pt x="599" y="143"/>
                    </a:lnTo>
                    <a:lnTo>
                      <a:pt x="589" y="143"/>
                    </a:lnTo>
                    <a:lnTo>
                      <a:pt x="579" y="142"/>
                    </a:lnTo>
                    <a:lnTo>
                      <a:pt x="571" y="140"/>
                    </a:lnTo>
                    <a:lnTo>
                      <a:pt x="561" y="137"/>
                    </a:lnTo>
                    <a:lnTo>
                      <a:pt x="552" y="133"/>
                    </a:lnTo>
                    <a:lnTo>
                      <a:pt x="543" y="130"/>
                    </a:lnTo>
                    <a:lnTo>
                      <a:pt x="534" y="124"/>
                    </a:lnTo>
                    <a:lnTo>
                      <a:pt x="526" y="119"/>
                    </a:lnTo>
                    <a:lnTo>
                      <a:pt x="519" y="122"/>
                    </a:lnTo>
                    <a:lnTo>
                      <a:pt x="513" y="125"/>
                    </a:lnTo>
                    <a:lnTo>
                      <a:pt x="504" y="127"/>
                    </a:lnTo>
                    <a:lnTo>
                      <a:pt x="496" y="129"/>
                    </a:lnTo>
                    <a:lnTo>
                      <a:pt x="488" y="129"/>
                    </a:lnTo>
                    <a:lnTo>
                      <a:pt x="480" y="129"/>
                    </a:lnTo>
                    <a:lnTo>
                      <a:pt x="473" y="125"/>
                    </a:lnTo>
                    <a:lnTo>
                      <a:pt x="465" y="122"/>
                    </a:lnTo>
                    <a:lnTo>
                      <a:pt x="463" y="119"/>
                    </a:lnTo>
                    <a:lnTo>
                      <a:pt x="460" y="115"/>
                    </a:lnTo>
                    <a:lnTo>
                      <a:pt x="458" y="112"/>
                    </a:lnTo>
                    <a:lnTo>
                      <a:pt x="457" y="109"/>
                    </a:lnTo>
                    <a:lnTo>
                      <a:pt x="457" y="107"/>
                    </a:lnTo>
                    <a:lnTo>
                      <a:pt x="455" y="104"/>
                    </a:lnTo>
                    <a:lnTo>
                      <a:pt x="457" y="100"/>
                    </a:lnTo>
                    <a:lnTo>
                      <a:pt x="457" y="97"/>
                    </a:lnTo>
                    <a:lnTo>
                      <a:pt x="457" y="96"/>
                    </a:lnTo>
                    <a:lnTo>
                      <a:pt x="455" y="97"/>
                    </a:lnTo>
                    <a:lnTo>
                      <a:pt x="453" y="97"/>
                    </a:lnTo>
                    <a:lnTo>
                      <a:pt x="452" y="97"/>
                    </a:lnTo>
                    <a:lnTo>
                      <a:pt x="452" y="99"/>
                    </a:lnTo>
                    <a:lnTo>
                      <a:pt x="450" y="99"/>
                    </a:lnTo>
                    <a:lnTo>
                      <a:pt x="452" y="100"/>
                    </a:lnTo>
                    <a:lnTo>
                      <a:pt x="452" y="100"/>
                    </a:lnTo>
                    <a:lnTo>
                      <a:pt x="443" y="100"/>
                    </a:lnTo>
                    <a:lnTo>
                      <a:pt x="435" y="99"/>
                    </a:lnTo>
                    <a:lnTo>
                      <a:pt x="427" y="97"/>
                    </a:lnTo>
                    <a:lnTo>
                      <a:pt x="419" y="94"/>
                    </a:lnTo>
                    <a:lnTo>
                      <a:pt x="410" y="91"/>
                    </a:lnTo>
                    <a:lnTo>
                      <a:pt x="402" y="86"/>
                    </a:lnTo>
                    <a:lnTo>
                      <a:pt x="395" y="79"/>
                    </a:lnTo>
                    <a:lnTo>
                      <a:pt x="390" y="72"/>
                    </a:lnTo>
                    <a:lnTo>
                      <a:pt x="390" y="71"/>
                    </a:lnTo>
                    <a:lnTo>
                      <a:pt x="390" y="71"/>
                    </a:lnTo>
                    <a:lnTo>
                      <a:pt x="390" y="69"/>
                    </a:lnTo>
                    <a:lnTo>
                      <a:pt x="390" y="69"/>
                    </a:lnTo>
                    <a:lnTo>
                      <a:pt x="390" y="67"/>
                    </a:lnTo>
                    <a:lnTo>
                      <a:pt x="390" y="67"/>
                    </a:lnTo>
                    <a:lnTo>
                      <a:pt x="390" y="66"/>
                    </a:lnTo>
                    <a:lnTo>
                      <a:pt x="390" y="66"/>
                    </a:lnTo>
                    <a:lnTo>
                      <a:pt x="384" y="64"/>
                    </a:lnTo>
                    <a:lnTo>
                      <a:pt x="376" y="63"/>
                    </a:lnTo>
                    <a:lnTo>
                      <a:pt x="369" y="61"/>
                    </a:lnTo>
                    <a:lnTo>
                      <a:pt x="361" y="59"/>
                    </a:lnTo>
                    <a:lnTo>
                      <a:pt x="354" y="56"/>
                    </a:lnTo>
                    <a:lnTo>
                      <a:pt x="347" y="53"/>
                    </a:lnTo>
                    <a:lnTo>
                      <a:pt x="342" y="48"/>
                    </a:lnTo>
                    <a:lnTo>
                      <a:pt x="337" y="41"/>
                    </a:lnTo>
                    <a:lnTo>
                      <a:pt x="339" y="36"/>
                    </a:lnTo>
                    <a:lnTo>
                      <a:pt x="341" y="31"/>
                    </a:lnTo>
                    <a:lnTo>
                      <a:pt x="344" y="28"/>
                    </a:lnTo>
                    <a:lnTo>
                      <a:pt x="347" y="25"/>
                    </a:lnTo>
                    <a:lnTo>
                      <a:pt x="352" y="21"/>
                    </a:lnTo>
                    <a:lnTo>
                      <a:pt x="356" y="20"/>
                    </a:lnTo>
                    <a:lnTo>
                      <a:pt x="361" y="18"/>
                    </a:lnTo>
                    <a:lnTo>
                      <a:pt x="362" y="16"/>
                    </a:lnTo>
                    <a:lnTo>
                      <a:pt x="366" y="15"/>
                    </a:lnTo>
                    <a:lnTo>
                      <a:pt x="367" y="15"/>
                    </a:lnTo>
                    <a:lnTo>
                      <a:pt x="369" y="15"/>
                    </a:lnTo>
                    <a:lnTo>
                      <a:pt x="371" y="15"/>
                    </a:lnTo>
                    <a:lnTo>
                      <a:pt x="372" y="15"/>
                    </a:lnTo>
                    <a:lnTo>
                      <a:pt x="374" y="15"/>
                    </a:lnTo>
                    <a:lnTo>
                      <a:pt x="376" y="13"/>
                    </a:lnTo>
                    <a:lnTo>
                      <a:pt x="377" y="11"/>
                    </a:lnTo>
                    <a:lnTo>
                      <a:pt x="376" y="10"/>
                    </a:lnTo>
                    <a:lnTo>
                      <a:pt x="374" y="8"/>
                    </a:lnTo>
                    <a:lnTo>
                      <a:pt x="372" y="6"/>
                    </a:lnTo>
                    <a:lnTo>
                      <a:pt x="371" y="5"/>
                    </a:lnTo>
                    <a:lnTo>
                      <a:pt x="369" y="3"/>
                    </a:lnTo>
                    <a:lnTo>
                      <a:pt x="367" y="1"/>
                    </a:lnTo>
                    <a:lnTo>
                      <a:pt x="364" y="0"/>
                    </a:lnTo>
                    <a:lnTo>
                      <a:pt x="362" y="0"/>
                    </a:lnTo>
                    <a:lnTo>
                      <a:pt x="354" y="1"/>
                    </a:lnTo>
                    <a:lnTo>
                      <a:pt x="347" y="3"/>
                    </a:lnTo>
                    <a:lnTo>
                      <a:pt x="342" y="8"/>
                    </a:lnTo>
                    <a:lnTo>
                      <a:pt x="337" y="11"/>
                    </a:lnTo>
                    <a:lnTo>
                      <a:pt x="333" y="16"/>
                    </a:lnTo>
                    <a:lnTo>
                      <a:pt x="328" y="21"/>
                    </a:lnTo>
                    <a:lnTo>
                      <a:pt x="323" y="26"/>
                    </a:lnTo>
                    <a:lnTo>
                      <a:pt x="316" y="28"/>
                    </a:lnTo>
                    <a:close/>
                  </a:path>
                </a:pathLst>
              </a:custGeom>
              <a:solidFill>
                <a:srgbClr val="ff9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rot="1519200">
                <a:off x="8720280" y="5241960"/>
                <a:ext cx="133560" cy="349920"/>
              </a:xfrm>
              <a:custGeom>
                <a:avLst/>
                <a:gdLst/>
                <a:ahLst/>
                <a:rect l="l" t="t" r="r" b="b"/>
                <a:pathLst>
                  <a:path w="131" h="342">
                    <a:moveTo>
                      <a:pt x="114" y="6"/>
                    </a:moveTo>
                    <a:lnTo>
                      <a:pt x="109" y="13"/>
                    </a:lnTo>
                    <a:lnTo>
                      <a:pt x="103" y="20"/>
                    </a:lnTo>
                    <a:lnTo>
                      <a:pt x="98" y="28"/>
                    </a:lnTo>
                    <a:lnTo>
                      <a:pt x="93" y="35"/>
                    </a:lnTo>
                    <a:lnTo>
                      <a:pt x="88" y="43"/>
                    </a:lnTo>
                    <a:lnTo>
                      <a:pt x="81" y="49"/>
                    </a:lnTo>
                    <a:lnTo>
                      <a:pt x="76" y="58"/>
                    </a:lnTo>
                    <a:lnTo>
                      <a:pt x="71" y="66"/>
                    </a:lnTo>
                    <a:lnTo>
                      <a:pt x="66" y="76"/>
                    </a:lnTo>
                    <a:lnTo>
                      <a:pt x="61" y="87"/>
                    </a:lnTo>
                    <a:lnTo>
                      <a:pt x="58" y="97"/>
                    </a:lnTo>
                    <a:lnTo>
                      <a:pt x="53" y="109"/>
                    </a:lnTo>
                    <a:lnTo>
                      <a:pt x="50" y="119"/>
                    </a:lnTo>
                    <a:lnTo>
                      <a:pt x="45" y="129"/>
                    </a:lnTo>
                    <a:lnTo>
                      <a:pt x="41" y="138"/>
                    </a:lnTo>
                    <a:lnTo>
                      <a:pt x="38" y="150"/>
                    </a:lnTo>
                    <a:lnTo>
                      <a:pt x="31" y="172"/>
                    </a:lnTo>
                    <a:lnTo>
                      <a:pt x="26" y="195"/>
                    </a:lnTo>
                    <a:lnTo>
                      <a:pt x="21" y="216"/>
                    </a:lnTo>
                    <a:lnTo>
                      <a:pt x="17" y="239"/>
                    </a:lnTo>
                    <a:lnTo>
                      <a:pt x="13" y="261"/>
                    </a:lnTo>
                    <a:lnTo>
                      <a:pt x="8" y="282"/>
                    </a:lnTo>
                    <a:lnTo>
                      <a:pt x="5" y="304"/>
                    </a:lnTo>
                    <a:lnTo>
                      <a:pt x="0" y="325"/>
                    </a:lnTo>
                    <a:lnTo>
                      <a:pt x="0" y="328"/>
                    </a:lnTo>
                    <a:lnTo>
                      <a:pt x="0" y="330"/>
                    </a:lnTo>
                    <a:lnTo>
                      <a:pt x="0" y="332"/>
                    </a:lnTo>
                    <a:lnTo>
                      <a:pt x="0" y="335"/>
                    </a:lnTo>
                    <a:lnTo>
                      <a:pt x="0" y="337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2"/>
                    </a:lnTo>
                    <a:lnTo>
                      <a:pt x="15" y="322"/>
                    </a:lnTo>
                    <a:lnTo>
                      <a:pt x="28" y="300"/>
                    </a:lnTo>
                    <a:lnTo>
                      <a:pt x="40" y="277"/>
                    </a:lnTo>
                    <a:lnTo>
                      <a:pt x="51" y="254"/>
                    </a:lnTo>
                    <a:lnTo>
                      <a:pt x="61" y="231"/>
                    </a:lnTo>
                    <a:lnTo>
                      <a:pt x="71" y="206"/>
                    </a:lnTo>
                    <a:lnTo>
                      <a:pt x="81" y="183"/>
                    </a:lnTo>
                    <a:lnTo>
                      <a:pt x="91" y="158"/>
                    </a:lnTo>
                    <a:lnTo>
                      <a:pt x="98" y="138"/>
                    </a:lnTo>
                    <a:lnTo>
                      <a:pt x="106" y="119"/>
                    </a:lnTo>
                    <a:lnTo>
                      <a:pt x="112" y="99"/>
                    </a:lnTo>
                    <a:lnTo>
                      <a:pt x="121" y="79"/>
                    </a:lnTo>
                    <a:lnTo>
                      <a:pt x="126" y="59"/>
                    </a:lnTo>
                    <a:lnTo>
                      <a:pt x="131" y="39"/>
                    </a:lnTo>
                    <a:lnTo>
                      <a:pt x="131" y="30"/>
                    </a:lnTo>
                    <a:lnTo>
                      <a:pt x="131" y="20"/>
                    </a:lnTo>
                    <a:lnTo>
                      <a:pt x="131" y="10"/>
                    </a:lnTo>
                    <a:lnTo>
                      <a:pt x="129" y="0"/>
                    </a:lnTo>
                    <a:lnTo>
                      <a:pt x="114" y="6"/>
                    </a:lnTo>
                    <a:close/>
                  </a:path>
                </a:pathLst>
              </a:custGeom>
              <a:solidFill>
                <a:srgbClr val="009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rot="1519200">
                <a:off x="8575920" y="5463000"/>
                <a:ext cx="10080" cy="792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rot="1519200">
                <a:off x="8553240" y="5474880"/>
                <a:ext cx="7920" cy="180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1519200">
                <a:off x="8467920" y="5507280"/>
                <a:ext cx="286560" cy="155520"/>
              </a:xfrm>
              <a:custGeom>
                <a:avLst/>
                <a:gdLst/>
                <a:ahLst/>
                <a:rect l="l" t="t" r="r" b="b"/>
                <a:pathLst>
                  <a:path w="281" h="152">
                    <a:moveTo>
                      <a:pt x="24" y="25"/>
                    </a:moveTo>
                    <a:lnTo>
                      <a:pt x="61" y="36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2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9" y="33"/>
                    </a:lnTo>
                    <a:lnTo>
                      <a:pt x="71" y="36"/>
                    </a:lnTo>
                    <a:lnTo>
                      <a:pt x="71" y="38"/>
                    </a:lnTo>
                    <a:lnTo>
                      <a:pt x="71" y="41"/>
                    </a:lnTo>
                    <a:lnTo>
                      <a:pt x="69" y="44"/>
                    </a:lnTo>
                    <a:lnTo>
                      <a:pt x="67" y="48"/>
                    </a:lnTo>
                    <a:lnTo>
                      <a:pt x="66" y="51"/>
                    </a:lnTo>
                    <a:lnTo>
                      <a:pt x="64" y="53"/>
                    </a:lnTo>
                    <a:lnTo>
                      <a:pt x="61" y="54"/>
                    </a:lnTo>
                    <a:lnTo>
                      <a:pt x="56" y="54"/>
                    </a:lnTo>
                    <a:lnTo>
                      <a:pt x="49" y="54"/>
                    </a:lnTo>
                    <a:lnTo>
                      <a:pt x="44" y="54"/>
                    </a:lnTo>
                    <a:lnTo>
                      <a:pt x="39" y="56"/>
                    </a:lnTo>
                    <a:lnTo>
                      <a:pt x="33" y="58"/>
                    </a:lnTo>
                    <a:lnTo>
                      <a:pt x="28" y="59"/>
                    </a:lnTo>
                    <a:lnTo>
                      <a:pt x="24" y="62"/>
                    </a:lnTo>
                    <a:lnTo>
                      <a:pt x="19" y="66"/>
                    </a:lnTo>
                    <a:lnTo>
                      <a:pt x="18" y="64"/>
                    </a:lnTo>
                    <a:lnTo>
                      <a:pt x="16" y="62"/>
                    </a:lnTo>
                    <a:lnTo>
                      <a:pt x="14" y="62"/>
                    </a:lnTo>
                    <a:lnTo>
                      <a:pt x="11" y="62"/>
                    </a:lnTo>
                    <a:lnTo>
                      <a:pt x="10" y="64"/>
                    </a:lnTo>
                    <a:lnTo>
                      <a:pt x="6" y="66"/>
                    </a:lnTo>
                    <a:lnTo>
                      <a:pt x="3" y="66"/>
                    </a:lnTo>
                    <a:lnTo>
                      <a:pt x="0" y="67"/>
                    </a:lnTo>
                    <a:lnTo>
                      <a:pt x="92" y="74"/>
                    </a:lnTo>
                    <a:lnTo>
                      <a:pt x="92" y="79"/>
                    </a:lnTo>
                    <a:lnTo>
                      <a:pt x="89" y="84"/>
                    </a:lnTo>
                    <a:lnTo>
                      <a:pt x="86" y="87"/>
                    </a:lnTo>
                    <a:lnTo>
                      <a:pt x="82" y="91"/>
                    </a:lnTo>
                    <a:lnTo>
                      <a:pt x="77" y="94"/>
                    </a:lnTo>
                    <a:lnTo>
                      <a:pt x="72" y="95"/>
                    </a:lnTo>
                    <a:lnTo>
                      <a:pt x="69" y="97"/>
                    </a:lnTo>
                    <a:lnTo>
                      <a:pt x="66" y="99"/>
                    </a:lnTo>
                    <a:lnTo>
                      <a:pt x="64" y="99"/>
                    </a:lnTo>
                    <a:lnTo>
                      <a:pt x="62" y="99"/>
                    </a:lnTo>
                    <a:lnTo>
                      <a:pt x="61" y="100"/>
                    </a:lnTo>
                    <a:lnTo>
                      <a:pt x="59" y="100"/>
                    </a:lnTo>
                    <a:lnTo>
                      <a:pt x="59" y="100"/>
                    </a:lnTo>
                    <a:lnTo>
                      <a:pt x="57" y="100"/>
                    </a:lnTo>
                    <a:lnTo>
                      <a:pt x="56" y="102"/>
                    </a:lnTo>
                    <a:lnTo>
                      <a:pt x="56" y="102"/>
                    </a:lnTo>
                    <a:lnTo>
                      <a:pt x="61" y="105"/>
                    </a:lnTo>
                    <a:lnTo>
                      <a:pt x="64" y="107"/>
                    </a:lnTo>
                    <a:lnTo>
                      <a:pt x="69" y="107"/>
                    </a:lnTo>
                    <a:lnTo>
                      <a:pt x="74" y="107"/>
                    </a:lnTo>
                    <a:lnTo>
                      <a:pt x="79" y="107"/>
                    </a:lnTo>
                    <a:lnTo>
                      <a:pt x="84" y="107"/>
                    </a:lnTo>
                    <a:lnTo>
                      <a:pt x="89" y="107"/>
                    </a:lnTo>
                    <a:lnTo>
                      <a:pt x="94" y="107"/>
                    </a:lnTo>
                    <a:lnTo>
                      <a:pt x="97" y="105"/>
                    </a:lnTo>
                    <a:lnTo>
                      <a:pt x="100" y="105"/>
                    </a:lnTo>
                    <a:lnTo>
                      <a:pt x="104" y="104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2" y="104"/>
                    </a:lnTo>
                    <a:lnTo>
                      <a:pt x="115" y="102"/>
                    </a:lnTo>
                    <a:lnTo>
                      <a:pt x="119" y="102"/>
                    </a:lnTo>
                    <a:lnTo>
                      <a:pt x="115" y="137"/>
                    </a:lnTo>
                    <a:lnTo>
                      <a:pt x="122" y="137"/>
                    </a:lnTo>
                    <a:lnTo>
                      <a:pt x="129" y="137"/>
                    </a:lnTo>
                    <a:lnTo>
                      <a:pt x="135" y="135"/>
                    </a:lnTo>
                    <a:lnTo>
                      <a:pt x="142" y="133"/>
                    </a:lnTo>
                    <a:lnTo>
                      <a:pt x="147" y="130"/>
                    </a:lnTo>
                    <a:lnTo>
                      <a:pt x="153" y="128"/>
                    </a:lnTo>
                    <a:lnTo>
                      <a:pt x="160" y="127"/>
                    </a:lnTo>
                    <a:lnTo>
                      <a:pt x="167" y="125"/>
                    </a:lnTo>
                    <a:lnTo>
                      <a:pt x="172" y="130"/>
                    </a:lnTo>
                    <a:lnTo>
                      <a:pt x="178" y="135"/>
                    </a:lnTo>
                    <a:lnTo>
                      <a:pt x="183" y="140"/>
                    </a:lnTo>
                    <a:lnTo>
                      <a:pt x="190" y="143"/>
                    </a:lnTo>
                    <a:lnTo>
                      <a:pt x="196" y="147"/>
                    </a:lnTo>
                    <a:lnTo>
                      <a:pt x="203" y="150"/>
                    </a:lnTo>
                    <a:lnTo>
                      <a:pt x="208" y="152"/>
                    </a:lnTo>
                    <a:lnTo>
                      <a:pt x="215" y="152"/>
                    </a:lnTo>
                    <a:lnTo>
                      <a:pt x="218" y="152"/>
                    </a:lnTo>
                    <a:lnTo>
                      <a:pt x="220" y="152"/>
                    </a:lnTo>
                    <a:lnTo>
                      <a:pt x="221" y="152"/>
                    </a:lnTo>
                    <a:lnTo>
                      <a:pt x="224" y="150"/>
                    </a:lnTo>
                    <a:lnTo>
                      <a:pt x="226" y="150"/>
                    </a:lnTo>
                    <a:lnTo>
                      <a:pt x="228" y="148"/>
                    </a:lnTo>
                    <a:lnTo>
                      <a:pt x="228" y="148"/>
                    </a:lnTo>
                    <a:lnTo>
                      <a:pt x="229" y="145"/>
                    </a:lnTo>
                    <a:lnTo>
                      <a:pt x="226" y="143"/>
                    </a:lnTo>
                    <a:lnTo>
                      <a:pt x="223" y="140"/>
                    </a:lnTo>
                    <a:lnTo>
                      <a:pt x="220" y="137"/>
                    </a:lnTo>
                    <a:lnTo>
                      <a:pt x="215" y="135"/>
                    </a:lnTo>
                    <a:lnTo>
                      <a:pt x="211" y="132"/>
                    </a:lnTo>
                    <a:lnTo>
                      <a:pt x="208" y="130"/>
                    </a:lnTo>
                    <a:lnTo>
                      <a:pt x="205" y="127"/>
                    </a:lnTo>
                    <a:lnTo>
                      <a:pt x="203" y="124"/>
                    </a:lnTo>
                    <a:lnTo>
                      <a:pt x="203" y="120"/>
                    </a:lnTo>
                    <a:lnTo>
                      <a:pt x="205" y="119"/>
                    </a:lnTo>
                    <a:lnTo>
                      <a:pt x="206" y="117"/>
                    </a:lnTo>
                    <a:lnTo>
                      <a:pt x="208" y="115"/>
                    </a:lnTo>
                    <a:lnTo>
                      <a:pt x="210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0"/>
                    </a:lnTo>
                    <a:lnTo>
                      <a:pt x="220" y="112"/>
                    </a:lnTo>
                    <a:lnTo>
                      <a:pt x="228" y="115"/>
                    </a:lnTo>
                    <a:lnTo>
                      <a:pt x="236" y="119"/>
                    </a:lnTo>
                    <a:lnTo>
                      <a:pt x="243" y="122"/>
                    </a:lnTo>
                    <a:lnTo>
                      <a:pt x="251" y="125"/>
                    </a:lnTo>
                    <a:lnTo>
                      <a:pt x="259" y="125"/>
                    </a:lnTo>
                    <a:lnTo>
                      <a:pt x="267" y="125"/>
                    </a:lnTo>
                    <a:lnTo>
                      <a:pt x="276" y="120"/>
                    </a:lnTo>
                    <a:lnTo>
                      <a:pt x="277" y="119"/>
                    </a:lnTo>
                    <a:lnTo>
                      <a:pt x="279" y="119"/>
                    </a:lnTo>
                    <a:lnTo>
                      <a:pt x="279" y="117"/>
                    </a:lnTo>
                    <a:lnTo>
                      <a:pt x="281" y="115"/>
                    </a:lnTo>
                    <a:lnTo>
                      <a:pt x="281" y="115"/>
                    </a:lnTo>
                    <a:lnTo>
                      <a:pt x="281" y="114"/>
                    </a:lnTo>
                    <a:lnTo>
                      <a:pt x="279" y="112"/>
                    </a:lnTo>
                    <a:lnTo>
                      <a:pt x="279" y="112"/>
                    </a:lnTo>
                    <a:lnTo>
                      <a:pt x="236" y="89"/>
                    </a:lnTo>
                    <a:lnTo>
                      <a:pt x="234" y="87"/>
                    </a:lnTo>
                    <a:lnTo>
                      <a:pt x="234" y="86"/>
                    </a:lnTo>
                    <a:lnTo>
                      <a:pt x="234" y="82"/>
                    </a:lnTo>
                    <a:lnTo>
                      <a:pt x="236" y="81"/>
                    </a:lnTo>
                    <a:lnTo>
                      <a:pt x="236" y="79"/>
                    </a:lnTo>
                    <a:lnTo>
                      <a:pt x="238" y="77"/>
                    </a:lnTo>
                    <a:lnTo>
                      <a:pt x="239" y="76"/>
                    </a:lnTo>
                    <a:lnTo>
                      <a:pt x="243" y="76"/>
                    </a:lnTo>
                    <a:lnTo>
                      <a:pt x="244" y="76"/>
                    </a:lnTo>
                    <a:lnTo>
                      <a:pt x="246" y="77"/>
                    </a:lnTo>
                    <a:lnTo>
                      <a:pt x="246" y="76"/>
                    </a:lnTo>
                    <a:lnTo>
                      <a:pt x="248" y="76"/>
                    </a:lnTo>
                    <a:lnTo>
                      <a:pt x="249" y="74"/>
                    </a:lnTo>
                    <a:lnTo>
                      <a:pt x="249" y="74"/>
                    </a:lnTo>
                    <a:lnTo>
                      <a:pt x="251" y="72"/>
                    </a:lnTo>
                    <a:lnTo>
                      <a:pt x="253" y="71"/>
                    </a:lnTo>
                    <a:lnTo>
                      <a:pt x="248" y="66"/>
                    </a:lnTo>
                    <a:lnTo>
                      <a:pt x="243" y="64"/>
                    </a:lnTo>
                    <a:lnTo>
                      <a:pt x="236" y="62"/>
                    </a:lnTo>
                    <a:lnTo>
                      <a:pt x="229" y="61"/>
                    </a:lnTo>
                    <a:lnTo>
                      <a:pt x="221" y="61"/>
                    </a:lnTo>
                    <a:lnTo>
                      <a:pt x="215" y="61"/>
                    </a:lnTo>
                    <a:lnTo>
                      <a:pt x="208" y="59"/>
                    </a:lnTo>
                    <a:lnTo>
                      <a:pt x="201" y="58"/>
                    </a:lnTo>
                    <a:lnTo>
                      <a:pt x="195" y="59"/>
                    </a:lnTo>
                    <a:lnTo>
                      <a:pt x="188" y="59"/>
                    </a:lnTo>
                    <a:lnTo>
                      <a:pt x="181" y="61"/>
                    </a:lnTo>
                    <a:lnTo>
                      <a:pt x="177" y="62"/>
                    </a:lnTo>
                    <a:lnTo>
                      <a:pt x="170" y="64"/>
                    </a:lnTo>
                    <a:lnTo>
                      <a:pt x="165" y="66"/>
                    </a:lnTo>
                    <a:lnTo>
                      <a:pt x="158" y="66"/>
                    </a:lnTo>
                    <a:lnTo>
                      <a:pt x="153" y="67"/>
                    </a:lnTo>
                    <a:lnTo>
                      <a:pt x="152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48" y="66"/>
                    </a:lnTo>
                    <a:lnTo>
                      <a:pt x="148" y="66"/>
                    </a:lnTo>
                    <a:lnTo>
                      <a:pt x="148" y="66"/>
                    </a:lnTo>
                    <a:lnTo>
                      <a:pt x="147" y="66"/>
                    </a:lnTo>
                    <a:lnTo>
                      <a:pt x="147" y="64"/>
                    </a:lnTo>
                    <a:lnTo>
                      <a:pt x="125" y="46"/>
                    </a:lnTo>
                    <a:lnTo>
                      <a:pt x="115" y="16"/>
                    </a:lnTo>
                    <a:lnTo>
                      <a:pt x="114" y="16"/>
                    </a:lnTo>
                    <a:lnTo>
                      <a:pt x="112" y="18"/>
                    </a:lnTo>
                    <a:lnTo>
                      <a:pt x="112" y="18"/>
                    </a:lnTo>
                    <a:lnTo>
                      <a:pt x="110" y="20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5" y="18"/>
                    </a:lnTo>
                    <a:lnTo>
                      <a:pt x="102" y="16"/>
                    </a:lnTo>
                    <a:lnTo>
                      <a:pt x="100" y="15"/>
                    </a:lnTo>
                    <a:lnTo>
                      <a:pt x="97" y="13"/>
                    </a:lnTo>
                    <a:lnTo>
                      <a:pt x="95" y="10"/>
                    </a:lnTo>
                    <a:lnTo>
                      <a:pt x="94" y="8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3"/>
                    </a:lnTo>
                    <a:lnTo>
                      <a:pt x="84" y="0"/>
                    </a:lnTo>
                    <a:lnTo>
                      <a:pt x="87" y="13"/>
                    </a:lnTo>
                    <a:lnTo>
                      <a:pt x="86" y="15"/>
                    </a:lnTo>
                    <a:lnTo>
                      <a:pt x="84" y="16"/>
                    </a:lnTo>
                    <a:lnTo>
                      <a:pt x="81" y="20"/>
                    </a:lnTo>
                    <a:lnTo>
                      <a:pt x="79" y="21"/>
                    </a:lnTo>
                    <a:lnTo>
                      <a:pt x="77" y="23"/>
                    </a:lnTo>
                    <a:lnTo>
                      <a:pt x="74" y="23"/>
                    </a:lnTo>
                    <a:lnTo>
                      <a:pt x="71" y="23"/>
                    </a:lnTo>
                    <a:lnTo>
                      <a:pt x="67" y="23"/>
                    </a:lnTo>
                    <a:lnTo>
                      <a:pt x="66" y="23"/>
                    </a:lnTo>
                    <a:lnTo>
                      <a:pt x="64" y="21"/>
                    </a:lnTo>
                    <a:lnTo>
                      <a:pt x="62" y="21"/>
                    </a:lnTo>
                    <a:lnTo>
                      <a:pt x="61" y="21"/>
                    </a:lnTo>
                    <a:lnTo>
                      <a:pt x="59" y="21"/>
                    </a:lnTo>
                    <a:lnTo>
                      <a:pt x="56" y="21"/>
                    </a:lnTo>
                    <a:lnTo>
                      <a:pt x="54" y="21"/>
                    </a:lnTo>
                    <a:lnTo>
                      <a:pt x="53" y="23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00c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1519200">
                <a:off x="8551080" y="5501160"/>
                <a:ext cx="3960" cy="50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1519200">
                <a:off x="8733600" y="5331240"/>
                <a:ext cx="298440" cy="300960"/>
              </a:xfrm>
              <a:custGeom>
                <a:avLst/>
                <a:gdLst/>
                <a:ahLst/>
                <a:rect l="l" t="t" r="r" b="b"/>
                <a:pathLst>
                  <a:path w="293" h="294">
                    <a:moveTo>
                      <a:pt x="124" y="126"/>
                    </a:moveTo>
                    <a:lnTo>
                      <a:pt x="0" y="294"/>
                    </a:lnTo>
                    <a:lnTo>
                      <a:pt x="5" y="291"/>
                    </a:lnTo>
                    <a:lnTo>
                      <a:pt x="10" y="286"/>
                    </a:lnTo>
                    <a:lnTo>
                      <a:pt x="15" y="282"/>
                    </a:lnTo>
                    <a:lnTo>
                      <a:pt x="20" y="277"/>
                    </a:lnTo>
                    <a:lnTo>
                      <a:pt x="25" y="272"/>
                    </a:lnTo>
                    <a:lnTo>
                      <a:pt x="30" y="267"/>
                    </a:lnTo>
                    <a:lnTo>
                      <a:pt x="35" y="263"/>
                    </a:lnTo>
                    <a:lnTo>
                      <a:pt x="42" y="259"/>
                    </a:lnTo>
                    <a:lnTo>
                      <a:pt x="48" y="253"/>
                    </a:lnTo>
                    <a:lnTo>
                      <a:pt x="57" y="246"/>
                    </a:lnTo>
                    <a:lnTo>
                      <a:pt x="63" y="241"/>
                    </a:lnTo>
                    <a:lnTo>
                      <a:pt x="70" y="234"/>
                    </a:lnTo>
                    <a:lnTo>
                      <a:pt x="75" y="228"/>
                    </a:lnTo>
                    <a:lnTo>
                      <a:pt x="81" y="221"/>
                    </a:lnTo>
                    <a:lnTo>
                      <a:pt x="88" y="216"/>
                    </a:lnTo>
                    <a:lnTo>
                      <a:pt x="96" y="211"/>
                    </a:lnTo>
                    <a:lnTo>
                      <a:pt x="123" y="188"/>
                    </a:lnTo>
                    <a:lnTo>
                      <a:pt x="148" y="165"/>
                    </a:lnTo>
                    <a:lnTo>
                      <a:pt x="174" y="142"/>
                    </a:lnTo>
                    <a:lnTo>
                      <a:pt x="199" y="119"/>
                    </a:lnTo>
                    <a:lnTo>
                      <a:pt x="224" y="96"/>
                    </a:lnTo>
                    <a:lnTo>
                      <a:pt x="245" y="71"/>
                    </a:lnTo>
                    <a:lnTo>
                      <a:pt x="268" y="45"/>
                    </a:lnTo>
                    <a:lnTo>
                      <a:pt x="288" y="18"/>
                    </a:lnTo>
                    <a:lnTo>
                      <a:pt x="288" y="15"/>
                    </a:lnTo>
                    <a:lnTo>
                      <a:pt x="288" y="13"/>
                    </a:lnTo>
                    <a:lnTo>
                      <a:pt x="290" y="10"/>
                    </a:lnTo>
                    <a:lnTo>
                      <a:pt x="290" y="8"/>
                    </a:lnTo>
                    <a:lnTo>
                      <a:pt x="291" y="7"/>
                    </a:lnTo>
                    <a:lnTo>
                      <a:pt x="291" y="3"/>
                    </a:lnTo>
                    <a:lnTo>
                      <a:pt x="293" y="2"/>
                    </a:lnTo>
                    <a:lnTo>
                      <a:pt x="293" y="0"/>
                    </a:lnTo>
                    <a:lnTo>
                      <a:pt x="278" y="5"/>
                    </a:lnTo>
                    <a:lnTo>
                      <a:pt x="263" y="10"/>
                    </a:lnTo>
                    <a:lnTo>
                      <a:pt x="250" y="18"/>
                    </a:lnTo>
                    <a:lnTo>
                      <a:pt x="239" y="27"/>
                    </a:lnTo>
                    <a:lnTo>
                      <a:pt x="225" y="36"/>
                    </a:lnTo>
                    <a:lnTo>
                      <a:pt x="214" y="46"/>
                    </a:lnTo>
                    <a:lnTo>
                      <a:pt x="202" y="56"/>
                    </a:lnTo>
                    <a:lnTo>
                      <a:pt x="189" y="64"/>
                    </a:lnTo>
                    <a:lnTo>
                      <a:pt x="182" y="71"/>
                    </a:lnTo>
                    <a:lnTo>
                      <a:pt x="177" y="78"/>
                    </a:lnTo>
                    <a:lnTo>
                      <a:pt x="171" y="84"/>
                    </a:lnTo>
                    <a:lnTo>
                      <a:pt x="164" y="89"/>
                    </a:lnTo>
                    <a:lnTo>
                      <a:pt x="158" y="96"/>
                    </a:lnTo>
                    <a:lnTo>
                      <a:pt x="151" y="101"/>
                    </a:lnTo>
                    <a:lnTo>
                      <a:pt x="144" y="106"/>
                    </a:lnTo>
                    <a:lnTo>
                      <a:pt x="139" y="112"/>
                    </a:lnTo>
                    <a:lnTo>
                      <a:pt x="136" y="114"/>
                    </a:lnTo>
                    <a:lnTo>
                      <a:pt x="134" y="116"/>
                    </a:lnTo>
                    <a:lnTo>
                      <a:pt x="133" y="117"/>
                    </a:lnTo>
                    <a:lnTo>
                      <a:pt x="131" y="119"/>
                    </a:lnTo>
                    <a:lnTo>
                      <a:pt x="129" y="121"/>
                    </a:lnTo>
                    <a:lnTo>
                      <a:pt x="128" y="122"/>
                    </a:lnTo>
                    <a:lnTo>
                      <a:pt x="126" y="124"/>
                    </a:lnTo>
                    <a:lnTo>
                      <a:pt x="124" y="126"/>
                    </a:lnTo>
                    <a:close/>
                  </a:path>
                </a:pathLst>
              </a:custGeom>
              <a:solidFill>
                <a:srgbClr val="009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1519200">
                <a:off x="8683200" y="5546880"/>
                <a:ext cx="193680" cy="76680"/>
              </a:xfrm>
              <a:custGeom>
                <a:avLst/>
                <a:gdLst/>
                <a:ahLst/>
                <a:rect l="l" t="t" r="r" b="b"/>
                <a:pathLst>
                  <a:path w="190" h="75">
                    <a:moveTo>
                      <a:pt x="3" y="70"/>
                    </a:move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1" y="71"/>
                    </a:lnTo>
                    <a:lnTo>
                      <a:pt x="1" y="73"/>
                    </a:lnTo>
                    <a:lnTo>
                      <a:pt x="1" y="7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23" y="70"/>
                    </a:lnTo>
                    <a:lnTo>
                      <a:pt x="48" y="63"/>
                    </a:lnTo>
                    <a:lnTo>
                      <a:pt x="71" y="55"/>
                    </a:lnTo>
                    <a:lnTo>
                      <a:pt x="96" y="47"/>
                    </a:lnTo>
                    <a:lnTo>
                      <a:pt x="119" y="37"/>
                    </a:lnTo>
                    <a:lnTo>
                      <a:pt x="144" y="25"/>
                    </a:lnTo>
                    <a:lnTo>
                      <a:pt x="167" y="14"/>
                    </a:lnTo>
                    <a:lnTo>
                      <a:pt x="190" y="0"/>
                    </a:lnTo>
                    <a:lnTo>
                      <a:pt x="182" y="0"/>
                    </a:lnTo>
                    <a:lnTo>
                      <a:pt x="173" y="0"/>
                    </a:lnTo>
                    <a:lnTo>
                      <a:pt x="163" y="2"/>
                    </a:lnTo>
                    <a:lnTo>
                      <a:pt x="154" y="5"/>
                    </a:lnTo>
                    <a:lnTo>
                      <a:pt x="145" y="7"/>
                    </a:lnTo>
                    <a:lnTo>
                      <a:pt x="135" y="10"/>
                    </a:lnTo>
                    <a:lnTo>
                      <a:pt x="125" y="12"/>
                    </a:lnTo>
                    <a:lnTo>
                      <a:pt x="117" y="14"/>
                    </a:lnTo>
                    <a:lnTo>
                      <a:pt x="102" y="20"/>
                    </a:lnTo>
                    <a:lnTo>
                      <a:pt x="87" y="27"/>
                    </a:lnTo>
                    <a:lnTo>
                      <a:pt x="72" y="33"/>
                    </a:lnTo>
                    <a:lnTo>
                      <a:pt x="58" y="40"/>
                    </a:lnTo>
                    <a:lnTo>
                      <a:pt x="44" y="47"/>
                    </a:lnTo>
                    <a:lnTo>
                      <a:pt x="31" y="53"/>
                    </a:lnTo>
                    <a:lnTo>
                      <a:pt x="16" y="61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9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21" name=""/>
            <p:cNvGraphicFramePr/>
            <p:nvPr/>
          </p:nvGraphicFramePr>
          <p:xfrm>
            <a:off x="8105760" y="5761800"/>
            <a:ext cx="677880" cy="776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5760" y="5761800"/>
                      <a:ext cx="677880" cy="77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3" name="" descr=""/>
            <p:cNvPicPr/>
            <p:nvPr/>
          </p:nvPicPr>
          <p:blipFill>
            <a:blip r:embed="rId4"/>
            <a:stretch/>
          </p:blipFill>
          <p:spPr>
            <a:xfrm>
              <a:off x="7157880" y="5622480"/>
              <a:ext cx="1164240" cy="8236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290520" y="0"/>
            <a:ext cx="711360" cy="6854760"/>
            <a:chOff x="290520" y="0"/>
            <a:chExt cx="711360" cy="6854760"/>
          </a:xfrm>
        </p:grpSpPr>
        <p:sp>
          <p:nvSpPr>
            <p:cNvPr id="61" name=""/>
            <p:cNvSpPr/>
            <p:nvPr/>
          </p:nvSpPr>
          <p:spPr>
            <a:xfrm>
              <a:off x="290520" y="0"/>
              <a:ext cx="437400" cy="685476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3560" y="0"/>
              <a:ext cx="328320" cy="685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f0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316080" y="3260520"/>
            <a:ext cx="8692920" cy="55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69696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A55B-75E0-40B7-9371-984F2A87774B}" type="slidenum">
              <a:rPr b="0" lang="en-US" sz="1400" spc="-1" strike="noStrike">
                <a:solidFill>
                  <a:srgbClr val="969696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71600" y="1665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Good 4 U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’s Cook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5724360" y="3644280"/>
            <a:ext cx="3357360" cy="3397680"/>
            <a:chOff x="5724360" y="3644280"/>
            <a:chExt cx="3357360" cy="3397680"/>
          </a:xfrm>
        </p:grpSpPr>
        <p:grpSp>
          <p:nvGrpSpPr>
            <p:cNvPr id="109" name=""/>
            <p:cNvGrpSpPr/>
            <p:nvPr/>
          </p:nvGrpSpPr>
          <p:grpSpPr>
            <a:xfrm>
              <a:off x="6393600" y="3644280"/>
              <a:ext cx="2688120" cy="3397680"/>
              <a:chOff x="6393600" y="3644280"/>
              <a:chExt cx="2688120" cy="3397680"/>
            </a:xfrm>
          </p:grpSpPr>
          <p:sp>
            <p:nvSpPr>
              <p:cNvPr id="110" name=""/>
              <p:cNvSpPr/>
              <p:nvPr/>
            </p:nvSpPr>
            <p:spPr>
              <a:xfrm rot="1519200">
                <a:off x="6967440" y="3827880"/>
                <a:ext cx="1540080" cy="3030120"/>
              </a:xfrm>
              <a:custGeom>
                <a:avLst/>
                <a:gdLst/>
                <a:ahLst/>
                <a:rect l="l" t="t" r="r" b="b"/>
                <a:pathLst>
                  <a:path w="883" h="1731">
                    <a:moveTo>
                      <a:pt x="493" y="129"/>
                    </a:moveTo>
                    <a:lnTo>
                      <a:pt x="491" y="130"/>
                    </a:lnTo>
                    <a:lnTo>
                      <a:pt x="489" y="132"/>
                    </a:lnTo>
                    <a:lnTo>
                      <a:pt x="488" y="134"/>
                    </a:lnTo>
                    <a:lnTo>
                      <a:pt x="488" y="137"/>
                    </a:lnTo>
                    <a:lnTo>
                      <a:pt x="486" y="139"/>
                    </a:lnTo>
                    <a:lnTo>
                      <a:pt x="486" y="142"/>
                    </a:lnTo>
                    <a:lnTo>
                      <a:pt x="484" y="144"/>
                    </a:lnTo>
                    <a:lnTo>
                      <a:pt x="483" y="145"/>
                    </a:lnTo>
                    <a:lnTo>
                      <a:pt x="479" y="153"/>
                    </a:lnTo>
                    <a:lnTo>
                      <a:pt x="478" y="160"/>
                    </a:lnTo>
                    <a:lnTo>
                      <a:pt x="476" y="167"/>
                    </a:lnTo>
                    <a:lnTo>
                      <a:pt x="476" y="172"/>
                    </a:lnTo>
                    <a:lnTo>
                      <a:pt x="475" y="178"/>
                    </a:lnTo>
                    <a:lnTo>
                      <a:pt x="475" y="185"/>
                    </a:lnTo>
                    <a:lnTo>
                      <a:pt x="475" y="191"/>
                    </a:lnTo>
                    <a:lnTo>
                      <a:pt x="473" y="198"/>
                    </a:lnTo>
                    <a:lnTo>
                      <a:pt x="471" y="215"/>
                    </a:lnTo>
                    <a:lnTo>
                      <a:pt x="471" y="229"/>
                    </a:lnTo>
                    <a:lnTo>
                      <a:pt x="473" y="244"/>
                    </a:lnTo>
                    <a:lnTo>
                      <a:pt x="475" y="259"/>
                    </a:lnTo>
                    <a:lnTo>
                      <a:pt x="476" y="274"/>
                    </a:lnTo>
                    <a:lnTo>
                      <a:pt x="479" y="289"/>
                    </a:lnTo>
                    <a:lnTo>
                      <a:pt x="483" y="305"/>
                    </a:lnTo>
                    <a:lnTo>
                      <a:pt x="488" y="320"/>
                    </a:lnTo>
                    <a:lnTo>
                      <a:pt x="479" y="315"/>
                    </a:lnTo>
                    <a:lnTo>
                      <a:pt x="473" y="310"/>
                    </a:lnTo>
                    <a:lnTo>
                      <a:pt x="465" y="305"/>
                    </a:lnTo>
                    <a:lnTo>
                      <a:pt x="458" y="300"/>
                    </a:lnTo>
                    <a:lnTo>
                      <a:pt x="450" y="297"/>
                    </a:lnTo>
                    <a:lnTo>
                      <a:pt x="441" y="294"/>
                    </a:lnTo>
                    <a:lnTo>
                      <a:pt x="433" y="292"/>
                    </a:lnTo>
                    <a:lnTo>
                      <a:pt x="423" y="290"/>
                    </a:lnTo>
                    <a:lnTo>
                      <a:pt x="422" y="294"/>
                    </a:lnTo>
                    <a:lnTo>
                      <a:pt x="420" y="295"/>
                    </a:lnTo>
                    <a:lnTo>
                      <a:pt x="418" y="297"/>
                    </a:lnTo>
                    <a:lnTo>
                      <a:pt x="417" y="300"/>
                    </a:lnTo>
                    <a:lnTo>
                      <a:pt x="417" y="302"/>
                    </a:lnTo>
                    <a:lnTo>
                      <a:pt x="415" y="304"/>
                    </a:lnTo>
                    <a:lnTo>
                      <a:pt x="415" y="305"/>
                    </a:lnTo>
                    <a:lnTo>
                      <a:pt x="415" y="307"/>
                    </a:lnTo>
                    <a:lnTo>
                      <a:pt x="417" y="309"/>
                    </a:lnTo>
                    <a:lnTo>
                      <a:pt x="420" y="312"/>
                    </a:lnTo>
                    <a:lnTo>
                      <a:pt x="422" y="314"/>
                    </a:lnTo>
                    <a:lnTo>
                      <a:pt x="423" y="317"/>
                    </a:lnTo>
                    <a:lnTo>
                      <a:pt x="425" y="319"/>
                    </a:lnTo>
                    <a:lnTo>
                      <a:pt x="428" y="320"/>
                    </a:lnTo>
                    <a:lnTo>
                      <a:pt x="430" y="323"/>
                    </a:lnTo>
                    <a:lnTo>
                      <a:pt x="430" y="327"/>
                    </a:lnTo>
                    <a:lnTo>
                      <a:pt x="413" y="333"/>
                    </a:lnTo>
                    <a:lnTo>
                      <a:pt x="394" y="338"/>
                    </a:lnTo>
                    <a:lnTo>
                      <a:pt x="375" y="345"/>
                    </a:lnTo>
                    <a:lnTo>
                      <a:pt x="355" y="353"/>
                    </a:lnTo>
                    <a:lnTo>
                      <a:pt x="337" y="363"/>
                    </a:lnTo>
                    <a:lnTo>
                      <a:pt x="321" y="375"/>
                    </a:lnTo>
                    <a:lnTo>
                      <a:pt x="314" y="381"/>
                    </a:lnTo>
                    <a:lnTo>
                      <a:pt x="308" y="390"/>
                    </a:lnTo>
                    <a:lnTo>
                      <a:pt x="301" y="399"/>
                    </a:lnTo>
                    <a:lnTo>
                      <a:pt x="298" y="409"/>
                    </a:lnTo>
                    <a:lnTo>
                      <a:pt x="289" y="427"/>
                    </a:lnTo>
                    <a:lnTo>
                      <a:pt x="281" y="444"/>
                    </a:lnTo>
                    <a:lnTo>
                      <a:pt x="273" y="462"/>
                    </a:lnTo>
                    <a:lnTo>
                      <a:pt x="263" y="479"/>
                    </a:lnTo>
                    <a:lnTo>
                      <a:pt x="256" y="497"/>
                    </a:lnTo>
                    <a:lnTo>
                      <a:pt x="250" y="513"/>
                    </a:lnTo>
                    <a:lnTo>
                      <a:pt x="246" y="531"/>
                    </a:lnTo>
                    <a:lnTo>
                      <a:pt x="245" y="550"/>
                    </a:lnTo>
                    <a:lnTo>
                      <a:pt x="243" y="555"/>
                    </a:lnTo>
                    <a:lnTo>
                      <a:pt x="240" y="558"/>
                    </a:lnTo>
                    <a:lnTo>
                      <a:pt x="238" y="563"/>
                    </a:lnTo>
                    <a:lnTo>
                      <a:pt x="236" y="566"/>
                    </a:lnTo>
                    <a:lnTo>
                      <a:pt x="235" y="571"/>
                    </a:lnTo>
                    <a:lnTo>
                      <a:pt x="231" y="576"/>
                    </a:lnTo>
                    <a:lnTo>
                      <a:pt x="230" y="579"/>
                    </a:lnTo>
                    <a:lnTo>
                      <a:pt x="228" y="584"/>
                    </a:lnTo>
                    <a:lnTo>
                      <a:pt x="223" y="597"/>
                    </a:lnTo>
                    <a:lnTo>
                      <a:pt x="218" y="611"/>
                    </a:lnTo>
                    <a:lnTo>
                      <a:pt x="217" y="624"/>
                    </a:lnTo>
                    <a:lnTo>
                      <a:pt x="213" y="637"/>
                    </a:lnTo>
                    <a:lnTo>
                      <a:pt x="212" y="650"/>
                    </a:lnTo>
                    <a:lnTo>
                      <a:pt x="210" y="665"/>
                    </a:lnTo>
                    <a:lnTo>
                      <a:pt x="207" y="678"/>
                    </a:lnTo>
                    <a:lnTo>
                      <a:pt x="202" y="690"/>
                    </a:lnTo>
                    <a:lnTo>
                      <a:pt x="202" y="700"/>
                    </a:lnTo>
                    <a:lnTo>
                      <a:pt x="200" y="708"/>
                    </a:lnTo>
                    <a:lnTo>
                      <a:pt x="200" y="716"/>
                    </a:lnTo>
                    <a:lnTo>
                      <a:pt x="200" y="725"/>
                    </a:lnTo>
                    <a:lnTo>
                      <a:pt x="198" y="733"/>
                    </a:lnTo>
                    <a:lnTo>
                      <a:pt x="198" y="741"/>
                    </a:lnTo>
                    <a:lnTo>
                      <a:pt x="198" y="749"/>
                    </a:lnTo>
                    <a:lnTo>
                      <a:pt x="198" y="759"/>
                    </a:lnTo>
                    <a:lnTo>
                      <a:pt x="197" y="767"/>
                    </a:lnTo>
                    <a:lnTo>
                      <a:pt x="195" y="776"/>
                    </a:lnTo>
                    <a:lnTo>
                      <a:pt x="193" y="784"/>
                    </a:lnTo>
                    <a:lnTo>
                      <a:pt x="192" y="792"/>
                    </a:lnTo>
                    <a:lnTo>
                      <a:pt x="188" y="800"/>
                    </a:lnTo>
                    <a:lnTo>
                      <a:pt x="187" y="809"/>
                    </a:lnTo>
                    <a:lnTo>
                      <a:pt x="183" y="819"/>
                    </a:lnTo>
                    <a:lnTo>
                      <a:pt x="182" y="827"/>
                    </a:lnTo>
                    <a:lnTo>
                      <a:pt x="179" y="860"/>
                    </a:lnTo>
                    <a:lnTo>
                      <a:pt x="177" y="891"/>
                    </a:lnTo>
                    <a:lnTo>
                      <a:pt x="177" y="926"/>
                    </a:lnTo>
                    <a:lnTo>
                      <a:pt x="175" y="959"/>
                    </a:lnTo>
                    <a:lnTo>
                      <a:pt x="172" y="992"/>
                    </a:lnTo>
                    <a:lnTo>
                      <a:pt x="165" y="1025"/>
                    </a:lnTo>
                    <a:lnTo>
                      <a:pt x="160" y="1040"/>
                    </a:lnTo>
                    <a:lnTo>
                      <a:pt x="155" y="1056"/>
                    </a:lnTo>
                    <a:lnTo>
                      <a:pt x="149" y="1071"/>
                    </a:lnTo>
                    <a:lnTo>
                      <a:pt x="142" y="1088"/>
                    </a:lnTo>
                    <a:lnTo>
                      <a:pt x="142" y="1104"/>
                    </a:lnTo>
                    <a:lnTo>
                      <a:pt x="142" y="1121"/>
                    </a:lnTo>
                    <a:lnTo>
                      <a:pt x="139" y="1137"/>
                    </a:lnTo>
                    <a:lnTo>
                      <a:pt x="136" y="1155"/>
                    </a:lnTo>
                    <a:lnTo>
                      <a:pt x="131" y="1172"/>
                    </a:lnTo>
                    <a:lnTo>
                      <a:pt x="124" y="1188"/>
                    </a:lnTo>
                    <a:lnTo>
                      <a:pt x="117" y="1205"/>
                    </a:lnTo>
                    <a:lnTo>
                      <a:pt x="112" y="1221"/>
                    </a:lnTo>
                    <a:lnTo>
                      <a:pt x="109" y="1230"/>
                    </a:lnTo>
                    <a:lnTo>
                      <a:pt x="106" y="1238"/>
                    </a:lnTo>
                    <a:lnTo>
                      <a:pt x="102" y="1246"/>
                    </a:lnTo>
                    <a:lnTo>
                      <a:pt x="99" y="1253"/>
                    </a:lnTo>
                    <a:lnTo>
                      <a:pt x="96" y="1261"/>
                    </a:lnTo>
                    <a:lnTo>
                      <a:pt x="93" y="1269"/>
                    </a:lnTo>
                    <a:lnTo>
                      <a:pt x="91" y="1277"/>
                    </a:lnTo>
                    <a:lnTo>
                      <a:pt x="89" y="1284"/>
                    </a:lnTo>
                    <a:lnTo>
                      <a:pt x="83" y="1324"/>
                    </a:lnTo>
                    <a:lnTo>
                      <a:pt x="78" y="1362"/>
                    </a:lnTo>
                    <a:lnTo>
                      <a:pt x="73" y="1401"/>
                    </a:lnTo>
                    <a:lnTo>
                      <a:pt x="66" y="1441"/>
                    </a:lnTo>
                    <a:lnTo>
                      <a:pt x="58" y="1479"/>
                    </a:lnTo>
                    <a:lnTo>
                      <a:pt x="50" y="1518"/>
                    </a:lnTo>
                    <a:lnTo>
                      <a:pt x="43" y="1537"/>
                    </a:lnTo>
                    <a:lnTo>
                      <a:pt x="36" y="1556"/>
                    </a:lnTo>
                    <a:lnTo>
                      <a:pt x="30" y="1576"/>
                    </a:lnTo>
                    <a:lnTo>
                      <a:pt x="20" y="1594"/>
                    </a:lnTo>
                    <a:lnTo>
                      <a:pt x="16" y="1611"/>
                    </a:lnTo>
                    <a:lnTo>
                      <a:pt x="11" y="1626"/>
                    </a:lnTo>
                    <a:lnTo>
                      <a:pt x="7" y="1642"/>
                    </a:lnTo>
                    <a:lnTo>
                      <a:pt x="3" y="1659"/>
                    </a:lnTo>
                    <a:lnTo>
                      <a:pt x="2" y="1674"/>
                    </a:lnTo>
                    <a:lnTo>
                      <a:pt x="0" y="1690"/>
                    </a:lnTo>
                    <a:lnTo>
                      <a:pt x="2" y="1705"/>
                    </a:lnTo>
                    <a:lnTo>
                      <a:pt x="7" y="1720"/>
                    </a:lnTo>
                    <a:lnTo>
                      <a:pt x="10" y="1723"/>
                    </a:lnTo>
                    <a:lnTo>
                      <a:pt x="13" y="1725"/>
                    </a:lnTo>
                    <a:lnTo>
                      <a:pt x="16" y="1728"/>
                    </a:lnTo>
                    <a:lnTo>
                      <a:pt x="18" y="1730"/>
                    </a:lnTo>
                    <a:lnTo>
                      <a:pt x="21" y="1730"/>
                    </a:lnTo>
                    <a:lnTo>
                      <a:pt x="25" y="1731"/>
                    </a:lnTo>
                    <a:lnTo>
                      <a:pt x="28" y="1730"/>
                    </a:lnTo>
                    <a:lnTo>
                      <a:pt x="31" y="1730"/>
                    </a:lnTo>
                    <a:lnTo>
                      <a:pt x="43" y="1705"/>
                    </a:lnTo>
                    <a:lnTo>
                      <a:pt x="56" y="1682"/>
                    </a:lnTo>
                    <a:lnTo>
                      <a:pt x="71" y="1659"/>
                    </a:lnTo>
                    <a:lnTo>
                      <a:pt x="86" y="1636"/>
                    </a:lnTo>
                    <a:lnTo>
                      <a:pt x="102" y="1613"/>
                    </a:lnTo>
                    <a:lnTo>
                      <a:pt x="119" y="1589"/>
                    </a:lnTo>
                    <a:lnTo>
                      <a:pt x="136" y="1568"/>
                    </a:lnTo>
                    <a:lnTo>
                      <a:pt x="154" y="1548"/>
                    </a:lnTo>
                    <a:lnTo>
                      <a:pt x="159" y="1537"/>
                    </a:lnTo>
                    <a:lnTo>
                      <a:pt x="165" y="1527"/>
                    </a:lnTo>
                    <a:lnTo>
                      <a:pt x="172" y="1517"/>
                    </a:lnTo>
                    <a:lnTo>
                      <a:pt x="177" y="1505"/>
                    </a:lnTo>
                    <a:lnTo>
                      <a:pt x="183" y="1495"/>
                    </a:lnTo>
                    <a:lnTo>
                      <a:pt x="187" y="1484"/>
                    </a:lnTo>
                    <a:lnTo>
                      <a:pt x="190" y="1472"/>
                    </a:lnTo>
                    <a:lnTo>
                      <a:pt x="192" y="1461"/>
                    </a:lnTo>
                    <a:lnTo>
                      <a:pt x="197" y="1454"/>
                    </a:lnTo>
                    <a:lnTo>
                      <a:pt x="202" y="1447"/>
                    </a:lnTo>
                    <a:lnTo>
                      <a:pt x="205" y="1441"/>
                    </a:lnTo>
                    <a:lnTo>
                      <a:pt x="210" y="1433"/>
                    </a:lnTo>
                    <a:lnTo>
                      <a:pt x="213" y="1426"/>
                    </a:lnTo>
                    <a:lnTo>
                      <a:pt x="217" y="1419"/>
                    </a:lnTo>
                    <a:lnTo>
                      <a:pt x="222" y="1414"/>
                    </a:lnTo>
                    <a:lnTo>
                      <a:pt x="225" y="1408"/>
                    </a:lnTo>
                    <a:lnTo>
                      <a:pt x="243" y="1380"/>
                    </a:lnTo>
                    <a:lnTo>
                      <a:pt x="263" y="1353"/>
                    </a:lnTo>
                    <a:lnTo>
                      <a:pt x="283" y="1327"/>
                    </a:lnTo>
                    <a:lnTo>
                      <a:pt x="304" y="1302"/>
                    </a:lnTo>
                    <a:lnTo>
                      <a:pt x="324" y="1276"/>
                    </a:lnTo>
                    <a:lnTo>
                      <a:pt x="344" y="1249"/>
                    </a:lnTo>
                    <a:lnTo>
                      <a:pt x="362" y="1223"/>
                    </a:lnTo>
                    <a:lnTo>
                      <a:pt x="380" y="1193"/>
                    </a:lnTo>
                    <a:lnTo>
                      <a:pt x="380" y="1190"/>
                    </a:lnTo>
                    <a:lnTo>
                      <a:pt x="382" y="1188"/>
                    </a:lnTo>
                    <a:lnTo>
                      <a:pt x="382" y="1185"/>
                    </a:lnTo>
                    <a:lnTo>
                      <a:pt x="384" y="1182"/>
                    </a:lnTo>
                    <a:lnTo>
                      <a:pt x="385" y="1178"/>
                    </a:lnTo>
                    <a:lnTo>
                      <a:pt x="385" y="1175"/>
                    </a:lnTo>
                    <a:lnTo>
                      <a:pt x="387" y="1172"/>
                    </a:lnTo>
                    <a:lnTo>
                      <a:pt x="389" y="1170"/>
                    </a:lnTo>
                    <a:lnTo>
                      <a:pt x="390" y="1165"/>
                    </a:lnTo>
                    <a:lnTo>
                      <a:pt x="390" y="1160"/>
                    </a:lnTo>
                    <a:lnTo>
                      <a:pt x="390" y="1157"/>
                    </a:lnTo>
                    <a:lnTo>
                      <a:pt x="392" y="1154"/>
                    </a:lnTo>
                    <a:lnTo>
                      <a:pt x="392" y="1149"/>
                    </a:lnTo>
                    <a:lnTo>
                      <a:pt x="392" y="1145"/>
                    </a:lnTo>
                    <a:lnTo>
                      <a:pt x="392" y="1142"/>
                    </a:lnTo>
                    <a:lnTo>
                      <a:pt x="392" y="1139"/>
                    </a:lnTo>
                    <a:lnTo>
                      <a:pt x="392" y="1136"/>
                    </a:lnTo>
                    <a:lnTo>
                      <a:pt x="392" y="1132"/>
                    </a:lnTo>
                    <a:lnTo>
                      <a:pt x="392" y="1129"/>
                    </a:lnTo>
                    <a:lnTo>
                      <a:pt x="392" y="1126"/>
                    </a:lnTo>
                    <a:lnTo>
                      <a:pt x="392" y="1122"/>
                    </a:lnTo>
                    <a:lnTo>
                      <a:pt x="392" y="1121"/>
                    </a:lnTo>
                    <a:lnTo>
                      <a:pt x="392" y="1117"/>
                    </a:lnTo>
                    <a:lnTo>
                      <a:pt x="392" y="1114"/>
                    </a:lnTo>
                    <a:lnTo>
                      <a:pt x="395" y="1104"/>
                    </a:lnTo>
                    <a:lnTo>
                      <a:pt x="400" y="1093"/>
                    </a:lnTo>
                    <a:lnTo>
                      <a:pt x="405" y="1083"/>
                    </a:lnTo>
                    <a:lnTo>
                      <a:pt x="412" y="1074"/>
                    </a:lnTo>
                    <a:lnTo>
                      <a:pt x="418" y="1065"/>
                    </a:lnTo>
                    <a:lnTo>
                      <a:pt x="425" y="1056"/>
                    </a:lnTo>
                    <a:lnTo>
                      <a:pt x="432" y="1046"/>
                    </a:lnTo>
                    <a:lnTo>
                      <a:pt x="437" y="1036"/>
                    </a:lnTo>
                    <a:lnTo>
                      <a:pt x="468" y="995"/>
                    </a:lnTo>
                    <a:lnTo>
                      <a:pt x="499" y="952"/>
                    </a:lnTo>
                    <a:lnTo>
                      <a:pt x="532" y="913"/>
                    </a:lnTo>
                    <a:lnTo>
                      <a:pt x="564" y="871"/>
                    </a:lnTo>
                    <a:lnTo>
                      <a:pt x="595" y="830"/>
                    </a:lnTo>
                    <a:lnTo>
                      <a:pt x="623" y="787"/>
                    </a:lnTo>
                    <a:lnTo>
                      <a:pt x="637" y="766"/>
                    </a:lnTo>
                    <a:lnTo>
                      <a:pt x="650" y="743"/>
                    </a:lnTo>
                    <a:lnTo>
                      <a:pt x="661" y="720"/>
                    </a:lnTo>
                    <a:lnTo>
                      <a:pt x="673" y="697"/>
                    </a:lnTo>
                    <a:lnTo>
                      <a:pt x="678" y="685"/>
                    </a:lnTo>
                    <a:lnTo>
                      <a:pt x="683" y="675"/>
                    </a:lnTo>
                    <a:lnTo>
                      <a:pt x="686" y="663"/>
                    </a:lnTo>
                    <a:lnTo>
                      <a:pt x="690" y="654"/>
                    </a:lnTo>
                    <a:lnTo>
                      <a:pt x="691" y="642"/>
                    </a:lnTo>
                    <a:lnTo>
                      <a:pt x="694" y="630"/>
                    </a:lnTo>
                    <a:lnTo>
                      <a:pt x="696" y="621"/>
                    </a:lnTo>
                    <a:lnTo>
                      <a:pt x="698" y="609"/>
                    </a:lnTo>
                    <a:lnTo>
                      <a:pt x="701" y="588"/>
                    </a:lnTo>
                    <a:lnTo>
                      <a:pt x="704" y="566"/>
                    </a:lnTo>
                    <a:lnTo>
                      <a:pt x="704" y="545"/>
                    </a:lnTo>
                    <a:lnTo>
                      <a:pt x="703" y="523"/>
                    </a:lnTo>
                    <a:lnTo>
                      <a:pt x="699" y="502"/>
                    </a:lnTo>
                    <a:lnTo>
                      <a:pt x="694" y="482"/>
                    </a:lnTo>
                    <a:lnTo>
                      <a:pt x="688" y="460"/>
                    </a:lnTo>
                    <a:lnTo>
                      <a:pt x="681" y="441"/>
                    </a:lnTo>
                    <a:lnTo>
                      <a:pt x="680" y="434"/>
                    </a:lnTo>
                    <a:lnTo>
                      <a:pt x="676" y="429"/>
                    </a:lnTo>
                    <a:lnTo>
                      <a:pt x="673" y="424"/>
                    </a:lnTo>
                    <a:lnTo>
                      <a:pt x="668" y="419"/>
                    </a:lnTo>
                    <a:lnTo>
                      <a:pt x="663" y="416"/>
                    </a:lnTo>
                    <a:lnTo>
                      <a:pt x="661" y="413"/>
                    </a:lnTo>
                    <a:lnTo>
                      <a:pt x="660" y="408"/>
                    </a:lnTo>
                    <a:lnTo>
                      <a:pt x="661" y="403"/>
                    </a:lnTo>
                    <a:lnTo>
                      <a:pt x="632" y="376"/>
                    </a:lnTo>
                    <a:lnTo>
                      <a:pt x="648" y="371"/>
                    </a:lnTo>
                    <a:lnTo>
                      <a:pt x="666" y="365"/>
                    </a:lnTo>
                    <a:lnTo>
                      <a:pt x="685" y="358"/>
                    </a:lnTo>
                    <a:lnTo>
                      <a:pt x="703" y="350"/>
                    </a:lnTo>
                    <a:lnTo>
                      <a:pt x="721" y="342"/>
                    </a:lnTo>
                    <a:lnTo>
                      <a:pt x="737" y="333"/>
                    </a:lnTo>
                    <a:lnTo>
                      <a:pt x="754" y="325"/>
                    </a:lnTo>
                    <a:lnTo>
                      <a:pt x="771" y="317"/>
                    </a:lnTo>
                    <a:lnTo>
                      <a:pt x="774" y="315"/>
                    </a:lnTo>
                    <a:lnTo>
                      <a:pt x="777" y="312"/>
                    </a:lnTo>
                    <a:lnTo>
                      <a:pt x="780" y="310"/>
                    </a:lnTo>
                    <a:lnTo>
                      <a:pt x="782" y="309"/>
                    </a:lnTo>
                    <a:lnTo>
                      <a:pt x="785" y="305"/>
                    </a:lnTo>
                    <a:lnTo>
                      <a:pt x="787" y="302"/>
                    </a:lnTo>
                    <a:lnTo>
                      <a:pt x="789" y="300"/>
                    </a:lnTo>
                    <a:lnTo>
                      <a:pt x="790" y="297"/>
                    </a:lnTo>
                    <a:lnTo>
                      <a:pt x="787" y="292"/>
                    </a:lnTo>
                    <a:lnTo>
                      <a:pt x="784" y="289"/>
                    </a:lnTo>
                    <a:lnTo>
                      <a:pt x="779" y="286"/>
                    </a:lnTo>
                    <a:lnTo>
                      <a:pt x="772" y="286"/>
                    </a:lnTo>
                    <a:lnTo>
                      <a:pt x="767" y="286"/>
                    </a:lnTo>
                    <a:lnTo>
                      <a:pt x="761" y="286"/>
                    </a:lnTo>
                    <a:lnTo>
                      <a:pt x="754" y="287"/>
                    </a:lnTo>
                    <a:lnTo>
                      <a:pt x="749" y="287"/>
                    </a:lnTo>
                    <a:lnTo>
                      <a:pt x="734" y="290"/>
                    </a:lnTo>
                    <a:lnTo>
                      <a:pt x="721" y="294"/>
                    </a:lnTo>
                    <a:lnTo>
                      <a:pt x="708" y="297"/>
                    </a:lnTo>
                    <a:lnTo>
                      <a:pt x="694" y="300"/>
                    </a:lnTo>
                    <a:lnTo>
                      <a:pt x="680" y="305"/>
                    </a:lnTo>
                    <a:lnTo>
                      <a:pt x="666" y="310"/>
                    </a:lnTo>
                    <a:lnTo>
                      <a:pt x="653" y="317"/>
                    </a:lnTo>
                    <a:lnTo>
                      <a:pt x="640" y="322"/>
                    </a:lnTo>
                    <a:lnTo>
                      <a:pt x="671" y="290"/>
                    </a:lnTo>
                    <a:lnTo>
                      <a:pt x="704" y="259"/>
                    </a:lnTo>
                    <a:lnTo>
                      <a:pt x="741" y="229"/>
                    </a:lnTo>
                    <a:lnTo>
                      <a:pt x="777" y="198"/>
                    </a:lnTo>
                    <a:lnTo>
                      <a:pt x="794" y="182"/>
                    </a:lnTo>
                    <a:lnTo>
                      <a:pt x="810" y="165"/>
                    </a:lnTo>
                    <a:lnTo>
                      <a:pt x="827" y="149"/>
                    </a:lnTo>
                    <a:lnTo>
                      <a:pt x="840" y="132"/>
                    </a:lnTo>
                    <a:lnTo>
                      <a:pt x="853" y="112"/>
                    </a:lnTo>
                    <a:lnTo>
                      <a:pt x="865" y="94"/>
                    </a:lnTo>
                    <a:lnTo>
                      <a:pt x="875" y="73"/>
                    </a:lnTo>
                    <a:lnTo>
                      <a:pt x="883" y="51"/>
                    </a:lnTo>
                    <a:lnTo>
                      <a:pt x="881" y="48"/>
                    </a:lnTo>
                    <a:lnTo>
                      <a:pt x="878" y="45"/>
                    </a:lnTo>
                    <a:lnTo>
                      <a:pt x="875" y="41"/>
                    </a:lnTo>
                    <a:lnTo>
                      <a:pt x="871" y="40"/>
                    </a:lnTo>
                    <a:lnTo>
                      <a:pt x="868" y="40"/>
                    </a:lnTo>
                    <a:lnTo>
                      <a:pt x="865" y="40"/>
                    </a:lnTo>
                    <a:lnTo>
                      <a:pt x="862" y="40"/>
                    </a:lnTo>
                    <a:lnTo>
                      <a:pt x="857" y="40"/>
                    </a:lnTo>
                    <a:lnTo>
                      <a:pt x="848" y="41"/>
                    </a:lnTo>
                    <a:lnTo>
                      <a:pt x="842" y="45"/>
                    </a:lnTo>
                    <a:lnTo>
                      <a:pt x="833" y="50"/>
                    </a:lnTo>
                    <a:lnTo>
                      <a:pt x="827" y="53"/>
                    </a:lnTo>
                    <a:lnTo>
                      <a:pt x="820" y="58"/>
                    </a:lnTo>
                    <a:lnTo>
                      <a:pt x="814" y="63"/>
                    </a:lnTo>
                    <a:lnTo>
                      <a:pt x="807" y="68"/>
                    </a:lnTo>
                    <a:lnTo>
                      <a:pt x="799" y="73"/>
                    </a:lnTo>
                    <a:lnTo>
                      <a:pt x="774" y="91"/>
                    </a:lnTo>
                    <a:lnTo>
                      <a:pt x="751" y="112"/>
                    </a:lnTo>
                    <a:lnTo>
                      <a:pt x="729" y="132"/>
                    </a:lnTo>
                    <a:lnTo>
                      <a:pt x="708" y="153"/>
                    </a:lnTo>
                    <a:lnTo>
                      <a:pt x="686" y="175"/>
                    </a:lnTo>
                    <a:lnTo>
                      <a:pt x="666" y="196"/>
                    </a:lnTo>
                    <a:lnTo>
                      <a:pt x="648" y="220"/>
                    </a:lnTo>
                    <a:lnTo>
                      <a:pt x="630" y="243"/>
                    </a:lnTo>
                    <a:lnTo>
                      <a:pt x="630" y="239"/>
                    </a:lnTo>
                    <a:lnTo>
                      <a:pt x="630" y="234"/>
                    </a:lnTo>
                    <a:lnTo>
                      <a:pt x="632" y="231"/>
                    </a:lnTo>
                    <a:lnTo>
                      <a:pt x="633" y="228"/>
                    </a:lnTo>
                    <a:lnTo>
                      <a:pt x="635" y="224"/>
                    </a:lnTo>
                    <a:lnTo>
                      <a:pt x="637" y="220"/>
                    </a:lnTo>
                    <a:lnTo>
                      <a:pt x="638" y="215"/>
                    </a:lnTo>
                    <a:lnTo>
                      <a:pt x="640" y="210"/>
                    </a:lnTo>
                    <a:lnTo>
                      <a:pt x="648" y="188"/>
                    </a:lnTo>
                    <a:lnTo>
                      <a:pt x="656" y="168"/>
                    </a:lnTo>
                    <a:lnTo>
                      <a:pt x="665" y="147"/>
                    </a:lnTo>
                    <a:lnTo>
                      <a:pt x="671" y="127"/>
                    </a:lnTo>
                    <a:lnTo>
                      <a:pt x="678" y="107"/>
                    </a:lnTo>
                    <a:lnTo>
                      <a:pt x="683" y="86"/>
                    </a:lnTo>
                    <a:lnTo>
                      <a:pt x="688" y="64"/>
                    </a:lnTo>
                    <a:lnTo>
                      <a:pt x="693" y="41"/>
                    </a:lnTo>
                    <a:lnTo>
                      <a:pt x="693" y="36"/>
                    </a:lnTo>
                    <a:lnTo>
                      <a:pt x="693" y="30"/>
                    </a:lnTo>
                    <a:lnTo>
                      <a:pt x="691" y="23"/>
                    </a:lnTo>
                    <a:lnTo>
                      <a:pt x="690" y="18"/>
                    </a:lnTo>
                    <a:lnTo>
                      <a:pt x="688" y="13"/>
                    </a:lnTo>
                    <a:lnTo>
                      <a:pt x="685" y="8"/>
                    </a:lnTo>
                    <a:lnTo>
                      <a:pt x="681" y="3"/>
                    </a:lnTo>
                    <a:lnTo>
                      <a:pt x="676" y="0"/>
                    </a:lnTo>
                    <a:lnTo>
                      <a:pt x="666" y="2"/>
                    </a:lnTo>
                    <a:lnTo>
                      <a:pt x="656" y="5"/>
                    </a:lnTo>
                    <a:lnTo>
                      <a:pt x="648" y="10"/>
                    </a:lnTo>
                    <a:lnTo>
                      <a:pt x="642" y="17"/>
                    </a:lnTo>
                    <a:lnTo>
                      <a:pt x="635" y="23"/>
                    </a:lnTo>
                    <a:lnTo>
                      <a:pt x="628" y="31"/>
                    </a:lnTo>
                    <a:lnTo>
                      <a:pt x="623" y="38"/>
                    </a:lnTo>
                    <a:lnTo>
                      <a:pt x="617" y="46"/>
                    </a:lnTo>
                    <a:lnTo>
                      <a:pt x="613" y="51"/>
                    </a:lnTo>
                    <a:lnTo>
                      <a:pt x="610" y="56"/>
                    </a:lnTo>
                    <a:lnTo>
                      <a:pt x="607" y="61"/>
                    </a:lnTo>
                    <a:lnTo>
                      <a:pt x="604" y="66"/>
                    </a:lnTo>
                    <a:lnTo>
                      <a:pt x="600" y="71"/>
                    </a:lnTo>
                    <a:lnTo>
                      <a:pt x="599" y="76"/>
                    </a:lnTo>
                    <a:lnTo>
                      <a:pt x="597" y="81"/>
                    </a:lnTo>
                    <a:lnTo>
                      <a:pt x="594" y="87"/>
                    </a:lnTo>
                    <a:lnTo>
                      <a:pt x="587" y="106"/>
                    </a:lnTo>
                    <a:lnTo>
                      <a:pt x="579" y="122"/>
                    </a:lnTo>
                    <a:lnTo>
                      <a:pt x="572" y="139"/>
                    </a:lnTo>
                    <a:lnTo>
                      <a:pt x="567" y="155"/>
                    </a:lnTo>
                    <a:lnTo>
                      <a:pt x="561" y="173"/>
                    </a:lnTo>
                    <a:lnTo>
                      <a:pt x="557" y="190"/>
                    </a:lnTo>
                    <a:lnTo>
                      <a:pt x="552" y="208"/>
                    </a:lnTo>
                    <a:lnTo>
                      <a:pt x="549" y="228"/>
                    </a:lnTo>
                    <a:lnTo>
                      <a:pt x="537" y="167"/>
                    </a:lnTo>
                    <a:lnTo>
                      <a:pt x="534" y="160"/>
                    </a:lnTo>
                    <a:lnTo>
                      <a:pt x="532" y="153"/>
                    </a:lnTo>
                    <a:lnTo>
                      <a:pt x="529" y="147"/>
                    </a:lnTo>
                    <a:lnTo>
                      <a:pt x="526" y="142"/>
                    </a:lnTo>
                    <a:lnTo>
                      <a:pt x="522" y="135"/>
                    </a:lnTo>
                    <a:lnTo>
                      <a:pt x="518" y="130"/>
                    </a:lnTo>
                    <a:lnTo>
                      <a:pt x="511" y="127"/>
                    </a:lnTo>
                    <a:lnTo>
                      <a:pt x="504" y="124"/>
                    </a:lnTo>
                    <a:lnTo>
                      <a:pt x="503" y="124"/>
                    </a:lnTo>
                    <a:lnTo>
                      <a:pt x="501" y="125"/>
                    </a:lnTo>
                    <a:lnTo>
                      <a:pt x="499" y="125"/>
                    </a:lnTo>
                    <a:lnTo>
                      <a:pt x="498" y="125"/>
                    </a:lnTo>
                    <a:lnTo>
                      <a:pt x="496" y="125"/>
                    </a:lnTo>
                    <a:lnTo>
                      <a:pt x="496" y="127"/>
                    </a:lnTo>
                    <a:lnTo>
                      <a:pt x="494" y="127"/>
                    </a:lnTo>
                    <a:lnTo>
                      <a:pt x="493" y="1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519200">
                <a:off x="8274960" y="4228920"/>
                <a:ext cx="73080" cy="361800"/>
              </a:xfrm>
              <a:custGeom>
                <a:avLst/>
                <a:gdLst/>
                <a:ahLst/>
                <a:rect l="l" t="t" r="r" b="b"/>
                <a:pathLst>
                  <a:path w="42" h="207">
                    <a:moveTo>
                      <a:pt x="17" y="0"/>
                    </a:moveTo>
                    <a:lnTo>
                      <a:pt x="9" y="25"/>
                    </a:lnTo>
                    <a:lnTo>
                      <a:pt x="4" y="51"/>
                    </a:lnTo>
                    <a:lnTo>
                      <a:pt x="0" y="78"/>
                    </a:lnTo>
                    <a:lnTo>
                      <a:pt x="0" y="104"/>
                    </a:lnTo>
                    <a:lnTo>
                      <a:pt x="4" y="131"/>
                    </a:lnTo>
                    <a:lnTo>
                      <a:pt x="10" y="157"/>
                    </a:lnTo>
                    <a:lnTo>
                      <a:pt x="19" y="182"/>
                    </a:lnTo>
                    <a:lnTo>
                      <a:pt x="30" y="207"/>
                    </a:lnTo>
                    <a:lnTo>
                      <a:pt x="35" y="180"/>
                    </a:lnTo>
                    <a:lnTo>
                      <a:pt x="38" y="154"/>
                    </a:lnTo>
                    <a:lnTo>
                      <a:pt x="42" y="129"/>
                    </a:lnTo>
                    <a:lnTo>
                      <a:pt x="42" y="103"/>
                    </a:lnTo>
                    <a:lnTo>
                      <a:pt x="40" y="78"/>
                    </a:lnTo>
                    <a:lnTo>
                      <a:pt x="35" y="51"/>
                    </a:lnTo>
                    <a:lnTo>
                      <a:pt x="29" y="27"/>
                    </a:lnTo>
                    <a:lnTo>
                      <a:pt x="20" y="2"/>
                    </a:lnTo>
                    <a:lnTo>
                      <a:pt x="20" y="2"/>
                    </a:lnTo>
                    <a:lnTo>
                      <a:pt x="19" y="2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9" y="0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9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519200">
                <a:off x="6885360" y="4363200"/>
                <a:ext cx="1168200" cy="2371320"/>
              </a:xfrm>
              <a:custGeom>
                <a:avLst/>
                <a:gdLst/>
                <a:ahLst/>
                <a:rect l="l" t="t" r="r" b="b"/>
                <a:pathLst>
                  <a:path w="670" h="1355">
                    <a:moveTo>
                      <a:pt x="316" y="28"/>
                    </a:moveTo>
                    <a:lnTo>
                      <a:pt x="301" y="49"/>
                    </a:lnTo>
                    <a:lnTo>
                      <a:pt x="288" y="71"/>
                    </a:lnTo>
                    <a:lnTo>
                      <a:pt x="276" y="92"/>
                    </a:lnTo>
                    <a:lnTo>
                      <a:pt x="266" y="115"/>
                    </a:lnTo>
                    <a:lnTo>
                      <a:pt x="258" y="140"/>
                    </a:lnTo>
                    <a:lnTo>
                      <a:pt x="250" y="163"/>
                    </a:lnTo>
                    <a:lnTo>
                      <a:pt x="243" y="188"/>
                    </a:lnTo>
                    <a:lnTo>
                      <a:pt x="237" y="211"/>
                    </a:lnTo>
                    <a:lnTo>
                      <a:pt x="235" y="216"/>
                    </a:lnTo>
                    <a:lnTo>
                      <a:pt x="232" y="219"/>
                    </a:lnTo>
                    <a:lnTo>
                      <a:pt x="230" y="224"/>
                    </a:lnTo>
                    <a:lnTo>
                      <a:pt x="227" y="229"/>
                    </a:lnTo>
                    <a:lnTo>
                      <a:pt x="225" y="233"/>
                    </a:lnTo>
                    <a:lnTo>
                      <a:pt x="223" y="237"/>
                    </a:lnTo>
                    <a:lnTo>
                      <a:pt x="220" y="241"/>
                    </a:lnTo>
                    <a:lnTo>
                      <a:pt x="218" y="246"/>
                    </a:lnTo>
                    <a:lnTo>
                      <a:pt x="220" y="254"/>
                    </a:lnTo>
                    <a:lnTo>
                      <a:pt x="223" y="259"/>
                    </a:lnTo>
                    <a:lnTo>
                      <a:pt x="228" y="264"/>
                    </a:lnTo>
                    <a:lnTo>
                      <a:pt x="235" y="269"/>
                    </a:lnTo>
                    <a:lnTo>
                      <a:pt x="242" y="272"/>
                    </a:lnTo>
                    <a:lnTo>
                      <a:pt x="248" y="275"/>
                    </a:lnTo>
                    <a:lnTo>
                      <a:pt x="253" y="280"/>
                    </a:lnTo>
                    <a:lnTo>
                      <a:pt x="258" y="285"/>
                    </a:lnTo>
                    <a:lnTo>
                      <a:pt x="253" y="287"/>
                    </a:lnTo>
                    <a:lnTo>
                      <a:pt x="248" y="287"/>
                    </a:lnTo>
                    <a:lnTo>
                      <a:pt x="243" y="285"/>
                    </a:lnTo>
                    <a:lnTo>
                      <a:pt x="237" y="284"/>
                    </a:lnTo>
                    <a:lnTo>
                      <a:pt x="232" y="282"/>
                    </a:lnTo>
                    <a:lnTo>
                      <a:pt x="227" y="279"/>
                    </a:lnTo>
                    <a:lnTo>
                      <a:pt x="222" y="275"/>
                    </a:lnTo>
                    <a:lnTo>
                      <a:pt x="215" y="272"/>
                    </a:lnTo>
                    <a:lnTo>
                      <a:pt x="215" y="282"/>
                    </a:lnTo>
                    <a:lnTo>
                      <a:pt x="213" y="290"/>
                    </a:lnTo>
                    <a:lnTo>
                      <a:pt x="210" y="300"/>
                    </a:lnTo>
                    <a:lnTo>
                      <a:pt x="208" y="308"/>
                    </a:lnTo>
                    <a:lnTo>
                      <a:pt x="205" y="318"/>
                    </a:lnTo>
                    <a:lnTo>
                      <a:pt x="204" y="327"/>
                    </a:lnTo>
                    <a:lnTo>
                      <a:pt x="202" y="337"/>
                    </a:lnTo>
                    <a:lnTo>
                      <a:pt x="200" y="345"/>
                    </a:lnTo>
                    <a:lnTo>
                      <a:pt x="200" y="358"/>
                    </a:lnTo>
                    <a:lnTo>
                      <a:pt x="199" y="370"/>
                    </a:lnTo>
                    <a:lnTo>
                      <a:pt x="197" y="383"/>
                    </a:lnTo>
                    <a:lnTo>
                      <a:pt x="197" y="394"/>
                    </a:lnTo>
                    <a:lnTo>
                      <a:pt x="197" y="406"/>
                    </a:lnTo>
                    <a:lnTo>
                      <a:pt x="200" y="417"/>
                    </a:lnTo>
                    <a:lnTo>
                      <a:pt x="204" y="422"/>
                    </a:lnTo>
                    <a:lnTo>
                      <a:pt x="207" y="426"/>
                    </a:lnTo>
                    <a:lnTo>
                      <a:pt x="212" y="431"/>
                    </a:lnTo>
                    <a:lnTo>
                      <a:pt x="218" y="434"/>
                    </a:lnTo>
                    <a:lnTo>
                      <a:pt x="220" y="436"/>
                    </a:lnTo>
                    <a:lnTo>
                      <a:pt x="223" y="437"/>
                    </a:lnTo>
                    <a:lnTo>
                      <a:pt x="227" y="437"/>
                    </a:lnTo>
                    <a:lnTo>
                      <a:pt x="230" y="439"/>
                    </a:lnTo>
                    <a:lnTo>
                      <a:pt x="232" y="440"/>
                    </a:lnTo>
                    <a:lnTo>
                      <a:pt x="235" y="442"/>
                    </a:lnTo>
                    <a:lnTo>
                      <a:pt x="237" y="445"/>
                    </a:lnTo>
                    <a:lnTo>
                      <a:pt x="240" y="450"/>
                    </a:lnTo>
                    <a:lnTo>
                      <a:pt x="233" y="452"/>
                    </a:lnTo>
                    <a:lnTo>
                      <a:pt x="228" y="452"/>
                    </a:lnTo>
                    <a:lnTo>
                      <a:pt x="222" y="450"/>
                    </a:lnTo>
                    <a:lnTo>
                      <a:pt x="217" y="449"/>
                    </a:lnTo>
                    <a:lnTo>
                      <a:pt x="210" y="445"/>
                    </a:lnTo>
                    <a:lnTo>
                      <a:pt x="205" y="442"/>
                    </a:lnTo>
                    <a:lnTo>
                      <a:pt x="200" y="439"/>
                    </a:lnTo>
                    <a:lnTo>
                      <a:pt x="195" y="436"/>
                    </a:lnTo>
                    <a:lnTo>
                      <a:pt x="189" y="447"/>
                    </a:lnTo>
                    <a:lnTo>
                      <a:pt x="184" y="460"/>
                    </a:lnTo>
                    <a:lnTo>
                      <a:pt x="182" y="473"/>
                    </a:lnTo>
                    <a:lnTo>
                      <a:pt x="179" y="487"/>
                    </a:lnTo>
                    <a:lnTo>
                      <a:pt x="179" y="502"/>
                    </a:lnTo>
                    <a:lnTo>
                      <a:pt x="177" y="515"/>
                    </a:lnTo>
                    <a:lnTo>
                      <a:pt x="175" y="528"/>
                    </a:lnTo>
                    <a:lnTo>
                      <a:pt x="175" y="540"/>
                    </a:lnTo>
                    <a:lnTo>
                      <a:pt x="175" y="548"/>
                    </a:lnTo>
                    <a:lnTo>
                      <a:pt x="175" y="554"/>
                    </a:lnTo>
                    <a:lnTo>
                      <a:pt x="177" y="561"/>
                    </a:lnTo>
                    <a:lnTo>
                      <a:pt x="179" y="568"/>
                    </a:lnTo>
                    <a:lnTo>
                      <a:pt x="180" y="574"/>
                    </a:lnTo>
                    <a:lnTo>
                      <a:pt x="185" y="579"/>
                    </a:lnTo>
                    <a:lnTo>
                      <a:pt x="189" y="584"/>
                    </a:lnTo>
                    <a:lnTo>
                      <a:pt x="195" y="589"/>
                    </a:lnTo>
                    <a:lnTo>
                      <a:pt x="197" y="589"/>
                    </a:lnTo>
                    <a:lnTo>
                      <a:pt x="197" y="591"/>
                    </a:lnTo>
                    <a:lnTo>
                      <a:pt x="199" y="591"/>
                    </a:lnTo>
                    <a:lnTo>
                      <a:pt x="199" y="591"/>
                    </a:lnTo>
                    <a:lnTo>
                      <a:pt x="200" y="591"/>
                    </a:lnTo>
                    <a:lnTo>
                      <a:pt x="200" y="591"/>
                    </a:lnTo>
                    <a:lnTo>
                      <a:pt x="200" y="592"/>
                    </a:lnTo>
                    <a:lnTo>
                      <a:pt x="202" y="592"/>
                    </a:lnTo>
                    <a:lnTo>
                      <a:pt x="202" y="592"/>
                    </a:lnTo>
                    <a:lnTo>
                      <a:pt x="204" y="594"/>
                    </a:lnTo>
                    <a:lnTo>
                      <a:pt x="204" y="596"/>
                    </a:lnTo>
                    <a:lnTo>
                      <a:pt x="202" y="596"/>
                    </a:lnTo>
                    <a:lnTo>
                      <a:pt x="202" y="597"/>
                    </a:lnTo>
                    <a:lnTo>
                      <a:pt x="202" y="599"/>
                    </a:lnTo>
                    <a:lnTo>
                      <a:pt x="200" y="599"/>
                    </a:lnTo>
                    <a:lnTo>
                      <a:pt x="199" y="599"/>
                    </a:lnTo>
                    <a:lnTo>
                      <a:pt x="195" y="597"/>
                    </a:lnTo>
                    <a:lnTo>
                      <a:pt x="192" y="597"/>
                    </a:lnTo>
                    <a:lnTo>
                      <a:pt x="189" y="596"/>
                    </a:lnTo>
                    <a:lnTo>
                      <a:pt x="185" y="594"/>
                    </a:lnTo>
                    <a:lnTo>
                      <a:pt x="184" y="594"/>
                    </a:lnTo>
                    <a:lnTo>
                      <a:pt x="180" y="592"/>
                    </a:lnTo>
                    <a:lnTo>
                      <a:pt x="177" y="592"/>
                    </a:lnTo>
                    <a:lnTo>
                      <a:pt x="175" y="592"/>
                    </a:lnTo>
                    <a:lnTo>
                      <a:pt x="174" y="597"/>
                    </a:lnTo>
                    <a:lnTo>
                      <a:pt x="175" y="601"/>
                    </a:lnTo>
                    <a:lnTo>
                      <a:pt x="177" y="606"/>
                    </a:lnTo>
                    <a:lnTo>
                      <a:pt x="179" y="609"/>
                    </a:lnTo>
                    <a:lnTo>
                      <a:pt x="182" y="612"/>
                    </a:lnTo>
                    <a:lnTo>
                      <a:pt x="185" y="615"/>
                    </a:lnTo>
                    <a:lnTo>
                      <a:pt x="190" y="619"/>
                    </a:lnTo>
                    <a:lnTo>
                      <a:pt x="194" y="622"/>
                    </a:lnTo>
                    <a:lnTo>
                      <a:pt x="192" y="624"/>
                    </a:lnTo>
                    <a:lnTo>
                      <a:pt x="190" y="625"/>
                    </a:lnTo>
                    <a:lnTo>
                      <a:pt x="189" y="625"/>
                    </a:lnTo>
                    <a:lnTo>
                      <a:pt x="187" y="625"/>
                    </a:lnTo>
                    <a:lnTo>
                      <a:pt x="184" y="625"/>
                    </a:lnTo>
                    <a:lnTo>
                      <a:pt x="180" y="625"/>
                    </a:lnTo>
                    <a:lnTo>
                      <a:pt x="179" y="625"/>
                    </a:lnTo>
                    <a:lnTo>
                      <a:pt x="175" y="625"/>
                    </a:lnTo>
                    <a:lnTo>
                      <a:pt x="174" y="630"/>
                    </a:lnTo>
                    <a:lnTo>
                      <a:pt x="174" y="637"/>
                    </a:lnTo>
                    <a:lnTo>
                      <a:pt x="172" y="642"/>
                    </a:lnTo>
                    <a:lnTo>
                      <a:pt x="172" y="648"/>
                    </a:lnTo>
                    <a:lnTo>
                      <a:pt x="170" y="653"/>
                    </a:lnTo>
                    <a:lnTo>
                      <a:pt x="169" y="658"/>
                    </a:lnTo>
                    <a:lnTo>
                      <a:pt x="167" y="663"/>
                    </a:lnTo>
                    <a:lnTo>
                      <a:pt x="164" y="670"/>
                    </a:lnTo>
                    <a:lnTo>
                      <a:pt x="162" y="676"/>
                    </a:lnTo>
                    <a:lnTo>
                      <a:pt x="159" y="683"/>
                    </a:lnTo>
                    <a:lnTo>
                      <a:pt x="156" y="688"/>
                    </a:lnTo>
                    <a:lnTo>
                      <a:pt x="152" y="695"/>
                    </a:lnTo>
                    <a:lnTo>
                      <a:pt x="149" y="701"/>
                    </a:lnTo>
                    <a:lnTo>
                      <a:pt x="149" y="706"/>
                    </a:lnTo>
                    <a:lnTo>
                      <a:pt x="147" y="713"/>
                    </a:lnTo>
                    <a:lnTo>
                      <a:pt x="151" y="718"/>
                    </a:lnTo>
                    <a:lnTo>
                      <a:pt x="152" y="721"/>
                    </a:lnTo>
                    <a:lnTo>
                      <a:pt x="156" y="726"/>
                    </a:lnTo>
                    <a:lnTo>
                      <a:pt x="159" y="729"/>
                    </a:lnTo>
                    <a:lnTo>
                      <a:pt x="161" y="733"/>
                    </a:lnTo>
                    <a:lnTo>
                      <a:pt x="164" y="736"/>
                    </a:lnTo>
                    <a:lnTo>
                      <a:pt x="165" y="739"/>
                    </a:lnTo>
                    <a:lnTo>
                      <a:pt x="169" y="741"/>
                    </a:lnTo>
                    <a:lnTo>
                      <a:pt x="172" y="743"/>
                    </a:lnTo>
                    <a:lnTo>
                      <a:pt x="172" y="743"/>
                    </a:lnTo>
                    <a:lnTo>
                      <a:pt x="174" y="743"/>
                    </a:lnTo>
                    <a:lnTo>
                      <a:pt x="174" y="744"/>
                    </a:lnTo>
                    <a:lnTo>
                      <a:pt x="175" y="744"/>
                    </a:lnTo>
                    <a:lnTo>
                      <a:pt x="175" y="746"/>
                    </a:lnTo>
                    <a:lnTo>
                      <a:pt x="175" y="746"/>
                    </a:lnTo>
                    <a:lnTo>
                      <a:pt x="175" y="747"/>
                    </a:lnTo>
                    <a:lnTo>
                      <a:pt x="175" y="747"/>
                    </a:lnTo>
                    <a:lnTo>
                      <a:pt x="170" y="749"/>
                    </a:lnTo>
                    <a:lnTo>
                      <a:pt x="167" y="747"/>
                    </a:lnTo>
                    <a:lnTo>
                      <a:pt x="162" y="747"/>
                    </a:lnTo>
                    <a:lnTo>
                      <a:pt x="157" y="746"/>
                    </a:lnTo>
                    <a:lnTo>
                      <a:pt x="152" y="743"/>
                    </a:lnTo>
                    <a:lnTo>
                      <a:pt x="149" y="739"/>
                    </a:lnTo>
                    <a:lnTo>
                      <a:pt x="144" y="736"/>
                    </a:lnTo>
                    <a:lnTo>
                      <a:pt x="141" y="733"/>
                    </a:lnTo>
                    <a:lnTo>
                      <a:pt x="139" y="743"/>
                    </a:lnTo>
                    <a:lnTo>
                      <a:pt x="137" y="751"/>
                    </a:lnTo>
                    <a:lnTo>
                      <a:pt x="139" y="759"/>
                    </a:lnTo>
                    <a:lnTo>
                      <a:pt x="142" y="767"/>
                    </a:lnTo>
                    <a:lnTo>
                      <a:pt x="147" y="774"/>
                    </a:lnTo>
                    <a:lnTo>
                      <a:pt x="152" y="780"/>
                    </a:lnTo>
                    <a:lnTo>
                      <a:pt x="159" y="787"/>
                    </a:lnTo>
                    <a:lnTo>
                      <a:pt x="165" y="792"/>
                    </a:lnTo>
                    <a:lnTo>
                      <a:pt x="139" y="785"/>
                    </a:lnTo>
                    <a:lnTo>
                      <a:pt x="137" y="792"/>
                    </a:lnTo>
                    <a:lnTo>
                      <a:pt x="136" y="797"/>
                    </a:lnTo>
                    <a:lnTo>
                      <a:pt x="134" y="804"/>
                    </a:lnTo>
                    <a:lnTo>
                      <a:pt x="132" y="809"/>
                    </a:lnTo>
                    <a:lnTo>
                      <a:pt x="131" y="815"/>
                    </a:lnTo>
                    <a:lnTo>
                      <a:pt x="129" y="820"/>
                    </a:lnTo>
                    <a:lnTo>
                      <a:pt x="126" y="825"/>
                    </a:lnTo>
                    <a:lnTo>
                      <a:pt x="122" y="830"/>
                    </a:lnTo>
                    <a:lnTo>
                      <a:pt x="119" y="840"/>
                    </a:lnTo>
                    <a:lnTo>
                      <a:pt x="116" y="848"/>
                    </a:lnTo>
                    <a:lnTo>
                      <a:pt x="113" y="858"/>
                    </a:lnTo>
                    <a:lnTo>
                      <a:pt x="111" y="866"/>
                    </a:lnTo>
                    <a:lnTo>
                      <a:pt x="108" y="876"/>
                    </a:lnTo>
                    <a:lnTo>
                      <a:pt x="104" y="884"/>
                    </a:lnTo>
                    <a:lnTo>
                      <a:pt x="101" y="894"/>
                    </a:lnTo>
                    <a:lnTo>
                      <a:pt x="96" y="903"/>
                    </a:lnTo>
                    <a:lnTo>
                      <a:pt x="96" y="908"/>
                    </a:lnTo>
                    <a:lnTo>
                      <a:pt x="96" y="913"/>
                    </a:lnTo>
                    <a:lnTo>
                      <a:pt x="99" y="917"/>
                    </a:lnTo>
                    <a:lnTo>
                      <a:pt x="103" y="921"/>
                    </a:lnTo>
                    <a:lnTo>
                      <a:pt x="108" y="924"/>
                    </a:lnTo>
                    <a:lnTo>
                      <a:pt x="111" y="927"/>
                    </a:lnTo>
                    <a:lnTo>
                      <a:pt x="114" y="931"/>
                    </a:lnTo>
                    <a:lnTo>
                      <a:pt x="118" y="934"/>
                    </a:lnTo>
                    <a:lnTo>
                      <a:pt x="119" y="936"/>
                    </a:lnTo>
                    <a:lnTo>
                      <a:pt x="122" y="936"/>
                    </a:lnTo>
                    <a:lnTo>
                      <a:pt x="126" y="937"/>
                    </a:lnTo>
                    <a:lnTo>
                      <a:pt x="127" y="937"/>
                    </a:lnTo>
                    <a:lnTo>
                      <a:pt x="131" y="939"/>
                    </a:lnTo>
                    <a:lnTo>
                      <a:pt x="132" y="939"/>
                    </a:lnTo>
                    <a:lnTo>
                      <a:pt x="134" y="942"/>
                    </a:lnTo>
                    <a:lnTo>
                      <a:pt x="134" y="946"/>
                    </a:lnTo>
                    <a:lnTo>
                      <a:pt x="127" y="946"/>
                    </a:lnTo>
                    <a:lnTo>
                      <a:pt x="121" y="946"/>
                    </a:lnTo>
                    <a:lnTo>
                      <a:pt x="116" y="944"/>
                    </a:lnTo>
                    <a:lnTo>
                      <a:pt x="109" y="942"/>
                    </a:lnTo>
                    <a:lnTo>
                      <a:pt x="103" y="939"/>
                    </a:lnTo>
                    <a:lnTo>
                      <a:pt x="98" y="937"/>
                    </a:lnTo>
                    <a:lnTo>
                      <a:pt x="93" y="932"/>
                    </a:lnTo>
                    <a:lnTo>
                      <a:pt x="88" y="929"/>
                    </a:lnTo>
                    <a:lnTo>
                      <a:pt x="86" y="931"/>
                    </a:lnTo>
                    <a:lnTo>
                      <a:pt x="84" y="934"/>
                    </a:lnTo>
                    <a:lnTo>
                      <a:pt x="84" y="936"/>
                    </a:lnTo>
                    <a:lnTo>
                      <a:pt x="83" y="937"/>
                    </a:lnTo>
                    <a:lnTo>
                      <a:pt x="83" y="941"/>
                    </a:lnTo>
                    <a:lnTo>
                      <a:pt x="81" y="942"/>
                    </a:lnTo>
                    <a:lnTo>
                      <a:pt x="81" y="946"/>
                    </a:lnTo>
                    <a:lnTo>
                      <a:pt x="79" y="947"/>
                    </a:lnTo>
                    <a:lnTo>
                      <a:pt x="78" y="950"/>
                    </a:lnTo>
                    <a:lnTo>
                      <a:pt x="78" y="954"/>
                    </a:lnTo>
                    <a:lnTo>
                      <a:pt x="78" y="957"/>
                    </a:lnTo>
                    <a:lnTo>
                      <a:pt x="78" y="959"/>
                    </a:lnTo>
                    <a:lnTo>
                      <a:pt x="78" y="962"/>
                    </a:lnTo>
                    <a:lnTo>
                      <a:pt x="79" y="965"/>
                    </a:lnTo>
                    <a:lnTo>
                      <a:pt x="81" y="967"/>
                    </a:lnTo>
                    <a:lnTo>
                      <a:pt x="81" y="969"/>
                    </a:lnTo>
                    <a:lnTo>
                      <a:pt x="84" y="972"/>
                    </a:lnTo>
                    <a:lnTo>
                      <a:pt x="86" y="975"/>
                    </a:lnTo>
                    <a:lnTo>
                      <a:pt x="89" y="979"/>
                    </a:lnTo>
                    <a:lnTo>
                      <a:pt x="91" y="982"/>
                    </a:lnTo>
                    <a:lnTo>
                      <a:pt x="94" y="985"/>
                    </a:lnTo>
                    <a:lnTo>
                      <a:pt x="96" y="988"/>
                    </a:lnTo>
                    <a:lnTo>
                      <a:pt x="98" y="990"/>
                    </a:lnTo>
                    <a:lnTo>
                      <a:pt x="101" y="992"/>
                    </a:lnTo>
                    <a:lnTo>
                      <a:pt x="101" y="993"/>
                    </a:lnTo>
                    <a:lnTo>
                      <a:pt x="101" y="995"/>
                    </a:lnTo>
                    <a:lnTo>
                      <a:pt x="103" y="995"/>
                    </a:lnTo>
                    <a:lnTo>
                      <a:pt x="103" y="997"/>
                    </a:lnTo>
                    <a:lnTo>
                      <a:pt x="103" y="997"/>
                    </a:lnTo>
                    <a:lnTo>
                      <a:pt x="103" y="997"/>
                    </a:lnTo>
                    <a:lnTo>
                      <a:pt x="103" y="998"/>
                    </a:lnTo>
                    <a:lnTo>
                      <a:pt x="103" y="998"/>
                    </a:lnTo>
                    <a:lnTo>
                      <a:pt x="75" y="987"/>
                    </a:lnTo>
                    <a:lnTo>
                      <a:pt x="75" y="995"/>
                    </a:lnTo>
                    <a:lnTo>
                      <a:pt x="75" y="1002"/>
                    </a:lnTo>
                    <a:lnTo>
                      <a:pt x="76" y="1008"/>
                    </a:lnTo>
                    <a:lnTo>
                      <a:pt x="78" y="1015"/>
                    </a:lnTo>
                    <a:lnTo>
                      <a:pt x="79" y="1021"/>
                    </a:lnTo>
                    <a:lnTo>
                      <a:pt x="84" y="1028"/>
                    </a:lnTo>
                    <a:lnTo>
                      <a:pt x="88" y="1035"/>
                    </a:lnTo>
                    <a:lnTo>
                      <a:pt x="93" y="1041"/>
                    </a:lnTo>
                    <a:lnTo>
                      <a:pt x="91" y="1041"/>
                    </a:lnTo>
                    <a:lnTo>
                      <a:pt x="89" y="1043"/>
                    </a:lnTo>
                    <a:lnTo>
                      <a:pt x="88" y="1041"/>
                    </a:lnTo>
                    <a:lnTo>
                      <a:pt x="84" y="1041"/>
                    </a:lnTo>
                    <a:lnTo>
                      <a:pt x="81" y="1040"/>
                    </a:lnTo>
                    <a:lnTo>
                      <a:pt x="79" y="1038"/>
                    </a:lnTo>
                    <a:lnTo>
                      <a:pt x="78" y="1036"/>
                    </a:lnTo>
                    <a:lnTo>
                      <a:pt x="75" y="1036"/>
                    </a:lnTo>
                    <a:lnTo>
                      <a:pt x="75" y="1041"/>
                    </a:lnTo>
                    <a:lnTo>
                      <a:pt x="73" y="1048"/>
                    </a:lnTo>
                    <a:lnTo>
                      <a:pt x="73" y="1053"/>
                    </a:lnTo>
                    <a:lnTo>
                      <a:pt x="73" y="1058"/>
                    </a:lnTo>
                    <a:lnTo>
                      <a:pt x="73" y="1063"/>
                    </a:lnTo>
                    <a:lnTo>
                      <a:pt x="75" y="1069"/>
                    </a:lnTo>
                    <a:lnTo>
                      <a:pt x="76" y="1074"/>
                    </a:lnTo>
                    <a:lnTo>
                      <a:pt x="79" y="1079"/>
                    </a:lnTo>
                    <a:lnTo>
                      <a:pt x="81" y="1081"/>
                    </a:lnTo>
                    <a:lnTo>
                      <a:pt x="81" y="1083"/>
                    </a:lnTo>
                    <a:lnTo>
                      <a:pt x="83" y="1083"/>
                    </a:lnTo>
                    <a:lnTo>
                      <a:pt x="83" y="1084"/>
                    </a:lnTo>
                    <a:lnTo>
                      <a:pt x="83" y="1086"/>
                    </a:lnTo>
                    <a:lnTo>
                      <a:pt x="84" y="1087"/>
                    </a:lnTo>
                    <a:lnTo>
                      <a:pt x="84" y="1087"/>
                    </a:lnTo>
                    <a:lnTo>
                      <a:pt x="84" y="1091"/>
                    </a:lnTo>
                    <a:lnTo>
                      <a:pt x="83" y="1091"/>
                    </a:lnTo>
                    <a:lnTo>
                      <a:pt x="83" y="1091"/>
                    </a:lnTo>
                    <a:lnTo>
                      <a:pt x="81" y="1092"/>
                    </a:lnTo>
                    <a:lnTo>
                      <a:pt x="79" y="1092"/>
                    </a:lnTo>
                    <a:lnTo>
                      <a:pt x="78" y="1092"/>
                    </a:lnTo>
                    <a:lnTo>
                      <a:pt x="76" y="1092"/>
                    </a:lnTo>
                    <a:lnTo>
                      <a:pt x="75" y="1091"/>
                    </a:lnTo>
                    <a:lnTo>
                      <a:pt x="73" y="1089"/>
                    </a:lnTo>
                    <a:lnTo>
                      <a:pt x="71" y="1089"/>
                    </a:lnTo>
                    <a:lnTo>
                      <a:pt x="71" y="1087"/>
                    </a:lnTo>
                    <a:lnTo>
                      <a:pt x="70" y="1087"/>
                    </a:lnTo>
                    <a:lnTo>
                      <a:pt x="70" y="1087"/>
                    </a:lnTo>
                    <a:lnTo>
                      <a:pt x="70" y="1086"/>
                    </a:lnTo>
                    <a:lnTo>
                      <a:pt x="68" y="1086"/>
                    </a:lnTo>
                    <a:lnTo>
                      <a:pt x="68" y="1086"/>
                    </a:lnTo>
                    <a:lnTo>
                      <a:pt x="68" y="1086"/>
                    </a:lnTo>
                    <a:lnTo>
                      <a:pt x="63" y="1097"/>
                    </a:lnTo>
                    <a:lnTo>
                      <a:pt x="60" y="1111"/>
                    </a:lnTo>
                    <a:lnTo>
                      <a:pt x="56" y="1122"/>
                    </a:lnTo>
                    <a:lnTo>
                      <a:pt x="53" y="1134"/>
                    </a:lnTo>
                    <a:lnTo>
                      <a:pt x="51" y="1147"/>
                    </a:lnTo>
                    <a:lnTo>
                      <a:pt x="48" y="1158"/>
                    </a:lnTo>
                    <a:lnTo>
                      <a:pt x="43" y="1170"/>
                    </a:lnTo>
                    <a:lnTo>
                      <a:pt x="40" y="1183"/>
                    </a:lnTo>
                    <a:lnTo>
                      <a:pt x="36" y="1190"/>
                    </a:lnTo>
                    <a:lnTo>
                      <a:pt x="35" y="1195"/>
                    </a:lnTo>
                    <a:lnTo>
                      <a:pt x="32" y="1200"/>
                    </a:lnTo>
                    <a:lnTo>
                      <a:pt x="30" y="1205"/>
                    </a:lnTo>
                    <a:lnTo>
                      <a:pt x="28" y="1211"/>
                    </a:lnTo>
                    <a:lnTo>
                      <a:pt x="28" y="1216"/>
                    </a:lnTo>
                    <a:lnTo>
                      <a:pt x="27" y="1221"/>
                    </a:lnTo>
                    <a:lnTo>
                      <a:pt x="25" y="1226"/>
                    </a:lnTo>
                    <a:lnTo>
                      <a:pt x="22" y="1234"/>
                    </a:lnTo>
                    <a:lnTo>
                      <a:pt x="18" y="1243"/>
                    </a:lnTo>
                    <a:lnTo>
                      <a:pt x="17" y="1253"/>
                    </a:lnTo>
                    <a:lnTo>
                      <a:pt x="13" y="1261"/>
                    </a:lnTo>
                    <a:lnTo>
                      <a:pt x="12" y="1269"/>
                    </a:lnTo>
                    <a:lnTo>
                      <a:pt x="8" y="1277"/>
                    </a:lnTo>
                    <a:lnTo>
                      <a:pt x="5" y="1286"/>
                    </a:lnTo>
                    <a:lnTo>
                      <a:pt x="3" y="1294"/>
                    </a:lnTo>
                    <a:lnTo>
                      <a:pt x="2" y="1302"/>
                    </a:lnTo>
                    <a:lnTo>
                      <a:pt x="0" y="1310"/>
                    </a:lnTo>
                    <a:lnTo>
                      <a:pt x="0" y="1319"/>
                    </a:lnTo>
                    <a:lnTo>
                      <a:pt x="0" y="1327"/>
                    </a:lnTo>
                    <a:lnTo>
                      <a:pt x="0" y="1335"/>
                    </a:lnTo>
                    <a:lnTo>
                      <a:pt x="2" y="1342"/>
                    </a:lnTo>
                    <a:lnTo>
                      <a:pt x="3" y="1348"/>
                    </a:lnTo>
                    <a:lnTo>
                      <a:pt x="8" y="1355"/>
                    </a:lnTo>
                    <a:lnTo>
                      <a:pt x="15" y="1333"/>
                    </a:lnTo>
                    <a:lnTo>
                      <a:pt x="23" y="1314"/>
                    </a:lnTo>
                    <a:lnTo>
                      <a:pt x="33" y="1294"/>
                    </a:lnTo>
                    <a:lnTo>
                      <a:pt x="45" y="1276"/>
                    </a:lnTo>
                    <a:lnTo>
                      <a:pt x="58" y="1257"/>
                    </a:lnTo>
                    <a:lnTo>
                      <a:pt x="71" y="1239"/>
                    </a:lnTo>
                    <a:lnTo>
                      <a:pt x="86" y="1221"/>
                    </a:lnTo>
                    <a:lnTo>
                      <a:pt x="101" y="1203"/>
                    </a:lnTo>
                    <a:lnTo>
                      <a:pt x="104" y="1198"/>
                    </a:lnTo>
                    <a:lnTo>
                      <a:pt x="108" y="1193"/>
                    </a:lnTo>
                    <a:lnTo>
                      <a:pt x="111" y="1188"/>
                    </a:lnTo>
                    <a:lnTo>
                      <a:pt x="114" y="1183"/>
                    </a:lnTo>
                    <a:lnTo>
                      <a:pt x="118" y="1178"/>
                    </a:lnTo>
                    <a:lnTo>
                      <a:pt x="122" y="1173"/>
                    </a:lnTo>
                    <a:lnTo>
                      <a:pt x="126" y="1168"/>
                    </a:lnTo>
                    <a:lnTo>
                      <a:pt x="129" y="1163"/>
                    </a:lnTo>
                    <a:lnTo>
                      <a:pt x="137" y="1140"/>
                    </a:lnTo>
                    <a:lnTo>
                      <a:pt x="147" y="1117"/>
                    </a:lnTo>
                    <a:lnTo>
                      <a:pt x="157" y="1096"/>
                    </a:lnTo>
                    <a:lnTo>
                      <a:pt x="169" y="1076"/>
                    </a:lnTo>
                    <a:lnTo>
                      <a:pt x="194" y="1035"/>
                    </a:lnTo>
                    <a:lnTo>
                      <a:pt x="222" y="995"/>
                    </a:lnTo>
                    <a:lnTo>
                      <a:pt x="250" y="957"/>
                    </a:lnTo>
                    <a:lnTo>
                      <a:pt x="280" y="921"/>
                    </a:lnTo>
                    <a:lnTo>
                      <a:pt x="308" y="883"/>
                    </a:lnTo>
                    <a:lnTo>
                      <a:pt x="336" y="845"/>
                    </a:lnTo>
                    <a:lnTo>
                      <a:pt x="337" y="840"/>
                    </a:lnTo>
                    <a:lnTo>
                      <a:pt x="341" y="837"/>
                    </a:lnTo>
                    <a:lnTo>
                      <a:pt x="342" y="833"/>
                    </a:lnTo>
                    <a:lnTo>
                      <a:pt x="344" y="830"/>
                    </a:lnTo>
                    <a:lnTo>
                      <a:pt x="346" y="825"/>
                    </a:lnTo>
                    <a:lnTo>
                      <a:pt x="347" y="822"/>
                    </a:lnTo>
                    <a:lnTo>
                      <a:pt x="347" y="818"/>
                    </a:lnTo>
                    <a:lnTo>
                      <a:pt x="347" y="815"/>
                    </a:lnTo>
                    <a:lnTo>
                      <a:pt x="351" y="797"/>
                    </a:lnTo>
                    <a:lnTo>
                      <a:pt x="354" y="779"/>
                    </a:lnTo>
                    <a:lnTo>
                      <a:pt x="357" y="759"/>
                    </a:lnTo>
                    <a:lnTo>
                      <a:pt x="362" y="741"/>
                    </a:lnTo>
                    <a:lnTo>
                      <a:pt x="367" y="723"/>
                    </a:lnTo>
                    <a:lnTo>
                      <a:pt x="374" y="706"/>
                    </a:lnTo>
                    <a:lnTo>
                      <a:pt x="379" y="696"/>
                    </a:lnTo>
                    <a:lnTo>
                      <a:pt x="385" y="688"/>
                    </a:lnTo>
                    <a:lnTo>
                      <a:pt x="390" y="681"/>
                    </a:lnTo>
                    <a:lnTo>
                      <a:pt x="399" y="673"/>
                    </a:lnTo>
                    <a:lnTo>
                      <a:pt x="409" y="655"/>
                    </a:lnTo>
                    <a:lnTo>
                      <a:pt x="420" y="639"/>
                    </a:lnTo>
                    <a:lnTo>
                      <a:pt x="432" y="622"/>
                    </a:lnTo>
                    <a:lnTo>
                      <a:pt x="443" y="606"/>
                    </a:lnTo>
                    <a:lnTo>
                      <a:pt x="470" y="576"/>
                    </a:lnTo>
                    <a:lnTo>
                      <a:pt x="496" y="544"/>
                    </a:lnTo>
                    <a:lnTo>
                      <a:pt x="523" y="515"/>
                    </a:lnTo>
                    <a:lnTo>
                      <a:pt x="547" y="483"/>
                    </a:lnTo>
                    <a:lnTo>
                      <a:pt x="559" y="467"/>
                    </a:lnTo>
                    <a:lnTo>
                      <a:pt x="571" y="449"/>
                    </a:lnTo>
                    <a:lnTo>
                      <a:pt x="579" y="432"/>
                    </a:lnTo>
                    <a:lnTo>
                      <a:pt x="589" y="412"/>
                    </a:lnTo>
                    <a:lnTo>
                      <a:pt x="594" y="401"/>
                    </a:lnTo>
                    <a:lnTo>
                      <a:pt x="599" y="391"/>
                    </a:lnTo>
                    <a:lnTo>
                      <a:pt x="605" y="381"/>
                    </a:lnTo>
                    <a:lnTo>
                      <a:pt x="612" y="371"/>
                    </a:lnTo>
                    <a:lnTo>
                      <a:pt x="619" y="360"/>
                    </a:lnTo>
                    <a:lnTo>
                      <a:pt x="625" y="350"/>
                    </a:lnTo>
                    <a:lnTo>
                      <a:pt x="632" y="338"/>
                    </a:lnTo>
                    <a:lnTo>
                      <a:pt x="638" y="327"/>
                    </a:lnTo>
                    <a:lnTo>
                      <a:pt x="643" y="317"/>
                    </a:lnTo>
                    <a:lnTo>
                      <a:pt x="647" y="307"/>
                    </a:lnTo>
                    <a:lnTo>
                      <a:pt x="650" y="297"/>
                    </a:lnTo>
                    <a:lnTo>
                      <a:pt x="653" y="285"/>
                    </a:lnTo>
                    <a:lnTo>
                      <a:pt x="655" y="275"/>
                    </a:lnTo>
                    <a:lnTo>
                      <a:pt x="658" y="264"/>
                    </a:lnTo>
                    <a:lnTo>
                      <a:pt x="660" y="254"/>
                    </a:lnTo>
                    <a:lnTo>
                      <a:pt x="662" y="242"/>
                    </a:lnTo>
                    <a:lnTo>
                      <a:pt x="662" y="237"/>
                    </a:lnTo>
                    <a:lnTo>
                      <a:pt x="663" y="233"/>
                    </a:lnTo>
                    <a:lnTo>
                      <a:pt x="663" y="228"/>
                    </a:lnTo>
                    <a:lnTo>
                      <a:pt x="665" y="223"/>
                    </a:lnTo>
                    <a:lnTo>
                      <a:pt x="667" y="218"/>
                    </a:lnTo>
                    <a:lnTo>
                      <a:pt x="667" y="214"/>
                    </a:lnTo>
                    <a:lnTo>
                      <a:pt x="668" y="209"/>
                    </a:lnTo>
                    <a:lnTo>
                      <a:pt x="668" y="204"/>
                    </a:lnTo>
                    <a:lnTo>
                      <a:pt x="668" y="200"/>
                    </a:lnTo>
                    <a:lnTo>
                      <a:pt x="670" y="195"/>
                    </a:lnTo>
                    <a:lnTo>
                      <a:pt x="668" y="190"/>
                    </a:lnTo>
                    <a:lnTo>
                      <a:pt x="668" y="185"/>
                    </a:lnTo>
                    <a:lnTo>
                      <a:pt x="668" y="180"/>
                    </a:lnTo>
                    <a:lnTo>
                      <a:pt x="668" y="176"/>
                    </a:lnTo>
                    <a:lnTo>
                      <a:pt x="668" y="171"/>
                    </a:lnTo>
                    <a:lnTo>
                      <a:pt x="668" y="167"/>
                    </a:lnTo>
                    <a:lnTo>
                      <a:pt x="667" y="160"/>
                    </a:lnTo>
                    <a:lnTo>
                      <a:pt x="667" y="152"/>
                    </a:lnTo>
                    <a:lnTo>
                      <a:pt x="665" y="143"/>
                    </a:lnTo>
                    <a:lnTo>
                      <a:pt x="663" y="137"/>
                    </a:lnTo>
                    <a:lnTo>
                      <a:pt x="662" y="130"/>
                    </a:lnTo>
                    <a:lnTo>
                      <a:pt x="658" y="124"/>
                    </a:lnTo>
                    <a:lnTo>
                      <a:pt x="655" y="117"/>
                    </a:lnTo>
                    <a:lnTo>
                      <a:pt x="650" y="110"/>
                    </a:lnTo>
                    <a:lnTo>
                      <a:pt x="647" y="114"/>
                    </a:lnTo>
                    <a:lnTo>
                      <a:pt x="642" y="114"/>
                    </a:lnTo>
                    <a:lnTo>
                      <a:pt x="638" y="115"/>
                    </a:lnTo>
                    <a:lnTo>
                      <a:pt x="633" y="115"/>
                    </a:lnTo>
                    <a:lnTo>
                      <a:pt x="629" y="115"/>
                    </a:lnTo>
                    <a:lnTo>
                      <a:pt x="624" y="115"/>
                    </a:lnTo>
                    <a:lnTo>
                      <a:pt x="620" y="117"/>
                    </a:lnTo>
                    <a:lnTo>
                      <a:pt x="615" y="120"/>
                    </a:lnTo>
                    <a:lnTo>
                      <a:pt x="615" y="124"/>
                    </a:lnTo>
                    <a:lnTo>
                      <a:pt x="614" y="127"/>
                    </a:lnTo>
                    <a:lnTo>
                      <a:pt x="614" y="130"/>
                    </a:lnTo>
                    <a:lnTo>
                      <a:pt x="612" y="133"/>
                    </a:lnTo>
                    <a:lnTo>
                      <a:pt x="609" y="137"/>
                    </a:lnTo>
                    <a:lnTo>
                      <a:pt x="607" y="140"/>
                    </a:lnTo>
                    <a:lnTo>
                      <a:pt x="604" y="142"/>
                    </a:lnTo>
                    <a:lnTo>
                      <a:pt x="599" y="143"/>
                    </a:lnTo>
                    <a:lnTo>
                      <a:pt x="589" y="143"/>
                    </a:lnTo>
                    <a:lnTo>
                      <a:pt x="579" y="142"/>
                    </a:lnTo>
                    <a:lnTo>
                      <a:pt x="571" y="140"/>
                    </a:lnTo>
                    <a:lnTo>
                      <a:pt x="561" y="137"/>
                    </a:lnTo>
                    <a:lnTo>
                      <a:pt x="552" y="133"/>
                    </a:lnTo>
                    <a:lnTo>
                      <a:pt x="543" y="130"/>
                    </a:lnTo>
                    <a:lnTo>
                      <a:pt x="534" y="124"/>
                    </a:lnTo>
                    <a:lnTo>
                      <a:pt x="526" y="119"/>
                    </a:lnTo>
                    <a:lnTo>
                      <a:pt x="519" y="122"/>
                    </a:lnTo>
                    <a:lnTo>
                      <a:pt x="513" y="125"/>
                    </a:lnTo>
                    <a:lnTo>
                      <a:pt x="504" y="127"/>
                    </a:lnTo>
                    <a:lnTo>
                      <a:pt x="496" y="129"/>
                    </a:lnTo>
                    <a:lnTo>
                      <a:pt x="488" y="129"/>
                    </a:lnTo>
                    <a:lnTo>
                      <a:pt x="480" y="129"/>
                    </a:lnTo>
                    <a:lnTo>
                      <a:pt x="473" y="125"/>
                    </a:lnTo>
                    <a:lnTo>
                      <a:pt x="465" y="122"/>
                    </a:lnTo>
                    <a:lnTo>
                      <a:pt x="463" y="119"/>
                    </a:lnTo>
                    <a:lnTo>
                      <a:pt x="460" y="115"/>
                    </a:lnTo>
                    <a:lnTo>
                      <a:pt x="458" y="112"/>
                    </a:lnTo>
                    <a:lnTo>
                      <a:pt x="457" y="109"/>
                    </a:lnTo>
                    <a:lnTo>
                      <a:pt x="457" y="107"/>
                    </a:lnTo>
                    <a:lnTo>
                      <a:pt x="455" y="104"/>
                    </a:lnTo>
                    <a:lnTo>
                      <a:pt x="457" y="100"/>
                    </a:lnTo>
                    <a:lnTo>
                      <a:pt x="457" y="97"/>
                    </a:lnTo>
                    <a:lnTo>
                      <a:pt x="457" y="96"/>
                    </a:lnTo>
                    <a:lnTo>
                      <a:pt x="455" y="97"/>
                    </a:lnTo>
                    <a:lnTo>
                      <a:pt x="453" y="97"/>
                    </a:lnTo>
                    <a:lnTo>
                      <a:pt x="452" y="97"/>
                    </a:lnTo>
                    <a:lnTo>
                      <a:pt x="452" y="99"/>
                    </a:lnTo>
                    <a:lnTo>
                      <a:pt x="450" y="99"/>
                    </a:lnTo>
                    <a:lnTo>
                      <a:pt x="452" y="100"/>
                    </a:lnTo>
                    <a:lnTo>
                      <a:pt x="452" y="100"/>
                    </a:lnTo>
                    <a:lnTo>
                      <a:pt x="443" y="100"/>
                    </a:lnTo>
                    <a:lnTo>
                      <a:pt x="435" y="99"/>
                    </a:lnTo>
                    <a:lnTo>
                      <a:pt x="427" y="97"/>
                    </a:lnTo>
                    <a:lnTo>
                      <a:pt x="419" y="94"/>
                    </a:lnTo>
                    <a:lnTo>
                      <a:pt x="410" y="91"/>
                    </a:lnTo>
                    <a:lnTo>
                      <a:pt x="402" y="86"/>
                    </a:lnTo>
                    <a:lnTo>
                      <a:pt x="395" y="79"/>
                    </a:lnTo>
                    <a:lnTo>
                      <a:pt x="390" y="72"/>
                    </a:lnTo>
                    <a:lnTo>
                      <a:pt x="390" y="71"/>
                    </a:lnTo>
                    <a:lnTo>
                      <a:pt x="390" y="71"/>
                    </a:lnTo>
                    <a:lnTo>
                      <a:pt x="390" y="69"/>
                    </a:lnTo>
                    <a:lnTo>
                      <a:pt x="390" y="69"/>
                    </a:lnTo>
                    <a:lnTo>
                      <a:pt x="390" y="67"/>
                    </a:lnTo>
                    <a:lnTo>
                      <a:pt x="390" y="67"/>
                    </a:lnTo>
                    <a:lnTo>
                      <a:pt x="390" y="66"/>
                    </a:lnTo>
                    <a:lnTo>
                      <a:pt x="390" y="66"/>
                    </a:lnTo>
                    <a:lnTo>
                      <a:pt x="384" y="64"/>
                    </a:lnTo>
                    <a:lnTo>
                      <a:pt x="376" y="63"/>
                    </a:lnTo>
                    <a:lnTo>
                      <a:pt x="369" y="61"/>
                    </a:lnTo>
                    <a:lnTo>
                      <a:pt x="361" y="59"/>
                    </a:lnTo>
                    <a:lnTo>
                      <a:pt x="354" y="56"/>
                    </a:lnTo>
                    <a:lnTo>
                      <a:pt x="347" y="53"/>
                    </a:lnTo>
                    <a:lnTo>
                      <a:pt x="342" y="48"/>
                    </a:lnTo>
                    <a:lnTo>
                      <a:pt x="337" y="41"/>
                    </a:lnTo>
                    <a:lnTo>
                      <a:pt x="339" y="36"/>
                    </a:lnTo>
                    <a:lnTo>
                      <a:pt x="341" y="31"/>
                    </a:lnTo>
                    <a:lnTo>
                      <a:pt x="344" y="28"/>
                    </a:lnTo>
                    <a:lnTo>
                      <a:pt x="347" y="25"/>
                    </a:lnTo>
                    <a:lnTo>
                      <a:pt x="352" y="21"/>
                    </a:lnTo>
                    <a:lnTo>
                      <a:pt x="356" y="20"/>
                    </a:lnTo>
                    <a:lnTo>
                      <a:pt x="361" y="18"/>
                    </a:lnTo>
                    <a:lnTo>
                      <a:pt x="362" y="16"/>
                    </a:lnTo>
                    <a:lnTo>
                      <a:pt x="366" y="15"/>
                    </a:lnTo>
                    <a:lnTo>
                      <a:pt x="367" y="15"/>
                    </a:lnTo>
                    <a:lnTo>
                      <a:pt x="369" y="15"/>
                    </a:lnTo>
                    <a:lnTo>
                      <a:pt x="371" y="15"/>
                    </a:lnTo>
                    <a:lnTo>
                      <a:pt x="372" y="15"/>
                    </a:lnTo>
                    <a:lnTo>
                      <a:pt x="374" y="15"/>
                    </a:lnTo>
                    <a:lnTo>
                      <a:pt x="376" y="13"/>
                    </a:lnTo>
                    <a:lnTo>
                      <a:pt x="377" y="11"/>
                    </a:lnTo>
                    <a:lnTo>
                      <a:pt x="376" y="10"/>
                    </a:lnTo>
                    <a:lnTo>
                      <a:pt x="374" y="8"/>
                    </a:lnTo>
                    <a:lnTo>
                      <a:pt x="372" y="6"/>
                    </a:lnTo>
                    <a:lnTo>
                      <a:pt x="371" y="5"/>
                    </a:lnTo>
                    <a:lnTo>
                      <a:pt x="369" y="3"/>
                    </a:lnTo>
                    <a:lnTo>
                      <a:pt x="367" y="1"/>
                    </a:lnTo>
                    <a:lnTo>
                      <a:pt x="364" y="0"/>
                    </a:lnTo>
                    <a:lnTo>
                      <a:pt x="362" y="0"/>
                    </a:lnTo>
                    <a:lnTo>
                      <a:pt x="354" y="1"/>
                    </a:lnTo>
                    <a:lnTo>
                      <a:pt x="347" y="3"/>
                    </a:lnTo>
                    <a:lnTo>
                      <a:pt x="342" y="8"/>
                    </a:lnTo>
                    <a:lnTo>
                      <a:pt x="337" y="11"/>
                    </a:lnTo>
                    <a:lnTo>
                      <a:pt x="333" y="16"/>
                    </a:lnTo>
                    <a:lnTo>
                      <a:pt x="328" y="21"/>
                    </a:lnTo>
                    <a:lnTo>
                      <a:pt x="323" y="26"/>
                    </a:lnTo>
                    <a:lnTo>
                      <a:pt x="316" y="28"/>
                    </a:lnTo>
                    <a:close/>
                  </a:path>
                </a:pathLst>
              </a:custGeom>
              <a:solidFill>
                <a:srgbClr val="ff912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519200">
                <a:off x="8397000" y="4093560"/>
                <a:ext cx="228600" cy="598680"/>
              </a:xfrm>
              <a:custGeom>
                <a:avLst/>
                <a:gdLst/>
                <a:ahLst/>
                <a:rect l="l" t="t" r="r" b="b"/>
                <a:pathLst>
                  <a:path w="131" h="342">
                    <a:moveTo>
                      <a:pt x="114" y="6"/>
                    </a:moveTo>
                    <a:lnTo>
                      <a:pt x="109" y="13"/>
                    </a:lnTo>
                    <a:lnTo>
                      <a:pt x="103" y="20"/>
                    </a:lnTo>
                    <a:lnTo>
                      <a:pt x="98" y="28"/>
                    </a:lnTo>
                    <a:lnTo>
                      <a:pt x="93" y="35"/>
                    </a:lnTo>
                    <a:lnTo>
                      <a:pt x="88" y="43"/>
                    </a:lnTo>
                    <a:lnTo>
                      <a:pt x="81" y="49"/>
                    </a:lnTo>
                    <a:lnTo>
                      <a:pt x="76" y="58"/>
                    </a:lnTo>
                    <a:lnTo>
                      <a:pt x="71" y="66"/>
                    </a:lnTo>
                    <a:lnTo>
                      <a:pt x="66" y="76"/>
                    </a:lnTo>
                    <a:lnTo>
                      <a:pt x="61" y="87"/>
                    </a:lnTo>
                    <a:lnTo>
                      <a:pt x="58" y="97"/>
                    </a:lnTo>
                    <a:lnTo>
                      <a:pt x="53" y="109"/>
                    </a:lnTo>
                    <a:lnTo>
                      <a:pt x="50" y="119"/>
                    </a:lnTo>
                    <a:lnTo>
                      <a:pt x="45" y="129"/>
                    </a:lnTo>
                    <a:lnTo>
                      <a:pt x="41" y="138"/>
                    </a:lnTo>
                    <a:lnTo>
                      <a:pt x="38" y="150"/>
                    </a:lnTo>
                    <a:lnTo>
                      <a:pt x="31" y="172"/>
                    </a:lnTo>
                    <a:lnTo>
                      <a:pt x="26" y="195"/>
                    </a:lnTo>
                    <a:lnTo>
                      <a:pt x="21" y="216"/>
                    </a:lnTo>
                    <a:lnTo>
                      <a:pt x="17" y="239"/>
                    </a:lnTo>
                    <a:lnTo>
                      <a:pt x="13" y="261"/>
                    </a:lnTo>
                    <a:lnTo>
                      <a:pt x="8" y="282"/>
                    </a:lnTo>
                    <a:lnTo>
                      <a:pt x="5" y="304"/>
                    </a:lnTo>
                    <a:lnTo>
                      <a:pt x="0" y="325"/>
                    </a:lnTo>
                    <a:lnTo>
                      <a:pt x="0" y="328"/>
                    </a:lnTo>
                    <a:lnTo>
                      <a:pt x="0" y="330"/>
                    </a:lnTo>
                    <a:lnTo>
                      <a:pt x="0" y="332"/>
                    </a:lnTo>
                    <a:lnTo>
                      <a:pt x="0" y="335"/>
                    </a:lnTo>
                    <a:lnTo>
                      <a:pt x="0" y="337"/>
                    </a:lnTo>
                    <a:lnTo>
                      <a:pt x="0" y="338"/>
                    </a:lnTo>
                    <a:lnTo>
                      <a:pt x="0" y="340"/>
                    </a:lnTo>
                    <a:lnTo>
                      <a:pt x="0" y="342"/>
                    </a:lnTo>
                    <a:lnTo>
                      <a:pt x="15" y="322"/>
                    </a:lnTo>
                    <a:lnTo>
                      <a:pt x="28" y="300"/>
                    </a:lnTo>
                    <a:lnTo>
                      <a:pt x="40" y="277"/>
                    </a:lnTo>
                    <a:lnTo>
                      <a:pt x="51" y="254"/>
                    </a:lnTo>
                    <a:lnTo>
                      <a:pt x="61" y="231"/>
                    </a:lnTo>
                    <a:lnTo>
                      <a:pt x="71" y="206"/>
                    </a:lnTo>
                    <a:lnTo>
                      <a:pt x="81" y="183"/>
                    </a:lnTo>
                    <a:lnTo>
                      <a:pt x="91" y="158"/>
                    </a:lnTo>
                    <a:lnTo>
                      <a:pt x="98" y="138"/>
                    </a:lnTo>
                    <a:lnTo>
                      <a:pt x="106" y="119"/>
                    </a:lnTo>
                    <a:lnTo>
                      <a:pt x="112" y="99"/>
                    </a:lnTo>
                    <a:lnTo>
                      <a:pt x="121" y="79"/>
                    </a:lnTo>
                    <a:lnTo>
                      <a:pt x="126" y="59"/>
                    </a:lnTo>
                    <a:lnTo>
                      <a:pt x="131" y="39"/>
                    </a:lnTo>
                    <a:lnTo>
                      <a:pt x="131" y="30"/>
                    </a:lnTo>
                    <a:lnTo>
                      <a:pt x="131" y="20"/>
                    </a:lnTo>
                    <a:lnTo>
                      <a:pt x="131" y="10"/>
                    </a:lnTo>
                    <a:lnTo>
                      <a:pt x="129" y="0"/>
                    </a:lnTo>
                    <a:lnTo>
                      <a:pt x="114" y="6"/>
                    </a:lnTo>
                    <a:close/>
                  </a:path>
                </a:pathLst>
              </a:custGeom>
              <a:solidFill>
                <a:srgbClr val="009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519200">
                <a:off x="8150760" y="4471560"/>
                <a:ext cx="17280" cy="13680"/>
              </a:xfrm>
              <a:custGeom>
                <a:avLst/>
                <a:gdLst/>
                <a:ahLst/>
                <a:rect l="l" t="t" r="r" b="b"/>
                <a:pathLst>
                  <a:path w="10" h="8">
                    <a:moveTo>
                      <a:pt x="0" y="0"/>
                    </a:moveTo>
                    <a:lnTo>
                      <a:pt x="2" y="2"/>
                    </a:lnTo>
                    <a:lnTo>
                      <a:pt x="2" y="2"/>
                    </a:lnTo>
                    <a:lnTo>
                      <a:pt x="3" y="3"/>
                    </a:lnTo>
                    <a:lnTo>
                      <a:pt x="5" y="5"/>
                    </a:lnTo>
                    <a:lnTo>
                      <a:pt x="7" y="7"/>
                    </a:lnTo>
                    <a:lnTo>
                      <a:pt x="8" y="7"/>
                    </a:lnTo>
                    <a:lnTo>
                      <a:pt x="10" y="8"/>
                    </a:lnTo>
                    <a:lnTo>
                      <a:pt x="10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519200">
                <a:off x="8112240" y="4492440"/>
                <a:ext cx="1368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8" y="2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519200">
                <a:off x="7965720" y="4547880"/>
                <a:ext cx="490320" cy="266040"/>
              </a:xfrm>
              <a:custGeom>
                <a:avLst/>
                <a:gdLst/>
                <a:ahLst/>
                <a:rect l="l" t="t" r="r" b="b"/>
                <a:pathLst>
                  <a:path w="281" h="152">
                    <a:moveTo>
                      <a:pt x="24" y="25"/>
                    </a:moveTo>
                    <a:lnTo>
                      <a:pt x="61" y="36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61" y="31"/>
                    </a:lnTo>
                    <a:lnTo>
                      <a:pt x="62" y="33"/>
                    </a:lnTo>
                    <a:lnTo>
                      <a:pt x="64" y="33"/>
                    </a:lnTo>
                    <a:lnTo>
                      <a:pt x="66" y="33"/>
                    </a:lnTo>
                    <a:lnTo>
                      <a:pt x="67" y="33"/>
                    </a:lnTo>
                    <a:lnTo>
                      <a:pt x="69" y="33"/>
                    </a:lnTo>
                    <a:lnTo>
                      <a:pt x="71" y="36"/>
                    </a:lnTo>
                    <a:lnTo>
                      <a:pt x="71" y="38"/>
                    </a:lnTo>
                    <a:lnTo>
                      <a:pt x="71" y="41"/>
                    </a:lnTo>
                    <a:lnTo>
                      <a:pt x="69" y="44"/>
                    </a:lnTo>
                    <a:lnTo>
                      <a:pt x="67" y="48"/>
                    </a:lnTo>
                    <a:lnTo>
                      <a:pt x="66" y="51"/>
                    </a:lnTo>
                    <a:lnTo>
                      <a:pt x="64" y="53"/>
                    </a:lnTo>
                    <a:lnTo>
                      <a:pt x="61" y="54"/>
                    </a:lnTo>
                    <a:lnTo>
                      <a:pt x="56" y="54"/>
                    </a:lnTo>
                    <a:lnTo>
                      <a:pt x="49" y="54"/>
                    </a:lnTo>
                    <a:lnTo>
                      <a:pt x="44" y="54"/>
                    </a:lnTo>
                    <a:lnTo>
                      <a:pt x="39" y="56"/>
                    </a:lnTo>
                    <a:lnTo>
                      <a:pt x="33" y="58"/>
                    </a:lnTo>
                    <a:lnTo>
                      <a:pt x="28" y="59"/>
                    </a:lnTo>
                    <a:lnTo>
                      <a:pt x="24" y="62"/>
                    </a:lnTo>
                    <a:lnTo>
                      <a:pt x="19" y="66"/>
                    </a:lnTo>
                    <a:lnTo>
                      <a:pt x="18" y="64"/>
                    </a:lnTo>
                    <a:lnTo>
                      <a:pt x="16" y="62"/>
                    </a:lnTo>
                    <a:lnTo>
                      <a:pt x="14" y="62"/>
                    </a:lnTo>
                    <a:lnTo>
                      <a:pt x="11" y="62"/>
                    </a:lnTo>
                    <a:lnTo>
                      <a:pt x="10" y="64"/>
                    </a:lnTo>
                    <a:lnTo>
                      <a:pt x="6" y="66"/>
                    </a:lnTo>
                    <a:lnTo>
                      <a:pt x="3" y="66"/>
                    </a:lnTo>
                    <a:lnTo>
                      <a:pt x="0" y="67"/>
                    </a:lnTo>
                    <a:lnTo>
                      <a:pt x="92" y="74"/>
                    </a:lnTo>
                    <a:lnTo>
                      <a:pt x="92" y="79"/>
                    </a:lnTo>
                    <a:lnTo>
                      <a:pt x="89" y="84"/>
                    </a:lnTo>
                    <a:lnTo>
                      <a:pt x="86" y="87"/>
                    </a:lnTo>
                    <a:lnTo>
                      <a:pt x="82" y="91"/>
                    </a:lnTo>
                    <a:lnTo>
                      <a:pt x="77" y="94"/>
                    </a:lnTo>
                    <a:lnTo>
                      <a:pt x="72" y="95"/>
                    </a:lnTo>
                    <a:lnTo>
                      <a:pt x="69" y="97"/>
                    </a:lnTo>
                    <a:lnTo>
                      <a:pt x="66" y="99"/>
                    </a:lnTo>
                    <a:lnTo>
                      <a:pt x="64" y="99"/>
                    </a:lnTo>
                    <a:lnTo>
                      <a:pt x="62" y="99"/>
                    </a:lnTo>
                    <a:lnTo>
                      <a:pt x="61" y="100"/>
                    </a:lnTo>
                    <a:lnTo>
                      <a:pt x="59" y="100"/>
                    </a:lnTo>
                    <a:lnTo>
                      <a:pt x="59" y="100"/>
                    </a:lnTo>
                    <a:lnTo>
                      <a:pt x="57" y="100"/>
                    </a:lnTo>
                    <a:lnTo>
                      <a:pt x="56" y="102"/>
                    </a:lnTo>
                    <a:lnTo>
                      <a:pt x="56" y="102"/>
                    </a:lnTo>
                    <a:lnTo>
                      <a:pt x="61" y="105"/>
                    </a:lnTo>
                    <a:lnTo>
                      <a:pt x="64" y="107"/>
                    </a:lnTo>
                    <a:lnTo>
                      <a:pt x="69" y="107"/>
                    </a:lnTo>
                    <a:lnTo>
                      <a:pt x="74" y="107"/>
                    </a:lnTo>
                    <a:lnTo>
                      <a:pt x="79" y="107"/>
                    </a:lnTo>
                    <a:lnTo>
                      <a:pt x="84" y="107"/>
                    </a:lnTo>
                    <a:lnTo>
                      <a:pt x="89" y="107"/>
                    </a:lnTo>
                    <a:lnTo>
                      <a:pt x="94" y="107"/>
                    </a:lnTo>
                    <a:lnTo>
                      <a:pt x="97" y="105"/>
                    </a:lnTo>
                    <a:lnTo>
                      <a:pt x="100" y="105"/>
                    </a:lnTo>
                    <a:lnTo>
                      <a:pt x="104" y="104"/>
                    </a:lnTo>
                    <a:lnTo>
                      <a:pt x="107" y="104"/>
                    </a:lnTo>
                    <a:lnTo>
                      <a:pt x="110" y="104"/>
                    </a:lnTo>
                    <a:lnTo>
                      <a:pt x="112" y="104"/>
                    </a:lnTo>
                    <a:lnTo>
                      <a:pt x="115" y="102"/>
                    </a:lnTo>
                    <a:lnTo>
                      <a:pt x="119" y="102"/>
                    </a:lnTo>
                    <a:lnTo>
                      <a:pt x="115" y="137"/>
                    </a:lnTo>
                    <a:lnTo>
                      <a:pt x="122" y="137"/>
                    </a:lnTo>
                    <a:lnTo>
                      <a:pt x="129" y="137"/>
                    </a:lnTo>
                    <a:lnTo>
                      <a:pt x="135" y="135"/>
                    </a:lnTo>
                    <a:lnTo>
                      <a:pt x="142" y="133"/>
                    </a:lnTo>
                    <a:lnTo>
                      <a:pt x="147" y="130"/>
                    </a:lnTo>
                    <a:lnTo>
                      <a:pt x="153" y="128"/>
                    </a:lnTo>
                    <a:lnTo>
                      <a:pt x="160" y="127"/>
                    </a:lnTo>
                    <a:lnTo>
                      <a:pt x="167" y="125"/>
                    </a:lnTo>
                    <a:lnTo>
                      <a:pt x="172" y="130"/>
                    </a:lnTo>
                    <a:lnTo>
                      <a:pt x="178" y="135"/>
                    </a:lnTo>
                    <a:lnTo>
                      <a:pt x="183" y="140"/>
                    </a:lnTo>
                    <a:lnTo>
                      <a:pt x="190" y="143"/>
                    </a:lnTo>
                    <a:lnTo>
                      <a:pt x="196" y="147"/>
                    </a:lnTo>
                    <a:lnTo>
                      <a:pt x="203" y="150"/>
                    </a:lnTo>
                    <a:lnTo>
                      <a:pt x="208" y="152"/>
                    </a:lnTo>
                    <a:lnTo>
                      <a:pt x="215" y="152"/>
                    </a:lnTo>
                    <a:lnTo>
                      <a:pt x="218" y="152"/>
                    </a:lnTo>
                    <a:lnTo>
                      <a:pt x="220" y="152"/>
                    </a:lnTo>
                    <a:lnTo>
                      <a:pt x="221" y="152"/>
                    </a:lnTo>
                    <a:lnTo>
                      <a:pt x="224" y="150"/>
                    </a:lnTo>
                    <a:lnTo>
                      <a:pt x="226" y="150"/>
                    </a:lnTo>
                    <a:lnTo>
                      <a:pt x="228" y="148"/>
                    </a:lnTo>
                    <a:lnTo>
                      <a:pt x="228" y="148"/>
                    </a:lnTo>
                    <a:lnTo>
                      <a:pt x="229" y="145"/>
                    </a:lnTo>
                    <a:lnTo>
                      <a:pt x="226" y="143"/>
                    </a:lnTo>
                    <a:lnTo>
                      <a:pt x="223" y="140"/>
                    </a:lnTo>
                    <a:lnTo>
                      <a:pt x="220" y="137"/>
                    </a:lnTo>
                    <a:lnTo>
                      <a:pt x="215" y="135"/>
                    </a:lnTo>
                    <a:lnTo>
                      <a:pt x="211" y="132"/>
                    </a:lnTo>
                    <a:lnTo>
                      <a:pt x="208" y="130"/>
                    </a:lnTo>
                    <a:lnTo>
                      <a:pt x="205" y="127"/>
                    </a:lnTo>
                    <a:lnTo>
                      <a:pt x="203" y="124"/>
                    </a:lnTo>
                    <a:lnTo>
                      <a:pt x="203" y="120"/>
                    </a:lnTo>
                    <a:lnTo>
                      <a:pt x="205" y="119"/>
                    </a:lnTo>
                    <a:lnTo>
                      <a:pt x="206" y="117"/>
                    </a:lnTo>
                    <a:lnTo>
                      <a:pt x="208" y="115"/>
                    </a:lnTo>
                    <a:lnTo>
                      <a:pt x="210" y="114"/>
                    </a:lnTo>
                    <a:lnTo>
                      <a:pt x="211" y="114"/>
                    </a:lnTo>
                    <a:lnTo>
                      <a:pt x="211" y="112"/>
                    </a:lnTo>
                    <a:lnTo>
                      <a:pt x="213" y="110"/>
                    </a:lnTo>
                    <a:lnTo>
                      <a:pt x="220" y="112"/>
                    </a:lnTo>
                    <a:lnTo>
                      <a:pt x="228" y="115"/>
                    </a:lnTo>
                    <a:lnTo>
                      <a:pt x="236" y="119"/>
                    </a:lnTo>
                    <a:lnTo>
                      <a:pt x="243" y="122"/>
                    </a:lnTo>
                    <a:lnTo>
                      <a:pt x="251" y="125"/>
                    </a:lnTo>
                    <a:lnTo>
                      <a:pt x="259" y="125"/>
                    </a:lnTo>
                    <a:lnTo>
                      <a:pt x="267" y="125"/>
                    </a:lnTo>
                    <a:lnTo>
                      <a:pt x="276" y="120"/>
                    </a:lnTo>
                    <a:lnTo>
                      <a:pt x="277" y="119"/>
                    </a:lnTo>
                    <a:lnTo>
                      <a:pt x="279" y="119"/>
                    </a:lnTo>
                    <a:lnTo>
                      <a:pt x="279" y="117"/>
                    </a:lnTo>
                    <a:lnTo>
                      <a:pt x="281" y="115"/>
                    </a:lnTo>
                    <a:lnTo>
                      <a:pt x="281" y="115"/>
                    </a:lnTo>
                    <a:lnTo>
                      <a:pt x="281" y="114"/>
                    </a:lnTo>
                    <a:lnTo>
                      <a:pt x="279" y="112"/>
                    </a:lnTo>
                    <a:lnTo>
                      <a:pt x="279" y="112"/>
                    </a:lnTo>
                    <a:lnTo>
                      <a:pt x="236" y="89"/>
                    </a:lnTo>
                    <a:lnTo>
                      <a:pt x="234" y="87"/>
                    </a:lnTo>
                    <a:lnTo>
                      <a:pt x="234" y="86"/>
                    </a:lnTo>
                    <a:lnTo>
                      <a:pt x="234" y="82"/>
                    </a:lnTo>
                    <a:lnTo>
                      <a:pt x="236" y="81"/>
                    </a:lnTo>
                    <a:lnTo>
                      <a:pt x="236" y="79"/>
                    </a:lnTo>
                    <a:lnTo>
                      <a:pt x="238" y="77"/>
                    </a:lnTo>
                    <a:lnTo>
                      <a:pt x="239" y="76"/>
                    </a:lnTo>
                    <a:lnTo>
                      <a:pt x="243" y="76"/>
                    </a:lnTo>
                    <a:lnTo>
                      <a:pt x="244" y="76"/>
                    </a:lnTo>
                    <a:lnTo>
                      <a:pt x="246" y="77"/>
                    </a:lnTo>
                    <a:lnTo>
                      <a:pt x="246" y="76"/>
                    </a:lnTo>
                    <a:lnTo>
                      <a:pt x="248" y="76"/>
                    </a:lnTo>
                    <a:lnTo>
                      <a:pt x="249" y="74"/>
                    </a:lnTo>
                    <a:lnTo>
                      <a:pt x="249" y="74"/>
                    </a:lnTo>
                    <a:lnTo>
                      <a:pt x="251" y="72"/>
                    </a:lnTo>
                    <a:lnTo>
                      <a:pt x="253" y="71"/>
                    </a:lnTo>
                    <a:lnTo>
                      <a:pt x="248" y="66"/>
                    </a:lnTo>
                    <a:lnTo>
                      <a:pt x="243" y="64"/>
                    </a:lnTo>
                    <a:lnTo>
                      <a:pt x="236" y="62"/>
                    </a:lnTo>
                    <a:lnTo>
                      <a:pt x="229" y="61"/>
                    </a:lnTo>
                    <a:lnTo>
                      <a:pt x="221" y="61"/>
                    </a:lnTo>
                    <a:lnTo>
                      <a:pt x="215" y="61"/>
                    </a:lnTo>
                    <a:lnTo>
                      <a:pt x="208" y="59"/>
                    </a:lnTo>
                    <a:lnTo>
                      <a:pt x="201" y="58"/>
                    </a:lnTo>
                    <a:lnTo>
                      <a:pt x="195" y="59"/>
                    </a:lnTo>
                    <a:lnTo>
                      <a:pt x="188" y="59"/>
                    </a:lnTo>
                    <a:lnTo>
                      <a:pt x="181" y="61"/>
                    </a:lnTo>
                    <a:lnTo>
                      <a:pt x="177" y="62"/>
                    </a:lnTo>
                    <a:lnTo>
                      <a:pt x="170" y="64"/>
                    </a:lnTo>
                    <a:lnTo>
                      <a:pt x="165" y="66"/>
                    </a:lnTo>
                    <a:lnTo>
                      <a:pt x="158" y="66"/>
                    </a:lnTo>
                    <a:lnTo>
                      <a:pt x="153" y="67"/>
                    </a:lnTo>
                    <a:lnTo>
                      <a:pt x="152" y="66"/>
                    </a:lnTo>
                    <a:lnTo>
                      <a:pt x="150" y="66"/>
                    </a:lnTo>
                    <a:lnTo>
                      <a:pt x="150" y="66"/>
                    </a:lnTo>
                    <a:lnTo>
                      <a:pt x="148" y="66"/>
                    </a:lnTo>
                    <a:lnTo>
                      <a:pt x="148" y="66"/>
                    </a:lnTo>
                    <a:lnTo>
                      <a:pt x="148" y="66"/>
                    </a:lnTo>
                    <a:lnTo>
                      <a:pt x="147" y="66"/>
                    </a:lnTo>
                    <a:lnTo>
                      <a:pt x="147" y="64"/>
                    </a:lnTo>
                    <a:lnTo>
                      <a:pt x="125" y="46"/>
                    </a:lnTo>
                    <a:lnTo>
                      <a:pt x="115" y="16"/>
                    </a:lnTo>
                    <a:lnTo>
                      <a:pt x="114" y="16"/>
                    </a:lnTo>
                    <a:lnTo>
                      <a:pt x="112" y="18"/>
                    </a:lnTo>
                    <a:lnTo>
                      <a:pt x="112" y="18"/>
                    </a:lnTo>
                    <a:lnTo>
                      <a:pt x="110" y="20"/>
                    </a:lnTo>
                    <a:lnTo>
                      <a:pt x="109" y="20"/>
                    </a:lnTo>
                    <a:lnTo>
                      <a:pt x="107" y="20"/>
                    </a:lnTo>
                    <a:lnTo>
                      <a:pt x="105" y="18"/>
                    </a:lnTo>
                    <a:lnTo>
                      <a:pt x="102" y="16"/>
                    </a:lnTo>
                    <a:lnTo>
                      <a:pt x="100" y="15"/>
                    </a:lnTo>
                    <a:lnTo>
                      <a:pt x="97" y="13"/>
                    </a:lnTo>
                    <a:lnTo>
                      <a:pt x="95" y="10"/>
                    </a:lnTo>
                    <a:lnTo>
                      <a:pt x="94" y="8"/>
                    </a:lnTo>
                    <a:lnTo>
                      <a:pt x="91" y="6"/>
                    </a:lnTo>
                    <a:lnTo>
                      <a:pt x="89" y="5"/>
                    </a:lnTo>
                    <a:lnTo>
                      <a:pt x="87" y="3"/>
                    </a:lnTo>
                    <a:lnTo>
                      <a:pt x="84" y="0"/>
                    </a:lnTo>
                    <a:lnTo>
                      <a:pt x="87" y="13"/>
                    </a:lnTo>
                    <a:lnTo>
                      <a:pt x="86" y="15"/>
                    </a:lnTo>
                    <a:lnTo>
                      <a:pt x="84" y="16"/>
                    </a:lnTo>
                    <a:lnTo>
                      <a:pt x="81" y="20"/>
                    </a:lnTo>
                    <a:lnTo>
                      <a:pt x="79" y="21"/>
                    </a:lnTo>
                    <a:lnTo>
                      <a:pt x="77" y="23"/>
                    </a:lnTo>
                    <a:lnTo>
                      <a:pt x="74" y="23"/>
                    </a:lnTo>
                    <a:lnTo>
                      <a:pt x="71" y="23"/>
                    </a:lnTo>
                    <a:lnTo>
                      <a:pt x="67" y="23"/>
                    </a:lnTo>
                    <a:lnTo>
                      <a:pt x="66" y="23"/>
                    </a:lnTo>
                    <a:lnTo>
                      <a:pt x="64" y="21"/>
                    </a:lnTo>
                    <a:lnTo>
                      <a:pt x="62" y="21"/>
                    </a:lnTo>
                    <a:lnTo>
                      <a:pt x="61" y="21"/>
                    </a:lnTo>
                    <a:lnTo>
                      <a:pt x="59" y="21"/>
                    </a:lnTo>
                    <a:lnTo>
                      <a:pt x="56" y="21"/>
                    </a:lnTo>
                    <a:lnTo>
                      <a:pt x="54" y="21"/>
                    </a:lnTo>
                    <a:lnTo>
                      <a:pt x="53" y="23"/>
                    </a:lnTo>
                    <a:lnTo>
                      <a:pt x="24" y="25"/>
                    </a:lnTo>
                    <a:close/>
                  </a:path>
                </a:pathLst>
              </a:custGeom>
              <a:solidFill>
                <a:srgbClr val="00cf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1519200">
                <a:off x="8107920" y="4537080"/>
                <a:ext cx="6840" cy="864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0" y="0"/>
                    </a:moveTo>
                    <a:lnTo>
                      <a:pt x="1" y="2"/>
                    </a:lnTo>
                    <a:lnTo>
                      <a:pt x="1" y="2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1" y="3"/>
                    </a:lnTo>
                    <a:lnTo>
                      <a:pt x="3" y="5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4" y="3"/>
                    </a:lnTo>
                    <a:lnTo>
                      <a:pt x="3" y="3"/>
                    </a:lnTo>
                    <a:lnTo>
                      <a:pt x="3" y="3"/>
                    </a:lnTo>
                    <a:lnTo>
                      <a:pt x="1" y="3"/>
                    </a:lnTo>
                    <a:lnTo>
                      <a:pt x="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1519200">
                <a:off x="8419680" y="4246200"/>
                <a:ext cx="510840" cy="514800"/>
              </a:xfrm>
              <a:custGeom>
                <a:avLst/>
                <a:gdLst/>
                <a:ahLst/>
                <a:rect l="l" t="t" r="r" b="b"/>
                <a:pathLst>
                  <a:path w="293" h="294">
                    <a:moveTo>
                      <a:pt x="124" y="126"/>
                    </a:moveTo>
                    <a:lnTo>
                      <a:pt x="0" y="294"/>
                    </a:lnTo>
                    <a:lnTo>
                      <a:pt x="5" y="291"/>
                    </a:lnTo>
                    <a:lnTo>
                      <a:pt x="10" y="286"/>
                    </a:lnTo>
                    <a:lnTo>
                      <a:pt x="15" y="282"/>
                    </a:lnTo>
                    <a:lnTo>
                      <a:pt x="20" y="277"/>
                    </a:lnTo>
                    <a:lnTo>
                      <a:pt x="25" y="272"/>
                    </a:lnTo>
                    <a:lnTo>
                      <a:pt x="30" y="267"/>
                    </a:lnTo>
                    <a:lnTo>
                      <a:pt x="35" y="263"/>
                    </a:lnTo>
                    <a:lnTo>
                      <a:pt x="42" y="259"/>
                    </a:lnTo>
                    <a:lnTo>
                      <a:pt x="48" y="253"/>
                    </a:lnTo>
                    <a:lnTo>
                      <a:pt x="57" y="246"/>
                    </a:lnTo>
                    <a:lnTo>
                      <a:pt x="63" y="241"/>
                    </a:lnTo>
                    <a:lnTo>
                      <a:pt x="70" y="234"/>
                    </a:lnTo>
                    <a:lnTo>
                      <a:pt x="75" y="228"/>
                    </a:lnTo>
                    <a:lnTo>
                      <a:pt x="81" y="221"/>
                    </a:lnTo>
                    <a:lnTo>
                      <a:pt x="88" y="216"/>
                    </a:lnTo>
                    <a:lnTo>
                      <a:pt x="96" y="211"/>
                    </a:lnTo>
                    <a:lnTo>
                      <a:pt x="123" y="188"/>
                    </a:lnTo>
                    <a:lnTo>
                      <a:pt x="148" y="165"/>
                    </a:lnTo>
                    <a:lnTo>
                      <a:pt x="174" y="142"/>
                    </a:lnTo>
                    <a:lnTo>
                      <a:pt x="199" y="119"/>
                    </a:lnTo>
                    <a:lnTo>
                      <a:pt x="224" y="96"/>
                    </a:lnTo>
                    <a:lnTo>
                      <a:pt x="245" y="71"/>
                    </a:lnTo>
                    <a:lnTo>
                      <a:pt x="268" y="45"/>
                    </a:lnTo>
                    <a:lnTo>
                      <a:pt x="288" y="18"/>
                    </a:lnTo>
                    <a:lnTo>
                      <a:pt x="288" y="15"/>
                    </a:lnTo>
                    <a:lnTo>
                      <a:pt x="288" y="13"/>
                    </a:lnTo>
                    <a:lnTo>
                      <a:pt x="290" y="10"/>
                    </a:lnTo>
                    <a:lnTo>
                      <a:pt x="290" y="8"/>
                    </a:lnTo>
                    <a:lnTo>
                      <a:pt x="291" y="7"/>
                    </a:lnTo>
                    <a:lnTo>
                      <a:pt x="291" y="3"/>
                    </a:lnTo>
                    <a:lnTo>
                      <a:pt x="293" y="2"/>
                    </a:lnTo>
                    <a:lnTo>
                      <a:pt x="293" y="0"/>
                    </a:lnTo>
                    <a:lnTo>
                      <a:pt x="278" y="5"/>
                    </a:lnTo>
                    <a:lnTo>
                      <a:pt x="263" y="10"/>
                    </a:lnTo>
                    <a:lnTo>
                      <a:pt x="250" y="18"/>
                    </a:lnTo>
                    <a:lnTo>
                      <a:pt x="239" y="27"/>
                    </a:lnTo>
                    <a:lnTo>
                      <a:pt x="225" y="36"/>
                    </a:lnTo>
                    <a:lnTo>
                      <a:pt x="214" y="46"/>
                    </a:lnTo>
                    <a:lnTo>
                      <a:pt x="202" y="56"/>
                    </a:lnTo>
                    <a:lnTo>
                      <a:pt x="189" y="64"/>
                    </a:lnTo>
                    <a:lnTo>
                      <a:pt x="182" y="71"/>
                    </a:lnTo>
                    <a:lnTo>
                      <a:pt x="177" y="78"/>
                    </a:lnTo>
                    <a:lnTo>
                      <a:pt x="171" y="84"/>
                    </a:lnTo>
                    <a:lnTo>
                      <a:pt x="164" y="89"/>
                    </a:lnTo>
                    <a:lnTo>
                      <a:pt x="158" y="96"/>
                    </a:lnTo>
                    <a:lnTo>
                      <a:pt x="151" y="101"/>
                    </a:lnTo>
                    <a:lnTo>
                      <a:pt x="144" y="106"/>
                    </a:lnTo>
                    <a:lnTo>
                      <a:pt x="139" y="112"/>
                    </a:lnTo>
                    <a:lnTo>
                      <a:pt x="136" y="114"/>
                    </a:lnTo>
                    <a:lnTo>
                      <a:pt x="134" y="116"/>
                    </a:lnTo>
                    <a:lnTo>
                      <a:pt x="133" y="117"/>
                    </a:lnTo>
                    <a:lnTo>
                      <a:pt x="131" y="119"/>
                    </a:lnTo>
                    <a:lnTo>
                      <a:pt x="129" y="121"/>
                    </a:lnTo>
                    <a:lnTo>
                      <a:pt x="128" y="122"/>
                    </a:lnTo>
                    <a:lnTo>
                      <a:pt x="126" y="124"/>
                    </a:lnTo>
                    <a:lnTo>
                      <a:pt x="124" y="126"/>
                    </a:lnTo>
                    <a:close/>
                  </a:path>
                </a:pathLst>
              </a:custGeom>
              <a:solidFill>
                <a:srgbClr val="00910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1519200">
                <a:off x="8333640" y="4615200"/>
                <a:ext cx="331200" cy="131040"/>
              </a:xfrm>
              <a:custGeom>
                <a:avLst/>
                <a:gdLst/>
                <a:ahLst/>
                <a:rect l="l" t="t" r="r" b="b"/>
                <a:pathLst>
                  <a:path w="190" h="75">
                    <a:moveTo>
                      <a:pt x="3" y="70"/>
                    </a:moveTo>
                    <a:lnTo>
                      <a:pt x="3" y="70"/>
                    </a:lnTo>
                    <a:lnTo>
                      <a:pt x="3" y="70"/>
                    </a:lnTo>
                    <a:lnTo>
                      <a:pt x="3" y="71"/>
                    </a:lnTo>
                    <a:lnTo>
                      <a:pt x="1" y="71"/>
                    </a:lnTo>
                    <a:lnTo>
                      <a:pt x="1" y="73"/>
                    </a:lnTo>
                    <a:lnTo>
                      <a:pt x="1" y="73"/>
                    </a:lnTo>
                    <a:lnTo>
                      <a:pt x="0" y="75"/>
                    </a:lnTo>
                    <a:lnTo>
                      <a:pt x="0" y="75"/>
                    </a:lnTo>
                    <a:lnTo>
                      <a:pt x="23" y="70"/>
                    </a:lnTo>
                    <a:lnTo>
                      <a:pt x="48" y="63"/>
                    </a:lnTo>
                    <a:lnTo>
                      <a:pt x="71" y="55"/>
                    </a:lnTo>
                    <a:lnTo>
                      <a:pt x="96" y="47"/>
                    </a:lnTo>
                    <a:lnTo>
                      <a:pt x="119" y="37"/>
                    </a:lnTo>
                    <a:lnTo>
                      <a:pt x="144" y="25"/>
                    </a:lnTo>
                    <a:lnTo>
                      <a:pt x="167" y="14"/>
                    </a:lnTo>
                    <a:lnTo>
                      <a:pt x="190" y="0"/>
                    </a:lnTo>
                    <a:lnTo>
                      <a:pt x="182" y="0"/>
                    </a:lnTo>
                    <a:lnTo>
                      <a:pt x="173" y="0"/>
                    </a:lnTo>
                    <a:lnTo>
                      <a:pt x="163" y="2"/>
                    </a:lnTo>
                    <a:lnTo>
                      <a:pt x="154" y="5"/>
                    </a:lnTo>
                    <a:lnTo>
                      <a:pt x="145" y="7"/>
                    </a:lnTo>
                    <a:lnTo>
                      <a:pt x="135" y="10"/>
                    </a:lnTo>
                    <a:lnTo>
                      <a:pt x="125" y="12"/>
                    </a:lnTo>
                    <a:lnTo>
                      <a:pt x="117" y="14"/>
                    </a:lnTo>
                    <a:lnTo>
                      <a:pt x="102" y="20"/>
                    </a:lnTo>
                    <a:lnTo>
                      <a:pt x="87" y="27"/>
                    </a:lnTo>
                    <a:lnTo>
                      <a:pt x="72" y="33"/>
                    </a:lnTo>
                    <a:lnTo>
                      <a:pt x="58" y="40"/>
                    </a:lnTo>
                    <a:lnTo>
                      <a:pt x="44" y="47"/>
                    </a:lnTo>
                    <a:lnTo>
                      <a:pt x="31" y="53"/>
                    </a:lnTo>
                    <a:lnTo>
                      <a:pt x="16" y="61"/>
                    </a:lnTo>
                    <a:lnTo>
                      <a:pt x="3" y="70"/>
                    </a:lnTo>
                    <a:close/>
                  </a:path>
                </a:pathLst>
              </a:custGeom>
              <a:solidFill>
                <a:srgbClr val="009e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0" name=""/>
            <p:cNvGraphicFramePr/>
            <p:nvPr/>
          </p:nvGraphicFramePr>
          <p:xfrm>
            <a:off x="7346880" y="4982760"/>
            <a:ext cx="1159920" cy="13284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346880" y="4982760"/>
                      <a:ext cx="1159920" cy="132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5724360" y="4744800"/>
              <a:ext cx="1992240" cy="1409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Healthy Food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arty vegetable soup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opical fruit sal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pinach soufflé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osemary chick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A Healthy Business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42920" y="2023920"/>
          <a:ext cx="7007400" cy="39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023920"/>
                    <a:ext cx="7007400" cy="395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quipment You’ll Need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671640" y="2017800"/>
            <a:ext cx="5283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wo Caloric industrial rang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ree Sub-Zero refrigera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packaged cook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re-packaged stone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f01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eida flatwa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343692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9:12:51Z</dcterms:created>
  <dc:creator>Pat R. Graves</dc:creator>
  <dc:description/>
  <dc:language>en-US</dc:language>
  <cp:lastModifiedBy>Student Name</cp:lastModifiedBy>
  <dcterms:modified xsi:type="dcterms:W3CDTF">2004-04-11T20:57:25Z</dcterms:modified>
  <cp:revision>8</cp:revision>
  <dc:subject/>
  <dc:title>Good 4 U Cooking</dc:title>
</cp:coreProperties>
</file>