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86868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8F21D-72F3-4A76-BCFB-4A18C3CA5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713BA-B37E-496A-9B54-8638B7EE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52C29-64EE-4987-B555-FD5128559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7A76-5A55-4D41-89B2-702ADDD1A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65889-1918-4A2B-81D7-01CB3E0BF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92FA4-C785-451D-98A1-30BA50081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6291-931F-4A90-8457-6F603BE2E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CEC85-F516-40D0-9549-BB396C924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8E6C-55A8-4B6E-946A-FCAC0EC0A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F231-CDBC-450F-8873-9D99A0F7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DA20F-872D-40BE-A7FF-1623F929A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EBE1-0648-468B-BB97-F4853E56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B53A-8AC5-4DD3-B634-A03A85886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9FBBA-A438-4CF7-94D1-1AA6FF29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2A3F-97A6-4053-88A9-26163FEA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6F0B3-488E-4407-AB8E-E2EB8CBCE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7E5B1-9EFB-4641-A4C4-CCA80182D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475A-2D77-47D2-A9D6-B4905A1C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B2D7-DAD8-4FAD-84C5-46E5F90CF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51991-0148-4BEF-9C60-686B5D45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3CE2-4C96-45CD-A001-152ACBC1E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EF82-7F48-44ED-9AA1-861722F2E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453D-CDA0-4BAB-9247-9B4A3228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91387-CD0F-4F38-ACBF-CBA9270ED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E58D-435E-44B2-84B3-5569EE394EE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7937640" y="0"/>
            <a:ext cx="1206360" cy="182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0ACA-1AFE-40EE-BC36-CE7EE856C36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3260880"/>
            <a:ext cx="65120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942920" y="326088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Good Food and Good Tim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751280" y="3973680"/>
            <a:ext cx="4392720" cy="2884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1150920" y="1592280"/>
            <a:ext cx="5149800" cy="133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666699"/>
                </a:solidFill>
                <a:latin typeface="Arial Black"/>
              </a:rPr>
              <a:t>Good 4 U</a:t>
            </a:r>
            <a:endParaRPr b="0" lang="en-US" sz="24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666699"/>
              </a:solidFill>
              <a:latin typeface="Arial Black"/>
              <a:ea typeface="Arial Black"/>
            </a:endParaRPr>
          </a:p>
        </p:txBody>
      </p:sp>
    </p:spTree>
  </p:cSld>
  <p:transition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178000" y="1371600"/>
            <a:ext cx="4788000" cy="4113360"/>
          </a:xfrm>
          <a:prstGeom prst="diamond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Sample Menu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93880" y="2208240"/>
            <a:ext cx="5554800" cy="24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d 4 U Veggie Burg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mply Good Shrimp Sal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ood Fruit Comb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dre’s Lemon Dill Chick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1584360"/>
            <a:ext cx="4788000" cy="4113000"/>
          </a:xfrm>
          <a:prstGeom prst="diamond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Our Staff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51200" y="1952280"/>
            <a:ext cx="4035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ichele Jenki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us Irvinel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oy Olafs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ulie Wolf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na Suzi Marbel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ck Warde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76360" y="2413080"/>
            <a:ext cx="3657600" cy="24256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What We Offer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178000" y="1371600"/>
            <a:ext cx="4788000" cy="4113360"/>
          </a:xfrm>
          <a:prstGeom prst="diamond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76240" y="2046240"/>
            <a:ext cx="559152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ealth-conscious philosoph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w-fat menu optio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od outreach program and health education to the local community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1376280"/>
            <a:ext cx="3887640" cy="4465800"/>
          </a:xfrm>
          <a:prstGeom prst="diamond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17680" y="1522440"/>
            <a:ext cx="183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How We Hire</a:t>
            </a:r>
            <a:endParaRPr b="1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24360" y="1592280"/>
            <a:ext cx="475128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rst-level managers must have five years of management experi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efs must have a culinary degree from an accredited scho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aiters and waitresses must have refer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728640" y="1736640"/>
            <a:ext cx="2438280" cy="365760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9T20:17:26Z</dcterms:created>
  <dc:creator>Pat R. Graves</dc:creator>
  <dc:description/>
  <dc:language>en-US</dc:language>
  <cp:lastModifiedBy>Student Name</cp:lastModifiedBy>
  <cp:lastPrinted>1997-10-01T13:10:12Z</cp:lastPrinted>
  <dcterms:modified xsi:type="dcterms:W3CDTF">2004-04-11T20:54:20Z</dcterms:modified>
  <cp:revision>35</cp:revision>
  <dc:subject/>
  <dc:title>Good Food Good Times</dc:title>
</cp:coreProperties>
</file>