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DC7E-7BAA-49C3-B273-7828D7DD4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2B88-7484-48EE-9CFC-600EBB493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24D1-F7B5-4777-8BD1-28E11AF88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8D862-F464-49E5-A38E-BFDC0549F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2C2CAA-31B0-4787-9F1D-AA0B8F3EA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2088E-D2DF-4FA9-8A5B-50EE46230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7E754-FAC6-4FAE-ADA3-8C26DE382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29BCB-C13F-4473-BC2B-DCB74A491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1DB86-AE33-4CB7-B86D-913AA7A07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C9AEC-7A10-462E-98C0-B61B05BC8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54110-724D-4344-9146-DD5FE7B0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333B-A851-42D6-B87E-29E0F64D3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3F453-9831-4743-86FC-23456000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4E350-303E-4B57-B2B4-49AE7580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48868-55C7-41ED-B0F6-035BFDA69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25557-B635-4111-8A25-59A729AED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32245-F789-4BDF-9184-8A78417BB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A2AF-8519-4867-B78C-0B6518CB0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C0DD-394C-4A14-BA6D-AF96A41AC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A9CAA-67EE-4EB5-AC4A-9D9B837EE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315B-3667-4AAB-A55C-98C4BD657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17B9-B1FE-4060-BC7C-4E02362F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2715F-CC55-46D9-98EF-84E0F8CAE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4DA5-3761-44B8-A936-169EF410E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808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808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66520" y="594360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1444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920" y="594360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00837-A88E-4483-95CF-9369ACA81F77}" type="slidenum">
              <a:rPr b="0" lang="en-US" sz="1000" spc="-1" strike="noStrike">
                <a:solidFill>
                  <a:srgbClr val="808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32004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660033"/>
                </a:solidFill>
                <a:latin typeface="Arial Black"/>
              </a:rPr>
              <a:t>Click to edit the title text format</a:t>
            </a:r>
            <a:endParaRPr b="0" lang="en-US" sz="56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57836-3464-4624-8D98-C2B0122B6025}" type="slidenum">
              <a:rPr b="0" lang="en-US" sz="1000" spc="-1" strike="noStrike">
                <a:solidFill>
                  <a:srgbClr val="808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23e2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523e2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23e2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3e2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23e2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23e2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3e2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23e2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23e2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3e2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23e2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808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3e2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23e2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808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3e2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509840" y="851040"/>
            <a:ext cx="656244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0">
                  <a:noFill/>
                </a:ln>
                <a:gradFill rotWithShape="0">
                  <a:gsLst>
                    <a:gs pos="0">
                      <a:srgbClr val="8f5f2f"/>
                    </a:gs>
                    <a:gs pos="100000">
                      <a:srgbClr val="660033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2d2015"/>
                  </a:outerShdw>
                </a:effectLst>
                <a:latin typeface="Impact"/>
              </a:rPr>
              <a:t>Marketing Strategy</a:t>
            </a:r>
            <a:endParaRPr b="0" lang="en-US" sz="6600" spc="1" strike="noStrike">
              <a:ln w="0">
                <a:noFill/>
              </a:ln>
              <a:gradFill rotWithShape="0">
                <a:gsLst>
                  <a:gs pos="0">
                    <a:srgbClr val="8f5f2f"/>
                  </a:gs>
                  <a:gs pos="100000">
                    <a:srgbClr val="660033"/>
                  </a:gs>
                </a:gsLst>
                <a:lin ang="8100000"/>
              </a:gradFill>
              <a:effectLst>
                <a:outerShdw dist="17819" dir="2700000" blurRad="0" rotWithShape="0">
                  <a:srgbClr val="2d2015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"/>
          <p:cNvSpPr/>
          <p:nvPr/>
        </p:nvSpPr>
        <p:spPr>
          <a:xfrm>
            <a:off x="1220760" y="2286000"/>
            <a:ext cx="7923240" cy="0"/>
          </a:xfrm>
          <a:prstGeom prst="line">
            <a:avLst/>
          </a:prstGeom>
          <a:ln w="76320">
            <a:solidFill>
              <a:srgbClr val="bea9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219320" y="2514600"/>
            <a:ext cx="7924680" cy="0"/>
          </a:xfrm>
          <a:prstGeom prst="line">
            <a:avLst/>
          </a:prstGeom>
          <a:ln w="76320">
            <a:solidFill>
              <a:srgbClr val="bea9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220760" y="2743200"/>
            <a:ext cx="7923240" cy="0"/>
          </a:xfrm>
          <a:prstGeom prst="line">
            <a:avLst/>
          </a:prstGeom>
          <a:ln w="76320">
            <a:solidFill>
              <a:srgbClr val="bea9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20760" y="2971800"/>
            <a:ext cx="7923240" cy="0"/>
          </a:xfrm>
          <a:prstGeom prst="line">
            <a:avLst/>
          </a:prstGeom>
          <a:ln w="76320">
            <a:solidFill>
              <a:srgbClr val="bea9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1219320" cy="6858000"/>
          </a:xfrm>
          <a:prstGeom prst="rect">
            <a:avLst/>
          </a:prstGeom>
          <a:solidFill>
            <a:srgbClr val="8f5f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87480" y="5931000"/>
            <a:ext cx="990000" cy="399960"/>
            <a:chOff x="87480" y="5931000"/>
            <a:chExt cx="990000" cy="399960"/>
          </a:xfrm>
        </p:grpSpPr>
        <p:sp>
          <p:nvSpPr>
            <p:cNvPr id="89" name=""/>
            <p:cNvSpPr txBox="1"/>
            <p:nvPr/>
          </p:nvSpPr>
          <p:spPr>
            <a:xfrm>
              <a:off x="801720" y="6083280"/>
              <a:ext cx="275760" cy="247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558360" y="5994360"/>
              <a:ext cx="357120" cy="336240"/>
              <a:chOff x="558360" y="5994360"/>
              <a:chExt cx="357120" cy="336240"/>
            </a:xfrm>
          </p:grpSpPr>
          <p:sp>
            <p:nvSpPr>
              <p:cNvPr id="91" name=""/>
              <p:cNvSpPr/>
              <p:nvPr/>
            </p:nvSpPr>
            <p:spPr>
              <a:xfrm>
                <a:off x="558360" y="5994360"/>
                <a:ext cx="357120" cy="33624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08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58440" y="6030360"/>
                <a:ext cx="165240" cy="18720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523e2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08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 txBox="1"/>
            <p:nvPr/>
          </p:nvSpPr>
          <p:spPr>
            <a:xfrm>
              <a:off x="87480" y="5931000"/>
              <a:ext cx="665640" cy="237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572000" y="3429000"/>
            <a:ext cx="425304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Arial Black"/>
              </a:rPr>
              <a:t>Objectives</a:t>
            </a: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674640" y="2711520"/>
            <a:ext cx="2147760" cy="12841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dfc08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Seek </a:t>
            </a:r>
            <a:endParaRPr b="0" lang="en-US" sz="2400" spc="-1" strike="noStrike">
              <a:solidFill>
                <a:srgbClr val="808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Potential </a:t>
            </a:r>
            <a:endParaRPr b="0" lang="en-US" sz="2400" spc="-1" strike="noStrike">
              <a:solidFill>
                <a:srgbClr val="808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Investors</a:t>
            </a:r>
            <a:endParaRPr b="0" lang="en-US" sz="2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97400" y="2709720"/>
            <a:ext cx="2147760" cy="12844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dfc08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Investigate </a:t>
            </a:r>
            <a:endParaRPr b="0" lang="en-US" sz="2400" spc="-1" strike="noStrike">
              <a:solidFill>
                <a:srgbClr val="808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Management</a:t>
            </a:r>
            <a:endParaRPr b="0" lang="en-US" sz="2400" spc="-1" strike="noStrike">
              <a:solidFill>
                <a:srgbClr val="808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Systems </a:t>
            </a:r>
            <a:endParaRPr b="0" lang="en-US" sz="2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321600" y="2709720"/>
            <a:ext cx="2147760" cy="12844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dfc08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Research </a:t>
            </a:r>
            <a:endParaRPr b="0" lang="en-US" sz="2400" spc="-1" strike="noStrike">
              <a:solidFill>
                <a:srgbClr val="808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the Web </a:t>
            </a:r>
            <a:endParaRPr b="0" lang="en-US" sz="2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0" y="355680"/>
            <a:ext cx="4189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Arial Black"/>
              </a:rPr>
              <a:t>Customer Requirements</a:t>
            </a: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871640" y="2073240"/>
            <a:ext cx="7043760" cy="37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Arial"/>
              </a:rPr>
              <a:t>Target health-conscious areas</a:t>
            </a: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Arial"/>
              </a:rPr>
              <a:t>Study traffic patterns in selected areas</a:t>
            </a: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Arial"/>
              </a:rPr>
              <a:t>Interview potential customer base </a:t>
            </a: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23e26"/>
                </a:solidFill>
                <a:latin typeface="Arial"/>
              </a:rPr>
              <a:t>food preferences</a:t>
            </a:r>
            <a:endParaRPr b="1" lang="en-US" sz="24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23e26"/>
                </a:solidFill>
                <a:latin typeface="Arial"/>
              </a:rPr>
              <a:t>sports preferences </a:t>
            </a:r>
            <a:endParaRPr b="1" lang="en-US" sz="2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68400" y="2190600"/>
            <a:ext cx="514440" cy="408240"/>
          </a:xfrm>
          <a:custGeom>
            <a:avLst/>
            <a:gdLst>
              <a:gd name="textAreaLeft" fmla="*/ 89280 w 514440"/>
              <a:gd name="textAreaRight" fmla="*/ 425160 w 514440"/>
              <a:gd name="textAreaTop" fmla="*/ 101880 h 408240"/>
              <a:gd name="textAreaBottom" fmla="*/ 306360 h 408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096" y="5400"/>
                </a:lnTo>
                <a:lnTo>
                  <a:pt x="14096" y="0"/>
                </a:lnTo>
                <a:lnTo>
                  <a:pt x="21600" y="10800"/>
                </a:lnTo>
                <a:lnTo>
                  <a:pt x="14096" y="21600"/>
                </a:lnTo>
                <a:lnTo>
                  <a:pt x="14096" y="16200"/>
                </a:lnTo>
                <a:lnTo>
                  <a:pt x="0" y="16200"/>
                </a:lnTo>
                <a:lnTo>
                  <a:pt x="3752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8f5f2f"/>
              </a:gs>
              <a:gs pos="100000">
                <a:srgbClr val="523e2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36680" y="1276200"/>
            <a:ext cx="4453200" cy="4453200"/>
          </a:xfrm>
          <a:prstGeom prst="rect">
            <a:avLst/>
          </a:prstGeom>
          <a:solidFill>
            <a:srgbClr val="808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50960" y="1376280"/>
            <a:ext cx="3802320" cy="4162680"/>
          </a:xfrm>
          <a:prstGeom prst="diamond">
            <a:avLst/>
          </a:prstGeom>
          <a:solidFill>
            <a:srgbClr val="dfc0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59200" y="1930320"/>
            <a:ext cx="3128760" cy="3129120"/>
          </a:xfrm>
          <a:prstGeom prst="rect">
            <a:avLst/>
          </a:prstGeom>
          <a:solidFill>
            <a:srgbClr val="bea99c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535200" y="2457360"/>
            <a:ext cx="1973520" cy="1973520"/>
          </a:xfrm>
          <a:prstGeom prst="ellipse">
            <a:avLst/>
          </a:prstGeom>
          <a:solidFill>
            <a:srgbClr val="660033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419200" y="5950080"/>
            <a:ext cx="4307040" cy="474480"/>
          </a:xfrm>
          <a:prstGeom prst="rect">
            <a:avLst/>
          </a:prstGeom>
          <a:solidFill>
            <a:srgbClr val="dfc0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Seek ideas from everyone</a:t>
            </a:r>
            <a:endParaRPr b="0" lang="en-US" sz="2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16200" y="5478480"/>
            <a:ext cx="3713040" cy="474480"/>
          </a:xfrm>
          <a:prstGeom prst="rect">
            <a:avLst/>
          </a:prstGeom>
          <a:solidFill>
            <a:srgbClr val="bea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Involve all in decisions</a:t>
            </a:r>
            <a:endParaRPr b="0" lang="en-US" sz="2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86200" y="5000760"/>
            <a:ext cx="3171600" cy="474480"/>
          </a:xfrm>
          <a:prstGeom prst="rect">
            <a:avLst/>
          </a:prstGeom>
          <a:solidFill>
            <a:srgbClr val="dfc0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Share the results</a:t>
            </a:r>
            <a:endParaRPr b="0" lang="en-US" sz="2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4680" y="4533840"/>
            <a:ext cx="2654640" cy="474840"/>
          </a:xfrm>
          <a:prstGeom prst="rect">
            <a:avLst/>
          </a:prstGeom>
          <a:solidFill>
            <a:srgbClr val="bea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Share the credit</a:t>
            </a:r>
            <a:endParaRPr b="0" lang="en-US" sz="2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432160" y="860400"/>
            <a:ext cx="4281480" cy="1432080"/>
          </a:xfrm>
          <a:custGeom>
            <a:avLst/>
            <a:gdLst>
              <a:gd name="textAreaLeft" fmla="*/ 673200 w 4281480"/>
              <a:gd name="textAreaRight" fmla="*/ 3608280 w 4281480"/>
              <a:gd name="textAreaTop" fmla="*/ 143280 h 1432080"/>
              <a:gd name="textAreaBottom" fmla="*/ 906480 h 1432080"/>
            </a:gdLst>
            <a:ahLst/>
            <a:rect l="textAreaLeft" t="textAreaTop" r="textAreaRight" b="textAreaBottom"/>
            <a:pathLst>
              <a:path w="21600" h="21600">
                <a:moveTo>
                  <a:pt x="0" y="7926"/>
                </a:moveTo>
                <a:arcTo wR="21600" hR="35746" stAng="-6553957" swAng="407911"/>
                <a:lnTo>
                  <a:pt x="3396" y="2166"/>
                </a:lnTo>
                <a:arcTo wR="21600" hR="35746" stAng="-6146046" swAng="1492091"/>
                <a:lnTo>
                  <a:pt x="18204" y="5303"/>
                </a:lnTo>
                <a:arcTo wR="21600" hR="35746" stAng="-4653954" swAng="407911"/>
                <a:lnTo>
                  <a:pt x="18900" y="12582"/>
                </a:lnTo>
                <a:lnTo>
                  <a:pt x="21600" y="21600"/>
                </a:lnTo>
                <a:lnTo>
                  <a:pt x="21600" y="21600"/>
                </a:lnTo>
                <a:arcTo wR="21600" hR="35746" stAng="-4246043" swAng="-693215"/>
                <a:lnTo>
                  <a:pt x="15504" y="14532"/>
                </a:lnTo>
                <a:arcTo wR="21600" hR="35746" stAng="-4939258" swAng="-921484"/>
                <a:lnTo>
                  <a:pt x="6096" y="17669"/>
                </a:lnTo>
                <a:arcTo wR="21600" hR="35746" stAng="-5860742" swAng="-693215"/>
                <a:lnTo>
                  <a:pt x="2700" y="12582"/>
                </a:lnTo>
                <a:close/>
              </a:path>
              <a:path fill="none" w="21600" h="21600">
                <a:moveTo>
                  <a:pt x="6096" y="14532"/>
                </a:moveTo>
                <a:arcTo wR="21600" hR="35746" stAng="-5860742" swAng="-285304"/>
                <a:lnTo>
                  <a:pt x="6096" y="17669"/>
                </a:lnTo>
              </a:path>
              <a:path fill="none" w="21600" h="21600">
                <a:moveTo>
                  <a:pt x="15504" y="14532"/>
                </a:moveTo>
                <a:arcTo wR="21600" hR="35746" stAng="-4939258" swAng="285304"/>
                <a:lnTo>
                  <a:pt x="15504" y="17669"/>
                </a:lnTo>
              </a:path>
              <a:path fill="none" w="21600" h="21600">
                <a:moveTo>
                  <a:pt x="3396" y="5303"/>
                </a:moveTo>
                <a:lnTo>
                  <a:pt x="3396" y="15840"/>
                </a:lnTo>
              </a:path>
              <a:path fill="none" w="21600" h="21600">
                <a:moveTo>
                  <a:pt x="18204" y="5303"/>
                </a:moveTo>
                <a:lnTo>
                  <a:pt x="18204" y="15840"/>
                </a:lnTo>
              </a:path>
            </a:pathLst>
          </a:custGeom>
          <a:gradFill rotWithShape="0">
            <a:gsLst>
              <a:gs pos="0">
                <a:srgbClr val="dfc08d"/>
              </a:gs>
              <a:gs pos="50000">
                <a:srgbClr val="ffffcc"/>
              </a:gs>
              <a:gs pos="100000">
                <a:srgbClr val="dfc08d"/>
              </a:gs>
            </a:gsLst>
            <a:lin ang="10800000"/>
          </a:gra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409920" y="1020600"/>
            <a:ext cx="232560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727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0">
                  <a:noFill/>
                </a:ln>
                <a:gradFill rotWithShape="0">
                  <a:gsLst>
                    <a:gs pos="0">
                      <a:srgbClr val="8f5f2f"/>
                    </a:gs>
                    <a:gs pos="100000">
                      <a:srgbClr val="660033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2d2015"/>
                  </a:outerShdw>
                </a:effectLst>
                <a:latin typeface="Impact"/>
              </a:rPr>
              <a:t> </a:t>
            </a:r>
            <a:r>
              <a:rPr b="0" lang="en-US" sz="6600" spc="1" strike="noStrike">
                <a:ln w="0">
                  <a:noFill/>
                </a:ln>
                <a:gradFill rotWithShape="0">
                  <a:gsLst>
                    <a:gs pos="0">
                      <a:srgbClr val="8f5f2f"/>
                    </a:gs>
                    <a:gs pos="100000">
                      <a:srgbClr val="660033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2d2015"/>
                  </a:outerShdw>
                </a:effectLst>
                <a:latin typeface="Impact"/>
              </a:rPr>
              <a:t>Teamwork</a:t>
            </a:r>
            <a:endParaRPr b="0" lang="en-US" sz="6600" spc="1" strike="noStrike">
              <a:ln w="0">
                <a:noFill/>
              </a:ln>
              <a:gradFill rotWithShape="0">
                <a:gsLst>
                  <a:gs pos="0">
                    <a:srgbClr val="8f5f2f"/>
                  </a:gs>
                  <a:gs pos="100000">
                    <a:srgbClr val="660033"/>
                  </a:gs>
                </a:gsLst>
                <a:lin ang="8100000"/>
              </a:gradFill>
              <a:effectLst>
                <a:outerShdw dist="17819" dir="2700000" blurRad="0" rotWithShape="0">
                  <a:srgbClr val="2d2015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054240" y="2120760"/>
            <a:ext cx="303696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16:28:05Z</dcterms:created>
  <dc:creator>Pat Graves</dc:creator>
  <dc:description/>
  <dc:language>en-US</dc:language>
  <cp:lastModifiedBy>Pat Graves</cp:lastModifiedBy>
  <dcterms:modified xsi:type="dcterms:W3CDTF">2004-03-04T04:36:42Z</dcterms:modified>
  <cp:revision>11</cp:revision>
  <dc:subject/>
  <dc:title>Slide 1</dc:title>
</cp:coreProperties>
</file>