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1BBB-F42E-4667-9C50-BD5943096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2f2f2"/>
              </a:solidFill>
              <a:latin typeface="Arial Rounded MT 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04840" y="922680"/>
            <a:ext cx="6934320" cy="277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04840" y="3962520"/>
            <a:ext cx="6934320" cy="277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5A5D-186C-48AA-B0CB-9113C83C5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2f2f2"/>
              </a:solidFill>
              <a:latin typeface="Arial Rounded MT 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04840" y="922680"/>
            <a:ext cx="3383640" cy="277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58040" y="922680"/>
            <a:ext cx="3383640" cy="277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04840" y="3962520"/>
            <a:ext cx="3383640" cy="277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58040" y="3962520"/>
            <a:ext cx="3383640" cy="277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B5BC-91AA-460F-9F8B-44963C463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2f2f2"/>
              </a:solidFill>
              <a:latin typeface="Arial Rounded MT Bol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04840" y="922680"/>
            <a:ext cx="2232720" cy="277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49520" y="922680"/>
            <a:ext cx="2232720" cy="277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794200" y="922680"/>
            <a:ext cx="2232720" cy="277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04840" y="3962520"/>
            <a:ext cx="2232720" cy="277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49520" y="3962520"/>
            <a:ext cx="2232720" cy="277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794200" y="3962520"/>
            <a:ext cx="2232720" cy="277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6171-986E-44AE-B9F6-A6D7488B4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7AEE6-CB62-4E12-9890-B657824C4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2f2f2"/>
              </a:solidFill>
              <a:latin typeface="Arial Rounded MT Bol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104840" y="922680"/>
            <a:ext cx="6934320" cy="58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DAE00-8879-43F6-A9DD-C21586480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2f2f2"/>
              </a:solidFill>
              <a:latin typeface="Arial Rounded MT 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04840" y="922680"/>
            <a:ext cx="6934320" cy="58194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91325-85FB-45A3-8BE4-4A7C0FD89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2f2f2"/>
              </a:solidFill>
              <a:latin typeface="Arial Rounded MT 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04840" y="922680"/>
            <a:ext cx="3383640" cy="58194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8040" y="922680"/>
            <a:ext cx="3383640" cy="58194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38B01-EB07-41F2-A5A9-13355F724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2f2f2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E4F12-1A76-47D2-8334-1B0F26365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96981-A9D7-4144-89EC-286BEFEA5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2f2f2"/>
              </a:solidFill>
              <a:latin typeface="Arial Rounded MT 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04840" y="922680"/>
            <a:ext cx="3383640" cy="277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8040" y="922680"/>
            <a:ext cx="3383640" cy="58194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04840" y="3962520"/>
            <a:ext cx="3383640" cy="277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57B4D-4A63-46BD-9545-49FD0E660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2f2f2"/>
              </a:solidFill>
              <a:latin typeface="Arial Rounded MT Bol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04840" y="922680"/>
            <a:ext cx="6934320" cy="58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7DB5-3E16-4BEA-958B-09CDA815C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2f2f2"/>
              </a:solidFill>
              <a:latin typeface="Arial Rounded MT Bol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04840" y="922680"/>
            <a:ext cx="3383640" cy="58194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8040" y="922680"/>
            <a:ext cx="3383640" cy="277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58040" y="3962520"/>
            <a:ext cx="3383640" cy="277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BE380-CB54-43A0-B9EA-8E7DDAFDA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2f2f2"/>
              </a:solidFill>
              <a:latin typeface="Arial Rounded MT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04840" y="922680"/>
            <a:ext cx="3383640" cy="277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8040" y="922680"/>
            <a:ext cx="3383640" cy="277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04840" y="3962520"/>
            <a:ext cx="6934320" cy="277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22B1D-2E2E-4C67-98C2-3333056F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2f2f2"/>
              </a:solidFill>
              <a:latin typeface="Arial Rounded MT Bol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04840" y="922680"/>
            <a:ext cx="6934320" cy="277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104840" y="3962520"/>
            <a:ext cx="6934320" cy="277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5B234-6DFA-48A6-BAD9-F740A6B38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2f2f2"/>
              </a:solidFill>
              <a:latin typeface="Arial Rounded MT Bol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04840" y="922680"/>
            <a:ext cx="3383640" cy="277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8040" y="922680"/>
            <a:ext cx="3383640" cy="277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04840" y="3962520"/>
            <a:ext cx="3383640" cy="277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58040" y="3962520"/>
            <a:ext cx="3383640" cy="277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23663-CD4C-496F-A158-E0F9CB39E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2f2f2"/>
              </a:solidFill>
              <a:latin typeface="Arial Rounded MT Bol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04840" y="922680"/>
            <a:ext cx="2232720" cy="277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49520" y="922680"/>
            <a:ext cx="2232720" cy="277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794200" y="922680"/>
            <a:ext cx="2232720" cy="277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104840" y="3962520"/>
            <a:ext cx="2232720" cy="277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49520" y="3962520"/>
            <a:ext cx="2232720" cy="277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794200" y="3962520"/>
            <a:ext cx="2232720" cy="277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44DF0-C2BE-4747-A271-082FBC6F6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2f2f2"/>
              </a:solidFill>
              <a:latin typeface="Arial Rounded MT Bol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04840" y="922680"/>
            <a:ext cx="6934320" cy="58194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22FE-8F40-4AC3-93A0-B54CF8726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2f2f2"/>
              </a:solidFill>
              <a:latin typeface="Arial Rounded MT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04840" y="922680"/>
            <a:ext cx="3383640" cy="58194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8040" y="922680"/>
            <a:ext cx="3383640" cy="58194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0FD9-3051-4D35-BB4A-27A72A7A5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2f2f2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EC23-92AA-4E1F-8EAD-7922BC7CD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3C8D-0FEF-42EB-A64F-4DE98EEB5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2f2f2"/>
              </a:solidFill>
              <a:latin typeface="Arial Rounded MT 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04840" y="922680"/>
            <a:ext cx="3383640" cy="277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8040" y="922680"/>
            <a:ext cx="3383640" cy="58194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04840" y="3962520"/>
            <a:ext cx="3383640" cy="277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919E-5F6C-47C1-B63D-C5EE7841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2f2f2"/>
              </a:solidFill>
              <a:latin typeface="Arial Rounded MT 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04840" y="922680"/>
            <a:ext cx="3383640" cy="58194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8040" y="922680"/>
            <a:ext cx="3383640" cy="277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58040" y="3962520"/>
            <a:ext cx="3383640" cy="277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E943-1A95-4F23-B898-8D3B0DE8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2f2f2"/>
              </a:solidFill>
              <a:latin typeface="Arial Rounded MT 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04840" y="922680"/>
            <a:ext cx="3383640" cy="277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8040" y="922680"/>
            <a:ext cx="3383640" cy="277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04840" y="3962520"/>
            <a:ext cx="6934320" cy="277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411480" bIns="411480" anchor="ctr" anchorCtr="1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F8B1-E8D7-4706-A261-C0AF476D1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00000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2f2f2"/>
                </a:solidFill>
                <a:latin typeface="Arial Rounded MT Bold"/>
              </a:rPr>
              <a:t>Click to edit the title text format</a:t>
            </a:r>
            <a:endParaRPr b="1" lang="en-US" sz="6000" spc="-1" strike="noStrike">
              <a:solidFill>
                <a:srgbClr val="f2f2f2"/>
              </a:solidFill>
              <a:latin typeface="Arial Rounded MT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B6911-7BBE-40F6-9C46-A97B4ABE2EC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104840" y="922680"/>
            <a:ext cx="6934320" cy="5819400"/>
          </a:xfrm>
          <a:prstGeom prst="rect">
            <a:avLst/>
          </a:prstGeom>
          <a:solidFill>
            <a:srgbClr val="898555"/>
          </a:solidFill>
          <a:ln cap="sq" w="38160">
            <a:solidFill>
              <a:srgbClr val="000000"/>
            </a:solidFill>
            <a:miter/>
          </a:ln>
        </p:spPr>
        <p:txBody>
          <a:bodyPr lIns="365760" rIns="365760" tIns="411480" bIns="411480" anchor="ctr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a4603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2057400" indent="-228600">
              <a:spcBef>
                <a:spcPts val="799"/>
              </a:spcBef>
              <a:buClr>
                <a:srgbClr val="898555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6723000" y="5829480"/>
            <a:ext cx="2136960" cy="863280"/>
            <a:chOff x="6723000" y="5829480"/>
            <a:chExt cx="2136960" cy="863280"/>
          </a:xfrm>
        </p:grpSpPr>
        <p:sp>
          <p:nvSpPr>
            <p:cNvPr id="6" name=""/>
            <p:cNvSpPr txBox="1"/>
            <p:nvPr/>
          </p:nvSpPr>
          <p:spPr>
            <a:xfrm>
              <a:off x="8264520" y="6158160"/>
              <a:ext cx="595440" cy="534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7738920" y="5966640"/>
              <a:ext cx="770400" cy="726120"/>
              <a:chOff x="7738920" y="5966640"/>
              <a:chExt cx="770400" cy="726120"/>
            </a:xfrm>
          </p:grpSpPr>
          <p:sp>
            <p:nvSpPr>
              <p:cNvPr id="8" name=""/>
              <p:cNvSpPr/>
              <p:nvPr/>
            </p:nvSpPr>
            <p:spPr>
              <a:xfrm>
                <a:off x="7738920" y="5966640"/>
                <a:ext cx="770400" cy="72612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955280" y="6044760"/>
                <a:ext cx="356760" cy="40464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e2ddd4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" name=""/>
            <p:cNvSpPr txBox="1"/>
            <p:nvPr/>
          </p:nvSpPr>
          <p:spPr>
            <a:xfrm>
              <a:off x="6723000" y="5829480"/>
              <a:ext cx="1436400" cy="512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737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2f2f2"/>
                </a:solidFill>
                <a:latin typeface="Arial Rounded MT Bold"/>
              </a:rPr>
              <a:t>Click to edit the title text format</a:t>
            </a:r>
            <a:endParaRPr b="1" lang="en-US" sz="7200" spc="-1" strike="noStrike">
              <a:solidFill>
                <a:srgbClr val="f2f2f2"/>
              </a:solidFill>
              <a:latin typeface="Arial Rounded MT 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8CA18-3754-447F-9155-23CC80B9A07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45252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905040" algn="ctr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357560" algn="ctr"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1810440" algn="ctr">
              <a:spcBef>
                <a:spcPts val="601"/>
              </a:spcBef>
              <a:buClr>
                <a:srgbClr val="898555"/>
              </a:buClr>
              <a:buFont typeface="Arial Rounded MT Bol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181044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181044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737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2f2f2"/>
                </a:solidFill>
                <a:latin typeface="Arial Rounded MT Bold"/>
              </a:rPr>
              <a:t>Nutrition Seminar </a:t>
            </a:r>
            <a:endParaRPr b="1" lang="en-US" sz="6600" spc="-1" strike="noStrike">
              <a:solidFill>
                <a:srgbClr val="f2f2f2"/>
              </a:solidFill>
              <a:latin typeface="Arial Rounded MT 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676520" y="3367080"/>
            <a:ext cx="5790960" cy="2424240"/>
          </a:xfrm>
          <a:prstGeom prst="rect">
            <a:avLst/>
          </a:prstGeom>
          <a:solidFill>
            <a:srgbClr val="e2ddd4"/>
          </a:solidFill>
          <a:ln cap="sq" w="190440">
            <a:solidFill>
              <a:srgbClr val="898555"/>
            </a:solidFill>
            <a:miter/>
          </a:ln>
        </p:spPr>
        <p:txBody>
          <a:bodyPr lIns="365760" rIns="365760" tIns="411480" bIns="411480" anchor="t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 Rounded MT Bold"/>
              </a:rPr>
              <a:t>Sponsored by</a:t>
            </a:r>
            <a:endParaRPr b="1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430440" y="4475160"/>
            <a:ext cx="2285640" cy="922320"/>
            <a:chOff x="3430440" y="4475160"/>
            <a:chExt cx="2285640" cy="922320"/>
          </a:xfrm>
        </p:grpSpPr>
        <p:sp>
          <p:nvSpPr>
            <p:cNvPr id="91" name=""/>
            <p:cNvSpPr txBox="1"/>
            <p:nvPr/>
          </p:nvSpPr>
          <p:spPr>
            <a:xfrm>
              <a:off x="5079240" y="4826160"/>
              <a:ext cx="63684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4517280" y="4621680"/>
              <a:ext cx="824040" cy="775440"/>
              <a:chOff x="4517280" y="4621680"/>
              <a:chExt cx="824040" cy="775440"/>
            </a:xfrm>
          </p:grpSpPr>
          <p:sp>
            <p:nvSpPr>
              <p:cNvPr id="93" name=""/>
              <p:cNvSpPr/>
              <p:nvPr/>
            </p:nvSpPr>
            <p:spPr>
              <a:xfrm>
                <a:off x="4517280" y="4621680"/>
                <a:ext cx="824040" cy="77544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748760" y="4705200"/>
                <a:ext cx="381600" cy="43200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e2ddd4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"/>
            <p:cNvSpPr txBox="1"/>
            <p:nvPr/>
          </p:nvSpPr>
          <p:spPr>
            <a:xfrm>
              <a:off x="3430440" y="4475160"/>
              <a:ext cx="1536480" cy="547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00000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2f2f2"/>
                </a:solidFill>
                <a:latin typeface="Arial Rounded MT Bold"/>
              </a:rPr>
              <a:t>Who Should Attend</a:t>
            </a:r>
            <a:endParaRPr b="1" lang="en-US" sz="6000" spc="-1" strike="noStrike">
              <a:solidFill>
                <a:srgbClr val="f2f2f2"/>
              </a:solidFill>
              <a:latin typeface="Arial Rounded MT Bol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04840" y="1965240"/>
            <a:ext cx="6934320" cy="3587760"/>
          </a:xfrm>
          <a:prstGeom prst="rect">
            <a:avLst/>
          </a:prstGeom>
          <a:solidFill>
            <a:srgbClr val="898555"/>
          </a:solidFill>
          <a:ln cap="sq" w="38160">
            <a:solidFill>
              <a:srgbClr val="000000"/>
            </a:solidFill>
            <a:miter/>
          </a:ln>
        </p:spPr>
        <p:txBody>
          <a:bodyPr lIns="365760" rIns="365760" tIns="411480" bIns="411480" anchor="ctr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a4603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Good 4 U chef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a4603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Athlete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a4603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Health-care professional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a4603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Individuals interested in healthy eating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7200" y="1504800"/>
            <a:ext cx="8229600" cy="4191120"/>
          </a:xfrm>
          <a:prstGeom prst="rect">
            <a:avLst/>
          </a:prstGeom>
          <a:solidFill>
            <a:srgbClr val="898555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00000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2f2f2"/>
                </a:solidFill>
                <a:latin typeface="Arial Rounded MT Bold"/>
              </a:rPr>
              <a:t>When and Where</a:t>
            </a:r>
            <a:endParaRPr b="1" lang="en-US" sz="6000" spc="-1" strike="noStrike">
              <a:solidFill>
                <a:srgbClr val="f2f2f2"/>
              </a:solidFill>
              <a:latin typeface="Arial Rounded MT Bold"/>
            </a:endParaRPr>
          </a:p>
        </p:txBody>
      </p:sp>
      <p:sp>
        <p:nvSpPr>
          <p:cNvPr id="100" name=""/>
          <p:cNvSpPr/>
          <p:nvPr/>
        </p:nvSpPr>
        <p:spPr>
          <a:xfrm>
            <a:off x="990720" y="1657440"/>
            <a:ext cx="3809880" cy="1218960"/>
          </a:xfrm>
          <a:prstGeom prst="rightArrow">
            <a:avLst>
              <a:gd name="adj1" fmla="val 50000"/>
              <a:gd name="adj2" fmla="val 78138"/>
            </a:avLst>
          </a:prstGeom>
          <a:gradFill rotWithShape="0">
            <a:gsLst>
              <a:gs pos="0">
                <a:srgbClr val="e2ddd4"/>
              </a:gs>
              <a:gs pos="100000">
                <a:srgbClr val="e9e6e0">
                  <a:alpha val="3019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ebruary 14-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1847880"/>
            <a:ext cx="3200400" cy="838080"/>
          </a:xfrm>
          <a:prstGeom prst="rect">
            <a:avLst/>
          </a:prstGeom>
          <a:solidFill>
            <a:srgbClr val="e2ddd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Mia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2952720"/>
            <a:ext cx="3809880" cy="1219320"/>
          </a:xfrm>
          <a:prstGeom prst="rightArrow">
            <a:avLst>
              <a:gd name="adj1" fmla="val 50000"/>
              <a:gd name="adj2" fmla="val 78115"/>
            </a:avLst>
          </a:prstGeom>
          <a:gradFill rotWithShape="0">
            <a:gsLst>
              <a:gs pos="0">
                <a:srgbClr val="e2ddd4"/>
              </a:gs>
              <a:gs pos="100000">
                <a:srgbClr val="e9e6e0">
                  <a:alpha val="3019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May 10-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952880" y="3143160"/>
            <a:ext cx="3200400" cy="838440"/>
          </a:xfrm>
          <a:prstGeom prst="rect">
            <a:avLst/>
          </a:prstGeom>
          <a:solidFill>
            <a:srgbClr val="e2ddd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an Francis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90720" y="4286160"/>
            <a:ext cx="3809880" cy="1219320"/>
          </a:xfrm>
          <a:prstGeom prst="rightArrow">
            <a:avLst>
              <a:gd name="adj1" fmla="val 50000"/>
              <a:gd name="adj2" fmla="val 78115"/>
            </a:avLst>
          </a:prstGeom>
          <a:gradFill rotWithShape="0">
            <a:gsLst>
              <a:gs pos="0">
                <a:srgbClr val="e2ddd4"/>
              </a:gs>
              <a:gs pos="100000">
                <a:srgbClr val="e9e6e0">
                  <a:alpha val="3019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ptember 8-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952880" y="4476600"/>
            <a:ext cx="3200400" cy="838440"/>
          </a:xfrm>
          <a:prstGeom prst="rect">
            <a:avLst/>
          </a:prstGeom>
          <a:solidFill>
            <a:srgbClr val="e2ddd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New Y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00000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2f2f2"/>
                </a:solidFill>
                <a:latin typeface="Arial Rounded MT Bold"/>
              </a:rPr>
              <a:t>Daily Activities</a:t>
            </a:r>
            <a:endParaRPr b="1" lang="en-US" sz="6000" spc="-1" strike="noStrike">
              <a:solidFill>
                <a:srgbClr val="f2f2f2"/>
              </a:solidFill>
              <a:latin typeface="Arial Rounded MT Bol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830240"/>
            <a:ext cx="7925040" cy="3587760"/>
          </a:xfrm>
          <a:prstGeom prst="rect">
            <a:avLst/>
          </a:prstGeom>
          <a:solidFill>
            <a:srgbClr val="898555"/>
          </a:solidFill>
          <a:ln cap="sq" w="38160">
            <a:solidFill>
              <a:srgbClr val="000000"/>
            </a:solidFill>
            <a:miter/>
          </a:ln>
        </p:spPr>
        <p:txBody>
          <a:bodyPr lIns="365760" rIns="365760" tIns="411480" bIns="411480" anchor="ctr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a4603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Nutrition lectures in the morning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a4603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Healthy food sampling at lunchtime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a4603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Leisure activities in the afternoon 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a4603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Discussion groups in the evening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00000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2f2f2"/>
                </a:solidFill>
                <a:latin typeface="Arial Rounded MT Bold"/>
              </a:rPr>
              <a:t>Leisure Activities</a:t>
            </a:r>
            <a:endParaRPr b="1" lang="en-US" sz="6000" spc="-1" strike="noStrike">
              <a:solidFill>
                <a:srgbClr val="f2f2f2"/>
              </a:solidFill>
              <a:latin typeface="Arial Rounded MT Bol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04840" y="1837800"/>
            <a:ext cx="6934320" cy="3684600"/>
          </a:xfrm>
          <a:prstGeom prst="rect">
            <a:avLst/>
          </a:prstGeom>
          <a:solidFill>
            <a:srgbClr val="898555"/>
          </a:solidFill>
          <a:ln cap="sq" w="38160">
            <a:solidFill>
              <a:srgbClr val="000000"/>
            </a:solidFill>
            <a:miter/>
          </a:ln>
        </p:spPr>
        <p:txBody>
          <a:bodyPr lIns="365760" rIns="365760" tIns="411480" bIns="411480" anchor="ctr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a4603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ailing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a4603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shing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a4603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Golf clinic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a4603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In-line skate clinic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a4603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Healthy cooking clinic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00000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2f2f2"/>
                </a:solidFill>
                <a:latin typeface="Arial Rounded MT Bold"/>
              </a:rPr>
              <a:t>Cost/Accommodations</a:t>
            </a:r>
            <a:endParaRPr b="1" lang="en-US" sz="5400" spc="-1" strike="noStrike">
              <a:solidFill>
                <a:srgbClr val="f2f2f2"/>
              </a:solidFill>
              <a:latin typeface="Arial Rounded MT 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55440"/>
            <a:ext cx="8229600" cy="3978360"/>
          </a:xfrm>
          <a:prstGeom prst="rect">
            <a:avLst/>
          </a:prstGeom>
          <a:solidFill>
            <a:srgbClr val="898555"/>
          </a:solidFill>
          <a:ln cap="sq" w="38160">
            <a:solidFill>
              <a:srgbClr val="000000"/>
            </a:solidFill>
            <a:miter/>
          </a:ln>
        </p:spPr>
        <p:txBody>
          <a:bodyPr lIns="365760" rIns="365760" tIns="411480" bIns="411480" anchor="ctr" anchorCtr="1">
            <a:normAutofit/>
          </a:bodyPr>
          <a:p>
            <a:pPr marL="343080" indent="-343080">
              <a:spcBef>
                <a:spcPts val="799"/>
              </a:spcBef>
              <a:buClr>
                <a:srgbClr val="a4603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All-inclusive cost is  $900 for each person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a4603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Includes room for 3 nights, all meals, scheduled activities, and gratuities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a4603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ost based on double occupancy. For single occupancy add $250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985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000000"/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2f2f2"/>
                </a:solidFill>
                <a:latin typeface="Arial Rounded MT Bold"/>
              </a:rPr>
              <a:t>To Good Health!</a:t>
            </a:r>
            <a:endParaRPr b="1" lang="en-US" sz="6000" spc="-1" strike="noStrike">
              <a:solidFill>
                <a:srgbClr val="f2f2f2"/>
              </a:solidFill>
              <a:latin typeface="Arial Rounded MT Bol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14400" y="4046400"/>
            <a:ext cx="3429000" cy="2202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308400" y="3559320"/>
            <a:ext cx="2787480" cy="16221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28600" y="1295280"/>
            <a:ext cx="3657600" cy="24256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5105520" y="1523880"/>
            <a:ext cx="3657600" cy="24321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5637240" y="4778280"/>
            <a:ext cx="2744640" cy="16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2T20:16:01Z</dcterms:created>
  <dc:creator>Pat R. Graves</dc:creator>
  <dc:description/>
  <dc:language>en-US</dc:language>
  <cp:lastModifiedBy>Ms. Malnick</cp:lastModifiedBy>
  <dcterms:modified xsi:type="dcterms:W3CDTF">2004-04-07T00:20:52Z</dcterms:modified>
  <cp:revision>13</cp:revision>
  <dc:subject/>
  <dc:title>Nutrition Seminar </dc:title>
</cp:coreProperties>
</file>