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37C-39F3-4AAB-8588-6E8AEB3F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BB9-71E7-44C1-A77A-918E7F01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BBC-A52E-4276-A13F-257D0012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3A4B-FE4C-4985-89EA-E3791207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9AC5-850B-4DA0-A522-C03D3311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671A-8386-4E56-A9FB-821594E5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4ADE-6F1C-4B22-BC13-557C0B9C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451A-32F3-4127-8103-7255B085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7C68-10CE-424B-BFAE-E13570D0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3D52-00FF-478C-8C72-65C289B9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7871-3F94-4FD1-B170-0A211168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223-43C6-4D79-AE9A-77556764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7982-293B-4249-900C-22401AD0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152F-872A-4E63-8D6C-0A1B95D4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0F61-F2A9-4EC5-938F-C81B64A3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D593-E083-43C3-8685-662C69C1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3CA7-8662-4563-B6D3-8D2F2DE7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6C1F-39B8-4228-BB87-E602486C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DEC-1528-4CC3-9B1B-AC843C6B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6CD-E708-4878-941B-7FB4FA51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23C-B2C5-4739-9CEF-4B49F91C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F89D-A9F0-459F-A351-1A1592EA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8A7-2083-41CA-9B7E-E9161E4B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769-533B-4796-8D8E-124DEC67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533520"/>
            <a:ext cx="8305920" cy="5715000"/>
          </a:xfrm>
          <a:prstGeom prst="roundRect">
            <a:avLst>
              <a:gd name="adj" fmla="val 13727"/>
            </a:avLst>
          </a:prstGeom>
          <a:solidFill>
            <a:srgbClr val="ffffff">
              <a:alpha val="70000"/>
            </a:srgbClr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52280"/>
            <a:ext cx="8534520" cy="1219320"/>
          </a:xfrm>
          <a:prstGeom prst="pie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1932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66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80C8-F69E-4BFA-8FCE-108A9B787BE4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070000"/>
            <a:ext cx="7391520" cy="33530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27000"/>
            <a:ext cx="7162920" cy="990720"/>
          </a:xfrm>
          <a:prstGeom prst="rect">
            <a:avLst/>
          </a:prstGeom>
          <a:solidFill>
            <a:srgbClr val="ffffff">
              <a:alpha val="70000"/>
            </a:srgbClr>
          </a:solidFill>
          <a:ln w="507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84200"/>
            <a:ext cx="8991720" cy="1828800"/>
          </a:xfrm>
          <a:prstGeom prst="pie">
            <a:avLst/>
          </a:prstGeom>
          <a:solidFill>
            <a:srgbClr val="66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060720"/>
            <a:ext cx="83059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9597-1491-4A50-B8DA-72CA4A35BC66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429000" y="4811760"/>
            <a:ext cx="2285640" cy="922320"/>
            <a:chOff x="3429000" y="4811760"/>
            <a:chExt cx="2285640" cy="922320"/>
          </a:xfrm>
        </p:grpSpPr>
        <p:sp>
          <p:nvSpPr>
            <p:cNvPr id="53" name=""/>
            <p:cNvSpPr txBox="1"/>
            <p:nvPr/>
          </p:nvSpPr>
          <p:spPr>
            <a:xfrm>
              <a:off x="5077800" y="5162760"/>
              <a:ext cx="6368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4515840" y="4958280"/>
              <a:ext cx="824040" cy="775440"/>
              <a:chOff x="4515840" y="4958280"/>
              <a:chExt cx="824040" cy="775440"/>
            </a:xfrm>
          </p:grpSpPr>
          <p:sp>
            <p:nvSpPr>
              <p:cNvPr id="55" name=""/>
              <p:cNvSpPr/>
              <p:nvPr/>
            </p:nvSpPr>
            <p:spPr>
              <a:xfrm>
                <a:off x="4515840" y="4958280"/>
                <a:ext cx="824040" cy="7754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747320" y="5041800"/>
                <a:ext cx="381600" cy="4320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 txBox="1"/>
            <p:nvPr/>
          </p:nvSpPr>
          <p:spPr>
            <a:xfrm>
              <a:off x="3429000" y="4811760"/>
              <a:ext cx="1536480" cy="54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 Black"/>
              </a:rPr>
              <a:t>Attracting Investors</a:t>
            </a:r>
            <a:endParaRPr b="1" lang="en-US" sz="4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rategic Planning Sess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Objectives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ket ourselves as an attractive franchise invest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l the story of our suc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am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Ange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Financial History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31880" y="2055960"/>
          <a:ext cx="7619760" cy="3281040"/>
        </p:xfrm>
        <a:graphic>
          <a:graphicData uri="http://schemas.openxmlformats.org/drawingml/2006/table">
            <a:tbl>
              <a:tblPr/>
              <a:tblGrid>
                <a:gridCol w="2133360"/>
                <a:gridCol w="1828800"/>
                <a:gridCol w="1766880"/>
                <a:gridCol w="1890720"/>
              </a:tblGrid>
              <a:tr h="78696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housand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</a:tr>
              <a:tr h="831960">
                <a:tc>
                  <a:txBody>
                    <a:bodyPr lIns="137160" rIns="1371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ven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</a:tr>
              <a:tr h="830160">
                <a:tc>
                  <a:txBody>
                    <a:bodyPr lIns="137160" rIns="1371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 Budg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</a:tr>
              <a:tr h="831960">
                <a:tc>
                  <a:txBody>
                    <a:bodyPr lIns="137160" rIns="1371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37160" marR="137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36576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365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Our Specialties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w-fat men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alcoholic bever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getarian me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sh-baked brea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Key Benefits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ick return of invested fu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e recogn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y” im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Next Steps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the business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 the marketing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te interested inves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stigate other funding o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Marple</dc:creator>
  <dc:description/>
  <dc:language>en-US</dc:language>
  <cp:lastModifiedBy>Pat Graves</cp:lastModifiedBy>
  <cp:lastPrinted>1996-11-27T23:10:18Z</cp:lastPrinted>
  <dcterms:modified xsi:type="dcterms:W3CDTF">2004-03-11T01:09:02Z</dcterms:modified>
  <cp:revision>34</cp:revision>
  <dc:subject/>
  <dc:title>Attracting Investors</dc:title>
</cp:coreProperties>
</file>