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6A3-8799-41A1-90EB-BEF23409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88240"/>
            <a:ext cx="784872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BA9-83F7-47E8-A14E-4F1AD37E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912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FCD-B61A-4FE0-B178-0385F3E3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1120" y="20570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65040" y="20570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882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1120" y="41882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65040" y="41882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373-23FC-4568-B248-7B71E402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161D-5001-4498-866A-58C92033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82D6-D8E9-4B58-AD2A-28E9FBC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9BF-33FC-4881-9C6B-D7783937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13F0-D41C-483C-BA38-D57FBAD9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4C2F-627F-4A65-8FE9-5D0B2DE7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77720" y="68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AF64-E6A9-492E-844D-27FE336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57A3-9332-4DA0-B352-20D1F8DE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9AA-B88D-4646-AEB8-E72F5DD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912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A78F-3602-457D-A36F-F5231A6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88240"/>
            <a:ext cx="784872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E829-C079-4580-A31B-07F78B5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88240"/>
            <a:ext cx="784872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C84F-5229-4E2E-86E2-898F4A4B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7912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30C-2DEF-4934-B7F7-90BA437C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11120" y="20570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65040" y="20570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882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11120" y="41882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65040" y="4188240"/>
            <a:ext cx="252720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4968-090A-4108-8374-79DC6CE0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F11-9C29-48AD-87A7-4DD60DD9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6B6-833C-4CD5-BF25-E4B4829B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F8E9-6F93-462F-BF87-48AD199A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7720" y="680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5AD-83B0-4067-8235-D34467AA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A49-2539-4310-8327-35249F29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9120" y="41882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1B1-9E70-4BF4-A8FA-32185DA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9120" y="2057040"/>
            <a:ext cx="383004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88240"/>
            <a:ext cx="7848720" cy="194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CA08-FD56-45B5-8131-7D68C26A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04920"/>
            <a:ext cx="8547120" cy="6261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e3ebf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e3ebf1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e3ebf1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D602-B518-4DDE-8BD7-2E3D73D1DB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172200" y="5051520"/>
            <a:ext cx="2009880" cy="14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303120"/>
            <a:ext cx="8547120" cy="62611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57A5-75D7-4E6F-AA19-AEEF04EEAA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172200" y="5051520"/>
            <a:ext cx="2009880" cy="1425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ebf1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e3ebf1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e3ebf1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bf1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e3ebf1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e3ebf1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bf1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e3ebf1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e3ebf1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bf1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e3ebf1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bf1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e3ebf1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bf1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e3ebf1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16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Operations, 2004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Reservations Policy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7720" y="12157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servations Policy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Restaurant currently accepts no reservations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Management considering instituting reservations policy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Currently receive steady reservation requests, especially for dinner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servations: Advantag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Allows management to control volume more efficiently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A feature of higher-caliber restaurants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7720" y="680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servations: Disadvantag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84872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Interferes with image of casual dining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May alienate steady customers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3ebf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bf1"/>
                </a:solidFill>
                <a:latin typeface="Comic Sans MS"/>
              </a:rPr>
              <a:t>Not known how it would affect walk-in traffic</a:t>
            </a:r>
            <a:endParaRPr b="1" lang="en-US" sz="3200" spc="-1" strike="noStrike">
              <a:solidFill>
                <a:srgbClr val="e3ebf1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22:50Z</dcterms:created>
  <dc:creator>Pat R. Graves</dc:creator>
  <dc:description/>
  <dc:language>en-US</dc:language>
  <cp:lastModifiedBy>Pat Graves</cp:lastModifiedBy>
  <cp:lastPrinted>1997-10-13T15:32:24Z</cp:lastPrinted>
  <dcterms:modified xsi:type="dcterms:W3CDTF">2004-03-08T08:34:46Z</dcterms:modified>
  <cp:revision>30</cp:revision>
  <dc:subject/>
  <dc:title>Operations</dc:title>
</cp:coreProperties>
</file>