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38C-D3B3-45B3-B9F6-36BEE56C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18C-098D-494D-95E4-C5839054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28B0-F072-42EA-830F-A01B84D6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FE34-CB6A-4F70-9064-5C671F70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5100-D9D8-4791-93D4-72FDB77D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459F-626E-4015-9A79-138F88CE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EA7B-C8DA-4739-9764-4AD48E6B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91F9-CF41-4F02-9CA9-E43EAFDE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5376-E2C6-4EBF-8D97-641A189A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29700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790E-039F-42E7-B41D-D407A490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8D93-82F8-4399-B0A4-4A54096D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8960-21AC-468A-971B-03130A3B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1F33-2C28-48EC-8C09-324D174C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D908-57FE-4DC0-9482-D37CA7A0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70A5-302C-4E9D-BAB3-8CCCE53B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6C64-A440-4F45-9001-2E05EE62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1CB7-8047-4BD0-9BE3-1D2D38FA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03B-4FC1-46AF-B9E9-FC8CF049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9835-A283-47A8-B30F-EC0F930A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74A-97D1-4600-A1A7-912DCBAB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440" y="29700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71B-4B57-4AAD-B322-F99B7573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5EDC-216F-4E32-8121-1188E0C4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81A-8616-462E-A0FB-972E6166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CB4-5BFD-4C9C-9000-55113A4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48600" indent="-189720">
              <a:lnSpc>
                <a:spcPct val="120000"/>
              </a:lnSpc>
              <a:spcBef>
                <a:spcPts val="17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28040" indent="-189720">
              <a:lnSpc>
                <a:spcPct val="120000"/>
              </a:lnSpc>
              <a:spcBef>
                <a:spcPts val="1749"/>
              </a:spcBef>
              <a:buClr>
                <a:srgbClr val="e9c11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07480" indent="-18972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99C5-AA40-472D-8B83-C548451FD1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65360"/>
            <a:ext cx="914400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46120" y="789120"/>
            <a:ext cx="1146240" cy="853920"/>
            <a:chOff x="546120" y="789120"/>
            <a:chExt cx="1146240" cy="853920"/>
          </a:xfrm>
        </p:grpSpPr>
        <p:sp>
          <p:nvSpPr>
            <p:cNvPr id="7" name=""/>
            <p:cNvSpPr/>
            <p:nvPr/>
          </p:nvSpPr>
          <p:spPr>
            <a:xfrm flipH="1">
              <a:off x="546120" y="789120"/>
              <a:ext cx="1146240" cy="85392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791280" y="1100160"/>
              <a:ext cx="520920" cy="38376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97680" y="949320"/>
              <a:ext cx="406440" cy="25668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1129680" y="806400"/>
              <a:ext cx="485640" cy="52668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1605960" y="1144440"/>
              <a:ext cx="68040" cy="9828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319040" y="1166760"/>
              <a:ext cx="300240" cy="20592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41280" y="1469880"/>
              <a:ext cx="190800" cy="12816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627840" y="1496880"/>
              <a:ext cx="136440" cy="4572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428840" y="954000"/>
              <a:ext cx="33120" cy="4896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32000" y="950760"/>
              <a:ext cx="33120" cy="4896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253520" y="1157040"/>
              <a:ext cx="81000" cy="4752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 rot="5400000">
            <a:off x="-3285360" y="3285360"/>
            <a:ext cx="6858000" cy="2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128000" y="6124680"/>
            <a:ext cx="1625400" cy="652320"/>
            <a:chOff x="7128000" y="6124680"/>
            <a:chExt cx="1625400" cy="652320"/>
          </a:xfrm>
        </p:grpSpPr>
        <p:sp>
          <p:nvSpPr>
            <p:cNvPr id="20" name=""/>
            <p:cNvSpPr txBox="1"/>
            <p:nvPr/>
          </p:nvSpPr>
          <p:spPr>
            <a:xfrm>
              <a:off x="8300520" y="6373080"/>
              <a:ext cx="452880" cy="40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7900560" y="6228360"/>
              <a:ext cx="586080" cy="548640"/>
              <a:chOff x="7900560" y="6228360"/>
              <a:chExt cx="586080" cy="548640"/>
            </a:xfrm>
          </p:grpSpPr>
          <p:sp>
            <p:nvSpPr>
              <p:cNvPr id="22" name=""/>
              <p:cNvSpPr/>
              <p:nvPr/>
            </p:nvSpPr>
            <p:spPr>
              <a:xfrm>
                <a:off x="7900560" y="6228360"/>
                <a:ext cx="586080" cy="5486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065080" y="6287400"/>
                <a:ext cx="271440" cy="305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 txBox="1"/>
            <p:nvPr/>
          </p:nvSpPr>
          <p:spPr>
            <a:xfrm>
              <a:off x="7128000" y="6124680"/>
              <a:ext cx="1092600" cy="38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34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60360" y="685440"/>
            <a:ext cx="4824360" cy="212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1" lang="en-US" sz="5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6CFF-C735-486B-B066-3BB185E3F0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048360" y="5445000"/>
            <a:ext cx="2812680" cy="1130040"/>
            <a:chOff x="6048360" y="5445000"/>
            <a:chExt cx="2812680" cy="1130040"/>
          </a:xfrm>
        </p:grpSpPr>
        <p:sp>
          <p:nvSpPr>
            <p:cNvPr id="67" name=""/>
            <p:cNvSpPr txBox="1"/>
            <p:nvPr/>
          </p:nvSpPr>
          <p:spPr>
            <a:xfrm>
              <a:off x="8077320" y="5875200"/>
              <a:ext cx="783720" cy="69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7385760" y="5624640"/>
              <a:ext cx="1014120" cy="950400"/>
              <a:chOff x="7385760" y="5624640"/>
              <a:chExt cx="1014120" cy="950400"/>
            </a:xfrm>
          </p:grpSpPr>
          <p:sp>
            <p:nvSpPr>
              <p:cNvPr id="69" name=""/>
              <p:cNvSpPr/>
              <p:nvPr/>
            </p:nvSpPr>
            <p:spPr>
              <a:xfrm>
                <a:off x="7385760" y="5624640"/>
                <a:ext cx="1014120" cy="95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670520" y="5726880"/>
                <a:ext cx="469440" cy="529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 txBox="1"/>
            <p:nvPr/>
          </p:nvSpPr>
          <p:spPr>
            <a:xfrm>
              <a:off x="6048360" y="5445000"/>
              <a:ext cx="1890720" cy="6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0" y="1881360"/>
            <a:ext cx="2092320" cy="1576080"/>
            <a:chOff x="0" y="1881360"/>
            <a:chExt cx="2092320" cy="1576080"/>
          </a:xfrm>
        </p:grpSpPr>
        <p:sp>
          <p:nvSpPr>
            <p:cNvPr id="73" name=""/>
            <p:cNvSpPr/>
            <p:nvPr/>
          </p:nvSpPr>
          <p:spPr>
            <a:xfrm flipH="1">
              <a:off x="0" y="1881360"/>
              <a:ext cx="2092320" cy="157608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50360" y="2455560"/>
              <a:ext cx="950760" cy="70776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77920" y="2179440"/>
              <a:ext cx="743040" cy="47088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67760" y="1912680"/>
              <a:ext cx="885960" cy="97272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936800" y="2536560"/>
              <a:ext cx="125280" cy="18216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411200" y="2577960"/>
              <a:ext cx="549360" cy="38052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270080" y="3136680"/>
              <a:ext cx="347760" cy="23760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51560" y="3187440"/>
              <a:ext cx="249480" cy="8532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612800" y="2187360"/>
              <a:ext cx="60480" cy="8856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436040" y="2180880"/>
              <a:ext cx="58680" cy="9180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1292400" y="2562120"/>
              <a:ext cx="147600" cy="8676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0" y="3465360"/>
            <a:ext cx="9144000" cy="1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315200" y="1665360"/>
            <a:ext cx="1828800" cy="178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20000"/>
              </a:lnSpc>
              <a:spcBef>
                <a:spcPts val="125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20000"/>
              </a:lnSpc>
              <a:spcBef>
                <a:spcPts val="1125"/>
              </a:spcBef>
              <a:buClr>
                <a:srgbClr val="e9c11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20000"/>
              </a:lnSpc>
              <a:spcBef>
                <a:spcPts val="1125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60360" y="685440"/>
            <a:ext cx="4824360" cy="212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66"/>
                </a:solidFill>
                <a:latin typeface="Impact"/>
              </a:rPr>
              <a:t>New York Marathon</a:t>
            </a:r>
            <a:endParaRPr b="1" lang="en-US" sz="58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17800" y="3789000"/>
            <a:ext cx="5108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e-race Party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Impact"/>
              </a:rPr>
              <a:t>Entertainment</a:t>
            </a: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Electrolytes will be here for marathon eve, injecting mental energy for al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9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ulie will again lead her famous pre-marathon “Pump-you-up” cha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Impact"/>
              </a:rPr>
              <a:t>Pre Marathon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Impact"/>
              </a:rPr>
              <a:t>Carbo Loading Menu</a:t>
            </a:r>
            <a:endParaRPr b="1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rathon Ang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huge pile of angel hair with fat-free tomato sauce and sprinkled with tiny bite-sized meat bal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agel Bonanz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gels brushed with a mixture of olive oil, garlic, and delicate herbs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22T23:17:14Z</dcterms:created>
  <dc:creator>Pat R. Graves</dc:creator>
  <dc:description/>
  <dc:language>en-US</dc:language>
  <cp:lastModifiedBy>Pat Graves</cp:lastModifiedBy>
  <cp:lastPrinted>1996-11-19T23:58:02Z</cp:lastPrinted>
  <dcterms:modified xsi:type="dcterms:W3CDTF">2004-03-08T08:11:38Z</dcterms:modified>
  <cp:revision>45</cp:revision>
  <dc:subject/>
  <dc:title>New York Marathon Pre-Race Party</dc:title>
</cp:coreProperties>
</file>