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C52-31A0-438E-88D9-F5B6A18D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4179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8960" y="4950360"/>
            <a:ext cx="4179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EA5-DA00-4E66-AF38-C20FEB9A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51060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10600" y="495036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EC59-2684-41F8-8544-17ECE1D11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782320" y="428112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95680" y="428112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368960" y="495036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5782320" y="495036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95680" y="495036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2626-06B6-4EFC-AF2B-64F8846C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0360-ED8E-417F-B437-C2D67167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368960" y="4281120"/>
            <a:ext cx="41796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34C6-8D1E-4416-906C-D17B5807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4179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93AA-AFE6-47C9-B3B3-C6045D27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394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10600" y="4281120"/>
            <a:ext cx="20394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9673-3310-4167-B778-FE77448C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BCFA-4D8C-43DD-8D82-7F2A77B9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838600" y="398520"/>
            <a:ext cx="5843520" cy="123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7604-83F8-4540-9989-0B481E08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510600" y="4281120"/>
            <a:ext cx="20394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E315-9523-4D60-BDB6-110F17C9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368960" y="4281120"/>
            <a:ext cx="41796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340-CB4C-46EA-A37A-1F5545FD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394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1060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10600" y="495036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D694-B617-4A8F-859C-707A3664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51060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4179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F37EB-EF91-482D-B88C-80C76DDF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4179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368960" y="4950360"/>
            <a:ext cx="4179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12F4-09D7-4926-8A62-0E7EFB0E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51060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510600" y="495036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C4C3-8F59-486B-950D-2400B05F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782320" y="428112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195680" y="428112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368960" y="495036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5782320" y="495036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195680" y="4950360"/>
            <a:ext cx="134568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9983-E755-4E05-8BBF-29319893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41796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F305-B923-42C1-9C7F-6E76986B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394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510600" y="4281120"/>
            <a:ext cx="20394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C8B-BF51-4CB6-92A5-20E32E24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C70-41B5-44D9-9C9D-83A5AB98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838600" y="398520"/>
            <a:ext cx="5843520" cy="123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09E-2BE6-4236-A70C-3D6E6797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10600" y="4281120"/>
            <a:ext cx="20394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886-F5F0-4859-B22F-E13CA8A2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394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1060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10600" y="495036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CD1-992D-4591-8D17-C7C211D5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6896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10600" y="4281120"/>
            <a:ext cx="20394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68960" y="4950360"/>
            <a:ext cx="4179600" cy="6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A37-292F-44F4-BE2A-D87C0FFC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a9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1417680"/>
            <a:ext cx="8305920" cy="182520"/>
            <a:chOff x="380880" y="1417680"/>
            <a:chExt cx="8305920" cy="182520"/>
          </a:xfrm>
        </p:grpSpPr>
        <p:sp>
          <p:nvSpPr>
            <p:cNvPr id="1" name=""/>
            <p:cNvSpPr/>
            <p:nvPr/>
          </p:nvSpPr>
          <p:spPr>
            <a:xfrm>
              <a:off x="6858000" y="1417680"/>
              <a:ext cx="1828800" cy="182520"/>
            </a:xfrm>
            <a:prstGeom prst="rect">
              <a:avLst/>
            </a:prstGeom>
            <a:solidFill>
              <a:srgbClr val="a4a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80880" y="1494000"/>
              <a:ext cx="8305920" cy="0"/>
            </a:xfrm>
            <a:prstGeom prst="line">
              <a:avLst/>
            </a:prstGeom>
            <a:ln w="19080">
              <a:solidFill>
                <a:srgbClr val="455b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65440" y="277560"/>
            <a:ext cx="692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507760" y="2088720"/>
            <a:ext cx="617868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4af6b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170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170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9EDE-4BA8-4E07-9235-AB9B4025437A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0"/>
            <a:ext cx="1607760" cy="1828440"/>
            <a:chOff x="0" y="0"/>
            <a:chExt cx="1607760" cy="1828440"/>
          </a:xfrm>
        </p:grpSpPr>
        <p:sp>
          <p:nvSpPr>
            <p:cNvPr id="9" name=""/>
            <p:cNvSpPr/>
            <p:nvPr/>
          </p:nvSpPr>
          <p:spPr>
            <a:xfrm>
              <a:off x="0" y="0"/>
              <a:ext cx="1418760" cy="1645920"/>
            </a:xfrm>
            <a:prstGeom prst="rect">
              <a:avLst/>
            </a:prstGeom>
            <a:solidFill>
              <a:srgbClr val="455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4320" y="91080"/>
              <a:ext cx="1418760" cy="164592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89000" y="182880"/>
              <a:ext cx="1418760" cy="1645560"/>
            </a:xfrm>
            <a:prstGeom prst="rect">
              <a:avLst/>
            </a:prstGeom>
            <a:solidFill>
              <a:srgbClr val="a4a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2"/>
            <a:stretch/>
          </p:blipFill>
          <p:spPr>
            <a:xfrm>
              <a:off x="292680" y="262800"/>
              <a:ext cx="1223640" cy="1459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99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532320"/>
            <a:ext cx="9144000" cy="368280"/>
          </a:xfrm>
          <a:prstGeom prst="rect">
            <a:avLst/>
          </a:prstGeom>
          <a:solidFill>
            <a:srgbClr val="a4af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74520" y="3693960"/>
            <a:ext cx="9218520" cy="1800"/>
          </a:xfrm>
          <a:prstGeom prst="line">
            <a:avLst/>
          </a:prstGeom>
          <a:ln w="44280">
            <a:solidFill>
              <a:srgbClr val="455b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336A-0694-444A-9AF0-9AD95469399E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2590920" cy="3046320"/>
            <a:chOff x="0" y="0"/>
            <a:chExt cx="2590920" cy="304632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2286000" cy="2741760"/>
            </a:xfrm>
            <a:prstGeom prst="rect">
              <a:avLst/>
            </a:prstGeom>
            <a:solidFill>
              <a:srgbClr val="455b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52280"/>
              <a:ext cx="2286000" cy="2741760"/>
            </a:xfrm>
            <a:prstGeom prst="rect">
              <a:avLst/>
            </a:prstGeom>
            <a:solidFill>
              <a:srgbClr val="5170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304920"/>
              <a:ext cx="2286000" cy="2741400"/>
            </a:xfrm>
            <a:prstGeom prst="rect">
              <a:avLst/>
            </a:prstGeom>
            <a:solidFill>
              <a:srgbClr val="a4af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471600" y="438120"/>
              <a:ext cx="1971720" cy="243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4af6b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1708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1708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994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38600" y="398520"/>
            <a:ext cx="58435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368960" y="4281120"/>
            <a:ext cx="41796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21:37:34Z</dcterms:created>
  <dc:creator>Pat Graves</dc:creator>
  <dc:description/>
  <dc:language>en-US</dc:language>
  <cp:lastModifiedBy>Pat Graves</cp:lastModifiedBy>
  <dcterms:modified xsi:type="dcterms:W3CDTF">2004-03-08T01:59:42Z</dcterms:modified>
  <cp:revision>3</cp:revision>
  <dc:subject/>
  <dc:title>Slide 1</dc:title>
</cp:coreProperties>
</file>