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D0B-0B67-406F-B6A9-9332850C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BD4-E08E-4880-ACAB-6E1116E9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302-2746-47DF-9EDC-22010CEB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AD2-C768-4532-BB78-1CB438C3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A33E-B097-43D2-BD49-EEEB10CB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4EF-D6A4-40F3-A23E-891C091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40DF-EF25-4088-95ED-3BD6F3AB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18A7-1004-4071-861E-4F085355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2A31-4A95-4B43-BA62-99DB8DC4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4A48-179A-4B99-A62C-7414679F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FDF4-1395-449A-9AD4-5D68D03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8C1-EE68-4813-A60C-9170CAE3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F07C-0B20-4D96-AFF5-7E91156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1728-D5D2-4CDF-8215-A16C226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2000-91C0-4F86-8CDA-03ECB44E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8FF0-6A5E-4160-BD3E-9B8A5802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3BEB-2003-41C4-B3F8-46E15BF9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E54-8B4B-4793-93E9-A5412F31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D2E-719A-43DA-AA7B-2E657354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421-EBF9-40B9-9876-C7B16549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1C3A-F901-4063-94B2-03AD6B7C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C61-F416-4767-BA78-08FC9E8D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F790-DF0E-4573-9C52-EC127760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D96-06F3-49C8-B50F-715D2357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844640" y="1417680"/>
              <a:ext cx="6865920" cy="467820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533920" y="425304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0499-1F31-4C51-84D4-666D706A0A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44640" y="141768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89280" y="283536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33920" y="4253040"/>
              <a:ext cx="3610080" cy="2604960"/>
            </a:xfrm>
            <a:prstGeom prst="rect">
              <a:avLst/>
            </a:prstGeom>
            <a:gradFill rotWithShape="0">
              <a:gsLst>
                <a:gs pos="0">
                  <a:srgbClr val="9933ff">
                    <a:alpha val="50196"/>
                  </a:srgbClr>
                </a:gs>
                <a:gs pos="100000">
                  <a:srgbClr val="220b38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00"/>
                </a:solidFill>
                <a:latin typeface="Tahom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EB36-A7C2-4F03-B1EE-2FEAC2B0F7B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130120"/>
            <a:ext cx="6956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Tahoma"/>
              </a:rPr>
              <a:t>Staff Fitness Program</a:t>
            </a:r>
            <a:endParaRPr b="1" lang="en-US" sz="44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600" y="3886200"/>
            <a:ext cx="4114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w Benef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We Encourage Employee Fitness</a:t>
            </a: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ong, healthy employees enhance our im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high level of fitness reduces accident r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y employees are happy employ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How the Exercise Program Works</a:t>
            </a: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customized fitness program is created for each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fitness professional is available for 2 hours prior to every work shi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employee bonus program rewards consistent worko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Tahoma"/>
              </a:rPr>
              <a:t>How the Nutrition Program Works</a:t>
            </a:r>
            <a:endParaRPr b="1" lang="en-US" sz="3600" spc="-1" strike="noStrike">
              <a:solidFill>
                <a:srgbClr val="99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ff nutritionists work individually with each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dividual healthy diet plan is develo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nutrition lectures are plan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monthly nutrition consultation available for each employ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23:39:51Z</dcterms:created>
  <dc:creator>Pat R. Graves</dc:creator>
  <dc:description/>
  <dc:language>en-US</dc:language>
  <cp:lastModifiedBy>Student Name</cp:lastModifiedBy>
  <dcterms:modified xsi:type="dcterms:W3CDTF">2004-04-05T05:12:07Z</dcterms:modified>
  <cp:revision>6</cp:revision>
  <dc:subject/>
  <dc:title>Staff Fitness Program</dc:title>
</cp:coreProperties>
</file>