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5FB4-81F6-460A-A3B8-15298971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761-2CC4-40EE-83B9-B011FFDD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02E-2908-405E-96B7-B9EBD02A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AB4-DDEB-410E-AA4C-B143B174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AAD9-F14D-46AD-95ED-A1934C77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154C-1F41-4525-8262-60BD6395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1EA4-A988-440F-97CB-EB8D4329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8CAB-B8E0-49A3-B534-13452A2A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820B-097A-4565-BB99-B3EB9B98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D00B-9EDE-4808-91E2-466389AE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06F2-D448-492F-92E8-0BFBF9B1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582A-9CE6-41C4-9B17-41004D54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1897-7D49-4689-8CB1-A95F3DE3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571D-0365-4FB2-9720-DB91314E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5BC6-C709-46A3-9B7B-72D58674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4E63-A23B-4A1C-8525-7A9F280C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9A67-5E18-4082-9C51-9FEA71AF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884-78D0-4E11-A1CB-5A612A3A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6F37-F345-4E48-97B2-094A707D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819-1F15-42D1-8BCA-1108FA13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8D8-14E6-437C-8E97-017596E6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C4E-3C39-41BE-A17B-D1A0E8BF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C6A-CDDE-4913-AAA5-0FBDB2CE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DA79-08EE-4B2A-A50E-369F2688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32"/>
            </a:gs>
            <a:gs pos="50000">
              <a:srgbClr val="004e4c"/>
            </a:gs>
            <a:gs pos="100000">
              <a:srgbClr val="0033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B911-2BA0-47BE-A356-C75D7F68A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32"/>
            </a:gs>
            <a:gs pos="50000">
              <a:srgbClr val="004e4c"/>
            </a:gs>
            <a:gs pos="100000">
              <a:srgbClr val="0033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86B7-16A8-47DF-BF13-349241ADC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600200" y="2438280"/>
            <a:ext cx="6019920" cy="3657600"/>
          </a:xfrm>
          <a:prstGeom prst="rect">
            <a:avLst/>
          </a:prstGeom>
          <a:solidFill>
            <a:srgbClr val="004e4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od 4 U Retrea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520" y="3892320"/>
            <a:ext cx="579096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althy getaways to regenerate your energy and creativ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32"/>
            </a:gs>
            <a:gs pos="50000">
              <a:srgbClr val="004e4c"/>
            </a:gs>
            <a:gs pos="100000">
              <a:srgbClr val="0033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Good 4 U Retreat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mini va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pportunity to unwind in a healthy atmosp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inforcement for your healthy life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32"/>
            </a:gs>
            <a:gs pos="50000">
              <a:srgbClr val="004e4c"/>
            </a:gs>
            <a:gs pos="100000">
              <a:srgbClr val="0033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etreat Fea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class accommod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y food with gourmet fl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w-paced meditative nature wal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d bicycle tours (all ability level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ning lectures on sports physiology and nutr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32"/>
            </a:gs>
            <a:gs pos="50000">
              <a:srgbClr val="004e4c"/>
            </a:gs>
            <a:gs pos="100000">
              <a:srgbClr val="0033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2005 Retreat Schedu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930320"/>
            <a:ext cx="6705360" cy="539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rch 22-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52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orida’s Evergl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July 4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52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hington’s San Juan Isl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October 4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52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rmont’s Northeast King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November  8-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52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tah’s Canyonl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4:12:28Z</dcterms:created>
  <dc:creator>Pat R. Graves</dc:creator>
  <dc:description/>
  <dc:language>en-US</dc:language>
  <cp:lastModifiedBy>Pat Graves</cp:lastModifiedBy>
  <dcterms:modified xsi:type="dcterms:W3CDTF">2004-03-10T18:18:05Z</dcterms:modified>
  <cp:revision>8</cp:revision>
  <dc:subject/>
  <dc:title>Good 4 U Retreats</dc:title>
</cp:coreProperties>
</file>