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DC0-4272-4959-9C01-ED72D45C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8230-ACFA-4612-A84D-4D8D76A7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C268-3D1C-4CFE-80E3-C464233D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152-7B4D-4424-AE6F-B8F1A1A9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E5B-792C-4C59-8398-071A265E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163-CE7D-472A-829C-D7202E7A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D411-2274-4CA3-8675-4BF5FF6D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0436-1700-4B58-A6A8-795A9AE0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8E10-4C4A-472A-A4B5-03F591D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853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F79B-A838-4326-AA25-9067F153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0C93-6248-4DBC-8606-5964EA4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9C7-9D73-4EEA-AF44-F73E1EC0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F7CB-1EE9-4BB9-ACA1-DA92740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11E8-91FA-4470-8355-EA77A1E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7FA5-E443-4B03-ADCA-641A548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B5E6-126C-4641-A345-3127CD902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1380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41440" y="2590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85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1380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41440" y="4740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5EA-A8C2-44A9-9A33-934143C8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FCE-D686-48AF-A8E5-0086A49F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9A1-9DF9-4BFB-8BE1-B7B0D3E2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4A4-AA4A-44FD-90F3-E10D2DA1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380520"/>
            <a:ext cx="853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0E0B-BC61-4B8F-95D5-EF090A4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604-95D1-458E-A019-E0950832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740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374-F834-442D-BD04-E6ED77A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590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740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886-D0BC-4BDD-AD95-F673A1C8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5240" y="241200"/>
            <a:ext cx="8813520" cy="6319800"/>
          </a:xfrm>
          <a:prstGeom prst="rect">
            <a:avLst/>
          </a:prstGeom>
          <a:noFill/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9829-A2A9-4959-93A1-DB617E4D9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-20520" y="-41400"/>
            <a:ext cx="2290680" cy="22035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335320" y="1413000"/>
            <a:ext cx="623556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5240" y="1682640"/>
            <a:ext cx="8813520" cy="2336760"/>
          </a:xfrm>
          <a:prstGeom prst="rect">
            <a:avLst/>
          </a:prstGeom>
          <a:noFill/>
          <a:ln w="255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4520" y="1994040"/>
            <a:ext cx="7829640" cy="14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37D-CED7-4FC2-9137-3EDF5000D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47680" y="2301840"/>
            <a:ext cx="4024440" cy="3870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9144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7432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36576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45720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54864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64008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tretch/>
        </p:blipFill>
        <p:spPr>
          <a:xfrm>
            <a:off x="7315200" y="0"/>
            <a:ext cx="933480" cy="93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2"/>
          <a:stretch/>
        </p:blipFill>
        <p:spPr>
          <a:xfrm>
            <a:off x="8229600" y="0"/>
            <a:ext cx="933480" cy="934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r">
              <a:spcBef>
                <a:spcPts val="901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 Narrow"/>
              </a:rPr>
              <a:t>Click to edit the outline text format</a:t>
            </a: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 Narrow"/>
              </a:rPr>
              <a:t>Second Outline Level</a:t>
            </a:r>
            <a:endParaRPr b="0" i="1" lang="en-US" sz="2800" spc="-1" strike="noStrike">
              <a:solidFill>
                <a:srgbClr val="ffff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5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04520" y="1994040"/>
            <a:ext cx="7829640" cy="1466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Arial"/>
                <a:ea typeface="SimSun"/>
              </a:rPr>
              <a:t>Nutrition Seminar </a:t>
            </a:r>
            <a:endParaRPr b="1" lang="en-US" sz="5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720" y="4172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Arial Narrow"/>
                <a:ea typeface="SimSun"/>
              </a:rPr>
              <a:t>Sponsored by</a:t>
            </a:r>
            <a:br>
              <a:rPr sz="3600"/>
            </a:br>
            <a:r>
              <a:rPr b="1" i="1" lang="en-US" sz="3600" spc="-1" strike="noStrike">
                <a:solidFill>
                  <a:srgbClr val="ffff99"/>
                </a:solidFill>
                <a:latin typeface="Arial Narrow"/>
                <a:ea typeface="SimSun"/>
              </a:rPr>
              <a:t>Good 4 U</a:t>
            </a:r>
            <a:endParaRPr b="1" i="1" lang="en-US" sz="3600" spc="-1" strike="noStrike">
              <a:solidFill>
                <a:srgbClr val="ffff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SimSun"/>
              </a:rPr>
              <a:t>Who Should Attend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Good 4 U chef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Athlet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Health-care profession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Individuals interested in healthy eat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SimSun"/>
              </a:rPr>
              <a:t>When and Wher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Miami: February 14-16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San Francisco: May 10-12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New York: September 8-1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SimSun"/>
              </a:rPr>
              <a:t>Daily Activiti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Nutrition lectures in the morn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Healthy food sampling at lunchtim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Leisure activities in the afternoon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Discussion groups in the even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SimSun"/>
              </a:rPr>
              <a:t>Leisure Activiti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Sail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Fishing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Golf clin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In-line skate clin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Healthy cooking clinic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531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  <a:ea typeface="SimSun"/>
              </a:rPr>
              <a:t>Cost/Accommodation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All-inclusive cost: $900 for each pers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Includes room for 3 nights, all meals, scheduled activities, and gratuiti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SimSun"/>
              </a:rPr>
              <a:t>Cost based on double occupancy. For single occupancy add $25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6:04:26Z</dcterms:created>
  <dc:creator>Pat Graves</dc:creator>
  <dc:description/>
  <dc:language>en-US</dc:language>
  <cp:lastModifiedBy>Ms. Malnick</cp:lastModifiedBy>
  <dcterms:modified xsi:type="dcterms:W3CDTF">2004-04-07T00:14:45Z</dcterms:modified>
  <cp:revision>3</cp:revision>
  <dc:subject/>
  <dc:title>Nutrition Seminar </dc:title>
</cp:coreProperties>
</file>