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373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39A-E77B-4B11-94B0-28F60CF1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447640" y="3953160"/>
            <a:ext cx="59338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C9E-670E-4B13-BE21-F8E02607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44764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8820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C32-F92D-4F06-B56A-419E3F65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53920" y="227664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60560" y="227664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447640" y="395316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453920" y="395316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60560" y="395316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98BF-57C1-41A3-9498-088286D3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69F8-8269-474C-A186-E5BD726D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4545-A91C-4E65-9A69-84769692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D37B-B1E5-4FD4-9817-92A533F8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C4DD-D3B4-4026-9C4A-131A9DE1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19C8-5C69-4770-86B7-124ED643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95E6-FFEB-4F2E-80DC-0D420FC9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44764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C45D-D863-47C5-BAF3-BA817611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F9B-5F12-499B-B560-ABE916E1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48820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B793-2420-4034-9F59-171E01B1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447640" y="3953160"/>
            <a:ext cx="59338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5FB8-BC38-444A-BDB3-AB5DE4E9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447640" y="3953160"/>
            <a:ext cx="59338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73C9-E070-47B4-9B02-003491C2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44764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48820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8691-B2CE-439D-A2F4-BFBDC2E8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53920" y="227664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60560" y="227664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2447640" y="395316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53920" y="395316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60560" y="3953160"/>
            <a:ext cx="191052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E8CD-974B-4474-989E-13F19F37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44C-162A-45CC-A7BA-42B2BE11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B58-67D4-4AD4-8D55-69C5D2D8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0A93-4C87-49A2-9115-FCB0E3E9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D50-8F34-45A1-BC0D-BC5B4CAD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44764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96C-E517-4E5D-8D24-2DFA3E17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88200" y="395316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2D9-B818-42E9-8D63-3BDC94A5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88200" y="2276640"/>
            <a:ext cx="28954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447640" y="3953160"/>
            <a:ext cx="5933880" cy="15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CFC-0023-4DEC-8FF5-484087ED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43A6-F09D-4166-AB7D-0C847B139C2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6956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9D15-F949-45DC-B414-66C11408B9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84280" y="16956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How to Evaluate Advertising Media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592000" y="4225680"/>
            <a:ext cx="431964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Marketing Series Training Ses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Return on Investment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effective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fita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dollar sa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mber of new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valuate cos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49720" indent="-2113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Media Categories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rint Media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up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l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li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illboar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gaz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80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lectronic Media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ld Wide We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Marketing Training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Next Steps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447640" y="2276640"/>
            <a:ext cx="59338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keting Strate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130000"/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keting Our Busin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4T22:15:38Z</dcterms:created>
  <dc:creator>Pat R. Graves</dc:creator>
  <dc:description/>
  <dc:language>en-US</dc:language>
  <cp:lastModifiedBy>Pat Graves</cp:lastModifiedBy>
  <cp:lastPrinted>1996-12-04T22:31:20Z</cp:lastPrinted>
  <dcterms:modified xsi:type="dcterms:W3CDTF">2004-03-10T18:14:17Z</dcterms:modified>
  <cp:revision>17</cp:revision>
  <dc:subject/>
  <dc:title>Selecting Advertising Media</dc:title>
</cp:coreProperties>
</file>