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E51-15D6-4D76-979E-521D650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78B-E4A3-48F8-8BE1-3BC35CB2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BB17-34CB-45CB-838A-DFB5A5C3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36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132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6704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3936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132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846A-3A48-4AE6-8E94-B17442B7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51A6-C83A-4133-B5F3-D8DB5952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0FC9-319E-4063-8C4A-0FDB09CA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0F34-5FB5-4324-A09E-B33F9C9E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2916-5F5D-4A91-B36F-03252C8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CF0F-E084-4E39-B1BD-ACCF8ADF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41520" y="274320"/>
            <a:ext cx="71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A318-20D7-4E16-83EE-379626B4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CB3E-5F90-467C-A040-E194B26D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AA75-0BB2-4225-94FA-DE3B2F7C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5316-A681-4633-B3EE-E095C61B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26B4-EC61-4388-88BB-6111DADA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CBCC-F66A-45C5-893E-868160C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D44C-2A8F-40B1-9DB9-A349CFC2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3936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132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6704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3936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132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0DD4-7CE4-46C6-810D-1A655A44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3AF-D044-441F-9A74-52F7CAC2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E08-E575-465C-84BA-3FD0EDF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A7C-4838-4DDF-B801-8474DE82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1520" y="274320"/>
            <a:ext cx="71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024-46CC-4F0E-9369-51DD4769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12B-B7EF-4EF9-B43D-68C25C0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AAB-49BD-4E79-9868-C655D4B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DAF-8258-4A03-A699-BF980598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C948-5BD0-41E8-86C7-1A28886E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87520"/>
            <a:ext cx="9144000" cy="46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9c3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59000" y="0"/>
            <a:ext cx="4608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33360" y="247680"/>
            <a:ext cx="663480" cy="9986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9240" y="1096920"/>
            <a:ext cx="6708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FE16-10BD-4379-8FC3-4ABB497F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24120"/>
            <a:ext cx="9144000" cy="46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9c3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59000" y="0"/>
            <a:ext cx="4608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7160" y="833400"/>
            <a:ext cx="1068120" cy="160668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9240" y="1096920"/>
            <a:ext cx="6708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Verdana"/>
                <a:ea typeface="SimSun"/>
              </a:rPr>
              <a:t>Nutrition Seminar </a:t>
            </a:r>
            <a:endParaRPr b="1" lang="en-US" sz="4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22560" y="3886200"/>
            <a:ext cx="45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Sponsored b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Good 4 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SimSun"/>
              </a:rPr>
              <a:t>Who Should Attend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Good 4 U che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Athle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ealth-care profession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Individuals interested in healthy ea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SimSun"/>
              </a:rPr>
              <a:t>When and Where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Miami: February 14-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San Francisco: May 10-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New York: September 8-1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SimSun"/>
              </a:rPr>
              <a:t>Daily Activities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Nutrition lectures in the mor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ealthy food sampling at lunchti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Leisure activities in the afterno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Discussion groups in the eve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SimSun"/>
              </a:rPr>
              <a:t>Leisure Activities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Sa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Fi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Golf cli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In-line skate cli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Healthy cooking cli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SimSun"/>
              </a:rPr>
              <a:t>Cost/Accommodations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All-inclusive cost: $900 for each per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Includes room for 3 nights, all meals, scheduled activities, and gratu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Cost based on double occupancy. For single occupancy add $25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06:14:27Z</dcterms:created>
  <dc:creator>Pat Graves</dc:creator>
  <dc:description/>
  <dc:language>en-US</dc:language>
  <cp:lastModifiedBy>Ms. Malnick</cp:lastModifiedBy>
  <dcterms:modified xsi:type="dcterms:W3CDTF">2004-04-07T00:11:06Z</dcterms:modified>
  <cp:revision>2</cp:revision>
  <dc:subject/>
  <dc:title>Nutrition Seminar </dc:title>
</cp:coreProperties>
</file>