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99F-E48D-4FA1-8BCF-BBFC1FA2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67040" y="396432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548-EEB8-4D89-A561-3A00143C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1008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BC9-F9AF-4000-8C42-53174700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3936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132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6704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3936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132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FA2-CC8F-4CDE-839A-23B10993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4D6B-7AA7-400E-884E-E04459D6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35CD-4F8F-493F-992D-11D55D59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B21A-D656-41EE-9519-90C903CB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A3E3-F2B9-4ACE-AFE0-231F6797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2A07-9B03-44B8-A299-8593F98F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41520" y="274320"/>
            <a:ext cx="714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0394B-F175-4095-867A-523617AB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DF10-C2EA-4A9B-9CAB-B7E4886B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2A2-1D58-4937-99CA-527E4A18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1008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8F76-D7CE-43E0-9F3D-840327B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F773-0D62-483E-BAAE-1A5F53B4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67040" y="396432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ED16-E3DC-4B91-AFD1-9824FF6C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1008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9609-A12D-4EBE-8C2D-052F7250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3936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1320" y="160020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6704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3936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1320" y="3964320"/>
            <a:ext cx="2163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3A19-742E-418C-89FA-DAFCE473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A897-1C50-4F55-8ED7-06A92F3E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747-2AA9-4B89-9767-26584822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E3D-C633-4CCF-91AE-CB11C425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41520" y="274320"/>
            <a:ext cx="7145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2AE-428B-41E7-92D7-02957E6D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5C0-EAC8-4F75-B512-22729583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080" y="396432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AC3-E1C0-471A-9A7F-909BAC7A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27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67040" y="3964320"/>
            <a:ext cx="671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937E-AE9F-4820-9970-C72B32F5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6329-66E0-4832-B3D3-22175C944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69c37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87520"/>
            <a:ext cx="9144000" cy="46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69c3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359000" y="0"/>
            <a:ext cx="46080" cy="6858000"/>
          </a:xfrm>
          <a:prstGeom prst="rect">
            <a:avLst/>
          </a:prstGeom>
          <a:gradFill rotWithShape="0">
            <a:gsLst>
              <a:gs pos="0">
                <a:srgbClr val="69c378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33360" y="247680"/>
            <a:ext cx="663480" cy="99864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69c37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9240" y="1096920"/>
            <a:ext cx="6708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1FFA-5E4D-4248-AE89-C16D94F03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24120"/>
            <a:ext cx="9144000" cy="460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69c3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59000" y="0"/>
            <a:ext cx="46080" cy="6858000"/>
          </a:xfrm>
          <a:prstGeom prst="rect">
            <a:avLst/>
          </a:prstGeom>
          <a:gradFill rotWithShape="0">
            <a:gsLst>
              <a:gs pos="0">
                <a:srgbClr val="69c378"/>
              </a:gs>
              <a:gs pos="100000">
                <a:srgbClr val="ff5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7160" y="833400"/>
            <a:ext cx="1068120" cy="1606680"/>
          </a:xfrm>
          <a:prstGeom prst="rect">
            <a:avLst/>
          </a:prstGeom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9240" y="1096920"/>
            <a:ext cx="67086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Verdana"/>
              </a:rPr>
              <a:t>Nutrition Seminar</a:t>
            </a:r>
            <a:endParaRPr b="1" lang="en-US" sz="48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22560" y="3886200"/>
            <a:ext cx="4508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onsored by Good 4 U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9c37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41520" y="274320"/>
            <a:ext cx="714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</a:rPr>
              <a:t>Topics</a:t>
            </a:r>
            <a:endParaRPr b="1" lang="en-US" sz="4000" spc="-1" strike="noStrike">
              <a:solidFill>
                <a:srgbClr val="cc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67040" y="1600200"/>
            <a:ext cx="67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etiz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 cour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se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uit drin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02:13:21Z</dcterms:created>
  <dc:creator>Pat Graves</dc:creator>
  <dc:description/>
  <dc:language>en-US</dc:language>
  <cp:lastModifiedBy>Pat Graves</cp:lastModifiedBy>
  <dcterms:modified xsi:type="dcterms:W3CDTF">2004-03-08T05:30:33Z</dcterms:modified>
  <cp:revision>2</cp:revision>
  <dc:subject/>
  <dc:title>Slide 1</dc:title>
</cp:coreProperties>
</file>