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DBE0-441F-4555-A47C-8BF5D01C5F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A268-CDE4-4DEA-AC3E-9D83742C0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333E-0907-4B58-8CC5-B9CE808E3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0B05-4F8E-4438-8179-6C5C52502E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irst year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start-up costs mostly, and, of course, in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how we learned the value of a big advertising budg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C81-5B31-4052-82BE-3C2D7401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603-B2F6-4DA5-81A5-A01EFC39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38A-2A4F-424C-935B-C518DB67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63E-7877-4DDD-B8C9-BF55ABC2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3644-604E-4697-B15B-5F78458D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61B2-A2C6-4599-8DBD-3281F7D7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BF08-7D4C-4508-94F1-BAB6493B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09C6-73A6-4125-8A8D-D2874B48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CB08-5013-4DC6-BD5E-0F4D84C8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13E3-0792-4476-96F0-33CD71DE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04E7-6572-40C4-8665-A7D49863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606D-0036-46B7-B458-F86300F9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7743-4202-42EA-8BF2-B0AB495E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A153-40E8-411B-9056-F12DD8E2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5EA0-F73D-4C7C-BC9A-9EFF6E7A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A756-3712-453F-BD93-C644393E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075F-9537-46EA-A7BF-F9BEC225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A6D-A1DC-44BD-90D3-E940988E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B3CE-304F-4EA1-ABB5-4E5132A4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EEE-74F7-46B8-85CC-79AECF8C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AAB7-FC7C-4289-91EB-10DB69A0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466-F23B-47C8-94F5-50D982BA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D61-5E34-41F8-8FD3-7C17AF7C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980D-C037-41F7-B3A4-39FD620D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7A48-48B9-4A7B-9C4A-5E17A89528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343400"/>
            <a:ext cx="9144000" cy="2514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4795-7E78-4298-B933-ADA7FC9FB1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Three Years and Growing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althy Foo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the Athlete in Yo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Who We Ar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found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us Irvinelli, an avid tennis play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Julie Wolfe, a well-known marathon runn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ir drea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courage people to enjoy healthy eat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courage participation in sports activ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Where We’re Goin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iami in 2005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ur first expan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ancial plans approv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os Angeles in 2006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chitect plans complet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te plan applications in the work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ve restaurants by 200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es, our accountant and banker say we can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Past Performanc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2743200"/>
          <a:ext cx="6438960" cy="360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743200"/>
                    <a:ext cx="6438960" cy="36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084320" y="56844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Time to Expand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ur goa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venue growth of 300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ve locations by the year 200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l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ef Michelle Jenkins is busy creating new culinary trea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rketing Manager Roy Olafsen is researching new loc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004 Special Events Revenue</a:t>
            </a:r>
            <a:endParaRPr b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16120" y="1949400"/>
          <a:ext cx="840420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1949400"/>
                    <a:ext cx="840420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0T14:45:54Z</dcterms:created>
  <dc:creator>Pat R. Graves</dc:creator>
  <dc:description/>
  <dc:language>en-US</dc:language>
  <cp:lastModifiedBy>Pat Graves</cp:lastModifiedBy>
  <dcterms:modified xsi:type="dcterms:W3CDTF">2004-03-10T21:31:36Z</dcterms:modified>
  <cp:revision>7</cp:revision>
  <dc:subject/>
  <dc:title>Three Years and Growing</dc:title>
</cp:coreProperties>
</file>