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1634-C4D3-4C3D-8CE5-5BBA8262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2861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8960" y="4950360"/>
            <a:ext cx="42861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818-0894-4752-B7C0-705E063D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6568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127-11CF-4A6F-9299-BF4102FA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818320" y="428112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267320" y="428112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68960" y="495036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5818320" y="495036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267320" y="495036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8E9-3FF9-4E33-81D4-9E806379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067C-E67E-44A1-A7AF-1456ADD6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286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F277-31F1-4ED2-862E-4E5F72F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28616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D712-9CA3-42A3-965F-2AD0C07A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8415-9FED-451D-9E23-70183C7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4B3F-A24E-44B1-9A0B-A04A38E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838600" y="398520"/>
            <a:ext cx="5843520" cy="123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AD36-5069-4C7D-82A6-5673A35F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5F8B-1040-4303-9CD1-1534A87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286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039-03F8-418F-A988-169C2C31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568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711F-23B3-4CE4-80C5-31752744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42861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9870-3733-4D1E-9E73-4DDE548B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2861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68960" y="4950360"/>
            <a:ext cx="42861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0C37-D592-4982-8421-99610FB9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56568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94DA-3699-4795-A9D3-4BDDF921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18320" y="428112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267320" y="428112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368960" y="495036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818320" y="495036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267320" y="4950360"/>
            <a:ext cx="13798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2B962-70C0-467F-A2EC-8AE274F6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28616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1CC9-7B58-4F7F-A40A-69F3D957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FAD-7234-4404-ABC2-F10592A0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FFEB-273C-48DA-B4BD-69551D7B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838600" y="398520"/>
            <a:ext cx="5843520" cy="123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CC64-FA00-4E4B-A494-10AB565C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2DE-3BAD-4B40-93F7-F730526F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65680" y="495036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3A1-0541-403A-BD12-4D0C6AFE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65680" y="4281120"/>
            <a:ext cx="2091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428616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BE2-586C-48E5-AC88-1C9C71C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1417680"/>
            <a:ext cx="8305920" cy="182520"/>
            <a:chOff x="380880" y="1417680"/>
            <a:chExt cx="8305920" cy="182520"/>
          </a:xfrm>
        </p:grpSpPr>
        <p:sp>
          <p:nvSpPr>
            <p:cNvPr id="1" name=""/>
            <p:cNvSpPr/>
            <p:nvPr/>
          </p:nvSpPr>
          <p:spPr>
            <a:xfrm>
              <a:off x="6858000" y="1417680"/>
              <a:ext cx="1828800" cy="182520"/>
            </a:xfrm>
            <a:prstGeom prst="rect">
              <a:avLst/>
            </a:prstGeom>
            <a:solidFill>
              <a:srgbClr val="a4a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0880" y="1494000"/>
              <a:ext cx="8305920" cy="0"/>
            </a:xfrm>
            <a:prstGeom prst="line">
              <a:avLst/>
            </a:prstGeom>
            <a:ln w="19080">
              <a:solidFill>
                <a:srgbClr val="455b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65440" y="27756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507760" y="2088720"/>
            <a:ext cx="61786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3C9C-4016-4D88-AC28-0ED0070A6F0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1607760" cy="1828440"/>
            <a:chOff x="0" y="0"/>
            <a:chExt cx="1607760" cy="182844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1418760" cy="1645920"/>
            </a:xfrm>
            <a:prstGeom prst="rect">
              <a:avLst/>
            </a:prstGeom>
            <a:solidFill>
              <a:srgbClr val="455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4320" y="91080"/>
              <a:ext cx="1418760" cy="1645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89000" y="182880"/>
              <a:ext cx="1418760" cy="1645560"/>
            </a:xfrm>
            <a:prstGeom prst="rect">
              <a:avLst/>
            </a:prstGeom>
            <a:solidFill>
              <a:srgbClr val="a4a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2"/>
            <a:stretch/>
          </p:blipFill>
          <p:spPr>
            <a:xfrm>
              <a:off x="292680" y="262800"/>
              <a:ext cx="1223640" cy="1459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99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532320"/>
            <a:ext cx="9144000" cy="368280"/>
          </a:xfrm>
          <a:prstGeom prst="rect">
            <a:avLst/>
          </a:prstGeom>
          <a:solidFill>
            <a:srgbClr val="a4a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4520" y="3693960"/>
            <a:ext cx="9218520" cy="180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CBC5-24D1-4BFE-8FAD-280FBD98CDC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2590920" cy="3046320"/>
            <a:chOff x="0" y="0"/>
            <a:chExt cx="2590920" cy="304632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2286000" cy="2741760"/>
            </a:xfrm>
            <a:prstGeom prst="rect">
              <a:avLst/>
            </a:prstGeom>
            <a:solidFill>
              <a:srgbClr val="455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52280"/>
              <a:ext cx="2286000" cy="274176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304920"/>
              <a:ext cx="2286000" cy="2741400"/>
            </a:xfrm>
            <a:prstGeom prst="rect">
              <a:avLst/>
            </a:prstGeom>
            <a:solidFill>
              <a:srgbClr val="a4a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71600" y="438120"/>
              <a:ext cx="1971720" cy="24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5b41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1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1708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1708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99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Tremendous Technology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286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5b41"/>
                </a:solidFill>
                <a:latin typeface="Tahoma"/>
              </a:rPr>
              <a:t>By Your Name</a:t>
            </a: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5440" y="27756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Proposed Change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7760" y="2088720"/>
            <a:ext cx="61786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New PCs with the latest application software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New laser printers to replace old dot matrix printers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rder-processing program upgrade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5080" y="277560"/>
            <a:ext cx="707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raining—Next Two Weeks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8120" y="2088720"/>
            <a:ext cx="301320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upervisory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Wait staff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counting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Kitchen staff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Manager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45000" y="2106720"/>
            <a:ext cx="36990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5440" y="27756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Rewards for Learning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7760" y="2088720"/>
            <a:ext cx="61786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utomatic $.25/hour wage increase when training sessions are complete 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455b41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Increased online capabilities</a:t>
            </a: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Complete training tests</a:t>
            </a:r>
            <a:endParaRPr b="1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Place supply orders</a:t>
            </a:r>
            <a:endParaRPr b="1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Conduct Internet research</a:t>
            </a:r>
            <a:endParaRPr b="1" lang="en-US" sz="2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Tahoma"/>
              </a:rPr>
              <a:t>Bonus—check e-mail on breaks</a:t>
            </a:r>
            <a:endParaRPr b="1" lang="en-US" sz="2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99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et’s Get Started!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286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5b4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21:37:34Z</dcterms:created>
  <dc:creator>Pat Graves</dc:creator>
  <dc:description/>
  <dc:language>en-US</dc:language>
  <cp:lastModifiedBy>Pat Graves</cp:lastModifiedBy>
  <dcterms:modified xsi:type="dcterms:W3CDTF">2004-03-08T01:59:29Z</dcterms:modified>
  <cp:revision>6</cp:revision>
  <dc:subject/>
  <dc:title>Slide 1</dc:title>
</cp:coreProperties>
</file>