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492B0-6111-41FA-ADAA-EF5018D23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8F6C5-90B2-4BA2-B758-A0529F4DD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63FBE-4924-442E-B8B2-742959F03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2799E-466F-467C-8625-64AC3744B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3A5A7-1DC4-42A1-AE9F-7B5DE275D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D7809-AE9A-48E1-ADBD-98DCF3C6C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536E8-CDE7-470E-A4C4-E9E27E38A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06B5F-2767-4AB0-8050-F457DAB08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55B53-8E9B-49AB-B2D5-1D324E659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85A10-F771-4ED4-B22F-F8FFF953E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793EC-9017-4396-8176-CF5EE4AD7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E747B-AB0B-48D3-A442-7049C4575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31800-5C96-40BD-A554-93F2083C0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0E0EF-E569-4F3F-BE2A-D7DFC4B65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AE1F2-98FA-4C27-84AD-A74AB37D7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FF805-B337-4C0A-8393-22DA07520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A93B6-BAB8-4932-8087-CB0D9434B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CAECE-C4CA-4327-9ACA-911B02382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83D8D-212F-4262-A7D7-8CE877592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9BBA9-8DDD-4DF4-AA30-5F9BD8A09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7C645-BB99-4CF6-9CFD-3746742A0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3A1A3-95E4-469A-83E6-B4E807605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ED701-F7C8-475A-A647-57CCC8BD6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F96A6-7D08-4D61-A929-C9E7B7B5A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408B5-CA2B-4A40-8E80-AD2F9EFD67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2E598-56F4-4259-A289-083ADA80B5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0T01:18:57Z</dcterms:created>
  <dc:creator>Rajiv Malkan</dc:creator>
  <dc:description/>
  <dc:language>en-US</dc:language>
  <cp:lastModifiedBy>Developer</cp:lastModifiedBy>
  <dcterms:modified xsi:type="dcterms:W3CDTF">2003-12-10T01:20:00Z</dcterms:modified>
  <cp:revision>1</cp:revision>
  <dc:subject/>
  <dc:title>PPT - Solutions Proejct 6a</dc:title>
</cp:coreProperties>
</file>