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5865-84C2-4982-8A68-A333BDE41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058-604F-450B-BE9D-A5021A43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sugg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lassifieds or consignment 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plastic and use paper 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reusable 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e concentrates and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products with least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F4BA-CAFC-47D6-83E4-5304B5E7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6A54-C97C-4518-A96F-E74D0DA3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2960-2CA0-464B-9C19-2706E488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8201-AA5C-40CD-B9AF-A218DE24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3A45-11BE-492A-9E50-B08B28BD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E025-8296-4117-8D60-BA49B274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ED9B-E060-470F-92F1-78A51D3F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66FE-F0CC-4358-B626-8AA3F618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82E2-C059-482C-A690-B5C7A327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64D0-D40C-473E-9508-7DE90E6B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5D26-B713-44E8-98CF-2BE6265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6A57-0D03-4B14-9E0F-C30A6B0A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F118-9510-4001-B0FD-BB47EE7C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1D29-A4A6-4A5F-8F28-FCC9423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9633-B18E-4A34-994F-16DEDD76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B906-3047-4D6C-8BBE-675E23E8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5C18-08F1-4316-B5AC-02A15F90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9CEB-C33E-4D85-BAF0-969731A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3A24-7C44-4F76-8858-71F7AC27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97C6-B010-4A21-8969-AAEDC230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CDC9-F78F-4C56-9583-4B52A120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AF83-6399-4FDD-A56A-11F0E11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7311-C680-4287-9BE7-2638C10C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0B4B-E412-4DD0-8DCB-A2A1643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D95D-DA8F-4E0C-894D-BA79CD3F4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4784-AA17-44A4-B02B-A8DB89D88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Recycle!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-cycling practices in an office environmen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 R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you can do a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products and packaging made with Recycle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oth sides of the Paper when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 certain supplies instead of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eramic coffee m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rechargeable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a Part of the Solutio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Expend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Rita will be in charge of collecting shredded paper to be given to recycling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Thomas assigned to ensure all lights go off after the office 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Perry to check carpool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Cathy in charge of employee suggestion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1:18:57Z</dcterms:created>
  <dc:creator>Rajiv Malkan</dc:creator>
  <dc:description/>
  <dc:language>en-US</dc:language>
  <cp:lastModifiedBy>Developer</cp:lastModifiedBy>
  <dcterms:modified xsi:type="dcterms:W3CDTF">2003-12-10T01:56:34Z</dcterms:modified>
  <cp:revision>4</cp:revision>
  <dc:subject/>
  <dc:title>PPT - Solutions Project 6b</dc:title>
</cp:coreProperties>
</file>