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DAA-B272-4446-AC68-881094A7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4958-3EFC-453B-A96C-5AC682E8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4E6-5EA5-4073-A201-93F7D600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2F2-6867-4C45-A249-5280AE85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108E-40D1-4E62-95BD-34313457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5A43-C57B-4992-8520-121F6EAD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838B-BF9A-4CF4-8F2D-CF38A511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559D-FC7D-4DA7-A696-5427D4B3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25A8-511E-4780-8229-79287E5E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F458-0F80-4912-90A8-51A39327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5831-AE0D-4F71-92D1-5AE2B06D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212-5E44-47B0-A2CD-B4CE0EDE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1369-0CFA-4B8E-B881-364A26CF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9E19-F4B9-44AF-86DB-C80F05AA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3E77-F652-4BCA-96A7-1DC03A67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2BC3-F71E-4E7D-BEB7-54706337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5F38-47C4-4FB5-9C70-EC22D87F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B3A4-E0D6-475E-A4F7-AEB69371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746D-8B75-4BF0-816D-454887A9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0545-DE29-48A4-8900-2DE695B3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067-2E85-472A-A26F-3E71B007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767-9102-4743-8686-2C6D8B98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117-6150-48E0-B352-4495EB5F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FA31-5D03-4744-AFE0-4548A5B0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863A-A654-4CC3-91DD-5363153661B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37F8-61B2-418D-9A1F-4FB6B5197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055D-4211-4F91-9C05-833D2683671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360C-3AC5-4900-A007-24A6B3B2CF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merican Pride, Inc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less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Innovative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our quest for Id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our quest for new busine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our quest for Divers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our quest for new pract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erican Prid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3EB-5B6A-4732-A6F3-D0E537E237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9E14C-6F76-4EA5-AE9D-E90F8DA558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ur valu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ect – We treat others as we would like to be treated.  People friendly environment with no room for arrogance and abus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ity – We work with Clients and Customers openly and in a crystal clear manner with no hidden agenda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hievement – Ours is an environment that promotes and encourages achievers.  We will continue to raise the bar of perfec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cation – We are good listeners and thus able to provide our customers exactly what they ne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erican Prid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299-8DD4-4D75-ADDB-9A7546CECE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B46B7-3FD9-43E2-887E-75F113424A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ur go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Significantly expand our existing busine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be the best in what we do and create a nic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extend our services to new mark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reach the targeted profits in a timely and effective w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erican Prid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E3F-82CE-4148-A292-CC97DBC5DE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41142-2E19-4140-B53A-0126E837E2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rporate Profi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st growing Software Development fir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ve locations in three major cities (Houston, Dallas and Californi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 Million in Physical Assets alone and growing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best asset - Peo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erican Prid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1A86-F956-4F41-8F0A-27DA96C078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66CCF-B45D-4F45-9CE7-05C473AA48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mployee Benefits at a glanc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provide the following and more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idental Death and Dismemberment Insu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Travel accident Insu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tal Pl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tor’s Off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ucational  Assistance Progr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oyee Life Insu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Term Dis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1 K Pl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securit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erican Prid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4698-8FA7-46BD-B32A-6093BB6760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11C79-AFE2-49E9-890E-715D59AC53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s it in you?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are looking for High Energy and Creative individua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’s a fast paced Multitasking enviro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mendous growth potent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make it happ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erican Prid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DC86-C012-4617-8463-21874A8357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F0CB1-D291-42D7-80DD-62F4FE19A2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jiv Malkan</dc:creator>
  <dc:description/>
  <dc:language>en-US</dc:language>
  <cp:lastModifiedBy>Developer</cp:lastModifiedBy>
  <dcterms:modified xsi:type="dcterms:W3CDTF">2003-12-09T21:38:32Z</dcterms:modified>
  <cp:revision>1</cp:revision>
  <dc:subject/>
  <dc:title>PPT - Solutions Project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