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65E-9A5D-4255-A2C2-CF05829F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606-F6FA-47F5-A3CA-5A109E1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642-0595-4A3A-AB31-109A4A43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0D4-9E8E-424A-9D33-1B12B9BA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CCA-DC6F-48CD-A20F-CA88612B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453-F565-41AA-8B8D-48FF2942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87E-2E0A-41A6-A55B-AC83A91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CBFB-040E-472C-A28E-9EF66E0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BFCE-5CA5-4E04-81A2-5916CEE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1B3-98D4-4CE8-B874-BCA4E08F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CB5-3AF0-451C-AEFD-8FC0180B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1D3-F7B4-4755-A91F-F2304DC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A6E-6164-4066-851D-A2A950F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0A05-3C9C-47BD-9751-ACF826FD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FBEC-B773-4C74-8A72-6A10655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CF82-11A2-4E70-8D28-B5568310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0821-C876-4926-AA5C-F57B0275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486-51D3-4CB7-8C12-DF2FAC4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0A4-3055-4687-866B-E4F2AF1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904-40A5-4AB3-9F6E-73B90BB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074-B276-4433-AC2B-5B107CC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ED7-D2DE-4C02-B596-1E9C39D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3CE-0B3A-43F5-A089-8DD9DE6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5B0-2A46-4700-B7F3-C99DF7E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5F2D-4D18-4A9B-9330-F84FCA5A6A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28A-F584-426F-89AC-0778A265444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7d47d"/>
                </a:solidFill>
                <a:latin typeface="Arial"/>
              </a:rPr>
              <a:t>Employee Appreciation Program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6324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ur Biggest Asset-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Our Peop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362320" y="8380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5b78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You Make It Happe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d5b78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6120" y="1523880"/>
            <a:ext cx="591840" cy="97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57520" y="4167360"/>
            <a:ext cx="880920" cy="861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681200" y="5416560"/>
            <a:ext cx="965160" cy="121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722600" y="2779560"/>
            <a:ext cx="949320" cy="95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37920" y="153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61960" y="28749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66280" y="42609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eam Spir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62320" y="57085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Good Ima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609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8080" y="2057400"/>
            <a:ext cx="6858000" cy="335268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Appraisa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zzle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ceeds Expec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ets Expec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oes not meet Expecta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5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%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527600">
            <a:off x="5416200" y="1566360"/>
            <a:ext cx="3581280" cy="6858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We take Pride in our Employe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Best Employee Award for the Year 200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resented for best innovative practices in their respective fields 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s. Rita Taylor, Manager Human Resour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r. Raj Gupta, Manager Information Technolog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38680" y="609480"/>
            <a:ext cx="1774800" cy="18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19784400">
            <a:off x="5560920" y="4768560"/>
            <a:ext cx="3403800" cy="1266840"/>
          </a:xfrm>
          <a:custGeom>
            <a:avLst/>
            <a:gdLst>
              <a:gd name="textAreaLeft" fmla="*/ 851040 w 3403800"/>
              <a:gd name="textAreaRight" fmla="*/ 2553120 w 3403800"/>
              <a:gd name="textAreaTop" fmla="*/ 0 h 1266840"/>
              <a:gd name="textAreaBottom" fmla="*/ 1108800 h 1266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ngratul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2:31:55Z</dcterms:created>
  <dc:creator>Rajiv Malkan</dc:creator>
  <dc:description/>
  <dc:language>en-US</dc:language>
  <cp:lastModifiedBy>Developer</cp:lastModifiedBy>
  <dcterms:modified xsi:type="dcterms:W3CDTF">2003-12-09T23:19:34Z</dcterms:modified>
  <cp:revision>5</cp:revision>
  <dc:subject/>
  <dc:title>PPT - Solutions Project 3b</dc:title>
</cp:coreProperties>
</file>