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9370-045A-4A29-9095-EDC85F9EF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courage the students to ask as many questions as possible at the end of each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26B7-46CB-4F92-B392-C2FD3AE36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9571-49B1-41C5-9B58-56BA381A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1A39-07EF-4A28-A769-C13B8893B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346A-218F-44F2-B54B-294891B16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3248-74ED-4368-A316-0ECA829D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8BAD-65A7-4953-8779-FA90532A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8520-A69E-426B-AB4D-17BC1412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7C96-B480-4691-8B3D-172B1D90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D74E-F6F4-4761-BC06-228ADACF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1E33-43C1-424D-B534-454AB17D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3D77-784F-4995-BDB6-D074FC33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F6EC-7334-4263-8456-6C78BB4A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3A6F-1D9E-40E4-BC5A-2CB7CE6E2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merican Pride, Inc. Management Trainee Program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’s in it for you?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alary Packag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Attractive Sal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tipend and Conveyance allowance for first six month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asic salary after six months of employ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i-Annual appraisal based salary rai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Benefits at all ti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election Proces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Group discuss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ersonal Intervie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Technical Intervie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Only ten management trainees will be select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Induction Progra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Department wi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Location wi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Building to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rientation Progra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Initial Orientation at the time of employ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Separate American Pride Orientation Program by Senior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Department wise orientation in the first few month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raining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You will study all the department fun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In the second half of MT program, you will be absorbed in a depart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You will get full training from the department you are absorbed 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pprais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Bi – annual apprais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360 degree appraisal pro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You will be made permanent employee upon successful comple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onclusion of Management Training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You will be made permanent employees based on apprais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You will be designated Assistant Manag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Salary and perks will be added commensurate to your po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me explore the Endless Possibilitie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We believe in Innovative Solu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Fast Growth Prospec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Tremendous Lear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Family Oriented Compan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21:40:59Z</dcterms:created>
  <dc:creator>Rajiv Malkan</dc:creator>
  <dc:description/>
  <dc:language>en-US</dc:language>
  <cp:lastModifiedBy>Developer</cp:lastModifiedBy>
  <dcterms:modified xsi:type="dcterms:W3CDTF">2003-12-09T22:25:35Z</dcterms:modified>
  <cp:revision>2</cp:revision>
  <dc:subject/>
  <dc:title>PPT - Solutions Project 2</dc:title>
</cp:coreProperties>
</file>