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FC50-BC89-4A47-ABEC-217B5BA5E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3606840" y="514440"/>
            <a:ext cx="193032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59CC-33F9-4F29-BD98-907CF28B6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606840" y="514440"/>
            <a:ext cx="193032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sugg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lassifieds or consignment 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plastic and use paper bags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reusable 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chase concentrates an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products with least pack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AEB9-721C-4A64-9317-886EB4FE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5C84-F6CC-4697-AE47-87BF0D2B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1C55-031D-4F1D-B999-36A1E06C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B37E-0434-4EDE-B328-FEB04DFC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8B58-F7B2-40E4-81E6-E015A1B8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2EDD-792D-4EB0-83D2-685F31ED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9DCF-D59E-4FCD-A9A4-CAA63CEE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AE71-BC2A-4985-9618-F229836F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C59A-E268-491A-89A9-5E01374C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51FD-B811-479B-BE2A-AE08335B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771E-EEC5-4475-AC82-F7120C08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ADBC-687A-4AEB-9E33-B1765113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A2DD-3EFD-4A64-8408-710C911A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6129-59EA-4DB6-A28E-24D35990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558A-3CDB-475F-A29F-76954D80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DF18-DCB4-425B-B396-D5EABA57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19B6-B05A-449E-9F0A-89006B6B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675E-E162-4154-A5E4-7040A20C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859F-5523-48D9-9D16-7E2F5E2A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2E0E-9DD0-4C95-9608-50CB53A9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6B49-38E6-40DC-A625-AA01E26F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D758-8076-40AC-8669-8EBC8EAB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75AC-E65C-4756-B82C-2C67F4F5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6C02-B745-44C6-AED6-156FE0E9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DC28-08C5-447A-B28E-FBA1CE6060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857640" cy="728280"/>
            <a:chOff x="0" y="0"/>
            <a:chExt cx="6857640" cy="7282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14200" cy="71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9600" y="180000"/>
              <a:ext cx="654804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7080" y="180000"/>
              <a:ext cx="103320" cy="18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0400" y="0"/>
              <a:ext cx="10476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0400" y="180000"/>
              <a:ext cx="104760" cy="18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05920" y="366120"/>
              <a:ext cx="10224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640" y="181800"/>
              <a:ext cx="105840" cy="1843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7080" y="361800"/>
              <a:ext cx="103320" cy="1843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5920" y="546480"/>
              <a:ext cx="102240" cy="181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2628720" cy="9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87000" y="2253960"/>
              <a:ext cx="5570640" cy="3377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422000"/>
              <a:ext cx="2149920" cy="4209480"/>
              <a:chOff x="0" y="1422000"/>
              <a:chExt cx="2149920" cy="4209480"/>
            </a:xfrm>
          </p:grpSpPr>
          <p:sp>
            <p:nvSpPr>
              <p:cNvPr id="55" name=""/>
              <p:cNvSpPr/>
              <p:nvPr/>
            </p:nvSpPr>
            <p:spPr>
              <a:xfrm>
                <a:off x="429840" y="4776840"/>
                <a:ext cx="432000" cy="8546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87000" y="2253600"/>
                <a:ext cx="430920" cy="8571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0720" y="1422000"/>
                <a:ext cx="439200" cy="846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6080" y="4776840"/>
                <a:ext cx="437760" cy="8546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0720" y="2253600"/>
                <a:ext cx="439200" cy="857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56080" y="3098160"/>
                <a:ext cx="437760" cy="8442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98160"/>
                <a:ext cx="436680" cy="8442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87000" y="3098160"/>
                <a:ext cx="430920" cy="8442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9840" y="3930120"/>
                <a:ext cx="432000" cy="858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6080" y="3930120"/>
                <a:ext cx="437760" cy="858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B984-41D2-49B6-AE66-A13FEE813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cycle!!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28760" y="5689440"/>
            <a:ext cx="451512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-cycling practices in an office environmen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 R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you can do a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products and packaging made with Recycled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oth sides of the Paper when cop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 certain supplies instead of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eramic coffee m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rechargeable ba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a Part of the Solutio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e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Expend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Rita will be in charge of collecting shredded paper to be given to recycl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Thomas assigned to ensure all lights go off after the office cl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Perry to check carpool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Cathy in charge of employee suggestion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01:18:57Z</dcterms:created>
  <dc:creator>Rajiv Malkan</dc:creator>
  <dc:description/>
  <dc:language>en-US</dc:language>
  <cp:lastModifiedBy>Developer</cp:lastModifiedBy>
  <dcterms:modified xsi:type="dcterms:W3CDTF">2003-12-10T01:51:41Z</dcterms:modified>
  <cp:revision>3</cp:revision>
  <dc:subject/>
  <dc:title>PPT - Solutions Project 6d</dc:title>
</cp:coreProperties>
</file>