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9D9E-DF07-4632-9D47-703659F2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83B6-1D7F-4853-9E2D-1BCC7CBB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D25A-D63B-49AC-A3A7-8BA7B2C9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4227-B8C0-4CDA-AEA3-E406D1F8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7A97-7ABA-4C8F-9AC6-B49927D7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17E6-6E14-41C8-AFF0-F6E3A04A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0BC5-3624-4FE1-B77F-D573757F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5639-F3A9-4A34-8C51-B659AA0F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D2F6-04C7-458D-9867-687A4A31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D13C-BB74-4D59-9807-390FE507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A64F-5D0F-4A87-9C64-2B30FE37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F900-A1B8-4D55-B611-2ED52234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B598-AF66-471B-8FEB-F738DD23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308B-EF2B-4836-BA60-5EE1D4FD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0BB7-1845-4C92-BF30-AA8217BF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F297-6862-4462-8BF1-9C487873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E7FC-615C-4B64-9772-4FF384D1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CF99-E570-4510-9949-F7B2F52F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E0EC-0309-44EF-85B4-4C376244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7CD3-715F-423B-BF4E-63F9E75C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9626-D4E0-465F-9D74-CB019DF2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9E09-DC6A-4F4A-963C-AC50963B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74AE1-2E3C-468B-8C50-BDB3CCF2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9781-683B-4F51-9F1D-44F5A2B5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E77A-A1FB-4B3E-B11D-39B975508D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6F0F-D977-4D70-B063-11F0FE82D2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mployee Appreciation Program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666520" y="4266720"/>
            <a:ext cx="6324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r Biggest Asset-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ur Peopl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575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362320" y="838080"/>
            <a:ext cx="382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You Make It Happe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6120" y="1523880"/>
            <a:ext cx="591840" cy="971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57520" y="4167360"/>
            <a:ext cx="880920" cy="86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81200" y="5416560"/>
            <a:ext cx="965160" cy="1212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722600" y="2779560"/>
            <a:ext cx="949320" cy="954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37920" y="1539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61960" y="287496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66280" y="426096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Team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62320" y="570852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Good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609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2057400"/>
            <a:ext cx="6858000" cy="335268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18960" y="2361960"/>
            <a:ext cx="4647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ais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zz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eds 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s 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meet Expec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251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527600">
            <a:off x="5416200" y="1566360"/>
            <a:ext cx="35812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take Pride in our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st Employee Award for the Year 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ed for best innovative practices in their respective fiel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. Rita Taylor, Manager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. Raj Gupta, Manager Informatio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10080" y="1143000"/>
            <a:ext cx="1478160" cy="151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rot="19784400">
            <a:off x="5727600" y="5381280"/>
            <a:ext cx="3403800" cy="609480"/>
          </a:xfrm>
          <a:custGeom>
            <a:avLst/>
            <a:gdLst>
              <a:gd name="textAreaLeft" fmla="*/ 851040 w 3403800"/>
              <a:gd name="textAreaRight" fmla="*/ 2553120 w 3403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rat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22:31:55Z</dcterms:created>
  <dc:creator>Rajiv Malkan</dc:creator>
  <dc:description/>
  <dc:language>en-US</dc:language>
  <cp:lastModifiedBy>Developer</cp:lastModifiedBy>
  <dcterms:modified xsi:type="dcterms:W3CDTF">2003-12-09T23:13:30Z</dcterms:modified>
  <cp:revision>3</cp:revision>
  <dc:subject/>
  <dc:title>PPT - Solutions Project 3a</dc:title>
</cp:coreProperties>
</file>