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551-1861-428D-9DB0-B748967A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21E-83A8-44A4-889F-DD3E2576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E3B-2987-489D-AB87-03A1235C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B13-4815-442C-B3A2-22A62C10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9B4C-85CE-40EB-B8F1-D4C9C227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0D96-AC42-4484-9236-525DD9B8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FADB-2C9C-41F4-8D26-0BF56C27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C689-F36D-490C-A71E-C3A7EC0E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7172-4A99-4A6F-BC7A-06E938F0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96EC-D69B-40E4-B7ED-0389366F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D53A-870F-4067-908E-A4FD3B1A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5C0-2B0C-40C6-AE4C-FFDBCE93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F114-18AD-46B0-8763-21BA2FB9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50FE-4195-4535-AB80-C6960415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71A4-6A42-4629-8474-EA80ECC4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DB4D-15AA-4C36-9FFE-6A9BD0AE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119A-F958-4340-8335-46F22A0F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1A6-B335-4BCC-8BBE-39CB0C9F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D17-62E1-4149-AF0B-D6AEFDAB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EA3-6D45-4454-A359-A47782FF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FC70-44B3-48A1-971E-E1B28F40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A6D-D294-494C-B842-3EC20612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2FA-847B-40AA-85E6-506D543C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AA2-45F8-4800-B6A8-DBC2C482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C496-A56A-4C59-8B63-2BA4C1FBA2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8C43-7AFA-4056-B8B1-85ED7DF117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uman Resource Information Systems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formation at your finger tips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85800" y="3048120"/>
            <a:ext cx="2361960" cy="2514600"/>
            <a:chOff x="685800" y="3048120"/>
            <a:chExt cx="2361960" cy="251460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685800" y="3048120"/>
              <a:ext cx="20574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914400" y="32004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" y="312444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merican Pride Inc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anges and Impediments in everyday HR activ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 changing scenario due to fast growing Company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loc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ing Manpower and Manpower Turno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 Employee benefit progr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 salary surveys and appraisal proced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 Organization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0000">
    <p:wedge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do we need HRI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keep track of an ever increasing Manpow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have a centralized database at our Head Office from all different lo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get quicker and accurate information, fa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have standardized procedures across all our SBU’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have a secure environment for all our salary and benefits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enable fair and accurate Appraisal proced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keep centralized account of lea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be able to eventually let Employees log- in and use the system themselves thus cutting cost and time facto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0000">
    <p:wedge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orts Gene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RIS will streamline repor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move towards Paperless Offi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ture cost sav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0000">
    <p:wedge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2438280"/>
            <a:ext cx="8001000" cy="4114800"/>
          </a:xfrm>
          <a:prstGeom prst="roundRect">
            <a:avLst>
              <a:gd name="adj" fmla="val 16667"/>
            </a:avLst>
          </a:prstGeom>
          <a:solidFill>
            <a:srgbClr val="99cc99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itial Inventory Required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2505600"/>
            <a:ext cx="853416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c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ardwar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Quantit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Woodlands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 GB PC with color Monito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owntown Houston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 GB PC with color Monitor + Hard disk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lano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 GB PC with color Monito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ichards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 GB PC with color Monito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ana Poin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 GB PC with color Monito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0000">
    <p:wedge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Changes and Impediments in everyday HR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activitiesChanges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 and Impediments in everyday HR activ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do we need HR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orts Gene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itial Inventory Requi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10000">
    <p:wedge/>
    <p:sndAc>
      <p:stSnd>
        <p:snd r:embed="rId4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23:24:49Z</dcterms:created>
  <dc:creator>Rajiv Malkan</dc:creator>
  <dc:description/>
  <dc:language>en-US</dc:language>
  <cp:lastModifiedBy>Developer</cp:lastModifiedBy>
  <dcterms:modified xsi:type="dcterms:W3CDTF">2003-12-10T00:34:33Z</dcterms:modified>
  <cp:revision>4</cp:revision>
  <dc:subject/>
  <dc:title>PPT - Solutions Project 4</dc:title>
</cp:coreProperties>
</file>