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9E13-30C8-4C6F-B506-24C78C465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1ddd4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744E-D8E9-44D4-8C13-99784220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1ddd4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2A5A-374A-4BC4-9036-24C98D228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1ddd4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F0C8-F1DB-4F25-8C6F-C2B0141A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0693-EDF0-4B13-B2F1-585814947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1ddd4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870B-8613-4622-80BB-1DD1BB13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1ddd4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7B50-940B-4A4E-9432-ACF681AD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1ddd4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7010-9296-4E9E-A040-A34DCA76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1ddd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486B-8B20-440B-8C78-FFF99897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AD1D-BF8E-4D0B-B7F1-1779FC56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1ddd4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0D6C-BD10-43BD-937B-509F7F4F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1ddd4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7CAE-324D-4729-9BC5-5EC1C0CF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1ddd4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745A-EA31-49FB-AE88-B202C7BA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1ddd4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7724-61AC-4289-ADFE-40D22456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1ddd4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999E-5FFE-4B4D-A34E-46D5A839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1ddd4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0025-2A0C-4D68-88FA-07AB6324B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1ddd4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F8D2-6D9D-49DD-94D8-30F8DC91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1ddd4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C740-1631-48B4-874C-8FD25673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1ddd4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92CA-9F09-40E4-87FB-D6FE4339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1ddd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3B8A-F47B-49FB-8C91-BDB2E0D0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E1FB-3E0E-4AEC-BAA9-D964FB01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1ddd4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C3EF-CA23-485D-8C13-985D493C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1ddd4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F267-1640-4D1B-B03B-E17AA949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1ddd4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24F1-6AD9-45BE-A092-6FAF8BF6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ddd4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d1ddd4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EEE5-3696-497C-B10F-09E57DFB980B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d1ddd4"/>
                </a:solidFill>
                <a:latin typeface="Arial Black"/>
              </a:rPr>
              <a:t>Click to edit the title text format</a:t>
            </a:r>
            <a:endParaRPr b="0" lang="en-US" sz="6300" spc="-1" strike="noStrike">
              <a:solidFill>
                <a:srgbClr val="d1ddd4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35AB-E63D-471D-99F0-D8C6E31977A7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8f8f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2952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d1ddd4"/>
                </a:solidFill>
                <a:latin typeface="Arial Black"/>
              </a:rPr>
              <a:t>Power Walk and Breakfast</a:t>
            </a:r>
            <a:endParaRPr b="0" lang="en-US" sz="6300" spc="-1" strike="noStrike">
              <a:solidFill>
                <a:srgbClr val="d1ddd4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Good </a:t>
            </a:r>
            <a:r>
              <a:rPr b="0" i="1" lang="en-US" sz="4400" spc="-1" strike="noStrike">
                <a:solidFill>
                  <a:srgbClr val="f8f8f8"/>
                </a:solidFill>
                <a:latin typeface="Verdana"/>
              </a:rPr>
              <a:t>4</a:t>
            </a:r>
            <a:r>
              <a:rPr b="0" i="1" lang="en-US" sz="48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0" i="1" lang="en-US" sz="3600" spc="-1" strike="noStrike">
                <a:solidFill>
                  <a:srgbClr val="f8f8f8"/>
                </a:solidFill>
                <a:latin typeface="Verdana"/>
              </a:rPr>
              <a:t>U</a:t>
            </a: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Promotional Strategy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ddd4"/>
                </a:solidFill>
                <a:latin typeface="Arial Black"/>
              </a:rPr>
              <a:t>Objectives</a:t>
            </a:r>
            <a:endParaRPr b="0" lang="en-US" sz="4800" spc="-1" strike="noStrike">
              <a:solidFill>
                <a:srgbClr val="d1ddd4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Encourage morning power walkers to breakfast at Good </a:t>
            </a:r>
            <a:r>
              <a:rPr b="0" i="1" lang="en-US" sz="4000" spc="-1" strike="noStrike">
                <a:solidFill>
                  <a:srgbClr val="f8f8f8"/>
                </a:solidFill>
                <a:latin typeface="Verdana"/>
              </a:rPr>
              <a:t>4</a:t>
            </a:r>
            <a:r>
              <a:rPr b="0" i="1" lang="en-US" sz="44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8f8f8"/>
                </a:solidFill>
                <a:latin typeface="Verdana"/>
              </a:rPr>
              <a:t>U</a:t>
            </a: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Make Good </a:t>
            </a:r>
            <a:r>
              <a:rPr b="0" i="1" lang="en-US" sz="4000" spc="-1" strike="noStrike">
                <a:solidFill>
                  <a:srgbClr val="f8f8f8"/>
                </a:solidFill>
                <a:latin typeface="Verdana"/>
              </a:rPr>
              <a:t>4</a:t>
            </a:r>
            <a:r>
              <a:rPr b="0" i="1" lang="en-US" sz="44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8f8f8"/>
                </a:solidFill>
                <a:latin typeface="Verdana"/>
              </a:rPr>
              <a:t>U</a:t>
            </a: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 a social center for power walkers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ddd4"/>
                </a:solidFill>
                <a:latin typeface="Arial Black"/>
              </a:rPr>
              <a:t>Strategies</a:t>
            </a:r>
            <a:endParaRPr b="0" lang="en-US" sz="4800" spc="-1" strike="noStrike">
              <a:solidFill>
                <a:srgbClr val="d1ddd4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Guided walks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minars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Good </a:t>
            </a:r>
            <a:r>
              <a:rPr b="0" i="1" lang="en-US" sz="4000" spc="-1" strike="noStrike">
                <a:solidFill>
                  <a:srgbClr val="f8f8f8"/>
                </a:solidFill>
                <a:latin typeface="Verdana"/>
              </a:rPr>
              <a:t>4</a:t>
            </a:r>
            <a:r>
              <a:rPr b="0" i="1" lang="en-US" sz="44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8f8f8"/>
                </a:solidFill>
                <a:latin typeface="Verdana"/>
              </a:rPr>
              <a:t>U</a:t>
            </a: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 merchandise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Advertising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ddd4"/>
                </a:solidFill>
                <a:latin typeface="Arial Black"/>
              </a:rPr>
              <a:t>Cost/Benefit Analysis</a:t>
            </a:r>
            <a:endParaRPr b="0" lang="en-US" sz="4800" spc="-1" strike="noStrike">
              <a:solidFill>
                <a:srgbClr val="d1ddd4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osts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6c0ce"/>
              </a:buClr>
              <a:buSzPct val="8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Walk guides’ salaries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6c0ce"/>
              </a:buClr>
              <a:buSzPct val="8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Seminar leaders’ salaries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6c0ce"/>
              </a:buClr>
              <a:buSzPct val="8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Merchandise costs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6c0ce"/>
              </a:buClr>
              <a:buSzPct val="8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Advertising costs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19112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Benefits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6c0ce"/>
              </a:buClr>
              <a:buSzPct val="8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Increase breakfasts served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6c0ce"/>
              </a:buClr>
              <a:buSzPct val="8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Increase repeat business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6c0ce"/>
              </a:buClr>
              <a:buSzPct val="8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Increase merchandise sales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6c0ce"/>
              </a:buClr>
              <a:buSzPct val="8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Increase general sales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7T21:55:19Z</dcterms:created>
  <dc:creator>Pat R. Graves</dc:creator>
  <dc:description/>
  <dc:language>en-US</dc:language>
  <cp:lastModifiedBy>Pat Graves</cp:lastModifiedBy>
  <dcterms:modified xsi:type="dcterms:W3CDTF">2004-02-07T22:17:59Z</dcterms:modified>
  <cp:revision>2</cp:revision>
  <dc:subject/>
  <dc:title>Power Walk and Breakfast</dc:title>
</cp:coreProperties>
</file>