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DD71-801F-4A2B-AD92-5E12EB311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4200" y="291960"/>
            <a:ext cx="59418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4200" y="1905120"/>
            <a:ext cx="5941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4200" y="4054680"/>
            <a:ext cx="5941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DA74-590A-43AF-ADCB-EF48D9DEF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4200" y="291960"/>
            <a:ext cx="59418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4200" y="1905120"/>
            <a:ext cx="2899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29080" y="1905120"/>
            <a:ext cx="2899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4200" y="4054680"/>
            <a:ext cx="2899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29080" y="4054680"/>
            <a:ext cx="2899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4E50-1058-4003-B021-0C6B08EAD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4200" y="291960"/>
            <a:ext cx="59418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4200" y="1905120"/>
            <a:ext cx="1913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93360" y="1905120"/>
            <a:ext cx="1913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2520" y="1905120"/>
            <a:ext cx="1913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4200" y="4054680"/>
            <a:ext cx="1913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293360" y="4054680"/>
            <a:ext cx="1913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2520" y="4054680"/>
            <a:ext cx="1913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CDF5-434B-47B9-A616-CAC3920D2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8FAC2A-9D16-402F-A4FC-65EDDE14B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4200" y="291960"/>
            <a:ext cx="59418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284200" y="1905120"/>
            <a:ext cx="5941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A13D1E-82A2-47B6-AFC9-34E03395D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4200" y="291960"/>
            <a:ext cx="59418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4200" y="1905120"/>
            <a:ext cx="5941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B2833C-EA3E-4EF7-83C6-940677094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4200" y="291960"/>
            <a:ext cx="59418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4200" y="1905120"/>
            <a:ext cx="2899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329080" y="1905120"/>
            <a:ext cx="2899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34B3FB-02AE-4F45-AA64-7D3278DFA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4200" y="291960"/>
            <a:ext cx="59418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87266E-5E15-4EE5-B73D-D3895D803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4200" y="291960"/>
            <a:ext cx="59418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288B44-4D63-4C9E-A52B-B3F407D84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4200" y="291960"/>
            <a:ext cx="59418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4200" y="1905120"/>
            <a:ext cx="2899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329080" y="1905120"/>
            <a:ext cx="2899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284200" y="4054680"/>
            <a:ext cx="2899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390272-D0C8-471F-8121-1293B3617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4200" y="291960"/>
            <a:ext cx="59418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4200" y="1905120"/>
            <a:ext cx="5941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889B-1DD7-40DE-8A4A-D7315123E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4200" y="291960"/>
            <a:ext cx="59418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4200" y="1905120"/>
            <a:ext cx="2899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329080" y="1905120"/>
            <a:ext cx="2899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329080" y="4054680"/>
            <a:ext cx="2899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CCDDE8-B0FE-4373-9445-4F6E0D5A4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4200" y="291960"/>
            <a:ext cx="59418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4200" y="1905120"/>
            <a:ext cx="2899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329080" y="1905120"/>
            <a:ext cx="2899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284200" y="4054680"/>
            <a:ext cx="5941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501651-06EC-4761-B235-0A003F1B4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4200" y="291960"/>
            <a:ext cx="59418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4200" y="1905120"/>
            <a:ext cx="5941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284200" y="4054680"/>
            <a:ext cx="5941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026526-A8E7-4725-97BC-D2009D716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4200" y="291960"/>
            <a:ext cx="59418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4200" y="1905120"/>
            <a:ext cx="2899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329080" y="1905120"/>
            <a:ext cx="2899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284200" y="4054680"/>
            <a:ext cx="2899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329080" y="4054680"/>
            <a:ext cx="2899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65F860-0445-4272-858D-A9752EC0B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4200" y="291960"/>
            <a:ext cx="59418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4200" y="1905120"/>
            <a:ext cx="1913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293360" y="1905120"/>
            <a:ext cx="1913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302520" y="1905120"/>
            <a:ext cx="1913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284200" y="4054680"/>
            <a:ext cx="1913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293360" y="4054680"/>
            <a:ext cx="1913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302520" y="4054680"/>
            <a:ext cx="1913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74BDD6-77D0-46F9-83C9-D2C0A5C04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4200" y="291960"/>
            <a:ext cx="59418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4200" y="1905120"/>
            <a:ext cx="5941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D764-851E-4B65-AA06-5D95554BE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4200" y="291960"/>
            <a:ext cx="59418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4200" y="1905120"/>
            <a:ext cx="2899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29080" y="1905120"/>
            <a:ext cx="2899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3467-3ADE-4084-892E-2B04321EC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4200" y="291960"/>
            <a:ext cx="59418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C03E-DD72-4FCF-957C-07F31E669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4200" y="291960"/>
            <a:ext cx="59418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C949-09DC-40DE-AE3A-E6503639A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4200" y="291960"/>
            <a:ext cx="59418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4200" y="1905120"/>
            <a:ext cx="2899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29080" y="1905120"/>
            <a:ext cx="2899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4200" y="4054680"/>
            <a:ext cx="2899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8D31-1A2C-4B7D-9403-D81A0419B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4200" y="291960"/>
            <a:ext cx="59418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4200" y="1905120"/>
            <a:ext cx="2899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29080" y="1905120"/>
            <a:ext cx="2899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29080" y="4054680"/>
            <a:ext cx="2899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B109-6877-4E54-8F69-A5650CE47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4200" y="291960"/>
            <a:ext cx="59418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4200" y="1905120"/>
            <a:ext cx="2899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29080" y="1905120"/>
            <a:ext cx="2899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4200" y="4054680"/>
            <a:ext cx="5941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1896-D52D-4BC8-BD25-3FBA571C6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4200" y="291960"/>
            <a:ext cx="59418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1" lang="en-US" sz="5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4200" y="1905120"/>
            <a:ext cx="5941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1001"/>
              </a:spcBef>
              <a:buClr>
                <a:srgbClr val="ffffff"/>
              </a:buClr>
              <a:buFont typeface="Wingdings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 lvl="1" marL="519840" indent="-199800">
              <a:spcBef>
                <a:spcPts val="1001"/>
              </a:spcBef>
              <a:buClr>
                <a:srgbClr val="ffffff"/>
              </a:buClr>
              <a:buSzPct val="70000"/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 lvl="2" marL="799920" indent="-159840">
              <a:spcBef>
                <a:spcPts val="1001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 lvl="3" marL="1119960" indent="-159840">
              <a:spcBef>
                <a:spcPts val="10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 lvl="4" marL="1440000" indent="-159840">
              <a:spcBef>
                <a:spcPts val="1001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 lvl="5" marL="1440000" indent="-159840">
              <a:spcBef>
                <a:spcPts val="1001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 lvl="6" marL="1440000" indent="-159840">
              <a:spcBef>
                <a:spcPts val="1001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C1B3C-B22E-48CC-9027-81033F23543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0920" y="1341000"/>
            <a:ext cx="784692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1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32567-C9F6-4686-B3F5-D9C8338A2AD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 lvl="1" marL="40680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lvl="2" marL="813600" algn="ctr">
              <a:spcBef>
                <a:spcPts val="7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220400" algn="ctr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4" marL="1627560" algn="ctr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5" marL="1627560"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6" marL="1627560"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10920" y="1560240"/>
            <a:ext cx="784692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Comic Sans MS"/>
              </a:rPr>
              <a:t>New Seafood Menu</a:t>
            </a:r>
            <a:endParaRPr b="1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Good 4 U 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Server Training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4560" y="291960"/>
            <a:ext cx="685944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omic Sans MS"/>
              </a:rPr>
              <a:t>Seafood Categories</a:t>
            </a:r>
            <a:endParaRPr b="1" lang="en-US" sz="5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4200" y="1905120"/>
            <a:ext cx="5941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Wingdings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Saltwater fish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Wingdings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Freshwater fish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Wingdings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Shellfish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Wingdings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Specialties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4200" y="291960"/>
            <a:ext cx="59418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omic Sans MS"/>
              </a:rPr>
              <a:t>Saltwater Fish</a:t>
            </a:r>
            <a:endParaRPr b="1" lang="en-US" sz="5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4200" y="1905120"/>
            <a:ext cx="5941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Wingdings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Halibut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Wingdings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Swordfish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Wingdings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Tuna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4200" y="291960"/>
            <a:ext cx="59418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omic Sans MS"/>
              </a:rPr>
              <a:t>Freshwater Fish</a:t>
            </a:r>
            <a:endParaRPr b="1" lang="en-US" sz="5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4200" y="1905120"/>
            <a:ext cx="5941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Wingdings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atfish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Wingdings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Trout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Wingdings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Bass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4200" y="291960"/>
            <a:ext cx="59418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omic Sans MS"/>
              </a:rPr>
              <a:t>Shellfish</a:t>
            </a:r>
            <a:endParaRPr b="1" lang="en-US" sz="5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4200" y="1905120"/>
            <a:ext cx="5941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Wingdings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Oysters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Wingdings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lams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Wingdings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Shrimp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Wingdings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rab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Wingdings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Lobster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4200" y="291960"/>
            <a:ext cx="59418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omic Sans MS"/>
              </a:rPr>
              <a:t>Specialties</a:t>
            </a:r>
            <a:endParaRPr b="1" lang="en-US" sz="5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4200" y="1905120"/>
            <a:ext cx="5941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Sea vegetables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0000"/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Dulse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0000"/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Hijiki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0000"/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Arame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Sushi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Sashimi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2-18T17:40:52Z</dcterms:created>
  <dc:creator>Pat R. Graves</dc:creator>
  <dc:description/>
  <dc:language>en-US</dc:language>
  <cp:lastModifiedBy>Pat Graves</cp:lastModifiedBy>
  <dcterms:modified xsi:type="dcterms:W3CDTF">2004-02-07T23:15:09Z</dcterms:modified>
  <cp:revision>9</cp:revision>
  <dc:subject/>
  <dc:title>New Seafood Menu</dc:title>
</cp:coreProperties>
</file>