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FD96-FD18-4029-A839-F42205EC8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Verdana"/>
              </a:rPr>
              <a:t>Click to move the slide</a:t>
            </a:r>
            <a:endParaRPr b="1" lang="en-US" sz="5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33F4-D312-434A-9055-A124EB7FA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first paragraph from mayor’s press release on power walk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607-9170-418A-B391-6B250437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5D6-361C-4A51-9890-02BCEDDC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972-C55A-44D0-8CA1-BA3756CA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AF5-02CE-4E42-B211-17427A43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4162-71B5-43F5-AF8E-09AA07B4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7B2F-6345-49A3-B830-D7F0498B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124E-9086-4C6F-ACD2-7C577307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B259-86F1-429B-9490-91964462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5EA0-5417-4A61-A9B4-9516751F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A27E-8CF8-4B85-9608-4693F62C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6A55-0CDB-429E-8F00-B22213B1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555-144C-4D6F-A3AB-6AE13987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7CA3-9430-4926-8BCC-74A708DB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071F-18CE-4C4C-A55E-BB9299B9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9053-4EF9-48E4-A365-7F6CBDFA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36C4-0E15-4EE3-91B4-88E68C29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1047-499D-48D9-A93D-A49CF5BC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202-51B4-4F39-A478-F9035F3A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CE0-320E-410F-A0C0-0F059912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868-551E-4CA5-917F-A1B9B3F1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55C6-CE01-4930-B05B-EAB1A462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AEE-4DCF-4B31-B413-D2F73EE2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B97-FCC2-42C6-BDDD-84D3BF4D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219-BD5C-4184-88B2-A9699AB1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A5D5-1445-421C-8C21-7C6C28527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5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8228-00F9-4850-B229-95E8D8356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Student%20files/Unit%202%20applications/Calories1.xl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Verdana"/>
              </a:rPr>
              <a:t>Power Walk and Breakfast</a:t>
            </a:r>
            <a:endParaRPr b="1" lang="en-US" sz="5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895480" y="3962520"/>
            <a:ext cx="556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Good 4 U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ports Promotion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Verdana"/>
              </a:rPr>
              <a:t>Objectives</a:t>
            </a: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5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est power walkers in our breakfa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05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hance our im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stomer conveni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althy di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Sensible exerci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ty ser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Verdana"/>
              </a:rPr>
              <a:t>Customer Requirements</a:t>
            </a: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5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lthy fo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05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05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sonable c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Verdana"/>
              </a:rPr>
              <a:t>Meeting the Needs</a:t>
            </a: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5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rt-healthy fo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05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st morning ser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05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der-ahead take-out ser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05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ee office delive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05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etitive pric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Verdana"/>
              </a:rPr>
              <a:t>Key Benefits</a:t>
            </a: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5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lthy foods at competitive pri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05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ique varie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05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ick, convenient ser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05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pport for exercise pro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 rot="21009000">
            <a:off x="3576600" y="5347800"/>
            <a:ext cx="43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We hope to see you he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22:49:59Z</dcterms:created>
  <dc:creator>Pat R. Graves</dc:creator>
  <dc:description/>
  <dc:language>en-US</dc:language>
  <cp:lastModifiedBy>Pat Graves</cp:lastModifiedBy>
  <dcterms:modified xsi:type="dcterms:W3CDTF">2004-02-07T23:11:09Z</dcterms:modified>
  <cp:revision>2</cp:revision>
  <dc:subject/>
  <dc:title>Power Walk and Breakfast</dc:title>
</cp:coreProperties>
</file>