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DED-52C1-48F9-B304-BADAED06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85D-DDF9-4EBE-95F3-EC158E4B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594-45EA-4A53-98D4-B7EB336D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13B-2C44-4219-A299-5942765F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4A6-0778-4C7B-8EA9-4609877B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858-131A-44B3-AE1E-39AC5485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8E2-F1FB-4413-9E35-00E51C52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744-E9C9-4F73-8514-35676C0D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998-6888-4679-9782-A0329713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38E-2C7A-4FBF-B872-6B6E1BD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06D-6017-401B-AF01-72D20B9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881-2748-4BCF-856A-9F2CD460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29040" indent="-329040">
              <a:spcBef>
                <a:spcPts val="2251"/>
              </a:spcBef>
              <a:buClr>
                <a:srgbClr val="00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830880" indent="-205560">
              <a:spcBef>
                <a:spcPts val="22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2" marL="1077480" indent="-164520">
              <a:spcBef>
                <a:spcPts val="22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3" marL="1324440" indent="-164520">
              <a:spcBef>
                <a:spcPts val="22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4" marL="1571400" indent="-164520">
              <a:spcBef>
                <a:spcPts val="22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5" marL="1571400" indent="-164520">
              <a:spcBef>
                <a:spcPts val="22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6" marL="1571400" indent="-164520">
              <a:spcBef>
                <a:spcPts val="22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7B4B-FEA0-4827-8867-1A77589B565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 Narrow"/>
              </a:rPr>
              <a:t>Great Jobs 4 U</a:t>
            </a:r>
            <a:endParaRPr b="1" lang="en-US" sz="60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828800" y="4343400"/>
            <a:ext cx="5484600" cy="2212200"/>
            <a:chOff x="1828800" y="4343400"/>
            <a:chExt cx="5484600" cy="2212200"/>
          </a:xfrm>
        </p:grpSpPr>
        <p:sp>
          <p:nvSpPr>
            <p:cNvPr id="45" name=""/>
            <p:cNvSpPr txBox="1"/>
            <p:nvPr/>
          </p:nvSpPr>
          <p:spPr>
            <a:xfrm>
              <a:off x="5785200" y="5185440"/>
              <a:ext cx="152820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4436280" y="4695120"/>
              <a:ext cx="1977120" cy="1860480"/>
              <a:chOff x="4436280" y="4695120"/>
              <a:chExt cx="1977120" cy="1860480"/>
            </a:xfrm>
          </p:grpSpPr>
          <p:sp>
            <p:nvSpPr>
              <p:cNvPr id="47" name=""/>
              <p:cNvSpPr/>
              <p:nvPr/>
            </p:nvSpPr>
            <p:spPr>
              <a:xfrm>
                <a:off x="4436280" y="4695120"/>
                <a:ext cx="1977120" cy="18604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991400" y="4895640"/>
                <a:ext cx="915480" cy="10364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9" name=""/>
            <p:cNvSpPr txBox="1"/>
            <p:nvPr/>
          </p:nvSpPr>
          <p:spPr>
            <a:xfrm>
              <a:off x="1828800" y="4343400"/>
              <a:ext cx="368640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487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 Narrow"/>
              </a:rPr>
              <a:t>Good 4 U is Looking For</a:t>
            </a: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251"/>
              </a:spcBef>
              <a:buClr>
                <a:srgbClr val="00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xperienced waiters and waitress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2251"/>
              </a:spcBef>
              <a:buClr>
                <a:srgbClr val="00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rained, creative chef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2251"/>
              </a:spcBef>
              <a:buClr>
                <a:srgbClr val="00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ssistant chefs: If you’re willing to learn, we’re willing to train you!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 Narrow"/>
              </a:rPr>
              <a:t>Salary Ranges</a:t>
            </a: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916920" y="2590920"/>
            <a:ext cx="720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98800"/>
                <a:tab algn="r" pos="50292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Wait staff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$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8.00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lus tip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3898800"/>
                <a:tab algn="r" pos="50292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ssistant chefs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$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2.50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o star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3898800"/>
                <a:tab algn="r" pos="50292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xperienced chefs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$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17.50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nd up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 Narrow"/>
              </a:rPr>
              <a:t>Interested?</a:t>
            </a:r>
            <a:endParaRPr b="1" lang="en-US" sz="4800" spc="-1" strike="noStrike">
              <a:solidFill>
                <a:srgbClr val="00ff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ome talk to us 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 advTm="5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21:40:24Z</dcterms:created>
  <dc:creator>Pat R. Graves</dc:creator>
  <dc:description/>
  <dc:language>en-US</dc:language>
  <cp:lastModifiedBy>Pat Graves</cp:lastModifiedBy>
  <dcterms:modified xsi:type="dcterms:W3CDTF">2004-03-15T19:20:35Z</dcterms:modified>
  <cp:revision>13</cp:revision>
  <dc:subject/>
  <dc:title>Great Jobs 4 U</dc:title>
</cp:coreProperties>
</file>