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765-0D15-4F85-AD1B-2C92E590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E54-6CF2-4444-B6AD-F605624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1AB-68AD-4CFD-B8FB-75653006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785-94E5-454B-B51D-36FA0A5A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429-E8D0-4F98-A7E9-D11EABC6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50B-7E46-41B4-8CAC-7F167CD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1CD8-FE68-41D2-88E7-EB260639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FDFF-2F34-4D0F-8785-A9266BD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B3C5-E60B-48FE-8029-EB2C0E0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E1B-D307-4D9E-B73E-AE4D675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3771-6C8A-4CFA-BE2B-09D2455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28A-59CC-4464-A0DE-18406B45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8A1F-22E9-4358-8C08-6569841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57B4-A1B7-4250-A93F-BF7D8E75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285-B686-45F9-A721-A1419DD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8621-E3A3-46FD-B56C-49A93EB4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51A3-13A2-445F-913B-7421222F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F27-1EDD-447D-AF04-9FF3ECA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E27-4801-410A-A3AE-A9C1B28D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D9D-8C29-4924-B13F-28E38EC0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9B0-9100-4C0F-B4BA-212EEA85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F1F-5D89-49A8-9C2D-6CD8A59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0A9-F50B-4A69-9C46-19A9322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FC5-2C1C-4B7C-8300-3B3C5BB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38CA-AA88-4933-A602-16CEA95E74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5840" y="304920"/>
            <a:ext cx="6172200" cy="812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43080" y="8229600"/>
            <a:ext cx="617220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246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E13D-5D7E-42B0-A48A-82CDD07FE4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25760"/>
            <a:ext cx="5943600" cy="1218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86080" y="5283360"/>
            <a:ext cx="488448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July 4 Brunch Menu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254160" y="197964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d, White, and Bl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pberries and blueberries with a lightly sweetened vanilla yogurt topp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3680" y="111276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unshine Sparkl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nge and grapefruit fizz flavored with fresh pineapple chunks and cocon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560" y="234648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Hot Toma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cy tomato drink flavored with pepper sauce, celery, and other healthy veget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280" y="312408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go Sunda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eet mango halves garnished with bananas, kiwis, and strawberry yogu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954000"/>
            <a:ext cx="22860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ta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597384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arrot Raisin Muffi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earty bran muffin with carrots, raisins, and lots of other good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52560" y="510696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Date Nut B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limmed down version of the favorite, low in fat and lightly sweetened with fruit s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3080" y="634032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picy Corn B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 corn bread loaves spiced with jalapenos baked right 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6800" y="719784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Multigrain Sl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d toasted or plain, topped with your choice of natural fruit preser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20880" y="4948200"/>
            <a:ext cx="22860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4200" y="8672400"/>
            <a:ext cx="26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 Name, Manager, U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H="1">
            <a:off x="285120" y="304920"/>
            <a:ext cx="6172200" cy="812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42720" y="8229600"/>
            <a:ext cx="617220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169440" y="194796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ltigrain Pancak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tack of healthy pancakes served with blueberries, bananas, and maple syr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8200" y="111276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illed Chicken Sal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lled chicken breast served with sun dried tomatoes and our famous garlic dr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84320" y="244152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estern Ome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eggs scrambled with fresh green pepper, onions, tomatoes, and hot pepp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695680" y="315612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Tofu Fajit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getable platter with marinated tofu chunks served with soft blue corn torti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11440" y="954000"/>
            <a:ext cx="22860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71785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in D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176640" y="591012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ruit Ju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 blended from your choice of fresh, seasonal fr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4680" y="5043600"/>
            <a:ext cx="34272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offe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one of our many naturally flavored varieties: French Vanilla, Dutch Chocolate, Hazelnut, Nutm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9720" y="634032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asket of tea varieties will be presented with your tea order for your personal cho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04320" y="7197840"/>
            <a:ext cx="342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ruit Smooth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uit shake combining your choice of fruit, yogurt, and  peanut butter or choco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17920" y="4948200"/>
            <a:ext cx="22860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  <a:effectLst>
            <a:outerShdw dist="71785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e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8:18:11Z</dcterms:created>
  <dc:creator>Pat Graves</dc:creator>
  <dc:description/>
  <dc:language>en-US</dc:language>
  <cp:lastModifiedBy>Pat Graves</cp:lastModifiedBy>
  <dcterms:modified xsi:type="dcterms:W3CDTF">2004-03-15T19:17:01Z</dcterms:modified>
  <cp:revision>4</cp:revision>
  <dc:subject/>
  <dc:title>July 4 Brunch Menu</dc:title>
</cp:coreProperties>
</file>